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3A6-6093-4A99-8DF6-1A4F291222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Credit: © CAMR/A.B. Dowsett/Science Photo Library/Photo Researchers, In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Credit: © Gunther F. Bahr/AFIP/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the cell cycle, the cell grows, replicates its DNA, and divides into two daughter cel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NA synthesis takes place during the S phase. Cell division takes place during the M phase. G1 and G2 are gap ph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ukaryotic cells go through a regular cycle of interphase,  mitosis and cytokinesi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sis has four phases: Prophase, Metaphase, Anaphase and Telophase. The events shown here are typical of animal cel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ukaryotic cells go through a regular cycle of interphase,  mitosis and cytokinesi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sis has four phases: Prophase, Metaphase, Anaphase and Telophase. The events shown here are typical of animal cel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C99-70C1-483D-953E-85E1D0AD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2C1-E69B-4518-B0DC-4AEA66EA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4AC-6B51-4ACC-BFA2-55EA77AC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1A5-B73A-437F-ADA7-85BF5254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89C5-0BE2-4C56-ACC5-A783C4A1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5005-2760-43D5-9F1A-6D7DC530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1E14-F4AA-4377-8648-4F2964C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A90E-2F85-457A-A117-0401E295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076A-BEFF-442C-91BE-AB2B7AAA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CA71-C78C-4536-94CA-3E399868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71BD-2DE0-4795-A22D-FBF571C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D48-DFA8-4EE8-BAB1-E7816CB6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6088-4630-441D-B6A0-E7EB74B6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56C0-6D46-4A99-8696-BA5681B0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725D-901B-49A7-870A-22ABABE6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B748-39D3-4885-8AA9-A5F24901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3C2B-5B07-42F7-BC43-A3F45E48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DE0-DE1C-4C90-91EC-AFF1838A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AB6-1489-4E22-B6F6-A4D639A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8D1-B937-4228-A3E8-A45C4C81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616-B6F5-4808-94BF-05857278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E38-CCDB-41F5-A2FB-879E840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321-A41D-4A0C-93AE-A7E14EF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13A-907B-4245-A3B1-2853A11B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A6F5-37FD-4799-A9D9-A310E7832A12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F4C1-A590-45E2-9DD9-AF76AB873D57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88840" y="490320"/>
            <a:ext cx="3538440" cy="56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aramond"/>
              </a:rPr>
              <a:t>Cell Divis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6280" y="1442880"/>
            <a:ext cx="6302520" cy="50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411280" y="1041480"/>
            <a:ext cx="3759480" cy="3703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H="1" flipV="1">
            <a:off x="3276360" y="1023840"/>
            <a:ext cx="1145880" cy="7495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6145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indle fo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906640" y="3514680"/>
            <a:ext cx="936720" cy="1077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9600" y="45561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trom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9360" y="3860640"/>
            <a:ext cx="169920" cy="10400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858920" y="3130560"/>
            <a:ext cx="422280" cy="1781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4889520"/>
            <a:ext cx="381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aired chromat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443800" y="4414680"/>
            <a:ext cx="462240" cy="4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48400" y="83664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513400" y="229392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2280" y="1738440"/>
            <a:ext cx="8034480" cy="387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645320" y="2557440"/>
            <a:ext cx="15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ntri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88040" y="34527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ntri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66040" y="3300120"/>
            <a:ext cx="744480" cy="25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23200" y="3638520"/>
            <a:ext cx="914400" cy="136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716960" y="2881080"/>
            <a:ext cx="422280" cy="34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2997360"/>
            <a:ext cx="11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5240" y="1433520"/>
            <a:ext cx="7619760" cy="4432320"/>
          </a:xfrm>
          <a:custGeom>
            <a:avLst/>
            <a:gdLst/>
            <a:ahLst/>
            <a:rect l="l" t="t" r="r" b="b"/>
            <a:pathLst>
              <a:path w="4800" h="2792">
                <a:moveTo>
                  <a:pt x="4040" y="2584"/>
                </a:moveTo>
                <a:lnTo>
                  <a:pt x="4192" y="2424"/>
                </a:lnTo>
                <a:lnTo>
                  <a:pt x="4224" y="2128"/>
                </a:lnTo>
                <a:lnTo>
                  <a:pt x="4088" y="1904"/>
                </a:lnTo>
                <a:lnTo>
                  <a:pt x="3872" y="1808"/>
                </a:lnTo>
                <a:lnTo>
                  <a:pt x="3728" y="1832"/>
                </a:lnTo>
                <a:lnTo>
                  <a:pt x="3640" y="1720"/>
                </a:lnTo>
                <a:lnTo>
                  <a:pt x="3480" y="1672"/>
                </a:lnTo>
                <a:lnTo>
                  <a:pt x="3336" y="1776"/>
                </a:lnTo>
                <a:lnTo>
                  <a:pt x="3240" y="1912"/>
                </a:lnTo>
                <a:lnTo>
                  <a:pt x="3208" y="2024"/>
                </a:lnTo>
                <a:lnTo>
                  <a:pt x="3192" y="2120"/>
                </a:lnTo>
                <a:cubicBezTo>
                  <a:pt x="2531" y="1121"/>
                  <a:pt x="2255" y="1408"/>
                  <a:pt x="2552" y="1112"/>
                </a:cubicBezTo>
                <a:lnTo>
                  <a:pt x="2888" y="664"/>
                </a:lnTo>
                <a:lnTo>
                  <a:pt x="3648" y="736"/>
                </a:lnTo>
                <a:lnTo>
                  <a:pt x="3728" y="912"/>
                </a:lnTo>
                <a:cubicBezTo>
                  <a:pt x="3962" y="992"/>
                  <a:pt x="3878" y="992"/>
                  <a:pt x="3968" y="992"/>
                </a:cubicBezTo>
                <a:lnTo>
                  <a:pt x="4112" y="896"/>
                </a:lnTo>
                <a:lnTo>
                  <a:pt x="4240" y="968"/>
                </a:lnTo>
                <a:lnTo>
                  <a:pt x="4392" y="1016"/>
                </a:lnTo>
                <a:lnTo>
                  <a:pt x="4552" y="1000"/>
                </a:lnTo>
                <a:lnTo>
                  <a:pt x="4728" y="840"/>
                </a:lnTo>
                <a:lnTo>
                  <a:pt x="4800" y="728"/>
                </a:lnTo>
                <a:lnTo>
                  <a:pt x="4776" y="456"/>
                </a:lnTo>
                <a:lnTo>
                  <a:pt x="4696" y="296"/>
                </a:lnTo>
                <a:lnTo>
                  <a:pt x="4424" y="56"/>
                </a:lnTo>
                <a:lnTo>
                  <a:pt x="2088" y="0"/>
                </a:lnTo>
                <a:lnTo>
                  <a:pt x="88" y="328"/>
                </a:lnTo>
                <a:lnTo>
                  <a:pt x="0" y="2200"/>
                </a:lnTo>
                <a:lnTo>
                  <a:pt x="1120" y="2720"/>
                </a:lnTo>
                <a:lnTo>
                  <a:pt x="3240" y="2792"/>
                </a:lnTo>
                <a:cubicBezTo>
                  <a:pt x="4005" y="2663"/>
                  <a:pt x="3743" y="2664"/>
                  <a:pt x="4016" y="2664"/>
                </a:cubicBezTo>
                <a:lnTo>
                  <a:pt x="4040" y="2584"/>
                </a:lnTo>
                <a:close/>
              </a:path>
            </a:pathLst>
          </a:cu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69228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ta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rcRect l="0" t="1365" r="0" b="0"/>
          <a:stretch/>
        </p:blipFill>
        <p:spPr>
          <a:xfrm>
            <a:off x="1979640" y="1390680"/>
            <a:ext cx="4027320" cy="4116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4932360" y="1042920"/>
            <a:ext cx="189000" cy="10908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2160" y="476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ntri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356000" y="4578120"/>
            <a:ext cx="152640" cy="12063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587052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98100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ta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002120" y="296388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41440" y="1604880"/>
            <a:ext cx="8034120" cy="3870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65520" y="3192480"/>
            <a:ext cx="20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dividual chromos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26080" y="3700440"/>
            <a:ext cx="101520" cy="5968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840" y="1173240"/>
            <a:ext cx="8850240" cy="4408560"/>
          </a:xfrm>
          <a:custGeom>
            <a:avLst/>
            <a:gdLst/>
            <a:ahLst/>
            <a:rect l="l" t="t" r="r" b="b"/>
            <a:pathLst>
              <a:path w="5575" h="2777">
                <a:moveTo>
                  <a:pt x="4784" y="2384"/>
                </a:moveTo>
                <a:lnTo>
                  <a:pt x="4544" y="2128"/>
                </a:lnTo>
                <a:lnTo>
                  <a:pt x="4472" y="2016"/>
                </a:lnTo>
                <a:lnTo>
                  <a:pt x="4424" y="1744"/>
                </a:lnTo>
                <a:lnTo>
                  <a:pt x="4488" y="1632"/>
                </a:lnTo>
                <a:lnTo>
                  <a:pt x="4400" y="1416"/>
                </a:lnTo>
                <a:lnTo>
                  <a:pt x="4384" y="1264"/>
                </a:lnTo>
                <a:lnTo>
                  <a:pt x="3816" y="1080"/>
                </a:lnTo>
                <a:lnTo>
                  <a:pt x="3464" y="952"/>
                </a:lnTo>
                <a:lnTo>
                  <a:pt x="3096" y="976"/>
                </a:lnTo>
                <a:lnTo>
                  <a:pt x="2256" y="1280"/>
                </a:lnTo>
                <a:lnTo>
                  <a:pt x="2240" y="1568"/>
                </a:lnTo>
                <a:lnTo>
                  <a:pt x="2352" y="1896"/>
                </a:lnTo>
                <a:lnTo>
                  <a:pt x="2392" y="1992"/>
                </a:lnTo>
                <a:lnTo>
                  <a:pt x="2472" y="2128"/>
                </a:lnTo>
                <a:lnTo>
                  <a:pt x="2480" y="2272"/>
                </a:lnTo>
                <a:lnTo>
                  <a:pt x="2424" y="2512"/>
                </a:lnTo>
                <a:lnTo>
                  <a:pt x="2328" y="2608"/>
                </a:lnTo>
                <a:cubicBezTo>
                  <a:pt x="2166" y="2777"/>
                  <a:pt x="2245" y="2776"/>
                  <a:pt x="2160" y="2776"/>
                </a:cubicBezTo>
                <a:lnTo>
                  <a:pt x="912" y="2728"/>
                </a:lnTo>
                <a:lnTo>
                  <a:pt x="128" y="2280"/>
                </a:lnTo>
                <a:lnTo>
                  <a:pt x="0" y="976"/>
                </a:lnTo>
                <a:lnTo>
                  <a:pt x="1184" y="296"/>
                </a:lnTo>
                <a:lnTo>
                  <a:pt x="2552" y="0"/>
                </a:lnTo>
                <a:lnTo>
                  <a:pt x="4624" y="32"/>
                </a:lnTo>
                <a:lnTo>
                  <a:pt x="5216" y="416"/>
                </a:lnTo>
                <a:lnTo>
                  <a:pt x="5544" y="1704"/>
                </a:lnTo>
                <a:cubicBezTo>
                  <a:pt x="5292" y="2514"/>
                  <a:pt x="5575" y="2504"/>
                  <a:pt x="5264" y="2504"/>
                </a:cubicBezTo>
                <a:lnTo>
                  <a:pt x="4784" y="2384"/>
                </a:lnTo>
                <a:close/>
              </a:path>
            </a:pathLst>
          </a:cu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59544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771640" y="1370160"/>
            <a:ext cx="4381560" cy="4376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58160" y="105264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romos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17920" y="1803240"/>
            <a:ext cx="1054080" cy="1022400"/>
          </a:xfrm>
          <a:custGeom>
            <a:avLst/>
            <a:gdLst/>
            <a:ahLst/>
            <a:rect l="l" t="t" r="r" b="b"/>
            <a:pathLst>
              <a:path w="664" h="644">
                <a:moveTo>
                  <a:pt x="0" y="640"/>
                </a:moveTo>
                <a:lnTo>
                  <a:pt x="28" y="0"/>
                </a:lnTo>
                <a:lnTo>
                  <a:pt x="664" y="644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06064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90560" y="320040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4040" y="1486080"/>
            <a:ext cx="8034480" cy="3870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17440" y="4290840"/>
            <a:ext cx="12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clear envelope refo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6280" y="1197000"/>
            <a:ext cx="8343720" cy="4394160"/>
          </a:xfrm>
          <a:custGeom>
            <a:avLst/>
            <a:gdLst/>
            <a:ahLst/>
            <a:rect l="l" t="t" r="r" b="b"/>
            <a:pathLst>
              <a:path w="5256" h="2768">
                <a:moveTo>
                  <a:pt x="1088" y="1376"/>
                </a:moveTo>
                <a:cubicBezTo>
                  <a:pt x="822" y="1657"/>
                  <a:pt x="824" y="1527"/>
                  <a:pt x="824" y="1664"/>
                </a:cubicBezTo>
                <a:lnTo>
                  <a:pt x="696" y="1848"/>
                </a:lnTo>
                <a:lnTo>
                  <a:pt x="520" y="1904"/>
                </a:lnTo>
                <a:lnTo>
                  <a:pt x="40" y="1512"/>
                </a:lnTo>
                <a:lnTo>
                  <a:pt x="0" y="752"/>
                </a:lnTo>
                <a:lnTo>
                  <a:pt x="864" y="168"/>
                </a:lnTo>
                <a:lnTo>
                  <a:pt x="2032" y="0"/>
                </a:lnTo>
                <a:lnTo>
                  <a:pt x="3928" y="0"/>
                </a:lnTo>
                <a:lnTo>
                  <a:pt x="5072" y="128"/>
                </a:lnTo>
                <a:lnTo>
                  <a:pt x="5224" y="992"/>
                </a:lnTo>
                <a:cubicBezTo>
                  <a:pt x="5256" y="1970"/>
                  <a:pt x="5256" y="1642"/>
                  <a:pt x="5256" y="1976"/>
                </a:cubicBezTo>
                <a:lnTo>
                  <a:pt x="4648" y="2584"/>
                </a:lnTo>
                <a:lnTo>
                  <a:pt x="3688" y="2768"/>
                </a:lnTo>
                <a:lnTo>
                  <a:pt x="3240" y="2712"/>
                </a:lnTo>
                <a:lnTo>
                  <a:pt x="2784" y="2632"/>
                </a:lnTo>
                <a:lnTo>
                  <a:pt x="2856" y="2368"/>
                </a:lnTo>
                <a:lnTo>
                  <a:pt x="2840" y="2104"/>
                </a:lnTo>
                <a:lnTo>
                  <a:pt x="2816" y="1968"/>
                </a:lnTo>
                <a:cubicBezTo>
                  <a:pt x="3386" y="1534"/>
                  <a:pt x="3384" y="1773"/>
                  <a:pt x="3384" y="1528"/>
                </a:cubicBezTo>
                <a:lnTo>
                  <a:pt x="3552" y="1064"/>
                </a:lnTo>
                <a:lnTo>
                  <a:pt x="3088" y="928"/>
                </a:lnTo>
                <a:lnTo>
                  <a:pt x="2168" y="1104"/>
                </a:lnTo>
                <a:lnTo>
                  <a:pt x="1496" y="1088"/>
                </a:lnTo>
                <a:lnTo>
                  <a:pt x="1088" y="1376"/>
                </a:lnTo>
                <a:close/>
              </a:path>
            </a:pathLst>
          </a:cu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222640" y="4051080"/>
            <a:ext cx="685800" cy="291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22640" y="4356000"/>
            <a:ext cx="44424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98100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lo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rcRect l="2737" t="0" r="0" b="0"/>
          <a:stretch/>
        </p:blipFill>
        <p:spPr>
          <a:xfrm>
            <a:off x="2814480" y="1133640"/>
            <a:ext cx="4062600" cy="4573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00000" y="1125360"/>
            <a:ext cx="1911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lo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5600" y="208908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280" y="1566720"/>
            <a:ext cx="8034480" cy="3870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93920" y="1039680"/>
            <a:ext cx="6273720" cy="4762800"/>
          </a:xfrm>
          <a:custGeom>
            <a:avLst/>
            <a:gdLst/>
            <a:ahLst/>
            <a:rect l="l" t="t" r="r" b="b"/>
            <a:pathLst>
              <a:path w="3952" h="3000">
                <a:moveTo>
                  <a:pt x="208" y="2344"/>
                </a:moveTo>
                <a:lnTo>
                  <a:pt x="56" y="2288"/>
                </a:lnTo>
                <a:lnTo>
                  <a:pt x="0" y="2160"/>
                </a:lnTo>
                <a:lnTo>
                  <a:pt x="24" y="2008"/>
                </a:lnTo>
                <a:lnTo>
                  <a:pt x="136" y="1960"/>
                </a:lnTo>
                <a:lnTo>
                  <a:pt x="168" y="1800"/>
                </a:lnTo>
                <a:lnTo>
                  <a:pt x="232" y="1728"/>
                </a:lnTo>
                <a:lnTo>
                  <a:pt x="344" y="1688"/>
                </a:lnTo>
                <a:lnTo>
                  <a:pt x="472" y="1752"/>
                </a:lnTo>
                <a:lnTo>
                  <a:pt x="552" y="1864"/>
                </a:lnTo>
                <a:lnTo>
                  <a:pt x="592" y="1936"/>
                </a:lnTo>
                <a:lnTo>
                  <a:pt x="728" y="1912"/>
                </a:lnTo>
                <a:lnTo>
                  <a:pt x="1056" y="1984"/>
                </a:lnTo>
                <a:lnTo>
                  <a:pt x="816" y="1232"/>
                </a:lnTo>
                <a:lnTo>
                  <a:pt x="616" y="1224"/>
                </a:lnTo>
                <a:lnTo>
                  <a:pt x="464" y="1104"/>
                </a:lnTo>
                <a:lnTo>
                  <a:pt x="448" y="1056"/>
                </a:lnTo>
                <a:lnTo>
                  <a:pt x="320" y="1080"/>
                </a:lnTo>
                <a:lnTo>
                  <a:pt x="120" y="1016"/>
                </a:lnTo>
                <a:lnTo>
                  <a:pt x="32" y="840"/>
                </a:lnTo>
                <a:lnTo>
                  <a:pt x="80" y="656"/>
                </a:lnTo>
                <a:lnTo>
                  <a:pt x="248" y="568"/>
                </a:lnTo>
                <a:lnTo>
                  <a:pt x="384" y="584"/>
                </a:lnTo>
                <a:lnTo>
                  <a:pt x="448" y="624"/>
                </a:lnTo>
                <a:lnTo>
                  <a:pt x="680" y="280"/>
                </a:lnTo>
                <a:lnTo>
                  <a:pt x="2200" y="0"/>
                </a:lnTo>
                <a:cubicBezTo>
                  <a:pt x="3642" y="48"/>
                  <a:pt x="3159" y="48"/>
                  <a:pt x="3648" y="48"/>
                </a:cubicBezTo>
                <a:lnTo>
                  <a:pt x="3888" y="1064"/>
                </a:lnTo>
                <a:lnTo>
                  <a:pt x="3952" y="2592"/>
                </a:lnTo>
                <a:cubicBezTo>
                  <a:pt x="3214" y="2940"/>
                  <a:pt x="3484" y="2870"/>
                  <a:pt x="3192" y="2944"/>
                </a:cubicBezTo>
                <a:lnTo>
                  <a:pt x="200" y="3000"/>
                </a:lnTo>
                <a:lnTo>
                  <a:pt x="208" y="2344"/>
                </a:lnTo>
                <a:close/>
              </a:path>
            </a:pathLst>
          </a:cu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ytokine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9479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ytokine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0" t="1016" r="0" b="0"/>
          <a:stretch/>
        </p:blipFill>
        <p:spPr>
          <a:xfrm>
            <a:off x="2411280" y="1836720"/>
            <a:ext cx="4305600" cy="44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ytokinesis in Plan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1533" t="0" r="2551" b="4583"/>
          <a:stretch/>
        </p:blipFill>
        <p:spPr>
          <a:xfrm>
            <a:off x="1494000" y="1844640"/>
            <a:ext cx="6156000" cy="439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>
            <a:off x="6383160" y="2349360"/>
            <a:ext cx="852840" cy="725760"/>
          </a:xfrm>
          <a:prstGeom prst="line">
            <a:avLst/>
          </a:prstGeom>
          <a:ln w="28440">
            <a:solidFill>
              <a:srgbClr val="875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2268000" y="2637000"/>
            <a:ext cx="2287800" cy="1482480"/>
          </a:xfrm>
          <a:prstGeom prst="line">
            <a:avLst/>
          </a:prstGeom>
          <a:ln w="28440">
            <a:solidFill>
              <a:srgbClr val="875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9080" y="1916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20720" y="22050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ll 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ell Division: Mito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Object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o study the various stages in mitotic divi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Garamond"/>
              </a:rPr>
              <a:t>Inter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8080" y="2673360"/>
            <a:ext cx="3429000" cy="340668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991040" y="2673360"/>
            <a:ext cx="3429000" cy="340668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Pro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62120" y="2660760"/>
            <a:ext cx="3429000" cy="340524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029200" y="2660760"/>
            <a:ext cx="3429000" cy="340524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1219320" y="1700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Meta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914400" y="2660760"/>
            <a:ext cx="3429000" cy="340524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029200" y="2660760"/>
            <a:ext cx="3429000" cy="340524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1219320" y="1700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Ana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429000" cy="342900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105520" y="2743200"/>
            <a:ext cx="3429000" cy="342900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sp>
        <p:nvSpPr>
          <p:cNvPr id="240" name=""/>
          <p:cNvSpPr/>
          <p:nvPr/>
        </p:nvSpPr>
        <p:spPr>
          <a:xfrm>
            <a:off x="1219320" y="1700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Telo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914400" y="2660760"/>
            <a:ext cx="3429000" cy="340524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5029200" y="2660760"/>
            <a:ext cx="3429000" cy="340524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1219320" y="1700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 eukaryotes, cell division occurs in two major stag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first stage, division of the cell nucleus, is called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itosi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second stage, division of the cell cytoplasm, is called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ytokinesi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07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ell Divis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56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hromos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86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enetic information is passed from one generation to the next o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romosomes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9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fore cell division, each chromosome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uplicated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, or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opied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56160" y="870120"/>
            <a:ext cx="4624200" cy="544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26920" y="115920"/>
            <a:ext cx="34671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romosom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4299120" cy="54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ach chromosome consists of two identical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“sister” chromatid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ach pair of chromatids is attached at an area called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entromere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590160" y="134136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r chromat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12000" y="1828800"/>
            <a:ext cx="996840" cy="2101680"/>
          </a:xfrm>
          <a:custGeom>
            <a:avLst/>
            <a:gdLst/>
            <a:ahLst/>
            <a:rect l="l" t="t" r="r" b="b"/>
            <a:pathLst>
              <a:path w="628" h="1324">
                <a:moveTo>
                  <a:pt x="0" y="920"/>
                </a:moveTo>
                <a:lnTo>
                  <a:pt x="628" y="0"/>
                </a:lnTo>
                <a:lnTo>
                  <a:pt x="276" y="1324"/>
                </a:lnTo>
              </a:path>
            </a:pathLst>
          </a:custGeom>
          <a:noFill/>
          <a:ln w="3816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97600" y="1836720"/>
            <a:ext cx="997200" cy="2102040"/>
          </a:xfrm>
          <a:custGeom>
            <a:avLst/>
            <a:gdLst/>
            <a:ahLst/>
            <a:rect l="l" t="t" r="r" b="b"/>
            <a:pathLst>
              <a:path w="628" h="1324">
                <a:moveTo>
                  <a:pt x="0" y="920"/>
                </a:moveTo>
                <a:lnTo>
                  <a:pt x="628" y="0"/>
                </a:lnTo>
                <a:lnTo>
                  <a:pt x="276" y="1324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64160" y="51260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rom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67480" y="3421080"/>
            <a:ext cx="581040" cy="177948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76840" y="3406680"/>
            <a:ext cx="581040" cy="177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920" y="2997360"/>
            <a:ext cx="24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57"/>
                </a:solidFill>
                <a:latin typeface="Arial"/>
              </a:rPr>
              <a:t>Cell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89320" y="484200"/>
            <a:ext cx="6300720" cy="6094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2360" y="19800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ell Cycl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9479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92360" y="692280"/>
            <a:ext cx="23148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o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34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it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ologists divide the events of mitosis into four pha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757"/>
                </a:solidFill>
                <a:latin typeface="Garamond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757"/>
                </a:solidFill>
                <a:latin typeface="Garamond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757"/>
                </a:solidFill>
                <a:latin typeface="Garamond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757"/>
                </a:solidFill>
                <a:latin typeface="Garamond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63400" y="1762200"/>
            <a:ext cx="7904160" cy="3708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o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427720" y="52056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7280" y="1731960"/>
            <a:ext cx="7913520" cy="371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08720" y="127476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ndle fo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30800" y="1895400"/>
            <a:ext cx="203400" cy="393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38960" y="2225520"/>
            <a:ext cx="18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romosomes (paired chromati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88000" y="2565360"/>
            <a:ext cx="924120" cy="117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2532240"/>
            <a:ext cx="944640" cy="33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37200" y="2695680"/>
            <a:ext cx="23832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92640" y="3213000"/>
            <a:ext cx="16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ntrom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o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76500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1:02:53Z</dcterms:created>
  <dc:creator>khale</dc:creator>
  <dc:description/>
  <dc:language>en-US</dc:language>
  <cp:lastModifiedBy>خالد</cp:lastModifiedBy>
  <dcterms:modified xsi:type="dcterms:W3CDTF">2013-02-18T07:35:19Z</dcterms:modified>
  <cp:revision>3</cp:revision>
  <dc:subject/>
  <dc:title>الشريحة 1</dc:title>
</cp:coreProperties>
</file>