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C90B-0F55-45FA-88B3-D9DC1C25C0D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Credit: © CAMR/A.B. Dowsett/Science Photo Library/Photo Researchers, In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 Credit: © Gunther F. Bahr/AFIP/St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uring the cell cycle, the cell grows, replicates its DNA, and divides into two daughter cell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NA synthesis takes place during the S phase. Cell division takes place during the M phase. G1 and G2 are gap pha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ukaryotic cells go through a regular cycle of interphase,  mitosis and cytokinesi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sis has four phases: Prophase, Metaphase, Anaphase and Telophase. The events shown here are typical of animal cell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ukaryotic cells go through a regular cycle of interphase,  mitosis and cytokinesis.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osis has four phases: Prophase, Metaphase, Anaphase and Telophase. The events shown here are typical of animal cell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C8E-629C-4497-A9F6-9EA6D930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7BF7-406B-4784-A3C7-0FA97C76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2230-FDAE-4636-9947-ED6BDD8BE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105D-4092-4E90-8C52-5AC1BA97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D70D-A795-4379-9C59-463A9A9C4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4633D-B626-4CC7-9E6F-21C7CF83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BC8E-85C3-41DD-B1EA-0E6727A25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EE20-1817-49CC-B69D-5448FE4C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B2F5-47A0-4804-84E4-2C8423E2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D0E6-B76E-4E62-97AD-F709A6A4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0466-3174-488A-8C10-502ABCC8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0F2-E02B-43DE-8F4F-1113F107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AE54-336B-44DB-A616-C28F444DF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798A-0FFC-4ADE-9231-2E0CF736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6E04-19FD-494E-B2AF-28AF55D7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17FE-CA7F-42CC-B89D-2AF096C5A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9185-B4A3-4193-AA9E-C0EDB5DD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D7AB-59D0-4F0A-9635-F4D6CD7C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7B46-9231-48F6-BD24-C0B81CA8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B4E-47D8-4FE1-8D7E-CE59B422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F67-0099-4968-82E6-63ED43E4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319-8C87-4F91-9F82-B69D8CA5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C7C6-F63A-45A2-BFC3-0F7BE6F8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A18B-766C-4DF7-B2DB-18A5C1B6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4F2B-943F-4A1E-B814-4DDA6458F7E3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4545-FE87-4603-AFF8-3ED019BB8DC9}" type="slidenum">
              <a:rPr b="0" lang="ar-S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688840" y="490320"/>
            <a:ext cx="3538440" cy="561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33"/>
                </a:solidFill>
                <a:latin typeface="Garamond"/>
              </a:rPr>
              <a:t>Cell Divis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376280" y="1442880"/>
            <a:ext cx="6302520" cy="50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411280" y="1041480"/>
            <a:ext cx="3759480" cy="37036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 flipH="1" flipV="1">
            <a:off x="3276360" y="1023840"/>
            <a:ext cx="1145880" cy="7495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42920" y="6145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pindle fo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906640" y="3514680"/>
            <a:ext cx="936720" cy="10778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79600" y="45561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trom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9360" y="3860640"/>
            <a:ext cx="169920" cy="104004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858920" y="3130560"/>
            <a:ext cx="422280" cy="178128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4889520"/>
            <a:ext cx="381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hromoso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aired chromati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443800" y="4414680"/>
            <a:ext cx="462240" cy="471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48400" y="83664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513400" y="2293920"/>
            <a:ext cx="3313080" cy="322596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2280" y="1738440"/>
            <a:ext cx="8034480" cy="3870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645320" y="2557440"/>
            <a:ext cx="15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ntri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288040" y="3452760"/>
            <a:ext cx="13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ntri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6566040" y="3300120"/>
            <a:ext cx="744480" cy="25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23200" y="3638520"/>
            <a:ext cx="914400" cy="136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716960" y="2881080"/>
            <a:ext cx="422280" cy="347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08720" y="2997360"/>
            <a:ext cx="11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5240" y="1433520"/>
            <a:ext cx="7619760" cy="4432320"/>
          </a:xfrm>
          <a:custGeom>
            <a:avLst/>
            <a:gdLst/>
            <a:ahLst/>
            <a:rect l="l" t="t" r="r" b="b"/>
            <a:pathLst>
              <a:path w="4800" h="2792">
                <a:moveTo>
                  <a:pt x="4040" y="2584"/>
                </a:moveTo>
                <a:lnTo>
                  <a:pt x="4192" y="2424"/>
                </a:lnTo>
                <a:lnTo>
                  <a:pt x="4224" y="2128"/>
                </a:lnTo>
                <a:lnTo>
                  <a:pt x="4088" y="1904"/>
                </a:lnTo>
                <a:lnTo>
                  <a:pt x="3872" y="1808"/>
                </a:lnTo>
                <a:lnTo>
                  <a:pt x="3728" y="1832"/>
                </a:lnTo>
                <a:lnTo>
                  <a:pt x="3640" y="1720"/>
                </a:lnTo>
                <a:lnTo>
                  <a:pt x="3480" y="1672"/>
                </a:lnTo>
                <a:lnTo>
                  <a:pt x="3336" y="1776"/>
                </a:lnTo>
                <a:lnTo>
                  <a:pt x="3240" y="1912"/>
                </a:lnTo>
                <a:lnTo>
                  <a:pt x="3208" y="2024"/>
                </a:lnTo>
                <a:lnTo>
                  <a:pt x="3192" y="2120"/>
                </a:lnTo>
                <a:cubicBezTo>
                  <a:pt x="2531" y="1121"/>
                  <a:pt x="2255" y="1408"/>
                  <a:pt x="2552" y="1112"/>
                </a:cubicBezTo>
                <a:lnTo>
                  <a:pt x="2888" y="664"/>
                </a:lnTo>
                <a:lnTo>
                  <a:pt x="3648" y="736"/>
                </a:lnTo>
                <a:lnTo>
                  <a:pt x="3728" y="912"/>
                </a:lnTo>
                <a:cubicBezTo>
                  <a:pt x="3962" y="992"/>
                  <a:pt x="3878" y="992"/>
                  <a:pt x="3968" y="992"/>
                </a:cubicBezTo>
                <a:lnTo>
                  <a:pt x="4112" y="896"/>
                </a:lnTo>
                <a:lnTo>
                  <a:pt x="4240" y="968"/>
                </a:lnTo>
                <a:lnTo>
                  <a:pt x="4392" y="1016"/>
                </a:lnTo>
                <a:lnTo>
                  <a:pt x="4552" y="1000"/>
                </a:lnTo>
                <a:lnTo>
                  <a:pt x="4728" y="840"/>
                </a:lnTo>
                <a:lnTo>
                  <a:pt x="4800" y="728"/>
                </a:lnTo>
                <a:lnTo>
                  <a:pt x="4776" y="456"/>
                </a:lnTo>
                <a:lnTo>
                  <a:pt x="4696" y="296"/>
                </a:lnTo>
                <a:lnTo>
                  <a:pt x="4424" y="56"/>
                </a:lnTo>
                <a:lnTo>
                  <a:pt x="2088" y="0"/>
                </a:lnTo>
                <a:lnTo>
                  <a:pt x="88" y="328"/>
                </a:lnTo>
                <a:lnTo>
                  <a:pt x="0" y="2200"/>
                </a:lnTo>
                <a:lnTo>
                  <a:pt x="1120" y="2720"/>
                </a:lnTo>
                <a:lnTo>
                  <a:pt x="3240" y="2792"/>
                </a:lnTo>
                <a:cubicBezTo>
                  <a:pt x="4005" y="2663"/>
                  <a:pt x="3743" y="2664"/>
                  <a:pt x="4016" y="2664"/>
                </a:cubicBezTo>
                <a:lnTo>
                  <a:pt x="4040" y="2584"/>
                </a:lnTo>
                <a:close/>
              </a:path>
            </a:pathLst>
          </a:cu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69228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ta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rcRect l="0" t="1365" r="0" b="0"/>
          <a:stretch/>
        </p:blipFill>
        <p:spPr>
          <a:xfrm>
            <a:off x="1979640" y="1390680"/>
            <a:ext cx="4027320" cy="4116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>
            <a:off x="4932360" y="1042920"/>
            <a:ext cx="189000" cy="109080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02160" y="4762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ntrio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356000" y="4578120"/>
            <a:ext cx="152640" cy="120636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995640" y="5870520"/>
            <a:ext cx="12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nd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98100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ta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002120" y="2963880"/>
            <a:ext cx="3313080" cy="322596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41440" y="1604880"/>
            <a:ext cx="8034120" cy="38703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4565520" y="3192480"/>
            <a:ext cx="200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ndividual chromos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626080" y="3700440"/>
            <a:ext cx="101520" cy="59688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7840" y="1173240"/>
            <a:ext cx="8850240" cy="4408560"/>
          </a:xfrm>
          <a:custGeom>
            <a:avLst/>
            <a:gdLst/>
            <a:ahLst/>
            <a:rect l="l" t="t" r="r" b="b"/>
            <a:pathLst>
              <a:path w="5575" h="2777">
                <a:moveTo>
                  <a:pt x="4784" y="2384"/>
                </a:moveTo>
                <a:lnTo>
                  <a:pt x="4544" y="2128"/>
                </a:lnTo>
                <a:lnTo>
                  <a:pt x="4472" y="2016"/>
                </a:lnTo>
                <a:lnTo>
                  <a:pt x="4424" y="1744"/>
                </a:lnTo>
                <a:lnTo>
                  <a:pt x="4488" y="1632"/>
                </a:lnTo>
                <a:lnTo>
                  <a:pt x="4400" y="1416"/>
                </a:lnTo>
                <a:lnTo>
                  <a:pt x="4384" y="1264"/>
                </a:lnTo>
                <a:lnTo>
                  <a:pt x="3816" y="1080"/>
                </a:lnTo>
                <a:lnTo>
                  <a:pt x="3464" y="952"/>
                </a:lnTo>
                <a:lnTo>
                  <a:pt x="3096" y="976"/>
                </a:lnTo>
                <a:lnTo>
                  <a:pt x="2256" y="1280"/>
                </a:lnTo>
                <a:lnTo>
                  <a:pt x="2240" y="1568"/>
                </a:lnTo>
                <a:lnTo>
                  <a:pt x="2352" y="1896"/>
                </a:lnTo>
                <a:lnTo>
                  <a:pt x="2392" y="1992"/>
                </a:lnTo>
                <a:lnTo>
                  <a:pt x="2472" y="2128"/>
                </a:lnTo>
                <a:lnTo>
                  <a:pt x="2480" y="2272"/>
                </a:lnTo>
                <a:lnTo>
                  <a:pt x="2424" y="2512"/>
                </a:lnTo>
                <a:lnTo>
                  <a:pt x="2328" y="2608"/>
                </a:lnTo>
                <a:cubicBezTo>
                  <a:pt x="2166" y="2777"/>
                  <a:pt x="2245" y="2776"/>
                  <a:pt x="2160" y="2776"/>
                </a:cubicBezTo>
                <a:lnTo>
                  <a:pt x="912" y="2728"/>
                </a:lnTo>
                <a:lnTo>
                  <a:pt x="128" y="2280"/>
                </a:lnTo>
                <a:lnTo>
                  <a:pt x="0" y="976"/>
                </a:lnTo>
                <a:lnTo>
                  <a:pt x="1184" y="296"/>
                </a:lnTo>
                <a:lnTo>
                  <a:pt x="2552" y="0"/>
                </a:lnTo>
                <a:lnTo>
                  <a:pt x="4624" y="32"/>
                </a:lnTo>
                <a:lnTo>
                  <a:pt x="5216" y="416"/>
                </a:lnTo>
                <a:lnTo>
                  <a:pt x="5544" y="1704"/>
                </a:lnTo>
                <a:cubicBezTo>
                  <a:pt x="5292" y="2514"/>
                  <a:pt x="5575" y="2504"/>
                  <a:pt x="5264" y="2504"/>
                </a:cubicBezTo>
                <a:lnTo>
                  <a:pt x="4784" y="2384"/>
                </a:lnTo>
                <a:close/>
              </a:path>
            </a:pathLst>
          </a:cu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59544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2771640" y="1370160"/>
            <a:ext cx="4381560" cy="4376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58160" y="105264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Individu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hromoso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17920" y="1803240"/>
            <a:ext cx="1054080" cy="1022400"/>
          </a:xfrm>
          <a:custGeom>
            <a:avLst/>
            <a:gdLst/>
            <a:ahLst/>
            <a:rect l="l" t="t" r="r" b="b"/>
            <a:pathLst>
              <a:path w="664" h="644">
                <a:moveTo>
                  <a:pt x="0" y="640"/>
                </a:moveTo>
                <a:lnTo>
                  <a:pt x="28" y="0"/>
                </a:lnTo>
                <a:lnTo>
                  <a:pt x="664" y="644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5280" y="206064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a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90560" y="3200400"/>
            <a:ext cx="3313080" cy="322596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54040" y="1486080"/>
            <a:ext cx="8034480" cy="3870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117440" y="4290840"/>
            <a:ext cx="128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uclear envelope refo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76280" y="1197000"/>
            <a:ext cx="8343720" cy="4394160"/>
          </a:xfrm>
          <a:custGeom>
            <a:avLst/>
            <a:gdLst/>
            <a:ahLst/>
            <a:rect l="l" t="t" r="r" b="b"/>
            <a:pathLst>
              <a:path w="5256" h="2768">
                <a:moveTo>
                  <a:pt x="1088" y="1376"/>
                </a:moveTo>
                <a:cubicBezTo>
                  <a:pt x="822" y="1657"/>
                  <a:pt x="824" y="1527"/>
                  <a:pt x="824" y="1664"/>
                </a:cubicBezTo>
                <a:lnTo>
                  <a:pt x="696" y="1848"/>
                </a:lnTo>
                <a:lnTo>
                  <a:pt x="520" y="1904"/>
                </a:lnTo>
                <a:lnTo>
                  <a:pt x="40" y="1512"/>
                </a:lnTo>
                <a:lnTo>
                  <a:pt x="0" y="752"/>
                </a:lnTo>
                <a:lnTo>
                  <a:pt x="864" y="168"/>
                </a:lnTo>
                <a:lnTo>
                  <a:pt x="2032" y="0"/>
                </a:lnTo>
                <a:lnTo>
                  <a:pt x="3928" y="0"/>
                </a:lnTo>
                <a:lnTo>
                  <a:pt x="5072" y="128"/>
                </a:lnTo>
                <a:lnTo>
                  <a:pt x="5224" y="992"/>
                </a:lnTo>
                <a:cubicBezTo>
                  <a:pt x="5256" y="1970"/>
                  <a:pt x="5256" y="1642"/>
                  <a:pt x="5256" y="1976"/>
                </a:cubicBezTo>
                <a:lnTo>
                  <a:pt x="4648" y="2584"/>
                </a:lnTo>
                <a:lnTo>
                  <a:pt x="3688" y="2768"/>
                </a:lnTo>
                <a:lnTo>
                  <a:pt x="3240" y="2712"/>
                </a:lnTo>
                <a:lnTo>
                  <a:pt x="2784" y="2632"/>
                </a:lnTo>
                <a:lnTo>
                  <a:pt x="2856" y="2368"/>
                </a:lnTo>
                <a:lnTo>
                  <a:pt x="2840" y="2104"/>
                </a:lnTo>
                <a:lnTo>
                  <a:pt x="2816" y="1968"/>
                </a:lnTo>
                <a:cubicBezTo>
                  <a:pt x="3386" y="1534"/>
                  <a:pt x="3384" y="1773"/>
                  <a:pt x="3384" y="1528"/>
                </a:cubicBezTo>
                <a:lnTo>
                  <a:pt x="3552" y="1064"/>
                </a:lnTo>
                <a:lnTo>
                  <a:pt x="3088" y="928"/>
                </a:lnTo>
                <a:lnTo>
                  <a:pt x="2168" y="1104"/>
                </a:lnTo>
                <a:lnTo>
                  <a:pt x="1496" y="1088"/>
                </a:lnTo>
                <a:lnTo>
                  <a:pt x="1088" y="1376"/>
                </a:lnTo>
                <a:close/>
              </a:path>
            </a:pathLst>
          </a:cu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222640" y="4051080"/>
            <a:ext cx="685800" cy="291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22640" y="4356000"/>
            <a:ext cx="444240" cy="76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98100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lo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rcRect l="2737" t="0" r="0" b="0"/>
          <a:stretch/>
        </p:blipFill>
        <p:spPr>
          <a:xfrm>
            <a:off x="2814480" y="1133640"/>
            <a:ext cx="4062600" cy="4573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900000" y="1125360"/>
            <a:ext cx="1911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lo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55600" y="2089080"/>
            <a:ext cx="3313080" cy="322596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341280" y="1566720"/>
            <a:ext cx="8034480" cy="38703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293920" y="1039680"/>
            <a:ext cx="6273720" cy="4762800"/>
          </a:xfrm>
          <a:custGeom>
            <a:avLst/>
            <a:gdLst/>
            <a:ahLst/>
            <a:rect l="l" t="t" r="r" b="b"/>
            <a:pathLst>
              <a:path w="3952" h="3000">
                <a:moveTo>
                  <a:pt x="208" y="2344"/>
                </a:moveTo>
                <a:lnTo>
                  <a:pt x="56" y="2288"/>
                </a:lnTo>
                <a:lnTo>
                  <a:pt x="0" y="2160"/>
                </a:lnTo>
                <a:lnTo>
                  <a:pt x="24" y="2008"/>
                </a:lnTo>
                <a:lnTo>
                  <a:pt x="136" y="1960"/>
                </a:lnTo>
                <a:lnTo>
                  <a:pt x="168" y="1800"/>
                </a:lnTo>
                <a:lnTo>
                  <a:pt x="232" y="1728"/>
                </a:lnTo>
                <a:lnTo>
                  <a:pt x="344" y="1688"/>
                </a:lnTo>
                <a:lnTo>
                  <a:pt x="472" y="1752"/>
                </a:lnTo>
                <a:lnTo>
                  <a:pt x="552" y="1864"/>
                </a:lnTo>
                <a:lnTo>
                  <a:pt x="592" y="1936"/>
                </a:lnTo>
                <a:lnTo>
                  <a:pt x="728" y="1912"/>
                </a:lnTo>
                <a:lnTo>
                  <a:pt x="1056" y="1984"/>
                </a:lnTo>
                <a:lnTo>
                  <a:pt x="816" y="1232"/>
                </a:lnTo>
                <a:lnTo>
                  <a:pt x="616" y="1224"/>
                </a:lnTo>
                <a:lnTo>
                  <a:pt x="464" y="1104"/>
                </a:lnTo>
                <a:lnTo>
                  <a:pt x="448" y="1056"/>
                </a:lnTo>
                <a:lnTo>
                  <a:pt x="320" y="1080"/>
                </a:lnTo>
                <a:lnTo>
                  <a:pt x="120" y="1016"/>
                </a:lnTo>
                <a:lnTo>
                  <a:pt x="32" y="840"/>
                </a:lnTo>
                <a:lnTo>
                  <a:pt x="80" y="656"/>
                </a:lnTo>
                <a:lnTo>
                  <a:pt x="248" y="568"/>
                </a:lnTo>
                <a:lnTo>
                  <a:pt x="384" y="584"/>
                </a:lnTo>
                <a:lnTo>
                  <a:pt x="448" y="624"/>
                </a:lnTo>
                <a:lnTo>
                  <a:pt x="680" y="280"/>
                </a:lnTo>
                <a:lnTo>
                  <a:pt x="2200" y="0"/>
                </a:lnTo>
                <a:cubicBezTo>
                  <a:pt x="3642" y="48"/>
                  <a:pt x="3159" y="48"/>
                  <a:pt x="3648" y="48"/>
                </a:cubicBezTo>
                <a:lnTo>
                  <a:pt x="3888" y="1064"/>
                </a:lnTo>
                <a:lnTo>
                  <a:pt x="3952" y="2592"/>
                </a:lnTo>
                <a:cubicBezTo>
                  <a:pt x="3214" y="2940"/>
                  <a:pt x="3484" y="2870"/>
                  <a:pt x="3192" y="2944"/>
                </a:cubicBezTo>
                <a:lnTo>
                  <a:pt x="200" y="3000"/>
                </a:lnTo>
                <a:lnTo>
                  <a:pt x="208" y="2344"/>
                </a:lnTo>
                <a:close/>
              </a:path>
            </a:pathLst>
          </a:custGeom>
          <a:solidFill>
            <a:srgbClr val="0066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ytokine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0"/>
            <a:ext cx="19479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ytokine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0" t="1016" r="0" b="0"/>
          <a:stretch/>
        </p:blipFill>
        <p:spPr>
          <a:xfrm>
            <a:off x="2411280" y="1836720"/>
            <a:ext cx="4305600" cy="44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ytokinesis in Plant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rcRect l="1533" t="0" r="2551" b="4583"/>
          <a:stretch/>
        </p:blipFill>
        <p:spPr>
          <a:xfrm>
            <a:off x="1494000" y="1844640"/>
            <a:ext cx="6156000" cy="43941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 flipV="1">
            <a:off x="6383160" y="2349360"/>
            <a:ext cx="852840" cy="725760"/>
          </a:xfrm>
          <a:prstGeom prst="line">
            <a:avLst/>
          </a:prstGeom>
          <a:ln w="28440">
            <a:solidFill>
              <a:srgbClr val="875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2268000" y="2637000"/>
            <a:ext cx="2287800" cy="1482480"/>
          </a:xfrm>
          <a:prstGeom prst="line">
            <a:avLst/>
          </a:prstGeom>
          <a:ln w="28440">
            <a:solidFill>
              <a:srgbClr val="875a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89080" y="19162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ll w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20720" y="220500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ll pl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ell Division: Mito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0908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99"/>
                </a:solidFill>
                <a:latin typeface="Garamond"/>
              </a:rPr>
              <a:t>Object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To study the various stages in mitotic divi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9efee"/>
                </a:solidFill>
                <a:latin typeface="Garamond"/>
              </a:rPr>
              <a:t>Interphas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18288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8080" y="2673360"/>
            <a:ext cx="3429000" cy="340668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4991040" y="2673360"/>
            <a:ext cx="3429000" cy="340668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Prophas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62120" y="2660760"/>
            <a:ext cx="3429000" cy="340524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029200" y="2660760"/>
            <a:ext cx="3429000" cy="340524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sp>
        <p:nvSpPr>
          <p:cNvPr id="226" name=""/>
          <p:cNvSpPr/>
          <p:nvPr/>
        </p:nvSpPr>
        <p:spPr>
          <a:xfrm>
            <a:off x="1219320" y="17002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Metaphas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914400" y="2660760"/>
            <a:ext cx="3429000" cy="340524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5029200" y="2660760"/>
            <a:ext cx="3429000" cy="3405240"/>
          </a:xfrm>
          <a:prstGeom prst="rect">
            <a:avLst/>
          </a:prstGeom>
          <a:ln w="38160">
            <a:solidFill>
              <a:srgbClr val="66ff33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1219320" y="17002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Anaphas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838080" y="2743200"/>
            <a:ext cx="3429000" cy="342900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5105520" y="2743200"/>
            <a:ext cx="3429000" cy="342900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sp>
        <p:nvSpPr>
          <p:cNvPr id="240" name=""/>
          <p:cNvSpPr/>
          <p:nvPr/>
        </p:nvSpPr>
        <p:spPr>
          <a:xfrm>
            <a:off x="1219320" y="17002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Garamond"/>
              </a:rPr>
              <a:t>Telophase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905120"/>
            <a:ext cx="350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2057400"/>
            <a:ext cx="350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914400" y="2660760"/>
            <a:ext cx="3429000" cy="340524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5029200" y="2660760"/>
            <a:ext cx="3429000" cy="3405240"/>
          </a:xfrm>
          <a:prstGeom prst="rect">
            <a:avLst/>
          </a:prstGeom>
          <a:ln w="28440">
            <a:solidFill>
              <a:srgbClr val="66ff33"/>
            </a:solidFill>
            <a:miter/>
          </a:ln>
        </p:spPr>
      </p:pic>
      <p:sp>
        <p:nvSpPr>
          <p:cNvPr id="247" name=""/>
          <p:cNvSpPr/>
          <p:nvPr/>
        </p:nvSpPr>
        <p:spPr>
          <a:xfrm>
            <a:off x="1219320" y="170028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imal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62720" y="1752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t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In eukaryotes, cell division occurs in two major stag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first stage, division of the cell nucleus, is called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mitosi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The second stage, division of the cell cytoplasm, is called </a:t>
            </a:r>
            <a:r>
              <a:rPr b="1" lang="en-US" sz="4400" spc="-1" strike="noStrike">
                <a:solidFill>
                  <a:srgbClr val="ffff00"/>
                </a:solidFill>
                <a:latin typeface="Garamond"/>
              </a:rPr>
              <a:t>cytokinesi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410920" y="333360"/>
            <a:ext cx="4077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ell Divis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560" y="274320"/>
            <a:ext cx="3610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hromosom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86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enetic information is passed from one generation to the next on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hromosomes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90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fore cell division, each chromosome is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duplicated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, or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Garamond"/>
              </a:rPr>
              <a:t>copied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556160" y="870120"/>
            <a:ext cx="4624200" cy="544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26920" y="115920"/>
            <a:ext cx="346716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Chromosome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72880" y="1095480"/>
            <a:ext cx="4299120" cy="54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ach chromosome consists of two identical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“sister” chromatid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ach pair of chromatids is attached at an area called the </a:t>
            </a:r>
            <a:r>
              <a:rPr b="1" lang="en-US" sz="3600" spc="-1" strike="noStrike">
                <a:solidFill>
                  <a:srgbClr val="ffff00"/>
                </a:solidFill>
                <a:latin typeface="Garamond"/>
              </a:rPr>
              <a:t>centromere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/>
          <p:cNvSpPr/>
          <p:nvPr/>
        </p:nvSpPr>
        <p:spPr>
          <a:xfrm>
            <a:off x="6590160" y="1341360"/>
            <a:ext cx="21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ister chromati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12000" y="1828800"/>
            <a:ext cx="996840" cy="2101680"/>
          </a:xfrm>
          <a:custGeom>
            <a:avLst/>
            <a:gdLst/>
            <a:ahLst/>
            <a:rect l="l" t="t" r="r" b="b"/>
            <a:pathLst>
              <a:path w="628" h="1324">
                <a:moveTo>
                  <a:pt x="0" y="920"/>
                </a:moveTo>
                <a:lnTo>
                  <a:pt x="628" y="0"/>
                </a:lnTo>
                <a:lnTo>
                  <a:pt x="276" y="1324"/>
                </a:lnTo>
              </a:path>
            </a:pathLst>
          </a:custGeom>
          <a:noFill/>
          <a:ln w="3816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97600" y="1836720"/>
            <a:ext cx="997200" cy="2102040"/>
          </a:xfrm>
          <a:custGeom>
            <a:avLst/>
            <a:gdLst/>
            <a:ahLst/>
            <a:rect l="l" t="t" r="r" b="b"/>
            <a:pathLst>
              <a:path w="628" h="1324">
                <a:moveTo>
                  <a:pt x="0" y="920"/>
                </a:moveTo>
                <a:lnTo>
                  <a:pt x="628" y="0"/>
                </a:lnTo>
                <a:lnTo>
                  <a:pt x="276" y="1324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64160" y="51260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entrom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67480" y="3421080"/>
            <a:ext cx="581040" cy="177948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76840" y="3406680"/>
            <a:ext cx="581040" cy="17798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4920" y="2997360"/>
            <a:ext cx="248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757"/>
                </a:solidFill>
                <a:latin typeface="Arial"/>
              </a:rPr>
              <a:t>Cell Di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389320" y="484200"/>
            <a:ext cx="6300720" cy="6094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2360" y="198000"/>
            <a:ext cx="324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ell Cycl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94796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92360" y="692280"/>
            <a:ext cx="23148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o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343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Mitos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iologists divide the events of mitosis into four phas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757"/>
                </a:solidFill>
                <a:latin typeface="Garamond"/>
              </a:rPr>
              <a:t>Proph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757"/>
                </a:solidFill>
                <a:latin typeface="Garamond"/>
              </a:rPr>
              <a:t>Metaph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757"/>
                </a:solidFill>
                <a:latin typeface="Garamond"/>
              </a:rPr>
              <a:t>Anaph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757"/>
                </a:solidFill>
                <a:latin typeface="Garamond"/>
              </a:rPr>
              <a:t>Telopha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63400" y="1762200"/>
            <a:ext cx="7904160" cy="37083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o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427720" y="520560"/>
            <a:ext cx="3313080" cy="3225960"/>
          </a:xfrm>
          <a:prstGeom prst="ellipse">
            <a:avLst/>
          </a:prstGeom>
          <a:solidFill>
            <a:srgbClr val="ffff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57280" y="1731960"/>
            <a:ext cx="7913520" cy="37130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5508720" y="1274760"/>
            <a:ext cx="104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pindle fo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30800" y="1895400"/>
            <a:ext cx="203400" cy="393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38960" y="2225520"/>
            <a:ext cx="180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hromosomes (paired chromati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588000" y="2565360"/>
            <a:ext cx="924120" cy="117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16720" y="2532240"/>
            <a:ext cx="944640" cy="33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37200" y="2695680"/>
            <a:ext cx="238320" cy="50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92640" y="3213000"/>
            <a:ext cx="168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entrom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Mitosi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5" name=""/>
          <p:cNvSpPr/>
          <p:nvPr/>
        </p:nvSpPr>
        <p:spPr>
          <a:xfrm>
            <a:off x="6764400" y="765000"/>
            <a:ext cx="19112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21:02:53Z</dcterms:created>
  <dc:creator>khale</dc:creator>
  <dc:description/>
  <dc:language>en-US</dc:language>
  <cp:lastModifiedBy>خالد</cp:lastModifiedBy>
  <dcterms:modified xsi:type="dcterms:W3CDTF">2013-02-18T07:35:19Z</dcterms:modified>
  <cp:revision>3</cp:revision>
  <dc:subject/>
  <dc:title>الشريحة 1</dc:title>
</cp:coreProperties>
</file>