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D90AE-0549-40B9-8908-68AB3079D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6808E-F6BB-4FEE-95AD-6947130D0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60C6E-9DDC-4133-BAD2-816DBEA3D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8072F-B7B4-47EA-B2D4-5F8BD27F5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7D63D-12E8-4CD7-9F64-3B9BC4AA3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14E0C-4B54-40D7-AB67-EA34E9938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C5D11-8C02-4B5A-B33A-8BD38D469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1BCE0-0AF1-42BA-BC3C-F54E99B35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6A714-314D-476E-9CD3-8B65D5EBE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4BB6A-A5F2-40D4-B3F7-A7D27DFF5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6880D-D6A7-4C31-B97E-13BF3CF01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EA229-6836-476E-9C8A-92CE3EF92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اعداد الأستاذة/أفراح الخريج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32FA3-036B-4024-A509-3B438F9CF71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9"/>
          <p:cNvGrpSpPr/>
          <p:nvPr/>
        </p:nvGrpSpPr>
        <p:grpSpPr>
          <a:xfrm>
            <a:off x="1619280" y="152280"/>
            <a:ext cx="6000840" cy="6006960"/>
            <a:chOff x="1619280" y="152280"/>
            <a:chExt cx="6000840" cy="6006960"/>
          </a:xfrm>
        </p:grpSpPr>
        <p:pic>
          <p:nvPicPr>
            <p:cNvPr id="42" name="Picture 8" descr=""/>
            <p:cNvPicPr/>
            <p:nvPr/>
          </p:nvPicPr>
          <p:blipFill>
            <a:blip r:embed="rId1"/>
            <a:srcRect l="1565" t="0" r="0" b="0"/>
            <a:stretch/>
          </p:blipFill>
          <p:spPr>
            <a:xfrm>
              <a:off x="1619280" y="152280"/>
              <a:ext cx="6000840" cy="457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Text Box 4"/>
            <p:cNvSpPr/>
            <p:nvPr/>
          </p:nvSpPr>
          <p:spPr>
            <a:xfrm>
              <a:off x="2987640" y="5373720"/>
              <a:ext cx="360036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itosis (in animal cells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ropha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Line 6"/>
            <p:cNvSpPr/>
            <p:nvPr/>
          </p:nvSpPr>
          <p:spPr>
            <a:xfrm flipH="1">
              <a:off x="4932000" y="1916280"/>
              <a:ext cx="647640" cy="7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Text Box 7"/>
            <p:cNvSpPr/>
            <p:nvPr/>
          </p:nvSpPr>
          <p:spPr>
            <a:xfrm>
              <a:off x="5508720" y="1693800"/>
              <a:ext cx="288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عنصر نائب للتذييل 8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اعداد الأستاذة/أفراح الخريج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10"/>
          <p:cNvGrpSpPr/>
          <p:nvPr/>
        </p:nvGrpSpPr>
        <p:grpSpPr>
          <a:xfrm>
            <a:off x="1619280" y="115920"/>
            <a:ext cx="6000840" cy="6043320"/>
            <a:chOff x="1619280" y="115920"/>
            <a:chExt cx="6000840" cy="6043320"/>
          </a:xfrm>
        </p:grpSpPr>
        <p:pic>
          <p:nvPicPr>
            <p:cNvPr id="48" name="Picture 9" descr=""/>
            <p:cNvPicPr/>
            <p:nvPr/>
          </p:nvPicPr>
          <p:blipFill>
            <a:blip r:embed="rId1"/>
            <a:srcRect l="1565" t="0" r="0" b="0"/>
            <a:stretch/>
          </p:blipFill>
          <p:spPr>
            <a:xfrm>
              <a:off x="1619280" y="115920"/>
              <a:ext cx="6000840" cy="457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Line 6"/>
            <p:cNvSpPr/>
            <p:nvPr/>
          </p:nvSpPr>
          <p:spPr>
            <a:xfrm flipH="1" flipV="1">
              <a:off x="4572000" y="4068360"/>
              <a:ext cx="649440" cy="7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Text Box 7"/>
            <p:cNvSpPr/>
            <p:nvPr/>
          </p:nvSpPr>
          <p:spPr>
            <a:xfrm>
              <a:off x="5219640" y="3925800"/>
              <a:ext cx="289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Text Box 8"/>
            <p:cNvSpPr/>
            <p:nvPr/>
          </p:nvSpPr>
          <p:spPr>
            <a:xfrm>
              <a:off x="2987640" y="5373720"/>
              <a:ext cx="360036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itosis (in animal cells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etapha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عنصر نائب للتذييل 8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اعداد الأستاذة/أفراح الخريج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Group 10"/>
          <p:cNvGrpSpPr/>
          <p:nvPr/>
        </p:nvGrpSpPr>
        <p:grpSpPr>
          <a:xfrm>
            <a:off x="1619280" y="115920"/>
            <a:ext cx="6000840" cy="6043320"/>
            <a:chOff x="1619280" y="115920"/>
            <a:chExt cx="6000840" cy="6043320"/>
          </a:xfrm>
        </p:grpSpPr>
        <p:pic>
          <p:nvPicPr>
            <p:cNvPr id="54" name="Picture 9" descr=""/>
            <p:cNvPicPr/>
            <p:nvPr/>
          </p:nvPicPr>
          <p:blipFill>
            <a:blip r:embed="rId1"/>
            <a:srcRect l="1565" t="0" r="0" b="0"/>
            <a:stretch/>
          </p:blipFill>
          <p:spPr>
            <a:xfrm>
              <a:off x="1619280" y="115920"/>
              <a:ext cx="6000840" cy="457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Line 6"/>
            <p:cNvSpPr/>
            <p:nvPr/>
          </p:nvSpPr>
          <p:spPr>
            <a:xfrm flipH="1" flipV="1">
              <a:off x="4066920" y="2418840"/>
              <a:ext cx="649080" cy="7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Text Box 7"/>
            <p:cNvSpPr/>
            <p:nvPr/>
          </p:nvSpPr>
          <p:spPr>
            <a:xfrm>
              <a:off x="4714920" y="2276640"/>
              <a:ext cx="288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8"/>
            <p:cNvSpPr/>
            <p:nvPr/>
          </p:nvSpPr>
          <p:spPr>
            <a:xfrm>
              <a:off x="2987640" y="5373720"/>
              <a:ext cx="360036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itosis (in animal cells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napha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عنصر نائب للتذييل 8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اعداد الأستاذة/أفراح الخريج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11"/>
          <p:cNvGrpSpPr/>
          <p:nvPr/>
        </p:nvGrpSpPr>
        <p:grpSpPr>
          <a:xfrm>
            <a:off x="1619280" y="115920"/>
            <a:ext cx="6000840" cy="6043320"/>
            <a:chOff x="1619280" y="115920"/>
            <a:chExt cx="6000840" cy="6043320"/>
          </a:xfrm>
        </p:grpSpPr>
        <p:pic>
          <p:nvPicPr>
            <p:cNvPr id="60" name="Picture 10" descr=""/>
            <p:cNvPicPr/>
            <p:nvPr/>
          </p:nvPicPr>
          <p:blipFill>
            <a:blip r:embed="rId1"/>
            <a:srcRect l="1565" t="0" r="0" b="0"/>
            <a:stretch/>
          </p:blipFill>
          <p:spPr>
            <a:xfrm>
              <a:off x="1619280" y="115920"/>
              <a:ext cx="6000840" cy="457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Line 6"/>
            <p:cNvSpPr/>
            <p:nvPr/>
          </p:nvSpPr>
          <p:spPr>
            <a:xfrm flipH="1">
              <a:off x="4716000" y="2060640"/>
              <a:ext cx="647640" cy="28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Text Box 8"/>
            <p:cNvSpPr/>
            <p:nvPr/>
          </p:nvSpPr>
          <p:spPr>
            <a:xfrm>
              <a:off x="5292720" y="1766880"/>
              <a:ext cx="289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Text Box 9"/>
            <p:cNvSpPr/>
            <p:nvPr/>
          </p:nvSpPr>
          <p:spPr>
            <a:xfrm>
              <a:off x="2987640" y="5373720"/>
              <a:ext cx="360036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itosis (in animal cells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elopha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عنصر نائب للتذييل 8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اعداد الأستاذة/أفراح الخريج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1T11:24:46Z</dcterms:created>
  <dc:creator>user</dc:creator>
  <dc:description/>
  <dc:language>en-US</dc:language>
  <cp:lastModifiedBy>Vista</cp:lastModifiedBy>
  <dcterms:modified xsi:type="dcterms:W3CDTF">2012-06-18T22:07:19Z</dcterms:modified>
  <cp:revision>9</cp:revision>
  <dc:subject/>
  <dc:title>الشريحة 1</dc:title>
</cp:coreProperties>
</file>