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045-433C-4C29-9A26-1CDB9D06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6CD-8A53-4C1D-A737-44A6E8F6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63E-5C61-42C2-8B8D-E7826720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4DB-F747-4338-8E7C-6FC277EB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FAB-DD5D-412B-9A6E-C8AEAA8A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112-D1C9-4766-947A-B923AE32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056-21E9-4BBE-AB35-625CB816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B54-66B3-4A54-A905-40FBDF92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333-2FB1-4245-BB5F-2B11CD13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967-E55A-4CD5-9E43-627C9F26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E00-C242-4DA2-915D-65D90EF2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882-7167-4702-9591-070B8076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8104-E1F7-473A-A553-EC2D351EE1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1619280" y="404640"/>
            <a:ext cx="6000840" cy="5754600"/>
            <a:chOff x="1619280" y="404640"/>
            <a:chExt cx="6000840" cy="5754600"/>
          </a:xfrm>
        </p:grpSpPr>
        <p:sp>
          <p:nvSpPr>
            <p:cNvPr id="42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5" descr=""/>
            <p:cNvPicPr/>
            <p:nvPr/>
          </p:nvPicPr>
          <p:blipFill>
            <a:blip r:embed="rId1">
              <a:lum bright="-36000"/>
            </a:blip>
            <a:srcRect l="1565" t="0" r="0" b="0"/>
            <a:stretch/>
          </p:blipFill>
          <p:spPr>
            <a:xfrm>
              <a:off x="1619280" y="40464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Line 6"/>
            <p:cNvSpPr/>
            <p:nvPr/>
          </p:nvSpPr>
          <p:spPr>
            <a:xfrm flipH="1" flipV="1">
              <a:off x="4140000" y="4148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4788000" y="4005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1619280" y="260280"/>
            <a:ext cx="6000840" cy="5898960"/>
            <a:chOff x="1619280" y="260280"/>
            <a:chExt cx="6000840" cy="5898960"/>
          </a:xfrm>
        </p:grpSpPr>
        <p:pic>
          <p:nvPicPr>
            <p:cNvPr id="48" name="Picture 5" descr=""/>
            <p:cNvPicPr/>
            <p:nvPr/>
          </p:nvPicPr>
          <p:blipFill>
            <a:blip r:embed="rId1">
              <a:lum bright="-18000"/>
            </a:blip>
            <a:srcRect l="1565" t="0" r="0" b="0"/>
            <a:stretch/>
          </p:blipFill>
          <p:spPr>
            <a:xfrm>
              <a:off x="1619280" y="260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2987640" y="363672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635280" y="34941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1619280" y="333360"/>
            <a:ext cx="6000840" cy="5825880"/>
            <a:chOff x="1619280" y="333360"/>
            <a:chExt cx="6000840" cy="5825880"/>
          </a:xfrm>
        </p:grpSpPr>
        <p:pic>
          <p:nvPicPr>
            <p:cNvPr id="54" name="Picture 5" descr=""/>
            <p:cNvPicPr/>
            <p:nvPr/>
          </p:nvPicPr>
          <p:blipFill>
            <a:blip r:embed="rId1">
              <a:lum bright="-6000"/>
            </a:blip>
            <a:srcRect l="1565" t="0" r="0" b="0"/>
            <a:stretch/>
          </p:blipFill>
          <p:spPr>
            <a:xfrm>
              <a:off x="1619280" y="33336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356000" y="1195560"/>
              <a:ext cx="649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5003640" y="1052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0"/>
          <p:cNvGrpSpPr/>
          <p:nvPr/>
        </p:nvGrpSpPr>
        <p:grpSpPr>
          <a:xfrm>
            <a:off x="1619280" y="476280"/>
            <a:ext cx="6000840" cy="5682960"/>
            <a:chOff x="1619280" y="476280"/>
            <a:chExt cx="6000840" cy="5682960"/>
          </a:xfrm>
        </p:grpSpPr>
        <p:pic>
          <p:nvPicPr>
            <p:cNvPr id="60" name="Picture 5" descr=""/>
            <p:cNvPicPr/>
            <p:nvPr/>
          </p:nvPicPr>
          <p:blipFill>
            <a:blip r:embed="rId1">
              <a:lum bright="-12000"/>
            </a:blip>
            <a:srcRect l="1565" t="0" r="0" b="0"/>
            <a:stretch/>
          </p:blipFill>
          <p:spPr>
            <a:xfrm>
              <a:off x="1619280" y="476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 flipV="1">
              <a:off x="5651280" y="1916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H="1">
              <a:off x="5651280" y="1989000"/>
              <a:ext cx="64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6299280" y="1773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8:19Z</dcterms:modified>
  <cp:revision>7</cp:revision>
  <dc:subject/>
  <dc:title>الشريحة 1</dc:title>
</cp:coreProperties>
</file>