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8FD7-6933-467B-B2BB-9542C597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B36F-9C31-4A9C-AA5A-98395D2B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8D56-FC15-4536-BB12-BAEFC33D9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B6B5-7B6D-4732-94B8-C9BA5691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0E09-D2FA-435A-8AE5-94D73294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08BB-8D27-4677-B4AA-3544E317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2262-4A9E-426B-B2EA-482322EA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B8AC-ACE2-4EA3-B198-D7E90B15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D0AE-4A14-4C30-AB25-DCF18C1B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AC9A-EB6B-4144-9092-C926845E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84E5-A1A3-44F3-A8D9-7314F351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CC62-5373-466E-B0AB-AB4E7063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8211-A46F-4595-966C-A22C8809B45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al Verb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643200" y="3500280"/>
            <a:ext cx="18766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  May   Might  Wi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als never change in form or end in –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–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d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lay tenn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imple form of another verb comes after a modal in a full sent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 I ca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wi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migh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g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ic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ill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is book tomorro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ements with Modal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als come before the simple form of a ver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wi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use to before the 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ain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may stop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can appear in short form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’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ll you tonigh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I’ll = I will,  she’ll = she will, you’ll = you wi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gative Statement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&gt;&gt;&gt;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Can’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&gt;&gt;&gt;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Won’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&gt;&gt;&gt;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May n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ght &gt;&gt;&gt;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Might no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not and might not cannot appear in contrac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es/no Questions with Mod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als come before the su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I can go with you.     No, I can’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o with m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Migh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ain tomorr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it m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ormation question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dals come before the subje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They will g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o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wi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the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arlo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visit u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may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vis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irosh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not st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may not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ta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aning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Can: ability or inabil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peak Englis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can’t play tenni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you swim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May/ Might:  future possibil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may rai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might not go ou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Will: future plans/ predic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’ll see you tomorro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you buy a t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hop won’t be crowd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5T06:31:58Z</dcterms:created>
  <dc:creator>Sara aldawood</dc:creator>
  <dc:description/>
  <dc:language>en-US</dc:language>
  <cp:lastModifiedBy>sony</cp:lastModifiedBy>
  <dcterms:modified xsi:type="dcterms:W3CDTF">2012-04-11T17:32:36Z</dcterms:modified>
  <cp:revision>21</cp:revision>
  <dc:subject/>
  <dc:title>Modal Verbs</dc:title>
</cp:coreProperties>
</file>