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F05-02F0-40C7-B406-477765FB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1D5-2657-4CF4-AECB-F411DE84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DB3-841D-4EFE-B402-D7E9D06D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4F1-F5A6-424E-8A71-A494E556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539-F123-424F-9A28-D9628617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BD5-DA68-435D-A661-94647047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72A-A700-4DB9-BBCD-1B21AD95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0B6-F9B9-43D4-9C18-04571237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312-797C-4B53-B757-3B890E5D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104-7E84-4614-899C-652637E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FCD-5B4A-4486-8D22-21AB5A89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D30-F2D7-4645-A7A8-375F174D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845F-893C-4F53-8CBC-A2235D3C5FA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al 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43200" y="3500280"/>
            <a:ext cx="1876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 May   Might  W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never change in form or end in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form of another verb comes after a modal in a full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igh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book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ments with Mod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imple form of a 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se to before the 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n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may st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can appear in short f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’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l you to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’ll = I will,  she’ll = she will, you’ll = you 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Statem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ay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ht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ight n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and might not cannot appear in contr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 with Mod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 can go with you.     No, I can’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 with 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in tomorr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m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als come before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hey will g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lo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visit 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irosh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st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not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t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ing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an: ability or in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peak Engl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an’t play tenn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swi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May/ Might:  future possi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y r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might not go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Will: future plans/ predi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see you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you buy a 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op won’t be crow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06:31:58Z</dcterms:created>
  <dc:creator>Sara aldawood</dc:creator>
  <dc:description/>
  <dc:language>en-US</dc:language>
  <cp:lastModifiedBy>sony</cp:lastModifiedBy>
  <dcterms:modified xsi:type="dcterms:W3CDTF">2012-04-11T17:32:36Z</dcterms:modified>
  <cp:revision>21</cp:revision>
  <dc:subject/>
  <dc:title>Modal Verbs</dc:title>
</cp:coreProperties>
</file>