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AB1-E752-481F-A780-565FF400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296-2F01-455F-8D50-3717F603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749-A08A-4F0B-A98C-83C41DC3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61C-7957-44CA-BA35-FDF83C0F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2BC-15C8-4F0B-9F12-9F52FD86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261-1E64-48F1-929D-3E60A264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7AC-21D7-4A21-B36B-6768A5A8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3BD-304A-4087-8F7B-168D127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402-9930-4653-A551-62EC9E9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E02-7326-4084-BACA-114E6E1F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2CB-9CC2-420E-B2F8-DB695531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8BC-58C2-48FE-9750-EAAC7C8D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8AD3-DDF0-4C51-8CFA-5A990197956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43200" y="3500280"/>
            <a:ext cx="1876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 May   Might  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never change in form or end in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form of another verb comes after a modal in a full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igh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boo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ments with Mod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imple form of a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to before the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may st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can appear in short f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’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l you to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’ll = I will,  she’ll = she will, you’ll = you 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Statem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ht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ight n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and might not cannot appear in cont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 with Mod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 can go with you.     No, I can’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 with 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in tomorr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m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als come before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y will g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l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visi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rosh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st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not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t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ing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an: ability or in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peak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n’t play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wi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y/ Might:  future possi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ight not go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Will: future plans/ predi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see you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you buy a 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p won’t be crow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6:31:58Z</dcterms:created>
  <dc:creator>Sara aldawood</dc:creator>
  <dc:description/>
  <dc:language>en-US</dc:language>
  <cp:lastModifiedBy>sony</cp:lastModifiedBy>
  <dcterms:modified xsi:type="dcterms:W3CDTF">2012-04-11T17:32:36Z</dcterms:modified>
  <cp:revision>21</cp:revision>
  <dc:subject/>
  <dc:title>Modal Verbs</dc:title>
</cp:coreProperties>
</file>