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9F5-B414-415B-A21F-734E6F85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D43-1F47-489A-AC6B-14A6335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A46-1A71-4050-9434-5D40F305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428-325F-4DC0-8E03-1BC4DD3A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269-6FC6-4A3A-870C-21DA866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3B8-F0AD-499D-BEE2-2B4EEE2A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A97-6D32-4D84-AC9C-5E93B3F9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EC5-D04B-4ACE-901A-F9FED5BC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646-0CBF-417C-BD07-1FA9A88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A39-244A-468B-B650-60E660E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07B-AC9E-463A-B247-2B3D70F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A56-2888-4E9B-ACE0-8550B48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FE1-5F91-44CB-9EF2-D1D7367B4E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al 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43200" y="3500280"/>
            <a:ext cx="1876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 May   Might  W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never change in form or end in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–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form of another verb comes after a modal in a full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igh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is book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ments with Modal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imple form of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wi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se to before the ver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may st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can appear in short f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’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l you to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’ll = I will,  she’ll = she will, you’ll = you 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Statem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ht &gt;&gt;&gt;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Might n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and might not cannot appear in contr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 with Mod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als come before the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 can go with you.     No, I can’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 with 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in tomorr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m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als come before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hey will g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l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visit 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irosh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not st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y not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t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ing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an: ability or ina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peak Engl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n’t play tenn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swi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May/ Might:  future poss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ra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might not go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Will: future plans/ predi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see you tomorr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you buy a 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op won’t be crow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06:31:58Z</dcterms:created>
  <dc:creator>Sara aldawood</dc:creator>
  <dc:description/>
  <dc:language>en-US</dc:language>
  <cp:lastModifiedBy>sony</cp:lastModifiedBy>
  <dcterms:modified xsi:type="dcterms:W3CDTF">2012-04-11T17:32:36Z</dcterms:modified>
  <cp:revision>21</cp:revision>
  <dc:subject/>
  <dc:title>Modal Verbs</dc:title>
</cp:coreProperties>
</file>