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0D6-4B1B-4D32-98AC-100B8C7C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A39-1F33-45AD-96FF-8170C1DF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04D-1B1C-4055-89F0-1A4BC0F3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C95-BCF8-4C51-B5B2-1E15F500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951-8F14-41CD-B4B6-F3EC7299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B63-FBF0-43C7-929F-197DF53E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0BA-4697-491C-B14F-1094219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728-D498-4F7E-ACA4-08D3CDF5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852-7595-4712-9690-F2717723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DBC-C119-4BD3-8729-176C6111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62D-E275-44F1-8344-99D32373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2CB-8849-4675-A9DC-8E8C37CB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CEE6-96C6-4C11-B100-2277CF58982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al 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43200" y="3500280"/>
            <a:ext cx="1876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 May   Might  W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never change in form or end in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y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form of another verb comes after a modal in a full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igh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s book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ments with Mod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imple form of a ver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se to before the 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in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may sto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can appear in short for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’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l you ton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I’ll = I will,  she’ll = she will, you’ll = you 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Statem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ay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ht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ight no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and might not cannot appear in contr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 with Mod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 can go with you.     No, I can’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 with 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in tomorr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m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als come before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hey will g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lo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visit 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irosh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st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not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t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ing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an: ability or ina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peak Engli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an’t play tenn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swi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May/ Might:  future possi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y ra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might not go 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Will: future plans/ predi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ll see you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you buy a t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hop won’t be crow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06:31:58Z</dcterms:created>
  <dc:creator>Sara aldawood</dc:creator>
  <dc:description/>
  <dc:language>en-US</dc:language>
  <cp:lastModifiedBy>sony</cp:lastModifiedBy>
  <dcterms:modified xsi:type="dcterms:W3CDTF">2012-04-11T17:32:36Z</dcterms:modified>
  <cp:revision>21</cp:revision>
  <dc:subject/>
  <dc:title>Modal Verbs</dc:title>
</cp:coreProperties>
</file>