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FA5-4934-41AF-B61C-712AAC6731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7105-E9B9-4283-9D5E-00A81A8DFEC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EF7-F40A-4136-8DB1-BE0542C2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1B4-03A3-44C2-8197-7DD04049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0AB-A695-4855-AD60-E45BAF59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8C6-5F9B-4D08-BA35-5F1144BF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E06A-ABA0-4AD9-B95A-4E8F81D2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0944-3C58-4904-ACE0-8D03323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CA0D-31E2-45C7-A385-E1C19ACA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ACA4-04C8-4176-87F0-A75EB32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4125-329F-4F9C-A4EB-3BD7010D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9577-BA15-49D1-8ADC-4724AE7D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24D2-5C3F-4272-909C-A535699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129-4A4F-48CE-B492-E325AAA2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923E-B6DB-455A-AEA0-ABE3C38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4848-A1BB-43EF-94A3-4ADF357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2521-BA82-48F0-A429-32798041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2FA1-5981-4C69-8B09-81C2FE60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40B7-3898-47D3-98C8-AE1EDFF6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0F7-D2BD-4309-810E-EDF6FB9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982-3F3A-4BDB-8D12-9276994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EF6-CD71-40C6-8D82-E2B5265D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234-59F0-4C3C-A3A0-57B0EB6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912-9BA1-4418-B2E6-6A97F32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2A5-DE06-4D26-BE0D-2940758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D3F-AE29-4C4C-8162-2D1E419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B85-00FA-426A-9F6E-57521F83E64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9AA1-0344-4FE8-A8DB-058735C68AB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6"/>
          <p:cNvSpPr txBox="1"/>
          <p:nvPr/>
        </p:nvSpPr>
        <p:spPr>
          <a:xfrm>
            <a:off x="755640" y="4495680"/>
            <a:ext cx="770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dule three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FECTION CONTROL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1143000" y="2438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ndamental of nur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1143000" y="7621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ing Saud Universit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ge of Nurs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lace in which an infectious agent can survive but may or may not multip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uman-Beings (most comm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lutions &amp; Instr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600200" y="533520"/>
            <a:ext cx="6019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SERVOI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ath by which an infectious agent leaves the sou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lung, nos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open wound, needle punct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 mothers –to- fetu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1143000" y="380880"/>
            <a:ext cx="7086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XI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echanisms or the way in which the infectious agent moves from the reservoir to a susceptible h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ransmission can occur by four mo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CONTACT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directly from the reservoir to a susceptible host throug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touch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staphyllococcus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,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sexual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inter-course (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e.g., gonorrhea, HIV), 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droplet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 influenz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609480" y="457200"/>
            <a:ext cx="784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DE OF TRANSMISS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HICLE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indirectly from the reservoir to a susceptible host by material that maintains the life of the infectious agent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ood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salmonella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Wate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Cholera , Shige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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nstruments &amp; Others Item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 , Pseudomon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-609840"/>
            <a:ext cx="853452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BORNE TRANSMIS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:     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The infectious agent can be carried by air current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(e.g, Measles , Mycobacterium Tuberculosis , Varicella zoster 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ECTOR TRANSMISSION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to a susceptible host through insects &amp; other invertebrate animals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  <a:ea typeface="Courier New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e.g, Mosquitoes can transmit Malaria &amp; Yellow Fever ; fleas can transmit plague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route by which the infectious agent moves into (enters ) susceptible h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762120" y="457200"/>
            <a:ext cx="784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NTER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04920" y="2322360"/>
            <a:ext cx="861048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lung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 mothers –to- fetus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Host is any person who is at risk for infection. C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racteristics that influence susceptibility &amp; severity of disease ar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x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cio-Economic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sease hist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Nutritional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762120" y="533520"/>
            <a:ext cx="777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ccup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mmunization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agnostic /Therapeutic proced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ed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au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ered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thnic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762120" y="228600"/>
            <a:ext cx="777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 CONT'D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TRANSMISSION OF DISEASE 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533520"/>
            <a:ext cx="8839080" cy="71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 TERMINOLOGIES  IN  INFECTION 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ff00"/>
                </a:solidFill>
                <a:uFillTx/>
                <a:latin typeface="Comic Sans MS"/>
              </a:rPr>
              <a:t>CONTAMINATION  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Comic Sans MS"/>
              </a:rPr>
              <a:t>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acteria present on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COLONIZATION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resence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and multiplication of microorgani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 or on a host without tissue dam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cteria present on surf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INFECTION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vasion and multiplication                                                        of an infectious agent in                                                         the tissues of the host.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7534" t="44431" r="63334" b="41452"/>
          <a:stretch/>
        </p:blipFill>
        <p:spPr>
          <a:xfrm>
            <a:off x="5867280" y="4114800"/>
            <a:ext cx="33530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rcRect l="4450" t="69142" r="63334" b="15557"/>
          <a:stretch/>
        </p:blipFill>
        <p:spPr>
          <a:xfrm>
            <a:off x="4800600" y="5562720"/>
            <a:ext cx="434340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rcRect l="0" t="24428" r="63334" b="59104"/>
          <a:stretch/>
        </p:blipFill>
        <p:spPr>
          <a:xfrm>
            <a:off x="5410080" y="2057400"/>
            <a:ext cx="373392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831EFC3C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                            Interven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00600" y="2502000"/>
            <a:ext cx="4191120" cy="35060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urate and rapid identification of micro-organisms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ly recognition of sign and symptoms of infection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680" y="2597040"/>
            <a:ext cx="4311720" cy="11912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ectious or Causative Agent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                   </a:t>
            </a:r>
            <a:r>
              <a:rPr b="0" lang="en-US" sz="54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00400" y="2355840"/>
            <a:ext cx="5943600" cy="448308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loyee health examinations and scree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vironmental sanitization including floors, walls, exam tables and be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infection/Sterilization of equipment and instru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Hygiene - bathing and 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gowns, linens and towe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wound dressing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1680" y="2409840"/>
            <a:ext cx="2940120" cy="61164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00"/>
                </a:solidFill>
                <a:latin typeface="Comic Sans MS"/>
              </a:rPr>
              <a:t>2-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Reservoir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505320" y="2209680"/>
            <a:ext cx="5638680" cy="411732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dressings over woun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 of excretions and secre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vering the mouth and nose when coughing or sneez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trash and waste dispo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1680" y="2209680"/>
            <a:ext cx="324504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rtal of Ex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057400"/>
            <a:ext cx="5943600" cy="4716360"/>
          </a:xfrm>
          <a:prstGeom prst="rect">
            <a:avLst/>
          </a:prstGeom>
          <a:noFill/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Hand washing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ooms with air flow contro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afe Food handl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solation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ransmission-base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erilization of equipment and supplie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Medical and Surgical Asepsi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Proper disposal of contaminated object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1680" y="2133720"/>
            <a:ext cx="2787840" cy="18003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thod or           Mode of                    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276720" y="2057400"/>
            <a:ext cx="5486400" cy="47865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rile technique or Surgical Asepsis (dressing, injections, catheterization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heter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und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 Disposal of needles or sha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intaining skin integr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133720"/>
            <a:ext cx="327672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5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tal of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                            </a:t>
            </a: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0" y="2209680"/>
            <a:ext cx="4419720" cy="399348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ment of Dise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ognition of clients at ris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mun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per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tient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1680" y="2209680"/>
            <a:ext cx="3854520" cy="58140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6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sceptible H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457200"/>
            <a:ext cx="81532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EVENTIVE  PATIENT  CA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Aseptic  tech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eri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Dis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Isolation  Preca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B7051C96"/>
          <p:cNvPicPr/>
          <p:nvPr/>
        </p:nvPicPr>
        <p:blipFill>
          <a:blip r:embed="rId1"/>
          <a:stretch/>
        </p:blipFill>
        <p:spPr>
          <a:xfrm>
            <a:off x="5791320" y="23623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8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88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88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88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88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88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880"/>
                            </p:stCondLst>
                            <p:childTnLst>
                              <p:par>
                                <p:cTn id="5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7880"/>
                            </p:stCondLst>
                            <p:childTnLst>
                              <p:par>
                                <p:cTn id="5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880"/>
                            </p:stCondLst>
                            <p:childTnLst>
                              <p:par>
                                <p:cTn id="5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88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88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HAND WASHING:-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for the removal of dirt and transient microorganisms(E.g.  E. COLI) from the hands. (it is considered the most effective infection control meas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Courier New"/>
              </a:rPr>
              <a:t>HAND ANTISEPSIS: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of the removal or destruction of transient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Courier New"/>
              </a:rPr>
              <a:t>SURGICAL HAND SCRUB :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to remove or destroy the transient microorganisms and reduced resident flora, (E.g. Diphtheri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Comic Sans MS"/>
              </a:rPr>
              <a:t>Types of the Hand Was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ROUTINE HAND WASHING or  HYGIENIC HAND WASHING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ccomplished by vigorously rubbing together all surfaces of lathered hands followed by thorough rinsing under a stream of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is should take  10-15 seconds to comple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hands should be dried with a paper tow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1219320"/>
            <a:ext cx="883908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NDOGENOUS  INFEC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organisms  derived  from patients  own  flo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XOGENOUS  INFECTION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 are  derived  from  outside  fo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INCUBATION  PERIOD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ime of initial contact  with the infectious agent to the appearance of  the first symp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380880"/>
            <a:ext cx="8153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 INFECTION  CONTROL cont’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Types of the Hand Washing cont’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abcf1"/>
                </a:solidFill>
                <a:uFillTx/>
                <a:latin typeface="Comic Sans MS"/>
              </a:rPr>
              <a:t>SURGICAL SCRUB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that begin with washing hands and forearms thoroughly to remove dirt and transient bacteria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ail cleaner should be used to clean under the na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take about 5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ap solution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Soap have a detergent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remove transient microorganisms physically but have no effect on the resident microbial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HLOROHEXIDINE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has a broad - spectrum activity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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binds to the stratum corneum, continuing to destroy bacteria for at least six ho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-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OVIDINE IODINE: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often used in the operating theatre because it destroys spores more effectively than many other antisep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63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LCOHOL HAND-RUBS, GEL &amp; WIP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have excellent bactericidal activity against most gram – positive and gram- negative bacteria but have no effect on sp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When coming on d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removing glo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When hands are soiled including after sneezing, coughing, or blowing your n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tween patients’ conta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 &amp; after medication adminis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personal use of the toil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performing invasive proced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taking care of particularly susceptible patients, such as who are severely Immuno-compromised &amp; Newbor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and after touching wou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&amp; after e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ouching  objects that are likely to be contaminated with pathogenic  micro-organisms E.g. urine measuring devices, secretion collection apparatus, etc..</a:t>
            </a: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aking care of infected patients or patients who are likely to be colonized with microorganisms for special clinical or epidemiologic significance. (E.g. Multi-drug resistant bacteria-M.D.R.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-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ASEPTIC TECHNIQU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n a method used to prevent contamination of wounds and other susceptible sites by organisms that could cause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is can be achieved by using sterile equipment and fluids used for invasive medical and nursing procedur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-30492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STEREL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complete elimination of all viable microorganisms including viruses, fungi, and their spores both pathogenic and non- pathogen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DIS-INF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infection implies the removal of all life forms capable of causing disease.( all viable microorganisms except bacterial spor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220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 INFECTION  CONTROL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Asepsi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The freedom from disease causing micro-organ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Medical asepsis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cludes all practices intended to confine a specific microorganism to a specific area, limiting the number, growth, &amp; transmission of microorganis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Surgical asepsis (sterile technique)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99ff33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Refers to those practices that keep an area or object free of all microorganisms; it include all practices that destroy all microorganisms &amp; sp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80880" y="304920"/>
            <a:ext cx="876312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term standard  precautions  refers to a system of infection  control practices which assume  that  every direct contact with blood and body fluids is potentially  infecti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CONCEPT OF STANDARD  PRECAU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 be implemented to all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Standard precautions are not generally  intended to reduce cross contamination among patients and they do not replace other precaution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87631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ELEMENTS  OF STANDARD PRECAU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asks, eyewear, face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owns and  ap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harps  and  nee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pills of blood and body fl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laboratory  specim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li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resuscitation  equi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380880"/>
            <a:ext cx="914400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SOLATION  PRECA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se  are  guidelines  created  to   prevent  transmission  of  microorganisms  in  hospit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are Transmission Based Isolation designated for care of patients with known or suspected infectious disease that can spread by one of the following rout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AIR-BORNE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measels, Rubella &amp; T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DROPLE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Diphteria &amp; Pertu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CONTAC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Hepatitis A, herpes simplex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ISO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 separation  of  a  person  with  infectious  disease  from  contact  with  other  human  beings,  for  the  period  of  communicab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228600"/>
            <a:ext cx="8610480" cy="65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BASIC  PRINCIPLES  FOR  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ATEGORIES  OF  ISO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ecessity  of  a  single 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Use  of protective  barriers  as  per 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4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waste  in  orange 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5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linen  in  water- soluble  linen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6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Request  for  a  isolation diet  tray  (with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ble  cutle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593720"/>
            <a:ext cx="8839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COMMUNITY  ACQUIRED  INFECT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fection  present  or incubating  on admission with  no association  to previous hospitalization  at  the  same 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ff00"/>
                </a:solidFill>
                <a:uFillTx/>
                <a:latin typeface="Comic Sans MS"/>
              </a:rPr>
              <a:t>HOSPITAL ACQUIRED INFECTION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:</a:t>
            </a: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osocomial infection can be defined  as an infection acquired in the hospital after 72 hours of admission to hos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MON  TERMINOLOGIES  IN  INFECTION  CONTROL cont’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AC Moose"/>
              </a:rPr>
              <a:t>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HOSPITAL AQUIRED INF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  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( NOSOCOMIAL INFECTION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an infection meeting the following criteria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t present or incubating on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temporarily associated with admission to or a procedure done at health care facility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incubating at that time of admission that is related to previous hospitalization at the same facility or identified on admission following performance of the procedure during a previous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f8f8"/>
                </a:solidFill>
                <a:latin typeface="Comic Sans MS"/>
              </a:rPr>
              <a:t>COMPONENTS OF INFECTION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USATIVE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ERVOIR OF THE A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X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DE OF TRANS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N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SCEPTIBLE  H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685800" y="3049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IN OF INFEC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y biological ,physical  or chemical entity capable of causing disease is called an agent </a:t>
            </a:r>
            <a:r>
              <a:rPr b="0" lang="ar-SA" sz="3600" spc="-1" strike="noStrike">
                <a:solidFill>
                  <a:srgbClr val="eaeaea"/>
                </a:solidFill>
                <a:latin typeface="Comic Sans MS"/>
                <a:ea typeface="Courier New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icro-organism that can cause infec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f8f8"/>
                </a:solidFill>
                <a:latin typeface="Comic Sans MS"/>
              </a:rPr>
              <a:t>MICRO-ORGANISMS: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that can be seen only with the magnification of a microscope 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Bac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Viru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Fung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Parasit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68580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Some Micro-organisms are normally present on people’s skin &amp; in Respiratory ,Intestinal , &amp; Genital tract ; these micro-organisms are called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NORMAL FLO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Other Micro-organisms are normally not found on or in the human body &amp; are usually associated with disease ;these micro-organism are known as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PATHOGEN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f8f8"/>
                </a:solidFill>
                <a:latin typeface="Comic Sans MS"/>
              </a:rPr>
              <a:t>ALL MICRO-ORGANISMS</a:t>
            </a:r>
            <a:r>
              <a:rPr b="0" i="1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, including normal flora ,can cause infection or disease if certain conditions exist</a:t>
            </a:r>
            <a:r>
              <a:rPr b="0" i="1" lang="en-US" sz="2000" spc="-1" strike="noStrike">
                <a:solidFill>
                  <a:srgbClr val="eaeaea"/>
                </a:solidFill>
                <a:latin typeface="Comic Sans MS"/>
                <a:ea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rmal flora are introduced an area of the body in which they are not normally found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athogens are introduced into the body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Micro-organisms are introduced into the body of a person who is immunocomprimised &amp; thus susceptible to infections to which he or she otherwise would not be susceptible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609480" y="763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 CONT'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21:09:26Z</dcterms:created>
  <dc:creator>Dr. Rubean</dc:creator>
  <dc:description/>
  <dc:language>en-US</dc:language>
  <cp:lastModifiedBy>user</cp:lastModifiedBy>
  <dcterms:modified xsi:type="dcterms:W3CDTF">2011-10-08T09:02:42Z</dcterms:modified>
  <cp:revision>105</cp:revision>
  <dc:subject/>
  <dc:title>Case presentation</dc:title>
</cp:coreProperties>
</file>