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84A-5C78-47E2-B88A-37A76A95D5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BC91-8EFF-4E09-97FA-04274E6EB83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C2E-242A-4E29-AAC9-E9859E4C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140-AFE1-4092-BD27-1A41D64C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3E9-2738-4B43-96C6-7751358B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5C7-9892-42C6-B127-4E20430A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3A2D-BB40-493D-93D1-A925322F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8A60-7DA9-4885-B3CF-0AE4F838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BFED-CAB3-45D9-9A10-9E74FA8C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2B2-7A07-473C-B1EA-4FF1B520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CD2B-9A33-4591-8346-A4FA0990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86B-C0D9-4B26-9B6E-43BBE15E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F69-F4C8-4462-B6AB-5B4AC40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3CD-72EE-4CFE-A5F3-C1A7817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A322-D533-493B-87CA-A201F0A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54C-4531-4B20-9CF5-A7CB741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FC1-67A3-40C2-BD27-90D4E44E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43B7-106D-46FC-9948-4F0EC79C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A3C8-539C-4BBB-9E03-86C2210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F0B-CD69-4E78-8589-7CFECEE8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687-22FE-426C-B7D7-0DD912D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A57-55FF-4E77-8A84-5F6E586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6F0-9B51-4AB9-BA14-9066571C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CB1-D5FB-4276-BCD2-04B3FDB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B72-A66F-4F26-835D-42AF314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B52-AA12-48F6-8523-02359D9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1BAA-B0D0-4FF3-B368-FDD78753ABA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7A3-83D8-4BEB-BF9C-88CEB214F9A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755640" y="4495680"/>
            <a:ext cx="770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ule three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FECTION CONTROL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lace in which an infectious agent can survive but may or may not multip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uman-Beings (most comm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lutions &amp; Instr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600200" y="533520"/>
            <a:ext cx="6019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ERVOI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ath by which an infectious agent leaves the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lung, no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open wound, needle punct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 mothers –to- fetu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143000" y="380880"/>
            <a:ext cx="7086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XI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echanisms or the way in which the infectious agent moves from the reservoir to a susceptible h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ransmission can occur by four mo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CONTACT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directly from the reservoir to a susceptible host throug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touch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staphyllococcus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,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sexual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inter-course (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e.g., gonorrhea, HIV), 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roplet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 influenz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609480" y="4572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E OF TRANSMISS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HICLE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indirectly from the reservoir to a susceptible host by material that maintains the life of the infectious agen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ood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salmonella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Wat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Cholera , Shige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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nstruments &amp; Others Item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 , Pseudomon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-609840"/>
            <a:ext cx="853452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BORNE TRANSMIS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:    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The infectious agent can be carried by air curren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(e.g, Measles , Mycobacterium Tuberculosis , Varicella zoster 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ECTOR TRANSMISSION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to a susceptible host through insects &amp; other invertebrate animals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e.g, Mosquitoes can transmit Malaria &amp; Yellow Fever ; fleas can transmit plague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route by which the infectious agent moves into (enters ) susceptible h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762120" y="45720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NTER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920" y="2322360"/>
            <a:ext cx="86104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lung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 mothers –to- fetus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Host is any person who is at risk for infection. C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racteristics that influence susceptibility &amp; severity of disease 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cio-Economic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sease hi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utritional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762120" y="533520"/>
            <a:ext cx="777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ccup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mmunization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agnostic /Therapeutic proced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ed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u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ered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thnic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762120" y="22860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 CONT'D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RANSMISSION OF DISEASE 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533520"/>
            <a:ext cx="8839080" cy="71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 TERMINOLOGIES  IN  INFECTION 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ff00"/>
                </a:solidFill>
                <a:uFillTx/>
                <a:latin typeface="Comic Sans MS"/>
              </a:rPr>
              <a:t>CONTAMINATION  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Comic Sans MS"/>
              </a:rPr>
              <a:t>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acteria present on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COLONIZATION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resence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and multiplication of microorgan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 or on a host without tissue dam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teria present on surf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INFECTION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vasion and multiplication                                                        of an infectious agent in                                                         the tissues of the host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7534" t="44431" r="63334" b="41452"/>
          <a:stretch/>
        </p:blipFill>
        <p:spPr>
          <a:xfrm>
            <a:off x="5867280" y="4114800"/>
            <a:ext cx="335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rcRect l="4450" t="69142" r="63334" b="15557"/>
          <a:stretch/>
        </p:blipFill>
        <p:spPr>
          <a:xfrm>
            <a:off x="4800600" y="5562720"/>
            <a:ext cx="434340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rcRect l="0" t="24428" r="63334" b="59104"/>
          <a:stretch/>
        </p:blipFill>
        <p:spPr>
          <a:xfrm>
            <a:off x="5410080" y="2057400"/>
            <a:ext cx="373392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831EFC3C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                            Interven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00600" y="2502000"/>
            <a:ext cx="4191120" cy="35060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urate and rapid identification of micro-organisms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ly recognition of sign and symptoms of infection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680" y="2597040"/>
            <a:ext cx="4311720" cy="11912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ectious or Causative Agent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00400" y="2355840"/>
            <a:ext cx="5943600" cy="448308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ee health examinations and scree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vironmental sanitization including floors, walls, exam tables and be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infection/Sterilization of equipment and instru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Hygiene - bathing and 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gowns, linens and towe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wound dress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1680" y="2409840"/>
            <a:ext cx="2940120" cy="61164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Comic Sans MS"/>
              </a:rPr>
              <a:t>2-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Reservoir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505320" y="2209680"/>
            <a:ext cx="5638680" cy="411732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dressings over woun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of excretions and secre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vering the mouth and nose when coughing or sneez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trash and waste dispo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1680" y="2209680"/>
            <a:ext cx="324504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rtal of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057400"/>
            <a:ext cx="5943600" cy="4716360"/>
          </a:xfrm>
          <a:prstGeom prst="rect">
            <a:avLst/>
          </a:prstGeom>
          <a:noFill/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and washing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ooms with air flow contro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afe Food handl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solatio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ransmission-base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erilization of equipment and supplie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Medical and Surgical Asepsi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Proper disposal of contaminated object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1680" y="2133720"/>
            <a:ext cx="2787840" cy="18003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thod or           Mode of                   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276720" y="2057400"/>
            <a:ext cx="5486400" cy="47865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rile technique or Surgical Asepsis (dressing, injections, catheterizatio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heter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un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 Disposal of needles or sha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ing skin integr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133720"/>
            <a:ext cx="327672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5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tal of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                 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2209680"/>
            <a:ext cx="4419720" cy="399348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ment of Dise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ognition of clients at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mun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per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tient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1680" y="2209680"/>
            <a:ext cx="3854520" cy="58140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ceptible 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457200"/>
            <a:ext cx="81532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EVENTIVE  PATIENT  CA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Aseptic 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er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Dis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Isolation  Preca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B7051C96"/>
          <p:cNvPicPr/>
          <p:nvPr/>
        </p:nvPicPr>
        <p:blipFill>
          <a:blip r:embed="rId1"/>
          <a:stretch/>
        </p:blipFill>
        <p:spPr>
          <a:xfrm>
            <a:off x="5791320" y="2362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8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88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880"/>
                            </p:stCondLst>
                            <p:childTnLst>
                              <p:par>
                                <p:cTn id="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88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880"/>
                            </p:stCondLst>
                            <p:childTnLst>
                              <p:par>
                                <p:cTn id="5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880"/>
                            </p:stCondLst>
                            <p:childTnLst>
                              <p:par>
                                <p:cTn id="5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880"/>
                            </p:stCondLst>
                            <p:childTnLst>
                              <p:par>
                                <p:cTn id="5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88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88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88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88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HAND WASHING:-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for the removal of dirt and transient microorganisms(E.g.  E. COLI) from the hands. (it is considered the most effective infection control meas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Courier New"/>
              </a:rPr>
              <a:t>HAND ANTISEPSIS: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of the removal or destruction of transient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Courier New"/>
              </a:rPr>
              <a:t>SURGICAL HAND SCRUB :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to remove or destroy the transient microorganisms and reduced resident flora, (E.g. Diphtheri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Types of the Hand Was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ROUTINE HAND WASHING or  HYGIENIC HAND WASHING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ccomplished by vigorously rubbing together all surfaces of lathered hands followed by thorough rinsing under a stream of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is should take  10-15 seconds to comple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hands should be dried with a paper tow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NDOGENOUS  INFEC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organisms  derived  from patients  own  flo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XOGENOUS  INFECTION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 are  derived  from  outside  fo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INCUBATION  PERIOD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ime of initial contact  with the infectious agent to the appearance of  the first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80880"/>
            <a:ext cx="8153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 INFECTION  CONTROL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Types of the Hand Washing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abcf1"/>
                </a:solidFill>
                <a:uFillTx/>
                <a:latin typeface="Comic Sans MS"/>
              </a:rPr>
              <a:t>SURGICAL SCRUB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that begin with washing hands and forearms thoroughly to remove dirt and transient bacteria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ail cleaner should be used to clean under the n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take about 5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ap solution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ap have a deterg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remove transient microorganisms physically but have no effect on the resident microbial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HLOROHEXIDINE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has a broad - spectrum activity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binds to the stratum corneum, continuing to destroy bacteria for at least six ho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OVIDINE IODINE: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often used in the operating theatre because it destroys spores more effectively than many other antisep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3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LCOHOL HAND-RUBS, GEL &amp; WIP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have excellent bactericidal activity against most gram – positive and gram- negative bacteria but have no effect on sp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When coming on d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removing glo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When hands are soiled including after sneezing, coughing, or blowing your n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tween patients’ conta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 &amp; after medication admin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personal use of the toi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performing invasive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taking care of particularly susceptible patients, such as who are severely Immuno-compromised &amp; Newbor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and after touching wo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&amp; after e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ouching  objects that are likely to be contaminated with pathogenic  micro-organisms E.g. urine measuring devices, secretion collection apparatus, etc..</a:t>
            </a: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aking care of infected patients or patients who are likely to be colonized with microorganisms for special clinical or epidemiologic significance. (E.g. Multi-drug resistant bacteria-M.D.R.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-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n a method used to prevent contamination of wounds and other susceptible sites by organisms that could cause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is can be achieved by using sterile equipment and fluids used for invasive medical and nursing procedur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-30492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STERE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complete elimination of all viable microorganisms including viruses, fungi, and their spores both pathogenic and non- pathogen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DIS-INF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infection implies the removal of all life forms capable of causing disease.( all viable microorganisms except bacterial spor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220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 INFECTION  CONTROL cont’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Asepsi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The freedom from disease causing micro-organ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Medical asepsis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cludes all practices intended to confine a specific microorganism to a specific area, limiting the number, growth, &amp; transmission of microorgani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Surgical asepsis (sterile technique)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99ff33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Refers to those practices that keep an area or object free of all microorganisms; it include all practices that destroy all microorganisms &amp; sp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80880" y="304920"/>
            <a:ext cx="876312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term standard  precautions  refers to a system of infection  control practices which assume  that  every direct contact with blood and body fluids is potentially  infecti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CONCEPT OF STANDARD  PRECAU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 be implemented to all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Standard precautions are not generally  intended to reduce cross contamination among patients and they do not replace other precaution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87631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ELEMENTS  OF STANDARD PRECA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sks, eyewear, face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owns and  ap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harps  and  nee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pills of blood and body fl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laboratory  specim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li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resuscitation 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380880"/>
            <a:ext cx="914400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SOLATION  PRECA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se  are  guidelines  created  to   prevent  transmission  of  microorganisms  in  hospi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are Transmission Based Isolation designated for care of patients with known or suspected infectious disease that can spread by one of the following rout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AIR-BOR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measels, Rubella &amp; T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DROPLE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Diphteria &amp; Pertu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CONTAC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Hepatitis A, herpes simplex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ISO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 separation  of  a  person  with  infectious  disease  from  contact  with  other  human  beings,  for  the  period  of  communica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10480" cy="65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BASIC  PRINCIPLES  FOR 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ATEGORIES  OF  ISO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ecessity  of  a  single 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Use  of protective  barriers  as  per 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4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waste  in  orange 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5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linen  in  water- soluble  linen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6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Request  for  a  isolation diet  tray  (with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ble  cutle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93720"/>
            <a:ext cx="8839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COMMUNITY  ACQUIRED  INFECT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fection  present  or incubating  on admission with  no association  to previous hospitalization  at  the  same 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ff00"/>
                </a:solidFill>
                <a:uFillTx/>
                <a:latin typeface="Comic Sans MS"/>
              </a:rPr>
              <a:t>HOSPITAL ACQUIRED INFECTION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: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osocomial infection can be defined  as an infection acquired in the hospital after 72 hours of admission to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MON  TERMINOLOGIES  IN  INFECTION  CONTROL cont’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AC Moose"/>
              </a:rPr>
              <a:t>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HOSPITAL AQUIRED INF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  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( NOSOCOMIAL INFECTION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an infection meeting the following criteri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t present or incubating on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temporarily associated with admission to or a procedure done at health care facility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incubating at that time of admission that is related to previous hospitalization at the same facility or identified on admission following performance of the procedure during a previous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f8f8"/>
                </a:solidFill>
                <a:latin typeface="Comic Sans MS"/>
              </a:rPr>
              <a:t>COMPONENTS OF INFECTION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USATIVE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ERVOIR OF THE A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X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DE OF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N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CEPTIBLE  H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685800" y="3049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IN OF INFE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y biological ,physical  or chemical entity capable of causing disease is called an agent </a:t>
            </a:r>
            <a:r>
              <a:rPr b="0" lang="ar-SA" sz="3600" spc="-1" strike="noStrike">
                <a:solidFill>
                  <a:srgbClr val="eaeaea"/>
                </a:solidFill>
                <a:latin typeface="Comic Sans MS"/>
                <a:ea typeface="Courier New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icro-organism that can cause infec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f8f8"/>
                </a:solidFill>
                <a:latin typeface="Comic Sans MS"/>
              </a:rPr>
              <a:t>MICRO-ORGANISMS: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that can be seen only with the magnification of a microscope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ac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Vir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un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arasit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68580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me Micro-organisms are normally present on people’s skin &amp; in Respiratory ,Intestinal , &amp; Genital tract ; these micro-organisms are called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NORMAL FLO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Other Micro-organisms are normally not found on or in the human body &amp; are usually associated with disease ;these micro-organism are known as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PATHOGEN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f8f8"/>
                </a:solidFill>
                <a:latin typeface="Comic Sans MS"/>
              </a:rPr>
              <a:t>ALL MICRO-ORGANISMS</a:t>
            </a:r>
            <a:r>
              <a:rPr b="0" i="1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, including normal flora ,can cause infection or disease if certain conditions exist</a:t>
            </a:r>
            <a:r>
              <a:rPr b="0" i="1" lang="en-US" sz="2000" spc="-1" strike="noStrike">
                <a:solidFill>
                  <a:srgbClr val="eaeaea"/>
                </a:solidFill>
                <a:latin typeface="Comic Sans MS"/>
                <a:ea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rmal flora are introduced an area of the body in which they are not normally found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athogens are introduced into the body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Micro-organisms are introduced into the body of a person who is immunocomprimised &amp; thus susceptible to infections to which he or she otherwise would not be susceptible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609480" y="763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 CONT'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21:09:26Z</dcterms:created>
  <dc:creator>Dr. Rubean</dc:creator>
  <dc:description/>
  <dc:language>en-US</dc:language>
  <cp:lastModifiedBy>user</cp:lastModifiedBy>
  <dcterms:modified xsi:type="dcterms:W3CDTF">2011-10-08T09:02:42Z</dcterms:modified>
  <cp:revision>105</cp:revision>
  <dc:subject/>
  <dc:title>Case presentation</dc:title>
</cp:coreProperties>
</file>