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3CDA-7F32-4A94-9121-571AF77BCF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A806-D4CC-44BB-B995-A1CE157D4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etitive advantages or “bases of competition” can be broadly categorized as either some form of differentiation or as cost leadersh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etitive scope includes segment scope and the extent to which value-creating activities are performed by the firm itself versus being outsour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6544-E467-4DFC-8DA8-84A8E922B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ue” is defined as what the customer gets (performance or quality) adjusted for what the customer gives (pr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ue = Relative Performance/Relative Pr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alue-map framework plots performance and price as the axes of the two-dimensional spa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are customer perceptions of performance and pr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ce and performance are perceived as high or low relative to other offerings in the marketpla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are willing to pay more for higher performance (better quality) but the market will punish firms charging more or offering less for the same pr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ee potentially effective strategi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mium</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customer-valu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nom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unsustainable strategy: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erior customer valu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7C5E-F274-4765-B817-0456DCADB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market growth framework suggests the concept of “adjacencies” and core competencies—the idea that strategic growth is best found by identifying new markets or new products for which the firm can parlay existing core strengths into grow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DC05-D05F-4010-8F5A-F26D549A8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l illustrated above should become second nature to successful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essential stages to this proces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ituation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trategy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plementation (Positioning an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Documentation, assessment, and adjus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992A-379E-4D2F-BAC0-40831B0DA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C1DF4-0A1B-4DB6-88CE-6BCA8D1568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42B26-7F66-4897-A52F-40DD701D82F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5C99159-58B0-4C7F-BCD1-269E69BF9AA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3BC0844-B57C-4CB3-9656-BE704373588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6993A77-E52B-4153-B42F-290B4CB467A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CDBF7C-0740-47D6-B119-2FCB0231D9F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0E7D42-E01E-4C76-87C0-33CEA5D9180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123AF4B-9F4A-486F-81AC-8D260145BC1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0D46C57-CDA5-4B6C-A345-B13E3D2F194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ACD8940-E94D-4A0F-9BE8-A9A8954DB34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07BE5A1-419B-4EBC-A4C5-F685C10F0F9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B195A9B-3B9D-480C-B3B0-A18C1909132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AE8879-452C-430C-8EAD-03EAFAA8AA4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F0FCD14-2B6C-4C6D-BD95-14E3DB7D1AC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161FF5B-5C01-4CA9-B2A9-C02C7CE48F3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3E811CB-13EB-4C2A-85D4-73BF1FE483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6D0A164-579D-40FC-A9E7-241997994D0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C606EB6-8F2B-4F3B-A5C7-BEDFDF17C75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A10D19D-1C44-4E63-BB36-82A323BF140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9792E43-C4A4-4436-91B5-F039EA0983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5477F23-F37C-44D0-84BB-95A6B1FD93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70B7A8F-5F70-4916-AE29-1888A1010DC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0B7A4D6-B5DF-4C01-95EB-92D5ABCC345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4AD54F-0EAA-4BBF-A7ED-6A1DAEFA07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C976517-58B8-4801-98DB-E76DFA6C54F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8161D4B-795E-4A39-A3DE-3DD2C62B57F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6BD195-0BBC-4922-ADCA-7E5F2695369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E2500DF-6C37-45C1-8027-46578568030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D469B41-4AE6-49AB-93EE-69457195339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B3C4316-2498-4E59-A3FE-F0156426910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B088B64-3C2E-409F-A68D-29ECA92C849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B07729-2E5C-45AE-815B-DAB28AFCE16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6479443-3394-43FC-AAD7-C4FC822F4BF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1F7704-ABBF-4F7E-94BE-CB4766C29CC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187274D-4C86-4F09-BF8F-451DD7C10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23BB7BE-543C-4B25-AF34-8165280E368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BDC6EFB-6AC9-4128-8538-11AE4A0BA85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105C4F4-81F9-42B1-B12A-C3AEEBA287C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4080DCA-DE56-4734-961A-93FBA650542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6DD3F81-56A8-4CA9-A5C0-8A902DB762B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248F11B-B0DC-48C4-B84F-7C252C892AC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934EBDF-0BFF-432E-9695-EB9099953E1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E9F4AB2-19CF-49D0-8226-A376A684D56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5E3B2E9-996E-4357-AD9E-695F525550E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25A4406-9EA8-472A-888F-6E37982CB84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70DAF3-B697-4036-9BCD-E165A3056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FA0034E-3F86-45F3-8B1F-14CC6AAE779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17B0506-42DD-43C1-AD4F-3709024D4EA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746A2FD-1F38-4719-88C9-DF003D05DA0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28BBBCF-5164-43EE-9AE9-7E4AE4C44EF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77DC913-F0F2-47F6-BED7-2C07EB4771A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C93E890-906A-406A-A1FD-6F6DFC65D7F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FAC1555-BD8C-4D2B-929B-BB0905CC5B7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FF36CE0-4E42-4DBE-B713-383E729C0C9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386D677-10DB-4618-B64B-8BB6C7D96EA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D79F9EF-7524-41E2-89DB-39CF94C1D8E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06EF01-02B0-414C-BB1C-A37D77F1D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74A03B1-0178-46DA-9569-5C514874B73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4B8E8E6-5293-46C4-949E-B3C18187D57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24BDEB3-7B94-43C7-8B07-4602ED9C13D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4A40865-FAA7-4ADA-A78F-5BE697431EA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B0FFB72-8BBF-4851-9331-A7DD7E95567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46EBC54-B42C-45E5-BA0F-F598D610AE9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D323DF2-59F2-4D05-8CE8-D03F26A4EE2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2F9FE17-53E9-43F6-8A55-272D768C609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00F3DD8-D57F-4967-B04C-1227AB42518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16EAF60-1A3D-4C8F-AFAC-B24CB6C8B17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576594-B3C0-4EB7-8E57-D36F275A6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131264E-649E-460D-BAF8-345F7272F62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BE252A0-F5E2-4500-B729-D250C525C65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DC74500-3F55-492A-977F-DDCD3D28CEE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6242134-4316-4672-BCC8-A5ADCA9AD8B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A858B99-D5E5-48DE-879E-AEE51A6C319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D353FC0-07E4-447A-AE74-CD6EC4EACA8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32E7CB6-E687-424F-8AA0-C3613858194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9998606-8423-43C6-90D6-A8EE421A9CD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2CA0B72-8D5B-447B-A4AB-E49891D1C4D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5CAC32A-6EFE-4212-95C0-A98B02A5D63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BD7709-0359-4E23-BA5D-EC4E10912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B5329A6-0618-4708-A8D6-D0285CD5A0C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99ED43C-295A-4C52-B171-621F838746C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4A8967C-1F69-4DF2-8867-E26F19FBCCC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BFDDE4A-64E1-4124-BC21-AB42646BB0A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573828E-F869-44F5-B626-B7C0141E129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24220F3-A105-4B1A-A513-A37E1094F5F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F92B677-7519-4ABE-99F5-19473696FE2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A0832B1-D5DA-4CAA-9C03-852FC6A826C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ED4EF87-50CA-4C6C-B7A8-F88DDF63726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3B0541A-ACDE-49F5-871C-8ECCB1806F5A}"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4C53ED-9BEC-4319-B3BF-79863CDAF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CF8E0DD-09D0-4A6C-B845-AE0E4DD3F40A}"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0145D59-1BC2-4320-B091-88882F639461}"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0994C45-85FD-4640-A5B1-A9E15991FE59}"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4AAF91F-910B-4364-9105-D79BF554FE1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3969228-C085-4855-9922-7A6D1502A2E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72B4181-448B-437D-93D7-D3E4B0CC83F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3E6BFF7-7250-47F0-A726-A959BBE5337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315740F-CB5F-4157-B636-B69D57242B4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BF9D693-CC0F-4303-A0EE-80C900E1D95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C63480D-A023-4D60-A22C-07DFE1A0EC6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62E19E-4B7A-4530-987D-8B14077B37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EF86B45-F572-45D9-8D6C-C1B897CD5A7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A5179C48-C79A-46DE-AFA5-2AE6E215F168}"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2FCC71AF-B2C2-4DC1-B34E-81749FCFA101}"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C47B33ED-5C5C-40C6-A453-8ACE8CF38307}"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36BBFEC-465F-401F-AA20-135B2A0C7DBF}"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8119763-079C-45F2-AF99-9173FEF226D5}"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BD17C1DF-B153-4253-B011-7598B08C6E2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88C7FDBB-79B3-4E61-8540-EDD7C44B711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81C4D9B-74DF-4F04-9E8E-F322C5F2AEB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1CF6BA0-80B0-4F03-ABE0-F111A5309BC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B4B0C-F1AA-40C6-ABF1-95BBA751CD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7C1C99-497A-41FF-A032-438802CE0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C503D2A-EBF6-4B7D-8436-1CB1FC46DBA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D368EED-0243-4134-A036-0845D94330D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6C6AC93-74A3-4418-964B-30694104921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B27EA73A-5937-402B-860C-FC3A013E92E8}"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4A29C35A-F283-46E8-96C0-1C3F29FC91C7}"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45F0EBA3-681B-4EAA-B9F3-6099C3B02BA0}"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0E285433-FD6A-486B-B452-77ED8750546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301E34B4-A6C7-4858-BBD5-E6820BC5032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1FEAAB6E-C5C2-4977-BE79-E38CF5392A7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C1B0D353-A0F3-445A-8E23-A4B467831BE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1AE027-1FFE-42C4-B75F-B5C8B2EA6C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58AFA63-D236-4BA4-9630-B96CADF4BBB5}"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DB8986B-A7C8-403B-81A9-EF38F33A142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E8A200B-A2D4-4B43-A3A1-4EBB3C06746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BB9B226-6AE8-424A-852F-F3DD91900B2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E45D9BCA-23DB-428A-BF37-A6754E66D5B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750C24E6-FFD0-46D2-BE5E-6193CB6435B5}"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DD9C2849-B5FD-474D-BA60-94DFD7A864D0}"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01A9D5FA-3116-4E36-B89B-B1C6181E9476}"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571C983-A2C5-4CFA-96FE-D65F0FBE6504}"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8148818B-6132-499B-BEC7-D656B55B961E}"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F6DC69-12AF-4B98-8CDA-60328761B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48701B5-5495-4C99-983A-BCA1AECEBB7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3FD7E44B-0579-4A21-A2B6-C2CDD2AD5800}"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B939EB00-4625-4897-9B4B-12DF920973C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9B949BC-D9DC-414A-B6E9-72C9EEA244B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68D55C8-3707-49E2-8067-C44C55459AEA}"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7678310-F85B-436A-B086-FAE8D889A574}"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7F4933B4-6D5F-4305-9BBA-8900BC1F7C13}"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6F8C3DEA-F87E-4DBC-BDEB-39962CE7185F}"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D7C2EDCF-A054-4014-8CEC-9990A7017DB0}"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7D3F2D76-FFAB-4F8E-BC6F-2EDA3F7EC304}"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2B3B53F-656B-4534-A902-3195811E252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8019C76-5247-49F8-8819-0522E6FD7411}"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4CCF44A9-0554-48A2-9900-5643924FF332}"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1A39C27E-72A5-42F4-B675-5D52B25953E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82EC4B5-4468-4E49-8FBB-80E8798D352C}"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C67DD686-65E8-4519-A26E-3F5C3C51A26A}"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382DEDC-A5BB-4335-8641-02034F69652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8E6AC0C-5705-4619-ADC5-FE4CF69BDD3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F7EFD8C-8EDF-42F5-A7B7-5609047E062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AFD2B6CD-F6E6-43CA-B720-A3F8B45C56D8}"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1D7D889D-CCCA-41A0-A249-7190DCD1581A}"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02C08D-5A85-4E0F-BAC4-7E063ECA534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76FE49DE-35F0-466C-87B8-5A937F119B09}"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C7C7D689-D8D3-4C11-8921-E27B60FB7659}"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CD2818D-0C18-46A1-9EEA-BAF16EF3D84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5A02040-B2D2-42B1-97F7-0859B85AE3A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2202CD1-69EB-41DC-A952-F415F23E198D}"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A66148B2-6E2F-49D8-BAFE-1A5D53431DE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E013324-DDFA-4256-83E2-0D358E1BDB2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6CEB80D-9D20-4567-B708-E5F74524940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4364D41-AACF-4D79-BA7F-E3E65EDC19F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63C2923-33F5-41C8-BD13-9BD4CA961C7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5223CA8-9AC9-473D-B62E-2A4100969E7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648F2B0C-E069-42C8-B323-172334BE337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9989A94E-2AFE-49D7-B6DD-54CF0E2D8AD5}"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40A9AF76-5BF1-414A-B86B-D7BD6E4B50AD}"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16B5708-22E4-430C-8EB3-1D382F5C9D31}"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120E1ED-DE92-4B39-979D-AE6FCD5A668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91E211C7-3702-4B8B-93E7-5E3DA12A431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2B6D91A-1E7B-4A25-BE61-6C1E5FECAB6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1DD553F-A365-40C9-B43F-8EC937D2D00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EEF38C6-952F-4B1B-A2E0-02D9714D180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DC0E7281-A64A-47E5-A399-FE6325183026}"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AE1883A-6B76-4134-ABF9-B946BFE5253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81330560-4282-4961-8413-D0DF5D1BEE9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90998F76-803C-41A8-8260-6B8566728F5B}"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AFCB999-D430-4D9D-AAEC-0EA9E349A445}"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AF87CD38-D871-42C9-8D87-E58E7F5E8502}"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7EC0F3C-1B09-4140-96B0-08D4150F8F81}"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3B9BD2E-0451-4DDD-A2B3-473F44C82E9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099D7F9-9A60-4E5E-9482-ECB22A5AB50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EF4494F-5298-4EE8-9F5C-A3B3E4F5831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D1348DB-A707-46BA-A6F1-4A461FC85C1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0317175-A7C5-44F5-A89A-B1E781863B7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8DC45DB-4C2B-4F9A-B424-2D830CB5836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62F1E2B-11F7-4B16-BF40-F2C145A69DB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551A181-0CF0-4EC7-8773-13281476CAF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5D4A005C-E6EA-401E-ADAC-3C1307DF3BE8}"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E1855C5C-3707-4772-B0F2-512DE0864375}"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063EC911-ECDD-4647-90EC-270FB87AF0F3}"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7DB1EBB-45B7-467E-80D4-41A8C3E6DBA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8707EEE-2795-4E6C-8199-F9F0A492B9BD}"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9B7D00D-CAF2-4A71-9541-7C64E5A39940}"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92558B5F-44A4-45E7-B37F-BAEEDF5F7E76}"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7E70DC8-2A10-4115-8615-2C62A731B460}"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7923F472-1E1F-42A2-930F-45A62F8D272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EAB7FAF6-46AF-44C9-8C7B-AA19617AC334}"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E50BA430-0FC7-4579-8ACC-FF2FC634557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F4E3CEF6-ADA6-4EAA-A292-CF0EB94E9C1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51F9E34B-6EF4-4CF2-AA83-36E3D85A31F1}"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CB882F78-F52A-4546-A46F-830F6CF4E70B}"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163B9-8F9B-47E1-A7F3-AFD07C6FCA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051FE16-BB69-402B-8C16-96CFE56D5BE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C8E4530-6D4C-47E7-9FCE-04A2FF6909E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97D4D98-39A7-49B6-AAFF-6C4E2E3E8F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578C3-67D1-4470-9FBE-5AE8E2FB8C8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CB5405A-2E70-46A1-B4EF-D52074983C6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3DEBE262-E331-442C-B6F3-E20BB0A92B9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1DC8FD89-25B8-46E3-ADE8-08FD74768BC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3303BDF-3053-477B-9C05-E5295DFB76C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7978E50-116F-47C0-B15C-897F3D98E7F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2197631-4B21-4619-8804-9EA917F7496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E07F037-DB61-4998-A80C-683CB35021C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B7A0297-D639-413B-9E4F-A051A3E3E6B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4BA1476F-27F1-4E87-8676-08D7EB09514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CEFA74-F763-4787-825F-50DC4795BE7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4F5AF8-23F4-49EB-B04E-731B2D37B9B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387F83-B3F2-4133-A780-C06E0050B4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510100-C0CB-445E-A793-0BD77153F3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DE73CA-7E8B-40E6-A514-715417AB91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0598E9-EEE3-41E3-B8CC-EAB96BEB2F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A73903-6CCB-41E0-A572-84CE8BECA0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1249D9-8816-47DA-B8F4-F5B841223E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C48409-E992-4276-8DE6-5AF626A1E3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1BE554-6BC0-4CA9-B03B-1645E65783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C1AA73-8753-46A9-84D2-D30F90495D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58F3ED-A4E4-4F60-BED0-2222871A01E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7F5CDE5-F8AC-4244-A2D0-8C81C3236F8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FF1F18-722E-47D0-8021-5F89000373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BBCE882-F753-4817-B26C-43FC905FD2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4170DE-830B-4271-8B3C-89F68C477C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14847F-8C72-4792-B78A-3DBCE246E3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F75120-61F4-4746-BF7E-A35225FACA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BDEDC5-62C0-470A-AC3A-2F9AFACA9B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D90C56-BAF3-48B3-B24A-24139A1A47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0B27B9-7EA5-4942-B1A9-79E9F07A5D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7AEF33-33EE-47C0-910D-BDEA824B9A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D640EF-69A0-4C24-8E71-771C1B9151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CEFEF-2720-4D0E-86D4-F9CAD0E24C0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4BDC34-5B4E-4801-A674-A739EBF66C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7180B9A-EDA7-498F-A75C-BA19093D37E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7D9EF19-2723-43AF-9836-818AD8647A4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539E8D2-380E-4FF0-97BC-6A94C63121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47428F6-B30C-4FA7-BD74-EC65E8F839A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72046DE-6727-457B-9A53-6F41FA54CE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A0CFB6F-3DEE-45FF-8C67-E3A45ACF39C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D9E36C3-E603-48D2-B444-922C084C863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1B48AE-1D22-4056-B13C-D812C6F9C10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554AAA0-C673-4E87-8DB3-0611D9BCA9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98548-2EAE-4762-ADE2-10D6EB6435C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A33D84A-E030-4170-91FD-46DB52397F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3960BD-4893-479A-AC39-A79E6D6499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4B44268-180C-414E-B44B-6F18077B90D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04B5B9B-A1A4-4C9B-84F5-90B9A4E6C09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2E11775-947A-4918-B2C4-EF88619A83C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3B1CD5C-FD1A-4C1B-AEC0-358A07B4D3D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832FB7C-930B-4A72-B5A8-AFAB04AF898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1752EBC-7B1B-45A1-B8AF-38A29862CE3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4267390-F376-4838-BACC-1D74AB8D9C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1A9DAB7-683C-4186-A356-DCD8EE5448B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335E3-10A8-444D-867C-C65E9180DE1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0777CA9-12B0-40D7-98AE-EA7BD80993E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0F98774-C405-4C06-AD28-667C18E4B8D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B748D0-2C90-4A32-8F26-6A9ACE2076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9FB650-8702-4C01-8D9D-F560D55488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837DBAA-5471-4CDA-8936-0E15429A9CB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13A64FF-9B5E-48E4-9D23-B2DBB1BB7AD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AF4DE10-376B-428D-9AF5-9B72436D89C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AB33CA0-6941-4D44-9177-54C5570CF55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DC8DD37-3825-437E-AF6F-B7A75A7E4FC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9120DF-270A-4245-8E9A-6EC819E193B5}"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7C58-ECDA-49EE-BDBB-7AD70730B7D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B9A5-D5B9-4D13-8BBE-69AD7D1FDCE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9CB0-094B-42A1-9A0A-098F5E81630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47FE-3885-4459-88B3-2371F3D0728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5EA7-CDA0-405D-B766-DB92D0395A0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461C-034A-4766-8CB7-102273919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E748-6D93-485A-B3E4-BF2479DF0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84D4-35AD-4A38-B510-4071B5902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ED07-A19F-4B00-B1DA-7CB1E2C24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B098-75D4-4BB4-A38C-3D39B64E5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FC6D-82AD-4031-9246-D1C27BC7B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EF9B3-6874-4A53-A472-E6B2BE9C8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8C28-847D-4A14-8930-DF195A1A7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FB57-2DB7-4C65-BEF2-58EBA7061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21A6-1F52-4BBF-A266-F2A6A092B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2543-54B6-4C58-B6EC-00DF7FD56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D6AC-C2DA-4D53-8878-E9CAA2C2D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49F2-5EFE-4043-9D9A-C01127F7EDE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209C-D187-419B-8592-E6F8C263EE8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90A4-25FD-42DB-9574-9D572ACA21D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C2EA-A1F1-419D-B711-C384BA00960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40CF-64AB-4965-BDF4-D2D11886047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4336-2398-4090-8E08-22D4035C818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1</a:t>
            </a:r>
            <a:br>
              <a:rPr sz="3400"/>
            </a:br>
            <a:r>
              <a:rPr b="0" lang="en-US" sz="3400" spc="-1" strike="noStrike">
                <a:solidFill>
                  <a:srgbClr val="000000"/>
                </a:solidFill>
                <a:latin typeface="Calibri"/>
              </a:rPr>
              <a:t>Overview of Marketing</a:t>
            </a:r>
            <a:br>
              <a:rPr sz="3400"/>
            </a:br>
            <a:r>
              <a:rPr b="0" lang="en-US" sz="3400" spc="-1" strike="noStrike">
                <a:solidFill>
                  <a:srgbClr val="000000"/>
                </a:solidFill>
                <a:latin typeface="Calibri"/>
              </a:rPr>
              <a:t>Strategy and the</a:t>
            </a:r>
            <a:br>
              <a:rPr sz="3400"/>
            </a:br>
            <a:r>
              <a:rPr b="0" lang="en-US" sz="3400" spc="-1" strike="noStrike">
                <a:solidFill>
                  <a:srgbClr val="000000"/>
                </a:solidFill>
                <a:latin typeface="Calibri"/>
              </a:rPr>
              <a:t>Strategic Marketing</a:t>
            </a:r>
            <a:br>
              <a:rPr sz="3400"/>
            </a:br>
            <a:r>
              <a:rPr b="0" lang="en-US" sz="3400" spc="-1" strike="noStrike">
                <a:solidFill>
                  <a:srgbClr val="000000"/>
                </a:solidFill>
                <a:latin typeface="Calibri"/>
              </a:rPr>
              <a:t>Proces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6" name="Picture 4" descr="cid:3287383400_2177562"/>
          <p:cNvPicPr/>
          <p:nvPr/>
        </p:nvPicPr>
        <p:blipFill>
          <a:blip r:embed="rId1"/>
          <a:stretch/>
        </p:blipFill>
        <p:spPr>
          <a:xfrm>
            <a:off x="533520" y="685800"/>
            <a:ext cx="8118360" cy="2647800"/>
          </a:xfrm>
          <a:prstGeom prst="rect">
            <a:avLst/>
          </a:prstGeom>
          <a:ln w="0">
            <a:noFill/>
          </a:ln>
        </p:spPr>
      </p:pic>
      <p:sp>
        <p:nvSpPr>
          <p:cNvPr id="1027"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28"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a Marketing Strategy?</a:t>
            </a:r>
            <a:endParaRPr b="0" lang="en-US" sz="34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marketing strategy can refer to a process or to its outcom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mprehensive marketing strategy specifies the who, what, when, where, why, and how of the busines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ound strategy must reduce to meeting some specific needs of some specific customers better than the competition within profitable relationship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2417-760B-453D-A45E-DF65C9E8C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hat is a Marketing Strategy?</a:t>
            </a:r>
            <a:endParaRPr b="0" lang="en-US" sz="3400" spc="-1" strike="noStrike">
              <a:solidFill>
                <a:srgbClr val="000000"/>
              </a:solidFill>
              <a:latin typeface="Calibri"/>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A5BE-E45D-4AB1-BB64-2B52C250A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3" name="Freeform 9"/>
          <p:cNvSpPr/>
          <p:nvPr/>
        </p:nvSpPr>
        <p:spPr>
          <a:xfrm>
            <a:off x="1600200" y="2514600"/>
            <a:ext cx="1981080" cy="3505320"/>
          </a:xfrm>
          <a:prstGeom prst="pie">
            <a:avLst/>
          </a:prstGeom>
          <a:solidFill>
            <a:srgbClr val="4f81bd"/>
          </a:solidFill>
          <a:ln w="25560">
            <a:solidFill>
              <a:srgbClr val="ffffff"/>
            </a:solidFill>
            <a:miter/>
          </a:ln>
        </p:spPr>
        <p:style>
          <a:lnRef idx="0"/>
          <a:fillRef idx="0"/>
          <a:effectRef idx="0"/>
          <a:fontRef idx="minor"/>
        </p:style>
        <p:txBody>
          <a:bodyPr lIns="152280" rIns="152640" tIns="700920" bIns="70092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ffffff"/>
                </a:solidFill>
                <a:latin typeface="Calibri"/>
              </a:rPr>
              <a:t>Target Segments</a:t>
            </a:r>
            <a:endParaRPr b="0" lang="en-US" sz="2400" spc="-1" strike="noStrike">
              <a:solidFill>
                <a:srgbClr val="000000"/>
              </a:solidFill>
              <a:latin typeface="Arial"/>
            </a:endParaRPr>
          </a:p>
        </p:txBody>
      </p:sp>
      <p:sp>
        <p:nvSpPr>
          <p:cNvPr id="1004" name="Freeform 10"/>
          <p:cNvSpPr/>
          <p:nvPr/>
        </p:nvSpPr>
        <p:spPr>
          <a:xfrm>
            <a:off x="3724200" y="2514600"/>
            <a:ext cx="1914480" cy="3505320"/>
          </a:xfrm>
          <a:prstGeom prst="pie">
            <a:avLst/>
          </a:prstGeom>
          <a:solidFill>
            <a:srgbClr val="4f81bd"/>
          </a:solidFill>
          <a:ln w="25560">
            <a:solidFill>
              <a:srgbClr val="ffffff"/>
            </a:solidFill>
            <a:miter/>
          </a:ln>
        </p:spPr>
        <p:style>
          <a:lnRef idx="0"/>
          <a:fillRef idx="0"/>
          <a:effectRef idx="0"/>
          <a:fontRef idx="minor"/>
        </p:style>
        <p:txBody>
          <a:bodyPr lIns="152280" rIns="152640" tIns="700920" bIns="70092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ffffff"/>
                </a:solidFill>
                <a:latin typeface="Calibri"/>
              </a:rPr>
              <a:t>Competitive Advantages</a:t>
            </a:r>
            <a:endParaRPr b="0" lang="en-US" sz="2400" spc="-1" strike="noStrike">
              <a:solidFill>
                <a:srgbClr val="000000"/>
              </a:solidFill>
              <a:latin typeface="Arial"/>
            </a:endParaRPr>
          </a:p>
        </p:txBody>
      </p:sp>
      <p:sp>
        <p:nvSpPr>
          <p:cNvPr id="1005" name="Freeform 11"/>
          <p:cNvSpPr/>
          <p:nvPr/>
        </p:nvSpPr>
        <p:spPr>
          <a:xfrm>
            <a:off x="5705640" y="2514600"/>
            <a:ext cx="1990440" cy="3505320"/>
          </a:xfrm>
          <a:prstGeom prst="pie">
            <a:avLst/>
          </a:prstGeom>
          <a:solidFill>
            <a:srgbClr val="4f81bd"/>
          </a:solidFill>
          <a:ln w="25560">
            <a:solidFill>
              <a:srgbClr val="ffffff"/>
            </a:solidFill>
            <a:miter/>
          </a:ln>
        </p:spPr>
        <p:style>
          <a:lnRef idx="0"/>
          <a:fillRef idx="0"/>
          <a:effectRef idx="0"/>
          <a:fontRef idx="minor"/>
        </p:style>
        <p:txBody>
          <a:bodyPr lIns="152280" rIns="152640" tIns="700920" bIns="70092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ffffff"/>
                </a:solidFill>
                <a:latin typeface="Calibri"/>
              </a:rPr>
              <a:t>Singularity</a:t>
            </a:r>
            <a:endParaRPr b="0" lang="en-US" sz="2400" spc="-1" strike="noStrike">
              <a:solidFill>
                <a:srgbClr val="000000"/>
              </a:solidFill>
              <a:latin typeface="Arial"/>
            </a:endParaRPr>
          </a:p>
        </p:txBody>
      </p:sp>
      <p:sp>
        <p:nvSpPr>
          <p:cNvPr id="1006" name=""/>
          <p:cNvSpPr txBox="1"/>
          <p:nvPr/>
        </p:nvSpPr>
        <p:spPr>
          <a:xfrm>
            <a:off x="457200" y="1600200"/>
            <a:ext cx="8229600" cy="457200"/>
          </a:xfrm>
          <a:prstGeom prst="rect">
            <a:avLst/>
          </a:prstGeom>
          <a:noFill/>
          <a:ln w="19080">
            <a:solidFill>
              <a:srgbClr val="b8ca78"/>
            </a:solidFill>
            <a:miter/>
          </a:ln>
        </p:spPr>
        <p:txBody>
          <a:bodyPr anchor="t">
            <a:normAutofit fontScale="92000"/>
          </a:bodyPr>
          <a:p>
            <a:pPr marL="315360" indent="-31536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high-level decisions</a:t>
            </a:r>
            <a:endParaRPr b="0" lang="en-US" sz="2600" spc="-1" strike="noStrike">
              <a:solidFill>
                <a:srgbClr val="000000"/>
              </a:solidFill>
              <a:latin typeface="Calibri"/>
            </a:endParaRPr>
          </a:p>
          <a:p>
            <a:pPr marL="315360" indent="-31536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003"/>
                                        </p:tgtEl>
                                        <p:attrNameLst>
                                          <p:attrName>style.visibility</p:attrName>
                                        </p:attrNameLst>
                                      </p:cBhvr>
                                      <p:to>
                                        <p:strVal val="visible"/>
                                      </p:to>
                                    </p:set>
                                    <p:animEffect filter="wipe(left)" transition="in">
                                      <p:cBhvr additive="repl">
                                        <p:cTn id="21" dur="500"/>
                                        <p:tgtEl>
                                          <p:spTgt spid="100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04"/>
                                        </p:tgtEl>
                                        <p:attrNameLst>
                                          <p:attrName>style.visibility</p:attrName>
                                        </p:attrNameLst>
                                      </p:cBhvr>
                                      <p:to>
                                        <p:strVal val="visible"/>
                                      </p:to>
                                    </p:set>
                                    <p:animEffect filter="wipe(left)" transition="in">
                                      <p:cBhvr additive="repl">
                                        <p:cTn id="26" dur="500"/>
                                        <p:tgtEl>
                                          <p:spTgt spid="100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05"/>
                                        </p:tgtEl>
                                        <p:attrNameLst>
                                          <p:attrName>style.visibility</p:attrName>
                                        </p:attrNameLst>
                                      </p:cBhvr>
                                      <p:to>
                                        <p:strVal val="visible"/>
                                      </p:to>
                                    </p:set>
                                    <p:animEffect filter="wipe(left)" transition="in">
                                      <p:cBhvr additive="repl">
                                        <p:cTn id="31"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Marketing Concept and a Customer Focus</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ssence of the “marketing concept”</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c marketing is the creation and maintenance of a market oriented strategy</a:t>
            </a:r>
            <a:endParaRPr b="0" lang="en-US" sz="2400" spc="-1" strike="noStrike">
              <a:solidFill>
                <a:srgbClr val="000000"/>
              </a:solidFill>
              <a:latin typeface="Calibri"/>
            </a:endParaRPr>
          </a:p>
          <a:p>
            <a:pPr lvl="2" marL="1143000" indent="-228600">
              <a:spcBef>
                <a:spcPts val="550"/>
              </a:spcBef>
              <a:buClr>
                <a:srgbClr val="005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cusing the organization on the customers it serves and the needs it meets</a:t>
            </a:r>
            <a:endParaRPr b="0" lang="en-US" sz="22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ording to the marketing concept, if we take good care of our customer, sales and profits, will follow</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FD26-149B-4A40-A76A-5A5FE23F7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008">
                                            <p:txEl>
                                              <p:pRg st="1" end="1"/>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08">
                                            <p:txEl>
                                              <p:pRg st="2" end="2"/>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0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1-1 - What Is a “Marketing Strategy”?</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496B-D46D-4E86-A497-01D648567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5" descr="jag.PNG"/>
          <p:cNvPicPr/>
          <p:nvPr/>
        </p:nvPicPr>
        <p:blipFill>
          <a:blip r:embed="rId1"/>
          <a:stretch/>
        </p:blipFill>
        <p:spPr>
          <a:xfrm>
            <a:off x="762120" y="1600200"/>
            <a:ext cx="7696080" cy="470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1-1 - Generic Strategies—Competitive Advantage and Competitive Scope</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3195-46E4-4E5D-9669-4CAE424A7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852369.PNG"/>
          <p:cNvPicPr/>
          <p:nvPr/>
        </p:nvPicPr>
        <p:blipFill>
          <a:blip r:embed="rId1"/>
          <a:stretch/>
        </p:blipFill>
        <p:spPr>
          <a:xfrm>
            <a:off x="990720" y="1676520"/>
            <a:ext cx="7238880" cy="435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1-2 - Value Frontier</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7A66-A88D-4359-B6CF-B23CFD870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456.PNG"/>
          <p:cNvPicPr/>
          <p:nvPr/>
        </p:nvPicPr>
        <p:blipFill>
          <a:blip r:embed="rId1"/>
          <a:stretch/>
        </p:blipFill>
        <p:spPr>
          <a:xfrm>
            <a:off x="2055960" y="1600200"/>
            <a:ext cx="4916520" cy="486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1-3 - Product-Market Growth Strategies</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76FE-A31F-4EDD-A3A9-21718D3757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23456.PNG"/>
          <p:cNvPicPr/>
          <p:nvPr/>
        </p:nvPicPr>
        <p:blipFill>
          <a:blip r:embed="rId1"/>
          <a:stretch/>
        </p:blipFill>
        <p:spPr>
          <a:xfrm>
            <a:off x="2438280" y="1752480"/>
            <a:ext cx="428940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1-4 - The Strategic Marketing Analysis and Planning Process</a:t>
            </a:r>
            <a:endParaRPr b="0" lang="en-US" sz="3400" spc="-1" strike="noStrike">
              <a:solidFill>
                <a:srgbClr val="000000"/>
              </a:solidFill>
              <a:latin typeface="Calibri"/>
            </a:endParaRPr>
          </a:p>
        </p:txBody>
      </p:sp>
      <p:sp>
        <p:nvSpPr>
          <p:cNvPr id="10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94A9-0E53-437A-A0A5-EA275A848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4" name="Picture 4" descr="iop.PNG"/>
          <p:cNvPicPr/>
          <p:nvPr/>
        </p:nvPicPr>
        <p:blipFill>
          <a:blip r:embed="rId1"/>
          <a:stretch/>
        </p:blipFill>
        <p:spPr>
          <a:xfrm>
            <a:off x="1676520" y="1523880"/>
            <a:ext cx="5905440" cy="49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ANSR 5</cp:lastModifiedBy>
  <dcterms:modified xsi:type="dcterms:W3CDTF">2011-04-11T13:40:45Z</dcterms:modified>
  <cp:revision>172</cp:revision>
  <dc:subject/>
  <dc:title>Slide 1</dc:title>
</cp:coreProperties>
</file>