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4040-D212-491F-8268-21EDE1007C2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AE20-503D-4F75-BBC6-BDF6343A2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etitive advantages or “bases of competition” can be broadly categorized as either some form of differentiation or as cost leadersh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etitive scope includes segment scope and the extent to which value-creating activities are performed by the firm itself versus being outsour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74C5-9EBB-4174-9DC4-2524A6EC2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ue” is defined as what the customer gets (performance or quality) adjusted for what the customer gives (pr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ue = Relative Performance/Relative Pr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alue-map framework plots performance and price as the axes of the two-dimensional spa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are customer perceptions of performance and pr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ce and performance are perceived as high or low relative to other offerings in the marketpla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are willing to pay more for higher performance (better quality) but the market will punish firms charging more or offering less for the same pr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ee potentially effective strategi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mium</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customer-valu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nom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unsustainable strategy: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erior customer valu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BD2C-D259-44DE-93C6-E05DC7459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market growth framework suggests the concept of “adjacencies” and core competencies—the idea that strategic growth is best found by identifying new markets or new products for which the firm can parlay existing core strengths into grow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19C9-B3AA-4C7E-9DA9-3BB3E71F9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l illustrated above should become second nature to successful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essential stages to this proces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ituation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trategy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plementation (Positioning an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Documentation, assessment, and adjus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8CD4-A36F-425E-AB8C-1C03847BB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1EB36-B2DF-4156-94E6-70A33C1BE1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FBB36-6FA3-438D-9E63-92681D77CDB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1710485-263D-4BF8-A384-85649CB37C9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2CE8F6E-969F-4D22-BAC4-C1BC3F65F99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724EFF-4AC5-48DB-A7BB-9EA88DF525A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5BFCD79-E1F7-4E5A-A6BC-AF44C3FAB4E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FEEB2C-98F0-4B53-B170-3D12C24621D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5F65E3B-F812-495A-95B7-4F4E391025B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759DDDC-5C01-4335-9D41-59D24BE215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BC0EAC2-54B5-4B3A-83E3-09972A0543B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F76C7FC-B39C-45A6-8401-72D52E14A4D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5B2416C-445B-4369-B3B5-72A2C11A4F6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702984-750C-471A-BF80-F5D248545C3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29EAEF7-1FEB-480C-9142-F9E965EF6E4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DB8792A-682F-4FC2-B244-16552BD2FFD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CD38BA2-6587-402E-87E3-269B58D5D4E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9A2FD57-FB25-4E14-8BE2-E9DBD0CF20A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00EC73B-3ED7-4D07-9D1B-1256FC5C66B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186522D-4EF0-431D-9D76-E9C1A1D0BBB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E05F304-7200-41A7-8419-21C7C467FC9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DCEE30-D59A-43FF-B0E9-061BF154710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28876A4-E136-4AC0-9718-83614C5E4F2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A597118-5532-483C-93F5-84B9BECD591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F59E04-EE40-41E8-878D-379E4FB9AD1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BAA1758-E232-46A4-984C-1636E47CA1F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8021626-A474-449D-82AD-5474B63DAA1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95DD9D2-F55C-43F1-89DD-124A623F6F2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7705E5C-A492-454E-B0DB-F02DAEB5D16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D474FE0-C950-4480-9515-6ADBE80ACE2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0CD3363-2DFF-4BFF-8018-25C14C9591A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C46D1C8-FEFF-4DCB-9EB3-0436AFE9973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CD8485-DC81-4814-875A-AD8319C3F56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71F8D57-9F4B-4FB8-B6B0-831AE2B33B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1239AA0-F7A1-4649-94E9-469C6D97D01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7D2E286-093C-4BCB-942F-4EC7669E7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08D5C4A-FFB6-4F30-879C-8BA8F1F80FF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C7DCCCA-909C-4A77-BC07-8588C33586F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562C9F6-2AA2-421C-9091-91BB6634A92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84C251A-70C3-4042-B9C5-0152D757136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100CDEF-82CB-47D8-8966-93077668E2D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B44F164-6F84-4E4F-A19F-02DEACCF7C8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FA75921-7EE2-4CAA-91F3-89D5AD0FAFA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DCD05AF-BF79-4DCC-866E-38C2675D616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6371905-06BB-4803-A22F-DC24D46384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8FEA2BC-4802-40B8-AAA4-A8266C582A5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730FA2-862F-4A13-9780-494B59ADF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346F373-EEA1-4843-933F-8475391C0DA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CFA926E-69D1-442C-802B-4B3E5411AB6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F1C20DD-BAE7-4781-8B9D-516F96A5CBF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576ADF4-C93D-4DCE-B118-960114C148A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D6F41EF-41AC-4BE2-996F-71B5B086AEC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658B993-C9D0-4943-B3A9-51CC6141D31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9DEF45B-F960-4F4E-BDFA-158D1CDE0FC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0B6F7CA-8DAD-4626-9042-E96F45E52E4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5293C88-E35E-4958-8B4E-8A6A2839538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6CF3989-03AD-46B9-9630-EDFE7B41376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B53D0A-3AC1-483F-B9B1-ABAC8C5BA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4466D7A-1164-4925-9BA0-F56770A8621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C90AEB7-EC66-4826-AC8E-37A2F689957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4FC0DF9-9B1C-401C-8454-7A1B3BA7904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E75323C-2E5A-48AA-9B01-579B5374546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4274645-578A-44BB-8B1D-C835B5B1238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F9C8999-2D79-41AC-B166-94FC20D14E1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11D0FF3-AC5A-4C85-9E58-4C532D2B88C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12DE5A6-EF5C-43D5-8932-6E087C1A52F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4FF455A-7301-4B06-AE2B-85E80E3D080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48E67EF-1FD3-4CA4-8C1F-2F70AD9171D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E98E28-9261-4503-B660-1972F26A8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23AEE8F-F5EB-4D75-967E-BDE6C834F96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D22A615-9D67-4C31-8607-A538861047A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CB1A471-019B-4B95-8053-E34766D2268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CF58DD7-F06C-4553-80B0-88637CB383C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2F798E7-81C2-4FC5-8B3F-807391000ED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746BD94-CA3F-4B3C-8596-D7E10A613D8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363C4F8-2310-4FEB-AD18-329851CD070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876521F-CB8C-48AC-9CC9-D01CD5C8631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7533AA4-4567-46D6-9949-CAA93DC7046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B10B648-AF7E-479C-A13E-8EB7CA92ED5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1831DC-2AED-437E-9F23-1A9B64EB4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BD809A4-9529-4114-8C04-BEB4D3E54D8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5CD63EB-F538-42C2-B1AE-BE70A08D9F9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695C0BB-0F2E-4C0B-A3C8-ED9090A0575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839CA56-1687-44B1-AE9F-924B0B1CD66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F3BFC60-9EB7-40FB-AEBA-9493D01257F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7AE8804-D9B1-440A-BFB7-3480259C813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87A578B-7E48-4083-88EB-1F7241FE79E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538FE70-D53A-4AFD-8D9A-78B869ADB88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B8576B9-230B-4820-976A-41C93FAA01B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CE2629CE-1641-4B31-B9E1-C062A342E1A6}"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DB9BE2-7396-43D4-B0B2-BDFD14CEC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3B5A56A-DD69-4815-8B36-997F5FA2404B}"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CFF8555-7969-4332-81F5-04A3B4126AFE}"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5E31742-ABEA-46A2-A417-B4E02F50F32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7159449-FE09-4B81-9BFF-10931AF2BF4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D0C87F7-D1FD-4A3A-B784-25A3D348795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6DC6892-3917-4B3A-9001-9381443E382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B56C760-6AB9-425C-9435-F06E7703BD3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63CA097-C21F-42C4-8C20-C8A589A8811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69FC193-89C2-435B-80E9-7D3B7EABBCA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EA55479-1519-4F57-830F-6AABFAC0E9C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A5EDEF-E164-4D92-9303-F0B0C4BA1C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6D82FE1-C0EC-4595-AACA-0ED959FC468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B49AC220-1481-43B0-B0F5-D4F313A3E1A7}"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CF1A6AE-57E5-428A-A502-D1A738D78C1F}"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680672C6-030D-46F3-ACCA-9FC1D0C3D4D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A28C672-D878-44F3-9483-B17A5090F00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6E6CF56-92CD-421F-98F8-856B639C39D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BCFF18D-2A22-4520-9221-BAB5C85C5AE1}"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6426A03-EDB2-4EC1-8150-DE3D6832DE1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E132C3E-68B8-4AA4-AF15-B349DD7234A0}"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5DDE4D7-41BD-4434-8E68-54692B77A17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5648-8840-406A-8265-322A3B7475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621092-0FF2-4AE5-8EB1-9A7E125AC9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F41B124-3E8A-4331-B649-5F1B8C5D7BF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0D913EC-BBB6-42AF-B726-8EC8D5E0352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101F266-14A8-4D20-9DBC-BFE51E425B6F}"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00247E87-7BAE-4FFD-BF60-5CB00A020B6D}"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0017F58F-81DE-49E0-96DD-46E3642764E5}"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01B7A6AD-3B4A-420E-A4CD-BA560D293560}"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9C63AC5F-331B-41D7-98A2-6A2BCCF73F50}"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FB0FF76-946C-4966-A94D-3DEDBC8D4280}"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6BDA397-955F-4049-9F34-2C93FF6A1C8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B660E28-1E0A-4DE6-9541-B90565AF3E6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2F6F52-D43F-4A5B-9DAC-7C8F2F6B3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058FE8E8-383F-4646-8DC6-FCB6F412BB05}"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9CCB1C6-DC49-4F96-A368-D122F210D67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F1C4D79-E90E-4B05-A7B8-3120357009A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6E721267-3563-411C-88E1-79CAD5032AE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3228244-68D3-4F63-BBAD-57D7720022A6}"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6986A91E-9761-4723-95C8-19AA856D4DC8}"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8EA65603-BDFA-4A08-91CA-D6AC8E49185F}"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06D8355D-191A-41E2-9C75-D2E36CC75B88}"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4E20DE16-EFBD-462D-A6BE-C3493158972E}"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EAB0019A-3486-49FC-89CF-BDACC26EA07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DBBD03-AA02-4913-A3A0-6489D8B03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EFADB14-1A1B-4B87-AEF3-77D8922E5989}"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BD7B036-2C99-429C-BC11-25DFEC990CD7}"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5C25A9A4-D4FA-4F48-BA79-3426E80E273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7F86A97-D289-4E32-8AB4-B752EC56CE7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D028B4E-C35E-4124-AB0E-88165DEAA61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75E14F3-5EAC-49C4-BF67-325A1D5B880E}"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459153D0-16AA-4B61-90EA-6A0413BE6893}"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F44EB958-BCD0-4A6E-B7FE-4ACABA896050}"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2DD15A43-3741-4B87-9E84-F317D43BE24D}"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5FE57EB1-C449-4C3B-8B99-E31C0222E301}"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0B89041-31FC-4DBD-9575-0F536CA5B40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9F15BA81-26C2-4E06-82BC-343420357C12}"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4ADB61BE-02CA-436F-AAAC-7A4F7FB67DB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0EAD8AF-4138-499C-84C6-DE1DDCFB19E5}"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4D188363-705E-42A7-9F6E-346F87D8866B}"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BED2168-C06F-40BA-9809-C03182F0C18E}"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4E59D9D-1B9B-4E38-80D9-9E8A8624282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0AD02B9-665C-4BB9-B9B0-D10DD0364F6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899D016-C29B-45C6-AE22-F299879382FD}"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13787A6-5702-4F80-AD59-90633B53A609}"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107F200F-FCED-48A3-9DFE-D5846BD0F601}"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A32D5D5-A270-4A07-ACAE-D4726F2C77C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7741B783-F68D-4FF3-A17E-561E02D36F04}"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87F0E28C-C993-473D-8580-FB4186E409A6}"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87B00D5-8963-40C0-B7B9-D6B0A779978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D497DAB-3908-4974-983B-2FBBC706A73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626B7F0-EC35-43B3-9BCA-0315D9C92A9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2324773-23B4-45EC-B5A3-FFF37AF2F176}"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FB276625-907A-4FB7-8392-4F61ECAAD76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194C756-B921-492A-9F94-E2067989726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6843B74-EF36-4ADC-AB9D-C576156AE0D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713FB5A-55F7-4D3F-878B-906A96258AF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73FF85E3-86D1-4D38-906A-F7E77A4B59B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4D1FBD62-6030-4C61-A59A-0264A63A5350}"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0E43A518-B734-4F1C-814A-9E8A673C2068}"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3FA3D86B-EB8D-4A11-9A4E-258BE0A511F4}"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A7A0BCC9-8B67-49E4-B5B5-5F1BB0C9670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AB3D6A69-6583-4E96-90F9-E74D56A8FE48}"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E700BCB5-6358-4CCA-AB0C-9C16BF09BCDF}"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5110EF4-7944-492F-AF19-2CB24281DD0C}"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E0200F7-BF91-4606-AC06-5BF9203914B6}"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D1E4D7E-9F98-4274-BEBD-97E7C9D0D621}"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98E1D3D-D51B-4AE3-99D5-DB601956F1F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3E2DC17-6D58-44DD-B22C-341AD38C003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9503A4C6-3D02-49C0-AED9-F64A75E4D1A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CEE0FA2E-05A4-474F-8CFA-6A44F6DD678F}"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36E4F5D7-0B57-4940-8B21-9E582B538440}"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1B8577ED-7F9F-4F86-A680-B163D78BBF3D}"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214E6DC-2DA6-4344-8658-722995AD371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C0169C3-3E97-4565-9134-0546C8182C37}"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DCC531A1-AB45-454C-AF48-6B1FD661A64B}"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D9A28FB-779D-4301-9C2D-1564DEFA613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49E45AE-A05B-4D62-9A6C-FE11AB769546}"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0490641-3A94-49FA-99CF-11F4CA14597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DFFA467-6DC4-4F2E-95CB-5F3D3DD0668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3E4A480-CEA4-4543-BF8A-8BBCCFCF2BE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A135530-F7E5-4F33-9329-B1B28FB8C9F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B9B7F0B2-F32C-4DBA-8E82-8DAD5E16EF4B}"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81A12C3F-38C7-46C1-B6C0-0937FD3D38AB}"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4234D988-BE60-482F-AA1C-02AB45D9F7C7}"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C394F44-1769-4141-8B1C-FDE52D26AC4E}"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03CDEDB7-26CA-432F-99E8-071D438B1741}"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E9D3C52-F4F7-4D8D-8A25-B159577FC11D}"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7BB5263-6342-476B-8D03-A8E56C1A719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F26F9DB-1FE2-45A4-9CE5-B419EEF9A88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EC75DBC8-0B3D-4389-BEF5-70D1F7946D00}"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4D039D98-8485-4A3F-96BC-1B180FBEE9C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D3D68AD6-C720-4588-B283-660FDAD0EAA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8356DF8C-81D3-437D-87C2-24FB3B0C889D}"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F415B609-CC38-4DC8-97C2-A90569065E37}"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E067E80E-822C-445B-BC1F-2E235F671A3D}"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06A7B-02AE-4971-8B6D-5CD8F4E18C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968ED1D-238A-45BC-8307-0436B88E212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78E1FFFD-21ED-4107-A941-05E9650703F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76C36204-A9F2-4AD4-B50F-527AD6261C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42E0A7-DB14-4139-8882-980036F892A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7D245AF1-9924-496D-98FF-ECD49A7E648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E0773190-2B81-40A6-B725-E618FB1EE57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91F03C9-C170-43ED-A904-BB60F2F016B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2DD656A-8BF6-422D-9BFE-CDC969E668A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0D99D6D-5893-4654-BE1C-8BFACBC0B4D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12C52B1-45CD-46CF-9768-9C884344E31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A6242415-42A7-455A-88C1-C62324E90D2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13B314F-95B6-4059-924F-EBEF2BE308F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F57DBAEA-DD61-4E1C-971E-051D90CF1BC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898ED1A-6AB6-4D7A-8F8C-995237760C6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C5D968-D38D-4FD2-A74B-0B330D9E66D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593DD2-5D96-41FE-9928-F1B5359247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8E4D2D-79F5-4EF5-B4BA-A7939898EC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4CD48E-3B86-4FC1-858B-E769E26017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56C628-E405-4AAE-859F-81D5406C375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347290-A6F7-40AC-BBBA-02A8DCA0DA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2E655C-6DE4-4D0C-9D15-D38A9095FE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343C2F-C5DC-45B8-80B5-6BBF95DCCA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9E0819-5D58-456F-955A-C16076D948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D5854B-AB9A-438B-969D-B8FADCEDCE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37698E-E65B-41E4-A82D-88AECEC9552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BF0100A-36DE-42F0-AC87-3277E8B8157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4650A99-B953-4BE0-B29D-3BA6CABDCF7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6F50F28-7E6F-41D9-B027-366E9A3ED7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954F78-372B-4572-BEAE-E5B8B3A269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39BA8A-7D9A-48E5-B348-1A6BC8E7AD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F4CCC4-5BF7-44B0-B30F-6C27B49F7C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D53AE2-C38A-4AD3-81A0-86D8A12D29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0AADEA-5EA9-4D6A-AE9B-495552CF59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34FB09-4D0B-42DC-BCD3-FBA5C758D9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5A0E2C-A63A-4516-B966-A905B01C94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C3E3A1-DCA6-483B-97B0-C3E88A6016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49EB1-F213-48B0-BBA6-4BDFE7BA73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0D9D23-CF75-4AD6-820D-52B591AB7D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2ABE3B-2ECA-40D6-8211-DA29C69E0C6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7C6CE24-522C-479B-AFB6-221DFB3EB1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8CB1873-4506-4E31-B902-B6328744B57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8A10AB9-5B46-4D2F-90CF-94A93CAC14D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D48615-CE01-468F-9020-B5CFE0CD0C6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87098A8-D7F9-4BD8-916A-6A9C31929EA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A25414F-3EC4-45E4-8021-A2F4E93B2D6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92C6915-1C33-4808-B5D7-1F17BA1958F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CF462B-0986-4667-82CB-E21672D1D2A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9EB69-ABA9-4DCD-BBE1-95E8EC57CDA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16DDF0-EE21-430E-9265-AA957BE3ED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AD3661-1BFF-4A1C-A402-7501144368D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A81295-9A8D-49B3-BBE9-74B0E484C7C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0D7E451-E0E4-4DF0-A0F6-420D29E4721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DD616A6-F727-48C4-8228-1EAAED00F41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12593A3-4DD3-4F00-82A1-6C6BADD8343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982B366-1174-4575-98B3-28F44EAA2CB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FAAF6E5-49E4-4AAD-95A7-729E94669C8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A65B79C-831F-4CE8-8B13-3FB89E377C1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7B0D1E5-4CF1-48EA-825E-4138C3ADB7C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14DEC-5001-496A-B78E-F0088E1E25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861AFD8-806C-4BF2-8F23-9DAA64DD156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980461-479B-4732-A2E7-519ABD5911B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C3B705A-9BE5-4BC7-8210-4BA1855C657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89FBE6A-9FE7-4925-A1B5-629FA73759E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AC79DA6-9594-444F-ABD6-3F0E58F18C6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9FCFB37-5A71-4E95-9E25-467FF0352F2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DDDAA10-CBB9-40DC-8487-26D63989ED3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956B45C-FE14-41DA-B17F-D4A660D7C27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C92655C-11FC-48FC-A7F0-824F7CE565A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83177C9-EB00-415C-B00B-5683A2B820FF}"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9D19-1361-40AE-8165-1DD5AEDA904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5E21-53E2-4E4B-A5C6-CC932B3A06F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3E35-DB50-4519-98F7-6BBEF4850CF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3D96-3F30-4330-8ECE-7D4E97155ED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84DD-12CD-4646-AD59-E1915423941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8D87-5472-4BB1-8B81-032CCB63A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E1D9-F13C-4E31-A8D1-C80C1F47F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CFFD-E8EF-4DAB-B42D-F7C9316E2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6FEA-01D0-4095-A44D-0EA66ADD3E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FA30-8D52-41B1-8390-FE84695564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F8E0-09A4-40E0-9988-A9BD322027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424D-DF75-4FD0-A2BE-8CD00EA79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D006-9A81-47E2-B3FD-AF7CAFD902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081B-82CE-4473-8172-E44D49B20A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4257-6902-4889-9E36-348F17201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E70B-2477-45F3-90F7-7B51DCE6D8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AA26-7814-44D7-BE70-1E2F46B1B9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0B64-8271-45CB-B317-7D21CB7A5E0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B9FC-DA58-4EE6-83AB-179B9237D3C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CAF1-AD18-4E54-B433-F8720FD75FA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B38B-664E-4874-A7C4-06D2FB22A52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1246-3AD8-4A70-B688-C607F4175D6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B47F-C05B-4D8D-96DA-6558C8291CA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1</a:t>
            </a:r>
            <a:br>
              <a:rPr sz="3400"/>
            </a:br>
            <a:r>
              <a:rPr b="0" lang="en-US" sz="3400" spc="-1" strike="noStrike">
                <a:solidFill>
                  <a:srgbClr val="000000"/>
                </a:solidFill>
                <a:latin typeface="Calibri"/>
              </a:rPr>
              <a:t>Overview of Marketing</a:t>
            </a:r>
            <a:br>
              <a:rPr sz="3400"/>
            </a:br>
            <a:r>
              <a:rPr b="0" lang="en-US" sz="3400" spc="-1" strike="noStrike">
                <a:solidFill>
                  <a:srgbClr val="000000"/>
                </a:solidFill>
                <a:latin typeface="Calibri"/>
              </a:rPr>
              <a:t>Strategy and the</a:t>
            </a:r>
            <a:br>
              <a:rPr sz="3400"/>
            </a:br>
            <a:r>
              <a:rPr b="0" lang="en-US" sz="3400" spc="-1" strike="noStrike">
                <a:solidFill>
                  <a:srgbClr val="000000"/>
                </a:solidFill>
                <a:latin typeface="Calibri"/>
              </a:rPr>
              <a:t>Strategic Marketing</a:t>
            </a:r>
            <a:br>
              <a:rPr sz="3400"/>
            </a:br>
            <a:r>
              <a:rPr b="0" lang="en-US" sz="3400" spc="-1" strike="noStrike">
                <a:solidFill>
                  <a:srgbClr val="000000"/>
                </a:solidFill>
                <a:latin typeface="Calibri"/>
              </a:rPr>
              <a:t>Proces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6" name="Picture 4" descr="cid:3287383400_2177562"/>
          <p:cNvPicPr/>
          <p:nvPr/>
        </p:nvPicPr>
        <p:blipFill>
          <a:blip r:embed="rId1"/>
          <a:stretch/>
        </p:blipFill>
        <p:spPr>
          <a:xfrm>
            <a:off x="533520" y="685800"/>
            <a:ext cx="8118360" cy="2647800"/>
          </a:xfrm>
          <a:prstGeom prst="rect">
            <a:avLst/>
          </a:prstGeom>
          <a:ln w="0">
            <a:noFill/>
          </a:ln>
        </p:spPr>
      </p:pic>
      <p:sp>
        <p:nvSpPr>
          <p:cNvPr id="1027"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28"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a Marketing Strategy?</a:t>
            </a:r>
            <a:endParaRPr b="0" lang="en-US" sz="34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marketing strategy can refer to a process or to its outcom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mprehensive marketing strategy specifies the who, what, when, where, why, and how of the busines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ound strategy must reduce to meeting some specific needs of some specific customers better than the competition within profitable relationship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28CE-72B8-4E9C-977E-89AF25906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a Marketing Strategy?</a:t>
            </a:r>
            <a:endParaRPr b="0" lang="en-US" sz="3400" spc="-1" strike="noStrike">
              <a:solidFill>
                <a:srgbClr val="000000"/>
              </a:solidFill>
              <a:latin typeface="Calibri"/>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27FC-5D9C-4A51-8A41-A7F5E8686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3" name="Freeform 9"/>
          <p:cNvSpPr/>
          <p:nvPr/>
        </p:nvSpPr>
        <p:spPr>
          <a:xfrm>
            <a:off x="1600200" y="2514600"/>
            <a:ext cx="1981080" cy="3505320"/>
          </a:xfrm>
          <a:prstGeom prst="pie">
            <a:avLst/>
          </a:prstGeom>
          <a:solidFill>
            <a:srgbClr val="4f81bd"/>
          </a:solidFill>
          <a:ln w="25560">
            <a:solidFill>
              <a:srgbClr val="ffffff"/>
            </a:solidFill>
            <a:miter/>
          </a:ln>
        </p:spPr>
        <p:style>
          <a:lnRef idx="0"/>
          <a:fillRef idx="0"/>
          <a:effectRef idx="0"/>
          <a:fontRef idx="minor"/>
        </p:style>
        <p:txBody>
          <a:bodyPr lIns="152280" rIns="152640" tIns="700920" bIns="70092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ffffff"/>
                </a:solidFill>
                <a:latin typeface="Calibri"/>
              </a:rPr>
              <a:t>Target Segments</a:t>
            </a:r>
            <a:endParaRPr b="0" lang="en-US" sz="2400" spc="-1" strike="noStrike">
              <a:solidFill>
                <a:srgbClr val="000000"/>
              </a:solidFill>
              <a:latin typeface="Arial"/>
            </a:endParaRPr>
          </a:p>
        </p:txBody>
      </p:sp>
      <p:sp>
        <p:nvSpPr>
          <p:cNvPr id="1004" name="Freeform 10"/>
          <p:cNvSpPr/>
          <p:nvPr/>
        </p:nvSpPr>
        <p:spPr>
          <a:xfrm>
            <a:off x="3724200" y="2514600"/>
            <a:ext cx="1914480" cy="3505320"/>
          </a:xfrm>
          <a:prstGeom prst="pie">
            <a:avLst/>
          </a:prstGeom>
          <a:solidFill>
            <a:srgbClr val="4f81bd"/>
          </a:solidFill>
          <a:ln w="25560">
            <a:solidFill>
              <a:srgbClr val="ffffff"/>
            </a:solidFill>
            <a:miter/>
          </a:ln>
        </p:spPr>
        <p:style>
          <a:lnRef idx="0"/>
          <a:fillRef idx="0"/>
          <a:effectRef idx="0"/>
          <a:fontRef idx="minor"/>
        </p:style>
        <p:txBody>
          <a:bodyPr lIns="152280" rIns="152640" tIns="700920" bIns="70092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ffffff"/>
                </a:solidFill>
                <a:latin typeface="Calibri"/>
              </a:rPr>
              <a:t>Competitive Advantages</a:t>
            </a:r>
            <a:endParaRPr b="0" lang="en-US" sz="2400" spc="-1" strike="noStrike">
              <a:solidFill>
                <a:srgbClr val="000000"/>
              </a:solidFill>
              <a:latin typeface="Arial"/>
            </a:endParaRPr>
          </a:p>
        </p:txBody>
      </p:sp>
      <p:sp>
        <p:nvSpPr>
          <p:cNvPr id="1005" name="Freeform 11"/>
          <p:cNvSpPr/>
          <p:nvPr/>
        </p:nvSpPr>
        <p:spPr>
          <a:xfrm>
            <a:off x="5705640" y="2514600"/>
            <a:ext cx="1990440" cy="3505320"/>
          </a:xfrm>
          <a:prstGeom prst="pie">
            <a:avLst/>
          </a:prstGeom>
          <a:solidFill>
            <a:srgbClr val="4f81bd"/>
          </a:solidFill>
          <a:ln w="25560">
            <a:solidFill>
              <a:srgbClr val="ffffff"/>
            </a:solidFill>
            <a:miter/>
          </a:ln>
        </p:spPr>
        <p:style>
          <a:lnRef idx="0"/>
          <a:fillRef idx="0"/>
          <a:effectRef idx="0"/>
          <a:fontRef idx="minor"/>
        </p:style>
        <p:txBody>
          <a:bodyPr lIns="152280" rIns="152640" tIns="700920" bIns="70092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ffffff"/>
                </a:solidFill>
                <a:latin typeface="Calibri"/>
              </a:rPr>
              <a:t>Singularity</a:t>
            </a:r>
            <a:endParaRPr b="0" lang="en-US" sz="2400" spc="-1" strike="noStrike">
              <a:solidFill>
                <a:srgbClr val="000000"/>
              </a:solidFill>
              <a:latin typeface="Arial"/>
            </a:endParaRPr>
          </a:p>
        </p:txBody>
      </p:sp>
      <p:sp>
        <p:nvSpPr>
          <p:cNvPr id="1006" name=""/>
          <p:cNvSpPr txBox="1"/>
          <p:nvPr/>
        </p:nvSpPr>
        <p:spPr>
          <a:xfrm>
            <a:off x="457200" y="1600200"/>
            <a:ext cx="8229600" cy="457200"/>
          </a:xfrm>
          <a:prstGeom prst="rect">
            <a:avLst/>
          </a:prstGeom>
          <a:noFill/>
          <a:ln w="19080">
            <a:solidFill>
              <a:srgbClr val="b8ca78"/>
            </a:solidFill>
            <a:miter/>
          </a:ln>
        </p:spPr>
        <p:txBody>
          <a:bodyPr anchor="t">
            <a:normAutofit fontScale="92000"/>
          </a:bodyPr>
          <a:p>
            <a:pPr marL="315360" indent="-3153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high-level decisions</a:t>
            </a:r>
            <a:endParaRPr b="0" lang="en-US" sz="2600" spc="-1" strike="noStrike">
              <a:solidFill>
                <a:srgbClr val="000000"/>
              </a:solidFill>
              <a:latin typeface="Calibri"/>
            </a:endParaRPr>
          </a:p>
          <a:p>
            <a:pPr marL="315360" indent="-31536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003"/>
                                        </p:tgtEl>
                                        <p:attrNameLst>
                                          <p:attrName>style.visibility</p:attrName>
                                        </p:attrNameLst>
                                      </p:cBhvr>
                                      <p:to>
                                        <p:strVal val="visible"/>
                                      </p:to>
                                    </p:set>
                                    <p:animEffect filter="wipe(left)" transition="in">
                                      <p:cBhvr additive="repl">
                                        <p:cTn id="21" dur="500"/>
                                        <p:tgtEl>
                                          <p:spTgt spid="100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04"/>
                                        </p:tgtEl>
                                        <p:attrNameLst>
                                          <p:attrName>style.visibility</p:attrName>
                                        </p:attrNameLst>
                                      </p:cBhvr>
                                      <p:to>
                                        <p:strVal val="visible"/>
                                      </p:to>
                                    </p:set>
                                    <p:animEffect filter="wipe(left)" transition="in">
                                      <p:cBhvr additive="repl">
                                        <p:cTn id="26" dur="500"/>
                                        <p:tgtEl>
                                          <p:spTgt spid="100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05"/>
                                        </p:tgtEl>
                                        <p:attrNameLst>
                                          <p:attrName>style.visibility</p:attrName>
                                        </p:attrNameLst>
                                      </p:cBhvr>
                                      <p:to>
                                        <p:strVal val="visible"/>
                                      </p:to>
                                    </p:set>
                                    <p:animEffect filter="wipe(left)" transition="in">
                                      <p:cBhvr additive="repl">
                                        <p:cTn id="31"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Marketing Concept and a Customer Focus</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ssence of the “marketing concept”</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c marketing is the creation and maintenance of a market oriented strategy</a:t>
            </a:r>
            <a:endParaRPr b="0" lang="en-US" sz="2400" spc="-1" strike="noStrike">
              <a:solidFill>
                <a:srgbClr val="000000"/>
              </a:solidFill>
              <a:latin typeface="Calibri"/>
            </a:endParaRPr>
          </a:p>
          <a:p>
            <a:pPr lvl="2" marL="1143000" indent="-228600">
              <a:spcBef>
                <a:spcPts val="550"/>
              </a:spcBef>
              <a:buClr>
                <a:srgbClr val="005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cusing the organization on the customers it serves and the needs it meets</a:t>
            </a:r>
            <a:endParaRPr b="0" lang="en-US" sz="22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ording to the marketing concept, if we take good care of our customer, sales and profits, will follow</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5636-0B5D-4AE6-96C1-DE094003D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008">
                                            <p:txEl>
                                              <p:pRg st="1" end="1"/>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08">
                                            <p:txEl>
                                              <p:pRg st="2" end="2"/>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0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1-1 - What Is a “Marketing Strategy”?</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2E35-A97C-42FE-882D-7AD8CC871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5" descr="jag.PNG"/>
          <p:cNvPicPr/>
          <p:nvPr/>
        </p:nvPicPr>
        <p:blipFill>
          <a:blip r:embed="rId1"/>
          <a:stretch/>
        </p:blipFill>
        <p:spPr>
          <a:xfrm>
            <a:off x="762120" y="1600200"/>
            <a:ext cx="7696080" cy="470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1-1 - Generic Strategies—Competitive Advantage and Competitive Scope</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926F-8EC1-47BC-A680-2B2616CFA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852369.PNG"/>
          <p:cNvPicPr/>
          <p:nvPr/>
        </p:nvPicPr>
        <p:blipFill>
          <a:blip r:embed="rId1"/>
          <a:stretch/>
        </p:blipFill>
        <p:spPr>
          <a:xfrm>
            <a:off x="990720" y="1676520"/>
            <a:ext cx="7238880" cy="435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1-2 - Value Frontier</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C666-8311-45AE-8603-98E3551A4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456.PNG"/>
          <p:cNvPicPr/>
          <p:nvPr/>
        </p:nvPicPr>
        <p:blipFill>
          <a:blip r:embed="rId1"/>
          <a:stretch/>
        </p:blipFill>
        <p:spPr>
          <a:xfrm>
            <a:off x="2055960" y="1600200"/>
            <a:ext cx="4916520" cy="486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1-3 - Product-Market Growth Strategies</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DAB5-5FDB-4534-A911-FEA235061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23456.PNG"/>
          <p:cNvPicPr/>
          <p:nvPr/>
        </p:nvPicPr>
        <p:blipFill>
          <a:blip r:embed="rId1"/>
          <a:stretch/>
        </p:blipFill>
        <p:spPr>
          <a:xfrm>
            <a:off x="2438280" y="1752480"/>
            <a:ext cx="428940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1-4 - The Strategic Marketing Analysis and Planning Process</a:t>
            </a:r>
            <a:endParaRPr b="0" lang="en-US" sz="3400" spc="-1" strike="noStrike">
              <a:solidFill>
                <a:srgbClr val="000000"/>
              </a:solidFill>
              <a:latin typeface="Calibri"/>
            </a:endParaRPr>
          </a:p>
        </p:txBody>
      </p:sp>
      <p:sp>
        <p:nvSpPr>
          <p:cNvPr id="10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E3A4-05EE-4F9D-93A1-6ED669CE7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4" name="Picture 4" descr="iop.PNG"/>
          <p:cNvPicPr/>
          <p:nvPr/>
        </p:nvPicPr>
        <p:blipFill>
          <a:blip r:embed="rId1"/>
          <a:stretch/>
        </p:blipFill>
        <p:spPr>
          <a:xfrm>
            <a:off x="1676520" y="1523880"/>
            <a:ext cx="5905440" cy="49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ANSR 5</cp:lastModifiedBy>
  <dcterms:modified xsi:type="dcterms:W3CDTF">2011-04-11T13:40:45Z</dcterms:modified>
  <cp:revision>172</cp:revision>
  <dc:subject/>
  <dc:title>Slide 1</dc:title>
</cp:coreProperties>
</file>