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016E-557C-4F37-90EC-808DCC2B156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shape of the product lifecycle describes the market ev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rtical axis is the percent of the total market and the horizontal axis is 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tinct lifecycles exist for industries, products, and product for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s behave differently at different st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etitors compete different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les are more profitable or less profitab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s buy differently and different customers bu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 strategies and tactics work better than others at various stages in the product life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BBD4-25F0-45C5-9DE4-D5F7B3EA1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of scale - The more units a company produces of anything, the lower per-unit costs will b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ercentage decline varies from industry to industr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t, regardless of the industry, significant cost advantage can be achieved by the competitor who moves down the experience curve fast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BFF2-9D8A-4F90-BCBA-018563E36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r distinct sets of forces with differing implications for strategy can drive scale effect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ing- or experience-curve effec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and diseconomies of sca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nomies of scope and synergi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twork effects and virtuous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431E-942E-46E8-BAAF-4912C38B2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tuation assessment involves monitoring the environment (external forces), scrutinizing the company itself (internal factors), including its core competencies, resources, and strategic direc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tuation assessment can be divided into two basic categories, external and intern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ternal assessment includes the analysis of the dynamics of the specific industry within which the firm operates and the understanding of some prominent and powerful regularities or laws of market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 requirements for a situational analysi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e the market the firm competes in or may choose to compete i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358D-7957-4D1F-8EBB-825074634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ssessing “the situation” it is necessary to first specify exactly what situation should be asses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s can be thought of as having concentric boundaries beginning at the core with product form  and moving outward to product category , generic competition and finally, at the broadest level, to budget competi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ditional approaches to market definition have been “supply side” perspectives, based on the industry or produ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imentary approach is to define markets from the customers’ perspectives—that is, the “demand side” perspect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cope of a market definition should be flexible, adjusting to the purpose at han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5F00-5121-47E1-A9DE-47A6208E1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nowing the plans, intentions, and capabilities of existing and potential competitors is essential to understanding your own organization and to an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th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2995-579A-4408-9D5F-10AB7127D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general “context” or environment within which a firm, product, or brand operates has pervasive and complex effects on strategy and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lassification illustrated above imposes discipline on the assessment, stimulates brainstorming, and assures complet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5D1A-FCA2-4E93-8F98-30C721351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6601-D5CC-4C43-9865-F0A4E07AC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analysis of the industry or industries within which the firm operates is a more specific “micro” perspective embedded within the broader, “macro” setting of situation assessment and the four C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forces together influence industry profitabilit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CD2B-0258-407F-AC9B-FF214F899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D1C90-59CB-46C5-8E66-DF7EB4935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A6E0F-3941-4E41-98B0-92B1E53E77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D0F8325-BB1F-44A0-B7FD-CBFAF032D6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E171316-1548-481A-AE0B-EB617856AD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B471A8-6EE4-43AA-9275-DA7FAE9212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4F6FDB-960F-43BA-9DAD-D4F2D2444D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A714B07-28ED-4F39-83EF-8788D40012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F4F7C0-61F5-4C2D-9EDF-3418C5FAFD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3F81EC0-7EFC-4BEF-8C38-98CD054516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6AEE2FA-5C2E-4F0B-A0D8-9BE6202E4F3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E7C3E8E-6334-44DB-BAB7-10529F2A129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D1DBF83-E18C-4D59-B474-1A2F3E3D85E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6226F-3468-42C3-8B1F-299960FD6E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DD75D2-FF47-44CD-A1C3-C4A6A710BA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FF97D6-4DC6-4EB1-A6AE-0D58F3E7B79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496209F-1827-4A29-A233-5E617E93B1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12A038-BCA6-4FB4-BFA5-A864EBDBC98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600805C-6AE6-4166-98FA-B5C94E0646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B434C0-BB04-4673-BC6B-F6D4DE0E13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8BE96C-6FC4-4E2A-88F0-8DCC325382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815BB3-50E4-4A23-83D2-72A581A538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1EB385-D511-4B6D-958A-C5C749A736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35D6F26-38E3-4E0C-895E-FDD3CFD87C0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38FD8-87A1-4865-B154-5C187E102B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9E490A8-8513-4AA4-BCAC-A85AF67AC14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C3C0887-1A83-4117-9797-4A8B07FAB33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41288FD-AC83-4ED6-8EC9-09F01A83C3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D1563E-440E-4E31-9829-764E6E49AE3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F344940-3659-48AA-8622-AA7F3068FD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33ABEB1-4B23-4031-9B10-4F9075F7C5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DAA774-DD30-4EE6-B460-31833903C7E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CEDDB62-5ACC-4960-90EE-51B1873AF06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66A059-9EA9-4E00-85CF-326537FBFB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0B924C4-36B4-4A13-98E7-CC0A3AF339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7AF657-4CC9-4FB0-B1D4-50CD86CD4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806A0F-8E75-4F69-8ECC-870A84E85B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A89D42A-45E3-4863-9899-CC0B92E0B9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15DC574-B249-464F-8F2F-80217F7CB32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8813068-AC15-49B3-AF73-C9033077B09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37EBBC-C682-40E2-A1A2-E2924C585B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7320DF-CF94-4D0E-8624-587E642FEE3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7BF185-39F8-4468-9729-C791B6014C0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9D7C39E-181B-4A95-A88C-9BFC26EAE2B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CD2011-A882-4F3E-9614-16E3DEFC99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68AED0A-2F6C-433B-BA67-91B87ABB3F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02CED5-44D4-4F6E-8AF0-A8A3CB64E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BA7219-9A9C-4EF7-99FF-242E7BCA71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CA639C-8CC8-4DEA-87D0-004B14D1D6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95F5821-BA53-41C1-8A3E-06063616B2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8BC588A-3661-407C-9782-06EB00051CB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783EB0-D763-48E4-9FA8-38F96630C45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2E41E63-35AA-40A0-9C5D-FAE9F17EB13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BAE086E-3BEE-4D66-B277-00E49C2539A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4409A37-3713-4E4D-846A-147E857D53A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B24B2C3-F8C6-4101-A056-F4A3068B542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0C07B4D-EE18-48BD-8FB0-99AB745A475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819FBD-EFDD-424E-92EB-26610F27B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C4D02E-D58A-48B4-A46E-9B9E32B3A8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79362EB-2621-466F-A5E8-DB658D90BD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F0FB58-32F5-4703-9B69-248AEB8C95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8BBF0B-C8DF-436A-8626-2BD0D06293D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C5D9644-E126-4B1D-895C-6D42FFC26E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B6F1DE3-FF90-457C-9F9C-8D7FC20AECE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4489FB6-F172-4458-92B3-2E6E0ED1CB5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56BEEC7-43B4-4D9B-B940-827D355A17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EF2577-6250-4F49-99E1-E693FAE2271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5D0979E-C5DC-42F9-9C89-5FBCACDFAD2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4E4E79-FC9A-4C3C-A13E-2ADE8AEEC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BF6326D-3CA1-401E-88E6-458E8DCE3CA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2A07355-79ED-4974-AA6E-0C16F78FC1C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259EA8E-2830-47A9-BBEC-50597822A33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705E491-8FC7-4DC8-86BE-AB38714D40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C1B29BB-9924-4E71-9133-5DF442CCB97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7F9554-D9FF-42F0-9D4F-2ACBADB032D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301C7AA-C996-4A75-8BBE-63049231EDE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3268941-A198-4038-A79D-CA2C2AE1558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43702F8-7E12-4F33-8EC2-AD2FBFEA785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65437D5-C267-43D9-A57A-6496E361BF9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920479-3B8C-4B2D-9EF1-1242C56B6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F3C4F1A-CD83-432B-938F-13DD1EB39E9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01791A5-A871-4D0A-AE2E-AD884626922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BE56A8B-6688-4104-94A6-9D8F197ECBC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EF95BB5-E6B1-4455-BC04-4512CE9BBC3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23E4880-BD02-473A-A23A-8068148283A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92CE33-6746-4993-A22A-6DA1FF5F3F7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85CB63D-E960-4422-B7D4-74A4121CB72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84BB348-92FE-4727-A4E5-6DDEBC61AA9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1858468-F09A-4C0F-A5C7-2D8864FA31A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DB6B20F-8BA3-413F-99EE-2AD7C296FDC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4DE430-B4EA-4916-A143-82339F208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27D8294-9A08-40E1-81F7-283888C38A17}"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3F9C719-5635-4C6B-8E51-9F2D0F155DE2}"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524B624-68DE-4209-A400-FE79E179178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0B839F0-EF54-4ADB-BEDA-628F027388E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A3AABE2-46F5-40C9-A91A-97D63F3798F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3EACE15-0F1E-43D4-B313-D274DE9E13D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366AACA-D24C-40B8-8A33-6A8B9E71B3A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7AC56A7-65BD-4A5C-8AC4-C299771842F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BCA386A-C4C5-49F7-BFC7-62F7308D89F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E7C3D6A-4333-4F1D-B97F-314490BF9FC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789370-86C2-4F10-BF96-5B5B772DD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E2C2B25-A86E-4AE2-BA8A-16E00E92953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EDD8E93-3ECF-42A9-AE6C-D14DBE6D5BA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980B1FA-336C-4CFD-A7D2-2F6916D97A1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E5F16B1-E624-49D0-BBA2-850A4CCECC6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8E0937B-5825-4046-BF93-9C172F3159F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AD90289-4749-4B8B-9D5D-091D6EB942F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4CA6D54-E249-4FE8-96B9-A7B3347F4F4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2E74F87-DAA3-449E-A637-413162D2B10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658F7EF-4A1A-422A-BD86-29E9B640F4B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CD14B55-BDA6-46F0-BA2A-B711BA3DADD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0884-7E08-4B27-A5A3-5DD0ED614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EA8A51-9689-4034-800A-8DD4BAAF5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DCD7ACA-0B1B-4EBA-8400-9E308555C62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5A3F5BA-1C7A-48A7-8B4D-09F6CCDB14D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BA09EB9-E66B-43D4-A958-C789526CAB1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F36492C-9856-44D9-87B6-D2D262DE3ED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F9127FC-1300-4CD7-8EC3-2790308C133C}"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5BDCA85-58CB-4CA0-9EC5-ACBB9B99221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8B253CB-2E2B-40D1-8EE9-5BAF8295DFD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5662E65-1C8C-4DF6-84E6-2B577F23134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81D68F7-415D-47BF-8515-601505F22DD8}"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E22A3AF-0712-4856-82FB-B7E75BA3CA5B}"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2074EA-62B2-4878-9165-13C7AD1269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B30C4AC-AE1D-4173-B240-309A17C8F6AC}"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D4423B2-97D7-4458-BCAC-DB76EE3A625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56CC271-B853-4777-97CC-B4C4FD4BDCB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55585B8-8A6A-417A-AE74-07C961CE09A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65D7384-844C-44AE-A1C6-95B9781B949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05A31359-0BBB-4C61-B59B-DC7CD5ACECD4}"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203BA9DF-48CA-4334-9652-B894EF52073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5B68149A-9B8D-42F8-BC1E-182294282B1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7D325CC-D4F9-4F76-A613-EB6F57E2A35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0E0D1BF-00DD-459A-9C44-B06B9EF7864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6B062F-1D25-47FE-9EA2-BCA3AD27C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11884FD-C604-4075-ACAC-C8BE478EAD0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B88C351-70A2-4FC5-B1E7-CAD81EDC06D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7997AF6-D356-4F2D-87D2-2799D548862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F7219F5-E1DE-4652-81CF-DF5E9ABB5B6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8FE06BE-7BD4-4379-93DE-833A294B2CB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BCF38A3-8965-4C02-8C36-FEA380D9019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C13E652-BC6F-40D9-8918-0132867DF46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A5D8B24-83AD-458B-93F6-DD7F752B0126}"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2943D251-4905-4672-A9C6-7341157BB43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BA4A025-2594-45F6-94EF-1D7DB662121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33A965-29FB-4621-A9D6-BA923CC9DF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B0DE1E5-4E9B-41DB-AFD1-3410F1122D0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64B1C3E-4BCF-4071-8B8E-7A762215C3E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1264783-0C97-406A-B1AE-AEA8158C6D3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77D7446-4E56-4DFD-8692-9DE915C7C1B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FACE13C-E17F-4845-868B-DCB70CE6C56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6325B9C-C4F4-4041-B9BE-6113144E45E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4C83A713-CD2F-4F07-8DDE-A9F7F7F6CE5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B8AFE2E-F4F8-4A62-98E3-A76C9A1A191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656E980-DF41-484A-9C68-D5A301DCFEC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2A3B2A9C-EE49-46C2-B540-84BF8A654C4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7FE91D-86EF-4AF1-AF6F-CB69B61160C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D388FE5F-3817-4995-BC48-5474B7EDB5B7}"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545F9E6-FBA8-4994-8C7F-89321DD91A2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90DCEA9-AAE2-46D0-A541-91B14ABCFDB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0F1BBCB-0412-4949-952B-7A0675A3BD1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FDAACA7-3BA7-4778-9A5C-6FFB7F07D1F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F704A2D-3207-4092-92AB-DDD39F9C454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6683F32-A396-4D63-AE49-D4F8D8A6C83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F93BF75-FDF0-41DD-9C7D-68317A63090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64D4E6B-31CA-4061-8D52-834C8547285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A511E3E-900E-46AA-830D-390FF596374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E17A255-D100-4840-B43D-75866D39954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8A64BED-37BB-48AB-AEF5-6DA44390A70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38219C01-AAEA-4524-AC02-A218195057D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7FD35202-8333-4BDC-9080-BD62C2B639B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97659BC-1E7F-4D09-AB7C-7CBB877231B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D5E4302-EE32-4786-95B4-2298BB35B31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DFDB783-3530-476E-8CE7-FB84958FB9B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22B9B7B-243F-401D-B722-CB76CC80601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BBE36A3-1F61-406C-9020-C6BD558BCDF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2952105-C6D7-4777-AE4C-CCECB09FEC9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CCAC18A-05D6-444F-A0EB-CDB489D1079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3ADD5F1-2BF5-4982-AE8A-A0CBEFA1BAB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BBFF63A-5A95-4C02-98A0-773169512FB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40A0371-ED4D-4547-9AAD-DB0518391B4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8ACB580-5AF1-4E73-B78E-61B746F00AD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458BD70-E3F0-4472-9FB3-C649611945A3}"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6154913-5885-4BE8-9DDA-ED2E1E01AC8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A34974E-FC9A-4F2C-AD88-4E4DAD249C4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6278AA0-BC83-4499-B5DB-62580194585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471A72F-8F11-4C5D-B47B-AEB7B806978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7A87214-976B-4F03-B684-A64115F3658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4C2A019-E202-4121-92A4-175BD80BE79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76FD555-2175-4BD3-B350-6A4B18CB01E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7F5DD38-945D-477C-8533-F99CC72A06B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AE2DD3F-023C-4351-83FC-EE44C5838E2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A01FE0E-C6E7-4FAB-AB4E-BDE59DC9635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D570186-C28C-4692-8B3C-FDB98F9CE04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1619107-A7A0-4CCD-A67E-1BFA46850EF4}"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03A73BA-FC81-4E8D-B5DA-79D99140C9C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517E96E-68C3-4FEC-BB06-AA9AFC6689F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C86ECEA-FF8C-4405-AF38-05B3790EB65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A12FA8E-5C90-4643-9134-0FFCF1FDDB3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4C382CA-4F61-4212-B073-CAC58D339DC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2223FA2-3B16-4961-99B8-B68D29B4D2A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58220B6-0270-4199-9182-8D4D55D08D3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D727548-6299-41DD-8485-BFC1ED30E43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6220756-DA25-41B4-9CE3-43E02F8717E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CB05F3B-FFBE-4A63-B4DE-50CAC91641F3}"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3A7AEE53-844B-4368-ADD3-823AB6D01B71}"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3EF14-D1A3-466D-AA0A-F9A1584992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71D8C7B-6F35-44C8-A200-30EE7A6E90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A847610-BD24-476A-B3C4-8B7C2106CE6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BE824D2-451F-43F4-8085-B546BBF3DE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C6882-43D0-4C21-AAFB-AC17FC0916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1E708DB-8FCB-416E-9AC8-E13D6B21D8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F9274AF-E41F-45EF-861C-6EFF41BA59E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965D4A1-E996-470D-9F6E-A4C83AC525E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2287365-D383-4941-AB79-7C72AFB213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D04E6EF-9374-40EF-BE47-68043818B25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4867D0C-4B46-496F-A4DC-F099BEC982D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F471C08-6B20-45A3-816F-CC53D8BE73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8E58D8AF-72B6-44DA-AEAA-466B2AB607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3DD720B-335E-42C1-8D24-12725F964A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8C916D-9A22-42C0-B3F3-FCE751181C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AD7DD4-FD21-47C7-B5EC-27EE44FA79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14AD6F-FF3F-462C-A024-57174B0430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551463-85C0-4966-B0C5-B7EEFF7BC6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EFBE25-2C5B-418C-94E6-D14518ACB0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75E105-5201-402C-A8EA-3D68B25A90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21611E-F9BF-436A-9675-991C8FA945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CC9B4C-405D-4CE9-9343-46F999F3BD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E1A9A5-607F-4CA0-A913-DD65668BFD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41939A-E20E-4A07-A763-1B424FD5F1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151CC2-4661-4514-866A-DCE21B3883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DFD3B9-07FF-43AF-8CFC-FA138FE11D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D40A67-011E-43CE-9381-FE815CCC55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52C2F1E-ACD5-40DC-A0D2-4A4A5852D96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7149E38-4742-46B3-A8C0-4033A9FC12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D5C615-5042-4A72-9553-F9D186E9BB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167AFD-F26E-4758-BAF5-8BCDB4046D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FBD01D-DD5E-41C1-9CAF-BCA529A27F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0EC9D3-C847-4CCB-A23C-3CF2B482CF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0D3AE6-71C9-4F2E-8774-5CACC3C2EA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597DE8-1153-45C1-987C-8880634C65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58BB75-8FBA-4588-85C8-0BE381337D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E6F9EF-A1DB-441C-8B0C-3E91BBB7DB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3BBCC-633F-4050-9F84-1ADD4001BE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A43825B-2383-48ED-8F18-8969B374AE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D9F9FC-603F-477C-92FB-3D7BD29609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24BB5D-B08A-49D1-ADA1-56A5B63D71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E70AC29-523A-424C-9409-F329494945E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9F6D55-64C2-4DD5-ACA3-A0F045B315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4BFB1B-4EFF-4843-9CA0-584FDD4948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B5622C-C0A3-4F8D-A425-081662F716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5DFFBB-FAD1-4755-B198-77D101ECCF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CED069-21D0-4860-ADB8-CF36CD45F2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D3EB67-9CC3-4937-90B4-A54A24B9E4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354BA-64D9-4254-AF67-DFFCA95166A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15EB4C-6C26-420F-818D-8FF7D85F79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0D93DA-B135-4C9D-8B68-582CEE7765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CC7F3F-C9CC-4E4F-BB56-DC3E8F02CA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8E215C5-4132-4370-8032-3885C481D0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4E9B0CE-00BF-4344-96D9-D62DD90010C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51F3507-77F7-42DD-AC39-A0F20F1A89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705936-D5B6-45CF-B554-3615D882BC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966281-2783-4CFB-A21A-9DB01376132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B033C0-F946-4BFC-8686-C412AE9B5A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7C0D4DB-67D1-4B4D-B68A-C44EC70D244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EC6BB-C7A7-4ACA-883C-1B7C83AAA1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C0AB627-BBA2-41EB-956C-4E4B337524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3A39BD-CD07-4DA4-973B-17AED6CB47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EDBC5D-D2A3-4D98-83B5-78BCF0F7F8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042004-A8CD-4D27-AF03-A4C1FEEE2B6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55328B-B913-44E3-A6C6-78C4AF23DA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8FC288-EEB1-49DD-9B6E-2BF0AAE1B4F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E63155F-FAD7-4877-950B-C87F42EEB9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64E9412-B7D5-4687-BFEE-28163E0B5F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8FA75B-EA48-4C72-A39D-F922AD15DC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9675F6-501E-4AE5-9459-D38AE950D3C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1AF9-320E-4FA3-B980-9A41D59559D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A181-AEA5-46F1-9AE1-EF541D71209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9DD1-6798-45F7-846C-D1FD2295D32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47F0-F48C-4934-88A8-32EF88DC461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00F2-C56A-484E-8231-8D8C6EB13A3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2DC6-0616-4103-930C-108F3F04A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DFDC-11FE-4970-AC0D-3634DD972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20DF-EC0F-437A-8830-44824193DB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315A-4AAD-42EE-9EB4-F05335348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8E02-837A-44A5-9664-609F86E52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9901-6196-46FF-A1B7-73585ADF0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B0CB-5184-4922-BFC2-3BFEE6C2D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5730-D9EA-4AAE-A2B6-E2C2ADFE87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9ECB-44A5-4AD6-874C-3048844D8C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B0A3-CF71-4A41-BFE3-FE8586082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6B10-0F71-4F3E-BA01-2AC18BC06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6794-1307-4645-838B-872211882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D0CC-BDDC-47B6-9BFF-3364C44C71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29CD-C857-4EEF-8DA7-829ED54FDF3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D150-E714-42B2-8B81-1866EABA40A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A819-885B-4C12-94BE-F3BBE585E04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6AE4-5BDC-44DF-9BA8-1FBBFFE7D4F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DEDB-BDDB-4902-A705-3F76E323F55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2</a:t>
            </a:r>
            <a:br>
              <a:rPr sz="3400"/>
            </a:br>
            <a:r>
              <a:rPr b="0" lang="en-US" sz="3400" spc="-1" strike="noStrike">
                <a:solidFill>
                  <a:srgbClr val="000000"/>
                </a:solidFill>
                <a:latin typeface="Calibri"/>
              </a:rPr>
              <a:t>Situation Assessment:</a:t>
            </a:r>
            <a:br>
              <a:rPr sz="3400"/>
            </a:br>
            <a:r>
              <a:rPr b="0" lang="en-US" sz="3400" spc="-1" strike="noStrike">
                <a:solidFill>
                  <a:srgbClr val="000000"/>
                </a:solidFill>
                <a:latin typeface="Calibri"/>
              </a:rPr>
              <a:t>The External Environment</a:t>
            </a:r>
            <a:br>
              <a:rPr sz="3400"/>
            </a:b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ws of Strategic Marketing</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ers may choose a strateg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builds directly on one of the generaliza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is less directly tied to a given generalization, but they can’t change the realit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9507-B61C-471A-BDD8-1E3ABCC60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5 - The Product Lifecyc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BC0D-2295-470F-83C8-3A9BA7BE4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5678.PNG"/>
          <p:cNvPicPr/>
          <p:nvPr/>
        </p:nvPicPr>
        <p:blipFill>
          <a:blip r:embed="rId1"/>
          <a:stretch/>
        </p:blipFill>
        <p:spPr>
          <a:xfrm>
            <a:off x="695160" y="1981080"/>
            <a:ext cx="775368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6 - Experience Curve</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39AE-9859-45C2-92AD-1F1550570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yhn.PNG"/>
          <p:cNvPicPr/>
          <p:nvPr/>
        </p:nvPicPr>
        <p:blipFill>
          <a:blip r:embed="rId1"/>
          <a:stretch/>
        </p:blipFill>
        <p:spPr>
          <a:xfrm>
            <a:off x="1752480" y="1600200"/>
            <a:ext cx="5848560" cy="483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4 - Sources of Scale Effect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9775-F9FC-445B-9FDF-073189173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uiop.PNG"/>
          <p:cNvPicPr/>
          <p:nvPr/>
        </p:nvPicPr>
        <p:blipFill>
          <a:blip r:embed="rId1"/>
          <a:stretch/>
        </p:blipFill>
        <p:spPr>
          <a:xfrm>
            <a:off x="609480" y="1828800"/>
            <a:ext cx="809784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 Share Effects/Share Leverage</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with higher market share tend to be more profitabl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The share-profitability association is logical; market share will correlate with advantages of scal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cale leads to lower unit costs, and lower unit costs should lead to higher profi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haping strategy around market share ignores the ambiguity in the share ROI finding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AE72-F51E-40EC-822A-7713D573B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3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1 - Situation Assessment</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0B60-4587-49B6-B564-331F08F2F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75369.PNG"/>
          <p:cNvPicPr/>
          <p:nvPr/>
        </p:nvPicPr>
        <p:blipFill>
          <a:blip r:embed="rId1"/>
          <a:stretch/>
        </p:blipFill>
        <p:spPr>
          <a:xfrm>
            <a:off x="628560" y="2438280"/>
            <a:ext cx="7829640" cy="27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000000"/>
                </a:solidFill>
                <a:latin typeface="Calibri"/>
              </a:rPr>
              <a:t>Figure 2-2 - Concentric Markets</a:t>
            </a:r>
            <a:br>
              <a:rPr sz="3400"/>
            </a:b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C490-D5D7-46D8-87CF-6679FE548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7412.PNG"/>
          <p:cNvPicPr/>
          <p:nvPr/>
        </p:nvPicPr>
        <p:blipFill>
          <a:blip r:embed="rId1"/>
          <a:stretch/>
        </p:blipFill>
        <p:spPr>
          <a:xfrm>
            <a:off x="2166840" y="1671480"/>
            <a:ext cx="4843440" cy="478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1 - Questions in Competitive</a:t>
            </a:r>
            <a:br>
              <a:rPr sz="3400"/>
            </a:br>
            <a:r>
              <a:rPr b="0" lang="en-US" sz="3400" spc="-1" strike="noStrike">
                <a:solidFill>
                  <a:srgbClr val="000000"/>
                </a:solidFill>
                <a:latin typeface="Calibri"/>
              </a:rPr>
              <a:t>Assessment</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E7FB-0F5F-450D-A87C-D931FDEAD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0987.PNG"/>
          <p:cNvPicPr/>
          <p:nvPr/>
        </p:nvPicPr>
        <p:blipFill>
          <a:blip r:embed="rId1"/>
          <a:stretch/>
        </p:blipFill>
        <p:spPr>
          <a:xfrm>
            <a:off x="2563920" y="1523880"/>
            <a:ext cx="4217760" cy="505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2 - Elements of the Context: PEST</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B5CC-0F6D-4F5F-8B50-025605E4E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9" name="Picture 4" descr="thb.PNG"/>
          <p:cNvPicPr/>
          <p:nvPr/>
        </p:nvPicPr>
        <p:blipFill>
          <a:blip r:embed="rId1"/>
          <a:stretch/>
        </p:blipFill>
        <p:spPr>
          <a:xfrm>
            <a:off x="725400" y="169380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2-3 - Organizing Customer-Focused Research</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26BC-8318-4549-A490-B083A08CF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lo.PNG"/>
          <p:cNvPicPr/>
          <p:nvPr/>
        </p:nvPicPr>
        <p:blipFill>
          <a:blip r:embed="rId1"/>
          <a:stretch/>
        </p:blipFill>
        <p:spPr>
          <a:xfrm>
            <a:off x="762120" y="1925640"/>
            <a:ext cx="7619760" cy="409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3 - Customer Knowledge throughout Strategic Marketing Management</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AE69-7DED-43BB-B8B1-451F6E770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78963.PNG"/>
          <p:cNvPicPr/>
          <p:nvPr/>
        </p:nvPicPr>
        <p:blipFill>
          <a:blip r:embed="rId1"/>
          <a:stretch/>
        </p:blipFill>
        <p:spPr>
          <a:xfrm>
            <a:off x="2184480" y="1447920"/>
            <a:ext cx="4749840" cy="51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2-4 - Five Forces Industry Analysi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30AB-AA4D-400C-B7B2-B8DCADEAE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09.PNG"/>
          <p:cNvPicPr/>
          <p:nvPr/>
        </p:nvPicPr>
        <p:blipFill>
          <a:blip r:embed="rId1"/>
          <a:stretch/>
        </p:blipFill>
        <p:spPr>
          <a:xfrm>
            <a:off x="1143000" y="1495440"/>
            <a:ext cx="7027920" cy="495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aws of Strategic Marketing</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laws of marketing strategy describe essential regularities in the way things work and the way things relat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generalizations includ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lifecycle (product-market evolut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effects (cost lever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share effects (share leverag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2489-256B-473F-A3B2-5818EFF6D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3T10:53:47Z</dcterms:modified>
  <cp:revision>499</cp:revision>
  <dc:subject/>
  <dc:title>Slide 1</dc:title>
</cp:coreProperties>
</file>