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3905-6E2B-429E-85FA-CCF21E5BEE8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shape of the product lifecycle describes the market evolu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rtical axis is the percent of the total market and the horizontal axis is 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stinct lifecycles exist for industries, products, and product form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kets behave differently at different st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etitors compete different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les are more profitable or less profitab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stomers buy differently and different customers bu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fferent strategies and tactics work better than others at various stages in the product life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7178-61F9-43B7-A19F-8A6AA24E1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nomies of scale - The more units a company produces of anything, the lower per-unit costs will b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ercentage decline varies from industry to industry.</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ut, regardless of the industry, significant cost advantage can be achieved by the competitor who moves down the experience curve faster.</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6073-BD23-4DBE-82E2-61653E6BB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r distinct sets of forces with differing implications for strategy can drive scale effect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ing- or experience-curve effec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nomies and diseconomies of scal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nomies of scope and synergi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twork effects and virtuous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A398-103F-4A44-8AB5-C7D62ED78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tuation assessment involves monitoring the environment (external forces), scrutinizing the company itself (internal factors), including its core competencies, resources, and strategic direc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tuation assessment can be divided into two basic categories, external and intern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ternal assessment includes the analysis of the dynamics of the specific industry within which the firm operates and the understanding of some prominent and powerful regularities or laws of market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 requirements for a situational analysi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e the market the firm competes in or may choose to compete i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7038-A708-4497-BF1A-8E5F8DA18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ssessing “the situation” it is necessary to first specify exactly what situation should be assess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kets can be thought of as having concentric boundaries beginning at the core with product form  and moving outward to product category , generic competition and finally, at the broadest level, to budget competi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ditional approaches to market definition have been “supply side” perspectives, based on the industry or produ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limentary approach is to define markets from the customers’ perspectives—that is, the “demand side” perspect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cope of a market definition should be flexible, adjusting to the purpose at hand.</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EE67-218F-474F-BAB2-A1CD09E06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nowing the plans, intentions, and capabilities of existing and potential competitors is essential to understanding your own organization and to anticip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ture of the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F55A-2FC2-4649-929A-8C9349CE7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general “context” or environment within which a firm, product, or brand operates has pervasive and complex effects on strategy and resul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lassification illustrated above imposes discipline on the assessment, stimulates brainstorming, and assures complet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4B41-F7BD-411A-A92A-60B220BDF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A45D-05B2-4ADD-B2C1-EA56F0555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 analysis of the industry or industries within which the firm operates is a more specific “micro” perspective embedded within the broader, “macro” setting of situation assessment and the four C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ve forces together influence industry profitabilit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6C23-1425-468B-81E5-7E59232E0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E3002-BA6F-4BE6-9169-A013E98DF2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0F2A4-A7C4-4CBE-8F58-A61527D4243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FAE69B5-C3C4-4C62-BD3D-F3B9019A719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CE92EA7-69EB-4F07-A68E-6030B2F5956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12D53B9-6352-4A6E-86FF-D57263EE374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E6F821E-C923-486F-8E30-597C3F82B82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0F16E7A-64DE-4C51-89D0-78BF15C6E60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5A31D09-6C83-4DD7-B0D6-32992D811F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7A14952-F974-4375-8CAF-5E9ECF63DC0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EA1525B-09BB-4217-AB37-27D87E964DE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5FE8B52-88E4-48D6-AEC8-9288B51C132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4C303E2-80B6-4A7D-B5B2-52B6851A69F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B351A4-6517-4BEB-B16E-08BA741D74B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80B3605-1AF2-46C7-94B7-CB352509DDF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14B7C97-7CB7-47C6-9305-8D481C755FE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CE0F629-5786-4E80-A466-6684E716678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872DB19-4B27-4D13-9649-25A295F5912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47E344A-0838-42B6-93E9-FEC7C3F0927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BF0DAE7-6173-4411-8C68-D08FCBC5D27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BF8CACF-6028-4F90-A9CF-26274DF227D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27CECE7-5F5E-474C-8F59-0C19D96BA6D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017F1E2-4D8C-4269-A1B0-43D25B9EA0F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85EBB11-511F-4580-BA45-8D6E0E370BD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082573-F6CC-4D30-B3F0-0D98F353257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8C5C9A3-CD5D-46BC-9045-5E796E37403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41E79EC-3A58-4230-8FB9-2A76BD38508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485FACD-9568-4C8E-BAE9-D3531FA5585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1BE174E-01B5-42BA-8C2C-3B8C466B487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0AB5648-D91A-41BA-98CB-A755DE2D68B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F490CAA-AB46-43CC-9ACD-24431555B5B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DC2D451-B44E-4926-A21F-F4C22BFD933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EF88D67-C59A-4E09-A62D-82D7720192D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0466D13-4E1D-4809-9666-77D80966046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C68E74F-4F88-454C-A8B0-DD1B0778024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950569-86B1-496C-A971-304BDF392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5E59866-B9A9-42D6-AE4E-394C985BC43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2D49D6B-DACD-4F96-BAD9-1B1F75079FC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51974DC-76AA-4049-9ECE-9B07CDBA9EF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0392CC5-D0EF-4CDD-BE57-B7E59C61069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246AFBD-4818-4808-AE32-B1FE1CD40B8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21BA1D7-0181-4EB0-8C00-F138D453599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843CC0D-0BF1-47E5-BC04-185659C9680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9032380-64C8-4AD3-9787-D3664F335F0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53DAE1C-B7F2-46AC-9FF7-DA131490497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8D12B0A-D0FC-4DFD-9716-B979B9EF29B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878CDB-03DC-4132-BD2A-F6B6B2F2B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DB96B3E-F7EE-4470-A7F4-D56A6A53F4E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ACC86D2-496A-4BF0-A6A7-D416A46A65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7939ED1-1FFF-4F80-BCBE-37A0ECE4D2F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68109C9-B544-43C7-AF18-C8AADE51105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2E65518-6AC3-4076-B60C-1CEDDDB933B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335B99C-775F-4172-A3A8-77A859691DF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CEB72C3-98C1-45C5-84BF-9A5316A8D92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792C312-887D-4960-93A1-81C3C3674CE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44C9EDD-648C-48C6-886E-D9BEF39D5DD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E4E5F4B-52EA-4672-8C06-59C6E30FFED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64EAB6-846B-4E19-B718-8B6511B9D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25C136E-D958-4E53-86EF-C96CAAB4E48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A1D02F1-D3B5-4369-83F3-B937F3BD377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93FDA74-7E70-4006-9F31-8C429FA04EF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78CBF70-5D49-4528-B05A-CCA938A5A7E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4F25CAD-A24E-4130-BB4A-20F81E60D17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8EC6720-C232-413F-8DF9-91C48504ED2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92CCE15-28F6-489F-B563-235641B0A87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646CF6F-92B0-4830-A149-86F2F518577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FB0B0C0-0B30-43DB-A420-8D0F2AE695C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6F39645-8891-40CB-8883-836B580469C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56BBB5-A2F6-4DCE-8E60-B48F300BB9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3C62428-AECC-4417-A41D-F0F94C180E5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F70E8F0-2B47-4E2D-81B9-3FB1FC5A44B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33E5EDE-CBF7-4A7C-B286-ED1CF6DA689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35E622D-6215-4F16-A27B-473B7588BCC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66CE86B-5AB2-4B25-A39A-BB76953BC15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9B5CB40-DC12-4D7C-B235-A846F4AECBD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AACFD96-A374-468E-BF90-F41F5F372D3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840206C-2580-410A-AD8C-208AF94C4AC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C111A7F-94BE-45BB-B560-3835C5BC69D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70F20E4-B86B-4EC1-AA18-E1F650E9270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1A72C4-664B-483F-8D4A-024D75C7B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FF3A87D-D62A-446C-9269-0A433E1CC4D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3FE1EB7-B1F2-493F-83D2-A9E92ED506C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E414739-47F8-4B78-97F8-739B90D75B8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D83BC38-EFAB-4DED-9453-C1BF3ADA5C9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12AF5CC-87B8-42DC-9C1D-520F7B2AD55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E427134-CE53-42B5-8DB3-DE223F57922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65A554D-2D08-40D9-928F-2891775F1C4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2703885-C2AA-4036-AB05-481711299F6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CA3E582-4710-449B-86EF-90EF832E52D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38DDD53-3F8D-464D-8D0E-C0DC2870D3C5}"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07134D-4A24-492B-9489-E75F8849F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60CF9E08-A7B8-479F-9F3F-91515B9F4759}"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607C00F1-5248-442E-994F-DC5C683397D0}"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C16B85B-4A02-4716-9E72-66D235E8855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AED8E38-EA39-4231-9721-5A57D1540FA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E466052-B961-48C0-9569-8C6772880CD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B629122-7F57-4843-A969-0159C36E161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3AF7579-1371-4589-ABF7-7FF52B8D7ED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329BFC5-9BAE-453B-8031-A607E4877ED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9B260B3-DED0-4838-AC57-01C729AAE72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E6B6032-8713-4205-BEF9-1B74E7D2149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A5C761-6A42-4104-A8CD-EF2DE2DA45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6243F04-5809-4797-BE3D-A332A9B163E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1D744DE-63D6-4CD0-A8AD-321A032D9306}"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808FCD4B-A281-4706-9790-FC7E336E1743}"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B8C584EA-03EB-49ED-B089-533065F30228}"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9A1D47F-44C2-4B69-AB8F-9144509F96D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7F1A6271-8382-4AB2-ABC0-943C446AF722}"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0491B2AC-36AD-464E-85F8-F375158679C1}"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F2D34A1C-4D76-409D-8B09-56A780A65EC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3892AA4-9296-44AE-A06A-1AAEBFE42BAA}"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E1A4158-EABF-4DFC-AD55-34EB1C7759C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D5F54-AC33-457B-9181-5272E1CF10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185FBD-1361-47E9-8518-872AA9E8C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6C2D95D-03CD-4D77-98BB-769BBF1ADCD9}"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E1F18B1-F98E-46EE-B72E-78A38463722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B5C23A4-D83D-4A42-AE73-1110B30E432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F9882C5F-9330-43BD-9D5E-AD82052EB2E3}"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A0F5A88C-639F-41B8-8302-16DD80A80733}"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6D205ED8-8AEB-402E-B374-87D713748B6A}"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026E9F22-BD11-4F15-A22E-77739578B40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092ABC23-219B-4638-ABFA-04522FD88A8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3D81F02F-D333-48E6-8C38-0717DE4EEDF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E38A53E0-FAE3-4EAE-8F75-D0D2DD35C1D0}"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C4AA16-C19E-4F9C-9193-929DCD3F65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9F969C00-48DF-4608-8189-5CD5D29ABB10}"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AEA4637-BE6F-4D03-943E-B8A4301C7A2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62B64F1-2AB1-4F3C-8BB1-6076A505A2F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FD4E05E-C15D-439C-8A01-A657C3F1EB8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2557A2D5-85BE-4688-BEFA-CBF618C0449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7F2344CE-E955-44AB-9EBE-3FCE0433B6E1}"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41B0E2F7-CC63-4D07-BA0C-D86754A1B37D}"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6A236766-062C-4F3D-8B18-E6D4BCA14CF2}"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3DE5460E-4CC4-457D-BD40-70784EF12D96}"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95DD6A0D-8FFF-4B48-9337-F9130D2FBE56}"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2DEDF6-2317-4794-B3ED-DE01011EE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0BEB6B4-8E4D-40DE-A243-8BD74F823025}"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E3F9E4D8-E1D5-4B3E-AA50-16093B3DE55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4E0D3E1B-D67B-4371-A954-DD76B562CA2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28AE5B0-97DC-4BFD-8BF6-A2D58A3019B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A73DB0B-466D-4A0E-9886-A3109733A97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62A0468-0E61-4EF4-9359-E8693FC2A29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86087BF-9E0E-4AAB-9332-65BAFDA4DBE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429DCC5F-493E-41FF-9280-14F701C106B3}"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66A797BA-FACD-49A8-8C5C-01CC27960F17}"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F7CDFD15-3A8D-42CD-A4DB-E867ADC126AB}"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FAE0D2-1ACE-4249-B5BB-0220AAA7BEF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2B2489AE-AE35-4614-9C20-7A5F66D5C3F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AC122F0E-09C1-4260-955E-4394AF8577A7}"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7D73D5F4-5176-4698-B366-AA717A20C25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94D5FE01-490C-489B-A538-755E61B0506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0C5A8D22-0B78-474A-A120-D859EC8BFB7C}"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11DF7FE-AFA5-4B12-B66C-06A7015F5E8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038A808-98A7-48B6-A8DD-4E81CCADDBD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0911AF3-8B35-4774-B3BD-39E26E8E74B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F3139BD6-ECFD-48B7-949A-B15A4A5F802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363795F2-3F50-4624-9D9C-8ADF7A5D2C1A}"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01FD7E1-04D7-4454-A13E-D3C8CD31354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6CC513C7-62A5-478E-88F8-D99A867724A8}"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3FCF5854-E719-4E31-8042-B87F66A908C5}"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C80F01F6-CEC5-4B7D-B0B8-8A8B23321D2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FB7A847-03F0-42D5-AD4C-89F132DAB28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D36B88F-AB39-4CCD-A257-C498B259389D}"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2A08C65-843D-46D5-894D-6FECFFA9C087}"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4207468E-4CD8-4ACA-B67D-157FACFBD5E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EE27A0F-016B-46DD-BA03-7B8CAA70CFE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914BCBD-5861-4176-8CC9-34DBEE8AE68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D244AD3-DB02-4505-BAD2-C16D760F04C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65C2651-D520-4323-8911-1F823F9F6E4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F92E4D13-A076-4406-8AFB-CEECD12D4215}"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273DD196-3A49-4A80-91C8-22A008EF2573}"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EC79B381-BE25-489A-BBBD-653453629078}"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4D3E737-AD53-4046-84C6-ACEA74528426}"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32CE2835-C073-4691-8E56-2D9A500367D2}"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95D3566F-C2B4-47F6-A8A5-755BF1CE0E40}"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684659D-EE96-4F05-8E1B-0637101E215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8AC0AF8-716E-4A22-9761-BD66271B723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43B75E18-11BB-4B98-8E2A-074F4F0E194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5356F42-C7AF-439D-9F09-B604C00A5B6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EC4DE2B8-B37F-4DCC-BFB1-6593E66C572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76A6E42-C9CA-40EE-BDD2-F783F251BAD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8F54EA71-AE90-474B-829E-CC6EF093456F}"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5B623730-AD71-411D-9086-7A66F01F28F5}"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A06AFD2E-82B9-4953-93B9-5DD3F8ED383B}"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A27E7D90-5000-4FD7-8751-9198AD207EB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803CBF3-6BF4-450C-BC21-C8447F38E01F}"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641F8D2-8553-4C7E-A94B-64BC439CABD0}"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939BF34-FF9C-467D-8859-F1BCE4443DD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10C7719-DB94-47DC-AA07-28B795E529C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42889DC-079B-4BA4-A434-6A580E23EE1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18D235A-FEF7-4D30-AEAE-8DA26D0B29E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946748B-1FF9-4CC2-A7A1-FAC8297735B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AD60B8B4-14C6-41A1-AAD9-F667358359B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611C1601-2C31-4622-8883-A8E9912F3B3A}"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BB8BB72E-9DA7-4F69-B0CC-ACAF358EC1AC}"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D1775ADF-70A3-4BD9-ACAA-0AE813DDB1D9}"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8331D814-F938-408B-8787-F11F7A921183}"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11BA935-01D5-4851-9674-1B3929AA872A}"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7CEB15E5-8630-41D0-988F-FF3C88AE2798}"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214A17A6-0212-4C5C-9622-D9B8D945E64A}"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B214194-1BD8-4806-B46F-0356EC509D2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0E7E1A5-3D2D-4901-B49C-ADE1E8D22F45}"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95F440AE-BD54-470A-A59E-D1E7EC2AFA1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8A779FD-6E73-45C1-861F-A18DA3B21A60}"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63C1F308-4541-4B56-BD9B-461C73CAA9F8}"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C68DDF88-0DC8-42F6-A66D-558CA8B44ECA}"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793D5D24-35C3-418C-8F5B-8C1930E1ACF8}"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E452E-DE30-470F-AE9E-4E176FF8EE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9D9931-7F64-43DF-AC9B-D47C2C198BA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01A46E6E-96B6-48BA-9326-438818CF03F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C26EB33-5E96-4A7E-8098-CA1890C8CB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D36C6E-00F7-46B0-A089-F395E1CAB8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AB67359-B95A-435B-9A06-1EE092AEDB0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22C8232F-53A9-492D-86BC-40AEFAE769A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C08CA5DE-DF65-484C-BAF2-CBEB64E00DE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0CE6E85-C456-4F79-B5E9-65A48D81ADF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62F975F-B78D-449B-94B9-12BC5223646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64A9638-8AFE-41C1-9B04-B0223BFC37F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8F67A230-9C44-459F-BD4A-455F12B739D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8B048D3-BD8D-4053-B34D-909BA344B21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0827108C-E171-4585-AF28-24A8156C57B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EE1559D-F31D-4B96-A960-26FF33D5BD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5A1B22-B77D-412F-BD5D-91E1DFCF0A5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C9EB55-DC78-4BEA-9D63-B123E97273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7E904A-B5DB-4605-B0C5-453EFD60DF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1E1969-7204-498B-9362-301DB5E61B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2480E7-AB8B-47A6-AF26-0D4DEE0C70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0E5713-1353-406C-9A19-67BD25ECCE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8B9D3E-024F-4C30-82BB-2538916F8F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4D40E8-15F1-42A6-A025-E192258F1A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711526-D102-42BF-B243-9FF7B4CA6E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7F0A98-96D1-43DA-9F2D-FA881A3FF32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294A14E-0D54-4587-B93F-D8665BF269B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74BAAB4-9E93-4399-A6EA-81A87645481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8B31F5B-96DC-4780-B032-8EE552C777F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0C3151E-BC75-4F2A-BEBE-B82F4CC3E9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0BCC03-6B3E-4DF5-B8BD-C96E0F4F4C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6510EF-96F0-4404-976E-DA3F047E09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683D81-8C1A-4D82-9B56-3B527B9FB1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DEB9FE3-426B-4F2D-8FB0-F74A146FDA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FF260D-C775-4A5D-8766-A18EC24FCA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6F0B7A-010D-4491-8DB6-0CC05394E7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A20FA6-1453-41EA-9CAD-6D872861FE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7276EC-6A7E-46F0-A4FD-D1FBAA4E47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BF6C0-DE8C-4A22-9365-AEF8F700B22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B64CB1-4501-40E7-B99F-4C20AB472F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B3F40AA-7D71-4AF4-9082-8EFEA86D19B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DA14B4C-D291-43B2-9046-F5250223C7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B3A4069-1D25-44A5-87A1-42C7C5028A0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851693-59FA-4EE5-B627-A6886D5D6D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C9C6626-4B6B-4F57-BE7F-575C9637F38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EF27E60-EFFD-472E-9791-E88C4950EDE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18596E-0657-4227-8330-B076B50B947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D1E3527-BBB7-49A6-83F6-4CF8AD73BC9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C4F24A8-09B6-4D82-8D4D-9C93144E3BF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E4E49-DE9A-4C1C-89BA-C72F60D993D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8777FF-5F3D-472E-BC05-66648C4FAB4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9F902A6-E895-41AD-AD93-D09395DDA56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B370752-DF46-4820-96F7-531DDF7128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F1C7C40-52CC-4186-AAE1-2F53D3A7047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AED87F8-DA76-4A07-BB7B-D396AA05DFB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1E71AC5-6198-4AA7-9FC0-17599F50866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9328A51-C07D-4A24-B43A-2141D986132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3F01440-A4ED-456B-B806-804124AA3A3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6E87B02-18E8-4DD5-8BF8-13F9C32B727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EAF4680-0ED0-4DDD-9B06-75D3AA5506A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D4124-D093-4519-B59E-137C31C1A3C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2C8E29E-FCA5-4609-AF2E-18AA01EBCBB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2589EA-B257-4C23-B40A-A9149318FF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40CB217-7ECA-4DBD-B50A-FDD8B518480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F94576C-B55F-4EFA-84D7-BC0E3EF7F06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0A472FC-2355-4CCC-8DFE-9D5CC30071C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3B77C4B-753D-4A8C-9889-15BCE4FBFB8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5C7A326-875A-4B06-9880-2CAEA667D18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0B8E24C-42C4-4384-9AAB-1BE57B2E764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C530E8D-03CC-4A56-A527-7844408FB4C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1D928E9-426A-4118-857B-4A3CCFBE0CCE}"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A666-8A74-48A4-90B6-96E24D5776D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30A8-FB16-4113-8A70-3AB63480AE5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5F6B-F011-4229-8E69-AC61E71AE7A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1F54-2204-4FE1-B5A8-3FE4EA0BEF6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9EAC-6AD0-4F57-8DB7-86A9C0AC3A7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1DBA-9F9D-4F3B-89C8-1CF6DB95C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B061-C10C-43DA-B9B0-262E75117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D778-4C72-4534-8107-8790999CD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C34E-D14C-4808-9DFD-F96E2B87E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ACB8-2723-4F0E-880F-FF4124AB42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05A8-FFB0-4CE1-AEA2-A678C8651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E6DB-F25F-47E0-8480-60AA6BEFB6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A3B4-4A59-4F94-8DBF-D243666EFE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FD5F-E90C-449F-8994-F18B07ED98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A3DB-C27B-42EF-80D2-21AAF27EF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5BE7-58CE-4E0E-A541-0D27B8ED3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E8AE-D45F-4959-9F5B-5D0090738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CA77-8594-4DE3-9420-407BAD33C47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E288-4DA3-437E-A2BE-7B92CB74D16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40B4-8762-46B4-9136-6A241A4E51B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A21C-BAF8-41A1-8845-BC9255C286E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CE61-CFD0-4DF7-A409-2268499D5E5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7A2D-0723-4C29-9B32-CC130FCCCE3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2</a:t>
            </a:r>
            <a:br>
              <a:rPr sz="3400"/>
            </a:br>
            <a:r>
              <a:rPr b="0" lang="en-US" sz="3400" spc="-1" strike="noStrike">
                <a:solidFill>
                  <a:srgbClr val="000000"/>
                </a:solidFill>
                <a:latin typeface="Calibri"/>
              </a:rPr>
              <a:t>Situation Assessment:</a:t>
            </a:r>
            <a:br>
              <a:rPr sz="3400"/>
            </a:br>
            <a:r>
              <a:rPr b="0" lang="en-US" sz="3400" spc="-1" strike="noStrike">
                <a:solidFill>
                  <a:srgbClr val="000000"/>
                </a:solidFill>
                <a:latin typeface="Calibri"/>
              </a:rPr>
              <a:t>The External Environment</a:t>
            </a:r>
            <a:br>
              <a:rPr sz="3400"/>
            </a:b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aws of Strategic Marketing</a:t>
            </a:r>
            <a:endParaRPr b="0" lang="en-US" sz="34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ers may choose a strategy:</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builds directly on one of the generalization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is less directly tied to a given generalization, but they can’t change the realit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34BC-4F5B-4E1D-AF0F-E26680BA0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3">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2-5 - The Product Lifecycle</a:t>
            </a:r>
            <a:endParaRPr b="0" lang="en-US" sz="3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9B33-F50E-42FB-8EBE-03417D129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7" name="Picture 4" descr="5678.PNG"/>
          <p:cNvPicPr/>
          <p:nvPr/>
        </p:nvPicPr>
        <p:blipFill>
          <a:blip r:embed="rId1"/>
          <a:stretch/>
        </p:blipFill>
        <p:spPr>
          <a:xfrm>
            <a:off x="695160" y="1981080"/>
            <a:ext cx="775368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2-6 - Experience Curve</a:t>
            </a:r>
            <a:endParaRPr b="0" lang="en-US" sz="3400" spc="-1" strike="noStrike">
              <a:solidFill>
                <a:srgbClr val="000000"/>
              </a:solidFill>
              <a:latin typeface="Calibri"/>
            </a:endParaRPr>
          </a:p>
        </p:txBody>
      </p:sp>
      <p:sp>
        <p:nvSpPr>
          <p:cNvPr id="10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8C26-DA6D-4425-917F-F8FE10339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0" name="Picture 4" descr="yhn.PNG"/>
          <p:cNvPicPr/>
          <p:nvPr/>
        </p:nvPicPr>
        <p:blipFill>
          <a:blip r:embed="rId1"/>
          <a:stretch/>
        </p:blipFill>
        <p:spPr>
          <a:xfrm>
            <a:off x="1752480" y="1600200"/>
            <a:ext cx="5848560" cy="483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2-4 - Sources of Scale Effects</a:t>
            </a:r>
            <a:endParaRPr b="0" lang="en-US" sz="3400" spc="-1" strike="noStrike">
              <a:solidFill>
                <a:srgbClr val="000000"/>
              </a:solidFill>
              <a:latin typeface="Calibri"/>
            </a:endParaRPr>
          </a:p>
        </p:txBody>
      </p:sp>
      <p:sp>
        <p:nvSpPr>
          <p:cNvPr id="10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95E0-ED29-447B-AA47-FBEEDA539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3" name="Picture 4" descr="uiop.PNG"/>
          <p:cNvPicPr/>
          <p:nvPr/>
        </p:nvPicPr>
        <p:blipFill>
          <a:blip r:embed="rId1"/>
          <a:stretch/>
        </p:blipFill>
        <p:spPr>
          <a:xfrm>
            <a:off x="609480" y="1828800"/>
            <a:ext cx="8097840" cy="426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rket Share Effects/Share Leverage</a:t>
            </a:r>
            <a:endParaRPr b="0" lang="en-US" sz="3400" spc="-1" strike="noStrike">
              <a:solidFill>
                <a:srgbClr val="000000"/>
              </a:solidFill>
              <a:latin typeface="Calibri"/>
            </a:endParaRPr>
          </a:p>
        </p:txBody>
      </p:sp>
      <p:sp>
        <p:nvSpPr>
          <p:cNvPr id="103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rms with higher market share tend to be more profitabl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he share-profitability association is logical; market share will correlate with advantages of scal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cale leads to lower unit costs, and lower unit costs should lead to higher profi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haping strategy around market share ignores the ambiguity in the share ROI finding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C09A-02AD-4EC2-AA8C-BBF36A884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3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35">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35">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8" name="Picture 4" descr="cid:3287383400_2177562"/>
          <p:cNvPicPr/>
          <p:nvPr/>
        </p:nvPicPr>
        <p:blipFill>
          <a:blip r:embed="rId1"/>
          <a:stretch/>
        </p:blipFill>
        <p:spPr>
          <a:xfrm>
            <a:off x="533520" y="685800"/>
            <a:ext cx="8118360" cy="2647800"/>
          </a:xfrm>
          <a:prstGeom prst="rect">
            <a:avLst/>
          </a:prstGeom>
          <a:ln w="0">
            <a:noFill/>
          </a:ln>
        </p:spPr>
      </p:pic>
      <p:sp>
        <p:nvSpPr>
          <p:cNvPr id="1039"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40"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2-1 - Situation Assessment</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742A-E3E8-4774-9B53-1561B7CAE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75369.PNG"/>
          <p:cNvPicPr/>
          <p:nvPr/>
        </p:nvPicPr>
        <p:blipFill>
          <a:blip r:embed="rId1"/>
          <a:stretch/>
        </p:blipFill>
        <p:spPr>
          <a:xfrm>
            <a:off x="628560" y="2438280"/>
            <a:ext cx="7829640" cy="27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000000"/>
                </a:solidFill>
                <a:latin typeface="Calibri"/>
              </a:rPr>
              <a:t>Figure 2-2 - Concentric Markets</a:t>
            </a:r>
            <a:br>
              <a:rPr sz="3400"/>
            </a:br>
            <a:endParaRPr b="0" lang="en-US" sz="3400" spc="-1" strike="noStrike">
              <a:solidFill>
                <a:srgbClr val="000000"/>
              </a:solidFill>
              <a:latin typeface="Calibri"/>
            </a:endParaRPr>
          </a:p>
        </p:txBody>
      </p:sp>
      <p:sp>
        <p:nvSpPr>
          <p:cNvPr id="10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3457-D47E-49CA-96B5-B8081FF52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3" name="Picture 4" descr="7412.PNG"/>
          <p:cNvPicPr/>
          <p:nvPr/>
        </p:nvPicPr>
        <p:blipFill>
          <a:blip r:embed="rId1"/>
          <a:stretch/>
        </p:blipFill>
        <p:spPr>
          <a:xfrm>
            <a:off x="2166840" y="1671480"/>
            <a:ext cx="4843440" cy="478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2-1 - Questions in Competitive</a:t>
            </a:r>
            <a:br>
              <a:rPr sz="3400"/>
            </a:br>
            <a:r>
              <a:rPr b="0" lang="en-US" sz="3400" spc="-1" strike="noStrike">
                <a:solidFill>
                  <a:srgbClr val="000000"/>
                </a:solidFill>
                <a:latin typeface="Calibri"/>
              </a:rPr>
              <a:t>Assessment</a:t>
            </a:r>
            <a:endParaRPr b="0" lang="en-US" sz="3400" spc="-1" strike="noStrike">
              <a:solidFill>
                <a:srgbClr val="000000"/>
              </a:solidFill>
              <a:latin typeface="Calibri"/>
            </a:endParaRPr>
          </a:p>
        </p:txBody>
      </p:sp>
      <p:sp>
        <p:nvSpPr>
          <p:cNvPr id="10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7F75-9943-49BF-A54B-6421552B2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6" name="Picture 4" descr="0987.PNG"/>
          <p:cNvPicPr/>
          <p:nvPr/>
        </p:nvPicPr>
        <p:blipFill>
          <a:blip r:embed="rId1"/>
          <a:stretch/>
        </p:blipFill>
        <p:spPr>
          <a:xfrm>
            <a:off x="2563920" y="1523880"/>
            <a:ext cx="4217760" cy="505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2-2 - Elements of the Context: PEST</a:t>
            </a:r>
            <a:endParaRPr b="0" lang="en-US" sz="3400" spc="-1" strike="noStrike">
              <a:solidFill>
                <a:srgbClr val="000000"/>
              </a:solidFill>
              <a:latin typeface="Calibri"/>
            </a:endParaRPr>
          </a:p>
        </p:txBody>
      </p:sp>
      <p:sp>
        <p:nvSpPr>
          <p:cNvPr id="10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9592-4BF7-4B81-92C5-B4D9B0A4A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9" name="Picture 4" descr="thb.PNG"/>
          <p:cNvPicPr/>
          <p:nvPr/>
        </p:nvPicPr>
        <p:blipFill>
          <a:blip r:embed="rId1"/>
          <a:stretch/>
        </p:blipFill>
        <p:spPr>
          <a:xfrm>
            <a:off x="725400" y="169380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2-3 - Organizing Customer-Focused Research</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F47C-87C9-4B66-8915-5B34828FA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lo.PNG"/>
          <p:cNvPicPr/>
          <p:nvPr/>
        </p:nvPicPr>
        <p:blipFill>
          <a:blip r:embed="rId1"/>
          <a:stretch/>
        </p:blipFill>
        <p:spPr>
          <a:xfrm>
            <a:off x="762120" y="1925640"/>
            <a:ext cx="7619760" cy="409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2-3 - Customer Knowledge throughout Strategic Marketing Management</a:t>
            </a:r>
            <a:endParaRPr b="0" lang="en-US" sz="3400" spc="-1" strike="noStrike">
              <a:solidFill>
                <a:srgbClr val="000000"/>
              </a:solidFill>
              <a:latin typeface="Calibri"/>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C74B-E05E-4246-AC58-06F1F07CE7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5" name="Picture 4" descr="78963.PNG"/>
          <p:cNvPicPr/>
          <p:nvPr/>
        </p:nvPicPr>
        <p:blipFill>
          <a:blip r:embed="rId1"/>
          <a:stretch/>
        </p:blipFill>
        <p:spPr>
          <a:xfrm>
            <a:off x="2184480" y="1447920"/>
            <a:ext cx="4749840" cy="51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2-4 - Five Forces Industry Analysis</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12C3-3BE1-4850-8A2B-C8B05477E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09.PNG"/>
          <p:cNvPicPr/>
          <p:nvPr/>
        </p:nvPicPr>
        <p:blipFill>
          <a:blip r:embed="rId1"/>
          <a:stretch/>
        </p:blipFill>
        <p:spPr>
          <a:xfrm>
            <a:off x="1143000" y="1495440"/>
            <a:ext cx="7027920" cy="495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aws of Strategic Marketing</a:t>
            </a:r>
            <a:endParaRPr b="0" lang="en-US" sz="34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laws of marketing strategy describe essential regularities in the way things work and the way things relat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eneralizations includ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lifecycle (product-market evolution)</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e effects (cost leverag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 share effects (share leverag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43B8-1B00-4654-A06D-DB7E9EDBE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2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2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3T10:53:47Z</dcterms:modified>
  <cp:revision>499</cp:revision>
  <dc:subject/>
  <dc:title>Slide 1</dc:title>
</cp:coreProperties>
</file>