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08D5-B7DB-4D2E-8E64-6A9FB75B88C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14F4-68EF-4391-B21E-E271749D4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BBCA-D293-4E98-AC5E-8DC02E3C5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iple bottom line framework highlights three clusters of legitimate concerns for any business, and it is certainly useful for sorting out and clarifying otherwise disorganized considerations and stakehold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llenges with this framework:</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development of valid metrics for nonfinancial outcom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performance against the diverse metrics will be motivated and regulated.</a:t>
            </a: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8050-B6F4-4D02-92CF-B852F60752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clear marketing objectives enables a company t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cus and organize its effo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rect day-to-day activities and achieve consistency in decis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tivate people to strive for excelle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a basis for assessment and contr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8C07-039D-4C4A-B046-9292588D00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llustration depicts the the strategic gap or the planning ga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horizontal axis represents time, divided into the past and the futu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rtical axis represents perform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gure is divided into the past and the futur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st performance is past sales or share or past profitability (retur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uture - Marketing and financial objectives (generally heading in an upward direc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low the objectives we have a momentum forecast of our current strateg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re is a difference between the objectives and the momentum of the present strategy, we have a planning or strategic ga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igger the gap is, the more strategic change is needed in order to reach the objectiv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5E6E-5CC6-4C14-8EC7-0AB0EB89E8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gure shows the generic profitability improvement strateg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ompany might employ several of these strategies simultaneously.</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45C3-3234-4437-8523-EDD6AF8CE7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gure emphasizes the need to sort vast amounts of messy data into organized, useable information which then supports decision making and strategic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1AD3-20FB-4818-88B4-8D3309EF92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C4B9-EF57-4D7F-A882-A738AEC49C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BB32F9-BF32-452C-8345-EC67A743A7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EB1993-1A99-48F1-8C9B-B8F98617FC8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78E8E07-6636-4ED6-98C3-6204CB820B2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98D38A9-0582-4409-B639-A0FA47E7768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B518633-5481-49AB-9B78-9995E4DA6F3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860293C-F31A-42CE-A22C-9938EA709A5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C6357DD-D43C-4F6F-808B-9DD11680B6A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5FF800B-9F10-4028-ACBA-67E41FDBABF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54E9EDF-1ACD-4E24-8368-1C891734556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3126C10-BBBB-42FC-9F69-4B6D4D19415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F65E83B-457A-4CA4-9AD8-5ABCFBAB559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5FFB788-F1E9-4696-B84D-41DA8B48F89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4CD028-4D34-491E-89E5-D9E294E4BCC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81BD001-CBB7-4543-ACBB-B781F139CE9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41E83C2-BE8D-42B2-8089-FBCEC85D2E3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F9FC504-79A1-4E59-B200-A9BB882FF52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0D4BC7B-4E51-4DA6-8F9A-EB15251AEC9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59BD476-4C07-4A21-9A61-2AD0EE3698C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61190FA-EFCD-4DC7-86CF-553889FF253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9896A68-E81D-457C-B7FA-BA05CE979EE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E707148-BF00-47FB-933B-C44960142F0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F95263E-D726-41C5-BE50-702CA28B201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2C1CAF2-DBCD-4CB1-A142-B48E087101E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659465-3624-4210-80C8-9D010BF08CD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CA64CE1-ACF1-4485-B62A-418031E0AA4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0A38F2E-F0CE-46BA-8D30-9347A0AB480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D08DCA1-E48C-4698-8A05-ABEC4ED1AAF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B94ABCA-1E24-41DA-A4C0-43526E21FE8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4C19099-5272-464D-B182-90EB9EE024D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1CC1D1F-C2F2-4683-A152-6E03C3E5658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ECBB7F4-7DA2-4E78-B3FA-7890A0116F7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59B33AA-3F07-486F-BF4C-A021AA67E88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27FD4B9-1B86-4BDE-8250-3C56523D987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E86DF9D-A43F-4E61-89AD-328B0B5A731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23A1D6C-178E-44C4-9BCC-30DE440504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B574716-A2E8-4C91-AD76-C24E6024150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F3A8316-A028-4BC2-A61B-613631CA1B5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825A0C9-0ABF-431A-8CBD-8C94679154A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01D1C65-8823-49F2-A337-476A08085C8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6D59F17-1EFD-47D8-94ED-0A0DFDED525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14EC5F3-90CA-4032-9227-F6C335E4BE3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849D902-74C4-4C29-9798-0BAED94C340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6B2F25E-5FF0-4987-A7B3-779846DDD6E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D3DA31F-8584-4E99-8553-9CDAD68DECD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0355C68-6E61-47FB-9F19-87EF34FC77A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3369C9-03EB-4C0D-94E9-84888223C9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BC92846-68BD-4EFB-A7F7-8618477FA11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9AEA448-9A98-4D8A-9F04-F8E8F8F5110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4129CD7-3ED5-443B-BEE7-E122D9CFFF4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6A83854-A535-45E9-9D85-1ED6E9AB8BD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D6A7D7E-89EC-464E-8468-9537F8583C8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7A66933-DE85-4CBB-98F3-60ED0B3F795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5CA3D6A-3026-408C-B447-DEE6487A6D1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4A1178F-4049-4590-B745-5BC830B8977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3084C32-7ABA-41B7-866A-C48FF5A7FC1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1D20BF4-7D00-4B0C-9841-672C44FD40D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90B576-4FFA-4D03-B73B-93965C4A9A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D2920C1-7A83-4A1B-92ED-5273C0A976C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924F371-365D-4F4F-A9DD-D7E90C35A56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88A0736-DF7C-41CA-91D3-901FA0ED9BE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84E13A7-2629-474B-AA6B-798552BC9CA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2A4F0C0-2510-43B7-9D8C-E4F197CD4B8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8C22C33-E0DB-41AE-86DD-A481EC5E93A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9C91C37-F757-4D4E-9149-E89C2324618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0EF411FB-161B-4F01-9015-A1419223221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BCB13A9-8AEB-4D10-83D9-ECDF9619E7C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CF02CDD-44D2-47A1-9251-B78C4989AB2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D876B81-6097-413F-B019-817B1F3C5D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73D7464-BC54-4750-8C4F-BE985F4F5F7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5E554DA-13E7-4ED0-89CB-EC10A6F8A53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FA08B81-CDF0-4B47-A8B6-25313B7D09E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066919A-5AC8-456B-87FB-310D0C9ABA4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639E3CA-12E2-422A-B842-0D987988114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67E9B5B-F759-4CE3-95D1-2FD964603D6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1F6C65D-C126-4FEF-9C3F-F7B5E98FB87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A965A7C-D090-438A-9809-43017C105B4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5263B0B-E170-44E4-9CCB-2410F044466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912886E8-4FD5-4B89-ACCB-A7DFEBF9D486}"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319812-C0A6-418F-879D-EED7F54D5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775CCBC-1B90-4663-9E55-964D3974870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1E28D6C-712A-411F-922B-A09A6A6A697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A9C4948C-368D-4882-B6B6-FA8B7EA962F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4F3DB09-54DD-4FFD-9DFC-4DC3E5D8245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93E5587-D041-4558-BA82-6B6A29A1B0E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0E56139-A64A-4B91-B0FB-25D526D437D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6A6D580-88E3-4812-AFA3-47285ADEF37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CAC989B-8190-4F91-BD34-B9DA61E8DF2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3BA1A5F-7CE4-4BAE-BE69-146AAC85E16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B16F4D58-BFF6-423E-A9A0-24749CA09C86}"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E1A37A-61AA-44C9-9AA2-AC7259534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8600A39A-E174-4E2B-85C9-A267F810B972}"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0B7294CB-2F32-4F24-9E5E-B3CD8C021CBE}"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2089852-4108-4294-AB4C-A9C34AFF33A6}"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1652D2B7-AAE4-4D70-8567-4A39EE536F4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A37DD66-11D5-4B0E-860F-F4CDA47D9F9B}"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11EC489-92B5-485D-B45E-7A0C1A7F16BA}"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C5E2B44-8EB0-4F50-A395-8D5C866ABCB7}"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B89749B-3F62-46D0-A425-A1F7ED6787D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8FA934F-DBAF-4078-913D-692A5633FA1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C16B293-001C-4E68-A260-850E69A85D7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9DDD61-054E-43B2-804C-E559092938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2F49483-DB65-4F9F-A3E3-A39AE3021A57}"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3BBB50BD-0AE3-4F63-A7F8-9615777155D4}"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400C0EBC-D7B8-4F98-8140-DA824060A19A}"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50921A86-4F6E-48C8-9874-BC1232864AA1}"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12131099-A434-40F1-ADBD-CF41BD1016B5}"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F95368B3-1C30-4A2A-A11A-239AB157B98F}"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9DAB0FF9-D3CD-4133-B188-18885729EB9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76ED4955-3E84-4639-B0D3-EF7D94266C9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61D28B42-0C15-4031-A78A-B877B08DE0EB}"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51D0058-C340-431F-8EEB-BAFFD99845B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AF51E-9104-4E4A-B4B8-66FEA8D0A1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9BE32C-1B95-4F4A-8C1F-DD0BA3A9D1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FA499C97-3B34-4960-9FF4-317F88669FC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E3F803F-C53F-40CA-AF43-AF4B0E4BCA8B}"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86AC889B-4C2B-45A5-A416-2E8A76EC2AD7}"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F5A8F1DE-D344-4C5A-867D-4C215B43A1D6}"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2A6E41AE-FC46-47C8-A0E9-7FAA3837FC70}"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D33FEA06-AE84-44A6-8269-6B7CCF3E49D0}"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CD41B049-90BB-4190-A96E-3BED91875D5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F21B4D87-30A7-4DBD-9B85-7C30B62A326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EF304091-F3CD-4C6C-8067-DBEADE5D38F4}"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5AB14F14-6F2B-4D5D-BF39-E72CC9AF1CDD}"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B33164-356B-4D18-BF27-8F4B67FC1E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477A4F0B-D9B2-4F99-B973-66710386787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2497D09-F8FE-4A1C-A0F9-DA6690C5897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F60E0AA6-9578-47F1-828E-D1303EA28CCC}"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A9C3BAE-E675-4859-966C-8D0F58A5CBFA}"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2424C9D7-F80F-4B20-A8C8-98699F9C965E}"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4B5F1F07-77D1-42CE-8CED-A89E742BDB4E}"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C44277D0-C061-43C7-A0B6-75691B9D0163}"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AF7E8637-024E-40DC-9A3E-406E297B2D6F}"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DE94BA52-60B4-4080-88F5-AA0D1D494090}"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EFBF7A3D-2CC2-4122-910D-ED932D3F17A0}"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5DAC82-5DE2-44EE-8C61-F8EB215D5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A1D29F77-0F58-4963-A827-7017B50FF5A1}"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3E0D7994-3AAD-437A-9059-A59280AA8FFF}"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D929AC7B-4394-402F-82C3-AB77880BE43D}"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9FBDAE9-946B-4ED7-BEBA-9A8FCEBD9EB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6373685C-99E6-43FA-A160-98FDB54C4771}"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514ABAF3-4ABC-421A-859E-61C979C210CF}"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84F19765-5DE5-4A70-B56B-54EE4EDBE345}"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E405009D-F953-42FC-8038-6940F18DC3CC}"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A387C586-51B0-43F1-955A-157FCD227607}"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F8B36906-5DC6-4719-9DDA-66E02015FF81}"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72F33B9-67BE-4A36-BD56-397552AD0D4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DF81F6B4-39E2-4D58-8173-0903C8E22744}"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1CBFBEB4-66C6-4F68-9ACB-625A0043CC81}"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561ABCD4-664C-480C-8B3F-17F1ACECC522}"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387BCCF3-5698-4120-B3B6-BC156711993C}"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EFE36E5D-5965-4B66-B1CE-ACF94CDB79FB}"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FF15B129-946E-4D6C-87D9-EEF49CE0884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A50B0EE-68BD-4FE4-A54E-A62113035235}"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451978FE-CD19-4C32-BCB3-5B7831581569}"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AE33B2E0-119F-44B6-9B9F-41296C5D1C9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93B9B7E1-9AEA-433F-BCFF-BAF8C2CB8F55}"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3CFF1D9-678E-4ADD-A0E5-21007F1D730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8D58D2B6-781A-4B7B-AA19-C38A5690818E}"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55B14D1E-8743-4954-AC8E-1B048B7B6B2D}"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2D6EBCA6-B0D5-454A-B25D-43C53AA0548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9E04B96A-165A-4E72-BB5A-F828902522C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EE0F2384-2920-4568-9EBE-407624F4D03A}"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7FCF1A4C-62F3-4AEE-B6D2-F978A462FD4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B948FA14-87BD-4197-8D0A-E95A38A0AD24}"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2A9DF076-FDC3-4A85-8A7F-9EDBBFD8CB9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C5BF2E9-3B47-428B-88C1-48CF2062884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157A874C-D082-49C0-9028-9CDF1EF1539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2DF9D53D-9326-488E-B90C-26F2CF21526E}"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F4DFA60D-48FE-47AA-9AF5-4D9057CA3254}"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8DF4CC79-9D45-4393-9A04-1544173CED57}"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62CEDD60-A780-489B-B9B9-F8D32133BC1A}"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271C2895-9FC7-43C0-AEB4-7EAEE889C4D3}"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8FCB5182-74B0-4CDC-B80F-8A40CFE46B02}"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C5E3425E-CC07-4E7B-BF9F-4E007CCF044B}"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24054547-DE2D-47D5-B28E-1A0E4DA26CC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FABD8FFA-1482-4F0F-831B-E352DF302987}"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7B1D7AD-0735-4455-AA6F-777E7C5C6D8A}"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1EC63C3-909C-4190-8D8F-5CE53E2F9A3A}"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C1BFDA9-C67F-478F-85B1-11498AC16C7D}"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D168ED8-8DEB-412B-9748-74F25FF5DB47}"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F2AF7B91-B22D-434C-B824-B575D6064F9A}"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CDD819B9-2BBC-4316-8D67-E84042D43CAF}"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019751FB-1415-4272-9C01-BBFEB30C00CC}"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06E42826-F6F2-4F5F-B2C3-754A1ADBA2A2}"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6FE9B13E-D6DD-4318-8705-4D29CD75CF84}"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049EBF29-5A49-403C-8C7E-561C0D6986CA}"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348FE6B6-4590-4B21-80CB-21EF382FAC52}"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1499563A-2BE1-4864-ADCF-5E01F5BA9818}"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5204481-97A4-40F2-9ECE-0E0B078E660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419595D-96B0-411F-BAC6-1328DF8E80EE}"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EDBE24F-5BE1-49FB-9C62-EAC996FBB42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30BAB57-1996-494B-BFB0-31191E236174}"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ADDEB7B6-6DD4-4FFB-9AC0-C6CA420E3796}"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FD1A82D3-20DE-481B-B103-C9C8971091DD}"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7AF2DDB1-A174-433C-97C0-41D551D6840E}"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C1AAEF3A-28BC-4FD3-BF86-F58F70191402}"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F492761E-4394-460C-ACFF-132691E093B2}"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3215A1DC-10A0-4D9C-895B-28155531ADD5}"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0E013D06-A18C-44D4-94DB-2C4561A8F11D}"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3B541752-3353-4DCB-84DC-8BFEBD6782B1}"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2B8AA0E-EEAC-4C68-82A2-8F827FF65EE3}"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EF4A37EE-F80B-45E6-BE38-8BE2EA4E1CA9}"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650E1A2-B6A7-4382-95F1-2E1C57FE4F1D}"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6C28B81E-9E47-4DA8-810B-C208B56E4920}"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FE6E5694-144E-4583-97FB-D1EAE436508B}"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679769B9-0E22-415F-BA2A-AC5F34097925}"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1DE26-2AAD-457E-97E8-485CD38AFC9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56A8127-A2D6-4474-A186-32F11620D40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BF643DB2-CB5F-41F5-AFFB-785186B1C75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0B8D9BE-01CA-4693-A773-944F220A43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402A81-F4AB-434F-8861-13F64573623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2E6AA4CB-1972-4DD9-AB43-86B349E58DA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F66E75D8-51BD-45A3-BDB2-AA8CE0265BD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EE8C37F1-4F3F-48DD-BFA1-077F0A980EB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9DFC8B0C-4018-400D-945F-C83DBAB9FAA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BF43EECF-384F-4C6F-ADDD-9A45139EC21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9BAC6DB-88CC-4E0C-895B-A9D71E1DDDE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65BB0F20-3A7F-47C7-A371-CB378D13B3C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1E549CD5-49E7-4A70-80A1-B39A5592CF4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D86DDC83-C496-4C6D-942E-4EE886EEACF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D2E06F3-9FA1-48BF-8E56-D381ED0494D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84E1B0-E350-4BEF-B6B5-D3DC079F4DB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0CFCF0-F860-452A-8A50-EB439C3C27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D7DC74-FDF2-4B3A-B987-15DE9A79084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FB21929-90C5-4CDF-8C8D-1DE4DB35802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920E55-B719-49A6-8915-7F4828DE147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F14CD8-5ECB-4632-983E-120C87EE99E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1AD74DE-E1A0-4104-AFF8-7D34897741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17B882-2635-4771-B95B-6B7E779D5A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D9F9D0-5DBC-4DED-ABEE-C82E7654F1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DFA6448-B2E8-4BC1-9FB4-266966656A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DE9FA3F-3F8B-48F4-8BAB-FAADE95032C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B395146-4556-4B90-98BC-A216D51EDC8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E78B6EA-295F-43E8-912A-E7BD9F9BB44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633F177-D13F-4924-9C39-48DEC8943AD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33D5C0A-DC42-42F9-92D0-0AD5D2629C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EAD735E-59CE-44B8-BAFC-E900324993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4B70C1F-0AEC-40B3-93A4-316B8F663B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60D8F9A-592D-4B08-8D0C-025BF9DFF2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19B675-60E7-4A36-BDF4-5A5912D6C3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883FF3-0588-4E47-B02C-EC370C4149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D34E50-44A1-408E-B069-C90E4EB0B3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FE517E-08BA-4A61-AA20-833851811B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E7D7C-6E43-4B5D-A4BF-54BA2D054E7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B94DE15-D77A-40D4-BFE4-E51300C7AA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1C0919E-DCE1-4CCF-929C-65565B83383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577FE8A-3628-4CF1-9AA8-E9B3896F2E0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5F5D153-CDAE-4B21-A95A-33DD6B67252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A28CADC-ECA2-4659-8AB3-3E39E4B3177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FB62E76-B6F6-4F5F-BD36-3E57057928C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759F26F-A1AD-4707-B901-7B411C58146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B65C49C-74E9-41BC-BDE2-F5D913676DD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8338C82-0D37-4581-8B80-5055037208C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A9C8915-BE90-4CE7-8B2A-F8C10CC8A94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804E2-C501-451C-A300-E98B7F62FAB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020FB6B-7A84-403E-B514-52B8BF5927B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EBF15D2-6932-4437-8F16-AD7C1306444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9B78AA2-3C77-47B3-BD4F-60E06C48C55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B80E4D1-45B4-4975-ABC3-372D45F5290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D80224A-5CCF-4F91-B537-64874BC1564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7C27EF8-1F25-4F8E-94CF-03523C663E4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A7E25A7-FE3A-4ECB-99BD-581B43736BB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493DB40-1EC7-47D5-8052-BA7A4AD8C72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6DC5712-2BEC-4615-8769-828194D915D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B10C125-E829-4AE2-9524-FBDD2848CD0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4EC60A-1792-4BAD-9878-024228578B8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3031895-B266-4DA9-A5AA-635C5D242EF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5596F8B-43D7-4B02-BAA6-A14F70E7CD7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B9D1AE5-C164-4C64-9505-A2FD5D4C162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7E5D324-C917-4D6D-845F-F6037F1C995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51F1113-7EAF-4980-A695-1524190EB81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CA42F18-3BE9-4728-AAE5-D0B1C60CB9A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CEB293D-99DF-4C93-8B7E-28E6876D702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89CBD7A-956A-4C35-8733-EA2FDD11CB1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0E77BB5-846C-46B8-A22A-C4119785865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5984638-1436-451F-B10B-671F65611558}"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69FC-5E6C-478A-9D21-7D9C4BD235C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9264-F183-4D8D-BE6D-FDC0FE0812A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D480-B612-49B3-91F3-FA1BDE3BCDA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DBA7-FD7A-422B-9A1D-7FC692EE582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D531-0585-476F-8874-3579FF76375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B64E-1A4E-44F7-80B0-6B66775122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7281-F8D1-403B-B83A-A5EA533FFE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04A3-F12B-4D27-A9EB-D0601CAEC2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95BC-AC25-4E32-BDF6-9E65BF0CF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6628-3DA1-4206-B7C9-15DBDBED72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942A-3D8A-4570-8F59-9B6FA709B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B57C-6D58-45AE-B87E-ADB0AD4474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00AC-ACB0-4755-81BE-DB4B65C63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40F5B-B247-421F-B570-D556BEE1DA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271E-F3A6-43D5-8937-150436A1E5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DD5F-2D45-4BA9-8699-C44BA99EC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4950-EB4E-4E18-8C98-A618E8DDB4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12DB-9E4B-4321-A971-EC49CD7C459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DED8-1527-416C-AFE7-18B5AAA9196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CCED-019F-4F9D-88BF-D72735D013A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29C3-D326-449B-A4C1-5417AD61346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9A94-6CF6-49E5-9507-321F973ECA5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2CC1-76FB-420C-B7E4-60A49A2649A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pter 3</a:t>
            </a:r>
            <a:br>
              <a:rPr sz="3400"/>
            </a:br>
            <a:r>
              <a:rPr b="0" lang="en-US" sz="3400" spc="-1" strike="noStrike">
                <a:solidFill>
                  <a:srgbClr val="000000"/>
                </a:solidFill>
                <a:latin typeface="Calibri"/>
              </a:rPr>
              <a:t>Situation Assessment:</a:t>
            </a:r>
            <a:br>
              <a:rPr sz="3400"/>
            </a:br>
            <a:r>
              <a:rPr b="0" lang="en-US" sz="3400" spc="-1" strike="noStrike">
                <a:solidFill>
                  <a:srgbClr val="000000"/>
                </a:solidFill>
                <a:latin typeface="Calibri"/>
              </a:rPr>
              <a:t>The Company</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akeholder Theory</a:t>
            </a:r>
            <a:endParaRPr b="0" lang="en-US" sz="34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keholders vary:</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ir interest in the outcomes of the firm’s operations and in its success </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ir power or influence over the firms action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2422-55EF-445A-B5FE-C6CE138335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023">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023">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0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akeholder Theory</a:t>
            </a:r>
            <a:endParaRPr b="0" lang="en-US" sz="3400" spc="-1" strike="noStrike">
              <a:solidFill>
                <a:srgbClr val="000000"/>
              </a:solidFill>
              <a:latin typeface="Calibri"/>
            </a:endParaRPr>
          </a:p>
        </p:txBody>
      </p:sp>
      <p:sp>
        <p:nvSpPr>
          <p:cNvPr id="1026"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undamental premise of stakeholder analysis is a recognition that:</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ms have always had broader groups of interested parties than just shareholder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keholders have:</a:t>
            </a:r>
            <a:endParaRPr b="0" lang="en-US" sz="2400" spc="-1" strike="noStrike">
              <a:solidFill>
                <a:srgbClr val="000000"/>
              </a:solidFill>
              <a:latin typeface="Calibri"/>
            </a:endParaRPr>
          </a:p>
          <a:p>
            <a:pPr lvl="2" marL="1143000" indent="-228600">
              <a:spcBef>
                <a:spcPts val="550"/>
              </a:spcBef>
              <a:buClr>
                <a:srgbClr val="005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ying degrees of legitimate claims on the capabilities and resources of the firm </a:t>
            </a:r>
            <a:endParaRPr b="0" lang="en-US" sz="2200" spc="-1" strike="noStrike">
              <a:solidFill>
                <a:srgbClr val="000000"/>
              </a:solidFill>
              <a:latin typeface="Calibri"/>
            </a:endParaRPr>
          </a:p>
          <a:p>
            <a:pPr lvl="2" marL="1143000" indent="-228600">
              <a:spcBef>
                <a:spcPts val="550"/>
              </a:spcBef>
              <a:buClr>
                <a:srgbClr val="005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gitimate power to influence the firm’s missions, visions, strategies, and actions</a:t>
            </a:r>
            <a:endParaRPr b="0" lang="en-US" sz="22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18C6-748A-4C80-A2EE-588B6299EE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26">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02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02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026">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0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3-1 - The Triple Bottom Line</a:t>
            </a:r>
            <a:endParaRPr b="0" lang="en-US" sz="3400" spc="-1" strike="noStrike">
              <a:solidFill>
                <a:srgbClr val="000000"/>
              </a:solidFill>
              <a:latin typeface="Calibri"/>
            </a:endParaRPr>
          </a:p>
        </p:txBody>
      </p:sp>
      <p:sp>
        <p:nvSpPr>
          <p:cNvPr id="10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675D-D9B9-4A8B-A71F-F407DA2D1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0" name="Picture 4" descr="asdf.PNG"/>
          <p:cNvPicPr/>
          <p:nvPr/>
        </p:nvPicPr>
        <p:blipFill>
          <a:blip r:embed="rId1"/>
          <a:stretch/>
        </p:blipFill>
        <p:spPr>
          <a:xfrm>
            <a:off x="1600200" y="1616040"/>
            <a:ext cx="5905440" cy="478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ssessing Past Performance</a:t>
            </a:r>
            <a:br>
              <a:rPr sz="3400"/>
            </a:br>
            <a:r>
              <a:rPr b="0" lang="en-US" sz="3400" spc="-1" strike="noStrike">
                <a:solidFill>
                  <a:srgbClr val="000000"/>
                </a:solidFill>
                <a:latin typeface="Calibri"/>
              </a:rPr>
              <a:t>and Current Strategy</a:t>
            </a:r>
            <a:endParaRPr b="0" lang="en-US" sz="3400" spc="-1" strike="noStrike">
              <a:solidFill>
                <a:srgbClr val="000000"/>
              </a:solidFill>
              <a:latin typeface="Calibri"/>
            </a:endParaRPr>
          </a:p>
        </p:txBody>
      </p:sp>
      <p:sp>
        <p:nvSpPr>
          <p:cNvPr id="103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llenge the present strategy, assessing its current competitiveness, and looking for areas of leverage are essential in developing the next strategi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ctors incorporated into assessment of past performance:</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of ongoing financial and operating performanc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of data from marketing information system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standing of the firm’s existing competitive advantages and disadvantages vis-à-vis the competition</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73BE0-2BBD-46C9-9D82-12EA2B119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032">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032">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032">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032">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0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ssessing Past Performance</a:t>
            </a:r>
            <a:br>
              <a:rPr sz="3400"/>
            </a:br>
            <a:r>
              <a:rPr b="0" lang="en-US" sz="3400" spc="-1" strike="noStrike">
                <a:solidFill>
                  <a:srgbClr val="000000"/>
                </a:solidFill>
                <a:latin typeface="Calibri"/>
              </a:rPr>
              <a:t>and Current Strategy</a:t>
            </a:r>
            <a:endParaRPr b="0" lang="en-US" sz="3400" spc="-1" strike="noStrike">
              <a:solidFill>
                <a:srgbClr val="000000"/>
              </a:solidFill>
              <a:latin typeface="Calibri"/>
            </a:endParaRPr>
          </a:p>
        </p:txBody>
      </p:sp>
      <p:sp>
        <p:nvSpPr>
          <p:cNvPr id="103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tisfaction, profitability, and loyalty are essential markers of quality from the customers’ perspectiv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derstanding a company’s competitive advantages is a crucial company-related consideration in creating and maintaining effective strategi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36B0-23CE-4ED0-B5A5-676566E7A4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35">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3-1 - SMART Marketing-Plan Objectives</a:t>
            </a:r>
            <a:endParaRPr b="0" lang="en-US" sz="3400" spc="-1" strike="noStrike">
              <a:solidFill>
                <a:srgbClr val="000000"/>
              </a:solidFill>
              <a:latin typeface="Calibri"/>
            </a:endParaRPr>
          </a:p>
        </p:txBody>
      </p:sp>
      <p:sp>
        <p:nvSpPr>
          <p:cNvPr id="10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FF01-C7CA-4691-B1C2-55A935DCAD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9" name="Picture 4" descr="258963.PNG"/>
          <p:cNvPicPr/>
          <p:nvPr/>
        </p:nvPicPr>
        <p:blipFill>
          <a:blip r:embed="rId1"/>
          <a:stretch/>
        </p:blipFill>
        <p:spPr>
          <a:xfrm>
            <a:off x="487440" y="2508120"/>
            <a:ext cx="8153280" cy="236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stablishing Preliminary Objectives and Targets</a:t>
            </a:r>
            <a:endParaRPr b="0" lang="en-US" sz="3400" spc="-1" strike="noStrike">
              <a:solidFill>
                <a:srgbClr val="000000"/>
              </a:solidFill>
              <a:latin typeface="Calibri"/>
            </a:endParaRPr>
          </a:p>
        </p:txBody>
      </p:sp>
      <p:sp>
        <p:nvSpPr>
          <p:cNvPr id="1041"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wo distinct kinds of objectives are useful and common in developing marketing strategie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ing related objectiv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objective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ical marketing objective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volume and market shar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er readiness variabl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er behaviors and attitud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unts and distribution</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D1A6-9B00-4519-B915-C3253B1F0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4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41">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41">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41">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041">
                                            <p:txEl>
                                              <p:pRg st="4" end="4"/>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041">
                                            <p:txEl>
                                              <p:pRg st="5" end="5"/>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041">
                                            <p:txEl>
                                              <p:pRg st="6" end="6"/>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0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stablishing Preliminary Objectives and Targets</a:t>
            </a:r>
            <a:endParaRPr b="0" lang="en-US" sz="3400" spc="-1" strike="noStrike">
              <a:solidFill>
                <a:srgbClr val="000000"/>
              </a:solidFill>
              <a:latin typeface="Calibri"/>
            </a:endParaRPr>
          </a:p>
        </p:txBody>
      </p:sp>
      <p:sp>
        <p:nvSpPr>
          <p:cNvPr id="1044"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ical financial objective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s and return-on-investment</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sts of marketing</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ntory and logistic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BA045-2AB6-4D0A-AA58-392AA4F6B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044">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044">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044">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3-2 - The Planning or Strategic Gap</a:t>
            </a:r>
            <a:endParaRPr b="0" lang="en-US" sz="3400" spc="-1" strike="noStrike">
              <a:solidFill>
                <a:srgbClr val="000000"/>
              </a:solidFill>
              <a:latin typeface="Calibri"/>
            </a:endParaRPr>
          </a:p>
        </p:txBody>
      </p:sp>
      <p:sp>
        <p:nvSpPr>
          <p:cNvPr id="10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C4FD-6822-4C78-A59C-B1A105C103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48" name="Picture 4" descr="5236.PNG"/>
          <p:cNvPicPr/>
          <p:nvPr/>
        </p:nvPicPr>
        <p:blipFill>
          <a:blip r:embed="rId1"/>
          <a:stretch/>
        </p:blipFill>
        <p:spPr>
          <a:xfrm>
            <a:off x="838080" y="1674720"/>
            <a:ext cx="7520040" cy="4649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3-3 - Alternatives for Improving Profitability</a:t>
            </a:r>
            <a:endParaRPr b="0" lang="en-US" sz="3400" spc="-1" strike="noStrike">
              <a:solidFill>
                <a:srgbClr val="000000"/>
              </a:solidFill>
              <a:latin typeface="Calibri"/>
            </a:endParaRPr>
          </a:p>
        </p:txBody>
      </p:sp>
      <p:sp>
        <p:nvSpPr>
          <p:cNvPr id="10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1DCA-A5D5-47A0-988D-D47972E90D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51" name="Picture 4" descr="741.PNG"/>
          <p:cNvPicPr/>
          <p:nvPr/>
        </p:nvPicPr>
        <p:blipFill>
          <a:blip r:embed="rId1"/>
          <a:stretch/>
        </p:blipFill>
        <p:spPr>
          <a:xfrm>
            <a:off x="1889280" y="1676520"/>
            <a:ext cx="489240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roduction</a:t>
            </a:r>
            <a:endParaRPr b="0" lang="en-US" sz="34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ategies and tactic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be developed within an understanding of the overarching organizational context</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uld contribute to the overall mission and goals</a:t>
            </a:r>
            <a:endParaRPr b="0" lang="en-US" sz="2400" spc="-1" strike="noStrike">
              <a:solidFill>
                <a:srgbClr val="000000"/>
              </a:solidFill>
              <a:latin typeface="Calibri"/>
            </a:endParaRPr>
          </a:p>
        </p:txBody>
      </p:sp>
      <p:sp>
        <p:nvSpPr>
          <p:cNvPr id="10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5F48-2A85-4FBB-83E3-9AD1F8846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egrating Situation Assessment</a:t>
            </a:r>
            <a:endParaRPr b="0" lang="en-US" sz="3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tuation assessments are analytical</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ssess, integrate, and organize vast and potentially overwhelming data into organized information that can be used to drive decision making and action</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tuation assessment establishes the foundations for planning and strategy formulation</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0387-AC8A-4A95-B7F2-D0DF8F061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053">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053">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0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egrating Situation Assessment</a:t>
            </a:r>
            <a:endParaRPr b="0" lang="en-US" sz="3400" spc="-1" strike="noStrike">
              <a:solidFill>
                <a:srgbClr val="000000"/>
              </a:solidFill>
              <a:latin typeface="Calibri"/>
            </a:endParaRPr>
          </a:p>
        </p:txBody>
      </p:sp>
      <p:sp>
        <p:nvSpPr>
          <p:cNvPr id="1056"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ols for systematically managing and integrating situation assessment and to structure the product of that assessment in ways that facilitate strategic thinking</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evance test</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enario analysi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1AA2-1EE2-4297-9D76-A5B5B06B5C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05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056">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0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3-4 - From Data to Information to Decisions to Action</a:t>
            </a:r>
            <a:endParaRPr b="0" lang="en-US" sz="3400" spc="-1" strike="noStrike">
              <a:solidFill>
                <a:srgbClr val="000000"/>
              </a:solidFill>
              <a:latin typeface="Calibri"/>
            </a:endParaRPr>
          </a:p>
        </p:txBody>
      </p:sp>
      <p:sp>
        <p:nvSpPr>
          <p:cNvPr id="10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891A-796B-4DB4-AF55-8B866E61BF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60" name="Picture 4" descr="12.PNG"/>
          <p:cNvPicPr/>
          <p:nvPr/>
        </p:nvPicPr>
        <p:blipFill>
          <a:blip r:embed="rId1"/>
          <a:stretch/>
        </p:blipFill>
        <p:spPr>
          <a:xfrm>
            <a:off x="1600200" y="1473120"/>
            <a:ext cx="5958000" cy="500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inking Situation Assessment to Relevant Tools and Frameworks</a:t>
            </a:r>
            <a:endParaRPr b="0" lang="en-US" sz="3400" spc="-1" strike="noStrike">
              <a:solidFill>
                <a:srgbClr val="000000"/>
              </a:solidFill>
              <a:latin typeface="Calibri"/>
            </a:endParaRPr>
          </a:p>
        </p:txBody>
      </p:sp>
      <p:sp>
        <p:nvSpPr>
          <p:cNvPr id="10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09F42-34C6-4892-8CE4-2EDE401BA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63" name="Picture 4" descr="werty.PNG"/>
          <p:cNvPicPr/>
          <p:nvPr/>
        </p:nvPicPr>
        <p:blipFill>
          <a:blip r:embed="rId1"/>
          <a:stretch/>
        </p:blipFill>
        <p:spPr>
          <a:xfrm>
            <a:off x="1103400" y="1600200"/>
            <a:ext cx="6897600" cy="4853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5" name="Picture 4" descr="cid:3287383400_2177562"/>
          <p:cNvPicPr/>
          <p:nvPr/>
        </p:nvPicPr>
        <p:blipFill>
          <a:blip r:embed="rId1"/>
          <a:stretch/>
        </p:blipFill>
        <p:spPr>
          <a:xfrm>
            <a:off x="533520" y="685800"/>
            <a:ext cx="8118360" cy="2647800"/>
          </a:xfrm>
          <a:prstGeom prst="rect">
            <a:avLst/>
          </a:prstGeom>
          <a:ln w="0">
            <a:noFill/>
          </a:ln>
        </p:spPr>
      </p:pic>
      <p:sp>
        <p:nvSpPr>
          <p:cNvPr id="1066"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67"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roduction</a:t>
            </a:r>
            <a:endParaRPr b="0" lang="en-US" sz="3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ny assessment includes four related consideration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guidance statements: missions and valu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ing past performance and current strateg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ing preliminary objectives and targets </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ing strategic gap(s) or planning gaps</a:t>
            </a:r>
            <a:endParaRPr b="0" lang="en-US" sz="2400" spc="-1" strike="noStrike">
              <a:solidFill>
                <a:srgbClr val="000000"/>
              </a:solidFill>
              <a:latin typeface="Calibri"/>
            </a:endParaRPr>
          </a:p>
        </p:txBody>
      </p:sp>
      <p:sp>
        <p:nvSpPr>
          <p:cNvPr id="10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4D48-6A36-467D-B925-4ACA2707C0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0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02">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0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02">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ing Guidance Statements: Missions and Visions</a:t>
            </a:r>
            <a:endParaRPr b="0" lang="en-US" sz="3400" spc="-1" strike="noStrike">
              <a:solidFill>
                <a:srgbClr val="000000"/>
              </a:solidFill>
              <a:latin typeface="Calibri"/>
            </a:endParaRPr>
          </a:p>
        </p:txBody>
      </p:sp>
      <p:sp>
        <p:nvSpPr>
          <p:cNvPr id="100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rms and business units begin their strategy formulation process with a mission or a vision statement</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sion statements establish purpose and values that shape an organizations vision</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on statements are the forward-looking part of the mission</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D40E8-54C9-427A-915A-C42DB60E7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05">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05">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ing Guidance Statements: Missions and Visions</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ssion/vision statements should include four element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e purpose of the compan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e values of the compan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isionary goal </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vivid description of the envisioned future</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AF5D-D7A6-4506-8514-912683F7F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08">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08">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08">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08">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ing Guidance Statements: Missions and Visions</a:t>
            </a:r>
            <a:endParaRPr b="0" lang="en-US" sz="3400" spc="-1" strike="noStrike">
              <a:solidFill>
                <a:srgbClr val="000000"/>
              </a:solidFill>
              <a:latin typeface="Calibri"/>
            </a:endParaRPr>
          </a:p>
        </p:txBody>
      </p:sp>
      <p:sp>
        <p:nvSpPr>
          <p:cNvPr id="1011"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strategic management, goals and objective are not the same:</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als - desired results and conditions that are longer-term and general</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ives - desired results or conditions that are short-term and specific</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als are specified in mission and vision statement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ives are related to marketing plans, to specified time periods, and to specific marketing mixe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07AB-684E-4BC4-816E-F78C5DC1DA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011">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11">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11">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11">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ing Guidance Statements: Corporate Social Responsibility</a:t>
            </a:r>
            <a:endParaRPr b="0" lang="en-US" sz="34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very important that marketing strategists consider corporate social responsibility</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 executive and the firm reject broader obligations, the rejection should be deliberate and explicit</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rporate social responsibility - a firm taking actions that appear to further some social good, beyond the interests of the firm and that which is required by law</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ubsumes concerns for social and environmental outcom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41E6-2584-4D6F-B48F-FCE1C98F32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14">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14">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14">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0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nging Sentiment Toward Corporate Social Responsibility</a:t>
            </a:r>
            <a:endParaRPr b="0" lang="en-US" sz="34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titudes toward corporate social responsibility and the scope of “legitimate” commercial interests have evolved and continue to do so</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e can search for opportunities to do business in socially and environmentally responsible ways that also enhance profitability and shareholder valu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0F30-5CF6-4B4C-AA5A-9F756F287B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17">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akeholder Theory</a:t>
            </a:r>
            <a:endParaRPr b="0" lang="en-US" sz="34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broadens the understanding of the firm’s legitimate audiences and responsibiliti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asks two questions: </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firm’s purpose? </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firm’s obligations to its stakeholder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keholders - various groups of people or organizations that have an interest/ stake in the actions and the success of the firm</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t>
            </a:r>
            <a:r>
              <a:rPr b="0" lang="en-US" sz="2400" spc="-1" strike="noStrike">
                <a:solidFill>
                  <a:srgbClr val="000000"/>
                </a:solidFill>
                <a:latin typeface="Calibri"/>
              </a:rPr>
              <a:t>	</a:t>
            </a:r>
            <a:r>
              <a:rPr b="0" lang="en-US" sz="2400" spc="-1" strike="noStrike">
                <a:solidFill>
                  <a:srgbClr val="000000"/>
                </a:solidFill>
                <a:latin typeface="Calibri"/>
              </a:rPr>
              <a:t>hey can be internal or external</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D24A-CB57-4BD1-B45C-AAB149554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020">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020">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020">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20">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20">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14T08:51:48Z</dcterms:modified>
  <cp:revision>698</cp:revision>
  <dc:subject/>
  <dc:title>Slide 1</dc:title>
</cp:coreProperties>
</file>