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CDF1-265D-4151-AC07-86F482B6B5A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0247-4A4A-4DEF-B296-27433FC87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6E59-FD69-425C-B1EF-C6E4AF6AE4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iple bottom line framework highlights three clusters of legitimate concerns for any business, and it is certainly useful for sorting out and clarifying otherwise disorganized considerations and stakehold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llenges with this framework:</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evelopment of valid metrics for nonfinancial outcom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performance against the diverse metrics will be motivated and regulated.</a:t>
            </a: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12BF-4966-40C3-A1C9-FC1CDCAB5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clear marketing objectives enables a company t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cus and organize its effo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rect day-to-day activities and achieve consistency in decis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tivate people to strive for excelle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a basis for assessment and contr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061A-A99E-446D-943A-6F811117F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llustration depicts the the strategic gap or the planning ga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orizontal axis represents time, divided into the past and the futu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rtical axis represents perform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gure is divided into the past and the futur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st performance is past sales or share or past profitability (retur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uture - Marketing and financial objectives (generally heading in an upward dire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low the objectives we have a momentum forecast of our current strateg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re is a difference between the objectives and the momentum of the present strategy, we have a planning or strategic ga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igger the gap is, the more strategic change is needed in order to reach the objectiv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B19B-DC2A-4A7A-BADC-A3F3BE88C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gure shows the generic profitability improvement strateg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ompany might employ several of these strategies simultaneousl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85B7-1127-4CDD-8156-8D15FC241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gure emphasizes the need to sort vast amounts of messy data into organized, useable information which then supports decision making and strategic 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7D2D-2EAB-4E87-BDF0-991FA4B8A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B1C8-843F-4E7F-A746-BA4AEEF96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E4BCA-D878-4DF1-AA94-A479100EC9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19E66-5356-4103-BDAB-7EF004B70B5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64F9F20-870B-4C38-AA92-0259369E617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A9F7E31-77D3-45E1-9B0F-99158B5B57B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E3141BD-71DE-49C9-ACCD-25C4FFCC183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D38E09-CD5C-4F46-871A-B305653D320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C1F999-D828-404C-B3A9-2C015882ABD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3623989-AAAC-41F2-A0CD-510C5ABA0A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220E8F9-D9F7-4972-B81D-F55D6FC6B21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BC8D583-7ADE-4AE1-AA70-D6B0061A65C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FC41E1E-8AAC-40AF-876F-1C756599FFF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D0CE0FE-4308-40A6-A4DD-6E346E376B8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F3CF15-F92E-4EA0-9A96-F6599F8E0B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66C8326-8572-4927-BE5F-E10A282DE5F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52F255D-1B58-4137-90AB-97BAE484738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44D1261-AA1B-4902-B6F1-91F0FCEE5F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1E194B4-2DD5-4867-AFDF-F6A32F2AC25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A543492-08C2-4D72-B1AB-BDCB513991A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9F3695B-AFAF-490E-9598-D420FB7E786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5738E08-7F26-4C57-BD8D-8883D25C350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0073AE-BA18-499E-824C-5CB02B8B3A4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AFD93F9-02E1-41A0-86A6-CFA4BB9BF21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063D3A1-4CAF-40DE-9F48-5DD9DC89309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9482D9-04CD-4006-B478-F3EFA156787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38B4C57-DD4C-4037-B35B-0016359B1F4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3277A07-BED0-4A38-A7E0-C546A0D9A0A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9B708ED-71BE-4027-BD1C-D31BC3DA1C0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D83DB9D-03B0-4829-A1FC-A167A96D38C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612E8A-3C55-4021-B877-7D8AEC1291C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A1AF29B-BEFB-44D5-9034-D39F602E398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64E9DE5-797A-47CF-BBAC-21BB9DEBBA8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FF7E66E-3044-47D1-BBAC-2BCFEB37D86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72EA0BA-17F7-4604-979A-ADAC8C315FB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D17C941-07E2-423B-B0A8-ECF2E054D72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DCBFA85-3E97-4AA9-A4CF-9AA0CE3AF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80FBF77-FA66-4638-978F-482C3E6509B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AA8E7F6-9328-4619-97DE-07E953B4E3D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D870F4D-AB79-40F6-8C48-8094BFDFD91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99FA016-DAD9-442A-9761-9DD3A791EC5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0053941-2F4D-4BE2-B6DE-3E46A51CE8D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7693BB3-0130-4CF3-A19C-04C679CF4B1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B3F2C4D-9BE5-4419-9795-8071F508F6F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2926CCC-F1D8-4AAF-BDA2-6EAE04128B5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1F0D341-185D-4B56-BD31-373BEB93EEC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C3D7416-2690-4D9E-A0DD-C28AA18131E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F3D9F5-4E46-4B1E-ADFD-1E3458577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9C44252-BEDE-4989-97E5-E7BE9FB184C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0FC3804-876B-45E2-BEB8-B9EB04C3BC3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59AE2A3-8E4D-425E-8497-01DF033BC18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3F9DEFB-1036-43B3-A383-5F78235D302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A514DB4-B0C9-4DF4-995B-77AF5D3F8E7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A46EB0F-C7E1-4303-999A-8AD1ED0BA6F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89665C2-FC69-4466-B098-A0D047BB8C1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3187637-37F3-44CF-8CC7-54775BB2B0B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B3F7AA0-0F07-4569-86AF-F0CFF423C2A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6FDBAD5-0633-4515-825D-F1A6ACAB179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803601-420E-46AF-BE36-9F0FC417A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E7C69D3-3289-4E8C-8999-1DD1F8A2879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0E89BC0-DB88-4AD4-8875-1CFBB91FAD3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56DA82A-4E6A-4F87-827B-6659F14DB43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956DD75-100C-4F70-9577-F8E94C91133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805C12B-974C-4456-BE0D-D31B9D1DC79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4A4D76B-3E0E-409A-8BAA-14C475460F1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D5B36CD-22DA-4531-AD7F-69E9670DCE4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15043C0-1DFF-4DEC-804F-0873072C144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C4C808F-5939-410A-A6C5-EE830295C3B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CDA2691-2E34-46AE-9FB7-C6BC8C7A15F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7762BB-2B44-46DA-B51A-BF9EA2C6D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49E0A84-A51D-48D3-A0D7-D32EF2DE1B0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5B882C7-EEB4-41B5-A146-F51D7BF7F69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E6BC6D8-2E30-45E5-9BD4-E88892D932F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9916FEF-4F78-4B09-993C-2B7938544C8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BFA98EC-04EA-4794-80D0-9331A157228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0D71233-56B3-486A-8794-8AF267D5A98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B2B9D19-25C4-4966-AF0C-95B366CADEA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6BC3A8A-F1D6-47AC-8BEB-434F6B36F07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3E2E4C1-3B6C-44DF-B9D3-D6AAEF4B15D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7F21E9CD-8C15-417A-89EB-62C9AE5DC52F}"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A5EEA3-8DE0-4AF5-BF1C-0FEA77FDC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088E697-218D-49A7-8BB0-9D96B221DBF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637F1BD-58DF-4870-BBC1-D9FF39347BC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AD8325B1-0F26-40F4-A5A9-51061350DB3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DA10A3E-76CF-462B-81EA-D52BF551E5F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E412875-0EE9-4909-BAAF-A4ED474A22E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63592BE-1918-4FD2-8AAF-A486B3C2EA6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56B4F05-070A-40A6-AFCD-614DF3E77C7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0A11CAB-341C-4361-9709-F993C380D30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3A6761A-A008-4CA1-959E-474E47F230C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A5B36062-24AA-4721-98D2-79587D01482F}"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A186FE-F810-43ED-B3AA-FE0CBAD3B6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771E3F2-F2E7-429B-83D2-2A3CE00802D7}"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27728F65-7227-44BF-BFD5-195597EC22D7}"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BBDB976-AB80-47A5-A2C6-143359D793D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9BCEC9C-5946-4183-8942-1EE9F561E85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0B74C97-BF14-4F34-AD96-4101AEB24D8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C80518B-8021-4C10-A94D-E192EE67DD2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348A15C-8AE8-4B5F-A674-1F854DD8034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B3B1BB0-24E6-46EC-A879-FE99B0592E4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2079B76-1879-44F6-AA54-B770997DB96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7295AC9-5DFF-4C8C-BAB7-E2CE45C0DD3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CD195E-144A-4A9B-9AA2-FDCF97AD3E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295377F-B71B-4598-A29D-155D9D67A236}"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7B3C273E-56BF-4CF1-BF07-F52B18930FD9}"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A67A3E73-7047-40E4-87D5-E5B53DB42C23}"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79BD8990-40E4-40BD-99AA-FAC91F9E04AA}"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44DCAB18-DAE6-4E30-BACA-2B16F9F2AE8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24D7D74-7FD6-45A9-ACF3-B303552A7146}"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505D2988-0617-4BB7-A5BF-40563933BE91}"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FB85ED31-65F0-45E3-954A-4FAEA67049C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9D9445AB-F8D9-4913-A3E3-70504388FD6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DF7DF49-6013-479F-A610-B19AF8C16BD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9D2D-A8B0-478D-8334-BFDBFE4A9C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C90903-A89F-47F9-86A9-07C28C27B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468E3E4-4F3A-41E2-A585-8D0EFBD1ABE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58371A7-A4FF-476F-8F37-732BF1722FB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F5B2238C-9FBA-4F9A-8F7B-EB5FD7079550}"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2E359F1D-1151-4B13-BEFA-9A84AFBE46E0}"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B820082D-1114-4E5B-A54E-430EAEB590B3}"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40C82BC5-4410-4769-B8B8-03D46A14F5D0}"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14A08D1-7D6C-45A5-B9D6-53B35E807CA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1EB6B162-CBD8-4445-8111-22C56E28BFF2}"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6545608-8111-4FBA-AB8E-9FD5793293D6}"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DAE06FC1-DF5E-4E5F-AAB5-874722701E82}"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B0F034-A2B5-49D9-81E5-B312072200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6BC5544A-C655-4C71-B77E-4AE6B76C322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A80C328-AF09-483F-BC08-B17F9F4302B8}"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9E271FA-B55B-47A1-8AD2-C55FFC1DF07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1649195-6055-498A-B9AC-3358FCD760C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F7FF51D-1AFA-4308-83C5-BE94E514278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B1CB55B1-8A2C-4E6F-B436-04514FFF5BD2}"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EFE8EA64-4049-402D-AF4E-A85AAA9C1752}"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606BC49A-E2E3-4782-B845-A1A9486B9AFE}"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ACFA38C0-6FD5-441C-B80B-86A0A0389133}"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4F913A6-3CB4-45A7-8849-B000DDABE7F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C798E7-B21E-4E36-894B-0ACF148F6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A0AF165-0B23-4BBC-9157-963C89618515}"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E36F637A-689A-48C6-94E4-20707180499F}"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A38FF70A-66DD-4900-A9C6-7BE4E1E6B63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FE5A415-9866-4053-98AC-DB46CEA8341E}"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2DF7807-1C5E-4600-AC6C-60C9192F515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F14C303-0941-46BD-A7CC-965FE908819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D32E832C-D6A9-4FEE-9763-2A6C1DDA550C}"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F4CA2073-BAFF-4E45-94C9-B9D76C3AF9BC}"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1E55F21B-38C6-491F-8E65-F3D904A716AB}"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9BAD5D38-3FA2-41E0-900F-76237C73EA89}"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9CE4454-F0A6-4C68-8C7D-F9B4E6C8E33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882F58FA-796F-4EBB-8907-38D881168247}"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7C9126A-E03D-424E-9300-7FBB19C1D7F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53E52FC9-D502-4123-A6BC-465FA66229D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AE4F1D9B-3E9A-4F99-A59F-3C55BD1E9DF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4E7758A1-C534-44E7-AAC7-635BE89AA229}"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1EA4D01D-E022-4934-B743-38CF18D136D2}"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5A7E7E38-BFDA-4739-B063-EC5E8FFCA60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CD9F465-380B-4CBE-96A9-AC76DC35282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23DB40EC-3361-43E6-9E13-D5370E15F1B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3E2D392A-289B-4C50-833B-0CFEB15FFA64}"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C1441B-5C7B-4934-9183-4E27EA2BA3C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314D15B3-75A4-452E-BF24-49D90555363D}"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9FF2C80A-E6DB-4E5C-8147-2DB92B1A5E0C}"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82324DE-5C83-4444-B27F-968A2620562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6CB0A71-ECDB-486B-ABF4-6B93F775FC5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E266226-F542-4E6F-BD04-6AB3360E0F53}"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11E85931-4B98-463F-A507-AE7B41B4664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56C9414-E7D8-4DA1-849A-A38C1368E6B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DC817F2-95B7-4908-B269-9227FD06407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5A47C65-C331-4281-BBCC-BC44FFA850D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43CE613-21B2-483D-B410-8A9A0B23539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E674BFE-AC51-4CDF-8591-92CE58D6C44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9CB302AF-FAC9-4F46-9634-066F8882E41C}"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A5C6B7E5-2F48-4C2D-990B-93A3AF374005}"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1B235948-CB4D-4611-864C-D75EE6CF3F93}"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DF9DED71-6F58-48E0-B9E9-564C0101FCFE}"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A1C2572-1236-46DA-9EC9-DD7EEC59F3EE}"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6EF56055-2249-4C19-AB70-A605D538DA7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75704268-C5BE-469B-8F23-F378F691B28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BD8B4800-0A93-4884-ACC4-35C0674BBF8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A4A7D40-B1B2-477D-A40F-5B448726B066}"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67B19BF-0630-4811-802E-04D07F7F068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498C494-ED12-41A5-AE71-666AD310774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B6CAE7C-C069-4E04-9CB8-E53966C8DF0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328AD6D3-69C4-4667-874B-3CBB0F7A35E1}"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EF21FB87-72A7-4041-8AFB-14EAE8FA5439}"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D3232BE6-74E3-4E1E-91B2-4705CD36D6C6}"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E9849E48-6AA7-4351-9550-BA3CA99DEFF6}"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51ECDA4-E59E-483C-A1FD-3DFAB23310AB}"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6444EBE7-4445-4BE4-8EAC-F721BA1A636E}"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8EDE665-F753-49A9-911B-4DF70E9C4EA2}"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3F9357D-4C75-457A-8D6C-A37A33D86D1D}"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732F5CA-B457-401F-855C-9E7387E4D8C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589B253-BF95-49FF-AC65-6BB0142A519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B643D3C-F619-4F5A-A114-65930E77923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4EC27BC-9088-4DB3-BC36-60E0059DD835}"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C7F3B20A-E34C-4081-9AEB-57AA1EA0C3EE}"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202CB7E3-2853-4ACA-9D4B-75C39E615902}"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DBAA8866-D9C3-48FF-95F3-28C6A3197D04}"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5D7FA15-FAD9-4219-AC77-BD6D8C68D490}"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C9796B4B-A486-4569-88C0-724758E77591}"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08ED5B1-1C65-452D-B2E0-0781C40BD851}"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787F40D-2B2B-4DF9-84A0-B98DA95A6155}"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EF0C00B-B260-44B4-A02F-B5A3E59FC073}"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B257789-3383-43F3-AD21-6B77D125EEE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789DFAF9-0AA1-4E82-AAB3-B322C2E0612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8E11A96-7BA9-45E4-ABDE-724AB5BBF71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7B75F16D-8FDC-4BB0-9D84-9B7C7D25CA6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7169C52E-163E-4E80-A428-FEF4887F3989}"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22D38330-8BC9-4610-8C35-A6C0E57D7EC5}"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ED9AB-9E75-45E5-A6DF-461B276D35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384CE59-2B5B-4B17-95DB-1ADD53CB3F2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C32BC50-A9EA-4DA9-85E8-595BAD4A885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E152460D-321D-4E7F-84FA-182CD7A3F7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338D3-05F8-423D-AE35-ABC0488FBD7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2CA8B8DA-82AA-430C-8E22-2402729B4AF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9FEB9059-00B9-4497-B5C3-936F5E0F3DB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8D9EE67B-3C1B-4476-AF63-6D8C6150DB0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CAF3485-2464-496E-AAC9-A526E6A1A7B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13C264B-F76C-42A9-9396-BB930B3300A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E838EB2-5608-4476-9254-841985F30CA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6EB5406F-284E-48B9-B470-08CAC74AFCD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4DCD7D5-8C08-478E-81CE-5BC76A66954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998A3D1D-43B9-4A17-B7F3-014599925E0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84FE2E2-0775-4B69-A8BF-038E33A2474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A541E3-8DDA-4368-954C-AE48881567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BB8978-AB4A-49D2-A3AC-881A2A412D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778BE7-94C9-4FBB-A702-4AA75626491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82CFC7-B451-4A69-843C-E0CDE10E3D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26A119-85AA-417D-A0F4-9B0A08D4A8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1C3DBA4-FD7F-41AC-B4DC-AF23C8A242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E6BD33-3788-4A1F-869A-64935E8572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2F7478-007B-4A57-9EA3-E3F9A240C9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94AB32-BCDA-426E-B8C9-9D9F20ECB4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83568B-7304-4955-9E1B-32F4C02F67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C3332D8-4772-4963-85E4-C5F1ACB7E85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92A1588-9F76-4E0E-B48C-761E076BDB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88584F-ABED-4012-96F6-B7149B5C444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9567422-8528-4053-8C87-318D6154E9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5F2A148-8DF4-4862-AC33-7947E259E2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E8DF10-994A-4761-9B63-456B7E7361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D0FE89-6766-44DC-A95A-6FF9DB8499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BBE849-12D2-4854-9737-C8D665F5B9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B2B546-87B6-42E3-869F-ACF0B49C5E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27D4C4-7A7C-441C-8985-E26C37D544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9FA04C-1558-4FAF-A6A5-C270B80A31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28B292-A250-4ADE-9105-6F046D943A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3CAB5-D343-421D-828A-12870D1ACB0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B608FF-6022-42DF-82B7-ED8DAAA2B2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C8682B3-2B53-47EF-B05A-DC61E67264C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40C2572-AE25-4026-B154-BE8239073C3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638496E-3A19-4E15-9149-8187CD056BE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CFCA2FA-8A7C-4E0C-AB22-EDF88CE5296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7AA07B-C102-4E6A-92DA-56E39D8F0C3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B33D8EF-0196-47F7-95C9-1781D42061E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1ADD3AC-3042-4D35-BC57-69F93CF9D02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9CFB6AF-7AC4-4CF6-B8BD-931E0D89A73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0C7E98-F911-4740-8438-72A9177C47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3A3F1-81A0-4A66-B4E1-6C932D52AC9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C2E243-3130-4285-B678-AAE71F7EDDB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8CFFE64-7D33-49B0-85DF-3A35978BA4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7C627F-79B2-4286-9B8A-3DB075E8A91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B4995AF-39D5-4306-B3F0-9D6B7B1BA0D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C5D4279-1674-4035-9BE4-144BD5384C8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13D5961-A19D-44EF-AEC9-CDA18F86484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62B8B7-0F67-460C-ACD1-02D694B446E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84E2D12-0596-4743-9A82-031432565AE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FE287DA-07AF-4AF8-9A4B-CE04BC3F0BC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1D1493D-D343-4BAA-9D63-1B87AD99FBF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C804D-315B-4DDD-8AAB-F1E5DFD6454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26EF479-2B9F-4F6C-A558-0B26D49AC75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2BF7FD-E2BD-4B8C-947A-5EF6D9209E5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48B4695-3EB3-43A4-A857-01D81A2FCFB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1B4B93A-49D4-4133-9109-72E329F699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AE4CD83-9A0A-40FB-91C2-56D34FFBCC6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78F97F1-71BD-40E1-8960-F19802695AA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B328243-0644-431D-B0C6-A79EC3976EC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02E6FF2-6D4F-4C65-ABFB-89BBA6BC2E6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4A33958-FDAC-48CF-A5EA-558B96AB6E4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ED6D51F-3C87-471E-8572-1560A72C7B41}"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A8FE-E228-4FE6-A866-2D00D627FBB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5FA8-F4AC-43C8-A688-C6792B8AFA8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B974-A9C5-4A22-A1B8-7C2A5FB7B38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536DD-52A2-4D22-9826-817EDBB42F8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A6F9-3696-4547-88F5-9D5A2C7C8BE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8A5A-65C9-4948-BA49-5C16E8240F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00AC-1DEE-4B70-8060-B82F55BD1D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B829-47D6-4669-BA8A-52B420BC23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1FE2-0DA5-43A8-BC78-E8F90BFAA1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E0CE-112C-47AD-9D36-62426AC97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A54A-3562-40EA-A5FA-79D1197DC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ECE1-907C-4532-ADA4-634321B535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5A06-860E-45F0-A28C-C611C5A95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C6D8-15C7-4B17-B865-70E61681D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B0A8-33E0-4784-A497-D49E499F67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82DD-69EB-43B8-AFBD-A4090367E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EBAF-3B58-43AD-B048-AD5A3BBD1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941F-D9FA-448A-9D00-8B7ACA01D5D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0E3A-17D4-48A5-81CE-E9791E3DEA4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2B05-DFFF-42A1-9F8A-FA99F49163A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7765-2894-4FE0-AC61-027A17ECE24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1599-8DEC-4937-83B0-EABF582E051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7525-29E1-42E5-8DEB-2699C3987312}"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3</a:t>
            </a:r>
            <a:br>
              <a:rPr sz="3400"/>
            </a:br>
            <a:r>
              <a:rPr b="0" lang="en-US" sz="3400" spc="-1" strike="noStrike">
                <a:solidFill>
                  <a:srgbClr val="000000"/>
                </a:solidFill>
                <a:latin typeface="Calibri"/>
              </a:rPr>
              <a:t>Situation Assessment:</a:t>
            </a:r>
            <a:br>
              <a:rPr sz="3400"/>
            </a:br>
            <a:r>
              <a:rPr b="0" lang="en-US" sz="3400" spc="-1" strike="noStrike">
                <a:solidFill>
                  <a:srgbClr val="000000"/>
                </a:solidFill>
                <a:latin typeface="Calibri"/>
              </a:rPr>
              <a:t>The Company</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akeholder Theory</a:t>
            </a:r>
            <a:endParaRPr b="0" lang="en-US" sz="34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keholders vary:</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ir interest in the outcomes of the firm’s operations and in its success </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ir power or influence over the firms action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6CCB-D470-4D6C-B4A9-8216D5151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23">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023">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akeholder Theory</a:t>
            </a:r>
            <a:endParaRPr b="0" lang="en-US" sz="3400" spc="-1" strike="noStrike">
              <a:solidFill>
                <a:srgbClr val="000000"/>
              </a:solidFill>
              <a:latin typeface="Calibri"/>
            </a:endParaRPr>
          </a:p>
        </p:txBody>
      </p:sp>
      <p:sp>
        <p:nvSpPr>
          <p:cNvPr id="1026"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undamental premise of stakeholder analysis is a recognition that:</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ms have always had broader groups of interested parties than just shareholder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keholders have:</a:t>
            </a:r>
            <a:endParaRPr b="0" lang="en-US" sz="2400" spc="-1" strike="noStrike">
              <a:solidFill>
                <a:srgbClr val="000000"/>
              </a:solidFill>
              <a:latin typeface="Calibri"/>
            </a:endParaRPr>
          </a:p>
          <a:p>
            <a:pPr lvl="2" marL="1143000" indent="-228600">
              <a:spcBef>
                <a:spcPts val="550"/>
              </a:spcBef>
              <a:buClr>
                <a:srgbClr val="005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ying degrees of legitimate claims on the capabilities and resources of the firm </a:t>
            </a:r>
            <a:endParaRPr b="0" lang="en-US" sz="2200" spc="-1" strike="noStrike">
              <a:solidFill>
                <a:srgbClr val="000000"/>
              </a:solidFill>
              <a:latin typeface="Calibri"/>
            </a:endParaRPr>
          </a:p>
          <a:p>
            <a:pPr lvl="2" marL="1143000" indent="-228600">
              <a:spcBef>
                <a:spcPts val="550"/>
              </a:spcBef>
              <a:buClr>
                <a:srgbClr val="00559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gitimate power to influence the firm’s missions, visions, strategies, and actions</a:t>
            </a:r>
            <a:endParaRPr b="0" lang="en-US" sz="22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2BA8-A8A0-4C7E-B1D9-331A1E711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26">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02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02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26">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0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3-1 - The Triple Bottom Line</a:t>
            </a:r>
            <a:endParaRPr b="0" lang="en-US" sz="3400" spc="-1" strike="noStrike">
              <a:solidFill>
                <a:srgbClr val="000000"/>
              </a:solidFill>
              <a:latin typeface="Calibri"/>
            </a:endParaRPr>
          </a:p>
        </p:txBody>
      </p:sp>
      <p:sp>
        <p:nvSpPr>
          <p:cNvPr id="10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FB75-C475-4A78-B6FF-F8D5BA91DD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0" name="Picture 4" descr="asdf.PNG"/>
          <p:cNvPicPr/>
          <p:nvPr/>
        </p:nvPicPr>
        <p:blipFill>
          <a:blip r:embed="rId1"/>
          <a:stretch/>
        </p:blipFill>
        <p:spPr>
          <a:xfrm>
            <a:off x="1600200" y="1616040"/>
            <a:ext cx="5905440" cy="478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ssessing Past Performance</a:t>
            </a:r>
            <a:br>
              <a:rPr sz="3400"/>
            </a:br>
            <a:r>
              <a:rPr b="0" lang="en-US" sz="3400" spc="-1" strike="noStrike">
                <a:solidFill>
                  <a:srgbClr val="000000"/>
                </a:solidFill>
                <a:latin typeface="Calibri"/>
              </a:rPr>
              <a:t>and Current Strategy</a:t>
            </a:r>
            <a:endParaRPr b="0" lang="en-US" sz="3400" spc="-1" strike="noStrike">
              <a:solidFill>
                <a:srgbClr val="000000"/>
              </a:solidFill>
              <a:latin typeface="Calibri"/>
            </a:endParaRPr>
          </a:p>
        </p:txBody>
      </p:sp>
      <p:sp>
        <p:nvSpPr>
          <p:cNvPr id="103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llenge the present strategy, assessing its current competitiveness, and looking for areas of leverage are essential in developing the next strategi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ctors incorporated into assessment of past performanc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of ongoing financial and operating performanc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of data from marketing information system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standing of the firm’s existing competitive advantages and disadvantages vis-à-vis the competition</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1BD4-1F49-469B-A3DC-F9E6A6648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32">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032">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32">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032">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ssessing Past Performance</a:t>
            </a:r>
            <a:br>
              <a:rPr sz="3400"/>
            </a:br>
            <a:r>
              <a:rPr b="0" lang="en-US" sz="3400" spc="-1" strike="noStrike">
                <a:solidFill>
                  <a:srgbClr val="000000"/>
                </a:solidFill>
                <a:latin typeface="Calibri"/>
              </a:rPr>
              <a:t>and Current Strategy</a:t>
            </a:r>
            <a:endParaRPr b="0" lang="en-US" sz="3400" spc="-1" strike="noStrike">
              <a:solidFill>
                <a:srgbClr val="000000"/>
              </a:solidFill>
              <a:latin typeface="Calibri"/>
            </a:endParaRPr>
          </a:p>
        </p:txBody>
      </p:sp>
      <p:sp>
        <p:nvSpPr>
          <p:cNvPr id="103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tisfaction, profitability, and loyalty are essential markers of quality from the customers’ perspectiv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standing a company’s competitive advantages is a crucial company-related consideration in creating and maintaining effective strategi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45D7-D60F-4DD6-999D-317B63A9C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35">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3-1 - SMART Marketing-Plan Objectives</a:t>
            </a:r>
            <a:endParaRPr b="0" lang="en-US" sz="3400" spc="-1" strike="noStrike">
              <a:solidFill>
                <a:srgbClr val="000000"/>
              </a:solidFill>
              <a:latin typeface="Calibri"/>
            </a:endParaRPr>
          </a:p>
        </p:txBody>
      </p:sp>
      <p:sp>
        <p:nvSpPr>
          <p:cNvPr id="10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F181-7844-413D-9B8D-F466CD574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9" name="Picture 4" descr="258963.PNG"/>
          <p:cNvPicPr/>
          <p:nvPr/>
        </p:nvPicPr>
        <p:blipFill>
          <a:blip r:embed="rId1"/>
          <a:stretch/>
        </p:blipFill>
        <p:spPr>
          <a:xfrm>
            <a:off x="487440" y="2508120"/>
            <a:ext cx="8153280" cy="236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stablishing Preliminary Objectives and Targets</a:t>
            </a:r>
            <a:endParaRPr b="0" lang="en-US" sz="3400" spc="-1" strike="noStrike">
              <a:solidFill>
                <a:srgbClr val="000000"/>
              </a:solidFill>
              <a:latin typeface="Calibri"/>
            </a:endParaRPr>
          </a:p>
        </p:txBody>
      </p:sp>
      <p:sp>
        <p:nvSpPr>
          <p:cNvPr id="1041"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distinct kinds of objectives are useful and common in developing marketing strategie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ing related objectiv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objective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ical marketing objective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volume and market shar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readiness variabl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behaviors and attitud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unts and distribution</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D4B6-F895-4C83-B5A5-E0148B534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4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41">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41">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41">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041">
                                            <p:txEl>
                                              <p:pRg st="4" end="4"/>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041">
                                            <p:txEl>
                                              <p:pRg st="5" end="5"/>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041">
                                            <p:txEl>
                                              <p:pRg st="6" end="6"/>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0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stablishing Preliminary Objectives and Targets</a:t>
            </a:r>
            <a:endParaRPr b="0" lang="en-US" sz="3400" spc="-1" strike="noStrike">
              <a:solidFill>
                <a:srgbClr val="000000"/>
              </a:solidFill>
              <a:latin typeface="Calibri"/>
            </a:endParaRPr>
          </a:p>
        </p:txBody>
      </p:sp>
      <p:sp>
        <p:nvSpPr>
          <p:cNvPr id="1044"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ical financial objective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s and return-on-investmen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sts of marketing</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ntory and logistic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4865-A11C-4D2D-A457-7F45B101F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044">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44">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44">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3-2 - The Planning or Strategic Gap</a:t>
            </a:r>
            <a:endParaRPr b="0" lang="en-US" sz="3400" spc="-1" strike="noStrike">
              <a:solidFill>
                <a:srgbClr val="000000"/>
              </a:solidFill>
              <a:latin typeface="Calibri"/>
            </a:endParaRPr>
          </a:p>
        </p:txBody>
      </p:sp>
      <p:sp>
        <p:nvSpPr>
          <p:cNvPr id="10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D844-41AC-4EE3-8822-67408AD8B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48" name="Picture 4" descr="5236.PNG"/>
          <p:cNvPicPr/>
          <p:nvPr/>
        </p:nvPicPr>
        <p:blipFill>
          <a:blip r:embed="rId1"/>
          <a:stretch/>
        </p:blipFill>
        <p:spPr>
          <a:xfrm>
            <a:off x="838080" y="1674720"/>
            <a:ext cx="7520040" cy="464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3-3 - Alternatives for Improving Profitability</a:t>
            </a:r>
            <a:endParaRPr b="0" lang="en-US" sz="3400" spc="-1" strike="noStrike">
              <a:solidFill>
                <a:srgbClr val="000000"/>
              </a:solidFill>
              <a:latin typeface="Calibri"/>
            </a:endParaRPr>
          </a:p>
        </p:txBody>
      </p:sp>
      <p:sp>
        <p:nvSpPr>
          <p:cNvPr id="10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29239-3CDA-4949-B416-F26E7CDBB7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51" name="Picture 4" descr="741.PNG"/>
          <p:cNvPicPr/>
          <p:nvPr/>
        </p:nvPicPr>
        <p:blipFill>
          <a:blip r:embed="rId1"/>
          <a:stretch/>
        </p:blipFill>
        <p:spPr>
          <a:xfrm>
            <a:off x="1889280" y="1676520"/>
            <a:ext cx="48924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a:t>
            </a:r>
            <a:endParaRPr b="0" lang="en-US" sz="34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ategies and tactic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be developed within an understanding of the overarching organizational contex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uld contribute to the overall mission and goals</a:t>
            </a:r>
            <a:endParaRPr b="0" lang="en-US" sz="2400" spc="-1" strike="noStrike">
              <a:solidFill>
                <a:srgbClr val="000000"/>
              </a:solidFill>
              <a:latin typeface="Calibri"/>
            </a:endParaRPr>
          </a:p>
        </p:txBody>
      </p:sp>
      <p:sp>
        <p:nvSpPr>
          <p:cNvPr id="10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CB71-7A18-4F0F-858C-E22389FFC4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egrating Situation Assessment</a:t>
            </a:r>
            <a:endParaRPr b="0" lang="en-US" sz="3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tuation assessments are analytical</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ssess, integrate, and organize vast and potentially overwhelming data into organized information that can be used to drive decision making and action</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tuation assessment establishes the foundations for planning and strategy formulation</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9AF0-3D5A-4E29-8141-6239D6128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053">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053">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egrating Situation Assessment</a:t>
            </a:r>
            <a:endParaRPr b="0" lang="en-US" sz="3400" spc="-1" strike="noStrike">
              <a:solidFill>
                <a:srgbClr val="000000"/>
              </a:solidFill>
              <a:latin typeface="Calibri"/>
            </a:endParaRPr>
          </a:p>
        </p:txBody>
      </p:sp>
      <p:sp>
        <p:nvSpPr>
          <p:cNvPr id="1056"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ols for systematically managing and integrating situation assessment and to structure the product of that assessment in ways that facilitate strategic thinking</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evance test</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enario analysi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7EC0-B826-4CEF-A486-1EA63461F4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05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56">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0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3-4 - From Data to Information to Decisions to Action</a:t>
            </a:r>
            <a:endParaRPr b="0" lang="en-US" sz="3400" spc="-1" strike="noStrike">
              <a:solidFill>
                <a:srgbClr val="000000"/>
              </a:solidFill>
              <a:latin typeface="Calibri"/>
            </a:endParaRPr>
          </a:p>
        </p:txBody>
      </p:sp>
      <p:sp>
        <p:nvSpPr>
          <p:cNvPr id="10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F9E5-397B-4F71-BE0D-A72BF2436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60" name="Picture 4" descr="12.PNG"/>
          <p:cNvPicPr/>
          <p:nvPr/>
        </p:nvPicPr>
        <p:blipFill>
          <a:blip r:embed="rId1"/>
          <a:stretch/>
        </p:blipFill>
        <p:spPr>
          <a:xfrm>
            <a:off x="1600200" y="1473120"/>
            <a:ext cx="5958000" cy="500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Linking Situation Assessment to Relevant Tools and Frameworks</a:t>
            </a:r>
            <a:endParaRPr b="0" lang="en-US" sz="3400" spc="-1" strike="noStrike">
              <a:solidFill>
                <a:srgbClr val="000000"/>
              </a:solidFill>
              <a:latin typeface="Calibri"/>
            </a:endParaRPr>
          </a:p>
        </p:txBody>
      </p:sp>
      <p:sp>
        <p:nvSpPr>
          <p:cNvPr id="10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17F2-B7C0-4294-A26B-FCED76EC0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63" name="Picture 4" descr="werty.PNG"/>
          <p:cNvPicPr/>
          <p:nvPr/>
        </p:nvPicPr>
        <p:blipFill>
          <a:blip r:embed="rId1"/>
          <a:stretch/>
        </p:blipFill>
        <p:spPr>
          <a:xfrm>
            <a:off x="1103400" y="1600200"/>
            <a:ext cx="6897600" cy="4853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5" name="Picture 4" descr="cid:3287383400_2177562"/>
          <p:cNvPicPr/>
          <p:nvPr/>
        </p:nvPicPr>
        <p:blipFill>
          <a:blip r:embed="rId1"/>
          <a:stretch/>
        </p:blipFill>
        <p:spPr>
          <a:xfrm>
            <a:off x="533520" y="685800"/>
            <a:ext cx="8118360" cy="2647800"/>
          </a:xfrm>
          <a:prstGeom prst="rect">
            <a:avLst/>
          </a:prstGeom>
          <a:ln w="0">
            <a:noFill/>
          </a:ln>
        </p:spPr>
      </p:pic>
      <p:sp>
        <p:nvSpPr>
          <p:cNvPr id="1066"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67"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Introduction</a:t>
            </a:r>
            <a:endParaRPr b="0" lang="en-US" sz="3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ny assessment includes four related consideration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guidance statements: missions and valu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ing past performance and current strateg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ing preliminary objectives and targets </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strategic gap(s) or planning gaps</a:t>
            </a:r>
            <a:endParaRPr b="0" lang="en-US" sz="2400" spc="-1" strike="noStrike">
              <a:solidFill>
                <a:srgbClr val="000000"/>
              </a:solidFill>
              <a:latin typeface="Calibri"/>
            </a:endParaRPr>
          </a:p>
        </p:txBody>
      </p:sp>
      <p:sp>
        <p:nvSpPr>
          <p:cNvPr id="10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E294-A6CD-4E1B-9640-99132291A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0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2">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0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02">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ing Guidance Statements: Missions and Visions</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rms and business units begin their strategy formulation process with a mission or a vision statement</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sion statements establish purpose and values that shape an organizations vision</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on statements are the forward-looking part of the mission</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DB52-6645-46FF-A2CD-822C90102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ing Guidance Statements: Missions and Visions</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ssion/vision statements should include four element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e purpose of the compan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e values of the compan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isionary goal </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ivid description of the envisioned future</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BE74-1AC4-4DF0-9100-191172FAAC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08">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08">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8">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08">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ing Guidance Statements: Missions and Visions</a:t>
            </a:r>
            <a:endParaRPr b="0" lang="en-US" sz="3400" spc="-1" strike="noStrike">
              <a:solidFill>
                <a:srgbClr val="000000"/>
              </a:solidFill>
              <a:latin typeface="Calibri"/>
            </a:endParaRPr>
          </a:p>
        </p:txBody>
      </p:sp>
      <p:sp>
        <p:nvSpPr>
          <p:cNvPr id="1011"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strategic management, goals and objective are not the same:</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als - desired results and conditions that are longer-term and general</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ives - desired results or conditions that are short-term and specific</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als are specified in mission and vision statemen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ives are related to marketing plans, to specified time periods, and to specific marketing mixe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8BB2-497D-434D-B411-0B628739E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011">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11">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11">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11">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Using Guidance Statements: Corporate Social Responsibility</a:t>
            </a:r>
            <a:endParaRPr b="0" lang="en-US" sz="34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very important that marketing strategists consider corporate social responsibilit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 executive and the firm reject broader obligations, the rejection should be deliberate and explicit</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rporate social responsibility - a firm taking actions that appear to further some social good, beyond the interests of the firm and that which is required by law</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ubsumes concerns for social and environmental outcomes</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6238-F875-4EDB-9A00-DDF14826E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14">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14">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14">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nging Sentiment Toward Corporate Social Responsibility</a:t>
            </a:r>
            <a:endParaRPr b="0" lang="en-US" sz="34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itudes toward corporate social responsibility and the scope of “legitimate” commercial interests have evolved and continue to do so</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can search for opportunities to do business in socially and environmentally responsible ways that also enhance profitability and shareholder valu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CCB1-8C86-4D72-B0A7-8343697A0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1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akeholder Theory</a:t>
            </a:r>
            <a:endParaRPr b="0" lang="en-US" sz="34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broadens the understanding of the firm’s legitimate audiences and responsibiliti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asks two questions: </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firm’s purpose? </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firm’s obligations to its stakeholders?</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keholders - various groups of people or organizations that have an interest/ stake in the actions and the success of the firm</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t>
            </a:r>
            <a:r>
              <a:rPr b="0" lang="en-US" sz="2400" spc="-1" strike="noStrike">
                <a:solidFill>
                  <a:srgbClr val="000000"/>
                </a:solidFill>
                <a:latin typeface="Calibri"/>
              </a:rPr>
              <a:t>	</a:t>
            </a:r>
            <a:r>
              <a:rPr b="0" lang="en-US" sz="2400" spc="-1" strike="noStrike">
                <a:solidFill>
                  <a:srgbClr val="000000"/>
                </a:solidFill>
                <a:latin typeface="Calibri"/>
              </a:rPr>
              <a:t>hey can be internal or external</a:t>
            </a: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2FC8-640A-4FC4-9E46-010BAF20C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020">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20">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020">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20">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20">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4T08:51:48Z</dcterms:modified>
  <cp:revision>698</cp:revision>
  <dc:subject/>
  <dc:title>Slide 1</dc:title>
</cp:coreProperties>
</file>