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E854-0755-4C34-885A-06E028C86D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gmentation decisions include not only which segments to target but the scope of the targeted segments - Decisions about the number and size of the segments and the relationship amongst the segments to be target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96C6-1864-4586-89A4-D73781865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iated marketing means that a company develops individual marketing programs for different individual target seg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can better meet the segment-specific needs and requirements, and can create superior value and demand price premiu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owns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r complexity of the organization and the product portfolio.</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r economies of sca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r unit co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iated marketing can consist of:</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lected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gment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duct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ll market coverage</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B9BE-2DF0-4F80-934F-728166262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8F0B8-4B35-4EBA-AE46-4651F9AF9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81308-F030-49AB-BD36-993850F4D8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D0CF7A-65FD-492A-84EC-66FFC2F8CC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2DC1885-8551-4362-B99B-55E4BF76A1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62E64F-A527-466F-A405-8C07ABB707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BD2129-9FD1-4CF4-8E9A-014FEC6260E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EE4634-17E3-4F4C-B6D9-AB42E6B453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1D799E-FAB0-43D2-81B9-ED0DB3C1D9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100A15-B608-430C-BC50-E9A874CE2B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4B2EC2-03E0-40BE-AAE0-D84BFF95A0C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171C069-3A22-48E5-A849-94E976EDDD3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D3AAA37-3CBB-46CC-A27E-65E874F0AEB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5B81B-E2D4-40A5-B227-77BFEFE0BC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5E3804-E4EF-4BDE-A278-AB5E42A0B9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4EF5FC-42BA-428F-834B-E8C8608802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F0D02E-60DE-4DD2-B475-4EA3611DC6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13C4DF-787F-4B93-8CA9-9AE88F1080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C96BBA-C12C-49E6-B3D0-E53E261CFDD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CC267F-1E31-45D7-9F2D-B3F26908F4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31D414-887E-404F-B8F0-DD5D9FE593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DA80AE-BAAD-4FB8-B53B-698AFBA99D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01657F-A63C-41C7-8DA6-B3E044BCB5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7D620A5-44E6-4792-B434-ECD827FE0D4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DC00F-0CEE-4FFE-A0FB-B0EA4258A8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F9FDDF2-9B2D-4E85-83F4-2BC084B8CE7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FF10CC5-4F8F-41AB-A515-6F34B1911B1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4C591E0-7CAE-4AB4-A08A-26346FCFCFE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F1D2EA-2220-4990-B057-24CB10315D5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5573E1-23C7-4198-BF40-A89DD06058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8158E9-0AA9-4010-9671-9734FE64A87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B58E19-CDBA-4EC9-BB2F-634EC81CD1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4A0D6D-BCEB-48B0-8466-088082357C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6473DE-7601-4713-87F1-868723F757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558044-1028-4988-B749-E8DABBF6D3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6EEEEA-BA97-44A4-B24B-A6FB6D8F3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616F9F-195A-414F-BB1F-D0D102B528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6AF83E8-30B5-47FD-8769-572ED0D2BAA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D89A8F2-5C92-4F94-8392-E5BCF770463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5EEB0C8-D4BB-4A1F-87DC-E526F4DD725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524C32-9854-4E1A-8F5D-287F4713284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0B19A42-4ACC-43FC-A1B3-2C3AE5922B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982482A-3998-4C3B-949A-3CAC69D0D1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50CB7F2-7138-4F80-9A99-24691E06E0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F1B2D62-A958-43A4-92EC-F187C544D5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D1635F-4A81-4722-AAEA-4B66B689F1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7B3A22-62B0-4EE4-AD84-F8005A290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C6DC4C-D1DC-48BB-9145-8628019F7F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068542-3379-41EF-9336-736313FF26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BFBB613-8523-497A-92F5-6D40A58A15C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A076FC0-89E3-41C6-996E-B62271F5828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8C6951F-BE98-48EC-BC2F-F31091FEF8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722B154-77AE-4F9D-AA2B-8E7FFC63B02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ED4D28-571E-45E2-803E-76989C898FC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55A424-43A8-405D-AA58-19CF4091A95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815D8D-8E54-4090-ABCE-C4C7043848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6541411-8FDC-4B34-BAFA-B4C42341E6E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B46289-D96B-4944-B828-9C36BEB81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D5562E-C403-4C24-99B7-7ABABF2626E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8BAE08-744E-49D3-8F65-39DE7A163E9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B85F53-8A05-4AE7-843D-474139E6E1C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BC6D52-9CDF-4C05-AB96-AED0F305396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DA706D2-3796-421D-8ED4-A635DC098F7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9DF30F5-0848-4C95-B2D8-96E04E2A2DF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DA50CE6-659F-4F34-B5B6-FC53E7F493C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9AA96FD-98DD-4C9F-8D14-B142DEEC8F9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C8DAFC4-FEDD-4EC3-BA16-3EE2A1F420D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8DC061A-00E6-4E43-BF5C-642E23B2D49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2AB1EF-794B-4D0F-8811-482AB054C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AAE3D7A-2DBF-4C7E-B3C8-8FD079F3559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5D7D4AB-244D-4E62-B490-1A9164A2AF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5403B3D-8BDC-4287-B9A3-2E90B5FBD93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4D66EA5-C92C-408D-A11F-2EB3303D98D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ABD882-BEC7-414C-9932-E42ED80E4F3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93B481-F093-45BB-8EA8-B6012CB94B0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7BEFCD9-BCEA-4959-A817-5EB64101332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2FBF9A2-C280-4DDF-BB1B-FF9A8D614A5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439521B-7EB0-4A1E-AC6B-2C36228AF8A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00898CA-C0EF-41F3-8350-C74555AD62F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D783AD-A68B-446B-B6C6-978A74962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680E495-8172-44E3-95AA-02793918640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F9DF8E6-0091-4C51-B71A-CDB80F025B0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7F3695A-5590-441C-83F9-46227595901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1DCF8FF-8AAC-480C-A042-00384E8DD54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797A16B-15C6-4FED-84B2-473C17B0621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730B22A-4730-4D9E-A634-D1D464CF4B5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E111E1-E94D-4027-8103-51E7BFFC500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3A4E3E-0008-4430-A10C-EBA51D9D395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A6AF2A0-C7FF-447A-BB47-AFDE4B03FE9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6807751-344E-4F46-9E76-DB894C6FDB4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E87B7C-09C9-409E-876A-D76DFBBB2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18FEA14-568B-442E-9FF7-C201E7F97627}"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65C6D02-4659-4003-A777-5B9092DB105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0046B81-D674-488A-81B0-6787826757A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F5A84D9-F874-4448-BFCF-0E57D5AE44F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91E62DF-DA62-41B4-A779-ADA81F13353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1225E07-2CF6-4AD9-B7EB-095A2C4B594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1CC3811-FE62-4E12-A460-F9F89674931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F1EDBCE-068A-4D51-AAF7-07710F3C492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D3590F6-637E-4A90-A868-4BDFA93693A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B590481-53F2-4749-87A5-7BB37806F27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CB5D57-B623-4F0A-BFAE-26D734E82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A267C35-FD21-4F6F-A5AD-E58055F214B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A5E1BEA-38C4-4239-9541-E34E246027E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EBB726D-4F9F-4D01-9FD0-A786FF65E02B}"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2138403-8EDC-4B5C-8C43-E0CEB7182BF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47869FE-C32D-48F0-93EF-2B2F5B8488D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1FB9A72-A452-48C4-87EA-ED875FA6C5B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FDAED7F-B5CE-447E-8A82-661330F4ED9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E47A3ED-E0AC-4B33-A25E-34BC28D627E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1CF2F14-2555-42C9-8F0E-0DE2FF5CD62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FC41E51-C49A-4840-A0A8-BEE4A2E1407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2955-51B1-4092-9A86-7491E1D984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31FDD1-8776-4641-B648-E0504A45E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C27E129-B7E8-4F4A-A94C-B32884D25A6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A1AB779-1E20-4774-85EE-4D047B7106F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0C6F068-87E9-42F7-A64A-6C4A241BBDA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5B052C03-A66B-4E97-B245-30EFC90E035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E7D8CCC9-D4B4-4103-93FC-1659BA4F63CC}"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DBF3B719-1102-48D5-813A-2F11F4EFB91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1AFE9D3-7995-4D14-A42A-5F8D2E8F96C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C7D583D-D626-497C-8509-75282F03E9E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1E3E3CD-6AEC-4209-B4F2-3E671A0C5C5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62FAB63-4285-43F9-B62B-DB3511D82D1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4CC4DC-F07E-4EBA-9BED-44D7078E84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1DC8068A-5073-4DBC-928D-8AB7009F863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A2F339C-37CA-4E4A-AFA4-3188ACC1F10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5D37CC5-4742-41C1-A170-D31D5278532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BA26B00-3344-415F-9604-33F825C9334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F253CA4-7612-472B-B460-D70752A356B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4668A5D-362A-42CA-8CE8-9B48861336E4}"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7E6B1AD-84F7-48FC-9278-B01862727820}"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7AAF9BE1-D195-4C0A-89B9-C741B31C0DD5}"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949ADAC-E9AF-44C8-A71E-2AC366E4533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60F808A-0E9E-49C0-B33E-03AE75B2026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DC46CE-B720-45BE-A816-47D3ED267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A0C0FC0-4207-4EE5-BF29-FAAE9A24747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7710126-0548-4DE2-8B06-9621BD1E9C4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29E8B7A-530E-4097-9BD2-842229CD9D8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FC4CC0B-36D6-4057-8320-4A1E89A29AB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4D23B14-2F3C-4A8B-9C88-AE007786C76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8B37F89-7BA3-43C4-9F93-44B26E4EDFB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3E9526F-28CC-4B02-81B7-AE7F2CE284C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39856F4-F9DA-41AF-9527-0C683BE99DA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DB810D6-3B2D-4CCE-B312-A51FE17E8EA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BFB4FA2-DF48-4B3F-A512-48446A1F831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83CEA6-A066-4B35-B1AC-D0ECC33E72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593D400-EF90-49FF-A991-31E86E79FD0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63A8A4E-3C02-4418-984C-88DB494AC77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B5034EC-DE51-41AD-B0D5-7017B9F8647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73F792F-4F60-40C3-AFC0-492B1E56D85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C59521D-515F-4509-8928-31B39001FEC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F7063B8-DAC3-420F-A4F7-975E5FC243C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114E3B6-7A72-4615-8E57-A9EDE45DF3A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A9419E4-7BC4-4CD3-A953-07E6F795F8E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9B119D0-089B-4136-AF4E-018253FE0BB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8EABDA40-D44C-451E-88D3-FC9E7DE9FFDE}"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549923-CFA1-46BD-8E0A-4FA041D348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DA3B3722-68C4-4877-BF9E-0EBE08E7FA05}"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90CED38-3E7B-482F-B549-246E9759B38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E1A7883-0CD1-42FB-9753-AC6C28DDF28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EA50D4D-5403-4191-8D4A-8EB8DD71515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12470E1-E62D-46D1-88E4-490636B8460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B2C8E7F-7AE3-45EB-A98C-DE78EB8A38C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F0D18D8-C565-41DA-B80C-7829772CB8B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0CC0CEB-79A4-4F74-9424-F5430048338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934D1BA-4789-412A-8C0E-A10C3B26726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F0414CD-3C1C-45D1-A50E-214BBE6F645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05A29CA-0982-4F94-B261-BDAFB7341F4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9B846BD5-C6D8-4652-B760-4C8BDE0B4E5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6FC3FFC-963A-417B-99E3-29B63D2515A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778DC9E-CF49-4122-9BA7-59F029442D0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687AC73-75F1-406D-ABEE-FABC4B5487E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B8C0215-CC4B-43D0-A102-E0534AE29E2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6EDDB15-4B6F-4839-A607-C02AF953F61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220BCF1-4E02-4BFB-A7C2-46B4B768C36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D91D991-BAFE-4F19-A01A-8F4C8C8AF06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936B083-78E3-4F4C-8ACE-4AA50749BA5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ACB56A1-F5C3-41F5-89CF-E92CFC405B4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8339926-F098-418A-AC4C-CDC0C51D7A9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AE4772F-9046-41BC-84A9-0494AB3E577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9184FF0F-7E32-439A-8C98-68C8268983A7}"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A2239430-CC94-4EA8-90DD-CD626765D9B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E0DB59CA-5A00-495D-A14A-63EA54A44CF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AFDF859-1756-41D2-B43E-9FC56EA84CC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C41F0E6-49B0-465A-ADF4-0D292DB068D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2E5D909-2178-408B-9BDB-D280A07A782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39824A8-4EED-468D-8933-CB28923BC83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B5B735E-48E7-4818-802C-DCA08CF2277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4CB580E-3B5A-436B-8A1B-ECB71B77130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D5E89C7-C619-495D-B34A-5D6DD687ED9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EBD53EE-028A-4ABF-B5CA-BBC5B4D5F7C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22DD5F9-C473-4345-ADF5-0338B1B9FBB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4EB53D5-6F93-41DE-AB00-7913BB77BCC3}"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C4789AD-119A-4176-9030-BB93F5122AB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7FFBD82-D85C-4C5E-A4D6-092906D9DB9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031EF3D-BFD3-4423-B677-2882345A3DA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D89A140-AFE3-499B-B2D9-4E60FD3B01A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C8B20C8-36E1-4828-B5FC-094BF6AD6E5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D59D737-ECCA-406D-974B-B2A8B8647D4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A9775AF-76A9-4231-AC2F-BCA868DF564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33BD048-2F6C-4E86-8729-620AFD5355E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95434D8-2B95-4BC3-88E1-523BF7B6FBF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820E6A4-3083-40C8-9041-72B115F0E47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7C01D56-9CB1-407D-861D-5A7F222EAD7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99F425B-9606-4385-875C-FCA1DAEA8B70}"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0C71927-186E-4265-A564-6DE8FE66343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F98C-1B32-42D4-BF04-07E74BAB40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B0DD0E-3B27-4199-B704-9CD50A8CA0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6E9ADF4-83BD-4A37-8C73-99DAA90A8B7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D5E3E00-3973-458D-9345-187F3F0F0B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FEA7F-C108-4DB1-B2A4-61AD3794BA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CF362A7-550D-4906-BDD9-0C1FADF9F1C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ED0EF1F5-F817-43C3-8CF7-8BAE9776637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CB22436-1ABE-4C74-8D48-CABE6BD1FFF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128CEA4-1947-42FE-96F5-12B1844C83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14DB731-C58F-4FCB-BFCE-5161901194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BAFC88D-35CD-49BB-95B1-7A640B1C024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08DA040-489A-41C4-998B-C4D626EA30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248851C1-BCD2-403B-B250-6BC83038EE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6F6B9EF-C2A2-454F-BA13-E036C8FF42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874BF0-6C48-45A6-8E29-A1D455396F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54F20-BBE3-4584-BDCC-5911BC85FD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828B38-29F4-4CA3-932B-BD6638E8A2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D67D5D-8BC3-496D-BD9C-CACAF03AD0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C628A6-2752-4F7D-AEB4-2542A5C7D2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F1B64C-38DA-4C65-BD6C-EEAFD4DC27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101070-2EAB-4A27-BE72-ACCD1991EA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CB4AA9-8C11-4E54-9203-3FC3B6EE5F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EB9DD1-B67D-48DB-A0E0-1CF5E50E56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1A03FE-B698-4D05-AD6D-D0893DC54F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8B71E7-8908-4C73-B22E-DCB5B76A7B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880A77-160C-49E6-90C7-3DAE22B275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192BCC-AB6F-40DD-AEEC-4DDCBBDF05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3F9DEA-E2E8-4FE3-BD15-E09FB60F86A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EFFAA3D-2FAA-4B9E-867C-1B0E8614BE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708F9A-D75F-4D5E-B8A2-60364E8424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14CB7E-BB88-407B-8F2B-607F67BF28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4178FE-1328-4564-BA2A-431FE5EFAE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15D05F-513E-452B-A20E-9595515957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A1CD74-C397-4358-A12D-07D4AEBAB8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B5A615-CA16-475E-837A-3F96A12141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63D6FC-25F8-4D18-8C44-7C4477576B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17A3B8-E03C-4494-9736-FD5D18C2AD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FAFAB-8C35-49A6-BE47-D07D8FAED5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3694B4-24FC-4C49-8B28-3D68B54941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874A2C-1A9C-4F47-A88D-A835091AF7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2308921-BA53-470A-828E-B55C2800D19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E35154-F372-44BE-B8C7-9397F5F3AD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6A645D-8F36-4629-9E68-10FA95304C6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C6CE21-81E2-49A8-9DE6-EED1761593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8E36C1-F7F8-44EE-A684-8ECE63221A5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D79EA1-301F-4B3C-A213-CB6CC2A165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D1D46E-F1AD-4B10-9184-457BC0C9EA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F85FA5-7231-47CB-A521-9429AEF620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B99B6-42D2-4702-9D26-4DFE726510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F4AD29-3D09-47E4-A33E-F61AD1C7B4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EB0639-8D19-494A-829B-F246F77687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C162C0-4BC8-49D1-8FAD-0D8F733820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B29F53E-CAEC-4128-B54C-7AE0022C7A3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9C8F3F-240F-4371-8A9B-88C5DF35061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2565BA-DF8E-4342-B0E4-2FD9BABD93E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DA5DBC-918C-4AC2-A0A8-79ADC5922A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855C49-46DE-4735-8D3C-9BA8BE12BC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FBA0B77-604B-4FC1-9574-B1BDB2D1AE5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A144D4-A683-416B-9206-0CC5F531B4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34E68-D6C5-46B0-BEB5-2C5F13F1C4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BA2F31-93ED-489D-AF4C-1B89E8AAEC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652EE1-E8DF-4B9E-8EC6-963B387DDB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EE056C-BEE3-4FFD-907C-163B0CC3A9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BAF052-CC5F-4352-810C-9E0BA7E77A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8D6301-FAD8-4629-B03D-F561F4F624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DB441B-C9CE-4648-9520-944CA9E4837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054C2D-6B36-44FE-9F75-85F9319142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A43E76D-755E-49D5-9FEB-8357744495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08EB13-B387-48C6-8885-DE9AEBA8D57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18670B-1809-439D-B2B8-A6A029AF224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7073-B8B4-4EBC-A6C9-FE996E2A61B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E656-BCF5-41E9-BBFB-59B7E613CFD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CA22-E76A-49B5-9C47-78EBD3F45B8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A323-5DDA-4341-AE66-C7191C40D0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34CC-84E1-4A74-B129-CC4E976D5BE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2786-89BE-4C42-8251-FB7747D09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7589-EBDB-42A0-B690-395FB26A8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8DF7-8D1B-4970-B366-179AEFF10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CC06-F8FE-4636-B3DF-2CE217593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BD55-D2E1-4FA8-9E83-38B78B082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68D6-299A-4E0F-AE3C-32C707E3B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9AE3-9002-4F50-909A-810FC583A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C0D3-2FD9-4C8B-9C2A-D5813CBCE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B5BF-DFE9-4455-AA1B-BCE76E223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8385-9273-4997-B120-05E15AB5D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77E6-DCB9-40D2-B2C2-F6203CF88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9023-AC5C-481D-A658-2F781353A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85FD-BC29-44C9-9D9B-8A35133656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2306-31FB-429C-858F-6C563992B90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0BAB-C5E2-407A-8174-3492B4767D1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3160-9CCC-4147-AAF9-F791895DB0E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81C-31A5-437E-AE19-7E249A1DA19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C1E7-9988-4F97-B4A4-A80E6CB1392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4</a:t>
            </a:r>
            <a:br>
              <a:rPr sz="3400"/>
            </a:br>
            <a:r>
              <a:rPr b="0" lang="en-US" sz="3400" spc="-1" strike="noStrike">
                <a:solidFill>
                  <a:srgbClr val="000000"/>
                </a:solidFill>
                <a:latin typeface="Calibri"/>
              </a:rPr>
              <a:t>Strategy Form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ation Dynamic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 preferences change—a segment’s ideal product can shift over time, sometimes quite rapid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s can split or merg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B8CC-1E74-4D54-951B-D5FD46846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rgeting</a:t>
            </a:r>
            <a:endParaRPr b="0" lang="en-US" sz="3400" spc="-1" strike="noStrike">
              <a:solidFill>
                <a:srgbClr val="000000"/>
              </a:solidFill>
              <a:latin typeface="Calibri"/>
            </a:endParaRPr>
          </a:p>
        </p:txBody>
      </p:sp>
      <p:sp>
        <p:nvSpPr>
          <p:cNvPr id="102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tching the firm’s competitive advantages with attractive market opportun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rgeting is the crucial junction in formulating strategy and translating strategy into tactics, matching external opportunities with internal strength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rgeting is where the strategy is specified and becomes concrete</a:t>
            </a:r>
            <a:endParaRPr b="0" lang="en-US" sz="2600" spc="-1" strike="noStrike">
              <a:solidFill>
                <a:srgbClr val="000000"/>
              </a:solidFill>
              <a:latin typeface="Calibri"/>
            </a:endParaRPr>
          </a:p>
        </p:txBody>
      </p:sp>
      <p:sp>
        <p:nvSpPr>
          <p:cNvPr id="10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734B-C72D-4D0D-BF25-F0E0E3166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2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2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rgeting</a:t>
            </a:r>
            <a:endParaRPr b="0" lang="en-US" sz="3400" spc="-1" strike="noStrike">
              <a:solidFill>
                <a:srgbClr val="000000"/>
              </a:solidFill>
              <a:latin typeface="Calibri"/>
            </a:endParaRPr>
          </a:p>
        </p:txBody>
      </p:sp>
      <p:sp>
        <p:nvSpPr>
          <p:cNvPr id="102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meworks that help identify attractive markets to target with valuable offerings, th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most powerful of which are: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OT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lication of strength/ attractiveness matrices to segment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37C7-112C-4F48-AC26-ED13B5468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2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2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5 - SWOT Analysi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E2A8-52C5-4A7A-A581-EC2FA22D6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12.PNG"/>
          <p:cNvPicPr/>
          <p:nvPr/>
        </p:nvPicPr>
        <p:blipFill>
          <a:blip r:embed="rId1"/>
          <a:stretch/>
        </p:blipFill>
        <p:spPr>
          <a:xfrm>
            <a:off x="2171880" y="1486080"/>
            <a:ext cx="5214600" cy="514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6 - Strengths/Attractiveness and Segmentation</a:t>
            </a:r>
            <a:endParaRPr b="0" lang="en-US" sz="34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938D-A9FF-43A3-8D02-A9AB716DC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6" name="Picture 4" descr="13.PNG"/>
          <p:cNvPicPr/>
          <p:nvPr/>
        </p:nvPicPr>
        <p:blipFill>
          <a:blip r:embed="rId1"/>
          <a:stretch/>
        </p:blipFill>
        <p:spPr>
          <a:xfrm>
            <a:off x="1828800" y="15145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1 - Strategy Formation</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8866-9A53-404D-9D9D-A8F2428BF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uiopl.PNG"/>
          <p:cNvPicPr/>
          <p:nvPr/>
        </p:nvPicPr>
        <p:blipFill>
          <a:blip r:embed="rId1"/>
          <a:stretch/>
        </p:blipFill>
        <p:spPr>
          <a:xfrm>
            <a:off x="681120" y="2243160"/>
            <a:ext cx="7705800" cy="331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ing Competitive Advantage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any has a competitive advantage if it possesses resources or capabilities that ar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able in the marke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imitable or substitutabl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ble to other markets or product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3056-CCAA-41CF-AAC6-12926291E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ing the Market</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rimary reason to differentiate customers into segments is to capture the strategic advantage of meeting differing needs with tailored mix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 and the key to successful segmentation is to find differing needs that match the firm’s competitive advantages and thus can be served at a profit better than by the competi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42E2-6E25-43F3-A4D9-59549F09B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ing the Market</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wo types of variables to be distinguished in the segmentation process for (B2C) and (B2B) marke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egmentation base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egment descriptor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AE2A-C6BE-4C73-B101-4B2527F15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4-1 - Needs, Wants, Benefits, and Demand</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5B0A-C8AB-4554-BFA1-582456F2C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456789.PNG"/>
          <p:cNvPicPr/>
          <p:nvPr/>
        </p:nvPicPr>
        <p:blipFill>
          <a:blip r:embed="rId1"/>
          <a:stretch/>
        </p:blipFill>
        <p:spPr>
          <a:xfrm>
            <a:off x="762120" y="1552680"/>
            <a:ext cx="7543800" cy="50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2 - Example of Segmentation Bases and Descriptors</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B446-4A4F-4431-A8CA-05BD460A6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3489.PNG"/>
          <p:cNvPicPr/>
          <p:nvPr/>
        </p:nvPicPr>
        <p:blipFill>
          <a:blip r:embed="rId1"/>
          <a:stretch/>
        </p:blipFill>
        <p:spPr>
          <a:xfrm>
            <a:off x="533520" y="2468520"/>
            <a:ext cx="8076960" cy="27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3 - Segmentation Scope</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319C-C0AF-4B2C-8913-920F29797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vbhj.PNG"/>
          <p:cNvPicPr/>
          <p:nvPr/>
        </p:nvPicPr>
        <p:blipFill>
          <a:blip r:embed="rId1"/>
          <a:stretch/>
        </p:blipFill>
        <p:spPr>
          <a:xfrm>
            <a:off x="990720" y="1523880"/>
            <a:ext cx="7391160" cy="501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4 - Differentiated Marketing Approach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8955-AC41-4CDC-B00C-60C2D070E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wqs.PNG"/>
          <p:cNvPicPr/>
          <p:nvPr/>
        </p:nvPicPr>
        <p:blipFill>
          <a:blip r:embed="rId1"/>
          <a:stretch/>
        </p:blipFill>
        <p:spPr>
          <a:xfrm>
            <a:off x="457200" y="2041560"/>
            <a:ext cx="8153280" cy="31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6:01:07Z</dcterms:modified>
  <cp:revision>798</cp:revision>
  <dc:subject/>
  <dc:title>Slide 1</dc:title>
</cp:coreProperties>
</file>