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15E8-B1B2-44F3-8776-3974F65D72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gmentation decisions include not only which segments to target but the scope of the targeted segments - Decisions about the number and size of the segments and the relationship amongst the segments to be target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9A7-3B6D-4875-A452-E3205A3A0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iated marketing means that a company develops individual marketing programs for different individual target seg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can better meet the segment-specific needs and requirements, and can create superior value and demand price premiu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owns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r complexity of the organization and the product portfolio.</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r economies of scal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r unit cos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fferentiated marketing can consist of:</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lected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gment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duct specializ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ll market coverage</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462C-E230-4C6D-BD3E-74290254A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D34ED-EC00-4BCE-AA4E-442E426A7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0A953-4163-481A-83F9-12FFD11037C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FC4E88-2507-4FBC-B1C0-0308DFE4CD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869B5B4-F89A-41B1-AE6F-C64538DDEC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69C9FE-C23E-40E3-9211-1ED48C198D2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F17EAC-2DB5-4932-86B4-2317DEEAD9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0396069-D65F-40E5-ACAA-9EE60025BC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203F51-2D7A-4BCE-8E11-5385C9E76A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70FACF-C6A4-4484-96EF-E01CFBC756D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DA2234A-A4C8-4400-BCE3-629EC3639E3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B52890E-2754-4400-A568-847C7C68E4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D520D5-4037-423D-ADFC-A54CC079F40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2277C-F6B2-4ED9-9BFE-66ED9CF651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BFD434-2E90-4FCE-A3BA-A545296A200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36AEA0-D0F2-4441-AA5E-FBCAF785BF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03C56CA-26E3-4310-B851-21CD9D2FD7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C7F37A-00FD-4B8B-AAA7-84EFE9914F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E0A9308-E5F0-49B0-B38F-26F7ABDDF0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BE15C7-824D-49F5-B3E8-0DC189B015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C68779-BB48-44CF-8FC0-C8A2C63D9B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73B8B6-7F21-4FC0-B162-2031FDCC24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1A7C0F-CD99-416E-B385-32E540D081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5A23F3-4EF5-4760-A0E6-82A91FC5819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8A0E21-77F7-4BEF-8914-2DA1E2D938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B5DED17-CF19-4BE7-9D4A-20FCBDDC4B5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E1CF3A3-872A-4903-86A1-E40B23AE208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3913FC-D269-4146-948A-AD1754A0907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29545BF-3778-4F59-87F9-5C5647DB4C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73D7BA-4FB8-4ECD-AB4B-29D03B7734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44828C-0DE6-42F0-B9A5-E48204BA08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6D7A8E-43C5-4C5F-B5D6-0A53F52B26F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2A614F-BC8F-4AF7-8856-072D09959D4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D5DAF9-9844-458D-A192-4F0C493E2D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0E57E6-A61E-4E9C-BAD9-06DD3854B3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F38934-9C18-41BE-B8CD-2E60F23A8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565FAD4-CA42-49D3-A2C1-8143D7B54D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BF0C482-94F6-4416-A9E5-F22DA9EAB2D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04F5374-FFA3-4E2F-9A96-A25EEAF7E85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D472B9F-DD8A-45A2-88B9-2F4D88B0689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2E849D8-C835-4C7D-AD1B-BC1247A858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D1FB48-43FF-444C-943A-469EBC4F8F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C896242-7BCF-4194-8D1F-48F318CC7C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64F6C55-AB2D-4530-9847-22719382185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ABBCF3F-A707-4556-9453-079709C5F73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85D8FD3-A6B1-4E6E-BD12-473F206170F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91C1DE-19E7-4A10-AC86-68C4796FD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540A7D-1B15-4A73-9283-12E9CA5663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4C5FCB-0F9C-4963-8B7E-94F6E2E40F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53B5799-8A3B-4E0C-98BE-2ACD0D3EAC4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581F1A8-CDC4-4DFB-AAA2-EC93F873362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DE26E9C-1698-40FD-B8EB-7E87BE5029B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98958D-0DF1-474D-AC07-CFEA4FCACE1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F624227-989D-463F-BFB1-51075AEE0E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5252153-4838-4634-A929-CC1D3CBD29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75EE5BF-B04F-4812-A5E5-4D0FCF7F9A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28CDF0D-F61D-4363-967A-8A58FCD03B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07E690-2C32-4A6E-B886-BB34A0D02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B15D65-8E31-4459-924A-DFF52FE4F03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D34EFAE-C750-434B-B6CC-3E4C14678D6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BBADE8-144F-41F0-9144-BC9A79B48A7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888271-C242-487C-8A83-1AF6DE0F4D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91F781C-7594-4861-8265-EE1DA1F72E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FE66C0B-3614-4C84-9ACC-0040AA1A364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C4C9FE0-D070-42F5-B8AB-45456B4FC2D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66BCD1E-7F94-4E71-A7FB-B705542DF69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70851E1-85B9-43E0-B4CE-408546841B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494C06-58BA-478E-B932-95D60CB7D66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9F2FF9-D379-4E9D-9B46-D3674D455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E1599E4-A705-46E6-9169-EC99923632D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1450B4B-54CA-4F14-8652-92BEBCF2714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E2523DF-C5AB-42A8-AF85-C3BA0B57CF0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ADA929A-B9DC-4D5F-8370-377A6678E7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486924-BB46-400D-BA5A-E99EBA888A7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4E80337-63C5-4F86-B01A-AEB4DA15A27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C2ACAAB-6785-4328-AF8E-CE969FFA655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6316989-B4B1-45BE-A471-2847D321782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C7960D5-29D0-46AC-A670-FE55F37D0DD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A585A18-97C1-4E35-8634-DA36784EEAC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E3A853-4F95-4AAD-9ACA-B8C5BFFEB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EF7C76A-42F3-49C0-8740-B7B1C4AD289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968F587-05E5-46C2-9CD6-CBC58A89F99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4EAA4BE-8A1C-4FF6-8F9E-F97949A56F4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819B835-ECD5-4294-B669-CE07CE1563B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E871831-356D-421E-8FA7-90C2C9794C5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75DCB45-F918-4E1D-82EA-35D03D544E3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97852E1-542B-4040-8052-DA2E377D7DA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E7FFC49-2680-40BC-8C62-B3E9A4AD932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AE77C28-6A72-42E9-AEDE-CE470D3820C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B46056D-763B-4964-A8D0-B15D0B0FE7A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54C927-3E23-42CB-B03E-351139EAB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7941B7B-4121-47C2-834B-2073468676E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76D4885-5082-4BE2-8126-F3DDB548905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BF6995D-6340-45A1-BEEF-77D7C1AECBD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F74C2E7-5528-4F6C-8AD9-719FD7FDC48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359D2E7-639F-4DDE-BC8F-AEB9BCB8EBB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0642966-DACB-4948-B08E-DE4017E18C8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52D053B-8985-47C3-8399-B45F2A156EB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64F207B-F222-413C-8E70-77BA78EB584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FEA06C5-87DD-4684-89F9-F9ABBCA2D1C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BFDACF-AD6A-4C0A-ABF5-DEF3760F7D23}"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A6E7EB-BCFF-44FD-8DD0-2F5D41B3C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5C0494E-0927-4973-B31C-B2098476806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CB777DC1-28CE-4E0E-9F1D-716823A3EDF9}"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6FFA91F9-FEB6-4F1C-9C91-78EDC20258FF}"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7928A38-AE4C-4421-9C22-6E979EDED95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697F375-7B8E-4BB1-9F10-5AD77C9F61A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6BC04A6-7829-4DC0-B379-79FC978BEAC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832CBF99-7EFC-4ABB-B803-E26643AAD88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BF8D8A2D-5C60-4C1A-8B33-F873D72C9BC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583D4D9-EEAA-40AC-8CF6-C5D6DE6A268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E0D88E2-42D0-48A4-B927-7E7A6A4B657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252D2-3283-48AF-9CC0-C050D5A219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C321A6-98D2-46E4-BC28-D0A182131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EA93875-E693-46DF-AA94-1A3FE2DD930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DE42A78-82B0-49FA-80D2-A2E9F4C08C0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5F8B529-5A4C-4245-B2C2-332D4078112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E9627B34-38EE-4BF0-91BD-57A91192622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71E7C67-4A0E-4556-BFCE-E2ED14FC2982}"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20F22293-4945-4FF2-A642-3850B7F6F826}"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FE2A386-821A-4B55-8228-06A25F0390F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48FA1DA-23DA-47CD-AA22-3454BBBBFE0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591DF1F-1F58-4D04-8B18-9CDA1C43007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953C041-7714-4DA1-87C8-D4AFD79F91C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E68084-95F4-43E7-8CB5-47A339B1F8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D0F2C63-4662-4DB0-9D0E-59446BFB55D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36BC121-547F-440F-8330-291C763FE3D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A8BF7F4-2CDE-4B13-96EC-51A235F8B50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C4BAE913-6CB4-48E8-9EC0-06D557F5D8A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9558DD8-66D7-4D40-A898-95152E455E1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D870D47C-A9A2-4DBC-A72D-8B5CB91763D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6180FB8F-A5C2-4B23-A3E0-92EA88BBCCDE}"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942D315F-C799-4320-A951-8C059E5718E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F572FBF-B709-4A95-B9C5-FC7169238CC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077E557-19E7-425F-A5B6-8CC0F5E490DE}"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652F78-C1CF-4817-8245-1F59F774F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7FBBD76-45A8-4EAC-B7E9-54510467D9E3}"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D9F81FF-F42A-44A3-AF45-2929CC21A29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8492D12-52C0-4D8B-9184-6614C08D458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81ED913-E7DC-4E51-A6BA-FBABEF14D5A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F6D70C6-628D-487E-962D-A7B33FDDA893}"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B410146-7026-4F42-AC79-99251B4BE68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1CDA227-DF76-4486-96FA-D01815DB570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24BBAA3-9006-4F5E-AEF4-5B3EE7EB550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A256599-1212-403A-A1E2-838001C3C1D6}"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5BAAB99A-D508-490E-9EC3-DFF732F3DB14}"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3CD3429-3BBD-4C96-8D44-F35593F1BB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6DA40FD-0785-4786-8DB3-AC9D7F4723C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7D7AC5A-F281-4527-A90E-08A151E6CCB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043CAC2-CFD0-49ED-93B9-077AD4B41D1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CED885D-794E-4555-8999-FF4CD4D5510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50C00E7-D5A7-4546-81AC-E0C4EA7AF2C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81CCAA6-8B36-41B6-962B-740BA81579C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E27E16E-3826-4403-980D-BEF5EFE1D45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286AB08-2CAE-4D6C-8A28-A6CCE4947389}"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3A4D496-0D1F-45DD-8442-F6E7A2117538}"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E4CAD58A-3885-4120-BECB-F34DC6DB227B}"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EE7C5A-D29D-4237-A568-C1BE8DFD41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4D692057-BBEA-4778-AF7F-437197C2CC64}"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58172D0-D7BF-4106-AF08-1D5DB666647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ECE0384-808D-4F9D-8CC3-01A28D41CC2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8D064A8-A3C0-4524-B713-ACB7D099F69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2C8653E-60BA-4042-84E9-1A1FD1BA259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1C88DB3-0942-4650-809F-1C842FCF650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D77BC53-6F3D-4AD1-8CBB-B1FC46BEFCD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D51A041-7BD4-451D-87B4-1ECDCC11B9C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461EA9A-B88A-43AA-9853-6EB8EF93CDA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468E03D-10BD-4249-8736-07EE2995BAB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7F168B1-4F73-4F19-9136-B88624437A9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776A2F2-2F6F-406A-9D66-C9B388EC54A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6EE892A-737D-4426-8E24-FCF8C89EA66C}"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94A8E13-BB58-4293-98A2-997A09586CF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5B61222-60AC-450C-90D9-0562FDBCB03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09FE101-AEEA-4049-8AA7-8A48A759EBB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B004F97-32BA-408D-B89A-7A71D6C6371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386663E-13F8-42EE-BDBE-D49CC1E212A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D53BCB7-B514-4C4E-A530-621D9D4ACA6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2FC0BA9-B3E8-4205-B503-9AF791C520E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45AF11B-4B27-45D7-AB95-3E86329DA23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F2E616F-BA2C-4237-89B9-157D19AFB47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1024FC4-C401-46DF-BBB4-0AE3993908B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B80BF17B-026C-4598-9374-E0ABB0F2908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BCCABF98-7A6A-4346-B129-11B242D8B9E2}"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5A462E6-5EB7-41AF-BE81-8E8543EA2F82}"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C338A1C-F98B-48B1-8436-93334B25DAF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329786A-0403-4675-8208-CFCEC40FA86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2E1AD8E-CABF-4BB4-911D-1954DBF7B2A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968FDFB-5155-4600-8C9C-F82F0DA7770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092CBA6-585B-4BA5-B7D2-8C6262D7F5E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B824BEC-FF08-4AC9-A3B2-7FA0032D100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3BB7822-302C-44B8-98D8-BA0CAC99E17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3B34731-71EE-43B0-A5CA-8E608D7024B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8AB1B11-6843-4416-B98E-87295343F8E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4E0069E5-3E63-4261-A6CE-226729076D2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A9D4E54-6600-41B2-96CE-1C3410874E1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907C46B4-3768-41FF-B859-783616D57958}"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B117A3A-021F-4B8E-BA78-EF6B82E582D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A0421FE-22E6-498C-A9F7-283636A9E32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A75788E-86D1-45AF-987F-984342ED415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536B934-591E-4327-88A6-D913B5D0FA2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656F103-6996-43E2-A561-0A65B3FE032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5345D6B-BDE2-4140-BD46-4D5BA32569F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833F38B-0C4C-4239-B80F-4F901DC2BCB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A18F5B0-DA27-471C-ADBF-7F5AAA94B61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F7D456B-D44C-4A97-BC33-6DF9ABF297E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F837F17-C70B-4566-ADD6-19CDFD178AD6}"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9D174CF-544C-46EF-B972-31083DA0D66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7C47-6AED-4121-AA2C-D6D2FF544E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D58B08-C07B-4E18-8001-DEC3F04E59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9279D8F-4C8D-4D0E-AC92-F9A7D9977B1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2D0F211-82D6-4A32-BFEE-0C9BB4F23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780E3-A02B-4EA3-928F-45A2364358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0C86E34-AB26-4A9E-93EC-BD457E6DAC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8268D0F5-C4A0-4FBE-BAAC-190328F92D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4FB7943-34FB-4E02-8EDE-1053B0699E0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2E178B6-45BE-4070-A56B-064D6758F7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682E0E3-1B1F-4BEA-B232-3CA3652757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78434C9-434B-4F84-A158-5856D2084D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CE2F6CD-07F7-4480-8BF4-763E53D029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BE3412A3-3688-44B1-B29E-27664361C8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C5F155AC-1C58-465E-B7B5-C085A776D8E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D195C91-AD38-4FE0-BB24-D0A0D41F68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70B2C-0FC9-491A-9B3D-530607D735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C05256-0E60-4612-86AB-FDF970A384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09839B-3246-4E42-9B1A-3A8C1E2E9E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735D7B-57C4-499B-B65D-B4C73AD4DE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52FCDE-297B-4E1E-AA81-50142FEACF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6498CA-90A4-45A1-923B-C289CD9D35B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2C35D3-D0D5-41FE-A4CB-52E110B72E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7CFE85-09A0-4A95-812E-C2902F3E71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584E7A-D3ED-489A-A8A1-46561621F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2D3056-B6D1-4813-838B-3C66EDF815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5E5A7D-F988-4326-BCC0-7A2D9B69FA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72571F-663B-4B6C-86DB-BABC4ECF08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11CF3B-2491-4D37-B3C5-0D73EC5E68A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8B820A-69F3-44E9-AFD4-5C57CDA10E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6EC6D4-D14A-494D-A772-A1615ACA3B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D472BE-C79F-4789-A99C-0C18161AD0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D4B765-6D46-426B-BBF1-0E81BDD5EE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9625CE-CBBE-4267-9AE0-4356B3BB31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A37BA3D-AA9D-47B2-8B0A-90E1151B4F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C12801-0A12-4151-BFB7-C4031A0EDF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60A6C0-31DA-4C00-8EE4-17C2516C59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AF41EA-4DC1-4900-B327-D2E363A0E8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15D5F-0BFA-4024-915D-CA9F14CE50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1DC10E-755E-4092-A1D7-AB6F61CE8A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1550F8-7F88-49D1-A4A7-C469186DAE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E12A03-7912-4010-A316-54F9474183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75C3B7-A38E-4ECA-8417-7F878E0A38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F21DD9-0643-4384-B21C-6686A06FAE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526186-5637-494A-B504-0BF8F35AF2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48CBBE-2B23-4006-A6FA-4221155C99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00E41D-F071-4025-AC6F-0B3D2C5E03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DBDE6B-951C-41C1-B6D2-79BC13EEFB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FA95A5-7C9E-4ED2-B618-6F075DA4F7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564B0-3F09-44FC-9779-BF13F0F8414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E8CAA7-39F7-42C5-9DDF-8001FD1544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BB46DB-7B3E-4416-B596-8E5F763AAA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2A2A487-27A0-4DA1-8056-610F90B1BA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5785A09-608C-49B8-BA30-AAB982AF5AA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F98A60-63D4-4119-B434-3B4AA46253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972292A-325A-493D-8A28-F2B8E56766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1D7AD8-9509-4E0E-AE37-08070C12DE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CD41026-72BC-463D-8F73-D78346BEB1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C702B2-2DDA-468F-B93F-6DAA68E00FE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A8BC50-DB02-4F4B-88ED-7D7E6C88CA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60615-87A1-4125-8A7F-C38AC0B21B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5F82F1-C48C-4927-ADF0-746236FE33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A204B9F-A135-4F5C-BF80-6B02CCB9CFA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5BBAC2-8D6B-43C9-B923-BDB5CE32ED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EB04B0-7431-4BFD-8CF2-1A532F65815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728F720-4263-4CDC-A581-C4B6CFAEF2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29F95AB-C0A6-4D27-8189-524AEE0B17C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7D5F848-7899-4ECC-89A4-E651D5E9D30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E5C1FD6-B99B-4F45-A273-4DB1387EBC5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161BDA-CDE0-4018-8EE0-77313CFE419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BC3912-15FC-4E39-A8AB-0722384C40D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4961-445C-4D96-8B16-AA06C5B7C04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B443-07C2-40CD-963E-6DE416E3510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2238-839E-4A53-8C36-10484E91797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2B02-DA77-42EB-8E2B-1646BACD983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774F-0EA9-40E5-9F57-460FEF79009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E8E9-BB84-4EF1-AE1D-6EDE83CD5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F3FC-8766-4CB8-8F1E-ACF941FDA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354B-05AB-405A-85DE-F45E39B35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6145-F7FD-415C-BE98-F566D71A9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D53B-DB4B-4ABD-B662-D47E19B67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492F-E3D7-4712-B140-DD5252CC5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471B-FB9B-44E3-87B6-42249EC0B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41DB-92FD-4D77-A40A-14AC41B5B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7AE2-2B7D-41F5-BCEC-8F771B38D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64D2-8460-4A85-B226-386E7CEC8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0AA7-BD2A-4D8A-9BAD-6B4E4A47F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F8F4-CFB9-4997-A837-AD9AD1673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B16D-7A9F-4809-B61F-5B6149A78F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8F04-725F-451E-A7AC-25F37DE5A47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2CEE-BB48-4B7E-816F-77453A0A22B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7DE9-9502-403E-9EC3-6ECA2F5F2B1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B101-D56C-42B3-B635-B025E896CD6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A7FE-750B-4823-B007-B2117854DFA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4</a:t>
            </a:r>
            <a:br>
              <a:rPr sz="3400"/>
            </a:br>
            <a:r>
              <a:rPr b="0" lang="en-US" sz="3400" spc="-1" strike="noStrike">
                <a:solidFill>
                  <a:srgbClr val="000000"/>
                </a:solidFill>
                <a:latin typeface="Calibri"/>
              </a:rPr>
              <a:t>Strategy Form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ation Dynamic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 preferences change—a segment’s ideal product can shift over time, sometimes quite rapid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s can split or merg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9329-CBAC-4690-B2BC-F79712B86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rgeting</a:t>
            </a:r>
            <a:endParaRPr b="0" lang="en-US" sz="3400" spc="-1" strike="noStrike">
              <a:solidFill>
                <a:srgbClr val="000000"/>
              </a:solidFill>
              <a:latin typeface="Calibri"/>
            </a:endParaRPr>
          </a:p>
        </p:txBody>
      </p:sp>
      <p:sp>
        <p:nvSpPr>
          <p:cNvPr id="102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tching the firm’s competitive advantages with attractive market opportun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rgeting is the crucial junction in formulating strategy and translating strategy into tactics, matching external opportunities with internal strength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rgeting is where the strategy is specified and becomes concrete</a:t>
            </a:r>
            <a:endParaRPr b="0" lang="en-US" sz="2600" spc="-1" strike="noStrike">
              <a:solidFill>
                <a:srgbClr val="000000"/>
              </a:solidFill>
              <a:latin typeface="Calibri"/>
            </a:endParaRPr>
          </a:p>
        </p:txBody>
      </p:sp>
      <p:sp>
        <p:nvSpPr>
          <p:cNvPr id="10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2D9C-E148-45D4-8B30-8E544CD44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2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26">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rgeting</a:t>
            </a:r>
            <a:endParaRPr b="0" lang="en-US" sz="3400" spc="-1" strike="noStrike">
              <a:solidFill>
                <a:srgbClr val="000000"/>
              </a:solidFill>
              <a:latin typeface="Calibri"/>
            </a:endParaRPr>
          </a:p>
        </p:txBody>
      </p:sp>
      <p:sp>
        <p:nvSpPr>
          <p:cNvPr id="102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meworks that help identify attractive markets to target with valuable offerings, th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most powerful of which are: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OT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lication of strength/ attractiveness matrices to segment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8AD6-21FC-4B58-8B74-2F6F3A161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2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2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2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5 - SWOT Analysi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C8CC-6B0C-42B1-A484-1D612D12B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12.PNG"/>
          <p:cNvPicPr/>
          <p:nvPr/>
        </p:nvPicPr>
        <p:blipFill>
          <a:blip r:embed="rId1"/>
          <a:stretch/>
        </p:blipFill>
        <p:spPr>
          <a:xfrm>
            <a:off x="2171880" y="1486080"/>
            <a:ext cx="5214600" cy="514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6 - Strengths/Attractiveness and Segmentation</a:t>
            </a:r>
            <a:endParaRPr b="0" lang="en-US" sz="34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E789-9B2E-446D-AD6A-9B260EB46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6" name="Picture 4" descr="13.PNG"/>
          <p:cNvPicPr/>
          <p:nvPr/>
        </p:nvPicPr>
        <p:blipFill>
          <a:blip r:embed="rId1"/>
          <a:stretch/>
        </p:blipFill>
        <p:spPr>
          <a:xfrm>
            <a:off x="1828800" y="1514520"/>
            <a:ext cx="5486400" cy="50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1 - Strategy Formation</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D459-6AA2-4E57-8525-033E3D9F12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uiopl.PNG"/>
          <p:cNvPicPr/>
          <p:nvPr/>
        </p:nvPicPr>
        <p:blipFill>
          <a:blip r:embed="rId1"/>
          <a:stretch/>
        </p:blipFill>
        <p:spPr>
          <a:xfrm>
            <a:off x="681120" y="2243160"/>
            <a:ext cx="7705800" cy="331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dentifying Competitive Advantage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any has a competitive advantage if it possesses resources or capabilities that ar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uable in the marke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imitable or substitutabl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able to other markets or product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B599-E86B-41E8-8C56-F82471892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ing the Market</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primary reason to differentiate customers into segments is to capture the strategic advantage of meeting differing needs with tailored mix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 and the key to successful segmentation is to find differing needs that match the firm’s competitive advantages and thus can be served at a profit better than by the competi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92DD-5C42-4E61-A740-87E346DA0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ing the Market</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wo types of variables to be distinguished in the segmentation process for (B2C) and (B2B) marke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egmentation base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egment descriptor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CDFB-0DB5-4A35-8FA4-0AD12FA6D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4-1 - Needs, Wants, Benefits, and Demand</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4A15-6A43-4AD4-A718-8A929769A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456789.PNG"/>
          <p:cNvPicPr/>
          <p:nvPr/>
        </p:nvPicPr>
        <p:blipFill>
          <a:blip r:embed="rId1"/>
          <a:stretch/>
        </p:blipFill>
        <p:spPr>
          <a:xfrm>
            <a:off x="762120" y="1552680"/>
            <a:ext cx="7543800" cy="50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2 - Example of Segmentation Bases and Descriptors</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49CC-E9B8-491E-8FD4-72DA79109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3489.PNG"/>
          <p:cNvPicPr/>
          <p:nvPr/>
        </p:nvPicPr>
        <p:blipFill>
          <a:blip r:embed="rId1"/>
          <a:stretch/>
        </p:blipFill>
        <p:spPr>
          <a:xfrm>
            <a:off x="533520" y="2468520"/>
            <a:ext cx="8076960" cy="278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3 - Segmentation Scope</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1532-73E2-4A7E-9842-AD00C2BEC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vbhj.PNG"/>
          <p:cNvPicPr/>
          <p:nvPr/>
        </p:nvPicPr>
        <p:blipFill>
          <a:blip r:embed="rId1"/>
          <a:stretch/>
        </p:blipFill>
        <p:spPr>
          <a:xfrm>
            <a:off x="990720" y="1523880"/>
            <a:ext cx="7391160" cy="501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4-4 - Differentiated Marketing Approach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7540-4567-4BCE-8131-F89DCEB69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wqs.PNG"/>
          <p:cNvPicPr/>
          <p:nvPr/>
        </p:nvPicPr>
        <p:blipFill>
          <a:blip r:embed="rId1"/>
          <a:stretch/>
        </p:blipFill>
        <p:spPr>
          <a:xfrm>
            <a:off x="457200" y="2041560"/>
            <a:ext cx="8153280" cy="31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6:01:07Z</dcterms:modified>
  <cp:revision>798</cp:revision>
  <dc:subject/>
  <dc:title>Slide 1</dc:title>
</cp:coreProperties>
</file>