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606A-B8CB-470D-95C5-ADA345BEA18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790B-9DF4-43FC-9C3E-ECD9CB6CF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itioning aligns the myriad tactical decisions involved in going to marke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implementation of strategy into specific brand-building marketing mix element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8B6F-CEB4-48ED-8948-DE9546C6C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ket research includes a range of activities from exploring the environment  for opportunities and insights to project-based research to hone specific elements of the marketing mix as well as Customer Relationship Management (CRM) systems, which entail the ongoing collection of marketing metrics and customer data for program assessment and customization/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AB77-8F40-4FE6-B743-F3C2EBBCD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ows the basic Marketing Research process, which emphasizes the necessity of early problem and objective spec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B71A-56AD-462E-9970-057BF6CC2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D1CE8-A712-4F76-A476-AE4E17FA78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21EF8-5159-4E13-AE22-F2EEAC5E2F6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5CEAF6-DDDF-49B2-B06B-5EDE586181C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03BCE5-6BF9-4CD7-96F1-4DB69BB361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A30DA43-93CF-478E-BEA0-44937F02EB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F7E748-3FC2-40AF-9CE5-570CCE2F5F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00C4CE-84F7-42CD-A9BB-35DB0D6010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66E820-1D8A-4DF5-81C9-B731329AD8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EA28745-A788-4E04-B971-790F1D4AF8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930968-AB8E-4CDD-B475-71294BB3355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089A421-074D-401B-B8B9-CC256938C8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05396AD-5BA1-4E53-9E97-A71A56010D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AED697-6E2C-4CAF-A06F-6ED73D3DEB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049E31-02A1-4F1D-A927-DF37B009FD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44531E-A310-4106-938F-EFEA2B82E5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DB25B2-638D-43B7-8E79-34A2BE299C5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2B4ABE-3D01-4C7C-AEEB-AC37539BD9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497FC3-87BB-4CB2-AA9A-D71DA2FD346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EE35FA-6AAE-41EA-ADF3-B4D7951A7C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A999A0-FA6C-4E27-9EDA-BCEC67AB7E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B2FE50-2105-4447-A90D-69B27A30C3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0D01A72-2811-4DE2-8E3E-69B8143D88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16231E0-ED15-423A-BDF3-BBA944F28EC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B9529-CC6F-4EA6-89ED-46314BEF1C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0BF6CE3-A7D3-4697-9DEC-352F29D3252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9B1EAEF-3D3E-4CFF-B4D4-7AF7782502F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09D5B7-7E61-49E9-96E5-6A32586D28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87B29FD-A031-44EB-A9E9-BAF2E72EA74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0FC6DB1-1870-44A8-947F-A86329273A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063766-6348-4DAF-8D19-84AFA1099D7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8C6155-9DC7-497A-AFD1-D5AF9097EDC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309CAE-2DF1-4ADD-95B4-F9F9F2C0C3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B10954-E2AA-48F4-A84E-2FF8BF451B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4B8A44E-6851-4962-88E1-93B0B79250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78014BB-9328-4CA3-A13B-D78A4F397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56E6FC2-1689-40D9-A20F-1A7794F36C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2362E7F-4AB8-4D6F-A810-3F941B8D0CC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E00474A-A041-447B-B641-74010780D3E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528471A-8EDA-46B2-A50F-7E82DB5B06E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13DC03-6E86-49C8-98E5-FF5CFA83BE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93072E8-76C4-4310-A852-D438AA6AA66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731987C-1A62-427E-B8EC-494D5D4004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C7EF1C4-F21C-4A68-94E8-33BCC2AE4F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F418B8-F39B-4ED2-AAB7-37D8E4E191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48BC98D-68D0-423F-907D-EC4457B086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23CC43-B79A-41D5-B1AD-C1FFC5D88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9E77D13-53B6-416F-A09F-5304CB5A20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F69696-5726-4F86-B3BC-EB61896C61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56884FB-BC5B-4EB9-913D-499F6A2B62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7BF3B39-47DD-44AB-AC1F-D1608E95F1C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0FA62BB-414D-4363-B886-18026B91447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FA5C2FA-5CAD-4E62-93CD-D9CAC84B9AF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51AAF3-E63C-4900-8ABC-4D3E7B5B11F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7432AFB-8B41-4801-9D2F-A128C422D4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3AC2497-8811-4955-B6A8-BB5A14CCCC2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AF83387-033B-4D98-82AD-BBF1F72153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9D7D91-03D0-47E9-9518-D45AB98FB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A8B349D-4A8C-461E-BF67-BB08D637A4B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4A99C7-4F0B-4323-AF5F-1CD4ADB102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EDC1DA-9EA9-41D8-8E90-84BB492FEC5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29CDD0-B4C6-4A3A-A61D-78B6DF57F6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060AD78-A2D4-429E-B4D3-0ADC838B6B5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6547BD0-7D9F-4A58-8154-A46E90B16AD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DC30D14-C5D1-42F4-A3B7-CD47E1EB017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1AA626B-4CD9-4A71-8832-7F5AC9BD8A1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C54F8DC-9442-4ECF-AF11-DCFFE320D23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9E9F0E9-4A38-48E0-A883-31CA76AEDC8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E26CD4-1E88-4AFB-8480-B764062B6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82CCA80-4C9B-40D9-ADAD-3E05896F506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092FE90-FFA5-4652-AFF3-83D7C7F4D8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4969FF8-F6D6-423A-9DDE-BB071011326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9CC4E01-C443-4703-B128-56D4876415D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E04560E-DC0E-43D3-9655-E4BD118C91A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089CBBE-5555-44B5-96C5-FBF90C97144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7A49178-B0A1-4969-A623-F6487C536C8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4D568B12-01A9-4C20-A298-68D6502A6BD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27456C4-DF8A-4F2E-8353-9F2E029C6B8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559C58E-D744-4CF5-ABB3-54BED20E4B9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9F4AB0-14EF-41BB-907E-AEA9B016E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6A1FFC0-2792-48E7-8E49-066C7E98173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0E1D8B4-58B6-49C3-8004-90E7CAC30D4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5B76562-789E-4E03-865D-413C7DE3890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6100D1A-EDCC-485F-BA92-EA982FDDFBA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CFA646E-0884-46D8-B517-C63DD9F1A7D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B9B263A-6096-4DC8-95BA-32F6CAAEB31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28B28F5-0A0B-490F-97BF-AAB77FA1614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39C6F0A-3DEA-4546-8473-25D3C8588F1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B45A919-6616-4B7A-8452-E5AA7D8E2FD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1607D3F-3836-4F52-91DA-D977B75767D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F436ED-C7C8-4B4F-8157-1DD300A27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C57322D-54AA-4B59-859A-3895D373A25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F565052-F744-482E-ADDD-632D4E6DB7B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F31409B-3455-4CE6-B34F-30E197B97C84}"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ADECECD-3594-4C67-8BA0-A4F251E2C37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C0097D3-DA91-46CB-BC10-65AAA3B48CD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0D6B44B-18E9-435A-A881-1890C436C1D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9D53064E-6A75-42E5-831B-3963E7BBEAE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70624AE-795B-4145-8231-D8A33697C1A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DB885C3-5FCB-44D9-ABA2-550FCCE3F76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C1EB395-B19E-466C-B5AA-E7CE0F83F90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5B3EC3-BE7B-43C4-9A69-567DDE5A62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27FC5AA-8F23-4A80-9C10-77820B34C09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80E4A69-4D21-49C3-A39E-F62CEBBAD60C}"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1E4A755-720C-4F2B-B223-3F6861D266F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5C86EA97-86D6-4BD1-ABFC-E245D6640973}"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8B9024A0-89E5-4550-8BFA-707BF18DC74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6F471FC-BFEB-4563-8A1B-0C9E761628B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88A3379-3F9D-4C99-9597-361DC4DE065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304D430-5841-4943-BD02-4ED4D5D2EED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D3F54F45-37FF-4EC6-B1D1-C6B65F928A6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FA5E9C8-C61B-494B-B72D-9CEF52ECA3D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057A-6854-46AB-80A9-698DDC12E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545C89-C0CF-4C12-966F-80B68F781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5E91A97-9CC4-4AF0-A35F-E23798DD8A4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A245725-D31C-44F5-92CF-E201F475592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F13E695-8AD8-400C-861A-3900ACAB7D8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BF2A7E4-E6CD-4D4D-ACB8-B61FA26D564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3CC0E1C-EEE8-4515-B548-17E802B3246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9A1B680B-E5A3-4005-9BEF-CEF0E0479EE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2285F14-CDD5-414F-BD32-2D2D6D72DA0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AD99BFE-0906-4177-B427-19703E35018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A163F59-2088-4C76-BF7C-85695D8D2DC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D0D7C82-AF82-44B6-BF95-7F40A60E7B5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EC7E26-3820-4EE6-B0FB-5F1EC8035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106382DD-0CB7-4D38-9547-C320D5F4C5A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EFF1FBD-FACA-4A2B-AC82-AA6488C69A1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26D1DCB-6B76-4785-840F-FFE92BCF939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7414427-40A5-44DB-A03D-310C3EF7253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48BA420-017B-451F-ACFE-0BD5C86D6034}"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F9BACE9-79F6-4958-8C48-A32955C74EF0}"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4F1E683F-4468-4BA4-98BF-091F7CEE2DDD}"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C6EF09C-8730-4B71-998A-8B6860A4096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1D32814-1080-4908-8F78-3C4791527B4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7F23F3C-EB5A-414C-9BF2-B251DCC6E414}"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BDA9D0-5693-44CD-8E91-82C1B4A26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27199E80-D9C8-4F23-B272-75AF48387BCB}"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00BFC99-BD3C-4B50-86C4-2B66B42A44B2}"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D8382BE-6084-4D7E-B592-C00805CDA9D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AA56A97-244A-4B02-B6D3-82E0A246B37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37B4EA2-827F-457B-96B9-DE791C94A80E}"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60B4FC9-80E6-4393-80AA-27C69E23841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E502B735-7240-4A45-8811-D32ABE71B750}"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DA5EC003-E885-43F9-A979-58BCC867A064}"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6C1F074C-C157-4D33-BC73-98D15665002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EEC9F709-D102-47BE-8DAC-CF3A86016BE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3F7F52-895F-4723-B2FF-947F1066C6E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4586D534-325D-4619-ADD8-483A870FB60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C8BA31A-88A5-40E8-9A5A-A136227E28A1}"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00178D8-E12D-43BF-AF07-B04071DD23E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0BCF0BF-CDFD-4755-AFF1-76EBAA71165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A990B19-CCE2-42CE-892F-0B3A8BCA985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FA11FF2-FE2C-466E-8E2A-37A24224592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87FF4CE-B84A-4F6B-B5F2-6838971A8C1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03DF4CE1-A593-4E4E-B6A2-3AAE8E7A0D6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98AABA7-32AF-4285-8834-4D1E978B727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7D4AEB1E-8996-4921-8EFC-9B4D08D89F66}"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3E5557-B4D5-41B4-907D-BBD6B130153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A27CE398-22BD-468A-8796-F81799DF6289}"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1A45E49C-93F5-4A58-A979-C04DBD5F44F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5D946E7-1F60-4A40-BCEE-E46DAA4729A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F804016-FBEA-47CD-897D-647F1DE4BC1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F6CCEAE-1312-4A31-B1B5-CCF7942D866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B2E9D5B-9BB6-48EE-9EF2-66718D469B3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6098F12-B443-4AD2-8131-FB988C2F780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D040528-D42E-4D84-BFCB-FE0B52157CF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18FFC0D-BF5D-42F4-9AD9-BD03A3FAF1F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415CAE5-42C4-4F2C-B8B8-88B8F2E1E0C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904A342-C371-44F9-8D23-67B67CE46E8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242AC296-94B9-4315-B669-B83E0C49F44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9755489-8C1D-45A7-9418-A92BCF68C06F}"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34754439-6920-4B61-B287-5BA93470F21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0A8FD2A-74C3-4AAA-8E64-9F1D26AB595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E5D0849-6BB9-404B-87BF-7614928454C6}"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28E5261-B14D-4086-BEEC-D51851D18BD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E729D99-877E-4D6A-9704-72B11C32AE2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EF1E4DB-64F2-4323-980B-70284D790EB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C1DC6D9-14E5-4656-AA57-6D147618753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17C9B05-B3F5-459B-93CA-0F72940EE48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71FC2AF-B147-492E-959B-313BF2B7EAB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9278DE2-25CB-4010-ACA3-26321BF9F3D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A5ADD98-B072-43AD-8F74-433FAF6AF119}"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37995B4A-530B-4B4A-AF86-EDEB2B9883EE}"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AA4DC24-2A21-446F-A133-0B2798D000C0}"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44861F5-68D6-4F3D-BAA5-2CC0E63EF02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1DD06EC-0942-48C7-BC10-93B7EB3D90A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00419B6-D0D5-4BE0-ABCF-F188CE04442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537001B-94E1-4B06-8D00-B3EA2375C81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358AC58-A58B-4985-90ED-084AFEAD18E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D78FC99-B285-4119-B29A-9AFE0628416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C636597-9A84-4D33-844F-14CFC9255FB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CF9F258-3612-42F2-8E91-186BE58C4B0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778D77A-CB54-46F4-BE72-D576B9EC307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8938CFB-FFF3-407E-979F-EE32773E05B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FCBA0EC9-4F87-488E-9E10-906695DF32B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B716882-95EB-4753-AD3D-66FF8C07BC8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FF79E8A-280B-430D-9E9A-824BDD6172C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8147FCD-9960-46F0-B865-34A29E713E7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9959FB1-512B-4797-AE03-64DBAB9F31E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9F3B807-8B77-4E2F-ABA0-1FB7F3290EF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5E2DBD8-3C96-4EEB-BBE2-76351EADBD2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1A12B62-399C-44DA-B364-914BA344218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3C85C08-8DB8-479C-A6CC-B5357736966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1000E59-E929-42E0-BC25-C7842836223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2BB8B00-C230-43CE-8E21-A8F1E25A843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7FA79D7-DD73-4BD0-AEF7-061082F53900}"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6D00D68-5B15-4A28-88C2-A6B67A24213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8019-1333-4FD7-A454-3BE9A93AA6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00C1F8-18ED-4732-9B40-F5819B2177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779D285-C839-41C6-9463-A2E7EC69E0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6D47F02-B55B-49BB-8065-B8A6E32AF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96B10-1592-4664-AEBE-C30C786B28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59C01D0-6E43-47D5-B750-524048775C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E999A1E2-5BB7-448E-9C5F-3C6AAF1DCF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C87DA560-38FF-4E53-8609-002ADFC667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5F13732-337B-4636-ADA0-6B1D816082A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9815161-707E-40CB-A674-B9901A5B01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834C038-82B1-491C-BA41-5525CD66A0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DE21F6A6-1B5D-4595-8710-157AD3ABE0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C2A6C6C5-D60D-44AF-B571-97F1F13E03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1AEDC3C9-4FCC-45B9-9110-3BD8DC93297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E744BE-32FB-40EC-9A7E-A52BCF21F8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551745-A6FF-4010-8496-9FDD9260AB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FD971A-0D44-4039-8D89-0D3A174C6D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761474-572E-425F-A8AC-822BDACFBD7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F732D7-08D3-4BEF-A843-BEA94737DD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B84F24-CACE-413F-9CAA-C4D0E26259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658A30-144C-42B2-8609-75A5603834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BEA8E9-4249-45AF-8667-FC90D32E8C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7EEE1B-B3F1-4D35-B4D1-8D9E32231B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08C1A9-41FD-4AA3-B6DC-A9BE2D4076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0D812D-B2C6-4BF5-95F6-F8A54E1AB9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964160-ADFD-411E-8A39-DC89DD9D5C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5E1FCB2-3AAD-4C5F-BBB7-768114DADA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68E9C6-0579-454D-A6D0-48A5C5F16A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7CCB3E-3016-4C59-BD2B-3637964686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A1C1F9-6173-4657-AB68-6D7C8DE549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B967E1-5E3F-44AC-B290-D96CF9826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D9380A-3C88-4E9B-8095-A660B82E96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32D885-4E43-48FF-B510-49AC569ED3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C85C27-DB93-48C0-B683-163CE61E81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03A055-028D-424E-994C-585560920C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26462C-D9CD-4B9E-A514-6FDC17F340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4CB7D7-17AB-42B1-BAAD-59EC38F57B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32A76-37E9-4609-BB4C-3EE8EBD6DF0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23CA9C-CB28-4892-B4D8-5057E0D438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AC3687-9FC5-4B1F-9E58-441FC87F47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D83B31-D8A1-48B0-AAB2-9EBDFAFDB0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0DAB178-0D9D-466C-8BB8-7747327046F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10434C-6676-40DC-A60D-6D77EA8073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BCA6B6-F1AE-43C2-80A7-36B50E9CBD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6F7DFE-1E97-4549-A535-5420BD09A4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CB0066-678D-4DAF-9446-6B6998AA09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E7B2F0-1190-43E2-A89A-E67D54959D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492B27-0150-482E-8E0B-86D72F8D52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8ED5C-473F-40B9-B215-88BA2571DA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3C4EFC-6523-4F98-9865-FE6246D927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E752F1-A72E-46EA-83EA-0DD888BB88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F24411-47CE-4D33-AF91-5B97EDC377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403E822-74CB-4DD2-8A83-2BDBF2FFE5C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8A6CBCC-1091-4CFF-8256-3E7EEB95E4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9DB3DFF-A3B2-416F-BB19-38109AAE89F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9EE980-4D6A-4C2E-900A-CD21F9DC2C4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9496A40-1ADB-453C-AEC3-D31BF014460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BC8E53-01A6-436B-8C55-035A961BD48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87518D-12E4-41C4-A134-574DEC29E51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83903-D143-44F1-8098-D7E71664522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B96224C-E43D-486A-A3C9-AA9ECA7B3B8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17CC992-B24E-4CBC-8633-CB8EA394FC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7CECB2-DC87-444C-8FCE-0BB81E1B12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1D500E-32AF-4503-B716-9FEF6BF8CB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2FA483-ECAB-4D9D-BC4C-0CA4607DCF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1753BE3-36C4-4E51-84B8-61187600552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00CF299-597E-430B-8087-8A0CF932C1F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7727C81-F9DC-4C85-B765-138511471F1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2D76A3F-3957-4C83-93AF-3E84EFCD999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911534-B585-4CF6-9429-8F4AD17D4E8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D224-9B8E-49F8-B7B6-AFB660B146F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8533-C319-4E32-80DB-F3881EF0A75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D5D4-59A8-4BB5-AF68-87DF8081490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1F7B-17E9-44EE-A4AB-1A175619042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D1F9-58D9-4678-BCDA-BFB31B2CB6F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72E4-80DC-4A1E-A8E1-AAADD7727D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3A72-C57F-4D9F-9C48-6F73A9845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48D2-C623-4351-B8C3-810B5AA90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DAEB-B55B-4BAB-87F0-6F3A2E8A0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46FD-AA83-4597-8217-358260703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8430-F014-43E3-9FF1-7B8481005E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C377-9D72-43AF-AC2D-F830C03C3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337A-E4E8-41E1-B40F-FB444C4D6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BE85-FFA1-4459-927C-7C40C90F98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8B70-0C0A-4711-B260-79D163ECB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352E-DA69-4F35-AC73-CD736F1A7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2ACB-AC62-440C-8F93-BBA89AE68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72A5-30B7-4C03-B0E8-2FDFD5AF991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5AE6-48B0-4B89-B2B2-43AD636A210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3E10-BFF3-48F6-8FDE-57418383B89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5C2D-7186-4F91-8BA0-4119B3C96C4E}"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5C14-A826-4867-B83D-EF2A58B7982B}"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8B44-8323-4F36-A98F-ABE5D409D53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hapter 4</a:t>
            </a:r>
            <a:br>
              <a:rPr sz="3400"/>
            </a:br>
            <a:r>
              <a:rPr b="0" lang="en-US" sz="3400" spc="-1" strike="noStrike">
                <a:solidFill>
                  <a:srgbClr val="000000"/>
                </a:solidFill>
                <a:latin typeface="Calibri"/>
              </a:rPr>
              <a:t>Implement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duct Lines</a:t>
            </a:r>
            <a:endParaRPr b="0" lang="en-US" sz="34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e lining—offering a product for different segments based on preferred price/quality poi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ne/brand extensions—building on the strength of the existing products to add alternatives to the line or brand, including trading-up or trading-down</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platforms”—common architectures or technologies underlying multiple products in a product line</a:t>
            </a:r>
            <a:endParaRPr b="0" lang="en-US" sz="2600" spc="-1" strike="noStrike">
              <a:solidFill>
                <a:srgbClr val="000000"/>
              </a:solidFill>
              <a:latin typeface="Calibri"/>
            </a:endParaRPr>
          </a:p>
        </p:txBody>
      </p:sp>
      <p:sp>
        <p:nvSpPr>
          <p:cNvPr id="10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1128-DF41-4B9E-8DD3-D45D5BD5E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4 - The Boston Consulting Group</a:t>
            </a:r>
            <a:br>
              <a:rPr sz="3400"/>
            </a:br>
            <a:r>
              <a:rPr b="0" lang="en-US" sz="3400" spc="-1" strike="noStrike">
                <a:solidFill>
                  <a:srgbClr val="000000"/>
                </a:solidFill>
                <a:latin typeface="Calibri"/>
              </a:rPr>
              <a:t>Growth/Share Portfolio Matrix</a:t>
            </a:r>
            <a:endParaRPr b="0" lang="en-US" sz="3400" spc="-1" strike="noStrike">
              <a:solidFill>
                <a:srgbClr val="000000"/>
              </a:solidFill>
              <a:latin typeface="Calibri"/>
            </a:endParaRPr>
          </a:p>
        </p:txBody>
      </p:sp>
      <p:sp>
        <p:nvSpPr>
          <p:cNvPr id="10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D3F4-D668-4E17-AAF7-AA21F9D07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7" name="Picture 4" descr="zxc.PNG"/>
          <p:cNvPicPr/>
          <p:nvPr/>
        </p:nvPicPr>
        <p:blipFill>
          <a:blip r:embed="rId1"/>
          <a:stretch/>
        </p:blipFill>
        <p:spPr>
          <a:xfrm>
            <a:off x="2362320" y="1695600"/>
            <a:ext cx="4570200" cy="46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5 - GE/McKinsey Portfolio Planning Grid</a:t>
            </a:r>
            <a:endParaRPr b="0" lang="en-US" sz="3400" spc="-1" strike="noStrike">
              <a:solidFill>
                <a:srgbClr val="000000"/>
              </a:solidFill>
              <a:latin typeface="Calibri"/>
            </a:endParaRPr>
          </a:p>
        </p:txBody>
      </p:sp>
      <p:sp>
        <p:nvSpPr>
          <p:cNvPr id="10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0F24-6477-4057-965F-37DD49499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0" name="Picture 4" descr="juiop.PNG"/>
          <p:cNvPicPr/>
          <p:nvPr/>
        </p:nvPicPr>
        <p:blipFill>
          <a:blip r:embed="rId1"/>
          <a:stretch/>
        </p:blipFill>
        <p:spPr>
          <a:xfrm>
            <a:off x="1012680" y="1530360"/>
            <a:ext cx="6836040" cy="50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4 - Market Attractiveness and Firm Strength Factors</a:t>
            </a:r>
            <a:endParaRPr b="0" lang="en-US" sz="3400" spc="-1" strike="noStrike">
              <a:solidFill>
                <a:srgbClr val="000000"/>
              </a:solidFill>
              <a:latin typeface="Calibri"/>
            </a:endParaRPr>
          </a:p>
        </p:txBody>
      </p:sp>
      <p:sp>
        <p:nvSpPr>
          <p:cNvPr id="10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DC81-543A-4AF4-9E3B-5C1450A9B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3" name="Picture 4" descr="fghjk.PNG"/>
          <p:cNvPicPr/>
          <p:nvPr/>
        </p:nvPicPr>
        <p:blipFill>
          <a:blip r:embed="rId1"/>
          <a:stretch/>
        </p:blipFill>
        <p:spPr>
          <a:xfrm>
            <a:off x="380880" y="2021040"/>
            <a:ext cx="838224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6 - The Booz, Allen, Hamilton New-Product-Development Process</a:t>
            </a:r>
            <a:endParaRPr b="0" lang="en-US" sz="3400" spc="-1" strike="noStrike">
              <a:solidFill>
                <a:srgbClr val="000000"/>
              </a:solidFill>
              <a:latin typeface="Calibri"/>
            </a:endParaRPr>
          </a:p>
        </p:txBody>
      </p:sp>
      <p:sp>
        <p:nvSpPr>
          <p:cNvPr id="10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9E0E-6BD4-4BC6-B90F-1E5F7A6E3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6" name="Picture 4" descr="joy.PNG"/>
          <p:cNvPicPr/>
          <p:nvPr/>
        </p:nvPicPr>
        <p:blipFill>
          <a:blip r:embed="rId1"/>
          <a:stretch/>
        </p:blipFill>
        <p:spPr>
          <a:xfrm>
            <a:off x="457200" y="1981080"/>
            <a:ext cx="8229600" cy="403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7 - Cost-Volume-Profit Logic and Contribution Margins</a:t>
            </a:r>
            <a:endParaRPr b="0" lang="en-US" sz="3400" spc="-1" strike="noStrike">
              <a:solidFill>
                <a:srgbClr val="000000"/>
              </a:solidFill>
              <a:latin typeface="Calibri"/>
            </a:endParaRPr>
          </a:p>
        </p:txBody>
      </p:sp>
      <p:sp>
        <p:nvSpPr>
          <p:cNvPr id="10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051A-BEB3-44F4-BBDA-ADEBF6187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39" name="Picture 4" descr="optical.PNG"/>
          <p:cNvPicPr/>
          <p:nvPr/>
        </p:nvPicPr>
        <p:blipFill>
          <a:blip r:embed="rId1"/>
          <a:stretch/>
        </p:blipFill>
        <p:spPr>
          <a:xfrm>
            <a:off x="1523880" y="1447920"/>
            <a:ext cx="6553440" cy="51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Breakeven Analysis</a:t>
            </a:r>
            <a:endParaRPr b="0" lang="en-US" sz="3400" spc="-1" strike="noStrike">
              <a:solidFill>
                <a:srgbClr val="000000"/>
              </a:solidFill>
              <a:latin typeface="Calibri"/>
            </a:endParaRPr>
          </a:p>
        </p:txBody>
      </p:sp>
      <p:sp>
        <p:nvSpPr>
          <p:cNvPr id="104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breakeven point” is the point in sales growth at which revenues equal expen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eakeven is defined at the point where the sales revenues exactly cover all the expens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A753-8188-4376-99C5-40690D9F5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4" name="Picture 4" descr="cid:3287383400_2177562"/>
          <p:cNvPicPr/>
          <p:nvPr/>
        </p:nvPicPr>
        <p:blipFill>
          <a:blip r:embed="rId1"/>
          <a:stretch/>
        </p:blipFill>
        <p:spPr>
          <a:xfrm>
            <a:off x="533520" y="685800"/>
            <a:ext cx="8118360" cy="2647800"/>
          </a:xfrm>
          <a:prstGeom prst="rect">
            <a:avLst/>
          </a:prstGeom>
          <a:ln w="0">
            <a:noFill/>
          </a:ln>
        </p:spPr>
      </p:pic>
      <p:sp>
        <p:nvSpPr>
          <p:cNvPr id="1045"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46"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1 - Positioning Drives Tactic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3BA6-177D-46E6-AB69-4FE6F3A24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445.PNG"/>
          <p:cNvPicPr/>
          <p:nvPr/>
        </p:nvPicPr>
        <p:blipFill>
          <a:blip r:embed="rId1"/>
          <a:stretch/>
        </p:blipFill>
        <p:spPr>
          <a:xfrm>
            <a:off x="1828800" y="1523880"/>
            <a:ext cx="5213520" cy="485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1 - Organizing Customer-Focused Research</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4469-ADED-4776-AB2A-7B4EF9515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4678.PNG"/>
          <p:cNvPicPr/>
          <p:nvPr/>
        </p:nvPicPr>
        <p:blipFill>
          <a:blip r:embed="rId1"/>
          <a:stretch/>
        </p:blipFill>
        <p:spPr>
          <a:xfrm>
            <a:off x="1295280" y="1576440"/>
            <a:ext cx="6629400" cy="48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2 - The Marketing Research Process</a:t>
            </a:r>
            <a:endParaRPr b="0" lang="en-US" sz="3400" spc="-1" strike="noStrike">
              <a:solidFill>
                <a:srgbClr val="000000"/>
              </a:solidFill>
              <a:latin typeface="Calibri"/>
            </a:endParaRPr>
          </a:p>
        </p:txBody>
      </p:sp>
      <p:sp>
        <p:nvSpPr>
          <p:cNvPr id="10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46C8-8629-4B3D-A28B-3A91522A5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6" name="Picture 4" descr="jkop.PNG"/>
          <p:cNvPicPr/>
          <p:nvPr/>
        </p:nvPicPr>
        <p:blipFill>
          <a:blip r:embed="rId1"/>
          <a:stretch/>
        </p:blipFill>
        <p:spPr>
          <a:xfrm>
            <a:off x="3429000" y="1695600"/>
            <a:ext cx="2335320" cy="47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Questions for Marketing Research</a:t>
            </a:r>
            <a:endParaRPr b="0" lang="en-US" sz="3400" spc="-1" strike="noStrike">
              <a:solidFill>
                <a:srgbClr val="000000"/>
              </a:solidFill>
              <a:latin typeface="Calibri"/>
            </a:endParaRPr>
          </a:p>
        </p:txBody>
      </p:sp>
      <p:sp>
        <p:nvSpPr>
          <p:cNvPr id="1008"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 errors involve finding confirmatory results for hypotheses that are, in fact, not true (“false posi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I errors are rejecting hypotheses that are, in fact, true (“false negative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ype III - getting the right answers for the wrong question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390B-353C-4D0D-BC73-8B17847E1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Marketing Research Designs</a:t>
            </a:r>
            <a:endParaRPr b="0" lang="en-US" sz="3400" spc="-1" strike="noStrike">
              <a:solidFill>
                <a:srgbClr val="000000"/>
              </a:solidFill>
              <a:latin typeface="Calibri"/>
            </a:endParaRPr>
          </a:p>
        </p:txBody>
      </p:sp>
      <p:sp>
        <p:nvSpPr>
          <p:cNvPr id="1011"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research efforts can have several different types of designs</a:t>
            </a:r>
            <a:endParaRPr b="0" lang="en-US" sz="26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atory</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ptive</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al</a:t>
            </a:r>
            <a:endParaRPr b="0" lang="en-US" sz="2400" spc="-1" strike="noStrike">
              <a:solidFill>
                <a:srgbClr val="000000"/>
              </a:solidFill>
              <a:latin typeface="Calibri"/>
            </a:endParaRPr>
          </a:p>
          <a:p>
            <a:pPr lvl="1" marL="743040" indent="-285840">
              <a:spcBef>
                <a:spcPts val="601"/>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F81B-02E7-4FF4-A89E-E00446EE1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2 - The Marketing Mix</a:t>
            </a:r>
            <a:endParaRPr b="0" lang="en-US" sz="3400" spc="-1" strike="noStrike">
              <a:solidFill>
                <a:srgbClr val="000000"/>
              </a:solidFill>
              <a:latin typeface="Calibri"/>
            </a:endParaRPr>
          </a:p>
        </p:txBody>
      </p:sp>
      <p:sp>
        <p:nvSpPr>
          <p:cNvPr id="10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642E-AF71-40EB-94EB-D4A269F34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5" name="Picture 4" descr="ask.PNG"/>
          <p:cNvPicPr/>
          <p:nvPr/>
        </p:nvPicPr>
        <p:blipFill>
          <a:blip r:embed="rId1"/>
          <a:stretch/>
        </p:blipFill>
        <p:spPr>
          <a:xfrm>
            <a:off x="2666880" y="1523880"/>
            <a:ext cx="3360960" cy="495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5-3 - The Marketing Mix Across the Product Lifecycle</a:t>
            </a:r>
            <a:endParaRPr b="0" lang="en-US" sz="3400" spc="-1" strike="noStrike">
              <a:solidFill>
                <a:srgbClr val="000000"/>
              </a:solidFill>
              <a:latin typeface="Calibri"/>
            </a:endParaRPr>
          </a:p>
        </p:txBody>
      </p:sp>
      <p:sp>
        <p:nvSpPr>
          <p:cNvPr id="10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AB7C-3407-44A2-AC7D-0DDC100A7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18" name="Picture 4" descr="sau.PNG"/>
          <p:cNvPicPr/>
          <p:nvPr/>
        </p:nvPicPr>
        <p:blipFill>
          <a:blip r:embed="rId1"/>
          <a:stretch/>
        </p:blipFill>
        <p:spPr>
          <a:xfrm>
            <a:off x="457200" y="2209680"/>
            <a:ext cx="8305920" cy="305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5-3 - A Product Hierarchy</a:t>
            </a:r>
            <a:endParaRPr b="0" lang="en-US" sz="3400" spc="-1" strike="noStrike">
              <a:solidFill>
                <a:srgbClr val="000000"/>
              </a:solidFill>
              <a:latin typeface="Calibri"/>
            </a:endParaRPr>
          </a:p>
        </p:txBody>
      </p:sp>
      <p:sp>
        <p:nvSpPr>
          <p:cNvPr id="10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7D1C-3555-440C-892B-E93635DB4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1" name="Picture 4" descr="567890.PNG"/>
          <p:cNvPicPr/>
          <p:nvPr/>
        </p:nvPicPr>
        <p:blipFill>
          <a:blip r:embed="rId1"/>
          <a:stretch/>
        </p:blipFill>
        <p:spPr>
          <a:xfrm>
            <a:off x="2133720" y="1676520"/>
            <a:ext cx="4805280" cy="479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21T17:38:10Z</dcterms:modified>
  <cp:revision>892</cp:revision>
  <dc:subject/>
  <dc:title>Slide 1</dc:title>
</cp:coreProperties>
</file>