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F588-FF64-4F1D-86FD-4286B1C97D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B350-6D03-4E6D-8A7C-BA9F2D48C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itioning aligns the myriad tactical decisions involved in going to marke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implementation of strategy into specific brand-building marketing mix elemen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43BE-4265-402F-946B-46722E1DE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ket research includes a range of activities from exploring the environment  for opportunities and insights to project-based research to hone specific elements of the marketing mix as well as Customer Relationship Management (CRM) systems, which entail the ongoing collection of marketing metrics and customer data for program assessment and customization/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A1C3-423F-4522-B3CA-BC3937C06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ows the basic Marketing Research process, which emphasizes the necessity of early problem and objective spec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27F5-7C2E-49E2-A4C0-1B87F5037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44959-7D17-484B-94CA-E1B62C88CA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3597B-3F6F-466E-94C6-2C02277B1B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A3E6E4-DA2F-418A-984D-7FF7EA257C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CE685A6-4BA6-4AB3-BFE8-16A9C7E9AE9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30DE91-138F-49B2-9D34-9C5EE7F367A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A46298-13A1-44DE-AF3E-CDE81458B9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1ED17F-BDD6-449C-9F2B-52E5E261E14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B338A6-5BDD-42AB-B4A8-C7410E2D24F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09F92E-D13F-4651-AC9E-106371BD1FE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E03A014-E8BD-46E6-91A7-CA7F9268A4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EF46414-1E9A-4CC1-A086-B65DB77E2B8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7A0F03C-1115-4546-B2E5-9F68147DB4D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61715-153C-4775-9A4F-FC67AC4B15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D4D7F8D-F0A4-4547-BE92-DDE600FC36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31992E-FE4E-49E2-A407-1EE285AC73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F904E98-F913-4B4C-9BC0-3F9AE6B409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596E0D-39B3-42C6-B4E4-8B2D632F59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0D936FF-704D-484E-8A48-59755A3C5A8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C177F7-AC92-4ECB-839D-B019D59632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B4D383-7968-4FAE-947D-51A2F85AF6D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176D295-92A9-472D-AF94-CA24610C618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CBAF17-4D8B-48C6-A9CF-D8844B3CE3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EBB2FD3-D25C-4888-863A-6C002F65389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C6EB36-CA31-4907-8B1D-702A41C57E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E0A0C03-F9C1-4596-8F9F-00876D78A14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215B554-DE5C-4201-A78F-00C631DDF67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84EBBDC-06FA-407A-B9A2-242FB09B7D0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2E50DDC-FF65-4331-8B72-6BC870F0087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3731DF-678F-4D6E-BA74-915E29DC37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E6AD85C-300E-4A5A-BC87-67FB5F792C7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E676A7-E258-4E7B-95A4-76B0A8F802F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CC61B2-EF70-4CB0-B7A2-C9511C16D3A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1C37AF-6A53-407B-9B0E-D1CA0CECB7C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128073-3C52-4407-90C3-38B90A34425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6F7B192-847F-4BD5-BB20-DE7E06386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D6E3C33-E696-4424-9C31-859593F04AE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98962B5-93D6-448A-BBD2-1BAA1B3ADAC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D894AC0-A21F-4690-985A-33D18E73DE8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9B45165-9D2E-4C5F-AA50-9B395E792CB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25ED6D3-805E-4285-8ABF-173C35C8014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3D48703-9F5B-4EA1-8BC8-000FB40D8BB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333B5C4-977F-4C6C-8868-F3262F4170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D1718D9-FB56-4A14-8E5E-0516B1D6BD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965E4A-E35D-4B60-B01C-C4D8EFD52D4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2D0EE4-728F-4EFF-8145-2BA358FE048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24303D-1D6C-4177-94D9-E20627393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13B4DA-8732-4D7A-BBCE-C9DB762B01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B9C06F2-B8C2-41D3-96FB-EDE594AF17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9744F89-4F85-4B5A-9013-DE6881581A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E1DB5EE-DD94-428E-A371-2500F761208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959DA39-A308-494F-A809-6FC790CC130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17E7B82-1053-4C8E-AB2E-CD26544E40E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6C83688-6058-4178-947D-73CDC13C619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E2B1BB4-5932-4395-AF63-77703425CD6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EA3BE2-78DB-4175-AD45-878F6E376F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43C18F3-9496-4646-936C-39CA7EB3461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F927E3-71D3-4F15-984A-87EC8F4D2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9D5CD69-CACD-425B-92EF-5CE7A8E259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FCC95D3-F662-4230-9D05-F6376F2832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FF60BDD-3F47-4185-AFCC-95E11BED0BC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ECC028-C47E-4A26-BA8B-D630902280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F890C30-09B5-432D-A5DB-3035A8FFCC9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D1C6303-EB04-4DA8-8B4F-F09424E6370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469F93D-8C2D-49B1-BF2D-2CCA18896FB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8FD2684-FAB3-462E-8EE3-D2290540C61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41D9D18-4765-4E60-B9F7-29CFE4A0542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361EB1D-3229-4003-85A4-9C886BCAD0E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69289C-D351-4DDB-9873-E3D4A908D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6D022C4-6018-4FDA-8893-70D9D450797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08EBED6-031F-41A4-821D-E954F3A29EE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2D1F80F-EC87-421C-AC76-0F25B536D69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043E715-D7EE-4496-AD77-CCF8124333C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688B55E-5038-4797-B2AE-91418C59792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F52464F-E73F-412E-9BD2-7A6FCABFE9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C5B1827-2E58-4C69-9954-0F2C86A1ED2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CE6187C-FB0B-4336-B599-5665796EC88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6DB207B-8497-4722-A616-11E0809F628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C44CCDF-F36E-4224-974F-E1A41437E27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67BAFC-8711-4B6F-B857-855216DB3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8CBD661-C9FE-481B-983E-881DFD41339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5B57CF9-90DB-4F39-8A64-B378C60B6A1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F8E5FD9-729E-48FC-BC76-F7CE82E6EF8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158F141-F414-4748-97E8-2F1B8A5B245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4AE642E-42C5-48C1-8796-A08914CE5AE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38B6542-8D80-4BAA-B56B-EFA1062BBB9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3F7DE62-0FF1-4561-A72D-E9699B2A7D5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BFCEC41-11F6-4B5F-849E-0D214E75E07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BB2AA6F-8255-425A-8AC5-D604B49FA64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99079AA-F46A-45DD-A6F0-DDE2BCF97A6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35AFAA-57F2-4D4D-B1AA-A8142C1F2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3AD6B13-3A1C-4C5B-87BC-733BBAFF92B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C6FFAE5-8644-4905-984D-7EA4BEB9859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E86865D-F4BF-490B-9D63-D7339341BAC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C6BE6D5-B9DF-420D-B56F-2335B3A3CA5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3DFD4B5-85E4-48AF-A35A-72A883EE6B0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815F60D-0E9F-45FE-8D08-77A82727C55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4597E6D-9254-415B-A8D0-AEE1E5D4853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01821E3-3BEB-425F-84BD-6AA68411C16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BFB74A9-6022-4ADA-ABD4-DA60C5E21B8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D882735-3D05-402E-9041-F4137268564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AC8EC0-2FB6-49BF-85AC-7EE141A01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AF21DA6-2E7D-44FE-815B-C89A384FA77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E207B4B-5FCA-4C8D-BF72-EC5521CBB371}"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87D8F21-DE1A-4F31-A45E-D0BFA30332EB}"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83633462-7802-41BE-AFDE-580749D8895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79009F4-3C62-4CEC-A1D6-51509D54354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D74444D-FB4B-4414-B628-E73603B663C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4F4803A-812D-447E-B9D4-63BB12F711C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F7F4EDC-0FD3-44D1-BC50-C3123DAF3B0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FD00640-BAC8-4BA2-AAEA-D4F608F7242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94C6C8D-473E-4A9B-A11B-F71D2C3479A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50ED-3646-426F-BC98-C382470DD3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FF0FB7-2AA8-488E-8653-820D3D995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DCCE778-0A51-41EF-9D9B-532BD276200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1D68B42-850C-4ECE-B1C1-1C6BA7B0510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9804453-CAB4-4111-AD2C-2FB2D67D7E2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2903671-09BF-4D30-A7EB-520FB2CD92E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C75F95D-DEE8-4E83-ABF7-55163843A8B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72DE482A-7D22-420B-B2DC-7A1BDA355C3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854567C-094A-44A8-B094-42DE5A74D26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A7A107D-8BC6-4F1A-B667-89B60A1F24B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42EF246-E9EA-409C-B640-BAB50AD2EEE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0002CDE-D5D2-47BF-BD19-7E7D23E1F08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8385DD-3F96-451F-AAFB-C2B7D9479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E730A1C-118A-4DD5-9AC4-91B458AB8AC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6D1F59A-0AD5-4783-808E-4662AC02CC9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B35C909-88DE-4B37-97EA-8A2E2B9D1C6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891E068-6A5F-43B5-8A11-40D795D646E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F40DCC4-9825-421C-9EC9-B0F34C7D583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E44BFAF2-B9DC-4EFD-B67F-9461F721DEC7}"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B645C62E-3F2F-4729-A549-0AF46102A70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3B3C8242-02FF-4225-A109-3B3683990AA6}"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B0CED30-D32F-4560-8521-E640C8DBCEB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84F095C-7714-47D0-B031-578A6B08765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613E92-F44B-4AC4-8693-F3C36FEFC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D805698-6465-4CBA-B686-ECAFB243B18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E83C8DF-3590-4DFA-B5CB-66FD37FF061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53EA5C5-1DB3-4C7B-9F97-1CDD3C3C506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CE0A114-8549-4EA2-8780-3258338FF9E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6D633F1-7D79-400B-A360-C0A2D1EDCDE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9D4AFFD-FF6C-4FE9-8A2E-30A84D860E8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52B3AA5-6BA5-4DBF-B066-6C3F0C51ED2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1C5AC96E-4F31-4D22-943B-E44B3D2A5F40}"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0880A805-0486-46F3-B7E0-45C4F9350547}"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C3148BCD-46A9-4718-AC31-1540965E8968}"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52B7C4-ED07-4E99-82D6-90A44EEA085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32E5F12-22DD-4FB5-9BF4-D0543A9426A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B43802B-6413-4119-B615-0C540A08904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0B5C94A-D513-4E1E-A591-6AD81589B50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02C96F1-0705-4286-82D8-AD8C2DC6A44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91F0959-0312-4546-81A1-C254849D6D4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74330DA-EECD-48B4-B768-FE73AC5D439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8854846-3789-46CD-9313-C207F525810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46E74DB-53B8-4240-A5F9-5024725902C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2D814C1-57DB-457A-9F55-B30A0ECFDF7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6431F9BC-2020-4711-807C-593CC1C4BA0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B129EB-28A8-437E-8443-1F4A3C00C4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52628F6A-209F-410D-961A-59BE1A4D5134}"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90016457-9B80-433A-BD61-FBDFEC3F3D33}"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B0873DC-CB2C-407A-97C0-CB0E6CB1D78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C26A8DB-A694-48F0-BD94-219AC20C178B}"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83DA065-EF80-4338-8D04-0E8895E80B6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540BB36-EFDB-4BDF-B147-CC27355CF0A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73F285E-CE33-4F32-9C11-4DDE109871B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DE43F97-FB9F-4680-8FFB-2B69A0FA945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0DFCD3C-BDB8-4AE6-9CA5-3E5C2113248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90CCC9E-5349-40DE-AFFF-218DE8839AA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D1D340A-7624-429A-AB59-319BE3E832D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E3AA36FF-F6BC-4FC4-82D1-5DCAF1E04DB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CB3A2415-0C91-45B3-81B9-B6816762C251}"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F31A926-EEF1-4324-8B46-DABB1131FF28}"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5F1A7DB-F504-45B3-B19F-F4942B718B3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2CE143C-0586-4A49-9FBE-B1EABEAC2D2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874DB7C-7122-4903-AE67-76BD08A174D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4BBD8EC-36B4-44C0-A135-F7CE4F297C7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536E728-E487-4569-962A-CE0307CE07F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551EEBD-D9F4-4596-9470-83103530B4D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FD78CFA-6131-4F96-AF05-E69FC1446DF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6284CA2-E77E-4974-A31F-F570B74806D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3C5AB0F-7E23-4B81-9EA2-948DAB53565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396EBB08-9B98-4AAB-B4D4-BE21D50B655E}"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068EA7CF-438A-4F9E-A8BA-0938BC3612D7}"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BEB56F1-51CD-41B8-B7AA-A7DB0EA044C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E34DC0C-4BF1-4668-A3C4-CB90212D119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FF6C076-CFC5-4BC8-B1A5-68C59DB2393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15765752-0FFE-4B51-8782-FC3E4AE3ED8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A9DFFF7-BF68-4DDB-B38A-E15CA75671D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F5393D9-316D-4190-A195-7B54FF5013C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F1DA357-14CB-438C-B4F1-813D550923E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EDC4429-7748-4976-9857-D5F6A84308B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E3F1453-97EF-4AE0-897E-98AE303990B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2434594-2C48-4B80-8A81-492CF3E70E7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7201450-B8E3-447E-B485-00988CD6F77E}"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137867E8-02DD-4ECD-91DF-433E7BA741E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F7510C79-47F5-4C8E-9C49-2374AE4A7BF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6EAB442-FB77-42D4-8877-153F62B881F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FD56E7F-6273-4C77-9D78-0C2C2071283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BFEF76B-8F5F-45DF-A1E5-23943AB1591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27618E2-E522-4DD6-B927-DFE6C4AF06DE}"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150DCC9-DCF2-45FD-A5DD-A7A9D41EEB0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92AA7E9-DF6F-4C27-9A1C-2629DB87E23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90621B3-00D5-41AC-B58E-2F79DD3BE57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2654D30-FE89-44DC-98EF-356B0B8F0FB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FEF5B07-6B3E-46A7-AA5B-27273E44A76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2C0C85C8-7961-4537-A45E-3F8EEAD6DD6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E95EC63E-BAD8-491F-BE65-8468F6C8C8C3}"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865C-741E-4559-88A9-9156693518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1C7B11-476C-4F2E-9A86-8D116A97CD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3860895-B8AD-46C0-8BE3-C2756EE477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6BF706F-0EA9-45BD-B5D2-6593DD3B9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F2603-0403-4E2D-BE08-B68220BAB0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FBD6064-89C8-4042-96FD-D9F1DF808E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6FAAEFF9-D089-44F7-A391-36AA204F005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43F41DC-DFE6-4FD7-98EF-4B77FF18D4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DAF79D0-D80B-4ABF-9CB7-E50B8D5F433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E7FCAC7-CDD4-489C-8901-277656531A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7532FF5-C277-4622-9AB8-ADF3CA6B127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330C1ED-733A-427F-B92F-9E5A391CC25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DB8B627-F409-48B4-BA7C-515EAB81D0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BB6BFD96-20E1-46F6-B9C3-3958F9F0107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0B10B6-55ED-42DD-819F-0E8E64D4BC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083F71-FDF6-4364-9F90-9B591AA79A6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87DD8F-32EF-4A7B-AF66-A2F1767A9A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213E80-583A-427C-9DC9-D853B82E17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864B83-378F-4A7A-BA0A-151FE8AB4C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79AE63-F306-41C5-B42A-7DD3509D44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28A173-52B8-4442-97D5-CE695BF0A6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30FBE8-5715-4092-8910-E680A1F964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526432-29F0-4275-A3CA-88F5B36A11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02D39A-D9A9-401C-BF0E-2CEC6CB533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44B9E9-0BB7-4A2D-A16A-D1FF4AFA9A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1910BCE-EEA1-4CBB-B342-43E09950A65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FE1E83-3F89-4F63-8779-4B359E7DE6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7FFCF2-AF1F-4F04-BE60-22B3A49E35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C69B5F5-2FB4-44C2-A040-836D1A6F9E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E7A47A-27A5-4797-95EA-2C1ABCF2B3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F53091-6FBA-452B-888B-9E5A4D8D79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5D831A-E705-4571-9672-4DB6D5D418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837046-5D2C-47E1-BAE2-F3F8A384E6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630331-AB3D-463C-BFDB-34CEAA4E23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E488BC-5EFC-4D77-B017-AE64C2F953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0C88D7-8108-4CB2-8ABC-C3A8D5433A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868E22-5B65-440D-8223-1E96726CBE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A836E-2D29-4959-BC91-19A273A6920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855F11-6971-4467-9A7E-A1B1A501F5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8602E20-222C-4496-99F1-264F7B2023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2BB6CE-AFB8-4EAA-B917-597037406E1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4F98906-564D-4D8E-BE8D-2452EF01515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4D62F5-AAD7-4590-8FEF-7A12B283CC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609D53-628D-4989-AB5C-FA1309F43EF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F24BEE-9104-4564-9F90-BAE81E3C273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5709D8-032D-47D4-A69B-12A932A16D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D1A6652-96CC-43C0-BED6-C73AD1FCC9A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FAD09D-683A-4A3A-A815-596CBAFAFC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8852B-9377-48B6-9838-BD9650BD3D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3291C6-BEEB-47B6-9787-3BE59FA65D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C492D8-AF9A-42E2-80DC-ACDB468D31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934723-61E3-441A-B487-492DB5D842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0DCB572-1577-4F47-996B-1D0F1E86AAC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C216614-CCE2-4280-8ABB-A717FA9D5D3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472615B-90FC-4390-A261-BFB14107F8E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99452C-9008-497A-A3A7-7D3B5F62F40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BBEE24-62AD-4E19-B8D1-CA4763DF34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77A16D-9C21-4999-ABB3-617284ADE0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E1D192-9953-4B88-AE74-D6F69410D66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A9FF9-244D-460F-8623-3C302696C3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7201C0-A5AD-4661-B2C1-C31648DA710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2D5295-32BC-463B-B975-8F9BCADFAE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346FB7-0362-46EB-A53C-A5A5449B83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045FD9-6D43-4DF0-9B11-A580DEC3B5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D2C5818-0080-48CD-8848-ACBF195AD6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E17D7EF-99A6-4B50-8ED4-932C5E08A82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A8BB552-18BA-4F65-9650-BD277D7A1A7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8CB14CC-FF9F-4A93-9F38-34FADA2FCDA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62097B-A79C-4A62-B16F-F14BD09B712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ABBB32-AEBE-46D6-8F74-387B26B5015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782A-C631-4203-90B7-F7451BC08AA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777A-8F6C-4B52-93C1-0DD243676FF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FA94-89B8-47DB-9BD9-6F221FE5D1B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D4A8-02D3-44F0-93CB-9C4B4A56C5D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1DC3-CD13-4F66-AB8B-FFE6E636017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A606-AEA6-4885-A540-7A23EC2C9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07FA-3715-45E1-B3B2-A19BF3F4B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E176-2E56-4BEB-B940-8C2C20DA3E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E0A3-5A11-4EE3-8895-2542AB5EC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3C99-EBE9-4E5E-BF09-E94A17C02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CF21-6EF9-4A18-9307-A22D184FC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CA51-9317-4C9C-B5C9-19DE3F68A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D351-CF5D-45B7-BB2D-00774CA05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4380-1FA6-41C8-816A-B0C70D549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F699-6438-43E1-97AC-ACA049C81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7384-420F-4872-B190-EBA244E39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FFDA-28E3-467D-88DB-128161C3B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5CB9-2569-4ADE-9746-FB7F2AB482C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450B-9311-4D11-89EC-D479258C137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92E4-C5D8-4C4E-A791-D18C2825A8B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2A43-25A1-413F-8109-356BA474981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A81B-C358-45F6-AFC0-8380FB0A3A9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A362-D330-43A3-B57C-ED6F6602B82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4</a:t>
            </a:r>
            <a:br>
              <a:rPr sz="3400"/>
            </a:br>
            <a:r>
              <a:rPr b="0" lang="en-US" sz="3400" spc="-1" strike="noStrike">
                <a:solidFill>
                  <a:srgbClr val="000000"/>
                </a:solidFill>
                <a:latin typeface="Calibri"/>
              </a:rPr>
              <a:t>Implement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oduct Lines</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ce lining—offering a product for different segments based on preferred price/quality poi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ne/brand extensions—building on the strength of the existing products to add alternatives to the line or brand, including trading-up or trading-dow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platforms”—common architectures or technologies underlying multiple products in a product line</a:t>
            </a: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0DEA-08BA-49C2-9DFD-9B9CC0004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4 - The Boston Consulting Group</a:t>
            </a:r>
            <a:br>
              <a:rPr sz="3400"/>
            </a:br>
            <a:r>
              <a:rPr b="0" lang="en-US" sz="3400" spc="-1" strike="noStrike">
                <a:solidFill>
                  <a:srgbClr val="000000"/>
                </a:solidFill>
                <a:latin typeface="Calibri"/>
              </a:rPr>
              <a:t>Growth/Share Portfolio Matrix</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5BDF-E491-4B68-8AA1-0082CD511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zxc.PNG"/>
          <p:cNvPicPr/>
          <p:nvPr/>
        </p:nvPicPr>
        <p:blipFill>
          <a:blip r:embed="rId1"/>
          <a:stretch/>
        </p:blipFill>
        <p:spPr>
          <a:xfrm>
            <a:off x="2362320" y="1695600"/>
            <a:ext cx="4570200" cy="46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5 - GE/McKinsey Portfolio Planning Grid</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FB6E-0CE8-479B-B5D9-A34DFD06F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juiop.PNG"/>
          <p:cNvPicPr/>
          <p:nvPr/>
        </p:nvPicPr>
        <p:blipFill>
          <a:blip r:embed="rId1"/>
          <a:stretch/>
        </p:blipFill>
        <p:spPr>
          <a:xfrm>
            <a:off x="1012680" y="1530360"/>
            <a:ext cx="6836040" cy="509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4 - Market Attractiveness and Firm Strength Factors</a:t>
            </a:r>
            <a:endParaRPr b="0" lang="en-US" sz="34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9CBF-17C5-41C4-9929-B9D033609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3" name="Picture 4" descr="fghjk.PNG"/>
          <p:cNvPicPr/>
          <p:nvPr/>
        </p:nvPicPr>
        <p:blipFill>
          <a:blip r:embed="rId1"/>
          <a:stretch/>
        </p:blipFill>
        <p:spPr>
          <a:xfrm>
            <a:off x="380880" y="2021040"/>
            <a:ext cx="838224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6 - The Booz, Allen, Hamilton New-Product-Development Process</a:t>
            </a:r>
            <a:endParaRPr b="0" lang="en-US" sz="34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7D14-597A-4CC0-85F1-9575DEED9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6" name="Picture 4" descr="joy.PNG"/>
          <p:cNvPicPr/>
          <p:nvPr/>
        </p:nvPicPr>
        <p:blipFill>
          <a:blip r:embed="rId1"/>
          <a:stretch/>
        </p:blipFill>
        <p:spPr>
          <a:xfrm>
            <a:off x="457200" y="1981080"/>
            <a:ext cx="8229600" cy="403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7 - Cost-Volume-Profit Logic and Contribution Margins</a:t>
            </a:r>
            <a:endParaRPr b="0" lang="en-US" sz="3400" spc="-1" strike="noStrike">
              <a:solidFill>
                <a:srgbClr val="000000"/>
              </a:solidFill>
              <a:latin typeface="Calibri"/>
            </a:endParaRPr>
          </a:p>
        </p:txBody>
      </p:sp>
      <p:sp>
        <p:nvSpPr>
          <p:cNvPr id="10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B5F5-2E90-4939-B15D-3D1055904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9" name="Picture 4" descr="optical.PNG"/>
          <p:cNvPicPr/>
          <p:nvPr/>
        </p:nvPicPr>
        <p:blipFill>
          <a:blip r:embed="rId1"/>
          <a:stretch/>
        </p:blipFill>
        <p:spPr>
          <a:xfrm>
            <a:off x="1523880" y="1447920"/>
            <a:ext cx="6553440" cy="51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eakeven Analysis</a:t>
            </a:r>
            <a:endParaRPr b="0" lang="en-US" sz="3400" spc="-1" strike="noStrike">
              <a:solidFill>
                <a:srgbClr val="000000"/>
              </a:solidFill>
              <a:latin typeface="Calibri"/>
            </a:endParaRPr>
          </a:p>
        </p:txBody>
      </p:sp>
      <p:sp>
        <p:nvSpPr>
          <p:cNvPr id="104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breakeven point” is the point in sales growth at which revenues equal expens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eakeven is defined at the point where the sales revenues exactly cover all the expens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7006-65DD-4BA9-B442-C9651BCBF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4" name="Picture 4" descr="cid:3287383400_2177562"/>
          <p:cNvPicPr/>
          <p:nvPr/>
        </p:nvPicPr>
        <p:blipFill>
          <a:blip r:embed="rId1"/>
          <a:stretch/>
        </p:blipFill>
        <p:spPr>
          <a:xfrm>
            <a:off x="533520" y="685800"/>
            <a:ext cx="8118360" cy="2647800"/>
          </a:xfrm>
          <a:prstGeom prst="rect">
            <a:avLst/>
          </a:prstGeom>
          <a:ln w="0">
            <a:noFill/>
          </a:ln>
        </p:spPr>
      </p:pic>
      <p:sp>
        <p:nvSpPr>
          <p:cNvPr id="1045"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6"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1 - Positioning Drives Tactics</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3DFC-DC88-4119-B807-F11894626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445.PNG"/>
          <p:cNvPicPr/>
          <p:nvPr/>
        </p:nvPicPr>
        <p:blipFill>
          <a:blip r:embed="rId1"/>
          <a:stretch/>
        </p:blipFill>
        <p:spPr>
          <a:xfrm>
            <a:off x="1828800" y="1523880"/>
            <a:ext cx="5213520" cy="485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1 - Organizing Customer-Focused Research</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6729-A5C9-4520-87AA-F7394F158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4678.PNG"/>
          <p:cNvPicPr/>
          <p:nvPr/>
        </p:nvPicPr>
        <p:blipFill>
          <a:blip r:embed="rId1"/>
          <a:stretch/>
        </p:blipFill>
        <p:spPr>
          <a:xfrm>
            <a:off x="1295280" y="1576440"/>
            <a:ext cx="6629400" cy="48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2 - The Marketing Research Process</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3548-F7DD-479C-AFBC-EC2991928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jkop.PNG"/>
          <p:cNvPicPr/>
          <p:nvPr/>
        </p:nvPicPr>
        <p:blipFill>
          <a:blip r:embed="rId1"/>
          <a:stretch/>
        </p:blipFill>
        <p:spPr>
          <a:xfrm>
            <a:off x="3429000" y="1695600"/>
            <a:ext cx="2335320" cy="47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Questions for Marketing Research</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I errors involve finding confirmatory results for hypotheses that are, in fact, not true (“false posi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II errors are rejecting hypotheses that are, in fact, true (“false nega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III - getting the right answers for the wrong question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97BC-0ED8-46D1-BC00-DF1CAD2B6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ing Research Designs</a:t>
            </a:r>
            <a:endParaRPr b="0" lang="en-US" sz="3400" spc="-1" strike="noStrike">
              <a:solidFill>
                <a:srgbClr val="000000"/>
              </a:solidFill>
              <a:latin typeface="Calibri"/>
            </a:endParaRPr>
          </a:p>
        </p:txBody>
      </p:sp>
      <p:sp>
        <p:nvSpPr>
          <p:cNvPr id="101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research efforts can have several different types of design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ator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p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al</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BF90-B930-4C32-A868-56A235857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2 - The Marketing Mix</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172A-81D0-4BBC-9B3A-E61C954A1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ask.PNG"/>
          <p:cNvPicPr/>
          <p:nvPr/>
        </p:nvPicPr>
        <p:blipFill>
          <a:blip r:embed="rId1"/>
          <a:stretch/>
        </p:blipFill>
        <p:spPr>
          <a:xfrm>
            <a:off x="2666880" y="1523880"/>
            <a:ext cx="3360960" cy="495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3 - The Marketing Mix Across the Product Lifecycle</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4C2A-F3FE-46DA-84BC-1717357CD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sau.PNG"/>
          <p:cNvPicPr/>
          <p:nvPr/>
        </p:nvPicPr>
        <p:blipFill>
          <a:blip r:embed="rId1"/>
          <a:stretch/>
        </p:blipFill>
        <p:spPr>
          <a:xfrm>
            <a:off x="457200" y="2209680"/>
            <a:ext cx="8305920" cy="305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3 - A Product Hierarchy</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10D2-13E6-4DF3-BA5B-53F8876C8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567890.PNG"/>
          <p:cNvPicPr/>
          <p:nvPr/>
        </p:nvPicPr>
        <p:blipFill>
          <a:blip r:embed="rId1"/>
          <a:stretch/>
        </p:blipFill>
        <p:spPr>
          <a:xfrm>
            <a:off x="2133720" y="1676520"/>
            <a:ext cx="4805280" cy="47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7:38:10Z</dcterms:modified>
  <cp:revision>892</cp:revision>
  <dc:subject/>
  <dc:title>Slide 1</dc:title>
</cp:coreProperties>
</file>