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8DC6-5C68-459C-BF71-280598B8E1B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ircase analysis estimates market potential, actual market, brand awareness, brand image, purchase rate, share of wallet, the repurchase rate, and the cross-buying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396C-6091-45B7-B453-2D9311560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dgeting has four defining inpu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fra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oca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cas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ectives</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6272-E402-4CF6-A510-D6C6D48E2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D8BC0-61E5-48E3-BC58-874E190D77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1135B-C5B3-4E70-815C-B94351CD01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E3F97A-9F20-415B-8C6B-72D3AC493B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534B44-5C85-4749-9C22-A75F952CBA4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4C8F14D-0E94-46F8-B21C-C85A03B51F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3E5B47-114F-49CD-A992-9C7DBA3A2A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133B94-73B6-4C0D-9DB4-2CDCD52987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9A7DBE-20F7-4C0F-8F09-3DAC98423B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46E69F-DDE7-4426-AE47-211C44E5CE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03880EF-8F67-4830-9326-1C4DE50D8C1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90ECCB1-F228-409B-A785-0F977035A7B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1B792E-2ECD-497E-B741-B7F0CCBCAE9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6BA40-BE9D-4280-AC5A-0A9A46A1B4F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AFB42A2-52E3-4170-96DB-3006C6DBF0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7922494-C60F-4778-AFC3-73D1E6218F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4D94D2-55AD-49DF-8362-F048F7A9AB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80DBABB-3881-40C4-8655-6FE7EDC7FE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67F6FA2-DCFD-4618-9B85-5AC250AEF37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F83F0B6-E569-4AFE-A725-8B9C31A91B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BF17F4-6FBC-45C1-A390-C1F4A13FC4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309900-875D-473E-AF43-8B596ACD4E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9AFDFF-D4EE-43C3-B978-8FB533E2FF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D1E1513-D367-44CD-ABA1-8FC31EBC43F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04378F-A81B-46A4-ABDF-3391C9CB6E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7A3D59C-23A6-46FF-8225-DE2BF23564B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1DD7E6-7240-49CD-9BDD-FA5D2403A09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78135D-217E-4EEB-92B0-3E442C70554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2085C50-D73B-4F2E-B7B7-CE4B0D8539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0EAD1B-241F-4278-BE98-06EF44A190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6F7E11-1BE2-4953-98AF-FC94EBF9602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B62A3F8-C5A0-46C2-8FA5-AAE48F0445D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866A2D-62AD-45A4-AF25-B7DBA1225E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F57B6E-4D5F-4610-B7D3-AC8B9ABF5A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42A70B-52EA-4B4F-B597-21A3773E21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EC2426-826D-480B-9F4A-162D4B23C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24D560-C71B-4A28-A06D-13286D7C928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F6814E3-B96E-4C64-BC56-C8E5322E982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A50D412-2E11-46DB-BA48-F07227A848D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D83963B-EE15-4F22-95AC-1C7385FC494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5D34A2D-5050-4134-8AF6-408465EDF5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4621939-BB60-4CA9-865B-2A2D6873911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97C580-3931-40FF-B646-C9021FE4F0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5F29DF-1113-4173-B360-5C7ACAF63CD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795D19-865A-42BF-9ACF-D05C4790284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D18E36C-69FA-4254-A33A-B6F3F9A418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361CD7-E3D6-403B-962D-73699704F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C477C94-13DB-4504-8D2A-3B5A40E293A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B519ED-C012-4262-B5F5-17B5870CD0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BF1F01E-EB71-4A26-AC20-A1A08E8325D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68D95D7-C91B-4CCF-9DA8-E9355C0C02A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0BAC82A-5AF1-4A91-8A82-39C986DBAE9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DB686D8-D5C9-4B1D-A7A4-F91344BE649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D03956-2AF2-4F74-9E89-99E70A47DBD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CE52F36-5FC7-4B8E-A579-D35B65BDB95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CC31B26-FB54-4DAE-AAF1-A9A0D35BB1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ABDA5DC-EBFF-4449-AAFF-7FA0FB43D5E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81B5D1-3602-49B0-B843-336A3EB06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3E6A9BC-8EFD-4001-B33A-63013E2F78D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233C02-A053-4F2C-9430-2487728D29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FE978CD-E433-45D1-AF68-CCCDD427886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45379C3-F3DB-4142-BFC6-49808852560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B1C46B2-3238-4B01-A4D2-DF8E6B185B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F330A0C-741C-4582-9BF6-DB55E56A260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099D75A-D5C5-4334-B325-042ACA243A7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930FF4F-CEC4-4475-9EDA-65C023EF045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A43D583-49C4-4EB7-9F38-D0F756D29F7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0CE1CBB-B0C0-4400-9448-7ADBEC0639D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268768-E634-401B-8991-CB9F1D3B1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5ECC13D-2C23-4A1F-A115-45182D8B4E6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6183622-E3F5-4CCE-88A2-31DCC0388CC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3400527-32A9-48D7-B1A6-4D988F37140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5A4BE21-AB68-49BC-BC4C-11968075DCC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B6607D3-A7CB-489C-99E4-46519F94896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99BA756-364E-4F0F-93E7-9B8319D6775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068A7AC-1A2B-4FAC-9216-F8DB44610B5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CC5F4C9-2F09-4B9D-AFBD-783C1FD9201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B015A07-4638-4835-A6FC-81DBEC2A653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BCD51D0-5695-494C-9240-84FF1F10C15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B1CE9B-63ED-450B-98FE-E6CCAE776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7126B5B-6A55-40D0-9C65-C7E88359C95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5254634-8B76-48EB-A09B-53233824341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57FC41C-1481-42A8-B52E-20026FB09B2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07095CD-2C4B-4C97-8CB4-30B7C240C06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E80F8F4-85C9-4125-8FD8-5E249F2AB7A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D93BF84-03DF-437B-A8F1-CEC9EE389CC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F2A4CE6-BF8F-4751-BB86-E452092C4BD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E52B01B-7811-4127-93BF-775DC18DC6B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58B5D0D-84F6-4D65-9770-4D7EEEECB1B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F57E57B-5A3E-4181-8D3E-DA5489B89B5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AB8C3E-3586-437A-8C5A-0DAEE0FCB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085A85D-61C9-49F7-A1CE-640F0418F7C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01752C8-9091-4B50-AD53-64A6C799C4DC}"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37416E2-714C-4170-9FB1-9D32ABEB858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1A50522-EA68-4F79-9BF3-B698A8BCC2D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BE14A2B-C2B9-473A-9920-A627884AE18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C35E0DA-0952-4BDC-AF8D-2B0FD84FDB0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CB065D6-A5B2-4FFC-BAF4-E9017B7914E7}"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C3F8A7D-D128-4265-9E90-C2937DE493A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D49FCE4-1506-4B5A-9334-4964C89C618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5D88EE8-752D-4EFF-9A97-58461E509FA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1E556D-2112-47CA-9843-0F52E9A0A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D890C0F-0F5A-417C-A4EF-6C11C359EAF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EC3100B-6461-4210-A038-4BFFB980E58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55C2A9D-51CB-4C25-8E2A-62F47540638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6F1CEB9-C984-4C25-A88A-B44A9CF1A9E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530512E-FF3B-4E69-B0C4-87FA0D8FB3C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88282D1-7BE1-41A7-88F6-4091D5B007B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9BA6446-46B6-459C-B530-99D93E26237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649DDC1-1802-4379-B7E3-00BA645402E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26F6850-6B8B-4590-9F7B-1DF5E434BF3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DB1DEA0-9E46-4D55-9093-0C6B1D9595F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8A2AC-D69E-4FC5-B87F-ECFE6EC4B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1418E5-9F69-48A9-951D-5FFCCF3FE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47CF7D4-1F75-42AC-A57A-6E8F6F122A0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966CE9B-BB01-4BB3-83A0-10E115917A5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8FF9E8B-3E51-4CA4-A244-D871F3694B0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C4748B8-CF24-4EAB-9037-2D78B83CABE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F8FCFB9A-C367-4E67-A0B4-E178EC0BDF2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7014AFA-764C-4100-A00C-AE6B90AD6EC1}"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59847A73-E5A7-4755-9351-DA47F321C25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07F0C1E-811A-4E8A-81E8-A56A52FBAC4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FB1EB62-CE98-488E-AFE2-0E4E07632E0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22994CF-1DD4-457E-BC3D-F6F11A0839C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E68376-BADC-4912-99D6-BFBBFAFD6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56D96B0-1B50-4A30-9C41-9C1F9B270CF9}"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2227D3B-9703-481F-8502-9C431325706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1B198BE-9230-4C4E-B34D-1B550B201B6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2F58985-AA4C-4955-B5FD-62A119B3B00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EE3F09E-0D73-41FA-9616-24B5105E7D1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926422D3-52D4-4B62-8749-81AFD2B631E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F3C89058-61DF-44E8-8076-9D05D17C607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532814C-1353-4933-9BBC-52DDD7021EF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139DDA8-3B08-4CB9-AC74-BB9278B93F1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2269A4C-C106-4FF1-831D-29E4CADC4D0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729BDB-46C6-495D-BED1-D4FF671BF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2F1352C-3E4F-4FDF-9CD1-8320A139443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A393D63-C5B2-48FE-87B5-18EB23AFA1C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E9715F5-CE4C-47F0-A10E-31437FE593E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F23AC9F-EDD4-4C5C-9EAF-2368832C7AF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70B0D12-CF4D-4478-8041-1DDE479DD06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6C96976-ADC2-4A87-A085-137BA1EA339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0916DE0-E9E4-437B-A25B-DD2B102A93F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CDCFFD34-FC2A-4495-80CE-E2437BAE91CA}"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E3C708DF-5551-4C7B-B8CE-403CBC59FD8E}"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E7A11A9A-3AF7-40FA-97DD-57C9FF75F9F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1EFC9A-995E-4A96-9AA1-9AB40D3BAE7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DE25EF4-441E-4369-B022-90D4A2D90D2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CF9D7D8-99AF-4CE3-9404-09EABB6F44F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97CFDA0-B6D5-4D0C-9944-63E7A989931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B48E912-8648-4683-8DDE-AFE1ED78E82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8E71D60-43C6-488C-B794-11F1CB5A854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2259C89-CE51-4D5D-8E68-F38F91692FE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59D4470-EC19-42EF-9625-A2316C31074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F70A47B-0CF6-466C-9AF3-DD06B816B55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F84F58A-91B1-4DF9-A789-600856E8A6C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4CAC508C-D480-463A-A4DF-B5B3F53485CE}"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4C308D-4E3C-4796-ACBE-A56738FC32F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EE79DA52-CB39-4B90-BCC7-93614F25CC34}"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026368AC-C97D-4E61-B748-2396612D998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39ED8CF-670F-403C-AE78-25117CBCFBE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A7CEB07-AF3B-4176-9EB7-8BCE2D77683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6696246-4232-4BB1-8F2C-5660108D881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20A2E3E-F8BB-46EC-912E-838C6CF8964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42EFDD0-FECF-459E-96AB-E446638DB46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E84117D-C054-494D-A81E-1CB98DA621E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99F7C65-E55F-44D9-B337-87DDD37E484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C09675B-D07B-48A4-AB9D-B0905F33D0F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A3FEBFB-BE92-4D29-A111-A8E5BE1643B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9A24F6D-4B99-451D-A6CE-4E1A5272AD9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74E8916-7E54-4833-9337-B664F1A656D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A004E107-F4F7-4CFF-B53F-461BA9392E0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D7D6DEF-2855-4344-81B8-FC9AA150BD5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8602E9E-8AAD-40E7-901F-8732500E517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7023643-2EB2-491F-9259-1F1FB615F18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99B99BBF-32DC-422A-BB07-8045085ACBA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8421C9E-DD7F-4748-AFB1-0E51C7A1EFC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9BFAC7E-CB1A-4D07-AAF2-5F885672C45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96EE403-A3E0-4721-B4FB-BB64724E1CD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F24C65B-A70E-4341-A2DA-7ACB032162E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9B969673-D081-4C8F-99A6-296553C3F33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BAC0D151-9D2E-48BE-AE0D-19413646FC10}"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CBE480E-CCCD-4DC1-8332-DF6FA074020A}"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1A831C2-11AA-42C5-97A4-8853D1452E28}"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A6BE022-B9E7-45FD-9126-99273773B3DB}"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1C028D1-1E75-408A-9704-0F2D9190715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87507B6-25BE-471E-9F01-431844AB897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6275A52-B74C-4B24-A2D4-40BA28060C8A}"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C958E42-3BF8-423A-A48C-49790B761DA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7CE4C7B-46F2-4C6F-9379-28C0F8ECA28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8D5AA13-B89B-4CFA-90FA-DF0DC242F7A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F7F239C-F689-4C19-A1E0-549AC1AFFE2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1BD8FAA-E988-4AC4-8012-649CE1DB643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16FD386-3BC4-40D0-B9F7-B73C8EADF35F}"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656F842-473D-4EC0-B126-0F59E90E4A60}"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E69971BA-9E8B-4694-BCC7-45439A8A308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987D20F-BEDA-48A5-9EC6-94A0F811024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49CB8AE-487A-4718-826C-9A3235DC68E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1B8F3D4-08D2-414C-8202-0C3CF12FD1A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DB90406-350B-46D8-938A-FBE3CAB762B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6274F34-A63C-4759-8AB6-9CB3C919240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51DF901-79C2-4146-A9F0-3EEA6C26B75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697DEB7-E9A3-4F32-A30E-BDFFF929C2A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B14AB1F-5F7C-45D6-9290-1AFEC5AEFB0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0C425F6-A1FB-4F7B-959F-9B2FC3B09BF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FC85175-ED6E-4B24-90DA-19E044EFC2FB}"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D590B005-D0AC-4313-AD56-0428048B0812}"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98FB-946C-4BD1-850F-F2FC13F1EE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60BD86-2E3C-4AA8-B6DD-4B4EE1EF6BC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3A274BA-BD07-4B4B-B779-D7DEF87D4C1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9780F2E-8F0D-4AEA-8F53-06E7F11298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B9F15-5A98-42FE-86DE-0159AABACF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E827677-358B-46D6-BECF-9E877E1ECAD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0B00F2DB-A600-486F-879E-1A7474D04D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98C73C0-61D3-4173-95F2-7A74FA6139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515A615-B006-4505-907B-FA3514BBCC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858B1DD-D15F-49A0-AB50-BC944F183B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B5E892F-FAC3-46DE-921A-D76345179F0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EE977E6-64CA-4F6A-86A0-1FBF6CFDBD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40467556-BA23-4635-92E6-A16E504BDC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0CD8187-0FCC-4D2C-8235-55B249A984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9977E8-9647-4DAA-B6E5-7A2C494A10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7B7150-35FC-498D-997F-E6CC65E650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7E5FA5-608C-462A-8DC3-C36E470698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5DAE19-0AE9-4297-BC76-DFB048AA9D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3A5F75-6D97-4076-AA8C-35BBEF451F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0D4C38-A5C2-44A3-9B31-CCC91C486A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620EC6-C2EC-40E9-BEC7-00E700C897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47CA4D-F99A-41E9-AF63-E95B284217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0737BD-F3D7-424B-B0B2-5395FDF220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AEAB62-D185-4922-8926-4DEAA82326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1B5C92-2F93-4882-AB0B-39F9E0214C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E560D4A-C5BA-4CD7-BA00-01CE78AD07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85AF9F-29F7-44F4-A21B-195480BF14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7754C2-DCE6-4914-A5CB-E6CF0B3AD3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7D91F7-B224-4861-A9AF-3B9A14BFA6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D44008-CDC8-47CF-929F-7C8BAACAE8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C1ECE2-B4C0-462E-876E-12514BAE8E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0D251F-9915-4705-ABD6-7AC7D0E6D6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975BDC-A6F5-423A-8547-4C0B6F49BD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8BBA43-78DC-4BA8-8091-FC172A333D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009FDE-69E2-4243-8A4A-DE5F430106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7A9280-C272-4771-B18E-DE499CE4CB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79C305-DE12-4D71-9F10-A3CD1B4BB3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FB4C7-9E6F-44D3-95D8-B0FA4F0F77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9638E4-583F-40FD-92CE-25A5A661EA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1C07152-0243-4A15-BD2F-DF6C8EF5C6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ABC28D-1506-477E-BF6F-7D794619E43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889BDA1-2672-40F5-9A6A-26EF9D6F4C6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CBE6DE-5788-428B-83D2-0F51D209A2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3B6330B-A4C8-4FB5-BC39-05FAC7360B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4334FF-CBEF-420B-AC42-369EE12DA88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3671D2-71A8-40B1-8203-4AC9740986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67AEA2-4FE7-45B0-BD06-22C2DE0A25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46F918-F3AA-4D87-AA88-56D1046A70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EC277-971D-4B09-9751-3E6010418A0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DC08EB-E900-4E43-9B1D-8C5871A47E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BFA1C4-02D5-4529-9072-34EA7B7928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39992E-C6A3-45B4-AFC6-C68547E9DE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2C1F9A-3C4D-41CE-8221-0A353F1E450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2880AC-9817-4772-A534-3CB1A512AB9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CE8067E-2760-49BF-AD67-9B2160CB311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269941-82AF-48AD-B926-CA1C80836FB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7AB1FB-88B1-4A07-A9CB-2BB744743F8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81116B-0A6F-4C6F-8879-53C2E7B4BA9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E5C059-4EB4-4B6D-9697-C76464A713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48A0D-6845-458A-A283-36FB58B859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27E999-1C37-4B2B-A3D5-C78AE7C7D3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02E896-B64B-4000-9358-D80D046988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51654B-FF97-40D7-8BE3-3F9AA10051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1F1645-6D9C-4A76-AAA2-D9E583F9E1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8834A56-C602-462A-8E6D-AB9442931F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E005544-5AD0-4E38-9708-565F34C6F36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B65360A-BEAF-43F0-89B6-0D977361458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F85C5F-467B-4E38-A423-8ABA352C08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AB62A4-3307-4EC4-BC43-0DBB6B06B2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84421F-AC10-4DA1-BF15-950249BB2EF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3401-F00E-46A3-BD44-A123D481BA7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7342-69C1-478C-8CC5-932D464AA65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ECED-C8CF-4A83-BA84-EE9320BDA59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337B-62A8-4D3E-9772-DC4DB30D67C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132F-6F69-4E39-A8F0-EEEF9C192DC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01B8-56AD-450D-9EAB-7A3A80D0F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9F9D-046C-469C-BE82-41C323707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9FF0-6E0D-4E08-B764-E3F3D0028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3028-D894-48BE-8E26-7E61892B2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AC92-3372-4A47-9314-954DC1B31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B9E0-6D63-435E-B505-E27A6F574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BD28-B1CB-43BD-B113-26A5F7AFC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EC7A-91F6-4536-A3A9-7861EDDA9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7226-93E5-4A0A-ABDB-B45365B9A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8527-C9E1-4F47-9FD0-55AE93434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7F45-16B3-423B-94F7-2EA36C35B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2AC1-F877-4BD0-BD30-8BEDB2977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CAA9-9589-4CC0-A59B-0A00BEA3E3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0C23-D49B-4D2A-85E1-6FB9DC86C43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CDE1-45F0-48F0-9E62-658D5C7ACAA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87F2-7F02-4EBD-95E8-339B7F14D33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119F-F4A3-4C23-B77F-5CFAAE8C430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306D-DCD4-48A3-8A40-CEB3A1AF474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6</a:t>
            </a:r>
            <a:br>
              <a:rPr sz="3400"/>
            </a:br>
            <a:r>
              <a:rPr b="0" lang="en-US" sz="3400" spc="-1" strike="noStrike">
                <a:solidFill>
                  <a:srgbClr val="000000"/>
                </a:solidFill>
                <a:latin typeface="Calibri"/>
              </a:rPr>
              <a:t>Planning, Assessment</a:t>
            </a:r>
            <a:br>
              <a:rPr sz="3400"/>
            </a:br>
            <a:r>
              <a:rPr b="0" lang="en-US" sz="3400" spc="-1" strike="noStrike">
                <a:solidFill>
                  <a:srgbClr val="000000"/>
                </a:solidFill>
                <a:latin typeface="Calibri"/>
              </a:rPr>
              <a:t>and Adjust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3 - Typical Financial and Operating</a:t>
            </a:r>
            <a:br>
              <a:rPr sz="3400"/>
            </a:br>
            <a:r>
              <a:rPr b="0" lang="en-US" sz="3400" spc="-1" strike="noStrike">
                <a:solidFill>
                  <a:srgbClr val="000000"/>
                </a:solidFill>
                <a:latin typeface="Calibri"/>
              </a:rPr>
              <a:t>Metric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29AF-F840-4A9E-B055-1AD5EA2F5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090.PNG"/>
          <p:cNvPicPr/>
          <p:nvPr/>
        </p:nvPicPr>
        <p:blipFill>
          <a:blip r:embed="rId1"/>
          <a:stretch/>
        </p:blipFill>
        <p:spPr>
          <a:xfrm>
            <a:off x="1981080" y="1571760"/>
            <a:ext cx="5143680" cy="49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3 - Why Loyal Customers Are More Profitab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54F4-6DC8-4F41-AE6B-977A0E239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gade.PNG"/>
          <p:cNvPicPr/>
          <p:nvPr/>
        </p:nvPicPr>
        <p:blipFill>
          <a:blip r:embed="rId1"/>
          <a:stretch/>
        </p:blipFill>
        <p:spPr>
          <a:xfrm>
            <a:off x="1219320" y="1522440"/>
            <a:ext cx="7010280" cy="495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9" name="Picture 4" descr="cid:3287383400_2177562"/>
          <p:cNvPicPr/>
          <p:nvPr/>
        </p:nvPicPr>
        <p:blipFill>
          <a:blip r:embed="rId1"/>
          <a:stretch/>
        </p:blipFill>
        <p:spPr>
          <a:xfrm>
            <a:off x="533520" y="685800"/>
            <a:ext cx="8118360" cy="2647800"/>
          </a:xfrm>
          <a:prstGeom prst="rect">
            <a:avLst/>
          </a:prstGeom>
          <a:ln w="0">
            <a:noFill/>
          </a:ln>
        </p:spPr>
      </p:pic>
      <p:sp>
        <p:nvSpPr>
          <p:cNvPr id="1030"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31"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1 - Generic Marketing Plan Outline</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5C30-FF22-46EB-9693-7956C9DFA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67.PNG"/>
          <p:cNvPicPr/>
          <p:nvPr/>
        </p:nvPicPr>
        <p:blipFill>
          <a:blip r:embed="rId1"/>
          <a:stretch/>
        </p:blipFill>
        <p:spPr>
          <a:xfrm>
            <a:off x="3009960" y="1523880"/>
            <a:ext cx="25527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isks</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rketing manager should identify risks and develop contingency plans while working on the marketing pla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not simple risk minimization or risk avoidanc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evaluating risk and choosing which risks to accept and which to avoi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63B3-6C1E-4B2D-9ED4-2D6A7D660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1 - Impact/Likelihood Matrix</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F4C9-6D2C-473B-A505-4FCF13D8D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tyuiop.PNG"/>
          <p:cNvPicPr/>
          <p:nvPr/>
        </p:nvPicPr>
        <p:blipFill>
          <a:blip r:embed="rId1"/>
          <a:stretch/>
        </p:blipFill>
        <p:spPr>
          <a:xfrm>
            <a:off x="914400" y="1600200"/>
            <a:ext cx="7196040" cy="491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orecast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ecasts, objectives, and budgets are interdependent but they must be done concurrently and interactivel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im is to optimize the budget and the commitment of resources to maximize expected (forecast) and desired outcomes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E093-0E47-4EA7-95F6-36C90D21C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2 - Example of Staircase Analysis</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EEA2-3CA0-4425-BAFD-B82933D5C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as.PNG"/>
          <p:cNvPicPr/>
          <p:nvPr/>
        </p:nvPicPr>
        <p:blipFill>
          <a:blip r:embed="rId1"/>
          <a:stretch/>
        </p:blipFill>
        <p:spPr>
          <a:xfrm>
            <a:off x="685800" y="1657440"/>
            <a:ext cx="769608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udgets</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udget specifies the money to be spent by area and allocates scarce financial resources across activ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ing on those forecasts, the objectives and budgets can be reformulated or the mix can be adjuste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dgeting is interactive with planning and forecasting; like a hydraulic system, raising levels in one will change the constraints and outcomes of the oth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1FF1-BFB9-4CE3-88FA-5C088B27F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2 - Basic Marketing Budget Component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B96E-77A0-49C0-AEFE-5099062C3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gad.PNG"/>
          <p:cNvPicPr/>
          <p:nvPr/>
        </p:nvPicPr>
        <p:blipFill>
          <a:blip r:embed="rId1"/>
          <a:stretch/>
        </p:blipFill>
        <p:spPr>
          <a:xfrm>
            <a:off x="2819520" y="1600200"/>
            <a:ext cx="32860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Specific Objectives</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liminary objectives are developed based on the corporate mission and vision and on the strateg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should be “SMART”—Specific, Measureable, Achievable, Relevant, and Time-specific</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distinct sorts of objectives are useful and common in developing marketing strategies: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objec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objec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or profit objec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925B-FCDE-4E9D-99F5-6855D5373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8:27:34Z</dcterms:modified>
  <cp:revision>943</cp:revision>
  <dc:subject/>
  <dc:title>Slide 1</dc:title>
</cp:coreProperties>
</file>