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2" name="PlaceHolder 2"/>
          <p:cNvSpPr>
            <a:spLocks noGrp="1"/>
          </p:cNvSpPr>
          <p:nvPr>
            <p:ph type="dt" idx="6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move the slide</a:t>
            </a:r>
            <a:endParaRPr b="0" lang="en-US" sz="3400" spc="-1" strike="noStrike">
              <a:solidFill>
                <a:srgbClr val="000000"/>
              </a:solidFill>
              <a:latin typeface="Calibri"/>
            </a:endParaRPr>
          </a:p>
        </p:txBody>
      </p:sp>
      <p:sp>
        <p:nvSpPr>
          <p:cNvPr id="9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5" name="PlaceHolder 5"/>
          <p:cNvSpPr>
            <a:spLocks noGrp="1"/>
          </p:cNvSpPr>
          <p:nvPr>
            <p:ph type="ftr" idx="6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6" name="PlaceHolder 6"/>
          <p:cNvSpPr>
            <a:spLocks noGrp="1"/>
          </p:cNvSpPr>
          <p:nvPr>
            <p:ph type="sldNum" idx="6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D85B6-B5FD-46A2-A5E3-EB8B845BAE5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ircase analysis estimates market potential, actual market, brand awareness, brand image, purchase rate, share of wallet, the repurchase rate, and the cross-buying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806FE-DC3B-4D8F-B11A-26FBFBB40D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udgeting has four defining input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meframe</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location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cast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jectives</a:t>
            </a:r>
            <a:endParaRPr b="0" lang="en-US" sz="1200" spc="-1" strike="noStrike">
              <a:solidFill>
                <a:srgbClr val="000000"/>
              </a:solidFill>
              <a:latin typeface="Calibri"/>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06A9C-764A-4EA8-8C09-57D10F19CB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CD2AE1-2F62-4F47-927A-2B28148F30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6D17B6-DC18-449C-8824-44F9A6D59E5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D80C985-33A0-4329-9232-7E6E673B040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EC2B8D6-CD1D-4301-84F7-176327082EF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7D02293-592A-4BB6-8313-6D7707084EA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38A4904-7704-4A22-8EC9-9EEAB953110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D795E1A-A072-4B63-996A-F7C3593531C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704FB13-5334-40A2-B9F5-811D954DD5C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1358F6D-447F-4C56-BF8C-C40495B7622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547FAC7A-9959-44D0-A3FF-3613D6D6E406}"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B397967-8471-4ABB-9113-832825E9CC3A}"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2407F95-5EBA-4FA1-8B86-4E2EC1EC175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B99AD4-18FC-4A70-9D7C-CA8CA7D6496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FBA042D-CCDA-498E-A7F2-D56E73FCF7E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75BB011-EA20-4408-B31E-AFD46B1014F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096750C-70E5-4BE5-A128-E771EF11EDF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C66CC48-00E2-425D-BC0C-C3C4EFCD953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D05C877-D6FC-41E1-AB4B-DBEFA6CC1EF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F657619-18C4-46C8-A785-BDD65073D72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7EC8485-DA0A-4F3F-8E4C-1AF4AEB0742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CA543E5-AECA-40F9-974E-D60D11D74AA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34030F5-C0D1-41A7-9FA4-BA4FE9D4B47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C6D3315D-666C-47E1-93DC-B344F26EDAD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9950A6-6D39-439F-B1A8-E0A35325721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BE63DD0-07D7-4BF2-9C40-35E4B84B79E0}"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BA100A2-26AB-417A-975B-F1E3654042C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C57A05C-DE70-4D67-BF3F-E251C180657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4B326D2-C5D3-4CDE-A853-E57D98FFAD8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F0C0E5D-DFDE-428A-B66D-75D1E604CCF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27FD88F-04A0-44DC-8AEF-F2724F26E0C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2D02232-07D8-4D5E-86CC-D7C88902A83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4E5A86A-FB87-486A-961F-F7AF3759DC0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4C4CF9A-0F42-441F-81BF-B7795807DD2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EB7CD9D-82EB-4220-9FBB-8B35C4F54DA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899CD50-327E-4E2E-90CD-844E27A07F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1987F38-2C8D-43D0-B2CA-1807BAAD454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CE7AE543-FCA6-4654-824F-D13CABC21E61}"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D89BA15-BD30-4B9F-8B5B-59000FBC93FE}"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413671A0-DB91-4E78-9117-2A3A541A038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39E46D1-3F7D-4AFD-9E17-5CCABDD0C9B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659C7D7-81AE-42AA-A427-AA052852087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6376B45-21A3-43BB-B76F-200A513F15D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F48F27E-06EB-4C12-959B-A3C6F1F3CD0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953B5F1-51F6-4579-9876-F9B36FB43DE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CF4132D-F1E8-4603-BED3-2871B9D2991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5004756-112F-4F21-A9AA-E1281ECC5D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CE30429-580B-4843-A39E-30FF5D4A324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70294FC-2904-4C48-841F-255B58BDF08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9D3AAE0-C5CD-4F5F-AC3B-91A20DE4F5D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94A8C8E-29F6-40C8-BDCA-73A6E44067F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A659EC5-8C3E-40DD-A207-1DBDA623B084}"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69FB8CE1-6460-4C01-9120-D7340AF9276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9464164-B035-4B6D-A6D3-F4EDD3CAC79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DD4F8A0-D191-4252-8533-BF6806A21E8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9D542EA-0244-4C16-92D1-FC4842754A1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E230737-CF1C-43C8-9CD4-64B625B25C6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7E888A3-7190-4A4E-95C6-5C38CC46C8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A1E8724-8E67-4B6D-8F18-BAE027067C7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437B5D7-3834-431A-BA42-AAEB735CE3B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693A52E-6278-4D3B-B249-53E2094E314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83F6503-0A5E-4C62-968C-CD5A0546D3C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62EA7AD-ABB1-43A3-8389-AE0B10CF22B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EBBF0334-44BF-4725-8C80-074B42AD27CD}"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3952EDC0-4C57-49CF-863F-2E81AB7720A7}"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8DC06543-16F8-4D8B-9D8F-8D7E76D8A5E5}"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74BCBEA-AC44-4F50-ABB0-E4E35A168A2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46E24B5-25A8-4FAF-ACAA-6DA9EB8399E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ED05F60-3564-4B53-85EB-8A95B97B07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D6BFF8E4-F624-4602-9961-A105FDD017C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F76B129-3B78-472E-9087-CF781CD621D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C8FC040-DAB5-428E-9C7C-BC94CFC7068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DB00BC3-EA12-4C9E-A4D2-338CBA951FD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B84C2C7-2B7D-4519-894A-44AA311AE7A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8DE7F0C-14CF-4C3E-A6DC-B0009D45125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E2B0DC2-E89F-4F9C-9534-B6CC937D4E0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6E60DEFA-61B4-47C8-8CAC-8905AC5CA520}"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75F52F41-79DE-4E95-A26F-227A6710044A}"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5017135F-69A2-4BE5-9593-1E898DC54F49}"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536C649-6FE0-4DA6-850F-F7B18FFB89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C1809028-E361-4793-8D8D-B0F2A15A1B92}"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7DDAA9BD-8344-4876-BF3F-12790A832843}"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AB6701A6-B8BA-45A6-B251-0E0112E68AF6}"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05AA3FC3-32FB-4EF3-89BA-23B4C4A40431}"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3CEC4097-4776-4830-BDD4-CA3D106BE9DB}"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BC15D9AC-FDA0-43DF-9BAD-02B2A319F507}"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54F0BC09-175A-4A3A-8D6D-9CD8F681C0B9}"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41F370AE-D577-4291-BF14-5E79D79F6353}"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D2E5C7C1-6257-4053-A9B7-76CE339C3269}"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258D8A77-00F6-46C5-8FF1-F99D3E202E81}"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D3A0AA9-3DAF-46BB-BEC3-B44F365670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60B328E5-4096-41AC-A747-3A4EF670ECA2}"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D79A52C9-C955-4450-9837-4D5342EFB680}"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52D9C330-D4B0-4F20-9FF6-D88A305B8FB9}"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72C03097-7E37-4CBB-B2FA-3F94D40359E0}"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279919FB-77A2-4DF5-9141-E163BF88337B}"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B9730AB1-AC3B-4B2C-B859-CF52CC906D60}"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458AFDAC-834D-41DF-B510-7BFE088E2333}"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E9534906-6A46-4A49-8B80-623EFCBCBFD0}"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5341F6B4-9D1C-40CB-81E1-096B3FEDBEC1}"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0C87A6CD-E096-4BE9-8D86-F0000AAFB3C1}"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CBDE487-9F1F-4741-A665-2770E6FD1D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0C25E85C-7C07-4D08-9E59-BE054A1C08EE}"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F41906E1-54E3-4F66-BE4B-759006730918}"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90C25BEE-3854-4166-8FD1-EE06D0B7275D}"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05D675F9-846F-4777-91A5-DB2999B8355B}"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590193FE-360E-4077-8CF0-945E61FE5AC2}"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509D93CB-96F2-42D0-A3A7-FD8DFAD71410}"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C5AAA0C3-C040-4F34-9782-A37D892D0444}"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4710BE69-3551-4516-9547-C46FEFE99501}"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CF78FE27-11AC-41D7-B1A8-6B34217BDF85}"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E9EB9320-9BCB-44DC-99B1-C07EAEE2EAAD}"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9B7A8-C5EA-4BCD-8B7A-DE5ABA70BB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4A87B50-9A02-45C8-A87F-FFD58FE32D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69D1B406-4C4E-4235-B81F-5AF03D87BA77}"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09325228-A22D-4F8E-95BD-1190DE43CBAD}"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2C4D214F-E4F0-4D7C-A2E3-039033224E36}"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FB07F915-06C7-4808-B038-B9CE7E7FFAAA}"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7BE187FD-AC03-43AF-9132-B102E5F7E905}"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A05FF099-6760-4D62-977B-0B832787CBB2}"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F5624238-785D-4E52-9EE0-99912F3D3ECC}"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1185013A-98A5-4D04-A148-A2AE3CE02D5B}"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5EFFE659-65CF-4785-A34F-4B24015DA9C3}"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F202A061-8AFF-4DDA-9BA9-86648F97AB24}"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9102791-0C32-4A05-8E0C-4ABD64BD40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4E928A9F-43FC-4CC5-9E82-E56A7BA18245}"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6BEB0369-C3EC-46E4-975A-1FDABC458C19}"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A062140B-68BA-4819-8524-4315C84A3BB1}"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7ABC25E0-2023-49FD-86A3-C683C357F9A3}"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DECEFF7C-6CC7-423B-A815-23CBE4913566}"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2F09A5E7-A46B-48C7-A5DF-F101B707BC1C}"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E5EEB2C5-F86E-444A-A8F8-FF7A7A3BD68A}"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B93F8F81-97CD-4B9F-A683-F3401CC1BB78}"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AC3D4BD0-5060-44C5-A9AE-24C90972F17C}"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760FBE69-034F-4902-B28B-1137D55E6E25}"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7B97FBD-104E-4089-BF5B-6850E4AF5A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7AEC083A-4B92-4897-942D-3EF621036F2F}"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0FE1BC45-B185-4293-9CC5-2ADA9CDF0A21}"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6C62862F-784E-449A-9DFE-9F182C557D0D}"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F49A897B-6EC7-4346-BE4E-720174D03101}"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85D6F7BF-32C0-4D86-A4C3-AB69CF81697B}"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DAA247BC-2A66-4793-B61B-0D2549B92FD2}"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FFD351E0-2887-42EB-A964-3D14F32A8775}"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DB2B5475-0BB3-4613-9457-0347742AE152}"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46DFEBB8-9C58-42DC-A221-8FAFF45C03FA}"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F40BA0B6-C14A-4A77-9947-6DF8CB5B9CDC}"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FE80BB0-5919-48C0-8A84-09EA4CDC196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6069A629-4302-4C83-B98A-3552E2E543CA}"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C474E50B-E5FE-4E16-BBB3-0D7A104E4BC3}"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9D5FD607-E8E2-48B4-AAAF-AC4C5618EB2B}"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153CE7A2-DDBC-45A2-8EE2-B51D85312C8E}"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AD565F95-9466-43DA-B2A1-7118333F740D}"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CEAA9559-810F-4BF7-9306-D01ABE214282}"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2AD0AD0D-EFEC-4A72-82A2-161295C9F497}"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0087202D-F5C9-4BB8-B5CE-495CFB7283DE}"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190EF2CD-3A94-4271-BA31-7A811E310C0C}"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1A62E3F9-1BDC-45D4-8569-188C31DCB0E3}"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C9A3513-75E5-44CA-BD42-75F9F73069D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09095910-1FB9-4EC0-9ED1-2CE7B1646E61}"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43D23844-EEF1-47FF-BEF0-EA9C2DE6D068}"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C0ACD048-D39B-442A-943D-9C3C8C6147E4}"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296A0322-7117-4C92-B74A-0126E0C50C82}"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F072EA04-C800-4BF6-852E-B1C1EACD0584}"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F20B57A0-1C0B-4CF9-85EC-B3FDD569AEAF}"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048CD3AC-717F-4838-B94D-6178AD5F09E9}"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1F1096B5-89AD-4076-A070-BB8D5EEBBB68}"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CD3F3F19-1DC8-4924-A3E2-5B4ACA39759B}"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5011CECF-32CD-49E6-A4A5-79489DC74CFB}"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DB62CA5D-B96E-4A92-AD47-0B79E80973EB}"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C01ABE31-5C0C-4903-B5CC-EB7E95D6DA1B}"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8FC74FAE-EE73-42F9-8DF8-242B4D53D63C}"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935DA2B3-F53F-409D-B814-E5B893C1C6E4}"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5826E018-C265-4D70-A866-F7E4611118F7}"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80C3A3A0-225C-40F2-8A77-03ED06EA4924}"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78A8CB98-C8EC-43CE-B073-E040E5E44E57}"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E9A9E6E6-FA7B-4D12-A537-1B8BC6B96BFB}"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B0CF251C-6C22-4340-BAA2-5A500C1F60E8}"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71935919-A57F-4D50-A6C7-C0791B59E8D4}"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00294B5E-893F-4600-86A1-29C93DFD20FD}"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C173CC69-AF93-4645-812B-A222B55AF872}"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E57AA447-4168-41AA-8CCD-3C4FD8F06699}"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BD7F9415-3F64-4ED4-AE01-9428241C58D9}"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8829CDD7-0E0B-4809-97C2-FAB9D8677175}"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4B2B31AB-C47D-4BE2-8333-F1BEC0F81244}"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50EBF2BE-E322-4A55-8362-B89B58CFAFE5}"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34660E17-8FA3-433C-9FB3-E8CCB38A8A0F}"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96A6B421-87A1-41F0-AD11-09B097711500}"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0A671CF8-5532-4542-A2D3-1816353BACE5}"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60B0616F-7622-4232-9C6D-F1E87BA91D96}"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1AD8F6FC-666E-4823-8875-B39AC56F913C}"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CAEC658D-FB2C-4381-97ED-79C9EE9FDFF4}"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0A772CBE-BCCF-464F-B411-F1F873BEDFCF}"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4A6B93D2-9106-49C1-A8BD-E27A31612566}"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7C00864A-3DDA-4D30-A968-1B66D5E351A3}"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91D10FAB-3452-4D09-B0E2-DC14563F84CE}"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CDD53E73-7B4A-4E7C-97D0-6DD1972B2ED9}"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1A7AC5FB-04DF-4B8F-89AE-E6A65B0A968C}"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DB44DE69-A281-422F-A719-253B2843AAA6}"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05EB76DD-D35F-4475-90E8-7FBAF1FF76AE}"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3AA19E74-064D-43B9-A8FB-06EC32B861FC}"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3E36CB21-F55C-45EA-B1AD-43BDFDF8A94D}"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6D3EDC44-912F-4A3A-A066-0E4CD8BAC8AC}"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5AE0ABEF-EBFA-4BF3-B33B-1FFAF0805167}"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791E1DC9-56DE-4C79-A7AA-3376788EED06}"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7477F9EE-3AB6-4A78-8812-284F4769812E}"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8245AED4-EFF3-47B8-8737-DF100931E620}"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474A19D1-5CD1-4E6E-99F4-E9A309B01E64}"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BA2D3-0A8B-412E-9E47-EA3BA9EF691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01512A8-2D9B-42D7-A27C-A879C9E7C48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26DB9574-68F1-40FB-9FE1-259CCE4A037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988F208D-28C8-43E1-A7A3-9CF4A8B0B9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AE2E11-16BB-4B81-A9C1-57E518C317E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067DECE4-9E01-4731-AEFB-D3462DF0895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37316C58-A691-4BB0-90CF-552E1EC8640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557B490D-E2CA-456C-AE75-1935060DCF2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05EC947C-6451-4FC6-925F-9FA83E9E93E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40DE2BF6-7A48-47E8-8A60-0ABCA926053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1F6D49B7-EC18-4876-8AD4-24B358A87EA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0DDF2CA4-A6B4-44B0-8B56-FEDEC7C44F3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72EF99C9-EB71-43EE-9402-F99E3621B6F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C97388D6-D6B8-486E-8B77-E5E5DD69048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37A2AE6-23DA-40F2-B6F5-978F22A2B0F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4B605B-A5FD-4AC8-8A53-7869DF86945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ECF693A-EFBA-4C89-AE9D-BC9CA369F03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389E09C-C570-482F-A6A8-C0CE4E6679A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F22CC1E-F258-420A-BD4A-7BF3D38F7B5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13D3DD3-BA26-4B49-A1AF-60742FF91FE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B6707C3-E8CC-4906-9C5E-A4604065C40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D89C3D2-552E-44CE-B6B0-7DAAC6A09DD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65076D9-FE3B-454E-B129-BAD1ED67C7E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AF2679F-A09B-4426-9982-FE0EF331698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88A9EF2-26F4-498E-B250-28119CFC4FF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73AE6E2-F7B2-41CC-B48B-449C1FB6952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F76D070-DCAC-4F5D-84BF-18C71549EDA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CAE0649-DD05-4DC2-A5B8-2B9408A89F4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CC4D40A-2413-4F78-86AF-5B3E27575C0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52B4879-2324-42E5-A28D-227DA796C11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9A8B1FF-B28E-4588-8392-F80AF4287B9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8A5A91E-B137-48C3-B0DE-22EA8C67693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8DCAFBB-694B-49F5-9A55-4C93EFDC483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E75F043-E8B0-438E-8F19-104554F9E23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130CED0-D021-49E7-8139-99D22372E0A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EDE0994-66B7-43E7-9449-D85E7F4A96A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EA11D38-4E4A-4F80-9B3C-8B01498586B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B29BA3-9B02-4A41-8755-0050111CA3C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FF9675E-D318-4CB9-B9F3-E3D298A4685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B468C32-4A89-4E74-B91D-9DB51F007D9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8CD36F4-13F5-48FB-998D-F4C0353FD30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2F8D9A8-247F-4E7E-A83C-358B11AA3C2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F170198-7F03-4E61-B7E0-6F8ECC8F7DA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379D0D5-8716-4855-9A76-BDD2F66D17E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61D3DC2-CA49-4B3F-8693-559FECA32D4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EC573D0-59DE-4E2F-A770-59183144661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5161035-7E0F-4DE3-AADA-BD87BE3FB7D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F0BF667-055B-4A42-AC34-2788F0D3886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4C244F-39ED-4718-AF5C-17C63B33AA1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C185B2A-E214-4C67-AEBC-3D4A6ECD85C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8606A79-1212-4227-B578-17D0740E4D0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F48644A-1144-4B59-B4A3-1F22A84E6E9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79870D1-6775-4F43-A7B9-6885FC61356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EE64A35-AB69-45A0-A715-860E690A21C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13FA44B-B724-4B79-8AA1-39FE5BE5A8D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E5DD006-6A2B-447B-A7A3-D0FF4272B29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A02E80A-158D-4515-94C1-4387C562F9E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DC71BF1-9081-4C54-9E06-4E29106D5C2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2C7AA54-D6B8-46A4-9094-BD682A908D7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08B96B-7F16-4115-B008-83D6AD561B2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EC572AA-BFA6-44B7-A3D9-74ABA381542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11D9E64-2B68-47A4-88D6-9ABB9ED31A7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AABEED0-9850-4DE1-8A5F-CF3942EF4B3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E7A5879-D0F4-455A-9222-8B1AF080450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4DEFBCF-074D-4CBA-946A-645E56BF272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EAA1EA4-F7F3-4F94-88F3-B6ED2551BDD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D82122A-4073-47D9-98C0-4F7F5CA3C78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A4890A8-0A01-433D-B047-6CA3AB2F974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1F5E2EF-66BE-4D68-A98D-F072F755E4A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8DE5F15-3E77-4F54-AF14-A7BA355BD347}"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BDE66-888A-44BF-8CDF-1513136B4BE7}"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7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74"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560CE-A638-437A-97B1-8592D2FA2638}"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1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1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16"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2F2CD-93B1-4B06-92D4-1647F05C8179}"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5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5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58"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73F92-4644-4FF4-A835-6E5AE068ED2C}"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9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00"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3490B-62FC-43EF-9DEA-64AF5FE65C3F}"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1" name="PlaceHolder 3"/>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3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00585-1323-43A7-9A56-0E7C41FA79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2" name="PlaceHolder 3"/>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4"/>
          <p:cNvSpPr>
            <a:spLocks noGrp="1"/>
          </p:cNvSpPr>
          <p:nvPr>
            <p:ph type="ftr" idx="3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5"/>
          <p:cNvSpPr>
            <a:spLocks noGrp="1"/>
          </p:cNvSpPr>
          <p:nvPr>
            <p:ph type="sldNum" idx="3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C4F6D-AB0B-4B73-846E-455D13F605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3" name="PlaceHolder 3"/>
          <p:cNvSpPr>
            <a:spLocks noGrp="1"/>
          </p:cNvSpPr>
          <p:nvPr>
            <p:ph type="dt" idx="3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4"/>
          <p:cNvSpPr>
            <a:spLocks noGrp="1"/>
          </p:cNvSpPr>
          <p:nvPr>
            <p:ph type="ftr" idx="4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PlaceHolder 5"/>
          <p:cNvSpPr>
            <a:spLocks noGrp="1"/>
          </p:cNvSpPr>
          <p:nvPr>
            <p:ph type="sldNum" idx="4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6DC07-1F14-4161-8A3D-C2FF5B4609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4" name="PlaceHolder 3"/>
          <p:cNvSpPr>
            <a:spLocks noGrp="1"/>
          </p:cNvSpPr>
          <p:nvPr>
            <p:ph type="dt" idx="4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4"/>
          <p:cNvSpPr>
            <a:spLocks noGrp="1"/>
          </p:cNvSpPr>
          <p:nvPr>
            <p:ph type="ftr" idx="4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PlaceHolder 5"/>
          <p:cNvSpPr>
            <a:spLocks noGrp="1"/>
          </p:cNvSpPr>
          <p:nvPr>
            <p:ph type="sldNum" idx="4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CAC87-9EE5-4EEE-AFFB-0E614CED82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5" name="PlaceHolder 3"/>
          <p:cNvSpPr>
            <a:spLocks noGrp="1"/>
          </p:cNvSpPr>
          <p:nvPr>
            <p:ph type="dt" idx="4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PlaceHolder 4"/>
          <p:cNvSpPr>
            <a:spLocks noGrp="1"/>
          </p:cNvSpPr>
          <p:nvPr>
            <p:ph type="ftr" idx="4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PlaceHolder 5"/>
          <p:cNvSpPr>
            <a:spLocks noGrp="1"/>
          </p:cNvSpPr>
          <p:nvPr>
            <p:ph type="sldNum" idx="4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10B72-A118-48EC-89CD-97FA32F4BB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6" name="PlaceHolder 3"/>
          <p:cNvSpPr>
            <a:spLocks noGrp="1"/>
          </p:cNvSpPr>
          <p:nvPr>
            <p:ph type="dt" idx="4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PlaceHolder 4"/>
          <p:cNvSpPr>
            <a:spLocks noGrp="1"/>
          </p:cNvSpPr>
          <p:nvPr>
            <p:ph type="ftr" idx="4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5"/>
          <p:cNvSpPr>
            <a:spLocks noGrp="1"/>
          </p:cNvSpPr>
          <p:nvPr>
            <p:ph type="sldNum" idx="5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01642-798F-43F5-B89C-2148BE13C7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71ED4-87FA-48A0-949A-0E12A0D08F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7" name="PlaceHolder 3"/>
          <p:cNvSpPr>
            <a:spLocks noGrp="1"/>
          </p:cNvSpPr>
          <p:nvPr>
            <p:ph type="dt" idx="5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PlaceHolder 4"/>
          <p:cNvSpPr>
            <a:spLocks noGrp="1"/>
          </p:cNvSpPr>
          <p:nvPr>
            <p:ph type="ftr" idx="5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PlaceHolder 5"/>
          <p:cNvSpPr>
            <a:spLocks noGrp="1"/>
          </p:cNvSpPr>
          <p:nvPr>
            <p:ph type="sldNum" idx="5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E4244-8FD6-425A-9ACF-8A12845C06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8" name="PlaceHolder 3"/>
          <p:cNvSpPr>
            <a:spLocks noGrp="1"/>
          </p:cNvSpPr>
          <p:nvPr>
            <p:ph type="dt" idx="5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PlaceHolder 4"/>
          <p:cNvSpPr>
            <a:spLocks noGrp="1"/>
          </p:cNvSpPr>
          <p:nvPr>
            <p:ph type="ftr" idx="5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PlaceHolder 5"/>
          <p:cNvSpPr>
            <a:spLocks noGrp="1"/>
          </p:cNvSpPr>
          <p:nvPr>
            <p:ph type="sldNum" idx="5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DE0D5-A4C8-477E-B7E8-616532F28E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9" name="PlaceHolder 3"/>
          <p:cNvSpPr>
            <a:spLocks noGrp="1"/>
          </p:cNvSpPr>
          <p:nvPr>
            <p:ph type="dt" idx="5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PlaceHolder 4"/>
          <p:cNvSpPr>
            <a:spLocks noGrp="1"/>
          </p:cNvSpPr>
          <p:nvPr>
            <p:ph type="ftr" idx="5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5"/>
          <p:cNvSpPr>
            <a:spLocks noGrp="1"/>
          </p:cNvSpPr>
          <p:nvPr>
            <p:ph type="sldNum" idx="5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BC860-6CAA-4A52-A3C1-9BCCA9C26F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0" name="PlaceHolder 3"/>
          <p:cNvSpPr>
            <a:spLocks noGrp="1"/>
          </p:cNvSpPr>
          <p:nvPr>
            <p:ph type="dt" idx="6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PlaceHolder 4"/>
          <p:cNvSpPr>
            <a:spLocks noGrp="1"/>
          </p:cNvSpPr>
          <p:nvPr>
            <p:ph type="ftr" idx="6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PlaceHolder 5"/>
          <p:cNvSpPr>
            <a:spLocks noGrp="1"/>
          </p:cNvSpPr>
          <p:nvPr>
            <p:ph type="sldNum" idx="6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46D5A-DAB3-49B2-B1A9-BFBC54D633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1" name="PlaceHolder 3"/>
          <p:cNvSpPr>
            <a:spLocks noGrp="1"/>
          </p:cNvSpPr>
          <p:nvPr>
            <p:ph type="dt" idx="6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PlaceHolder 4"/>
          <p:cNvSpPr>
            <a:spLocks noGrp="1"/>
          </p:cNvSpPr>
          <p:nvPr>
            <p:ph type="ftr" idx="6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5"/>
          <p:cNvSpPr>
            <a:spLocks noGrp="1"/>
          </p:cNvSpPr>
          <p:nvPr>
            <p:ph type="sldNum" idx="6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61877-B621-40F6-9F51-6F96BF7E0B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59c"/>
            </a:gs>
            <a:gs pos="100000">
              <a:srgbClr val="e1e8f5"/>
            </a:gs>
          </a:gsLst>
          <a:lin ang="5400000"/>
        </a:gradFill>
      </p:bgPr>
    </p:bg>
    <p:spTree>
      <p:nvGrpSpPr>
        <p:cNvPr id="1" name=""/>
        <p:cNvGrpSpPr/>
        <p:nvPr/>
      </p:nvGrpSpPr>
      <p:grpSpPr>
        <a:xfrm>
          <a:off x="0" y="0"/>
          <a:ext cx="0" cy="0"/>
          <a:chOff x="0" y="0"/>
          <a:chExt cx="0" cy="0"/>
        </a:xfrm>
      </p:grpSpPr>
      <p:sp>
        <p:nvSpPr>
          <p:cNvPr id="8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pic>
        <p:nvPicPr>
          <p:cNvPr id="82" name="Picture 5" descr="mooradian_cover.PNG"/>
          <p:cNvPicPr/>
          <p:nvPr/>
        </p:nvPicPr>
        <p:blipFill>
          <a:blip r:embed="rId2"/>
          <a:stretch/>
        </p:blipFill>
        <p:spPr>
          <a:xfrm>
            <a:off x="-195120" y="36360"/>
            <a:ext cx="5700600" cy="687708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24"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307D3-E9C2-41B9-A912-E65A663C59D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6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6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496EA-3506-409B-BC34-8F0B22EDE62F}"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0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06"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849DE-FA48-481B-BB2C-6CBEFF170B63}"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48"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0A575-F131-4516-BD22-ED3ECEB63693}"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8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90"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9501E-B1B1-4297-9AEA-91C824D204F0}"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3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32"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14E66-9BA3-4EC5-A7CD-BBB986DAB06A}"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2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5486400" y="533160"/>
            <a:ext cx="327672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hapter 6</a:t>
            </a:r>
            <a:br>
              <a:rPr sz="3400"/>
            </a:br>
            <a:r>
              <a:rPr b="0" lang="en-US" sz="3400" spc="-1" strike="noStrike">
                <a:solidFill>
                  <a:srgbClr val="000000"/>
                </a:solidFill>
                <a:latin typeface="Calibri"/>
              </a:rPr>
              <a:t>Planning, Assessment</a:t>
            </a:r>
            <a:br>
              <a:rPr sz="3400"/>
            </a:br>
            <a:r>
              <a:rPr b="0" lang="en-US" sz="3400" spc="-1" strike="noStrike">
                <a:solidFill>
                  <a:srgbClr val="000000"/>
                </a:solidFill>
                <a:latin typeface="Calibri"/>
              </a:rPr>
              <a:t>and Adjustment</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ble 6-3 - Typical Financial and Operating</a:t>
            </a:r>
            <a:br>
              <a:rPr sz="3400"/>
            </a:br>
            <a:r>
              <a:rPr b="0" lang="en-US" sz="3400" spc="-1" strike="noStrike">
                <a:solidFill>
                  <a:srgbClr val="000000"/>
                </a:solidFill>
                <a:latin typeface="Calibri"/>
              </a:rPr>
              <a:t>Metrics</a:t>
            </a:r>
            <a:endParaRPr b="0" lang="en-US" sz="3400" spc="-1" strike="noStrike">
              <a:solidFill>
                <a:srgbClr val="000000"/>
              </a:solidFill>
              <a:latin typeface="Calibri"/>
            </a:endParaRPr>
          </a:p>
        </p:txBody>
      </p:sp>
      <p:sp>
        <p:nvSpPr>
          <p:cNvPr id="10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140F4-8885-43C8-8ED4-E77A528A39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24" name="Picture 4" descr="090.PNG"/>
          <p:cNvPicPr/>
          <p:nvPr/>
        </p:nvPicPr>
        <p:blipFill>
          <a:blip r:embed="rId1"/>
          <a:stretch/>
        </p:blipFill>
        <p:spPr>
          <a:xfrm>
            <a:off x="1981080" y="1571760"/>
            <a:ext cx="5143680" cy="4905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6-3 - Why Loyal Customers Are More Profitable</a:t>
            </a:r>
            <a:endParaRPr b="0" lang="en-US" sz="3400" spc="-1" strike="noStrike">
              <a:solidFill>
                <a:srgbClr val="000000"/>
              </a:solidFill>
              <a:latin typeface="Calibri"/>
            </a:endParaRPr>
          </a:p>
        </p:txBody>
      </p:sp>
      <p:sp>
        <p:nvSpPr>
          <p:cNvPr id="10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7B00E-AF6D-4B5E-B51A-0C1AC0B51B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27" name="Picture 4" descr="gade.PNG"/>
          <p:cNvPicPr/>
          <p:nvPr/>
        </p:nvPicPr>
        <p:blipFill>
          <a:blip r:embed="rId1"/>
          <a:stretch/>
        </p:blipFill>
        <p:spPr>
          <a:xfrm>
            <a:off x="1219320" y="1522440"/>
            <a:ext cx="7010280" cy="4954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9" name="Picture 4" descr="cid:3287383400_2177562"/>
          <p:cNvPicPr/>
          <p:nvPr/>
        </p:nvPicPr>
        <p:blipFill>
          <a:blip r:embed="rId1"/>
          <a:stretch/>
        </p:blipFill>
        <p:spPr>
          <a:xfrm>
            <a:off x="533520" y="685800"/>
            <a:ext cx="8118360" cy="2647800"/>
          </a:xfrm>
          <a:prstGeom prst="rect">
            <a:avLst/>
          </a:prstGeom>
          <a:ln w="0">
            <a:noFill/>
          </a:ln>
        </p:spPr>
      </p:pic>
      <p:sp>
        <p:nvSpPr>
          <p:cNvPr id="1030" name="Rectangle 5"/>
          <p:cNvSpPr/>
          <p:nvPr/>
        </p:nvSpPr>
        <p:spPr>
          <a:xfrm>
            <a:off x="762120" y="3584160"/>
            <a:ext cx="76960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1031" name="Rectangle 5"/>
          <p:cNvSpPr/>
          <p:nvPr/>
        </p:nvSpPr>
        <p:spPr>
          <a:xfrm>
            <a:off x="8254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ble 6-1 - Generic Marketing Plan Outline</a:t>
            </a:r>
            <a:endParaRPr b="0" lang="en-US" sz="3400" spc="-1" strike="noStrike">
              <a:solidFill>
                <a:srgbClr val="000000"/>
              </a:solidFill>
              <a:latin typeface="Calibri"/>
            </a:endParaRPr>
          </a:p>
        </p:txBody>
      </p:sp>
      <p:sp>
        <p:nvSpPr>
          <p:cNvPr id="9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6FEDF-073F-4105-92BC-845A9E6F8A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00" name="Picture 4" descr="67.PNG"/>
          <p:cNvPicPr/>
          <p:nvPr/>
        </p:nvPicPr>
        <p:blipFill>
          <a:blip r:embed="rId1"/>
          <a:stretch/>
        </p:blipFill>
        <p:spPr>
          <a:xfrm>
            <a:off x="3009960" y="1523880"/>
            <a:ext cx="2552760" cy="510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Risks</a:t>
            </a:r>
            <a:endParaRPr b="0" lang="en-US" sz="3400" spc="-1" strike="noStrike">
              <a:solidFill>
                <a:srgbClr val="000000"/>
              </a:solidFill>
              <a:latin typeface="Calibri"/>
            </a:endParaRPr>
          </a:p>
        </p:txBody>
      </p:sp>
      <p:sp>
        <p:nvSpPr>
          <p:cNvPr id="1002"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marketing manager should identify risks and develop contingency plans while working on the marketing plan</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naging risk is not simple risk minimization or risk avoidance</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naging risk is evaluating risk and choosing which risks to accept and which to avoid</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42363-901E-4D25-9368-E60BBCFAC4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6-1 - Impact/Likelihood Matrix</a:t>
            </a:r>
            <a:endParaRPr b="0" lang="en-US" sz="3400" spc="-1" strike="noStrike">
              <a:solidFill>
                <a:srgbClr val="000000"/>
              </a:solidFill>
              <a:latin typeface="Calibri"/>
            </a:endParaRPr>
          </a:p>
        </p:txBody>
      </p:sp>
      <p:sp>
        <p:nvSpPr>
          <p:cNvPr id="10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1BFD1-A66F-4BD2-84EE-11B5A92FA5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06" name="Picture 4" descr="tyuiop.PNG"/>
          <p:cNvPicPr/>
          <p:nvPr/>
        </p:nvPicPr>
        <p:blipFill>
          <a:blip r:embed="rId1"/>
          <a:stretch/>
        </p:blipFill>
        <p:spPr>
          <a:xfrm>
            <a:off x="914400" y="1600200"/>
            <a:ext cx="7196040" cy="4915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orecasts</a:t>
            </a:r>
            <a:endParaRPr b="0" lang="en-US" sz="3400" spc="-1" strike="noStrike">
              <a:solidFill>
                <a:srgbClr val="000000"/>
              </a:solidFill>
              <a:latin typeface="Calibri"/>
            </a:endParaRPr>
          </a:p>
        </p:txBody>
      </p:sp>
      <p:sp>
        <p:nvSpPr>
          <p:cNvPr id="1008"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ecasts, objectives, and budgets are interdependent but they must be done concurrently and interactively</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im is to optimize the budget and the commitment of resources to maximize expected (forecast) and desired outcomes (objective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38599-585F-464F-A677-68C66578B8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6-2 - Example of Staircase Analysis</a:t>
            </a:r>
            <a:endParaRPr b="0" lang="en-US" sz="3400" spc="-1" strike="noStrike">
              <a:solidFill>
                <a:srgbClr val="000000"/>
              </a:solidFill>
              <a:latin typeface="Calibri"/>
            </a:endParaRPr>
          </a:p>
        </p:txBody>
      </p:sp>
      <p:sp>
        <p:nvSpPr>
          <p:cNvPr id="10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E76FA-1082-48C8-8ED3-CEECB55D70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2" name="Picture 4" descr="as.PNG"/>
          <p:cNvPicPr/>
          <p:nvPr/>
        </p:nvPicPr>
        <p:blipFill>
          <a:blip r:embed="rId1"/>
          <a:stretch/>
        </p:blipFill>
        <p:spPr>
          <a:xfrm>
            <a:off x="685800" y="1657440"/>
            <a:ext cx="7696080" cy="4743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Budgets</a:t>
            </a:r>
            <a:endParaRPr b="0" lang="en-US" sz="3400" spc="-1" strike="noStrike">
              <a:solidFill>
                <a:srgbClr val="000000"/>
              </a:solidFill>
              <a:latin typeface="Calibri"/>
            </a:endParaRPr>
          </a:p>
        </p:txBody>
      </p:sp>
      <p:sp>
        <p:nvSpPr>
          <p:cNvPr id="1014"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budget specifies the money to be spent by area and allocates scarce financial resources across activitie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ing on those forecasts, the objectives and budgets can be reformulated or the mix can be adjusted</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dgeting is interactive with planning and forecasting; like a hydraulic system, raising levels in one will change the constraints and outcomes of the other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E9701-749A-463A-A53C-31259D5F1B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ble 6-2 - Basic Marketing Budget Components</a:t>
            </a:r>
            <a:endParaRPr b="0" lang="en-US" sz="3400" spc="-1" strike="noStrike">
              <a:solidFill>
                <a:srgbClr val="000000"/>
              </a:solidFill>
              <a:latin typeface="Calibri"/>
            </a:endParaRPr>
          </a:p>
        </p:txBody>
      </p:sp>
      <p:sp>
        <p:nvSpPr>
          <p:cNvPr id="10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51DA4-B11B-42C1-894C-F053E04BA4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8" name="Picture 4" descr="gad.PNG"/>
          <p:cNvPicPr/>
          <p:nvPr/>
        </p:nvPicPr>
        <p:blipFill>
          <a:blip r:embed="rId1"/>
          <a:stretch/>
        </p:blipFill>
        <p:spPr>
          <a:xfrm>
            <a:off x="2819520" y="1600200"/>
            <a:ext cx="32860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stablishing Specific Objectives</a:t>
            </a:r>
            <a:endParaRPr b="0" lang="en-US" sz="3400" spc="-1" strike="noStrike">
              <a:solidFill>
                <a:srgbClr val="000000"/>
              </a:solidFill>
              <a:latin typeface="Calibri"/>
            </a:endParaRPr>
          </a:p>
        </p:txBody>
      </p:sp>
      <p:sp>
        <p:nvSpPr>
          <p:cNvPr id="1020"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liminary objectives are developed based on the corporate mission and vision and on the strategy</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bjectives should be “SMART”—Specific, Measureable, Achievable, Relevant, and Time-specific</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ree distinct sorts of objectives are useful and common in developing marketing strategies: </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les objective</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stomer objective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ancial or profit objectives</a:t>
            </a: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3526A-8E11-4CDB-A02A-1A7CF89337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09:42:26Z</dcterms:created>
  <dc:creator>Jagruti Gadekar</dc:creator>
  <dc:description/>
  <dc:language>en-US</dc:language>
  <cp:lastModifiedBy>Jagruti Gadekar</cp:lastModifiedBy>
  <dcterms:modified xsi:type="dcterms:W3CDTF">2011-04-21T18:27:34Z</dcterms:modified>
  <cp:revision>943</cp:revision>
  <dc:subject/>
  <dc:title>Slide 1</dc:title>
</cp:coreProperties>
</file>