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7BE6-7A9E-4D66-8E7D-29D04ECA94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102B-B003-43DC-8F66-D556E73C7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itiator - The person in the organization who recognizes the need or conceives of the purcha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luencer - The person whose expertise or opinion affects the purcha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ider - The ultimate decision maker; has the authority to make the purchase decis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uyer - The person who executes the transa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tekeeper - Controls the flow of information within the team and access to the team from outsi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r - The person within the firm who will actually use the product once it is purchased.</a:t>
            </a: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24E0-C229-4E70-A2FC-3ADAB7F02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013E-AA49-4F04-A6B4-6AAA97F45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stomers make purchasing decisions within specific cultural/social, personal/individual, situational and commercial (marketer influenced) contex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AC11-03CC-4BA2-BFA7-EC8BED202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FEC48-9E89-4824-90FE-6C4024853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7B0FF-0472-48CD-A0B1-899C60BDE8A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37EE81B-409D-4220-A94D-0B320A25F64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03F394B-270E-4D37-93AF-DE97C7B3575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F656199-4141-4C58-8683-6499BCAB8B1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05F53F-0CBF-4D18-A444-AE73A0162C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3FC34E-0513-4FCB-9D84-2A8AB303EC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41DEAB-CDA0-4D18-B670-AFDEB735B70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5C34067-D791-4500-9EF7-367C1EEE4EF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3458E32-AE20-4978-B513-21F941D7805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D7CE609-37C5-4553-A249-D611E154167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DDBE2FE-CF58-45E8-8AD3-FC2FB611594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CDA240-6FDC-42A5-8CDB-E2F55F1B8E3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4A04F5B-88D1-46E8-A7EC-BDD40CBCC5A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36D5E73-8F48-46EC-9201-880EAEFE3C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41A383-AAD5-4E0D-A34D-C86777DE027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9C6E97F-53C5-4C9F-A95C-9AD1C8E4DDF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544C4EE-6698-42EB-B1E3-E7E49F9EF63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063C1A7-A700-4B64-B8F1-DEB69584E6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9A3D31-1179-4552-BE72-ECF8C55A48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26E8B1-9AF7-473E-81E0-4CAFC906E03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E4477A3-4A1F-40D2-BDFA-CE6FBF75CF8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D8E4802-5407-4A23-A767-AE5751BBBBE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BA4404-F8EB-4AA0-B15C-B146537882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A06B96A-8E56-48E5-8FBF-D4B5731388C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676697F-13A4-46E9-ACFD-992A3E8B74C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8963004-6845-4CBC-BF38-7D005C6311D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F313AC1-50C3-4B70-806E-EFEDEEF79FE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097ABCE-9EBA-4D5D-9F43-4673CF4166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7475FC-32FE-44E7-856A-765BDBB6B57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39F7031-18C5-4503-8664-D983C2F288D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5717BBD-FC05-4B32-B06E-13952EFF27F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51B95F-26E5-4562-86DC-5585543661B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7E85B8-80D1-4655-B8FF-601DFE68F3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851D48-0E5F-4221-801D-B35CFE90F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BE94AF-26CE-4479-B164-B94788307C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B519081-EB30-4D56-B882-5EB4E49935D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A4FEA76-859F-42F6-84D3-DDA455ED10A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CF8329C-ADC9-4FDC-BAB6-BA9B13B8263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C1F1FBE-EF28-455D-A3C3-26023E0673A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5E54AD6-DB54-42AB-9D38-FBFD0A52378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EB65BC1-6E79-4852-9C91-73C3120C064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C4ADFB3-5D97-4FC7-B549-DC20379D65F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C3AB7FC-F6A3-414F-8C4C-87D01AEAC60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CDE8A2-FB1A-47D0-94B8-8B81ED04EE9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792292-5676-4C3C-9FA2-14E621FB6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248986-066D-4C88-AE10-9A0E5315B40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9150911-F70F-4ECB-8033-BB6396F35A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71011DF-DB5A-4378-907E-D5286A86C3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DE4566C-412F-4D13-A4FB-6407BD4B4DD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B02ECCA-1F6A-4A0C-AA5A-08D043E0C32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055C6D0-C6B7-477B-AA6B-4B6FDA25BE1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75BD3B4-C9BA-4AC0-8B79-86C3C06A455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6ABE0F0-0988-4A40-9233-64C77586233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2A2CD6F-5202-4159-A9B7-FB84B924B6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05F1B6C-E04F-452C-9BE9-2256AF398F0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144134-71EF-4171-8EE5-74EE1E4C1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A44D025-6386-47A4-8E75-8BAD8B15C22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4ACEEA4-5AC2-4424-960B-1000AA5AB0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7D78E02-6DE6-4E92-8F8B-F70755530F7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A1DE315-A309-4E17-B24A-D65957DAEB9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CB2C421-4094-44E7-AA79-664781362F9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2352B2A-DF2C-4A6F-92A6-4CE523093D5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1278625-C355-43DC-9C69-C243AD26535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4A68BF1-69A2-4B9E-9289-4730C2BAA01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00C0EB2-3F8F-4080-A537-423C1C93580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F011FA9-435D-44FF-95A9-43A9996D8AC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8DAE48-7323-4192-8DDA-462C299DC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13D4D3F-7A85-47AB-8EED-F683C1B9929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5240A7E-ACB3-4B08-A117-36F35A872BD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33F0A8B-5F3F-4D40-92C5-3A488D7D6F9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DD08A8E-8785-434C-AD6F-011B8B9CF97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EEC3438-6081-4DE2-AF4E-1DEF5B88B44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2044A5E-F0AE-4907-BA0C-852D2EBCE8F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371350C-8AAC-40E4-BCE2-32411CB6FA6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884CFD1-B3FE-4422-A4BA-0AD47F19EE9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87A1F5F-7D22-495C-A622-7081983B7C7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F642D0F-E6C2-49B7-9A7F-02BEDCF05433}"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EFCDBB-1AC0-496E-9DBF-9F7A551B5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9CFB635-424B-4F56-A49B-788A32811FF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D3687B5-2520-4FBD-91BC-EE28C82A9EC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CB0D0F9-53BD-4F12-9F7C-80EC805EED7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12BBD3E-49F7-442B-9D0C-331ED434F6B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864F4C9-C166-45CB-8E05-0941284F267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B8CE82F-0C2B-452E-80BC-1C0A52B5BF8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BBD43BB-7C51-4DB4-BA6B-0B6CA989B50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1630704-F743-493B-9D28-533D40955A4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CF143D3-F9B2-44D8-B5B2-E6F7F52B996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7752687-636C-4817-A0CF-7D59F8404A3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23B3BC-D463-4EDE-B56C-51BC7D12C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21B61BA-AC7B-48CE-A619-CE622463210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BC771406-6C7C-469C-A8B5-DF7C00467220}"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CEC412A-DE87-4F02-AF6A-43D066B61E3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9543350-3C0D-418A-B162-89797DFEA56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2B6541A-8E7C-4623-A7CC-31235464F09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200E695-DE71-47B9-B6AB-158B9603224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47FD866-9C48-4A98-900A-9C477B7B7F9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5694518-B79C-48D7-B2C7-12399B3A3B7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A1D1460-BC6F-4591-B50A-6B0B3A3162A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ED42AC1-EACA-4D86-B5FF-DB0340A83DA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2B2293-7F68-464C-B8D9-4A6DF56807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26B72B6-CC43-4A96-9F89-C931CD66B2F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BF6E0D3-27D9-4A5F-B7B8-82372C3946E5}"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F57765F-36D2-4EAD-B5EB-CFFEE571E153}"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6B40797A-C2A7-40C8-A89A-FAB0AC0C414B}"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C7A4611-2265-41B7-BB09-E704B6FEA67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B3B7A60-92A6-4050-894C-0751DC31551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537C3CE-9D81-4B53-9B7C-09E21696C5B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2EA6ED4A-0960-4D20-9987-2B79BA6EA6B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F562454-5775-411B-A5D9-D7A15AA1C466}"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6661169-9CE3-4D20-8A9A-0C65F887D18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EB7D0-B919-4702-879F-E38800732D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E3A521-6ED2-4399-9196-01196696BD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55D9510-43A2-4BA1-BD04-C7B69771E81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70BDBCF-763B-42F6-A458-8EF5DBE0E70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FF8527B8-0E8D-445C-95BA-6AC854C409B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C31D1675-7C07-4856-963A-2DD2B01291D4}"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1A3CCAA8-2EB4-49A5-B208-278A94334C68}"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3B37A7B0-7DB1-41CB-8EC7-5EB638332C79}"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B00F343-1A44-4F9F-9EF9-4982253D56B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E75CA68A-93BB-485B-B30D-A6EF0F7FB67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8C898A7-5A27-4143-805B-329E669EBF5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1129B6C-56BF-42C8-A57B-7B1E5C2F6D5E}"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AA5064-75CC-4C71-AE69-1C5CF59D6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D52F808-A597-4836-B9A0-3E8ECD268857}"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E7CD6C5-DB05-4727-B8FA-A223EE8DF0A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F119816-A5DF-4126-9385-56BAA58D646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30A5567-384E-4095-9B6F-69FB9727220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F5C95E4C-04CC-49B0-8DF0-AFD5ABFB3FEE}"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2389DF42-2D60-46EB-A991-F514B374DE51}"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715663DB-427A-42D0-8A33-0887F8029869}"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F780DB77-0737-445C-9770-142716B0A44F}"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0B1F855-5165-4107-8BE4-CC701FDD1D08}"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9341134E-58D5-4DC3-8001-4928F049DC8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CFA188-3EDA-4254-8EBF-BD78C14DB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C520C133-F4B9-4ABE-B78D-DFA85ED0052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25445302-0DF5-4036-B963-0862590390E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B5FD789-28D1-4FAD-880C-4F7004F4952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B72C8C4-3CC1-449B-B6F2-B5C6B301F52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6F1DBFC-A6E3-41FD-BA28-8FC95F1088A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6F7D0C1-8209-4BE2-B7AF-FE5007D7184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0B135B8-B81D-4EFD-9E53-67B9C84A33A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9A165AC7-2C4B-456F-80A4-D797F1058971}"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A086D86-289C-410E-B93E-9468DC1F79C1}"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AC50296F-DB3A-4818-9DD5-89FCF3903302}"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96FDB2-1F6B-4017-997A-AF6669FEA82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932562CF-77EB-43BD-A6B0-AA661422EF6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510BCE4-1FC8-4F28-B5E3-6D57D6F2093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E2BAC0C9-E781-4406-A428-133D37A87ED7}"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751FC55B-4518-46A5-AB58-C8FB067CE110}"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1C88FC7-65D7-4272-9849-C576203CD468}"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4F847EC-DE70-4197-850E-C09D70BF139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6E17D39-15E7-414B-8DFE-AB23AD24CAE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45B6098-A98F-40F5-9EF2-C0ADB46B008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9672DE0-EF42-4E34-8B89-32B78DB413F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33917458-3123-46C7-BADC-DF3B0A7A6AE9}"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2E1983-D557-40CB-AE24-1962BCE2482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9530C9AA-2CCD-4092-9790-D245018E86B5}"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E2C789D3-F368-41AF-B4D7-229626CC1360}"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F73946F2-7D5F-4296-9BEB-64B06973D3CB}"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84BDFAB-B553-4A25-8741-8997A045B20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438CFB4-5668-434A-8E1F-CB949D0ED64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796D3AC-0965-4D8C-BEE9-359D455592D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50198141-04B1-42A8-8523-7D398660213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9C4CE9F-E094-4E35-A902-D6BDFE52CB7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CCF741C-B7E3-4DBE-B720-14C4B9492E8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4D66F1B-31A3-432D-B805-D306920E692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54727E4-D0E8-434C-9591-5AE88DD825F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BB07B1AA-0619-42B0-9CEC-912189D9C765}"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4C321C2-1A10-459F-9B76-CF42534D72EB}"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BE5E2C1C-D3F7-4BB9-B9AB-770DADBADB23}"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CC820BE0-24CE-4679-B2A7-1A6972C8A91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35CB320-F2EA-4BE5-8E38-A793C2AC3AD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4C98313-889F-44EE-9E73-7C1FE02E06C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6A85721-407B-4EFE-BB77-307652D6993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6071A04-40FA-49BC-81EF-B9824E06E28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B9B45B5-BA3F-48CD-930D-7028CBAD235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47CFCE2-7576-4FBB-B4EE-9E409CA3B86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B2B00A7-1979-477B-B362-146BA82AC6A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B464FDF9-581A-43A5-A77D-ACA5BE14A58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CE7568A1-B5E7-401C-9485-B00BB40BAF98}"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C4D6D90E-7C25-4C8F-B249-741E4E0E1B7C}"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276587BA-3273-4CF3-BC43-6977807E255D}"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35DAD46-A7F8-412F-997F-793B4F035FD1}"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7D1F4F0-A7BE-4D20-AA49-9B4AD1D44ACE}"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13DAE19-231E-4EE2-AF4C-F4BFD70DD60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17F29CB-75D6-4184-8565-3CCA46E8B8E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CE2D9A8-460C-4C6F-827C-6F5EDC3CDDF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EB68E3F-032F-42D4-8676-CC1CB0950C2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9880079-1D59-456F-A0D4-A23546B88AC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3560BD7-EEE4-4CA7-AC18-2C6A5BE4332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B67C723-F533-4035-93D0-4495732F45B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7A937E3A-3961-4527-8168-9B93EA4013E5}"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315869DB-C9D5-4FDF-854C-A7D46D8EEBE3}"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BE72FBB5-030D-488F-9C85-8831E9664A8F}"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8CDC7EC6-3152-42D8-8113-2F2555BDD09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62E4C30E-5E76-4DC2-B3C6-48E5DCBE3D0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48667649-BF86-420A-9B80-64E68AAEB072}"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3B69332-F4B7-48B3-AFAE-878E94D3456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0616756C-7554-4673-8510-5FBDD0C4911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934591A-B727-4C8C-A6AB-7D046F2D283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447FDAB-A89F-43ED-A3D3-8AEBF8B05EC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F2D7A47-6383-494A-AA4F-E9125C73611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BABEA682-4FE8-4BA8-B8E2-BB35E2177A4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3B9A56AC-3A02-45CD-A707-404FB3088A82}"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998AEE07-5015-45A9-8F70-0CCE010F12BA}"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EA1E4-C886-430A-9820-AF85961183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CC87E5-C8A6-4B72-B800-C5F98902ABE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700ABD4-595C-45B2-8A6E-11496AA74CB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6BF4B96-7053-4558-BEE1-20572F7771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DB08A-6709-4305-97A6-348F77A9D79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2FE2444-C00B-4680-9C95-A0FCA6B0FF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326D0A1F-C1C0-4552-8606-2EF6EAD160A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1906F16C-09D2-476D-8869-D8A96C3103E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20AEAF5-7DE8-4FEC-9D35-F8F95720BE4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68C9E0F-D63A-4047-AB82-E4E7A3A310A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0298C28-4753-455B-BC44-DF7AD9B8A17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A9B034D-6195-40C1-AFAA-E58493056C7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F71FBF0-1AB1-488E-A6C2-490AA04B9ED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5A3FF676-03A3-4FB1-BAAF-0C4C7912A5E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DD9D7B0-5472-4E06-BD70-8239E1FC29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17589B-C0FD-4ECA-89C6-47BD9DEBF7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2089A9-22CA-43C5-9C43-F3CE158996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68F346-A56A-4910-9114-6F8FE3FD86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383EE54-738C-431B-BF60-6ADFBA990E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0C9B84-5203-48F6-A7BC-C984C460A7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648222-895A-49D7-9C2E-9F4601DD8E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5B2891-DE37-455A-B350-389673F6CC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1CA224-F30E-407B-8569-E741944DF7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4E10C9-4534-42A7-A8C6-78BE7AF2F7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870525-EDED-4976-94F3-7A2823AF19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55B3D73-DDEC-4867-9149-551C29E7A98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5E7592B-9E94-49DB-BBD2-35E8F7F22C0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9D7C67D-0853-459C-A4EF-E76F7934289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A7BB96F-75E5-44FF-8B56-F86AEBAEB55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7C491A-B25D-4754-B93A-4F209382F7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F890C6-21C1-45CB-A59D-48DF1DFFE8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38A6BD-B53D-43D2-BE80-20FB41A6A3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FF17D1-22F1-4D8E-9805-434D1A967C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675EF0-9B27-4B05-8DE0-12FE2C2D1B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9F8FC6-4D1F-45FF-B7BE-577BB630DB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86AC26-E4C0-41C8-AEAE-CEE75F36D6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836D61-71B0-495F-9814-934CF99097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37648-F3DC-4C30-8073-08FA946047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120F0C9-37A1-491E-B8A0-902CF0FBD6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5ED0F49-5243-4D95-822E-62297ACD8B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1B5745-9F97-47FF-BC2B-74548F087A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A095D72-B23C-4C2B-A7D1-360F3E1E97F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8D6CFE3-383B-414F-9944-BF5A03853FB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ACE6083-C799-432C-BC47-184F9BDC5D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D24AB39-0746-4072-8A71-A6DAA535C4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E01B45-8888-4BB5-BBFF-FC656579A1C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38AC60B-D212-44E5-8145-FF0742E1D3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03EF9D-8BD9-48C4-AE3C-9E81C05D70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65E3D-0561-4DFD-80AF-00173ED317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B22897-8E6F-4AA0-B71E-E24D0B8806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CFB66E-4C66-4E7C-8002-578FB2D87A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160E799-EAF4-424D-9D80-DA48129838B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1D2D4FB-CB26-4E36-9766-098748E2DDC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1233F8-D3DE-4D1E-A15F-276371947A3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8A21988-A292-404B-B85B-7565CBF4A19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20EE22D-1DEA-401F-8EA9-1EA7284D62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2B53EAE-6A7F-44B8-B4C0-BBAC1ACE0D1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03E28CB-8762-4D23-B943-4B23EAC0098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E9C7830-8FE1-4625-8399-69DD0F23D8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CBA8D-9DC6-45B5-A839-BE07DBE5C67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457682-8C46-4F88-A8B2-E850F85A91A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4B0B9D-D85A-45F8-8614-F987E619E9B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BE9302B-8315-4660-8B8E-9C3DAF34302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91F8A5-DD8C-43C3-8664-067C4C41DF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851B159-D3EF-40E7-B13E-496212ED23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08191E2-0868-4849-ADE8-8810A8F4142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B440220-252C-452E-B453-665919378A8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14BFD1D-F538-4715-8DBE-287A481D4FC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6A4982-5B12-4956-9AF6-A8CAA47DC2B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E9B164-2EB6-4DBD-BCC5-DE77531D5A0D}"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55D5-F18D-4A70-A995-AD9964440DE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98C2-3744-4C27-82D1-505CDC2929B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0CD6-4EDA-4578-96DC-52EBD91EDF3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CC2F-66AF-4269-99E0-3E934678319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66A7-337D-4AAF-8879-4DD531D9F371}"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9504-F8B5-4193-857F-799B788C19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C72E-F5D7-431A-A640-91F126839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ACD8-ED7D-4E99-A013-E32A75C01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F345-957C-414B-8C8C-59F4793DC7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FFCC-4BEC-4378-8CEA-3C7FE6C18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53B8-F762-4C29-B6D1-6F0F218D1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777C-0838-42FB-9CA0-DCF41B308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5F63-8676-4E6C-AECC-C7C882C8D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9622-4A0A-4E2C-B514-535406A60F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D890-AC59-49B7-A626-1538E61CE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D5AF-C7EC-4824-B99C-7F1FC3DBF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220D-DA28-4EE9-B398-35AFB403F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31B8-4A40-4BD0-A08F-428AEB691F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B865-6D0D-44F3-BD44-570473AF2F2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4120-E401-4601-A60E-4B21429C0D43}"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6C89-6F1A-42C0-BBEB-1B23DF1A39C0}"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1352-C25B-4AFC-B51A-719C8C6855AC}"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02B4-3108-4961-99A7-778337FCA64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29.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4</a:t>
            </a:r>
            <a:br>
              <a:rPr sz="3400"/>
            </a:br>
            <a:r>
              <a:rPr b="0" lang="en-US" sz="3400" spc="-1" strike="noStrike">
                <a:solidFill>
                  <a:srgbClr val="000000"/>
                </a:solidFill>
                <a:latin typeface="Calibri"/>
              </a:rPr>
              <a:t>Consumer and</a:t>
            </a:r>
            <a:br>
              <a:rPr sz="3400"/>
            </a:br>
            <a:r>
              <a:rPr b="0" lang="en-US" sz="3400" spc="-1" strike="noStrike">
                <a:solidFill>
                  <a:srgbClr val="000000"/>
                </a:solidFill>
                <a:latin typeface="Calibri"/>
              </a:rPr>
              <a:t>Organizational</a:t>
            </a:r>
            <a:br>
              <a:rPr sz="3400"/>
            </a:br>
            <a:r>
              <a:rPr b="0" lang="en-US" sz="3400" spc="-1" strike="noStrike">
                <a:solidFill>
                  <a:srgbClr val="000000"/>
                </a:solidFill>
                <a:latin typeface="Calibri"/>
              </a:rPr>
              <a:t>Buyer Behavio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7 - The Personal Selling Process</a:t>
            </a:r>
            <a:endParaRPr b="0" lang="en-US" sz="3400" spc="-1" strike="noStrike">
              <a:solidFill>
                <a:srgbClr val="000000"/>
              </a:solidFill>
              <a:latin typeface="Calibri"/>
            </a:endParaRPr>
          </a:p>
        </p:txBody>
      </p:sp>
      <p:sp>
        <p:nvSpPr>
          <p:cNvPr id="10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2E8D-7E1A-4966-BF55-CC328FCDD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4" name="Picture 4" descr="82.PNG"/>
          <p:cNvPicPr/>
          <p:nvPr/>
        </p:nvPicPr>
        <p:blipFill>
          <a:blip r:embed="rId1"/>
          <a:stretch/>
        </p:blipFill>
        <p:spPr>
          <a:xfrm>
            <a:off x="2128680" y="1676520"/>
            <a:ext cx="4934160" cy="47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8 - The Buygrid Framework</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44D4-DDF2-4E2A-BE8A-61E2EF14E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73.PNG"/>
          <p:cNvPicPr/>
          <p:nvPr/>
        </p:nvPicPr>
        <p:blipFill>
          <a:blip r:embed="rId1"/>
          <a:stretch/>
        </p:blipFill>
        <p:spPr>
          <a:xfrm>
            <a:off x="1066680" y="1538280"/>
            <a:ext cx="7089840" cy="493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9 - The Buy Center Framework</a:t>
            </a:r>
            <a:endParaRPr b="0" lang="en-US" sz="34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262E-D019-4BA2-8D19-C8B06D261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0" name="Picture 4" descr="81.PNG"/>
          <p:cNvPicPr/>
          <p:nvPr/>
        </p:nvPicPr>
        <p:blipFill>
          <a:blip r:embed="rId1"/>
          <a:stretch/>
        </p:blipFill>
        <p:spPr>
          <a:xfrm>
            <a:off x="2031840" y="1523880"/>
            <a:ext cx="505476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Purchasing Agent Mindset”</a:t>
            </a:r>
            <a:endParaRPr b="0" lang="en-US" sz="3400" spc="-1" strike="noStrike">
              <a:solidFill>
                <a:srgbClr val="000000"/>
              </a:solidFill>
              <a:latin typeface="Calibri"/>
            </a:endParaRPr>
          </a:p>
        </p:txBody>
      </p:sp>
      <p:sp>
        <p:nvSpPr>
          <p:cNvPr id="103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urchasing agent is employed to “buy” and to process purchase decisions and order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buy center framework, a purchasing agent can play any role or several roles—or may not be involved in a decision at all</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C45C-1623-4326-BA8F-2F79DD0AD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32">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rganizational Buyer Behavior and Personal Selling</a:t>
            </a:r>
            <a:endParaRPr b="0" lang="en-US" sz="3400" spc="-1" strike="noStrike">
              <a:solidFill>
                <a:srgbClr val="000000"/>
              </a:solidFill>
              <a:latin typeface="Calibri"/>
            </a:endParaRPr>
          </a:p>
        </p:txBody>
      </p:sp>
      <p:sp>
        <p:nvSpPr>
          <p:cNvPr id="103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onal selling is the fifth P (for “people”) in the marketing mix</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t trends in personal selling connect with organizational buying behavior</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 selling has gone from a transaction- and commission-focused activity toward being a salaried, solutions-focused functio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 is seen as long-term relationships with customers for whom the firm can deliver real value in the form of solutions and expertise</a:t>
            </a:r>
            <a:endParaRPr b="0" lang="en-US" sz="2400" spc="-1" strike="noStrike">
              <a:solidFill>
                <a:srgbClr val="000000"/>
              </a:solidFill>
              <a:latin typeface="Calibri"/>
            </a:endParaRPr>
          </a:p>
        </p:txBody>
      </p:sp>
      <p:sp>
        <p:nvSpPr>
          <p:cNvPr id="10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FB17-9EF7-472B-BFCB-C285B6A8D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35">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35">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35">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8" name="Picture 4" descr="cid:3287383400_2177562"/>
          <p:cNvPicPr/>
          <p:nvPr/>
        </p:nvPicPr>
        <p:blipFill>
          <a:blip r:embed="rId1"/>
          <a:stretch/>
        </p:blipFill>
        <p:spPr>
          <a:xfrm>
            <a:off x="533520" y="685800"/>
            <a:ext cx="8118360" cy="2647800"/>
          </a:xfrm>
          <a:prstGeom prst="rect">
            <a:avLst/>
          </a:prstGeom>
          <a:ln w="0">
            <a:noFill/>
          </a:ln>
        </p:spPr>
      </p:pic>
      <p:sp>
        <p:nvSpPr>
          <p:cNvPr id="1039"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40"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onsumer Behavior</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 are the ultimate users of a product</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 use more personal and more emotional purchase criteria in comparison to organizational buyer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043C-E0D5-4E49-A97B-4D96CD7770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1 - Consumer-Decision-Making Process and Hierarchy of Effects Models</a:t>
            </a: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4032-02BD-49E6-A93A-D9C9EAF10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3" name="Picture 4" descr="85.PNG"/>
          <p:cNvPicPr/>
          <p:nvPr/>
        </p:nvPicPr>
        <p:blipFill>
          <a:blip r:embed="rId1"/>
          <a:stretch/>
        </p:blipFill>
        <p:spPr>
          <a:xfrm>
            <a:off x="1371600" y="1511280"/>
            <a:ext cx="6324480" cy="50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2 - Maslow’s Hierarchy of Needs</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0850-7FA6-40B7-9FD3-F8F645065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74.PNG"/>
          <p:cNvPicPr/>
          <p:nvPr/>
        </p:nvPicPr>
        <p:blipFill>
          <a:blip r:embed="rId1"/>
          <a:stretch/>
        </p:blipFill>
        <p:spPr>
          <a:xfrm>
            <a:off x="1752480" y="1523880"/>
            <a:ext cx="5508720" cy="501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Note 4-1 - Sources in Consumer Information Search</a:t>
            </a:r>
            <a:endParaRPr b="0" lang="en-US" sz="3400" spc="-1" strike="noStrike">
              <a:solidFill>
                <a:srgbClr val="000000"/>
              </a:solidFill>
              <a:latin typeface="Calibri"/>
            </a:endParaRPr>
          </a:p>
        </p:txBody>
      </p:sp>
      <p:sp>
        <p:nvSpPr>
          <p:cNvPr id="10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F26C-75F9-404B-8CF0-E6E47C6D5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9" name="Picture 4" descr="8.PNG"/>
          <p:cNvPicPr/>
          <p:nvPr/>
        </p:nvPicPr>
        <p:blipFill>
          <a:blip r:embed="rId1"/>
          <a:stretch/>
        </p:blipFill>
        <p:spPr>
          <a:xfrm>
            <a:off x="533520" y="2927520"/>
            <a:ext cx="815328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3 The Value Map: Tradeoffs Along the Fair Value Frontier</a:t>
            </a:r>
            <a:endParaRPr b="0" lang="en-US" sz="3400" spc="-1" strike="noStrike">
              <a:solidFill>
                <a:srgbClr val="000000"/>
              </a:solidFill>
              <a:latin typeface="Calibri"/>
            </a:endParaRPr>
          </a:p>
        </p:txBody>
      </p:sp>
      <p:sp>
        <p:nvSpPr>
          <p:cNvPr id="10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AFFD-D35B-4BE6-817D-11AFCF69E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2" name="Picture 4" descr="85.PNG"/>
          <p:cNvPicPr/>
          <p:nvPr/>
        </p:nvPicPr>
        <p:blipFill>
          <a:blip r:embed="rId1"/>
          <a:stretch/>
        </p:blipFill>
        <p:spPr>
          <a:xfrm>
            <a:off x="2309760" y="1600200"/>
            <a:ext cx="46245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4 - Hypothetical Consumer Value Chain</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DA14-D36D-45DD-AFA2-6D862AE9F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3456.PNG"/>
          <p:cNvPicPr/>
          <p:nvPr/>
        </p:nvPicPr>
        <p:blipFill>
          <a:blip r:embed="rId1"/>
          <a:stretch/>
        </p:blipFill>
        <p:spPr>
          <a:xfrm>
            <a:off x="457200" y="2082960"/>
            <a:ext cx="820584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5 - Consumer Decision Making in Context</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851D-9D5B-46CC-9C68-5CBD62475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93.PNG"/>
          <p:cNvPicPr/>
          <p:nvPr/>
        </p:nvPicPr>
        <p:blipFill>
          <a:blip r:embed="rId1"/>
          <a:stretch/>
        </p:blipFill>
        <p:spPr>
          <a:xfrm>
            <a:off x="2108160" y="1600200"/>
            <a:ext cx="505476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4-6 - Organizational Purchase Decision Process and the Sales Funnel</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2054-1B45-4D6D-AF4E-AA3B8A40B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56.PNG"/>
          <p:cNvPicPr/>
          <p:nvPr/>
        </p:nvPicPr>
        <p:blipFill>
          <a:blip r:embed="rId1"/>
          <a:stretch/>
        </p:blipFill>
        <p:spPr>
          <a:xfrm>
            <a:off x="1828800" y="1523880"/>
            <a:ext cx="545004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5T13:45:14Z</dcterms:modified>
  <cp:revision>1012</cp:revision>
  <dc:subject/>
  <dc:title>Slide 1</dc:title>
</cp:coreProperties>
</file>