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C1AF-5F03-4DFD-BD3F-74692077C1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D665-1046-45A2-8C72-87ADFA5CB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itiator - The person in the organization who recognizes the need or conceives of the purcha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luencer - The person whose expertise or opinion affects the purcha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ider - The ultimate decision maker; has the authority to make the purchase decis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yer - The person who executes the trans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tekeeper - Controls the flow of information within the team and access to the team from outsi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r - The person within the firm who will actually use the product once it is purchased.</a:t>
            </a: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07CF-B6EA-4B3B-A66B-7628670F3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6B57-DEE4-418B-8BA0-507D05679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s make purchasing decisions within specific cultural/social, personal/individual, situational and commercial (marketer influenced) contex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A5D5-95CE-4468-B402-141C5B772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12FFA-6DBA-4B24-A614-BFD40F532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ACA00-DA69-4475-B04D-D0FDD9C0CC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DDEDC8-DDB5-4AAF-8790-4BE55BDE1A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13E434-1BFF-4D8F-AAA0-F6EA03D6FB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D77492-0B5F-492B-BD4A-62ABD3DB3A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20F171-926A-42F5-88EF-549F3F0D78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BEAC93-49F6-4938-B66A-83C5E780BF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915D2B-8F22-4709-8EF8-82434A1A7F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B2DB83-476E-46BE-B95E-8CC2E950B8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3E5AE51-53BC-47B4-AA5F-94EAD1C004F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ED34245-929F-432A-A059-2D67CD3EBB0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30C200E-4823-4743-A4FB-B2D8CE85C2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719630-0055-4837-BB94-8EF2F5E286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73091AB-9761-44F2-9528-BE0BC2545B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32BD80-87A5-47B1-AD22-D0F829D6C3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F63B52-3778-4A93-A857-38B8711767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8E0482-EAD8-4599-AD92-C15A6FE272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B7A8FB-D76A-4F6B-80E4-D3207071FD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B4AF08-A6F1-434E-9BBB-B8352CCBB3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5C296A-6842-4653-85F7-A3712F47EFC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A950A6-AD22-4FC2-90C0-A754D814C7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638824D-B1D8-40B5-9196-AA30079F49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7F87DD5-394B-43F2-A5D3-D50F83B900E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14603-9314-4432-B5EC-8D14F492D4D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8E32AA5-8A81-4FE9-A41F-FC90A2D43E2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2E047AF-E416-4AB4-98F2-4793E26D889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7138EF-D493-434D-A601-38840A27D17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4FFEE9E-2277-4507-8B69-9F3387F8F5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4F4499-2355-443F-96C7-41ABF5E022B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2F83B5-87C6-4C13-B7F8-3B6DE9D3F0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8452AB-5E0C-4090-B40B-775DE021083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0FC8D0-4199-48F0-98AF-87400478CD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FF2AE9-F7DD-4370-BE34-271430AF70A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F4136D-CB46-4571-A796-D69CC27577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514554-7650-4A4A-81AA-85516BEF5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E695565-C7DC-455B-812B-488FC68678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853167B-99AF-45C5-B6E2-B8C98647D2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D98B47-1D0F-4976-BBD6-9C76E7A973F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1FAF434-2FBC-4F0B-B126-675037D7A1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354BC3-345E-4800-AEEE-9500840CDD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359AEC1-6875-45A9-8D9D-A678A1EBB7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C8C9242-E662-4C2B-AFEB-86AD49F2C8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E93A9CE-B579-4D92-85A4-A192508C89A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C362AA-419B-4484-82E0-A7CFAEAF19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116459-66F4-4D66-B115-935D977034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4B5E84-3B7C-4420-ABAB-E3B1E6D98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F6F8C4-9BB4-477D-85AC-311864BA5D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A10065-7E90-4E25-B848-BBFCF8E67F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DC8FB0-5BED-454C-A67E-1F4A4585E1C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DD2A039-43F7-44F0-B84A-41B4D0D3101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B18469A-F614-4970-B103-9E6A9ACC150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5B1B840-ABD3-47DD-BA16-09EF4F8AE0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6E10027-24AB-4C3C-BB22-CC6C74BD14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1D3F4B0-EC02-47E9-AA93-8A93FC1BC4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323D4AB-0D23-4AF2-BC7D-43CA6D228F6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F51C049-83A0-4E53-B417-149AA460481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87E6C4-AC3B-46D9-9AFA-4AA79503E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6317B4-020E-4210-86C0-7705A4D08C4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8F569F-DC38-40E4-82F2-C96B7A7B13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CC832FE-5476-43EC-9958-10780653F95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672709-1926-4FEA-9F08-C61CC9976DF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B8798CD-B1B3-481A-A70F-545EB058A8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DED2BE9-6CC9-4278-8171-A1872353AE0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802E25E-0EC7-4D70-A28D-D491094425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65CCE88-BD38-4A3D-B397-9C446733C75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DCC0347-6FB6-44D1-A158-8059CC663EE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506C6D9-8A3C-41D3-962B-08AF4B532F0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988D1E-4884-4950-A519-B5B63D0A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2EDAF8D-39C6-4ACC-8D0E-E6EA87BF0F5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E15D878-2DC6-4837-915B-6ABDDAAA4ED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812AA6F-8FC1-4679-96C5-2465E080859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C5FC95-023E-4044-8276-FD2BA3343D6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1334E5-EC1D-49FF-A1DF-701617F649A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27DFA8-15EF-43CA-B32E-C4992AFA7F3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DD4D2B3-4C5A-4F3B-9BB1-EEFBD017B9A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9E4C1FD-5664-4BF0-8DE3-500FF313743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056D1B-FB16-4EE7-AA7C-501C7402640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DE978C5-452D-4FBD-9EBE-AC4108EF87D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17C041-8A9F-4C20-91FC-D1E5DED95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2BD380E-6CB7-4D99-AD64-2D6D74DCCC4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D328EF2-9926-498A-A142-4D93A9F682F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BD5056-E397-49EE-9393-A686DECDC5E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43D94F2-7E70-4829-ABB8-7C166E58E57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E53A09A-384E-481D-ADA6-D42C31E5D58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6C9519C-1ACF-4DCA-9954-C613C1ED677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F1CA996-6ECE-43D5-8984-8E3D0C6579A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BA1A394-EE91-4EF0-BAAA-BA1929F48C7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7B7D7D0-CE74-468D-B09A-9ED5A0A8366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E38B4E0-0BE3-43EA-9B45-D4296C6EC9D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9B76E5-66AF-4FF3-A1FB-62A88E386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D2E7EAE-372C-42DD-804C-AF12DAED764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C23B9A4-C225-46D0-B99B-A13E5EAB739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ECF7C81-EBA3-43FB-8953-2F37E3ADD2A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E14CCCA-7CE7-45E7-88E0-689DCD69A66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E044712-D9EF-4D91-96DB-6C5738B03FC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D26CBB0-A958-4957-BAD8-F8B195968F1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A0435B2-FBE2-472C-B860-075FFF20E7B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84272CC-4B4B-4A5D-B2DB-AC488E0ACAC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D77F75A-4C5B-4C6A-B8C9-631E7AD589C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24A37B7-214B-46B5-8D20-6714442D815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929A10-AD5E-4632-B427-AA5E6D921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530671F-B1AC-4031-8F77-D85E5BD0834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86A0F8E-A277-4377-A74F-E76B82F1423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206CE14-E4AA-419D-A536-50AB040786E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9959B9B-51BF-4A29-8BD7-9FE7644E2D1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8B1B82A-201F-4B03-AF39-41FF0CD25B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7776833-A4FF-4FED-9423-5472F3E1C57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5780FCD-5DCE-46EA-85CA-F4188C068D7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DB9407F-FAA8-40C5-BF54-22F63BAECE4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F4DFCE0-5B9B-4D2C-A731-422AC7DDAC9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15BBC97-9AD5-4E39-A5DD-F5C076562B1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71FF5-54DB-4EC1-8F75-EAF02689C7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FA9181-4AB3-411B-92DE-7BCDB6C99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70D4259-16AB-4215-BAD4-E6B81B54729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1C1E7FC-7653-4CA8-B83C-2BDB9FBAD59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1D4602C-50B2-4DAF-B298-C67D57F3F7E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526B40A-E5F3-4A0F-AADF-C831FCA3E5D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FE1E4DC7-23E5-4116-B8E8-ED460848123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27E5E67-A4CB-4ECF-B879-796B08D2F41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E333750-3C3D-4B0C-9206-73BFDEDC3D5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DB2B87F-00D4-4D01-B38A-71C83A4ADAD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D924921-7036-45C2-917A-DE7FFC2EA79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698235A-390E-4341-9B8D-9FD3ED8EB8F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A0FC63-1798-4B3B-8BF8-31E937528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B527170-23C3-415F-AB59-E6FDA2CCD36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7830999-EFE4-434E-9824-10A9FD35335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4A21E1E-3E57-4ACD-9800-2BE691EA1C6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063FF78-C7BF-4F6D-ACE8-939C56301DF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2296994-5CDE-43A5-97B0-DDB5F6727B4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7C9CB48-5579-481C-88EA-C185AD81BFB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F5D5738-4486-47C5-BD49-F2A8E377049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F52BAC8-DF06-4CE0-80F8-9176FEEFF8C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581CF55-B061-4E2B-9D40-C5BF633FCF0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CF7363A-CCF3-4664-8C91-BD3D3887CD9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D937DD-A22B-4729-AC71-B03A804AD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A0CECC7-C84B-4D5E-8477-3935874AB90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3E91B81-0948-4AF3-8A2F-4473C7FDC2C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9202C6C-CFBD-4FF7-8473-7D54DA48DB1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1B1A21F-77E9-4ADD-A096-2B27E820487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03055FE-79D9-4D09-97A4-477CB171081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774DFA1-8E07-41A0-AD1D-717C2BE0642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4A61F1D-AF4B-4D77-A07B-FE36D173B79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9C23025-E480-4A13-AEFD-2EC0E4AFC2C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24790B0-AC9F-45CB-85F6-03CC30B1BF5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26719CA5-29E4-40AB-8508-897B9D24924D}"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59AE01-2C5D-4E97-B645-106BE14743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DD9E7AA-2429-4A6A-875A-C87596A0117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3F2DB62-D6E1-4E35-AD7D-609858099AE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B1D0C68-5B77-4827-9381-ECD355C2339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9F445C9-D625-41C1-B1E8-8D567DD556D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B3F8A14-881B-40D5-B74E-5F9BBDDA246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04791DE-9C08-41D2-A1F2-0D82AD59F1D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818BFB1-867A-4E82-A07D-54A9A7D6A3D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9FD10B7-7745-42FA-83C2-9AD87F03FB2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B34D9B7-A160-4CCC-A940-ED2F607A94C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7D328EB9-C106-417B-B198-7D6D6D3AD8B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EDB7A8C-515F-4831-8A7C-EC068B0130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7623185-3A5E-4738-9368-0E59C4E6ADD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63E9DE9-D5BA-4C3C-989C-DF9701637C6F}"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6565832-6646-4DFC-AF49-4846542C980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1FC3E52-7650-4E9A-88DB-8656365ED9B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3783297-E174-4C3F-A816-49CD9B854CF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A6D84FD-3C5F-448F-A32A-EBA428F0E68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54148E8-48E5-479E-BC1D-5166B98BF23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643928B-DD90-4DC6-9949-2A024870E97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E229ADB-572D-4EB8-A744-82E5350E053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D4F522B-DD55-425D-BDEA-F33DEDB6039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0385359-3E4C-45D7-9C3B-E6082B6216F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DB3A7417-174B-4D83-9D36-C2371FD0D73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72D6109E-44ED-4B85-A6BC-A6E71967D12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B057D851-CBCB-4980-ACB8-94016AEB405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A7083C5-D17D-451D-8AC2-A4C258FC0E8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12D1649-3465-45B9-A939-2B30D151355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BE40453-E066-4356-AA94-89245BB66BD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0DAA9A2-DAE9-4AE9-A574-C1484CD52BB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2568782-FC5C-4821-85F7-5AF1A6F4694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8BB221D-DDD8-409C-82DB-A4D91BBC8B8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9B06DF4-6D47-425C-8BCD-164E2D2F1B7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5854E9E-581E-496D-B6C7-75B3E8A1E29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054C42F-F823-4F12-8D98-C16591A64F5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094826B0-F7FE-4D6D-9B99-ACABBC8E673C}"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8D1997F4-6F77-477B-9DA3-1051DF26468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0EE4D18-F541-4344-9FB1-CB2095FFE270}"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891C26D-B8E2-424A-A910-13BE26D5644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8762556-71F1-4DD5-836B-67C5A45145E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0711177-8A04-4561-BD1B-511BA530692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05BB2F7-DA4B-44AF-B300-88EC202F0EF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0E9396F-F8EA-4353-A773-41EDBCB33BA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0384B0C-D481-47AF-836C-FA74697D51A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4F59B35-389F-4A0F-88FC-0DE7270A1A3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9F9277D-0C7B-40FC-A15D-CFEE227C087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69F2EE8-F764-45C5-8A9F-1AD0CE0B2DD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7BBC313-EC07-4388-B93C-9FB1CA9D97E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8228B58E-3378-430E-BBB1-FEF5E0DFF74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1D53CABB-493E-45C3-9894-0AD6D328062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AD8347E-72B6-4F3E-92FA-A612D2910BE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567E529-198C-4DD9-8CC1-1808E887A8C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819D3E8-989D-4662-8869-BA85F273824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2B0F9D7-A1C2-4ED8-A642-53BA694E42DE}"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FD6EF8F-2575-4C11-99D8-7AB369C0910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A881055-6C30-43ED-B089-9D818FC9F23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14B2AD6-3D91-41B0-86C1-86CF8F5BF13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C4E6015-A09D-44A5-85F0-8655925F813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335AA49-968A-4326-8B7C-396CECBC7B4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0D5E60FB-73CE-4D79-BDEB-24B239F4426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03521487-F4E6-4979-9464-838EC4D73F9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6D41-326E-4AC6-84CE-6CE7B5AA77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A05186-326A-4C28-9026-5611B4DAD98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D58ECFB-96A6-4201-839A-577C924B4C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2F63A9F-3094-4F88-AF34-DD63F9BA4C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56EF2-2D2C-4DFA-8438-361178E8C2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DEE89B3-5249-42F7-961E-B1A2D379FB0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381DCEC4-9EAE-46A7-A050-F04D706EFE8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7B76CC5-9C79-4382-80BE-66DA04ED5C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4543270-F1DF-4730-ACA0-2A6567D3FF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DE3048A-071D-4EC6-AD77-DF5E22EF64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70E641B-85CA-4F60-9140-E95E60F1B9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49C9FBE-E56D-4ABC-A305-41EC51286E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419DE1C8-4679-454B-AD7C-485AB0CE48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14FC43D-D2C7-43DF-82A8-05FA28E701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01B160-A0DB-4E63-9854-9FBB510E46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6CBAE-1788-4B61-9E58-225652918B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BBDAAE-73F2-442A-AB2F-1F087748E2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5CC76F-02D0-41FC-BB05-4232CB4D4B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E2A2CF-5146-4C28-AAED-B6FE8FB111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3996CA-0164-4B74-85ED-C55548461F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2C0308-A0C5-40F6-BA63-C6C2218EBD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8434E0-57FF-439B-BA3E-1D800ADF1E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65E8C6-6408-427C-9E41-4FCE222035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30B39F-FA66-4DC4-8687-934F203038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E5D8E5-51FF-4519-AB69-CAFAB352BB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423505-962C-4CAE-8826-E92CDB5B69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19D2F0-C8F9-4DDE-A792-65E348425E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3BA29C-A952-430D-843A-17A2743157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702B9CC-949D-4067-B578-A0321991A2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143E1B-C5F5-47B6-9AFC-4BC3FDE77A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9649A1-8527-442D-87F6-D3B646B5EC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486A3F-EAC7-49BE-88A9-538BC6B0D9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1897BA-AAAF-434B-AE99-9C9379D668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C6A655-C0B8-4AB8-AC87-2DA90006A1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10593C-94B3-4DB6-9F60-C1ABA58AA2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7F2BFE-2439-46C3-A08D-CB35BB1769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AB11A3-DBC2-4A4B-86C5-1C2E4BBA5D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8213B-928E-4A9C-954C-F8466E1BB3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8DC7DA-8F1A-4745-AA9A-B1FE0E8523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D88897-69E9-4D52-AC8E-049B1DD454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22E2DB-996D-4F87-B68F-440591C444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FB11ED-51BF-4FCC-81EA-6019C88A49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0C01376-7D2D-4DE6-BB2D-CFF47460E9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164C13C-F8CC-4EED-B2F3-997D8CF086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A7B5CE-1162-4AA4-BC1F-17BDF0E506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BB47B3-056D-4E32-8182-24F0BA318E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2C5CD52-169F-4F1D-B736-3759A80B51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3E528F-7D38-4048-B403-DD26CB9B63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38660-7193-4C47-B3BA-6FF5F823FE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1FD886-301D-4F17-AA3B-1F36C49FC9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3F8777-DA59-40AF-9431-63313D1EFA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6B6294-7E55-4856-B516-D04B8F6AF4E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16F0C91-E6A6-4D12-B673-3804D2359EB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96AFFFD-0326-4190-9E66-9D9D50DB25E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623BAC9-86BE-486A-A3FA-6F51BBF7AC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0E54EE-01EA-4095-83C9-FDF7AAB196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DB43B3-FE20-4464-97B1-EB112DA3EB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EDD5D6-44B2-4DC6-8024-AD21A49C46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98EF634-4748-452D-BBE7-53B9D874F9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6F5FB-D000-4A28-87B5-1A00F2C182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81E0FB3-0E0F-4472-9611-667D9201B4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D308A4-91B5-4709-A2D3-16FFBA6194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E8580F-A059-49EF-A659-9794BADD0C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B08E7D-EE55-48DB-8C4D-8FD13B7F0A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FCA11C-2368-4230-9593-E68A68A24C2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FEC2CA-BD10-4841-A11C-D7D66277712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54E43A-92A5-4959-9E05-D72EDFF127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E7A1FE5-27CD-4F49-8E68-724C39339A1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23C521-CE47-4164-B10A-D87A37E20D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67F68D-66A9-491C-B168-FBE624EF4CD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80CE-3460-4631-8544-12E77DE75CA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DA07-5545-46A4-B432-7BF18BB2E19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6B16-8871-4B7F-9B4F-A21687918FB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4145-C428-4148-BE4F-9B3BC55B036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05B1-0C1D-4817-A00E-BCB10DE19D2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C1A-B1FB-4EB2-81A3-A1143D9D6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0B47-7013-401E-9BDA-DECB9EFC7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2691-CC98-491E-8FD9-354285E4C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BA28-D97B-4268-9BC2-45D4F89D0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2D9B-4906-4901-B9AA-E6E2AB87D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90EE-CCCD-4BDA-A133-4E03947C0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1E75-1ADE-4499-8D53-5EEE008C9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8DD1-1DAE-49D8-AAF1-2483B08B3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FFE6-5D8C-4EFE-BB5E-1873371C7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DFFC-7C54-4F9F-A4A3-7AE659B88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A699-9F86-494A-92E8-22AB906ED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81F2-6E47-4B08-88FE-4195F042F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8961-3BBA-4D08-A1E5-410D9A39AB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0342-F35C-4E36-9CDB-2CB7D0778E6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153B-84D5-432E-B214-854099396F2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E61E-B81A-47E1-93FB-E6AC4530ABD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6A3A-4EAC-4D83-9449-588B4D35DA5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E0E7-1330-4B79-95F0-BE91A8FA07F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29.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4</a:t>
            </a:r>
            <a:br>
              <a:rPr sz="3400"/>
            </a:br>
            <a:r>
              <a:rPr b="0" lang="en-US" sz="3400" spc="-1" strike="noStrike">
                <a:solidFill>
                  <a:srgbClr val="000000"/>
                </a:solidFill>
                <a:latin typeface="Calibri"/>
              </a:rPr>
              <a:t>Consumer and</a:t>
            </a:r>
            <a:br>
              <a:rPr sz="3400"/>
            </a:br>
            <a:r>
              <a:rPr b="0" lang="en-US" sz="3400" spc="-1" strike="noStrike">
                <a:solidFill>
                  <a:srgbClr val="000000"/>
                </a:solidFill>
                <a:latin typeface="Calibri"/>
              </a:rPr>
              <a:t>Organizational</a:t>
            </a:r>
            <a:br>
              <a:rPr sz="3400"/>
            </a:br>
            <a:r>
              <a:rPr b="0" lang="en-US" sz="3400" spc="-1" strike="noStrike">
                <a:solidFill>
                  <a:srgbClr val="000000"/>
                </a:solidFill>
                <a:latin typeface="Calibri"/>
              </a:rPr>
              <a:t>Buyer Behavi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7 - The Personal Selling Proces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BEF3-5D39-4812-BE71-6E581729C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82.PNG"/>
          <p:cNvPicPr/>
          <p:nvPr/>
        </p:nvPicPr>
        <p:blipFill>
          <a:blip r:embed="rId1"/>
          <a:stretch/>
        </p:blipFill>
        <p:spPr>
          <a:xfrm>
            <a:off x="2128680" y="1676520"/>
            <a:ext cx="4934160" cy="47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8 - The Buygrid Framework</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3ED7-F24D-4384-AFCB-DF2B26425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73.PNG"/>
          <p:cNvPicPr/>
          <p:nvPr/>
        </p:nvPicPr>
        <p:blipFill>
          <a:blip r:embed="rId1"/>
          <a:stretch/>
        </p:blipFill>
        <p:spPr>
          <a:xfrm>
            <a:off x="1066680" y="1538280"/>
            <a:ext cx="7089840" cy="493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9 - The Buy Center Framework</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0DE3-6DA7-436E-B396-E1D367000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81.PNG"/>
          <p:cNvPicPr/>
          <p:nvPr/>
        </p:nvPicPr>
        <p:blipFill>
          <a:blip r:embed="rId1"/>
          <a:stretch/>
        </p:blipFill>
        <p:spPr>
          <a:xfrm>
            <a:off x="2031840" y="1523880"/>
            <a:ext cx="505476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Purchasing Agent Mindset”</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urchasing agent is employed to “buy” and to process purchase decisions and ord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buy center framework, a purchasing agent can play any role or several roles—or may not be involved in a decision at all</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6FB8-B12E-4105-A3A9-6F44CE778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rganizational Buyer Behavior and Personal Selling</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 selling is the fifth P (for “people”) in the marketing mix</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t trends in personal selling connect with organizational buying behavior</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 selling has gone from a transaction- and commission-focused activity toward being a salaried, solutions-focused funct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is seen as long-term relationships with customers for whom the firm can deliver real value in the form of solutions and expertise</a:t>
            </a:r>
            <a:endParaRPr b="0" lang="en-US" sz="24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9C3C-69CA-414F-BF82-2EED23512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3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sumer Behavior</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are the ultimate users of a product</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use more personal and more emotional purchase criteria in comparison to organizational buy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0CFD-765D-4AC3-A872-E50E75D93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1 - Consumer-Decision-Making Process and Hierarchy of Effects Models</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7087-E707-433C-91E7-B658D08DE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85.PNG"/>
          <p:cNvPicPr/>
          <p:nvPr/>
        </p:nvPicPr>
        <p:blipFill>
          <a:blip r:embed="rId1"/>
          <a:stretch/>
        </p:blipFill>
        <p:spPr>
          <a:xfrm>
            <a:off x="1371600" y="1511280"/>
            <a:ext cx="6324480" cy="50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2 - Maslow’s Hierarchy of Needs</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BAF0-3B5E-4FF0-999A-970784DCF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74.PNG"/>
          <p:cNvPicPr/>
          <p:nvPr/>
        </p:nvPicPr>
        <p:blipFill>
          <a:blip r:embed="rId1"/>
          <a:stretch/>
        </p:blipFill>
        <p:spPr>
          <a:xfrm>
            <a:off x="1752480" y="1523880"/>
            <a:ext cx="5508720" cy="501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4-1 - Sources in Consumer Information Search</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AC57-C5B2-43CA-8A26-98FD45985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9" name="Picture 4" descr="8.PNG"/>
          <p:cNvPicPr/>
          <p:nvPr/>
        </p:nvPicPr>
        <p:blipFill>
          <a:blip r:embed="rId1"/>
          <a:stretch/>
        </p:blipFill>
        <p:spPr>
          <a:xfrm>
            <a:off x="533520" y="2927520"/>
            <a:ext cx="815328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3 The Value Map: Tradeoffs Along the Fair Value Frontier</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7094-EFC8-4509-9CA7-258D0FC76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85.PNG"/>
          <p:cNvPicPr/>
          <p:nvPr/>
        </p:nvPicPr>
        <p:blipFill>
          <a:blip r:embed="rId1"/>
          <a:stretch/>
        </p:blipFill>
        <p:spPr>
          <a:xfrm>
            <a:off x="2309760" y="1600200"/>
            <a:ext cx="46245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4 - Hypothetical Consumer Value Chain</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4CD8-3AED-4A9D-A02F-A513AADCE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3456.PNG"/>
          <p:cNvPicPr/>
          <p:nvPr/>
        </p:nvPicPr>
        <p:blipFill>
          <a:blip r:embed="rId1"/>
          <a:stretch/>
        </p:blipFill>
        <p:spPr>
          <a:xfrm>
            <a:off x="457200" y="2082960"/>
            <a:ext cx="820584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5 - Consumer Decision Making in Context</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6D7E-F19A-40CE-89A7-234CFC8AB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93.PNG"/>
          <p:cNvPicPr/>
          <p:nvPr/>
        </p:nvPicPr>
        <p:blipFill>
          <a:blip r:embed="rId1"/>
          <a:stretch/>
        </p:blipFill>
        <p:spPr>
          <a:xfrm>
            <a:off x="2108160" y="1600200"/>
            <a:ext cx="505476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6 - Organizational Purchase Decision Process and the Sales Funnel</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BA83-A5AD-4F2D-A245-C840B9531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56.PNG"/>
          <p:cNvPicPr/>
          <p:nvPr/>
        </p:nvPicPr>
        <p:blipFill>
          <a:blip r:embed="rId1"/>
          <a:stretch/>
        </p:blipFill>
        <p:spPr>
          <a:xfrm>
            <a:off x="1828800" y="1523880"/>
            <a:ext cx="5450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5T13:45:14Z</dcterms:modified>
  <cp:revision>1012</cp:revision>
  <dc:subject/>
  <dc:title>Slide 1</dc:title>
</cp:coreProperties>
</file>