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3A5A-86C1-4ADC-855A-40DD07286BB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8128-A7BF-44EC-B16C-F911CBE713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st way to perform this analysis is by combining several sources of inform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stomer survey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les force meeting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alyst report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scussions with shared suppliers, distribu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6CF8-C4FE-41F9-BD47-A69B4D51E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first column, the success factors in a particular industry are list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econd column contains their import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erformance of our company (We) and the competitor (Competitor A) is rated on a 5-point sca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wo weighted scores are comput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mmed weighted scores indicate the overall performance of the two compani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0550A-5BA9-447B-922E-7D4A3F1E70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99755-9A04-4CD4-A85A-25ADCE9BE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ources of competitor data for this analysis can be:</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Vision and mission statement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nnual report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ress release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Newspaper article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nalyst report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rade show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Fair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ales force meeting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Ex-employee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hared supplier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hared customer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hared distributors</a:t>
            </a:r>
            <a:endParaRPr b="0" lang="en-US" sz="1100" spc="-1" strike="noStrike">
              <a:solidFill>
                <a:srgbClr val="000000"/>
              </a:solidFill>
              <a:latin typeface="Calibri"/>
            </a:endParaRPr>
          </a:p>
          <a:p>
            <a:pPr lvl="1" marL="457200" indent="0">
              <a:lnSpc>
                <a:spcPct val="8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AFFA-B3E2-4035-8379-6BD44492CE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718952-D032-4252-B50D-EC91AED15A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C20F31-5D11-4EA5-94B2-EBAE2806EC4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367AF73-C60F-4F81-8E0C-5CE2515CBEB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DFD6012-B0F1-4469-8CB0-E9B02E80B2E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E3D6E2B-E8F1-4F1E-9D90-D78F4C37F06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5EEF5D9-F930-4A91-B48A-D54A41897CA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D4D3162-831D-4857-AD00-EB2361E3017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2539335-7A73-488C-BB1F-0550F669D91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BE9870F-063F-42C0-B484-5852B9CF9C0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86A57F8-ADE9-4924-80EC-718A5EC32B5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42573CA-1B8F-41E9-8877-135F2908E35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E9FA14F-929E-4AD7-A819-493FE27635F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6A9280-DD1D-4257-AA42-B87DEA7F0C3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2BB7547-1F17-405A-B042-5119C04C9A3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5C16028-F344-4510-A712-5D8C6B48623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479D9CC-4795-4F58-9DFB-59277C0CE86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DDA9C84-EFF1-4158-B0E9-F6A991FF086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CCD6E54-B74A-478F-BDB1-92371F4BC06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E4FA4E6-121D-4A95-9751-BD84D5F78A4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B5C67A7-441F-481E-817E-6A01173152E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C659782-1E65-48C1-B762-EDDDCD93787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C495436-1505-40A8-B5FD-8D17C16E182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2083B27-4B64-449F-9677-2170A9BE1ED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51F809-211D-4BAD-B108-870FB5399FB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A2EB6E3-6905-437F-B4FC-626749A42BE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CDBF974-3C97-485D-AB8B-C5774C24E81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713924E-23CA-464E-BE72-DC084AD5A34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9B3F63F-DD6A-40C0-BAA1-F216F17EFC4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431913F-6CAC-4FE8-8BA9-45EDC0FB202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EE8D436-14A3-459B-A6B1-85EF24DF74E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62A94AD-02A1-4F4B-B8A5-C9B28F81DF7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EAB0FFB-4D04-4761-86AA-8E479D49B13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7C6A686-51E8-4899-B6C9-3B7D21BDC37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5CC0D38-9916-43F8-9324-031C86AA8B1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1E1F002-CC63-4BB5-868E-B35BBFB82F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B49CB97-42F1-410A-B506-77E589BC96C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8FF5FE1-4034-40C1-8359-F08F7A3CC0E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DD31B27-080F-4C72-B303-5F6B0A3DBEA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AEFD881-D9E0-422D-A3C8-CC63F42EEEC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E91A493-5E64-442A-A77F-B7B949BD318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B226DFC-89BE-48BB-9434-F2A3470EA7B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91B56BD-1D93-40E2-A491-E7F119E6388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F567458-2DCB-42BB-B037-A8B8327356C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B3E57C9-E965-4A19-B988-A37CE32CF2F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2E7C7F1-DF22-49B0-B4E5-A0D341DB47E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4B0B37-713F-49AE-98D8-33D31133F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C20D411-9844-449C-9EA0-3E67307C603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6D86AF6-10B0-4D95-A2FF-B4EB07657D4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6F60081-12E6-4784-AF52-0A147C8B18E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FAFCF6C-5562-4569-BABC-48266394C4C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8B5FFF8-8FA4-41C3-A42E-1B68B91C2C5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2B9CD76-8636-410A-99B2-CDBF1C4B55D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0678776-BB25-463C-9255-E40819F7AD2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6A0F2FA-EEC4-4F3F-BFE2-AF2CF552B5F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E5160E3-69C9-4FC1-89B0-D5248D7144D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BAE2D21-6987-42C4-9E95-7E80FA9D3FE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3E7BB3C-7843-4892-8C27-526176C979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A23D7E9-487B-4C97-95AC-D68D5E61793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49A9126-7DEC-45FF-AF07-8C1A60BF2F0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856F727-93C0-4D36-BC9C-0D6C7AE3818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CF08556-D7CA-4FEA-8F30-097C90BFF93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CF177E7-630F-4B5C-92A3-B82C7BE6524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2D3254E-7E54-4FAB-ABCA-8F435A0DFE8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C8F084C-91E3-4F9C-84A0-A2899BC3517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29661011-B3E3-415A-A64C-7D2A57494D4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DB2FCCC-83FF-467A-BD38-9F9B1173815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03D33E2-134D-4C60-8693-5666DB747C8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550A4EC-1F6E-4137-8686-BF36A81E7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AF2E635-278B-4A6F-A4D1-7D659F85318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5CA8C85-9752-486B-89BE-D42D978730D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8C3657E-F8C8-4508-ABD7-EBB05B4A69A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5B9B6F7-D8B9-4DC2-B635-D2C99760872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DF0CDA2-D2A7-44A8-B5D3-D0A8352D938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9A96D0D-B354-4B00-8502-556A707678A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E025CED-C2E0-4F82-BCDB-21B1F89C5ED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584C0E0-EA50-4257-9C86-0A65142BC76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1384AFBF-0E14-429B-8FCB-B95C502DCAA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BBA84966-102D-4D21-9E8B-712C9CA69EE5}"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50F293-F761-46D2-9E5B-B2E5474DF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D8D219ED-74B8-4E7D-B4CA-17EB7A8C0EE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87E968D-42C8-4E9F-9BBA-DB1A8039924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47B90D1-918F-4B10-9924-97AF78C7EDC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A62414E3-2042-4FB0-9A77-64E4BA74E14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63E3BE7-8D54-458D-9CE9-BE436326621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512BFCF-08D1-4423-91A9-A7AB439F57A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1C267C0-6748-41DE-A3A9-FF4925672C0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C09CB9C-62ED-4113-A3F2-A83579F1CC1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BC1C7AE-9D71-4E18-8DC5-33FEC0C6C4B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B1330D72-C6F8-4D2D-8B75-4E941C02359C}"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55CB889-2800-4EA3-B5C0-AA75D31B4E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6053356C-0CF1-40DD-93DE-6ACFEC0C168C}"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C9E66E40-59CF-435C-B709-93BC8A69B94E}"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F440E906-4A27-417E-9797-6020F26CB6C4}"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9FF67AEF-B66A-4178-B363-2409D0B7D61B}"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18558506-0B69-4C18-9015-5B2A6CEBCAF6}"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71E20A3A-CC28-480E-9833-BA4432A0399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027E8A3D-3A47-4B91-9D8E-AB67BE495EF1}"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E4B16EA-09E3-495B-84F1-D406525FD0F3}"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0577A4B-B6A1-4FB3-85BB-AFCE9800DEF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EE2597B-D8DC-4945-B49D-906601DCC01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038E19-168D-48DF-959D-F7048930C3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71325EA-4EAC-407E-B718-163D5DAFAACC}"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BB6E807E-AC3E-455F-B2FA-5934EC394870}"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B2B6B102-65AA-4E75-959C-5DCBCF6E963E}"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CA42EC31-4DE0-47B0-B402-DF0E3704AAA6}"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1D8CE96D-03F5-454D-8DB6-19C40BB8CE23}"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B9DE4461-F80B-468C-82CC-736B8E4C6A93}"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084B1277-13DE-42CF-93CA-6177401DD09B}"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46529A0D-B9CF-4BCE-9214-575496DD15D4}"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1840B4F5-7E27-4E0D-9D2E-297BFF320B86}"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9B17B7C-7B44-4B6F-9B17-89213D98BF8E}"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69EA0-7C62-4367-A4B3-BFF147B00C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1541E7-BAA7-4393-8954-CC2AC8116A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6EC28A90-A996-4A17-83EE-2D8AA676D741}"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D374C2F1-CD30-46DB-ADDB-7851A80C606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A2C17A8D-AE2A-442A-B728-BA7B906DDF6F}"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CE84D867-702F-4F04-B3F0-0348206B2806}"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1879D27B-6759-4F57-BBD2-BCCB9311314D}"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72FCF083-FB77-4614-A999-6D2E0EEA6261}"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37947FD4-42C1-493C-B631-C7C5985259AA}"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AD3BAE3E-2643-4C58-BDF0-C0DBBB58FF62}"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2ABB188F-22AB-44DD-8C2B-F3E63014AB37}"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8C7DF918-54F9-4883-B070-C0C1F8EFB320}"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B00C11-FA82-46B2-A929-C738FC3761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22BEC37B-BC82-4E6D-96DC-EB3EEC9F966F}"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BB3DF00E-ED41-4BF5-911E-CB92C58FB167}"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63139A61-2B13-4658-A672-FA94805BB007}"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4A9AEEAA-6990-4793-A0EB-39878E4D7079}"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A27AF0C7-B5A3-4866-862E-6E98E0A707DF}"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0F750BC4-FD73-40AF-96CC-6D2EC6BED5FB}"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90B66F8F-B6B6-4745-B111-5BBCF0622C84}"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47E6F6C4-80B4-4C13-928C-4F76B8815917}"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F2ED08D0-6E0C-4D12-A5E2-DB5F67F6E240}"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BCAF6F2D-419F-461F-9439-9AA45B801A67}"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62DA39A-A4A3-4F63-8BBB-08B6D3CBAC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EB9B6A00-89C1-4E03-8FA8-B7BB201DF88F}"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FA4AE5BF-1B9B-4361-91C7-6B5EA90699A0}"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8DE1FFB7-E26F-4E1E-BA80-9780115E2243}"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086746BF-D15A-4A21-A7C5-700E6AF2669D}"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483410DC-1CF9-4960-B8C9-FC68001FDC3C}"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D759B889-6C34-4C8B-86D8-FEC24B7BD0F2}"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2B1C47EE-83FC-455C-A349-D0F257676E19}"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560A815A-0B50-4221-BE9E-446567811454}"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189C7715-F476-4FE5-AEA9-CE9B1D9D7915}"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CF750EF3-7523-440D-B918-E3F9300EB15A}"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AADD86A-F36D-4290-9FB5-C38873FD2B5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C2D4A139-557D-4942-9443-6A6DB06AC09C}"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7339396B-BA61-4D30-884C-9FECC330FDB8}"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43A950D7-1B44-4232-9F0B-8C9AA7A85A1E}"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D8D2823E-8B2A-493A-B3CD-55DF2C041589}"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959B44D3-DC58-4693-B0E3-C2E30E0DFD89}"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88E12B31-0506-424D-B3CB-372D563A5F61}"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DE8EDA12-DD1C-4D55-91FA-78DB73900062}"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9E8975E0-B870-44D1-9471-F1121ED96E55}"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337BBBAF-E6FB-40B1-A34C-15C03D9D8EC0}"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C56BEB48-0013-47DA-9988-2924AB908C59}"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331E968-CDE2-4EB9-8BD5-ECF3F523C9B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57CD0296-E5DB-48EF-9325-11A5D1CF97EE}"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0957A91E-CD7F-4D6D-B264-3C53A70C7D09}"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54F824CB-4020-41CA-AC35-D25DBC7DFB41}"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5229413A-E4F5-49E7-98A6-60A70173071C}"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78D3CA38-1DCD-4C02-AD41-F17759671178}"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9D7C832A-F6BC-4688-8D22-2844898E9B4B}"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DC1F9649-1A86-46EE-A2A6-9605F1B257DC}"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E0335FB7-1FAC-40B3-B21C-81594F1CF41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8AF3FA8C-E87C-41CD-B137-BBE8AF5D01B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503A235-D37F-45F0-B888-91FDCA9769F1}"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26A7BE25-7694-47A6-8A38-A80F8056D17B}"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1024EF51-B04A-4B84-B149-3508F23E8B4A}"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020F4718-8056-4047-B1B3-374693D5E55B}"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22EC4D13-5130-4E28-BC5F-429CCE6E0D0E}"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0286E847-CB72-495C-A19C-08810F5FE4D7}"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6944E697-3BE0-4ABF-8FED-4B101E48BBFB}"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72FB149F-CFF9-444D-8B00-1873E9A6B1D4}"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3EAE1924-3166-4EDF-A2D2-AF8AB74FB082}"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0AA8A31C-29FD-4995-8660-7365AB7D6E60}"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F1A8287-2A9F-4A82-B32D-7D2837E3692E}"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4B87E799-99C2-47F6-BB32-C9AFBD35C903}"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993B41CF-C25E-40BF-957D-30DC4C972935}"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C1E69593-EC46-4D71-8194-1DF2ED5B085A}"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89BEC1A0-5FE8-49FE-9AED-82D219BEDFE0}"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077F3640-BF2B-4350-9984-77CE1946C71F}"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061DFB05-2BC5-4145-ABE3-CAD86540A2C4}"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78EE5C12-C59D-48A2-8020-9B5875957769}"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140EBEC5-D370-4079-AAE5-02E284ABA4E8}"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864D29EA-44BB-4250-AF0E-0643391F145E}"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74EFD53A-1CD4-455A-A35B-D27A8118FB3C}"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9D0C65F0-DA1D-4789-AAC2-3A0EF4CE150F}"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F5C29A6D-95DA-46DA-83D9-32936364B9F6}"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6F54741-DDB0-4421-8C47-19AA9BFD3855}"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AEF29708-D1D7-4DBB-B1B1-0048DE0B715F}"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7A0ACFF2-FBD2-4EC7-8F69-E811572A5F52}"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E44DCA73-F0BB-429B-A6E3-4F2052ADCD23}"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D427E25E-2719-4A7E-8A6D-2B5031A389CC}"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770525E4-4516-43DB-973E-1F6C6A6243FC}"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DD038EE3-4F2D-491D-BDDD-85D3F46B2EA8}"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9F6C0953-3E50-4AF0-BAFB-9BF0BB311629}"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C4A0BB4F-82FC-4971-B39B-108ED103E8DD}"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5167E9C5-AB7F-413B-97AD-7D54EFCAA304}"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9B27EE8D-CD03-4D45-BF68-D114D316EF89}"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6394F85F-3FB8-4C7D-92DC-5F3960EAE0CC}"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D5CB8D3-4888-471D-AE2B-AD67435A0827}"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96F5D3BE-F388-4937-82ED-9342ACEB5E5A}"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045B1C86-FAFA-473A-8005-820CA8D68B1C}"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C42A08F5-A40B-42B2-A54A-921F7E8C6303}"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A9ECF8D7-168D-4765-8206-FF6794C305C6}"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C62C0-9DCC-452F-87B1-C09615696BE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2DC252B-DD5E-43D6-A60F-8EABF0B6BFA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BDCB37DD-C63E-4B7D-9912-8DDBAB73478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B7239D1A-88C1-4B51-B39A-D0A2A952A1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8200CE-B882-4140-8DAD-8AACCD1E308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9E74B19D-006B-4291-8D34-3FD3D037C26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25435AEC-72EC-41D1-BC72-A0C39F9781F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0D76D5F7-9FEF-4CDD-B8CE-9A8A7D5D95A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AB61AF9D-D2BC-4AF1-BDFC-E9B61199290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9FBB16EB-8C88-4A2A-9005-605752299F8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02D153E1-D0F0-4C70-A513-B5E802ED776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823A2B61-1E41-46F1-992A-6052DA728D1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7B6DF5DA-2CE9-4523-BA7D-5909FBE8566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886F4C63-2E26-4591-9817-EAF50B9B0A4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0012428-6B9B-4DC8-A1EC-013FEA446BC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EBDFDE-82EF-44F7-9402-C5F4E4F8060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94DE8CA-AFBD-454A-B54D-04A4AE36D88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FB86A08-0E20-4012-AF15-C78E9A184C8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8AA1346-49C3-41CC-8A2E-1DC5B0434CC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A34A2B-8165-4CCC-B270-8A58328BBE6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F127390-E22B-4498-AD22-7048B39CB1F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29BE26-9214-49BB-895F-76C328E950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6E072E-DA89-41FF-BEFB-6AD3CFE51E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2CAE36-4100-45BD-8F43-C0277E072B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C6CC6A-F717-4426-ACEA-50542233E0B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2438E73-B179-4A81-B9FD-BDA0BF6C99B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253B36F-AFE0-48D7-A716-44347BE8CF0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88026CE-D9CE-4C75-BE95-8FE97B154A5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2367008-44F3-4D00-8F8E-748A40B2A31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7846C9A-DADE-4311-A06A-1F35A52441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3661B6D-E754-4AD6-A357-0BC4E955DD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C8ADE70-8298-4E2F-B101-5ED924CC7E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B0556AE-E648-4B52-B358-9BB30D5A69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8BB9D41-AA2D-4012-B36A-45ABFB32DD3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03B8C8B-63B2-45DB-97F3-DA124AABE4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16514B-354D-40C0-AB42-DDA5966472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43137A-4AB0-479F-A3D3-2990C55F7E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CA8CA6-1562-4716-8FAD-AD8EE581E2B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380AC09-25FC-4FB1-B559-140C4ED7711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D3C7460-C152-470E-A0AA-08D742C30F2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E634FFF-6FBA-4C43-B8AB-929142A5A22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934D594-8AE8-492B-A16C-F735022DAF1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9BCC330-AC59-494A-8814-33D853F12AF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3CE7F53-EB2E-4F1D-A63C-64A5A139B9B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0706CE7-0DCA-4A96-BA72-CE5948B1D16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AFBE8D8-FB84-4524-9623-E978CCC1A36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634CED7-DA32-4AC9-90BB-F680E0F0CD4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D24C375-2893-4891-80DD-3B2F4B1CD7E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3060B-FE80-4059-90FD-64CCF163FF7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1BB0AC5-49A2-4FA0-A29A-2C88DECE2A1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1021E6E-8A02-4E53-9E9B-7C5FF42BE6D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2B9AE10-7686-425C-A9ED-D32D916406D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6991CDE-B2C1-4734-9A79-7B001B0A42F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81AF1E1-D1AF-484A-9353-0B198A579D7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C126B2D-327C-4ECE-9A1F-A482F07292A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9C6A5F6-F5F2-4D2C-9ADA-FB8BACC9E52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8CC2550-CD41-4E96-ABE7-90A66DD2651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68DF188-CEFC-481A-BE24-4EDF341A66C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FF27F3A-9D69-4BBA-8E81-EF9FC0FE57C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2A0A45-65EF-4589-BB45-825334B9CDD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0B4E09A-952F-4A1C-B384-B846C18614F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0A3564F-BCD8-4AEE-B7A1-4528BA47955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E852541-D8DC-4B77-B449-E7557750591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0FC66D5-F08F-4AD6-B28D-269F2C5AE11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1DB591D-5CF6-4EA3-911C-8E1AE4784A6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522EC4E-A5BF-4649-97B7-76B963C4486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03092E9-F0AD-4032-B6BA-EF90752E68E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0F952D5-11EF-4F4D-816E-A371BE3BF67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B78D52D-5705-4534-9CF2-484D4F56D35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E0FEE01-3D02-4E1A-9AEA-F82712AB7C0E}"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5C55-6993-44F1-A357-D780C99D1ED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4B67-DE1A-47BD-9C92-43EC02FE3D1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D338-ECA0-4166-BF4B-A11E7CC76BE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07AE-F982-4E65-ABBA-C09690BCBB8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A4445-9DF0-4284-9AB3-F6F92A992C8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BA6D-212C-4D32-8AEE-4C5ED5A4CD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E4E9-9A18-4058-826D-76936C2835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48AD0-637E-4204-A835-8512507561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5145-83D2-4AE9-A962-81EAA2420E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19B1-2442-4C58-8E57-8BCF4B6F3D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98288-8AB0-4D4E-A1E5-617B7DA9FD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7D91-F750-4C88-86D1-CC75C44C52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7FF87-6854-4242-9F35-AD555759C1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D513-E9BB-43CC-89C9-730BAE5F45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25B9-8A77-43CD-A81C-48C3C2D52F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12B4-78DA-4FAF-8FA1-2519C413CF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EBB7A-6E94-4392-AEB2-8DE9A1E457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6338-B04E-4C8C-ADCC-C56F20D41FB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652F-8404-4D0D-B909-F54BE07B72A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711A7-41DA-404C-88E2-1BB172EB3F2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7E3B-40C4-486C-BCFE-E7060810CF1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CB7DC-9E1F-4A14-8F7B-91DC8AF6324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F9D2-AA81-46E5-A4F7-4C148F0D1D1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te 5</a:t>
            </a:r>
            <a:br>
              <a:rPr sz="3400"/>
            </a:br>
            <a:r>
              <a:rPr b="0" lang="en-US" sz="3400" spc="-1" strike="noStrike">
                <a:solidFill>
                  <a:srgbClr val="000000"/>
                </a:solidFill>
                <a:latin typeface="Calibri"/>
              </a:rPr>
              <a:t>Competitor Analysis—</a:t>
            </a:r>
            <a:br>
              <a:rPr sz="3400"/>
            </a:br>
            <a:r>
              <a:rPr b="0" lang="en-US" sz="3400" spc="-1" strike="noStrike">
                <a:solidFill>
                  <a:srgbClr val="000000"/>
                </a:solidFill>
                <a:latin typeface="Calibri"/>
              </a:rPr>
              <a:t>Competitive Intelligence</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rketing Tactics</a:t>
            </a:r>
            <a:endParaRPr b="0" lang="en-US" sz="3400" spc="-1" strike="noStrike">
              <a:solidFill>
                <a:srgbClr val="000000"/>
              </a:solidFill>
              <a:latin typeface="Calibri"/>
            </a:endParaRPr>
          </a:p>
        </p:txBody>
      </p:sp>
      <p:sp>
        <p:nvSpPr>
          <p:cNvPr id="1029"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sts of the assessment of the individual marketing decision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relate to positioning, product and brand decisions, pricing, distribution and sales management, and communication</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is step you assess what the competitors actually do</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urce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list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vertising campaign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otions</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58FD1-D75A-42DA-8405-7FDAC4B2FF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029">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029">
                                            <p:txEl>
                                              <p:pRg st="1" end="1"/>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029">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029">
                                            <p:txEl>
                                              <p:pRg st="3" end="3"/>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029">
                                            <p:txEl>
                                              <p:pRg st="4" end="4"/>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029">
                                            <p:txEl>
                                              <p:pRg st="5" end="5"/>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0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rketing Tactics</a:t>
            </a:r>
            <a:endParaRPr b="0" lang="en-US" sz="3400" spc="-1" strike="noStrike">
              <a:solidFill>
                <a:srgbClr val="000000"/>
              </a:solidFill>
              <a:latin typeface="Calibri"/>
            </a:endParaRPr>
          </a:p>
        </p:txBody>
      </p:sp>
      <p:sp>
        <p:nvSpPr>
          <p:cNvPr id="1032" name=""/>
          <p:cNvSpPr txBox="1"/>
          <p:nvPr/>
        </p:nvSpPr>
        <p:spPr>
          <a:xfrm>
            <a:off x="457200" y="1600200"/>
            <a:ext cx="8229600" cy="4525920"/>
          </a:xfrm>
          <a:prstGeom prst="rect">
            <a:avLst/>
          </a:prstGeom>
          <a:noFill/>
          <a:ln w="19080">
            <a:solidFill>
              <a:srgbClr val="b8ca78"/>
            </a:solidFill>
            <a:miter/>
          </a:ln>
        </p:spPr>
        <p:txBody>
          <a:bodyPr anchor="t">
            <a:normAutofit/>
          </a:bodyPr>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les force meeting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de show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r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d customer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d distributors</a:t>
            </a:r>
            <a:endParaRPr b="0" lang="en-US" sz="2400" spc="-1" strike="noStrike">
              <a:solidFill>
                <a:srgbClr val="000000"/>
              </a:solidFill>
              <a:latin typeface="Calibri"/>
            </a:endParaRPr>
          </a:p>
        </p:txBody>
      </p:sp>
      <p:sp>
        <p:nvSpPr>
          <p:cNvPr id="10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D77F-8FF9-420F-A472-21DA0C158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032">
                                            <p:txEl>
                                              <p:pRg st="0" end="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032">
                                            <p:txEl>
                                              <p:pRg st="1" end="1"/>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032">
                                            <p:txEl>
                                              <p:pRg st="2" end="2"/>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032">
                                            <p:txEl>
                                              <p:pRg st="3" end="3"/>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0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5" name="Picture 4" descr="cid:3287383400_2177562"/>
          <p:cNvPicPr/>
          <p:nvPr/>
        </p:nvPicPr>
        <p:blipFill>
          <a:blip r:embed="rId1"/>
          <a:stretch/>
        </p:blipFill>
        <p:spPr>
          <a:xfrm>
            <a:off x="533520" y="685800"/>
            <a:ext cx="8118360" cy="2647800"/>
          </a:xfrm>
          <a:prstGeom prst="rect">
            <a:avLst/>
          </a:prstGeom>
          <a:ln w="0">
            <a:noFill/>
          </a:ln>
        </p:spPr>
      </p:pic>
      <p:sp>
        <p:nvSpPr>
          <p:cNvPr id="1036"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37"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roduction </a:t>
            </a:r>
            <a:endParaRPr b="0" lang="en-US" sz="34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mprehensive competitor analysis includes the following four area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ng-term objectives and motivations of the competitor</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engths and weakness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ing tactics</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7D86-DA09-453B-943A-3E03A1FEA4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ong-Term Objectives and Motivations</a:t>
            </a:r>
            <a:br>
              <a:rPr sz="3400"/>
            </a:br>
            <a:r>
              <a:rPr b="0" lang="en-US" sz="3400" spc="-1" strike="noStrike">
                <a:solidFill>
                  <a:srgbClr val="000000"/>
                </a:solidFill>
                <a:latin typeface="Calibri"/>
              </a:rPr>
              <a:t>of the Competitor</a:t>
            </a:r>
            <a:endParaRPr b="0" lang="en-US" sz="3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determine the strategy and tactical move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the objectives one can derive what the motivations of your competitor are in a specific business or market</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identify the long term objectives and motivations of a competitor examine:</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on and mission statement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ual report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s releas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t report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ations and speeches of executives</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86D3-F5E3-4AA0-8698-B9F5295FF3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02">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02">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02">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02">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02">
                                            <p:txEl>
                                              <p:pRg st="4" end="4"/>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02">
                                            <p:txEl>
                                              <p:pRg st="5" end="5"/>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02">
                                            <p:txEl>
                                              <p:pRg st="6" end="6"/>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0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rengths and Weaknesses</a:t>
            </a:r>
            <a:endParaRPr b="0" lang="en-US" sz="3400" spc="-1" strike="noStrike">
              <a:solidFill>
                <a:srgbClr val="000000"/>
              </a:solidFill>
              <a:latin typeface="Calibri"/>
            </a:endParaRPr>
          </a:p>
        </p:txBody>
      </p:sp>
      <p:sp>
        <p:nvSpPr>
          <p:cNvPr id="1005"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ssessment of strengths and weaknesses helps you to:</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dict competitor’s actions and initiativ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identify points of difference to position your products and servic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43B3-875F-46DE-A4EE-70791D4024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05">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eps in the Assessment of Strengths and Weaknesses</a:t>
            </a:r>
            <a:endParaRPr b="0" lang="en-US" sz="3400" spc="-1" strike="noStrike">
              <a:solidFill>
                <a:srgbClr val="000000"/>
              </a:solidFill>
              <a:latin typeface="Calibri"/>
            </a:endParaRPr>
          </a:p>
        </p:txBody>
      </p:sp>
      <p:sp>
        <p:nvSpPr>
          <p:cNvPr id="10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3D0E-2A2F-480E-8E9B-1F9A2A5E07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9" name="Freeform 6"/>
          <p:cNvSpPr/>
          <p:nvPr/>
        </p:nvSpPr>
        <p:spPr>
          <a:xfrm>
            <a:off x="914400" y="1625760"/>
            <a:ext cx="5913360" cy="1033200"/>
          </a:xfrm>
          <a:prstGeom prst="pie">
            <a:avLst/>
          </a:prstGeom>
          <a:solidFill>
            <a:srgbClr val="4f81bd"/>
          </a:solidFill>
          <a:ln w="25560">
            <a:solidFill>
              <a:srgbClr val="ffffff"/>
            </a:solidFill>
            <a:miter/>
          </a:ln>
        </p:spPr>
        <p:style>
          <a:lnRef idx="0"/>
          <a:fillRef idx="0"/>
          <a:effectRef idx="0"/>
          <a:fontRef idx="minor"/>
        </p:style>
        <p:txBody>
          <a:bodyPr lIns="106560" rIns="1248840" tIns="106560" bIns="10656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Success factors in a market have to be determined</a:t>
            </a:r>
            <a:endParaRPr b="0" lang="en-US" sz="2000" spc="-1" strike="noStrike">
              <a:solidFill>
                <a:srgbClr val="000000"/>
              </a:solidFill>
              <a:latin typeface="Arial"/>
            </a:endParaRPr>
          </a:p>
        </p:txBody>
      </p:sp>
      <p:sp>
        <p:nvSpPr>
          <p:cNvPr id="1010" name="Freeform 7"/>
          <p:cNvSpPr/>
          <p:nvPr/>
        </p:nvSpPr>
        <p:spPr>
          <a:xfrm>
            <a:off x="1409760" y="2847960"/>
            <a:ext cx="5913360" cy="1033560"/>
          </a:xfrm>
          <a:prstGeom prst="pie">
            <a:avLst/>
          </a:prstGeom>
          <a:solidFill>
            <a:srgbClr val="4f81bd"/>
          </a:solidFill>
          <a:ln w="25560">
            <a:solidFill>
              <a:srgbClr val="ffffff"/>
            </a:solidFill>
            <a:miter/>
          </a:ln>
        </p:spPr>
        <p:style>
          <a:lnRef idx="0"/>
          <a:fillRef idx="0"/>
          <a:effectRef idx="0"/>
          <a:fontRef idx="minor"/>
        </p:style>
        <p:txBody>
          <a:bodyPr lIns="106560" rIns="1273680" tIns="106560" bIns="10656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The success factors are weighted according</a:t>
            </a:r>
            <a:endParaRPr b="0" lang="en-US" sz="2000" spc="-1" strike="noStrike">
              <a:solidFill>
                <a:srgbClr val="000000"/>
              </a:solidFill>
              <a:latin typeface="Arial"/>
            </a:endParaRPr>
          </a:p>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to their importance</a:t>
            </a:r>
            <a:endParaRPr b="0" lang="en-US" sz="2000" spc="-1" strike="noStrike">
              <a:solidFill>
                <a:srgbClr val="000000"/>
              </a:solidFill>
              <a:latin typeface="Arial"/>
            </a:endParaRPr>
          </a:p>
        </p:txBody>
      </p:sp>
      <p:sp>
        <p:nvSpPr>
          <p:cNvPr id="1011" name="Freeform 8"/>
          <p:cNvSpPr/>
          <p:nvPr/>
        </p:nvSpPr>
        <p:spPr>
          <a:xfrm>
            <a:off x="1897200" y="4068720"/>
            <a:ext cx="5913360" cy="1033560"/>
          </a:xfrm>
          <a:prstGeom prst="pie">
            <a:avLst/>
          </a:prstGeom>
          <a:solidFill>
            <a:srgbClr val="4f81bd"/>
          </a:solidFill>
          <a:ln w="25560">
            <a:solidFill>
              <a:srgbClr val="ffffff"/>
            </a:solidFill>
            <a:miter/>
          </a:ln>
        </p:spPr>
        <p:style>
          <a:lnRef idx="0"/>
          <a:fillRef idx="0"/>
          <a:effectRef idx="0"/>
          <a:fontRef idx="minor"/>
        </p:style>
        <p:txBody>
          <a:bodyPr lIns="106560" rIns="1266120" tIns="106560" bIns="10656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The competitor is rated on each success</a:t>
            </a:r>
            <a:endParaRPr b="0" lang="en-US" sz="2000" spc="-1" strike="noStrike">
              <a:solidFill>
                <a:srgbClr val="000000"/>
              </a:solidFill>
              <a:latin typeface="Arial"/>
            </a:endParaRPr>
          </a:p>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factor</a:t>
            </a:r>
            <a:endParaRPr b="0" lang="en-US" sz="2000" spc="-1" strike="noStrike">
              <a:solidFill>
                <a:srgbClr val="000000"/>
              </a:solidFill>
              <a:latin typeface="Arial"/>
            </a:endParaRPr>
          </a:p>
        </p:txBody>
      </p:sp>
      <p:sp>
        <p:nvSpPr>
          <p:cNvPr id="1012" name="Freeform 9"/>
          <p:cNvSpPr/>
          <p:nvPr/>
        </p:nvSpPr>
        <p:spPr>
          <a:xfrm>
            <a:off x="2392200" y="5291280"/>
            <a:ext cx="5913720" cy="1033200"/>
          </a:xfrm>
          <a:prstGeom prst="pie">
            <a:avLst/>
          </a:prstGeom>
          <a:solidFill>
            <a:srgbClr val="4f81bd"/>
          </a:solidFill>
          <a:ln w="25560">
            <a:solidFill>
              <a:srgbClr val="ffffff"/>
            </a:solidFill>
            <a:miter/>
          </a:ln>
        </p:spPr>
        <p:style>
          <a:lnRef idx="0"/>
          <a:fillRef idx="0"/>
          <a:effectRef idx="0"/>
          <a:fontRef idx="minor"/>
        </p:style>
        <p:txBody>
          <a:bodyPr lIns="106560" rIns="1273680" tIns="106560" bIns="10656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Multiply the rating by the importance</a:t>
            </a:r>
            <a:endParaRPr b="0" lang="en-US" sz="2000" spc="-1" strike="noStrike">
              <a:solidFill>
                <a:srgbClr val="000000"/>
              </a:solidFill>
              <a:latin typeface="Arial"/>
            </a:endParaRPr>
          </a:p>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weight</a:t>
            </a:r>
            <a:endParaRPr b="0" lang="en-US" sz="2000" spc="-1" strike="noStrike">
              <a:solidFill>
                <a:srgbClr val="000000"/>
              </a:solidFill>
              <a:latin typeface="Arial"/>
            </a:endParaRPr>
          </a:p>
        </p:txBody>
      </p:sp>
      <p:sp>
        <p:nvSpPr>
          <p:cNvPr id="1013" name="Freeform 10"/>
          <p:cNvSpPr/>
          <p:nvPr/>
        </p:nvSpPr>
        <p:spPr>
          <a:xfrm>
            <a:off x="6156360" y="2417760"/>
            <a:ext cx="671400" cy="671400"/>
          </a:xfrm>
          <a:custGeom>
            <a:avLst/>
            <a:gdLst/>
            <a:ahLst/>
            <a:rect l="l" t="t" r="r" b="b"/>
            <a:pathLst>
              <a:path w="671957" h="671957">
                <a:moveTo>
                  <a:pt x="0" y="369576"/>
                </a:moveTo>
                <a:lnTo>
                  <a:pt x="151190" y="369576"/>
                </a:lnTo>
                <a:lnTo>
                  <a:pt x="151190" y="0"/>
                </a:lnTo>
                <a:lnTo>
                  <a:pt x="520767" y="0"/>
                </a:lnTo>
                <a:lnTo>
                  <a:pt x="520767" y="369576"/>
                </a:lnTo>
                <a:lnTo>
                  <a:pt x="671957" y="369576"/>
                </a:lnTo>
                <a:lnTo>
                  <a:pt x="335979" y="671957"/>
                </a:lnTo>
                <a:lnTo>
                  <a:pt x="0" y="369576"/>
                </a:lnTo>
                <a:close/>
              </a:path>
            </a:pathLst>
          </a:custGeom>
          <a:solidFill>
            <a:srgbClr val="d0d8e8">
              <a:alpha val="90000"/>
            </a:srgbClr>
          </a:solidFill>
          <a:ln w="25560">
            <a:solidFill>
              <a:srgbClr val="d0d8e8">
                <a:alpha val="90000"/>
              </a:srgbClr>
            </a:solidFill>
            <a:round/>
          </a:ln>
        </p:spPr>
        <p:style>
          <a:lnRef idx="0"/>
          <a:fillRef idx="0"/>
          <a:effectRef idx="0"/>
          <a:fontRef idx="minor"/>
        </p:style>
        <p:txBody>
          <a:bodyPr lIns="189000" rIns="189000" tIns="37800" bIns="204120" anchor="ctr">
            <a:noAutofit/>
          </a:bodyPr>
          <a:p>
            <a:endParaRPr b="0" lang="en-US" sz="1800" spc="-1" strike="noStrike">
              <a:solidFill>
                <a:srgbClr val="000000"/>
              </a:solidFill>
              <a:latin typeface="Arial"/>
            </a:endParaRPr>
          </a:p>
        </p:txBody>
      </p:sp>
      <p:sp>
        <p:nvSpPr>
          <p:cNvPr id="1014" name="Freeform 11"/>
          <p:cNvSpPr/>
          <p:nvPr/>
        </p:nvSpPr>
        <p:spPr>
          <a:xfrm>
            <a:off x="6649920" y="3638520"/>
            <a:ext cx="673200" cy="673200"/>
          </a:xfrm>
          <a:custGeom>
            <a:avLst/>
            <a:gdLst/>
            <a:ahLst/>
            <a:rect l="l" t="t" r="r" b="b"/>
            <a:pathLst>
              <a:path w="671957" h="671957">
                <a:moveTo>
                  <a:pt x="0" y="369576"/>
                </a:moveTo>
                <a:lnTo>
                  <a:pt x="151190" y="369576"/>
                </a:lnTo>
                <a:lnTo>
                  <a:pt x="151190" y="0"/>
                </a:lnTo>
                <a:lnTo>
                  <a:pt x="520767" y="0"/>
                </a:lnTo>
                <a:lnTo>
                  <a:pt x="520767" y="369576"/>
                </a:lnTo>
                <a:lnTo>
                  <a:pt x="671957" y="369576"/>
                </a:lnTo>
                <a:lnTo>
                  <a:pt x="335979" y="671957"/>
                </a:lnTo>
                <a:lnTo>
                  <a:pt x="0" y="369576"/>
                </a:lnTo>
                <a:close/>
              </a:path>
            </a:pathLst>
          </a:custGeom>
          <a:solidFill>
            <a:srgbClr val="d0d8e8">
              <a:alpha val="90000"/>
            </a:srgbClr>
          </a:solidFill>
          <a:ln w="25560">
            <a:solidFill>
              <a:srgbClr val="d0d8e8">
                <a:alpha val="90000"/>
              </a:srgbClr>
            </a:solidFill>
            <a:round/>
          </a:ln>
        </p:spPr>
        <p:style>
          <a:lnRef idx="0"/>
          <a:fillRef idx="0"/>
          <a:effectRef idx="0"/>
          <a:fontRef idx="minor"/>
        </p:style>
        <p:txBody>
          <a:bodyPr lIns="189000" rIns="189000" tIns="37800" bIns="204120" anchor="ctr">
            <a:noAutofit/>
          </a:bodyPr>
          <a:p>
            <a:endParaRPr b="0" lang="en-US" sz="1800" spc="-1" strike="noStrike">
              <a:solidFill>
                <a:srgbClr val="000000"/>
              </a:solidFill>
              <a:latin typeface="Arial"/>
            </a:endParaRPr>
          </a:p>
        </p:txBody>
      </p:sp>
      <p:sp>
        <p:nvSpPr>
          <p:cNvPr id="1015" name="Freeform 12"/>
          <p:cNvSpPr/>
          <p:nvPr/>
        </p:nvSpPr>
        <p:spPr>
          <a:xfrm>
            <a:off x="7139160" y="4861080"/>
            <a:ext cx="671400" cy="671400"/>
          </a:xfrm>
          <a:custGeom>
            <a:avLst/>
            <a:gdLst/>
            <a:ahLst/>
            <a:rect l="l" t="t" r="r" b="b"/>
            <a:pathLst>
              <a:path w="671957" h="671957">
                <a:moveTo>
                  <a:pt x="0" y="369576"/>
                </a:moveTo>
                <a:lnTo>
                  <a:pt x="151190" y="369576"/>
                </a:lnTo>
                <a:lnTo>
                  <a:pt x="151190" y="0"/>
                </a:lnTo>
                <a:lnTo>
                  <a:pt x="520767" y="0"/>
                </a:lnTo>
                <a:lnTo>
                  <a:pt x="520767" y="369576"/>
                </a:lnTo>
                <a:lnTo>
                  <a:pt x="671957" y="369576"/>
                </a:lnTo>
                <a:lnTo>
                  <a:pt x="335979" y="671957"/>
                </a:lnTo>
                <a:lnTo>
                  <a:pt x="0" y="369576"/>
                </a:lnTo>
                <a:close/>
              </a:path>
            </a:pathLst>
          </a:custGeom>
          <a:solidFill>
            <a:srgbClr val="d0d8e8">
              <a:alpha val="90000"/>
            </a:srgbClr>
          </a:solidFill>
          <a:ln w="25560">
            <a:solidFill>
              <a:srgbClr val="d0d8e8">
                <a:alpha val="90000"/>
              </a:srgbClr>
            </a:solidFill>
            <a:round/>
          </a:ln>
        </p:spPr>
        <p:style>
          <a:lnRef idx="0"/>
          <a:fillRef idx="0"/>
          <a:effectRef idx="0"/>
          <a:fontRef idx="minor"/>
        </p:style>
        <p:txBody>
          <a:bodyPr lIns="189000" rIns="189000" tIns="37800" bIns="2041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1">
                                  <p:stCondLst>
                                    <p:cond delay="0"/>
                                  </p:stCondLst>
                                  <p:childTnLst>
                                    <p:set>
                                      <p:cBhvr>
                                        <p:cTn id="76" dur="1" fill="hold">
                                          <p:stCondLst>
                                            <p:cond delay="0"/>
                                          </p:stCondLst>
                                        </p:cTn>
                                        <p:tgtEl>
                                          <p:spTgt spid="1009"/>
                                        </p:tgtEl>
                                        <p:attrNameLst>
                                          <p:attrName>style.visibility</p:attrName>
                                        </p:attrNameLst>
                                      </p:cBhvr>
                                      <p:to>
                                        <p:strVal val="visible"/>
                                      </p:to>
                                    </p:set>
                                    <p:animEffect filter="wipe(up)" transition="in">
                                      <p:cBhvr additive="repl">
                                        <p:cTn id="77" dur="500"/>
                                        <p:tgtEl>
                                          <p:spTgt spid="100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1013"/>
                                        </p:tgtEl>
                                        <p:attrNameLst>
                                          <p:attrName>style.visibility</p:attrName>
                                        </p:attrNameLst>
                                      </p:cBhvr>
                                      <p:to>
                                        <p:strVal val="visible"/>
                                      </p:to>
                                    </p:set>
                                    <p:animEffect filter="wipe(up)" transition="in">
                                      <p:cBhvr additive="repl">
                                        <p:cTn id="82" dur="500"/>
                                        <p:tgtEl>
                                          <p:spTgt spid="101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1010"/>
                                        </p:tgtEl>
                                        <p:attrNameLst>
                                          <p:attrName>style.visibility</p:attrName>
                                        </p:attrNameLst>
                                      </p:cBhvr>
                                      <p:to>
                                        <p:strVal val="visible"/>
                                      </p:to>
                                    </p:set>
                                    <p:animEffect filter="wipe(up)" transition="in">
                                      <p:cBhvr additive="repl">
                                        <p:cTn id="87" dur="500"/>
                                        <p:tgtEl>
                                          <p:spTgt spid="101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1014"/>
                                        </p:tgtEl>
                                        <p:attrNameLst>
                                          <p:attrName>style.visibility</p:attrName>
                                        </p:attrNameLst>
                                      </p:cBhvr>
                                      <p:to>
                                        <p:strVal val="visible"/>
                                      </p:to>
                                    </p:set>
                                    <p:animEffect filter="wipe(up)" transition="in">
                                      <p:cBhvr additive="repl">
                                        <p:cTn id="92" dur="500"/>
                                        <p:tgtEl>
                                          <p:spTgt spid="101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1011"/>
                                        </p:tgtEl>
                                        <p:attrNameLst>
                                          <p:attrName>style.visibility</p:attrName>
                                        </p:attrNameLst>
                                      </p:cBhvr>
                                      <p:to>
                                        <p:strVal val="visible"/>
                                      </p:to>
                                    </p:set>
                                    <p:animEffect filter="wipe(up)" transition="in">
                                      <p:cBhvr additive="repl">
                                        <p:cTn id="97" dur="500"/>
                                        <p:tgtEl>
                                          <p:spTgt spid="1011"/>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1015"/>
                                        </p:tgtEl>
                                        <p:attrNameLst>
                                          <p:attrName>style.visibility</p:attrName>
                                        </p:attrNameLst>
                                      </p:cBhvr>
                                      <p:to>
                                        <p:strVal val="visible"/>
                                      </p:to>
                                    </p:set>
                                    <p:animEffect filter="wipe(up)" transition="in">
                                      <p:cBhvr additive="repl">
                                        <p:cTn id="102" dur="500"/>
                                        <p:tgtEl>
                                          <p:spTgt spid="101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012"/>
                                        </p:tgtEl>
                                        <p:attrNameLst>
                                          <p:attrName>style.visibility</p:attrName>
                                        </p:attrNameLst>
                                      </p:cBhvr>
                                      <p:to>
                                        <p:strVal val="visible"/>
                                      </p:to>
                                    </p:set>
                                    <p:animEffect filter="wipe(up)" transition="in">
                                      <p:cBhvr additive="repl">
                                        <p:cTn id="107" dur="500"/>
                                        <p:tgtEl>
                                          <p:spTgt spid="1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5-1 - Strengths and Weakness Analysis</a:t>
            </a:r>
            <a:endParaRPr b="0" lang="en-US" sz="3400" spc="-1" strike="noStrike">
              <a:solidFill>
                <a:srgbClr val="000000"/>
              </a:solidFill>
              <a:latin typeface="Calibri"/>
            </a:endParaRPr>
          </a:p>
        </p:txBody>
      </p:sp>
      <p:sp>
        <p:nvSpPr>
          <p:cNvPr id="10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89B3-4510-4E94-BF56-80AABBAED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8" name="Picture 4" descr="hjkl.PNG"/>
          <p:cNvPicPr/>
          <p:nvPr/>
        </p:nvPicPr>
        <p:blipFill>
          <a:blip r:embed="rId1"/>
          <a:stretch/>
        </p:blipFill>
        <p:spPr>
          <a:xfrm>
            <a:off x="609480" y="1822320"/>
            <a:ext cx="7925040" cy="412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rategies</a:t>
            </a:r>
            <a:endParaRPr b="0" lang="en-US" sz="34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trategy profile illustrates the strategic priorities and compares them with your own company</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can identify the areas of strategic overlap and areas of difference</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mprehensive strategy assessment leads to a strategy profile containing:</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rtfolio analysi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stomer value analysi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owth strategy</a:t>
            </a:r>
            <a:endParaRPr b="0" lang="en-US" sz="2400" spc="-1" strike="noStrike">
              <a:solidFill>
                <a:srgbClr val="000000"/>
              </a:solidFill>
              <a:latin typeface="Calibri"/>
            </a:endParaRPr>
          </a:p>
        </p:txBody>
      </p:sp>
      <p:sp>
        <p:nvSpPr>
          <p:cNvPr id="10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441B-EEFE-4F43-9BBD-993A259EB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020">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020">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020">
                                            <p:txEl>
                                              <p:pRg st="2" end="2"/>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020">
                                            <p:txEl>
                                              <p:pRg st="3" end="3"/>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020">
                                            <p:txEl>
                                              <p:pRg st="4" end="4"/>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0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rategies</a:t>
            </a:r>
            <a:endParaRPr b="0" lang="en-US" sz="34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19080">
            <a:solidFill>
              <a:srgbClr val="b8ca78"/>
            </a:solidFill>
            <a:miter/>
          </a:ln>
        </p:spPr>
        <p:txBody>
          <a:bodyPr anchor="t">
            <a:normAutofit/>
          </a:bodyPr>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ing approach</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ensive strategy</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ensive strategy</a:t>
            </a:r>
            <a:endParaRPr b="0" lang="en-US" sz="2400" spc="-1" strike="noStrike">
              <a:solidFill>
                <a:srgbClr val="000000"/>
              </a:solidFill>
              <a:latin typeface="Calibri"/>
            </a:endParaRPr>
          </a:p>
        </p:txBody>
      </p:sp>
      <p:sp>
        <p:nvSpPr>
          <p:cNvPr id="10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A47C-9507-4A95-A1E4-C5144DFDE4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023">
                                            <p:txEl>
                                              <p:pRg st="0" end="0"/>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023">
                                            <p:txEl>
                                              <p:pRg st="1" end="1"/>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0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5-2 - Competitor Strategy Profile</a:t>
            </a:r>
            <a:endParaRPr b="0" lang="en-US" sz="3400" spc="-1" strike="noStrike">
              <a:solidFill>
                <a:srgbClr val="000000"/>
              </a:solidFill>
              <a:latin typeface="Calibri"/>
            </a:endParaRPr>
          </a:p>
        </p:txBody>
      </p:sp>
      <p:sp>
        <p:nvSpPr>
          <p:cNvPr id="10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96A3-1E87-4C26-BD89-A1DA65A5DA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7" name="Picture 4" descr="4521.PNG"/>
          <p:cNvPicPr/>
          <p:nvPr/>
        </p:nvPicPr>
        <p:blipFill>
          <a:blip r:embed="rId1"/>
          <a:stretch/>
        </p:blipFill>
        <p:spPr>
          <a:xfrm>
            <a:off x="1143000" y="1512720"/>
            <a:ext cx="6978600" cy="505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14T11:31:20Z</dcterms:modified>
  <cp:revision>387</cp:revision>
  <dc:subject/>
  <dc:title>Slide 1</dc:title>
</cp:coreProperties>
</file>