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AAC9-97A3-473D-8E99-EC90AC02C55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0CE1-3017-44D7-83E5-F8D9811B7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st way to perform this analysis is by combining several sources of informa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stomer survey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les force meeting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alyst repor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scussions with shared suppliers,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6F08-84D7-431E-8C34-E8E080D43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first column, the success factors in a particular industry are list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econd column contains their import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erformance of our company (We) and the competitor (Competitor A) is rated on a 5-point sca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wo weighted scores are compu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mmed weighted scores indicate the overall performance of the two compani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2B88-0773-497A-AB65-42532FDC8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D36A-D94E-48E2-B33E-72C906F5D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ources of competitor data for this analysis can be:</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Vision and mission statement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nnual report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ress release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Newspaper article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nalyst report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rade show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air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ales force meeting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Ex-employee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hared supplier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hared customers</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Shared distributors</a:t>
            </a:r>
            <a:endParaRPr b="0" lang="en-US" sz="1100" spc="-1" strike="noStrike">
              <a:solidFill>
                <a:srgbClr val="000000"/>
              </a:solidFill>
              <a:latin typeface="Calibri"/>
            </a:endParaRPr>
          </a:p>
          <a:p>
            <a:pPr lvl="1" marL="457200" indent="0">
              <a:lnSpc>
                <a:spcPct val="8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6F1B-4CF8-4C26-BB3C-43A646D6F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AF7C9E-2266-4A70-97F0-6B9CFAFFBB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367CC-E2EE-4CB1-A005-7A97CC71FF3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C31E673-EC49-4DEB-9330-78B619FFB47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9E560B5-A0E3-42BE-B6AB-F153E380895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BDFB67F-2148-4EB4-8B1E-0443BC43C38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76D012-C7D1-4A92-BA77-1C2F6739BB4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D68AB4D-7742-4654-956A-4F62EC5E294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01FA229-32A7-479E-88FB-9629FEF6CBC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A8A23F6-02B2-4F6C-8FAF-41E154B4EB8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43A7A0F-64B5-4C1F-90EA-90834C895AE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706261E-0AD5-41E1-A697-D449F500253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32321AF-000F-4EC8-97D7-A43E8094713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39A731-E824-49B1-9410-9FCAE63690E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97ABDE8-7F4C-4079-BF4E-07EBA6F7A9F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0C5341A-0543-4569-AD1A-0BCD8D56F35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B1BE85F-5F43-4636-8E64-7739A90EF32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5A2EB65-FA8B-41A5-9F0D-D90E21A2562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81773B9-03D3-4C64-8B43-0503A6D5A54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053312-3A36-44D5-B55C-544F507B806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062DEC7-D145-46AE-A23C-C3D4276FF6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4B070D8-B97E-4112-AEBE-42EAE293EC1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E915B21-09A5-4601-B55F-CE119B32FEF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95D181A-858F-437F-B3DC-E771F598268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53A16E-121A-4AEF-9B31-30D6E617D2F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4462170-3934-4890-AD02-05AD52EB34B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19565E2-1E58-47FC-AB0A-5AB1E3B6606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05E75DF-BEA9-4288-811E-38F25185246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5623681-13E0-45BC-8D8F-EF24DEBB4FB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1E2B994-6950-47F0-87EA-9B279A45E5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BE766E3-7560-43AC-B13D-7F6B80E7FCC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5D6E30A-84B6-418E-B74C-3710026FA56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20B85D-569A-40EC-8E40-4D3E5EC3B4A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83BF7BC-7D52-4DDC-A857-EEBCBA8625A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309EE96-8921-4C0B-8BE9-B9ABB3C258D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1338C06-3757-4666-A8A4-8F63DBECAC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A22551-E698-45A0-9407-B6980FAE5A7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EA23A56-A09D-41B6-BEA8-33C6532CF54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078431F-046B-4838-8FAC-A44FB952F64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F2E584A-E80E-476E-9CDD-794D34A6B88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5135523-2E63-4F68-BF19-C5827498A5E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FC11E45-15A1-4855-AAA2-F5407B40EDE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18FC3EB-B3EB-4C70-83D3-92B695C34FF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21D0D29-75AF-4582-8F50-92225671F8D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756F4E5-AEF2-4537-A155-13C9A570290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79324C6-EC2D-4D72-97BD-93A2A6012FE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E7E3EC-E5ED-43E2-AE77-9659FE04C8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5200FCF-EEF4-4BE3-9232-157697E8B78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88DF1EF-D32B-486F-AD7A-FF732F0F0CE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49265AA-99FC-4093-A7B4-ACADC403BBA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FD35287-7520-413A-8A16-3351D2CD8F5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8803CD4-3F8A-4119-B519-4A357B10442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601DC03-42AD-4C55-85C9-865724E7FE0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BE4C4C5-222E-49EB-9009-47C867C00C3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42B61C7-6F2D-44C8-9717-DB593461465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0FA9B1F-4069-4F38-BAC4-D8B4B75BBCB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D9EC68F-B33B-4F70-9765-E10F57F42C4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4419C9-AAAA-4981-8205-C0F6C715B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F314A29-0C68-4727-9B9D-94C229A0EC4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17CAAAD-67E9-466C-9428-C0031BED8A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DE165B8-F33D-41B6-B8C7-491F1222EB6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1FA0F62-8BD7-423D-9155-F586CC0F26C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A27B8FF-2C44-4F36-82AB-C270390547F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542A367-0C74-4C2E-AAF1-B68BE2A20C5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A45E941-24EB-4F66-B675-D92DBDA7FBE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422C6A1-5896-4322-9607-CF233E4CC03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0805DC8-BF4A-44EB-B4C6-5F8EA9F6058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BB6E072-9EF7-4093-9D25-15BCD734F89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CDB49C-131C-4CD8-89D9-57B37A077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56D8338-9704-409D-B304-9ADD0323786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05B5204-5488-4ECE-8EBE-2AFB2476E99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18A6166-B1E8-4DEB-97DF-AE7725773E6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0C5E28E-C651-4398-B524-483523CE4AA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19367D5-9DF4-4E23-BD0B-B72A13739FB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3669CFC-DE57-4365-9678-5F89699D481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1D80CF5-0D3E-4EAA-8547-15F3186CDFD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9D37AD7-B912-4624-A23A-9D8B1F53184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355A01E-41C3-44B8-8A85-1B6568AD49A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F2CBD85F-75EC-4BD8-9DB0-7E413CEC745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5D760A-4B52-4106-B083-B9333734E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C88FE4F-D230-471E-BF53-78EFBF26434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93CD057-611B-41AB-BB5A-82D9051FB9B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093D058-13F3-4FAB-A881-5FB13064305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0EB65BB-6254-49DA-BF68-A94CBB0C5EF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26A6CB5-9FBD-4D88-8F5E-9EAD2497355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68BDA2B-410B-431D-BAC1-DF559DB74E1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3131D51-61A9-4764-986C-D47F60CF6F1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70CDEEA-7391-4C72-BD7C-611A17C0C60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3460F36-2A1D-4766-B030-3398FF646DE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B8BD4CD9-76CF-4B69-87CB-B79D7DEF2B73}"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00F0FA-BEDB-4B3C-A81B-CF2C27A5F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37C8D248-D52B-4E1A-A7DA-202D88EE1F6E}"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C4EA50E-EFB3-4BCD-8C88-7A44FFEAEE08}"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EDF20FF-AB3F-4DCA-9B46-FEBBA1446A8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F82B12F-9E6B-4B98-A2D0-C99B3A70E35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3307EDE-81AE-4CC6-A99D-6AB81FE7BCA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EE02BFB-F386-40B8-84B0-8C69C1FE652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BE4CF3A-6B38-4D7A-8411-C9AABE90E3E2}"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847A5EC-13A7-4DBC-AE8D-C61D1EE39B8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DB2E001-E8B1-4890-9EF1-097616C88B0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E16A1A3-5972-40A2-A019-0F30C377E4A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B11699-8F7F-439E-9B1B-83A96E174E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CDB1A14-F899-4558-BC7D-329B9B88E76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AEAFE248-49F5-4F82-A2BC-EFAE41412202}"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5F58CDB-0DF4-4A48-A8FC-F8A7B15187E5}"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2453AE46-75EA-433B-91A5-D4E4E970DDA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B3FF268-53BC-45DC-A49A-A50853350B3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8AF62DE-593C-4ACD-B3E2-5D61D7CE1DB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0D4A2212-F6B0-413E-B735-062CDB89922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2CF0B28-6C39-4688-9B9A-D5F25322CB6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AA790A1-F9B6-4C23-8F97-EEB352BCD5F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4E6590C-8F32-4B75-B3DC-206ACA5E7B5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46D3D-1E8E-4F75-85D5-FA48FBAFA5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565ECF-99DE-4252-BB42-8FCA5FADCB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1CBBBBF-3101-4A8B-821D-AC9C88B209D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A10798E-CD09-44C0-8ED4-5252E1BA6C5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F51DBCBE-8A2C-4022-9992-EB5C38F46E1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908BB74E-7AF4-4F09-B124-E464A207D5A9}"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CF9171F9-CFA9-4442-BBAE-02A75DB05997}"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6A105CC4-98E2-4186-936C-503FC908F2B9}"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17B8CD5-0AE4-4883-8CD5-6E751986D59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9C57AA3C-5116-40BA-B8B7-2752E01B2062}"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B69B85DC-E4D5-48F4-B1EA-BDDFB6CDB099}"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A4200B9E-B6A7-4A6B-8407-A12C8DAA37E0}"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56EE21-71F1-41D8-8A37-EBC2FE440F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33B205A-1E95-473D-A576-8FFD013B3E1A}"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224E5D8-08D7-4039-8BDE-E5A98526C4E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EAAAA41-74B7-440E-9EF5-A6C922C02940}"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4928ED8-0B77-4BC8-BE6B-1037418F775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36585D30-8C90-4A14-B732-4710DDD9DED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77F31868-F83E-409A-8918-818EFA7D84F9}"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D6CB060A-4A13-42DB-91A4-16B7A795E61D}"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AEFB9507-FC66-45C9-9CF8-EE3AEB5F7D5B}"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8558F2B3-9ADC-4981-B8F0-D9A384F2BAD9}"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66A32BC-F5F3-4EBC-BCDD-68964A7DAFFC}"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1BBDA6-38DB-4778-82D3-233DE9F17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E2DE990F-2629-4761-852A-38B15B48441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A4390BB7-E866-40D7-B516-00269F58355A}"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BE9460E6-A5B7-4108-93A7-0BB2429CAB34}"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E1233A7-7102-4384-B527-5E5AB60B185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740DE51-53CF-4CFF-BA57-52C54D310B7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E3B8B38-16B8-4AB2-B601-7EAEC3E5720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9110E169-8406-4493-8212-8B76F6B697B5}"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BB76A2DD-EB2E-45A2-91A3-7841D08472D0}"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3345666F-914C-4A34-8825-30A656B8B789}"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DC9E7287-5F78-4983-B7E7-97D44139AC56}"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D82D84B-F84F-4692-8B88-FC9FE1860A6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7D210837-7380-4B45-87E7-F7F900361484}"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A087BFA6-63CA-4449-960E-905335D6E74D}"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BF72578C-2CCA-4BD3-AE9F-A974447EF4D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D38C0BD3-28DA-404A-A814-B694C0A77218}"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837BA4F-2EBC-4875-B90E-361FF7151A58}"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649CC89-5F74-4E8D-A9A5-51F07CAAB8F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13441B8-C6C6-4D4F-A2EC-6265409CF46A}"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51759DF-E46D-4BD2-A6F6-452460069E5F}"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14A8071F-A84F-4DFE-BCCC-7FC4FBE4850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A63507D8-01D9-44BF-9458-5A6FD6E3CC72}"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4272967-D1ED-4A55-8231-D179EDE94FB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83E20CC1-F964-4F54-8557-49FBD613AB0D}"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E19423B-3333-4205-A799-E76BB781E86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7DDC93C-BB1C-4918-9AAB-B08F216B247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83D1B59A-8BEE-4651-982B-F04D2CD4D12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2C1ADCC-633F-4B63-BBB1-6B2F2841B4B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1BCD155-F985-40DF-BA3C-77BE8A86552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62B9126F-9C66-478E-A810-FE650EBFB4C7}"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8890A65-1DBC-4578-85C8-F78B0CF959C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897D8A6-7BB2-4BD4-A87C-49FD745E63C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8DF91DC-FDA0-465C-916B-34E15A37882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3227F954-E20E-49E4-84FB-A23869AEF70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6CAC0D65-4599-4075-B9B2-2AD6F6534590}"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28DCD297-7ED4-4268-B760-EFC7B7D20B86}"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B00A3566-119D-4B8E-AAAC-78558942C3EC}"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BC401CEE-0F30-49A5-9657-6DBF6EEADA80}"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77D1F855-6DE1-4FF8-9B40-0C13C60D2DA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0668A69-1BEF-4935-BDD7-F41280108686}"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DD8AE1B-D5A4-418F-9DFA-D47D859681D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63E1FE6-86B4-4C22-AA4F-D420CC7C35D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7E3A2D82-F8C1-4392-A78E-644404BD3DB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5B9A5CE-6639-45FC-9E37-7F35E0898EB6}"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48D6E20-5A5F-4FB0-9210-2EDB46D12EB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7D37F864-5EAC-4440-9943-28C7C462817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D6BB8596-1DE2-4214-A74F-DDEE84F90A79}"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3466FD17-0B72-4FB2-857E-4884152BB24B}"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03587EA2-E20A-42C3-A30D-9EB788CC0233}"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C2602A6-4A82-41FF-9A7C-02130D4C883D}"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0F920FBF-53C2-4988-8347-4BF9D491C1C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E164CD81-5234-4BB7-A353-DC7C557E57E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3AB15B21-53FD-4FC9-A4C0-BA6721354D23}"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AF93795-9687-470E-ABC2-BD2BA277DC81}"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89FFC55-4098-4784-B04D-E8D74F45121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868A4CA-5C51-4861-AC01-F4499D19812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448660A-8730-4A78-8735-8AC9A9763BB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5F494E3-F4B1-494C-8454-21957B354C2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6064E5F2-25EC-41C4-B7C0-4BEB9EE683AE}"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D71CAAB1-15A0-4812-BFA1-533C9876AB24}"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C5345BB5-8EDF-451F-85B1-6F217BBA2585}"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31E3894-9DC6-4ED6-B13E-0B25AA8951E7}"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DEAE6A28-EABF-47CC-AA9C-9EDB079182F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1FB39A57-8DA8-4A6A-B2E3-9AB40CE612C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6A3AB958-D459-4DC0-B103-D92BBB9C4848}"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945A013D-0EAF-495F-9CE4-0A107683EBD6}"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516C5FD-642D-445D-BE3E-04A5FDEA205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5EB4DB2-204B-43D8-99C8-35ACC82841C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CC05897-C9BB-4019-B30F-79C0B56C567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C72FCEFA-D9D4-4630-9249-E8177B0B018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56B3E97E-E797-4D93-A2EB-798243051C0E}"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F4EEA94D-8EDA-4D0D-A1FD-F13D8B56BDD7}"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8689C-8E58-4D07-8E16-5E53B7C91AB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D8B58F-BC0F-4D77-B525-A53AE307E49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192D4F2F-CE30-462B-BD66-A212919E394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F62C0822-9E00-4101-954A-AD5AB7A14A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2C534-04F5-4DC6-86CC-BD4CFB41CB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466FE4F7-77FA-4AEE-B3BB-85CCD82501B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C196C446-4700-4754-BBB3-4461EC370B8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9B5BDE69-25ED-4083-B9E3-33A590F63A1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C1CFEB5-BCA4-4A73-A6E4-5C9381B49C8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D57CAD0-EC43-4B63-AAA7-3BE0DB1A348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DF60132-831C-41EE-AEE2-464778465C3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3AD7CF5-A0BB-4DDF-83AE-0066079A194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962422C1-AA8E-48A9-8D8A-04601E0EFB4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0D5FF16E-770B-41DB-A940-B7AB5B7C090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3AF03BC-2B3E-4C03-86BC-BFAE6ED4D7B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70C5B0-48D0-496D-8013-D20BE753FA5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CCEE97-FF6A-4DB4-8E4A-A8F5E6B68E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8CDE3A-0039-4096-94AD-9E5554F565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DFA156-DFDF-4211-9186-6DFF8263CC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FF9C9CF-3661-47BF-9A82-6B289669D61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8B9602-E6A7-49AA-B900-9055A7564A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33D20B-D853-43A2-B7DC-374C1941DD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BD114A-2DCC-41DF-9E46-2F718DE29F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377819-84B6-4312-A53B-0C8C211109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026A5F-2953-4D5A-96FF-868E40F491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D4F99E-0A94-464A-9B8C-98ABE5624B2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910637A-E5F9-4F92-941A-7D38341D8A8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8AA6FEC-5E1E-4BFB-9DAE-835BC59300E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6F496D0-54E6-463A-8D29-DD12B0DCEA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536556-5CA9-4555-8307-78D18CEBFD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1169A6-8AFA-41EC-A5FC-90ABED4A43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3F047B-6DEF-4876-B4EE-B410BBB951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AA8E57-A7C5-4E00-BCF7-5EBDDFF419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934153-01F8-4FB5-9E2D-73EBCC70C3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6C1F97-5D0C-4E1E-AF51-7E15700775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ED415F-8ACA-4762-A08B-23F7F99E79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A1700D-A906-47BB-B368-B950DB12D4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C1AD5-5A54-4999-B53F-DB28A6F5EB1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89009D-8E50-4D8B-98F2-37DD29343B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100A6A0-13E9-47B5-976F-5A746F3F03E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40147FF-7CB1-4F18-8B5A-7B992285C32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63D8B3A-37C2-4110-B0BD-924F3C60CF7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CF9FBC-3BD6-4C83-AD9B-64708AD2AC6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0BBB800-820E-4F5C-BEFE-FAA85E05E38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2394324-4332-4DA2-9281-D825412FFD5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06960C-3ECD-40B4-AFA3-291A9006D21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3ADB2CE-769B-4D60-A260-2D170B25695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8D3C3A5-7FE9-405A-A1B0-5824B78EE9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313AB-D3FC-4329-8C5B-1461270BAAA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B826DE-D6BF-482C-95BA-31AD4A56F88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832C837-C28E-47C5-871B-9A62BDE3AF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B84AEB-C56D-4EFE-8025-8C9132F8E9B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4F653C0-730D-40C1-94FE-48CC3C501B9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7EC48D6-8BE0-458C-A5EA-7A1304159BF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594BC5C-4DE8-4B76-8847-D40A4745D37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C4D26A4-C334-4ED3-A8F3-9FD46FCC5EE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9AE5B4E-6E37-4DDC-95D5-C8804FAB7A0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509BBF1-A537-4C4C-85AE-7053F6F0AD8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1E30D3A-E5A0-4525-9517-56B7DF49F89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537DF-4B4B-42B5-BEED-B4C77F72DBE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A46023D-7A89-4B59-A882-DAB254CCE76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F6E6DB-D38C-4A4A-9824-B2DBBBAB8B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C550B4-E0AB-4CA8-A5BA-F22BC8DDBEF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4A6302B-8843-4B9D-850E-4B0EAE06DC6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781B657-3DA3-429E-85DE-F48430E4D3B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53BA5F5-B90D-4F81-BEA7-55A450EBD5E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242F60A-F8B4-47A3-ADB0-FBFA1594A8D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332F039-714D-44D6-A850-3B77CCF2E78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6C99F8A-4DBE-4A47-9AAB-400D0853C96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2EAE937-B0F9-43E4-A135-DD67B75A1EF3}"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2347-DC34-42A1-B070-0D1057A4BF6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7BB6-661B-4B73-B7FA-A8F622BF5B7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DA3D-3E7F-453C-BFD0-394268DB0DA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BA6A-3197-4773-AF1A-BE0EA7D1493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CE6A-BCD6-4A4A-8A03-D65536B69218}"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E115-8EFF-4F63-9107-921B980332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8365-99DC-49B7-B13B-A8975FBD0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1F46-9039-42A9-A976-636B0F2242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E805-6979-4328-A607-FB2796CB40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424F-9CD1-4146-A5D0-C96CABEF54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7C20-3293-4952-AEF6-A109BFDF1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3580-CC3C-4B7F-ACA6-E7C9A9A9D2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744A-C587-4E26-A314-3A2C42736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C9A2-5E28-4190-90AC-DB3C5C1EA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5749-11D6-4E73-BDB6-614765F602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AE5F-69DD-41DB-841B-973AB6C2E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B813-33C9-48F2-BC95-4BDDD5974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134A-CAED-49D1-8232-42AF5714AA2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3FED-8961-4BC7-9471-12BACD1EA81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B284-EE4C-4B5A-AE5C-44B3467D81C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EE80-9693-4853-8D05-DA446E90ADE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DB00-E72D-4A2C-8F9E-E27C413F91BF}"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9186-7B46-45CC-A121-E5872C3AB78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te 5</a:t>
            </a:r>
            <a:br>
              <a:rPr sz="3400"/>
            </a:br>
            <a:r>
              <a:rPr b="0" lang="en-US" sz="3400" spc="-1" strike="noStrike">
                <a:solidFill>
                  <a:srgbClr val="000000"/>
                </a:solidFill>
                <a:latin typeface="Calibri"/>
              </a:rPr>
              <a:t>Competitor Analysis—</a:t>
            </a:r>
            <a:br>
              <a:rPr sz="3400"/>
            </a:br>
            <a:r>
              <a:rPr b="0" lang="en-US" sz="3400" spc="-1" strike="noStrike">
                <a:solidFill>
                  <a:srgbClr val="000000"/>
                </a:solidFill>
                <a:latin typeface="Calibri"/>
              </a:rPr>
              <a:t>Competitive Intelligence</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rketing Tactics</a:t>
            </a:r>
            <a:endParaRPr b="0" lang="en-US" sz="3400" spc="-1" strike="noStrike">
              <a:solidFill>
                <a:srgbClr val="000000"/>
              </a:solidFill>
              <a:latin typeface="Calibri"/>
            </a:endParaRPr>
          </a:p>
        </p:txBody>
      </p:sp>
      <p:sp>
        <p:nvSpPr>
          <p:cNvPr id="102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sts of the assessment of the individual marketing decision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relate to positioning, product and brand decisions, pricing, distribution and sales management, and communication</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is step you assess what the competitors actually do</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urce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list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ertising campaign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ion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A5E3-960C-45C1-9B22-E37086EC5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029">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029">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029">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029">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029">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029">
                                            <p:txEl>
                                              <p:pRg st="5" end="5"/>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0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rketing Tactics</a:t>
            </a:r>
            <a:endParaRPr b="0" lang="en-US" sz="3400" spc="-1" strike="noStrike">
              <a:solidFill>
                <a:srgbClr val="000000"/>
              </a:solidFill>
              <a:latin typeface="Calibri"/>
            </a:endParaRPr>
          </a:p>
        </p:txBody>
      </p:sp>
      <p:sp>
        <p:nvSpPr>
          <p:cNvPr id="1032" name=""/>
          <p:cNvSpPr txBox="1"/>
          <p:nvPr/>
        </p:nvSpPr>
        <p:spPr>
          <a:xfrm>
            <a:off x="457200" y="1600200"/>
            <a:ext cx="8229600" cy="4525920"/>
          </a:xfrm>
          <a:prstGeom prst="rect">
            <a:avLst/>
          </a:prstGeom>
          <a:noFill/>
          <a:ln w="19080">
            <a:solidFill>
              <a:srgbClr val="b8ca78"/>
            </a:solidFill>
            <a:miter/>
          </a:ln>
        </p:spPr>
        <p:txBody>
          <a:bodyPr anchor="t">
            <a:normAutofit/>
          </a:bodyPr>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force meeting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de show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r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customer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distributors</a:t>
            </a:r>
            <a:endParaRPr b="0" lang="en-US" sz="2400" spc="-1" strike="noStrike">
              <a:solidFill>
                <a:srgbClr val="000000"/>
              </a:solidFill>
              <a:latin typeface="Calibri"/>
            </a:endParaRPr>
          </a:p>
        </p:txBody>
      </p:sp>
      <p:sp>
        <p:nvSpPr>
          <p:cNvPr id="10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0B90-A3CB-425D-9DFB-FD95AA0CC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032">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032">
                                            <p:txEl>
                                              <p:pRg st="1" end="1"/>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032">
                                            <p:txEl>
                                              <p:pRg st="2" end="2"/>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032">
                                            <p:txEl>
                                              <p:pRg st="3" end="3"/>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0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5" name="Picture 4" descr="cid:3287383400_2177562"/>
          <p:cNvPicPr/>
          <p:nvPr/>
        </p:nvPicPr>
        <p:blipFill>
          <a:blip r:embed="rId1"/>
          <a:stretch/>
        </p:blipFill>
        <p:spPr>
          <a:xfrm>
            <a:off x="533520" y="685800"/>
            <a:ext cx="8118360" cy="2647800"/>
          </a:xfrm>
          <a:prstGeom prst="rect">
            <a:avLst/>
          </a:prstGeom>
          <a:ln w="0">
            <a:noFill/>
          </a:ln>
        </p:spPr>
      </p:pic>
      <p:sp>
        <p:nvSpPr>
          <p:cNvPr id="1036"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37"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 </a:t>
            </a:r>
            <a:endParaRPr b="0" lang="en-US" sz="34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mprehensive competitor analysis includes the following four area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ng-term objectives and motivations of the competitor</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ngths and weakness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ing tactic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76C8-46D6-4EA1-8A3B-4B0467A857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ong-Term Objectives and Motivations</a:t>
            </a:r>
            <a:br>
              <a:rPr sz="3400"/>
            </a:br>
            <a:r>
              <a:rPr b="0" lang="en-US" sz="3400" spc="-1" strike="noStrike">
                <a:solidFill>
                  <a:srgbClr val="000000"/>
                </a:solidFill>
                <a:latin typeface="Calibri"/>
              </a:rPr>
              <a:t>of the Competitor</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determine the strategy and tactical move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the objectives one can derive what the motivations of your competitor are in a specific business or market</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identify the long term objectives and motivations of a competitor examin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on and mission statement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report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s releas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t report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ations and speeches of executive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45E4-93C4-4D88-8D72-28CA2A66E6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02">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02">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2">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02">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02">
                                            <p:txEl>
                                              <p:pRg st="4" end="4"/>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02">
                                            <p:txEl>
                                              <p:pRg st="5" end="5"/>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02">
                                            <p:txEl>
                                              <p:pRg st="6" end="6"/>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rengths and Weaknesses</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ssessment of strengths and weaknesses helps you to:</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ict competitor’s actions and initiativ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identify points of difference to position your products and servic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D9A9-7B43-45EA-A09C-C2F368F29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eps in the Assessment of Strengths and Weaknesses</a:t>
            </a:r>
            <a:endParaRPr b="0" lang="en-US" sz="3400" spc="-1" strike="noStrike">
              <a:solidFill>
                <a:srgbClr val="000000"/>
              </a:solidFill>
              <a:latin typeface="Calibri"/>
            </a:endParaRPr>
          </a:p>
        </p:txBody>
      </p:sp>
      <p:sp>
        <p:nvSpPr>
          <p:cNvPr id="10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43B8-3512-4B14-B8B4-E80ED498B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9" name="Freeform 6"/>
          <p:cNvSpPr/>
          <p:nvPr/>
        </p:nvSpPr>
        <p:spPr>
          <a:xfrm>
            <a:off x="914400" y="1625760"/>
            <a:ext cx="5913360" cy="1033200"/>
          </a:xfrm>
          <a:prstGeom prst="pie">
            <a:avLst/>
          </a:prstGeom>
          <a:solidFill>
            <a:srgbClr val="4f81bd"/>
          </a:solidFill>
          <a:ln w="25560">
            <a:solidFill>
              <a:srgbClr val="ffffff"/>
            </a:solidFill>
            <a:miter/>
          </a:ln>
        </p:spPr>
        <p:style>
          <a:lnRef idx="0"/>
          <a:fillRef idx="0"/>
          <a:effectRef idx="0"/>
          <a:fontRef idx="minor"/>
        </p:style>
        <p:txBody>
          <a:bodyPr lIns="106560" rIns="1248840" tIns="106560" bIns="10656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Success factors in a market have to be determined</a:t>
            </a:r>
            <a:endParaRPr b="0" lang="en-US" sz="2000" spc="-1" strike="noStrike">
              <a:solidFill>
                <a:srgbClr val="000000"/>
              </a:solidFill>
              <a:latin typeface="Arial"/>
            </a:endParaRPr>
          </a:p>
        </p:txBody>
      </p:sp>
      <p:sp>
        <p:nvSpPr>
          <p:cNvPr id="1010" name="Freeform 7"/>
          <p:cNvSpPr/>
          <p:nvPr/>
        </p:nvSpPr>
        <p:spPr>
          <a:xfrm>
            <a:off x="1409760" y="2847960"/>
            <a:ext cx="5913360" cy="1033560"/>
          </a:xfrm>
          <a:prstGeom prst="pie">
            <a:avLst/>
          </a:prstGeom>
          <a:solidFill>
            <a:srgbClr val="4f81bd"/>
          </a:solidFill>
          <a:ln w="25560">
            <a:solidFill>
              <a:srgbClr val="ffffff"/>
            </a:solidFill>
            <a:miter/>
          </a:ln>
        </p:spPr>
        <p:style>
          <a:lnRef idx="0"/>
          <a:fillRef idx="0"/>
          <a:effectRef idx="0"/>
          <a:fontRef idx="minor"/>
        </p:style>
        <p:txBody>
          <a:bodyPr lIns="106560" rIns="1273680" tIns="106560" bIns="10656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The success factors are weighted according</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to their importance</a:t>
            </a:r>
            <a:endParaRPr b="0" lang="en-US" sz="2000" spc="-1" strike="noStrike">
              <a:solidFill>
                <a:srgbClr val="000000"/>
              </a:solidFill>
              <a:latin typeface="Arial"/>
            </a:endParaRPr>
          </a:p>
        </p:txBody>
      </p:sp>
      <p:sp>
        <p:nvSpPr>
          <p:cNvPr id="1011" name="Freeform 8"/>
          <p:cNvSpPr/>
          <p:nvPr/>
        </p:nvSpPr>
        <p:spPr>
          <a:xfrm>
            <a:off x="1897200" y="4068720"/>
            <a:ext cx="5913360" cy="1033560"/>
          </a:xfrm>
          <a:prstGeom prst="pie">
            <a:avLst/>
          </a:prstGeom>
          <a:solidFill>
            <a:srgbClr val="4f81bd"/>
          </a:solidFill>
          <a:ln w="25560">
            <a:solidFill>
              <a:srgbClr val="ffffff"/>
            </a:solidFill>
            <a:miter/>
          </a:ln>
        </p:spPr>
        <p:style>
          <a:lnRef idx="0"/>
          <a:fillRef idx="0"/>
          <a:effectRef idx="0"/>
          <a:fontRef idx="minor"/>
        </p:style>
        <p:txBody>
          <a:bodyPr lIns="106560" rIns="1266120" tIns="106560" bIns="10656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The competitor is rated on each success</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factor</a:t>
            </a:r>
            <a:endParaRPr b="0" lang="en-US" sz="2000" spc="-1" strike="noStrike">
              <a:solidFill>
                <a:srgbClr val="000000"/>
              </a:solidFill>
              <a:latin typeface="Arial"/>
            </a:endParaRPr>
          </a:p>
        </p:txBody>
      </p:sp>
      <p:sp>
        <p:nvSpPr>
          <p:cNvPr id="1012" name="Freeform 9"/>
          <p:cNvSpPr/>
          <p:nvPr/>
        </p:nvSpPr>
        <p:spPr>
          <a:xfrm>
            <a:off x="2392200" y="5291280"/>
            <a:ext cx="5913720" cy="1033200"/>
          </a:xfrm>
          <a:prstGeom prst="pie">
            <a:avLst/>
          </a:prstGeom>
          <a:solidFill>
            <a:srgbClr val="4f81bd"/>
          </a:solidFill>
          <a:ln w="25560">
            <a:solidFill>
              <a:srgbClr val="ffffff"/>
            </a:solidFill>
            <a:miter/>
          </a:ln>
        </p:spPr>
        <p:style>
          <a:lnRef idx="0"/>
          <a:fillRef idx="0"/>
          <a:effectRef idx="0"/>
          <a:fontRef idx="minor"/>
        </p:style>
        <p:txBody>
          <a:bodyPr lIns="106560" rIns="1273680" tIns="106560" bIns="10656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Multiply the rating by the importance</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ffffff"/>
                </a:solidFill>
                <a:latin typeface="Calibri"/>
              </a:rPr>
              <a:t>weight</a:t>
            </a:r>
            <a:endParaRPr b="0" lang="en-US" sz="2000" spc="-1" strike="noStrike">
              <a:solidFill>
                <a:srgbClr val="000000"/>
              </a:solidFill>
              <a:latin typeface="Arial"/>
            </a:endParaRPr>
          </a:p>
        </p:txBody>
      </p:sp>
      <p:sp>
        <p:nvSpPr>
          <p:cNvPr id="1013" name="Freeform 10"/>
          <p:cNvSpPr/>
          <p:nvPr/>
        </p:nvSpPr>
        <p:spPr>
          <a:xfrm>
            <a:off x="6156360" y="2417760"/>
            <a:ext cx="671400" cy="671400"/>
          </a:xfrm>
          <a:custGeom>
            <a:avLst/>
            <a:gdLst/>
            <a:ahLst/>
            <a:rect l="l" t="t" r="r" b="b"/>
            <a:pathLst>
              <a:path w="671957" h="671957">
                <a:moveTo>
                  <a:pt x="0" y="369576"/>
                </a:moveTo>
                <a:lnTo>
                  <a:pt x="151190" y="369576"/>
                </a:lnTo>
                <a:lnTo>
                  <a:pt x="151190" y="0"/>
                </a:lnTo>
                <a:lnTo>
                  <a:pt x="520767" y="0"/>
                </a:lnTo>
                <a:lnTo>
                  <a:pt x="520767" y="369576"/>
                </a:lnTo>
                <a:lnTo>
                  <a:pt x="671957" y="369576"/>
                </a:lnTo>
                <a:lnTo>
                  <a:pt x="335979" y="671957"/>
                </a:lnTo>
                <a:lnTo>
                  <a:pt x="0" y="369576"/>
                </a:lnTo>
                <a:close/>
              </a:path>
            </a:pathLst>
          </a:custGeom>
          <a:solidFill>
            <a:srgbClr val="d0d8e8">
              <a:alpha val="90000"/>
            </a:srgbClr>
          </a:solidFill>
          <a:ln w="25560">
            <a:solidFill>
              <a:srgbClr val="d0d8e8">
                <a:alpha val="90000"/>
              </a:srgbClr>
            </a:solidFill>
            <a:round/>
          </a:ln>
        </p:spPr>
        <p:style>
          <a:lnRef idx="0"/>
          <a:fillRef idx="0"/>
          <a:effectRef idx="0"/>
          <a:fontRef idx="minor"/>
        </p:style>
        <p:txBody>
          <a:bodyPr lIns="189000" rIns="189000" tIns="37800" bIns="204120" anchor="ctr">
            <a:noAutofit/>
          </a:bodyPr>
          <a:p>
            <a:endParaRPr b="0" lang="en-US" sz="1800" spc="-1" strike="noStrike">
              <a:solidFill>
                <a:srgbClr val="000000"/>
              </a:solidFill>
              <a:latin typeface="Arial"/>
            </a:endParaRPr>
          </a:p>
        </p:txBody>
      </p:sp>
      <p:sp>
        <p:nvSpPr>
          <p:cNvPr id="1014" name="Freeform 11"/>
          <p:cNvSpPr/>
          <p:nvPr/>
        </p:nvSpPr>
        <p:spPr>
          <a:xfrm>
            <a:off x="6649920" y="3638520"/>
            <a:ext cx="673200" cy="673200"/>
          </a:xfrm>
          <a:custGeom>
            <a:avLst/>
            <a:gdLst/>
            <a:ahLst/>
            <a:rect l="l" t="t" r="r" b="b"/>
            <a:pathLst>
              <a:path w="671957" h="671957">
                <a:moveTo>
                  <a:pt x="0" y="369576"/>
                </a:moveTo>
                <a:lnTo>
                  <a:pt x="151190" y="369576"/>
                </a:lnTo>
                <a:lnTo>
                  <a:pt x="151190" y="0"/>
                </a:lnTo>
                <a:lnTo>
                  <a:pt x="520767" y="0"/>
                </a:lnTo>
                <a:lnTo>
                  <a:pt x="520767" y="369576"/>
                </a:lnTo>
                <a:lnTo>
                  <a:pt x="671957" y="369576"/>
                </a:lnTo>
                <a:lnTo>
                  <a:pt x="335979" y="671957"/>
                </a:lnTo>
                <a:lnTo>
                  <a:pt x="0" y="369576"/>
                </a:lnTo>
                <a:close/>
              </a:path>
            </a:pathLst>
          </a:custGeom>
          <a:solidFill>
            <a:srgbClr val="d0d8e8">
              <a:alpha val="90000"/>
            </a:srgbClr>
          </a:solidFill>
          <a:ln w="25560">
            <a:solidFill>
              <a:srgbClr val="d0d8e8">
                <a:alpha val="90000"/>
              </a:srgbClr>
            </a:solidFill>
            <a:round/>
          </a:ln>
        </p:spPr>
        <p:style>
          <a:lnRef idx="0"/>
          <a:fillRef idx="0"/>
          <a:effectRef idx="0"/>
          <a:fontRef idx="minor"/>
        </p:style>
        <p:txBody>
          <a:bodyPr lIns="189000" rIns="189000" tIns="37800" bIns="204120" anchor="ctr">
            <a:noAutofit/>
          </a:bodyPr>
          <a:p>
            <a:endParaRPr b="0" lang="en-US" sz="1800" spc="-1" strike="noStrike">
              <a:solidFill>
                <a:srgbClr val="000000"/>
              </a:solidFill>
              <a:latin typeface="Arial"/>
            </a:endParaRPr>
          </a:p>
        </p:txBody>
      </p:sp>
      <p:sp>
        <p:nvSpPr>
          <p:cNvPr id="1015" name="Freeform 12"/>
          <p:cNvSpPr/>
          <p:nvPr/>
        </p:nvSpPr>
        <p:spPr>
          <a:xfrm>
            <a:off x="7139160" y="4861080"/>
            <a:ext cx="671400" cy="671400"/>
          </a:xfrm>
          <a:custGeom>
            <a:avLst/>
            <a:gdLst/>
            <a:ahLst/>
            <a:rect l="l" t="t" r="r" b="b"/>
            <a:pathLst>
              <a:path w="671957" h="671957">
                <a:moveTo>
                  <a:pt x="0" y="369576"/>
                </a:moveTo>
                <a:lnTo>
                  <a:pt x="151190" y="369576"/>
                </a:lnTo>
                <a:lnTo>
                  <a:pt x="151190" y="0"/>
                </a:lnTo>
                <a:lnTo>
                  <a:pt x="520767" y="0"/>
                </a:lnTo>
                <a:lnTo>
                  <a:pt x="520767" y="369576"/>
                </a:lnTo>
                <a:lnTo>
                  <a:pt x="671957" y="369576"/>
                </a:lnTo>
                <a:lnTo>
                  <a:pt x="335979" y="671957"/>
                </a:lnTo>
                <a:lnTo>
                  <a:pt x="0" y="369576"/>
                </a:lnTo>
                <a:close/>
              </a:path>
            </a:pathLst>
          </a:custGeom>
          <a:solidFill>
            <a:srgbClr val="d0d8e8">
              <a:alpha val="90000"/>
            </a:srgbClr>
          </a:solidFill>
          <a:ln w="25560">
            <a:solidFill>
              <a:srgbClr val="d0d8e8">
                <a:alpha val="90000"/>
              </a:srgbClr>
            </a:solidFill>
            <a:round/>
          </a:ln>
        </p:spPr>
        <p:style>
          <a:lnRef idx="0"/>
          <a:fillRef idx="0"/>
          <a:effectRef idx="0"/>
          <a:fontRef idx="minor"/>
        </p:style>
        <p:txBody>
          <a:bodyPr lIns="189000" rIns="189000" tIns="37800" bIns="2041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1009"/>
                                        </p:tgtEl>
                                        <p:attrNameLst>
                                          <p:attrName>style.visibility</p:attrName>
                                        </p:attrNameLst>
                                      </p:cBhvr>
                                      <p:to>
                                        <p:strVal val="visible"/>
                                      </p:to>
                                    </p:set>
                                    <p:animEffect filter="wipe(up)" transition="in">
                                      <p:cBhvr additive="repl">
                                        <p:cTn id="77" dur="500"/>
                                        <p:tgtEl>
                                          <p:spTgt spid="100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1013"/>
                                        </p:tgtEl>
                                        <p:attrNameLst>
                                          <p:attrName>style.visibility</p:attrName>
                                        </p:attrNameLst>
                                      </p:cBhvr>
                                      <p:to>
                                        <p:strVal val="visible"/>
                                      </p:to>
                                    </p:set>
                                    <p:animEffect filter="wipe(up)" transition="in">
                                      <p:cBhvr additive="repl">
                                        <p:cTn id="82" dur="500"/>
                                        <p:tgtEl>
                                          <p:spTgt spid="101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1010"/>
                                        </p:tgtEl>
                                        <p:attrNameLst>
                                          <p:attrName>style.visibility</p:attrName>
                                        </p:attrNameLst>
                                      </p:cBhvr>
                                      <p:to>
                                        <p:strVal val="visible"/>
                                      </p:to>
                                    </p:set>
                                    <p:animEffect filter="wipe(up)" transition="in">
                                      <p:cBhvr additive="repl">
                                        <p:cTn id="87" dur="500"/>
                                        <p:tgtEl>
                                          <p:spTgt spid="101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014"/>
                                        </p:tgtEl>
                                        <p:attrNameLst>
                                          <p:attrName>style.visibility</p:attrName>
                                        </p:attrNameLst>
                                      </p:cBhvr>
                                      <p:to>
                                        <p:strVal val="visible"/>
                                      </p:to>
                                    </p:set>
                                    <p:animEffect filter="wipe(up)" transition="in">
                                      <p:cBhvr additive="repl">
                                        <p:cTn id="92" dur="500"/>
                                        <p:tgtEl>
                                          <p:spTgt spid="10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1011"/>
                                        </p:tgtEl>
                                        <p:attrNameLst>
                                          <p:attrName>style.visibility</p:attrName>
                                        </p:attrNameLst>
                                      </p:cBhvr>
                                      <p:to>
                                        <p:strVal val="visible"/>
                                      </p:to>
                                    </p:set>
                                    <p:animEffect filter="wipe(up)" transition="in">
                                      <p:cBhvr additive="repl">
                                        <p:cTn id="97" dur="500"/>
                                        <p:tgtEl>
                                          <p:spTgt spid="101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1015"/>
                                        </p:tgtEl>
                                        <p:attrNameLst>
                                          <p:attrName>style.visibility</p:attrName>
                                        </p:attrNameLst>
                                      </p:cBhvr>
                                      <p:to>
                                        <p:strVal val="visible"/>
                                      </p:to>
                                    </p:set>
                                    <p:animEffect filter="wipe(up)" transition="in">
                                      <p:cBhvr additive="repl">
                                        <p:cTn id="102" dur="500"/>
                                        <p:tgtEl>
                                          <p:spTgt spid="101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012"/>
                                        </p:tgtEl>
                                        <p:attrNameLst>
                                          <p:attrName>style.visibility</p:attrName>
                                        </p:attrNameLst>
                                      </p:cBhvr>
                                      <p:to>
                                        <p:strVal val="visible"/>
                                      </p:to>
                                    </p:set>
                                    <p:animEffect filter="wipe(up)" transition="in">
                                      <p:cBhvr additive="repl">
                                        <p:cTn id="107"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5-1 - Strengths and Weakness Analysis</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E5D6-3761-4DDD-87E6-0216FAF91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hjkl.PNG"/>
          <p:cNvPicPr/>
          <p:nvPr/>
        </p:nvPicPr>
        <p:blipFill>
          <a:blip r:embed="rId1"/>
          <a:stretch/>
        </p:blipFill>
        <p:spPr>
          <a:xfrm>
            <a:off x="609480" y="1822320"/>
            <a:ext cx="7925040" cy="412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rategies</a:t>
            </a:r>
            <a:endParaRPr b="0" lang="en-US" sz="34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trategy profile illustrates the strategic priorities and compares them with your own company</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can identify the areas of strategic overlap and areas of difference</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mprehensive strategy assessment leads to a strategy profile containing:</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folio analysi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value analysi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owth strategy</a:t>
            </a:r>
            <a:endParaRPr b="0" lang="en-US" sz="2400" spc="-1" strike="noStrike">
              <a:solidFill>
                <a:srgbClr val="000000"/>
              </a:solidFill>
              <a:latin typeface="Calibri"/>
            </a:endParaRPr>
          </a:p>
        </p:txBody>
      </p:sp>
      <p:sp>
        <p:nvSpPr>
          <p:cNvPr id="10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CE49-B24C-4ACC-96E4-A79AE84F3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020">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020">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020">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020">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020">
                                            <p:txEl>
                                              <p:pRg st="4" end="4"/>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0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rategies</a:t>
            </a:r>
            <a:endParaRPr b="0" lang="en-US" sz="34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19080">
            <a:solidFill>
              <a:srgbClr val="b8ca78"/>
            </a:solidFill>
            <a:miter/>
          </a:ln>
        </p:spPr>
        <p:txBody>
          <a:bodyPr anchor="t">
            <a:normAutofit/>
          </a:bodyPr>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ing approach</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ensive strateg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ensive strategy</a:t>
            </a:r>
            <a:endParaRPr b="0" lang="en-US" sz="2400" spc="-1" strike="noStrike">
              <a:solidFill>
                <a:srgbClr val="000000"/>
              </a:solidFill>
              <a:latin typeface="Calibri"/>
            </a:endParaRPr>
          </a:p>
        </p:txBody>
      </p:sp>
      <p:sp>
        <p:nvSpPr>
          <p:cNvPr id="10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AF66-D2B3-404C-A5D6-40418C7C4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023">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023">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0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5-2 - Competitor Strategy Profile</a:t>
            </a:r>
            <a:endParaRPr b="0" lang="en-US" sz="3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A0A2-E500-4B4C-A81E-677CDA27C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7" name="Picture 4" descr="4521.PNG"/>
          <p:cNvPicPr/>
          <p:nvPr/>
        </p:nvPicPr>
        <p:blipFill>
          <a:blip r:embed="rId1"/>
          <a:stretch/>
        </p:blipFill>
        <p:spPr>
          <a:xfrm>
            <a:off x="1143000" y="1512720"/>
            <a:ext cx="6978600" cy="505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4T11:31:20Z</dcterms:modified>
  <cp:revision>387</cp:revision>
  <dc:subject/>
  <dc:title>Slide 1</dc:title>
</cp:coreProperties>
</file>