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D61C-75B6-43D2-AAC3-80A3EDBF53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C3F4-A202-4CC2-918C-CBF9C303F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ompany can create competitive advantage when it is able to perform the individual activities of its “value chain” more effectively or more efficiently than its competit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alue chain distinguishes strategically relevant activities that can lead to cost or differentiation advantages in the market, and influence the product’s margi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B6D6-B31B-475B-8D0E-C1307ECF9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illustrates the value chain analysis of a pharmaceutical compan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is example, the strategic importance of the primary activities, the budget share of these activities, and the relative performance are show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llustrates whether the amount of money a company invests in each activity and its performance are in line with the strategic value of this activit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2253-9C23-433C-A763-487827F86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useful illustration of a value-chain analysis is the strategic priority analysis (SP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 two-dimensional matrix.</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ce of the individual value chain activities is depicted along the x-axis and performance along the y-axis.</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evaluated high both in performance and importance represent opportunities for gaining or maintaining competitive advantages.</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ctivity should be rewarded in future strategic plann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I</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 performance on highly important activities demands immediate attention.</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nhance competitiveness, a company should improve these activiti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II</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activities are both low in performance and importance.</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necessary to focus additional effort her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V</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located in this quadrant are rated high in performance, but low in importance.</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ources committed to these attributes would be better employed elsewhere.</a:t>
            </a: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846A-594E-48A6-8F7D-15BB18BFF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8217E-5F47-4585-9217-9D95AD963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F3859-AF3D-447E-A102-1A10B7CD595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39A53DE-A0BB-4F79-9C54-4616EFA736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E6B653-4048-4BB3-85A2-CAFC983C47C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7C9D1E-C9D8-49B6-B772-75BEB91377E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60CD69-124D-4272-B1E7-ACCA68E625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AFEBA4-E5A4-4BC2-9661-5938C4C7E7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134EBA-A8C5-4F0C-B44F-9351902DE4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EF13B4-CEB7-4204-9617-77A48EE3755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58A87C0-6670-4B2A-855F-630F1BCC288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C15C69B-2AD4-44A3-9DFB-A9ED542C0A0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56A95A1-ED4F-48AA-93BC-A60E424C3F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7A4DE-3180-4EFC-9872-AA90473A35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4D2A91-C5E2-45DB-8361-673CB6B76CF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9034FE-BDA4-4F9E-A1AE-4DBAF8FCC3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BE93938-3CDF-4B8B-9B24-194EF448CD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32A479-F22F-4322-BF23-F1BAE36347C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33AB28-AFE0-498C-9284-484A914EA3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87AC10-8381-4398-83A3-430AA3E02B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F09F5A-15AF-4523-8A0C-6A8E7F70F7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066695-1CE1-44A4-9D22-A4536FE462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A65111C-B4D2-416A-868C-1214E308FC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7F6286F-7218-4250-822C-40A1431AA63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9132C7-697B-4A93-956C-587930600E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9F5272-0CB9-4C03-B584-69CD51FA124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24871C9-3B35-497D-B547-3F59B4AE081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1BF9952-7917-49ED-9505-021A1E65927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16BE5A-0114-4C88-9761-CA302368202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158C77-4FE2-4F46-BA93-E6FD006484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D412BB-563B-4667-AB40-684FC30F632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D9FE4CE-2974-4A81-BF58-62C1435FF89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4998BF-2564-4359-8957-79747D5308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F66D81-767E-404C-9696-7414BD73A94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DBA84EA-5B70-42DE-AC2C-8931FF62866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10FC23-5DF9-48F1-96BA-7A0475848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2F5AFBB-2AE6-4ADB-BD3F-47DC690AF59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E65725E-F938-44CF-8408-366292D47FE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E148CAA-1B0F-456D-BC8B-E19BCE2AD12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4EC5FFD-312B-415C-944B-FE9949F60B5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11F2471-7982-4585-8164-50380B61F2E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E40E3B8-608D-477A-A60A-CFA8C436475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F3A77EF-1E5B-4AC7-B4C6-60B79C4F7CE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C7DEBBD-0DD9-4B7D-A578-83C193575B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278DED9-07BD-44CD-8A9D-E0D81CD8D93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0DA0E3-AA8E-4ACF-8735-54D6C3DC6A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56B252-C26A-4658-AA7A-428725DB1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3BE70C-5BA1-449D-BE7A-C316A85739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767D068-CCAA-4603-9FF1-2F27646DCE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A3B149C-C382-4080-AF17-AA600FE6D1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F3578C9-FA1C-4502-A356-8BCC6477F85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81A3047-2BCC-4770-9267-BDF211AB27D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85A22BE-AADF-4DC2-BF65-5D6995E2418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CB8F9F8-5FEA-4B65-BE7E-AECE63D5601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47A05F5-A9BD-4186-AAED-A301A7263B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435778C-C8E0-4678-B9F4-B1EAF1511F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BF5D1C0-7C0D-49E0-A06B-84F988FD9B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E07A8C-D326-4276-A69D-CFB3AD947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482A029-5A2A-4FF2-A5EC-7C661D9BD0F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962896B-A1FA-44EF-807F-2CC8A1FDA4C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53D3AAF-ED0C-471C-A874-B13655C8E0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056A66-B7D5-4E55-913E-229E97F18B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556409E-2F27-4ABF-9CE5-FC21F25CCC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F2E912D-7ABB-4EB1-ABBA-9A7F7C870BF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57100D-EEEC-484F-B078-E98296A2E30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187C73E-CDAB-4CE0-B016-9E3952C43F7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65F6877-8422-4886-803C-356EA1C679A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1297916-2D80-419F-BCFD-C1472C38634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490D48-909F-4CA0-BCCB-D6E5E83A4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F7853C9-E372-4F32-A5FA-683BED40864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0B62136-0758-481D-9EB6-1DC2BFD457F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E2DDBE2-CB4D-42FF-B2DF-CC1925A2E15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1F13CA8-2C99-4231-986E-765EDBE46C2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E8F273A-D62E-4656-B308-EB354E4DA78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877F928-6F0E-4A2F-8E98-CC40C4DB7D2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D4E09BA-D088-47B0-B3A5-387109D443E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1B7C4F5-29DE-4F01-A218-8C0DC6794DF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A7207EC-4F91-4302-92B7-19C3F4567AA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FC76D79-541F-4177-B3C8-CB53EE8C3FC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2059A8-7B41-488C-871B-334590C74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60BDA64-9A02-4FCC-90FA-07E4FEDC6B4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1034F51-CD8F-433E-BA0F-D669C979C9B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B2F44D7-D093-4F07-B6AD-B3920D1CC34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6E62B57-1268-430D-9B8B-A93FAE31A4E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EFDB79E-E1C9-4CE8-87B5-701DB78E11A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3A2B91F-C424-45F9-AC73-979F120089A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31FF90B-A59A-42FB-B3CF-EB474519DAA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C573371-625A-45D6-8FFC-F0AD7461E30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432DBAD-2C7C-4B1C-B49A-D0D83C77205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97BD043-631C-49BC-8202-36B6123EC1F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2E5C6E-A99C-4A94-8145-725A36D02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4586B13-A75C-4DF3-A027-C7907C6EA29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3D52100-76DE-42CF-ACF9-C7051814D65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CA0D0D0-0D3F-497F-A21D-6752E3FD51A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F330AC9-E9AA-4AF6-A9C9-AF6C5B4AA54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C904FCB-6822-426D-8B8F-F09AD74076E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36FFB19-5F58-4F48-8F3D-029C3464297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19978FB-2853-45AA-BA02-980957F5A70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F6987D9-1319-40A0-B01C-4BDCE72E876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C9B67EC-D158-4BF0-837C-B6C2254490F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36E918B-47EB-465C-9078-2423739166D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F43231-0F7A-440F-82D2-BF80296CC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05BCEF2-ECB1-4D17-AC25-91D3EB12375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3355819-DA53-4645-99B0-37F59BDE7AFC}"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08ED4596-2259-43A8-BD95-9D01E169273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BC11B083-F07F-44B2-A4EB-F9747A98618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C56A2AD-84FB-4D70-A6CF-53AD680A5C6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8BF4B93-CAC4-4720-A27D-51432A99418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F546855-C96E-40F4-B481-C6C300ABC35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AF8BDB1-A513-45E0-8FB5-A5E97229632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1ABCABF-75C3-412A-82E3-B655FF641EF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D7A2128-90E3-4A6F-BD79-290D57CE81A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0A2B-C2F8-469A-A7A3-091D8360AD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749CA6-CD59-4002-A88F-3805E588D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3079471-D91D-442F-AEE0-605A544AD92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4021FE4-365D-40CA-BEC8-B69A6169873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7B07DBD-594A-407D-8284-D0CB4414A2B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04B386BD-E52B-40A8-BEB7-D302FA7BE592}"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CE0E916-7654-4206-8C66-993F3AD585A3}"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EC01542-B031-4D25-B20C-35E2FC4655F2}"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58D975CB-BDB3-4756-8388-97CBCB2C9D6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620E386-98FE-4ACC-A468-D247A57191B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8BA5D40-E536-431B-B460-643C8AD4258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1B08C056-A7FB-497B-BB03-16C17AB4523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3749ED-BFCE-4894-A248-32A1ABDBB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9C2B6F1-B73D-4DCA-9A18-E8310FC6226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6B43FA5-C041-4EE3-82BF-D7F4602DE82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9CAB435-5A3D-4C56-99A2-CC10D03F701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E0B7073-20FE-4F70-AC57-1917F2F2E2D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7108D9F-B49C-43DD-9004-CA9326E16A8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65B793D6-349D-4ED1-82CD-42C6DAF802E5}"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3F1E9D32-C222-43EF-AAFD-E052056D8657}"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4669C1E7-6FBC-4352-B96B-5641538540B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23CD8E8-ED40-42AB-B63F-BD978CDF411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2D40B09-CC93-4C7C-BC4E-92EAA8169389}"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1F2870-547A-4286-962E-8741149FF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933C5298-352A-440E-B35D-6DDCFDAF3BC0}"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D092663-D4C6-4866-8790-4AF879C1FCB4}"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55921A9-F281-4A06-BFBD-A9E57CF37D2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DE3FEE2-E896-4F06-971F-B9688E2AF9E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8C6277E-64AC-48EE-BDF4-5B1E8F0A264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804EA2F-742D-482E-A1D3-D3E9794ECC3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8A726CD-7518-4009-A049-9E71AFCCCB1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0941EBE-24C1-4CFD-8453-183E7B4158C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85D392F-ED48-4191-9501-206318123578}"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C60D36F-D1AC-4280-AAB0-5FC00CBBC72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524CC2-1490-4F8A-A49B-AD52DE98AED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F0E37E7A-C5F8-4C91-B90D-9C1FA14F59A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8ABE083-614F-429D-917E-D23D706B3C0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3D19CB5-95C2-4DB2-BA37-EB33045741D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04344A6-A66D-441C-808F-A667B7A6025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BAAC58B-F811-4D37-A1BE-930DBCFD54E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2EF744B-06DE-45FF-B174-47F0442B58A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322B91A-766A-42E1-81BF-C80D42EC753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0199C42-DF6E-45C0-BEF8-8314F4E6428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3435513-F127-4276-95CB-D6A2815DE17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EE01B124-838A-4594-9AEC-8AA8267CA702}"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07A706-8AD3-484A-8EEB-57F4AD7AC31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5986A2BC-AD27-48F8-8059-055CBE4B0A95}"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21589FDC-0CED-404D-946C-C2596F2AFD9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988E781-0CEF-4457-9353-6EE7F1AB66F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E2CA9DA-6E4A-4712-951F-F81C8B570FE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AB102F2-6331-47AD-9F0D-E612453FDA9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C81436A-BEC5-4901-8D19-651F2C500AD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C990B2D-B6A9-4AE3-8FFE-05FE6C58DA7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3710F92-92CD-4A70-87DC-730B1CF5D8C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68C0FD3-A879-4B14-9978-100C9AC24ED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58248D8-EC50-43B5-A26A-E1A65469F45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006498E-A7F2-4702-9A69-CA9F529A937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C6CE72D-BF41-4E3A-A6F5-F9465A5FFFD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3FF6EFF-2B01-4825-9690-2939BAC2EF3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DFE5679-67ED-45E9-89F4-FF4F3D7077A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6C17496-E92E-44AF-8920-A672B7597F7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53F7011-47E9-47BA-A9B6-0F351E70F63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9D9D2C0-F7F6-42DC-86A8-E68745D8E90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B25DAE9-F9DF-47C8-A79E-BAADFECD4F6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5291244-5139-4793-9E70-A037A958306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5B644A1-C7F4-4CCE-B1CC-02C2222C020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DD7FBF8-EACE-4AA8-8CD3-8BC668D7638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0A8B1F2-C95F-474A-9647-5305A8BEEB7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8A7C918-C436-46C3-A2F2-4E22D3B0664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C6057AAF-A338-45DE-9997-CCA15A805DD0}"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3567836-A7DE-45EC-BEF9-BD6991EB2273}"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FC76A72D-8694-49A3-B4AA-0648BC5E34E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A9619F7-ECE4-4690-91C8-8EFE0836182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16A912F-B473-46B2-929E-24E16BFD7EC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9D1B2CC-FF52-4C7E-BA30-520B337A761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9A51C04-31CB-4C86-91D5-DECAB956546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21634BD-7670-4470-AA55-BD205556513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13164F9-48D8-4A9C-9010-7B97AB2B4CF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FFB374A-093E-4156-95FE-52CCC72263A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ED6FF36-4EE9-4BC1-9CE0-74CF1AF6A1B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7AEF452-0DF9-4F8D-80D6-CE02B791FB3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975F7FD6-CB93-494A-B6F3-C50CAA79734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B097336-DFA9-414B-BA37-984EADBADCE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17485E2F-C866-4B6C-AE86-0F3A5337EF1A}"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3BA9AEE-D95B-4E77-A277-A74C7DB114F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0EB5382-4D16-4E35-B11A-AE8AD009675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B4D273B-892D-46D0-A929-4DB2628A575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5BED532-6F08-416B-9A8E-8878F0D0C10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D3A8717-EDBD-4E67-B7E8-F2318B87A48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2AC06B6-7B75-4A86-800B-3818091453D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65D3B49-3E85-4051-AAE7-1B5A40818CA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4853DD7-AB20-48CC-8087-8D1DAB3A3C6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213DE11-01A4-493B-B782-79A5DB7401A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680A1A07-A4C7-4412-BBC6-090B25A98F5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75EDE844-00DA-4C5E-9057-AA7359987807}"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D2056-2984-437B-BD18-A38022CAE4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ED2337-9EEA-4A4B-8FA8-5CCFE0CFAE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A0C0B12-CDC8-4389-B2FD-531941BBD5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EF8810B-2571-4794-A4BD-644431BAC5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3AD26-2778-4C57-A5FF-388FED116A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1F6D755-2C4E-49D9-8A2E-E0C98E544F1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19A4A304-F73C-4C27-B011-0F25EE1E09D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1C859A5-A6B6-495C-9548-91F60AF333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E4947C0-6CDE-4244-A7DE-6186BDCCD0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890DB67-2236-479F-858D-0F80082AABE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8254CCD-73C9-427F-B948-A908506EBD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0D1CEBA-CDFA-4D72-B607-E81DC15B3A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4DE6C83-9F0D-42D0-8343-25D1A76ACD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B9C1AA1A-E79B-4ACC-AF5E-019C90DC41A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D20764-55D3-4B69-8142-14C71F8870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FC6FA1-D1E6-4C5B-A326-EE2D997DF6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600AEB-083D-42E3-B928-1C9F14D66B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DE028D-8B9B-42F5-A4C3-91AFB63961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C1899C-D68A-46F9-AD3B-061DB9072A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8E2F14-D3B7-421C-A055-A0F7406459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DB5395-F124-4BD1-885E-6BF7054E98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9DC7A4-253F-432D-A890-5364778030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06608D-5FE3-46D1-B4CD-6278D8EEA7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CDDC4E-BF3E-43B8-8719-8E0762F4E6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95BDEC-C1FE-403A-A7B4-DBCE194996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0BA0F6-33C4-4677-8EA3-88162D5C04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EB11FA7-7FC0-47F3-BB9A-B054C3FD86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5379E3-E3F9-4935-9AE8-ABD635C281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38E5025-5775-4563-BFDA-96BB61475A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B85754-56B0-4F53-8D6B-B34CE662C7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F90967-70E2-4D5F-9AE4-F87DCC8E56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454F20-C50D-49B1-8357-49AB1579B3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CBCBE2-21ED-4AA1-9080-0D051BA7EC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73FEC5-E9FE-4DFB-9501-2A960BC071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A5B722-C7C7-4D03-BB89-152D2561F5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FA931A-D8FB-487B-9FB1-B85D410C9B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66F0AA-D643-4699-A646-E75DDF1864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4AE2A-F378-44FA-BDA2-C1FB2D42C8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2DA9C8-E79B-49A8-9256-6240462726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033246-D063-44A2-BED2-8EC029D862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9F63484-D2B0-4E90-B808-491CF3B853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14FD3D2-2209-4508-A707-A6C8E2714CD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EC61E3-9C91-4B4E-AC8E-A5FF29F51E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6E8A40-5922-423D-9241-C71768DBB5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28D43A-9F88-4A65-82E9-A903007BEF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40F207-4B37-415C-A0F7-D043C4EC23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3BB859-1144-4185-A19E-3B4DF212C55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00EAB9-E66A-40AE-A78F-88557EE9CE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5DBCA-CC8E-4431-8880-0517FC6365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DBF184-C467-4D86-B4C0-BDA0D0E82A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8AC74E-A238-4CB4-A57E-6D102FA331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4487923-5BF6-4C21-9397-1AE481A02EE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D42C6B-E98F-44A7-8415-48387CB0D3B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F819B24-0F6A-4996-A143-B715A26820E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1D7F85A-E4A0-4D4C-8D5B-BDC4B931395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92F964-407A-4F88-BD41-D9BE5556B5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47596F-2847-4332-B083-E165523980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B7A587-EEBC-41DB-B914-86441F422A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5D11FFE-12D8-4792-BFB7-EB38F94EF92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6840C-BFFF-479F-BEB5-8A99FD4606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403D27-0360-4948-9950-F58CBA27DB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9CE77F-CBDE-43F1-99E9-422ADA9E1C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C5CC33-F4B5-4E68-8F94-63FB0F44E2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AC85EE-17BE-4E91-B16C-6478E83192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834F6C-E1A2-4C83-AE56-8F7CDB86B4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E215638-E33E-4692-9AD1-636AF98355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A4B879-F67F-4D2F-B5DB-640EA9AB88D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8EAC494-A555-43FE-A60E-102207323C1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69494D-0AC0-4D27-9C80-212070C65D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4D2DD47-692E-47FE-B15C-BE5F599201B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54D4-D7A4-4572-86ED-3C4EE603130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8FED-A89E-4644-89F6-58C094CD975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38DF-1719-4176-8D98-37DBC312243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F52F-2B6F-4262-87AC-DE6AE61F2C9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C07A-02C4-4D0F-915C-0C2CD2093CA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AB14-64D0-4FBF-8246-818AB5AAA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D627-6560-45B3-BD7C-59AF0C179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C11D-F058-4127-965C-FA940CB66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49AE-ED25-473F-BC4F-17FE654CF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AF05-6981-4FC8-B8E0-47A95740D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F36C-AB45-450F-BB14-C932BCD05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9056-1C00-49FB-A42B-8C1F474A4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766E-8B62-42FF-B643-CDBFF14BE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FAB3-50C6-4ADF-81EF-7706E3DAC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C83F-7D53-4673-A95A-D87CDF780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092D-2108-413B-B6DE-545CB1C33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5390-814F-4215-B325-8A3AD14C4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F0E-9715-4EA6-AE2B-4C4299BEC33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B996-4F7F-446B-A0FC-F8F09D2DE3F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A146-10FA-4368-B191-1678A491C4A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D538-6179-4578-9DC9-D8698A72CDC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4981-9E95-45B0-BC30-C1B4EC8D007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7655-E7F8-450E-B15E-3B723724797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7</a:t>
            </a:r>
            <a:br>
              <a:rPr sz="3400"/>
            </a:br>
            <a:r>
              <a:rPr b="0" lang="en-US" sz="3400" spc="-1" strike="noStrike">
                <a:solidFill>
                  <a:srgbClr val="000000"/>
                </a:solidFill>
                <a:latin typeface="Calibri"/>
              </a:rPr>
              <a:t>Company Assessment—</a:t>
            </a:r>
            <a:br>
              <a:rPr sz="3400"/>
            </a:b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3" name="Picture 4" descr="cid:3287383400_2177562"/>
          <p:cNvPicPr/>
          <p:nvPr/>
        </p:nvPicPr>
        <p:blipFill>
          <a:blip r:embed="rId1"/>
          <a:stretch/>
        </p:blipFill>
        <p:spPr>
          <a:xfrm>
            <a:off x="533520" y="685800"/>
            <a:ext cx="8118360" cy="2647800"/>
          </a:xfrm>
          <a:prstGeom prst="rect">
            <a:avLst/>
          </a:prstGeom>
          <a:ln w="0">
            <a:noFill/>
          </a:ln>
        </p:spPr>
      </p:pic>
      <p:sp>
        <p:nvSpPr>
          <p:cNvPr id="1024"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25"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7-1 - The Value Chain</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21C1-2083-4631-9DB0-72F32F48A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nji.PNG"/>
          <p:cNvPicPr/>
          <p:nvPr/>
        </p:nvPicPr>
        <p:blipFill>
          <a:blip r:embed="rId1"/>
          <a:stretch/>
        </p:blipFill>
        <p:spPr>
          <a:xfrm>
            <a:off x="609480" y="1704960"/>
            <a:ext cx="7929720" cy="46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e chain analysis allows the strategic planner to:</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dentify what activities can lead to advant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cilitate identification of what activities for a particular firm do lead to advantage</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61B9-5AFB-4862-9923-D488E5465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mary activities are concerned with the creation or delivery of a product or servic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bound logistic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bound logistic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and sal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a:t>
            </a:r>
            <a:endParaRPr b="0" lang="en-US" sz="24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EE38-F591-4DDE-AA8D-799D836BD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activities are needed to perform the primary activities and contribute to their effectiveness and efficienc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rm infrastructur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resource manage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develop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urement</a:t>
            </a:r>
            <a:endParaRPr b="0" lang="en-US" sz="24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E452-6D27-491C-B9BE-5CFCFC5CA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1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dividual activities of the value chain are strategically relevant becaus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of them can constitute a cost advantage or differentiation advant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of these activities a company can either win or lose money, depending how effectively and efficiently it performs them compared to the competitors</a:t>
            </a:r>
            <a:endParaRPr b="0" lang="en-US" sz="2400" spc="-1" strike="noStrike">
              <a:solidFill>
                <a:srgbClr val="000000"/>
              </a:solidFill>
              <a:latin typeface="Calibri"/>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3CAB-591B-4CA4-9E09-2ED0321AA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1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value chain analyses should answer the following question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activities of a company’s value chai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of them are strategically important in the industr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well do we perform on the activiti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ctivities generate profits and which cause loss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ctivities constitute competitive advantages or core competenc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ctivities should be outsourced?</a:t>
            </a:r>
            <a:endParaRPr b="0" lang="en-US" sz="24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BEE6-BC7E-4241-9AB6-4B0881E5C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4">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14">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4">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14">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14">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7-2 - Analysis of the Value Chain of a Pharmaceutical Company</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AF87-793A-40C7-AF7A-E530901EF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1254.PNG"/>
          <p:cNvPicPr/>
          <p:nvPr/>
        </p:nvPicPr>
        <p:blipFill>
          <a:blip r:embed="rId1"/>
          <a:stretch/>
        </p:blipFill>
        <p:spPr>
          <a:xfrm>
            <a:off x="1219320" y="1544760"/>
            <a:ext cx="6727680" cy="49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7-3 - Strategic Priority Analysis (SPA)</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3F02-DD57-4F5C-B4A8-493BB47E2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456.PNG"/>
          <p:cNvPicPr/>
          <p:nvPr/>
        </p:nvPicPr>
        <p:blipFill>
          <a:blip r:embed="rId1"/>
          <a:stretch/>
        </p:blipFill>
        <p:spPr>
          <a:xfrm>
            <a:off x="1184400" y="1600200"/>
            <a:ext cx="689292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4T13:15:06Z</dcterms:modified>
  <cp:revision>506</cp:revision>
  <dc:subject/>
  <dc:title>Slide 1</dc:title>
</cp:coreProperties>
</file>