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3EC2-6420-44DF-A5D7-A07E9C05C38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2275-ACA2-4D32-9A89-5CDC99D62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ompany can create competitive advantage when it is able to perform the individual activities of its “value chain” more effectively or more efficiently than its competit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alue chain distinguishes strategically relevant activities that can lead to cost or differentiation advantages in the market, and influence the product’s margi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3908-1950-474E-AFC5-3E43EFE52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illustrates the value chain analysis of a pharmaceutical compan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is example, the strategic importance of the primary activities, the budget share of these activities, and the relative performance are show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llustrates whether the amount of money a company invests in each activity and its performance are in line with the strategic value of this activit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5F15-DF65-4E60-871C-B1702F284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useful illustration of a value-chain analysis is the strategic priority analysis (SP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 two-dimensional matrix.</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ce of the individual value chain activities is depicted along the x-axis and performance along the y-axis.</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evaluated high both in performance and importance represent opportunities for gaining or maintaining competitive advantages.</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ctivity should be rewarded in future strategic planning.</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I</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 performance on highly important activities demands immediate attention.</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nhance competitiveness, a company should improve these activiti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II</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activities are both low in performance and importance.</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not necessary to focus additional effort her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adrant IV</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located in this quadrant are rated high in performance, but low in importance.</a:t>
            </a:r>
            <a:endParaRPr b="0" lang="en-US" sz="1200" spc="-1" strike="noStrike">
              <a:solidFill>
                <a:srgbClr val="000000"/>
              </a:solidFill>
              <a:latin typeface="Calibri"/>
            </a:endParaRPr>
          </a:p>
          <a:p>
            <a:pPr lvl="1" marL="45720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ources committed to these attributes would be better employed elsewhere.</a:t>
            </a: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8129-FE99-4289-B94A-CA51EE931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D6984-4FC0-4E32-9ADA-AD1BB5AEEC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D5312-C757-4C9D-A67B-798FE00F12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404FC1-F875-49C7-A6E1-1B3DE500BD5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BB24E23-ACDC-4973-B46C-9C2D185762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FCCEA17-6021-46F3-AC80-7F3FC36243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6F91F34-84B5-4967-9ADE-2670E99342C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4EC39F-C95B-4065-B2E7-9435D07CDD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130A26-3A45-46F2-902F-D1CBD057A3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4A2505B-570F-4232-B165-6302FF40FF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267C514-09D6-4FA6-A3B5-33A789530E3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6F9B205-DFD6-40DF-816D-759999FFFD4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55FFCA-32D3-4DC9-ADC0-F148B433E3D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921DAE-2BD2-429A-8F99-D11E3C8209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00DF61-749E-4343-A431-3E29030D45A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1F6DA0B-7E6A-4DB1-9C34-91B12C950B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22777D-1B7A-42EE-B149-8DFE6A4640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114D070-0FBA-4442-9B88-9F154750B4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34268CE-F15F-49A4-B20C-E3ACC626B9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4AB9F4-F753-4D4D-8056-E5872738B0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14FCBB-BC3D-4091-AB42-1369E830F27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748F4F-A993-4075-BE67-A26867A4399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096F83-1861-4490-878A-24B4B12BA0D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619BFAB-B372-4C34-A040-E491C399AAD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4A5A3-57CF-42BB-90CC-A041D5B27FE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AFF381F-17BD-4AAC-B0F7-2F2F2FA92EE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83F47A6-EF64-4641-9506-0AE52FE27A1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E1C1E0-1F54-442C-9BE7-C25A925FB1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55832C-5A83-4661-8251-BF7CDDEAF8D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13D220-7D0F-4D82-9AE2-8F961E9783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4BE54F4-5BF8-4984-A66D-4EB9F4CB17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B31713-282A-42DF-B065-5575ED13DEA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C865B0-0959-4947-A284-426EF6A1A1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BBBDEE-84D9-4B59-8681-AF056FF6612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B5D7BD-B8EC-4688-9938-65DD202F8D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E53F8E-4D4B-447A-A658-4C4953E49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074511E-1E61-438C-B0E8-1D475232BB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D76D120-FA13-4AD3-BA62-22074405ECF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98D0E05-3538-492E-8F12-9C1988687D0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A80A1F0-DC09-48E6-AC8A-8E775CB6184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3D051ED-7FA0-4C31-9541-BEFEA90384C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77A328-5CD0-4E63-937D-FBD8697E16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2CC26B-8162-42F1-ACB5-FED753492AD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4DB056F-2F3F-48F3-91CB-3155073F922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35060CB-F629-40CD-98C7-8DD4F0650A1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665855A-2E7D-439F-9599-935D92E054A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52917D-2384-4F7D-9CB7-8BCE69CBD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D2B84E9-D6AE-42F1-B1D3-14021FC0E5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B77958-F418-42DB-8B70-B9D10F2883F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FE3FF6-28A2-4E38-AAEC-6AA6AA5F50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02275DA-DC92-4B53-8818-66FA34F7E08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11064D0-6508-4950-B367-B2B145622E2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F564134-EA4D-43E0-BA08-B12D08FD4D3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D7A37EB-AFC3-4154-8846-876E660DE12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C85949-01F8-4E6F-8A3D-F00F4B9084D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8808328-4DF0-487E-91D3-D87E1D8E7B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5774082-2A6E-495A-983E-39F3876CD76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A85643-5361-4311-99A9-D4831932B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29115F5-F176-457A-8C72-A8F9AB75C91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82F770E-D84F-4A80-9CF1-BF8B759BB9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725554-5601-47EA-A7C1-9196C3E4F3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85CC65-C6E4-4746-984E-C3848B657A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2D6754-4690-4BEC-BFA9-946B6E80C37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AE73359-79AF-4217-A663-261EAE4D2C5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B368174-3D5A-468A-B0D2-53499E06136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1F631E6-9384-4CE6-A007-E792DFFBC64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7DF7907-5AC8-4609-BC40-7C73272F881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0CBC2DE-08C3-4592-A931-37268933708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C42783-798D-49E2-ADBE-BA1896D0E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652D947-44FB-481B-8088-216E01653F9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A973465-C4FA-44A2-828A-3B19E7E09EE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D3A9C50-38A7-41B9-944E-5D23F5BD5AC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1D01D05-EDA8-4439-A60E-695620793A8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8257B9E-97EC-42FF-9F1A-5752426B0A4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924E1AF-8891-4227-83EC-44E6195E617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90A3F9F-726C-4421-8029-17E2D966883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308773E-88EA-4CBC-AFD8-C91AE33391C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AEA9DFE-1616-4B33-913B-E9AA7DAE6E0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B7E25DF-2190-47A2-8C79-43336B65826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19AAC2-AE73-479C-AD36-959F1F50A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6720D18-7B15-4368-8B6C-181E50D7D45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2EBFFF1-0DBB-44BE-8EA1-09AC2303AEE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883FA1A-6CDC-44E1-924D-F2D82B14618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C5A1918-DEDC-4F7B-BBED-1945B4FD351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EAD55AE-9279-4173-87BF-3C58B205911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2DED5B4-9B74-4A31-855C-1B36BB3A9AC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DF508D3-E032-4D6C-AED2-116C5DEB388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07469A7-AFC4-42C3-865A-67FB9853B7E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6703B92-4649-4984-81FF-B4A3B6B11AC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59ED3A1-33A0-450F-86D0-8C22ECCAD4A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83E014-DB71-4AD6-A338-A79014254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A2B098D5-2925-4830-B4B2-184197D1FAA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E68E9D3-D95B-4E8E-BFBB-A6B73B0A0C4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BC49040-6A8E-4001-A9E4-3F665A6A77E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3F3A85C-0A09-4F3F-BBDB-9A5F58BFC75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EEABC8D-736F-4427-A371-E3B190A6387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6ADB3E0-3DBC-48B7-8B5D-8230AF4A2C3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97E49F1-624E-4808-B414-D495DDB8D3D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DFBB846-2D9E-406A-B403-30B286E5C74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9B55FDF-9C6C-4623-8FAC-52B233AD0BA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A2D3CB2-3EDB-4B5D-8D41-D26C7DD775D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130BA2-2E5F-4F4F-B57F-DECBD02DF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4E8F832-BD0D-4DF3-87E0-1E9BF715D08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487ACF0-8223-4AEE-A925-B7BE101B965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6992DE0-7E81-43B3-9A02-F11ECFDD5EBD}"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0946209-5190-4D98-8C91-820B3FC9D6C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32A014C6-C11B-46CD-96B7-578CB9B6731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7A135D2-3906-4B44-AD19-DBCB37930EF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2FE9613-D43D-47F2-8446-88103741AB9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EA43ED4-F2CF-4988-B909-BB5FC9BE549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40CC162-221F-4603-BC97-791FD42A6FE7}"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05614BF-B7C4-4611-80CD-4EA72DDE90D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E6E3-005F-42D6-B7C8-FF48C59478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E3874F-6E4A-4C6F-A555-54683D0E4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23F9E40-540F-4E65-9BE4-74108AC3351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A11F3E8-A548-4B76-981C-2FB11259B62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5B4016B-ECD9-4AD9-A20B-282F70F3DB3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77CFE0A-4C9F-4A5C-BE59-7D6103ADE947}"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CEC792C-0C59-4000-90B2-87D23B44DE9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E51E2156-E2CE-46B6-BABA-D7B4782C9DC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56F21931-46B6-44B8-ACAE-C62775DFA0C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30B56DA-44B6-45EA-BB21-2596650E0B1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4721BE8-7F41-427B-8755-5A501F88CED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A32C50E-0910-4448-B3F8-34F4A299DD9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B43291-E800-4F2C-8D99-29F2E4AC7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23793A0-8315-4779-87BF-A2F4729621D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9837C63-3A67-4A7A-BC30-DF9C9B8C8B0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330F91A-F9D4-435D-BA65-9E1788A60CF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CEAB09D-0C8C-4451-847D-518D479DE4C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2AD1CB19-C552-4CFC-85BE-B848D32CF91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EF3C43A-9201-4847-987B-4EA44AFB917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19C6939A-B314-4297-96A7-27A26C764B81}"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7F127E0-9A51-4C5E-8744-90A2C6D397C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31BA066-7C09-404C-A60F-3E4BE4BF325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B0BF8D7-2C72-41B8-952C-44CFA78A5A4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30E69B-0A18-46FA-B5F8-9E39B73D6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739E3F2-3095-4FBA-9467-30FD8F35BAC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F51C41A-D49C-4B41-AD73-EC6D0447B9A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51FFA50-6C15-4FDF-B7ED-1C9F6295CFB9}"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2D7E548-AC6D-4A13-8358-E4B654290DD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1B3628D-1297-4B89-A2B2-955363291CF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FCA2DE7-F7D4-40AC-90DD-08ECF14986D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B5BA68A-68DF-4D01-9145-8E87D1C6BBE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107BD4E0-401D-4816-8803-D471378B4AE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737B14F-7CA8-4ECD-A168-CBC7FCA6E4DE}"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65DC319-313C-40EA-ABF0-7BD165675CE9}"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16518A8-E95F-4527-975E-8DBF23D5263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44F1D44-CE83-4C6A-A38C-68B8B8B99F2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7729AEC-3A6D-4D0B-B43F-365479C61FA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DA08C8E-60DB-4CB9-819C-B6C3245191F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439D144-BC2B-45F6-84AE-347871B768C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565D6B3-814B-4E53-A7F4-526871CD492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105EFF0-29F3-439C-BBF9-F5E3A725212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B109622-8607-4F97-A89A-7095432649A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4740243-48C5-4940-A2AE-8820AFE5346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DCDA31B-CDB0-461D-805A-BC77265113A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FC3911C-386E-476C-A530-EA37D93919BB}"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6E575B9-3558-4E21-BD77-AFB93A20A59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9F6B351C-6D8C-45C9-8B3A-9DB6EDC703E7}"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2B623F9-4281-487B-A996-8D5D7FBBFB4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65B8886-4BAB-4031-A5B5-5DE94170AEB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9C096C5-DAAF-499A-B34B-E76B686E430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8C9A7B3-7B54-4E5E-977C-5F0754CBEBE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F6F53D1-DC1F-44C6-BFF1-8FCDB90F2D6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9349B92-3EC7-4BDD-8BDD-F26E91D76F3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8613FF1-DA80-450E-BA57-FD2C2C1FFE7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82726A2-7185-4633-BD18-559B6F6C354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E1FEE32-CE54-4292-95B3-808D622D78A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FF3D721-370D-48B2-BDF4-46CF1DE7936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1D6025E1-FDC1-4A59-9685-00A3C296194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F03328F-1883-4D7F-84FF-FE7785346EA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F95E1DC-59D7-4334-B325-70029648FCB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11C0CB4-B792-40E9-99E1-FDABEC36344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057D9DB-CA44-483A-95A1-FE781CD4514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8053EA6-E625-44C7-9A57-22149DFDA51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4DFFBD36-172A-42B6-9A30-EF70D3CEE2A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E230C88-72D4-40B3-873E-7CC2010AB03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3FAFE96-EA47-4F37-B7D1-30309132404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3F47A9D-6324-47B1-AB38-ECFF6EA4CDF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C8D38FD-49BF-4B0E-910E-CEE4F53E0EA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93DB9AB4-79C9-4B4E-8673-DA2A1FD77F3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5D0B4FA-389E-4921-B740-F9DDD860CB05}"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B480422-A5E2-4891-A1E0-079066C8AEB8}"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1324AC6A-85ED-4624-B43E-9AF4FF4E690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A373647-491C-4A99-B808-0369861A26B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98E4C97-6037-46BE-A9A9-256B331EBD2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F14DF07-B9C6-4778-906E-4604AEF5CAA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B7C66A8-19BD-4B9A-9051-CA322CEA45A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BED8CC7-B7E8-4C74-9639-3464C49CE7A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4EFE91C-87F9-48D7-98B2-D05D10DB4D6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8CCA1C4-960C-4238-8881-BD67B137A3B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0872ECB-9FA8-416E-9563-2416688B6AE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B7DD3ED-4EDD-4926-AE8B-7F8D41DD1CC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D901D2A-3A4F-4379-A436-EE4293E54919}"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CC4C825-568E-4593-84DC-2B52FE0B4A84}"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6344C7A9-CF3B-46A9-8900-10B6BF838D24}"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4BBCCF3-1985-4054-867F-AB032445499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2E4C70A-C309-45C3-890D-CC4CCDEA1D7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0D7B577-AA0C-40F1-8765-1671146FEF7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0B9B9AF-7338-4402-9CFE-C29B5A799C5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0DA17D0-6B6F-4146-8797-1E446996806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BBC9176-9D83-4105-AB7B-9CF6D0B6EFE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86C1F65-326E-4AB4-BEB7-8C8AA24178D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2709BF2-BB73-4DC6-8AE4-827BD357131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55F45D0-EDC0-48F8-91F4-7C35FD4492D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7CBB42F2-E982-43D0-A987-1541EC5A82A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964C7021-9BEF-40B5-A0C5-DC97800FC75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F776-97EE-477A-9DD3-1B5F613ECF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D3C417A-6A16-4273-98FC-50C724B70D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CC1EA0F-4646-416C-9A06-93ED5870841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BC56FE5-6628-4023-9C04-5E3C0AA4E9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A93BE-6E24-49E6-A50F-EF47A6B54D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2665786-6ABE-4B81-A4F4-34B5CD02C7E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4F2AE003-E5AE-41BB-AC16-CE4531D6B8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9005620-C3A5-4152-B09B-E370739834F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B66BF77-2F6E-46D4-8C36-0141550B11F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CC664BD-0286-434B-A2E4-E969ADF2218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8FC3F48-3131-41C1-BA94-8CF3B684928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3251881D-B488-43E9-AFE6-9B0CD95E656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98C9AAC2-D56D-4365-A5A7-85E682FBD8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5783B82A-E74E-43DB-9FC4-423F6908E8D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F0A7F79-144D-46B4-9F44-81088C5FD59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7B78EB-BAE4-4C7E-A599-4F03BC44D14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4B1399-6B0A-4AEF-9212-AD633226F7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67512F-53DF-4C7E-AC1C-7F271B5585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CDC6CB-D96A-4772-A1D8-B9F6CB5DE3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6EC625-5F5B-48A4-8A30-8648B853C8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75246A-CED1-492D-805E-D613DD99AC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C37296-156C-475D-8003-69E650D933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3A3BFB-927D-4EED-B74F-9890FA42C2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56ACD0-9322-46FB-98D1-5D3A80B569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3AECCD-795A-4EB0-B47C-26A9D1CC42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068F855-0684-499A-81C6-C2633454EF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2578D01-AEFB-4849-95C7-B380E7801B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3A5695-A3FA-4E71-8F65-F44656AEE0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1CDCDB-50F4-479A-85B7-AA2FA48625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8C52A6-986A-4D57-A6ED-32713E33BC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E3DB93-D956-47CF-B0CB-AE53C34C22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8B4E1D-3EFB-4DE2-A58D-6B4706DD7B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4362E1-5E0F-4984-8C58-11CE22CC0D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66F210-8355-4580-BCA7-B29416D3AD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BC905D-7A28-4D45-AE5F-131FE87948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F73603-38C6-49AC-83DA-FAEE6B7B4E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BCEE8E-8E26-45FA-A4D0-A9AE95A14A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05CA9-E7E3-458E-9AF8-2B5060A0033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68BFC3-5547-4A04-9D90-FE9920734B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2BF908-7BE5-49AD-B898-B51068502C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F248357-7722-4860-8329-F16F556051B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4D0B1EE-EDA4-4450-8958-2346F0E937F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7F7374-76CF-4DD8-AC73-07F6D77935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D11EBC-0FBE-446C-A07A-BFADB690EB7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3C7344A-8233-4A5B-A060-589DE37813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4F370F-F853-477D-941E-E8D1198A77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4D3AFA-DCBF-4E46-881B-79F6BF24FE6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74DE12-745B-4932-941E-DF2E13ED54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553CD-C94F-4014-990E-D93C379927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2C6112-E57B-4DBD-B066-4781BC54B9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11B045-A263-40F3-BCF5-C88404C467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B0A64D-8625-499D-BE05-5B952E4F556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20AD9AF-C455-4CAA-AD4E-D2568119642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90346E0-89D3-4C60-9286-86ED2757B3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2C0A4E-8311-4784-AAAC-1B62A1A7101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48A534-9B20-4E09-86F6-2D75BE1D3DA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C36385-26CC-44C3-9F85-9E9582C5D57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C6803FB-49D8-4C58-8127-A22F831E48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998B45-2FB1-4975-A66A-43661E76185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C8419-E3BD-4BFA-9EF9-5172224A0A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CFA4E90-FA5C-434F-9B61-CC2BEEDE559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15105E-A52A-4217-8294-2270077348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5DEFC1-E8A4-498C-864E-2A28862E2A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FC67F0-D0E7-41C8-96D3-38DAD6FFBE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9ECAFEA-3B59-4595-A981-EEA91FEDF0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1AE5EF2-4990-452F-9994-A216F8D0094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3FC42D8-E9AC-4BDD-A5B2-0CA2E457E15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6333045-1549-4E83-9DED-92505C6D5BA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2025462-5E30-442D-B732-294E94360B4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16EF967-3B70-428C-BD23-CD557247947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3B4F-CEF0-4FDB-9156-4393EA6F7DF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D5C3-F01A-4C5C-825D-12FE2B18867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A335-8D8A-4125-8378-A767B3CE366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8426-EAD7-45B9-89B7-C4EB6DD5461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4A6E-EAFA-43E5-8847-52B367F46E4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9805-8642-4A8C-957A-9B9101277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753D-6948-4A10-A5F1-2C161BC4E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2E45-ECD8-45FC-ADB4-74AEC4C1C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9309-2792-4120-8EC1-33B321AAB3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0BDB-2CB7-4E04-A060-7192FCFC5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46AD-415B-4610-AC75-042D5B269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8673-020F-4BA0-88FA-E3F5134D0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909E8-09B5-4579-B621-A746B0D01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2F4D-542D-489E-A803-D7B28A76C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AD45-B5B4-4D3B-B154-7F65DBE54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8252-E632-40B0-A6F1-681F9EA44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41EF-32F2-4D19-944A-3169C6AE4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A598-BE39-4CAF-A86E-520C6236582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EA3D-8C48-4D24-9588-CCC72928FA3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C19D-4B85-4780-B4DE-2A358B90E8E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D5F4-1EBB-4533-B2B8-A2A81EE2560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05754-012E-460F-BAFE-CD2EC772422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1CD2-1259-4684-A7DE-62AD67561E6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7</a:t>
            </a:r>
            <a:br>
              <a:rPr sz="3400"/>
            </a:br>
            <a:r>
              <a:rPr b="0" lang="en-US" sz="3400" spc="-1" strike="noStrike">
                <a:solidFill>
                  <a:srgbClr val="000000"/>
                </a:solidFill>
                <a:latin typeface="Calibri"/>
              </a:rPr>
              <a:t>Company Assessment—</a:t>
            </a:r>
            <a:br>
              <a:rPr sz="3400"/>
            </a:b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3" name="Picture 4" descr="cid:3287383400_2177562"/>
          <p:cNvPicPr/>
          <p:nvPr/>
        </p:nvPicPr>
        <p:blipFill>
          <a:blip r:embed="rId1"/>
          <a:stretch/>
        </p:blipFill>
        <p:spPr>
          <a:xfrm>
            <a:off x="533520" y="685800"/>
            <a:ext cx="8118360" cy="2647800"/>
          </a:xfrm>
          <a:prstGeom prst="rect">
            <a:avLst/>
          </a:prstGeom>
          <a:ln w="0">
            <a:noFill/>
          </a:ln>
        </p:spPr>
      </p:pic>
      <p:sp>
        <p:nvSpPr>
          <p:cNvPr id="1024"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25"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7-1 - The Value Chain</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3B6D-466B-4DE6-9B4A-FC0C556D6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nji.PNG"/>
          <p:cNvPicPr/>
          <p:nvPr/>
        </p:nvPicPr>
        <p:blipFill>
          <a:blip r:embed="rId1"/>
          <a:stretch/>
        </p:blipFill>
        <p:spPr>
          <a:xfrm>
            <a:off x="609480" y="1704960"/>
            <a:ext cx="7929720" cy="46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e chain analysis allows the strategic planner to:</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dentify what activities can lead to advant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cilitate identification of what activities for a particular firm do lead to advantage</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04BE-9310-4338-BDF3-2090EEC0A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mary activities are concerned with the creation or delivery of a product or servic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bound logistic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bound logistic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and sal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a:t>
            </a:r>
            <a:endParaRPr b="0" lang="en-US" sz="24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3A6B-994B-4ACC-922E-602A5A114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activities are needed to perform the primary activities and contribute to their effectiveness and efficienc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rm infrastructur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resource manage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develop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urement</a:t>
            </a:r>
            <a:endParaRPr b="0" lang="en-US" sz="24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A6F3-E2C1-4A6C-B973-8AC74D71D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1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dividual activities of the value chain are strategically relevant becaus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of them can constitute a cost advantage or differentiation advant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of these activities a company can either win or lose money, depending how effectively and efficiently it performs them compared to the competitors</a:t>
            </a:r>
            <a:endParaRPr b="0" lang="en-US" sz="2400" spc="-1" strike="noStrike">
              <a:solidFill>
                <a:srgbClr val="000000"/>
              </a:solidFill>
              <a:latin typeface="Calibri"/>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0EDB-8517-4843-806A-7E00245B0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1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Value Chain</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value chain analyses should answer the following question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activities of a company’s value chai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of them are strategically important in the industr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well do we perform on the activiti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ctivities generate profits and which cause loss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ctivities constitute competitive advantages or core competenc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ctivities should be outsourced?</a:t>
            </a:r>
            <a:endParaRPr b="0" lang="en-US" sz="24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5B94-E207-44E8-88EE-BF27D2439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4">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14">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4">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14">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14">
                                            <p:txEl>
                                              <p:pRg st="5" end="5"/>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7-2 - Analysis of the Value Chain of a Pharmaceutical Company</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EA59-3B47-46CE-889F-F95E8494D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1254.PNG"/>
          <p:cNvPicPr/>
          <p:nvPr/>
        </p:nvPicPr>
        <p:blipFill>
          <a:blip r:embed="rId1"/>
          <a:stretch/>
        </p:blipFill>
        <p:spPr>
          <a:xfrm>
            <a:off x="1219320" y="1544760"/>
            <a:ext cx="6727680" cy="49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7-3 - Strategic Priority Analysis (SPA)</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E9D8-A98C-47AA-9B3D-D27B0DA92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456.PNG"/>
          <p:cNvPicPr/>
          <p:nvPr/>
        </p:nvPicPr>
        <p:blipFill>
          <a:blip r:embed="rId1"/>
          <a:stretch/>
        </p:blipFill>
        <p:spPr>
          <a:xfrm>
            <a:off x="1184400" y="1600200"/>
            <a:ext cx="689292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4T13:15:06Z</dcterms:modified>
  <cp:revision>506</cp:revision>
  <dc:subject/>
  <dc:title>Slide 1</dc:title>
</cp:coreProperties>
</file>