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2"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move the slide</a:t>
            </a:r>
            <a:endParaRPr b="0" lang="en-US" sz="3400" spc="-1" strike="noStrike">
              <a:solidFill>
                <a:srgbClr val="000000"/>
              </a:solidFill>
              <a:latin typeface="Calibri"/>
            </a:endParaRPr>
          </a:p>
        </p:txBody>
      </p:sp>
      <p:sp>
        <p:nvSpPr>
          <p:cNvPr id="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5"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6"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40B1-BD5F-448A-BD8D-CDB6446138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E. Porter developed an analysis framework consisting of five forces that shape industry competi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argaining power of buyer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argaining power of supplier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hreat of new entran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hreat of substitute products or servic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ivalry of existing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36FF-8BE1-4A79-82BD-3E0E05DFA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E1E2-4C6F-40E3-B076-D7B1CD3D1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7742-D7B9-4F1C-9909-F19148A6C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E451F-73F1-4E48-B8AF-47780B5E8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097E4-CA83-4126-A348-628EC518E5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A17FAE-4920-4E0D-81C9-4018C6F470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26AFABD-1AF4-480C-A1BA-E623AFDBF8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94108D-4CB1-4713-9486-4FF923148D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282AD7F-1CE7-454C-B857-69E1056431A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891234-70E2-4F01-A78E-D60195AB8F6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C15681-D40E-4331-B2F6-3DEA18F264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0B90C84-4A9A-4D9A-B654-B0F76D3ADD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1215967-4B75-456D-8E0C-198B6D81E4A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9C25A77-E5B2-47AF-B13E-693B4886780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FCF4914-12D5-46E7-9FD6-F3B9C67D706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89342-EEE3-4F12-8CBB-CB9A4A677F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8C506F-DD08-4405-863E-FFB93309C1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2EA4D1-6BD5-4338-8A90-8EEF63F0CF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F2FC45-0281-43C5-80CF-8F5BF1D4B0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F82E82A-B4DA-40E2-8591-CEC24A1FD65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551900-B7DB-475C-9A79-03801EC5588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D3E479-A93A-4A26-9CA0-8FB1B2B49A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0FC8F6-F11F-4A27-AFE0-1423FF5805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9DB058-9F65-4F5E-8B90-10C0F170B1E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158E84-DD46-40C6-9F26-E09207E7C7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D539277-55CC-4F55-A6D4-62855F84E10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D5E5B-04DD-4B30-B541-D01F064218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855E7CD-A52F-4734-AFDF-72874C2EC26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B60DD7E-BF03-44CE-9577-CAA7D52D427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9979DE-4628-46B5-A285-3BE7FA072AE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B2EAEBB-CB6C-4899-9C7E-B3B7FFEDA9B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00191C-2950-4F8E-B2B1-530CC468AE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BBD355-4123-4EE2-B12C-E06D722760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2582F6-78C7-4D34-B371-0283118FB9C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D765A65-AECA-4FA5-B636-13F9CB47049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CAC0BC-82A6-4FF7-8189-FDF1A456C5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5FBC8B-E271-4064-A263-FF37EF2167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C13C12-21FD-4E7D-A7B5-9E1EB6B76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E4A42A-CD90-4225-8734-7F6408CC07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0C3890-ED36-40AB-A4A3-8617ABD934B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056F3C0-CB22-4F71-BA7E-0C4F91C58B4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8B2479B-465C-42C4-BB70-D5F1D20622E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0B30F7C-8958-485A-9BF6-301F377EE7E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BDC3E28-0F3E-4DF8-ACFD-30D0BB09717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1B15E9E-4B3C-4834-8652-9328A8E3A7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97E250-E9A7-46EC-ACF7-2D2D0547F0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4E7A258-3D46-4BBE-B09D-5DE0ADE04B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09B3BB-AA3B-40D5-83F7-D0E9D92AB06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76015D-BA24-4A76-BC5B-F8C2CB878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B81403-46B6-45BE-888D-24390667784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2EC2FE-5CBD-4968-93EB-B926FB9F17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C8453E5-C86C-45AD-A96C-A44EC1C0137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29CDC63-F080-4214-9CE1-C3D8556DDEA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BD06004-7B3F-4345-B551-807B9A0870E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24611A-B0A2-4812-AEFD-349FD996950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53C4B9D-1CE4-4D8C-9B4F-6C32FF28E41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C734A5C-3700-4A96-86BA-7BED409B40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BAFD0CD-BD30-4B68-970B-14DA2BC8E23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905C556-F491-4BA4-8A77-F251C9422B2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B570E1-B8AE-4304-97AC-3769A0BB8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0EF7FB2-83D6-4AC9-BFD4-5466F3CB18A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4E88E79-1062-4FC8-953D-B5223C141D4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89C053C-44F9-4812-9356-B756F08427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2AA8AF-B207-4430-8484-69B9263C933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CCBF4F7-D4BD-4600-8EB7-C63431E6E9D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8352F92-BF6C-4469-93C5-295DE18DC7D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2B9527A-7A3B-4A12-BBA5-EE920C9BDC1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2A29930-16EC-4D08-92A3-6ECC6EFDEDF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089F008-02FC-4E6A-B825-B5B85238359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3918238-B456-4A13-B556-FC4347F2DAE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020869-34CF-47B4-93D3-05F2E7EC8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D7CBAFA-65BA-4A27-86A8-AABD9615189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6611136-F311-4C96-B731-4BF9EEE23CB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7874638-7CC1-4057-B826-9382D7E9B66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5D70CF-F9F2-4C94-B3D1-F70042C7025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4F38E6D-5B1D-475B-81FF-995F3AA496A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37542A7-B37A-4BBA-93BF-1F3BDE98A8A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90D47C8-B356-4345-A785-8DDA337AE63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512B162-C397-49EA-875C-4CF28A0E24C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81D33FD-9F1C-44E3-8D03-4DC3128BB75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69AD011-6BE4-4B71-94A0-D439C795DE6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2AF765-B5A7-41DF-AE21-823D350BA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1020B6A-5F5C-4354-BF61-7C122ADCAE1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768A9ED-3DC2-43F0-B1C3-4EA0386C1AB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BC0E9B9-E2E7-451B-A52A-3D07EA27244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1FC1506-7568-42E8-8CFC-429B8F13E59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1AB6317-1574-4C3F-983E-0953806C5FC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B5511FD-DEEB-49BE-A339-AC0FDD13DA3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F621DED-CB59-40DA-BD42-9A50CB9F1B2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5270DB8-C6AE-4E03-8D75-34BABB78AA2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CBD8047-5002-4088-A7AE-ABAC26DEF0E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4B6CFEB7-A807-4372-B7AF-BFDCA039F8C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16CB15-E49E-4E1A-844E-DA28AFE53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FBEE942-EC66-4E50-9601-A277B136F46F}"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DD4B020-21EA-4E45-A73C-F99D36230B75}"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7020C30-1C93-4B90-8C3E-7DB0CFC3736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E03D930-7E89-4AA8-932F-639F45C345D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B87784D-483A-4EF1-9686-400F8479FBF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1E2BBEF-03CC-418A-B163-9FC3A1CFC45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9EAB347-846A-4588-A9A2-52BE2009F3F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13DA1E1-617A-4B45-9872-C3BADF6AD26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875CCC9-137E-4144-B6E5-CD36B15C357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7373D43-8E3F-49A2-B7D3-F2C2C13D0F3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C02A89-D808-4F14-BB11-5D50D07043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5C54F5B-3E8C-407D-8D4B-901166D271C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F03D26B1-FB1A-40B0-936E-3C99FE95B538}"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619F3B7-9DC3-4A40-9BBA-41CF1D56EFCC}"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030E09FF-BB79-4FE9-98CD-35B627F0C46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8C76A0A-81C0-4792-A84A-5B775D0C4D8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7402E7A-82F9-4357-85DF-4FCFD14EAFE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7571DC0-8E79-4C9A-84F8-26DE76B7F3A0}"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0B84509-46EB-452A-A2E6-78EEA346742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CFDD0F3-593E-4688-B643-93545C37FDE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4F94275-0F51-4784-8575-842871256DF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9FC3-DA4D-4DEF-A684-9006A19C2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DFBB9E-0D92-41D6-AED6-4CB0493630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9CC28A5-2767-4250-BE1C-DB6BE066420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78332F8-2C08-455E-98F2-BBBE83AB4E1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2C8DCBE-F991-495B-8CF8-EE505CC5C0D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BD6F5B2C-AAC3-434F-8078-6A720E353A4B}"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15D7A413-A5B0-415C-BD6D-BDA99DFBA05E}"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42260EC-2D50-4A82-8E81-A262583BC8B4}"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CB1D80E-79FB-454A-84B8-8DD3D98553E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367B1D8-442D-4055-A579-A8E4944CB1B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75F4D4CA-2C0C-4144-AD84-00B71170F10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A7719629-9584-4479-AB3F-015837E4B2E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D068E3-C15D-4712-A034-DF972D97F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EFB4478-52CD-40B1-BA4C-758C20B4717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9A49387-4245-4483-828E-63D86E98467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62635F3-CC3A-482C-BC98-2628DED17FE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8E23B02-B054-4FF4-8895-4D4242D1D3C9}"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0D6F350-0FAF-4B0C-9D59-B938CDB79BB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9A3BA6A2-1D8A-45AD-B7EE-BEC16441CE6A}"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3BCE948D-D868-41A3-B7BC-5A054B1B01C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475ED3EB-449A-43B9-8AAE-EE476B05C72F}"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56A453E-2507-49CB-A9CC-AB6B1AA7C59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DC0D600-42DC-4567-8F54-DAB3A2AB786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EB72A7-B1F0-4A48-B1B5-D85C72E32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F711510-7163-4C54-84C5-EA39ED42BD2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2FC473F-215D-4769-B456-E83A03E7A4E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44C55592-E91E-4400-ABB8-FE21898688D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15576185-757D-4B4D-B36E-725424399C3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7A173DA-FF43-4EB6-9A4D-4FDED12C7C4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86D84F87-8374-4F7D-A0B6-E0871AC522B1}"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02F0F59-303D-4586-A03D-DD9D0EAB42D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F8AFF29-2C77-4984-9AE0-4C6A86082739}"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889CC342-E458-4FC6-8798-078C9C7A5C3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04C1BDD6-8DC3-4586-918E-0887BAEE0BDE}"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1DC6C5-9DEA-4713-ACD1-3D6A641916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A097414-040E-40AE-84A6-E1EDB76994A5}"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B5DE469C-A448-49E3-96ED-DBF13ECEC41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FD8C4680-445A-43F9-8DCA-2829B5515E0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6240BE3-36E7-42D4-9054-B694E1D95758}"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142C34B-042A-4B07-AEC5-1D4335AC862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BE0FF93-041D-4CE1-9EC2-5FAF84576B5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5E59DA6-022B-4B75-946B-D1D17F347CC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2EBFD93-1306-4EE2-A1CF-45ED17D3674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08F15AFA-3807-4EEB-AC96-45700EBA8D7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39BEC92-2E0E-40A7-966A-57D626472E50}"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328040-E9EF-472E-93FB-BC60AD81C64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90070600-FBFA-44B0-BAC6-D460C1B23362}"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6CFD42F-CD71-4980-BA1D-2757103A1AE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45F5CB4-5C47-4D37-A401-01FB73A8CFE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2FD64D8-8924-4D87-9CF0-245CE75744A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B75BC18-C7CF-482E-841A-0925A10DD84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868E7D1-16E5-4291-8B4B-537D9EAFCA9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9046B4F-6571-480C-8B99-24E535384F9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0F52A21-665F-4117-B2BD-6C7BE4DC5DF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C1D6472-2069-41A1-80E3-D79AB126DAC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A45C767-4927-4833-9846-65CEDDAD91F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C946CA2-E4A2-469B-AE51-C2757DA5923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49A18DC5-DF46-436F-832D-C97547460C2C}"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FBCB6330-7741-4E6A-A397-566E55F6C56A}"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3732B047-52A7-4EFE-8B33-872571BD092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F4DDED0-1049-4214-97EA-5DB6763C247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7F11414-9A21-4A8C-A5D9-02D2C9636E6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FB51AF6-7E5B-4459-B33C-4300B3D7BB6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987B579-515D-414E-9055-70C2AEB2BD8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41211ACF-60AB-44B6-9CC2-C07E55E2BCE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2CC2303-BAD7-4057-AE53-8FEAC23A0DE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0FA2E5F-62E8-4C98-BBB7-145A029896A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35133D3-B0DE-4CEB-B87F-C989A28CB54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5955886B-B6EA-4D9E-84A5-52B714F4CF2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637DB97-B756-4CD8-BBCE-93929552EA1A}"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9AC965E-5B87-49D5-A0D8-31E1BED37026}"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06401C4-756F-438B-B17F-39E2748A898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B37E3E6-BBBB-45E3-8DCE-26035B06F650}"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0CFF0EA-F096-4B6F-A1D5-C5D66F0A0E1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210093B-F4E1-462A-A579-004E7C6C4F8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F016635-76D8-442E-9773-8D79859BFEF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1415045-A11A-4167-9381-046FDD4E7984}"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EE813AD-9AD6-44D0-8490-810BABFEE52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CD97A0D-08A7-45DE-ABED-7D5DADB6A37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AF26F94F-E4E8-4905-A2BB-06B935DAA8E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36E451C-094B-4CB6-ACB4-891AEB053E1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FCEC633-AE3C-42B2-8413-B841915466D6}"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780ABAA5-68C2-477E-848E-1C7C39F7F1B7}"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9E68EA4C-CE8A-4022-8DE1-894F84A37852}"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A426BF36-FE10-47B5-9DAA-712A297979D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BEE6A78-E3B6-4476-AEE4-B8ABCF3E680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41E6F2E-56E0-4176-A0EB-E2D31FEB174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C724B6C-FEAB-428F-9867-28236221F21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F5A2BD7-58A9-437C-A3D1-C0944A14A6F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C7BFDE7-B91D-4204-9E47-CAA32CB9A5C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F2BC36C-8964-4921-8C9E-C594FB4F972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6573D77-5E6C-4575-926A-CE7E1B07B90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B49903C-3422-45EC-9E48-2200FC048A5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21BEB4D6-E0D5-414A-A14F-64130903A9C7}"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CAAED1B5-6F5C-4656-8A77-37022AC0ABE7}"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7890-36DE-4F3C-9B9B-6DD1D5734B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3F4F9E-31C5-4AC4-9377-08686E5A66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8BEA596-251A-4DFF-A3E6-013FF9EAC51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BFC3AD58-BD6F-4FB6-8641-B0E8F70189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BF941-7828-4F04-87CE-99ED446FBA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E1B06507-976D-4C0C-A497-546A3661C3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5E3BC57A-C516-42E1-A317-19895A11FE1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EBCFA74-71E7-4954-9AD2-179AD8EC82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52C0A17-0253-41CA-B7AA-13E2001E4D5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528EC9AA-D752-43E1-B969-69A9A716B8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0AC15E5-AED2-49EA-A26E-5B6A8CD9DA6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5B124FC5-14F7-47DE-AFDC-A8EC980F450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D168A921-151D-4B97-BBFC-B2421D61AA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EE36E5C-EB71-4E45-A0A4-150E700CA4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58D16A-F8C2-4F5E-A83E-8C4BEB077E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47D67-662A-40B5-BFAA-7DFCD188FD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104FE9-3F92-4D12-859F-E6A634BDAB9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D4F166-BB91-4608-97F6-C917F13BC1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592286-A3AE-4E7D-BAE4-B4CADF7BF9F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28C3B7-E0EE-44F2-98B2-6E7A44B35B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1CCA23-461B-4794-BE7D-DE97549ACF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4032F6-C9DF-4779-A37D-AD29F44A0A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C6E642-5EE2-4005-A58D-A1ED145D76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6FCF95-9392-4464-8F41-58502C2E6F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6E3F06-ED3C-44C0-9605-D9FB5D058E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45E750-2957-4FA1-AC14-C0219AB57A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3ADF73-1466-4FE1-9300-138F47A5E9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64D7FC-9B11-4841-B9E2-C9ED53CC22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87AAF4A-B1CE-4724-8390-922BA9E78B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47F08F-A5EB-412B-B8BB-9DE9263942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AD42D4-45C4-46D8-A892-D92EC97355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6024BB-1DEB-4299-9AC8-F8A329D282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1963CC-CA08-4BD6-8C0B-A196BA4B14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6DDB8B-7E44-4D8C-8AF7-765D4B8669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2D0AC4-6A63-474A-8D15-32074CD267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6EB1D3-7680-4906-9D92-48E7DB4E82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08CCA3-43AE-439B-96C9-181BECECBC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FC773-0C04-425F-9198-7C4A83C1E4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201FAB-7989-440A-BB77-1FAE077FB6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4E1E73B-ECD2-44E6-9669-7144BFA877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0AE023-F98C-41B2-AD7D-D0F06FABE9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A72DEEC-F5EA-433C-84DE-2C4898ACC3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D67D0E-3B57-42A0-80AA-E615BB5175A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A0B0D2-811B-43C2-BD15-B249ED06D45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018B213-E0DD-4BB3-BCCB-FDFF97F3FC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392F54-3EF6-4C0A-B879-180567261C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2A08D3-C764-465D-90C6-346D5B3A41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FD324F-29D6-418D-8075-BAEEFDC88C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1FE44-6DC5-4459-B926-73AF29C0905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2C565D6-50C2-4569-9500-657B0371F5B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2B2B8F-59F4-42C5-B77F-4C1404BE77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4299658-F7B8-4DB9-A48D-DE7AB3AD19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AB05D38-1D59-4585-9EBE-B4169464DEE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5AC83C6-84A4-44F7-A39E-6D50D6273C1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C5B647D-BE83-4B18-AB79-C09F2FB961F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8EA236-6DC7-46AA-9F04-27DE551824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F451AA8-6271-4125-B336-7141570127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61BCC82-98EC-410A-886F-12B800962A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EC9F1C-837A-4A28-A6C2-8B86FBF36B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DBC2D-414B-43E0-961B-BF6F312175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2D263F-A92F-46B0-BDBD-B3C9325E93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7DFE3C-4E73-4B24-97C5-9027DE742A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F245DC-5919-45FF-857B-DA93A5E14B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9C82FF-422D-42FF-B21F-D20958CF45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559DE69-DC9A-45B0-A600-A95624B251B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840CCF9-8DB0-429D-AA7C-C54508D5BFC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9C73B1F-737B-496C-AC61-5D07D8EF784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76F4D1A-DD38-4A30-BBC1-C4A2B4A2652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48866E-5857-4C07-80D3-75865643B1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1D0B4E-3060-4AAE-BD7C-8AA58A072D4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3245-D210-4FEF-84F2-7A7DF44116F9}"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
        <p:nvSpPr>
          <p:cNvPr id="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7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7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DFB7-19FF-4463-AC9F-95C74E0B1E0A}"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1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16"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C052-EE53-4B2A-B7B0-9F678C5726A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5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5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458"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EEEF-3209-4FFA-873A-61F2DEAD3857}"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500"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EF9B-C2A5-4E6E-BF96-7EBDE705C70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1"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DB37-297D-42F8-9506-2039787AD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2"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A17D-73F5-4494-A815-472EAF74F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3"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5"/>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B1DC-7215-4652-B1EF-5640BE57A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4"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FAFB-138F-4BE6-8CE1-0B0988E97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5"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687C-A08F-4EC9-A8AA-1BA0C2465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6"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5"/>
          <p:cNvSpPr>
            <a:spLocks noGrp="1"/>
          </p:cNvSpPr>
          <p:nvPr>
            <p:ph type="sldNum" idx="5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AFCB-DA25-4B7A-A07B-914250CD3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312E-66DC-4DDB-95E3-D3CC0B6AA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7"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011A-BECE-429E-924F-92293EAA7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8" name="PlaceHolder 3"/>
          <p:cNvSpPr>
            <a:spLocks noGrp="1"/>
          </p:cNvSpPr>
          <p:nvPr>
            <p:ph type="dt" idx="5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PlaceHolder 4"/>
          <p:cNvSpPr>
            <a:spLocks noGrp="1"/>
          </p:cNvSpPr>
          <p:nvPr>
            <p:ph type="ftr" idx="5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5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D63F-01AF-4E38-B271-462E3AD6E6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9"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F38D-BF1A-4D7D-8075-2074A45EC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0"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8353-CADF-4357-BC51-42764C308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6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PlaceHolder 4"/>
          <p:cNvSpPr>
            <a:spLocks noGrp="1"/>
          </p:cNvSpPr>
          <p:nvPr>
            <p:ph type="ftr" idx="6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5"/>
          <p:cNvSpPr>
            <a:spLocks noGrp="1"/>
          </p:cNvSpPr>
          <p:nvPr>
            <p:ph type="sldNum" idx="6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28AC-421E-4CB7-9B11-474C3EE40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59c"/>
            </a:gs>
            <a:gs pos="100000">
              <a:srgbClr val="e1e8f5"/>
            </a:gs>
          </a:gsLst>
          <a:lin ang="5400000"/>
        </a:gradFill>
      </p:bgPr>
    </p:bg>
    <p:spTree>
      <p:nvGrpSpPr>
        <p:cNvPr id="1" name=""/>
        <p:cNvGrpSpPr/>
        <p:nvPr/>
      </p:nvGrpSpPr>
      <p:grpSpPr>
        <a:xfrm>
          <a:off x="0" y="0"/>
          <a:ext cx="0" cy="0"/>
          <a:chOff x="0" y="0"/>
          <a:chExt cx="0" cy="0"/>
        </a:xfrm>
      </p:grpSpPr>
      <p:sp>
        <p:nvSpPr>
          <p:cNvPr id="8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pic>
        <p:nvPicPr>
          <p:cNvPr id="82" name="Picture 5" descr="mooradian_cover.PNG"/>
          <p:cNvPicPr/>
          <p:nvPr/>
        </p:nvPicPr>
        <p:blipFill>
          <a:blip r:embed="rId2"/>
          <a:stretch/>
        </p:blipFill>
        <p:spPr>
          <a:xfrm>
            <a:off x="-195120" y="36360"/>
            <a:ext cx="5700600" cy="687708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24"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0FCC-9A41-4475-A25A-FA3656559B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6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6434-15A2-46EA-9BCF-DBFF4A4BE8B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05"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0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831F-7488-4405-8CAB-43BCC4F05536}"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48"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0583-76F8-4C7D-B22D-FA95694DCD44}"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9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526F-2A5E-492B-9E9A-C4FB8066792D}"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4"/>
          <p:cNvSpPr/>
          <p:nvPr/>
        </p:nvSpPr>
        <p:spPr>
          <a:xfrm>
            <a:off x="1295280" y="66261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2 Pearson Education, Inc. publishing Prentice Hall.</a:t>
            </a:r>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Click to edit the title text format</a:t>
            </a:r>
            <a:endParaRPr b="0" lang="en-US" sz="3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19080">
            <a:solidFill>
              <a:srgbClr val="b8ca78"/>
            </a:solidFill>
            <a:miter/>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11430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6002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2057400" indent="-2286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33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DE72-1020-4529-B8BD-BC2E8BD8F6D5}" type="slidenum">
              <a:rPr b="0"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29.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5486400" y="533160"/>
            <a:ext cx="3276720" cy="510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ote 8</a:t>
            </a:r>
            <a:br>
              <a:rPr sz="3400"/>
            </a:br>
            <a:r>
              <a:rPr b="0" lang="en-US" sz="3400" spc="-1" strike="noStrike">
                <a:solidFill>
                  <a:srgbClr val="000000"/>
                </a:solidFill>
                <a:latin typeface="Calibri"/>
              </a:rPr>
              <a:t>Industry Analysi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able Note 8-1 - Porter’s Five Forces Analysis</a:t>
            </a:r>
            <a:endParaRPr b="0" lang="en-US" sz="3400" spc="-1" strike="noStrike">
              <a:solidFill>
                <a:srgbClr val="000000"/>
              </a:solidFill>
              <a:latin typeface="Calibri"/>
            </a:endParaRPr>
          </a:p>
        </p:txBody>
      </p:sp>
      <p:sp>
        <p:nvSpPr>
          <p:cNvPr id="9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1215-285A-4735-BD01-EF5A850A3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0" name="Picture 4" descr="6789.PNG"/>
          <p:cNvPicPr/>
          <p:nvPr/>
        </p:nvPicPr>
        <p:blipFill>
          <a:blip r:embed="rId1"/>
          <a:stretch/>
        </p:blipFill>
        <p:spPr>
          <a:xfrm>
            <a:off x="2514600" y="1600200"/>
            <a:ext cx="4065480" cy="489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igure Note 8-1 - Five Forces Influencing Rivalry and Profitability</a:t>
            </a:r>
            <a:endParaRPr b="0" lang="en-US" sz="3400" spc="-1" strike="noStrike">
              <a:solidFill>
                <a:srgbClr val="000000"/>
              </a:solidFill>
              <a:latin typeface="Calibri"/>
            </a:endParaRPr>
          </a:p>
        </p:txBody>
      </p:sp>
      <p:sp>
        <p:nvSpPr>
          <p:cNvPr id="10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41CA-EC44-42D8-ADA4-1694CAC8A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03" name="Picture 4" descr="098.PNG"/>
          <p:cNvPicPr/>
          <p:nvPr/>
        </p:nvPicPr>
        <p:blipFill>
          <a:blip r:embed="rId1"/>
          <a:stretch/>
        </p:blipFill>
        <p:spPr>
          <a:xfrm>
            <a:off x="914400" y="1582560"/>
            <a:ext cx="7148520" cy="497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19080">
            <a:solidFill>
              <a:srgbClr val="b8ca7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teps in an Industry Analysis</a:t>
            </a:r>
            <a:endParaRPr b="0" lang="en-US" sz="3400" spc="-1" strike="noStrike">
              <a:solidFill>
                <a:srgbClr val="000000"/>
              </a:solidFill>
              <a:latin typeface="Calibri"/>
            </a:endParaRPr>
          </a:p>
        </p:txBody>
      </p:sp>
      <p:sp>
        <p:nvSpPr>
          <p:cNvPr id="1005" name=""/>
          <p:cNvSpPr txBox="1"/>
          <p:nvPr/>
        </p:nvSpPr>
        <p:spPr>
          <a:xfrm>
            <a:off x="457200" y="1600200"/>
            <a:ext cx="8229600" cy="4525920"/>
          </a:xfrm>
          <a:prstGeom prst="rect">
            <a:avLst/>
          </a:prstGeom>
          <a:noFill/>
          <a:ln w="19080">
            <a:solidFill>
              <a:srgbClr val="b8ca78"/>
            </a:solidFill>
            <a:miter/>
          </a:ln>
        </p:spPr>
        <p:txBody>
          <a:bodyPr anchor="t">
            <a:normAutofit/>
          </a:bodyPr>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ition of the industr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cation of participants</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ssment of the drivers of competitive forces and of overall industry structure</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 of future changes in the industry</a:t>
            </a:r>
            <a:endParaRPr b="0" lang="en-US" sz="2600" spc="-1" strike="noStrike">
              <a:solidFill>
                <a:srgbClr val="000000"/>
              </a:solidFill>
              <a:latin typeface="Calibri"/>
            </a:endParaRPr>
          </a:p>
          <a:p>
            <a:pPr marL="343080" indent="-343080">
              <a:spcBef>
                <a:spcPts val="649"/>
              </a:spcBef>
              <a:buClr>
                <a:srgbClr val="005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ication of aspects of industry structure that can be influenced by competitors, new entrants, or by ourselves</a:t>
            </a:r>
            <a:endParaRPr b="0" lang="en-US" sz="2600" spc="-1" strike="noStrike">
              <a:solidFill>
                <a:srgbClr val="000000"/>
              </a:solidFill>
              <a:latin typeface="Calibri"/>
            </a:endParaRPr>
          </a:p>
        </p:txBody>
      </p:sp>
      <p:sp>
        <p:nvSpPr>
          <p:cNvPr id="10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25C4-DA72-450D-B792-EA55BB3A2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0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8" name="Picture 4" descr="cid:3287383400_2177562"/>
          <p:cNvPicPr/>
          <p:nvPr/>
        </p:nvPicPr>
        <p:blipFill>
          <a:blip r:embed="rId1"/>
          <a:stretch/>
        </p:blipFill>
        <p:spPr>
          <a:xfrm>
            <a:off x="533520" y="685800"/>
            <a:ext cx="8118360" cy="2647800"/>
          </a:xfrm>
          <a:prstGeom prst="rect">
            <a:avLst/>
          </a:prstGeom>
          <a:ln w="0">
            <a:noFill/>
          </a:ln>
        </p:spPr>
      </p:pic>
      <p:sp>
        <p:nvSpPr>
          <p:cNvPr id="1009" name="Rectangle 5"/>
          <p:cNvSpPr/>
          <p:nvPr/>
        </p:nvSpPr>
        <p:spPr>
          <a:xfrm>
            <a:off x="762120" y="3584160"/>
            <a:ext cx="76960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010" name="Rectangle 5"/>
          <p:cNvSpPr/>
          <p:nvPr/>
        </p:nvSpPr>
        <p:spPr>
          <a:xfrm>
            <a:off x="8254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9:42:26Z</dcterms:created>
  <dc:creator>Jagruti Gadekar</dc:creator>
  <dc:description/>
  <dc:language>en-US</dc:language>
  <cp:lastModifiedBy>Jagruti Gadekar</cp:lastModifiedBy>
  <dcterms:modified xsi:type="dcterms:W3CDTF">2011-04-15T05:21:48Z</dcterms:modified>
  <cp:revision>541</cp:revision>
  <dc:subject/>
  <dc:title>Slide 1</dc:title>
</cp:coreProperties>
</file>