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77F7-31C3-4455-A668-641FCBA6BB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E. Porter developed an analysis framework consisting of five forces that shape industry competi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rgaining power of buy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rgaining power of suppli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hreat of new entran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hreat of substitute products or servic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ivalry of existing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9DF8-25AE-4FEE-BB50-9C9148D70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DAC8-1AFA-4EAA-9C40-ABBB64890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9375-FD71-4852-B7FC-F4FED7BDC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5814F-D8D6-4CE3-9DB9-24278A62B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8C111-B673-4DDA-B210-B0A06082F7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5ED363-4162-4B44-9694-905B0C7467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BB73D6-4E69-426D-AFBF-EF8DB29AED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77A5AA-7F5C-4B0E-8F4D-870504F465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011686-A524-4886-A700-CCA98228C3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B05220-57EF-4FD9-9239-3A86F979C6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17CB1F-AEBF-4DC9-9922-A6BFF2CF28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B2E782-DB5C-4C95-A25F-AA597209D3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D41EB6A-223E-441C-93F8-FD5ECA0D89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80A41D-A55D-4570-AFAE-6FB6EFC2621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D7BCA98-F77A-4BC9-8890-E75DBF36D33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D4840-4C31-46F7-A1FD-4FAA969EF02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AA6781-9FB9-43A0-AFE3-B60D219FECD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04DE01-12F9-4CD1-B783-541009D5DCA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39EBCB-40B4-431D-BFA0-9FB626EC24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59E30E-6FB7-470D-8F17-9F5CEAC8CE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3B5886-B563-4045-88CF-08F7773463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A2AAA2-F5A3-460D-B375-D92D438FBE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BB2513-80C6-4B95-B104-999E6BCBEC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7ED441-8273-4B6D-87E1-459B5B0B1F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5DD0BD-D298-461D-837E-573456F9D9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3AE132-1E71-4A40-95B2-9F67DC75A7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3B807-496F-4B56-8831-7CC3A2FD10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69D0773-292D-4F4D-A14E-82392D6FC3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8E54A3-CEE9-4F21-8C79-B07FAD9DEF5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F631E5-3F96-4EE5-9FA2-518E53029A3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6D0760-CE18-467B-B592-E5EC24F2C97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017E66-C723-49AA-930F-017CE2BC2B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C8471A-5CE7-4EAE-AB39-BE197C14C7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1C60712-3531-48D4-902D-AA5CA9D6C8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8FB75C-5D08-47B1-8F67-B6A6045C64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086236-3AF1-417A-BAA8-88C897E41F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39E1A3-E416-4634-9464-7B455E19D2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626C38-2394-42F2-BBC5-44A65F11F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B905A79-E70E-48CF-8970-0031069423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C1322EB-F8CC-4870-B709-F5B435DD7A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780EB87-FF2B-4224-9802-FB7B4B44A9A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47198F3-F89B-4E0D-A9FF-58D0D178613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C4FD1E-943E-4E48-8A02-C50984AF22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412141-AC37-4A2C-AD08-1EF4A93040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DDE825F-81D9-4DB2-B05C-C3988DDB5B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8D6403-0A61-473C-B564-DD26FEA6ED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7E93DC9-3A51-46AE-BBC8-5E9B60AF02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37B07A-D9AB-4E32-B50C-4E8EFEA386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78418F-178C-4971-8064-CE3F5544B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A03979-EFE4-4FDF-8270-5032546C64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61CDBF-97D1-468A-B7D2-4B055E4B02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4768CD3-FE2D-415D-ADCE-4CEFA122EC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319C327-4FF0-48FE-B1DF-74180F2191D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4CA67FD-426A-4F44-A8AA-BB626604788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6559C8-D2AB-4A9A-9140-4A1CED9DC2C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0BDF5E1-86AB-486F-837C-20DC2028A01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4F28C4-B2FE-42BA-ADD8-8E3261287A5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236FBF5-F39A-4359-A70D-94DEC0DDBE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9B40EF9-9817-42FC-A81B-428D1176F6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6A9393-B191-4DBF-9805-B1643E495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539E655-38CA-4F82-9803-189A9F70D9D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8F229B-29D5-450C-81D7-F69FB3C2E06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952545-76E1-42F2-ACFE-CE2B1184EE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F7EF6B-4690-40C8-B75F-2D8DAE1A493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690E575-A0BE-4C70-A4F2-3657D3CCE05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0D9CEB4-63F1-4BBC-A84E-63A6A445677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9BC124D-2966-433F-9E7E-033789920FC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0A7E804-DD92-4C74-B03F-8C1AB0453D6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22599C-8985-4A8B-9D84-70E3557BBAC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2EC4321-8597-4536-8F8C-DDA5738A52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F08062-D86B-4EB7-8039-6EFA3A89C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0A2874D-2B3A-48EF-AD5E-EF0AE86DD6A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D1907B8-2DD4-4870-80AC-2196A4B965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C78FC6A-014C-427C-B6C5-D55DE590BC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2AEB140-6E8B-4883-8A24-9D2732410EE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D6D095-A61F-4223-932A-1ADAE1D525C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E3399C-88AC-4374-BF73-75C31C0CB29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CAEF9F9-59D1-4D99-A92D-E9833311E0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4EE2B5C-781D-49A8-A7EB-CE884131A95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BF3101D-DB7F-4B7A-93F4-EE44D3D8328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7400453-2581-45CD-9625-3BD773E0DFF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902C7A-9EC3-49E6-9CC3-E49EB06F6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ADE9968-B5EB-4FAE-B2F5-973AC92ACCA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58E23C0-4E15-4BB9-B3ED-D1805AF382A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AE1EA52-236D-425E-8D11-54EEBB6D50C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2C04182-B1F5-4A23-A562-B72C496C680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EAC7EB1-9E69-4869-8506-93DBD4CDF30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833227B-E374-42D8-9511-0F4C2B6DBC2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87E4D39-0E91-4614-9119-DC38C3443D6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5911E14-2B2C-4821-9690-8E223646327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5D9386D-5139-4DF8-B6BD-EDD9C09C163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C35E4C4-161D-4AD9-B311-C0B3590E55E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FBDED9-8FF4-483A-A821-BAC839B99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3471AEE-16FA-441C-95A5-33760FD7F85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8B1BD78-7513-4363-819C-E5CA6C5574C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E6FA5EB-1766-450C-ADD0-AD0E59A2998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AC70FB5-94B1-4D5D-97D9-894C4EEE77A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F6C0E50-02DB-4894-B0AD-83822CA2488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E0AF4B0-255C-4E72-A49D-D27BABB9E11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B142B4D-682E-463F-90F9-93449736755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933B22B-FFF4-481E-AA90-A441767E2F7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4FD0C91-A742-438F-9358-4589F969ACF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AB4AC01-A082-4516-A72E-812DB83216C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363CC4-08B1-48C3-BB63-752DCB029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08BF502-87CE-475D-A969-5BEC08D5911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51E6D14-CCD5-41C5-AFD6-3DD30DB22A1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E8DEDFB-B1FF-4CBA-B1FA-C7F94DFE011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097F2D1-0F97-4250-AAFC-484E8C368E7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3D4053B-057E-459B-B80F-AD180C78F49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B1206C1-1201-4874-86B9-1D570A88477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E20F01C-4403-40A7-ADB6-6AAD32FD06F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7F54BBF-47F1-4ED8-8CE0-75AB0284512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CD154AF-18D8-411B-B904-A1FB12C93A7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AF174AD-C8C7-43C8-8200-8802B195646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7C5A-0546-4E51-865E-A261EAD2A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09E2F6-F777-4547-9B07-55577DBA7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5B7C4F7-7A8B-4985-A855-86163ABF86B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0BAC8AB-FAD8-43F1-B388-610789A3D94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BE665EA-ABEF-4275-A9D1-B4CEDF1FFC7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D9A6CC1D-F583-4A09-92CD-12925938AF3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F8D7A45-D269-43BD-86E6-B578C8086F6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AE24040-7396-47B2-AF43-F50550AA68CB}"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C432649-5EBB-4DB8-951B-723696F2AC8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45D7C3D-5DF1-46FB-A1D2-4745BCA13AE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49B8370-0D75-46F7-A377-D77A7F9273E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10C94E6-3167-4350-B5D1-9230ABBA7A6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022DA0-0FF0-45FC-80F9-A7B319D310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452E1FA-A258-448E-B523-0A1880AF6BD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4611A1B-72A4-424A-9533-C76132F8CB3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D000A50-8727-4E2B-93DF-BA44DCF2E67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BE6D908-8195-4816-AC56-1F95BD75367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1B92125-AB70-4757-9089-413598BB352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08218A3-7772-4279-82CA-6295FEC307A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C141944-B44E-439B-98CC-EE71B1C7EAF9}"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1A1E03E-3733-46C9-B21F-39D546236CA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7095E88-6EFC-4088-9581-3FAB6C29482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5A74377-CAE5-49A7-9EC5-C725D24DB9A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EF8D84-A5B2-4018-8288-A98BEE5CA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624201B-B1D1-44EC-8953-D7346E20137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DC6EF2C-0B74-45D9-BF8C-E39868B5CDF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7FB109F-2ED2-48EE-B946-2D9832CF078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D253A8F-1187-4C27-B2EA-42649248540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9AAAE2A-27B8-470D-9F85-D7B02B10232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283597D-723D-489A-8A29-4565E1BFF96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9092457-111F-4ACC-AFF5-82DBEF3A9EA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631EC30-B0AB-401F-AB10-6D02FABEF2A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071DBFC-B119-4359-9605-CDA26663CDF6}"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8735AAB-2065-4082-A607-A073F580B7F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7D334A-83AE-41ED-9ABD-993EA93E56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84A979B-6506-4E21-B216-AA445D65BFC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6D00F86-1D4E-4F0F-93FF-1BE42CED639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D7F3877-506E-4B47-A65C-B867B2A3CF8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6BB9ED7-6E7B-4EF4-AA5A-A3A1EA77885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F5497B4-006F-4742-AEFF-5142B039E2C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A8FEF10-DCC7-4F3C-95E0-F0C7FFFAED0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4AFDED0-6766-4516-ADCD-E82F8116650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D88F3D5-5C2E-428E-90C0-DD2D8189B40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30C6C7F-4DC8-43EB-928A-ECE318C021A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83F9B748-884B-471A-8016-119C69E255B1}"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77C192-FF8C-4D50-97A8-7EB2CE6477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01DB7BFF-3D89-47FA-B956-1CCF770516B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4A914D92-405F-48C8-A509-7884AEFCC9F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ED4CEEB-5D2E-4A7D-B6D8-0335EA8AFE2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EDA887A-D930-4595-BEBC-33A7E9D0EFD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F668FE6-C6D2-40A4-BDEF-DD51CC4222A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FD28CE9-97C4-42E4-A2F8-1527562C185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E40F020-4CA6-4ABF-BD08-38CD3BDA254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F6B3E1D-2563-4B60-B758-22E83595E80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F97B06B-7A3D-4E93-923C-B3A562E5281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EFF33B4-BF70-47D9-B01D-F6DECC6E8B1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4708B6C-41E8-4FF3-912C-D06299AFD82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4AD124E-51D9-47EB-BF06-F91A1619F6A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3DF8A0AA-417F-4D3D-84AD-907F09A8E0E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6E5E390-ACF5-4F90-BCAD-88140677304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34E094A-9061-489E-91C7-2A42FC812B1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4829DB7A-7448-44D9-A756-34EF32D6C7F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1E44F17-9A3F-4D4B-9F44-D68651C64CE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BA08C73-0F8D-457A-AD72-71338B46D8C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74F3CD7-2482-4467-8CB4-2A114DB28B1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07FFD36-C2AA-43BA-A339-323576EEEAE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74BE910-1893-420B-A527-F4EF9BFFC6A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8C72EDA-0E98-48E2-88A1-5604DDE5231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3C36B14-B181-4BB1-BCED-0C0113051FA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C163BA9-EA27-44B3-A13D-422D1D60BF5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6B0F7909-CD6D-4DC5-8061-7E7543157786}"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559E8EE-9ACC-4E80-8A2D-E682364E0742}"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A6C38B4-9BC1-450F-BD33-4F54A08DA80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01174A9-BD9C-4151-907D-744B9F25528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F1C823C-D2F4-4264-8CE0-8D267B13628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A99BBCA-8410-42EE-830C-92E293B7B54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7A2FAD8-AB46-4110-BDAF-333848780CD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78653C3-C5B5-474F-9C5D-A4869E75373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1316195-0820-4C84-BC5A-DBADDBF947E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2738CCD-1067-427E-A334-E334517DC49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4C8C856-4BDF-47DD-89C8-B17C41B9E2D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15AE8465-EC50-45C4-A187-DF0460971AD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F7C96F7-1BB5-406D-BDD3-702AE9A4EF5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BFDC591-6E24-43AC-BF4A-45D8D3F59E9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BC9B214-D11F-466F-A93A-78CF1EA9D7C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F02D364-A10B-45A5-9817-65A175C9FDD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AC0FABD-E08E-496A-A687-AF4D8A7E87B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D45AD16-AAC1-48EF-9459-240869A8A83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91863E4-A397-4F41-A69F-E5024568835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7E52D4F-5EE2-4F0D-A1D5-418B30314B9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95411EA-88C8-4C94-9998-4EE3457FB2C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5F1B0E1-F270-480C-9737-4BA6211F580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E134470-A5DF-4AD7-9939-1BA2C6FCD8E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41B225E-F4F5-4624-AEEA-F8406DFFCD3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6AF4F98-51D3-46EF-BD7D-545C87AF94BA}"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96D4-3E7A-4EB4-A460-B158913076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4C6363-CF04-429C-BDC0-E1F3947C90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F4ECF08-ED1D-47FB-B257-2A5944C0C9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D185783-6FEC-49EC-AD81-E319122DB8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CE701-1608-404A-BA1C-DA5D28B842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EB50B26-6459-4229-8775-950C4FC470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5C1608CD-A463-4B31-86C7-598C987FE7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52DF768-54A7-4534-9C1C-6116BB34DC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A06312C-448C-4F94-AE86-1B6C2B10CA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C8EC92A-0CAB-4238-920D-4C0ED4C525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91E042A-E60A-4102-AFB7-603C99D6D4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C8C96B7-10E9-4B69-9F3A-AF50328FBA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5AFFCBC2-E907-48CE-93E9-90A322E5A9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85D9F68-C44B-49A1-ABFC-4B1F398B27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2B1E0C-1CCF-4FDD-802E-306F411000F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4C4EDA-5564-4A9A-9A56-0931479FBF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3E22EA-9C18-41B7-8140-5B128EF125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FE26F3-75B1-4C86-8672-189A1F10B2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185A0B-8EA3-4F35-8972-D929B3A723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41D6E7-5BA7-4369-8220-9DCBFFE13E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23C78D-9F38-4D63-804D-E144ADB7A5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14CF0B-4CC3-4472-8027-614EC3D565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806B8C-0D75-4E9F-9E90-5D81323F02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400E22-9793-4D36-AEA5-8EBCFDA070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A40F19-D749-4609-8BA2-88916DDF11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767CAD-254E-409E-86BE-B3D384BCA3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FD155E-2A5E-48AD-B27A-B43FE98D79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EAE309-DFF9-45EC-9012-9E9E90929F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9D26E2F-E49C-4AC3-9FB8-4A08660BDE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445105-D57A-4001-84B8-CE138E576E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B4B899-489A-4FFF-A0A2-5AB08E13F6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635ADD-A233-40ED-9639-6E8918C784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CD83AD-BE82-41F3-BCFA-F258417128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C643B7-0D51-4623-8B6E-3E1CBF5E3C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018034-33D1-419D-AACE-6565C2770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A37C4B-8140-49C6-B58F-DBB61488A8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6FDB8C-2D81-4C30-AAE4-DA11A8038D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6C2C3-8464-44D2-A734-CC612A89E4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4D658F-0454-4CAE-8155-60979215D5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16503C-6578-4AB0-B09C-DC5EADC2ED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3A49CA-B67D-45FD-8F25-B6B433DE0A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1B6354-44C2-4F41-960B-A6CA9F116BC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DA160A-E2BF-4AE5-8EBB-4F24EF5F52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164E4F-C38A-4559-8F39-5AB53DD5E2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AA4360-AFED-4D98-9E47-C7D07CCB57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928E35-1E6E-449C-8FA7-663A07DB1B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AC0B30-D0A4-4019-81CE-2548DD9A62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84DDE1-5277-45D7-9604-90A19600BD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0EA69-1D2F-4AAD-81FA-D12A87051D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467D53-8DC9-45A0-B0FF-FD394F0E84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8E004B-1BB3-4A04-9CA1-5F49F62DFB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BDA311-9142-4DC6-A116-2309672126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02E2D74-6223-4F95-9058-C4419290AF2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9E79AB-7B91-456D-AB6C-E91939090C7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9793EE9-24D8-4B70-9424-856BE4BF60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9A5E51-E5BD-4173-BD9A-929204ABC7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6E9D549-F540-42C1-A4D1-9970B23611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2014AAF-6EAE-4098-B87E-D715295993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11776A0-AD51-4F28-90EF-C63997DC85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0086C-E736-4655-AD43-963627541B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075352-084F-4F6B-943C-58FE7266488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F27AC4-B62C-448F-9FC2-AAE01F98D7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E20955-AFB3-4BFF-B3BE-4093647EB1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FF7FCF-3E87-4FD4-B562-B5AFA22B0C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97F53D-F29E-42A9-BBE5-A2AB8AC857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AB022F5-B37B-4FD5-90FF-5303D2C382B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507B8BD-A6B7-48C6-96C0-4F3F3865D6E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55E3737-8967-4B27-8BE5-5AA593CCE2C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51A52D-C645-4779-9AB9-BBDBA00C30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AFB5AC-73A0-4675-9191-AFB0CDDEFF0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01E4-D335-49BC-A749-FDB92E49EFC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E089-F226-4A11-A26B-162014FD38A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5DFB-B6A5-452C-8D8D-2B5FA0212C9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C3B9-6C91-422F-A311-1969D7AA50D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07D1-41A4-4860-BF27-2F2B874B67A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2663-C755-4BB8-87C4-259C2AB84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8369-4D94-4DB4-9A8B-5CF99362C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82E6-09AE-4C0A-BC90-D88956DB9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E187-2671-42FD-BCE2-DD043CC45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BD4B-65D3-4D69-BBCD-D9DC95CA3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E2F7-52BB-48BE-B91C-43D3F0DA8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CD6E-BDC4-4E35-A49F-CBA31F2CE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C21E-B525-420A-877C-F1C4FBBC6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9D99-85C3-47E0-BF6B-FE4588FA6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AF8A-14D2-4764-9352-86BFCC848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6C7A-20F0-4302-B85E-6B5C06D14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CB13-7F4A-44E7-8346-C358BE09D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DF83-46F3-4184-8679-60188EA0D9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ED77-B7CE-45C4-8854-CAC16F72E1D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579C-59D9-41CE-AE0F-55B387D7ACD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D4BC-DF50-446F-859D-7AB3575B59C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B547-BCA2-4D9C-8006-9DE2D2F98D7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45CE-863B-4654-886A-18F47D45EA9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8</a:t>
            </a:r>
            <a:br>
              <a:rPr sz="3400"/>
            </a:br>
            <a:r>
              <a:rPr b="0" lang="en-US" sz="3400" spc="-1" strike="noStrike">
                <a:solidFill>
                  <a:srgbClr val="000000"/>
                </a:solidFill>
                <a:latin typeface="Calibri"/>
              </a:rPr>
              <a:t>Industry Analysi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8-1 - Porter’s Five Forces Analysi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A4DF-4D51-4BFF-B2DA-F93A89FFB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89.PNG"/>
          <p:cNvPicPr/>
          <p:nvPr/>
        </p:nvPicPr>
        <p:blipFill>
          <a:blip r:embed="rId1"/>
          <a:stretch/>
        </p:blipFill>
        <p:spPr>
          <a:xfrm>
            <a:off x="2514600" y="1600200"/>
            <a:ext cx="4065480" cy="489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8-1 - Five Forces Influencing Rivalry and Profitability</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0F95-58FF-452F-87B2-347FEE725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098.PNG"/>
          <p:cNvPicPr/>
          <p:nvPr/>
        </p:nvPicPr>
        <p:blipFill>
          <a:blip r:embed="rId1"/>
          <a:stretch/>
        </p:blipFill>
        <p:spPr>
          <a:xfrm>
            <a:off x="914400" y="1582560"/>
            <a:ext cx="7148520" cy="497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eps in an Industry Analysi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 of the industr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cation of participa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ment of the drivers of competitive forces and of overall industry structur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 of future changes in the industr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cation of aspects of industry structure that can be influenced by competitors, new entrants, or by ourselves</a:t>
            </a: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C2FC-4666-42AC-8759-2DB68FB50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cid:3287383400_2177562"/>
          <p:cNvPicPr/>
          <p:nvPr/>
        </p:nvPicPr>
        <p:blipFill>
          <a:blip r:embed="rId1"/>
          <a:stretch/>
        </p:blipFill>
        <p:spPr>
          <a:xfrm>
            <a:off x="533520" y="685800"/>
            <a:ext cx="8118360" cy="2647800"/>
          </a:xfrm>
          <a:prstGeom prst="rect">
            <a:avLst/>
          </a:prstGeom>
          <a:ln w="0">
            <a:noFill/>
          </a:ln>
        </p:spPr>
      </p:pic>
      <p:sp>
        <p:nvSpPr>
          <p:cNvPr id="100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1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5T05:21:48Z</dcterms:modified>
  <cp:revision>541</cp:revision>
  <dc:subject/>
  <dc:title>Slide 1</dc:title>
</cp:coreProperties>
</file>