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notesMasterIdLst>
    <p:notesMasterId r:id="rId26"/>
  </p:notesMasterIdLst>
  <p:sldIdLst>
    <p:sldId id="256" r:id="rId27"/>
    <p:sldId id="257" r:id="rId28"/>
    <p:sldId id="258" r:id="rId29"/>
    <p:sldId id="259" r:id="rId30"/>
    <p:sldId id="260" r:id="rId31"/>
    <p:sldId id="261" r:id="rId32"/>
    <p:sldId id="262" r:id="rId33"/>
    <p:sldId id="263"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notesMaster" Target="notesMasters/notesMaster1.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2" name="PlaceHolder 2"/>
          <p:cNvSpPr>
            <a:spLocks noGrp="1"/>
          </p:cNvSpPr>
          <p:nvPr>
            <p:ph type="dt" idx="6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99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move the slide</a:t>
            </a:r>
            <a:endParaRPr b="0" lang="en-US" sz="3400" spc="-1" strike="noStrike">
              <a:solidFill>
                <a:srgbClr val="000000"/>
              </a:solidFill>
              <a:latin typeface="Calibri"/>
            </a:endParaRPr>
          </a:p>
        </p:txBody>
      </p:sp>
      <p:sp>
        <p:nvSpPr>
          <p:cNvPr id="9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95" name="PlaceHolder 5"/>
          <p:cNvSpPr>
            <a:spLocks noGrp="1"/>
          </p:cNvSpPr>
          <p:nvPr>
            <p:ph type="ftr" idx="6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96" name="PlaceHolder 6"/>
          <p:cNvSpPr>
            <a:spLocks noGrp="1"/>
          </p:cNvSpPr>
          <p:nvPr>
            <p:ph type="sldNum" idx="6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9E9F8-9488-4939-817A-FD2A6A87CAEF}"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1143000" y="685800"/>
            <a:ext cx="4572000" cy="3429000"/>
          </a:xfrm>
          <a:prstGeom prst="rect">
            <a:avLst/>
          </a:prstGeom>
          <a:ln w="0">
            <a:noFill/>
          </a:ln>
        </p:spPr>
      </p:sp>
      <p:sp>
        <p:nvSpPr>
          <p:cNvPr id="10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07590-8EB4-4147-8C3A-27C7CA98B2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sldImg"/>
          </p:nvPr>
        </p:nvSpPr>
        <p:spPr>
          <a:xfrm>
            <a:off x="1143000" y="685800"/>
            <a:ext cx="4572000" cy="3429000"/>
          </a:xfrm>
          <a:prstGeom prst="rect">
            <a:avLst/>
          </a:prstGeom>
          <a:ln w="0">
            <a:noFill/>
          </a:ln>
        </p:spPr>
      </p:sp>
      <p:sp>
        <p:nvSpPr>
          <p:cNvPr id="1024"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arget segments and competitive advantages are the key factors in the six essential elements of a comprehensive marketing strategy.</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442FE-31D3-4E27-8922-2B7F61632D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1143000" y="685800"/>
            <a:ext cx="4572000" cy="3429000"/>
          </a:xfrm>
          <a:prstGeom prst="rect">
            <a:avLst/>
          </a:prstGeom>
          <a:ln w="0">
            <a:noFill/>
          </a:ln>
        </p:spPr>
      </p:sp>
      <p:sp>
        <p:nvSpPr>
          <p:cNvPr id="1027"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good example of a comprehensive strategy is that of IKE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wedish furniture retailer has a clear and compelling strategy that has been consistent and enduring.</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6FA1C-4515-46DD-A0F4-29108160D1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sldImg"/>
          </p:nvPr>
        </p:nvSpPr>
        <p:spPr>
          <a:xfrm>
            <a:off x="1143000" y="685800"/>
            <a:ext cx="4572000" cy="3429000"/>
          </a:xfrm>
          <a:prstGeom prst="rect">
            <a:avLst/>
          </a:prstGeom>
          <a:ln w="0">
            <a:noFill/>
          </a:ln>
        </p:spPr>
      </p:sp>
      <p:sp>
        <p:nvSpPr>
          <p:cNvPr id="10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7AF7A-C8FA-4196-B264-CF2EADD365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1683F6-DD52-4ABD-A036-AA656FBFA35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A36EB1-8AB1-4365-90F3-35999E755386}"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E6416CD2-11C9-4E72-9FA2-BE8AB2FFFBC1}"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D0637D52-036C-478D-8764-6282F6F2DD86}"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853DF144-B3E3-4FEB-B95C-A71F8F23504E}"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57CB7A4-20AC-4A49-85C0-BA8D6EA86E1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2E77C9E-85EE-476C-AF61-9A4BADEB06B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857C12A-25EA-4910-B337-299CFE90E1D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4FDE6A63-0C01-4865-803A-346F11EEBA5A}"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06245C9A-890A-45C0-87BB-E50A49CBB008}"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902FDD3D-873C-4AAA-BEE4-88BEA5600A3A}"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1EF70552-16FD-441F-BF84-04B7A64F4309}"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0BE262A-48B1-4E6B-88AD-64962949676B}"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0E9C6801-8F96-4F98-BC13-08237CD6E303}"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D1B40388-D404-4D83-A952-F5374D0CE078}"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40E3D740-2C61-46AE-82DB-B2B0768CD321}"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95AF75F2-211A-47CF-AF9A-53C6D0205E7D}"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AF48217A-06CE-43A0-B3AE-7643F45458E4}"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F49049A-5968-4D3B-B003-A0DFE192498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EDD5757-64CD-4DF7-95CB-B74636E40E1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E7658DC-047B-4C12-8C21-6339A1B71E7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7389365F-1435-447F-987D-0408805C97A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32A153C8-CB5E-4CE6-A375-69C25EFEAC9E}"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AA7E75F-F7F2-424C-93B0-FE3D71FAD83B}"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CC628191-FC2C-4159-BCBA-E07EE9FBCD68}"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23B92336-0752-40A6-AA45-7140A81A9D81}"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E6B1192A-067F-4573-AC6F-9726C9FA1BCB}"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29318D44-2949-4E44-BA3E-E9E031537F78}"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ADF93E93-C61E-4F4E-9B26-32B09A8580D4}"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7631D4EA-D35B-49AA-A399-83B08260B3A9}"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429F8E5D-7B94-4713-83D0-7C4B9128F19A}"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76A08CE-F13D-47D0-B9E9-5039232BD414}"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2D7F78F-F339-4BCC-A8BA-7A31AF8ED9D0}"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5A90CB3-2BB3-4C46-80FE-24EFC50755EB}"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50167AA-B679-420F-84BF-47B11CCFCC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049B2B9F-F47C-4932-8B2D-2AD92BC734FB}"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08B3449D-328C-4047-B5E1-A476A039CBA4}"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8E0FA05B-34EF-4AF8-9BC8-D0FA6A2CD57C}"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D80DBAA0-24A1-484D-98CE-1D9BA3F723DE}"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D40A0D76-ED4A-4437-AB86-D77FBBE32CF3}"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7370B133-0FEC-4675-B281-2311B4BF6BA5}"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60AC3C41-C916-401A-B321-33330A78A5A0}"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ABEB4335-1A53-4F10-9A71-63ACACF641CB}"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B64521CE-245D-4900-B8D5-9B96D03814FF}"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93DC2EB5-B98B-4213-AC3E-5E6CF3F183C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E2A790B-1B6B-4115-9373-0D90C103F2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ED1665C8-3619-44D8-9150-34A87D27E637}"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5EAAE66D-B7C4-4A2A-82A0-4D48AE861761}"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2219411F-B625-421D-871A-F02BF4246F5E}"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A7B43292-6E77-40E6-8199-0CF157B53801}"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3CC5E259-2B3F-4078-B587-B4AF05E31C28}"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CE4EC0C6-91C6-4BFF-99CC-4A38FFE1A0A0}"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E6FBCAAD-3980-4679-9862-9CA2DB46DD75}"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085D55CF-D417-4244-9EA8-04B334A36E67}"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B903EF90-3A2C-4B55-A552-CDC7BEC54283}"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79D0BB78-F682-4F42-91FA-1907E681D534}"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71784EB-FE56-458A-A3AF-21A7ABC82C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B980DE77-C6AC-42B5-8D98-716C41354283}"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5ADE6811-2233-489E-8396-C5827CBB6A33}"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2BED593E-F58F-45DC-BE5F-1127077C0936}"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1C8BC495-5FE7-4BDA-973D-881B6923D992}"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1868D94A-1B78-415A-862A-56E90A8F6EC8}"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5E9E4DB2-E4EF-4ED4-996B-50ADC52BEC17}"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DC6BAA2A-2E2F-4787-9BED-19CF46EB2201}"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59435B20-B705-4334-B436-8ED7CD333847}"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A1582520-D854-4233-9A24-CD2341E5299C}"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BAD6082B-8E97-4441-B4BC-A202EC81640D}"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C4D09D1-3DA8-4B5F-B5FF-38C8FF2F57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163797FB-A221-490C-9A3B-3718465A1CD1}"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FAAAB3FF-0B65-41DF-AF4B-EA07B3BEF3FB}"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27B73DAD-3F0E-4BFF-815E-761C264A08E9}"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908FE81F-0282-4205-9AF2-1BF0D6DBA736}"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E3E4C427-D770-4712-B7A5-1341B0CA7064}"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869EA6DA-2C43-4F25-B774-150350B26064}"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000539E2-D6B1-445C-BDD6-1F98ECF2E3FC}"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9F6D77B9-19C5-4B19-ABDA-CB72DC341490}"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AC5EA475-FD39-46BA-851E-AA6E51181A99}"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A03B2FD6-A781-4382-85A0-C8AEE46B2798}"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2D436AE-83E3-4EF1-A5DD-A4E58BEE28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C89C5277-D27B-47B3-86AF-4AB020FD2BE8}"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04BF8E56-41D3-4CAD-B9E1-E731AB4CABFA}"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860E0379-963A-4332-876A-D75D206B08AF}"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2FD9296C-2E99-40FE-9C01-F560502396ED}"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E8FD3C9F-AD51-4C72-8E81-AEF296503142}"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2D04BED0-695D-4A1C-A263-46AED47B6071}"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422673C3-5AC5-41D6-A7D6-9907B8241A1F}"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59E751F2-9FAB-4CAA-AB4B-9A5A5FEC9009}"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3321A78F-637C-4A03-AF31-03E2A7B00FEC}"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08BEE73E-E315-43E7-9DC6-956AF454792E}"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B3A510A-72D7-4F0B-86E3-FFA11F2034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E39DAEDE-D043-4CCD-ADDA-DD9C470F9160}"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AE3E72D7-127E-4A06-BE78-A537C174778D}" type="slidenum">
              <a:t>&lt;#&gt;</a:t>
            </a:fld>
          </a:p>
        </p:txBody>
      </p:sp>
      <p:sp>
        <p:nvSpPr>
          <p:cNvPr id="4" name="PlaceHolder 3"/>
          <p:cNvSpPr>
            <a:spLocks noGrp="1"/>
          </p:cNvSpPr>
          <p:nvPr>
            <p:ph type="dt" idx="39"/>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B98B2B05-45CE-4439-B8EF-72B1C3557472}"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44398563-229A-49A8-B6CB-1B542398EF6E}"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16F3A76B-62C9-4180-8519-A2A75BFDFFDE}"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799E7228-AD1A-48D8-9843-0E0DCE5C75EC}"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4E2CC7D2-A4B6-4617-B18E-84BB4C63511D}"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0FE9AD56-3A7E-4AD3-BD00-96A8DA0D949C}"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2D48790D-E704-4F6B-B73E-D8BC0F72C1CA}"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0F18191D-FACC-4B7C-A2E9-164B951140D0}"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38064FE-6E17-400B-A2DD-6D40A08C5AE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B63318FC-BDD4-475F-B493-6A68428D21BF}"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94D4CA51-70A9-4AFB-8BE3-9ED46EC2571B}" type="slidenum">
              <a:t>&lt;#&gt;</a:t>
            </a:fld>
          </a:p>
        </p:txBody>
      </p:sp>
      <p:sp>
        <p:nvSpPr>
          <p:cNvPr id="9" name="PlaceHolder 8"/>
          <p:cNvSpPr>
            <a:spLocks noGrp="1"/>
          </p:cNvSpPr>
          <p:nvPr>
            <p:ph type="dt" idx="39"/>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3CBFFE41-F451-4258-851D-2A11906977FB}" type="slidenum">
              <a:t>&lt;#&gt;</a:t>
            </a:fld>
          </a:p>
        </p:txBody>
      </p:sp>
      <p:sp>
        <p:nvSpPr>
          <p:cNvPr id="11" name="PlaceHolder 10"/>
          <p:cNvSpPr>
            <a:spLocks noGrp="1"/>
          </p:cNvSpPr>
          <p:nvPr>
            <p:ph type="dt" idx="39"/>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4"/>
          </p:nvPr>
        </p:nvSpPr>
        <p:spPr/>
        <p:txBody>
          <a:bodyPr/>
          <a:p>
            <a:fld id="{F621A64D-0988-45DA-8854-F245F7802DEF}" type="slidenum">
              <a:t>&lt;#&gt;</a:t>
            </a:fld>
          </a:p>
        </p:txBody>
      </p:sp>
      <p:sp>
        <p:nvSpPr>
          <p:cNvPr id="4" name="PlaceHolder 3"/>
          <p:cNvSpPr>
            <a:spLocks noGrp="1"/>
          </p:cNvSpPr>
          <p:nvPr>
            <p:ph type="dt" idx="42"/>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F295B3C8-5A97-4AC6-99DB-4D52BEE883B7}"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72ED0F25-0B80-4EF9-AB38-2AEAFBC56371}"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6FD018E5-4EE3-4C82-B12A-219A12C3A55F}"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1444D526-3C05-4DBF-A5E9-186D97857189}"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C44017EB-FDAA-4DBE-B313-A982FE0808C2}"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345485F5-FBB6-41EB-ABAC-CD6977A75D74}"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9F7939-55FA-413D-B2DF-47EC59391B5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16EC2D0-BE5A-41DE-A0D4-B4CA4402543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297A47B3-396C-4D1D-8664-7518373E1A12}"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29EF4A62-68EE-441D-8BAC-72031068BF5A}"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F45B2B7A-8752-4715-8364-FD635EC52654}"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4"/>
          </p:nvPr>
        </p:nvSpPr>
        <p:spPr/>
        <p:txBody>
          <a:bodyPr/>
          <a:p>
            <a:fld id="{876F09CD-F4C7-4D57-B740-78A55397B1FA}" type="slidenum">
              <a:t>&lt;#&gt;</a:t>
            </a:fld>
          </a:p>
        </p:txBody>
      </p:sp>
      <p:sp>
        <p:nvSpPr>
          <p:cNvPr id="9" name="PlaceHolder 8"/>
          <p:cNvSpPr>
            <a:spLocks noGrp="1"/>
          </p:cNvSpPr>
          <p:nvPr>
            <p:ph type="dt" idx="42"/>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4"/>
          </p:nvPr>
        </p:nvSpPr>
        <p:spPr/>
        <p:txBody>
          <a:bodyPr/>
          <a:p>
            <a:fld id="{9F788778-1578-4E1B-BF1D-419EEC5B187F}" type="slidenum">
              <a:t>&lt;#&gt;</a:t>
            </a:fld>
          </a:p>
        </p:txBody>
      </p:sp>
      <p:sp>
        <p:nvSpPr>
          <p:cNvPr id="11" name="PlaceHolder 10"/>
          <p:cNvSpPr>
            <a:spLocks noGrp="1"/>
          </p:cNvSpPr>
          <p:nvPr>
            <p:ph type="dt" idx="42"/>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7"/>
          </p:nvPr>
        </p:nvSpPr>
        <p:spPr/>
        <p:txBody>
          <a:bodyPr/>
          <a:p>
            <a:fld id="{E6127515-C369-4D51-8C0A-E2B67F04812D}" type="slidenum">
              <a:t>&lt;#&gt;</a:t>
            </a:fld>
          </a:p>
        </p:txBody>
      </p:sp>
      <p:sp>
        <p:nvSpPr>
          <p:cNvPr id="4" name="PlaceHolder 3"/>
          <p:cNvSpPr>
            <a:spLocks noGrp="1"/>
          </p:cNvSpPr>
          <p:nvPr>
            <p:ph type="dt" idx="45"/>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8F13683F-7C5C-4C20-BBDE-280AF299DD33}"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7AE50635-02D5-43F3-84E7-2CDA12061AA4}"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35D7B1D1-7898-44E3-B307-132CD822E59C}"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985D693B-7BEF-4C9E-907A-A04F715E1D6A}"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980C95A-3A12-4B12-B49C-4E0CD6A7D4E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341C36D7-CBEC-48F6-8C1F-2F325D749C55}"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22BBA75F-276A-4CF0-B739-2098B1876101}"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CE1EC36B-E5C2-4911-9D97-2BAAA684AC6F}"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24C3C60D-B00D-453A-83D2-A567544B1C8E}"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BE4CC1A8-54B7-42A7-BFC6-73BE985A1274}"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7"/>
          </p:nvPr>
        </p:nvSpPr>
        <p:spPr/>
        <p:txBody>
          <a:bodyPr/>
          <a:p>
            <a:fld id="{50165AC0-4175-421D-9F0D-884EA3FC07A0}" type="slidenum">
              <a:t>&lt;#&gt;</a:t>
            </a:fld>
          </a:p>
        </p:txBody>
      </p:sp>
      <p:sp>
        <p:nvSpPr>
          <p:cNvPr id="9" name="PlaceHolder 8"/>
          <p:cNvSpPr>
            <a:spLocks noGrp="1"/>
          </p:cNvSpPr>
          <p:nvPr>
            <p:ph type="dt" idx="45"/>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7"/>
          </p:nvPr>
        </p:nvSpPr>
        <p:spPr/>
        <p:txBody>
          <a:bodyPr/>
          <a:p>
            <a:fld id="{4D2F3A93-E451-477B-ADBB-DAA0CD8F49F0}" type="slidenum">
              <a:t>&lt;#&gt;</a:t>
            </a:fld>
          </a:p>
        </p:txBody>
      </p:sp>
      <p:sp>
        <p:nvSpPr>
          <p:cNvPr id="11" name="PlaceHolder 10"/>
          <p:cNvSpPr>
            <a:spLocks noGrp="1"/>
          </p:cNvSpPr>
          <p:nvPr>
            <p:ph type="dt" idx="45"/>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9"/>
          </p:nvPr>
        </p:nvSpPr>
        <p:spPr/>
        <p:txBody>
          <a:bodyPr/>
          <a:p>
            <a:r>
              <a:t>Footer</a:t>
            </a:r>
          </a:p>
        </p:txBody>
      </p:sp>
      <p:sp>
        <p:nvSpPr>
          <p:cNvPr id="3" name="PlaceHolder 2"/>
          <p:cNvSpPr>
            <a:spLocks noGrp="1"/>
          </p:cNvSpPr>
          <p:nvPr>
            <p:ph type="sldNum" idx="50"/>
          </p:nvPr>
        </p:nvSpPr>
        <p:spPr/>
        <p:txBody>
          <a:bodyPr/>
          <a:p>
            <a:fld id="{7CEC0F66-3369-49CC-8216-00624504AB24}" type="slidenum">
              <a:t>&lt;#&gt;</a:t>
            </a:fld>
          </a:p>
        </p:txBody>
      </p:sp>
      <p:sp>
        <p:nvSpPr>
          <p:cNvPr id="4" name="PlaceHolder 3"/>
          <p:cNvSpPr>
            <a:spLocks noGrp="1"/>
          </p:cNvSpPr>
          <p:nvPr>
            <p:ph type="dt" idx="48"/>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790A9CC2-E368-4E67-90DF-A7897F9F0333}"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F5197D28-68E8-4C3A-8458-FA7465D32A65}"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A0A8F36-9EFC-452E-9339-ABA6E5F0ED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434212DE-094B-405B-93B2-6FC7E670FEA8}"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200C715C-C473-4154-B1E1-C893165CDD26}"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4D4C1128-F7EF-4EB2-9241-45E0ECB52965}"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DB769AB3-B12D-47B6-8AD8-5CE87EFD55FD}"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AF6F4A95-C9EA-4E9D-BCCD-09FC536D9CF9}"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BCAEF972-5FCD-4D53-974A-63A503A35352}"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26E50B6F-4EFB-4ED3-88F5-905FDB0C7D6B}"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9"/>
          </p:nvPr>
        </p:nvSpPr>
        <p:spPr/>
        <p:txBody>
          <a:bodyPr/>
          <a:p>
            <a:r>
              <a:t>Footer</a:t>
            </a:r>
          </a:p>
        </p:txBody>
      </p:sp>
      <p:sp>
        <p:nvSpPr>
          <p:cNvPr id="8" name="PlaceHolder 7"/>
          <p:cNvSpPr>
            <a:spLocks noGrp="1"/>
          </p:cNvSpPr>
          <p:nvPr>
            <p:ph type="sldNum" idx="50"/>
          </p:nvPr>
        </p:nvSpPr>
        <p:spPr/>
        <p:txBody>
          <a:bodyPr/>
          <a:p>
            <a:fld id="{14E8407F-585D-4FBA-ACAF-E2088589175F}" type="slidenum">
              <a:t>&lt;#&gt;</a:t>
            </a:fld>
          </a:p>
        </p:txBody>
      </p:sp>
      <p:sp>
        <p:nvSpPr>
          <p:cNvPr id="9" name="PlaceHolder 8"/>
          <p:cNvSpPr>
            <a:spLocks noGrp="1"/>
          </p:cNvSpPr>
          <p:nvPr>
            <p:ph type="dt" idx="48"/>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9"/>
          </p:nvPr>
        </p:nvSpPr>
        <p:spPr/>
        <p:txBody>
          <a:bodyPr/>
          <a:p>
            <a:r>
              <a:t>Footer</a:t>
            </a:r>
          </a:p>
        </p:txBody>
      </p:sp>
      <p:sp>
        <p:nvSpPr>
          <p:cNvPr id="10" name="PlaceHolder 9"/>
          <p:cNvSpPr>
            <a:spLocks noGrp="1"/>
          </p:cNvSpPr>
          <p:nvPr>
            <p:ph type="sldNum" idx="50"/>
          </p:nvPr>
        </p:nvSpPr>
        <p:spPr/>
        <p:txBody>
          <a:bodyPr/>
          <a:p>
            <a:fld id="{5172CAE9-2363-4DE6-A55F-663BC1B46A21}" type="slidenum">
              <a:t>&lt;#&gt;</a:t>
            </a:fld>
          </a:p>
        </p:txBody>
      </p:sp>
      <p:sp>
        <p:nvSpPr>
          <p:cNvPr id="11" name="PlaceHolder 10"/>
          <p:cNvSpPr>
            <a:spLocks noGrp="1"/>
          </p:cNvSpPr>
          <p:nvPr>
            <p:ph type="dt" idx="48"/>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2"/>
          </p:nvPr>
        </p:nvSpPr>
        <p:spPr/>
        <p:txBody>
          <a:bodyPr/>
          <a:p>
            <a:r>
              <a:t>Footer</a:t>
            </a:r>
          </a:p>
        </p:txBody>
      </p:sp>
      <p:sp>
        <p:nvSpPr>
          <p:cNvPr id="3" name="PlaceHolder 2"/>
          <p:cNvSpPr>
            <a:spLocks noGrp="1"/>
          </p:cNvSpPr>
          <p:nvPr>
            <p:ph type="sldNum" idx="53"/>
          </p:nvPr>
        </p:nvSpPr>
        <p:spPr/>
        <p:txBody>
          <a:bodyPr/>
          <a:p>
            <a:fld id="{4C4F4C90-C75D-4A39-A5C0-0D1545C02CD8}" type="slidenum">
              <a:t>&lt;#&gt;</a:t>
            </a:fld>
          </a:p>
        </p:txBody>
      </p:sp>
      <p:sp>
        <p:nvSpPr>
          <p:cNvPr id="4" name="PlaceHolder 3"/>
          <p:cNvSpPr>
            <a:spLocks noGrp="1"/>
          </p:cNvSpPr>
          <p:nvPr>
            <p:ph type="dt" idx="5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3FD5C6B-16F5-42C6-9FCD-B9A0BC9ED435}"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9724DA39-858A-4D87-8C46-18C3568C0881}"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EA587AD5-0B08-40C3-AAD6-778ADDA878D2}"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25ED842E-4060-4A0B-B43E-63C8F39E415E}"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9567CF44-A463-49DD-BF73-C1A3FD6308F4}"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F3D7717F-5170-4371-9254-E72D7CF99BC2}"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250548BE-4A37-440E-9CEA-EE388FA4C711}"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39F3797C-E979-4452-B1C1-2E4124E29F7A}"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C14DB3C7-673E-465A-8E8E-8A0F79166516}"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5F61F1E4-2357-4D72-9C3B-CFCEA635A0F9}"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2"/>
          </p:nvPr>
        </p:nvSpPr>
        <p:spPr/>
        <p:txBody>
          <a:bodyPr/>
          <a:p>
            <a:r>
              <a:t>Footer</a:t>
            </a:r>
          </a:p>
        </p:txBody>
      </p:sp>
      <p:sp>
        <p:nvSpPr>
          <p:cNvPr id="8" name="PlaceHolder 7"/>
          <p:cNvSpPr>
            <a:spLocks noGrp="1"/>
          </p:cNvSpPr>
          <p:nvPr>
            <p:ph type="sldNum" idx="53"/>
          </p:nvPr>
        </p:nvSpPr>
        <p:spPr/>
        <p:txBody>
          <a:bodyPr/>
          <a:p>
            <a:fld id="{14E98432-D909-4AE3-90B3-AD2BFD451F29}" type="slidenum">
              <a:t>&lt;#&gt;</a:t>
            </a:fld>
          </a:p>
        </p:txBody>
      </p:sp>
      <p:sp>
        <p:nvSpPr>
          <p:cNvPr id="9" name="PlaceHolder 8"/>
          <p:cNvSpPr>
            <a:spLocks noGrp="1"/>
          </p:cNvSpPr>
          <p:nvPr>
            <p:ph type="dt" idx="5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2693D9D-4FDC-4EAD-BD7D-CD5E2B677731}"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2"/>
          </p:nvPr>
        </p:nvSpPr>
        <p:spPr/>
        <p:txBody>
          <a:bodyPr/>
          <a:p>
            <a:r>
              <a:t>Footer</a:t>
            </a:r>
          </a:p>
        </p:txBody>
      </p:sp>
      <p:sp>
        <p:nvSpPr>
          <p:cNvPr id="10" name="PlaceHolder 9"/>
          <p:cNvSpPr>
            <a:spLocks noGrp="1"/>
          </p:cNvSpPr>
          <p:nvPr>
            <p:ph type="sldNum" idx="53"/>
          </p:nvPr>
        </p:nvSpPr>
        <p:spPr/>
        <p:txBody>
          <a:bodyPr/>
          <a:p>
            <a:fld id="{6FE43632-1F12-4C2D-A781-726ACD39F59E}" type="slidenum">
              <a:t>&lt;#&gt;</a:t>
            </a:fld>
          </a:p>
        </p:txBody>
      </p:sp>
      <p:sp>
        <p:nvSpPr>
          <p:cNvPr id="11" name="PlaceHolder 10"/>
          <p:cNvSpPr>
            <a:spLocks noGrp="1"/>
          </p:cNvSpPr>
          <p:nvPr>
            <p:ph type="dt" idx="51"/>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5"/>
          </p:nvPr>
        </p:nvSpPr>
        <p:spPr/>
        <p:txBody>
          <a:bodyPr/>
          <a:p>
            <a:r>
              <a:t>Footer</a:t>
            </a:r>
          </a:p>
        </p:txBody>
      </p:sp>
      <p:sp>
        <p:nvSpPr>
          <p:cNvPr id="3" name="PlaceHolder 2"/>
          <p:cNvSpPr>
            <a:spLocks noGrp="1"/>
          </p:cNvSpPr>
          <p:nvPr>
            <p:ph type="sldNum" idx="56"/>
          </p:nvPr>
        </p:nvSpPr>
        <p:spPr/>
        <p:txBody>
          <a:bodyPr/>
          <a:p>
            <a:fld id="{1E7D5E9E-938F-4FF2-AED4-EAA12F490716}" type="slidenum">
              <a:t>&lt;#&gt;</a:t>
            </a:fld>
          </a:p>
        </p:txBody>
      </p:sp>
      <p:sp>
        <p:nvSpPr>
          <p:cNvPr id="4" name="PlaceHolder 3"/>
          <p:cNvSpPr>
            <a:spLocks noGrp="1"/>
          </p:cNvSpPr>
          <p:nvPr>
            <p:ph type="dt" idx="54"/>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8FF130E9-C792-4F24-908A-976D47E93556}"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B42B2C9B-4E2B-4A5C-ABA0-FD59E26A6F11}"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1BFA1BB3-2DDE-4235-B166-4E465A676599}"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C163AA76-5E8F-443A-880B-2F28A75A5AFE}"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19F1C043-7098-4B1E-82E1-20DC11A55C0B}"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91C29F03-2510-4DC3-8D4B-43008536AE4D}"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D301B3BE-7CE2-4E62-B6F3-D4A5E18A4305}"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B28C477B-B724-448A-9E0C-DF332B5BC89C}"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14AA0244-A0D9-42BA-8DD5-8D7A58C4A30C}"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5"/>
          </p:nvPr>
        </p:nvSpPr>
        <p:spPr/>
        <p:txBody>
          <a:bodyPr/>
          <a:p>
            <a:r>
              <a:t>Footer</a:t>
            </a:r>
          </a:p>
        </p:txBody>
      </p:sp>
      <p:sp>
        <p:nvSpPr>
          <p:cNvPr id="8" name="PlaceHolder 7"/>
          <p:cNvSpPr>
            <a:spLocks noGrp="1"/>
          </p:cNvSpPr>
          <p:nvPr>
            <p:ph type="sldNum" idx="56"/>
          </p:nvPr>
        </p:nvSpPr>
        <p:spPr/>
        <p:txBody>
          <a:bodyPr/>
          <a:p>
            <a:fld id="{1A9050BA-B8DA-4774-99DE-2AB59DE70C5B}" type="slidenum">
              <a:t>&lt;#&gt;</a:t>
            </a:fld>
          </a:p>
        </p:txBody>
      </p:sp>
      <p:sp>
        <p:nvSpPr>
          <p:cNvPr id="9" name="PlaceHolder 8"/>
          <p:cNvSpPr>
            <a:spLocks noGrp="1"/>
          </p:cNvSpPr>
          <p:nvPr>
            <p:ph type="dt" idx="54"/>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5"/>
          </p:nvPr>
        </p:nvSpPr>
        <p:spPr/>
        <p:txBody>
          <a:bodyPr/>
          <a:p>
            <a:r>
              <a:t>Footer</a:t>
            </a:r>
          </a:p>
        </p:txBody>
      </p:sp>
      <p:sp>
        <p:nvSpPr>
          <p:cNvPr id="10" name="PlaceHolder 9"/>
          <p:cNvSpPr>
            <a:spLocks noGrp="1"/>
          </p:cNvSpPr>
          <p:nvPr>
            <p:ph type="sldNum" idx="56"/>
          </p:nvPr>
        </p:nvSpPr>
        <p:spPr/>
        <p:txBody>
          <a:bodyPr/>
          <a:p>
            <a:fld id="{1FFA9B97-C307-4596-A658-3098B556C721}" type="slidenum">
              <a:t>&lt;#&gt;</a:t>
            </a:fld>
          </a:p>
        </p:txBody>
      </p:sp>
      <p:sp>
        <p:nvSpPr>
          <p:cNvPr id="11" name="PlaceHolder 10"/>
          <p:cNvSpPr>
            <a:spLocks noGrp="1"/>
          </p:cNvSpPr>
          <p:nvPr>
            <p:ph type="dt" idx="54"/>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8"/>
          </p:nvPr>
        </p:nvSpPr>
        <p:spPr/>
        <p:txBody>
          <a:bodyPr/>
          <a:p>
            <a:r>
              <a:t>Footer</a:t>
            </a:r>
          </a:p>
        </p:txBody>
      </p:sp>
      <p:sp>
        <p:nvSpPr>
          <p:cNvPr id="3" name="PlaceHolder 2"/>
          <p:cNvSpPr>
            <a:spLocks noGrp="1"/>
          </p:cNvSpPr>
          <p:nvPr>
            <p:ph type="sldNum" idx="59"/>
          </p:nvPr>
        </p:nvSpPr>
        <p:spPr/>
        <p:txBody>
          <a:bodyPr/>
          <a:p>
            <a:fld id="{9AE7A3B6-8863-4860-B236-A1C1C9532037}" type="slidenum">
              <a:t>&lt;#&gt;</a:t>
            </a:fld>
          </a:p>
        </p:txBody>
      </p:sp>
      <p:sp>
        <p:nvSpPr>
          <p:cNvPr id="4" name="PlaceHolder 3"/>
          <p:cNvSpPr>
            <a:spLocks noGrp="1"/>
          </p:cNvSpPr>
          <p:nvPr>
            <p:ph type="dt" idx="57"/>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FBE417A7-1DCC-4058-8167-150E1AD1815A}"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5E1EF3FB-6C5C-4FC5-B23F-5BCA1C11A33B}"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406A00E4-7A6E-43C2-9843-FEA42FE02A8A}"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07446557-8E4C-47F1-B70A-A9B725E83C19}"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F67E49DE-B5EA-4529-AE88-FCA1F9787E17}"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BA5089A1-E10D-43DB-BB05-25F49ECB65AC}"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C0920063-23C4-40C0-BB8A-4C2A91579530}"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B26D6DBF-D446-4CE3-86A4-8D98465AF082}"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F8D36BF3-4420-4083-9BCF-A3F1974C62C0}"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8"/>
          </p:nvPr>
        </p:nvSpPr>
        <p:spPr/>
        <p:txBody>
          <a:bodyPr/>
          <a:p>
            <a:r>
              <a:t>Footer</a:t>
            </a:r>
          </a:p>
        </p:txBody>
      </p:sp>
      <p:sp>
        <p:nvSpPr>
          <p:cNvPr id="8" name="PlaceHolder 7"/>
          <p:cNvSpPr>
            <a:spLocks noGrp="1"/>
          </p:cNvSpPr>
          <p:nvPr>
            <p:ph type="sldNum" idx="59"/>
          </p:nvPr>
        </p:nvSpPr>
        <p:spPr/>
        <p:txBody>
          <a:bodyPr/>
          <a:p>
            <a:fld id="{F700BAEC-8C4F-430A-BC52-0B6B7E144262}" type="slidenum">
              <a:t>&lt;#&gt;</a:t>
            </a:fld>
          </a:p>
        </p:txBody>
      </p:sp>
      <p:sp>
        <p:nvSpPr>
          <p:cNvPr id="9" name="PlaceHolder 8"/>
          <p:cNvSpPr>
            <a:spLocks noGrp="1"/>
          </p:cNvSpPr>
          <p:nvPr>
            <p:ph type="dt" idx="57"/>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8"/>
          </p:nvPr>
        </p:nvSpPr>
        <p:spPr/>
        <p:txBody>
          <a:bodyPr/>
          <a:p>
            <a:r>
              <a:t>Footer</a:t>
            </a:r>
          </a:p>
        </p:txBody>
      </p:sp>
      <p:sp>
        <p:nvSpPr>
          <p:cNvPr id="10" name="PlaceHolder 9"/>
          <p:cNvSpPr>
            <a:spLocks noGrp="1"/>
          </p:cNvSpPr>
          <p:nvPr>
            <p:ph type="sldNum" idx="59"/>
          </p:nvPr>
        </p:nvSpPr>
        <p:spPr/>
        <p:txBody>
          <a:bodyPr/>
          <a:p>
            <a:fld id="{4C9BC92F-E2F1-42C7-9424-FD079A7B9CA1}" type="slidenum">
              <a:t>&lt;#&gt;</a:t>
            </a:fld>
          </a:p>
        </p:txBody>
      </p:sp>
      <p:sp>
        <p:nvSpPr>
          <p:cNvPr id="11" name="PlaceHolder 10"/>
          <p:cNvSpPr>
            <a:spLocks noGrp="1"/>
          </p:cNvSpPr>
          <p:nvPr>
            <p:ph type="dt" idx="57"/>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1"/>
          </p:nvPr>
        </p:nvSpPr>
        <p:spPr/>
        <p:txBody>
          <a:bodyPr/>
          <a:p>
            <a:r>
              <a:t>Footer</a:t>
            </a:r>
          </a:p>
        </p:txBody>
      </p:sp>
      <p:sp>
        <p:nvSpPr>
          <p:cNvPr id="3" name="PlaceHolder 2"/>
          <p:cNvSpPr>
            <a:spLocks noGrp="1"/>
          </p:cNvSpPr>
          <p:nvPr>
            <p:ph type="sldNum" idx="62"/>
          </p:nvPr>
        </p:nvSpPr>
        <p:spPr/>
        <p:txBody>
          <a:bodyPr/>
          <a:p>
            <a:fld id="{53D81C40-84A2-4B63-81CB-2306559782E5}" type="slidenum">
              <a:t>&lt;#&gt;</a:t>
            </a:fld>
          </a:p>
        </p:txBody>
      </p:sp>
      <p:sp>
        <p:nvSpPr>
          <p:cNvPr id="4" name="PlaceHolder 3"/>
          <p:cNvSpPr>
            <a:spLocks noGrp="1"/>
          </p:cNvSpPr>
          <p:nvPr>
            <p:ph type="dt" idx="60"/>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B234952E-78A1-494B-8789-2958E16EEB4C}"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739560C6-AFE1-4A87-859F-C9D2D9792730}"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2A7DD5A7-DBC9-4948-A5F3-3030294C527B}"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482BFEC2-7A29-4E83-8D9D-0F9117E3A95B}"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AEBE291F-1D98-4171-8A57-5DAEDD47BD4E}"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7485BD54-B821-4CB9-A3FE-C0D2EAF6354A}"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06F711B1-C321-4FDB-9112-8CAC3558732B}"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5991E5AF-852C-46DE-A22D-D43A6F5592D6}"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2B0AFB7F-DF2D-4777-A08D-F6F04596D7ED}"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1"/>
          </p:nvPr>
        </p:nvSpPr>
        <p:spPr/>
        <p:txBody>
          <a:bodyPr/>
          <a:p>
            <a:r>
              <a:t>Footer</a:t>
            </a:r>
          </a:p>
        </p:txBody>
      </p:sp>
      <p:sp>
        <p:nvSpPr>
          <p:cNvPr id="8" name="PlaceHolder 7"/>
          <p:cNvSpPr>
            <a:spLocks noGrp="1"/>
          </p:cNvSpPr>
          <p:nvPr>
            <p:ph type="sldNum" idx="62"/>
          </p:nvPr>
        </p:nvSpPr>
        <p:spPr/>
        <p:txBody>
          <a:bodyPr/>
          <a:p>
            <a:fld id="{5C16DFDB-8459-42D1-B66E-5232D903DE05}" type="slidenum">
              <a:t>&lt;#&gt;</a:t>
            </a:fld>
          </a:p>
        </p:txBody>
      </p:sp>
      <p:sp>
        <p:nvSpPr>
          <p:cNvPr id="9" name="PlaceHolder 8"/>
          <p:cNvSpPr>
            <a:spLocks noGrp="1"/>
          </p:cNvSpPr>
          <p:nvPr>
            <p:ph type="dt" idx="60"/>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1"/>
          </p:nvPr>
        </p:nvSpPr>
        <p:spPr/>
        <p:txBody>
          <a:bodyPr/>
          <a:p>
            <a:r>
              <a:t>Footer</a:t>
            </a:r>
          </a:p>
        </p:txBody>
      </p:sp>
      <p:sp>
        <p:nvSpPr>
          <p:cNvPr id="10" name="PlaceHolder 9"/>
          <p:cNvSpPr>
            <a:spLocks noGrp="1"/>
          </p:cNvSpPr>
          <p:nvPr>
            <p:ph type="sldNum" idx="62"/>
          </p:nvPr>
        </p:nvSpPr>
        <p:spPr/>
        <p:txBody>
          <a:bodyPr/>
          <a:p>
            <a:fld id="{24490550-3576-4D1F-BC80-1BFB27F59F98}" type="slidenum">
              <a:t>&lt;#&gt;</a:t>
            </a:fld>
          </a:p>
        </p:txBody>
      </p:sp>
      <p:sp>
        <p:nvSpPr>
          <p:cNvPr id="11" name="PlaceHolder 10"/>
          <p:cNvSpPr>
            <a:spLocks noGrp="1"/>
          </p:cNvSpPr>
          <p:nvPr>
            <p:ph type="dt" idx="60"/>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4"/>
          </p:nvPr>
        </p:nvSpPr>
        <p:spPr/>
        <p:txBody>
          <a:bodyPr/>
          <a:p>
            <a:r>
              <a:t>Footer</a:t>
            </a:r>
          </a:p>
        </p:txBody>
      </p:sp>
      <p:sp>
        <p:nvSpPr>
          <p:cNvPr id="3" name="PlaceHolder 2"/>
          <p:cNvSpPr>
            <a:spLocks noGrp="1"/>
          </p:cNvSpPr>
          <p:nvPr>
            <p:ph type="sldNum" idx="65"/>
          </p:nvPr>
        </p:nvSpPr>
        <p:spPr/>
        <p:txBody>
          <a:bodyPr/>
          <a:p>
            <a:fld id="{AC5D6CAA-8F91-4B0F-9632-A8E608F5AB38}" type="slidenum">
              <a:t>&lt;#&gt;</a:t>
            </a:fld>
          </a:p>
        </p:txBody>
      </p:sp>
      <p:sp>
        <p:nvSpPr>
          <p:cNvPr id="4" name="PlaceHolder 3"/>
          <p:cNvSpPr>
            <a:spLocks noGrp="1"/>
          </p:cNvSpPr>
          <p:nvPr>
            <p:ph type="dt" idx="63"/>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270B1697-C151-4A0D-A76A-973047D01CCF}"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2CB97006-9C65-4409-ABA4-A0DF44CF08B7}"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59C7DBDB-CFA9-43BA-9C82-A32BE9849D82}"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2BA0E8D2-2043-4F32-8A77-FAD33DFE32E4}"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C8BB7EB1-6F7C-4FFC-87FF-25DA8DCB3AFB}"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72A7B27E-3DD3-461B-9B72-E66EF54D3898}"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73B456A5-AC2F-4815-AAC3-A560B1BB85E3}"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A65A2681-E0AB-4BCE-AF88-9C0A248AFCE3}"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FB4F13A9-9309-45CC-8145-8838B0D90829}"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4"/>
          </p:nvPr>
        </p:nvSpPr>
        <p:spPr/>
        <p:txBody>
          <a:bodyPr/>
          <a:p>
            <a:r>
              <a:t>Footer</a:t>
            </a:r>
          </a:p>
        </p:txBody>
      </p:sp>
      <p:sp>
        <p:nvSpPr>
          <p:cNvPr id="8" name="PlaceHolder 7"/>
          <p:cNvSpPr>
            <a:spLocks noGrp="1"/>
          </p:cNvSpPr>
          <p:nvPr>
            <p:ph type="sldNum" idx="65"/>
          </p:nvPr>
        </p:nvSpPr>
        <p:spPr/>
        <p:txBody>
          <a:bodyPr/>
          <a:p>
            <a:fld id="{9226CCF9-F450-4497-9050-8AB728222CDF}" type="slidenum">
              <a:t>&lt;#&gt;</a:t>
            </a:fld>
          </a:p>
        </p:txBody>
      </p:sp>
      <p:sp>
        <p:nvSpPr>
          <p:cNvPr id="9" name="PlaceHolder 8"/>
          <p:cNvSpPr>
            <a:spLocks noGrp="1"/>
          </p:cNvSpPr>
          <p:nvPr>
            <p:ph type="dt" idx="63"/>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4"/>
          </p:nvPr>
        </p:nvSpPr>
        <p:spPr/>
        <p:txBody>
          <a:bodyPr/>
          <a:p>
            <a:r>
              <a:t>Footer</a:t>
            </a:r>
          </a:p>
        </p:txBody>
      </p:sp>
      <p:sp>
        <p:nvSpPr>
          <p:cNvPr id="10" name="PlaceHolder 9"/>
          <p:cNvSpPr>
            <a:spLocks noGrp="1"/>
          </p:cNvSpPr>
          <p:nvPr>
            <p:ph type="sldNum" idx="65"/>
          </p:nvPr>
        </p:nvSpPr>
        <p:spPr/>
        <p:txBody>
          <a:bodyPr/>
          <a:p>
            <a:fld id="{4CA8E701-7598-4D84-8F42-49B96DF0AA65}" type="slidenum">
              <a:t>&lt;#&gt;</a:t>
            </a:fld>
          </a:p>
        </p:txBody>
      </p:sp>
      <p:sp>
        <p:nvSpPr>
          <p:cNvPr id="11" name="PlaceHolder 10"/>
          <p:cNvSpPr>
            <a:spLocks noGrp="1"/>
          </p:cNvSpPr>
          <p:nvPr>
            <p:ph type="dt" idx="6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3B6588-C38A-403C-8C81-AE631DEA0B8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9D20603-0002-4347-956E-F2DB92AE7B79}"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A292BEB5-1C60-477A-997B-7A8E9B42294D}"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A3858277-55EB-4194-88EF-327447DF087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D011CC-A3AE-460E-B748-6BCB11FBAA5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AA7E8654-1C66-4B1B-8189-20F31CB15E6E}"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5"/>
          </p:nvPr>
        </p:nvSpPr>
        <p:spPr/>
        <p:txBody>
          <a:bodyPr/>
          <a:p>
            <a:fld id="{13030BA6-D1DA-4E7E-9054-6ACA6F7ACBBC}"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9848B90C-E26D-4240-B130-9CB9D6A8034A}"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A4D8E9A1-BCF2-42EF-816B-0931C8F0E294}"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7768BEB5-9B11-4398-96F6-E79D32C2B3DC}"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1A5F9B79-ED13-4136-9F32-14A108070496}"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F9DB9D04-EA62-4E04-86F3-19C3C28CB2CE}"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5"/>
          </p:nvPr>
        </p:nvSpPr>
        <p:spPr/>
        <p:txBody>
          <a:bodyPr/>
          <a:p>
            <a:fld id="{2E2EC24B-0FED-494D-9B02-59A07EC801BE}"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5"/>
          </p:nvPr>
        </p:nvSpPr>
        <p:spPr/>
        <p:txBody>
          <a:bodyPr/>
          <a:p>
            <a:fld id="{E524CC35-DCD9-43A1-AD85-71D7F73A27B4}"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8252828-A795-4793-96D5-6AE95996DAE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7B20CCB-ED10-4178-95E2-D0084755331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9E1627E-3850-469A-8C80-DFBB9105CCF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63037E1-C105-45CF-9A2C-3F4A6C2F830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67473F4-0F99-4466-8B31-4A41B21543C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4C78A23-D20C-4BD6-BCDD-444B45B93CC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6FACC27-5E0D-4226-A9B7-C2F0ED6D237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BCF81CC-F5CB-458A-8913-DCDB79FC7F2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50DC53A-BB30-4C3A-A415-4028036E131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194E183-E344-4B2A-A956-F4E49506D5D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1A77AF7-0F95-439B-81CB-5FE037C923B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C41AEA2-C950-426D-9720-8D19D1DD06BA}"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D443F047-9620-4A43-A7FA-73A03872176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1A1A2A2-7BC8-49CC-A617-40537AC6BD27}"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0B765800-6E4E-445B-B8FC-9938468D2D9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89B07CF-2C43-4FDF-929E-AB2F0B636C6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043B747-7D74-4C53-99F3-B9D21050196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D9C71A1-BF41-4FF5-A0B2-D8CDC8A2A7E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CDBD22F-CA56-470C-932A-CE1789EC3A4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D93EADA-36FD-4560-856B-F863321E575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F7BBC64-5D1D-4315-9BDD-33A91E37AD4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CA0795E-C779-4E94-B083-D66C215F9FB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54599BD-CFA5-4F5A-A089-6B85E6BA0F7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7F221C-BBB5-4CB3-BEA3-A5C39509020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5C29DFD-D6F9-4AB7-A7F2-FEDD46608E0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31E26C87-CAE2-4BE0-99B0-95F6C1B8B16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4257F772-918F-487B-B6F0-BDB429804BC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C3E6F2C3-DE9F-4822-8251-A42785BB029B}"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BAEA6A9-5AB8-4753-AE90-C2184992BBA0}"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5CC74B1-1C6C-48F1-92E9-DD0214E1006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948ABD0-0824-4AFD-A382-8D33FE234581}"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1534EFD-F39B-4A78-973D-703181F7A36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F8528931-D2EC-4DF5-8F87-7A2AFA80FEF9}"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26BAEC3-F71C-4E4A-976B-E26998F514D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AC1297-CC9A-4B2E-8741-DA408AA3EBB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0222D5A-91FD-466C-83D2-95AA6A0BDCD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5FCF4DC-061A-4DAD-B5D5-A36059FA6A3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5358F7A-25F3-4EA7-99EF-491776DD2DE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3E094C47-CA7B-4729-93E7-735B5FB920CA}"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01C2BE5E-91A0-40E2-8C02-50F0336BEF98}"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7779B9B0-7CBA-40A1-8B37-0313DA8CFB3E}"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D0E73A2C-4A1A-4205-8B02-80348E4CC535}"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8594E0F6-FE82-490F-8F9D-0ECF2682B5B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11A8CDC3-DB07-49B4-B5A5-011379813B2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36CE749-B0CC-4A21-9D90-B8FBB4A0FA85}"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84FB8C-95D3-41B0-B0BC-66F80F244BA4}"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ABE7AE4-BD20-4EB3-ACCA-C3E344020F91}"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B2D063C-A6F5-43E9-AC7A-345ED64AACD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BA13542-409C-450F-A20B-EFB5C3D8C62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4D919DA-AAE9-4EE9-BBBE-A9DDE3E2AFC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35D65EF-7D0A-4BDF-BFCA-683C69758E00}"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3833EBAD-2313-42BD-9525-175DCA53819D}"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4D15CC63-AA9F-471A-9FB4-ED37767FEA83}"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03529F14-E2B0-4592-90C6-354CE33E2285}"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388A314B-AF7A-4CDA-A93A-6C44BA8CDD35}"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D38320A8-FD2C-4201-9A7A-C6F015EA21A7}"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 name="PlaceHolder 3"/>
          <p:cNvSpPr>
            <a:spLocks noGrp="1"/>
          </p:cNvSpPr>
          <p:nvPr>
            <p:ph type="sldNum" idx="1"/>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79CF6-F5C8-4A8F-8991-F2ABEB7C63A3}"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
        <p:nvSpPr>
          <p:cNvPr id="3"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372"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373"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374" name="PlaceHolder 3"/>
          <p:cNvSpPr>
            <a:spLocks noGrp="1"/>
          </p:cNvSpPr>
          <p:nvPr>
            <p:ph type="dt" idx="21"/>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4"/>
          <p:cNvSpPr>
            <a:spLocks noGrp="1"/>
          </p:cNvSpPr>
          <p:nvPr>
            <p:ph type="ftr" idx="2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5"/>
          <p:cNvSpPr>
            <a:spLocks noGrp="1"/>
          </p:cNvSpPr>
          <p:nvPr>
            <p:ph type="sldNum" idx="23"/>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9216A-D39E-4FF6-95B0-051062B078F4}"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414"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415"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416" name="PlaceHolder 3"/>
          <p:cNvSpPr>
            <a:spLocks noGrp="1"/>
          </p:cNvSpPr>
          <p:nvPr>
            <p:ph type="dt" idx="24"/>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4"/>
          <p:cNvSpPr>
            <a:spLocks noGrp="1"/>
          </p:cNvSpPr>
          <p:nvPr>
            <p:ph type="ftr" idx="2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PlaceHolder 5"/>
          <p:cNvSpPr>
            <a:spLocks noGrp="1"/>
          </p:cNvSpPr>
          <p:nvPr>
            <p:ph type="sldNum" idx="26"/>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7B743-7737-42E5-984A-A3BA32E22426}"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456"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457"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458" name="PlaceHolder 3"/>
          <p:cNvSpPr>
            <a:spLocks noGrp="1"/>
          </p:cNvSpPr>
          <p:nvPr>
            <p:ph type="dt" idx="27"/>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PlaceHolder 4"/>
          <p:cNvSpPr>
            <a:spLocks noGrp="1"/>
          </p:cNvSpPr>
          <p:nvPr>
            <p:ph type="ftr" idx="2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PlaceHolder 5"/>
          <p:cNvSpPr>
            <a:spLocks noGrp="1"/>
          </p:cNvSpPr>
          <p:nvPr>
            <p:ph type="sldNum" idx="29"/>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38EB5-F256-48BA-8082-C7A29ACEFB86}"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498"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499"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500" name="PlaceHolder 3"/>
          <p:cNvSpPr>
            <a:spLocks noGrp="1"/>
          </p:cNvSpPr>
          <p:nvPr>
            <p:ph type="dt" idx="30"/>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PlaceHolder 4"/>
          <p:cNvSpPr>
            <a:spLocks noGrp="1"/>
          </p:cNvSpPr>
          <p:nvPr>
            <p:ph type="ftr" idx="3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PlaceHolder 5"/>
          <p:cNvSpPr>
            <a:spLocks noGrp="1"/>
          </p:cNvSpPr>
          <p:nvPr>
            <p:ph type="sldNum" idx="32"/>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4E95B-8092-48C8-9E1E-E39B4E12D5BF}"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41" name="PlaceHolder 3"/>
          <p:cNvSpPr>
            <a:spLocks noGrp="1"/>
          </p:cNvSpPr>
          <p:nvPr>
            <p:ph type="dt" idx="3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PlaceHolder 4"/>
          <p:cNvSpPr>
            <a:spLocks noGrp="1"/>
          </p:cNvSpPr>
          <p:nvPr>
            <p:ph type="ftr" idx="3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PlaceHolder 5"/>
          <p:cNvSpPr>
            <a:spLocks noGrp="1"/>
          </p:cNvSpPr>
          <p:nvPr>
            <p:ph type="sldNum" idx="3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39FE8-F256-4542-AEC7-45D329D614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2" name="PlaceHolder 3"/>
          <p:cNvSpPr>
            <a:spLocks noGrp="1"/>
          </p:cNvSpPr>
          <p:nvPr>
            <p:ph type="dt" idx="3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PlaceHolder 4"/>
          <p:cNvSpPr>
            <a:spLocks noGrp="1"/>
          </p:cNvSpPr>
          <p:nvPr>
            <p:ph type="ftr" idx="3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PlaceHolder 5"/>
          <p:cNvSpPr>
            <a:spLocks noGrp="1"/>
          </p:cNvSpPr>
          <p:nvPr>
            <p:ph type="sldNum" idx="3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AE414-A17E-4B6D-ABFB-2A6FD9F451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23" name="PlaceHolder 3"/>
          <p:cNvSpPr>
            <a:spLocks noGrp="1"/>
          </p:cNvSpPr>
          <p:nvPr>
            <p:ph type="dt" idx="3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PlaceHolder 4"/>
          <p:cNvSpPr>
            <a:spLocks noGrp="1"/>
          </p:cNvSpPr>
          <p:nvPr>
            <p:ph type="ftr" idx="4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PlaceHolder 5"/>
          <p:cNvSpPr>
            <a:spLocks noGrp="1"/>
          </p:cNvSpPr>
          <p:nvPr>
            <p:ph type="sldNum" idx="4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A532E-3088-4368-90CD-2122392A75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64" name="PlaceHolder 3"/>
          <p:cNvSpPr>
            <a:spLocks noGrp="1"/>
          </p:cNvSpPr>
          <p:nvPr>
            <p:ph type="dt" idx="4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PlaceHolder 4"/>
          <p:cNvSpPr>
            <a:spLocks noGrp="1"/>
          </p:cNvSpPr>
          <p:nvPr>
            <p:ph type="ftr" idx="4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PlaceHolder 5"/>
          <p:cNvSpPr>
            <a:spLocks noGrp="1"/>
          </p:cNvSpPr>
          <p:nvPr>
            <p:ph type="sldNum" idx="4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A607D-8F8B-45F0-AF9D-A4DEBD163C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05" name="PlaceHolder 3"/>
          <p:cNvSpPr>
            <a:spLocks noGrp="1"/>
          </p:cNvSpPr>
          <p:nvPr>
            <p:ph type="dt" idx="4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PlaceHolder 4"/>
          <p:cNvSpPr>
            <a:spLocks noGrp="1"/>
          </p:cNvSpPr>
          <p:nvPr>
            <p:ph type="ftr" idx="4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PlaceHolder 5"/>
          <p:cNvSpPr>
            <a:spLocks noGrp="1"/>
          </p:cNvSpPr>
          <p:nvPr>
            <p:ph type="sldNum" idx="4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F7A69-37F3-41A4-9C60-0C7DC78284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46" name="PlaceHolder 3"/>
          <p:cNvSpPr>
            <a:spLocks noGrp="1"/>
          </p:cNvSpPr>
          <p:nvPr>
            <p:ph type="dt" idx="4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PlaceHolder 4"/>
          <p:cNvSpPr>
            <a:spLocks noGrp="1"/>
          </p:cNvSpPr>
          <p:nvPr>
            <p:ph type="ftr" idx="4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PlaceHolder 5"/>
          <p:cNvSpPr>
            <a:spLocks noGrp="1"/>
          </p:cNvSpPr>
          <p:nvPr>
            <p:ph type="sldNum" idx="5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0A77A-E19F-4ADB-BCB7-AA1271F2E3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B4601-E4B8-46AE-8C5A-7858FE0F10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87" name="PlaceHolder 3"/>
          <p:cNvSpPr>
            <a:spLocks noGrp="1"/>
          </p:cNvSpPr>
          <p:nvPr>
            <p:ph type="dt" idx="5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PlaceHolder 4"/>
          <p:cNvSpPr>
            <a:spLocks noGrp="1"/>
          </p:cNvSpPr>
          <p:nvPr>
            <p:ph type="ftr" idx="5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PlaceHolder 5"/>
          <p:cNvSpPr>
            <a:spLocks noGrp="1"/>
          </p:cNvSpPr>
          <p:nvPr>
            <p:ph type="sldNum" idx="5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915EE-AB30-4746-A38D-B0A3CC7858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28" name="PlaceHolder 3"/>
          <p:cNvSpPr>
            <a:spLocks noGrp="1"/>
          </p:cNvSpPr>
          <p:nvPr>
            <p:ph type="dt" idx="5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PlaceHolder 4"/>
          <p:cNvSpPr>
            <a:spLocks noGrp="1"/>
          </p:cNvSpPr>
          <p:nvPr>
            <p:ph type="ftr" idx="5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PlaceHolder 5"/>
          <p:cNvSpPr>
            <a:spLocks noGrp="1"/>
          </p:cNvSpPr>
          <p:nvPr>
            <p:ph type="sldNum" idx="5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88B19-D6D2-44F7-8820-EE3BA1A3EB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9" name="PlaceHolder 3"/>
          <p:cNvSpPr>
            <a:spLocks noGrp="1"/>
          </p:cNvSpPr>
          <p:nvPr>
            <p:ph type="dt" idx="5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PlaceHolder 4"/>
          <p:cNvSpPr>
            <a:spLocks noGrp="1"/>
          </p:cNvSpPr>
          <p:nvPr>
            <p:ph type="ftr" idx="5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PlaceHolder 5"/>
          <p:cNvSpPr>
            <a:spLocks noGrp="1"/>
          </p:cNvSpPr>
          <p:nvPr>
            <p:ph type="sldNum" idx="5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36224-6938-48BA-9E0D-745B8DAD0A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0" name="PlaceHolder 3"/>
          <p:cNvSpPr>
            <a:spLocks noGrp="1"/>
          </p:cNvSpPr>
          <p:nvPr>
            <p:ph type="dt" idx="6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PlaceHolder 4"/>
          <p:cNvSpPr>
            <a:spLocks noGrp="1"/>
          </p:cNvSpPr>
          <p:nvPr>
            <p:ph type="ftr" idx="6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PlaceHolder 5"/>
          <p:cNvSpPr>
            <a:spLocks noGrp="1"/>
          </p:cNvSpPr>
          <p:nvPr>
            <p:ph type="sldNum" idx="6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21FBC-5025-4882-86F7-2115F88892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51" name="PlaceHolder 3"/>
          <p:cNvSpPr>
            <a:spLocks noGrp="1"/>
          </p:cNvSpPr>
          <p:nvPr>
            <p:ph type="dt" idx="6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PlaceHolder 4"/>
          <p:cNvSpPr>
            <a:spLocks noGrp="1"/>
          </p:cNvSpPr>
          <p:nvPr>
            <p:ph type="ftr" idx="6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PlaceHolder 5"/>
          <p:cNvSpPr>
            <a:spLocks noGrp="1"/>
          </p:cNvSpPr>
          <p:nvPr>
            <p:ph type="sldNum" idx="6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BC0F1-F898-4BD8-84AD-6D79AF9A46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59c"/>
            </a:gs>
            <a:gs pos="100000">
              <a:srgbClr val="e1e8f5"/>
            </a:gs>
          </a:gsLst>
          <a:lin ang="5400000"/>
        </a:gradFill>
      </p:bgPr>
    </p:bg>
    <p:spTree>
      <p:nvGrpSpPr>
        <p:cNvPr id="1" name=""/>
        <p:cNvGrpSpPr/>
        <p:nvPr/>
      </p:nvGrpSpPr>
      <p:grpSpPr>
        <a:xfrm>
          <a:off x="0" y="0"/>
          <a:ext cx="0" cy="0"/>
          <a:chOff x="0" y="0"/>
          <a:chExt cx="0" cy="0"/>
        </a:xfrm>
      </p:grpSpPr>
      <p:sp>
        <p:nvSpPr>
          <p:cNvPr id="81"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pic>
        <p:nvPicPr>
          <p:cNvPr id="82" name="Picture 5" descr="mooradian_cover.PNG"/>
          <p:cNvPicPr/>
          <p:nvPr/>
        </p:nvPicPr>
        <p:blipFill>
          <a:blip r:embed="rId2"/>
          <a:stretch/>
        </p:blipFill>
        <p:spPr>
          <a:xfrm>
            <a:off x="-195120" y="36360"/>
            <a:ext cx="5700600" cy="687708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122"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124" name="PlaceHolder 3"/>
          <p:cNvSpPr>
            <a:spLocks noGrp="1"/>
          </p:cNvSpPr>
          <p:nvPr>
            <p:ph type="sldNum" idx="5"/>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86476-93F7-469E-829A-5C0DA8912065}"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162"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163"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164" name="PlaceHolder 3"/>
          <p:cNvSpPr>
            <a:spLocks noGrp="1"/>
          </p:cNvSpPr>
          <p:nvPr>
            <p:ph type="dt" idx="6"/>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4"/>
          <p:cNvSpPr>
            <a:spLocks noGrp="1"/>
          </p:cNvSpPr>
          <p:nvPr>
            <p:ph type="ftr" idx="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5"/>
          <p:cNvSpPr>
            <a:spLocks noGrp="1"/>
          </p:cNvSpPr>
          <p:nvPr>
            <p:ph type="sldNum" idx="8"/>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E122E-1CE3-4957-A7B0-2A30825CB383}"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204"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205"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06"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13D11-EFC4-4843-B1C5-9EBEE07E73D4}"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246"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48" name="PlaceHolder 3"/>
          <p:cNvSpPr>
            <a:spLocks noGrp="1"/>
          </p:cNvSpPr>
          <p:nvPr>
            <p:ph type="dt" idx="12"/>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1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14"/>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050E7-41BA-43D0-A7DE-695A904B7F8B}"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288"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289"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90" name="PlaceHolder 3"/>
          <p:cNvSpPr>
            <a:spLocks noGrp="1"/>
          </p:cNvSpPr>
          <p:nvPr>
            <p:ph type="dt" idx="15"/>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4"/>
          <p:cNvSpPr>
            <a:spLocks noGrp="1"/>
          </p:cNvSpPr>
          <p:nvPr>
            <p:ph type="ftr" idx="1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laceHolder 5"/>
          <p:cNvSpPr>
            <a:spLocks noGrp="1"/>
          </p:cNvSpPr>
          <p:nvPr>
            <p:ph type="sldNum" idx="17"/>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6615D-FDE2-4C2E-8A95-C5C0D99B0FDB}"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330"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331"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332" name="PlaceHolder 3"/>
          <p:cNvSpPr>
            <a:spLocks noGrp="1"/>
          </p:cNvSpPr>
          <p:nvPr>
            <p:ph type="dt" idx="18"/>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4"/>
          <p:cNvSpPr>
            <a:spLocks noGrp="1"/>
          </p:cNvSpPr>
          <p:nvPr>
            <p:ph type="ftr" idx="1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5"/>
          <p:cNvSpPr>
            <a:spLocks noGrp="1"/>
          </p:cNvSpPr>
          <p:nvPr>
            <p:ph type="sldNum" idx="20"/>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CAC74-5791-498B-9ED4-EAFEBAE22A1B}"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29.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5486400" y="533160"/>
            <a:ext cx="3276720" cy="5105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Note 16</a:t>
            </a:r>
            <a:br>
              <a:rPr sz="3400"/>
            </a:br>
            <a:r>
              <a:rPr b="0" lang="en-US" sz="3400" spc="-1" strike="noStrike">
                <a:solidFill>
                  <a:srgbClr val="000000"/>
                </a:solidFill>
                <a:latin typeface="Calibri"/>
              </a:rPr>
              <a:t>What is a Marketing</a:t>
            </a:r>
            <a:br>
              <a:rPr sz="3400"/>
            </a:br>
            <a:r>
              <a:rPr b="0" lang="en-US" sz="3400" spc="-1" strike="noStrike">
                <a:solidFill>
                  <a:srgbClr val="000000"/>
                </a:solidFill>
                <a:latin typeface="Calibri"/>
              </a:rPr>
              <a:t>Strategy?</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Introduction</a:t>
            </a:r>
            <a:endParaRPr b="0" lang="en-US" sz="3400" spc="-1" strike="noStrike">
              <a:solidFill>
                <a:srgbClr val="000000"/>
              </a:solidFill>
              <a:latin typeface="Calibri"/>
            </a:endParaRPr>
          </a:p>
        </p:txBody>
      </p:sp>
      <p:sp>
        <p:nvSpPr>
          <p:cNvPr id="999" name=""/>
          <p:cNvSpPr txBox="1"/>
          <p:nvPr/>
        </p:nvSpPr>
        <p:spPr>
          <a:xfrm>
            <a:off x="457200" y="1600200"/>
            <a:ext cx="8229600" cy="4525920"/>
          </a:xfrm>
          <a:prstGeom prst="rect">
            <a:avLst/>
          </a:prstGeom>
          <a:noFill/>
          <a:ln w="19080">
            <a:solidFill>
              <a:srgbClr val="b8ca78"/>
            </a:solidFill>
            <a:miter/>
          </a:ln>
        </p:spPr>
        <p:txBody>
          <a:bodyPr anchor="t">
            <a:normAutofit/>
          </a:bodyPr>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trategy is the coordinated means by which an organization pursues its goals and objectives</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t encompasses an integrated set of choices and decisions intended to support and advance the company’s vision and objectives</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t describes how to compete in a particular market or market segment</a:t>
            </a:r>
            <a:endParaRPr b="0" lang="en-US" sz="2600" spc="-1" strike="noStrike">
              <a:solidFill>
                <a:srgbClr val="000000"/>
              </a:solidFill>
              <a:latin typeface="Calibri"/>
            </a:endParaRPr>
          </a:p>
        </p:txBody>
      </p:sp>
      <p:sp>
        <p:nvSpPr>
          <p:cNvPr id="100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07E9C-5C5F-40F8-9080-34E6E956C3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9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99">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99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Introduction</a:t>
            </a:r>
            <a:endParaRPr b="0" lang="en-US" sz="3400" spc="-1" strike="noStrike">
              <a:solidFill>
                <a:srgbClr val="000000"/>
              </a:solidFill>
              <a:latin typeface="Calibri"/>
            </a:endParaRPr>
          </a:p>
        </p:txBody>
      </p:sp>
      <p:sp>
        <p:nvSpPr>
          <p:cNvPr id="1002" name=""/>
          <p:cNvSpPr txBox="1"/>
          <p:nvPr/>
        </p:nvSpPr>
        <p:spPr>
          <a:xfrm>
            <a:off x="457200" y="1600200"/>
            <a:ext cx="8229600" cy="4525920"/>
          </a:xfrm>
          <a:prstGeom prst="rect">
            <a:avLst/>
          </a:prstGeom>
          <a:noFill/>
          <a:ln w="19080">
            <a:solidFill>
              <a:srgbClr val="b8ca78"/>
            </a:solidFill>
            <a:miter/>
          </a:ln>
        </p:spPr>
        <p:txBody>
          <a:bodyPr anchor="t">
            <a:normAutofit/>
          </a:bodyPr>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trategic marketing decisions address following  range of issues and critical tasks:</a:t>
            </a:r>
            <a:endParaRPr b="0" lang="en-US" sz="26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ong-term direction of a company</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cope of the company</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dentification and/or creation of competitive advantages</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aintenance and protection of those competitive advantages</a:t>
            </a:r>
            <a:endParaRPr b="0" lang="en-US" sz="2400" spc="-1" strike="noStrike">
              <a:solidFill>
                <a:srgbClr val="000000"/>
              </a:solidFill>
              <a:latin typeface="Calibri"/>
            </a:endParaRPr>
          </a:p>
        </p:txBody>
      </p:sp>
      <p:sp>
        <p:nvSpPr>
          <p:cNvPr id="100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7A199-E71E-4B3D-B515-7A922CFD0C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002">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002">
                                            <p:txEl>
                                              <p:pRg st="1" end="1"/>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002">
                                            <p:txEl>
                                              <p:pRg st="2" end="2"/>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002">
                                            <p:txEl>
                                              <p:pRg st="3" end="3"/>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00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Introduction</a:t>
            </a:r>
            <a:endParaRPr b="0" lang="en-US" sz="3400" spc="-1" strike="noStrike">
              <a:solidFill>
                <a:srgbClr val="000000"/>
              </a:solidFill>
              <a:latin typeface="Calibri"/>
            </a:endParaRPr>
          </a:p>
        </p:txBody>
      </p:sp>
      <p:sp>
        <p:nvSpPr>
          <p:cNvPr id="1005" name=""/>
          <p:cNvSpPr txBox="1"/>
          <p:nvPr/>
        </p:nvSpPr>
        <p:spPr>
          <a:xfrm>
            <a:off x="457200" y="1600200"/>
            <a:ext cx="8229600" cy="4525920"/>
          </a:xfrm>
          <a:prstGeom prst="rect">
            <a:avLst/>
          </a:prstGeom>
          <a:noFill/>
          <a:ln w="19080">
            <a:solidFill>
              <a:srgbClr val="b8ca78"/>
            </a:solidFill>
            <a:miter/>
          </a:ln>
        </p:spPr>
        <p:txBody>
          <a:bodyPr anchor="t">
            <a:normAutofit/>
          </a:bodyPr>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dentification and prioritization of opportunities and threats in the external environment</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dentification and prioritization of customer needs as well as expectations and the needs and interests of other stakeholders</a:t>
            </a:r>
            <a:endParaRPr b="0" lang="en-US" sz="2400" spc="-1" strike="noStrike">
              <a:solidFill>
                <a:srgbClr val="000000"/>
              </a:solidFill>
              <a:latin typeface="Calibri"/>
            </a:endParaRPr>
          </a:p>
        </p:txBody>
      </p:sp>
      <p:sp>
        <p:nvSpPr>
          <p:cNvPr id="100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8380E-392A-425A-86BD-421F760971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005">
                                            <p:txEl>
                                              <p:pRg st="0" end="0"/>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00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Introduction</a:t>
            </a:r>
            <a:endParaRPr b="0" lang="en-US" sz="3400" spc="-1" strike="noStrike">
              <a:solidFill>
                <a:srgbClr val="000000"/>
              </a:solidFill>
              <a:latin typeface="Calibri"/>
            </a:endParaRPr>
          </a:p>
        </p:txBody>
      </p:sp>
      <p:sp>
        <p:nvSpPr>
          <p:cNvPr id="1008" name=""/>
          <p:cNvSpPr txBox="1"/>
          <p:nvPr/>
        </p:nvSpPr>
        <p:spPr>
          <a:xfrm>
            <a:off x="457200" y="1600200"/>
            <a:ext cx="8229600" cy="4525920"/>
          </a:xfrm>
          <a:prstGeom prst="rect">
            <a:avLst/>
          </a:prstGeom>
          <a:noFill/>
          <a:ln w="19080">
            <a:solidFill>
              <a:srgbClr val="b8ca78"/>
            </a:solidFill>
            <a:miter/>
          </a:ln>
        </p:spPr>
        <p:txBody>
          <a:bodyPr anchor="t">
            <a:normAutofit/>
          </a:bodyPr>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rketing strategy should fulfill three basic requirements:</a:t>
            </a:r>
            <a:endParaRPr b="0" lang="en-US" sz="26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rehensive</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grative</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sistent</a:t>
            </a:r>
            <a:endParaRPr b="0" lang="en-US" sz="2400" spc="-1" strike="noStrike">
              <a:solidFill>
                <a:srgbClr val="000000"/>
              </a:solidFill>
              <a:latin typeface="Calibri"/>
            </a:endParaRPr>
          </a:p>
        </p:txBody>
      </p:sp>
      <p:sp>
        <p:nvSpPr>
          <p:cNvPr id="100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4DEAB-B1FE-4966-843C-E20EE1A433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008">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008">
                                            <p:txEl>
                                              <p:pRg st="1" end="1"/>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008">
                                            <p:txEl>
                                              <p:pRg st="2" end="2"/>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00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able Note 16-1 - The 5 Ws and 1 H of the Marketing Strategy</a:t>
            </a:r>
            <a:endParaRPr b="0" lang="en-US" sz="3400" spc="-1" strike="noStrike">
              <a:solidFill>
                <a:srgbClr val="000000"/>
              </a:solidFill>
              <a:latin typeface="Calibri"/>
            </a:endParaRPr>
          </a:p>
        </p:txBody>
      </p:sp>
      <p:sp>
        <p:nvSpPr>
          <p:cNvPr id="10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8247B-F3A5-4CA8-9D8B-A529643D9E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12" name="Picture 4" descr="09.PNG"/>
          <p:cNvPicPr/>
          <p:nvPr/>
        </p:nvPicPr>
        <p:blipFill>
          <a:blip r:embed="rId1"/>
          <a:stretch/>
        </p:blipFill>
        <p:spPr>
          <a:xfrm>
            <a:off x="1820880" y="1523880"/>
            <a:ext cx="5570640" cy="5029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igure Note 16-1 - The “Hexagon” of Strategy (IKEA)</a:t>
            </a:r>
            <a:endParaRPr b="0" lang="en-US" sz="3400" spc="-1" strike="noStrike">
              <a:solidFill>
                <a:srgbClr val="000000"/>
              </a:solidFill>
              <a:latin typeface="Calibri"/>
            </a:endParaRPr>
          </a:p>
        </p:txBody>
      </p:sp>
      <p:sp>
        <p:nvSpPr>
          <p:cNvPr id="101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4ADC0-62A0-4D69-88C8-B331932265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15" name="Picture 4" descr="569.PNG"/>
          <p:cNvPicPr/>
          <p:nvPr/>
        </p:nvPicPr>
        <p:blipFill>
          <a:blip r:embed="rId1"/>
          <a:stretch/>
        </p:blipFill>
        <p:spPr>
          <a:xfrm>
            <a:off x="685800" y="1523880"/>
            <a:ext cx="7848720" cy="4865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Rectangle 3"/>
          <p:cNvSpPr/>
          <p:nvPr/>
        </p:nvSpPr>
        <p:spPr>
          <a:xfrm>
            <a:off x="-3726000" y="2297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17" name="Picture 4" descr="cid:3287383400_2177562"/>
          <p:cNvPicPr/>
          <p:nvPr/>
        </p:nvPicPr>
        <p:blipFill>
          <a:blip r:embed="rId1"/>
          <a:stretch/>
        </p:blipFill>
        <p:spPr>
          <a:xfrm>
            <a:off x="533520" y="685800"/>
            <a:ext cx="8118360" cy="2647800"/>
          </a:xfrm>
          <a:prstGeom prst="rect">
            <a:avLst/>
          </a:prstGeom>
          <a:ln w="0">
            <a:noFill/>
          </a:ln>
        </p:spPr>
      </p:pic>
      <p:sp>
        <p:nvSpPr>
          <p:cNvPr id="1018" name="Rectangle 5"/>
          <p:cNvSpPr/>
          <p:nvPr/>
        </p:nvSpPr>
        <p:spPr>
          <a:xfrm>
            <a:off x="762120" y="3584160"/>
            <a:ext cx="76960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1019" name="Rectangle 5"/>
          <p:cNvSpPr/>
          <p:nvPr/>
        </p:nvSpPr>
        <p:spPr>
          <a:xfrm>
            <a:off x="825480" y="5006880"/>
            <a:ext cx="7631280" cy="63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pyright © 2012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ublishing as Prentice Hal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1T09:42:26Z</dcterms:created>
  <dc:creator>Jagruti Gadekar</dc:creator>
  <dc:description/>
  <dc:language>en-US</dc:language>
  <cp:lastModifiedBy>Jagruti Gadekar</cp:lastModifiedBy>
  <dcterms:modified xsi:type="dcterms:W3CDTF">2011-04-19T13:58:04Z</dcterms:modified>
  <cp:revision>1040</cp:revision>
  <dc:subject/>
  <dc:title>Slide 1</dc:title>
</cp:coreProperties>
</file>