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5ABC-9735-49DF-92A4-6C6CB6E7B8A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2C44-547E-464A-BC03-1FCBF2FA20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rget segments and competitive advantages are the key factors in the six essential elements of a comprehensive marketing strategy.</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D71A-3057-405E-AF8B-FCD7902FF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ood example of a comprehensive strategy is that of IKE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edish furniture retailer has a clear and compelling strategy that has been consistent and endur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673BC-9352-4C0B-A205-A404D7C801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A4AD-B5FF-4696-BB70-526793C6B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3A80B9-5793-41D6-913C-A9C610A635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CDF241-E5B1-4173-AF26-75FFAE98F55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48B212F-DB6D-47C0-8BA0-027549F4F1C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7B6F67E-C524-4AEA-88B0-4AB748E38F5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72EEE33-167F-47B1-8348-46177A965AC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7C1A69E-2C59-44DF-9E26-5DDB44B1723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2D7FF89-8B94-4C33-AC34-D0A28D59632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7AFC4A6-5AFF-41D2-A05D-F146D0EC339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29C4A08-198B-4B5B-8ED3-1FBC0E7DFC7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B2E716B-4F03-4DC1-9DF8-4DAACBE7029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0A5C83A-50C4-4862-8D91-9A19A1825D3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BF8BD5A-A2F4-4DD0-B504-0BC3C99083E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BD97CF-F6DA-42C0-8E0C-B3A4DA11365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21EF86F-2C13-421C-A44A-7A430C200E1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FB34752-83A4-476B-858E-E50A0F20B91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32BA0D5-CFFF-4A06-8C8B-598D30BA559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FA1E6F6-1536-4694-8F71-DDD9629752B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AB3FB17-A7F2-4C39-9EDD-E2F05DF9451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40F2B4A-ECD9-411F-ACFB-2F049C729A5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04BF38F-05A4-4B4B-B1C3-B09A7A54F44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D55C941-34D2-4112-992D-6E49C3C82D7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1C28CA5-8A3A-4680-8EC9-5BD86554FE5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E743787-438F-4AE3-B3C1-B8D7931A0F0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60C604-CE23-4249-AE04-E1920A6594B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38196BA-D784-4F81-9CF1-039518F06AA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28798CF-E8EC-410C-AD5D-20CC20B8773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1E02A7E-AC5E-4EDF-A999-E6FFEFEEB6E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FD5D3FA-5FF3-444E-BA4C-DA5827B44C6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C36F894-1F21-49F7-BFC2-1BA5A587DB0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AA910AB-3450-4E45-A710-86E7D2AB4A4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F132E3D-0619-4AE4-8243-74293F6FAEA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C143429-34CC-4713-B15C-05CCF09BB59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E749B21-E974-4B28-B67D-4A13E01EC02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8EF337C-90F1-4A92-8A0B-0823AC4540F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574216A-8FA9-43E0-904B-8FD9044DCD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21C8445-EC76-45F2-B06F-7C9E7C56ACE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72C01ED-A3D5-4153-B38A-4C5C9E78F75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F48C35E-0D7B-42C5-96BF-000F51329CF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D1524FB-5EF9-4881-A97B-6C07E9BA32D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0D5CF65-9E61-48BC-BF7F-20793D1D90B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D3777C0-EF4C-40DF-9926-93BE2D2AD97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0687784-4E92-4604-BD9C-B5B6BD4A10D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7ACA1F8-D857-438A-96EE-EB393F923DB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D30DA17-FFCD-4AA7-AB3F-C55B61AB40D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15D6724-01C5-408F-B238-D318FF0A1D1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FBE1F97-C91C-466D-9363-05937F9D9A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38D931A-1522-484E-9BCB-A2BA53B14F1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165953D-2E35-45F6-A38C-780A7198922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1B373D1-1558-456A-A616-FE4BD9ECC2C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2DEDDD2-35F2-4968-9DBE-AA0901FEB74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EE7BB1B-3F07-40E4-A524-656311244A3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82179E9-5F66-44B9-B3B6-5DCCE90E438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623FCED-E639-4CBC-A135-43BCF2B7C41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E4A6549-BE84-4BC0-8018-AA04BD7B108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99AD899-E242-49DA-88BD-1948615BFA3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EEEC54E-A7DA-4FB9-9173-76924E8B910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06F054-E32A-4A05-AFC8-EB25181038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5F7C2E6-4FCD-4BEB-B084-E69C1BC93AD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165A842-2F84-4ACF-A902-B87635BBDBB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2F638D7-BE57-4DF3-9C49-C3E8319F0BF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119AB2C-4E14-46B8-8FAD-5AE3AB73AA5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F6A17E5-5B66-4647-BE53-BCFDA7A9F77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6BBF68C-2BFF-46D6-9A09-E75C5EC010F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55D2B35-0EE3-4AEC-BA32-D4F1B3C5F56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91E4527-3258-4967-8CC9-95C312A6A552}"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5F2B299-E1EF-471E-8A22-224B6E54154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1BECDD5-CA43-43CB-8EA2-EFACC02A22D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72725F-8992-4B5C-9125-A49C360D55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DC70032-4E0F-4996-9AEF-C1EE96D11C8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1E3364D-0A48-4D83-AEE8-A9915FF2425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B53FBDA-AB15-43E1-84DA-F2DC28D2786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805EACD-F3FA-4B53-9885-E33431F5971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2F52F24-B285-4D91-B812-91BFCEE8737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2E9C1C1-B6AC-4C9F-BC90-F16B08B7657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A7F4C43-9FFF-4967-BDC2-3069DE10D38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B4FA9A2-FDEA-4641-8DB9-D07CC2A8A6A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C7574D7-0C49-4713-805E-09A3370F046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C46AF79B-F0EF-441F-8D64-CA25230114A6}"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CBE1AA-E4AC-4576-9165-109954CAFE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B6A00A63-6412-4ADD-943D-71E345ECFCE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30A9853-70E2-458C-B5B0-7EA0CCD07E61}"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F4FA9B6-0111-4227-B768-C5FB5CDEC82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09B779E-C547-43BA-8EEF-5271617FA11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CC45224-AD6E-46BD-A81D-B1BC945E11E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45619EE-7A22-4B59-85FC-70CABF9891B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BE34BDE-16DA-484B-8716-EA2669A49FD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9DA3794-ABDA-46EF-A6E8-E7A6D05383D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FCE55FB-79B5-45F5-BD6B-67575F7C240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65D4FC8F-15CB-4505-85F1-DD7CADDCD113}"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8277B63-4077-49B6-B2BE-F39D23D460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F65510DD-8131-4EBD-9566-B284E4192CA9}"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E91E268D-CB51-42C8-A09A-A05A7D6F5F1E}"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B73DF22-2198-4F3B-BB80-1931EEA749C2}"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3E3419B6-9C9A-41E1-A2C8-6DBBEAF157DB}"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A3D4B6C5-5AE0-499D-BF9F-7DCD8B1CF717}"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5E80070-341A-4808-9710-C2168DAC919B}"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9D32A643-A174-4984-BE70-9FCF04579F2C}"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1AFE3AE-5A3D-4E5A-A56D-D96CC1E5ADA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18DF439-B696-4C30-85B4-C21F845D592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ABA6A35-2FE8-4819-9CAE-0A2ED7A4E59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F0AB0C-B70D-4685-A953-9460E2BD79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6DA1E05-47BC-41C8-B09C-B9251F42788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EEB0BACA-94BD-4357-ADF9-521077F3CCB5}"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8996BB20-683E-49FF-A4EE-90685882B540}"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38BF66C7-B9D7-4230-96BE-CA89038EE341}"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57A7A4D1-ECF1-4188-B2D9-3E948A370E5B}"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25E14B50-A18C-4AD5-9FCD-5257E1D53F9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D5B4AEB0-09D6-49B3-8970-D6BF7F6C722D}"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6E43AE42-336B-48B9-989A-70E857EA76F7}"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A1EC1F9A-C6C9-4CB1-82CB-BB285A79EE34}"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78FB9FF9-C973-4A1E-8D1B-692783E6428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A8862-A8C1-48AE-ACE1-9B247119AE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7D1707-8059-4BAB-BF08-536690F9CA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AD69CB2-7494-4A0B-A3DA-58CBC515A22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1A7A213C-9AE3-4C3C-A22F-0689AE940759}"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4659ED78-47A0-4DF2-8188-949FDD278322}"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34956E53-E134-4FA7-9C16-CC164A7D9C1A}"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BAB7E668-01C2-4580-B948-4392B6C86270}"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E9E8505E-EBF6-4C3F-850E-BD07EAEC4235}"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29722776-C2EB-4366-B0CC-8910DAF6DA77}"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C5EDB494-14C8-44B3-AFC5-8C2AC208502A}"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3EC29027-D6EE-4E50-99D7-66638062802D}"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CDCCEF26-AEA4-42F8-94FC-62CCF6A3E19E}"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C57AED-CC85-45E5-8112-8ABFDB5330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894E7356-DAFB-4699-A6AE-480E3A23F2C9}"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A740372A-C524-43C6-B11B-E8305BD6FFCC}"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A2E31B73-FB41-439D-A678-D55E8CEC91A7}"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DED73921-D2FE-4054-9342-D15ACCDD560C}"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16F78D8E-2758-4CEF-AA7B-5636A92ED760}"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5E754BE1-6337-40A4-9AEC-8EDCDC81A536}"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CEC70783-6D4A-450B-8B37-848DB8D5DDE8}"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224FA4B7-3BB4-422D-A440-8F5B267B3B37}"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F6C8C72A-0306-4438-946F-4BC9EC80D120}"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1AB9B722-3772-4436-8E1C-52125D5A2EB6}"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8D6BE6F-1E1D-4271-A8B4-8E694B9D9F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9B48D6AE-E27F-4F7F-B70D-69932CECEA91}"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6C61ADD3-8756-4E9E-815F-6F0138238B64}"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521377F1-5E87-4B2F-B063-E1B23BF41CBE}"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06252B0D-94F8-4D71-BE42-AB4FD6219496}"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666CE414-CC9E-4B15-8971-FBB7FD46682C}"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75FA9DB3-F970-40E6-9341-FABC28D428E0}"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8D5643C7-FF58-4624-AF4D-40CA721D1CB2}"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D9536226-2459-4416-936F-8CAD810977AF}"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0A12C5C0-EEED-4A81-8BE0-7B9853DBAC13}"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23ED8AD4-0D6F-4FEB-B933-7D022F7FA7E0}"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2240D8F-EAEF-44C3-AAFB-CF2A7E95359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E4107B98-C3DC-4463-B3D1-8A95C8773605}"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2854B5C4-D679-4D6D-888A-49C55BD9ED13}"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E0E078BA-F3EF-4446-9FD4-8AE13506C4AF}"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0CE47666-CA41-43C5-9E2F-495523835323}"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976E75BD-9995-4006-B77C-CA7A39302A20}"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63C3C60C-C0AB-4E3C-A8D9-886E49053485}"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7EA098A9-2C39-4C15-AE01-F8D45C789A8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211CECA5-1AE0-4EA6-A943-725B4CE4B58E}"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B1C04080-32E6-428A-8E2C-6F8228ACEE5E}"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FCE9F9A3-B9AB-4486-B23C-B81E310353E5}"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5C18ED4-FE58-421A-A01A-388C432A90C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66BCEBDE-7615-4959-98F6-97C2779A0AE1}"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BFB0C654-C169-4982-B705-AFA70A9133AD}"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60D91013-784F-4BA1-945C-9958B49191DA}"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7FF3C4CD-FD66-4889-AB06-7DA5BB0D90CE}"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7417238B-E651-4513-AF26-B2F1D80780C5}"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20394389-C5C3-4533-90BC-D590A99D2785}"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B404EB43-689B-4344-9DE4-F4791B768832}"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8C6A6622-47F2-44A8-A9F2-38E768F2EE8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9202FE41-CE8D-4253-B9A1-1D39932EADB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1F9023F-3FDB-453C-AEFA-E5E13420C15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E735DA3D-4CB4-4936-94E0-1ABC07F099EB}"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34FCA0B2-F833-4E58-8A7C-0B777A520765}"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64BAD01C-EE0C-4B60-BAEB-87B7480100A5}"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C1A15C96-6622-4D26-891D-16C605F76845}"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17FF3EDE-F3C4-483B-928D-D0821EBE94AC}"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91518F87-4507-4C72-9A4E-24DED442506D}"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32B4B2AE-93D8-4C58-A29E-35B43C0E32EB}"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BE58577D-E920-4221-8DBE-FD8550E978CA}"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6FCFDCDA-1A15-486C-B21C-9997CB4ABB46}"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FB573B68-B5E7-44AC-9B20-F0182317CF6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A606C8F8-DCED-4A64-8504-2BDD86045C76}"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28C414BB-1C0C-4369-9B65-9250C58AD755}"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148E50A4-6B1E-4F72-B12C-8AD14AD81EE0}"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66E3CB60-E68A-46EE-A337-C771980FC413}"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784B9478-556D-40D9-98DB-F1815046E9C9}"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58BB2B6A-F8F7-4FC2-ACB7-149C27B0598E}"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CC114C88-488F-48E1-B0D8-3EF49DE22C1F}"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C2F5679B-D1CD-4042-8AE8-8A2549F82037}"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1412A45-C999-4F9F-9B49-11BBD8CD0CD7}"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DEA448C3-5215-400F-8331-5DA808CF056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17E164EC-F0B8-473F-8FF1-3D20CE0EBA5D}"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3A2C4AA-46C6-4308-82FF-F880CBE63E3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16F3CB8-F246-4B74-8FC1-8DEB462BE4B1}"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94363775-C35F-422E-BA92-E66F84E56E2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F1DF768C-B03A-48A0-A6E4-11FAB3DD7E91}"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CE23467B-B124-47E9-AF93-44F06F09712B}"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B5EC62F0-03D7-471C-A897-26A48F18A168}"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0B3073D3-8CBA-4E31-BB5A-856BA2551D89}"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CC5C88FF-20CD-48ED-AF73-75663494CC13}"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35A27B6E-8531-4820-8B6B-36B52E75D53D}"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25111B7D-E268-4E5A-B2E3-1AC9121B0C0A}"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1D8D8143-841C-4CAC-9864-F9119B06C5DC}"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A7F6DB9A-E093-4EFF-9A88-EDF81C687592}"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63936BB9-A8F3-4BDC-B9E7-5A1846C5BBE6}"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BDB176D0-7A6B-4F90-91A0-90945F036A83}"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8FBA8B3-ACE5-419E-86D9-C28456A817EF}"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FD410D66-32F1-42A4-8248-9A6DA7601C0D}"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884D131F-964B-4511-91CD-9936665337A8}"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CA824D89-571F-4135-8FDD-E70EBE7FE134}"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70223-D3BF-4563-9ACC-BA72CFC722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60F9E9D-65AE-468C-86A3-0611DD1658F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32DE7F6D-3128-4EAD-AE1C-7B65C58E67B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156FD4BE-8611-4AEF-9151-C098918D4B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3F5631-A8A6-4E78-A9E2-A74277999FD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1D2F718A-4D77-47DC-9A1C-F2B45B738FA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11FF6902-55A1-4841-9E19-276E9DCD82F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D21A4FCA-CF70-418F-9D3F-4175E163822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5F02D30A-A51A-4797-ADC5-68FF00BA343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096B4093-125B-4C39-8FA5-F31DB91CD7C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0DD626D2-1AFE-4799-ABA0-BA8D3099FDC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1DFF5331-5409-4AE9-B0A8-FCB1E7147DC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B3A4DED9-970D-41A0-81D4-23EF0C3EABD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B8050A75-20E7-46A6-B813-9C96BBBCD3F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1F4EB0D-457F-4669-B2A5-28E97FE9015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2CFE80-52B9-46E4-A531-F5CDE9B14B1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DEE2584-1863-4BC9-8925-660C5153028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E2B0E71-CCA4-490E-953F-6B52260608D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A1FE317-007E-4E5E-8E13-F979467C4F8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1E30FB-6A0E-48AF-9B0B-8AA62ED555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F061D45-9746-498F-B0DA-B5D66396F6B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FE99BD-BDB8-4CD8-BECF-C7ED3F5501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D49547-005E-4734-A072-D69312FB1D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A104C4-0B57-4515-AF5E-25E1087A81C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2C9F01-7633-4672-AC24-856E68BC8C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1FA0014-0D6C-4B3B-AF38-F63CAA5558D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8CA5DB9-D825-44A4-99BF-33A9AA50B48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B51004D-D99C-45BC-80FE-5453BFEAEEC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F2A648D-3A23-45A5-BA91-DE5C3DFF21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25E76B-5C28-43BF-83CE-F093BA1847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CD100DA-EEFD-4223-8391-96FD733072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7D41837-151D-4484-9E7B-18989DD669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676522-FDD4-4A8F-A9C3-0E1049BDFB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0B47C4-AC33-4B21-95DF-36DD6BD341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827593-05D6-4682-AE12-FC3FB6B5E3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682DED-6385-4F76-B0F9-7E9D45E145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5E9A2A-F84F-4761-BF73-44B7A4D0FA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9C2669-CB0A-4088-8ACA-09EB635A4BE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174C320-56DB-4745-AB19-83272D2AD6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1B11430-AF7B-4464-ABB2-4A042DBA683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881EED0-666B-4652-9D33-755FF08BF8C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389636D-3587-4787-B176-66BF7953843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F15E751-C374-4A0E-9A85-2D2B7B0BD0C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E0AE6C9-42A9-481A-A278-1F948088271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3842283-42BB-4302-B3EB-EFC68D4169A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E7D8116-4A88-4037-8755-DC3231996D9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7CC06DA-0B57-42CC-A3C4-3E5A45BF950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19ED29F-3D05-4D54-82A0-1931082C357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4E8F47-A71A-4028-A897-BF7FFF84E05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0D9A309-8D04-4A97-9663-BCCFB9A225C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A95F594-3EC9-4716-9041-FDE399AA699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42FC8EB-09D2-4E1E-9EF0-95E01FDBB1A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43E5905-9323-430A-A795-7F2A94CAB00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4725F41-F030-4F08-BB94-BEA2BACDCCC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41A4D56-1498-4A5C-89E6-7410405FE82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270EA0D-2314-409E-A7B9-A7ED7D01072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12B4662-A6D1-4A82-ADA9-D200F2B182F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C190BC4-6371-4E8A-BBA4-03FBDE3D32A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0986571-61B6-4DE4-AF1D-60E6FB6E10B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447EA-FAB8-4C41-93C1-C8876408319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C261BE4-1D7E-410E-981F-2897A65C9A9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68615FC-130B-476B-9AE3-5BC1AD6BA69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F6347C6-509B-4329-A886-D7C74C9CEBA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82A0D75-7D32-411E-AEB4-54EE38D5C12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F5815F5-E605-4E55-A9F2-002C0FAB6F8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749CCF4-1FD1-4631-862A-E576CDF70DA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F06F673-7FEC-4E24-8B7F-EBDEEE4CBDB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A897A52-9D80-4EEA-AA1C-A10A14840BD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3C35DC7-B326-4C4F-BD2E-AFCEE710477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28A5336-E0C0-4280-A740-1C60B0A52563}"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91E5C-B095-4223-8024-AAC623B68D5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0E96-E4D8-425F-A363-F186BFC8B83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3043-F492-474A-BD05-DEAC4606682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FFE83-60D7-4AD1-AE0A-0FFCFCC1EC2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FB1E-FDF5-4B6C-B49D-54C08ADF682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F3D1-8892-4136-B85B-D9711EB57D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9B23-7D60-4575-98D3-6D4650781B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71E3-F82E-49AC-8E0A-B016DCFFAA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D8DE3-17FD-44A8-B88D-EC001321E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6776-8369-44EC-BC75-D394C4A2B4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50C7-0C57-43D1-A447-AFEE438045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EA92-77C1-4662-9B07-240EFA0436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B6D6-F193-4613-B4AD-F7B41ADCB3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1F062-70B8-4DBA-A07F-0E389413BE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6E02-C76D-45FD-B687-397E6328A4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D715-5536-4667-8103-60D271AAF7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EDCA-AF18-4E8E-A7DA-B88988223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7D27-B3CF-4136-83F5-8B88B4C2809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FACE-6F65-43B1-B6DB-54BC6119ACF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D060-4695-44C2-BB0C-E36F6364A6E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2A81-12A1-48AF-B6CF-88A9BD8CF33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3897-EED3-49BF-851A-84A027D2485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0E7C-5435-4FC9-A664-2AD9EE7AA21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29.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te 16</a:t>
            </a:r>
            <a:br>
              <a:rPr sz="3400"/>
            </a:br>
            <a:r>
              <a:rPr b="0" lang="en-US" sz="3400" spc="-1" strike="noStrike">
                <a:solidFill>
                  <a:srgbClr val="000000"/>
                </a:solidFill>
                <a:latin typeface="Calibri"/>
              </a:rPr>
              <a:t>What is a Marketing</a:t>
            </a:r>
            <a:br>
              <a:rPr sz="3400"/>
            </a:br>
            <a:r>
              <a:rPr b="0" lang="en-US" sz="3400" spc="-1" strike="noStrike">
                <a:solidFill>
                  <a:srgbClr val="000000"/>
                </a:solidFill>
                <a:latin typeface="Calibri"/>
              </a:rPr>
              <a:t>Strategy?</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roduction</a:t>
            </a:r>
            <a:endParaRPr b="0" lang="en-US" sz="34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ategy is the coordinated means by which an organization pursues its goals and objectiv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encompasses an integrated set of choices and decisions intended to support and advance the company’s vision and objectiv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describes how to compete in a particular market or market segment</a:t>
            </a:r>
            <a:endParaRPr b="0" lang="en-US" sz="2600" spc="-1" strike="noStrike">
              <a:solidFill>
                <a:srgbClr val="000000"/>
              </a:solidFill>
              <a:latin typeface="Calibri"/>
            </a:endParaRPr>
          </a:p>
        </p:txBody>
      </p:sp>
      <p:sp>
        <p:nvSpPr>
          <p:cNvPr id="10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8A4E-E7EF-46D6-B050-057FC2EC38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roduction</a:t>
            </a:r>
            <a:endParaRPr b="0" lang="en-US" sz="3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ategic marketing decisions address following  range of issues and critical task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ong-term direction of a company</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cope of the company</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dentification and/or creation of competitive advantag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intenance and protection of those competitive advantages</a:t>
            </a:r>
            <a:endParaRPr b="0" lang="en-US" sz="2400" spc="-1" strike="noStrike">
              <a:solidFill>
                <a:srgbClr val="000000"/>
              </a:solidFill>
              <a:latin typeface="Calibri"/>
            </a:endParaRPr>
          </a:p>
        </p:txBody>
      </p:sp>
      <p:sp>
        <p:nvSpPr>
          <p:cNvPr id="10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BE455-FD13-421D-8846-03A664B081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0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02">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02">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02">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roduction</a:t>
            </a:r>
            <a:endParaRPr b="0" lang="en-US" sz="3400" spc="-1" strike="noStrike">
              <a:solidFill>
                <a:srgbClr val="000000"/>
              </a:solidFill>
              <a:latin typeface="Calibri"/>
            </a:endParaRPr>
          </a:p>
        </p:txBody>
      </p:sp>
      <p:sp>
        <p:nvSpPr>
          <p:cNvPr id="1005" name=""/>
          <p:cNvSpPr txBox="1"/>
          <p:nvPr/>
        </p:nvSpPr>
        <p:spPr>
          <a:xfrm>
            <a:off x="457200" y="1600200"/>
            <a:ext cx="8229600" cy="4525920"/>
          </a:xfrm>
          <a:prstGeom prst="rect">
            <a:avLst/>
          </a:prstGeom>
          <a:noFill/>
          <a:ln w="19080">
            <a:solidFill>
              <a:srgbClr val="b8ca78"/>
            </a:solidFill>
            <a:miter/>
          </a:ln>
        </p:spPr>
        <p:txBody>
          <a:bodyPr anchor="t">
            <a:normAutofit/>
          </a:bodyPr>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dentification and prioritization of opportunities and threats in the external environment</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dentification and prioritization of customer needs as well as expectations and the needs and interests of other stakeholders</a:t>
            </a:r>
            <a:endParaRPr b="0" lang="en-US" sz="2400" spc="-1" strike="noStrike">
              <a:solidFill>
                <a:srgbClr val="000000"/>
              </a:solidFill>
              <a:latin typeface="Calibri"/>
            </a:endParaRPr>
          </a:p>
        </p:txBody>
      </p:sp>
      <p:sp>
        <p:nvSpPr>
          <p:cNvPr id="10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993A-2A34-494F-B6AB-164A5C276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05">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roduction</a:t>
            </a:r>
            <a:endParaRPr b="0" lang="en-US" sz="3400" spc="-1" strike="noStrike">
              <a:solidFill>
                <a:srgbClr val="000000"/>
              </a:solidFill>
              <a:latin typeface="Calibri"/>
            </a:endParaRPr>
          </a:p>
        </p:txBody>
      </p:sp>
      <p:sp>
        <p:nvSpPr>
          <p:cNvPr id="1008"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ing strategy should fulfill three basic requirement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rehensiv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tiv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stent</a:t>
            </a:r>
            <a:endParaRPr b="0" lang="en-US" sz="2400" spc="-1" strike="noStrike">
              <a:solidFill>
                <a:srgbClr val="000000"/>
              </a:solidFill>
              <a:latin typeface="Calibri"/>
            </a:endParaRPr>
          </a:p>
        </p:txBody>
      </p:sp>
      <p:sp>
        <p:nvSpPr>
          <p:cNvPr id="10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F67C-AD84-4D40-97F2-24262A37C5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0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08">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0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Note 16-1 - The 5 Ws and 1 H of the Marketing Strategy</a:t>
            </a:r>
            <a:endParaRPr b="0" lang="en-US" sz="3400" spc="-1" strike="noStrike">
              <a:solidFill>
                <a:srgbClr val="000000"/>
              </a:solidFill>
              <a:latin typeface="Calibri"/>
            </a:endParaRPr>
          </a:p>
        </p:txBody>
      </p:sp>
      <p:sp>
        <p:nvSpPr>
          <p:cNvPr id="10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22216-8770-4347-A870-773257039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2" name="Picture 4" descr="09.PNG"/>
          <p:cNvPicPr/>
          <p:nvPr/>
        </p:nvPicPr>
        <p:blipFill>
          <a:blip r:embed="rId1"/>
          <a:stretch/>
        </p:blipFill>
        <p:spPr>
          <a:xfrm>
            <a:off x="1820880" y="1523880"/>
            <a:ext cx="557064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16-1 - The “Hexagon” of Strategy (IKEA)</a:t>
            </a:r>
            <a:endParaRPr b="0" lang="en-US" sz="3400" spc="-1" strike="noStrike">
              <a:solidFill>
                <a:srgbClr val="000000"/>
              </a:solidFill>
              <a:latin typeface="Calibri"/>
            </a:endParaRPr>
          </a:p>
        </p:txBody>
      </p:sp>
      <p:sp>
        <p:nvSpPr>
          <p:cNvPr id="10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7353-A96E-49EC-B6C9-169C231E52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5" name="Picture 4" descr="569.PNG"/>
          <p:cNvPicPr/>
          <p:nvPr/>
        </p:nvPicPr>
        <p:blipFill>
          <a:blip r:embed="rId1"/>
          <a:stretch/>
        </p:blipFill>
        <p:spPr>
          <a:xfrm>
            <a:off x="685800" y="1523880"/>
            <a:ext cx="7848720" cy="4865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7" name="Picture 4" descr="cid:3287383400_2177562"/>
          <p:cNvPicPr/>
          <p:nvPr/>
        </p:nvPicPr>
        <p:blipFill>
          <a:blip r:embed="rId1"/>
          <a:stretch/>
        </p:blipFill>
        <p:spPr>
          <a:xfrm>
            <a:off x="533520" y="685800"/>
            <a:ext cx="8118360" cy="2647800"/>
          </a:xfrm>
          <a:prstGeom prst="rect">
            <a:avLst/>
          </a:prstGeom>
          <a:ln w="0">
            <a:noFill/>
          </a:ln>
        </p:spPr>
      </p:pic>
      <p:sp>
        <p:nvSpPr>
          <p:cNvPr id="1018"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19"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19T13:58:04Z</dcterms:modified>
  <cp:revision>1040</cp:revision>
  <dc:subject/>
  <dc:title>Slide 1</dc:title>
</cp:coreProperties>
</file>