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B407-38F7-4A01-9386-ED680F75A78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E493-1980-4550-B074-B63ADC8D4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25F6-593F-4275-B512-8EC444588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OT analysis - The systematic assessment of the firm’s Strengths, Weaknesses, Opportunities, and Threats and the recognition of their strategic implications—is  basic tool of strategic think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asic process of conducting a SWOT analysis begins with the identification of the firm’s strengths and weaknesses (internal analysis) and of opportunities and threats in the environment (external analys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OT analysis is only powerful when the analysis of strengths is rigorou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trength isn’t merely something the firm does well; it is something the firm does better than the relevant competition does it or, even better, better than the competition does it or could adapt to do i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utcome of a SWOT analysis must be prescriptive.</a:t>
            </a: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5197-1132-4392-9B31-B504BB9EE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75826-266D-43D4-9832-790C2DC9F0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7A31A-D362-4B63-83C0-F24A46FE640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9B0AD74-E5F2-4059-B3B3-2859C7BB01E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4A4F938-50CD-4DE3-A77F-6A0694EE387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4B70FF1-BCBC-4494-9B94-487B15EF482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09F8E7-344D-4310-B878-B462C5F535E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A1F8FDE-9B45-4319-99A6-7205115BDF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5E3D3B-78F4-401F-88FA-74CE8BDE967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D9EA45B-CE55-480C-A0B9-7DB7A5D402C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B9789DE-3320-49C0-97E5-A60718C0BD3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431D0F7-C955-4F6C-819C-CBE9FC17ECE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CCAB809-62D7-46E6-8A3D-B8BD0A504F0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9F8585-B5F6-47DD-A74C-317401278BB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C336447-86D1-47E1-88F7-A293EDCB18A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9D8EBDD-0AEC-401D-A202-2E7FF7D22BB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B878449-FADD-4902-AACD-C6D5A3F45C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1F3BA98-06DA-4A95-8720-14BE45E1300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24CAD82-4EA4-487C-B632-061D08D51EF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BF112B-5887-4076-83CA-9F1152B7BE1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D7F3AA2-4849-4694-BE99-6DADF3F4FB2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79198D3-A7C8-4670-9AA2-8413C8AD6E2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BA125B7-F779-4E65-94EF-6C3AD155DB7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C5FD5FE-5E24-4BB6-B8B3-3BAC3BBB030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B4C0C5-C2DB-40B2-B05B-402A4714F75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B525D17-6D6E-4AC4-9695-CC08DE9B73C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631261A-4F90-4A85-9FD3-EB327A3D827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1897D1F-A1F0-4512-A2D6-74AB3FD74A9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56130B2-8335-42F8-98A8-417316D1619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800CE5A-2B61-4784-B5E6-D84379AABA1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84D588E-6754-48B2-89B5-BE73CE4923A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79D7F40-F6B9-4B1D-A916-99CF6B39DE6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9B51569-5474-446E-AC56-A5155DC4F2A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B8414E-3950-4389-8FDA-D8C6D566F82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FDADF64-A1E6-41C3-94BB-AE71ABE761E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C64E6D4-557A-4FBE-B443-B1F3ED930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1D9D267-BF89-44F8-AB6C-5F5A8DB714F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BF8682D-A54F-4F77-969B-8E358AE4A44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F1025CA-EE84-4B52-AF51-52A70B3218F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A37EE66-C541-41AC-AD48-85EB539C5A2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C486DF6-5079-4466-8704-2989E427043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52FDCAB-7D00-4E86-BD9F-81A28D28F6F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A812F6E-21D7-4C14-AAAE-0ECBEAA4A31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055C13F-52B5-4747-8738-2253D23F9D9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FAB6EEC-D7DF-4826-A1E7-CA6740D3851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BBCEC15-72B0-4554-9FEF-E4C8AE2409C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0B951F-53B1-4668-9A50-B543E6FFC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640A46C-6BF1-4D32-8741-97DFDC96883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A8D0CDF-04D9-4F18-816F-9FF7B04955D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E485D21-EE4E-4AC9-8461-607AAE9901A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F437A6D-FABC-4500-8210-EE7A85651C9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E67FD13-FB4C-4D27-9F97-72C47991F1A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E81C1F1-0354-4169-A922-0FCAB47BE86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C5A52CF-1F84-4C64-9CB3-E9AECA35D80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8480EBA-8C09-4A32-8062-169E7B38AA4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125C915-7D3F-43EC-9467-2ED9907636F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E06E783-BF7B-47ED-AE80-6E2DE68CC4B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6D57D9-53B0-4D59-B833-7C677E162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879332A-6866-4866-8745-82ED0EBAC6B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0DBDBD8-4AED-4B85-A178-A33B4F439FA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57F314E-E018-404F-9EDD-788DBD312D9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C8B035D-C39E-4205-886F-C0A0AD4787B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07B7918-C762-4F7D-9E01-F332D0E47BC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5136699-C42D-4A4E-AAA0-57DD655C6EA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C0F30CC-1157-4446-959B-44E1F7AE666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2CCFB28-4322-41C7-B425-E67DCEBE952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0F4706F-DAF6-4019-8C02-CC5E6434FE4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8E7E3E1-7F10-4461-A3CD-E94CFAD3D8B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A66F44-FD9F-4F1B-8010-BC556BFB6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CB0A4A2-965D-4DCD-804E-5658468E524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64F05B5-7E82-4978-BB3E-F38D3DF4E58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ED7C70E-CCB3-4B9D-9ECC-BD5D6977C08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F23F62F-9DC8-4E30-BCD7-FE12580D689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D53CD9B-8D58-41BE-950B-8E464EF45E5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658F00C-E7E6-4A98-A44B-5DB21FD4783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21860BE-C228-479B-B994-52EA324E8BD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938B937-8C07-4DDD-9A85-02537E525B5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909C005-B12A-4B9F-A36C-E2219B66000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C7BC733B-668B-4017-808E-98FAF00812C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91718A-E702-4673-A62A-859A67063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C7F3B5A-72B9-4C9F-A185-69FE360614B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181F04D5-F997-4064-8FEB-7579DCB68BF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4BDD6A8-E64F-4C57-890B-961F9DF8DAA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BADA16D-BF91-4A2E-A686-379ADBE4CA0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400D0E2-09C1-4B35-90FA-CEA0B319F3C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9F7655F-35BA-45E6-9596-C34BABC05B3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9F0B6BE-9079-4EA9-B774-09EC31C0D27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9CD3636-FC34-4C50-A93C-F069EA0D2EE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42EA4FF-4E37-40B8-BDE8-95D807106EC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C9F0CE0A-7AD3-42BF-8C6A-F45E73D80F23}"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86CAEF-2C4C-46B1-9CA2-88B0D2C6A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B276A860-89BB-4517-9AD6-A96050C334D0}"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4F299ECA-62AA-48F7-8E27-E3CF53C4EDEA}"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B6E012C-969D-4CE5-B4DA-331720F006B7}"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7E8ACB6-5324-4A43-AF54-0799B92DC43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8915120-2A1D-480E-9F77-CEE321AC4A2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72C7F03-8541-4D38-98DD-272B4EC3140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932217F-9330-4208-B08D-ADFBF264E02A}"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DC0172C-1665-4044-8AB5-A53825A73C1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E23C136-C3D6-44DC-B35A-F3CAFEB04D8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DF78B2D-499D-417D-894E-0B17FA73C87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D56D22-2F29-49A4-A58C-EF57E08E05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5576611-0ACD-426F-A20F-3E2498EF9D5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64035E52-7A99-4839-B9D6-BD2743F410B6}"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19327894-C351-4502-8AF5-C7A1FE202FF5}"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C6E57082-893D-4632-9C1C-4D6C8C8A2D70}"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7FD6756-874D-4CCE-8903-EBF2CC86ABA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5FF32DB-DD8F-44A5-ABEE-3FA6F0016129}"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E8C21608-DD68-4DC4-9A4E-EF1995189C9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75514C79-F30F-4E16-BC1E-9F3D064D1386}"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DBCEA044-8EFD-4A0A-A840-90C9440A5ED0}"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2AE7567-5C3A-41CE-8039-BBCC7EF7AB1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6A08A-B40F-45BC-9247-D674B10A58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10C7DF-E5AC-436B-93D3-8DF5AB090B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3072704-B3F4-4311-AA4A-ECF5B2AFBCC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8A9C0AC-9B4D-45F6-AB16-7A54447210C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A826826-764D-4B02-8F6A-4B60E7E57720}"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436C7C23-D303-4FB0-9FD9-7ABC01EF0F0C}"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84BE4DD1-43DF-4AAF-AC64-38DE29B8BC66}"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BF9A5522-4153-43E2-A48A-0939A732D787}"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A69B6ED1-DE3B-406D-9FAD-37C9CDD1D396}"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379945A8-5171-4E70-A944-46B1EE461C4A}"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5699C8C-34EF-4616-9F46-105562C33D4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D8250573-0BE7-4E18-A635-C9BE984AFA3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223AC4-1D5E-459A-80F8-E08A857B2B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ECB5FB1E-22F6-40B4-8845-49116913EAF0}"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D85024A4-B862-43E7-B4EC-56098F7B2D4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1311DD1-531E-448B-91A5-A29D63B022A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42EE122-03C5-4A04-9712-C3BF2505B0F4}"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C9DEE3B3-9B74-4CFB-BE56-AABF3FD6A69B}"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4708E0BC-38E7-4977-9DEC-38CDADDBB2EF}"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84565CC3-891F-4542-96EE-5350A9CBEA88}"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A38D7A58-924D-41BF-B75A-8CA960CE7D3D}"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A47A1EA2-BA7C-4F8B-8645-C8F81E54C994}"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299FFF1C-DF44-47F2-8ECD-211C23C25B61}"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D8A5C2-D48D-403B-934D-B293B6557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2BCA0AEA-C29D-4A00-95F1-AB2C1F655877}"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7D4D01A9-8694-4A35-8D77-59364881FBE7}"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CDB685F4-00AD-4C35-9785-D532B28072C9}"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BE7F7C9-0272-4EE0-9B61-39D32C1A8F5F}"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7F34E954-54A8-4C58-BC17-91F6886C8338}"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D040D12-F394-43C8-B1FF-CBB67E5AA38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76CB35E7-4BA9-4D3C-995E-44BEEFD359C7}"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A4CB257E-EE32-491B-BD43-6B96B9BF9D0A}"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1BA1A29F-4C63-438C-B361-E6D6FBD8EAF4}"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CCF6F1FC-D546-4363-B032-56F6734C72D2}"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9527F03-5BB0-47E4-A481-016455A9E87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056EFE58-F9F8-4AA2-B936-99BAD258E650}"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2FEE3231-25BB-42C5-B10D-9223F898C986}"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C4CE4A5F-09D6-4244-9403-E4BA8FAC849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D0B3925-6E69-4C32-9A47-D3174C584CD1}"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50B8768F-071F-47DC-AC6E-71E29EA2828E}"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9B6E846-7E98-4C6B-805B-2EF67256A68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8FD9D902-1ADB-48C3-9031-BE4EDDEAC58D}"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B6D71EE-BF21-4208-8D1A-E689D3DA54D2}"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8C9C36EF-3633-4026-ABDD-C120633208A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90A79F1F-2952-4475-BC89-91C18F20CE6F}"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94D8D67-560F-47D2-9F2F-FCD9A35183F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8614CF58-D549-490B-A852-C91B945F066E}"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AC8152C1-6058-43B1-BCC8-65C37EEF2706}"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0160565E-86E0-4E6F-8358-419DBF9F6A9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3E58D3A6-920A-4BE7-8D2C-DE30B23FF8D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D0F388F-A44D-4E2A-9195-30019CA8B2C6}"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21939A9-FDAE-4888-9FC1-A8664EE333F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41CAE576-CF88-4D0E-B8C9-31611D597AA7}"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220B9E7-4350-4DD0-ADE5-988906B6ABC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4D47FD8-A3D7-441A-8142-C425D515B63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CD7C5EE-CCB9-4188-B8FB-F509F86CF1D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6D73281-5EB0-43D8-832E-31A47A351B2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CABBCBF6-429C-4061-B7F9-B600C8512FE9}"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6F1C6183-43F5-4A0B-A7BA-E6331CF26F70}"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174D9938-B18C-4B37-8D7A-23BEABC05DC9}"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E4E3F303-A402-44BC-AB58-93EA7A6AEB9F}"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AAEE7E5F-157E-43C2-BDCD-55779EEC4376}"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80719577-D742-42C4-947B-39BA62D77A7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B9A55BDD-C593-4544-BC7A-200413A80AC8}"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D333868-BF06-4519-B7C8-C9C3965B013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6BBAD981-73DE-42B9-8958-42F19A571D6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7CC3343-61C6-4AFF-84D9-F7007E118D4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820AA78-AD63-4168-A010-52A7AEFB389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C2BB1A8-13F4-416F-8B95-2D9CFD3EF44C}"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8E2A2BA5-9F38-4E0B-ACD7-D4D379C9B576}"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0DA16702-24A7-4995-88F6-76D59B484A51}"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E695D981-D233-40CF-8F73-2189CE08E571}"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C192487C-943E-478D-9D69-D7F77798D90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A5AF4670-7EA8-4904-AD88-6546C0C184C6}"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4222DFA-ACDF-4A37-B113-EFF906E76DF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CB10ED8-90F0-4E9A-9F9E-FA0A1B64DE73}"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D50AC56-E0D3-406B-B9CF-9E2E0ABE7DC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72EFD5D-93E5-493C-979D-F753B0230BD1}"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BA6473B-EE20-4AA2-943B-837B070D6C0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F59090F-86C4-4121-AF58-7EFBB4BC4C0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13EE468-FC42-4D5C-9007-890A7F72D296}"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35478928-4AC8-450A-A7FC-69BEF4C8C6EA}"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DA74C605-C684-4386-8535-EA09FA50645B}"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7184782A-3266-4B10-BD74-B917EC3C9365}"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7E5D1E70-6F10-4911-9647-39D7A6C1185C}"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367FA6FF-53D4-47CC-87AE-2C409143495B}"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AC531E3C-C764-4BA5-A577-328DDF9B945A}"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D6DE5F92-3301-4E18-8EF2-3A3F1CF13F95}"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3B30C81B-C7FF-4FB4-A36B-F347C1477336}"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D83D9C9E-591F-420E-96D7-7CF366701E4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E228EC57-EE24-48EF-9FE7-938C62698F3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3563AD4C-34A4-42A0-8BC9-5CC028441EB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87846DDC-3D2C-4EDD-94F0-8249D3A510E0}"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77C148D4-045F-4031-9178-3CBB1EA4803A}"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63CA45D6-76B7-4685-BDA4-8353F7A7F1FF}"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EE2E1-51DA-49F7-B811-8CC048F329D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820E727-8906-4CFC-86B7-0B2996C38E3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C0C93009-B54E-4436-BB3E-24726AEF27A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E64C4F82-A93F-4478-950E-E1504EE1E9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209317-2976-4B01-997D-097D634274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99C83A6F-05FE-4F01-A07F-905E32A53A7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4A0AC5F0-06F3-4FDB-A2FA-0730B98AF36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B33EFDA3-BF95-4EB5-A8E2-D3B66D9F1E3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C6D9BCF-260A-46DF-A7CC-615C8C7A9D1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3B4DF16-1700-46D2-86E8-8E0490F66EE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79C80CB-86E4-4105-AFF3-DC38E2D4C60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E61D7B59-943C-4508-AEAA-11A515E77E5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BDFC1A6-1464-4E5B-9A65-F61F56D49A6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942E018A-DFDC-4C84-9C31-41CA3D60431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6412DEC-A1F4-4699-B7C9-E8FA0C95B17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F38297-1337-4BD8-BA5E-59951BDB68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9E9E824-FCB8-4C5B-A811-60A87F6F3A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40925F-E89B-4AB0-92DE-78E930021C0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05CC3B-B61A-47D4-856B-61F107026DD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CDE638-DF9C-4C41-93C7-09B1446ACC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6DF5546-7159-4C6D-9661-2C02A15C1B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DA0256-8095-4F0D-A2D0-900E1D9526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CFE089-D818-4434-B0E2-D486E67748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C4ABFE-AEDD-4681-B9A7-76400F4B69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ECE5FB-40CE-4226-B216-B56C702710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6A289FA-D0BB-44C0-8C6A-B61FAF3193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9FA27CB-2F56-4AFC-8806-D909D41B3AA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568DF46-7BDE-4C4F-8C0A-C68D547FBFA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043D4F0-5F73-4FEC-8A04-424F132F51A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9D74620-2B23-47CD-8256-8A1C70C65C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6FDB31-03FA-40BE-94B0-7A8075219E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589C9E-42F1-4AB6-994E-F224452025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82B49B-F0B6-45E7-84D7-DC7DC57BA4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9B5513-DA7A-4A1C-B427-4B18F58DBF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FB8654-9CE6-46FB-A34D-123D5C630D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5E08A58-A4F1-46FC-B37C-5B8118D49A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71AEB4-530C-4E55-A2F8-B04E66BEEC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AE2E2-28D0-4FCD-83CD-458E57FE134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6B78E07-77D1-4001-B639-38AA7A4501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F2DC99F-3D07-4209-AB00-52DAF45586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8B6E2D0-F76B-43B9-A563-CC218D6A1B4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B0EA1F1-0572-4F1A-AC99-FDA4E5AF99D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A646A4A-9AA4-4ACF-91AF-B4B6AFDD7A6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183E87D-C3D4-4A14-96A3-4C7BF00AAB0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1C12D57-7AC1-497B-ACFC-8C47F21F941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D360699-38FD-4A0B-BC96-2DA7EA1FA9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4BA3C19-9876-46F9-A873-E8104CDDBEB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A4F3CE-809B-4508-BE23-CFC277C1C0E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CEDE3-92F0-4540-9B46-3C60D99495D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F6A7CD-7FC4-4D61-824F-45433D8933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59383D9-3D08-410E-900A-56F9F2D17A8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6E4AA18-B99B-4307-AD71-117777C0FB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CC39DA0-80B6-4648-8303-725DC0FA96B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E87DF08-56FB-4774-82CD-2A296E7C0DD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51281C7-8CB3-4A74-A449-A97789F1DEA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965641D-8942-40DD-BABB-428A4BEDD39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74EF7D7-246E-4FF1-8208-11BF902619A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5C34246-6398-4DD9-8F51-CAF38EC74A5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1F0323B-5A01-46CF-8625-78584633D41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09E1A-350D-4B94-8671-F093C12854D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C4D7C88-20A4-4200-A362-648AD907E94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7C0DB5-5073-4FFF-B750-05393E71FA4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BED92B-9737-439D-947A-A1BCC808259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FF918EC-6FBC-463A-BEE0-65CC8D96B32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4F705EB-4921-473E-89CD-3C5A6DF1560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7943694-3165-4AB4-95A4-371051916DC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ECDB47B-423F-456E-B295-0863EE47091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96E0A81-8BF4-47EF-9CE8-E6AE6E51399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F24854D-E149-4C1E-A501-351135EF9AE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880594D-DEE1-4681-AFA1-87ADD7BF0168}"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C747-F3B9-4EDC-843C-4571086B575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17F1-228B-4260-A8B0-0F07B96DC19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0831-4E8C-4B75-9E5F-1FE4A966979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0EBB-B293-4132-BB3A-75B8AB6A295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609A-E59E-4B34-B846-97FB742D327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FF40-9D5C-439E-8783-0072D86BB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CD95-142A-4F8E-899D-78AD61C2E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7D78-E18A-4D7F-853E-09B06EF88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4F5F-543D-4D54-995A-467FB0220A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2A2B-9A3B-48C7-9DB5-AC6E2C52F4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866A-5FBC-4C1C-819B-E28D84DC85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FF45-62D2-44C5-B41C-0083A1388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995D-DA5B-4C35-AE9D-B7BB3DD3F1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5E99-2C95-41EC-B416-8B82C64EE3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FC45-3F2F-488B-A33E-391883F301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B38B-06C7-4623-A69C-79CB9DFF3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5333-5D01-46AD-A654-3C1763A217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777D-EE4E-44D6-8536-BDEEE1A8EA3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51E1-D26E-4A45-A600-34CBDE1776A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B4FB-BB16-4022-9F0A-A9916F41A70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D69E-96A2-42CB-8412-1C826486736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3D8E-7F1B-4D68-AB53-196D984DFDD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D88F-5AC5-4F28-ABD8-C44354EEE3B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2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te 25</a:t>
            </a:r>
            <a:br>
              <a:rPr sz="3400"/>
            </a:br>
            <a:r>
              <a:rPr b="0" lang="en-US" sz="3400" spc="-1" strike="noStrike">
                <a:solidFill>
                  <a:srgbClr val="000000"/>
                </a:solidFill>
                <a:latin typeface="Calibri"/>
              </a:rPr>
              <a:t>SWOT Analysi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3" name="Picture 4" descr="cid:3287383400_2177562"/>
          <p:cNvPicPr/>
          <p:nvPr/>
        </p:nvPicPr>
        <p:blipFill>
          <a:blip r:embed="rId1"/>
          <a:stretch/>
        </p:blipFill>
        <p:spPr>
          <a:xfrm>
            <a:off x="533520" y="685800"/>
            <a:ext cx="8118360" cy="2647800"/>
          </a:xfrm>
          <a:prstGeom prst="rect">
            <a:avLst/>
          </a:prstGeom>
          <a:ln w="0">
            <a:noFill/>
          </a:ln>
        </p:spPr>
      </p:pic>
      <p:sp>
        <p:nvSpPr>
          <p:cNvPr id="1024"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25"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25-1 - SWOT Analysis Identifying Strengths and Weaknesses</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8F65-A0C7-4E17-BD04-A9A90E5B7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dc.PNG"/>
          <p:cNvPicPr/>
          <p:nvPr/>
        </p:nvPicPr>
        <p:blipFill>
          <a:blip r:embed="rId1"/>
          <a:stretch/>
        </p:blipFill>
        <p:spPr>
          <a:xfrm>
            <a:off x="2133720" y="1525680"/>
            <a:ext cx="5029200" cy="499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ustomer Assessment</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ternal forces represent opportunities or threats because of the changes they produce in the way customers meet or can possibly meet a need</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ing and continuously reconsidering customer assessment and segmentation is essential to identifying opportunities and threats</a:t>
            </a:r>
            <a:endParaRPr b="0" lang="en-US" sz="26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3D66-53F6-4C81-B440-D1FF37BCB3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gment Changes</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 segments are never static</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gments grow, shrink, and change their buying habits, preferences, and buying criterion</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gments can split into subsegments or can merge or combine into a single, larger segmen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7F02-4D8F-4E93-862B-A62E45766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nvironmental Scanning</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rever an opportunity or threat arises, monitoring the environment is essential to feed understandings of changes, trends, and events to SWOT analys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C4E3-41DE-4F11-9009-17D8AA5B5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25-2 - Strategic Implications of SWOT Analysis</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D661-3C39-443C-8606-52AB9EF9E3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67yuui.PNG"/>
          <p:cNvPicPr/>
          <p:nvPr/>
        </p:nvPicPr>
        <p:blipFill>
          <a:blip r:embed="rId1"/>
          <a:stretch/>
        </p:blipFill>
        <p:spPr>
          <a:xfrm>
            <a:off x="749160" y="1828800"/>
            <a:ext cx="7632720" cy="44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nducting a SWOT Analysis</a:t>
            </a:r>
            <a:endParaRPr b="0" lang="en-US" sz="34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ss the firm’s competitive advantag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udy the environment for opportunities and threa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strategic alternatives and imperatives from the “fit” or match between the strengths and weaknesses and the opportunities and threa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ioritize, plan, and act</a:t>
            </a:r>
            <a:endParaRPr b="0" lang="en-US" sz="2600" spc="-1" strike="noStrike">
              <a:solidFill>
                <a:srgbClr val="000000"/>
              </a:solidFill>
              <a:latin typeface="Calibri"/>
            </a:endParaRPr>
          </a:p>
        </p:txBody>
      </p:sp>
      <p:sp>
        <p:nvSpPr>
          <p:cNvPr id="10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7FB8-42E4-4A63-A177-7AFEC4930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14">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4">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14">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gure Note 25-3 - Strengths, Weaknesses, Opportunities and Threats Feed into the Matrix</a:t>
            </a:r>
            <a:endParaRPr b="0" lang="en-US" sz="32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EB80-E51B-47FA-9236-378A40002D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852.PNG"/>
          <p:cNvPicPr/>
          <p:nvPr/>
        </p:nvPicPr>
        <p:blipFill>
          <a:blip r:embed="rId1"/>
          <a:stretch/>
        </p:blipFill>
        <p:spPr>
          <a:xfrm>
            <a:off x="1676520" y="1521000"/>
            <a:ext cx="6005520" cy="510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25-4 - Strengths and Weaknesses, Opportunities and Threats Drive Strategies</a:t>
            </a:r>
            <a:endParaRPr b="0" lang="en-US" sz="3400" spc="-1" strike="noStrike">
              <a:solidFill>
                <a:srgbClr val="000000"/>
              </a:solidFill>
              <a:latin typeface="Calibri"/>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2476-BAD2-43D0-8840-0273843A0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1" name="Picture 4" descr="rft.PNG"/>
          <p:cNvPicPr/>
          <p:nvPr/>
        </p:nvPicPr>
        <p:blipFill>
          <a:blip r:embed="rId1"/>
          <a:stretch/>
        </p:blipFill>
        <p:spPr>
          <a:xfrm>
            <a:off x="1676520" y="1600200"/>
            <a:ext cx="579420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20T09:46:56Z</dcterms:modified>
  <cp:revision>1684</cp:revision>
  <dc:subject/>
  <dc:title>Slide 1</dc:title>
</cp:coreProperties>
</file>