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7B22-E35D-4E64-98E7-C361002FF4F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AFDC-6561-4FAD-B14E-868CDA9DF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EEF6-DE3B-4A7A-968F-9DEBF97A9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OT analysis - The systematic assessment of the firm’s Strengths, Weaknesses, Opportunities, and Threats and the recognition of their strategic implications—is  basic tool of strategic think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asic process of conducting a SWOT analysis begins with the identification of the firm’s strengths and weaknesses (internal analysis) and of opportunities and threats in the environment (external analys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OT analysis is only powerful when the analysis of strengths is rigorou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trength isn’t merely something the firm does well; it is something the firm does better than the relevant competition does it or, even better, better than the competition does it or could adapt to do i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utcome of a SWOT analysis must be prescriptive.</a:t>
            </a: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AB48-6676-4EBD-9652-DD614A7A5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A0015D-ACFC-4411-85B0-0C6DFF5FE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E3523-25EC-4F79-971D-6F05984A18E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525765B-F805-49F9-A133-680B654D81A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DFCD3C7-76D1-4B7B-A902-3C68C7A26D5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BE5C9A1-ABF7-4F9E-871C-E64CBAA1016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E615037-AED6-499D-B2E1-58C58469AC9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785AED-C756-4F27-9B95-B258FAC704E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1B5D412-3FEA-4A12-8B42-08FDDD7E89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794583C-715D-4B04-9814-F8270D91AE5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C5F5474-E114-4E74-89DE-FBF9F5A2862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F562442-5AE7-4C54-8157-00C8DE212E9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C0382CE-BED2-4422-B67C-A8ACA636D49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076E25-B6EC-40C9-B9A0-74834BC3E3F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8A3DB3E-52C1-4679-A45C-353337BD3E5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446A13C-46F6-454A-9152-3154CABD1DD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E8EEC82-6891-433A-9E3E-B5EF5A6AF66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000553-C271-49C1-AFE3-2B2D33BAD11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00B220B-891F-4B65-9BA2-67FECABF541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6B5B18-4743-4CB4-AB97-5E84FDC662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F7E4A1B-5983-4328-B115-CA6C48F0918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A16346-5CBE-4E84-898F-E260E0F6BFD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656CEC6-989D-47D0-9F29-59BB8BBB7C6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832CE34-6D09-408C-81D9-B0C982A9D59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8BE3F8-353F-438A-9A9D-B4E29088B56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D4349AA-7535-4760-9544-09C61780EE9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2E72DBF-AF69-488D-95A5-9FD04D33E5B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92D0389-4966-4648-B8CF-B2D23AC7C50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876D252-62CC-452E-A97A-E74234FB1D9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618F670-292E-4BEA-A5DE-99033624CD9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3AE8472-245C-44E5-B91D-A4B1AF5C731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788775B-A662-4FB2-AEFC-2AD18D2B67E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C6C599-509D-4809-9477-7C9DD34A12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2CDA40-8306-436B-810D-4A039F84D14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240C3DF-81BA-4A40-BE1E-16E49705B40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7F08360-6E83-4C09-B6F7-7E412AD1D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88D9A4-22B4-4E90-822C-2FE383F81D7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AE90C77-F80F-4171-90F0-EDD8B466900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7337D61-CA63-4E0C-9DD1-84A3995150D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650CEE2-A4B6-480C-BDD1-90AAB24057C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B3BFBEA-8801-47E1-9391-D38ED9948A6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067FDB5-4F1C-4ACF-8287-147A13A997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09C1811-D248-4C2D-9EBC-EE4D7C50394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AC3770B-BD12-4049-A058-B0DF2D1A264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DD0E796-50AF-42A1-A848-516ECF7FE8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31AD94E-FF09-48F2-978A-436E2BC0726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3647C3-C35B-43B7-AEE7-C184DA86F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94EA9CA-1F13-4ADE-A25B-E8EB0712B2A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08AC99-919E-46E0-BA16-A4CEE619557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96AA52E-92C2-4A77-84C4-36C1A438D4C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DE77E3E-751E-4446-A71D-0C729C9CF06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70A983C-2F6F-41F3-8D71-DE75EE0D953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3732075-51B8-4C84-AEEC-E0F9F382269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79306FD-150D-4897-8DAA-718DB3896E3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3BF01AA-7BEA-4392-8F2A-2B3052B7794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F6727AC-08EA-42BD-BECB-7A16E22D94D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CA129C-6B9E-4059-B902-E347EA601AA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9CA738-3CB2-4808-9BDB-F89E5ED99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6BD592F-31BF-4D7D-BE33-3E03722A19E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0883C95-7DB6-450A-885B-C04EA99CD12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60F249E-2FAB-40A6-A2C1-4B4B78E312A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42CCDC1-CEE1-4D3A-ADAD-53FC509956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3FF9F71-C57B-4C9F-B969-29B21DC19DF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706EBF9-4FF2-4B2E-A003-222039D3B22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7F53737-82C4-4D06-99D4-F38A5C80403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3258C6A-9D22-44A8-B4AD-8428E024843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BF2E1F0-3B33-4783-B8FC-0A7C521AB7D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E582F4F-AA39-4458-ACF4-9291830608B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CAAEF5-27D2-4222-ADAD-42926BE52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4031F54-707A-480C-AF54-718F4541A7F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42678DC-827C-4596-AD63-D788FA4B34F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87E86C0-2962-4A3F-9248-438F78790DE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DC3DC20-4566-44EA-85D3-14749460FC5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F84CB32-7825-407D-BA9F-149C332F9B7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6964962-162B-464B-A653-09676164AE7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66CD4A5-D3C1-4A80-87BF-5514E4A9076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379477A-886D-4170-AE28-7BDBFFEC87B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A7059DB-A814-4E3E-8032-240CF5A9C09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4AB8FB3-BC19-42AA-A3D7-EE375F272BD3}"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845373-F2D1-49BB-9E32-D801301F1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BDFB847-3D63-49B5-87FE-AD7AC769955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1E76C6A-3796-42E3-95EF-12CAE30355E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F5884AE-FEBA-40EF-8D07-0E58F087827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555F208-2A3A-4D69-BCE3-ABE6210329A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D8C746A-9D93-41D4-A40E-40CD032D767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C6EC640-15EF-4670-8428-1605FBFF845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FD49A12-37C8-4E5F-97AA-96B23A59CEE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AE92075-97CA-4B52-AC11-6C276234A40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1F27A17-2C2E-4BC9-AB41-1ED47758C0C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C204F9C-F06C-4175-A1FA-B34441FF74B7}"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1B1604-6CEF-4C59-A430-E5335629F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6E4A95E-E89E-4732-A5DC-632A12F6F193}"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8734E872-F674-4AE7-822E-64E85421B48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90643D4-D8BC-4F00-BA26-1AF5C17D082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7A87E94-9BC6-4C66-8E65-47E81E06A36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5DD7143-034D-4CA0-9481-E65297ACACD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974CF5D-6D36-470D-823D-3805C6661FE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E37C43E-3667-4754-9F3B-CF5B0D3A700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95E3E05-DD2B-414A-9EA6-74F9BFC22FE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57DD312-D760-4896-98AF-1989321CF22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C5EA71E-6325-4A23-A219-3EE58B873EA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8B5378-E192-43D5-836F-1D220E278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18ED9C2-F9EE-4F49-81BB-C60614B573D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4C081134-A97D-4347-A997-D72B43B83708}"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A6CD30A-48A9-4102-850F-A55604EA73DC}"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BADDD8D4-3BBC-4FF6-A8E4-348C8E7B7342}"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50FE37B-115D-44B4-ACD7-89704BB6166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4A9523E-4541-45E4-A8D8-6AC32E0E3A6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DA64E52-79F4-41F4-BA66-D77E7A2F50B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6162BFE-C3E2-417D-A355-BE0EEB8C72F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5B98B35-CA32-451E-82D4-761172BB401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AEBB80D-26B7-464A-8963-A80CA642079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FE4E-FADC-4E26-A40F-6D371DA133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4C6B85-9C69-4C2C-B57A-E4E6236A4C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080D7A8-8FD3-4CFA-A92B-97398098922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5577CB2-422B-4ED7-8B09-4FD488441E8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7688DEA-2F28-4880-A84E-BD088753C84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1FD445D5-ED74-407A-AA35-414FF0207361}"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4259439B-B263-4495-A1DF-43449464F2C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41CBA925-B483-4E37-822A-7B100A95AEA8}"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B9BC2BA1-A55F-41BD-8821-968D13CE6BE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2166E4D-4668-496D-9FCA-2E6ADBFE4C4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D81676B-FAFC-4D14-82A4-C89596282BD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6C3B663-DCF6-4A3F-9DF6-7CA433A05FA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646648-9C86-4433-9F5F-157C36778E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7712ED0-DE8D-459A-B01F-D2F61099A477}"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8A271CAF-319E-4103-B8D7-82CBBB971C8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EC87319-5063-44DC-A8A8-29507FBFDE7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62A6A45-72CA-4C72-87E2-A054F9AE067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08151B15-33C6-4BD3-AA92-AAA010CAA21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FC916309-F102-4C44-90A1-CAC5A4D9B983}"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307E12AD-75B1-4FF6-9FD6-D538EFD77B4A}"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091DE7FD-C352-47FE-A57E-A487DBB7D476}"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6726A50-AAF9-4B1C-BCC5-05E77E341D4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0E677082-3895-4FBA-9D5E-9CA3D13F620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5E54A2-1DF4-4040-B353-7B20760E2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4FEFBDF-78AA-4BEE-B04C-10549A564637}"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C2C63AD0-096C-4BED-AECE-638B9AAEE95C}"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3559148D-5FD4-4000-92AB-296C8269B51C}"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195DFF3-2561-4980-ADA7-0C511042D43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3064E29-858C-448F-9E5B-B280E604B27F}"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C29D808-1E6F-4646-A3EA-DD98F3ED9C4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60E5424-4D44-450B-84D6-AA9A79337A46}"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3D63628A-1140-4D17-9394-E565E2844F3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EEAD3AEB-96FA-4FB4-ABE9-18FDD477802F}"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E2CDB6F7-89CC-4D43-9C40-7EC011E6A87E}"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86ADD0-F769-494E-86F4-0BDD0626D0E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9A8DACD-111D-4207-93DF-4D0682BE759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5C3C9E8-F7B3-4A97-A450-2F15A329E6C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CAF7122-F7E3-48EC-90C4-E30CDD83FAC6}"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DE15B010-9837-4EBE-AE3C-F399225D21C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4918AFF5-13DB-450D-BEF7-C2FF4B2DD1B8}"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E8FC890-BE42-4AA3-871B-5A12F451B27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C693506-DE84-445C-A296-E18D592AB33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5BCF5A4-650B-4E0E-B463-DCE8A0930E0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63AA3BF-5BDD-468C-964C-3F64A5FF2E4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CC3FA250-298E-4333-A830-8E4D4038FA10}"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A0F063F-A407-479A-A4E0-7807969058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F0B77918-C523-40FE-B98F-101EB65EE415}"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08D255E7-3384-4267-9672-D1902D0A2A23}"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73A1C35-6146-4C5C-96C0-EDC946062F5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C6A8B7DD-B51D-4AC8-BC7C-097677B28D4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8708793-CEC2-41CE-B1BA-8AC0AEF04CD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D44108E4-B34C-432A-B987-CE40EFCA83F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5C256374-F177-43BA-A1CF-0A9660C3C60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BF7BB21-1606-4E35-90A9-1A1FC523257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3C6A32F-64B0-44FB-B482-C99CD94A583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9BF63C5-80A0-4C79-BC98-152C7C4862D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57986849-E9D5-43FA-90F2-F4EF7A0D9BA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0D850B9A-34A5-4CE8-BA34-0E166771787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4669FBF-8A5F-42B9-B5D1-4E05CDB02B15}"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EA9F5C50-5709-49D9-A74A-9D30C1811BFD}"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CAC64BE-2D5B-4989-8EF4-3B25E8FF347C}"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F9F40D8-EF83-4686-A6E9-8CFBCA3E6349}"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49ABDD2A-0BF5-4B0B-AA78-47D3ABBA992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73CCB9B9-663A-45FD-B49E-0CC68AE6E254}"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634CAC3-959F-48CC-977C-C91A631B7B0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FAA5588-1D21-45F8-8B37-757E4574F241}"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D497691-8903-4949-9E60-0CBAD7580CC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F6C55D0-161E-4034-A4DC-7A24038CD71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A61043C-A501-47CE-9FE7-5B2DF318EEE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C9E059A2-409E-4A94-B762-3858D066F82C}"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D86E173A-72CE-4D62-BCA4-A8EA1A86E05D}"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8888BED0-1308-426C-9F6D-328F67AC0D9D}"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D3553D7-D2CA-429E-A0AB-D0B0BC84147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66CF02F-BEF7-4C2E-B889-404267B87B8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7C32A1D-551E-4074-8A80-F6FBDF76783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ADB95C0-CF82-43BA-A2E8-CDBB405F83C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628F11D-702F-430C-961C-A7B1913E429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68D3B1A-5A9B-4AC2-B845-BA20CAFD46A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C64BB6F-D1FF-4B42-87B8-F2BC6FDB484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F0744AB-3473-4702-9F6E-C53F1CAA897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4DB9E75-01D9-49D5-A09F-D1349337973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BC3360BD-6BA1-4700-9CA2-AD1DCF3421E5}"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8037CB31-1061-490F-97A8-90B51065939F}"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710773D8-029A-444F-A3C2-6054A67B3C41}"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EAF3B08E-8C2E-4AF9-A119-C408920525C9}"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A09EE347-E1C4-46C4-971F-ECB0D61EBF7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969BF893-74E3-45F6-9E0C-040BC4CF2C1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F2C8C0F1-91D6-4675-B8AD-D19C06A6CBB0}"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B00A6F5-5085-44FE-BD99-98B6E38DB9A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70DBFEA-8723-44AA-96A4-18FA2192CDE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0304FCF-018E-4677-8C00-51F3818ABD3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AC18A76-E901-4AE4-98CD-FF2CD35C0FD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BD714E29-A608-4F67-A10A-76A89ED7127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446E4245-BEBE-4C13-AAF0-E918A0A8AB57}"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E5232BFB-5B43-490B-A06D-B700EE795415}"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A50AF-7FD0-4EAA-AFB1-439227CA283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0C1CCA4-5B03-4078-9E3D-E9DF41372D5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149EB45-0D29-47AB-8B39-D83CF34AE0C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987E54C-DBC3-4635-B1D3-E0E1837BF4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7E8C0-BC5F-4104-ADE5-273FD7E865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B94A6978-345E-4CD1-98D7-DA43B19122B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2B86EE09-4F7B-41A2-8B0D-81D8B973385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8F97625D-BD5E-4EDE-964B-25E3BF65FE1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F7E757F-8F23-4BE8-B79C-C7A04771675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DFFC1B3-3A83-45F7-9E0D-2E18FF3EAA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605EB9E-DB70-48C1-B98D-3C733D8B3D3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8B9A254-E7D2-4771-8F87-88C7CE9295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CDA86ECC-91F7-49F8-992B-D32BE5F3317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D7FDFA7E-E8FA-4B80-A117-5EB86CC2268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9F04D0-26BA-4018-BA3D-0C90694F43E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3DBE7A-D77A-4AA9-B008-57A78B1CF4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8FD1C4-4DFF-43D2-AB79-34C6A16C85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F79A6F-2F93-4691-8062-C07003DF3D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153CF2-BADB-4FD4-B757-0AF8610C87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829ED8-1B8B-438E-95CE-FCCCEF8E71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5DC3D5-F791-4970-95DF-A5391EF051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7C2379-04FF-4703-B400-1E69BE305B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45E4E8-3364-4A1F-BB7B-C37C7ACF37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9AEC31-303B-41D3-B3CD-271EE46BF9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30C6D5-219A-4AD8-805D-D98BF9ADE8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E64894-8F73-4104-9494-845B7A4C4B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B5830CC-C2D0-49F9-A61B-153428E5BD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A54925B-975F-4DBC-A673-488B1AA3551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9F52FBF-8517-4E18-AF7D-3A2A039C68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6057B4-C853-4D14-B853-58CC61428C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47E556-57BA-4007-BF20-32E61420DB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7CAA86-79CF-4B65-9CBF-4A5204B022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DA822DB-113E-4977-B992-9318442270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40AEDC-5B4E-43CD-A6FE-6C815F2174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67E425-34F0-402C-990E-91D5E7B65A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3833B6-3208-43D7-89FF-9631AEF697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2CC1AC-75B3-4DF8-9710-A43C2B2E85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27B51-42D3-4EF6-B442-1F80CEB494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39BB0E-32EE-4F38-A996-3D9DA1F529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AE70721-1C1C-4F1A-BCF9-F7BFAA146C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6A206E-0974-4489-B7F1-E3FB7978D3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3D0705D-5F72-4026-B0E2-CF90CB03E2F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0103DC-C022-4BF1-B08A-6EF480A0EFC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A6F6429-4031-4613-AA0A-0F2F93A3BDB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FB5ACC-9E59-4C56-B784-DD3BF72EB0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E1DE5B-2565-40FF-84CA-F84E19547A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D7AF4D-8C98-405E-8713-BAE813B3080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F8D8AC0-EBD3-45C6-9D11-58406076A5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6CBC2-F338-40B6-861D-50DF66807FB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14BA38-405F-4917-ADF4-6901A911D66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3913A5-4537-4E8B-A376-56E11EA7E7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EEBF843-3D83-4192-B894-A9459DE15D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A3317BD-CB9C-4728-9A3D-C09CC689A26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16EDB31-2D08-4BE1-9D99-57C349C573A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3332396-9C89-4E34-9539-ECEB6558056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962340C-3128-4067-84FA-D589855FEB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D5D3546-13A8-4509-97E7-C0D2C8BD77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2AC5491-324C-4DEE-B5BC-2B4C5255D66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10B7255-74F7-4EA8-A315-B5BEE5B1630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32144-5DCB-40D1-B5E3-92FC95F004B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782466-9D98-4665-8D42-BD962ADF64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BA29E4-EF75-483B-947B-4EBBAA98FD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D412F44-D21F-4AF3-89D0-BE90CC2A63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E81C0A-82B0-492D-966E-73E3DC127FA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3F7607-234B-4536-ADE6-C63712C6E9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E9CB13A-6D4F-43B0-A83A-5DF760384A4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5FFA81D-0995-4915-8243-69B6FCD3977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F763B36-8D4F-445C-99FD-079BDC5B117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C72C82C-63EA-48BA-AEA0-4B8C31FB3B3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FEE63FC-866F-4B53-89A9-E1007A5D3AB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601D-E8FC-49B5-B93B-A483B2B70D4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7F1D-2452-4D64-AD88-CA28D9C94C9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91FE-FF95-4193-8E53-B671D56337E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98FF-D006-43FD-BF4C-25FDFB367C2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109C-8797-4245-BA32-ACAE73B51D7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31DB-A468-4C2F-9BB1-34B4317CC8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8149-A70A-4005-AA1C-689038857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2AA8-44B7-416D-AD65-32E9FBFD8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2404-261E-4484-86F0-9BABB73D5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AE36-F70A-4C9C-8B68-252562BA0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D02E-1ED2-4DBE-9F9F-EF6A69B3D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D658-48F5-406B-839A-5E84E1A4D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E648-5CA4-4185-AC28-A1FFE261C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82C8-BEAB-4BA7-B6DC-8CE9202A8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290E-2C74-474F-A3B4-A34186BCB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B0CE-56B8-4891-9AE2-C1442B240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4B91-CEEA-470C-9B34-365A1399F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6E50-D264-449A-87EF-C47836D07CA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C364-F4FD-4D8C-B0BE-12E9586384E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10D1-30C3-41E7-B9A6-D40067B47C9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A70A-880D-48FD-A580-0CCF2270233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B385-7ED9-4932-B02C-B94A160B3C0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321B-06E0-424A-94DC-AF324647A4A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2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25</a:t>
            </a:r>
            <a:br>
              <a:rPr sz="3400"/>
            </a:br>
            <a:r>
              <a:rPr b="0" lang="en-US" sz="3400" spc="-1" strike="noStrike">
                <a:solidFill>
                  <a:srgbClr val="000000"/>
                </a:solidFill>
                <a:latin typeface="Calibri"/>
              </a:rPr>
              <a:t>SWOT Analysi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3" name="Picture 4" descr="cid:3287383400_2177562"/>
          <p:cNvPicPr/>
          <p:nvPr/>
        </p:nvPicPr>
        <p:blipFill>
          <a:blip r:embed="rId1"/>
          <a:stretch/>
        </p:blipFill>
        <p:spPr>
          <a:xfrm>
            <a:off x="533520" y="685800"/>
            <a:ext cx="8118360" cy="2647800"/>
          </a:xfrm>
          <a:prstGeom prst="rect">
            <a:avLst/>
          </a:prstGeom>
          <a:ln w="0">
            <a:noFill/>
          </a:ln>
        </p:spPr>
      </p:pic>
      <p:sp>
        <p:nvSpPr>
          <p:cNvPr id="1024"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25"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25-1 - SWOT Analysis Identifying Strengths and Weaknesses</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8513-9920-454F-BB1E-9075ECB94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dc.PNG"/>
          <p:cNvPicPr/>
          <p:nvPr/>
        </p:nvPicPr>
        <p:blipFill>
          <a:blip r:embed="rId1"/>
          <a:stretch/>
        </p:blipFill>
        <p:spPr>
          <a:xfrm>
            <a:off x="2133720" y="1525680"/>
            <a:ext cx="5029200" cy="499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ustomer Assessment</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ernal forces represent opportunities or threats because of the changes they produce in the way customers meet or can possibly meet a need</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ing and continuously reconsidering customer assessment and segmentation is essential to identifying opportunities and threats</a:t>
            </a:r>
            <a:endParaRPr b="0" lang="en-US" sz="26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302F-5FE5-425A-B568-C17D60EAD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gment Changes</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 segments are never static</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gments grow, shrink, and change their buying habits, preferences, and buying criterion</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gments can split into subsegments or can merge or combine into a single, larger segmen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051E-D28A-4487-9DCE-FDDCAAD3A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vironmental Scanning</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ver an opportunity or threat arises, monitoring the environment is essential to feed understandings of changes, trends, and events to SWOT analys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F28D-FCF6-4DAC-972A-F3ABB4C25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25-2 - Strategic Implications of SWOT Analysis</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430F-7525-435E-A393-4CBD66895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67yuui.PNG"/>
          <p:cNvPicPr/>
          <p:nvPr/>
        </p:nvPicPr>
        <p:blipFill>
          <a:blip r:embed="rId1"/>
          <a:stretch/>
        </p:blipFill>
        <p:spPr>
          <a:xfrm>
            <a:off x="749160" y="1828800"/>
            <a:ext cx="763272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nducting a SWOT Analysis</a:t>
            </a:r>
            <a:endParaRPr b="0" lang="en-US" sz="3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ss the firm’s competitive advantag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udy the environment for opportunities and threa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strategic alternatives and imperatives from the “fit” or match between the strengths and weaknesses and the opportunities and threa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oritize, plan, and act</a:t>
            </a:r>
            <a:endParaRPr b="0" lang="en-US" sz="2600" spc="-1" strike="noStrike">
              <a:solidFill>
                <a:srgbClr val="000000"/>
              </a:solidFill>
              <a:latin typeface="Calibri"/>
            </a:endParaRPr>
          </a:p>
        </p:txBody>
      </p:sp>
      <p:sp>
        <p:nvSpPr>
          <p:cNvPr id="10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7838-FD4A-4D2B-98C9-18C6C5CAC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1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4">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14">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gure Note 25-3 - Strengths, Weaknesses, Opportunities and Threats Feed into the Matrix</a:t>
            </a:r>
            <a:endParaRPr b="0" lang="en-US" sz="32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7CC9-DF95-40E7-B461-98D7CF00B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852.PNG"/>
          <p:cNvPicPr/>
          <p:nvPr/>
        </p:nvPicPr>
        <p:blipFill>
          <a:blip r:embed="rId1"/>
          <a:stretch/>
        </p:blipFill>
        <p:spPr>
          <a:xfrm>
            <a:off x="1676520" y="1521000"/>
            <a:ext cx="6005520" cy="510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25-4 - Strengths and Weaknesses, Opportunities and Threats Drive Strategies</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4F52-75D6-4F34-A641-A9C3AD1B2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rft.PNG"/>
          <p:cNvPicPr/>
          <p:nvPr/>
        </p:nvPicPr>
        <p:blipFill>
          <a:blip r:embed="rId1"/>
          <a:stretch/>
        </p:blipFill>
        <p:spPr>
          <a:xfrm>
            <a:off x="1676520" y="1600200"/>
            <a:ext cx="579420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20T09:46:56Z</dcterms:modified>
  <cp:revision>1684</cp:revision>
  <dc:subject/>
  <dc:title>Slide 1</dc:title>
</cp:coreProperties>
</file>