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A07-F092-4C2F-AC51-25ED6698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A7E-BCEC-4CE6-96B4-9454D29C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5E3-784F-4CCD-9B06-A62F15F9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D51-2F1F-4BDF-96EF-806D5BB6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58D5-675F-4A51-86A2-57558CF5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288E-A01F-4A55-B446-D011D4A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EA8F-5ECD-4D71-9119-DB29B872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EF33-4E57-4E16-9166-EF7CC7A2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B35D-A895-4154-B2C0-C5E07357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265B-698B-491A-8348-A0DB7530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32C6-6124-4179-B5EE-24BCC5DA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40D-E1FF-4784-8A96-61DAC9C6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F175-7828-4A42-AF4A-AE6EC9BC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AD4-4E6F-489D-A8E4-1376A6D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288D-5E26-4187-A50F-10A5061F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97C2-B03C-4B7A-92EF-65A5DAA2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BF31-20D0-46A5-AA31-25A9AAE2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E40-B6D0-4B60-B065-C06095CD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38C-09FE-4E6C-88B5-859BADA3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738-DFF5-4B0C-BE64-9F99A298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C56-C415-4B4D-8058-32CACEB1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103-4B8B-4D73-855D-9A773B7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FEE-0A2D-4B73-87C2-CB8AF59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A30-2F15-4CC9-9F8D-3E5B74D5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2A26-2F55-414D-8AD8-5F73154592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1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BECA-A1EB-43E2-9275-D4C5BB613F6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Muscle spind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840" y="2214720"/>
            <a:ext cx="4857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Brief view at Structure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Function 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Mech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宋体"/>
              </a:rPr>
              <a:t>Structu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otorneurones … alpha &amp; ga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uscle Fibers … Extrafusal &amp; Intraf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ntrafusal … Nuclear bag &amp; Nuclear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nsory … II group &amp; Ia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otor .. Static &amp; 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3" descr="Muscle-spindle-711142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宋体"/>
              </a:rPr>
              <a:t>Fun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ain function of Muscle spind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Rounded Rectangle 5" descr=""/>
          <p:cNvPicPr/>
          <p:nvPr/>
        </p:nvPicPr>
        <p:blipFill>
          <a:blip r:embed="rId1"/>
          <a:stretch/>
        </p:blipFill>
        <p:spPr>
          <a:xfrm>
            <a:off x="536400" y="2749680"/>
            <a:ext cx="700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Muscle_spindle_mode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40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ology &amp; Anatomy ‘A homostatic approach’, John Clancy and Andrew J Mcvicar,19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en.wikipedia.org/wiki/Muscle_spin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en.wikipedia.org/wiki/Gamma_motoneu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ualberta.ca/~aprochaz/research_spindle_intr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ttp://www.ualberta.ca/~aprochaz/research_interactive_receptor_model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2:53:26Z</dcterms:created>
  <dc:creator>The Catalan Fighter</dc:creator>
  <dc:description/>
  <dc:language>en-US</dc:language>
  <cp:lastModifiedBy>User</cp:lastModifiedBy>
  <dcterms:modified xsi:type="dcterms:W3CDTF">2012-02-20T06:47:33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596872052</vt:lpwstr>
  </property>
</Properties>
</file>