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467-124E-4905-9A3C-5BB0705B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7DF4-F06D-4046-B2FE-9F9FB09D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42EE-5F2E-4FF0-A49A-2DFA71EB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42C8-08FD-468A-ACF5-912D3AA2A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432D-2888-4C09-928A-A05E170E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A40C-B2F7-46D7-9ED5-A6F3FCB6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F50B-9DF0-4CB1-B5BE-0213193A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4877-8D86-4F32-8BC7-530C1550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173E-C1A6-47EC-AC50-D294FE1A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B210-3AC5-4FA8-817D-20AD4CF0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421E-FD24-427C-A00C-B833F335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357C-B1EE-42E3-85F4-31D5574B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1C12-ECC0-42E5-B226-6F302BFD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6913-2179-4386-B395-47F777CA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CFAC-10CC-4B47-A3CB-5D8523FF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71DF-9795-416C-8E18-BB6C1D72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6995-700D-440B-B5F9-83F36FC9E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DB26-2DEB-4674-925F-6BC88EEB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D705-1C4E-43E3-85FE-BF3FF200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B33D-5B56-43E9-9BE5-D884CF28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4DE2-9C3F-4552-9B70-5661887D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4FB3-259F-4F74-9C6A-36078362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0793-F47C-4627-B668-F5B937BA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D8FA-FEB3-4D1E-BA35-0B16FF44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E9C7-8505-4919-9C9A-59F5B0E7AD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1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5786-E0A0-48D9-86F1-FCE926478A61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Muscle spind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85840" y="2214720"/>
            <a:ext cx="48578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宋体"/>
              </a:rPr>
              <a:t>Brief view at Structure</a:t>
            </a:r>
            <a:br>
              <a:rPr sz="3200"/>
            </a:b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宋体"/>
              </a:rPr>
              <a:t>Function </a:t>
            </a:r>
            <a:br>
              <a:rPr sz="3200"/>
            </a:b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  <a:ea typeface="宋体"/>
              </a:rPr>
              <a:t>Mech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宋体"/>
              </a:rPr>
              <a:t>Structu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otorneurones … alpha &amp; gam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uscle Fibers … Extrafusal &amp; Intrafu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Intrafusal … Nuclear bag &amp; Nuclear ch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Sensory … II group &amp; Ia 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Motor .. Static &amp; Dynam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Content Placeholder 3" descr="Muscle-spindle-711142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  <a:ea typeface="宋体"/>
              </a:rPr>
              <a:t>Fun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Main function of Muscle spindl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Rounded Rectangle 5" descr=""/>
          <p:cNvPicPr/>
          <p:nvPr/>
        </p:nvPicPr>
        <p:blipFill>
          <a:blip r:embed="rId1"/>
          <a:stretch/>
        </p:blipFill>
        <p:spPr>
          <a:xfrm>
            <a:off x="536400" y="2749680"/>
            <a:ext cx="7004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Content Placeholder 3" descr="Muscle_spindle_mode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ourc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40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ysiology &amp; Anatomy ‘A homostatic approach’, John Clancy and Andrew J Mcvicar,199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tp://en.wikipedia.org/wiki/Muscle_spind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tp://en.wikipedia.org/wiki/Gamma_motoneu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tp://www.ualberta.ca/~aprochaz/research_spindle_intr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ttp://www.ualberta.ca/~aprochaz/research_interactive_receptor_model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02:53:26Z</dcterms:created>
  <dc:creator>The Catalan Fighter</dc:creator>
  <dc:description/>
  <dc:language>en-US</dc:language>
  <cp:lastModifiedBy>User</cp:lastModifiedBy>
  <dcterms:modified xsi:type="dcterms:W3CDTF">2012-02-20T06:47:33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596872052</vt:lpwstr>
  </property>
</Properties>
</file>