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F4668-48A4-4934-B923-A55C170A4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B8DD8-CE1A-4E95-8AE3-E088BAAC2D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435DA-9226-4BEA-A7AE-423604F2B7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1C0D0-6F6E-4B14-9AA4-1F74E94BBD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3D4AC-CC10-42AA-A3D4-9AD3BA0DC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38C46-596F-47A4-9B8D-48849F046D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5547E-D9C7-48B7-A32B-AFE1E4289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88346-BE1A-4896-BE89-D83066DCC1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7CACE-6853-4E34-B288-1D04D7675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8A338-1C78-4257-9B7E-683BE92BA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F945F-DD00-40C8-9CEF-9A70FDE8E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BE02C-E7F1-41C9-A45E-6DE9A7EC12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5C8B7-6058-4C60-9C1A-A827B88B8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F0CB6-1834-447F-91C0-151EF84F73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39A7F-3163-4CD4-8C2F-AC0203598A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3B406-B542-4AF1-BB67-CBE91EB50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B3E57-ECB3-4737-9C6E-6FEAD67863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C4D-ECE7-4F75-9474-8C727F53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B9C-6ADA-46C4-8798-08C7F993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817BD-D787-4686-B38D-0AC3BEC3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5A8C-7136-42A3-83FC-515FBC41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F59D4-6AC8-4428-9DB2-6405EFD9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795D8-611D-429A-BD96-63C3924D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4CC5E-83CF-4DC5-801E-6C0494C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1E434-0FCA-44AB-A739-554483E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F286-7D78-496C-B14E-D79B0B3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F6AAE-5B2D-4E3D-A80F-1F7B7A65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AF0A6-0623-40B7-99BC-F01D0A9F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BBEB7-F6B2-4F42-B254-D897AAFC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90C-33FB-44A2-B083-90AA964A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32540-3C68-4374-9926-14FC3B62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770B1-9213-43C2-843C-C53CEECC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1C3E4-A273-444B-9877-A0BD6FFB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959A5-B367-441C-9FE7-8397485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BAF20-9FDE-4310-8A79-E8E41E57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E00C0-5873-4CE7-9000-C436EA9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6CA5B-AB9A-416F-8752-A4515683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7BB0E-3605-4911-AA01-FC58870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B1A56-8090-4639-BCF7-B0DB0916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21883-01FB-4550-844B-1D8BA8A4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F3C-D058-4A58-BF86-59AC9E1F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59A04-E105-4531-99DB-7AC548F7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9527-E5DC-4487-AC80-1AD775A7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C5C21-968F-43B9-A3B5-06EB197D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1EE6C-C2A9-4AA5-B304-80CD437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98360-F3C5-4976-8435-64BAC897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4307-CDE1-498B-BA29-6C28616F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8F53C-403A-4498-BEBB-D214369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B50C7-5EF6-4F46-8EF9-31989F3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B6E6D-4401-48E9-9F08-9EBFD49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C38C-33BB-400E-86F1-8ADF844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8EAC-2526-478E-80A6-EB5CE275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75516-D099-41C8-A70F-A3707B91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D55D2-8A45-488F-8473-5FA88FD2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8B98F-F233-4354-A5F6-CA1F2E1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FAD96-2376-44E6-8042-4305FA4B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A9D9-4AAA-4147-ABB6-A7A34FB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05AEB-B979-4A66-8803-F85F5DDC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0E8C9-7B38-4356-9D2D-3330085C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0FD80-0ADC-4996-8AB6-ED9F56B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5DE3F-655B-401E-8543-88FE1404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3AF7E-088A-41CE-B0F7-98883B2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7180-0FB0-4035-8882-FE1B2572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D8ED7-AA60-49E3-BEA4-221CE8FC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680B5-2438-45D7-82A2-5C737192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A1F59-61AE-4E40-A25E-AF8B5463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193D9-08D6-455B-9337-269D2333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96F25-450D-4B7F-92D4-E9486591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A874-6631-4ADC-A7D1-80B796A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7A9B-AC37-43B8-B426-0F82F12A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1C02-0DB9-4BF8-9B60-65F709F8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DCB3-C5D1-489F-BA9A-36AEE2E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5821-C255-4138-87C1-C2BB5CB9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ED6-474E-4A88-AC28-7534DE7C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C912-703B-49F7-9137-016D6D8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3548-58E9-4CA1-9972-3574A161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E473-6CD4-44F0-8EF8-6F9527BE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2AB7-621E-473B-A5BE-15332E6D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537B-1715-46F9-9C7F-406B867A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1454-0B95-4BAE-951B-20215794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05C1F-8174-49FD-901F-9CD14F9F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FE2F-A751-4ED5-95B8-F0C6ACE5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4CD20-25F8-46A5-9C2F-41B21098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77D1-A75A-4FCA-B86C-3DCB11E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0862-51B3-4F82-9F8B-A16F8219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C435-9F77-479B-835F-7CA780B6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8785-DC41-40A2-A472-BBBA322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613F-4197-4244-8780-75774538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F1AC-EAF9-4DF6-86FE-8D4540C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FAAE-977E-4A97-9541-237363B9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6773-B24A-446F-AAAB-9D4A4B6C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0B5D-54DF-419C-860E-074E87C2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95368-CD98-44F5-B6DC-7C8B2B76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3365-A837-4454-85D3-41607A65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8626-8E6D-42D1-903E-8C5B339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3DC-FF61-4E64-861A-43FF031A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859A-4FCA-4AC9-9105-21827376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8057-9815-4198-A1AF-60BDF76D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B087-B3A8-4A2D-A6A1-89C2933A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0CDD7-C653-44F4-9B2D-C0FD7640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583D-1707-4063-84DB-62F69C7C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5FC2C-D62B-41C8-A7F1-2A0EA4B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703CF-B8FA-43BB-A90B-F625B212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4360-A9BA-47F0-B810-7F23BD2E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8FB3-94A7-44D7-A116-F8B4E8EA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A43D-FE45-41B8-B1A1-A2E60730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4BB-6ED5-4388-B5BA-D7B87DBE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9BC9-5773-4253-A1AF-7A08B75A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D6588-50FC-41E9-BE32-5C70592F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0098-58A2-4F1A-BB7B-99AA1018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BF19A-492E-4D51-B387-55EB4F30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87E2D-BD9C-4AA6-93E1-386CDDC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32EA5-C894-45DC-8AC1-FDCDA8DF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A8F81-EF9F-4A21-B085-E913A90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FF85A-BF0B-42AD-B714-396EA42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453DE-5162-4072-B61D-82D326A7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15EC1-809F-40D3-AB62-35623723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515-E973-4DAE-B96F-E9835736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08465-1431-40A5-AB22-2CB94017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4460E-57B2-4649-847E-3A21F274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55DF0-CEC0-4F34-9A00-3A642576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F5B1-FE6C-4460-81E7-5F489AB9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6FF61-D9C2-4AE3-AA50-94936156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661E-0282-4973-85C9-63076E58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C929C-168B-4797-AA6A-FA747DD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19F2-3E24-4855-942D-A68D052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999B-DA6A-4C24-95AB-DFB869B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DDDD-D694-477D-8B83-C126CFB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7FC8-A046-41C3-857C-4D37DC69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014BF-8EAF-4288-BBD9-E33FE10F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C48B-3B3E-472B-A8FE-F2FECCF2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361A9-610C-4348-9F15-9E3835F8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368DE-65EC-434B-8BBD-AB371E10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B0DB5-44C5-46EE-B806-2BB5C1DA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B2B18-DDA1-4987-83FD-2CF3A7C7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7206-D09F-4B93-919F-3F706EB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64D6-560B-46D0-A6BF-03C0CA7C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6507-8CF2-4107-9C67-FE001947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5814C-DD6C-4024-BDCF-3C50CBB2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EE8-3188-41E0-A83E-03FD095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9C0BD-BE3A-47A0-9502-69AE48DB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85692-5E56-4D4D-8DC1-94F525F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79D5-8109-4B3F-8FE3-FE21537E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DF645-2218-46E7-8411-8059F5E9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E88FE-5BBF-41FB-B389-563DA450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83CC-8498-44A3-A001-F1278DF0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7911-53EC-4B0E-9FC3-B22F8C73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9E398-0062-42E6-9967-4BFBDA9D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7A97-63BE-4C5A-9AEE-D8E805C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74359-DDDA-48FF-9374-951C5748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FB1-2336-4AB6-B3E8-34DEC866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3A461-490B-49C8-83D4-B89CD96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6DB00-3CE8-4A1B-94EE-36491AD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7457-5E49-4F17-8087-10B55C7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F844-CC71-4BA2-8F45-04D5A6CD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8693D-7577-4969-A301-236781A0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626A-9AE3-439F-98EF-58BDECA9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C9FD-6678-47D2-A096-ABCB8EA1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104FC-A5C2-4279-BCB8-5CBC171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01D8D-880B-4AF2-9085-DD061C6A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F0253-AC25-4C7C-BBE8-4EC3A33F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4A511-6134-48EC-A8BE-425E34DCE15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6CDEB-A6D3-4BBE-8338-61A3804CEE4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CD4F4-7031-4683-B6B7-1CEDE5B2D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143BA-6AF8-4019-B7DB-2DAF372A4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33030-1AB4-4CCB-BB70-595CB572A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4712D-7F75-4688-97AA-BA6FF8290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96282-B435-4B48-9E7D-78EAEB00B9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360EF-6EEB-4478-BB76-E88BFEC3A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15DC2-93D4-4C7E-A628-E2163A604F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14388-07E9-4DD4-B26F-E730A45E8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B4AAD-49AE-468C-8C57-CD87C64CF1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A8CE9-09CF-47D2-9E8B-60AC5D13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92F4A-BFFA-4602-8899-7DB871097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ED002F-4957-48F3-8273-A1785D640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F6D24-01FC-4DB2-8A0D-3DD2165DAD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F3867-2D1C-4A4D-BAAB-BEB2417C1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DD143-B1F0-4814-914D-87B694E98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7EEF9-D495-4EFF-BE25-A9E539311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B76ED-6631-458D-BC8A-33CED1822B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F78EC-FEC1-481C-99D0-5699421D5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B56F1-BBFB-4ABB-AD0B-4A3891529B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EA026-40B3-4AD9-92EF-1E6358FD3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168E4-3221-47D9-B81E-7C7DFE85C6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4B475-B465-4916-B5C3-48546476A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medicine.com/neuro/images/681MissingFingers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811760"/>
            <a:ext cx="777240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 Metabolism</a:t>
            </a:r>
            <a:br>
              <a:rPr sz="4400"/>
            </a:br>
            <a:r>
              <a:rPr b="1" lang="en-US" sz="4400" spc="-1" strike="noStrike">
                <a:solidFill>
                  <a:srgbClr val="9933ff"/>
                </a:solidFill>
                <a:latin typeface="Cambria"/>
                <a:ea typeface="Arial"/>
              </a:rPr>
              <a:t>-Biosynthesis-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B3CA6-EC79-41D2-853B-6F777D3FD6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304920"/>
            <a:ext cx="2927520" cy="2057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BioLogo2small"/>
          <p:cNvPicPr/>
          <p:nvPr/>
        </p:nvPicPr>
        <p:blipFill>
          <a:blip r:embed="rId2"/>
          <a:stretch/>
        </p:blipFill>
        <p:spPr>
          <a:xfrm>
            <a:off x="6977160" y="874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77920" y="328680"/>
            <a:ext cx="91440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tivation of ribose-5-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purin1"/>
          <p:cNvPicPr/>
          <p:nvPr/>
        </p:nvPicPr>
        <p:blipFill>
          <a:blip r:embed="rId1"/>
          <a:stretch/>
        </p:blipFill>
        <p:spPr>
          <a:xfrm>
            <a:off x="2581200" y="2265480"/>
            <a:ext cx="6042240" cy="1774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7369200" y="1084320"/>
            <a:ext cx="947880" cy="1511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277920" y="4410000"/>
            <a:ext cx="7603920" cy="1736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Ribose phosphate pyrophosphokin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5-phosphoribosyl-a-pyrophosphate (PRP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PRPP is also a precursor in the biosynthesis of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pyrimid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nucleotides and the amino acids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histidin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&amp;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This step is tightly regulated by feedback in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18600" y="500040"/>
            <a:ext cx="69915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2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purine atom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purin2"/>
          <p:cNvPicPr/>
          <p:nvPr/>
        </p:nvPicPr>
        <p:blipFill>
          <a:blip r:embed="rId1"/>
          <a:stretch/>
        </p:blipFill>
        <p:spPr>
          <a:xfrm>
            <a:off x="5511960" y="1413000"/>
            <a:ext cx="3319200" cy="3390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3" name="Rectangle 2"/>
          <p:cNvSpPr/>
          <p:nvPr/>
        </p:nvSpPr>
        <p:spPr>
          <a:xfrm>
            <a:off x="318960" y="4941720"/>
            <a:ext cx="8650440" cy="19227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n this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committed ste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, an amino group donated by glutamine is attached      at C-1 of PR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midophosphoribosyl transfe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Product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Resulting in the formation of </a:t>
            </a: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5-phosphoribosylam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http://josephdevon.com/wp-content/uploads/thinking-guy.jpg"/>
          <p:cNvPicPr/>
          <p:nvPr/>
        </p:nvPicPr>
        <p:blipFill>
          <a:blip r:embed="rId2"/>
          <a:stretch/>
        </p:blipFill>
        <p:spPr>
          <a:xfrm>
            <a:off x="0" y="2384280"/>
            <a:ext cx="2705040" cy="2697480"/>
          </a:xfrm>
          <a:prstGeom prst="rect">
            <a:avLst/>
          </a:prstGeom>
          <a:ln w="0">
            <a:noFill/>
          </a:ln>
        </p:spPr>
      </p:pic>
      <p:sp>
        <p:nvSpPr>
          <p:cNvPr id="545" name="Rounded Rectangular Callout 6"/>
          <p:cNvSpPr/>
          <p:nvPr/>
        </p:nvSpPr>
        <p:spPr>
          <a:xfrm>
            <a:off x="2233440" y="1736640"/>
            <a:ext cx="2813400" cy="890640"/>
          </a:xfrm>
          <a:prstGeom prst="wedgeRoundRectCallout">
            <a:avLst>
              <a:gd name="adj1" fmla="val -63222"/>
              <a:gd name="adj2" fmla="val 11349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hat is the properties of committe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8037360" y="485640"/>
            <a:ext cx="79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78912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Step 3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cquisition of purine atoms C4, C5, and N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purin3"/>
          <p:cNvPicPr/>
          <p:nvPr/>
        </p:nvPicPr>
        <p:blipFill>
          <a:blip r:embed="rId1"/>
          <a:stretch/>
        </p:blipFill>
        <p:spPr>
          <a:xfrm>
            <a:off x="5775480" y="1940040"/>
            <a:ext cx="3073320" cy="315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9" name="Rectangle 1"/>
          <p:cNvSpPr/>
          <p:nvPr/>
        </p:nvSpPr>
        <p:spPr>
          <a:xfrm>
            <a:off x="371520" y="5184720"/>
            <a:ext cx="8286840" cy="11912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Phosphoribosylamine reacts with ATP and glycine to produce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glycinamide ribonucleotide (G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Glycinamide synthet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7899480" y="789120"/>
            <a:ext cx="949320" cy="15112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6735600" y="3287880"/>
            <a:ext cx="47880" cy="23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57240" y="297000"/>
            <a:ext cx="53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C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Formylation of free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amino group of 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GAR transformyl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Co-factor of enzyme 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  <a:ea typeface="Perpetu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formyl TH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5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N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The amide amino group of a second glutamine is transferred to form formylglycinamidin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(FGA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FGAM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6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Closing the 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Closing of the imidazole ring or formation of 5-aminoimidazol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(AI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AIR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Screen Shot 2012-10-08 at 9.23.12 PM.png"/>
          <p:cNvPicPr/>
          <p:nvPr/>
        </p:nvPicPr>
        <p:blipFill>
          <a:blip r:embed="rId1"/>
          <a:srcRect l="1514" t="0" r="0" b="-1092"/>
          <a:stretch/>
        </p:blipFill>
        <p:spPr>
          <a:xfrm>
            <a:off x="5654520" y="841320"/>
            <a:ext cx="3122640" cy="56404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5862600" y="17604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55120" y="923400"/>
            <a:ext cx="458316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7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C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purin7"/>
          <p:cNvPicPr/>
          <p:nvPr/>
        </p:nvPicPr>
        <p:blipFill>
          <a:blip r:embed="rId1"/>
          <a:stretch/>
        </p:blipFill>
        <p:spPr>
          <a:xfrm>
            <a:off x="1127160" y="2224080"/>
            <a:ext cx="7345440" cy="18162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7" name="Rectangle 5"/>
          <p:cNvSpPr/>
          <p:nvPr/>
        </p:nvSpPr>
        <p:spPr>
          <a:xfrm>
            <a:off x="254160" y="4629240"/>
            <a:ext cx="8588160" cy="16444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6 is introduced a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reaction is driven by hydrolysi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IR carboxylase (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rboxyl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IR (carboxy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7472520" y="1290600"/>
            <a:ext cx="831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1560" y="223920"/>
            <a:ext cx="520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8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N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1 is acquired from aspartate in an amide condensation reaction that is driven by hydrolysis of ATP to produce 5-aminoimidazole-4-(N-succinylocarboxamide)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SAICA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ICAR synthet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9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imination of fumarate by the action of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denylosuccinate ly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produce 5-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10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other formylation reaction catalyzed by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ICAR transform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results in the formation of 5-formyl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F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Screen Shot 2012-10-08 at 10.48.43 PM.png"/>
          <p:cNvPicPr/>
          <p:nvPr/>
        </p:nvPicPr>
        <p:blipFill>
          <a:blip r:embed="rId1"/>
          <a:stretch/>
        </p:blipFill>
        <p:spPr>
          <a:xfrm>
            <a:off x="5519880" y="223920"/>
            <a:ext cx="3341520" cy="64339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8193240" y="0"/>
            <a:ext cx="6681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Biochemistry in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3CDCC-BA0D-4220-82E1-06CDBC121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66880" y="2576520"/>
            <a:ext cx="7819920" cy="22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pendence of purine biosynthesis on folic acid compounds at Steps 4 and 10 means that antagonists of folic acid metabolism indirectly inhibit purine formation and, in turn, nucleic acid synthesis, cell growth, and cell div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early, rapidly dividing cells such as malignancies or infective bacteria are more susceptible to these antagonists than slower-growing normal cell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7289640" y="4295880"/>
            <a:ext cx="1683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8280" y="54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yclization or ring clo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purin11"/>
          <p:cNvPicPr/>
          <p:nvPr/>
        </p:nvPicPr>
        <p:blipFill>
          <a:blip r:embed="rId1"/>
          <a:stretch/>
        </p:blipFill>
        <p:spPr>
          <a:xfrm>
            <a:off x="5153040" y="1117440"/>
            <a:ext cx="2984400" cy="3789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8" name="Rectangle 4"/>
          <p:cNvSpPr/>
          <p:nvPr/>
        </p:nvSpPr>
        <p:spPr>
          <a:xfrm>
            <a:off x="555480" y="5254560"/>
            <a:ext cx="79981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Water is eliminated by the action of inosine monophosphate (IMP) synt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In contrast to step 6 (closure of the imidazole ring), this reaction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MS PGothic"/>
              </a:rPr>
              <a:t>does not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require ATP hydroly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Once IMP is formed, it is rapidly converted to AMP and GM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719840" y="546120"/>
            <a:ext cx="833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Biosynthesis of AMP and GMP from IMP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EA026-6603-4682-9E11-9D2256A0E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495360" y="1128600"/>
            <a:ext cx="8153280" cy="507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2"/>
          <p:cNvSpPr/>
          <p:nvPr/>
        </p:nvSpPr>
        <p:spPr>
          <a:xfrm>
            <a:off x="415800" y="243000"/>
            <a:ext cx="836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Cambria"/>
              </a:rPr>
              <a:t>Purine nucleotide biosynthesis is regulated by feedbac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14"/>
          <p:cNvSpPr/>
          <p:nvPr/>
        </p:nvSpPr>
        <p:spPr>
          <a:xfrm>
            <a:off x="185760" y="5475240"/>
            <a:ext cx="6029280" cy="123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The significance of regulation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Fulfill the need of the body,  without was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G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=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A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5245200" y="1496880"/>
            <a:ext cx="353700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Calligraphy"/>
              </a:rPr>
              <a:t>Significances of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856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precursors of DNA and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the energy currency in metabolic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componen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Cofacto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NAD, FAD, S-adenosylmethionine, and coenzy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Activated biosynthetic intermediate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UDP-glucose and CDP-diacylglyc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Second messenge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cAMP and 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E52A2-8F14-4706-B962-DB1C3163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5200" y="2318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alvage Pathway of 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5200" y="82188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wo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osphoribosyl transferas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re involved in this pathwa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denos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APR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nl-NL" sz="2000" spc="-1" strike="noStrike">
                <a:solidFill>
                  <a:srgbClr val="0000ff"/>
                </a:solidFill>
                <a:latin typeface="Perpetua"/>
              </a:rPr>
              <a:t>Adenine + PRPP                           A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poxanthine-guan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HGP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ypoxanthine + PRPP                           I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uanine + PRPP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                   G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Straight Arrow Connector 4"/>
          <p:cNvCxnSpPr/>
          <p:nvPr/>
        </p:nvCxnSpPr>
        <p:spPr>
          <a:xfrm>
            <a:off x="2679480" y="2488680"/>
            <a:ext cx="1114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9" name="Straight Arrow Connector 7"/>
          <p:cNvCxnSpPr/>
          <p:nvPr/>
        </p:nvCxnSpPr>
        <p:spPr>
          <a:xfrm>
            <a:off x="3114360" y="415260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Straight Arrow Connector 8"/>
          <p:cNvCxnSpPr/>
          <p:nvPr/>
        </p:nvCxnSpPr>
        <p:spPr>
          <a:xfrm>
            <a:off x="3130200" y="355896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1" name="Rounded Rectangular Callout 11"/>
          <p:cNvSpPr/>
          <p:nvPr/>
        </p:nvSpPr>
        <p:spPr>
          <a:xfrm>
            <a:off x="6249960" y="1712880"/>
            <a:ext cx="2789280" cy="776160"/>
          </a:xfrm>
          <a:prstGeom prst="wedgeRoundRectCallout">
            <a:avLst>
              <a:gd name="adj1" fmla="val -64041"/>
              <a:gd name="adj2" fmla="val -5583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A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 is not very important because it generate little ade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ounded Rectangular Callout 12"/>
          <p:cNvSpPr/>
          <p:nvPr/>
        </p:nvSpPr>
        <p:spPr>
          <a:xfrm>
            <a:off x="6249960" y="3559320"/>
            <a:ext cx="2685960" cy="776160"/>
          </a:xfrm>
          <a:prstGeom prst="wedgeRoundRectCallout">
            <a:avLst>
              <a:gd name="adj1" fmla="val -37750"/>
              <a:gd name="adj2" fmla="val -71254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HG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, is exceptionally important and it is inhibited by both IMP and G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951280" y="4699080"/>
            <a:ext cx="3313080" cy="184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4" name="Minus 9"/>
          <p:cNvSpPr/>
          <p:nvPr/>
        </p:nvSpPr>
        <p:spPr>
          <a:xfrm rot="5400000">
            <a:off x="3595320" y="3422520"/>
            <a:ext cx="397080" cy="272880"/>
          </a:xfrm>
          <a:custGeom>
            <a:avLst/>
            <a:gdLst>
              <a:gd name="textAreaLeft" fmla="*/ 52560 w 397080"/>
              <a:gd name="textAreaRight" fmla="*/ 344520 w 3970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6875" h="273050">
                <a:moveTo>
                  <a:pt x="52606" y="104414"/>
                </a:moveTo>
                <a:lnTo>
                  <a:pt x="344269" y="104414"/>
                </a:lnTo>
                <a:lnTo>
                  <a:pt x="344269" y="168636"/>
                </a:lnTo>
                <a:lnTo>
                  <a:pt x="52606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inus 10"/>
          <p:cNvSpPr/>
          <p:nvPr/>
        </p:nvSpPr>
        <p:spPr>
          <a:xfrm rot="5400000">
            <a:off x="3596400" y="4017240"/>
            <a:ext cx="395280" cy="272880"/>
          </a:xfrm>
          <a:custGeom>
            <a:avLst/>
            <a:gdLst>
              <a:gd name="textAreaLeft" fmla="*/ 52200 w 395280"/>
              <a:gd name="textAreaRight" fmla="*/ 343080 w 3952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5288" h="273050">
                <a:moveTo>
                  <a:pt x="52395" y="104414"/>
                </a:moveTo>
                <a:lnTo>
                  <a:pt x="342893" y="104414"/>
                </a:lnTo>
                <a:lnTo>
                  <a:pt x="342893" y="168636"/>
                </a:lnTo>
                <a:lnTo>
                  <a:pt x="52395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1353600"/>
            <a:ext cx="86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utations in genes that encode nucleotide biosynthetic enzymes can reduce levels of needed nucleotides and can lead to an accumulation of intermedi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Perpetua"/>
              </a:rPr>
              <a:t>Lesch-Nyhan syndrome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mpulsive self-destructive behavio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caused b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deficienc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poxanthine-guanine phosphoribosyltransferase </a:t>
            </a:r>
            <a:r>
              <a:rPr b="1" lang="en-US" sz="2200" spc="-1" strike="noStrike">
                <a:solidFill>
                  <a:srgbClr val="830ffc"/>
                </a:solidFill>
                <a:latin typeface="Perpetua"/>
              </a:rPr>
              <a:t>(HGPRT)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f salvage pathway, The disease is inherited as a sex-linked recessive dis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the absence of HGPRT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, PRPP levels ris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d purines are overproduced by the de novo pathway, resulting in high levels of uric acid production and gout-like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damage to tissu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The brain is especiall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pendent on the salvage pathways, and this may account for the central nervous system damage in children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with Lesch-Nyhan syndr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3" descr="athome"/>
          <p:cNvPicPr/>
          <p:nvPr/>
        </p:nvPicPr>
        <p:blipFill>
          <a:blip r:embed="rId1"/>
          <a:stretch/>
        </p:blipFill>
        <p:spPr>
          <a:xfrm>
            <a:off x="5297400" y="4791240"/>
            <a:ext cx="2127240" cy="2189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681MissingFing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86640" y="5237280"/>
            <a:ext cx="1828800" cy="1693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49360" y="382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      </a:t>
            </a: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4"/>
          <a:stretch/>
        </p:blipFill>
        <p:spPr>
          <a:xfrm>
            <a:off x="324000" y="201600"/>
            <a:ext cx="15699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27B4A-B7AC-4CF4-8653-5D1C0C93E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232000" y="1074600"/>
            <a:ext cx="43210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2588F-8BB6-4DB0-9DEE-CC701B29A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879480" y="1650960"/>
            <a:ext cx="738360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7772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 a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hor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athway than for pur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The base is made firs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then attached to ribose-P (unlike purine biosynthe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6 step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instead of 11 for puri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i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UM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uridine monophospha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Only 2 precursor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aspartate and glutamine, plu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contribute to the 6-membered 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9" descr="40-4                                                           00001607Macintosh HD                   ABA78158:"/>
          <p:cNvPicPr/>
          <p:nvPr/>
        </p:nvPicPr>
        <p:blipFill>
          <a:blip r:embed="rId1"/>
          <a:stretch/>
        </p:blipFill>
        <p:spPr>
          <a:xfrm>
            <a:off x="5937120" y="4788000"/>
            <a:ext cx="2921040" cy="179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10"/>
          <p:cNvSpPr/>
          <p:nvPr/>
        </p:nvSpPr>
        <p:spPr>
          <a:xfrm>
            <a:off x="2971800" y="342900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4"/>
          <p:cNvSpPr/>
          <p:nvPr/>
        </p:nvSpPr>
        <p:spPr>
          <a:xfrm flipV="1">
            <a:off x="2971800" y="3428640"/>
            <a:ext cx="0" cy="16765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"/>
          <p:cNvSpPr/>
          <p:nvPr/>
        </p:nvSpPr>
        <p:spPr>
          <a:xfrm>
            <a:off x="2971800" y="510552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7"/>
          <p:cNvSpPr/>
          <p:nvPr/>
        </p:nvSpPr>
        <p:spPr>
          <a:xfrm flipV="1">
            <a:off x="380988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3809880" y="297180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V="1">
            <a:off x="502920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denovo pyrimidine synthesis"/>
          <p:cNvPicPr/>
          <p:nvPr/>
        </p:nvPicPr>
        <p:blipFill>
          <a:blip r:embed="rId1"/>
          <a:srcRect l="3057" t="18118" r="2007" b="8561"/>
          <a:stretch/>
        </p:blipFill>
        <p:spPr>
          <a:xfrm>
            <a:off x="671400" y="1776240"/>
            <a:ext cx="7899480" cy="45054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1280" y="2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671400" y="111276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3120" y="603360"/>
            <a:ext cx="8632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Nucleotide Mono-, Di-, and Triphosphates Are Interconver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"/>
          <p:cNvSpPr/>
          <p:nvPr/>
        </p:nvSpPr>
        <p:spPr>
          <a:xfrm>
            <a:off x="303120" y="1839960"/>
            <a:ext cx="828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How is the other major pyrimidine ribonucleotide, cytidine, 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synthesized from the uracil base of UMP, but UMP is converted  into UTP before the synthesis can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i and triphosphates are the active forms of nucleotides in biosynthesis and energy conver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A0B11-76D1-4A4E-B079-C0C8303DE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457200" y="173340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monophosphates are converted into nucleoside triphosphates in s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First,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nucleoside monophosphates are converted into diphosphates by specific  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monophosphate kinas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hat utilize ATP as the phosphoryl-group donor.    </a:t>
            </a:r>
            <a:r>
              <a:rPr b="1" lang="en-US" sz="2200" spc="-1" strike="noStrike">
                <a:solidFill>
                  <a:srgbClr val="c00000"/>
                </a:solidFill>
                <a:latin typeface="Perpetua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P + ATP                         UDP +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Second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diphosphates and triphosphates are interconverted by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diphosphate kinas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 enzyme that h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broad specificity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in contrast with the monophosphate kin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DP + YTP                              XTR + Y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884760" y="3514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UMP k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5"/>
          <p:cNvCxnSpPr/>
          <p:nvPr/>
        </p:nvCxnSpPr>
        <p:spPr>
          <a:xfrm>
            <a:off x="3884400" y="3884400"/>
            <a:ext cx="1470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Straight Arrow Connector 10"/>
          <p:cNvCxnSpPr/>
          <p:nvPr/>
        </p:nvCxnSpPr>
        <p:spPr>
          <a:xfrm>
            <a:off x="3146400" y="5524200"/>
            <a:ext cx="22089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6" name="TextBox 11"/>
          <p:cNvSpPr/>
          <p:nvPr/>
        </p:nvSpPr>
        <p:spPr>
          <a:xfrm>
            <a:off x="2738520" y="5232240"/>
            <a:ext cx="28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nucleoside diphosphate ki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69A22-F7F7-45D6-805D-34B55570D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CTP Is Formed by Amination of U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457200" y="141768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fter uridine triphosphate has been formed, it can be transformed into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cytidine triphosphat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y the replacement of a carbonyl group by an amino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reaction requires ATP and uses glutamine as the source of the amino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CTP can be used then in many biochemical processes, including RNA synthes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2266920" y="4317840"/>
            <a:ext cx="503892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hymidylate Is Formed by the Methylation of Deoxyuridy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D7E1F-8D85-46D5-BAC0-AE6AE224A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457200" y="179388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racil, produced by the pyrimidine synthesis pathway, is not a component of    DNA. Rather, DNA contains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thymin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methylated analog of urac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other step is required to generate thymidylate from uracil.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hymidylate synthase catalyz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ep -deoxyuridylate (dUMP) is methylated to thymidylate (TM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ethylation of this nucleotide facilitates the identification of DNA damage for repair and, hence, helps preserve the integrity of the genetic information stored in D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Overview of Nucleotid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D3BA5-83BB-4D5E-A8D6-84A37C3C8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70040" y="1744560"/>
            <a:ext cx="7602480" cy="443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694B5-F712-48DE-B9FB-2848F4C5B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4"/>
          <p:cNvSpPr/>
          <p:nvPr/>
        </p:nvSpPr>
        <p:spPr>
          <a:xfrm>
            <a:off x="272880" y="5248440"/>
            <a:ext cx="8871120" cy="95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nversion of dUMP to dTMP by thymidylate synthase and dihydrofolate reductase. In the synthesis of dTMP, all three hydrogens of the added methyl group are derived from the 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,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-methylenetetrahydrofolate, as shown in red and g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5213520" y="447840"/>
            <a:ext cx="33066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4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rotic acidu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BC071-A2DF-47A3-8D4F-A50875872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220680" y="1163520"/>
            <a:ext cx="8215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cause the products of pyrimidine catabolism are soluble, few disorders result from excess levels of their synthesis or catabo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wo inherited disorders affecting pyrimidine biosynthesis are the result of deficiencies in the bifunctional enzyme catalyzing the last two steps of UMP synthesis, orotate phosphoribosyl transferase and OMP decarboxy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se deficiencies result in orotic aciduria that causes retarded growth, and severe anem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7731000" y="5297400"/>
            <a:ext cx="1241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Regulation of pyrimidine nucleotide bio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84240" y="2244600"/>
            <a:ext cx="44607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gulation of pyrimidine synthesis occurs mainly at the first step which is catalyzed by aspartate transcarbamoylase,  ATC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ed by CTP and activated by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4545000" y="2075040"/>
            <a:ext cx="4309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ounded Rectangle 16"/>
          <p:cNvSpPr/>
          <p:nvPr/>
        </p:nvSpPr>
        <p:spPr>
          <a:xfrm>
            <a:off x="457200" y="1246320"/>
            <a:ext cx="8229600" cy="43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RPP       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yrimidine                                               pyrimidine ribonucleoside  mono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yrimidine phosphoribos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41A08-5BC4-4D88-907C-02CF56C41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5"/>
          <p:cNvCxnSpPr/>
          <p:nvPr/>
        </p:nvCxnSpPr>
        <p:spPr>
          <a:xfrm>
            <a:off x="2120760" y="2295000"/>
            <a:ext cx="13550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39" name="رابط كسهم مستقيم 7"/>
          <p:cNvCxnSpPr/>
          <p:nvPr/>
        </p:nvCxnSpPr>
        <p:spPr>
          <a:xfrm flipV="1">
            <a:off x="2670120" y="1974600"/>
            <a:ext cx="31176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0" name="رابط كسهم مستقيم 8"/>
          <p:cNvCxnSpPr/>
          <p:nvPr/>
        </p:nvCxnSpPr>
        <p:spPr>
          <a:xfrm flipH="1" flipV="1">
            <a:off x="2341080" y="1974600"/>
            <a:ext cx="32904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1" name="عنصر نائب للمحتوى 2"/>
          <p:cNvSpPr/>
          <p:nvPr/>
        </p:nvSpPr>
        <p:spPr>
          <a:xfrm>
            <a:off x="457200" y="3713040"/>
            <a:ext cx="8229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PRPP       PPi                                  H+        CO2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Orotate                                                Orotidylate                                      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Orotate  phosphoribosyle                   Orotidylate deoxyl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رابط كسهم مستقيم 13"/>
          <p:cNvCxnSpPr/>
          <p:nvPr/>
        </p:nvCxnSpPr>
        <p:spPr>
          <a:xfrm>
            <a:off x="1838160" y="4328640"/>
            <a:ext cx="13536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3" name="رابط كسهم مستقيم 14"/>
          <p:cNvCxnSpPr/>
          <p:nvPr/>
        </p:nvCxnSpPr>
        <p:spPr>
          <a:xfrm flipH="1" flipV="1">
            <a:off x="2185560" y="4009680"/>
            <a:ext cx="3290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4" name="رابط كسهم مستقيم 15"/>
          <p:cNvCxnSpPr/>
          <p:nvPr/>
        </p:nvCxnSpPr>
        <p:spPr>
          <a:xfrm flipV="1">
            <a:off x="251460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5" name="رابط كسهم مستقيم 18"/>
          <p:cNvCxnSpPr/>
          <p:nvPr/>
        </p:nvCxnSpPr>
        <p:spPr>
          <a:xfrm>
            <a:off x="4730400" y="4328640"/>
            <a:ext cx="1353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6" name="رابط كسهم مستقيم 19"/>
          <p:cNvCxnSpPr/>
          <p:nvPr/>
        </p:nvCxnSpPr>
        <p:spPr>
          <a:xfrm flipH="1" flipV="1">
            <a:off x="5062320" y="4001400"/>
            <a:ext cx="32904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7" name="رابط كسهم مستقيم 20"/>
          <p:cNvCxnSpPr/>
          <p:nvPr/>
        </p:nvCxnSpPr>
        <p:spPr>
          <a:xfrm flipV="1">
            <a:off x="539064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Pyrimidine Salvage pathwa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F61F5-2F89-4BD5-B189-B1CB1ED0667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Part II-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s degradatio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73A02-D4D6-43C3-A6BA-93D94156A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108080" y="565200"/>
            <a:ext cx="6450120" cy="477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5" name="Rectangle 3"/>
          <p:cNvSpPr/>
          <p:nvPr/>
        </p:nvSpPr>
        <p:spPr>
          <a:xfrm>
            <a:off x="609480" y="5553000"/>
            <a:ext cx="80773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Purine nucleotides (AMP and  GMP) are degraded by a pathway in which they lose their phosphate through the action of </a:t>
            </a:r>
            <a:r>
              <a:rPr b="1" lang="en-US" sz="1800" spc="-1" strike="noStrike">
                <a:solidFill>
                  <a:srgbClr val="008000"/>
                </a:solidFill>
                <a:latin typeface="Comic Sans MS"/>
                <a:ea typeface="Perpetua"/>
              </a:rPr>
              <a:t>5’- nucleotid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,to form adenosine and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guanosine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33192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urine Metabolis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27040" y="1301760"/>
            <a:ext cx="7827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tic aberrations in human purine metabolism have been found, some with serious consequ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Severe combined immunodeficiency disease (SC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eficiency of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denosine deamin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ads to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which T lymphocytes and B lymphocytes do not develop proper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ck of ADA leads to a 100-fol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ellular concentration of dATP, a </a:t>
            </a:r>
            <a:r>
              <a:rPr b="1" lang="en-US" sz="2400" spc="-1" strike="noStrike">
                <a:solidFill>
                  <a:srgbClr val="800000"/>
                </a:solidFill>
                <a:latin typeface="Perpetua"/>
              </a:rPr>
              <a:t>strong inhibitor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ribonucleotide reductase involved in deoxynucleotide biosynthesis. The net effect is to inhibit DNA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7858080" y="5681520"/>
            <a:ext cx="99216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417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G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disease of the joints caused by an elevated concentrations of uric acid in the blood and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forms of gout are the result of excess purine production and consequent catabolism or to a partial deficiency in the salvage enzyme, HGP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Allpurinol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structural analog of hypoxanthine that strongly inhibit xanthine oxid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457200" y="274680"/>
            <a:ext cx="32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MS PGothic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7827840" y="5491080"/>
            <a:ext cx="1144800" cy="11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3"/>
          <p:cNvSpPr/>
          <p:nvPr/>
        </p:nvSpPr>
        <p:spPr>
          <a:xfrm>
            <a:off x="1490400" y="22716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  <a:ea typeface="MS PGothic"/>
              </a:rPr>
              <a:t>Catabolism of a pyrimi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515880" y="838080"/>
            <a:ext cx="778824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contrast to purines, pyrimidines undergo ring cleavage and the usual end products of catabolism are </a:t>
            </a:r>
            <a:r>
              <a:rPr b="1" lang="el-GR" sz="2200" spc="-1" strike="noStrike">
                <a:solidFill>
                  <a:srgbClr val="8c0aec"/>
                </a:solidFill>
                <a:latin typeface="Cambria"/>
              </a:rPr>
              <a:t>β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</a:rPr>
              <a:t>-amino acid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lus </a:t>
            </a:r>
            <a:r>
              <a:rPr b="1" lang="en-US" sz="2200" spc="-1" strike="noStrike">
                <a:solidFill>
                  <a:srgbClr val="e93bdd"/>
                </a:solidFill>
                <a:latin typeface="Perpetua"/>
              </a:rPr>
              <a:t>NH</a:t>
            </a:r>
            <a:r>
              <a:rPr b="1" lang="en-US" sz="2200" spc="-1" strike="noStrike" baseline="-25000">
                <a:solidFill>
                  <a:srgbClr val="e93bdd"/>
                </a:solidFill>
                <a:latin typeface="Perpetua"/>
              </a:rPr>
              <a:t>3</a:t>
            </a:r>
            <a:r>
              <a:rPr b="1" lang="en-US" sz="2200" spc="-1" strike="noStrike" baseline="30000">
                <a:solidFill>
                  <a:srgbClr val="e93bdd"/>
                </a:solidFill>
                <a:latin typeface="Perpetua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200" spc="-1" strike="noStrike">
                <a:solidFill>
                  <a:srgbClr val="800000"/>
                </a:solidFill>
                <a:latin typeface="Perpetua"/>
              </a:rPr>
              <a:t>CO</a:t>
            </a:r>
            <a:r>
              <a:rPr b="1" lang="en-US" sz="2200" spc="-1" strike="noStrike" baseline="-25000">
                <a:solidFill>
                  <a:srgbClr val="8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yrimidines from nucleic acids or the energy pool are acted upon by nucleotidases and pyrimidine nucleoside phosphorylase to yield the free b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4-amino group of both cytosine and 5-methyl cytosine is released as am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" descr="Screen Shot 2012-10-14 at 6.56.56 PM.png"/>
          <p:cNvPicPr/>
          <p:nvPr/>
        </p:nvPicPr>
        <p:blipFill>
          <a:blip r:embed="rId1"/>
          <a:stretch/>
        </p:blipFill>
        <p:spPr>
          <a:xfrm>
            <a:off x="963720" y="4718160"/>
            <a:ext cx="704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ff"/>
                </a:solidFill>
                <a:latin typeface="Cambria"/>
              </a:rPr>
              <a:t>Ring Cleav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45680" y="932040"/>
            <a:ext cx="844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In order for the rings (Cytosine and Thymine) to be cleaved, they must first be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Perpetua"/>
              </a:rPr>
              <a:t>reduced by NADP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Atoms 2 and 3 of both rings are released as ammonia and carbon diox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The rest of the ring is left as a beta-amino ac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mino isobutyrate from thymine or 5-methyl cytosine is largely excre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lanine from cytosine or uracil may either be excreted or incorporated into the brain and muscle dipeptides,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carnos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his-beta-ala) or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anser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methyl his-beta-al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E610A-FE52-4A38-98B0-125834AD3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Screen Shot 2012-10-14 at 6.56.56 PM.png"/>
          <p:cNvPicPr/>
          <p:nvPr/>
        </p:nvPicPr>
        <p:blipFill>
          <a:blip r:embed="rId1"/>
          <a:stretch/>
        </p:blipFill>
        <p:spPr>
          <a:xfrm>
            <a:off x="3743280" y="3938760"/>
            <a:ext cx="442584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Continue</a:t>
            </a: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3589C-E01B-412D-B76B-C4D239202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832040" y="1417680"/>
            <a:ext cx="572292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6040" y="2365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Lucida Calligraphy"/>
              </a:rPr>
              <a:t>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3B415-F55D-47E3-BE1C-1270E9074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46040" y="4060800"/>
            <a:ext cx="3513240" cy="95436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gins with their metabolic precursors: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amino acids, ribose 5-phosphate, 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, and 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5394240" y="4060800"/>
            <a:ext cx="3125880" cy="91692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cles the free bases and nucleosides released from nucleic acid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290520" y="1662120"/>
            <a:ext cx="3860640" cy="18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5130720" y="1662120"/>
            <a:ext cx="3544920" cy="18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Picture 11" descr="imagesCAJNDZEQ.jpg"/>
          <p:cNvPicPr/>
          <p:nvPr/>
        </p:nvPicPr>
        <p:blipFill>
          <a:blip r:embed="rId3"/>
          <a:stretch/>
        </p:blipFill>
        <p:spPr>
          <a:xfrm>
            <a:off x="446040" y="4984920"/>
            <a:ext cx="1376280" cy="17208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3"/>
          <p:cNvSpPr/>
          <p:nvPr/>
        </p:nvSpPr>
        <p:spPr>
          <a:xfrm>
            <a:off x="1600920" y="5529240"/>
            <a:ext cx="62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we need both pathwa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39E1F-419E-4347-AA34-5AC756C6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771560" y="1305000"/>
            <a:ext cx="5600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Calligraphy"/>
              </a:rPr>
              <a:t>In  these pathway, two features deserve to men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, there is evidence, especially in the de novo purine pathway,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nzymes are present as large, multienzyme complexes in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, the cellular pools of nucleotides (other than ATP) are quite small, 1% or less of the amounts required to synthesize the cell’s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cells must continue to synthesize nucleotides, and in some cases nucleotide synthesis may limit the rates of DNA replication and transcrip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FA675-256B-4060-903E-F55FE8F27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5"/>
          <p:cNvSpPr/>
          <p:nvPr/>
        </p:nvSpPr>
        <p:spPr>
          <a:xfrm>
            <a:off x="457200" y="5172120"/>
            <a:ext cx="8229600" cy="1179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cause of the importance of these processes in dividing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agents that inhibit nucleotide synthesis have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articularly important 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to modern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7118280" y="5396040"/>
            <a:ext cx="1568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Denovo Purine 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701AE-62ED-4003-88D3-B8CF852CD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two parent purine nucleotides of nucleic acids are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adenosine 5-monophosphate (A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and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guanosine 5-monophosphate (G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origin of the carbon and nitrogen atoms of the purine ring system, as determined by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John Buchana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using isotopic tracer experiments in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tretch/>
        </p:blipFill>
        <p:spPr>
          <a:xfrm>
            <a:off x="954000" y="3990960"/>
            <a:ext cx="4267440" cy="22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Synthesis of Inosine Monophosphate (I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Basic pathway for biosynthesis of purine ribo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Starts from ribose-5-phosphate which is derived from the pentose phosphate path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Requires 11 steps over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occurs primarily in the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0C6E7-28EB-434C-BA12-53672AE58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creen Shot 2012-10-08 at 8.32.36 PM.png"/>
          <p:cNvPicPr/>
          <p:nvPr/>
        </p:nvPicPr>
        <p:blipFill>
          <a:blip r:embed="rId1"/>
          <a:stretch/>
        </p:blipFill>
        <p:spPr>
          <a:xfrm>
            <a:off x="5667480" y="3692520"/>
            <a:ext cx="2158920" cy="198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3:25:59Z</dcterms:created>
  <dc:creator>i Mac</dc:creator>
  <dc:description/>
  <dc:language>en-US</dc:language>
  <cp:lastModifiedBy>Administrator</cp:lastModifiedBy>
  <dcterms:modified xsi:type="dcterms:W3CDTF">2012-10-15T07:55:14Z</dcterms:modified>
  <cp:revision>56</cp:revision>
  <dc:subject/>
  <dc:title>Nucleotide Metabolism -Biosynthesis-   Dr. Sooad Al-Daihan</dc:title>
</cp:coreProperties>
</file>