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D8C67-1A9B-4C56-B4B5-B760F951E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4EB34-82E6-4091-9E49-25898F776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B11F1-20C7-4F46-82A6-9B5270E30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82E81-881F-43E3-BD34-FD03F57803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83BA5-5CF2-41AE-969D-AB16FA0D4F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87F4C-8EE9-4565-925B-954B4A384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1CE89-AC3E-4529-AC24-A6ED978F6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48222-8BDB-4762-8824-52F7CEFCEA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148DC-68AF-46A1-978F-CC34201FD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E8A87-0F58-4F5B-BCA9-5F0CEB9A0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5B08D-4448-41AD-97DD-936DCA4E0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8FF63-0A92-4A77-A6B7-F76CEE82C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42E29-B872-4460-A664-95E3ACB78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125C6-27EC-4193-A3BD-3A0D12CEB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DAD2D-5E01-4ACB-914D-73424493BB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A9FC1-D693-4BBB-BD48-53F746A683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FDBA1-40B9-4611-BDAB-13D390F104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09E-D3B1-4091-8B80-8E52388E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101-4067-4390-8FE4-61195851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41E73-881B-4953-B0AB-12788296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E65AC-86DB-41B0-BAFD-F498923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09B9-6EE3-46A8-B28B-7921579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CF8FA-39D2-4783-B37B-76292FD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8ABE-4FC1-4D01-B7E0-678EBEC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319D9-B49E-4865-B108-FB61958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5348-D13C-4331-9D89-9CF0F95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1BA15-0907-4C53-86C9-0944C085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A46A4-80B9-4B81-94EA-26C02A75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EC9CA-EB12-43D4-BA59-7EAF21DE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0C1-318E-42C4-9EF1-A046076A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CB55B-C31E-426E-9B4E-416A25AF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25888-E1CD-4B91-B388-DE8E57F0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E95EE-9EA4-46FA-BC2D-78D676C0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97A68-B365-4271-B59C-14B01865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7FB42-B2BF-427F-9946-C7D74C4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AAD3B-C7ED-491C-BFB4-5E9FBD9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997AF-0F04-4918-B2A0-302EC09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8CFC4-EE39-4FF0-B060-6D8BA92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B7BB-8B9A-4210-8614-5CA7EB6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95AA9-D18F-49FA-AA43-8845220F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20C-6250-4850-BDD7-7A709BB9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F4C12-6616-4B67-953E-9BB15FBD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7CBAC-EBFE-46E9-BAAF-8A72A354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C4047-5E12-4573-A756-F1638BC0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5872E-9415-4C61-8BFE-ED1B8AA4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787A-3CE6-48AA-9EE4-F2A522D0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761C-ACC9-430A-B971-5D9B0E29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C069-3C6E-4C86-B997-BA71A2A1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9608-1CD2-4AF1-84BE-1F4A5CB4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EEC40-AD6B-4BEC-AEDF-141B4E59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1D78-DF11-43C4-8452-84D3914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573C-B1B6-4114-B38A-2B8BF417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BFAF1-0AE8-45B5-A38F-3D778B18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0E9F1-8D51-40E1-BCCC-9BAAC2E6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BFAB1-7B80-4CA7-8BE1-B1E709FD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6884C-40C0-41DC-B394-00F66AF5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2933F-C67A-4B81-B4FD-5EB294F6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F984-0D21-46C1-8ADD-EB3DE65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B93BB-E413-4804-AA16-64A272C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CDF5B-CD29-4F39-925F-0C0C27F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A5F67-9D5E-47C8-8FF0-15610CF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9882D-2856-401D-9CC3-BE2D823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F25-0BC6-4917-842A-72FD3F1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18A61-36A8-4995-AB3B-61173B9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669E0-879C-4229-BD4C-69FB306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C8790-399D-475A-B398-25F982C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1FE7F-7BF6-4F47-9CFB-6749D1C8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3B00D-6224-4235-87AB-F848EF96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64D-46DA-4E66-9947-8A2ADC59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E19-59E9-469F-9FB4-39BBBEC3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60E-B972-4F68-A9B9-9EF8D115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42FA-414A-4A48-9542-FEA5FDD3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4A7-606E-4444-9E55-65D5259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DB1-933F-4818-B08C-C125DA1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F56D-6EF9-46E6-BA6C-1BE2F26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6C26-EBE6-4ABA-B07C-50550405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9A65-223B-4E7C-8E64-99C51E5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4142-9DDD-4B5B-B58A-F02E287B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6F6D-E0E2-4128-AD78-D82B02DC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2122-0E09-4684-B4C5-66586182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CF1E-9322-402D-B7F9-451E1F1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38AF-DC2F-4092-9F35-A484C045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D031-6D62-4D9B-A978-EF21BDBD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C9A6-84FD-4862-AE28-EA04AA67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7D9-EE68-40FF-BDD1-D4152CD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0834-9932-4D7F-B3F4-8FA252E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1A0A-C425-43C2-9CAA-00727E4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F1B7-8472-4927-B9ED-65FF203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8BDA-22B0-4813-8F38-AE1B7F1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FFE3-7969-403E-9D28-46FA433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C447-50FA-4BCE-B292-E26AAA6C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C091-E46E-4ED2-84B4-22D487AC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5CF5-BFCF-4460-B779-D2D15AF7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B40F-E707-486C-AB46-EA63CDED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F056-0141-4118-8E63-DBABC03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A93-275E-4C21-A4FE-2AC7830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5518-B45A-48F3-8CE4-EA7EDD2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6719D-F876-4DB4-979E-9103CB4B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5A59-8784-41C0-83D8-3FFF7E0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34DB-B83A-47DC-A1B1-F959C59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2B20-34B7-4314-99D3-CBFE879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0375-FBDE-46F8-823D-E8EAD87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BD9E-2380-4F06-9BAF-5A5B427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B019-7E64-41FE-B418-485BB3BF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FC8B-114F-4C87-9356-8CCA9B37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E95A-4DF3-4553-A26D-C9C4F607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38C-42EE-44B8-92DB-8A3789B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3ACA-E5D5-405D-9D60-C9B09B81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EAE9-92AF-425A-A60F-5F29A8D0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2A93E-D926-485C-A372-0B173A5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94126-6D20-4688-9FFE-B0C31A4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7D1C-77B3-4F93-A102-9C95C8B2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26B8-F434-4D03-8139-A087947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133A-7C23-443E-BB1F-C554AFF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C5E4-6222-4639-9149-D8F81A0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B2AC-4131-4728-A4F1-C8A9301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41EE-92B2-4BB8-9BDB-083DD3D5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1C5-1017-43B9-96E7-9E1B2916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A8A3-46A0-4066-A1AA-2066F157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B4A1-570D-4821-9DF8-1B74B1C6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D5A5-0000-4B1B-B9B8-0F717311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968B-3692-499F-910A-CAEBED86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E20B1-0E5E-409D-A6E2-D48DA804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61B5-FB0D-4486-B94C-23762C0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CAD4-F7E6-4288-8512-5E47276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EF87-B6FF-4891-8A2B-1DD0B14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8DA0-0181-4659-B88D-A15D072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C08B-B9DC-4DAC-A7BC-CB7069EF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21-AA30-46AC-ABEB-EE46B17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3B95B-4049-4789-B7DA-AEB01B0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C7BF-202A-443F-8B5E-F0A8D44E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F50C-F920-4507-BA44-5A182B4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C9CE-9FB2-4736-854B-917DE1D8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CD52-7403-4F8C-B88F-83EBA9DB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12F79-0A68-4279-B505-F660983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C5EF2-C7D3-4CDA-A954-2BA860FA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20F62-FF76-4F6D-BD45-9B6364A2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1646-1F85-48F6-971E-940FE34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CEDB-5489-471E-9AAF-8F073DF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D21-812F-437B-B385-98F5A20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29AC-CD4F-4558-9B80-EE8E3BC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09B9-6A68-42B2-A761-F0D053B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E100-A0A5-40F4-9BC0-69EDA72F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0A1F-4952-4FC5-A7CB-C8918AE4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6825-A6C4-4108-8C28-D414CC41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6D71-00CA-415F-BBAD-E1644650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3D86C-28E8-4980-83FB-88D2FC3A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E7323-5A05-4726-912D-AB89D6D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CFFBC-6581-4E82-BB73-E3760CB9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A680-5801-4FE1-A60E-F4C73B39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640-963B-4193-A7DC-67015AE5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9F413-0F5E-4124-87EA-24AA11AF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709E-494D-43D8-AF13-3E9D2EC4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82E7-3244-4855-AC1B-A0CA864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997CC-DBF4-4EC3-B85D-D0FEDEF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FDED-D051-4DD7-BF6B-F333AA57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7E8B-F219-4AD1-8506-1F2E5C15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21FAD-212B-47DF-8298-251791B7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071D-845C-4DBA-95E2-1E7C6A79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7FBA7-502E-4FC4-A0EB-AD956786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8FFA8-EB83-4A30-B870-4CA6BEAD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3791D-842F-4391-82A8-0FF62D35311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AE930-C30A-4635-9FD1-4B8C4D4E49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16C50-28C3-4977-A2AE-2D9A64A04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5A25C-289F-4438-A62D-42ACCA72C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5F1F5-E28B-45D2-AC43-ECBEBA8E3A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54ACB-A9D9-481C-84EB-DDD6015C9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E0DF5-AB89-476A-8648-0AADC959EF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2FD96-742B-48BE-8A65-2C711DD54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7C53C-BF66-4220-B5CF-BF722CA08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818D1-E700-45B8-829C-9C44A0A1A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925EA-DA47-4862-BA85-AD0E0F0F7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F867F-0824-43DE-90C9-8D281035F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43835-20E2-4E75-B8AE-52DDEB0F91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6EC3B-D832-480C-903F-A38C530EB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941DB-3E5C-4649-8961-65FEAC5F61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3BCA-AA2D-46C1-8E1A-051B8386D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9DF43-2749-452B-8A02-6664BBA48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B216F-980D-4663-AB17-6C0E13922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00ED4-C79E-47F3-B6D4-66D7F4258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07C9D-B63B-429B-BB1E-A3767553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FEBCA-67C5-49EE-914B-4CDE8178B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31485-55EB-4B5A-9B33-932081361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44AD4-6406-4DB6-B842-25C5895C1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2DAAA-FA97-4CD7-85A8-410826669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medicine.com/neuro/images/681MissingFingers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811760"/>
            <a:ext cx="777240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 Metabolism</a:t>
            </a:r>
            <a:br>
              <a:rPr sz="4400"/>
            </a:br>
            <a:r>
              <a:rPr b="1" lang="en-US" sz="4400" spc="-1" strike="noStrike">
                <a:solidFill>
                  <a:srgbClr val="9933ff"/>
                </a:solidFill>
                <a:latin typeface="Cambria"/>
                <a:ea typeface="Arial"/>
              </a:rPr>
              <a:t>-Biosynthesis-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A239B-E2E8-4226-A37D-8C9359A7F9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304920"/>
            <a:ext cx="2927520" cy="2057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BioLogo2small"/>
          <p:cNvPicPr/>
          <p:nvPr/>
        </p:nvPicPr>
        <p:blipFill>
          <a:blip r:embed="rId2"/>
          <a:stretch/>
        </p:blipFill>
        <p:spPr>
          <a:xfrm>
            <a:off x="6977160" y="874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77920" y="328680"/>
            <a:ext cx="91440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tivation of ribose-5-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purin1"/>
          <p:cNvPicPr/>
          <p:nvPr/>
        </p:nvPicPr>
        <p:blipFill>
          <a:blip r:embed="rId1"/>
          <a:stretch/>
        </p:blipFill>
        <p:spPr>
          <a:xfrm>
            <a:off x="2581200" y="2265480"/>
            <a:ext cx="6042240" cy="1774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7369200" y="1084320"/>
            <a:ext cx="947880" cy="1511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277920" y="4410000"/>
            <a:ext cx="7603920" cy="1736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Ribose phosphate pyrophosphokin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5-phosphoribosyl-a-pyrophosphate (PRP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PRPP is also a precursor in the biosynthesis of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pyrimid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nucleotides and the amino acids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histidin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&amp;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This step is tightly regulated by feedback in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18600" y="500040"/>
            <a:ext cx="69915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2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purine atom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purin2"/>
          <p:cNvPicPr/>
          <p:nvPr/>
        </p:nvPicPr>
        <p:blipFill>
          <a:blip r:embed="rId1"/>
          <a:stretch/>
        </p:blipFill>
        <p:spPr>
          <a:xfrm>
            <a:off x="5511960" y="1413000"/>
            <a:ext cx="3319200" cy="3390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3" name="Rectangle 2"/>
          <p:cNvSpPr/>
          <p:nvPr/>
        </p:nvSpPr>
        <p:spPr>
          <a:xfrm>
            <a:off x="318960" y="4941720"/>
            <a:ext cx="8650440" cy="19227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n this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committed ste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, an amino group donated by glutamine is attached      at C-1 of PR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midophosphoribosyl transfe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Product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Resulting in the formation of </a:t>
            </a: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5-phosphoribosylam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http://josephdevon.com/wp-content/uploads/thinking-guy.jpg"/>
          <p:cNvPicPr/>
          <p:nvPr/>
        </p:nvPicPr>
        <p:blipFill>
          <a:blip r:embed="rId2"/>
          <a:stretch/>
        </p:blipFill>
        <p:spPr>
          <a:xfrm>
            <a:off x="0" y="2384280"/>
            <a:ext cx="2705040" cy="2697480"/>
          </a:xfrm>
          <a:prstGeom prst="rect">
            <a:avLst/>
          </a:prstGeom>
          <a:ln w="0">
            <a:noFill/>
          </a:ln>
        </p:spPr>
      </p:pic>
      <p:sp>
        <p:nvSpPr>
          <p:cNvPr id="545" name="Rounded Rectangular Callout 6"/>
          <p:cNvSpPr/>
          <p:nvPr/>
        </p:nvSpPr>
        <p:spPr>
          <a:xfrm>
            <a:off x="2233440" y="1736640"/>
            <a:ext cx="2813400" cy="890640"/>
          </a:xfrm>
          <a:prstGeom prst="wedgeRoundRectCallout">
            <a:avLst>
              <a:gd name="adj1" fmla="val -63222"/>
              <a:gd name="adj2" fmla="val 11349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hat is the properties of committe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8037360" y="485640"/>
            <a:ext cx="79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78912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Step 3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cquisition of purine atoms C4, C5, and N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purin3"/>
          <p:cNvPicPr/>
          <p:nvPr/>
        </p:nvPicPr>
        <p:blipFill>
          <a:blip r:embed="rId1"/>
          <a:stretch/>
        </p:blipFill>
        <p:spPr>
          <a:xfrm>
            <a:off x="5775480" y="1940040"/>
            <a:ext cx="3073320" cy="315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9" name="Rectangle 1"/>
          <p:cNvSpPr/>
          <p:nvPr/>
        </p:nvSpPr>
        <p:spPr>
          <a:xfrm>
            <a:off x="371520" y="5184720"/>
            <a:ext cx="8286840" cy="11912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Phosphoribosylamine reacts with ATP and glycine to produce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glycinamide ribonucleotide (G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Glycinamide synthet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7899480" y="789120"/>
            <a:ext cx="949320" cy="15112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6735600" y="3287880"/>
            <a:ext cx="47880" cy="23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57240" y="297000"/>
            <a:ext cx="53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C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Formylation of free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amino group of 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GAR transformyl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Co-factor of enzyme 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  <a:ea typeface="Perpetu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formyl TH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5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N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The amide amino group of a second glutamine is transferred to form formylglycinamidin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(FGA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FGAM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6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Closing the 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Closing of the imidazole ring or formation of 5-aminoimidazol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(AI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AIR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Screen Shot 2012-10-08 at 9.23.12 PM.png"/>
          <p:cNvPicPr/>
          <p:nvPr/>
        </p:nvPicPr>
        <p:blipFill>
          <a:blip r:embed="rId1"/>
          <a:srcRect l="1514" t="0" r="0" b="-1092"/>
          <a:stretch/>
        </p:blipFill>
        <p:spPr>
          <a:xfrm>
            <a:off x="5654520" y="841320"/>
            <a:ext cx="3122640" cy="56404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5862600" y="17604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55120" y="923400"/>
            <a:ext cx="458316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7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C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purin7"/>
          <p:cNvPicPr/>
          <p:nvPr/>
        </p:nvPicPr>
        <p:blipFill>
          <a:blip r:embed="rId1"/>
          <a:stretch/>
        </p:blipFill>
        <p:spPr>
          <a:xfrm>
            <a:off x="1127160" y="2224080"/>
            <a:ext cx="7345440" cy="18162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7" name="Rectangle 5"/>
          <p:cNvSpPr/>
          <p:nvPr/>
        </p:nvSpPr>
        <p:spPr>
          <a:xfrm>
            <a:off x="254160" y="4629240"/>
            <a:ext cx="8588160" cy="16444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6 is introduced a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reaction is driven by hydrolysi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IR carboxylase (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rboxyl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IR (carboxy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7472520" y="1290600"/>
            <a:ext cx="831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1560" y="223920"/>
            <a:ext cx="520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8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N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1 is acquired from aspartate in an amide condensation reaction that is driven by hydrolysis of ATP to produce 5-aminoimidazole-4-(N-succinylocarboxamide)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SAICA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ICAR synthet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9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imination of fumarate by the action of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denylosuccinate ly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produce 5-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10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other formylation reaction catalyzed by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ICAR transform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results in the formation of 5-formyl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F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Screen Shot 2012-10-08 at 10.48.43 PM.png"/>
          <p:cNvPicPr/>
          <p:nvPr/>
        </p:nvPicPr>
        <p:blipFill>
          <a:blip r:embed="rId1"/>
          <a:stretch/>
        </p:blipFill>
        <p:spPr>
          <a:xfrm>
            <a:off x="5519880" y="223920"/>
            <a:ext cx="3341520" cy="64339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8193240" y="0"/>
            <a:ext cx="6681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Biochemistry in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332D7-DA33-4EDD-BECF-8AE187474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66880" y="2576520"/>
            <a:ext cx="7819920" cy="22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pendence of purine biosynthesis on folic acid compounds at Steps 4 and 10 means that antagonists of folic acid metabolism indirectly inhibit purine formation and, in turn, nucleic acid synthesis, cell growth, and cell div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early, rapidly dividing cells such as malignancies or infective bacteria are more susceptible to these antagonists than slower-growing normal cell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7289640" y="4295880"/>
            <a:ext cx="1683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8280" y="54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yclization or ring clo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purin11"/>
          <p:cNvPicPr/>
          <p:nvPr/>
        </p:nvPicPr>
        <p:blipFill>
          <a:blip r:embed="rId1"/>
          <a:stretch/>
        </p:blipFill>
        <p:spPr>
          <a:xfrm>
            <a:off x="5153040" y="1117440"/>
            <a:ext cx="2984400" cy="3789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8" name="Rectangle 4"/>
          <p:cNvSpPr/>
          <p:nvPr/>
        </p:nvSpPr>
        <p:spPr>
          <a:xfrm>
            <a:off x="555480" y="5254560"/>
            <a:ext cx="79981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Water is eliminated by the action of inosine monophosphate (IMP) synt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In contrast to step 6 (closure of the imidazole ring), this reaction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MS PGothic"/>
              </a:rPr>
              <a:t>does not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require ATP hydroly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Once IMP is formed, it is rapidly converted to AMP and GM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719840" y="546120"/>
            <a:ext cx="833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Biosynthesis of AMP and GMP from IMP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F7598-6081-4492-AFAB-03B51D4D2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495360" y="1128600"/>
            <a:ext cx="8153280" cy="507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2"/>
          <p:cNvSpPr/>
          <p:nvPr/>
        </p:nvSpPr>
        <p:spPr>
          <a:xfrm>
            <a:off x="415800" y="243000"/>
            <a:ext cx="836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Cambria"/>
              </a:rPr>
              <a:t>Purine nucleotide biosynthesis is regulated by feedbac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14"/>
          <p:cNvSpPr/>
          <p:nvPr/>
        </p:nvSpPr>
        <p:spPr>
          <a:xfrm>
            <a:off x="185760" y="5475240"/>
            <a:ext cx="6029280" cy="123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The significance of regulation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Fulfill the need of the body,  without was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G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=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A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5245200" y="1496880"/>
            <a:ext cx="353700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Calligraphy"/>
              </a:rPr>
              <a:t>Significances of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856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precursors of DNA and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the energy currency in metabolic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componen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Cofacto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NAD, FAD, S-adenosylmethionine, and coenzy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Activated biosynthetic intermediate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UDP-glucose and CDP-diacylglyc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Second messenge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cAMP and 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765A1-6BC6-4640-9E23-C504B27E7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5200" y="2318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alvage Pathway of 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5200" y="82188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wo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osphoribosyl transferas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re involved in this pathwa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denos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APR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nl-NL" sz="2000" spc="-1" strike="noStrike">
                <a:solidFill>
                  <a:srgbClr val="0000ff"/>
                </a:solidFill>
                <a:latin typeface="Perpetua"/>
              </a:rPr>
              <a:t>Adenine + PRPP                           A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poxanthine-guan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HGP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ypoxanthine + PRPP                           I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uanine + PRPP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                   G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Straight Arrow Connector 4"/>
          <p:cNvCxnSpPr/>
          <p:nvPr/>
        </p:nvCxnSpPr>
        <p:spPr>
          <a:xfrm>
            <a:off x="2679480" y="2488680"/>
            <a:ext cx="1114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9" name="Straight Arrow Connector 7"/>
          <p:cNvCxnSpPr/>
          <p:nvPr/>
        </p:nvCxnSpPr>
        <p:spPr>
          <a:xfrm>
            <a:off x="3114360" y="415260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Straight Arrow Connector 8"/>
          <p:cNvCxnSpPr/>
          <p:nvPr/>
        </p:nvCxnSpPr>
        <p:spPr>
          <a:xfrm>
            <a:off x="3130200" y="355896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1" name="Rounded Rectangular Callout 11"/>
          <p:cNvSpPr/>
          <p:nvPr/>
        </p:nvSpPr>
        <p:spPr>
          <a:xfrm>
            <a:off x="6249960" y="1712880"/>
            <a:ext cx="2789280" cy="776160"/>
          </a:xfrm>
          <a:prstGeom prst="wedgeRoundRectCallout">
            <a:avLst>
              <a:gd name="adj1" fmla="val -64041"/>
              <a:gd name="adj2" fmla="val -5583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A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 is not very important because it generate little ade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ounded Rectangular Callout 12"/>
          <p:cNvSpPr/>
          <p:nvPr/>
        </p:nvSpPr>
        <p:spPr>
          <a:xfrm>
            <a:off x="6249960" y="3559320"/>
            <a:ext cx="2685960" cy="776160"/>
          </a:xfrm>
          <a:prstGeom prst="wedgeRoundRectCallout">
            <a:avLst>
              <a:gd name="adj1" fmla="val -37750"/>
              <a:gd name="adj2" fmla="val -71254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HG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, is exceptionally important and it is inhibited by both IMP and G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951280" y="4699080"/>
            <a:ext cx="3313080" cy="184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4" name="Minus 9"/>
          <p:cNvSpPr/>
          <p:nvPr/>
        </p:nvSpPr>
        <p:spPr>
          <a:xfrm rot="5400000">
            <a:off x="3595320" y="3422520"/>
            <a:ext cx="397080" cy="272880"/>
          </a:xfrm>
          <a:custGeom>
            <a:avLst/>
            <a:gdLst>
              <a:gd name="textAreaLeft" fmla="*/ 52560 w 397080"/>
              <a:gd name="textAreaRight" fmla="*/ 344520 w 3970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6875" h="273050">
                <a:moveTo>
                  <a:pt x="52606" y="104414"/>
                </a:moveTo>
                <a:lnTo>
                  <a:pt x="344269" y="104414"/>
                </a:lnTo>
                <a:lnTo>
                  <a:pt x="344269" y="168636"/>
                </a:lnTo>
                <a:lnTo>
                  <a:pt x="52606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inus 10"/>
          <p:cNvSpPr/>
          <p:nvPr/>
        </p:nvSpPr>
        <p:spPr>
          <a:xfrm rot="5400000">
            <a:off x="3596400" y="4017240"/>
            <a:ext cx="395280" cy="272880"/>
          </a:xfrm>
          <a:custGeom>
            <a:avLst/>
            <a:gdLst>
              <a:gd name="textAreaLeft" fmla="*/ 52200 w 395280"/>
              <a:gd name="textAreaRight" fmla="*/ 343080 w 3952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5288" h="273050">
                <a:moveTo>
                  <a:pt x="52395" y="104414"/>
                </a:moveTo>
                <a:lnTo>
                  <a:pt x="342893" y="104414"/>
                </a:lnTo>
                <a:lnTo>
                  <a:pt x="342893" y="168636"/>
                </a:lnTo>
                <a:lnTo>
                  <a:pt x="52395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1353600"/>
            <a:ext cx="86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utations in genes that encode nucleotide biosynthetic enzymes can reduce levels of needed nucleotides and can lead to an accumulation of intermedi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Perpetua"/>
              </a:rPr>
              <a:t>Lesch-Nyhan syndrome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mpulsive self-destructive behavio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caused b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deficienc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poxanthine-guanine phosphoribosyltransferase </a:t>
            </a:r>
            <a:r>
              <a:rPr b="1" lang="en-US" sz="2200" spc="-1" strike="noStrike">
                <a:solidFill>
                  <a:srgbClr val="830ffc"/>
                </a:solidFill>
                <a:latin typeface="Perpetua"/>
              </a:rPr>
              <a:t>(HGPRT)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f salvage pathway, The disease is inherited as a sex-linked recessive dis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the absence of HGPRT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, PRPP levels ris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d purines are overproduced by the de novo pathway, resulting in high levels of uric acid production and gout-like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damage to tissu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The brain is especiall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pendent on the salvage pathways, and this may account for the central nervous system damage in children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with Lesch-Nyhan syndr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3" descr="athome"/>
          <p:cNvPicPr/>
          <p:nvPr/>
        </p:nvPicPr>
        <p:blipFill>
          <a:blip r:embed="rId1"/>
          <a:stretch/>
        </p:blipFill>
        <p:spPr>
          <a:xfrm>
            <a:off x="5297400" y="4791240"/>
            <a:ext cx="2127240" cy="2189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681MissingFing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86640" y="5237280"/>
            <a:ext cx="1828800" cy="1693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49360" y="382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      </a:t>
            </a: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4"/>
          <a:stretch/>
        </p:blipFill>
        <p:spPr>
          <a:xfrm>
            <a:off x="324000" y="201600"/>
            <a:ext cx="15699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AF56A-C7A7-45A4-A091-6E440EB0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232000" y="1074600"/>
            <a:ext cx="43210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56340-3CFC-4291-B66A-5DCB76E51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879480" y="1650960"/>
            <a:ext cx="738360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7772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 a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hor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athway than for pur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The base is made firs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then attached to ribose-P (unlike purine biosynthe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6 step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instead of 11 for puri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i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UM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uridine monophospha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Only 2 precursor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aspartate and glutamine, plu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contribute to the 6-membered 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9" descr="40-4                                                           00001607Macintosh HD                   ABA78158:"/>
          <p:cNvPicPr/>
          <p:nvPr/>
        </p:nvPicPr>
        <p:blipFill>
          <a:blip r:embed="rId1"/>
          <a:stretch/>
        </p:blipFill>
        <p:spPr>
          <a:xfrm>
            <a:off x="5937120" y="4788000"/>
            <a:ext cx="2921040" cy="179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10"/>
          <p:cNvSpPr/>
          <p:nvPr/>
        </p:nvSpPr>
        <p:spPr>
          <a:xfrm>
            <a:off x="2971800" y="342900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4"/>
          <p:cNvSpPr/>
          <p:nvPr/>
        </p:nvSpPr>
        <p:spPr>
          <a:xfrm flipV="1">
            <a:off x="2971800" y="3428640"/>
            <a:ext cx="0" cy="16765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"/>
          <p:cNvSpPr/>
          <p:nvPr/>
        </p:nvSpPr>
        <p:spPr>
          <a:xfrm>
            <a:off x="2971800" y="510552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7"/>
          <p:cNvSpPr/>
          <p:nvPr/>
        </p:nvSpPr>
        <p:spPr>
          <a:xfrm flipV="1">
            <a:off x="380988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3809880" y="297180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V="1">
            <a:off x="502920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denovo pyrimidine synthesis"/>
          <p:cNvPicPr/>
          <p:nvPr/>
        </p:nvPicPr>
        <p:blipFill>
          <a:blip r:embed="rId1"/>
          <a:srcRect l="3057" t="18118" r="2007" b="8561"/>
          <a:stretch/>
        </p:blipFill>
        <p:spPr>
          <a:xfrm>
            <a:off x="671400" y="1776240"/>
            <a:ext cx="7899480" cy="45054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1280" y="2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671400" y="111276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3120" y="603360"/>
            <a:ext cx="8632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Nucleotide Mono-, Di-, and Triphosphates Are Interconver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"/>
          <p:cNvSpPr/>
          <p:nvPr/>
        </p:nvSpPr>
        <p:spPr>
          <a:xfrm>
            <a:off x="303120" y="1839960"/>
            <a:ext cx="828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How is the other major pyrimidine ribonucleotide, cytidine, 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synthesized from the uracil base of UMP, but UMP is converted  into UTP before the synthesis can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i and triphosphates are the active forms of nucleotides in biosynthesis and energy conver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63918-286B-4DAB-8BF8-50EBBCD3D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457200" y="173340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monophosphates are converted into nucleoside triphosphates in s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First,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nucleoside monophosphates are converted into diphosphates by specific  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monophosphate kinas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hat utilize ATP as the phosphoryl-group donor.    </a:t>
            </a:r>
            <a:r>
              <a:rPr b="1" lang="en-US" sz="2200" spc="-1" strike="noStrike">
                <a:solidFill>
                  <a:srgbClr val="c00000"/>
                </a:solidFill>
                <a:latin typeface="Perpetua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P + ATP                         UDP +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Second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diphosphates and triphosphates are interconverted by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diphosphate kinas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 enzyme that h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broad specificity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in contrast with the monophosphate kin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DP + YTP                              XTR + Y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884760" y="3514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UMP k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5"/>
          <p:cNvCxnSpPr/>
          <p:nvPr/>
        </p:nvCxnSpPr>
        <p:spPr>
          <a:xfrm>
            <a:off x="3884400" y="3884400"/>
            <a:ext cx="1470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Straight Arrow Connector 10"/>
          <p:cNvCxnSpPr/>
          <p:nvPr/>
        </p:nvCxnSpPr>
        <p:spPr>
          <a:xfrm>
            <a:off x="3146400" y="5524200"/>
            <a:ext cx="22089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6" name="TextBox 11"/>
          <p:cNvSpPr/>
          <p:nvPr/>
        </p:nvSpPr>
        <p:spPr>
          <a:xfrm>
            <a:off x="2738520" y="5232240"/>
            <a:ext cx="28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nucleoside diphosphate ki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6AE69-9D4D-4DAD-92DA-8E8020C16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CTP Is Formed by Amination of U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457200" y="141768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fter uridine triphosphate has been formed, it can be transformed into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cytidine triphosphat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y the replacement of a carbonyl group by an amino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reaction requires ATP and uses glutamine as the source of the amino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CTP can be used then in many biochemical processes, including RNA synthes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2266920" y="4317840"/>
            <a:ext cx="503892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hymidylate Is Formed by the Methylation of Deoxyuridy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1F58F-A5E8-4C7A-A5C5-AAFA01B71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457200" y="179388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racil, produced by the pyrimidine synthesis pathway, is not a component of    DNA. Rather, DNA contains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thymin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methylated analog of urac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other step is required to generate thymidylate from uracil.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hymidylate synthase catalyz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ep -deoxyuridylate (dUMP) is methylated to thymidylate (TM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ethylation of this nucleotide facilitates the identification of DNA damage for repair and, hence, helps preserve the integrity of the genetic information stored in D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Overview of Nucleotid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5E08B-A562-4AA6-9427-4D4D424D2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70040" y="1744560"/>
            <a:ext cx="7602480" cy="443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9CCCE-2E75-4C10-AAD7-AF29A58C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4"/>
          <p:cNvSpPr/>
          <p:nvPr/>
        </p:nvSpPr>
        <p:spPr>
          <a:xfrm>
            <a:off x="272880" y="5248440"/>
            <a:ext cx="8871120" cy="95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nversion of dUMP to dTMP by thymidylate synthase and dihydrofolate reductase. In the synthesis of dTMP, all three hydrogens of the added methyl group are derived from the 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,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-methylenetetrahydrofolate, as shown in red and g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5213520" y="447840"/>
            <a:ext cx="33066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4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rotic acidu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BBD2B-D717-4C4E-8F77-0E29CC080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220680" y="1163520"/>
            <a:ext cx="8215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cause the products of pyrimidine catabolism are soluble, few disorders result from excess levels of their synthesis or catabo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wo inherited disorders affecting pyrimidine biosynthesis are the result of deficiencies in the bifunctional enzyme catalyzing the last two steps of UMP synthesis, orotate phosphoribosyl transferase and OMP decarboxy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se deficiencies result in orotic aciduria that causes retarded growth, and severe anem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7731000" y="5297400"/>
            <a:ext cx="1241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Regulation of pyrimidine nucleotide bio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84240" y="2244600"/>
            <a:ext cx="44607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gulation of pyrimidine synthesis occurs mainly at the first step which is catalyzed by aspartate transcarbamoylase,  ATC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ed by CTP and activated by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4545000" y="2075040"/>
            <a:ext cx="4309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ounded Rectangle 16"/>
          <p:cNvSpPr/>
          <p:nvPr/>
        </p:nvSpPr>
        <p:spPr>
          <a:xfrm>
            <a:off x="457200" y="1246320"/>
            <a:ext cx="8229600" cy="43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RPP       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yrimidine                                               pyrimidine ribonucleoside  mono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yrimidine phosphoribos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ED3F2-DF8B-4D71-8B5B-D82AD0630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5"/>
          <p:cNvCxnSpPr/>
          <p:nvPr/>
        </p:nvCxnSpPr>
        <p:spPr>
          <a:xfrm>
            <a:off x="2120760" y="2295000"/>
            <a:ext cx="13550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39" name="رابط كسهم مستقيم 7"/>
          <p:cNvCxnSpPr/>
          <p:nvPr/>
        </p:nvCxnSpPr>
        <p:spPr>
          <a:xfrm flipV="1">
            <a:off x="2670120" y="1974600"/>
            <a:ext cx="31176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0" name="رابط كسهم مستقيم 8"/>
          <p:cNvCxnSpPr/>
          <p:nvPr/>
        </p:nvCxnSpPr>
        <p:spPr>
          <a:xfrm flipH="1" flipV="1">
            <a:off x="2341080" y="1974600"/>
            <a:ext cx="32904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1" name="عنصر نائب للمحتوى 2"/>
          <p:cNvSpPr/>
          <p:nvPr/>
        </p:nvSpPr>
        <p:spPr>
          <a:xfrm>
            <a:off x="457200" y="3713040"/>
            <a:ext cx="8229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PRPP       PPi                                  H+        CO2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Orotate                                                Orotidylate                                      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Orotate  phosphoribosyle                   Orotidylate deoxyl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رابط كسهم مستقيم 13"/>
          <p:cNvCxnSpPr/>
          <p:nvPr/>
        </p:nvCxnSpPr>
        <p:spPr>
          <a:xfrm>
            <a:off x="1838160" y="4328640"/>
            <a:ext cx="13536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3" name="رابط كسهم مستقيم 14"/>
          <p:cNvCxnSpPr/>
          <p:nvPr/>
        </p:nvCxnSpPr>
        <p:spPr>
          <a:xfrm flipH="1" flipV="1">
            <a:off x="2185560" y="4009680"/>
            <a:ext cx="3290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4" name="رابط كسهم مستقيم 15"/>
          <p:cNvCxnSpPr/>
          <p:nvPr/>
        </p:nvCxnSpPr>
        <p:spPr>
          <a:xfrm flipV="1">
            <a:off x="251460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5" name="رابط كسهم مستقيم 18"/>
          <p:cNvCxnSpPr/>
          <p:nvPr/>
        </p:nvCxnSpPr>
        <p:spPr>
          <a:xfrm>
            <a:off x="4730400" y="4328640"/>
            <a:ext cx="1353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6" name="رابط كسهم مستقيم 19"/>
          <p:cNvCxnSpPr/>
          <p:nvPr/>
        </p:nvCxnSpPr>
        <p:spPr>
          <a:xfrm flipH="1" flipV="1">
            <a:off x="5062320" y="4001400"/>
            <a:ext cx="32904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7" name="رابط كسهم مستقيم 20"/>
          <p:cNvCxnSpPr/>
          <p:nvPr/>
        </p:nvCxnSpPr>
        <p:spPr>
          <a:xfrm flipV="1">
            <a:off x="539064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Pyrimidine Salvage pathwa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A897C-D0A6-4CAA-A60A-275E9A8ECC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Part II-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s degradatio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11060-588D-4DAE-87CD-046D28154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108080" y="565200"/>
            <a:ext cx="6450120" cy="477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5" name="Rectangle 3"/>
          <p:cNvSpPr/>
          <p:nvPr/>
        </p:nvSpPr>
        <p:spPr>
          <a:xfrm>
            <a:off x="609480" y="5553000"/>
            <a:ext cx="80773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Purine nucleotides (AMP and  GMP) are degraded by a pathway in which they lose their phosphate through the action of </a:t>
            </a:r>
            <a:r>
              <a:rPr b="1" lang="en-US" sz="1800" spc="-1" strike="noStrike">
                <a:solidFill>
                  <a:srgbClr val="008000"/>
                </a:solidFill>
                <a:latin typeface="Comic Sans MS"/>
                <a:ea typeface="Perpetua"/>
              </a:rPr>
              <a:t>5’- nucleotid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,to form adenosine and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guanosine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33192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urine Metabolis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27040" y="1301760"/>
            <a:ext cx="7827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tic aberrations in human purine metabolism have been found, some with serious consequ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Severe combined immunodeficiency disease (SC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eficiency of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denosine deamin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ads to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which T lymphocytes and B lymphocytes do not develop proper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ck of ADA leads to a 100-fol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ellular concentration of dATP, a </a:t>
            </a:r>
            <a:r>
              <a:rPr b="1" lang="en-US" sz="2400" spc="-1" strike="noStrike">
                <a:solidFill>
                  <a:srgbClr val="800000"/>
                </a:solidFill>
                <a:latin typeface="Perpetua"/>
              </a:rPr>
              <a:t>strong inhibitor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ribonucleotide reductase involved in deoxynucleotide biosynthesis. The net effect is to inhibit DNA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7858080" y="5681520"/>
            <a:ext cx="99216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417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G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disease of the joints caused by an elevated concentrations of uric acid in the blood and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forms of gout are the result of excess purine production and consequent catabolism or to a partial deficiency in the salvage enzyme, HGP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Allpurinol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structural analog of hypoxanthine that strongly inhibit xanthine oxid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457200" y="274680"/>
            <a:ext cx="32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MS PGothic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7827840" y="5491080"/>
            <a:ext cx="1144800" cy="11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3"/>
          <p:cNvSpPr/>
          <p:nvPr/>
        </p:nvSpPr>
        <p:spPr>
          <a:xfrm>
            <a:off x="1490400" y="22716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  <a:ea typeface="MS PGothic"/>
              </a:rPr>
              <a:t>Catabolism of a pyrimi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515880" y="838080"/>
            <a:ext cx="778824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contrast to purines, pyrimidines undergo ring cleavage and the usual end products of catabolism are </a:t>
            </a:r>
            <a:r>
              <a:rPr b="1" lang="el-GR" sz="2200" spc="-1" strike="noStrike">
                <a:solidFill>
                  <a:srgbClr val="8c0aec"/>
                </a:solidFill>
                <a:latin typeface="Cambria"/>
              </a:rPr>
              <a:t>β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</a:rPr>
              <a:t>-amino acid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lus </a:t>
            </a:r>
            <a:r>
              <a:rPr b="1" lang="en-US" sz="2200" spc="-1" strike="noStrike">
                <a:solidFill>
                  <a:srgbClr val="e93bdd"/>
                </a:solidFill>
                <a:latin typeface="Perpetua"/>
              </a:rPr>
              <a:t>NH</a:t>
            </a:r>
            <a:r>
              <a:rPr b="1" lang="en-US" sz="2200" spc="-1" strike="noStrike" baseline="-25000">
                <a:solidFill>
                  <a:srgbClr val="e93bdd"/>
                </a:solidFill>
                <a:latin typeface="Perpetua"/>
              </a:rPr>
              <a:t>3</a:t>
            </a:r>
            <a:r>
              <a:rPr b="1" lang="en-US" sz="2200" spc="-1" strike="noStrike" baseline="30000">
                <a:solidFill>
                  <a:srgbClr val="e93bdd"/>
                </a:solidFill>
                <a:latin typeface="Perpetua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200" spc="-1" strike="noStrike">
                <a:solidFill>
                  <a:srgbClr val="800000"/>
                </a:solidFill>
                <a:latin typeface="Perpetua"/>
              </a:rPr>
              <a:t>CO</a:t>
            </a:r>
            <a:r>
              <a:rPr b="1" lang="en-US" sz="2200" spc="-1" strike="noStrike" baseline="-25000">
                <a:solidFill>
                  <a:srgbClr val="8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yrimidines from nucleic acids or the energy pool are acted upon by nucleotidases and pyrimidine nucleoside phosphorylase to yield the free b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4-amino group of both cytosine and 5-methyl cytosine is released as am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" descr="Screen Shot 2012-10-14 at 6.56.56 PM.png"/>
          <p:cNvPicPr/>
          <p:nvPr/>
        </p:nvPicPr>
        <p:blipFill>
          <a:blip r:embed="rId1"/>
          <a:stretch/>
        </p:blipFill>
        <p:spPr>
          <a:xfrm>
            <a:off x="963720" y="4718160"/>
            <a:ext cx="704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ff"/>
                </a:solidFill>
                <a:latin typeface="Cambria"/>
              </a:rPr>
              <a:t>Ring Cleav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45680" y="932040"/>
            <a:ext cx="844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In order for the rings (Cytosine and Thymine) to be cleaved, they must first be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Perpetua"/>
              </a:rPr>
              <a:t>reduced by NADP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Atoms 2 and 3 of both rings are released as ammonia and carbon diox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The rest of the ring is left as a beta-amino ac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mino isobutyrate from thymine or 5-methyl cytosine is largely excre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lanine from cytosine or uracil may either be excreted or incorporated into the brain and muscle dipeptides,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carnos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his-beta-ala) or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anser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methyl his-beta-al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D3DBE-7679-482C-8D3A-2DEFD3B62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Screen Shot 2012-10-14 at 6.56.56 PM.png"/>
          <p:cNvPicPr/>
          <p:nvPr/>
        </p:nvPicPr>
        <p:blipFill>
          <a:blip r:embed="rId1"/>
          <a:stretch/>
        </p:blipFill>
        <p:spPr>
          <a:xfrm>
            <a:off x="3743280" y="3938760"/>
            <a:ext cx="442584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Continue</a:t>
            </a: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62EE0-F6A5-4ACD-9700-28E172679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832040" y="1417680"/>
            <a:ext cx="572292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6040" y="2365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Lucida Calligraphy"/>
              </a:rPr>
              <a:t>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22515-601A-4B15-8F75-C5BB90A9C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46040" y="4060800"/>
            <a:ext cx="3513240" cy="95436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gins with their metabolic precursors: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amino acids, ribose 5-phosphate, 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, and 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5394240" y="4060800"/>
            <a:ext cx="3125880" cy="91692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cles the free bases and nucleosides released from nucleic acid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290520" y="1662120"/>
            <a:ext cx="3860640" cy="18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5130720" y="1662120"/>
            <a:ext cx="3544920" cy="18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Picture 11" descr="imagesCAJNDZEQ.jpg"/>
          <p:cNvPicPr/>
          <p:nvPr/>
        </p:nvPicPr>
        <p:blipFill>
          <a:blip r:embed="rId3"/>
          <a:stretch/>
        </p:blipFill>
        <p:spPr>
          <a:xfrm>
            <a:off x="446040" y="4984920"/>
            <a:ext cx="1376280" cy="17208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3"/>
          <p:cNvSpPr/>
          <p:nvPr/>
        </p:nvSpPr>
        <p:spPr>
          <a:xfrm>
            <a:off x="1600920" y="5529240"/>
            <a:ext cx="62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we need both pathwa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2B4FF-0256-4D28-AD8F-3BA4E2A40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771560" y="1305000"/>
            <a:ext cx="5600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Calligraphy"/>
              </a:rPr>
              <a:t>In  these pathway, two features deserve to men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, there is evidence, especially in the de novo purine pathway,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nzymes are present as large, multienzyme complexes in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, the cellular pools of nucleotides (other than ATP) are quite small, 1% or less of the amounts required to synthesize the cell’s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cells must continue to synthesize nucleotides, and in some cases nucleotide synthesis may limit the rates of DNA replication and transcrip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4CE72-9460-43C0-8752-F3245EA20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5"/>
          <p:cNvSpPr/>
          <p:nvPr/>
        </p:nvSpPr>
        <p:spPr>
          <a:xfrm>
            <a:off x="457200" y="5172120"/>
            <a:ext cx="8229600" cy="1179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cause of the importance of these processes in dividing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agents that inhibit nucleotide synthesis have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articularly important 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to modern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7118280" y="5396040"/>
            <a:ext cx="1568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Denovo Purine 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66395-6D8E-46C3-B922-74067BA08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two parent purine nucleotides of nucleic acids are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adenosine 5-monophosphate (A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and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guanosine 5-monophosphate (G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origin of the carbon and nitrogen atoms of the purine ring system, as determined by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John Buchana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using isotopic tracer experiments in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tretch/>
        </p:blipFill>
        <p:spPr>
          <a:xfrm>
            <a:off x="954000" y="3990960"/>
            <a:ext cx="4267440" cy="22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Synthesis of Inosine Monophosphate (I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Basic pathway for biosynthesis of purine ribo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Starts from ribose-5-phosphate which is derived from the pentose phosphate path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Requires 11 steps over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occurs primarily in the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C4B32-5B60-4D90-88C2-64D08BB79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creen Shot 2012-10-08 at 8.32.36 PM.png"/>
          <p:cNvPicPr/>
          <p:nvPr/>
        </p:nvPicPr>
        <p:blipFill>
          <a:blip r:embed="rId1"/>
          <a:stretch/>
        </p:blipFill>
        <p:spPr>
          <a:xfrm>
            <a:off x="5667480" y="3692520"/>
            <a:ext cx="2158920" cy="198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3:25:59Z</dcterms:created>
  <dc:creator>i Mac</dc:creator>
  <dc:description/>
  <dc:language>en-US</dc:language>
  <cp:lastModifiedBy>Administrator</cp:lastModifiedBy>
  <dcterms:modified xsi:type="dcterms:W3CDTF">2012-10-15T07:55:14Z</dcterms:modified>
  <cp:revision>56</cp:revision>
  <dc:subject/>
  <dc:title>Nucleotide Metabolism -Biosynthesis-   Dr. Sooad Al-Daihan</dc:title>
</cp:coreProperties>
</file>