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8.png" ContentType="image/png"/>
  <Override PartName="/ppt/media/image30.png" ContentType="image/png"/>
  <Override PartName="/ppt/media/image29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10A2A-1977-4CC4-8974-CDBF45400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6C24D-ADA0-40B3-AE04-BDEB090A25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B4202-F913-4823-A0B0-E8781D1570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A18B6-87E4-4F0C-8A29-3A794F1048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38DF1-079E-4F05-B6C2-A314C01801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47FCD-D5DD-426B-8A95-44D6445301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89AA5-0034-4508-9E26-19DE62EEEC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37ED7-664A-423A-80B8-E3145D7F23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66B794-EFA3-4256-8326-4A11F09823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0E86B-0C25-43FE-AC7A-57200EA2DB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DA8D1-F5ED-4CAF-BD54-4BDA6EF900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752FCD-AFA6-410B-8698-E5C2C8FC84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8DF30-34A6-4AD1-863C-534F43B3BE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4F556-7BDB-4006-A2B1-D579211307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7DF45-0E7D-4C3F-B1C2-65F3B7BF1E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BAB26-80DF-45BA-BE04-51050B0939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FC3CD-3230-47EA-8DC2-BFBC9BF7F2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F4B-B147-4AEE-9D3B-7421194D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EB2-7975-4F11-A4BC-8510D3B4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C18A0-7964-430C-ADEA-4ECB77B7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784B1-1F4D-48D8-B8A6-9BBC7045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C7899-FA3A-41F2-A6FF-7ED33DD4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C9EB0-E76B-46D5-9CEB-5A464923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717B4-74D3-4647-A9DD-9D46BC30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BE43A-E771-476B-A172-D19D8431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C0B41-C81B-4388-943F-77483D3D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1FF62-AF58-43B2-AD9F-188A298E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994C9-9BF0-4312-8956-1A59BE73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87B7D-6AB3-4B36-B8B8-234B197E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F46-587D-4DB8-BAEF-413C8093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0C241-20C7-4E48-A729-2819AE34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F6C68-D7E1-4394-A8B5-8B606E0A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02559-EABB-49BF-A857-0911B85E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30E95-B08F-4C87-9500-A32E0461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D9F2B-7A05-4554-B6D1-7CB265BB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F56B4-1043-4530-B6E5-A608FFAA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1F84B-C0D9-4082-B65C-E3258118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FB634-7479-4D21-9336-5DD2D213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3165C-EB0B-4217-911B-E05A95EA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0126A-B135-4C64-B4AC-B2BDD2FD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B34-C12E-4ABC-B390-577237D1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81B5A-C8C7-4C8C-A6AE-3E809A05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026F6-B3E6-4302-A976-727A260F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1506C-4D54-4EB3-920D-591849C6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CC210-E145-4943-91EA-B3A580B0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52E79-0E7C-4208-B159-2B93CD08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7A7A6-9D7E-402D-A7E3-4B9E23E9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E3B38-E307-4A08-8DA7-EBEF03EC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293D6-326D-481C-A738-76546F40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F52BB-CB5B-46F7-9B85-E9E6F69A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665D5-4405-4A3B-B3FE-1F4740B1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0F0C-F0DC-4AEE-8933-8355D297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F7C9C-C704-428F-A03C-7BB8E244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AAEE4-1333-496A-8F2E-1DFC2950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A0E3E-BB13-4953-9748-E87F22FB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BD272-6F7E-4F60-9453-B3539109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2F2D0-AAB3-429D-A305-09FEC4D7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3A163-C32D-4292-A1C8-02852BEE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D7256-8732-405C-BC56-2D873712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64AE1-E08B-4740-A269-7F76BD29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6A626-CD17-47A2-8D92-CB092E22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D8CAB-C4CD-448B-BFD5-C038E5C3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C051-B7EA-4BFD-88E2-8223AAF3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22B86-CA0F-4ABB-8074-5CE17243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A4A98-B624-4C08-8A32-C061D007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DAF85-45C7-49B1-8B20-46FE3214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E1F5E-DCEE-465D-8C4D-2A2DCB3D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E64CA-9020-4AB9-9C88-221C1D30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DCFE-E5CB-4098-96B1-6116ADEF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B841-BA04-4A3D-8A4C-B5FA8BF3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7A62-E182-40E3-A2BB-C4C08CE4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517A-2B40-48A6-A0FD-D2A9F9A6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E8F2-8978-49EE-AB65-FF8F8CD3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89D-7A0B-46B5-80EF-4913D04D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313B-75EF-42BD-B0E0-0B53331A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FBB0-9453-47E1-82EB-E5546FF5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6440-6CC5-44FC-A178-33924AB8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D57C-4479-44BA-9665-B5C0DBDF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7688-88FC-4B1A-9003-D27161E9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18CA8-9A15-4A7D-9BAD-D75D4331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09B1C-8F7B-4703-A041-1721B54E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98C02-5E28-473B-B72D-9A6FD831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C00E-C1F2-4628-8B6B-7AEF8487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E4684-8641-42D4-BAAA-C306CE7B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330-63C8-41CA-B9C7-2E61F051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A5BA6-C168-4F95-8696-25E304BF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927C-ACB9-490A-AE3B-7CABD10D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2A81B-3BD4-4CCE-AF68-AB74439F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8F1D-70FB-4DC0-A188-DDA607ED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5F4D0-959D-45B8-A10B-C967CC58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0C5C9-E953-4A44-9BAA-83644BE5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E740E-BC96-4E50-AF73-C4325F27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39BB4-86DD-4B20-915F-860E2E0C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0D0C5-5BD5-488B-954F-B8494474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6DFB3-FE83-453D-A035-17FB41C4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E33-EC3D-4FBC-ADD8-548E78CC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22F33-4056-479D-B9D5-82966877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FEB85-7AA9-4AE0-9F61-137C6A18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6E404-66CD-4E3F-859B-71AA397B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61757-5E6F-42ED-902D-333C3120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73529-CD71-4D0D-92E1-89A0BA8C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F7EEB-B10C-43B2-8143-E95C20A6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B2E0B-F8FE-491C-8F0D-71820366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59537-44B8-46CC-BE82-9DC4D71C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DC843-73C4-482A-A9FC-73FF2CCA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C78F8-EF36-4CC8-B3E0-913F20E0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0C2-1877-48A8-9B1E-EA737252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86703-C884-49CE-838D-DEB94FB7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4718E-95FE-49D8-8AAB-F28198BA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51622-6806-499F-8030-9A86CD95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9F236-E805-44BE-AEC0-AE224A15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9F4A9-D8CF-43E7-AAEB-F4E3C250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F1003-C174-49BA-BBC1-2F9CE879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A0169-7328-4223-ACEC-DED2D360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9188C-1BC0-448B-AB7F-41D78581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E2199-9AE2-43D6-AF13-92385A3C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1F17D-986B-4CAB-94CA-705D3310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602-11F0-4CB6-B03F-ED7D9389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CAC84-FF4C-47F5-B96D-C9A94793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616A9-8AAC-457B-80DB-E8793922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F148B-8AED-45A2-8663-17DAA020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7DFE2-B7D8-4200-85D1-A5BEE6E6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8784C-BF99-4CC9-80B4-FE4B3454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EA672-B07C-4586-A9B8-DE041255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F4AEF-553E-4C5D-AA32-5FDEA7C4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E0EE0-A309-466C-A66F-F803075B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B2F53-0B7B-46ED-9037-7D6DE9C4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C10B9-FDEF-4F4E-8ADA-B2615248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EE6-BD19-42DF-8C8C-65516A0A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AE74F-A5DD-4056-B07F-2AEB2086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03035-0848-47B9-9FD1-32F4B080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D1D10-DE79-4272-8FCB-68062CD4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79888-3D7D-4119-B679-1F99BBD1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B0EB0-8A21-4915-86FE-8FA2F0D7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5E392-D181-41EE-9A59-C7587C72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2D627-4FA7-4E44-8553-103F9B53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83FEB-AFEF-46FE-907D-6DE452AF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A8314-3EE1-4E0E-9F6E-E9622EE1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D0624-0A5E-472B-A524-5E484593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544-5601-449A-BC59-CDD869C5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ABBFB-0E40-4775-91D4-BB2AC02E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835A5-B6CC-4D0C-BB8A-5B45EE57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E0C8D-0A9C-4AAF-8374-FDA9A514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53503-AD8E-4DC6-A3A3-21EC1288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4CADD-C12D-4BB2-955A-05DC1271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E3837-2099-4486-A89A-762C16D6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543D2-016F-4AB0-80D6-40364366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7B7B6-44C9-44D6-83B2-25F67E6C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C0D5B-4642-4D04-AF79-2B1A8B31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1FA82-C82F-4FAA-A467-8517D0EB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71A-6B73-446F-96BC-0AB0DC7E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38771-7460-4E97-9641-135187BC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3BAB2-621E-4D96-B2B1-051E7045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8F99C-5D41-4144-85BE-AA68ABD0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047E0-C59A-451B-AF7F-52E235FC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3C057-9D6E-4798-926D-7D808D6A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ED16A-6819-4B5F-AB89-F8674048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3F166-2562-4DAC-B55A-81C545D9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60EC6-642A-48FB-BB51-1F91593C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35E41-FA78-474E-821D-33CE66F9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CCCBB-CFEE-4DAB-A6B3-86C9B85B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96D84-F619-4064-A9FB-0F4C3371DE86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893BB-B14A-4941-B72B-CD593831C5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FCEAB-7B3F-438B-8FE9-C8190A30D2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F58A2-A170-46FA-89AD-3CB0306090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5026B4-B10C-473A-853D-833297E780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8F3D8-EEB3-4F57-BBD3-2C3EA3193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E25A0-ECD5-417B-9AD2-DEF150A08A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5E7BF-1D66-4EDD-B589-5227E15D0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FB8F8-F391-438A-BE6E-24DFAA2149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D8439-8148-4EDC-8E92-34B4EBB70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00443-120A-42AB-B317-D6E6C41343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17579-193A-4A7B-82A2-17E711DC2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B8679-B417-4C8D-B4A8-9E0B3FB84E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FC286-18A4-4F9D-A6D9-5E00645FE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606C1-5328-4C08-B480-0C448C5E1E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B9F34-3951-4C58-A1E2-FC7F1119B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BAB194-7182-406F-904C-B72429A1DB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0B23C-725F-47B8-B04E-6C5FAD6DB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FFAF2-BD8E-4C2D-8567-525E9DB187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EB02F-1237-441F-A0B8-C1290620C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E6B34-C369-49BD-AC63-EA70ED775E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7A147-49FF-4502-8FA5-AC7E934E2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9DAE1-6E7E-4AA8-B296-10B34377B1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5A20B-1A24-4F1D-A230-36104C074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emedicine.com/neuro/images/681MissingFingers.gif" TargetMode="External"/><Relationship Id="rId3" Type="http://schemas.openxmlformats.org/officeDocument/2006/relationships/image" Target="../media/image26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4811760"/>
            <a:ext cx="7772400" cy="2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mbria"/>
                <a:ea typeface="Arial"/>
              </a:rPr>
              <a:t>Nucleotide Metabolism</a:t>
            </a:r>
            <a:br>
              <a:rPr sz="4400"/>
            </a:br>
            <a:r>
              <a:rPr b="1" lang="en-US" sz="4400" spc="-1" strike="noStrike">
                <a:solidFill>
                  <a:srgbClr val="9933ff"/>
                </a:solidFill>
                <a:latin typeface="Cambria"/>
                <a:ea typeface="Arial"/>
              </a:rPr>
              <a:t>-Biosynthesis-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96767-0A24-4BDC-BC9F-1C1B996665F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4"/>
          <p:cNvSpPr/>
          <p:nvPr/>
        </p:nvSpPr>
        <p:spPr>
          <a:xfrm>
            <a:off x="7086600" y="5335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152280" y="5715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5" descr="molecular%20biology%20major.jpg"/>
          <p:cNvPicPr/>
          <p:nvPr/>
        </p:nvPicPr>
        <p:blipFill>
          <a:blip r:embed="rId1"/>
          <a:stretch/>
        </p:blipFill>
        <p:spPr>
          <a:xfrm>
            <a:off x="228600" y="304920"/>
            <a:ext cx="2927520" cy="2057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BioLogo2small"/>
          <p:cNvPicPr/>
          <p:nvPr/>
        </p:nvPicPr>
        <p:blipFill>
          <a:blip r:embed="rId2"/>
          <a:stretch/>
        </p:blipFill>
        <p:spPr>
          <a:xfrm>
            <a:off x="6977160" y="874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77920" y="328680"/>
            <a:ext cx="914400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      </a:t>
            </a: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Step 1: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Activation of ribose-5-phosph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2" descr="purin1"/>
          <p:cNvPicPr/>
          <p:nvPr/>
        </p:nvPicPr>
        <p:blipFill>
          <a:blip r:embed="rId1"/>
          <a:stretch/>
        </p:blipFill>
        <p:spPr>
          <a:xfrm>
            <a:off x="2581200" y="2265480"/>
            <a:ext cx="6042240" cy="17748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9" name="Picture 5" descr=""/>
          <p:cNvPicPr/>
          <p:nvPr/>
        </p:nvPicPr>
        <p:blipFill>
          <a:blip r:embed="rId2"/>
          <a:stretch/>
        </p:blipFill>
        <p:spPr>
          <a:xfrm>
            <a:off x="7369200" y="1084320"/>
            <a:ext cx="947880" cy="151128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7"/>
          <p:cNvSpPr/>
          <p:nvPr/>
        </p:nvSpPr>
        <p:spPr>
          <a:xfrm>
            <a:off x="277920" y="4410000"/>
            <a:ext cx="7603920" cy="173664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92160" indent="-92160">
              <a:lnSpc>
                <a:spcPct val="100000"/>
              </a:lnSpc>
              <a:buClr>
                <a:srgbClr val="ff0000"/>
              </a:buClr>
              <a:buSzPct val="8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  <a:ea typeface="Arial"/>
              </a:rPr>
              <a:t>Enzyme: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Ribose phosphate pyrophosphokin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2160" indent="-92160">
              <a:lnSpc>
                <a:spcPct val="100000"/>
              </a:lnSpc>
              <a:buClr>
                <a:srgbClr val="ff0000"/>
              </a:buClr>
              <a:buSzPct val="8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Perpetua"/>
                <a:ea typeface="Arial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  <a:ea typeface="Arial"/>
              </a:rPr>
              <a:t>Product: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5-phosphoribosyl-a-pyrophosphate (PRPP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2160" indent="-92160">
              <a:lnSpc>
                <a:spcPct val="100000"/>
              </a:lnSpc>
              <a:buClr>
                <a:srgbClr val="ff0000"/>
              </a:buClr>
              <a:buSzPct val="8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PRPP is also a precursor in the biosynthesis of </a:t>
            </a: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Arial"/>
              </a:rPr>
              <a:t>pyrimidin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 nucleotides and the amino acids </a:t>
            </a: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Arial"/>
              </a:rPr>
              <a:t>histidine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&amp;</a:t>
            </a: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Arial"/>
              </a:rPr>
              <a:t> tryptoph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2160" indent="-92160">
              <a:lnSpc>
                <a:spcPct val="100000"/>
              </a:lnSpc>
              <a:buClr>
                <a:srgbClr val="ff0000"/>
              </a:buClr>
              <a:buSzPct val="8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Arial"/>
              </a:rPr>
              <a:t>This step is tightly regulated by feedback inhib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18600" y="500040"/>
            <a:ext cx="6991560" cy="9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      </a:t>
            </a: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Step 2: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Acquisition of purine atom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2" descr="purin2"/>
          <p:cNvPicPr/>
          <p:nvPr/>
        </p:nvPicPr>
        <p:blipFill>
          <a:blip r:embed="rId1"/>
          <a:stretch/>
        </p:blipFill>
        <p:spPr>
          <a:xfrm>
            <a:off x="5511960" y="1413000"/>
            <a:ext cx="3319200" cy="339084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3" name="Rectangle 2"/>
          <p:cNvSpPr/>
          <p:nvPr/>
        </p:nvSpPr>
        <p:spPr>
          <a:xfrm>
            <a:off x="318960" y="4941720"/>
            <a:ext cx="8650440" cy="192276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In this </a:t>
            </a:r>
            <a:r>
              <a:rPr b="0" lang="en-US" sz="2400" spc="-1" strike="noStrike">
                <a:solidFill>
                  <a:srgbClr val="e214d8"/>
                </a:solidFill>
                <a:latin typeface="Perpetua"/>
                <a:ea typeface="Perpetua"/>
              </a:rPr>
              <a:t>committed step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, an amino group donated by glutamine is attached      at C-1 of PRP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Perpetua"/>
              </a:rPr>
              <a:t>Enzyme: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Amidophosphoribosyl transfer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Perpet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Perpetua"/>
              </a:rPr>
              <a:t>Product: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Resulting in the formation of </a:t>
            </a:r>
            <a:r>
              <a:rPr b="1" lang="en-US" sz="2400" spc="-1" strike="noStrike">
                <a:solidFill>
                  <a:srgbClr val="008000"/>
                </a:solidFill>
                <a:latin typeface="Perpetua"/>
                <a:ea typeface="Perpetua"/>
              </a:rPr>
              <a:t>5-phosphoribosylam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8" descr="http://josephdevon.com/wp-content/uploads/thinking-guy.jpg"/>
          <p:cNvPicPr/>
          <p:nvPr/>
        </p:nvPicPr>
        <p:blipFill>
          <a:blip r:embed="rId2"/>
          <a:stretch/>
        </p:blipFill>
        <p:spPr>
          <a:xfrm>
            <a:off x="0" y="2384280"/>
            <a:ext cx="2705040" cy="2697480"/>
          </a:xfrm>
          <a:prstGeom prst="rect">
            <a:avLst/>
          </a:prstGeom>
          <a:ln w="0">
            <a:noFill/>
          </a:ln>
        </p:spPr>
      </p:pic>
      <p:sp>
        <p:nvSpPr>
          <p:cNvPr id="545" name="Rounded Rectangular Callout 6"/>
          <p:cNvSpPr/>
          <p:nvPr/>
        </p:nvSpPr>
        <p:spPr>
          <a:xfrm>
            <a:off x="2233440" y="1736640"/>
            <a:ext cx="2813400" cy="890640"/>
          </a:xfrm>
          <a:prstGeom prst="wedgeRoundRectCallout">
            <a:avLst>
              <a:gd name="adj1" fmla="val -63222"/>
              <a:gd name="adj2" fmla="val 113495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What is the properties of committed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" descr=""/>
          <p:cNvPicPr/>
          <p:nvPr/>
        </p:nvPicPr>
        <p:blipFill>
          <a:blip r:embed="rId3"/>
          <a:stretch/>
        </p:blipFill>
        <p:spPr>
          <a:xfrm>
            <a:off x="8037360" y="485640"/>
            <a:ext cx="7938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0" y="789120"/>
            <a:ext cx="914400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30ffc"/>
                </a:solidFill>
                <a:latin typeface="Perpetua"/>
              </a:rPr>
              <a:t>    </a:t>
            </a:r>
            <a:r>
              <a:rPr b="1" lang="en-US" sz="2600" spc="-1" strike="noStrike">
                <a:solidFill>
                  <a:srgbClr val="830ffc"/>
                </a:solidFill>
                <a:latin typeface="Perpetua"/>
              </a:rPr>
              <a:t>Step 3: 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Acquisition of purine atoms C4, C5, and N7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purin3"/>
          <p:cNvPicPr/>
          <p:nvPr/>
        </p:nvPicPr>
        <p:blipFill>
          <a:blip r:embed="rId1"/>
          <a:stretch/>
        </p:blipFill>
        <p:spPr>
          <a:xfrm>
            <a:off x="5775480" y="1940040"/>
            <a:ext cx="3073320" cy="31575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49" name="Rectangle 1"/>
          <p:cNvSpPr/>
          <p:nvPr/>
        </p:nvSpPr>
        <p:spPr>
          <a:xfrm>
            <a:off x="371520" y="5184720"/>
            <a:ext cx="8286840" cy="119124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Phosphoribosylamine reacts with ATP and glycine to produce </a:t>
            </a:r>
            <a:r>
              <a:rPr b="0" lang="en-US" sz="2400" spc="-1" strike="noStrike">
                <a:solidFill>
                  <a:srgbClr val="008000"/>
                </a:solidFill>
                <a:latin typeface="Perpetua"/>
                <a:ea typeface="Perpetua"/>
              </a:rPr>
              <a:t>glycinamide ribonucleotide (GA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Perpetua"/>
                <a:ea typeface="Perpet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Perpetua"/>
              </a:rPr>
              <a:t>Enzyme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Glycinamide synthet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2"/>
          <a:stretch/>
        </p:blipFill>
        <p:spPr>
          <a:xfrm>
            <a:off x="7899480" y="789120"/>
            <a:ext cx="949320" cy="15112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5"/>
          <p:cNvSpPr/>
          <p:nvPr/>
        </p:nvSpPr>
        <p:spPr>
          <a:xfrm>
            <a:off x="6735600" y="3287880"/>
            <a:ext cx="47880" cy="231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-57240" y="297000"/>
            <a:ext cx="5391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 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Step 4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Acquisition of purine atom C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Formylation of free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-amino group of G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  <a:ea typeface="Perpetua"/>
              </a:rPr>
              <a:t>Enzyme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GAR transformyl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  <a:ea typeface="Perpetua"/>
              </a:rPr>
              <a:t>Co-factor of enzyme 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Perpetua"/>
                <a:ea typeface="Perpetua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-formyl TH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 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Step 5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Acquisition of purine atom N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The amide amino group of a second glutamine is transferred to form formylglycinamidine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  <a:ea typeface="Perpetua"/>
              </a:rPr>
              <a:t>nucleotid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(FGAM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  <a:ea typeface="Perpetua"/>
              </a:rPr>
              <a:t>Enzyme: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 FGAM synthet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  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Step 6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Closing the 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Closing of the imidazole ring or formation of 5-aminoimidazole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  <a:ea typeface="Perpetua"/>
              </a:rPr>
              <a:t>nucleotide (AI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  <a:ea typeface="Perpetua"/>
              </a:rPr>
              <a:t>Enzyme: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Perpetua"/>
              </a:rPr>
              <a:t> AIR synthet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4" descr="Screen Shot 2012-10-08 at 9.23.12 PM.png"/>
          <p:cNvPicPr/>
          <p:nvPr/>
        </p:nvPicPr>
        <p:blipFill>
          <a:blip r:embed="rId1"/>
          <a:srcRect l="1514" t="0" r="0" b="-1092"/>
          <a:stretch/>
        </p:blipFill>
        <p:spPr>
          <a:xfrm>
            <a:off x="5654520" y="841320"/>
            <a:ext cx="3122640" cy="56404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5862600" y="176040"/>
            <a:ext cx="8334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555120" y="923400"/>
            <a:ext cx="4583160" cy="6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0ffc"/>
                </a:solidFill>
                <a:latin typeface="Perpetua"/>
              </a:rPr>
              <a:t>      </a:t>
            </a: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Step 7: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Acquisition of C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purin7"/>
          <p:cNvPicPr/>
          <p:nvPr/>
        </p:nvPicPr>
        <p:blipFill>
          <a:blip r:embed="rId1"/>
          <a:stretch/>
        </p:blipFill>
        <p:spPr>
          <a:xfrm>
            <a:off x="1127160" y="2224080"/>
            <a:ext cx="7345440" cy="18162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7" name="Rectangle 5"/>
          <p:cNvSpPr/>
          <p:nvPr/>
        </p:nvSpPr>
        <p:spPr>
          <a:xfrm>
            <a:off x="254160" y="4629240"/>
            <a:ext cx="8588160" cy="16444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921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C6 is introduced as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 reaction is driven by hydrolysis of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Enzyme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AIR carboxylase (aminoimidazole ribo</a:t>
            </a:r>
            <a:r>
              <a:rPr b="0" lang="da-DK" sz="2400" spc="-1" strike="noStrike">
                <a:solidFill>
                  <a:srgbClr val="000000"/>
                </a:solidFill>
                <a:latin typeface="Perpetua"/>
                <a:ea typeface="Arial"/>
              </a:rPr>
              <a:t>nucleotid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carboxyla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6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Product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CAIR (carboxyaminoimidazole ribo</a:t>
            </a:r>
            <a:r>
              <a:rPr b="0" lang="da-DK" sz="2400" spc="-1" strike="noStrike">
                <a:solidFill>
                  <a:srgbClr val="000000"/>
                </a:solidFill>
                <a:latin typeface="Perpetua"/>
                <a:ea typeface="Arial"/>
              </a:rPr>
              <a:t>nucleotid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7472520" y="1290600"/>
            <a:ext cx="8316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61560" y="223920"/>
            <a:ext cx="520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Step 8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Acquisition of N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1 is acquired from aspartate in an amide condensation reaction that is driven by hydrolysis of ATP to produce 5-aminoimidazole-4-(N-succinylocarboxamide)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</a:rPr>
              <a:t>nucleotid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(SAICA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</a:rPr>
              <a:t>Enzyme: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AICAR synthet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Step 9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limination of fumarate by the action of </a:t>
            </a:r>
            <a:r>
              <a:rPr b="0" lang="en-US" sz="2000" spc="-1" strike="noStrike">
                <a:solidFill>
                  <a:srgbClr val="e214d8"/>
                </a:solidFill>
                <a:latin typeface="Perpetua"/>
              </a:rPr>
              <a:t>adenylosuccinate lyas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o produce 5-aminoimidazole-4-carboxamide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</a:rPr>
              <a:t>nucleotid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(AIC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  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Step 10</a:t>
            </a: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Acquisition of C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34960" indent="-20556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other formylation reaction catalyzed by </a:t>
            </a:r>
            <a:r>
              <a:rPr b="0" lang="en-US" sz="2000" spc="-1" strike="noStrike">
                <a:solidFill>
                  <a:srgbClr val="e214d8"/>
                </a:solidFill>
                <a:latin typeface="Perpetua"/>
              </a:rPr>
              <a:t>AICAR transformylas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results in the formation of 5-formylaminoimidazole-4-carboxamide ribo</a:t>
            </a:r>
            <a:r>
              <a:rPr b="0" lang="da-DK" sz="2000" spc="-1" strike="noStrike">
                <a:solidFill>
                  <a:srgbClr val="000000"/>
                </a:solidFill>
                <a:latin typeface="Perpetua"/>
              </a:rPr>
              <a:t>nucleotid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FAIC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Picture 3" descr="Screen Shot 2012-10-08 at 10.48.43 PM.png"/>
          <p:cNvPicPr/>
          <p:nvPr/>
        </p:nvPicPr>
        <p:blipFill>
          <a:blip r:embed="rId1"/>
          <a:stretch/>
        </p:blipFill>
        <p:spPr>
          <a:xfrm>
            <a:off x="5519880" y="223920"/>
            <a:ext cx="3341520" cy="643392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8193240" y="0"/>
            <a:ext cx="66816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Biochemistry in medic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6A7B0-5E8B-475E-95FD-B7B190C54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866880" y="2576520"/>
            <a:ext cx="7819920" cy="22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ependence of purine biosynthesis on folic acid compounds at Steps 4 and 10 means that antagonists of folic acid metabolism indirectly inhibit purine formation and, in turn, nucleic acid synthesis, cell growth, and cell divi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early, rapidly dividing cells such as malignancies or infective bacteria are more susceptible to these antagonists than slower-growing normal cell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7289640" y="4295880"/>
            <a:ext cx="16830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8280" y="54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0ffc"/>
                </a:solidFill>
                <a:latin typeface="Perpetua"/>
              </a:rPr>
              <a:t>Step 11: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Cyclization or ring closu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2" descr="purin11"/>
          <p:cNvPicPr/>
          <p:nvPr/>
        </p:nvPicPr>
        <p:blipFill>
          <a:blip r:embed="rId1"/>
          <a:stretch/>
        </p:blipFill>
        <p:spPr>
          <a:xfrm>
            <a:off x="5153040" y="1117440"/>
            <a:ext cx="2984400" cy="37893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8" name="Rectangle 4"/>
          <p:cNvSpPr/>
          <p:nvPr/>
        </p:nvSpPr>
        <p:spPr>
          <a:xfrm>
            <a:off x="555480" y="5254560"/>
            <a:ext cx="7998120" cy="143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Water is eliminated by the action of inosine monophosphate (IMP) synt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In contrast to step 6 (closure of the imidazole ring), this reaction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  <a:ea typeface="MS PGothic"/>
              </a:rPr>
              <a:t>does not    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require ATP hydroly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MS PGothic"/>
              </a:rPr>
              <a:t>Once IMP is formed, it is rapidly converted to AMP and GM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" descr=""/>
          <p:cNvPicPr/>
          <p:nvPr/>
        </p:nvPicPr>
        <p:blipFill>
          <a:blip r:embed="rId2"/>
          <a:stretch/>
        </p:blipFill>
        <p:spPr>
          <a:xfrm>
            <a:off x="7719840" y="546120"/>
            <a:ext cx="8337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Biosynthesis of AMP and GMP from IMP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7DD2E-F586-4079-8DB0-112B39E22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5" descr=""/>
          <p:cNvPicPr/>
          <p:nvPr/>
        </p:nvPicPr>
        <p:blipFill>
          <a:blip r:embed="rId1"/>
          <a:stretch/>
        </p:blipFill>
        <p:spPr>
          <a:xfrm>
            <a:off x="495360" y="1128600"/>
            <a:ext cx="8153280" cy="50770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2"/>
          <p:cNvSpPr/>
          <p:nvPr/>
        </p:nvSpPr>
        <p:spPr>
          <a:xfrm>
            <a:off x="415800" y="243000"/>
            <a:ext cx="836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  <a:ea typeface="Cambria"/>
              </a:rPr>
              <a:t>Purine nucleotide biosynthesis is regulated by feedback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ounded Rectangle 14"/>
          <p:cNvSpPr/>
          <p:nvPr/>
        </p:nvSpPr>
        <p:spPr>
          <a:xfrm>
            <a:off x="185760" y="5475240"/>
            <a:ext cx="6029280" cy="123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SimSun"/>
              </a:rPr>
              <a:t>The significance of regulation</a:t>
            </a:r>
            <a:r>
              <a:rPr b="1" lang="en-US" sz="1800" spc="-1" strike="noStrike">
                <a:solidFill>
                  <a:srgbClr val="0000ff"/>
                </a:solidFill>
                <a:latin typeface="Comic Sans MS"/>
                <a:ea typeface="SimSu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Fulfill the need of the body,  without wast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SimSu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GT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]=[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AT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"/>
          <p:cNvPicPr/>
          <p:nvPr/>
        </p:nvPicPr>
        <p:blipFill>
          <a:blip r:embed="rId1"/>
          <a:stretch/>
        </p:blipFill>
        <p:spPr>
          <a:xfrm>
            <a:off x="5245200" y="1496880"/>
            <a:ext cx="3537000" cy="425628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Lucida Calligraphy"/>
              </a:rPr>
              <a:t>Significances of nucleot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8560" y="1600200"/>
            <a:ext cx="83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y are precursors of DNA and 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y are the energy currency in metabolic trans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y are components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30f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Cofactors 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ch as NAD, FAD, S-adenosylmethionine, and coenzyme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30f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Activated biosynthetic intermediates 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ch as UDP-glucose and CDP-diacylglycer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30ff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830ffc"/>
                </a:solidFill>
                <a:latin typeface="Perpetua"/>
              </a:rPr>
              <a:t>Second messengers 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ch as cAMP and cG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2E6E5-5D75-4939-864D-C27A5AA9B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95200" y="23184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Salvage Pathway of Pur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5200" y="82188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wo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osphoribosyl transferases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re involved in this pathwa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denosine phosphoribosyl transferase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(APRT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0" lang="nl-NL" sz="2000" spc="-1" strike="noStrike">
                <a:solidFill>
                  <a:srgbClr val="0000ff"/>
                </a:solidFill>
                <a:latin typeface="Perpetua"/>
              </a:rPr>
              <a:t>Adenine + PRPP                           AMP + 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Hypoxanthine-guanine phosphoribosyl transferase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(HGPR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Hypoxanthine + PRPP                           IMP + 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Guanine + PRPP    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                        GMP + P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8" name="Straight Arrow Connector 4"/>
          <p:cNvCxnSpPr/>
          <p:nvPr/>
        </p:nvCxnSpPr>
        <p:spPr>
          <a:xfrm>
            <a:off x="2679480" y="2488680"/>
            <a:ext cx="11149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9" name="Straight Arrow Connector 7"/>
          <p:cNvCxnSpPr/>
          <p:nvPr/>
        </p:nvCxnSpPr>
        <p:spPr>
          <a:xfrm>
            <a:off x="3114360" y="4152600"/>
            <a:ext cx="13294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0" name="Straight Arrow Connector 8"/>
          <p:cNvCxnSpPr/>
          <p:nvPr/>
        </p:nvCxnSpPr>
        <p:spPr>
          <a:xfrm>
            <a:off x="3130200" y="3558960"/>
            <a:ext cx="13294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81" name="Rounded Rectangular Callout 11"/>
          <p:cNvSpPr/>
          <p:nvPr/>
        </p:nvSpPr>
        <p:spPr>
          <a:xfrm>
            <a:off x="6249960" y="1712880"/>
            <a:ext cx="2789280" cy="776160"/>
          </a:xfrm>
          <a:prstGeom prst="wedgeRoundRectCallout">
            <a:avLst>
              <a:gd name="adj1" fmla="val -64041"/>
              <a:gd name="adj2" fmla="val -5583"/>
              <a:gd name="adj3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Arial"/>
              </a:rPr>
              <a:t>APR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 is not very important because it generate little ade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ounded Rectangular Callout 12"/>
          <p:cNvSpPr/>
          <p:nvPr/>
        </p:nvSpPr>
        <p:spPr>
          <a:xfrm>
            <a:off x="6249960" y="3559320"/>
            <a:ext cx="2685960" cy="776160"/>
          </a:xfrm>
          <a:prstGeom prst="wedgeRoundRectCallout">
            <a:avLst>
              <a:gd name="adj1" fmla="val -37750"/>
              <a:gd name="adj2" fmla="val -71254"/>
              <a:gd name="adj3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rtl="1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Arial"/>
              </a:rPr>
              <a:t>HGPRT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, is exceptionally important and it is inhibited by both IMP and G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2951280" y="4699080"/>
            <a:ext cx="3313080" cy="184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4" name="Minus 9"/>
          <p:cNvSpPr/>
          <p:nvPr/>
        </p:nvSpPr>
        <p:spPr>
          <a:xfrm rot="5400000">
            <a:off x="3595320" y="3422520"/>
            <a:ext cx="397080" cy="272880"/>
          </a:xfrm>
          <a:custGeom>
            <a:avLst/>
            <a:gdLst>
              <a:gd name="textAreaLeft" fmla="*/ 52560 w 397080"/>
              <a:gd name="textAreaRight" fmla="*/ 344520 w 397080"/>
              <a:gd name="textAreaTop" fmla="*/ 104400 h 272880"/>
              <a:gd name="textAreaBottom" fmla="*/ 168480 h 272880"/>
            </a:gdLst>
            <a:ahLst/>
            <a:rect l="textAreaLeft" t="textAreaTop" r="textAreaRight" b="textAreaBottom"/>
            <a:pathLst>
              <a:path w="396875" h="273050">
                <a:moveTo>
                  <a:pt x="52606" y="104414"/>
                </a:moveTo>
                <a:lnTo>
                  <a:pt x="344269" y="104414"/>
                </a:lnTo>
                <a:lnTo>
                  <a:pt x="344269" y="168636"/>
                </a:lnTo>
                <a:lnTo>
                  <a:pt x="52606" y="16863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Minus 10"/>
          <p:cNvSpPr/>
          <p:nvPr/>
        </p:nvSpPr>
        <p:spPr>
          <a:xfrm rot="5400000">
            <a:off x="3596400" y="4017240"/>
            <a:ext cx="395280" cy="272880"/>
          </a:xfrm>
          <a:custGeom>
            <a:avLst/>
            <a:gdLst>
              <a:gd name="textAreaLeft" fmla="*/ 52200 w 395280"/>
              <a:gd name="textAreaRight" fmla="*/ 343080 w 395280"/>
              <a:gd name="textAreaTop" fmla="*/ 104400 h 272880"/>
              <a:gd name="textAreaBottom" fmla="*/ 168480 h 272880"/>
            </a:gdLst>
            <a:ahLst/>
            <a:rect l="textAreaLeft" t="textAreaTop" r="textAreaRight" b="textAreaBottom"/>
            <a:pathLst>
              <a:path w="395288" h="273050">
                <a:moveTo>
                  <a:pt x="52395" y="104414"/>
                </a:moveTo>
                <a:lnTo>
                  <a:pt x="342893" y="104414"/>
                </a:lnTo>
                <a:lnTo>
                  <a:pt x="342893" y="168636"/>
                </a:lnTo>
                <a:lnTo>
                  <a:pt x="52395" y="16863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324000" y="1353600"/>
            <a:ext cx="865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utations in genes that encode nucleotide biosynthetic enzymes can reduce levels of needed nucleotides and can lead to an accumulation of intermediat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Perpetua"/>
              </a:rPr>
              <a:t>Lesch-Nyhan syndrome</a:t>
            </a:r>
            <a:r>
              <a:rPr b="0" lang="en-US" sz="2000" spc="-1" strike="noStrike">
                <a:solidFill>
                  <a:srgbClr val="00b05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compulsive self-destructive behavior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, caused by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deficiency of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hypoxanthine-guanine phosphoribosyltransferase </a:t>
            </a:r>
            <a:r>
              <a:rPr b="1" lang="en-US" sz="2200" spc="-1" strike="noStrike">
                <a:solidFill>
                  <a:srgbClr val="830ffc"/>
                </a:solidFill>
                <a:latin typeface="Perpetua"/>
              </a:rPr>
              <a:t>(HGPRT)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of salvage pathway, The disease is inherited as a sex-linked recessive disord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the absence of HGPRT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, PRPP levels rise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nd purines are overproduced by the de novo pathway, resulting in high levels of uric acid production and gout-like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damage to tissu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The brain is especially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dependent on the salvage pathways, and this may account for the central nervous system damage in children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with Lesch-Nyhan syndro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7" name="Picture 3" descr="athome"/>
          <p:cNvPicPr/>
          <p:nvPr/>
        </p:nvPicPr>
        <p:blipFill>
          <a:blip r:embed="rId1"/>
          <a:stretch/>
        </p:blipFill>
        <p:spPr>
          <a:xfrm>
            <a:off x="5297400" y="4791240"/>
            <a:ext cx="2127240" cy="21891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681MissingFinge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86640" y="5237280"/>
            <a:ext cx="1828800" cy="16938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549360" y="382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Lucida Calligraphy"/>
              </a:rPr>
              <a:t>      </a:t>
            </a:r>
            <a:r>
              <a:rPr b="0" lang="en-US" sz="3000" spc="-1" strike="noStrike">
                <a:solidFill>
                  <a:srgbClr val="0000ff"/>
                </a:solidFill>
                <a:latin typeface="Lucida Calligraphy"/>
              </a:rPr>
              <a:t>Continu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4"/>
          <a:stretch/>
        </p:blipFill>
        <p:spPr>
          <a:xfrm>
            <a:off x="324000" y="201600"/>
            <a:ext cx="15699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47933-D42B-4BC9-AE4B-329D4EB76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2232000" y="1074600"/>
            <a:ext cx="43210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</a:rPr>
              <a:t>Continu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8E109-D39C-4AF8-BFBC-F241098EB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3" descr=""/>
          <p:cNvPicPr/>
          <p:nvPr/>
        </p:nvPicPr>
        <p:blipFill>
          <a:blip r:embed="rId1"/>
          <a:stretch/>
        </p:blipFill>
        <p:spPr>
          <a:xfrm>
            <a:off x="879480" y="1650960"/>
            <a:ext cx="7383600" cy="42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Pyrimidine Denovo 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377720"/>
            <a:ext cx="8229600" cy="36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is  a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shorter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pathway than for puri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The base is made first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then attached to ribose-P (unlike purine biosynthesi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quires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6 step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instead of 11 for purin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roduct is </a:t>
            </a: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UMP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(uridine monophosphat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81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0ffc"/>
                </a:solidFill>
                <a:latin typeface="Perpetua"/>
              </a:rPr>
              <a:t>Only 2 precursor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aspartate and glutamine, plus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 contribute to the 6-membered 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9" descr="40-4                                                           00001607Macintosh HD                   ABA78158:"/>
          <p:cNvPicPr/>
          <p:nvPr/>
        </p:nvPicPr>
        <p:blipFill>
          <a:blip r:embed="rId1"/>
          <a:stretch/>
        </p:blipFill>
        <p:spPr>
          <a:xfrm>
            <a:off x="5937120" y="4788000"/>
            <a:ext cx="2921040" cy="179532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Line 10"/>
          <p:cNvSpPr/>
          <p:nvPr/>
        </p:nvSpPr>
        <p:spPr>
          <a:xfrm>
            <a:off x="2971800" y="3429000"/>
            <a:ext cx="6858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4"/>
          <p:cNvSpPr/>
          <p:nvPr/>
        </p:nvSpPr>
        <p:spPr>
          <a:xfrm flipV="1">
            <a:off x="2971800" y="3428640"/>
            <a:ext cx="0" cy="167652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6"/>
          <p:cNvSpPr/>
          <p:nvPr/>
        </p:nvSpPr>
        <p:spPr>
          <a:xfrm>
            <a:off x="2971800" y="5105520"/>
            <a:ext cx="68580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7"/>
          <p:cNvSpPr/>
          <p:nvPr/>
        </p:nvSpPr>
        <p:spPr>
          <a:xfrm flipV="1">
            <a:off x="3809880" y="2971440"/>
            <a:ext cx="0" cy="259092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8"/>
          <p:cNvSpPr/>
          <p:nvPr/>
        </p:nvSpPr>
        <p:spPr>
          <a:xfrm>
            <a:off x="3809880" y="2971800"/>
            <a:ext cx="1219320" cy="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0"/>
          <p:cNvSpPr/>
          <p:nvPr/>
        </p:nvSpPr>
        <p:spPr>
          <a:xfrm flipV="1">
            <a:off x="5029200" y="2971440"/>
            <a:ext cx="0" cy="2590920"/>
          </a:xfrm>
          <a:prstGeom prst="line">
            <a:avLst/>
          </a:prstGeom>
          <a:ln w="9360">
            <a:solidFill>
              <a:srgbClr val="ff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denovo pyrimidine synthesis"/>
          <p:cNvPicPr/>
          <p:nvPr/>
        </p:nvPicPr>
        <p:blipFill>
          <a:blip r:embed="rId1"/>
          <a:srcRect l="3057" t="18118" r="2007" b="8561"/>
          <a:stretch/>
        </p:blipFill>
        <p:spPr>
          <a:xfrm>
            <a:off x="671400" y="1776240"/>
            <a:ext cx="7899480" cy="450540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41280" y="212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Pyrimidine Denovo 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Picture 5" descr=""/>
          <p:cNvPicPr/>
          <p:nvPr/>
        </p:nvPicPr>
        <p:blipFill>
          <a:blip r:embed="rId2"/>
          <a:stretch/>
        </p:blipFill>
        <p:spPr>
          <a:xfrm>
            <a:off x="671400" y="1112760"/>
            <a:ext cx="8334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3120" y="603360"/>
            <a:ext cx="86328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ambria"/>
              </a:rPr>
              <a:t>Nucleotide Mono-, Di-, and Triphosphates Are Interconvert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3"/>
          <p:cNvSpPr/>
          <p:nvPr/>
        </p:nvSpPr>
        <p:spPr>
          <a:xfrm>
            <a:off x="303120" y="1839960"/>
            <a:ext cx="828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mic Sans MS"/>
              </a:rPr>
              <a:t>How is the other major pyrimidine ribonucleotide, cytidine, fo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is synthesized from the uracil base of UMP, but UMP is converted  into UTP before the synthesis can take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i and triphosphates are the active forms of nucleotides in biosynthesis and energy convers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</a:rPr>
              <a:t>Continu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1FC48-CB6E-4517-816F-F959F0D79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3"/>
          <p:cNvSpPr/>
          <p:nvPr/>
        </p:nvSpPr>
        <p:spPr>
          <a:xfrm>
            <a:off x="457200" y="1733400"/>
            <a:ext cx="8229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Nucleoside monophosphates are converted into nucleoside triphosphates in sta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</a:rPr>
              <a:t>First,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nucleoside monophosphates are converted into diphosphates by specific  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nucleoside monophosphate kinases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that utilize ATP as the phosphoryl-group donor.    </a:t>
            </a:r>
            <a:r>
              <a:rPr b="1" lang="en-US" sz="2200" spc="-1" strike="noStrike">
                <a:solidFill>
                  <a:srgbClr val="c00000"/>
                </a:solidFill>
                <a:latin typeface="Perpetua"/>
              </a:rPr>
              <a:t>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MP + ATP                         UDP + 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Perpetua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</a:rPr>
              <a:t>Second,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Nucleoside diphosphates and triphosphates are interconverted by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nucleoside diphosphate kinase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n enzyme that has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broad specificity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, in contrast with the monophosphate kinas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XDP + YTP                              XTR + Y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3884760" y="35146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UMP kin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Straight Arrow Connector 5"/>
          <p:cNvCxnSpPr/>
          <p:nvPr/>
        </p:nvCxnSpPr>
        <p:spPr>
          <a:xfrm>
            <a:off x="3884400" y="3884400"/>
            <a:ext cx="1470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5" name="Straight Arrow Connector 10"/>
          <p:cNvCxnSpPr/>
          <p:nvPr/>
        </p:nvCxnSpPr>
        <p:spPr>
          <a:xfrm>
            <a:off x="3146400" y="5524200"/>
            <a:ext cx="22089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6" name="TextBox 11"/>
          <p:cNvSpPr/>
          <p:nvPr/>
        </p:nvSpPr>
        <p:spPr>
          <a:xfrm>
            <a:off x="2738520" y="5232240"/>
            <a:ext cx="286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nucleoside diphosphate kin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E5205-BE66-4EC6-AACD-CCF57CC14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CTP Is Formed by Amination of U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6"/>
          <p:cNvSpPr/>
          <p:nvPr/>
        </p:nvSpPr>
        <p:spPr>
          <a:xfrm>
            <a:off x="457200" y="1417680"/>
            <a:ext cx="8424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fter uridine triphosphate has been formed, it can be transformed into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cytidine triphosphate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by the replacement of a carbonyl group by an amino gro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reaction requires ATP and uses glutamine as the source of the amino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gro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CTP can be used then in many biochemical processes, including RNA synthesi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3" descr=""/>
          <p:cNvPicPr/>
          <p:nvPr/>
        </p:nvPicPr>
        <p:blipFill>
          <a:blip r:embed="rId1"/>
          <a:stretch/>
        </p:blipFill>
        <p:spPr>
          <a:xfrm>
            <a:off x="2266920" y="4317840"/>
            <a:ext cx="5038920" cy="18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Thymidylate Is Formed by the Methylation of Deoxyuridy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29E82-2A8A-4B3D-AF16-971D12242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3"/>
          <p:cNvSpPr/>
          <p:nvPr/>
        </p:nvSpPr>
        <p:spPr>
          <a:xfrm>
            <a:off x="457200" y="1793880"/>
            <a:ext cx="8229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Uracil, produced by the pyrimidine synthesis pathway, is not a component of    DNA. Rather, DNA contains </a:t>
            </a:r>
            <a:r>
              <a:rPr b="1" lang="en-US" sz="2200" spc="-1" strike="noStrike">
                <a:solidFill>
                  <a:srgbClr val="0000ff"/>
                </a:solidFill>
                <a:latin typeface="Perpetua"/>
              </a:rPr>
              <a:t>thymine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methylated analog of urac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nother step is required to generate thymidylate from uracil.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Thymidylate synthase catalyzes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is step -deoxyuridylate (dUMP) is methylated to thymidylate (TMP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methylation of this nucleotide facilitates the identification of DNA damage for repair and, hence, helps preserve the integrity of the genetic information stored in DN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Lucida Calligraphy"/>
              </a:rPr>
              <a:t>Overview of Nucleotide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99DF9A-6C7E-4404-AF48-54CBCAD8C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770040" y="1744560"/>
            <a:ext cx="7602480" cy="443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E4250-804A-4708-A050-861E13FDF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ounded Rectangle 4"/>
          <p:cNvSpPr/>
          <p:nvPr/>
        </p:nvSpPr>
        <p:spPr>
          <a:xfrm>
            <a:off x="272880" y="5248440"/>
            <a:ext cx="8871120" cy="95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Conversion of dUMP to dTMP by thymidylate synthase and dihydrofolate reductase. In the synthesis of dTMP, all three hydrogens of the added methyl group are derived from the N</a:t>
            </a:r>
            <a:r>
              <a:rPr b="0" lang="en-GB" sz="1600" spc="-1" strike="noStrike" baseline="30000">
                <a:solidFill>
                  <a:srgbClr val="0000ff"/>
                </a:solidFill>
                <a:latin typeface="Comic Sans MS"/>
              </a:rPr>
              <a:t>5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,N</a:t>
            </a:r>
            <a:r>
              <a:rPr b="0" lang="en-GB" sz="1600" spc="-1" strike="noStrike" baseline="30000">
                <a:solidFill>
                  <a:srgbClr val="0000ff"/>
                </a:solidFill>
                <a:latin typeface="Comic Sans MS"/>
              </a:rPr>
              <a:t>10</a:t>
            </a:r>
            <a:r>
              <a:rPr b="0" lang="en-GB" sz="1600" spc="-1" strike="noStrike">
                <a:solidFill>
                  <a:srgbClr val="0000ff"/>
                </a:solidFill>
                <a:latin typeface="Comic Sans MS"/>
              </a:rPr>
              <a:t>-methylenetetrahydrofolate, as shown in red and gr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2" descr=""/>
          <p:cNvPicPr/>
          <p:nvPr/>
        </p:nvPicPr>
        <p:blipFill>
          <a:blip r:embed="rId1"/>
          <a:stretch/>
        </p:blipFill>
        <p:spPr>
          <a:xfrm>
            <a:off x="5213520" y="447840"/>
            <a:ext cx="3306600" cy="473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4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</a:rPr>
              <a:t>Continu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Orotic acidu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C8CC5-DA19-49BE-BF3A-C9F175ED3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3"/>
          <p:cNvSpPr/>
          <p:nvPr/>
        </p:nvSpPr>
        <p:spPr>
          <a:xfrm>
            <a:off x="220680" y="1163520"/>
            <a:ext cx="82152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ecause the products of pyrimidine catabolism are soluble, few disorders result from excess levels of their synthesis or cataboli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wo inherited disorders affecting pyrimidine biosynthesis are the result of deficiencies in the bifunctional enzyme catalyzing the last two steps of UMP synthesis, orotate phosphoribosyl transferase and OMP decarboxyl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se deficiencies result in orotic aciduria that causes retarded growth, and severe anem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7731000" y="5297400"/>
            <a:ext cx="12416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Regulation of pyrimidine nucleotide bio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1"/>
          <p:cNvSpPr/>
          <p:nvPr/>
        </p:nvSpPr>
        <p:spPr>
          <a:xfrm>
            <a:off x="84240" y="2244600"/>
            <a:ext cx="446076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regulation of pyrimidine synthesis occurs mainly at the first step which is catalyzed by aspartate transcarbamoylase,  ATCas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hibited by CTP and activated by A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5" descr=""/>
          <p:cNvPicPr/>
          <p:nvPr/>
        </p:nvPicPr>
        <p:blipFill>
          <a:blip r:embed="rId1"/>
          <a:stretch/>
        </p:blipFill>
        <p:spPr>
          <a:xfrm>
            <a:off x="4545000" y="2075040"/>
            <a:ext cx="43099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ounded Rectangle 16"/>
          <p:cNvSpPr/>
          <p:nvPr/>
        </p:nvSpPr>
        <p:spPr>
          <a:xfrm>
            <a:off x="457200" y="1246320"/>
            <a:ext cx="8229600" cy="435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PRPP       P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Pyrimidine                                               pyrimidine ribonucleoside  monophosph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Pyrimidine phosphoribos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Angsana New"/>
              </a:rPr>
              <a:t>transphera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عنصر نائب لرقم الشريحة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1B53F-3172-4D71-8953-098BE8A83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رابط كسهم مستقيم 5"/>
          <p:cNvCxnSpPr/>
          <p:nvPr/>
        </p:nvCxnSpPr>
        <p:spPr>
          <a:xfrm>
            <a:off x="2120760" y="2295000"/>
            <a:ext cx="135504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39" name="رابط كسهم مستقيم 7"/>
          <p:cNvCxnSpPr/>
          <p:nvPr/>
        </p:nvCxnSpPr>
        <p:spPr>
          <a:xfrm flipV="1">
            <a:off x="2670120" y="1974600"/>
            <a:ext cx="311760" cy="32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0" name="رابط كسهم مستقيم 8"/>
          <p:cNvCxnSpPr/>
          <p:nvPr/>
        </p:nvCxnSpPr>
        <p:spPr>
          <a:xfrm flipH="1" flipV="1">
            <a:off x="2341080" y="1974600"/>
            <a:ext cx="329040" cy="32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41" name="عنصر نائب للمحتوى 2"/>
          <p:cNvSpPr/>
          <p:nvPr/>
        </p:nvSpPr>
        <p:spPr>
          <a:xfrm>
            <a:off x="457200" y="3713040"/>
            <a:ext cx="8229600" cy="18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MS PGothic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MS PGothic"/>
              </a:rPr>
              <a:t>PRPP       PPi                                  H+        CO2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MS PGothic"/>
              </a:rPr>
              <a:t>Orotate                                                Orotidylate                                      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gsana New"/>
                <a:ea typeface="MS PGothic"/>
              </a:rPr>
              <a:t>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MS PGothic"/>
              </a:rPr>
              <a:t>Orotate  phosphoribosyle                   Orotidylate deoxyl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MS PGothic"/>
              </a:rPr>
              <a:t>       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Angsana New"/>
                <a:ea typeface="MS PGothic"/>
              </a:rPr>
              <a:t>transpher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رابط كسهم مستقيم 13"/>
          <p:cNvCxnSpPr/>
          <p:nvPr/>
        </p:nvCxnSpPr>
        <p:spPr>
          <a:xfrm>
            <a:off x="1838160" y="4328640"/>
            <a:ext cx="135360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3" name="رابط كسهم مستقيم 14"/>
          <p:cNvCxnSpPr/>
          <p:nvPr/>
        </p:nvCxnSpPr>
        <p:spPr>
          <a:xfrm flipH="1" flipV="1">
            <a:off x="2185560" y="4009680"/>
            <a:ext cx="3290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4" name="رابط كسهم مستقيم 15"/>
          <p:cNvCxnSpPr/>
          <p:nvPr/>
        </p:nvCxnSpPr>
        <p:spPr>
          <a:xfrm flipV="1">
            <a:off x="2514600" y="4001400"/>
            <a:ext cx="311760" cy="32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5" name="رابط كسهم مستقيم 18"/>
          <p:cNvCxnSpPr/>
          <p:nvPr/>
        </p:nvCxnSpPr>
        <p:spPr>
          <a:xfrm>
            <a:off x="4730400" y="4328640"/>
            <a:ext cx="135324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6" name="رابط كسهم مستقيم 19"/>
          <p:cNvCxnSpPr/>
          <p:nvPr/>
        </p:nvCxnSpPr>
        <p:spPr>
          <a:xfrm flipH="1" flipV="1">
            <a:off x="5062320" y="4001400"/>
            <a:ext cx="329040" cy="32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647" name="رابط كسهم مستقيم 20"/>
          <p:cNvCxnSpPr/>
          <p:nvPr/>
        </p:nvCxnSpPr>
        <p:spPr>
          <a:xfrm flipV="1">
            <a:off x="5390640" y="4001400"/>
            <a:ext cx="311760" cy="32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Pyrimidine Salvage pathway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B2325-63DC-4E0B-9C26-5D2B34C5D45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4"/>
          <p:cNvSpPr/>
          <p:nvPr/>
        </p:nvSpPr>
        <p:spPr>
          <a:xfrm>
            <a:off x="7086600" y="5335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6"/>
          <p:cNvSpPr/>
          <p:nvPr/>
        </p:nvSpPr>
        <p:spPr>
          <a:xfrm>
            <a:off x="152280" y="57150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46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mbria"/>
                <a:ea typeface="Arial"/>
              </a:rPr>
              <a:t>Part II-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Cambria"/>
                <a:ea typeface="Arial"/>
              </a:rPr>
              <a:t>Nucleotides degradation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1B5C5-EFE6-4551-BB8D-32EC3837B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2" descr=""/>
          <p:cNvPicPr/>
          <p:nvPr/>
        </p:nvPicPr>
        <p:blipFill>
          <a:blip r:embed="rId1"/>
          <a:stretch/>
        </p:blipFill>
        <p:spPr>
          <a:xfrm>
            <a:off x="1108080" y="565200"/>
            <a:ext cx="6450120" cy="477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5" name="Rectangle 3"/>
          <p:cNvSpPr/>
          <p:nvPr/>
        </p:nvSpPr>
        <p:spPr>
          <a:xfrm>
            <a:off x="609480" y="5553000"/>
            <a:ext cx="80773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Perpetu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Perpetua"/>
              </a:rPr>
              <a:t>Purine nucleotides (AMP and  GMP) are degraded by a pathway in which they lose their phosphate through the action of </a:t>
            </a:r>
            <a:r>
              <a:rPr b="1" lang="en-US" sz="1800" spc="-1" strike="noStrike">
                <a:solidFill>
                  <a:srgbClr val="008000"/>
                </a:solidFill>
                <a:latin typeface="Comic Sans MS"/>
                <a:ea typeface="Perpetua"/>
              </a:rPr>
              <a:t>5’- nucleotida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Perpetua"/>
              </a:rPr>
              <a:t>,to form adenosine and </a:t>
            </a:r>
            <a:r>
              <a:rPr b="0" lang="hr-HR" sz="1800" spc="-1" strike="noStrike">
                <a:solidFill>
                  <a:srgbClr val="000000"/>
                </a:solidFill>
                <a:latin typeface="Comic Sans MS"/>
                <a:ea typeface="Perpetua"/>
              </a:rPr>
              <a:t>guanosine respective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2120" y="33192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Purine Metabolism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27040" y="1301760"/>
            <a:ext cx="78278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enetic aberrations in human purine metabolism have been found, some with serious consequenc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Severe combined immunodeficiency disease (SC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deficiency of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adenosine deaminas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eads to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CI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in which T lymphocytes and B lymphocytes do not develop properl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ack of ADA leads to a 100-fold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increas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the cellular concentration of dATP, a </a:t>
            </a:r>
            <a:r>
              <a:rPr b="1" lang="en-US" sz="2400" spc="-1" strike="noStrike">
                <a:solidFill>
                  <a:srgbClr val="800000"/>
                </a:solidFill>
                <a:latin typeface="Perpetua"/>
              </a:rPr>
              <a:t>strong inhibitor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f ribonucleotide reductase involved in deoxynucleotide biosynthesis. The net effect is to inhibit DNA synthe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2" descr=""/>
          <p:cNvPicPr/>
          <p:nvPr/>
        </p:nvPicPr>
        <p:blipFill>
          <a:blip r:embed="rId1"/>
          <a:stretch/>
        </p:blipFill>
        <p:spPr>
          <a:xfrm>
            <a:off x="7858080" y="5681520"/>
            <a:ext cx="99216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57200" y="14176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Perpetua"/>
              </a:rPr>
              <a:t>G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63252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Is a disease of the joints caused by an elevated concentrations of uric acid in the blood and tiss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63252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st forms of gout are the result of excess purine production and consequent catabolism or to a partial deficiency in the salvage enzyme, HGP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63252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mbria"/>
              </a:rPr>
              <a:t>Allpurinol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is a structural analog of hypoxanthine that strongly inhibit xanthine oxid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itle 1"/>
          <p:cNvSpPr/>
          <p:nvPr/>
        </p:nvSpPr>
        <p:spPr>
          <a:xfrm>
            <a:off x="457200" y="274680"/>
            <a:ext cx="324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MS PGothic"/>
              </a:rPr>
              <a:t>Continu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7827840" y="5491080"/>
            <a:ext cx="1144800" cy="114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3"/>
          <p:cNvSpPr/>
          <p:nvPr/>
        </p:nvSpPr>
        <p:spPr>
          <a:xfrm>
            <a:off x="1490400" y="227160"/>
            <a:ext cx="633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  <a:ea typeface="MS PGothic"/>
              </a:rPr>
              <a:t>Catabolism of a pyrimid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515880" y="838080"/>
            <a:ext cx="778824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contrast to purines, pyrimidines undergo ring cleavage and the usual end products of catabolism are </a:t>
            </a:r>
            <a:r>
              <a:rPr b="1" lang="el-GR" sz="2200" spc="-1" strike="noStrike">
                <a:solidFill>
                  <a:srgbClr val="8c0aec"/>
                </a:solidFill>
                <a:latin typeface="Cambria"/>
              </a:rPr>
              <a:t>β</a:t>
            </a:r>
            <a:r>
              <a:rPr b="1" lang="en-US" sz="2200" spc="-1" strike="noStrike">
                <a:solidFill>
                  <a:srgbClr val="8c0aec"/>
                </a:solidFill>
                <a:latin typeface="Perpetua"/>
              </a:rPr>
              <a:t>-amino acids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lus </a:t>
            </a:r>
            <a:r>
              <a:rPr b="1" lang="en-US" sz="2200" spc="-1" strike="noStrike">
                <a:solidFill>
                  <a:srgbClr val="e93bdd"/>
                </a:solidFill>
                <a:latin typeface="Perpetua"/>
              </a:rPr>
              <a:t>NH</a:t>
            </a:r>
            <a:r>
              <a:rPr b="1" lang="en-US" sz="2200" spc="-1" strike="noStrike" baseline="-25000">
                <a:solidFill>
                  <a:srgbClr val="e93bdd"/>
                </a:solidFill>
                <a:latin typeface="Perpetua"/>
              </a:rPr>
              <a:t>3</a:t>
            </a:r>
            <a:r>
              <a:rPr b="1" lang="en-US" sz="2200" spc="-1" strike="noStrike" baseline="30000">
                <a:solidFill>
                  <a:srgbClr val="e93bdd"/>
                </a:solidFill>
                <a:latin typeface="Perpetua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2200" spc="-1" strike="noStrike">
                <a:solidFill>
                  <a:srgbClr val="800000"/>
                </a:solidFill>
                <a:latin typeface="Perpetua"/>
              </a:rPr>
              <a:t>CO</a:t>
            </a:r>
            <a:r>
              <a:rPr b="1" lang="en-US" sz="2200" spc="-1" strike="noStrike" baseline="-25000">
                <a:solidFill>
                  <a:srgbClr val="8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Pyrimidines from nucleic acids or the energy pool are acted upon by nucleotidases and pyrimidine nucleoside phosphorylase to yield the free bas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4-amino group of both cytosine and 5-methyl cytosine is released as ammon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3" descr="Screen Shot 2012-10-14 at 6.56.56 PM.png"/>
          <p:cNvPicPr/>
          <p:nvPr/>
        </p:nvPicPr>
        <p:blipFill>
          <a:blip r:embed="rId1"/>
          <a:stretch/>
        </p:blipFill>
        <p:spPr>
          <a:xfrm>
            <a:off x="963720" y="4718160"/>
            <a:ext cx="70405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ff"/>
                </a:solidFill>
                <a:latin typeface="Cambria"/>
              </a:rPr>
              <a:t>Ring Cleav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45680" y="932040"/>
            <a:ext cx="8448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In order for the rings (Cytosine and Thymine) to be cleaved, they must first be </a:t>
            </a: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Perpetua"/>
              </a:rPr>
              <a:t>reduced by NADPH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Atoms 2 and 3 of both rings are released as ammonia and carbon dioxi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The rest of the ring is left as a beta-amino aci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mbria"/>
                <a:ea typeface="Perpetua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-amino isobutyrate from thymine or 5-methyl cytosine is largely excrete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mbria"/>
                <a:ea typeface="Perpetua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-alanine from cytosine or uracil may either be excreted or incorporated into the brain and muscle dipeptides, </a:t>
            </a:r>
            <a:r>
              <a:rPr b="1" lang="en-US" sz="2200" spc="-1" strike="noStrike">
                <a:solidFill>
                  <a:srgbClr val="8c0aec"/>
                </a:solidFill>
                <a:latin typeface="Perpetua"/>
                <a:ea typeface="Perpetua"/>
              </a:rPr>
              <a:t>carnosin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 (his-beta-ala) or </a:t>
            </a:r>
            <a:r>
              <a:rPr b="1" lang="en-US" sz="2200" spc="-1" strike="noStrike">
                <a:solidFill>
                  <a:srgbClr val="8c0aec"/>
                </a:solidFill>
                <a:latin typeface="Perpetua"/>
                <a:ea typeface="Perpetua"/>
              </a:rPr>
              <a:t>anserin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 (methyl his-beta-ala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Perpet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AA135-04DF-4D13-98C3-902FB8DE0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4" descr="Screen Shot 2012-10-14 at 6.56.56 PM.png"/>
          <p:cNvPicPr/>
          <p:nvPr/>
        </p:nvPicPr>
        <p:blipFill>
          <a:blip r:embed="rId1"/>
          <a:stretch/>
        </p:blipFill>
        <p:spPr>
          <a:xfrm>
            <a:off x="3743280" y="3938760"/>
            <a:ext cx="4425840" cy="24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Lucida Calligraphy"/>
              </a:rPr>
              <a:t>Continue</a:t>
            </a:r>
            <a:r>
              <a:rPr b="0" lang="en-GB" sz="3600" spc="-1" strike="noStrike">
                <a:solidFill>
                  <a:srgbClr val="0000ff"/>
                </a:solidFill>
                <a:latin typeface="Lucida Calligraphy"/>
              </a:rPr>
              <a:t>.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DCB9B8-C65D-48D7-9195-1EC9C9F5B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1832040" y="1417680"/>
            <a:ext cx="5722920" cy="476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46040" y="23652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Lucida Calligraphy"/>
              </a:rPr>
              <a:t>Nucleotide Bio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D8EBE-064C-4D6B-A799-8DC5FE6D5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446040" y="4060800"/>
            <a:ext cx="3513240" cy="954360"/>
          </a:xfrm>
          <a:prstGeom prst="rect">
            <a:avLst/>
          </a:prstGeom>
          <a:noFill/>
          <a:ln w="38160">
            <a:solidFill>
              <a:srgbClr val="830f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Begins with their metabolic precursors: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amino acids, ribose 5-phosphate, 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Cambria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, and N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Cambria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5394240" y="4060800"/>
            <a:ext cx="3125880" cy="916920"/>
          </a:xfrm>
          <a:prstGeom prst="rect">
            <a:avLst/>
          </a:prstGeom>
          <a:noFill/>
          <a:ln w="38160">
            <a:solidFill>
              <a:srgbClr val="830f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ecycles the free bases and nucleosides released from nucleic acid break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7" descr=""/>
          <p:cNvPicPr/>
          <p:nvPr/>
        </p:nvPicPr>
        <p:blipFill>
          <a:blip r:embed="rId1"/>
          <a:stretch/>
        </p:blipFill>
        <p:spPr>
          <a:xfrm>
            <a:off x="290520" y="1662120"/>
            <a:ext cx="3860640" cy="1897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9" name="Picture 8" descr=""/>
          <p:cNvPicPr/>
          <p:nvPr/>
        </p:nvPicPr>
        <p:blipFill>
          <a:blip r:embed="rId2"/>
          <a:stretch/>
        </p:blipFill>
        <p:spPr>
          <a:xfrm>
            <a:off x="5130720" y="1662120"/>
            <a:ext cx="3544920" cy="188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0" name="Picture 11" descr="imagesCAJNDZEQ.jpg"/>
          <p:cNvPicPr/>
          <p:nvPr/>
        </p:nvPicPr>
        <p:blipFill>
          <a:blip r:embed="rId3"/>
          <a:stretch/>
        </p:blipFill>
        <p:spPr>
          <a:xfrm>
            <a:off x="446040" y="4984920"/>
            <a:ext cx="1376280" cy="172080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3"/>
          <p:cNvSpPr/>
          <p:nvPr/>
        </p:nvSpPr>
        <p:spPr>
          <a:xfrm>
            <a:off x="1600920" y="5529240"/>
            <a:ext cx="62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uestio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do we need both pathway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72049-1B7D-4BA7-A147-2B172E48D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1771560" y="1305000"/>
            <a:ext cx="5600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Lucida Calligraphy"/>
              </a:rPr>
              <a:t>In  these pathway, two features deserve to men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599840"/>
            <a:ext cx="822960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irst, there is evidence, especially in the de novo purine pathway, t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enzymes are present as large, multienzyme complexes in the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cond, the cellular pools of nucleotides (other than ATP) are quite small, 1% or less of the amounts required to synthesize the cell’s DN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fore, cells must continue to synthesize nucleotides, and in some cases nucleotide synthesis may limit the rates of DNA replication and transcrip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5B309-6D7F-4B8F-95E0-F8595E686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5"/>
          <p:cNvSpPr/>
          <p:nvPr/>
        </p:nvSpPr>
        <p:spPr>
          <a:xfrm>
            <a:off x="457200" y="5172120"/>
            <a:ext cx="8229600" cy="1179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cause of the importance of these processes in dividing cel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agents that inhibit nucleotide synthesis have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particularly important </a:t>
            </a: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to modern medic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3" descr=""/>
          <p:cNvPicPr/>
          <p:nvPr/>
        </p:nvPicPr>
        <p:blipFill>
          <a:blip r:embed="rId1"/>
          <a:stretch/>
        </p:blipFill>
        <p:spPr>
          <a:xfrm>
            <a:off x="7118280" y="5396040"/>
            <a:ext cx="156852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Denovo Purine Nucleotide Bio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89AE3-815C-47A0-AF46-413CCEC56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The two parent purine nucleotides of nucleic acids are </a:t>
            </a:r>
            <a:r>
              <a:rPr b="0" lang="en-US" sz="2400" spc="-1" strike="noStrike">
                <a:solidFill>
                  <a:srgbClr val="830ffc"/>
                </a:solidFill>
                <a:latin typeface="Perpetua"/>
                <a:ea typeface="Perpetua"/>
              </a:rPr>
              <a:t>adenosine 5-monophosphate (AMP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 and </a:t>
            </a:r>
            <a:r>
              <a:rPr b="0" lang="en-US" sz="2400" spc="-1" strike="noStrike">
                <a:solidFill>
                  <a:srgbClr val="e214d8"/>
                </a:solidFill>
                <a:latin typeface="Perpetua"/>
                <a:ea typeface="Perpetua"/>
              </a:rPr>
              <a:t>guanosine 5-monophosphate (GMP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The origin of the carbon and nitrogen atoms of the purine ring system, as determined by </a:t>
            </a:r>
            <a:r>
              <a:rPr b="0" lang="en-US" sz="2400" spc="-1" strike="noStrike">
                <a:solidFill>
                  <a:srgbClr val="008000"/>
                </a:solidFill>
                <a:latin typeface="Perpetua"/>
                <a:ea typeface="Perpetua"/>
              </a:rPr>
              <a:t>John Buchana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using isotopic tracer experiments in bi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8" descr=""/>
          <p:cNvPicPr/>
          <p:nvPr/>
        </p:nvPicPr>
        <p:blipFill>
          <a:blip r:embed="rId1"/>
          <a:stretch/>
        </p:blipFill>
        <p:spPr>
          <a:xfrm>
            <a:off x="954000" y="3990960"/>
            <a:ext cx="4267440" cy="22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0000"/>
                </a:solidFill>
                <a:latin typeface="Lucida Calligraphy"/>
              </a:rPr>
              <a:t>Continue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30ffc"/>
                </a:solidFill>
                <a:latin typeface="Perpetua"/>
                <a:ea typeface="Perpetua"/>
              </a:rPr>
              <a:t>    </a:t>
            </a:r>
            <a:r>
              <a:rPr b="1" lang="en-US" sz="2800" spc="-1" strike="noStrike">
                <a:solidFill>
                  <a:srgbClr val="830ffc"/>
                </a:solidFill>
                <a:latin typeface="Perpetua"/>
                <a:ea typeface="Perpetua"/>
              </a:rPr>
              <a:t>Synthesis of Inosine Monophosphate (I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Basic pathway for biosynthesis of purine ribonucleot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Starts from ribose-5-phosphate which is derived from the pentose phosphate pathw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Requires 11 steps overa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Perpetua"/>
              </a:rPr>
              <a:t>occurs primarily in the </a:t>
            </a:r>
            <a:r>
              <a:rPr b="0" lang="en-US" sz="2400" spc="-1" strike="noStrike">
                <a:solidFill>
                  <a:srgbClr val="e214d8"/>
                </a:solidFill>
                <a:latin typeface="Perpetua"/>
                <a:ea typeface="Perpetua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51E7E-524B-4D3A-9BC4-8DA58EB08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Screen Shot 2012-10-08 at 8.32.36 PM.png"/>
          <p:cNvPicPr/>
          <p:nvPr/>
        </p:nvPicPr>
        <p:blipFill>
          <a:blip r:embed="rId1"/>
          <a:stretch/>
        </p:blipFill>
        <p:spPr>
          <a:xfrm>
            <a:off x="5667480" y="3692520"/>
            <a:ext cx="2158920" cy="19875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3:25:59Z</dcterms:created>
  <dc:creator>i Mac</dc:creator>
  <dc:description/>
  <dc:language>en-US</dc:language>
  <cp:lastModifiedBy>Administrator</cp:lastModifiedBy>
  <dcterms:modified xsi:type="dcterms:W3CDTF">2012-10-15T07:55:14Z</dcterms:modified>
  <cp:revision>56</cp:revision>
  <dc:subject/>
  <dc:title>Nucleotide Metabolism -Biosynthesis-   Dr. Sooad Al-Daihan</dc:title>
</cp:coreProperties>
</file>