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8.png" ContentType="image/png"/>
  <Override PartName="/ppt/media/image30.png" ContentType="image/png"/>
  <Override PartName="/ppt/media/image29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9E981-F6DF-4912-B53B-FDA3CF5B9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E55D9-3C58-4238-BF52-445FAFE4B9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965E5-F472-4208-A95C-7B72BD4808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2F488-D0FC-444D-9183-CC556CC316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9B8E7-12EF-4B97-91DD-D0754FF868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BEAA4-9656-49C8-9E56-84BD32EA61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477E8-5030-424D-AFD3-541531ABE4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AF217-B8EC-4B7C-A93F-856FAB6E61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69DCD-4591-42A4-9E67-F67AB5AF8C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04ECC-63A9-4070-8D40-403079053A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BBB43-8845-412A-898A-CF43494829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CC0B8-B9A9-4B2D-90AD-02DCC7DEB3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66573-5BC3-47AF-95B2-36B3D627E8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34F08-3E0A-45D1-9E14-131411FF07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26BC2-650A-4AD9-9C88-E9DCC7E208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75CEA-5A74-46E1-AA3C-61CE88368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65BD2-467E-4361-8F6C-3B20A34DB6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BF8-8E91-4CBC-B628-EF82AD47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B73-D815-41FC-B8CE-5F88D389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4DE41-AE25-4658-9176-8BB5CF37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C5E24-BA12-414A-B740-7FB07264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5DC25-5065-4D69-B80B-5AECE1B2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C1DE4-08BF-4A79-9648-83778E7A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7DDA6-1318-4595-B780-F3C43438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9DB5E-78FC-4686-87D1-617ABAB8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2B1EF-AD4D-4580-B362-3F9E7CF5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7DA36-4E2F-41F7-9447-545EB472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FB547-B386-409E-8D94-F5582F88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FC1C8-D1D0-43B1-BE10-8EFA443A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B38-7749-4544-B58B-41D65D76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D2DB1-2D34-4B2E-9AAF-A1382A78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87D5A-BFFE-435E-86F4-79C68011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2FF0E-4F2E-416E-96C1-02351735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22C15-77B3-4E36-8155-B1CED9C2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5FA77-913D-4E88-8AAA-15E2E738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776BF-5CB2-452D-8C10-05602380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5CDEE-F714-4F74-9436-EB4B6879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5594E-6EDF-4D25-8FE4-E1FC1F79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68555-6256-4DDB-969C-B1ACEEA2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DDAA7-7895-48E2-9CC9-6CEEC8E6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FDA-9AD1-4887-89AE-CE698860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B4524-FAA0-4286-81F0-3D332DF1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CB246-2723-41D4-97B6-FD792FD9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338CC-2EB7-488C-B765-995F7F3C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049CC-71BB-4EA3-A83B-567C9A8B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B57EA-EA26-4571-B894-F74AAC2A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EF554-1D01-4FA1-B614-7F13890B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BCC9D-A102-41DC-A201-7BD6CEDF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16C13-0B75-45E7-9E30-7229F969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B191F-0E6A-44E6-8C36-8EA7DAC9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A5D3D-0A7B-4BC9-BAFB-4A7B2C3C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542D-2A4A-47E4-8256-4EF19775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59FDC-95EF-4C7E-BBDD-A7E2459F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95D63-0B54-4356-84B4-4D5724EE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CE348-220E-44EB-9EC6-499B7F5C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D08FC-7240-4116-861F-9974E1C9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636AC-7EEC-4396-9F25-B212EDFE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699FA-F32A-4FD6-80BA-CEEBEED0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E7E87-5023-4F0E-B09B-4B59449F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E6858-2D14-4A88-9CAC-7F0234C4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34EC1-7637-4178-BB0E-E26192F5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5F782-EAF8-4C1C-AD9D-569F3799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701A-4F03-4F21-B496-3C16DCCB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B1661-37B9-41DD-A3BF-45E7ACD8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CEC87-ED03-4497-AA2D-22904065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8CFBA-847C-495E-98FD-A3C0691C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0281D-D9AA-45A8-80E1-0278EC60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08212-9D05-4FB7-9CF4-812A0F03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06BA-73E0-45CE-89D7-0B7CA3E2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0F0B-038C-4BC9-9632-5B0FFEE8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292F-1913-4360-8756-5630F3D0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D704-CE54-4151-888B-D6564C9A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E733-C0D3-4647-8E7E-B5ECF750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EA0-7883-4184-BF8D-F61C4353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A728-57CB-4854-B88E-2AC6C7DA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5EEC-DE76-4D3C-998C-E326A622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D3BF-E7BB-440E-8C9D-B9EA35EE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F380-67F4-410D-90A0-258B9DB6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9DFD-763F-4DC7-BFD9-1C6565DF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3E9B2-A21F-4BBF-8849-EFD4E528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734B2-EC7B-4DD4-8986-5BA4E179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70511-A9EF-4E01-B70B-9FC95F5F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DF45-B6C9-45B1-88EF-D07AC87A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78E7E-D92C-43CC-844D-28EEF8EC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AEA-C706-4436-8102-6D0B29A7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DDDEF-A18C-44E4-825A-C3E1BB58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D3ACA-8D28-4BF8-A37E-BCD01010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6A1F-A949-4C6F-AE7F-D867083F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96008-7EED-4F33-BD4F-5185DE75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4416-7C7E-4FED-B3D3-FC19C653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9142B-6321-4D7D-B523-B3C49539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C64D9-50E7-4059-ABE7-71361569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B3DF7-E09B-4B7D-A474-F82B9509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D9CB2-5F1A-44C1-A6B4-1C85DB3E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1699D-7B69-4DC9-9919-83511E57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CB8-06E8-419C-B67E-4F4345CF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283CB-B164-4B96-B10D-16F31354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70965-E46C-43E6-9BFE-301BBABD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1F8A3-B697-4818-8A4B-5E705C84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B4D27-9BBF-46C6-ABDF-B3493E3A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E0D13-273F-4001-8019-45184044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BFB73-41D6-4868-A508-5DEFE396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25AED-915C-4F87-A2A3-ACE17C25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2A2DF-0FE6-4C48-AF25-6F2634A2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E37D0-6E62-4EC7-80CB-AF09688A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EE526-D1E6-432C-9D34-1026603B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EB8-C0D7-4527-B070-63999FD6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16C69-B63F-4E60-822A-810B5E98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F9BFF-57BD-4B5D-9582-65316504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42497-CA5C-479A-BB21-A0B24638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23D7B-DCC7-414A-8912-3EAE210C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A0D78-12FE-4B45-AF9A-58E79F52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4E8F1-88DD-40A8-A3CE-90C6C356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B9D6C-0D2C-4282-9BEE-2819643C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50375-0B66-4072-BDCE-5421E575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C94CD-9EA5-4F12-9FFA-BE7B4DA8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2875F-2328-4EC7-9B0C-63DFD0D4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E77-D544-44FA-B192-FF632FE1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6E8CD-B4D9-4ED1-97C8-F056D003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44D3B-D1E2-43E2-BA5A-019F4F73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F672B-0E9C-4A75-A89A-75641AB6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DFA58-7344-4153-A134-9D216F29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2A088-AD3E-4089-812C-D52F71F0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6A99D-4309-455D-A573-D7B3F629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61B06-396D-417F-97DD-CC1B1A45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48EA0-D40F-441D-8EB4-232083A9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17F61-8854-47AB-A5B2-C76B383C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96EC7-4397-46F2-835E-65254EE7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E03-C521-477C-A723-28141396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B73D9-61B0-4E3B-8177-76A92460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D38D7-7439-45E8-8407-6741BBD4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63BD9-9E03-4B0A-8C81-DFE23177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14C1A-88C6-4ECB-8CC0-6D21000E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1F2EA-E3D9-4093-828F-0D3654A4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C459B-9FC6-4D57-9A05-6E09A1E6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BFD53-A5D3-4B29-BE0E-499ECCD6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2223F-3FBD-439F-923A-85D7D0BE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98444-181E-4464-83E7-4C4B1609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4B040-B60F-4FA7-9CFD-1DF30AB0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77E8-9435-465E-87A8-F8C69004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86A10-E474-4BEF-BAF8-030A3092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C7E55-9A8F-493D-9714-E97B9DD8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6DAEB-D411-4009-B350-3BEE2A7B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5740D-1C9C-4A23-8E94-6640B465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47DB5-FE1F-4F87-8E9B-9CBED2F2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78050-7D6A-4C4D-BAA7-492C7BAA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C414F-FEC2-465C-A1E2-5A17E67A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8AA80-BC5E-490B-84A6-A82EB894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29FFB-21C5-4431-ACBE-1D1F5254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70963-95BD-494E-AD3D-F9C09595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766-CA4E-4DEA-B405-F30757E9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FD791-0F95-4EEE-9DBA-BE0CE21E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430E9-51F4-4450-9974-A0BF8E5B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8724E-A594-4452-830D-A9B11F87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827D5-0558-4B33-9350-008EA913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B0900-5639-4171-940E-160C5508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CC05B-3317-4A93-98F0-6A8CF52D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B7AD9-834E-434C-B471-8A088491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11D1B-BE0E-43DD-8096-264E9D03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60221-8730-475A-A029-F774F6D0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41951-A794-4750-8863-045AC579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4793A-05E9-4579-9FD0-BE2B71206F3D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AB4E7-45E4-4FFF-AD38-619E94B296C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6E65D-58D5-45C8-B3F0-307043079C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CADD1-C3D1-4ADD-817D-0A8A58C88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C9945-0433-4E53-A531-C117D5290B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F1589-CD3A-4733-B5DE-5D88B3E71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50901-A37D-4955-90DD-9E86A7F494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269E8-5DFF-4576-8365-0E329192B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06D88-48F5-443E-B181-B9F83F5494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7A9C3-1AFF-4C2D-AB02-36739EFC3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7805E-6D18-477C-B9FD-B588EDB96D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ACCA9-1656-49D0-8AAA-2ACC90894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601C7-0ADF-4346-93A4-F549D74329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71066-8B2E-4B30-AF8D-E16F5ED05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8F199-0575-4E98-8507-98D716034F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E5950-B7D4-41D8-ABA1-30BAEBF29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09EAA-EB2B-4B5E-A4F1-CDADC631EA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1294A-A098-4206-9276-CCCF75D79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03ABA-1E76-432D-B1FF-A33E976B58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3F678-F946-4AD3-905A-BAB520FC2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DDA28-FE99-4C02-8489-360FF068A7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95AE6-B834-401F-9A62-871DBFC0C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800FC-EBE9-4CCE-8C4E-C89240F965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E768D-5E10-4675-A9E3-553361DF4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emedicine.com/neuro/images/681MissingFingers.gif" TargetMode="External"/><Relationship Id="rId3" Type="http://schemas.openxmlformats.org/officeDocument/2006/relationships/image" Target="../media/image26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4811760"/>
            <a:ext cx="7772400" cy="2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mbria"/>
                <a:ea typeface="Arial"/>
              </a:rPr>
              <a:t>Nucleotide Metabolism</a:t>
            </a:r>
            <a:br>
              <a:rPr sz="4400"/>
            </a:br>
            <a:r>
              <a:rPr b="1" lang="en-US" sz="4400" spc="-1" strike="noStrike">
                <a:solidFill>
                  <a:srgbClr val="9933ff"/>
                </a:solidFill>
                <a:latin typeface="Cambria"/>
                <a:ea typeface="Arial"/>
              </a:rPr>
              <a:t>-Biosynthesis-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8E255-E8F5-4DBE-B45D-50328452549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4"/>
          <p:cNvSpPr/>
          <p:nvPr/>
        </p:nvSpPr>
        <p:spPr>
          <a:xfrm>
            <a:off x="7086600" y="5335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152280" y="5715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5" descr="molecular%20biology%20major.jpg"/>
          <p:cNvPicPr/>
          <p:nvPr/>
        </p:nvPicPr>
        <p:blipFill>
          <a:blip r:embed="rId1"/>
          <a:stretch/>
        </p:blipFill>
        <p:spPr>
          <a:xfrm>
            <a:off x="228600" y="304920"/>
            <a:ext cx="2927520" cy="2057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BioLogo2small"/>
          <p:cNvPicPr/>
          <p:nvPr/>
        </p:nvPicPr>
        <p:blipFill>
          <a:blip r:embed="rId2"/>
          <a:stretch/>
        </p:blipFill>
        <p:spPr>
          <a:xfrm>
            <a:off x="6977160" y="874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77920" y="328680"/>
            <a:ext cx="914400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      </a:t>
            </a: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Step 1: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Activation of ribose-5-phosph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2" descr="purin1"/>
          <p:cNvPicPr/>
          <p:nvPr/>
        </p:nvPicPr>
        <p:blipFill>
          <a:blip r:embed="rId1"/>
          <a:stretch/>
        </p:blipFill>
        <p:spPr>
          <a:xfrm>
            <a:off x="2581200" y="2265480"/>
            <a:ext cx="6042240" cy="17748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9" name="Picture 5" descr=""/>
          <p:cNvPicPr/>
          <p:nvPr/>
        </p:nvPicPr>
        <p:blipFill>
          <a:blip r:embed="rId2"/>
          <a:stretch/>
        </p:blipFill>
        <p:spPr>
          <a:xfrm>
            <a:off x="7369200" y="1084320"/>
            <a:ext cx="947880" cy="151128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7"/>
          <p:cNvSpPr/>
          <p:nvPr/>
        </p:nvSpPr>
        <p:spPr>
          <a:xfrm>
            <a:off x="277920" y="4410000"/>
            <a:ext cx="7603920" cy="173664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92160" indent="-92160">
              <a:lnSpc>
                <a:spcPct val="100000"/>
              </a:lnSpc>
              <a:buClr>
                <a:srgbClr val="ff0000"/>
              </a:buClr>
              <a:buSzPct val="8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  <a:ea typeface="Arial"/>
              </a:rPr>
              <a:t>Enzyme: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Ribose phosphate pyrophosphokin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2160" indent="-92160">
              <a:lnSpc>
                <a:spcPct val="100000"/>
              </a:lnSpc>
              <a:buClr>
                <a:srgbClr val="ff0000"/>
              </a:buClr>
              <a:buSzPct val="8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Perpetua"/>
                <a:ea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  <a:ea typeface="Arial"/>
              </a:rPr>
              <a:t>Product: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5-phosphoribosyl-a-pyrophosphate (PRPP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2160" indent="-92160">
              <a:lnSpc>
                <a:spcPct val="100000"/>
              </a:lnSpc>
              <a:buClr>
                <a:srgbClr val="ff0000"/>
              </a:buClr>
              <a:buSzPct val="8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PRPP is also a precursor in the biosynthesis of </a:t>
            </a: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Arial"/>
              </a:rPr>
              <a:t>pyrimidin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 nucleotides and the amino acids </a:t>
            </a: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Arial"/>
              </a:rPr>
              <a:t>histidine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&amp;</a:t>
            </a: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Arial"/>
              </a:rPr>
              <a:t> tryptoph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2160" indent="-92160">
              <a:lnSpc>
                <a:spcPct val="100000"/>
              </a:lnSpc>
              <a:buClr>
                <a:srgbClr val="ff0000"/>
              </a:buClr>
              <a:buSzPct val="8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This step is tightly regulated by feedback inhib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18600" y="500040"/>
            <a:ext cx="6991560" cy="9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      </a:t>
            </a: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Step 2: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Acquisition of purine atom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2" descr="purin2"/>
          <p:cNvPicPr/>
          <p:nvPr/>
        </p:nvPicPr>
        <p:blipFill>
          <a:blip r:embed="rId1"/>
          <a:stretch/>
        </p:blipFill>
        <p:spPr>
          <a:xfrm>
            <a:off x="5511960" y="1413000"/>
            <a:ext cx="3319200" cy="33908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3" name="Rectangle 2"/>
          <p:cNvSpPr/>
          <p:nvPr/>
        </p:nvSpPr>
        <p:spPr>
          <a:xfrm>
            <a:off x="318960" y="4941720"/>
            <a:ext cx="8650440" cy="192276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In this </a:t>
            </a:r>
            <a:r>
              <a:rPr b="0" lang="en-US" sz="2400" spc="-1" strike="noStrike">
                <a:solidFill>
                  <a:srgbClr val="e214d8"/>
                </a:solidFill>
                <a:latin typeface="Perpetua"/>
                <a:ea typeface="Perpetua"/>
              </a:rPr>
              <a:t>committed step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, an amino group donated by glutamine is attached      at C-1 of PRP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Perpetua"/>
              </a:rPr>
              <a:t>Enzyme: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Amidophosphoribosyl transfer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Perpet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Perpetua"/>
              </a:rPr>
              <a:t>Product: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Resulting in the formation of </a:t>
            </a:r>
            <a:r>
              <a:rPr b="1" lang="en-US" sz="2400" spc="-1" strike="noStrike">
                <a:solidFill>
                  <a:srgbClr val="008000"/>
                </a:solidFill>
                <a:latin typeface="Perpetua"/>
                <a:ea typeface="Perpetua"/>
              </a:rPr>
              <a:t>5-phosphoribosylam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8" descr="http://josephdevon.com/wp-content/uploads/thinking-guy.jpg"/>
          <p:cNvPicPr/>
          <p:nvPr/>
        </p:nvPicPr>
        <p:blipFill>
          <a:blip r:embed="rId2"/>
          <a:stretch/>
        </p:blipFill>
        <p:spPr>
          <a:xfrm>
            <a:off x="0" y="2384280"/>
            <a:ext cx="2705040" cy="2697480"/>
          </a:xfrm>
          <a:prstGeom prst="rect">
            <a:avLst/>
          </a:prstGeom>
          <a:ln w="0">
            <a:noFill/>
          </a:ln>
        </p:spPr>
      </p:pic>
      <p:sp>
        <p:nvSpPr>
          <p:cNvPr id="545" name="Rounded Rectangular Callout 6"/>
          <p:cNvSpPr/>
          <p:nvPr/>
        </p:nvSpPr>
        <p:spPr>
          <a:xfrm>
            <a:off x="2233440" y="1736640"/>
            <a:ext cx="2813400" cy="890640"/>
          </a:xfrm>
          <a:prstGeom prst="wedgeRoundRectCallout">
            <a:avLst>
              <a:gd name="adj1" fmla="val -63222"/>
              <a:gd name="adj2" fmla="val 113495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What is the properties of committe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" descr=""/>
          <p:cNvPicPr/>
          <p:nvPr/>
        </p:nvPicPr>
        <p:blipFill>
          <a:blip r:embed="rId3"/>
          <a:stretch/>
        </p:blipFill>
        <p:spPr>
          <a:xfrm>
            <a:off x="8037360" y="485640"/>
            <a:ext cx="7938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0" y="789120"/>
            <a:ext cx="914400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30ffc"/>
                </a:solidFill>
                <a:latin typeface="Perpetua"/>
              </a:rPr>
              <a:t>    </a:t>
            </a:r>
            <a:r>
              <a:rPr b="1" lang="en-US" sz="2600" spc="-1" strike="noStrike">
                <a:solidFill>
                  <a:srgbClr val="830ffc"/>
                </a:solidFill>
                <a:latin typeface="Perpetua"/>
              </a:rPr>
              <a:t>Step 3: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Acquisition of purine atoms C4, C5, and N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purin3"/>
          <p:cNvPicPr/>
          <p:nvPr/>
        </p:nvPicPr>
        <p:blipFill>
          <a:blip r:embed="rId1"/>
          <a:stretch/>
        </p:blipFill>
        <p:spPr>
          <a:xfrm>
            <a:off x="5775480" y="1940040"/>
            <a:ext cx="3073320" cy="31575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9" name="Rectangle 1"/>
          <p:cNvSpPr/>
          <p:nvPr/>
        </p:nvSpPr>
        <p:spPr>
          <a:xfrm>
            <a:off x="371520" y="5184720"/>
            <a:ext cx="8286840" cy="119124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Phosphoribosylamine reacts with ATP and glycine to produce </a:t>
            </a:r>
            <a:r>
              <a:rPr b="0" lang="en-US" sz="2400" spc="-1" strike="noStrike">
                <a:solidFill>
                  <a:srgbClr val="008000"/>
                </a:solidFill>
                <a:latin typeface="Perpetua"/>
                <a:ea typeface="Perpetua"/>
              </a:rPr>
              <a:t>glycinamide ribonucleotide (GA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Perpetua"/>
                <a:ea typeface="Perpet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Perpetua"/>
              </a:rPr>
              <a:t>Enzyme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Glycinamide synthet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2"/>
          <a:stretch/>
        </p:blipFill>
        <p:spPr>
          <a:xfrm>
            <a:off x="7899480" y="789120"/>
            <a:ext cx="949320" cy="15112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5"/>
          <p:cNvSpPr/>
          <p:nvPr/>
        </p:nvSpPr>
        <p:spPr>
          <a:xfrm>
            <a:off x="6735600" y="3287880"/>
            <a:ext cx="47880" cy="231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-57240" y="297000"/>
            <a:ext cx="53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 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Step 4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Acquisition of purine atom C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Formylation of free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-amino group of G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  <a:ea typeface="Perpetua"/>
              </a:rPr>
              <a:t>Enzyme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GAR transformyl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  <a:ea typeface="Perpetua"/>
              </a:rPr>
              <a:t>Co-factor of enzyme 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Perpetua"/>
                <a:ea typeface="Perpetu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-formyl TH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 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Step 5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Acquisition of purine atom N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The amide amino group of a second glutamine is transferred to form formylglycinamidine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  <a:ea typeface="Perpetua"/>
              </a:rPr>
              <a:t>nucleotid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(FGAM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  <a:ea typeface="Perpetua"/>
              </a:rPr>
              <a:t>Enzyme: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 FGAM synthet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  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Step 6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Closing the 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Closing of the imidazole ring or formation of 5-aminoimidazole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  <a:ea typeface="Perpetua"/>
              </a:rPr>
              <a:t>nucleotide (AI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  <a:ea typeface="Perpetua"/>
              </a:rPr>
              <a:t>Enzyme: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 AIR synthet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4" descr="Screen Shot 2012-10-08 at 9.23.12 PM.png"/>
          <p:cNvPicPr/>
          <p:nvPr/>
        </p:nvPicPr>
        <p:blipFill>
          <a:blip r:embed="rId1"/>
          <a:srcRect l="1514" t="0" r="0" b="-1092"/>
          <a:stretch/>
        </p:blipFill>
        <p:spPr>
          <a:xfrm>
            <a:off x="5654520" y="841320"/>
            <a:ext cx="3122640" cy="56404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5862600" y="176040"/>
            <a:ext cx="8334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555120" y="923400"/>
            <a:ext cx="4583160" cy="6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0ffc"/>
                </a:solidFill>
                <a:latin typeface="Perpetua"/>
              </a:rPr>
              <a:t>      </a:t>
            </a: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Step 7: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Acquisition of C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purin7"/>
          <p:cNvPicPr/>
          <p:nvPr/>
        </p:nvPicPr>
        <p:blipFill>
          <a:blip r:embed="rId1"/>
          <a:stretch/>
        </p:blipFill>
        <p:spPr>
          <a:xfrm>
            <a:off x="1127160" y="2224080"/>
            <a:ext cx="7345440" cy="18162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7" name="Rectangle 5"/>
          <p:cNvSpPr/>
          <p:nvPr/>
        </p:nvSpPr>
        <p:spPr>
          <a:xfrm>
            <a:off x="254160" y="4629240"/>
            <a:ext cx="8588160" cy="16444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921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C6 is introduced as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 reaction is driven by hydrolysis of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Enzyme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AIR carboxylase (aminoimidazole ribo</a:t>
            </a:r>
            <a:r>
              <a:rPr b="0" lang="da-DK" sz="2400" spc="-1" strike="noStrike">
                <a:solidFill>
                  <a:srgbClr val="000000"/>
                </a:solidFill>
                <a:latin typeface="Perpetua"/>
                <a:ea typeface="Arial"/>
              </a:rPr>
              <a:t>nucleotid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carboxyla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Product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CAIR (carboxyaminoimidazole ribo</a:t>
            </a:r>
            <a:r>
              <a:rPr b="0" lang="da-DK" sz="2400" spc="-1" strike="noStrike">
                <a:solidFill>
                  <a:srgbClr val="000000"/>
                </a:solidFill>
                <a:latin typeface="Perpetua"/>
                <a:ea typeface="Arial"/>
              </a:rPr>
              <a:t>nucleotid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7472520" y="1290600"/>
            <a:ext cx="8316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61560" y="223920"/>
            <a:ext cx="520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Step 8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Acquisition of N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1 is acquired from aspartate in an amide condensation reaction that is driven by hydrolysis of ATP to produce 5-aminoimidazole-4-(N-succinylocarboxamide)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</a:rPr>
              <a:t>nucleotid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(SAICA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</a:rPr>
              <a:t>Enzyme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AICAR synthet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Step 9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imination of fumarate by the action of </a:t>
            </a:r>
            <a:r>
              <a:rPr b="0" lang="en-US" sz="2000" spc="-1" strike="noStrike">
                <a:solidFill>
                  <a:srgbClr val="e214d8"/>
                </a:solidFill>
                <a:latin typeface="Perpetua"/>
              </a:rPr>
              <a:t>adenylosuccinate lyas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o produce 5-aminoimidazole-4-carboxamide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</a:rPr>
              <a:t>nucleotid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(AIC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Step 10</a:t>
            </a: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Acquisition of C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other formylation reaction catalyzed by </a:t>
            </a:r>
            <a:r>
              <a:rPr b="0" lang="en-US" sz="2000" spc="-1" strike="noStrike">
                <a:solidFill>
                  <a:srgbClr val="e214d8"/>
                </a:solidFill>
                <a:latin typeface="Perpetua"/>
              </a:rPr>
              <a:t>AICAR transformylas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results in the formation of 5-formylaminoimidazole-4-carboxamide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</a:rPr>
              <a:t>nucleotid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FAIC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3" descr="Screen Shot 2012-10-08 at 10.48.43 PM.png"/>
          <p:cNvPicPr/>
          <p:nvPr/>
        </p:nvPicPr>
        <p:blipFill>
          <a:blip r:embed="rId1"/>
          <a:stretch/>
        </p:blipFill>
        <p:spPr>
          <a:xfrm>
            <a:off x="5519880" y="223920"/>
            <a:ext cx="3341520" cy="64339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8193240" y="0"/>
            <a:ext cx="66816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Biochemistry in medic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BFB2E-2ED3-4101-987A-412C1C284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866880" y="2576520"/>
            <a:ext cx="7819920" cy="22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ependence of purine biosynthesis on folic acid compounds at Steps 4 and 10 means that antagonists of folic acid metabolism indirectly inhibit purine formation and, in turn, nucleic acid synthesis, cell growth, and cell divi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early, rapidly dividing cells such as malignancies or infective bacteria are more susceptible to these antagonists than slower-growing normal cell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7289640" y="4295880"/>
            <a:ext cx="16830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8280" y="54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Step 11: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Cyclization or ring closu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2" descr="purin11"/>
          <p:cNvPicPr/>
          <p:nvPr/>
        </p:nvPicPr>
        <p:blipFill>
          <a:blip r:embed="rId1"/>
          <a:stretch/>
        </p:blipFill>
        <p:spPr>
          <a:xfrm>
            <a:off x="5153040" y="1117440"/>
            <a:ext cx="2984400" cy="37893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8" name="Rectangle 4"/>
          <p:cNvSpPr/>
          <p:nvPr/>
        </p:nvSpPr>
        <p:spPr>
          <a:xfrm>
            <a:off x="555480" y="5254560"/>
            <a:ext cx="7998120" cy="143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Water is eliminated by the action of inosine monophosphate (IMP) synt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In contrast to step 6 (closure of the imidazole ring), this reaction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  <a:ea typeface="MS PGothic"/>
              </a:rPr>
              <a:t>does not    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require ATP hydroly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Once IMP is formed, it is rapidly converted to AMP and GM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" descr=""/>
          <p:cNvPicPr/>
          <p:nvPr/>
        </p:nvPicPr>
        <p:blipFill>
          <a:blip r:embed="rId2"/>
          <a:stretch/>
        </p:blipFill>
        <p:spPr>
          <a:xfrm>
            <a:off x="7719840" y="546120"/>
            <a:ext cx="8337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Biosynthesis of AMP and GMP from IMP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A5E21-882A-4F60-BA06-444D43B9F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5" descr=""/>
          <p:cNvPicPr/>
          <p:nvPr/>
        </p:nvPicPr>
        <p:blipFill>
          <a:blip r:embed="rId1"/>
          <a:stretch/>
        </p:blipFill>
        <p:spPr>
          <a:xfrm>
            <a:off x="495360" y="1128600"/>
            <a:ext cx="8153280" cy="50770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2"/>
          <p:cNvSpPr/>
          <p:nvPr/>
        </p:nvSpPr>
        <p:spPr>
          <a:xfrm>
            <a:off x="415800" y="243000"/>
            <a:ext cx="836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  <a:ea typeface="Cambria"/>
              </a:rPr>
              <a:t>Purine nucleotide biosynthesis is regulated by feedback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ounded Rectangle 14"/>
          <p:cNvSpPr/>
          <p:nvPr/>
        </p:nvSpPr>
        <p:spPr>
          <a:xfrm>
            <a:off x="185760" y="5475240"/>
            <a:ext cx="6029280" cy="123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SimSun"/>
              </a:rPr>
              <a:t>The significance of regulation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SimSu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Fulfill the need of the body,  without wast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GT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]=[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AT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"/>
          <p:cNvPicPr/>
          <p:nvPr/>
        </p:nvPicPr>
        <p:blipFill>
          <a:blip r:embed="rId1"/>
          <a:stretch/>
        </p:blipFill>
        <p:spPr>
          <a:xfrm>
            <a:off x="5245200" y="1496880"/>
            <a:ext cx="3537000" cy="42562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Lucida Calligraphy"/>
              </a:rPr>
              <a:t>Significances of nucleot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8560" y="1600200"/>
            <a:ext cx="83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y are precursors of DNA and 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y are the energy currency in metabolic trans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y are components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30f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Cofactors 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ch as NAD, FAD, S-adenosylmethionine, and coenzyme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30f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Activated biosynthetic intermediates 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ch as UDP-glucose and CDP-diacylglyce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30f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Second messengers 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ch as cAMP and cG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10E96-38F9-4DD5-A571-E140BED2D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95200" y="23184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Salvage Pathway of Pur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5200" y="82188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wo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osphoribosyl transferases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re involved in this pathwa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denosine phosphoribosyl transferase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(APRT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nl-NL" sz="2000" spc="-1" strike="noStrike">
                <a:solidFill>
                  <a:srgbClr val="0000ff"/>
                </a:solidFill>
                <a:latin typeface="Perpetua"/>
              </a:rPr>
              <a:t>Adenine + PRPP                           AMP + 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Hypoxanthine-guanine phosphoribosyl transferase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(HGPR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Hypoxanthine + PRPP                           IMP + 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Guanine + PRPP    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                        GMP + 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8" name="Straight Arrow Connector 4"/>
          <p:cNvCxnSpPr/>
          <p:nvPr/>
        </p:nvCxnSpPr>
        <p:spPr>
          <a:xfrm>
            <a:off x="2679480" y="2488680"/>
            <a:ext cx="11149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9" name="Straight Arrow Connector 7"/>
          <p:cNvCxnSpPr/>
          <p:nvPr/>
        </p:nvCxnSpPr>
        <p:spPr>
          <a:xfrm>
            <a:off x="3114360" y="4152600"/>
            <a:ext cx="13294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0" name="Straight Arrow Connector 8"/>
          <p:cNvCxnSpPr/>
          <p:nvPr/>
        </p:nvCxnSpPr>
        <p:spPr>
          <a:xfrm>
            <a:off x="3130200" y="3558960"/>
            <a:ext cx="13294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81" name="Rounded Rectangular Callout 11"/>
          <p:cNvSpPr/>
          <p:nvPr/>
        </p:nvSpPr>
        <p:spPr>
          <a:xfrm>
            <a:off x="6249960" y="1712880"/>
            <a:ext cx="2789280" cy="776160"/>
          </a:xfrm>
          <a:prstGeom prst="wedgeRoundRectCallout">
            <a:avLst>
              <a:gd name="adj1" fmla="val -64041"/>
              <a:gd name="adj2" fmla="val -5583"/>
              <a:gd name="adj3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Arial"/>
              </a:rPr>
              <a:t>APR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 is not very important because it generate little ade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ounded Rectangular Callout 12"/>
          <p:cNvSpPr/>
          <p:nvPr/>
        </p:nvSpPr>
        <p:spPr>
          <a:xfrm>
            <a:off x="6249960" y="3559320"/>
            <a:ext cx="2685960" cy="776160"/>
          </a:xfrm>
          <a:prstGeom prst="wedgeRoundRectCallout">
            <a:avLst>
              <a:gd name="adj1" fmla="val -37750"/>
              <a:gd name="adj2" fmla="val -71254"/>
              <a:gd name="adj3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rtl="1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Arial"/>
              </a:rPr>
              <a:t>HGPR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, is exceptionally important and it is inhibited by both IMP and G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2951280" y="4699080"/>
            <a:ext cx="3313080" cy="184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4" name="Minus 9"/>
          <p:cNvSpPr/>
          <p:nvPr/>
        </p:nvSpPr>
        <p:spPr>
          <a:xfrm rot="5400000">
            <a:off x="3595320" y="3422520"/>
            <a:ext cx="397080" cy="272880"/>
          </a:xfrm>
          <a:custGeom>
            <a:avLst/>
            <a:gdLst>
              <a:gd name="textAreaLeft" fmla="*/ 52560 w 397080"/>
              <a:gd name="textAreaRight" fmla="*/ 344520 w 397080"/>
              <a:gd name="textAreaTop" fmla="*/ 104400 h 272880"/>
              <a:gd name="textAreaBottom" fmla="*/ 168480 h 272880"/>
            </a:gdLst>
            <a:ahLst/>
            <a:rect l="textAreaLeft" t="textAreaTop" r="textAreaRight" b="textAreaBottom"/>
            <a:pathLst>
              <a:path w="396875" h="273050">
                <a:moveTo>
                  <a:pt x="52606" y="104414"/>
                </a:moveTo>
                <a:lnTo>
                  <a:pt x="344269" y="104414"/>
                </a:lnTo>
                <a:lnTo>
                  <a:pt x="344269" y="168636"/>
                </a:lnTo>
                <a:lnTo>
                  <a:pt x="52606" y="16863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Minus 10"/>
          <p:cNvSpPr/>
          <p:nvPr/>
        </p:nvSpPr>
        <p:spPr>
          <a:xfrm rot="5400000">
            <a:off x="3596400" y="4017240"/>
            <a:ext cx="395280" cy="272880"/>
          </a:xfrm>
          <a:custGeom>
            <a:avLst/>
            <a:gdLst>
              <a:gd name="textAreaLeft" fmla="*/ 52200 w 395280"/>
              <a:gd name="textAreaRight" fmla="*/ 343080 w 395280"/>
              <a:gd name="textAreaTop" fmla="*/ 104400 h 272880"/>
              <a:gd name="textAreaBottom" fmla="*/ 168480 h 272880"/>
            </a:gdLst>
            <a:ahLst/>
            <a:rect l="textAreaLeft" t="textAreaTop" r="textAreaRight" b="textAreaBottom"/>
            <a:pathLst>
              <a:path w="395288" h="273050">
                <a:moveTo>
                  <a:pt x="52395" y="104414"/>
                </a:moveTo>
                <a:lnTo>
                  <a:pt x="342893" y="104414"/>
                </a:lnTo>
                <a:lnTo>
                  <a:pt x="342893" y="168636"/>
                </a:lnTo>
                <a:lnTo>
                  <a:pt x="52395" y="16863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324000" y="1353600"/>
            <a:ext cx="865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utations in genes that encode nucleotide biosynthetic enzymes can reduce levels of needed nucleotides and can lead to an accumulation of intermediat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Perpetua"/>
              </a:rPr>
              <a:t>Lesch-Nyhan syndrome</a:t>
            </a:r>
            <a:r>
              <a:rPr b="0" lang="en-US" sz="2000" spc="-1" strike="noStrike">
                <a:solidFill>
                  <a:srgbClr val="00b05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compulsive self-destructive behavior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, caused by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deficiency of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hypoxanthine-guanine phosphoribosyltransferase </a:t>
            </a:r>
            <a:r>
              <a:rPr b="1" lang="en-US" sz="2200" spc="-1" strike="noStrike">
                <a:solidFill>
                  <a:srgbClr val="830ffc"/>
                </a:solidFill>
                <a:latin typeface="Perpetua"/>
              </a:rPr>
              <a:t>(HGPRT)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of salvage pathway, The disease is inherited as a sex-linked recessive disord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the absence of HGPRT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, PRPP levels rise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nd purines are overproduced by the de novo pathway, resulting in high levels of uric acid production and gout-like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damage to tissu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The brain is especially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dependent on the salvage pathways, and this may account for the central nervous system damage in children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with Lesch-Nyhan syndro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3" descr="athome"/>
          <p:cNvPicPr/>
          <p:nvPr/>
        </p:nvPicPr>
        <p:blipFill>
          <a:blip r:embed="rId1"/>
          <a:stretch/>
        </p:blipFill>
        <p:spPr>
          <a:xfrm>
            <a:off x="5297400" y="4791240"/>
            <a:ext cx="2127240" cy="21891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681MissingFinge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86640" y="5237280"/>
            <a:ext cx="1828800" cy="16938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549360" y="382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Lucida Calligraphy"/>
              </a:rPr>
              <a:t>      </a:t>
            </a:r>
            <a:r>
              <a:rPr b="0" lang="en-US" sz="3000" spc="-1" strike="noStrike">
                <a:solidFill>
                  <a:srgbClr val="0000ff"/>
                </a:solidFill>
                <a:latin typeface="Lucida Calligraphy"/>
              </a:rPr>
              <a:t>Continu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4"/>
          <a:stretch/>
        </p:blipFill>
        <p:spPr>
          <a:xfrm>
            <a:off x="324000" y="201600"/>
            <a:ext cx="15699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64E34-7181-4C1A-BF47-02DF00E04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2232000" y="1074600"/>
            <a:ext cx="43210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</a:rPr>
              <a:t>Continu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19D1E-F3FE-4F0B-B81F-F02B4D1DC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" descr=""/>
          <p:cNvPicPr/>
          <p:nvPr/>
        </p:nvPicPr>
        <p:blipFill>
          <a:blip r:embed="rId1"/>
          <a:stretch/>
        </p:blipFill>
        <p:spPr>
          <a:xfrm>
            <a:off x="879480" y="1650960"/>
            <a:ext cx="7383600" cy="42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Pyrimidine Denovo 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377720"/>
            <a:ext cx="8229600" cy="36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is  a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shorter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pathway than for puri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The base is made first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then attached to ribose-P (unlike purine biosynthesi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quires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6 step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instead of 11 for purin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duct is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UMP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(uridine monophosphat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Only 2 precursor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aspartate and glutamine, plus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 contribute to the 6-membered 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9" descr="40-4                                                           00001607Macintosh HD                   ABA78158:"/>
          <p:cNvPicPr/>
          <p:nvPr/>
        </p:nvPicPr>
        <p:blipFill>
          <a:blip r:embed="rId1"/>
          <a:stretch/>
        </p:blipFill>
        <p:spPr>
          <a:xfrm>
            <a:off x="5937120" y="4788000"/>
            <a:ext cx="2921040" cy="17953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Line 10"/>
          <p:cNvSpPr/>
          <p:nvPr/>
        </p:nvSpPr>
        <p:spPr>
          <a:xfrm>
            <a:off x="2971800" y="3429000"/>
            <a:ext cx="6858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4"/>
          <p:cNvSpPr/>
          <p:nvPr/>
        </p:nvSpPr>
        <p:spPr>
          <a:xfrm flipV="1">
            <a:off x="2971800" y="3428640"/>
            <a:ext cx="0" cy="167652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6"/>
          <p:cNvSpPr/>
          <p:nvPr/>
        </p:nvSpPr>
        <p:spPr>
          <a:xfrm>
            <a:off x="2971800" y="5105520"/>
            <a:ext cx="6858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7"/>
          <p:cNvSpPr/>
          <p:nvPr/>
        </p:nvSpPr>
        <p:spPr>
          <a:xfrm flipV="1">
            <a:off x="3809880" y="2971440"/>
            <a:ext cx="0" cy="259092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8"/>
          <p:cNvSpPr/>
          <p:nvPr/>
        </p:nvSpPr>
        <p:spPr>
          <a:xfrm>
            <a:off x="3809880" y="2971800"/>
            <a:ext cx="121932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0"/>
          <p:cNvSpPr/>
          <p:nvPr/>
        </p:nvSpPr>
        <p:spPr>
          <a:xfrm flipV="1">
            <a:off x="5029200" y="2971440"/>
            <a:ext cx="0" cy="259092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denovo pyrimidine synthesis"/>
          <p:cNvPicPr/>
          <p:nvPr/>
        </p:nvPicPr>
        <p:blipFill>
          <a:blip r:embed="rId1"/>
          <a:srcRect l="3057" t="18118" r="2007" b="8561"/>
          <a:stretch/>
        </p:blipFill>
        <p:spPr>
          <a:xfrm>
            <a:off x="671400" y="1776240"/>
            <a:ext cx="7899480" cy="45054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41280" y="21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Pyrimidine Denovo 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5" descr=""/>
          <p:cNvPicPr/>
          <p:nvPr/>
        </p:nvPicPr>
        <p:blipFill>
          <a:blip r:embed="rId2"/>
          <a:stretch/>
        </p:blipFill>
        <p:spPr>
          <a:xfrm>
            <a:off x="671400" y="1112760"/>
            <a:ext cx="8334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3120" y="603360"/>
            <a:ext cx="86328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ambria"/>
              </a:rPr>
              <a:t>Nucleotide Mono-, Di-, and Triphosphates Are Interconvert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3"/>
          <p:cNvSpPr/>
          <p:nvPr/>
        </p:nvSpPr>
        <p:spPr>
          <a:xfrm>
            <a:off x="303120" y="1839960"/>
            <a:ext cx="828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How is the other major pyrimidine ribonucleotide, cytidine, 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is synthesized from the uracil base of UMP, but UMP is converted  into UTP before the synthesis can tak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i and triphosphates are the active forms of nucleotides in biosynthesis and energy convers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</a:rPr>
              <a:t>Continu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63E9B-EC80-4A2E-B108-962CF7FDE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3"/>
          <p:cNvSpPr/>
          <p:nvPr/>
        </p:nvSpPr>
        <p:spPr>
          <a:xfrm>
            <a:off x="457200" y="1733400"/>
            <a:ext cx="8229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Nucleoside monophosphates are converted into nucleoside triphosphates in st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</a:rPr>
              <a:t>First,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nucleoside monophosphates are converted into diphosphates by specific  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nucleoside monophosphate kinases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that utilize ATP as the phosphoryl-group donor.    </a:t>
            </a:r>
            <a:r>
              <a:rPr b="1" lang="en-US" sz="2200" spc="-1" strike="noStrike">
                <a:solidFill>
                  <a:srgbClr val="c00000"/>
                </a:solidFill>
                <a:latin typeface="Perpetua"/>
              </a:rPr>
              <a:t>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MP + ATP                         UDP + 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</a:rPr>
              <a:t>Second,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Nucleoside diphosphates and triphosphates are interconverted by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nucleoside diphosphate kinase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n enzyme that has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broad specificity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, in contrast with the monophosphate kinas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DP + YTP                              XTR + Y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3884760" y="35146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UMP kin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Straight Arrow Connector 5"/>
          <p:cNvCxnSpPr/>
          <p:nvPr/>
        </p:nvCxnSpPr>
        <p:spPr>
          <a:xfrm>
            <a:off x="3884400" y="3884400"/>
            <a:ext cx="1470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15" name="Straight Arrow Connector 10"/>
          <p:cNvCxnSpPr/>
          <p:nvPr/>
        </p:nvCxnSpPr>
        <p:spPr>
          <a:xfrm>
            <a:off x="3146400" y="5524200"/>
            <a:ext cx="22089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616" name="TextBox 11"/>
          <p:cNvSpPr/>
          <p:nvPr/>
        </p:nvSpPr>
        <p:spPr>
          <a:xfrm>
            <a:off x="2738520" y="5232240"/>
            <a:ext cx="28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nucleoside diphosphate kin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E5D18-D3C7-40B3-9F8E-A18AA2F45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CTP Is Formed by Amination of U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6"/>
          <p:cNvSpPr/>
          <p:nvPr/>
        </p:nvSpPr>
        <p:spPr>
          <a:xfrm>
            <a:off x="457200" y="1417680"/>
            <a:ext cx="8424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fter uridine triphosphate has been formed, it can be transformed into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cytidine triphosphate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by the replacement of a carbonyl group by an amino gro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reaction requires ATP and uses glutamine as the source of the amino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gro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CTP can be used then in many biochemical processes, including RNA synthesi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3" descr=""/>
          <p:cNvPicPr/>
          <p:nvPr/>
        </p:nvPicPr>
        <p:blipFill>
          <a:blip r:embed="rId1"/>
          <a:stretch/>
        </p:blipFill>
        <p:spPr>
          <a:xfrm>
            <a:off x="2266920" y="4317840"/>
            <a:ext cx="5038920" cy="18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Thymidylate Is Formed by the Methylation of Deoxyuridy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D6054-D4CC-461B-8F6F-738EB0BAB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3"/>
          <p:cNvSpPr/>
          <p:nvPr/>
        </p:nvSpPr>
        <p:spPr>
          <a:xfrm>
            <a:off x="457200" y="1793880"/>
            <a:ext cx="8229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Uracil, produced by the pyrimidine synthesis pathway, is not a component of    DNA. Rather, DNA contains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</a:rPr>
              <a:t>thymine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methylated analog of urac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nother step is required to generate thymidylate from uracil.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Thymidylate synthase catalyzes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step -deoxyuridylate (dUMP) is methylated to thymidylate (TMP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methylation of this nucleotide facilitates the identification of DNA damage for repair and, hence, helps preserve the integrity of the genetic information stored in DN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Lucida Calligraphy"/>
              </a:rPr>
              <a:t>Overview of Nucleotide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05567-D431-4E0C-9ADF-E21A53265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770040" y="1744560"/>
            <a:ext cx="7602480" cy="443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B6CDE-6633-46ED-A899-28C2938F7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ounded Rectangle 4"/>
          <p:cNvSpPr/>
          <p:nvPr/>
        </p:nvSpPr>
        <p:spPr>
          <a:xfrm>
            <a:off x="272880" y="5248440"/>
            <a:ext cx="8871120" cy="95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Conversion of dUMP to dTMP by thymidylate synthase and dihydrofolate reductase. In the synthesis of dTMP, all three hydrogens of the added methyl group are derived from the N</a:t>
            </a:r>
            <a:r>
              <a:rPr b="0" lang="en-GB" sz="1600" spc="-1" strike="noStrike" baseline="30000">
                <a:solidFill>
                  <a:srgbClr val="0000ff"/>
                </a:solidFill>
                <a:latin typeface="Comic Sans MS"/>
              </a:rPr>
              <a:t>5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,N</a:t>
            </a:r>
            <a:r>
              <a:rPr b="0" lang="en-GB" sz="1600" spc="-1" strike="noStrike" baseline="30000">
                <a:solidFill>
                  <a:srgbClr val="0000ff"/>
                </a:solidFill>
                <a:latin typeface="Comic Sans MS"/>
              </a:rPr>
              <a:t>10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-methylenetetrahydrofolate, as shown in red and gr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2" descr=""/>
          <p:cNvPicPr/>
          <p:nvPr/>
        </p:nvPicPr>
        <p:blipFill>
          <a:blip r:embed="rId1"/>
          <a:stretch/>
        </p:blipFill>
        <p:spPr>
          <a:xfrm>
            <a:off x="5213520" y="447840"/>
            <a:ext cx="3306600" cy="473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4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</a:rPr>
              <a:t>Continu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Orotic acidu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3BDB7-497A-41F6-BD54-404CC949B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3"/>
          <p:cNvSpPr/>
          <p:nvPr/>
        </p:nvSpPr>
        <p:spPr>
          <a:xfrm>
            <a:off x="220680" y="1163520"/>
            <a:ext cx="82152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ecause the products of pyrimidine catabolism are soluble, few disorders result from excess levels of their synthesis or cataboli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wo inherited disorders affecting pyrimidine biosynthesis are the result of deficiencies in the bifunctional enzyme catalyzing the last two steps of UMP synthesis, orotate phosphoribosyl transferase and OMP decarboxyl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se deficiencies result in orotic aciduria that causes retarded growth, and severe anem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7731000" y="5297400"/>
            <a:ext cx="12416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Regulation of pyrimidine nucleotide bio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1"/>
          <p:cNvSpPr/>
          <p:nvPr/>
        </p:nvSpPr>
        <p:spPr>
          <a:xfrm>
            <a:off x="84240" y="2244600"/>
            <a:ext cx="44607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regulation of pyrimidine synthesis occurs mainly at the first step which is catalyzed by aspartate transcarbamoylase,  ATCas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hibited by CTP and activated by A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5" descr=""/>
          <p:cNvPicPr/>
          <p:nvPr/>
        </p:nvPicPr>
        <p:blipFill>
          <a:blip r:embed="rId1"/>
          <a:stretch/>
        </p:blipFill>
        <p:spPr>
          <a:xfrm>
            <a:off x="4545000" y="2075040"/>
            <a:ext cx="43099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ounded Rectangle 16"/>
          <p:cNvSpPr/>
          <p:nvPr/>
        </p:nvSpPr>
        <p:spPr>
          <a:xfrm>
            <a:off x="457200" y="1246320"/>
            <a:ext cx="8229600" cy="435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PRPP       P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Pyrimidine                                               pyrimidine ribonucleoside  monophosph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Pyrimidine phosphoribos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transphera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عنصر نائب لرقم الشريحة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5A6B6-40D8-479E-B39E-6C1745206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رابط كسهم مستقيم 5"/>
          <p:cNvCxnSpPr/>
          <p:nvPr/>
        </p:nvCxnSpPr>
        <p:spPr>
          <a:xfrm>
            <a:off x="2120760" y="2295000"/>
            <a:ext cx="135504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9" name="رابط كسهم مستقيم 7"/>
          <p:cNvCxnSpPr/>
          <p:nvPr/>
        </p:nvCxnSpPr>
        <p:spPr>
          <a:xfrm flipV="1">
            <a:off x="2670120" y="1974600"/>
            <a:ext cx="311760" cy="32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0" name="رابط كسهم مستقيم 8"/>
          <p:cNvCxnSpPr/>
          <p:nvPr/>
        </p:nvCxnSpPr>
        <p:spPr>
          <a:xfrm flipH="1" flipV="1">
            <a:off x="2341080" y="1974600"/>
            <a:ext cx="329040" cy="32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41" name="عنصر نائب للمحتوى 2"/>
          <p:cNvSpPr/>
          <p:nvPr/>
        </p:nvSpPr>
        <p:spPr>
          <a:xfrm>
            <a:off x="457200" y="3713040"/>
            <a:ext cx="822960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MS PGothic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MS PGothic"/>
              </a:rPr>
              <a:t>PRPP       PPi                                  H+        CO2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MS PGothic"/>
              </a:rPr>
              <a:t>Orotate                                                Orotidylate                                      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MS PGothic"/>
              </a:rPr>
              <a:t>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MS PGothic"/>
              </a:rPr>
              <a:t>Orotate  phosphoribosyle                   Orotidylate deoxyl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MS PGothic"/>
              </a:rPr>
              <a:t>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MS PGothic"/>
              </a:rPr>
              <a:t>transpher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رابط كسهم مستقيم 13"/>
          <p:cNvCxnSpPr/>
          <p:nvPr/>
        </p:nvCxnSpPr>
        <p:spPr>
          <a:xfrm>
            <a:off x="1838160" y="4328640"/>
            <a:ext cx="135360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3" name="رابط كسهم مستقيم 14"/>
          <p:cNvCxnSpPr/>
          <p:nvPr/>
        </p:nvCxnSpPr>
        <p:spPr>
          <a:xfrm flipH="1" flipV="1">
            <a:off x="2185560" y="4009680"/>
            <a:ext cx="3290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4" name="رابط كسهم مستقيم 15"/>
          <p:cNvCxnSpPr/>
          <p:nvPr/>
        </p:nvCxnSpPr>
        <p:spPr>
          <a:xfrm flipV="1">
            <a:off x="2514600" y="4001400"/>
            <a:ext cx="311760" cy="32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5" name="رابط كسهم مستقيم 18"/>
          <p:cNvCxnSpPr/>
          <p:nvPr/>
        </p:nvCxnSpPr>
        <p:spPr>
          <a:xfrm>
            <a:off x="4730400" y="4328640"/>
            <a:ext cx="135324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6" name="رابط كسهم مستقيم 19"/>
          <p:cNvCxnSpPr/>
          <p:nvPr/>
        </p:nvCxnSpPr>
        <p:spPr>
          <a:xfrm flipH="1" flipV="1">
            <a:off x="5062320" y="4001400"/>
            <a:ext cx="329040" cy="32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7" name="رابط كسهم مستقيم 20"/>
          <p:cNvCxnSpPr/>
          <p:nvPr/>
        </p:nvCxnSpPr>
        <p:spPr>
          <a:xfrm flipV="1">
            <a:off x="5390640" y="4001400"/>
            <a:ext cx="311760" cy="32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Pyrimidine Salvage pathwa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2C1E5-F967-43D4-AE9D-25103320A8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4"/>
          <p:cNvSpPr/>
          <p:nvPr/>
        </p:nvSpPr>
        <p:spPr>
          <a:xfrm>
            <a:off x="7086600" y="5335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6"/>
          <p:cNvSpPr/>
          <p:nvPr/>
        </p:nvSpPr>
        <p:spPr>
          <a:xfrm>
            <a:off x="152280" y="5715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46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mbria"/>
                <a:ea typeface="Arial"/>
              </a:rPr>
              <a:t>Part II-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mbria"/>
                <a:ea typeface="Arial"/>
              </a:rPr>
              <a:t>Nucleotides degradation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7A185-7395-4955-ABC7-7C1CAC145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1108080" y="565200"/>
            <a:ext cx="6450120" cy="477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5" name="Rectangle 3"/>
          <p:cNvSpPr/>
          <p:nvPr/>
        </p:nvSpPr>
        <p:spPr>
          <a:xfrm>
            <a:off x="609480" y="5553000"/>
            <a:ext cx="80773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Perpetu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Perpetua"/>
              </a:rPr>
              <a:t>Purine nucleotides (AMP and  GMP) are degraded by a pathway in which they lose their phosphate through the action of </a:t>
            </a:r>
            <a:r>
              <a:rPr b="1" lang="en-US" sz="1800" spc="-1" strike="noStrike">
                <a:solidFill>
                  <a:srgbClr val="008000"/>
                </a:solidFill>
                <a:latin typeface="Comic Sans MS"/>
                <a:ea typeface="Perpetua"/>
              </a:rPr>
              <a:t>5’- nucleotida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Perpetua"/>
              </a:rPr>
              <a:t>,to form adenosine and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Perpetua"/>
              </a:rPr>
              <a:t>guanosine respective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2120" y="33192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Purine Metabolism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27040" y="1301760"/>
            <a:ext cx="78278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enetic aberrations in human purine metabolism have been found, some with serious consequenc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Severe combined immunodeficiency disease (SC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eficiency of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adenosine deaminas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ads to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CI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in which T lymphocytes and B lymphocytes do not develop proper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ack of ADA leads to a 100-fold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increas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the cellular concentration of dATP, a </a:t>
            </a:r>
            <a:r>
              <a:rPr b="1" lang="en-US" sz="2400" spc="-1" strike="noStrike">
                <a:solidFill>
                  <a:srgbClr val="800000"/>
                </a:solidFill>
                <a:latin typeface="Perpetua"/>
              </a:rPr>
              <a:t>strong inhibitor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f ribonucleotide reductase involved in deoxynucleotide biosynthesis. The net effect is to inhibit DNA synthe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7858080" y="5681520"/>
            <a:ext cx="99216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57200" y="14176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G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63252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Is a disease of the joints caused by an elevated concentrations of uric acid in the blood and tiss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63252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st forms of gout are the result of excess purine production and consequent catabolism or to a partial deficiency in the salvage enzyme, HGP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63252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mbria"/>
              </a:rPr>
              <a:t>Allpurinol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is a structural analog of hypoxanthine that strongly inhibit xanthine oxid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itle 1"/>
          <p:cNvSpPr/>
          <p:nvPr/>
        </p:nvSpPr>
        <p:spPr>
          <a:xfrm>
            <a:off x="457200" y="274680"/>
            <a:ext cx="324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MS PGothic"/>
              </a:rPr>
              <a:t>Continu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7827840" y="5491080"/>
            <a:ext cx="1144800" cy="114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3"/>
          <p:cNvSpPr/>
          <p:nvPr/>
        </p:nvSpPr>
        <p:spPr>
          <a:xfrm>
            <a:off x="1490400" y="227160"/>
            <a:ext cx="633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  <a:ea typeface="MS PGothic"/>
              </a:rPr>
              <a:t>Catabolism of a pyrimid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515880" y="838080"/>
            <a:ext cx="778824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contrast to purines, pyrimidines undergo ring cleavage and the usual end products of catabolism are </a:t>
            </a:r>
            <a:r>
              <a:rPr b="1" lang="el-GR" sz="2200" spc="-1" strike="noStrike">
                <a:solidFill>
                  <a:srgbClr val="8c0aec"/>
                </a:solidFill>
                <a:latin typeface="Cambria"/>
              </a:rPr>
              <a:t>β</a:t>
            </a:r>
            <a:r>
              <a:rPr b="1" lang="en-US" sz="2200" spc="-1" strike="noStrike">
                <a:solidFill>
                  <a:srgbClr val="8c0aec"/>
                </a:solidFill>
                <a:latin typeface="Perpetua"/>
              </a:rPr>
              <a:t>-amino acids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lus </a:t>
            </a:r>
            <a:r>
              <a:rPr b="1" lang="en-US" sz="2200" spc="-1" strike="noStrike">
                <a:solidFill>
                  <a:srgbClr val="e93bdd"/>
                </a:solidFill>
                <a:latin typeface="Perpetua"/>
              </a:rPr>
              <a:t>NH</a:t>
            </a:r>
            <a:r>
              <a:rPr b="1" lang="en-US" sz="2200" spc="-1" strike="noStrike" baseline="-25000">
                <a:solidFill>
                  <a:srgbClr val="e93bdd"/>
                </a:solidFill>
                <a:latin typeface="Perpetua"/>
              </a:rPr>
              <a:t>3</a:t>
            </a:r>
            <a:r>
              <a:rPr b="1" lang="en-US" sz="2200" spc="-1" strike="noStrike" baseline="30000">
                <a:solidFill>
                  <a:srgbClr val="e93bdd"/>
                </a:solidFill>
                <a:latin typeface="Perpetua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200" spc="-1" strike="noStrike">
                <a:solidFill>
                  <a:srgbClr val="800000"/>
                </a:solidFill>
                <a:latin typeface="Perpetua"/>
              </a:rPr>
              <a:t>CO</a:t>
            </a:r>
            <a:r>
              <a:rPr b="1" lang="en-US" sz="2200" spc="-1" strike="noStrike" baseline="-25000">
                <a:solidFill>
                  <a:srgbClr val="8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yrimidines from nucleic acids or the energy pool are acted upon by nucleotidases and pyrimidine nucleoside phosphorylase to yield the free bas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4-amino group of both cytosine and 5-methyl cytosine is released as ammon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3" descr="Screen Shot 2012-10-14 at 6.56.56 PM.png"/>
          <p:cNvPicPr/>
          <p:nvPr/>
        </p:nvPicPr>
        <p:blipFill>
          <a:blip r:embed="rId1"/>
          <a:stretch/>
        </p:blipFill>
        <p:spPr>
          <a:xfrm>
            <a:off x="963720" y="4718160"/>
            <a:ext cx="70405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ff"/>
                </a:solidFill>
                <a:latin typeface="Cambria"/>
              </a:rPr>
              <a:t>Ring Cleav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45680" y="932040"/>
            <a:ext cx="8448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In order for the rings (Cytosine and Thymine) to be cleaved, they must first be </a:t>
            </a: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Perpetua"/>
              </a:rPr>
              <a:t>reduced by NADPH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Atoms 2 and 3 of both rings are released as ammonia and carbon dioxi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The rest of the ring is left as a beta-amino aci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mbria"/>
                <a:ea typeface="Perpetua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-amino isobutyrate from thymine or 5-methyl cytosine is largely excrete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mbria"/>
                <a:ea typeface="Perpetua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-alanine from cytosine or uracil may either be excreted or incorporated into the brain and muscle dipeptides, </a:t>
            </a:r>
            <a:r>
              <a:rPr b="1" lang="en-US" sz="2200" spc="-1" strike="noStrike">
                <a:solidFill>
                  <a:srgbClr val="8c0aec"/>
                </a:solidFill>
                <a:latin typeface="Perpetua"/>
                <a:ea typeface="Perpetua"/>
              </a:rPr>
              <a:t>carnosin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 (his-beta-ala) or </a:t>
            </a:r>
            <a:r>
              <a:rPr b="1" lang="en-US" sz="2200" spc="-1" strike="noStrike">
                <a:solidFill>
                  <a:srgbClr val="8c0aec"/>
                </a:solidFill>
                <a:latin typeface="Perpetua"/>
                <a:ea typeface="Perpetua"/>
              </a:rPr>
              <a:t>anserin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 (methyl his-beta-ala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5F0F2-5C49-4296-85DD-385267B88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4" descr="Screen Shot 2012-10-14 at 6.56.56 PM.png"/>
          <p:cNvPicPr/>
          <p:nvPr/>
        </p:nvPicPr>
        <p:blipFill>
          <a:blip r:embed="rId1"/>
          <a:stretch/>
        </p:blipFill>
        <p:spPr>
          <a:xfrm>
            <a:off x="3743280" y="3938760"/>
            <a:ext cx="4425840" cy="24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Lucida Calligraphy"/>
              </a:rPr>
              <a:t>Continue</a:t>
            </a:r>
            <a:r>
              <a:rPr b="0" lang="en-GB" sz="3600" spc="-1" strike="noStrike">
                <a:solidFill>
                  <a:srgbClr val="0000ff"/>
                </a:solidFill>
                <a:latin typeface="Lucida Calligraphy"/>
              </a:rPr>
              <a:t>.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4E3F4-4713-45BD-BB68-793500277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832040" y="1417680"/>
            <a:ext cx="5722920" cy="476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6040" y="23652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Lucida Calligraphy"/>
              </a:rPr>
              <a:t>Nucleotide Bio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66267-D2E7-489E-B8F7-CE43E2028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446040" y="4060800"/>
            <a:ext cx="3513240" cy="954360"/>
          </a:xfrm>
          <a:prstGeom prst="rect">
            <a:avLst/>
          </a:prstGeom>
          <a:noFill/>
          <a:ln w="38160">
            <a:solidFill>
              <a:srgbClr val="830f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egins with their metabolic precursors: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amino acids, ribose 5-phosphate, 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, and N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Cambria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5394240" y="4060800"/>
            <a:ext cx="3125880" cy="916920"/>
          </a:xfrm>
          <a:prstGeom prst="rect">
            <a:avLst/>
          </a:prstGeom>
          <a:noFill/>
          <a:ln w="38160">
            <a:solidFill>
              <a:srgbClr val="830f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ecycles the free bases and nucleosides released from nucleic acid break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"/>
          <p:cNvPicPr/>
          <p:nvPr/>
        </p:nvPicPr>
        <p:blipFill>
          <a:blip r:embed="rId1"/>
          <a:stretch/>
        </p:blipFill>
        <p:spPr>
          <a:xfrm>
            <a:off x="290520" y="1662120"/>
            <a:ext cx="3860640" cy="189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9" name="Picture 8" descr=""/>
          <p:cNvPicPr/>
          <p:nvPr/>
        </p:nvPicPr>
        <p:blipFill>
          <a:blip r:embed="rId2"/>
          <a:stretch/>
        </p:blipFill>
        <p:spPr>
          <a:xfrm>
            <a:off x="5130720" y="1662120"/>
            <a:ext cx="3544920" cy="188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0" name="Picture 11" descr="imagesCAJNDZEQ.jpg"/>
          <p:cNvPicPr/>
          <p:nvPr/>
        </p:nvPicPr>
        <p:blipFill>
          <a:blip r:embed="rId3"/>
          <a:stretch/>
        </p:blipFill>
        <p:spPr>
          <a:xfrm>
            <a:off x="446040" y="4984920"/>
            <a:ext cx="1376280" cy="172080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3"/>
          <p:cNvSpPr/>
          <p:nvPr/>
        </p:nvSpPr>
        <p:spPr>
          <a:xfrm>
            <a:off x="1600920" y="5529240"/>
            <a:ext cx="62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uestio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do we need both pathway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7B73A-D24A-4634-A3F5-870A799BB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1771560" y="1305000"/>
            <a:ext cx="5600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Calligraphy"/>
              </a:rPr>
              <a:t>In  these pathway, two features deserve to men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599840"/>
            <a:ext cx="822960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irst, there is evidence, especially in the de novo purine pathway,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enzymes are present as large, multienzyme complexes in the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, the cellular pools of nucleotides (other than ATP) are quite small, 1% or less of the amounts required to synthesize the cell’s DN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fore, cells must continue to synthesize nucleotides, and in some cases nucleotide synthesis may limit the rates of DNA replication and transcrip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4CF12-B778-4784-94FB-5B71286A4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5"/>
          <p:cNvSpPr/>
          <p:nvPr/>
        </p:nvSpPr>
        <p:spPr>
          <a:xfrm>
            <a:off x="457200" y="5172120"/>
            <a:ext cx="8229600" cy="1179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cause of the importance of these processes in dividing cel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agents that inhibit nucleotide synthesis have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articularly important </a:t>
            </a: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to modern medic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3" descr=""/>
          <p:cNvPicPr/>
          <p:nvPr/>
        </p:nvPicPr>
        <p:blipFill>
          <a:blip r:embed="rId1"/>
          <a:stretch/>
        </p:blipFill>
        <p:spPr>
          <a:xfrm>
            <a:off x="7118280" y="5396040"/>
            <a:ext cx="156852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Denovo Purine Nucleotide Bio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B518B-4DD8-49DC-95E4-6CF7C63A8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The two parent purine nucleotides of nucleic acids are </a:t>
            </a:r>
            <a:r>
              <a:rPr b="0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adenosine 5-monophosphate (AMP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and </a:t>
            </a:r>
            <a:r>
              <a:rPr b="0" lang="en-US" sz="2400" spc="-1" strike="noStrike">
                <a:solidFill>
                  <a:srgbClr val="e214d8"/>
                </a:solidFill>
                <a:latin typeface="Perpetua"/>
                <a:ea typeface="Perpetua"/>
              </a:rPr>
              <a:t>guanosine 5-monophosphate (GMP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The origin of the carbon and nitrogen atoms of the purine ring system, as determined by </a:t>
            </a:r>
            <a:r>
              <a:rPr b="0" lang="en-US" sz="2400" spc="-1" strike="noStrike">
                <a:solidFill>
                  <a:srgbClr val="008000"/>
                </a:solidFill>
                <a:latin typeface="Perpetua"/>
                <a:ea typeface="Perpetua"/>
              </a:rPr>
              <a:t>John Buchana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using isotopic tracer experiments in bi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8" descr=""/>
          <p:cNvPicPr/>
          <p:nvPr/>
        </p:nvPicPr>
        <p:blipFill>
          <a:blip r:embed="rId1"/>
          <a:stretch/>
        </p:blipFill>
        <p:spPr>
          <a:xfrm>
            <a:off x="954000" y="3990960"/>
            <a:ext cx="4267440" cy="22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Lucida Calligraphy"/>
              </a:rPr>
              <a:t>Continu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0ffc"/>
                </a:solidFill>
                <a:latin typeface="Perpetua"/>
                <a:ea typeface="Perpetua"/>
              </a:rPr>
              <a:t>    </a:t>
            </a:r>
            <a:r>
              <a:rPr b="1" lang="en-US" sz="2800" spc="-1" strike="noStrike">
                <a:solidFill>
                  <a:srgbClr val="830ffc"/>
                </a:solidFill>
                <a:latin typeface="Perpetua"/>
                <a:ea typeface="Perpetua"/>
              </a:rPr>
              <a:t>Synthesis of Inosine Monophosphate (I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Basic pathway for biosynthesis of purine ribonucleot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Starts from ribose-5-phosphate which is derived from the pentose phosphate pathw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Requires 11 steps over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occurs primarily in the </a:t>
            </a:r>
            <a:r>
              <a:rPr b="0" lang="en-US" sz="2400" spc="-1" strike="noStrike">
                <a:solidFill>
                  <a:srgbClr val="e214d8"/>
                </a:solidFill>
                <a:latin typeface="Perpetua"/>
                <a:ea typeface="Perpetua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58C3E-D0D5-4A14-9001-CA724F283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Screen Shot 2012-10-08 at 8.32.36 PM.png"/>
          <p:cNvPicPr/>
          <p:nvPr/>
        </p:nvPicPr>
        <p:blipFill>
          <a:blip r:embed="rId1"/>
          <a:stretch/>
        </p:blipFill>
        <p:spPr>
          <a:xfrm>
            <a:off x="5667480" y="3692520"/>
            <a:ext cx="2158920" cy="19875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3:25:59Z</dcterms:created>
  <dc:creator>i Mac</dc:creator>
  <dc:description/>
  <dc:language>en-US</dc:language>
  <cp:lastModifiedBy>Administrator</cp:lastModifiedBy>
  <dcterms:modified xsi:type="dcterms:W3CDTF">2012-10-15T07:55:14Z</dcterms:modified>
  <cp:revision>56</cp:revision>
  <dc:subject/>
  <dc:title>Nucleotide Metabolism -Biosynthesis-   Dr. Sooad Al-Daihan</dc:title>
</cp:coreProperties>
</file>