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8.wmf" ContentType="image/x-wmf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2.wmf" ContentType="image/x-wmf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39E5D-4AD0-4413-A2AD-E037B7BB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A54EF-66E8-4053-BEA7-65DCB396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9DE1-5671-4AAD-812E-9B9A0322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B4A93-F6C5-4EEA-8180-D4F79E2A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EF16-24BC-4063-84BB-86F17B59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D772-9589-4986-BEEB-DBA2FAB5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D434-C30A-42C0-8E74-9C52C988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AA50-5301-444B-9410-A8B649AB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BCEB-6434-4A39-A64E-30BE703D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87C2-F092-4F5B-ACF2-561350A5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11C1-AF97-4663-B410-C4BD2CA1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4BFF7-7734-4D77-B215-03E22F5A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A0F8-32B8-4BA3-8B42-5A9B261A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EE2F-4612-444E-9F90-B4097EB7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64BD-8327-43FF-8B45-8F8C1F03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EF86-9DB3-4E1F-94E8-9A6F05E2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FC7F-3744-45EF-A56F-7A26A618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93F23-DC34-4499-BA6D-1E70F7FC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770CE-10F1-4D1E-8E77-D21E4DFE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A6BAF-BB6E-463E-9CCC-390B360F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9575-BD03-4B2B-9AAF-F419B249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B28C9-E14E-4B3E-9574-97BE4A65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9010B-BDFF-4255-A279-F36D1D6E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D800B-677F-4ABC-A213-B9BAB590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B13F-784F-4A8A-9768-9FEFD4C6C4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6C83-02B9-42D2-BC96-E661F0CB4F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jaaos.org/content/vol8/issue1/images/large/0080010.kocherf6.jpe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e5ff"/>
                </a:solidFill>
                <a:latin typeface="Garamond"/>
              </a:rPr>
              <a:t>Orthopaedic Aspects of Child Abuse</a:t>
            </a:r>
            <a:br>
              <a:rPr sz="5400"/>
            </a:br>
            <a:r>
              <a:rPr b="0" lang="en-US" sz="5400" spc="-1" strike="noStrike">
                <a:solidFill>
                  <a:srgbClr val="e5e5ff"/>
                </a:solidFill>
                <a:latin typeface="Garamond"/>
              </a:rPr>
              <a:t>NAT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bdulaziz Alomar, MD, MSc FRCS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stant Professor and consultant Orthopaedic surgeo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KUH, K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story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ss than 3 years o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or household environment, drug or physical ab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ly aggressive or pass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havioral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ndicapped chi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chi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mature chi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normal grow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Clinical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ki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ruises (buttocks, perineum and genitalia, trunk, bac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f head and legs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ltiple bruises in various stages of heal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urns (pattern may reflect mechanism of burn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d and C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kull fracture (multiple, bilateral, skull base, crossing nervous system suture lines, depressed fractur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bdural hematoma, subarachnoid hemorrha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tinal hemorrhage, retinal detach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gnitive disabil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Non Orthopaedic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st, abdomen, and pelv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b fractures (posterior, multiple)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rnal fractures and pelv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neumothorax, hemothora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pture of organ (liver, spleen, or pancreas laceration;bowel or bladder ruptu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amural bowel hemato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idney contusion, retroperitoneal hemorrh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xual ab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Non Orthopaedic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6224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Orthopaedic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ple fractures syste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actures in various stages of hea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aphyseal corner fra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ng-bone fracture in child &lt;2 y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tebral compression fractures, spinous process avuls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apular fra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piphyseal sepa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actures Commonly seen in NAT - High Specifi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mur fracture in child &lt; 1 year o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meral shaft fracture in &lt; 3 year o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rnal fract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aphyseal corner (bucket-handle) fract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terior rib fx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git fractures in nonambulatory childr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4" descr="humfxnat00"/>
          <p:cNvPicPr/>
          <p:nvPr/>
        </p:nvPicPr>
        <p:blipFill>
          <a:blip r:embed="rId1"/>
          <a:stretch/>
        </p:blipFill>
        <p:spPr>
          <a:xfrm>
            <a:off x="4653000" y="2292480"/>
            <a:ext cx="40338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% to 69% of all fractures occurred in children less than 1year of a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8% to 85% occurred in children less than 3 years of a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Timetable for Estimating the Age of Fractures in Childre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24000" y="1989000"/>
          <a:ext cx="8496000" cy="4064040"/>
        </p:xfrm>
        <a:graphic>
          <a:graphicData uri="http://schemas.openxmlformats.org/drawingml/2006/table">
            <a:tbl>
              <a:tblPr/>
              <a:tblGrid>
                <a:gridCol w="5472000"/>
                <a:gridCol w="1081080"/>
                <a:gridCol w="1008000"/>
                <a:gridCol w="9349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adiographic Appea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ar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a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tion of soft-tissue swelling,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-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-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-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w periosteal bone,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-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-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-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oss of definition of fracture line,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-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-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1-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sence of soft callus,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-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-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1-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sence of hard callus,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-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1-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2-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modeling of fracture, month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diographic W/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keletal survey for children with suspicion of N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bygram” not sufficient as does not provide necessary detail to identify frac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diographic Work-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keletal surv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/LAT skull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/LAT axial skeleton and trunk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 bilateral arms, forearms, hands, thighs, legs, fe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skeletal survey at 1-2 weeks can be helpfu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nat03"/>
          <p:cNvPicPr/>
          <p:nvPr/>
        </p:nvPicPr>
        <p:blipFill>
          <a:blip r:embed="rId1"/>
          <a:stretch/>
        </p:blipFill>
        <p:spPr>
          <a:xfrm>
            <a:off x="4653000" y="2292480"/>
            <a:ext cx="40338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Child Abu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major cause of disability and death among childr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actures are the second most common presentation of physical abuse after skin le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third of physically abused children will require orthopaedic treat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g abd1"/>
          <p:cNvPicPr/>
          <p:nvPr/>
        </p:nvPicPr>
        <p:blipFill>
          <a:blip r:embed="rId1"/>
          <a:srcRect l="0" t="22224" r="19191" b="14815"/>
          <a:stretch/>
        </p:blipFill>
        <p:spPr>
          <a:xfrm>
            <a:off x="5791320" y="1219320"/>
            <a:ext cx="2384280" cy="30477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 yo Girl with Proximal and Distal Humerus Fx, L2-L3 Fx-Disloc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4" descr="ag hum"/>
          <p:cNvPicPr/>
          <p:nvPr/>
        </p:nvPicPr>
        <p:blipFill>
          <a:blip r:embed="rId2"/>
          <a:srcRect l="14287" t="0" r="9772" b="12963"/>
          <a:stretch/>
        </p:blipFill>
        <p:spPr>
          <a:xfrm>
            <a:off x="826920" y="1773360"/>
            <a:ext cx="361332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ag ct spine"/>
          <p:cNvPicPr/>
          <p:nvPr/>
        </p:nvPicPr>
        <p:blipFill>
          <a:blip r:embed="rId3"/>
          <a:stretch/>
        </p:blipFill>
        <p:spPr>
          <a:xfrm>
            <a:off x="5562720" y="411480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ne Sc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ually reserved for highly suspicious cases with negative skeletal surv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od at picking up rib fx’s and vertebral fx’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eat bone scan at 2 weeks can identify occult inju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ultiple Vs single #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ltiple fractures in various stages of healing are found in more than 70% of abused children less than 1 year of age and more than 50% of all abused childre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Krishnan J,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Aust N Z J Surg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990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% of the children had only a single fracture, 33% had two or three fractures, and 17% had more than three fractur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ing et al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Pediatr Ortho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8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st common orthopaedic presentation of children with NAT - 65% of children with  fx’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ly 13% of children with fractures presented with multiple fractures in different stages of heal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oder, JPO  199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tterns of fracture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iral Vs transver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8% to 71% of long-bone fractures in several large series are transverse #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difference in diaphyseal fracture pattern between fractures due to abuse and those resulting from accidental inju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als ,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ediatr Ortho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8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difference in diaphyseal fracture pattern between fractures due to abuse and those resulting from accidental inju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70185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hyseal fracture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175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ific bon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avicl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ost commonly fractured bones in accidental childhood injur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usual in child abuse, detected in only 2% to 7% of abused childre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hyseal fractur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common in the abused child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nsphyseal fractures of the distal humerus in children less than 1 year ol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inal :(0% to 3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ymptomatic compression fractures detected on skeletal surve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acture or avulsion of the spinous processes is fairly specific to abus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yperflexion and hyperextension associated with violent shaking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ific bo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m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femur fx’s in children who are &lt; 1 yo of age are from NAT (60-70%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femur fx’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children &gt; 1 yo acciden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umerus Fx’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3462480" cy="476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aphyseal fx’s in children &lt; 3 yo are very suggestive of NAT!!!!!!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NAT04"/>
          <p:cNvPicPr/>
          <p:nvPr/>
        </p:nvPicPr>
        <p:blipFill>
          <a:blip r:embed="rId1"/>
          <a:stretch/>
        </p:blipFill>
        <p:spPr>
          <a:xfrm>
            <a:off x="3879720" y="1714680"/>
            <a:ext cx="5029200" cy="37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umerus Fx’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467480" cy="476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common fx in some se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racondylar fx’s common in accidental trau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hyseal fx’s - high association with N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a minimum, any act or failure to act resulting in imminent risk of serious harm, death, serious physical or emotional harm, sexual abuse, or exploitation of a child by a parent or caretaker who is responsible for the child’s welfare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Definition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3520" y="1170000"/>
            <a:ext cx="60879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ansphyseal Humeru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6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4280" indent="0">
              <a:spcBef>
                <a:spcPts val="79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0">
              <a:spcBef>
                <a:spcPts val="79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on in N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4" descr="NAT14"/>
          <p:cNvPicPr/>
          <p:nvPr/>
        </p:nvPicPr>
        <p:blipFill>
          <a:blip r:embed="rId1"/>
          <a:stretch/>
        </p:blipFill>
        <p:spPr>
          <a:xfrm>
            <a:off x="7315200" y="685800"/>
            <a:ext cx="15588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aphyseal Vs diaphyse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aphyseal injuries are less common than diaphyseal fract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aphyseal lesions have high specificity and are considered to be a “classic” radiographic finding in physical ab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285400" cy="70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aphyseal or Bucket Handle Fx’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265120"/>
            <a:ext cx="8229600" cy="367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chanism – traction and twis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ar injuries through the primary spongios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y be picked up at autopsy when not seen on x-r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rner Frac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ction/rotation mechanism of inju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nar fracture through primary spongiosa, creates disklike fragment of bone/cartilage, thicker at periph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343160"/>
            <a:ext cx="808020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1951200" cy="367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2700360" y="1916280"/>
            <a:ext cx="1871640" cy="3784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3"/>
          <a:stretch/>
        </p:blipFill>
        <p:spPr>
          <a:xfrm>
            <a:off x="5003640" y="1916280"/>
            <a:ext cx="1800360" cy="3744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4"/>
          <a:stretch/>
        </p:blipFill>
        <p:spPr>
          <a:xfrm>
            <a:off x="7308720" y="1916280"/>
            <a:ext cx="1511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781992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etaphyseal or Bucket Handle Fx’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77920" y="1792440"/>
            <a:ext cx="4502160" cy="3117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ognomonic o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N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4" descr="NAT24"/>
          <p:cNvPicPr/>
          <p:nvPr/>
        </p:nvPicPr>
        <p:blipFill>
          <a:blip r:embed="rId1"/>
          <a:stretch/>
        </p:blipFill>
        <p:spPr>
          <a:xfrm>
            <a:off x="4641840" y="1247760"/>
            <a:ext cx="4160880" cy="49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5800" y="1170000"/>
            <a:ext cx="400392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etaphyseal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Bucket Handle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x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1" name="Picture 3" descr="NAT21"/>
          <p:cNvPicPr/>
          <p:nvPr/>
        </p:nvPicPr>
        <p:blipFill>
          <a:blip r:embed="rId1"/>
          <a:stretch/>
        </p:blipFill>
        <p:spPr>
          <a:xfrm>
            <a:off x="4363920" y="390600"/>
            <a:ext cx="355932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Differential Diagno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steogenesis imperfec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idental inju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rth trau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agulation disord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ukem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genital insensitivity to p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nagement - NAT Suspect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fessional, tactful, nonjudgmental approach in initial encounter and worku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lain workup to parents as standard approach to specific ages/injury patte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rly involvement of child protection team if avail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rly contact/involvement of child’s primary care physici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 of Maltreatmen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glected  (52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ysical abuse (25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xual abuse (13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otional maltreatment (5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  Medical neglect (3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nagement - Docum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cases result in medical records becoming part of legal rec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efully document history, physical exam and radiographic find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cument evidence supporting physical ab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cument statement regarding level of certainty of ab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Risk factor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rst-born childr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planned childr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mature infant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childre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ndicapped childr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ngle-parent hom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ug abusing par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ents who were themselves abus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employed par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milies of lower socioeconomic stat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majority of maltreated childr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re abused by birth parents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o is at Risk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88720"/>
            <a:ext cx="7846920" cy="476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children with NAT fractures 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0">
              <a:spcBef>
                <a:spcPts val="79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ge of &lt; 3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o’s at Risk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42260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femur fx’s in children who are &lt; 1 yo of age are from NAT (60-70%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femur fx’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children &gt; 1yo acciden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4" descr="nat11"/>
          <p:cNvPicPr/>
          <p:nvPr/>
        </p:nvPicPr>
        <p:blipFill>
          <a:blip r:embed="rId1"/>
          <a:stretch/>
        </p:blipFill>
        <p:spPr>
          <a:xfrm>
            <a:off x="5638680" y="1752480"/>
            <a:ext cx="272268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Clinical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stor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lay in present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story vague, lacking in detail, contradict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chanism of injury insufficient to explain inju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story of a fa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22:52:42Z</dcterms:created>
  <dc:creator>Azoz</dc:creator>
  <dc:description/>
  <dc:language>en-US</dc:language>
  <cp:lastModifiedBy>Macbookpro</cp:lastModifiedBy>
  <dcterms:modified xsi:type="dcterms:W3CDTF">2012-03-10T19:02:01Z</dcterms:modified>
  <cp:revision>21</cp:revision>
  <dc:subject/>
  <dc:title>Orthopaedic Aspects of Child Abuse</dc:title>
</cp:coreProperties>
</file>