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8.wmf" ContentType="image/x-wmf"/>
  <Override PartName="/ppt/media/image13.png" ContentType="image/png"/>
  <Override PartName="/ppt/media/image7.jpeg" ContentType="image/jpeg"/>
  <Override PartName="/ppt/media/image11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wmf" ContentType="image/x-wmf"/>
  <Override PartName="/ppt/media/image16.wmf" ContentType="image/x-wmf"/>
  <Override PartName="/ppt/media/image4.jpeg" ContentType="image/jpeg"/>
  <Override PartName="/ppt/media/image14.wmf" ContentType="image/x-wmf"/>
  <Override PartName="/ppt/media/image5.jpeg" ContentType="image/jpeg"/>
  <Override PartName="/ppt/media/image9.wmf" ContentType="image/x-wmf"/>
  <Override PartName="/ppt/media/image10.jpeg" ContentType="image/jpeg"/>
  <Override PartName="/ppt/media/image2.wmf" ContentType="image/x-wmf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AC19E-7FC5-4E8A-96A6-2478BEE62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16C3A-5303-48B8-A60F-1BFF68862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52213-2D21-4BA7-A5E1-468B7A065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DE167-7A7A-4B01-9FEA-20B96DD37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7B0C3-A116-4120-A934-AFAAC8BF4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A37D2-95E3-4917-870C-A6509DBFA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B19E3-EDE5-4262-B3B3-53EBBDE73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66A71-1CE1-4E45-96E0-69A7CD69A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66BDE-C6FD-4799-BB04-5E31A2EF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B83A4-934B-495E-BE78-C303A088A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95923-5818-4BFD-9763-57BEC4A9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EB98A-53C1-464A-A4BF-8CCDCDC15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DA280-321D-49A7-A151-F9981708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A9FAB-C721-4575-B95A-526F28F4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90139-687A-453A-9CE9-A606A11F6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83622-52C4-419F-8C89-51F10DBF7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5FFE9-5D3C-42D4-A9EA-76BF85656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3BD96-2DAD-4A5D-938A-86801947D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44B8B-C16D-4844-9D54-062A148C2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20DC2-C841-45C2-BABF-7F7ACBDA5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DF5D3-D025-41C4-A878-720956E2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E31B8-D526-45F5-A277-8B2BB7F5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7A5CD-D52B-44FC-8619-07460071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BA3FA-36F4-4496-B099-3C11394A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CD62C-98B8-4118-A602-AA9678440F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5A94C-B9AC-4E4B-AABA-2B9F8081F65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jaaos.org/content/vol8/issue1/images/large/0080010.kocherf6.jpeg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e5ff"/>
                </a:solidFill>
                <a:latin typeface="Garamond"/>
              </a:rPr>
              <a:t>Orthopaedic Aspects of Child Abuse</a:t>
            </a:r>
            <a:br>
              <a:rPr sz="5400"/>
            </a:br>
            <a:r>
              <a:rPr b="0" lang="en-US" sz="5400" spc="-1" strike="noStrike">
                <a:solidFill>
                  <a:srgbClr val="e5e5ff"/>
                </a:solidFill>
                <a:latin typeface="Garamond"/>
              </a:rPr>
              <a:t>NAT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bdulaziz Alomar, MD, MSc FRCS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ssistant Professor and consultant Orthopaedic surgeon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KKUH, KS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istory 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ss than 3 years ol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oor household environment, drug or physical abu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verly aggressive or passiv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havioral proble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andicapped chil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epchil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emature chil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bnormal growt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Clinical Featu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kin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ruises (buttocks, perineum and genitalia, trunk, bac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487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of head and legs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ultiple bruises in various stages of heal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urns (pattern may reflect mechanism of burn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ead and CN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kull fracture (multiple, bilateral, skull base, crossing nervous system suture lines, depressed fracture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bdural hematoma, subarachnoid hemorrhag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tinal hemorrhage, retinal detach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gnitive disabili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Non Orthopaedic Featu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est, abdomen, and pelv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ib fractures (posterior, multiple)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ernal fractures and pelvi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neumothorax, hemothorax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upture of organ (liver, spleen, or pancreas laceration;bowel or bladder ruptur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tramural bowel hematom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idney contusion, retroperitoneal hemorrha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xual abu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Non Orthopaedic Featu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"/>
          <p:cNvPicPr/>
          <p:nvPr/>
        </p:nvPicPr>
        <p:blipFill>
          <a:blip r:embed="rId1"/>
          <a:stretch/>
        </p:blipFill>
        <p:spPr>
          <a:xfrm>
            <a:off x="1547640" y="549360"/>
            <a:ext cx="62247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Orthopaedic Featu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ultiple fractures system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ractures in various stages of heal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taphyseal corner fractu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ng-bone fracture in child &lt;2 y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tebral compression fractures, spinous process avuls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capular fractu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piphyseal separ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ractures Commonly seen in NAT - High Specificit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emur fracture in child &lt; 1 year ol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umeral shaft fracture in &lt; 3 year ol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ernal fractur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taphyseal corner (bucket-handle) fractur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osterior rib fx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git fractures in nonambulatory childr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Picture 4" descr="humfxnat00"/>
          <p:cNvPicPr/>
          <p:nvPr/>
        </p:nvPicPr>
        <p:blipFill>
          <a:blip r:embed="rId1"/>
          <a:stretch/>
        </p:blipFill>
        <p:spPr>
          <a:xfrm>
            <a:off x="4653000" y="2292480"/>
            <a:ext cx="4033800" cy="31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0% to 69% of all fractures occurred in children less than 1year of ag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78% to 85% occurred in children less than 3 years of ag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e5ff"/>
                </a:solidFill>
                <a:latin typeface="Garamond"/>
              </a:rPr>
              <a:t>Timetable for Estimating the Age of Fractures in Childre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24000" y="1989000"/>
          <a:ext cx="8496000" cy="4064040"/>
        </p:xfrm>
        <a:graphic>
          <a:graphicData uri="http://schemas.openxmlformats.org/drawingml/2006/table">
            <a:tbl>
              <a:tblPr/>
              <a:tblGrid>
                <a:gridCol w="5472000"/>
                <a:gridCol w="1081080"/>
                <a:gridCol w="1008000"/>
                <a:gridCol w="93492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adiographic Appear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arl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ak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at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solution of soft-tissue swelling, day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-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-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-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ew periosteal bone, day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-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-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4-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oss of definition of fracture line, day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-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4-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1-4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esence of soft callus, day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-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4-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1-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esence of hard callus, day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4-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1-4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2-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modeling of fracture, month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adiographic W/U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14280" indent="-314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keletal survey for children with suspicion of N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4280" indent="-314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bygram” not sufficient as does not provide necessary detail to identify fractur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adiographic Work-U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keletal surve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P/LAT skull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P/LAT axial skeleton and trunk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P bilateral arms, forearms, hands, thighs, legs, fee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peat skeletal survey at 1-2 weeks can be helpfu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4" descr="nat03"/>
          <p:cNvPicPr/>
          <p:nvPr/>
        </p:nvPicPr>
        <p:blipFill>
          <a:blip r:embed="rId1"/>
          <a:stretch/>
        </p:blipFill>
        <p:spPr>
          <a:xfrm>
            <a:off x="4653000" y="2292480"/>
            <a:ext cx="4033800" cy="31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Child Abus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major cause of disability and death among childre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ractures are the second most common presentation of physical abuse after skin lesi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e third of physically abused children will require orthopaedic treatmen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ag abd1"/>
          <p:cNvPicPr/>
          <p:nvPr/>
        </p:nvPicPr>
        <p:blipFill>
          <a:blip r:embed="rId1"/>
          <a:srcRect l="0" t="22224" r="19191" b="14815"/>
          <a:stretch/>
        </p:blipFill>
        <p:spPr>
          <a:xfrm>
            <a:off x="5791320" y="1219320"/>
            <a:ext cx="2384280" cy="304776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2 yo Girl with Proximal and Distal Humerus Fx, L2-L3 Fx-Disloca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2" name="Picture 4" descr="ag hum"/>
          <p:cNvPicPr/>
          <p:nvPr/>
        </p:nvPicPr>
        <p:blipFill>
          <a:blip r:embed="rId2"/>
          <a:srcRect l="14287" t="0" r="9772" b="12963"/>
          <a:stretch/>
        </p:blipFill>
        <p:spPr>
          <a:xfrm>
            <a:off x="826920" y="1773360"/>
            <a:ext cx="3613320" cy="4525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ag ct spine"/>
          <p:cNvPicPr/>
          <p:nvPr/>
        </p:nvPicPr>
        <p:blipFill>
          <a:blip r:embed="rId3"/>
          <a:stretch/>
        </p:blipFill>
        <p:spPr>
          <a:xfrm>
            <a:off x="5562720" y="4114800"/>
            <a:ext cx="25905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one Sca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14280" indent="-314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ually reserved for highly suspicious cases with negative skeletal surve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4280" indent="-314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ood at picking up rib fx’s and vertebral fx’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4280" indent="-314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peat bone scan at 2 weeks can identify occult inju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ultiple Vs single #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ultiple fractures in various stages of healing are found in more than 70% of abused children less than 1 year of age and more than 50% of all abused childre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Krishnan J,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Aust N Z J Surg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1990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0% of the children had only a single fracture, 33% had two or three fractures, and 17% had more than three fractur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King et al,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J Pediatr Orthop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988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ost common orthopaedic presentation of children with NAT - 65% of children with  fx’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nly 13% of children with fractures presented with multiple fractures in different stages of heal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Loder, JPO  1991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tterns of fracture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iral Vs transvers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8% to 71% of long-bone fractures in several large series are transverse #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 difference in diaphyseal fracture pattern between fractures due to abuse and those resulting from accidental injur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6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eals ,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ediatr Orthop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983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 difference in diaphyseal fracture pattern between fractures due to abuse and those resulting from accidental inju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1187280" y="836640"/>
            <a:ext cx="701856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hyseal fracture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2" name="Picture 6" descr=""/>
          <p:cNvPicPr/>
          <p:nvPr/>
        </p:nvPicPr>
        <p:blipFill>
          <a:blip r:embed="rId1"/>
          <a:stretch/>
        </p:blipFill>
        <p:spPr>
          <a:xfrm>
            <a:off x="2268360" y="1628640"/>
            <a:ext cx="417528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pecific bone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lavicle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ost commonly fractured bones in accidental childhood injury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Unusual in child abuse, detected in only 2% to 7% of abused children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hyseal fracture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Uncommon in the abused child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ransphyseal fractures of the distal humerus in children less than 1 year old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pinal :(0% to 3%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symptomatic compression fractures detected on skeletal survey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racture or avulsion of the spinous processes is fairly specific to abus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yperflexion and hyperextension associated with violent shaking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pecific bon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emu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st femur fx’s in children who are &lt; 1 yo of age are from NAT (60-70%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st femur fx’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children &gt; 1 yo accident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umerus Fx’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2362320"/>
            <a:ext cx="3462480" cy="4768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14280" indent="-314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aphyseal fx’s in children &lt; 3 yo are very suggestive of NAT!!!!!!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NAT04"/>
          <p:cNvPicPr/>
          <p:nvPr/>
        </p:nvPicPr>
        <p:blipFill>
          <a:blip r:embed="rId1"/>
          <a:stretch/>
        </p:blipFill>
        <p:spPr>
          <a:xfrm>
            <a:off x="3879720" y="1714680"/>
            <a:ext cx="5029200" cy="372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umerus Fx’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7467480" cy="4768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14280" indent="-314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st common fx in some se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4280" indent="-314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pracondylar fx’s common in accidental traum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4280" indent="-314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hyseal fx’s - high association with N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t a minimum, any act or failure to act resulting in imminent risk of serious harm, death, serious physical or emotional harm, sexual abuse, or exploitation of a child by a parent or caretaker who is responsible for the child’s welfare.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Definition  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3520" y="1170000"/>
            <a:ext cx="60879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ransphyseal Humeru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265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4280" indent="0">
              <a:spcBef>
                <a:spcPts val="79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4280" indent="0">
              <a:spcBef>
                <a:spcPts val="79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4280" indent="-314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mon in N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4" descr="NAT14"/>
          <p:cNvPicPr/>
          <p:nvPr/>
        </p:nvPicPr>
        <p:blipFill>
          <a:blip r:embed="rId1"/>
          <a:stretch/>
        </p:blipFill>
        <p:spPr>
          <a:xfrm>
            <a:off x="7315200" y="685800"/>
            <a:ext cx="1558800" cy="58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etaphyseal Vs diaphysea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taphyseal injuries are less common than diaphyseal fractur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taphyseal lesions have high specificity and are considered to be a “classic” radiographic finding in physical abu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520" y="1066320"/>
            <a:ext cx="8285400" cy="706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etaphyseal or Bucket Handle Fx’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2265120"/>
            <a:ext cx="8229600" cy="3676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14280" indent="-314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chanism – traction and twist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4280" indent="-314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lanar injuries through the primary spongiosu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4280" indent="-314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y be picked up at autopsy when not seen on x-ra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rner Fractu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action/rotation mechanism of inju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lanar fracture through primary spongiosa, creates disklike fragment of bone/cartilage, thicker at periphe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4653000" y="1600200"/>
            <a:ext cx="4033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5" descr="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1343160"/>
            <a:ext cx="8080200" cy="39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5" descr=""/>
          <p:cNvPicPr/>
          <p:nvPr/>
        </p:nvPicPr>
        <p:blipFill>
          <a:blip r:embed="rId1"/>
          <a:stretch/>
        </p:blipFill>
        <p:spPr>
          <a:xfrm>
            <a:off x="179280" y="1989000"/>
            <a:ext cx="1951200" cy="3672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"/>
          <p:cNvPicPr/>
          <p:nvPr/>
        </p:nvPicPr>
        <p:blipFill>
          <a:blip r:embed="rId2"/>
          <a:stretch/>
        </p:blipFill>
        <p:spPr>
          <a:xfrm>
            <a:off x="2700360" y="1916280"/>
            <a:ext cx="1871640" cy="37843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"/>
          <p:cNvPicPr/>
          <p:nvPr/>
        </p:nvPicPr>
        <p:blipFill>
          <a:blip r:embed="rId3"/>
          <a:stretch/>
        </p:blipFill>
        <p:spPr>
          <a:xfrm>
            <a:off x="5003640" y="1916280"/>
            <a:ext cx="1800360" cy="3744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"/>
          <p:cNvPicPr/>
          <p:nvPr/>
        </p:nvPicPr>
        <p:blipFill>
          <a:blip r:embed="rId4"/>
          <a:stretch/>
        </p:blipFill>
        <p:spPr>
          <a:xfrm>
            <a:off x="7308720" y="1916280"/>
            <a:ext cx="15112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7819920" cy="706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Metaphyseal or Bucket Handle Fx’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77920" y="1792440"/>
            <a:ext cx="4502160" cy="31176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14280" indent="-314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thognomonic of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N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4" descr="NAT24"/>
          <p:cNvPicPr/>
          <p:nvPr/>
        </p:nvPicPr>
        <p:blipFill>
          <a:blip r:embed="rId1"/>
          <a:stretch/>
        </p:blipFill>
        <p:spPr>
          <a:xfrm>
            <a:off x="4641840" y="1247760"/>
            <a:ext cx="4160880" cy="491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5800" y="1170000"/>
            <a:ext cx="4003920" cy="257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Metaphyseal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Bucket Handle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Fx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81" name="Picture 3" descr="NAT21"/>
          <p:cNvPicPr/>
          <p:nvPr/>
        </p:nvPicPr>
        <p:blipFill>
          <a:blip r:embed="rId1"/>
          <a:stretch/>
        </p:blipFill>
        <p:spPr>
          <a:xfrm>
            <a:off x="4363920" y="390600"/>
            <a:ext cx="3559320" cy="58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Differential Diagnos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steogenesis imperfec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idental inju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irth traum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icke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agulation disord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ukem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genital insensitivity to pa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nagement - NAT Suspecte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fessional, tactful, nonjudgmental approach in initial encounter and workup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plain workup to parents as standard approach to specific ages/injury patter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rly involvement of child protection team if avail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rly contact/involvement of child’s primary care physicia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ype of Maltreatment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glected  (52%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hysical abuse (25%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xual abuse (13%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motional maltreatment (5%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.   Medical neglect (3%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nagement - Document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ny cases result in medical records becoming part of legal recor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refully document history, physical exam and radiographic finding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cument evidence supporting physical abu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cument statement regarding level of certainty of abu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Risk factor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irst-born childre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nplanned childre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emature infant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epchildren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andicapped childre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ingle-parent home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rug abusing paren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rents who were themselves abuse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nemployed paren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amilies of lower socioeconomic statu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he majority of maltreated children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re abused by birth parents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o is at Risk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088720"/>
            <a:ext cx="7846920" cy="4768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14280" indent="-314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st children with NAT fractures -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4280" indent="0">
              <a:spcBef>
                <a:spcPts val="799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ge of &lt; 3 yea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o’s at Risk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2209320"/>
            <a:ext cx="422604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4280" indent="-314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st femur fx’s in children who are &lt; 1 yo of age are from NAT (60-70%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4280" indent="-314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st femur fx’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children &gt; 1yo accident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Picture 4" descr="nat11"/>
          <p:cNvPicPr/>
          <p:nvPr/>
        </p:nvPicPr>
        <p:blipFill>
          <a:blip r:embed="rId1"/>
          <a:stretch/>
        </p:blipFill>
        <p:spPr>
          <a:xfrm>
            <a:off x="5638680" y="1752480"/>
            <a:ext cx="2722680" cy="49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Clinical Featu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istor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lay in present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istory vague, lacking in detail, contradicto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chanism of injury insufficient to explain injur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istory of a fal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22:52:42Z</dcterms:created>
  <dc:creator>Azoz</dc:creator>
  <dc:description/>
  <dc:language>en-US</dc:language>
  <cp:lastModifiedBy>Macbookpro</cp:lastModifiedBy>
  <dcterms:modified xsi:type="dcterms:W3CDTF">2012-03-10T19:02:01Z</dcterms:modified>
  <cp:revision>21</cp:revision>
  <dc:subject/>
  <dc:title>Orthopaedic Aspects of Child Abuse</dc:title>
</cp:coreProperties>
</file>