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wmf" ContentType="image/x-wmf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2.wmf" ContentType="image/x-wmf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1DA6-7333-48B6-8FDA-8651CEB8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1C5F-255C-4AF6-820E-10EECFA8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7672-4151-4DE1-A635-E88A24AF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2652-F4F6-43CC-BFCF-86321A0D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74C5-C9EC-4FA3-ADBB-E980F3D2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75F2-A2E1-40CC-8BE1-B8C8CEFE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63D9-7890-4B68-A464-9636651F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D437-2FC5-469C-9AB2-469F8EB8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D911-BFD7-4A6B-830F-5289BC9B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F970-CDDF-4EDE-B225-0608CF3C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4191-B7D6-494F-A1AB-AA8C4A51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A53B-1433-4348-979B-BDAB0FFF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6C9F-FDCA-469F-8228-BD7B2B1E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81B7-E5CC-40BE-A5DC-C557C4A9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EABB-1E91-4F2E-84CE-28F8190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4736-F882-4F26-B62E-D3155399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D2CA-BD7B-4DC2-90DA-02F08ADE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67F0-004C-411C-8F0C-69005AB7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F1FC7-D737-4476-B1E1-505A72BF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9D80-3BC5-4A79-AC98-4C59A6D4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7690-6758-47D4-8AA2-73DFB471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3054-61E0-4261-BDD4-5148F2CF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C98A-1DC6-41DA-BAA9-EE2E6F25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5685-4BFC-4604-9E10-220678F4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8282-115D-41FC-B20B-A6693E7310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5918-911B-4E45-9291-CDC181C9A9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jaaos.org/content/vol8/issue1/images/large/0080010.kocherf6.jpe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Garamond"/>
              </a:rPr>
              <a:t>Orthopaedic Aspects of Child Abuse</a:t>
            </a:r>
            <a:br>
              <a:rPr sz="5400"/>
            </a:br>
            <a:r>
              <a:rPr b="0" lang="en-US" sz="5400" spc="-1" strike="noStrike">
                <a:solidFill>
                  <a:srgbClr val="e5e5ff"/>
                </a:solidFill>
                <a:latin typeface="Garamond"/>
              </a:rPr>
              <a:t>NAT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s than 3 years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or household environment, drug or physical ab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ly aggressive or pas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al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icapped 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mature 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normal grow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linical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i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uises (buttocks, perineum and genitalia, trunk, ba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f head and legs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ple bruises in various stages of hea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urns (pattern may reflect mechanism of burn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d and C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kull fracture (multiple, bilateral, skull base, crossing nervous system suture lines, depressed fractur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dural hematoma, subarachnoid hemorrh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tinal hemorrhage, retinal detach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gnitive disabil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Non 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st, abdomen, and pelv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b fractures (posterior, multiple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rnal fractures and pelv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neumothorax, hemothora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pture of organ (liver, spleen, or pancreas laceration;bowel or bladder ruptu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amural bowel hemato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 contusion, retroperitoneal hemorrh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xual ab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Non 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224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le fractures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actures in various stages of hea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corner fra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ng-bone fracture in child &lt;2 y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tebral compression fractures, spinous process avul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apular fra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piphyseal sepa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actures Commonly seen in NAT - High Specifi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mur fracture in child &lt; 1 year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eral shaft fracture in &lt; 3 year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rnal fra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aphyseal corner (bucket-handle) fra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terior rib fx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git fractures in nonambulatory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humfxnat00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% to 69% of all fractures occurred in children less than 1year of 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8% to 85% occurred in children less than 3 years of 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Timetable for Estimating the Age of Fractures in Childr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1989000"/>
          <a:ext cx="8496000" cy="4064040"/>
        </p:xfrm>
        <a:graphic>
          <a:graphicData uri="http://schemas.openxmlformats.org/drawingml/2006/table">
            <a:tbl>
              <a:tblPr/>
              <a:tblGrid>
                <a:gridCol w="5472000"/>
                <a:gridCol w="1081080"/>
                <a:gridCol w="1008000"/>
                <a:gridCol w="9349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diographic Appea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ar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a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tion of soft-tissue swelling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eriosteal bone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ss of definition of fracture line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ce of soft callus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ce of hard callus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2-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modeling of fracture,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diographic W/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letal survey for children with suspicion of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ygram” not sufficient as does not provide necessary detail to identify frac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diographic Work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eletal surv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/LAT skull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/LAT axial skeleton and trunk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 bilateral arms, forearms, hands, thighs, legs, f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skeletal survey at 1-2 weeks can be helpf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nat03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hild Abu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cause of disability and death among child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actures are the second most common presentation of physical abuse after skin le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third of physically abused children will require orthopaedic trea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g abd1"/>
          <p:cNvPicPr/>
          <p:nvPr/>
        </p:nvPicPr>
        <p:blipFill>
          <a:blip r:embed="rId1"/>
          <a:srcRect l="0" t="22224" r="19191" b="14815"/>
          <a:stretch/>
        </p:blipFill>
        <p:spPr>
          <a:xfrm>
            <a:off x="5791320" y="1219320"/>
            <a:ext cx="2384280" cy="3047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 yo Girl with Proximal and Distal Humerus Fx, L2-L3 Fx-Disloc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ag hum"/>
          <p:cNvPicPr/>
          <p:nvPr/>
        </p:nvPicPr>
        <p:blipFill>
          <a:blip r:embed="rId2"/>
          <a:srcRect l="14287" t="0" r="9772" b="12963"/>
          <a:stretch/>
        </p:blipFill>
        <p:spPr>
          <a:xfrm>
            <a:off x="826920" y="1773360"/>
            <a:ext cx="361332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ag ct spine"/>
          <p:cNvPicPr/>
          <p:nvPr/>
        </p:nvPicPr>
        <p:blipFill>
          <a:blip r:embed="rId3"/>
          <a:stretch/>
        </p:blipFill>
        <p:spPr>
          <a:xfrm>
            <a:off x="5562720" y="411480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Sc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ually reserved for highly suspicious cases with negative skeletal surv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od at picking up rib fx’s and vertebral fx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 bone scan at 2 weeks can identify occult inju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ltiple Vs single #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ple fractures in various stages of healing are found in more than 70% of abused children less than 1 year of age and more than 50% of all abused childr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rishnan J,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Aust N Z J Surg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990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% of the children had only a single fracture, 33% had two or three fractures, and 17% had more than three fractur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ing et al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Pediatr Ortho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8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 common orthopaedic presentation of children with NAT - 65% of children with  fx’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13% of children with fractures presented with multiple fractures in different stages of hea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der, JPO  199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tterns of fractur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ral Vs transver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8% to 71% of long-bone fractures in several large series are transverse #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difference in diaphyseal fracture pattern between fractures due to abuse and those resulting from accidental inju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als ,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ediatr Ortho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8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difference in diaphyseal fracture pattern between fractures due to abuse and those resulting from accidental inju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7018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yseal fractur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175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fic bon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avicl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st commonly fractured bones in accidental childhood injur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usual in child abuse, detected in only 2% to 7% of abused childre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eal fractur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common in the abused chil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physeal fractures of the distal humerus in children less than 1 year ol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nal :(0% to 3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ymptomatic compression fractures detected on skeletal surve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acture or avulsion of the spinous processes is fairly specific to abus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yperflexion and hyperextension associated with violent shak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fic b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m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femur fx’s in children who are &lt; 1 yo of age are from NAT (60-70%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femur fx’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children &gt; 1 yo accid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erus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3462480" cy="476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aphyseal fx’s in children &lt; 3 yo are very suggestive of NAT!!!!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NAT04"/>
          <p:cNvPicPr/>
          <p:nvPr/>
        </p:nvPicPr>
        <p:blipFill>
          <a:blip r:embed="rId1"/>
          <a:stretch/>
        </p:blipFill>
        <p:spPr>
          <a:xfrm>
            <a:off x="3879720" y="1714680"/>
            <a:ext cx="502920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erus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467480" cy="476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common fx in som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racondylar fx’s common in accidental tra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hyseal fx’s - high association with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a minimum, any act or failure to act resulting in imminent risk of serious harm, death, serious physical or emotional harm, sexual abuse, or exploitation of a child by a parent or caretaker who is responsible for the child’s welf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efinition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3520" y="1170000"/>
            <a:ext cx="60879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nsphyseal Humeru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6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spcBef>
                <a:spcPts val="79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0">
              <a:spcBef>
                <a:spcPts val="79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 in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NAT14"/>
          <p:cNvPicPr/>
          <p:nvPr/>
        </p:nvPicPr>
        <p:blipFill>
          <a:blip r:embed="rId1"/>
          <a:stretch/>
        </p:blipFill>
        <p:spPr>
          <a:xfrm>
            <a:off x="7315200" y="685800"/>
            <a:ext cx="15588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physeal Vs diaphyse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injuries are less common than diaphyseal frac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lesions have high specificity and are considered to be a “classic” radiographic finding in physical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285400" cy="70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physeal or Bucket Handle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65120"/>
            <a:ext cx="8229600" cy="367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chanism – traction and twi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ar injuries through the primary spongios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be picked up at autopsy when not seen on x-r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rner Frac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ction/rotation mechanism of inju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ar fracture through primary spongiosa, creates disklike fragment of bone/cartilage, thicker at periph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3160"/>
            <a:ext cx="80802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1951200" cy="367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1871640" cy="3784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1800360" cy="37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7308720" y="1916280"/>
            <a:ext cx="1511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81992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aphyseal or Bucket Handle Fx’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7920" y="1792440"/>
            <a:ext cx="4502160" cy="3117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ognomonic o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4" descr="NAT24"/>
          <p:cNvPicPr/>
          <p:nvPr/>
        </p:nvPicPr>
        <p:blipFill>
          <a:blip r:embed="rId1"/>
          <a:stretch/>
        </p:blipFill>
        <p:spPr>
          <a:xfrm>
            <a:off x="4641840" y="1247760"/>
            <a:ext cx="4160880" cy="49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5800" y="1170000"/>
            <a:ext cx="400392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aphyseal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ucket Handle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x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1" name="Picture 3" descr="NAT21"/>
          <p:cNvPicPr/>
          <p:nvPr/>
        </p:nvPicPr>
        <p:blipFill>
          <a:blip r:embed="rId1"/>
          <a:stretch/>
        </p:blipFill>
        <p:spPr>
          <a:xfrm>
            <a:off x="4363920" y="390600"/>
            <a:ext cx="35593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ifferential Diagn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steogenesis imperfec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idental inj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rth tra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gulation disord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uk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genital insensitivity to p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- NAT Suspect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fessional, tactful, nonjudgmental approach in initial encounter and worku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workup to parents as standard approach to specific ages/injury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involvement of child protection team if avail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contact/involvement of child’s primary care physici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 of Maltreatm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glected  (52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abuse (25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xual abuse (13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otional maltreatment (5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  Medical neglect (3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- Docu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cases result in medical records becoming part of legal rec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efully document history, physical exam and radiographic find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ument evidence supporting physical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ument statement regarding level of certainty of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Risk factor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-born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planned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mature infan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childre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icapped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gle-parent hom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ug abusing par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ents who were themselves abus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employed par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ies of lower socioeconomic st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majority of maltreated childr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re abused by birth parent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 is at Risk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88720"/>
            <a:ext cx="7846920" cy="476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children with NAT fractures 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0">
              <a:spcBef>
                <a:spcPts val="79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e of &lt; 3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’s at Risk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226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emur fx’s in children who are &lt; 1 yo of age are from NAT (60-70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emur fx’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children &gt; 1yo accid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nat11"/>
          <p:cNvPicPr/>
          <p:nvPr/>
        </p:nvPicPr>
        <p:blipFill>
          <a:blip r:embed="rId1"/>
          <a:stretch/>
        </p:blipFill>
        <p:spPr>
          <a:xfrm>
            <a:off x="5638680" y="1752480"/>
            <a:ext cx="272268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linical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lay in presen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story vague, lacking in detail, contradic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chanism of injury insufficient to explain inju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story of a fa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2:52:42Z</dcterms:created>
  <dc:creator>Azoz</dc:creator>
  <dc:description/>
  <dc:language>en-US</dc:language>
  <cp:lastModifiedBy>Macbookpro</cp:lastModifiedBy>
  <dcterms:modified xsi:type="dcterms:W3CDTF">2012-03-10T19:02:01Z</dcterms:modified>
  <cp:revision>21</cp:revision>
  <dc:subject/>
  <dc:title>Orthopaedic Aspects of Child Abuse</dc:title>
</cp:coreProperties>
</file>