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FC6E-B78A-4704-8F97-5B02EE00FE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oint source (common source) outbre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cases rose up rapidly to a peak (after 6 hours) an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cases occurred within one incubation period (6 hours). This means that all victims acquired the infection from the same 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3342-2E99-4662-AC28-51007A879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A group of students studying at KSU campus, who ate at the college of science cafeteria experienced diarrheal illness between the months of January and February. In this example our case definition must fulfill all the following cri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students who ate at the KSU college of science cafe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during a time period from January to Febru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students experiencing symptoms of vomiting, diarrhea, abdominal pain or f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B72B-8AFE-4CE0-B625-EDE4818B0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68D59-6CE8-4C16-96CD-427C2418F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F74FF-8DD0-47B3-9A94-54F93FFD0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CB702-6A5E-406B-A7F6-4DA8917D3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643AB-0417-473C-A634-91D93FC5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88992-00B5-4BE8-BFD5-C4DDE7BC3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6D7A0-D069-44BE-8517-0C5AB557F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CC823-16FC-42EA-87F4-2841C897C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F6AB5-8AB0-49F0-A2F3-07F19BAD6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46E7C-DCEC-49C8-9535-52C4B7CF6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86CF4-3736-46C5-89F2-43F2A3D4E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DA99A-BBBB-48E3-A897-CF721F7F9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9A47B-91E1-4C4D-A902-990E0A952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EA6E5-C05C-46ED-88DF-1EAC57C4A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479C8-CDC2-4BFA-9639-A29C7223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CCE88-A549-4124-9530-F9853EAB4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E6C32-E475-409A-9E3D-854AEB763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E3821-75E3-4C0A-9944-1CC3A9292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DB40AD-86AE-4954-BDE8-1B1D97C46E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ADB63-E4E1-426E-B9B1-A05038BFF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4A6BD0-39E4-4BE6-BAF5-683AFF739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8A3CA-5AB3-4B87-8981-B3D372030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76C5E-E504-4B90-995A-A1377660A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8CB8C-1377-44BE-BD28-734F5BCA2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21743-D544-490A-B778-D55BB3405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CB7CC-1BE1-4C4B-8DA4-22BB11660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77428-C512-4840-ABA2-B8751394A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65F47-CB1B-448F-B599-00C27DB42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C30E3-B379-4CC3-A232-F86858414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4F2EDF-0D21-4575-A218-423AD4E6F0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945372-F7E4-4F19-B228-A14953E5EB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7C9887-1900-4033-A24D-FCFBC55C4A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18B54-232B-4218-96C4-9E6E1255D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32B1D-D77B-4194-9872-1E3AE0340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1B69-C02E-4FFE-A2FC-8F9C45C0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620901-86A0-4E8B-BB4A-A7385EDC1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FD6E1B-DC4C-4992-943F-B190F3FEEA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07D1B-F944-4DD2-8BE1-8F7232337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8684F-3BBC-4DB2-8219-67AFE3B7C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E5FF2-BA2B-4080-AB90-4FEB72E132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4232A-9A50-4001-A76D-BE7B4E4FC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5A232-F0E9-4EF9-9029-F3D585EDF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A7ED05-A0EB-431A-85A0-167FCF09AA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D3D629-7E1C-456F-9455-0EF225EA90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5B65-3058-4420-B2B4-1FA22E7D2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FE301-9631-4B45-9E86-73C16C8FA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0F97-D37F-42BD-BD7D-D3AEC2053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21895-41F6-493E-96D1-E8B7496B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7AA7B-39A4-4988-8719-0260162C8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CE68-867A-4540-904B-007A3C0385A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4ED6-3A63-44D5-A2FE-830007C2D88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03BB-CA91-4A9C-96E7-85F6A6FC900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1A36-E3FC-4191-B541-AF292CBB31E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55680"/>
            <a:ext cx="8442360" cy="2011320"/>
          </a:xfrm>
          <a:prstGeom prst="rect">
            <a:avLst/>
          </a:prstGeom>
          <a:ln w="0">
            <a:noFill/>
          </a:ln>
        </p:spPr>
      </p:pic>
      <p:sp>
        <p:nvSpPr>
          <p:cNvPr id="203" name="PlaceHolder 1"/>
          <p:cNvSpPr>
            <a:spLocks noGrp="1"/>
          </p:cNvSpPr>
          <p:nvPr>
            <p:ph type="subTitle"/>
          </p:nvPr>
        </p:nvSpPr>
        <p:spPr>
          <a:xfrm>
            <a:off x="1371600" y="4572000"/>
            <a:ext cx="6400800" cy="175248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r. Rufaidah Dabbagh</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r. Hafsah Raheel</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895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In the Salmonella outbreak example, after surveillance of reported cases, they found that cases reported in the country were actually LOWER than what was expected in the Caribbean region. Why is that?</a:t>
            </a:r>
            <a:br>
              <a:rPr sz="4500"/>
            </a:br>
            <a:endParaRPr b="0" lang="en-US" sz="3200" spc="-1" strike="noStrike">
              <a:solidFill>
                <a:srgbClr val="04617b"/>
              </a:solidFill>
              <a:latin typeface="Calibri"/>
            </a:endParaRPr>
          </a:p>
        </p:txBody>
      </p:sp>
      <p:sp>
        <p:nvSpPr>
          <p:cNvPr id="226" name=""/>
          <p:cNvSpPr txBox="1"/>
          <p:nvPr/>
        </p:nvSpPr>
        <p:spPr>
          <a:xfrm>
            <a:off x="457200" y="3733560"/>
            <a:ext cx="8229600" cy="239220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because of 2 reason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might be a problem in the reporting system (under-reporting, delay in reporting)</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might be a problem in disease diagnosis and detection (lack of accurate microbiology techniqu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828440"/>
            <a:ext cx="82296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igure 1. Laboratory confirmed cases of Salmonella by year of diagnosis in Trinidad and Tobago, Years 1989-1997.</a:t>
            </a:r>
            <a:br>
              <a:rPr sz="4500"/>
            </a:br>
            <a:endParaRPr b="0" lang="en-US" sz="2800" spc="-1" strike="noStrike">
              <a:solidFill>
                <a:srgbClr val="04617b"/>
              </a:solidFill>
              <a:latin typeface="Calibri"/>
            </a:endParaRPr>
          </a:p>
        </p:txBody>
      </p:sp>
      <p:sp>
        <p:nvSpPr>
          <p:cNvPr id="228" name=""/>
          <p:cNvSpPr txBox="1"/>
          <p:nvPr/>
        </p:nvSpPr>
        <p:spPr>
          <a:xfrm>
            <a:off x="457200" y="5334120"/>
            <a:ext cx="8229600" cy="7920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is missing in figure 1? Do you think it is a proper epidemic curv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9" name="Picture 2" descr=""/>
          <p:cNvPicPr/>
          <p:nvPr/>
        </p:nvPicPr>
        <p:blipFill>
          <a:blip r:embed="rId1"/>
          <a:stretch/>
        </p:blipFill>
        <p:spPr>
          <a:xfrm>
            <a:off x="380880" y="1981080"/>
            <a:ext cx="805824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600200"/>
            <a:ext cx="8229600" cy="49528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would you label the Y axis and what would you label the X axi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do you notice about the number of cases between 1992 and 1996?</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could be reasons for that?</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Increase in the number of reporting, because of improved methods of report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Improved method of diagnosi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Improved surveillance that detects number of cases better.</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Figure 1. Laboratory confirmed cases of Salmonella by year of diagnosis in Trinidad and Tobago, Years 1989-1997.</a:t>
            </a:r>
            <a:endParaRPr b="0" lang="en-US" sz="3200" spc="-1" strike="noStrike">
              <a:solidFill>
                <a:srgbClr val="04617b"/>
              </a:solidFill>
              <a:latin typeface="Calibri"/>
            </a:endParaRPr>
          </a:p>
        </p:txBody>
      </p:sp>
      <p:pic>
        <p:nvPicPr>
          <p:cNvPr id="232" name="Picture 2" descr=""/>
          <p:cNvPicPr/>
          <p:nvPr/>
        </p:nvPicPr>
        <p:blipFill>
          <a:blip r:embed="rId1"/>
          <a:stretch/>
        </p:blipFill>
        <p:spPr>
          <a:xfrm>
            <a:off x="457200" y="2438280"/>
            <a:ext cx="8058240" cy="2266920"/>
          </a:xfrm>
          <a:prstGeom prst="rect">
            <a:avLst/>
          </a:prstGeom>
          <a:ln w="0">
            <a:noFill/>
          </a:ln>
        </p:spPr>
      </p:pic>
      <p:sp>
        <p:nvSpPr>
          <p:cNvPr id="233" name="TextBox 4"/>
          <p:cNvSpPr/>
          <p:nvPr/>
        </p:nvSpPr>
        <p:spPr>
          <a:xfrm>
            <a:off x="609480" y="4952880"/>
            <a:ext cx="815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what year were the reported confirmed cases the m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what year were the reported confirmed cases the le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2285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68 residents of Laguna presented with symptoms of vomiting, diarrhea and abdominal pain, over a time period of 17 hours. After thorough surveillance, the investigators came up with the following epidemic curve.</a:t>
            </a:r>
            <a:br>
              <a:rPr sz="4500"/>
            </a:br>
            <a:endParaRPr b="0" lang="en-US" sz="2800" spc="-1" strike="noStrike">
              <a:solidFill>
                <a:srgbClr val="04617b"/>
              </a:solidFill>
              <a:latin typeface="Calibri"/>
            </a:endParaRPr>
          </a:p>
        </p:txBody>
      </p:sp>
      <p:sp>
        <p:nvSpPr>
          <p:cNvPr id="235" name=""/>
          <p:cNvSpPr txBox="1"/>
          <p:nvPr/>
        </p:nvSpPr>
        <p:spPr>
          <a:xfrm>
            <a:off x="457200" y="6095520"/>
            <a:ext cx="8229600" cy="639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type of outbreak is this? Why?</a:t>
            </a:r>
            <a:endParaRPr b="0" lang="en-US" sz="2600" spc="-1" strike="noStrike">
              <a:solidFill>
                <a:srgbClr val="000000"/>
              </a:solidFill>
              <a:latin typeface="Constantia"/>
            </a:endParaRPr>
          </a:p>
        </p:txBody>
      </p:sp>
      <p:pic>
        <p:nvPicPr>
          <p:cNvPr id="236" name="Picture 2" descr=""/>
          <p:cNvPicPr/>
          <p:nvPr/>
        </p:nvPicPr>
        <p:blipFill>
          <a:blip r:embed="rId1"/>
          <a:stretch/>
        </p:blipFill>
        <p:spPr>
          <a:xfrm>
            <a:off x="1752480" y="2362320"/>
            <a:ext cx="6570720" cy="38098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pidemic curve that shows the number of cases detected with Hepatitis A infection.</a:t>
            </a:r>
            <a:br>
              <a:rPr sz="4500"/>
            </a:br>
            <a:endParaRPr b="0" lang="en-US" sz="3600" spc="-1" strike="noStrike">
              <a:solidFill>
                <a:srgbClr val="04617b"/>
              </a:solidFill>
              <a:latin typeface="Calibri"/>
            </a:endParaRPr>
          </a:p>
        </p:txBody>
      </p:sp>
      <p:sp>
        <p:nvSpPr>
          <p:cNvPr id="238" name=""/>
          <p:cNvSpPr txBox="1"/>
          <p:nvPr/>
        </p:nvSpPr>
        <p:spPr>
          <a:xfrm>
            <a:off x="457200" y="5409720"/>
            <a:ext cx="8229600" cy="7160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type of outbreak is this? Why?</a:t>
            </a:r>
            <a:endParaRPr b="0" lang="en-US" sz="2600" spc="-1" strike="noStrike">
              <a:solidFill>
                <a:srgbClr val="000000"/>
              </a:solidFill>
              <a:latin typeface="Constantia"/>
            </a:endParaRPr>
          </a:p>
        </p:txBody>
      </p:sp>
      <p:pic>
        <p:nvPicPr>
          <p:cNvPr id="239" name="Picture 2" descr=""/>
          <p:cNvPicPr/>
          <p:nvPr/>
        </p:nvPicPr>
        <p:blipFill>
          <a:blip r:embed="rId1"/>
          <a:stretch/>
        </p:blipFill>
        <p:spPr>
          <a:xfrm>
            <a:off x="1066680" y="1523880"/>
            <a:ext cx="6789960" cy="3810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2189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following figure was drawn from an outbreak of measles in evacuation centers in Albay, 1993.</a:t>
            </a:r>
            <a:br>
              <a:rPr sz="4500"/>
            </a:br>
            <a:endParaRPr b="0" lang="en-US" sz="3200" spc="-1" strike="noStrike">
              <a:solidFill>
                <a:srgbClr val="04617b"/>
              </a:solidFill>
              <a:latin typeface="Calibri"/>
            </a:endParaRPr>
          </a:p>
        </p:txBody>
      </p:sp>
      <p:sp>
        <p:nvSpPr>
          <p:cNvPr id="241" name=""/>
          <p:cNvSpPr txBox="1"/>
          <p:nvPr/>
        </p:nvSpPr>
        <p:spPr>
          <a:xfrm>
            <a:off x="457200" y="5866920"/>
            <a:ext cx="8229600" cy="639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type of outbreak is this? Wh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2" descr=""/>
          <p:cNvPicPr/>
          <p:nvPr/>
        </p:nvPicPr>
        <p:blipFill>
          <a:blip r:embed="rId1"/>
          <a:stretch/>
        </p:blipFill>
        <p:spPr>
          <a:xfrm>
            <a:off x="1295280" y="1828800"/>
            <a:ext cx="7621560" cy="4038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371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Please complete the table bellow about Non- typhoidal Salmonellosis:</a:t>
            </a:r>
            <a:br>
              <a:rPr sz="4500"/>
            </a:br>
            <a:endParaRPr b="0" lang="en-US" sz="3200" spc="-1" strike="noStrike">
              <a:solidFill>
                <a:srgbClr val="04617b"/>
              </a:solidFill>
              <a:latin typeface="Calibri"/>
            </a:endParaRPr>
          </a:p>
        </p:txBody>
      </p:sp>
      <p:graphicFrame>
        <p:nvGraphicFramePr>
          <p:cNvPr id="244" name=""/>
          <p:cNvGraphicFramePr/>
          <p:nvPr/>
        </p:nvGraphicFramePr>
        <p:xfrm>
          <a:off x="457200" y="1935000"/>
          <a:ext cx="8229600" cy="466884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te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gns and sympto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sk fac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de of transmi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agno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evention and control mea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
          <p:cNvSpPr txBox="1"/>
          <p:nvPr/>
        </p:nvSpPr>
        <p:spPr>
          <a:xfrm>
            <a:off x="457200" y="2742840"/>
            <a:ext cx="8229600" cy="3382920"/>
          </a:xfrm>
          <a:prstGeom prst="rect">
            <a:avLst/>
          </a:prstGeom>
          <a:noFill/>
          <a:ln w="0">
            <a:noFill/>
          </a:ln>
        </p:spPr>
        <p:txBody>
          <a:bodyPr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nstantia"/>
              </a:rPr>
              <a:t>Thank you!</a:t>
            </a:r>
            <a:endParaRPr b="0" lang="en-US" sz="8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ing the steps to outbreak investig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ing new termin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pretation of epidemic cur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ing different determinants of infectious disease (human, agent, environ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teps for outbreak investigation</a:t>
            </a: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2209680" y="914400"/>
            <a:ext cx="4648320" cy="589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1828800"/>
            <a:ext cx="8229600" cy="426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What is meant by “cross-contamination”?</a:t>
            </a:r>
            <a:br>
              <a:rPr sz="4500"/>
            </a:br>
            <a:endParaRPr b="0" lang="en-US" sz="3600" spc="-1" strike="noStrike">
              <a:solidFill>
                <a:srgbClr val="04617b"/>
              </a:solidFill>
              <a:latin typeface="Calibri"/>
            </a:endParaRPr>
          </a:p>
        </p:txBody>
      </p:sp>
      <p:sp>
        <p:nvSpPr>
          <p:cNvPr id="209" name=""/>
          <p:cNvSpPr txBox="1"/>
          <p:nvPr/>
        </p:nvSpPr>
        <p:spPr>
          <a:xfrm>
            <a:off x="457200" y="2361960"/>
            <a:ext cx="8229600" cy="3763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the transfer of micro-organisms or toxins from foods, hands, utensils or food preparation surfaces to a f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 Transfer of micro-organisms from dirty hands of a food handler to food, transfer of micro-organisms from raw meat to food, transfer of micro-organisms from contaminated water to f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TextBox 3"/>
          <p:cNvSpPr/>
          <p:nvPr/>
        </p:nvSpPr>
        <p:spPr>
          <a:xfrm>
            <a:off x="838080" y="228600"/>
            <a:ext cx="70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Terminolo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erminology cont.</a:t>
            </a:r>
            <a:endParaRPr b="0" lang="en-US" sz="5000" spc="-1" strike="noStrike">
              <a:solidFill>
                <a:srgbClr val="04617b"/>
              </a:solidFill>
              <a:latin typeface="Calibri"/>
            </a:endParaRPr>
          </a:p>
        </p:txBody>
      </p:sp>
      <p:sp>
        <p:nvSpPr>
          <p:cNvPr id="212" name=""/>
          <p:cNvSpPr txBox="1"/>
          <p:nvPr/>
        </p:nvSpPr>
        <p:spPr>
          <a:xfrm>
            <a:off x="457200" y="3657240"/>
            <a:ext cx="8229600" cy="2468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number of organisms that must be consumed in order to give rise to symptoms of a food-borne i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Rectangle 1"/>
          <p:cNvSpPr/>
          <p:nvPr/>
        </p:nvSpPr>
        <p:spPr>
          <a:xfrm>
            <a:off x="152280" y="2059200"/>
            <a:ext cx="8991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hat is meant by “infectious do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erminology cont.</a:t>
            </a:r>
            <a:endParaRPr b="0" lang="en-US" sz="5000" spc="-1" strike="noStrike">
              <a:solidFill>
                <a:srgbClr val="04617b"/>
              </a:solidFill>
              <a:latin typeface="Calibri"/>
            </a:endParaRPr>
          </a:p>
        </p:txBody>
      </p:sp>
      <p:sp>
        <p:nvSpPr>
          <p:cNvPr id="215" name=""/>
          <p:cNvSpPr txBox="1"/>
          <p:nvPr/>
        </p:nvSpPr>
        <p:spPr>
          <a:xfrm>
            <a:off x="457200" y="4495320"/>
            <a:ext cx="8229600" cy="163044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a group of criteria that helps us decide whether a person has a particular health-related condition or not. These criteria are usually specified by time, person and plac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TextBox 3"/>
          <p:cNvSpPr/>
          <p:nvPr/>
        </p:nvSpPr>
        <p:spPr>
          <a:xfrm>
            <a:off x="457200" y="2057400"/>
            <a:ext cx="8229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n order to detect the number of cases in an outbreak investigation, one must first identify a case defini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at does “case definition”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erminology cont.</a:t>
            </a:r>
            <a:endParaRPr b="0" lang="en-US" sz="5000" spc="-1" strike="noStrike">
              <a:solidFill>
                <a:srgbClr val="04617b"/>
              </a:solidFill>
              <a:latin typeface="Calibri"/>
            </a:endParaRPr>
          </a:p>
        </p:txBody>
      </p:sp>
      <p:sp>
        <p:nvSpPr>
          <p:cNvPr id="218" name=""/>
          <p:cNvSpPr txBox="1"/>
          <p:nvPr/>
        </p:nvSpPr>
        <p:spPr>
          <a:xfrm>
            <a:off x="457200" y="4952520"/>
            <a:ext cx="8229600" cy="1173240"/>
          </a:xfrm>
          <a:prstGeom prst="rect">
            <a:avLst/>
          </a:prstGeom>
          <a:noFill/>
          <a:ln w="0">
            <a:noFill/>
          </a:ln>
        </p:spPr>
        <p:txBody>
          <a:bodyPr anchor="t">
            <a:normAutofit fontScale="89000"/>
          </a:bodyPr>
          <a:p>
            <a:pPr marL="242640" indent="-2426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a table that helps identify number of diagnosed cases and information relevant to disease outbreak. The columns represent specific patient information and the rows represent each case.</a:t>
            </a:r>
            <a:endParaRPr b="0" lang="en-US" sz="2200" spc="-1" strike="noStrike">
              <a:solidFill>
                <a:srgbClr val="000000"/>
              </a:solidFill>
              <a:latin typeface="Constantia"/>
            </a:endParaRPr>
          </a:p>
          <a:p>
            <a:pPr marL="242640" indent="-2426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9" name="TextBox 3"/>
          <p:cNvSpPr/>
          <p:nvPr/>
        </p:nvSpPr>
        <p:spPr>
          <a:xfrm>
            <a:off x="533520" y="228600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the Salmonella outbreak example, health care workers identified cases in “report cards” and then forwarded them to the local healthcare department. This helped the local health department to form a “line list” of c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is “Line li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 listing</a:t>
            </a:r>
            <a:endParaRPr b="0" lang="en-US" sz="5000" spc="-1" strike="noStrike">
              <a:solidFill>
                <a:srgbClr val="04617b"/>
              </a:solidFill>
              <a:latin typeface="Calibri"/>
            </a:endParaRPr>
          </a:p>
        </p:txBody>
      </p:sp>
      <p:sp>
        <p:nvSpPr>
          <p:cNvPr id="221" name=""/>
          <p:cNvSpPr txBox="1"/>
          <p:nvPr/>
        </p:nvSpPr>
        <p:spPr>
          <a:xfrm>
            <a:off x="457200" y="3047760"/>
            <a:ext cx="8229600" cy="3276360"/>
          </a:xfrm>
          <a:prstGeom prst="rect">
            <a:avLst/>
          </a:prstGeom>
          <a:noFill/>
          <a:ln w="0">
            <a:noFill/>
          </a:ln>
        </p:spPr>
        <p:txBody>
          <a:bodyPr anchor="t">
            <a:normAutofit fontScale="92000"/>
          </a:bodyPr>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Identifying information:</a:t>
            </a:r>
            <a:r>
              <a:rPr b="0" lang="en-US" sz="2400" spc="-1" strike="noStrike">
                <a:solidFill>
                  <a:srgbClr val="000000"/>
                </a:solidFill>
                <a:latin typeface="Constantia"/>
              </a:rPr>
              <a:t> name, address, contact information.</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Demographic information:</a:t>
            </a:r>
            <a:r>
              <a:rPr b="0" lang="en-US" sz="2400" spc="-1" strike="noStrike">
                <a:solidFill>
                  <a:srgbClr val="000000"/>
                </a:solidFill>
                <a:latin typeface="Constantia"/>
              </a:rPr>
              <a:t> Age, sex, date of birth, current status(dead or alive)</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Clinical information:</a:t>
            </a:r>
            <a:r>
              <a:rPr b="0" lang="en-US" sz="2400" spc="-1" strike="noStrike">
                <a:solidFill>
                  <a:srgbClr val="000000"/>
                </a:solidFill>
                <a:latin typeface="Constantia"/>
              </a:rPr>
              <a:t> date of report, date of onset of symptoms, presenting symptoms, diagnosis, laboratory findings.</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Relevant risk factor information:</a:t>
            </a:r>
            <a:r>
              <a:rPr b="0" lang="en-US" sz="2400" spc="-1" strike="noStrike">
                <a:solidFill>
                  <a:srgbClr val="000000"/>
                </a:solidFill>
                <a:latin typeface="Constantia"/>
              </a:rPr>
              <a:t> last meal eaten (what and where), contact with animal, ingestion of undercooked meat, ingestion of water from contaminated source.</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2" name="TextBox 3"/>
          <p:cNvSpPr/>
          <p:nvPr/>
        </p:nvSpPr>
        <p:spPr>
          <a:xfrm>
            <a:off x="380880" y="1752480"/>
            <a:ext cx="830592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What information would you like to include in the line li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440" y="609120"/>
            <a:ext cx="5638680" cy="590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e list</a:t>
            </a:r>
            <a:endParaRPr b="0" lang="en-US" sz="4500" spc="-1" strike="noStrike">
              <a:solidFill>
                <a:srgbClr val="04617b"/>
              </a:solidFill>
              <a:latin typeface="Calibri"/>
            </a:endParaRPr>
          </a:p>
        </p:txBody>
      </p:sp>
      <p:pic>
        <p:nvPicPr>
          <p:cNvPr id="224" name="Picture 4" descr=""/>
          <p:cNvPicPr/>
          <p:nvPr/>
        </p:nvPicPr>
        <p:blipFill>
          <a:blip r:embed="rId1"/>
          <a:stretch/>
        </p:blipFill>
        <p:spPr>
          <a:xfrm>
            <a:off x="1295280" y="1066680"/>
            <a:ext cx="6705720" cy="558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9:36:49Z</dcterms:created>
  <dc:creator>Rufaidah</dc:creator>
  <dc:description/>
  <dc:language>en-US</dc:language>
  <cp:lastModifiedBy>Rufaidah</cp:lastModifiedBy>
  <dcterms:modified xsi:type="dcterms:W3CDTF">2011-10-02T05:18:34Z</dcterms:modified>
  <cp:revision>25</cp:revision>
  <dc:subject/>
  <dc:title>Outbreak investigation Tutorial</dc:title>
</cp:coreProperties>
</file>