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BF5-1AA6-4541-AA74-29D7CD57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35B-C3B8-444A-B9FE-4BC3557B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01F-B5DA-4BDF-9121-E35DE7F5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5BF-6449-4801-82B4-1B1E2052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44EE-AA7E-4324-8E7A-E67C0560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4E55-6725-4D9C-84FE-DEC7215D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5379-495F-4E34-8956-7A229063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F2E4-546C-4E7E-9FE0-A8ABF43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B57B-94CE-4A58-80E1-4BB2DF4B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7057-6812-4C3A-842A-B42F2746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D4CB-D4BE-41E9-B8E8-12114ACE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454-DE90-427C-AEDF-DDB1B969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27FD-A2BC-455D-BC0A-6FA338DB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E336-FA5D-4F7C-9BB6-DFDBB28C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6267-7020-4716-81A0-A914F7B0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648F-AE87-4633-A4F5-9A2BB506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4B4F-1343-461A-944A-B31F0F85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449E-0AAD-40E2-BB74-BF32FCC7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4E0CF-229E-414A-BB7D-0826C188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57522-C356-4E41-9CEC-1EE39E6B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37BF-7818-4C56-84D9-B6D26E2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8CA1-A519-4808-9B45-148E2075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B87-CEA3-45E8-975A-F536885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7534B-F352-4AA7-9E3A-9F740CFF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A0E8-5192-4A70-ADB3-875BDE9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9603-EA07-4B56-8B08-1B1BB2DB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4BD7C-73FB-4223-9ABE-0DB0B1DA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2F6B-D695-484E-97F6-A5E1134B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B1D14-CB85-4EE8-9AEE-F8465ACF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0B6F-96D3-4AED-90BB-3ACAB4E5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539-29D4-472C-8655-D18855C4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C1A-CA3F-45D6-B001-358C1CD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253-C39A-4DBF-AEE9-EFD455D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00B-C684-48D1-82AE-5F09B2D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F65-D374-4454-8EED-47249077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1BF-DFD2-474E-98E6-780BF2E2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AB09-D050-4D1A-AF2D-196504E827E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1B18-6721-4FCC-B163-CFEBDE8BA3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B582-BD10-4CC8-8E7E-61312819478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3FFE-4A52-44C5-96F1-4E52E1390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1C96-C34B-4A01-B489-4C004464526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3383-A22B-4B60-AB82-C28AEED1F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Cells, Chemical Bonds &amp; Energy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Cambria"/>
              </a:rPr>
              <a:t>Part-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52280" y="571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BCH 361/ Section: 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228600"/>
            <a:ext cx="2470320" cy="173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B536-6275-4398-959A-AF28B4E4629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CF8B-57AF-49A4-B786-9B4F0DB1D5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3314880" y="2781360"/>
            <a:ext cx="1660320" cy="2671560"/>
          </a:xfrm>
          <a:prstGeom prst="rect">
            <a:avLst/>
          </a:prstGeom>
          <a:ln w="0">
            <a:noFill/>
          </a:ln>
        </p:spPr>
      </p:pic>
      <p:sp>
        <p:nvSpPr>
          <p:cNvPr id="185" name="Cloud Callout 5"/>
          <p:cNvSpPr/>
          <p:nvPr/>
        </p:nvSpPr>
        <p:spPr>
          <a:xfrm>
            <a:off x="4716360" y="836640"/>
            <a:ext cx="3456000" cy="2087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Bradley Hand ITC"/>
              </a:rPr>
              <a:t>Is there any excep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imagesCA6HQI7B.jpg"/>
          <p:cNvPicPr/>
          <p:nvPr/>
        </p:nvPicPr>
        <p:blipFill>
          <a:blip r:embed="rId2"/>
          <a:stretch/>
        </p:blipFill>
        <p:spPr>
          <a:xfrm>
            <a:off x="5867280" y="4437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188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9AA2-65CA-4A90-B3D8-BECBB517AC1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D930-7313-49A2-8894-15006EB7E3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he Exception: Vir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tin for “poiso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es not meet all the criteria of “Lif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t made up of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ontains DNA or RNA, but not usually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Require a host to replic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virus.jpg"/>
          <p:cNvPicPr/>
          <p:nvPr/>
        </p:nvPicPr>
        <p:blipFill>
          <a:blip r:embed="rId1"/>
          <a:stretch/>
        </p:blipFill>
        <p:spPr>
          <a:xfrm>
            <a:off x="6334200" y="3913200"/>
            <a:ext cx="2279520" cy="4273560"/>
          </a:xfrm>
          <a:prstGeom prst="rect">
            <a:avLst/>
          </a:prstGeom>
          <a:ln w="0">
            <a:noFill/>
          </a:ln>
        </p:spPr>
      </p:pic>
      <p:sp>
        <p:nvSpPr>
          <p:cNvPr id="194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87F4-E7C3-4FB1-9C24-9F91266F715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FFE7-B485-4856-8700-E57163E0CE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ambria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7f7f"/>
                </a:solidFill>
                <a:latin typeface="Cambria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308A-DCCA-4470-9B30-FE2BFE86E4C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F37F-F2E7-4AEE-A48A-3010B61372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I- Surrounding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C600-3F5E-462C-A71C-D2AAB8E29F6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4D8-9A8A-4ED3-8B96-163C2940B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250920" y="4724280"/>
            <a:ext cx="4249800" cy="16574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uter membrane of cell that controls movement in and out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lace of communication with the environment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nd other cell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Gate of the Cel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249800" cy="244008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7" name="Rounded Rectangle 12"/>
          <p:cNvSpPr/>
          <p:nvPr/>
        </p:nvSpPr>
        <p:spPr>
          <a:xfrm>
            <a:off x="250920" y="1628640"/>
            <a:ext cx="252072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409840" cy="23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Rounded Rectangle 14"/>
          <p:cNvSpPr/>
          <p:nvPr/>
        </p:nvSpPr>
        <p:spPr>
          <a:xfrm>
            <a:off x="5940360" y="170028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5"/>
          <p:cNvSpPr/>
          <p:nvPr/>
        </p:nvSpPr>
        <p:spPr>
          <a:xfrm>
            <a:off x="5364000" y="4724280"/>
            <a:ext cx="3529080" cy="1297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st commonly found in plant  cells &amp;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upports &amp; protects cell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II- Inside the C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66D6-22E2-4630-8A6D-216B0925CC9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BCA1-BE0F-4783-8BFD-2B357266AD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132000" y="1268280"/>
            <a:ext cx="277344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6" name="Rectangle 5"/>
          <p:cNvSpPr/>
          <p:nvPr/>
        </p:nvSpPr>
        <p:spPr>
          <a:xfrm>
            <a:off x="250920" y="4292640"/>
            <a:ext cx="42498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rst described by Robert Brown in 18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Largest organell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parated from cytoplasm by nuclear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enetic material –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Control Cente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6"/>
          <p:cNvSpPr/>
          <p:nvPr/>
        </p:nvSpPr>
        <p:spPr>
          <a:xfrm>
            <a:off x="250920" y="3860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643280" y="4292640"/>
            <a:ext cx="4176720" cy="201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uble membrane bag that surrounds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Contains nuclear por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hich i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of selective transport between cytoplasm and inside of nucleus (proteins, mRNA)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ate of the Nucle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8"/>
          <p:cNvSpPr/>
          <p:nvPr/>
        </p:nvSpPr>
        <p:spPr>
          <a:xfrm>
            <a:off x="4643280" y="3860640"/>
            <a:ext cx="244800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B9D9-5658-48EE-8D6E-A4034CFE5C1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F99-5AB0-4752-A85B-C99B998F52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059280" y="1268280"/>
            <a:ext cx="277308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Rectangle 5"/>
          <p:cNvSpPr/>
          <p:nvPr/>
        </p:nvSpPr>
        <p:spPr>
          <a:xfrm>
            <a:off x="250920" y="4581360"/>
            <a:ext cx="3529080" cy="1511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esent in the form of strings of DNA and his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instructions for traits &amp; characteristic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Director of the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43280" y="4581360"/>
            <a:ext cx="410544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ide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olus plays an indirect role in protein synthesis by producing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ucleolus is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ot a structur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!!! Just a visible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8"/>
          <p:cNvSpPr/>
          <p:nvPr/>
        </p:nvSpPr>
        <p:spPr>
          <a:xfrm>
            <a:off x="4643280" y="4149720"/>
            <a:ext cx="2016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5DD-9175-4BAD-A653-A3243F49495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9D3B-A68C-45EA-873B-E0024FA614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9280" y="4581360"/>
            <a:ext cx="4392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el-lik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portion of the cell enclosed by the cell membrane but not part of any orga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t stores the organelles, water, and the chemical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Area of Movement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6"/>
          <p:cNvSpPr/>
          <p:nvPr/>
        </p:nvSpPr>
        <p:spPr>
          <a:xfrm>
            <a:off x="179280" y="414972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788000" y="4581360"/>
            <a:ext cx="40320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ransportation center for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mooth and rough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R Site of fatty acid and phospholipid synthesis, While RER place of proteins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4788000" y="414972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http://library.thinkquest.org/06aug/01942/plcells/thinkquest/cytoplasm.jpg"/>
          <p:cNvPicPr/>
          <p:nvPr/>
        </p:nvPicPr>
        <p:blipFill>
          <a:blip r:embed="rId1"/>
          <a:stretch/>
        </p:blipFill>
        <p:spPr>
          <a:xfrm>
            <a:off x="792000" y="1968480"/>
            <a:ext cx="2603520" cy="34624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://library.thinkquest.org/06aug/01942/plcells/thinkquest/ER.jpg"/>
          <p:cNvPicPr/>
          <p:nvPr/>
        </p:nvPicPr>
        <p:blipFill>
          <a:blip r:embed="rId2"/>
          <a:stretch/>
        </p:blipFill>
        <p:spPr>
          <a:xfrm>
            <a:off x="5327640" y="2041560"/>
            <a:ext cx="2755800" cy="3120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B4D5-4D8A-44BB-BFC3-F7080C08137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C597-CCA8-43D9-BC21-2E919452F0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4581360"/>
            <a:ext cx="410508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nd in the cytoplasm and on the 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ir job is to make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us makes the ribosom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6"/>
          <p:cNvSpPr/>
          <p:nvPr/>
        </p:nvSpPr>
        <p:spPr>
          <a:xfrm>
            <a:off x="250920" y="4149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788000" y="4581360"/>
            <a:ext cx="403200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 of oxidative metabolism and ATP produc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its own DN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ibosom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Powerhouse of the C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8"/>
          <p:cNvSpPr/>
          <p:nvPr/>
        </p:nvSpPr>
        <p:spPr>
          <a:xfrm>
            <a:off x="4788000" y="414972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http://library.thinkquest.org/06aug/01942/plcells/thinkquest/ribosomes.jpg"/>
          <p:cNvPicPr/>
          <p:nvPr/>
        </p:nvPicPr>
        <p:blipFill>
          <a:blip r:embed="rId1"/>
          <a:stretch/>
        </p:blipFill>
        <p:spPr>
          <a:xfrm>
            <a:off x="646200" y="2262240"/>
            <a:ext cx="2779560" cy="3108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library.thinkquest.org/06aug/01942/plcells/thinkquest/mitochrondria.jpg"/>
          <p:cNvPicPr/>
          <p:nvPr/>
        </p:nvPicPr>
        <p:blipFill>
          <a:blip r:embed="rId2"/>
          <a:stretch/>
        </p:blipFill>
        <p:spPr>
          <a:xfrm>
            <a:off x="5327640" y="2189160"/>
            <a:ext cx="2530440" cy="3303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A8E2-AF7B-459E-937E-7A6666DC1AE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D553-9862-4C70-9C41-64F3668236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250920" y="4581360"/>
            <a:ext cx="3889440" cy="1368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ackage and to move protein to the out side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y also process proteins from ribosomes that are located on the E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Golgi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4643280" y="4581360"/>
            <a:ext cx="4321440" cy="187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 the wastes and other bad organel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cidic organelles - low pH due to proton pump (pH=5) in the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many degradative enzymes such a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cid hydro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library.thinkquest.org/06aug/01942/plcells/thinkquest/GB.jpg"/>
          <p:cNvPicPr/>
          <p:nvPr/>
        </p:nvPicPr>
        <p:blipFill>
          <a:blip r:embed="rId1"/>
          <a:stretch/>
        </p:blipFill>
        <p:spPr>
          <a:xfrm>
            <a:off x="792000" y="2114640"/>
            <a:ext cx="2213280" cy="2938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http://library.thinkquest.org/06aug/01942/plcells/thinkquest/lysosomes.jpg"/>
          <p:cNvPicPr/>
          <p:nvPr/>
        </p:nvPicPr>
        <p:blipFill>
          <a:blip r:embed="rId2"/>
          <a:stretch/>
        </p:blipFill>
        <p:spPr>
          <a:xfrm>
            <a:off x="5541840" y="2114640"/>
            <a:ext cx="2249640" cy="2963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2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374-7A0D-4095-9787-D32E5270602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6557-12FB-4446-820A-5612BBFEAB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 Callout 5"/>
          <p:cNvSpPr/>
          <p:nvPr/>
        </p:nvSpPr>
        <p:spPr>
          <a:xfrm>
            <a:off x="3492360" y="333360"/>
            <a:ext cx="4608720" cy="3240000"/>
          </a:xfrm>
          <a:prstGeom prst="cloudCallout">
            <a:avLst>
              <a:gd name="adj1" fmla="val -48037"/>
              <a:gd name="adj2" fmla="val 6864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08360" y="98100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Tay-Sachs disease</a:t>
            </a: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is a genetic defect in one of specific  lysosomal hydro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05320" y="4221000"/>
            <a:ext cx="3171960" cy="19162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5" name="Picture 8" descr="stick-man-thinking-clip-art.jpg"/>
          <p:cNvPicPr/>
          <p:nvPr/>
        </p:nvPicPr>
        <p:blipFill>
          <a:blip r:embed="rId2"/>
          <a:stretch/>
        </p:blipFill>
        <p:spPr>
          <a:xfrm>
            <a:off x="2556000" y="4149720"/>
            <a:ext cx="1212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988640"/>
            <a:ext cx="849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hat is a Cel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Two Types of Cell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Exce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Organelles and Their F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9935-C2EC-416F-92AF-65BD76CC973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91C-EBD6-4DB1-B52D-017D6619700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C087-56D8-4A4C-8A1B-99956E7F578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F1B6-2A23-4776-A7CA-E666323A12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250920" y="4581360"/>
            <a:ext cx="396072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acuole in the plant cell is larger than the vacuole in the animal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mbrane-bound sacs for storage, digestion, and waste rem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 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torage Tank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Vacu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4716360" y="4581360"/>
            <a:ext cx="395928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reen chlorophy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here photosynthesis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Food Producer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http://library.thinkquest.org/06aug/01942/plcells/thinkquest/cell232.jpg"/>
          <p:cNvPicPr/>
          <p:nvPr/>
        </p:nvPicPr>
        <p:blipFill>
          <a:blip r:embed="rId1"/>
          <a:stretch/>
        </p:blipFill>
        <p:spPr>
          <a:xfrm>
            <a:off x="1152360" y="2103480"/>
            <a:ext cx="2017800" cy="2949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chloroplast"/>
          <p:cNvPicPr/>
          <p:nvPr/>
        </p:nvPicPr>
        <p:blipFill>
          <a:blip r:embed="rId2"/>
          <a:stretch/>
        </p:blipFill>
        <p:spPr>
          <a:xfrm>
            <a:off x="5834160" y="1968480"/>
            <a:ext cx="1798560" cy="35481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C193-CB18-499F-A1AA-B14F6B2EC77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721B-202F-4A21-871E-5B023D0787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456080" cy="5229360"/>
          </a:xfrm>
          <a:prstGeom prst="rect">
            <a:avLst/>
          </a:prstGeom>
          <a:ln w="936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0" name="TextBox 6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3314880" y="2781360"/>
            <a:ext cx="1660320" cy="2671560"/>
          </a:xfrm>
          <a:prstGeom prst="rect">
            <a:avLst/>
          </a:prstGeom>
          <a:ln w="0">
            <a:noFill/>
          </a:ln>
        </p:spPr>
      </p:pic>
      <p:sp>
        <p:nvSpPr>
          <p:cNvPr id="282" name="Cloud Callout 5"/>
          <p:cNvSpPr/>
          <p:nvPr/>
        </p:nvSpPr>
        <p:spPr>
          <a:xfrm>
            <a:off x="4716360" y="836640"/>
            <a:ext cx="3456000" cy="2087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>
            <a:off x="5292720" y="1197000"/>
            <a:ext cx="26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radley Hand ITC"/>
              </a:rPr>
              <a:t>See you later to continue with the second part of this modu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E1D3-4205-4DAF-8087-1AA7BADCFFA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53D7-0F22-468F-910C-B3D309ACDD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What is a Cell</a:t>
            </a: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ell came from Latin word mean small ro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 cell is the functional and structural unit of all living organ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The Cell Theory --1839 by the German botanist Matthias Jakob Schleiden and German physiologist Theodore Schwan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32D9-6DEA-4434-95C3-59018B16924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4538-8D9C-498D-A9D5-EE267D1618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Cel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ll living things are made up of cell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ells are the smallest working units of all living thing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All cells come from preexisting cells through cell divi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CC3A-ACE0-4F47-AAC7-9142E4F22E0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909E-4FC9-4B72-B919-3C519ED8A5A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3640" y="2707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Exampl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9" descr="amoebaproteus"/>
          <p:cNvPicPr/>
          <p:nvPr/>
        </p:nvPicPr>
        <p:blipFill>
          <a:blip r:embed="rId1"/>
          <a:stretch/>
        </p:blipFill>
        <p:spPr>
          <a:xfrm>
            <a:off x="324000" y="981000"/>
            <a:ext cx="1214280" cy="19432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10" descr="poplarleaf"/>
          <p:cNvPicPr/>
          <p:nvPr/>
        </p:nvPicPr>
        <p:blipFill>
          <a:blip r:embed="rId2"/>
          <a:stretch/>
        </p:blipFill>
        <p:spPr>
          <a:xfrm>
            <a:off x="7169040" y="1004760"/>
            <a:ext cx="1506600" cy="148752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11" descr="redbloodcells"/>
          <p:cNvPicPr/>
          <p:nvPr/>
        </p:nvPicPr>
        <p:blipFill>
          <a:blip r:embed="rId3"/>
          <a:stretch/>
        </p:blipFill>
        <p:spPr>
          <a:xfrm>
            <a:off x="7164360" y="4941720"/>
            <a:ext cx="1548000" cy="144000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Picture 15" descr="nrn956-i1"/>
          <p:cNvPicPr/>
          <p:nvPr/>
        </p:nvPicPr>
        <p:blipFill>
          <a:blip r:embed="rId4"/>
          <a:stretch/>
        </p:blipFill>
        <p:spPr>
          <a:xfrm>
            <a:off x="324000" y="4005360"/>
            <a:ext cx="1255680" cy="17920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17" descr="bacteria"/>
          <p:cNvPicPr/>
          <p:nvPr/>
        </p:nvPicPr>
        <p:blipFill>
          <a:blip r:embed="rId5"/>
          <a:stretch/>
        </p:blipFill>
        <p:spPr>
          <a:xfrm>
            <a:off x="7164360" y="3197160"/>
            <a:ext cx="1511280" cy="123984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0" name="Rectangle 12"/>
          <p:cNvSpPr/>
          <p:nvPr/>
        </p:nvSpPr>
        <p:spPr>
          <a:xfrm>
            <a:off x="7164360" y="443700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7164360" y="249228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7164360" y="6381720"/>
            <a:ext cx="158436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ambria"/>
              </a:rPr>
              <a:t>Red Blood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324000" y="5805360"/>
            <a:ext cx="1295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324000" y="2924280"/>
            <a:ext cx="1223640" cy="5047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7B9A-14E3-482B-8C33-CF1F7E1704B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C032-25D7-4E37-AB52-6596829B22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Bac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rcha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mbria"/>
              </a:rPr>
              <a:t>2.      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Uni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rot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Multi-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Fun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344760" y="1844640"/>
            <a:ext cx="5537160" cy="3745080"/>
          </a:xfrm>
          <a:prstGeom prst="rect">
            <a:avLst/>
          </a:prstGeom>
          <a:ln w="2844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1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721F-256E-41DB-A57E-E4AF481FD31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DC8E-071F-45B0-83E3-4A07E9533BB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Pro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9280" y="155736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some multi-cellula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acks a 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acks membrane bound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s a cell membrane (cell wall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Has ribosomes (protein produc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ircul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059440" y="2349360"/>
            <a:ext cx="3902040" cy="3024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55CD-15FA-490D-872A-E2F515D9339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E50C-2142-46BB-A849-F9C5AD0E51F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0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341360"/>
            <a:ext cx="562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Protis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Multicellular (fungi, plants, animal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mbria"/>
              </a:rPr>
              <a:t>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ontains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ine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8" descr="1plant3"/>
          <p:cNvPicPr/>
          <p:nvPr/>
        </p:nvPicPr>
        <p:blipFill>
          <a:blip r:embed="rId1"/>
          <a:stretch/>
        </p:blipFill>
        <p:spPr>
          <a:xfrm>
            <a:off x="5757840" y="1484280"/>
            <a:ext cx="3056040" cy="2449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73" name="Rectangle 8"/>
          <p:cNvSpPr/>
          <p:nvPr/>
        </p:nvSpPr>
        <p:spPr>
          <a:xfrm>
            <a:off x="6732720" y="4005360"/>
            <a:ext cx="2124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Bradley Hand ITC"/>
              </a:rPr>
              <a:t>Typical 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419640" y="4221000"/>
            <a:ext cx="2124000" cy="360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Bradley Hand ITC"/>
              </a:rPr>
              <a:t>Typical 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B9DE-5366-411C-9480-325E6DCAF15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456E-08DF-44ED-9742-A976859FD5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3419640" y="4581360"/>
            <a:ext cx="2682720" cy="209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8" name="TextBox 16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Eu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ambria"/>
              </a:rPr>
              <a:t>1. Somat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Greek for “body’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All cells in the body except the sex ce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Found in the bones, skin, organs, tissues, bloo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mbria"/>
              </a:rPr>
              <a:t>Reproduce by Mitos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Cambria"/>
              </a:rPr>
              <a:t>2. Ger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he Sex Ce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Sperm and Ov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Reproduce by Meios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BD3C-D1B9-4A73-BA99-5373E150116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AAD9-F8FC-48BD-AE90-76F3CFA9B2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730872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Sooad</cp:lastModifiedBy>
  <dcterms:modified xsi:type="dcterms:W3CDTF">2012-08-05T00:24:40Z</dcterms:modified>
  <cp:revision>11</cp:revision>
  <dc:subject/>
  <dc:title>An Introductory Overview of  Cells, Chemical Bonds &amp; Energy</dc:title>
</cp:coreProperties>
</file>