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508-AC89-4E48-A7F1-220D7B74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5E6-7446-4301-94B0-C966B61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182-0F4A-4F5E-BB05-8262DE30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56D-9EA0-41FB-9649-FAF94468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92D0-7B55-4BB1-A50E-7C37E0E4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856D-4122-4CD5-A93A-2A0B954B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AB0F-16A4-4FBF-B4E1-217935F1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735F-FDB3-4DDE-8CE2-83B789E1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12CD-7836-460C-B06F-C0F0E5C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93C6-1F5C-4016-96BE-5DC47A54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EFEB-3659-4CF1-A614-736A92F0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B66-D563-4636-93D2-2A75D072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C9FB-4555-4D7F-8FFF-CFB7926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4996-3FB7-4FA7-B930-95363485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1BB4-522F-438E-A83A-9C189475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3C50-3CA1-4032-9FCF-2CCA309E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9A3E-8DAA-467C-8CB6-91A19469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D2F3-3F2E-4402-AE7D-1069F1C6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3F57-3204-4387-A059-A3517F18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D723-A98B-4B83-B449-2876D8B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1A9B-773B-49B2-8264-BC39878E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7E7E-D1D2-471F-A6B7-316C9C5D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C2C-3A97-4808-B0FA-822B26A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0F84F-5D7B-4CBD-828A-B199ACE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8CCFF-0EFA-4FC1-BE01-C02EFBE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A50A-7406-41BB-A3CD-F6E9A390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CA71-CAF7-4354-9257-45FC51C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D22D-1172-4926-B40E-B1EDCC60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47647-AFF1-4307-A5C9-4B17B98D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DE01-2F4F-4933-82AF-296971AF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499-28A3-40F0-829B-A9044223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558-94B6-43BD-94FE-B49D7DFF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DC7-D5A1-47A3-AB51-F61D7207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234-7C59-4597-A191-49E39C4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E33-2D4D-4007-B639-6AD1E40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8C7-9A16-4DD9-A96D-86FE126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F168-D24B-4B39-B34D-0E2B4456380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AE19-2EEB-48D4-B304-DFAF9DD461B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17A4-CE3B-4CCC-AFA1-A93501934D4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C812-0F8F-48F2-8DCD-0D923217B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7DC9-9ED0-4C94-9504-C23C65A2FDD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CC9D-5F0A-4D09-AE2B-DACB3AC23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Cells, Chemical Bonds &amp; Energy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Part-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52280" y="571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BCH 361/ Section: 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228600"/>
            <a:ext cx="2470320" cy="173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984A-0395-4A86-99E3-2F5B7252AC7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FF48-7BCB-4557-81E7-B7524D4741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3314880" y="2781360"/>
            <a:ext cx="1660320" cy="2671560"/>
          </a:xfrm>
          <a:prstGeom prst="rect">
            <a:avLst/>
          </a:prstGeom>
          <a:ln w="0">
            <a:noFill/>
          </a:ln>
        </p:spPr>
      </p:pic>
      <p:sp>
        <p:nvSpPr>
          <p:cNvPr id="185" name="Cloud Callout 5"/>
          <p:cNvSpPr/>
          <p:nvPr/>
        </p:nvSpPr>
        <p:spPr>
          <a:xfrm>
            <a:off x="4716360" y="836640"/>
            <a:ext cx="3456000" cy="2087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Bradley Hand ITC"/>
              </a:rPr>
              <a:t>Is there any excep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imagesCA6HQI7B.jpg"/>
          <p:cNvPicPr/>
          <p:nvPr/>
        </p:nvPicPr>
        <p:blipFill>
          <a:blip r:embed="rId2"/>
          <a:stretch/>
        </p:blipFill>
        <p:spPr>
          <a:xfrm>
            <a:off x="5867280" y="4437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88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8122-2F2D-43AB-83EC-EC6A1326C34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E1A4-F675-4E18-A3A3-0BDE3966A1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he Exception: Vir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tin for “poiso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es not meet all the criteria of “Lif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t made up of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tains DNA or RNA, but not usually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Require a host to replic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virus.jpg"/>
          <p:cNvPicPr/>
          <p:nvPr/>
        </p:nvPicPr>
        <p:blipFill>
          <a:blip r:embed="rId1"/>
          <a:stretch/>
        </p:blipFill>
        <p:spPr>
          <a:xfrm>
            <a:off x="6334200" y="3913200"/>
            <a:ext cx="2279520" cy="4273560"/>
          </a:xfrm>
          <a:prstGeom prst="rect">
            <a:avLst/>
          </a:prstGeom>
          <a:ln w="0">
            <a:noFill/>
          </a:ln>
        </p:spPr>
      </p:pic>
      <p:sp>
        <p:nvSpPr>
          <p:cNvPr id="194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BB3-7E46-44D7-8523-95B90CF7D5C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EED-7272-436D-AAD4-A79083F5E69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ambria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7f7f"/>
                </a:solidFill>
                <a:latin typeface="Cambria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CADD-0CA6-47CA-B9EA-B247675F629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CDD-0000-45AC-89E8-CC92EF87EF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I- Surrounding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0C9F-0FFE-4ABE-9C1C-FE45B7C2C5B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00E9-12F2-4499-BC71-560CAE12E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50920" y="4724280"/>
            <a:ext cx="4249800" cy="1657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uter membrane of cell that controls movement in and out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lace of communication with the environment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nd other cell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Gate of the Cel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249800" cy="2440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Rounded Rectangle 12"/>
          <p:cNvSpPr/>
          <p:nvPr/>
        </p:nvSpPr>
        <p:spPr>
          <a:xfrm>
            <a:off x="250920" y="1628640"/>
            <a:ext cx="252072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409840" cy="23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Rounded Rectangle 14"/>
          <p:cNvSpPr/>
          <p:nvPr/>
        </p:nvSpPr>
        <p:spPr>
          <a:xfrm>
            <a:off x="5940360" y="170028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5364000" y="4724280"/>
            <a:ext cx="3529080" cy="1297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st commonly found in plant  cells &amp;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upports &amp; protects cell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II- Inside the C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569E-8B1D-4310-A96C-3744B7A1DA9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D81E-44B5-453C-8204-6005922073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132000" y="1268280"/>
            <a:ext cx="277344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6" name="Rectangle 5"/>
          <p:cNvSpPr/>
          <p:nvPr/>
        </p:nvSpPr>
        <p:spPr>
          <a:xfrm>
            <a:off x="250920" y="4292640"/>
            <a:ext cx="42498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rst described by Robert Brown in 18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Largest organell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parated from cytoplasm by nuclear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enetic material –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Control Cente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6"/>
          <p:cNvSpPr/>
          <p:nvPr/>
        </p:nvSpPr>
        <p:spPr>
          <a:xfrm>
            <a:off x="250920" y="3860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643280" y="4292640"/>
            <a:ext cx="4176720" cy="201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uble membrane bag that surrounds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Contains nuclear por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hich i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of selective transport between cytoplasm and inside of nucleus (proteins, mRNA)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ate of the Nucle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8"/>
          <p:cNvSpPr/>
          <p:nvPr/>
        </p:nvSpPr>
        <p:spPr>
          <a:xfrm>
            <a:off x="4643280" y="3860640"/>
            <a:ext cx="244800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EDDF-C35F-4A67-AFF6-A4DCECAAB63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07B8-A314-4A41-B13C-7DB5C34E97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059280" y="1268280"/>
            <a:ext cx="277308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Rectangle 5"/>
          <p:cNvSpPr/>
          <p:nvPr/>
        </p:nvSpPr>
        <p:spPr>
          <a:xfrm>
            <a:off x="250920" y="4581360"/>
            <a:ext cx="3529080" cy="1511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esent in the form of strings of DNA and his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instructions for traits &amp; characteristic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Director of the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43280" y="4581360"/>
            <a:ext cx="410544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ide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olus plays an indirect role in protein synthesis by producing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ucleolus is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ot a structur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!!! Just a visible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8"/>
          <p:cNvSpPr/>
          <p:nvPr/>
        </p:nvSpPr>
        <p:spPr>
          <a:xfrm>
            <a:off x="4643280" y="4149720"/>
            <a:ext cx="2016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37D2-C7E5-43C1-9C6E-1DB81401375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3409-5ED1-478B-B2FA-1E648027C6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9280" y="4581360"/>
            <a:ext cx="4392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el-lik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portion of the cell enclosed by the cell membrane but not part of any orga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t stores the organelles, water, and the chemical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Area of Movement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6"/>
          <p:cNvSpPr/>
          <p:nvPr/>
        </p:nvSpPr>
        <p:spPr>
          <a:xfrm>
            <a:off x="179280" y="414972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788000" y="4581360"/>
            <a:ext cx="40320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ransportation center for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mooth and rough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R Site of fatty acid and phospholipid synthesis, While RER place of proteins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4788000" y="414972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http://library.thinkquest.org/06aug/01942/plcells/thinkquest/cytoplasm.jpg"/>
          <p:cNvPicPr/>
          <p:nvPr/>
        </p:nvPicPr>
        <p:blipFill>
          <a:blip r:embed="rId1"/>
          <a:stretch/>
        </p:blipFill>
        <p:spPr>
          <a:xfrm>
            <a:off x="792000" y="1968480"/>
            <a:ext cx="2603520" cy="34624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://library.thinkquest.org/06aug/01942/plcells/thinkquest/ER.jpg"/>
          <p:cNvPicPr/>
          <p:nvPr/>
        </p:nvPicPr>
        <p:blipFill>
          <a:blip r:embed="rId2"/>
          <a:stretch/>
        </p:blipFill>
        <p:spPr>
          <a:xfrm>
            <a:off x="5327640" y="2041560"/>
            <a:ext cx="2755800" cy="3120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5D25-49E7-49F3-8F87-15AE98775E1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7CB7-2F1C-480D-A034-82C1B61D29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4581360"/>
            <a:ext cx="410508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nd in the cytoplasm and on the 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ir job is to make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us makes the ribosom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250920" y="4149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788000" y="4581360"/>
            <a:ext cx="403200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 of oxidative metabolism and ATP produc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its own DN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ibosom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Powerhouse of the C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8"/>
          <p:cNvSpPr/>
          <p:nvPr/>
        </p:nvSpPr>
        <p:spPr>
          <a:xfrm>
            <a:off x="4788000" y="414972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http://library.thinkquest.org/06aug/01942/plcells/thinkquest/ribosomes.jpg"/>
          <p:cNvPicPr/>
          <p:nvPr/>
        </p:nvPicPr>
        <p:blipFill>
          <a:blip r:embed="rId1"/>
          <a:stretch/>
        </p:blipFill>
        <p:spPr>
          <a:xfrm>
            <a:off x="646200" y="2262240"/>
            <a:ext cx="2779560" cy="3108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library.thinkquest.org/06aug/01942/plcells/thinkquest/mitochrondria.jpg"/>
          <p:cNvPicPr/>
          <p:nvPr/>
        </p:nvPicPr>
        <p:blipFill>
          <a:blip r:embed="rId2"/>
          <a:stretch/>
        </p:blipFill>
        <p:spPr>
          <a:xfrm>
            <a:off x="5327640" y="2189160"/>
            <a:ext cx="2530440" cy="3303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E702-985F-447D-8A98-D4A4627A02E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4DD4-1D0B-4C26-B97A-AF31215EBA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250920" y="4581360"/>
            <a:ext cx="3889440" cy="1368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ackage and to move protein to the out side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y also process proteins from ribosomes that are located on the E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Golgi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4643280" y="4581360"/>
            <a:ext cx="4321440" cy="187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 the wastes and other bad organel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cidic organelles - low pH due to proton pump (pH=5) in the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many degradative enzymes such a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cid hydro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library.thinkquest.org/06aug/01942/plcells/thinkquest/GB.jpg"/>
          <p:cNvPicPr/>
          <p:nvPr/>
        </p:nvPicPr>
        <p:blipFill>
          <a:blip r:embed="rId1"/>
          <a:stretch/>
        </p:blipFill>
        <p:spPr>
          <a:xfrm>
            <a:off x="792000" y="2114640"/>
            <a:ext cx="2213280" cy="2938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http://library.thinkquest.org/06aug/01942/plcells/thinkquest/lysosomes.jpg"/>
          <p:cNvPicPr/>
          <p:nvPr/>
        </p:nvPicPr>
        <p:blipFill>
          <a:blip r:embed="rId2"/>
          <a:stretch/>
        </p:blipFill>
        <p:spPr>
          <a:xfrm>
            <a:off x="5541840" y="2114640"/>
            <a:ext cx="2249640" cy="2963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2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2264-CF5F-426B-8A18-27BD9DD5313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99F3-19AA-46E8-BC46-1FF94494083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 Callout 5"/>
          <p:cNvSpPr/>
          <p:nvPr/>
        </p:nvSpPr>
        <p:spPr>
          <a:xfrm>
            <a:off x="3492360" y="333360"/>
            <a:ext cx="4608720" cy="3240000"/>
          </a:xfrm>
          <a:prstGeom prst="cloudCallout">
            <a:avLst>
              <a:gd name="adj1" fmla="val -48037"/>
              <a:gd name="adj2" fmla="val 6864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08360" y="98100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Tay-Sachs disease</a:t>
            </a: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is a genetic defect in one of specific  lysosomal hydro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05320" y="4221000"/>
            <a:ext cx="3171960" cy="19162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icture 8" descr="stick-man-thinking-clip-art.jpg"/>
          <p:cNvPicPr/>
          <p:nvPr/>
        </p:nvPicPr>
        <p:blipFill>
          <a:blip r:embed="rId2"/>
          <a:stretch/>
        </p:blipFill>
        <p:spPr>
          <a:xfrm>
            <a:off x="2556000" y="4149720"/>
            <a:ext cx="1212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988640"/>
            <a:ext cx="849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hat is a Cel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Two Types of Cell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Exce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Organelles and Their F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DE4A-9152-4E6E-840E-A69DCFBF8E5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D346-4C2E-4DB7-BD59-E2F0938360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AE99-A712-4488-8389-6E71291DF3C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3982-6CBE-4213-A8E9-D4D77C59C89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50920" y="4581360"/>
            <a:ext cx="396072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acuole in the plant cell is larger than the vacuole in the animal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mbrane-bound sacs for storage, digestion, and waste rem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 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torage Tank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Vacu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716360" y="4581360"/>
            <a:ext cx="395928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reen chlorophy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here photosynthesis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Food Producer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library.thinkquest.org/06aug/01942/plcells/thinkquest/cell232.jpg"/>
          <p:cNvPicPr/>
          <p:nvPr/>
        </p:nvPicPr>
        <p:blipFill>
          <a:blip r:embed="rId1"/>
          <a:stretch/>
        </p:blipFill>
        <p:spPr>
          <a:xfrm>
            <a:off x="1152360" y="2103480"/>
            <a:ext cx="2017800" cy="294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chloroplast"/>
          <p:cNvPicPr/>
          <p:nvPr/>
        </p:nvPicPr>
        <p:blipFill>
          <a:blip r:embed="rId2"/>
          <a:stretch/>
        </p:blipFill>
        <p:spPr>
          <a:xfrm>
            <a:off x="5834160" y="1968480"/>
            <a:ext cx="1798560" cy="35481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880A-D330-43E5-9F8C-19D3C00E961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7347-0217-493A-979C-489F3883787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456080" cy="5229360"/>
          </a:xfrm>
          <a:prstGeom prst="rect">
            <a:avLst/>
          </a:prstGeom>
          <a:ln w="936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0" name="TextBox 6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3314880" y="2781360"/>
            <a:ext cx="1660320" cy="2671560"/>
          </a:xfrm>
          <a:prstGeom prst="rect">
            <a:avLst/>
          </a:prstGeom>
          <a:ln w="0">
            <a:noFill/>
          </a:ln>
        </p:spPr>
      </p:pic>
      <p:sp>
        <p:nvSpPr>
          <p:cNvPr id="282" name="Cloud Callout 5"/>
          <p:cNvSpPr/>
          <p:nvPr/>
        </p:nvSpPr>
        <p:spPr>
          <a:xfrm>
            <a:off x="4716360" y="836640"/>
            <a:ext cx="3456000" cy="2087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5292720" y="119700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See you later to continue with the second part of this modu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479-A767-416A-B41A-7677B1627E4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BEBB-27C7-4D25-BFDA-79B4EE3716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What is a Cell</a:t>
            </a: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ell came from Latin word mean small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 cell is the functional and structural unit of all living organ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The Cell Theory --1839 by the German botanist Matthias Jakob Schleiden and German physiologist Theodore Schwan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409-583D-47F8-BF21-C3CCA92C2E9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B899-0318-499B-A1DB-6D0A1F2738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Cel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ll living things are made up of ce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ells are the smallest working units of all living thi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ll cells come from preexisting cells through cell divi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D343-2302-4926-BD8D-7D3A93FD928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839B-EA97-46D4-A73A-9103B2AC3C2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3640" y="2707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Exampl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9" descr="amoebaproteus"/>
          <p:cNvPicPr/>
          <p:nvPr/>
        </p:nvPicPr>
        <p:blipFill>
          <a:blip r:embed="rId1"/>
          <a:stretch/>
        </p:blipFill>
        <p:spPr>
          <a:xfrm>
            <a:off x="324000" y="981000"/>
            <a:ext cx="1214280" cy="19432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10" descr="poplarleaf"/>
          <p:cNvPicPr/>
          <p:nvPr/>
        </p:nvPicPr>
        <p:blipFill>
          <a:blip r:embed="rId2"/>
          <a:stretch/>
        </p:blipFill>
        <p:spPr>
          <a:xfrm>
            <a:off x="7169040" y="1004760"/>
            <a:ext cx="1506600" cy="148752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11" descr="redbloodcells"/>
          <p:cNvPicPr/>
          <p:nvPr/>
        </p:nvPicPr>
        <p:blipFill>
          <a:blip r:embed="rId3"/>
          <a:stretch/>
        </p:blipFill>
        <p:spPr>
          <a:xfrm>
            <a:off x="7164360" y="4941720"/>
            <a:ext cx="1548000" cy="144000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Picture 15" descr="nrn956-i1"/>
          <p:cNvPicPr/>
          <p:nvPr/>
        </p:nvPicPr>
        <p:blipFill>
          <a:blip r:embed="rId4"/>
          <a:stretch/>
        </p:blipFill>
        <p:spPr>
          <a:xfrm>
            <a:off x="324000" y="4005360"/>
            <a:ext cx="1255680" cy="17920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17" descr="bacteria"/>
          <p:cNvPicPr/>
          <p:nvPr/>
        </p:nvPicPr>
        <p:blipFill>
          <a:blip r:embed="rId5"/>
          <a:stretch/>
        </p:blipFill>
        <p:spPr>
          <a:xfrm>
            <a:off x="7164360" y="3197160"/>
            <a:ext cx="1511280" cy="123984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0" name="Rectangle 12"/>
          <p:cNvSpPr/>
          <p:nvPr/>
        </p:nvSpPr>
        <p:spPr>
          <a:xfrm>
            <a:off x="7164360" y="443700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164360" y="249228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7164360" y="6381720"/>
            <a:ext cx="158436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ambria"/>
              </a:rPr>
              <a:t>Red Blood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324000" y="5805360"/>
            <a:ext cx="1295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324000" y="2924280"/>
            <a:ext cx="1223640" cy="5047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3C7-0416-4555-B42E-51153586DE8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6EA6-5AAC-46A9-A4E8-B1CF59E1E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Bac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rcha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mbria"/>
              </a:rPr>
              <a:t>2.      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Uni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rot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Multi-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Fun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344760" y="1844640"/>
            <a:ext cx="5537160" cy="3745080"/>
          </a:xfrm>
          <a:prstGeom prst="rect">
            <a:avLst/>
          </a:prstGeom>
          <a:ln w="2844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1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CB64-A079-4621-B1CD-6612A7D4EE4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FE12-48A6-410E-822E-630B561F47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Pro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9280" y="155736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some multi-cellula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acks a 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acks membrane bound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s a cell membrane (cell wal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Has ribosomes (protein produc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ircul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059440" y="2349360"/>
            <a:ext cx="3902040" cy="3024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06AD-CDC9-44A4-8558-DD5DCA58D8C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94EE-C734-4D06-88F1-C2040029786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341360"/>
            <a:ext cx="562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Protis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Multicellular (fungi, plants, animal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mbria"/>
              </a:rPr>
              <a:t>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ontains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ine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8" descr="1plant3"/>
          <p:cNvPicPr/>
          <p:nvPr/>
        </p:nvPicPr>
        <p:blipFill>
          <a:blip r:embed="rId1"/>
          <a:stretch/>
        </p:blipFill>
        <p:spPr>
          <a:xfrm>
            <a:off x="5757840" y="1484280"/>
            <a:ext cx="3056040" cy="2449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3" name="Rectangle 8"/>
          <p:cNvSpPr/>
          <p:nvPr/>
        </p:nvSpPr>
        <p:spPr>
          <a:xfrm>
            <a:off x="6732720" y="4005360"/>
            <a:ext cx="2124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Bradley Hand ITC"/>
              </a:rPr>
              <a:t>Typical 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419640" y="4221000"/>
            <a:ext cx="2124000" cy="360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Bradley Hand ITC"/>
              </a:rPr>
              <a:t>Typical 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30E7-BCBE-43A0-B442-7852FB36C9F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F909-BF9A-41EE-87C2-9BD72F99A3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3419640" y="4581360"/>
            <a:ext cx="2682720" cy="209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8" name="TextBox 16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Eu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ambria"/>
              </a:rPr>
              <a:t>1. Somat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Greek for “body’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All cells in the body except the sex ce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Found in the bones, skin, organs, tissues, bloo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mbria"/>
              </a:rPr>
              <a:t>Reproduce by Mitos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ambria"/>
              </a:rPr>
              <a:t>2. Ge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he Sex Ce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Sperm and Ov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Reproduce by Meios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59AA-07B3-4585-AC8C-FFB7C8B04AF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828D-CDE2-44C7-8CEA-FB2FA0F2D5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Sooad</cp:lastModifiedBy>
  <dcterms:modified xsi:type="dcterms:W3CDTF">2012-08-05T00:24:40Z</dcterms:modified>
  <cp:revision>11</cp:revision>
  <dc:subject/>
  <dc:title>An Introductory Overview of  Cells, Chemical Bonds &amp; Energy</dc:title>
</cp:coreProperties>
</file>