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4B91-1232-4F06-811E-668137B14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077E-0303-4A6C-9868-360B89370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50F9-33D1-4CDC-A8D6-2138BA36E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E409-13C7-4FAE-BF7A-AFDC177D9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B4D7C-609C-4224-B9A3-49991C51B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D3B7D-BA04-45DB-BE8A-9BA5A28B2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82D3E-0862-4945-B600-800515AD8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3C832-C02C-4BF3-B5E8-AE662DAF9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74C8D-96F9-4D98-9F9A-20B03FAE1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7FC1E-7815-4317-80FC-03CD60AEB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8F453-B9D3-4983-A1BA-1F8EDE151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4A8B-2725-4618-8B05-E1B79F71E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D55A7-D8E1-4586-ABB5-FD09B51FE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E9AF4-D3A8-4160-AEDE-CEF470BF0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939FC-5357-44AC-8F40-AF185C66C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174FC-1CD2-44DC-A2BE-2FF5A6C33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292C8-38EE-42AF-8B01-84E43E3DB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513800-F1A7-4845-87B9-8FF53F10C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14A9D0-DCEB-4E65-850E-8C06D7589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CEF075-2A1E-48AF-9258-5CE483522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27DEFF-D50B-47CA-9723-6C133B494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00CC5B-F7FB-46C7-B34D-6631C24D2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3FA1-892B-4524-92E8-CDDFCC965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AE472C-91FB-4A90-B4D5-25BCC243B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DA4AC4-E3DD-437E-86A1-B6E64B220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B59086-E035-470E-9D60-8F45115F2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B95D47-48D2-4F10-A6DD-89A0AC197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62F527-243E-497A-A6BC-679BDA1C9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542FA1-6FE6-4670-B5C1-A05F5B4D8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09305B-51C6-4B77-BA66-C4A27D3E5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6CBC7A-59CB-4628-82E8-600BC5A5A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E1D8E4-0F89-4A8F-A0BC-D9C5B859D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FFA0F2-3E81-4D20-BABE-D65B201C7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D573-3145-43B8-9026-186CE92B7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6ED12A-BAA2-45B4-BA8C-145F80623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DCD623-F7E7-4575-AC82-A966825CA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009759-BC45-4980-B13A-1A0615FA5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BF482E-839B-4C04-BD8A-BE9436EA4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71EBBF-D4D3-4934-AB9A-C1B74D851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04AF79-8DB6-4D3A-ACB4-100DD5351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0FAAE0-5CFA-4C9F-A855-AFAF7F067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D9538F-63B3-4AD5-AD48-A8248E36D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5E060D-4721-4627-994A-1FB3EFD8E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DA9EEE-3B9B-4C15-9960-4A2A17B3C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DEE8-C940-4431-934F-5D69DD8F0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9DD940-FE0A-44DA-BE1F-3F9297085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A3FC85-5A12-4EA1-9E52-09B03B847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D6A855-631A-41CE-A216-C481C8136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686D91-ED63-4B36-9495-89637634B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EBEB66-D8ED-44B3-A822-40AD65F4B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7D8DCA-D797-4B8E-8F8B-02B41DF62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4C8B46-4B53-4CE9-BCF8-555DA1613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9FE518-6CBC-40A5-B0AD-86689CB6A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7FFE76-3DCA-4569-9E9D-3CF495D5A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F0673E-E0E9-43A9-8F42-D39CFC1F8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D9EB-4CE0-4609-A6D3-98C797015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95516E-C091-4474-9198-4546543C9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506058-6A64-4878-8533-A5DE0D301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8EE197-E506-42CE-96EF-4A21E8AF0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97BF0D-8575-4DF0-A014-A69A4C3AF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F45AE7-7D1F-43DD-B672-20F8C3789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2A945F-6EA0-455F-BCD9-45AC5A667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B99D8C-5B97-47B2-86BA-1F2E888A4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AB5D25-ADC3-450A-8051-20A94616F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26E35C-CC1D-4D17-BC0A-5DCBDBC11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9B9080-5C9B-4969-8E85-4279ABB89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A705-409C-4354-BF5E-C81E9EF7D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111929-F373-4892-BCA1-A45511719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D1CEAC-A5C8-4B3C-96E3-054DFDEB9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1EA8C9-E91F-45D0-B3FC-743CCF75F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571474-DAE8-4144-81FB-B74B103D7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1ACFB9-B54B-44FD-9F95-5E7915CC9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2720ED-E36C-4EC9-B89A-CE9B12CA0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8E975A-59A8-4BB1-B160-08E381688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7FDE9B-1705-4BB7-AD98-EBB13E6B5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979144-3312-4044-869D-34A6242D3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8DC809-FD6A-4760-8E46-C5FE52CBF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F3A3-B99A-416B-A64F-7A43DA20D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0A8E40-8848-46F9-AC86-21EA37010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4088D7-08A8-46C8-A9B1-5A0E7F1AD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108CD4-D22E-48DB-8909-21C379499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70E672-445E-49B9-9237-49A12F09B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71FD10-FB89-4978-8498-7EE72BC0E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E5B7-82A4-49B2-9B1D-BEDDF9F9E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6FE62-00BA-4240-9C11-519142D2F4CF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1820F-6A27-41E8-81DA-52700F9AFDB8}" type="slidenum">
              <a:rPr b="0" lang="en-U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AD430-CF22-4284-BDC3-FA003C15C38B}" type="slidenum">
              <a:rPr b="0" lang="en-U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5E71B-92F4-4A2B-A619-0B22806B5930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16FFD-AB2E-4AF4-8658-DFB320B82414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7A08D-D804-44BC-B997-CD436C4400D5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04B8C-2C7C-4ABE-ACCA-A11E1FFB50FF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Title 1" descr=""/>
          <p:cNvPicPr/>
          <p:nvPr/>
        </p:nvPicPr>
        <p:blipFill>
          <a:blip r:embed="rId1"/>
          <a:stretch/>
        </p:blipFill>
        <p:spPr>
          <a:xfrm>
            <a:off x="396720" y="3157560"/>
            <a:ext cx="8375760" cy="187812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685440" y="1828440"/>
            <a:ext cx="8077320" cy="150012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WRITING 1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rbel"/>
              </a:rPr>
              <a:t>Tom has </a:t>
            </a:r>
            <a:r>
              <a:rPr b="0" lang="en-US" sz="4800" spc="-1" strike="noStrike">
                <a:solidFill>
                  <a:srgbClr val="ff0000"/>
                </a:solidFill>
                <a:latin typeface="Corbel"/>
              </a:rPr>
              <a:t>a beautiful wife, a big house and lovely children.</a:t>
            </a:r>
            <a:endParaRPr b="0" lang="en-US" sz="4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omplaints were made by teachers and the administrators.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rbel"/>
              </a:rPr>
              <a:t>Complaints were made by </a:t>
            </a:r>
            <a:r>
              <a:rPr b="0" lang="en-US" sz="4400" spc="-1" strike="noStrike">
                <a:solidFill>
                  <a:srgbClr val="ff0000"/>
                </a:solidFill>
                <a:latin typeface="Corbel"/>
              </a:rPr>
              <a:t>the teachers and the administrators</a:t>
            </a:r>
            <a:r>
              <a:rPr b="0" lang="en-US" sz="44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I learned to be attentive to my teachers, and I do my homework.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rbel"/>
              </a:rPr>
              <a:t>I learned </a:t>
            </a:r>
            <a:r>
              <a:rPr b="0" lang="en-US" sz="4400" spc="-1" strike="noStrike">
                <a:solidFill>
                  <a:srgbClr val="ff0000"/>
                </a:solidFill>
                <a:latin typeface="Corbel"/>
              </a:rPr>
              <a:t>to be attentive to my teachers and to do my homework.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She was known for her beauty and generous.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She was known for </a:t>
            </a:r>
            <a:r>
              <a:rPr b="0" lang="en-US" sz="4000" spc="-1" strike="noStrike">
                <a:solidFill>
                  <a:srgbClr val="ff0000"/>
                </a:solidFill>
                <a:latin typeface="Corbel"/>
              </a:rPr>
              <a:t>her beauty and generosity.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This is what I want: to study hard, to get the best grades and to getting a good job when I graduate.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This is what I want: </a:t>
            </a:r>
            <a:r>
              <a:rPr b="0" lang="en-US" sz="4000" spc="-1" strike="noStrike">
                <a:solidFill>
                  <a:srgbClr val="ff0000"/>
                </a:solidFill>
                <a:latin typeface="Corbel"/>
              </a:rPr>
              <a:t>to study hard, to get the best grades and to get a good job </a:t>
            </a: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when I graduate.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I advise you to sleep early, eat healthy food and to exercise regularly.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rbel"/>
              </a:rPr>
              <a:t>Do the following sentences contain any  parallelism errors?</a:t>
            </a:r>
            <a:endParaRPr b="0" lang="en-US" sz="4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I advise you </a:t>
            </a:r>
            <a:r>
              <a:rPr b="0" lang="en-US" sz="4000" spc="-1" strike="noStrike">
                <a:solidFill>
                  <a:srgbClr val="ff0000"/>
                </a:solidFill>
                <a:latin typeface="Corbel"/>
              </a:rPr>
              <a:t>to sleep early, eat healthy food and exercise regularly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I consider your behavior </a:t>
            </a:r>
            <a:r>
              <a:rPr b="0" lang="en-US" sz="4000" spc="-1" strike="noStrike">
                <a:solidFill>
                  <a:srgbClr val="ff0000"/>
                </a:solidFill>
                <a:latin typeface="Corbel"/>
              </a:rPr>
              <a:t>rude, irresponsible, and I think it is offensive.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I consider your behavior </a:t>
            </a:r>
            <a:r>
              <a:rPr b="0" lang="en-US" sz="4000" spc="-1" strike="noStrike">
                <a:solidFill>
                  <a:srgbClr val="ff0000"/>
                </a:solidFill>
                <a:latin typeface="Corbel"/>
              </a:rPr>
              <a:t>rude, irresponsible, and offensive.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rbel"/>
              </a:rPr>
              <a:t>Monica brewed espresso, steamed milk, and told jokes as she prepared Mike’s latte. </a:t>
            </a:r>
            <a:endParaRPr b="0" lang="en-US" sz="4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rbel"/>
              </a:rPr>
              <a:t>Correct!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rbel"/>
              </a:rPr>
              <a:t>Natasha tried holding her breath, chewing a piece of gum, and poking her belly, but she could not quiet her empty stomach, which rumbled during the chemistry exam.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rbel"/>
              </a:rPr>
              <a:t>Correct!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3000"/>
          </a:bodyPr>
          <a:p>
            <a:pPr marL="407160" indent="-2962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rbel"/>
              </a:rPr>
              <a:t>In the restroom, Tishena was brushing her hair, freshened her lip-gloss, and took deep breaths, trying to work up the courage to walk to her first speech class. </a:t>
            </a:r>
            <a:endParaRPr b="0" lang="en-US" sz="48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9000"/>
          </a:bodyPr>
          <a:p>
            <a:pPr marL="433440" indent="-3157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3440" indent="-3157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rbel"/>
              </a:rPr>
              <a:t>In the restroom, Tishena </a:t>
            </a:r>
            <a:r>
              <a:rPr b="0" lang="en-US" sz="4400" spc="-1" strike="noStrike">
                <a:solidFill>
                  <a:srgbClr val="ff0000"/>
                </a:solidFill>
                <a:latin typeface="Corbel"/>
              </a:rPr>
              <a:t>brushed her hair, freshened her lip-gloss, and took deep breaths</a:t>
            </a:r>
            <a:r>
              <a:rPr b="0" lang="en-US" sz="4400" spc="-1" strike="noStrike">
                <a:solidFill>
                  <a:srgbClr val="000000"/>
                </a:solidFill>
                <a:latin typeface="Corbel"/>
              </a:rPr>
              <a:t>, trying to work up the courage to walk to her first speech class. 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433440" indent="-3157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rbel"/>
              </a:rPr>
              <a:t>Tom has a beautiful wife, a big house, and he has lovely children.</a:t>
            </a:r>
            <a:endParaRPr b="0" lang="en-US" sz="4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2T04:57:23Z</dcterms:created>
  <dc:creator>user</dc:creator>
  <dc:description/>
  <dc:language>en-US</dc:language>
  <cp:lastModifiedBy>Samsung</cp:lastModifiedBy>
  <dcterms:modified xsi:type="dcterms:W3CDTF">2013-12-15T18:50:10Z</dcterms:modified>
  <cp:revision>5</cp:revision>
  <dc:subject/>
  <dc:title>PARALLEL STRUCTURE</dc:title>
</cp:coreProperties>
</file>