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F6EA-2A76-4063-9B58-F527231BD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BD83-FD7D-41A5-99C9-2E37304C1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7BA2-C03E-42FA-9BA8-A96536C6D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BB54-05D9-43B8-A084-689CC731F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1BAEE-8FF4-4476-9BEC-69976C303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4F09F-6B82-449E-9AF8-F65447502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9F3DB-E88D-41AE-A172-49728DB98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CF9A7-E56F-4C4F-BB85-C979275BD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5C7A8-51AA-44AC-B8D5-33397750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770EE-2ED8-49EB-8A2F-AF0FDF5DA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55FF1-6520-4B25-9CD1-9CD5B7E3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D3D4-1D29-4E8A-9556-0B93D93E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5B4BF-D1BD-4C94-A2DF-BF6FD868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CB318-8782-4526-98D4-EC1DF866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18390-EBA5-4D5A-9889-A758E2A98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69003-DDE4-445C-AE9C-4049ECEAD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C9F39-8DF7-4673-8B66-35A5A6427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8CB43-2717-4D4F-9B66-50B67EABD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D0730-6C21-47EF-AF48-01873450D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DE13C-09C6-4B66-8AAE-E61D63E49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E771B-416F-4AFB-9E01-64918559B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6994C-C4BE-478D-B85A-71109C48E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A4BB-23CC-4AE8-A928-D4F877480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16079-DE3A-4CD4-B4E8-46B6853AE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DB63B-1D9E-485A-97FE-A160F14F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BF47E-B0B4-45CB-87BA-25809E2C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C55DB-D0BC-46D0-92D3-A4DAB359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ED083-A959-44C3-A564-1DC92839F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81487-AB7F-4B40-BF44-1371D11A2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1B754-4B9A-44A2-85BA-8A8819AAD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8A816-A65A-4AE1-AAFF-65BC2950C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F7576-941C-4D53-B492-D9E57C704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D387D-E9FE-40BD-9864-822B18479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1A21-9387-4C4B-9F04-B6E33AC3C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98CFD-0C5B-498E-9173-1379130EF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17D79-500D-4333-ADCC-3F3D3FF0C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EF498-74D1-411C-AB75-94249F40A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EDC9F-6E63-46B0-B6F0-E382C246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28E3D-C064-456A-B3AB-321E4293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7BC53-DDF1-46AD-B6C1-42E82398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01ACC-0C64-4D13-A8D3-9C8F4B29A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BCA14-381D-4A33-B6B7-EBFBFEE13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5B511-90F0-41C4-9874-98DA0277E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C7510-3BE6-4DFC-9278-B8980CDC6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2455-9BAD-40BD-8FC9-10370AAD7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D55D0-3131-4445-B9C4-541CA7DA0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8B863-58F4-42B9-BAA6-7D831D91B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D015E-C9E5-44DE-B4E4-974686146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6756C-36B4-431C-BE8C-ACA8A296B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20B81-97FA-449B-9BF8-E79460FF7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C7BA3-01C7-439C-8486-62A2B0DA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8B135-FD33-484E-8251-BF145118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14034-75B8-464F-AD70-6DC1FD9C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1ACAD-A5BC-450C-8F2D-8CD636F0F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AEC4A-7F48-4ED4-AA6E-DDA156E12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312E-FAD0-41B5-A949-6E1C87F8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2EC22-1D13-4367-A43B-818FF37A2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87849-0A77-44B9-B5BB-31A1683EE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31984-25A8-4DBC-8F98-5C692589C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DCC9D-A5C9-430A-B4D4-9F2243F4E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6BC7A-0959-4C1F-877B-013A72BC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9370E-A596-4B61-9F00-D7F502317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84CE5-255F-425B-90B6-3DC1A575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2C0D92-64A0-4F69-9EF2-D8E41A85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05FA2-F10C-4C37-8A66-F2507F25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B7A272-EC06-48D0-9E6B-C85B745B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FD0D-6660-47EA-8A5B-795314CD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A3577-B7C7-461A-A0CC-13DC5B48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A6ABAD-8CB6-41A2-8B70-4A9C8C501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C9257-8D90-434F-A10C-19DE8E553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438CC-F950-404A-B2D9-25DB66E1F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9CE051-7E02-4DA7-9E91-60E60F845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A37129-6C52-4EE1-B5CD-31AE1434B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177E6-1F7D-46E3-B31B-C1751A227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E54CC-74DD-4156-BDAA-3B2F6F02B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E0533-AA36-4738-844C-6DE17E77F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E9B98-50FA-481A-BA8B-00BD0C69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0419-BF94-4485-B3E2-02974AB1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7D017-D533-4E90-8891-03588636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32624C-88CB-49BF-A8A3-E8FE580F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07784-8474-4230-A43A-DD62C6DCB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5189B8-6D56-4BB8-B91B-39CD642C5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37EA5D-8000-43DF-8FCE-FD3E0F5B8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351C-1818-4E39-B0A6-80FCA5D0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B5D3-37B3-4488-B5B0-BA591EAB32D1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785FF-1C15-4585-B486-632119C15AFC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18C43-2942-4FB0-91AB-1C64B01F9603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BB01E-302A-48FF-81BD-AB5A7677573E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E4E08-D544-457A-8817-51ADBC7CD1EA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66DE9-A4E3-46B7-9C28-5D7104C3B39B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2A4C-16E5-4142-AC74-92E38588FF52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396720" y="3157560"/>
            <a:ext cx="8375760" cy="18781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WRITING 1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rbel"/>
              </a:rPr>
              <a:t>Tom has </a:t>
            </a:r>
            <a:r>
              <a:rPr b="0" lang="en-US" sz="4800" spc="-1" strike="noStrike">
                <a:solidFill>
                  <a:srgbClr val="ff0000"/>
                </a:solidFill>
                <a:latin typeface="Corbel"/>
              </a:rPr>
              <a:t>a beautiful wife, a big house and lovely children.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omplaints were made by teachers and the administrators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Complaints were made by </a:t>
            </a:r>
            <a:r>
              <a:rPr b="0" lang="en-US" sz="4400" spc="-1" strike="noStrike">
                <a:solidFill>
                  <a:srgbClr val="ff0000"/>
                </a:solidFill>
                <a:latin typeface="Corbel"/>
              </a:rPr>
              <a:t>the teachers and the administrators</a:t>
            </a: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I learned to be attentive to my teachers, and I do my homework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I learned </a:t>
            </a:r>
            <a:r>
              <a:rPr b="0" lang="en-US" sz="4400" spc="-1" strike="noStrike">
                <a:solidFill>
                  <a:srgbClr val="ff0000"/>
                </a:solidFill>
                <a:latin typeface="Corbel"/>
              </a:rPr>
              <a:t>to be attentive to my teachers and to do my homework.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She was known for her beauty and generous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She was known for </a:t>
            </a:r>
            <a:r>
              <a:rPr b="0" lang="en-US" sz="4000" spc="-1" strike="noStrike">
                <a:solidFill>
                  <a:srgbClr val="ff0000"/>
                </a:solidFill>
                <a:latin typeface="Corbel"/>
              </a:rPr>
              <a:t>her beauty and generosity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This is what I want: to study hard, to get the best grades and to getting a good job when I graduate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This is what I want: </a:t>
            </a:r>
            <a:r>
              <a:rPr b="0" lang="en-US" sz="4000" spc="-1" strike="noStrike">
                <a:solidFill>
                  <a:srgbClr val="ff0000"/>
                </a:solidFill>
                <a:latin typeface="Corbel"/>
              </a:rPr>
              <a:t>to study hard, to get the best grades and to get a good job </a:t>
            </a: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when I graduate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I advise you to sleep early, eat healthy food and to exercise regularly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rbel"/>
              </a:rPr>
              <a:t>Do the following sentences contain any  parallelism errors?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I advise you </a:t>
            </a:r>
            <a:r>
              <a:rPr b="0" lang="en-US" sz="4000" spc="-1" strike="noStrike">
                <a:solidFill>
                  <a:srgbClr val="ff0000"/>
                </a:solidFill>
                <a:latin typeface="Corbel"/>
              </a:rPr>
              <a:t>to sleep early, eat healthy food and exercise regularly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I consider your behavior </a:t>
            </a:r>
            <a:r>
              <a:rPr b="0" lang="en-US" sz="4000" spc="-1" strike="noStrike">
                <a:solidFill>
                  <a:srgbClr val="ff0000"/>
                </a:solidFill>
                <a:latin typeface="Corbel"/>
              </a:rPr>
              <a:t>rude, irresponsible, and I think it is offensive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I consider your behavior </a:t>
            </a:r>
            <a:r>
              <a:rPr b="0" lang="en-US" sz="4000" spc="-1" strike="noStrike">
                <a:solidFill>
                  <a:srgbClr val="ff0000"/>
                </a:solidFill>
                <a:latin typeface="Corbel"/>
              </a:rPr>
              <a:t>rude, irresponsible, and offensive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rbel"/>
              </a:rPr>
              <a:t>Monica brewed espresso, steamed milk, and told jokes as she prepared Mike’s latte. 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Correct!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Natasha tried holding her breath, chewing a piece of gum, and poking her belly, but she could not quiet her empty stomach, which rumbled during the chemistry exam.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Correct!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rbel"/>
              </a:rPr>
              <a:t>In the restroom, Tishena was brushing her hair, freshened her lip-gloss, and took deep breaths, trying to work up the courage to walk to her first speech class. 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9000"/>
          </a:bodyPr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In the restroom, Tishena </a:t>
            </a:r>
            <a:r>
              <a:rPr b="0" lang="en-US" sz="4400" spc="-1" strike="noStrike">
                <a:solidFill>
                  <a:srgbClr val="ff0000"/>
                </a:solidFill>
                <a:latin typeface="Corbel"/>
              </a:rPr>
              <a:t>brushed her hair, freshened her lip-gloss, and took deep breaths</a:t>
            </a: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, trying to work up the courage to walk to her first speech class. 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rbel"/>
              </a:rPr>
              <a:t>Tom has a beautiful wife, a big house, and he has lovely children.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2T04:57:23Z</dcterms:created>
  <dc:creator>user</dc:creator>
  <dc:description/>
  <dc:language>en-US</dc:language>
  <cp:lastModifiedBy>Samsung</cp:lastModifiedBy>
  <dcterms:modified xsi:type="dcterms:W3CDTF">2013-12-15T18:50:10Z</dcterms:modified>
  <cp:revision>5</cp:revision>
  <dc:subject/>
  <dc:title>PARALLEL STRUCTURE</dc:title>
</cp:coreProperties>
</file>