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85A1-0DF0-4B7E-BC40-FB744B42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31DE-9620-46BF-BF8C-6C23AA6A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25C7-A9E0-4726-A423-14D1DE7D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8F96-EB98-41F2-8714-E47CBBE3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D29C-BC39-49B8-AAFC-C54456BF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4950-11A6-4F89-AA28-C61E2604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E681-8599-492A-B3CB-E8195062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F5F7-110D-49A4-9B03-2F065C36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7495-7DA3-43B2-B5B7-BD4E2E04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C3E6-3CB8-461A-AF76-C9857DF4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1E63-24BC-4484-B238-E2AFA606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0545-6C6A-4B96-8E0E-17DEE80A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D512-21CD-4D2C-98B6-DD91256B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8B1D-CD56-41EA-9AE0-77A03981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B1EE-797D-4291-B494-8D0CBE58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648F-1C70-4931-8730-7D5A50AD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31C3-B991-4B36-97FE-66FCA72E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85A30-A17F-48D9-B1C7-132841FA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7DB47-D26E-4B8C-8CE0-6B5A243F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6600A-F110-4B4D-AEF9-3CF12E36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E95A8-F4B0-470C-B5FA-C4F2A38F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78285-0766-4849-B14C-103D0CDF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3FE7-6BC4-4B6A-B6B7-3780F8C0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229EA-B25B-48E4-8C65-B3456431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D7774-38A1-42A4-8032-B451F57F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B77EB-02A7-4355-ACDB-F323A506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8B06D-1DA8-481C-BE1B-A706DD44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B56D1-E544-4659-A403-6C63BD5A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DE15A-30CC-46B0-8BE6-3994B519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4410B-B46C-491E-AF91-CA92E3CB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E7E79-0AE6-420B-BD7F-5B750149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84341-C6B3-4A3E-937F-2663B640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BD478-F68F-475C-8669-AE5F1BB7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B667-C1A0-4FE4-84E9-4ED21A8C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82532-FE08-4E51-925F-5D6649B2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BBC12-6D61-4F2A-AF95-0A3F9B7B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E1129-E552-46BA-821D-FDA1F78E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B2347-20E4-4716-AE2E-0E0F9576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88B61-05AE-47A7-B46A-9A4B6466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93AB4-73E6-4BAA-9D51-7599EA0B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1ADAC-7BCC-4CE5-8057-6C42C7A5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21674-E26C-4D73-8E21-7FC54CC2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38F24-051A-44AA-9621-0216CCD1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AE3B-E561-44BA-BA38-EFD4EFDE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C7AA-277F-4251-97F8-8467EB0F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3A6A-DD20-49C0-97D6-22AEC5E7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2D46-F15C-4E77-8FE3-240E5DF1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AFF4-30C7-4FB9-B2E4-7102FF92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041A-D9C3-48F8-9D31-EDDE0F1ABBD6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4475-B538-42B0-8415-99E9B67ED464}" type="slidenum"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69CC-D028-4669-AAE9-F12FE72F18A1}" type="slidenum"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798C-2504-4E94-BC58-8BB72CBFCDFB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00040" y="353880"/>
            <a:ext cx="7858080" cy="1981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286000"/>
            <a:ext cx="7854840" cy="2695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stellar"/>
              </a:rPr>
              <a:t>Parenteral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stellar"/>
              </a:rPr>
              <a:t>quality control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ctr">
              <a:lnSpc>
                <a:spcPct val="13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USP Rabbit Pyrogen Tes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emperature decreases are considered as zero rise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f no rabbit shows an individual tempe rise of  0.5 C or more above its control temperature, the product meets the requirements for the absence of pyrogen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660960" indent="-660960" algn="ctr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nstantia"/>
              </a:rPr>
              <a:t>B. Human Cell-Based Pyrogen Test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660960" indent="-660960">
              <a:lnSpc>
                <a:spcPct val="15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Pyrogens induce human monocytes to release pro-inflammatory cytokines such as Interleukins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660960" indent="-660960">
              <a:lnSpc>
                <a:spcPct val="15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Test methods include incubation of a test sample with monocytes in whole blood or in cultured cell lines and analysis of a specific cytokine after a suitable time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90840" indent="-69084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. Bacterial Endotoxins Test (LAL Test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6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Limulus amebocyte lysate (LAL) reagent is the basis for an in vitro pyrogen test method that is specific for bacterial endotoxin pyroge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6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LAL reagent was obtained horseshoe crab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14200" y="1500120"/>
            <a:ext cx="5429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683280" indent="-68328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. Bacterial Endotoxins Test (LAL Tes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83280" indent="-6832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qual volumes of test solution and LAL reagent are mixed in glass test tube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83280" indent="-6832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fter incubation at 37 C for 1 h, the tubes are observed for clot formation after inverting them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83280" indent="-6832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rmation of a solid gel clot that withstands inversion of the tube constitutes a positive test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5715000" y="1500120"/>
            <a:ext cx="32860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lnSpc>
                <a:spcPct val="13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Since erythrocytes have a diameter of approximately 4.5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, particles of more than 5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 should be the basis for evaluation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3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The unaided eye can see particles approximately 50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3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1" lang="en-US" sz="3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particles can be seen by the light scattered from them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ull batch inspec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ight obscuration particle count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icroscopic particle count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660960" indent="-660960" algn="ctr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Full batch inspection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660960" indent="-660960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100% batch inspection is recommended by GMP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660960" indent="-660960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Done: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1" marL="806760" indent="-457560">
              <a:lnSpc>
                <a:spcPct val="140000"/>
              </a:lnSpc>
              <a:spcBef>
                <a:spcPts val="726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by human inspection for all the units 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806760" indent="-457560">
              <a:lnSpc>
                <a:spcPct val="140000"/>
              </a:lnSpc>
              <a:spcBef>
                <a:spcPts val="726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under a good light, 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806760" indent="-457560">
              <a:lnSpc>
                <a:spcPct val="140000"/>
              </a:lnSpc>
              <a:spcBef>
                <a:spcPts val="726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and against a black and white background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660960" indent="-660960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Automated inspection machines are also used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 algn="ctr">
              <a:lnSpc>
                <a:spcPct val="14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B. Light obscuration particle count test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Use a suitable apparatus based on the principle of light blockage which allows an automatic determination of the size of particles and the number of particles according to size. 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A shadow casts by the particle as it passes through a high intensity light beam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 algn="ctr"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nstantia"/>
              </a:rPr>
              <a:t>B. Light obscuration particle count test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Mix the contents of the sample by slowly inverting the container 20 times successively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If necessary, cautiously remove the sealing closure. Clean the outer surfaces of the container opening using a jet of particle-free water and remove the closure, avoiding any contamination of the contents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 algn="ctr">
              <a:lnSpc>
                <a:spcPct val="15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nstantia"/>
              </a:rPr>
              <a:t>B. Light obscuration particle count tes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For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large-volume parenterals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, single units are tested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For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small-volume parenterals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less than 25 ml in volume: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ntents of  10 or more units are combined in a cleaned container to obtain a volume of not less than 25 ml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 diluting to 25 ml with particle-free water or with an appropriate particle-free solvent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Powders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for parenteral use are reconstituted with particle-free water or with an appropriate particle-free solvent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renteral Quality Control Tes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4 main tests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terility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yrogen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articulate matter 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ackage integrity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. Microscopic particle count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sample is filtered through a membrane filter under ultra clean conditio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laced under   a suitable binocular microscope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unt the number of particles that are equal to or greater than 10 μm and the number of particles that are equal to or greater than 25 μ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Bubble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Dye Challenge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Microbial Challenge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Particulate Transmiss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660960" indent="-660960" algn="ctr">
              <a:lnSpc>
                <a:spcPct val="14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1. Bubble test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660960" indent="-660960">
              <a:lnSpc>
                <a:spcPct val="14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e package is submerged in water or other suitable clear, colorless solvent. 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660960" indent="-660960">
              <a:lnSpc>
                <a:spcPct val="14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A vacuum is exerted on the test system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660960" indent="-660960">
              <a:lnSpc>
                <a:spcPct val="14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e  package is examined visually for evidence of gaseous leakage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660960" indent="-660960">
              <a:lnSpc>
                <a:spcPct val="14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2. Dye Challenge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 algn="just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ontainers are Immersed in a Dye Solution (1% methylene blue solution)  and Subjected to Pressure or  Vacuum Variance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ctr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3. Microbial Challenge tes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3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ntainers are Immersed in a Microbial Suspension (Pressure Differential) or Containers are Subjected to a Microbial Aerosol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3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cubat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.B.: Container Contents Must Support Microbial Growt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4. Particulate Transmiss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packages are placed in a chamber and subjected to a charged aerosolized dust.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units are removed from the chamber and examined for dust entry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A- Sterility testing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embrane filtration sterility test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irect transfer sterility test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Product flush sterility test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A- Steril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14200" y="1356840"/>
            <a:ext cx="87868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3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mbrane filtration sterility test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icroorganisms will be collected on the surface of a 0.45 micron pore size filter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ashing the filters with fluids to remove inhibitory properties  (Bacteriostatic / Fungistatic properties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s filter is segmented and transferred to appropriate media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06480" indent="-514440">
              <a:lnSpc>
                <a:spcPct val="15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luid thioglycollate medium (FTM): support the growth of anaerobic and aerobic microorganism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06480" indent="-514440">
              <a:lnSpc>
                <a:spcPct val="15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oybean casein digest medium (SCDM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upport a wide range of aerobic bacteria and fungi (i.e. yeasts and mold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incubation time is 7 day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A- Steril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14200" y="1356840"/>
            <a:ext cx="87868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 algn="ctr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nstantia"/>
              </a:rPr>
              <a:t>2. Direct transfer sterility testing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thod of choice for medical de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test article is completely immersed in the test med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lete immersion recommended: 2500 mL Max. Volu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transferring, the samples are incubated for 14 day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A- Steril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14200" y="1356840"/>
            <a:ext cx="87868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3. Product flush sterility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commended for transfusion and infusion assemblies that indicate a sterile fluid pathway that cannot be cu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products are flushed with flui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elute is membrane filtered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filter is placed into med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is method is not generally us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14200" y="1500120"/>
            <a:ext cx="87868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USP Rabbit Pyrogen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uman Cell-Based Pyrogen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Bacterial Endotoxins Test (LAL Test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14200" y="1500120"/>
            <a:ext cx="87868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 algn="ctr">
              <a:lnSpc>
                <a:spcPct val="13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USP Rabbit Pyrogen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35480" indent="-735480">
              <a:lnSpc>
                <a:spcPct val="15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Rabbits show a physiological response to pyrogen similar to humans.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35480" indent="-735480">
              <a:lnSpc>
                <a:spcPct val="15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Not valid for products that could mask the test by having a physiological effect on the rabbit.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35480" indent="-735480">
              <a:lnSpc>
                <a:spcPct val="13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ctr">
              <a:lnSpc>
                <a:spcPct val="13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USP Rabbit Pyrogen Test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ethod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Groups of three healthy, mature rabbits are chosen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ccurate thermometers are inserted into the rectum of the rabbits to record their body temperature (control temp 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est solutions are warmed to 37 C prior to injection and then injected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abbit temperatures are recorded at 30 min intervals between 1  and 3 h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07:11:25Z</dcterms:created>
  <dc:creator>USER</dc:creator>
  <dc:description/>
  <dc:language>en-US</dc:language>
  <cp:lastModifiedBy>ADEL ALHOWYAN</cp:lastModifiedBy>
  <dcterms:modified xsi:type="dcterms:W3CDTF">2013-02-02T12:05:21Z</dcterms:modified>
  <cp:revision>12</cp:revision>
  <dc:subject/>
  <dc:title>PHT 434</dc:title>
</cp:coreProperties>
</file>