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4E2-258F-4D8E-9537-38902B2A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072-F889-4183-BFE8-BADBB44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4C3-9543-41C3-B90E-747E4EAB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7A7-6B0A-49C0-9D80-D1E6F996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8C4C-42FF-468E-9357-B397E50C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374-5A98-48B1-B33E-69833D5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91D6-E79A-4528-935F-619F4523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0A0-1E17-4D42-85E7-EAFAF2B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99E7-7A1E-407D-8144-83AAD347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572-0021-450C-AE27-53649008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A8FF-A724-4F68-8089-333C4CD6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5D0-94E6-415A-86FF-A573A49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E4A9-EA2B-4B2E-A577-CAB9D9C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C7A9-28C7-4F0B-891A-BC52CE23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3C3-E7FD-49DC-B9D9-26E67DC7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7CD5-363F-4F30-940A-A2FE15B2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4CAF-0C5B-4EF0-B4F7-E2BF823F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6C303-A752-4763-91C6-B4111D99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6FC6-6817-45F6-92B5-2D31F99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CDCA-B5DC-4148-A4CE-1BDB9D6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8789-C4E7-4371-9E8D-16BE6CE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1898-95AA-41EA-B864-5A8D6CDB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F9F-B4EE-426A-84B4-E8940CC9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337F-4220-451D-B41F-901CEC5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9836-7FBE-4F14-A2D8-ECEA011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B833-435A-431C-A024-6DA2E828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E4DEE-7DEA-49E1-A641-06D19606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B2CE-7E47-478B-A9A7-D08DECDF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B272-5991-4729-A217-3F466F0B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8FCF-202E-4A91-9F7B-C5BABB6B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3E97E-4F9E-4AB6-85D2-2E643B41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EA9E-E856-4976-A6B7-DDE6841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88949-70B7-4DFC-AF30-FF886886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07A-9EAE-4EE4-BF9C-59972300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97FF-3465-45C4-81F4-C3E93DD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5125F-00D3-4AEE-B855-DAC0747E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9269-B145-4DA6-A4AD-A60D2C3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1AEC-6672-42FE-86A2-62F6D406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AF34A-8242-40A0-BFE0-320766F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0CEA-EC43-4134-9E07-DBF6D5EB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80B48-05B1-4CAC-A600-943485E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C0C7-21A7-4B2B-B091-216C6370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F669-66D1-47F2-A6CE-DFD9A34C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BE6-AC4A-4A67-AC85-5109AA85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34F-7452-4FB2-A4C7-DB4C5E3E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51A5-B993-4FDA-A463-B657D0A2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253-EE83-4048-BC39-E1FDD3E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957-0B95-4D48-A23C-4ECBFC5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E8A-0E4B-4A3C-BE63-0530A1EF5CC8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E9D-3AB6-432B-BB94-8A9C5761DAB0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833E-BAF3-4C34-ABE5-600E537C0119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8795-46CC-43B6-ADF8-E5E36AF4037A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00040" y="353880"/>
            <a:ext cx="7858080" cy="1981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5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06760" indent="-457560">
              <a:lnSpc>
                <a:spcPct val="140000"/>
              </a:lnSpc>
              <a:spcBef>
                <a:spcPts val="726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utomated inspection machines are also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660960" indent="-66096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ADEL ALHOWYAN</cp:lastModifiedBy>
  <dcterms:modified xsi:type="dcterms:W3CDTF">2013-02-02T12:05:21Z</dcterms:modified>
  <cp:revision>12</cp:revision>
  <dc:subject/>
  <dc:title>PHT 434</dc:title>
</cp:coreProperties>
</file>