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0.wmf" ContentType="image/x-wmf"/>
  <Override PartName="/ppt/media/image11.png" ContentType="image/png"/>
  <Override PartName="/ppt/media/image7.png" ContentType="image/png"/>
  <Override PartName="/ppt/media/image8.png" ContentType="image/png"/>
  <Override PartName="/ppt/media/image12.wmf" ContentType="image/x-wmf"/>
  <Override PartName="/ppt/media/image9.jpeg" ContentType="image/jpeg"/>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34720" y="689040"/>
            <a:ext cx="4591080" cy="34416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61040"/>
            <a:ext cx="5029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2172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72172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8C6D2-226F-451F-A9E2-0127F8ECA1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 Target="../slides/slide27.xml"/><Relationship Id="rId4"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 Target="../slides/slide28.xml"/><Relationship Id="rId4"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4"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DE5D7-36C6-409E-86DE-D8BABEAB0D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5" name="PlaceHolder 1"/>
          <p:cNvSpPr>
            <a:spLocks noGrp="1"/>
          </p:cNvSpPr>
          <p:nvPr>
            <p:ph type="sldImg"/>
          </p:nvPr>
        </p:nvSpPr>
        <p:spPr>
          <a:xfrm>
            <a:off x="1136520" y="689040"/>
            <a:ext cx="4587840" cy="3441600"/>
          </a:xfrm>
          <a:prstGeom prst="rect">
            <a:avLst/>
          </a:prstGeom>
          <a:ln w="0">
            <a:noFill/>
          </a:ln>
        </p:spPr>
      </p:sp>
      <p:sp>
        <p:nvSpPr>
          <p:cNvPr id="2626"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1"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9EC78-D2EE-4B5D-ACB1-42BE4FCC0E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2" name="PlaceHolder 1"/>
          <p:cNvSpPr>
            <a:spLocks noGrp="1"/>
          </p:cNvSpPr>
          <p:nvPr>
            <p:ph type="sldImg"/>
          </p:nvPr>
        </p:nvSpPr>
        <p:spPr>
          <a:xfrm>
            <a:off x="1082520" y="612720"/>
            <a:ext cx="4794480" cy="3595680"/>
          </a:xfrm>
          <a:prstGeom prst="rect">
            <a:avLst/>
          </a:prstGeom>
          <a:ln w="0">
            <a:noFill/>
          </a:ln>
        </p:spPr>
      </p:sp>
      <p:sp>
        <p:nvSpPr>
          <p:cNvPr id="2653" name="PlaceHolder 2"/>
          <p:cNvSpPr>
            <a:spLocks noGrp="1"/>
          </p:cNvSpPr>
          <p:nvPr>
            <p:ph type="body"/>
          </p:nvPr>
        </p:nvSpPr>
        <p:spPr>
          <a:xfrm>
            <a:off x="966960" y="4360680"/>
            <a:ext cx="5029200" cy="4360680"/>
          </a:xfrm>
          <a:prstGeom prst="rect">
            <a:avLst/>
          </a:prstGeom>
          <a:solidFill>
            <a:srgbClr val="ffffff"/>
          </a:solidFill>
          <a:ln w="9360">
            <a:solidFill>
              <a:srgbClr val="000000"/>
            </a:solidFill>
            <a:miter/>
          </a:ln>
        </p:spPr>
        <p:txBody>
          <a:bodyPr anchor="t">
            <a:noAutofit/>
          </a:bodyPr>
          <a:p>
            <a:pPr indent="0">
              <a:spcBef>
                <a:spcPts val="1375"/>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e usually assume the fluid density (</a:t>
            </a:r>
            <a:r>
              <a:rPr b="0" lang="en-US" sz="1100" spc="-1" strike="noStrike">
                <a:solidFill>
                  <a:srgbClr val="000000"/>
                </a:solidFill>
                <a:latin typeface="Symbol"/>
                <a:ea typeface="Symbol"/>
              </a:rPr>
              <a:t></a:t>
            </a:r>
            <a:r>
              <a:rPr b="0" lang="en-US" sz="1100" spc="-1" strike="noStrike" baseline="-25000">
                <a:solidFill>
                  <a:srgbClr val="000000"/>
                </a:solidFill>
                <a:latin typeface="Times New Roman"/>
              </a:rPr>
              <a:t>f</a:t>
            </a:r>
            <a:r>
              <a:rPr b="0" lang="en-US" sz="1100" spc="-1" strike="noStrike">
                <a:solidFill>
                  <a:srgbClr val="000000"/>
                </a:solidFill>
                <a:latin typeface="Times New Roman"/>
              </a:rPr>
              <a:t>) is between 1.0 and 1.1.  If gas is present, the actual </a:t>
            </a:r>
            <a:r>
              <a:rPr b="0" lang="en-US" sz="1100" spc="-1" strike="noStrike">
                <a:solidFill>
                  <a:srgbClr val="000000"/>
                </a:solidFill>
                <a:latin typeface="Symbol"/>
                <a:ea typeface="Symbol"/>
              </a:rPr>
              <a:t></a:t>
            </a:r>
            <a:r>
              <a:rPr b="0" lang="en-US" sz="1100" spc="-1" strike="noStrike" baseline="-25000">
                <a:solidFill>
                  <a:srgbClr val="000000"/>
                </a:solidFill>
                <a:latin typeface="Times New Roman"/>
              </a:rPr>
              <a:t>f </a:t>
            </a:r>
            <a:r>
              <a:rPr b="0" lang="en-US" sz="1100" spc="-1" strike="noStrike">
                <a:solidFill>
                  <a:srgbClr val="000000"/>
                </a:solidFill>
                <a:latin typeface="Times New Roman"/>
              </a:rPr>
              <a:t>will be &lt; 1.0 and the calculated porosity will be too high.  </a:t>
            </a:r>
            <a:endParaRPr b="0" lang="en-US" sz="1100" spc="-1" strike="noStrike">
              <a:solidFill>
                <a:srgbClr val="000000"/>
              </a:solidFill>
              <a:latin typeface="Times New Roman"/>
            </a:endParaRPr>
          </a:p>
          <a:p>
            <a:pPr indent="0">
              <a:spcBef>
                <a:spcPts val="414"/>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Symbol"/>
                <a:ea typeface="Symbol"/>
              </a:rPr>
              <a:t></a:t>
            </a:r>
            <a:r>
              <a:rPr b="0" lang="en-US" sz="1100" spc="-1" strike="noStrike" baseline="-25000">
                <a:solidFill>
                  <a:srgbClr val="000000"/>
                </a:solidFill>
                <a:latin typeface="Times New Roman"/>
              </a:rPr>
              <a:t>mf</a:t>
            </a:r>
            <a:r>
              <a:rPr b="0" lang="en-US" sz="1100" spc="-1" strike="noStrike">
                <a:solidFill>
                  <a:srgbClr val="000000"/>
                </a:solidFill>
                <a:latin typeface="Times New Roman"/>
              </a:rPr>
              <a:t>	</a:t>
            </a:r>
            <a:r>
              <a:rPr b="0" lang="en-US" sz="1100" spc="-1" strike="noStrike">
                <a:solidFill>
                  <a:srgbClr val="000000"/>
                </a:solidFill>
                <a:latin typeface="Times New Roman"/>
              </a:rPr>
              <a:t>is the mud filtrate density, g/cc</a:t>
            </a:r>
            <a:endParaRPr b="0" lang="en-US" sz="1100" spc="-1" strike="noStrike">
              <a:solidFill>
                <a:srgbClr val="000000"/>
              </a:solidFill>
              <a:latin typeface="Times New Roman"/>
            </a:endParaRPr>
          </a:p>
          <a:p>
            <a:pPr indent="0">
              <a:spcBef>
                <a:spcPts val="414"/>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Symbol"/>
                <a:ea typeface="Symbol"/>
              </a:rPr>
              <a:t></a:t>
            </a:r>
            <a:r>
              <a:rPr b="0" lang="en-US" sz="1100" spc="-1" strike="noStrike" baseline="-25000">
                <a:solidFill>
                  <a:srgbClr val="000000"/>
                </a:solidFill>
                <a:latin typeface="Times New Roman"/>
              </a:rPr>
              <a:t>h</a:t>
            </a:r>
            <a:r>
              <a:rPr b="0" lang="en-US" sz="1100" spc="-1" strike="noStrike" baseline="-25000">
                <a:solidFill>
                  <a:srgbClr val="000000"/>
                </a:solidFill>
                <a:latin typeface="Times New Roman"/>
              </a:rPr>
              <a:t>	</a:t>
            </a:r>
            <a:r>
              <a:rPr b="0" lang="en-US" sz="1100" spc="-1" strike="noStrike">
                <a:solidFill>
                  <a:srgbClr val="000000"/>
                </a:solidFill>
                <a:latin typeface="Times New Roman"/>
              </a:rPr>
              <a:t>is the hydrocarbon density, g/cc</a:t>
            </a:r>
            <a:endParaRPr b="0" lang="en-US" sz="1100" spc="-1" strike="noStrike">
              <a:solidFill>
                <a:srgbClr val="000000"/>
              </a:solidFill>
              <a:latin typeface="Times New Roman"/>
            </a:endParaRPr>
          </a:p>
          <a:p>
            <a:pPr indent="0">
              <a:spcBef>
                <a:spcPts val="414"/>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S</a:t>
            </a:r>
            <a:r>
              <a:rPr b="0" lang="en-US" sz="1100" spc="-1" strike="noStrike" baseline="-25000">
                <a:solidFill>
                  <a:srgbClr val="000000"/>
                </a:solidFill>
                <a:latin typeface="Times New Roman"/>
              </a:rPr>
              <a:t>xo</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is the saturation of the flush/zone, decimal</a:t>
            </a:r>
            <a:endParaRPr b="0" lang="en-US" sz="1100" spc="-1" strike="noStrike">
              <a:solidFill>
                <a:srgbClr val="000000"/>
              </a:solidFill>
              <a:latin typeface="Times New Roman"/>
            </a:endParaRPr>
          </a:p>
          <a:p>
            <a:pPr indent="0">
              <a:spcBef>
                <a:spcPts val="689"/>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bulk density log is a pad device.  This means that the log must be in constant contact with the borehole wall.  This is accomplished through the use of a caliper arm on the back side of the density device.  When the pad loses contact with the formation either through rugosity or washouts, the bulk density reading is affected.  The reading from the density log is always too low in the presence of rugosity or washout.  This results in a calculated porosity that is much too high, because the density log is reading in essence the porosity of the washout or the gap between the porosity, pad, and the borehole wall.  Although density logs are compensated for the presence of mudcake, this compensation is often inadequate to account for all of the effects of borehole breakouts, washouts, and rugosity.  </a:t>
            </a:r>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4"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D1FC5-2481-4C0B-BC3B-62DA701CE1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5" name="PlaceHolder 1"/>
          <p:cNvSpPr>
            <a:spLocks noGrp="1"/>
          </p:cNvSpPr>
          <p:nvPr>
            <p:ph type="sldImg"/>
          </p:nvPr>
        </p:nvSpPr>
        <p:spPr>
          <a:xfrm>
            <a:off x="1066680" y="609480"/>
            <a:ext cx="4794480" cy="3595680"/>
          </a:xfrm>
          <a:prstGeom prst="rect">
            <a:avLst/>
          </a:prstGeom>
          <a:ln w="0">
            <a:noFill/>
          </a:ln>
        </p:spPr>
      </p:sp>
      <p:sp>
        <p:nvSpPr>
          <p:cNvPr id="2656" name="PlaceHolder 2"/>
          <p:cNvSpPr>
            <a:spLocks noGrp="1"/>
          </p:cNvSpPr>
          <p:nvPr>
            <p:ph type="body"/>
          </p:nvPr>
        </p:nvSpPr>
        <p:spPr>
          <a:xfrm>
            <a:off x="966960" y="4361040"/>
            <a:ext cx="5029200" cy="413064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1371600"/>
                <a:tab algn="l" pos="17175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b</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Recorded parameter (bulk volume)</a:t>
            </a:r>
            <a:endParaRPr b="0" lang="en-US" sz="1200" spc="-1" strike="noStrike">
              <a:solidFill>
                <a:srgbClr val="000000"/>
              </a:solidFill>
              <a:latin typeface="Times New Roman"/>
            </a:endParaRPr>
          </a:p>
          <a:p>
            <a:pPr indent="0">
              <a:lnSpc>
                <a:spcPct val="100000"/>
              </a:lnSpc>
              <a:spcBef>
                <a:spcPts val="451"/>
              </a:spcBef>
              <a:buNone/>
              <a:tabLst>
                <a:tab algn="l" pos="0"/>
                <a:tab algn="l" pos="1371600"/>
                <a:tab algn="l" pos="17175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a:t>
            </a:r>
            <a:r>
              <a:rPr b="0" lang="en-US" sz="1200" spc="-1" strike="noStrike" baseline="-25000">
                <a:solidFill>
                  <a:srgbClr val="000000"/>
                </a:solidFill>
                <a:latin typeface="Times New Roman"/>
              </a:rPr>
              <a:t>xo</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mf</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Mud filtrate component</a:t>
            </a:r>
            <a:endParaRPr b="0" lang="en-US" sz="1200" spc="-1" strike="noStrike">
              <a:solidFill>
                <a:srgbClr val="000000"/>
              </a:solidFill>
              <a:latin typeface="Times New Roman"/>
            </a:endParaRPr>
          </a:p>
          <a:p>
            <a:pPr indent="0">
              <a:lnSpc>
                <a:spcPct val="100000"/>
              </a:lnSpc>
              <a:spcBef>
                <a:spcPts val="451"/>
              </a:spcBef>
              <a:buNone/>
              <a:tabLst>
                <a:tab algn="l" pos="0"/>
                <a:tab algn="l" pos="1371600"/>
                <a:tab algn="l" pos="17175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1 - S</a:t>
            </a:r>
            <a:r>
              <a:rPr b="0" lang="en-US" sz="1200" spc="-1" strike="noStrike" baseline="-25000">
                <a:solidFill>
                  <a:srgbClr val="000000"/>
                </a:solidFill>
                <a:latin typeface="Times New Roman"/>
              </a:rPr>
              <a:t>xo</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hc</a:t>
            </a:r>
            <a:r>
              <a:rPr b="0" lang="en-US" sz="1200" spc="-1" strike="noStrike" baseline="-25000">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Hydrocarbon component</a:t>
            </a:r>
            <a:endParaRPr b="0" lang="en-US" sz="1200" spc="-1" strike="noStrike">
              <a:solidFill>
                <a:srgbClr val="000000"/>
              </a:solidFill>
              <a:latin typeface="Times New Roman"/>
            </a:endParaRPr>
          </a:p>
          <a:p>
            <a:pPr indent="0">
              <a:spcBef>
                <a:spcPts val="451"/>
              </a:spcBef>
              <a:buNone/>
              <a:tabLst>
                <a:tab algn="l" pos="0"/>
                <a:tab algn="l" pos="1371600"/>
                <a:tab algn="l" pos="17175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r>
              <a:rPr b="0" lang="en-US" sz="1200" spc="-1" strike="noStrike" baseline="-25000">
                <a:solidFill>
                  <a:srgbClr val="000000"/>
                </a:solidFill>
                <a:latin typeface="Times New Roman"/>
              </a:rPr>
              <a:t>sh</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sh</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hale component</a:t>
            </a:r>
            <a:endParaRPr b="0" lang="en-US" sz="1200" spc="-1" strike="noStrike">
              <a:solidFill>
                <a:srgbClr val="000000"/>
              </a:solidFill>
              <a:latin typeface="Times New Roman"/>
            </a:endParaRPr>
          </a:p>
          <a:p>
            <a:pPr indent="0">
              <a:spcBef>
                <a:spcPts val="451"/>
              </a:spcBef>
              <a:buNone/>
              <a:tabLst>
                <a:tab algn="l" pos="0"/>
                <a:tab algn="l" pos="1371600"/>
                <a:tab algn="l" pos="17175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a:t>
            </a:r>
            <a:r>
              <a:rPr b="0" lang="en-US" sz="1200" spc="-1" strike="noStrike">
                <a:solidFill>
                  <a:srgbClr val="000000"/>
                </a:solidFill>
                <a:latin typeface="Symbol"/>
                <a:ea typeface="Symbol"/>
              </a:rPr>
              <a:t></a:t>
            </a:r>
            <a:r>
              <a:rPr b="0" lang="en-US" sz="1200" spc="-1" strike="noStrike">
                <a:solidFill>
                  <a:srgbClr val="000000"/>
                </a:solidFill>
                <a:latin typeface="Times New Roman"/>
              </a:rPr>
              <a:t> - V</a:t>
            </a:r>
            <a:r>
              <a:rPr b="0" lang="en-US" sz="1200" spc="-1" strike="noStrike" baseline="-25000">
                <a:solidFill>
                  <a:srgbClr val="000000"/>
                </a:solidFill>
                <a:latin typeface="Times New Roman"/>
              </a:rPr>
              <a:t>sh</a:t>
            </a:r>
            <a:r>
              <a:rPr b="0" lang="en-US" sz="1200" spc="-1" strike="noStrike" baseline="-25000">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Matrix componen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7"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D4C34-5364-4434-B8B4-82FD89F788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8" name="PlaceHolder 1"/>
          <p:cNvSpPr>
            <a:spLocks noGrp="1"/>
          </p:cNvSpPr>
          <p:nvPr>
            <p:ph type="sldImg"/>
          </p:nvPr>
        </p:nvSpPr>
        <p:spPr>
          <a:xfrm>
            <a:off x="1082520" y="612720"/>
            <a:ext cx="4794480" cy="3595680"/>
          </a:xfrm>
          <a:prstGeom prst="rect">
            <a:avLst/>
          </a:prstGeom>
          <a:ln w="0">
            <a:noFill/>
          </a:ln>
        </p:spPr>
      </p:sp>
      <p:sp>
        <p:nvSpPr>
          <p:cNvPr id="2659" name="PlaceHolder 2"/>
          <p:cNvSpPr>
            <a:spLocks noGrp="1"/>
          </p:cNvSpPr>
          <p:nvPr>
            <p:ph type="body"/>
          </p:nvPr>
        </p:nvSpPr>
        <p:spPr>
          <a:xfrm>
            <a:off x="966960" y="4361040"/>
            <a:ext cx="5029200" cy="413064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69048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d</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Porosity from density log, fraction</a:t>
            </a:r>
            <a:endParaRPr b="0" lang="en-US" sz="1200" spc="-1" strike="noStrike">
              <a:solidFill>
                <a:srgbClr val="000000"/>
              </a:solidFill>
              <a:latin typeface="Times New Roman"/>
            </a:endParaRPr>
          </a:p>
          <a:p>
            <a:pPr indent="0">
              <a:lnSpc>
                <a:spcPct val="100000"/>
              </a:lnSpc>
              <a:spcBef>
                <a:spcPts val="451"/>
              </a:spcBef>
              <a:buNone/>
              <a:tabLst>
                <a:tab algn="l" pos="0"/>
                <a:tab algn="l" pos="69048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ma</a:t>
            </a:r>
            <a:r>
              <a:rPr b="0" lang="en-US" sz="1200" spc="-1" strike="noStrike" baseline="-25000">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Density of formation matrix,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indent="0">
              <a:lnSpc>
                <a:spcPct val="100000"/>
              </a:lnSpc>
              <a:spcBef>
                <a:spcPts val="451"/>
              </a:spcBef>
              <a:buNone/>
              <a:tabLst>
                <a:tab algn="l" pos="0"/>
                <a:tab algn="l" pos="69048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b</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Bulk density from log measurement,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indent="0">
              <a:lnSpc>
                <a:spcPct val="100000"/>
              </a:lnSpc>
              <a:spcBef>
                <a:spcPts val="451"/>
              </a:spcBef>
              <a:buNone/>
              <a:tabLst>
                <a:tab algn="l" pos="0"/>
                <a:tab algn="l" pos="69048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f</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Density of fluid in rock pores,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indent="0">
              <a:lnSpc>
                <a:spcPct val="100000"/>
              </a:lnSpc>
              <a:spcBef>
                <a:spcPts val="451"/>
              </a:spcBef>
              <a:buNone/>
              <a:tabLst>
                <a:tab algn="l" pos="0"/>
                <a:tab algn="l" pos="69048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hc</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Density of hydrocarbons in rock pores,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indent="0">
              <a:lnSpc>
                <a:spcPct val="100000"/>
              </a:lnSpc>
              <a:spcBef>
                <a:spcPts val="451"/>
              </a:spcBef>
              <a:buNone/>
              <a:tabLst>
                <a:tab algn="l" pos="0"/>
                <a:tab algn="l" pos="69048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mf</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Density of mud filtrate,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indent="0">
              <a:lnSpc>
                <a:spcPct val="100000"/>
              </a:lnSpc>
              <a:spcBef>
                <a:spcPts val="451"/>
              </a:spcBef>
              <a:buNone/>
              <a:tabLst>
                <a:tab algn="l" pos="0"/>
                <a:tab algn="l" pos="69048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sh</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Density of shale,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69048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r>
              <a:rPr b="0" lang="en-US" sz="1200" spc="-1" strike="noStrike" baseline="-25000">
                <a:solidFill>
                  <a:srgbClr val="000000"/>
                </a:solidFill>
                <a:latin typeface="Times New Roman"/>
              </a:rPr>
              <a:t>sh</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Volume of shale, fraction</a:t>
            </a:r>
            <a:endParaRPr b="0" lang="en-US" sz="1200" spc="-1" strike="noStrike">
              <a:solidFill>
                <a:srgbClr val="000000"/>
              </a:solidFill>
              <a:latin typeface="Times New Roman"/>
            </a:endParaRPr>
          </a:p>
          <a:p>
            <a:pPr indent="0">
              <a:spcBef>
                <a:spcPts val="451"/>
              </a:spcBef>
              <a:buNone/>
              <a:tabLst>
                <a:tab algn="l" pos="0"/>
                <a:tab algn="l" pos="690480"/>
                <a:tab algn="l" pos="10256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r>
              <a:rPr b="0" lang="en-US" sz="1200" spc="-1" strike="noStrike" baseline="-25000">
                <a:solidFill>
                  <a:srgbClr val="000000"/>
                </a:solidFill>
                <a:latin typeface="Times New Roman"/>
              </a:rPr>
              <a:t>xo</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Mud filtrate saturation in zone invaded by mud</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iltrate, frac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0"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8C63F-BD9B-4282-B87B-C1922542D7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1" name="PlaceHolder 1"/>
          <p:cNvSpPr>
            <a:spLocks noGrp="1"/>
          </p:cNvSpPr>
          <p:nvPr>
            <p:ph type="sldImg"/>
          </p:nvPr>
        </p:nvSpPr>
        <p:spPr>
          <a:xfrm>
            <a:off x="1082520" y="612720"/>
            <a:ext cx="4794480" cy="3595680"/>
          </a:xfrm>
          <a:prstGeom prst="rect">
            <a:avLst/>
          </a:prstGeom>
          <a:ln w="0">
            <a:noFill/>
          </a:ln>
        </p:spPr>
      </p:sp>
      <p:sp>
        <p:nvSpPr>
          <p:cNvPr id="2662"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3"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0C3BF-00F8-487C-B784-091730239C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4" name="PlaceHolder 1"/>
          <p:cNvSpPr>
            <a:spLocks noGrp="1"/>
          </p:cNvSpPr>
          <p:nvPr>
            <p:ph type="sldImg"/>
          </p:nvPr>
        </p:nvSpPr>
        <p:spPr>
          <a:xfrm>
            <a:off x="1082520" y="612720"/>
            <a:ext cx="4794480" cy="3595680"/>
          </a:xfrm>
          <a:prstGeom prst="rect">
            <a:avLst/>
          </a:prstGeom>
          <a:ln w="0">
            <a:noFill/>
          </a:ln>
        </p:spPr>
      </p:sp>
      <p:sp>
        <p:nvSpPr>
          <p:cNvPr id="2665"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6"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F280F-985A-4740-AF6B-AF8B8998FB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7" name="PlaceHolder 1"/>
          <p:cNvSpPr>
            <a:spLocks noGrp="1"/>
          </p:cNvSpPr>
          <p:nvPr>
            <p:ph type="sldImg"/>
          </p:nvPr>
        </p:nvSpPr>
        <p:spPr>
          <a:xfrm>
            <a:off x="1082520" y="612720"/>
            <a:ext cx="4794480" cy="3595680"/>
          </a:xfrm>
          <a:prstGeom prst="rect">
            <a:avLst/>
          </a:prstGeom>
          <a:ln w="0">
            <a:noFill/>
          </a:ln>
        </p:spPr>
      </p:sp>
      <p:sp>
        <p:nvSpPr>
          <p:cNvPr id="2668"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9"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E4EBD-3595-4867-9E93-FF3967872B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0" name="PlaceHolder 1"/>
          <p:cNvSpPr>
            <a:spLocks noGrp="1"/>
          </p:cNvSpPr>
          <p:nvPr>
            <p:ph type="sldImg"/>
          </p:nvPr>
        </p:nvSpPr>
        <p:spPr>
          <a:xfrm>
            <a:off x="1082520" y="612720"/>
            <a:ext cx="4794480" cy="3595680"/>
          </a:xfrm>
          <a:prstGeom prst="rect">
            <a:avLst/>
          </a:prstGeom>
          <a:ln w="0">
            <a:noFill/>
          </a:ln>
        </p:spPr>
      </p:sp>
      <p:sp>
        <p:nvSpPr>
          <p:cNvPr id="2671"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2"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F8104-63C3-40B7-9E44-BBBFCB6171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3" name="PlaceHolder 1"/>
          <p:cNvSpPr>
            <a:spLocks noGrp="1"/>
          </p:cNvSpPr>
          <p:nvPr>
            <p:ph type="sldImg"/>
          </p:nvPr>
        </p:nvSpPr>
        <p:spPr>
          <a:xfrm>
            <a:off x="1082520" y="612720"/>
            <a:ext cx="4794480" cy="3595680"/>
          </a:xfrm>
          <a:prstGeom prst="rect">
            <a:avLst/>
          </a:prstGeom>
          <a:ln w="0">
            <a:noFill/>
          </a:ln>
        </p:spPr>
      </p:sp>
      <p:sp>
        <p:nvSpPr>
          <p:cNvPr id="2674" name="PlaceHolder 2"/>
          <p:cNvSpPr>
            <a:spLocks noGrp="1"/>
          </p:cNvSpPr>
          <p:nvPr>
            <p:ph type="body"/>
          </p:nvPr>
        </p:nvSpPr>
        <p:spPr>
          <a:xfrm>
            <a:off x="966960" y="4270320"/>
            <a:ext cx="5029200" cy="428328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N</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Recorded parameter</a:t>
            </a:r>
            <a:endParaRPr b="0" lang="en-US" sz="1200" spc="-1" strike="noStrike">
              <a:solidFill>
                <a:srgbClr val="000000"/>
              </a:solidFill>
              <a:latin typeface="Times New Roman"/>
            </a:endParaRPr>
          </a:p>
          <a:p>
            <a:pPr indent="0">
              <a:lnSpc>
                <a:spcPct val="100000"/>
              </a:lnSpc>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a:t>
            </a:r>
            <a:r>
              <a:rPr b="0" lang="en-US" sz="1200" spc="-1" strike="noStrike" baseline="-25000">
                <a:solidFill>
                  <a:srgbClr val="000000"/>
                </a:solidFill>
                <a:latin typeface="Times New Roman"/>
              </a:rPr>
              <a:t>xo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Nmf</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Mud filtrate portion</a:t>
            </a:r>
            <a:endParaRPr b="0" lang="en-US" sz="1200" spc="-1" strike="noStrike">
              <a:solidFill>
                <a:srgbClr val="000000"/>
              </a:solidFill>
              <a:latin typeface="Times New Roman"/>
            </a:endParaRPr>
          </a:p>
          <a:p>
            <a:pPr indent="0">
              <a:lnSpc>
                <a:spcPct val="100000"/>
              </a:lnSpc>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1 - S</a:t>
            </a:r>
            <a:r>
              <a:rPr b="0" lang="en-US" sz="1200" spc="-1" strike="noStrike" baseline="-25000">
                <a:solidFill>
                  <a:srgbClr val="000000"/>
                </a:solidFill>
                <a:latin typeface="Times New Roman"/>
              </a:rPr>
              <a:t>xo</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Nhc</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Hydrocarbon portion</a:t>
            </a:r>
            <a:endParaRPr b="0" lang="en-US" sz="1200" spc="-1" strike="noStrike">
              <a:solidFill>
                <a:srgbClr val="000000"/>
              </a:solidFill>
              <a:latin typeface="Times New Roman"/>
            </a:endParaRPr>
          </a:p>
          <a:p>
            <a:pPr indent="0">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r>
              <a:rPr b="0" lang="en-US" sz="1200" spc="-1" strike="noStrike" baseline="-25000">
                <a:solidFill>
                  <a:srgbClr val="000000"/>
                </a:solidFill>
                <a:latin typeface="Times New Roman"/>
              </a:rPr>
              <a:t>sh</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Nsh</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hale portion</a:t>
            </a:r>
            <a:endParaRPr b="0" lang="en-US" sz="1200" spc="-1" strike="noStrike">
              <a:solidFill>
                <a:srgbClr val="000000"/>
              </a:solidFill>
              <a:latin typeface="Times New Roman"/>
            </a:endParaRPr>
          </a:p>
          <a:p>
            <a:pPr indent="0">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a:t>
            </a:r>
            <a:r>
              <a:rPr b="0" lang="en-US" sz="1200" spc="-1" strike="noStrike">
                <a:solidFill>
                  <a:srgbClr val="000000"/>
                </a:solidFill>
                <a:latin typeface="Symbol"/>
                <a:ea typeface="Symbol"/>
              </a:rPr>
              <a:t></a:t>
            </a:r>
            <a:r>
              <a:rPr b="0" lang="en-US" sz="1200" spc="-1" strike="noStrike">
                <a:solidFill>
                  <a:srgbClr val="000000"/>
                </a:solidFill>
                <a:latin typeface="Times New Roman"/>
              </a:rPr>
              <a:t> - V</a:t>
            </a:r>
            <a:r>
              <a:rPr b="0" lang="en-US" sz="1200" spc="-1" strike="noStrike" baseline="-25000">
                <a:solidFill>
                  <a:srgbClr val="000000"/>
                </a:solidFill>
                <a:latin typeface="Times New Roman"/>
              </a:rPr>
              <a:t>sh</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Nhc</a:t>
            </a:r>
            <a:r>
              <a:rPr b="0" lang="en-US" sz="1200" spc="-1" strike="noStrike" baseline="-25000">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Matrix portion</a:t>
            </a:r>
            <a:endParaRPr b="0" lang="en-US" sz="1200" spc="-1" strike="noStrike">
              <a:solidFill>
                <a:srgbClr val="000000"/>
              </a:solidFill>
              <a:latin typeface="Times New Roman"/>
            </a:endParaRPr>
          </a:p>
          <a:p>
            <a:pPr indent="0">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a:t>
            </a:r>
            <a:endParaRPr b="0" lang="en-US" sz="1200" spc="-1" strike="noStrike">
              <a:solidFill>
                <a:srgbClr val="000000"/>
              </a:solidFill>
              <a:latin typeface="Times New Roman"/>
            </a:endParaRPr>
          </a:p>
          <a:p>
            <a:pPr indent="0">
              <a:lnSpc>
                <a:spcPct val="100000"/>
              </a:lnSpc>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rue porosity of rock</a:t>
            </a:r>
            <a:endParaRPr b="0" lang="en-US" sz="1200" spc="-1" strike="noStrike">
              <a:solidFill>
                <a:srgbClr val="000000"/>
              </a:solidFill>
              <a:latin typeface="Times New Roman"/>
            </a:endParaRPr>
          </a:p>
          <a:p>
            <a:pPr indent="0">
              <a:lnSpc>
                <a:spcPct val="100000"/>
              </a:lnSpc>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Porosity from neutron log measuremen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raction</a:t>
            </a:r>
            <a:endParaRPr b="0" lang="en-US" sz="1200" spc="-1" strike="noStrike">
              <a:solidFill>
                <a:srgbClr val="000000"/>
              </a:solidFill>
              <a:latin typeface="Times New Roman"/>
            </a:endParaRPr>
          </a:p>
          <a:p>
            <a:pPr indent="0">
              <a:lnSpc>
                <a:spcPct val="100000"/>
              </a:lnSpc>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Nma</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Porosity of matrix fraction</a:t>
            </a:r>
            <a:endParaRPr b="0" lang="en-US" sz="1200" spc="-1" strike="noStrike">
              <a:solidFill>
                <a:srgbClr val="000000"/>
              </a:solidFill>
              <a:latin typeface="Times New Roman"/>
            </a:endParaRPr>
          </a:p>
          <a:p>
            <a:pPr indent="0">
              <a:lnSpc>
                <a:spcPct val="100000"/>
              </a:lnSpc>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Nhc</a:t>
            </a:r>
            <a:r>
              <a:rPr b="0" lang="en-US" sz="1200" spc="-1" strike="noStrike" baseline="-25000">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Porosity of formation saturated with</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ydrocarbon fluid, fraction</a:t>
            </a:r>
            <a:endParaRPr b="0" lang="en-US" sz="1200" spc="-1" strike="noStrike">
              <a:solidFill>
                <a:srgbClr val="000000"/>
              </a:solidFill>
              <a:latin typeface="Times New Roman"/>
            </a:endParaRPr>
          </a:p>
          <a:p>
            <a:pPr indent="0">
              <a:lnSpc>
                <a:spcPct val="100000"/>
              </a:lnSpc>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Nmf</a:t>
            </a:r>
            <a:r>
              <a:rPr b="0" lang="en-US" sz="1200" spc="-1" strike="noStrike" baseline="-25000">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Porosity saturated with mud filtrate,</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raction</a:t>
            </a:r>
            <a:endParaRPr b="0" lang="en-US" sz="1200" spc="-1" strike="noStrike">
              <a:solidFill>
                <a:srgbClr val="000000"/>
              </a:solidFill>
              <a:latin typeface="Times New Roman"/>
            </a:endParaRPr>
          </a:p>
          <a:p>
            <a:pPr indent="0">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r>
              <a:rPr b="0" lang="en-US" sz="1200" spc="-1" strike="noStrike" baseline="-25000">
                <a:solidFill>
                  <a:srgbClr val="000000"/>
                </a:solidFill>
                <a:latin typeface="Times New Roman"/>
              </a:rPr>
              <a:t>sh</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Volume of shale, fraction</a:t>
            </a:r>
            <a:endParaRPr b="0" lang="en-US" sz="1200" spc="-1" strike="noStrike">
              <a:solidFill>
                <a:srgbClr val="000000"/>
              </a:solidFill>
              <a:latin typeface="Times New Roman"/>
            </a:endParaRPr>
          </a:p>
          <a:p>
            <a:pPr indent="0">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r>
              <a:rPr b="0" lang="en-US" sz="1200" spc="-1" strike="noStrike" baseline="-25000">
                <a:solidFill>
                  <a:srgbClr val="000000"/>
                </a:solidFill>
                <a:latin typeface="Times New Roman"/>
              </a:rPr>
              <a:t>xo</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Mud filtrate saturation in zone invaded</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y mud filtrate, fracti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5"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AE685-544C-4FB3-AD61-64B9B0C3FF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6" name="PlaceHolder 1"/>
          <p:cNvSpPr>
            <a:spLocks noGrp="1"/>
          </p:cNvSpPr>
          <p:nvPr>
            <p:ph type="sldImg"/>
          </p:nvPr>
        </p:nvSpPr>
        <p:spPr>
          <a:xfrm>
            <a:off x="1082520" y="612720"/>
            <a:ext cx="4794480" cy="3595680"/>
          </a:xfrm>
          <a:prstGeom prst="rect">
            <a:avLst/>
          </a:prstGeom>
          <a:ln w="0">
            <a:noFill/>
          </a:ln>
        </p:spPr>
      </p:sp>
      <p:sp>
        <p:nvSpPr>
          <p:cNvPr id="2677" name="PlaceHolder 2"/>
          <p:cNvSpPr>
            <a:spLocks noGrp="1"/>
          </p:cNvSpPr>
          <p:nvPr>
            <p:ph type="body"/>
          </p:nvPr>
        </p:nvSpPr>
        <p:spPr>
          <a:xfrm>
            <a:off x="966960" y="4361040"/>
            <a:ext cx="5029200" cy="4130640"/>
          </a:xfrm>
          <a:prstGeom prst="rect">
            <a:avLst/>
          </a:prstGeom>
          <a:solidFill>
            <a:srgbClr val="ffffff"/>
          </a:solidFill>
          <a:ln w="9360">
            <a:solidFill>
              <a:srgbClr val="000000"/>
            </a:solidFill>
            <a:miter/>
          </a:ln>
        </p:spPr>
        <p:txBody>
          <a:bodyPr anchor="t">
            <a:noAutofit/>
          </a:bodyPr>
          <a:p>
            <a:pPr indent="0">
              <a:spcBef>
                <a:spcPts val="4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s a radioactive source to bombard the formation with neutrons</a:t>
            </a:r>
            <a:endParaRPr b="0" lang="en-US" sz="1200" spc="-1" strike="noStrike">
              <a:solidFill>
                <a:srgbClr val="000000"/>
              </a:solidFill>
              <a:latin typeface="Times New Roman"/>
            </a:endParaRPr>
          </a:p>
          <a:p>
            <a:pPr indent="0">
              <a:spcBef>
                <a:spcPts val="4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given formation, amount of hydrogen in the formation (I.e. hydrogen index) impacts the number of neutrons that reach the rece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arge hydrogen index implies a large liquid-filled porosity (oil or water).  The hydrogen index is calibrated to limestone porosity.  If the lithology is sandstone or dolomite, the following chart can be used to correct the poro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8"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D5B9F-90EE-4EC4-8449-448B877D24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9" name="PlaceHolder 1"/>
          <p:cNvSpPr>
            <a:spLocks noGrp="1"/>
          </p:cNvSpPr>
          <p:nvPr>
            <p:ph type="sldImg"/>
          </p:nvPr>
        </p:nvSpPr>
        <p:spPr>
          <a:xfrm>
            <a:off x="1085760" y="612720"/>
            <a:ext cx="4794480" cy="3595680"/>
          </a:xfrm>
          <a:prstGeom prst="rect">
            <a:avLst/>
          </a:prstGeom>
          <a:ln w="0">
            <a:noFill/>
          </a:ln>
        </p:spPr>
      </p:sp>
      <p:sp>
        <p:nvSpPr>
          <p:cNvPr id="2680" name="PlaceHolder 2"/>
          <p:cNvSpPr>
            <a:spLocks noGrp="1"/>
          </p:cNvSpPr>
          <p:nvPr>
            <p:ph type="body"/>
          </p:nvPr>
        </p:nvSpPr>
        <p:spPr>
          <a:xfrm>
            <a:off x="990720" y="4284720"/>
            <a:ext cx="5029200" cy="413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ic tools are usually borehole compensated (BHC), which substantially reduces spurious effects at hole size changes as well as errors due to sonde ti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hown in the figure, the BHC system uses two transmitters, one above and one below a pair of sonic receivers.  When one of the transmitters is pulsed, the sound wave enters the formation, travels along the wellbore and triggers both of the receivers; the time elapsed between the sound reaching each receiver is recorded.  The speed of sound in the sonic sonde and mud is less than that in the formations.  Accordingly, the first arrivals of sound energy the receivers corresponds to the sound-travel paths in the formation near the borehole w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HC tranmitters are pulsed alternately, and the delta t readings are averaged.  In this way, the tool is compensated for ti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ravel time for the matrix is known, then porosity can be calculat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7"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1FF17-BA82-499B-B392-00905C39D4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8" name="PlaceHolder 1"/>
          <p:cNvSpPr>
            <a:spLocks noGrp="1"/>
          </p:cNvSpPr>
          <p:nvPr>
            <p:ph type="sldImg"/>
          </p:nvPr>
        </p:nvSpPr>
        <p:spPr>
          <a:xfrm>
            <a:off x="1082520" y="612720"/>
            <a:ext cx="4794480" cy="3595680"/>
          </a:xfrm>
          <a:prstGeom prst="rect">
            <a:avLst/>
          </a:prstGeom>
          <a:ln w="0">
            <a:noFill/>
          </a:ln>
        </p:spPr>
      </p:sp>
      <p:sp>
        <p:nvSpPr>
          <p:cNvPr id="2629" name="PlaceHolder 2"/>
          <p:cNvSpPr>
            <a:spLocks noGrp="1"/>
          </p:cNvSpPr>
          <p:nvPr>
            <p:ph type="body"/>
          </p:nvPr>
        </p:nvSpPr>
        <p:spPr>
          <a:xfrm>
            <a:off x="966960" y="4361040"/>
            <a:ext cx="5029200" cy="413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gure depicts the basic setup of the logging process.  A wireline truck with a spool of logging cable is setup so that the sonde (measuring equipment) can be lowered into the wellbore.  The logging tools measure different properties, such as spontaneous potential and formation resistivity, as the sonde is brought to the surface.  The information is processed by a computer in the logging vehicle, and is interpreted by an engineer or geologis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1"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183A8-A8B0-408D-A3DE-EC08AE2D51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2" name="PlaceHolder 1"/>
          <p:cNvSpPr>
            <a:spLocks noGrp="1"/>
          </p:cNvSpPr>
          <p:nvPr>
            <p:ph type="sldImg"/>
          </p:nvPr>
        </p:nvSpPr>
        <p:spPr>
          <a:xfrm>
            <a:off x="1085760" y="612720"/>
            <a:ext cx="4794480" cy="3595680"/>
          </a:xfrm>
          <a:prstGeom prst="rect">
            <a:avLst/>
          </a:prstGeom>
          <a:ln w="0">
            <a:noFill/>
          </a:ln>
        </p:spPr>
      </p:sp>
      <p:sp>
        <p:nvSpPr>
          <p:cNvPr id="2683" name="PlaceHolder 2"/>
          <p:cNvSpPr>
            <a:spLocks noGrp="1"/>
          </p:cNvSpPr>
          <p:nvPr>
            <p:ph type="body"/>
          </p:nvPr>
        </p:nvSpPr>
        <p:spPr>
          <a:xfrm>
            <a:off x="964800" y="4361040"/>
            <a:ext cx="5031000" cy="413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gure illustrates sonic log response to an acoustic wave transmitted through a compacted formation.  The time, T</a:t>
            </a:r>
            <a:r>
              <a:rPr b="0" lang="en-US" sz="1200" spc="-1" strike="noStrike" baseline="-25000">
                <a:solidFill>
                  <a:srgbClr val="000000"/>
                </a:solidFill>
                <a:latin typeface="Times New Roman"/>
              </a:rPr>
              <a:t>o</a:t>
            </a:r>
            <a:r>
              <a:rPr b="0" lang="en-US" sz="1200" spc="-1" strike="noStrike">
                <a:solidFill>
                  <a:srgbClr val="000000"/>
                </a:solidFill>
                <a:latin typeface="Times New Roman"/>
              </a:rPr>
              <a:t>, at which the acoustic wave was initiated at the transmitter, is shown for reference.  The first arrival at the receiver is the compressional wave.  The Rayleigh wave, traveling at a slower rate, arrives later and is superimposed on the compressional wave.  Following the Rayleigh waves are the slower mud waves, transmitted through the mud column and the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exibility of borehole-compensated (BHC) equipment permits the recording of acoustic logs other than delta t.  These include the Amplitude Log for fracture detection, Cement Bond Log, and Variable Density Log.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4"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FB352-B8F1-44A4-BFD9-2AB1A42D7F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5" name="PlaceHolder 1"/>
          <p:cNvSpPr>
            <a:spLocks noGrp="1"/>
          </p:cNvSpPr>
          <p:nvPr>
            <p:ph type="sldImg"/>
          </p:nvPr>
        </p:nvSpPr>
        <p:spPr>
          <a:xfrm>
            <a:off x="1082520" y="612720"/>
            <a:ext cx="4794480" cy="3595680"/>
          </a:xfrm>
          <a:prstGeom prst="rect">
            <a:avLst/>
          </a:prstGeom>
          <a:ln w="0">
            <a:noFill/>
          </a:ln>
        </p:spPr>
      </p:sp>
      <p:sp>
        <p:nvSpPr>
          <p:cNvPr id="2686"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7"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2F5A3-0EFE-4A10-AC52-F90734B27A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8" name="PlaceHolder 1"/>
          <p:cNvSpPr>
            <a:spLocks noGrp="1"/>
          </p:cNvSpPr>
          <p:nvPr>
            <p:ph type="sldImg"/>
          </p:nvPr>
        </p:nvSpPr>
        <p:spPr>
          <a:xfrm>
            <a:off x="1082520" y="612720"/>
            <a:ext cx="4794480" cy="3595680"/>
          </a:xfrm>
          <a:prstGeom prst="rect">
            <a:avLst/>
          </a:prstGeom>
          <a:ln w="0">
            <a:noFill/>
          </a:ln>
        </p:spPr>
      </p:sp>
      <p:sp>
        <p:nvSpPr>
          <p:cNvPr id="2689" name="PlaceHolder 2"/>
          <p:cNvSpPr>
            <a:spLocks noGrp="1"/>
          </p:cNvSpPr>
          <p:nvPr>
            <p:ph type="body"/>
          </p:nvPr>
        </p:nvSpPr>
        <p:spPr>
          <a:xfrm>
            <a:off x="966960" y="4361040"/>
            <a:ext cx="5029200" cy="413064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t</a:t>
            </a:r>
            <a:r>
              <a:rPr b="0" lang="en-US" sz="1200" spc="-1" strike="noStrike" baseline="-25000">
                <a:solidFill>
                  <a:srgbClr val="000000"/>
                </a:solidFill>
                <a:latin typeface="Times New Roman"/>
              </a:rPr>
              <a:t>L</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Recorded parameter, travel time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ad from log</a:t>
            </a:r>
            <a:endParaRPr b="0" lang="en-US" sz="1200" spc="-1" strike="noStrike">
              <a:solidFill>
                <a:srgbClr val="000000"/>
              </a:solidFill>
              <a:latin typeface="Times New Roman"/>
            </a:endParaRPr>
          </a:p>
          <a:p>
            <a:pPr indent="0">
              <a:lnSpc>
                <a:spcPct val="100000"/>
              </a:lnSpc>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a:t>
            </a:r>
            <a:r>
              <a:rPr b="0" lang="en-US" sz="1200" spc="-1" strike="noStrike" baseline="-25000">
                <a:solidFill>
                  <a:srgbClr val="000000"/>
                </a:solidFill>
                <a:latin typeface="Times New Roman"/>
              </a:rPr>
              <a:t>xo</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t</a:t>
            </a:r>
            <a:r>
              <a:rPr b="0" lang="en-US" sz="1200" spc="-1" strike="noStrike" baseline="-25000">
                <a:solidFill>
                  <a:srgbClr val="000000"/>
                </a:solidFill>
                <a:latin typeface="Times New Roman"/>
              </a:rPr>
              <a:t>mf</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Mud filtrate portion</a:t>
            </a:r>
            <a:endParaRPr b="0" lang="en-US" sz="1200" spc="-1" strike="noStrike">
              <a:solidFill>
                <a:srgbClr val="000000"/>
              </a:solidFill>
              <a:latin typeface="Times New Roman"/>
            </a:endParaRPr>
          </a:p>
          <a:p>
            <a:pPr indent="0">
              <a:lnSpc>
                <a:spcPct val="100000"/>
              </a:lnSpc>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1 - S</a:t>
            </a:r>
            <a:r>
              <a:rPr b="0" lang="en-US" sz="1200" spc="-1" strike="noStrike" baseline="-25000">
                <a:solidFill>
                  <a:srgbClr val="000000"/>
                </a:solidFill>
                <a:latin typeface="Times New Roman"/>
              </a:rPr>
              <a:t>xo</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t</a:t>
            </a:r>
            <a:r>
              <a:rPr b="0" lang="en-US" sz="1200" spc="-1" strike="noStrike" baseline="-25000">
                <a:solidFill>
                  <a:srgbClr val="000000"/>
                </a:solidFill>
                <a:latin typeface="Times New Roman"/>
              </a:rPr>
              <a:t>hc</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Hydrocarbon portion</a:t>
            </a:r>
            <a:endParaRPr b="0" lang="en-US" sz="1200" spc="-1" strike="noStrike">
              <a:solidFill>
                <a:srgbClr val="000000"/>
              </a:solidFill>
              <a:latin typeface="Times New Roman"/>
            </a:endParaRPr>
          </a:p>
          <a:p>
            <a:pPr indent="0">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r>
              <a:rPr b="0" lang="en-US" sz="1200" spc="-1" strike="noStrike" baseline="-25000">
                <a:solidFill>
                  <a:srgbClr val="000000"/>
                </a:solidFill>
                <a:latin typeface="Times New Roman"/>
              </a:rPr>
              <a:t>sh</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t</a:t>
            </a:r>
            <a:r>
              <a:rPr b="0" lang="en-US" sz="1200" spc="-1" strike="noStrike" baseline="-25000">
                <a:solidFill>
                  <a:srgbClr val="000000"/>
                </a:solidFill>
                <a:latin typeface="Times New Roman"/>
              </a:rPr>
              <a:t>sh</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hale portion</a:t>
            </a:r>
            <a:endParaRPr b="0" lang="en-US" sz="1200" spc="-1" strike="noStrike">
              <a:solidFill>
                <a:srgbClr val="000000"/>
              </a:solidFill>
              <a:latin typeface="Times New Roman"/>
            </a:endParaRPr>
          </a:p>
          <a:p>
            <a:pPr indent="0">
              <a:spcBef>
                <a:spcPts val="4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a:t>
            </a:r>
            <a:r>
              <a:rPr b="0" lang="en-US" sz="1200" spc="-1" strike="noStrike">
                <a:solidFill>
                  <a:srgbClr val="000000"/>
                </a:solidFill>
                <a:latin typeface="Symbol"/>
                <a:ea typeface="Symbol"/>
              </a:rPr>
              <a:t></a:t>
            </a:r>
            <a:r>
              <a:rPr b="0" lang="en-US" sz="1200" spc="-1" strike="noStrike">
                <a:solidFill>
                  <a:srgbClr val="000000"/>
                </a:solidFill>
                <a:latin typeface="Times New Roman"/>
              </a:rPr>
              <a:t> - V</a:t>
            </a:r>
            <a:r>
              <a:rPr b="0" lang="en-US" sz="1200" spc="-1" strike="noStrike" baseline="-25000">
                <a:solidFill>
                  <a:srgbClr val="000000"/>
                </a:solidFill>
                <a:latin typeface="Times New Roman"/>
              </a:rPr>
              <a:t>sh</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t</a:t>
            </a:r>
            <a:r>
              <a:rPr b="0" lang="en-US" sz="1200" spc="-1" strike="noStrike" baseline="-25000">
                <a:solidFill>
                  <a:srgbClr val="000000"/>
                </a:solidFill>
                <a:latin typeface="Times New Roman"/>
              </a:rPr>
              <a:t>ma</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Matrix portio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0"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0FA23-8F73-4D5E-8B60-070E18390C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1" name="PlaceHolder 1"/>
          <p:cNvSpPr>
            <a:spLocks noGrp="1"/>
          </p:cNvSpPr>
          <p:nvPr>
            <p:ph type="sldImg"/>
          </p:nvPr>
        </p:nvSpPr>
        <p:spPr>
          <a:xfrm>
            <a:off x="1082520" y="612720"/>
            <a:ext cx="4794480" cy="3595680"/>
          </a:xfrm>
          <a:prstGeom prst="rect">
            <a:avLst/>
          </a:prstGeom>
          <a:ln w="0">
            <a:noFill/>
          </a:ln>
        </p:spPr>
      </p:sp>
      <p:sp>
        <p:nvSpPr>
          <p:cNvPr id="2692" name="PlaceHolder 2"/>
          <p:cNvSpPr>
            <a:spLocks noGrp="1"/>
          </p:cNvSpPr>
          <p:nvPr>
            <p:ph type="body"/>
          </p:nvPr>
        </p:nvSpPr>
        <p:spPr>
          <a:xfrm>
            <a:off x="966960" y="4361040"/>
            <a:ext cx="5029200" cy="413064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457200"/>
                <a:tab algn="l" pos="80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s</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Porosity calculated from sonic log reading, frac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80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t</a:t>
            </a:r>
            <a:r>
              <a:rPr b="0" lang="en-US" sz="1200" spc="-1" strike="noStrike" baseline="-25000">
                <a:solidFill>
                  <a:srgbClr val="000000"/>
                </a:solidFill>
                <a:latin typeface="Times New Roman"/>
              </a:rPr>
              <a:t>L</a:t>
            </a:r>
            <a:r>
              <a:rPr b="0" lang="en-US" sz="1200" spc="-1" strike="noStrike" baseline="-25000">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ravel time reading from log, microseconds/f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80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t</a:t>
            </a:r>
            <a:r>
              <a:rPr b="0" lang="en-US" sz="1200" spc="-1" strike="noStrike" baseline="-25000">
                <a:solidFill>
                  <a:srgbClr val="000000"/>
                </a:solidFill>
                <a:latin typeface="Times New Roman"/>
              </a:rPr>
              <a:t>ma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ravel time in matrix, microseconds/f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80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t</a:t>
            </a:r>
            <a:r>
              <a:rPr b="0" lang="en-US" sz="1200" spc="-1" strike="noStrike" baseline="-25000">
                <a:solidFill>
                  <a:srgbClr val="000000"/>
                </a:solidFill>
                <a:latin typeface="Times New Roman"/>
              </a:rPr>
              <a:t>f</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ravel time in fluid, microseconds/ f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3"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C5F76-F5F1-4782-8F80-F3B15EF26C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4" name="PlaceHolder 1"/>
          <p:cNvSpPr>
            <a:spLocks noGrp="1"/>
          </p:cNvSpPr>
          <p:nvPr>
            <p:ph type="sldImg"/>
          </p:nvPr>
        </p:nvSpPr>
        <p:spPr>
          <a:xfrm>
            <a:off x="1082520" y="612720"/>
            <a:ext cx="4794480" cy="3595680"/>
          </a:xfrm>
          <a:prstGeom prst="rect">
            <a:avLst/>
          </a:prstGeom>
          <a:ln w="0">
            <a:noFill/>
          </a:ln>
        </p:spPr>
      </p:sp>
      <p:sp>
        <p:nvSpPr>
          <p:cNvPr id="2695"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6"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06E35-CE3D-4B41-94A4-3083D0F5DC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7" name="PlaceHolder 1"/>
          <p:cNvSpPr>
            <a:spLocks noGrp="1"/>
          </p:cNvSpPr>
          <p:nvPr>
            <p:ph type="sldImg"/>
          </p:nvPr>
        </p:nvSpPr>
        <p:spPr>
          <a:xfrm>
            <a:off x="1082520" y="612720"/>
            <a:ext cx="4794480" cy="3595680"/>
          </a:xfrm>
          <a:prstGeom prst="rect">
            <a:avLst/>
          </a:prstGeom>
          <a:ln w="0">
            <a:noFill/>
          </a:ln>
        </p:spPr>
      </p:sp>
      <p:sp>
        <p:nvSpPr>
          <p:cNvPr id="2698" name="PlaceHolder 2"/>
          <p:cNvSpPr>
            <a:spLocks noGrp="1"/>
          </p:cNvSpPr>
          <p:nvPr>
            <p:ph type="body"/>
          </p:nvPr>
        </p:nvSpPr>
        <p:spPr>
          <a:xfrm>
            <a:off x="966960" y="4361040"/>
            <a:ext cx="5029200" cy="413064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nic log - measures the slowness of a compressional wave to travel in the formation.  </a:t>
            </a: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re t is travel time (slowness)</a:t>
            </a:r>
            <a:endParaRPr b="0" lang="en-US" sz="1000" spc="-1" strike="noStrike">
              <a:solidFill>
                <a:srgbClr val="000000"/>
              </a:solidFill>
              <a:latin typeface="Times New Roman"/>
            </a:endParaRPr>
          </a:p>
          <a:p>
            <a:pPr lvl="1" marL="457200"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t>
            </a:r>
            <a:r>
              <a:rPr b="1" lang="en-US" sz="1000" spc="-1" strike="noStrike" baseline="-25000">
                <a:solidFill>
                  <a:srgbClr val="000000"/>
                </a:solidFill>
                <a:latin typeface="Times New Roman"/>
              </a:rPr>
              <a:t>log </a:t>
            </a:r>
            <a:r>
              <a:rPr b="1" lang="en-US" sz="1000" spc="-1" strike="noStrike">
                <a:solidFill>
                  <a:srgbClr val="000000"/>
                </a:solidFill>
                <a:latin typeface="Times New Roman"/>
              </a:rPr>
              <a:t>is log reading, </a:t>
            </a:r>
            <a:r>
              <a:rPr b="1" lang="en-US" sz="1000" spc="-1" strike="noStrike">
                <a:solidFill>
                  <a:srgbClr val="000000"/>
                </a:solidFill>
                <a:latin typeface="Symbol"/>
                <a:ea typeface="Symbol"/>
              </a:rPr>
              <a:t></a:t>
            </a:r>
            <a:r>
              <a:rPr b="1" lang="en-US" sz="1000" spc="-1" strike="noStrike">
                <a:solidFill>
                  <a:srgbClr val="000000"/>
                </a:solidFill>
                <a:latin typeface="Times New Roman"/>
              </a:rPr>
              <a:t>sec/ft</a:t>
            </a:r>
            <a:endParaRPr b="0" lang="en-US" sz="1000" spc="-1" strike="noStrike">
              <a:solidFill>
                <a:srgbClr val="000000"/>
              </a:solidFill>
              <a:latin typeface="Times New Roman"/>
            </a:endParaRPr>
          </a:p>
          <a:p>
            <a:pPr lvl="1" marL="457200"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t>
            </a:r>
            <a:r>
              <a:rPr b="1" lang="en-US" sz="1000" spc="-1" strike="noStrike" baseline="-25000">
                <a:solidFill>
                  <a:srgbClr val="000000"/>
                </a:solidFill>
                <a:latin typeface="Times New Roman"/>
              </a:rPr>
              <a:t>ma </a:t>
            </a:r>
            <a:r>
              <a:rPr b="1" lang="en-US" sz="1000" spc="-1" strike="noStrike">
                <a:solidFill>
                  <a:srgbClr val="000000"/>
                </a:solidFill>
                <a:latin typeface="Times New Roman"/>
              </a:rPr>
              <a:t>is the matrix travel time, </a:t>
            </a:r>
            <a:r>
              <a:rPr b="1" lang="en-US" sz="1000" spc="-1" strike="noStrike">
                <a:solidFill>
                  <a:srgbClr val="000000"/>
                </a:solidFill>
                <a:latin typeface="Symbol"/>
                <a:ea typeface="Symbol"/>
              </a:rPr>
              <a:t></a:t>
            </a:r>
            <a:r>
              <a:rPr b="1" lang="en-US" sz="1000" spc="-1" strike="noStrike">
                <a:solidFill>
                  <a:srgbClr val="000000"/>
                </a:solidFill>
                <a:latin typeface="Times New Roman"/>
              </a:rPr>
              <a:t>sec/ft</a:t>
            </a:r>
            <a:endParaRPr b="0" lang="en-US" sz="1000" spc="-1" strike="noStrike">
              <a:solidFill>
                <a:srgbClr val="000000"/>
              </a:solidFill>
              <a:latin typeface="Times New Roman"/>
            </a:endParaRPr>
          </a:p>
          <a:p>
            <a:pPr lvl="1" marL="457200"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t>
            </a:r>
            <a:r>
              <a:rPr b="1" lang="en-US" sz="1000" spc="-1" strike="noStrike" baseline="-25000">
                <a:solidFill>
                  <a:srgbClr val="000000"/>
                </a:solidFill>
                <a:latin typeface="Times New Roman"/>
              </a:rPr>
              <a:t>f</a:t>
            </a:r>
            <a:r>
              <a:rPr b="1" lang="en-US" sz="1000" spc="-1" strike="noStrike">
                <a:solidFill>
                  <a:srgbClr val="000000"/>
                </a:solidFill>
                <a:latin typeface="Times New Roman"/>
              </a:rPr>
              <a:t> is the fluid travel time, </a:t>
            </a:r>
            <a:r>
              <a:rPr b="1" lang="en-US" sz="1000" spc="-1" strike="noStrike">
                <a:solidFill>
                  <a:srgbClr val="000000"/>
                </a:solidFill>
                <a:latin typeface="Symbol"/>
                <a:ea typeface="Symbol"/>
              </a:rPr>
              <a:t></a:t>
            </a:r>
            <a:r>
              <a:rPr b="1" lang="en-US" sz="1000" spc="-1" strike="noStrike">
                <a:solidFill>
                  <a:srgbClr val="000000"/>
                </a:solidFill>
                <a:latin typeface="Times New Roman"/>
              </a:rPr>
              <a:t>sec/ft</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r>
              <a:rPr b="1" lang="en-US" sz="1000" spc="-1" strike="noStrike">
                <a:solidFill>
                  <a:srgbClr val="000000"/>
                </a:solidFill>
                <a:latin typeface="Times New Roman"/>
              </a:rPr>
              <a:t> </a:t>
            </a:r>
            <a:r>
              <a:rPr b="1" lang="en-US" sz="1000" spc="-1" strike="noStrike">
                <a:solidFill>
                  <a:srgbClr val="000000"/>
                </a:solidFill>
                <a:latin typeface="Times New Roman"/>
              </a:rPr>
              <a:t>is porosity</a:t>
            </a:r>
            <a:endParaRPr b="0" lang="en-US" sz="1000" spc="-1" strike="noStrike">
              <a:solidFill>
                <a:srgbClr val="000000"/>
              </a:solidFill>
              <a:latin typeface="Times New Roman"/>
            </a:endParaRPr>
          </a:p>
          <a:p>
            <a:pPr indent="0">
              <a:spcBef>
                <a:spcPts val="62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rix travel time (t</a:t>
            </a:r>
            <a:r>
              <a:rPr b="0" lang="en-US" sz="1000" spc="-1" strike="noStrike" baseline="-25000">
                <a:solidFill>
                  <a:srgbClr val="000000"/>
                </a:solidFill>
                <a:latin typeface="Times New Roman"/>
              </a:rPr>
              <a:t>ma</a:t>
            </a:r>
            <a:r>
              <a:rPr b="0" lang="en-US" sz="1000" spc="-1" strike="noStrike">
                <a:solidFill>
                  <a:srgbClr val="000000"/>
                </a:solidFill>
                <a:latin typeface="Times New Roman"/>
              </a:rPr>
              <a:t>) is a function of lithology</a:t>
            </a: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a:t>
            </a:r>
            <a:r>
              <a:rPr b="0" lang="en-US" sz="1000" spc="-1" strike="noStrike" baseline="-25000">
                <a:solidFill>
                  <a:srgbClr val="000000"/>
                </a:solidFill>
                <a:latin typeface="Times New Roman"/>
              </a:rPr>
              <a:t>ma</a:t>
            </a:r>
            <a:r>
              <a:rPr b="0" lang="en-US" sz="1000" spc="-1" strike="noStrike">
                <a:solidFill>
                  <a:srgbClr val="000000"/>
                </a:solidFill>
                <a:latin typeface="Times New Roman"/>
              </a:rPr>
              <a:t>	</a:t>
            </a:r>
            <a:r>
              <a:rPr b="0" lang="en-US" sz="1000" spc="-1" strike="noStrike">
                <a:solidFill>
                  <a:srgbClr val="000000"/>
                </a:solidFill>
                <a:latin typeface="Times New Roman"/>
              </a:rPr>
              <a:t>=</a:t>
            </a:r>
            <a:r>
              <a:rPr b="0" lang="en-US" sz="1000" spc="-1" strike="noStrike">
                <a:solidFill>
                  <a:srgbClr val="000000"/>
                </a:solidFill>
                <a:latin typeface="Times New Roman"/>
              </a:rPr>
              <a:t>	</a:t>
            </a:r>
            <a:r>
              <a:rPr b="0" lang="en-US" sz="1000" spc="-1" strike="noStrike">
                <a:solidFill>
                  <a:srgbClr val="000000"/>
                </a:solidFill>
                <a:latin typeface="Times New Roman"/>
              </a:rPr>
              <a:t>53 </a:t>
            </a:r>
            <a:r>
              <a:rPr b="0" lang="en-US" sz="1000" spc="-1" strike="noStrike">
                <a:solidFill>
                  <a:srgbClr val="000000"/>
                </a:solidFill>
                <a:latin typeface="Symbol"/>
                <a:ea typeface="Symbol"/>
              </a:rPr>
              <a:t></a:t>
            </a:r>
            <a:r>
              <a:rPr b="0" lang="en-US" sz="1000" spc="-1" strike="noStrike">
                <a:solidFill>
                  <a:srgbClr val="000000"/>
                </a:solidFill>
                <a:latin typeface="Times New Roman"/>
              </a:rPr>
              <a:t>sec/ft sandstone</a:t>
            </a: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a:t>
            </a:r>
            <a:r>
              <a:rPr b="0" lang="en-US" sz="1000" spc="-1" strike="noStrike" baseline="-25000">
                <a:solidFill>
                  <a:srgbClr val="000000"/>
                </a:solidFill>
                <a:latin typeface="Times New Roman"/>
              </a:rPr>
              <a:t>ma</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a:t>
            </a:r>
            <a:r>
              <a:rPr b="0" lang="en-US" sz="1000" spc="-1" strike="noStrike">
                <a:solidFill>
                  <a:srgbClr val="000000"/>
                </a:solidFill>
                <a:latin typeface="Times New Roman"/>
              </a:rPr>
              <a:t>	</a:t>
            </a:r>
            <a:r>
              <a:rPr b="0" lang="en-US" sz="1000" spc="-1" strike="noStrike">
                <a:solidFill>
                  <a:srgbClr val="000000"/>
                </a:solidFill>
                <a:latin typeface="Times New Roman"/>
              </a:rPr>
              <a:t>46 </a:t>
            </a:r>
            <a:r>
              <a:rPr b="0" lang="en-US" sz="1000" spc="-1" strike="noStrike">
                <a:solidFill>
                  <a:srgbClr val="000000"/>
                </a:solidFill>
                <a:latin typeface="Symbol"/>
                <a:ea typeface="Symbol"/>
              </a:rPr>
              <a:t></a:t>
            </a:r>
            <a:r>
              <a:rPr b="0" lang="en-US" sz="1000" spc="-1" strike="noStrike">
                <a:solidFill>
                  <a:srgbClr val="000000"/>
                </a:solidFill>
                <a:latin typeface="Times New Roman"/>
              </a:rPr>
              <a:t>sec/ft limestone</a:t>
            </a: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a:t>
            </a:r>
            <a:r>
              <a:rPr b="0" lang="en-US" sz="1000" spc="-1" strike="noStrike" baseline="-25000">
                <a:solidFill>
                  <a:srgbClr val="000000"/>
                </a:solidFill>
                <a:latin typeface="Times New Roman"/>
              </a:rPr>
              <a:t>ma</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a:t>
            </a:r>
            <a:r>
              <a:rPr b="0" lang="en-US" sz="1000" spc="-1" strike="noStrike">
                <a:solidFill>
                  <a:srgbClr val="000000"/>
                </a:solidFill>
                <a:latin typeface="Times New Roman"/>
              </a:rPr>
              <a:t>	</a:t>
            </a:r>
            <a:r>
              <a:rPr b="0" lang="en-US" sz="1000" spc="-1" strike="noStrike">
                <a:solidFill>
                  <a:srgbClr val="000000"/>
                </a:solidFill>
                <a:latin typeface="Times New Roman"/>
              </a:rPr>
              <a:t>41 </a:t>
            </a:r>
            <a:r>
              <a:rPr b="0" lang="en-US" sz="1000" spc="-1" strike="noStrike">
                <a:solidFill>
                  <a:srgbClr val="000000"/>
                </a:solidFill>
                <a:latin typeface="Symbol"/>
                <a:ea typeface="Symbol"/>
              </a:rPr>
              <a:t></a:t>
            </a:r>
            <a:r>
              <a:rPr b="0" lang="en-US" sz="1000" spc="-1" strike="noStrike">
                <a:solidFill>
                  <a:srgbClr val="000000"/>
                </a:solidFill>
                <a:latin typeface="Times New Roman"/>
              </a:rPr>
              <a:t>sec/ft dolomite</a:t>
            </a:r>
            <a:endParaRPr b="0" lang="en-US" sz="1000" spc="-1" strike="noStrike">
              <a:solidFill>
                <a:srgbClr val="000000"/>
              </a:solidFill>
              <a:latin typeface="Times New Roman"/>
            </a:endParaRPr>
          </a:p>
          <a:p>
            <a:pPr indent="0">
              <a:spcBef>
                <a:spcPts val="62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nic log measures the compressional arrival.  There are several more sophisticated sonic logs that couple a different type of log and a more sophisticated processing algorithm to determine both the shear wave arrival and the compressional wave arrival.  Using both the shear and compressional times, the log analyst can determine rock properties such as Poisson’s ratio, Young’s modulus, and bulk modulus.  These values are very important when designing hydraulic fracture treatments or when trying to determine when a well may start to produce sand.  </a:t>
            </a: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9"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0B960-2C05-433E-B44A-C641E7E881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0" name="PlaceHolder 1"/>
          <p:cNvSpPr>
            <a:spLocks noGrp="1"/>
          </p:cNvSpPr>
          <p:nvPr>
            <p:ph type="sldImg"/>
          </p:nvPr>
        </p:nvSpPr>
        <p:spPr>
          <a:xfrm>
            <a:off x="1082520" y="612720"/>
            <a:ext cx="4794480" cy="3595680"/>
          </a:xfrm>
          <a:prstGeom prst="rect">
            <a:avLst/>
          </a:prstGeom>
          <a:ln w="0">
            <a:noFill/>
          </a:ln>
        </p:spPr>
      </p:sp>
      <p:sp>
        <p:nvSpPr>
          <p:cNvPr id="2701"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2"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57613-8F0B-4E96-BFC3-6046EDEDB1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3" name="PlaceHolder 1"/>
          <p:cNvSpPr>
            <a:spLocks noGrp="1"/>
          </p:cNvSpPr>
          <p:nvPr>
            <p:ph type="sldImg"/>
          </p:nvPr>
        </p:nvSpPr>
        <p:spPr>
          <a:xfrm>
            <a:off x="1082520" y="612720"/>
            <a:ext cx="4794480" cy="3595680"/>
          </a:xfrm>
          <a:prstGeom prst="rect">
            <a:avLst/>
          </a:prstGeom>
          <a:ln w="0">
            <a:noFill/>
          </a:ln>
        </p:spPr>
      </p:sp>
      <p:sp>
        <p:nvSpPr>
          <p:cNvPr id="2704" name="PlaceHolder 2"/>
          <p:cNvSpPr>
            <a:spLocks noGrp="1"/>
          </p:cNvSpPr>
          <p:nvPr>
            <p:ph type="body"/>
          </p:nvPr>
        </p:nvSpPr>
        <p:spPr>
          <a:xfrm>
            <a:off x="966960" y="4361040"/>
            <a:ext cx="5029200" cy="4130640"/>
          </a:xfrm>
          <a:prstGeom prst="rect">
            <a:avLst/>
          </a:prstGeom>
          <a:solidFill>
            <a:srgbClr val="ffffff"/>
          </a:solidFill>
          <a:ln w="9360">
            <a:solidFill>
              <a:srgbClr val="000000"/>
            </a:solidFill>
            <a:miter/>
          </a:ln>
        </p:spPr>
        <p:txBody>
          <a:bodyPr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e the porosity for the following intervals.  The measured travel times from the log are summarized in the following table.</a:t>
            </a:r>
            <a:endParaRPr b="0" lang="en-US" sz="1200" spc="-1" strike="noStrike">
              <a:solidFill>
                <a:srgbClr val="000000"/>
              </a:solidFill>
              <a:latin typeface="Times New Roman"/>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a matrix travel time, </a:t>
            </a:r>
            <a:r>
              <a:rPr b="0" lang="en-US" sz="1200" spc="-1" strike="noStrike">
                <a:solidFill>
                  <a:srgbClr val="000000"/>
                </a:solidFill>
                <a:latin typeface="Symbol"/>
                <a:ea typeface="Symbol"/>
              </a:rPr>
              <a:t></a:t>
            </a:r>
            <a:r>
              <a:rPr b="0" lang="en-US" sz="1200" spc="-1" strike="noStrike">
                <a:solidFill>
                  <a:srgbClr val="000000"/>
                </a:solidFill>
                <a:latin typeface="Times New Roman"/>
              </a:rPr>
              <a:t>t</a:t>
            </a:r>
            <a:r>
              <a:rPr b="0" lang="en-US" sz="1200" spc="-1" strike="noStrike" baseline="-25000">
                <a:solidFill>
                  <a:srgbClr val="000000"/>
                </a:solidFill>
                <a:latin typeface="Times New Roman"/>
              </a:rPr>
              <a:t>m</a:t>
            </a:r>
            <a:r>
              <a:rPr b="0" lang="en-US" sz="1200" spc="-1" strike="noStrike">
                <a:solidFill>
                  <a:srgbClr val="000000"/>
                </a:solidFill>
                <a:latin typeface="Times New Roman"/>
              </a:rPr>
              <a:t> = 51.6 </a:t>
            </a:r>
            <a:r>
              <a:rPr b="0" lang="en-US" sz="1200" spc="-1" strike="noStrike">
                <a:solidFill>
                  <a:srgbClr val="000000"/>
                </a:solidFill>
                <a:latin typeface="Symbol"/>
                <a:ea typeface="Symbol"/>
              </a:rPr>
              <a:t></a:t>
            </a:r>
            <a:r>
              <a:rPr b="0" lang="en-US" sz="1200" spc="-1" strike="noStrike">
                <a:solidFill>
                  <a:srgbClr val="000000"/>
                </a:solidFill>
                <a:latin typeface="Times New Roman"/>
              </a:rPr>
              <a:t>sec/ft.  In addition, assume the formation is saturated with water having a </a:t>
            </a:r>
            <a:r>
              <a:rPr b="0" lang="en-US" sz="1200" spc="-1" strike="noStrike">
                <a:solidFill>
                  <a:srgbClr val="000000"/>
                </a:solidFill>
                <a:latin typeface="Symbol"/>
                <a:ea typeface="Symbol"/>
              </a:rPr>
              <a:t></a:t>
            </a:r>
            <a:r>
              <a:rPr b="0" lang="en-US" sz="1200" spc="-1" strike="noStrike">
                <a:solidFill>
                  <a:srgbClr val="000000"/>
                </a:solidFill>
                <a:latin typeface="Times New Roman"/>
              </a:rPr>
              <a:t>t</a:t>
            </a:r>
            <a:r>
              <a:rPr b="0" lang="en-US" sz="1200" spc="-1" strike="noStrike" baseline="-25000">
                <a:solidFill>
                  <a:srgbClr val="000000"/>
                </a:solidFill>
                <a:latin typeface="Times New Roman"/>
              </a:rPr>
              <a:t>f</a:t>
            </a:r>
            <a:r>
              <a:rPr b="0" lang="en-US" sz="1200" spc="-1" strike="noStrike">
                <a:solidFill>
                  <a:srgbClr val="000000"/>
                </a:solidFill>
                <a:latin typeface="Times New Roman"/>
              </a:rPr>
              <a:t> = 189.0 </a:t>
            </a:r>
            <a:r>
              <a:rPr b="0" lang="en-US" sz="1200" spc="-1" strike="noStrike">
                <a:solidFill>
                  <a:srgbClr val="000000"/>
                </a:solidFill>
                <a:latin typeface="Symbol"/>
                <a:ea typeface="Symbol"/>
              </a:rPr>
              <a:t></a:t>
            </a:r>
            <a:r>
              <a:rPr b="0" lang="en-US" sz="1200" spc="-1" strike="noStrike">
                <a:solidFill>
                  <a:srgbClr val="000000"/>
                </a:solidFill>
                <a:latin typeface="Times New Roman"/>
              </a:rPr>
              <a:t>sec/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705" name="Object 4"/>
          <p:cNvGraphicFramePr/>
          <p:nvPr/>
        </p:nvGraphicFramePr>
        <p:xfrm>
          <a:off x="601560" y="5135400"/>
          <a:ext cx="5645160" cy="2129040"/>
        </p:xfrm>
        <a:graphic>
          <a:graphicData uri="http://schemas.openxmlformats.org/presentationml/2006/ole">
            <p:oleObj progId="Word.Document.12" r:id="rId1" spid="">
              <p:embed/>
              <p:pic>
                <p:nvPicPr>
                  <p:cNvPr id="2706" name="Object 4" descr=""/>
                  <p:cNvPicPr/>
                  <p:nvPr/>
                </p:nvPicPr>
                <p:blipFill>
                  <a:blip r:embed="rId2"/>
                  <a:stretch/>
                </p:blipFill>
                <p:spPr>
                  <a:xfrm>
                    <a:off x="601560" y="5135400"/>
                    <a:ext cx="5645160" cy="2129040"/>
                  </a:xfrm>
                  <a:prstGeom prst="rect">
                    <a:avLst/>
                  </a:prstGeom>
                  <a:ln w="0">
                    <a:noFill/>
                  </a:ln>
                </p:spPr>
              </p:pic>
            </p:oleObj>
          </a:graphicData>
        </a:graphic>
      </p:graphicFrame>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7"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4B05D-C672-46B6-8AF4-D6730A966D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8" name="PlaceHolder 1"/>
          <p:cNvSpPr>
            <a:spLocks noGrp="1"/>
          </p:cNvSpPr>
          <p:nvPr>
            <p:ph type="sldImg"/>
          </p:nvPr>
        </p:nvSpPr>
        <p:spPr>
          <a:xfrm>
            <a:off x="1082520" y="612720"/>
            <a:ext cx="4794480" cy="3595680"/>
          </a:xfrm>
          <a:prstGeom prst="rect">
            <a:avLst/>
          </a:prstGeom>
          <a:ln w="0">
            <a:noFill/>
          </a:ln>
        </p:spPr>
      </p:sp>
      <p:sp>
        <p:nvSpPr>
          <p:cNvPr id="2709"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graphicFrame>
        <p:nvGraphicFramePr>
          <p:cNvPr id="2710" name="Object 4"/>
          <p:cNvGraphicFramePr/>
          <p:nvPr/>
        </p:nvGraphicFramePr>
        <p:xfrm>
          <a:off x="849240" y="4819680"/>
          <a:ext cx="5524560" cy="1434960"/>
        </p:xfrm>
        <a:graphic>
          <a:graphicData uri="http://schemas.openxmlformats.org/presentationml/2006/ole">
            <p:oleObj progId="Word.Document.12" r:id="rId1" spid="">
              <p:embed/>
              <p:pic>
                <p:nvPicPr>
                  <p:cNvPr id="2711" name="Object 4" descr=""/>
                  <p:cNvPicPr/>
                  <p:nvPr/>
                </p:nvPicPr>
                <p:blipFill>
                  <a:blip r:embed="rId2"/>
                  <a:stretch/>
                </p:blipFill>
                <p:spPr>
                  <a:xfrm>
                    <a:off x="849240" y="4819680"/>
                    <a:ext cx="5524560" cy="1434960"/>
                  </a:xfrm>
                  <a:prstGeom prst="rect">
                    <a:avLst/>
                  </a:prstGeom>
                  <a:ln w="0">
                    <a:noFill/>
                  </a:ln>
                </p:spPr>
              </p:pic>
            </p:oleObj>
          </a:graphicData>
        </a:graphic>
      </p:graphicFrame>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2"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30711-053B-49D1-8CF7-CFE3BC2B56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3" name="PlaceHolder 1"/>
          <p:cNvSpPr>
            <a:spLocks noGrp="1"/>
          </p:cNvSpPr>
          <p:nvPr>
            <p:ph type="sldImg"/>
          </p:nvPr>
        </p:nvSpPr>
        <p:spPr>
          <a:xfrm>
            <a:off x="1082520" y="612720"/>
            <a:ext cx="4794480" cy="3595680"/>
          </a:xfrm>
          <a:prstGeom prst="rect">
            <a:avLst/>
          </a:prstGeom>
          <a:ln w="0">
            <a:noFill/>
          </a:ln>
        </p:spPr>
      </p:sp>
      <p:sp>
        <p:nvSpPr>
          <p:cNvPr id="2714"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0"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32161-E1B0-48B0-BBA3-6062062F1F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1" name="PlaceHolder 1"/>
          <p:cNvSpPr>
            <a:spLocks noGrp="1"/>
          </p:cNvSpPr>
          <p:nvPr>
            <p:ph type="sldImg"/>
          </p:nvPr>
        </p:nvSpPr>
        <p:spPr>
          <a:xfrm>
            <a:off x="1084320" y="612720"/>
            <a:ext cx="4794120" cy="3595680"/>
          </a:xfrm>
          <a:prstGeom prst="rect">
            <a:avLst/>
          </a:prstGeom>
          <a:ln w="0">
            <a:noFill/>
          </a:ln>
        </p:spPr>
      </p:sp>
      <p:sp>
        <p:nvSpPr>
          <p:cNvPr id="2632" name="PlaceHolder 2"/>
          <p:cNvSpPr>
            <a:spLocks noGrp="1"/>
          </p:cNvSpPr>
          <p:nvPr>
            <p:ph type="body"/>
          </p:nvPr>
        </p:nvSpPr>
        <p:spPr>
          <a:xfrm>
            <a:off x="964800" y="4361040"/>
            <a:ext cx="5031000" cy="413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ngineer or geologist can interpret the log readings to reach certain conclusions about the formation.  For example, a decrease in radioactivity from the gamma ray log could indicate the presence of a sandstone formation.  An increase in resistivity may indicate the presence of hydrocarbons.  And, an increase in a porosity log might indicate that the formation has porosity and is permeabl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5"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6854C-3595-470A-8010-C9C29AECAE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6" name="PlaceHolder 1"/>
          <p:cNvSpPr>
            <a:spLocks noGrp="1"/>
          </p:cNvSpPr>
          <p:nvPr>
            <p:ph type="sldImg"/>
          </p:nvPr>
        </p:nvSpPr>
        <p:spPr>
          <a:xfrm>
            <a:off x="1082520" y="612720"/>
            <a:ext cx="4794480" cy="3595680"/>
          </a:xfrm>
          <a:prstGeom prst="rect">
            <a:avLst/>
          </a:prstGeom>
          <a:ln w="0">
            <a:noFill/>
          </a:ln>
        </p:spPr>
      </p:sp>
      <p:sp>
        <p:nvSpPr>
          <p:cNvPr id="2717"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8"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A5AA3-C907-410D-8A36-00456444F4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9" name="PlaceHolder 1"/>
          <p:cNvSpPr>
            <a:spLocks noGrp="1"/>
          </p:cNvSpPr>
          <p:nvPr>
            <p:ph type="sldImg"/>
          </p:nvPr>
        </p:nvSpPr>
        <p:spPr>
          <a:xfrm>
            <a:off x="1082520" y="612720"/>
            <a:ext cx="4794480" cy="3595680"/>
          </a:xfrm>
          <a:prstGeom prst="rect">
            <a:avLst/>
          </a:prstGeom>
          <a:ln w="0">
            <a:noFill/>
          </a:ln>
        </p:spPr>
      </p:sp>
      <p:sp>
        <p:nvSpPr>
          <p:cNvPr id="2720" name="PlaceHolder 2"/>
          <p:cNvSpPr>
            <a:spLocks noGrp="1"/>
          </p:cNvSpPr>
          <p:nvPr>
            <p:ph type="body"/>
          </p:nvPr>
        </p:nvSpPr>
        <p:spPr>
          <a:xfrm>
            <a:off x="966960" y="4361040"/>
            <a:ext cx="5029200" cy="413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he density log, the neutron log, and the sonic logs do not measure porosity.  Rather, porosity is calculated from measurements such as electron density, hydrogen index and sonic travel time.  The calculated density porosity is too high only because in the calculation we typically don’t account for the fluid density change.  In other words, we assume the fluid density is 1 (or completely liquid filled) even though with gas that value is lower, which causes the calculated porosity to be too high.  The neutron porosity is too low because the hydrogen index or the hydrogen density of gas is lower; therefore, the liquid-filled porosity is what the neutron log sees.  So when gas is present, that value is lower than the actual porosity.  And finally, the sonic log is not significantly affected by gas because it reads very near the wellbore and small gas saturations do not impact the overall travel time significantly.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1"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44BAE-C721-41BB-92A0-5A3B010E00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2" name="PlaceHolder 1"/>
          <p:cNvSpPr>
            <a:spLocks noGrp="1"/>
          </p:cNvSpPr>
          <p:nvPr>
            <p:ph type="sldImg"/>
          </p:nvPr>
        </p:nvSpPr>
        <p:spPr>
          <a:xfrm>
            <a:off x="1082520" y="612720"/>
            <a:ext cx="4794480" cy="3595680"/>
          </a:xfrm>
          <a:prstGeom prst="rect">
            <a:avLst/>
          </a:prstGeom>
          <a:ln w="0">
            <a:noFill/>
          </a:ln>
        </p:spPr>
      </p:sp>
      <p:sp>
        <p:nvSpPr>
          <p:cNvPr id="2723" name="PlaceHolder 2"/>
          <p:cNvSpPr>
            <a:spLocks noGrp="1"/>
          </p:cNvSpPr>
          <p:nvPr>
            <p:ph type="body"/>
          </p:nvPr>
        </p:nvSpPr>
        <p:spPr>
          <a:xfrm>
            <a:off x="966960" y="4361040"/>
            <a:ext cx="5029200" cy="413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ing formation porosity using open-hole porosity logging tools is the most common method of determining porosity for several reas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oring is often more expensive than logging and may be riskier in terms of sticking the tool in the hol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oring may not be practical in soft unconsolidated formations or in formations with a high degree of secondary porosity such as vugs or natural fractures.</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orosity measurements are considered very important, both coring and logging programs are generally conducted.  When both measurements are available, the log-based porosity calculations are usually calibrated to the core-based porosity measurement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4"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78F77-A673-4119-A273-97F1B31DF1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5" name="PlaceHolder 1"/>
          <p:cNvSpPr>
            <a:spLocks noGrp="1"/>
          </p:cNvSpPr>
          <p:nvPr>
            <p:ph type="sldImg"/>
          </p:nvPr>
        </p:nvSpPr>
        <p:spPr>
          <a:xfrm>
            <a:off x="1133640" y="687240"/>
            <a:ext cx="4590720" cy="3443400"/>
          </a:xfrm>
          <a:prstGeom prst="rect">
            <a:avLst/>
          </a:prstGeom>
          <a:ln w="0">
            <a:noFill/>
          </a:ln>
        </p:spPr>
      </p:sp>
      <p:sp>
        <p:nvSpPr>
          <p:cNvPr id="2726" name="PlaceHolder 2"/>
          <p:cNvSpPr>
            <a:spLocks noGrp="1"/>
          </p:cNvSpPr>
          <p:nvPr>
            <p:ph type="body"/>
          </p:nvPr>
        </p:nvSpPr>
        <p:spPr>
          <a:xfrm>
            <a:off x="914400" y="4361040"/>
            <a:ext cx="5029200" cy="414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7"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39D7D-A0DE-40BB-A82A-0CA79AB4C2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8" name="PlaceHolder 1"/>
          <p:cNvSpPr>
            <a:spLocks noGrp="1"/>
          </p:cNvSpPr>
          <p:nvPr>
            <p:ph type="sldImg"/>
          </p:nvPr>
        </p:nvSpPr>
        <p:spPr>
          <a:xfrm>
            <a:off x="1133640" y="687240"/>
            <a:ext cx="4590720" cy="3443400"/>
          </a:xfrm>
          <a:prstGeom prst="rect">
            <a:avLst/>
          </a:prstGeom>
          <a:ln w="0">
            <a:noFill/>
          </a:ln>
        </p:spPr>
      </p:sp>
      <p:sp>
        <p:nvSpPr>
          <p:cNvPr id="2729" name="PlaceHolder 2"/>
          <p:cNvSpPr>
            <a:spLocks noGrp="1"/>
          </p:cNvSpPr>
          <p:nvPr>
            <p:ph type="body"/>
          </p:nvPr>
        </p:nvSpPr>
        <p:spPr>
          <a:xfrm>
            <a:off x="914400" y="4361040"/>
            <a:ext cx="5029200" cy="413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physical analyses of core samples are used to identify reservoir flow units and non-flow units.  The results are used to calibrate well logs, after which well logs can be used to map flow units throughout a field.</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0"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8BCFC-386F-43A2-9280-CF850413D9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1" name="PlaceHolder 1"/>
          <p:cNvSpPr>
            <a:spLocks noGrp="1"/>
          </p:cNvSpPr>
          <p:nvPr>
            <p:ph type="sldImg"/>
          </p:nvPr>
        </p:nvSpPr>
        <p:spPr>
          <a:xfrm>
            <a:off x="1133640" y="687240"/>
            <a:ext cx="4590720" cy="3443400"/>
          </a:xfrm>
          <a:prstGeom prst="rect">
            <a:avLst/>
          </a:prstGeom>
          <a:ln w="0">
            <a:noFill/>
          </a:ln>
        </p:spPr>
      </p:sp>
      <p:sp>
        <p:nvSpPr>
          <p:cNvPr id="2732" name="PlaceHolder 2"/>
          <p:cNvSpPr>
            <a:spLocks noGrp="1"/>
          </p:cNvSpPr>
          <p:nvPr>
            <p:ph type="body"/>
          </p:nvPr>
        </p:nvSpPr>
        <p:spPr>
          <a:xfrm>
            <a:off x="914400" y="4361040"/>
            <a:ext cx="5029200" cy="413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studies of sedimentary facies, petrology, and petrophysics,  we can correlate and map reservoir flow and non-flow (barrier/baffle) units to develop models for simulation.  The example above shows carbonate flow (YELLOW) and non-flow (GREEN) reservoir units, Pozo Rica oil field, Mexico, based on core and well-log data.  From an integrated reservoir study by H-R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3"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F7E3B-EA79-418E-BA39-CDB0744860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4" name="PlaceHolder 1"/>
          <p:cNvSpPr>
            <a:spLocks noGrp="1"/>
          </p:cNvSpPr>
          <p:nvPr>
            <p:ph type="sldImg"/>
          </p:nvPr>
        </p:nvSpPr>
        <p:spPr>
          <a:xfrm>
            <a:off x="1082520" y="612720"/>
            <a:ext cx="4794480" cy="3595680"/>
          </a:xfrm>
          <a:prstGeom prst="rect">
            <a:avLst/>
          </a:prstGeom>
          <a:ln w="0">
            <a:noFill/>
          </a:ln>
        </p:spPr>
      </p:sp>
      <p:sp>
        <p:nvSpPr>
          <p:cNvPr id="2635" name="PlaceHolder 2"/>
          <p:cNvSpPr>
            <a:spLocks noGrp="1"/>
          </p:cNvSpPr>
          <p:nvPr>
            <p:ph type="body"/>
          </p:nvPr>
        </p:nvSpPr>
        <p:spPr>
          <a:xfrm>
            <a:off x="966960" y="4361040"/>
            <a:ext cx="5029200" cy="413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6"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AB75A-4F1F-44A1-9109-04375F9800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7" name="PlaceHolder 1"/>
          <p:cNvSpPr>
            <a:spLocks noGrp="1"/>
          </p:cNvSpPr>
          <p:nvPr>
            <p:ph type="sldImg"/>
          </p:nvPr>
        </p:nvSpPr>
        <p:spPr>
          <a:xfrm>
            <a:off x="1082520" y="612720"/>
            <a:ext cx="4794480" cy="3595680"/>
          </a:xfrm>
          <a:prstGeom prst="rect">
            <a:avLst/>
          </a:prstGeom>
          <a:ln w="0">
            <a:noFill/>
          </a:ln>
        </p:spPr>
      </p:sp>
      <p:sp>
        <p:nvSpPr>
          <p:cNvPr id="2638"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9"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ACCD2-1261-4AF4-BEFF-3F1FD17203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0" name="PlaceHolder 1"/>
          <p:cNvSpPr>
            <a:spLocks noGrp="1"/>
          </p:cNvSpPr>
          <p:nvPr>
            <p:ph type="sldImg"/>
          </p:nvPr>
        </p:nvSpPr>
        <p:spPr>
          <a:xfrm>
            <a:off x="1082520" y="612720"/>
            <a:ext cx="4794480" cy="3595680"/>
          </a:xfrm>
          <a:prstGeom prst="rect">
            <a:avLst/>
          </a:prstGeom>
          <a:ln w="0">
            <a:noFill/>
          </a:ln>
        </p:spPr>
      </p:sp>
      <p:sp>
        <p:nvSpPr>
          <p:cNvPr id="2641"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2"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5DA37-571A-4DBB-A282-43F2488A25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3" name="PlaceHolder 1"/>
          <p:cNvSpPr>
            <a:spLocks noGrp="1"/>
          </p:cNvSpPr>
          <p:nvPr>
            <p:ph type="sldImg"/>
          </p:nvPr>
        </p:nvSpPr>
        <p:spPr>
          <a:xfrm>
            <a:off x="1082520" y="612720"/>
            <a:ext cx="4794480" cy="3595680"/>
          </a:xfrm>
          <a:prstGeom prst="rect">
            <a:avLst/>
          </a:prstGeom>
          <a:ln w="0">
            <a:noFill/>
          </a:ln>
        </p:spPr>
      </p:sp>
      <p:sp>
        <p:nvSpPr>
          <p:cNvPr id="2644"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5"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D9677-CEB7-4654-9DB9-EAF1C293F4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6" name="PlaceHolder 1"/>
          <p:cNvSpPr>
            <a:spLocks noGrp="1"/>
          </p:cNvSpPr>
          <p:nvPr>
            <p:ph type="sldImg"/>
          </p:nvPr>
        </p:nvSpPr>
        <p:spPr>
          <a:xfrm>
            <a:off x="1085760" y="612720"/>
            <a:ext cx="4794480" cy="3595680"/>
          </a:xfrm>
          <a:prstGeom prst="rect">
            <a:avLst/>
          </a:prstGeom>
          <a:ln w="0">
            <a:noFill/>
          </a:ln>
        </p:spPr>
      </p:sp>
      <p:sp>
        <p:nvSpPr>
          <p:cNvPr id="2647" name="PlaceHolder 2"/>
          <p:cNvSpPr>
            <a:spLocks noGrp="1"/>
          </p:cNvSpPr>
          <p:nvPr>
            <p:ph type="body"/>
          </p:nvPr>
        </p:nvSpPr>
        <p:spPr>
          <a:xfrm>
            <a:off x="964800" y="4361040"/>
            <a:ext cx="5031000" cy="413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inimize the influence of the mud column, the source and detector, mounted on a skid, are shielded.  The openings of the shields are applied against the wall of the borehole by means of an eccentering arm.  The force exerted is substantial, and the skid has a plow shaped leading edge.  Therefore, it is able to cut through soft mud cakes usually encountered at medium and shallow depths.  Some mud cake may remain, however, and is “seen” by the tool as part of the formation.  This must be accounted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rrection is needed when the contact between the skid and the formations is not perfect (due to mud cake or roughness of the borehole wall).  In unfavorable cases, this correction can be fairly large.  If only one detector is used, the correction is not easy to determine, as it depends on the thickness, the weight, and even the composition of the mud cake or mud interposed between the skid and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wo detectors, a correction can be made for unfavorable condi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8" name="Rectangle 7"/>
          <p:cNvSpPr/>
          <p:nvPr/>
        </p:nvSpPr>
        <p:spPr>
          <a:xfrm>
            <a:off x="3886200" y="872172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C5B7D-1035-4A9F-852F-6EA27AC0B0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9" name="PlaceHolder 1"/>
          <p:cNvSpPr>
            <a:spLocks noGrp="1"/>
          </p:cNvSpPr>
          <p:nvPr>
            <p:ph type="sldImg"/>
          </p:nvPr>
        </p:nvSpPr>
        <p:spPr>
          <a:xfrm>
            <a:off x="1082520" y="612720"/>
            <a:ext cx="4794480" cy="3595680"/>
          </a:xfrm>
          <a:prstGeom prst="rect">
            <a:avLst/>
          </a:prstGeom>
          <a:ln w="0">
            <a:noFill/>
          </a:ln>
        </p:spPr>
      </p:sp>
      <p:sp>
        <p:nvSpPr>
          <p:cNvPr id="2650" name="PlaceHolder 2"/>
          <p:cNvSpPr>
            <a:spLocks noGrp="1"/>
          </p:cNvSpPr>
          <p:nvPr>
            <p:ph type="body"/>
          </p:nvPr>
        </p:nvSpPr>
        <p:spPr>
          <a:xfrm>
            <a:off x="966960" y="4361040"/>
            <a:ext cx="5029200" cy="414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2B84D-0344-4F56-BC88-459EB0891E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34ED5-7BCB-44F1-AB5F-7DC046C5A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536B01-F014-4B3F-ADD4-4C42EB8B8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DD756C-07F5-4C90-9D3F-98E360029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22E11-FA0C-4EE4-820C-AF2ABA148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E6D30-37C4-49F3-812E-E3991718F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DD3B1-B0CE-4FD1-A4ED-67CC79EB9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46E1D-DDEA-4046-9AF8-60E36B5FD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19A58-3AB3-40A6-928C-59A4F1EC6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43798-2C74-4220-9FE4-7293D5DFD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A289A-896F-4061-B71A-1FD854A3C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EA76A-C076-4E33-8CFB-74CCD04992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F1C78-D29C-4D6B-BE1D-01A4F70855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1.jpe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609120" y="1828800"/>
            <a:ext cx="788616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POROSITY DETERMINATION</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FROM LOG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POROSITY FROM DENSITY LOG</a:t>
            </a:r>
            <a:endParaRPr b="0" lang="en-US" sz="4000" spc="-1" strike="noStrike">
              <a:solidFill>
                <a:srgbClr val="000000"/>
              </a:solidFill>
              <a:latin typeface="Times New Roman"/>
            </a:endParaRPr>
          </a:p>
        </p:txBody>
      </p:sp>
      <p:sp>
        <p:nvSpPr>
          <p:cNvPr id="381" name="PlaceHolder 2"/>
          <p:cNvSpPr>
            <a:spLocks noGrp="1"/>
          </p:cNvSpPr>
          <p:nvPr>
            <p:ph/>
          </p:nvPr>
        </p:nvSpPr>
        <p:spPr>
          <a:xfrm>
            <a:off x="685800" y="1600200"/>
            <a:ext cx="8229600" cy="579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0000"/>
                </a:solidFill>
                <a:uFillTx/>
                <a:latin typeface="Arial"/>
              </a:rPr>
              <a:t>Porosity equation</a:t>
            </a:r>
            <a:endParaRPr b="0" lang="en-US" sz="3200" spc="-1" strike="noStrike">
              <a:solidFill>
                <a:srgbClr val="000000"/>
              </a:solidFill>
              <a:latin typeface="Times New Roman"/>
            </a:endParaRPr>
          </a:p>
        </p:txBody>
      </p:sp>
      <mc:AlternateContent>
        <mc:Choice xmlns:a14="http://schemas.microsoft.com/office/drawing/2010/main" Requires="a14">
          <p:sp>
            <p:nvSpPr>
              <p:cNvPr id="382" name="Object 4"/>
              <p:cNvSpPr txBox="1"/>
              <p:nvPr/>
            </p:nvSpPr>
            <p:spPr>
              <a:xfrm>
                <a:off x="3429000" y="3886200"/>
                <a:ext cx="5513400" cy="604800"/>
              </a:xfrm>
              <a:prstGeom prst="rect">
                <a:avLst/>
              </a:prstGeom>
            </p:spPr>
            <p:txBody>
              <a:bodyPr/>
              <a:p>
                <a14:m>
                  <m:oMath xmlns:m="http://schemas.openxmlformats.org/officeDocument/2006/math">
                    <m:sSub>
                      <m:e>
                        <m:r>
                          <m:t xml:space="preserve">ρ</m:t>
                        </m:r>
                      </m:e>
                      <m:sub>
                        <m:r>
                          <m:t xml:space="preserve">f</m:t>
                        </m:r>
                      </m:sub>
                    </m:sSub>
                    <m:r>
                      <m:t xml:space="preserve"> </m:t>
                    </m:r>
                    <m:r>
                      <m:t xml:space="preserve">=</m:t>
                    </m:r>
                    <m:r>
                      <m:t xml:space="preserve"> </m:t>
                    </m:r>
                    <m:sSub>
                      <m:e>
                        <m:r>
                          <m:t xml:space="preserve">ρ</m:t>
                        </m:r>
                      </m:e>
                      <m:sub>
                        <m:r>
                          <m:rPr>
                            <m:lit/>
                            <m:nor/>
                          </m:rPr>
                          <m:t xml:space="preserve">mf</m:t>
                        </m:r>
                      </m:sub>
                    </m:sSub>
                    <m:r>
                      <m:t xml:space="preserve"> </m:t>
                    </m:r>
                    <m:sSub>
                      <m:e>
                        <m:r>
                          <m:t xml:space="preserve">S</m:t>
                        </m:r>
                      </m:e>
                      <m:sub>
                        <m:r>
                          <m:rPr>
                            <m:lit/>
                            <m:nor/>
                          </m:rPr>
                          <m:t xml:space="preserve">xo</m:t>
                        </m:r>
                      </m:sub>
                    </m:sSub>
                    <m:r>
                      <m:t xml:space="preserve"> </m:t>
                    </m:r>
                    <m:r>
                      <m:t xml:space="preserve">+</m:t>
                    </m:r>
                    <m:r>
                      <m:t xml:space="preserve"> </m:t>
                    </m:r>
                    <m:sSub>
                      <m:e>
                        <m:r>
                          <m:t xml:space="preserve">ρ</m:t>
                        </m:r>
                      </m:e>
                      <m:sub>
                        <m:r>
                          <m:t xml:space="preserve">h</m:t>
                        </m:r>
                      </m:sub>
                    </m:sSub>
                    <m:r>
                      <m:t xml:space="preserve"> </m:t>
                    </m:r>
                    <m:d>
                      <m:dPr>
                        <m:begChr m:val="("/>
                        <m:endChr m:val=")"/>
                      </m:dPr>
                      <m:e>
                        <m:r>
                          <m:t xml:space="preserve">1</m:t>
                        </m:r>
                        <m:r>
                          <m:t xml:space="preserve"> </m:t>
                        </m:r>
                        <m:r>
                          <m:t xml:space="preserve">−</m:t>
                        </m:r>
                        <m:r>
                          <m:t xml:space="preserve"> </m:t>
                        </m:r>
                        <m:sSub>
                          <m:e>
                            <m:r>
                              <m:t xml:space="preserve">S</m:t>
                            </m:r>
                          </m:e>
                          <m:sub>
                            <m:r>
                              <m:rPr>
                                <m:lit/>
                                <m:nor/>
                              </m:rPr>
                              <m:t xml:space="preserve">xo</m:t>
                            </m:r>
                          </m:sub>
                        </m:sSub>
                      </m:e>
                    </m:d>
                  </m:oMath>
                </a14:m>
              </a:p>
            </p:txBody>
          </p:sp>
        </mc:Choice>
        <mc:Fallback/>
      </mc:AlternateContent>
      <mc:AlternateContent>
        <mc:Choice xmlns:a14="http://schemas.microsoft.com/office/drawing/2010/main" Requires="a14">
          <p:sp>
            <p:nvSpPr>
              <p:cNvPr id="383" name="Object 5"/>
              <p:cNvSpPr txBox="1"/>
              <p:nvPr/>
            </p:nvSpPr>
            <p:spPr>
              <a:xfrm>
                <a:off x="4648320" y="1600200"/>
                <a:ext cx="3200400" cy="1509840"/>
              </a:xfrm>
              <a:prstGeom prst="rect">
                <a:avLst/>
              </a:prstGeom>
            </p:spPr>
            <p:txBody>
              <a:bodyPr/>
              <a:p>
                <a14:m>
                  <m:oMath xmlns:m="http://schemas.openxmlformats.org/officeDocument/2006/math">
                    <m:r>
                      <m:t xml:space="preserve">φ</m:t>
                    </m:r>
                    <m:r>
                      <m:t xml:space="preserve"> </m:t>
                    </m:r>
                    <m:r>
                      <m:t xml:space="preserve">=</m:t>
                    </m:r>
                    <m:r>
                      <m:t xml:space="preserve"> </m:t>
                    </m:r>
                    <m:f>
                      <m:num>
                        <m:sSub>
                          <m:e>
                            <m:r>
                              <m:t xml:space="preserve">ρ</m:t>
                            </m:r>
                          </m:e>
                          <m:sub>
                            <m:r>
                              <m:rPr>
                                <m:lit/>
                                <m:nor/>
                              </m:rPr>
                              <m:t xml:space="preserve">ma</m:t>
                            </m:r>
                          </m:sub>
                        </m:sSub>
                        <m:r>
                          <m:t xml:space="preserve"> </m:t>
                        </m:r>
                        <m:r>
                          <m:t xml:space="preserve">−</m:t>
                        </m:r>
                        <m:r>
                          <m:t xml:space="preserve"> </m:t>
                        </m:r>
                        <m:sSub>
                          <m:e>
                            <m:r>
                              <m:t xml:space="preserve">ρ</m:t>
                            </m:r>
                          </m:e>
                          <m:sub>
                            <m:r>
                              <m:t xml:space="preserve">b</m:t>
                            </m:r>
                          </m:sub>
                        </m:sSub>
                      </m:num>
                      <m:den>
                        <m:sSub>
                          <m:e>
                            <m:r>
                              <m:t xml:space="preserve">ρ</m:t>
                            </m:r>
                          </m:e>
                          <m:sub>
                            <m:r>
                              <m:rPr>
                                <m:lit/>
                                <m:nor/>
                              </m:rPr>
                              <m:t xml:space="preserve">ma</m:t>
                            </m:r>
                          </m:sub>
                        </m:sSub>
                        <m:r>
                          <m:t xml:space="preserve"> </m:t>
                        </m:r>
                        <m:r>
                          <m:t xml:space="preserve">−</m:t>
                        </m:r>
                        <m:r>
                          <m:t xml:space="preserve"> </m:t>
                        </m:r>
                        <m:sSub>
                          <m:e>
                            <m:r>
                              <m:t xml:space="preserve">ρ</m:t>
                            </m:r>
                          </m:e>
                          <m:sub>
                            <m:r>
                              <m:t xml:space="preserve">f</m:t>
                            </m:r>
                          </m:sub>
                        </m:sSub>
                      </m:den>
                    </m:f>
                  </m:oMath>
                </a14:m>
              </a:p>
            </p:txBody>
          </p:sp>
        </mc:Choice>
        <mc:Fallback/>
      </mc:AlternateContent>
      <p:sp>
        <p:nvSpPr>
          <p:cNvPr id="384" name="Rectangle 6"/>
          <p:cNvSpPr/>
          <p:nvPr/>
        </p:nvSpPr>
        <p:spPr>
          <a:xfrm>
            <a:off x="533520" y="3276720"/>
            <a:ext cx="822960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0000"/>
                </a:solidFill>
                <a:uFillTx/>
                <a:latin typeface="Arial"/>
              </a:rPr>
              <a:t>Fluid density equation</a:t>
            </a:r>
            <a:endParaRPr b="0" lang="en-US" sz="3200" spc="-1" strike="noStrike">
              <a:solidFill>
                <a:srgbClr val="000000"/>
              </a:solidFill>
              <a:latin typeface="Times New Roman"/>
            </a:endParaRPr>
          </a:p>
        </p:txBody>
      </p:sp>
      <p:sp>
        <p:nvSpPr>
          <p:cNvPr id="385" name="Text Box 7"/>
          <p:cNvSpPr/>
          <p:nvPr/>
        </p:nvSpPr>
        <p:spPr>
          <a:xfrm>
            <a:off x="0" y="5079960"/>
            <a:ext cx="8248680" cy="195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usually assume the fluid density (</a:t>
            </a:r>
            <a:r>
              <a:rPr b="0" lang="en-US" sz="1600" spc="-1" strike="noStrike">
                <a:solidFill>
                  <a:srgbClr val="000000"/>
                </a:solidFill>
                <a:latin typeface="Symbol"/>
                <a:ea typeface="Symbol"/>
              </a:rPr>
              <a:t></a:t>
            </a:r>
            <a:r>
              <a:rPr b="0" lang="en-US" sz="1600" spc="-1" strike="noStrike" baseline="-25000">
                <a:solidFill>
                  <a:srgbClr val="000000"/>
                </a:solidFill>
                <a:latin typeface="Arial"/>
              </a:rPr>
              <a:t>f</a:t>
            </a:r>
            <a:r>
              <a:rPr b="0" lang="en-US" sz="1600" spc="-1" strike="noStrike">
                <a:solidFill>
                  <a:srgbClr val="000000"/>
                </a:solidFill>
                <a:latin typeface="Arial"/>
              </a:rPr>
              <a:t>) is between 1.0 and 1.1.  If gas is present, the actual </a:t>
            </a:r>
            <a:r>
              <a:rPr b="0" lang="en-US" sz="1600" spc="-1" strike="noStrike">
                <a:solidFill>
                  <a:srgbClr val="000000"/>
                </a:solidFill>
                <a:latin typeface="Symbol"/>
                <a:ea typeface="Symbol"/>
              </a:rPr>
              <a:t></a:t>
            </a:r>
            <a:r>
              <a:rPr b="0" lang="en-US" sz="1600" spc="-1" strike="noStrike" baseline="-25000">
                <a:solidFill>
                  <a:srgbClr val="000000"/>
                </a:solidFill>
                <a:latin typeface="Arial"/>
              </a:rPr>
              <a:t>f </a:t>
            </a:r>
            <a:r>
              <a:rPr b="0" lang="en-US" sz="1600" spc="-1" strike="noStrike">
                <a:solidFill>
                  <a:srgbClr val="000000"/>
                </a:solidFill>
                <a:latin typeface="Arial"/>
              </a:rPr>
              <a:t>will be &lt; 1.0 and the calculated porosity will be too high.  </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baseline="-25000">
                <a:solidFill>
                  <a:srgbClr val="000000"/>
                </a:solidFill>
                <a:latin typeface="Arial"/>
              </a:rPr>
              <a:t>mf</a:t>
            </a:r>
            <a:r>
              <a:rPr b="0" lang="en-US" sz="1600" spc="-1" strike="noStrike">
                <a:solidFill>
                  <a:srgbClr val="000000"/>
                </a:solidFill>
                <a:latin typeface="Arial"/>
              </a:rPr>
              <a:t>	</a:t>
            </a:r>
            <a:r>
              <a:rPr b="0" lang="en-US" sz="1600" spc="-1" strike="noStrike">
                <a:solidFill>
                  <a:srgbClr val="000000"/>
                </a:solidFill>
                <a:latin typeface="Arial"/>
              </a:rPr>
              <a:t>is the mud filtrate density, g/cc</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baseline="-25000">
                <a:solidFill>
                  <a:srgbClr val="000000"/>
                </a:solidFill>
                <a:latin typeface="Arial"/>
              </a:rPr>
              <a:t>h</a:t>
            </a:r>
            <a:r>
              <a:rPr b="0" lang="en-US" sz="1600" spc="-1" strike="noStrike" baseline="-25000">
                <a:solidFill>
                  <a:srgbClr val="000000"/>
                </a:solidFill>
                <a:latin typeface="Arial"/>
              </a:rPr>
              <a:t>	</a:t>
            </a:r>
            <a:r>
              <a:rPr b="0" lang="en-US" sz="1600" spc="-1" strike="noStrike">
                <a:solidFill>
                  <a:srgbClr val="000000"/>
                </a:solidFill>
                <a:latin typeface="Arial"/>
              </a:rPr>
              <a:t>is the hydrocarbon density, g/cc</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a:t>
            </a:r>
            <a:r>
              <a:rPr b="0" lang="en-US" sz="1600" spc="-1" strike="noStrike" baseline="-25000">
                <a:solidFill>
                  <a:srgbClr val="000000"/>
                </a:solidFill>
                <a:latin typeface="Arial"/>
              </a:rPr>
              <a:t>xo</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s the saturation of the flush/zone, decim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17" presetSubtype="10">
                                  <p:stCondLst>
                                    <p:cond delay="0"/>
                                  </p:stCondLst>
                                  <p:childTnLst>
                                    <p:set>
                                      <p:cBhvr>
                                        <p:cTn id="182" dur="1" fill="hold">
                                          <p:stCondLst>
                                            <p:cond delay="0"/>
                                          </p:stCondLst>
                                        </p:cTn>
                                        <p:tgtEl>
                                          <p:spTgt spid="380"/>
                                        </p:tgtEl>
                                        <p:attrNameLst>
                                          <p:attrName>style.visibility</p:attrName>
                                        </p:attrNameLst>
                                      </p:cBhvr>
                                      <p:to>
                                        <p:strVal val="visible"/>
                                      </p:to>
                                    </p:set>
                                    <p:anim calcmode="lin" valueType="num">
                                      <p:cBhvr additive="repl">
                                        <p:cTn id="183" dur="500" fill="hold"/>
                                        <p:tgtEl>
                                          <p:spTgt spid="380"/>
                                        </p:tgtEl>
                                        <p:attrNameLst>
                                          <p:attrName>ppt_w</p:attrName>
                                        </p:attrNameLst>
                                      </p:cBhvr>
                                      <p:tavLst>
                                        <p:tav tm="0">
                                          <p:val>
                                            <p:fltVal val="0"/>
                                          </p:val>
                                        </p:tav>
                                        <p:tav tm="100000">
                                          <p:val>
                                            <p:strVal val="#ppt_w"/>
                                          </p:val>
                                        </p:tav>
                                      </p:tavLst>
                                    </p:anim>
                                    <p:anim calcmode="lin" valueType="num">
                                      <p:cBhvr additive="repl">
                                        <p:cTn id="184" dur="500" fill="hold"/>
                                        <p:tgtEl>
                                          <p:spTgt spid="380"/>
                                        </p:tgtEl>
                                        <p:attrNameLst>
                                          <p:attrName>ppt_h</p:attrName>
                                        </p:attrNameLst>
                                      </p:cBhvr>
                                      <p:tavLst>
                                        <p:tav tm="0">
                                          <p:val>
                                            <p:strVal val="#ppt_h"/>
                                          </p:val>
                                        </p:tav>
                                        <p:tav tm="100000">
                                          <p:val>
                                            <p:strVal val="#ppt_h"/>
                                          </p:val>
                                        </p:tav>
                                      </p:tavLst>
                                    </p:anim>
                                  </p:childTnLst>
                                </p:cTn>
                              </p:par>
                            </p:childTnLst>
                          </p:cTn>
                        </p:par>
                        <p:par>
                          <p:cTn id="185" fill="hold">
                            <p:stCondLst>
                              <p:cond delay="500"/>
                            </p:stCondLst>
                            <p:childTnLst>
                              <p:par>
                                <p:cTn id="186" nodeType="afterEffect" fill="hold" presetClass="entr" presetID="22" presetSubtype="8">
                                  <p:stCondLst>
                                    <p:cond delay="0"/>
                                  </p:stCondLst>
                                  <p:childTnLst>
                                    <p:set>
                                      <p:cBhvr>
                                        <p:cTn id="187" dur="1" fill="hold">
                                          <p:stCondLst>
                                            <p:cond delay="0"/>
                                          </p:stCondLst>
                                        </p:cTn>
                                        <p:tgtEl>
                                          <p:spTgt spid="381">
                                            <p:txEl>
                                              <p:pRg st="0" end="0"/>
                                            </p:txEl>
                                          </p:spTgt>
                                        </p:tgtEl>
                                        <p:attrNameLst>
                                          <p:attrName>style.visibility</p:attrName>
                                        </p:attrNameLst>
                                      </p:cBhvr>
                                      <p:to>
                                        <p:strVal val="visible"/>
                                      </p:to>
                                    </p:set>
                                    <p:animEffect filter="wipe(left)" transition="in">
                                      <p:cBhvr additive="repl">
                                        <p:cTn id="188" dur="500"/>
                                        <p:tgtEl>
                                          <p:spTgt spid="381">
                                            <p:txEl>
                                              <p:pRg st="0" end="0"/>
                                            </p:txEl>
                                          </p:spTgt>
                                        </p:tgtEl>
                                      </p:cBhvr>
                                    </p:animEffect>
                                  </p:childTnLst>
                                </p:cTn>
                              </p:par>
                            </p:childTnLst>
                          </p:cTn>
                        </p:par>
                        <p:par>
                          <p:cTn id="189" fill="hold">
                            <p:stCondLst>
                              <p:cond delay="1000"/>
                            </p:stCondLst>
                            <p:childTnLst>
                              <p:par>
                                <p:cTn id="190" nodeType="afterEffect" fill="hold" presetClass="entr" presetID="18" presetSubtype="6">
                                  <p:stCondLst>
                                    <p:cond delay="0"/>
                                  </p:stCondLst>
                                  <p:childTnLst>
                                    <p:set>
                                      <p:cBhvr>
                                        <p:cTn id="191" dur="1" fill="hold">
                                          <p:stCondLst>
                                            <p:cond delay="0"/>
                                          </p:stCondLst>
                                        </p:cTn>
                                        <p:tgtEl>
                                          <p:spTgt spid="383"/>
                                        </p:tgtEl>
                                        <p:attrNameLst>
                                          <p:attrName>style.visibility</p:attrName>
                                        </p:attrNameLst>
                                      </p:cBhvr>
                                      <p:to>
                                        <p:strVal val="visible"/>
                                      </p:to>
                                    </p:set>
                                    <p:animEffect filter="strips(downRight)" transition="in">
                                      <p:cBhvr additive="repl">
                                        <p:cTn id="192" dur="500"/>
                                        <p:tgtEl>
                                          <p:spTgt spid="383"/>
                                        </p:tgtEl>
                                      </p:cBhvr>
                                    </p:animEffect>
                                  </p:childTnLst>
                                </p:cTn>
                              </p:par>
                            </p:childTnLst>
                          </p:cTn>
                        </p:par>
                        <p:par>
                          <p:cTn id="193" fill="hold">
                            <p:stCondLst>
                              <p:cond delay="1500"/>
                            </p:stCondLst>
                            <p:childTnLst>
                              <p:par>
                                <p:cTn id="194" nodeType="afterEffect" fill="hold" presetClass="entr" presetID="22" presetSubtype="8">
                                  <p:stCondLst>
                                    <p:cond delay="0"/>
                                  </p:stCondLst>
                                  <p:childTnLst>
                                    <p:set>
                                      <p:cBhvr>
                                        <p:cTn id="195"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96" dur="500"/>
                                        <p:tgtEl>
                                          <p:spTgt spid="384">
                                            <p:txEl>
                                              <p:pRg st="0" end="0"/>
                                            </p:txEl>
                                          </p:spTgt>
                                        </p:tgtEl>
                                      </p:cBhvr>
                                    </p:animEffect>
                                  </p:childTnLst>
                                </p:cTn>
                              </p:par>
                            </p:childTnLst>
                          </p:cTn>
                        </p:par>
                        <p:par>
                          <p:cTn id="197" fill="hold">
                            <p:stCondLst>
                              <p:cond delay="2000"/>
                            </p:stCondLst>
                            <p:childTnLst>
                              <p:par>
                                <p:cTn id="198" nodeType="afterEffect" fill="hold" presetClass="entr" presetID="18" presetSubtype="6">
                                  <p:stCondLst>
                                    <p:cond delay="0"/>
                                  </p:stCondLst>
                                  <p:childTnLst>
                                    <p:set>
                                      <p:cBhvr>
                                        <p:cTn id="199" dur="1" fill="hold">
                                          <p:stCondLst>
                                            <p:cond delay="0"/>
                                          </p:stCondLst>
                                        </p:cTn>
                                        <p:tgtEl>
                                          <p:spTgt spid="382"/>
                                        </p:tgtEl>
                                        <p:attrNameLst>
                                          <p:attrName>style.visibility</p:attrName>
                                        </p:attrNameLst>
                                      </p:cBhvr>
                                      <p:to>
                                        <p:strVal val="visible"/>
                                      </p:to>
                                    </p:set>
                                    <p:animEffect filter="strips(downRight)" transition="in">
                                      <p:cBhvr additive="repl">
                                        <p:cTn id="200"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599840" y="0"/>
            <a:ext cx="59929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DENSITY LOGS</a:t>
            </a:r>
            <a:endParaRPr b="0" lang="en-US" sz="4400" spc="-1" strike="noStrike">
              <a:solidFill>
                <a:srgbClr val="000000"/>
              </a:solidFill>
              <a:latin typeface="Times New Roman"/>
            </a:endParaRPr>
          </a:p>
        </p:txBody>
      </p:sp>
      <p:sp>
        <p:nvSpPr>
          <p:cNvPr id="387" name="PlaceHolder 2"/>
          <p:cNvSpPr>
            <a:spLocks noGrp="1"/>
          </p:cNvSpPr>
          <p:nvPr>
            <p:ph/>
          </p:nvPr>
        </p:nvSpPr>
        <p:spPr>
          <a:xfrm>
            <a:off x="456840" y="1219320"/>
            <a:ext cx="7620120" cy="761760"/>
          </a:xfrm>
          <a:prstGeom prst="rect">
            <a:avLst/>
          </a:prstGeom>
          <a:noFill/>
          <a:ln w="0">
            <a:noFill/>
          </a:ln>
        </p:spPr>
        <p:txBody>
          <a:bodyPr anchor="t">
            <a:normAutofit/>
          </a:bodyPr>
          <a:p>
            <a:pPr marL="343080" indent="0">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0000"/>
                </a:solidFill>
                <a:uFillTx/>
                <a:latin typeface="Arial"/>
              </a:rPr>
              <a:t>Working equation </a:t>
            </a:r>
            <a:r>
              <a:rPr b="0" lang="en-US" sz="3200" spc="-1" strike="noStrike">
                <a:solidFill>
                  <a:srgbClr val="990000"/>
                </a:solidFill>
                <a:latin typeface="Arial"/>
              </a:rPr>
              <a:t>(hydrocarbon zone)</a:t>
            </a:r>
            <a:endParaRPr b="0" lang="en-US" sz="3200" spc="-1" strike="noStrike">
              <a:solidFill>
                <a:srgbClr val="000000"/>
              </a:solidFill>
              <a:latin typeface="Times New Roman"/>
            </a:endParaRPr>
          </a:p>
        </p:txBody>
      </p:sp>
      <mc:AlternateContent>
        <mc:Choice xmlns:a14="http://schemas.microsoft.com/office/drawing/2010/main" Requires="a14">
          <p:sp>
            <p:nvSpPr>
              <p:cNvPr id="388" name="Object 4"/>
              <p:cNvSpPr txBox="1"/>
              <p:nvPr/>
            </p:nvSpPr>
            <p:spPr>
              <a:xfrm>
                <a:off x="1371600" y="2057400"/>
                <a:ext cx="5867280" cy="2205000"/>
              </a:xfrm>
              <a:prstGeom prst="rect">
                <a:avLst/>
              </a:prstGeom>
            </p:spPr>
            <p:txBody>
              <a:bodyPr/>
              <a:p>
                <a14:m>
                  <m:oMath xmlns:m="http://schemas.openxmlformats.org/officeDocument/2006/math">
                    <m:eqArr>
                      <m:e>
                        <m:sSub>
                          <m:e>
                            <m:r>
                              <m:t xml:space="preserve">ρ</m:t>
                            </m:r>
                          </m:e>
                          <m:sub>
                            <m:r>
                              <m:t xml:space="preserve">b</m:t>
                            </m:r>
                          </m:sub>
                        </m:sSub>
                        <m:r>
                          <m:t xml:space="preserve"> </m:t>
                        </m:r>
                        <m:r>
                          <m:t xml:space="preserve">=</m:t>
                        </m:r>
                        <m:r>
                          <m:t xml:space="preserve"> </m:t>
                        </m:r>
                        <m:r>
                          <m:t xml:space="preserve">φ</m:t>
                        </m:r>
                        <m:r>
                          <m:t xml:space="preserve"> </m:t>
                        </m:r>
                        <m:sSub>
                          <m:e>
                            <m:r>
                              <m:t xml:space="preserve">S</m:t>
                            </m:r>
                          </m:e>
                          <m:sub>
                            <m:r>
                              <m:rPr>
                                <m:lit/>
                                <m:nor/>
                              </m:rPr>
                              <m:t xml:space="preserve">xo</m:t>
                            </m:r>
                          </m:sub>
                        </m:sSub>
                        <m:r>
                          <m:t xml:space="preserve"> </m:t>
                        </m:r>
                        <m:sSub>
                          <m:e>
                            <m:r>
                              <m:t xml:space="preserve">ρ</m:t>
                            </m:r>
                          </m:e>
                          <m:sub>
                            <m:r>
                              <m:rPr>
                                <m:lit/>
                                <m:nor/>
                              </m:rPr>
                              <m:t xml:space="preserve">mf</m:t>
                            </m:r>
                          </m:sub>
                        </m:sSub>
                        <m:r>
                          <m:t xml:space="preserve"> </m:t>
                        </m:r>
                        <m:r>
                          <m:t xml:space="preserve">+</m:t>
                        </m:r>
                        <m:r>
                          <m:t xml:space="preserve"> </m:t>
                        </m:r>
                        <m:r>
                          <m:t xml:space="preserve">φ</m:t>
                        </m:r>
                        <m:r>
                          <m:t xml:space="preserve"> </m:t>
                        </m:r>
                        <m:d>
                          <m:dPr>
                            <m:begChr m:val="("/>
                            <m:endChr m:val=")"/>
                          </m:dPr>
                          <m:e>
                            <m:r>
                              <m:t xml:space="preserve">1</m:t>
                            </m:r>
                            <m:r>
                              <m:t xml:space="preserve"> </m:t>
                            </m:r>
                            <m:r>
                              <m:t xml:space="preserve">−</m:t>
                            </m:r>
                            <m:r>
                              <m:t xml:space="preserve"> </m:t>
                            </m:r>
                            <m:sSub>
                              <m:e>
                                <m:r>
                                  <m:t xml:space="preserve">S</m:t>
                                </m:r>
                              </m:e>
                              <m:sub>
                                <m:r>
                                  <m:rPr>
                                    <m:lit/>
                                    <m:nor/>
                                  </m:rPr>
                                  <m:t xml:space="preserve">xo</m:t>
                                </m:r>
                              </m:sub>
                            </m:sSub>
                          </m:e>
                        </m:d>
                        <m:r>
                          <m:t xml:space="preserve"> </m:t>
                        </m:r>
                        <m:sSub>
                          <m:e>
                            <m:r>
                              <m:t xml:space="preserve">ρ</m:t>
                            </m:r>
                          </m:e>
                          <m:sub>
                            <m:r>
                              <m:rPr>
                                <m:lit/>
                                <m:nor/>
                              </m:rPr>
                              <m:t xml:space="preserve">hc</m:t>
                            </m:r>
                          </m:sub>
                        </m:sSub>
                      </m:e>
                      <m:e/>
                      <m:e>
                        <m:r>
                          <m:t xml:space="preserve">+</m:t>
                        </m:r>
                        <m:r>
                          <m:t xml:space="preserve"> </m:t>
                        </m:r>
                        <m:sSub>
                          <m:e>
                            <m:r>
                              <m:t xml:space="preserve">V</m:t>
                            </m:r>
                          </m:e>
                          <m:sub>
                            <m:r>
                              <m:rPr>
                                <m:lit/>
                                <m:nor/>
                              </m:rPr>
                              <m:t xml:space="preserve">sh</m:t>
                            </m:r>
                          </m:sub>
                        </m:sSub>
                        <m:r>
                          <m:t xml:space="preserve"> </m:t>
                        </m:r>
                        <m:sSub>
                          <m:e>
                            <m:r>
                              <m:t xml:space="preserve">ρ</m:t>
                            </m:r>
                          </m:e>
                          <m:sub>
                            <m:r>
                              <m:rPr>
                                <m:lit/>
                                <m:nor/>
                              </m:rPr>
                              <m:t xml:space="preserve">sh</m:t>
                            </m:r>
                          </m:sub>
                        </m:sSub>
                        <m:r>
                          <m:t xml:space="preserve"> </m:t>
                        </m:r>
                        <m:r>
                          <m:t xml:space="preserve">+</m:t>
                        </m:r>
                        <m:r>
                          <m:t xml:space="preserve"> </m:t>
                        </m:r>
                        <m:d>
                          <m:dPr>
                            <m:begChr m:val="("/>
                            <m:endChr m:val=")"/>
                          </m:dPr>
                          <m:e>
                            <m:r>
                              <m:t xml:space="preserve">1</m:t>
                            </m:r>
                            <m:r>
                              <m:t xml:space="preserve"> </m:t>
                            </m:r>
                            <m:r>
                              <m:t xml:space="preserve">−</m:t>
                            </m:r>
                            <m:r>
                              <m:t xml:space="preserve"> </m:t>
                            </m:r>
                            <m:r>
                              <m:t xml:space="preserve">φ</m:t>
                            </m:r>
                            <m:r>
                              <m:t xml:space="preserve"> </m:t>
                            </m:r>
                            <m:r>
                              <m:t xml:space="preserve">−</m:t>
                            </m:r>
                            <m:r>
                              <m:t xml:space="preserve"> </m:t>
                            </m:r>
                            <m:sSub>
                              <m:e>
                                <m:r>
                                  <m:t xml:space="preserve">V</m:t>
                                </m:r>
                              </m:e>
                              <m:sub>
                                <m:r>
                                  <m:rPr>
                                    <m:lit/>
                                    <m:nor/>
                                  </m:rPr>
                                  <m:t xml:space="preserve">sh</m:t>
                                </m:r>
                              </m:sub>
                            </m:sSub>
                          </m:e>
                        </m:d>
                        <m:r>
                          <m:t xml:space="preserve"> </m:t>
                        </m:r>
                        <m:sSub>
                          <m:e>
                            <m:r>
                              <m:t xml:space="preserve">ρ</m:t>
                            </m:r>
                          </m:e>
                          <m:sub>
                            <m:r>
                              <m:rPr>
                                <m:lit/>
                                <m:nor/>
                              </m:rPr>
                              <m:t xml:space="preserve">ma</m:t>
                            </m:r>
                          </m:sub>
                        </m:sSub>
                      </m:e>
                    </m:eqArr>
                  </m:oMath>
                </a14:m>
              </a:p>
            </p:txBody>
          </p:sp>
        </mc:Choice>
        <mc:Fallback/>
      </mc:AlternateContent>
      <p:sp>
        <p:nvSpPr>
          <p:cNvPr id="389" name="Text Box 5"/>
          <p:cNvSpPr/>
          <p:nvPr/>
        </p:nvSpPr>
        <p:spPr>
          <a:xfrm>
            <a:off x="4276440" y="5029200"/>
            <a:ext cx="4854960" cy="2026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b</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Recorded parameter (bulk volum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lang="en-US" sz="1600" spc="-1" strike="noStrike">
                <a:solidFill>
                  <a:srgbClr val="000000"/>
                </a:solidFill>
                <a:latin typeface="Times New Roman"/>
              </a:rPr>
              <a:t>S</a:t>
            </a:r>
            <a:r>
              <a:rPr b="0" lang="en-US" sz="1600" spc="-1" strike="noStrike" baseline="-25000">
                <a:solidFill>
                  <a:srgbClr val="000000"/>
                </a:solidFill>
                <a:latin typeface="Times New Roman"/>
              </a:rPr>
              <a:t>xo</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mf</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Mud filtrate componen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lang="en-US" sz="1600" spc="-1" strike="noStrike">
                <a:solidFill>
                  <a:srgbClr val="000000"/>
                </a:solidFill>
                <a:latin typeface="Times New Roman"/>
              </a:rPr>
              <a:t>(1 - S</a:t>
            </a:r>
            <a:r>
              <a:rPr b="0" lang="en-US" sz="1600" spc="-1" strike="noStrike" baseline="-25000">
                <a:solidFill>
                  <a:srgbClr val="000000"/>
                </a:solidFill>
                <a:latin typeface="Times New Roman"/>
              </a:rPr>
              <a:t>xo</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hc </a:t>
            </a: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Hydrocarbon component</a:t>
            </a:r>
            <a:endParaRPr b="0" lang="en-US" sz="16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t>
            </a:r>
            <a:r>
              <a:rPr b="0" lang="en-US" sz="1600" spc="-1" strike="noStrike" baseline="-25000">
                <a:solidFill>
                  <a:srgbClr val="000000"/>
                </a:solidFill>
                <a:latin typeface="Times New Roman"/>
              </a:rPr>
              <a:t>sh</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sh</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Shale component</a:t>
            </a:r>
            <a:endParaRPr b="0" lang="en-US" sz="16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 </a:t>
            </a:r>
            <a:r>
              <a:rPr b="0" lang="en-US" sz="1600" spc="-1" strike="noStrike">
                <a:solidFill>
                  <a:srgbClr val="000000"/>
                </a:solidFill>
                <a:latin typeface="Symbol"/>
                <a:ea typeface="Symbol"/>
              </a:rPr>
              <a:t></a:t>
            </a:r>
            <a:r>
              <a:rPr b="0" lang="en-US" sz="1600" spc="-1" strike="noStrike">
                <a:solidFill>
                  <a:srgbClr val="000000"/>
                </a:solidFill>
                <a:latin typeface="Times New Roman"/>
              </a:rPr>
              <a:t> - V</a:t>
            </a:r>
            <a:r>
              <a:rPr b="0" lang="en-US" sz="1600" spc="-1" strike="noStrike" baseline="-25000">
                <a:solidFill>
                  <a:srgbClr val="000000"/>
                </a:solidFill>
                <a:latin typeface="Times New Roman"/>
              </a:rPr>
              <a:t>sh</a:t>
            </a:r>
            <a:r>
              <a:rPr b="0" lang="en-US" sz="1600" spc="-1" strike="noStrike" baseline="-25000">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Matrix compon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5" presetSubtype="10">
                                  <p:stCondLst>
                                    <p:cond delay="0"/>
                                  </p:stCondLst>
                                  <p:childTnLst>
                                    <p:set>
                                      <p:cBhvr>
                                        <p:cTn id="206" dur="1" fill="hold">
                                          <p:stCondLst>
                                            <p:cond delay="0"/>
                                          </p:stCondLst>
                                        </p:cTn>
                                        <p:tgtEl>
                                          <p:spTgt spid="386"/>
                                        </p:tgtEl>
                                        <p:attrNameLst>
                                          <p:attrName>style.visibility</p:attrName>
                                        </p:attrNameLst>
                                      </p:cBhvr>
                                      <p:to>
                                        <p:strVal val="visible"/>
                                      </p:to>
                                    </p:set>
                                    <p:animEffect filter="checkerboard(across)" transition="in">
                                      <p:cBhvr additive="repl">
                                        <p:cTn id="207" dur="500"/>
                                        <p:tgtEl>
                                          <p:spTgt spid="386"/>
                                        </p:tgtEl>
                                      </p:cBhvr>
                                    </p:animEffect>
                                  </p:childTnLst>
                                </p:cTn>
                              </p:par>
                            </p:childTnLst>
                          </p:cTn>
                        </p:par>
                        <p:par>
                          <p:cTn id="208" fill="hold">
                            <p:stCondLst>
                              <p:cond delay="500"/>
                            </p:stCondLst>
                            <p:childTnLst>
                              <p:par>
                                <p:cTn id="209" nodeType="afterEffect" fill="hold" presetClass="entr" presetID="2" presetSubtype="12">
                                  <p:stCondLst>
                                    <p:cond delay="0"/>
                                  </p:stCondLst>
                                  <p:childTnLst>
                                    <p:set>
                                      <p:cBhvr>
                                        <p:cTn id="210" dur="1" fill="hold">
                                          <p:stCondLst>
                                            <p:cond delay="0"/>
                                          </p:stCondLst>
                                        </p:cTn>
                                        <p:tgtEl>
                                          <p:spTgt spid="387">
                                            <p:txEl>
                                              <p:pRg st="0" end="0"/>
                                            </p:txEl>
                                          </p:spTgt>
                                        </p:tgtEl>
                                        <p:attrNameLst>
                                          <p:attrName>style.visibility</p:attrName>
                                        </p:attrNameLst>
                                      </p:cBhvr>
                                      <p:to>
                                        <p:strVal val="visible"/>
                                      </p:to>
                                    </p:set>
                                    <p:anim calcmode="lin" valueType="num">
                                      <p:cBhvr additive="base">
                                        <p:cTn id="211" dur="500" fill="hold"/>
                                        <p:tgtEl>
                                          <p:spTgt spid="387">
                                            <p:txEl>
                                              <p:pRg st="0" end="0"/>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387">
                                            <p:txEl>
                                              <p:pRg st="0" end="0"/>
                                            </p:txEl>
                                          </p:spTgt>
                                        </p:tgtEl>
                                        <p:attrNameLst>
                                          <p:attrName>ppt_y</p:attrName>
                                        </p:attrNameLst>
                                      </p:cBhvr>
                                      <p:tavLst>
                                        <p:tav tm="0">
                                          <p:val>
                                            <p:strVal val="1+#ppt_h/2"/>
                                          </p:val>
                                        </p:tav>
                                        <p:tav tm="100000">
                                          <p:val>
                                            <p:strVal val="#ppt_y"/>
                                          </p:val>
                                        </p:tav>
                                      </p:tavLst>
                                    </p:anim>
                                  </p:childTnLst>
                                </p:cTn>
                              </p:par>
                            </p:childTnLst>
                          </p:cTn>
                        </p:par>
                        <p:par>
                          <p:cTn id="213" fill="hold">
                            <p:stCondLst>
                              <p:cond delay="1000"/>
                            </p:stCondLst>
                            <p:childTnLst>
                              <p:par>
                                <p:cTn id="214" nodeType="afterEffect" fill="hold" presetClass="entr" presetID="2" presetSubtype="12">
                                  <p:stCondLst>
                                    <p:cond delay="0"/>
                                  </p:stCondLst>
                                  <p:childTnLst>
                                    <p:set>
                                      <p:cBhvr>
                                        <p:cTn id="215" dur="1" fill="hold">
                                          <p:stCondLst>
                                            <p:cond delay="0"/>
                                          </p:stCondLst>
                                        </p:cTn>
                                        <p:tgtEl>
                                          <p:spTgt spid="388"/>
                                        </p:tgtEl>
                                        <p:attrNameLst>
                                          <p:attrName>style.visibility</p:attrName>
                                        </p:attrNameLst>
                                      </p:cBhvr>
                                      <p:to>
                                        <p:strVal val="visible"/>
                                      </p:to>
                                    </p:set>
                                    <p:anim calcmode="lin" valueType="num">
                                      <p:cBhvr additive="base">
                                        <p:cTn id="216" dur="500" fill="hold"/>
                                        <p:tgtEl>
                                          <p:spTgt spid="388"/>
                                        </p:tgtEl>
                                        <p:attrNameLst>
                                          <p:attrName>ppt_x</p:attrName>
                                        </p:attrNameLst>
                                      </p:cBhvr>
                                      <p:tavLst>
                                        <p:tav tm="0">
                                          <p:val>
                                            <p:strVal val="0-#ppt_w/2"/>
                                          </p:val>
                                        </p:tav>
                                        <p:tav tm="100000">
                                          <p:val>
                                            <p:strVal val="#ppt_x"/>
                                          </p:val>
                                        </p:tav>
                                      </p:tavLst>
                                    </p:anim>
                                    <p:anim calcmode="lin" valueType="num">
                                      <p:cBhvr additive="base">
                                        <p:cTn id="217"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980720" y="151920"/>
            <a:ext cx="50022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DENSITY LOGS</a:t>
            </a:r>
            <a:endParaRPr b="0" lang="en-US" sz="4400" spc="-1" strike="noStrike">
              <a:solidFill>
                <a:srgbClr val="000000"/>
              </a:solidFill>
              <a:latin typeface="Times New Roman"/>
            </a:endParaRPr>
          </a:p>
        </p:txBody>
      </p:sp>
      <p:sp>
        <p:nvSpPr>
          <p:cNvPr id="391" name="PlaceHolder 2"/>
          <p:cNvSpPr>
            <a:spLocks noGrp="1"/>
          </p:cNvSpPr>
          <p:nvPr>
            <p:ph/>
          </p:nvPr>
        </p:nvSpPr>
        <p:spPr>
          <a:xfrm>
            <a:off x="609120" y="1142640"/>
            <a:ext cx="6629400" cy="2438280"/>
          </a:xfrm>
          <a:prstGeom prst="rect">
            <a:avLst/>
          </a:prstGeom>
          <a:noFill/>
          <a:ln w="0">
            <a:noFill/>
          </a:ln>
        </p:spPr>
        <p:txBody>
          <a:bodyPr anchor="t">
            <a:normAutofit/>
          </a:bodyPr>
          <a:p>
            <a:pPr marL="343080" indent="-343080">
              <a:lnSpc>
                <a:spcPct val="90000"/>
              </a:lnSpc>
              <a:spcBef>
                <a:spcPts val="799"/>
              </a:spcBef>
              <a:spcAft>
                <a:spcPts val="2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minimal shale, V</a:t>
            </a:r>
            <a:r>
              <a:rPr b="0" lang="en-US" sz="3200" spc="-1" strike="noStrike" baseline="-25000">
                <a:solidFill>
                  <a:srgbClr val="000000"/>
                </a:solidFill>
                <a:latin typeface="Times New Roman"/>
              </a:rPr>
              <a:t>sh</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0</a:t>
            </a:r>
            <a:endParaRPr b="0" lang="en-US" sz="3200" spc="-1" strike="noStrike">
              <a:solidFill>
                <a:srgbClr val="000000"/>
              </a:solidFill>
              <a:latin typeface="Times New Roman"/>
            </a:endParaRPr>
          </a:p>
          <a:p>
            <a:pPr marL="343080" indent="-343080">
              <a:lnSpc>
                <a:spcPct val="90000"/>
              </a:lnSpc>
              <a:spcBef>
                <a:spcPts val="799"/>
              </a:spcBef>
              <a:spcAft>
                <a:spcPts val="2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t>
            </a: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hc</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mf</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f</a:t>
            </a:r>
            <a:r>
              <a:rPr b="0" lang="en-US" sz="3200" spc="-1" strike="noStrike">
                <a:solidFill>
                  <a:srgbClr val="000000"/>
                </a:solidFill>
                <a:latin typeface="Times New Roman"/>
              </a:rPr>
              <a:t>, then</a:t>
            </a:r>
            <a:endParaRPr b="0" lang="en-US" sz="3200" spc="-1" strike="noStrike">
              <a:solidFill>
                <a:srgbClr val="000000"/>
              </a:solidFill>
              <a:latin typeface="Times New Roman"/>
            </a:endParaRPr>
          </a:p>
          <a:p>
            <a:pPr marL="343080" indent="-343080">
              <a:lnSpc>
                <a:spcPct val="90000"/>
              </a:lnSpc>
              <a:spcBef>
                <a:spcPts val="799"/>
              </a:spcBef>
              <a:spcAft>
                <a:spcPts val="2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b</a:t>
            </a:r>
            <a:r>
              <a:rPr b="0" lang="en-US" sz="3200" spc="-1" strike="noStrike">
                <a:solidFill>
                  <a:srgbClr val="000000"/>
                </a:solidFill>
                <a:latin typeface="Times New Roman"/>
              </a:rPr>
              <a:t> =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f</a:t>
            </a:r>
            <a:r>
              <a:rPr b="0" lang="en-US" sz="3200" spc="-1" strike="noStrike">
                <a:solidFill>
                  <a:srgbClr val="000000"/>
                </a:solidFill>
                <a:latin typeface="Times New Roman"/>
              </a:rPr>
              <a:t> - (1 -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baseline="-25000">
                <a:solidFill>
                  <a:srgbClr val="000000"/>
                </a:solidFill>
                <a:latin typeface="Times New Roman"/>
              </a:rPr>
              <a:t>m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392" name="Object 4"/>
              <p:cNvSpPr txBox="1"/>
              <p:nvPr/>
            </p:nvSpPr>
            <p:spPr>
              <a:xfrm>
                <a:off x="685800" y="3324240"/>
                <a:ext cx="3886200" cy="1319040"/>
              </a:xfrm>
              <a:prstGeom prst="rect">
                <a:avLst/>
              </a:prstGeom>
            </p:spPr>
            <p:txBody>
              <a:bodyPr/>
              <a:p>
                <a14:m>
                  <m:oMath xmlns:m="http://schemas.openxmlformats.org/officeDocument/2006/math">
                    <m:r>
                      <m:t xml:space="preserve">φ</m:t>
                    </m:r>
                    <m:r>
                      <m:t xml:space="preserve"> </m:t>
                    </m:r>
                    <m:r>
                      <m:t xml:space="preserve">=</m:t>
                    </m:r>
                    <m:r>
                      <m:t xml:space="preserve"> </m:t>
                    </m:r>
                    <m:sSub>
                      <m:e>
                        <m:r>
                          <m:t xml:space="preserve">φ</m:t>
                        </m:r>
                      </m:e>
                      <m:sub>
                        <m:r>
                          <m:t xml:space="preserve">d</m:t>
                        </m:r>
                      </m:sub>
                    </m:sSub>
                    <m:r>
                      <m:t xml:space="preserve"> </m:t>
                    </m:r>
                    <m:r>
                      <m:t xml:space="preserve">=</m:t>
                    </m:r>
                    <m:r>
                      <m:t xml:space="preserve"> </m:t>
                    </m:r>
                    <m:f>
                      <m:num>
                        <m:sSub>
                          <m:e>
                            <m:r>
                              <m:t xml:space="preserve">ρ</m:t>
                            </m:r>
                          </m:e>
                          <m:sub>
                            <m:r>
                              <m:rPr>
                                <m:lit/>
                                <m:nor/>
                              </m:rPr>
                              <m:t xml:space="preserve">ma</m:t>
                            </m:r>
                          </m:sub>
                        </m:sSub>
                        <m:r>
                          <m:t xml:space="preserve"> </m:t>
                        </m:r>
                        <m:r>
                          <m:t xml:space="preserve">−</m:t>
                        </m:r>
                        <m:r>
                          <m:t xml:space="preserve"> </m:t>
                        </m:r>
                        <m:sSub>
                          <m:e>
                            <m:r>
                              <m:t xml:space="preserve">ρ</m:t>
                            </m:r>
                          </m:e>
                          <m:sub>
                            <m:r>
                              <m:t xml:space="preserve">b</m:t>
                            </m:r>
                          </m:sub>
                        </m:sSub>
                      </m:num>
                      <m:den>
                        <m:sSub>
                          <m:e>
                            <m:r>
                              <m:t xml:space="preserve">ρ</m:t>
                            </m:r>
                          </m:e>
                          <m:sub>
                            <m:r>
                              <m:rPr>
                                <m:lit/>
                                <m:nor/>
                              </m:rPr>
                              <m:t xml:space="preserve">ma</m:t>
                            </m:r>
                          </m:sub>
                        </m:sSub>
                        <m:r>
                          <m:t xml:space="preserve"> </m:t>
                        </m:r>
                        <m:r>
                          <m:t xml:space="preserve">−</m:t>
                        </m:r>
                        <m:r>
                          <m:t xml:space="preserve"> </m:t>
                        </m:r>
                        <m:sSub>
                          <m:e>
                            <m:r>
                              <m:t xml:space="preserve">ρ</m:t>
                            </m:r>
                          </m:e>
                          <m:sub>
                            <m:r>
                              <m:t xml:space="preserve">f</m:t>
                            </m:r>
                          </m:sub>
                        </m:sSub>
                      </m:den>
                    </m:f>
                  </m:oMath>
                </a14:m>
              </a:p>
            </p:txBody>
          </p:sp>
        </mc:Choice>
        <mc:Fallback/>
      </mc:AlternateContent>
      <p:sp>
        <p:nvSpPr>
          <p:cNvPr id="393" name="Text Box 5"/>
          <p:cNvSpPr/>
          <p:nvPr/>
        </p:nvSpPr>
        <p:spPr>
          <a:xfrm>
            <a:off x="4476600" y="4668840"/>
            <a:ext cx="4667400" cy="2418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d</a:t>
            </a:r>
            <a:r>
              <a:rPr b="0" lang="en-US" sz="1200" spc="-1" strike="noStrike">
                <a:solidFill>
                  <a:srgbClr val="000000"/>
                </a:solidFill>
                <a:latin typeface="Times New Roman"/>
              </a:rPr>
              <a:t>   =  Porosity from density log, fraction</a:t>
            </a:r>
            <a:endParaRPr b="0" lang="en-US" sz="1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ma  </a:t>
            </a:r>
            <a:r>
              <a:rPr b="0" lang="en-US" sz="1200" spc="-1" strike="noStrike">
                <a:solidFill>
                  <a:srgbClr val="000000"/>
                </a:solidFill>
                <a:latin typeface="Times New Roman"/>
              </a:rPr>
              <a:t>=  Density of formation matrix,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b  </a:t>
            </a:r>
            <a:r>
              <a:rPr b="0" lang="en-US" sz="1200" spc="-1" strike="noStrike">
                <a:solidFill>
                  <a:srgbClr val="000000"/>
                </a:solidFill>
                <a:latin typeface="Times New Roman"/>
              </a:rPr>
              <a:t>=  Bulk density from log measurement,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f  </a:t>
            </a:r>
            <a:r>
              <a:rPr b="0" lang="en-US" sz="1200" spc="-1" strike="noStrike">
                <a:solidFill>
                  <a:srgbClr val="000000"/>
                </a:solidFill>
                <a:latin typeface="Times New Roman"/>
              </a:rPr>
              <a:t>=  Density of fluid in rock pores,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hc  </a:t>
            </a:r>
            <a:r>
              <a:rPr b="0" lang="en-US" sz="1200" spc="-1" strike="noStrike">
                <a:solidFill>
                  <a:srgbClr val="000000"/>
                </a:solidFill>
                <a:latin typeface="Times New Roman"/>
              </a:rPr>
              <a:t>=  Density of hydrocarbons in rock pores,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mf  </a:t>
            </a:r>
            <a:r>
              <a:rPr b="0" lang="en-US" sz="1200" spc="-1" strike="noStrike">
                <a:solidFill>
                  <a:srgbClr val="000000"/>
                </a:solidFill>
                <a:latin typeface="Times New Roman"/>
              </a:rPr>
              <a:t>=  Density of mud filtrate,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sh </a:t>
            </a:r>
            <a:r>
              <a:rPr b="0" lang="en-US" sz="1200" spc="-1" strike="noStrike">
                <a:solidFill>
                  <a:srgbClr val="000000"/>
                </a:solidFill>
                <a:latin typeface="Times New Roman"/>
              </a:rPr>
              <a:t>=  Density of shale, g/cm</a:t>
            </a:r>
            <a:r>
              <a:rPr b="0" lang="en-US" sz="1200" spc="-1" strike="noStrike" baseline="30000">
                <a:solidFill>
                  <a:srgbClr val="000000"/>
                </a:solidFill>
                <a:latin typeface="Times New Roman"/>
              </a:rPr>
              <a:t>3</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r>
              <a:rPr b="0" lang="en-US" sz="1200" spc="-1" strike="noStrike" baseline="-25000">
                <a:solidFill>
                  <a:srgbClr val="000000"/>
                </a:solidFill>
                <a:latin typeface="Times New Roman"/>
              </a:rPr>
              <a:t>sh </a:t>
            </a:r>
            <a:r>
              <a:rPr b="0" lang="en-US" sz="1200" spc="-1" strike="noStrike">
                <a:solidFill>
                  <a:srgbClr val="000000"/>
                </a:solidFill>
                <a:latin typeface="Times New Roman"/>
              </a:rPr>
              <a:t>=  Volume of shale, fraction</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r>
              <a:rPr b="0" lang="en-US" sz="1200" spc="-1" strike="noStrike" baseline="-25000">
                <a:solidFill>
                  <a:srgbClr val="000000"/>
                </a:solidFill>
                <a:latin typeface="Times New Roman"/>
              </a:rPr>
              <a:t>xo </a:t>
            </a:r>
            <a:r>
              <a:rPr b="0" lang="en-US" sz="1200" spc="-1" strike="noStrike">
                <a:solidFill>
                  <a:srgbClr val="000000"/>
                </a:solidFill>
                <a:latin typeface="Times New Roman"/>
              </a:rPr>
              <a:t>=  Mud filtrate saturation in zone invaded by mud filtrate, frac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4" presetSubtype="32">
                                  <p:stCondLst>
                                    <p:cond delay="0"/>
                                  </p:stCondLst>
                                  <p:childTnLst>
                                    <p:set>
                                      <p:cBhvr>
                                        <p:cTn id="223" dur="1" fill="hold">
                                          <p:stCondLst>
                                            <p:cond delay="0"/>
                                          </p:stCondLst>
                                        </p:cTn>
                                        <p:tgtEl>
                                          <p:spTgt spid="390"/>
                                        </p:tgtEl>
                                        <p:attrNameLst>
                                          <p:attrName>style.visibility</p:attrName>
                                        </p:attrNameLst>
                                      </p:cBhvr>
                                      <p:to>
                                        <p:strVal val="visible"/>
                                      </p:to>
                                    </p:set>
                                    <p:animEffect filter="box(out)" transition="in">
                                      <p:cBhvr additive="repl">
                                        <p:cTn id="224" dur="500"/>
                                        <p:tgtEl>
                                          <p:spTgt spid="390"/>
                                        </p:tgtEl>
                                      </p:cBhvr>
                                    </p:animEffect>
                                  </p:childTnLst>
                                </p:cTn>
                              </p:par>
                            </p:childTnLst>
                          </p:cTn>
                        </p:par>
                        <p:par>
                          <p:cTn id="225" fill="hold">
                            <p:stCondLst>
                              <p:cond delay="500"/>
                            </p:stCondLst>
                            <p:childTnLst>
                              <p:par>
                                <p:cTn id="226" nodeType="afterEffect" fill="hold" presetClass="entr" presetID="22" presetSubtype="8">
                                  <p:stCondLst>
                                    <p:cond delay="0"/>
                                  </p:stCondLst>
                                  <p:childTnLst>
                                    <p:set>
                                      <p:cBhvr>
                                        <p:cTn id="227" dur="1" fill="hold">
                                          <p:stCondLst>
                                            <p:cond delay="0"/>
                                          </p:stCondLst>
                                        </p:cTn>
                                        <p:tgtEl>
                                          <p:spTgt spid="391">
                                            <p:txEl>
                                              <p:pRg st="0" end="0"/>
                                            </p:txEl>
                                          </p:spTgt>
                                        </p:tgtEl>
                                        <p:attrNameLst>
                                          <p:attrName>style.visibility</p:attrName>
                                        </p:attrNameLst>
                                      </p:cBhvr>
                                      <p:to>
                                        <p:strVal val="visible"/>
                                      </p:to>
                                    </p:set>
                                    <p:animEffect filter="wipe(left)" transition="in">
                                      <p:cBhvr additive="repl">
                                        <p:cTn id="228" dur="500"/>
                                        <p:tgtEl>
                                          <p:spTgt spid="391">
                                            <p:txEl>
                                              <p:pRg st="0" end="0"/>
                                            </p:txEl>
                                          </p:spTgt>
                                        </p:tgtEl>
                                      </p:cBhvr>
                                    </p:animEffect>
                                  </p:childTnLst>
                                </p:cTn>
                              </p:par>
                            </p:childTnLst>
                          </p:cTn>
                        </p:par>
                        <p:par>
                          <p:cTn id="229" fill="hold">
                            <p:stCondLst>
                              <p:cond delay="1000"/>
                            </p:stCondLst>
                            <p:childTnLst>
                              <p:par>
                                <p:cTn id="230" nodeType="afterEffect" fill="hold" presetClass="entr" presetID="22" presetSubtype="8">
                                  <p:stCondLst>
                                    <p:cond delay="0"/>
                                  </p:stCondLst>
                                  <p:childTnLst>
                                    <p:set>
                                      <p:cBhvr>
                                        <p:cTn id="231" dur="1" fill="hold">
                                          <p:stCondLst>
                                            <p:cond delay="0"/>
                                          </p:stCondLst>
                                        </p:cTn>
                                        <p:tgtEl>
                                          <p:spTgt spid="391">
                                            <p:txEl>
                                              <p:pRg st="1" end="1"/>
                                            </p:txEl>
                                          </p:spTgt>
                                        </p:tgtEl>
                                        <p:attrNameLst>
                                          <p:attrName>style.visibility</p:attrName>
                                        </p:attrNameLst>
                                      </p:cBhvr>
                                      <p:to>
                                        <p:strVal val="visible"/>
                                      </p:to>
                                    </p:set>
                                    <p:animEffect filter="wipe(left)" transition="in">
                                      <p:cBhvr additive="repl">
                                        <p:cTn id="232" dur="500"/>
                                        <p:tgtEl>
                                          <p:spTgt spid="391">
                                            <p:txEl>
                                              <p:pRg st="1" end="1"/>
                                            </p:txEl>
                                          </p:spTgt>
                                        </p:tgtEl>
                                      </p:cBhvr>
                                    </p:animEffect>
                                  </p:childTnLst>
                                </p:cTn>
                              </p:par>
                            </p:childTnLst>
                          </p:cTn>
                        </p:par>
                        <p:par>
                          <p:cTn id="233" fill="hold">
                            <p:stCondLst>
                              <p:cond delay="1500"/>
                            </p:stCondLst>
                            <p:childTnLst>
                              <p:par>
                                <p:cTn id="234" nodeType="afterEffect" fill="hold" presetClass="entr" presetID="22" presetSubtype="8">
                                  <p:stCondLst>
                                    <p:cond delay="0"/>
                                  </p:stCondLst>
                                  <p:childTnLst>
                                    <p:set>
                                      <p:cBhvr>
                                        <p:cTn id="235" dur="1" fill="hold">
                                          <p:stCondLst>
                                            <p:cond delay="0"/>
                                          </p:stCondLst>
                                        </p:cTn>
                                        <p:tgtEl>
                                          <p:spTgt spid="391">
                                            <p:txEl>
                                              <p:pRg st="2" end="2"/>
                                            </p:txEl>
                                          </p:spTgt>
                                        </p:tgtEl>
                                        <p:attrNameLst>
                                          <p:attrName>style.visibility</p:attrName>
                                        </p:attrNameLst>
                                      </p:cBhvr>
                                      <p:to>
                                        <p:strVal val="visible"/>
                                      </p:to>
                                    </p:set>
                                    <p:animEffect filter="wipe(left)" transition="in">
                                      <p:cBhvr additive="repl">
                                        <p:cTn id="236" dur="500"/>
                                        <p:tgtEl>
                                          <p:spTgt spid="391">
                                            <p:txEl>
                                              <p:pRg st="2" end="2"/>
                                            </p:txEl>
                                          </p:spTgt>
                                        </p:tgtEl>
                                      </p:cBhvr>
                                    </p:animEffect>
                                  </p:childTnLst>
                                </p:cTn>
                              </p:par>
                            </p:childTnLst>
                          </p:cTn>
                        </p:par>
                        <p:par>
                          <p:cTn id="237" fill="hold">
                            <p:stCondLst>
                              <p:cond delay="2000"/>
                            </p:stCondLst>
                            <p:childTnLst>
                              <p:par>
                                <p:cTn id="238" nodeType="afterEffect" fill="hold" presetClass="entr" presetID="22" presetSubtype="8">
                                  <p:stCondLst>
                                    <p:cond delay="0"/>
                                  </p:stCondLst>
                                  <p:childTnLst>
                                    <p:set>
                                      <p:cBhvr>
                                        <p:cTn id="239" dur="1" fill="hold">
                                          <p:stCondLst>
                                            <p:cond delay="0"/>
                                          </p:stCondLst>
                                        </p:cTn>
                                        <p:tgtEl>
                                          <p:spTgt spid="392"/>
                                        </p:tgtEl>
                                        <p:attrNameLst>
                                          <p:attrName>style.visibility</p:attrName>
                                        </p:attrNameLst>
                                      </p:cBhvr>
                                      <p:to>
                                        <p:strVal val="visible"/>
                                      </p:to>
                                    </p:set>
                                    <p:animEffect filter="wipe(left)" transition="in">
                                      <p:cBhvr additive="repl">
                                        <p:cTn id="240"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4" name="Group 2"/>
          <p:cNvGrpSpPr/>
          <p:nvPr/>
        </p:nvGrpSpPr>
        <p:grpSpPr>
          <a:xfrm>
            <a:off x="465120" y="1143000"/>
            <a:ext cx="5116680" cy="5410080"/>
            <a:chOff x="465120" y="1143000"/>
            <a:chExt cx="5116680" cy="5410080"/>
          </a:xfrm>
        </p:grpSpPr>
        <p:grpSp>
          <p:nvGrpSpPr>
            <p:cNvPr id="395" name="Group 3"/>
            <p:cNvGrpSpPr/>
            <p:nvPr/>
          </p:nvGrpSpPr>
          <p:grpSpPr>
            <a:xfrm>
              <a:off x="465120" y="1143000"/>
              <a:ext cx="5116680" cy="5410080"/>
              <a:chOff x="465120" y="1143000"/>
              <a:chExt cx="5116680" cy="5410080"/>
            </a:xfrm>
          </p:grpSpPr>
          <p:sp>
            <p:nvSpPr>
              <p:cNvPr id="396" name="Rectangle 4"/>
              <p:cNvSpPr/>
              <p:nvPr/>
            </p:nvSpPr>
            <p:spPr>
              <a:xfrm>
                <a:off x="552600" y="1263600"/>
                <a:ext cx="5029200" cy="863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Rectangle 5"/>
              <p:cNvSpPr/>
              <p:nvPr/>
            </p:nvSpPr>
            <p:spPr>
              <a:xfrm>
                <a:off x="552600" y="1263600"/>
                <a:ext cx="5029200" cy="863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Rectangle 6"/>
              <p:cNvSpPr/>
              <p:nvPr/>
            </p:nvSpPr>
            <p:spPr>
              <a:xfrm>
                <a:off x="465120" y="1263600"/>
                <a:ext cx="5116680" cy="8636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Rectangle 7"/>
              <p:cNvSpPr/>
              <p:nvPr/>
            </p:nvSpPr>
            <p:spPr>
              <a:xfrm>
                <a:off x="465120" y="2127240"/>
                <a:ext cx="5116680" cy="44258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Line 8"/>
              <p:cNvSpPr/>
              <p:nvPr/>
            </p:nvSpPr>
            <p:spPr>
              <a:xfrm>
                <a:off x="990720" y="139860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1" name="Line 9"/>
              <p:cNvSpPr/>
              <p:nvPr/>
            </p:nvSpPr>
            <p:spPr>
              <a:xfrm>
                <a:off x="990720" y="1400040"/>
                <a:ext cx="912600" cy="3240"/>
              </a:xfrm>
              <a:prstGeom prst="line">
                <a:avLst/>
              </a:prstGeom>
              <a:ln w="0">
                <a:solidFill>
                  <a:srgbClr val="0000ff"/>
                </a:solidFill>
                <a:prstDash val="sysDash"/>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2" name="Line 10"/>
              <p:cNvSpPr/>
              <p:nvPr/>
            </p:nvSpPr>
            <p:spPr>
              <a:xfrm>
                <a:off x="990720" y="140508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3" name="Line 11"/>
              <p:cNvSpPr/>
              <p:nvPr/>
            </p:nvSpPr>
            <p:spPr>
              <a:xfrm>
                <a:off x="990720" y="140652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 name="Line 12"/>
              <p:cNvSpPr/>
              <p:nvPr/>
            </p:nvSpPr>
            <p:spPr>
              <a:xfrm>
                <a:off x="990720" y="140976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5" name="Line 13"/>
              <p:cNvSpPr/>
              <p:nvPr/>
            </p:nvSpPr>
            <p:spPr>
              <a:xfrm>
                <a:off x="990720" y="1411200"/>
                <a:ext cx="912600" cy="1800"/>
              </a:xfrm>
              <a:prstGeom prst="line">
                <a:avLst/>
              </a:prstGeom>
              <a:ln w="0">
                <a:solidFill>
                  <a:srgbClr val="0000ff"/>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 name="Rectangle 14"/>
              <p:cNvSpPr/>
              <p:nvPr/>
            </p:nvSpPr>
            <p:spPr>
              <a:xfrm>
                <a:off x="1318680" y="128916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GRC</a:t>
                </a:r>
                <a:endParaRPr b="0" lang="en-US" sz="1000" spc="-1" strike="noStrike">
                  <a:solidFill>
                    <a:srgbClr val="000000"/>
                  </a:solidFill>
                  <a:latin typeface="Times New Roman"/>
                </a:endParaRPr>
              </a:p>
            </p:txBody>
          </p:sp>
          <p:sp>
            <p:nvSpPr>
              <p:cNvPr id="407" name="Rectangle 15"/>
              <p:cNvSpPr/>
              <p:nvPr/>
            </p:nvSpPr>
            <p:spPr>
              <a:xfrm>
                <a:off x="993240" y="1406520"/>
                <a:ext cx="77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a:t>
                </a:r>
                <a:endParaRPr b="0" lang="en-US" sz="1000" spc="-1" strike="noStrike">
                  <a:solidFill>
                    <a:srgbClr val="000000"/>
                  </a:solidFill>
                  <a:latin typeface="Times New Roman"/>
                </a:endParaRPr>
              </a:p>
            </p:txBody>
          </p:sp>
          <p:sp>
            <p:nvSpPr>
              <p:cNvPr id="408" name="Rectangle 16"/>
              <p:cNvSpPr/>
              <p:nvPr/>
            </p:nvSpPr>
            <p:spPr>
              <a:xfrm>
                <a:off x="164412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50</a:t>
                </a:r>
                <a:endParaRPr b="0" lang="en-US" sz="1000" spc="-1" strike="noStrike">
                  <a:solidFill>
                    <a:srgbClr val="000000"/>
                  </a:solidFill>
                  <a:latin typeface="Times New Roman"/>
                </a:endParaRPr>
              </a:p>
            </p:txBody>
          </p:sp>
          <p:sp>
            <p:nvSpPr>
              <p:cNvPr id="409" name="Rectangle 17"/>
              <p:cNvSpPr/>
              <p:nvPr/>
            </p:nvSpPr>
            <p:spPr>
              <a:xfrm>
                <a:off x="95256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Line 18"/>
              <p:cNvSpPr/>
              <p:nvPr/>
            </p:nvSpPr>
            <p:spPr>
              <a:xfrm>
                <a:off x="990720" y="1693800"/>
                <a:ext cx="912600" cy="1800"/>
              </a:xfrm>
              <a:prstGeom prst="line">
                <a:avLst/>
              </a:prstGeom>
              <a:ln w="3816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1" name="Rectangle 19"/>
              <p:cNvSpPr/>
              <p:nvPr/>
            </p:nvSpPr>
            <p:spPr>
              <a:xfrm>
                <a:off x="1318680" y="15778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PC</a:t>
                </a:r>
                <a:endParaRPr b="0" lang="en-US" sz="1000" spc="-1" strike="noStrike">
                  <a:solidFill>
                    <a:srgbClr val="000000"/>
                  </a:solidFill>
                  <a:latin typeface="Times New Roman"/>
                </a:endParaRPr>
              </a:p>
            </p:txBody>
          </p:sp>
          <p:sp>
            <p:nvSpPr>
              <p:cNvPr id="412" name="Rectangle 20"/>
              <p:cNvSpPr/>
              <p:nvPr/>
            </p:nvSpPr>
            <p:spPr>
              <a:xfrm>
                <a:off x="1350720" y="169380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V</a:t>
                </a:r>
                <a:endParaRPr b="0" lang="en-US" sz="1000" spc="-1" strike="noStrike">
                  <a:solidFill>
                    <a:srgbClr val="000000"/>
                  </a:solidFill>
                  <a:latin typeface="Times New Roman"/>
                </a:endParaRPr>
              </a:p>
            </p:txBody>
          </p:sp>
          <p:sp>
            <p:nvSpPr>
              <p:cNvPr id="413" name="Rectangle 21"/>
              <p:cNvSpPr/>
              <p:nvPr/>
            </p:nvSpPr>
            <p:spPr>
              <a:xfrm>
                <a:off x="993240" y="169380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60</a:t>
                </a:r>
                <a:endParaRPr b="0" lang="en-US" sz="1000" spc="-1" strike="noStrike">
                  <a:solidFill>
                    <a:srgbClr val="000000"/>
                  </a:solidFill>
                  <a:latin typeface="Times New Roman"/>
                </a:endParaRPr>
              </a:p>
            </p:txBody>
          </p:sp>
          <p:sp>
            <p:nvSpPr>
              <p:cNvPr id="414" name="Rectangle 22"/>
              <p:cNvSpPr/>
              <p:nvPr/>
            </p:nvSpPr>
            <p:spPr>
              <a:xfrm>
                <a:off x="1709640" y="169380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40</a:t>
                </a:r>
                <a:endParaRPr b="0" lang="en-US" sz="1000" spc="-1" strike="noStrike">
                  <a:solidFill>
                    <a:srgbClr val="000000"/>
                  </a:solidFill>
                  <a:latin typeface="Times New Roman"/>
                </a:endParaRPr>
              </a:p>
            </p:txBody>
          </p:sp>
          <p:sp>
            <p:nvSpPr>
              <p:cNvPr id="415" name="Rectangle 23"/>
              <p:cNvSpPr/>
              <p:nvPr/>
            </p:nvSpPr>
            <p:spPr>
              <a:xfrm>
                <a:off x="952560" y="157968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Line 24"/>
              <p:cNvSpPr/>
              <p:nvPr/>
            </p:nvSpPr>
            <p:spPr>
              <a:xfrm>
                <a:off x="990720" y="197496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 name="Line 25"/>
              <p:cNvSpPr/>
              <p:nvPr/>
            </p:nvSpPr>
            <p:spPr>
              <a:xfrm>
                <a:off x="990720" y="197640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 name="Line 26"/>
              <p:cNvSpPr/>
              <p:nvPr/>
            </p:nvSpPr>
            <p:spPr>
              <a:xfrm>
                <a:off x="990720" y="197964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9" name="Line 27"/>
              <p:cNvSpPr/>
              <p:nvPr/>
            </p:nvSpPr>
            <p:spPr>
              <a:xfrm>
                <a:off x="990720" y="198108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0" name="Line 28"/>
              <p:cNvSpPr/>
              <p:nvPr/>
            </p:nvSpPr>
            <p:spPr>
              <a:xfrm>
                <a:off x="990720" y="198432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1" name="Line 29"/>
              <p:cNvSpPr/>
              <p:nvPr/>
            </p:nvSpPr>
            <p:spPr>
              <a:xfrm>
                <a:off x="990720" y="198612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2" name="Rectangle 30"/>
              <p:cNvSpPr/>
              <p:nvPr/>
            </p:nvSpPr>
            <p:spPr>
              <a:xfrm>
                <a:off x="1287000" y="18637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CAL</a:t>
                </a:r>
                <a:endParaRPr b="0" lang="en-US" sz="1000" spc="-1" strike="noStrike">
                  <a:solidFill>
                    <a:srgbClr val="000000"/>
                  </a:solidFill>
                  <a:latin typeface="Times New Roman"/>
                </a:endParaRPr>
              </a:p>
            </p:txBody>
          </p:sp>
          <p:sp>
            <p:nvSpPr>
              <p:cNvPr id="423" name="Rectangle 31"/>
              <p:cNvSpPr/>
              <p:nvPr/>
            </p:nvSpPr>
            <p:spPr>
              <a:xfrm>
                <a:off x="993240" y="1981080"/>
                <a:ext cx="77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6</a:t>
                </a:r>
                <a:endParaRPr b="0" lang="en-US" sz="1000" spc="-1" strike="noStrike">
                  <a:solidFill>
                    <a:srgbClr val="000000"/>
                  </a:solidFill>
                  <a:latin typeface="Times New Roman"/>
                </a:endParaRPr>
              </a:p>
            </p:txBody>
          </p:sp>
          <p:sp>
            <p:nvSpPr>
              <p:cNvPr id="424" name="Rectangle 32"/>
              <p:cNvSpPr/>
              <p:nvPr/>
            </p:nvSpPr>
            <p:spPr>
              <a:xfrm>
                <a:off x="1709640" y="198108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6</a:t>
                </a:r>
                <a:endParaRPr b="0" lang="en-US" sz="1000" spc="-1" strike="noStrike">
                  <a:solidFill>
                    <a:srgbClr val="000000"/>
                  </a:solidFill>
                  <a:latin typeface="Times New Roman"/>
                </a:endParaRPr>
              </a:p>
            </p:txBody>
          </p:sp>
          <p:sp>
            <p:nvSpPr>
              <p:cNvPr id="425" name="Rectangle 33"/>
              <p:cNvSpPr/>
              <p:nvPr/>
            </p:nvSpPr>
            <p:spPr>
              <a:xfrm>
                <a:off x="952560" y="1866960"/>
                <a:ext cx="993600" cy="230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Line 34"/>
              <p:cNvSpPr/>
              <p:nvPr/>
            </p:nvSpPr>
            <p:spPr>
              <a:xfrm>
                <a:off x="2068560" y="139860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 name="Line 35"/>
              <p:cNvSpPr/>
              <p:nvPr/>
            </p:nvSpPr>
            <p:spPr>
              <a:xfrm>
                <a:off x="2068560" y="1400040"/>
                <a:ext cx="1271520" cy="3240"/>
              </a:xfrm>
              <a:prstGeom prst="line">
                <a:avLst/>
              </a:prstGeom>
              <a:ln w="0">
                <a:solidFill>
                  <a:srgbClr val="008000"/>
                </a:solidFill>
                <a:prstDash val="sysDash"/>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8" name="Line 36"/>
              <p:cNvSpPr/>
              <p:nvPr/>
            </p:nvSpPr>
            <p:spPr>
              <a:xfrm>
                <a:off x="2068560" y="140508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Line 37"/>
              <p:cNvSpPr/>
              <p:nvPr/>
            </p:nvSpPr>
            <p:spPr>
              <a:xfrm>
                <a:off x="2068560" y="140652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 name="Line 38"/>
              <p:cNvSpPr/>
              <p:nvPr/>
            </p:nvSpPr>
            <p:spPr>
              <a:xfrm>
                <a:off x="2068560" y="140976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Line 39"/>
              <p:cNvSpPr/>
              <p:nvPr/>
            </p:nvSpPr>
            <p:spPr>
              <a:xfrm>
                <a:off x="2068560" y="1411200"/>
                <a:ext cx="1271520" cy="1800"/>
              </a:xfrm>
              <a:prstGeom prst="line">
                <a:avLst/>
              </a:prstGeom>
              <a:ln w="0">
                <a:solidFill>
                  <a:srgbClr val="008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 name="Rectangle 40"/>
              <p:cNvSpPr/>
              <p:nvPr/>
            </p:nvSpPr>
            <p:spPr>
              <a:xfrm>
                <a:off x="2542680" y="128916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LDC</a:t>
                </a:r>
                <a:endParaRPr b="0" lang="en-US" sz="1000" spc="-1" strike="noStrike">
                  <a:solidFill>
                    <a:srgbClr val="000000"/>
                  </a:solidFill>
                  <a:latin typeface="Times New Roman"/>
                </a:endParaRPr>
              </a:p>
            </p:txBody>
          </p:sp>
          <p:sp>
            <p:nvSpPr>
              <p:cNvPr id="433" name="Rectangle 41"/>
              <p:cNvSpPr/>
              <p:nvPr/>
            </p:nvSpPr>
            <p:spPr>
              <a:xfrm>
                <a:off x="207288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434" name="Rectangle 42"/>
              <p:cNvSpPr/>
              <p:nvPr/>
            </p:nvSpPr>
            <p:spPr>
              <a:xfrm>
                <a:off x="308088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435" name="Rectangle 43"/>
              <p:cNvSpPr/>
              <p:nvPr/>
            </p:nvSpPr>
            <p:spPr>
              <a:xfrm>
                <a:off x="2028960" y="1292400"/>
                <a:ext cx="135396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Line 44"/>
              <p:cNvSpPr/>
              <p:nvPr/>
            </p:nvSpPr>
            <p:spPr>
              <a:xfrm>
                <a:off x="2068560" y="168588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7" name="Line 45"/>
              <p:cNvSpPr/>
              <p:nvPr/>
            </p:nvSpPr>
            <p:spPr>
              <a:xfrm>
                <a:off x="2068560" y="168912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8" name="Line 46"/>
              <p:cNvSpPr/>
              <p:nvPr/>
            </p:nvSpPr>
            <p:spPr>
              <a:xfrm>
                <a:off x="2068560" y="169056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 name="Line 47"/>
              <p:cNvSpPr/>
              <p:nvPr/>
            </p:nvSpPr>
            <p:spPr>
              <a:xfrm>
                <a:off x="2068560" y="169380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 name="Line 48"/>
              <p:cNvSpPr/>
              <p:nvPr/>
            </p:nvSpPr>
            <p:spPr>
              <a:xfrm>
                <a:off x="2068560" y="169560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1" name="Line 49"/>
              <p:cNvSpPr/>
              <p:nvPr/>
            </p:nvSpPr>
            <p:spPr>
              <a:xfrm>
                <a:off x="2068560" y="170028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 name="Rectangle 50"/>
              <p:cNvSpPr/>
              <p:nvPr/>
            </p:nvSpPr>
            <p:spPr>
              <a:xfrm>
                <a:off x="2574720" y="15778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NC</a:t>
                </a:r>
                <a:endParaRPr b="0" lang="en-US" sz="1000" spc="-1" strike="noStrike">
                  <a:solidFill>
                    <a:srgbClr val="000000"/>
                  </a:solidFill>
                  <a:latin typeface="Times New Roman"/>
                </a:endParaRPr>
              </a:p>
            </p:txBody>
          </p:sp>
          <p:sp>
            <p:nvSpPr>
              <p:cNvPr id="443" name="Rectangle 51"/>
              <p:cNvSpPr/>
              <p:nvPr/>
            </p:nvSpPr>
            <p:spPr>
              <a:xfrm>
                <a:off x="2072880" y="169380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444" name="Rectangle 52"/>
              <p:cNvSpPr/>
              <p:nvPr/>
            </p:nvSpPr>
            <p:spPr>
              <a:xfrm>
                <a:off x="3080880" y="169380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445" name="Rectangle 53"/>
              <p:cNvSpPr/>
              <p:nvPr/>
            </p:nvSpPr>
            <p:spPr>
              <a:xfrm>
                <a:off x="2028960" y="1579680"/>
                <a:ext cx="135396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Line 54"/>
              <p:cNvSpPr/>
              <p:nvPr/>
            </p:nvSpPr>
            <p:spPr>
              <a:xfrm>
                <a:off x="2068560" y="1981080"/>
                <a:ext cx="127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7" name="Rectangle 55"/>
              <p:cNvSpPr/>
              <p:nvPr/>
            </p:nvSpPr>
            <p:spPr>
              <a:xfrm>
                <a:off x="2512800" y="186372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LLCF</a:t>
                </a:r>
                <a:endParaRPr b="0" lang="en-US" sz="1000" spc="-1" strike="noStrike">
                  <a:solidFill>
                    <a:srgbClr val="000000"/>
                  </a:solidFill>
                  <a:latin typeface="Times New Roman"/>
                </a:endParaRPr>
              </a:p>
            </p:txBody>
          </p:sp>
          <p:sp>
            <p:nvSpPr>
              <p:cNvPr id="448" name="Rectangle 56"/>
              <p:cNvSpPr/>
              <p:nvPr/>
            </p:nvSpPr>
            <p:spPr>
              <a:xfrm>
                <a:off x="2072880" y="19810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449" name="Rectangle 57"/>
              <p:cNvSpPr/>
              <p:nvPr/>
            </p:nvSpPr>
            <p:spPr>
              <a:xfrm>
                <a:off x="3080880" y="19810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450" name="Rectangle 58"/>
              <p:cNvSpPr/>
              <p:nvPr/>
            </p:nvSpPr>
            <p:spPr>
              <a:xfrm>
                <a:off x="2028960" y="1866960"/>
                <a:ext cx="1353960" cy="230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Line 59"/>
              <p:cNvSpPr/>
              <p:nvPr/>
            </p:nvSpPr>
            <p:spPr>
              <a:xfrm>
                <a:off x="3505320" y="1406520"/>
                <a:ext cx="912600" cy="1440"/>
              </a:xfrm>
              <a:prstGeom prst="line">
                <a:avLst/>
              </a:prstGeom>
              <a:ln w="0">
                <a:solidFill>
                  <a:srgbClr val="008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Rectangle 60"/>
              <p:cNvSpPr/>
              <p:nvPr/>
            </p:nvSpPr>
            <p:spPr>
              <a:xfrm>
                <a:off x="3800160" y="128916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RHOC</a:t>
                </a:r>
                <a:endParaRPr b="0" lang="en-US" sz="1000" spc="-1" strike="noStrike">
                  <a:solidFill>
                    <a:srgbClr val="000000"/>
                  </a:solidFill>
                  <a:latin typeface="Times New Roman"/>
                </a:endParaRPr>
              </a:p>
            </p:txBody>
          </p:sp>
          <p:sp>
            <p:nvSpPr>
              <p:cNvPr id="453" name="Rectangle 61"/>
              <p:cNvSpPr/>
              <p:nvPr/>
            </p:nvSpPr>
            <p:spPr>
              <a:xfrm>
                <a:off x="350784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95</a:t>
                </a:r>
                <a:endParaRPr b="0" lang="en-US" sz="1000" spc="-1" strike="noStrike">
                  <a:solidFill>
                    <a:srgbClr val="000000"/>
                  </a:solidFill>
                  <a:latin typeface="Times New Roman"/>
                </a:endParaRPr>
              </a:p>
            </p:txBody>
          </p:sp>
          <p:sp>
            <p:nvSpPr>
              <p:cNvPr id="454" name="Rectangle 62"/>
              <p:cNvSpPr/>
              <p:nvPr/>
            </p:nvSpPr>
            <p:spPr>
              <a:xfrm>
                <a:off x="409536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95</a:t>
                </a:r>
                <a:endParaRPr b="0" lang="en-US" sz="1000" spc="-1" strike="noStrike">
                  <a:solidFill>
                    <a:srgbClr val="000000"/>
                  </a:solidFill>
                  <a:latin typeface="Times New Roman"/>
                </a:endParaRPr>
              </a:p>
            </p:txBody>
          </p:sp>
          <p:sp>
            <p:nvSpPr>
              <p:cNvPr id="455" name="Rectangle 63"/>
              <p:cNvSpPr/>
              <p:nvPr/>
            </p:nvSpPr>
            <p:spPr>
              <a:xfrm>
                <a:off x="346716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Line 64"/>
              <p:cNvSpPr/>
              <p:nvPr/>
            </p:nvSpPr>
            <p:spPr>
              <a:xfrm>
                <a:off x="3505320" y="168588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7" name="Line 65"/>
              <p:cNvSpPr/>
              <p:nvPr/>
            </p:nvSpPr>
            <p:spPr>
              <a:xfrm>
                <a:off x="3505320" y="168912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8" name="Line 66"/>
              <p:cNvSpPr/>
              <p:nvPr/>
            </p:nvSpPr>
            <p:spPr>
              <a:xfrm>
                <a:off x="3505320" y="169056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9" name="Line 67"/>
              <p:cNvSpPr/>
              <p:nvPr/>
            </p:nvSpPr>
            <p:spPr>
              <a:xfrm>
                <a:off x="3505320" y="169380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0" name="Line 68"/>
              <p:cNvSpPr/>
              <p:nvPr/>
            </p:nvSpPr>
            <p:spPr>
              <a:xfrm>
                <a:off x="3505320" y="169560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 name="Line 69"/>
              <p:cNvSpPr/>
              <p:nvPr/>
            </p:nvSpPr>
            <p:spPr>
              <a:xfrm>
                <a:off x="3505320" y="170028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 name="Rectangle 70"/>
              <p:cNvSpPr/>
              <p:nvPr/>
            </p:nvSpPr>
            <p:spPr>
              <a:xfrm>
                <a:off x="3769920" y="157788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CNLLC</a:t>
                </a:r>
                <a:endParaRPr b="0" lang="en-US" sz="1000" spc="-1" strike="noStrike">
                  <a:solidFill>
                    <a:srgbClr val="000000"/>
                  </a:solidFill>
                  <a:latin typeface="Times New Roman"/>
                </a:endParaRPr>
              </a:p>
            </p:txBody>
          </p:sp>
          <p:sp>
            <p:nvSpPr>
              <p:cNvPr id="463" name="Rectangle 71"/>
              <p:cNvSpPr/>
              <p:nvPr/>
            </p:nvSpPr>
            <p:spPr>
              <a:xfrm>
                <a:off x="3507840" y="169380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45</a:t>
                </a:r>
                <a:endParaRPr b="0" lang="en-US" sz="1000" spc="-1" strike="noStrike">
                  <a:solidFill>
                    <a:srgbClr val="000000"/>
                  </a:solidFill>
                  <a:latin typeface="Times New Roman"/>
                </a:endParaRPr>
              </a:p>
            </p:txBody>
          </p:sp>
          <p:sp>
            <p:nvSpPr>
              <p:cNvPr id="464" name="Rectangle 72"/>
              <p:cNvSpPr/>
              <p:nvPr/>
            </p:nvSpPr>
            <p:spPr>
              <a:xfrm>
                <a:off x="4033440" y="169380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15</a:t>
                </a:r>
                <a:endParaRPr b="0" lang="en-US" sz="1000" spc="-1" strike="noStrike">
                  <a:solidFill>
                    <a:srgbClr val="000000"/>
                  </a:solidFill>
                  <a:latin typeface="Times New Roman"/>
                </a:endParaRPr>
              </a:p>
            </p:txBody>
          </p:sp>
          <p:sp>
            <p:nvSpPr>
              <p:cNvPr id="465" name="Rectangle 73"/>
              <p:cNvSpPr/>
              <p:nvPr/>
            </p:nvSpPr>
            <p:spPr>
              <a:xfrm>
                <a:off x="3467160" y="157968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Line 74"/>
              <p:cNvSpPr/>
              <p:nvPr/>
            </p:nvSpPr>
            <p:spPr>
              <a:xfrm>
                <a:off x="4583160" y="1406520"/>
                <a:ext cx="9126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7" name="Rectangle 75"/>
              <p:cNvSpPr/>
              <p:nvPr/>
            </p:nvSpPr>
            <p:spPr>
              <a:xfrm>
                <a:off x="4941720" y="128916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T</a:t>
                </a:r>
                <a:endParaRPr b="0" lang="en-US" sz="1000" spc="-1" strike="noStrike">
                  <a:solidFill>
                    <a:srgbClr val="000000"/>
                  </a:solidFill>
                  <a:latin typeface="Times New Roman"/>
                </a:endParaRPr>
              </a:p>
            </p:txBody>
          </p:sp>
          <p:sp>
            <p:nvSpPr>
              <p:cNvPr id="468" name="Rectangle 76"/>
              <p:cNvSpPr/>
              <p:nvPr/>
            </p:nvSpPr>
            <p:spPr>
              <a:xfrm>
                <a:off x="487800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us/f</a:t>
                </a:r>
                <a:endParaRPr b="0" lang="en-US" sz="1000" spc="-1" strike="noStrike">
                  <a:solidFill>
                    <a:srgbClr val="000000"/>
                  </a:solidFill>
                  <a:latin typeface="Times New Roman"/>
                </a:endParaRPr>
              </a:p>
            </p:txBody>
          </p:sp>
          <p:sp>
            <p:nvSpPr>
              <p:cNvPr id="469" name="Rectangle 77"/>
              <p:cNvSpPr/>
              <p:nvPr/>
            </p:nvSpPr>
            <p:spPr>
              <a:xfrm>
                <a:off x="458604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50</a:t>
                </a:r>
                <a:endParaRPr b="0" lang="en-US" sz="1000" spc="-1" strike="noStrike">
                  <a:solidFill>
                    <a:srgbClr val="000000"/>
                  </a:solidFill>
                  <a:latin typeface="Times New Roman"/>
                </a:endParaRPr>
              </a:p>
            </p:txBody>
          </p:sp>
          <p:sp>
            <p:nvSpPr>
              <p:cNvPr id="470" name="Rectangle 78"/>
              <p:cNvSpPr/>
              <p:nvPr/>
            </p:nvSpPr>
            <p:spPr>
              <a:xfrm>
                <a:off x="5300280" y="140652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50</a:t>
                </a:r>
                <a:endParaRPr b="0" lang="en-US" sz="1000" spc="-1" strike="noStrike">
                  <a:solidFill>
                    <a:srgbClr val="000000"/>
                  </a:solidFill>
                  <a:latin typeface="Times New Roman"/>
                </a:endParaRPr>
              </a:p>
            </p:txBody>
          </p:sp>
          <p:sp>
            <p:nvSpPr>
              <p:cNvPr id="471" name="Rectangle 79"/>
              <p:cNvSpPr/>
              <p:nvPr/>
            </p:nvSpPr>
            <p:spPr>
              <a:xfrm>
                <a:off x="454356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Rectangle 80"/>
              <p:cNvSpPr/>
              <p:nvPr/>
            </p:nvSpPr>
            <p:spPr>
              <a:xfrm>
                <a:off x="491760" y="1143000"/>
                <a:ext cx="1067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01) BONANZA 1</a:t>
                </a:r>
                <a:endParaRPr b="0" lang="en-US" sz="1000" spc="-1" strike="noStrike">
                  <a:solidFill>
                    <a:srgbClr val="000000"/>
                  </a:solidFill>
                  <a:latin typeface="Times New Roman"/>
                </a:endParaRPr>
              </a:p>
            </p:txBody>
          </p:sp>
          <p:sp>
            <p:nvSpPr>
              <p:cNvPr id="473" name="Line 81"/>
              <p:cNvSpPr/>
              <p:nvPr/>
            </p:nvSpPr>
            <p:spPr>
              <a:xfrm>
                <a:off x="9111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4" name="Line 82"/>
              <p:cNvSpPr/>
              <p:nvPr/>
            </p:nvSpPr>
            <p:spPr>
              <a:xfrm>
                <a:off x="911160" y="243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 name="Line 83"/>
              <p:cNvSpPr/>
              <p:nvPr/>
            </p:nvSpPr>
            <p:spPr>
              <a:xfrm>
                <a:off x="911160" y="25844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 name="Line 84"/>
              <p:cNvSpPr/>
              <p:nvPr/>
            </p:nvSpPr>
            <p:spPr>
              <a:xfrm>
                <a:off x="911160" y="273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 name="Line 85"/>
              <p:cNvSpPr/>
              <p:nvPr/>
            </p:nvSpPr>
            <p:spPr>
              <a:xfrm>
                <a:off x="911160" y="28908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8" name="Line 86"/>
              <p:cNvSpPr/>
              <p:nvPr/>
            </p:nvSpPr>
            <p:spPr>
              <a:xfrm>
                <a:off x="9111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9" name="Line 87"/>
              <p:cNvSpPr/>
              <p:nvPr/>
            </p:nvSpPr>
            <p:spPr>
              <a:xfrm>
                <a:off x="911160" y="31939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0" name="Line 88"/>
              <p:cNvSpPr/>
              <p:nvPr/>
            </p:nvSpPr>
            <p:spPr>
              <a:xfrm>
                <a:off x="911160" y="33465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1" name="Line 89"/>
              <p:cNvSpPr/>
              <p:nvPr/>
            </p:nvSpPr>
            <p:spPr>
              <a:xfrm>
                <a:off x="911160" y="34988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2" name="Line 90"/>
              <p:cNvSpPr/>
              <p:nvPr/>
            </p:nvSpPr>
            <p:spPr>
              <a:xfrm>
                <a:off x="911160" y="36529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Line 91"/>
              <p:cNvSpPr/>
              <p:nvPr/>
            </p:nvSpPr>
            <p:spPr>
              <a:xfrm>
                <a:off x="9111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4" name="Line 92"/>
              <p:cNvSpPr/>
              <p:nvPr/>
            </p:nvSpPr>
            <p:spPr>
              <a:xfrm>
                <a:off x="911160" y="395748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5" name="Line 93"/>
              <p:cNvSpPr/>
              <p:nvPr/>
            </p:nvSpPr>
            <p:spPr>
              <a:xfrm>
                <a:off x="911160" y="41101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 name="Line 94"/>
              <p:cNvSpPr/>
              <p:nvPr/>
            </p:nvSpPr>
            <p:spPr>
              <a:xfrm>
                <a:off x="911160" y="42624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7" name="Line 95"/>
              <p:cNvSpPr/>
              <p:nvPr/>
            </p:nvSpPr>
            <p:spPr>
              <a:xfrm>
                <a:off x="911160" y="441468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8" name="Line 96"/>
              <p:cNvSpPr/>
              <p:nvPr/>
            </p:nvSpPr>
            <p:spPr>
              <a:xfrm>
                <a:off x="9111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9" name="Line 97"/>
              <p:cNvSpPr/>
              <p:nvPr/>
            </p:nvSpPr>
            <p:spPr>
              <a:xfrm>
                <a:off x="911160" y="47214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 name="Line 98"/>
              <p:cNvSpPr/>
              <p:nvPr/>
            </p:nvSpPr>
            <p:spPr>
              <a:xfrm>
                <a:off x="911160" y="487368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1" name="Line 99"/>
              <p:cNvSpPr/>
              <p:nvPr/>
            </p:nvSpPr>
            <p:spPr>
              <a:xfrm>
                <a:off x="911160" y="50259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2" name="Line 100"/>
              <p:cNvSpPr/>
              <p:nvPr/>
            </p:nvSpPr>
            <p:spPr>
              <a:xfrm>
                <a:off x="911160" y="51786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3" name="Line 101"/>
              <p:cNvSpPr/>
              <p:nvPr/>
            </p:nvSpPr>
            <p:spPr>
              <a:xfrm>
                <a:off x="9111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4" name="Line 102"/>
              <p:cNvSpPr/>
              <p:nvPr/>
            </p:nvSpPr>
            <p:spPr>
              <a:xfrm>
                <a:off x="911160" y="54849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5" name="Line 103"/>
              <p:cNvSpPr/>
              <p:nvPr/>
            </p:nvSpPr>
            <p:spPr>
              <a:xfrm>
                <a:off x="911160" y="56372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6" name="Line 104"/>
              <p:cNvSpPr/>
              <p:nvPr/>
            </p:nvSpPr>
            <p:spPr>
              <a:xfrm>
                <a:off x="911160" y="578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7" name="Line 105"/>
              <p:cNvSpPr/>
              <p:nvPr/>
            </p:nvSpPr>
            <p:spPr>
              <a:xfrm>
                <a:off x="911160" y="594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 name="Line 106"/>
              <p:cNvSpPr/>
              <p:nvPr/>
            </p:nvSpPr>
            <p:spPr>
              <a:xfrm>
                <a:off x="9111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9" name="Line 107"/>
              <p:cNvSpPr/>
              <p:nvPr/>
            </p:nvSpPr>
            <p:spPr>
              <a:xfrm>
                <a:off x="911160" y="624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 name="Line 108"/>
              <p:cNvSpPr/>
              <p:nvPr/>
            </p:nvSpPr>
            <p:spPr>
              <a:xfrm>
                <a:off x="911160" y="64008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Line 109"/>
              <p:cNvSpPr/>
              <p:nvPr/>
            </p:nvSpPr>
            <p:spPr>
              <a:xfrm>
                <a:off x="9111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2" name="Line 110"/>
              <p:cNvSpPr/>
              <p:nvPr/>
            </p:nvSpPr>
            <p:spPr>
              <a:xfrm>
                <a:off x="9111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 name="Line 111"/>
              <p:cNvSpPr/>
              <p:nvPr/>
            </p:nvSpPr>
            <p:spPr>
              <a:xfrm>
                <a:off x="9111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4" name="Line 112"/>
              <p:cNvSpPr/>
              <p:nvPr/>
            </p:nvSpPr>
            <p:spPr>
              <a:xfrm>
                <a:off x="9111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5" name="Line 113"/>
              <p:cNvSpPr/>
              <p:nvPr/>
            </p:nvSpPr>
            <p:spPr>
              <a:xfrm>
                <a:off x="9111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6" name="Line 114"/>
              <p:cNvSpPr/>
              <p:nvPr/>
            </p:nvSpPr>
            <p:spPr>
              <a:xfrm>
                <a:off x="9111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7" name="Line 115"/>
              <p:cNvSpPr/>
              <p:nvPr/>
            </p:nvSpPr>
            <p:spPr>
              <a:xfrm>
                <a:off x="9111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8" name="Line 116"/>
              <p:cNvSpPr/>
              <p:nvPr/>
            </p:nvSpPr>
            <p:spPr>
              <a:xfrm>
                <a:off x="9111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9" name="Line 117"/>
              <p:cNvSpPr/>
              <p:nvPr/>
            </p:nvSpPr>
            <p:spPr>
              <a:xfrm>
                <a:off x="9111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0" name="Line 118"/>
              <p:cNvSpPr/>
              <p:nvPr/>
            </p:nvSpPr>
            <p:spPr>
              <a:xfrm>
                <a:off x="199080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1" name="Line 119"/>
              <p:cNvSpPr/>
              <p:nvPr/>
            </p:nvSpPr>
            <p:spPr>
              <a:xfrm>
                <a:off x="1990800" y="24321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 name="Line 120"/>
              <p:cNvSpPr/>
              <p:nvPr/>
            </p:nvSpPr>
            <p:spPr>
              <a:xfrm>
                <a:off x="1990800" y="25844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Line 121"/>
              <p:cNvSpPr/>
              <p:nvPr/>
            </p:nvSpPr>
            <p:spPr>
              <a:xfrm>
                <a:off x="1990800" y="27385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4" name="Line 122"/>
              <p:cNvSpPr/>
              <p:nvPr/>
            </p:nvSpPr>
            <p:spPr>
              <a:xfrm>
                <a:off x="1990800" y="28908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5" name="Line 123"/>
              <p:cNvSpPr/>
              <p:nvPr/>
            </p:nvSpPr>
            <p:spPr>
              <a:xfrm>
                <a:off x="1990800" y="30416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6" name="Line 124"/>
              <p:cNvSpPr/>
              <p:nvPr/>
            </p:nvSpPr>
            <p:spPr>
              <a:xfrm>
                <a:off x="1990800" y="31939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7" name="Line 125"/>
              <p:cNvSpPr/>
              <p:nvPr/>
            </p:nvSpPr>
            <p:spPr>
              <a:xfrm>
                <a:off x="1990800" y="33465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 name="Line 126"/>
              <p:cNvSpPr/>
              <p:nvPr/>
            </p:nvSpPr>
            <p:spPr>
              <a:xfrm>
                <a:off x="1990800" y="34988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9" name="Line 127"/>
              <p:cNvSpPr/>
              <p:nvPr/>
            </p:nvSpPr>
            <p:spPr>
              <a:xfrm>
                <a:off x="1990800" y="36529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0" name="Line 128"/>
              <p:cNvSpPr/>
              <p:nvPr/>
            </p:nvSpPr>
            <p:spPr>
              <a:xfrm>
                <a:off x="199080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1" name="Line 129"/>
              <p:cNvSpPr/>
              <p:nvPr/>
            </p:nvSpPr>
            <p:spPr>
              <a:xfrm>
                <a:off x="1990800" y="395748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2" name="Line 130"/>
              <p:cNvSpPr/>
              <p:nvPr/>
            </p:nvSpPr>
            <p:spPr>
              <a:xfrm>
                <a:off x="1990800" y="41101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3" name="Line 131"/>
              <p:cNvSpPr/>
              <p:nvPr/>
            </p:nvSpPr>
            <p:spPr>
              <a:xfrm>
                <a:off x="1990800" y="42624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4" name="Line 132"/>
              <p:cNvSpPr/>
              <p:nvPr/>
            </p:nvSpPr>
            <p:spPr>
              <a:xfrm>
                <a:off x="1990800" y="441468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5" name="Line 133"/>
              <p:cNvSpPr/>
              <p:nvPr/>
            </p:nvSpPr>
            <p:spPr>
              <a:xfrm>
                <a:off x="1990800" y="45687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6" name="Line 134"/>
              <p:cNvSpPr/>
              <p:nvPr/>
            </p:nvSpPr>
            <p:spPr>
              <a:xfrm>
                <a:off x="1990800" y="47214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7" name="Line 135"/>
              <p:cNvSpPr/>
              <p:nvPr/>
            </p:nvSpPr>
            <p:spPr>
              <a:xfrm>
                <a:off x="1990800" y="487368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8" name="Line 136"/>
              <p:cNvSpPr/>
              <p:nvPr/>
            </p:nvSpPr>
            <p:spPr>
              <a:xfrm>
                <a:off x="1990800" y="50259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9" name="Line 137"/>
              <p:cNvSpPr/>
              <p:nvPr/>
            </p:nvSpPr>
            <p:spPr>
              <a:xfrm>
                <a:off x="1990800" y="51786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0" name="Line 138"/>
              <p:cNvSpPr/>
              <p:nvPr/>
            </p:nvSpPr>
            <p:spPr>
              <a:xfrm>
                <a:off x="199080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1" name="Line 139"/>
              <p:cNvSpPr/>
              <p:nvPr/>
            </p:nvSpPr>
            <p:spPr>
              <a:xfrm>
                <a:off x="1990800" y="54849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2" name="Line 140"/>
              <p:cNvSpPr/>
              <p:nvPr/>
            </p:nvSpPr>
            <p:spPr>
              <a:xfrm>
                <a:off x="1990800" y="56372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3" name="Line 141"/>
              <p:cNvSpPr/>
              <p:nvPr/>
            </p:nvSpPr>
            <p:spPr>
              <a:xfrm>
                <a:off x="1990800" y="578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4" name="Line 142"/>
              <p:cNvSpPr/>
              <p:nvPr/>
            </p:nvSpPr>
            <p:spPr>
              <a:xfrm>
                <a:off x="1990800" y="59421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5" name="Line 143"/>
              <p:cNvSpPr/>
              <p:nvPr/>
            </p:nvSpPr>
            <p:spPr>
              <a:xfrm>
                <a:off x="1990800" y="609444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6" name="Line 144"/>
              <p:cNvSpPr/>
              <p:nvPr/>
            </p:nvSpPr>
            <p:spPr>
              <a:xfrm>
                <a:off x="1990800" y="62485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7" name="Line 145"/>
              <p:cNvSpPr/>
              <p:nvPr/>
            </p:nvSpPr>
            <p:spPr>
              <a:xfrm>
                <a:off x="1990800" y="64008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8" name="Line 146"/>
              <p:cNvSpPr/>
              <p:nvPr/>
            </p:nvSpPr>
            <p:spPr>
              <a:xfrm>
                <a:off x="199080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9" name="Line 147"/>
              <p:cNvSpPr/>
              <p:nvPr/>
            </p:nvSpPr>
            <p:spPr>
              <a:xfrm>
                <a:off x="1990800" y="30416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0" name="Line 148"/>
              <p:cNvSpPr/>
              <p:nvPr/>
            </p:nvSpPr>
            <p:spPr>
              <a:xfrm>
                <a:off x="199080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1" name="Line 149"/>
              <p:cNvSpPr/>
              <p:nvPr/>
            </p:nvSpPr>
            <p:spPr>
              <a:xfrm>
                <a:off x="1990800" y="45687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2" name="Line 150"/>
              <p:cNvSpPr/>
              <p:nvPr/>
            </p:nvSpPr>
            <p:spPr>
              <a:xfrm>
                <a:off x="199080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3" name="Line 151"/>
              <p:cNvSpPr/>
              <p:nvPr/>
            </p:nvSpPr>
            <p:spPr>
              <a:xfrm>
                <a:off x="1990800" y="609444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4" name="Line 152"/>
              <p:cNvSpPr/>
              <p:nvPr/>
            </p:nvSpPr>
            <p:spPr>
              <a:xfrm>
                <a:off x="199080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5" name="Line 153"/>
              <p:cNvSpPr/>
              <p:nvPr/>
            </p:nvSpPr>
            <p:spPr>
              <a:xfrm>
                <a:off x="199080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6" name="Line 154"/>
              <p:cNvSpPr/>
              <p:nvPr/>
            </p:nvSpPr>
            <p:spPr>
              <a:xfrm>
                <a:off x="199080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7" name="Line 155"/>
              <p:cNvSpPr/>
              <p:nvPr/>
            </p:nvSpPr>
            <p:spPr>
              <a:xfrm>
                <a:off x="34257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8" name="Line 156"/>
              <p:cNvSpPr/>
              <p:nvPr/>
            </p:nvSpPr>
            <p:spPr>
              <a:xfrm>
                <a:off x="3425760" y="243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9" name="Line 157"/>
              <p:cNvSpPr/>
              <p:nvPr/>
            </p:nvSpPr>
            <p:spPr>
              <a:xfrm>
                <a:off x="3425760" y="25844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0" name="Line 158"/>
              <p:cNvSpPr/>
              <p:nvPr/>
            </p:nvSpPr>
            <p:spPr>
              <a:xfrm>
                <a:off x="3425760" y="273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Line 159"/>
              <p:cNvSpPr/>
              <p:nvPr/>
            </p:nvSpPr>
            <p:spPr>
              <a:xfrm>
                <a:off x="3425760" y="28908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2" name="Line 160"/>
              <p:cNvSpPr/>
              <p:nvPr/>
            </p:nvSpPr>
            <p:spPr>
              <a:xfrm>
                <a:off x="34257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3" name="Line 161"/>
              <p:cNvSpPr/>
              <p:nvPr/>
            </p:nvSpPr>
            <p:spPr>
              <a:xfrm>
                <a:off x="3425760" y="31939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4" name="Line 162"/>
              <p:cNvSpPr/>
              <p:nvPr/>
            </p:nvSpPr>
            <p:spPr>
              <a:xfrm>
                <a:off x="3425760" y="33465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5" name="Line 163"/>
              <p:cNvSpPr/>
              <p:nvPr/>
            </p:nvSpPr>
            <p:spPr>
              <a:xfrm>
                <a:off x="3425760" y="34988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6" name="Line 164"/>
              <p:cNvSpPr/>
              <p:nvPr/>
            </p:nvSpPr>
            <p:spPr>
              <a:xfrm>
                <a:off x="3425760" y="36529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Line 165"/>
              <p:cNvSpPr/>
              <p:nvPr/>
            </p:nvSpPr>
            <p:spPr>
              <a:xfrm>
                <a:off x="34257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8" name="Line 166"/>
              <p:cNvSpPr/>
              <p:nvPr/>
            </p:nvSpPr>
            <p:spPr>
              <a:xfrm>
                <a:off x="3425760" y="395748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 name="Line 167"/>
              <p:cNvSpPr/>
              <p:nvPr/>
            </p:nvSpPr>
            <p:spPr>
              <a:xfrm>
                <a:off x="3425760" y="41101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Line 168"/>
              <p:cNvSpPr/>
              <p:nvPr/>
            </p:nvSpPr>
            <p:spPr>
              <a:xfrm>
                <a:off x="3425760" y="42624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1" name="Line 169"/>
              <p:cNvSpPr/>
              <p:nvPr/>
            </p:nvSpPr>
            <p:spPr>
              <a:xfrm>
                <a:off x="3425760" y="441468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2" name="Line 170"/>
              <p:cNvSpPr/>
              <p:nvPr/>
            </p:nvSpPr>
            <p:spPr>
              <a:xfrm>
                <a:off x="34257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3" name="Line 171"/>
              <p:cNvSpPr/>
              <p:nvPr/>
            </p:nvSpPr>
            <p:spPr>
              <a:xfrm>
                <a:off x="3425760" y="47214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4" name="Line 172"/>
              <p:cNvSpPr/>
              <p:nvPr/>
            </p:nvSpPr>
            <p:spPr>
              <a:xfrm>
                <a:off x="3425760" y="487368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5" name="Line 173"/>
              <p:cNvSpPr/>
              <p:nvPr/>
            </p:nvSpPr>
            <p:spPr>
              <a:xfrm>
                <a:off x="3425760" y="50259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6" name="Line 174"/>
              <p:cNvSpPr/>
              <p:nvPr/>
            </p:nvSpPr>
            <p:spPr>
              <a:xfrm>
                <a:off x="3425760" y="51786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7" name="Line 175"/>
              <p:cNvSpPr/>
              <p:nvPr/>
            </p:nvSpPr>
            <p:spPr>
              <a:xfrm>
                <a:off x="34257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8" name="Line 176"/>
              <p:cNvSpPr/>
              <p:nvPr/>
            </p:nvSpPr>
            <p:spPr>
              <a:xfrm>
                <a:off x="3425760" y="54849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Line 177"/>
              <p:cNvSpPr/>
              <p:nvPr/>
            </p:nvSpPr>
            <p:spPr>
              <a:xfrm>
                <a:off x="3425760" y="56372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0" name="Line 178"/>
              <p:cNvSpPr/>
              <p:nvPr/>
            </p:nvSpPr>
            <p:spPr>
              <a:xfrm>
                <a:off x="3425760" y="578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1" name="Line 179"/>
              <p:cNvSpPr/>
              <p:nvPr/>
            </p:nvSpPr>
            <p:spPr>
              <a:xfrm>
                <a:off x="3425760" y="594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2" name="Line 180"/>
              <p:cNvSpPr/>
              <p:nvPr/>
            </p:nvSpPr>
            <p:spPr>
              <a:xfrm>
                <a:off x="34257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3" name="Line 181"/>
              <p:cNvSpPr/>
              <p:nvPr/>
            </p:nvSpPr>
            <p:spPr>
              <a:xfrm>
                <a:off x="3425760" y="624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4" name="Line 182"/>
              <p:cNvSpPr/>
              <p:nvPr/>
            </p:nvSpPr>
            <p:spPr>
              <a:xfrm>
                <a:off x="3425760" y="64008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5" name="Line 183"/>
              <p:cNvSpPr/>
              <p:nvPr/>
            </p:nvSpPr>
            <p:spPr>
              <a:xfrm>
                <a:off x="34257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6" name="Line 184"/>
              <p:cNvSpPr/>
              <p:nvPr/>
            </p:nvSpPr>
            <p:spPr>
              <a:xfrm>
                <a:off x="34257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7" name="Line 185"/>
              <p:cNvSpPr/>
              <p:nvPr/>
            </p:nvSpPr>
            <p:spPr>
              <a:xfrm>
                <a:off x="34257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8" name="Line 186"/>
              <p:cNvSpPr/>
              <p:nvPr/>
            </p:nvSpPr>
            <p:spPr>
              <a:xfrm>
                <a:off x="34257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 name="Line 187"/>
              <p:cNvSpPr/>
              <p:nvPr/>
            </p:nvSpPr>
            <p:spPr>
              <a:xfrm>
                <a:off x="34257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0" name="Line 188"/>
              <p:cNvSpPr/>
              <p:nvPr/>
            </p:nvSpPr>
            <p:spPr>
              <a:xfrm>
                <a:off x="34257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1" name="Line 189"/>
              <p:cNvSpPr/>
              <p:nvPr/>
            </p:nvSpPr>
            <p:spPr>
              <a:xfrm>
                <a:off x="34257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2" name="Line 190"/>
              <p:cNvSpPr/>
              <p:nvPr/>
            </p:nvSpPr>
            <p:spPr>
              <a:xfrm>
                <a:off x="34257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3" name="Line 191"/>
              <p:cNvSpPr/>
              <p:nvPr/>
            </p:nvSpPr>
            <p:spPr>
              <a:xfrm>
                <a:off x="34257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4" name="Line 192"/>
              <p:cNvSpPr/>
              <p:nvPr/>
            </p:nvSpPr>
            <p:spPr>
              <a:xfrm>
                <a:off x="4505400" y="22795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5" name="Line 193"/>
              <p:cNvSpPr/>
              <p:nvPr/>
            </p:nvSpPr>
            <p:spPr>
              <a:xfrm>
                <a:off x="4505400" y="24321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 name="Line 194"/>
              <p:cNvSpPr/>
              <p:nvPr/>
            </p:nvSpPr>
            <p:spPr>
              <a:xfrm>
                <a:off x="4505400" y="25844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Line 195"/>
              <p:cNvSpPr/>
              <p:nvPr/>
            </p:nvSpPr>
            <p:spPr>
              <a:xfrm>
                <a:off x="4505400" y="27385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8" name="Line 196"/>
              <p:cNvSpPr/>
              <p:nvPr/>
            </p:nvSpPr>
            <p:spPr>
              <a:xfrm>
                <a:off x="4505400" y="28908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9" name="Line 197"/>
              <p:cNvSpPr/>
              <p:nvPr/>
            </p:nvSpPr>
            <p:spPr>
              <a:xfrm>
                <a:off x="4505400" y="30416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0" name="Line 198"/>
              <p:cNvSpPr/>
              <p:nvPr/>
            </p:nvSpPr>
            <p:spPr>
              <a:xfrm>
                <a:off x="4505400" y="31939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1" name="Line 199"/>
              <p:cNvSpPr/>
              <p:nvPr/>
            </p:nvSpPr>
            <p:spPr>
              <a:xfrm>
                <a:off x="4505400" y="33465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2" name="Line 200"/>
              <p:cNvSpPr/>
              <p:nvPr/>
            </p:nvSpPr>
            <p:spPr>
              <a:xfrm>
                <a:off x="4505400" y="34988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Line 201"/>
              <p:cNvSpPr/>
              <p:nvPr/>
            </p:nvSpPr>
            <p:spPr>
              <a:xfrm>
                <a:off x="4505400" y="36529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4" name="Line 202"/>
              <p:cNvSpPr/>
              <p:nvPr/>
            </p:nvSpPr>
            <p:spPr>
              <a:xfrm>
                <a:off x="4505400" y="38052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5" name="Line 203"/>
              <p:cNvSpPr/>
              <p:nvPr/>
            </p:nvSpPr>
            <p:spPr>
              <a:xfrm>
                <a:off x="4505400" y="395748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6" name="Line 204"/>
              <p:cNvSpPr/>
              <p:nvPr/>
            </p:nvSpPr>
            <p:spPr>
              <a:xfrm>
                <a:off x="4505400" y="41101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7" name="Line 205"/>
              <p:cNvSpPr/>
              <p:nvPr/>
            </p:nvSpPr>
            <p:spPr>
              <a:xfrm>
                <a:off x="4505400" y="42624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8" name="Line 206"/>
              <p:cNvSpPr/>
              <p:nvPr/>
            </p:nvSpPr>
            <p:spPr>
              <a:xfrm>
                <a:off x="4505400" y="4414680"/>
                <a:ext cx="1076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9" name="Line 207"/>
              <p:cNvSpPr/>
              <p:nvPr/>
            </p:nvSpPr>
            <p:spPr>
              <a:xfrm>
                <a:off x="4505400" y="456876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0" name="Line 208"/>
              <p:cNvSpPr/>
              <p:nvPr/>
            </p:nvSpPr>
            <p:spPr>
              <a:xfrm>
                <a:off x="4505400" y="47214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1" name="Line 209"/>
              <p:cNvSpPr/>
              <p:nvPr/>
            </p:nvSpPr>
            <p:spPr>
              <a:xfrm>
                <a:off x="4505400" y="487368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2" name="Line 210"/>
              <p:cNvSpPr/>
              <p:nvPr/>
            </p:nvSpPr>
            <p:spPr>
              <a:xfrm>
                <a:off x="4505400" y="502596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3" name="Line 211"/>
              <p:cNvSpPr/>
              <p:nvPr/>
            </p:nvSpPr>
            <p:spPr>
              <a:xfrm>
                <a:off x="4505400" y="51786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4" name="Line 212"/>
              <p:cNvSpPr/>
              <p:nvPr/>
            </p:nvSpPr>
            <p:spPr>
              <a:xfrm>
                <a:off x="4505400" y="53323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5" name="Line 213"/>
              <p:cNvSpPr/>
              <p:nvPr/>
            </p:nvSpPr>
            <p:spPr>
              <a:xfrm>
                <a:off x="4505400" y="54849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Line 214"/>
              <p:cNvSpPr/>
              <p:nvPr/>
            </p:nvSpPr>
            <p:spPr>
              <a:xfrm>
                <a:off x="4505400" y="56372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7" name="Line 215"/>
              <p:cNvSpPr/>
              <p:nvPr/>
            </p:nvSpPr>
            <p:spPr>
              <a:xfrm>
                <a:off x="4505400" y="57895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8" name="Line 216"/>
              <p:cNvSpPr/>
              <p:nvPr/>
            </p:nvSpPr>
            <p:spPr>
              <a:xfrm>
                <a:off x="4505400" y="59421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9" name="Line 217"/>
              <p:cNvSpPr/>
              <p:nvPr/>
            </p:nvSpPr>
            <p:spPr>
              <a:xfrm>
                <a:off x="4505400" y="6094440"/>
                <a:ext cx="1076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0" name="Line 218"/>
              <p:cNvSpPr/>
              <p:nvPr/>
            </p:nvSpPr>
            <p:spPr>
              <a:xfrm>
                <a:off x="4505400" y="62485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1" name="Line 219"/>
              <p:cNvSpPr/>
              <p:nvPr/>
            </p:nvSpPr>
            <p:spPr>
              <a:xfrm>
                <a:off x="4505400" y="64008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2" name="Line 220"/>
              <p:cNvSpPr/>
              <p:nvPr/>
            </p:nvSpPr>
            <p:spPr>
              <a:xfrm>
                <a:off x="4505400" y="227952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3" name="Line 221"/>
              <p:cNvSpPr/>
              <p:nvPr/>
            </p:nvSpPr>
            <p:spPr>
              <a:xfrm>
                <a:off x="4505400" y="3041640"/>
                <a:ext cx="1076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Line 222"/>
              <p:cNvSpPr/>
              <p:nvPr/>
            </p:nvSpPr>
            <p:spPr>
              <a:xfrm>
                <a:off x="4505400" y="380520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5" name="Line 223"/>
              <p:cNvSpPr/>
              <p:nvPr/>
            </p:nvSpPr>
            <p:spPr>
              <a:xfrm>
                <a:off x="4505400" y="456876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6" name="Line 224"/>
              <p:cNvSpPr/>
              <p:nvPr/>
            </p:nvSpPr>
            <p:spPr>
              <a:xfrm>
                <a:off x="4505400" y="533232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7" name="Line 225"/>
              <p:cNvSpPr/>
              <p:nvPr/>
            </p:nvSpPr>
            <p:spPr>
              <a:xfrm>
                <a:off x="4505400" y="6094440"/>
                <a:ext cx="10764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8" name="Line 226"/>
              <p:cNvSpPr/>
              <p:nvPr/>
            </p:nvSpPr>
            <p:spPr>
              <a:xfrm>
                <a:off x="907920" y="2279520"/>
                <a:ext cx="467388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9" name="Line 227"/>
              <p:cNvSpPr/>
              <p:nvPr/>
            </p:nvSpPr>
            <p:spPr>
              <a:xfrm>
                <a:off x="911160" y="3803760"/>
                <a:ext cx="4670640" cy="3240"/>
              </a:xfrm>
              <a:prstGeom prst="line">
                <a:avLst/>
              </a:prstGeom>
              <a:ln w="205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0" name="Line 228"/>
              <p:cNvSpPr/>
              <p:nvPr/>
            </p:nvSpPr>
            <p:spPr>
              <a:xfrm>
                <a:off x="911160" y="5327640"/>
                <a:ext cx="4670640" cy="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Line 229"/>
              <p:cNvSpPr/>
              <p:nvPr/>
            </p:nvSpPr>
            <p:spPr>
              <a:xfrm>
                <a:off x="9111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Line 230"/>
              <p:cNvSpPr/>
              <p:nvPr/>
            </p:nvSpPr>
            <p:spPr>
              <a:xfrm>
                <a:off x="19908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Line 231"/>
              <p:cNvSpPr/>
              <p:nvPr/>
            </p:nvSpPr>
            <p:spPr>
              <a:xfrm>
                <a:off x="11286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Line 232"/>
              <p:cNvSpPr/>
              <p:nvPr/>
            </p:nvSpPr>
            <p:spPr>
              <a:xfrm>
                <a:off x="13431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Line 233"/>
              <p:cNvSpPr/>
              <p:nvPr/>
            </p:nvSpPr>
            <p:spPr>
              <a:xfrm>
                <a:off x="15588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Line 234"/>
              <p:cNvSpPr/>
              <p:nvPr/>
            </p:nvSpPr>
            <p:spPr>
              <a:xfrm>
                <a:off x="1773360" y="2127240"/>
                <a:ext cx="288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Line 235"/>
              <p:cNvSpPr/>
              <p:nvPr/>
            </p:nvSpPr>
            <p:spPr>
              <a:xfrm>
                <a:off x="19908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Line 236"/>
              <p:cNvSpPr/>
              <p:nvPr/>
            </p:nvSpPr>
            <p:spPr>
              <a:xfrm>
                <a:off x="3425760" y="2127240"/>
                <a:ext cx="180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Line 237"/>
              <p:cNvSpPr/>
              <p:nvPr/>
            </p:nvSpPr>
            <p:spPr>
              <a:xfrm>
                <a:off x="1990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Line 238"/>
              <p:cNvSpPr/>
              <p:nvPr/>
            </p:nvSpPr>
            <p:spPr>
              <a:xfrm>
                <a:off x="20732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Line 239"/>
              <p:cNvSpPr/>
              <p:nvPr/>
            </p:nvSpPr>
            <p:spPr>
              <a:xfrm>
                <a:off x="21337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Line 240"/>
              <p:cNvSpPr/>
              <p:nvPr/>
            </p:nvSpPr>
            <p:spPr>
              <a:xfrm>
                <a:off x="2179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Line 241"/>
              <p:cNvSpPr/>
              <p:nvPr/>
            </p:nvSpPr>
            <p:spPr>
              <a:xfrm>
                <a:off x="2216160" y="2127240"/>
                <a:ext cx="32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Line 242"/>
              <p:cNvSpPr/>
              <p:nvPr/>
            </p:nvSpPr>
            <p:spPr>
              <a:xfrm>
                <a:off x="22496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Line 243"/>
              <p:cNvSpPr/>
              <p:nvPr/>
            </p:nvSpPr>
            <p:spPr>
              <a:xfrm>
                <a:off x="22780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Line 244"/>
              <p:cNvSpPr/>
              <p:nvPr/>
            </p:nvSpPr>
            <p:spPr>
              <a:xfrm>
                <a:off x="23018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Line 245"/>
              <p:cNvSpPr/>
              <p:nvPr/>
            </p:nvSpPr>
            <p:spPr>
              <a:xfrm>
                <a:off x="23241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Line 246"/>
              <p:cNvSpPr/>
              <p:nvPr/>
            </p:nvSpPr>
            <p:spPr>
              <a:xfrm>
                <a:off x="24670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Line 247"/>
              <p:cNvSpPr/>
              <p:nvPr/>
            </p:nvSpPr>
            <p:spPr>
              <a:xfrm>
                <a:off x="25495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Line 248"/>
              <p:cNvSpPr/>
              <p:nvPr/>
            </p:nvSpPr>
            <p:spPr>
              <a:xfrm>
                <a:off x="26114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Line 249"/>
              <p:cNvSpPr/>
              <p:nvPr/>
            </p:nvSpPr>
            <p:spPr>
              <a:xfrm>
                <a:off x="2657520" y="2127240"/>
                <a:ext cx="32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Line 250"/>
              <p:cNvSpPr/>
              <p:nvPr/>
            </p:nvSpPr>
            <p:spPr>
              <a:xfrm>
                <a:off x="26938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Line 251"/>
              <p:cNvSpPr/>
              <p:nvPr/>
            </p:nvSpPr>
            <p:spPr>
              <a:xfrm>
                <a:off x="27255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Line 252"/>
              <p:cNvSpPr/>
              <p:nvPr/>
            </p:nvSpPr>
            <p:spPr>
              <a:xfrm>
                <a:off x="27543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Line 253"/>
              <p:cNvSpPr/>
              <p:nvPr/>
            </p:nvSpPr>
            <p:spPr>
              <a:xfrm>
                <a:off x="27795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Line 254"/>
              <p:cNvSpPr/>
              <p:nvPr/>
            </p:nvSpPr>
            <p:spPr>
              <a:xfrm>
                <a:off x="28018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Line 255"/>
              <p:cNvSpPr/>
              <p:nvPr/>
            </p:nvSpPr>
            <p:spPr>
              <a:xfrm>
                <a:off x="29462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Line 256"/>
              <p:cNvSpPr/>
              <p:nvPr/>
            </p:nvSpPr>
            <p:spPr>
              <a:xfrm>
                <a:off x="30322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Line 257"/>
              <p:cNvSpPr/>
              <p:nvPr/>
            </p:nvSpPr>
            <p:spPr>
              <a:xfrm>
                <a:off x="30891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Line 258"/>
              <p:cNvSpPr/>
              <p:nvPr/>
            </p:nvSpPr>
            <p:spPr>
              <a:xfrm>
                <a:off x="31352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Line 259"/>
              <p:cNvSpPr/>
              <p:nvPr/>
            </p:nvSpPr>
            <p:spPr>
              <a:xfrm>
                <a:off x="31748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Line 260"/>
              <p:cNvSpPr/>
              <p:nvPr/>
            </p:nvSpPr>
            <p:spPr>
              <a:xfrm>
                <a:off x="32083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Line 261"/>
              <p:cNvSpPr/>
              <p:nvPr/>
            </p:nvSpPr>
            <p:spPr>
              <a:xfrm>
                <a:off x="32338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Line 262"/>
              <p:cNvSpPr/>
              <p:nvPr/>
            </p:nvSpPr>
            <p:spPr>
              <a:xfrm>
                <a:off x="32590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Line 263"/>
              <p:cNvSpPr/>
              <p:nvPr/>
            </p:nvSpPr>
            <p:spPr>
              <a:xfrm>
                <a:off x="32781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Line 264"/>
              <p:cNvSpPr/>
              <p:nvPr/>
            </p:nvSpPr>
            <p:spPr>
              <a:xfrm>
                <a:off x="3425760" y="2127240"/>
                <a:ext cx="180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Line 265"/>
              <p:cNvSpPr/>
              <p:nvPr/>
            </p:nvSpPr>
            <p:spPr>
              <a:xfrm>
                <a:off x="45054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Line 266"/>
              <p:cNvSpPr/>
              <p:nvPr/>
            </p:nvSpPr>
            <p:spPr>
              <a:xfrm>
                <a:off x="35337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Line 267"/>
              <p:cNvSpPr/>
              <p:nvPr/>
            </p:nvSpPr>
            <p:spPr>
              <a:xfrm>
                <a:off x="36417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Line 268"/>
              <p:cNvSpPr/>
              <p:nvPr/>
            </p:nvSpPr>
            <p:spPr>
              <a:xfrm>
                <a:off x="37512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Line 269"/>
              <p:cNvSpPr/>
              <p:nvPr/>
            </p:nvSpPr>
            <p:spPr>
              <a:xfrm>
                <a:off x="38577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Line 270"/>
              <p:cNvSpPr/>
              <p:nvPr/>
            </p:nvSpPr>
            <p:spPr>
              <a:xfrm>
                <a:off x="3965400" y="2127240"/>
                <a:ext cx="1800" cy="4425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Line 271"/>
              <p:cNvSpPr/>
              <p:nvPr/>
            </p:nvSpPr>
            <p:spPr>
              <a:xfrm>
                <a:off x="40734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Line 272"/>
              <p:cNvSpPr/>
              <p:nvPr/>
            </p:nvSpPr>
            <p:spPr>
              <a:xfrm>
                <a:off x="41799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Line 273"/>
              <p:cNvSpPr/>
              <p:nvPr/>
            </p:nvSpPr>
            <p:spPr>
              <a:xfrm>
                <a:off x="42879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Line 274"/>
              <p:cNvSpPr/>
              <p:nvPr/>
            </p:nvSpPr>
            <p:spPr>
              <a:xfrm>
                <a:off x="43956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Line 275"/>
              <p:cNvSpPr/>
              <p:nvPr/>
            </p:nvSpPr>
            <p:spPr>
              <a:xfrm>
                <a:off x="45054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Line 276"/>
              <p:cNvSpPr/>
              <p:nvPr/>
            </p:nvSpPr>
            <p:spPr>
              <a:xfrm>
                <a:off x="46116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Line 277"/>
              <p:cNvSpPr/>
              <p:nvPr/>
            </p:nvSpPr>
            <p:spPr>
              <a:xfrm>
                <a:off x="47196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Line 278"/>
              <p:cNvSpPr/>
              <p:nvPr/>
            </p:nvSpPr>
            <p:spPr>
              <a:xfrm>
                <a:off x="48276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Line 279"/>
              <p:cNvSpPr/>
              <p:nvPr/>
            </p:nvSpPr>
            <p:spPr>
              <a:xfrm>
                <a:off x="49356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Line 280"/>
              <p:cNvSpPr/>
              <p:nvPr/>
            </p:nvSpPr>
            <p:spPr>
              <a:xfrm>
                <a:off x="5041800" y="2127240"/>
                <a:ext cx="1800" cy="4425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Line 281"/>
              <p:cNvSpPr/>
              <p:nvPr/>
            </p:nvSpPr>
            <p:spPr>
              <a:xfrm>
                <a:off x="51498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Line 282"/>
              <p:cNvSpPr/>
              <p:nvPr/>
            </p:nvSpPr>
            <p:spPr>
              <a:xfrm>
                <a:off x="52592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Line 283"/>
              <p:cNvSpPr/>
              <p:nvPr/>
            </p:nvSpPr>
            <p:spPr>
              <a:xfrm>
                <a:off x="5365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Line 284"/>
              <p:cNvSpPr/>
              <p:nvPr/>
            </p:nvSpPr>
            <p:spPr>
              <a:xfrm>
                <a:off x="5473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Rectangle 285"/>
              <p:cNvSpPr/>
              <p:nvPr/>
            </p:nvSpPr>
            <p:spPr>
              <a:xfrm>
                <a:off x="491760" y="222552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700</a:t>
                </a:r>
                <a:endParaRPr b="0" lang="en-US" sz="1000" spc="-1" strike="noStrike">
                  <a:solidFill>
                    <a:srgbClr val="000000"/>
                  </a:solidFill>
                  <a:latin typeface="Times New Roman"/>
                </a:endParaRPr>
              </a:p>
            </p:txBody>
          </p:sp>
          <p:sp>
            <p:nvSpPr>
              <p:cNvPr id="678" name="Rectangle 286"/>
              <p:cNvSpPr/>
              <p:nvPr/>
            </p:nvSpPr>
            <p:spPr>
              <a:xfrm>
                <a:off x="491760" y="375300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800</a:t>
                </a:r>
                <a:endParaRPr b="0" lang="en-US" sz="1000" spc="-1" strike="noStrike">
                  <a:solidFill>
                    <a:srgbClr val="000000"/>
                  </a:solidFill>
                  <a:latin typeface="Times New Roman"/>
                </a:endParaRPr>
              </a:p>
            </p:txBody>
          </p:sp>
          <p:sp>
            <p:nvSpPr>
              <p:cNvPr id="679" name="Rectangle 287"/>
              <p:cNvSpPr/>
              <p:nvPr/>
            </p:nvSpPr>
            <p:spPr>
              <a:xfrm>
                <a:off x="491760" y="527688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900</a:t>
                </a:r>
                <a:endParaRPr b="0" lang="en-US" sz="1000" spc="-1" strike="noStrike">
                  <a:solidFill>
                    <a:srgbClr val="000000"/>
                  </a:solidFill>
                  <a:latin typeface="Times New Roman"/>
                </a:endParaRPr>
              </a:p>
            </p:txBody>
          </p:sp>
        </p:grpSp>
        <p:sp>
          <p:nvSpPr>
            <p:cNvPr id="680" name="Freeform 288"/>
            <p:cNvSpPr/>
            <p:nvPr/>
          </p:nvSpPr>
          <p:spPr>
            <a:xfrm>
              <a:off x="2201760" y="2157480"/>
              <a:ext cx="1123920" cy="4379760"/>
            </a:xfrm>
            <a:custGeom>
              <a:avLst/>
              <a:gdLst>
                <a:gd name="textAreaLeft" fmla="*/ 0 w 1123920"/>
                <a:gd name="textAreaRight" fmla="*/ 1124280 w 1123920"/>
                <a:gd name="textAreaTop" fmla="*/ 0 h 4379760"/>
                <a:gd name="textAreaBottom" fmla="*/ 4380120 h 4379760"/>
              </a:gdLst>
              <a:ahLst/>
              <a:rect l="textAreaLeft" t="textAreaTop" r="textAreaRight" b="textAreaBottom"/>
              <a:pathLst>
                <a:path w="665" h="2582">
                  <a:moveTo>
                    <a:pt x="159" y="0"/>
                  </a:moveTo>
                  <a:lnTo>
                    <a:pt x="155" y="4"/>
                  </a:lnTo>
                  <a:lnTo>
                    <a:pt x="149" y="9"/>
                  </a:lnTo>
                  <a:lnTo>
                    <a:pt x="147" y="13"/>
                  </a:lnTo>
                  <a:lnTo>
                    <a:pt x="147" y="18"/>
                  </a:lnTo>
                  <a:lnTo>
                    <a:pt x="147" y="22"/>
                  </a:lnTo>
                  <a:lnTo>
                    <a:pt x="149" y="27"/>
                  </a:lnTo>
                  <a:lnTo>
                    <a:pt x="153" y="31"/>
                  </a:lnTo>
                  <a:lnTo>
                    <a:pt x="153" y="36"/>
                  </a:lnTo>
                  <a:lnTo>
                    <a:pt x="155" y="40"/>
                  </a:lnTo>
                  <a:lnTo>
                    <a:pt x="155" y="45"/>
                  </a:lnTo>
                  <a:lnTo>
                    <a:pt x="155" y="49"/>
                  </a:lnTo>
                  <a:lnTo>
                    <a:pt x="155" y="54"/>
                  </a:lnTo>
                  <a:lnTo>
                    <a:pt x="149" y="58"/>
                  </a:lnTo>
                  <a:lnTo>
                    <a:pt x="147" y="63"/>
                  </a:lnTo>
                  <a:lnTo>
                    <a:pt x="147" y="67"/>
                  </a:lnTo>
                  <a:lnTo>
                    <a:pt x="151" y="72"/>
                  </a:lnTo>
                  <a:lnTo>
                    <a:pt x="153" y="76"/>
                  </a:lnTo>
                  <a:lnTo>
                    <a:pt x="157" y="81"/>
                  </a:lnTo>
                  <a:lnTo>
                    <a:pt x="153" y="85"/>
                  </a:lnTo>
                  <a:lnTo>
                    <a:pt x="151" y="90"/>
                  </a:lnTo>
                  <a:lnTo>
                    <a:pt x="153" y="94"/>
                  </a:lnTo>
                  <a:lnTo>
                    <a:pt x="153" y="99"/>
                  </a:lnTo>
                  <a:lnTo>
                    <a:pt x="151" y="103"/>
                  </a:lnTo>
                  <a:lnTo>
                    <a:pt x="149" y="108"/>
                  </a:lnTo>
                  <a:lnTo>
                    <a:pt x="149" y="112"/>
                  </a:lnTo>
                  <a:lnTo>
                    <a:pt x="149" y="117"/>
                  </a:lnTo>
                  <a:lnTo>
                    <a:pt x="149" y="121"/>
                  </a:lnTo>
                  <a:lnTo>
                    <a:pt x="151" y="126"/>
                  </a:lnTo>
                  <a:lnTo>
                    <a:pt x="151" y="130"/>
                  </a:lnTo>
                  <a:lnTo>
                    <a:pt x="153" y="135"/>
                  </a:lnTo>
                  <a:lnTo>
                    <a:pt x="153" y="139"/>
                  </a:lnTo>
                  <a:lnTo>
                    <a:pt x="149" y="144"/>
                  </a:lnTo>
                  <a:lnTo>
                    <a:pt x="140" y="148"/>
                  </a:lnTo>
                  <a:lnTo>
                    <a:pt x="136" y="153"/>
                  </a:lnTo>
                  <a:lnTo>
                    <a:pt x="130" y="157"/>
                  </a:lnTo>
                  <a:lnTo>
                    <a:pt x="127" y="162"/>
                  </a:lnTo>
                  <a:lnTo>
                    <a:pt x="125" y="166"/>
                  </a:lnTo>
                  <a:lnTo>
                    <a:pt x="123" y="171"/>
                  </a:lnTo>
                  <a:lnTo>
                    <a:pt x="127" y="175"/>
                  </a:lnTo>
                  <a:lnTo>
                    <a:pt x="138" y="180"/>
                  </a:lnTo>
                  <a:lnTo>
                    <a:pt x="159" y="184"/>
                  </a:lnTo>
                  <a:lnTo>
                    <a:pt x="172" y="189"/>
                  </a:lnTo>
                  <a:lnTo>
                    <a:pt x="210" y="193"/>
                  </a:lnTo>
                  <a:lnTo>
                    <a:pt x="236" y="198"/>
                  </a:lnTo>
                  <a:lnTo>
                    <a:pt x="357" y="202"/>
                  </a:lnTo>
                  <a:lnTo>
                    <a:pt x="416" y="207"/>
                  </a:lnTo>
                  <a:lnTo>
                    <a:pt x="435" y="211"/>
                  </a:lnTo>
                  <a:lnTo>
                    <a:pt x="435" y="216"/>
                  </a:lnTo>
                  <a:lnTo>
                    <a:pt x="421" y="220"/>
                  </a:lnTo>
                  <a:lnTo>
                    <a:pt x="418" y="225"/>
                  </a:lnTo>
                  <a:lnTo>
                    <a:pt x="431" y="229"/>
                  </a:lnTo>
                  <a:lnTo>
                    <a:pt x="461" y="234"/>
                  </a:lnTo>
                  <a:lnTo>
                    <a:pt x="493" y="238"/>
                  </a:lnTo>
                  <a:lnTo>
                    <a:pt x="508" y="243"/>
                  </a:lnTo>
                  <a:lnTo>
                    <a:pt x="520" y="247"/>
                  </a:lnTo>
                  <a:lnTo>
                    <a:pt x="548" y="252"/>
                  </a:lnTo>
                  <a:lnTo>
                    <a:pt x="574" y="256"/>
                  </a:lnTo>
                  <a:lnTo>
                    <a:pt x="603" y="261"/>
                  </a:lnTo>
                  <a:lnTo>
                    <a:pt x="614" y="265"/>
                  </a:lnTo>
                  <a:lnTo>
                    <a:pt x="622" y="270"/>
                  </a:lnTo>
                  <a:lnTo>
                    <a:pt x="633" y="274"/>
                  </a:lnTo>
                  <a:lnTo>
                    <a:pt x="637" y="279"/>
                  </a:lnTo>
                  <a:lnTo>
                    <a:pt x="642" y="283"/>
                  </a:lnTo>
                  <a:lnTo>
                    <a:pt x="646" y="288"/>
                  </a:lnTo>
                  <a:lnTo>
                    <a:pt x="650" y="292"/>
                  </a:lnTo>
                  <a:lnTo>
                    <a:pt x="654" y="297"/>
                  </a:lnTo>
                  <a:lnTo>
                    <a:pt x="659" y="301"/>
                  </a:lnTo>
                  <a:lnTo>
                    <a:pt x="659" y="306"/>
                  </a:lnTo>
                  <a:lnTo>
                    <a:pt x="659" y="310"/>
                  </a:lnTo>
                  <a:lnTo>
                    <a:pt x="661" y="315"/>
                  </a:lnTo>
                  <a:lnTo>
                    <a:pt x="665" y="319"/>
                  </a:lnTo>
                  <a:lnTo>
                    <a:pt x="665" y="324"/>
                  </a:lnTo>
                  <a:lnTo>
                    <a:pt x="665" y="328"/>
                  </a:lnTo>
                  <a:lnTo>
                    <a:pt x="665" y="333"/>
                  </a:lnTo>
                  <a:lnTo>
                    <a:pt x="665" y="337"/>
                  </a:lnTo>
                  <a:lnTo>
                    <a:pt x="659" y="342"/>
                  </a:lnTo>
                  <a:lnTo>
                    <a:pt x="648" y="346"/>
                  </a:lnTo>
                  <a:lnTo>
                    <a:pt x="633" y="351"/>
                  </a:lnTo>
                  <a:lnTo>
                    <a:pt x="625" y="355"/>
                  </a:lnTo>
                  <a:lnTo>
                    <a:pt x="618" y="360"/>
                  </a:lnTo>
                  <a:lnTo>
                    <a:pt x="605" y="364"/>
                  </a:lnTo>
                  <a:lnTo>
                    <a:pt x="595" y="369"/>
                  </a:lnTo>
                  <a:lnTo>
                    <a:pt x="593" y="373"/>
                  </a:lnTo>
                  <a:lnTo>
                    <a:pt x="588" y="378"/>
                  </a:lnTo>
                  <a:lnTo>
                    <a:pt x="580" y="382"/>
                  </a:lnTo>
                  <a:lnTo>
                    <a:pt x="580" y="387"/>
                  </a:lnTo>
                  <a:lnTo>
                    <a:pt x="578" y="391"/>
                  </a:lnTo>
                  <a:lnTo>
                    <a:pt x="578" y="396"/>
                  </a:lnTo>
                  <a:lnTo>
                    <a:pt x="584" y="400"/>
                  </a:lnTo>
                  <a:lnTo>
                    <a:pt x="595" y="405"/>
                  </a:lnTo>
                  <a:lnTo>
                    <a:pt x="612" y="409"/>
                  </a:lnTo>
                  <a:lnTo>
                    <a:pt x="627" y="414"/>
                  </a:lnTo>
                  <a:lnTo>
                    <a:pt x="642" y="418"/>
                  </a:lnTo>
                  <a:lnTo>
                    <a:pt x="654" y="423"/>
                  </a:lnTo>
                  <a:lnTo>
                    <a:pt x="659" y="427"/>
                  </a:lnTo>
                  <a:lnTo>
                    <a:pt x="659" y="432"/>
                  </a:lnTo>
                  <a:lnTo>
                    <a:pt x="650" y="436"/>
                  </a:lnTo>
                  <a:lnTo>
                    <a:pt x="642" y="441"/>
                  </a:lnTo>
                  <a:lnTo>
                    <a:pt x="629" y="445"/>
                  </a:lnTo>
                  <a:lnTo>
                    <a:pt x="599" y="450"/>
                  </a:lnTo>
                  <a:lnTo>
                    <a:pt x="582" y="454"/>
                  </a:lnTo>
                  <a:lnTo>
                    <a:pt x="565" y="459"/>
                  </a:lnTo>
                  <a:lnTo>
                    <a:pt x="552" y="463"/>
                  </a:lnTo>
                  <a:lnTo>
                    <a:pt x="550" y="468"/>
                  </a:lnTo>
                  <a:lnTo>
                    <a:pt x="550" y="472"/>
                  </a:lnTo>
                  <a:lnTo>
                    <a:pt x="561" y="477"/>
                  </a:lnTo>
                  <a:lnTo>
                    <a:pt x="569" y="481"/>
                  </a:lnTo>
                  <a:lnTo>
                    <a:pt x="586" y="486"/>
                  </a:lnTo>
                  <a:lnTo>
                    <a:pt x="612" y="490"/>
                  </a:lnTo>
                  <a:lnTo>
                    <a:pt x="631" y="495"/>
                  </a:lnTo>
                  <a:lnTo>
                    <a:pt x="644" y="499"/>
                  </a:lnTo>
                  <a:lnTo>
                    <a:pt x="650" y="504"/>
                  </a:lnTo>
                  <a:lnTo>
                    <a:pt x="650" y="508"/>
                  </a:lnTo>
                  <a:lnTo>
                    <a:pt x="646" y="512"/>
                  </a:lnTo>
                  <a:lnTo>
                    <a:pt x="627" y="517"/>
                  </a:lnTo>
                  <a:lnTo>
                    <a:pt x="614" y="521"/>
                  </a:lnTo>
                  <a:lnTo>
                    <a:pt x="597" y="526"/>
                  </a:lnTo>
                  <a:lnTo>
                    <a:pt x="586" y="530"/>
                  </a:lnTo>
                  <a:lnTo>
                    <a:pt x="580" y="535"/>
                  </a:lnTo>
                  <a:lnTo>
                    <a:pt x="565" y="539"/>
                  </a:lnTo>
                  <a:lnTo>
                    <a:pt x="559" y="544"/>
                  </a:lnTo>
                  <a:lnTo>
                    <a:pt x="548" y="548"/>
                  </a:lnTo>
                  <a:lnTo>
                    <a:pt x="546" y="553"/>
                  </a:lnTo>
                  <a:lnTo>
                    <a:pt x="535" y="557"/>
                  </a:lnTo>
                  <a:lnTo>
                    <a:pt x="531" y="562"/>
                  </a:lnTo>
                  <a:lnTo>
                    <a:pt x="540" y="566"/>
                  </a:lnTo>
                  <a:lnTo>
                    <a:pt x="554" y="571"/>
                  </a:lnTo>
                  <a:lnTo>
                    <a:pt x="567" y="575"/>
                  </a:lnTo>
                  <a:lnTo>
                    <a:pt x="582" y="580"/>
                  </a:lnTo>
                  <a:lnTo>
                    <a:pt x="601" y="584"/>
                  </a:lnTo>
                  <a:lnTo>
                    <a:pt x="612" y="589"/>
                  </a:lnTo>
                  <a:lnTo>
                    <a:pt x="627" y="593"/>
                  </a:lnTo>
                  <a:lnTo>
                    <a:pt x="639" y="598"/>
                  </a:lnTo>
                  <a:lnTo>
                    <a:pt x="642" y="602"/>
                  </a:lnTo>
                  <a:lnTo>
                    <a:pt x="648" y="607"/>
                  </a:lnTo>
                  <a:lnTo>
                    <a:pt x="650" y="611"/>
                  </a:lnTo>
                  <a:lnTo>
                    <a:pt x="650" y="616"/>
                  </a:lnTo>
                  <a:lnTo>
                    <a:pt x="650" y="620"/>
                  </a:lnTo>
                  <a:lnTo>
                    <a:pt x="650" y="625"/>
                  </a:lnTo>
                  <a:lnTo>
                    <a:pt x="642" y="629"/>
                  </a:lnTo>
                  <a:lnTo>
                    <a:pt x="635" y="634"/>
                  </a:lnTo>
                  <a:lnTo>
                    <a:pt x="622" y="638"/>
                  </a:lnTo>
                  <a:lnTo>
                    <a:pt x="605" y="643"/>
                  </a:lnTo>
                  <a:lnTo>
                    <a:pt x="601" y="647"/>
                  </a:lnTo>
                  <a:lnTo>
                    <a:pt x="605" y="652"/>
                  </a:lnTo>
                  <a:lnTo>
                    <a:pt x="608" y="656"/>
                  </a:lnTo>
                  <a:lnTo>
                    <a:pt x="614" y="661"/>
                  </a:lnTo>
                  <a:lnTo>
                    <a:pt x="616" y="665"/>
                  </a:lnTo>
                  <a:lnTo>
                    <a:pt x="622" y="670"/>
                  </a:lnTo>
                  <a:lnTo>
                    <a:pt x="625" y="674"/>
                  </a:lnTo>
                  <a:lnTo>
                    <a:pt x="625" y="679"/>
                  </a:lnTo>
                  <a:lnTo>
                    <a:pt x="629" y="683"/>
                  </a:lnTo>
                  <a:lnTo>
                    <a:pt x="633" y="688"/>
                  </a:lnTo>
                  <a:lnTo>
                    <a:pt x="631" y="692"/>
                  </a:lnTo>
                  <a:lnTo>
                    <a:pt x="629" y="697"/>
                  </a:lnTo>
                  <a:lnTo>
                    <a:pt x="605" y="701"/>
                  </a:lnTo>
                  <a:lnTo>
                    <a:pt x="595" y="706"/>
                  </a:lnTo>
                  <a:lnTo>
                    <a:pt x="593" y="710"/>
                  </a:lnTo>
                  <a:lnTo>
                    <a:pt x="597" y="715"/>
                  </a:lnTo>
                  <a:lnTo>
                    <a:pt x="599" y="719"/>
                  </a:lnTo>
                  <a:lnTo>
                    <a:pt x="599" y="724"/>
                  </a:lnTo>
                  <a:lnTo>
                    <a:pt x="595" y="728"/>
                  </a:lnTo>
                  <a:lnTo>
                    <a:pt x="588" y="733"/>
                  </a:lnTo>
                  <a:lnTo>
                    <a:pt x="578" y="737"/>
                  </a:lnTo>
                  <a:lnTo>
                    <a:pt x="567" y="742"/>
                  </a:lnTo>
                  <a:lnTo>
                    <a:pt x="561" y="746"/>
                  </a:lnTo>
                  <a:lnTo>
                    <a:pt x="561" y="751"/>
                  </a:lnTo>
                  <a:lnTo>
                    <a:pt x="548" y="755"/>
                  </a:lnTo>
                  <a:lnTo>
                    <a:pt x="537" y="760"/>
                  </a:lnTo>
                  <a:lnTo>
                    <a:pt x="533" y="764"/>
                  </a:lnTo>
                  <a:lnTo>
                    <a:pt x="529" y="769"/>
                  </a:lnTo>
                  <a:lnTo>
                    <a:pt x="518" y="773"/>
                  </a:lnTo>
                  <a:lnTo>
                    <a:pt x="514" y="778"/>
                  </a:lnTo>
                  <a:lnTo>
                    <a:pt x="510" y="782"/>
                  </a:lnTo>
                  <a:lnTo>
                    <a:pt x="508" y="787"/>
                  </a:lnTo>
                  <a:lnTo>
                    <a:pt x="503" y="791"/>
                  </a:lnTo>
                  <a:lnTo>
                    <a:pt x="499" y="796"/>
                  </a:lnTo>
                  <a:lnTo>
                    <a:pt x="495" y="800"/>
                  </a:lnTo>
                  <a:lnTo>
                    <a:pt x="493" y="805"/>
                  </a:lnTo>
                  <a:lnTo>
                    <a:pt x="484" y="809"/>
                  </a:lnTo>
                  <a:lnTo>
                    <a:pt x="472" y="814"/>
                  </a:lnTo>
                  <a:lnTo>
                    <a:pt x="467" y="818"/>
                  </a:lnTo>
                  <a:lnTo>
                    <a:pt x="461" y="823"/>
                  </a:lnTo>
                  <a:lnTo>
                    <a:pt x="429" y="827"/>
                  </a:lnTo>
                  <a:lnTo>
                    <a:pt x="404" y="832"/>
                  </a:lnTo>
                  <a:lnTo>
                    <a:pt x="382" y="836"/>
                  </a:lnTo>
                  <a:lnTo>
                    <a:pt x="355" y="841"/>
                  </a:lnTo>
                  <a:lnTo>
                    <a:pt x="329" y="845"/>
                  </a:lnTo>
                  <a:lnTo>
                    <a:pt x="323" y="850"/>
                  </a:lnTo>
                  <a:lnTo>
                    <a:pt x="306" y="854"/>
                  </a:lnTo>
                  <a:lnTo>
                    <a:pt x="293" y="859"/>
                  </a:lnTo>
                  <a:lnTo>
                    <a:pt x="300" y="863"/>
                  </a:lnTo>
                  <a:lnTo>
                    <a:pt x="308" y="868"/>
                  </a:lnTo>
                  <a:lnTo>
                    <a:pt x="314" y="872"/>
                  </a:lnTo>
                  <a:lnTo>
                    <a:pt x="323" y="877"/>
                  </a:lnTo>
                  <a:lnTo>
                    <a:pt x="351" y="881"/>
                  </a:lnTo>
                  <a:lnTo>
                    <a:pt x="365" y="886"/>
                  </a:lnTo>
                  <a:lnTo>
                    <a:pt x="391" y="890"/>
                  </a:lnTo>
                  <a:lnTo>
                    <a:pt x="414" y="895"/>
                  </a:lnTo>
                  <a:lnTo>
                    <a:pt x="433" y="899"/>
                  </a:lnTo>
                  <a:lnTo>
                    <a:pt x="459" y="904"/>
                  </a:lnTo>
                  <a:lnTo>
                    <a:pt x="491" y="908"/>
                  </a:lnTo>
                  <a:lnTo>
                    <a:pt x="510" y="913"/>
                  </a:lnTo>
                  <a:lnTo>
                    <a:pt x="518" y="917"/>
                  </a:lnTo>
                  <a:lnTo>
                    <a:pt x="540" y="922"/>
                  </a:lnTo>
                  <a:lnTo>
                    <a:pt x="557" y="926"/>
                  </a:lnTo>
                  <a:lnTo>
                    <a:pt x="567" y="931"/>
                  </a:lnTo>
                  <a:lnTo>
                    <a:pt x="574" y="935"/>
                  </a:lnTo>
                  <a:lnTo>
                    <a:pt x="580" y="940"/>
                  </a:lnTo>
                  <a:lnTo>
                    <a:pt x="584" y="944"/>
                  </a:lnTo>
                  <a:lnTo>
                    <a:pt x="584" y="949"/>
                  </a:lnTo>
                  <a:lnTo>
                    <a:pt x="582" y="953"/>
                  </a:lnTo>
                  <a:lnTo>
                    <a:pt x="565" y="958"/>
                  </a:lnTo>
                  <a:lnTo>
                    <a:pt x="554" y="962"/>
                  </a:lnTo>
                  <a:lnTo>
                    <a:pt x="531" y="967"/>
                  </a:lnTo>
                  <a:lnTo>
                    <a:pt x="482" y="971"/>
                  </a:lnTo>
                  <a:lnTo>
                    <a:pt x="455" y="976"/>
                  </a:lnTo>
                  <a:lnTo>
                    <a:pt x="427" y="980"/>
                  </a:lnTo>
                  <a:lnTo>
                    <a:pt x="399" y="985"/>
                  </a:lnTo>
                  <a:lnTo>
                    <a:pt x="355" y="989"/>
                  </a:lnTo>
                  <a:lnTo>
                    <a:pt x="329" y="994"/>
                  </a:lnTo>
                  <a:lnTo>
                    <a:pt x="272" y="998"/>
                  </a:lnTo>
                  <a:lnTo>
                    <a:pt x="246" y="1003"/>
                  </a:lnTo>
                  <a:lnTo>
                    <a:pt x="238" y="1007"/>
                  </a:lnTo>
                  <a:lnTo>
                    <a:pt x="238" y="1012"/>
                  </a:lnTo>
                  <a:lnTo>
                    <a:pt x="251" y="1016"/>
                  </a:lnTo>
                  <a:lnTo>
                    <a:pt x="272" y="1021"/>
                  </a:lnTo>
                  <a:lnTo>
                    <a:pt x="287" y="1025"/>
                  </a:lnTo>
                  <a:lnTo>
                    <a:pt x="300" y="1030"/>
                  </a:lnTo>
                  <a:lnTo>
                    <a:pt x="308" y="1034"/>
                  </a:lnTo>
                  <a:lnTo>
                    <a:pt x="312" y="1039"/>
                  </a:lnTo>
                  <a:lnTo>
                    <a:pt x="340" y="1043"/>
                  </a:lnTo>
                  <a:lnTo>
                    <a:pt x="359" y="1048"/>
                  </a:lnTo>
                  <a:lnTo>
                    <a:pt x="365" y="1052"/>
                  </a:lnTo>
                  <a:lnTo>
                    <a:pt x="372" y="1057"/>
                  </a:lnTo>
                  <a:lnTo>
                    <a:pt x="361" y="1061"/>
                  </a:lnTo>
                  <a:lnTo>
                    <a:pt x="344" y="1066"/>
                  </a:lnTo>
                  <a:lnTo>
                    <a:pt x="331" y="1070"/>
                  </a:lnTo>
                  <a:lnTo>
                    <a:pt x="325" y="1075"/>
                  </a:lnTo>
                  <a:lnTo>
                    <a:pt x="314" y="1079"/>
                  </a:lnTo>
                  <a:lnTo>
                    <a:pt x="310" y="1084"/>
                  </a:lnTo>
                  <a:lnTo>
                    <a:pt x="304" y="1088"/>
                  </a:lnTo>
                  <a:lnTo>
                    <a:pt x="300" y="1093"/>
                  </a:lnTo>
                  <a:lnTo>
                    <a:pt x="302" y="1097"/>
                  </a:lnTo>
                  <a:lnTo>
                    <a:pt x="306" y="1102"/>
                  </a:lnTo>
                  <a:lnTo>
                    <a:pt x="308" y="1106"/>
                  </a:lnTo>
                  <a:lnTo>
                    <a:pt x="312" y="1111"/>
                  </a:lnTo>
                  <a:lnTo>
                    <a:pt x="321" y="1115"/>
                  </a:lnTo>
                  <a:lnTo>
                    <a:pt x="329" y="1120"/>
                  </a:lnTo>
                  <a:lnTo>
                    <a:pt x="334" y="1124"/>
                  </a:lnTo>
                  <a:lnTo>
                    <a:pt x="340" y="1129"/>
                  </a:lnTo>
                  <a:lnTo>
                    <a:pt x="342" y="1133"/>
                  </a:lnTo>
                  <a:lnTo>
                    <a:pt x="346" y="1138"/>
                  </a:lnTo>
                  <a:lnTo>
                    <a:pt x="346" y="1142"/>
                  </a:lnTo>
                  <a:lnTo>
                    <a:pt x="344" y="1147"/>
                  </a:lnTo>
                  <a:lnTo>
                    <a:pt x="338" y="1151"/>
                  </a:lnTo>
                  <a:lnTo>
                    <a:pt x="325" y="1156"/>
                  </a:lnTo>
                  <a:lnTo>
                    <a:pt x="321" y="1160"/>
                  </a:lnTo>
                  <a:lnTo>
                    <a:pt x="317" y="1165"/>
                  </a:lnTo>
                  <a:lnTo>
                    <a:pt x="314" y="1169"/>
                  </a:lnTo>
                  <a:lnTo>
                    <a:pt x="314" y="1174"/>
                  </a:lnTo>
                  <a:lnTo>
                    <a:pt x="317" y="1178"/>
                  </a:lnTo>
                  <a:lnTo>
                    <a:pt x="327" y="1183"/>
                  </a:lnTo>
                  <a:lnTo>
                    <a:pt x="346" y="1187"/>
                  </a:lnTo>
                  <a:lnTo>
                    <a:pt x="355" y="1192"/>
                  </a:lnTo>
                  <a:lnTo>
                    <a:pt x="370" y="1196"/>
                  </a:lnTo>
                  <a:lnTo>
                    <a:pt x="384" y="1201"/>
                  </a:lnTo>
                  <a:lnTo>
                    <a:pt x="393" y="1205"/>
                  </a:lnTo>
                  <a:lnTo>
                    <a:pt x="397" y="1210"/>
                  </a:lnTo>
                  <a:lnTo>
                    <a:pt x="389" y="1214"/>
                  </a:lnTo>
                  <a:lnTo>
                    <a:pt x="363" y="1219"/>
                  </a:lnTo>
                  <a:lnTo>
                    <a:pt x="336" y="1223"/>
                  </a:lnTo>
                  <a:lnTo>
                    <a:pt x="276" y="1228"/>
                  </a:lnTo>
                  <a:lnTo>
                    <a:pt x="242" y="1232"/>
                  </a:lnTo>
                  <a:lnTo>
                    <a:pt x="189" y="1237"/>
                  </a:lnTo>
                  <a:lnTo>
                    <a:pt x="153" y="1241"/>
                  </a:lnTo>
                  <a:lnTo>
                    <a:pt x="147" y="1246"/>
                  </a:lnTo>
                  <a:lnTo>
                    <a:pt x="140" y="1250"/>
                  </a:lnTo>
                  <a:lnTo>
                    <a:pt x="140" y="1255"/>
                  </a:lnTo>
                  <a:lnTo>
                    <a:pt x="140" y="1259"/>
                  </a:lnTo>
                  <a:lnTo>
                    <a:pt x="140" y="1264"/>
                  </a:lnTo>
                  <a:lnTo>
                    <a:pt x="140" y="1268"/>
                  </a:lnTo>
                  <a:lnTo>
                    <a:pt x="149" y="1273"/>
                  </a:lnTo>
                  <a:lnTo>
                    <a:pt x="153" y="1277"/>
                  </a:lnTo>
                  <a:lnTo>
                    <a:pt x="155" y="1282"/>
                  </a:lnTo>
                  <a:lnTo>
                    <a:pt x="157" y="1286"/>
                  </a:lnTo>
                  <a:lnTo>
                    <a:pt x="161" y="1291"/>
                  </a:lnTo>
                  <a:lnTo>
                    <a:pt x="161" y="1295"/>
                  </a:lnTo>
                  <a:lnTo>
                    <a:pt x="159" y="1300"/>
                  </a:lnTo>
                  <a:lnTo>
                    <a:pt x="153" y="1304"/>
                  </a:lnTo>
                  <a:lnTo>
                    <a:pt x="149" y="1309"/>
                  </a:lnTo>
                  <a:lnTo>
                    <a:pt x="140" y="1313"/>
                  </a:lnTo>
                  <a:lnTo>
                    <a:pt x="134" y="1318"/>
                  </a:lnTo>
                  <a:lnTo>
                    <a:pt x="127" y="1322"/>
                  </a:lnTo>
                  <a:lnTo>
                    <a:pt x="125" y="1327"/>
                  </a:lnTo>
                  <a:lnTo>
                    <a:pt x="123" y="1331"/>
                  </a:lnTo>
                  <a:lnTo>
                    <a:pt x="119" y="1336"/>
                  </a:lnTo>
                  <a:lnTo>
                    <a:pt x="119" y="1340"/>
                  </a:lnTo>
                  <a:lnTo>
                    <a:pt x="119" y="1345"/>
                  </a:lnTo>
                  <a:lnTo>
                    <a:pt x="117" y="1349"/>
                  </a:lnTo>
                  <a:lnTo>
                    <a:pt x="115" y="1354"/>
                  </a:lnTo>
                  <a:lnTo>
                    <a:pt x="115" y="1358"/>
                  </a:lnTo>
                  <a:lnTo>
                    <a:pt x="108" y="1363"/>
                  </a:lnTo>
                  <a:lnTo>
                    <a:pt x="98" y="1367"/>
                  </a:lnTo>
                  <a:lnTo>
                    <a:pt x="87" y="1372"/>
                  </a:lnTo>
                  <a:lnTo>
                    <a:pt x="81" y="1376"/>
                  </a:lnTo>
                  <a:lnTo>
                    <a:pt x="66" y="1381"/>
                  </a:lnTo>
                  <a:lnTo>
                    <a:pt x="64" y="1385"/>
                  </a:lnTo>
                  <a:lnTo>
                    <a:pt x="64" y="1390"/>
                  </a:lnTo>
                  <a:lnTo>
                    <a:pt x="64" y="1394"/>
                  </a:lnTo>
                  <a:lnTo>
                    <a:pt x="64" y="1399"/>
                  </a:lnTo>
                  <a:lnTo>
                    <a:pt x="64" y="1403"/>
                  </a:lnTo>
                  <a:lnTo>
                    <a:pt x="64" y="1408"/>
                  </a:lnTo>
                  <a:lnTo>
                    <a:pt x="64" y="1412"/>
                  </a:lnTo>
                  <a:lnTo>
                    <a:pt x="59" y="1417"/>
                  </a:lnTo>
                  <a:lnTo>
                    <a:pt x="59" y="1421"/>
                  </a:lnTo>
                  <a:lnTo>
                    <a:pt x="59" y="1426"/>
                  </a:lnTo>
                  <a:lnTo>
                    <a:pt x="59" y="1430"/>
                  </a:lnTo>
                  <a:lnTo>
                    <a:pt x="59" y="1435"/>
                  </a:lnTo>
                  <a:lnTo>
                    <a:pt x="62" y="1439"/>
                  </a:lnTo>
                  <a:lnTo>
                    <a:pt x="64" y="1444"/>
                  </a:lnTo>
                  <a:lnTo>
                    <a:pt x="66" y="1448"/>
                  </a:lnTo>
                  <a:lnTo>
                    <a:pt x="68" y="1453"/>
                  </a:lnTo>
                  <a:lnTo>
                    <a:pt x="68" y="1457"/>
                  </a:lnTo>
                  <a:lnTo>
                    <a:pt x="70" y="1462"/>
                  </a:lnTo>
                  <a:lnTo>
                    <a:pt x="68" y="1466"/>
                  </a:lnTo>
                  <a:lnTo>
                    <a:pt x="64" y="1471"/>
                  </a:lnTo>
                  <a:lnTo>
                    <a:pt x="59" y="1475"/>
                  </a:lnTo>
                  <a:lnTo>
                    <a:pt x="55" y="1480"/>
                  </a:lnTo>
                  <a:lnTo>
                    <a:pt x="53" y="1484"/>
                  </a:lnTo>
                  <a:lnTo>
                    <a:pt x="53" y="1489"/>
                  </a:lnTo>
                  <a:lnTo>
                    <a:pt x="53" y="1493"/>
                  </a:lnTo>
                  <a:lnTo>
                    <a:pt x="53" y="1498"/>
                  </a:lnTo>
                  <a:lnTo>
                    <a:pt x="57" y="1502"/>
                  </a:lnTo>
                  <a:lnTo>
                    <a:pt x="62" y="1507"/>
                  </a:lnTo>
                  <a:lnTo>
                    <a:pt x="68" y="1511"/>
                  </a:lnTo>
                  <a:lnTo>
                    <a:pt x="70" y="1516"/>
                  </a:lnTo>
                  <a:lnTo>
                    <a:pt x="76" y="1520"/>
                  </a:lnTo>
                  <a:lnTo>
                    <a:pt x="83" y="1525"/>
                  </a:lnTo>
                  <a:lnTo>
                    <a:pt x="83" y="1529"/>
                  </a:lnTo>
                  <a:lnTo>
                    <a:pt x="83" y="1534"/>
                  </a:lnTo>
                  <a:lnTo>
                    <a:pt x="76" y="1538"/>
                  </a:lnTo>
                  <a:lnTo>
                    <a:pt x="68" y="1543"/>
                  </a:lnTo>
                  <a:lnTo>
                    <a:pt x="55" y="1547"/>
                  </a:lnTo>
                  <a:lnTo>
                    <a:pt x="51" y="1552"/>
                  </a:lnTo>
                  <a:lnTo>
                    <a:pt x="42" y="1556"/>
                  </a:lnTo>
                  <a:lnTo>
                    <a:pt x="32" y="1560"/>
                  </a:lnTo>
                  <a:lnTo>
                    <a:pt x="26" y="1565"/>
                  </a:lnTo>
                  <a:lnTo>
                    <a:pt x="19" y="1569"/>
                  </a:lnTo>
                  <a:lnTo>
                    <a:pt x="19" y="1574"/>
                  </a:lnTo>
                  <a:lnTo>
                    <a:pt x="23" y="1578"/>
                  </a:lnTo>
                  <a:lnTo>
                    <a:pt x="23" y="1583"/>
                  </a:lnTo>
                  <a:lnTo>
                    <a:pt x="23" y="1587"/>
                  </a:lnTo>
                  <a:lnTo>
                    <a:pt x="21" y="1592"/>
                  </a:lnTo>
                  <a:lnTo>
                    <a:pt x="17" y="1596"/>
                  </a:lnTo>
                  <a:lnTo>
                    <a:pt x="11" y="1601"/>
                  </a:lnTo>
                  <a:lnTo>
                    <a:pt x="9" y="1605"/>
                  </a:lnTo>
                  <a:lnTo>
                    <a:pt x="6" y="1610"/>
                  </a:lnTo>
                  <a:lnTo>
                    <a:pt x="4" y="1614"/>
                  </a:lnTo>
                  <a:lnTo>
                    <a:pt x="2" y="1619"/>
                  </a:lnTo>
                  <a:lnTo>
                    <a:pt x="2" y="1623"/>
                  </a:lnTo>
                  <a:lnTo>
                    <a:pt x="2" y="1628"/>
                  </a:lnTo>
                  <a:lnTo>
                    <a:pt x="0" y="1632"/>
                  </a:lnTo>
                  <a:lnTo>
                    <a:pt x="0" y="1637"/>
                  </a:lnTo>
                  <a:lnTo>
                    <a:pt x="0" y="1641"/>
                  </a:lnTo>
                  <a:lnTo>
                    <a:pt x="0" y="1646"/>
                  </a:lnTo>
                  <a:lnTo>
                    <a:pt x="0" y="1650"/>
                  </a:lnTo>
                  <a:lnTo>
                    <a:pt x="2" y="1655"/>
                  </a:lnTo>
                  <a:lnTo>
                    <a:pt x="6" y="1659"/>
                  </a:lnTo>
                  <a:lnTo>
                    <a:pt x="6" y="1664"/>
                  </a:lnTo>
                  <a:lnTo>
                    <a:pt x="13" y="1668"/>
                  </a:lnTo>
                  <a:lnTo>
                    <a:pt x="15" y="1673"/>
                  </a:lnTo>
                  <a:lnTo>
                    <a:pt x="19" y="1677"/>
                  </a:lnTo>
                  <a:lnTo>
                    <a:pt x="23" y="1682"/>
                  </a:lnTo>
                  <a:lnTo>
                    <a:pt x="23" y="1686"/>
                  </a:lnTo>
                  <a:lnTo>
                    <a:pt x="21" y="1691"/>
                  </a:lnTo>
                  <a:lnTo>
                    <a:pt x="19" y="1695"/>
                  </a:lnTo>
                  <a:lnTo>
                    <a:pt x="19" y="1700"/>
                  </a:lnTo>
                  <a:lnTo>
                    <a:pt x="21" y="1704"/>
                  </a:lnTo>
                  <a:lnTo>
                    <a:pt x="23" y="1709"/>
                  </a:lnTo>
                  <a:lnTo>
                    <a:pt x="23" y="1713"/>
                  </a:lnTo>
                  <a:lnTo>
                    <a:pt x="26" y="1718"/>
                  </a:lnTo>
                  <a:lnTo>
                    <a:pt x="26" y="1722"/>
                  </a:lnTo>
                  <a:lnTo>
                    <a:pt x="26" y="1727"/>
                  </a:lnTo>
                  <a:lnTo>
                    <a:pt x="26" y="1731"/>
                  </a:lnTo>
                  <a:lnTo>
                    <a:pt x="30" y="1736"/>
                  </a:lnTo>
                  <a:lnTo>
                    <a:pt x="34" y="1740"/>
                  </a:lnTo>
                  <a:lnTo>
                    <a:pt x="40" y="1745"/>
                  </a:lnTo>
                  <a:lnTo>
                    <a:pt x="42" y="1749"/>
                  </a:lnTo>
                  <a:lnTo>
                    <a:pt x="47" y="1754"/>
                  </a:lnTo>
                  <a:lnTo>
                    <a:pt x="55" y="1758"/>
                  </a:lnTo>
                  <a:lnTo>
                    <a:pt x="64" y="1763"/>
                  </a:lnTo>
                  <a:lnTo>
                    <a:pt x="68" y="1767"/>
                  </a:lnTo>
                  <a:lnTo>
                    <a:pt x="70" y="1772"/>
                  </a:lnTo>
                  <a:lnTo>
                    <a:pt x="72" y="1776"/>
                  </a:lnTo>
                  <a:lnTo>
                    <a:pt x="74" y="1781"/>
                  </a:lnTo>
                  <a:lnTo>
                    <a:pt x="76" y="1785"/>
                  </a:lnTo>
                  <a:lnTo>
                    <a:pt x="72" y="1790"/>
                  </a:lnTo>
                  <a:lnTo>
                    <a:pt x="72" y="1794"/>
                  </a:lnTo>
                  <a:lnTo>
                    <a:pt x="70" y="1799"/>
                  </a:lnTo>
                  <a:lnTo>
                    <a:pt x="68" y="1803"/>
                  </a:lnTo>
                  <a:lnTo>
                    <a:pt x="66" y="1808"/>
                  </a:lnTo>
                  <a:lnTo>
                    <a:pt x="62" y="1812"/>
                  </a:lnTo>
                  <a:lnTo>
                    <a:pt x="57" y="1817"/>
                  </a:lnTo>
                  <a:lnTo>
                    <a:pt x="55" y="1821"/>
                  </a:lnTo>
                  <a:lnTo>
                    <a:pt x="55" y="1826"/>
                  </a:lnTo>
                  <a:lnTo>
                    <a:pt x="57" y="1830"/>
                  </a:lnTo>
                  <a:lnTo>
                    <a:pt x="59" y="1835"/>
                  </a:lnTo>
                  <a:lnTo>
                    <a:pt x="64" y="1839"/>
                  </a:lnTo>
                  <a:lnTo>
                    <a:pt x="66" y="1844"/>
                  </a:lnTo>
                  <a:lnTo>
                    <a:pt x="68" y="1848"/>
                  </a:lnTo>
                  <a:lnTo>
                    <a:pt x="70" y="1853"/>
                  </a:lnTo>
                  <a:lnTo>
                    <a:pt x="66" y="1857"/>
                  </a:lnTo>
                  <a:lnTo>
                    <a:pt x="62" y="1862"/>
                  </a:lnTo>
                  <a:lnTo>
                    <a:pt x="49" y="1866"/>
                  </a:lnTo>
                  <a:lnTo>
                    <a:pt x="47" y="1871"/>
                  </a:lnTo>
                  <a:lnTo>
                    <a:pt x="47" y="1875"/>
                  </a:lnTo>
                  <a:lnTo>
                    <a:pt x="70" y="1880"/>
                  </a:lnTo>
                  <a:lnTo>
                    <a:pt x="89" y="1884"/>
                  </a:lnTo>
                  <a:lnTo>
                    <a:pt x="98" y="1889"/>
                  </a:lnTo>
                  <a:lnTo>
                    <a:pt x="98" y="1893"/>
                  </a:lnTo>
                  <a:lnTo>
                    <a:pt x="96" y="1898"/>
                  </a:lnTo>
                  <a:lnTo>
                    <a:pt x="79" y="1902"/>
                  </a:lnTo>
                  <a:lnTo>
                    <a:pt x="70" y="1907"/>
                  </a:lnTo>
                  <a:lnTo>
                    <a:pt x="70" y="1911"/>
                  </a:lnTo>
                  <a:lnTo>
                    <a:pt x="68" y="1916"/>
                  </a:lnTo>
                  <a:lnTo>
                    <a:pt x="64" y="1920"/>
                  </a:lnTo>
                  <a:lnTo>
                    <a:pt x="64" y="1925"/>
                  </a:lnTo>
                  <a:lnTo>
                    <a:pt x="62" y="1929"/>
                  </a:lnTo>
                  <a:lnTo>
                    <a:pt x="64" y="1934"/>
                  </a:lnTo>
                  <a:lnTo>
                    <a:pt x="66" y="1938"/>
                  </a:lnTo>
                  <a:lnTo>
                    <a:pt x="68" y="1943"/>
                  </a:lnTo>
                  <a:lnTo>
                    <a:pt x="68" y="1947"/>
                  </a:lnTo>
                  <a:lnTo>
                    <a:pt x="68" y="1952"/>
                  </a:lnTo>
                  <a:lnTo>
                    <a:pt x="68" y="1956"/>
                  </a:lnTo>
                  <a:lnTo>
                    <a:pt x="66" y="1961"/>
                  </a:lnTo>
                  <a:lnTo>
                    <a:pt x="64" y="1965"/>
                  </a:lnTo>
                  <a:lnTo>
                    <a:pt x="64" y="1970"/>
                  </a:lnTo>
                  <a:lnTo>
                    <a:pt x="64" y="1974"/>
                  </a:lnTo>
                  <a:lnTo>
                    <a:pt x="64" y="1979"/>
                  </a:lnTo>
                  <a:lnTo>
                    <a:pt x="64" y="1983"/>
                  </a:lnTo>
                  <a:lnTo>
                    <a:pt x="64" y="1988"/>
                  </a:lnTo>
                  <a:lnTo>
                    <a:pt x="55" y="1992"/>
                  </a:lnTo>
                  <a:lnTo>
                    <a:pt x="51" y="1997"/>
                  </a:lnTo>
                  <a:lnTo>
                    <a:pt x="47" y="2001"/>
                  </a:lnTo>
                  <a:lnTo>
                    <a:pt x="42" y="2006"/>
                  </a:lnTo>
                  <a:lnTo>
                    <a:pt x="42" y="2010"/>
                  </a:lnTo>
                  <a:lnTo>
                    <a:pt x="42" y="2015"/>
                  </a:lnTo>
                  <a:lnTo>
                    <a:pt x="42" y="2019"/>
                  </a:lnTo>
                  <a:lnTo>
                    <a:pt x="45" y="2024"/>
                  </a:lnTo>
                  <a:lnTo>
                    <a:pt x="45" y="2028"/>
                  </a:lnTo>
                  <a:lnTo>
                    <a:pt x="47" y="2033"/>
                  </a:lnTo>
                  <a:lnTo>
                    <a:pt x="47" y="2037"/>
                  </a:lnTo>
                  <a:lnTo>
                    <a:pt x="45" y="2042"/>
                  </a:lnTo>
                  <a:lnTo>
                    <a:pt x="42" y="2046"/>
                  </a:lnTo>
                  <a:lnTo>
                    <a:pt x="40" y="2051"/>
                  </a:lnTo>
                  <a:lnTo>
                    <a:pt x="40" y="2055"/>
                  </a:lnTo>
                  <a:lnTo>
                    <a:pt x="42" y="2060"/>
                  </a:lnTo>
                  <a:lnTo>
                    <a:pt x="51" y="2064"/>
                  </a:lnTo>
                  <a:lnTo>
                    <a:pt x="57" y="2069"/>
                  </a:lnTo>
                  <a:lnTo>
                    <a:pt x="76" y="2073"/>
                  </a:lnTo>
                  <a:lnTo>
                    <a:pt x="93" y="2078"/>
                  </a:lnTo>
                  <a:lnTo>
                    <a:pt x="108" y="2082"/>
                  </a:lnTo>
                  <a:lnTo>
                    <a:pt x="130" y="2087"/>
                  </a:lnTo>
                  <a:lnTo>
                    <a:pt x="132" y="2091"/>
                  </a:lnTo>
                  <a:lnTo>
                    <a:pt x="151" y="2096"/>
                  </a:lnTo>
                  <a:lnTo>
                    <a:pt x="157" y="2100"/>
                  </a:lnTo>
                  <a:lnTo>
                    <a:pt x="157" y="2105"/>
                  </a:lnTo>
                  <a:lnTo>
                    <a:pt x="155" y="2109"/>
                  </a:lnTo>
                  <a:lnTo>
                    <a:pt x="151" y="2114"/>
                  </a:lnTo>
                  <a:lnTo>
                    <a:pt x="142" y="2118"/>
                  </a:lnTo>
                  <a:lnTo>
                    <a:pt x="138" y="2123"/>
                  </a:lnTo>
                  <a:lnTo>
                    <a:pt x="138" y="2127"/>
                  </a:lnTo>
                  <a:lnTo>
                    <a:pt x="144" y="2132"/>
                  </a:lnTo>
                  <a:lnTo>
                    <a:pt x="159" y="2136"/>
                  </a:lnTo>
                  <a:lnTo>
                    <a:pt x="174" y="2141"/>
                  </a:lnTo>
                  <a:lnTo>
                    <a:pt x="181" y="2145"/>
                  </a:lnTo>
                  <a:lnTo>
                    <a:pt x="187" y="2150"/>
                  </a:lnTo>
                  <a:lnTo>
                    <a:pt x="193" y="2154"/>
                  </a:lnTo>
                  <a:lnTo>
                    <a:pt x="193" y="2159"/>
                  </a:lnTo>
                  <a:lnTo>
                    <a:pt x="193" y="2163"/>
                  </a:lnTo>
                  <a:lnTo>
                    <a:pt x="193" y="2168"/>
                  </a:lnTo>
                  <a:lnTo>
                    <a:pt x="191" y="2172"/>
                  </a:lnTo>
                  <a:lnTo>
                    <a:pt x="191" y="2177"/>
                  </a:lnTo>
                  <a:lnTo>
                    <a:pt x="185" y="2181"/>
                  </a:lnTo>
                  <a:lnTo>
                    <a:pt x="183" y="2186"/>
                  </a:lnTo>
                  <a:lnTo>
                    <a:pt x="176" y="2190"/>
                  </a:lnTo>
                  <a:lnTo>
                    <a:pt x="172" y="2195"/>
                  </a:lnTo>
                  <a:lnTo>
                    <a:pt x="168" y="2199"/>
                  </a:lnTo>
                  <a:lnTo>
                    <a:pt x="164" y="2204"/>
                  </a:lnTo>
                  <a:lnTo>
                    <a:pt x="161" y="2208"/>
                  </a:lnTo>
                  <a:lnTo>
                    <a:pt x="159" y="2213"/>
                  </a:lnTo>
                  <a:lnTo>
                    <a:pt x="159" y="2217"/>
                  </a:lnTo>
                  <a:lnTo>
                    <a:pt x="161" y="2222"/>
                  </a:lnTo>
                  <a:lnTo>
                    <a:pt x="170" y="2226"/>
                  </a:lnTo>
                  <a:lnTo>
                    <a:pt x="174" y="2231"/>
                  </a:lnTo>
                  <a:lnTo>
                    <a:pt x="178" y="2235"/>
                  </a:lnTo>
                  <a:lnTo>
                    <a:pt x="198" y="2240"/>
                  </a:lnTo>
                  <a:lnTo>
                    <a:pt x="215" y="2244"/>
                  </a:lnTo>
                  <a:lnTo>
                    <a:pt x="232" y="2249"/>
                  </a:lnTo>
                  <a:lnTo>
                    <a:pt x="242" y="2253"/>
                  </a:lnTo>
                  <a:lnTo>
                    <a:pt x="242" y="2258"/>
                  </a:lnTo>
                  <a:lnTo>
                    <a:pt x="244" y="2262"/>
                  </a:lnTo>
                  <a:lnTo>
                    <a:pt x="246" y="2267"/>
                  </a:lnTo>
                  <a:lnTo>
                    <a:pt x="246" y="2271"/>
                  </a:lnTo>
                  <a:lnTo>
                    <a:pt x="246" y="2276"/>
                  </a:lnTo>
                  <a:lnTo>
                    <a:pt x="246" y="2280"/>
                  </a:lnTo>
                  <a:lnTo>
                    <a:pt x="246" y="2285"/>
                  </a:lnTo>
                  <a:lnTo>
                    <a:pt x="249" y="2289"/>
                  </a:lnTo>
                  <a:lnTo>
                    <a:pt x="253" y="2294"/>
                  </a:lnTo>
                  <a:lnTo>
                    <a:pt x="255" y="2298"/>
                  </a:lnTo>
                  <a:lnTo>
                    <a:pt x="242" y="2303"/>
                  </a:lnTo>
                  <a:lnTo>
                    <a:pt x="238" y="2307"/>
                  </a:lnTo>
                  <a:lnTo>
                    <a:pt x="227" y="2312"/>
                  </a:lnTo>
                  <a:lnTo>
                    <a:pt x="219" y="2316"/>
                  </a:lnTo>
                  <a:lnTo>
                    <a:pt x="212" y="2321"/>
                  </a:lnTo>
                  <a:lnTo>
                    <a:pt x="204" y="2325"/>
                  </a:lnTo>
                  <a:lnTo>
                    <a:pt x="193" y="2330"/>
                  </a:lnTo>
                  <a:lnTo>
                    <a:pt x="191" y="2334"/>
                  </a:lnTo>
                  <a:lnTo>
                    <a:pt x="187" y="2339"/>
                  </a:lnTo>
                  <a:lnTo>
                    <a:pt x="183" y="2343"/>
                  </a:lnTo>
                  <a:lnTo>
                    <a:pt x="181" y="2348"/>
                  </a:lnTo>
                  <a:lnTo>
                    <a:pt x="174" y="2352"/>
                  </a:lnTo>
                  <a:lnTo>
                    <a:pt x="172" y="2357"/>
                  </a:lnTo>
                  <a:lnTo>
                    <a:pt x="168" y="2361"/>
                  </a:lnTo>
                  <a:lnTo>
                    <a:pt x="164" y="2366"/>
                  </a:lnTo>
                  <a:lnTo>
                    <a:pt x="159" y="2370"/>
                  </a:lnTo>
                  <a:lnTo>
                    <a:pt x="157" y="2375"/>
                  </a:lnTo>
                  <a:lnTo>
                    <a:pt x="155" y="2379"/>
                  </a:lnTo>
                  <a:lnTo>
                    <a:pt x="153" y="2384"/>
                  </a:lnTo>
                  <a:lnTo>
                    <a:pt x="151" y="2388"/>
                  </a:lnTo>
                  <a:lnTo>
                    <a:pt x="149" y="2393"/>
                  </a:lnTo>
                  <a:lnTo>
                    <a:pt x="149" y="2397"/>
                  </a:lnTo>
                  <a:lnTo>
                    <a:pt x="149" y="2402"/>
                  </a:lnTo>
                  <a:lnTo>
                    <a:pt x="149" y="2406"/>
                  </a:lnTo>
                  <a:lnTo>
                    <a:pt x="149" y="2411"/>
                  </a:lnTo>
                  <a:lnTo>
                    <a:pt x="147" y="2415"/>
                  </a:lnTo>
                  <a:lnTo>
                    <a:pt x="147" y="2420"/>
                  </a:lnTo>
                  <a:lnTo>
                    <a:pt x="144" y="2424"/>
                  </a:lnTo>
                  <a:lnTo>
                    <a:pt x="144" y="2429"/>
                  </a:lnTo>
                  <a:lnTo>
                    <a:pt x="144" y="2433"/>
                  </a:lnTo>
                  <a:lnTo>
                    <a:pt x="142" y="2438"/>
                  </a:lnTo>
                  <a:lnTo>
                    <a:pt x="140" y="2442"/>
                  </a:lnTo>
                  <a:lnTo>
                    <a:pt x="140" y="2447"/>
                  </a:lnTo>
                  <a:lnTo>
                    <a:pt x="138" y="2451"/>
                  </a:lnTo>
                  <a:lnTo>
                    <a:pt x="136" y="2456"/>
                  </a:lnTo>
                  <a:lnTo>
                    <a:pt x="134" y="2460"/>
                  </a:lnTo>
                  <a:lnTo>
                    <a:pt x="132" y="2465"/>
                  </a:lnTo>
                  <a:lnTo>
                    <a:pt x="132" y="2469"/>
                  </a:lnTo>
                  <a:lnTo>
                    <a:pt x="132" y="2474"/>
                  </a:lnTo>
                  <a:lnTo>
                    <a:pt x="136" y="2478"/>
                  </a:lnTo>
                  <a:lnTo>
                    <a:pt x="142" y="2483"/>
                  </a:lnTo>
                  <a:lnTo>
                    <a:pt x="149" y="2487"/>
                  </a:lnTo>
                  <a:lnTo>
                    <a:pt x="151" y="2492"/>
                  </a:lnTo>
                  <a:lnTo>
                    <a:pt x="155" y="2496"/>
                  </a:lnTo>
                  <a:lnTo>
                    <a:pt x="161" y="2501"/>
                  </a:lnTo>
                  <a:lnTo>
                    <a:pt x="166" y="2505"/>
                  </a:lnTo>
                  <a:lnTo>
                    <a:pt x="168" y="2510"/>
                  </a:lnTo>
                  <a:lnTo>
                    <a:pt x="172" y="2514"/>
                  </a:lnTo>
                  <a:lnTo>
                    <a:pt x="172" y="2519"/>
                  </a:lnTo>
                  <a:lnTo>
                    <a:pt x="170" y="2523"/>
                  </a:lnTo>
                  <a:lnTo>
                    <a:pt x="166" y="2528"/>
                  </a:lnTo>
                  <a:lnTo>
                    <a:pt x="164" y="2532"/>
                  </a:lnTo>
                  <a:lnTo>
                    <a:pt x="157" y="2537"/>
                  </a:lnTo>
                  <a:lnTo>
                    <a:pt x="155" y="2541"/>
                  </a:lnTo>
                  <a:lnTo>
                    <a:pt x="155" y="2546"/>
                  </a:lnTo>
                  <a:lnTo>
                    <a:pt x="155" y="2550"/>
                  </a:lnTo>
                  <a:lnTo>
                    <a:pt x="155" y="2555"/>
                  </a:lnTo>
                  <a:lnTo>
                    <a:pt x="155" y="2559"/>
                  </a:lnTo>
                  <a:lnTo>
                    <a:pt x="153" y="2564"/>
                  </a:lnTo>
                  <a:lnTo>
                    <a:pt x="151" y="2568"/>
                  </a:lnTo>
                  <a:lnTo>
                    <a:pt x="149" y="2573"/>
                  </a:lnTo>
                  <a:lnTo>
                    <a:pt x="149" y="2577"/>
                  </a:lnTo>
                  <a:lnTo>
                    <a:pt x="149" y="2582"/>
                  </a:lnTo>
                </a:path>
              </a:pathLst>
            </a:custGeom>
            <a:noFill/>
            <a:ln w="28440">
              <a:solidFill>
                <a:srgbClr val="008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Freeform 289"/>
            <p:cNvSpPr/>
            <p:nvPr/>
          </p:nvSpPr>
          <p:spPr>
            <a:xfrm>
              <a:off x="2262240" y="2157480"/>
              <a:ext cx="987480" cy="4379760"/>
            </a:xfrm>
            <a:custGeom>
              <a:avLst/>
              <a:gdLst>
                <a:gd name="textAreaLeft" fmla="*/ 0 w 987480"/>
                <a:gd name="textAreaRight" fmla="*/ 987840 w 987480"/>
                <a:gd name="textAreaTop" fmla="*/ 0 h 4379760"/>
                <a:gd name="textAreaBottom" fmla="*/ 4380120 h 4379760"/>
              </a:gdLst>
              <a:ahLst/>
              <a:rect l="textAreaLeft" t="textAreaTop" r="textAreaRight" b="textAreaBottom"/>
              <a:pathLst>
                <a:path w="584" h="2582">
                  <a:moveTo>
                    <a:pt x="136" y="0"/>
                  </a:moveTo>
                  <a:lnTo>
                    <a:pt x="125" y="4"/>
                  </a:lnTo>
                  <a:lnTo>
                    <a:pt x="121" y="9"/>
                  </a:lnTo>
                  <a:lnTo>
                    <a:pt x="117" y="13"/>
                  </a:lnTo>
                  <a:lnTo>
                    <a:pt x="115" y="18"/>
                  </a:lnTo>
                  <a:lnTo>
                    <a:pt x="115" y="22"/>
                  </a:lnTo>
                  <a:lnTo>
                    <a:pt x="117" y="27"/>
                  </a:lnTo>
                  <a:lnTo>
                    <a:pt x="119" y="31"/>
                  </a:lnTo>
                  <a:lnTo>
                    <a:pt x="117" y="36"/>
                  </a:lnTo>
                  <a:lnTo>
                    <a:pt x="117" y="40"/>
                  </a:lnTo>
                  <a:lnTo>
                    <a:pt x="117" y="45"/>
                  </a:lnTo>
                  <a:lnTo>
                    <a:pt x="117" y="49"/>
                  </a:lnTo>
                  <a:lnTo>
                    <a:pt x="119" y="54"/>
                  </a:lnTo>
                  <a:lnTo>
                    <a:pt x="119" y="58"/>
                  </a:lnTo>
                  <a:lnTo>
                    <a:pt x="123" y="63"/>
                  </a:lnTo>
                  <a:lnTo>
                    <a:pt x="125" y="67"/>
                  </a:lnTo>
                  <a:lnTo>
                    <a:pt x="128" y="72"/>
                  </a:lnTo>
                  <a:lnTo>
                    <a:pt x="132" y="76"/>
                  </a:lnTo>
                  <a:lnTo>
                    <a:pt x="132" y="81"/>
                  </a:lnTo>
                  <a:lnTo>
                    <a:pt x="132" y="85"/>
                  </a:lnTo>
                  <a:lnTo>
                    <a:pt x="130" y="90"/>
                  </a:lnTo>
                  <a:lnTo>
                    <a:pt x="125" y="94"/>
                  </a:lnTo>
                  <a:lnTo>
                    <a:pt x="125" y="99"/>
                  </a:lnTo>
                  <a:lnTo>
                    <a:pt x="121" y="103"/>
                  </a:lnTo>
                  <a:lnTo>
                    <a:pt x="119" y="108"/>
                  </a:lnTo>
                  <a:lnTo>
                    <a:pt x="117" y="112"/>
                  </a:lnTo>
                  <a:lnTo>
                    <a:pt x="117" y="117"/>
                  </a:lnTo>
                  <a:lnTo>
                    <a:pt x="117" y="121"/>
                  </a:lnTo>
                  <a:lnTo>
                    <a:pt x="117" y="126"/>
                  </a:lnTo>
                  <a:lnTo>
                    <a:pt x="123" y="130"/>
                  </a:lnTo>
                  <a:lnTo>
                    <a:pt x="121" y="135"/>
                  </a:lnTo>
                  <a:lnTo>
                    <a:pt x="119" y="139"/>
                  </a:lnTo>
                  <a:lnTo>
                    <a:pt x="117" y="144"/>
                  </a:lnTo>
                  <a:lnTo>
                    <a:pt x="115" y="148"/>
                  </a:lnTo>
                  <a:lnTo>
                    <a:pt x="111" y="153"/>
                  </a:lnTo>
                  <a:lnTo>
                    <a:pt x="102" y="157"/>
                  </a:lnTo>
                  <a:lnTo>
                    <a:pt x="98" y="162"/>
                  </a:lnTo>
                  <a:lnTo>
                    <a:pt x="94" y="166"/>
                  </a:lnTo>
                  <a:lnTo>
                    <a:pt x="91" y="171"/>
                  </a:lnTo>
                  <a:lnTo>
                    <a:pt x="94" y="175"/>
                  </a:lnTo>
                  <a:lnTo>
                    <a:pt x="100" y="180"/>
                  </a:lnTo>
                  <a:lnTo>
                    <a:pt x="106" y="184"/>
                  </a:lnTo>
                  <a:lnTo>
                    <a:pt x="142" y="189"/>
                  </a:lnTo>
                  <a:lnTo>
                    <a:pt x="185" y="193"/>
                  </a:lnTo>
                  <a:lnTo>
                    <a:pt x="221" y="198"/>
                  </a:lnTo>
                  <a:lnTo>
                    <a:pt x="289" y="202"/>
                  </a:lnTo>
                  <a:lnTo>
                    <a:pt x="300" y="207"/>
                  </a:lnTo>
                  <a:lnTo>
                    <a:pt x="319" y="211"/>
                  </a:lnTo>
                  <a:lnTo>
                    <a:pt x="332" y="216"/>
                  </a:lnTo>
                  <a:lnTo>
                    <a:pt x="336" y="220"/>
                  </a:lnTo>
                  <a:lnTo>
                    <a:pt x="346" y="225"/>
                  </a:lnTo>
                  <a:lnTo>
                    <a:pt x="359" y="229"/>
                  </a:lnTo>
                  <a:lnTo>
                    <a:pt x="376" y="234"/>
                  </a:lnTo>
                  <a:lnTo>
                    <a:pt x="385" y="238"/>
                  </a:lnTo>
                  <a:lnTo>
                    <a:pt x="395" y="243"/>
                  </a:lnTo>
                  <a:lnTo>
                    <a:pt x="404" y="247"/>
                  </a:lnTo>
                  <a:lnTo>
                    <a:pt x="427" y="252"/>
                  </a:lnTo>
                  <a:lnTo>
                    <a:pt x="436" y="256"/>
                  </a:lnTo>
                  <a:lnTo>
                    <a:pt x="448" y="261"/>
                  </a:lnTo>
                  <a:lnTo>
                    <a:pt x="463" y="265"/>
                  </a:lnTo>
                  <a:lnTo>
                    <a:pt x="467" y="270"/>
                  </a:lnTo>
                  <a:lnTo>
                    <a:pt x="474" y="274"/>
                  </a:lnTo>
                  <a:lnTo>
                    <a:pt x="478" y="279"/>
                  </a:lnTo>
                  <a:lnTo>
                    <a:pt x="482" y="283"/>
                  </a:lnTo>
                  <a:lnTo>
                    <a:pt x="493" y="288"/>
                  </a:lnTo>
                  <a:lnTo>
                    <a:pt x="495" y="292"/>
                  </a:lnTo>
                  <a:lnTo>
                    <a:pt x="504" y="297"/>
                  </a:lnTo>
                  <a:lnTo>
                    <a:pt x="508" y="301"/>
                  </a:lnTo>
                  <a:lnTo>
                    <a:pt x="512" y="306"/>
                  </a:lnTo>
                  <a:lnTo>
                    <a:pt x="518" y="310"/>
                  </a:lnTo>
                  <a:lnTo>
                    <a:pt x="523" y="315"/>
                  </a:lnTo>
                  <a:lnTo>
                    <a:pt x="529" y="319"/>
                  </a:lnTo>
                  <a:lnTo>
                    <a:pt x="533" y="324"/>
                  </a:lnTo>
                  <a:lnTo>
                    <a:pt x="533" y="328"/>
                  </a:lnTo>
                  <a:lnTo>
                    <a:pt x="533" y="333"/>
                  </a:lnTo>
                  <a:lnTo>
                    <a:pt x="535" y="337"/>
                  </a:lnTo>
                  <a:lnTo>
                    <a:pt x="529" y="342"/>
                  </a:lnTo>
                  <a:lnTo>
                    <a:pt x="527" y="346"/>
                  </a:lnTo>
                  <a:lnTo>
                    <a:pt x="521" y="351"/>
                  </a:lnTo>
                  <a:lnTo>
                    <a:pt x="514" y="355"/>
                  </a:lnTo>
                  <a:lnTo>
                    <a:pt x="506" y="360"/>
                  </a:lnTo>
                  <a:lnTo>
                    <a:pt x="501" y="364"/>
                  </a:lnTo>
                  <a:lnTo>
                    <a:pt x="491" y="369"/>
                  </a:lnTo>
                  <a:lnTo>
                    <a:pt x="489" y="373"/>
                  </a:lnTo>
                  <a:lnTo>
                    <a:pt x="487" y="378"/>
                  </a:lnTo>
                  <a:lnTo>
                    <a:pt x="487" y="382"/>
                  </a:lnTo>
                  <a:lnTo>
                    <a:pt x="491" y="387"/>
                  </a:lnTo>
                  <a:lnTo>
                    <a:pt x="497" y="391"/>
                  </a:lnTo>
                  <a:lnTo>
                    <a:pt x="504" y="396"/>
                  </a:lnTo>
                  <a:lnTo>
                    <a:pt x="504" y="400"/>
                  </a:lnTo>
                  <a:lnTo>
                    <a:pt x="514" y="405"/>
                  </a:lnTo>
                  <a:lnTo>
                    <a:pt x="516" y="409"/>
                  </a:lnTo>
                  <a:lnTo>
                    <a:pt x="518" y="414"/>
                  </a:lnTo>
                  <a:lnTo>
                    <a:pt x="518" y="418"/>
                  </a:lnTo>
                  <a:lnTo>
                    <a:pt x="516" y="423"/>
                  </a:lnTo>
                  <a:lnTo>
                    <a:pt x="514" y="427"/>
                  </a:lnTo>
                  <a:lnTo>
                    <a:pt x="512" y="432"/>
                  </a:lnTo>
                  <a:lnTo>
                    <a:pt x="506" y="436"/>
                  </a:lnTo>
                  <a:lnTo>
                    <a:pt x="504" y="441"/>
                  </a:lnTo>
                  <a:lnTo>
                    <a:pt x="499" y="445"/>
                  </a:lnTo>
                  <a:lnTo>
                    <a:pt x="491" y="450"/>
                  </a:lnTo>
                  <a:lnTo>
                    <a:pt x="489" y="454"/>
                  </a:lnTo>
                  <a:lnTo>
                    <a:pt x="484" y="459"/>
                  </a:lnTo>
                  <a:lnTo>
                    <a:pt x="484" y="463"/>
                  </a:lnTo>
                  <a:lnTo>
                    <a:pt x="491" y="468"/>
                  </a:lnTo>
                  <a:lnTo>
                    <a:pt x="497" y="472"/>
                  </a:lnTo>
                  <a:lnTo>
                    <a:pt x="497" y="477"/>
                  </a:lnTo>
                  <a:lnTo>
                    <a:pt x="506" y="481"/>
                  </a:lnTo>
                  <a:lnTo>
                    <a:pt x="512" y="486"/>
                  </a:lnTo>
                  <a:lnTo>
                    <a:pt x="518" y="490"/>
                  </a:lnTo>
                  <a:lnTo>
                    <a:pt x="518" y="495"/>
                  </a:lnTo>
                  <a:lnTo>
                    <a:pt x="512" y="499"/>
                  </a:lnTo>
                  <a:lnTo>
                    <a:pt x="512" y="504"/>
                  </a:lnTo>
                  <a:lnTo>
                    <a:pt x="510" y="508"/>
                  </a:lnTo>
                  <a:lnTo>
                    <a:pt x="510" y="512"/>
                  </a:lnTo>
                  <a:lnTo>
                    <a:pt x="508" y="517"/>
                  </a:lnTo>
                  <a:lnTo>
                    <a:pt x="508" y="521"/>
                  </a:lnTo>
                  <a:lnTo>
                    <a:pt x="506" y="526"/>
                  </a:lnTo>
                  <a:lnTo>
                    <a:pt x="501" y="530"/>
                  </a:lnTo>
                  <a:lnTo>
                    <a:pt x="497" y="535"/>
                  </a:lnTo>
                  <a:lnTo>
                    <a:pt x="495" y="539"/>
                  </a:lnTo>
                  <a:lnTo>
                    <a:pt x="491" y="544"/>
                  </a:lnTo>
                  <a:lnTo>
                    <a:pt x="487" y="548"/>
                  </a:lnTo>
                  <a:lnTo>
                    <a:pt x="487" y="553"/>
                  </a:lnTo>
                  <a:lnTo>
                    <a:pt x="487" y="557"/>
                  </a:lnTo>
                  <a:lnTo>
                    <a:pt x="487" y="562"/>
                  </a:lnTo>
                  <a:lnTo>
                    <a:pt x="484" y="566"/>
                  </a:lnTo>
                  <a:lnTo>
                    <a:pt x="491" y="571"/>
                  </a:lnTo>
                  <a:lnTo>
                    <a:pt x="495" y="575"/>
                  </a:lnTo>
                  <a:lnTo>
                    <a:pt x="497" y="580"/>
                  </a:lnTo>
                  <a:lnTo>
                    <a:pt x="506" y="584"/>
                  </a:lnTo>
                  <a:lnTo>
                    <a:pt x="510" y="589"/>
                  </a:lnTo>
                  <a:lnTo>
                    <a:pt x="521" y="593"/>
                  </a:lnTo>
                  <a:lnTo>
                    <a:pt x="527" y="598"/>
                  </a:lnTo>
                  <a:lnTo>
                    <a:pt x="535" y="602"/>
                  </a:lnTo>
                  <a:lnTo>
                    <a:pt x="550" y="607"/>
                  </a:lnTo>
                  <a:lnTo>
                    <a:pt x="555" y="611"/>
                  </a:lnTo>
                  <a:lnTo>
                    <a:pt x="559" y="616"/>
                  </a:lnTo>
                  <a:lnTo>
                    <a:pt x="567" y="620"/>
                  </a:lnTo>
                  <a:lnTo>
                    <a:pt x="572" y="625"/>
                  </a:lnTo>
                  <a:lnTo>
                    <a:pt x="576" y="629"/>
                  </a:lnTo>
                  <a:lnTo>
                    <a:pt x="582" y="634"/>
                  </a:lnTo>
                  <a:lnTo>
                    <a:pt x="582" y="638"/>
                  </a:lnTo>
                  <a:lnTo>
                    <a:pt x="584" y="643"/>
                  </a:lnTo>
                  <a:lnTo>
                    <a:pt x="582" y="647"/>
                  </a:lnTo>
                  <a:lnTo>
                    <a:pt x="580" y="652"/>
                  </a:lnTo>
                  <a:lnTo>
                    <a:pt x="578" y="656"/>
                  </a:lnTo>
                  <a:lnTo>
                    <a:pt x="578" y="661"/>
                  </a:lnTo>
                  <a:lnTo>
                    <a:pt x="578" y="665"/>
                  </a:lnTo>
                  <a:lnTo>
                    <a:pt x="576" y="670"/>
                  </a:lnTo>
                  <a:lnTo>
                    <a:pt x="569" y="674"/>
                  </a:lnTo>
                  <a:lnTo>
                    <a:pt x="569" y="679"/>
                  </a:lnTo>
                  <a:lnTo>
                    <a:pt x="565" y="683"/>
                  </a:lnTo>
                  <a:lnTo>
                    <a:pt x="557" y="688"/>
                  </a:lnTo>
                  <a:lnTo>
                    <a:pt x="544" y="692"/>
                  </a:lnTo>
                  <a:lnTo>
                    <a:pt x="540" y="697"/>
                  </a:lnTo>
                  <a:lnTo>
                    <a:pt x="531" y="701"/>
                  </a:lnTo>
                  <a:lnTo>
                    <a:pt x="523" y="706"/>
                  </a:lnTo>
                  <a:lnTo>
                    <a:pt x="514" y="710"/>
                  </a:lnTo>
                  <a:lnTo>
                    <a:pt x="512" y="715"/>
                  </a:lnTo>
                  <a:lnTo>
                    <a:pt x="508" y="719"/>
                  </a:lnTo>
                  <a:lnTo>
                    <a:pt x="504" y="724"/>
                  </a:lnTo>
                  <a:lnTo>
                    <a:pt x="499" y="728"/>
                  </a:lnTo>
                  <a:lnTo>
                    <a:pt x="493" y="733"/>
                  </a:lnTo>
                  <a:lnTo>
                    <a:pt x="478" y="737"/>
                  </a:lnTo>
                  <a:lnTo>
                    <a:pt x="474" y="742"/>
                  </a:lnTo>
                  <a:lnTo>
                    <a:pt x="467" y="746"/>
                  </a:lnTo>
                  <a:lnTo>
                    <a:pt x="463" y="751"/>
                  </a:lnTo>
                  <a:lnTo>
                    <a:pt x="459" y="755"/>
                  </a:lnTo>
                  <a:lnTo>
                    <a:pt x="455" y="760"/>
                  </a:lnTo>
                  <a:lnTo>
                    <a:pt x="453" y="764"/>
                  </a:lnTo>
                  <a:lnTo>
                    <a:pt x="448" y="769"/>
                  </a:lnTo>
                  <a:lnTo>
                    <a:pt x="444" y="773"/>
                  </a:lnTo>
                  <a:lnTo>
                    <a:pt x="436" y="778"/>
                  </a:lnTo>
                  <a:lnTo>
                    <a:pt x="425" y="782"/>
                  </a:lnTo>
                  <a:lnTo>
                    <a:pt x="421" y="787"/>
                  </a:lnTo>
                  <a:lnTo>
                    <a:pt x="406" y="791"/>
                  </a:lnTo>
                  <a:lnTo>
                    <a:pt x="395" y="796"/>
                  </a:lnTo>
                  <a:lnTo>
                    <a:pt x="389" y="800"/>
                  </a:lnTo>
                  <a:lnTo>
                    <a:pt x="380" y="805"/>
                  </a:lnTo>
                  <a:lnTo>
                    <a:pt x="365" y="809"/>
                  </a:lnTo>
                  <a:lnTo>
                    <a:pt x="359" y="814"/>
                  </a:lnTo>
                  <a:lnTo>
                    <a:pt x="346" y="818"/>
                  </a:lnTo>
                  <a:lnTo>
                    <a:pt x="340" y="823"/>
                  </a:lnTo>
                  <a:lnTo>
                    <a:pt x="329" y="827"/>
                  </a:lnTo>
                  <a:lnTo>
                    <a:pt x="325" y="832"/>
                  </a:lnTo>
                  <a:lnTo>
                    <a:pt x="319" y="836"/>
                  </a:lnTo>
                  <a:lnTo>
                    <a:pt x="312" y="841"/>
                  </a:lnTo>
                  <a:lnTo>
                    <a:pt x="306" y="845"/>
                  </a:lnTo>
                  <a:lnTo>
                    <a:pt x="304" y="850"/>
                  </a:lnTo>
                  <a:lnTo>
                    <a:pt x="293" y="854"/>
                  </a:lnTo>
                  <a:lnTo>
                    <a:pt x="291" y="859"/>
                  </a:lnTo>
                  <a:lnTo>
                    <a:pt x="287" y="863"/>
                  </a:lnTo>
                  <a:lnTo>
                    <a:pt x="289" y="868"/>
                  </a:lnTo>
                  <a:lnTo>
                    <a:pt x="291" y="872"/>
                  </a:lnTo>
                  <a:lnTo>
                    <a:pt x="295" y="877"/>
                  </a:lnTo>
                  <a:lnTo>
                    <a:pt x="308" y="881"/>
                  </a:lnTo>
                  <a:lnTo>
                    <a:pt x="321" y="886"/>
                  </a:lnTo>
                  <a:lnTo>
                    <a:pt x="334" y="890"/>
                  </a:lnTo>
                  <a:lnTo>
                    <a:pt x="351" y="895"/>
                  </a:lnTo>
                  <a:lnTo>
                    <a:pt x="361" y="899"/>
                  </a:lnTo>
                  <a:lnTo>
                    <a:pt x="376" y="904"/>
                  </a:lnTo>
                  <a:lnTo>
                    <a:pt x="389" y="908"/>
                  </a:lnTo>
                  <a:lnTo>
                    <a:pt x="410" y="913"/>
                  </a:lnTo>
                  <a:lnTo>
                    <a:pt x="436" y="917"/>
                  </a:lnTo>
                  <a:lnTo>
                    <a:pt x="453" y="922"/>
                  </a:lnTo>
                  <a:lnTo>
                    <a:pt x="467" y="926"/>
                  </a:lnTo>
                  <a:lnTo>
                    <a:pt x="480" y="931"/>
                  </a:lnTo>
                  <a:lnTo>
                    <a:pt x="516" y="935"/>
                  </a:lnTo>
                  <a:lnTo>
                    <a:pt x="523" y="940"/>
                  </a:lnTo>
                  <a:lnTo>
                    <a:pt x="529" y="944"/>
                  </a:lnTo>
                  <a:lnTo>
                    <a:pt x="533" y="949"/>
                  </a:lnTo>
                  <a:lnTo>
                    <a:pt x="529" y="953"/>
                  </a:lnTo>
                  <a:lnTo>
                    <a:pt x="523" y="958"/>
                  </a:lnTo>
                  <a:lnTo>
                    <a:pt x="501" y="962"/>
                  </a:lnTo>
                  <a:lnTo>
                    <a:pt x="493" y="967"/>
                  </a:lnTo>
                  <a:lnTo>
                    <a:pt x="461" y="971"/>
                  </a:lnTo>
                  <a:lnTo>
                    <a:pt x="433" y="976"/>
                  </a:lnTo>
                  <a:lnTo>
                    <a:pt x="419" y="980"/>
                  </a:lnTo>
                  <a:lnTo>
                    <a:pt x="410" y="985"/>
                  </a:lnTo>
                  <a:lnTo>
                    <a:pt x="380" y="989"/>
                  </a:lnTo>
                  <a:lnTo>
                    <a:pt x="363" y="994"/>
                  </a:lnTo>
                  <a:lnTo>
                    <a:pt x="319" y="998"/>
                  </a:lnTo>
                  <a:lnTo>
                    <a:pt x="302" y="1003"/>
                  </a:lnTo>
                  <a:lnTo>
                    <a:pt x="287" y="1007"/>
                  </a:lnTo>
                  <a:lnTo>
                    <a:pt x="291" y="1012"/>
                  </a:lnTo>
                  <a:lnTo>
                    <a:pt x="291" y="1016"/>
                  </a:lnTo>
                  <a:lnTo>
                    <a:pt x="298" y="1021"/>
                  </a:lnTo>
                  <a:lnTo>
                    <a:pt x="302" y="1025"/>
                  </a:lnTo>
                  <a:lnTo>
                    <a:pt x="304" y="1030"/>
                  </a:lnTo>
                  <a:lnTo>
                    <a:pt x="308" y="1034"/>
                  </a:lnTo>
                  <a:lnTo>
                    <a:pt x="310" y="1039"/>
                  </a:lnTo>
                  <a:lnTo>
                    <a:pt x="315" y="1043"/>
                  </a:lnTo>
                  <a:lnTo>
                    <a:pt x="317" y="1048"/>
                  </a:lnTo>
                  <a:lnTo>
                    <a:pt x="319" y="1052"/>
                  </a:lnTo>
                  <a:lnTo>
                    <a:pt x="319" y="1057"/>
                  </a:lnTo>
                  <a:lnTo>
                    <a:pt x="319" y="1061"/>
                  </a:lnTo>
                  <a:lnTo>
                    <a:pt x="310" y="1066"/>
                  </a:lnTo>
                  <a:lnTo>
                    <a:pt x="304" y="1070"/>
                  </a:lnTo>
                  <a:lnTo>
                    <a:pt x="302" y="1075"/>
                  </a:lnTo>
                  <a:lnTo>
                    <a:pt x="293" y="1079"/>
                  </a:lnTo>
                  <a:lnTo>
                    <a:pt x="287" y="1084"/>
                  </a:lnTo>
                  <a:lnTo>
                    <a:pt x="285" y="1088"/>
                  </a:lnTo>
                  <a:lnTo>
                    <a:pt x="283" y="1093"/>
                  </a:lnTo>
                  <a:lnTo>
                    <a:pt x="276" y="1097"/>
                  </a:lnTo>
                  <a:lnTo>
                    <a:pt x="270" y="1102"/>
                  </a:lnTo>
                  <a:lnTo>
                    <a:pt x="270" y="1106"/>
                  </a:lnTo>
                  <a:lnTo>
                    <a:pt x="272" y="1111"/>
                  </a:lnTo>
                  <a:lnTo>
                    <a:pt x="272" y="1115"/>
                  </a:lnTo>
                  <a:lnTo>
                    <a:pt x="274" y="1120"/>
                  </a:lnTo>
                  <a:lnTo>
                    <a:pt x="281" y="1124"/>
                  </a:lnTo>
                  <a:lnTo>
                    <a:pt x="283" y="1129"/>
                  </a:lnTo>
                  <a:lnTo>
                    <a:pt x="289" y="1133"/>
                  </a:lnTo>
                  <a:lnTo>
                    <a:pt x="291" y="1138"/>
                  </a:lnTo>
                  <a:lnTo>
                    <a:pt x="291" y="1142"/>
                  </a:lnTo>
                  <a:lnTo>
                    <a:pt x="289" y="1147"/>
                  </a:lnTo>
                  <a:lnTo>
                    <a:pt x="287" y="1151"/>
                  </a:lnTo>
                  <a:lnTo>
                    <a:pt x="285" y="1156"/>
                  </a:lnTo>
                  <a:lnTo>
                    <a:pt x="281" y="1160"/>
                  </a:lnTo>
                  <a:lnTo>
                    <a:pt x="278" y="1165"/>
                  </a:lnTo>
                  <a:lnTo>
                    <a:pt x="276" y="1169"/>
                  </a:lnTo>
                  <a:lnTo>
                    <a:pt x="274" y="1174"/>
                  </a:lnTo>
                  <a:lnTo>
                    <a:pt x="274" y="1178"/>
                  </a:lnTo>
                  <a:lnTo>
                    <a:pt x="274" y="1183"/>
                  </a:lnTo>
                  <a:lnTo>
                    <a:pt x="274" y="1187"/>
                  </a:lnTo>
                  <a:lnTo>
                    <a:pt x="276" y="1192"/>
                  </a:lnTo>
                  <a:lnTo>
                    <a:pt x="281" y="1196"/>
                  </a:lnTo>
                  <a:lnTo>
                    <a:pt x="281" y="1201"/>
                  </a:lnTo>
                  <a:lnTo>
                    <a:pt x="283" y="1205"/>
                  </a:lnTo>
                  <a:lnTo>
                    <a:pt x="285" y="1210"/>
                  </a:lnTo>
                  <a:lnTo>
                    <a:pt x="266" y="1214"/>
                  </a:lnTo>
                  <a:lnTo>
                    <a:pt x="251" y="1219"/>
                  </a:lnTo>
                  <a:lnTo>
                    <a:pt x="221" y="1223"/>
                  </a:lnTo>
                  <a:lnTo>
                    <a:pt x="200" y="1228"/>
                  </a:lnTo>
                  <a:lnTo>
                    <a:pt x="196" y="1232"/>
                  </a:lnTo>
                  <a:lnTo>
                    <a:pt x="181" y="1237"/>
                  </a:lnTo>
                  <a:lnTo>
                    <a:pt x="176" y="1241"/>
                  </a:lnTo>
                  <a:lnTo>
                    <a:pt x="170" y="1246"/>
                  </a:lnTo>
                  <a:lnTo>
                    <a:pt x="168" y="1250"/>
                  </a:lnTo>
                  <a:lnTo>
                    <a:pt x="166" y="1255"/>
                  </a:lnTo>
                  <a:lnTo>
                    <a:pt x="162" y="1259"/>
                  </a:lnTo>
                  <a:lnTo>
                    <a:pt x="162" y="1264"/>
                  </a:lnTo>
                  <a:lnTo>
                    <a:pt x="162" y="1268"/>
                  </a:lnTo>
                  <a:lnTo>
                    <a:pt x="162" y="1273"/>
                  </a:lnTo>
                  <a:lnTo>
                    <a:pt x="162" y="1277"/>
                  </a:lnTo>
                  <a:lnTo>
                    <a:pt x="162" y="1282"/>
                  </a:lnTo>
                  <a:lnTo>
                    <a:pt x="162" y="1286"/>
                  </a:lnTo>
                  <a:lnTo>
                    <a:pt x="162" y="1291"/>
                  </a:lnTo>
                  <a:lnTo>
                    <a:pt x="162" y="1295"/>
                  </a:lnTo>
                  <a:lnTo>
                    <a:pt x="159" y="1300"/>
                  </a:lnTo>
                  <a:lnTo>
                    <a:pt x="157" y="1304"/>
                  </a:lnTo>
                  <a:lnTo>
                    <a:pt x="155" y="1309"/>
                  </a:lnTo>
                  <a:lnTo>
                    <a:pt x="147" y="1313"/>
                  </a:lnTo>
                  <a:lnTo>
                    <a:pt x="147" y="1318"/>
                  </a:lnTo>
                  <a:lnTo>
                    <a:pt x="145" y="1322"/>
                  </a:lnTo>
                  <a:lnTo>
                    <a:pt x="145" y="1327"/>
                  </a:lnTo>
                  <a:lnTo>
                    <a:pt x="145" y="1331"/>
                  </a:lnTo>
                  <a:lnTo>
                    <a:pt x="147" y="1336"/>
                  </a:lnTo>
                  <a:lnTo>
                    <a:pt x="147" y="1340"/>
                  </a:lnTo>
                  <a:lnTo>
                    <a:pt x="147" y="1345"/>
                  </a:lnTo>
                  <a:lnTo>
                    <a:pt x="147" y="1349"/>
                  </a:lnTo>
                  <a:lnTo>
                    <a:pt x="145" y="1354"/>
                  </a:lnTo>
                  <a:lnTo>
                    <a:pt x="142" y="1358"/>
                  </a:lnTo>
                  <a:lnTo>
                    <a:pt x="130" y="1363"/>
                  </a:lnTo>
                  <a:lnTo>
                    <a:pt x="128" y="1367"/>
                  </a:lnTo>
                  <a:lnTo>
                    <a:pt x="119" y="1372"/>
                  </a:lnTo>
                  <a:lnTo>
                    <a:pt x="115" y="1376"/>
                  </a:lnTo>
                  <a:lnTo>
                    <a:pt x="108" y="1381"/>
                  </a:lnTo>
                  <a:lnTo>
                    <a:pt x="106" y="1385"/>
                  </a:lnTo>
                  <a:lnTo>
                    <a:pt x="104" y="1390"/>
                  </a:lnTo>
                  <a:lnTo>
                    <a:pt x="104" y="1394"/>
                  </a:lnTo>
                  <a:lnTo>
                    <a:pt x="102" y="1399"/>
                  </a:lnTo>
                  <a:lnTo>
                    <a:pt x="100" y="1403"/>
                  </a:lnTo>
                  <a:lnTo>
                    <a:pt x="98" y="1408"/>
                  </a:lnTo>
                  <a:lnTo>
                    <a:pt x="98" y="1412"/>
                  </a:lnTo>
                  <a:lnTo>
                    <a:pt x="98" y="1417"/>
                  </a:lnTo>
                  <a:lnTo>
                    <a:pt x="98" y="1421"/>
                  </a:lnTo>
                  <a:lnTo>
                    <a:pt x="100" y="1426"/>
                  </a:lnTo>
                  <a:lnTo>
                    <a:pt x="100" y="1430"/>
                  </a:lnTo>
                  <a:lnTo>
                    <a:pt x="100" y="1435"/>
                  </a:lnTo>
                  <a:lnTo>
                    <a:pt x="100" y="1439"/>
                  </a:lnTo>
                  <a:lnTo>
                    <a:pt x="100" y="1444"/>
                  </a:lnTo>
                  <a:lnTo>
                    <a:pt x="100" y="1448"/>
                  </a:lnTo>
                  <a:lnTo>
                    <a:pt x="100" y="1453"/>
                  </a:lnTo>
                  <a:lnTo>
                    <a:pt x="100" y="1457"/>
                  </a:lnTo>
                  <a:lnTo>
                    <a:pt x="100" y="1462"/>
                  </a:lnTo>
                  <a:lnTo>
                    <a:pt x="100" y="1466"/>
                  </a:lnTo>
                  <a:lnTo>
                    <a:pt x="98" y="1471"/>
                  </a:lnTo>
                  <a:lnTo>
                    <a:pt x="96" y="1475"/>
                  </a:lnTo>
                  <a:lnTo>
                    <a:pt x="91" y="1480"/>
                  </a:lnTo>
                  <a:lnTo>
                    <a:pt x="89" y="1484"/>
                  </a:lnTo>
                  <a:lnTo>
                    <a:pt x="85" y="1489"/>
                  </a:lnTo>
                  <a:lnTo>
                    <a:pt x="83" y="1493"/>
                  </a:lnTo>
                  <a:lnTo>
                    <a:pt x="83" y="1498"/>
                  </a:lnTo>
                  <a:lnTo>
                    <a:pt x="83" y="1502"/>
                  </a:lnTo>
                  <a:lnTo>
                    <a:pt x="83" y="1507"/>
                  </a:lnTo>
                  <a:lnTo>
                    <a:pt x="85" y="1511"/>
                  </a:lnTo>
                  <a:lnTo>
                    <a:pt x="87" y="1516"/>
                  </a:lnTo>
                  <a:lnTo>
                    <a:pt x="89" y="1520"/>
                  </a:lnTo>
                  <a:lnTo>
                    <a:pt x="91" y="1525"/>
                  </a:lnTo>
                  <a:lnTo>
                    <a:pt x="94" y="1529"/>
                  </a:lnTo>
                  <a:lnTo>
                    <a:pt x="94" y="1534"/>
                  </a:lnTo>
                  <a:lnTo>
                    <a:pt x="94" y="1538"/>
                  </a:lnTo>
                  <a:lnTo>
                    <a:pt x="91" y="1543"/>
                  </a:lnTo>
                  <a:lnTo>
                    <a:pt x="87" y="1547"/>
                  </a:lnTo>
                  <a:lnTo>
                    <a:pt x="83" y="1552"/>
                  </a:lnTo>
                  <a:lnTo>
                    <a:pt x="81" y="1556"/>
                  </a:lnTo>
                  <a:lnTo>
                    <a:pt x="77" y="1560"/>
                  </a:lnTo>
                  <a:lnTo>
                    <a:pt x="62" y="1565"/>
                  </a:lnTo>
                  <a:lnTo>
                    <a:pt x="47" y="1569"/>
                  </a:lnTo>
                  <a:lnTo>
                    <a:pt x="38" y="1574"/>
                  </a:lnTo>
                  <a:lnTo>
                    <a:pt x="36" y="1578"/>
                  </a:lnTo>
                  <a:lnTo>
                    <a:pt x="26" y="1583"/>
                  </a:lnTo>
                  <a:lnTo>
                    <a:pt x="23" y="1587"/>
                  </a:lnTo>
                  <a:lnTo>
                    <a:pt x="21" y="1592"/>
                  </a:lnTo>
                  <a:lnTo>
                    <a:pt x="19" y="1596"/>
                  </a:lnTo>
                  <a:lnTo>
                    <a:pt x="15" y="1601"/>
                  </a:lnTo>
                  <a:lnTo>
                    <a:pt x="11" y="1605"/>
                  </a:lnTo>
                  <a:lnTo>
                    <a:pt x="6" y="1610"/>
                  </a:lnTo>
                  <a:lnTo>
                    <a:pt x="6" y="1614"/>
                  </a:lnTo>
                  <a:lnTo>
                    <a:pt x="4" y="1619"/>
                  </a:lnTo>
                  <a:lnTo>
                    <a:pt x="4" y="1623"/>
                  </a:lnTo>
                  <a:lnTo>
                    <a:pt x="2" y="1628"/>
                  </a:lnTo>
                  <a:lnTo>
                    <a:pt x="2" y="1632"/>
                  </a:lnTo>
                  <a:lnTo>
                    <a:pt x="2" y="1637"/>
                  </a:lnTo>
                  <a:lnTo>
                    <a:pt x="0" y="1641"/>
                  </a:lnTo>
                  <a:lnTo>
                    <a:pt x="0" y="1646"/>
                  </a:lnTo>
                  <a:lnTo>
                    <a:pt x="0" y="1650"/>
                  </a:lnTo>
                  <a:lnTo>
                    <a:pt x="0" y="1655"/>
                  </a:lnTo>
                  <a:lnTo>
                    <a:pt x="0" y="1659"/>
                  </a:lnTo>
                  <a:lnTo>
                    <a:pt x="2" y="1664"/>
                  </a:lnTo>
                  <a:lnTo>
                    <a:pt x="2" y="1668"/>
                  </a:lnTo>
                  <a:lnTo>
                    <a:pt x="9" y="1673"/>
                  </a:lnTo>
                  <a:lnTo>
                    <a:pt x="9" y="1677"/>
                  </a:lnTo>
                  <a:lnTo>
                    <a:pt x="11" y="1682"/>
                  </a:lnTo>
                  <a:lnTo>
                    <a:pt x="13" y="1686"/>
                  </a:lnTo>
                  <a:lnTo>
                    <a:pt x="15" y="1691"/>
                  </a:lnTo>
                  <a:lnTo>
                    <a:pt x="19" y="1695"/>
                  </a:lnTo>
                  <a:lnTo>
                    <a:pt x="21" y="1700"/>
                  </a:lnTo>
                  <a:lnTo>
                    <a:pt x="21" y="1704"/>
                  </a:lnTo>
                  <a:lnTo>
                    <a:pt x="23" y="1709"/>
                  </a:lnTo>
                  <a:lnTo>
                    <a:pt x="26" y="1713"/>
                  </a:lnTo>
                  <a:lnTo>
                    <a:pt x="28" y="1718"/>
                  </a:lnTo>
                  <a:lnTo>
                    <a:pt x="30" y="1722"/>
                  </a:lnTo>
                  <a:lnTo>
                    <a:pt x="34" y="1727"/>
                  </a:lnTo>
                  <a:lnTo>
                    <a:pt x="38" y="1731"/>
                  </a:lnTo>
                  <a:lnTo>
                    <a:pt x="43" y="1736"/>
                  </a:lnTo>
                  <a:lnTo>
                    <a:pt x="49" y="1740"/>
                  </a:lnTo>
                  <a:lnTo>
                    <a:pt x="53" y="1745"/>
                  </a:lnTo>
                  <a:lnTo>
                    <a:pt x="57" y="1749"/>
                  </a:lnTo>
                  <a:lnTo>
                    <a:pt x="64" y="1754"/>
                  </a:lnTo>
                  <a:lnTo>
                    <a:pt x="66" y="1758"/>
                  </a:lnTo>
                  <a:lnTo>
                    <a:pt x="68" y="1763"/>
                  </a:lnTo>
                  <a:lnTo>
                    <a:pt x="72" y="1767"/>
                  </a:lnTo>
                  <a:lnTo>
                    <a:pt x="79" y="1772"/>
                  </a:lnTo>
                  <a:lnTo>
                    <a:pt x="81" y="1776"/>
                  </a:lnTo>
                  <a:lnTo>
                    <a:pt x="83" y="1781"/>
                  </a:lnTo>
                  <a:lnTo>
                    <a:pt x="89" y="1785"/>
                  </a:lnTo>
                  <a:lnTo>
                    <a:pt x="91" y="1790"/>
                  </a:lnTo>
                  <a:lnTo>
                    <a:pt x="91" y="1794"/>
                  </a:lnTo>
                  <a:lnTo>
                    <a:pt x="91" y="1799"/>
                  </a:lnTo>
                  <a:lnTo>
                    <a:pt x="91" y="1803"/>
                  </a:lnTo>
                  <a:lnTo>
                    <a:pt x="94" y="1808"/>
                  </a:lnTo>
                  <a:lnTo>
                    <a:pt x="94" y="1812"/>
                  </a:lnTo>
                  <a:lnTo>
                    <a:pt x="94" y="1817"/>
                  </a:lnTo>
                  <a:lnTo>
                    <a:pt x="91" y="1821"/>
                  </a:lnTo>
                  <a:lnTo>
                    <a:pt x="89" y="1826"/>
                  </a:lnTo>
                  <a:lnTo>
                    <a:pt x="89" y="1830"/>
                  </a:lnTo>
                  <a:lnTo>
                    <a:pt x="89" y="1835"/>
                  </a:lnTo>
                  <a:lnTo>
                    <a:pt x="91" y="1839"/>
                  </a:lnTo>
                  <a:lnTo>
                    <a:pt x="91" y="1844"/>
                  </a:lnTo>
                  <a:lnTo>
                    <a:pt x="94" y="1848"/>
                  </a:lnTo>
                  <a:lnTo>
                    <a:pt x="96" y="1853"/>
                  </a:lnTo>
                  <a:lnTo>
                    <a:pt x="96" y="1857"/>
                  </a:lnTo>
                  <a:lnTo>
                    <a:pt x="94" y="1862"/>
                  </a:lnTo>
                  <a:lnTo>
                    <a:pt x="94" y="1866"/>
                  </a:lnTo>
                  <a:lnTo>
                    <a:pt x="94" y="1871"/>
                  </a:lnTo>
                  <a:lnTo>
                    <a:pt x="98" y="1875"/>
                  </a:lnTo>
                  <a:lnTo>
                    <a:pt x="104" y="1880"/>
                  </a:lnTo>
                  <a:lnTo>
                    <a:pt x="108" y="1884"/>
                  </a:lnTo>
                  <a:lnTo>
                    <a:pt x="111" y="1889"/>
                  </a:lnTo>
                  <a:lnTo>
                    <a:pt x="111" y="1893"/>
                  </a:lnTo>
                  <a:lnTo>
                    <a:pt x="113" y="1898"/>
                  </a:lnTo>
                  <a:lnTo>
                    <a:pt x="111" y="1902"/>
                  </a:lnTo>
                  <a:lnTo>
                    <a:pt x="106" y="1907"/>
                  </a:lnTo>
                  <a:lnTo>
                    <a:pt x="106" y="1911"/>
                  </a:lnTo>
                  <a:lnTo>
                    <a:pt x="104" y="1916"/>
                  </a:lnTo>
                  <a:lnTo>
                    <a:pt x="102" y="1920"/>
                  </a:lnTo>
                  <a:lnTo>
                    <a:pt x="102" y="1925"/>
                  </a:lnTo>
                  <a:lnTo>
                    <a:pt x="100" y="1929"/>
                  </a:lnTo>
                  <a:lnTo>
                    <a:pt x="100" y="1934"/>
                  </a:lnTo>
                  <a:lnTo>
                    <a:pt x="100" y="1938"/>
                  </a:lnTo>
                  <a:lnTo>
                    <a:pt x="102" y="1943"/>
                  </a:lnTo>
                  <a:lnTo>
                    <a:pt x="102" y="1947"/>
                  </a:lnTo>
                  <a:lnTo>
                    <a:pt x="102" y="1952"/>
                  </a:lnTo>
                  <a:lnTo>
                    <a:pt x="102" y="1956"/>
                  </a:lnTo>
                  <a:lnTo>
                    <a:pt x="102" y="1961"/>
                  </a:lnTo>
                  <a:lnTo>
                    <a:pt x="98" y="1965"/>
                  </a:lnTo>
                  <a:lnTo>
                    <a:pt x="96" y="1970"/>
                  </a:lnTo>
                  <a:lnTo>
                    <a:pt x="94" y="1974"/>
                  </a:lnTo>
                  <a:lnTo>
                    <a:pt x="94" y="1979"/>
                  </a:lnTo>
                  <a:lnTo>
                    <a:pt x="94" y="1983"/>
                  </a:lnTo>
                  <a:lnTo>
                    <a:pt x="94" y="1988"/>
                  </a:lnTo>
                  <a:lnTo>
                    <a:pt x="96" y="1992"/>
                  </a:lnTo>
                  <a:lnTo>
                    <a:pt x="96" y="1997"/>
                  </a:lnTo>
                  <a:lnTo>
                    <a:pt x="96" y="2001"/>
                  </a:lnTo>
                  <a:lnTo>
                    <a:pt x="96" y="2006"/>
                  </a:lnTo>
                  <a:lnTo>
                    <a:pt x="94" y="2010"/>
                  </a:lnTo>
                  <a:lnTo>
                    <a:pt x="94" y="2015"/>
                  </a:lnTo>
                  <a:lnTo>
                    <a:pt x="94" y="2019"/>
                  </a:lnTo>
                  <a:lnTo>
                    <a:pt x="91" y="2024"/>
                  </a:lnTo>
                  <a:lnTo>
                    <a:pt x="91" y="2028"/>
                  </a:lnTo>
                  <a:lnTo>
                    <a:pt x="91" y="2033"/>
                  </a:lnTo>
                  <a:lnTo>
                    <a:pt x="91" y="2037"/>
                  </a:lnTo>
                  <a:lnTo>
                    <a:pt x="89" y="2042"/>
                  </a:lnTo>
                  <a:lnTo>
                    <a:pt x="89" y="2046"/>
                  </a:lnTo>
                  <a:lnTo>
                    <a:pt x="87" y="2051"/>
                  </a:lnTo>
                  <a:lnTo>
                    <a:pt x="89" y="2055"/>
                  </a:lnTo>
                  <a:lnTo>
                    <a:pt x="91" y="2060"/>
                  </a:lnTo>
                  <a:lnTo>
                    <a:pt x="96" y="2064"/>
                  </a:lnTo>
                  <a:lnTo>
                    <a:pt x="104" y="2069"/>
                  </a:lnTo>
                  <a:lnTo>
                    <a:pt x="115" y="2073"/>
                  </a:lnTo>
                  <a:lnTo>
                    <a:pt x="123" y="2078"/>
                  </a:lnTo>
                  <a:lnTo>
                    <a:pt x="136" y="2082"/>
                  </a:lnTo>
                  <a:lnTo>
                    <a:pt x="147" y="2087"/>
                  </a:lnTo>
                  <a:lnTo>
                    <a:pt x="151" y="2091"/>
                  </a:lnTo>
                  <a:lnTo>
                    <a:pt x="159" y="2096"/>
                  </a:lnTo>
                  <a:lnTo>
                    <a:pt x="166" y="2100"/>
                  </a:lnTo>
                  <a:lnTo>
                    <a:pt x="168" y="2105"/>
                  </a:lnTo>
                  <a:lnTo>
                    <a:pt x="172" y="2109"/>
                  </a:lnTo>
                  <a:lnTo>
                    <a:pt x="172" y="2114"/>
                  </a:lnTo>
                  <a:lnTo>
                    <a:pt x="172" y="2118"/>
                  </a:lnTo>
                  <a:lnTo>
                    <a:pt x="172" y="2123"/>
                  </a:lnTo>
                  <a:lnTo>
                    <a:pt x="172" y="2127"/>
                  </a:lnTo>
                  <a:lnTo>
                    <a:pt x="172" y="2132"/>
                  </a:lnTo>
                  <a:lnTo>
                    <a:pt x="174" y="2136"/>
                  </a:lnTo>
                  <a:lnTo>
                    <a:pt x="176" y="2141"/>
                  </a:lnTo>
                  <a:lnTo>
                    <a:pt x="179" y="2145"/>
                  </a:lnTo>
                  <a:lnTo>
                    <a:pt x="181" y="2150"/>
                  </a:lnTo>
                  <a:lnTo>
                    <a:pt x="183" y="2154"/>
                  </a:lnTo>
                  <a:lnTo>
                    <a:pt x="187" y="2159"/>
                  </a:lnTo>
                  <a:lnTo>
                    <a:pt x="189" y="2163"/>
                  </a:lnTo>
                  <a:lnTo>
                    <a:pt x="189" y="2168"/>
                  </a:lnTo>
                  <a:lnTo>
                    <a:pt x="189" y="2172"/>
                  </a:lnTo>
                  <a:lnTo>
                    <a:pt x="187" y="2177"/>
                  </a:lnTo>
                  <a:lnTo>
                    <a:pt x="185" y="2181"/>
                  </a:lnTo>
                  <a:lnTo>
                    <a:pt x="183" y="2186"/>
                  </a:lnTo>
                  <a:lnTo>
                    <a:pt x="181" y="2190"/>
                  </a:lnTo>
                  <a:lnTo>
                    <a:pt x="181" y="2195"/>
                  </a:lnTo>
                  <a:lnTo>
                    <a:pt x="179" y="2199"/>
                  </a:lnTo>
                  <a:lnTo>
                    <a:pt x="174" y="2204"/>
                  </a:lnTo>
                  <a:lnTo>
                    <a:pt x="174" y="2208"/>
                  </a:lnTo>
                  <a:lnTo>
                    <a:pt x="174" y="2213"/>
                  </a:lnTo>
                  <a:lnTo>
                    <a:pt x="176" y="2217"/>
                  </a:lnTo>
                  <a:lnTo>
                    <a:pt x="181" y="2222"/>
                  </a:lnTo>
                  <a:lnTo>
                    <a:pt x="187" y="2226"/>
                  </a:lnTo>
                  <a:lnTo>
                    <a:pt x="189" y="2231"/>
                  </a:lnTo>
                  <a:lnTo>
                    <a:pt x="193" y="2235"/>
                  </a:lnTo>
                  <a:lnTo>
                    <a:pt x="202" y="2240"/>
                  </a:lnTo>
                  <a:lnTo>
                    <a:pt x="206" y="2244"/>
                  </a:lnTo>
                  <a:lnTo>
                    <a:pt x="208" y="2249"/>
                  </a:lnTo>
                  <a:lnTo>
                    <a:pt x="210" y="2253"/>
                  </a:lnTo>
                  <a:lnTo>
                    <a:pt x="221" y="2258"/>
                  </a:lnTo>
                  <a:lnTo>
                    <a:pt x="223" y="2262"/>
                  </a:lnTo>
                  <a:lnTo>
                    <a:pt x="225" y="2267"/>
                  </a:lnTo>
                  <a:lnTo>
                    <a:pt x="225" y="2271"/>
                  </a:lnTo>
                  <a:lnTo>
                    <a:pt x="227" y="2276"/>
                  </a:lnTo>
                  <a:lnTo>
                    <a:pt x="230" y="2280"/>
                  </a:lnTo>
                  <a:lnTo>
                    <a:pt x="232" y="2285"/>
                  </a:lnTo>
                  <a:lnTo>
                    <a:pt x="232" y="2289"/>
                  </a:lnTo>
                  <a:lnTo>
                    <a:pt x="236" y="2294"/>
                  </a:lnTo>
                  <a:lnTo>
                    <a:pt x="240" y="2298"/>
                  </a:lnTo>
                  <a:lnTo>
                    <a:pt x="244" y="2303"/>
                  </a:lnTo>
                  <a:lnTo>
                    <a:pt x="249" y="2307"/>
                  </a:lnTo>
                  <a:lnTo>
                    <a:pt x="249" y="2312"/>
                  </a:lnTo>
                  <a:lnTo>
                    <a:pt x="249" y="2316"/>
                  </a:lnTo>
                  <a:lnTo>
                    <a:pt x="249" y="2321"/>
                  </a:lnTo>
                  <a:lnTo>
                    <a:pt x="249" y="2325"/>
                  </a:lnTo>
                  <a:lnTo>
                    <a:pt x="244" y="2330"/>
                  </a:lnTo>
                  <a:lnTo>
                    <a:pt x="240" y="2334"/>
                  </a:lnTo>
                  <a:lnTo>
                    <a:pt x="230" y="2339"/>
                  </a:lnTo>
                  <a:lnTo>
                    <a:pt x="230" y="2343"/>
                  </a:lnTo>
                  <a:lnTo>
                    <a:pt x="221" y="2348"/>
                  </a:lnTo>
                  <a:lnTo>
                    <a:pt x="213" y="2352"/>
                  </a:lnTo>
                  <a:lnTo>
                    <a:pt x="202" y="2357"/>
                  </a:lnTo>
                  <a:lnTo>
                    <a:pt x="200" y="2361"/>
                  </a:lnTo>
                  <a:lnTo>
                    <a:pt x="187" y="2366"/>
                  </a:lnTo>
                  <a:lnTo>
                    <a:pt x="183" y="2370"/>
                  </a:lnTo>
                  <a:lnTo>
                    <a:pt x="179" y="2375"/>
                  </a:lnTo>
                  <a:lnTo>
                    <a:pt x="172" y="2379"/>
                  </a:lnTo>
                  <a:lnTo>
                    <a:pt x="168" y="2384"/>
                  </a:lnTo>
                  <a:lnTo>
                    <a:pt x="166" y="2388"/>
                  </a:lnTo>
                  <a:lnTo>
                    <a:pt x="164" y="2393"/>
                  </a:lnTo>
                  <a:lnTo>
                    <a:pt x="162" y="2397"/>
                  </a:lnTo>
                  <a:lnTo>
                    <a:pt x="159" y="2402"/>
                  </a:lnTo>
                  <a:lnTo>
                    <a:pt x="157" y="2406"/>
                  </a:lnTo>
                  <a:lnTo>
                    <a:pt x="155" y="2411"/>
                  </a:lnTo>
                  <a:lnTo>
                    <a:pt x="153" y="2415"/>
                  </a:lnTo>
                  <a:lnTo>
                    <a:pt x="151" y="2420"/>
                  </a:lnTo>
                  <a:lnTo>
                    <a:pt x="149" y="2424"/>
                  </a:lnTo>
                  <a:lnTo>
                    <a:pt x="149" y="2429"/>
                  </a:lnTo>
                  <a:lnTo>
                    <a:pt x="147" y="2433"/>
                  </a:lnTo>
                  <a:lnTo>
                    <a:pt x="147" y="2438"/>
                  </a:lnTo>
                  <a:lnTo>
                    <a:pt x="147" y="2442"/>
                  </a:lnTo>
                  <a:lnTo>
                    <a:pt x="149" y="2447"/>
                  </a:lnTo>
                  <a:lnTo>
                    <a:pt x="153" y="2451"/>
                  </a:lnTo>
                  <a:lnTo>
                    <a:pt x="157" y="2456"/>
                  </a:lnTo>
                  <a:lnTo>
                    <a:pt x="162" y="2460"/>
                  </a:lnTo>
                  <a:lnTo>
                    <a:pt x="166" y="2465"/>
                  </a:lnTo>
                  <a:lnTo>
                    <a:pt x="166" y="2469"/>
                  </a:lnTo>
                  <a:lnTo>
                    <a:pt x="170" y="2474"/>
                  </a:lnTo>
                  <a:lnTo>
                    <a:pt x="170" y="2478"/>
                  </a:lnTo>
                  <a:lnTo>
                    <a:pt x="172" y="2483"/>
                  </a:lnTo>
                  <a:lnTo>
                    <a:pt x="170" y="2487"/>
                  </a:lnTo>
                  <a:lnTo>
                    <a:pt x="164" y="2492"/>
                  </a:lnTo>
                  <a:lnTo>
                    <a:pt x="157" y="2496"/>
                  </a:lnTo>
                  <a:lnTo>
                    <a:pt x="151" y="2501"/>
                  </a:lnTo>
                  <a:lnTo>
                    <a:pt x="147" y="2505"/>
                  </a:lnTo>
                  <a:lnTo>
                    <a:pt x="145" y="2510"/>
                  </a:lnTo>
                  <a:lnTo>
                    <a:pt x="140" y="2514"/>
                  </a:lnTo>
                  <a:lnTo>
                    <a:pt x="138" y="2519"/>
                  </a:lnTo>
                  <a:lnTo>
                    <a:pt x="136" y="2523"/>
                  </a:lnTo>
                  <a:lnTo>
                    <a:pt x="132" y="2528"/>
                  </a:lnTo>
                  <a:lnTo>
                    <a:pt x="130" y="2532"/>
                  </a:lnTo>
                  <a:lnTo>
                    <a:pt x="128" y="2537"/>
                  </a:lnTo>
                  <a:lnTo>
                    <a:pt x="125" y="2541"/>
                  </a:lnTo>
                  <a:lnTo>
                    <a:pt x="125" y="2546"/>
                  </a:lnTo>
                  <a:lnTo>
                    <a:pt x="123" y="2550"/>
                  </a:lnTo>
                  <a:lnTo>
                    <a:pt x="121" y="2555"/>
                  </a:lnTo>
                  <a:lnTo>
                    <a:pt x="121" y="2559"/>
                  </a:lnTo>
                  <a:lnTo>
                    <a:pt x="119" y="2564"/>
                  </a:lnTo>
                  <a:lnTo>
                    <a:pt x="117" y="2568"/>
                  </a:lnTo>
                  <a:lnTo>
                    <a:pt x="115" y="2573"/>
                  </a:lnTo>
                  <a:lnTo>
                    <a:pt x="115" y="2577"/>
                  </a:lnTo>
                  <a:lnTo>
                    <a:pt x="115" y="2582"/>
                  </a:ln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Freeform 290"/>
            <p:cNvSpPr/>
            <p:nvPr/>
          </p:nvSpPr>
          <p:spPr>
            <a:xfrm>
              <a:off x="2330280" y="2157480"/>
              <a:ext cx="1095480" cy="4379760"/>
            </a:xfrm>
            <a:custGeom>
              <a:avLst/>
              <a:gdLst>
                <a:gd name="textAreaLeft" fmla="*/ 0 w 1095480"/>
                <a:gd name="textAreaRight" fmla="*/ 1095840 w 1095480"/>
                <a:gd name="textAreaTop" fmla="*/ 0 h 4379760"/>
                <a:gd name="textAreaBottom" fmla="*/ 4380120 h 4379760"/>
              </a:gdLst>
              <a:ahLst/>
              <a:rect l="textAreaLeft" t="textAreaTop" r="textAreaRight" b="textAreaBottom"/>
              <a:pathLst>
                <a:path w="648" h="2582">
                  <a:moveTo>
                    <a:pt x="39" y="0"/>
                  </a:moveTo>
                  <a:lnTo>
                    <a:pt x="15" y="4"/>
                  </a:lnTo>
                  <a:lnTo>
                    <a:pt x="41" y="9"/>
                  </a:lnTo>
                  <a:lnTo>
                    <a:pt x="49" y="13"/>
                  </a:lnTo>
                  <a:lnTo>
                    <a:pt x="60" y="18"/>
                  </a:lnTo>
                  <a:lnTo>
                    <a:pt x="45" y="22"/>
                  </a:lnTo>
                  <a:lnTo>
                    <a:pt x="49" y="27"/>
                  </a:lnTo>
                  <a:lnTo>
                    <a:pt x="51" y="31"/>
                  </a:lnTo>
                  <a:lnTo>
                    <a:pt x="51" y="36"/>
                  </a:lnTo>
                  <a:lnTo>
                    <a:pt x="51" y="40"/>
                  </a:lnTo>
                  <a:lnTo>
                    <a:pt x="51" y="45"/>
                  </a:lnTo>
                  <a:lnTo>
                    <a:pt x="56" y="49"/>
                  </a:lnTo>
                  <a:lnTo>
                    <a:pt x="58" y="54"/>
                  </a:lnTo>
                  <a:lnTo>
                    <a:pt x="56" y="58"/>
                  </a:lnTo>
                  <a:lnTo>
                    <a:pt x="54" y="63"/>
                  </a:lnTo>
                  <a:lnTo>
                    <a:pt x="54" y="67"/>
                  </a:lnTo>
                  <a:lnTo>
                    <a:pt x="54" y="72"/>
                  </a:lnTo>
                  <a:lnTo>
                    <a:pt x="51" y="76"/>
                  </a:lnTo>
                  <a:lnTo>
                    <a:pt x="49" y="81"/>
                  </a:lnTo>
                  <a:lnTo>
                    <a:pt x="49" y="85"/>
                  </a:lnTo>
                  <a:lnTo>
                    <a:pt x="49" y="90"/>
                  </a:lnTo>
                  <a:lnTo>
                    <a:pt x="49" y="94"/>
                  </a:lnTo>
                  <a:lnTo>
                    <a:pt x="47" y="99"/>
                  </a:lnTo>
                  <a:lnTo>
                    <a:pt x="43" y="103"/>
                  </a:lnTo>
                  <a:lnTo>
                    <a:pt x="43" y="108"/>
                  </a:lnTo>
                  <a:lnTo>
                    <a:pt x="43" y="112"/>
                  </a:lnTo>
                  <a:lnTo>
                    <a:pt x="43" y="117"/>
                  </a:lnTo>
                  <a:lnTo>
                    <a:pt x="45" y="121"/>
                  </a:lnTo>
                  <a:lnTo>
                    <a:pt x="47" y="126"/>
                  </a:lnTo>
                  <a:lnTo>
                    <a:pt x="54" y="130"/>
                  </a:lnTo>
                  <a:lnTo>
                    <a:pt x="60" y="135"/>
                  </a:lnTo>
                  <a:lnTo>
                    <a:pt x="66" y="139"/>
                  </a:lnTo>
                  <a:lnTo>
                    <a:pt x="71" y="144"/>
                  </a:lnTo>
                  <a:lnTo>
                    <a:pt x="73" y="148"/>
                  </a:lnTo>
                  <a:lnTo>
                    <a:pt x="75" y="153"/>
                  </a:lnTo>
                  <a:lnTo>
                    <a:pt x="85" y="157"/>
                  </a:lnTo>
                  <a:lnTo>
                    <a:pt x="102" y="162"/>
                  </a:lnTo>
                  <a:lnTo>
                    <a:pt x="149" y="166"/>
                  </a:lnTo>
                  <a:lnTo>
                    <a:pt x="211" y="171"/>
                  </a:lnTo>
                  <a:lnTo>
                    <a:pt x="253" y="175"/>
                  </a:lnTo>
                  <a:lnTo>
                    <a:pt x="277" y="180"/>
                  </a:lnTo>
                  <a:lnTo>
                    <a:pt x="298" y="184"/>
                  </a:lnTo>
                  <a:lnTo>
                    <a:pt x="313" y="189"/>
                  </a:lnTo>
                  <a:lnTo>
                    <a:pt x="321" y="193"/>
                  </a:lnTo>
                  <a:lnTo>
                    <a:pt x="328" y="198"/>
                  </a:lnTo>
                  <a:lnTo>
                    <a:pt x="332" y="202"/>
                  </a:lnTo>
                  <a:lnTo>
                    <a:pt x="330" y="207"/>
                  </a:lnTo>
                  <a:lnTo>
                    <a:pt x="319" y="211"/>
                  </a:lnTo>
                  <a:lnTo>
                    <a:pt x="311" y="216"/>
                  </a:lnTo>
                  <a:lnTo>
                    <a:pt x="308" y="220"/>
                  </a:lnTo>
                  <a:lnTo>
                    <a:pt x="306" y="225"/>
                  </a:lnTo>
                  <a:lnTo>
                    <a:pt x="304" y="229"/>
                  </a:lnTo>
                  <a:lnTo>
                    <a:pt x="304" y="234"/>
                  </a:lnTo>
                  <a:lnTo>
                    <a:pt x="302" y="238"/>
                  </a:lnTo>
                  <a:lnTo>
                    <a:pt x="300" y="243"/>
                  </a:lnTo>
                  <a:lnTo>
                    <a:pt x="298" y="247"/>
                  </a:lnTo>
                  <a:lnTo>
                    <a:pt x="294" y="252"/>
                  </a:lnTo>
                  <a:lnTo>
                    <a:pt x="287" y="256"/>
                  </a:lnTo>
                  <a:lnTo>
                    <a:pt x="279" y="261"/>
                  </a:lnTo>
                  <a:lnTo>
                    <a:pt x="277" y="265"/>
                  </a:lnTo>
                  <a:lnTo>
                    <a:pt x="279" y="270"/>
                  </a:lnTo>
                  <a:lnTo>
                    <a:pt x="281" y="274"/>
                  </a:lnTo>
                  <a:lnTo>
                    <a:pt x="281" y="279"/>
                  </a:lnTo>
                  <a:lnTo>
                    <a:pt x="283" y="283"/>
                  </a:lnTo>
                  <a:lnTo>
                    <a:pt x="285" y="288"/>
                  </a:lnTo>
                  <a:lnTo>
                    <a:pt x="285" y="292"/>
                  </a:lnTo>
                  <a:lnTo>
                    <a:pt x="287" y="297"/>
                  </a:lnTo>
                  <a:lnTo>
                    <a:pt x="287" y="301"/>
                  </a:lnTo>
                  <a:lnTo>
                    <a:pt x="289" y="306"/>
                  </a:lnTo>
                  <a:lnTo>
                    <a:pt x="292" y="310"/>
                  </a:lnTo>
                  <a:lnTo>
                    <a:pt x="294" y="315"/>
                  </a:lnTo>
                  <a:lnTo>
                    <a:pt x="298" y="319"/>
                  </a:lnTo>
                  <a:lnTo>
                    <a:pt x="300" y="324"/>
                  </a:lnTo>
                  <a:lnTo>
                    <a:pt x="300" y="328"/>
                  </a:lnTo>
                  <a:lnTo>
                    <a:pt x="302" y="333"/>
                  </a:lnTo>
                  <a:lnTo>
                    <a:pt x="304" y="337"/>
                  </a:lnTo>
                  <a:lnTo>
                    <a:pt x="304" y="342"/>
                  </a:lnTo>
                  <a:lnTo>
                    <a:pt x="302" y="346"/>
                  </a:lnTo>
                  <a:lnTo>
                    <a:pt x="302" y="351"/>
                  </a:lnTo>
                  <a:lnTo>
                    <a:pt x="300" y="355"/>
                  </a:lnTo>
                  <a:lnTo>
                    <a:pt x="296" y="360"/>
                  </a:lnTo>
                  <a:lnTo>
                    <a:pt x="296" y="364"/>
                  </a:lnTo>
                  <a:lnTo>
                    <a:pt x="302" y="369"/>
                  </a:lnTo>
                  <a:lnTo>
                    <a:pt x="311" y="373"/>
                  </a:lnTo>
                  <a:lnTo>
                    <a:pt x="317" y="378"/>
                  </a:lnTo>
                  <a:lnTo>
                    <a:pt x="323" y="382"/>
                  </a:lnTo>
                  <a:lnTo>
                    <a:pt x="328" y="387"/>
                  </a:lnTo>
                  <a:lnTo>
                    <a:pt x="332" y="391"/>
                  </a:lnTo>
                  <a:lnTo>
                    <a:pt x="338" y="396"/>
                  </a:lnTo>
                  <a:lnTo>
                    <a:pt x="342" y="400"/>
                  </a:lnTo>
                  <a:lnTo>
                    <a:pt x="345" y="405"/>
                  </a:lnTo>
                  <a:lnTo>
                    <a:pt x="345" y="409"/>
                  </a:lnTo>
                  <a:lnTo>
                    <a:pt x="345" y="414"/>
                  </a:lnTo>
                  <a:lnTo>
                    <a:pt x="345" y="418"/>
                  </a:lnTo>
                  <a:lnTo>
                    <a:pt x="345" y="423"/>
                  </a:lnTo>
                  <a:lnTo>
                    <a:pt x="349" y="427"/>
                  </a:lnTo>
                  <a:lnTo>
                    <a:pt x="355" y="432"/>
                  </a:lnTo>
                  <a:lnTo>
                    <a:pt x="364" y="436"/>
                  </a:lnTo>
                  <a:lnTo>
                    <a:pt x="374" y="441"/>
                  </a:lnTo>
                  <a:lnTo>
                    <a:pt x="387" y="445"/>
                  </a:lnTo>
                  <a:lnTo>
                    <a:pt x="398" y="450"/>
                  </a:lnTo>
                  <a:lnTo>
                    <a:pt x="408" y="454"/>
                  </a:lnTo>
                  <a:lnTo>
                    <a:pt x="421" y="459"/>
                  </a:lnTo>
                  <a:lnTo>
                    <a:pt x="434" y="463"/>
                  </a:lnTo>
                  <a:lnTo>
                    <a:pt x="440" y="468"/>
                  </a:lnTo>
                  <a:lnTo>
                    <a:pt x="438" y="472"/>
                  </a:lnTo>
                  <a:lnTo>
                    <a:pt x="436" y="477"/>
                  </a:lnTo>
                  <a:lnTo>
                    <a:pt x="430" y="481"/>
                  </a:lnTo>
                  <a:lnTo>
                    <a:pt x="419" y="486"/>
                  </a:lnTo>
                  <a:lnTo>
                    <a:pt x="406" y="490"/>
                  </a:lnTo>
                  <a:lnTo>
                    <a:pt x="391" y="495"/>
                  </a:lnTo>
                  <a:lnTo>
                    <a:pt x="370" y="499"/>
                  </a:lnTo>
                  <a:lnTo>
                    <a:pt x="347" y="504"/>
                  </a:lnTo>
                  <a:lnTo>
                    <a:pt x="330" y="508"/>
                  </a:lnTo>
                  <a:lnTo>
                    <a:pt x="319" y="512"/>
                  </a:lnTo>
                  <a:lnTo>
                    <a:pt x="311" y="517"/>
                  </a:lnTo>
                  <a:lnTo>
                    <a:pt x="304" y="521"/>
                  </a:lnTo>
                  <a:lnTo>
                    <a:pt x="298" y="526"/>
                  </a:lnTo>
                  <a:lnTo>
                    <a:pt x="298" y="530"/>
                  </a:lnTo>
                  <a:lnTo>
                    <a:pt x="302" y="535"/>
                  </a:lnTo>
                  <a:lnTo>
                    <a:pt x="304" y="539"/>
                  </a:lnTo>
                  <a:lnTo>
                    <a:pt x="302" y="544"/>
                  </a:lnTo>
                  <a:lnTo>
                    <a:pt x="306" y="548"/>
                  </a:lnTo>
                  <a:lnTo>
                    <a:pt x="319" y="553"/>
                  </a:lnTo>
                  <a:lnTo>
                    <a:pt x="334" y="557"/>
                  </a:lnTo>
                  <a:lnTo>
                    <a:pt x="342" y="562"/>
                  </a:lnTo>
                  <a:lnTo>
                    <a:pt x="349" y="566"/>
                  </a:lnTo>
                  <a:lnTo>
                    <a:pt x="353" y="571"/>
                  </a:lnTo>
                  <a:lnTo>
                    <a:pt x="351" y="575"/>
                  </a:lnTo>
                  <a:lnTo>
                    <a:pt x="347" y="580"/>
                  </a:lnTo>
                  <a:lnTo>
                    <a:pt x="345" y="584"/>
                  </a:lnTo>
                  <a:lnTo>
                    <a:pt x="336" y="589"/>
                  </a:lnTo>
                  <a:lnTo>
                    <a:pt x="328" y="593"/>
                  </a:lnTo>
                  <a:lnTo>
                    <a:pt x="315" y="598"/>
                  </a:lnTo>
                  <a:lnTo>
                    <a:pt x="306" y="602"/>
                  </a:lnTo>
                  <a:lnTo>
                    <a:pt x="300" y="607"/>
                  </a:lnTo>
                  <a:lnTo>
                    <a:pt x="296" y="611"/>
                  </a:lnTo>
                  <a:lnTo>
                    <a:pt x="296" y="616"/>
                  </a:lnTo>
                  <a:lnTo>
                    <a:pt x="296" y="620"/>
                  </a:lnTo>
                  <a:lnTo>
                    <a:pt x="292" y="625"/>
                  </a:lnTo>
                  <a:lnTo>
                    <a:pt x="292" y="629"/>
                  </a:lnTo>
                  <a:lnTo>
                    <a:pt x="287" y="634"/>
                  </a:lnTo>
                  <a:lnTo>
                    <a:pt x="281" y="638"/>
                  </a:lnTo>
                  <a:lnTo>
                    <a:pt x="275" y="643"/>
                  </a:lnTo>
                  <a:lnTo>
                    <a:pt x="275" y="647"/>
                  </a:lnTo>
                  <a:lnTo>
                    <a:pt x="281" y="652"/>
                  </a:lnTo>
                  <a:lnTo>
                    <a:pt x="287" y="656"/>
                  </a:lnTo>
                  <a:lnTo>
                    <a:pt x="294" y="661"/>
                  </a:lnTo>
                  <a:lnTo>
                    <a:pt x="315" y="665"/>
                  </a:lnTo>
                  <a:lnTo>
                    <a:pt x="342" y="670"/>
                  </a:lnTo>
                  <a:lnTo>
                    <a:pt x="359" y="674"/>
                  </a:lnTo>
                  <a:lnTo>
                    <a:pt x="374" y="679"/>
                  </a:lnTo>
                  <a:lnTo>
                    <a:pt x="389" y="683"/>
                  </a:lnTo>
                  <a:lnTo>
                    <a:pt x="393" y="688"/>
                  </a:lnTo>
                  <a:lnTo>
                    <a:pt x="391" y="692"/>
                  </a:lnTo>
                  <a:lnTo>
                    <a:pt x="393" y="697"/>
                  </a:lnTo>
                  <a:lnTo>
                    <a:pt x="396" y="701"/>
                  </a:lnTo>
                  <a:lnTo>
                    <a:pt x="389" y="706"/>
                  </a:lnTo>
                  <a:lnTo>
                    <a:pt x="374" y="710"/>
                  </a:lnTo>
                  <a:lnTo>
                    <a:pt x="362" y="715"/>
                  </a:lnTo>
                  <a:lnTo>
                    <a:pt x="347" y="719"/>
                  </a:lnTo>
                  <a:lnTo>
                    <a:pt x="336" y="724"/>
                  </a:lnTo>
                  <a:lnTo>
                    <a:pt x="338" y="728"/>
                  </a:lnTo>
                  <a:lnTo>
                    <a:pt x="338" y="733"/>
                  </a:lnTo>
                  <a:lnTo>
                    <a:pt x="334" y="737"/>
                  </a:lnTo>
                  <a:lnTo>
                    <a:pt x="323" y="742"/>
                  </a:lnTo>
                  <a:lnTo>
                    <a:pt x="317" y="746"/>
                  </a:lnTo>
                  <a:lnTo>
                    <a:pt x="313" y="751"/>
                  </a:lnTo>
                  <a:lnTo>
                    <a:pt x="308" y="755"/>
                  </a:lnTo>
                  <a:lnTo>
                    <a:pt x="304" y="760"/>
                  </a:lnTo>
                  <a:lnTo>
                    <a:pt x="296" y="764"/>
                  </a:lnTo>
                  <a:lnTo>
                    <a:pt x="283" y="769"/>
                  </a:lnTo>
                  <a:lnTo>
                    <a:pt x="272" y="773"/>
                  </a:lnTo>
                  <a:lnTo>
                    <a:pt x="266" y="778"/>
                  </a:lnTo>
                  <a:lnTo>
                    <a:pt x="264" y="782"/>
                  </a:lnTo>
                  <a:lnTo>
                    <a:pt x="262" y="787"/>
                  </a:lnTo>
                  <a:lnTo>
                    <a:pt x="262" y="791"/>
                  </a:lnTo>
                  <a:lnTo>
                    <a:pt x="262" y="796"/>
                  </a:lnTo>
                  <a:lnTo>
                    <a:pt x="262" y="800"/>
                  </a:lnTo>
                  <a:lnTo>
                    <a:pt x="260" y="805"/>
                  </a:lnTo>
                  <a:lnTo>
                    <a:pt x="260" y="809"/>
                  </a:lnTo>
                  <a:lnTo>
                    <a:pt x="262" y="814"/>
                  </a:lnTo>
                  <a:lnTo>
                    <a:pt x="264" y="818"/>
                  </a:lnTo>
                  <a:lnTo>
                    <a:pt x="264" y="823"/>
                  </a:lnTo>
                  <a:lnTo>
                    <a:pt x="264" y="827"/>
                  </a:lnTo>
                  <a:lnTo>
                    <a:pt x="272" y="832"/>
                  </a:lnTo>
                  <a:lnTo>
                    <a:pt x="289" y="836"/>
                  </a:lnTo>
                  <a:lnTo>
                    <a:pt x="308" y="841"/>
                  </a:lnTo>
                  <a:lnTo>
                    <a:pt x="325" y="845"/>
                  </a:lnTo>
                  <a:lnTo>
                    <a:pt x="340" y="850"/>
                  </a:lnTo>
                  <a:lnTo>
                    <a:pt x="351" y="854"/>
                  </a:lnTo>
                  <a:lnTo>
                    <a:pt x="359" y="859"/>
                  </a:lnTo>
                  <a:lnTo>
                    <a:pt x="370" y="863"/>
                  </a:lnTo>
                  <a:lnTo>
                    <a:pt x="383" y="868"/>
                  </a:lnTo>
                  <a:lnTo>
                    <a:pt x="393" y="872"/>
                  </a:lnTo>
                  <a:lnTo>
                    <a:pt x="398" y="877"/>
                  </a:lnTo>
                  <a:lnTo>
                    <a:pt x="413" y="881"/>
                  </a:lnTo>
                  <a:lnTo>
                    <a:pt x="440" y="886"/>
                  </a:lnTo>
                  <a:lnTo>
                    <a:pt x="470" y="890"/>
                  </a:lnTo>
                  <a:lnTo>
                    <a:pt x="502" y="895"/>
                  </a:lnTo>
                  <a:lnTo>
                    <a:pt x="532" y="899"/>
                  </a:lnTo>
                  <a:lnTo>
                    <a:pt x="563" y="904"/>
                  </a:lnTo>
                  <a:lnTo>
                    <a:pt x="587" y="908"/>
                  </a:lnTo>
                  <a:lnTo>
                    <a:pt x="602" y="913"/>
                  </a:lnTo>
                  <a:lnTo>
                    <a:pt x="617" y="917"/>
                  </a:lnTo>
                  <a:lnTo>
                    <a:pt x="629" y="922"/>
                  </a:lnTo>
                  <a:lnTo>
                    <a:pt x="633" y="926"/>
                  </a:lnTo>
                  <a:lnTo>
                    <a:pt x="638" y="931"/>
                  </a:lnTo>
                  <a:lnTo>
                    <a:pt x="646" y="935"/>
                  </a:lnTo>
                  <a:lnTo>
                    <a:pt x="648" y="940"/>
                  </a:lnTo>
                  <a:lnTo>
                    <a:pt x="648" y="944"/>
                  </a:lnTo>
                  <a:lnTo>
                    <a:pt x="648" y="949"/>
                  </a:lnTo>
                  <a:lnTo>
                    <a:pt x="648" y="953"/>
                  </a:lnTo>
                  <a:lnTo>
                    <a:pt x="648" y="958"/>
                  </a:lnTo>
                  <a:lnTo>
                    <a:pt x="648" y="962"/>
                  </a:lnTo>
                  <a:lnTo>
                    <a:pt x="648" y="967"/>
                  </a:lnTo>
                  <a:lnTo>
                    <a:pt x="648" y="971"/>
                  </a:lnTo>
                  <a:lnTo>
                    <a:pt x="642" y="976"/>
                  </a:lnTo>
                  <a:lnTo>
                    <a:pt x="625" y="980"/>
                  </a:lnTo>
                  <a:lnTo>
                    <a:pt x="610" y="985"/>
                  </a:lnTo>
                  <a:lnTo>
                    <a:pt x="595" y="989"/>
                  </a:lnTo>
                  <a:lnTo>
                    <a:pt x="576" y="994"/>
                  </a:lnTo>
                  <a:lnTo>
                    <a:pt x="549" y="998"/>
                  </a:lnTo>
                  <a:lnTo>
                    <a:pt x="515" y="1003"/>
                  </a:lnTo>
                  <a:lnTo>
                    <a:pt x="485" y="1007"/>
                  </a:lnTo>
                  <a:lnTo>
                    <a:pt x="440" y="1012"/>
                  </a:lnTo>
                  <a:lnTo>
                    <a:pt x="381" y="1016"/>
                  </a:lnTo>
                  <a:lnTo>
                    <a:pt x="370" y="1021"/>
                  </a:lnTo>
                  <a:lnTo>
                    <a:pt x="393" y="1025"/>
                  </a:lnTo>
                  <a:lnTo>
                    <a:pt x="425" y="1030"/>
                  </a:lnTo>
                  <a:lnTo>
                    <a:pt x="447" y="1034"/>
                  </a:lnTo>
                  <a:lnTo>
                    <a:pt x="464" y="1039"/>
                  </a:lnTo>
                  <a:lnTo>
                    <a:pt x="476" y="1043"/>
                  </a:lnTo>
                  <a:lnTo>
                    <a:pt x="489" y="1048"/>
                  </a:lnTo>
                  <a:lnTo>
                    <a:pt x="495" y="1052"/>
                  </a:lnTo>
                  <a:lnTo>
                    <a:pt x="500" y="1057"/>
                  </a:lnTo>
                  <a:lnTo>
                    <a:pt x="502" y="1061"/>
                  </a:lnTo>
                  <a:lnTo>
                    <a:pt x="495" y="1066"/>
                  </a:lnTo>
                  <a:lnTo>
                    <a:pt x="485" y="1070"/>
                  </a:lnTo>
                  <a:lnTo>
                    <a:pt x="476" y="1075"/>
                  </a:lnTo>
                  <a:lnTo>
                    <a:pt x="472" y="1079"/>
                  </a:lnTo>
                  <a:lnTo>
                    <a:pt x="461" y="1084"/>
                  </a:lnTo>
                  <a:lnTo>
                    <a:pt x="449" y="1088"/>
                  </a:lnTo>
                  <a:lnTo>
                    <a:pt x="442" y="1093"/>
                  </a:lnTo>
                  <a:lnTo>
                    <a:pt x="434" y="1097"/>
                  </a:lnTo>
                  <a:lnTo>
                    <a:pt x="430" y="1102"/>
                  </a:lnTo>
                  <a:lnTo>
                    <a:pt x="427" y="1106"/>
                  </a:lnTo>
                  <a:lnTo>
                    <a:pt x="434" y="1111"/>
                  </a:lnTo>
                  <a:lnTo>
                    <a:pt x="438" y="1115"/>
                  </a:lnTo>
                  <a:lnTo>
                    <a:pt x="442" y="1120"/>
                  </a:lnTo>
                  <a:lnTo>
                    <a:pt x="453" y="1124"/>
                  </a:lnTo>
                  <a:lnTo>
                    <a:pt x="464" y="1129"/>
                  </a:lnTo>
                  <a:lnTo>
                    <a:pt x="470" y="1133"/>
                  </a:lnTo>
                  <a:lnTo>
                    <a:pt x="472" y="1138"/>
                  </a:lnTo>
                  <a:lnTo>
                    <a:pt x="474" y="1142"/>
                  </a:lnTo>
                  <a:lnTo>
                    <a:pt x="472" y="1147"/>
                  </a:lnTo>
                  <a:lnTo>
                    <a:pt x="468" y="1151"/>
                  </a:lnTo>
                  <a:lnTo>
                    <a:pt x="464" y="1156"/>
                  </a:lnTo>
                  <a:lnTo>
                    <a:pt x="459" y="1160"/>
                  </a:lnTo>
                  <a:lnTo>
                    <a:pt x="453" y="1165"/>
                  </a:lnTo>
                  <a:lnTo>
                    <a:pt x="444" y="1169"/>
                  </a:lnTo>
                  <a:lnTo>
                    <a:pt x="444" y="1174"/>
                  </a:lnTo>
                  <a:lnTo>
                    <a:pt x="455" y="1178"/>
                  </a:lnTo>
                  <a:lnTo>
                    <a:pt x="476" y="1183"/>
                  </a:lnTo>
                  <a:lnTo>
                    <a:pt x="495" y="1187"/>
                  </a:lnTo>
                  <a:lnTo>
                    <a:pt x="510" y="1192"/>
                  </a:lnTo>
                  <a:lnTo>
                    <a:pt x="527" y="1196"/>
                  </a:lnTo>
                  <a:lnTo>
                    <a:pt x="546" y="1201"/>
                  </a:lnTo>
                  <a:lnTo>
                    <a:pt x="557" y="1205"/>
                  </a:lnTo>
                  <a:lnTo>
                    <a:pt x="561" y="1210"/>
                  </a:lnTo>
                  <a:lnTo>
                    <a:pt x="561" y="1214"/>
                  </a:lnTo>
                  <a:lnTo>
                    <a:pt x="555" y="1219"/>
                  </a:lnTo>
                  <a:lnTo>
                    <a:pt x="542" y="1223"/>
                  </a:lnTo>
                  <a:lnTo>
                    <a:pt x="527" y="1228"/>
                  </a:lnTo>
                  <a:lnTo>
                    <a:pt x="508" y="1232"/>
                  </a:lnTo>
                  <a:lnTo>
                    <a:pt x="481" y="1237"/>
                  </a:lnTo>
                  <a:lnTo>
                    <a:pt x="442" y="1241"/>
                  </a:lnTo>
                  <a:lnTo>
                    <a:pt x="400" y="1246"/>
                  </a:lnTo>
                  <a:lnTo>
                    <a:pt x="366" y="1250"/>
                  </a:lnTo>
                  <a:lnTo>
                    <a:pt x="347" y="1255"/>
                  </a:lnTo>
                  <a:lnTo>
                    <a:pt x="328" y="1259"/>
                  </a:lnTo>
                  <a:lnTo>
                    <a:pt x="300" y="1264"/>
                  </a:lnTo>
                  <a:lnTo>
                    <a:pt x="285" y="1268"/>
                  </a:lnTo>
                  <a:lnTo>
                    <a:pt x="281" y="1273"/>
                  </a:lnTo>
                  <a:lnTo>
                    <a:pt x="279" y="1277"/>
                  </a:lnTo>
                  <a:lnTo>
                    <a:pt x="279" y="1282"/>
                  </a:lnTo>
                  <a:lnTo>
                    <a:pt x="279" y="1286"/>
                  </a:lnTo>
                  <a:lnTo>
                    <a:pt x="270" y="1291"/>
                  </a:lnTo>
                  <a:lnTo>
                    <a:pt x="258" y="1295"/>
                  </a:lnTo>
                  <a:lnTo>
                    <a:pt x="245" y="1300"/>
                  </a:lnTo>
                  <a:lnTo>
                    <a:pt x="238" y="1304"/>
                  </a:lnTo>
                  <a:lnTo>
                    <a:pt x="234" y="1309"/>
                  </a:lnTo>
                  <a:lnTo>
                    <a:pt x="230" y="1313"/>
                  </a:lnTo>
                  <a:lnTo>
                    <a:pt x="232" y="1318"/>
                  </a:lnTo>
                  <a:lnTo>
                    <a:pt x="241" y="1322"/>
                  </a:lnTo>
                  <a:lnTo>
                    <a:pt x="245" y="1327"/>
                  </a:lnTo>
                  <a:lnTo>
                    <a:pt x="245" y="1331"/>
                  </a:lnTo>
                  <a:lnTo>
                    <a:pt x="249" y="1336"/>
                  </a:lnTo>
                  <a:lnTo>
                    <a:pt x="249" y="1340"/>
                  </a:lnTo>
                  <a:lnTo>
                    <a:pt x="247" y="1345"/>
                  </a:lnTo>
                  <a:lnTo>
                    <a:pt x="243" y="1349"/>
                  </a:lnTo>
                  <a:lnTo>
                    <a:pt x="236" y="1354"/>
                  </a:lnTo>
                  <a:lnTo>
                    <a:pt x="221" y="1358"/>
                  </a:lnTo>
                  <a:lnTo>
                    <a:pt x="202" y="1363"/>
                  </a:lnTo>
                  <a:lnTo>
                    <a:pt x="190" y="1367"/>
                  </a:lnTo>
                  <a:lnTo>
                    <a:pt x="183" y="1372"/>
                  </a:lnTo>
                  <a:lnTo>
                    <a:pt x="177" y="1376"/>
                  </a:lnTo>
                  <a:lnTo>
                    <a:pt x="173" y="1381"/>
                  </a:lnTo>
                  <a:lnTo>
                    <a:pt x="168" y="1385"/>
                  </a:lnTo>
                  <a:lnTo>
                    <a:pt x="166" y="1390"/>
                  </a:lnTo>
                  <a:lnTo>
                    <a:pt x="166" y="1394"/>
                  </a:lnTo>
                  <a:lnTo>
                    <a:pt x="164" y="1399"/>
                  </a:lnTo>
                  <a:lnTo>
                    <a:pt x="164" y="1403"/>
                  </a:lnTo>
                  <a:lnTo>
                    <a:pt x="164" y="1408"/>
                  </a:lnTo>
                  <a:lnTo>
                    <a:pt x="162" y="1412"/>
                  </a:lnTo>
                  <a:lnTo>
                    <a:pt x="166" y="1417"/>
                  </a:lnTo>
                  <a:lnTo>
                    <a:pt x="173" y="1421"/>
                  </a:lnTo>
                  <a:lnTo>
                    <a:pt x="177" y="1426"/>
                  </a:lnTo>
                  <a:lnTo>
                    <a:pt x="177" y="1430"/>
                  </a:lnTo>
                  <a:lnTo>
                    <a:pt x="179" y="1435"/>
                  </a:lnTo>
                  <a:lnTo>
                    <a:pt x="179" y="1439"/>
                  </a:lnTo>
                  <a:lnTo>
                    <a:pt x="179" y="1444"/>
                  </a:lnTo>
                  <a:lnTo>
                    <a:pt x="179" y="1448"/>
                  </a:lnTo>
                  <a:lnTo>
                    <a:pt x="177" y="1453"/>
                  </a:lnTo>
                  <a:lnTo>
                    <a:pt x="173" y="1457"/>
                  </a:lnTo>
                  <a:lnTo>
                    <a:pt x="166" y="1462"/>
                  </a:lnTo>
                  <a:lnTo>
                    <a:pt x="166" y="1466"/>
                  </a:lnTo>
                  <a:lnTo>
                    <a:pt x="164" y="1471"/>
                  </a:lnTo>
                  <a:lnTo>
                    <a:pt x="168" y="1475"/>
                  </a:lnTo>
                  <a:lnTo>
                    <a:pt x="175" y="1480"/>
                  </a:lnTo>
                  <a:lnTo>
                    <a:pt x="177" y="1484"/>
                  </a:lnTo>
                  <a:lnTo>
                    <a:pt x="181" y="1489"/>
                  </a:lnTo>
                  <a:lnTo>
                    <a:pt x="183" y="1493"/>
                  </a:lnTo>
                  <a:lnTo>
                    <a:pt x="183" y="1498"/>
                  </a:lnTo>
                  <a:lnTo>
                    <a:pt x="183" y="1502"/>
                  </a:lnTo>
                  <a:lnTo>
                    <a:pt x="187" y="1507"/>
                  </a:lnTo>
                  <a:lnTo>
                    <a:pt x="198" y="1511"/>
                  </a:lnTo>
                  <a:lnTo>
                    <a:pt x="198" y="1516"/>
                  </a:lnTo>
                  <a:lnTo>
                    <a:pt x="194" y="1520"/>
                  </a:lnTo>
                  <a:lnTo>
                    <a:pt x="192" y="1525"/>
                  </a:lnTo>
                  <a:lnTo>
                    <a:pt x="190" y="1529"/>
                  </a:lnTo>
                  <a:lnTo>
                    <a:pt x="187" y="1534"/>
                  </a:lnTo>
                  <a:lnTo>
                    <a:pt x="185" y="1538"/>
                  </a:lnTo>
                  <a:lnTo>
                    <a:pt x="181" y="1543"/>
                  </a:lnTo>
                  <a:lnTo>
                    <a:pt x="168" y="1547"/>
                  </a:lnTo>
                  <a:lnTo>
                    <a:pt x="151" y="1552"/>
                  </a:lnTo>
                  <a:lnTo>
                    <a:pt x="141" y="1556"/>
                  </a:lnTo>
                  <a:lnTo>
                    <a:pt x="134" y="1560"/>
                  </a:lnTo>
                  <a:lnTo>
                    <a:pt x="128" y="1565"/>
                  </a:lnTo>
                  <a:lnTo>
                    <a:pt x="124" y="1569"/>
                  </a:lnTo>
                  <a:lnTo>
                    <a:pt x="117" y="1574"/>
                  </a:lnTo>
                  <a:lnTo>
                    <a:pt x="111" y="1578"/>
                  </a:lnTo>
                  <a:lnTo>
                    <a:pt x="107" y="1583"/>
                  </a:lnTo>
                  <a:lnTo>
                    <a:pt x="105" y="1587"/>
                  </a:lnTo>
                  <a:lnTo>
                    <a:pt x="105" y="1592"/>
                  </a:lnTo>
                  <a:lnTo>
                    <a:pt x="105" y="1596"/>
                  </a:lnTo>
                  <a:lnTo>
                    <a:pt x="102" y="1601"/>
                  </a:lnTo>
                  <a:lnTo>
                    <a:pt x="98" y="1605"/>
                  </a:lnTo>
                  <a:lnTo>
                    <a:pt x="96" y="1610"/>
                  </a:lnTo>
                  <a:lnTo>
                    <a:pt x="96" y="1614"/>
                  </a:lnTo>
                  <a:lnTo>
                    <a:pt x="96" y="1619"/>
                  </a:lnTo>
                  <a:lnTo>
                    <a:pt x="96" y="1623"/>
                  </a:lnTo>
                  <a:lnTo>
                    <a:pt x="96" y="1628"/>
                  </a:lnTo>
                  <a:lnTo>
                    <a:pt x="96" y="1632"/>
                  </a:lnTo>
                  <a:lnTo>
                    <a:pt x="94" y="1637"/>
                  </a:lnTo>
                  <a:lnTo>
                    <a:pt x="94" y="1641"/>
                  </a:lnTo>
                  <a:lnTo>
                    <a:pt x="96" y="1646"/>
                  </a:lnTo>
                  <a:lnTo>
                    <a:pt x="96" y="1650"/>
                  </a:lnTo>
                  <a:lnTo>
                    <a:pt x="96" y="1655"/>
                  </a:lnTo>
                  <a:lnTo>
                    <a:pt x="98" y="1659"/>
                  </a:lnTo>
                  <a:lnTo>
                    <a:pt x="102" y="1664"/>
                  </a:lnTo>
                  <a:lnTo>
                    <a:pt x="109" y="1668"/>
                  </a:lnTo>
                  <a:lnTo>
                    <a:pt x="113" y="1673"/>
                  </a:lnTo>
                  <a:lnTo>
                    <a:pt x="115" y="1677"/>
                  </a:lnTo>
                  <a:lnTo>
                    <a:pt x="117" y="1682"/>
                  </a:lnTo>
                  <a:lnTo>
                    <a:pt x="119" y="1686"/>
                  </a:lnTo>
                  <a:lnTo>
                    <a:pt x="119" y="1691"/>
                  </a:lnTo>
                  <a:lnTo>
                    <a:pt x="122" y="1695"/>
                  </a:lnTo>
                  <a:lnTo>
                    <a:pt x="126" y="1700"/>
                  </a:lnTo>
                  <a:lnTo>
                    <a:pt x="126" y="1704"/>
                  </a:lnTo>
                  <a:lnTo>
                    <a:pt x="124" y="1709"/>
                  </a:lnTo>
                  <a:lnTo>
                    <a:pt x="122" y="1713"/>
                  </a:lnTo>
                  <a:lnTo>
                    <a:pt x="124" y="1718"/>
                  </a:lnTo>
                  <a:lnTo>
                    <a:pt x="124" y="1722"/>
                  </a:lnTo>
                  <a:lnTo>
                    <a:pt x="126" y="1727"/>
                  </a:lnTo>
                  <a:lnTo>
                    <a:pt x="126" y="1731"/>
                  </a:lnTo>
                  <a:lnTo>
                    <a:pt x="130" y="1736"/>
                  </a:lnTo>
                  <a:lnTo>
                    <a:pt x="134" y="1740"/>
                  </a:lnTo>
                  <a:lnTo>
                    <a:pt x="141" y="1745"/>
                  </a:lnTo>
                  <a:lnTo>
                    <a:pt x="151" y="1749"/>
                  </a:lnTo>
                  <a:lnTo>
                    <a:pt x="162" y="1754"/>
                  </a:lnTo>
                  <a:lnTo>
                    <a:pt x="173" y="1758"/>
                  </a:lnTo>
                  <a:lnTo>
                    <a:pt x="179" y="1763"/>
                  </a:lnTo>
                  <a:lnTo>
                    <a:pt x="185" y="1767"/>
                  </a:lnTo>
                  <a:lnTo>
                    <a:pt x="192" y="1772"/>
                  </a:lnTo>
                  <a:lnTo>
                    <a:pt x="196" y="1776"/>
                  </a:lnTo>
                  <a:lnTo>
                    <a:pt x="200" y="1781"/>
                  </a:lnTo>
                  <a:lnTo>
                    <a:pt x="202" y="1785"/>
                  </a:lnTo>
                  <a:lnTo>
                    <a:pt x="202" y="1790"/>
                  </a:lnTo>
                  <a:lnTo>
                    <a:pt x="198" y="1794"/>
                  </a:lnTo>
                  <a:lnTo>
                    <a:pt x="196" y="1799"/>
                  </a:lnTo>
                  <a:lnTo>
                    <a:pt x="194" y="1803"/>
                  </a:lnTo>
                  <a:lnTo>
                    <a:pt x="192" y="1808"/>
                  </a:lnTo>
                  <a:lnTo>
                    <a:pt x="192" y="1812"/>
                  </a:lnTo>
                  <a:lnTo>
                    <a:pt x="190" y="1817"/>
                  </a:lnTo>
                  <a:lnTo>
                    <a:pt x="190" y="1821"/>
                  </a:lnTo>
                  <a:lnTo>
                    <a:pt x="194" y="1826"/>
                  </a:lnTo>
                  <a:lnTo>
                    <a:pt x="202" y="1830"/>
                  </a:lnTo>
                  <a:lnTo>
                    <a:pt x="209" y="1835"/>
                  </a:lnTo>
                  <a:lnTo>
                    <a:pt x="211" y="1839"/>
                  </a:lnTo>
                  <a:lnTo>
                    <a:pt x="211" y="1844"/>
                  </a:lnTo>
                  <a:lnTo>
                    <a:pt x="207" y="1848"/>
                  </a:lnTo>
                  <a:lnTo>
                    <a:pt x="204" y="1853"/>
                  </a:lnTo>
                  <a:lnTo>
                    <a:pt x="200" y="1857"/>
                  </a:lnTo>
                  <a:lnTo>
                    <a:pt x="198" y="1862"/>
                  </a:lnTo>
                  <a:lnTo>
                    <a:pt x="196" y="1866"/>
                  </a:lnTo>
                  <a:lnTo>
                    <a:pt x="196" y="1871"/>
                  </a:lnTo>
                  <a:lnTo>
                    <a:pt x="198" y="1875"/>
                  </a:lnTo>
                  <a:lnTo>
                    <a:pt x="198" y="1880"/>
                  </a:lnTo>
                  <a:lnTo>
                    <a:pt x="200" y="1884"/>
                  </a:lnTo>
                  <a:lnTo>
                    <a:pt x="200" y="1889"/>
                  </a:lnTo>
                  <a:lnTo>
                    <a:pt x="200" y="1893"/>
                  </a:lnTo>
                  <a:lnTo>
                    <a:pt x="198" y="1898"/>
                  </a:lnTo>
                  <a:lnTo>
                    <a:pt x="194" y="1902"/>
                  </a:lnTo>
                  <a:lnTo>
                    <a:pt x="183" y="1907"/>
                  </a:lnTo>
                  <a:lnTo>
                    <a:pt x="170" y="1911"/>
                  </a:lnTo>
                  <a:lnTo>
                    <a:pt x="160" y="1916"/>
                  </a:lnTo>
                  <a:lnTo>
                    <a:pt x="158" y="1920"/>
                  </a:lnTo>
                  <a:lnTo>
                    <a:pt x="162" y="1925"/>
                  </a:lnTo>
                  <a:lnTo>
                    <a:pt x="164" y="1929"/>
                  </a:lnTo>
                  <a:lnTo>
                    <a:pt x="164" y="1934"/>
                  </a:lnTo>
                  <a:lnTo>
                    <a:pt x="166" y="1938"/>
                  </a:lnTo>
                  <a:lnTo>
                    <a:pt x="168" y="1943"/>
                  </a:lnTo>
                  <a:lnTo>
                    <a:pt x="170" y="1947"/>
                  </a:lnTo>
                  <a:lnTo>
                    <a:pt x="173" y="1952"/>
                  </a:lnTo>
                  <a:lnTo>
                    <a:pt x="175" y="1956"/>
                  </a:lnTo>
                  <a:lnTo>
                    <a:pt x="175" y="1961"/>
                  </a:lnTo>
                  <a:lnTo>
                    <a:pt x="173" y="1965"/>
                  </a:lnTo>
                  <a:lnTo>
                    <a:pt x="173" y="1970"/>
                  </a:lnTo>
                  <a:lnTo>
                    <a:pt x="173" y="1974"/>
                  </a:lnTo>
                  <a:lnTo>
                    <a:pt x="175" y="1979"/>
                  </a:lnTo>
                  <a:lnTo>
                    <a:pt x="175" y="1983"/>
                  </a:lnTo>
                  <a:lnTo>
                    <a:pt x="175" y="1988"/>
                  </a:lnTo>
                  <a:lnTo>
                    <a:pt x="170" y="1992"/>
                  </a:lnTo>
                  <a:lnTo>
                    <a:pt x="166" y="1997"/>
                  </a:lnTo>
                  <a:lnTo>
                    <a:pt x="166" y="2001"/>
                  </a:lnTo>
                  <a:lnTo>
                    <a:pt x="166" y="2006"/>
                  </a:lnTo>
                  <a:lnTo>
                    <a:pt x="164" y="2010"/>
                  </a:lnTo>
                  <a:lnTo>
                    <a:pt x="162" y="2015"/>
                  </a:lnTo>
                  <a:lnTo>
                    <a:pt x="160" y="2019"/>
                  </a:lnTo>
                  <a:lnTo>
                    <a:pt x="160" y="2024"/>
                  </a:lnTo>
                  <a:lnTo>
                    <a:pt x="160" y="2028"/>
                  </a:lnTo>
                  <a:lnTo>
                    <a:pt x="162" y="2033"/>
                  </a:lnTo>
                  <a:lnTo>
                    <a:pt x="166" y="2037"/>
                  </a:lnTo>
                  <a:lnTo>
                    <a:pt x="166" y="2042"/>
                  </a:lnTo>
                  <a:lnTo>
                    <a:pt x="164" y="2046"/>
                  </a:lnTo>
                  <a:lnTo>
                    <a:pt x="164" y="2051"/>
                  </a:lnTo>
                  <a:lnTo>
                    <a:pt x="166" y="2055"/>
                  </a:lnTo>
                  <a:lnTo>
                    <a:pt x="170" y="2060"/>
                  </a:lnTo>
                  <a:lnTo>
                    <a:pt x="179" y="2064"/>
                  </a:lnTo>
                  <a:lnTo>
                    <a:pt x="194" y="2069"/>
                  </a:lnTo>
                  <a:lnTo>
                    <a:pt x="209" y="2073"/>
                  </a:lnTo>
                  <a:lnTo>
                    <a:pt x="224" y="2078"/>
                  </a:lnTo>
                  <a:lnTo>
                    <a:pt x="236" y="2082"/>
                  </a:lnTo>
                  <a:lnTo>
                    <a:pt x="249" y="2087"/>
                  </a:lnTo>
                  <a:lnTo>
                    <a:pt x="258" y="2091"/>
                  </a:lnTo>
                  <a:lnTo>
                    <a:pt x="264" y="2096"/>
                  </a:lnTo>
                  <a:lnTo>
                    <a:pt x="268" y="2100"/>
                  </a:lnTo>
                  <a:lnTo>
                    <a:pt x="268" y="2105"/>
                  </a:lnTo>
                  <a:lnTo>
                    <a:pt x="266" y="2109"/>
                  </a:lnTo>
                  <a:lnTo>
                    <a:pt x="264" y="2114"/>
                  </a:lnTo>
                  <a:lnTo>
                    <a:pt x="264" y="2118"/>
                  </a:lnTo>
                  <a:lnTo>
                    <a:pt x="266" y="2123"/>
                  </a:lnTo>
                  <a:lnTo>
                    <a:pt x="272" y="2127"/>
                  </a:lnTo>
                  <a:lnTo>
                    <a:pt x="283" y="2132"/>
                  </a:lnTo>
                  <a:lnTo>
                    <a:pt x="289" y="2136"/>
                  </a:lnTo>
                  <a:lnTo>
                    <a:pt x="296" y="2141"/>
                  </a:lnTo>
                  <a:lnTo>
                    <a:pt x="304" y="2145"/>
                  </a:lnTo>
                  <a:lnTo>
                    <a:pt x="311" y="2150"/>
                  </a:lnTo>
                  <a:lnTo>
                    <a:pt x="315" y="2154"/>
                  </a:lnTo>
                  <a:lnTo>
                    <a:pt x="317" y="2159"/>
                  </a:lnTo>
                  <a:lnTo>
                    <a:pt x="319" y="2163"/>
                  </a:lnTo>
                  <a:lnTo>
                    <a:pt x="319" y="2168"/>
                  </a:lnTo>
                  <a:lnTo>
                    <a:pt x="317" y="2172"/>
                  </a:lnTo>
                  <a:lnTo>
                    <a:pt x="315" y="2177"/>
                  </a:lnTo>
                  <a:lnTo>
                    <a:pt x="315" y="2181"/>
                  </a:lnTo>
                  <a:lnTo>
                    <a:pt x="313" y="2186"/>
                  </a:lnTo>
                  <a:lnTo>
                    <a:pt x="311" y="2190"/>
                  </a:lnTo>
                  <a:lnTo>
                    <a:pt x="304" y="2195"/>
                  </a:lnTo>
                  <a:lnTo>
                    <a:pt x="300" y="2199"/>
                  </a:lnTo>
                  <a:lnTo>
                    <a:pt x="294" y="2204"/>
                  </a:lnTo>
                  <a:lnTo>
                    <a:pt x="283" y="2208"/>
                  </a:lnTo>
                  <a:lnTo>
                    <a:pt x="275" y="2213"/>
                  </a:lnTo>
                  <a:lnTo>
                    <a:pt x="268" y="2217"/>
                  </a:lnTo>
                  <a:lnTo>
                    <a:pt x="266" y="2222"/>
                  </a:lnTo>
                  <a:lnTo>
                    <a:pt x="272" y="2226"/>
                  </a:lnTo>
                  <a:lnTo>
                    <a:pt x="283" y="2231"/>
                  </a:lnTo>
                  <a:lnTo>
                    <a:pt x="296" y="2235"/>
                  </a:lnTo>
                  <a:lnTo>
                    <a:pt x="306" y="2240"/>
                  </a:lnTo>
                  <a:lnTo>
                    <a:pt x="317" y="2244"/>
                  </a:lnTo>
                  <a:lnTo>
                    <a:pt x="328" y="2249"/>
                  </a:lnTo>
                  <a:lnTo>
                    <a:pt x="349" y="2253"/>
                  </a:lnTo>
                  <a:lnTo>
                    <a:pt x="374" y="2258"/>
                  </a:lnTo>
                  <a:lnTo>
                    <a:pt x="389" y="2262"/>
                  </a:lnTo>
                  <a:lnTo>
                    <a:pt x="396" y="2267"/>
                  </a:lnTo>
                  <a:lnTo>
                    <a:pt x="400" y="2271"/>
                  </a:lnTo>
                  <a:lnTo>
                    <a:pt x="404" y="2276"/>
                  </a:lnTo>
                  <a:lnTo>
                    <a:pt x="406" y="2280"/>
                  </a:lnTo>
                  <a:lnTo>
                    <a:pt x="406" y="2285"/>
                  </a:lnTo>
                  <a:lnTo>
                    <a:pt x="404" y="2289"/>
                  </a:lnTo>
                  <a:lnTo>
                    <a:pt x="393" y="2294"/>
                  </a:lnTo>
                  <a:lnTo>
                    <a:pt x="374" y="2298"/>
                  </a:lnTo>
                  <a:lnTo>
                    <a:pt x="359" y="2303"/>
                  </a:lnTo>
                  <a:lnTo>
                    <a:pt x="351" y="2307"/>
                  </a:lnTo>
                  <a:lnTo>
                    <a:pt x="340" y="2312"/>
                  </a:lnTo>
                  <a:lnTo>
                    <a:pt x="332" y="2316"/>
                  </a:lnTo>
                  <a:lnTo>
                    <a:pt x="321" y="2321"/>
                  </a:lnTo>
                  <a:lnTo>
                    <a:pt x="313" y="2325"/>
                  </a:lnTo>
                  <a:lnTo>
                    <a:pt x="306" y="2330"/>
                  </a:lnTo>
                  <a:lnTo>
                    <a:pt x="302" y="2334"/>
                  </a:lnTo>
                  <a:lnTo>
                    <a:pt x="298" y="2339"/>
                  </a:lnTo>
                  <a:lnTo>
                    <a:pt x="289" y="2343"/>
                  </a:lnTo>
                  <a:lnTo>
                    <a:pt x="279" y="2348"/>
                  </a:lnTo>
                  <a:lnTo>
                    <a:pt x="270" y="2352"/>
                  </a:lnTo>
                  <a:lnTo>
                    <a:pt x="264" y="2357"/>
                  </a:lnTo>
                  <a:lnTo>
                    <a:pt x="262" y="2361"/>
                  </a:lnTo>
                  <a:lnTo>
                    <a:pt x="258" y="2366"/>
                  </a:lnTo>
                  <a:lnTo>
                    <a:pt x="255" y="2370"/>
                  </a:lnTo>
                  <a:lnTo>
                    <a:pt x="253" y="2375"/>
                  </a:lnTo>
                  <a:lnTo>
                    <a:pt x="253" y="2379"/>
                  </a:lnTo>
                  <a:lnTo>
                    <a:pt x="255" y="2384"/>
                  </a:lnTo>
                  <a:lnTo>
                    <a:pt x="262" y="2388"/>
                  </a:lnTo>
                  <a:lnTo>
                    <a:pt x="262" y="2393"/>
                  </a:lnTo>
                  <a:lnTo>
                    <a:pt x="264" y="2397"/>
                  </a:lnTo>
                  <a:lnTo>
                    <a:pt x="264" y="2402"/>
                  </a:lnTo>
                  <a:lnTo>
                    <a:pt x="262" y="2406"/>
                  </a:lnTo>
                  <a:lnTo>
                    <a:pt x="264" y="2411"/>
                  </a:lnTo>
                  <a:lnTo>
                    <a:pt x="266" y="2415"/>
                  </a:lnTo>
                  <a:lnTo>
                    <a:pt x="266" y="2420"/>
                  </a:lnTo>
                  <a:lnTo>
                    <a:pt x="262" y="2424"/>
                  </a:lnTo>
                  <a:lnTo>
                    <a:pt x="258" y="2429"/>
                  </a:lnTo>
                  <a:lnTo>
                    <a:pt x="258" y="2433"/>
                  </a:lnTo>
                  <a:lnTo>
                    <a:pt x="255" y="2438"/>
                  </a:lnTo>
                  <a:lnTo>
                    <a:pt x="255" y="2442"/>
                  </a:lnTo>
                  <a:lnTo>
                    <a:pt x="258" y="2447"/>
                  </a:lnTo>
                  <a:lnTo>
                    <a:pt x="258" y="2451"/>
                  </a:lnTo>
                  <a:lnTo>
                    <a:pt x="255" y="2456"/>
                  </a:lnTo>
                  <a:lnTo>
                    <a:pt x="264" y="2460"/>
                  </a:lnTo>
                  <a:lnTo>
                    <a:pt x="275" y="2465"/>
                  </a:lnTo>
                  <a:lnTo>
                    <a:pt x="275" y="2469"/>
                  </a:lnTo>
                  <a:lnTo>
                    <a:pt x="266" y="2474"/>
                  </a:lnTo>
                  <a:lnTo>
                    <a:pt x="255" y="2478"/>
                  </a:lnTo>
                  <a:lnTo>
                    <a:pt x="241" y="2483"/>
                  </a:lnTo>
                  <a:lnTo>
                    <a:pt x="221" y="2487"/>
                  </a:lnTo>
                  <a:lnTo>
                    <a:pt x="202" y="2492"/>
                  </a:lnTo>
                  <a:lnTo>
                    <a:pt x="185" y="2496"/>
                  </a:lnTo>
                  <a:lnTo>
                    <a:pt x="151" y="2501"/>
                  </a:lnTo>
                  <a:lnTo>
                    <a:pt x="98" y="2505"/>
                  </a:lnTo>
                  <a:lnTo>
                    <a:pt x="71" y="2510"/>
                  </a:lnTo>
                  <a:lnTo>
                    <a:pt x="62" y="2514"/>
                  </a:lnTo>
                  <a:lnTo>
                    <a:pt x="56" y="2519"/>
                  </a:lnTo>
                  <a:lnTo>
                    <a:pt x="56" y="2523"/>
                  </a:lnTo>
                  <a:lnTo>
                    <a:pt x="54" y="2528"/>
                  </a:lnTo>
                  <a:lnTo>
                    <a:pt x="49" y="2532"/>
                  </a:lnTo>
                  <a:lnTo>
                    <a:pt x="43" y="2537"/>
                  </a:lnTo>
                  <a:lnTo>
                    <a:pt x="39" y="2541"/>
                  </a:lnTo>
                  <a:lnTo>
                    <a:pt x="34" y="2546"/>
                  </a:lnTo>
                  <a:lnTo>
                    <a:pt x="32" y="2550"/>
                  </a:lnTo>
                  <a:lnTo>
                    <a:pt x="30" y="2555"/>
                  </a:lnTo>
                  <a:lnTo>
                    <a:pt x="30" y="2559"/>
                  </a:lnTo>
                  <a:lnTo>
                    <a:pt x="17" y="2564"/>
                  </a:lnTo>
                  <a:lnTo>
                    <a:pt x="22" y="2568"/>
                  </a:lnTo>
                  <a:lnTo>
                    <a:pt x="0" y="2573"/>
                  </a:lnTo>
                  <a:lnTo>
                    <a:pt x="49" y="2577"/>
                  </a:lnTo>
                  <a:lnTo>
                    <a:pt x="83" y="2582"/>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Freeform 291"/>
            <p:cNvSpPr/>
            <p:nvPr/>
          </p:nvSpPr>
          <p:spPr>
            <a:xfrm>
              <a:off x="1109520" y="2157480"/>
              <a:ext cx="754200" cy="4379760"/>
            </a:xfrm>
            <a:custGeom>
              <a:avLst/>
              <a:gdLst>
                <a:gd name="textAreaLeft" fmla="*/ 0 w 754200"/>
                <a:gd name="textAreaRight" fmla="*/ 754560 w 754200"/>
                <a:gd name="textAreaTop" fmla="*/ 0 h 4379760"/>
                <a:gd name="textAreaBottom" fmla="*/ 4380120 h 4379760"/>
              </a:gdLst>
              <a:ahLst/>
              <a:rect l="textAreaLeft" t="textAreaTop" r="textAreaRight" b="textAreaBottom"/>
              <a:pathLst>
                <a:path w="446" h="2582">
                  <a:moveTo>
                    <a:pt x="395" y="0"/>
                  </a:moveTo>
                  <a:lnTo>
                    <a:pt x="397" y="4"/>
                  </a:lnTo>
                  <a:lnTo>
                    <a:pt x="402" y="9"/>
                  </a:lnTo>
                  <a:lnTo>
                    <a:pt x="404" y="13"/>
                  </a:lnTo>
                  <a:lnTo>
                    <a:pt x="389" y="18"/>
                  </a:lnTo>
                  <a:lnTo>
                    <a:pt x="376" y="22"/>
                  </a:lnTo>
                  <a:lnTo>
                    <a:pt x="366" y="27"/>
                  </a:lnTo>
                  <a:lnTo>
                    <a:pt x="355" y="31"/>
                  </a:lnTo>
                  <a:lnTo>
                    <a:pt x="351" y="36"/>
                  </a:lnTo>
                  <a:lnTo>
                    <a:pt x="349" y="40"/>
                  </a:lnTo>
                  <a:lnTo>
                    <a:pt x="361" y="45"/>
                  </a:lnTo>
                  <a:lnTo>
                    <a:pt x="372" y="49"/>
                  </a:lnTo>
                  <a:lnTo>
                    <a:pt x="380" y="54"/>
                  </a:lnTo>
                  <a:lnTo>
                    <a:pt x="383" y="58"/>
                  </a:lnTo>
                  <a:lnTo>
                    <a:pt x="391" y="63"/>
                  </a:lnTo>
                  <a:lnTo>
                    <a:pt x="395" y="67"/>
                  </a:lnTo>
                  <a:lnTo>
                    <a:pt x="402" y="72"/>
                  </a:lnTo>
                  <a:lnTo>
                    <a:pt x="408" y="76"/>
                  </a:lnTo>
                  <a:lnTo>
                    <a:pt x="393" y="81"/>
                  </a:lnTo>
                  <a:lnTo>
                    <a:pt x="400" y="85"/>
                  </a:lnTo>
                  <a:lnTo>
                    <a:pt x="423" y="90"/>
                  </a:lnTo>
                  <a:lnTo>
                    <a:pt x="425" y="94"/>
                  </a:lnTo>
                  <a:lnTo>
                    <a:pt x="425" y="99"/>
                  </a:lnTo>
                  <a:lnTo>
                    <a:pt x="434" y="103"/>
                  </a:lnTo>
                  <a:lnTo>
                    <a:pt x="436" y="108"/>
                  </a:lnTo>
                  <a:lnTo>
                    <a:pt x="446" y="112"/>
                  </a:lnTo>
                  <a:lnTo>
                    <a:pt x="436" y="117"/>
                  </a:lnTo>
                  <a:lnTo>
                    <a:pt x="427" y="121"/>
                  </a:lnTo>
                  <a:lnTo>
                    <a:pt x="402" y="126"/>
                  </a:lnTo>
                  <a:lnTo>
                    <a:pt x="391" y="130"/>
                  </a:lnTo>
                  <a:lnTo>
                    <a:pt x="395" y="135"/>
                  </a:lnTo>
                  <a:lnTo>
                    <a:pt x="400" y="139"/>
                  </a:lnTo>
                  <a:lnTo>
                    <a:pt x="419" y="144"/>
                  </a:lnTo>
                  <a:lnTo>
                    <a:pt x="423" y="148"/>
                  </a:lnTo>
                  <a:lnTo>
                    <a:pt x="436" y="153"/>
                  </a:lnTo>
                  <a:lnTo>
                    <a:pt x="434" y="157"/>
                  </a:lnTo>
                  <a:lnTo>
                    <a:pt x="431" y="162"/>
                  </a:lnTo>
                  <a:lnTo>
                    <a:pt x="414" y="166"/>
                  </a:lnTo>
                  <a:lnTo>
                    <a:pt x="404" y="171"/>
                  </a:lnTo>
                  <a:lnTo>
                    <a:pt x="414" y="175"/>
                  </a:lnTo>
                  <a:lnTo>
                    <a:pt x="427" y="180"/>
                  </a:lnTo>
                  <a:lnTo>
                    <a:pt x="442" y="184"/>
                  </a:lnTo>
                  <a:lnTo>
                    <a:pt x="444" y="189"/>
                  </a:lnTo>
                  <a:lnTo>
                    <a:pt x="404" y="193"/>
                  </a:lnTo>
                  <a:lnTo>
                    <a:pt x="270" y="198"/>
                  </a:lnTo>
                  <a:lnTo>
                    <a:pt x="149" y="202"/>
                  </a:lnTo>
                  <a:lnTo>
                    <a:pt x="64" y="207"/>
                  </a:lnTo>
                  <a:lnTo>
                    <a:pt x="47" y="211"/>
                  </a:lnTo>
                  <a:lnTo>
                    <a:pt x="19" y="216"/>
                  </a:lnTo>
                  <a:lnTo>
                    <a:pt x="15" y="220"/>
                  </a:lnTo>
                  <a:lnTo>
                    <a:pt x="0" y="225"/>
                  </a:lnTo>
                  <a:lnTo>
                    <a:pt x="7" y="229"/>
                  </a:lnTo>
                  <a:lnTo>
                    <a:pt x="21" y="234"/>
                  </a:lnTo>
                  <a:lnTo>
                    <a:pt x="26" y="238"/>
                  </a:lnTo>
                  <a:lnTo>
                    <a:pt x="36" y="243"/>
                  </a:lnTo>
                  <a:lnTo>
                    <a:pt x="47" y="247"/>
                  </a:lnTo>
                  <a:lnTo>
                    <a:pt x="66" y="252"/>
                  </a:lnTo>
                  <a:lnTo>
                    <a:pt x="94" y="256"/>
                  </a:lnTo>
                  <a:lnTo>
                    <a:pt x="77" y="261"/>
                  </a:lnTo>
                  <a:lnTo>
                    <a:pt x="77" y="265"/>
                  </a:lnTo>
                  <a:lnTo>
                    <a:pt x="77" y="270"/>
                  </a:lnTo>
                  <a:lnTo>
                    <a:pt x="68" y="274"/>
                  </a:lnTo>
                  <a:lnTo>
                    <a:pt x="64" y="279"/>
                  </a:lnTo>
                  <a:lnTo>
                    <a:pt x="51" y="283"/>
                  </a:lnTo>
                  <a:lnTo>
                    <a:pt x="51" y="288"/>
                  </a:lnTo>
                  <a:lnTo>
                    <a:pt x="58" y="292"/>
                  </a:lnTo>
                  <a:lnTo>
                    <a:pt x="58" y="297"/>
                  </a:lnTo>
                  <a:lnTo>
                    <a:pt x="47" y="301"/>
                  </a:lnTo>
                  <a:lnTo>
                    <a:pt x="49" y="306"/>
                  </a:lnTo>
                  <a:lnTo>
                    <a:pt x="47" y="310"/>
                  </a:lnTo>
                  <a:lnTo>
                    <a:pt x="49" y="315"/>
                  </a:lnTo>
                  <a:lnTo>
                    <a:pt x="60" y="319"/>
                  </a:lnTo>
                  <a:lnTo>
                    <a:pt x="70" y="324"/>
                  </a:lnTo>
                  <a:lnTo>
                    <a:pt x="70" y="328"/>
                  </a:lnTo>
                  <a:lnTo>
                    <a:pt x="68" y="333"/>
                  </a:lnTo>
                  <a:lnTo>
                    <a:pt x="62" y="337"/>
                  </a:lnTo>
                  <a:lnTo>
                    <a:pt x="62" y="342"/>
                  </a:lnTo>
                  <a:lnTo>
                    <a:pt x="60" y="346"/>
                  </a:lnTo>
                  <a:lnTo>
                    <a:pt x="51" y="351"/>
                  </a:lnTo>
                  <a:lnTo>
                    <a:pt x="53" y="355"/>
                  </a:lnTo>
                  <a:lnTo>
                    <a:pt x="55" y="360"/>
                  </a:lnTo>
                  <a:lnTo>
                    <a:pt x="60" y="364"/>
                  </a:lnTo>
                  <a:lnTo>
                    <a:pt x="51" y="369"/>
                  </a:lnTo>
                  <a:lnTo>
                    <a:pt x="53" y="373"/>
                  </a:lnTo>
                  <a:lnTo>
                    <a:pt x="53" y="378"/>
                  </a:lnTo>
                  <a:lnTo>
                    <a:pt x="53" y="382"/>
                  </a:lnTo>
                  <a:lnTo>
                    <a:pt x="53" y="387"/>
                  </a:lnTo>
                  <a:lnTo>
                    <a:pt x="55" y="391"/>
                  </a:lnTo>
                  <a:lnTo>
                    <a:pt x="60" y="396"/>
                  </a:lnTo>
                  <a:lnTo>
                    <a:pt x="62" y="400"/>
                  </a:lnTo>
                  <a:lnTo>
                    <a:pt x="58" y="405"/>
                  </a:lnTo>
                  <a:lnTo>
                    <a:pt x="58" y="409"/>
                  </a:lnTo>
                  <a:lnTo>
                    <a:pt x="55" y="414"/>
                  </a:lnTo>
                  <a:lnTo>
                    <a:pt x="62" y="418"/>
                  </a:lnTo>
                  <a:lnTo>
                    <a:pt x="55" y="423"/>
                  </a:lnTo>
                  <a:lnTo>
                    <a:pt x="64" y="427"/>
                  </a:lnTo>
                  <a:lnTo>
                    <a:pt x="60" y="432"/>
                  </a:lnTo>
                  <a:lnTo>
                    <a:pt x="47" y="436"/>
                  </a:lnTo>
                  <a:lnTo>
                    <a:pt x="38" y="441"/>
                  </a:lnTo>
                  <a:lnTo>
                    <a:pt x="34" y="445"/>
                  </a:lnTo>
                  <a:lnTo>
                    <a:pt x="24" y="450"/>
                  </a:lnTo>
                  <a:lnTo>
                    <a:pt x="21" y="454"/>
                  </a:lnTo>
                  <a:lnTo>
                    <a:pt x="34" y="459"/>
                  </a:lnTo>
                  <a:lnTo>
                    <a:pt x="38" y="463"/>
                  </a:lnTo>
                  <a:lnTo>
                    <a:pt x="38" y="468"/>
                  </a:lnTo>
                  <a:lnTo>
                    <a:pt x="43" y="472"/>
                  </a:lnTo>
                  <a:lnTo>
                    <a:pt x="53" y="477"/>
                  </a:lnTo>
                  <a:lnTo>
                    <a:pt x="43" y="481"/>
                  </a:lnTo>
                  <a:lnTo>
                    <a:pt x="43" y="486"/>
                  </a:lnTo>
                  <a:lnTo>
                    <a:pt x="43" y="490"/>
                  </a:lnTo>
                  <a:lnTo>
                    <a:pt x="36" y="495"/>
                  </a:lnTo>
                  <a:lnTo>
                    <a:pt x="45" y="499"/>
                  </a:lnTo>
                  <a:lnTo>
                    <a:pt x="47" y="504"/>
                  </a:lnTo>
                  <a:lnTo>
                    <a:pt x="47" y="508"/>
                  </a:lnTo>
                  <a:lnTo>
                    <a:pt x="28" y="512"/>
                  </a:lnTo>
                  <a:lnTo>
                    <a:pt x="30" y="517"/>
                  </a:lnTo>
                  <a:lnTo>
                    <a:pt x="43" y="521"/>
                  </a:lnTo>
                  <a:lnTo>
                    <a:pt x="43" y="526"/>
                  </a:lnTo>
                  <a:lnTo>
                    <a:pt x="28" y="530"/>
                  </a:lnTo>
                  <a:lnTo>
                    <a:pt x="28" y="535"/>
                  </a:lnTo>
                  <a:lnTo>
                    <a:pt x="32" y="539"/>
                  </a:lnTo>
                  <a:lnTo>
                    <a:pt x="36" y="544"/>
                  </a:lnTo>
                  <a:lnTo>
                    <a:pt x="41" y="548"/>
                  </a:lnTo>
                  <a:lnTo>
                    <a:pt x="51" y="553"/>
                  </a:lnTo>
                  <a:lnTo>
                    <a:pt x="62" y="557"/>
                  </a:lnTo>
                  <a:lnTo>
                    <a:pt x="60" y="562"/>
                  </a:lnTo>
                  <a:lnTo>
                    <a:pt x="66" y="566"/>
                  </a:lnTo>
                  <a:lnTo>
                    <a:pt x="72" y="571"/>
                  </a:lnTo>
                  <a:lnTo>
                    <a:pt x="70" y="575"/>
                  </a:lnTo>
                  <a:lnTo>
                    <a:pt x="62" y="580"/>
                  </a:lnTo>
                  <a:lnTo>
                    <a:pt x="62" y="584"/>
                  </a:lnTo>
                  <a:lnTo>
                    <a:pt x="51" y="589"/>
                  </a:lnTo>
                  <a:lnTo>
                    <a:pt x="45" y="593"/>
                  </a:lnTo>
                  <a:lnTo>
                    <a:pt x="45" y="598"/>
                  </a:lnTo>
                  <a:lnTo>
                    <a:pt x="53" y="602"/>
                  </a:lnTo>
                  <a:lnTo>
                    <a:pt x="49" y="607"/>
                  </a:lnTo>
                  <a:lnTo>
                    <a:pt x="45" y="611"/>
                  </a:lnTo>
                  <a:lnTo>
                    <a:pt x="49" y="616"/>
                  </a:lnTo>
                  <a:lnTo>
                    <a:pt x="51" y="620"/>
                  </a:lnTo>
                  <a:lnTo>
                    <a:pt x="51" y="625"/>
                  </a:lnTo>
                  <a:lnTo>
                    <a:pt x="51" y="629"/>
                  </a:lnTo>
                  <a:lnTo>
                    <a:pt x="53" y="634"/>
                  </a:lnTo>
                  <a:lnTo>
                    <a:pt x="70" y="638"/>
                  </a:lnTo>
                  <a:lnTo>
                    <a:pt x="72" y="643"/>
                  </a:lnTo>
                  <a:lnTo>
                    <a:pt x="68" y="647"/>
                  </a:lnTo>
                  <a:lnTo>
                    <a:pt x="64" y="652"/>
                  </a:lnTo>
                  <a:lnTo>
                    <a:pt x="66" y="656"/>
                  </a:lnTo>
                  <a:lnTo>
                    <a:pt x="70" y="661"/>
                  </a:lnTo>
                  <a:lnTo>
                    <a:pt x="79" y="665"/>
                  </a:lnTo>
                  <a:lnTo>
                    <a:pt x="94" y="670"/>
                  </a:lnTo>
                  <a:lnTo>
                    <a:pt x="94" y="674"/>
                  </a:lnTo>
                  <a:lnTo>
                    <a:pt x="72" y="679"/>
                  </a:lnTo>
                  <a:lnTo>
                    <a:pt x="60" y="683"/>
                  </a:lnTo>
                  <a:lnTo>
                    <a:pt x="64" y="688"/>
                  </a:lnTo>
                  <a:lnTo>
                    <a:pt x="66" y="692"/>
                  </a:lnTo>
                  <a:lnTo>
                    <a:pt x="77" y="697"/>
                  </a:lnTo>
                  <a:lnTo>
                    <a:pt x="77" y="701"/>
                  </a:lnTo>
                  <a:lnTo>
                    <a:pt x="75" y="706"/>
                  </a:lnTo>
                  <a:lnTo>
                    <a:pt x="75" y="710"/>
                  </a:lnTo>
                  <a:lnTo>
                    <a:pt x="85" y="715"/>
                  </a:lnTo>
                  <a:lnTo>
                    <a:pt x="85" y="719"/>
                  </a:lnTo>
                  <a:lnTo>
                    <a:pt x="75" y="724"/>
                  </a:lnTo>
                  <a:lnTo>
                    <a:pt x="72" y="728"/>
                  </a:lnTo>
                  <a:lnTo>
                    <a:pt x="81" y="733"/>
                  </a:lnTo>
                  <a:lnTo>
                    <a:pt x="89" y="737"/>
                  </a:lnTo>
                  <a:lnTo>
                    <a:pt x="83" y="742"/>
                  </a:lnTo>
                  <a:lnTo>
                    <a:pt x="79" y="746"/>
                  </a:lnTo>
                  <a:lnTo>
                    <a:pt x="79" y="751"/>
                  </a:lnTo>
                  <a:lnTo>
                    <a:pt x="81" y="755"/>
                  </a:lnTo>
                  <a:lnTo>
                    <a:pt x="83" y="760"/>
                  </a:lnTo>
                  <a:lnTo>
                    <a:pt x="83" y="764"/>
                  </a:lnTo>
                  <a:lnTo>
                    <a:pt x="85" y="769"/>
                  </a:lnTo>
                  <a:lnTo>
                    <a:pt x="85" y="773"/>
                  </a:lnTo>
                  <a:lnTo>
                    <a:pt x="79" y="778"/>
                  </a:lnTo>
                  <a:lnTo>
                    <a:pt x="75" y="782"/>
                  </a:lnTo>
                  <a:lnTo>
                    <a:pt x="79" y="787"/>
                  </a:lnTo>
                  <a:lnTo>
                    <a:pt x="96" y="791"/>
                  </a:lnTo>
                  <a:lnTo>
                    <a:pt x="111" y="796"/>
                  </a:lnTo>
                  <a:lnTo>
                    <a:pt x="111" y="800"/>
                  </a:lnTo>
                  <a:lnTo>
                    <a:pt x="113" y="805"/>
                  </a:lnTo>
                  <a:lnTo>
                    <a:pt x="106" y="809"/>
                  </a:lnTo>
                  <a:lnTo>
                    <a:pt x="115" y="814"/>
                  </a:lnTo>
                  <a:lnTo>
                    <a:pt x="126" y="818"/>
                  </a:lnTo>
                  <a:lnTo>
                    <a:pt x="145" y="823"/>
                  </a:lnTo>
                  <a:lnTo>
                    <a:pt x="174" y="827"/>
                  </a:lnTo>
                  <a:lnTo>
                    <a:pt x="174" y="832"/>
                  </a:lnTo>
                  <a:lnTo>
                    <a:pt x="164" y="836"/>
                  </a:lnTo>
                  <a:lnTo>
                    <a:pt x="174" y="841"/>
                  </a:lnTo>
                  <a:lnTo>
                    <a:pt x="245" y="845"/>
                  </a:lnTo>
                  <a:lnTo>
                    <a:pt x="253" y="850"/>
                  </a:lnTo>
                  <a:lnTo>
                    <a:pt x="293" y="854"/>
                  </a:lnTo>
                  <a:lnTo>
                    <a:pt x="323" y="859"/>
                  </a:lnTo>
                  <a:lnTo>
                    <a:pt x="325" y="863"/>
                  </a:lnTo>
                  <a:lnTo>
                    <a:pt x="281" y="868"/>
                  </a:lnTo>
                  <a:lnTo>
                    <a:pt x="240" y="872"/>
                  </a:lnTo>
                  <a:lnTo>
                    <a:pt x="221" y="877"/>
                  </a:lnTo>
                  <a:lnTo>
                    <a:pt x="191" y="881"/>
                  </a:lnTo>
                  <a:lnTo>
                    <a:pt x="151" y="886"/>
                  </a:lnTo>
                  <a:lnTo>
                    <a:pt x="111" y="890"/>
                  </a:lnTo>
                  <a:lnTo>
                    <a:pt x="102" y="895"/>
                  </a:lnTo>
                  <a:lnTo>
                    <a:pt x="85" y="899"/>
                  </a:lnTo>
                  <a:lnTo>
                    <a:pt x="75" y="904"/>
                  </a:lnTo>
                  <a:lnTo>
                    <a:pt x="72" y="908"/>
                  </a:lnTo>
                  <a:lnTo>
                    <a:pt x="75" y="913"/>
                  </a:lnTo>
                  <a:lnTo>
                    <a:pt x="87" y="917"/>
                  </a:lnTo>
                  <a:lnTo>
                    <a:pt x="83" y="922"/>
                  </a:lnTo>
                  <a:lnTo>
                    <a:pt x="77" y="926"/>
                  </a:lnTo>
                  <a:lnTo>
                    <a:pt x="72" y="931"/>
                  </a:lnTo>
                  <a:lnTo>
                    <a:pt x="58" y="935"/>
                  </a:lnTo>
                  <a:lnTo>
                    <a:pt x="55" y="940"/>
                  </a:lnTo>
                  <a:lnTo>
                    <a:pt x="64" y="944"/>
                  </a:lnTo>
                  <a:lnTo>
                    <a:pt x="72" y="949"/>
                  </a:lnTo>
                  <a:lnTo>
                    <a:pt x="70" y="953"/>
                  </a:lnTo>
                  <a:lnTo>
                    <a:pt x="70" y="958"/>
                  </a:lnTo>
                  <a:lnTo>
                    <a:pt x="53" y="962"/>
                  </a:lnTo>
                  <a:lnTo>
                    <a:pt x="51" y="967"/>
                  </a:lnTo>
                  <a:lnTo>
                    <a:pt x="62" y="971"/>
                  </a:lnTo>
                  <a:lnTo>
                    <a:pt x="72" y="976"/>
                  </a:lnTo>
                  <a:lnTo>
                    <a:pt x="87" y="980"/>
                  </a:lnTo>
                  <a:lnTo>
                    <a:pt x="121" y="985"/>
                  </a:lnTo>
                  <a:lnTo>
                    <a:pt x="136" y="989"/>
                  </a:lnTo>
                  <a:lnTo>
                    <a:pt x="147" y="994"/>
                  </a:lnTo>
                  <a:lnTo>
                    <a:pt x="123" y="998"/>
                  </a:lnTo>
                  <a:lnTo>
                    <a:pt x="115" y="1003"/>
                  </a:lnTo>
                  <a:lnTo>
                    <a:pt x="77" y="1007"/>
                  </a:lnTo>
                  <a:lnTo>
                    <a:pt x="62" y="1012"/>
                  </a:lnTo>
                  <a:lnTo>
                    <a:pt x="68" y="1016"/>
                  </a:lnTo>
                  <a:lnTo>
                    <a:pt x="58" y="1021"/>
                  </a:lnTo>
                  <a:lnTo>
                    <a:pt x="55" y="1025"/>
                  </a:lnTo>
                  <a:lnTo>
                    <a:pt x="64" y="1030"/>
                  </a:lnTo>
                  <a:lnTo>
                    <a:pt x="64" y="1034"/>
                  </a:lnTo>
                  <a:lnTo>
                    <a:pt x="62" y="1039"/>
                  </a:lnTo>
                  <a:lnTo>
                    <a:pt x="62" y="1043"/>
                  </a:lnTo>
                  <a:lnTo>
                    <a:pt x="43" y="1048"/>
                  </a:lnTo>
                  <a:lnTo>
                    <a:pt x="34" y="1052"/>
                  </a:lnTo>
                  <a:lnTo>
                    <a:pt x="49" y="1057"/>
                  </a:lnTo>
                  <a:lnTo>
                    <a:pt x="66" y="1061"/>
                  </a:lnTo>
                  <a:lnTo>
                    <a:pt x="64" y="1066"/>
                  </a:lnTo>
                  <a:lnTo>
                    <a:pt x="66" y="1070"/>
                  </a:lnTo>
                  <a:lnTo>
                    <a:pt x="77" y="1075"/>
                  </a:lnTo>
                  <a:lnTo>
                    <a:pt x="75" y="1079"/>
                  </a:lnTo>
                  <a:lnTo>
                    <a:pt x="79" y="1084"/>
                  </a:lnTo>
                  <a:lnTo>
                    <a:pt x="87" y="1088"/>
                  </a:lnTo>
                  <a:lnTo>
                    <a:pt x="96" y="1093"/>
                  </a:lnTo>
                  <a:lnTo>
                    <a:pt x="92" y="1097"/>
                  </a:lnTo>
                  <a:lnTo>
                    <a:pt x="81" y="1102"/>
                  </a:lnTo>
                  <a:lnTo>
                    <a:pt x="85" y="1106"/>
                  </a:lnTo>
                  <a:lnTo>
                    <a:pt x="96" y="1111"/>
                  </a:lnTo>
                  <a:lnTo>
                    <a:pt x="89" y="1115"/>
                  </a:lnTo>
                  <a:lnTo>
                    <a:pt x="89" y="1120"/>
                  </a:lnTo>
                  <a:lnTo>
                    <a:pt x="96" y="1124"/>
                  </a:lnTo>
                  <a:lnTo>
                    <a:pt x="100" y="1129"/>
                  </a:lnTo>
                  <a:lnTo>
                    <a:pt x="94" y="1133"/>
                  </a:lnTo>
                  <a:lnTo>
                    <a:pt x="79" y="1138"/>
                  </a:lnTo>
                  <a:lnTo>
                    <a:pt x="72" y="1142"/>
                  </a:lnTo>
                  <a:lnTo>
                    <a:pt x="70" y="1147"/>
                  </a:lnTo>
                  <a:lnTo>
                    <a:pt x="66" y="1151"/>
                  </a:lnTo>
                  <a:lnTo>
                    <a:pt x="58" y="1156"/>
                  </a:lnTo>
                  <a:lnTo>
                    <a:pt x="45" y="1160"/>
                  </a:lnTo>
                  <a:lnTo>
                    <a:pt x="36" y="1165"/>
                  </a:lnTo>
                  <a:lnTo>
                    <a:pt x="34" y="1169"/>
                  </a:lnTo>
                  <a:lnTo>
                    <a:pt x="30" y="1174"/>
                  </a:lnTo>
                  <a:lnTo>
                    <a:pt x="28" y="1178"/>
                  </a:lnTo>
                  <a:lnTo>
                    <a:pt x="47" y="1183"/>
                  </a:lnTo>
                  <a:lnTo>
                    <a:pt x="53" y="1187"/>
                  </a:lnTo>
                  <a:lnTo>
                    <a:pt x="62" y="1192"/>
                  </a:lnTo>
                  <a:lnTo>
                    <a:pt x="72" y="1196"/>
                  </a:lnTo>
                  <a:lnTo>
                    <a:pt x="62" y="1201"/>
                  </a:lnTo>
                  <a:lnTo>
                    <a:pt x="51" y="1205"/>
                  </a:lnTo>
                  <a:lnTo>
                    <a:pt x="41" y="1210"/>
                  </a:lnTo>
                  <a:lnTo>
                    <a:pt x="45" y="1214"/>
                  </a:lnTo>
                  <a:lnTo>
                    <a:pt x="49" y="1219"/>
                  </a:lnTo>
                  <a:lnTo>
                    <a:pt x="38" y="1223"/>
                  </a:lnTo>
                  <a:lnTo>
                    <a:pt x="30" y="1228"/>
                  </a:lnTo>
                  <a:lnTo>
                    <a:pt x="36" y="1232"/>
                  </a:lnTo>
                  <a:lnTo>
                    <a:pt x="38" y="1237"/>
                  </a:lnTo>
                  <a:lnTo>
                    <a:pt x="34" y="1241"/>
                  </a:lnTo>
                  <a:lnTo>
                    <a:pt x="36" y="1246"/>
                  </a:lnTo>
                  <a:lnTo>
                    <a:pt x="43" y="1250"/>
                  </a:lnTo>
                  <a:lnTo>
                    <a:pt x="43" y="1255"/>
                  </a:lnTo>
                  <a:lnTo>
                    <a:pt x="36" y="1259"/>
                  </a:lnTo>
                  <a:lnTo>
                    <a:pt x="28" y="1264"/>
                  </a:lnTo>
                  <a:lnTo>
                    <a:pt x="19" y="1268"/>
                  </a:lnTo>
                  <a:lnTo>
                    <a:pt x="21" y="1273"/>
                  </a:lnTo>
                  <a:lnTo>
                    <a:pt x="45" y="1277"/>
                  </a:lnTo>
                  <a:lnTo>
                    <a:pt x="49" y="1282"/>
                  </a:lnTo>
                  <a:lnTo>
                    <a:pt x="62" y="1286"/>
                  </a:lnTo>
                  <a:lnTo>
                    <a:pt x="75" y="1291"/>
                  </a:lnTo>
                  <a:lnTo>
                    <a:pt x="72" y="1295"/>
                  </a:lnTo>
                  <a:lnTo>
                    <a:pt x="62" y="1300"/>
                  </a:lnTo>
                  <a:lnTo>
                    <a:pt x="64" y="1304"/>
                  </a:lnTo>
                  <a:lnTo>
                    <a:pt x="77" y="1309"/>
                  </a:lnTo>
                  <a:lnTo>
                    <a:pt x="79" y="1313"/>
                  </a:lnTo>
                  <a:lnTo>
                    <a:pt x="77" y="1318"/>
                  </a:lnTo>
                  <a:lnTo>
                    <a:pt x="72" y="1322"/>
                  </a:lnTo>
                  <a:lnTo>
                    <a:pt x="68" y="1327"/>
                  </a:lnTo>
                  <a:lnTo>
                    <a:pt x="66" y="1331"/>
                  </a:lnTo>
                  <a:lnTo>
                    <a:pt x="64" y="1336"/>
                  </a:lnTo>
                  <a:lnTo>
                    <a:pt x="58" y="1340"/>
                  </a:lnTo>
                  <a:lnTo>
                    <a:pt x="58" y="1345"/>
                  </a:lnTo>
                  <a:lnTo>
                    <a:pt x="51" y="1349"/>
                  </a:lnTo>
                  <a:lnTo>
                    <a:pt x="49" y="1354"/>
                  </a:lnTo>
                  <a:lnTo>
                    <a:pt x="55" y="1358"/>
                  </a:lnTo>
                  <a:lnTo>
                    <a:pt x="68" y="1363"/>
                  </a:lnTo>
                  <a:lnTo>
                    <a:pt x="70" y="1367"/>
                  </a:lnTo>
                  <a:lnTo>
                    <a:pt x="72" y="1372"/>
                  </a:lnTo>
                  <a:lnTo>
                    <a:pt x="72" y="1376"/>
                  </a:lnTo>
                  <a:lnTo>
                    <a:pt x="66" y="1381"/>
                  </a:lnTo>
                  <a:lnTo>
                    <a:pt x="64" y="1385"/>
                  </a:lnTo>
                  <a:lnTo>
                    <a:pt x="60" y="1390"/>
                  </a:lnTo>
                  <a:lnTo>
                    <a:pt x="58" y="1394"/>
                  </a:lnTo>
                  <a:lnTo>
                    <a:pt x="60" y="1399"/>
                  </a:lnTo>
                  <a:lnTo>
                    <a:pt x="64" y="1403"/>
                  </a:lnTo>
                  <a:lnTo>
                    <a:pt x="66" y="1408"/>
                  </a:lnTo>
                  <a:lnTo>
                    <a:pt x="60" y="1412"/>
                  </a:lnTo>
                  <a:lnTo>
                    <a:pt x="58" y="1417"/>
                  </a:lnTo>
                  <a:lnTo>
                    <a:pt x="64" y="1421"/>
                  </a:lnTo>
                  <a:lnTo>
                    <a:pt x="58" y="1426"/>
                  </a:lnTo>
                  <a:lnTo>
                    <a:pt x="58" y="1430"/>
                  </a:lnTo>
                  <a:lnTo>
                    <a:pt x="64" y="1435"/>
                  </a:lnTo>
                  <a:lnTo>
                    <a:pt x="66" y="1439"/>
                  </a:lnTo>
                  <a:lnTo>
                    <a:pt x="64" y="1444"/>
                  </a:lnTo>
                  <a:lnTo>
                    <a:pt x="64" y="1448"/>
                  </a:lnTo>
                  <a:lnTo>
                    <a:pt x="68" y="1453"/>
                  </a:lnTo>
                  <a:lnTo>
                    <a:pt x="79" y="1457"/>
                  </a:lnTo>
                  <a:lnTo>
                    <a:pt x="89" y="1462"/>
                  </a:lnTo>
                  <a:lnTo>
                    <a:pt x="85" y="1466"/>
                  </a:lnTo>
                  <a:lnTo>
                    <a:pt x="81" y="1471"/>
                  </a:lnTo>
                  <a:lnTo>
                    <a:pt x="53" y="1475"/>
                  </a:lnTo>
                  <a:lnTo>
                    <a:pt x="51" y="1480"/>
                  </a:lnTo>
                  <a:lnTo>
                    <a:pt x="36" y="1484"/>
                  </a:lnTo>
                  <a:lnTo>
                    <a:pt x="34" y="1489"/>
                  </a:lnTo>
                  <a:lnTo>
                    <a:pt x="26" y="1493"/>
                  </a:lnTo>
                  <a:lnTo>
                    <a:pt x="51" y="1498"/>
                  </a:lnTo>
                  <a:lnTo>
                    <a:pt x="58" y="1502"/>
                  </a:lnTo>
                  <a:lnTo>
                    <a:pt x="60" y="1507"/>
                  </a:lnTo>
                  <a:lnTo>
                    <a:pt x="79" y="1511"/>
                  </a:lnTo>
                  <a:lnTo>
                    <a:pt x="79" y="1516"/>
                  </a:lnTo>
                  <a:lnTo>
                    <a:pt x="70" y="1520"/>
                  </a:lnTo>
                  <a:lnTo>
                    <a:pt x="66" y="1525"/>
                  </a:lnTo>
                  <a:lnTo>
                    <a:pt x="55" y="1529"/>
                  </a:lnTo>
                  <a:lnTo>
                    <a:pt x="51" y="1534"/>
                  </a:lnTo>
                  <a:lnTo>
                    <a:pt x="51" y="1538"/>
                  </a:lnTo>
                  <a:lnTo>
                    <a:pt x="45" y="1543"/>
                  </a:lnTo>
                  <a:lnTo>
                    <a:pt x="45" y="1547"/>
                  </a:lnTo>
                  <a:lnTo>
                    <a:pt x="58" y="1552"/>
                  </a:lnTo>
                  <a:lnTo>
                    <a:pt x="68" y="1556"/>
                  </a:lnTo>
                  <a:lnTo>
                    <a:pt x="55" y="1560"/>
                  </a:lnTo>
                  <a:lnTo>
                    <a:pt x="51" y="1565"/>
                  </a:lnTo>
                  <a:lnTo>
                    <a:pt x="45" y="1569"/>
                  </a:lnTo>
                  <a:lnTo>
                    <a:pt x="45" y="1574"/>
                  </a:lnTo>
                  <a:lnTo>
                    <a:pt x="45" y="1578"/>
                  </a:lnTo>
                  <a:lnTo>
                    <a:pt x="45" y="1583"/>
                  </a:lnTo>
                  <a:lnTo>
                    <a:pt x="30" y="1587"/>
                  </a:lnTo>
                  <a:lnTo>
                    <a:pt x="28" y="1592"/>
                  </a:lnTo>
                  <a:lnTo>
                    <a:pt x="36" y="1596"/>
                  </a:lnTo>
                  <a:lnTo>
                    <a:pt x="38" y="1601"/>
                  </a:lnTo>
                  <a:lnTo>
                    <a:pt x="32" y="1605"/>
                  </a:lnTo>
                  <a:lnTo>
                    <a:pt x="47" y="1610"/>
                  </a:lnTo>
                  <a:lnTo>
                    <a:pt x="47" y="1614"/>
                  </a:lnTo>
                  <a:lnTo>
                    <a:pt x="58" y="1619"/>
                  </a:lnTo>
                  <a:lnTo>
                    <a:pt x="66" y="1623"/>
                  </a:lnTo>
                  <a:lnTo>
                    <a:pt x="32" y="1628"/>
                  </a:lnTo>
                  <a:lnTo>
                    <a:pt x="30" y="1632"/>
                  </a:lnTo>
                  <a:lnTo>
                    <a:pt x="45" y="1637"/>
                  </a:lnTo>
                  <a:lnTo>
                    <a:pt x="41" y="1641"/>
                  </a:lnTo>
                  <a:lnTo>
                    <a:pt x="47" y="1646"/>
                  </a:lnTo>
                  <a:lnTo>
                    <a:pt x="55" y="1650"/>
                  </a:lnTo>
                  <a:lnTo>
                    <a:pt x="75" y="1655"/>
                  </a:lnTo>
                  <a:lnTo>
                    <a:pt x="92" y="1659"/>
                  </a:lnTo>
                  <a:lnTo>
                    <a:pt x="87" y="1664"/>
                  </a:lnTo>
                  <a:lnTo>
                    <a:pt x="83" y="1668"/>
                  </a:lnTo>
                  <a:lnTo>
                    <a:pt x="53" y="1673"/>
                  </a:lnTo>
                  <a:lnTo>
                    <a:pt x="51" y="1677"/>
                  </a:lnTo>
                  <a:lnTo>
                    <a:pt x="49" y="1682"/>
                  </a:lnTo>
                  <a:lnTo>
                    <a:pt x="38" y="1686"/>
                  </a:lnTo>
                  <a:lnTo>
                    <a:pt x="38" y="1691"/>
                  </a:lnTo>
                  <a:lnTo>
                    <a:pt x="41" y="1695"/>
                  </a:lnTo>
                  <a:lnTo>
                    <a:pt x="41" y="1700"/>
                  </a:lnTo>
                  <a:lnTo>
                    <a:pt x="55" y="1704"/>
                  </a:lnTo>
                  <a:lnTo>
                    <a:pt x="58" y="1709"/>
                  </a:lnTo>
                  <a:lnTo>
                    <a:pt x="53" y="1713"/>
                  </a:lnTo>
                  <a:lnTo>
                    <a:pt x="79" y="1718"/>
                  </a:lnTo>
                  <a:lnTo>
                    <a:pt x="96" y="1722"/>
                  </a:lnTo>
                  <a:lnTo>
                    <a:pt x="109" y="1727"/>
                  </a:lnTo>
                  <a:lnTo>
                    <a:pt x="102" y="1731"/>
                  </a:lnTo>
                  <a:lnTo>
                    <a:pt x="70" y="1736"/>
                  </a:lnTo>
                  <a:lnTo>
                    <a:pt x="64" y="1740"/>
                  </a:lnTo>
                  <a:lnTo>
                    <a:pt x="64" y="1745"/>
                  </a:lnTo>
                  <a:lnTo>
                    <a:pt x="64" y="1749"/>
                  </a:lnTo>
                  <a:lnTo>
                    <a:pt x="51" y="1754"/>
                  </a:lnTo>
                  <a:lnTo>
                    <a:pt x="51" y="1758"/>
                  </a:lnTo>
                  <a:lnTo>
                    <a:pt x="43" y="1763"/>
                  </a:lnTo>
                  <a:lnTo>
                    <a:pt x="43" y="1767"/>
                  </a:lnTo>
                  <a:lnTo>
                    <a:pt x="66" y="1772"/>
                  </a:lnTo>
                  <a:lnTo>
                    <a:pt x="72" y="1776"/>
                  </a:lnTo>
                  <a:lnTo>
                    <a:pt x="72" y="1781"/>
                  </a:lnTo>
                  <a:lnTo>
                    <a:pt x="77" y="1785"/>
                  </a:lnTo>
                  <a:lnTo>
                    <a:pt x="64" y="1790"/>
                  </a:lnTo>
                  <a:lnTo>
                    <a:pt x="53" y="1794"/>
                  </a:lnTo>
                  <a:lnTo>
                    <a:pt x="53" y="1799"/>
                  </a:lnTo>
                  <a:lnTo>
                    <a:pt x="72" y="1803"/>
                  </a:lnTo>
                  <a:lnTo>
                    <a:pt x="81" y="1808"/>
                  </a:lnTo>
                  <a:lnTo>
                    <a:pt x="83" y="1812"/>
                  </a:lnTo>
                  <a:lnTo>
                    <a:pt x="72" y="1817"/>
                  </a:lnTo>
                  <a:lnTo>
                    <a:pt x="87" y="1821"/>
                  </a:lnTo>
                  <a:lnTo>
                    <a:pt x="96" y="1826"/>
                  </a:lnTo>
                  <a:lnTo>
                    <a:pt x="96" y="1830"/>
                  </a:lnTo>
                  <a:lnTo>
                    <a:pt x="104" y="1835"/>
                  </a:lnTo>
                  <a:lnTo>
                    <a:pt x="117" y="1839"/>
                  </a:lnTo>
                  <a:lnTo>
                    <a:pt x="119" y="1844"/>
                  </a:lnTo>
                  <a:lnTo>
                    <a:pt x="119" y="1848"/>
                  </a:lnTo>
                  <a:lnTo>
                    <a:pt x="98" y="1853"/>
                  </a:lnTo>
                  <a:lnTo>
                    <a:pt x="94" y="1857"/>
                  </a:lnTo>
                  <a:lnTo>
                    <a:pt x="98" y="1862"/>
                  </a:lnTo>
                  <a:lnTo>
                    <a:pt x="98" y="1866"/>
                  </a:lnTo>
                  <a:lnTo>
                    <a:pt x="79" y="1871"/>
                  </a:lnTo>
                  <a:lnTo>
                    <a:pt x="70" y="1875"/>
                  </a:lnTo>
                  <a:lnTo>
                    <a:pt x="70" y="1880"/>
                  </a:lnTo>
                  <a:lnTo>
                    <a:pt x="66" y="1884"/>
                  </a:lnTo>
                  <a:lnTo>
                    <a:pt x="53" y="1889"/>
                  </a:lnTo>
                  <a:lnTo>
                    <a:pt x="60" y="1893"/>
                  </a:lnTo>
                  <a:lnTo>
                    <a:pt x="47" y="1898"/>
                  </a:lnTo>
                  <a:lnTo>
                    <a:pt x="45" y="1902"/>
                  </a:lnTo>
                  <a:lnTo>
                    <a:pt x="51" y="1907"/>
                  </a:lnTo>
                  <a:lnTo>
                    <a:pt x="75" y="1911"/>
                  </a:lnTo>
                  <a:lnTo>
                    <a:pt x="79" y="1916"/>
                  </a:lnTo>
                  <a:lnTo>
                    <a:pt x="66" y="1920"/>
                  </a:lnTo>
                  <a:lnTo>
                    <a:pt x="62" y="1925"/>
                  </a:lnTo>
                  <a:lnTo>
                    <a:pt x="77" y="1929"/>
                  </a:lnTo>
                  <a:lnTo>
                    <a:pt x="75" y="1934"/>
                  </a:lnTo>
                  <a:lnTo>
                    <a:pt x="72" y="1938"/>
                  </a:lnTo>
                  <a:lnTo>
                    <a:pt x="94" y="1943"/>
                  </a:lnTo>
                  <a:lnTo>
                    <a:pt x="111" y="1947"/>
                  </a:lnTo>
                  <a:lnTo>
                    <a:pt x="132" y="1952"/>
                  </a:lnTo>
                  <a:lnTo>
                    <a:pt x="126" y="1956"/>
                  </a:lnTo>
                  <a:lnTo>
                    <a:pt x="89" y="1961"/>
                  </a:lnTo>
                  <a:lnTo>
                    <a:pt x="75" y="1965"/>
                  </a:lnTo>
                  <a:lnTo>
                    <a:pt x="81" y="1970"/>
                  </a:lnTo>
                  <a:lnTo>
                    <a:pt x="85" y="1974"/>
                  </a:lnTo>
                  <a:lnTo>
                    <a:pt x="92" y="1979"/>
                  </a:lnTo>
                  <a:lnTo>
                    <a:pt x="104" y="1983"/>
                  </a:lnTo>
                  <a:lnTo>
                    <a:pt x="100" y="1988"/>
                  </a:lnTo>
                  <a:lnTo>
                    <a:pt x="94" y="1992"/>
                  </a:lnTo>
                  <a:lnTo>
                    <a:pt x="85" y="1997"/>
                  </a:lnTo>
                  <a:lnTo>
                    <a:pt x="96" y="2001"/>
                  </a:lnTo>
                  <a:lnTo>
                    <a:pt x="104" y="2006"/>
                  </a:lnTo>
                  <a:lnTo>
                    <a:pt x="104" y="2010"/>
                  </a:lnTo>
                  <a:lnTo>
                    <a:pt x="89" y="2015"/>
                  </a:lnTo>
                  <a:lnTo>
                    <a:pt x="83" y="2019"/>
                  </a:lnTo>
                  <a:lnTo>
                    <a:pt x="72" y="2024"/>
                  </a:lnTo>
                  <a:lnTo>
                    <a:pt x="70" y="2028"/>
                  </a:lnTo>
                  <a:lnTo>
                    <a:pt x="70" y="2033"/>
                  </a:lnTo>
                  <a:lnTo>
                    <a:pt x="75" y="2037"/>
                  </a:lnTo>
                  <a:lnTo>
                    <a:pt x="79" y="2042"/>
                  </a:lnTo>
                  <a:lnTo>
                    <a:pt x="79" y="2046"/>
                  </a:lnTo>
                  <a:lnTo>
                    <a:pt x="70" y="2051"/>
                  </a:lnTo>
                  <a:lnTo>
                    <a:pt x="72" y="2055"/>
                  </a:lnTo>
                  <a:lnTo>
                    <a:pt x="64" y="2060"/>
                  </a:lnTo>
                  <a:lnTo>
                    <a:pt x="64" y="2064"/>
                  </a:lnTo>
                  <a:lnTo>
                    <a:pt x="60" y="2069"/>
                  </a:lnTo>
                  <a:lnTo>
                    <a:pt x="58" y="2073"/>
                  </a:lnTo>
                  <a:lnTo>
                    <a:pt x="58" y="2078"/>
                  </a:lnTo>
                  <a:lnTo>
                    <a:pt x="60" y="2082"/>
                  </a:lnTo>
                  <a:lnTo>
                    <a:pt x="68" y="2087"/>
                  </a:lnTo>
                  <a:lnTo>
                    <a:pt x="77" y="2091"/>
                  </a:lnTo>
                  <a:lnTo>
                    <a:pt x="85" y="2096"/>
                  </a:lnTo>
                  <a:lnTo>
                    <a:pt x="85" y="2100"/>
                  </a:lnTo>
                  <a:lnTo>
                    <a:pt x="75" y="2105"/>
                  </a:lnTo>
                  <a:lnTo>
                    <a:pt x="72" y="2109"/>
                  </a:lnTo>
                  <a:lnTo>
                    <a:pt x="75" y="2114"/>
                  </a:lnTo>
                  <a:lnTo>
                    <a:pt x="75" y="2118"/>
                  </a:lnTo>
                  <a:lnTo>
                    <a:pt x="83" y="2123"/>
                  </a:lnTo>
                  <a:lnTo>
                    <a:pt x="87" y="2127"/>
                  </a:lnTo>
                  <a:lnTo>
                    <a:pt x="81" y="2132"/>
                  </a:lnTo>
                  <a:lnTo>
                    <a:pt x="83" y="2136"/>
                  </a:lnTo>
                  <a:lnTo>
                    <a:pt x="83" y="2141"/>
                  </a:lnTo>
                  <a:lnTo>
                    <a:pt x="77" y="2145"/>
                  </a:lnTo>
                  <a:lnTo>
                    <a:pt x="70" y="2150"/>
                  </a:lnTo>
                  <a:lnTo>
                    <a:pt x="70" y="2154"/>
                  </a:lnTo>
                  <a:lnTo>
                    <a:pt x="72" y="2159"/>
                  </a:lnTo>
                  <a:lnTo>
                    <a:pt x="81" y="2163"/>
                  </a:lnTo>
                  <a:lnTo>
                    <a:pt x="94" y="2168"/>
                  </a:lnTo>
                  <a:lnTo>
                    <a:pt x="94" y="2172"/>
                  </a:lnTo>
                  <a:lnTo>
                    <a:pt x="87" y="2177"/>
                  </a:lnTo>
                  <a:lnTo>
                    <a:pt x="77" y="2181"/>
                  </a:lnTo>
                  <a:lnTo>
                    <a:pt x="75" y="2186"/>
                  </a:lnTo>
                  <a:lnTo>
                    <a:pt x="77" y="2190"/>
                  </a:lnTo>
                  <a:lnTo>
                    <a:pt x="81" y="2195"/>
                  </a:lnTo>
                  <a:lnTo>
                    <a:pt x="85" y="2199"/>
                  </a:lnTo>
                  <a:lnTo>
                    <a:pt x="83" y="2204"/>
                  </a:lnTo>
                  <a:lnTo>
                    <a:pt x="79" y="2208"/>
                  </a:lnTo>
                  <a:lnTo>
                    <a:pt x="79" y="2213"/>
                  </a:lnTo>
                  <a:lnTo>
                    <a:pt x="77" y="2217"/>
                  </a:lnTo>
                  <a:lnTo>
                    <a:pt x="72" y="2222"/>
                  </a:lnTo>
                  <a:lnTo>
                    <a:pt x="72" y="2226"/>
                  </a:lnTo>
                  <a:lnTo>
                    <a:pt x="72" y="2231"/>
                  </a:lnTo>
                  <a:lnTo>
                    <a:pt x="75" y="2235"/>
                  </a:lnTo>
                  <a:lnTo>
                    <a:pt x="79" y="2240"/>
                  </a:lnTo>
                  <a:lnTo>
                    <a:pt x="94" y="2244"/>
                  </a:lnTo>
                  <a:lnTo>
                    <a:pt x="96" y="2249"/>
                  </a:lnTo>
                  <a:lnTo>
                    <a:pt x="85" y="2253"/>
                  </a:lnTo>
                  <a:lnTo>
                    <a:pt x="70" y="2258"/>
                  </a:lnTo>
                  <a:lnTo>
                    <a:pt x="68" y="2262"/>
                  </a:lnTo>
                  <a:lnTo>
                    <a:pt x="75" y="2267"/>
                  </a:lnTo>
                  <a:lnTo>
                    <a:pt x="87" y="2271"/>
                  </a:lnTo>
                  <a:lnTo>
                    <a:pt x="98" y="2276"/>
                  </a:lnTo>
                  <a:lnTo>
                    <a:pt x="98" y="2280"/>
                  </a:lnTo>
                  <a:lnTo>
                    <a:pt x="89" y="2285"/>
                  </a:lnTo>
                  <a:lnTo>
                    <a:pt x="81" y="2289"/>
                  </a:lnTo>
                  <a:lnTo>
                    <a:pt x="81" y="2294"/>
                  </a:lnTo>
                  <a:lnTo>
                    <a:pt x="85" y="2298"/>
                  </a:lnTo>
                  <a:lnTo>
                    <a:pt x="94" y="2303"/>
                  </a:lnTo>
                  <a:lnTo>
                    <a:pt x="89" y="2307"/>
                  </a:lnTo>
                  <a:lnTo>
                    <a:pt x="87" y="2312"/>
                  </a:lnTo>
                  <a:lnTo>
                    <a:pt x="87" y="2316"/>
                  </a:lnTo>
                  <a:lnTo>
                    <a:pt x="72" y="2321"/>
                  </a:lnTo>
                  <a:lnTo>
                    <a:pt x="70" y="2325"/>
                  </a:lnTo>
                  <a:lnTo>
                    <a:pt x="72" y="2330"/>
                  </a:lnTo>
                  <a:lnTo>
                    <a:pt x="75" y="2334"/>
                  </a:lnTo>
                  <a:lnTo>
                    <a:pt x="75" y="2339"/>
                  </a:lnTo>
                  <a:lnTo>
                    <a:pt x="79" y="2343"/>
                  </a:lnTo>
                  <a:lnTo>
                    <a:pt x="98" y="2348"/>
                  </a:lnTo>
                  <a:lnTo>
                    <a:pt x="104" y="2352"/>
                  </a:lnTo>
                  <a:lnTo>
                    <a:pt x="104" y="2357"/>
                  </a:lnTo>
                  <a:lnTo>
                    <a:pt x="89" y="2361"/>
                  </a:lnTo>
                  <a:lnTo>
                    <a:pt x="83" y="2366"/>
                  </a:lnTo>
                  <a:lnTo>
                    <a:pt x="72" y="2370"/>
                  </a:lnTo>
                  <a:lnTo>
                    <a:pt x="70" y="2375"/>
                  </a:lnTo>
                  <a:lnTo>
                    <a:pt x="66" y="2379"/>
                  </a:lnTo>
                  <a:lnTo>
                    <a:pt x="66" y="2384"/>
                  </a:lnTo>
                  <a:lnTo>
                    <a:pt x="66" y="2388"/>
                  </a:lnTo>
                  <a:lnTo>
                    <a:pt x="62" y="2393"/>
                  </a:lnTo>
                  <a:lnTo>
                    <a:pt x="55" y="2397"/>
                  </a:lnTo>
                  <a:lnTo>
                    <a:pt x="51" y="2402"/>
                  </a:lnTo>
                  <a:lnTo>
                    <a:pt x="49" y="2406"/>
                  </a:lnTo>
                  <a:lnTo>
                    <a:pt x="58" y="2411"/>
                  </a:lnTo>
                  <a:lnTo>
                    <a:pt x="68" y="2415"/>
                  </a:lnTo>
                  <a:lnTo>
                    <a:pt x="83" y="2420"/>
                  </a:lnTo>
                  <a:lnTo>
                    <a:pt x="94" y="2424"/>
                  </a:lnTo>
                  <a:lnTo>
                    <a:pt x="128" y="2429"/>
                  </a:lnTo>
                  <a:lnTo>
                    <a:pt x="151" y="2433"/>
                  </a:lnTo>
                  <a:lnTo>
                    <a:pt x="157" y="2438"/>
                  </a:lnTo>
                  <a:lnTo>
                    <a:pt x="157" y="2442"/>
                  </a:lnTo>
                  <a:lnTo>
                    <a:pt x="170" y="2447"/>
                  </a:lnTo>
                  <a:lnTo>
                    <a:pt x="183" y="2451"/>
                  </a:lnTo>
                  <a:lnTo>
                    <a:pt x="196" y="2456"/>
                  </a:lnTo>
                  <a:lnTo>
                    <a:pt x="206" y="2460"/>
                  </a:lnTo>
                  <a:lnTo>
                    <a:pt x="245" y="2465"/>
                  </a:lnTo>
                  <a:lnTo>
                    <a:pt x="272" y="2469"/>
                  </a:lnTo>
                  <a:lnTo>
                    <a:pt x="310" y="2474"/>
                  </a:lnTo>
                  <a:lnTo>
                    <a:pt x="389" y="2478"/>
                  </a:lnTo>
                  <a:lnTo>
                    <a:pt x="410" y="2483"/>
                  </a:lnTo>
                  <a:lnTo>
                    <a:pt x="412" y="2487"/>
                  </a:lnTo>
                  <a:lnTo>
                    <a:pt x="412" y="2492"/>
                  </a:lnTo>
                  <a:lnTo>
                    <a:pt x="408" y="2496"/>
                  </a:lnTo>
                  <a:lnTo>
                    <a:pt x="391" y="2501"/>
                  </a:lnTo>
                  <a:lnTo>
                    <a:pt x="376" y="2505"/>
                  </a:lnTo>
                  <a:lnTo>
                    <a:pt x="389" y="2510"/>
                  </a:lnTo>
                  <a:lnTo>
                    <a:pt x="389" y="2514"/>
                  </a:lnTo>
                  <a:lnTo>
                    <a:pt x="385" y="2519"/>
                  </a:lnTo>
                  <a:lnTo>
                    <a:pt x="374" y="2523"/>
                  </a:lnTo>
                  <a:lnTo>
                    <a:pt x="376" y="2528"/>
                  </a:lnTo>
                  <a:lnTo>
                    <a:pt x="361" y="2532"/>
                  </a:lnTo>
                  <a:lnTo>
                    <a:pt x="361" y="2537"/>
                  </a:lnTo>
                  <a:lnTo>
                    <a:pt x="359" y="2541"/>
                  </a:lnTo>
                  <a:lnTo>
                    <a:pt x="361" y="2546"/>
                  </a:lnTo>
                  <a:lnTo>
                    <a:pt x="366" y="2550"/>
                  </a:lnTo>
                  <a:lnTo>
                    <a:pt x="380" y="2555"/>
                  </a:lnTo>
                  <a:lnTo>
                    <a:pt x="400" y="2559"/>
                  </a:lnTo>
                  <a:lnTo>
                    <a:pt x="410" y="2564"/>
                  </a:lnTo>
                  <a:lnTo>
                    <a:pt x="427" y="2568"/>
                  </a:lnTo>
                  <a:lnTo>
                    <a:pt x="417" y="2573"/>
                  </a:lnTo>
                  <a:lnTo>
                    <a:pt x="402" y="2577"/>
                  </a:lnTo>
                  <a:lnTo>
                    <a:pt x="402" y="2582"/>
                  </a:lnTo>
                </a:path>
              </a:pathLst>
            </a:custGeom>
            <a:noFill/>
            <a:ln w="28440">
              <a:solidFill>
                <a:srgbClr val="0000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Freeform 292"/>
            <p:cNvSpPr/>
            <p:nvPr/>
          </p:nvSpPr>
          <p:spPr>
            <a:xfrm>
              <a:off x="1501920" y="2127240"/>
              <a:ext cx="271440" cy="4425840"/>
            </a:xfrm>
            <a:custGeom>
              <a:avLst/>
              <a:gdLst>
                <a:gd name="textAreaLeft" fmla="*/ 0 w 271440"/>
                <a:gd name="textAreaRight" fmla="*/ 271440 w 271440"/>
                <a:gd name="textAreaTop" fmla="*/ 0 h 4425840"/>
                <a:gd name="textAreaBottom" fmla="*/ 4426200 h 4425840"/>
              </a:gdLst>
              <a:ahLst/>
              <a:rect l="textAreaLeft" t="textAreaTop" r="textAreaRight" b="textAreaBottom"/>
              <a:pathLst>
                <a:path w="161" h="2609">
                  <a:moveTo>
                    <a:pt x="148" y="0"/>
                  </a:moveTo>
                  <a:lnTo>
                    <a:pt x="146" y="4"/>
                  </a:lnTo>
                  <a:lnTo>
                    <a:pt x="146" y="9"/>
                  </a:lnTo>
                  <a:lnTo>
                    <a:pt x="146" y="13"/>
                  </a:lnTo>
                  <a:lnTo>
                    <a:pt x="146" y="18"/>
                  </a:lnTo>
                  <a:lnTo>
                    <a:pt x="148" y="22"/>
                  </a:lnTo>
                  <a:lnTo>
                    <a:pt x="148" y="27"/>
                  </a:lnTo>
                  <a:lnTo>
                    <a:pt x="151" y="31"/>
                  </a:lnTo>
                  <a:lnTo>
                    <a:pt x="153" y="36"/>
                  </a:lnTo>
                  <a:lnTo>
                    <a:pt x="155" y="40"/>
                  </a:lnTo>
                  <a:lnTo>
                    <a:pt x="155" y="45"/>
                  </a:lnTo>
                  <a:lnTo>
                    <a:pt x="157" y="49"/>
                  </a:lnTo>
                  <a:lnTo>
                    <a:pt x="157" y="54"/>
                  </a:lnTo>
                  <a:lnTo>
                    <a:pt x="157" y="58"/>
                  </a:lnTo>
                  <a:lnTo>
                    <a:pt x="157" y="63"/>
                  </a:lnTo>
                  <a:lnTo>
                    <a:pt x="159" y="67"/>
                  </a:lnTo>
                  <a:lnTo>
                    <a:pt x="159" y="72"/>
                  </a:lnTo>
                  <a:lnTo>
                    <a:pt x="159" y="76"/>
                  </a:lnTo>
                  <a:lnTo>
                    <a:pt x="159" y="81"/>
                  </a:lnTo>
                  <a:lnTo>
                    <a:pt x="159" y="85"/>
                  </a:lnTo>
                  <a:lnTo>
                    <a:pt x="159" y="90"/>
                  </a:lnTo>
                  <a:lnTo>
                    <a:pt x="157" y="94"/>
                  </a:lnTo>
                  <a:lnTo>
                    <a:pt x="157" y="99"/>
                  </a:lnTo>
                  <a:lnTo>
                    <a:pt x="157" y="103"/>
                  </a:lnTo>
                  <a:lnTo>
                    <a:pt x="157" y="108"/>
                  </a:lnTo>
                  <a:lnTo>
                    <a:pt x="157" y="112"/>
                  </a:lnTo>
                  <a:lnTo>
                    <a:pt x="157" y="117"/>
                  </a:lnTo>
                  <a:lnTo>
                    <a:pt x="157" y="121"/>
                  </a:lnTo>
                  <a:lnTo>
                    <a:pt x="159" y="126"/>
                  </a:lnTo>
                  <a:lnTo>
                    <a:pt x="159" y="130"/>
                  </a:lnTo>
                  <a:lnTo>
                    <a:pt x="159" y="135"/>
                  </a:lnTo>
                  <a:lnTo>
                    <a:pt x="159" y="139"/>
                  </a:lnTo>
                  <a:lnTo>
                    <a:pt x="159" y="144"/>
                  </a:lnTo>
                  <a:lnTo>
                    <a:pt x="159" y="148"/>
                  </a:lnTo>
                  <a:lnTo>
                    <a:pt x="159" y="153"/>
                  </a:lnTo>
                  <a:lnTo>
                    <a:pt x="157" y="157"/>
                  </a:lnTo>
                  <a:lnTo>
                    <a:pt x="157" y="162"/>
                  </a:lnTo>
                  <a:lnTo>
                    <a:pt x="155" y="166"/>
                  </a:lnTo>
                  <a:lnTo>
                    <a:pt x="153" y="171"/>
                  </a:lnTo>
                  <a:lnTo>
                    <a:pt x="151" y="175"/>
                  </a:lnTo>
                  <a:lnTo>
                    <a:pt x="146" y="180"/>
                  </a:lnTo>
                  <a:lnTo>
                    <a:pt x="142" y="184"/>
                  </a:lnTo>
                  <a:lnTo>
                    <a:pt x="138" y="189"/>
                  </a:lnTo>
                  <a:lnTo>
                    <a:pt x="131" y="193"/>
                  </a:lnTo>
                  <a:lnTo>
                    <a:pt x="121" y="198"/>
                  </a:lnTo>
                  <a:lnTo>
                    <a:pt x="114" y="202"/>
                  </a:lnTo>
                  <a:lnTo>
                    <a:pt x="106" y="207"/>
                  </a:lnTo>
                  <a:lnTo>
                    <a:pt x="87" y="211"/>
                  </a:lnTo>
                  <a:lnTo>
                    <a:pt x="76" y="216"/>
                  </a:lnTo>
                  <a:lnTo>
                    <a:pt x="64" y="220"/>
                  </a:lnTo>
                  <a:lnTo>
                    <a:pt x="59" y="225"/>
                  </a:lnTo>
                  <a:lnTo>
                    <a:pt x="47" y="229"/>
                  </a:lnTo>
                  <a:lnTo>
                    <a:pt x="38" y="234"/>
                  </a:lnTo>
                  <a:lnTo>
                    <a:pt x="36" y="238"/>
                  </a:lnTo>
                  <a:lnTo>
                    <a:pt x="30" y="243"/>
                  </a:lnTo>
                  <a:lnTo>
                    <a:pt x="23" y="247"/>
                  </a:lnTo>
                  <a:lnTo>
                    <a:pt x="17" y="252"/>
                  </a:lnTo>
                  <a:lnTo>
                    <a:pt x="13" y="256"/>
                  </a:lnTo>
                  <a:lnTo>
                    <a:pt x="13" y="261"/>
                  </a:lnTo>
                  <a:lnTo>
                    <a:pt x="8" y="265"/>
                  </a:lnTo>
                  <a:lnTo>
                    <a:pt x="6" y="270"/>
                  </a:lnTo>
                  <a:lnTo>
                    <a:pt x="6" y="274"/>
                  </a:lnTo>
                  <a:lnTo>
                    <a:pt x="6" y="279"/>
                  </a:lnTo>
                  <a:lnTo>
                    <a:pt x="6" y="283"/>
                  </a:lnTo>
                  <a:lnTo>
                    <a:pt x="4" y="288"/>
                  </a:lnTo>
                  <a:lnTo>
                    <a:pt x="4" y="292"/>
                  </a:lnTo>
                  <a:lnTo>
                    <a:pt x="4" y="297"/>
                  </a:lnTo>
                  <a:lnTo>
                    <a:pt x="4" y="301"/>
                  </a:lnTo>
                  <a:lnTo>
                    <a:pt x="4" y="306"/>
                  </a:lnTo>
                  <a:lnTo>
                    <a:pt x="4" y="310"/>
                  </a:lnTo>
                  <a:lnTo>
                    <a:pt x="4" y="315"/>
                  </a:lnTo>
                  <a:lnTo>
                    <a:pt x="6" y="319"/>
                  </a:lnTo>
                  <a:lnTo>
                    <a:pt x="6" y="324"/>
                  </a:lnTo>
                  <a:lnTo>
                    <a:pt x="6" y="328"/>
                  </a:lnTo>
                  <a:lnTo>
                    <a:pt x="6" y="333"/>
                  </a:lnTo>
                  <a:lnTo>
                    <a:pt x="6" y="337"/>
                  </a:lnTo>
                  <a:lnTo>
                    <a:pt x="6" y="342"/>
                  </a:lnTo>
                  <a:lnTo>
                    <a:pt x="4" y="346"/>
                  </a:lnTo>
                  <a:lnTo>
                    <a:pt x="4" y="351"/>
                  </a:lnTo>
                  <a:lnTo>
                    <a:pt x="6" y="355"/>
                  </a:lnTo>
                  <a:lnTo>
                    <a:pt x="6" y="360"/>
                  </a:lnTo>
                  <a:lnTo>
                    <a:pt x="8" y="364"/>
                  </a:lnTo>
                  <a:lnTo>
                    <a:pt x="8" y="369"/>
                  </a:lnTo>
                  <a:lnTo>
                    <a:pt x="10" y="373"/>
                  </a:lnTo>
                  <a:lnTo>
                    <a:pt x="13" y="378"/>
                  </a:lnTo>
                  <a:lnTo>
                    <a:pt x="13" y="382"/>
                  </a:lnTo>
                  <a:lnTo>
                    <a:pt x="13" y="387"/>
                  </a:lnTo>
                  <a:lnTo>
                    <a:pt x="13" y="391"/>
                  </a:lnTo>
                  <a:lnTo>
                    <a:pt x="13" y="396"/>
                  </a:lnTo>
                  <a:lnTo>
                    <a:pt x="13" y="400"/>
                  </a:lnTo>
                  <a:lnTo>
                    <a:pt x="10" y="405"/>
                  </a:lnTo>
                  <a:lnTo>
                    <a:pt x="10" y="409"/>
                  </a:lnTo>
                  <a:lnTo>
                    <a:pt x="8" y="414"/>
                  </a:lnTo>
                  <a:lnTo>
                    <a:pt x="8" y="418"/>
                  </a:lnTo>
                  <a:lnTo>
                    <a:pt x="8" y="423"/>
                  </a:lnTo>
                  <a:lnTo>
                    <a:pt x="10" y="427"/>
                  </a:lnTo>
                  <a:lnTo>
                    <a:pt x="10" y="432"/>
                  </a:lnTo>
                  <a:lnTo>
                    <a:pt x="13" y="436"/>
                  </a:lnTo>
                  <a:lnTo>
                    <a:pt x="13" y="441"/>
                  </a:lnTo>
                  <a:lnTo>
                    <a:pt x="13" y="445"/>
                  </a:lnTo>
                  <a:lnTo>
                    <a:pt x="13" y="450"/>
                  </a:lnTo>
                  <a:lnTo>
                    <a:pt x="15" y="454"/>
                  </a:lnTo>
                  <a:lnTo>
                    <a:pt x="15" y="459"/>
                  </a:lnTo>
                  <a:lnTo>
                    <a:pt x="15" y="463"/>
                  </a:lnTo>
                  <a:lnTo>
                    <a:pt x="17" y="468"/>
                  </a:lnTo>
                  <a:lnTo>
                    <a:pt x="17" y="472"/>
                  </a:lnTo>
                  <a:lnTo>
                    <a:pt x="17" y="477"/>
                  </a:lnTo>
                  <a:lnTo>
                    <a:pt x="17" y="481"/>
                  </a:lnTo>
                  <a:lnTo>
                    <a:pt x="19" y="486"/>
                  </a:lnTo>
                  <a:lnTo>
                    <a:pt x="19" y="490"/>
                  </a:lnTo>
                  <a:lnTo>
                    <a:pt x="19" y="495"/>
                  </a:lnTo>
                  <a:lnTo>
                    <a:pt x="19" y="499"/>
                  </a:lnTo>
                  <a:lnTo>
                    <a:pt x="19" y="504"/>
                  </a:lnTo>
                  <a:lnTo>
                    <a:pt x="19" y="508"/>
                  </a:lnTo>
                  <a:lnTo>
                    <a:pt x="19" y="513"/>
                  </a:lnTo>
                  <a:lnTo>
                    <a:pt x="19" y="517"/>
                  </a:lnTo>
                  <a:lnTo>
                    <a:pt x="19" y="522"/>
                  </a:lnTo>
                  <a:lnTo>
                    <a:pt x="19" y="526"/>
                  </a:lnTo>
                  <a:lnTo>
                    <a:pt x="21" y="530"/>
                  </a:lnTo>
                  <a:lnTo>
                    <a:pt x="19" y="535"/>
                  </a:lnTo>
                  <a:lnTo>
                    <a:pt x="17" y="539"/>
                  </a:lnTo>
                  <a:lnTo>
                    <a:pt x="19" y="544"/>
                  </a:lnTo>
                  <a:lnTo>
                    <a:pt x="19" y="548"/>
                  </a:lnTo>
                  <a:lnTo>
                    <a:pt x="19" y="553"/>
                  </a:lnTo>
                  <a:lnTo>
                    <a:pt x="19" y="557"/>
                  </a:lnTo>
                  <a:lnTo>
                    <a:pt x="17" y="562"/>
                  </a:lnTo>
                  <a:lnTo>
                    <a:pt x="17" y="566"/>
                  </a:lnTo>
                  <a:lnTo>
                    <a:pt x="17" y="571"/>
                  </a:lnTo>
                  <a:lnTo>
                    <a:pt x="17" y="575"/>
                  </a:lnTo>
                  <a:lnTo>
                    <a:pt x="17" y="580"/>
                  </a:lnTo>
                  <a:lnTo>
                    <a:pt x="21" y="584"/>
                  </a:lnTo>
                  <a:lnTo>
                    <a:pt x="21" y="589"/>
                  </a:lnTo>
                  <a:lnTo>
                    <a:pt x="21" y="593"/>
                  </a:lnTo>
                  <a:lnTo>
                    <a:pt x="21" y="598"/>
                  </a:lnTo>
                  <a:lnTo>
                    <a:pt x="21" y="602"/>
                  </a:lnTo>
                  <a:lnTo>
                    <a:pt x="19" y="607"/>
                  </a:lnTo>
                  <a:lnTo>
                    <a:pt x="19" y="611"/>
                  </a:lnTo>
                  <a:lnTo>
                    <a:pt x="21" y="616"/>
                  </a:lnTo>
                  <a:lnTo>
                    <a:pt x="21" y="620"/>
                  </a:lnTo>
                  <a:lnTo>
                    <a:pt x="21" y="625"/>
                  </a:lnTo>
                  <a:lnTo>
                    <a:pt x="23" y="629"/>
                  </a:lnTo>
                  <a:lnTo>
                    <a:pt x="23" y="634"/>
                  </a:lnTo>
                  <a:lnTo>
                    <a:pt x="23" y="638"/>
                  </a:lnTo>
                  <a:lnTo>
                    <a:pt x="23" y="643"/>
                  </a:lnTo>
                  <a:lnTo>
                    <a:pt x="25" y="647"/>
                  </a:lnTo>
                  <a:lnTo>
                    <a:pt x="25" y="652"/>
                  </a:lnTo>
                  <a:lnTo>
                    <a:pt x="25" y="656"/>
                  </a:lnTo>
                  <a:lnTo>
                    <a:pt x="27" y="661"/>
                  </a:lnTo>
                  <a:lnTo>
                    <a:pt x="27" y="665"/>
                  </a:lnTo>
                  <a:lnTo>
                    <a:pt x="30" y="670"/>
                  </a:lnTo>
                  <a:lnTo>
                    <a:pt x="30" y="674"/>
                  </a:lnTo>
                  <a:lnTo>
                    <a:pt x="30" y="679"/>
                  </a:lnTo>
                  <a:lnTo>
                    <a:pt x="30" y="683"/>
                  </a:lnTo>
                  <a:lnTo>
                    <a:pt x="30" y="688"/>
                  </a:lnTo>
                  <a:lnTo>
                    <a:pt x="30" y="692"/>
                  </a:lnTo>
                  <a:lnTo>
                    <a:pt x="30" y="697"/>
                  </a:lnTo>
                  <a:lnTo>
                    <a:pt x="30" y="701"/>
                  </a:lnTo>
                  <a:lnTo>
                    <a:pt x="30" y="706"/>
                  </a:lnTo>
                  <a:lnTo>
                    <a:pt x="30" y="710"/>
                  </a:lnTo>
                  <a:lnTo>
                    <a:pt x="30" y="715"/>
                  </a:lnTo>
                  <a:lnTo>
                    <a:pt x="32" y="719"/>
                  </a:lnTo>
                  <a:lnTo>
                    <a:pt x="32" y="724"/>
                  </a:lnTo>
                  <a:lnTo>
                    <a:pt x="32" y="728"/>
                  </a:lnTo>
                  <a:lnTo>
                    <a:pt x="32" y="733"/>
                  </a:lnTo>
                  <a:lnTo>
                    <a:pt x="30" y="737"/>
                  </a:lnTo>
                  <a:lnTo>
                    <a:pt x="30" y="742"/>
                  </a:lnTo>
                  <a:lnTo>
                    <a:pt x="30" y="746"/>
                  </a:lnTo>
                  <a:lnTo>
                    <a:pt x="32" y="751"/>
                  </a:lnTo>
                  <a:lnTo>
                    <a:pt x="32" y="755"/>
                  </a:lnTo>
                  <a:lnTo>
                    <a:pt x="32" y="760"/>
                  </a:lnTo>
                  <a:lnTo>
                    <a:pt x="32" y="764"/>
                  </a:lnTo>
                  <a:lnTo>
                    <a:pt x="32" y="769"/>
                  </a:lnTo>
                  <a:lnTo>
                    <a:pt x="32" y="773"/>
                  </a:lnTo>
                  <a:lnTo>
                    <a:pt x="34" y="778"/>
                  </a:lnTo>
                  <a:lnTo>
                    <a:pt x="34" y="782"/>
                  </a:lnTo>
                  <a:lnTo>
                    <a:pt x="36" y="787"/>
                  </a:lnTo>
                  <a:lnTo>
                    <a:pt x="38" y="791"/>
                  </a:lnTo>
                  <a:lnTo>
                    <a:pt x="40" y="796"/>
                  </a:lnTo>
                  <a:lnTo>
                    <a:pt x="42" y="800"/>
                  </a:lnTo>
                  <a:lnTo>
                    <a:pt x="44" y="805"/>
                  </a:lnTo>
                  <a:lnTo>
                    <a:pt x="44" y="809"/>
                  </a:lnTo>
                  <a:lnTo>
                    <a:pt x="47" y="814"/>
                  </a:lnTo>
                  <a:lnTo>
                    <a:pt x="49" y="818"/>
                  </a:lnTo>
                  <a:lnTo>
                    <a:pt x="51" y="823"/>
                  </a:lnTo>
                  <a:lnTo>
                    <a:pt x="57" y="827"/>
                  </a:lnTo>
                  <a:lnTo>
                    <a:pt x="61" y="832"/>
                  </a:lnTo>
                  <a:lnTo>
                    <a:pt x="68" y="836"/>
                  </a:lnTo>
                  <a:lnTo>
                    <a:pt x="74" y="841"/>
                  </a:lnTo>
                  <a:lnTo>
                    <a:pt x="83" y="845"/>
                  </a:lnTo>
                  <a:lnTo>
                    <a:pt x="93" y="850"/>
                  </a:lnTo>
                  <a:lnTo>
                    <a:pt x="102" y="854"/>
                  </a:lnTo>
                  <a:lnTo>
                    <a:pt x="114" y="859"/>
                  </a:lnTo>
                  <a:lnTo>
                    <a:pt x="127" y="863"/>
                  </a:lnTo>
                  <a:lnTo>
                    <a:pt x="142" y="868"/>
                  </a:lnTo>
                  <a:lnTo>
                    <a:pt x="153" y="872"/>
                  </a:lnTo>
                  <a:lnTo>
                    <a:pt x="159" y="877"/>
                  </a:lnTo>
                  <a:lnTo>
                    <a:pt x="161" y="881"/>
                  </a:lnTo>
                  <a:lnTo>
                    <a:pt x="161" y="886"/>
                  </a:lnTo>
                  <a:lnTo>
                    <a:pt x="159" y="890"/>
                  </a:lnTo>
                  <a:lnTo>
                    <a:pt x="157" y="895"/>
                  </a:lnTo>
                  <a:lnTo>
                    <a:pt x="151" y="899"/>
                  </a:lnTo>
                  <a:lnTo>
                    <a:pt x="151" y="904"/>
                  </a:lnTo>
                  <a:lnTo>
                    <a:pt x="144" y="908"/>
                  </a:lnTo>
                  <a:lnTo>
                    <a:pt x="144" y="913"/>
                  </a:lnTo>
                  <a:lnTo>
                    <a:pt x="142" y="917"/>
                  </a:lnTo>
                  <a:lnTo>
                    <a:pt x="140" y="922"/>
                  </a:lnTo>
                  <a:lnTo>
                    <a:pt x="136" y="926"/>
                  </a:lnTo>
                  <a:lnTo>
                    <a:pt x="134" y="931"/>
                  </a:lnTo>
                  <a:lnTo>
                    <a:pt x="131" y="935"/>
                  </a:lnTo>
                  <a:lnTo>
                    <a:pt x="127" y="940"/>
                  </a:lnTo>
                  <a:lnTo>
                    <a:pt x="127" y="944"/>
                  </a:lnTo>
                  <a:lnTo>
                    <a:pt x="125" y="949"/>
                  </a:lnTo>
                  <a:lnTo>
                    <a:pt x="123" y="953"/>
                  </a:lnTo>
                  <a:lnTo>
                    <a:pt x="121" y="958"/>
                  </a:lnTo>
                  <a:lnTo>
                    <a:pt x="117" y="962"/>
                  </a:lnTo>
                  <a:lnTo>
                    <a:pt x="112" y="967"/>
                  </a:lnTo>
                  <a:lnTo>
                    <a:pt x="110" y="971"/>
                  </a:lnTo>
                  <a:lnTo>
                    <a:pt x="108" y="976"/>
                  </a:lnTo>
                  <a:lnTo>
                    <a:pt x="106" y="980"/>
                  </a:lnTo>
                  <a:lnTo>
                    <a:pt x="104" y="985"/>
                  </a:lnTo>
                  <a:lnTo>
                    <a:pt x="102" y="989"/>
                  </a:lnTo>
                  <a:lnTo>
                    <a:pt x="100" y="994"/>
                  </a:lnTo>
                  <a:lnTo>
                    <a:pt x="98" y="998"/>
                  </a:lnTo>
                  <a:lnTo>
                    <a:pt x="98" y="1003"/>
                  </a:lnTo>
                  <a:lnTo>
                    <a:pt x="98" y="1007"/>
                  </a:lnTo>
                  <a:lnTo>
                    <a:pt x="95" y="1012"/>
                  </a:lnTo>
                  <a:lnTo>
                    <a:pt x="95" y="1016"/>
                  </a:lnTo>
                  <a:lnTo>
                    <a:pt x="95" y="1021"/>
                  </a:lnTo>
                  <a:lnTo>
                    <a:pt x="93" y="1025"/>
                  </a:lnTo>
                  <a:lnTo>
                    <a:pt x="93" y="1030"/>
                  </a:lnTo>
                  <a:lnTo>
                    <a:pt x="93" y="1034"/>
                  </a:lnTo>
                  <a:lnTo>
                    <a:pt x="87" y="1039"/>
                  </a:lnTo>
                  <a:lnTo>
                    <a:pt x="85" y="1043"/>
                  </a:lnTo>
                  <a:lnTo>
                    <a:pt x="83" y="1048"/>
                  </a:lnTo>
                  <a:lnTo>
                    <a:pt x="78" y="1052"/>
                  </a:lnTo>
                  <a:lnTo>
                    <a:pt x="76" y="1057"/>
                  </a:lnTo>
                  <a:lnTo>
                    <a:pt x="72" y="1061"/>
                  </a:lnTo>
                  <a:lnTo>
                    <a:pt x="68" y="1066"/>
                  </a:lnTo>
                  <a:lnTo>
                    <a:pt x="66" y="1070"/>
                  </a:lnTo>
                  <a:lnTo>
                    <a:pt x="64" y="1075"/>
                  </a:lnTo>
                  <a:lnTo>
                    <a:pt x="59" y="1079"/>
                  </a:lnTo>
                  <a:lnTo>
                    <a:pt x="57" y="1084"/>
                  </a:lnTo>
                  <a:lnTo>
                    <a:pt x="55" y="1088"/>
                  </a:lnTo>
                  <a:lnTo>
                    <a:pt x="53" y="1093"/>
                  </a:lnTo>
                  <a:lnTo>
                    <a:pt x="51" y="1097"/>
                  </a:lnTo>
                  <a:lnTo>
                    <a:pt x="51" y="1102"/>
                  </a:lnTo>
                  <a:lnTo>
                    <a:pt x="49" y="1106"/>
                  </a:lnTo>
                  <a:lnTo>
                    <a:pt x="47" y="1111"/>
                  </a:lnTo>
                  <a:lnTo>
                    <a:pt x="47" y="1115"/>
                  </a:lnTo>
                  <a:lnTo>
                    <a:pt x="47" y="1120"/>
                  </a:lnTo>
                  <a:lnTo>
                    <a:pt x="44" y="1124"/>
                  </a:lnTo>
                  <a:lnTo>
                    <a:pt x="44" y="1129"/>
                  </a:lnTo>
                  <a:lnTo>
                    <a:pt x="42" y="1133"/>
                  </a:lnTo>
                  <a:lnTo>
                    <a:pt x="42" y="1138"/>
                  </a:lnTo>
                  <a:lnTo>
                    <a:pt x="40" y="1142"/>
                  </a:lnTo>
                  <a:lnTo>
                    <a:pt x="40" y="1147"/>
                  </a:lnTo>
                  <a:lnTo>
                    <a:pt x="38" y="1151"/>
                  </a:lnTo>
                  <a:lnTo>
                    <a:pt x="38" y="1156"/>
                  </a:lnTo>
                  <a:lnTo>
                    <a:pt x="38" y="1160"/>
                  </a:lnTo>
                  <a:lnTo>
                    <a:pt x="38" y="1165"/>
                  </a:lnTo>
                  <a:lnTo>
                    <a:pt x="38" y="1169"/>
                  </a:lnTo>
                  <a:lnTo>
                    <a:pt x="36" y="1174"/>
                  </a:lnTo>
                  <a:lnTo>
                    <a:pt x="36" y="1178"/>
                  </a:lnTo>
                  <a:lnTo>
                    <a:pt x="34" y="1183"/>
                  </a:lnTo>
                  <a:lnTo>
                    <a:pt x="32" y="1187"/>
                  </a:lnTo>
                  <a:lnTo>
                    <a:pt x="32" y="1192"/>
                  </a:lnTo>
                  <a:lnTo>
                    <a:pt x="30" y="1196"/>
                  </a:lnTo>
                  <a:lnTo>
                    <a:pt x="30" y="1201"/>
                  </a:lnTo>
                  <a:lnTo>
                    <a:pt x="30" y="1205"/>
                  </a:lnTo>
                  <a:lnTo>
                    <a:pt x="30" y="1210"/>
                  </a:lnTo>
                  <a:lnTo>
                    <a:pt x="30" y="1214"/>
                  </a:lnTo>
                  <a:lnTo>
                    <a:pt x="27" y="1219"/>
                  </a:lnTo>
                  <a:lnTo>
                    <a:pt x="27" y="1223"/>
                  </a:lnTo>
                  <a:lnTo>
                    <a:pt x="27" y="1228"/>
                  </a:lnTo>
                  <a:lnTo>
                    <a:pt x="25" y="1232"/>
                  </a:lnTo>
                  <a:lnTo>
                    <a:pt x="25" y="1237"/>
                  </a:lnTo>
                  <a:lnTo>
                    <a:pt x="25" y="1241"/>
                  </a:lnTo>
                  <a:lnTo>
                    <a:pt x="25" y="1246"/>
                  </a:lnTo>
                  <a:lnTo>
                    <a:pt x="23" y="1250"/>
                  </a:lnTo>
                  <a:lnTo>
                    <a:pt x="23" y="1255"/>
                  </a:lnTo>
                  <a:lnTo>
                    <a:pt x="23" y="1259"/>
                  </a:lnTo>
                  <a:lnTo>
                    <a:pt x="23" y="1264"/>
                  </a:lnTo>
                  <a:lnTo>
                    <a:pt x="23" y="1268"/>
                  </a:lnTo>
                  <a:lnTo>
                    <a:pt x="25" y="1273"/>
                  </a:lnTo>
                  <a:lnTo>
                    <a:pt x="25" y="1277"/>
                  </a:lnTo>
                  <a:lnTo>
                    <a:pt x="25" y="1282"/>
                  </a:lnTo>
                  <a:lnTo>
                    <a:pt x="25" y="1286"/>
                  </a:lnTo>
                  <a:lnTo>
                    <a:pt x="27" y="1291"/>
                  </a:lnTo>
                  <a:lnTo>
                    <a:pt x="27" y="1295"/>
                  </a:lnTo>
                  <a:lnTo>
                    <a:pt x="30" y="1300"/>
                  </a:lnTo>
                  <a:lnTo>
                    <a:pt x="30" y="1304"/>
                  </a:lnTo>
                  <a:lnTo>
                    <a:pt x="30" y="1309"/>
                  </a:lnTo>
                  <a:lnTo>
                    <a:pt x="32" y="1313"/>
                  </a:lnTo>
                  <a:lnTo>
                    <a:pt x="34" y="1318"/>
                  </a:lnTo>
                  <a:lnTo>
                    <a:pt x="32" y="1322"/>
                  </a:lnTo>
                  <a:lnTo>
                    <a:pt x="32" y="1327"/>
                  </a:lnTo>
                  <a:lnTo>
                    <a:pt x="32" y="1331"/>
                  </a:lnTo>
                  <a:lnTo>
                    <a:pt x="30" y="1336"/>
                  </a:lnTo>
                  <a:lnTo>
                    <a:pt x="27" y="1340"/>
                  </a:lnTo>
                  <a:lnTo>
                    <a:pt x="27" y="1345"/>
                  </a:lnTo>
                  <a:lnTo>
                    <a:pt x="27" y="1349"/>
                  </a:lnTo>
                  <a:lnTo>
                    <a:pt x="27" y="1354"/>
                  </a:lnTo>
                  <a:lnTo>
                    <a:pt x="25" y="1358"/>
                  </a:lnTo>
                  <a:lnTo>
                    <a:pt x="25" y="1363"/>
                  </a:lnTo>
                  <a:lnTo>
                    <a:pt x="25" y="1367"/>
                  </a:lnTo>
                  <a:lnTo>
                    <a:pt x="25" y="1372"/>
                  </a:lnTo>
                  <a:lnTo>
                    <a:pt x="25" y="1376"/>
                  </a:lnTo>
                  <a:lnTo>
                    <a:pt x="25" y="1381"/>
                  </a:lnTo>
                  <a:lnTo>
                    <a:pt x="25" y="1385"/>
                  </a:lnTo>
                  <a:lnTo>
                    <a:pt x="25" y="1390"/>
                  </a:lnTo>
                  <a:lnTo>
                    <a:pt x="25" y="1394"/>
                  </a:lnTo>
                  <a:lnTo>
                    <a:pt x="25" y="1399"/>
                  </a:lnTo>
                  <a:lnTo>
                    <a:pt x="23" y="1403"/>
                  </a:lnTo>
                  <a:lnTo>
                    <a:pt x="23" y="1408"/>
                  </a:lnTo>
                  <a:lnTo>
                    <a:pt x="23" y="1412"/>
                  </a:lnTo>
                  <a:lnTo>
                    <a:pt x="23" y="1417"/>
                  </a:lnTo>
                  <a:lnTo>
                    <a:pt x="23" y="1421"/>
                  </a:lnTo>
                  <a:lnTo>
                    <a:pt x="23" y="1426"/>
                  </a:lnTo>
                  <a:lnTo>
                    <a:pt x="23" y="1430"/>
                  </a:lnTo>
                  <a:lnTo>
                    <a:pt x="23" y="1435"/>
                  </a:lnTo>
                  <a:lnTo>
                    <a:pt x="23" y="1439"/>
                  </a:lnTo>
                  <a:lnTo>
                    <a:pt x="23" y="1444"/>
                  </a:lnTo>
                  <a:lnTo>
                    <a:pt x="23" y="1448"/>
                  </a:lnTo>
                  <a:lnTo>
                    <a:pt x="23" y="1453"/>
                  </a:lnTo>
                  <a:lnTo>
                    <a:pt x="23" y="1457"/>
                  </a:lnTo>
                  <a:lnTo>
                    <a:pt x="23" y="1462"/>
                  </a:lnTo>
                  <a:lnTo>
                    <a:pt x="21" y="1466"/>
                  </a:lnTo>
                  <a:lnTo>
                    <a:pt x="23" y="1471"/>
                  </a:lnTo>
                  <a:lnTo>
                    <a:pt x="23" y="1475"/>
                  </a:lnTo>
                  <a:lnTo>
                    <a:pt x="23" y="1480"/>
                  </a:lnTo>
                  <a:lnTo>
                    <a:pt x="23" y="1484"/>
                  </a:lnTo>
                  <a:lnTo>
                    <a:pt x="23" y="1489"/>
                  </a:lnTo>
                  <a:lnTo>
                    <a:pt x="23" y="1493"/>
                  </a:lnTo>
                  <a:lnTo>
                    <a:pt x="23" y="1498"/>
                  </a:lnTo>
                  <a:lnTo>
                    <a:pt x="23" y="1502"/>
                  </a:lnTo>
                  <a:lnTo>
                    <a:pt x="23" y="1507"/>
                  </a:lnTo>
                  <a:lnTo>
                    <a:pt x="23" y="1511"/>
                  </a:lnTo>
                  <a:lnTo>
                    <a:pt x="23" y="1516"/>
                  </a:lnTo>
                  <a:lnTo>
                    <a:pt x="21" y="1520"/>
                  </a:lnTo>
                  <a:lnTo>
                    <a:pt x="23" y="1525"/>
                  </a:lnTo>
                  <a:lnTo>
                    <a:pt x="21" y="1529"/>
                  </a:lnTo>
                  <a:lnTo>
                    <a:pt x="21" y="1534"/>
                  </a:lnTo>
                  <a:lnTo>
                    <a:pt x="21" y="1538"/>
                  </a:lnTo>
                  <a:lnTo>
                    <a:pt x="21" y="1543"/>
                  </a:lnTo>
                  <a:lnTo>
                    <a:pt x="19" y="1547"/>
                  </a:lnTo>
                  <a:lnTo>
                    <a:pt x="19" y="1552"/>
                  </a:lnTo>
                  <a:lnTo>
                    <a:pt x="19" y="1556"/>
                  </a:lnTo>
                  <a:lnTo>
                    <a:pt x="19" y="1561"/>
                  </a:lnTo>
                  <a:lnTo>
                    <a:pt x="17" y="1565"/>
                  </a:lnTo>
                  <a:lnTo>
                    <a:pt x="19" y="1570"/>
                  </a:lnTo>
                  <a:lnTo>
                    <a:pt x="19" y="1574"/>
                  </a:lnTo>
                  <a:lnTo>
                    <a:pt x="19" y="1578"/>
                  </a:lnTo>
                  <a:lnTo>
                    <a:pt x="19" y="1583"/>
                  </a:lnTo>
                  <a:lnTo>
                    <a:pt x="19" y="1587"/>
                  </a:lnTo>
                  <a:lnTo>
                    <a:pt x="19" y="1592"/>
                  </a:lnTo>
                  <a:lnTo>
                    <a:pt x="19" y="1596"/>
                  </a:lnTo>
                  <a:lnTo>
                    <a:pt x="19" y="1601"/>
                  </a:lnTo>
                  <a:lnTo>
                    <a:pt x="19" y="1605"/>
                  </a:lnTo>
                  <a:lnTo>
                    <a:pt x="19" y="1610"/>
                  </a:lnTo>
                  <a:lnTo>
                    <a:pt x="21" y="1614"/>
                  </a:lnTo>
                  <a:lnTo>
                    <a:pt x="21" y="1619"/>
                  </a:lnTo>
                  <a:lnTo>
                    <a:pt x="21" y="1623"/>
                  </a:lnTo>
                  <a:lnTo>
                    <a:pt x="21" y="1628"/>
                  </a:lnTo>
                  <a:lnTo>
                    <a:pt x="21" y="1632"/>
                  </a:lnTo>
                  <a:lnTo>
                    <a:pt x="21" y="1637"/>
                  </a:lnTo>
                  <a:lnTo>
                    <a:pt x="21" y="1641"/>
                  </a:lnTo>
                  <a:lnTo>
                    <a:pt x="21" y="1646"/>
                  </a:lnTo>
                  <a:lnTo>
                    <a:pt x="21" y="1650"/>
                  </a:lnTo>
                  <a:lnTo>
                    <a:pt x="21" y="1655"/>
                  </a:lnTo>
                  <a:lnTo>
                    <a:pt x="21" y="1659"/>
                  </a:lnTo>
                  <a:lnTo>
                    <a:pt x="21" y="1664"/>
                  </a:lnTo>
                  <a:lnTo>
                    <a:pt x="21" y="1668"/>
                  </a:lnTo>
                  <a:lnTo>
                    <a:pt x="21" y="1673"/>
                  </a:lnTo>
                  <a:lnTo>
                    <a:pt x="21" y="1677"/>
                  </a:lnTo>
                  <a:lnTo>
                    <a:pt x="21" y="1682"/>
                  </a:lnTo>
                  <a:lnTo>
                    <a:pt x="21" y="1686"/>
                  </a:lnTo>
                  <a:lnTo>
                    <a:pt x="21" y="1691"/>
                  </a:lnTo>
                  <a:lnTo>
                    <a:pt x="21" y="1695"/>
                  </a:lnTo>
                  <a:lnTo>
                    <a:pt x="21" y="1700"/>
                  </a:lnTo>
                  <a:lnTo>
                    <a:pt x="21" y="1704"/>
                  </a:lnTo>
                  <a:lnTo>
                    <a:pt x="21" y="1709"/>
                  </a:lnTo>
                  <a:lnTo>
                    <a:pt x="21" y="1713"/>
                  </a:lnTo>
                  <a:lnTo>
                    <a:pt x="21" y="1718"/>
                  </a:lnTo>
                  <a:lnTo>
                    <a:pt x="21" y="1722"/>
                  </a:lnTo>
                  <a:lnTo>
                    <a:pt x="21" y="1727"/>
                  </a:lnTo>
                  <a:lnTo>
                    <a:pt x="21" y="1731"/>
                  </a:lnTo>
                  <a:lnTo>
                    <a:pt x="21" y="1736"/>
                  </a:lnTo>
                  <a:lnTo>
                    <a:pt x="19" y="1740"/>
                  </a:lnTo>
                  <a:lnTo>
                    <a:pt x="19" y="1745"/>
                  </a:lnTo>
                  <a:lnTo>
                    <a:pt x="19" y="1749"/>
                  </a:lnTo>
                  <a:lnTo>
                    <a:pt x="19" y="1754"/>
                  </a:lnTo>
                  <a:lnTo>
                    <a:pt x="19" y="1758"/>
                  </a:lnTo>
                  <a:lnTo>
                    <a:pt x="17" y="1763"/>
                  </a:lnTo>
                  <a:lnTo>
                    <a:pt x="17" y="1767"/>
                  </a:lnTo>
                  <a:lnTo>
                    <a:pt x="17" y="1772"/>
                  </a:lnTo>
                  <a:lnTo>
                    <a:pt x="17" y="1776"/>
                  </a:lnTo>
                  <a:lnTo>
                    <a:pt x="17" y="1781"/>
                  </a:lnTo>
                  <a:lnTo>
                    <a:pt x="17" y="1785"/>
                  </a:lnTo>
                  <a:lnTo>
                    <a:pt x="19" y="1790"/>
                  </a:lnTo>
                  <a:lnTo>
                    <a:pt x="17" y="1794"/>
                  </a:lnTo>
                  <a:lnTo>
                    <a:pt x="17" y="1799"/>
                  </a:lnTo>
                  <a:lnTo>
                    <a:pt x="17" y="1803"/>
                  </a:lnTo>
                  <a:lnTo>
                    <a:pt x="17" y="1808"/>
                  </a:lnTo>
                  <a:lnTo>
                    <a:pt x="17" y="1812"/>
                  </a:lnTo>
                  <a:lnTo>
                    <a:pt x="17" y="1817"/>
                  </a:lnTo>
                  <a:lnTo>
                    <a:pt x="17" y="1821"/>
                  </a:lnTo>
                  <a:lnTo>
                    <a:pt x="17" y="1826"/>
                  </a:lnTo>
                  <a:lnTo>
                    <a:pt x="17" y="1830"/>
                  </a:lnTo>
                  <a:lnTo>
                    <a:pt x="17" y="1835"/>
                  </a:lnTo>
                  <a:lnTo>
                    <a:pt x="17" y="1839"/>
                  </a:lnTo>
                  <a:lnTo>
                    <a:pt x="17" y="1844"/>
                  </a:lnTo>
                  <a:lnTo>
                    <a:pt x="17" y="1848"/>
                  </a:lnTo>
                  <a:lnTo>
                    <a:pt x="17" y="1853"/>
                  </a:lnTo>
                  <a:lnTo>
                    <a:pt x="17" y="1857"/>
                  </a:lnTo>
                  <a:lnTo>
                    <a:pt x="17" y="1862"/>
                  </a:lnTo>
                  <a:lnTo>
                    <a:pt x="15" y="1866"/>
                  </a:lnTo>
                  <a:lnTo>
                    <a:pt x="15" y="1871"/>
                  </a:lnTo>
                  <a:lnTo>
                    <a:pt x="15" y="1875"/>
                  </a:lnTo>
                  <a:lnTo>
                    <a:pt x="13" y="1880"/>
                  </a:lnTo>
                  <a:lnTo>
                    <a:pt x="10" y="1884"/>
                  </a:lnTo>
                  <a:lnTo>
                    <a:pt x="10" y="1889"/>
                  </a:lnTo>
                  <a:lnTo>
                    <a:pt x="10" y="1893"/>
                  </a:lnTo>
                  <a:lnTo>
                    <a:pt x="10" y="1898"/>
                  </a:lnTo>
                  <a:lnTo>
                    <a:pt x="10" y="1902"/>
                  </a:lnTo>
                  <a:lnTo>
                    <a:pt x="10" y="1907"/>
                  </a:lnTo>
                  <a:lnTo>
                    <a:pt x="13" y="1911"/>
                  </a:lnTo>
                  <a:lnTo>
                    <a:pt x="10" y="1916"/>
                  </a:lnTo>
                  <a:lnTo>
                    <a:pt x="13" y="1920"/>
                  </a:lnTo>
                  <a:lnTo>
                    <a:pt x="13" y="1925"/>
                  </a:lnTo>
                  <a:lnTo>
                    <a:pt x="13" y="1929"/>
                  </a:lnTo>
                  <a:lnTo>
                    <a:pt x="13" y="1934"/>
                  </a:lnTo>
                  <a:lnTo>
                    <a:pt x="13" y="1938"/>
                  </a:lnTo>
                  <a:lnTo>
                    <a:pt x="13" y="1943"/>
                  </a:lnTo>
                  <a:lnTo>
                    <a:pt x="13" y="1947"/>
                  </a:lnTo>
                  <a:lnTo>
                    <a:pt x="13" y="1952"/>
                  </a:lnTo>
                  <a:lnTo>
                    <a:pt x="13" y="1956"/>
                  </a:lnTo>
                  <a:lnTo>
                    <a:pt x="13" y="1961"/>
                  </a:lnTo>
                  <a:lnTo>
                    <a:pt x="13" y="1965"/>
                  </a:lnTo>
                  <a:lnTo>
                    <a:pt x="13" y="1970"/>
                  </a:lnTo>
                  <a:lnTo>
                    <a:pt x="13" y="1974"/>
                  </a:lnTo>
                  <a:lnTo>
                    <a:pt x="13" y="1979"/>
                  </a:lnTo>
                  <a:lnTo>
                    <a:pt x="13" y="1983"/>
                  </a:lnTo>
                  <a:lnTo>
                    <a:pt x="13" y="1988"/>
                  </a:lnTo>
                  <a:lnTo>
                    <a:pt x="10" y="1992"/>
                  </a:lnTo>
                  <a:lnTo>
                    <a:pt x="10" y="1997"/>
                  </a:lnTo>
                  <a:lnTo>
                    <a:pt x="10" y="2001"/>
                  </a:lnTo>
                  <a:lnTo>
                    <a:pt x="8" y="2006"/>
                  </a:lnTo>
                  <a:lnTo>
                    <a:pt x="8" y="2010"/>
                  </a:lnTo>
                  <a:lnTo>
                    <a:pt x="8" y="2015"/>
                  </a:lnTo>
                  <a:lnTo>
                    <a:pt x="10" y="2019"/>
                  </a:lnTo>
                  <a:lnTo>
                    <a:pt x="10" y="2024"/>
                  </a:lnTo>
                  <a:lnTo>
                    <a:pt x="8" y="2028"/>
                  </a:lnTo>
                  <a:lnTo>
                    <a:pt x="8" y="2033"/>
                  </a:lnTo>
                  <a:lnTo>
                    <a:pt x="8" y="2037"/>
                  </a:lnTo>
                  <a:lnTo>
                    <a:pt x="8" y="2042"/>
                  </a:lnTo>
                  <a:lnTo>
                    <a:pt x="10" y="2046"/>
                  </a:lnTo>
                  <a:lnTo>
                    <a:pt x="10" y="2051"/>
                  </a:lnTo>
                  <a:lnTo>
                    <a:pt x="10" y="2055"/>
                  </a:lnTo>
                  <a:lnTo>
                    <a:pt x="10" y="2060"/>
                  </a:lnTo>
                  <a:lnTo>
                    <a:pt x="10" y="2064"/>
                  </a:lnTo>
                  <a:lnTo>
                    <a:pt x="10" y="2069"/>
                  </a:lnTo>
                  <a:lnTo>
                    <a:pt x="10" y="2073"/>
                  </a:lnTo>
                  <a:lnTo>
                    <a:pt x="10" y="2078"/>
                  </a:lnTo>
                  <a:lnTo>
                    <a:pt x="10" y="2082"/>
                  </a:lnTo>
                  <a:lnTo>
                    <a:pt x="8" y="2087"/>
                  </a:lnTo>
                  <a:lnTo>
                    <a:pt x="8" y="2091"/>
                  </a:lnTo>
                  <a:lnTo>
                    <a:pt x="8" y="2096"/>
                  </a:lnTo>
                  <a:lnTo>
                    <a:pt x="8" y="2100"/>
                  </a:lnTo>
                  <a:lnTo>
                    <a:pt x="8" y="2105"/>
                  </a:lnTo>
                  <a:lnTo>
                    <a:pt x="6" y="2109"/>
                  </a:lnTo>
                  <a:lnTo>
                    <a:pt x="6" y="2114"/>
                  </a:lnTo>
                  <a:lnTo>
                    <a:pt x="8" y="2118"/>
                  </a:lnTo>
                  <a:lnTo>
                    <a:pt x="8" y="2123"/>
                  </a:lnTo>
                  <a:lnTo>
                    <a:pt x="8" y="2127"/>
                  </a:lnTo>
                  <a:lnTo>
                    <a:pt x="8" y="2132"/>
                  </a:lnTo>
                  <a:lnTo>
                    <a:pt x="8" y="2136"/>
                  </a:lnTo>
                  <a:lnTo>
                    <a:pt x="8" y="2141"/>
                  </a:lnTo>
                  <a:lnTo>
                    <a:pt x="8" y="2145"/>
                  </a:lnTo>
                  <a:lnTo>
                    <a:pt x="8" y="2150"/>
                  </a:lnTo>
                  <a:lnTo>
                    <a:pt x="8" y="2154"/>
                  </a:lnTo>
                  <a:lnTo>
                    <a:pt x="8" y="2159"/>
                  </a:lnTo>
                  <a:lnTo>
                    <a:pt x="8" y="2163"/>
                  </a:lnTo>
                  <a:lnTo>
                    <a:pt x="8" y="2168"/>
                  </a:lnTo>
                  <a:lnTo>
                    <a:pt x="8" y="2172"/>
                  </a:lnTo>
                  <a:lnTo>
                    <a:pt x="6" y="2177"/>
                  </a:lnTo>
                  <a:lnTo>
                    <a:pt x="6" y="2181"/>
                  </a:lnTo>
                  <a:lnTo>
                    <a:pt x="4" y="2186"/>
                  </a:lnTo>
                  <a:lnTo>
                    <a:pt x="6" y="2190"/>
                  </a:lnTo>
                  <a:lnTo>
                    <a:pt x="6" y="2195"/>
                  </a:lnTo>
                  <a:lnTo>
                    <a:pt x="6" y="2199"/>
                  </a:lnTo>
                  <a:lnTo>
                    <a:pt x="6" y="2204"/>
                  </a:lnTo>
                  <a:lnTo>
                    <a:pt x="6" y="2208"/>
                  </a:lnTo>
                  <a:lnTo>
                    <a:pt x="6" y="2213"/>
                  </a:lnTo>
                  <a:lnTo>
                    <a:pt x="6" y="2217"/>
                  </a:lnTo>
                  <a:lnTo>
                    <a:pt x="6" y="2222"/>
                  </a:lnTo>
                  <a:lnTo>
                    <a:pt x="6" y="2226"/>
                  </a:lnTo>
                  <a:lnTo>
                    <a:pt x="4" y="2231"/>
                  </a:lnTo>
                  <a:lnTo>
                    <a:pt x="4" y="2235"/>
                  </a:lnTo>
                  <a:lnTo>
                    <a:pt x="4" y="2240"/>
                  </a:lnTo>
                  <a:lnTo>
                    <a:pt x="4" y="2244"/>
                  </a:lnTo>
                  <a:lnTo>
                    <a:pt x="4" y="2249"/>
                  </a:lnTo>
                  <a:lnTo>
                    <a:pt x="4" y="2253"/>
                  </a:lnTo>
                  <a:lnTo>
                    <a:pt x="4" y="2258"/>
                  </a:lnTo>
                  <a:lnTo>
                    <a:pt x="4" y="2262"/>
                  </a:lnTo>
                  <a:lnTo>
                    <a:pt x="4" y="2267"/>
                  </a:lnTo>
                  <a:lnTo>
                    <a:pt x="4" y="2271"/>
                  </a:lnTo>
                  <a:lnTo>
                    <a:pt x="4" y="2276"/>
                  </a:lnTo>
                  <a:lnTo>
                    <a:pt x="4" y="2280"/>
                  </a:lnTo>
                  <a:lnTo>
                    <a:pt x="4" y="2285"/>
                  </a:lnTo>
                  <a:lnTo>
                    <a:pt x="4" y="2289"/>
                  </a:lnTo>
                  <a:lnTo>
                    <a:pt x="4" y="2294"/>
                  </a:lnTo>
                  <a:lnTo>
                    <a:pt x="2" y="2298"/>
                  </a:lnTo>
                  <a:lnTo>
                    <a:pt x="2" y="2303"/>
                  </a:lnTo>
                  <a:lnTo>
                    <a:pt x="2" y="2307"/>
                  </a:lnTo>
                  <a:lnTo>
                    <a:pt x="2" y="2312"/>
                  </a:lnTo>
                  <a:lnTo>
                    <a:pt x="2" y="2316"/>
                  </a:lnTo>
                  <a:lnTo>
                    <a:pt x="2" y="2321"/>
                  </a:lnTo>
                  <a:lnTo>
                    <a:pt x="2" y="2325"/>
                  </a:lnTo>
                  <a:lnTo>
                    <a:pt x="2" y="2330"/>
                  </a:lnTo>
                  <a:lnTo>
                    <a:pt x="2" y="2334"/>
                  </a:lnTo>
                  <a:lnTo>
                    <a:pt x="2" y="2339"/>
                  </a:lnTo>
                  <a:lnTo>
                    <a:pt x="0" y="2343"/>
                  </a:lnTo>
                  <a:lnTo>
                    <a:pt x="0" y="2348"/>
                  </a:lnTo>
                  <a:lnTo>
                    <a:pt x="0" y="2352"/>
                  </a:lnTo>
                  <a:lnTo>
                    <a:pt x="0" y="2357"/>
                  </a:lnTo>
                  <a:lnTo>
                    <a:pt x="0" y="2361"/>
                  </a:lnTo>
                  <a:lnTo>
                    <a:pt x="0" y="2366"/>
                  </a:lnTo>
                  <a:lnTo>
                    <a:pt x="2" y="2370"/>
                  </a:lnTo>
                  <a:lnTo>
                    <a:pt x="2" y="2375"/>
                  </a:lnTo>
                  <a:lnTo>
                    <a:pt x="2" y="2379"/>
                  </a:lnTo>
                  <a:lnTo>
                    <a:pt x="2" y="2384"/>
                  </a:lnTo>
                  <a:lnTo>
                    <a:pt x="2" y="2388"/>
                  </a:lnTo>
                  <a:lnTo>
                    <a:pt x="2" y="2393"/>
                  </a:lnTo>
                  <a:lnTo>
                    <a:pt x="2" y="2397"/>
                  </a:lnTo>
                  <a:lnTo>
                    <a:pt x="2" y="2402"/>
                  </a:lnTo>
                  <a:lnTo>
                    <a:pt x="2" y="2406"/>
                  </a:lnTo>
                  <a:lnTo>
                    <a:pt x="4" y="2411"/>
                  </a:lnTo>
                  <a:lnTo>
                    <a:pt x="4" y="2415"/>
                  </a:lnTo>
                  <a:lnTo>
                    <a:pt x="4" y="2420"/>
                  </a:lnTo>
                  <a:lnTo>
                    <a:pt x="4" y="2424"/>
                  </a:lnTo>
                  <a:lnTo>
                    <a:pt x="6" y="2429"/>
                  </a:lnTo>
                  <a:lnTo>
                    <a:pt x="6" y="2433"/>
                  </a:lnTo>
                  <a:lnTo>
                    <a:pt x="8" y="2438"/>
                  </a:lnTo>
                  <a:lnTo>
                    <a:pt x="13" y="2442"/>
                  </a:lnTo>
                  <a:lnTo>
                    <a:pt x="15" y="2447"/>
                  </a:lnTo>
                  <a:lnTo>
                    <a:pt x="17" y="2451"/>
                  </a:lnTo>
                  <a:lnTo>
                    <a:pt x="21" y="2456"/>
                  </a:lnTo>
                  <a:lnTo>
                    <a:pt x="23" y="2460"/>
                  </a:lnTo>
                  <a:lnTo>
                    <a:pt x="27" y="2465"/>
                  </a:lnTo>
                  <a:lnTo>
                    <a:pt x="32" y="2469"/>
                  </a:lnTo>
                  <a:lnTo>
                    <a:pt x="36" y="2474"/>
                  </a:lnTo>
                  <a:lnTo>
                    <a:pt x="49" y="2478"/>
                  </a:lnTo>
                  <a:lnTo>
                    <a:pt x="55" y="2483"/>
                  </a:lnTo>
                  <a:lnTo>
                    <a:pt x="64" y="2487"/>
                  </a:lnTo>
                  <a:lnTo>
                    <a:pt x="83" y="2492"/>
                  </a:lnTo>
                  <a:lnTo>
                    <a:pt x="98" y="2496"/>
                  </a:lnTo>
                  <a:lnTo>
                    <a:pt x="110" y="2501"/>
                  </a:lnTo>
                  <a:lnTo>
                    <a:pt x="127" y="2505"/>
                  </a:lnTo>
                  <a:lnTo>
                    <a:pt x="136" y="2510"/>
                  </a:lnTo>
                  <a:lnTo>
                    <a:pt x="144" y="2514"/>
                  </a:lnTo>
                  <a:lnTo>
                    <a:pt x="155" y="2519"/>
                  </a:lnTo>
                  <a:lnTo>
                    <a:pt x="157" y="2523"/>
                  </a:lnTo>
                  <a:lnTo>
                    <a:pt x="157" y="2528"/>
                  </a:lnTo>
                  <a:lnTo>
                    <a:pt x="159" y="2532"/>
                  </a:lnTo>
                  <a:lnTo>
                    <a:pt x="159" y="2537"/>
                  </a:lnTo>
                  <a:lnTo>
                    <a:pt x="161" y="2541"/>
                  </a:lnTo>
                  <a:lnTo>
                    <a:pt x="161" y="2546"/>
                  </a:lnTo>
                  <a:lnTo>
                    <a:pt x="161" y="2550"/>
                  </a:lnTo>
                  <a:lnTo>
                    <a:pt x="161" y="2555"/>
                  </a:lnTo>
                  <a:lnTo>
                    <a:pt x="161" y="2559"/>
                  </a:lnTo>
                  <a:lnTo>
                    <a:pt x="161" y="2564"/>
                  </a:lnTo>
                  <a:lnTo>
                    <a:pt x="161" y="2568"/>
                  </a:lnTo>
                  <a:lnTo>
                    <a:pt x="161" y="2573"/>
                  </a:lnTo>
                  <a:lnTo>
                    <a:pt x="161" y="2577"/>
                  </a:lnTo>
                  <a:lnTo>
                    <a:pt x="161" y="2582"/>
                  </a:lnTo>
                  <a:lnTo>
                    <a:pt x="159" y="2586"/>
                  </a:lnTo>
                  <a:lnTo>
                    <a:pt x="159" y="2591"/>
                  </a:lnTo>
                  <a:lnTo>
                    <a:pt x="161" y="2595"/>
                  </a:lnTo>
                  <a:lnTo>
                    <a:pt x="161" y="2600"/>
                  </a:lnTo>
                  <a:lnTo>
                    <a:pt x="161" y="2604"/>
                  </a:lnTo>
                  <a:lnTo>
                    <a:pt x="161" y="2609"/>
                  </a:ln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Freeform 293"/>
            <p:cNvSpPr/>
            <p:nvPr/>
          </p:nvSpPr>
          <p:spPr>
            <a:xfrm>
              <a:off x="1282680" y="2157480"/>
              <a:ext cx="272880" cy="4379760"/>
            </a:xfrm>
            <a:custGeom>
              <a:avLst/>
              <a:gdLst>
                <a:gd name="textAreaLeft" fmla="*/ 0 w 272880"/>
                <a:gd name="textAreaRight" fmla="*/ 273240 w 272880"/>
                <a:gd name="textAreaTop" fmla="*/ 0 h 4379760"/>
                <a:gd name="textAreaBottom" fmla="*/ 4380120 h 4379760"/>
              </a:gdLst>
              <a:ahLst/>
              <a:rect l="textAreaLeft" t="textAreaTop" r="textAreaRight" b="textAreaBottom"/>
              <a:pathLst>
                <a:path w="162" h="2582">
                  <a:moveTo>
                    <a:pt x="111" y="0"/>
                  </a:moveTo>
                  <a:lnTo>
                    <a:pt x="115" y="4"/>
                  </a:lnTo>
                  <a:lnTo>
                    <a:pt x="117" y="9"/>
                  </a:lnTo>
                  <a:lnTo>
                    <a:pt x="119" y="13"/>
                  </a:lnTo>
                  <a:lnTo>
                    <a:pt x="117" y="18"/>
                  </a:lnTo>
                  <a:lnTo>
                    <a:pt x="117" y="22"/>
                  </a:lnTo>
                  <a:lnTo>
                    <a:pt x="117" y="27"/>
                  </a:lnTo>
                  <a:lnTo>
                    <a:pt x="117" y="31"/>
                  </a:lnTo>
                  <a:lnTo>
                    <a:pt x="117" y="36"/>
                  </a:lnTo>
                  <a:lnTo>
                    <a:pt x="113" y="40"/>
                  </a:lnTo>
                  <a:lnTo>
                    <a:pt x="109" y="45"/>
                  </a:lnTo>
                  <a:lnTo>
                    <a:pt x="106" y="49"/>
                  </a:lnTo>
                  <a:lnTo>
                    <a:pt x="109" y="54"/>
                  </a:lnTo>
                  <a:lnTo>
                    <a:pt x="111" y="58"/>
                  </a:lnTo>
                  <a:lnTo>
                    <a:pt x="113" y="63"/>
                  </a:lnTo>
                  <a:lnTo>
                    <a:pt x="115" y="67"/>
                  </a:lnTo>
                  <a:lnTo>
                    <a:pt x="113" y="72"/>
                  </a:lnTo>
                  <a:lnTo>
                    <a:pt x="111" y="76"/>
                  </a:lnTo>
                  <a:lnTo>
                    <a:pt x="109" y="81"/>
                  </a:lnTo>
                  <a:lnTo>
                    <a:pt x="111" y="85"/>
                  </a:lnTo>
                  <a:lnTo>
                    <a:pt x="111" y="90"/>
                  </a:lnTo>
                  <a:lnTo>
                    <a:pt x="111" y="94"/>
                  </a:lnTo>
                  <a:lnTo>
                    <a:pt x="111" y="99"/>
                  </a:lnTo>
                  <a:lnTo>
                    <a:pt x="119" y="103"/>
                  </a:lnTo>
                  <a:lnTo>
                    <a:pt x="132" y="108"/>
                  </a:lnTo>
                  <a:lnTo>
                    <a:pt x="143" y="112"/>
                  </a:lnTo>
                  <a:lnTo>
                    <a:pt x="140" y="117"/>
                  </a:lnTo>
                  <a:lnTo>
                    <a:pt x="132" y="121"/>
                  </a:lnTo>
                  <a:lnTo>
                    <a:pt x="123" y="126"/>
                  </a:lnTo>
                  <a:lnTo>
                    <a:pt x="111" y="130"/>
                  </a:lnTo>
                  <a:lnTo>
                    <a:pt x="106" y="135"/>
                  </a:lnTo>
                  <a:lnTo>
                    <a:pt x="109" y="139"/>
                  </a:lnTo>
                  <a:lnTo>
                    <a:pt x="115" y="144"/>
                  </a:lnTo>
                  <a:lnTo>
                    <a:pt x="126" y="148"/>
                  </a:lnTo>
                  <a:lnTo>
                    <a:pt x="134" y="153"/>
                  </a:lnTo>
                  <a:lnTo>
                    <a:pt x="136" y="157"/>
                  </a:lnTo>
                  <a:lnTo>
                    <a:pt x="134" y="162"/>
                  </a:lnTo>
                  <a:lnTo>
                    <a:pt x="132" y="166"/>
                  </a:lnTo>
                  <a:lnTo>
                    <a:pt x="132" y="171"/>
                  </a:lnTo>
                  <a:lnTo>
                    <a:pt x="138" y="175"/>
                  </a:lnTo>
                  <a:lnTo>
                    <a:pt x="147" y="180"/>
                  </a:lnTo>
                  <a:lnTo>
                    <a:pt x="153" y="184"/>
                  </a:lnTo>
                  <a:lnTo>
                    <a:pt x="162" y="189"/>
                  </a:lnTo>
                  <a:lnTo>
                    <a:pt x="145" y="193"/>
                  </a:lnTo>
                  <a:lnTo>
                    <a:pt x="96" y="198"/>
                  </a:lnTo>
                  <a:lnTo>
                    <a:pt x="53" y="202"/>
                  </a:lnTo>
                  <a:lnTo>
                    <a:pt x="32" y="207"/>
                  </a:lnTo>
                  <a:lnTo>
                    <a:pt x="21" y="211"/>
                  </a:lnTo>
                  <a:lnTo>
                    <a:pt x="13" y="216"/>
                  </a:lnTo>
                  <a:lnTo>
                    <a:pt x="11" y="220"/>
                  </a:lnTo>
                  <a:lnTo>
                    <a:pt x="9" y="225"/>
                  </a:lnTo>
                  <a:lnTo>
                    <a:pt x="4" y="229"/>
                  </a:lnTo>
                  <a:lnTo>
                    <a:pt x="2" y="234"/>
                  </a:lnTo>
                  <a:lnTo>
                    <a:pt x="2" y="238"/>
                  </a:lnTo>
                  <a:lnTo>
                    <a:pt x="0" y="243"/>
                  </a:lnTo>
                  <a:lnTo>
                    <a:pt x="0" y="247"/>
                  </a:lnTo>
                  <a:lnTo>
                    <a:pt x="0" y="252"/>
                  </a:lnTo>
                  <a:lnTo>
                    <a:pt x="0" y="256"/>
                  </a:lnTo>
                  <a:lnTo>
                    <a:pt x="0" y="261"/>
                  </a:lnTo>
                  <a:lnTo>
                    <a:pt x="2" y="265"/>
                  </a:lnTo>
                  <a:lnTo>
                    <a:pt x="4" y="270"/>
                  </a:lnTo>
                  <a:lnTo>
                    <a:pt x="4" y="274"/>
                  </a:lnTo>
                  <a:lnTo>
                    <a:pt x="7" y="279"/>
                  </a:lnTo>
                  <a:lnTo>
                    <a:pt x="7" y="283"/>
                  </a:lnTo>
                  <a:lnTo>
                    <a:pt x="9" y="288"/>
                  </a:lnTo>
                  <a:lnTo>
                    <a:pt x="7" y="292"/>
                  </a:lnTo>
                  <a:lnTo>
                    <a:pt x="7" y="297"/>
                  </a:lnTo>
                  <a:lnTo>
                    <a:pt x="7" y="301"/>
                  </a:lnTo>
                  <a:lnTo>
                    <a:pt x="7" y="306"/>
                  </a:lnTo>
                  <a:lnTo>
                    <a:pt x="7" y="310"/>
                  </a:lnTo>
                  <a:lnTo>
                    <a:pt x="7" y="315"/>
                  </a:lnTo>
                  <a:lnTo>
                    <a:pt x="7" y="319"/>
                  </a:lnTo>
                  <a:lnTo>
                    <a:pt x="9" y="324"/>
                  </a:lnTo>
                  <a:lnTo>
                    <a:pt x="7" y="328"/>
                  </a:lnTo>
                  <a:lnTo>
                    <a:pt x="7" y="333"/>
                  </a:lnTo>
                  <a:lnTo>
                    <a:pt x="7" y="337"/>
                  </a:lnTo>
                  <a:lnTo>
                    <a:pt x="7" y="342"/>
                  </a:lnTo>
                  <a:lnTo>
                    <a:pt x="7" y="346"/>
                  </a:lnTo>
                  <a:lnTo>
                    <a:pt x="7" y="351"/>
                  </a:lnTo>
                  <a:lnTo>
                    <a:pt x="7" y="355"/>
                  </a:lnTo>
                  <a:lnTo>
                    <a:pt x="7" y="360"/>
                  </a:lnTo>
                  <a:lnTo>
                    <a:pt x="7" y="364"/>
                  </a:lnTo>
                  <a:lnTo>
                    <a:pt x="7" y="369"/>
                  </a:lnTo>
                  <a:lnTo>
                    <a:pt x="4" y="373"/>
                  </a:lnTo>
                  <a:lnTo>
                    <a:pt x="4" y="378"/>
                  </a:lnTo>
                  <a:lnTo>
                    <a:pt x="4" y="382"/>
                  </a:lnTo>
                  <a:lnTo>
                    <a:pt x="4" y="387"/>
                  </a:lnTo>
                  <a:lnTo>
                    <a:pt x="4" y="391"/>
                  </a:lnTo>
                  <a:lnTo>
                    <a:pt x="4" y="396"/>
                  </a:lnTo>
                  <a:lnTo>
                    <a:pt x="4" y="400"/>
                  </a:lnTo>
                  <a:lnTo>
                    <a:pt x="7" y="405"/>
                  </a:lnTo>
                  <a:lnTo>
                    <a:pt x="7" y="409"/>
                  </a:lnTo>
                  <a:lnTo>
                    <a:pt x="7" y="414"/>
                  </a:lnTo>
                  <a:lnTo>
                    <a:pt x="7" y="418"/>
                  </a:lnTo>
                  <a:lnTo>
                    <a:pt x="7" y="423"/>
                  </a:lnTo>
                  <a:lnTo>
                    <a:pt x="7" y="427"/>
                  </a:lnTo>
                  <a:lnTo>
                    <a:pt x="7" y="432"/>
                  </a:lnTo>
                  <a:lnTo>
                    <a:pt x="7" y="436"/>
                  </a:lnTo>
                  <a:lnTo>
                    <a:pt x="7" y="441"/>
                  </a:lnTo>
                  <a:lnTo>
                    <a:pt x="7" y="445"/>
                  </a:lnTo>
                  <a:lnTo>
                    <a:pt x="7" y="450"/>
                  </a:lnTo>
                  <a:lnTo>
                    <a:pt x="7" y="454"/>
                  </a:lnTo>
                  <a:lnTo>
                    <a:pt x="7" y="459"/>
                  </a:lnTo>
                  <a:lnTo>
                    <a:pt x="7" y="463"/>
                  </a:lnTo>
                  <a:lnTo>
                    <a:pt x="7" y="468"/>
                  </a:lnTo>
                  <a:lnTo>
                    <a:pt x="9" y="472"/>
                  </a:lnTo>
                  <a:lnTo>
                    <a:pt x="9" y="477"/>
                  </a:lnTo>
                  <a:lnTo>
                    <a:pt x="9" y="481"/>
                  </a:lnTo>
                  <a:lnTo>
                    <a:pt x="9" y="486"/>
                  </a:lnTo>
                  <a:lnTo>
                    <a:pt x="7" y="490"/>
                  </a:lnTo>
                  <a:lnTo>
                    <a:pt x="7" y="495"/>
                  </a:lnTo>
                  <a:lnTo>
                    <a:pt x="4" y="499"/>
                  </a:lnTo>
                  <a:lnTo>
                    <a:pt x="4" y="504"/>
                  </a:lnTo>
                  <a:lnTo>
                    <a:pt x="2" y="508"/>
                  </a:lnTo>
                  <a:lnTo>
                    <a:pt x="2" y="512"/>
                  </a:lnTo>
                  <a:lnTo>
                    <a:pt x="2" y="517"/>
                  </a:lnTo>
                  <a:lnTo>
                    <a:pt x="2" y="521"/>
                  </a:lnTo>
                  <a:lnTo>
                    <a:pt x="2" y="526"/>
                  </a:lnTo>
                  <a:lnTo>
                    <a:pt x="2" y="530"/>
                  </a:lnTo>
                  <a:lnTo>
                    <a:pt x="2" y="535"/>
                  </a:lnTo>
                  <a:lnTo>
                    <a:pt x="2" y="539"/>
                  </a:lnTo>
                  <a:lnTo>
                    <a:pt x="2" y="544"/>
                  </a:lnTo>
                  <a:lnTo>
                    <a:pt x="0" y="548"/>
                  </a:lnTo>
                  <a:lnTo>
                    <a:pt x="0" y="553"/>
                  </a:lnTo>
                  <a:lnTo>
                    <a:pt x="0" y="557"/>
                  </a:lnTo>
                  <a:lnTo>
                    <a:pt x="0" y="562"/>
                  </a:lnTo>
                  <a:lnTo>
                    <a:pt x="0" y="566"/>
                  </a:lnTo>
                  <a:lnTo>
                    <a:pt x="0" y="571"/>
                  </a:lnTo>
                  <a:lnTo>
                    <a:pt x="0" y="575"/>
                  </a:lnTo>
                  <a:lnTo>
                    <a:pt x="0" y="580"/>
                  </a:lnTo>
                  <a:lnTo>
                    <a:pt x="0" y="584"/>
                  </a:lnTo>
                  <a:lnTo>
                    <a:pt x="2" y="589"/>
                  </a:lnTo>
                  <a:lnTo>
                    <a:pt x="2" y="593"/>
                  </a:lnTo>
                  <a:lnTo>
                    <a:pt x="4" y="598"/>
                  </a:lnTo>
                  <a:lnTo>
                    <a:pt x="4" y="602"/>
                  </a:lnTo>
                  <a:lnTo>
                    <a:pt x="4" y="607"/>
                  </a:lnTo>
                  <a:lnTo>
                    <a:pt x="4" y="611"/>
                  </a:lnTo>
                  <a:lnTo>
                    <a:pt x="4" y="616"/>
                  </a:lnTo>
                  <a:lnTo>
                    <a:pt x="4" y="620"/>
                  </a:lnTo>
                  <a:lnTo>
                    <a:pt x="7" y="625"/>
                  </a:lnTo>
                  <a:lnTo>
                    <a:pt x="7" y="629"/>
                  </a:lnTo>
                  <a:lnTo>
                    <a:pt x="7" y="634"/>
                  </a:lnTo>
                  <a:lnTo>
                    <a:pt x="7" y="638"/>
                  </a:lnTo>
                  <a:lnTo>
                    <a:pt x="7" y="643"/>
                  </a:lnTo>
                  <a:lnTo>
                    <a:pt x="4" y="647"/>
                  </a:lnTo>
                  <a:lnTo>
                    <a:pt x="4" y="652"/>
                  </a:lnTo>
                  <a:lnTo>
                    <a:pt x="4" y="656"/>
                  </a:lnTo>
                  <a:lnTo>
                    <a:pt x="4" y="661"/>
                  </a:lnTo>
                  <a:lnTo>
                    <a:pt x="4" y="665"/>
                  </a:lnTo>
                  <a:lnTo>
                    <a:pt x="4" y="670"/>
                  </a:lnTo>
                  <a:lnTo>
                    <a:pt x="4" y="674"/>
                  </a:lnTo>
                  <a:lnTo>
                    <a:pt x="7" y="679"/>
                  </a:lnTo>
                  <a:lnTo>
                    <a:pt x="7" y="683"/>
                  </a:lnTo>
                  <a:lnTo>
                    <a:pt x="4" y="688"/>
                  </a:lnTo>
                  <a:lnTo>
                    <a:pt x="4" y="692"/>
                  </a:lnTo>
                  <a:lnTo>
                    <a:pt x="4" y="697"/>
                  </a:lnTo>
                  <a:lnTo>
                    <a:pt x="4" y="701"/>
                  </a:lnTo>
                  <a:lnTo>
                    <a:pt x="2" y="706"/>
                  </a:lnTo>
                  <a:lnTo>
                    <a:pt x="2" y="710"/>
                  </a:lnTo>
                  <a:lnTo>
                    <a:pt x="2" y="715"/>
                  </a:lnTo>
                  <a:lnTo>
                    <a:pt x="2" y="719"/>
                  </a:lnTo>
                  <a:lnTo>
                    <a:pt x="0" y="724"/>
                  </a:lnTo>
                  <a:lnTo>
                    <a:pt x="0" y="728"/>
                  </a:lnTo>
                  <a:lnTo>
                    <a:pt x="0" y="733"/>
                  </a:lnTo>
                  <a:lnTo>
                    <a:pt x="0" y="737"/>
                  </a:lnTo>
                  <a:lnTo>
                    <a:pt x="0" y="742"/>
                  </a:lnTo>
                  <a:lnTo>
                    <a:pt x="0" y="746"/>
                  </a:lnTo>
                  <a:lnTo>
                    <a:pt x="0" y="751"/>
                  </a:lnTo>
                  <a:lnTo>
                    <a:pt x="0" y="755"/>
                  </a:lnTo>
                  <a:lnTo>
                    <a:pt x="0" y="760"/>
                  </a:lnTo>
                  <a:lnTo>
                    <a:pt x="0" y="764"/>
                  </a:lnTo>
                  <a:lnTo>
                    <a:pt x="0" y="769"/>
                  </a:lnTo>
                  <a:lnTo>
                    <a:pt x="0" y="773"/>
                  </a:lnTo>
                  <a:lnTo>
                    <a:pt x="0" y="778"/>
                  </a:lnTo>
                  <a:lnTo>
                    <a:pt x="0" y="782"/>
                  </a:lnTo>
                  <a:lnTo>
                    <a:pt x="0" y="787"/>
                  </a:lnTo>
                  <a:lnTo>
                    <a:pt x="0" y="791"/>
                  </a:lnTo>
                  <a:lnTo>
                    <a:pt x="2" y="796"/>
                  </a:lnTo>
                  <a:lnTo>
                    <a:pt x="2" y="800"/>
                  </a:lnTo>
                  <a:lnTo>
                    <a:pt x="2" y="805"/>
                  </a:lnTo>
                  <a:lnTo>
                    <a:pt x="2" y="809"/>
                  </a:lnTo>
                  <a:lnTo>
                    <a:pt x="2" y="814"/>
                  </a:lnTo>
                  <a:lnTo>
                    <a:pt x="2" y="818"/>
                  </a:lnTo>
                  <a:lnTo>
                    <a:pt x="7" y="823"/>
                  </a:lnTo>
                  <a:lnTo>
                    <a:pt x="13" y="827"/>
                  </a:lnTo>
                  <a:lnTo>
                    <a:pt x="19" y="832"/>
                  </a:lnTo>
                  <a:lnTo>
                    <a:pt x="26" y="836"/>
                  </a:lnTo>
                  <a:lnTo>
                    <a:pt x="30" y="841"/>
                  </a:lnTo>
                  <a:lnTo>
                    <a:pt x="36" y="845"/>
                  </a:lnTo>
                  <a:lnTo>
                    <a:pt x="45" y="850"/>
                  </a:lnTo>
                  <a:lnTo>
                    <a:pt x="47" y="854"/>
                  </a:lnTo>
                  <a:lnTo>
                    <a:pt x="45" y="859"/>
                  </a:lnTo>
                  <a:lnTo>
                    <a:pt x="41" y="863"/>
                  </a:lnTo>
                  <a:lnTo>
                    <a:pt x="38" y="868"/>
                  </a:lnTo>
                  <a:lnTo>
                    <a:pt x="32" y="872"/>
                  </a:lnTo>
                  <a:lnTo>
                    <a:pt x="26" y="877"/>
                  </a:lnTo>
                  <a:lnTo>
                    <a:pt x="21" y="881"/>
                  </a:lnTo>
                  <a:lnTo>
                    <a:pt x="19" y="886"/>
                  </a:lnTo>
                  <a:lnTo>
                    <a:pt x="19" y="890"/>
                  </a:lnTo>
                  <a:lnTo>
                    <a:pt x="19" y="895"/>
                  </a:lnTo>
                  <a:lnTo>
                    <a:pt x="19" y="899"/>
                  </a:lnTo>
                  <a:lnTo>
                    <a:pt x="19" y="904"/>
                  </a:lnTo>
                  <a:lnTo>
                    <a:pt x="19" y="908"/>
                  </a:lnTo>
                  <a:lnTo>
                    <a:pt x="19" y="913"/>
                  </a:lnTo>
                  <a:lnTo>
                    <a:pt x="17" y="917"/>
                  </a:lnTo>
                  <a:lnTo>
                    <a:pt x="17" y="922"/>
                  </a:lnTo>
                  <a:lnTo>
                    <a:pt x="15" y="926"/>
                  </a:lnTo>
                  <a:lnTo>
                    <a:pt x="15" y="931"/>
                  </a:lnTo>
                  <a:lnTo>
                    <a:pt x="15" y="935"/>
                  </a:lnTo>
                  <a:lnTo>
                    <a:pt x="15" y="940"/>
                  </a:lnTo>
                  <a:lnTo>
                    <a:pt x="15" y="944"/>
                  </a:lnTo>
                  <a:lnTo>
                    <a:pt x="15" y="949"/>
                  </a:lnTo>
                  <a:lnTo>
                    <a:pt x="15" y="953"/>
                  </a:lnTo>
                  <a:lnTo>
                    <a:pt x="17" y="958"/>
                  </a:lnTo>
                  <a:lnTo>
                    <a:pt x="17" y="962"/>
                  </a:lnTo>
                  <a:lnTo>
                    <a:pt x="17" y="967"/>
                  </a:lnTo>
                  <a:lnTo>
                    <a:pt x="17" y="971"/>
                  </a:lnTo>
                  <a:lnTo>
                    <a:pt x="17" y="976"/>
                  </a:lnTo>
                  <a:lnTo>
                    <a:pt x="17" y="980"/>
                  </a:lnTo>
                  <a:lnTo>
                    <a:pt x="17" y="985"/>
                  </a:lnTo>
                  <a:lnTo>
                    <a:pt x="17" y="989"/>
                  </a:lnTo>
                  <a:lnTo>
                    <a:pt x="17" y="994"/>
                  </a:lnTo>
                  <a:lnTo>
                    <a:pt x="15" y="998"/>
                  </a:lnTo>
                  <a:lnTo>
                    <a:pt x="13" y="1003"/>
                  </a:lnTo>
                  <a:lnTo>
                    <a:pt x="13" y="1007"/>
                  </a:lnTo>
                  <a:lnTo>
                    <a:pt x="13" y="1012"/>
                  </a:lnTo>
                  <a:lnTo>
                    <a:pt x="13" y="1016"/>
                  </a:lnTo>
                  <a:lnTo>
                    <a:pt x="11" y="1021"/>
                  </a:lnTo>
                  <a:lnTo>
                    <a:pt x="11" y="1025"/>
                  </a:lnTo>
                  <a:lnTo>
                    <a:pt x="9" y="1030"/>
                  </a:lnTo>
                  <a:lnTo>
                    <a:pt x="9" y="1034"/>
                  </a:lnTo>
                  <a:lnTo>
                    <a:pt x="7" y="1039"/>
                  </a:lnTo>
                  <a:lnTo>
                    <a:pt x="7" y="1043"/>
                  </a:lnTo>
                  <a:lnTo>
                    <a:pt x="7" y="1048"/>
                  </a:lnTo>
                  <a:lnTo>
                    <a:pt x="9" y="1052"/>
                  </a:lnTo>
                  <a:lnTo>
                    <a:pt x="9" y="1057"/>
                  </a:lnTo>
                  <a:lnTo>
                    <a:pt x="9" y="1061"/>
                  </a:lnTo>
                  <a:lnTo>
                    <a:pt x="9" y="1066"/>
                  </a:lnTo>
                  <a:lnTo>
                    <a:pt x="11" y="1070"/>
                  </a:lnTo>
                  <a:lnTo>
                    <a:pt x="11" y="1075"/>
                  </a:lnTo>
                  <a:lnTo>
                    <a:pt x="11" y="1079"/>
                  </a:lnTo>
                  <a:lnTo>
                    <a:pt x="9" y="1084"/>
                  </a:lnTo>
                  <a:lnTo>
                    <a:pt x="9" y="1088"/>
                  </a:lnTo>
                  <a:lnTo>
                    <a:pt x="9" y="1093"/>
                  </a:lnTo>
                  <a:lnTo>
                    <a:pt x="9" y="1097"/>
                  </a:lnTo>
                  <a:lnTo>
                    <a:pt x="7" y="1102"/>
                  </a:lnTo>
                  <a:lnTo>
                    <a:pt x="7" y="1106"/>
                  </a:lnTo>
                  <a:lnTo>
                    <a:pt x="7" y="1111"/>
                  </a:lnTo>
                  <a:lnTo>
                    <a:pt x="4" y="1115"/>
                  </a:lnTo>
                  <a:lnTo>
                    <a:pt x="4" y="1120"/>
                  </a:lnTo>
                  <a:lnTo>
                    <a:pt x="4" y="1124"/>
                  </a:lnTo>
                  <a:lnTo>
                    <a:pt x="7" y="1129"/>
                  </a:lnTo>
                  <a:lnTo>
                    <a:pt x="7" y="1133"/>
                  </a:lnTo>
                  <a:lnTo>
                    <a:pt x="7" y="1138"/>
                  </a:lnTo>
                  <a:lnTo>
                    <a:pt x="7" y="1142"/>
                  </a:lnTo>
                  <a:lnTo>
                    <a:pt x="7" y="1147"/>
                  </a:lnTo>
                  <a:lnTo>
                    <a:pt x="9" y="1151"/>
                  </a:lnTo>
                  <a:lnTo>
                    <a:pt x="9" y="1156"/>
                  </a:lnTo>
                  <a:lnTo>
                    <a:pt x="11" y="1160"/>
                  </a:lnTo>
                  <a:lnTo>
                    <a:pt x="9" y="1165"/>
                  </a:lnTo>
                  <a:lnTo>
                    <a:pt x="9" y="1169"/>
                  </a:lnTo>
                  <a:lnTo>
                    <a:pt x="9" y="1174"/>
                  </a:lnTo>
                  <a:lnTo>
                    <a:pt x="9" y="1178"/>
                  </a:lnTo>
                  <a:lnTo>
                    <a:pt x="9" y="1183"/>
                  </a:lnTo>
                  <a:lnTo>
                    <a:pt x="11" y="1187"/>
                  </a:lnTo>
                  <a:lnTo>
                    <a:pt x="11" y="1192"/>
                  </a:lnTo>
                  <a:lnTo>
                    <a:pt x="11" y="1196"/>
                  </a:lnTo>
                  <a:lnTo>
                    <a:pt x="11" y="1201"/>
                  </a:lnTo>
                  <a:lnTo>
                    <a:pt x="11" y="1205"/>
                  </a:lnTo>
                  <a:lnTo>
                    <a:pt x="11" y="1210"/>
                  </a:lnTo>
                  <a:lnTo>
                    <a:pt x="9" y="1214"/>
                  </a:lnTo>
                  <a:lnTo>
                    <a:pt x="9" y="1219"/>
                  </a:lnTo>
                  <a:lnTo>
                    <a:pt x="9" y="1223"/>
                  </a:lnTo>
                  <a:lnTo>
                    <a:pt x="9" y="1228"/>
                  </a:lnTo>
                  <a:lnTo>
                    <a:pt x="9" y="1232"/>
                  </a:lnTo>
                  <a:lnTo>
                    <a:pt x="9" y="1237"/>
                  </a:lnTo>
                  <a:lnTo>
                    <a:pt x="9" y="1241"/>
                  </a:lnTo>
                  <a:lnTo>
                    <a:pt x="7" y="1246"/>
                  </a:lnTo>
                  <a:lnTo>
                    <a:pt x="7" y="1250"/>
                  </a:lnTo>
                  <a:lnTo>
                    <a:pt x="7" y="1255"/>
                  </a:lnTo>
                  <a:lnTo>
                    <a:pt x="9" y="1259"/>
                  </a:lnTo>
                  <a:lnTo>
                    <a:pt x="9" y="1264"/>
                  </a:lnTo>
                  <a:lnTo>
                    <a:pt x="11" y="1268"/>
                  </a:lnTo>
                  <a:lnTo>
                    <a:pt x="11" y="1273"/>
                  </a:lnTo>
                  <a:lnTo>
                    <a:pt x="11" y="1277"/>
                  </a:lnTo>
                  <a:lnTo>
                    <a:pt x="13" y="1282"/>
                  </a:lnTo>
                  <a:lnTo>
                    <a:pt x="13" y="1286"/>
                  </a:lnTo>
                  <a:lnTo>
                    <a:pt x="11" y="1291"/>
                  </a:lnTo>
                  <a:lnTo>
                    <a:pt x="11" y="1295"/>
                  </a:lnTo>
                  <a:lnTo>
                    <a:pt x="11" y="1300"/>
                  </a:lnTo>
                  <a:lnTo>
                    <a:pt x="11" y="1304"/>
                  </a:lnTo>
                  <a:lnTo>
                    <a:pt x="13" y="1309"/>
                  </a:lnTo>
                  <a:lnTo>
                    <a:pt x="11" y="1313"/>
                  </a:lnTo>
                  <a:lnTo>
                    <a:pt x="11" y="1318"/>
                  </a:lnTo>
                  <a:lnTo>
                    <a:pt x="11" y="1322"/>
                  </a:lnTo>
                  <a:lnTo>
                    <a:pt x="9" y="1327"/>
                  </a:lnTo>
                  <a:lnTo>
                    <a:pt x="9" y="1331"/>
                  </a:lnTo>
                  <a:lnTo>
                    <a:pt x="11" y="1336"/>
                  </a:lnTo>
                  <a:lnTo>
                    <a:pt x="13" y="1340"/>
                  </a:lnTo>
                  <a:lnTo>
                    <a:pt x="15" y="1345"/>
                  </a:lnTo>
                  <a:lnTo>
                    <a:pt x="15" y="1349"/>
                  </a:lnTo>
                  <a:lnTo>
                    <a:pt x="15" y="1354"/>
                  </a:lnTo>
                  <a:lnTo>
                    <a:pt x="15" y="1358"/>
                  </a:lnTo>
                  <a:lnTo>
                    <a:pt x="15" y="1363"/>
                  </a:lnTo>
                  <a:lnTo>
                    <a:pt x="15" y="1367"/>
                  </a:lnTo>
                  <a:lnTo>
                    <a:pt x="15" y="1372"/>
                  </a:lnTo>
                  <a:lnTo>
                    <a:pt x="13" y="1376"/>
                  </a:lnTo>
                  <a:lnTo>
                    <a:pt x="13" y="1381"/>
                  </a:lnTo>
                  <a:lnTo>
                    <a:pt x="13" y="1385"/>
                  </a:lnTo>
                  <a:lnTo>
                    <a:pt x="13" y="1390"/>
                  </a:lnTo>
                  <a:lnTo>
                    <a:pt x="13" y="1394"/>
                  </a:lnTo>
                  <a:lnTo>
                    <a:pt x="13" y="1399"/>
                  </a:lnTo>
                  <a:lnTo>
                    <a:pt x="13" y="1403"/>
                  </a:lnTo>
                  <a:lnTo>
                    <a:pt x="13" y="1408"/>
                  </a:lnTo>
                  <a:lnTo>
                    <a:pt x="13" y="1412"/>
                  </a:lnTo>
                  <a:lnTo>
                    <a:pt x="13" y="1417"/>
                  </a:lnTo>
                  <a:lnTo>
                    <a:pt x="11" y="1421"/>
                  </a:lnTo>
                  <a:lnTo>
                    <a:pt x="9" y="1426"/>
                  </a:lnTo>
                  <a:lnTo>
                    <a:pt x="9" y="1430"/>
                  </a:lnTo>
                  <a:lnTo>
                    <a:pt x="7" y="1435"/>
                  </a:lnTo>
                  <a:lnTo>
                    <a:pt x="9" y="1439"/>
                  </a:lnTo>
                  <a:lnTo>
                    <a:pt x="9" y="1444"/>
                  </a:lnTo>
                  <a:lnTo>
                    <a:pt x="9" y="1448"/>
                  </a:lnTo>
                  <a:lnTo>
                    <a:pt x="11" y="1453"/>
                  </a:lnTo>
                  <a:lnTo>
                    <a:pt x="11" y="1457"/>
                  </a:lnTo>
                  <a:lnTo>
                    <a:pt x="11" y="1462"/>
                  </a:lnTo>
                  <a:lnTo>
                    <a:pt x="13" y="1466"/>
                  </a:lnTo>
                  <a:lnTo>
                    <a:pt x="13" y="1471"/>
                  </a:lnTo>
                  <a:lnTo>
                    <a:pt x="13" y="1475"/>
                  </a:lnTo>
                  <a:lnTo>
                    <a:pt x="13" y="1480"/>
                  </a:lnTo>
                  <a:lnTo>
                    <a:pt x="13" y="1484"/>
                  </a:lnTo>
                  <a:lnTo>
                    <a:pt x="13" y="1489"/>
                  </a:lnTo>
                  <a:lnTo>
                    <a:pt x="11" y="1493"/>
                  </a:lnTo>
                  <a:lnTo>
                    <a:pt x="11" y="1498"/>
                  </a:lnTo>
                  <a:lnTo>
                    <a:pt x="11" y="1502"/>
                  </a:lnTo>
                  <a:lnTo>
                    <a:pt x="11" y="1507"/>
                  </a:lnTo>
                  <a:lnTo>
                    <a:pt x="11" y="1511"/>
                  </a:lnTo>
                  <a:lnTo>
                    <a:pt x="11" y="1516"/>
                  </a:lnTo>
                  <a:lnTo>
                    <a:pt x="13" y="1520"/>
                  </a:lnTo>
                  <a:lnTo>
                    <a:pt x="15" y="1525"/>
                  </a:lnTo>
                  <a:lnTo>
                    <a:pt x="13" y="1529"/>
                  </a:lnTo>
                  <a:lnTo>
                    <a:pt x="11" y="1534"/>
                  </a:lnTo>
                  <a:lnTo>
                    <a:pt x="9" y="1538"/>
                  </a:lnTo>
                  <a:lnTo>
                    <a:pt x="9" y="1543"/>
                  </a:lnTo>
                  <a:lnTo>
                    <a:pt x="9" y="1547"/>
                  </a:lnTo>
                  <a:lnTo>
                    <a:pt x="9" y="1552"/>
                  </a:lnTo>
                  <a:lnTo>
                    <a:pt x="9" y="1556"/>
                  </a:lnTo>
                  <a:lnTo>
                    <a:pt x="9" y="1560"/>
                  </a:lnTo>
                  <a:lnTo>
                    <a:pt x="7" y="1565"/>
                  </a:lnTo>
                  <a:lnTo>
                    <a:pt x="7" y="1569"/>
                  </a:lnTo>
                  <a:lnTo>
                    <a:pt x="7" y="1574"/>
                  </a:lnTo>
                  <a:lnTo>
                    <a:pt x="9" y="1578"/>
                  </a:lnTo>
                  <a:lnTo>
                    <a:pt x="9" y="1583"/>
                  </a:lnTo>
                  <a:lnTo>
                    <a:pt x="9" y="1587"/>
                  </a:lnTo>
                  <a:lnTo>
                    <a:pt x="9" y="1592"/>
                  </a:lnTo>
                  <a:lnTo>
                    <a:pt x="9" y="1596"/>
                  </a:lnTo>
                  <a:lnTo>
                    <a:pt x="9" y="1601"/>
                  </a:lnTo>
                  <a:lnTo>
                    <a:pt x="9" y="1605"/>
                  </a:lnTo>
                  <a:lnTo>
                    <a:pt x="11" y="1610"/>
                  </a:lnTo>
                  <a:lnTo>
                    <a:pt x="11" y="1614"/>
                  </a:lnTo>
                  <a:lnTo>
                    <a:pt x="11" y="1619"/>
                  </a:lnTo>
                  <a:lnTo>
                    <a:pt x="13" y="1623"/>
                  </a:lnTo>
                  <a:lnTo>
                    <a:pt x="13" y="1628"/>
                  </a:lnTo>
                  <a:lnTo>
                    <a:pt x="11" y="1632"/>
                  </a:lnTo>
                  <a:lnTo>
                    <a:pt x="11" y="1637"/>
                  </a:lnTo>
                  <a:lnTo>
                    <a:pt x="11" y="1641"/>
                  </a:lnTo>
                  <a:lnTo>
                    <a:pt x="11" y="1646"/>
                  </a:lnTo>
                  <a:lnTo>
                    <a:pt x="11" y="1650"/>
                  </a:lnTo>
                  <a:lnTo>
                    <a:pt x="11" y="1655"/>
                  </a:lnTo>
                  <a:lnTo>
                    <a:pt x="11" y="1659"/>
                  </a:lnTo>
                  <a:lnTo>
                    <a:pt x="11" y="1664"/>
                  </a:lnTo>
                  <a:lnTo>
                    <a:pt x="9" y="1668"/>
                  </a:lnTo>
                  <a:lnTo>
                    <a:pt x="9" y="1673"/>
                  </a:lnTo>
                  <a:lnTo>
                    <a:pt x="9" y="1677"/>
                  </a:lnTo>
                  <a:lnTo>
                    <a:pt x="9" y="1682"/>
                  </a:lnTo>
                  <a:lnTo>
                    <a:pt x="9" y="1686"/>
                  </a:lnTo>
                  <a:lnTo>
                    <a:pt x="9" y="1691"/>
                  </a:lnTo>
                  <a:lnTo>
                    <a:pt x="9" y="1695"/>
                  </a:lnTo>
                  <a:lnTo>
                    <a:pt x="9" y="1700"/>
                  </a:lnTo>
                  <a:lnTo>
                    <a:pt x="9" y="1704"/>
                  </a:lnTo>
                  <a:lnTo>
                    <a:pt x="9" y="1709"/>
                  </a:lnTo>
                  <a:lnTo>
                    <a:pt x="9" y="1713"/>
                  </a:lnTo>
                  <a:lnTo>
                    <a:pt x="11" y="1718"/>
                  </a:lnTo>
                  <a:lnTo>
                    <a:pt x="11" y="1722"/>
                  </a:lnTo>
                  <a:lnTo>
                    <a:pt x="11" y="1727"/>
                  </a:lnTo>
                  <a:lnTo>
                    <a:pt x="11" y="1731"/>
                  </a:lnTo>
                  <a:lnTo>
                    <a:pt x="11" y="1736"/>
                  </a:lnTo>
                  <a:lnTo>
                    <a:pt x="11" y="1740"/>
                  </a:lnTo>
                  <a:lnTo>
                    <a:pt x="11" y="1745"/>
                  </a:lnTo>
                  <a:lnTo>
                    <a:pt x="11" y="1749"/>
                  </a:lnTo>
                  <a:lnTo>
                    <a:pt x="9" y="1754"/>
                  </a:lnTo>
                  <a:lnTo>
                    <a:pt x="9" y="1758"/>
                  </a:lnTo>
                  <a:lnTo>
                    <a:pt x="9" y="1763"/>
                  </a:lnTo>
                  <a:lnTo>
                    <a:pt x="9" y="1767"/>
                  </a:lnTo>
                  <a:lnTo>
                    <a:pt x="9" y="1772"/>
                  </a:lnTo>
                  <a:lnTo>
                    <a:pt x="9" y="1776"/>
                  </a:lnTo>
                  <a:lnTo>
                    <a:pt x="9" y="1781"/>
                  </a:lnTo>
                  <a:lnTo>
                    <a:pt x="9" y="1785"/>
                  </a:lnTo>
                  <a:lnTo>
                    <a:pt x="11" y="1790"/>
                  </a:lnTo>
                  <a:lnTo>
                    <a:pt x="13" y="1794"/>
                  </a:lnTo>
                  <a:lnTo>
                    <a:pt x="13" y="1799"/>
                  </a:lnTo>
                  <a:lnTo>
                    <a:pt x="11" y="1803"/>
                  </a:lnTo>
                  <a:lnTo>
                    <a:pt x="11" y="1808"/>
                  </a:lnTo>
                  <a:lnTo>
                    <a:pt x="11" y="1812"/>
                  </a:lnTo>
                  <a:lnTo>
                    <a:pt x="11" y="1817"/>
                  </a:lnTo>
                  <a:lnTo>
                    <a:pt x="11" y="1821"/>
                  </a:lnTo>
                  <a:lnTo>
                    <a:pt x="11" y="1826"/>
                  </a:lnTo>
                  <a:lnTo>
                    <a:pt x="11" y="1830"/>
                  </a:lnTo>
                  <a:lnTo>
                    <a:pt x="11" y="1835"/>
                  </a:lnTo>
                  <a:lnTo>
                    <a:pt x="11" y="1839"/>
                  </a:lnTo>
                  <a:lnTo>
                    <a:pt x="9" y="1844"/>
                  </a:lnTo>
                  <a:lnTo>
                    <a:pt x="9" y="1848"/>
                  </a:lnTo>
                  <a:lnTo>
                    <a:pt x="9" y="1853"/>
                  </a:lnTo>
                  <a:lnTo>
                    <a:pt x="9" y="1857"/>
                  </a:lnTo>
                  <a:lnTo>
                    <a:pt x="9" y="1862"/>
                  </a:lnTo>
                  <a:lnTo>
                    <a:pt x="9" y="1866"/>
                  </a:lnTo>
                  <a:lnTo>
                    <a:pt x="9" y="1871"/>
                  </a:lnTo>
                  <a:lnTo>
                    <a:pt x="9" y="1875"/>
                  </a:lnTo>
                  <a:lnTo>
                    <a:pt x="9" y="1880"/>
                  </a:lnTo>
                  <a:lnTo>
                    <a:pt x="9" y="1884"/>
                  </a:lnTo>
                  <a:lnTo>
                    <a:pt x="9" y="1889"/>
                  </a:lnTo>
                  <a:lnTo>
                    <a:pt x="9" y="1893"/>
                  </a:lnTo>
                  <a:lnTo>
                    <a:pt x="9" y="1898"/>
                  </a:lnTo>
                  <a:lnTo>
                    <a:pt x="9" y="1902"/>
                  </a:lnTo>
                  <a:lnTo>
                    <a:pt x="9" y="1907"/>
                  </a:lnTo>
                  <a:lnTo>
                    <a:pt x="11" y="1911"/>
                  </a:lnTo>
                  <a:lnTo>
                    <a:pt x="11" y="1916"/>
                  </a:lnTo>
                  <a:lnTo>
                    <a:pt x="11" y="1920"/>
                  </a:lnTo>
                  <a:lnTo>
                    <a:pt x="11" y="1925"/>
                  </a:lnTo>
                  <a:lnTo>
                    <a:pt x="11" y="1929"/>
                  </a:lnTo>
                  <a:lnTo>
                    <a:pt x="11" y="1934"/>
                  </a:lnTo>
                  <a:lnTo>
                    <a:pt x="11" y="1938"/>
                  </a:lnTo>
                  <a:lnTo>
                    <a:pt x="11" y="1943"/>
                  </a:lnTo>
                  <a:lnTo>
                    <a:pt x="11" y="1947"/>
                  </a:lnTo>
                  <a:lnTo>
                    <a:pt x="11" y="1952"/>
                  </a:lnTo>
                  <a:lnTo>
                    <a:pt x="11" y="1956"/>
                  </a:lnTo>
                  <a:lnTo>
                    <a:pt x="11" y="1961"/>
                  </a:lnTo>
                  <a:lnTo>
                    <a:pt x="11" y="1965"/>
                  </a:lnTo>
                  <a:lnTo>
                    <a:pt x="11" y="1970"/>
                  </a:lnTo>
                  <a:lnTo>
                    <a:pt x="11" y="1974"/>
                  </a:lnTo>
                  <a:lnTo>
                    <a:pt x="11" y="1979"/>
                  </a:lnTo>
                  <a:lnTo>
                    <a:pt x="11" y="1983"/>
                  </a:lnTo>
                  <a:lnTo>
                    <a:pt x="11" y="1988"/>
                  </a:lnTo>
                  <a:lnTo>
                    <a:pt x="11" y="1992"/>
                  </a:lnTo>
                  <a:lnTo>
                    <a:pt x="11" y="1997"/>
                  </a:lnTo>
                  <a:lnTo>
                    <a:pt x="11" y="2001"/>
                  </a:lnTo>
                  <a:lnTo>
                    <a:pt x="11" y="2006"/>
                  </a:lnTo>
                  <a:lnTo>
                    <a:pt x="11" y="2010"/>
                  </a:lnTo>
                  <a:lnTo>
                    <a:pt x="11" y="2015"/>
                  </a:lnTo>
                  <a:lnTo>
                    <a:pt x="11" y="2019"/>
                  </a:lnTo>
                  <a:lnTo>
                    <a:pt x="11" y="2024"/>
                  </a:lnTo>
                  <a:lnTo>
                    <a:pt x="11" y="2028"/>
                  </a:lnTo>
                  <a:lnTo>
                    <a:pt x="11" y="2033"/>
                  </a:lnTo>
                  <a:lnTo>
                    <a:pt x="11" y="2037"/>
                  </a:lnTo>
                  <a:lnTo>
                    <a:pt x="11" y="2042"/>
                  </a:lnTo>
                  <a:lnTo>
                    <a:pt x="11" y="2046"/>
                  </a:lnTo>
                  <a:lnTo>
                    <a:pt x="11" y="2051"/>
                  </a:lnTo>
                  <a:lnTo>
                    <a:pt x="11" y="2055"/>
                  </a:lnTo>
                  <a:lnTo>
                    <a:pt x="11" y="2060"/>
                  </a:lnTo>
                  <a:lnTo>
                    <a:pt x="11" y="2064"/>
                  </a:lnTo>
                  <a:lnTo>
                    <a:pt x="11" y="2069"/>
                  </a:lnTo>
                  <a:lnTo>
                    <a:pt x="11" y="2073"/>
                  </a:lnTo>
                  <a:lnTo>
                    <a:pt x="11" y="2078"/>
                  </a:lnTo>
                  <a:lnTo>
                    <a:pt x="11" y="2082"/>
                  </a:lnTo>
                  <a:lnTo>
                    <a:pt x="11" y="2087"/>
                  </a:lnTo>
                  <a:lnTo>
                    <a:pt x="9" y="2091"/>
                  </a:lnTo>
                  <a:lnTo>
                    <a:pt x="9" y="2096"/>
                  </a:lnTo>
                  <a:lnTo>
                    <a:pt x="9" y="2100"/>
                  </a:lnTo>
                  <a:lnTo>
                    <a:pt x="9" y="2105"/>
                  </a:lnTo>
                  <a:lnTo>
                    <a:pt x="11" y="2109"/>
                  </a:lnTo>
                  <a:lnTo>
                    <a:pt x="11" y="2114"/>
                  </a:lnTo>
                  <a:lnTo>
                    <a:pt x="13" y="2118"/>
                  </a:lnTo>
                  <a:lnTo>
                    <a:pt x="13" y="2123"/>
                  </a:lnTo>
                  <a:lnTo>
                    <a:pt x="11" y="2127"/>
                  </a:lnTo>
                  <a:lnTo>
                    <a:pt x="11" y="2132"/>
                  </a:lnTo>
                  <a:lnTo>
                    <a:pt x="11" y="2136"/>
                  </a:lnTo>
                  <a:lnTo>
                    <a:pt x="11" y="2141"/>
                  </a:lnTo>
                  <a:lnTo>
                    <a:pt x="11" y="2145"/>
                  </a:lnTo>
                  <a:lnTo>
                    <a:pt x="11" y="2150"/>
                  </a:lnTo>
                  <a:lnTo>
                    <a:pt x="13" y="2154"/>
                  </a:lnTo>
                  <a:lnTo>
                    <a:pt x="15" y="2159"/>
                  </a:lnTo>
                  <a:lnTo>
                    <a:pt x="17" y="2163"/>
                  </a:lnTo>
                  <a:lnTo>
                    <a:pt x="17" y="2168"/>
                  </a:lnTo>
                  <a:lnTo>
                    <a:pt x="15" y="2172"/>
                  </a:lnTo>
                  <a:lnTo>
                    <a:pt x="15" y="2177"/>
                  </a:lnTo>
                  <a:lnTo>
                    <a:pt x="13" y="2181"/>
                  </a:lnTo>
                  <a:lnTo>
                    <a:pt x="13" y="2186"/>
                  </a:lnTo>
                  <a:lnTo>
                    <a:pt x="15" y="2190"/>
                  </a:lnTo>
                  <a:lnTo>
                    <a:pt x="15" y="2195"/>
                  </a:lnTo>
                  <a:lnTo>
                    <a:pt x="15" y="2199"/>
                  </a:lnTo>
                  <a:lnTo>
                    <a:pt x="15" y="2204"/>
                  </a:lnTo>
                  <a:lnTo>
                    <a:pt x="15" y="2208"/>
                  </a:lnTo>
                  <a:lnTo>
                    <a:pt x="17" y="2213"/>
                  </a:lnTo>
                  <a:lnTo>
                    <a:pt x="17" y="2217"/>
                  </a:lnTo>
                  <a:lnTo>
                    <a:pt x="17" y="2222"/>
                  </a:lnTo>
                  <a:lnTo>
                    <a:pt x="15" y="2226"/>
                  </a:lnTo>
                  <a:lnTo>
                    <a:pt x="15" y="2231"/>
                  </a:lnTo>
                  <a:lnTo>
                    <a:pt x="15" y="2235"/>
                  </a:lnTo>
                  <a:lnTo>
                    <a:pt x="15" y="2240"/>
                  </a:lnTo>
                  <a:lnTo>
                    <a:pt x="15" y="2244"/>
                  </a:lnTo>
                  <a:lnTo>
                    <a:pt x="15" y="2249"/>
                  </a:lnTo>
                  <a:lnTo>
                    <a:pt x="15" y="2253"/>
                  </a:lnTo>
                  <a:lnTo>
                    <a:pt x="15" y="2258"/>
                  </a:lnTo>
                  <a:lnTo>
                    <a:pt x="15" y="2262"/>
                  </a:lnTo>
                  <a:lnTo>
                    <a:pt x="15" y="2267"/>
                  </a:lnTo>
                  <a:lnTo>
                    <a:pt x="15" y="2271"/>
                  </a:lnTo>
                  <a:lnTo>
                    <a:pt x="15" y="2276"/>
                  </a:lnTo>
                  <a:lnTo>
                    <a:pt x="13" y="2280"/>
                  </a:lnTo>
                  <a:lnTo>
                    <a:pt x="13" y="2285"/>
                  </a:lnTo>
                  <a:lnTo>
                    <a:pt x="13" y="2289"/>
                  </a:lnTo>
                  <a:lnTo>
                    <a:pt x="13" y="2294"/>
                  </a:lnTo>
                  <a:lnTo>
                    <a:pt x="13" y="2298"/>
                  </a:lnTo>
                  <a:lnTo>
                    <a:pt x="13" y="2303"/>
                  </a:lnTo>
                  <a:lnTo>
                    <a:pt x="13" y="2307"/>
                  </a:lnTo>
                  <a:lnTo>
                    <a:pt x="11" y="2312"/>
                  </a:lnTo>
                  <a:lnTo>
                    <a:pt x="11" y="2316"/>
                  </a:lnTo>
                  <a:lnTo>
                    <a:pt x="11" y="2321"/>
                  </a:lnTo>
                  <a:lnTo>
                    <a:pt x="11" y="2325"/>
                  </a:lnTo>
                  <a:lnTo>
                    <a:pt x="11" y="2330"/>
                  </a:lnTo>
                  <a:lnTo>
                    <a:pt x="11" y="2334"/>
                  </a:lnTo>
                  <a:lnTo>
                    <a:pt x="13" y="2339"/>
                  </a:lnTo>
                  <a:lnTo>
                    <a:pt x="13" y="2343"/>
                  </a:lnTo>
                  <a:lnTo>
                    <a:pt x="15" y="2348"/>
                  </a:lnTo>
                  <a:lnTo>
                    <a:pt x="15" y="2352"/>
                  </a:lnTo>
                  <a:lnTo>
                    <a:pt x="15" y="2357"/>
                  </a:lnTo>
                  <a:lnTo>
                    <a:pt x="15" y="2361"/>
                  </a:lnTo>
                  <a:lnTo>
                    <a:pt x="15" y="2366"/>
                  </a:lnTo>
                  <a:lnTo>
                    <a:pt x="15" y="2370"/>
                  </a:lnTo>
                  <a:lnTo>
                    <a:pt x="15" y="2375"/>
                  </a:lnTo>
                  <a:lnTo>
                    <a:pt x="15" y="2379"/>
                  </a:lnTo>
                  <a:lnTo>
                    <a:pt x="15" y="2384"/>
                  </a:lnTo>
                  <a:lnTo>
                    <a:pt x="15" y="2388"/>
                  </a:lnTo>
                  <a:lnTo>
                    <a:pt x="15" y="2393"/>
                  </a:lnTo>
                  <a:lnTo>
                    <a:pt x="15" y="2397"/>
                  </a:lnTo>
                  <a:lnTo>
                    <a:pt x="15" y="2402"/>
                  </a:lnTo>
                  <a:lnTo>
                    <a:pt x="13" y="2406"/>
                  </a:lnTo>
                  <a:lnTo>
                    <a:pt x="13" y="2411"/>
                  </a:lnTo>
                  <a:lnTo>
                    <a:pt x="11" y="2415"/>
                  </a:lnTo>
                  <a:lnTo>
                    <a:pt x="11" y="2420"/>
                  </a:lnTo>
                  <a:lnTo>
                    <a:pt x="11" y="2424"/>
                  </a:lnTo>
                  <a:lnTo>
                    <a:pt x="11" y="2429"/>
                  </a:lnTo>
                  <a:lnTo>
                    <a:pt x="11" y="2433"/>
                  </a:lnTo>
                  <a:lnTo>
                    <a:pt x="11" y="2438"/>
                  </a:lnTo>
                  <a:lnTo>
                    <a:pt x="11" y="2442"/>
                  </a:lnTo>
                  <a:lnTo>
                    <a:pt x="11" y="2447"/>
                  </a:lnTo>
                  <a:lnTo>
                    <a:pt x="11" y="2451"/>
                  </a:lnTo>
                  <a:lnTo>
                    <a:pt x="13" y="2456"/>
                  </a:lnTo>
                  <a:lnTo>
                    <a:pt x="15" y="2460"/>
                  </a:lnTo>
                  <a:lnTo>
                    <a:pt x="21" y="2465"/>
                  </a:lnTo>
                  <a:lnTo>
                    <a:pt x="30" y="2469"/>
                  </a:lnTo>
                  <a:lnTo>
                    <a:pt x="36" y="2474"/>
                  </a:lnTo>
                  <a:lnTo>
                    <a:pt x="41" y="2478"/>
                  </a:lnTo>
                  <a:lnTo>
                    <a:pt x="47" y="2483"/>
                  </a:lnTo>
                  <a:lnTo>
                    <a:pt x="58" y="2487"/>
                  </a:lnTo>
                  <a:lnTo>
                    <a:pt x="68" y="2492"/>
                  </a:lnTo>
                  <a:lnTo>
                    <a:pt x="72" y="2496"/>
                  </a:lnTo>
                  <a:lnTo>
                    <a:pt x="66" y="2501"/>
                  </a:lnTo>
                  <a:lnTo>
                    <a:pt x="60" y="2505"/>
                  </a:lnTo>
                  <a:lnTo>
                    <a:pt x="51" y="2510"/>
                  </a:lnTo>
                  <a:lnTo>
                    <a:pt x="49" y="2514"/>
                  </a:lnTo>
                  <a:lnTo>
                    <a:pt x="60" y="2519"/>
                  </a:lnTo>
                  <a:lnTo>
                    <a:pt x="77" y="2523"/>
                  </a:lnTo>
                  <a:lnTo>
                    <a:pt x="94" y="2528"/>
                  </a:lnTo>
                  <a:lnTo>
                    <a:pt x="106" y="2532"/>
                  </a:lnTo>
                  <a:lnTo>
                    <a:pt x="119" y="2537"/>
                  </a:lnTo>
                  <a:lnTo>
                    <a:pt x="117" y="2541"/>
                  </a:lnTo>
                  <a:lnTo>
                    <a:pt x="102" y="2546"/>
                  </a:lnTo>
                  <a:lnTo>
                    <a:pt x="87" y="2550"/>
                  </a:lnTo>
                  <a:lnTo>
                    <a:pt x="81" y="2555"/>
                  </a:lnTo>
                  <a:lnTo>
                    <a:pt x="77" y="2559"/>
                  </a:lnTo>
                  <a:lnTo>
                    <a:pt x="72" y="2564"/>
                  </a:lnTo>
                  <a:lnTo>
                    <a:pt x="72" y="2568"/>
                  </a:lnTo>
                  <a:lnTo>
                    <a:pt x="77" y="2573"/>
                  </a:lnTo>
                  <a:lnTo>
                    <a:pt x="81" y="2577"/>
                  </a:lnTo>
                  <a:lnTo>
                    <a:pt x="81" y="2582"/>
                  </a:ln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6" name="PlaceHolder 1"/>
          <p:cNvSpPr>
            <a:spLocks noGrp="1"/>
          </p:cNvSpPr>
          <p:nvPr>
            <p:ph type="title"/>
          </p:nvPr>
        </p:nvSpPr>
        <p:spPr>
          <a:xfrm>
            <a:off x="1066320" y="228240"/>
            <a:ext cx="670572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BULK DENSITY LOG</a:t>
            </a:r>
            <a:endParaRPr b="0" lang="en-US" sz="4800" spc="-1" strike="noStrike">
              <a:solidFill>
                <a:srgbClr val="000000"/>
              </a:solidFill>
              <a:latin typeface="Times New Roman"/>
            </a:endParaRPr>
          </a:p>
        </p:txBody>
      </p:sp>
      <p:sp>
        <p:nvSpPr>
          <p:cNvPr id="687" name="Freeform 295"/>
          <p:cNvSpPr/>
          <p:nvPr/>
        </p:nvSpPr>
        <p:spPr>
          <a:xfrm>
            <a:off x="3581280" y="2157480"/>
            <a:ext cx="501840" cy="4379760"/>
          </a:xfrm>
          <a:custGeom>
            <a:avLst/>
            <a:gdLst>
              <a:gd name="textAreaLeft" fmla="*/ 0 w 501840"/>
              <a:gd name="textAreaRight" fmla="*/ 502200 w 501840"/>
              <a:gd name="textAreaTop" fmla="*/ 0 h 4379760"/>
              <a:gd name="textAreaBottom" fmla="*/ 4380120 h 4379760"/>
            </a:gdLst>
            <a:ahLst/>
            <a:rect l="textAreaLeft" t="textAreaTop" r="textAreaRight" b="textAreaBottom"/>
            <a:pathLst>
              <a:path w="297" h="2582">
                <a:moveTo>
                  <a:pt x="223" y="0"/>
                </a:moveTo>
                <a:lnTo>
                  <a:pt x="223" y="4"/>
                </a:lnTo>
                <a:lnTo>
                  <a:pt x="225" y="9"/>
                </a:lnTo>
                <a:lnTo>
                  <a:pt x="216" y="13"/>
                </a:lnTo>
                <a:lnTo>
                  <a:pt x="208" y="18"/>
                </a:lnTo>
                <a:lnTo>
                  <a:pt x="199" y="22"/>
                </a:lnTo>
                <a:lnTo>
                  <a:pt x="195" y="27"/>
                </a:lnTo>
                <a:lnTo>
                  <a:pt x="191" y="31"/>
                </a:lnTo>
                <a:lnTo>
                  <a:pt x="197" y="36"/>
                </a:lnTo>
                <a:lnTo>
                  <a:pt x="208" y="40"/>
                </a:lnTo>
                <a:lnTo>
                  <a:pt x="212" y="45"/>
                </a:lnTo>
                <a:lnTo>
                  <a:pt x="210" y="49"/>
                </a:lnTo>
                <a:lnTo>
                  <a:pt x="199" y="54"/>
                </a:lnTo>
                <a:lnTo>
                  <a:pt x="182" y="58"/>
                </a:lnTo>
                <a:lnTo>
                  <a:pt x="187" y="63"/>
                </a:lnTo>
                <a:lnTo>
                  <a:pt x="195" y="67"/>
                </a:lnTo>
                <a:lnTo>
                  <a:pt x="206" y="72"/>
                </a:lnTo>
                <a:lnTo>
                  <a:pt x="212" y="76"/>
                </a:lnTo>
                <a:lnTo>
                  <a:pt x="204" y="81"/>
                </a:lnTo>
                <a:lnTo>
                  <a:pt x="191" y="85"/>
                </a:lnTo>
                <a:lnTo>
                  <a:pt x="185" y="90"/>
                </a:lnTo>
                <a:lnTo>
                  <a:pt x="185" y="94"/>
                </a:lnTo>
                <a:lnTo>
                  <a:pt x="189" y="99"/>
                </a:lnTo>
                <a:lnTo>
                  <a:pt x="197" y="103"/>
                </a:lnTo>
                <a:lnTo>
                  <a:pt x="191" y="108"/>
                </a:lnTo>
                <a:lnTo>
                  <a:pt x="185" y="112"/>
                </a:lnTo>
                <a:lnTo>
                  <a:pt x="178" y="117"/>
                </a:lnTo>
                <a:lnTo>
                  <a:pt x="178" y="121"/>
                </a:lnTo>
                <a:lnTo>
                  <a:pt x="182" y="126"/>
                </a:lnTo>
                <a:lnTo>
                  <a:pt x="185" y="130"/>
                </a:lnTo>
                <a:lnTo>
                  <a:pt x="193" y="135"/>
                </a:lnTo>
                <a:lnTo>
                  <a:pt x="187" y="139"/>
                </a:lnTo>
                <a:lnTo>
                  <a:pt x="178" y="144"/>
                </a:lnTo>
                <a:lnTo>
                  <a:pt x="161" y="148"/>
                </a:lnTo>
                <a:lnTo>
                  <a:pt x="144" y="153"/>
                </a:lnTo>
                <a:lnTo>
                  <a:pt x="123" y="157"/>
                </a:lnTo>
                <a:lnTo>
                  <a:pt x="91" y="162"/>
                </a:lnTo>
                <a:lnTo>
                  <a:pt x="51" y="166"/>
                </a:lnTo>
                <a:lnTo>
                  <a:pt x="42" y="171"/>
                </a:lnTo>
                <a:lnTo>
                  <a:pt x="40" y="175"/>
                </a:lnTo>
                <a:lnTo>
                  <a:pt x="29" y="180"/>
                </a:lnTo>
                <a:lnTo>
                  <a:pt x="27" y="184"/>
                </a:lnTo>
                <a:lnTo>
                  <a:pt x="40" y="189"/>
                </a:lnTo>
                <a:lnTo>
                  <a:pt x="68" y="193"/>
                </a:lnTo>
                <a:lnTo>
                  <a:pt x="146" y="198"/>
                </a:lnTo>
                <a:lnTo>
                  <a:pt x="206" y="202"/>
                </a:lnTo>
                <a:lnTo>
                  <a:pt x="221" y="207"/>
                </a:lnTo>
                <a:lnTo>
                  <a:pt x="197" y="211"/>
                </a:lnTo>
                <a:lnTo>
                  <a:pt x="91" y="216"/>
                </a:lnTo>
                <a:lnTo>
                  <a:pt x="61" y="220"/>
                </a:lnTo>
                <a:lnTo>
                  <a:pt x="46" y="225"/>
                </a:lnTo>
                <a:lnTo>
                  <a:pt x="59" y="229"/>
                </a:lnTo>
                <a:lnTo>
                  <a:pt x="89" y="234"/>
                </a:lnTo>
                <a:lnTo>
                  <a:pt x="91" y="238"/>
                </a:lnTo>
                <a:lnTo>
                  <a:pt x="78" y="243"/>
                </a:lnTo>
                <a:lnTo>
                  <a:pt x="72" y="247"/>
                </a:lnTo>
                <a:lnTo>
                  <a:pt x="76" y="252"/>
                </a:lnTo>
                <a:lnTo>
                  <a:pt x="68" y="256"/>
                </a:lnTo>
                <a:lnTo>
                  <a:pt x="66" y="261"/>
                </a:lnTo>
                <a:lnTo>
                  <a:pt x="66" y="265"/>
                </a:lnTo>
                <a:lnTo>
                  <a:pt x="68" y="270"/>
                </a:lnTo>
                <a:lnTo>
                  <a:pt x="70" y="274"/>
                </a:lnTo>
                <a:lnTo>
                  <a:pt x="70" y="279"/>
                </a:lnTo>
                <a:lnTo>
                  <a:pt x="70" y="283"/>
                </a:lnTo>
                <a:lnTo>
                  <a:pt x="72" y="288"/>
                </a:lnTo>
                <a:lnTo>
                  <a:pt x="74" y="292"/>
                </a:lnTo>
                <a:lnTo>
                  <a:pt x="76" y="297"/>
                </a:lnTo>
                <a:lnTo>
                  <a:pt x="72" y="301"/>
                </a:lnTo>
                <a:lnTo>
                  <a:pt x="63" y="306"/>
                </a:lnTo>
                <a:lnTo>
                  <a:pt x="63" y="310"/>
                </a:lnTo>
                <a:lnTo>
                  <a:pt x="68" y="315"/>
                </a:lnTo>
                <a:lnTo>
                  <a:pt x="70" y="319"/>
                </a:lnTo>
                <a:lnTo>
                  <a:pt x="74" y="324"/>
                </a:lnTo>
                <a:lnTo>
                  <a:pt x="74" y="328"/>
                </a:lnTo>
                <a:lnTo>
                  <a:pt x="74" y="333"/>
                </a:lnTo>
                <a:lnTo>
                  <a:pt x="70" y="337"/>
                </a:lnTo>
                <a:lnTo>
                  <a:pt x="66" y="342"/>
                </a:lnTo>
                <a:lnTo>
                  <a:pt x="68" y="346"/>
                </a:lnTo>
                <a:lnTo>
                  <a:pt x="74" y="351"/>
                </a:lnTo>
                <a:lnTo>
                  <a:pt x="74" y="355"/>
                </a:lnTo>
                <a:lnTo>
                  <a:pt x="76" y="360"/>
                </a:lnTo>
                <a:lnTo>
                  <a:pt x="93" y="364"/>
                </a:lnTo>
                <a:lnTo>
                  <a:pt x="95" y="369"/>
                </a:lnTo>
                <a:lnTo>
                  <a:pt x="95" y="373"/>
                </a:lnTo>
                <a:lnTo>
                  <a:pt x="100" y="378"/>
                </a:lnTo>
                <a:lnTo>
                  <a:pt x="100" y="382"/>
                </a:lnTo>
                <a:lnTo>
                  <a:pt x="95" y="387"/>
                </a:lnTo>
                <a:lnTo>
                  <a:pt x="97" y="391"/>
                </a:lnTo>
                <a:lnTo>
                  <a:pt x="95" y="396"/>
                </a:lnTo>
                <a:lnTo>
                  <a:pt x="93" y="400"/>
                </a:lnTo>
                <a:lnTo>
                  <a:pt x="89" y="405"/>
                </a:lnTo>
                <a:lnTo>
                  <a:pt x="87" y="409"/>
                </a:lnTo>
                <a:lnTo>
                  <a:pt x="89" y="414"/>
                </a:lnTo>
                <a:lnTo>
                  <a:pt x="89" y="418"/>
                </a:lnTo>
                <a:lnTo>
                  <a:pt x="104" y="423"/>
                </a:lnTo>
                <a:lnTo>
                  <a:pt x="106" y="427"/>
                </a:lnTo>
                <a:lnTo>
                  <a:pt x="106" y="432"/>
                </a:lnTo>
                <a:lnTo>
                  <a:pt x="102" y="436"/>
                </a:lnTo>
                <a:lnTo>
                  <a:pt x="97" y="441"/>
                </a:lnTo>
                <a:lnTo>
                  <a:pt x="95" y="445"/>
                </a:lnTo>
                <a:lnTo>
                  <a:pt x="95" y="450"/>
                </a:lnTo>
                <a:lnTo>
                  <a:pt x="95" y="454"/>
                </a:lnTo>
                <a:lnTo>
                  <a:pt x="97" y="459"/>
                </a:lnTo>
                <a:lnTo>
                  <a:pt x="97" y="463"/>
                </a:lnTo>
                <a:lnTo>
                  <a:pt x="93" y="468"/>
                </a:lnTo>
                <a:lnTo>
                  <a:pt x="91" y="472"/>
                </a:lnTo>
                <a:lnTo>
                  <a:pt x="93" y="477"/>
                </a:lnTo>
                <a:lnTo>
                  <a:pt x="87" y="481"/>
                </a:lnTo>
                <a:lnTo>
                  <a:pt x="87" y="486"/>
                </a:lnTo>
                <a:lnTo>
                  <a:pt x="85" y="490"/>
                </a:lnTo>
                <a:lnTo>
                  <a:pt x="85" y="495"/>
                </a:lnTo>
                <a:lnTo>
                  <a:pt x="85" y="499"/>
                </a:lnTo>
                <a:lnTo>
                  <a:pt x="85" y="504"/>
                </a:lnTo>
                <a:lnTo>
                  <a:pt x="83" y="508"/>
                </a:lnTo>
                <a:lnTo>
                  <a:pt x="80" y="512"/>
                </a:lnTo>
                <a:lnTo>
                  <a:pt x="87" y="517"/>
                </a:lnTo>
                <a:lnTo>
                  <a:pt x="83" y="521"/>
                </a:lnTo>
                <a:lnTo>
                  <a:pt x="68" y="526"/>
                </a:lnTo>
                <a:lnTo>
                  <a:pt x="68" y="530"/>
                </a:lnTo>
                <a:lnTo>
                  <a:pt x="68" y="535"/>
                </a:lnTo>
                <a:lnTo>
                  <a:pt x="68" y="539"/>
                </a:lnTo>
                <a:lnTo>
                  <a:pt x="68" y="544"/>
                </a:lnTo>
                <a:lnTo>
                  <a:pt x="63" y="548"/>
                </a:lnTo>
                <a:lnTo>
                  <a:pt x="63" y="553"/>
                </a:lnTo>
                <a:lnTo>
                  <a:pt x="66" y="557"/>
                </a:lnTo>
                <a:lnTo>
                  <a:pt x="59" y="562"/>
                </a:lnTo>
                <a:lnTo>
                  <a:pt x="57" y="566"/>
                </a:lnTo>
                <a:lnTo>
                  <a:pt x="63" y="571"/>
                </a:lnTo>
                <a:lnTo>
                  <a:pt x="68" y="575"/>
                </a:lnTo>
                <a:lnTo>
                  <a:pt x="74" y="580"/>
                </a:lnTo>
                <a:lnTo>
                  <a:pt x="80" y="584"/>
                </a:lnTo>
                <a:lnTo>
                  <a:pt x="80" y="589"/>
                </a:lnTo>
                <a:lnTo>
                  <a:pt x="76" y="593"/>
                </a:lnTo>
                <a:lnTo>
                  <a:pt x="80" y="598"/>
                </a:lnTo>
                <a:lnTo>
                  <a:pt x="80" y="602"/>
                </a:lnTo>
                <a:lnTo>
                  <a:pt x="80" y="607"/>
                </a:lnTo>
                <a:lnTo>
                  <a:pt x="87" y="611"/>
                </a:lnTo>
                <a:lnTo>
                  <a:pt x="91" y="616"/>
                </a:lnTo>
                <a:lnTo>
                  <a:pt x="93" y="620"/>
                </a:lnTo>
                <a:lnTo>
                  <a:pt x="93" y="625"/>
                </a:lnTo>
                <a:lnTo>
                  <a:pt x="95" y="629"/>
                </a:lnTo>
                <a:lnTo>
                  <a:pt x="97" y="634"/>
                </a:lnTo>
                <a:lnTo>
                  <a:pt x="93" y="638"/>
                </a:lnTo>
                <a:lnTo>
                  <a:pt x="91" y="643"/>
                </a:lnTo>
                <a:lnTo>
                  <a:pt x="91" y="647"/>
                </a:lnTo>
                <a:lnTo>
                  <a:pt x="91" y="652"/>
                </a:lnTo>
                <a:lnTo>
                  <a:pt x="87" y="656"/>
                </a:lnTo>
                <a:lnTo>
                  <a:pt x="87" y="661"/>
                </a:lnTo>
                <a:lnTo>
                  <a:pt x="89" y="665"/>
                </a:lnTo>
                <a:lnTo>
                  <a:pt x="87" y="670"/>
                </a:lnTo>
                <a:lnTo>
                  <a:pt x="83" y="674"/>
                </a:lnTo>
                <a:lnTo>
                  <a:pt x="83" y="679"/>
                </a:lnTo>
                <a:lnTo>
                  <a:pt x="83" y="683"/>
                </a:lnTo>
                <a:lnTo>
                  <a:pt x="83" y="688"/>
                </a:lnTo>
                <a:lnTo>
                  <a:pt x="78" y="692"/>
                </a:lnTo>
                <a:lnTo>
                  <a:pt x="63" y="697"/>
                </a:lnTo>
                <a:lnTo>
                  <a:pt x="53" y="701"/>
                </a:lnTo>
                <a:lnTo>
                  <a:pt x="51" y="706"/>
                </a:lnTo>
                <a:lnTo>
                  <a:pt x="53" y="710"/>
                </a:lnTo>
                <a:lnTo>
                  <a:pt x="66" y="715"/>
                </a:lnTo>
                <a:lnTo>
                  <a:pt x="68" y="719"/>
                </a:lnTo>
                <a:lnTo>
                  <a:pt x="74" y="724"/>
                </a:lnTo>
                <a:lnTo>
                  <a:pt x="78" y="728"/>
                </a:lnTo>
                <a:lnTo>
                  <a:pt x="91" y="733"/>
                </a:lnTo>
                <a:lnTo>
                  <a:pt x="95" y="737"/>
                </a:lnTo>
                <a:lnTo>
                  <a:pt x="89" y="742"/>
                </a:lnTo>
                <a:lnTo>
                  <a:pt x="87" y="746"/>
                </a:lnTo>
                <a:lnTo>
                  <a:pt x="83" y="751"/>
                </a:lnTo>
                <a:lnTo>
                  <a:pt x="74" y="755"/>
                </a:lnTo>
                <a:lnTo>
                  <a:pt x="68" y="760"/>
                </a:lnTo>
                <a:lnTo>
                  <a:pt x="66" y="764"/>
                </a:lnTo>
                <a:lnTo>
                  <a:pt x="68" y="769"/>
                </a:lnTo>
                <a:lnTo>
                  <a:pt x="68" y="773"/>
                </a:lnTo>
                <a:lnTo>
                  <a:pt x="66" y="778"/>
                </a:lnTo>
                <a:lnTo>
                  <a:pt x="61" y="782"/>
                </a:lnTo>
                <a:lnTo>
                  <a:pt x="63" y="787"/>
                </a:lnTo>
                <a:lnTo>
                  <a:pt x="61" y="791"/>
                </a:lnTo>
                <a:lnTo>
                  <a:pt x="61" y="796"/>
                </a:lnTo>
                <a:lnTo>
                  <a:pt x="61" y="800"/>
                </a:lnTo>
                <a:lnTo>
                  <a:pt x="63" y="805"/>
                </a:lnTo>
                <a:lnTo>
                  <a:pt x="63" y="809"/>
                </a:lnTo>
                <a:lnTo>
                  <a:pt x="63" y="814"/>
                </a:lnTo>
                <a:lnTo>
                  <a:pt x="74" y="818"/>
                </a:lnTo>
                <a:lnTo>
                  <a:pt x="85" y="823"/>
                </a:lnTo>
                <a:lnTo>
                  <a:pt x="93" y="827"/>
                </a:lnTo>
                <a:lnTo>
                  <a:pt x="100" y="832"/>
                </a:lnTo>
                <a:lnTo>
                  <a:pt x="117" y="836"/>
                </a:lnTo>
                <a:lnTo>
                  <a:pt x="123" y="841"/>
                </a:lnTo>
                <a:lnTo>
                  <a:pt x="138" y="845"/>
                </a:lnTo>
                <a:lnTo>
                  <a:pt x="163" y="850"/>
                </a:lnTo>
                <a:lnTo>
                  <a:pt x="176" y="854"/>
                </a:lnTo>
                <a:lnTo>
                  <a:pt x="174" y="859"/>
                </a:lnTo>
                <a:lnTo>
                  <a:pt x="168" y="863"/>
                </a:lnTo>
                <a:lnTo>
                  <a:pt x="165" y="868"/>
                </a:lnTo>
                <a:lnTo>
                  <a:pt x="153" y="872"/>
                </a:lnTo>
                <a:lnTo>
                  <a:pt x="140" y="877"/>
                </a:lnTo>
                <a:lnTo>
                  <a:pt x="129" y="881"/>
                </a:lnTo>
                <a:lnTo>
                  <a:pt x="127" y="886"/>
                </a:lnTo>
                <a:lnTo>
                  <a:pt x="121" y="890"/>
                </a:lnTo>
                <a:lnTo>
                  <a:pt x="102" y="895"/>
                </a:lnTo>
                <a:lnTo>
                  <a:pt x="87" y="899"/>
                </a:lnTo>
                <a:lnTo>
                  <a:pt x="78" y="904"/>
                </a:lnTo>
                <a:lnTo>
                  <a:pt x="78" y="908"/>
                </a:lnTo>
                <a:lnTo>
                  <a:pt x="85" y="913"/>
                </a:lnTo>
                <a:lnTo>
                  <a:pt x="95" y="917"/>
                </a:lnTo>
                <a:lnTo>
                  <a:pt x="97" y="922"/>
                </a:lnTo>
                <a:lnTo>
                  <a:pt x="110" y="926"/>
                </a:lnTo>
                <a:lnTo>
                  <a:pt x="108" y="931"/>
                </a:lnTo>
                <a:lnTo>
                  <a:pt x="110" y="935"/>
                </a:lnTo>
                <a:lnTo>
                  <a:pt x="95" y="940"/>
                </a:lnTo>
                <a:lnTo>
                  <a:pt x="91" y="944"/>
                </a:lnTo>
                <a:lnTo>
                  <a:pt x="89" y="949"/>
                </a:lnTo>
                <a:lnTo>
                  <a:pt x="89" y="953"/>
                </a:lnTo>
                <a:lnTo>
                  <a:pt x="76" y="958"/>
                </a:lnTo>
                <a:lnTo>
                  <a:pt x="76" y="962"/>
                </a:lnTo>
                <a:lnTo>
                  <a:pt x="83" y="967"/>
                </a:lnTo>
                <a:lnTo>
                  <a:pt x="91" y="971"/>
                </a:lnTo>
                <a:lnTo>
                  <a:pt x="100" y="976"/>
                </a:lnTo>
                <a:lnTo>
                  <a:pt x="114" y="980"/>
                </a:lnTo>
                <a:lnTo>
                  <a:pt x="129" y="985"/>
                </a:lnTo>
                <a:lnTo>
                  <a:pt x="161" y="989"/>
                </a:lnTo>
                <a:lnTo>
                  <a:pt x="185" y="994"/>
                </a:lnTo>
                <a:lnTo>
                  <a:pt x="187" y="998"/>
                </a:lnTo>
                <a:lnTo>
                  <a:pt x="197" y="1003"/>
                </a:lnTo>
                <a:lnTo>
                  <a:pt x="208" y="1007"/>
                </a:lnTo>
                <a:lnTo>
                  <a:pt x="229" y="1012"/>
                </a:lnTo>
                <a:lnTo>
                  <a:pt x="235" y="1016"/>
                </a:lnTo>
                <a:lnTo>
                  <a:pt x="242" y="1021"/>
                </a:lnTo>
                <a:lnTo>
                  <a:pt x="248" y="1025"/>
                </a:lnTo>
                <a:lnTo>
                  <a:pt x="263" y="1030"/>
                </a:lnTo>
                <a:lnTo>
                  <a:pt x="280" y="1034"/>
                </a:lnTo>
                <a:lnTo>
                  <a:pt x="284" y="1039"/>
                </a:lnTo>
                <a:lnTo>
                  <a:pt x="284" y="1043"/>
                </a:lnTo>
                <a:lnTo>
                  <a:pt x="282" y="1048"/>
                </a:lnTo>
                <a:lnTo>
                  <a:pt x="280" y="1052"/>
                </a:lnTo>
                <a:lnTo>
                  <a:pt x="282" y="1057"/>
                </a:lnTo>
                <a:lnTo>
                  <a:pt x="282" y="1061"/>
                </a:lnTo>
                <a:lnTo>
                  <a:pt x="278" y="1066"/>
                </a:lnTo>
                <a:lnTo>
                  <a:pt x="276" y="1070"/>
                </a:lnTo>
                <a:lnTo>
                  <a:pt x="267" y="1075"/>
                </a:lnTo>
                <a:lnTo>
                  <a:pt x="261" y="1079"/>
                </a:lnTo>
                <a:lnTo>
                  <a:pt x="252" y="1084"/>
                </a:lnTo>
                <a:lnTo>
                  <a:pt x="255" y="1088"/>
                </a:lnTo>
                <a:lnTo>
                  <a:pt x="257" y="1093"/>
                </a:lnTo>
                <a:lnTo>
                  <a:pt x="257" y="1097"/>
                </a:lnTo>
                <a:lnTo>
                  <a:pt x="261" y="1102"/>
                </a:lnTo>
                <a:lnTo>
                  <a:pt x="265" y="1106"/>
                </a:lnTo>
                <a:lnTo>
                  <a:pt x="269" y="1111"/>
                </a:lnTo>
                <a:lnTo>
                  <a:pt x="274" y="1115"/>
                </a:lnTo>
                <a:lnTo>
                  <a:pt x="274" y="1120"/>
                </a:lnTo>
                <a:lnTo>
                  <a:pt x="274" y="1124"/>
                </a:lnTo>
                <a:lnTo>
                  <a:pt x="276" y="1129"/>
                </a:lnTo>
                <a:lnTo>
                  <a:pt x="276" y="1133"/>
                </a:lnTo>
                <a:lnTo>
                  <a:pt x="274" y="1138"/>
                </a:lnTo>
                <a:lnTo>
                  <a:pt x="265" y="1142"/>
                </a:lnTo>
                <a:lnTo>
                  <a:pt x="261" y="1147"/>
                </a:lnTo>
                <a:lnTo>
                  <a:pt x="259" y="1151"/>
                </a:lnTo>
                <a:lnTo>
                  <a:pt x="263" y="1156"/>
                </a:lnTo>
                <a:lnTo>
                  <a:pt x="263" y="1160"/>
                </a:lnTo>
                <a:lnTo>
                  <a:pt x="259" y="1165"/>
                </a:lnTo>
                <a:lnTo>
                  <a:pt x="265" y="1169"/>
                </a:lnTo>
                <a:lnTo>
                  <a:pt x="265" y="1174"/>
                </a:lnTo>
                <a:lnTo>
                  <a:pt x="272" y="1178"/>
                </a:lnTo>
                <a:lnTo>
                  <a:pt x="272" y="1183"/>
                </a:lnTo>
                <a:lnTo>
                  <a:pt x="278" y="1187"/>
                </a:lnTo>
                <a:lnTo>
                  <a:pt x="289" y="1192"/>
                </a:lnTo>
                <a:lnTo>
                  <a:pt x="297" y="1196"/>
                </a:lnTo>
                <a:lnTo>
                  <a:pt x="293" y="1201"/>
                </a:lnTo>
                <a:lnTo>
                  <a:pt x="295" y="1205"/>
                </a:lnTo>
                <a:lnTo>
                  <a:pt x="278" y="1210"/>
                </a:lnTo>
                <a:lnTo>
                  <a:pt x="259" y="1214"/>
                </a:lnTo>
                <a:lnTo>
                  <a:pt x="229" y="1219"/>
                </a:lnTo>
                <a:lnTo>
                  <a:pt x="187" y="1223"/>
                </a:lnTo>
                <a:lnTo>
                  <a:pt x="180" y="1228"/>
                </a:lnTo>
                <a:lnTo>
                  <a:pt x="185" y="1232"/>
                </a:lnTo>
                <a:lnTo>
                  <a:pt x="159" y="1237"/>
                </a:lnTo>
                <a:lnTo>
                  <a:pt x="157" y="1241"/>
                </a:lnTo>
                <a:lnTo>
                  <a:pt x="157" y="1246"/>
                </a:lnTo>
                <a:lnTo>
                  <a:pt x="157" y="1250"/>
                </a:lnTo>
                <a:lnTo>
                  <a:pt x="159" y="1255"/>
                </a:lnTo>
                <a:lnTo>
                  <a:pt x="172" y="1259"/>
                </a:lnTo>
                <a:lnTo>
                  <a:pt x="172" y="1264"/>
                </a:lnTo>
                <a:lnTo>
                  <a:pt x="163" y="1268"/>
                </a:lnTo>
                <a:lnTo>
                  <a:pt x="165" y="1273"/>
                </a:lnTo>
                <a:lnTo>
                  <a:pt x="170" y="1277"/>
                </a:lnTo>
                <a:lnTo>
                  <a:pt x="165" y="1282"/>
                </a:lnTo>
                <a:lnTo>
                  <a:pt x="161" y="1286"/>
                </a:lnTo>
                <a:lnTo>
                  <a:pt x="151" y="1291"/>
                </a:lnTo>
                <a:lnTo>
                  <a:pt x="142" y="1295"/>
                </a:lnTo>
                <a:lnTo>
                  <a:pt x="136" y="1300"/>
                </a:lnTo>
                <a:lnTo>
                  <a:pt x="131" y="1304"/>
                </a:lnTo>
                <a:lnTo>
                  <a:pt x="129" y="1309"/>
                </a:lnTo>
                <a:lnTo>
                  <a:pt x="136" y="1313"/>
                </a:lnTo>
                <a:lnTo>
                  <a:pt x="142" y="1318"/>
                </a:lnTo>
                <a:lnTo>
                  <a:pt x="148" y="1322"/>
                </a:lnTo>
                <a:lnTo>
                  <a:pt x="155" y="1327"/>
                </a:lnTo>
                <a:lnTo>
                  <a:pt x="146" y="1331"/>
                </a:lnTo>
                <a:lnTo>
                  <a:pt x="142" y="1336"/>
                </a:lnTo>
                <a:lnTo>
                  <a:pt x="138" y="1340"/>
                </a:lnTo>
                <a:lnTo>
                  <a:pt x="114" y="1345"/>
                </a:lnTo>
                <a:lnTo>
                  <a:pt x="104" y="1349"/>
                </a:lnTo>
                <a:lnTo>
                  <a:pt x="97" y="1354"/>
                </a:lnTo>
                <a:lnTo>
                  <a:pt x="95" y="1358"/>
                </a:lnTo>
                <a:lnTo>
                  <a:pt x="91" y="1363"/>
                </a:lnTo>
                <a:lnTo>
                  <a:pt x="85" y="1367"/>
                </a:lnTo>
                <a:lnTo>
                  <a:pt x="85" y="1372"/>
                </a:lnTo>
                <a:lnTo>
                  <a:pt x="89" y="1376"/>
                </a:lnTo>
                <a:lnTo>
                  <a:pt x="87" y="1381"/>
                </a:lnTo>
                <a:lnTo>
                  <a:pt x="87" y="1385"/>
                </a:lnTo>
                <a:lnTo>
                  <a:pt x="87" y="1390"/>
                </a:lnTo>
                <a:lnTo>
                  <a:pt x="85" y="1394"/>
                </a:lnTo>
                <a:lnTo>
                  <a:pt x="78" y="1399"/>
                </a:lnTo>
                <a:lnTo>
                  <a:pt x="80" y="1403"/>
                </a:lnTo>
                <a:lnTo>
                  <a:pt x="83" y="1408"/>
                </a:lnTo>
                <a:lnTo>
                  <a:pt x="83" y="1412"/>
                </a:lnTo>
                <a:lnTo>
                  <a:pt x="85" y="1417"/>
                </a:lnTo>
                <a:lnTo>
                  <a:pt x="93" y="1421"/>
                </a:lnTo>
                <a:lnTo>
                  <a:pt x="102" y="1426"/>
                </a:lnTo>
                <a:lnTo>
                  <a:pt x="95" y="1430"/>
                </a:lnTo>
                <a:lnTo>
                  <a:pt x="93" y="1435"/>
                </a:lnTo>
                <a:lnTo>
                  <a:pt x="91" y="1439"/>
                </a:lnTo>
                <a:lnTo>
                  <a:pt x="91" y="1444"/>
                </a:lnTo>
                <a:lnTo>
                  <a:pt x="89" y="1448"/>
                </a:lnTo>
                <a:lnTo>
                  <a:pt x="83" y="1453"/>
                </a:lnTo>
                <a:lnTo>
                  <a:pt x="80" y="1457"/>
                </a:lnTo>
                <a:lnTo>
                  <a:pt x="83" y="1462"/>
                </a:lnTo>
                <a:lnTo>
                  <a:pt x="85" y="1466"/>
                </a:lnTo>
                <a:lnTo>
                  <a:pt x="91" y="1471"/>
                </a:lnTo>
                <a:lnTo>
                  <a:pt x="93" y="1475"/>
                </a:lnTo>
                <a:lnTo>
                  <a:pt x="91" y="1480"/>
                </a:lnTo>
                <a:lnTo>
                  <a:pt x="102" y="1484"/>
                </a:lnTo>
                <a:lnTo>
                  <a:pt x="104" y="1489"/>
                </a:lnTo>
                <a:lnTo>
                  <a:pt x="100" y="1493"/>
                </a:lnTo>
                <a:lnTo>
                  <a:pt x="95" y="1498"/>
                </a:lnTo>
                <a:lnTo>
                  <a:pt x="95" y="1502"/>
                </a:lnTo>
                <a:lnTo>
                  <a:pt x="85" y="1507"/>
                </a:lnTo>
                <a:lnTo>
                  <a:pt x="85" y="1511"/>
                </a:lnTo>
                <a:lnTo>
                  <a:pt x="91" y="1516"/>
                </a:lnTo>
                <a:lnTo>
                  <a:pt x="100" y="1520"/>
                </a:lnTo>
                <a:lnTo>
                  <a:pt x="102" y="1525"/>
                </a:lnTo>
                <a:lnTo>
                  <a:pt x="93" y="1529"/>
                </a:lnTo>
                <a:lnTo>
                  <a:pt x="80" y="1534"/>
                </a:lnTo>
                <a:lnTo>
                  <a:pt x="76" y="1538"/>
                </a:lnTo>
                <a:lnTo>
                  <a:pt x="61" y="1543"/>
                </a:lnTo>
                <a:lnTo>
                  <a:pt x="53" y="1547"/>
                </a:lnTo>
                <a:lnTo>
                  <a:pt x="42" y="1552"/>
                </a:lnTo>
                <a:lnTo>
                  <a:pt x="40" y="1556"/>
                </a:lnTo>
                <a:lnTo>
                  <a:pt x="42" y="1560"/>
                </a:lnTo>
                <a:lnTo>
                  <a:pt x="46" y="1565"/>
                </a:lnTo>
                <a:lnTo>
                  <a:pt x="36" y="1569"/>
                </a:lnTo>
                <a:lnTo>
                  <a:pt x="29" y="1574"/>
                </a:lnTo>
                <a:lnTo>
                  <a:pt x="17" y="1578"/>
                </a:lnTo>
                <a:lnTo>
                  <a:pt x="12" y="1583"/>
                </a:lnTo>
                <a:lnTo>
                  <a:pt x="15" y="1587"/>
                </a:lnTo>
                <a:lnTo>
                  <a:pt x="19" y="1592"/>
                </a:lnTo>
                <a:lnTo>
                  <a:pt x="15" y="1596"/>
                </a:lnTo>
                <a:lnTo>
                  <a:pt x="15" y="1601"/>
                </a:lnTo>
                <a:lnTo>
                  <a:pt x="8" y="1605"/>
                </a:lnTo>
                <a:lnTo>
                  <a:pt x="2" y="1610"/>
                </a:lnTo>
                <a:lnTo>
                  <a:pt x="2" y="1614"/>
                </a:lnTo>
                <a:lnTo>
                  <a:pt x="4" y="1619"/>
                </a:lnTo>
                <a:lnTo>
                  <a:pt x="8" y="1623"/>
                </a:lnTo>
                <a:lnTo>
                  <a:pt x="0" y="1628"/>
                </a:lnTo>
                <a:lnTo>
                  <a:pt x="2" y="1632"/>
                </a:lnTo>
                <a:lnTo>
                  <a:pt x="2" y="1637"/>
                </a:lnTo>
                <a:lnTo>
                  <a:pt x="2" y="1641"/>
                </a:lnTo>
                <a:lnTo>
                  <a:pt x="2" y="1646"/>
                </a:lnTo>
                <a:lnTo>
                  <a:pt x="4" y="1650"/>
                </a:lnTo>
                <a:lnTo>
                  <a:pt x="10" y="1655"/>
                </a:lnTo>
                <a:lnTo>
                  <a:pt x="10" y="1659"/>
                </a:lnTo>
                <a:lnTo>
                  <a:pt x="17" y="1664"/>
                </a:lnTo>
                <a:lnTo>
                  <a:pt x="25" y="1668"/>
                </a:lnTo>
                <a:lnTo>
                  <a:pt x="34" y="1673"/>
                </a:lnTo>
                <a:lnTo>
                  <a:pt x="38" y="1677"/>
                </a:lnTo>
                <a:lnTo>
                  <a:pt x="29" y="1682"/>
                </a:lnTo>
                <a:lnTo>
                  <a:pt x="27" y="1686"/>
                </a:lnTo>
                <a:lnTo>
                  <a:pt x="34" y="1691"/>
                </a:lnTo>
                <a:lnTo>
                  <a:pt x="36" y="1695"/>
                </a:lnTo>
                <a:lnTo>
                  <a:pt x="40" y="1700"/>
                </a:lnTo>
                <a:lnTo>
                  <a:pt x="42" y="1704"/>
                </a:lnTo>
                <a:lnTo>
                  <a:pt x="44" y="1709"/>
                </a:lnTo>
                <a:lnTo>
                  <a:pt x="44" y="1713"/>
                </a:lnTo>
                <a:lnTo>
                  <a:pt x="46" y="1718"/>
                </a:lnTo>
                <a:lnTo>
                  <a:pt x="46" y="1722"/>
                </a:lnTo>
                <a:lnTo>
                  <a:pt x="46" y="1727"/>
                </a:lnTo>
                <a:lnTo>
                  <a:pt x="51" y="1731"/>
                </a:lnTo>
                <a:lnTo>
                  <a:pt x="59" y="1736"/>
                </a:lnTo>
                <a:lnTo>
                  <a:pt x="70" y="1740"/>
                </a:lnTo>
                <a:lnTo>
                  <a:pt x="76" y="1745"/>
                </a:lnTo>
                <a:lnTo>
                  <a:pt x="91" y="1749"/>
                </a:lnTo>
                <a:lnTo>
                  <a:pt x="97" y="1754"/>
                </a:lnTo>
                <a:lnTo>
                  <a:pt x="97" y="1758"/>
                </a:lnTo>
                <a:lnTo>
                  <a:pt x="97" y="1763"/>
                </a:lnTo>
                <a:lnTo>
                  <a:pt x="100" y="1767"/>
                </a:lnTo>
                <a:lnTo>
                  <a:pt x="104" y="1772"/>
                </a:lnTo>
                <a:lnTo>
                  <a:pt x="102" y="1776"/>
                </a:lnTo>
                <a:lnTo>
                  <a:pt x="102" y="1781"/>
                </a:lnTo>
                <a:lnTo>
                  <a:pt x="102" y="1785"/>
                </a:lnTo>
                <a:lnTo>
                  <a:pt x="104" y="1790"/>
                </a:lnTo>
                <a:lnTo>
                  <a:pt x="93" y="1794"/>
                </a:lnTo>
                <a:lnTo>
                  <a:pt x="91" y="1799"/>
                </a:lnTo>
                <a:lnTo>
                  <a:pt x="91" y="1803"/>
                </a:lnTo>
                <a:lnTo>
                  <a:pt x="89" y="1808"/>
                </a:lnTo>
                <a:lnTo>
                  <a:pt x="87" y="1812"/>
                </a:lnTo>
                <a:lnTo>
                  <a:pt x="89" y="1817"/>
                </a:lnTo>
                <a:lnTo>
                  <a:pt x="100" y="1821"/>
                </a:lnTo>
                <a:lnTo>
                  <a:pt x="104" y="1826"/>
                </a:lnTo>
                <a:lnTo>
                  <a:pt x="102" y="1830"/>
                </a:lnTo>
                <a:lnTo>
                  <a:pt x="104" y="1835"/>
                </a:lnTo>
                <a:lnTo>
                  <a:pt x="95" y="1839"/>
                </a:lnTo>
                <a:lnTo>
                  <a:pt x="89" y="1844"/>
                </a:lnTo>
                <a:lnTo>
                  <a:pt x="85" y="1848"/>
                </a:lnTo>
                <a:lnTo>
                  <a:pt x="83" y="1853"/>
                </a:lnTo>
                <a:lnTo>
                  <a:pt x="78" y="1857"/>
                </a:lnTo>
                <a:lnTo>
                  <a:pt x="91" y="1862"/>
                </a:lnTo>
                <a:lnTo>
                  <a:pt x="102" y="1866"/>
                </a:lnTo>
                <a:lnTo>
                  <a:pt x="104" y="1871"/>
                </a:lnTo>
                <a:lnTo>
                  <a:pt x="119" y="1875"/>
                </a:lnTo>
                <a:lnTo>
                  <a:pt x="121" y="1880"/>
                </a:lnTo>
                <a:lnTo>
                  <a:pt x="121" y="1884"/>
                </a:lnTo>
                <a:lnTo>
                  <a:pt x="114" y="1889"/>
                </a:lnTo>
                <a:lnTo>
                  <a:pt x="110" y="1893"/>
                </a:lnTo>
                <a:lnTo>
                  <a:pt x="91" y="1898"/>
                </a:lnTo>
                <a:lnTo>
                  <a:pt x="83" y="1902"/>
                </a:lnTo>
                <a:lnTo>
                  <a:pt x="80" y="1907"/>
                </a:lnTo>
                <a:lnTo>
                  <a:pt x="80" y="1911"/>
                </a:lnTo>
                <a:lnTo>
                  <a:pt x="74" y="1916"/>
                </a:lnTo>
                <a:lnTo>
                  <a:pt x="80" y="1920"/>
                </a:lnTo>
                <a:lnTo>
                  <a:pt x="85" y="1925"/>
                </a:lnTo>
                <a:lnTo>
                  <a:pt x="91" y="1929"/>
                </a:lnTo>
                <a:lnTo>
                  <a:pt x="100" y="1934"/>
                </a:lnTo>
                <a:lnTo>
                  <a:pt x="93" y="1938"/>
                </a:lnTo>
                <a:lnTo>
                  <a:pt x="91" y="1943"/>
                </a:lnTo>
                <a:lnTo>
                  <a:pt x="85" y="1947"/>
                </a:lnTo>
                <a:lnTo>
                  <a:pt x="89" y="1952"/>
                </a:lnTo>
                <a:lnTo>
                  <a:pt x="89" y="1956"/>
                </a:lnTo>
                <a:lnTo>
                  <a:pt x="89" y="1961"/>
                </a:lnTo>
                <a:lnTo>
                  <a:pt x="87" y="1965"/>
                </a:lnTo>
                <a:lnTo>
                  <a:pt x="85" y="1970"/>
                </a:lnTo>
                <a:lnTo>
                  <a:pt x="85" y="1974"/>
                </a:lnTo>
                <a:lnTo>
                  <a:pt x="93" y="1979"/>
                </a:lnTo>
                <a:lnTo>
                  <a:pt x="97" y="1983"/>
                </a:lnTo>
                <a:lnTo>
                  <a:pt x="91" y="1988"/>
                </a:lnTo>
                <a:lnTo>
                  <a:pt x="80" y="1992"/>
                </a:lnTo>
                <a:lnTo>
                  <a:pt x="68" y="1997"/>
                </a:lnTo>
                <a:lnTo>
                  <a:pt x="63" y="2001"/>
                </a:lnTo>
                <a:lnTo>
                  <a:pt x="63" y="2006"/>
                </a:lnTo>
                <a:lnTo>
                  <a:pt x="68" y="2010"/>
                </a:lnTo>
                <a:lnTo>
                  <a:pt x="78" y="2015"/>
                </a:lnTo>
                <a:lnTo>
                  <a:pt x="70" y="2019"/>
                </a:lnTo>
                <a:lnTo>
                  <a:pt x="70" y="2024"/>
                </a:lnTo>
                <a:lnTo>
                  <a:pt x="70" y="2028"/>
                </a:lnTo>
                <a:lnTo>
                  <a:pt x="72" y="2033"/>
                </a:lnTo>
                <a:lnTo>
                  <a:pt x="72" y="2037"/>
                </a:lnTo>
                <a:lnTo>
                  <a:pt x="68" y="2042"/>
                </a:lnTo>
                <a:lnTo>
                  <a:pt x="68" y="2046"/>
                </a:lnTo>
                <a:lnTo>
                  <a:pt x="68" y="2051"/>
                </a:lnTo>
                <a:lnTo>
                  <a:pt x="87" y="2055"/>
                </a:lnTo>
                <a:lnTo>
                  <a:pt x="97" y="2060"/>
                </a:lnTo>
                <a:lnTo>
                  <a:pt x="129" y="2064"/>
                </a:lnTo>
                <a:lnTo>
                  <a:pt x="155" y="2069"/>
                </a:lnTo>
                <a:lnTo>
                  <a:pt x="172" y="2073"/>
                </a:lnTo>
                <a:lnTo>
                  <a:pt x="170" y="2078"/>
                </a:lnTo>
                <a:lnTo>
                  <a:pt x="174" y="2082"/>
                </a:lnTo>
                <a:lnTo>
                  <a:pt x="176" y="2087"/>
                </a:lnTo>
                <a:lnTo>
                  <a:pt x="172" y="2091"/>
                </a:lnTo>
                <a:lnTo>
                  <a:pt x="168" y="2096"/>
                </a:lnTo>
                <a:lnTo>
                  <a:pt x="168" y="2100"/>
                </a:lnTo>
                <a:lnTo>
                  <a:pt x="163" y="2105"/>
                </a:lnTo>
                <a:lnTo>
                  <a:pt x="157" y="2109"/>
                </a:lnTo>
                <a:lnTo>
                  <a:pt x="148" y="2114"/>
                </a:lnTo>
                <a:lnTo>
                  <a:pt x="146" y="2118"/>
                </a:lnTo>
                <a:lnTo>
                  <a:pt x="148" y="2123"/>
                </a:lnTo>
                <a:lnTo>
                  <a:pt x="182" y="2127"/>
                </a:lnTo>
                <a:lnTo>
                  <a:pt x="191" y="2132"/>
                </a:lnTo>
                <a:lnTo>
                  <a:pt x="204" y="2136"/>
                </a:lnTo>
                <a:lnTo>
                  <a:pt x="202" y="2141"/>
                </a:lnTo>
                <a:lnTo>
                  <a:pt x="202" y="2145"/>
                </a:lnTo>
                <a:lnTo>
                  <a:pt x="195" y="2150"/>
                </a:lnTo>
                <a:lnTo>
                  <a:pt x="193" y="2154"/>
                </a:lnTo>
                <a:lnTo>
                  <a:pt x="193" y="2159"/>
                </a:lnTo>
                <a:lnTo>
                  <a:pt x="197" y="2163"/>
                </a:lnTo>
                <a:lnTo>
                  <a:pt x="199" y="2168"/>
                </a:lnTo>
                <a:lnTo>
                  <a:pt x="208" y="2172"/>
                </a:lnTo>
                <a:lnTo>
                  <a:pt x="204" y="2177"/>
                </a:lnTo>
                <a:lnTo>
                  <a:pt x="197" y="2181"/>
                </a:lnTo>
                <a:lnTo>
                  <a:pt x="191" y="2186"/>
                </a:lnTo>
                <a:lnTo>
                  <a:pt x="180" y="2190"/>
                </a:lnTo>
                <a:lnTo>
                  <a:pt x="178" y="2195"/>
                </a:lnTo>
                <a:lnTo>
                  <a:pt x="172" y="2199"/>
                </a:lnTo>
                <a:lnTo>
                  <a:pt x="168" y="2204"/>
                </a:lnTo>
                <a:lnTo>
                  <a:pt x="172" y="2208"/>
                </a:lnTo>
                <a:lnTo>
                  <a:pt x="172" y="2213"/>
                </a:lnTo>
                <a:lnTo>
                  <a:pt x="163" y="2217"/>
                </a:lnTo>
                <a:lnTo>
                  <a:pt x="174" y="2222"/>
                </a:lnTo>
                <a:lnTo>
                  <a:pt x="180" y="2226"/>
                </a:lnTo>
                <a:lnTo>
                  <a:pt x="197" y="2231"/>
                </a:lnTo>
                <a:lnTo>
                  <a:pt x="210" y="2235"/>
                </a:lnTo>
                <a:lnTo>
                  <a:pt x="221" y="2240"/>
                </a:lnTo>
                <a:lnTo>
                  <a:pt x="227" y="2244"/>
                </a:lnTo>
                <a:lnTo>
                  <a:pt x="225" y="2249"/>
                </a:lnTo>
                <a:lnTo>
                  <a:pt x="225" y="2253"/>
                </a:lnTo>
                <a:lnTo>
                  <a:pt x="227" y="2258"/>
                </a:lnTo>
                <a:lnTo>
                  <a:pt x="233" y="2262"/>
                </a:lnTo>
                <a:lnTo>
                  <a:pt x="235" y="2267"/>
                </a:lnTo>
                <a:lnTo>
                  <a:pt x="240" y="2271"/>
                </a:lnTo>
                <a:lnTo>
                  <a:pt x="240" y="2276"/>
                </a:lnTo>
                <a:lnTo>
                  <a:pt x="238" y="2280"/>
                </a:lnTo>
                <a:lnTo>
                  <a:pt x="238" y="2285"/>
                </a:lnTo>
                <a:lnTo>
                  <a:pt x="223" y="2289"/>
                </a:lnTo>
                <a:lnTo>
                  <a:pt x="210" y="2294"/>
                </a:lnTo>
                <a:lnTo>
                  <a:pt x="199" y="2298"/>
                </a:lnTo>
                <a:lnTo>
                  <a:pt x="197" y="2303"/>
                </a:lnTo>
                <a:lnTo>
                  <a:pt x="199" y="2307"/>
                </a:lnTo>
                <a:lnTo>
                  <a:pt x="199" y="2312"/>
                </a:lnTo>
                <a:lnTo>
                  <a:pt x="195" y="2316"/>
                </a:lnTo>
                <a:lnTo>
                  <a:pt x="195" y="2321"/>
                </a:lnTo>
                <a:lnTo>
                  <a:pt x="182" y="2325"/>
                </a:lnTo>
                <a:lnTo>
                  <a:pt x="180" y="2330"/>
                </a:lnTo>
                <a:lnTo>
                  <a:pt x="180" y="2334"/>
                </a:lnTo>
                <a:lnTo>
                  <a:pt x="178" y="2339"/>
                </a:lnTo>
                <a:lnTo>
                  <a:pt x="168" y="2343"/>
                </a:lnTo>
                <a:lnTo>
                  <a:pt x="168" y="2348"/>
                </a:lnTo>
                <a:lnTo>
                  <a:pt x="165" y="2352"/>
                </a:lnTo>
                <a:lnTo>
                  <a:pt x="172" y="2357"/>
                </a:lnTo>
                <a:lnTo>
                  <a:pt x="172" y="2361"/>
                </a:lnTo>
                <a:lnTo>
                  <a:pt x="172" y="2366"/>
                </a:lnTo>
                <a:lnTo>
                  <a:pt x="174" y="2370"/>
                </a:lnTo>
                <a:lnTo>
                  <a:pt x="172" y="2375"/>
                </a:lnTo>
                <a:lnTo>
                  <a:pt x="159" y="2379"/>
                </a:lnTo>
                <a:lnTo>
                  <a:pt x="157" y="2384"/>
                </a:lnTo>
                <a:lnTo>
                  <a:pt x="157" y="2388"/>
                </a:lnTo>
                <a:lnTo>
                  <a:pt x="159" y="2393"/>
                </a:lnTo>
                <a:lnTo>
                  <a:pt x="165" y="2397"/>
                </a:lnTo>
                <a:lnTo>
                  <a:pt x="163" y="2402"/>
                </a:lnTo>
                <a:lnTo>
                  <a:pt x="163" y="2406"/>
                </a:lnTo>
                <a:lnTo>
                  <a:pt x="163" y="2411"/>
                </a:lnTo>
                <a:lnTo>
                  <a:pt x="161" y="2415"/>
                </a:lnTo>
                <a:lnTo>
                  <a:pt x="148" y="2420"/>
                </a:lnTo>
                <a:lnTo>
                  <a:pt x="142" y="2424"/>
                </a:lnTo>
                <a:lnTo>
                  <a:pt x="142" y="2429"/>
                </a:lnTo>
                <a:lnTo>
                  <a:pt x="148" y="2433"/>
                </a:lnTo>
                <a:lnTo>
                  <a:pt x="161" y="2438"/>
                </a:lnTo>
                <a:lnTo>
                  <a:pt x="165" y="2442"/>
                </a:lnTo>
                <a:lnTo>
                  <a:pt x="168" y="2447"/>
                </a:lnTo>
                <a:lnTo>
                  <a:pt x="176" y="2451"/>
                </a:lnTo>
                <a:lnTo>
                  <a:pt x="163" y="2456"/>
                </a:lnTo>
                <a:lnTo>
                  <a:pt x="146" y="2460"/>
                </a:lnTo>
                <a:lnTo>
                  <a:pt x="151" y="2465"/>
                </a:lnTo>
                <a:lnTo>
                  <a:pt x="185" y="2469"/>
                </a:lnTo>
                <a:lnTo>
                  <a:pt x="202" y="2474"/>
                </a:lnTo>
                <a:lnTo>
                  <a:pt x="195" y="2478"/>
                </a:lnTo>
                <a:lnTo>
                  <a:pt x="193" y="2483"/>
                </a:lnTo>
                <a:lnTo>
                  <a:pt x="185" y="2487"/>
                </a:lnTo>
                <a:lnTo>
                  <a:pt x="191" y="2492"/>
                </a:lnTo>
                <a:lnTo>
                  <a:pt x="210" y="2496"/>
                </a:lnTo>
                <a:lnTo>
                  <a:pt x="212" y="2501"/>
                </a:lnTo>
                <a:lnTo>
                  <a:pt x="219" y="2505"/>
                </a:lnTo>
                <a:lnTo>
                  <a:pt x="210" y="2510"/>
                </a:lnTo>
                <a:lnTo>
                  <a:pt x="199" y="2514"/>
                </a:lnTo>
                <a:lnTo>
                  <a:pt x="191" y="2519"/>
                </a:lnTo>
                <a:lnTo>
                  <a:pt x="195" y="2523"/>
                </a:lnTo>
                <a:lnTo>
                  <a:pt x="193" y="2528"/>
                </a:lnTo>
                <a:lnTo>
                  <a:pt x="193" y="2532"/>
                </a:lnTo>
                <a:lnTo>
                  <a:pt x="195" y="2537"/>
                </a:lnTo>
                <a:lnTo>
                  <a:pt x="189" y="2541"/>
                </a:lnTo>
                <a:lnTo>
                  <a:pt x="187" y="2546"/>
                </a:lnTo>
                <a:lnTo>
                  <a:pt x="193" y="2550"/>
                </a:lnTo>
                <a:lnTo>
                  <a:pt x="202" y="2555"/>
                </a:lnTo>
                <a:lnTo>
                  <a:pt x="206" y="2559"/>
                </a:lnTo>
                <a:lnTo>
                  <a:pt x="212" y="2564"/>
                </a:lnTo>
                <a:lnTo>
                  <a:pt x="223" y="2568"/>
                </a:lnTo>
                <a:lnTo>
                  <a:pt x="225" y="2573"/>
                </a:lnTo>
                <a:lnTo>
                  <a:pt x="225" y="2577"/>
                </a:lnTo>
                <a:lnTo>
                  <a:pt x="214" y="2582"/>
                </a:lnTo>
              </a:path>
            </a:pathLst>
          </a:custGeom>
          <a:noFill/>
          <a:ln w="3816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8" name="Group 296"/>
          <p:cNvGrpSpPr/>
          <p:nvPr/>
        </p:nvGrpSpPr>
        <p:grpSpPr>
          <a:xfrm>
            <a:off x="3731040" y="4722120"/>
            <a:ext cx="3278880" cy="851040"/>
            <a:chOff x="3731040" y="4722120"/>
            <a:chExt cx="3278880" cy="851040"/>
          </a:xfrm>
        </p:grpSpPr>
        <p:sp>
          <p:nvSpPr>
            <p:cNvPr id="689" name="Text Box 297"/>
            <p:cNvSpPr/>
            <p:nvPr/>
          </p:nvSpPr>
          <p:spPr>
            <a:xfrm>
              <a:off x="5602320" y="4992480"/>
              <a:ext cx="1407600" cy="5806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lk Densi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a:t>
              </a:r>
              <a:endParaRPr b="0" lang="en-US" sz="1600" spc="-1" strike="noStrike">
                <a:solidFill>
                  <a:srgbClr val="000000"/>
                </a:solidFill>
                <a:latin typeface="Times New Roman"/>
              </a:endParaRPr>
            </a:p>
          </p:txBody>
        </p:sp>
        <p:sp>
          <p:nvSpPr>
            <p:cNvPr id="690" name="Line 298"/>
            <p:cNvSpPr/>
            <p:nvPr/>
          </p:nvSpPr>
          <p:spPr>
            <a:xfrm flipH="1" flipV="1">
              <a:off x="3731040" y="4722120"/>
              <a:ext cx="1878480" cy="464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1" name="Group 299"/>
          <p:cNvGrpSpPr/>
          <p:nvPr/>
        </p:nvGrpSpPr>
        <p:grpSpPr>
          <a:xfrm>
            <a:off x="3421080" y="1084320"/>
            <a:ext cx="5268960" cy="1892160"/>
            <a:chOff x="3421080" y="1084320"/>
            <a:chExt cx="5268960" cy="1892160"/>
          </a:xfrm>
        </p:grpSpPr>
        <p:sp>
          <p:nvSpPr>
            <p:cNvPr id="692" name="Freeform 300"/>
            <p:cNvSpPr/>
            <p:nvPr/>
          </p:nvSpPr>
          <p:spPr>
            <a:xfrm>
              <a:off x="3693960" y="1147680"/>
              <a:ext cx="3598920" cy="1617840"/>
            </a:xfrm>
            <a:custGeom>
              <a:avLst/>
              <a:gdLst>
                <a:gd name="textAreaLeft" fmla="*/ 0 w 3598920"/>
                <a:gd name="textAreaRight" fmla="*/ 3599280 w 3598920"/>
                <a:gd name="textAreaTop" fmla="*/ 0 h 1617840"/>
                <a:gd name="textAreaBottom" fmla="*/ 1618200 h 1617840"/>
              </a:gdLst>
              <a:ahLst/>
              <a:rect l="textAreaLeft" t="textAreaTop" r="textAreaRight" b="textAreaBottom"/>
              <a:pathLst>
                <a:path w="2267" h="1019">
                  <a:moveTo>
                    <a:pt x="418" y="0"/>
                  </a:moveTo>
                  <a:lnTo>
                    <a:pt x="2267" y="214"/>
                  </a:lnTo>
                  <a:lnTo>
                    <a:pt x="1667" y="1019"/>
                  </a:lnTo>
                  <a:lnTo>
                    <a:pt x="0" y="388"/>
                  </a:lnTo>
                  <a:lnTo>
                    <a:pt x="337" y="379"/>
                  </a:lnTo>
                  <a:lnTo>
                    <a:pt x="517" y="305"/>
                  </a:lnTo>
                  <a:lnTo>
                    <a:pt x="542" y="133"/>
                  </a:lnTo>
                  <a:lnTo>
                    <a:pt x="41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Oval 301"/>
            <p:cNvSpPr/>
            <p:nvPr/>
          </p:nvSpPr>
          <p:spPr>
            <a:xfrm>
              <a:off x="5938920" y="1517760"/>
              <a:ext cx="2751120" cy="14587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Line 302"/>
            <p:cNvSpPr/>
            <p:nvPr/>
          </p:nvSpPr>
          <p:spPr>
            <a:xfrm flipH="1" flipV="1">
              <a:off x="4254120" y="1136160"/>
              <a:ext cx="3483000" cy="405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Oval 303"/>
            <p:cNvSpPr/>
            <p:nvPr/>
          </p:nvSpPr>
          <p:spPr>
            <a:xfrm>
              <a:off x="3421080" y="1084320"/>
              <a:ext cx="1122480" cy="691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Line 304"/>
            <p:cNvSpPr/>
            <p:nvPr/>
          </p:nvSpPr>
          <p:spPr>
            <a:xfrm>
              <a:off x="3602160" y="1697040"/>
              <a:ext cx="2789280" cy="109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7" name="Group 305"/>
            <p:cNvGrpSpPr/>
            <p:nvPr/>
          </p:nvGrpSpPr>
          <p:grpSpPr>
            <a:xfrm>
              <a:off x="6256440" y="1938240"/>
              <a:ext cx="2114280" cy="619200"/>
              <a:chOff x="6256440" y="1938240"/>
              <a:chExt cx="2114280" cy="619200"/>
            </a:xfrm>
          </p:grpSpPr>
          <p:sp>
            <p:nvSpPr>
              <p:cNvPr id="698" name="Line 306"/>
              <p:cNvSpPr/>
              <p:nvPr/>
            </p:nvSpPr>
            <p:spPr>
              <a:xfrm>
                <a:off x="6337440" y="2247840"/>
                <a:ext cx="195408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Rectangle 307"/>
              <p:cNvSpPr/>
              <p:nvPr/>
            </p:nvSpPr>
            <p:spPr>
              <a:xfrm>
                <a:off x="6991200" y="2006640"/>
                <a:ext cx="596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HOC</a:t>
                </a:r>
                <a:endParaRPr b="0" lang="en-US" sz="1600" spc="-1" strike="noStrike">
                  <a:solidFill>
                    <a:srgbClr val="000000"/>
                  </a:solidFill>
                  <a:latin typeface="Times New Roman"/>
                </a:endParaRPr>
              </a:p>
            </p:txBody>
          </p:sp>
          <p:sp>
            <p:nvSpPr>
              <p:cNvPr id="700" name="Rectangle 308"/>
              <p:cNvSpPr/>
              <p:nvPr/>
            </p:nvSpPr>
            <p:spPr>
              <a:xfrm>
                <a:off x="6472080" y="2300400"/>
                <a:ext cx="39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5</a:t>
                </a:r>
                <a:endParaRPr b="0" lang="en-US" sz="1600" spc="-1" strike="noStrike">
                  <a:solidFill>
                    <a:srgbClr val="000000"/>
                  </a:solidFill>
                  <a:latin typeface="Times New Roman"/>
                </a:endParaRPr>
              </a:p>
            </p:txBody>
          </p:sp>
          <p:sp>
            <p:nvSpPr>
              <p:cNvPr id="701" name="Rectangle 309"/>
              <p:cNvSpPr/>
              <p:nvPr/>
            </p:nvSpPr>
            <p:spPr>
              <a:xfrm>
                <a:off x="7719840" y="2300400"/>
                <a:ext cx="39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95</a:t>
                </a:r>
                <a:endParaRPr b="0" lang="en-US" sz="1600" spc="-1" strike="noStrike">
                  <a:solidFill>
                    <a:srgbClr val="000000"/>
                  </a:solidFill>
                  <a:latin typeface="Times New Roman"/>
                </a:endParaRPr>
              </a:p>
            </p:txBody>
          </p:sp>
          <p:sp>
            <p:nvSpPr>
              <p:cNvPr id="702" name="Rectangle 310"/>
              <p:cNvSpPr/>
              <p:nvPr/>
            </p:nvSpPr>
            <p:spPr>
              <a:xfrm>
                <a:off x="6256440" y="1938240"/>
                <a:ext cx="2114280" cy="6192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set>
                                      <p:cBhvr>
                                        <p:cTn id="246" dur="1" fill="hold">
                                          <p:stCondLst>
                                            <p:cond delay="0"/>
                                          </p:stCondLst>
                                        </p:cTn>
                                        <p:tgtEl>
                                          <p:spTgt spid="686"/>
                                        </p:tgtEl>
                                        <p:attrNameLst>
                                          <p:attrName>style.visibility</p:attrName>
                                        </p:attrNameLst>
                                      </p:cBhvr>
                                      <p:to>
                                        <p:strVal val="visible"/>
                                      </p:to>
                                    </p:set>
                                    <p:anim calcmode="lin" valueType="num">
                                      <p:cBhvr additive="base">
                                        <p:cTn id="247" dur="500" fill="hold"/>
                                        <p:tgtEl>
                                          <p:spTgt spid="686"/>
                                        </p:tgtEl>
                                        <p:attrNameLst>
                                          <p:attrName>ppt_x</p:attrName>
                                        </p:attrNameLst>
                                      </p:cBhvr>
                                      <p:tavLst>
                                        <p:tav tm="0">
                                          <p:val>
                                            <p:strVal val="#ppt_x"/>
                                          </p:val>
                                        </p:tav>
                                        <p:tav tm="100000">
                                          <p:val>
                                            <p:strVal val="#ppt_x"/>
                                          </p:val>
                                        </p:tav>
                                      </p:tavLst>
                                    </p:anim>
                                    <p:anim calcmode="lin" valueType="num">
                                      <p:cBhvr additive="base">
                                        <p:cTn id="248" dur="500" fill="hold"/>
                                        <p:tgtEl>
                                          <p:spTgt spid="686"/>
                                        </p:tgtEl>
                                        <p:attrNameLst>
                                          <p:attrName>ppt_y</p:attrName>
                                        </p:attrNameLst>
                                      </p:cBhvr>
                                      <p:tavLst>
                                        <p:tav tm="0">
                                          <p:val>
                                            <p:strVal val="0-#ppt_h/2"/>
                                          </p:val>
                                        </p:tav>
                                        <p:tav tm="100000">
                                          <p:val>
                                            <p:strVal val="#ppt_y"/>
                                          </p:val>
                                        </p:tav>
                                      </p:tavLst>
                                    </p:anim>
                                  </p:childTnLst>
                                </p:cTn>
                              </p:par>
                            </p:childTnLst>
                          </p:cTn>
                        </p:par>
                        <p:par>
                          <p:cTn id="249" fill="hold">
                            <p:stCondLst>
                              <p:cond delay="500"/>
                            </p:stCondLst>
                            <p:childTnLst>
                              <p:par>
                                <p:cTn id="250" nodeType="afterEffect" fill="hold" presetClass="entr" presetID="17" presetSubtype="1">
                                  <p:stCondLst>
                                    <p:cond delay="0"/>
                                  </p:stCondLst>
                                  <p:childTnLst>
                                    <p:set>
                                      <p:cBhvr>
                                        <p:cTn id="251" dur="1" fill="hold">
                                          <p:stCondLst>
                                            <p:cond delay="0"/>
                                          </p:stCondLst>
                                        </p:cTn>
                                        <p:tgtEl>
                                          <p:spTgt spid="394"/>
                                        </p:tgtEl>
                                        <p:attrNameLst>
                                          <p:attrName>style.visibility</p:attrName>
                                        </p:attrNameLst>
                                      </p:cBhvr>
                                      <p:to>
                                        <p:strVal val="visible"/>
                                      </p:to>
                                    </p:set>
                                    <p:anim calcmode="lin" valueType="num">
                                      <p:cBhvr additive="repl">
                                        <p:cTn id="252" dur="500" fill="hold"/>
                                        <p:tgtEl>
                                          <p:spTgt spid="394"/>
                                        </p:tgtEl>
                                        <p:attrNameLst>
                                          <p:attrName>ppt_x</p:attrName>
                                        </p:attrNameLst>
                                      </p:cBhvr>
                                      <p:tavLst>
                                        <p:tav tm="0">
                                          <p:val>
                                            <p:strVal val="#ppt_x"/>
                                          </p:val>
                                        </p:tav>
                                        <p:tav tm="100000">
                                          <p:val>
                                            <p:strVal val="#ppt_x"/>
                                          </p:val>
                                        </p:tav>
                                      </p:tavLst>
                                    </p:anim>
                                    <p:anim calcmode="lin" valueType="num">
                                      <p:cBhvr additive="repl">
                                        <p:cTn id="253" dur="500" fill="hold"/>
                                        <p:tgtEl>
                                          <p:spTgt spid="394"/>
                                        </p:tgtEl>
                                        <p:attrNameLst>
                                          <p:attrName>ppt_y</p:attrName>
                                        </p:attrNameLst>
                                      </p:cBhvr>
                                      <p:tavLst>
                                        <p:tav tm="0">
                                          <p:val>
                                            <p:strVal val="#ppt_y-#ppt_h/2"/>
                                          </p:val>
                                        </p:tav>
                                        <p:tav tm="100000">
                                          <p:val>
                                            <p:strVal val="#ppt_y"/>
                                          </p:val>
                                        </p:tav>
                                      </p:tavLst>
                                    </p:anim>
                                    <p:anim calcmode="lin" valueType="num">
                                      <p:cBhvr additive="repl">
                                        <p:cTn id="254" dur="500" fill="hold"/>
                                        <p:tgtEl>
                                          <p:spTgt spid="394"/>
                                        </p:tgtEl>
                                        <p:attrNameLst>
                                          <p:attrName>ppt_w</p:attrName>
                                        </p:attrNameLst>
                                      </p:cBhvr>
                                      <p:tavLst>
                                        <p:tav tm="0">
                                          <p:val>
                                            <p:strVal val="#ppt_w"/>
                                          </p:val>
                                        </p:tav>
                                        <p:tav tm="100000">
                                          <p:val>
                                            <p:strVal val="#ppt_w"/>
                                          </p:val>
                                        </p:tav>
                                      </p:tavLst>
                                    </p:anim>
                                    <p:anim calcmode="lin" valueType="num">
                                      <p:cBhvr additive="repl">
                                        <p:cTn id="255" dur="500" fill="hold"/>
                                        <p:tgtEl>
                                          <p:spTgt spid="394"/>
                                        </p:tgtEl>
                                        <p:attrNameLst>
                                          <p:attrName>ppt_h</p:attrName>
                                        </p:attrNameLst>
                                      </p:cBhvr>
                                      <p:tavLst>
                                        <p:tav tm="0">
                                          <p:val>
                                            <p:fltVal val="0"/>
                                          </p:val>
                                        </p:tav>
                                        <p:tav tm="100000">
                                          <p:val>
                                            <p:strVal val="#ppt_h"/>
                                          </p:val>
                                        </p:tav>
                                      </p:tavLst>
                                    </p:anim>
                                  </p:childTnLst>
                                </p:cTn>
                              </p:par>
                            </p:childTnLst>
                          </p:cTn>
                        </p:par>
                        <p:par>
                          <p:cTn id="256" fill="hold">
                            <p:stCondLst>
                              <p:cond delay="1000"/>
                            </p:stCondLst>
                            <p:childTnLst>
                              <p:par>
                                <p:cTn id="257" nodeType="afterEffect" fill="hold" presetClass="entr" presetID="22" presetSubtype="4">
                                  <p:stCondLst>
                                    <p:cond delay="0"/>
                                  </p:stCondLst>
                                  <p:childTnLst>
                                    <p:set>
                                      <p:cBhvr>
                                        <p:cTn id="258" dur="1" fill="hold">
                                          <p:stCondLst>
                                            <p:cond delay="0"/>
                                          </p:stCondLst>
                                        </p:cTn>
                                        <p:tgtEl>
                                          <p:spTgt spid="687"/>
                                        </p:tgtEl>
                                        <p:attrNameLst>
                                          <p:attrName>style.visibility</p:attrName>
                                        </p:attrNameLst>
                                      </p:cBhvr>
                                      <p:to>
                                        <p:strVal val="visible"/>
                                      </p:to>
                                    </p:set>
                                    <p:animEffect filter="wipe(down)" transition="in">
                                      <p:cBhvr additive="repl">
                                        <p:cTn id="259" dur="500"/>
                                        <p:tgtEl>
                                          <p:spTgt spid="687"/>
                                        </p:tgtEl>
                                      </p:cBhvr>
                                    </p:animEffect>
                                  </p:childTnLst>
                                </p:cTn>
                              </p:par>
                            </p:childTnLst>
                          </p:cTn>
                        </p:par>
                        <p:par>
                          <p:cTn id="260" fill="hold">
                            <p:stCondLst>
                              <p:cond delay="1500"/>
                            </p:stCondLst>
                            <p:childTnLst>
                              <p:par>
                                <p:cTn id="261" nodeType="afterEffect" fill="hold" presetClass="entr" presetID="1">
                                  <p:stCondLst>
                                    <p:cond delay="0"/>
                                  </p:stCondLst>
                                  <p:childTnLst>
                                    <p:set>
                                      <p:cBhvr>
                                        <p:cTn id="262" dur="1" fill="hold">
                                          <p:stCondLst>
                                            <p:cond delay="499"/>
                                          </p:stCondLst>
                                        </p:cTn>
                                        <p:tgtEl>
                                          <p:spTgt spid="688"/>
                                        </p:tgtEl>
                                        <p:attrNameLst>
                                          <p:attrName>style.visibility</p:attrName>
                                        </p:attrNameLst>
                                      </p:cBhvr>
                                      <p:to>
                                        <p:strVal val="visible"/>
                                      </p:to>
                                    </p:set>
                                  </p:childTnLst>
                                </p:cTn>
                              </p:par>
                            </p:childTnLst>
                          </p:cTn>
                        </p:par>
                        <p:par>
                          <p:cTn id="263" fill="hold">
                            <p:stCondLst>
                              <p:cond delay="2000"/>
                            </p:stCondLst>
                            <p:childTnLst>
                              <p:par>
                                <p:cTn id="264" nodeType="afterEffect" fill="hold" presetClass="entr" presetID="22" presetSubtype="8">
                                  <p:stCondLst>
                                    <p:cond delay="0"/>
                                  </p:stCondLst>
                                  <p:childTnLst>
                                    <p:set>
                                      <p:cBhvr>
                                        <p:cTn id="265" dur="1" fill="hold">
                                          <p:stCondLst>
                                            <p:cond delay="0"/>
                                          </p:stCondLst>
                                        </p:cTn>
                                        <p:tgtEl>
                                          <p:spTgt spid="691"/>
                                        </p:tgtEl>
                                        <p:attrNameLst>
                                          <p:attrName>style.visibility</p:attrName>
                                        </p:attrNameLst>
                                      </p:cBhvr>
                                      <p:to>
                                        <p:strVal val="visible"/>
                                      </p:to>
                                    </p:set>
                                    <p:animEffect filter="wipe(left)" transition="in">
                                      <p:cBhvr additive="repl">
                                        <p:cTn id="266" dur="500"/>
                                        <p:tgtEl>
                                          <p:spTgt spid="6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1523520" y="533520"/>
            <a:ext cx="56437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NEUTRON LOG</a:t>
            </a:r>
            <a:endParaRPr b="0" lang="en-US" sz="4400" spc="-1" strike="noStrike">
              <a:solidFill>
                <a:srgbClr val="000000"/>
              </a:solidFill>
              <a:latin typeface="Times New Roman"/>
            </a:endParaRPr>
          </a:p>
        </p:txBody>
      </p:sp>
      <p:sp>
        <p:nvSpPr>
          <p:cNvPr id="704" name="PlaceHolder 2"/>
          <p:cNvSpPr>
            <a:spLocks noGrp="1"/>
          </p:cNvSpPr>
          <p:nvPr>
            <p:ph/>
          </p:nvPr>
        </p:nvSpPr>
        <p:spPr>
          <a:xfrm>
            <a:off x="914040" y="2209680"/>
            <a:ext cx="7543800" cy="4114800"/>
          </a:xfrm>
          <a:prstGeom prst="rect">
            <a:avLst/>
          </a:prstGeom>
          <a:noFill/>
          <a:ln w="0">
            <a:noFill/>
          </a:ln>
        </p:spPr>
        <p:txBody>
          <a:bodyPr anchor="t">
            <a:normAutofit/>
          </a:bodyPr>
          <a:p>
            <a:pPr marL="343080" indent="-343080">
              <a:lnSpc>
                <a:spcPct val="100000"/>
              </a:lnSpc>
              <a:spcBef>
                <a:spcPts val="7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ing tool emits high energy neutrons into formation</a:t>
            </a:r>
            <a:endParaRPr b="0" lang="en-US" sz="3200" spc="-1" strike="noStrike">
              <a:solidFill>
                <a:srgbClr val="000000"/>
              </a:solidFill>
              <a:latin typeface="Times New Roman"/>
            </a:endParaRPr>
          </a:p>
          <a:p>
            <a:pPr marL="343080" indent="-343080">
              <a:lnSpc>
                <a:spcPct val="100000"/>
              </a:lnSpc>
              <a:spcBef>
                <a:spcPts val="7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ons collide with nuclei of formation’s atom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ons lose energy (velocity) with each colli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16" presetSubtype="42">
                                  <p:stCondLst>
                                    <p:cond delay="0"/>
                                  </p:stCondLst>
                                  <p:childTnLst>
                                    <p:set>
                                      <p:cBhvr>
                                        <p:cTn id="272" dur="1" fill="hold">
                                          <p:stCondLst>
                                            <p:cond delay="0"/>
                                          </p:stCondLst>
                                        </p:cTn>
                                        <p:tgtEl>
                                          <p:spTgt spid="703"/>
                                        </p:tgtEl>
                                        <p:attrNameLst>
                                          <p:attrName>style.visibility</p:attrName>
                                        </p:attrNameLst>
                                      </p:cBhvr>
                                      <p:to>
                                        <p:strVal val="visible"/>
                                      </p:to>
                                    </p:set>
                                    <p:animEffect filter="barn(outHorizontal)" transition="in">
                                      <p:cBhvr additive="repl">
                                        <p:cTn id="273" dur="500"/>
                                        <p:tgtEl>
                                          <p:spTgt spid="703"/>
                                        </p:tgtEl>
                                      </p:cBhvr>
                                    </p:animEffect>
                                  </p:childTnLst>
                                </p:cTn>
                              </p:par>
                            </p:childTnLst>
                          </p:cTn>
                        </p:par>
                        <p:par>
                          <p:cTn id="274" fill="hold">
                            <p:stCondLst>
                              <p:cond delay="500"/>
                            </p:stCondLst>
                            <p:childTnLst>
                              <p:par>
                                <p:cTn id="275" nodeType="afterEffect" fill="hold" presetClass="entr" presetID="12" presetSubtype="1">
                                  <p:stCondLst>
                                    <p:cond delay="0"/>
                                  </p:stCondLst>
                                  <p:childTnLst>
                                    <p:set>
                                      <p:cBhvr>
                                        <p:cTn id="276" dur="1" fill="hold">
                                          <p:stCondLst>
                                            <p:cond delay="0"/>
                                          </p:stCondLst>
                                        </p:cTn>
                                        <p:tgtEl>
                                          <p:spTgt spid="704">
                                            <p:txEl>
                                              <p:pRg st="0" end="0"/>
                                            </p:txEl>
                                          </p:spTgt>
                                        </p:tgtEl>
                                        <p:attrNameLst>
                                          <p:attrName>style.visibility</p:attrName>
                                        </p:attrNameLst>
                                      </p:cBhvr>
                                      <p:to>
                                        <p:strVal val="visible"/>
                                      </p:to>
                                    </p:set>
                                    <p:animEffect filter="slide(fromTop)" transition="in">
                                      <p:cBhvr additive="repl">
                                        <p:cTn id="277" dur="500"/>
                                        <p:tgtEl>
                                          <p:spTgt spid="704">
                                            <p:txEl>
                                              <p:pRg st="0" end="0"/>
                                            </p:txEl>
                                          </p:spTgt>
                                        </p:tgtEl>
                                      </p:cBhvr>
                                    </p:animEffect>
                                  </p:childTnLst>
                                </p:cTn>
                              </p:par>
                            </p:childTnLst>
                          </p:cTn>
                        </p:par>
                        <p:par>
                          <p:cTn id="278" fill="hold">
                            <p:stCondLst>
                              <p:cond delay="1000"/>
                            </p:stCondLst>
                            <p:childTnLst>
                              <p:par>
                                <p:cTn id="279" nodeType="afterEffect" fill="hold" presetClass="entr" presetID="12" presetSubtype="1">
                                  <p:stCondLst>
                                    <p:cond delay="0"/>
                                  </p:stCondLst>
                                  <p:childTnLst>
                                    <p:set>
                                      <p:cBhvr>
                                        <p:cTn id="280" dur="1" fill="hold">
                                          <p:stCondLst>
                                            <p:cond delay="0"/>
                                          </p:stCondLst>
                                        </p:cTn>
                                        <p:tgtEl>
                                          <p:spTgt spid="704">
                                            <p:txEl>
                                              <p:pRg st="1" end="1"/>
                                            </p:txEl>
                                          </p:spTgt>
                                        </p:tgtEl>
                                        <p:attrNameLst>
                                          <p:attrName>style.visibility</p:attrName>
                                        </p:attrNameLst>
                                      </p:cBhvr>
                                      <p:to>
                                        <p:strVal val="visible"/>
                                      </p:to>
                                    </p:set>
                                    <p:animEffect filter="slide(fromTop)" transition="in">
                                      <p:cBhvr additive="repl">
                                        <p:cTn id="281" dur="500"/>
                                        <p:tgtEl>
                                          <p:spTgt spid="704">
                                            <p:txEl>
                                              <p:pRg st="1" end="1"/>
                                            </p:txEl>
                                          </p:spTgt>
                                        </p:tgtEl>
                                      </p:cBhvr>
                                    </p:animEffect>
                                  </p:childTnLst>
                                </p:cTn>
                              </p:par>
                            </p:childTnLst>
                          </p:cTn>
                        </p:par>
                        <p:par>
                          <p:cTn id="282" fill="hold">
                            <p:stCondLst>
                              <p:cond delay="1500"/>
                            </p:stCondLst>
                            <p:childTnLst>
                              <p:par>
                                <p:cTn id="283" nodeType="afterEffect" fill="hold" presetClass="entr" presetID="12" presetSubtype="1">
                                  <p:stCondLst>
                                    <p:cond delay="0"/>
                                  </p:stCondLst>
                                  <p:childTnLst>
                                    <p:set>
                                      <p:cBhvr>
                                        <p:cTn id="284" dur="1" fill="hold">
                                          <p:stCondLst>
                                            <p:cond delay="0"/>
                                          </p:stCondLst>
                                        </p:cTn>
                                        <p:tgtEl>
                                          <p:spTgt spid="704">
                                            <p:txEl>
                                              <p:pRg st="2" end="2"/>
                                            </p:txEl>
                                          </p:spTgt>
                                        </p:tgtEl>
                                        <p:attrNameLst>
                                          <p:attrName>style.visibility</p:attrName>
                                        </p:attrNameLst>
                                      </p:cBhvr>
                                      <p:to>
                                        <p:strVal val="visible"/>
                                      </p:to>
                                    </p:set>
                                    <p:animEffect filter="slide(fromTop)" transition="in">
                                      <p:cBhvr additive="repl">
                                        <p:cTn id="285" dur="500"/>
                                        <p:tgtEl>
                                          <p:spTgt spid="7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828800" y="533520"/>
            <a:ext cx="526248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NEUTRON LOG</a:t>
            </a:r>
            <a:endParaRPr b="0" lang="en-US" sz="4400" spc="-1" strike="noStrike">
              <a:solidFill>
                <a:srgbClr val="000000"/>
              </a:solidFill>
              <a:latin typeface="Times New Roman"/>
            </a:endParaRPr>
          </a:p>
        </p:txBody>
      </p:sp>
      <p:sp>
        <p:nvSpPr>
          <p:cNvPr id="706" name="PlaceHolder 2"/>
          <p:cNvSpPr>
            <a:spLocks noGrp="1"/>
          </p:cNvSpPr>
          <p:nvPr>
            <p:ph/>
          </p:nvPr>
        </p:nvSpPr>
        <p:spPr>
          <a:xfrm>
            <a:off x="914040" y="2209680"/>
            <a:ext cx="7543800" cy="4114800"/>
          </a:xfrm>
          <a:prstGeom prst="rect">
            <a:avLst/>
          </a:prstGeom>
          <a:noFill/>
          <a:ln w="0">
            <a:noFill/>
          </a:ln>
        </p:spPr>
        <p:txBody>
          <a:bodyPr anchor="t">
            <a:normAutofit/>
          </a:bodyPr>
          <a:p>
            <a:pPr marL="343080" indent="-343080">
              <a:lnSpc>
                <a:spcPct val="100000"/>
              </a:lnSpc>
              <a:spcBef>
                <a:spcPts val="7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st energy is lost when colliding with a hydrogen atom nucleus</a:t>
            </a:r>
            <a:endParaRPr b="0" lang="en-US" sz="3200" spc="-1" strike="noStrike">
              <a:solidFill>
                <a:srgbClr val="000000"/>
              </a:solidFill>
              <a:latin typeface="Times New Roman"/>
            </a:endParaRPr>
          </a:p>
          <a:p>
            <a:pPr marL="343080" indent="-343080">
              <a:lnSpc>
                <a:spcPct val="100000"/>
              </a:lnSpc>
              <a:spcBef>
                <a:spcPts val="7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ons are slowed sufficiently to be captured by nuclei</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turing nuclei become excited and emit gamma ray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 presetSubtype="8">
                                  <p:stCondLst>
                                    <p:cond delay="0"/>
                                  </p:stCondLst>
                                  <p:childTnLst>
                                    <p:set>
                                      <p:cBhvr>
                                        <p:cTn id="291" dur="1" fill="hold">
                                          <p:stCondLst>
                                            <p:cond delay="0"/>
                                          </p:stCondLst>
                                        </p:cTn>
                                        <p:tgtEl>
                                          <p:spTgt spid="705"/>
                                        </p:tgtEl>
                                        <p:attrNameLst>
                                          <p:attrName>style.visibility</p:attrName>
                                        </p:attrNameLst>
                                      </p:cBhvr>
                                      <p:to>
                                        <p:strVal val="visible"/>
                                      </p:to>
                                    </p:set>
                                    <p:anim calcmode="lin" valueType="num">
                                      <p:cBhvr additive="base">
                                        <p:cTn id="292" dur="500" fill="hold"/>
                                        <p:tgtEl>
                                          <p:spTgt spid="705"/>
                                        </p:tgtEl>
                                        <p:attrNameLst>
                                          <p:attrName>ppt_x</p:attrName>
                                        </p:attrNameLst>
                                      </p:cBhvr>
                                      <p:tavLst>
                                        <p:tav tm="0">
                                          <p:val>
                                            <p:strVal val="0-#ppt_w/2"/>
                                          </p:val>
                                        </p:tav>
                                        <p:tav tm="100000">
                                          <p:val>
                                            <p:strVal val="#ppt_x"/>
                                          </p:val>
                                        </p:tav>
                                      </p:tavLst>
                                    </p:anim>
                                    <p:anim calcmode="lin" valueType="num">
                                      <p:cBhvr additive="base">
                                        <p:cTn id="293" dur="500" fill="hold"/>
                                        <p:tgtEl>
                                          <p:spTgt spid="705"/>
                                        </p:tgtEl>
                                        <p:attrNameLst>
                                          <p:attrName>ppt_y</p:attrName>
                                        </p:attrNameLst>
                                      </p:cBhvr>
                                      <p:tavLst>
                                        <p:tav tm="0">
                                          <p:val>
                                            <p:strVal val="#ppt_y"/>
                                          </p:val>
                                        </p:tav>
                                        <p:tav tm="100000">
                                          <p:val>
                                            <p:strVal val="#ppt_y"/>
                                          </p:val>
                                        </p:tav>
                                      </p:tavLst>
                                    </p:anim>
                                  </p:childTnLst>
                                </p:cTn>
                              </p:par>
                            </p:childTnLst>
                          </p:cTn>
                        </p:par>
                        <p:par>
                          <p:cTn id="294" fill="hold">
                            <p:stCondLst>
                              <p:cond delay="500"/>
                            </p:stCondLst>
                            <p:childTnLst>
                              <p:par>
                                <p:cTn id="295" nodeType="afterEffect" fill="hold" presetClass="entr" presetID="9">
                                  <p:stCondLst>
                                    <p:cond delay="0"/>
                                  </p:stCondLst>
                                  <p:childTnLst>
                                    <p:set>
                                      <p:cBhvr>
                                        <p:cTn id="296" dur="1" fill="hold">
                                          <p:stCondLst>
                                            <p:cond delay="0"/>
                                          </p:stCondLst>
                                        </p:cTn>
                                        <p:tgtEl>
                                          <p:spTgt spid="706">
                                            <p:txEl>
                                              <p:pRg st="0" end="0"/>
                                            </p:txEl>
                                          </p:spTgt>
                                        </p:tgtEl>
                                        <p:attrNameLst>
                                          <p:attrName>style.visibility</p:attrName>
                                        </p:attrNameLst>
                                      </p:cBhvr>
                                      <p:to>
                                        <p:strVal val="visible"/>
                                      </p:to>
                                    </p:set>
                                    <p:animEffect filter="dissolve" transition="in">
                                      <p:cBhvr additive="repl">
                                        <p:cTn id="297" dur="500"/>
                                        <p:tgtEl>
                                          <p:spTgt spid="706">
                                            <p:txEl>
                                              <p:pRg st="0" end="0"/>
                                            </p:txEl>
                                          </p:spTgt>
                                        </p:tgtEl>
                                      </p:cBhvr>
                                    </p:animEffect>
                                  </p:childTnLst>
                                </p:cTn>
                              </p:par>
                            </p:childTnLst>
                          </p:cTn>
                        </p:par>
                        <p:par>
                          <p:cTn id="298" fill="hold">
                            <p:stCondLst>
                              <p:cond delay="1000"/>
                            </p:stCondLst>
                            <p:childTnLst>
                              <p:par>
                                <p:cTn id="299" nodeType="afterEffect" fill="hold" presetClass="entr" presetID="9">
                                  <p:stCondLst>
                                    <p:cond delay="0"/>
                                  </p:stCondLst>
                                  <p:childTnLst>
                                    <p:set>
                                      <p:cBhvr>
                                        <p:cTn id="300" dur="1" fill="hold">
                                          <p:stCondLst>
                                            <p:cond delay="0"/>
                                          </p:stCondLst>
                                        </p:cTn>
                                        <p:tgtEl>
                                          <p:spTgt spid="706">
                                            <p:txEl>
                                              <p:pRg st="1" end="1"/>
                                            </p:txEl>
                                          </p:spTgt>
                                        </p:tgtEl>
                                        <p:attrNameLst>
                                          <p:attrName>style.visibility</p:attrName>
                                        </p:attrNameLst>
                                      </p:cBhvr>
                                      <p:to>
                                        <p:strVal val="visible"/>
                                      </p:to>
                                    </p:set>
                                    <p:animEffect filter="dissolve" transition="in">
                                      <p:cBhvr additive="repl">
                                        <p:cTn id="301" dur="500"/>
                                        <p:tgtEl>
                                          <p:spTgt spid="706">
                                            <p:txEl>
                                              <p:pRg st="1" end="1"/>
                                            </p:txEl>
                                          </p:spTgt>
                                        </p:tgtEl>
                                      </p:cBhvr>
                                    </p:animEffect>
                                  </p:childTnLst>
                                </p:cTn>
                              </p:par>
                            </p:childTnLst>
                          </p:cTn>
                        </p:par>
                        <p:par>
                          <p:cTn id="302" fill="hold">
                            <p:stCondLst>
                              <p:cond delay="1500"/>
                            </p:stCondLst>
                            <p:childTnLst>
                              <p:par>
                                <p:cTn id="303" nodeType="afterEffect" fill="hold" presetClass="entr" presetID="9">
                                  <p:stCondLst>
                                    <p:cond delay="0"/>
                                  </p:stCondLst>
                                  <p:childTnLst>
                                    <p:set>
                                      <p:cBhvr>
                                        <p:cTn id="304" dur="1" fill="hold">
                                          <p:stCondLst>
                                            <p:cond delay="0"/>
                                          </p:stCondLst>
                                        </p:cTn>
                                        <p:tgtEl>
                                          <p:spTgt spid="706">
                                            <p:txEl>
                                              <p:pRg st="2" end="2"/>
                                            </p:txEl>
                                          </p:spTgt>
                                        </p:tgtEl>
                                        <p:attrNameLst>
                                          <p:attrName>style.visibility</p:attrName>
                                        </p:attrNameLst>
                                      </p:cBhvr>
                                      <p:to>
                                        <p:strVal val="visible"/>
                                      </p:to>
                                    </p:set>
                                    <p:animEffect filter="dissolve" transition="in">
                                      <p:cBhvr additive="repl">
                                        <p:cTn id="305" dur="500"/>
                                        <p:tgtEl>
                                          <p:spTgt spid="7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600200" y="457200"/>
            <a:ext cx="571968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NEUTRON LOG</a:t>
            </a:r>
            <a:endParaRPr b="0" lang="en-US" sz="4400" spc="-1" strike="noStrike">
              <a:solidFill>
                <a:srgbClr val="000000"/>
              </a:solidFill>
              <a:latin typeface="Times New Roman"/>
            </a:endParaRPr>
          </a:p>
        </p:txBody>
      </p:sp>
      <p:sp>
        <p:nvSpPr>
          <p:cNvPr id="708" name="PlaceHolder 2"/>
          <p:cNvSpPr>
            <a:spLocks noGrp="1"/>
          </p:cNvSpPr>
          <p:nvPr>
            <p:ph/>
          </p:nvPr>
        </p:nvSpPr>
        <p:spPr>
          <a:xfrm>
            <a:off x="483840" y="1371600"/>
            <a:ext cx="8248680" cy="4114800"/>
          </a:xfrm>
          <a:prstGeom prst="rect">
            <a:avLst/>
          </a:prstGeom>
          <a:noFill/>
          <a:ln w="0">
            <a:noFill/>
          </a:ln>
        </p:spPr>
        <p:txBody>
          <a:bodyPr anchor="t">
            <a:normAutofit fontScale="91000"/>
          </a:bodyPr>
          <a:p>
            <a:pPr marL="312120" indent="-312120">
              <a:lnSpc>
                <a:spcPct val="90000"/>
              </a:lnSpc>
              <a:spcBef>
                <a:spcPts val="700"/>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ing on type of logging tool either gamma rays or non-captured neutrons are recorded</a:t>
            </a:r>
            <a:endParaRPr b="0" lang="en-US" sz="2800" spc="-1" strike="noStrike">
              <a:solidFill>
                <a:srgbClr val="000000"/>
              </a:solidFill>
              <a:latin typeface="Times New Roman"/>
            </a:endParaRPr>
          </a:p>
          <a:p>
            <a:pPr marL="312120" indent="-312120">
              <a:lnSpc>
                <a:spcPct val="90000"/>
              </a:lnSpc>
              <a:spcBef>
                <a:spcPts val="700"/>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 records porosity based on neutrons captured by formation</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hydrogen is in pore space, porosity is related to the ratio of neutrons emitted to those counted as captured</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utron log reports porosity, calibrated assuming calcite matrix and fresh water in pores, if these assumptions are  invalid we must correct the neutron porosity valu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15">
                                  <p:stCondLst>
                                    <p:cond delay="0"/>
                                  </p:stCondLst>
                                  <p:childTnLst>
                                    <p:set>
                                      <p:cBhvr>
                                        <p:cTn id="311" dur="1" fill="hold">
                                          <p:stCondLst>
                                            <p:cond delay="0"/>
                                          </p:stCondLst>
                                        </p:cTn>
                                        <p:tgtEl>
                                          <p:spTgt spid="707"/>
                                        </p:tgtEl>
                                        <p:attrNameLst>
                                          <p:attrName>style.visibility</p:attrName>
                                        </p:attrNameLst>
                                      </p:cBhvr>
                                      <p:to>
                                        <p:strVal val="visible"/>
                                      </p:to>
                                    </p:set>
                                    <p:anim calcmode="lin" valueType="num">
                                      <p:cBhvr additive="repl">
                                        <p:cTn id="312" dur="1000" fill="hold"/>
                                        <p:tgtEl>
                                          <p:spTgt spid="707"/>
                                        </p:tgtEl>
                                        <p:attrNameLst>
                                          <p:attrName>ppt_w</p:attrName>
                                        </p:attrNameLst>
                                      </p:cBhvr>
                                      <p:tavLst>
                                        <p:tav tm="0">
                                          <p:val>
                                            <p:fltVal val="0"/>
                                          </p:val>
                                        </p:tav>
                                        <p:tav tm="100000">
                                          <p:val>
                                            <p:strVal val="#ppt_w"/>
                                          </p:val>
                                        </p:tav>
                                      </p:tavLst>
                                    </p:anim>
                                    <p:anim calcmode="lin" valueType="num">
                                      <p:cBhvr additive="repl">
                                        <p:cTn id="313" dur="1000" fill="hold"/>
                                        <p:tgtEl>
                                          <p:spTgt spid="707"/>
                                        </p:tgtEl>
                                        <p:attrNameLst>
                                          <p:attrName>ppt_h</p:attrName>
                                        </p:attrNameLst>
                                      </p:cBhvr>
                                      <p:tavLst>
                                        <p:tav tm="0">
                                          <p:val>
                                            <p:fltVal val="0"/>
                                          </p:val>
                                        </p:tav>
                                        <p:tav tm="100000">
                                          <p:val>
                                            <p:strVal val="#ppt_h"/>
                                          </p:val>
                                        </p:tav>
                                      </p:tavLst>
                                    </p:anim>
                                    <p:anim calcmode="lin" valueType="num">
                                      <p:cBhvr additive="repl">
                                        <p:cTn id="314" dur="1000" fill="hold"/>
                                        <p:tgtEl>
                                          <p:spTgt spid="707"/>
                                        </p:tgtEl>
                                        <p:attrNameLst>
                                          <p:attrName>ppt_x</p:attrName>
                                        </p:attrNameLst>
                                      </p:cBhvr>
                                      <p:tavLst>
                                        <p:tav fmla="x+(cos(-2*pi*(1-$))*-x-sin(-2*pi*(1-$))*(1-y))*(1-$)" tm="0">
                                          <p:val>
                                            <p:fltVal val="0"/>
                                          </p:val>
                                        </p:tav>
                                        <p:tav fmla="x+(cos(-2*pi*(1-$))*-x-sin(-2*pi*(1-$))*(1-y))*(1-$)" tm="100000">
                                          <p:val>
                                            <p:fltVal val="1"/>
                                          </p:val>
                                        </p:tav>
                                      </p:tavLst>
                                    </p:anim>
                                    <p:anim calcmode="lin" valueType="num">
                                      <p:cBhvr additive="repl">
                                        <p:cTn id="315" dur="1000" fill="hold"/>
                                        <p:tgtEl>
                                          <p:spTgt spid="707"/>
                                        </p:tgtEl>
                                        <p:attrNameLst>
                                          <p:attrName>ppt_y</p:attrName>
                                        </p:attrNameLst>
                                      </p:cBhvr>
                                      <p:tavLst>
                                        <p:tav fmla="y+(sin(-2*pi*(1-$))*-x+cos(-2*pi*(1-$))*(1-y))*(1-$)" tm="0">
                                          <p:val>
                                            <p:fltVal val="0"/>
                                          </p:val>
                                        </p:tav>
                                        <p:tav fmla="y+(sin(-2*pi*(1-$))*-x+cos(-2*pi*(1-$))*(1-y))*(1-$)" tm="100000">
                                          <p:val>
                                            <p:fltVal val="1"/>
                                          </p:val>
                                        </p:tav>
                                      </p:tavLst>
                                    </p:anim>
                                  </p:childTnLst>
                                </p:cTn>
                              </p:par>
                            </p:childTnLst>
                          </p:cTn>
                        </p:par>
                        <p:par>
                          <p:cTn id="316" fill="hold">
                            <p:stCondLst>
                              <p:cond delay="1000"/>
                            </p:stCondLst>
                            <p:childTnLst>
                              <p:par>
                                <p:cTn id="317" nodeType="afterEffect" fill="hold" presetClass="entr" presetID="22" presetSubtype="8">
                                  <p:stCondLst>
                                    <p:cond delay="0"/>
                                  </p:stCondLst>
                                  <p:childTnLst>
                                    <p:set>
                                      <p:cBhvr>
                                        <p:cTn id="318" dur="1" fill="hold">
                                          <p:stCondLst>
                                            <p:cond delay="0"/>
                                          </p:stCondLst>
                                        </p:cTn>
                                        <p:tgtEl>
                                          <p:spTgt spid="708">
                                            <p:txEl>
                                              <p:pRg st="0" end="0"/>
                                            </p:txEl>
                                          </p:spTgt>
                                        </p:tgtEl>
                                        <p:attrNameLst>
                                          <p:attrName>style.visibility</p:attrName>
                                        </p:attrNameLst>
                                      </p:cBhvr>
                                      <p:to>
                                        <p:strVal val="visible"/>
                                      </p:to>
                                    </p:set>
                                    <p:animEffect filter="wipe(left)" transition="in">
                                      <p:cBhvr additive="repl">
                                        <p:cTn id="319" dur="500"/>
                                        <p:tgtEl>
                                          <p:spTgt spid="708">
                                            <p:txEl>
                                              <p:pRg st="0" end="0"/>
                                            </p:txEl>
                                          </p:spTgt>
                                        </p:tgtEl>
                                      </p:cBhvr>
                                    </p:animEffect>
                                  </p:childTnLst>
                                </p:cTn>
                              </p:par>
                            </p:childTnLst>
                          </p:cTn>
                        </p:par>
                        <p:par>
                          <p:cTn id="320" fill="hold">
                            <p:stCondLst>
                              <p:cond delay="1500"/>
                            </p:stCondLst>
                            <p:childTnLst>
                              <p:par>
                                <p:cTn id="321" nodeType="afterEffect" fill="hold" presetClass="entr" presetID="22" presetSubtype="8">
                                  <p:stCondLst>
                                    <p:cond delay="0"/>
                                  </p:stCondLst>
                                  <p:childTnLst>
                                    <p:set>
                                      <p:cBhvr>
                                        <p:cTn id="322" dur="1" fill="hold">
                                          <p:stCondLst>
                                            <p:cond delay="0"/>
                                          </p:stCondLst>
                                        </p:cTn>
                                        <p:tgtEl>
                                          <p:spTgt spid="708">
                                            <p:txEl>
                                              <p:pRg st="1" end="1"/>
                                            </p:txEl>
                                          </p:spTgt>
                                        </p:tgtEl>
                                        <p:attrNameLst>
                                          <p:attrName>style.visibility</p:attrName>
                                        </p:attrNameLst>
                                      </p:cBhvr>
                                      <p:to>
                                        <p:strVal val="visible"/>
                                      </p:to>
                                    </p:set>
                                    <p:animEffect filter="wipe(left)" transition="in">
                                      <p:cBhvr additive="repl">
                                        <p:cTn id="323" dur="500"/>
                                        <p:tgtEl>
                                          <p:spTgt spid="708">
                                            <p:txEl>
                                              <p:pRg st="1" end="1"/>
                                            </p:txEl>
                                          </p:spTgt>
                                        </p:tgtEl>
                                      </p:cBhvr>
                                    </p:animEffect>
                                  </p:childTnLst>
                                </p:cTn>
                              </p:par>
                            </p:childTnLst>
                          </p:cTn>
                        </p:par>
                        <p:par>
                          <p:cTn id="324" fill="hold">
                            <p:stCondLst>
                              <p:cond delay="2000"/>
                            </p:stCondLst>
                            <p:childTnLst>
                              <p:par>
                                <p:cTn id="325" nodeType="afterEffect" fill="hold" presetClass="entr" presetID="22" presetSubtype="8">
                                  <p:stCondLst>
                                    <p:cond delay="0"/>
                                  </p:stCondLst>
                                  <p:childTnLst>
                                    <p:set>
                                      <p:cBhvr>
                                        <p:cTn id="326" dur="1" fill="hold">
                                          <p:stCondLst>
                                            <p:cond delay="0"/>
                                          </p:stCondLst>
                                        </p:cTn>
                                        <p:tgtEl>
                                          <p:spTgt spid="708">
                                            <p:txEl>
                                              <p:pRg st="2" end="2"/>
                                            </p:txEl>
                                          </p:spTgt>
                                        </p:tgtEl>
                                        <p:attrNameLst>
                                          <p:attrName>style.visibility</p:attrName>
                                        </p:attrNameLst>
                                      </p:cBhvr>
                                      <p:to>
                                        <p:strVal val="visible"/>
                                      </p:to>
                                    </p:set>
                                    <p:animEffect filter="wipe(left)" transition="in">
                                      <p:cBhvr additive="repl">
                                        <p:cTn id="327" dur="500"/>
                                        <p:tgtEl>
                                          <p:spTgt spid="708">
                                            <p:txEl>
                                              <p:pRg st="2" end="2"/>
                                            </p:txEl>
                                          </p:spTgt>
                                        </p:tgtEl>
                                      </p:cBhvr>
                                    </p:animEffect>
                                  </p:childTnLst>
                                </p:cTn>
                              </p:par>
                            </p:childTnLst>
                          </p:cTn>
                        </p:par>
                        <p:par>
                          <p:cTn id="328" fill="hold">
                            <p:stCondLst>
                              <p:cond delay="2500"/>
                            </p:stCondLst>
                            <p:childTnLst>
                              <p:par>
                                <p:cTn id="329" nodeType="afterEffect" fill="hold" presetClass="entr" presetID="22" presetSubtype="8">
                                  <p:stCondLst>
                                    <p:cond delay="0"/>
                                  </p:stCondLst>
                                  <p:childTnLst>
                                    <p:set>
                                      <p:cBhvr>
                                        <p:cTn id="330" dur="1" fill="hold">
                                          <p:stCondLst>
                                            <p:cond delay="0"/>
                                          </p:stCondLst>
                                        </p:cTn>
                                        <p:tgtEl>
                                          <p:spTgt spid="708">
                                            <p:txEl>
                                              <p:pRg st="3" end="3"/>
                                            </p:txEl>
                                          </p:spTgt>
                                        </p:tgtEl>
                                        <p:attrNameLst>
                                          <p:attrName>style.visibility</p:attrName>
                                        </p:attrNameLst>
                                      </p:cBhvr>
                                      <p:to>
                                        <p:strVal val="visible"/>
                                      </p:to>
                                    </p:set>
                                    <p:animEffect filter="wipe(left)" transition="in">
                                      <p:cBhvr additive="repl">
                                        <p:cTn id="331" dur="500"/>
                                        <p:tgtEl>
                                          <p:spTgt spid="7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2057400" y="304920"/>
            <a:ext cx="526248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NEUTRON LOG</a:t>
            </a:r>
            <a:endParaRPr b="0" lang="en-US" sz="4400" spc="-1" strike="noStrike">
              <a:solidFill>
                <a:srgbClr val="000000"/>
              </a:solidFill>
              <a:latin typeface="Times New Roman"/>
            </a:endParaRPr>
          </a:p>
        </p:txBody>
      </p:sp>
      <p:sp>
        <p:nvSpPr>
          <p:cNvPr id="710" name="PlaceHolder 2"/>
          <p:cNvSpPr>
            <a:spLocks noGrp="1"/>
          </p:cNvSpPr>
          <p:nvPr>
            <p:ph/>
          </p:nvPr>
        </p:nvSpPr>
        <p:spPr>
          <a:xfrm>
            <a:off x="914040" y="1447920"/>
            <a:ext cx="5257800" cy="761760"/>
          </a:xfrm>
          <a:prstGeom prst="rect">
            <a:avLst/>
          </a:prstGeom>
          <a:noFill/>
          <a:ln w="0">
            <a:noFill/>
          </a:ln>
        </p:spPr>
        <p:txBody>
          <a:bodyPr anchor="t">
            <a:normAutofit/>
          </a:bodyPr>
          <a:p>
            <a:pPr marL="343080" indent="0">
              <a:lnSpc>
                <a:spcPct val="10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00"/>
                </a:solidFill>
                <a:uFillTx/>
                <a:latin typeface="Arial"/>
              </a:rPr>
              <a:t>Theoretical equation</a:t>
            </a:r>
            <a:endParaRPr b="0" lang="en-US" sz="3200" spc="-1" strike="noStrike">
              <a:solidFill>
                <a:srgbClr val="000000"/>
              </a:solidFill>
              <a:latin typeface="Times New Roman"/>
            </a:endParaRPr>
          </a:p>
        </p:txBody>
      </p:sp>
      <mc:AlternateContent>
        <mc:Choice xmlns:a14="http://schemas.microsoft.com/office/drawing/2010/main" Requires="a14">
          <p:sp>
            <p:nvSpPr>
              <p:cNvPr id="711" name="Object 4"/>
              <p:cNvSpPr txBox="1"/>
              <p:nvPr/>
            </p:nvSpPr>
            <p:spPr>
              <a:xfrm>
                <a:off x="1752480" y="1981080"/>
                <a:ext cx="5823000" cy="2113200"/>
              </a:xfrm>
              <a:prstGeom prst="rect">
                <a:avLst/>
              </a:prstGeom>
            </p:spPr>
            <p:txBody>
              <a:bodyPr/>
              <a:p>
                <a14:m>
                  <m:oMath xmlns:m="http://schemas.openxmlformats.org/officeDocument/2006/math">
                    <m:eqArr>
                      <m:e>
                        <m:sSub>
                          <m:e>
                            <m:r>
                              <m:t xml:space="preserve">φ</m:t>
                            </m:r>
                          </m:e>
                          <m:sub>
                            <m:r>
                              <m:t xml:space="preserve">N</m:t>
                            </m:r>
                          </m:sub>
                        </m:sSub>
                        <m:r>
                          <m:t xml:space="preserve"> </m:t>
                        </m:r>
                        <m:r>
                          <m:t xml:space="preserve">=</m:t>
                        </m:r>
                        <m:r>
                          <m:t xml:space="preserve"> </m:t>
                        </m:r>
                        <m:r>
                          <m:t xml:space="preserve">φ</m:t>
                        </m:r>
                        <m:r>
                          <m:t xml:space="preserve"> </m:t>
                        </m:r>
                        <m:sSub>
                          <m:e>
                            <m:r>
                              <m:t xml:space="preserve">S</m:t>
                            </m:r>
                          </m:e>
                          <m:sub>
                            <m:r>
                              <m:rPr>
                                <m:lit/>
                                <m:nor/>
                              </m:rPr>
                              <m:t xml:space="preserve">xo</m:t>
                            </m:r>
                          </m:sub>
                        </m:sSub>
                        <m:r>
                          <m:t xml:space="preserve"> </m:t>
                        </m:r>
                        <m:sSub>
                          <m:e>
                            <m:r>
                              <m:t xml:space="preserve">φ</m:t>
                            </m:r>
                          </m:e>
                          <m:sub>
                            <m:r>
                              <m:rPr>
                                <m:lit/>
                                <m:nor/>
                              </m:rPr>
                              <m:t xml:space="preserve">Nmf</m:t>
                            </m:r>
                          </m:sub>
                        </m:sSub>
                        <m:r>
                          <m:t xml:space="preserve"> </m:t>
                        </m:r>
                        <m:r>
                          <m:t xml:space="preserve">+</m:t>
                        </m:r>
                        <m:r>
                          <m:t xml:space="preserve"> </m:t>
                        </m:r>
                        <m:r>
                          <m:t xml:space="preserve">φ</m:t>
                        </m:r>
                        <m:r>
                          <m:t xml:space="preserve"> </m:t>
                        </m:r>
                        <m:d>
                          <m:dPr>
                            <m:begChr m:val="("/>
                            <m:endChr m:val=")"/>
                          </m:dPr>
                          <m:e>
                            <m:r>
                              <m:t xml:space="preserve">1</m:t>
                            </m:r>
                            <m:r>
                              <m:t xml:space="preserve"> </m:t>
                            </m:r>
                            <m:r>
                              <m:t xml:space="preserve">−</m:t>
                            </m:r>
                            <m:sSub>
                              <m:e>
                                <m:r>
                                  <m:t xml:space="preserve">S</m:t>
                                </m:r>
                              </m:e>
                              <m:sub>
                                <m:r>
                                  <m:rPr>
                                    <m:lit/>
                                    <m:nor/>
                                  </m:rPr>
                                  <m:t xml:space="preserve">xo</m:t>
                                </m:r>
                              </m:sub>
                            </m:sSub>
                          </m:e>
                        </m:d>
                        <m:r>
                          <m:t xml:space="preserve"> </m:t>
                        </m:r>
                        <m:sSub>
                          <m:e>
                            <m:r>
                              <m:t xml:space="preserve">φ</m:t>
                            </m:r>
                          </m:e>
                          <m:sub>
                            <m:r>
                              <m:rPr>
                                <m:lit/>
                                <m:nor/>
                              </m:rPr>
                              <m:t xml:space="preserve">Nhc</m:t>
                            </m:r>
                          </m:sub>
                        </m:sSub>
                      </m:e>
                      <m:e/>
                      <m:e>
                        <m:r>
                          <m:t xml:space="preserve">+</m:t>
                        </m:r>
                        <m:r>
                          <m:t xml:space="preserve"> </m:t>
                        </m:r>
                        <m:sSub>
                          <m:e>
                            <m:r>
                              <m:t xml:space="preserve">V</m:t>
                            </m:r>
                          </m:e>
                          <m:sub>
                            <m:r>
                              <m:rPr>
                                <m:lit/>
                                <m:nor/>
                              </m:rPr>
                              <m:t xml:space="preserve">sh</m:t>
                            </m:r>
                          </m:sub>
                        </m:sSub>
                        <m:r>
                          <m:t xml:space="preserve"> </m:t>
                        </m:r>
                        <m:sSub>
                          <m:e>
                            <m:r>
                              <m:t xml:space="preserve">φ</m:t>
                            </m:r>
                          </m:e>
                          <m:sub>
                            <m:r>
                              <m:rPr>
                                <m:lit/>
                                <m:nor/>
                              </m:rPr>
                              <m:t xml:space="preserve">sh</m:t>
                            </m:r>
                          </m:sub>
                        </m:sSub>
                        <m:r>
                          <m:t xml:space="preserve"> </m:t>
                        </m:r>
                        <m:r>
                          <m:t xml:space="preserve">+</m:t>
                        </m:r>
                        <m:r>
                          <m:t xml:space="preserve"> </m:t>
                        </m:r>
                        <m:d>
                          <m:dPr>
                            <m:begChr m:val="("/>
                            <m:endChr m:val=")"/>
                          </m:dPr>
                          <m:e>
                            <m:r>
                              <m:t xml:space="preserve">1</m:t>
                            </m:r>
                            <m:r>
                              <m:t xml:space="preserve"> </m:t>
                            </m:r>
                            <m:r>
                              <m:t xml:space="preserve">−</m:t>
                            </m:r>
                            <m:r>
                              <m:t xml:space="preserve"> </m:t>
                            </m:r>
                            <m:r>
                              <m:t xml:space="preserve">φ</m:t>
                            </m:r>
                            <m:r>
                              <m:t xml:space="preserve"> </m:t>
                            </m:r>
                            <m:r>
                              <m:t xml:space="preserve">−</m:t>
                            </m:r>
                            <m:r>
                              <m:t xml:space="preserve"> </m:t>
                            </m:r>
                            <m:sSub>
                              <m:e>
                                <m:r>
                                  <m:t xml:space="preserve">V</m:t>
                                </m:r>
                              </m:e>
                              <m:sub>
                                <m:r>
                                  <m:rPr>
                                    <m:lit/>
                                    <m:nor/>
                                  </m:rPr>
                                  <m:t xml:space="preserve">sh</m:t>
                                </m:r>
                              </m:sub>
                            </m:sSub>
                          </m:e>
                        </m:d>
                        <m:r>
                          <m:t xml:space="preserve"> </m:t>
                        </m:r>
                        <m:sSub>
                          <m:e>
                            <m:r>
                              <m:t xml:space="preserve">φ</m:t>
                            </m:r>
                          </m:e>
                          <m:sub>
                            <m:r>
                              <m:rPr>
                                <m:lit/>
                                <m:nor/>
                              </m:rPr>
                              <m:t xml:space="preserve">Nma</m:t>
                            </m:r>
                          </m:sub>
                        </m:sSub>
                      </m:e>
                    </m:eqArr>
                  </m:oMath>
                </a14:m>
              </a:p>
            </p:txBody>
          </p:sp>
        </mc:Choice>
        <mc:Fallback/>
      </mc:AlternateContent>
      <p:grpSp>
        <p:nvGrpSpPr>
          <p:cNvPr id="712" name="Group 7"/>
          <p:cNvGrpSpPr/>
          <p:nvPr/>
        </p:nvGrpSpPr>
        <p:grpSpPr>
          <a:xfrm>
            <a:off x="0" y="4746600"/>
            <a:ext cx="9144000" cy="2376720"/>
            <a:chOff x="0" y="4746600"/>
            <a:chExt cx="9144000" cy="2376720"/>
          </a:xfrm>
        </p:grpSpPr>
        <p:sp>
          <p:nvSpPr>
            <p:cNvPr id="713" name="Text Box 5"/>
            <p:cNvSpPr/>
            <p:nvPr/>
          </p:nvSpPr>
          <p:spPr>
            <a:xfrm>
              <a:off x="0" y="4749840"/>
              <a:ext cx="4419720" cy="237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N</a:t>
              </a:r>
              <a:r>
                <a:rPr b="0" lang="en-US" sz="1400" spc="-1" strike="noStrike">
                  <a:solidFill>
                    <a:srgbClr val="000000"/>
                  </a:solidFill>
                  <a:latin typeface="Arial"/>
                </a:rPr>
                <a:t>	</a:t>
              </a:r>
              <a:r>
                <a:rPr b="0" lang="en-US" sz="1400" spc="-1" strike="noStrike">
                  <a:solidFill>
                    <a:srgbClr val="000000"/>
                  </a:solidFill>
                  <a:latin typeface="Arial"/>
                </a:rPr>
                <a:t>= Recorded parameter</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rPr>
                <a:t>S</a:t>
              </a:r>
              <a:r>
                <a:rPr b="0" lang="en-US" sz="1400" spc="-1" strike="noStrike" baseline="-25000">
                  <a:solidFill>
                    <a:srgbClr val="000000"/>
                  </a:solidFill>
                  <a:latin typeface="Arial"/>
                </a:rPr>
                <a:t>xo </a:t>
              </a:r>
              <a:r>
                <a:rPr b="0" lang="en-US" sz="1400" spc="-1" strike="noStrike">
                  <a:solidFill>
                    <a:srgbClr val="000000"/>
                  </a:solidFill>
                  <a:latin typeface="Symbol"/>
                  <a:ea typeface="Symbol"/>
                </a:rPr>
                <a:t></a:t>
              </a:r>
              <a:r>
                <a:rPr b="0" lang="en-US" sz="1400" spc="-1" strike="noStrike" baseline="-25000">
                  <a:solidFill>
                    <a:srgbClr val="000000"/>
                  </a:solidFill>
                  <a:latin typeface="Arial"/>
                </a:rPr>
                <a:t>Nmf</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Mud filtrate portion</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rPr>
                <a:t>(1 - S</a:t>
              </a:r>
              <a:r>
                <a:rPr b="0" lang="en-US" sz="1400" spc="-1" strike="noStrike" baseline="-25000">
                  <a:solidFill>
                    <a:srgbClr val="000000"/>
                  </a:solidFill>
                  <a:latin typeface="Arial"/>
                </a:rPr>
                <a:t>xo</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Nhc</a:t>
              </a:r>
              <a:r>
                <a:rPr b="0" lang="en-US" sz="1400" spc="-1" strike="noStrike">
                  <a:solidFill>
                    <a:srgbClr val="000000"/>
                  </a:solidFill>
                  <a:latin typeface="Arial"/>
                </a:rPr>
                <a:t> = Hydrocarbon portion</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r>
                <a:rPr b="0" lang="en-US" sz="1400" spc="-1" strike="noStrike" baseline="-25000">
                  <a:solidFill>
                    <a:srgbClr val="000000"/>
                  </a:solidFill>
                  <a:latin typeface="Arial"/>
                </a:rPr>
                <a:t>sh</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Nsh</a:t>
              </a:r>
              <a:r>
                <a:rPr b="0" lang="en-US" sz="1400" spc="-1" strike="noStrike">
                  <a:solidFill>
                    <a:srgbClr val="000000"/>
                  </a:solidFill>
                  <a:latin typeface="Arial"/>
                </a:rPr>
                <a:t>	</a:t>
              </a:r>
              <a:r>
                <a:rPr b="0" lang="en-US" sz="1400" spc="-1" strike="noStrike">
                  <a:solidFill>
                    <a:srgbClr val="000000"/>
                  </a:solidFill>
                  <a:latin typeface="Arial"/>
                </a:rPr>
                <a:t>= Shale portion</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 </a:t>
              </a:r>
              <a:r>
                <a:rPr b="0" lang="en-US" sz="1400" spc="-1" strike="noStrike">
                  <a:solidFill>
                    <a:srgbClr val="000000"/>
                  </a:solidFill>
                  <a:latin typeface="Symbol"/>
                  <a:ea typeface="Symbol"/>
                </a:rPr>
                <a:t></a:t>
              </a:r>
              <a:r>
                <a:rPr b="0" lang="en-US" sz="1400" spc="-1" strike="noStrike">
                  <a:solidFill>
                    <a:srgbClr val="000000"/>
                  </a:solidFill>
                  <a:latin typeface="Arial"/>
                </a:rPr>
                <a:t> - V</a:t>
              </a:r>
              <a:r>
                <a:rPr b="0" lang="en-US" sz="1400" spc="-1" strike="noStrike" baseline="-25000">
                  <a:solidFill>
                    <a:srgbClr val="000000"/>
                  </a:solidFill>
                  <a:latin typeface="Arial"/>
                </a:rPr>
                <a:t>sh</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Nhc </a:t>
              </a:r>
              <a:r>
                <a:rPr b="0" lang="en-US" sz="1400" spc="-1" strike="noStrike">
                  <a:solidFill>
                    <a:srgbClr val="000000"/>
                  </a:solidFill>
                  <a:latin typeface="Arial"/>
                </a:rPr>
                <a:t>= Matrix portion where </a:t>
              </a:r>
              <a:r>
                <a:rPr b="0" lang="en-US" sz="1400" spc="-1" strike="noStrike">
                  <a:solidFill>
                    <a:srgbClr val="000000"/>
                  </a:solidFill>
                  <a:latin typeface="Symbol"/>
                  <a:ea typeface="Symbol"/>
                </a:rPr>
                <a:t></a:t>
              </a:r>
              <a:r>
                <a:rPr b="0" lang="en-US" sz="1400" spc="-1" strike="noStrike">
                  <a:solidFill>
                    <a:srgbClr val="000000"/>
                  </a:solidFill>
                  <a:latin typeface="Arial"/>
                </a:rPr>
                <a:t> =  True porosity of rock</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N</a:t>
              </a:r>
              <a:r>
                <a:rPr b="0" lang="en-US" sz="1400" spc="-1" strike="noStrike">
                  <a:solidFill>
                    <a:srgbClr val="000000"/>
                  </a:solidFill>
                  <a:latin typeface="Arial"/>
                </a:rPr>
                <a:t> = Porosity from neutron log measurement, fraction</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4" name="Text Box 6"/>
            <p:cNvSpPr/>
            <p:nvPr/>
          </p:nvSpPr>
          <p:spPr>
            <a:xfrm>
              <a:off x="4419720" y="4746600"/>
              <a:ext cx="4724280" cy="2277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Nma</a:t>
              </a:r>
              <a:r>
                <a:rPr b="0" lang="en-US" sz="1400" spc="-1" strike="noStrike">
                  <a:solidFill>
                    <a:srgbClr val="000000"/>
                  </a:solidFill>
                  <a:latin typeface="Arial"/>
                </a:rPr>
                <a:t> =  Porosity of matrix fraction</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Nhc  </a:t>
              </a:r>
              <a:r>
                <a:rPr b="0" lang="en-US" sz="1400" spc="-1" strike="noStrike">
                  <a:solidFill>
                    <a:srgbClr val="000000"/>
                  </a:solidFill>
                  <a:latin typeface="Arial"/>
                </a:rPr>
                <a:t>=  Porosity of formation saturated with </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ydrocarbon fluid, fraction</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Nmf  </a:t>
              </a:r>
              <a:r>
                <a:rPr b="0" lang="en-US" sz="1400" spc="-1" strike="noStrike">
                  <a:solidFill>
                    <a:srgbClr val="000000"/>
                  </a:solidFill>
                  <a:latin typeface="Arial"/>
                </a:rPr>
                <a:t>= Porosity saturated with mud filtrate, fraction</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r>
                <a:rPr b="0" lang="en-US" sz="1400" spc="-1" strike="noStrike" baseline="-25000">
                  <a:solidFill>
                    <a:srgbClr val="000000"/>
                  </a:solidFill>
                  <a:latin typeface="Arial"/>
                </a:rPr>
                <a:t>sh  </a:t>
              </a:r>
              <a:r>
                <a:rPr b="0" lang="en-US" sz="1400" spc="-1" strike="noStrike">
                  <a:solidFill>
                    <a:srgbClr val="000000"/>
                  </a:solidFill>
                  <a:latin typeface="Arial"/>
                </a:rPr>
                <a:t>=  Volume of shale, fraction</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r>
                <a:rPr b="0" lang="en-US" sz="1400" spc="-1" strike="noStrike" baseline="-25000">
                  <a:solidFill>
                    <a:srgbClr val="000000"/>
                  </a:solidFill>
                  <a:latin typeface="Arial"/>
                </a:rPr>
                <a:t>xo  </a:t>
              </a:r>
              <a:r>
                <a:rPr b="0" lang="en-US" sz="1400" spc="-1" strike="noStrike">
                  <a:solidFill>
                    <a:srgbClr val="000000"/>
                  </a:solidFill>
                  <a:latin typeface="Arial"/>
                </a:rPr>
                <a:t>=  Mud filtrate saturation in zone invaded</a:t>
              </a:r>
              <a:br>
                <a:rPr sz="1400"/>
              </a:br>
              <a:r>
                <a:rPr b="0" lang="en-US" sz="1400" spc="-1" strike="noStrike">
                  <a:solidFill>
                    <a:srgbClr val="000000"/>
                  </a:solidFill>
                  <a:latin typeface="Arial"/>
                </a:rPr>
                <a:t>	</a:t>
              </a:r>
              <a:r>
                <a:rPr b="0" lang="en-US" sz="1400" spc="-1" strike="noStrike">
                  <a:solidFill>
                    <a:srgbClr val="000000"/>
                  </a:solidFill>
                  <a:latin typeface="Arial"/>
                </a:rPr>
                <a:t>by mud filtrate, fra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14" presetSubtype="5">
                                  <p:stCondLst>
                                    <p:cond delay="0"/>
                                  </p:stCondLst>
                                  <p:childTnLst>
                                    <p:set>
                                      <p:cBhvr>
                                        <p:cTn id="337" dur="1" fill="hold">
                                          <p:stCondLst>
                                            <p:cond delay="0"/>
                                          </p:stCondLst>
                                        </p:cTn>
                                        <p:tgtEl>
                                          <p:spTgt spid="709"/>
                                        </p:tgtEl>
                                        <p:attrNameLst>
                                          <p:attrName>style.visibility</p:attrName>
                                        </p:attrNameLst>
                                      </p:cBhvr>
                                      <p:to>
                                        <p:strVal val="visible"/>
                                      </p:to>
                                    </p:set>
                                    <p:animEffect filter="randombar(vertical)" transition="in">
                                      <p:cBhvr additive="repl">
                                        <p:cTn id="338" dur="500"/>
                                        <p:tgtEl>
                                          <p:spTgt spid="709"/>
                                        </p:tgtEl>
                                      </p:cBhvr>
                                    </p:animEffect>
                                  </p:childTnLst>
                                </p:cTn>
                              </p:par>
                            </p:childTnLst>
                          </p:cTn>
                        </p:par>
                        <p:par>
                          <p:cTn id="339" fill="hold">
                            <p:stCondLst>
                              <p:cond delay="500"/>
                            </p:stCondLst>
                            <p:childTnLst>
                              <p:par>
                                <p:cTn id="340" nodeType="afterEffect" fill="hold" presetClass="entr" presetID="18" presetSubtype="6">
                                  <p:stCondLst>
                                    <p:cond delay="0"/>
                                  </p:stCondLst>
                                  <p:childTnLst>
                                    <p:set>
                                      <p:cBhvr>
                                        <p:cTn id="341" dur="1" fill="hold">
                                          <p:stCondLst>
                                            <p:cond delay="0"/>
                                          </p:stCondLst>
                                        </p:cTn>
                                        <p:tgtEl>
                                          <p:spTgt spid="710">
                                            <p:txEl>
                                              <p:pRg st="0" end="0"/>
                                            </p:txEl>
                                          </p:spTgt>
                                        </p:tgtEl>
                                        <p:attrNameLst>
                                          <p:attrName>style.visibility</p:attrName>
                                        </p:attrNameLst>
                                      </p:cBhvr>
                                      <p:to>
                                        <p:strVal val="visible"/>
                                      </p:to>
                                    </p:set>
                                    <p:animEffect filter="strips(downRight)" transition="in">
                                      <p:cBhvr additive="repl">
                                        <p:cTn id="342" dur="500"/>
                                        <p:tgtEl>
                                          <p:spTgt spid="710">
                                            <p:txEl>
                                              <p:pRg st="0" end="0"/>
                                            </p:txEl>
                                          </p:spTgt>
                                        </p:tgtEl>
                                      </p:cBhvr>
                                    </p:animEffect>
                                  </p:childTnLst>
                                </p:cTn>
                              </p:par>
                            </p:childTnLst>
                          </p:cTn>
                        </p:par>
                        <p:par>
                          <p:cTn id="343" fill="hold">
                            <p:stCondLst>
                              <p:cond delay="1000"/>
                            </p:stCondLst>
                            <p:childTnLst>
                              <p:par>
                                <p:cTn id="344" nodeType="afterEffect" fill="hold" presetClass="entr" presetID="18" presetSubtype="6">
                                  <p:stCondLst>
                                    <p:cond delay="0"/>
                                  </p:stCondLst>
                                  <p:childTnLst>
                                    <p:set>
                                      <p:cBhvr>
                                        <p:cTn id="345" dur="1" fill="hold">
                                          <p:stCondLst>
                                            <p:cond delay="0"/>
                                          </p:stCondLst>
                                        </p:cTn>
                                        <p:tgtEl>
                                          <p:spTgt spid="711"/>
                                        </p:tgtEl>
                                        <p:attrNameLst>
                                          <p:attrName>style.visibility</p:attrName>
                                        </p:attrNameLst>
                                      </p:cBhvr>
                                      <p:to>
                                        <p:strVal val="visible"/>
                                      </p:to>
                                    </p:set>
                                    <p:animEffect filter="strips(downRight)" transition="in">
                                      <p:cBhvr additive="repl">
                                        <p:cTn id="346" dur="500"/>
                                        <p:tgtEl>
                                          <p:spTgt spid="7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5" name="Group 2"/>
          <p:cNvGrpSpPr/>
          <p:nvPr/>
        </p:nvGrpSpPr>
        <p:grpSpPr>
          <a:xfrm>
            <a:off x="465120" y="1143000"/>
            <a:ext cx="5116680" cy="5410080"/>
            <a:chOff x="465120" y="1143000"/>
            <a:chExt cx="5116680" cy="5410080"/>
          </a:xfrm>
        </p:grpSpPr>
        <p:grpSp>
          <p:nvGrpSpPr>
            <p:cNvPr id="716" name="Group 3"/>
            <p:cNvGrpSpPr/>
            <p:nvPr/>
          </p:nvGrpSpPr>
          <p:grpSpPr>
            <a:xfrm>
              <a:off x="465120" y="1143000"/>
              <a:ext cx="5116680" cy="5410080"/>
              <a:chOff x="465120" y="1143000"/>
              <a:chExt cx="5116680" cy="5410080"/>
            </a:xfrm>
          </p:grpSpPr>
          <p:sp>
            <p:nvSpPr>
              <p:cNvPr id="717" name="Rectangle 4"/>
              <p:cNvSpPr/>
              <p:nvPr/>
            </p:nvSpPr>
            <p:spPr>
              <a:xfrm>
                <a:off x="552600" y="1263600"/>
                <a:ext cx="5029200" cy="863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Rectangle 5"/>
              <p:cNvSpPr/>
              <p:nvPr/>
            </p:nvSpPr>
            <p:spPr>
              <a:xfrm>
                <a:off x="552600" y="1263600"/>
                <a:ext cx="5029200" cy="863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Rectangle 6"/>
              <p:cNvSpPr/>
              <p:nvPr/>
            </p:nvSpPr>
            <p:spPr>
              <a:xfrm>
                <a:off x="465120" y="1263600"/>
                <a:ext cx="5116680" cy="8636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Rectangle 7"/>
              <p:cNvSpPr/>
              <p:nvPr/>
            </p:nvSpPr>
            <p:spPr>
              <a:xfrm>
                <a:off x="465120" y="2127240"/>
                <a:ext cx="5116680" cy="44258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Line 8"/>
              <p:cNvSpPr/>
              <p:nvPr/>
            </p:nvSpPr>
            <p:spPr>
              <a:xfrm>
                <a:off x="990720" y="139860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Line 9"/>
              <p:cNvSpPr/>
              <p:nvPr/>
            </p:nvSpPr>
            <p:spPr>
              <a:xfrm>
                <a:off x="990720" y="1400040"/>
                <a:ext cx="912600" cy="3240"/>
              </a:xfrm>
              <a:prstGeom prst="line">
                <a:avLst/>
              </a:prstGeom>
              <a:ln w="0">
                <a:solidFill>
                  <a:srgbClr val="0000ff"/>
                </a:solidFill>
                <a:prstDash val="sysDash"/>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3" name="Line 10"/>
              <p:cNvSpPr/>
              <p:nvPr/>
            </p:nvSpPr>
            <p:spPr>
              <a:xfrm>
                <a:off x="990720" y="140508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4" name="Line 11"/>
              <p:cNvSpPr/>
              <p:nvPr/>
            </p:nvSpPr>
            <p:spPr>
              <a:xfrm>
                <a:off x="990720" y="140652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5" name="Line 12"/>
              <p:cNvSpPr/>
              <p:nvPr/>
            </p:nvSpPr>
            <p:spPr>
              <a:xfrm>
                <a:off x="990720" y="140976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6" name="Line 13"/>
              <p:cNvSpPr/>
              <p:nvPr/>
            </p:nvSpPr>
            <p:spPr>
              <a:xfrm>
                <a:off x="990720" y="1411200"/>
                <a:ext cx="912600" cy="1800"/>
              </a:xfrm>
              <a:prstGeom prst="line">
                <a:avLst/>
              </a:prstGeom>
              <a:ln w="0">
                <a:solidFill>
                  <a:srgbClr val="0000ff"/>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7" name="Rectangle 14"/>
              <p:cNvSpPr/>
              <p:nvPr/>
            </p:nvSpPr>
            <p:spPr>
              <a:xfrm>
                <a:off x="1318680" y="128916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GRC</a:t>
                </a:r>
                <a:endParaRPr b="0" lang="en-US" sz="1000" spc="-1" strike="noStrike">
                  <a:solidFill>
                    <a:srgbClr val="000000"/>
                  </a:solidFill>
                  <a:latin typeface="Times New Roman"/>
                </a:endParaRPr>
              </a:p>
            </p:txBody>
          </p:sp>
          <p:sp>
            <p:nvSpPr>
              <p:cNvPr id="728" name="Rectangle 15"/>
              <p:cNvSpPr/>
              <p:nvPr/>
            </p:nvSpPr>
            <p:spPr>
              <a:xfrm>
                <a:off x="993240" y="1406520"/>
                <a:ext cx="77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a:t>
                </a:r>
                <a:endParaRPr b="0" lang="en-US" sz="1000" spc="-1" strike="noStrike">
                  <a:solidFill>
                    <a:srgbClr val="000000"/>
                  </a:solidFill>
                  <a:latin typeface="Times New Roman"/>
                </a:endParaRPr>
              </a:p>
            </p:txBody>
          </p:sp>
          <p:sp>
            <p:nvSpPr>
              <p:cNvPr id="729" name="Rectangle 16"/>
              <p:cNvSpPr/>
              <p:nvPr/>
            </p:nvSpPr>
            <p:spPr>
              <a:xfrm>
                <a:off x="164412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50</a:t>
                </a:r>
                <a:endParaRPr b="0" lang="en-US" sz="1000" spc="-1" strike="noStrike">
                  <a:solidFill>
                    <a:srgbClr val="000000"/>
                  </a:solidFill>
                  <a:latin typeface="Times New Roman"/>
                </a:endParaRPr>
              </a:p>
            </p:txBody>
          </p:sp>
          <p:sp>
            <p:nvSpPr>
              <p:cNvPr id="730" name="Rectangle 17"/>
              <p:cNvSpPr/>
              <p:nvPr/>
            </p:nvSpPr>
            <p:spPr>
              <a:xfrm>
                <a:off x="95256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Line 18"/>
              <p:cNvSpPr/>
              <p:nvPr/>
            </p:nvSpPr>
            <p:spPr>
              <a:xfrm>
                <a:off x="990720" y="1693800"/>
                <a:ext cx="912600" cy="1800"/>
              </a:xfrm>
              <a:prstGeom prst="line">
                <a:avLst/>
              </a:prstGeom>
              <a:ln w="3816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2" name="Rectangle 19"/>
              <p:cNvSpPr/>
              <p:nvPr/>
            </p:nvSpPr>
            <p:spPr>
              <a:xfrm>
                <a:off x="1318680" y="15778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PC</a:t>
                </a:r>
                <a:endParaRPr b="0" lang="en-US" sz="1000" spc="-1" strike="noStrike">
                  <a:solidFill>
                    <a:srgbClr val="000000"/>
                  </a:solidFill>
                  <a:latin typeface="Times New Roman"/>
                </a:endParaRPr>
              </a:p>
            </p:txBody>
          </p:sp>
          <p:sp>
            <p:nvSpPr>
              <p:cNvPr id="733" name="Rectangle 20"/>
              <p:cNvSpPr/>
              <p:nvPr/>
            </p:nvSpPr>
            <p:spPr>
              <a:xfrm>
                <a:off x="1350720" y="169380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V</a:t>
                </a:r>
                <a:endParaRPr b="0" lang="en-US" sz="1000" spc="-1" strike="noStrike">
                  <a:solidFill>
                    <a:srgbClr val="000000"/>
                  </a:solidFill>
                  <a:latin typeface="Times New Roman"/>
                </a:endParaRPr>
              </a:p>
            </p:txBody>
          </p:sp>
          <p:sp>
            <p:nvSpPr>
              <p:cNvPr id="734" name="Rectangle 21"/>
              <p:cNvSpPr/>
              <p:nvPr/>
            </p:nvSpPr>
            <p:spPr>
              <a:xfrm>
                <a:off x="993240" y="169380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60</a:t>
                </a:r>
                <a:endParaRPr b="0" lang="en-US" sz="1000" spc="-1" strike="noStrike">
                  <a:solidFill>
                    <a:srgbClr val="000000"/>
                  </a:solidFill>
                  <a:latin typeface="Times New Roman"/>
                </a:endParaRPr>
              </a:p>
            </p:txBody>
          </p:sp>
          <p:sp>
            <p:nvSpPr>
              <p:cNvPr id="735" name="Rectangle 22"/>
              <p:cNvSpPr/>
              <p:nvPr/>
            </p:nvSpPr>
            <p:spPr>
              <a:xfrm>
                <a:off x="1709640" y="169380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40</a:t>
                </a:r>
                <a:endParaRPr b="0" lang="en-US" sz="1000" spc="-1" strike="noStrike">
                  <a:solidFill>
                    <a:srgbClr val="000000"/>
                  </a:solidFill>
                  <a:latin typeface="Times New Roman"/>
                </a:endParaRPr>
              </a:p>
            </p:txBody>
          </p:sp>
          <p:sp>
            <p:nvSpPr>
              <p:cNvPr id="736" name="Rectangle 23"/>
              <p:cNvSpPr/>
              <p:nvPr/>
            </p:nvSpPr>
            <p:spPr>
              <a:xfrm>
                <a:off x="952560" y="157968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Line 24"/>
              <p:cNvSpPr/>
              <p:nvPr/>
            </p:nvSpPr>
            <p:spPr>
              <a:xfrm>
                <a:off x="990720" y="197496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8" name="Line 25"/>
              <p:cNvSpPr/>
              <p:nvPr/>
            </p:nvSpPr>
            <p:spPr>
              <a:xfrm>
                <a:off x="990720" y="197640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9" name="Line 26"/>
              <p:cNvSpPr/>
              <p:nvPr/>
            </p:nvSpPr>
            <p:spPr>
              <a:xfrm>
                <a:off x="990720" y="197964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Line 27"/>
              <p:cNvSpPr/>
              <p:nvPr/>
            </p:nvSpPr>
            <p:spPr>
              <a:xfrm>
                <a:off x="990720" y="198108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1" name="Line 28"/>
              <p:cNvSpPr/>
              <p:nvPr/>
            </p:nvSpPr>
            <p:spPr>
              <a:xfrm>
                <a:off x="990720" y="198432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2" name="Line 29"/>
              <p:cNvSpPr/>
              <p:nvPr/>
            </p:nvSpPr>
            <p:spPr>
              <a:xfrm>
                <a:off x="990720" y="198612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3" name="Rectangle 30"/>
              <p:cNvSpPr/>
              <p:nvPr/>
            </p:nvSpPr>
            <p:spPr>
              <a:xfrm>
                <a:off x="1287000" y="18637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CAL</a:t>
                </a:r>
                <a:endParaRPr b="0" lang="en-US" sz="1000" spc="-1" strike="noStrike">
                  <a:solidFill>
                    <a:srgbClr val="000000"/>
                  </a:solidFill>
                  <a:latin typeface="Times New Roman"/>
                </a:endParaRPr>
              </a:p>
            </p:txBody>
          </p:sp>
          <p:sp>
            <p:nvSpPr>
              <p:cNvPr id="744" name="Rectangle 31"/>
              <p:cNvSpPr/>
              <p:nvPr/>
            </p:nvSpPr>
            <p:spPr>
              <a:xfrm>
                <a:off x="993240" y="1981080"/>
                <a:ext cx="77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6</a:t>
                </a:r>
                <a:endParaRPr b="0" lang="en-US" sz="1000" spc="-1" strike="noStrike">
                  <a:solidFill>
                    <a:srgbClr val="000000"/>
                  </a:solidFill>
                  <a:latin typeface="Times New Roman"/>
                </a:endParaRPr>
              </a:p>
            </p:txBody>
          </p:sp>
          <p:sp>
            <p:nvSpPr>
              <p:cNvPr id="745" name="Rectangle 32"/>
              <p:cNvSpPr/>
              <p:nvPr/>
            </p:nvSpPr>
            <p:spPr>
              <a:xfrm>
                <a:off x="1709640" y="198108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6</a:t>
                </a:r>
                <a:endParaRPr b="0" lang="en-US" sz="1000" spc="-1" strike="noStrike">
                  <a:solidFill>
                    <a:srgbClr val="000000"/>
                  </a:solidFill>
                  <a:latin typeface="Times New Roman"/>
                </a:endParaRPr>
              </a:p>
            </p:txBody>
          </p:sp>
          <p:sp>
            <p:nvSpPr>
              <p:cNvPr id="746" name="Rectangle 33"/>
              <p:cNvSpPr/>
              <p:nvPr/>
            </p:nvSpPr>
            <p:spPr>
              <a:xfrm>
                <a:off x="952560" y="1866960"/>
                <a:ext cx="993600" cy="230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Line 34"/>
              <p:cNvSpPr/>
              <p:nvPr/>
            </p:nvSpPr>
            <p:spPr>
              <a:xfrm>
                <a:off x="2068560" y="139860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8" name="Line 35"/>
              <p:cNvSpPr/>
              <p:nvPr/>
            </p:nvSpPr>
            <p:spPr>
              <a:xfrm>
                <a:off x="2068560" y="1400040"/>
                <a:ext cx="1271520" cy="3240"/>
              </a:xfrm>
              <a:prstGeom prst="line">
                <a:avLst/>
              </a:prstGeom>
              <a:ln w="0">
                <a:solidFill>
                  <a:srgbClr val="008000"/>
                </a:solidFill>
                <a:prstDash val="sysDash"/>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9" name="Line 36"/>
              <p:cNvSpPr/>
              <p:nvPr/>
            </p:nvSpPr>
            <p:spPr>
              <a:xfrm>
                <a:off x="2068560" y="140508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0" name="Line 37"/>
              <p:cNvSpPr/>
              <p:nvPr/>
            </p:nvSpPr>
            <p:spPr>
              <a:xfrm>
                <a:off x="2068560" y="140652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1" name="Line 38"/>
              <p:cNvSpPr/>
              <p:nvPr/>
            </p:nvSpPr>
            <p:spPr>
              <a:xfrm>
                <a:off x="2068560" y="140976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2" name="Line 39"/>
              <p:cNvSpPr/>
              <p:nvPr/>
            </p:nvSpPr>
            <p:spPr>
              <a:xfrm>
                <a:off x="2068560" y="1411200"/>
                <a:ext cx="1271520" cy="1800"/>
              </a:xfrm>
              <a:prstGeom prst="line">
                <a:avLst/>
              </a:prstGeom>
              <a:ln w="0">
                <a:solidFill>
                  <a:srgbClr val="008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3" name="Rectangle 40"/>
              <p:cNvSpPr/>
              <p:nvPr/>
            </p:nvSpPr>
            <p:spPr>
              <a:xfrm>
                <a:off x="2542680" y="128916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LDC</a:t>
                </a:r>
                <a:endParaRPr b="0" lang="en-US" sz="1000" spc="-1" strike="noStrike">
                  <a:solidFill>
                    <a:srgbClr val="000000"/>
                  </a:solidFill>
                  <a:latin typeface="Times New Roman"/>
                </a:endParaRPr>
              </a:p>
            </p:txBody>
          </p:sp>
          <p:sp>
            <p:nvSpPr>
              <p:cNvPr id="754" name="Rectangle 41"/>
              <p:cNvSpPr/>
              <p:nvPr/>
            </p:nvSpPr>
            <p:spPr>
              <a:xfrm>
                <a:off x="207288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755" name="Rectangle 42"/>
              <p:cNvSpPr/>
              <p:nvPr/>
            </p:nvSpPr>
            <p:spPr>
              <a:xfrm>
                <a:off x="308088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756" name="Rectangle 43"/>
              <p:cNvSpPr/>
              <p:nvPr/>
            </p:nvSpPr>
            <p:spPr>
              <a:xfrm>
                <a:off x="2028960" y="1292400"/>
                <a:ext cx="135396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Line 44"/>
              <p:cNvSpPr/>
              <p:nvPr/>
            </p:nvSpPr>
            <p:spPr>
              <a:xfrm>
                <a:off x="2068560" y="168588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8" name="Line 45"/>
              <p:cNvSpPr/>
              <p:nvPr/>
            </p:nvSpPr>
            <p:spPr>
              <a:xfrm>
                <a:off x="2068560" y="168912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9" name="Line 46"/>
              <p:cNvSpPr/>
              <p:nvPr/>
            </p:nvSpPr>
            <p:spPr>
              <a:xfrm>
                <a:off x="2068560" y="169056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0" name="Line 47"/>
              <p:cNvSpPr/>
              <p:nvPr/>
            </p:nvSpPr>
            <p:spPr>
              <a:xfrm>
                <a:off x="2068560" y="169380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1" name="Line 48"/>
              <p:cNvSpPr/>
              <p:nvPr/>
            </p:nvSpPr>
            <p:spPr>
              <a:xfrm>
                <a:off x="2068560" y="169560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2" name="Line 49"/>
              <p:cNvSpPr/>
              <p:nvPr/>
            </p:nvSpPr>
            <p:spPr>
              <a:xfrm>
                <a:off x="2068560" y="170028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3" name="Rectangle 50"/>
              <p:cNvSpPr/>
              <p:nvPr/>
            </p:nvSpPr>
            <p:spPr>
              <a:xfrm>
                <a:off x="2574720" y="15778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NC</a:t>
                </a:r>
                <a:endParaRPr b="0" lang="en-US" sz="1000" spc="-1" strike="noStrike">
                  <a:solidFill>
                    <a:srgbClr val="000000"/>
                  </a:solidFill>
                  <a:latin typeface="Times New Roman"/>
                </a:endParaRPr>
              </a:p>
            </p:txBody>
          </p:sp>
          <p:sp>
            <p:nvSpPr>
              <p:cNvPr id="764" name="Rectangle 51"/>
              <p:cNvSpPr/>
              <p:nvPr/>
            </p:nvSpPr>
            <p:spPr>
              <a:xfrm>
                <a:off x="2072880" y="169380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765" name="Rectangle 52"/>
              <p:cNvSpPr/>
              <p:nvPr/>
            </p:nvSpPr>
            <p:spPr>
              <a:xfrm>
                <a:off x="3080880" y="169380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766" name="Rectangle 53"/>
              <p:cNvSpPr/>
              <p:nvPr/>
            </p:nvSpPr>
            <p:spPr>
              <a:xfrm>
                <a:off x="2028960" y="1579680"/>
                <a:ext cx="135396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Line 54"/>
              <p:cNvSpPr/>
              <p:nvPr/>
            </p:nvSpPr>
            <p:spPr>
              <a:xfrm>
                <a:off x="2068560" y="1981080"/>
                <a:ext cx="127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8" name="Rectangle 55"/>
              <p:cNvSpPr/>
              <p:nvPr/>
            </p:nvSpPr>
            <p:spPr>
              <a:xfrm>
                <a:off x="2512800" y="186372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LLCF</a:t>
                </a:r>
                <a:endParaRPr b="0" lang="en-US" sz="1000" spc="-1" strike="noStrike">
                  <a:solidFill>
                    <a:srgbClr val="000000"/>
                  </a:solidFill>
                  <a:latin typeface="Times New Roman"/>
                </a:endParaRPr>
              </a:p>
            </p:txBody>
          </p:sp>
          <p:sp>
            <p:nvSpPr>
              <p:cNvPr id="769" name="Rectangle 56"/>
              <p:cNvSpPr/>
              <p:nvPr/>
            </p:nvSpPr>
            <p:spPr>
              <a:xfrm>
                <a:off x="2072880" y="19810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770" name="Rectangle 57"/>
              <p:cNvSpPr/>
              <p:nvPr/>
            </p:nvSpPr>
            <p:spPr>
              <a:xfrm>
                <a:off x="3080880" y="19810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771" name="Rectangle 58"/>
              <p:cNvSpPr/>
              <p:nvPr/>
            </p:nvSpPr>
            <p:spPr>
              <a:xfrm>
                <a:off x="2028960" y="1866960"/>
                <a:ext cx="1353960" cy="230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Line 59"/>
              <p:cNvSpPr/>
              <p:nvPr/>
            </p:nvSpPr>
            <p:spPr>
              <a:xfrm>
                <a:off x="3505320" y="1406520"/>
                <a:ext cx="912600" cy="1440"/>
              </a:xfrm>
              <a:prstGeom prst="line">
                <a:avLst/>
              </a:prstGeom>
              <a:ln w="0">
                <a:solidFill>
                  <a:srgbClr val="008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3" name="Rectangle 60"/>
              <p:cNvSpPr/>
              <p:nvPr/>
            </p:nvSpPr>
            <p:spPr>
              <a:xfrm>
                <a:off x="3800160" y="128916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RHOC</a:t>
                </a:r>
                <a:endParaRPr b="0" lang="en-US" sz="1000" spc="-1" strike="noStrike">
                  <a:solidFill>
                    <a:srgbClr val="000000"/>
                  </a:solidFill>
                  <a:latin typeface="Times New Roman"/>
                </a:endParaRPr>
              </a:p>
            </p:txBody>
          </p:sp>
          <p:sp>
            <p:nvSpPr>
              <p:cNvPr id="774" name="Rectangle 61"/>
              <p:cNvSpPr/>
              <p:nvPr/>
            </p:nvSpPr>
            <p:spPr>
              <a:xfrm>
                <a:off x="350784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95</a:t>
                </a:r>
                <a:endParaRPr b="0" lang="en-US" sz="1000" spc="-1" strike="noStrike">
                  <a:solidFill>
                    <a:srgbClr val="000000"/>
                  </a:solidFill>
                  <a:latin typeface="Times New Roman"/>
                </a:endParaRPr>
              </a:p>
            </p:txBody>
          </p:sp>
          <p:sp>
            <p:nvSpPr>
              <p:cNvPr id="775" name="Rectangle 62"/>
              <p:cNvSpPr/>
              <p:nvPr/>
            </p:nvSpPr>
            <p:spPr>
              <a:xfrm>
                <a:off x="409536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95</a:t>
                </a:r>
                <a:endParaRPr b="0" lang="en-US" sz="1000" spc="-1" strike="noStrike">
                  <a:solidFill>
                    <a:srgbClr val="000000"/>
                  </a:solidFill>
                  <a:latin typeface="Times New Roman"/>
                </a:endParaRPr>
              </a:p>
            </p:txBody>
          </p:sp>
          <p:sp>
            <p:nvSpPr>
              <p:cNvPr id="776" name="Rectangle 63"/>
              <p:cNvSpPr/>
              <p:nvPr/>
            </p:nvSpPr>
            <p:spPr>
              <a:xfrm>
                <a:off x="346716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Line 64"/>
              <p:cNvSpPr/>
              <p:nvPr/>
            </p:nvSpPr>
            <p:spPr>
              <a:xfrm>
                <a:off x="3505320" y="168588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8" name="Line 65"/>
              <p:cNvSpPr/>
              <p:nvPr/>
            </p:nvSpPr>
            <p:spPr>
              <a:xfrm>
                <a:off x="3505320" y="168912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9" name="Line 66"/>
              <p:cNvSpPr/>
              <p:nvPr/>
            </p:nvSpPr>
            <p:spPr>
              <a:xfrm>
                <a:off x="3505320" y="169056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0" name="Line 67"/>
              <p:cNvSpPr/>
              <p:nvPr/>
            </p:nvSpPr>
            <p:spPr>
              <a:xfrm>
                <a:off x="3505320" y="169380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1" name="Line 68"/>
              <p:cNvSpPr/>
              <p:nvPr/>
            </p:nvSpPr>
            <p:spPr>
              <a:xfrm>
                <a:off x="3505320" y="169560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2" name="Line 69"/>
              <p:cNvSpPr/>
              <p:nvPr/>
            </p:nvSpPr>
            <p:spPr>
              <a:xfrm>
                <a:off x="3505320" y="170028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3" name="Rectangle 70"/>
              <p:cNvSpPr/>
              <p:nvPr/>
            </p:nvSpPr>
            <p:spPr>
              <a:xfrm>
                <a:off x="3769920" y="157788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CNLLC</a:t>
                </a:r>
                <a:endParaRPr b="0" lang="en-US" sz="1000" spc="-1" strike="noStrike">
                  <a:solidFill>
                    <a:srgbClr val="000000"/>
                  </a:solidFill>
                  <a:latin typeface="Times New Roman"/>
                </a:endParaRPr>
              </a:p>
            </p:txBody>
          </p:sp>
          <p:sp>
            <p:nvSpPr>
              <p:cNvPr id="784" name="Rectangle 71"/>
              <p:cNvSpPr/>
              <p:nvPr/>
            </p:nvSpPr>
            <p:spPr>
              <a:xfrm>
                <a:off x="3507840" y="169380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45</a:t>
                </a:r>
                <a:endParaRPr b="0" lang="en-US" sz="1000" spc="-1" strike="noStrike">
                  <a:solidFill>
                    <a:srgbClr val="000000"/>
                  </a:solidFill>
                  <a:latin typeface="Times New Roman"/>
                </a:endParaRPr>
              </a:p>
            </p:txBody>
          </p:sp>
          <p:sp>
            <p:nvSpPr>
              <p:cNvPr id="785" name="Rectangle 72"/>
              <p:cNvSpPr/>
              <p:nvPr/>
            </p:nvSpPr>
            <p:spPr>
              <a:xfrm>
                <a:off x="4033440" y="169380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15</a:t>
                </a:r>
                <a:endParaRPr b="0" lang="en-US" sz="1000" spc="-1" strike="noStrike">
                  <a:solidFill>
                    <a:srgbClr val="000000"/>
                  </a:solidFill>
                  <a:latin typeface="Times New Roman"/>
                </a:endParaRPr>
              </a:p>
            </p:txBody>
          </p:sp>
          <p:sp>
            <p:nvSpPr>
              <p:cNvPr id="786" name="Rectangle 73"/>
              <p:cNvSpPr/>
              <p:nvPr/>
            </p:nvSpPr>
            <p:spPr>
              <a:xfrm>
                <a:off x="3467160" y="157968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Line 74"/>
              <p:cNvSpPr/>
              <p:nvPr/>
            </p:nvSpPr>
            <p:spPr>
              <a:xfrm>
                <a:off x="4583160" y="1406520"/>
                <a:ext cx="9126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8" name="Rectangle 75"/>
              <p:cNvSpPr/>
              <p:nvPr/>
            </p:nvSpPr>
            <p:spPr>
              <a:xfrm>
                <a:off x="4941720" y="128916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T</a:t>
                </a:r>
                <a:endParaRPr b="0" lang="en-US" sz="1000" spc="-1" strike="noStrike">
                  <a:solidFill>
                    <a:srgbClr val="000000"/>
                  </a:solidFill>
                  <a:latin typeface="Times New Roman"/>
                </a:endParaRPr>
              </a:p>
            </p:txBody>
          </p:sp>
          <p:sp>
            <p:nvSpPr>
              <p:cNvPr id="789" name="Rectangle 76"/>
              <p:cNvSpPr/>
              <p:nvPr/>
            </p:nvSpPr>
            <p:spPr>
              <a:xfrm>
                <a:off x="487800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us/f</a:t>
                </a:r>
                <a:endParaRPr b="0" lang="en-US" sz="1000" spc="-1" strike="noStrike">
                  <a:solidFill>
                    <a:srgbClr val="000000"/>
                  </a:solidFill>
                  <a:latin typeface="Times New Roman"/>
                </a:endParaRPr>
              </a:p>
            </p:txBody>
          </p:sp>
          <p:sp>
            <p:nvSpPr>
              <p:cNvPr id="790" name="Rectangle 77"/>
              <p:cNvSpPr/>
              <p:nvPr/>
            </p:nvSpPr>
            <p:spPr>
              <a:xfrm>
                <a:off x="458604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50</a:t>
                </a:r>
                <a:endParaRPr b="0" lang="en-US" sz="1000" spc="-1" strike="noStrike">
                  <a:solidFill>
                    <a:srgbClr val="000000"/>
                  </a:solidFill>
                  <a:latin typeface="Times New Roman"/>
                </a:endParaRPr>
              </a:p>
            </p:txBody>
          </p:sp>
          <p:sp>
            <p:nvSpPr>
              <p:cNvPr id="791" name="Rectangle 78"/>
              <p:cNvSpPr/>
              <p:nvPr/>
            </p:nvSpPr>
            <p:spPr>
              <a:xfrm>
                <a:off x="5300280" y="140652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50</a:t>
                </a:r>
                <a:endParaRPr b="0" lang="en-US" sz="1000" spc="-1" strike="noStrike">
                  <a:solidFill>
                    <a:srgbClr val="000000"/>
                  </a:solidFill>
                  <a:latin typeface="Times New Roman"/>
                </a:endParaRPr>
              </a:p>
            </p:txBody>
          </p:sp>
          <p:sp>
            <p:nvSpPr>
              <p:cNvPr id="792" name="Rectangle 79"/>
              <p:cNvSpPr/>
              <p:nvPr/>
            </p:nvSpPr>
            <p:spPr>
              <a:xfrm>
                <a:off x="454356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Rectangle 80"/>
              <p:cNvSpPr/>
              <p:nvPr/>
            </p:nvSpPr>
            <p:spPr>
              <a:xfrm>
                <a:off x="491760" y="1143000"/>
                <a:ext cx="1067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01) BONANZA 1</a:t>
                </a:r>
                <a:endParaRPr b="0" lang="en-US" sz="1000" spc="-1" strike="noStrike">
                  <a:solidFill>
                    <a:srgbClr val="000000"/>
                  </a:solidFill>
                  <a:latin typeface="Times New Roman"/>
                </a:endParaRPr>
              </a:p>
            </p:txBody>
          </p:sp>
          <p:sp>
            <p:nvSpPr>
              <p:cNvPr id="794" name="Line 81"/>
              <p:cNvSpPr/>
              <p:nvPr/>
            </p:nvSpPr>
            <p:spPr>
              <a:xfrm>
                <a:off x="9111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5" name="Line 82"/>
              <p:cNvSpPr/>
              <p:nvPr/>
            </p:nvSpPr>
            <p:spPr>
              <a:xfrm>
                <a:off x="911160" y="243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6" name="Line 83"/>
              <p:cNvSpPr/>
              <p:nvPr/>
            </p:nvSpPr>
            <p:spPr>
              <a:xfrm>
                <a:off x="911160" y="25844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7" name="Line 84"/>
              <p:cNvSpPr/>
              <p:nvPr/>
            </p:nvSpPr>
            <p:spPr>
              <a:xfrm>
                <a:off x="911160" y="273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8" name="Line 85"/>
              <p:cNvSpPr/>
              <p:nvPr/>
            </p:nvSpPr>
            <p:spPr>
              <a:xfrm>
                <a:off x="911160" y="28908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9" name="Line 86"/>
              <p:cNvSpPr/>
              <p:nvPr/>
            </p:nvSpPr>
            <p:spPr>
              <a:xfrm>
                <a:off x="9111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0" name="Line 87"/>
              <p:cNvSpPr/>
              <p:nvPr/>
            </p:nvSpPr>
            <p:spPr>
              <a:xfrm>
                <a:off x="911160" y="31939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1" name="Line 88"/>
              <p:cNvSpPr/>
              <p:nvPr/>
            </p:nvSpPr>
            <p:spPr>
              <a:xfrm>
                <a:off x="911160" y="33465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2" name="Line 89"/>
              <p:cNvSpPr/>
              <p:nvPr/>
            </p:nvSpPr>
            <p:spPr>
              <a:xfrm>
                <a:off x="911160" y="34988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Line 90"/>
              <p:cNvSpPr/>
              <p:nvPr/>
            </p:nvSpPr>
            <p:spPr>
              <a:xfrm>
                <a:off x="911160" y="36529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4" name="Line 91"/>
              <p:cNvSpPr/>
              <p:nvPr/>
            </p:nvSpPr>
            <p:spPr>
              <a:xfrm>
                <a:off x="9111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5" name="Line 92"/>
              <p:cNvSpPr/>
              <p:nvPr/>
            </p:nvSpPr>
            <p:spPr>
              <a:xfrm>
                <a:off x="911160" y="395748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6" name="Line 93"/>
              <p:cNvSpPr/>
              <p:nvPr/>
            </p:nvSpPr>
            <p:spPr>
              <a:xfrm>
                <a:off x="911160" y="41101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7" name="Line 94"/>
              <p:cNvSpPr/>
              <p:nvPr/>
            </p:nvSpPr>
            <p:spPr>
              <a:xfrm>
                <a:off x="911160" y="42624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8" name="Line 95"/>
              <p:cNvSpPr/>
              <p:nvPr/>
            </p:nvSpPr>
            <p:spPr>
              <a:xfrm>
                <a:off x="911160" y="441468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9" name="Line 96"/>
              <p:cNvSpPr/>
              <p:nvPr/>
            </p:nvSpPr>
            <p:spPr>
              <a:xfrm>
                <a:off x="9111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0" name="Line 97"/>
              <p:cNvSpPr/>
              <p:nvPr/>
            </p:nvSpPr>
            <p:spPr>
              <a:xfrm>
                <a:off x="911160" y="47214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1" name="Line 98"/>
              <p:cNvSpPr/>
              <p:nvPr/>
            </p:nvSpPr>
            <p:spPr>
              <a:xfrm>
                <a:off x="911160" y="487368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Line 99"/>
              <p:cNvSpPr/>
              <p:nvPr/>
            </p:nvSpPr>
            <p:spPr>
              <a:xfrm>
                <a:off x="911160" y="50259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3" name="Line 100"/>
              <p:cNvSpPr/>
              <p:nvPr/>
            </p:nvSpPr>
            <p:spPr>
              <a:xfrm>
                <a:off x="911160" y="51786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4" name="Line 101"/>
              <p:cNvSpPr/>
              <p:nvPr/>
            </p:nvSpPr>
            <p:spPr>
              <a:xfrm>
                <a:off x="9111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5" name="Line 102"/>
              <p:cNvSpPr/>
              <p:nvPr/>
            </p:nvSpPr>
            <p:spPr>
              <a:xfrm>
                <a:off x="911160" y="54849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6" name="Line 103"/>
              <p:cNvSpPr/>
              <p:nvPr/>
            </p:nvSpPr>
            <p:spPr>
              <a:xfrm>
                <a:off x="911160" y="56372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7" name="Line 104"/>
              <p:cNvSpPr/>
              <p:nvPr/>
            </p:nvSpPr>
            <p:spPr>
              <a:xfrm>
                <a:off x="911160" y="578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8" name="Line 105"/>
              <p:cNvSpPr/>
              <p:nvPr/>
            </p:nvSpPr>
            <p:spPr>
              <a:xfrm>
                <a:off x="911160" y="594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9" name="Line 106"/>
              <p:cNvSpPr/>
              <p:nvPr/>
            </p:nvSpPr>
            <p:spPr>
              <a:xfrm>
                <a:off x="9111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0" name="Line 107"/>
              <p:cNvSpPr/>
              <p:nvPr/>
            </p:nvSpPr>
            <p:spPr>
              <a:xfrm>
                <a:off x="911160" y="624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Line 108"/>
              <p:cNvSpPr/>
              <p:nvPr/>
            </p:nvSpPr>
            <p:spPr>
              <a:xfrm>
                <a:off x="911160" y="64008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2" name="Line 109"/>
              <p:cNvSpPr/>
              <p:nvPr/>
            </p:nvSpPr>
            <p:spPr>
              <a:xfrm>
                <a:off x="9111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3" name="Line 110"/>
              <p:cNvSpPr/>
              <p:nvPr/>
            </p:nvSpPr>
            <p:spPr>
              <a:xfrm>
                <a:off x="9111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4" name="Line 111"/>
              <p:cNvSpPr/>
              <p:nvPr/>
            </p:nvSpPr>
            <p:spPr>
              <a:xfrm>
                <a:off x="9111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5" name="Line 112"/>
              <p:cNvSpPr/>
              <p:nvPr/>
            </p:nvSpPr>
            <p:spPr>
              <a:xfrm>
                <a:off x="9111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6" name="Line 113"/>
              <p:cNvSpPr/>
              <p:nvPr/>
            </p:nvSpPr>
            <p:spPr>
              <a:xfrm>
                <a:off x="9111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7" name="Line 114"/>
              <p:cNvSpPr/>
              <p:nvPr/>
            </p:nvSpPr>
            <p:spPr>
              <a:xfrm>
                <a:off x="9111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8" name="Line 115"/>
              <p:cNvSpPr/>
              <p:nvPr/>
            </p:nvSpPr>
            <p:spPr>
              <a:xfrm>
                <a:off x="9111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9" name="Line 116"/>
              <p:cNvSpPr/>
              <p:nvPr/>
            </p:nvSpPr>
            <p:spPr>
              <a:xfrm>
                <a:off x="9111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0" name="Line 117"/>
              <p:cNvSpPr/>
              <p:nvPr/>
            </p:nvSpPr>
            <p:spPr>
              <a:xfrm>
                <a:off x="9111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1" name="Line 118"/>
              <p:cNvSpPr/>
              <p:nvPr/>
            </p:nvSpPr>
            <p:spPr>
              <a:xfrm>
                <a:off x="199080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2" name="Line 119"/>
              <p:cNvSpPr/>
              <p:nvPr/>
            </p:nvSpPr>
            <p:spPr>
              <a:xfrm>
                <a:off x="1990800" y="24321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3" name="Line 120"/>
              <p:cNvSpPr/>
              <p:nvPr/>
            </p:nvSpPr>
            <p:spPr>
              <a:xfrm>
                <a:off x="1990800" y="25844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4" name="Line 121"/>
              <p:cNvSpPr/>
              <p:nvPr/>
            </p:nvSpPr>
            <p:spPr>
              <a:xfrm>
                <a:off x="1990800" y="27385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5" name="Line 122"/>
              <p:cNvSpPr/>
              <p:nvPr/>
            </p:nvSpPr>
            <p:spPr>
              <a:xfrm>
                <a:off x="1990800" y="28908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6" name="Line 123"/>
              <p:cNvSpPr/>
              <p:nvPr/>
            </p:nvSpPr>
            <p:spPr>
              <a:xfrm>
                <a:off x="1990800" y="30416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7" name="Line 124"/>
              <p:cNvSpPr/>
              <p:nvPr/>
            </p:nvSpPr>
            <p:spPr>
              <a:xfrm>
                <a:off x="1990800" y="31939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8" name="Line 125"/>
              <p:cNvSpPr/>
              <p:nvPr/>
            </p:nvSpPr>
            <p:spPr>
              <a:xfrm>
                <a:off x="1990800" y="33465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Line 126"/>
              <p:cNvSpPr/>
              <p:nvPr/>
            </p:nvSpPr>
            <p:spPr>
              <a:xfrm>
                <a:off x="1990800" y="34988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0" name="Line 127"/>
              <p:cNvSpPr/>
              <p:nvPr/>
            </p:nvSpPr>
            <p:spPr>
              <a:xfrm>
                <a:off x="1990800" y="36529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1" name="Line 128"/>
              <p:cNvSpPr/>
              <p:nvPr/>
            </p:nvSpPr>
            <p:spPr>
              <a:xfrm>
                <a:off x="199080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2" name="Line 129"/>
              <p:cNvSpPr/>
              <p:nvPr/>
            </p:nvSpPr>
            <p:spPr>
              <a:xfrm>
                <a:off x="1990800" y="395748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3" name="Line 130"/>
              <p:cNvSpPr/>
              <p:nvPr/>
            </p:nvSpPr>
            <p:spPr>
              <a:xfrm>
                <a:off x="1990800" y="41101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4" name="Line 131"/>
              <p:cNvSpPr/>
              <p:nvPr/>
            </p:nvSpPr>
            <p:spPr>
              <a:xfrm>
                <a:off x="1990800" y="42624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5" name="Line 132"/>
              <p:cNvSpPr/>
              <p:nvPr/>
            </p:nvSpPr>
            <p:spPr>
              <a:xfrm>
                <a:off x="1990800" y="441468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6" name="Line 133"/>
              <p:cNvSpPr/>
              <p:nvPr/>
            </p:nvSpPr>
            <p:spPr>
              <a:xfrm>
                <a:off x="1990800" y="45687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7" name="Line 134"/>
              <p:cNvSpPr/>
              <p:nvPr/>
            </p:nvSpPr>
            <p:spPr>
              <a:xfrm>
                <a:off x="1990800" y="47214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Line 135"/>
              <p:cNvSpPr/>
              <p:nvPr/>
            </p:nvSpPr>
            <p:spPr>
              <a:xfrm>
                <a:off x="1990800" y="487368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9" name="Line 136"/>
              <p:cNvSpPr/>
              <p:nvPr/>
            </p:nvSpPr>
            <p:spPr>
              <a:xfrm>
                <a:off x="1990800" y="50259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0" name="Line 137"/>
              <p:cNvSpPr/>
              <p:nvPr/>
            </p:nvSpPr>
            <p:spPr>
              <a:xfrm>
                <a:off x="1990800" y="51786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1" name="Line 138"/>
              <p:cNvSpPr/>
              <p:nvPr/>
            </p:nvSpPr>
            <p:spPr>
              <a:xfrm>
                <a:off x="199080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2" name="Line 139"/>
              <p:cNvSpPr/>
              <p:nvPr/>
            </p:nvSpPr>
            <p:spPr>
              <a:xfrm>
                <a:off x="1990800" y="54849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3" name="Line 140"/>
              <p:cNvSpPr/>
              <p:nvPr/>
            </p:nvSpPr>
            <p:spPr>
              <a:xfrm>
                <a:off x="1990800" y="56372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4" name="Line 141"/>
              <p:cNvSpPr/>
              <p:nvPr/>
            </p:nvSpPr>
            <p:spPr>
              <a:xfrm>
                <a:off x="1990800" y="578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5" name="Line 142"/>
              <p:cNvSpPr/>
              <p:nvPr/>
            </p:nvSpPr>
            <p:spPr>
              <a:xfrm>
                <a:off x="1990800" y="59421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6" name="Line 143"/>
              <p:cNvSpPr/>
              <p:nvPr/>
            </p:nvSpPr>
            <p:spPr>
              <a:xfrm>
                <a:off x="1990800" y="609444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7" name="Line 144"/>
              <p:cNvSpPr/>
              <p:nvPr/>
            </p:nvSpPr>
            <p:spPr>
              <a:xfrm>
                <a:off x="1990800" y="62485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Line 145"/>
              <p:cNvSpPr/>
              <p:nvPr/>
            </p:nvSpPr>
            <p:spPr>
              <a:xfrm>
                <a:off x="1990800" y="64008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9" name="Line 146"/>
              <p:cNvSpPr/>
              <p:nvPr/>
            </p:nvSpPr>
            <p:spPr>
              <a:xfrm>
                <a:off x="199080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0" name="Line 147"/>
              <p:cNvSpPr/>
              <p:nvPr/>
            </p:nvSpPr>
            <p:spPr>
              <a:xfrm>
                <a:off x="1990800" y="30416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1" name="Line 148"/>
              <p:cNvSpPr/>
              <p:nvPr/>
            </p:nvSpPr>
            <p:spPr>
              <a:xfrm>
                <a:off x="199080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2" name="Line 149"/>
              <p:cNvSpPr/>
              <p:nvPr/>
            </p:nvSpPr>
            <p:spPr>
              <a:xfrm>
                <a:off x="1990800" y="45687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3" name="Line 150"/>
              <p:cNvSpPr/>
              <p:nvPr/>
            </p:nvSpPr>
            <p:spPr>
              <a:xfrm>
                <a:off x="199080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4" name="Line 151"/>
              <p:cNvSpPr/>
              <p:nvPr/>
            </p:nvSpPr>
            <p:spPr>
              <a:xfrm>
                <a:off x="1990800" y="609444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5" name="Line 152"/>
              <p:cNvSpPr/>
              <p:nvPr/>
            </p:nvSpPr>
            <p:spPr>
              <a:xfrm>
                <a:off x="199080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6" name="Line 153"/>
              <p:cNvSpPr/>
              <p:nvPr/>
            </p:nvSpPr>
            <p:spPr>
              <a:xfrm>
                <a:off x="199080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7" name="Line 154"/>
              <p:cNvSpPr/>
              <p:nvPr/>
            </p:nvSpPr>
            <p:spPr>
              <a:xfrm>
                <a:off x="199080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8" name="Line 155"/>
              <p:cNvSpPr/>
              <p:nvPr/>
            </p:nvSpPr>
            <p:spPr>
              <a:xfrm>
                <a:off x="34257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9" name="Line 156"/>
              <p:cNvSpPr/>
              <p:nvPr/>
            </p:nvSpPr>
            <p:spPr>
              <a:xfrm>
                <a:off x="3425760" y="243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0" name="Line 157"/>
              <p:cNvSpPr/>
              <p:nvPr/>
            </p:nvSpPr>
            <p:spPr>
              <a:xfrm>
                <a:off x="3425760" y="25844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1" name="Line 158"/>
              <p:cNvSpPr/>
              <p:nvPr/>
            </p:nvSpPr>
            <p:spPr>
              <a:xfrm>
                <a:off x="3425760" y="273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2" name="Line 159"/>
              <p:cNvSpPr/>
              <p:nvPr/>
            </p:nvSpPr>
            <p:spPr>
              <a:xfrm>
                <a:off x="3425760" y="28908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3" name="Line 160"/>
              <p:cNvSpPr/>
              <p:nvPr/>
            </p:nvSpPr>
            <p:spPr>
              <a:xfrm>
                <a:off x="34257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4" name="Line 161"/>
              <p:cNvSpPr/>
              <p:nvPr/>
            </p:nvSpPr>
            <p:spPr>
              <a:xfrm>
                <a:off x="3425760" y="31939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5" name="Line 162"/>
              <p:cNvSpPr/>
              <p:nvPr/>
            </p:nvSpPr>
            <p:spPr>
              <a:xfrm>
                <a:off x="3425760" y="33465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6" name="Line 163"/>
              <p:cNvSpPr/>
              <p:nvPr/>
            </p:nvSpPr>
            <p:spPr>
              <a:xfrm>
                <a:off x="3425760" y="34988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7" name="Line 164"/>
              <p:cNvSpPr/>
              <p:nvPr/>
            </p:nvSpPr>
            <p:spPr>
              <a:xfrm>
                <a:off x="3425760" y="36529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8" name="Line 165"/>
              <p:cNvSpPr/>
              <p:nvPr/>
            </p:nvSpPr>
            <p:spPr>
              <a:xfrm>
                <a:off x="34257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9" name="Line 166"/>
              <p:cNvSpPr/>
              <p:nvPr/>
            </p:nvSpPr>
            <p:spPr>
              <a:xfrm>
                <a:off x="3425760" y="395748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0" name="Line 167"/>
              <p:cNvSpPr/>
              <p:nvPr/>
            </p:nvSpPr>
            <p:spPr>
              <a:xfrm>
                <a:off x="3425760" y="41101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1" name="Line 168"/>
              <p:cNvSpPr/>
              <p:nvPr/>
            </p:nvSpPr>
            <p:spPr>
              <a:xfrm>
                <a:off x="3425760" y="42624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2" name="Line 169"/>
              <p:cNvSpPr/>
              <p:nvPr/>
            </p:nvSpPr>
            <p:spPr>
              <a:xfrm>
                <a:off x="3425760" y="441468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3" name="Line 170"/>
              <p:cNvSpPr/>
              <p:nvPr/>
            </p:nvSpPr>
            <p:spPr>
              <a:xfrm>
                <a:off x="34257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4" name="Line 171"/>
              <p:cNvSpPr/>
              <p:nvPr/>
            </p:nvSpPr>
            <p:spPr>
              <a:xfrm>
                <a:off x="3425760" y="47214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5" name="Line 172"/>
              <p:cNvSpPr/>
              <p:nvPr/>
            </p:nvSpPr>
            <p:spPr>
              <a:xfrm>
                <a:off x="3425760" y="487368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6" name="Line 173"/>
              <p:cNvSpPr/>
              <p:nvPr/>
            </p:nvSpPr>
            <p:spPr>
              <a:xfrm>
                <a:off x="3425760" y="50259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7" name="Line 174"/>
              <p:cNvSpPr/>
              <p:nvPr/>
            </p:nvSpPr>
            <p:spPr>
              <a:xfrm>
                <a:off x="3425760" y="51786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8" name="Line 175"/>
              <p:cNvSpPr/>
              <p:nvPr/>
            </p:nvSpPr>
            <p:spPr>
              <a:xfrm>
                <a:off x="34257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9" name="Line 176"/>
              <p:cNvSpPr/>
              <p:nvPr/>
            </p:nvSpPr>
            <p:spPr>
              <a:xfrm>
                <a:off x="3425760" y="54849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0" name="Line 177"/>
              <p:cNvSpPr/>
              <p:nvPr/>
            </p:nvSpPr>
            <p:spPr>
              <a:xfrm>
                <a:off x="3425760" y="56372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1" name="Line 178"/>
              <p:cNvSpPr/>
              <p:nvPr/>
            </p:nvSpPr>
            <p:spPr>
              <a:xfrm>
                <a:off x="3425760" y="578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2" name="Line 179"/>
              <p:cNvSpPr/>
              <p:nvPr/>
            </p:nvSpPr>
            <p:spPr>
              <a:xfrm>
                <a:off x="3425760" y="594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Line 180"/>
              <p:cNvSpPr/>
              <p:nvPr/>
            </p:nvSpPr>
            <p:spPr>
              <a:xfrm>
                <a:off x="34257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4" name="Line 181"/>
              <p:cNvSpPr/>
              <p:nvPr/>
            </p:nvSpPr>
            <p:spPr>
              <a:xfrm>
                <a:off x="3425760" y="624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5" name="Line 182"/>
              <p:cNvSpPr/>
              <p:nvPr/>
            </p:nvSpPr>
            <p:spPr>
              <a:xfrm>
                <a:off x="3425760" y="64008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6" name="Line 183"/>
              <p:cNvSpPr/>
              <p:nvPr/>
            </p:nvSpPr>
            <p:spPr>
              <a:xfrm>
                <a:off x="34257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7" name="Line 184"/>
              <p:cNvSpPr/>
              <p:nvPr/>
            </p:nvSpPr>
            <p:spPr>
              <a:xfrm>
                <a:off x="34257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8" name="Line 185"/>
              <p:cNvSpPr/>
              <p:nvPr/>
            </p:nvSpPr>
            <p:spPr>
              <a:xfrm>
                <a:off x="34257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9" name="Line 186"/>
              <p:cNvSpPr/>
              <p:nvPr/>
            </p:nvSpPr>
            <p:spPr>
              <a:xfrm>
                <a:off x="34257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0" name="Line 187"/>
              <p:cNvSpPr/>
              <p:nvPr/>
            </p:nvSpPr>
            <p:spPr>
              <a:xfrm>
                <a:off x="34257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1" name="Line 188"/>
              <p:cNvSpPr/>
              <p:nvPr/>
            </p:nvSpPr>
            <p:spPr>
              <a:xfrm>
                <a:off x="34257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2" name="Line 189"/>
              <p:cNvSpPr/>
              <p:nvPr/>
            </p:nvSpPr>
            <p:spPr>
              <a:xfrm>
                <a:off x="34257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3" name="Line 190"/>
              <p:cNvSpPr/>
              <p:nvPr/>
            </p:nvSpPr>
            <p:spPr>
              <a:xfrm>
                <a:off x="34257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4" name="Line 191"/>
              <p:cNvSpPr/>
              <p:nvPr/>
            </p:nvSpPr>
            <p:spPr>
              <a:xfrm>
                <a:off x="34257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5" name="Line 192"/>
              <p:cNvSpPr/>
              <p:nvPr/>
            </p:nvSpPr>
            <p:spPr>
              <a:xfrm>
                <a:off x="4505400" y="22795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6" name="Line 193"/>
              <p:cNvSpPr/>
              <p:nvPr/>
            </p:nvSpPr>
            <p:spPr>
              <a:xfrm>
                <a:off x="4505400" y="24321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7" name="Line 194"/>
              <p:cNvSpPr/>
              <p:nvPr/>
            </p:nvSpPr>
            <p:spPr>
              <a:xfrm>
                <a:off x="4505400" y="25844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8" name="Line 195"/>
              <p:cNvSpPr/>
              <p:nvPr/>
            </p:nvSpPr>
            <p:spPr>
              <a:xfrm>
                <a:off x="4505400" y="27385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9" name="Line 196"/>
              <p:cNvSpPr/>
              <p:nvPr/>
            </p:nvSpPr>
            <p:spPr>
              <a:xfrm>
                <a:off x="4505400" y="28908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0" name="Line 197"/>
              <p:cNvSpPr/>
              <p:nvPr/>
            </p:nvSpPr>
            <p:spPr>
              <a:xfrm>
                <a:off x="4505400" y="30416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Line 198"/>
              <p:cNvSpPr/>
              <p:nvPr/>
            </p:nvSpPr>
            <p:spPr>
              <a:xfrm>
                <a:off x="4505400" y="31939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2" name="Line 199"/>
              <p:cNvSpPr/>
              <p:nvPr/>
            </p:nvSpPr>
            <p:spPr>
              <a:xfrm>
                <a:off x="4505400" y="33465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3" name="Line 200"/>
              <p:cNvSpPr/>
              <p:nvPr/>
            </p:nvSpPr>
            <p:spPr>
              <a:xfrm>
                <a:off x="4505400" y="34988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4" name="Line 201"/>
              <p:cNvSpPr/>
              <p:nvPr/>
            </p:nvSpPr>
            <p:spPr>
              <a:xfrm>
                <a:off x="4505400" y="36529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5" name="Line 202"/>
              <p:cNvSpPr/>
              <p:nvPr/>
            </p:nvSpPr>
            <p:spPr>
              <a:xfrm>
                <a:off x="4505400" y="38052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6" name="Line 203"/>
              <p:cNvSpPr/>
              <p:nvPr/>
            </p:nvSpPr>
            <p:spPr>
              <a:xfrm>
                <a:off x="4505400" y="395748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7" name="Line 204"/>
              <p:cNvSpPr/>
              <p:nvPr/>
            </p:nvSpPr>
            <p:spPr>
              <a:xfrm>
                <a:off x="4505400" y="41101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8" name="Line 205"/>
              <p:cNvSpPr/>
              <p:nvPr/>
            </p:nvSpPr>
            <p:spPr>
              <a:xfrm>
                <a:off x="4505400" y="42624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9" name="Line 206"/>
              <p:cNvSpPr/>
              <p:nvPr/>
            </p:nvSpPr>
            <p:spPr>
              <a:xfrm>
                <a:off x="4505400" y="4414680"/>
                <a:ext cx="1076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0" name="Line 207"/>
              <p:cNvSpPr/>
              <p:nvPr/>
            </p:nvSpPr>
            <p:spPr>
              <a:xfrm>
                <a:off x="4505400" y="456876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1" name="Line 208"/>
              <p:cNvSpPr/>
              <p:nvPr/>
            </p:nvSpPr>
            <p:spPr>
              <a:xfrm>
                <a:off x="4505400" y="47214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2" name="Line 209"/>
              <p:cNvSpPr/>
              <p:nvPr/>
            </p:nvSpPr>
            <p:spPr>
              <a:xfrm>
                <a:off x="4505400" y="487368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3" name="Line 210"/>
              <p:cNvSpPr/>
              <p:nvPr/>
            </p:nvSpPr>
            <p:spPr>
              <a:xfrm>
                <a:off x="4505400" y="502596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4" name="Line 211"/>
              <p:cNvSpPr/>
              <p:nvPr/>
            </p:nvSpPr>
            <p:spPr>
              <a:xfrm>
                <a:off x="4505400" y="51786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5" name="Line 212"/>
              <p:cNvSpPr/>
              <p:nvPr/>
            </p:nvSpPr>
            <p:spPr>
              <a:xfrm>
                <a:off x="4505400" y="53323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6" name="Line 213"/>
              <p:cNvSpPr/>
              <p:nvPr/>
            </p:nvSpPr>
            <p:spPr>
              <a:xfrm>
                <a:off x="4505400" y="54849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7" name="Line 214"/>
              <p:cNvSpPr/>
              <p:nvPr/>
            </p:nvSpPr>
            <p:spPr>
              <a:xfrm>
                <a:off x="4505400" y="56372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8" name="Line 215"/>
              <p:cNvSpPr/>
              <p:nvPr/>
            </p:nvSpPr>
            <p:spPr>
              <a:xfrm>
                <a:off x="4505400" y="57895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9" name="Line 216"/>
              <p:cNvSpPr/>
              <p:nvPr/>
            </p:nvSpPr>
            <p:spPr>
              <a:xfrm>
                <a:off x="4505400" y="59421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0" name="Line 217"/>
              <p:cNvSpPr/>
              <p:nvPr/>
            </p:nvSpPr>
            <p:spPr>
              <a:xfrm>
                <a:off x="4505400" y="6094440"/>
                <a:ext cx="1076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1" name="Line 218"/>
              <p:cNvSpPr/>
              <p:nvPr/>
            </p:nvSpPr>
            <p:spPr>
              <a:xfrm>
                <a:off x="4505400" y="62485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2" name="Line 219"/>
              <p:cNvSpPr/>
              <p:nvPr/>
            </p:nvSpPr>
            <p:spPr>
              <a:xfrm>
                <a:off x="4505400" y="64008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3" name="Line 220"/>
              <p:cNvSpPr/>
              <p:nvPr/>
            </p:nvSpPr>
            <p:spPr>
              <a:xfrm>
                <a:off x="4505400" y="227952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4" name="Line 221"/>
              <p:cNvSpPr/>
              <p:nvPr/>
            </p:nvSpPr>
            <p:spPr>
              <a:xfrm>
                <a:off x="4505400" y="3041640"/>
                <a:ext cx="1076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5" name="Line 222"/>
              <p:cNvSpPr/>
              <p:nvPr/>
            </p:nvSpPr>
            <p:spPr>
              <a:xfrm>
                <a:off x="4505400" y="380520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6" name="Line 223"/>
              <p:cNvSpPr/>
              <p:nvPr/>
            </p:nvSpPr>
            <p:spPr>
              <a:xfrm>
                <a:off x="4505400" y="456876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7" name="Line 224"/>
              <p:cNvSpPr/>
              <p:nvPr/>
            </p:nvSpPr>
            <p:spPr>
              <a:xfrm>
                <a:off x="4505400" y="533232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8" name="Line 225"/>
              <p:cNvSpPr/>
              <p:nvPr/>
            </p:nvSpPr>
            <p:spPr>
              <a:xfrm>
                <a:off x="4505400" y="6094440"/>
                <a:ext cx="10764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9" name="Line 226"/>
              <p:cNvSpPr/>
              <p:nvPr/>
            </p:nvSpPr>
            <p:spPr>
              <a:xfrm>
                <a:off x="907920" y="2279520"/>
                <a:ext cx="467388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0" name="Line 227"/>
              <p:cNvSpPr/>
              <p:nvPr/>
            </p:nvSpPr>
            <p:spPr>
              <a:xfrm>
                <a:off x="911160" y="3803760"/>
                <a:ext cx="4670640" cy="3240"/>
              </a:xfrm>
              <a:prstGeom prst="line">
                <a:avLst/>
              </a:prstGeom>
              <a:ln w="205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1" name="Line 228"/>
              <p:cNvSpPr/>
              <p:nvPr/>
            </p:nvSpPr>
            <p:spPr>
              <a:xfrm>
                <a:off x="911160" y="5327640"/>
                <a:ext cx="4670640" cy="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Line 229"/>
              <p:cNvSpPr/>
              <p:nvPr/>
            </p:nvSpPr>
            <p:spPr>
              <a:xfrm>
                <a:off x="9111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Line 230"/>
              <p:cNvSpPr/>
              <p:nvPr/>
            </p:nvSpPr>
            <p:spPr>
              <a:xfrm>
                <a:off x="19908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Line 231"/>
              <p:cNvSpPr/>
              <p:nvPr/>
            </p:nvSpPr>
            <p:spPr>
              <a:xfrm>
                <a:off x="11286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Line 232"/>
              <p:cNvSpPr/>
              <p:nvPr/>
            </p:nvSpPr>
            <p:spPr>
              <a:xfrm>
                <a:off x="13431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Line 233"/>
              <p:cNvSpPr/>
              <p:nvPr/>
            </p:nvSpPr>
            <p:spPr>
              <a:xfrm>
                <a:off x="15588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Line 234"/>
              <p:cNvSpPr/>
              <p:nvPr/>
            </p:nvSpPr>
            <p:spPr>
              <a:xfrm>
                <a:off x="1773360" y="2127240"/>
                <a:ext cx="288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Line 235"/>
              <p:cNvSpPr/>
              <p:nvPr/>
            </p:nvSpPr>
            <p:spPr>
              <a:xfrm>
                <a:off x="19908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Line 236"/>
              <p:cNvSpPr/>
              <p:nvPr/>
            </p:nvSpPr>
            <p:spPr>
              <a:xfrm>
                <a:off x="3425760" y="2127240"/>
                <a:ext cx="180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Line 237"/>
              <p:cNvSpPr/>
              <p:nvPr/>
            </p:nvSpPr>
            <p:spPr>
              <a:xfrm>
                <a:off x="1990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Line 238"/>
              <p:cNvSpPr/>
              <p:nvPr/>
            </p:nvSpPr>
            <p:spPr>
              <a:xfrm>
                <a:off x="20732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Line 239"/>
              <p:cNvSpPr/>
              <p:nvPr/>
            </p:nvSpPr>
            <p:spPr>
              <a:xfrm>
                <a:off x="21337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Line 240"/>
              <p:cNvSpPr/>
              <p:nvPr/>
            </p:nvSpPr>
            <p:spPr>
              <a:xfrm>
                <a:off x="2179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Line 241"/>
              <p:cNvSpPr/>
              <p:nvPr/>
            </p:nvSpPr>
            <p:spPr>
              <a:xfrm>
                <a:off x="2216160" y="2127240"/>
                <a:ext cx="32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Line 242"/>
              <p:cNvSpPr/>
              <p:nvPr/>
            </p:nvSpPr>
            <p:spPr>
              <a:xfrm>
                <a:off x="22496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Line 243"/>
              <p:cNvSpPr/>
              <p:nvPr/>
            </p:nvSpPr>
            <p:spPr>
              <a:xfrm>
                <a:off x="22780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Line 244"/>
              <p:cNvSpPr/>
              <p:nvPr/>
            </p:nvSpPr>
            <p:spPr>
              <a:xfrm>
                <a:off x="23018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Line 245"/>
              <p:cNvSpPr/>
              <p:nvPr/>
            </p:nvSpPr>
            <p:spPr>
              <a:xfrm>
                <a:off x="23241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Line 246"/>
              <p:cNvSpPr/>
              <p:nvPr/>
            </p:nvSpPr>
            <p:spPr>
              <a:xfrm>
                <a:off x="24670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Line 247"/>
              <p:cNvSpPr/>
              <p:nvPr/>
            </p:nvSpPr>
            <p:spPr>
              <a:xfrm>
                <a:off x="25495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Line 248"/>
              <p:cNvSpPr/>
              <p:nvPr/>
            </p:nvSpPr>
            <p:spPr>
              <a:xfrm>
                <a:off x="26114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Line 249"/>
              <p:cNvSpPr/>
              <p:nvPr/>
            </p:nvSpPr>
            <p:spPr>
              <a:xfrm>
                <a:off x="2657520" y="2127240"/>
                <a:ext cx="32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Line 250"/>
              <p:cNvSpPr/>
              <p:nvPr/>
            </p:nvSpPr>
            <p:spPr>
              <a:xfrm>
                <a:off x="26938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Line 251"/>
              <p:cNvSpPr/>
              <p:nvPr/>
            </p:nvSpPr>
            <p:spPr>
              <a:xfrm>
                <a:off x="27255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Line 252"/>
              <p:cNvSpPr/>
              <p:nvPr/>
            </p:nvSpPr>
            <p:spPr>
              <a:xfrm>
                <a:off x="27543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Line 253"/>
              <p:cNvSpPr/>
              <p:nvPr/>
            </p:nvSpPr>
            <p:spPr>
              <a:xfrm>
                <a:off x="27795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Line 254"/>
              <p:cNvSpPr/>
              <p:nvPr/>
            </p:nvSpPr>
            <p:spPr>
              <a:xfrm>
                <a:off x="28018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Line 255"/>
              <p:cNvSpPr/>
              <p:nvPr/>
            </p:nvSpPr>
            <p:spPr>
              <a:xfrm>
                <a:off x="29462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Line 256"/>
              <p:cNvSpPr/>
              <p:nvPr/>
            </p:nvSpPr>
            <p:spPr>
              <a:xfrm>
                <a:off x="30322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Line 257"/>
              <p:cNvSpPr/>
              <p:nvPr/>
            </p:nvSpPr>
            <p:spPr>
              <a:xfrm>
                <a:off x="30891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Line 258"/>
              <p:cNvSpPr/>
              <p:nvPr/>
            </p:nvSpPr>
            <p:spPr>
              <a:xfrm>
                <a:off x="31352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Line 259"/>
              <p:cNvSpPr/>
              <p:nvPr/>
            </p:nvSpPr>
            <p:spPr>
              <a:xfrm>
                <a:off x="31748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Line 260"/>
              <p:cNvSpPr/>
              <p:nvPr/>
            </p:nvSpPr>
            <p:spPr>
              <a:xfrm>
                <a:off x="32083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Line 261"/>
              <p:cNvSpPr/>
              <p:nvPr/>
            </p:nvSpPr>
            <p:spPr>
              <a:xfrm>
                <a:off x="32338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Line 262"/>
              <p:cNvSpPr/>
              <p:nvPr/>
            </p:nvSpPr>
            <p:spPr>
              <a:xfrm>
                <a:off x="32590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Line 263"/>
              <p:cNvSpPr/>
              <p:nvPr/>
            </p:nvSpPr>
            <p:spPr>
              <a:xfrm>
                <a:off x="32781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Line 264"/>
              <p:cNvSpPr/>
              <p:nvPr/>
            </p:nvSpPr>
            <p:spPr>
              <a:xfrm>
                <a:off x="3425760" y="2127240"/>
                <a:ext cx="180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Line 265"/>
              <p:cNvSpPr/>
              <p:nvPr/>
            </p:nvSpPr>
            <p:spPr>
              <a:xfrm>
                <a:off x="45054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Line 266"/>
              <p:cNvSpPr/>
              <p:nvPr/>
            </p:nvSpPr>
            <p:spPr>
              <a:xfrm>
                <a:off x="35337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Line 267"/>
              <p:cNvSpPr/>
              <p:nvPr/>
            </p:nvSpPr>
            <p:spPr>
              <a:xfrm>
                <a:off x="36417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Line 268"/>
              <p:cNvSpPr/>
              <p:nvPr/>
            </p:nvSpPr>
            <p:spPr>
              <a:xfrm>
                <a:off x="37512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Line 269"/>
              <p:cNvSpPr/>
              <p:nvPr/>
            </p:nvSpPr>
            <p:spPr>
              <a:xfrm>
                <a:off x="38577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Line 270"/>
              <p:cNvSpPr/>
              <p:nvPr/>
            </p:nvSpPr>
            <p:spPr>
              <a:xfrm>
                <a:off x="3965400" y="2127240"/>
                <a:ext cx="1800" cy="4425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Line 271"/>
              <p:cNvSpPr/>
              <p:nvPr/>
            </p:nvSpPr>
            <p:spPr>
              <a:xfrm>
                <a:off x="40734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Line 272"/>
              <p:cNvSpPr/>
              <p:nvPr/>
            </p:nvSpPr>
            <p:spPr>
              <a:xfrm>
                <a:off x="41799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Line 273"/>
              <p:cNvSpPr/>
              <p:nvPr/>
            </p:nvSpPr>
            <p:spPr>
              <a:xfrm>
                <a:off x="42879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Line 274"/>
              <p:cNvSpPr/>
              <p:nvPr/>
            </p:nvSpPr>
            <p:spPr>
              <a:xfrm>
                <a:off x="43956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Line 275"/>
              <p:cNvSpPr/>
              <p:nvPr/>
            </p:nvSpPr>
            <p:spPr>
              <a:xfrm>
                <a:off x="45054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Line 276"/>
              <p:cNvSpPr/>
              <p:nvPr/>
            </p:nvSpPr>
            <p:spPr>
              <a:xfrm>
                <a:off x="46116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Line 277"/>
              <p:cNvSpPr/>
              <p:nvPr/>
            </p:nvSpPr>
            <p:spPr>
              <a:xfrm>
                <a:off x="47196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Line 278"/>
              <p:cNvSpPr/>
              <p:nvPr/>
            </p:nvSpPr>
            <p:spPr>
              <a:xfrm>
                <a:off x="48276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Line 279"/>
              <p:cNvSpPr/>
              <p:nvPr/>
            </p:nvSpPr>
            <p:spPr>
              <a:xfrm>
                <a:off x="49356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Line 280"/>
              <p:cNvSpPr/>
              <p:nvPr/>
            </p:nvSpPr>
            <p:spPr>
              <a:xfrm>
                <a:off x="5041800" y="2127240"/>
                <a:ext cx="1800" cy="4425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Line 281"/>
              <p:cNvSpPr/>
              <p:nvPr/>
            </p:nvSpPr>
            <p:spPr>
              <a:xfrm>
                <a:off x="51498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Line 282"/>
              <p:cNvSpPr/>
              <p:nvPr/>
            </p:nvSpPr>
            <p:spPr>
              <a:xfrm>
                <a:off x="52592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Line 283"/>
              <p:cNvSpPr/>
              <p:nvPr/>
            </p:nvSpPr>
            <p:spPr>
              <a:xfrm>
                <a:off x="5365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Line 284"/>
              <p:cNvSpPr/>
              <p:nvPr/>
            </p:nvSpPr>
            <p:spPr>
              <a:xfrm>
                <a:off x="5473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Rectangle 285"/>
              <p:cNvSpPr/>
              <p:nvPr/>
            </p:nvSpPr>
            <p:spPr>
              <a:xfrm>
                <a:off x="491760" y="222552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700</a:t>
                </a:r>
                <a:endParaRPr b="0" lang="en-US" sz="1000" spc="-1" strike="noStrike">
                  <a:solidFill>
                    <a:srgbClr val="000000"/>
                  </a:solidFill>
                  <a:latin typeface="Times New Roman"/>
                </a:endParaRPr>
              </a:p>
            </p:txBody>
          </p:sp>
          <p:sp>
            <p:nvSpPr>
              <p:cNvPr id="999" name="Rectangle 286"/>
              <p:cNvSpPr/>
              <p:nvPr/>
            </p:nvSpPr>
            <p:spPr>
              <a:xfrm>
                <a:off x="491760" y="375300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800</a:t>
                </a:r>
                <a:endParaRPr b="0" lang="en-US" sz="1000" spc="-1" strike="noStrike">
                  <a:solidFill>
                    <a:srgbClr val="000000"/>
                  </a:solidFill>
                  <a:latin typeface="Times New Roman"/>
                </a:endParaRPr>
              </a:p>
            </p:txBody>
          </p:sp>
          <p:sp>
            <p:nvSpPr>
              <p:cNvPr id="1000" name="Rectangle 287"/>
              <p:cNvSpPr/>
              <p:nvPr/>
            </p:nvSpPr>
            <p:spPr>
              <a:xfrm>
                <a:off x="491760" y="527688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900</a:t>
                </a:r>
                <a:endParaRPr b="0" lang="en-US" sz="1000" spc="-1" strike="noStrike">
                  <a:solidFill>
                    <a:srgbClr val="000000"/>
                  </a:solidFill>
                  <a:latin typeface="Times New Roman"/>
                </a:endParaRPr>
              </a:p>
            </p:txBody>
          </p:sp>
        </p:grpSp>
        <p:sp>
          <p:nvSpPr>
            <p:cNvPr id="1001" name="Freeform 288"/>
            <p:cNvSpPr/>
            <p:nvPr/>
          </p:nvSpPr>
          <p:spPr>
            <a:xfrm>
              <a:off x="2201760" y="2157480"/>
              <a:ext cx="1123920" cy="4379760"/>
            </a:xfrm>
            <a:custGeom>
              <a:avLst/>
              <a:gdLst>
                <a:gd name="textAreaLeft" fmla="*/ 0 w 1123920"/>
                <a:gd name="textAreaRight" fmla="*/ 1124280 w 1123920"/>
                <a:gd name="textAreaTop" fmla="*/ 0 h 4379760"/>
                <a:gd name="textAreaBottom" fmla="*/ 4380120 h 4379760"/>
              </a:gdLst>
              <a:ahLst/>
              <a:rect l="textAreaLeft" t="textAreaTop" r="textAreaRight" b="textAreaBottom"/>
              <a:pathLst>
                <a:path w="665" h="2582">
                  <a:moveTo>
                    <a:pt x="159" y="0"/>
                  </a:moveTo>
                  <a:lnTo>
                    <a:pt x="155" y="4"/>
                  </a:lnTo>
                  <a:lnTo>
                    <a:pt x="149" y="9"/>
                  </a:lnTo>
                  <a:lnTo>
                    <a:pt x="147" y="13"/>
                  </a:lnTo>
                  <a:lnTo>
                    <a:pt x="147" y="18"/>
                  </a:lnTo>
                  <a:lnTo>
                    <a:pt x="147" y="22"/>
                  </a:lnTo>
                  <a:lnTo>
                    <a:pt x="149" y="27"/>
                  </a:lnTo>
                  <a:lnTo>
                    <a:pt x="153" y="31"/>
                  </a:lnTo>
                  <a:lnTo>
                    <a:pt x="153" y="36"/>
                  </a:lnTo>
                  <a:lnTo>
                    <a:pt x="155" y="40"/>
                  </a:lnTo>
                  <a:lnTo>
                    <a:pt x="155" y="45"/>
                  </a:lnTo>
                  <a:lnTo>
                    <a:pt x="155" y="49"/>
                  </a:lnTo>
                  <a:lnTo>
                    <a:pt x="155" y="54"/>
                  </a:lnTo>
                  <a:lnTo>
                    <a:pt x="149" y="58"/>
                  </a:lnTo>
                  <a:lnTo>
                    <a:pt x="147" y="63"/>
                  </a:lnTo>
                  <a:lnTo>
                    <a:pt x="147" y="67"/>
                  </a:lnTo>
                  <a:lnTo>
                    <a:pt x="151" y="72"/>
                  </a:lnTo>
                  <a:lnTo>
                    <a:pt x="153" y="76"/>
                  </a:lnTo>
                  <a:lnTo>
                    <a:pt x="157" y="81"/>
                  </a:lnTo>
                  <a:lnTo>
                    <a:pt x="153" y="85"/>
                  </a:lnTo>
                  <a:lnTo>
                    <a:pt x="151" y="90"/>
                  </a:lnTo>
                  <a:lnTo>
                    <a:pt x="153" y="94"/>
                  </a:lnTo>
                  <a:lnTo>
                    <a:pt x="153" y="99"/>
                  </a:lnTo>
                  <a:lnTo>
                    <a:pt x="151" y="103"/>
                  </a:lnTo>
                  <a:lnTo>
                    <a:pt x="149" y="108"/>
                  </a:lnTo>
                  <a:lnTo>
                    <a:pt x="149" y="112"/>
                  </a:lnTo>
                  <a:lnTo>
                    <a:pt x="149" y="117"/>
                  </a:lnTo>
                  <a:lnTo>
                    <a:pt x="149" y="121"/>
                  </a:lnTo>
                  <a:lnTo>
                    <a:pt x="151" y="126"/>
                  </a:lnTo>
                  <a:lnTo>
                    <a:pt x="151" y="130"/>
                  </a:lnTo>
                  <a:lnTo>
                    <a:pt x="153" y="135"/>
                  </a:lnTo>
                  <a:lnTo>
                    <a:pt x="153" y="139"/>
                  </a:lnTo>
                  <a:lnTo>
                    <a:pt x="149" y="144"/>
                  </a:lnTo>
                  <a:lnTo>
                    <a:pt x="140" y="148"/>
                  </a:lnTo>
                  <a:lnTo>
                    <a:pt x="136" y="153"/>
                  </a:lnTo>
                  <a:lnTo>
                    <a:pt x="130" y="157"/>
                  </a:lnTo>
                  <a:lnTo>
                    <a:pt x="127" y="162"/>
                  </a:lnTo>
                  <a:lnTo>
                    <a:pt x="125" y="166"/>
                  </a:lnTo>
                  <a:lnTo>
                    <a:pt x="123" y="171"/>
                  </a:lnTo>
                  <a:lnTo>
                    <a:pt x="127" y="175"/>
                  </a:lnTo>
                  <a:lnTo>
                    <a:pt x="138" y="180"/>
                  </a:lnTo>
                  <a:lnTo>
                    <a:pt x="159" y="184"/>
                  </a:lnTo>
                  <a:lnTo>
                    <a:pt x="172" y="189"/>
                  </a:lnTo>
                  <a:lnTo>
                    <a:pt x="210" y="193"/>
                  </a:lnTo>
                  <a:lnTo>
                    <a:pt x="236" y="198"/>
                  </a:lnTo>
                  <a:lnTo>
                    <a:pt x="357" y="202"/>
                  </a:lnTo>
                  <a:lnTo>
                    <a:pt x="416" y="207"/>
                  </a:lnTo>
                  <a:lnTo>
                    <a:pt x="435" y="211"/>
                  </a:lnTo>
                  <a:lnTo>
                    <a:pt x="435" y="216"/>
                  </a:lnTo>
                  <a:lnTo>
                    <a:pt x="421" y="220"/>
                  </a:lnTo>
                  <a:lnTo>
                    <a:pt x="418" y="225"/>
                  </a:lnTo>
                  <a:lnTo>
                    <a:pt x="431" y="229"/>
                  </a:lnTo>
                  <a:lnTo>
                    <a:pt x="461" y="234"/>
                  </a:lnTo>
                  <a:lnTo>
                    <a:pt x="493" y="238"/>
                  </a:lnTo>
                  <a:lnTo>
                    <a:pt x="508" y="243"/>
                  </a:lnTo>
                  <a:lnTo>
                    <a:pt x="520" y="247"/>
                  </a:lnTo>
                  <a:lnTo>
                    <a:pt x="548" y="252"/>
                  </a:lnTo>
                  <a:lnTo>
                    <a:pt x="574" y="256"/>
                  </a:lnTo>
                  <a:lnTo>
                    <a:pt x="603" y="261"/>
                  </a:lnTo>
                  <a:lnTo>
                    <a:pt x="614" y="265"/>
                  </a:lnTo>
                  <a:lnTo>
                    <a:pt x="622" y="270"/>
                  </a:lnTo>
                  <a:lnTo>
                    <a:pt x="633" y="274"/>
                  </a:lnTo>
                  <a:lnTo>
                    <a:pt x="637" y="279"/>
                  </a:lnTo>
                  <a:lnTo>
                    <a:pt x="642" y="283"/>
                  </a:lnTo>
                  <a:lnTo>
                    <a:pt x="646" y="288"/>
                  </a:lnTo>
                  <a:lnTo>
                    <a:pt x="650" y="292"/>
                  </a:lnTo>
                  <a:lnTo>
                    <a:pt x="654" y="297"/>
                  </a:lnTo>
                  <a:lnTo>
                    <a:pt x="659" y="301"/>
                  </a:lnTo>
                  <a:lnTo>
                    <a:pt x="659" y="306"/>
                  </a:lnTo>
                  <a:lnTo>
                    <a:pt x="659" y="310"/>
                  </a:lnTo>
                  <a:lnTo>
                    <a:pt x="661" y="315"/>
                  </a:lnTo>
                  <a:lnTo>
                    <a:pt x="665" y="319"/>
                  </a:lnTo>
                  <a:lnTo>
                    <a:pt x="665" y="324"/>
                  </a:lnTo>
                  <a:lnTo>
                    <a:pt x="665" y="328"/>
                  </a:lnTo>
                  <a:lnTo>
                    <a:pt x="665" y="333"/>
                  </a:lnTo>
                  <a:lnTo>
                    <a:pt x="665" y="337"/>
                  </a:lnTo>
                  <a:lnTo>
                    <a:pt x="659" y="342"/>
                  </a:lnTo>
                  <a:lnTo>
                    <a:pt x="648" y="346"/>
                  </a:lnTo>
                  <a:lnTo>
                    <a:pt x="633" y="351"/>
                  </a:lnTo>
                  <a:lnTo>
                    <a:pt x="625" y="355"/>
                  </a:lnTo>
                  <a:lnTo>
                    <a:pt x="618" y="360"/>
                  </a:lnTo>
                  <a:lnTo>
                    <a:pt x="605" y="364"/>
                  </a:lnTo>
                  <a:lnTo>
                    <a:pt x="595" y="369"/>
                  </a:lnTo>
                  <a:lnTo>
                    <a:pt x="593" y="373"/>
                  </a:lnTo>
                  <a:lnTo>
                    <a:pt x="588" y="378"/>
                  </a:lnTo>
                  <a:lnTo>
                    <a:pt x="580" y="382"/>
                  </a:lnTo>
                  <a:lnTo>
                    <a:pt x="580" y="387"/>
                  </a:lnTo>
                  <a:lnTo>
                    <a:pt x="578" y="391"/>
                  </a:lnTo>
                  <a:lnTo>
                    <a:pt x="578" y="396"/>
                  </a:lnTo>
                  <a:lnTo>
                    <a:pt x="584" y="400"/>
                  </a:lnTo>
                  <a:lnTo>
                    <a:pt x="595" y="405"/>
                  </a:lnTo>
                  <a:lnTo>
                    <a:pt x="612" y="409"/>
                  </a:lnTo>
                  <a:lnTo>
                    <a:pt x="627" y="414"/>
                  </a:lnTo>
                  <a:lnTo>
                    <a:pt x="642" y="418"/>
                  </a:lnTo>
                  <a:lnTo>
                    <a:pt x="654" y="423"/>
                  </a:lnTo>
                  <a:lnTo>
                    <a:pt x="659" y="427"/>
                  </a:lnTo>
                  <a:lnTo>
                    <a:pt x="659" y="432"/>
                  </a:lnTo>
                  <a:lnTo>
                    <a:pt x="650" y="436"/>
                  </a:lnTo>
                  <a:lnTo>
                    <a:pt x="642" y="441"/>
                  </a:lnTo>
                  <a:lnTo>
                    <a:pt x="629" y="445"/>
                  </a:lnTo>
                  <a:lnTo>
                    <a:pt x="599" y="450"/>
                  </a:lnTo>
                  <a:lnTo>
                    <a:pt x="582" y="454"/>
                  </a:lnTo>
                  <a:lnTo>
                    <a:pt x="565" y="459"/>
                  </a:lnTo>
                  <a:lnTo>
                    <a:pt x="552" y="463"/>
                  </a:lnTo>
                  <a:lnTo>
                    <a:pt x="550" y="468"/>
                  </a:lnTo>
                  <a:lnTo>
                    <a:pt x="550" y="472"/>
                  </a:lnTo>
                  <a:lnTo>
                    <a:pt x="561" y="477"/>
                  </a:lnTo>
                  <a:lnTo>
                    <a:pt x="569" y="481"/>
                  </a:lnTo>
                  <a:lnTo>
                    <a:pt x="586" y="486"/>
                  </a:lnTo>
                  <a:lnTo>
                    <a:pt x="612" y="490"/>
                  </a:lnTo>
                  <a:lnTo>
                    <a:pt x="631" y="495"/>
                  </a:lnTo>
                  <a:lnTo>
                    <a:pt x="644" y="499"/>
                  </a:lnTo>
                  <a:lnTo>
                    <a:pt x="650" y="504"/>
                  </a:lnTo>
                  <a:lnTo>
                    <a:pt x="650" y="508"/>
                  </a:lnTo>
                  <a:lnTo>
                    <a:pt x="646" y="512"/>
                  </a:lnTo>
                  <a:lnTo>
                    <a:pt x="627" y="517"/>
                  </a:lnTo>
                  <a:lnTo>
                    <a:pt x="614" y="521"/>
                  </a:lnTo>
                  <a:lnTo>
                    <a:pt x="597" y="526"/>
                  </a:lnTo>
                  <a:lnTo>
                    <a:pt x="586" y="530"/>
                  </a:lnTo>
                  <a:lnTo>
                    <a:pt x="580" y="535"/>
                  </a:lnTo>
                  <a:lnTo>
                    <a:pt x="565" y="539"/>
                  </a:lnTo>
                  <a:lnTo>
                    <a:pt x="559" y="544"/>
                  </a:lnTo>
                  <a:lnTo>
                    <a:pt x="548" y="548"/>
                  </a:lnTo>
                  <a:lnTo>
                    <a:pt x="546" y="553"/>
                  </a:lnTo>
                  <a:lnTo>
                    <a:pt x="535" y="557"/>
                  </a:lnTo>
                  <a:lnTo>
                    <a:pt x="531" y="562"/>
                  </a:lnTo>
                  <a:lnTo>
                    <a:pt x="540" y="566"/>
                  </a:lnTo>
                  <a:lnTo>
                    <a:pt x="554" y="571"/>
                  </a:lnTo>
                  <a:lnTo>
                    <a:pt x="567" y="575"/>
                  </a:lnTo>
                  <a:lnTo>
                    <a:pt x="582" y="580"/>
                  </a:lnTo>
                  <a:lnTo>
                    <a:pt x="601" y="584"/>
                  </a:lnTo>
                  <a:lnTo>
                    <a:pt x="612" y="589"/>
                  </a:lnTo>
                  <a:lnTo>
                    <a:pt x="627" y="593"/>
                  </a:lnTo>
                  <a:lnTo>
                    <a:pt x="639" y="598"/>
                  </a:lnTo>
                  <a:lnTo>
                    <a:pt x="642" y="602"/>
                  </a:lnTo>
                  <a:lnTo>
                    <a:pt x="648" y="607"/>
                  </a:lnTo>
                  <a:lnTo>
                    <a:pt x="650" y="611"/>
                  </a:lnTo>
                  <a:lnTo>
                    <a:pt x="650" y="616"/>
                  </a:lnTo>
                  <a:lnTo>
                    <a:pt x="650" y="620"/>
                  </a:lnTo>
                  <a:lnTo>
                    <a:pt x="650" y="625"/>
                  </a:lnTo>
                  <a:lnTo>
                    <a:pt x="642" y="629"/>
                  </a:lnTo>
                  <a:lnTo>
                    <a:pt x="635" y="634"/>
                  </a:lnTo>
                  <a:lnTo>
                    <a:pt x="622" y="638"/>
                  </a:lnTo>
                  <a:lnTo>
                    <a:pt x="605" y="643"/>
                  </a:lnTo>
                  <a:lnTo>
                    <a:pt x="601" y="647"/>
                  </a:lnTo>
                  <a:lnTo>
                    <a:pt x="605" y="652"/>
                  </a:lnTo>
                  <a:lnTo>
                    <a:pt x="608" y="656"/>
                  </a:lnTo>
                  <a:lnTo>
                    <a:pt x="614" y="661"/>
                  </a:lnTo>
                  <a:lnTo>
                    <a:pt x="616" y="665"/>
                  </a:lnTo>
                  <a:lnTo>
                    <a:pt x="622" y="670"/>
                  </a:lnTo>
                  <a:lnTo>
                    <a:pt x="625" y="674"/>
                  </a:lnTo>
                  <a:lnTo>
                    <a:pt x="625" y="679"/>
                  </a:lnTo>
                  <a:lnTo>
                    <a:pt x="629" y="683"/>
                  </a:lnTo>
                  <a:lnTo>
                    <a:pt x="633" y="688"/>
                  </a:lnTo>
                  <a:lnTo>
                    <a:pt x="631" y="692"/>
                  </a:lnTo>
                  <a:lnTo>
                    <a:pt x="629" y="697"/>
                  </a:lnTo>
                  <a:lnTo>
                    <a:pt x="605" y="701"/>
                  </a:lnTo>
                  <a:lnTo>
                    <a:pt x="595" y="706"/>
                  </a:lnTo>
                  <a:lnTo>
                    <a:pt x="593" y="710"/>
                  </a:lnTo>
                  <a:lnTo>
                    <a:pt x="597" y="715"/>
                  </a:lnTo>
                  <a:lnTo>
                    <a:pt x="599" y="719"/>
                  </a:lnTo>
                  <a:lnTo>
                    <a:pt x="599" y="724"/>
                  </a:lnTo>
                  <a:lnTo>
                    <a:pt x="595" y="728"/>
                  </a:lnTo>
                  <a:lnTo>
                    <a:pt x="588" y="733"/>
                  </a:lnTo>
                  <a:lnTo>
                    <a:pt x="578" y="737"/>
                  </a:lnTo>
                  <a:lnTo>
                    <a:pt x="567" y="742"/>
                  </a:lnTo>
                  <a:lnTo>
                    <a:pt x="561" y="746"/>
                  </a:lnTo>
                  <a:lnTo>
                    <a:pt x="561" y="751"/>
                  </a:lnTo>
                  <a:lnTo>
                    <a:pt x="548" y="755"/>
                  </a:lnTo>
                  <a:lnTo>
                    <a:pt x="537" y="760"/>
                  </a:lnTo>
                  <a:lnTo>
                    <a:pt x="533" y="764"/>
                  </a:lnTo>
                  <a:lnTo>
                    <a:pt x="529" y="769"/>
                  </a:lnTo>
                  <a:lnTo>
                    <a:pt x="518" y="773"/>
                  </a:lnTo>
                  <a:lnTo>
                    <a:pt x="514" y="778"/>
                  </a:lnTo>
                  <a:lnTo>
                    <a:pt x="510" y="782"/>
                  </a:lnTo>
                  <a:lnTo>
                    <a:pt x="508" y="787"/>
                  </a:lnTo>
                  <a:lnTo>
                    <a:pt x="503" y="791"/>
                  </a:lnTo>
                  <a:lnTo>
                    <a:pt x="499" y="796"/>
                  </a:lnTo>
                  <a:lnTo>
                    <a:pt x="495" y="800"/>
                  </a:lnTo>
                  <a:lnTo>
                    <a:pt x="493" y="805"/>
                  </a:lnTo>
                  <a:lnTo>
                    <a:pt x="484" y="809"/>
                  </a:lnTo>
                  <a:lnTo>
                    <a:pt x="472" y="814"/>
                  </a:lnTo>
                  <a:lnTo>
                    <a:pt x="467" y="818"/>
                  </a:lnTo>
                  <a:lnTo>
                    <a:pt x="461" y="823"/>
                  </a:lnTo>
                  <a:lnTo>
                    <a:pt x="429" y="827"/>
                  </a:lnTo>
                  <a:lnTo>
                    <a:pt x="404" y="832"/>
                  </a:lnTo>
                  <a:lnTo>
                    <a:pt x="382" y="836"/>
                  </a:lnTo>
                  <a:lnTo>
                    <a:pt x="355" y="841"/>
                  </a:lnTo>
                  <a:lnTo>
                    <a:pt x="329" y="845"/>
                  </a:lnTo>
                  <a:lnTo>
                    <a:pt x="323" y="850"/>
                  </a:lnTo>
                  <a:lnTo>
                    <a:pt x="306" y="854"/>
                  </a:lnTo>
                  <a:lnTo>
                    <a:pt x="293" y="859"/>
                  </a:lnTo>
                  <a:lnTo>
                    <a:pt x="300" y="863"/>
                  </a:lnTo>
                  <a:lnTo>
                    <a:pt x="308" y="868"/>
                  </a:lnTo>
                  <a:lnTo>
                    <a:pt x="314" y="872"/>
                  </a:lnTo>
                  <a:lnTo>
                    <a:pt x="323" y="877"/>
                  </a:lnTo>
                  <a:lnTo>
                    <a:pt x="351" y="881"/>
                  </a:lnTo>
                  <a:lnTo>
                    <a:pt x="365" y="886"/>
                  </a:lnTo>
                  <a:lnTo>
                    <a:pt x="391" y="890"/>
                  </a:lnTo>
                  <a:lnTo>
                    <a:pt x="414" y="895"/>
                  </a:lnTo>
                  <a:lnTo>
                    <a:pt x="433" y="899"/>
                  </a:lnTo>
                  <a:lnTo>
                    <a:pt x="459" y="904"/>
                  </a:lnTo>
                  <a:lnTo>
                    <a:pt x="491" y="908"/>
                  </a:lnTo>
                  <a:lnTo>
                    <a:pt x="510" y="913"/>
                  </a:lnTo>
                  <a:lnTo>
                    <a:pt x="518" y="917"/>
                  </a:lnTo>
                  <a:lnTo>
                    <a:pt x="540" y="922"/>
                  </a:lnTo>
                  <a:lnTo>
                    <a:pt x="557" y="926"/>
                  </a:lnTo>
                  <a:lnTo>
                    <a:pt x="567" y="931"/>
                  </a:lnTo>
                  <a:lnTo>
                    <a:pt x="574" y="935"/>
                  </a:lnTo>
                  <a:lnTo>
                    <a:pt x="580" y="940"/>
                  </a:lnTo>
                  <a:lnTo>
                    <a:pt x="584" y="944"/>
                  </a:lnTo>
                  <a:lnTo>
                    <a:pt x="584" y="949"/>
                  </a:lnTo>
                  <a:lnTo>
                    <a:pt x="582" y="953"/>
                  </a:lnTo>
                  <a:lnTo>
                    <a:pt x="565" y="958"/>
                  </a:lnTo>
                  <a:lnTo>
                    <a:pt x="554" y="962"/>
                  </a:lnTo>
                  <a:lnTo>
                    <a:pt x="531" y="967"/>
                  </a:lnTo>
                  <a:lnTo>
                    <a:pt x="482" y="971"/>
                  </a:lnTo>
                  <a:lnTo>
                    <a:pt x="455" y="976"/>
                  </a:lnTo>
                  <a:lnTo>
                    <a:pt x="427" y="980"/>
                  </a:lnTo>
                  <a:lnTo>
                    <a:pt x="399" y="985"/>
                  </a:lnTo>
                  <a:lnTo>
                    <a:pt x="355" y="989"/>
                  </a:lnTo>
                  <a:lnTo>
                    <a:pt x="329" y="994"/>
                  </a:lnTo>
                  <a:lnTo>
                    <a:pt x="272" y="998"/>
                  </a:lnTo>
                  <a:lnTo>
                    <a:pt x="246" y="1003"/>
                  </a:lnTo>
                  <a:lnTo>
                    <a:pt x="238" y="1007"/>
                  </a:lnTo>
                  <a:lnTo>
                    <a:pt x="238" y="1012"/>
                  </a:lnTo>
                  <a:lnTo>
                    <a:pt x="251" y="1016"/>
                  </a:lnTo>
                  <a:lnTo>
                    <a:pt x="272" y="1021"/>
                  </a:lnTo>
                  <a:lnTo>
                    <a:pt x="287" y="1025"/>
                  </a:lnTo>
                  <a:lnTo>
                    <a:pt x="300" y="1030"/>
                  </a:lnTo>
                  <a:lnTo>
                    <a:pt x="308" y="1034"/>
                  </a:lnTo>
                  <a:lnTo>
                    <a:pt x="312" y="1039"/>
                  </a:lnTo>
                  <a:lnTo>
                    <a:pt x="340" y="1043"/>
                  </a:lnTo>
                  <a:lnTo>
                    <a:pt x="359" y="1048"/>
                  </a:lnTo>
                  <a:lnTo>
                    <a:pt x="365" y="1052"/>
                  </a:lnTo>
                  <a:lnTo>
                    <a:pt x="372" y="1057"/>
                  </a:lnTo>
                  <a:lnTo>
                    <a:pt x="361" y="1061"/>
                  </a:lnTo>
                  <a:lnTo>
                    <a:pt x="344" y="1066"/>
                  </a:lnTo>
                  <a:lnTo>
                    <a:pt x="331" y="1070"/>
                  </a:lnTo>
                  <a:lnTo>
                    <a:pt x="325" y="1075"/>
                  </a:lnTo>
                  <a:lnTo>
                    <a:pt x="314" y="1079"/>
                  </a:lnTo>
                  <a:lnTo>
                    <a:pt x="310" y="1084"/>
                  </a:lnTo>
                  <a:lnTo>
                    <a:pt x="304" y="1088"/>
                  </a:lnTo>
                  <a:lnTo>
                    <a:pt x="300" y="1093"/>
                  </a:lnTo>
                  <a:lnTo>
                    <a:pt x="302" y="1097"/>
                  </a:lnTo>
                  <a:lnTo>
                    <a:pt x="306" y="1102"/>
                  </a:lnTo>
                  <a:lnTo>
                    <a:pt x="308" y="1106"/>
                  </a:lnTo>
                  <a:lnTo>
                    <a:pt x="312" y="1111"/>
                  </a:lnTo>
                  <a:lnTo>
                    <a:pt x="321" y="1115"/>
                  </a:lnTo>
                  <a:lnTo>
                    <a:pt x="329" y="1120"/>
                  </a:lnTo>
                  <a:lnTo>
                    <a:pt x="334" y="1124"/>
                  </a:lnTo>
                  <a:lnTo>
                    <a:pt x="340" y="1129"/>
                  </a:lnTo>
                  <a:lnTo>
                    <a:pt x="342" y="1133"/>
                  </a:lnTo>
                  <a:lnTo>
                    <a:pt x="346" y="1138"/>
                  </a:lnTo>
                  <a:lnTo>
                    <a:pt x="346" y="1142"/>
                  </a:lnTo>
                  <a:lnTo>
                    <a:pt x="344" y="1147"/>
                  </a:lnTo>
                  <a:lnTo>
                    <a:pt x="338" y="1151"/>
                  </a:lnTo>
                  <a:lnTo>
                    <a:pt x="325" y="1156"/>
                  </a:lnTo>
                  <a:lnTo>
                    <a:pt x="321" y="1160"/>
                  </a:lnTo>
                  <a:lnTo>
                    <a:pt x="317" y="1165"/>
                  </a:lnTo>
                  <a:lnTo>
                    <a:pt x="314" y="1169"/>
                  </a:lnTo>
                  <a:lnTo>
                    <a:pt x="314" y="1174"/>
                  </a:lnTo>
                  <a:lnTo>
                    <a:pt x="317" y="1178"/>
                  </a:lnTo>
                  <a:lnTo>
                    <a:pt x="327" y="1183"/>
                  </a:lnTo>
                  <a:lnTo>
                    <a:pt x="346" y="1187"/>
                  </a:lnTo>
                  <a:lnTo>
                    <a:pt x="355" y="1192"/>
                  </a:lnTo>
                  <a:lnTo>
                    <a:pt x="370" y="1196"/>
                  </a:lnTo>
                  <a:lnTo>
                    <a:pt x="384" y="1201"/>
                  </a:lnTo>
                  <a:lnTo>
                    <a:pt x="393" y="1205"/>
                  </a:lnTo>
                  <a:lnTo>
                    <a:pt x="397" y="1210"/>
                  </a:lnTo>
                  <a:lnTo>
                    <a:pt x="389" y="1214"/>
                  </a:lnTo>
                  <a:lnTo>
                    <a:pt x="363" y="1219"/>
                  </a:lnTo>
                  <a:lnTo>
                    <a:pt x="336" y="1223"/>
                  </a:lnTo>
                  <a:lnTo>
                    <a:pt x="276" y="1228"/>
                  </a:lnTo>
                  <a:lnTo>
                    <a:pt x="242" y="1232"/>
                  </a:lnTo>
                  <a:lnTo>
                    <a:pt x="189" y="1237"/>
                  </a:lnTo>
                  <a:lnTo>
                    <a:pt x="153" y="1241"/>
                  </a:lnTo>
                  <a:lnTo>
                    <a:pt x="147" y="1246"/>
                  </a:lnTo>
                  <a:lnTo>
                    <a:pt x="140" y="1250"/>
                  </a:lnTo>
                  <a:lnTo>
                    <a:pt x="140" y="1255"/>
                  </a:lnTo>
                  <a:lnTo>
                    <a:pt x="140" y="1259"/>
                  </a:lnTo>
                  <a:lnTo>
                    <a:pt x="140" y="1264"/>
                  </a:lnTo>
                  <a:lnTo>
                    <a:pt x="140" y="1268"/>
                  </a:lnTo>
                  <a:lnTo>
                    <a:pt x="149" y="1273"/>
                  </a:lnTo>
                  <a:lnTo>
                    <a:pt x="153" y="1277"/>
                  </a:lnTo>
                  <a:lnTo>
                    <a:pt x="155" y="1282"/>
                  </a:lnTo>
                  <a:lnTo>
                    <a:pt x="157" y="1286"/>
                  </a:lnTo>
                  <a:lnTo>
                    <a:pt x="161" y="1291"/>
                  </a:lnTo>
                  <a:lnTo>
                    <a:pt x="161" y="1295"/>
                  </a:lnTo>
                  <a:lnTo>
                    <a:pt x="159" y="1300"/>
                  </a:lnTo>
                  <a:lnTo>
                    <a:pt x="153" y="1304"/>
                  </a:lnTo>
                  <a:lnTo>
                    <a:pt x="149" y="1309"/>
                  </a:lnTo>
                  <a:lnTo>
                    <a:pt x="140" y="1313"/>
                  </a:lnTo>
                  <a:lnTo>
                    <a:pt x="134" y="1318"/>
                  </a:lnTo>
                  <a:lnTo>
                    <a:pt x="127" y="1322"/>
                  </a:lnTo>
                  <a:lnTo>
                    <a:pt x="125" y="1327"/>
                  </a:lnTo>
                  <a:lnTo>
                    <a:pt x="123" y="1331"/>
                  </a:lnTo>
                  <a:lnTo>
                    <a:pt x="119" y="1336"/>
                  </a:lnTo>
                  <a:lnTo>
                    <a:pt x="119" y="1340"/>
                  </a:lnTo>
                  <a:lnTo>
                    <a:pt x="119" y="1345"/>
                  </a:lnTo>
                  <a:lnTo>
                    <a:pt x="117" y="1349"/>
                  </a:lnTo>
                  <a:lnTo>
                    <a:pt x="115" y="1354"/>
                  </a:lnTo>
                  <a:lnTo>
                    <a:pt x="115" y="1358"/>
                  </a:lnTo>
                  <a:lnTo>
                    <a:pt x="108" y="1363"/>
                  </a:lnTo>
                  <a:lnTo>
                    <a:pt x="98" y="1367"/>
                  </a:lnTo>
                  <a:lnTo>
                    <a:pt x="87" y="1372"/>
                  </a:lnTo>
                  <a:lnTo>
                    <a:pt x="81" y="1376"/>
                  </a:lnTo>
                  <a:lnTo>
                    <a:pt x="66" y="1381"/>
                  </a:lnTo>
                  <a:lnTo>
                    <a:pt x="64" y="1385"/>
                  </a:lnTo>
                  <a:lnTo>
                    <a:pt x="64" y="1390"/>
                  </a:lnTo>
                  <a:lnTo>
                    <a:pt x="64" y="1394"/>
                  </a:lnTo>
                  <a:lnTo>
                    <a:pt x="64" y="1399"/>
                  </a:lnTo>
                  <a:lnTo>
                    <a:pt x="64" y="1403"/>
                  </a:lnTo>
                  <a:lnTo>
                    <a:pt x="64" y="1408"/>
                  </a:lnTo>
                  <a:lnTo>
                    <a:pt x="64" y="1412"/>
                  </a:lnTo>
                  <a:lnTo>
                    <a:pt x="59" y="1417"/>
                  </a:lnTo>
                  <a:lnTo>
                    <a:pt x="59" y="1421"/>
                  </a:lnTo>
                  <a:lnTo>
                    <a:pt x="59" y="1426"/>
                  </a:lnTo>
                  <a:lnTo>
                    <a:pt x="59" y="1430"/>
                  </a:lnTo>
                  <a:lnTo>
                    <a:pt x="59" y="1435"/>
                  </a:lnTo>
                  <a:lnTo>
                    <a:pt x="62" y="1439"/>
                  </a:lnTo>
                  <a:lnTo>
                    <a:pt x="64" y="1444"/>
                  </a:lnTo>
                  <a:lnTo>
                    <a:pt x="66" y="1448"/>
                  </a:lnTo>
                  <a:lnTo>
                    <a:pt x="68" y="1453"/>
                  </a:lnTo>
                  <a:lnTo>
                    <a:pt x="68" y="1457"/>
                  </a:lnTo>
                  <a:lnTo>
                    <a:pt x="70" y="1462"/>
                  </a:lnTo>
                  <a:lnTo>
                    <a:pt x="68" y="1466"/>
                  </a:lnTo>
                  <a:lnTo>
                    <a:pt x="64" y="1471"/>
                  </a:lnTo>
                  <a:lnTo>
                    <a:pt x="59" y="1475"/>
                  </a:lnTo>
                  <a:lnTo>
                    <a:pt x="55" y="1480"/>
                  </a:lnTo>
                  <a:lnTo>
                    <a:pt x="53" y="1484"/>
                  </a:lnTo>
                  <a:lnTo>
                    <a:pt x="53" y="1489"/>
                  </a:lnTo>
                  <a:lnTo>
                    <a:pt x="53" y="1493"/>
                  </a:lnTo>
                  <a:lnTo>
                    <a:pt x="53" y="1498"/>
                  </a:lnTo>
                  <a:lnTo>
                    <a:pt x="57" y="1502"/>
                  </a:lnTo>
                  <a:lnTo>
                    <a:pt x="62" y="1507"/>
                  </a:lnTo>
                  <a:lnTo>
                    <a:pt x="68" y="1511"/>
                  </a:lnTo>
                  <a:lnTo>
                    <a:pt x="70" y="1516"/>
                  </a:lnTo>
                  <a:lnTo>
                    <a:pt x="76" y="1520"/>
                  </a:lnTo>
                  <a:lnTo>
                    <a:pt x="83" y="1525"/>
                  </a:lnTo>
                  <a:lnTo>
                    <a:pt x="83" y="1529"/>
                  </a:lnTo>
                  <a:lnTo>
                    <a:pt x="83" y="1534"/>
                  </a:lnTo>
                  <a:lnTo>
                    <a:pt x="76" y="1538"/>
                  </a:lnTo>
                  <a:lnTo>
                    <a:pt x="68" y="1543"/>
                  </a:lnTo>
                  <a:lnTo>
                    <a:pt x="55" y="1547"/>
                  </a:lnTo>
                  <a:lnTo>
                    <a:pt x="51" y="1552"/>
                  </a:lnTo>
                  <a:lnTo>
                    <a:pt x="42" y="1556"/>
                  </a:lnTo>
                  <a:lnTo>
                    <a:pt x="32" y="1560"/>
                  </a:lnTo>
                  <a:lnTo>
                    <a:pt x="26" y="1565"/>
                  </a:lnTo>
                  <a:lnTo>
                    <a:pt x="19" y="1569"/>
                  </a:lnTo>
                  <a:lnTo>
                    <a:pt x="19" y="1574"/>
                  </a:lnTo>
                  <a:lnTo>
                    <a:pt x="23" y="1578"/>
                  </a:lnTo>
                  <a:lnTo>
                    <a:pt x="23" y="1583"/>
                  </a:lnTo>
                  <a:lnTo>
                    <a:pt x="23" y="1587"/>
                  </a:lnTo>
                  <a:lnTo>
                    <a:pt x="21" y="1592"/>
                  </a:lnTo>
                  <a:lnTo>
                    <a:pt x="17" y="1596"/>
                  </a:lnTo>
                  <a:lnTo>
                    <a:pt x="11" y="1601"/>
                  </a:lnTo>
                  <a:lnTo>
                    <a:pt x="9" y="1605"/>
                  </a:lnTo>
                  <a:lnTo>
                    <a:pt x="6" y="1610"/>
                  </a:lnTo>
                  <a:lnTo>
                    <a:pt x="4" y="1614"/>
                  </a:lnTo>
                  <a:lnTo>
                    <a:pt x="2" y="1619"/>
                  </a:lnTo>
                  <a:lnTo>
                    <a:pt x="2" y="1623"/>
                  </a:lnTo>
                  <a:lnTo>
                    <a:pt x="2" y="1628"/>
                  </a:lnTo>
                  <a:lnTo>
                    <a:pt x="0" y="1632"/>
                  </a:lnTo>
                  <a:lnTo>
                    <a:pt x="0" y="1637"/>
                  </a:lnTo>
                  <a:lnTo>
                    <a:pt x="0" y="1641"/>
                  </a:lnTo>
                  <a:lnTo>
                    <a:pt x="0" y="1646"/>
                  </a:lnTo>
                  <a:lnTo>
                    <a:pt x="0" y="1650"/>
                  </a:lnTo>
                  <a:lnTo>
                    <a:pt x="2" y="1655"/>
                  </a:lnTo>
                  <a:lnTo>
                    <a:pt x="6" y="1659"/>
                  </a:lnTo>
                  <a:lnTo>
                    <a:pt x="6" y="1664"/>
                  </a:lnTo>
                  <a:lnTo>
                    <a:pt x="13" y="1668"/>
                  </a:lnTo>
                  <a:lnTo>
                    <a:pt x="15" y="1673"/>
                  </a:lnTo>
                  <a:lnTo>
                    <a:pt x="19" y="1677"/>
                  </a:lnTo>
                  <a:lnTo>
                    <a:pt x="23" y="1682"/>
                  </a:lnTo>
                  <a:lnTo>
                    <a:pt x="23" y="1686"/>
                  </a:lnTo>
                  <a:lnTo>
                    <a:pt x="21" y="1691"/>
                  </a:lnTo>
                  <a:lnTo>
                    <a:pt x="19" y="1695"/>
                  </a:lnTo>
                  <a:lnTo>
                    <a:pt x="19" y="1700"/>
                  </a:lnTo>
                  <a:lnTo>
                    <a:pt x="21" y="1704"/>
                  </a:lnTo>
                  <a:lnTo>
                    <a:pt x="23" y="1709"/>
                  </a:lnTo>
                  <a:lnTo>
                    <a:pt x="23" y="1713"/>
                  </a:lnTo>
                  <a:lnTo>
                    <a:pt x="26" y="1718"/>
                  </a:lnTo>
                  <a:lnTo>
                    <a:pt x="26" y="1722"/>
                  </a:lnTo>
                  <a:lnTo>
                    <a:pt x="26" y="1727"/>
                  </a:lnTo>
                  <a:lnTo>
                    <a:pt x="26" y="1731"/>
                  </a:lnTo>
                  <a:lnTo>
                    <a:pt x="30" y="1736"/>
                  </a:lnTo>
                  <a:lnTo>
                    <a:pt x="34" y="1740"/>
                  </a:lnTo>
                  <a:lnTo>
                    <a:pt x="40" y="1745"/>
                  </a:lnTo>
                  <a:lnTo>
                    <a:pt x="42" y="1749"/>
                  </a:lnTo>
                  <a:lnTo>
                    <a:pt x="47" y="1754"/>
                  </a:lnTo>
                  <a:lnTo>
                    <a:pt x="55" y="1758"/>
                  </a:lnTo>
                  <a:lnTo>
                    <a:pt x="64" y="1763"/>
                  </a:lnTo>
                  <a:lnTo>
                    <a:pt x="68" y="1767"/>
                  </a:lnTo>
                  <a:lnTo>
                    <a:pt x="70" y="1772"/>
                  </a:lnTo>
                  <a:lnTo>
                    <a:pt x="72" y="1776"/>
                  </a:lnTo>
                  <a:lnTo>
                    <a:pt x="74" y="1781"/>
                  </a:lnTo>
                  <a:lnTo>
                    <a:pt x="76" y="1785"/>
                  </a:lnTo>
                  <a:lnTo>
                    <a:pt x="72" y="1790"/>
                  </a:lnTo>
                  <a:lnTo>
                    <a:pt x="72" y="1794"/>
                  </a:lnTo>
                  <a:lnTo>
                    <a:pt x="70" y="1799"/>
                  </a:lnTo>
                  <a:lnTo>
                    <a:pt x="68" y="1803"/>
                  </a:lnTo>
                  <a:lnTo>
                    <a:pt x="66" y="1808"/>
                  </a:lnTo>
                  <a:lnTo>
                    <a:pt x="62" y="1812"/>
                  </a:lnTo>
                  <a:lnTo>
                    <a:pt x="57" y="1817"/>
                  </a:lnTo>
                  <a:lnTo>
                    <a:pt x="55" y="1821"/>
                  </a:lnTo>
                  <a:lnTo>
                    <a:pt x="55" y="1826"/>
                  </a:lnTo>
                  <a:lnTo>
                    <a:pt x="57" y="1830"/>
                  </a:lnTo>
                  <a:lnTo>
                    <a:pt x="59" y="1835"/>
                  </a:lnTo>
                  <a:lnTo>
                    <a:pt x="64" y="1839"/>
                  </a:lnTo>
                  <a:lnTo>
                    <a:pt x="66" y="1844"/>
                  </a:lnTo>
                  <a:lnTo>
                    <a:pt x="68" y="1848"/>
                  </a:lnTo>
                  <a:lnTo>
                    <a:pt x="70" y="1853"/>
                  </a:lnTo>
                  <a:lnTo>
                    <a:pt x="66" y="1857"/>
                  </a:lnTo>
                  <a:lnTo>
                    <a:pt x="62" y="1862"/>
                  </a:lnTo>
                  <a:lnTo>
                    <a:pt x="49" y="1866"/>
                  </a:lnTo>
                  <a:lnTo>
                    <a:pt x="47" y="1871"/>
                  </a:lnTo>
                  <a:lnTo>
                    <a:pt x="47" y="1875"/>
                  </a:lnTo>
                  <a:lnTo>
                    <a:pt x="70" y="1880"/>
                  </a:lnTo>
                  <a:lnTo>
                    <a:pt x="89" y="1884"/>
                  </a:lnTo>
                  <a:lnTo>
                    <a:pt x="98" y="1889"/>
                  </a:lnTo>
                  <a:lnTo>
                    <a:pt x="98" y="1893"/>
                  </a:lnTo>
                  <a:lnTo>
                    <a:pt x="96" y="1898"/>
                  </a:lnTo>
                  <a:lnTo>
                    <a:pt x="79" y="1902"/>
                  </a:lnTo>
                  <a:lnTo>
                    <a:pt x="70" y="1907"/>
                  </a:lnTo>
                  <a:lnTo>
                    <a:pt x="70" y="1911"/>
                  </a:lnTo>
                  <a:lnTo>
                    <a:pt x="68" y="1916"/>
                  </a:lnTo>
                  <a:lnTo>
                    <a:pt x="64" y="1920"/>
                  </a:lnTo>
                  <a:lnTo>
                    <a:pt x="64" y="1925"/>
                  </a:lnTo>
                  <a:lnTo>
                    <a:pt x="62" y="1929"/>
                  </a:lnTo>
                  <a:lnTo>
                    <a:pt x="64" y="1934"/>
                  </a:lnTo>
                  <a:lnTo>
                    <a:pt x="66" y="1938"/>
                  </a:lnTo>
                  <a:lnTo>
                    <a:pt x="68" y="1943"/>
                  </a:lnTo>
                  <a:lnTo>
                    <a:pt x="68" y="1947"/>
                  </a:lnTo>
                  <a:lnTo>
                    <a:pt x="68" y="1952"/>
                  </a:lnTo>
                  <a:lnTo>
                    <a:pt x="68" y="1956"/>
                  </a:lnTo>
                  <a:lnTo>
                    <a:pt x="66" y="1961"/>
                  </a:lnTo>
                  <a:lnTo>
                    <a:pt x="64" y="1965"/>
                  </a:lnTo>
                  <a:lnTo>
                    <a:pt x="64" y="1970"/>
                  </a:lnTo>
                  <a:lnTo>
                    <a:pt x="64" y="1974"/>
                  </a:lnTo>
                  <a:lnTo>
                    <a:pt x="64" y="1979"/>
                  </a:lnTo>
                  <a:lnTo>
                    <a:pt x="64" y="1983"/>
                  </a:lnTo>
                  <a:lnTo>
                    <a:pt x="64" y="1988"/>
                  </a:lnTo>
                  <a:lnTo>
                    <a:pt x="55" y="1992"/>
                  </a:lnTo>
                  <a:lnTo>
                    <a:pt x="51" y="1997"/>
                  </a:lnTo>
                  <a:lnTo>
                    <a:pt x="47" y="2001"/>
                  </a:lnTo>
                  <a:lnTo>
                    <a:pt x="42" y="2006"/>
                  </a:lnTo>
                  <a:lnTo>
                    <a:pt x="42" y="2010"/>
                  </a:lnTo>
                  <a:lnTo>
                    <a:pt x="42" y="2015"/>
                  </a:lnTo>
                  <a:lnTo>
                    <a:pt x="42" y="2019"/>
                  </a:lnTo>
                  <a:lnTo>
                    <a:pt x="45" y="2024"/>
                  </a:lnTo>
                  <a:lnTo>
                    <a:pt x="45" y="2028"/>
                  </a:lnTo>
                  <a:lnTo>
                    <a:pt x="47" y="2033"/>
                  </a:lnTo>
                  <a:lnTo>
                    <a:pt x="47" y="2037"/>
                  </a:lnTo>
                  <a:lnTo>
                    <a:pt x="45" y="2042"/>
                  </a:lnTo>
                  <a:lnTo>
                    <a:pt x="42" y="2046"/>
                  </a:lnTo>
                  <a:lnTo>
                    <a:pt x="40" y="2051"/>
                  </a:lnTo>
                  <a:lnTo>
                    <a:pt x="40" y="2055"/>
                  </a:lnTo>
                  <a:lnTo>
                    <a:pt x="42" y="2060"/>
                  </a:lnTo>
                  <a:lnTo>
                    <a:pt x="51" y="2064"/>
                  </a:lnTo>
                  <a:lnTo>
                    <a:pt x="57" y="2069"/>
                  </a:lnTo>
                  <a:lnTo>
                    <a:pt x="76" y="2073"/>
                  </a:lnTo>
                  <a:lnTo>
                    <a:pt x="93" y="2078"/>
                  </a:lnTo>
                  <a:lnTo>
                    <a:pt x="108" y="2082"/>
                  </a:lnTo>
                  <a:lnTo>
                    <a:pt x="130" y="2087"/>
                  </a:lnTo>
                  <a:lnTo>
                    <a:pt x="132" y="2091"/>
                  </a:lnTo>
                  <a:lnTo>
                    <a:pt x="151" y="2096"/>
                  </a:lnTo>
                  <a:lnTo>
                    <a:pt x="157" y="2100"/>
                  </a:lnTo>
                  <a:lnTo>
                    <a:pt x="157" y="2105"/>
                  </a:lnTo>
                  <a:lnTo>
                    <a:pt x="155" y="2109"/>
                  </a:lnTo>
                  <a:lnTo>
                    <a:pt x="151" y="2114"/>
                  </a:lnTo>
                  <a:lnTo>
                    <a:pt x="142" y="2118"/>
                  </a:lnTo>
                  <a:lnTo>
                    <a:pt x="138" y="2123"/>
                  </a:lnTo>
                  <a:lnTo>
                    <a:pt x="138" y="2127"/>
                  </a:lnTo>
                  <a:lnTo>
                    <a:pt x="144" y="2132"/>
                  </a:lnTo>
                  <a:lnTo>
                    <a:pt x="159" y="2136"/>
                  </a:lnTo>
                  <a:lnTo>
                    <a:pt x="174" y="2141"/>
                  </a:lnTo>
                  <a:lnTo>
                    <a:pt x="181" y="2145"/>
                  </a:lnTo>
                  <a:lnTo>
                    <a:pt x="187" y="2150"/>
                  </a:lnTo>
                  <a:lnTo>
                    <a:pt x="193" y="2154"/>
                  </a:lnTo>
                  <a:lnTo>
                    <a:pt x="193" y="2159"/>
                  </a:lnTo>
                  <a:lnTo>
                    <a:pt x="193" y="2163"/>
                  </a:lnTo>
                  <a:lnTo>
                    <a:pt x="193" y="2168"/>
                  </a:lnTo>
                  <a:lnTo>
                    <a:pt x="191" y="2172"/>
                  </a:lnTo>
                  <a:lnTo>
                    <a:pt x="191" y="2177"/>
                  </a:lnTo>
                  <a:lnTo>
                    <a:pt x="185" y="2181"/>
                  </a:lnTo>
                  <a:lnTo>
                    <a:pt x="183" y="2186"/>
                  </a:lnTo>
                  <a:lnTo>
                    <a:pt x="176" y="2190"/>
                  </a:lnTo>
                  <a:lnTo>
                    <a:pt x="172" y="2195"/>
                  </a:lnTo>
                  <a:lnTo>
                    <a:pt x="168" y="2199"/>
                  </a:lnTo>
                  <a:lnTo>
                    <a:pt x="164" y="2204"/>
                  </a:lnTo>
                  <a:lnTo>
                    <a:pt x="161" y="2208"/>
                  </a:lnTo>
                  <a:lnTo>
                    <a:pt x="159" y="2213"/>
                  </a:lnTo>
                  <a:lnTo>
                    <a:pt x="159" y="2217"/>
                  </a:lnTo>
                  <a:lnTo>
                    <a:pt x="161" y="2222"/>
                  </a:lnTo>
                  <a:lnTo>
                    <a:pt x="170" y="2226"/>
                  </a:lnTo>
                  <a:lnTo>
                    <a:pt x="174" y="2231"/>
                  </a:lnTo>
                  <a:lnTo>
                    <a:pt x="178" y="2235"/>
                  </a:lnTo>
                  <a:lnTo>
                    <a:pt x="198" y="2240"/>
                  </a:lnTo>
                  <a:lnTo>
                    <a:pt x="215" y="2244"/>
                  </a:lnTo>
                  <a:lnTo>
                    <a:pt x="232" y="2249"/>
                  </a:lnTo>
                  <a:lnTo>
                    <a:pt x="242" y="2253"/>
                  </a:lnTo>
                  <a:lnTo>
                    <a:pt x="242" y="2258"/>
                  </a:lnTo>
                  <a:lnTo>
                    <a:pt x="244" y="2262"/>
                  </a:lnTo>
                  <a:lnTo>
                    <a:pt x="246" y="2267"/>
                  </a:lnTo>
                  <a:lnTo>
                    <a:pt x="246" y="2271"/>
                  </a:lnTo>
                  <a:lnTo>
                    <a:pt x="246" y="2276"/>
                  </a:lnTo>
                  <a:lnTo>
                    <a:pt x="246" y="2280"/>
                  </a:lnTo>
                  <a:lnTo>
                    <a:pt x="246" y="2285"/>
                  </a:lnTo>
                  <a:lnTo>
                    <a:pt x="249" y="2289"/>
                  </a:lnTo>
                  <a:lnTo>
                    <a:pt x="253" y="2294"/>
                  </a:lnTo>
                  <a:lnTo>
                    <a:pt x="255" y="2298"/>
                  </a:lnTo>
                  <a:lnTo>
                    <a:pt x="242" y="2303"/>
                  </a:lnTo>
                  <a:lnTo>
                    <a:pt x="238" y="2307"/>
                  </a:lnTo>
                  <a:lnTo>
                    <a:pt x="227" y="2312"/>
                  </a:lnTo>
                  <a:lnTo>
                    <a:pt x="219" y="2316"/>
                  </a:lnTo>
                  <a:lnTo>
                    <a:pt x="212" y="2321"/>
                  </a:lnTo>
                  <a:lnTo>
                    <a:pt x="204" y="2325"/>
                  </a:lnTo>
                  <a:lnTo>
                    <a:pt x="193" y="2330"/>
                  </a:lnTo>
                  <a:lnTo>
                    <a:pt x="191" y="2334"/>
                  </a:lnTo>
                  <a:lnTo>
                    <a:pt x="187" y="2339"/>
                  </a:lnTo>
                  <a:lnTo>
                    <a:pt x="183" y="2343"/>
                  </a:lnTo>
                  <a:lnTo>
                    <a:pt x="181" y="2348"/>
                  </a:lnTo>
                  <a:lnTo>
                    <a:pt x="174" y="2352"/>
                  </a:lnTo>
                  <a:lnTo>
                    <a:pt x="172" y="2357"/>
                  </a:lnTo>
                  <a:lnTo>
                    <a:pt x="168" y="2361"/>
                  </a:lnTo>
                  <a:lnTo>
                    <a:pt x="164" y="2366"/>
                  </a:lnTo>
                  <a:lnTo>
                    <a:pt x="159" y="2370"/>
                  </a:lnTo>
                  <a:lnTo>
                    <a:pt x="157" y="2375"/>
                  </a:lnTo>
                  <a:lnTo>
                    <a:pt x="155" y="2379"/>
                  </a:lnTo>
                  <a:lnTo>
                    <a:pt x="153" y="2384"/>
                  </a:lnTo>
                  <a:lnTo>
                    <a:pt x="151" y="2388"/>
                  </a:lnTo>
                  <a:lnTo>
                    <a:pt x="149" y="2393"/>
                  </a:lnTo>
                  <a:lnTo>
                    <a:pt x="149" y="2397"/>
                  </a:lnTo>
                  <a:lnTo>
                    <a:pt x="149" y="2402"/>
                  </a:lnTo>
                  <a:lnTo>
                    <a:pt x="149" y="2406"/>
                  </a:lnTo>
                  <a:lnTo>
                    <a:pt x="149" y="2411"/>
                  </a:lnTo>
                  <a:lnTo>
                    <a:pt x="147" y="2415"/>
                  </a:lnTo>
                  <a:lnTo>
                    <a:pt x="147" y="2420"/>
                  </a:lnTo>
                  <a:lnTo>
                    <a:pt x="144" y="2424"/>
                  </a:lnTo>
                  <a:lnTo>
                    <a:pt x="144" y="2429"/>
                  </a:lnTo>
                  <a:lnTo>
                    <a:pt x="144" y="2433"/>
                  </a:lnTo>
                  <a:lnTo>
                    <a:pt x="142" y="2438"/>
                  </a:lnTo>
                  <a:lnTo>
                    <a:pt x="140" y="2442"/>
                  </a:lnTo>
                  <a:lnTo>
                    <a:pt x="140" y="2447"/>
                  </a:lnTo>
                  <a:lnTo>
                    <a:pt x="138" y="2451"/>
                  </a:lnTo>
                  <a:lnTo>
                    <a:pt x="136" y="2456"/>
                  </a:lnTo>
                  <a:lnTo>
                    <a:pt x="134" y="2460"/>
                  </a:lnTo>
                  <a:lnTo>
                    <a:pt x="132" y="2465"/>
                  </a:lnTo>
                  <a:lnTo>
                    <a:pt x="132" y="2469"/>
                  </a:lnTo>
                  <a:lnTo>
                    <a:pt x="132" y="2474"/>
                  </a:lnTo>
                  <a:lnTo>
                    <a:pt x="136" y="2478"/>
                  </a:lnTo>
                  <a:lnTo>
                    <a:pt x="142" y="2483"/>
                  </a:lnTo>
                  <a:lnTo>
                    <a:pt x="149" y="2487"/>
                  </a:lnTo>
                  <a:lnTo>
                    <a:pt x="151" y="2492"/>
                  </a:lnTo>
                  <a:lnTo>
                    <a:pt x="155" y="2496"/>
                  </a:lnTo>
                  <a:lnTo>
                    <a:pt x="161" y="2501"/>
                  </a:lnTo>
                  <a:lnTo>
                    <a:pt x="166" y="2505"/>
                  </a:lnTo>
                  <a:lnTo>
                    <a:pt x="168" y="2510"/>
                  </a:lnTo>
                  <a:lnTo>
                    <a:pt x="172" y="2514"/>
                  </a:lnTo>
                  <a:lnTo>
                    <a:pt x="172" y="2519"/>
                  </a:lnTo>
                  <a:lnTo>
                    <a:pt x="170" y="2523"/>
                  </a:lnTo>
                  <a:lnTo>
                    <a:pt x="166" y="2528"/>
                  </a:lnTo>
                  <a:lnTo>
                    <a:pt x="164" y="2532"/>
                  </a:lnTo>
                  <a:lnTo>
                    <a:pt x="157" y="2537"/>
                  </a:lnTo>
                  <a:lnTo>
                    <a:pt x="155" y="2541"/>
                  </a:lnTo>
                  <a:lnTo>
                    <a:pt x="155" y="2546"/>
                  </a:lnTo>
                  <a:lnTo>
                    <a:pt x="155" y="2550"/>
                  </a:lnTo>
                  <a:lnTo>
                    <a:pt x="155" y="2555"/>
                  </a:lnTo>
                  <a:lnTo>
                    <a:pt x="155" y="2559"/>
                  </a:lnTo>
                  <a:lnTo>
                    <a:pt x="153" y="2564"/>
                  </a:lnTo>
                  <a:lnTo>
                    <a:pt x="151" y="2568"/>
                  </a:lnTo>
                  <a:lnTo>
                    <a:pt x="149" y="2573"/>
                  </a:lnTo>
                  <a:lnTo>
                    <a:pt x="149" y="2577"/>
                  </a:lnTo>
                  <a:lnTo>
                    <a:pt x="149" y="2582"/>
                  </a:lnTo>
                </a:path>
              </a:pathLst>
            </a:custGeom>
            <a:noFill/>
            <a:ln w="28440">
              <a:solidFill>
                <a:srgbClr val="008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Freeform 289"/>
            <p:cNvSpPr/>
            <p:nvPr/>
          </p:nvSpPr>
          <p:spPr>
            <a:xfrm>
              <a:off x="2262240" y="2157480"/>
              <a:ext cx="987480" cy="4379760"/>
            </a:xfrm>
            <a:custGeom>
              <a:avLst/>
              <a:gdLst>
                <a:gd name="textAreaLeft" fmla="*/ 0 w 987480"/>
                <a:gd name="textAreaRight" fmla="*/ 987840 w 987480"/>
                <a:gd name="textAreaTop" fmla="*/ 0 h 4379760"/>
                <a:gd name="textAreaBottom" fmla="*/ 4380120 h 4379760"/>
              </a:gdLst>
              <a:ahLst/>
              <a:rect l="textAreaLeft" t="textAreaTop" r="textAreaRight" b="textAreaBottom"/>
              <a:pathLst>
                <a:path w="584" h="2582">
                  <a:moveTo>
                    <a:pt x="136" y="0"/>
                  </a:moveTo>
                  <a:lnTo>
                    <a:pt x="125" y="4"/>
                  </a:lnTo>
                  <a:lnTo>
                    <a:pt x="121" y="9"/>
                  </a:lnTo>
                  <a:lnTo>
                    <a:pt x="117" y="13"/>
                  </a:lnTo>
                  <a:lnTo>
                    <a:pt x="115" y="18"/>
                  </a:lnTo>
                  <a:lnTo>
                    <a:pt x="115" y="22"/>
                  </a:lnTo>
                  <a:lnTo>
                    <a:pt x="117" y="27"/>
                  </a:lnTo>
                  <a:lnTo>
                    <a:pt x="119" y="31"/>
                  </a:lnTo>
                  <a:lnTo>
                    <a:pt x="117" y="36"/>
                  </a:lnTo>
                  <a:lnTo>
                    <a:pt x="117" y="40"/>
                  </a:lnTo>
                  <a:lnTo>
                    <a:pt x="117" y="45"/>
                  </a:lnTo>
                  <a:lnTo>
                    <a:pt x="117" y="49"/>
                  </a:lnTo>
                  <a:lnTo>
                    <a:pt x="119" y="54"/>
                  </a:lnTo>
                  <a:lnTo>
                    <a:pt x="119" y="58"/>
                  </a:lnTo>
                  <a:lnTo>
                    <a:pt x="123" y="63"/>
                  </a:lnTo>
                  <a:lnTo>
                    <a:pt x="125" y="67"/>
                  </a:lnTo>
                  <a:lnTo>
                    <a:pt x="128" y="72"/>
                  </a:lnTo>
                  <a:lnTo>
                    <a:pt x="132" y="76"/>
                  </a:lnTo>
                  <a:lnTo>
                    <a:pt x="132" y="81"/>
                  </a:lnTo>
                  <a:lnTo>
                    <a:pt x="132" y="85"/>
                  </a:lnTo>
                  <a:lnTo>
                    <a:pt x="130" y="90"/>
                  </a:lnTo>
                  <a:lnTo>
                    <a:pt x="125" y="94"/>
                  </a:lnTo>
                  <a:lnTo>
                    <a:pt x="125" y="99"/>
                  </a:lnTo>
                  <a:lnTo>
                    <a:pt x="121" y="103"/>
                  </a:lnTo>
                  <a:lnTo>
                    <a:pt x="119" y="108"/>
                  </a:lnTo>
                  <a:lnTo>
                    <a:pt x="117" y="112"/>
                  </a:lnTo>
                  <a:lnTo>
                    <a:pt x="117" y="117"/>
                  </a:lnTo>
                  <a:lnTo>
                    <a:pt x="117" y="121"/>
                  </a:lnTo>
                  <a:lnTo>
                    <a:pt x="117" y="126"/>
                  </a:lnTo>
                  <a:lnTo>
                    <a:pt x="123" y="130"/>
                  </a:lnTo>
                  <a:lnTo>
                    <a:pt x="121" y="135"/>
                  </a:lnTo>
                  <a:lnTo>
                    <a:pt x="119" y="139"/>
                  </a:lnTo>
                  <a:lnTo>
                    <a:pt x="117" y="144"/>
                  </a:lnTo>
                  <a:lnTo>
                    <a:pt x="115" y="148"/>
                  </a:lnTo>
                  <a:lnTo>
                    <a:pt x="111" y="153"/>
                  </a:lnTo>
                  <a:lnTo>
                    <a:pt x="102" y="157"/>
                  </a:lnTo>
                  <a:lnTo>
                    <a:pt x="98" y="162"/>
                  </a:lnTo>
                  <a:lnTo>
                    <a:pt x="94" y="166"/>
                  </a:lnTo>
                  <a:lnTo>
                    <a:pt x="91" y="171"/>
                  </a:lnTo>
                  <a:lnTo>
                    <a:pt x="94" y="175"/>
                  </a:lnTo>
                  <a:lnTo>
                    <a:pt x="100" y="180"/>
                  </a:lnTo>
                  <a:lnTo>
                    <a:pt x="106" y="184"/>
                  </a:lnTo>
                  <a:lnTo>
                    <a:pt x="142" y="189"/>
                  </a:lnTo>
                  <a:lnTo>
                    <a:pt x="185" y="193"/>
                  </a:lnTo>
                  <a:lnTo>
                    <a:pt x="221" y="198"/>
                  </a:lnTo>
                  <a:lnTo>
                    <a:pt x="289" y="202"/>
                  </a:lnTo>
                  <a:lnTo>
                    <a:pt x="300" y="207"/>
                  </a:lnTo>
                  <a:lnTo>
                    <a:pt x="319" y="211"/>
                  </a:lnTo>
                  <a:lnTo>
                    <a:pt x="332" y="216"/>
                  </a:lnTo>
                  <a:lnTo>
                    <a:pt x="336" y="220"/>
                  </a:lnTo>
                  <a:lnTo>
                    <a:pt x="346" y="225"/>
                  </a:lnTo>
                  <a:lnTo>
                    <a:pt x="359" y="229"/>
                  </a:lnTo>
                  <a:lnTo>
                    <a:pt x="376" y="234"/>
                  </a:lnTo>
                  <a:lnTo>
                    <a:pt x="385" y="238"/>
                  </a:lnTo>
                  <a:lnTo>
                    <a:pt x="395" y="243"/>
                  </a:lnTo>
                  <a:lnTo>
                    <a:pt x="404" y="247"/>
                  </a:lnTo>
                  <a:lnTo>
                    <a:pt x="427" y="252"/>
                  </a:lnTo>
                  <a:lnTo>
                    <a:pt x="436" y="256"/>
                  </a:lnTo>
                  <a:lnTo>
                    <a:pt x="448" y="261"/>
                  </a:lnTo>
                  <a:lnTo>
                    <a:pt x="463" y="265"/>
                  </a:lnTo>
                  <a:lnTo>
                    <a:pt x="467" y="270"/>
                  </a:lnTo>
                  <a:lnTo>
                    <a:pt x="474" y="274"/>
                  </a:lnTo>
                  <a:lnTo>
                    <a:pt x="478" y="279"/>
                  </a:lnTo>
                  <a:lnTo>
                    <a:pt x="482" y="283"/>
                  </a:lnTo>
                  <a:lnTo>
                    <a:pt x="493" y="288"/>
                  </a:lnTo>
                  <a:lnTo>
                    <a:pt x="495" y="292"/>
                  </a:lnTo>
                  <a:lnTo>
                    <a:pt x="504" y="297"/>
                  </a:lnTo>
                  <a:lnTo>
                    <a:pt x="508" y="301"/>
                  </a:lnTo>
                  <a:lnTo>
                    <a:pt x="512" y="306"/>
                  </a:lnTo>
                  <a:lnTo>
                    <a:pt x="518" y="310"/>
                  </a:lnTo>
                  <a:lnTo>
                    <a:pt x="523" y="315"/>
                  </a:lnTo>
                  <a:lnTo>
                    <a:pt x="529" y="319"/>
                  </a:lnTo>
                  <a:lnTo>
                    <a:pt x="533" y="324"/>
                  </a:lnTo>
                  <a:lnTo>
                    <a:pt x="533" y="328"/>
                  </a:lnTo>
                  <a:lnTo>
                    <a:pt x="533" y="333"/>
                  </a:lnTo>
                  <a:lnTo>
                    <a:pt x="535" y="337"/>
                  </a:lnTo>
                  <a:lnTo>
                    <a:pt x="529" y="342"/>
                  </a:lnTo>
                  <a:lnTo>
                    <a:pt x="527" y="346"/>
                  </a:lnTo>
                  <a:lnTo>
                    <a:pt x="521" y="351"/>
                  </a:lnTo>
                  <a:lnTo>
                    <a:pt x="514" y="355"/>
                  </a:lnTo>
                  <a:lnTo>
                    <a:pt x="506" y="360"/>
                  </a:lnTo>
                  <a:lnTo>
                    <a:pt x="501" y="364"/>
                  </a:lnTo>
                  <a:lnTo>
                    <a:pt x="491" y="369"/>
                  </a:lnTo>
                  <a:lnTo>
                    <a:pt x="489" y="373"/>
                  </a:lnTo>
                  <a:lnTo>
                    <a:pt x="487" y="378"/>
                  </a:lnTo>
                  <a:lnTo>
                    <a:pt x="487" y="382"/>
                  </a:lnTo>
                  <a:lnTo>
                    <a:pt x="491" y="387"/>
                  </a:lnTo>
                  <a:lnTo>
                    <a:pt x="497" y="391"/>
                  </a:lnTo>
                  <a:lnTo>
                    <a:pt x="504" y="396"/>
                  </a:lnTo>
                  <a:lnTo>
                    <a:pt x="504" y="400"/>
                  </a:lnTo>
                  <a:lnTo>
                    <a:pt x="514" y="405"/>
                  </a:lnTo>
                  <a:lnTo>
                    <a:pt x="516" y="409"/>
                  </a:lnTo>
                  <a:lnTo>
                    <a:pt x="518" y="414"/>
                  </a:lnTo>
                  <a:lnTo>
                    <a:pt x="518" y="418"/>
                  </a:lnTo>
                  <a:lnTo>
                    <a:pt x="516" y="423"/>
                  </a:lnTo>
                  <a:lnTo>
                    <a:pt x="514" y="427"/>
                  </a:lnTo>
                  <a:lnTo>
                    <a:pt x="512" y="432"/>
                  </a:lnTo>
                  <a:lnTo>
                    <a:pt x="506" y="436"/>
                  </a:lnTo>
                  <a:lnTo>
                    <a:pt x="504" y="441"/>
                  </a:lnTo>
                  <a:lnTo>
                    <a:pt x="499" y="445"/>
                  </a:lnTo>
                  <a:lnTo>
                    <a:pt x="491" y="450"/>
                  </a:lnTo>
                  <a:lnTo>
                    <a:pt x="489" y="454"/>
                  </a:lnTo>
                  <a:lnTo>
                    <a:pt x="484" y="459"/>
                  </a:lnTo>
                  <a:lnTo>
                    <a:pt x="484" y="463"/>
                  </a:lnTo>
                  <a:lnTo>
                    <a:pt x="491" y="468"/>
                  </a:lnTo>
                  <a:lnTo>
                    <a:pt x="497" y="472"/>
                  </a:lnTo>
                  <a:lnTo>
                    <a:pt x="497" y="477"/>
                  </a:lnTo>
                  <a:lnTo>
                    <a:pt x="506" y="481"/>
                  </a:lnTo>
                  <a:lnTo>
                    <a:pt x="512" y="486"/>
                  </a:lnTo>
                  <a:lnTo>
                    <a:pt x="518" y="490"/>
                  </a:lnTo>
                  <a:lnTo>
                    <a:pt x="518" y="495"/>
                  </a:lnTo>
                  <a:lnTo>
                    <a:pt x="512" y="499"/>
                  </a:lnTo>
                  <a:lnTo>
                    <a:pt x="512" y="504"/>
                  </a:lnTo>
                  <a:lnTo>
                    <a:pt x="510" y="508"/>
                  </a:lnTo>
                  <a:lnTo>
                    <a:pt x="510" y="512"/>
                  </a:lnTo>
                  <a:lnTo>
                    <a:pt x="508" y="517"/>
                  </a:lnTo>
                  <a:lnTo>
                    <a:pt x="508" y="521"/>
                  </a:lnTo>
                  <a:lnTo>
                    <a:pt x="506" y="526"/>
                  </a:lnTo>
                  <a:lnTo>
                    <a:pt x="501" y="530"/>
                  </a:lnTo>
                  <a:lnTo>
                    <a:pt x="497" y="535"/>
                  </a:lnTo>
                  <a:lnTo>
                    <a:pt x="495" y="539"/>
                  </a:lnTo>
                  <a:lnTo>
                    <a:pt x="491" y="544"/>
                  </a:lnTo>
                  <a:lnTo>
                    <a:pt x="487" y="548"/>
                  </a:lnTo>
                  <a:lnTo>
                    <a:pt x="487" y="553"/>
                  </a:lnTo>
                  <a:lnTo>
                    <a:pt x="487" y="557"/>
                  </a:lnTo>
                  <a:lnTo>
                    <a:pt x="487" y="562"/>
                  </a:lnTo>
                  <a:lnTo>
                    <a:pt x="484" y="566"/>
                  </a:lnTo>
                  <a:lnTo>
                    <a:pt x="491" y="571"/>
                  </a:lnTo>
                  <a:lnTo>
                    <a:pt x="495" y="575"/>
                  </a:lnTo>
                  <a:lnTo>
                    <a:pt x="497" y="580"/>
                  </a:lnTo>
                  <a:lnTo>
                    <a:pt x="506" y="584"/>
                  </a:lnTo>
                  <a:lnTo>
                    <a:pt x="510" y="589"/>
                  </a:lnTo>
                  <a:lnTo>
                    <a:pt x="521" y="593"/>
                  </a:lnTo>
                  <a:lnTo>
                    <a:pt x="527" y="598"/>
                  </a:lnTo>
                  <a:lnTo>
                    <a:pt x="535" y="602"/>
                  </a:lnTo>
                  <a:lnTo>
                    <a:pt x="550" y="607"/>
                  </a:lnTo>
                  <a:lnTo>
                    <a:pt x="555" y="611"/>
                  </a:lnTo>
                  <a:lnTo>
                    <a:pt x="559" y="616"/>
                  </a:lnTo>
                  <a:lnTo>
                    <a:pt x="567" y="620"/>
                  </a:lnTo>
                  <a:lnTo>
                    <a:pt x="572" y="625"/>
                  </a:lnTo>
                  <a:lnTo>
                    <a:pt x="576" y="629"/>
                  </a:lnTo>
                  <a:lnTo>
                    <a:pt x="582" y="634"/>
                  </a:lnTo>
                  <a:lnTo>
                    <a:pt x="582" y="638"/>
                  </a:lnTo>
                  <a:lnTo>
                    <a:pt x="584" y="643"/>
                  </a:lnTo>
                  <a:lnTo>
                    <a:pt x="582" y="647"/>
                  </a:lnTo>
                  <a:lnTo>
                    <a:pt x="580" y="652"/>
                  </a:lnTo>
                  <a:lnTo>
                    <a:pt x="578" y="656"/>
                  </a:lnTo>
                  <a:lnTo>
                    <a:pt x="578" y="661"/>
                  </a:lnTo>
                  <a:lnTo>
                    <a:pt x="578" y="665"/>
                  </a:lnTo>
                  <a:lnTo>
                    <a:pt x="576" y="670"/>
                  </a:lnTo>
                  <a:lnTo>
                    <a:pt x="569" y="674"/>
                  </a:lnTo>
                  <a:lnTo>
                    <a:pt x="569" y="679"/>
                  </a:lnTo>
                  <a:lnTo>
                    <a:pt x="565" y="683"/>
                  </a:lnTo>
                  <a:lnTo>
                    <a:pt x="557" y="688"/>
                  </a:lnTo>
                  <a:lnTo>
                    <a:pt x="544" y="692"/>
                  </a:lnTo>
                  <a:lnTo>
                    <a:pt x="540" y="697"/>
                  </a:lnTo>
                  <a:lnTo>
                    <a:pt x="531" y="701"/>
                  </a:lnTo>
                  <a:lnTo>
                    <a:pt x="523" y="706"/>
                  </a:lnTo>
                  <a:lnTo>
                    <a:pt x="514" y="710"/>
                  </a:lnTo>
                  <a:lnTo>
                    <a:pt x="512" y="715"/>
                  </a:lnTo>
                  <a:lnTo>
                    <a:pt x="508" y="719"/>
                  </a:lnTo>
                  <a:lnTo>
                    <a:pt x="504" y="724"/>
                  </a:lnTo>
                  <a:lnTo>
                    <a:pt x="499" y="728"/>
                  </a:lnTo>
                  <a:lnTo>
                    <a:pt x="493" y="733"/>
                  </a:lnTo>
                  <a:lnTo>
                    <a:pt x="478" y="737"/>
                  </a:lnTo>
                  <a:lnTo>
                    <a:pt x="474" y="742"/>
                  </a:lnTo>
                  <a:lnTo>
                    <a:pt x="467" y="746"/>
                  </a:lnTo>
                  <a:lnTo>
                    <a:pt x="463" y="751"/>
                  </a:lnTo>
                  <a:lnTo>
                    <a:pt x="459" y="755"/>
                  </a:lnTo>
                  <a:lnTo>
                    <a:pt x="455" y="760"/>
                  </a:lnTo>
                  <a:lnTo>
                    <a:pt x="453" y="764"/>
                  </a:lnTo>
                  <a:lnTo>
                    <a:pt x="448" y="769"/>
                  </a:lnTo>
                  <a:lnTo>
                    <a:pt x="444" y="773"/>
                  </a:lnTo>
                  <a:lnTo>
                    <a:pt x="436" y="778"/>
                  </a:lnTo>
                  <a:lnTo>
                    <a:pt x="425" y="782"/>
                  </a:lnTo>
                  <a:lnTo>
                    <a:pt x="421" y="787"/>
                  </a:lnTo>
                  <a:lnTo>
                    <a:pt x="406" y="791"/>
                  </a:lnTo>
                  <a:lnTo>
                    <a:pt x="395" y="796"/>
                  </a:lnTo>
                  <a:lnTo>
                    <a:pt x="389" y="800"/>
                  </a:lnTo>
                  <a:lnTo>
                    <a:pt x="380" y="805"/>
                  </a:lnTo>
                  <a:lnTo>
                    <a:pt x="365" y="809"/>
                  </a:lnTo>
                  <a:lnTo>
                    <a:pt x="359" y="814"/>
                  </a:lnTo>
                  <a:lnTo>
                    <a:pt x="346" y="818"/>
                  </a:lnTo>
                  <a:lnTo>
                    <a:pt x="340" y="823"/>
                  </a:lnTo>
                  <a:lnTo>
                    <a:pt x="329" y="827"/>
                  </a:lnTo>
                  <a:lnTo>
                    <a:pt x="325" y="832"/>
                  </a:lnTo>
                  <a:lnTo>
                    <a:pt x="319" y="836"/>
                  </a:lnTo>
                  <a:lnTo>
                    <a:pt x="312" y="841"/>
                  </a:lnTo>
                  <a:lnTo>
                    <a:pt x="306" y="845"/>
                  </a:lnTo>
                  <a:lnTo>
                    <a:pt x="304" y="850"/>
                  </a:lnTo>
                  <a:lnTo>
                    <a:pt x="293" y="854"/>
                  </a:lnTo>
                  <a:lnTo>
                    <a:pt x="291" y="859"/>
                  </a:lnTo>
                  <a:lnTo>
                    <a:pt x="287" y="863"/>
                  </a:lnTo>
                  <a:lnTo>
                    <a:pt x="289" y="868"/>
                  </a:lnTo>
                  <a:lnTo>
                    <a:pt x="291" y="872"/>
                  </a:lnTo>
                  <a:lnTo>
                    <a:pt x="295" y="877"/>
                  </a:lnTo>
                  <a:lnTo>
                    <a:pt x="308" y="881"/>
                  </a:lnTo>
                  <a:lnTo>
                    <a:pt x="321" y="886"/>
                  </a:lnTo>
                  <a:lnTo>
                    <a:pt x="334" y="890"/>
                  </a:lnTo>
                  <a:lnTo>
                    <a:pt x="351" y="895"/>
                  </a:lnTo>
                  <a:lnTo>
                    <a:pt x="361" y="899"/>
                  </a:lnTo>
                  <a:lnTo>
                    <a:pt x="376" y="904"/>
                  </a:lnTo>
                  <a:lnTo>
                    <a:pt x="389" y="908"/>
                  </a:lnTo>
                  <a:lnTo>
                    <a:pt x="410" y="913"/>
                  </a:lnTo>
                  <a:lnTo>
                    <a:pt x="436" y="917"/>
                  </a:lnTo>
                  <a:lnTo>
                    <a:pt x="453" y="922"/>
                  </a:lnTo>
                  <a:lnTo>
                    <a:pt x="467" y="926"/>
                  </a:lnTo>
                  <a:lnTo>
                    <a:pt x="480" y="931"/>
                  </a:lnTo>
                  <a:lnTo>
                    <a:pt x="516" y="935"/>
                  </a:lnTo>
                  <a:lnTo>
                    <a:pt x="523" y="940"/>
                  </a:lnTo>
                  <a:lnTo>
                    <a:pt x="529" y="944"/>
                  </a:lnTo>
                  <a:lnTo>
                    <a:pt x="533" y="949"/>
                  </a:lnTo>
                  <a:lnTo>
                    <a:pt x="529" y="953"/>
                  </a:lnTo>
                  <a:lnTo>
                    <a:pt x="523" y="958"/>
                  </a:lnTo>
                  <a:lnTo>
                    <a:pt x="501" y="962"/>
                  </a:lnTo>
                  <a:lnTo>
                    <a:pt x="493" y="967"/>
                  </a:lnTo>
                  <a:lnTo>
                    <a:pt x="461" y="971"/>
                  </a:lnTo>
                  <a:lnTo>
                    <a:pt x="433" y="976"/>
                  </a:lnTo>
                  <a:lnTo>
                    <a:pt x="419" y="980"/>
                  </a:lnTo>
                  <a:lnTo>
                    <a:pt x="410" y="985"/>
                  </a:lnTo>
                  <a:lnTo>
                    <a:pt x="380" y="989"/>
                  </a:lnTo>
                  <a:lnTo>
                    <a:pt x="363" y="994"/>
                  </a:lnTo>
                  <a:lnTo>
                    <a:pt x="319" y="998"/>
                  </a:lnTo>
                  <a:lnTo>
                    <a:pt x="302" y="1003"/>
                  </a:lnTo>
                  <a:lnTo>
                    <a:pt x="287" y="1007"/>
                  </a:lnTo>
                  <a:lnTo>
                    <a:pt x="291" y="1012"/>
                  </a:lnTo>
                  <a:lnTo>
                    <a:pt x="291" y="1016"/>
                  </a:lnTo>
                  <a:lnTo>
                    <a:pt x="298" y="1021"/>
                  </a:lnTo>
                  <a:lnTo>
                    <a:pt x="302" y="1025"/>
                  </a:lnTo>
                  <a:lnTo>
                    <a:pt x="304" y="1030"/>
                  </a:lnTo>
                  <a:lnTo>
                    <a:pt x="308" y="1034"/>
                  </a:lnTo>
                  <a:lnTo>
                    <a:pt x="310" y="1039"/>
                  </a:lnTo>
                  <a:lnTo>
                    <a:pt x="315" y="1043"/>
                  </a:lnTo>
                  <a:lnTo>
                    <a:pt x="317" y="1048"/>
                  </a:lnTo>
                  <a:lnTo>
                    <a:pt x="319" y="1052"/>
                  </a:lnTo>
                  <a:lnTo>
                    <a:pt x="319" y="1057"/>
                  </a:lnTo>
                  <a:lnTo>
                    <a:pt x="319" y="1061"/>
                  </a:lnTo>
                  <a:lnTo>
                    <a:pt x="310" y="1066"/>
                  </a:lnTo>
                  <a:lnTo>
                    <a:pt x="304" y="1070"/>
                  </a:lnTo>
                  <a:lnTo>
                    <a:pt x="302" y="1075"/>
                  </a:lnTo>
                  <a:lnTo>
                    <a:pt x="293" y="1079"/>
                  </a:lnTo>
                  <a:lnTo>
                    <a:pt x="287" y="1084"/>
                  </a:lnTo>
                  <a:lnTo>
                    <a:pt x="285" y="1088"/>
                  </a:lnTo>
                  <a:lnTo>
                    <a:pt x="283" y="1093"/>
                  </a:lnTo>
                  <a:lnTo>
                    <a:pt x="276" y="1097"/>
                  </a:lnTo>
                  <a:lnTo>
                    <a:pt x="270" y="1102"/>
                  </a:lnTo>
                  <a:lnTo>
                    <a:pt x="270" y="1106"/>
                  </a:lnTo>
                  <a:lnTo>
                    <a:pt x="272" y="1111"/>
                  </a:lnTo>
                  <a:lnTo>
                    <a:pt x="272" y="1115"/>
                  </a:lnTo>
                  <a:lnTo>
                    <a:pt x="274" y="1120"/>
                  </a:lnTo>
                  <a:lnTo>
                    <a:pt x="281" y="1124"/>
                  </a:lnTo>
                  <a:lnTo>
                    <a:pt x="283" y="1129"/>
                  </a:lnTo>
                  <a:lnTo>
                    <a:pt x="289" y="1133"/>
                  </a:lnTo>
                  <a:lnTo>
                    <a:pt x="291" y="1138"/>
                  </a:lnTo>
                  <a:lnTo>
                    <a:pt x="291" y="1142"/>
                  </a:lnTo>
                  <a:lnTo>
                    <a:pt x="289" y="1147"/>
                  </a:lnTo>
                  <a:lnTo>
                    <a:pt x="287" y="1151"/>
                  </a:lnTo>
                  <a:lnTo>
                    <a:pt x="285" y="1156"/>
                  </a:lnTo>
                  <a:lnTo>
                    <a:pt x="281" y="1160"/>
                  </a:lnTo>
                  <a:lnTo>
                    <a:pt x="278" y="1165"/>
                  </a:lnTo>
                  <a:lnTo>
                    <a:pt x="276" y="1169"/>
                  </a:lnTo>
                  <a:lnTo>
                    <a:pt x="274" y="1174"/>
                  </a:lnTo>
                  <a:lnTo>
                    <a:pt x="274" y="1178"/>
                  </a:lnTo>
                  <a:lnTo>
                    <a:pt x="274" y="1183"/>
                  </a:lnTo>
                  <a:lnTo>
                    <a:pt x="274" y="1187"/>
                  </a:lnTo>
                  <a:lnTo>
                    <a:pt x="276" y="1192"/>
                  </a:lnTo>
                  <a:lnTo>
                    <a:pt x="281" y="1196"/>
                  </a:lnTo>
                  <a:lnTo>
                    <a:pt x="281" y="1201"/>
                  </a:lnTo>
                  <a:lnTo>
                    <a:pt x="283" y="1205"/>
                  </a:lnTo>
                  <a:lnTo>
                    <a:pt x="285" y="1210"/>
                  </a:lnTo>
                  <a:lnTo>
                    <a:pt x="266" y="1214"/>
                  </a:lnTo>
                  <a:lnTo>
                    <a:pt x="251" y="1219"/>
                  </a:lnTo>
                  <a:lnTo>
                    <a:pt x="221" y="1223"/>
                  </a:lnTo>
                  <a:lnTo>
                    <a:pt x="200" y="1228"/>
                  </a:lnTo>
                  <a:lnTo>
                    <a:pt x="196" y="1232"/>
                  </a:lnTo>
                  <a:lnTo>
                    <a:pt x="181" y="1237"/>
                  </a:lnTo>
                  <a:lnTo>
                    <a:pt x="176" y="1241"/>
                  </a:lnTo>
                  <a:lnTo>
                    <a:pt x="170" y="1246"/>
                  </a:lnTo>
                  <a:lnTo>
                    <a:pt x="168" y="1250"/>
                  </a:lnTo>
                  <a:lnTo>
                    <a:pt x="166" y="1255"/>
                  </a:lnTo>
                  <a:lnTo>
                    <a:pt x="162" y="1259"/>
                  </a:lnTo>
                  <a:lnTo>
                    <a:pt x="162" y="1264"/>
                  </a:lnTo>
                  <a:lnTo>
                    <a:pt x="162" y="1268"/>
                  </a:lnTo>
                  <a:lnTo>
                    <a:pt x="162" y="1273"/>
                  </a:lnTo>
                  <a:lnTo>
                    <a:pt x="162" y="1277"/>
                  </a:lnTo>
                  <a:lnTo>
                    <a:pt x="162" y="1282"/>
                  </a:lnTo>
                  <a:lnTo>
                    <a:pt x="162" y="1286"/>
                  </a:lnTo>
                  <a:lnTo>
                    <a:pt x="162" y="1291"/>
                  </a:lnTo>
                  <a:lnTo>
                    <a:pt x="162" y="1295"/>
                  </a:lnTo>
                  <a:lnTo>
                    <a:pt x="159" y="1300"/>
                  </a:lnTo>
                  <a:lnTo>
                    <a:pt x="157" y="1304"/>
                  </a:lnTo>
                  <a:lnTo>
                    <a:pt x="155" y="1309"/>
                  </a:lnTo>
                  <a:lnTo>
                    <a:pt x="147" y="1313"/>
                  </a:lnTo>
                  <a:lnTo>
                    <a:pt x="147" y="1318"/>
                  </a:lnTo>
                  <a:lnTo>
                    <a:pt x="145" y="1322"/>
                  </a:lnTo>
                  <a:lnTo>
                    <a:pt x="145" y="1327"/>
                  </a:lnTo>
                  <a:lnTo>
                    <a:pt x="145" y="1331"/>
                  </a:lnTo>
                  <a:lnTo>
                    <a:pt x="147" y="1336"/>
                  </a:lnTo>
                  <a:lnTo>
                    <a:pt x="147" y="1340"/>
                  </a:lnTo>
                  <a:lnTo>
                    <a:pt x="147" y="1345"/>
                  </a:lnTo>
                  <a:lnTo>
                    <a:pt x="147" y="1349"/>
                  </a:lnTo>
                  <a:lnTo>
                    <a:pt x="145" y="1354"/>
                  </a:lnTo>
                  <a:lnTo>
                    <a:pt x="142" y="1358"/>
                  </a:lnTo>
                  <a:lnTo>
                    <a:pt x="130" y="1363"/>
                  </a:lnTo>
                  <a:lnTo>
                    <a:pt x="128" y="1367"/>
                  </a:lnTo>
                  <a:lnTo>
                    <a:pt x="119" y="1372"/>
                  </a:lnTo>
                  <a:lnTo>
                    <a:pt x="115" y="1376"/>
                  </a:lnTo>
                  <a:lnTo>
                    <a:pt x="108" y="1381"/>
                  </a:lnTo>
                  <a:lnTo>
                    <a:pt x="106" y="1385"/>
                  </a:lnTo>
                  <a:lnTo>
                    <a:pt x="104" y="1390"/>
                  </a:lnTo>
                  <a:lnTo>
                    <a:pt x="104" y="1394"/>
                  </a:lnTo>
                  <a:lnTo>
                    <a:pt x="102" y="1399"/>
                  </a:lnTo>
                  <a:lnTo>
                    <a:pt x="100" y="1403"/>
                  </a:lnTo>
                  <a:lnTo>
                    <a:pt x="98" y="1408"/>
                  </a:lnTo>
                  <a:lnTo>
                    <a:pt x="98" y="1412"/>
                  </a:lnTo>
                  <a:lnTo>
                    <a:pt x="98" y="1417"/>
                  </a:lnTo>
                  <a:lnTo>
                    <a:pt x="98" y="1421"/>
                  </a:lnTo>
                  <a:lnTo>
                    <a:pt x="100" y="1426"/>
                  </a:lnTo>
                  <a:lnTo>
                    <a:pt x="100" y="1430"/>
                  </a:lnTo>
                  <a:lnTo>
                    <a:pt x="100" y="1435"/>
                  </a:lnTo>
                  <a:lnTo>
                    <a:pt x="100" y="1439"/>
                  </a:lnTo>
                  <a:lnTo>
                    <a:pt x="100" y="1444"/>
                  </a:lnTo>
                  <a:lnTo>
                    <a:pt x="100" y="1448"/>
                  </a:lnTo>
                  <a:lnTo>
                    <a:pt x="100" y="1453"/>
                  </a:lnTo>
                  <a:lnTo>
                    <a:pt x="100" y="1457"/>
                  </a:lnTo>
                  <a:lnTo>
                    <a:pt x="100" y="1462"/>
                  </a:lnTo>
                  <a:lnTo>
                    <a:pt x="100" y="1466"/>
                  </a:lnTo>
                  <a:lnTo>
                    <a:pt x="98" y="1471"/>
                  </a:lnTo>
                  <a:lnTo>
                    <a:pt x="96" y="1475"/>
                  </a:lnTo>
                  <a:lnTo>
                    <a:pt x="91" y="1480"/>
                  </a:lnTo>
                  <a:lnTo>
                    <a:pt x="89" y="1484"/>
                  </a:lnTo>
                  <a:lnTo>
                    <a:pt x="85" y="1489"/>
                  </a:lnTo>
                  <a:lnTo>
                    <a:pt x="83" y="1493"/>
                  </a:lnTo>
                  <a:lnTo>
                    <a:pt x="83" y="1498"/>
                  </a:lnTo>
                  <a:lnTo>
                    <a:pt x="83" y="1502"/>
                  </a:lnTo>
                  <a:lnTo>
                    <a:pt x="83" y="1507"/>
                  </a:lnTo>
                  <a:lnTo>
                    <a:pt x="85" y="1511"/>
                  </a:lnTo>
                  <a:lnTo>
                    <a:pt x="87" y="1516"/>
                  </a:lnTo>
                  <a:lnTo>
                    <a:pt x="89" y="1520"/>
                  </a:lnTo>
                  <a:lnTo>
                    <a:pt x="91" y="1525"/>
                  </a:lnTo>
                  <a:lnTo>
                    <a:pt x="94" y="1529"/>
                  </a:lnTo>
                  <a:lnTo>
                    <a:pt x="94" y="1534"/>
                  </a:lnTo>
                  <a:lnTo>
                    <a:pt x="94" y="1538"/>
                  </a:lnTo>
                  <a:lnTo>
                    <a:pt x="91" y="1543"/>
                  </a:lnTo>
                  <a:lnTo>
                    <a:pt x="87" y="1547"/>
                  </a:lnTo>
                  <a:lnTo>
                    <a:pt x="83" y="1552"/>
                  </a:lnTo>
                  <a:lnTo>
                    <a:pt x="81" y="1556"/>
                  </a:lnTo>
                  <a:lnTo>
                    <a:pt x="77" y="1560"/>
                  </a:lnTo>
                  <a:lnTo>
                    <a:pt x="62" y="1565"/>
                  </a:lnTo>
                  <a:lnTo>
                    <a:pt x="47" y="1569"/>
                  </a:lnTo>
                  <a:lnTo>
                    <a:pt x="38" y="1574"/>
                  </a:lnTo>
                  <a:lnTo>
                    <a:pt x="36" y="1578"/>
                  </a:lnTo>
                  <a:lnTo>
                    <a:pt x="26" y="1583"/>
                  </a:lnTo>
                  <a:lnTo>
                    <a:pt x="23" y="1587"/>
                  </a:lnTo>
                  <a:lnTo>
                    <a:pt x="21" y="1592"/>
                  </a:lnTo>
                  <a:lnTo>
                    <a:pt x="19" y="1596"/>
                  </a:lnTo>
                  <a:lnTo>
                    <a:pt x="15" y="1601"/>
                  </a:lnTo>
                  <a:lnTo>
                    <a:pt x="11" y="1605"/>
                  </a:lnTo>
                  <a:lnTo>
                    <a:pt x="6" y="1610"/>
                  </a:lnTo>
                  <a:lnTo>
                    <a:pt x="6" y="1614"/>
                  </a:lnTo>
                  <a:lnTo>
                    <a:pt x="4" y="1619"/>
                  </a:lnTo>
                  <a:lnTo>
                    <a:pt x="4" y="1623"/>
                  </a:lnTo>
                  <a:lnTo>
                    <a:pt x="2" y="1628"/>
                  </a:lnTo>
                  <a:lnTo>
                    <a:pt x="2" y="1632"/>
                  </a:lnTo>
                  <a:lnTo>
                    <a:pt x="2" y="1637"/>
                  </a:lnTo>
                  <a:lnTo>
                    <a:pt x="0" y="1641"/>
                  </a:lnTo>
                  <a:lnTo>
                    <a:pt x="0" y="1646"/>
                  </a:lnTo>
                  <a:lnTo>
                    <a:pt x="0" y="1650"/>
                  </a:lnTo>
                  <a:lnTo>
                    <a:pt x="0" y="1655"/>
                  </a:lnTo>
                  <a:lnTo>
                    <a:pt x="0" y="1659"/>
                  </a:lnTo>
                  <a:lnTo>
                    <a:pt x="2" y="1664"/>
                  </a:lnTo>
                  <a:lnTo>
                    <a:pt x="2" y="1668"/>
                  </a:lnTo>
                  <a:lnTo>
                    <a:pt x="9" y="1673"/>
                  </a:lnTo>
                  <a:lnTo>
                    <a:pt x="9" y="1677"/>
                  </a:lnTo>
                  <a:lnTo>
                    <a:pt x="11" y="1682"/>
                  </a:lnTo>
                  <a:lnTo>
                    <a:pt x="13" y="1686"/>
                  </a:lnTo>
                  <a:lnTo>
                    <a:pt x="15" y="1691"/>
                  </a:lnTo>
                  <a:lnTo>
                    <a:pt x="19" y="1695"/>
                  </a:lnTo>
                  <a:lnTo>
                    <a:pt x="21" y="1700"/>
                  </a:lnTo>
                  <a:lnTo>
                    <a:pt x="21" y="1704"/>
                  </a:lnTo>
                  <a:lnTo>
                    <a:pt x="23" y="1709"/>
                  </a:lnTo>
                  <a:lnTo>
                    <a:pt x="26" y="1713"/>
                  </a:lnTo>
                  <a:lnTo>
                    <a:pt x="28" y="1718"/>
                  </a:lnTo>
                  <a:lnTo>
                    <a:pt x="30" y="1722"/>
                  </a:lnTo>
                  <a:lnTo>
                    <a:pt x="34" y="1727"/>
                  </a:lnTo>
                  <a:lnTo>
                    <a:pt x="38" y="1731"/>
                  </a:lnTo>
                  <a:lnTo>
                    <a:pt x="43" y="1736"/>
                  </a:lnTo>
                  <a:lnTo>
                    <a:pt x="49" y="1740"/>
                  </a:lnTo>
                  <a:lnTo>
                    <a:pt x="53" y="1745"/>
                  </a:lnTo>
                  <a:lnTo>
                    <a:pt x="57" y="1749"/>
                  </a:lnTo>
                  <a:lnTo>
                    <a:pt x="64" y="1754"/>
                  </a:lnTo>
                  <a:lnTo>
                    <a:pt x="66" y="1758"/>
                  </a:lnTo>
                  <a:lnTo>
                    <a:pt x="68" y="1763"/>
                  </a:lnTo>
                  <a:lnTo>
                    <a:pt x="72" y="1767"/>
                  </a:lnTo>
                  <a:lnTo>
                    <a:pt x="79" y="1772"/>
                  </a:lnTo>
                  <a:lnTo>
                    <a:pt x="81" y="1776"/>
                  </a:lnTo>
                  <a:lnTo>
                    <a:pt x="83" y="1781"/>
                  </a:lnTo>
                  <a:lnTo>
                    <a:pt x="89" y="1785"/>
                  </a:lnTo>
                  <a:lnTo>
                    <a:pt x="91" y="1790"/>
                  </a:lnTo>
                  <a:lnTo>
                    <a:pt x="91" y="1794"/>
                  </a:lnTo>
                  <a:lnTo>
                    <a:pt x="91" y="1799"/>
                  </a:lnTo>
                  <a:lnTo>
                    <a:pt x="91" y="1803"/>
                  </a:lnTo>
                  <a:lnTo>
                    <a:pt x="94" y="1808"/>
                  </a:lnTo>
                  <a:lnTo>
                    <a:pt x="94" y="1812"/>
                  </a:lnTo>
                  <a:lnTo>
                    <a:pt x="94" y="1817"/>
                  </a:lnTo>
                  <a:lnTo>
                    <a:pt x="91" y="1821"/>
                  </a:lnTo>
                  <a:lnTo>
                    <a:pt x="89" y="1826"/>
                  </a:lnTo>
                  <a:lnTo>
                    <a:pt x="89" y="1830"/>
                  </a:lnTo>
                  <a:lnTo>
                    <a:pt x="89" y="1835"/>
                  </a:lnTo>
                  <a:lnTo>
                    <a:pt x="91" y="1839"/>
                  </a:lnTo>
                  <a:lnTo>
                    <a:pt x="91" y="1844"/>
                  </a:lnTo>
                  <a:lnTo>
                    <a:pt x="94" y="1848"/>
                  </a:lnTo>
                  <a:lnTo>
                    <a:pt x="96" y="1853"/>
                  </a:lnTo>
                  <a:lnTo>
                    <a:pt x="96" y="1857"/>
                  </a:lnTo>
                  <a:lnTo>
                    <a:pt x="94" y="1862"/>
                  </a:lnTo>
                  <a:lnTo>
                    <a:pt x="94" y="1866"/>
                  </a:lnTo>
                  <a:lnTo>
                    <a:pt x="94" y="1871"/>
                  </a:lnTo>
                  <a:lnTo>
                    <a:pt x="98" y="1875"/>
                  </a:lnTo>
                  <a:lnTo>
                    <a:pt x="104" y="1880"/>
                  </a:lnTo>
                  <a:lnTo>
                    <a:pt x="108" y="1884"/>
                  </a:lnTo>
                  <a:lnTo>
                    <a:pt x="111" y="1889"/>
                  </a:lnTo>
                  <a:lnTo>
                    <a:pt x="111" y="1893"/>
                  </a:lnTo>
                  <a:lnTo>
                    <a:pt x="113" y="1898"/>
                  </a:lnTo>
                  <a:lnTo>
                    <a:pt x="111" y="1902"/>
                  </a:lnTo>
                  <a:lnTo>
                    <a:pt x="106" y="1907"/>
                  </a:lnTo>
                  <a:lnTo>
                    <a:pt x="106" y="1911"/>
                  </a:lnTo>
                  <a:lnTo>
                    <a:pt x="104" y="1916"/>
                  </a:lnTo>
                  <a:lnTo>
                    <a:pt x="102" y="1920"/>
                  </a:lnTo>
                  <a:lnTo>
                    <a:pt x="102" y="1925"/>
                  </a:lnTo>
                  <a:lnTo>
                    <a:pt x="100" y="1929"/>
                  </a:lnTo>
                  <a:lnTo>
                    <a:pt x="100" y="1934"/>
                  </a:lnTo>
                  <a:lnTo>
                    <a:pt x="100" y="1938"/>
                  </a:lnTo>
                  <a:lnTo>
                    <a:pt x="102" y="1943"/>
                  </a:lnTo>
                  <a:lnTo>
                    <a:pt x="102" y="1947"/>
                  </a:lnTo>
                  <a:lnTo>
                    <a:pt x="102" y="1952"/>
                  </a:lnTo>
                  <a:lnTo>
                    <a:pt x="102" y="1956"/>
                  </a:lnTo>
                  <a:lnTo>
                    <a:pt x="102" y="1961"/>
                  </a:lnTo>
                  <a:lnTo>
                    <a:pt x="98" y="1965"/>
                  </a:lnTo>
                  <a:lnTo>
                    <a:pt x="96" y="1970"/>
                  </a:lnTo>
                  <a:lnTo>
                    <a:pt x="94" y="1974"/>
                  </a:lnTo>
                  <a:lnTo>
                    <a:pt x="94" y="1979"/>
                  </a:lnTo>
                  <a:lnTo>
                    <a:pt x="94" y="1983"/>
                  </a:lnTo>
                  <a:lnTo>
                    <a:pt x="94" y="1988"/>
                  </a:lnTo>
                  <a:lnTo>
                    <a:pt x="96" y="1992"/>
                  </a:lnTo>
                  <a:lnTo>
                    <a:pt x="96" y="1997"/>
                  </a:lnTo>
                  <a:lnTo>
                    <a:pt x="96" y="2001"/>
                  </a:lnTo>
                  <a:lnTo>
                    <a:pt x="96" y="2006"/>
                  </a:lnTo>
                  <a:lnTo>
                    <a:pt x="94" y="2010"/>
                  </a:lnTo>
                  <a:lnTo>
                    <a:pt x="94" y="2015"/>
                  </a:lnTo>
                  <a:lnTo>
                    <a:pt x="94" y="2019"/>
                  </a:lnTo>
                  <a:lnTo>
                    <a:pt x="91" y="2024"/>
                  </a:lnTo>
                  <a:lnTo>
                    <a:pt x="91" y="2028"/>
                  </a:lnTo>
                  <a:lnTo>
                    <a:pt x="91" y="2033"/>
                  </a:lnTo>
                  <a:lnTo>
                    <a:pt x="91" y="2037"/>
                  </a:lnTo>
                  <a:lnTo>
                    <a:pt x="89" y="2042"/>
                  </a:lnTo>
                  <a:lnTo>
                    <a:pt x="89" y="2046"/>
                  </a:lnTo>
                  <a:lnTo>
                    <a:pt x="87" y="2051"/>
                  </a:lnTo>
                  <a:lnTo>
                    <a:pt x="89" y="2055"/>
                  </a:lnTo>
                  <a:lnTo>
                    <a:pt x="91" y="2060"/>
                  </a:lnTo>
                  <a:lnTo>
                    <a:pt x="96" y="2064"/>
                  </a:lnTo>
                  <a:lnTo>
                    <a:pt x="104" y="2069"/>
                  </a:lnTo>
                  <a:lnTo>
                    <a:pt x="115" y="2073"/>
                  </a:lnTo>
                  <a:lnTo>
                    <a:pt x="123" y="2078"/>
                  </a:lnTo>
                  <a:lnTo>
                    <a:pt x="136" y="2082"/>
                  </a:lnTo>
                  <a:lnTo>
                    <a:pt x="147" y="2087"/>
                  </a:lnTo>
                  <a:lnTo>
                    <a:pt x="151" y="2091"/>
                  </a:lnTo>
                  <a:lnTo>
                    <a:pt x="159" y="2096"/>
                  </a:lnTo>
                  <a:lnTo>
                    <a:pt x="166" y="2100"/>
                  </a:lnTo>
                  <a:lnTo>
                    <a:pt x="168" y="2105"/>
                  </a:lnTo>
                  <a:lnTo>
                    <a:pt x="172" y="2109"/>
                  </a:lnTo>
                  <a:lnTo>
                    <a:pt x="172" y="2114"/>
                  </a:lnTo>
                  <a:lnTo>
                    <a:pt x="172" y="2118"/>
                  </a:lnTo>
                  <a:lnTo>
                    <a:pt x="172" y="2123"/>
                  </a:lnTo>
                  <a:lnTo>
                    <a:pt x="172" y="2127"/>
                  </a:lnTo>
                  <a:lnTo>
                    <a:pt x="172" y="2132"/>
                  </a:lnTo>
                  <a:lnTo>
                    <a:pt x="174" y="2136"/>
                  </a:lnTo>
                  <a:lnTo>
                    <a:pt x="176" y="2141"/>
                  </a:lnTo>
                  <a:lnTo>
                    <a:pt x="179" y="2145"/>
                  </a:lnTo>
                  <a:lnTo>
                    <a:pt x="181" y="2150"/>
                  </a:lnTo>
                  <a:lnTo>
                    <a:pt x="183" y="2154"/>
                  </a:lnTo>
                  <a:lnTo>
                    <a:pt x="187" y="2159"/>
                  </a:lnTo>
                  <a:lnTo>
                    <a:pt x="189" y="2163"/>
                  </a:lnTo>
                  <a:lnTo>
                    <a:pt x="189" y="2168"/>
                  </a:lnTo>
                  <a:lnTo>
                    <a:pt x="189" y="2172"/>
                  </a:lnTo>
                  <a:lnTo>
                    <a:pt x="187" y="2177"/>
                  </a:lnTo>
                  <a:lnTo>
                    <a:pt x="185" y="2181"/>
                  </a:lnTo>
                  <a:lnTo>
                    <a:pt x="183" y="2186"/>
                  </a:lnTo>
                  <a:lnTo>
                    <a:pt x="181" y="2190"/>
                  </a:lnTo>
                  <a:lnTo>
                    <a:pt x="181" y="2195"/>
                  </a:lnTo>
                  <a:lnTo>
                    <a:pt x="179" y="2199"/>
                  </a:lnTo>
                  <a:lnTo>
                    <a:pt x="174" y="2204"/>
                  </a:lnTo>
                  <a:lnTo>
                    <a:pt x="174" y="2208"/>
                  </a:lnTo>
                  <a:lnTo>
                    <a:pt x="174" y="2213"/>
                  </a:lnTo>
                  <a:lnTo>
                    <a:pt x="176" y="2217"/>
                  </a:lnTo>
                  <a:lnTo>
                    <a:pt x="181" y="2222"/>
                  </a:lnTo>
                  <a:lnTo>
                    <a:pt x="187" y="2226"/>
                  </a:lnTo>
                  <a:lnTo>
                    <a:pt x="189" y="2231"/>
                  </a:lnTo>
                  <a:lnTo>
                    <a:pt x="193" y="2235"/>
                  </a:lnTo>
                  <a:lnTo>
                    <a:pt x="202" y="2240"/>
                  </a:lnTo>
                  <a:lnTo>
                    <a:pt x="206" y="2244"/>
                  </a:lnTo>
                  <a:lnTo>
                    <a:pt x="208" y="2249"/>
                  </a:lnTo>
                  <a:lnTo>
                    <a:pt x="210" y="2253"/>
                  </a:lnTo>
                  <a:lnTo>
                    <a:pt x="221" y="2258"/>
                  </a:lnTo>
                  <a:lnTo>
                    <a:pt x="223" y="2262"/>
                  </a:lnTo>
                  <a:lnTo>
                    <a:pt x="225" y="2267"/>
                  </a:lnTo>
                  <a:lnTo>
                    <a:pt x="225" y="2271"/>
                  </a:lnTo>
                  <a:lnTo>
                    <a:pt x="227" y="2276"/>
                  </a:lnTo>
                  <a:lnTo>
                    <a:pt x="230" y="2280"/>
                  </a:lnTo>
                  <a:lnTo>
                    <a:pt x="232" y="2285"/>
                  </a:lnTo>
                  <a:lnTo>
                    <a:pt x="232" y="2289"/>
                  </a:lnTo>
                  <a:lnTo>
                    <a:pt x="236" y="2294"/>
                  </a:lnTo>
                  <a:lnTo>
                    <a:pt x="240" y="2298"/>
                  </a:lnTo>
                  <a:lnTo>
                    <a:pt x="244" y="2303"/>
                  </a:lnTo>
                  <a:lnTo>
                    <a:pt x="249" y="2307"/>
                  </a:lnTo>
                  <a:lnTo>
                    <a:pt x="249" y="2312"/>
                  </a:lnTo>
                  <a:lnTo>
                    <a:pt x="249" y="2316"/>
                  </a:lnTo>
                  <a:lnTo>
                    <a:pt x="249" y="2321"/>
                  </a:lnTo>
                  <a:lnTo>
                    <a:pt x="249" y="2325"/>
                  </a:lnTo>
                  <a:lnTo>
                    <a:pt x="244" y="2330"/>
                  </a:lnTo>
                  <a:lnTo>
                    <a:pt x="240" y="2334"/>
                  </a:lnTo>
                  <a:lnTo>
                    <a:pt x="230" y="2339"/>
                  </a:lnTo>
                  <a:lnTo>
                    <a:pt x="230" y="2343"/>
                  </a:lnTo>
                  <a:lnTo>
                    <a:pt x="221" y="2348"/>
                  </a:lnTo>
                  <a:lnTo>
                    <a:pt x="213" y="2352"/>
                  </a:lnTo>
                  <a:lnTo>
                    <a:pt x="202" y="2357"/>
                  </a:lnTo>
                  <a:lnTo>
                    <a:pt x="200" y="2361"/>
                  </a:lnTo>
                  <a:lnTo>
                    <a:pt x="187" y="2366"/>
                  </a:lnTo>
                  <a:lnTo>
                    <a:pt x="183" y="2370"/>
                  </a:lnTo>
                  <a:lnTo>
                    <a:pt x="179" y="2375"/>
                  </a:lnTo>
                  <a:lnTo>
                    <a:pt x="172" y="2379"/>
                  </a:lnTo>
                  <a:lnTo>
                    <a:pt x="168" y="2384"/>
                  </a:lnTo>
                  <a:lnTo>
                    <a:pt x="166" y="2388"/>
                  </a:lnTo>
                  <a:lnTo>
                    <a:pt x="164" y="2393"/>
                  </a:lnTo>
                  <a:lnTo>
                    <a:pt x="162" y="2397"/>
                  </a:lnTo>
                  <a:lnTo>
                    <a:pt x="159" y="2402"/>
                  </a:lnTo>
                  <a:lnTo>
                    <a:pt x="157" y="2406"/>
                  </a:lnTo>
                  <a:lnTo>
                    <a:pt x="155" y="2411"/>
                  </a:lnTo>
                  <a:lnTo>
                    <a:pt x="153" y="2415"/>
                  </a:lnTo>
                  <a:lnTo>
                    <a:pt x="151" y="2420"/>
                  </a:lnTo>
                  <a:lnTo>
                    <a:pt x="149" y="2424"/>
                  </a:lnTo>
                  <a:lnTo>
                    <a:pt x="149" y="2429"/>
                  </a:lnTo>
                  <a:lnTo>
                    <a:pt x="147" y="2433"/>
                  </a:lnTo>
                  <a:lnTo>
                    <a:pt x="147" y="2438"/>
                  </a:lnTo>
                  <a:lnTo>
                    <a:pt x="147" y="2442"/>
                  </a:lnTo>
                  <a:lnTo>
                    <a:pt x="149" y="2447"/>
                  </a:lnTo>
                  <a:lnTo>
                    <a:pt x="153" y="2451"/>
                  </a:lnTo>
                  <a:lnTo>
                    <a:pt x="157" y="2456"/>
                  </a:lnTo>
                  <a:lnTo>
                    <a:pt x="162" y="2460"/>
                  </a:lnTo>
                  <a:lnTo>
                    <a:pt x="166" y="2465"/>
                  </a:lnTo>
                  <a:lnTo>
                    <a:pt x="166" y="2469"/>
                  </a:lnTo>
                  <a:lnTo>
                    <a:pt x="170" y="2474"/>
                  </a:lnTo>
                  <a:lnTo>
                    <a:pt x="170" y="2478"/>
                  </a:lnTo>
                  <a:lnTo>
                    <a:pt x="172" y="2483"/>
                  </a:lnTo>
                  <a:lnTo>
                    <a:pt x="170" y="2487"/>
                  </a:lnTo>
                  <a:lnTo>
                    <a:pt x="164" y="2492"/>
                  </a:lnTo>
                  <a:lnTo>
                    <a:pt x="157" y="2496"/>
                  </a:lnTo>
                  <a:lnTo>
                    <a:pt x="151" y="2501"/>
                  </a:lnTo>
                  <a:lnTo>
                    <a:pt x="147" y="2505"/>
                  </a:lnTo>
                  <a:lnTo>
                    <a:pt x="145" y="2510"/>
                  </a:lnTo>
                  <a:lnTo>
                    <a:pt x="140" y="2514"/>
                  </a:lnTo>
                  <a:lnTo>
                    <a:pt x="138" y="2519"/>
                  </a:lnTo>
                  <a:lnTo>
                    <a:pt x="136" y="2523"/>
                  </a:lnTo>
                  <a:lnTo>
                    <a:pt x="132" y="2528"/>
                  </a:lnTo>
                  <a:lnTo>
                    <a:pt x="130" y="2532"/>
                  </a:lnTo>
                  <a:lnTo>
                    <a:pt x="128" y="2537"/>
                  </a:lnTo>
                  <a:lnTo>
                    <a:pt x="125" y="2541"/>
                  </a:lnTo>
                  <a:lnTo>
                    <a:pt x="125" y="2546"/>
                  </a:lnTo>
                  <a:lnTo>
                    <a:pt x="123" y="2550"/>
                  </a:lnTo>
                  <a:lnTo>
                    <a:pt x="121" y="2555"/>
                  </a:lnTo>
                  <a:lnTo>
                    <a:pt x="121" y="2559"/>
                  </a:lnTo>
                  <a:lnTo>
                    <a:pt x="119" y="2564"/>
                  </a:lnTo>
                  <a:lnTo>
                    <a:pt x="117" y="2568"/>
                  </a:lnTo>
                  <a:lnTo>
                    <a:pt x="115" y="2573"/>
                  </a:lnTo>
                  <a:lnTo>
                    <a:pt x="115" y="2577"/>
                  </a:lnTo>
                  <a:lnTo>
                    <a:pt x="115" y="2582"/>
                  </a:ln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Freeform 290"/>
            <p:cNvSpPr/>
            <p:nvPr/>
          </p:nvSpPr>
          <p:spPr>
            <a:xfrm>
              <a:off x="2330280" y="2157480"/>
              <a:ext cx="1095480" cy="4379760"/>
            </a:xfrm>
            <a:custGeom>
              <a:avLst/>
              <a:gdLst>
                <a:gd name="textAreaLeft" fmla="*/ 0 w 1095480"/>
                <a:gd name="textAreaRight" fmla="*/ 1095840 w 1095480"/>
                <a:gd name="textAreaTop" fmla="*/ 0 h 4379760"/>
                <a:gd name="textAreaBottom" fmla="*/ 4380120 h 4379760"/>
              </a:gdLst>
              <a:ahLst/>
              <a:rect l="textAreaLeft" t="textAreaTop" r="textAreaRight" b="textAreaBottom"/>
              <a:pathLst>
                <a:path w="648" h="2582">
                  <a:moveTo>
                    <a:pt x="39" y="0"/>
                  </a:moveTo>
                  <a:lnTo>
                    <a:pt x="15" y="4"/>
                  </a:lnTo>
                  <a:lnTo>
                    <a:pt x="41" y="9"/>
                  </a:lnTo>
                  <a:lnTo>
                    <a:pt x="49" y="13"/>
                  </a:lnTo>
                  <a:lnTo>
                    <a:pt x="60" y="18"/>
                  </a:lnTo>
                  <a:lnTo>
                    <a:pt x="45" y="22"/>
                  </a:lnTo>
                  <a:lnTo>
                    <a:pt x="49" y="27"/>
                  </a:lnTo>
                  <a:lnTo>
                    <a:pt x="51" y="31"/>
                  </a:lnTo>
                  <a:lnTo>
                    <a:pt x="51" y="36"/>
                  </a:lnTo>
                  <a:lnTo>
                    <a:pt x="51" y="40"/>
                  </a:lnTo>
                  <a:lnTo>
                    <a:pt x="51" y="45"/>
                  </a:lnTo>
                  <a:lnTo>
                    <a:pt x="56" y="49"/>
                  </a:lnTo>
                  <a:lnTo>
                    <a:pt x="58" y="54"/>
                  </a:lnTo>
                  <a:lnTo>
                    <a:pt x="56" y="58"/>
                  </a:lnTo>
                  <a:lnTo>
                    <a:pt x="54" y="63"/>
                  </a:lnTo>
                  <a:lnTo>
                    <a:pt x="54" y="67"/>
                  </a:lnTo>
                  <a:lnTo>
                    <a:pt x="54" y="72"/>
                  </a:lnTo>
                  <a:lnTo>
                    <a:pt x="51" y="76"/>
                  </a:lnTo>
                  <a:lnTo>
                    <a:pt x="49" y="81"/>
                  </a:lnTo>
                  <a:lnTo>
                    <a:pt x="49" y="85"/>
                  </a:lnTo>
                  <a:lnTo>
                    <a:pt x="49" y="90"/>
                  </a:lnTo>
                  <a:lnTo>
                    <a:pt x="49" y="94"/>
                  </a:lnTo>
                  <a:lnTo>
                    <a:pt x="47" y="99"/>
                  </a:lnTo>
                  <a:lnTo>
                    <a:pt x="43" y="103"/>
                  </a:lnTo>
                  <a:lnTo>
                    <a:pt x="43" y="108"/>
                  </a:lnTo>
                  <a:lnTo>
                    <a:pt x="43" y="112"/>
                  </a:lnTo>
                  <a:lnTo>
                    <a:pt x="43" y="117"/>
                  </a:lnTo>
                  <a:lnTo>
                    <a:pt x="45" y="121"/>
                  </a:lnTo>
                  <a:lnTo>
                    <a:pt x="47" y="126"/>
                  </a:lnTo>
                  <a:lnTo>
                    <a:pt x="54" y="130"/>
                  </a:lnTo>
                  <a:lnTo>
                    <a:pt x="60" y="135"/>
                  </a:lnTo>
                  <a:lnTo>
                    <a:pt x="66" y="139"/>
                  </a:lnTo>
                  <a:lnTo>
                    <a:pt x="71" y="144"/>
                  </a:lnTo>
                  <a:lnTo>
                    <a:pt x="73" y="148"/>
                  </a:lnTo>
                  <a:lnTo>
                    <a:pt x="75" y="153"/>
                  </a:lnTo>
                  <a:lnTo>
                    <a:pt x="85" y="157"/>
                  </a:lnTo>
                  <a:lnTo>
                    <a:pt x="102" y="162"/>
                  </a:lnTo>
                  <a:lnTo>
                    <a:pt x="149" y="166"/>
                  </a:lnTo>
                  <a:lnTo>
                    <a:pt x="211" y="171"/>
                  </a:lnTo>
                  <a:lnTo>
                    <a:pt x="253" y="175"/>
                  </a:lnTo>
                  <a:lnTo>
                    <a:pt x="277" y="180"/>
                  </a:lnTo>
                  <a:lnTo>
                    <a:pt x="298" y="184"/>
                  </a:lnTo>
                  <a:lnTo>
                    <a:pt x="313" y="189"/>
                  </a:lnTo>
                  <a:lnTo>
                    <a:pt x="321" y="193"/>
                  </a:lnTo>
                  <a:lnTo>
                    <a:pt x="328" y="198"/>
                  </a:lnTo>
                  <a:lnTo>
                    <a:pt x="332" y="202"/>
                  </a:lnTo>
                  <a:lnTo>
                    <a:pt x="330" y="207"/>
                  </a:lnTo>
                  <a:lnTo>
                    <a:pt x="319" y="211"/>
                  </a:lnTo>
                  <a:lnTo>
                    <a:pt x="311" y="216"/>
                  </a:lnTo>
                  <a:lnTo>
                    <a:pt x="308" y="220"/>
                  </a:lnTo>
                  <a:lnTo>
                    <a:pt x="306" y="225"/>
                  </a:lnTo>
                  <a:lnTo>
                    <a:pt x="304" y="229"/>
                  </a:lnTo>
                  <a:lnTo>
                    <a:pt x="304" y="234"/>
                  </a:lnTo>
                  <a:lnTo>
                    <a:pt x="302" y="238"/>
                  </a:lnTo>
                  <a:lnTo>
                    <a:pt x="300" y="243"/>
                  </a:lnTo>
                  <a:lnTo>
                    <a:pt x="298" y="247"/>
                  </a:lnTo>
                  <a:lnTo>
                    <a:pt x="294" y="252"/>
                  </a:lnTo>
                  <a:lnTo>
                    <a:pt x="287" y="256"/>
                  </a:lnTo>
                  <a:lnTo>
                    <a:pt x="279" y="261"/>
                  </a:lnTo>
                  <a:lnTo>
                    <a:pt x="277" y="265"/>
                  </a:lnTo>
                  <a:lnTo>
                    <a:pt x="279" y="270"/>
                  </a:lnTo>
                  <a:lnTo>
                    <a:pt x="281" y="274"/>
                  </a:lnTo>
                  <a:lnTo>
                    <a:pt x="281" y="279"/>
                  </a:lnTo>
                  <a:lnTo>
                    <a:pt x="283" y="283"/>
                  </a:lnTo>
                  <a:lnTo>
                    <a:pt x="285" y="288"/>
                  </a:lnTo>
                  <a:lnTo>
                    <a:pt x="285" y="292"/>
                  </a:lnTo>
                  <a:lnTo>
                    <a:pt x="287" y="297"/>
                  </a:lnTo>
                  <a:lnTo>
                    <a:pt x="287" y="301"/>
                  </a:lnTo>
                  <a:lnTo>
                    <a:pt x="289" y="306"/>
                  </a:lnTo>
                  <a:lnTo>
                    <a:pt x="292" y="310"/>
                  </a:lnTo>
                  <a:lnTo>
                    <a:pt x="294" y="315"/>
                  </a:lnTo>
                  <a:lnTo>
                    <a:pt x="298" y="319"/>
                  </a:lnTo>
                  <a:lnTo>
                    <a:pt x="300" y="324"/>
                  </a:lnTo>
                  <a:lnTo>
                    <a:pt x="300" y="328"/>
                  </a:lnTo>
                  <a:lnTo>
                    <a:pt x="302" y="333"/>
                  </a:lnTo>
                  <a:lnTo>
                    <a:pt x="304" y="337"/>
                  </a:lnTo>
                  <a:lnTo>
                    <a:pt x="304" y="342"/>
                  </a:lnTo>
                  <a:lnTo>
                    <a:pt x="302" y="346"/>
                  </a:lnTo>
                  <a:lnTo>
                    <a:pt x="302" y="351"/>
                  </a:lnTo>
                  <a:lnTo>
                    <a:pt x="300" y="355"/>
                  </a:lnTo>
                  <a:lnTo>
                    <a:pt x="296" y="360"/>
                  </a:lnTo>
                  <a:lnTo>
                    <a:pt x="296" y="364"/>
                  </a:lnTo>
                  <a:lnTo>
                    <a:pt x="302" y="369"/>
                  </a:lnTo>
                  <a:lnTo>
                    <a:pt x="311" y="373"/>
                  </a:lnTo>
                  <a:lnTo>
                    <a:pt x="317" y="378"/>
                  </a:lnTo>
                  <a:lnTo>
                    <a:pt x="323" y="382"/>
                  </a:lnTo>
                  <a:lnTo>
                    <a:pt x="328" y="387"/>
                  </a:lnTo>
                  <a:lnTo>
                    <a:pt x="332" y="391"/>
                  </a:lnTo>
                  <a:lnTo>
                    <a:pt x="338" y="396"/>
                  </a:lnTo>
                  <a:lnTo>
                    <a:pt x="342" y="400"/>
                  </a:lnTo>
                  <a:lnTo>
                    <a:pt x="345" y="405"/>
                  </a:lnTo>
                  <a:lnTo>
                    <a:pt x="345" y="409"/>
                  </a:lnTo>
                  <a:lnTo>
                    <a:pt x="345" y="414"/>
                  </a:lnTo>
                  <a:lnTo>
                    <a:pt x="345" y="418"/>
                  </a:lnTo>
                  <a:lnTo>
                    <a:pt x="345" y="423"/>
                  </a:lnTo>
                  <a:lnTo>
                    <a:pt x="349" y="427"/>
                  </a:lnTo>
                  <a:lnTo>
                    <a:pt x="355" y="432"/>
                  </a:lnTo>
                  <a:lnTo>
                    <a:pt x="364" y="436"/>
                  </a:lnTo>
                  <a:lnTo>
                    <a:pt x="374" y="441"/>
                  </a:lnTo>
                  <a:lnTo>
                    <a:pt x="387" y="445"/>
                  </a:lnTo>
                  <a:lnTo>
                    <a:pt x="398" y="450"/>
                  </a:lnTo>
                  <a:lnTo>
                    <a:pt x="408" y="454"/>
                  </a:lnTo>
                  <a:lnTo>
                    <a:pt x="421" y="459"/>
                  </a:lnTo>
                  <a:lnTo>
                    <a:pt x="434" y="463"/>
                  </a:lnTo>
                  <a:lnTo>
                    <a:pt x="440" y="468"/>
                  </a:lnTo>
                  <a:lnTo>
                    <a:pt x="438" y="472"/>
                  </a:lnTo>
                  <a:lnTo>
                    <a:pt x="436" y="477"/>
                  </a:lnTo>
                  <a:lnTo>
                    <a:pt x="430" y="481"/>
                  </a:lnTo>
                  <a:lnTo>
                    <a:pt x="419" y="486"/>
                  </a:lnTo>
                  <a:lnTo>
                    <a:pt x="406" y="490"/>
                  </a:lnTo>
                  <a:lnTo>
                    <a:pt x="391" y="495"/>
                  </a:lnTo>
                  <a:lnTo>
                    <a:pt x="370" y="499"/>
                  </a:lnTo>
                  <a:lnTo>
                    <a:pt x="347" y="504"/>
                  </a:lnTo>
                  <a:lnTo>
                    <a:pt x="330" y="508"/>
                  </a:lnTo>
                  <a:lnTo>
                    <a:pt x="319" y="512"/>
                  </a:lnTo>
                  <a:lnTo>
                    <a:pt x="311" y="517"/>
                  </a:lnTo>
                  <a:lnTo>
                    <a:pt x="304" y="521"/>
                  </a:lnTo>
                  <a:lnTo>
                    <a:pt x="298" y="526"/>
                  </a:lnTo>
                  <a:lnTo>
                    <a:pt x="298" y="530"/>
                  </a:lnTo>
                  <a:lnTo>
                    <a:pt x="302" y="535"/>
                  </a:lnTo>
                  <a:lnTo>
                    <a:pt x="304" y="539"/>
                  </a:lnTo>
                  <a:lnTo>
                    <a:pt x="302" y="544"/>
                  </a:lnTo>
                  <a:lnTo>
                    <a:pt x="306" y="548"/>
                  </a:lnTo>
                  <a:lnTo>
                    <a:pt x="319" y="553"/>
                  </a:lnTo>
                  <a:lnTo>
                    <a:pt x="334" y="557"/>
                  </a:lnTo>
                  <a:lnTo>
                    <a:pt x="342" y="562"/>
                  </a:lnTo>
                  <a:lnTo>
                    <a:pt x="349" y="566"/>
                  </a:lnTo>
                  <a:lnTo>
                    <a:pt x="353" y="571"/>
                  </a:lnTo>
                  <a:lnTo>
                    <a:pt x="351" y="575"/>
                  </a:lnTo>
                  <a:lnTo>
                    <a:pt x="347" y="580"/>
                  </a:lnTo>
                  <a:lnTo>
                    <a:pt x="345" y="584"/>
                  </a:lnTo>
                  <a:lnTo>
                    <a:pt x="336" y="589"/>
                  </a:lnTo>
                  <a:lnTo>
                    <a:pt x="328" y="593"/>
                  </a:lnTo>
                  <a:lnTo>
                    <a:pt x="315" y="598"/>
                  </a:lnTo>
                  <a:lnTo>
                    <a:pt x="306" y="602"/>
                  </a:lnTo>
                  <a:lnTo>
                    <a:pt x="300" y="607"/>
                  </a:lnTo>
                  <a:lnTo>
                    <a:pt x="296" y="611"/>
                  </a:lnTo>
                  <a:lnTo>
                    <a:pt x="296" y="616"/>
                  </a:lnTo>
                  <a:lnTo>
                    <a:pt x="296" y="620"/>
                  </a:lnTo>
                  <a:lnTo>
                    <a:pt x="292" y="625"/>
                  </a:lnTo>
                  <a:lnTo>
                    <a:pt x="292" y="629"/>
                  </a:lnTo>
                  <a:lnTo>
                    <a:pt x="287" y="634"/>
                  </a:lnTo>
                  <a:lnTo>
                    <a:pt x="281" y="638"/>
                  </a:lnTo>
                  <a:lnTo>
                    <a:pt x="275" y="643"/>
                  </a:lnTo>
                  <a:lnTo>
                    <a:pt x="275" y="647"/>
                  </a:lnTo>
                  <a:lnTo>
                    <a:pt x="281" y="652"/>
                  </a:lnTo>
                  <a:lnTo>
                    <a:pt x="287" y="656"/>
                  </a:lnTo>
                  <a:lnTo>
                    <a:pt x="294" y="661"/>
                  </a:lnTo>
                  <a:lnTo>
                    <a:pt x="315" y="665"/>
                  </a:lnTo>
                  <a:lnTo>
                    <a:pt x="342" y="670"/>
                  </a:lnTo>
                  <a:lnTo>
                    <a:pt x="359" y="674"/>
                  </a:lnTo>
                  <a:lnTo>
                    <a:pt x="374" y="679"/>
                  </a:lnTo>
                  <a:lnTo>
                    <a:pt x="389" y="683"/>
                  </a:lnTo>
                  <a:lnTo>
                    <a:pt x="393" y="688"/>
                  </a:lnTo>
                  <a:lnTo>
                    <a:pt x="391" y="692"/>
                  </a:lnTo>
                  <a:lnTo>
                    <a:pt x="393" y="697"/>
                  </a:lnTo>
                  <a:lnTo>
                    <a:pt x="396" y="701"/>
                  </a:lnTo>
                  <a:lnTo>
                    <a:pt x="389" y="706"/>
                  </a:lnTo>
                  <a:lnTo>
                    <a:pt x="374" y="710"/>
                  </a:lnTo>
                  <a:lnTo>
                    <a:pt x="362" y="715"/>
                  </a:lnTo>
                  <a:lnTo>
                    <a:pt x="347" y="719"/>
                  </a:lnTo>
                  <a:lnTo>
                    <a:pt x="336" y="724"/>
                  </a:lnTo>
                  <a:lnTo>
                    <a:pt x="338" y="728"/>
                  </a:lnTo>
                  <a:lnTo>
                    <a:pt x="338" y="733"/>
                  </a:lnTo>
                  <a:lnTo>
                    <a:pt x="334" y="737"/>
                  </a:lnTo>
                  <a:lnTo>
                    <a:pt x="323" y="742"/>
                  </a:lnTo>
                  <a:lnTo>
                    <a:pt x="317" y="746"/>
                  </a:lnTo>
                  <a:lnTo>
                    <a:pt x="313" y="751"/>
                  </a:lnTo>
                  <a:lnTo>
                    <a:pt x="308" y="755"/>
                  </a:lnTo>
                  <a:lnTo>
                    <a:pt x="304" y="760"/>
                  </a:lnTo>
                  <a:lnTo>
                    <a:pt x="296" y="764"/>
                  </a:lnTo>
                  <a:lnTo>
                    <a:pt x="283" y="769"/>
                  </a:lnTo>
                  <a:lnTo>
                    <a:pt x="272" y="773"/>
                  </a:lnTo>
                  <a:lnTo>
                    <a:pt x="266" y="778"/>
                  </a:lnTo>
                  <a:lnTo>
                    <a:pt x="264" y="782"/>
                  </a:lnTo>
                  <a:lnTo>
                    <a:pt x="262" y="787"/>
                  </a:lnTo>
                  <a:lnTo>
                    <a:pt x="262" y="791"/>
                  </a:lnTo>
                  <a:lnTo>
                    <a:pt x="262" y="796"/>
                  </a:lnTo>
                  <a:lnTo>
                    <a:pt x="262" y="800"/>
                  </a:lnTo>
                  <a:lnTo>
                    <a:pt x="260" y="805"/>
                  </a:lnTo>
                  <a:lnTo>
                    <a:pt x="260" y="809"/>
                  </a:lnTo>
                  <a:lnTo>
                    <a:pt x="262" y="814"/>
                  </a:lnTo>
                  <a:lnTo>
                    <a:pt x="264" y="818"/>
                  </a:lnTo>
                  <a:lnTo>
                    <a:pt x="264" y="823"/>
                  </a:lnTo>
                  <a:lnTo>
                    <a:pt x="264" y="827"/>
                  </a:lnTo>
                  <a:lnTo>
                    <a:pt x="272" y="832"/>
                  </a:lnTo>
                  <a:lnTo>
                    <a:pt x="289" y="836"/>
                  </a:lnTo>
                  <a:lnTo>
                    <a:pt x="308" y="841"/>
                  </a:lnTo>
                  <a:lnTo>
                    <a:pt x="325" y="845"/>
                  </a:lnTo>
                  <a:lnTo>
                    <a:pt x="340" y="850"/>
                  </a:lnTo>
                  <a:lnTo>
                    <a:pt x="351" y="854"/>
                  </a:lnTo>
                  <a:lnTo>
                    <a:pt x="359" y="859"/>
                  </a:lnTo>
                  <a:lnTo>
                    <a:pt x="370" y="863"/>
                  </a:lnTo>
                  <a:lnTo>
                    <a:pt x="383" y="868"/>
                  </a:lnTo>
                  <a:lnTo>
                    <a:pt x="393" y="872"/>
                  </a:lnTo>
                  <a:lnTo>
                    <a:pt x="398" y="877"/>
                  </a:lnTo>
                  <a:lnTo>
                    <a:pt x="413" y="881"/>
                  </a:lnTo>
                  <a:lnTo>
                    <a:pt x="440" y="886"/>
                  </a:lnTo>
                  <a:lnTo>
                    <a:pt x="470" y="890"/>
                  </a:lnTo>
                  <a:lnTo>
                    <a:pt x="502" y="895"/>
                  </a:lnTo>
                  <a:lnTo>
                    <a:pt x="532" y="899"/>
                  </a:lnTo>
                  <a:lnTo>
                    <a:pt x="563" y="904"/>
                  </a:lnTo>
                  <a:lnTo>
                    <a:pt x="587" y="908"/>
                  </a:lnTo>
                  <a:lnTo>
                    <a:pt x="602" y="913"/>
                  </a:lnTo>
                  <a:lnTo>
                    <a:pt x="617" y="917"/>
                  </a:lnTo>
                  <a:lnTo>
                    <a:pt x="629" y="922"/>
                  </a:lnTo>
                  <a:lnTo>
                    <a:pt x="633" y="926"/>
                  </a:lnTo>
                  <a:lnTo>
                    <a:pt x="638" y="931"/>
                  </a:lnTo>
                  <a:lnTo>
                    <a:pt x="646" y="935"/>
                  </a:lnTo>
                  <a:lnTo>
                    <a:pt x="648" y="940"/>
                  </a:lnTo>
                  <a:lnTo>
                    <a:pt x="648" y="944"/>
                  </a:lnTo>
                  <a:lnTo>
                    <a:pt x="648" y="949"/>
                  </a:lnTo>
                  <a:lnTo>
                    <a:pt x="648" y="953"/>
                  </a:lnTo>
                  <a:lnTo>
                    <a:pt x="648" y="958"/>
                  </a:lnTo>
                  <a:lnTo>
                    <a:pt x="648" y="962"/>
                  </a:lnTo>
                  <a:lnTo>
                    <a:pt x="648" y="967"/>
                  </a:lnTo>
                  <a:lnTo>
                    <a:pt x="648" y="971"/>
                  </a:lnTo>
                  <a:lnTo>
                    <a:pt x="642" y="976"/>
                  </a:lnTo>
                  <a:lnTo>
                    <a:pt x="625" y="980"/>
                  </a:lnTo>
                  <a:lnTo>
                    <a:pt x="610" y="985"/>
                  </a:lnTo>
                  <a:lnTo>
                    <a:pt x="595" y="989"/>
                  </a:lnTo>
                  <a:lnTo>
                    <a:pt x="576" y="994"/>
                  </a:lnTo>
                  <a:lnTo>
                    <a:pt x="549" y="998"/>
                  </a:lnTo>
                  <a:lnTo>
                    <a:pt x="515" y="1003"/>
                  </a:lnTo>
                  <a:lnTo>
                    <a:pt x="485" y="1007"/>
                  </a:lnTo>
                  <a:lnTo>
                    <a:pt x="440" y="1012"/>
                  </a:lnTo>
                  <a:lnTo>
                    <a:pt x="381" y="1016"/>
                  </a:lnTo>
                  <a:lnTo>
                    <a:pt x="370" y="1021"/>
                  </a:lnTo>
                  <a:lnTo>
                    <a:pt x="393" y="1025"/>
                  </a:lnTo>
                  <a:lnTo>
                    <a:pt x="425" y="1030"/>
                  </a:lnTo>
                  <a:lnTo>
                    <a:pt x="447" y="1034"/>
                  </a:lnTo>
                  <a:lnTo>
                    <a:pt x="464" y="1039"/>
                  </a:lnTo>
                  <a:lnTo>
                    <a:pt x="476" y="1043"/>
                  </a:lnTo>
                  <a:lnTo>
                    <a:pt x="489" y="1048"/>
                  </a:lnTo>
                  <a:lnTo>
                    <a:pt x="495" y="1052"/>
                  </a:lnTo>
                  <a:lnTo>
                    <a:pt x="500" y="1057"/>
                  </a:lnTo>
                  <a:lnTo>
                    <a:pt x="502" y="1061"/>
                  </a:lnTo>
                  <a:lnTo>
                    <a:pt x="495" y="1066"/>
                  </a:lnTo>
                  <a:lnTo>
                    <a:pt x="485" y="1070"/>
                  </a:lnTo>
                  <a:lnTo>
                    <a:pt x="476" y="1075"/>
                  </a:lnTo>
                  <a:lnTo>
                    <a:pt x="472" y="1079"/>
                  </a:lnTo>
                  <a:lnTo>
                    <a:pt x="461" y="1084"/>
                  </a:lnTo>
                  <a:lnTo>
                    <a:pt x="449" y="1088"/>
                  </a:lnTo>
                  <a:lnTo>
                    <a:pt x="442" y="1093"/>
                  </a:lnTo>
                  <a:lnTo>
                    <a:pt x="434" y="1097"/>
                  </a:lnTo>
                  <a:lnTo>
                    <a:pt x="430" y="1102"/>
                  </a:lnTo>
                  <a:lnTo>
                    <a:pt x="427" y="1106"/>
                  </a:lnTo>
                  <a:lnTo>
                    <a:pt x="434" y="1111"/>
                  </a:lnTo>
                  <a:lnTo>
                    <a:pt x="438" y="1115"/>
                  </a:lnTo>
                  <a:lnTo>
                    <a:pt x="442" y="1120"/>
                  </a:lnTo>
                  <a:lnTo>
                    <a:pt x="453" y="1124"/>
                  </a:lnTo>
                  <a:lnTo>
                    <a:pt x="464" y="1129"/>
                  </a:lnTo>
                  <a:lnTo>
                    <a:pt x="470" y="1133"/>
                  </a:lnTo>
                  <a:lnTo>
                    <a:pt x="472" y="1138"/>
                  </a:lnTo>
                  <a:lnTo>
                    <a:pt x="474" y="1142"/>
                  </a:lnTo>
                  <a:lnTo>
                    <a:pt x="472" y="1147"/>
                  </a:lnTo>
                  <a:lnTo>
                    <a:pt x="468" y="1151"/>
                  </a:lnTo>
                  <a:lnTo>
                    <a:pt x="464" y="1156"/>
                  </a:lnTo>
                  <a:lnTo>
                    <a:pt x="459" y="1160"/>
                  </a:lnTo>
                  <a:lnTo>
                    <a:pt x="453" y="1165"/>
                  </a:lnTo>
                  <a:lnTo>
                    <a:pt x="444" y="1169"/>
                  </a:lnTo>
                  <a:lnTo>
                    <a:pt x="444" y="1174"/>
                  </a:lnTo>
                  <a:lnTo>
                    <a:pt x="455" y="1178"/>
                  </a:lnTo>
                  <a:lnTo>
                    <a:pt x="476" y="1183"/>
                  </a:lnTo>
                  <a:lnTo>
                    <a:pt x="495" y="1187"/>
                  </a:lnTo>
                  <a:lnTo>
                    <a:pt x="510" y="1192"/>
                  </a:lnTo>
                  <a:lnTo>
                    <a:pt x="527" y="1196"/>
                  </a:lnTo>
                  <a:lnTo>
                    <a:pt x="546" y="1201"/>
                  </a:lnTo>
                  <a:lnTo>
                    <a:pt x="557" y="1205"/>
                  </a:lnTo>
                  <a:lnTo>
                    <a:pt x="561" y="1210"/>
                  </a:lnTo>
                  <a:lnTo>
                    <a:pt x="561" y="1214"/>
                  </a:lnTo>
                  <a:lnTo>
                    <a:pt x="555" y="1219"/>
                  </a:lnTo>
                  <a:lnTo>
                    <a:pt x="542" y="1223"/>
                  </a:lnTo>
                  <a:lnTo>
                    <a:pt x="527" y="1228"/>
                  </a:lnTo>
                  <a:lnTo>
                    <a:pt x="508" y="1232"/>
                  </a:lnTo>
                  <a:lnTo>
                    <a:pt x="481" y="1237"/>
                  </a:lnTo>
                  <a:lnTo>
                    <a:pt x="442" y="1241"/>
                  </a:lnTo>
                  <a:lnTo>
                    <a:pt x="400" y="1246"/>
                  </a:lnTo>
                  <a:lnTo>
                    <a:pt x="366" y="1250"/>
                  </a:lnTo>
                  <a:lnTo>
                    <a:pt x="347" y="1255"/>
                  </a:lnTo>
                  <a:lnTo>
                    <a:pt x="328" y="1259"/>
                  </a:lnTo>
                  <a:lnTo>
                    <a:pt x="300" y="1264"/>
                  </a:lnTo>
                  <a:lnTo>
                    <a:pt x="285" y="1268"/>
                  </a:lnTo>
                  <a:lnTo>
                    <a:pt x="281" y="1273"/>
                  </a:lnTo>
                  <a:lnTo>
                    <a:pt x="279" y="1277"/>
                  </a:lnTo>
                  <a:lnTo>
                    <a:pt x="279" y="1282"/>
                  </a:lnTo>
                  <a:lnTo>
                    <a:pt x="279" y="1286"/>
                  </a:lnTo>
                  <a:lnTo>
                    <a:pt x="270" y="1291"/>
                  </a:lnTo>
                  <a:lnTo>
                    <a:pt x="258" y="1295"/>
                  </a:lnTo>
                  <a:lnTo>
                    <a:pt x="245" y="1300"/>
                  </a:lnTo>
                  <a:lnTo>
                    <a:pt x="238" y="1304"/>
                  </a:lnTo>
                  <a:lnTo>
                    <a:pt x="234" y="1309"/>
                  </a:lnTo>
                  <a:lnTo>
                    <a:pt x="230" y="1313"/>
                  </a:lnTo>
                  <a:lnTo>
                    <a:pt x="232" y="1318"/>
                  </a:lnTo>
                  <a:lnTo>
                    <a:pt x="241" y="1322"/>
                  </a:lnTo>
                  <a:lnTo>
                    <a:pt x="245" y="1327"/>
                  </a:lnTo>
                  <a:lnTo>
                    <a:pt x="245" y="1331"/>
                  </a:lnTo>
                  <a:lnTo>
                    <a:pt x="249" y="1336"/>
                  </a:lnTo>
                  <a:lnTo>
                    <a:pt x="249" y="1340"/>
                  </a:lnTo>
                  <a:lnTo>
                    <a:pt x="247" y="1345"/>
                  </a:lnTo>
                  <a:lnTo>
                    <a:pt x="243" y="1349"/>
                  </a:lnTo>
                  <a:lnTo>
                    <a:pt x="236" y="1354"/>
                  </a:lnTo>
                  <a:lnTo>
                    <a:pt x="221" y="1358"/>
                  </a:lnTo>
                  <a:lnTo>
                    <a:pt x="202" y="1363"/>
                  </a:lnTo>
                  <a:lnTo>
                    <a:pt x="190" y="1367"/>
                  </a:lnTo>
                  <a:lnTo>
                    <a:pt x="183" y="1372"/>
                  </a:lnTo>
                  <a:lnTo>
                    <a:pt x="177" y="1376"/>
                  </a:lnTo>
                  <a:lnTo>
                    <a:pt x="173" y="1381"/>
                  </a:lnTo>
                  <a:lnTo>
                    <a:pt x="168" y="1385"/>
                  </a:lnTo>
                  <a:lnTo>
                    <a:pt x="166" y="1390"/>
                  </a:lnTo>
                  <a:lnTo>
                    <a:pt x="166" y="1394"/>
                  </a:lnTo>
                  <a:lnTo>
                    <a:pt x="164" y="1399"/>
                  </a:lnTo>
                  <a:lnTo>
                    <a:pt x="164" y="1403"/>
                  </a:lnTo>
                  <a:lnTo>
                    <a:pt x="164" y="1408"/>
                  </a:lnTo>
                  <a:lnTo>
                    <a:pt x="162" y="1412"/>
                  </a:lnTo>
                  <a:lnTo>
                    <a:pt x="166" y="1417"/>
                  </a:lnTo>
                  <a:lnTo>
                    <a:pt x="173" y="1421"/>
                  </a:lnTo>
                  <a:lnTo>
                    <a:pt x="177" y="1426"/>
                  </a:lnTo>
                  <a:lnTo>
                    <a:pt x="177" y="1430"/>
                  </a:lnTo>
                  <a:lnTo>
                    <a:pt x="179" y="1435"/>
                  </a:lnTo>
                  <a:lnTo>
                    <a:pt x="179" y="1439"/>
                  </a:lnTo>
                  <a:lnTo>
                    <a:pt x="179" y="1444"/>
                  </a:lnTo>
                  <a:lnTo>
                    <a:pt x="179" y="1448"/>
                  </a:lnTo>
                  <a:lnTo>
                    <a:pt x="177" y="1453"/>
                  </a:lnTo>
                  <a:lnTo>
                    <a:pt x="173" y="1457"/>
                  </a:lnTo>
                  <a:lnTo>
                    <a:pt x="166" y="1462"/>
                  </a:lnTo>
                  <a:lnTo>
                    <a:pt x="166" y="1466"/>
                  </a:lnTo>
                  <a:lnTo>
                    <a:pt x="164" y="1471"/>
                  </a:lnTo>
                  <a:lnTo>
                    <a:pt x="168" y="1475"/>
                  </a:lnTo>
                  <a:lnTo>
                    <a:pt x="175" y="1480"/>
                  </a:lnTo>
                  <a:lnTo>
                    <a:pt x="177" y="1484"/>
                  </a:lnTo>
                  <a:lnTo>
                    <a:pt x="181" y="1489"/>
                  </a:lnTo>
                  <a:lnTo>
                    <a:pt x="183" y="1493"/>
                  </a:lnTo>
                  <a:lnTo>
                    <a:pt x="183" y="1498"/>
                  </a:lnTo>
                  <a:lnTo>
                    <a:pt x="183" y="1502"/>
                  </a:lnTo>
                  <a:lnTo>
                    <a:pt x="187" y="1507"/>
                  </a:lnTo>
                  <a:lnTo>
                    <a:pt x="198" y="1511"/>
                  </a:lnTo>
                  <a:lnTo>
                    <a:pt x="198" y="1516"/>
                  </a:lnTo>
                  <a:lnTo>
                    <a:pt x="194" y="1520"/>
                  </a:lnTo>
                  <a:lnTo>
                    <a:pt x="192" y="1525"/>
                  </a:lnTo>
                  <a:lnTo>
                    <a:pt x="190" y="1529"/>
                  </a:lnTo>
                  <a:lnTo>
                    <a:pt x="187" y="1534"/>
                  </a:lnTo>
                  <a:lnTo>
                    <a:pt x="185" y="1538"/>
                  </a:lnTo>
                  <a:lnTo>
                    <a:pt x="181" y="1543"/>
                  </a:lnTo>
                  <a:lnTo>
                    <a:pt x="168" y="1547"/>
                  </a:lnTo>
                  <a:lnTo>
                    <a:pt x="151" y="1552"/>
                  </a:lnTo>
                  <a:lnTo>
                    <a:pt x="141" y="1556"/>
                  </a:lnTo>
                  <a:lnTo>
                    <a:pt x="134" y="1560"/>
                  </a:lnTo>
                  <a:lnTo>
                    <a:pt x="128" y="1565"/>
                  </a:lnTo>
                  <a:lnTo>
                    <a:pt x="124" y="1569"/>
                  </a:lnTo>
                  <a:lnTo>
                    <a:pt x="117" y="1574"/>
                  </a:lnTo>
                  <a:lnTo>
                    <a:pt x="111" y="1578"/>
                  </a:lnTo>
                  <a:lnTo>
                    <a:pt x="107" y="1583"/>
                  </a:lnTo>
                  <a:lnTo>
                    <a:pt x="105" y="1587"/>
                  </a:lnTo>
                  <a:lnTo>
                    <a:pt x="105" y="1592"/>
                  </a:lnTo>
                  <a:lnTo>
                    <a:pt x="105" y="1596"/>
                  </a:lnTo>
                  <a:lnTo>
                    <a:pt x="102" y="1601"/>
                  </a:lnTo>
                  <a:lnTo>
                    <a:pt x="98" y="1605"/>
                  </a:lnTo>
                  <a:lnTo>
                    <a:pt x="96" y="1610"/>
                  </a:lnTo>
                  <a:lnTo>
                    <a:pt x="96" y="1614"/>
                  </a:lnTo>
                  <a:lnTo>
                    <a:pt x="96" y="1619"/>
                  </a:lnTo>
                  <a:lnTo>
                    <a:pt x="96" y="1623"/>
                  </a:lnTo>
                  <a:lnTo>
                    <a:pt x="96" y="1628"/>
                  </a:lnTo>
                  <a:lnTo>
                    <a:pt x="96" y="1632"/>
                  </a:lnTo>
                  <a:lnTo>
                    <a:pt x="94" y="1637"/>
                  </a:lnTo>
                  <a:lnTo>
                    <a:pt x="94" y="1641"/>
                  </a:lnTo>
                  <a:lnTo>
                    <a:pt x="96" y="1646"/>
                  </a:lnTo>
                  <a:lnTo>
                    <a:pt x="96" y="1650"/>
                  </a:lnTo>
                  <a:lnTo>
                    <a:pt x="96" y="1655"/>
                  </a:lnTo>
                  <a:lnTo>
                    <a:pt x="98" y="1659"/>
                  </a:lnTo>
                  <a:lnTo>
                    <a:pt x="102" y="1664"/>
                  </a:lnTo>
                  <a:lnTo>
                    <a:pt x="109" y="1668"/>
                  </a:lnTo>
                  <a:lnTo>
                    <a:pt x="113" y="1673"/>
                  </a:lnTo>
                  <a:lnTo>
                    <a:pt x="115" y="1677"/>
                  </a:lnTo>
                  <a:lnTo>
                    <a:pt x="117" y="1682"/>
                  </a:lnTo>
                  <a:lnTo>
                    <a:pt x="119" y="1686"/>
                  </a:lnTo>
                  <a:lnTo>
                    <a:pt x="119" y="1691"/>
                  </a:lnTo>
                  <a:lnTo>
                    <a:pt x="122" y="1695"/>
                  </a:lnTo>
                  <a:lnTo>
                    <a:pt x="126" y="1700"/>
                  </a:lnTo>
                  <a:lnTo>
                    <a:pt x="126" y="1704"/>
                  </a:lnTo>
                  <a:lnTo>
                    <a:pt x="124" y="1709"/>
                  </a:lnTo>
                  <a:lnTo>
                    <a:pt x="122" y="1713"/>
                  </a:lnTo>
                  <a:lnTo>
                    <a:pt x="124" y="1718"/>
                  </a:lnTo>
                  <a:lnTo>
                    <a:pt x="124" y="1722"/>
                  </a:lnTo>
                  <a:lnTo>
                    <a:pt x="126" y="1727"/>
                  </a:lnTo>
                  <a:lnTo>
                    <a:pt x="126" y="1731"/>
                  </a:lnTo>
                  <a:lnTo>
                    <a:pt x="130" y="1736"/>
                  </a:lnTo>
                  <a:lnTo>
                    <a:pt x="134" y="1740"/>
                  </a:lnTo>
                  <a:lnTo>
                    <a:pt x="141" y="1745"/>
                  </a:lnTo>
                  <a:lnTo>
                    <a:pt x="151" y="1749"/>
                  </a:lnTo>
                  <a:lnTo>
                    <a:pt x="162" y="1754"/>
                  </a:lnTo>
                  <a:lnTo>
                    <a:pt x="173" y="1758"/>
                  </a:lnTo>
                  <a:lnTo>
                    <a:pt x="179" y="1763"/>
                  </a:lnTo>
                  <a:lnTo>
                    <a:pt x="185" y="1767"/>
                  </a:lnTo>
                  <a:lnTo>
                    <a:pt x="192" y="1772"/>
                  </a:lnTo>
                  <a:lnTo>
                    <a:pt x="196" y="1776"/>
                  </a:lnTo>
                  <a:lnTo>
                    <a:pt x="200" y="1781"/>
                  </a:lnTo>
                  <a:lnTo>
                    <a:pt x="202" y="1785"/>
                  </a:lnTo>
                  <a:lnTo>
                    <a:pt x="202" y="1790"/>
                  </a:lnTo>
                  <a:lnTo>
                    <a:pt x="198" y="1794"/>
                  </a:lnTo>
                  <a:lnTo>
                    <a:pt x="196" y="1799"/>
                  </a:lnTo>
                  <a:lnTo>
                    <a:pt x="194" y="1803"/>
                  </a:lnTo>
                  <a:lnTo>
                    <a:pt x="192" y="1808"/>
                  </a:lnTo>
                  <a:lnTo>
                    <a:pt x="192" y="1812"/>
                  </a:lnTo>
                  <a:lnTo>
                    <a:pt x="190" y="1817"/>
                  </a:lnTo>
                  <a:lnTo>
                    <a:pt x="190" y="1821"/>
                  </a:lnTo>
                  <a:lnTo>
                    <a:pt x="194" y="1826"/>
                  </a:lnTo>
                  <a:lnTo>
                    <a:pt x="202" y="1830"/>
                  </a:lnTo>
                  <a:lnTo>
                    <a:pt x="209" y="1835"/>
                  </a:lnTo>
                  <a:lnTo>
                    <a:pt x="211" y="1839"/>
                  </a:lnTo>
                  <a:lnTo>
                    <a:pt x="211" y="1844"/>
                  </a:lnTo>
                  <a:lnTo>
                    <a:pt x="207" y="1848"/>
                  </a:lnTo>
                  <a:lnTo>
                    <a:pt x="204" y="1853"/>
                  </a:lnTo>
                  <a:lnTo>
                    <a:pt x="200" y="1857"/>
                  </a:lnTo>
                  <a:lnTo>
                    <a:pt x="198" y="1862"/>
                  </a:lnTo>
                  <a:lnTo>
                    <a:pt x="196" y="1866"/>
                  </a:lnTo>
                  <a:lnTo>
                    <a:pt x="196" y="1871"/>
                  </a:lnTo>
                  <a:lnTo>
                    <a:pt x="198" y="1875"/>
                  </a:lnTo>
                  <a:lnTo>
                    <a:pt x="198" y="1880"/>
                  </a:lnTo>
                  <a:lnTo>
                    <a:pt x="200" y="1884"/>
                  </a:lnTo>
                  <a:lnTo>
                    <a:pt x="200" y="1889"/>
                  </a:lnTo>
                  <a:lnTo>
                    <a:pt x="200" y="1893"/>
                  </a:lnTo>
                  <a:lnTo>
                    <a:pt x="198" y="1898"/>
                  </a:lnTo>
                  <a:lnTo>
                    <a:pt x="194" y="1902"/>
                  </a:lnTo>
                  <a:lnTo>
                    <a:pt x="183" y="1907"/>
                  </a:lnTo>
                  <a:lnTo>
                    <a:pt x="170" y="1911"/>
                  </a:lnTo>
                  <a:lnTo>
                    <a:pt x="160" y="1916"/>
                  </a:lnTo>
                  <a:lnTo>
                    <a:pt x="158" y="1920"/>
                  </a:lnTo>
                  <a:lnTo>
                    <a:pt x="162" y="1925"/>
                  </a:lnTo>
                  <a:lnTo>
                    <a:pt x="164" y="1929"/>
                  </a:lnTo>
                  <a:lnTo>
                    <a:pt x="164" y="1934"/>
                  </a:lnTo>
                  <a:lnTo>
                    <a:pt x="166" y="1938"/>
                  </a:lnTo>
                  <a:lnTo>
                    <a:pt x="168" y="1943"/>
                  </a:lnTo>
                  <a:lnTo>
                    <a:pt x="170" y="1947"/>
                  </a:lnTo>
                  <a:lnTo>
                    <a:pt x="173" y="1952"/>
                  </a:lnTo>
                  <a:lnTo>
                    <a:pt x="175" y="1956"/>
                  </a:lnTo>
                  <a:lnTo>
                    <a:pt x="175" y="1961"/>
                  </a:lnTo>
                  <a:lnTo>
                    <a:pt x="173" y="1965"/>
                  </a:lnTo>
                  <a:lnTo>
                    <a:pt x="173" y="1970"/>
                  </a:lnTo>
                  <a:lnTo>
                    <a:pt x="173" y="1974"/>
                  </a:lnTo>
                  <a:lnTo>
                    <a:pt x="175" y="1979"/>
                  </a:lnTo>
                  <a:lnTo>
                    <a:pt x="175" y="1983"/>
                  </a:lnTo>
                  <a:lnTo>
                    <a:pt x="175" y="1988"/>
                  </a:lnTo>
                  <a:lnTo>
                    <a:pt x="170" y="1992"/>
                  </a:lnTo>
                  <a:lnTo>
                    <a:pt x="166" y="1997"/>
                  </a:lnTo>
                  <a:lnTo>
                    <a:pt x="166" y="2001"/>
                  </a:lnTo>
                  <a:lnTo>
                    <a:pt x="166" y="2006"/>
                  </a:lnTo>
                  <a:lnTo>
                    <a:pt x="164" y="2010"/>
                  </a:lnTo>
                  <a:lnTo>
                    <a:pt x="162" y="2015"/>
                  </a:lnTo>
                  <a:lnTo>
                    <a:pt x="160" y="2019"/>
                  </a:lnTo>
                  <a:lnTo>
                    <a:pt x="160" y="2024"/>
                  </a:lnTo>
                  <a:lnTo>
                    <a:pt x="160" y="2028"/>
                  </a:lnTo>
                  <a:lnTo>
                    <a:pt x="162" y="2033"/>
                  </a:lnTo>
                  <a:lnTo>
                    <a:pt x="166" y="2037"/>
                  </a:lnTo>
                  <a:lnTo>
                    <a:pt x="166" y="2042"/>
                  </a:lnTo>
                  <a:lnTo>
                    <a:pt x="164" y="2046"/>
                  </a:lnTo>
                  <a:lnTo>
                    <a:pt x="164" y="2051"/>
                  </a:lnTo>
                  <a:lnTo>
                    <a:pt x="166" y="2055"/>
                  </a:lnTo>
                  <a:lnTo>
                    <a:pt x="170" y="2060"/>
                  </a:lnTo>
                  <a:lnTo>
                    <a:pt x="179" y="2064"/>
                  </a:lnTo>
                  <a:lnTo>
                    <a:pt x="194" y="2069"/>
                  </a:lnTo>
                  <a:lnTo>
                    <a:pt x="209" y="2073"/>
                  </a:lnTo>
                  <a:lnTo>
                    <a:pt x="224" y="2078"/>
                  </a:lnTo>
                  <a:lnTo>
                    <a:pt x="236" y="2082"/>
                  </a:lnTo>
                  <a:lnTo>
                    <a:pt x="249" y="2087"/>
                  </a:lnTo>
                  <a:lnTo>
                    <a:pt x="258" y="2091"/>
                  </a:lnTo>
                  <a:lnTo>
                    <a:pt x="264" y="2096"/>
                  </a:lnTo>
                  <a:lnTo>
                    <a:pt x="268" y="2100"/>
                  </a:lnTo>
                  <a:lnTo>
                    <a:pt x="268" y="2105"/>
                  </a:lnTo>
                  <a:lnTo>
                    <a:pt x="266" y="2109"/>
                  </a:lnTo>
                  <a:lnTo>
                    <a:pt x="264" y="2114"/>
                  </a:lnTo>
                  <a:lnTo>
                    <a:pt x="264" y="2118"/>
                  </a:lnTo>
                  <a:lnTo>
                    <a:pt x="266" y="2123"/>
                  </a:lnTo>
                  <a:lnTo>
                    <a:pt x="272" y="2127"/>
                  </a:lnTo>
                  <a:lnTo>
                    <a:pt x="283" y="2132"/>
                  </a:lnTo>
                  <a:lnTo>
                    <a:pt x="289" y="2136"/>
                  </a:lnTo>
                  <a:lnTo>
                    <a:pt x="296" y="2141"/>
                  </a:lnTo>
                  <a:lnTo>
                    <a:pt x="304" y="2145"/>
                  </a:lnTo>
                  <a:lnTo>
                    <a:pt x="311" y="2150"/>
                  </a:lnTo>
                  <a:lnTo>
                    <a:pt x="315" y="2154"/>
                  </a:lnTo>
                  <a:lnTo>
                    <a:pt x="317" y="2159"/>
                  </a:lnTo>
                  <a:lnTo>
                    <a:pt x="319" y="2163"/>
                  </a:lnTo>
                  <a:lnTo>
                    <a:pt x="319" y="2168"/>
                  </a:lnTo>
                  <a:lnTo>
                    <a:pt x="317" y="2172"/>
                  </a:lnTo>
                  <a:lnTo>
                    <a:pt x="315" y="2177"/>
                  </a:lnTo>
                  <a:lnTo>
                    <a:pt x="315" y="2181"/>
                  </a:lnTo>
                  <a:lnTo>
                    <a:pt x="313" y="2186"/>
                  </a:lnTo>
                  <a:lnTo>
                    <a:pt x="311" y="2190"/>
                  </a:lnTo>
                  <a:lnTo>
                    <a:pt x="304" y="2195"/>
                  </a:lnTo>
                  <a:lnTo>
                    <a:pt x="300" y="2199"/>
                  </a:lnTo>
                  <a:lnTo>
                    <a:pt x="294" y="2204"/>
                  </a:lnTo>
                  <a:lnTo>
                    <a:pt x="283" y="2208"/>
                  </a:lnTo>
                  <a:lnTo>
                    <a:pt x="275" y="2213"/>
                  </a:lnTo>
                  <a:lnTo>
                    <a:pt x="268" y="2217"/>
                  </a:lnTo>
                  <a:lnTo>
                    <a:pt x="266" y="2222"/>
                  </a:lnTo>
                  <a:lnTo>
                    <a:pt x="272" y="2226"/>
                  </a:lnTo>
                  <a:lnTo>
                    <a:pt x="283" y="2231"/>
                  </a:lnTo>
                  <a:lnTo>
                    <a:pt x="296" y="2235"/>
                  </a:lnTo>
                  <a:lnTo>
                    <a:pt x="306" y="2240"/>
                  </a:lnTo>
                  <a:lnTo>
                    <a:pt x="317" y="2244"/>
                  </a:lnTo>
                  <a:lnTo>
                    <a:pt x="328" y="2249"/>
                  </a:lnTo>
                  <a:lnTo>
                    <a:pt x="349" y="2253"/>
                  </a:lnTo>
                  <a:lnTo>
                    <a:pt x="374" y="2258"/>
                  </a:lnTo>
                  <a:lnTo>
                    <a:pt x="389" y="2262"/>
                  </a:lnTo>
                  <a:lnTo>
                    <a:pt x="396" y="2267"/>
                  </a:lnTo>
                  <a:lnTo>
                    <a:pt x="400" y="2271"/>
                  </a:lnTo>
                  <a:lnTo>
                    <a:pt x="404" y="2276"/>
                  </a:lnTo>
                  <a:lnTo>
                    <a:pt x="406" y="2280"/>
                  </a:lnTo>
                  <a:lnTo>
                    <a:pt x="406" y="2285"/>
                  </a:lnTo>
                  <a:lnTo>
                    <a:pt x="404" y="2289"/>
                  </a:lnTo>
                  <a:lnTo>
                    <a:pt x="393" y="2294"/>
                  </a:lnTo>
                  <a:lnTo>
                    <a:pt x="374" y="2298"/>
                  </a:lnTo>
                  <a:lnTo>
                    <a:pt x="359" y="2303"/>
                  </a:lnTo>
                  <a:lnTo>
                    <a:pt x="351" y="2307"/>
                  </a:lnTo>
                  <a:lnTo>
                    <a:pt x="340" y="2312"/>
                  </a:lnTo>
                  <a:lnTo>
                    <a:pt x="332" y="2316"/>
                  </a:lnTo>
                  <a:lnTo>
                    <a:pt x="321" y="2321"/>
                  </a:lnTo>
                  <a:lnTo>
                    <a:pt x="313" y="2325"/>
                  </a:lnTo>
                  <a:lnTo>
                    <a:pt x="306" y="2330"/>
                  </a:lnTo>
                  <a:lnTo>
                    <a:pt x="302" y="2334"/>
                  </a:lnTo>
                  <a:lnTo>
                    <a:pt x="298" y="2339"/>
                  </a:lnTo>
                  <a:lnTo>
                    <a:pt x="289" y="2343"/>
                  </a:lnTo>
                  <a:lnTo>
                    <a:pt x="279" y="2348"/>
                  </a:lnTo>
                  <a:lnTo>
                    <a:pt x="270" y="2352"/>
                  </a:lnTo>
                  <a:lnTo>
                    <a:pt x="264" y="2357"/>
                  </a:lnTo>
                  <a:lnTo>
                    <a:pt x="262" y="2361"/>
                  </a:lnTo>
                  <a:lnTo>
                    <a:pt x="258" y="2366"/>
                  </a:lnTo>
                  <a:lnTo>
                    <a:pt x="255" y="2370"/>
                  </a:lnTo>
                  <a:lnTo>
                    <a:pt x="253" y="2375"/>
                  </a:lnTo>
                  <a:lnTo>
                    <a:pt x="253" y="2379"/>
                  </a:lnTo>
                  <a:lnTo>
                    <a:pt x="255" y="2384"/>
                  </a:lnTo>
                  <a:lnTo>
                    <a:pt x="262" y="2388"/>
                  </a:lnTo>
                  <a:lnTo>
                    <a:pt x="262" y="2393"/>
                  </a:lnTo>
                  <a:lnTo>
                    <a:pt x="264" y="2397"/>
                  </a:lnTo>
                  <a:lnTo>
                    <a:pt x="264" y="2402"/>
                  </a:lnTo>
                  <a:lnTo>
                    <a:pt x="262" y="2406"/>
                  </a:lnTo>
                  <a:lnTo>
                    <a:pt x="264" y="2411"/>
                  </a:lnTo>
                  <a:lnTo>
                    <a:pt x="266" y="2415"/>
                  </a:lnTo>
                  <a:lnTo>
                    <a:pt x="266" y="2420"/>
                  </a:lnTo>
                  <a:lnTo>
                    <a:pt x="262" y="2424"/>
                  </a:lnTo>
                  <a:lnTo>
                    <a:pt x="258" y="2429"/>
                  </a:lnTo>
                  <a:lnTo>
                    <a:pt x="258" y="2433"/>
                  </a:lnTo>
                  <a:lnTo>
                    <a:pt x="255" y="2438"/>
                  </a:lnTo>
                  <a:lnTo>
                    <a:pt x="255" y="2442"/>
                  </a:lnTo>
                  <a:lnTo>
                    <a:pt x="258" y="2447"/>
                  </a:lnTo>
                  <a:lnTo>
                    <a:pt x="258" y="2451"/>
                  </a:lnTo>
                  <a:lnTo>
                    <a:pt x="255" y="2456"/>
                  </a:lnTo>
                  <a:lnTo>
                    <a:pt x="264" y="2460"/>
                  </a:lnTo>
                  <a:lnTo>
                    <a:pt x="275" y="2465"/>
                  </a:lnTo>
                  <a:lnTo>
                    <a:pt x="275" y="2469"/>
                  </a:lnTo>
                  <a:lnTo>
                    <a:pt x="266" y="2474"/>
                  </a:lnTo>
                  <a:lnTo>
                    <a:pt x="255" y="2478"/>
                  </a:lnTo>
                  <a:lnTo>
                    <a:pt x="241" y="2483"/>
                  </a:lnTo>
                  <a:lnTo>
                    <a:pt x="221" y="2487"/>
                  </a:lnTo>
                  <a:lnTo>
                    <a:pt x="202" y="2492"/>
                  </a:lnTo>
                  <a:lnTo>
                    <a:pt x="185" y="2496"/>
                  </a:lnTo>
                  <a:lnTo>
                    <a:pt x="151" y="2501"/>
                  </a:lnTo>
                  <a:lnTo>
                    <a:pt x="98" y="2505"/>
                  </a:lnTo>
                  <a:lnTo>
                    <a:pt x="71" y="2510"/>
                  </a:lnTo>
                  <a:lnTo>
                    <a:pt x="62" y="2514"/>
                  </a:lnTo>
                  <a:lnTo>
                    <a:pt x="56" y="2519"/>
                  </a:lnTo>
                  <a:lnTo>
                    <a:pt x="56" y="2523"/>
                  </a:lnTo>
                  <a:lnTo>
                    <a:pt x="54" y="2528"/>
                  </a:lnTo>
                  <a:lnTo>
                    <a:pt x="49" y="2532"/>
                  </a:lnTo>
                  <a:lnTo>
                    <a:pt x="43" y="2537"/>
                  </a:lnTo>
                  <a:lnTo>
                    <a:pt x="39" y="2541"/>
                  </a:lnTo>
                  <a:lnTo>
                    <a:pt x="34" y="2546"/>
                  </a:lnTo>
                  <a:lnTo>
                    <a:pt x="32" y="2550"/>
                  </a:lnTo>
                  <a:lnTo>
                    <a:pt x="30" y="2555"/>
                  </a:lnTo>
                  <a:lnTo>
                    <a:pt x="30" y="2559"/>
                  </a:lnTo>
                  <a:lnTo>
                    <a:pt x="17" y="2564"/>
                  </a:lnTo>
                  <a:lnTo>
                    <a:pt x="22" y="2568"/>
                  </a:lnTo>
                  <a:lnTo>
                    <a:pt x="0" y="2573"/>
                  </a:lnTo>
                  <a:lnTo>
                    <a:pt x="49" y="2577"/>
                  </a:lnTo>
                  <a:lnTo>
                    <a:pt x="83" y="2582"/>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Freeform 291"/>
            <p:cNvSpPr/>
            <p:nvPr/>
          </p:nvSpPr>
          <p:spPr>
            <a:xfrm>
              <a:off x="3581280" y="2157480"/>
              <a:ext cx="501840" cy="4379760"/>
            </a:xfrm>
            <a:custGeom>
              <a:avLst/>
              <a:gdLst>
                <a:gd name="textAreaLeft" fmla="*/ 0 w 501840"/>
                <a:gd name="textAreaRight" fmla="*/ 502200 w 501840"/>
                <a:gd name="textAreaTop" fmla="*/ 0 h 4379760"/>
                <a:gd name="textAreaBottom" fmla="*/ 4380120 h 4379760"/>
              </a:gdLst>
              <a:ahLst/>
              <a:rect l="textAreaLeft" t="textAreaTop" r="textAreaRight" b="textAreaBottom"/>
              <a:pathLst>
                <a:path w="297" h="2582">
                  <a:moveTo>
                    <a:pt x="223" y="0"/>
                  </a:moveTo>
                  <a:lnTo>
                    <a:pt x="223" y="4"/>
                  </a:lnTo>
                  <a:lnTo>
                    <a:pt x="225" y="9"/>
                  </a:lnTo>
                  <a:lnTo>
                    <a:pt x="216" y="13"/>
                  </a:lnTo>
                  <a:lnTo>
                    <a:pt x="208" y="18"/>
                  </a:lnTo>
                  <a:lnTo>
                    <a:pt x="199" y="22"/>
                  </a:lnTo>
                  <a:lnTo>
                    <a:pt x="195" y="27"/>
                  </a:lnTo>
                  <a:lnTo>
                    <a:pt x="191" y="31"/>
                  </a:lnTo>
                  <a:lnTo>
                    <a:pt x="197" y="36"/>
                  </a:lnTo>
                  <a:lnTo>
                    <a:pt x="208" y="40"/>
                  </a:lnTo>
                  <a:lnTo>
                    <a:pt x="212" y="45"/>
                  </a:lnTo>
                  <a:lnTo>
                    <a:pt x="210" y="49"/>
                  </a:lnTo>
                  <a:lnTo>
                    <a:pt x="199" y="54"/>
                  </a:lnTo>
                  <a:lnTo>
                    <a:pt x="182" y="58"/>
                  </a:lnTo>
                  <a:lnTo>
                    <a:pt x="187" y="63"/>
                  </a:lnTo>
                  <a:lnTo>
                    <a:pt x="195" y="67"/>
                  </a:lnTo>
                  <a:lnTo>
                    <a:pt x="206" y="72"/>
                  </a:lnTo>
                  <a:lnTo>
                    <a:pt x="212" y="76"/>
                  </a:lnTo>
                  <a:lnTo>
                    <a:pt x="204" y="81"/>
                  </a:lnTo>
                  <a:lnTo>
                    <a:pt x="191" y="85"/>
                  </a:lnTo>
                  <a:lnTo>
                    <a:pt x="185" y="90"/>
                  </a:lnTo>
                  <a:lnTo>
                    <a:pt x="185" y="94"/>
                  </a:lnTo>
                  <a:lnTo>
                    <a:pt x="189" y="99"/>
                  </a:lnTo>
                  <a:lnTo>
                    <a:pt x="197" y="103"/>
                  </a:lnTo>
                  <a:lnTo>
                    <a:pt x="191" y="108"/>
                  </a:lnTo>
                  <a:lnTo>
                    <a:pt x="185" y="112"/>
                  </a:lnTo>
                  <a:lnTo>
                    <a:pt x="178" y="117"/>
                  </a:lnTo>
                  <a:lnTo>
                    <a:pt x="178" y="121"/>
                  </a:lnTo>
                  <a:lnTo>
                    <a:pt x="182" y="126"/>
                  </a:lnTo>
                  <a:lnTo>
                    <a:pt x="185" y="130"/>
                  </a:lnTo>
                  <a:lnTo>
                    <a:pt x="193" y="135"/>
                  </a:lnTo>
                  <a:lnTo>
                    <a:pt x="187" y="139"/>
                  </a:lnTo>
                  <a:lnTo>
                    <a:pt x="178" y="144"/>
                  </a:lnTo>
                  <a:lnTo>
                    <a:pt x="161" y="148"/>
                  </a:lnTo>
                  <a:lnTo>
                    <a:pt x="144" y="153"/>
                  </a:lnTo>
                  <a:lnTo>
                    <a:pt x="123" y="157"/>
                  </a:lnTo>
                  <a:lnTo>
                    <a:pt x="91" y="162"/>
                  </a:lnTo>
                  <a:lnTo>
                    <a:pt x="51" y="166"/>
                  </a:lnTo>
                  <a:lnTo>
                    <a:pt x="42" y="171"/>
                  </a:lnTo>
                  <a:lnTo>
                    <a:pt x="40" y="175"/>
                  </a:lnTo>
                  <a:lnTo>
                    <a:pt x="29" y="180"/>
                  </a:lnTo>
                  <a:lnTo>
                    <a:pt x="27" y="184"/>
                  </a:lnTo>
                  <a:lnTo>
                    <a:pt x="40" y="189"/>
                  </a:lnTo>
                  <a:lnTo>
                    <a:pt x="68" y="193"/>
                  </a:lnTo>
                  <a:lnTo>
                    <a:pt x="146" y="198"/>
                  </a:lnTo>
                  <a:lnTo>
                    <a:pt x="206" y="202"/>
                  </a:lnTo>
                  <a:lnTo>
                    <a:pt x="221" y="207"/>
                  </a:lnTo>
                  <a:lnTo>
                    <a:pt x="197" y="211"/>
                  </a:lnTo>
                  <a:lnTo>
                    <a:pt x="91" y="216"/>
                  </a:lnTo>
                  <a:lnTo>
                    <a:pt x="61" y="220"/>
                  </a:lnTo>
                  <a:lnTo>
                    <a:pt x="46" y="225"/>
                  </a:lnTo>
                  <a:lnTo>
                    <a:pt x="59" y="229"/>
                  </a:lnTo>
                  <a:lnTo>
                    <a:pt x="89" y="234"/>
                  </a:lnTo>
                  <a:lnTo>
                    <a:pt x="91" y="238"/>
                  </a:lnTo>
                  <a:lnTo>
                    <a:pt x="78" y="243"/>
                  </a:lnTo>
                  <a:lnTo>
                    <a:pt x="72" y="247"/>
                  </a:lnTo>
                  <a:lnTo>
                    <a:pt x="76" y="252"/>
                  </a:lnTo>
                  <a:lnTo>
                    <a:pt x="68" y="256"/>
                  </a:lnTo>
                  <a:lnTo>
                    <a:pt x="66" y="261"/>
                  </a:lnTo>
                  <a:lnTo>
                    <a:pt x="66" y="265"/>
                  </a:lnTo>
                  <a:lnTo>
                    <a:pt x="68" y="270"/>
                  </a:lnTo>
                  <a:lnTo>
                    <a:pt x="70" y="274"/>
                  </a:lnTo>
                  <a:lnTo>
                    <a:pt x="70" y="279"/>
                  </a:lnTo>
                  <a:lnTo>
                    <a:pt x="70" y="283"/>
                  </a:lnTo>
                  <a:lnTo>
                    <a:pt x="72" y="288"/>
                  </a:lnTo>
                  <a:lnTo>
                    <a:pt x="74" y="292"/>
                  </a:lnTo>
                  <a:lnTo>
                    <a:pt x="76" y="297"/>
                  </a:lnTo>
                  <a:lnTo>
                    <a:pt x="72" y="301"/>
                  </a:lnTo>
                  <a:lnTo>
                    <a:pt x="63" y="306"/>
                  </a:lnTo>
                  <a:lnTo>
                    <a:pt x="63" y="310"/>
                  </a:lnTo>
                  <a:lnTo>
                    <a:pt x="68" y="315"/>
                  </a:lnTo>
                  <a:lnTo>
                    <a:pt x="70" y="319"/>
                  </a:lnTo>
                  <a:lnTo>
                    <a:pt x="74" y="324"/>
                  </a:lnTo>
                  <a:lnTo>
                    <a:pt x="74" y="328"/>
                  </a:lnTo>
                  <a:lnTo>
                    <a:pt x="74" y="333"/>
                  </a:lnTo>
                  <a:lnTo>
                    <a:pt x="70" y="337"/>
                  </a:lnTo>
                  <a:lnTo>
                    <a:pt x="66" y="342"/>
                  </a:lnTo>
                  <a:lnTo>
                    <a:pt x="68" y="346"/>
                  </a:lnTo>
                  <a:lnTo>
                    <a:pt x="74" y="351"/>
                  </a:lnTo>
                  <a:lnTo>
                    <a:pt x="74" y="355"/>
                  </a:lnTo>
                  <a:lnTo>
                    <a:pt x="76" y="360"/>
                  </a:lnTo>
                  <a:lnTo>
                    <a:pt x="93" y="364"/>
                  </a:lnTo>
                  <a:lnTo>
                    <a:pt x="95" y="369"/>
                  </a:lnTo>
                  <a:lnTo>
                    <a:pt x="95" y="373"/>
                  </a:lnTo>
                  <a:lnTo>
                    <a:pt x="100" y="378"/>
                  </a:lnTo>
                  <a:lnTo>
                    <a:pt x="100" y="382"/>
                  </a:lnTo>
                  <a:lnTo>
                    <a:pt x="95" y="387"/>
                  </a:lnTo>
                  <a:lnTo>
                    <a:pt x="97" y="391"/>
                  </a:lnTo>
                  <a:lnTo>
                    <a:pt x="95" y="396"/>
                  </a:lnTo>
                  <a:lnTo>
                    <a:pt x="93" y="400"/>
                  </a:lnTo>
                  <a:lnTo>
                    <a:pt x="89" y="405"/>
                  </a:lnTo>
                  <a:lnTo>
                    <a:pt x="87" y="409"/>
                  </a:lnTo>
                  <a:lnTo>
                    <a:pt x="89" y="414"/>
                  </a:lnTo>
                  <a:lnTo>
                    <a:pt x="89" y="418"/>
                  </a:lnTo>
                  <a:lnTo>
                    <a:pt x="104" y="423"/>
                  </a:lnTo>
                  <a:lnTo>
                    <a:pt x="106" y="427"/>
                  </a:lnTo>
                  <a:lnTo>
                    <a:pt x="106" y="432"/>
                  </a:lnTo>
                  <a:lnTo>
                    <a:pt x="102" y="436"/>
                  </a:lnTo>
                  <a:lnTo>
                    <a:pt x="97" y="441"/>
                  </a:lnTo>
                  <a:lnTo>
                    <a:pt x="95" y="445"/>
                  </a:lnTo>
                  <a:lnTo>
                    <a:pt x="95" y="450"/>
                  </a:lnTo>
                  <a:lnTo>
                    <a:pt x="95" y="454"/>
                  </a:lnTo>
                  <a:lnTo>
                    <a:pt x="97" y="459"/>
                  </a:lnTo>
                  <a:lnTo>
                    <a:pt x="97" y="463"/>
                  </a:lnTo>
                  <a:lnTo>
                    <a:pt x="93" y="468"/>
                  </a:lnTo>
                  <a:lnTo>
                    <a:pt x="91" y="472"/>
                  </a:lnTo>
                  <a:lnTo>
                    <a:pt x="93" y="477"/>
                  </a:lnTo>
                  <a:lnTo>
                    <a:pt x="87" y="481"/>
                  </a:lnTo>
                  <a:lnTo>
                    <a:pt x="87" y="486"/>
                  </a:lnTo>
                  <a:lnTo>
                    <a:pt x="85" y="490"/>
                  </a:lnTo>
                  <a:lnTo>
                    <a:pt x="85" y="495"/>
                  </a:lnTo>
                  <a:lnTo>
                    <a:pt x="85" y="499"/>
                  </a:lnTo>
                  <a:lnTo>
                    <a:pt x="85" y="504"/>
                  </a:lnTo>
                  <a:lnTo>
                    <a:pt x="83" y="508"/>
                  </a:lnTo>
                  <a:lnTo>
                    <a:pt x="80" y="512"/>
                  </a:lnTo>
                  <a:lnTo>
                    <a:pt x="87" y="517"/>
                  </a:lnTo>
                  <a:lnTo>
                    <a:pt x="83" y="521"/>
                  </a:lnTo>
                  <a:lnTo>
                    <a:pt x="68" y="526"/>
                  </a:lnTo>
                  <a:lnTo>
                    <a:pt x="68" y="530"/>
                  </a:lnTo>
                  <a:lnTo>
                    <a:pt x="68" y="535"/>
                  </a:lnTo>
                  <a:lnTo>
                    <a:pt x="68" y="539"/>
                  </a:lnTo>
                  <a:lnTo>
                    <a:pt x="68" y="544"/>
                  </a:lnTo>
                  <a:lnTo>
                    <a:pt x="63" y="548"/>
                  </a:lnTo>
                  <a:lnTo>
                    <a:pt x="63" y="553"/>
                  </a:lnTo>
                  <a:lnTo>
                    <a:pt x="66" y="557"/>
                  </a:lnTo>
                  <a:lnTo>
                    <a:pt x="59" y="562"/>
                  </a:lnTo>
                  <a:lnTo>
                    <a:pt x="57" y="566"/>
                  </a:lnTo>
                  <a:lnTo>
                    <a:pt x="63" y="571"/>
                  </a:lnTo>
                  <a:lnTo>
                    <a:pt x="68" y="575"/>
                  </a:lnTo>
                  <a:lnTo>
                    <a:pt x="74" y="580"/>
                  </a:lnTo>
                  <a:lnTo>
                    <a:pt x="80" y="584"/>
                  </a:lnTo>
                  <a:lnTo>
                    <a:pt x="80" y="589"/>
                  </a:lnTo>
                  <a:lnTo>
                    <a:pt x="76" y="593"/>
                  </a:lnTo>
                  <a:lnTo>
                    <a:pt x="80" y="598"/>
                  </a:lnTo>
                  <a:lnTo>
                    <a:pt x="80" y="602"/>
                  </a:lnTo>
                  <a:lnTo>
                    <a:pt x="80" y="607"/>
                  </a:lnTo>
                  <a:lnTo>
                    <a:pt x="87" y="611"/>
                  </a:lnTo>
                  <a:lnTo>
                    <a:pt x="91" y="616"/>
                  </a:lnTo>
                  <a:lnTo>
                    <a:pt x="93" y="620"/>
                  </a:lnTo>
                  <a:lnTo>
                    <a:pt x="93" y="625"/>
                  </a:lnTo>
                  <a:lnTo>
                    <a:pt x="95" y="629"/>
                  </a:lnTo>
                  <a:lnTo>
                    <a:pt x="97" y="634"/>
                  </a:lnTo>
                  <a:lnTo>
                    <a:pt x="93" y="638"/>
                  </a:lnTo>
                  <a:lnTo>
                    <a:pt x="91" y="643"/>
                  </a:lnTo>
                  <a:lnTo>
                    <a:pt x="91" y="647"/>
                  </a:lnTo>
                  <a:lnTo>
                    <a:pt x="91" y="652"/>
                  </a:lnTo>
                  <a:lnTo>
                    <a:pt x="87" y="656"/>
                  </a:lnTo>
                  <a:lnTo>
                    <a:pt x="87" y="661"/>
                  </a:lnTo>
                  <a:lnTo>
                    <a:pt x="89" y="665"/>
                  </a:lnTo>
                  <a:lnTo>
                    <a:pt x="87" y="670"/>
                  </a:lnTo>
                  <a:lnTo>
                    <a:pt x="83" y="674"/>
                  </a:lnTo>
                  <a:lnTo>
                    <a:pt x="83" y="679"/>
                  </a:lnTo>
                  <a:lnTo>
                    <a:pt x="83" y="683"/>
                  </a:lnTo>
                  <a:lnTo>
                    <a:pt x="83" y="688"/>
                  </a:lnTo>
                  <a:lnTo>
                    <a:pt x="78" y="692"/>
                  </a:lnTo>
                  <a:lnTo>
                    <a:pt x="63" y="697"/>
                  </a:lnTo>
                  <a:lnTo>
                    <a:pt x="53" y="701"/>
                  </a:lnTo>
                  <a:lnTo>
                    <a:pt x="51" y="706"/>
                  </a:lnTo>
                  <a:lnTo>
                    <a:pt x="53" y="710"/>
                  </a:lnTo>
                  <a:lnTo>
                    <a:pt x="66" y="715"/>
                  </a:lnTo>
                  <a:lnTo>
                    <a:pt x="68" y="719"/>
                  </a:lnTo>
                  <a:lnTo>
                    <a:pt x="74" y="724"/>
                  </a:lnTo>
                  <a:lnTo>
                    <a:pt x="78" y="728"/>
                  </a:lnTo>
                  <a:lnTo>
                    <a:pt x="91" y="733"/>
                  </a:lnTo>
                  <a:lnTo>
                    <a:pt x="95" y="737"/>
                  </a:lnTo>
                  <a:lnTo>
                    <a:pt x="89" y="742"/>
                  </a:lnTo>
                  <a:lnTo>
                    <a:pt x="87" y="746"/>
                  </a:lnTo>
                  <a:lnTo>
                    <a:pt x="83" y="751"/>
                  </a:lnTo>
                  <a:lnTo>
                    <a:pt x="74" y="755"/>
                  </a:lnTo>
                  <a:lnTo>
                    <a:pt x="68" y="760"/>
                  </a:lnTo>
                  <a:lnTo>
                    <a:pt x="66" y="764"/>
                  </a:lnTo>
                  <a:lnTo>
                    <a:pt x="68" y="769"/>
                  </a:lnTo>
                  <a:lnTo>
                    <a:pt x="68" y="773"/>
                  </a:lnTo>
                  <a:lnTo>
                    <a:pt x="66" y="778"/>
                  </a:lnTo>
                  <a:lnTo>
                    <a:pt x="61" y="782"/>
                  </a:lnTo>
                  <a:lnTo>
                    <a:pt x="63" y="787"/>
                  </a:lnTo>
                  <a:lnTo>
                    <a:pt x="61" y="791"/>
                  </a:lnTo>
                  <a:lnTo>
                    <a:pt x="61" y="796"/>
                  </a:lnTo>
                  <a:lnTo>
                    <a:pt x="61" y="800"/>
                  </a:lnTo>
                  <a:lnTo>
                    <a:pt x="63" y="805"/>
                  </a:lnTo>
                  <a:lnTo>
                    <a:pt x="63" y="809"/>
                  </a:lnTo>
                  <a:lnTo>
                    <a:pt x="63" y="814"/>
                  </a:lnTo>
                  <a:lnTo>
                    <a:pt x="74" y="818"/>
                  </a:lnTo>
                  <a:lnTo>
                    <a:pt x="85" y="823"/>
                  </a:lnTo>
                  <a:lnTo>
                    <a:pt x="93" y="827"/>
                  </a:lnTo>
                  <a:lnTo>
                    <a:pt x="100" y="832"/>
                  </a:lnTo>
                  <a:lnTo>
                    <a:pt x="117" y="836"/>
                  </a:lnTo>
                  <a:lnTo>
                    <a:pt x="123" y="841"/>
                  </a:lnTo>
                  <a:lnTo>
                    <a:pt x="138" y="845"/>
                  </a:lnTo>
                  <a:lnTo>
                    <a:pt x="163" y="850"/>
                  </a:lnTo>
                  <a:lnTo>
                    <a:pt x="176" y="854"/>
                  </a:lnTo>
                  <a:lnTo>
                    <a:pt x="174" y="859"/>
                  </a:lnTo>
                  <a:lnTo>
                    <a:pt x="168" y="863"/>
                  </a:lnTo>
                  <a:lnTo>
                    <a:pt x="165" y="868"/>
                  </a:lnTo>
                  <a:lnTo>
                    <a:pt x="153" y="872"/>
                  </a:lnTo>
                  <a:lnTo>
                    <a:pt x="140" y="877"/>
                  </a:lnTo>
                  <a:lnTo>
                    <a:pt x="129" y="881"/>
                  </a:lnTo>
                  <a:lnTo>
                    <a:pt x="127" y="886"/>
                  </a:lnTo>
                  <a:lnTo>
                    <a:pt x="121" y="890"/>
                  </a:lnTo>
                  <a:lnTo>
                    <a:pt x="102" y="895"/>
                  </a:lnTo>
                  <a:lnTo>
                    <a:pt x="87" y="899"/>
                  </a:lnTo>
                  <a:lnTo>
                    <a:pt x="78" y="904"/>
                  </a:lnTo>
                  <a:lnTo>
                    <a:pt x="78" y="908"/>
                  </a:lnTo>
                  <a:lnTo>
                    <a:pt x="85" y="913"/>
                  </a:lnTo>
                  <a:lnTo>
                    <a:pt x="95" y="917"/>
                  </a:lnTo>
                  <a:lnTo>
                    <a:pt x="97" y="922"/>
                  </a:lnTo>
                  <a:lnTo>
                    <a:pt x="110" y="926"/>
                  </a:lnTo>
                  <a:lnTo>
                    <a:pt x="108" y="931"/>
                  </a:lnTo>
                  <a:lnTo>
                    <a:pt x="110" y="935"/>
                  </a:lnTo>
                  <a:lnTo>
                    <a:pt x="95" y="940"/>
                  </a:lnTo>
                  <a:lnTo>
                    <a:pt x="91" y="944"/>
                  </a:lnTo>
                  <a:lnTo>
                    <a:pt x="89" y="949"/>
                  </a:lnTo>
                  <a:lnTo>
                    <a:pt x="89" y="953"/>
                  </a:lnTo>
                  <a:lnTo>
                    <a:pt x="76" y="958"/>
                  </a:lnTo>
                  <a:lnTo>
                    <a:pt x="76" y="962"/>
                  </a:lnTo>
                  <a:lnTo>
                    <a:pt x="83" y="967"/>
                  </a:lnTo>
                  <a:lnTo>
                    <a:pt x="91" y="971"/>
                  </a:lnTo>
                  <a:lnTo>
                    <a:pt x="100" y="976"/>
                  </a:lnTo>
                  <a:lnTo>
                    <a:pt x="114" y="980"/>
                  </a:lnTo>
                  <a:lnTo>
                    <a:pt x="129" y="985"/>
                  </a:lnTo>
                  <a:lnTo>
                    <a:pt x="161" y="989"/>
                  </a:lnTo>
                  <a:lnTo>
                    <a:pt x="185" y="994"/>
                  </a:lnTo>
                  <a:lnTo>
                    <a:pt x="187" y="998"/>
                  </a:lnTo>
                  <a:lnTo>
                    <a:pt x="197" y="1003"/>
                  </a:lnTo>
                  <a:lnTo>
                    <a:pt x="208" y="1007"/>
                  </a:lnTo>
                  <a:lnTo>
                    <a:pt x="229" y="1012"/>
                  </a:lnTo>
                  <a:lnTo>
                    <a:pt x="235" y="1016"/>
                  </a:lnTo>
                  <a:lnTo>
                    <a:pt x="242" y="1021"/>
                  </a:lnTo>
                  <a:lnTo>
                    <a:pt x="248" y="1025"/>
                  </a:lnTo>
                  <a:lnTo>
                    <a:pt x="263" y="1030"/>
                  </a:lnTo>
                  <a:lnTo>
                    <a:pt x="280" y="1034"/>
                  </a:lnTo>
                  <a:lnTo>
                    <a:pt x="284" y="1039"/>
                  </a:lnTo>
                  <a:lnTo>
                    <a:pt x="284" y="1043"/>
                  </a:lnTo>
                  <a:lnTo>
                    <a:pt x="282" y="1048"/>
                  </a:lnTo>
                  <a:lnTo>
                    <a:pt x="280" y="1052"/>
                  </a:lnTo>
                  <a:lnTo>
                    <a:pt x="282" y="1057"/>
                  </a:lnTo>
                  <a:lnTo>
                    <a:pt x="282" y="1061"/>
                  </a:lnTo>
                  <a:lnTo>
                    <a:pt x="278" y="1066"/>
                  </a:lnTo>
                  <a:lnTo>
                    <a:pt x="276" y="1070"/>
                  </a:lnTo>
                  <a:lnTo>
                    <a:pt x="267" y="1075"/>
                  </a:lnTo>
                  <a:lnTo>
                    <a:pt x="261" y="1079"/>
                  </a:lnTo>
                  <a:lnTo>
                    <a:pt x="252" y="1084"/>
                  </a:lnTo>
                  <a:lnTo>
                    <a:pt x="255" y="1088"/>
                  </a:lnTo>
                  <a:lnTo>
                    <a:pt x="257" y="1093"/>
                  </a:lnTo>
                  <a:lnTo>
                    <a:pt x="257" y="1097"/>
                  </a:lnTo>
                  <a:lnTo>
                    <a:pt x="261" y="1102"/>
                  </a:lnTo>
                  <a:lnTo>
                    <a:pt x="265" y="1106"/>
                  </a:lnTo>
                  <a:lnTo>
                    <a:pt x="269" y="1111"/>
                  </a:lnTo>
                  <a:lnTo>
                    <a:pt x="274" y="1115"/>
                  </a:lnTo>
                  <a:lnTo>
                    <a:pt x="274" y="1120"/>
                  </a:lnTo>
                  <a:lnTo>
                    <a:pt x="274" y="1124"/>
                  </a:lnTo>
                  <a:lnTo>
                    <a:pt x="276" y="1129"/>
                  </a:lnTo>
                  <a:lnTo>
                    <a:pt x="276" y="1133"/>
                  </a:lnTo>
                  <a:lnTo>
                    <a:pt x="274" y="1138"/>
                  </a:lnTo>
                  <a:lnTo>
                    <a:pt x="265" y="1142"/>
                  </a:lnTo>
                  <a:lnTo>
                    <a:pt x="261" y="1147"/>
                  </a:lnTo>
                  <a:lnTo>
                    <a:pt x="259" y="1151"/>
                  </a:lnTo>
                  <a:lnTo>
                    <a:pt x="263" y="1156"/>
                  </a:lnTo>
                  <a:lnTo>
                    <a:pt x="263" y="1160"/>
                  </a:lnTo>
                  <a:lnTo>
                    <a:pt x="259" y="1165"/>
                  </a:lnTo>
                  <a:lnTo>
                    <a:pt x="265" y="1169"/>
                  </a:lnTo>
                  <a:lnTo>
                    <a:pt x="265" y="1174"/>
                  </a:lnTo>
                  <a:lnTo>
                    <a:pt x="272" y="1178"/>
                  </a:lnTo>
                  <a:lnTo>
                    <a:pt x="272" y="1183"/>
                  </a:lnTo>
                  <a:lnTo>
                    <a:pt x="278" y="1187"/>
                  </a:lnTo>
                  <a:lnTo>
                    <a:pt x="289" y="1192"/>
                  </a:lnTo>
                  <a:lnTo>
                    <a:pt x="297" y="1196"/>
                  </a:lnTo>
                  <a:lnTo>
                    <a:pt x="293" y="1201"/>
                  </a:lnTo>
                  <a:lnTo>
                    <a:pt x="295" y="1205"/>
                  </a:lnTo>
                  <a:lnTo>
                    <a:pt x="278" y="1210"/>
                  </a:lnTo>
                  <a:lnTo>
                    <a:pt x="259" y="1214"/>
                  </a:lnTo>
                  <a:lnTo>
                    <a:pt x="229" y="1219"/>
                  </a:lnTo>
                  <a:lnTo>
                    <a:pt x="187" y="1223"/>
                  </a:lnTo>
                  <a:lnTo>
                    <a:pt x="180" y="1228"/>
                  </a:lnTo>
                  <a:lnTo>
                    <a:pt x="185" y="1232"/>
                  </a:lnTo>
                  <a:lnTo>
                    <a:pt x="159" y="1237"/>
                  </a:lnTo>
                  <a:lnTo>
                    <a:pt x="157" y="1241"/>
                  </a:lnTo>
                  <a:lnTo>
                    <a:pt x="157" y="1246"/>
                  </a:lnTo>
                  <a:lnTo>
                    <a:pt x="157" y="1250"/>
                  </a:lnTo>
                  <a:lnTo>
                    <a:pt x="159" y="1255"/>
                  </a:lnTo>
                  <a:lnTo>
                    <a:pt x="172" y="1259"/>
                  </a:lnTo>
                  <a:lnTo>
                    <a:pt x="172" y="1264"/>
                  </a:lnTo>
                  <a:lnTo>
                    <a:pt x="163" y="1268"/>
                  </a:lnTo>
                  <a:lnTo>
                    <a:pt x="165" y="1273"/>
                  </a:lnTo>
                  <a:lnTo>
                    <a:pt x="170" y="1277"/>
                  </a:lnTo>
                  <a:lnTo>
                    <a:pt x="165" y="1282"/>
                  </a:lnTo>
                  <a:lnTo>
                    <a:pt x="161" y="1286"/>
                  </a:lnTo>
                  <a:lnTo>
                    <a:pt x="151" y="1291"/>
                  </a:lnTo>
                  <a:lnTo>
                    <a:pt x="142" y="1295"/>
                  </a:lnTo>
                  <a:lnTo>
                    <a:pt x="136" y="1300"/>
                  </a:lnTo>
                  <a:lnTo>
                    <a:pt x="131" y="1304"/>
                  </a:lnTo>
                  <a:lnTo>
                    <a:pt x="129" y="1309"/>
                  </a:lnTo>
                  <a:lnTo>
                    <a:pt x="136" y="1313"/>
                  </a:lnTo>
                  <a:lnTo>
                    <a:pt x="142" y="1318"/>
                  </a:lnTo>
                  <a:lnTo>
                    <a:pt x="148" y="1322"/>
                  </a:lnTo>
                  <a:lnTo>
                    <a:pt x="155" y="1327"/>
                  </a:lnTo>
                  <a:lnTo>
                    <a:pt x="146" y="1331"/>
                  </a:lnTo>
                  <a:lnTo>
                    <a:pt x="142" y="1336"/>
                  </a:lnTo>
                  <a:lnTo>
                    <a:pt x="138" y="1340"/>
                  </a:lnTo>
                  <a:lnTo>
                    <a:pt x="114" y="1345"/>
                  </a:lnTo>
                  <a:lnTo>
                    <a:pt x="104" y="1349"/>
                  </a:lnTo>
                  <a:lnTo>
                    <a:pt x="97" y="1354"/>
                  </a:lnTo>
                  <a:lnTo>
                    <a:pt x="95" y="1358"/>
                  </a:lnTo>
                  <a:lnTo>
                    <a:pt x="91" y="1363"/>
                  </a:lnTo>
                  <a:lnTo>
                    <a:pt x="85" y="1367"/>
                  </a:lnTo>
                  <a:lnTo>
                    <a:pt x="85" y="1372"/>
                  </a:lnTo>
                  <a:lnTo>
                    <a:pt x="89" y="1376"/>
                  </a:lnTo>
                  <a:lnTo>
                    <a:pt x="87" y="1381"/>
                  </a:lnTo>
                  <a:lnTo>
                    <a:pt x="87" y="1385"/>
                  </a:lnTo>
                  <a:lnTo>
                    <a:pt x="87" y="1390"/>
                  </a:lnTo>
                  <a:lnTo>
                    <a:pt x="85" y="1394"/>
                  </a:lnTo>
                  <a:lnTo>
                    <a:pt x="78" y="1399"/>
                  </a:lnTo>
                  <a:lnTo>
                    <a:pt x="80" y="1403"/>
                  </a:lnTo>
                  <a:lnTo>
                    <a:pt x="83" y="1408"/>
                  </a:lnTo>
                  <a:lnTo>
                    <a:pt x="83" y="1412"/>
                  </a:lnTo>
                  <a:lnTo>
                    <a:pt x="85" y="1417"/>
                  </a:lnTo>
                  <a:lnTo>
                    <a:pt x="93" y="1421"/>
                  </a:lnTo>
                  <a:lnTo>
                    <a:pt x="102" y="1426"/>
                  </a:lnTo>
                  <a:lnTo>
                    <a:pt x="95" y="1430"/>
                  </a:lnTo>
                  <a:lnTo>
                    <a:pt x="93" y="1435"/>
                  </a:lnTo>
                  <a:lnTo>
                    <a:pt x="91" y="1439"/>
                  </a:lnTo>
                  <a:lnTo>
                    <a:pt x="91" y="1444"/>
                  </a:lnTo>
                  <a:lnTo>
                    <a:pt x="89" y="1448"/>
                  </a:lnTo>
                  <a:lnTo>
                    <a:pt x="83" y="1453"/>
                  </a:lnTo>
                  <a:lnTo>
                    <a:pt x="80" y="1457"/>
                  </a:lnTo>
                  <a:lnTo>
                    <a:pt x="83" y="1462"/>
                  </a:lnTo>
                  <a:lnTo>
                    <a:pt x="85" y="1466"/>
                  </a:lnTo>
                  <a:lnTo>
                    <a:pt x="91" y="1471"/>
                  </a:lnTo>
                  <a:lnTo>
                    <a:pt x="93" y="1475"/>
                  </a:lnTo>
                  <a:lnTo>
                    <a:pt x="91" y="1480"/>
                  </a:lnTo>
                  <a:lnTo>
                    <a:pt x="102" y="1484"/>
                  </a:lnTo>
                  <a:lnTo>
                    <a:pt x="104" y="1489"/>
                  </a:lnTo>
                  <a:lnTo>
                    <a:pt x="100" y="1493"/>
                  </a:lnTo>
                  <a:lnTo>
                    <a:pt x="95" y="1498"/>
                  </a:lnTo>
                  <a:lnTo>
                    <a:pt x="95" y="1502"/>
                  </a:lnTo>
                  <a:lnTo>
                    <a:pt x="85" y="1507"/>
                  </a:lnTo>
                  <a:lnTo>
                    <a:pt x="85" y="1511"/>
                  </a:lnTo>
                  <a:lnTo>
                    <a:pt x="91" y="1516"/>
                  </a:lnTo>
                  <a:lnTo>
                    <a:pt x="100" y="1520"/>
                  </a:lnTo>
                  <a:lnTo>
                    <a:pt x="102" y="1525"/>
                  </a:lnTo>
                  <a:lnTo>
                    <a:pt x="93" y="1529"/>
                  </a:lnTo>
                  <a:lnTo>
                    <a:pt x="80" y="1534"/>
                  </a:lnTo>
                  <a:lnTo>
                    <a:pt x="76" y="1538"/>
                  </a:lnTo>
                  <a:lnTo>
                    <a:pt x="61" y="1543"/>
                  </a:lnTo>
                  <a:lnTo>
                    <a:pt x="53" y="1547"/>
                  </a:lnTo>
                  <a:lnTo>
                    <a:pt x="42" y="1552"/>
                  </a:lnTo>
                  <a:lnTo>
                    <a:pt x="40" y="1556"/>
                  </a:lnTo>
                  <a:lnTo>
                    <a:pt x="42" y="1560"/>
                  </a:lnTo>
                  <a:lnTo>
                    <a:pt x="46" y="1565"/>
                  </a:lnTo>
                  <a:lnTo>
                    <a:pt x="36" y="1569"/>
                  </a:lnTo>
                  <a:lnTo>
                    <a:pt x="29" y="1574"/>
                  </a:lnTo>
                  <a:lnTo>
                    <a:pt x="17" y="1578"/>
                  </a:lnTo>
                  <a:lnTo>
                    <a:pt x="12" y="1583"/>
                  </a:lnTo>
                  <a:lnTo>
                    <a:pt x="15" y="1587"/>
                  </a:lnTo>
                  <a:lnTo>
                    <a:pt x="19" y="1592"/>
                  </a:lnTo>
                  <a:lnTo>
                    <a:pt x="15" y="1596"/>
                  </a:lnTo>
                  <a:lnTo>
                    <a:pt x="15" y="1601"/>
                  </a:lnTo>
                  <a:lnTo>
                    <a:pt x="8" y="1605"/>
                  </a:lnTo>
                  <a:lnTo>
                    <a:pt x="2" y="1610"/>
                  </a:lnTo>
                  <a:lnTo>
                    <a:pt x="2" y="1614"/>
                  </a:lnTo>
                  <a:lnTo>
                    <a:pt x="4" y="1619"/>
                  </a:lnTo>
                  <a:lnTo>
                    <a:pt x="8" y="1623"/>
                  </a:lnTo>
                  <a:lnTo>
                    <a:pt x="0" y="1628"/>
                  </a:lnTo>
                  <a:lnTo>
                    <a:pt x="2" y="1632"/>
                  </a:lnTo>
                  <a:lnTo>
                    <a:pt x="2" y="1637"/>
                  </a:lnTo>
                  <a:lnTo>
                    <a:pt x="2" y="1641"/>
                  </a:lnTo>
                  <a:lnTo>
                    <a:pt x="2" y="1646"/>
                  </a:lnTo>
                  <a:lnTo>
                    <a:pt x="4" y="1650"/>
                  </a:lnTo>
                  <a:lnTo>
                    <a:pt x="10" y="1655"/>
                  </a:lnTo>
                  <a:lnTo>
                    <a:pt x="10" y="1659"/>
                  </a:lnTo>
                  <a:lnTo>
                    <a:pt x="17" y="1664"/>
                  </a:lnTo>
                  <a:lnTo>
                    <a:pt x="25" y="1668"/>
                  </a:lnTo>
                  <a:lnTo>
                    <a:pt x="34" y="1673"/>
                  </a:lnTo>
                  <a:lnTo>
                    <a:pt x="38" y="1677"/>
                  </a:lnTo>
                  <a:lnTo>
                    <a:pt x="29" y="1682"/>
                  </a:lnTo>
                  <a:lnTo>
                    <a:pt x="27" y="1686"/>
                  </a:lnTo>
                  <a:lnTo>
                    <a:pt x="34" y="1691"/>
                  </a:lnTo>
                  <a:lnTo>
                    <a:pt x="36" y="1695"/>
                  </a:lnTo>
                  <a:lnTo>
                    <a:pt x="40" y="1700"/>
                  </a:lnTo>
                  <a:lnTo>
                    <a:pt x="42" y="1704"/>
                  </a:lnTo>
                  <a:lnTo>
                    <a:pt x="44" y="1709"/>
                  </a:lnTo>
                  <a:lnTo>
                    <a:pt x="44" y="1713"/>
                  </a:lnTo>
                  <a:lnTo>
                    <a:pt x="46" y="1718"/>
                  </a:lnTo>
                  <a:lnTo>
                    <a:pt x="46" y="1722"/>
                  </a:lnTo>
                  <a:lnTo>
                    <a:pt x="46" y="1727"/>
                  </a:lnTo>
                  <a:lnTo>
                    <a:pt x="51" y="1731"/>
                  </a:lnTo>
                  <a:lnTo>
                    <a:pt x="59" y="1736"/>
                  </a:lnTo>
                  <a:lnTo>
                    <a:pt x="70" y="1740"/>
                  </a:lnTo>
                  <a:lnTo>
                    <a:pt x="76" y="1745"/>
                  </a:lnTo>
                  <a:lnTo>
                    <a:pt x="91" y="1749"/>
                  </a:lnTo>
                  <a:lnTo>
                    <a:pt x="97" y="1754"/>
                  </a:lnTo>
                  <a:lnTo>
                    <a:pt x="97" y="1758"/>
                  </a:lnTo>
                  <a:lnTo>
                    <a:pt x="97" y="1763"/>
                  </a:lnTo>
                  <a:lnTo>
                    <a:pt x="100" y="1767"/>
                  </a:lnTo>
                  <a:lnTo>
                    <a:pt x="104" y="1772"/>
                  </a:lnTo>
                  <a:lnTo>
                    <a:pt x="102" y="1776"/>
                  </a:lnTo>
                  <a:lnTo>
                    <a:pt x="102" y="1781"/>
                  </a:lnTo>
                  <a:lnTo>
                    <a:pt x="102" y="1785"/>
                  </a:lnTo>
                  <a:lnTo>
                    <a:pt x="104" y="1790"/>
                  </a:lnTo>
                  <a:lnTo>
                    <a:pt x="93" y="1794"/>
                  </a:lnTo>
                  <a:lnTo>
                    <a:pt x="91" y="1799"/>
                  </a:lnTo>
                  <a:lnTo>
                    <a:pt x="91" y="1803"/>
                  </a:lnTo>
                  <a:lnTo>
                    <a:pt x="89" y="1808"/>
                  </a:lnTo>
                  <a:lnTo>
                    <a:pt x="87" y="1812"/>
                  </a:lnTo>
                  <a:lnTo>
                    <a:pt x="89" y="1817"/>
                  </a:lnTo>
                  <a:lnTo>
                    <a:pt x="100" y="1821"/>
                  </a:lnTo>
                  <a:lnTo>
                    <a:pt x="104" y="1826"/>
                  </a:lnTo>
                  <a:lnTo>
                    <a:pt x="102" y="1830"/>
                  </a:lnTo>
                  <a:lnTo>
                    <a:pt x="104" y="1835"/>
                  </a:lnTo>
                  <a:lnTo>
                    <a:pt x="95" y="1839"/>
                  </a:lnTo>
                  <a:lnTo>
                    <a:pt x="89" y="1844"/>
                  </a:lnTo>
                  <a:lnTo>
                    <a:pt x="85" y="1848"/>
                  </a:lnTo>
                  <a:lnTo>
                    <a:pt x="83" y="1853"/>
                  </a:lnTo>
                  <a:lnTo>
                    <a:pt x="78" y="1857"/>
                  </a:lnTo>
                  <a:lnTo>
                    <a:pt x="91" y="1862"/>
                  </a:lnTo>
                  <a:lnTo>
                    <a:pt x="102" y="1866"/>
                  </a:lnTo>
                  <a:lnTo>
                    <a:pt x="104" y="1871"/>
                  </a:lnTo>
                  <a:lnTo>
                    <a:pt x="119" y="1875"/>
                  </a:lnTo>
                  <a:lnTo>
                    <a:pt x="121" y="1880"/>
                  </a:lnTo>
                  <a:lnTo>
                    <a:pt x="121" y="1884"/>
                  </a:lnTo>
                  <a:lnTo>
                    <a:pt x="114" y="1889"/>
                  </a:lnTo>
                  <a:lnTo>
                    <a:pt x="110" y="1893"/>
                  </a:lnTo>
                  <a:lnTo>
                    <a:pt x="91" y="1898"/>
                  </a:lnTo>
                  <a:lnTo>
                    <a:pt x="83" y="1902"/>
                  </a:lnTo>
                  <a:lnTo>
                    <a:pt x="80" y="1907"/>
                  </a:lnTo>
                  <a:lnTo>
                    <a:pt x="80" y="1911"/>
                  </a:lnTo>
                  <a:lnTo>
                    <a:pt x="74" y="1916"/>
                  </a:lnTo>
                  <a:lnTo>
                    <a:pt x="80" y="1920"/>
                  </a:lnTo>
                  <a:lnTo>
                    <a:pt x="85" y="1925"/>
                  </a:lnTo>
                  <a:lnTo>
                    <a:pt x="91" y="1929"/>
                  </a:lnTo>
                  <a:lnTo>
                    <a:pt x="100" y="1934"/>
                  </a:lnTo>
                  <a:lnTo>
                    <a:pt x="93" y="1938"/>
                  </a:lnTo>
                  <a:lnTo>
                    <a:pt x="91" y="1943"/>
                  </a:lnTo>
                  <a:lnTo>
                    <a:pt x="85" y="1947"/>
                  </a:lnTo>
                  <a:lnTo>
                    <a:pt x="89" y="1952"/>
                  </a:lnTo>
                  <a:lnTo>
                    <a:pt x="89" y="1956"/>
                  </a:lnTo>
                  <a:lnTo>
                    <a:pt x="89" y="1961"/>
                  </a:lnTo>
                  <a:lnTo>
                    <a:pt x="87" y="1965"/>
                  </a:lnTo>
                  <a:lnTo>
                    <a:pt x="85" y="1970"/>
                  </a:lnTo>
                  <a:lnTo>
                    <a:pt x="85" y="1974"/>
                  </a:lnTo>
                  <a:lnTo>
                    <a:pt x="93" y="1979"/>
                  </a:lnTo>
                  <a:lnTo>
                    <a:pt x="97" y="1983"/>
                  </a:lnTo>
                  <a:lnTo>
                    <a:pt x="91" y="1988"/>
                  </a:lnTo>
                  <a:lnTo>
                    <a:pt x="80" y="1992"/>
                  </a:lnTo>
                  <a:lnTo>
                    <a:pt x="68" y="1997"/>
                  </a:lnTo>
                  <a:lnTo>
                    <a:pt x="63" y="2001"/>
                  </a:lnTo>
                  <a:lnTo>
                    <a:pt x="63" y="2006"/>
                  </a:lnTo>
                  <a:lnTo>
                    <a:pt x="68" y="2010"/>
                  </a:lnTo>
                  <a:lnTo>
                    <a:pt x="78" y="2015"/>
                  </a:lnTo>
                  <a:lnTo>
                    <a:pt x="70" y="2019"/>
                  </a:lnTo>
                  <a:lnTo>
                    <a:pt x="70" y="2024"/>
                  </a:lnTo>
                  <a:lnTo>
                    <a:pt x="70" y="2028"/>
                  </a:lnTo>
                  <a:lnTo>
                    <a:pt x="72" y="2033"/>
                  </a:lnTo>
                  <a:lnTo>
                    <a:pt x="72" y="2037"/>
                  </a:lnTo>
                  <a:lnTo>
                    <a:pt x="68" y="2042"/>
                  </a:lnTo>
                  <a:lnTo>
                    <a:pt x="68" y="2046"/>
                  </a:lnTo>
                  <a:lnTo>
                    <a:pt x="68" y="2051"/>
                  </a:lnTo>
                  <a:lnTo>
                    <a:pt x="87" y="2055"/>
                  </a:lnTo>
                  <a:lnTo>
                    <a:pt x="97" y="2060"/>
                  </a:lnTo>
                  <a:lnTo>
                    <a:pt x="129" y="2064"/>
                  </a:lnTo>
                  <a:lnTo>
                    <a:pt x="155" y="2069"/>
                  </a:lnTo>
                  <a:lnTo>
                    <a:pt x="172" y="2073"/>
                  </a:lnTo>
                  <a:lnTo>
                    <a:pt x="170" y="2078"/>
                  </a:lnTo>
                  <a:lnTo>
                    <a:pt x="174" y="2082"/>
                  </a:lnTo>
                  <a:lnTo>
                    <a:pt x="176" y="2087"/>
                  </a:lnTo>
                  <a:lnTo>
                    <a:pt x="172" y="2091"/>
                  </a:lnTo>
                  <a:lnTo>
                    <a:pt x="168" y="2096"/>
                  </a:lnTo>
                  <a:lnTo>
                    <a:pt x="168" y="2100"/>
                  </a:lnTo>
                  <a:lnTo>
                    <a:pt x="163" y="2105"/>
                  </a:lnTo>
                  <a:lnTo>
                    <a:pt x="157" y="2109"/>
                  </a:lnTo>
                  <a:lnTo>
                    <a:pt x="148" y="2114"/>
                  </a:lnTo>
                  <a:lnTo>
                    <a:pt x="146" y="2118"/>
                  </a:lnTo>
                  <a:lnTo>
                    <a:pt x="148" y="2123"/>
                  </a:lnTo>
                  <a:lnTo>
                    <a:pt x="182" y="2127"/>
                  </a:lnTo>
                  <a:lnTo>
                    <a:pt x="191" y="2132"/>
                  </a:lnTo>
                  <a:lnTo>
                    <a:pt x="204" y="2136"/>
                  </a:lnTo>
                  <a:lnTo>
                    <a:pt x="202" y="2141"/>
                  </a:lnTo>
                  <a:lnTo>
                    <a:pt x="202" y="2145"/>
                  </a:lnTo>
                  <a:lnTo>
                    <a:pt x="195" y="2150"/>
                  </a:lnTo>
                  <a:lnTo>
                    <a:pt x="193" y="2154"/>
                  </a:lnTo>
                  <a:lnTo>
                    <a:pt x="193" y="2159"/>
                  </a:lnTo>
                  <a:lnTo>
                    <a:pt x="197" y="2163"/>
                  </a:lnTo>
                  <a:lnTo>
                    <a:pt x="199" y="2168"/>
                  </a:lnTo>
                  <a:lnTo>
                    <a:pt x="208" y="2172"/>
                  </a:lnTo>
                  <a:lnTo>
                    <a:pt x="204" y="2177"/>
                  </a:lnTo>
                  <a:lnTo>
                    <a:pt x="197" y="2181"/>
                  </a:lnTo>
                  <a:lnTo>
                    <a:pt x="191" y="2186"/>
                  </a:lnTo>
                  <a:lnTo>
                    <a:pt x="180" y="2190"/>
                  </a:lnTo>
                  <a:lnTo>
                    <a:pt x="178" y="2195"/>
                  </a:lnTo>
                  <a:lnTo>
                    <a:pt x="172" y="2199"/>
                  </a:lnTo>
                  <a:lnTo>
                    <a:pt x="168" y="2204"/>
                  </a:lnTo>
                  <a:lnTo>
                    <a:pt x="172" y="2208"/>
                  </a:lnTo>
                  <a:lnTo>
                    <a:pt x="172" y="2213"/>
                  </a:lnTo>
                  <a:lnTo>
                    <a:pt x="163" y="2217"/>
                  </a:lnTo>
                  <a:lnTo>
                    <a:pt x="174" y="2222"/>
                  </a:lnTo>
                  <a:lnTo>
                    <a:pt x="180" y="2226"/>
                  </a:lnTo>
                  <a:lnTo>
                    <a:pt x="197" y="2231"/>
                  </a:lnTo>
                  <a:lnTo>
                    <a:pt x="210" y="2235"/>
                  </a:lnTo>
                  <a:lnTo>
                    <a:pt x="221" y="2240"/>
                  </a:lnTo>
                  <a:lnTo>
                    <a:pt x="227" y="2244"/>
                  </a:lnTo>
                  <a:lnTo>
                    <a:pt x="225" y="2249"/>
                  </a:lnTo>
                  <a:lnTo>
                    <a:pt x="225" y="2253"/>
                  </a:lnTo>
                  <a:lnTo>
                    <a:pt x="227" y="2258"/>
                  </a:lnTo>
                  <a:lnTo>
                    <a:pt x="233" y="2262"/>
                  </a:lnTo>
                  <a:lnTo>
                    <a:pt x="235" y="2267"/>
                  </a:lnTo>
                  <a:lnTo>
                    <a:pt x="240" y="2271"/>
                  </a:lnTo>
                  <a:lnTo>
                    <a:pt x="240" y="2276"/>
                  </a:lnTo>
                  <a:lnTo>
                    <a:pt x="238" y="2280"/>
                  </a:lnTo>
                  <a:lnTo>
                    <a:pt x="238" y="2285"/>
                  </a:lnTo>
                  <a:lnTo>
                    <a:pt x="223" y="2289"/>
                  </a:lnTo>
                  <a:lnTo>
                    <a:pt x="210" y="2294"/>
                  </a:lnTo>
                  <a:lnTo>
                    <a:pt x="199" y="2298"/>
                  </a:lnTo>
                  <a:lnTo>
                    <a:pt x="197" y="2303"/>
                  </a:lnTo>
                  <a:lnTo>
                    <a:pt x="199" y="2307"/>
                  </a:lnTo>
                  <a:lnTo>
                    <a:pt x="199" y="2312"/>
                  </a:lnTo>
                  <a:lnTo>
                    <a:pt x="195" y="2316"/>
                  </a:lnTo>
                  <a:lnTo>
                    <a:pt x="195" y="2321"/>
                  </a:lnTo>
                  <a:lnTo>
                    <a:pt x="182" y="2325"/>
                  </a:lnTo>
                  <a:lnTo>
                    <a:pt x="180" y="2330"/>
                  </a:lnTo>
                  <a:lnTo>
                    <a:pt x="180" y="2334"/>
                  </a:lnTo>
                  <a:lnTo>
                    <a:pt x="178" y="2339"/>
                  </a:lnTo>
                  <a:lnTo>
                    <a:pt x="168" y="2343"/>
                  </a:lnTo>
                  <a:lnTo>
                    <a:pt x="168" y="2348"/>
                  </a:lnTo>
                  <a:lnTo>
                    <a:pt x="165" y="2352"/>
                  </a:lnTo>
                  <a:lnTo>
                    <a:pt x="172" y="2357"/>
                  </a:lnTo>
                  <a:lnTo>
                    <a:pt x="172" y="2361"/>
                  </a:lnTo>
                  <a:lnTo>
                    <a:pt x="172" y="2366"/>
                  </a:lnTo>
                  <a:lnTo>
                    <a:pt x="174" y="2370"/>
                  </a:lnTo>
                  <a:lnTo>
                    <a:pt x="172" y="2375"/>
                  </a:lnTo>
                  <a:lnTo>
                    <a:pt x="159" y="2379"/>
                  </a:lnTo>
                  <a:lnTo>
                    <a:pt x="157" y="2384"/>
                  </a:lnTo>
                  <a:lnTo>
                    <a:pt x="157" y="2388"/>
                  </a:lnTo>
                  <a:lnTo>
                    <a:pt x="159" y="2393"/>
                  </a:lnTo>
                  <a:lnTo>
                    <a:pt x="165" y="2397"/>
                  </a:lnTo>
                  <a:lnTo>
                    <a:pt x="163" y="2402"/>
                  </a:lnTo>
                  <a:lnTo>
                    <a:pt x="163" y="2406"/>
                  </a:lnTo>
                  <a:lnTo>
                    <a:pt x="163" y="2411"/>
                  </a:lnTo>
                  <a:lnTo>
                    <a:pt x="161" y="2415"/>
                  </a:lnTo>
                  <a:lnTo>
                    <a:pt x="148" y="2420"/>
                  </a:lnTo>
                  <a:lnTo>
                    <a:pt x="142" y="2424"/>
                  </a:lnTo>
                  <a:lnTo>
                    <a:pt x="142" y="2429"/>
                  </a:lnTo>
                  <a:lnTo>
                    <a:pt x="148" y="2433"/>
                  </a:lnTo>
                  <a:lnTo>
                    <a:pt x="161" y="2438"/>
                  </a:lnTo>
                  <a:lnTo>
                    <a:pt x="165" y="2442"/>
                  </a:lnTo>
                  <a:lnTo>
                    <a:pt x="168" y="2447"/>
                  </a:lnTo>
                  <a:lnTo>
                    <a:pt x="176" y="2451"/>
                  </a:lnTo>
                  <a:lnTo>
                    <a:pt x="163" y="2456"/>
                  </a:lnTo>
                  <a:lnTo>
                    <a:pt x="146" y="2460"/>
                  </a:lnTo>
                  <a:lnTo>
                    <a:pt x="151" y="2465"/>
                  </a:lnTo>
                  <a:lnTo>
                    <a:pt x="185" y="2469"/>
                  </a:lnTo>
                  <a:lnTo>
                    <a:pt x="202" y="2474"/>
                  </a:lnTo>
                  <a:lnTo>
                    <a:pt x="195" y="2478"/>
                  </a:lnTo>
                  <a:lnTo>
                    <a:pt x="193" y="2483"/>
                  </a:lnTo>
                  <a:lnTo>
                    <a:pt x="185" y="2487"/>
                  </a:lnTo>
                  <a:lnTo>
                    <a:pt x="191" y="2492"/>
                  </a:lnTo>
                  <a:lnTo>
                    <a:pt x="210" y="2496"/>
                  </a:lnTo>
                  <a:lnTo>
                    <a:pt x="212" y="2501"/>
                  </a:lnTo>
                  <a:lnTo>
                    <a:pt x="219" y="2505"/>
                  </a:lnTo>
                  <a:lnTo>
                    <a:pt x="210" y="2510"/>
                  </a:lnTo>
                  <a:lnTo>
                    <a:pt x="199" y="2514"/>
                  </a:lnTo>
                  <a:lnTo>
                    <a:pt x="191" y="2519"/>
                  </a:lnTo>
                  <a:lnTo>
                    <a:pt x="195" y="2523"/>
                  </a:lnTo>
                  <a:lnTo>
                    <a:pt x="193" y="2528"/>
                  </a:lnTo>
                  <a:lnTo>
                    <a:pt x="193" y="2532"/>
                  </a:lnTo>
                  <a:lnTo>
                    <a:pt x="195" y="2537"/>
                  </a:lnTo>
                  <a:lnTo>
                    <a:pt x="189" y="2541"/>
                  </a:lnTo>
                  <a:lnTo>
                    <a:pt x="187" y="2546"/>
                  </a:lnTo>
                  <a:lnTo>
                    <a:pt x="193" y="2550"/>
                  </a:lnTo>
                  <a:lnTo>
                    <a:pt x="202" y="2555"/>
                  </a:lnTo>
                  <a:lnTo>
                    <a:pt x="206" y="2559"/>
                  </a:lnTo>
                  <a:lnTo>
                    <a:pt x="212" y="2564"/>
                  </a:lnTo>
                  <a:lnTo>
                    <a:pt x="223" y="2568"/>
                  </a:lnTo>
                  <a:lnTo>
                    <a:pt x="225" y="2573"/>
                  </a:lnTo>
                  <a:lnTo>
                    <a:pt x="225" y="2577"/>
                  </a:lnTo>
                  <a:lnTo>
                    <a:pt x="214" y="2582"/>
                  </a:lnTo>
                </a:path>
              </a:pathLst>
            </a:custGeom>
            <a:noFill/>
            <a:ln w="2052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Freeform 292"/>
            <p:cNvSpPr/>
            <p:nvPr/>
          </p:nvSpPr>
          <p:spPr>
            <a:xfrm>
              <a:off x="1109520" y="2157480"/>
              <a:ext cx="754200" cy="4379760"/>
            </a:xfrm>
            <a:custGeom>
              <a:avLst/>
              <a:gdLst>
                <a:gd name="textAreaLeft" fmla="*/ 0 w 754200"/>
                <a:gd name="textAreaRight" fmla="*/ 754560 w 754200"/>
                <a:gd name="textAreaTop" fmla="*/ 0 h 4379760"/>
                <a:gd name="textAreaBottom" fmla="*/ 4380120 h 4379760"/>
              </a:gdLst>
              <a:ahLst/>
              <a:rect l="textAreaLeft" t="textAreaTop" r="textAreaRight" b="textAreaBottom"/>
              <a:pathLst>
                <a:path w="446" h="2582">
                  <a:moveTo>
                    <a:pt x="395" y="0"/>
                  </a:moveTo>
                  <a:lnTo>
                    <a:pt x="397" y="4"/>
                  </a:lnTo>
                  <a:lnTo>
                    <a:pt x="402" y="9"/>
                  </a:lnTo>
                  <a:lnTo>
                    <a:pt x="404" y="13"/>
                  </a:lnTo>
                  <a:lnTo>
                    <a:pt x="389" y="18"/>
                  </a:lnTo>
                  <a:lnTo>
                    <a:pt x="376" y="22"/>
                  </a:lnTo>
                  <a:lnTo>
                    <a:pt x="366" y="27"/>
                  </a:lnTo>
                  <a:lnTo>
                    <a:pt x="355" y="31"/>
                  </a:lnTo>
                  <a:lnTo>
                    <a:pt x="351" y="36"/>
                  </a:lnTo>
                  <a:lnTo>
                    <a:pt x="349" y="40"/>
                  </a:lnTo>
                  <a:lnTo>
                    <a:pt x="361" y="45"/>
                  </a:lnTo>
                  <a:lnTo>
                    <a:pt x="372" y="49"/>
                  </a:lnTo>
                  <a:lnTo>
                    <a:pt x="380" y="54"/>
                  </a:lnTo>
                  <a:lnTo>
                    <a:pt x="383" y="58"/>
                  </a:lnTo>
                  <a:lnTo>
                    <a:pt x="391" y="63"/>
                  </a:lnTo>
                  <a:lnTo>
                    <a:pt x="395" y="67"/>
                  </a:lnTo>
                  <a:lnTo>
                    <a:pt x="402" y="72"/>
                  </a:lnTo>
                  <a:lnTo>
                    <a:pt x="408" y="76"/>
                  </a:lnTo>
                  <a:lnTo>
                    <a:pt x="393" y="81"/>
                  </a:lnTo>
                  <a:lnTo>
                    <a:pt x="400" y="85"/>
                  </a:lnTo>
                  <a:lnTo>
                    <a:pt x="423" y="90"/>
                  </a:lnTo>
                  <a:lnTo>
                    <a:pt x="425" y="94"/>
                  </a:lnTo>
                  <a:lnTo>
                    <a:pt x="425" y="99"/>
                  </a:lnTo>
                  <a:lnTo>
                    <a:pt x="434" y="103"/>
                  </a:lnTo>
                  <a:lnTo>
                    <a:pt x="436" y="108"/>
                  </a:lnTo>
                  <a:lnTo>
                    <a:pt x="446" y="112"/>
                  </a:lnTo>
                  <a:lnTo>
                    <a:pt x="436" y="117"/>
                  </a:lnTo>
                  <a:lnTo>
                    <a:pt x="427" y="121"/>
                  </a:lnTo>
                  <a:lnTo>
                    <a:pt x="402" y="126"/>
                  </a:lnTo>
                  <a:lnTo>
                    <a:pt x="391" y="130"/>
                  </a:lnTo>
                  <a:lnTo>
                    <a:pt x="395" y="135"/>
                  </a:lnTo>
                  <a:lnTo>
                    <a:pt x="400" y="139"/>
                  </a:lnTo>
                  <a:lnTo>
                    <a:pt x="419" y="144"/>
                  </a:lnTo>
                  <a:lnTo>
                    <a:pt x="423" y="148"/>
                  </a:lnTo>
                  <a:lnTo>
                    <a:pt x="436" y="153"/>
                  </a:lnTo>
                  <a:lnTo>
                    <a:pt x="434" y="157"/>
                  </a:lnTo>
                  <a:lnTo>
                    <a:pt x="431" y="162"/>
                  </a:lnTo>
                  <a:lnTo>
                    <a:pt x="414" y="166"/>
                  </a:lnTo>
                  <a:lnTo>
                    <a:pt x="404" y="171"/>
                  </a:lnTo>
                  <a:lnTo>
                    <a:pt x="414" y="175"/>
                  </a:lnTo>
                  <a:lnTo>
                    <a:pt x="427" y="180"/>
                  </a:lnTo>
                  <a:lnTo>
                    <a:pt x="442" y="184"/>
                  </a:lnTo>
                  <a:lnTo>
                    <a:pt x="444" y="189"/>
                  </a:lnTo>
                  <a:lnTo>
                    <a:pt x="404" y="193"/>
                  </a:lnTo>
                  <a:lnTo>
                    <a:pt x="270" y="198"/>
                  </a:lnTo>
                  <a:lnTo>
                    <a:pt x="149" y="202"/>
                  </a:lnTo>
                  <a:lnTo>
                    <a:pt x="64" y="207"/>
                  </a:lnTo>
                  <a:lnTo>
                    <a:pt x="47" y="211"/>
                  </a:lnTo>
                  <a:lnTo>
                    <a:pt x="19" y="216"/>
                  </a:lnTo>
                  <a:lnTo>
                    <a:pt x="15" y="220"/>
                  </a:lnTo>
                  <a:lnTo>
                    <a:pt x="0" y="225"/>
                  </a:lnTo>
                  <a:lnTo>
                    <a:pt x="7" y="229"/>
                  </a:lnTo>
                  <a:lnTo>
                    <a:pt x="21" y="234"/>
                  </a:lnTo>
                  <a:lnTo>
                    <a:pt x="26" y="238"/>
                  </a:lnTo>
                  <a:lnTo>
                    <a:pt x="36" y="243"/>
                  </a:lnTo>
                  <a:lnTo>
                    <a:pt x="47" y="247"/>
                  </a:lnTo>
                  <a:lnTo>
                    <a:pt x="66" y="252"/>
                  </a:lnTo>
                  <a:lnTo>
                    <a:pt x="94" y="256"/>
                  </a:lnTo>
                  <a:lnTo>
                    <a:pt x="77" y="261"/>
                  </a:lnTo>
                  <a:lnTo>
                    <a:pt x="77" y="265"/>
                  </a:lnTo>
                  <a:lnTo>
                    <a:pt x="77" y="270"/>
                  </a:lnTo>
                  <a:lnTo>
                    <a:pt x="68" y="274"/>
                  </a:lnTo>
                  <a:lnTo>
                    <a:pt x="64" y="279"/>
                  </a:lnTo>
                  <a:lnTo>
                    <a:pt x="51" y="283"/>
                  </a:lnTo>
                  <a:lnTo>
                    <a:pt x="51" y="288"/>
                  </a:lnTo>
                  <a:lnTo>
                    <a:pt x="58" y="292"/>
                  </a:lnTo>
                  <a:lnTo>
                    <a:pt x="58" y="297"/>
                  </a:lnTo>
                  <a:lnTo>
                    <a:pt x="47" y="301"/>
                  </a:lnTo>
                  <a:lnTo>
                    <a:pt x="49" y="306"/>
                  </a:lnTo>
                  <a:lnTo>
                    <a:pt x="47" y="310"/>
                  </a:lnTo>
                  <a:lnTo>
                    <a:pt x="49" y="315"/>
                  </a:lnTo>
                  <a:lnTo>
                    <a:pt x="60" y="319"/>
                  </a:lnTo>
                  <a:lnTo>
                    <a:pt x="70" y="324"/>
                  </a:lnTo>
                  <a:lnTo>
                    <a:pt x="70" y="328"/>
                  </a:lnTo>
                  <a:lnTo>
                    <a:pt x="68" y="333"/>
                  </a:lnTo>
                  <a:lnTo>
                    <a:pt x="62" y="337"/>
                  </a:lnTo>
                  <a:lnTo>
                    <a:pt x="62" y="342"/>
                  </a:lnTo>
                  <a:lnTo>
                    <a:pt x="60" y="346"/>
                  </a:lnTo>
                  <a:lnTo>
                    <a:pt x="51" y="351"/>
                  </a:lnTo>
                  <a:lnTo>
                    <a:pt x="53" y="355"/>
                  </a:lnTo>
                  <a:lnTo>
                    <a:pt x="55" y="360"/>
                  </a:lnTo>
                  <a:lnTo>
                    <a:pt x="60" y="364"/>
                  </a:lnTo>
                  <a:lnTo>
                    <a:pt x="51" y="369"/>
                  </a:lnTo>
                  <a:lnTo>
                    <a:pt x="53" y="373"/>
                  </a:lnTo>
                  <a:lnTo>
                    <a:pt x="53" y="378"/>
                  </a:lnTo>
                  <a:lnTo>
                    <a:pt x="53" y="382"/>
                  </a:lnTo>
                  <a:lnTo>
                    <a:pt x="53" y="387"/>
                  </a:lnTo>
                  <a:lnTo>
                    <a:pt x="55" y="391"/>
                  </a:lnTo>
                  <a:lnTo>
                    <a:pt x="60" y="396"/>
                  </a:lnTo>
                  <a:lnTo>
                    <a:pt x="62" y="400"/>
                  </a:lnTo>
                  <a:lnTo>
                    <a:pt x="58" y="405"/>
                  </a:lnTo>
                  <a:lnTo>
                    <a:pt x="58" y="409"/>
                  </a:lnTo>
                  <a:lnTo>
                    <a:pt x="55" y="414"/>
                  </a:lnTo>
                  <a:lnTo>
                    <a:pt x="62" y="418"/>
                  </a:lnTo>
                  <a:lnTo>
                    <a:pt x="55" y="423"/>
                  </a:lnTo>
                  <a:lnTo>
                    <a:pt x="64" y="427"/>
                  </a:lnTo>
                  <a:lnTo>
                    <a:pt x="60" y="432"/>
                  </a:lnTo>
                  <a:lnTo>
                    <a:pt x="47" y="436"/>
                  </a:lnTo>
                  <a:lnTo>
                    <a:pt x="38" y="441"/>
                  </a:lnTo>
                  <a:lnTo>
                    <a:pt x="34" y="445"/>
                  </a:lnTo>
                  <a:lnTo>
                    <a:pt x="24" y="450"/>
                  </a:lnTo>
                  <a:lnTo>
                    <a:pt x="21" y="454"/>
                  </a:lnTo>
                  <a:lnTo>
                    <a:pt x="34" y="459"/>
                  </a:lnTo>
                  <a:lnTo>
                    <a:pt x="38" y="463"/>
                  </a:lnTo>
                  <a:lnTo>
                    <a:pt x="38" y="468"/>
                  </a:lnTo>
                  <a:lnTo>
                    <a:pt x="43" y="472"/>
                  </a:lnTo>
                  <a:lnTo>
                    <a:pt x="53" y="477"/>
                  </a:lnTo>
                  <a:lnTo>
                    <a:pt x="43" y="481"/>
                  </a:lnTo>
                  <a:lnTo>
                    <a:pt x="43" y="486"/>
                  </a:lnTo>
                  <a:lnTo>
                    <a:pt x="43" y="490"/>
                  </a:lnTo>
                  <a:lnTo>
                    <a:pt x="36" y="495"/>
                  </a:lnTo>
                  <a:lnTo>
                    <a:pt x="45" y="499"/>
                  </a:lnTo>
                  <a:lnTo>
                    <a:pt x="47" y="504"/>
                  </a:lnTo>
                  <a:lnTo>
                    <a:pt x="47" y="508"/>
                  </a:lnTo>
                  <a:lnTo>
                    <a:pt x="28" y="512"/>
                  </a:lnTo>
                  <a:lnTo>
                    <a:pt x="30" y="517"/>
                  </a:lnTo>
                  <a:lnTo>
                    <a:pt x="43" y="521"/>
                  </a:lnTo>
                  <a:lnTo>
                    <a:pt x="43" y="526"/>
                  </a:lnTo>
                  <a:lnTo>
                    <a:pt x="28" y="530"/>
                  </a:lnTo>
                  <a:lnTo>
                    <a:pt x="28" y="535"/>
                  </a:lnTo>
                  <a:lnTo>
                    <a:pt x="32" y="539"/>
                  </a:lnTo>
                  <a:lnTo>
                    <a:pt x="36" y="544"/>
                  </a:lnTo>
                  <a:lnTo>
                    <a:pt x="41" y="548"/>
                  </a:lnTo>
                  <a:lnTo>
                    <a:pt x="51" y="553"/>
                  </a:lnTo>
                  <a:lnTo>
                    <a:pt x="62" y="557"/>
                  </a:lnTo>
                  <a:lnTo>
                    <a:pt x="60" y="562"/>
                  </a:lnTo>
                  <a:lnTo>
                    <a:pt x="66" y="566"/>
                  </a:lnTo>
                  <a:lnTo>
                    <a:pt x="72" y="571"/>
                  </a:lnTo>
                  <a:lnTo>
                    <a:pt x="70" y="575"/>
                  </a:lnTo>
                  <a:lnTo>
                    <a:pt x="62" y="580"/>
                  </a:lnTo>
                  <a:lnTo>
                    <a:pt x="62" y="584"/>
                  </a:lnTo>
                  <a:lnTo>
                    <a:pt x="51" y="589"/>
                  </a:lnTo>
                  <a:lnTo>
                    <a:pt x="45" y="593"/>
                  </a:lnTo>
                  <a:lnTo>
                    <a:pt x="45" y="598"/>
                  </a:lnTo>
                  <a:lnTo>
                    <a:pt x="53" y="602"/>
                  </a:lnTo>
                  <a:lnTo>
                    <a:pt x="49" y="607"/>
                  </a:lnTo>
                  <a:lnTo>
                    <a:pt x="45" y="611"/>
                  </a:lnTo>
                  <a:lnTo>
                    <a:pt x="49" y="616"/>
                  </a:lnTo>
                  <a:lnTo>
                    <a:pt x="51" y="620"/>
                  </a:lnTo>
                  <a:lnTo>
                    <a:pt x="51" y="625"/>
                  </a:lnTo>
                  <a:lnTo>
                    <a:pt x="51" y="629"/>
                  </a:lnTo>
                  <a:lnTo>
                    <a:pt x="53" y="634"/>
                  </a:lnTo>
                  <a:lnTo>
                    <a:pt x="70" y="638"/>
                  </a:lnTo>
                  <a:lnTo>
                    <a:pt x="72" y="643"/>
                  </a:lnTo>
                  <a:lnTo>
                    <a:pt x="68" y="647"/>
                  </a:lnTo>
                  <a:lnTo>
                    <a:pt x="64" y="652"/>
                  </a:lnTo>
                  <a:lnTo>
                    <a:pt x="66" y="656"/>
                  </a:lnTo>
                  <a:lnTo>
                    <a:pt x="70" y="661"/>
                  </a:lnTo>
                  <a:lnTo>
                    <a:pt x="79" y="665"/>
                  </a:lnTo>
                  <a:lnTo>
                    <a:pt x="94" y="670"/>
                  </a:lnTo>
                  <a:lnTo>
                    <a:pt x="94" y="674"/>
                  </a:lnTo>
                  <a:lnTo>
                    <a:pt x="72" y="679"/>
                  </a:lnTo>
                  <a:lnTo>
                    <a:pt x="60" y="683"/>
                  </a:lnTo>
                  <a:lnTo>
                    <a:pt x="64" y="688"/>
                  </a:lnTo>
                  <a:lnTo>
                    <a:pt x="66" y="692"/>
                  </a:lnTo>
                  <a:lnTo>
                    <a:pt x="77" y="697"/>
                  </a:lnTo>
                  <a:lnTo>
                    <a:pt x="77" y="701"/>
                  </a:lnTo>
                  <a:lnTo>
                    <a:pt x="75" y="706"/>
                  </a:lnTo>
                  <a:lnTo>
                    <a:pt x="75" y="710"/>
                  </a:lnTo>
                  <a:lnTo>
                    <a:pt x="85" y="715"/>
                  </a:lnTo>
                  <a:lnTo>
                    <a:pt x="85" y="719"/>
                  </a:lnTo>
                  <a:lnTo>
                    <a:pt x="75" y="724"/>
                  </a:lnTo>
                  <a:lnTo>
                    <a:pt x="72" y="728"/>
                  </a:lnTo>
                  <a:lnTo>
                    <a:pt x="81" y="733"/>
                  </a:lnTo>
                  <a:lnTo>
                    <a:pt x="89" y="737"/>
                  </a:lnTo>
                  <a:lnTo>
                    <a:pt x="83" y="742"/>
                  </a:lnTo>
                  <a:lnTo>
                    <a:pt x="79" y="746"/>
                  </a:lnTo>
                  <a:lnTo>
                    <a:pt x="79" y="751"/>
                  </a:lnTo>
                  <a:lnTo>
                    <a:pt x="81" y="755"/>
                  </a:lnTo>
                  <a:lnTo>
                    <a:pt x="83" y="760"/>
                  </a:lnTo>
                  <a:lnTo>
                    <a:pt x="83" y="764"/>
                  </a:lnTo>
                  <a:lnTo>
                    <a:pt x="85" y="769"/>
                  </a:lnTo>
                  <a:lnTo>
                    <a:pt x="85" y="773"/>
                  </a:lnTo>
                  <a:lnTo>
                    <a:pt x="79" y="778"/>
                  </a:lnTo>
                  <a:lnTo>
                    <a:pt x="75" y="782"/>
                  </a:lnTo>
                  <a:lnTo>
                    <a:pt x="79" y="787"/>
                  </a:lnTo>
                  <a:lnTo>
                    <a:pt x="96" y="791"/>
                  </a:lnTo>
                  <a:lnTo>
                    <a:pt x="111" y="796"/>
                  </a:lnTo>
                  <a:lnTo>
                    <a:pt x="111" y="800"/>
                  </a:lnTo>
                  <a:lnTo>
                    <a:pt x="113" y="805"/>
                  </a:lnTo>
                  <a:lnTo>
                    <a:pt x="106" y="809"/>
                  </a:lnTo>
                  <a:lnTo>
                    <a:pt x="115" y="814"/>
                  </a:lnTo>
                  <a:lnTo>
                    <a:pt x="126" y="818"/>
                  </a:lnTo>
                  <a:lnTo>
                    <a:pt x="145" y="823"/>
                  </a:lnTo>
                  <a:lnTo>
                    <a:pt x="174" y="827"/>
                  </a:lnTo>
                  <a:lnTo>
                    <a:pt x="174" y="832"/>
                  </a:lnTo>
                  <a:lnTo>
                    <a:pt x="164" y="836"/>
                  </a:lnTo>
                  <a:lnTo>
                    <a:pt x="174" y="841"/>
                  </a:lnTo>
                  <a:lnTo>
                    <a:pt x="245" y="845"/>
                  </a:lnTo>
                  <a:lnTo>
                    <a:pt x="253" y="850"/>
                  </a:lnTo>
                  <a:lnTo>
                    <a:pt x="293" y="854"/>
                  </a:lnTo>
                  <a:lnTo>
                    <a:pt x="323" y="859"/>
                  </a:lnTo>
                  <a:lnTo>
                    <a:pt x="325" y="863"/>
                  </a:lnTo>
                  <a:lnTo>
                    <a:pt x="281" y="868"/>
                  </a:lnTo>
                  <a:lnTo>
                    <a:pt x="240" y="872"/>
                  </a:lnTo>
                  <a:lnTo>
                    <a:pt x="221" y="877"/>
                  </a:lnTo>
                  <a:lnTo>
                    <a:pt x="191" y="881"/>
                  </a:lnTo>
                  <a:lnTo>
                    <a:pt x="151" y="886"/>
                  </a:lnTo>
                  <a:lnTo>
                    <a:pt x="111" y="890"/>
                  </a:lnTo>
                  <a:lnTo>
                    <a:pt x="102" y="895"/>
                  </a:lnTo>
                  <a:lnTo>
                    <a:pt x="85" y="899"/>
                  </a:lnTo>
                  <a:lnTo>
                    <a:pt x="75" y="904"/>
                  </a:lnTo>
                  <a:lnTo>
                    <a:pt x="72" y="908"/>
                  </a:lnTo>
                  <a:lnTo>
                    <a:pt x="75" y="913"/>
                  </a:lnTo>
                  <a:lnTo>
                    <a:pt x="87" y="917"/>
                  </a:lnTo>
                  <a:lnTo>
                    <a:pt x="83" y="922"/>
                  </a:lnTo>
                  <a:lnTo>
                    <a:pt x="77" y="926"/>
                  </a:lnTo>
                  <a:lnTo>
                    <a:pt x="72" y="931"/>
                  </a:lnTo>
                  <a:lnTo>
                    <a:pt x="58" y="935"/>
                  </a:lnTo>
                  <a:lnTo>
                    <a:pt x="55" y="940"/>
                  </a:lnTo>
                  <a:lnTo>
                    <a:pt x="64" y="944"/>
                  </a:lnTo>
                  <a:lnTo>
                    <a:pt x="72" y="949"/>
                  </a:lnTo>
                  <a:lnTo>
                    <a:pt x="70" y="953"/>
                  </a:lnTo>
                  <a:lnTo>
                    <a:pt x="70" y="958"/>
                  </a:lnTo>
                  <a:lnTo>
                    <a:pt x="53" y="962"/>
                  </a:lnTo>
                  <a:lnTo>
                    <a:pt x="51" y="967"/>
                  </a:lnTo>
                  <a:lnTo>
                    <a:pt x="62" y="971"/>
                  </a:lnTo>
                  <a:lnTo>
                    <a:pt x="72" y="976"/>
                  </a:lnTo>
                  <a:lnTo>
                    <a:pt x="87" y="980"/>
                  </a:lnTo>
                  <a:lnTo>
                    <a:pt x="121" y="985"/>
                  </a:lnTo>
                  <a:lnTo>
                    <a:pt x="136" y="989"/>
                  </a:lnTo>
                  <a:lnTo>
                    <a:pt x="147" y="994"/>
                  </a:lnTo>
                  <a:lnTo>
                    <a:pt x="123" y="998"/>
                  </a:lnTo>
                  <a:lnTo>
                    <a:pt x="115" y="1003"/>
                  </a:lnTo>
                  <a:lnTo>
                    <a:pt x="77" y="1007"/>
                  </a:lnTo>
                  <a:lnTo>
                    <a:pt x="62" y="1012"/>
                  </a:lnTo>
                  <a:lnTo>
                    <a:pt x="68" y="1016"/>
                  </a:lnTo>
                  <a:lnTo>
                    <a:pt x="58" y="1021"/>
                  </a:lnTo>
                  <a:lnTo>
                    <a:pt x="55" y="1025"/>
                  </a:lnTo>
                  <a:lnTo>
                    <a:pt x="64" y="1030"/>
                  </a:lnTo>
                  <a:lnTo>
                    <a:pt x="64" y="1034"/>
                  </a:lnTo>
                  <a:lnTo>
                    <a:pt x="62" y="1039"/>
                  </a:lnTo>
                  <a:lnTo>
                    <a:pt x="62" y="1043"/>
                  </a:lnTo>
                  <a:lnTo>
                    <a:pt x="43" y="1048"/>
                  </a:lnTo>
                  <a:lnTo>
                    <a:pt x="34" y="1052"/>
                  </a:lnTo>
                  <a:lnTo>
                    <a:pt x="49" y="1057"/>
                  </a:lnTo>
                  <a:lnTo>
                    <a:pt x="66" y="1061"/>
                  </a:lnTo>
                  <a:lnTo>
                    <a:pt x="64" y="1066"/>
                  </a:lnTo>
                  <a:lnTo>
                    <a:pt x="66" y="1070"/>
                  </a:lnTo>
                  <a:lnTo>
                    <a:pt x="77" y="1075"/>
                  </a:lnTo>
                  <a:lnTo>
                    <a:pt x="75" y="1079"/>
                  </a:lnTo>
                  <a:lnTo>
                    <a:pt x="79" y="1084"/>
                  </a:lnTo>
                  <a:lnTo>
                    <a:pt x="87" y="1088"/>
                  </a:lnTo>
                  <a:lnTo>
                    <a:pt x="96" y="1093"/>
                  </a:lnTo>
                  <a:lnTo>
                    <a:pt x="92" y="1097"/>
                  </a:lnTo>
                  <a:lnTo>
                    <a:pt x="81" y="1102"/>
                  </a:lnTo>
                  <a:lnTo>
                    <a:pt x="85" y="1106"/>
                  </a:lnTo>
                  <a:lnTo>
                    <a:pt x="96" y="1111"/>
                  </a:lnTo>
                  <a:lnTo>
                    <a:pt x="89" y="1115"/>
                  </a:lnTo>
                  <a:lnTo>
                    <a:pt x="89" y="1120"/>
                  </a:lnTo>
                  <a:lnTo>
                    <a:pt x="96" y="1124"/>
                  </a:lnTo>
                  <a:lnTo>
                    <a:pt x="100" y="1129"/>
                  </a:lnTo>
                  <a:lnTo>
                    <a:pt x="94" y="1133"/>
                  </a:lnTo>
                  <a:lnTo>
                    <a:pt x="79" y="1138"/>
                  </a:lnTo>
                  <a:lnTo>
                    <a:pt x="72" y="1142"/>
                  </a:lnTo>
                  <a:lnTo>
                    <a:pt x="70" y="1147"/>
                  </a:lnTo>
                  <a:lnTo>
                    <a:pt x="66" y="1151"/>
                  </a:lnTo>
                  <a:lnTo>
                    <a:pt x="58" y="1156"/>
                  </a:lnTo>
                  <a:lnTo>
                    <a:pt x="45" y="1160"/>
                  </a:lnTo>
                  <a:lnTo>
                    <a:pt x="36" y="1165"/>
                  </a:lnTo>
                  <a:lnTo>
                    <a:pt x="34" y="1169"/>
                  </a:lnTo>
                  <a:lnTo>
                    <a:pt x="30" y="1174"/>
                  </a:lnTo>
                  <a:lnTo>
                    <a:pt x="28" y="1178"/>
                  </a:lnTo>
                  <a:lnTo>
                    <a:pt x="47" y="1183"/>
                  </a:lnTo>
                  <a:lnTo>
                    <a:pt x="53" y="1187"/>
                  </a:lnTo>
                  <a:lnTo>
                    <a:pt x="62" y="1192"/>
                  </a:lnTo>
                  <a:lnTo>
                    <a:pt x="72" y="1196"/>
                  </a:lnTo>
                  <a:lnTo>
                    <a:pt x="62" y="1201"/>
                  </a:lnTo>
                  <a:lnTo>
                    <a:pt x="51" y="1205"/>
                  </a:lnTo>
                  <a:lnTo>
                    <a:pt x="41" y="1210"/>
                  </a:lnTo>
                  <a:lnTo>
                    <a:pt x="45" y="1214"/>
                  </a:lnTo>
                  <a:lnTo>
                    <a:pt x="49" y="1219"/>
                  </a:lnTo>
                  <a:lnTo>
                    <a:pt x="38" y="1223"/>
                  </a:lnTo>
                  <a:lnTo>
                    <a:pt x="30" y="1228"/>
                  </a:lnTo>
                  <a:lnTo>
                    <a:pt x="36" y="1232"/>
                  </a:lnTo>
                  <a:lnTo>
                    <a:pt x="38" y="1237"/>
                  </a:lnTo>
                  <a:lnTo>
                    <a:pt x="34" y="1241"/>
                  </a:lnTo>
                  <a:lnTo>
                    <a:pt x="36" y="1246"/>
                  </a:lnTo>
                  <a:lnTo>
                    <a:pt x="43" y="1250"/>
                  </a:lnTo>
                  <a:lnTo>
                    <a:pt x="43" y="1255"/>
                  </a:lnTo>
                  <a:lnTo>
                    <a:pt x="36" y="1259"/>
                  </a:lnTo>
                  <a:lnTo>
                    <a:pt x="28" y="1264"/>
                  </a:lnTo>
                  <a:lnTo>
                    <a:pt x="19" y="1268"/>
                  </a:lnTo>
                  <a:lnTo>
                    <a:pt x="21" y="1273"/>
                  </a:lnTo>
                  <a:lnTo>
                    <a:pt x="45" y="1277"/>
                  </a:lnTo>
                  <a:lnTo>
                    <a:pt x="49" y="1282"/>
                  </a:lnTo>
                  <a:lnTo>
                    <a:pt x="62" y="1286"/>
                  </a:lnTo>
                  <a:lnTo>
                    <a:pt x="75" y="1291"/>
                  </a:lnTo>
                  <a:lnTo>
                    <a:pt x="72" y="1295"/>
                  </a:lnTo>
                  <a:lnTo>
                    <a:pt x="62" y="1300"/>
                  </a:lnTo>
                  <a:lnTo>
                    <a:pt x="64" y="1304"/>
                  </a:lnTo>
                  <a:lnTo>
                    <a:pt x="77" y="1309"/>
                  </a:lnTo>
                  <a:lnTo>
                    <a:pt x="79" y="1313"/>
                  </a:lnTo>
                  <a:lnTo>
                    <a:pt x="77" y="1318"/>
                  </a:lnTo>
                  <a:lnTo>
                    <a:pt x="72" y="1322"/>
                  </a:lnTo>
                  <a:lnTo>
                    <a:pt x="68" y="1327"/>
                  </a:lnTo>
                  <a:lnTo>
                    <a:pt x="66" y="1331"/>
                  </a:lnTo>
                  <a:lnTo>
                    <a:pt x="64" y="1336"/>
                  </a:lnTo>
                  <a:lnTo>
                    <a:pt x="58" y="1340"/>
                  </a:lnTo>
                  <a:lnTo>
                    <a:pt x="58" y="1345"/>
                  </a:lnTo>
                  <a:lnTo>
                    <a:pt x="51" y="1349"/>
                  </a:lnTo>
                  <a:lnTo>
                    <a:pt x="49" y="1354"/>
                  </a:lnTo>
                  <a:lnTo>
                    <a:pt x="55" y="1358"/>
                  </a:lnTo>
                  <a:lnTo>
                    <a:pt x="68" y="1363"/>
                  </a:lnTo>
                  <a:lnTo>
                    <a:pt x="70" y="1367"/>
                  </a:lnTo>
                  <a:lnTo>
                    <a:pt x="72" y="1372"/>
                  </a:lnTo>
                  <a:lnTo>
                    <a:pt x="72" y="1376"/>
                  </a:lnTo>
                  <a:lnTo>
                    <a:pt x="66" y="1381"/>
                  </a:lnTo>
                  <a:lnTo>
                    <a:pt x="64" y="1385"/>
                  </a:lnTo>
                  <a:lnTo>
                    <a:pt x="60" y="1390"/>
                  </a:lnTo>
                  <a:lnTo>
                    <a:pt x="58" y="1394"/>
                  </a:lnTo>
                  <a:lnTo>
                    <a:pt x="60" y="1399"/>
                  </a:lnTo>
                  <a:lnTo>
                    <a:pt x="64" y="1403"/>
                  </a:lnTo>
                  <a:lnTo>
                    <a:pt x="66" y="1408"/>
                  </a:lnTo>
                  <a:lnTo>
                    <a:pt x="60" y="1412"/>
                  </a:lnTo>
                  <a:lnTo>
                    <a:pt x="58" y="1417"/>
                  </a:lnTo>
                  <a:lnTo>
                    <a:pt x="64" y="1421"/>
                  </a:lnTo>
                  <a:lnTo>
                    <a:pt x="58" y="1426"/>
                  </a:lnTo>
                  <a:lnTo>
                    <a:pt x="58" y="1430"/>
                  </a:lnTo>
                  <a:lnTo>
                    <a:pt x="64" y="1435"/>
                  </a:lnTo>
                  <a:lnTo>
                    <a:pt x="66" y="1439"/>
                  </a:lnTo>
                  <a:lnTo>
                    <a:pt x="64" y="1444"/>
                  </a:lnTo>
                  <a:lnTo>
                    <a:pt x="64" y="1448"/>
                  </a:lnTo>
                  <a:lnTo>
                    <a:pt x="68" y="1453"/>
                  </a:lnTo>
                  <a:lnTo>
                    <a:pt x="79" y="1457"/>
                  </a:lnTo>
                  <a:lnTo>
                    <a:pt x="89" y="1462"/>
                  </a:lnTo>
                  <a:lnTo>
                    <a:pt x="85" y="1466"/>
                  </a:lnTo>
                  <a:lnTo>
                    <a:pt x="81" y="1471"/>
                  </a:lnTo>
                  <a:lnTo>
                    <a:pt x="53" y="1475"/>
                  </a:lnTo>
                  <a:lnTo>
                    <a:pt x="51" y="1480"/>
                  </a:lnTo>
                  <a:lnTo>
                    <a:pt x="36" y="1484"/>
                  </a:lnTo>
                  <a:lnTo>
                    <a:pt x="34" y="1489"/>
                  </a:lnTo>
                  <a:lnTo>
                    <a:pt x="26" y="1493"/>
                  </a:lnTo>
                  <a:lnTo>
                    <a:pt x="51" y="1498"/>
                  </a:lnTo>
                  <a:lnTo>
                    <a:pt x="58" y="1502"/>
                  </a:lnTo>
                  <a:lnTo>
                    <a:pt x="60" y="1507"/>
                  </a:lnTo>
                  <a:lnTo>
                    <a:pt x="79" y="1511"/>
                  </a:lnTo>
                  <a:lnTo>
                    <a:pt x="79" y="1516"/>
                  </a:lnTo>
                  <a:lnTo>
                    <a:pt x="70" y="1520"/>
                  </a:lnTo>
                  <a:lnTo>
                    <a:pt x="66" y="1525"/>
                  </a:lnTo>
                  <a:lnTo>
                    <a:pt x="55" y="1529"/>
                  </a:lnTo>
                  <a:lnTo>
                    <a:pt x="51" y="1534"/>
                  </a:lnTo>
                  <a:lnTo>
                    <a:pt x="51" y="1538"/>
                  </a:lnTo>
                  <a:lnTo>
                    <a:pt x="45" y="1543"/>
                  </a:lnTo>
                  <a:lnTo>
                    <a:pt x="45" y="1547"/>
                  </a:lnTo>
                  <a:lnTo>
                    <a:pt x="58" y="1552"/>
                  </a:lnTo>
                  <a:lnTo>
                    <a:pt x="68" y="1556"/>
                  </a:lnTo>
                  <a:lnTo>
                    <a:pt x="55" y="1560"/>
                  </a:lnTo>
                  <a:lnTo>
                    <a:pt x="51" y="1565"/>
                  </a:lnTo>
                  <a:lnTo>
                    <a:pt x="45" y="1569"/>
                  </a:lnTo>
                  <a:lnTo>
                    <a:pt x="45" y="1574"/>
                  </a:lnTo>
                  <a:lnTo>
                    <a:pt x="45" y="1578"/>
                  </a:lnTo>
                  <a:lnTo>
                    <a:pt x="45" y="1583"/>
                  </a:lnTo>
                  <a:lnTo>
                    <a:pt x="30" y="1587"/>
                  </a:lnTo>
                  <a:lnTo>
                    <a:pt x="28" y="1592"/>
                  </a:lnTo>
                  <a:lnTo>
                    <a:pt x="36" y="1596"/>
                  </a:lnTo>
                  <a:lnTo>
                    <a:pt x="38" y="1601"/>
                  </a:lnTo>
                  <a:lnTo>
                    <a:pt x="32" y="1605"/>
                  </a:lnTo>
                  <a:lnTo>
                    <a:pt x="47" y="1610"/>
                  </a:lnTo>
                  <a:lnTo>
                    <a:pt x="47" y="1614"/>
                  </a:lnTo>
                  <a:lnTo>
                    <a:pt x="58" y="1619"/>
                  </a:lnTo>
                  <a:lnTo>
                    <a:pt x="66" y="1623"/>
                  </a:lnTo>
                  <a:lnTo>
                    <a:pt x="32" y="1628"/>
                  </a:lnTo>
                  <a:lnTo>
                    <a:pt x="30" y="1632"/>
                  </a:lnTo>
                  <a:lnTo>
                    <a:pt x="45" y="1637"/>
                  </a:lnTo>
                  <a:lnTo>
                    <a:pt x="41" y="1641"/>
                  </a:lnTo>
                  <a:lnTo>
                    <a:pt x="47" y="1646"/>
                  </a:lnTo>
                  <a:lnTo>
                    <a:pt x="55" y="1650"/>
                  </a:lnTo>
                  <a:lnTo>
                    <a:pt x="75" y="1655"/>
                  </a:lnTo>
                  <a:lnTo>
                    <a:pt x="92" y="1659"/>
                  </a:lnTo>
                  <a:lnTo>
                    <a:pt x="87" y="1664"/>
                  </a:lnTo>
                  <a:lnTo>
                    <a:pt x="83" y="1668"/>
                  </a:lnTo>
                  <a:lnTo>
                    <a:pt x="53" y="1673"/>
                  </a:lnTo>
                  <a:lnTo>
                    <a:pt x="51" y="1677"/>
                  </a:lnTo>
                  <a:lnTo>
                    <a:pt x="49" y="1682"/>
                  </a:lnTo>
                  <a:lnTo>
                    <a:pt x="38" y="1686"/>
                  </a:lnTo>
                  <a:lnTo>
                    <a:pt x="38" y="1691"/>
                  </a:lnTo>
                  <a:lnTo>
                    <a:pt x="41" y="1695"/>
                  </a:lnTo>
                  <a:lnTo>
                    <a:pt x="41" y="1700"/>
                  </a:lnTo>
                  <a:lnTo>
                    <a:pt x="55" y="1704"/>
                  </a:lnTo>
                  <a:lnTo>
                    <a:pt x="58" y="1709"/>
                  </a:lnTo>
                  <a:lnTo>
                    <a:pt x="53" y="1713"/>
                  </a:lnTo>
                  <a:lnTo>
                    <a:pt x="79" y="1718"/>
                  </a:lnTo>
                  <a:lnTo>
                    <a:pt x="96" y="1722"/>
                  </a:lnTo>
                  <a:lnTo>
                    <a:pt x="109" y="1727"/>
                  </a:lnTo>
                  <a:lnTo>
                    <a:pt x="102" y="1731"/>
                  </a:lnTo>
                  <a:lnTo>
                    <a:pt x="70" y="1736"/>
                  </a:lnTo>
                  <a:lnTo>
                    <a:pt x="64" y="1740"/>
                  </a:lnTo>
                  <a:lnTo>
                    <a:pt x="64" y="1745"/>
                  </a:lnTo>
                  <a:lnTo>
                    <a:pt x="64" y="1749"/>
                  </a:lnTo>
                  <a:lnTo>
                    <a:pt x="51" y="1754"/>
                  </a:lnTo>
                  <a:lnTo>
                    <a:pt x="51" y="1758"/>
                  </a:lnTo>
                  <a:lnTo>
                    <a:pt x="43" y="1763"/>
                  </a:lnTo>
                  <a:lnTo>
                    <a:pt x="43" y="1767"/>
                  </a:lnTo>
                  <a:lnTo>
                    <a:pt x="66" y="1772"/>
                  </a:lnTo>
                  <a:lnTo>
                    <a:pt x="72" y="1776"/>
                  </a:lnTo>
                  <a:lnTo>
                    <a:pt x="72" y="1781"/>
                  </a:lnTo>
                  <a:lnTo>
                    <a:pt x="77" y="1785"/>
                  </a:lnTo>
                  <a:lnTo>
                    <a:pt x="64" y="1790"/>
                  </a:lnTo>
                  <a:lnTo>
                    <a:pt x="53" y="1794"/>
                  </a:lnTo>
                  <a:lnTo>
                    <a:pt x="53" y="1799"/>
                  </a:lnTo>
                  <a:lnTo>
                    <a:pt x="72" y="1803"/>
                  </a:lnTo>
                  <a:lnTo>
                    <a:pt x="81" y="1808"/>
                  </a:lnTo>
                  <a:lnTo>
                    <a:pt x="83" y="1812"/>
                  </a:lnTo>
                  <a:lnTo>
                    <a:pt x="72" y="1817"/>
                  </a:lnTo>
                  <a:lnTo>
                    <a:pt x="87" y="1821"/>
                  </a:lnTo>
                  <a:lnTo>
                    <a:pt x="96" y="1826"/>
                  </a:lnTo>
                  <a:lnTo>
                    <a:pt x="96" y="1830"/>
                  </a:lnTo>
                  <a:lnTo>
                    <a:pt x="104" y="1835"/>
                  </a:lnTo>
                  <a:lnTo>
                    <a:pt x="117" y="1839"/>
                  </a:lnTo>
                  <a:lnTo>
                    <a:pt x="119" y="1844"/>
                  </a:lnTo>
                  <a:lnTo>
                    <a:pt x="119" y="1848"/>
                  </a:lnTo>
                  <a:lnTo>
                    <a:pt x="98" y="1853"/>
                  </a:lnTo>
                  <a:lnTo>
                    <a:pt x="94" y="1857"/>
                  </a:lnTo>
                  <a:lnTo>
                    <a:pt x="98" y="1862"/>
                  </a:lnTo>
                  <a:lnTo>
                    <a:pt x="98" y="1866"/>
                  </a:lnTo>
                  <a:lnTo>
                    <a:pt x="79" y="1871"/>
                  </a:lnTo>
                  <a:lnTo>
                    <a:pt x="70" y="1875"/>
                  </a:lnTo>
                  <a:lnTo>
                    <a:pt x="70" y="1880"/>
                  </a:lnTo>
                  <a:lnTo>
                    <a:pt x="66" y="1884"/>
                  </a:lnTo>
                  <a:lnTo>
                    <a:pt x="53" y="1889"/>
                  </a:lnTo>
                  <a:lnTo>
                    <a:pt x="60" y="1893"/>
                  </a:lnTo>
                  <a:lnTo>
                    <a:pt x="47" y="1898"/>
                  </a:lnTo>
                  <a:lnTo>
                    <a:pt x="45" y="1902"/>
                  </a:lnTo>
                  <a:lnTo>
                    <a:pt x="51" y="1907"/>
                  </a:lnTo>
                  <a:lnTo>
                    <a:pt x="75" y="1911"/>
                  </a:lnTo>
                  <a:lnTo>
                    <a:pt x="79" y="1916"/>
                  </a:lnTo>
                  <a:lnTo>
                    <a:pt x="66" y="1920"/>
                  </a:lnTo>
                  <a:lnTo>
                    <a:pt x="62" y="1925"/>
                  </a:lnTo>
                  <a:lnTo>
                    <a:pt x="77" y="1929"/>
                  </a:lnTo>
                  <a:lnTo>
                    <a:pt x="75" y="1934"/>
                  </a:lnTo>
                  <a:lnTo>
                    <a:pt x="72" y="1938"/>
                  </a:lnTo>
                  <a:lnTo>
                    <a:pt x="94" y="1943"/>
                  </a:lnTo>
                  <a:lnTo>
                    <a:pt x="111" y="1947"/>
                  </a:lnTo>
                  <a:lnTo>
                    <a:pt x="132" y="1952"/>
                  </a:lnTo>
                  <a:lnTo>
                    <a:pt x="126" y="1956"/>
                  </a:lnTo>
                  <a:lnTo>
                    <a:pt x="89" y="1961"/>
                  </a:lnTo>
                  <a:lnTo>
                    <a:pt x="75" y="1965"/>
                  </a:lnTo>
                  <a:lnTo>
                    <a:pt x="81" y="1970"/>
                  </a:lnTo>
                  <a:lnTo>
                    <a:pt x="85" y="1974"/>
                  </a:lnTo>
                  <a:lnTo>
                    <a:pt x="92" y="1979"/>
                  </a:lnTo>
                  <a:lnTo>
                    <a:pt x="104" y="1983"/>
                  </a:lnTo>
                  <a:lnTo>
                    <a:pt x="100" y="1988"/>
                  </a:lnTo>
                  <a:lnTo>
                    <a:pt x="94" y="1992"/>
                  </a:lnTo>
                  <a:lnTo>
                    <a:pt x="85" y="1997"/>
                  </a:lnTo>
                  <a:lnTo>
                    <a:pt x="96" y="2001"/>
                  </a:lnTo>
                  <a:lnTo>
                    <a:pt x="104" y="2006"/>
                  </a:lnTo>
                  <a:lnTo>
                    <a:pt x="104" y="2010"/>
                  </a:lnTo>
                  <a:lnTo>
                    <a:pt x="89" y="2015"/>
                  </a:lnTo>
                  <a:lnTo>
                    <a:pt x="83" y="2019"/>
                  </a:lnTo>
                  <a:lnTo>
                    <a:pt x="72" y="2024"/>
                  </a:lnTo>
                  <a:lnTo>
                    <a:pt x="70" y="2028"/>
                  </a:lnTo>
                  <a:lnTo>
                    <a:pt x="70" y="2033"/>
                  </a:lnTo>
                  <a:lnTo>
                    <a:pt x="75" y="2037"/>
                  </a:lnTo>
                  <a:lnTo>
                    <a:pt x="79" y="2042"/>
                  </a:lnTo>
                  <a:lnTo>
                    <a:pt x="79" y="2046"/>
                  </a:lnTo>
                  <a:lnTo>
                    <a:pt x="70" y="2051"/>
                  </a:lnTo>
                  <a:lnTo>
                    <a:pt x="72" y="2055"/>
                  </a:lnTo>
                  <a:lnTo>
                    <a:pt x="64" y="2060"/>
                  </a:lnTo>
                  <a:lnTo>
                    <a:pt x="64" y="2064"/>
                  </a:lnTo>
                  <a:lnTo>
                    <a:pt x="60" y="2069"/>
                  </a:lnTo>
                  <a:lnTo>
                    <a:pt x="58" y="2073"/>
                  </a:lnTo>
                  <a:lnTo>
                    <a:pt x="58" y="2078"/>
                  </a:lnTo>
                  <a:lnTo>
                    <a:pt x="60" y="2082"/>
                  </a:lnTo>
                  <a:lnTo>
                    <a:pt x="68" y="2087"/>
                  </a:lnTo>
                  <a:lnTo>
                    <a:pt x="77" y="2091"/>
                  </a:lnTo>
                  <a:lnTo>
                    <a:pt x="85" y="2096"/>
                  </a:lnTo>
                  <a:lnTo>
                    <a:pt x="85" y="2100"/>
                  </a:lnTo>
                  <a:lnTo>
                    <a:pt x="75" y="2105"/>
                  </a:lnTo>
                  <a:lnTo>
                    <a:pt x="72" y="2109"/>
                  </a:lnTo>
                  <a:lnTo>
                    <a:pt x="75" y="2114"/>
                  </a:lnTo>
                  <a:lnTo>
                    <a:pt x="75" y="2118"/>
                  </a:lnTo>
                  <a:lnTo>
                    <a:pt x="83" y="2123"/>
                  </a:lnTo>
                  <a:lnTo>
                    <a:pt x="87" y="2127"/>
                  </a:lnTo>
                  <a:lnTo>
                    <a:pt x="81" y="2132"/>
                  </a:lnTo>
                  <a:lnTo>
                    <a:pt x="83" y="2136"/>
                  </a:lnTo>
                  <a:lnTo>
                    <a:pt x="83" y="2141"/>
                  </a:lnTo>
                  <a:lnTo>
                    <a:pt x="77" y="2145"/>
                  </a:lnTo>
                  <a:lnTo>
                    <a:pt x="70" y="2150"/>
                  </a:lnTo>
                  <a:lnTo>
                    <a:pt x="70" y="2154"/>
                  </a:lnTo>
                  <a:lnTo>
                    <a:pt x="72" y="2159"/>
                  </a:lnTo>
                  <a:lnTo>
                    <a:pt x="81" y="2163"/>
                  </a:lnTo>
                  <a:lnTo>
                    <a:pt x="94" y="2168"/>
                  </a:lnTo>
                  <a:lnTo>
                    <a:pt x="94" y="2172"/>
                  </a:lnTo>
                  <a:lnTo>
                    <a:pt x="87" y="2177"/>
                  </a:lnTo>
                  <a:lnTo>
                    <a:pt x="77" y="2181"/>
                  </a:lnTo>
                  <a:lnTo>
                    <a:pt x="75" y="2186"/>
                  </a:lnTo>
                  <a:lnTo>
                    <a:pt x="77" y="2190"/>
                  </a:lnTo>
                  <a:lnTo>
                    <a:pt x="81" y="2195"/>
                  </a:lnTo>
                  <a:lnTo>
                    <a:pt x="85" y="2199"/>
                  </a:lnTo>
                  <a:lnTo>
                    <a:pt x="83" y="2204"/>
                  </a:lnTo>
                  <a:lnTo>
                    <a:pt x="79" y="2208"/>
                  </a:lnTo>
                  <a:lnTo>
                    <a:pt x="79" y="2213"/>
                  </a:lnTo>
                  <a:lnTo>
                    <a:pt x="77" y="2217"/>
                  </a:lnTo>
                  <a:lnTo>
                    <a:pt x="72" y="2222"/>
                  </a:lnTo>
                  <a:lnTo>
                    <a:pt x="72" y="2226"/>
                  </a:lnTo>
                  <a:lnTo>
                    <a:pt x="72" y="2231"/>
                  </a:lnTo>
                  <a:lnTo>
                    <a:pt x="75" y="2235"/>
                  </a:lnTo>
                  <a:lnTo>
                    <a:pt x="79" y="2240"/>
                  </a:lnTo>
                  <a:lnTo>
                    <a:pt x="94" y="2244"/>
                  </a:lnTo>
                  <a:lnTo>
                    <a:pt x="96" y="2249"/>
                  </a:lnTo>
                  <a:lnTo>
                    <a:pt x="85" y="2253"/>
                  </a:lnTo>
                  <a:lnTo>
                    <a:pt x="70" y="2258"/>
                  </a:lnTo>
                  <a:lnTo>
                    <a:pt x="68" y="2262"/>
                  </a:lnTo>
                  <a:lnTo>
                    <a:pt x="75" y="2267"/>
                  </a:lnTo>
                  <a:lnTo>
                    <a:pt x="87" y="2271"/>
                  </a:lnTo>
                  <a:lnTo>
                    <a:pt x="98" y="2276"/>
                  </a:lnTo>
                  <a:lnTo>
                    <a:pt x="98" y="2280"/>
                  </a:lnTo>
                  <a:lnTo>
                    <a:pt x="89" y="2285"/>
                  </a:lnTo>
                  <a:lnTo>
                    <a:pt x="81" y="2289"/>
                  </a:lnTo>
                  <a:lnTo>
                    <a:pt x="81" y="2294"/>
                  </a:lnTo>
                  <a:lnTo>
                    <a:pt x="85" y="2298"/>
                  </a:lnTo>
                  <a:lnTo>
                    <a:pt x="94" y="2303"/>
                  </a:lnTo>
                  <a:lnTo>
                    <a:pt x="89" y="2307"/>
                  </a:lnTo>
                  <a:lnTo>
                    <a:pt x="87" y="2312"/>
                  </a:lnTo>
                  <a:lnTo>
                    <a:pt x="87" y="2316"/>
                  </a:lnTo>
                  <a:lnTo>
                    <a:pt x="72" y="2321"/>
                  </a:lnTo>
                  <a:lnTo>
                    <a:pt x="70" y="2325"/>
                  </a:lnTo>
                  <a:lnTo>
                    <a:pt x="72" y="2330"/>
                  </a:lnTo>
                  <a:lnTo>
                    <a:pt x="75" y="2334"/>
                  </a:lnTo>
                  <a:lnTo>
                    <a:pt x="75" y="2339"/>
                  </a:lnTo>
                  <a:lnTo>
                    <a:pt x="79" y="2343"/>
                  </a:lnTo>
                  <a:lnTo>
                    <a:pt x="98" y="2348"/>
                  </a:lnTo>
                  <a:lnTo>
                    <a:pt x="104" y="2352"/>
                  </a:lnTo>
                  <a:lnTo>
                    <a:pt x="104" y="2357"/>
                  </a:lnTo>
                  <a:lnTo>
                    <a:pt x="89" y="2361"/>
                  </a:lnTo>
                  <a:lnTo>
                    <a:pt x="83" y="2366"/>
                  </a:lnTo>
                  <a:lnTo>
                    <a:pt x="72" y="2370"/>
                  </a:lnTo>
                  <a:lnTo>
                    <a:pt x="70" y="2375"/>
                  </a:lnTo>
                  <a:lnTo>
                    <a:pt x="66" y="2379"/>
                  </a:lnTo>
                  <a:lnTo>
                    <a:pt x="66" y="2384"/>
                  </a:lnTo>
                  <a:lnTo>
                    <a:pt x="66" y="2388"/>
                  </a:lnTo>
                  <a:lnTo>
                    <a:pt x="62" y="2393"/>
                  </a:lnTo>
                  <a:lnTo>
                    <a:pt x="55" y="2397"/>
                  </a:lnTo>
                  <a:lnTo>
                    <a:pt x="51" y="2402"/>
                  </a:lnTo>
                  <a:lnTo>
                    <a:pt x="49" y="2406"/>
                  </a:lnTo>
                  <a:lnTo>
                    <a:pt x="58" y="2411"/>
                  </a:lnTo>
                  <a:lnTo>
                    <a:pt x="68" y="2415"/>
                  </a:lnTo>
                  <a:lnTo>
                    <a:pt x="83" y="2420"/>
                  </a:lnTo>
                  <a:lnTo>
                    <a:pt x="94" y="2424"/>
                  </a:lnTo>
                  <a:lnTo>
                    <a:pt x="128" y="2429"/>
                  </a:lnTo>
                  <a:lnTo>
                    <a:pt x="151" y="2433"/>
                  </a:lnTo>
                  <a:lnTo>
                    <a:pt x="157" y="2438"/>
                  </a:lnTo>
                  <a:lnTo>
                    <a:pt x="157" y="2442"/>
                  </a:lnTo>
                  <a:lnTo>
                    <a:pt x="170" y="2447"/>
                  </a:lnTo>
                  <a:lnTo>
                    <a:pt x="183" y="2451"/>
                  </a:lnTo>
                  <a:lnTo>
                    <a:pt x="196" y="2456"/>
                  </a:lnTo>
                  <a:lnTo>
                    <a:pt x="206" y="2460"/>
                  </a:lnTo>
                  <a:lnTo>
                    <a:pt x="245" y="2465"/>
                  </a:lnTo>
                  <a:lnTo>
                    <a:pt x="272" y="2469"/>
                  </a:lnTo>
                  <a:lnTo>
                    <a:pt x="310" y="2474"/>
                  </a:lnTo>
                  <a:lnTo>
                    <a:pt x="389" y="2478"/>
                  </a:lnTo>
                  <a:lnTo>
                    <a:pt x="410" y="2483"/>
                  </a:lnTo>
                  <a:lnTo>
                    <a:pt x="412" y="2487"/>
                  </a:lnTo>
                  <a:lnTo>
                    <a:pt x="412" y="2492"/>
                  </a:lnTo>
                  <a:lnTo>
                    <a:pt x="408" y="2496"/>
                  </a:lnTo>
                  <a:lnTo>
                    <a:pt x="391" y="2501"/>
                  </a:lnTo>
                  <a:lnTo>
                    <a:pt x="376" y="2505"/>
                  </a:lnTo>
                  <a:lnTo>
                    <a:pt x="389" y="2510"/>
                  </a:lnTo>
                  <a:lnTo>
                    <a:pt x="389" y="2514"/>
                  </a:lnTo>
                  <a:lnTo>
                    <a:pt x="385" y="2519"/>
                  </a:lnTo>
                  <a:lnTo>
                    <a:pt x="374" y="2523"/>
                  </a:lnTo>
                  <a:lnTo>
                    <a:pt x="376" y="2528"/>
                  </a:lnTo>
                  <a:lnTo>
                    <a:pt x="361" y="2532"/>
                  </a:lnTo>
                  <a:lnTo>
                    <a:pt x="361" y="2537"/>
                  </a:lnTo>
                  <a:lnTo>
                    <a:pt x="359" y="2541"/>
                  </a:lnTo>
                  <a:lnTo>
                    <a:pt x="361" y="2546"/>
                  </a:lnTo>
                  <a:lnTo>
                    <a:pt x="366" y="2550"/>
                  </a:lnTo>
                  <a:lnTo>
                    <a:pt x="380" y="2555"/>
                  </a:lnTo>
                  <a:lnTo>
                    <a:pt x="400" y="2559"/>
                  </a:lnTo>
                  <a:lnTo>
                    <a:pt x="410" y="2564"/>
                  </a:lnTo>
                  <a:lnTo>
                    <a:pt x="427" y="2568"/>
                  </a:lnTo>
                  <a:lnTo>
                    <a:pt x="417" y="2573"/>
                  </a:lnTo>
                  <a:lnTo>
                    <a:pt x="402" y="2577"/>
                  </a:lnTo>
                  <a:lnTo>
                    <a:pt x="402" y="2582"/>
                  </a:lnTo>
                </a:path>
              </a:pathLst>
            </a:custGeom>
            <a:noFill/>
            <a:ln w="28440">
              <a:solidFill>
                <a:srgbClr val="0000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Freeform 293"/>
            <p:cNvSpPr/>
            <p:nvPr/>
          </p:nvSpPr>
          <p:spPr>
            <a:xfrm>
              <a:off x="1501920" y="2127240"/>
              <a:ext cx="271440" cy="4425840"/>
            </a:xfrm>
            <a:custGeom>
              <a:avLst/>
              <a:gdLst>
                <a:gd name="textAreaLeft" fmla="*/ 0 w 271440"/>
                <a:gd name="textAreaRight" fmla="*/ 271440 w 271440"/>
                <a:gd name="textAreaTop" fmla="*/ 0 h 4425840"/>
                <a:gd name="textAreaBottom" fmla="*/ 4426200 h 4425840"/>
              </a:gdLst>
              <a:ahLst/>
              <a:rect l="textAreaLeft" t="textAreaTop" r="textAreaRight" b="textAreaBottom"/>
              <a:pathLst>
                <a:path w="161" h="2609">
                  <a:moveTo>
                    <a:pt x="148" y="0"/>
                  </a:moveTo>
                  <a:lnTo>
                    <a:pt x="146" y="4"/>
                  </a:lnTo>
                  <a:lnTo>
                    <a:pt x="146" y="9"/>
                  </a:lnTo>
                  <a:lnTo>
                    <a:pt x="146" y="13"/>
                  </a:lnTo>
                  <a:lnTo>
                    <a:pt x="146" y="18"/>
                  </a:lnTo>
                  <a:lnTo>
                    <a:pt x="148" y="22"/>
                  </a:lnTo>
                  <a:lnTo>
                    <a:pt x="148" y="27"/>
                  </a:lnTo>
                  <a:lnTo>
                    <a:pt x="151" y="31"/>
                  </a:lnTo>
                  <a:lnTo>
                    <a:pt x="153" y="36"/>
                  </a:lnTo>
                  <a:lnTo>
                    <a:pt x="155" y="40"/>
                  </a:lnTo>
                  <a:lnTo>
                    <a:pt x="155" y="45"/>
                  </a:lnTo>
                  <a:lnTo>
                    <a:pt x="157" y="49"/>
                  </a:lnTo>
                  <a:lnTo>
                    <a:pt x="157" y="54"/>
                  </a:lnTo>
                  <a:lnTo>
                    <a:pt x="157" y="58"/>
                  </a:lnTo>
                  <a:lnTo>
                    <a:pt x="157" y="63"/>
                  </a:lnTo>
                  <a:lnTo>
                    <a:pt x="159" y="67"/>
                  </a:lnTo>
                  <a:lnTo>
                    <a:pt x="159" y="72"/>
                  </a:lnTo>
                  <a:lnTo>
                    <a:pt x="159" y="76"/>
                  </a:lnTo>
                  <a:lnTo>
                    <a:pt x="159" y="81"/>
                  </a:lnTo>
                  <a:lnTo>
                    <a:pt x="159" y="85"/>
                  </a:lnTo>
                  <a:lnTo>
                    <a:pt x="159" y="90"/>
                  </a:lnTo>
                  <a:lnTo>
                    <a:pt x="157" y="94"/>
                  </a:lnTo>
                  <a:lnTo>
                    <a:pt x="157" y="99"/>
                  </a:lnTo>
                  <a:lnTo>
                    <a:pt x="157" y="103"/>
                  </a:lnTo>
                  <a:lnTo>
                    <a:pt x="157" y="108"/>
                  </a:lnTo>
                  <a:lnTo>
                    <a:pt x="157" y="112"/>
                  </a:lnTo>
                  <a:lnTo>
                    <a:pt x="157" y="117"/>
                  </a:lnTo>
                  <a:lnTo>
                    <a:pt x="157" y="121"/>
                  </a:lnTo>
                  <a:lnTo>
                    <a:pt x="159" y="126"/>
                  </a:lnTo>
                  <a:lnTo>
                    <a:pt x="159" y="130"/>
                  </a:lnTo>
                  <a:lnTo>
                    <a:pt x="159" y="135"/>
                  </a:lnTo>
                  <a:lnTo>
                    <a:pt x="159" y="139"/>
                  </a:lnTo>
                  <a:lnTo>
                    <a:pt x="159" y="144"/>
                  </a:lnTo>
                  <a:lnTo>
                    <a:pt x="159" y="148"/>
                  </a:lnTo>
                  <a:lnTo>
                    <a:pt x="159" y="153"/>
                  </a:lnTo>
                  <a:lnTo>
                    <a:pt x="157" y="157"/>
                  </a:lnTo>
                  <a:lnTo>
                    <a:pt x="157" y="162"/>
                  </a:lnTo>
                  <a:lnTo>
                    <a:pt x="155" y="166"/>
                  </a:lnTo>
                  <a:lnTo>
                    <a:pt x="153" y="171"/>
                  </a:lnTo>
                  <a:lnTo>
                    <a:pt x="151" y="175"/>
                  </a:lnTo>
                  <a:lnTo>
                    <a:pt x="146" y="180"/>
                  </a:lnTo>
                  <a:lnTo>
                    <a:pt x="142" y="184"/>
                  </a:lnTo>
                  <a:lnTo>
                    <a:pt x="138" y="189"/>
                  </a:lnTo>
                  <a:lnTo>
                    <a:pt x="131" y="193"/>
                  </a:lnTo>
                  <a:lnTo>
                    <a:pt x="121" y="198"/>
                  </a:lnTo>
                  <a:lnTo>
                    <a:pt x="114" y="202"/>
                  </a:lnTo>
                  <a:lnTo>
                    <a:pt x="106" y="207"/>
                  </a:lnTo>
                  <a:lnTo>
                    <a:pt x="87" y="211"/>
                  </a:lnTo>
                  <a:lnTo>
                    <a:pt x="76" y="216"/>
                  </a:lnTo>
                  <a:lnTo>
                    <a:pt x="64" y="220"/>
                  </a:lnTo>
                  <a:lnTo>
                    <a:pt x="59" y="225"/>
                  </a:lnTo>
                  <a:lnTo>
                    <a:pt x="47" y="229"/>
                  </a:lnTo>
                  <a:lnTo>
                    <a:pt x="38" y="234"/>
                  </a:lnTo>
                  <a:lnTo>
                    <a:pt x="36" y="238"/>
                  </a:lnTo>
                  <a:lnTo>
                    <a:pt x="30" y="243"/>
                  </a:lnTo>
                  <a:lnTo>
                    <a:pt x="23" y="247"/>
                  </a:lnTo>
                  <a:lnTo>
                    <a:pt x="17" y="252"/>
                  </a:lnTo>
                  <a:lnTo>
                    <a:pt x="13" y="256"/>
                  </a:lnTo>
                  <a:lnTo>
                    <a:pt x="13" y="261"/>
                  </a:lnTo>
                  <a:lnTo>
                    <a:pt x="8" y="265"/>
                  </a:lnTo>
                  <a:lnTo>
                    <a:pt x="6" y="270"/>
                  </a:lnTo>
                  <a:lnTo>
                    <a:pt x="6" y="274"/>
                  </a:lnTo>
                  <a:lnTo>
                    <a:pt x="6" y="279"/>
                  </a:lnTo>
                  <a:lnTo>
                    <a:pt x="6" y="283"/>
                  </a:lnTo>
                  <a:lnTo>
                    <a:pt x="4" y="288"/>
                  </a:lnTo>
                  <a:lnTo>
                    <a:pt x="4" y="292"/>
                  </a:lnTo>
                  <a:lnTo>
                    <a:pt x="4" y="297"/>
                  </a:lnTo>
                  <a:lnTo>
                    <a:pt x="4" y="301"/>
                  </a:lnTo>
                  <a:lnTo>
                    <a:pt x="4" y="306"/>
                  </a:lnTo>
                  <a:lnTo>
                    <a:pt x="4" y="310"/>
                  </a:lnTo>
                  <a:lnTo>
                    <a:pt x="4" y="315"/>
                  </a:lnTo>
                  <a:lnTo>
                    <a:pt x="6" y="319"/>
                  </a:lnTo>
                  <a:lnTo>
                    <a:pt x="6" y="324"/>
                  </a:lnTo>
                  <a:lnTo>
                    <a:pt x="6" y="328"/>
                  </a:lnTo>
                  <a:lnTo>
                    <a:pt x="6" y="333"/>
                  </a:lnTo>
                  <a:lnTo>
                    <a:pt x="6" y="337"/>
                  </a:lnTo>
                  <a:lnTo>
                    <a:pt x="6" y="342"/>
                  </a:lnTo>
                  <a:lnTo>
                    <a:pt x="4" y="346"/>
                  </a:lnTo>
                  <a:lnTo>
                    <a:pt x="4" y="351"/>
                  </a:lnTo>
                  <a:lnTo>
                    <a:pt x="6" y="355"/>
                  </a:lnTo>
                  <a:lnTo>
                    <a:pt x="6" y="360"/>
                  </a:lnTo>
                  <a:lnTo>
                    <a:pt x="8" y="364"/>
                  </a:lnTo>
                  <a:lnTo>
                    <a:pt x="8" y="369"/>
                  </a:lnTo>
                  <a:lnTo>
                    <a:pt x="10" y="373"/>
                  </a:lnTo>
                  <a:lnTo>
                    <a:pt x="13" y="378"/>
                  </a:lnTo>
                  <a:lnTo>
                    <a:pt x="13" y="382"/>
                  </a:lnTo>
                  <a:lnTo>
                    <a:pt x="13" y="387"/>
                  </a:lnTo>
                  <a:lnTo>
                    <a:pt x="13" y="391"/>
                  </a:lnTo>
                  <a:lnTo>
                    <a:pt x="13" y="396"/>
                  </a:lnTo>
                  <a:lnTo>
                    <a:pt x="13" y="400"/>
                  </a:lnTo>
                  <a:lnTo>
                    <a:pt x="10" y="405"/>
                  </a:lnTo>
                  <a:lnTo>
                    <a:pt x="10" y="409"/>
                  </a:lnTo>
                  <a:lnTo>
                    <a:pt x="8" y="414"/>
                  </a:lnTo>
                  <a:lnTo>
                    <a:pt x="8" y="418"/>
                  </a:lnTo>
                  <a:lnTo>
                    <a:pt x="8" y="423"/>
                  </a:lnTo>
                  <a:lnTo>
                    <a:pt x="10" y="427"/>
                  </a:lnTo>
                  <a:lnTo>
                    <a:pt x="10" y="432"/>
                  </a:lnTo>
                  <a:lnTo>
                    <a:pt x="13" y="436"/>
                  </a:lnTo>
                  <a:lnTo>
                    <a:pt x="13" y="441"/>
                  </a:lnTo>
                  <a:lnTo>
                    <a:pt x="13" y="445"/>
                  </a:lnTo>
                  <a:lnTo>
                    <a:pt x="13" y="450"/>
                  </a:lnTo>
                  <a:lnTo>
                    <a:pt x="15" y="454"/>
                  </a:lnTo>
                  <a:lnTo>
                    <a:pt x="15" y="459"/>
                  </a:lnTo>
                  <a:lnTo>
                    <a:pt x="15" y="463"/>
                  </a:lnTo>
                  <a:lnTo>
                    <a:pt x="17" y="468"/>
                  </a:lnTo>
                  <a:lnTo>
                    <a:pt x="17" y="472"/>
                  </a:lnTo>
                  <a:lnTo>
                    <a:pt x="17" y="477"/>
                  </a:lnTo>
                  <a:lnTo>
                    <a:pt x="17" y="481"/>
                  </a:lnTo>
                  <a:lnTo>
                    <a:pt x="19" y="486"/>
                  </a:lnTo>
                  <a:lnTo>
                    <a:pt x="19" y="490"/>
                  </a:lnTo>
                  <a:lnTo>
                    <a:pt x="19" y="495"/>
                  </a:lnTo>
                  <a:lnTo>
                    <a:pt x="19" y="499"/>
                  </a:lnTo>
                  <a:lnTo>
                    <a:pt x="19" y="504"/>
                  </a:lnTo>
                  <a:lnTo>
                    <a:pt x="19" y="508"/>
                  </a:lnTo>
                  <a:lnTo>
                    <a:pt x="19" y="513"/>
                  </a:lnTo>
                  <a:lnTo>
                    <a:pt x="19" y="517"/>
                  </a:lnTo>
                  <a:lnTo>
                    <a:pt x="19" y="522"/>
                  </a:lnTo>
                  <a:lnTo>
                    <a:pt x="19" y="526"/>
                  </a:lnTo>
                  <a:lnTo>
                    <a:pt x="21" y="530"/>
                  </a:lnTo>
                  <a:lnTo>
                    <a:pt x="19" y="535"/>
                  </a:lnTo>
                  <a:lnTo>
                    <a:pt x="17" y="539"/>
                  </a:lnTo>
                  <a:lnTo>
                    <a:pt x="19" y="544"/>
                  </a:lnTo>
                  <a:lnTo>
                    <a:pt x="19" y="548"/>
                  </a:lnTo>
                  <a:lnTo>
                    <a:pt x="19" y="553"/>
                  </a:lnTo>
                  <a:lnTo>
                    <a:pt x="19" y="557"/>
                  </a:lnTo>
                  <a:lnTo>
                    <a:pt x="17" y="562"/>
                  </a:lnTo>
                  <a:lnTo>
                    <a:pt x="17" y="566"/>
                  </a:lnTo>
                  <a:lnTo>
                    <a:pt x="17" y="571"/>
                  </a:lnTo>
                  <a:lnTo>
                    <a:pt x="17" y="575"/>
                  </a:lnTo>
                  <a:lnTo>
                    <a:pt x="17" y="580"/>
                  </a:lnTo>
                  <a:lnTo>
                    <a:pt x="21" y="584"/>
                  </a:lnTo>
                  <a:lnTo>
                    <a:pt x="21" y="589"/>
                  </a:lnTo>
                  <a:lnTo>
                    <a:pt x="21" y="593"/>
                  </a:lnTo>
                  <a:lnTo>
                    <a:pt x="21" y="598"/>
                  </a:lnTo>
                  <a:lnTo>
                    <a:pt x="21" y="602"/>
                  </a:lnTo>
                  <a:lnTo>
                    <a:pt x="19" y="607"/>
                  </a:lnTo>
                  <a:lnTo>
                    <a:pt x="19" y="611"/>
                  </a:lnTo>
                  <a:lnTo>
                    <a:pt x="21" y="616"/>
                  </a:lnTo>
                  <a:lnTo>
                    <a:pt x="21" y="620"/>
                  </a:lnTo>
                  <a:lnTo>
                    <a:pt x="21" y="625"/>
                  </a:lnTo>
                  <a:lnTo>
                    <a:pt x="23" y="629"/>
                  </a:lnTo>
                  <a:lnTo>
                    <a:pt x="23" y="634"/>
                  </a:lnTo>
                  <a:lnTo>
                    <a:pt x="23" y="638"/>
                  </a:lnTo>
                  <a:lnTo>
                    <a:pt x="23" y="643"/>
                  </a:lnTo>
                  <a:lnTo>
                    <a:pt x="25" y="647"/>
                  </a:lnTo>
                  <a:lnTo>
                    <a:pt x="25" y="652"/>
                  </a:lnTo>
                  <a:lnTo>
                    <a:pt x="25" y="656"/>
                  </a:lnTo>
                  <a:lnTo>
                    <a:pt x="27" y="661"/>
                  </a:lnTo>
                  <a:lnTo>
                    <a:pt x="27" y="665"/>
                  </a:lnTo>
                  <a:lnTo>
                    <a:pt x="30" y="670"/>
                  </a:lnTo>
                  <a:lnTo>
                    <a:pt x="30" y="674"/>
                  </a:lnTo>
                  <a:lnTo>
                    <a:pt x="30" y="679"/>
                  </a:lnTo>
                  <a:lnTo>
                    <a:pt x="30" y="683"/>
                  </a:lnTo>
                  <a:lnTo>
                    <a:pt x="30" y="688"/>
                  </a:lnTo>
                  <a:lnTo>
                    <a:pt x="30" y="692"/>
                  </a:lnTo>
                  <a:lnTo>
                    <a:pt x="30" y="697"/>
                  </a:lnTo>
                  <a:lnTo>
                    <a:pt x="30" y="701"/>
                  </a:lnTo>
                  <a:lnTo>
                    <a:pt x="30" y="706"/>
                  </a:lnTo>
                  <a:lnTo>
                    <a:pt x="30" y="710"/>
                  </a:lnTo>
                  <a:lnTo>
                    <a:pt x="30" y="715"/>
                  </a:lnTo>
                  <a:lnTo>
                    <a:pt x="32" y="719"/>
                  </a:lnTo>
                  <a:lnTo>
                    <a:pt x="32" y="724"/>
                  </a:lnTo>
                  <a:lnTo>
                    <a:pt x="32" y="728"/>
                  </a:lnTo>
                  <a:lnTo>
                    <a:pt x="32" y="733"/>
                  </a:lnTo>
                  <a:lnTo>
                    <a:pt x="30" y="737"/>
                  </a:lnTo>
                  <a:lnTo>
                    <a:pt x="30" y="742"/>
                  </a:lnTo>
                  <a:lnTo>
                    <a:pt x="30" y="746"/>
                  </a:lnTo>
                  <a:lnTo>
                    <a:pt x="32" y="751"/>
                  </a:lnTo>
                  <a:lnTo>
                    <a:pt x="32" y="755"/>
                  </a:lnTo>
                  <a:lnTo>
                    <a:pt x="32" y="760"/>
                  </a:lnTo>
                  <a:lnTo>
                    <a:pt x="32" y="764"/>
                  </a:lnTo>
                  <a:lnTo>
                    <a:pt x="32" y="769"/>
                  </a:lnTo>
                  <a:lnTo>
                    <a:pt x="32" y="773"/>
                  </a:lnTo>
                  <a:lnTo>
                    <a:pt x="34" y="778"/>
                  </a:lnTo>
                  <a:lnTo>
                    <a:pt x="34" y="782"/>
                  </a:lnTo>
                  <a:lnTo>
                    <a:pt x="36" y="787"/>
                  </a:lnTo>
                  <a:lnTo>
                    <a:pt x="38" y="791"/>
                  </a:lnTo>
                  <a:lnTo>
                    <a:pt x="40" y="796"/>
                  </a:lnTo>
                  <a:lnTo>
                    <a:pt x="42" y="800"/>
                  </a:lnTo>
                  <a:lnTo>
                    <a:pt x="44" y="805"/>
                  </a:lnTo>
                  <a:lnTo>
                    <a:pt x="44" y="809"/>
                  </a:lnTo>
                  <a:lnTo>
                    <a:pt x="47" y="814"/>
                  </a:lnTo>
                  <a:lnTo>
                    <a:pt x="49" y="818"/>
                  </a:lnTo>
                  <a:lnTo>
                    <a:pt x="51" y="823"/>
                  </a:lnTo>
                  <a:lnTo>
                    <a:pt x="57" y="827"/>
                  </a:lnTo>
                  <a:lnTo>
                    <a:pt x="61" y="832"/>
                  </a:lnTo>
                  <a:lnTo>
                    <a:pt x="68" y="836"/>
                  </a:lnTo>
                  <a:lnTo>
                    <a:pt x="74" y="841"/>
                  </a:lnTo>
                  <a:lnTo>
                    <a:pt x="83" y="845"/>
                  </a:lnTo>
                  <a:lnTo>
                    <a:pt x="93" y="850"/>
                  </a:lnTo>
                  <a:lnTo>
                    <a:pt x="102" y="854"/>
                  </a:lnTo>
                  <a:lnTo>
                    <a:pt x="114" y="859"/>
                  </a:lnTo>
                  <a:lnTo>
                    <a:pt x="127" y="863"/>
                  </a:lnTo>
                  <a:lnTo>
                    <a:pt x="142" y="868"/>
                  </a:lnTo>
                  <a:lnTo>
                    <a:pt x="153" y="872"/>
                  </a:lnTo>
                  <a:lnTo>
                    <a:pt x="159" y="877"/>
                  </a:lnTo>
                  <a:lnTo>
                    <a:pt x="161" y="881"/>
                  </a:lnTo>
                  <a:lnTo>
                    <a:pt x="161" y="886"/>
                  </a:lnTo>
                  <a:lnTo>
                    <a:pt x="159" y="890"/>
                  </a:lnTo>
                  <a:lnTo>
                    <a:pt x="157" y="895"/>
                  </a:lnTo>
                  <a:lnTo>
                    <a:pt x="151" y="899"/>
                  </a:lnTo>
                  <a:lnTo>
                    <a:pt x="151" y="904"/>
                  </a:lnTo>
                  <a:lnTo>
                    <a:pt x="144" y="908"/>
                  </a:lnTo>
                  <a:lnTo>
                    <a:pt x="144" y="913"/>
                  </a:lnTo>
                  <a:lnTo>
                    <a:pt x="142" y="917"/>
                  </a:lnTo>
                  <a:lnTo>
                    <a:pt x="140" y="922"/>
                  </a:lnTo>
                  <a:lnTo>
                    <a:pt x="136" y="926"/>
                  </a:lnTo>
                  <a:lnTo>
                    <a:pt x="134" y="931"/>
                  </a:lnTo>
                  <a:lnTo>
                    <a:pt x="131" y="935"/>
                  </a:lnTo>
                  <a:lnTo>
                    <a:pt x="127" y="940"/>
                  </a:lnTo>
                  <a:lnTo>
                    <a:pt x="127" y="944"/>
                  </a:lnTo>
                  <a:lnTo>
                    <a:pt x="125" y="949"/>
                  </a:lnTo>
                  <a:lnTo>
                    <a:pt x="123" y="953"/>
                  </a:lnTo>
                  <a:lnTo>
                    <a:pt x="121" y="958"/>
                  </a:lnTo>
                  <a:lnTo>
                    <a:pt x="117" y="962"/>
                  </a:lnTo>
                  <a:lnTo>
                    <a:pt x="112" y="967"/>
                  </a:lnTo>
                  <a:lnTo>
                    <a:pt x="110" y="971"/>
                  </a:lnTo>
                  <a:lnTo>
                    <a:pt x="108" y="976"/>
                  </a:lnTo>
                  <a:lnTo>
                    <a:pt x="106" y="980"/>
                  </a:lnTo>
                  <a:lnTo>
                    <a:pt x="104" y="985"/>
                  </a:lnTo>
                  <a:lnTo>
                    <a:pt x="102" y="989"/>
                  </a:lnTo>
                  <a:lnTo>
                    <a:pt x="100" y="994"/>
                  </a:lnTo>
                  <a:lnTo>
                    <a:pt x="98" y="998"/>
                  </a:lnTo>
                  <a:lnTo>
                    <a:pt x="98" y="1003"/>
                  </a:lnTo>
                  <a:lnTo>
                    <a:pt x="98" y="1007"/>
                  </a:lnTo>
                  <a:lnTo>
                    <a:pt x="95" y="1012"/>
                  </a:lnTo>
                  <a:lnTo>
                    <a:pt x="95" y="1016"/>
                  </a:lnTo>
                  <a:lnTo>
                    <a:pt x="95" y="1021"/>
                  </a:lnTo>
                  <a:lnTo>
                    <a:pt x="93" y="1025"/>
                  </a:lnTo>
                  <a:lnTo>
                    <a:pt x="93" y="1030"/>
                  </a:lnTo>
                  <a:lnTo>
                    <a:pt x="93" y="1034"/>
                  </a:lnTo>
                  <a:lnTo>
                    <a:pt x="87" y="1039"/>
                  </a:lnTo>
                  <a:lnTo>
                    <a:pt x="85" y="1043"/>
                  </a:lnTo>
                  <a:lnTo>
                    <a:pt x="83" y="1048"/>
                  </a:lnTo>
                  <a:lnTo>
                    <a:pt x="78" y="1052"/>
                  </a:lnTo>
                  <a:lnTo>
                    <a:pt x="76" y="1057"/>
                  </a:lnTo>
                  <a:lnTo>
                    <a:pt x="72" y="1061"/>
                  </a:lnTo>
                  <a:lnTo>
                    <a:pt x="68" y="1066"/>
                  </a:lnTo>
                  <a:lnTo>
                    <a:pt x="66" y="1070"/>
                  </a:lnTo>
                  <a:lnTo>
                    <a:pt x="64" y="1075"/>
                  </a:lnTo>
                  <a:lnTo>
                    <a:pt x="59" y="1079"/>
                  </a:lnTo>
                  <a:lnTo>
                    <a:pt x="57" y="1084"/>
                  </a:lnTo>
                  <a:lnTo>
                    <a:pt x="55" y="1088"/>
                  </a:lnTo>
                  <a:lnTo>
                    <a:pt x="53" y="1093"/>
                  </a:lnTo>
                  <a:lnTo>
                    <a:pt x="51" y="1097"/>
                  </a:lnTo>
                  <a:lnTo>
                    <a:pt x="51" y="1102"/>
                  </a:lnTo>
                  <a:lnTo>
                    <a:pt x="49" y="1106"/>
                  </a:lnTo>
                  <a:lnTo>
                    <a:pt x="47" y="1111"/>
                  </a:lnTo>
                  <a:lnTo>
                    <a:pt x="47" y="1115"/>
                  </a:lnTo>
                  <a:lnTo>
                    <a:pt x="47" y="1120"/>
                  </a:lnTo>
                  <a:lnTo>
                    <a:pt x="44" y="1124"/>
                  </a:lnTo>
                  <a:lnTo>
                    <a:pt x="44" y="1129"/>
                  </a:lnTo>
                  <a:lnTo>
                    <a:pt x="42" y="1133"/>
                  </a:lnTo>
                  <a:lnTo>
                    <a:pt x="42" y="1138"/>
                  </a:lnTo>
                  <a:lnTo>
                    <a:pt x="40" y="1142"/>
                  </a:lnTo>
                  <a:lnTo>
                    <a:pt x="40" y="1147"/>
                  </a:lnTo>
                  <a:lnTo>
                    <a:pt x="38" y="1151"/>
                  </a:lnTo>
                  <a:lnTo>
                    <a:pt x="38" y="1156"/>
                  </a:lnTo>
                  <a:lnTo>
                    <a:pt x="38" y="1160"/>
                  </a:lnTo>
                  <a:lnTo>
                    <a:pt x="38" y="1165"/>
                  </a:lnTo>
                  <a:lnTo>
                    <a:pt x="38" y="1169"/>
                  </a:lnTo>
                  <a:lnTo>
                    <a:pt x="36" y="1174"/>
                  </a:lnTo>
                  <a:lnTo>
                    <a:pt x="36" y="1178"/>
                  </a:lnTo>
                  <a:lnTo>
                    <a:pt x="34" y="1183"/>
                  </a:lnTo>
                  <a:lnTo>
                    <a:pt x="32" y="1187"/>
                  </a:lnTo>
                  <a:lnTo>
                    <a:pt x="32" y="1192"/>
                  </a:lnTo>
                  <a:lnTo>
                    <a:pt x="30" y="1196"/>
                  </a:lnTo>
                  <a:lnTo>
                    <a:pt x="30" y="1201"/>
                  </a:lnTo>
                  <a:lnTo>
                    <a:pt x="30" y="1205"/>
                  </a:lnTo>
                  <a:lnTo>
                    <a:pt x="30" y="1210"/>
                  </a:lnTo>
                  <a:lnTo>
                    <a:pt x="30" y="1214"/>
                  </a:lnTo>
                  <a:lnTo>
                    <a:pt x="27" y="1219"/>
                  </a:lnTo>
                  <a:lnTo>
                    <a:pt x="27" y="1223"/>
                  </a:lnTo>
                  <a:lnTo>
                    <a:pt x="27" y="1228"/>
                  </a:lnTo>
                  <a:lnTo>
                    <a:pt x="25" y="1232"/>
                  </a:lnTo>
                  <a:lnTo>
                    <a:pt x="25" y="1237"/>
                  </a:lnTo>
                  <a:lnTo>
                    <a:pt x="25" y="1241"/>
                  </a:lnTo>
                  <a:lnTo>
                    <a:pt x="25" y="1246"/>
                  </a:lnTo>
                  <a:lnTo>
                    <a:pt x="23" y="1250"/>
                  </a:lnTo>
                  <a:lnTo>
                    <a:pt x="23" y="1255"/>
                  </a:lnTo>
                  <a:lnTo>
                    <a:pt x="23" y="1259"/>
                  </a:lnTo>
                  <a:lnTo>
                    <a:pt x="23" y="1264"/>
                  </a:lnTo>
                  <a:lnTo>
                    <a:pt x="23" y="1268"/>
                  </a:lnTo>
                  <a:lnTo>
                    <a:pt x="25" y="1273"/>
                  </a:lnTo>
                  <a:lnTo>
                    <a:pt x="25" y="1277"/>
                  </a:lnTo>
                  <a:lnTo>
                    <a:pt x="25" y="1282"/>
                  </a:lnTo>
                  <a:lnTo>
                    <a:pt x="25" y="1286"/>
                  </a:lnTo>
                  <a:lnTo>
                    <a:pt x="27" y="1291"/>
                  </a:lnTo>
                  <a:lnTo>
                    <a:pt x="27" y="1295"/>
                  </a:lnTo>
                  <a:lnTo>
                    <a:pt x="30" y="1300"/>
                  </a:lnTo>
                  <a:lnTo>
                    <a:pt x="30" y="1304"/>
                  </a:lnTo>
                  <a:lnTo>
                    <a:pt x="30" y="1309"/>
                  </a:lnTo>
                  <a:lnTo>
                    <a:pt x="32" y="1313"/>
                  </a:lnTo>
                  <a:lnTo>
                    <a:pt x="34" y="1318"/>
                  </a:lnTo>
                  <a:lnTo>
                    <a:pt x="32" y="1322"/>
                  </a:lnTo>
                  <a:lnTo>
                    <a:pt x="32" y="1327"/>
                  </a:lnTo>
                  <a:lnTo>
                    <a:pt x="32" y="1331"/>
                  </a:lnTo>
                  <a:lnTo>
                    <a:pt x="30" y="1336"/>
                  </a:lnTo>
                  <a:lnTo>
                    <a:pt x="27" y="1340"/>
                  </a:lnTo>
                  <a:lnTo>
                    <a:pt x="27" y="1345"/>
                  </a:lnTo>
                  <a:lnTo>
                    <a:pt x="27" y="1349"/>
                  </a:lnTo>
                  <a:lnTo>
                    <a:pt x="27" y="1354"/>
                  </a:lnTo>
                  <a:lnTo>
                    <a:pt x="25" y="1358"/>
                  </a:lnTo>
                  <a:lnTo>
                    <a:pt x="25" y="1363"/>
                  </a:lnTo>
                  <a:lnTo>
                    <a:pt x="25" y="1367"/>
                  </a:lnTo>
                  <a:lnTo>
                    <a:pt x="25" y="1372"/>
                  </a:lnTo>
                  <a:lnTo>
                    <a:pt x="25" y="1376"/>
                  </a:lnTo>
                  <a:lnTo>
                    <a:pt x="25" y="1381"/>
                  </a:lnTo>
                  <a:lnTo>
                    <a:pt x="25" y="1385"/>
                  </a:lnTo>
                  <a:lnTo>
                    <a:pt x="25" y="1390"/>
                  </a:lnTo>
                  <a:lnTo>
                    <a:pt x="25" y="1394"/>
                  </a:lnTo>
                  <a:lnTo>
                    <a:pt x="25" y="1399"/>
                  </a:lnTo>
                  <a:lnTo>
                    <a:pt x="23" y="1403"/>
                  </a:lnTo>
                  <a:lnTo>
                    <a:pt x="23" y="1408"/>
                  </a:lnTo>
                  <a:lnTo>
                    <a:pt x="23" y="1412"/>
                  </a:lnTo>
                  <a:lnTo>
                    <a:pt x="23" y="1417"/>
                  </a:lnTo>
                  <a:lnTo>
                    <a:pt x="23" y="1421"/>
                  </a:lnTo>
                  <a:lnTo>
                    <a:pt x="23" y="1426"/>
                  </a:lnTo>
                  <a:lnTo>
                    <a:pt x="23" y="1430"/>
                  </a:lnTo>
                  <a:lnTo>
                    <a:pt x="23" y="1435"/>
                  </a:lnTo>
                  <a:lnTo>
                    <a:pt x="23" y="1439"/>
                  </a:lnTo>
                  <a:lnTo>
                    <a:pt x="23" y="1444"/>
                  </a:lnTo>
                  <a:lnTo>
                    <a:pt x="23" y="1448"/>
                  </a:lnTo>
                  <a:lnTo>
                    <a:pt x="23" y="1453"/>
                  </a:lnTo>
                  <a:lnTo>
                    <a:pt x="23" y="1457"/>
                  </a:lnTo>
                  <a:lnTo>
                    <a:pt x="23" y="1462"/>
                  </a:lnTo>
                  <a:lnTo>
                    <a:pt x="21" y="1466"/>
                  </a:lnTo>
                  <a:lnTo>
                    <a:pt x="23" y="1471"/>
                  </a:lnTo>
                  <a:lnTo>
                    <a:pt x="23" y="1475"/>
                  </a:lnTo>
                  <a:lnTo>
                    <a:pt x="23" y="1480"/>
                  </a:lnTo>
                  <a:lnTo>
                    <a:pt x="23" y="1484"/>
                  </a:lnTo>
                  <a:lnTo>
                    <a:pt x="23" y="1489"/>
                  </a:lnTo>
                  <a:lnTo>
                    <a:pt x="23" y="1493"/>
                  </a:lnTo>
                  <a:lnTo>
                    <a:pt x="23" y="1498"/>
                  </a:lnTo>
                  <a:lnTo>
                    <a:pt x="23" y="1502"/>
                  </a:lnTo>
                  <a:lnTo>
                    <a:pt x="23" y="1507"/>
                  </a:lnTo>
                  <a:lnTo>
                    <a:pt x="23" y="1511"/>
                  </a:lnTo>
                  <a:lnTo>
                    <a:pt x="23" y="1516"/>
                  </a:lnTo>
                  <a:lnTo>
                    <a:pt x="21" y="1520"/>
                  </a:lnTo>
                  <a:lnTo>
                    <a:pt x="23" y="1525"/>
                  </a:lnTo>
                  <a:lnTo>
                    <a:pt x="21" y="1529"/>
                  </a:lnTo>
                  <a:lnTo>
                    <a:pt x="21" y="1534"/>
                  </a:lnTo>
                  <a:lnTo>
                    <a:pt x="21" y="1538"/>
                  </a:lnTo>
                  <a:lnTo>
                    <a:pt x="21" y="1543"/>
                  </a:lnTo>
                  <a:lnTo>
                    <a:pt x="19" y="1547"/>
                  </a:lnTo>
                  <a:lnTo>
                    <a:pt x="19" y="1552"/>
                  </a:lnTo>
                  <a:lnTo>
                    <a:pt x="19" y="1556"/>
                  </a:lnTo>
                  <a:lnTo>
                    <a:pt x="19" y="1561"/>
                  </a:lnTo>
                  <a:lnTo>
                    <a:pt x="17" y="1565"/>
                  </a:lnTo>
                  <a:lnTo>
                    <a:pt x="19" y="1570"/>
                  </a:lnTo>
                  <a:lnTo>
                    <a:pt x="19" y="1574"/>
                  </a:lnTo>
                  <a:lnTo>
                    <a:pt x="19" y="1578"/>
                  </a:lnTo>
                  <a:lnTo>
                    <a:pt x="19" y="1583"/>
                  </a:lnTo>
                  <a:lnTo>
                    <a:pt x="19" y="1587"/>
                  </a:lnTo>
                  <a:lnTo>
                    <a:pt x="19" y="1592"/>
                  </a:lnTo>
                  <a:lnTo>
                    <a:pt x="19" y="1596"/>
                  </a:lnTo>
                  <a:lnTo>
                    <a:pt x="19" y="1601"/>
                  </a:lnTo>
                  <a:lnTo>
                    <a:pt x="19" y="1605"/>
                  </a:lnTo>
                  <a:lnTo>
                    <a:pt x="19" y="1610"/>
                  </a:lnTo>
                  <a:lnTo>
                    <a:pt x="21" y="1614"/>
                  </a:lnTo>
                  <a:lnTo>
                    <a:pt x="21" y="1619"/>
                  </a:lnTo>
                  <a:lnTo>
                    <a:pt x="21" y="1623"/>
                  </a:lnTo>
                  <a:lnTo>
                    <a:pt x="21" y="1628"/>
                  </a:lnTo>
                  <a:lnTo>
                    <a:pt x="21" y="1632"/>
                  </a:lnTo>
                  <a:lnTo>
                    <a:pt x="21" y="1637"/>
                  </a:lnTo>
                  <a:lnTo>
                    <a:pt x="21" y="1641"/>
                  </a:lnTo>
                  <a:lnTo>
                    <a:pt x="21" y="1646"/>
                  </a:lnTo>
                  <a:lnTo>
                    <a:pt x="21" y="1650"/>
                  </a:lnTo>
                  <a:lnTo>
                    <a:pt x="21" y="1655"/>
                  </a:lnTo>
                  <a:lnTo>
                    <a:pt x="21" y="1659"/>
                  </a:lnTo>
                  <a:lnTo>
                    <a:pt x="21" y="1664"/>
                  </a:lnTo>
                  <a:lnTo>
                    <a:pt x="21" y="1668"/>
                  </a:lnTo>
                  <a:lnTo>
                    <a:pt x="21" y="1673"/>
                  </a:lnTo>
                  <a:lnTo>
                    <a:pt x="21" y="1677"/>
                  </a:lnTo>
                  <a:lnTo>
                    <a:pt x="21" y="1682"/>
                  </a:lnTo>
                  <a:lnTo>
                    <a:pt x="21" y="1686"/>
                  </a:lnTo>
                  <a:lnTo>
                    <a:pt x="21" y="1691"/>
                  </a:lnTo>
                  <a:lnTo>
                    <a:pt x="21" y="1695"/>
                  </a:lnTo>
                  <a:lnTo>
                    <a:pt x="21" y="1700"/>
                  </a:lnTo>
                  <a:lnTo>
                    <a:pt x="21" y="1704"/>
                  </a:lnTo>
                  <a:lnTo>
                    <a:pt x="21" y="1709"/>
                  </a:lnTo>
                  <a:lnTo>
                    <a:pt x="21" y="1713"/>
                  </a:lnTo>
                  <a:lnTo>
                    <a:pt x="21" y="1718"/>
                  </a:lnTo>
                  <a:lnTo>
                    <a:pt x="21" y="1722"/>
                  </a:lnTo>
                  <a:lnTo>
                    <a:pt x="21" y="1727"/>
                  </a:lnTo>
                  <a:lnTo>
                    <a:pt x="21" y="1731"/>
                  </a:lnTo>
                  <a:lnTo>
                    <a:pt x="21" y="1736"/>
                  </a:lnTo>
                  <a:lnTo>
                    <a:pt x="19" y="1740"/>
                  </a:lnTo>
                  <a:lnTo>
                    <a:pt x="19" y="1745"/>
                  </a:lnTo>
                  <a:lnTo>
                    <a:pt x="19" y="1749"/>
                  </a:lnTo>
                  <a:lnTo>
                    <a:pt x="19" y="1754"/>
                  </a:lnTo>
                  <a:lnTo>
                    <a:pt x="19" y="1758"/>
                  </a:lnTo>
                  <a:lnTo>
                    <a:pt x="17" y="1763"/>
                  </a:lnTo>
                  <a:lnTo>
                    <a:pt x="17" y="1767"/>
                  </a:lnTo>
                  <a:lnTo>
                    <a:pt x="17" y="1772"/>
                  </a:lnTo>
                  <a:lnTo>
                    <a:pt x="17" y="1776"/>
                  </a:lnTo>
                  <a:lnTo>
                    <a:pt x="17" y="1781"/>
                  </a:lnTo>
                  <a:lnTo>
                    <a:pt x="17" y="1785"/>
                  </a:lnTo>
                  <a:lnTo>
                    <a:pt x="19" y="1790"/>
                  </a:lnTo>
                  <a:lnTo>
                    <a:pt x="17" y="1794"/>
                  </a:lnTo>
                  <a:lnTo>
                    <a:pt x="17" y="1799"/>
                  </a:lnTo>
                  <a:lnTo>
                    <a:pt x="17" y="1803"/>
                  </a:lnTo>
                  <a:lnTo>
                    <a:pt x="17" y="1808"/>
                  </a:lnTo>
                  <a:lnTo>
                    <a:pt x="17" y="1812"/>
                  </a:lnTo>
                  <a:lnTo>
                    <a:pt x="17" y="1817"/>
                  </a:lnTo>
                  <a:lnTo>
                    <a:pt x="17" y="1821"/>
                  </a:lnTo>
                  <a:lnTo>
                    <a:pt x="17" y="1826"/>
                  </a:lnTo>
                  <a:lnTo>
                    <a:pt x="17" y="1830"/>
                  </a:lnTo>
                  <a:lnTo>
                    <a:pt x="17" y="1835"/>
                  </a:lnTo>
                  <a:lnTo>
                    <a:pt x="17" y="1839"/>
                  </a:lnTo>
                  <a:lnTo>
                    <a:pt x="17" y="1844"/>
                  </a:lnTo>
                  <a:lnTo>
                    <a:pt x="17" y="1848"/>
                  </a:lnTo>
                  <a:lnTo>
                    <a:pt x="17" y="1853"/>
                  </a:lnTo>
                  <a:lnTo>
                    <a:pt x="17" y="1857"/>
                  </a:lnTo>
                  <a:lnTo>
                    <a:pt x="17" y="1862"/>
                  </a:lnTo>
                  <a:lnTo>
                    <a:pt x="15" y="1866"/>
                  </a:lnTo>
                  <a:lnTo>
                    <a:pt x="15" y="1871"/>
                  </a:lnTo>
                  <a:lnTo>
                    <a:pt x="15" y="1875"/>
                  </a:lnTo>
                  <a:lnTo>
                    <a:pt x="13" y="1880"/>
                  </a:lnTo>
                  <a:lnTo>
                    <a:pt x="10" y="1884"/>
                  </a:lnTo>
                  <a:lnTo>
                    <a:pt x="10" y="1889"/>
                  </a:lnTo>
                  <a:lnTo>
                    <a:pt x="10" y="1893"/>
                  </a:lnTo>
                  <a:lnTo>
                    <a:pt x="10" y="1898"/>
                  </a:lnTo>
                  <a:lnTo>
                    <a:pt x="10" y="1902"/>
                  </a:lnTo>
                  <a:lnTo>
                    <a:pt x="10" y="1907"/>
                  </a:lnTo>
                  <a:lnTo>
                    <a:pt x="13" y="1911"/>
                  </a:lnTo>
                  <a:lnTo>
                    <a:pt x="10" y="1916"/>
                  </a:lnTo>
                  <a:lnTo>
                    <a:pt x="13" y="1920"/>
                  </a:lnTo>
                  <a:lnTo>
                    <a:pt x="13" y="1925"/>
                  </a:lnTo>
                  <a:lnTo>
                    <a:pt x="13" y="1929"/>
                  </a:lnTo>
                  <a:lnTo>
                    <a:pt x="13" y="1934"/>
                  </a:lnTo>
                  <a:lnTo>
                    <a:pt x="13" y="1938"/>
                  </a:lnTo>
                  <a:lnTo>
                    <a:pt x="13" y="1943"/>
                  </a:lnTo>
                  <a:lnTo>
                    <a:pt x="13" y="1947"/>
                  </a:lnTo>
                  <a:lnTo>
                    <a:pt x="13" y="1952"/>
                  </a:lnTo>
                  <a:lnTo>
                    <a:pt x="13" y="1956"/>
                  </a:lnTo>
                  <a:lnTo>
                    <a:pt x="13" y="1961"/>
                  </a:lnTo>
                  <a:lnTo>
                    <a:pt x="13" y="1965"/>
                  </a:lnTo>
                  <a:lnTo>
                    <a:pt x="13" y="1970"/>
                  </a:lnTo>
                  <a:lnTo>
                    <a:pt x="13" y="1974"/>
                  </a:lnTo>
                  <a:lnTo>
                    <a:pt x="13" y="1979"/>
                  </a:lnTo>
                  <a:lnTo>
                    <a:pt x="13" y="1983"/>
                  </a:lnTo>
                  <a:lnTo>
                    <a:pt x="13" y="1988"/>
                  </a:lnTo>
                  <a:lnTo>
                    <a:pt x="10" y="1992"/>
                  </a:lnTo>
                  <a:lnTo>
                    <a:pt x="10" y="1997"/>
                  </a:lnTo>
                  <a:lnTo>
                    <a:pt x="10" y="2001"/>
                  </a:lnTo>
                  <a:lnTo>
                    <a:pt x="8" y="2006"/>
                  </a:lnTo>
                  <a:lnTo>
                    <a:pt x="8" y="2010"/>
                  </a:lnTo>
                  <a:lnTo>
                    <a:pt x="8" y="2015"/>
                  </a:lnTo>
                  <a:lnTo>
                    <a:pt x="10" y="2019"/>
                  </a:lnTo>
                  <a:lnTo>
                    <a:pt x="10" y="2024"/>
                  </a:lnTo>
                  <a:lnTo>
                    <a:pt x="8" y="2028"/>
                  </a:lnTo>
                  <a:lnTo>
                    <a:pt x="8" y="2033"/>
                  </a:lnTo>
                  <a:lnTo>
                    <a:pt x="8" y="2037"/>
                  </a:lnTo>
                  <a:lnTo>
                    <a:pt x="8" y="2042"/>
                  </a:lnTo>
                  <a:lnTo>
                    <a:pt x="10" y="2046"/>
                  </a:lnTo>
                  <a:lnTo>
                    <a:pt x="10" y="2051"/>
                  </a:lnTo>
                  <a:lnTo>
                    <a:pt x="10" y="2055"/>
                  </a:lnTo>
                  <a:lnTo>
                    <a:pt x="10" y="2060"/>
                  </a:lnTo>
                  <a:lnTo>
                    <a:pt x="10" y="2064"/>
                  </a:lnTo>
                  <a:lnTo>
                    <a:pt x="10" y="2069"/>
                  </a:lnTo>
                  <a:lnTo>
                    <a:pt x="10" y="2073"/>
                  </a:lnTo>
                  <a:lnTo>
                    <a:pt x="10" y="2078"/>
                  </a:lnTo>
                  <a:lnTo>
                    <a:pt x="10" y="2082"/>
                  </a:lnTo>
                  <a:lnTo>
                    <a:pt x="8" y="2087"/>
                  </a:lnTo>
                  <a:lnTo>
                    <a:pt x="8" y="2091"/>
                  </a:lnTo>
                  <a:lnTo>
                    <a:pt x="8" y="2096"/>
                  </a:lnTo>
                  <a:lnTo>
                    <a:pt x="8" y="2100"/>
                  </a:lnTo>
                  <a:lnTo>
                    <a:pt x="8" y="2105"/>
                  </a:lnTo>
                  <a:lnTo>
                    <a:pt x="6" y="2109"/>
                  </a:lnTo>
                  <a:lnTo>
                    <a:pt x="6" y="2114"/>
                  </a:lnTo>
                  <a:lnTo>
                    <a:pt x="8" y="2118"/>
                  </a:lnTo>
                  <a:lnTo>
                    <a:pt x="8" y="2123"/>
                  </a:lnTo>
                  <a:lnTo>
                    <a:pt x="8" y="2127"/>
                  </a:lnTo>
                  <a:lnTo>
                    <a:pt x="8" y="2132"/>
                  </a:lnTo>
                  <a:lnTo>
                    <a:pt x="8" y="2136"/>
                  </a:lnTo>
                  <a:lnTo>
                    <a:pt x="8" y="2141"/>
                  </a:lnTo>
                  <a:lnTo>
                    <a:pt x="8" y="2145"/>
                  </a:lnTo>
                  <a:lnTo>
                    <a:pt x="8" y="2150"/>
                  </a:lnTo>
                  <a:lnTo>
                    <a:pt x="8" y="2154"/>
                  </a:lnTo>
                  <a:lnTo>
                    <a:pt x="8" y="2159"/>
                  </a:lnTo>
                  <a:lnTo>
                    <a:pt x="8" y="2163"/>
                  </a:lnTo>
                  <a:lnTo>
                    <a:pt x="8" y="2168"/>
                  </a:lnTo>
                  <a:lnTo>
                    <a:pt x="8" y="2172"/>
                  </a:lnTo>
                  <a:lnTo>
                    <a:pt x="6" y="2177"/>
                  </a:lnTo>
                  <a:lnTo>
                    <a:pt x="6" y="2181"/>
                  </a:lnTo>
                  <a:lnTo>
                    <a:pt x="4" y="2186"/>
                  </a:lnTo>
                  <a:lnTo>
                    <a:pt x="6" y="2190"/>
                  </a:lnTo>
                  <a:lnTo>
                    <a:pt x="6" y="2195"/>
                  </a:lnTo>
                  <a:lnTo>
                    <a:pt x="6" y="2199"/>
                  </a:lnTo>
                  <a:lnTo>
                    <a:pt x="6" y="2204"/>
                  </a:lnTo>
                  <a:lnTo>
                    <a:pt x="6" y="2208"/>
                  </a:lnTo>
                  <a:lnTo>
                    <a:pt x="6" y="2213"/>
                  </a:lnTo>
                  <a:lnTo>
                    <a:pt x="6" y="2217"/>
                  </a:lnTo>
                  <a:lnTo>
                    <a:pt x="6" y="2222"/>
                  </a:lnTo>
                  <a:lnTo>
                    <a:pt x="6" y="2226"/>
                  </a:lnTo>
                  <a:lnTo>
                    <a:pt x="4" y="2231"/>
                  </a:lnTo>
                  <a:lnTo>
                    <a:pt x="4" y="2235"/>
                  </a:lnTo>
                  <a:lnTo>
                    <a:pt x="4" y="2240"/>
                  </a:lnTo>
                  <a:lnTo>
                    <a:pt x="4" y="2244"/>
                  </a:lnTo>
                  <a:lnTo>
                    <a:pt x="4" y="2249"/>
                  </a:lnTo>
                  <a:lnTo>
                    <a:pt x="4" y="2253"/>
                  </a:lnTo>
                  <a:lnTo>
                    <a:pt x="4" y="2258"/>
                  </a:lnTo>
                  <a:lnTo>
                    <a:pt x="4" y="2262"/>
                  </a:lnTo>
                  <a:lnTo>
                    <a:pt x="4" y="2267"/>
                  </a:lnTo>
                  <a:lnTo>
                    <a:pt x="4" y="2271"/>
                  </a:lnTo>
                  <a:lnTo>
                    <a:pt x="4" y="2276"/>
                  </a:lnTo>
                  <a:lnTo>
                    <a:pt x="4" y="2280"/>
                  </a:lnTo>
                  <a:lnTo>
                    <a:pt x="4" y="2285"/>
                  </a:lnTo>
                  <a:lnTo>
                    <a:pt x="4" y="2289"/>
                  </a:lnTo>
                  <a:lnTo>
                    <a:pt x="4" y="2294"/>
                  </a:lnTo>
                  <a:lnTo>
                    <a:pt x="2" y="2298"/>
                  </a:lnTo>
                  <a:lnTo>
                    <a:pt x="2" y="2303"/>
                  </a:lnTo>
                  <a:lnTo>
                    <a:pt x="2" y="2307"/>
                  </a:lnTo>
                  <a:lnTo>
                    <a:pt x="2" y="2312"/>
                  </a:lnTo>
                  <a:lnTo>
                    <a:pt x="2" y="2316"/>
                  </a:lnTo>
                  <a:lnTo>
                    <a:pt x="2" y="2321"/>
                  </a:lnTo>
                  <a:lnTo>
                    <a:pt x="2" y="2325"/>
                  </a:lnTo>
                  <a:lnTo>
                    <a:pt x="2" y="2330"/>
                  </a:lnTo>
                  <a:lnTo>
                    <a:pt x="2" y="2334"/>
                  </a:lnTo>
                  <a:lnTo>
                    <a:pt x="2" y="2339"/>
                  </a:lnTo>
                  <a:lnTo>
                    <a:pt x="0" y="2343"/>
                  </a:lnTo>
                  <a:lnTo>
                    <a:pt x="0" y="2348"/>
                  </a:lnTo>
                  <a:lnTo>
                    <a:pt x="0" y="2352"/>
                  </a:lnTo>
                  <a:lnTo>
                    <a:pt x="0" y="2357"/>
                  </a:lnTo>
                  <a:lnTo>
                    <a:pt x="0" y="2361"/>
                  </a:lnTo>
                  <a:lnTo>
                    <a:pt x="0" y="2366"/>
                  </a:lnTo>
                  <a:lnTo>
                    <a:pt x="2" y="2370"/>
                  </a:lnTo>
                  <a:lnTo>
                    <a:pt x="2" y="2375"/>
                  </a:lnTo>
                  <a:lnTo>
                    <a:pt x="2" y="2379"/>
                  </a:lnTo>
                  <a:lnTo>
                    <a:pt x="2" y="2384"/>
                  </a:lnTo>
                  <a:lnTo>
                    <a:pt x="2" y="2388"/>
                  </a:lnTo>
                  <a:lnTo>
                    <a:pt x="2" y="2393"/>
                  </a:lnTo>
                  <a:lnTo>
                    <a:pt x="2" y="2397"/>
                  </a:lnTo>
                  <a:lnTo>
                    <a:pt x="2" y="2402"/>
                  </a:lnTo>
                  <a:lnTo>
                    <a:pt x="2" y="2406"/>
                  </a:lnTo>
                  <a:lnTo>
                    <a:pt x="4" y="2411"/>
                  </a:lnTo>
                  <a:lnTo>
                    <a:pt x="4" y="2415"/>
                  </a:lnTo>
                  <a:lnTo>
                    <a:pt x="4" y="2420"/>
                  </a:lnTo>
                  <a:lnTo>
                    <a:pt x="4" y="2424"/>
                  </a:lnTo>
                  <a:lnTo>
                    <a:pt x="6" y="2429"/>
                  </a:lnTo>
                  <a:lnTo>
                    <a:pt x="6" y="2433"/>
                  </a:lnTo>
                  <a:lnTo>
                    <a:pt x="8" y="2438"/>
                  </a:lnTo>
                  <a:lnTo>
                    <a:pt x="13" y="2442"/>
                  </a:lnTo>
                  <a:lnTo>
                    <a:pt x="15" y="2447"/>
                  </a:lnTo>
                  <a:lnTo>
                    <a:pt x="17" y="2451"/>
                  </a:lnTo>
                  <a:lnTo>
                    <a:pt x="21" y="2456"/>
                  </a:lnTo>
                  <a:lnTo>
                    <a:pt x="23" y="2460"/>
                  </a:lnTo>
                  <a:lnTo>
                    <a:pt x="27" y="2465"/>
                  </a:lnTo>
                  <a:lnTo>
                    <a:pt x="32" y="2469"/>
                  </a:lnTo>
                  <a:lnTo>
                    <a:pt x="36" y="2474"/>
                  </a:lnTo>
                  <a:lnTo>
                    <a:pt x="49" y="2478"/>
                  </a:lnTo>
                  <a:lnTo>
                    <a:pt x="55" y="2483"/>
                  </a:lnTo>
                  <a:lnTo>
                    <a:pt x="64" y="2487"/>
                  </a:lnTo>
                  <a:lnTo>
                    <a:pt x="83" y="2492"/>
                  </a:lnTo>
                  <a:lnTo>
                    <a:pt x="98" y="2496"/>
                  </a:lnTo>
                  <a:lnTo>
                    <a:pt x="110" y="2501"/>
                  </a:lnTo>
                  <a:lnTo>
                    <a:pt x="127" y="2505"/>
                  </a:lnTo>
                  <a:lnTo>
                    <a:pt x="136" y="2510"/>
                  </a:lnTo>
                  <a:lnTo>
                    <a:pt x="144" y="2514"/>
                  </a:lnTo>
                  <a:lnTo>
                    <a:pt x="155" y="2519"/>
                  </a:lnTo>
                  <a:lnTo>
                    <a:pt x="157" y="2523"/>
                  </a:lnTo>
                  <a:lnTo>
                    <a:pt x="157" y="2528"/>
                  </a:lnTo>
                  <a:lnTo>
                    <a:pt x="159" y="2532"/>
                  </a:lnTo>
                  <a:lnTo>
                    <a:pt x="159" y="2537"/>
                  </a:lnTo>
                  <a:lnTo>
                    <a:pt x="161" y="2541"/>
                  </a:lnTo>
                  <a:lnTo>
                    <a:pt x="161" y="2546"/>
                  </a:lnTo>
                  <a:lnTo>
                    <a:pt x="161" y="2550"/>
                  </a:lnTo>
                  <a:lnTo>
                    <a:pt x="161" y="2555"/>
                  </a:lnTo>
                  <a:lnTo>
                    <a:pt x="161" y="2559"/>
                  </a:lnTo>
                  <a:lnTo>
                    <a:pt x="161" y="2564"/>
                  </a:lnTo>
                  <a:lnTo>
                    <a:pt x="161" y="2568"/>
                  </a:lnTo>
                  <a:lnTo>
                    <a:pt x="161" y="2573"/>
                  </a:lnTo>
                  <a:lnTo>
                    <a:pt x="161" y="2577"/>
                  </a:lnTo>
                  <a:lnTo>
                    <a:pt x="161" y="2582"/>
                  </a:lnTo>
                  <a:lnTo>
                    <a:pt x="159" y="2586"/>
                  </a:lnTo>
                  <a:lnTo>
                    <a:pt x="159" y="2591"/>
                  </a:lnTo>
                  <a:lnTo>
                    <a:pt x="161" y="2595"/>
                  </a:lnTo>
                  <a:lnTo>
                    <a:pt x="161" y="2600"/>
                  </a:lnTo>
                  <a:lnTo>
                    <a:pt x="161" y="2604"/>
                  </a:lnTo>
                  <a:lnTo>
                    <a:pt x="161" y="2609"/>
                  </a:ln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Freeform 294"/>
            <p:cNvSpPr/>
            <p:nvPr/>
          </p:nvSpPr>
          <p:spPr>
            <a:xfrm>
              <a:off x="1282680" y="2157480"/>
              <a:ext cx="273240" cy="4379760"/>
            </a:xfrm>
            <a:custGeom>
              <a:avLst/>
              <a:gdLst>
                <a:gd name="textAreaLeft" fmla="*/ 0 w 273240"/>
                <a:gd name="textAreaRight" fmla="*/ 273600 w 273240"/>
                <a:gd name="textAreaTop" fmla="*/ 0 h 4379760"/>
                <a:gd name="textAreaBottom" fmla="*/ 4380120 h 4379760"/>
              </a:gdLst>
              <a:ahLst/>
              <a:rect l="textAreaLeft" t="textAreaTop" r="textAreaRight" b="textAreaBottom"/>
              <a:pathLst>
                <a:path w="162" h="2582">
                  <a:moveTo>
                    <a:pt x="111" y="0"/>
                  </a:moveTo>
                  <a:lnTo>
                    <a:pt x="115" y="4"/>
                  </a:lnTo>
                  <a:lnTo>
                    <a:pt x="117" y="9"/>
                  </a:lnTo>
                  <a:lnTo>
                    <a:pt x="119" y="13"/>
                  </a:lnTo>
                  <a:lnTo>
                    <a:pt x="117" y="18"/>
                  </a:lnTo>
                  <a:lnTo>
                    <a:pt x="117" y="22"/>
                  </a:lnTo>
                  <a:lnTo>
                    <a:pt x="117" y="27"/>
                  </a:lnTo>
                  <a:lnTo>
                    <a:pt x="117" y="31"/>
                  </a:lnTo>
                  <a:lnTo>
                    <a:pt x="117" y="36"/>
                  </a:lnTo>
                  <a:lnTo>
                    <a:pt x="113" y="40"/>
                  </a:lnTo>
                  <a:lnTo>
                    <a:pt x="109" y="45"/>
                  </a:lnTo>
                  <a:lnTo>
                    <a:pt x="106" y="49"/>
                  </a:lnTo>
                  <a:lnTo>
                    <a:pt x="109" y="54"/>
                  </a:lnTo>
                  <a:lnTo>
                    <a:pt x="111" y="58"/>
                  </a:lnTo>
                  <a:lnTo>
                    <a:pt x="113" y="63"/>
                  </a:lnTo>
                  <a:lnTo>
                    <a:pt x="115" y="67"/>
                  </a:lnTo>
                  <a:lnTo>
                    <a:pt x="113" y="72"/>
                  </a:lnTo>
                  <a:lnTo>
                    <a:pt x="111" y="76"/>
                  </a:lnTo>
                  <a:lnTo>
                    <a:pt x="109" y="81"/>
                  </a:lnTo>
                  <a:lnTo>
                    <a:pt x="111" y="85"/>
                  </a:lnTo>
                  <a:lnTo>
                    <a:pt x="111" y="90"/>
                  </a:lnTo>
                  <a:lnTo>
                    <a:pt x="111" y="94"/>
                  </a:lnTo>
                  <a:lnTo>
                    <a:pt x="111" y="99"/>
                  </a:lnTo>
                  <a:lnTo>
                    <a:pt x="119" y="103"/>
                  </a:lnTo>
                  <a:lnTo>
                    <a:pt x="132" y="108"/>
                  </a:lnTo>
                  <a:lnTo>
                    <a:pt x="143" y="112"/>
                  </a:lnTo>
                  <a:lnTo>
                    <a:pt x="140" y="117"/>
                  </a:lnTo>
                  <a:lnTo>
                    <a:pt x="132" y="121"/>
                  </a:lnTo>
                  <a:lnTo>
                    <a:pt x="123" y="126"/>
                  </a:lnTo>
                  <a:lnTo>
                    <a:pt x="111" y="130"/>
                  </a:lnTo>
                  <a:lnTo>
                    <a:pt x="106" y="135"/>
                  </a:lnTo>
                  <a:lnTo>
                    <a:pt x="109" y="139"/>
                  </a:lnTo>
                  <a:lnTo>
                    <a:pt x="115" y="144"/>
                  </a:lnTo>
                  <a:lnTo>
                    <a:pt x="126" y="148"/>
                  </a:lnTo>
                  <a:lnTo>
                    <a:pt x="134" y="153"/>
                  </a:lnTo>
                  <a:lnTo>
                    <a:pt x="136" y="157"/>
                  </a:lnTo>
                  <a:lnTo>
                    <a:pt x="134" y="162"/>
                  </a:lnTo>
                  <a:lnTo>
                    <a:pt x="132" y="166"/>
                  </a:lnTo>
                  <a:lnTo>
                    <a:pt x="132" y="171"/>
                  </a:lnTo>
                  <a:lnTo>
                    <a:pt x="138" y="175"/>
                  </a:lnTo>
                  <a:lnTo>
                    <a:pt x="147" y="180"/>
                  </a:lnTo>
                  <a:lnTo>
                    <a:pt x="153" y="184"/>
                  </a:lnTo>
                  <a:lnTo>
                    <a:pt x="162" y="189"/>
                  </a:lnTo>
                  <a:lnTo>
                    <a:pt x="145" y="193"/>
                  </a:lnTo>
                  <a:lnTo>
                    <a:pt x="96" y="198"/>
                  </a:lnTo>
                  <a:lnTo>
                    <a:pt x="53" y="202"/>
                  </a:lnTo>
                  <a:lnTo>
                    <a:pt x="32" y="207"/>
                  </a:lnTo>
                  <a:lnTo>
                    <a:pt x="21" y="211"/>
                  </a:lnTo>
                  <a:lnTo>
                    <a:pt x="13" y="216"/>
                  </a:lnTo>
                  <a:lnTo>
                    <a:pt x="11" y="220"/>
                  </a:lnTo>
                  <a:lnTo>
                    <a:pt x="9" y="225"/>
                  </a:lnTo>
                  <a:lnTo>
                    <a:pt x="4" y="229"/>
                  </a:lnTo>
                  <a:lnTo>
                    <a:pt x="2" y="234"/>
                  </a:lnTo>
                  <a:lnTo>
                    <a:pt x="2" y="238"/>
                  </a:lnTo>
                  <a:lnTo>
                    <a:pt x="0" y="243"/>
                  </a:lnTo>
                  <a:lnTo>
                    <a:pt x="0" y="247"/>
                  </a:lnTo>
                  <a:lnTo>
                    <a:pt x="0" y="252"/>
                  </a:lnTo>
                  <a:lnTo>
                    <a:pt x="0" y="256"/>
                  </a:lnTo>
                  <a:lnTo>
                    <a:pt x="0" y="261"/>
                  </a:lnTo>
                  <a:lnTo>
                    <a:pt x="2" y="265"/>
                  </a:lnTo>
                  <a:lnTo>
                    <a:pt x="4" y="270"/>
                  </a:lnTo>
                  <a:lnTo>
                    <a:pt x="4" y="274"/>
                  </a:lnTo>
                  <a:lnTo>
                    <a:pt x="7" y="279"/>
                  </a:lnTo>
                  <a:lnTo>
                    <a:pt x="7" y="283"/>
                  </a:lnTo>
                  <a:lnTo>
                    <a:pt x="9" y="288"/>
                  </a:lnTo>
                  <a:lnTo>
                    <a:pt x="7" y="292"/>
                  </a:lnTo>
                  <a:lnTo>
                    <a:pt x="7" y="297"/>
                  </a:lnTo>
                  <a:lnTo>
                    <a:pt x="7" y="301"/>
                  </a:lnTo>
                  <a:lnTo>
                    <a:pt x="7" y="306"/>
                  </a:lnTo>
                  <a:lnTo>
                    <a:pt x="7" y="310"/>
                  </a:lnTo>
                  <a:lnTo>
                    <a:pt x="7" y="315"/>
                  </a:lnTo>
                  <a:lnTo>
                    <a:pt x="7" y="319"/>
                  </a:lnTo>
                  <a:lnTo>
                    <a:pt x="9" y="324"/>
                  </a:lnTo>
                  <a:lnTo>
                    <a:pt x="7" y="328"/>
                  </a:lnTo>
                  <a:lnTo>
                    <a:pt x="7" y="333"/>
                  </a:lnTo>
                  <a:lnTo>
                    <a:pt x="7" y="337"/>
                  </a:lnTo>
                  <a:lnTo>
                    <a:pt x="7" y="342"/>
                  </a:lnTo>
                  <a:lnTo>
                    <a:pt x="7" y="346"/>
                  </a:lnTo>
                  <a:lnTo>
                    <a:pt x="7" y="351"/>
                  </a:lnTo>
                  <a:lnTo>
                    <a:pt x="7" y="355"/>
                  </a:lnTo>
                  <a:lnTo>
                    <a:pt x="7" y="360"/>
                  </a:lnTo>
                  <a:lnTo>
                    <a:pt x="7" y="364"/>
                  </a:lnTo>
                  <a:lnTo>
                    <a:pt x="7" y="369"/>
                  </a:lnTo>
                  <a:lnTo>
                    <a:pt x="4" y="373"/>
                  </a:lnTo>
                  <a:lnTo>
                    <a:pt x="4" y="378"/>
                  </a:lnTo>
                  <a:lnTo>
                    <a:pt x="4" y="382"/>
                  </a:lnTo>
                  <a:lnTo>
                    <a:pt x="4" y="387"/>
                  </a:lnTo>
                  <a:lnTo>
                    <a:pt x="4" y="391"/>
                  </a:lnTo>
                  <a:lnTo>
                    <a:pt x="4" y="396"/>
                  </a:lnTo>
                  <a:lnTo>
                    <a:pt x="4" y="400"/>
                  </a:lnTo>
                  <a:lnTo>
                    <a:pt x="7" y="405"/>
                  </a:lnTo>
                  <a:lnTo>
                    <a:pt x="7" y="409"/>
                  </a:lnTo>
                  <a:lnTo>
                    <a:pt x="7" y="414"/>
                  </a:lnTo>
                  <a:lnTo>
                    <a:pt x="7" y="418"/>
                  </a:lnTo>
                  <a:lnTo>
                    <a:pt x="7" y="423"/>
                  </a:lnTo>
                  <a:lnTo>
                    <a:pt x="7" y="427"/>
                  </a:lnTo>
                  <a:lnTo>
                    <a:pt x="7" y="432"/>
                  </a:lnTo>
                  <a:lnTo>
                    <a:pt x="7" y="436"/>
                  </a:lnTo>
                  <a:lnTo>
                    <a:pt x="7" y="441"/>
                  </a:lnTo>
                  <a:lnTo>
                    <a:pt x="7" y="445"/>
                  </a:lnTo>
                  <a:lnTo>
                    <a:pt x="7" y="450"/>
                  </a:lnTo>
                  <a:lnTo>
                    <a:pt x="7" y="454"/>
                  </a:lnTo>
                  <a:lnTo>
                    <a:pt x="7" y="459"/>
                  </a:lnTo>
                  <a:lnTo>
                    <a:pt x="7" y="463"/>
                  </a:lnTo>
                  <a:lnTo>
                    <a:pt x="7" y="468"/>
                  </a:lnTo>
                  <a:lnTo>
                    <a:pt x="9" y="472"/>
                  </a:lnTo>
                  <a:lnTo>
                    <a:pt x="9" y="477"/>
                  </a:lnTo>
                  <a:lnTo>
                    <a:pt x="9" y="481"/>
                  </a:lnTo>
                  <a:lnTo>
                    <a:pt x="9" y="486"/>
                  </a:lnTo>
                  <a:lnTo>
                    <a:pt x="7" y="490"/>
                  </a:lnTo>
                  <a:lnTo>
                    <a:pt x="7" y="495"/>
                  </a:lnTo>
                  <a:lnTo>
                    <a:pt x="4" y="499"/>
                  </a:lnTo>
                  <a:lnTo>
                    <a:pt x="4" y="504"/>
                  </a:lnTo>
                  <a:lnTo>
                    <a:pt x="2" y="508"/>
                  </a:lnTo>
                  <a:lnTo>
                    <a:pt x="2" y="512"/>
                  </a:lnTo>
                  <a:lnTo>
                    <a:pt x="2" y="517"/>
                  </a:lnTo>
                  <a:lnTo>
                    <a:pt x="2" y="521"/>
                  </a:lnTo>
                  <a:lnTo>
                    <a:pt x="2" y="526"/>
                  </a:lnTo>
                  <a:lnTo>
                    <a:pt x="2" y="530"/>
                  </a:lnTo>
                  <a:lnTo>
                    <a:pt x="2" y="535"/>
                  </a:lnTo>
                  <a:lnTo>
                    <a:pt x="2" y="539"/>
                  </a:lnTo>
                  <a:lnTo>
                    <a:pt x="2" y="544"/>
                  </a:lnTo>
                  <a:lnTo>
                    <a:pt x="0" y="548"/>
                  </a:lnTo>
                  <a:lnTo>
                    <a:pt x="0" y="553"/>
                  </a:lnTo>
                  <a:lnTo>
                    <a:pt x="0" y="557"/>
                  </a:lnTo>
                  <a:lnTo>
                    <a:pt x="0" y="562"/>
                  </a:lnTo>
                  <a:lnTo>
                    <a:pt x="0" y="566"/>
                  </a:lnTo>
                  <a:lnTo>
                    <a:pt x="0" y="571"/>
                  </a:lnTo>
                  <a:lnTo>
                    <a:pt x="0" y="575"/>
                  </a:lnTo>
                  <a:lnTo>
                    <a:pt x="0" y="580"/>
                  </a:lnTo>
                  <a:lnTo>
                    <a:pt x="0" y="584"/>
                  </a:lnTo>
                  <a:lnTo>
                    <a:pt x="2" y="589"/>
                  </a:lnTo>
                  <a:lnTo>
                    <a:pt x="2" y="593"/>
                  </a:lnTo>
                  <a:lnTo>
                    <a:pt x="4" y="598"/>
                  </a:lnTo>
                  <a:lnTo>
                    <a:pt x="4" y="602"/>
                  </a:lnTo>
                  <a:lnTo>
                    <a:pt x="4" y="607"/>
                  </a:lnTo>
                  <a:lnTo>
                    <a:pt x="4" y="611"/>
                  </a:lnTo>
                  <a:lnTo>
                    <a:pt x="4" y="616"/>
                  </a:lnTo>
                  <a:lnTo>
                    <a:pt x="4" y="620"/>
                  </a:lnTo>
                  <a:lnTo>
                    <a:pt x="7" y="625"/>
                  </a:lnTo>
                  <a:lnTo>
                    <a:pt x="7" y="629"/>
                  </a:lnTo>
                  <a:lnTo>
                    <a:pt x="7" y="634"/>
                  </a:lnTo>
                  <a:lnTo>
                    <a:pt x="7" y="638"/>
                  </a:lnTo>
                  <a:lnTo>
                    <a:pt x="7" y="643"/>
                  </a:lnTo>
                  <a:lnTo>
                    <a:pt x="4" y="647"/>
                  </a:lnTo>
                  <a:lnTo>
                    <a:pt x="4" y="652"/>
                  </a:lnTo>
                  <a:lnTo>
                    <a:pt x="4" y="656"/>
                  </a:lnTo>
                  <a:lnTo>
                    <a:pt x="4" y="661"/>
                  </a:lnTo>
                  <a:lnTo>
                    <a:pt x="4" y="665"/>
                  </a:lnTo>
                  <a:lnTo>
                    <a:pt x="4" y="670"/>
                  </a:lnTo>
                  <a:lnTo>
                    <a:pt x="4" y="674"/>
                  </a:lnTo>
                  <a:lnTo>
                    <a:pt x="7" y="679"/>
                  </a:lnTo>
                  <a:lnTo>
                    <a:pt x="7" y="683"/>
                  </a:lnTo>
                  <a:lnTo>
                    <a:pt x="4" y="688"/>
                  </a:lnTo>
                  <a:lnTo>
                    <a:pt x="4" y="692"/>
                  </a:lnTo>
                  <a:lnTo>
                    <a:pt x="4" y="697"/>
                  </a:lnTo>
                  <a:lnTo>
                    <a:pt x="4" y="701"/>
                  </a:lnTo>
                  <a:lnTo>
                    <a:pt x="2" y="706"/>
                  </a:lnTo>
                  <a:lnTo>
                    <a:pt x="2" y="710"/>
                  </a:lnTo>
                  <a:lnTo>
                    <a:pt x="2" y="715"/>
                  </a:lnTo>
                  <a:lnTo>
                    <a:pt x="2" y="719"/>
                  </a:lnTo>
                  <a:lnTo>
                    <a:pt x="0" y="724"/>
                  </a:lnTo>
                  <a:lnTo>
                    <a:pt x="0" y="728"/>
                  </a:lnTo>
                  <a:lnTo>
                    <a:pt x="0" y="733"/>
                  </a:lnTo>
                  <a:lnTo>
                    <a:pt x="0" y="737"/>
                  </a:lnTo>
                  <a:lnTo>
                    <a:pt x="0" y="742"/>
                  </a:lnTo>
                  <a:lnTo>
                    <a:pt x="0" y="746"/>
                  </a:lnTo>
                  <a:lnTo>
                    <a:pt x="0" y="751"/>
                  </a:lnTo>
                  <a:lnTo>
                    <a:pt x="0" y="755"/>
                  </a:lnTo>
                  <a:lnTo>
                    <a:pt x="0" y="760"/>
                  </a:lnTo>
                  <a:lnTo>
                    <a:pt x="0" y="764"/>
                  </a:lnTo>
                  <a:lnTo>
                    <a:pt x="0" y="769"/>
                  </a:lnTo>
                  <a:lnTo>
                    <a:pt x="0" y="773"/>
                  </a:lnTo>
                  <a:lnTo>
                    <a:pt x="0" y="778"/>
                  </a:lnTo>
                  <a:lnTo>
                    <a:pt x="0" y="782"/>
                  </a:lnTo>
                  <a:lnTo>
                    <a:pt x="0" y="787"/>
                  </a:lnTo>
                  <a:lnTo>
                    <a:pt x="0" y="791"/>
                  </a:lnTo>
                  <a:lnTo>
                    <a:pt x="2" y="796"/>
                  </a:lnTo>
                  <a:lnTo>
                    <a:pt x="2" y="800"/>
                  </a:lnTo>
                  <a:lnTo>
                    <a:pt x="2" y="805"/>
                  </a:lnTo>
                  <a:lnTo>
                    <a:pt x="2" y="809"/>
                  </a:lnTo>
                  <a:lnTo>
                    <a:pt x="2" y="814"/>
                  </a:lnTo>
                  <a:lnTo>
                    <a:pt x="2" y="818"/>
                  </a:lnTo>
                  <a:lnTo>
                    <a:pt x="7" y="823"/>
                  </a:lnTo>
                  <a:lnTo>
                    <a:pt x="13" y="827"/>
                  </a:lnTo>
                  <a:lnTo>
                    <a:pt x="19" y="832"/>
                  </a:lnTo>
                  <a:lnTo>
                    <a:pt x="26" y="836"/>
                  </a:lnTo>
                  <a:lnTo>
                    <a:pt x="30" y="841"/>
                  </a:lnTo>
                  <a:lnTo>
                    <a:pt x="36" y="845"/>
                  </a:lnTo>
                  <a:lnTo>
                    <a:pt x="45" y="850"/>
                  </a:lnTo>
                  <a:lnTo>
                    <a:pt x="47" y="854"/>
                  </a:lnTo>
                  <a:lnTo>
                    <a:pt x="45" y="859"/>
                  </a:lnTo>
                  <a:lnTo>
                    <a:pt x="41" y="863"/>
                  </a:lnTo>
                  <a:lnTo>
                    <a:pt x="38" y="868"/>
                  </a:lnTo>
                  <a:lnTo>
                    <a:pt x="32" y="872"/>
                  </a:lnTo>
                  <a:lnTo>
                    <a:pt x="26" y="877"/>
                  </a:lnTo>
                  <a:lnTo>
                    <a:pt x="21" y="881"/>
                  </a:lnTo>
                  <a:lnTo>
                    <a:pt x="19" y="886"/>
                  </a:lnTo>
                  <a:lnTo>
                    <a:pt x="19" y="890"/>
                  </a:lnTo>
                  <a:lnTo>
                    <a:pt x="19" y="895"/>
                  </a:lnTo>
                  <a:lnTo>
                    <a:pt x="19" y="899"/>
                  </a:lnTo>
                  <a:lnTo>
                    <a:pt x="19" y="904"/>
                  </a:lnTo>
                  <a:lnTo>
                    <a:pt x="19" y="908"/>
                  </a:lnTo>
                  <a:lnTo>
                    <a:pt x="19" y="913"/>
                  </a:lnTo>
                  <a:lnTo>
                    <a:pt x="17" y="917"/>
                  </a:lnTo>
                  <a:lnTo>
                    <a:pt x="17" y="922"/>
                  </a:lnTo>
                  <a:lnTo>
                    <a:pt x="15" y="926"/>
                  </a:lnTo>
                  <a:lnTo>
                    <a:pt x="15" y="931"/>
                  </a:lnTo>
                  <a:lnTo>
                    <a:pt x="15" y="935"/>
                  </a:lnTo>
                  <a:lnTo>
                    <a:pt x="15" y="940"/>
                  </a:lnTo>
                  <a:lnTo>
                    <a:pt x="15" y="944"/>
                  </a:lnTo>
                  <a:lnTo>
                    <a:pt x="15" y="949"/>
                  </a:lnTo>
                  <a:lnTo>
                    <a:pt x="15" y="953"/>
                  </a:lnTo>
                  <a:lnTo>
                    <a:pt x="17" y="958"/>
                  </a:lnTo>
                  <a:lnTo>
                    <a:pt x="17" y="962"/>
                  </a:lnTo>
                  <a:lnTo>
                    <a:pt x="17" y="967"/>
                  </a:lnTo>
                  <a:lnTo>
                    <a:pt x="17" y="971"/>
                  </a:lnTo>
                  <a:lnTo>
                    <a:pt x="17" y="976"/>
                  </a:lnTo>
                  <a:lnTo>
                    <a:pt x="17" y="980"/>
                  </a:lnTo>
                  <a:lnTo>
                    <a:pt x="17" y="985"/>
                  </a:lnTo>
                  <a:lnTo>
                    <a:pt x="17" y="989"/>
                  </a:lnTo>
                  <a:lnTo>
                    <a:pt x="17" y="994"/>
                  </a:lnTo>
                  <a:lnTo>
                    <a:pt x="15" y="998"/>
                  </a:lnTo>
                  <a:lnTo>
                    <a:pt x="13" y="1003"/>
                  </a:lnTo>
                  <a:lnTo>
                    <a:pt x="13" y="1007"/>
                  </a:lnTo>
                  <a:lnTo>
                    <a:pt x="13" y="1012"/>
                  </a:lnTo>
                  <a:lnTo>
                    <a:pt x="13" y="1016"/>
                  </a:lnTo>
                  <a:lnTo>
                    <a:pt x="11" y="1021"/>
                  </a:lnTo>
                  <a:lnTo>
                    <a:pt x="11" y="1025"/>
                  </a:lnTo>
                  <a:lnTo>
                    <a:pt x="9" y="1030"/>
                  </a:lnTo>
                  <a:lnTo>
                    <a:pt x="9" y="1034"/>
                  </a:lnTo>
                  <a:lnTo>
                    <a:pt x="7" y="1039"/>
                  </a:lnTo>
                  <a:lnTo>
                    <a:pt x="7" y="1043"/>
                  </a:lnTo>
                  <a:lnTo>
                    <a:pt x="7" y="1048"/>
                  </a:lnTo>
                  <a:lnTo>
                    <a:pt x="9" y="1052"/>
                  </a:lnTo>
                  <a:lnTo>
                    <a:pt x="9" y="1057"/>
                  </a:lnTo>
                  <a:lnTo>
                    <a:pt x="9" y="1061"/>
                  </a:lnTo>
                  <a:lnTo>
                    <a:pt x="9" y="1066"/>
                  </a:lnTo>
                  <a:lnTo>
                    <a:pt x="11" y="1070"/>
                  </a:lnTo>
                  <a:lnTo>
                    <a:pt x="11" y="1075"/>
                  </a:lnTo>
                  <a:lnTo>
                    <a:pt x="11" y="1079"/>
                  </a:lnTo>
                  <a:lnTo>
                    <a:pt x="9" y="1084"/>
                  </a:lnTo>
                  <a:lnTo>
                    <a:pt x="9" y="1088"/>
                  </a:lnTo>
                  <a:lnTo>
                    <a:pt x="9" y="1093"/>
                  </a:lnTo>
                  <a:lnTo>
                    <a:pt x="9" y="1097"/>
                  </a:lnTo>
                  <a:lnTo>
                    <a:pt x="7" y="1102"/>
                  </a:lnTo>
                  <a:lnTo>
                    <a:pt x="7" y="1106"/>
                  </a:lnTo>
                  <a:lnTo>
                    <a:pt x="7" y="1111"/>
                  </a:lnTo>
                  <a:lnTo>
                    <a:pt x="4" y="1115"/>
                  </a:lnTo>
                  <a:lnTo>
                    <a:pt x="4" y="1120"/>
                  </a:lnTo>
                  <a:lnTo>
                    <a:pt x="4" y="1124"/>
                  </a:lnTo>
                  <a:lnTo>
                    <a:pt x="7" y="1129"/>
                  </a:lnTo>
                  <a:lnTo>
                    <a:pt x="7" y="1133"/>
                  </a:lnTo>
                  <a:lnTo>
                    <a:pt x="7" y="1138"/>
                  </a:lnTo>
                  <a:lnTo>
                    <a:pt x="7" y="1142"/>
                  </a:lnTo>
                  <a:lnTo>
                    <a:pt x="7" y="1147"/>
                  </a:lnTo>
                  <a:lnTo>
                    <a:pt x="9" y="1151"/>
                  </a:lnTo>
                  <a:lnTo>
                    <a:pt x="9" y="1156"/>
                  </a:lnTo>
                  <a:lnTo>
                    <a:pt x="11" y="1160"/>
                  </a:lnTo>
                  <a:lnTo>
                    <a:pt x="9" y="1165"/>
                  </a:lnTo>
                  <a:lnTo>
                    <a:pt x="9" y="1169"/>
                  </a:lnTo>
                  <a:lnTo>
                    <a:pt x="9" y="1174"/>
                  </a:lnTo>
                  <a:lnTo>
                    <a:pt x="9" y="1178"/>
                  </a:lnTo>
                  <a:lnTo>
                    <a:pt x="9" y="1183"/>
                  </a:lnTo>
                  <a:lnTo>
                    <a:pt x="11" y="1187"/>
                  </a:lnTo>
                  <a:lnTo>
                    <a:pt x="11" y="1192"/>
                  </a:lnTo>
                  <a:lnTo>
                    <a:pt x="11" y="1196"/>
                  </a:lnTo>
                  <a:lnTo>
                    <a:pt x="11" y="1201"/>
                  </a:lnTo>
                  <a:lnTo>
                    <a:pt x="11" y="1205"/>
                  </a:lnTo>
                  <a:lnTo>
                    <a:pt x="11" y="1210"/>
                  </a:lnTo>
                  <a:lnTo>
                    <a:pt x="9" y="1214"/>
                  </a:lnTo>
                  <a:lnTo>
                    <a:pt x="9" y="1219"/>
                  </a:lnTo>
                  <a:lnTo>
                    <a:pt x="9" y="1223"/>
                  </a:lnTo>
                  <a:lnTo>
                    <a:pt x="9" y="1228"/>
                  </a:lnTo>
                  <a:lnTo>
                    <a:pt x="9" y="1232"/>
                  </a:lnTo>
                  <a:lnTo>
                    <a:pt x="9" y="1237"/>
                  </a:lnTo>
                  <a:lnTo>
                    <a:pt x="9" y="1241"/>
                  </a:lnTo>
                  <a:lnTo>
                    <a:pt x="7" y="1246"/>
                  </a:lnTo>
                  <a:lnTo>
                    <a:pt x="7" y="1250"/>
                  </a:lnTo>
                  <a:lnTo>
                    <a:pt x="7" y="1255"/>
                  </a:lnTo>
                  <a:lnTo>
                    <a:pt x="9" y="1259"/>
                  </a:lnTo>
                  <a:lnTo>
                    <a:pt x="9" y="1264"/>
                  </a:lnTo>
                  <a:lnTo>
                    <a:pt x="11" y="1268"/>
                  </a:lnTo>
                  <a:lnTo>
                    <a:pt x="11" y="1273"/>
                  </a:lnTo>
                  <a:lnTo>
                    <a:pt x="11" y="1277"/>
                  </a:lnTo>
                  <a:lnTo>
                    <a:pt x="13" y="1282"/>
                  </a:lnTo>
                  <a:lnTo>
                    <a:pt x="13" y="1286"/>
                  </a:lnTo>
                  <a:lnTo>
                    <a:pt x="11" y="1291"/>
                  </a:lnTo>
                  <a:lnTo>
                    <a:pt x="11" y="1295"/>
                  </a:lnTo>
                  <a:lnTo>
                    <a:pt x="11" y="1300"/>
                  </a:lnTo>
                  <a:lnTo>
                    <a:pt x="11" y="1304"/>
                  </a:lnTo>
                  <a:lnTo>
                    <a:pt x="13" y="1309"/>
                  </a:lnTo>
                  <a:lnTo>
                    <a:pt x="11" y="1313"/>
                  </a:lnTo>
                  <a:lnTo>
                    <a:pt x="11" y="1318"/>
                  </a:lnTo>
                  <a:lnTo>
                    <a:pt x="11" y="1322"/>
                  </a:lnTo>
                  <a:lnTo>
                    <a:pt x="9" y="1327"/>
                  </a:lnTo>
                  <a:lnTo>
                    <a:pt x="9" y="1331"/>
                  </a:lnTo>
                  <a:lnTo>
                    <a:pt x="11" y="1336"/>
                  </a:lnTo>
                  <a:lnTo>
                    <a:pt x="13" y="1340"/>
                  </a:lnTo>
                  <a:lnTo>
                    <a:pt x="15" y="1345"/>
                  </a:lnTo>
                  <a:lnTo>
                    <a:pt x="15" y="1349"/>
                  </a:lnTo>
                  <a:lnTo>
                    <a:pt x="15" y="1354"/>
                  </a:lnTo>
                  <a:lnTo>
                    <a:pt x="15" y="1358"/>
                  </a:lnTo>
                  <a:lnTo>
                    <a:pt x="15" y="1363"/>
                  </a:lnTo>
                  <a:lnTo>
                    <a:pt x="15" y="1367"/>
                  </a:lnTo>
                  <a:lnTo>
                    <a:pt x="15" y="1372"/>
                  </a:lnTo>
                  <a:lnTo>
                    <a:pt x="13" y="1376"/>
                  </a:lnTo>
                  <a:lnTo>
                    <a:pt x="13" y="1381"/>
                  </a:lnTo>
                  <a:lnTo>
                    <a:pt x="13" y="1385"/>
                  </a:lnTo>
                  <a:lnTo>
                    <a:pt x="13" y="1390"/>
                  </a:lnTo>
                  <a:lnTo>
                    <a:pt x="13" y="1394"/>
                  </a:lnTo>
                  <a:lnTo>
                    <a:pt x="13" y="1399"/>
                  </a:lnTo>
                  <a:lnTo>
                    <a:pt x="13" y="1403"/>
                  </a:lnTo>
                  <a:lnTo>
                    <a:pt x="13" y="1408"/>
                  </a:lnTo>
                  <a:lnTo>
                    <a:pt x="13" y="1412"/>
                  </a:lnTo>
                  <a:lnTo>
                    <a:pt x="13" y="1417"/>
                  </a:lnTo>
                  <a:lnTo>
                    <a:pt x="11" y="1421"/>
                  </a:lnTo>
                  <a:lnTo>
                    <a:pt x="9" y="1426"/>
                  </a:lnTo>
                  <a:lnTo>
                    <a:pt x="9" y="1430"/>
                  </a:lnTo>
                  <a:lnTo>
                    <a:pt x="7" y="1435"/>
                  </a:lnTo>
                  <a:lnTo>
                    <a:pt x="9" y="1439"/>
                  </a:lnTo>
                  <a:lnTo>
                    <a:pt x="9" y="1444"/>
                  </a:lnTo>
                  <a:lnTo>
                    <a:pt x="9" y="1448"/>
                  </a:lnTo>
                  <a:lnTo>
                    <a:pt x="11" y="1453"/>
                  </a:lnTo>
                  <a:lnTo>
                    <a:pt x="11" y="1457"/>
                  </a:lnTo>
                  <a:lnTo>
                    <a:pt x="11" y="1462"/>
                  </a:lnTo>
                  <a:lnTo>
                    <a:pt x="13" y="1466"/>
                  </a:lnTo>
                  <a:lnTo>
                    <a:pt x="13" y="1471"/>
                  </a:lnTo>
                  <a:lnTo>
                    <a:pt x="13" y="1475"/>
                  </a:lnTo>
                  <a:lnTo>
                    <a:pt x="13" y="1480"/>
                  </a:lnTo>
                  <a:lnTo>
                    <a:pt x="13" y="1484"/>
                  </a:lnTo>
                  <a:lnTo>
                    <a:pt x="13" y="1489"/>
                  </a:lnTo>
                  <a:lnTo>
                    <a:pt x="11" y="1493"/>
                  </a:lnTo>
                  <a:lnTo>
                    <a:pt x="11" y="1498"/>
                  </a:lnTo>
                  <a:lnTo>
                    <a:pt x="11" y="1502"/>
                  </a:lnTo>
                  <a:lnTo>
                    <a:pt x="11" y="1507"/>
                  </a:lnTo>
                  <a:lnTo>
                    <a:pt x="11" y="1511"/>
                  </a:lnTo>
                  <a:lnTo>
                    <a:pt x="11" y="1516"/>
                  </a:lnTo>
                  <a:lnTo>
                    <a:pt x="13" y="1520"/>
                  </a:lnTo>
                  <a:lnTo>
                    <a:pt x="15" y="1525"/>
                  </a:lnTo>
                  <a:lnTo>
                    <a:pt x="13" y="1529"/>
                  </a:lnTo>
                  <a:lnTo>
                    <a:pt x="11" y="1534"/>
                  </a:lnTo>
                  <a:lnTo>
                    <a:pt x="9" y="1538"/>
                  </a:lnTo>
                  <a:lnTo>
                    <a:pt x="9" y="1543"/>
                  </a:lnTo>
                  <a:lnTo>
                    <a:pt x="9" y="1547"/>
                  </a:lnTo>
                  <a:lnTo>
                    <a:pt x="9" y="1552"/>
                  </a:lnTo>
                  <a:lnTo>
                    <a:pt x="9" y="1556"/>
                  </a:lnTo>
                  <a:lnTo>
                    <a:pt x="9" y="1560"/>
                  </a:lnTo>
                  <a:lnTo>
                    <a:pt x="7" y="1565"/>
                  </a:lnTo>
                  <a:lnTo>
                    <a:pt x="7" y="1569"/>
                  </a:lnTo>
                  <a:lnTo>
                    <a:pt x="7" y="1574"/>
                  </a:lnTo>
                  <a:lnTo>
                    <a:pt x="9" y="1578"/>
                  </a:lnTo>
                  <a:lnTo>
                    <a:pt x="9" y="1583"/>
                  </a:lnTo>
                  <a:lnTo>
                    <a:pt x="9" y="1587"/>
                  </a:lnTo>
                  <a:lnTo>
                    <a:pt x="9" y="1592"/>
                  </a:lnTo>
                  <a:lnTo>
                    <a:pt x="9" y="1596"/>
                  </a:lnTo>
                  <a:lnTo>
                    <a:pt x="9" y="1601"/>
                  </a:lnTo>
                  <a:lnTo>
                    <a:pt x="9" y="1605"/>
                  </a:lnTo>
                  <a:lnTo>
                    <a:pt x="11" y="1610"/>
                  </a:lnTo>
                  <a:lnTo>
                    <a:pt x="11" y="1614"/>
                  </a:lnTo>
                  <a:lnTo>
                    <a:pt x="11" y="1619"/>
                  </a:lnTo>
                  <a:lnTo>
                    <a:pt x="13" y="1623"/>
                  </a:lnTo>
                  <a:lnTo>
                    <a:pt x="13" y="1628"/>
                  </a:lnTo>
                  <a:lnTo>
                    <a:pt x="11" y="1632"/>
                  </a:lnTo>
                  <a:lnTo>
                    <a:pt x="11" y="1637"/>
                  </a:lnTo>
                  <a:lnTo>
                    <a:pt x="11" y="1641"/>
                  </a:lnTo>
                  <a:lnTo>
                    <a:pt x="11" y="1646"/>
                  </a:lnTo>
                  <a:lnTo>
                    <a:pt x="11" y="1650"/>
                  </a:lnTo>
                  <a:lnTo>
                    <a:pt x="11" y="1655"/>
                  </a:lnTo>
                  <a:lnTo>
                    <a:pt x="11" y="1659"/>
                  </a:lnTo>
                  <a:lnTo>
                    <a:pt x="11" y="1664"/>
                  </a:lnTo>
                  <a:lnTo>
                    <a:pt x="9" y="1668"/>
                  </a:lnTo>
                  <a:lnTo>
                    <a:pt x="9" y="1673"/>
                  </a:lnTo>
                  <a:lnTo>
                    <a:pt x="9" y="1677"/>
                  </a:lnTo>
                  <a:lnTo>
                    <a:pt x="9" y="1682"/>
                  </a:lnTo>
                  <a:lnTo>
                    <a:pt x="9" y="1686"/>
                  </a:lnTo>
                  <a:lnTo>
                    <a:pt x="9" y="1691"/>
                  </a:lnTo>
                  <a:lnTo>
                    <a:pt x="9" y="1695"/>
                  </a:lnTo>
                  <a:lnTo>
                    <a:pt x="9" y="1700"/>
                  </a:lnTo>
                  <a:lnTo>
                    <a:pt x="9" y="1704"/>
                  </a:lnTo>
                  <a:lnTo>
                    <a:pt x="9" y="1709"/>
                  </a:lnTo>
                  <a:lnTo>
                    <a:pt x="9" y="1713"/>
                  </a:lnTo>
                  <a:lnTo>
                    <a:pt x="11" y="1718"/>
                  </a:lnTo>
                  <a:lnTo>
                    <a:pt x="11" y="1722"/>
                  </a:lnTo>
                  <a:lnTo>
                    <a:pt x="11" y="1727"/>
                  </a:lnTo>
                  <a:lnTo>
                    <a:pt x="11" y="1731"/>
                  </a:lnTo>
                  <a:lnTo>
                    <a:pt x="11" y="1736"/>
                  </a:lnTo>
                  <a:lnTo>
                    <a:pt x="11" y="1740"/>
                  </a:lnTo>
                  <a:lnTo>
                    <a:pt x="11" y="1745"/>
                  </a:lnTo>
                  <a:lnTo>
                    <a:pt x="11" y="1749"/>
                  </a:lnTo>
                  <a:lnTo>
                    <a:pt x="9" y="1754"/>
                  </a:lnTo>
                  <a:lnTo>
                    <a:pt x="9" y="1758"/>
                  </a:lnTo>
                  <a:lnTo>
                    <a:pt x="9" y="1763"/>
                  </a:lnTo>
                  <a:lnTo>
                    <a:pt x="9" y="1767"/>
                  </a:lnTo>
                  <a:lnTo>
                    <a:pt x="9" y="1772"/>
                  </a:lnTo>
                  <a:lnTo>
                    <a:pt x="9" y="1776"/>
                  </a:lnTo>
                  <a:lnTo>
                    <a:pt x="9" y="1781"/>
                  </a:lnTo>
                  <a:lnTo>
                    <a:pt x="9" y="1785"/>
                  </a:lnTo>
                  <a:lnTo>
                    <a:pt x="11" y="1790"/>
                  </a:lnTo>
                  <a:lnTo>
                    <a:pt x="13" y="1794"/>
                  </a:lnTo>
                  <a:lnTo>
                    <a:pt x="13" y="1799"/>
                  </a:lnTo>
                  <a:lnTo>
                    <a:pt x="11" y="1803"/>
                  </a:lnTo>
                  <a:lnTo>
                    <a:pt x="11" y="1808"/>
                  </a:lnTo>
                  <a:lnTo>
                    <a:pt x="11" y="1812"/>
                  </a:lnTo>
                  <a:lnTo>
                    <a:pt x="11" y="1817"/>
                  </a:lnTo>
                  <a:lnTo>
                    <a:pt x="11" y="1821"/>
                  </a:lnTo>
                  <a:lnTo>
                    <a:pt x="11" y="1826"/>
                  </a:lnTo>
                  <a:lnTo>
                    <a:pt x="11" y="1830"/>
                  </a:lnTo>
                  <a:lnTo>
                    <a:pt x="11" y="1835"/>
                  </a:lnTo>
                  <a:lnTo>
                    <a:pt x="11" y="1839"/>
                  </a:lnTo>
                  <a:lnTo>
                    <a:pt x="9" y="1844"/>
                  </a:lnTo>
                  <a:lnTo>
                    <a:pt x="9" y="1848"/>
                  </a:lnTo>
                  <a:lnTo>
                    <a:pt x="9" y="1853"/>
                  </a:lnTo>
                  <a:lnTo>
                    <a:pt x="9" y="1857"/>
                  </a:lnTo>
                  <a:lnTo>
                    <a:pt x="9" y="1862"/>
                  </a:lnTo>
                  <a:lnTo>
                    <a:pt x="9" y="1866"/>
                  </a:lnTo>
                  <a:lnTo>
                    <a:pt x="9" y="1871"/>
                  </a:lnTo>
                  <a:lnTo>
                    <a:pt x="9" y="1875"/>
                  </a:lnTo>
                  <a:lnTo>
                    <a:pt x="9" y="1880"/>
                  </a:lnTo>
                  <a:lnTo>
                    <a:pt x="9" y="1884"/>
                  </a:lnTo>
                  <a:lnTo>
                    <a:pt x="9" y="1889"/>
                  </a:lnTo>
                  <a:lnTo>
                    <a:pt x="9" y="1893"/>
                  </a:lnTo>
                  <a:lnTo>
                    <a:pt x="9" y="1898"/>
                  </a:lnTo>
                  <a:lnTo>
                    <a:pt x="9" y="1902"/>
                  </a:lnTo>
                  <a:lnTo>
                    <a:pt x="9" y="1907"/>
                  </a:lnTo>
                  <a:lnTo>
                    <a:pt x="11" y="1911"/>
                  </a:lnTo>
                  <a:lnTo>
                    <a:pt x="11" y="1916"/>
                  </a:lnTo>
                  <a:lnTo>
                    <a:pt x="11" y="1920"/>
                  </a:lnTo>
                  <a:lnTo>
                    <a:pt x="11" y="1925"/>
                  </a:lnTo>
                  <a:lnTo>
                    <a:pt x="11" y="1929"/>
                  </a:lnTo>
                  <a:lnTo>
                    <a:pt x="11" y="1934"/>
                  </a:lnTo>
                  <a:lnTo>
                    <a:pt x="11" y="1938"/>
                  </a:lnTo>
                  <a:lnTo>
                    <a:pt x="11" y="1943"/>
                  </a:lnTo>
                  <a:lnTo>
                    <a:pt x="11" y="1947"/>
                  </a:lnTo>
                  <a:lnTo>
                    <a:pt x="11" y="1952"/>
                  </a:lnTo>
                  <a:lnTo>
                    <a:pt x="11" y="1956"/>
                  </a:lnTo>
                  <a:lnTo>
                    <a:pt x="11" y="1961"/>
                  </a:lnTo>
                  <a:lnTo>
                    <a:pt x="11" y="1965"/>
                  </a:lnTo>
                  <a:lnTo>
                    <a:pt x="11" y="1970"/>
                  </a:lnTo>
                  <a:lnTo>
                    <a:pt x="11" y="1974"/>
                  </a:lnTo>
                  <a:lnTo>
                    <a:pt x="11" y="1979"/>
                  </a:lnTo>
                  <a:lnTo>
                    <a:pt x="11" y="1983"/>
                  </a:lnTo>
                  <a:lnTo>
                    <a:pt x="11" y="1988"/>
                  </a:lnTo>
                  <a:lnTo>
                    <a:pt x="11" y="1992"/>
                  </a:lnTo>
                  <a:lnTo>
                    <a:pt x="11" y="1997"/>
                  </a:lnTo>
                  <a:lnTo>
                    <a:pt x="11" y="2001"/>
                  </a:lnTo>
                  <a:lnTo>
                    <a:pt x="11" y="2006"/>
                  </a:lnTo>
                  <a:lnTo>
                    <a:pt x="11" y="2010"/>
                  </a:lnTo>
                  <a:lnTo>
                    <a:pt x="11" y="2015"/>
                  </a:lnTo>
                  <a:lnTo>
                    <a:pt x="11" y="2019"/>
                  </a:lnTo>
                  <a:lnTo>
                    <a:pt x="11" y="2024"/>
                  </a:lnTo>
                  <a:lnTo>
                    <a:pt x="11" y="2028"/>
                  </a:lnTo>
                  <a:lnTo>
                    <a:pt x="11" y="2033"/>
                  </a:lnTo>
                  <a:lnTo>
                    <a:pt x="11" y="2037"/>
                  </a:lnTo>
                  <a:lnTo>
                    <a:pt x="11" y="2042"/>
                  </a:lnTo>
                  <a:lnTo>
                    <a:pt x="11" y="2046"/>
                  </a:lnTo>
                  <a:lnTo>
                    <a:pt x="11" y="2051"/>
                  </a:lnTo>
                  <a:lnTo>
                    <a:pt x="11" y="2055"/>
                  </a:lnTo>
                  <a:lnTo>
                    <a:pt x="11" y="2060"/>
                  </a:lnTo>
                  <a:lnTo>
                    <a:pt x="11" y="2064"/>
                  </a:lnTo>
                  <a:lnTo>
                    <a:pt x="11" y="2069"/>
                  </a:lnTo>
                  <a:lnTo>
                    <a:pt x="11" y="2073"/>
                  </a:lnTo>
                  <a:lnTo>
                    <a:pt x="11" y="2078"/>
                  </a:lnTo>
                  <a:lnTo>
                    <a:pt x="11" y="2082"/>
                  </a:lnTo>
                  <a:lnTo>
                    <a:pt x="11" y="2087"/>
                  </a:lnTo>
                  <a:lnTo>
                    <a:pt x="9" y="2091"/>
                  </a:lnTo>
                  <a:lnTo>
                    <a:pt x="9" y="2096"/>
                  </a:lnTo>
                  <a:lnTo>
                    <a:pt x="9" y="2100"/>
                  </a:lnTo>
                  <a:lnTo>
                    <a:pt x="9" y="2105"/>
                  </a:lnTo>
                  <a:lnTo>
                    <a:pt x="11" y="2109"/>
                  </a:lnTo>
                  <a:lnTo>
                    <a:pt x="11" y="2114"/>
                  </a:lnTo>
                  <a:lnTo>
                    <a:pt x="13" y="2118"/>
                  </a:lnTo>
                  <a:lnTo>
                    <a:pt x="13" y="2123"/>
                  </a:lnTo>
                  <a:lnTo>
                    <a:pt x="11" y="2127"/>
                  </a:lnTo>
                  <a:lnTo>
                    <a:pt x="11" y="2132"/>
                  </a:lnTo>
                  <a:lnTo>
                    <a:pt x="11" y="2136"/>
                  </a:lnTo>
                  <a:lnTo>
                    <a:pt x="11" y="2141"/>
                  </a:lnTo>
                  <a:lnTo>
                    <a:pt x="11" y="2145"/>
                  </a:lnTo>
                  <a:lnTo>
                    <a:pt x="11" y="2150"/>
                  </a:lnTo>
                  <a:lnTo>
                    <a:pt x="13" y="2154"/>
                  </a:lnTo>
                  <a:lnTo>
                    <a:pt x="15" y="2159"/>
                  </a:lnTo>
                  <a:lnTo>
                    <a:pt x="17" y="2163"/>
                  </a:lnTo>
                  <a:lnTo>
                    <a:pt x="17" y="2168"/>
                  </a:lnTo>
                  <a:lnTo>
                    <a:pt x="15" y="2172"/>
                  </a:lnTo>
                  <a:lnTo>
                    <a:pt x="15" y="2177"/>
                  </a:lnTo>
                  <a:lnTo>
                    <a:pt x="13" y="2181"/>
                  </a:lnTo>
                  <a:lnTo>
                    <a:pt x="13" y="2186"/>
                  </a:lnTo>
                  <a:lnTo>
                    <a:pt x="15" y="2190"/>
                  </a:lnTo>
                  <a:lnTo>
                    <a:pt x="15" y="2195"/>
                  </a:lnTo>
                  <a:lnTo>
                    <a:pt x="15" y="2199"/>
                  </a:lnTo>
                  <a:lnTo>
                    <a:pt x="15" y="2204"/>
                  </a:lnTo>
                  <a:lnTo>
                    <a:pt x="15" y="2208"/>
                  </a:lnTo>
                  <a:lnTo>
                    <a:pt x="17" y="2213"/>
                  </a:lnTo>
                  <a:lnTo>
                    <a:pt x="17" y="2217"/>
                  </a:lnTo>
                  <a:lnTo>
                    <a:pt x="17" y="2222"/>
                  </a:lnTo>
                  <a:lnTo>
                    <a:pt x="15" y="2226"/>
                  </a:lnTo>
                  <a:lnTo>
                    <a:pt x="15" y="2231"/>
                  </a:lnTo>
                  <a:lnTo>
                    <a:pt x="15" y="2235"/>
                  </a:lnTo>
                  <a:lnTo>
                    <a:pt x="15" y="2240"/>
                  </a:lnTo>
                  <a:lnTo>
                    <a:pt x="15" y="2244"/>
                  </a:lnTo>
                  <a:lnTo>
                    <a:pt x="15" y="2249"/>
                  </a:lnTo>
                  <a:lnTo>
                    <a:pt x="15" y="2253"/>
                  </a:lnTo>
                  <a:lnTo>
                    <a:pt x="15" y="2258"/>
                  </a:lnTo>
                  <a:lnTo>
                    <a:pt x="15" y="2262"/>
                  </a:lnTo>
                  <a:lnTo>
                    <a:pt x="15" y="2267"/>
                  </a:lnTo>
                  <a:lnTo>
                    <a:pt x="15" y="2271"/>
                  </a:lnTo>
                  <a:lnTo>
                    <a:pt x="15" y="2276"/>
                  </a:lnTo>
                  <a:lnTo>
                    <a:pt x="13" y="2280"/>
                  </a:lnTo>
                  <a:lnTo>
                    <a:pt x="13" y="2285"/>
                  </a:lnTo>
                  <a:lnTo>
                    <a:pt x="13" y="2289"/>
                  </a:lnTo>
                  <a:lnTo>
                    <a:pt x="13" y="2294"/>
                  </a:lnTo>
                  <a:lnTo>
                    <a:pt x="13" y="2298"/>
                  </a:lnTo>
                  <a:lnTo>
                    <a:pt x="13" y="2303"/>
                  </a:lnTo>
                  <a:lnTo>
                    <a:pt x="13" y="2307"/>
                  </a:lnTo>
                  <a:lnTo>
                    <a:pt x="11" y="2312"/>
                  </a:lnTo>
                  <a:lnTo>
                    <a:pt x="11" y="2316"/>
                  </a:lnTo>
                  <a:lnTo>
                    <a:pt x="11" y="2321"/>
                  </a:lnTo>
                  <a:lnTo>
                    <a:pt x="11" y="2325"/>
                  </a:lnTo>
                  <a:lnTo>
                    <a:pt x="11" y="2330"/>
                  </a:lnTo>
                  <a:lnTo>
                    <a:pt x="11" y="2334"/>
                  </a:lnTo>
                  <a:lnTo>
                    <a:pt x="13" y="2339"/>
                  </a:lnTo>
                  <a:lnTo>
                    <a:pt x="13" y="2343"/>
                  </a:lnTo>
                  <a:lnTo>
                    <a:pt x="15" y="2348"/>
                  </a:lnTo>
                  <a:lnTo>
                    <a:pt x="15" y="2352"/>
                  </a:lnTo>
                  <a:lnTo>
                    <a:pt x="15" y="2357"/>
                  </a:lnTo>
                  <a:lnTo>
                    <a:pt x="15" y="2361"/>
                  </a:lnTo>
                  <a:lnTo>
                    <a:pt x="15" y="2366"/>
                  </a:lnTo>
                  <a:lnTo>
                    <a:pt x="15" y="2370"/>
                  </a:lnTo>
                  <a:lnTo>
                    <a:pt x="15" y="2375"/>
                  </a:lnTo>
                  <a:lnTo>
                    <a:pt x="15" y="2379"/>
                  </a:lnTo>
                  <a:lnTo>
                    <a:pt x="15" y="2384"/>
                  </a:lnTo>
                  <a:lnTo>
                    <a:pt x="15" y="2388"/>
                  </a:lnTo>
                  <a:lnTo>
                    <a:pt x="15" y="2393"/>
                  </a:lnTo>
                  <a:lnTo>
                    <a:pt x="15" y="2397"/>
                  </a:lnTo>
                  <a:lnTo>
                    <a:pt x="15" y="2402"/>
                  </a:lnTo>
                  <a:lnTo>
                    <a:pt x="13" y="2406"/>
                  </a:lnTo>
                  <a:lnTo>
                    <a:pt x="13" y="2411"/>
                  </a:lnTo>
                  <a:lnTo>
                    <a:pt x="11" y="2415"/>
                  </a:lnTo>
                  <a:lnTo>
                    <a:pt x="11" y="2420"/>
                  </a:lnTo>
                  <a:lnTo>
                    <a:pt x="11" y="2424"/>
                  </a:lnTo>
                  <a:lnTo>
                    <a:pt x="11" y="2429"/>
                  </a:lnTo>
                  <a:lnTo>
                    <a:pt x="11" y="2433"/>
                  </a:lnTo>
                  <a:lnTo>
                    <a:pt x="11" y="2438"/>
                  </a:lnTo>
                  <a:lnTo>
                    <a:pt x="11" y="2442"/>
                  </a:lnTo>
                  <a:lnTo>
                    <a:pt x="11" y="2447"/>
                  </a:lnTo>
                  <a:lnTo>
                    <a:pt x="11" y="2451"/>
                  </a:lnTo>
                  <a:lnTo>
                    <a:pt x="13" y="2456"/>
                  </a:lnTo>
                  <a:lnTo>
                    <a:pt x="15" y="2460"/>
                  </a:lnTo>
                  <a:lnTo>
                    <a:pt x="21" y="2465"/>
                  </a:lnTo>
                  <a:lnTo>
                    <a:pt x="30" y="2469"/>
                  </a:lnTo>
                  <a:lnTo>
                    <a:pt x="36" y="2474"/>
                  </a:lnTo>
                  <a:lnTo>
                    <a:pt x="41" y="2478"/>
                  </a:lnTo>
                  <a:lnTo>
                    <a:pt x="47" y="2483"/>
                  </a:lnTo>
                  <a:lnTo>
                    <a:pt x="58" y="2487"/>
                  </a:lnTo>
                  <a:lnTo>
                    <a:pt x="68" y="2492"/>
                  </a:lnTo>
                  <a:lnTo>
                    <a:pt x="72" y="2496"/>
                  </a:lnTo>
                  <a:lnTo>
                    <a:pt x="66" y="2501"/>
                  </a:lnTo>
                  <a:lnTo>
                    <a:pt x="60" y="2505"/>
                  </a:lnTo>
                  <a:lnTo>
                    <a:pt x="51" y="2510"/>
                  </a:lnTo>
                  <a:lnTo>
                    <a:pt x="49" y="2514"/>
                  </a:lnTo>
                  <a:lnTo>
                    <a:pt x="60" y="2519"/>
                  </a:lnTo>
                  <a:lnTo>
                    <a:pt x="77" y="2523"/>
                  </a:lnTo>
                  <a:lnTo>
                    <a:pt x="94" y="2528"/>
                  </a:lnTo>
                  <a:lnTo>
                    <a:pt x="106" y="2532"/>
                  </a:lnTo>
                  <a:lnTo>
                    <a:pt x="119" y="2537"/>
                  </a:lnTo>
                  <a:lnTo>
                    <a:pt x="117" y="2541"/>
                  </a:lnTo>
                  <a:lnTo>
                    <a:pt x="102" y="2546"/>
                  </a:lnTo>
                  <a:lnTo>
                    <a:pt x="87" y="2550"/>
                  </a:lnTo>
                  <a:lnTo>
                    <a:pt x="81" y="2555"/>
                  </a:lnTo>
                  <a:lnTo>
                    <a:pt x="77" y="2559"/>
                  </a:lnTo>
                  <a:lnTo>
                    <a:pt x="72" y="2564"/>
                  </a:lnTo>
                  <a:lnTo>
                    <a:pt x="72" y="2568"/>
                  </a:lnTo>
                  <a:lnTo>
                    <a:pt x="77" y="2573"/>
                  </a:lnTo>
                  <a:lnTo>
                    <a:pt x="81" y="2577"/>
                  </a:lnTo>
                  <a:lnTo>
                    <a:pt x="81" y="2582"/>
                  </a:ln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Freeform 295"/>
            <p:cNvSpPr/>
            <p:nvPr/>
          </p:nvSpPr>
          <p:spPr>
            <a:xfrm>
              <a:off x="5010120" y="2157480"/>
              <a:ext cx="463680" cy="4379760"/>
            </a:xfrm>
            <a:custGeom>
              <a:avLst/>
              <a:gdLst>
                <a:gd name="textAreaLeft" fmla="*/ 0 w 463680"/>
                <a:gd name="textAreaRight" fmla="*/ 464040 w 463680"/>
                <a:gd name="textAreaTop" fmla="*/ 0 h 4379760"/>
                <a:gd name="textAreaBottom" fmla="*/ 4380120 h 4379760"/>
              </a:gdLst>
              <a:ahLst/>
              <a:rect l="textAreaLeft" t="textAreaTop" r="textAreaRight" b="textAreaBottom"/>
              <a:pathLst>
                <a:path w="274" h="2582">
                  <a:moveTo>
                    <a:pt x="104" y="0"/>
                  </a:moveTo>
                  <a:lnTo>
                    <a:pt x="104" y="4"/>
                  </a:lnTo>
                  <a:lnTo>
                    <a:pt x="102" y="9"/>
                  </a:lnTo>
                  <a:lnTo>
                    <a:pt x="100" y="13"/>
                  </a:lnTo>
                  <a:lnTo>
                    <a:pt x="108" y="18"/>
                  </a:lnTo>
                  <a:lnTo>
                    <a:pt x="115" y="22"/>
                  </a:lnTo>
                  <a:lnTo>
                    <a:pt x="121" y="27"/>
                  </a:lnTo>
                  <a:lnTo>
                    <a:pt x="125" y="31"/>
                  </a:lnTo>
                  <a:lnTo>
                    <a:pt x="128" y="36"/>
                  </a:lnTo>
                  <a:lnTo>
                    <a:pt x="130" y="40"/>
                  </a:lnTo>
                  <a:lnTo>
                    <a:pt x="123" y="45"/>
                  </a:lnTo>
                  <a:lnTo>
                    <a:pt x="117" y="49"/>
                  </a:lnTo>
                  <a:lnTo>
                    <a:pt x="113" y="54"/>
                  </a:lnTo>
                  <a:lnTo>
                    <a:pt x="113" y="58"/>
                  </a:lnTo>
                  <a:lnTo>
                    <a:pt x="108" y="63"/>
                  </a:lnTo>
                  <a:lnTo>
                    <a:pt x="106" y="67"/>
                  </a:lnTo>
                  <a:lnTo>
                    <a:pt x="102" y="72"/>
                  </a:lnTo>
                  <a:lnTo>
                    <a:pt x="98" y="76"/>
                  </a:lnTo>
                  <a:lnTo>
                    <a:pt x="106" y="81"/>
                  </a:lnTo>
                  <a:lnTo>
                    <a:pt x="102" y="85"/>
                  </a:lnTo>
                  <a:lnTo>
                    <a:pt x="91" y="90"/>
                  </a:lnTo>
                  <a:lnTo>
                    <a:pt x="89" y="94"/>
                  </a:lnTo>
                  <a:lnTo>
                    <a:pt x="89" y="99"/>
                  </a:lnTo>
                  <a:lnTo>
                    <a:pt x="85" y="103"/>
                  </a:lnTo>
                  <a:lnTo>
                    <a:pt x="85" y="108"/>
                  </a:lnTo>
                  <a:lnTo>
                    <a:pt x="79" y="112"/>
                  </a:lnTo>
                  <a:lnTo>
                    <a:pt x="83" y="117"/>
                  </a:lnTo>
                  <a:lnTo>
                    <a:pt x="89" y="121"/>
                  </a:lnTo>
                  <a:lnTo>
                    <a:pt x="102" y="126"/>
                  </a:lnTo>
                  <a:lnTo>
                    <a:pt x="106" y="130"/>
                  </a:lnTo>
                  <a:lnTo>
                    <a:pt x="104" y="135"/>
                  </a:lnTo>
                  <a:lnTo>
                    <a:pt x="102" y="139"/>
                  </a:lnTo>
                  <a:lnTo>
                    <a:pt x="94" y="144"/>
                  </a:lnTo>
                  <a:lnTo>
                    <a:pt x="89" y="148"/>
                  </a:lnTo>
                  <a:lnTo>
                    <a:pt x="85" y="153"/>
                  </a:lnTo>
                  <a:lnTo>
                    <a:pt x="85" y="157"/>
                  </a:lnTo>
                  <a:lnTo>
                    <a:pt x="87" y="162"/>
                  </a:lnTo>
                  <a:lnTo>
                    <a:pt x="96" y="166"/>
                  </a:lnTo>
                  <a:lnTo>
                    <a:pt x="100" y="171"/>
                  </a:lnTo>
                  <a:lnTo>
                    <a:pt x="96" y="175"/>
                  </a:lnTo>
                  <a:lnTo>
                    <a:pt x="87" y="180"/>
                  </a:lnTo>
                  <a:lnTo>
                    <a:pt x="81" y="184"/>
                  </a:lnTo>
                  <a:lnTo>
                    <a:pt x="79" y="189"/>
                  </a:lnTo>
                  <a:lnTo>
                    <a:pt x="100" y="193"/>
                  </a:lnTo>
                  <a:lnTo>
                    <a:pt x="170" y="198"/>
                  </a:lnTo>
                  <a:lnTo>
                    <a:pt x="221" y="202"/>
                  </a:lnTo>
                  <a:lnTo>
                    <a:pt x="170" y="207"/>
                  </a:lnTo>
                  <a:lnTo>
                    <a:pt x="155" y="211"/>
                  </a:lnTo>
                  <a:lnTo>
                    <a:pt x="100" y="216"/>
                  </a:lnTo>
                  <a:lnTo>
                    <a:pt x="83" y="220"/>
                  </a:lnTo>
                  <a:lnTo>
                    <a:pt x="85" y="225"/>
                  </a:lnTo>
                  <a:lnTo>
                    <a:pt x="89" y="229"/>
                  </a:lnTo>
                  <a:lnTo>
                    <a:pt x="102" y="234"/>
                  </a:lnTo>
                  <a:lnTo>
                    <a:pt x="102" y="238"/>
                  </a:lnTo>
                  <a:lnTo>
                    <a:pt x="96" y="243"/>
                  </a:lnTo>
                  <a:lnTo>
                    <a:pt x="96" y="247"/>
                  </a:lnTo>
                  <a:lnTo>
                    <a:pt x="100" y="252"/>
                  </a:lnTo>
                  <a:lnTo>
                    <a:pt x="102" y="256"/>
                  </a:lnTo>
                  <a:lnTo>
                    <a:pt x="102" y="261"/>
                  </a:lnTo>
                  <a:lnTo>
                    <a:pt x="102" y="265"/>
                  </a:lnTo>
                  <a:lnTo>
                    <a:pt x="102" y="270"/>
                  </a:lnTo>
                  <a:lnTo>
                    <a:pt x="102" y="274"/>
                  </a:lnTo>
                  <a:lnTo>
                    <a:pt x="102" y="279"/>
                  </a:lnTo>
                  <a:lnTo>
                    <a:pt x="100" y="283"/>
                  </a:lnTo>
                  <a:lnTo>
                    <a:pt x="100" y="288"/>
                  </a:lnTo>
                  <a:lnTo>
                    <a:pt x="102" y="292"/>
                  </a:lnTo>
                  <a:lnTo>
                    <a:pt x="102" y="297"/>
                  </a:lnTo>
                  <a:lnTo>
                    <a:pt x="98" y="301"/>
                  </a:lnTo>
                  <a:lnTo>
                    <a:pt x="94" y="306"/>
                  </a:lnTo>
                  <a:lnTo>
                    <a:pt x="94" y="310"/>
                  </a:lnTo>
                  <a:lnTo>
                    <a:pt x="98" y="315"/>
                  </a:lnTo>
                  <a:lnTo>
                    <a:pt x="100" y="319"/>
                  </a:lnTo>
                  <a:lnTo>
                    <a:pt x="106" y="324"/>
                  </a:lnTo>
                  <a:lnTo>
                    <a:pt x="108" y="328"/>
                  </a:lnTo>
                  <a:lnTo>
                    <a:pt x="106" y="333"/>
                  </a:lnTo>
                  <a:lnTo>
                    <a:pt x="102" y="337"/>
                  </a:lnTo>
                  <a:lnTo>
                    <a:pt x="100" y="342"/>
                  </a:lnTo>
                  <a:lnTo>
                    <a:pt x="100" y="346"/>
                  </a:lnTo>
                  <a:lnTo>
                    <a:pt x="100" y="351"/>
                  </a:lnTo>
                  <a:lnTo>
                    <a:pt x="100" y="355"/>
                  </a:lnTo>
                  <a:lnTo>
                    <a:pt x="102" y="360"/>
                  </a:lnTo>
                  <a:lnTo>
                    <a:pt x="111" y="364"/>
                  </a:lnTo>
                  <a:lnTo>
                    <a:pt x="111" y="369"/>
                  </a:lnTo>
                  <a:lnTo>
                    <a:pt x="111" y="373"/>
                  </a:lnTo>
                  <a:lnTo>
                    <a:pt x="111" y="378"/>
                  </a:lnTo>
                  <a:lnTo>
                    <a:pt x="108" y="382"/>
                  </a:lnTo>
                  <a:lnTo>
                    <a:pt x="104" y="387"/>
                  </a:lnTo>
                  <a:lnTo>
                    <a:pt x="102" y="391"/>
                  </a:lnTo>
                  <a:lnTo>
                    <a:pt x="106" y="396"/>
                  </a:lnTo>
                  <a:lnTo>
                    <a:pt x="94" y="400"/>
                  </a:lnTo>
                  <a:lnTo>
                    <a:pt x="87" y="405"/>
                  </a:lnTo>
                  <a:lnTo>
                    <a:pt x="85" y="409"/>
                  </a:lnTo>
                  <a:lnTo>
                    <a:pt x="85" y="414"/>
                  </a:lnTo>
                  <a:lnTo>
                    <a:pt x="89" y="418"/>
                  </a:lnTo>
                  <a:lnTo>
                    <a:pt x="96" y="423"/>
                  </a:lnTo>
                  <a:lnTo>
                    <a:pt x="98" y="427"/>
                  </a:lnTo>
                  <a:lnTo>
                    <a:pt x="100" y="432"/>
                  </a:lnTo>
                  <a:lnTo>
                    <a:pt x="98" y="436"/>
                  </a:lnTo>
                  <a:lnTo>
                    <a:pt x="96" y="441"/>
                  </a:lnTo>
                  <a:lnTo>
                    <a:pt x="94" y="445"/>
                  </a:lnTo>
                  <a:lnTo>
                    <a:pt x="91" y="450"/>
                  </a:lnTo>
                  <a:lnTo>
                    <a:pt x="94" y="454"/>
                  </a:lnTo>
                  <a:lnTo>
                    <a:pt x="94" y="459"/>
                  </a:lnTo>
                  <a:lnTo>
                    <a:pt x="91" y="463"/>
                  </a:lnTo>
                  <a:lnTo>
                    <a:pt x="89" y="468"/>
                  </a:lnTo>
                  <a:lnTo>
                    <a:pt x="87" y="472"/>
                  </a:lnTo>
                  <a:lnTo>
                    <a:pt x="89" y="477"/>
                  </a:lnTo>
                  <a:lnTo>
                    <a:pt x="87" y="481"/>
                  </a:lnTo>
                  <a:lnTo>
                    <a:pt x="87" y="486"/>
                  </a:lnTo>
                  <a:lnTo>
                    <a:pt x="85" y="490"/>
                  </a:lnTo>
                  <a:lnTo>
                    <a:pt x="85" y="495"/>
                  </a:lnTo>
                  <a:lnTo>
                    <a:pt x="81" y="499"/>
                  </a:lnTo>
                  <a:lnTo>
                    <a:pt x="81" y="504"/>
                  </a:lnTo>
                  <a:lnTo>
                    <a:pt x="79" y="508"/>
                  </a:lnTo>
                  <a:lnTo>
                    <a:pt x="79" y="512"/>
                  </a:lnTo>
                  <a:lnTo>
                    <a:pt x="85" y="517"/>
                  </a:lnTo>
                  <a:lnTo>
                    <a:pt x="83" y="521"/>
                  </a:lnTo>
                  <a:lnTo>
                    <a:pt x="70" y="526"/>
                  </a:lnTo>
                  <a:lnTo>
                    <a:pt x="64" y="530"/>
                  </a:lnTo>
                  <a:lnTo>
                    <a:pt x="64" y="535"/>
                  </a:lnTo>
                  <a:lnTo>
                    <a:pt x="64" y="539"/>
                  </a:lnTo>
                  <a:lnTo>
                    <a:pt x="64" y="544"/>
                  </a:lnTo>
                  <a:lnTo>
                    <a:pt x="62" y="548"/>
                  </a:lnTo>
                  <a:lnTo>
                    <a:pt x="66" y="553"/>
                  </a:lnTo>
                  <a:lnTo>
                    <a:pt x="70" y="557"/>
                  </a:lnTo>
                  <a:lnTo>
                    <a:pt x="68" y="562"/>
                  </a:lnTo>
                  <a:lnTo>
                    <a:pt x="66" y="566"/>
                  </a:lnTo>
                  <a:lnTo>
                    <a:pt x="77" y="571"/>
                  </a:lnTo>
                  <a:lnTo>
                    <a:pt x="74" y="575"/>
                  </a:lnTo>
                  <a:lnTo>
                    <a:pt x="81" y="580"/>
                  </a:lnTo>
                  <a:lnTo>
                    <a:pt x="85" y="584"/>
                  </a:lnTo>
                  <a:lnTo>
                    <a:pt x="83" y="589"/>
                  </a:lnTo>
                  <a:lnTo>
                    <a:pt x="81" y="593"/>
                  </a:lnTo>
                  <a:lnTo>
                    <a:pt x="83" y="598"/>
                  </a:lnTo>
                  <a:lnTo>
                    <a:pt x="85" y="602"/>
                  </a:lnTo>
                  <a:lnTo>
                    <a:pt x="87" y="607"/>
                  </a:lnTo>
                  <a:lnTo>
                    <a:pt x="91" y="611"/>
                  </a:lnTo>
                  <a:lnTo>
                    <a:pt x="96" y="616"/>
                  </a:lnTo>
                  <a:lnTo>
                    <a:pt x="98" y="620"/>
                  </a:lnTo>
                  <a:lnTo>
                    <a:pt x="98" y="625"/>
                  </a:lnTo>
                  <a:lnTo>
                    <a:pt x="100" y="629"/>
                  </a:lnTo>
                  <a:lnTo>
                    <a:pt x="100" y="634"/>
                  </a:lnTo>
                  <a:lnTo>
                    <a:pt x="98" y="638"/>
                  </a:lnTo>
                  <a:lnTo>
                    <a:pt x="98" y="643"/>
                  </a:lnTo>
                  <a:lnTo>
                    <a:pt x="96" y="647"/>
                  </a:lnTo>
                  <a:lnTo>
                    <a:pt x="96" y="652"/>
                  </a:lnTo>
                  <a:lnTo>
                    <a:pt x="96" y="656"/>
                  </a:lnTo>
                  <a:lnTo>
                    <a:pt x="98" y="661"/>
                  </a:lnTo>
                  <a:lnTo>
                    <a:pt x="96" y="665"/>
                  </a:lnTo>
                  <a:lnTo>
                    <a:pt x="98" y="670"/>
                  </a:lnTo>
                  <a:lnTo>
                    <a:pt x="94" y="674"/>
                  </a:lnTo>
                  <a:lnTo>
                    <a:pt x="91" y="679"/>
                  </a:lnTo>
                  <a:lnTo>
                    <a:pt x="89" y="683"/>
                  </a:lnTo>
                  <a:lnTo>
                    <a:pt x="91" y="688"/>
                  </a:lnTo>
                  <a:lnTo>
                    <a:pt x="89" y="692"/>
                  </a:lnTo>
                  <a:lnTo>
                    <a:pt x="89" y="697"/>
                  </a:lnTo>
                  <a:lnTo>
                    <a:pt x="89" y="701"/>
                  </a:lnTo>
                  <a:lnTo>
                    <a:pt x="85" y="706"/>
                  </a:lnTo>
                  <a:lnTo>
                    <a:pt x="77" y="710"/>
                  </a:lnTo>
                  <a:lnTo>
                    <a:pt x="77" y="715"/>
                  </a:lnTo>
                  <a:lnTo>
                    <a:pt x="81" y="719"/>
                  </a:lnTo>
                  <a:lnTo>
                    <a:pt x="83" y="724"/>
                  </a:lnTo>
                  <a:lnTo>
                    <a:pt x="87" y="728"/>
                  </a:lnTo>
                  <a:lnTo>
                    <a:pt x="91" y="733"/>
                  </a:lnTo>
                  <a:lnTo>
                    <a:pt x="94" y="737"/>
                  </a:lnTo>
                  <a:lnTo>
                    <a:pt x="96" y="742"/>
                  </a:lnTo>
                  <a:lnTo>
                    <a:pt x="98" y="746"/>
                  </a:lnTo>
                  <a:lnTo>
                    <a:pt x="100" y="751"/>
                  </a:lnTo>
                  <a:lnTo>
                    <a:pt x="102" y="755"/>
                  </a:lnTo>
                  <a:lnTo>
                    <a:pt x="111" y="760"/>
                  </a:lnTo>
                  <a:lnTo>
                    <a:pt x="111" y="764"/>
                  </a:lnTo>
                  <a:lnTo>
                    <a:pt x="117" y="769"/>
                  </a:lnTo>
                  <a:lnTo>
                    <a:pt x="119" y="773"/>
                  </a:lnTo>
                  <a:lnTo>
                    <a:pt x="128" y="778"/>
                  </a:lnTo>
                  <a:lnTo>
                    <a:pt x="151" y="782"/>
                  </a:lnTo>
                  <a:lnTo>
                    <a:pt x="162" y="787"/>
                  </a:lnTo>
                  <a:lnTo>
                    <a:pt x="168" y="791"/>
                  </a:lnTo>
                  <a:lnTo>
                    <a:pt x="176" y="796"/>
                  </a:lnTo>
                  <a:lnTo>
                    <a:pt x="189" y="800"/>
                  </a:lnTo>
                  <a:lnTo>
                    <a:pt x="193" y="805"/>
                  </a:lnTo>
                  <a:lnTo>
                    <a:pt x="181" y="809"/>
                  </a:lnTo>
                  <a:lnTo>
                    <a:pt x="196" y="814"/>
                  </a:lnTo>
                  <a:lnTo>
                    <a:pt x="210" y="818"/>
                  </a:lnTo>
                  <a:lnTo>
                    <a:pt x="219" y="823"/>
                  </a:lnTo>
                  <a:lnTo>
                    <a:pt x="217" y="827"/>
                  </a:lnTo>
                  <a:lnTo>
                    <a:pt x="217" y="832"/>
                  </a:lnTo>
                  <a:lnTo>
                    <a:pt x="219" y="836"/>
                  </a:lnTo>
                  <a:lnTo>
                    <a:pt x="217" y="841"/>
                  </a:lnTo>
                  <a:lnTo>
                    <a:pt x="183" y="845"/>
                  </a:lnTo>
                  <a:lnTo>
                    <a:pt x="179" y="850"/>
                  </a:lnTo>
                  <a:lnTo>
                    <a:pt x="157" y="854"/>
                  </a:lnTo>
                  <a:lnTo>
                    <a:pt x="142" y="859"/>
                  </a:lnTo>
                  <a:lnTo>
                    <a:pt x="142" y="863"/>
                  </a:lnTo>
                  <a:lnTo>
                    <a:pt x="166" y="868"/>
                  </a:lnTo>
                  <a:lnTo>
                    <a:pt x="187" y="872"/>
                  </a:lnTo>
                  <a:lnTo>
                    <a:pt x="196" y="877"/>
                  </a:lnTo>
                  <a:lnTo>
                    <a:pt x="210" y="881"/>
                  </a:lnTo>
                  <a:lnTo>
                    <a:pt x="221" y="886"/>
                  </a:lnTo>
                  <a:lnTo>
                    <a:pt x="187" y="890"/>
                  </a:lnTo>
                  <a:lnTo>
                    <a:pt x="170" y="895"/>
                  </a:lnTo>
                  <a:lnTo>
                    <a:pt x="121" y="899"/>
                  </a:lnTo>
                  <a:lnTo>
                    <a:pt x="85" y="904"/>
                  </a:lnTo>
                  <a:lnTo>
                    <a:pt x="83" y="908"/>
                  </a:lnTo>
                  <a:lnTo>
                    <a:pt x="89" y="913"/>
                  </a:lnTo>
                  <a:lnTo>
                    <a:pt x="128" y="917"/>
                  </a:lnTo>
                  <a:lnTo>
                    <a:pt x="113" y="922"/>
                  </a:lnTo>
                  <a:lnTo>
                    <a:pt x="108" y="926"/>
                  </a:lnTo>
                  <a:lnTo>
                    <a:pt x="108" y="931"/>
                  </a:lnTo>
                  <a:lnTo>
                    <a:pt x="111" y="935"/>
                  </a:lnTo>
                  <a:lnTo>
                    <a:pt x="106" y="940"/>
                  </a:lnTo>
                  <a:lnTo>
                    <a:pt x="104" y="944"/>
                  </a:lnTo>
                  <a:lnTo>
                    <a:pt x="102" y="949"/>
                  </a:lnTo>
                  <a:lnTo>
                    <a:pt x="98" y="953"/>
                  </a:lnTo>
                  <a:lnTo>
                    <a:pt x="89" y="958"/>
                  </a:lnTo>
                  <a:lnTo>
                    <a:pt x="85" y="962"/>
                  </a:lnTo>
                  <a:lnTo>
                    <a:pt x="87" y="967"/>
                  </a:lnTo>
                  <a:lnTo>
                    <a:pt x="91" y="971"/>
                  </a:lnTo>
                  <a:lnTo>
                    <a:pt x="96" y="976"/>
                  </a:lnTo>
                  <a:lnTo>
                    <a:pt x="132" y="980"/>
                  </a:lnTo>
                  <a:lnTo>
                    <a:pt x="204" y="985"/>
                  </a:lnTo>
                  <a:lnTo>
                    <a:pt x="217" y="989"/>
                  </a:lnTo>
                  <a:lnTo>
                    <a:pt x="221" y="994"/>
                  </a:lnTo>
                  <a:lnTo>
                    <a:pt x="206" y="998"/>
                  </a:lnTo>
                  <a:lnTo>
                    <a:pt x="193" y="1003"/>
                  </a:lnTo>
                  <a:lnTo>
                    <a:pt x="189" y="1007"/>
                  </a:lnTo>
                  <a:lnTo>
                    <a:pt x="189" y="1012"/>
                  </a:lnTo>
                  <a:lnTo>
                    <a:pt x="193" y="1016"/>
                  </a:lnTo>
                  <a:lnTo>
                    <a:pt x="196" y="1021"/>
                  </a:lnTo>
                  <a:lnTo>
                    <a:pt x="210" y="1025"/>
                  </a:lnTo>
                  <a:lnTo>
                    <a:pt x="221" y="1030"/>
                  </a:lnTo>
                  <a:lnTo>
                    <a:pt x="240" y="1034"/>
                  </a:lnTo>
                  <a:lnTo>
                    <a:pt x="251" y="1039"/>
                  </a:lnTo>
                  <a:lnTo>
                    <a:pt x="251" y="1043"/>
                  </a:lnTo>
                  <a:lnTo>
                    <a:pt x="242" y="1048"/>
                  </a:lnTo>
                  <a:lnTo>
                    <a:pt x="238" y="1052"/>
                  </a:lnTo>
                  <a:lnTo>
                    <a:pt x="242" y="1057"/>
                  </a:lnTo>
                  <a:lnTo>
                    <a:pt x="247" y="1061"/>
                  </a:lnTo>
                  <a:lnTo>
                    <a:pt x="242" y="1066"/>
                  </a:lnTo>
                  <a:lnTo>
                    <a:pt x="236" y="1070"/>
                  </a:lnTo>
                  <a:lnTo>
                    <a:pt x="234" y="1075"/>
                  </a:lnTo>
                  <a:lnTo>
                    <a:pt x="223" y="1079"/>
                  </a:lnTo>
                  <a:lnTo>
                    <a:pt x="215" y="1084"/>
                  </a:lnTo>
                  <a:lnTo>
                    <a:pt x="219" y="1088"/>
                  </a:lnTo>
                  <a:lnTo>
                    <a:pt x="225" y="1093"/>
                  </a:lnTo>
                  <a:lnTo>
                    <a:pt x="225" y="1097"/>
                  </a:lnTo>
                  <a:lnTo>
                    <a:pt x="227" y="1102"/>
                  </a:lnTo>
                  <a:lnTo>
                    <a:pt x="234" y="1106"/>
                  </a:lnTo>
                  <a:lnTo>
                    <a:pt x="244" y="1111"/>
                  </a:lnTo>
                  <a:lnTo>
                    <a:pt x="244" y="1115"/>
                  </a:lnTo>
                  <a:lnTo>
                    <a:pt x="247" y="1120"/>
                  </a:lnTo>
                  <a:lnTo>
                    <a:pt x="261" y="1124"/>
                  </a:lnTo>
                  <a:lnTo>
                    <a:pt x="259" y="1129"/>
                  </a:lnTo>
                  <a:lnTo>
                    <a:pt x="264" y="1133"/>
                  </a:lnTo>
                  <a:lnTo>
                    <a:pt x="249" y="1138"/>
                  </a:lnTo>
                  <a:lnTo>
                    <a:pt x="234" y="1142"/>
                  </a:lnTo>
                  <a:lnTo>
                    <a:pt x="225" y="1147"/>
                  </a:lnTo>
                  <a:lnTo>
                    <a:pt x="221" y="1151"/>
                  </a:lnTo>
                  <a:lnTo>
                    <a:pt x="219" y="1156"/>
                  </a:lnTo>
                  <a:lnTo>
                    <a:pt x="215" y="1160"/>
                  </a:lnTo>
                  <a:lnTo>
                    <a:pt x="210" y="1165"/>
                  </a:lnTo>
                  <a:lnTo>
                    <a:pt x="215" y="1169"/>
                  </a:lnTo>
                  <a:lnTo>
                    <a:pt x="217" y="1174"/>
                  </a:lnTo>
                  <a:lnTo>
                    <a:pt x="221" y="1178"/>
                  </a:lnTo>
                  <a:lnTo>
                    <a:pt x="230" y="1183"/>
                  </a:lnTo>
                  <a:lnTo>
                    <a:pt x="238" y="1187"/>
                  </a:lnTo>
                  <a:lnTo>
                    <a:pt x="251" y="1192"/>
                  </a:lnTo>
                  <a:lnTo>
                    <a:pt x="274" y="1196"/>
                  </a:lnTo>
                  <a:lnTo>
                    <a:pt x="266" y="1201"/>
                  </a:lnTo>
                  <a:lnTo>
                    <a:pt x="255" y="1205"/>
                  </a:lnTo>
                  <a:lnTo>
                    <a:pt x="230" y="1210"/>
                  </a:lnTo>
                  <a:lnTo>
                    <a:pt x="213" y="1214"/>
                  </a:lnTo>
                  <a:lnTo>
                    <a:pt x="189" y="1219"/>
                  </a:lnTo>
                  <a:lnTo>
                    <a:pt x="162" y="1223"/>
                  </a:lnTo>
                  <a:lnTo>
                    <a:pt x="151" y="1228"/>
                  </a:lnTo>
                  <a:lnTo>
                    <a:pt x="147" y="1232"/>
                  </a:lnTo>
                  <a:lnTo>
                    <a:pt x="130" y="1237"/>
                  </a:lnTo>
                  <a:lnTo>
                    <a:pt x="125" y="1241"/>
                  </a:lnTo>
                  <a:lnTo>
                    <a:pt x="123" y="1246"/>
                  </a:lnTo>
                  <a:lnTo>
                    <a:pt x="125" y="1250"/>
                  </a:lnTo>
                  <a:lnTo>
                    <a:pt x="128" y="1255"/>
                  </a:lnTo>
                  <a:lnTo>
                    <a:pt x="134" y="1259"/>
                  </a:lnTo>
                  <a:lnTo>
                    <a:pt x="134" y="1264"/>
                  </a:lnTo>
                  <a:lnTo>
                    <a:pt x="134" y="1268"/>
                  </a:lnTo>
                  <a:lnTo>
                    <a:pt x="134" y="1273"/>
                  </a:lnTo>
                  <a:lnTo>
                    <a:pt x="138" y="1277"/>
                  </a:lnTo>
                  <a:lnTo>
                    <a:pt x="134" y="1282"/>
                  </a:lnTo>
                  <a:lnTo>
                    <a:pt x="130" y="1286"/>
                  </a:lnTo>
                  <a:lnTo>
                    <a:pt x="125" y="1291"/>
                  </a:lnTo>
                  <a:lnTo>
                    <a:pt x="117" y="1295"/>
                  </a:lnTo>
                  <a:lnTo>
                    <a:pt x="111" y="1300"/>
                  </a:lnTo>
                  <a:lnTo>
                    <a:pt x="108" y="1304"/>
                  </a:lnTo>
                  <a:lnTo>
                    <a:pt x="111" y="1309"/>
                  </a:lnTo>
                  <a:lnTo>
                    <a:pt x="115" y="1313"/>
                  </a:lnTo>
                  <a:lnTo>
                    <a:pt x="117" y="1318"/>
                  </a:lnTo>
                  <a:lnTo>
                    <a:pt x="121" y="1322"/>
                  </a:lnTo>
                  <a:lnTo>
                    <a:pt x="123" y="1327"/>
                  </a:lnTo>
                  <a:lnTo>
                    <a:pt x="119" y="1331"/>
                  </a:lnTo>
                  <a:lnTo>
                    <a:pt x="117" y="1336"/>
                  </a:lnTo>
                  <a:lnTo>
                    <a:pt x="111" y="1340"/>
                  </a:lnTo>
                  <a:lnTo>
                    <a:pt x="100" y="1345"/>
                  </a:lnTo>
                  <a:lnTo>
                    <a:pt x="89" y="1349"/>
                  </a:lnTo>
                  <a:lnTo>
                    <a:pt x="85" y="1354"/>
                  </a:lnTo>
                  <a:lnTo>
                    <a:pt x="83" y="1358"/>
                  </a:lnTo>
                  <a:lnTo>
                    <a:pt x="83" y="1363"/>
                  </a:lnTo>
                  <a:lnTo>
                    <a:pt x="77" y="1367"/>
                  </a:lnTo>
                  <a:lnTo>
                    <a:pt x="79" y="1372"/>
                  </a:lnTo>
                  <a:lnTo>
                    <a:pt x="81" y="1376"/>
                  </a:lnTo>
                  <a:lnTo>
                    <a:pt x="79" y="1381"/>
                  </a:lnTo>
                  <a:lnTo>
                    <a:pt x="79" y="1385"/>
                  </a:lnTo>
                  <a:lnTo>
                    <a:pt x="77" y="1390"/>
                  </a:lnTo>
                  <a:lnTo>
                    <a:pt x="74" y="1394"/>
                  </a:lnTo>
                  <a:lnTo>
                    <a:pt x="72" y="1399"/>
                  </a:lnTo>
                  <a:lnTo>
                    <a:pt x="74" y="1403"/>
                  </a:lnTo>
                  <a:lnTo>
                    <a:pt x="74" y="1408"/>
                  </a:lnTo>
                  <a:lnTo>
                    <a:pt x="74" y="1412"/>
                  </a:lnTo>
                  <a:lnTo>
                    <a:pt x="74" y="1417"/>
                  </a:lnTo>
                  <a:lnTo>
                    <a:pt x="83" y="1421"/>
                  </a:lnTo>
                  <a:lnTo>
                    <a:pt x="85" y="1426"/>
                  </a:lnTo>
                  <a:lnTo>
                    <a:pt x="83" y="1430"/>
                  </a:lnTo>
                  <a:lnTo>
                    <a:pt x="83" y="1435"/>
                  </a:lnTo>
                  <a:lnTo>
                    <a:pt x="81" y="1439"/>
                  </a:lnTo>
                  <a:lnTo>
                    <a:pt x="81" y="1444"/>
                  </a:lnTo>
                  <a:lnTo>
                    <a:pt x="79" y="1448"/>
                  </a:lnTo>
                  <a:lnTo>
                    <a:pt x="77" y="1453"/>
                  </a:lnTo>
                  <a:lnTo>
                    <a:pt x="77" y="1457"/>
                  </a:lnTo>
                  <a:lnTo>
                    <a:pt x="81" y="1462"/>
                  </a:lnTo>
                  <a:lnTo>
                    <a:pt x="83" y="1466"/>
                  </a:lnTo>
                  <a:lnTo>
                    <a:pt x="83" y="1471"/>
                  </a:lnTo>
                  <a:lnTo>
                    <a:pt x="83" y="1475"/>
                  </a:lnTo>
                  <a:lnTo>
                    <a:pt x="81" y="1480"/>
                  </a:lnTo>
                  <a:lnTo>
                    <a:pt x="81" y="1484"/>
                  </a:lnTo>
                  <a:lnTo>
                    <a:pt x="77" y="1489"/>
                  </a:lnTo>
                  <a:lnTo>
                    <a:pt x="79" y="1493"/>
                  </a:lnTo>
                  <a:lnTo>
                    <a:pt x="81" y="1498"/>
                  </a:lnTo>
                  <a:lnTo>
                    <a:pt x="81" y="1502"/>
                  </a:lnTo>
                  <a:lnTo>
                    <a:pt x="81" y="1507"/>
                  </a:lnTo>
                  <a:lnTo>
                    <a:pt x="83" y="1511"/>
                  </a:lnTo>
                  <a:lnTo>
                    <a:pt x="85" y="1516"/>
                  </a:lnTo>
                  <a:lnTo>
                    <a:pt x="87" y="1520"/>
                  </a:lnTo>
                  <a:lnTo>
                    <a:pt x="87" y="1525"/>
                  </a:lnTo>
                  <a:lnTo>
                    <a:pt x="83" y="1529"/>
                  </a:lnTo>
                  <a:lnTo>
                    <a:pt x="79" y="1534"/>
                  </a:lnTo>
                  <a:lnTo>
                    <a:pt x="74" y="1538"/>
                  </a:lnTo>
                  <a:lnTo>
                    <a:pt x="66" y="1543"/>
                  </a:lnTo>
                  <a:lnTo>
                    <a:pt x="45" y="1547"/>
                  </a:lnTo>
                  <a:lnTo>
                    <a:pt x="36" y="1552"/>
                  </a:lnTo>
                  <a:lnTo>
                    <a:pt x="60" y="1556"/>
                  </a:lnTo>
                  <a:lnTo>
                    <a:pt x="34" y="1560"/>
                  </a:lnTo>
                  <a:lnTo>
                    <a:pt x="34" y="1565"/>
                  </a:lnTo>
                  <a:lnTo>
                    <a:pt x="28" y="1569"/>
                  </a:lnTo>
                  <a:lnTo>
                    <a:pt x="26" y="1574"/>
                  </a:lnTo>
                  <a:lnTo>
                    <a:pt x="19" y="1578"/>
                  </a:lnTo>
                  <a:lnTo>
                    <a:pt x="17" y="1583"/>
                  </a:lnTo>
                  <a:lnTo>
                    <a:pt x="15" y="1587"/>
                  </a:lnTo>
                  <a:lnTo>
                    <a:pt x="17" y="1592"/>
                  </a:lnTo>
                  <a:lnTo>
                    <a:pt x="15" y="1596"/>
                  </a:lnTo>
                  <a:lnTo>
                    <a:pt x="13" y="1601"/>
                  </a:lnTo>
                  <a:lnTo>
                    <a:pt x="7" y="1605"/>
                  </a:lnTo>
                  <a:lnTo>
                    <a:pt x="7" y="1610"/>
                  </a:lnTo>
                  <a:lnTo>
                    <a:pt x="2" y="1614"/>
                  </a:lnTo>
                  <a:lnTo>
                    <a:pt x="0" y="1619"/>
                  </a:lnTo>
                  <a:lnTo>
                    <a:pt x="0" y="1623"/>
                  </a:lnTo>
                  <a:lnTo>
                    <a:pt x="0" y="1628"/>
                  </a:lnTo>
                  <a:lnTo>
                    <a:pt x="2" y="1632"/>
                  </a:lnTo>
                  <a:lnTo>
                    <a:pt x="7" y="1637"/>
                  </a:lnTo>
                  <a:lnTo>
                    <a:pt x="4" y="1641"/>
                  </a:lnTo>
                  <a:lnTo>
                    <a:pt x="7" y="1646"/>
                  </a:lnTo>
                  <a:lnTo>
                    <a:pt x="9" y="1650"/>
                  </a:lnTo>
                  <a:lnTo>
                    <a:pt x="11" y="1655"/>
                  </a:lnTo>
                  <a:lnTo>
                    <a:pt x="15" y="1659"/>
                  </a:lnTo>
                  <a:lnTo>
                    <a:pt x="21" y="1664"/>
                  </a:lnTo>
                  <a:lnTo>
                    <a:pt x="26" y="1668"/>
                  </a:lnTo>
                  <a:lnTo>
                    <a:pt x="28" y="1673"/>
                  </a:lnTo>
                  <a:lnTo>
                    <a:pt x="30" y="1677"/>
                  </a:lnTo>
                  <a:lnTo>
                    <a:pt x="30" y="1682"/>
                  </a:lnTo>
                  <a:lnTo>
                    <a:pt x="26" y="1686"/>
                  </a:lnTo>
                  <a:lnTo>
                    <a:pt x="30" y="1691"/>
                  </a:lnTo>
                  <a:lnTo>
                    <a:pt x="30" y="1695"/>
                  </a:lnTo>
                  <a:lnTo>
                    <a:pt x="34" y="1700"/>
                  </a:lnTo>
                  <a:lnTo>
                    <a:pt x="38" y="1704"/>
                  </a:lnTo>
                  <a:lnTo>
                    <a:pt x="41" y="1709"/>
                  </a:lnTo>
                  <a:lnTo>
                    <a:pt x="41" y="1713"/>
                  </a:lnTo>
                  <a:lnTo>
                    <a:pt x="43" y="1718"/>
                  </a:lnTo>
                  <a:lnTo>
                    <a:pt x="47" y="1722"/>
                  </a:lnTo>
                  <a:lnTo>
                    <a:pt x="53" y="1727"/>
                  </a:lnTo>
                  <a:lnTo>
                    <a:pt x="55" y="1731"/>
                  </a:lnTo>
                  <a:lnTo>
                    <a:pt x="60" y="1736"/>
                  </a:lnTo>
                  <a:lnTo>
                    <a:pt x="64" y="1740"/>
                  </a:lnTo>
                  <a:lnTo>
                    <a:pt x="68" y="1745"/>
                  </a:lnTo>
                  <a:lnTo>
                    <a:pt x="77" y="1749"/>
                  </a:lnTo>
                  <a:lnTo>
                    <a:pt x="79" y="1754"/>
                  </a:lnTo>
                  <a:lnTo>
                    <a:pt x="79" y="1758"/>
                  </a:lnTo>
                  <a:lnTo>
                    <a:pt x="79" y="1763"/>
                  </a:lnTo>
                  <a:lnTo>
                    <a:pt x="81" y="1767"/>
                  </a:lnTo>
                  <a:lnTo>
                    <a:pt x="85" y="1772"/>
                  </a:lnTo>
                  <a:lnTo>
                    <a:pt x="87" y="1776"/>
                  </a:lnTo>
                  <a:lnTo>
                    <a:pt x="85" y="1781"/>
                  </a:lnTo>
                  <a:lnTo>
                    <a:pt x="87" y="1785"/>
                  </a:lnTo>
                  <a:lnTo>
                    <a:pt x="83" y="1790"/>
                  </a:lnTo>
                  <a:lnTo>
                    <a:pt x="83" y="1794"/>
                  </a:lnTo>
                  <a:lnTo>
                    <a:pt x="87" y="1799"/>
                  </a:lnTo>
                  <a:lnTo>
                    <a:pt x="89" y="1803"/>
                  </a:lnTo>
                  <a:lnTo>
                    <a:pt x="94" y="1808"/>
                  </a:lnTo>
                  <a:lnTo>
                    <a:pt x="98" y="1812"/>
                  </a:lnTo>
                  <a:lnTo>
                    <a:pt x="98" y="1817"/>
                  </a:lnTo>
                  <a:lnTo>
                    <a:pt x="100" y="1821"/>
                  </a:lnTo>
                  <a:lnTo>
                    <a:pt x="100" y="1826"/>
                  </a:lnTo>
                  <a:lnTo>
                    <a:pt x="100" y="1830"/>
                  </a:lnTo>
                  <a:lnTo>
                    <a:pt x="98" y="1835"/>
                  </a:lnTo>
                  <a:lnTo>
                    <a:pt x="96" y="1839"/>
                  </a:lnTo>
                  <a:lnTo>
                    <a:pt x="94" y="1844"/>
                  </a:lnTo>
                  <a:lnTo>
                    <a:pt x="96" y="1848"/>
                  </a:lnTo>
                  <a:lnTo>
                    <a:pt x="100" y="1853"/>
                  </a:lnTo>
                  <a:lnTo>
                    <a:pt x="100" y="1857"/>
                  </a:lnTo>
                  <a:lnTo>
                    <a:pt x="100" y="1862"/>
                  </a:lnTo>
                  <a:lnTo>
                    <a:pt x="100" y="1866"/>
                  </a:lnTo>
                  <a:lnTo>
                    <a:pt x="96" y="1871"/>
                  </a:lnTo>
                  <a:lnTo>
                    <a:pt x="94" y="1875"/>
                  </a:lnTo>
                  <a:lnTo>
                    <a:pt x="94" y="1880"/>
                  </a:lnTo>
                  <a:lnTo>
                    <a:pt x="96" y="1884"/>
                  </a:lnTo>
                  <a:lnTo>
                    <a:pt x="96" y="1889"/>
                  </a:lnTo>
                  <a:lnTo>
                    <a:pt x="91" y="1893"/>
                  </a:lnTo>
                  <a:lnTo>
                    <a:pt x="81" y="1898"/>
                  </a:lnTo>
                  <a:lnTo>
                    <a:pt x="74" y="1902"/>
                  </a:lnTo>
                  <a:lnTo>
                    <a:pt x="74" y="1907"/>
                  </a:lnTo>
                  <a:lnTo>
                    <a:pt x="79" y="1911"/>
                  </a:lnTo>
                  <a:lnTo>
                    <a:pt x="96" y="1916"/>
                  </a:lnTo>
                  <a:lnTo>
                    <a:pt x="74" y="1920"/>
                  </a:lnTo>
                  <a:lnTo>
                    <a:pt x="70" y="1925"/>
                  </a:lnTo>
                  <a:lnTo>
                    <a:pt x="87" y="1929"/>
                  </a:lnTo>
                  <a:lnTo>
                    <a:pt x="81" y="1934"/>
                  </a:lnTo>
                  <a:lnTo>
                    <a:pt x="79" y="1938"/>
                  </a:lnTo>
                  <a:lnTo>
                    <a:pt x="79" y="1943"/>
                  </a:lnTo>
                  <a:lnTo>
                    <a:pt x="83" y="1947"/>
                  </a:lnTo>
                  <a:lnTo>
                    <a:pt x="85" y="1952"/>
                  </a:lnTo>
                  <a:lnTo>
                    <a:pt x="87" y="1956"/>
                  </a:lnTo>
                  <a:lnTo>
                    <a:pt x="85" y="1961"/>
                  </a:lnTo>
                  <a:lnTo>
                    <a:pt x="85" y="1965"/>
                  </a:lnTo>
                  <a:lnTo>
                    <a:pt x="85" y="1970"/>
                  </a:lnTo>
                  <a:lnTo>
                    <a:pt x="85" y="1974"/>
                  </a:lnTo>
                  <a:lnTo>
                    <a:pt x="83" y="1979"/>
                  </a:lnTo>
                  <a:lnTo>
                    <a:pt x="83" y="1983"/>
                  </a:lnTo>
                  <a:lnTo>
                    <a:pt x="81" y="1988"/>
                  </a:lnTo>
                  <a:lnTo>
                    <a:pt x="70" y="1992"/>
                  </a:lnTo>
                  <a:lnTo>
                    <a:pt x="70" y="1997"/>
                  </a:lnTo>
                  <a:lnTo>
                    <a:pt x="72" y="2001"/>
                  </a:lnTo>
                  <a:lnTo>
                    <a:pt x="72" y="2006"/>
                  </a:lnTo>
                  <a:lnTo>
                    <a:pt x="70" y="2010"/>
                  </a:lnTo>
                  <a:lnTo>
                    <a:pt x="68" y="2015"/>
                  </a:lnTo>
                  <a:lnTo>
                    <a:pt x="68" y="2019"/>
                  </a:lnTo>
                  <a:lnTo>
                    <a:pt x="64" y="2024"/>
                  </a:lnTo>
                  <a:lnTo>
                    <a:pt x="62" y="2028"/>
                  </a:lnTo>
                  <a:lnTo>
                    <a:pt x="62" y="2033"/>
                  </a:lnTo>
                  <a:lnTo>
                    <a:pt x="62" y="2037"/>
                  </a:lnTo>
                  <a:lnTo>
                    <a:pt x="64" y="2042"/>
                  </a:lnTo>
                  <a:lnTo>
                    <a:pt x="64" y="2046"/>
                  </a:lnTo>
                  <a:lnTo>
                    <a:pt x="64" y="2051"/>
                  </a:lnTo>
                  <a:lnTo>
                    <a:pt x="68" y="2055"/>
                  </a:lnTo>
                  <a:lnTo>
                    <a:pt x="74" y="2060"/>
                  </a:lnTo>
                  <a:lnTo>
                    <a:pt x="81" y="2064"/>
                  </a:lnTo>
                  <a:lnTo>
                    <a:pt x="123" y="2069"/>
                  </a:lnTo>
                  <a:lnTo>
                    <a:pt x="136" y="2073"/>
                  </a:lnTo>
                  <a:lnTo>
                    <a:pt x="138" y="2078"/>
                  </a:lnTo>
                  <a:lnTo>
                    <a:pt x="142" y="2082"/>
                  </a:lnTo>
                  <a:lnTo>
                    <a:pt x="145" y="2087"/>
                  </a:lnTo>
                  <a:lnTo>
                    <a:pt x="145" y="2091"/>
                  </a:lnTo>
                  <a:lnTo>
                    <a:pt x="145" y="2096"/>
                  </a:lnTo>
                  <a:lnTo>
                    <a:pt x="145" y="2100"/>
                  </a:lnTo>
                  <a:lnTo>
                    <a:pt x="140" y="2105"/>
                  </a:lnTo>
                  <a:lnTo>
                    <a:pt x="136" y="2109"/>
                  </a:lnTo>
                  <a:lnTo>
                    <a:pt x="132" y="2114"/>
                  </a:lnTo>
                  <a:lnTo>
                    <a:pt x="132" y="2118"/>
                  </a:lnTo>
                  <a:lnTo>
                    <a:pt x="136" y="2123"/>
                  </a:lnTo>
                  <a:lnTo>
                    <a:pt x="157" y="2127"/>
                  </a:lnTo>
                  <a:lnTo>
                    <a:pt x="162" y="2132"/>
                  </a:lnTo>
                  <a:lnTo>
                    <a:pt x="170" y="2136"/>
                  </a:lnTo>
                  <a:lnTo>
                    <a:pt x="168" y="2141"/>
                  </a:lnTo>
                  <a:lnTo>
                    <a:pt x="168" y="2145"/>
                  </a:lnTo>
                  <a:lnTo>
                    <a:pt x="164" y="2150"/>
                  </a:lnTo>
                  <a:lnTo>
                    <a:pt x="162" y="2154"/>
                  </a:lnTo>
                  <a:lnTo>
                    <a:pt x="162" y="2159"/>
                  </a:lnTo>
                  <a:lnTo>
                    <a:pt x="166" y="2163"/>
                  </a:lnTo>
                  <a:lnTo>
                    <a:pt x="170" y="2168"/>
                  </a:lnTo>
                  <a:lnTo>
                    <a:pt x="174" y="2172"/>
                  </a:lnTo>
                  <a:lnTo>
                    <a:pt x="172" y="2177"/>
                  </a:lnTo>
                  <a:lnTo>
                    <a:pt x="166" y="2181"/>
                  </a:lnTo>
                  <a:lnTo>
                    <a:pt x="162" y="2186"/>
                  </a:lnTo>
                  <a:lnTo>
                    <a:pt x="155" y="2190"/>
                  </a:lnTo>
                  <a:lnTo>
                    <a:pt x="153" y="2195"/>
                  </a:lnTo>
                  <a:lnTo>
                    <a:pt x="149" y="2199"/>
                  </a:lnTo>
                  <a:lnTo>
                    <a:pt x="145" y="2204"/>
                  </a:lnTo>
                  <a:lnTo>
                    <a:pt x="142" y="2208"/>
                  </a:lnTo>
                  <a:lnTo>
                    <a:pt x="145" y="2213"/>
                  </a:lnTo>
                  <a:lnTo>
                    <a:pt x="142" y="2217"/>
                  </a:lnTo>
                  <a:lnTo>
                    <a:pt x="149" y="2222"/>
                  </a:lnTo>
                  <a:lnTo>
                    <a:pt x="155" y="2226"/>
                  </a:lnTo>
                  <a:lnTo>
                    <a:pt x="166" y="2231"/>
                  </a:lnTo>
                  <a:lnTo>
                    <a:pt x="176" y="2235"/>
                  </a:lnTo>
                  <a:lnTo>
                    <a:pt x="185" y="2240"/>
                  </a:lnTo>
                  <a:lnTo>
                    <a:pt x="193" y="2244"/>
                  </a:lnTo>
                  <a:lnTo>
                    <a:pt x="193" y="2249"/>
                  </a:lnTo>
                  <a:lnTo>
                    <a:pt x="191" y="2253"/>
                  </a:lnTo>
                  <a:lnTo>
                    <a:pt x="191" y="2258"/>
                  </a:lnTo>
                  <a:lnTo>
                    <a:pt x="193" y="2262"/>
                  </a:lnTo>
                  <a:lnTo>
                    <a:pt x="198" y="2267"/>
                  </a:lnTo>
                  <a:lnTo>
                    <a:pt x="204" y="2271"/>
                  </a:lnTo>
                  <a:lnTo>
                    <a:pt x="206" y="2276"/>
                  </a:lnTo>
                  <a:lnTo>
                    <a:pt x="204" y="2280"/>
                  </a:lnTo>
                  <a:lnTo>
                    <a:pt x="200" y="2285"/>
                  </a:lnTo>
                  <a:lnTo>
                    <a:pt x="189" y="2289"/>
                  </a:lnTo>
                  <a:lnTo>
                    <a:pt x="181" y="2294"/>
                  </a:lnTo>
                  <a:lnTo>
                    <a:pt x="176" y="2298"/>
                  </a:lnTo>
                  <a:lnTo>
                    <a:pt x="174" y="2303"/>
                  </a:lnTo>
                  <a:lnTo>
                    <a:pt x="172" y="2307"/>
                  </a:lnTo>
                  <a:lnTo>
                    <a:pt x="168" y="2312"/>
                  </a:lnTo>
                  <a:lnTo>
                    <a:pt x="166" y="2316"/>
                  </a:lnTo>
                  <a:lnTo>
                    <a:pt x="164" y="2321"/>
                  </a:lnTo>
                  <a:lnTo>
                    <a:pt x="157" y="2325"/>
                  </a:lnTo>
                  <a:lnTo>
                    <a:pt x="157" y="2330"/>
                  </a:lnTo>
                  <a:lnTo>
                    <a:pt x="157" y="2334"/>
                  </a:lnTo>
                  <a:lnTo>
                    <a:pt x="153" y="2339"/>
                  </a:lnTo>
                  <a:lnTo>
                    <a:pt x="151" y="2343"/>
                  </a:lnTo>
                  <a:lnTo>
                    <a:pt x="147" y="2348"/>
                  </a:lnTo>
                  <a:lnTo>
                    <a:pt x="147" y="2352"/>
                  </a:lnTo>
                  <a:lnTo>
                    <a:pt x="147" y="2357"/>
                  </a:lnTo>
                  <a:lnTo>
                    <a:pt x="147" y="2361"/>
                  </a:lnTo>
                  <a:lnTo>
                    <a:pt x="147" y="2366"/>
                  </a:lnTo>
                  <a:lnTo>
                    <a:pt x="145" y="2370"/>
                  </a:lnTo>
                  <a:lnTo>
                    <a:pt x="138" y="2375"/>
                  </a:lnTo>
                  <a:lnTo>
                    <a:pt x="132" y="2379"/>
                  </a:lnTo>
                  <a:lnTo>
                    <a:pt x="132" y="2384"/>
                  </a:lnTo>
                  <a:lnTo>
                    <a:pt x="132" y="2388"/>
                  </a:lnTo>
                  <a:lnTo>
                    <a:pt x="134" y="2393"/>
                  </a:lnTo>
                  <a:lnTo>
                    <a:pt x="136" y="2397"/>
                  </a:lnTo>
                  <a:lnTo>
                    <a:pt x="136" y="2402"/>
                  </a:lnTo>
                  <a:lnTo>
                    <a:pt x="136" y="2406"/>
                  </a:lnTo>
                  <a:lnTo>
                    <a:pt x="138" y="2411"/>
                  </a:lnTo>
                  <a:lnTo>
                    <a:pt x="138" y="2415"/>
                  </a:lnTo>
                  <a:lnTo>
                    <a:pt x="134" y="2420"/>
                  </a:lnTo>
                  <a:lnTo>
                    <a:pt x="147" y="2424"/>
                  </a:lnTo>
                  <a:lnTo>
                    <a:pt x="210" y="2429"/>
                  </a:lnTo>
                  <a:lnTo>
                    <a:pt x="221" y="2433"/>
                  </a:lnTo>
                  <a:lnTo>
                    <a:pt x="221" y="2438"/>
                  </a:lnTo>
                  <a:lnTo>
                    <a:pt x="221" y="2442"/>
                  </a:lnTo>
                  <a:lnTo>
                    <a:pt x="217" y="2447"/>
                  </a:lnTo>
                  <a:lnTo>
                    <a:pt x="213" y="2451"/>
                  </a:lnTo>
                  <a:lnTo>
                    <a:pt x="208" y="2456"/>
                  </a:lnTo>
                  <a:lnTo>
                    <a:pt x="204" y="2460"/>
                  </a:lnTo>
                  <a:lnTo>
                    <a:pt x="185" y="2465"/>
                  </a:lnTo>
                  <a:lnTo>
                    <a:pt x="170" y="2469"/>
                  </a:lnTo>
                  <a:lnTo>
                    <a:pt x="149" y="2474"/>
                  </a:lnTo>
                  <a:lnTo>
                    <a:pt x="108" y="2478"/>
                  </a:lnTo>
                  <a:lnTo>
                    <a:pt x="98" y="2483"/>
                  </a:lnTo>
                  <a:lnTo>
                    <a:pt x="96" y="2487"/>
                  </a:lnTo>
                  <a:lnTo>
                    <a:pt x="96" y="2492"/>
                  </a:lnTo>
                  <a:lnTo>
                    <a:pt x="100" y="2496"/>
                  </a:lnTo>
                  <a:lnTo>
                    <a:pt x="108" y="2501"/>
                  </a:lnTo>
                  <a:lnTo>
                    <a:pt x="115" y="2505"/>
                  </a:lnTo>
                  <a:lnTo>
                    <a:pt x="108" y="2510"/>
                  </a:lnTo>
                  <a:lnTo>
                    <a:pt x="108" y="2514"/>
                  </a:lnTo>
                  <a:lnTo>
                    <a:pt x="111" y="2519"/>
                  </a:lnTo>
                  <a:lnTo>
                    <a:pt x="117" y="2523"/>
                  </a:lnTo>
                  <a:lnTo>
                    <a:pt x="115" y="2528"/>
                  </a:lnTo>
                  <a:lnTo>
                    <a:pt x="123" y="2532"/>
                  </a:lnTo>
                  <a:lnTo>
                    <a:pt x="123" y="2537"/>
                  </a:lnTo>
                  <a:lnTo>
                    <a:pt x="123" y="2541"/>
                  </a:lnTo>
                  <a:lnTo>
                    <a:pt x="123" y="2546"/>
                  </a:lnTo>
                  <a:lnTo>
                    <a:pt x="121" y="2550"/>
                  </a:lnTo>
                  <a:lnTo>
                    <a:pt x="113" y="2555"/>
                  </a:lnTo>
                  <a:lnTo>
                    <a:pt x="102" y="2559"/>
                  </a:lnTo>
                  <a:lnTo>
                    <a:pt x="98" y="2564"/>
                  </a:lnTo>
                  <a:lnTo>
                    <a:pt x="89" y="2568"/>
                  </a:lnTo>
                  <a:lnTo>
                    <a:pt x="94" y="2573"/>
                  </a:lnTo>
                  <a:lnTo>
                    <a:pt x="102" y="2577"/>
                  </a:lnTo>
                  <a:lnTo>
                    <a:pt x="102" y="2582"/>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9" name="Freeform 296"/>
          <p:cNvSpPr/>
          <p:nvPr/>
        </p:nvSpPr>
        <p:spPr>
          <a:xfrm>
            <a:off x="3416400" y="2157480"/>
            <a:ext cx="760320" cy="4379760"/>
          </a:xfrm>
          <a:custGeom>
            <a:avLst/>
            <a:gdLst>
              <a:gd name="textAreaLeft" fmla="*/ 0 w 760320"/>
              <a:gd name="textAreaRight" fmla="*/ 760680 w 760320"/>
              <a:gd name="textAreaTop" fmla="*/ 0 h 4379760"/>
              <a:gd name="textAreaBottom" fmla="*/ 4380120 h 4379760"/>
            </a:gdLst>
            <a:ahLst/>
            <a:rect l="textAreaLeft" t="textAreaTop" r="textAreaRight" b="textAreaBottom"/>
            <a:pathLst>
              <a:path w="450" h="2582">
                <a:moveTo>
                  <a:pt x="0" y="0"/>
                </a:moveTo>
                <a:lnTo>
                  <a:pt x="0" y="4"/>
                </a:lnTo>
                <a:lnTo>
                  <a:pt x="0" y="9"/>
                </a:lnTo>
                <a:lnTo>
                  <a:pt x="0" y="13"/>
                </a:lnTo>
                <a:lnTo>
                  <a:pt x="0" y="18"/>
                </a:lnTo>
                <a:lnTo>
                  <a:pt x="0" y="22"/>
                </a:lnTo>
                <a:lnTo>
                  <a:pt x="0" y="27"/>
                </a:lnTo>
                <a:lnTo>
                  <a:pt x="0" y="31"/>
                </a:lnTo>
                <a:lnTo>
                  <a:pt x="0" y="36"/>
                </a:lnTo>
                <a:lnTo>
                  <a:pt x="0" y="40"/>
                </a:lnTo>
                <a:lnTo>
                  <a:pt x="0" y="45"/>
                </a:lnTo>
                <a:lnTo>
                  <a:pt x="0" y="49"/>
                </a:lnTo>
                <a:lnTo>
                  <a:pt x="0" y="54"/>
                </a:lnTo>
                <a:lnTo>
                  <a:pt x="0" y="58"/>
                </a:lnTo>
                <a:lnTo>
                  <a:pt x="0" y="63"/>
                </a:lnTo>
                <a:lnTo>
                  <a:pt x="0" y="67"/>
                </a:lnTo>
                <a:lnTo>
                  <a:pt x="0" y="72"/>
                </a:lnTo>
                <a:lnTo>
                  <a:pt x="0" y="76"/>
                </a:lnTo>
                <a:lnTo>
                  <a:pt x="0" y="81"/>
                </a:lnTo>
                <a:lnTo>
                  <a:pt x="0" y="85"/>
                </a:lnTo>
                <a:lnTo>
                  <a:pt x="0" y="90"/>
                </a:lnTo>
                <a:lnTo>
                  <a:pt x="0" y="94"/>
                </a:lnTo>
                <a:lnTo>
                  <a:pt x="0" y="99"/>
                </a:lnTo>
                <a:lnTo>
                  <a:pt x="0" y="103"/>
                </a:lnTo>
                <a:lnTo>
                  <a:pt x="0" y="108"/>
                </a:lnTo>
                <a:lnTo>
                  <a:pt x="0" y="112"/>
                </a:lnTo>
                <a:lnTo>
                  <a:pt x="0" y="117"/>
                </a:lnTo>
                <a:lnTo>
                  <a:pt x="0" y="121"/>
                </a:lnTo>
                <a:lnTo>
                  <a:pt x="0" y="126"/>
                </a:lnTo>
                <a:lnTo>
                  <a:pt x="0" y="130"/>
                </a:lnTo>
                <a:lnTo>
                  <a:pt x="0" y="135"/>
                </a:lnTo>
                <a:lnTo>
                  <a:pt x="0" y="139"/>
                </a:lnTo>
                <a:lnTo>
                  <a:pt x="0" y="144"/>
                </a:lnTo>
                <a:lnTo>
                  <a:pt x="0" y="148"/>
                </a:lnTo>
                <a:lnTo>
                  <a:pt x="0" y="153"/>
                </a:lnTo>
                <a:lnTo>
                  <a:pt x="0" y="157"/>
                </a:lnTo>
                <a:lnTo>
                  <a:pt x="0" y="162"/>
                </a:lnTo>
                <a:lnTo>
                  <a:pt x="0" y="166"/>
                </a:lnTo>
                <a:lnTo>
                  <a:pt x="0" y="171"/>
                </a:lnTo>
                <a:lnTo>
                  <a:pt x="0" y="175"/>
                </a:lnTo>
                <a:lnTo>
                  <a:pt x="0" y="180"/>
                </a:lnTo>
                <a:lnTo>
                  <a:pt x="0" y="184"/>
                </a:lnTo>
                <a:lnTo>
                  <a:pt x="0" y="189"/>
                </a:lnTo>
                <a:lnTo>
                  <a:pt x="0" y="193"/>
                </a:lnTo>
                <a:lnTo>
                  <a:pt x="96" y="198"/>
                </a:lnTo>
                <a:lnTo>
                  <a:pt x="276" y="202"/>
                </a:lnTo>
                <a:lnTo>
                  <a:pt x="287" y="207"/>
                </a:lnTo>
                <a:lnTo>
                  <a:pt x="283" y="211"/>
                </a:lnTo>
                <a:lnTo>
                  <a:pt x="278" y="216"/>
                </a:lnTo>
                <a:lnTo>
                  <a:pt x="278" y="220"/>
                </a:lnTo>
                <a:lnTo>
                  <a:pt x="285" y="225"/>
                </a:lnTo>
                <a:lnTo>
                  <a:pt x="293" y="229"/>
                </a:lnTo>
                <a:lnTo>
                  <a:pt x="300" y="234"/>
                </a:lnTo>
                <a:lnTo>
                  <a:pt x="302" y="238"/>
                </a:lnTo>
                <a:lnTo>
                  <a:pt x="310" y="243"/>
                </a:lnTo>
                <a:lnTo>
                  <a:pt x="312" y="247"/>
                </a:lnTo>
                <a:lnTo>
                  <a:pt x="314" y="252"/>
                </a:lnTo>
                <a:lnTo>
                  <a:pt x="319" y="256"/>
                </a:lnTo>
                <a:lnTo>
                  <a:pt x="325" y="261"/>
                </a:lnTo>
                <a:lnTo>
                  <a:pt x="333" y="265"/>
                </a:lnTo>
                <a:lnTo>
                  <a:pt x="336" y="270"/>
                </a:lnTo>
                <a:lnTo>
                  <a:pt x="336" y="274"/>
                </a:lnTo>
                <a:lnTo>
                  <a:pt x="338" y="279"/>
                </a:lnTo>
                <a:lnTo>
                  <a:pt x="336" y="283"/>
                </a:lnTo>
                <a:lnTo>
                  <a:pt x="333" y="288"/>
                </a:lnTo>
                <a:lnTo>
                  <a:pt x="325" y="292"/>
                </a:lnTo>
                <a:lnTo>
                  <a:pt x="323" y="297"/>
                </a:lnTo>
                <a:lnTo>
                  <a:pt x="323" y="301"/>
                </a:lnTo>
                <a:lnTo>
                  <a:pt x="323" y="306"/>
                </a:lnTo>
                <a:lnTo>
                  <a:pt x="327" y="310"/>
                </a:lnTo>
                <a:lnTo>
                  <a:pt x="333" y="315"/>
                </a:lnTo>
                <a:lnTo>
                  <a:pt x="333" y="319"/>
                </a:lnTo>
                <a:lnTo>
                  <a:pt x="333" y="324"/>
                </a:lnTo>
                <a:lnTo>
                  <a:pt x="340" y="328"/>
                </a:lnTo>
                <a:lnTo>
                  <a:pt x="340" y="333"/>
                </a:lnTo>
                <a:lnTo>
                  <a:pt x="340" y="337"/>
                </a:lnTo>
                <a:lnTo>
                  <a:pt x="338" y="342"/>
                </a:lnTo>
                <a:lnTo>
                  <a:pt x="333" y="346"/>
                </a:lnTo>
                <a:lnTo>
                  <a:pt x="327" y="351"/>
                </a:lnTo>
                <a:lnTo>
                  <a:pt x="323" y="355"/>
                </a:lnTo>
                <a:lnTo>
                  <a:pt x="323" y="360"/>
                </a:lnTo>
                <a:lnTo>
                  <a:pt x="317" y="364"/>
                </a:lnTo>
                <a:lnTo>
                  <a:pt x="314" y="369"/>
                </a:lnTo>
                <a:lnTo>
                  <a:pt x="312" y="373"/>
                </a:lnTo>
                <a:lnTo>
                  <a:pt x="302" y="378"/>
                </a:lnTo>
                <a:lnTo>
                  <a:pt x="297" y="382"/>
                </a:lnTo>
                <a:lnTo>
                  <a:pt x="280" y="387"/>
                </a:lnTo>
                <a:lnTo>
                  <a:pt x="272" y="391"/>
                </a:lnTo>
                <a:lnTo>
                  <a:pt x="259" y="396"/>
                </a:lnTo>
                <a:lnTo>
                  <a:pt x="221" y="400"/>
                </a:lnTo>
                <a:lnTo>
                  <a:pt x="206" y="405"/>
                </a:lnTo>
                <a:lnTo>
                  <a:pt x="200" y="409"/>
                </a:lnTo>
                <a:lnTo>
                  <a:pt x="202" y="414"/>
                </a:lnTo>
                <a:lnTo>
                  <a:pt x="206" y="418"/>
                </a:lnTo>
                <a:lnTo>
                  <a:pt x="212" y="423"/>
                </a:lnTo>
                <a:lnTo>
                  <a:pt x="215" y="427"/>
                </a:lnTo>
                <a:lnTo>
                  <a:pt x="219" y="432"/>
                </a:lnTo>
                <a:lnTo>
                  <a:pt x="221" y="436"/>
                </a:lnTo>
                <a:lnTo>
                  <a:pt x="223" y="441"/>
                </a:lnTo>
                <a:lnTo>
                  <a:pt x="223" y="445"/>
                </a:lnTo>
                <a:lnTo>
                  <a:pt x="223" y="450"/>
                </a:lnTo>
                <a:lnTo>
                  <a:pt x="225" y="454"/>
                </a:lnTo>
                <a:lnTo>
                  <a:pt x="223" y="459"/>
                </a:lnTo>
                <a:lnTo>
                  <a:pt x="215" y="463"/>
                </a:lnTo>
                <a:lnTo>
                  <a:pt x="210" y="468"/>
                </a:lnTo>
                <a:lnTo>
                  <a:pt x="210" y="472"/>
                </a:lnTo>
                <a:lnTo>
                  <a:pt x="208" y="477"/>
                </a:lnTo>
                <a:lnTo>
                  <a:pt x="212" y="481"/>
                </a:lnTo>
                <a:lnTo>
                  <a:pt x="210" y="486"/>
                </a:lnTo>
                <a:lnTo>
                  <a:pt x="208" y="490"/>
                </a:lnTo>
                <a:lnTo>
                  <a:pt x="208" y="495"/>
                </a:lnTo>
                <a:lnTo>
                  <a:pt x="195" y="499"/>
                </a:lnTo>
                <a:lnTo>
                  <a:pt x="191" y="504"/>
                </a:lnTo>
                <a:lnTo>
                  <a:pt x="189" y="508"/>
                </a:lnTo>
                <a:lnTo>
                  <a:pt x="198" y="512"/>
                </a:lnTo>
                <a:lnTo>
                  <a:pt x="208" y="517"/>
                </a:lnTo>
                <a:lnTo>
                  <a:pt x="206" y="521"/>
                </a:lnTo>
                <a:lnTo>
                  <a:pt x="185" y="526"/>
                </a:lnTo>
                <a:lnTo>
                  <a:pt x="170" y="530"/>
                </a:lnTo>
                <a:lnTo>
                  <a:pt x="166" y="535"/>
                </a:lnTo>
                <a:lnTo>
                  <a:pt x="164" y="539"/>
                </a:lnTo>
                <a:lnTo>
                  <a:pt x="164" y="544"/>
                </a:lnTo>
                <a:lnTo>
                  <a:pt x="166" y="548"/>
                </a:lnTo>
                <a:lnTo>
                  <a:pt x="178" y="553"/>
                </a:lnTo>
                <a:lnTo>
                  <a:pt x="183" y="557"/>
                </a:lnTo>
                <a:lnTo>
                  <a:pt x="185" y="562"/>
                </a:lnTo>
                <a:lnTo>
                  <a:pt x="187" y="566"/>
                </a:lnTo>
                <a:lnTo>
                  <a:pt x="193" y="571"/>
                </a:lnTo>
                <a:lnTo>
                  <a:pt x="198" y="575"/>
                </a:lnTo>
                <a:lnTo>
                  <a:pt x="204" y="580"/>
                </a:lnTo>
                <a:lnTo>
                  <a:pt x="208" y="584"/>
                </a:lnTo>
                <a:lnTo>
                  <a:pt x="208" y="589"/>
                </a:lnTo>
                <a:lnTo>
                  <a:pt x="208" y="593"/>
                </a:lnTo>
                <a:lnTo>
                  <a:pt x="208" y="598"/>
                </a:lnTo>
                <a:lnTo>
                  <a:pt x="215" y="602"/>
                </a:lnTo>
                <a:lnTo>
                  <a:pt x="223" y="607"/>
                </a:lnTo>
                <a:lnTo>
                  <a:pt x="227" y="611"/>
                </a:lnTo>
                <a:lnTo>
                  <a:pt x="232" y="616"/>
                </a:lnTo>
                <a:lnTo>
                  <a:pt x="236" y="620"/>
                </a:lnTo>
                <a:lnTo>
                  <a:pt x="238" y="625"/>
                </a:lnTo>
                <a:lnTo>
                  <a:pt x="238" y="629"/>
                </a:lnTo>
                <a:lnTo>
                  <a:pt x="236" y="634"/>
                </a:lnTo>
                <a:lnTo>
                  <a:pt x="232" y="638"/>
                </a:lnTo>
                <a:lnTo>
                  <a:pt x="232" y="643"/>
                </a:lnTo>
                <a:lnTo>
                  <a:pt x="232" y="647"/>
                </a:lnTo>
                <a:lnTo>
                  <a:pt x="232" y="652"/>
                </a:lnTo>
                <a:lnTo>
                  <a:pt x="236" y="656"/>
                </a:lnTo>
                <a:lnTo>
                  <a:pt x="238" y="661"/>
                </a:lnTo>
                <a:lnTo>
                  <a:pt x="234" y="665"/>
                </a:lnTo>
                <a:lnTo>
                  <a:pt x="232" y="670"/>
                </a:lnTo>
                <a:lnTo>
                  <a:pt x="225" y="674"/>
                </a:lnTo>
                <a:lnTo>
                  <a:pt x="225" y="679"/>
                </a:lnTo>
                <a:lnTo>
                  <a:pt x="221" y="683"/>
                </a:lnTo>
                <a:lnTo>
                  <a:pt x="225" y="688"/>
                </a:lnTo>
                <a:lnTo>
                  <a:pt x="225" y="692"/>
                </a:lnTo>
                <a:lnTo>
                  <a:pt x="221" y="697"/>
                </a:lnTo>
                <a:lnTo>
                  <a:pt x="219" y="701"/>
                </a:lnTo>
                <a:lnTo>
                  <a:pt x="215" y="706"/>
                </a:lnTo>
                <a:lnTo>
                  <a:pt x="215" y="710"/>
                </a:lnTo>
                <a:lnTo>
                  <a:pt x="215" y="715"/>
                </a:lnTo>
                <a:lnTo>
                  <a:pt x="215" y="719"/>
                </a:lnTo>
                <a:lnTo>
                  <a:pt x="217" y="724"/>
                </a:lnTo>
                <a:lnTo>
                  <a:pt x="219" y="728"/>
                </a:lnTo>
                <a:lnTo>
                  <a:pt x="221" y="733"/>
                </a:lnTo>
                <a:lnTo>
                  <a:pt x="225" y="737"/>
                </a:lnTo>
                <a:lnTo>
                  <a:pt x="227" y="742"/>
                </a:lnTo>
                <a:lnTo>
                  <a:pt x="225" y="746"/>
                </a:lnTo>
                <a:lnTo>
                  <a:pt x="223" y="751"/>
                </a:lnTo>
                <a:lnTo>
                  <a:pt x="210" y="755"/>
                </a:lnTo>
                <a:lnTo>
                  <a:pt x="200" y="760"/>
                </a:lnTo>
                <a:lnTo>
                  <a:pt x="187" y="764"/>
                </a:lnTo>
                <a:lnTo>
                  <a:pt x="176" y="769"/>
                </a:lnTo>
                <a:lnTo>
                  <a:pt x="174" y="773"/>
                </a:lnTo>
                <a:lnTo>
                  <a:pt x="176" y="778"/>
                </a:lnTo>
                <a:lnTo>
                  <a:pt x="181" y="782"/>
                </a:lnTo>
                <a:lnTo>
                  <a:pt x="189" y="787"/>
                </a:lnTo>
                <a:lnTo>
                  <a:pt x="195" y="791"/>
                </a:lnTo>
                <a:lnTo>
                  <a:pt x="198" y="796"/>
                </a:lnTo>
                <a:lnTo>
                  <a:pt x="195" y="800"/>
                </a:lnTo>
                <a:lnTo>
                  <a:pt x="187" y="805"/>
                </a:lnTo>
                <a:lnTo>
                  <a:pt x="176" y="809"/>
                </a:lnTo>
                <a:lnTo>
                  <a:pt x="172" y="814"/>
                </a:lnTo>
                <a:lnTo>
                  <a:pt x="168" y="818"/>
                </a:lnTo>
                <a:lnTo>
                  <a:pt x="164" y="823"/>
                </a:lnTo>
                <a:lnTo>
                  <a:pt x="159" y="827"/>
                </a:lnTo>
                <a:lnTo>
                  <a:pt x="159" y="832"/>
                </a:lnTo>
                <a:lnTo>
                  <a:pt x="138" y="836"/>
                </a:lnTo>
                <a:lnTo>
                  <a:pt x="132" y="841"/>
                </a:lnTo>
                <a:lnTo>
                  <a:pt x="110" y="845"/>
                </a:lnTo>
                <a:lnTo>
                  <a:pt x="83" y="850"/>
                </a:lnTo>
                <a:lnTo>
                  <a:pt x="74" y="854"/>
                </a:lnTo>
                <a:lnTo>
                  <a:pt x="70" y="859"/>
                </a:lnTo>
                <a:lnTo>
                  <a:pt x="72" y="863"/>
                </a:lnTo>
                <a:lnTo>
                  <a:pt x="79" y="868"/>
                </a:lnTo>
                <a:lnTo>
                  <a:pt x="87" y="872"/>
                </a:lnTo>
                <a:lnTo>
                  <a:pt x="98" y="877"/>
                </a:lnTo>
                <a:lnTo>
                  <a:pt x="102" y="881"/>
                </a:lnTo>
                <a:lnTo>
                  <a:pt x="110" y="886"/>
                </a:lnTo>
                <a:lnTo>
                  <a:pt x="132" y="890"/>
                </a:lnTo>
                <a:lnTo>
                  <a:pt x="159" y="895"/>
                </a:lnTo>
                <a:lnTo>
                  <a:pt x="176" y="899"/>
                </a:lnTo>
                <a:lnTo>
                  <a:pt x="183" y="904"/>
                </a:lnTo>
                <a:lnTo>
                  <a:pt x="204" y="908"/>
                </a:lnTo>
                <a:lnTo>
                  <a:pt x="215" y="913"/>
                </a:lnTo>
                <a:lnTo>
                  <a:pt x="221" y="917"/>
                </a:lnTo>
                <a:lnTo>
                  <a:pt x="225" y="922"/>
                </a:lnTo>
                <a:lnTo>
                  <a:pt x="240" y="926"/>
                </a:lnTo>
                <a:lnTo>
                  <a:pt x="246" y="931"/>
                </a:lnTo>
                <a:lnTo>
                  <a:pt x="251" y="935"/>
                </a:lnTo>
                <a:lnTo>
                  <a:pt x="259" y="940"/>
                </a:lnTo>
                <a:lnTo>
                  <a:pt x="257" y="944"/>
                </a:lnTo>
                <a:lnTo>
                  <a:pt x="253" y="949"/>
                </a:lnTo>
                <a:lnTo>
                  <a:pt x="240" y="953"/>
                </a:lnTo>
                <a:lnTo>
                  <a:pt x="227" y="958"/>
                </a:lnTo>
                <a:lnTo>
                  <a:pt x="223" y="962"/>
                </a:lnTo>
                <a:lnTo>
                  <a:pt x="223" y="967"/>
                </a:lnTo>
                <a:lnTo>
                  <a:pt x="221" y="971"/>
                </a:lnTo>
                <a:lnTo>
                  <a:pt x="219" y="976"/>
                </a:lnTo>
                <a:lnTo>
                  <a:pt x="206" y="980"/>
                </a:lnTo>
                <a:lnTo>
                  <a:pt x="193" y="985"/>
                </a:lnTo>
                <a:lnTo>
                  <a:pt x="187" y="989"/>
                </a:lnTo>
                <a:lnTo>
                  <a:pt x="183" y="994"/>
                </a:lnTo>
                <a:lnTo>
                  <a:pt x="185" y="998"/>
                </a:lnTo>
                <a:lnTo>
                  <a:pt x="198" y="1003"/>
                </a:lnTo>
                <a:lnTo>
                  <a:pt x="236" y="1007"/>
                </a:lnTo>
                <a:lnTo>
                  <a:pt x="312" y="1012"/>
                </a:lnTo>
                <a:lnTo>
                  <a:pt x="357" y="1016"/>
                </a:lnTo>
                <a:lnTo>
                  <a:pt x="372" y="1021"/>
                </a:lnTo>
                <a:lnTo>
                  <a:pt x="387" y="1025"/>
                </a:lnTo>
                <a:lnTo>
                  <a:pt x="391" y="1030"/>
                </a:lnTo>
                <a:lnTo>
                  <a:pt x="414" y="1034"/>
                </a:lnTo>
                <a:lnTo>
                  <a:pt x="433" y="1039"/>
                </a:lnTo>
                <a:lnTo>
                  <a:pt x="435" y="1043"/>
                </a:lnTo>
                <a:lnTo>
                  <a:pt x="433" y="1048"/>
                </a:lnTo>
                <a:lnTo>
                  <a:pt x="433" y="1052"/>
                </a:lnTo>
                <a:lnTo>
                  <a:pt x="431" y="1057"/>
                </a:lnTo>
                <a:lnTo>
                  <a:pt x="425" y="1061"/>
                </a:lnTo>
                <a:lnTo>
                  <a:pt x="423" y="1066"/>
                </a:lnTo>
                <a:lnTo>
                  <a:pt x="410" y="1070"/>
                </a:lnTo>
                <a:lnTo>
                  <a:pt x="406" y="1075"/>
                </a:lnTo>
                <a:lnTo>
                  <a:pt x="391" y="1079"/>
                </a:lnTo>
                <a:lnTo>
                  <a:pt x="376" y="1084"/>
                </a:lnTo>
                <a:lnTo>
                  <a:pt x="378" y="1088"/>
                </a:lnTo>
                <a:lnTo>
                  <a:pt x="382" y="1093"/>
                </a:lnTo>
                <a:lnTo>
                  <a:pt x="389" y="1097"/>
                </a:lnTo>
                <a:lnTo>
                  <a:pt x="393" y="1102"/>
                </a:lnTo>
                <a:lnTo>
                  <a:pt x="399" y="1106"/>
                </a:lnTo>
                <a:lnTo>
                  <a:pt x="404" y="1111"/>
                </a:lnTo>
                <a:lnTo>
                  <a:pt x="408" y="1115"/>
                </a:lnTo>
                <a:lnTo>
                  <a:pt x="410" y="1120"/>
                </a:lnTo>
                <a:lnTo>
                  <a:pt x="421" y="1124"/>
                </a:lnTo>
                <a:lnTo>
                  <a:pt x="423" y="1129"/>
                </a:lnTo>
                <a:lnTo>
                  <a:pt x="423" y="1133"/>
                </a:lnTo>
                <a:lnTo>
                  <a:pt x="421" y="1138"/>
                </a:lnTo>
                <a:lnTo>
                  <a:pt x="408" y="1142"/>
                </a:lnTo>
                <a:lnTo>
                  <a:pt x="397" y="1147"/>
                </a:lnTo>
                <a:lnTo>
                  <a:pt x="393" y="1151"/>
                </a:lnTo>
                <a:lnTo>
                  <a:pt x="391" y="1156"/>
                </a:lnTo>
                <a:lnTo>
                  <a:pt x="384" y="1160"/>
                </a:lnTo>
                <a:lnTo>
                  <a:pt x="384" y="1165"/>
                </a:lnTo>
                <a:lnTo>
                  <a:pt x="391" y="1169"/>
                </a:lnTo>
                <a:lnTo>
                  <a:pt x="395" y="1174"/>
                </a:lnTo>
                <a:lnTo>
                  <a:pt x="401" y="1178"/>
                </a:lnTo>
                <a:lnTo>
                  <a:pt x="410" y="1183"/>
                </a:lnTo>
                <a:lnTo>
                  <a:pt x="423" y="1187"/>
                </a:lnTo>
                <a:lnTo>
                  <a:pt x="431" y="1192"/>
                </a:lnTo>
                <a:lnTo>
                  <a:pt x="444" y="1196"/>
                </a:lnTo>
                <a:lnTo>
                  <a:pt x="450" y="1201"/>
                </a:lnTo>
                <a:lnTo>
                  <a:pt x="442" y="1205"/>
                </a:lnTo>
                <a:lnTo>
                  <a:pt x="408" y="1210"/>
                </a:lnTo>
                <a:lnTo>
                  <a:pt x="378" y="1214"/>
                </a:lnTo>
                <a:lnTo>
                  <a:pt x="348" y="1219"/>
                </a:lnTo>
                <a:lnTo>
                  <a:pt x="323" y="1223"/>
                </a:lnTo>
                <a:lnTo>
                  <a:pt x="304" y="1228"/>
                </a:lnTo>
                <a:lnTo>
                  <a:pt x="291" y="1232"/>
                </a:lnTo>
                <a:lnTo>
                  <a:pt x="276" y="1237"/>
                </a:lnTo>
                <a:lnTo>
                  <a:pt x="270" y="1241"/>
                </a:lnTo>
                <a:lnTo>
                  <a:pt x="266" y="1246"/>
                </a:lnTo>
                <a:lnTo>
                  <a:pt x="268" y="1250"/>
                </a:lnTo>
                <a:lnTo>
                  <a:pt x="272" y="1255"/>
                </a:lnTo>
                <a:lnTo>
                  <a:pt x="276" y="1259"/>
                </a:lnTo>
                <a:lnTo>
                  <a:pt x="283" y="1264"/>
                </a:lnTo>
                <a:lnTo>
                  <a:pt x="287" y="1268"/>
                </a:lnTo>
                <a:lnTo>
                  <a:pt x="291" y="1273"/>
                </a:lnTo>
                <a:lnTo>
                  <a:pt x="287" y="1277"/>
                </a:lnTo>
                <a:lnTo>
                  <a:pt x="276" y="1282"/>
                </a:lnTo>
                <a:lnTo>
                  <a:pt x="266" y="1286"/>
                </a:lnTo>
                <a:lnTo>
                  <a:pt x="261" y="1291"/>
                </a:lnTo>
                <a:lnTo>
                  <a:pt x="242" y="1295"/>
                </a:lnTo>
                <a:lnTo>
                  <a:pt x="238" y="1300"/>
                </a:lnTo>
                <a:lnTo>
                  <a:pt x="238" y="1304"/>
                </a:lnTo>
                <a:lnTo>
                  <a:pt x="242" y="1309"/>
                </a:lnTo>
                <a:lnTo>
                  <a:pt x="244" y="1313"/>
                </a:lnTo>
                <a:lnTo>
                  <a:pt x="246" y="1318"/>
                </a:lnTo>
                <a:lnTo>
                  <a:pt x="251" y="1322"/>
                </a:lnTo>
                <a:lnTo>
                  <a:pt x="253" y="1327"/>
                </a:lnTo>
                <a:lnTo>
                  <a:pt x="255" y="1331"/>
                </a:lnTo>
                <a:lnTo>
                  <a:pt x="255" y="1336"/>
                </a:lnTo>
                <a:lnTo>
                  <a:pt x="246" y="1340"/>
                </a:lnTo>
                <a:lnTo>
                  <a:pt x="242" y="1345"/>
                </a:lnTo>
                <a:lnTo>
                  <a:pt x="229" y="1349"/>
                </a:lnTo>
                <a:lnTo>
                  <a:pt x="223" y="1354"/>
                </a:lnTo>
                <a:lnTo>
                  <a:pt x="219" y="1358"/>
                </a:lnTo>
                <a:lnTo>
                  <a:pt x="217" y="1363"/>
                </a:lnTo>
                <a:lnTo>
                  <a:pt x="212" y="1367"/>
                </a:lnTo>
                <a:lnTo>
                  <a:pt x="215" y="1372"/>
                </a:lnTo>
                <a:lnTo>
                  <a:pt x="217" y="1376"/>
                </a:lnTo>
                <a:lnTo>
                  <a:pt x="219" y="1381"/>
                </a:lnTo>
                <a:lnTo>
                  <a:pt x="219" y="1385"/>
                </a:lnTo>
                <a:lnTo>
                  <a:pt x="217" y="1390"/>
                </a:lnTo>
                <a:lnTo>
                  <a:pt x="215" y="1394"/>
                </a:lnTo>
                <a:lnTo>
                  <a:pt x="215" y="1399"/>
                </a:lnTo>
                <a:lnTo>
                  <a:pt x="212" y="1403"/>
                </a:lnTo>
                <a:lnTo>
                  <a:pt x="212" y="1408"/>
                </a:lnTo>
                <a:lnTo>
                  <a:pt x="215" y="1412"/>
                </a:lnTo>
                <a:lnTo>
                  <a:pt x="215" y="1417"/>
                </a:lnTo>
                <a:lnTo>
                  <a:pt x="219" y="1421"/>
                </a:lnTo>
                <a:lnTo>
                  <a:pt x="221" y="1426"/>
                </a:lnTo>
                <a:lnTo>
                  <a:pt x="221" y="1430"/>
                </a:lnTo>
                <a:lnTo>
                  <a:pt x="221" y="1435"/>
                </a:lnTo>
                <a:lnTo>
                  <a:pt x="219" y="1439"/>
                </a:lnTo>
                <a:lnTo>
                  <a:pt x="217" y="1444"/>
                </a:lnTo>
                <a:lnTo>
                  <a:pt x="217" y="1448"/>
                </a:lnTo>
                <a:lnTo>
                  <a:pt x="219" y="1453"/>
                </a:lnTo>
                <a:lnTo>
                  <a:pt x="221" y="1457"/>
                </a:lnTo>
                <a:lnTo>
                  <a:pt x="223" y="1462"/>
                </a:lnTo>
                <a:lnTo>
                  <a:pt x="223" y="1466"/>
                </a:lnTo>
                <a:lnTo>
                  <a:pt x="223" y="1471"/>
                </a:lnTo>
                <a:lnTo>
                  <a:pt x="223" y="1475"/>
                </a:lnTo>
                <a:lnTo>
                  <a:pt x="223" y="1480"/>
                </a:lnTo>
                <a:lnTo>
                  <a:pt x="223" y="1484"/>
                </a:lnTo>
                <a:lnTo>
                  <a:pt x="221" y="1489"/>
                </a:lnTo>
                <a:lnTo>
                  <a:pt x="215" y="1493"/>
                </a:lnTo>
                <a:lnTo>
                  <a:pt x="206" y="1498"/>
                </a:lnTo>
                <a:lnTo>
                  <a:pt x="200" y="1502"/>
                </a:lnTo>
                <a:lnTo>
                  <a:pt x="200" y="1507"/>
                </a:lnTo>
                <a:lnTo>
                  <a:pt x="202" y="1511"/>
                </a:lnTo>
                <a:lnTo>
                  <a:pt x="206" y="1516"/>
                </a:lnTo>
                <a:lnTo>
                  <a:pt x="210" y="1520"/>
                </a:lnTo>
                <a:lnTo>
                  <a:pt x="223" y="1525"/>
                </a:lnTo>
                <a:lnTo>
                  <a:pt x="229" y="1529"/>
                </a:lnTo>
                <a:lnTo>
                  <a:pt x="229" y="1534"/>
                </a:lnTo>
                <a:lnTo>
                  <a:pt x="229" y="1538"/>
                </a:lnTo>
                <a:lnTo>
                  <a:pt x="225" y="1543"/>
                </a:lnTo>
                <a:lnTo>
                  <a:pt x="168" y="1547"/>
                </a:lnTo>
                <a:lnTo>
                  <a:pt x="155" y="1552"/>
                </a:lnTo>
                <a:lnTo>
                  <a:pt x="153" y="1556"/>
                </a:lnTo>
                <a:lnTo>
                  <a:pt x="149" y="1560"/>
                </a:lnTo>
                <a:lnTo>
                  <a:pt x="144" y="1565"/>
                </a:lnTo>
                <a:lnTo>
                  <a:pt x="144" y="1569"/>
                </a:lnTo>
                <a:lnTo>
                  <a:pt x="144" y="1574"/>
                </a:lnTo>
                <a:lnTo>
                  <a:pt x="144" y="1578"/>
                </a:lnTo>
                <a:lnTo>
                  <a:pt x="142" y="1583"/>
                </a:lnTo>
                <a:lnTo>
                  <a:pt x="142" y="1587"/>
                </a:lnTo>
                <a:lnTo>
                  <a:pt x="140" y="1592"/>
                </a:lnTo>
                <a:lnTo>
                  <a:pt x="138" y="1596"/>
                </a:lnTo>
                <a:lnTo>
                  <a:pt x="132" y="1601"/>
                </a:lnTo>
                <a:lnTo>
                  <a:pt x="125" y="1605"/>
                </a:lnTo>
                <a:lnTo>
                  <a:pt x="123" y="1610"/>
                </a:lnTo>
                <a:lnTo>
                  <a:pt x="123" y="1614"/>
                </a:lnTo>
                <a:lnTo>
                  <a:pt x="125" y="1619"/>
                </a:lnTo>
                <a:lnTo>
                  <a:pt x="125" y="1623"/>
                </a:lnTo>
                <a:lnTo>
                  <a:pt x="127" y="1628"/>
                </a:lnTo>
                <a:lnTo>
                  <a:pt x="127" y="1632"/>
                </a:lnTo>
                <a:lnTo>
                  <a:pt x="125" y="1637"/>
                </a:lnTo>
                <a:lnTo>
                  <a:pt x="125" y="1641"/>
                </a:lnTo>
                <a:lnTo>
                  <a:pt x="125" y="1646"/>
                </a:lnTo>
                <a:lnTo>
                  <a:pt x="130" y="1650"/>
                </a:lnTo>
                <a:lnTo>
                  <a:pt x="134" y="1655"/>
                </a:lnTo>
                <a:lnTo>
                  <a:pt x="142" y="1659"/>
                </a:lnTo>
                <a:lnTo>
                  <a:pt x="147" y="1664"/>
                </a:lnTo>
                <a:lnTo>
                  <a:pt x="153" y="1668"/>
                </a:lnTo>
                <a:lnTo>
                  <a:pt x="155" y="1673"/>
                </a:lnTo>
                <a:lnTo>
                  <a:pt x="155" y="1677"/>
                </a:lnTo>
                <a:lnTo>
                  <a:pt x="155" y="1682"/>
                </a:lnTo>
                <a:lnTo>
                  <a:pt x="155" y="1686"/>
                </a:lnTo>
                <a:lnTo>
                  <a:pt x="153" y="1691"/>
                </a:lnTo>
                <a:lnTo>
                  <a:pt x="155" y="1695"/>
                </a:lnTo>
                <a:lnTo>
                  <a:pt x="157" y="1700"/>
                </a:lnTo>
                <a:lnTo>
                  <a:pt x="159" y="1704"/>
                </a:lnTo>
                <a:lnTo>
                  <a:pt x="164" y="1709"/>
                </a:lnTo>
                <a:lnTo>
                  <a:pt x="170" y="1713"/>
                </a:lnTo>
                <a:lnTo>
                  <a:pt x="172" y="1718"/>
                </a:lnTo>
                <a:lnTo>
                  <a:pt x="176" y="1722"/>
                </a:lnTo>
                <a:lnTo>
                  <a:pt x="178" y="1727"/>
                </a:lnTo>
                <a:lnTo>
                  <a:pt x="185" y="1731"/>
                </a:lnTo>
                <a:lnTo>
                  <a:pt x="191" y="1736"/>
                </a:lnTo>
                <a:lnTo>
                  <a:pt x="195" y="1740"/>
                </a:lnTo>
                <a:lnTo>
                  <a:pt x="202" y="1745"/>
                </a:lnTo>
                <a:lnTo>
                  <a:pt x="204" y="1749"/>
                </a:lnTo>
                <a:lnTo>
                  <a:pt x="206" y="1754"/>
                </a:lnTo>
                <a:lnTo>
                  <a:pt x="206" y="1758"/>
                </a:lnTo>
                <a:lnTo>
                  <a:pt x="212" y="1763"/>
                </a:lnTo>
                <a:lnTo>
                  <a:pt x="215" y="1767"/>
                </a:lnTo>
                <a:lnTo>
                  <a:pt x="215" y="1772"/>
                </a:lnTo>
                <a:lnTo>
                  <a:pt x="217" y="1776"/>
                </a:lnTo>
                <a:lnTo>
                  <a:pt x="215" y="1781"/>
                </a:lnTo>
                <a:lnTo>
                  <a:pt x="210" y="1785"/>
                </a:lnTo>
                <a:lnTo>
                  <a:pt x="208" y="1790"/>
                </a:lnTo>
                <a:lnTo>
                  <a:pt x="206" y="1794"/>
                </a:lnTo>
                <a:lnTo>
                  <a:pt x="206" y="1799"/>
                </a:lnTo>
                <a:lnTo>
                  <a:pt x="198" y="1803"/>
                </a:lnTo>
                <a:lnTo>
                  <a:pt x="189" y="1808"/>
                </a:lnTo>
                <a:lnTo>
                  <a:pt x="189" y="1812"/>
                </a:lnTo>
                <a:lnTo>
                  <a:pt x="181" y="1817"/>
                </a:lnTo>
                <a:lnTo>
                  <a:pt x="178" y="1821"/>
                </a:lnTo>
                <a:lnTo>
                  <a:pt x="183" y="1826"/>
                </a:lnTo>
                <a:lnTo>
                  <a:pt x="198" y="1830"/>
                </a:lnTo>
                <a:lnTo>
                  <a:pt x="200" y="1835"/>
                </a:lnTo>
                <a:lnTo>
                  <a:pt x="200" y="1839"/>
                </a:lnTo>
                <a:lnTo>
                  <a:pt x="200" y="1844"/>
                </a:lnTo>
                <a:lnTo>
                  <a:pt x="189" y="1848"/>
                </a:lnTo>
                <a:lnTo>
                  <a:pt x="191" y="1853"/>
                </a:lnTo>
                <a:lnTo>
                  <a:pt x="189" y="1857"/>
                </a:lnTo>
                <a:lnTo>
                  <a:pt x="189" y="1862"/>
                </a:lnTo>
                <a:lnTo>
                  <a:pt x="191" y="1866"/>
                </a:lnTo>
                <a:lnTo>
                  <a:pt x="202" y="1871"/>
                </a:lnTo>
                <a:lnTo>
                  <a:pt x="212" y="1875"/>
                </a:lnTo>
                <a:lnTo>
                  <a:pt x="223" y="1880"/>
                </a:lnTo>
                <a:lnTo>
                  <a:pt x="229" y="1884"/>
                </a:lnTo>
                <a:lnTo>
                  <a:pt x="232" y="1889"/>
                </a:lnTo>
                <a:lnTo>
                  <a:pt x="225" y="1893"/>
                </a:lnTo>
                <a:lnTo>
                  <a:pt x="221" y="1898"/>
                </a:lnTo>
                <a:lnTo>
                  <a:pt x="221" y="1902"/>
                </a:lnTo>
                <a:lnTo>
                  <a:pt x="219" y="1907"/>
                </a:lnTo>
                <a:lnTo>
                  <a:pt x="219" y="1911"/>
                </a:lnTo>
                <a:lnTo>
                  <a:pt x="215" y="1916"/>
                </a:lnTo>
                <a:lnTo>
                  <a:pt x="212" y="1920"/>
                </a:lnTo>
                <a:lnTo>
                  <a:pt x="195" y="1925"/>
                </a:lnTo>
                <a:lnTo>
                  <a:pt x="200" y="1929"/>
                </a:lnTo>
                <a:lnTo>
                  <a:pt x="202" y="1934"/>
                </a:lnTo>
                <a:lnTo>
                  <a:pt x="204" y="1938"/>
                </a:lnTo>
                <a:lnTo>
                  <a:pt x="204" y="1943"/>
                </a:lnTo>
                <a:lnTo>
                  <a:pt x="202" y="1947"/>
                </a:lnTo>
                <a:lnTo>
                  <a:pt x="202" y="1952"/>
                </a:lnTo>
                <a:lnTo>
                  <a:pt x="202" y="1956"/>
                </a:lnTo>
                <a:lnTo>
                  <a:pt x="200" y="1961"/>
                </a:lnTo>
                <a:lnTo>
                  <a:pt x="200" y="1965"/>
                </a:lnTo>
                <a:lnTo>
                  <a:pt x="198" y="1970"/>
                </a:lnTo>
                <a:lnTo>
                  <a:pt x="193" y="1974"/>
                </a:lnTo>
                <a:lnTo>
                  <a:pt x="185" y="1979"/>
                </a:lnTo>
                <a:lnTo>
                  <a:pt x="183" y="1983"/>
                </a:lnTo>
                <a:lnTo>
                  <a:pt x="178" y="1988"/>
                </a:lnTo>
                <a:lnTo>
                  <a:pt x="176" y="1992"/>
                </a:lnTo>
                <a:lnTo>
                  <a:pt x="172" y="1997"/>
                </a:lnTo>
                <a:lnTo>
                  <a:pt x="176" y="2001"/>
                </a:lnTo>
                <a:lnTo>
                  <a:pt x="178" y="2006"/>
                </a:lnTo>
                <a:lnTo>
                  <a:pt x="181" y="2010"/>
                </a:lnTo>
                <a:lnTo>
                  <a:pt x="178" y="2015"/>
                </a:lnTo>
                <a:lnTo>
                  <a:pt x="178" y="2019"/>
                </a:lnTo>
                <a:lnTo>
                  <a:pt x="176" y="2024"/>
                </a:lnTo>
                <a:lnTo>
                  <a:pt x="178" y="2028"/>
                </a:lnTo>
                <a:lnTo>
                  <a:pt x="183" y="2033"/>
                </a:lnTo>
                <a:lnTo>
                  <a:pt x="185" y="2037"/>
                </a:lnTo>
                <a:lnTo>
                  <a:pt x="181" y="2042"/>
                </a:lnTo>
                <a:lnTo>
                  <a:pt x="181" y="2046"/>
                </a:lnTo>
                <a:lnTo>
                  <a:pt x="183" y="2051"/>
                </a:lnTo>
                <a:lnTo>
                  <a:pt x="200" y="2055"/>
                </a:lnTo>
                <a:lnTo>
                  <a:pt x="210" y="2060"/>
                </a:lnTo>
                <a:lnTo>
                  <a:pt x="240" y="2064"/>
                </a:lnTo>
                <a:lnTo>
                  <a:pt x="261" y="2069"/>
                </a:lnTo>
                <a:lnTo>
                  <a:pt x="272" y="2073"/>
                </a:lnTo>
                <a:lnTo>
                  <a:pt x="280" y="2078"/>
                </a:lnTo>
                <a:lnTo>
                  <a:pt x="287" y="2082"/>
                </a:lnTo>
                <a:lnTo>
                  <a:pt x="289" y="2087"/>
                </a:lnTo>
                <a:lnTo>
                  <a:pt x="289" y="2091"/>
                </a:lnTo>
                <a:lnTo>
                  <a:pt x="289" y="2096"/>
                </a:lnTo>
                <a:lnTo>
                  <a:pt x="287" y="2100"/>
                </a:lnTo>
                <a:lnTo>
                  <a:pt x="287" y="2105"/>
                </a:lnTo>
                <a:lnTo>
                  <a:pt x="287" y="2109"/>
                </a:lnTo>
                <a:lnTo>
                  <a:pt x="287" y="2114"/>
                </a:lnTo>
                <a:lnTo>
                  <a:pt x="287" y="2118"/>
                </a:lnTo>
                <a:lnTo>
                  <a:pt x="293" y="2123"/>
                </a:lnTo>
                <a:lnTo>
                  <a:pt x="304" y="2127"/>
                </a:lnTo>
                <a:lnTo>
                  <a:pt x="310" y="2132"/>
                </a:lnTo>
                <a:lnTo>
                  <a:pt x="312" y="2136"/>
                </a:lnTo>
                <a:lnTo>
                  <a:pt x="312" y="2141"/>
                </a:lnTo>
                <a:lnTo>
                  <a:pt x="314" y="2145"/>
                </a:lnTo>
                <a:lnTo>
                  <a:pt x="314" y="2150"/>
                </a:lnTo>
                <a:lnTo>
                  <a:pt x="312" y="2154"/>
                </a:lnTo>
                <a:lnTo>
                  <a:pt x="312" y="2159"/>
                </a:lnTo>
                <a:lnTo>
                  <a:pt x="312" y="2163"/>
                </a:lnTo>
                <a:lnTo>
                  <a:pt x="314" y="2168"/>
                </a:lnTo>
                <a:lnTo>
                  <a:pt x="317" y="2172"/>
                </a:lnTo>
                <a:lnTo>
                  <a:pt x="317" y="2177"/>
                </a:lnTo>
                <a:lnTo>
                  <a:pt x="317" y="2181"/>
                </a:lnTo>
                <a:lnTo>
                  <a:pt x="314" y="2186"/>
                </a:lnTo>
                <a:lnTo>
                  <a:pt x="306" y="2190"/>
                </a:lnTo>
                <a:lnTo>
                  <a:pt x="304" y="2195"/>
                </a:lnTo>
                <a:lnTo>
                  <a:pt x="295" y="2199"/>
                </a:lnTo>
                <a:lnTo>
                  <a:pt x="289" y="2204"/>
                </a:lnTo>
                <a:lnTo>
                  <a:pt x="283" y="2208"/>
                </a:lnTo>
                <a:lnTo>
                  <a:pt x="283" y="2213"/>
                </a:lnTo>
                <a:lnTo>
                  <a:pt x="291" y="2217"/>
                </a:lnTo>
                <a:lnTo>
                  <a:pt x="302" y="2222"/>
                </a:lnTo>
                <a:lnTo>
                  <a:pt x="308" y="2226"/>
                </a:lnTo>
                <a:lnTo>
                  <a:pt x="314" y="2231"/>
                </a:lnTo>
                <a:lnTo>
                  <a:pt x="329" y="2235"/>
                </a:lnTo>
                <a:lnTo>
                  <a:pt x="336" y="2240"/>
                </a:lnTo>
                <a:lnTo>
                  <a:pt x="342" y="2244"/>
                </a:lnTo>
                <a:lnTo>
                  <a:pt x="346" y="2249"/>
                </a:lnTo>
                <a:lnTo>
                  <a:pt x="346" y="2253"/>
                </a:lnTo>
                <a:lnTo>
                  <a:pt x="348" y="2258"/>
                </a:lnTo>
                <a:lnTo>
                  <a:pt x="350" y="2262"/>
                </a:lnTo>
                <a:lnTo>
                  <a:pt x="355" y="2267"/>
                </a:lnTo>
                <a:lnTo>
                  <a:pt x="357" y="2271"/>
                </a:lnTo>
                <a:lnTo>
                  <a:pt x="357" y="2276"/>
                </a:lnTo>
                <a:lnTo>
                  <a:pt x="355" y="2280"/>
                </a:lnTo>
                <a:lnTo>
                  <a:pt x="350" y="2285"/>
                </a:lnTo>
                <a:lnTo>
                  <a:pt x="344" y="2289"/>
                </a:lnTo>
                <a:lnTo>
                  <a:pt x="338" y="2294"/>
                </a:lnTo>
                <a:lnTo>
                  <a:pt x="331" y="2298"/>
                </a:lnTo>
                <a:lnTo>
                  <a:pt x="329" y="2303"/>
                </a:lnTo>
                <a:lnTo>
                  <a:pt x="319" y="2307"/>
                </a:lnTo>
                <a:lnTo>
                  <a:pt x="312" y="2312"/>
                </a:lnTo>
                <a:lnTo>
                  <a:pt x="312" y="2316"/>
                </a:lnTo>
                <a:lnTo>
                  <a:pt x="312" y="2321"/>
                </a:lnTo>
                <a:lnTo>
                  <a:pt x="312" y="2325"/>
                </a:lnTo>
                <a:lnTo>
                  <a:pt x="312" y="2330"/>
                </a:lnTo>
                <a:lnTo>
                  <a:pt x="312" y="2334"/>
                </a:lnTo>
                <a:lnTo>
                  <a:pt x="308" y="2339"/>
                </a:lnTo>
                <a:lnTo>
                  <a:pt x="297" y="2343"/>
                </a:lnTo>
                <a:lnTo>
                  <a:pt x="291" y="2348"/>
                </a:lnTo>
                <a:lnTo>
                  <a:pt x="287" y="2352"/>
                </a:lnTo>
                <a:lnTo>
                  <a:pt x="285" y="2357"/>
                </a:lnTo>
                <a:lnTo>
                  <a:pt x="280" y="2361"/>
                </a:lnTo>
                <a:lnTo>
                  <a:pt x="276" y="2366"/>
                </a:lnTo>
                <a:lnTo>
                  <a:pt x="274" y="2370"/>
                </a:lnTo>
                <a:lnTo>
                  <a:pt x="274" y="2375"/>
                </a:lnTo>
                <a:lnTo>
                  <a:pt x="274" y="2379"/>
                </a:lnTo>
                <a:lnTo>
                  <a:pt x="276" y="2384"/>
                </a:lnTo>
                <a:lnTo>
                  <a:pt x="278" y="2388"/>
                </a:lnTo>
                <a:lnTo>
                  <a:pt x="280" y="2393"/>
                </a:lnTo>
                <a:lnTo>
                  <a:pt x="285" y="2397"/>
                </a:lnTo>
                <a:lnTo>
                  <a:pt x="289" y="2402"/>
                </a:lnTo>
                <a:lnTo>
                  <a:pt x="291" y="2406"/>
                </a:lnTo>
                <a:lnTo>
                  <a:pt x="291" y="2411"/>
                </a:lnTo>
                <a:lnTo>
                  <a:pt x="291" y="2415"/>
                </a:lnTo>
                <a:lnTo>
                  <a:pt x="289" y="2420"/>
                </a:lnTo>
                <a:lnTo>
                  <a:pt x="287" y="2424"/>
                </a:lnTo>
                <a:lnTo>
                  <a:pt x="287" y="2429"/>
                </a:lnTo>
                <a:lnTo>
                  <a:pt x="285" y="2433"/>
                </a:lnTo>
                <a:lnTo>
                  <a:pt x="289" y="2438"/>
                </a:lnTo>
                <a:lnTo>
                  <a:pt x="291" y="2442"/>
                </a:lnTo>
                <a:lnTo>
                  <a:pt x="293" y="2447"/>
                </a:lnTo>
                <a:lnTo>
                  <a:pt x="304" y="2451"/>
                </a:lnTo>
                <a:lnTo>
                  <a:pt x="304" y="2456"/>
                </a:lnTo>
                <a:lnTo>
                  <a:pt x="302" y="2460"/>
                </a:lnTo>
                <a:lnTo>
                  <a:pt x="302" y="2465"/>
                </a:lnTo>
                <a:lnTo>
                  <a:pt x="270" y="2469"/>
                </a:lnTo>
                <a:lnTo>
                  <a:pt x="225" y="2474"/>
                </a:lnTo>
                <a:lnTo>
                  <a:pt x="189" y="2478"/>
                </a:lnTo>
                <a:lnTo>
                  <a:pt x="76" y="2483"/>
                </a:lnTo>
                <a:lnTo>
                  <a:pt x="36" y="2487"/>
                </a:lnTo>
                <a:lnTo>
                  <a:pt x="13" y="2492"/>
                </a:lnTo>
                <a:lnTo>
                  <a:pt x="2" y="2496"/>
                </a:lnTo>
                <a:lnTo>
                  <a:pt x="0" y="2501"/>
                </a:lnTo>
                <a:lnTo>
                  <a:pt x="0" y="2505"/>
                </a:lnTo>
                <a:lnTo>
                  <a:pt x="0" y="2510"/>
                </a:lnTo>
                <a:lnTo>
                  <a:pt x="4" y="2514"/>
                </a:lnTo>
                <a:lnTo>
                  <a:pt x="15" y="2519"/>
                </a:lnTo>
                <a:lnTo>
                  <a:pt x="17" y="2523"/>
                </a:lnTo>
                <a:lnTo>
                  <a:pt x="17" y="2528"/>
                </a:lnTo>
                <a:lnTo>
                  <a:pt x="17" y="2532"/>
                </a:lnTo>
                <a:lnTo>
                  <a:pt x="15" y="2537"/>
                </a:lnTo>
                <a:lnTo>
                  <a:pt x="13" y="2541"/>
                </a:lnTo>
                <a:lnTo>
                  <a:pt x="17" y="2546"/>
                </a:lnTo>
                <a:lnTo>
                  <a:pt x="19" y="2550"/>
                </a:lnTo>
                <a:lnTo>
                  <a:pt x="17" y="2555"/>
                </a:lnTo>
                <a:lnTo>
                  <a:pt x="15" y="2559"/>
                </a:lnTo>
                <a:lnTo>
                  <a:pt x="15" y="2564"/>
                </a:lnTo>
                <a:lnTo>
                  <a:pt x="11" y="2568"/>
                </a:lnTo>
                <a:lnTo>
                  <a:pt x="6" y="2573"/>
                </a:lnTo>
                <a:lnTo>
                  <a:pt x="6" y="2577"/>
                </a:lnTo>
                <a:lnTo>
                  <a:pt x="6" y="2582"/>
                </a:lnTo>
              </a:path>
            </a:pathLst>
          </a:custGeom>
          <a:noFill/>
          <a:ln w="5724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PlaceHolder 1"/>
          <p:cNvSpPr>
            <a:spLocks noGrp="1"/>
          </p:cNvSpPr>
          <p:nvPr>
            <p:ph type="title"/>
          </p:nvPr>
        </p:nvSpPr>
        <p:spPr>
          <a:xfrm>
            <a:off x="0" y="1569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POROSITY FROM NEUTRON LOG</a:t>
            </a:r>
            <a:endParaRPr b="0" lang="en-US" sz="3600" spc="-1" strike="noStrike">
              <a:solidFill>
                <a:srgbClr val="000000"/>
              </a:solidFill>
              <a:latin typeface="Times New Roman"/>
            </a:endParaRPr>
          </a:p>
        </p:txBody>
      </p:sp>
      <p:grpSp>
        <p:nvGrpSpPr>
          <p:cNvPr id="1011" name="Group 298"/>
          <p:cNvGrpSpPr/>
          <p:nvPr/>
        </p:nvGrpSpPr>
        <p:grpSpPr>
          <a:xfrm>
            <a:off x="4174920" y="4208760"/>
            <a:ext cx="2848320" cy="1396440"/>
            <a:chOff x="4174920" y="4208760"/>
            <a:chExt cx="2848320" cy="1396440"/>
          </a:xfrm>
        </p:grpSpPr>
        <p:sp>
          <p:nvSpPr>
            <p:cNvPr id="1012" name="Text Box 299"/>
            <p:cNvSpPr/>
            <p:nvPr/>
          </p:nvSpPr>
          <p:spPr>
            <a:xfrm>
              <a:off x="6066720" y="5024520"/>
              <a:ext cx="956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utr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a:t>
              </a:r>
              <a:endParaRPr b="0" lang="en-US" sz="1600" spc="-1" strike="noStrike">
                <a:solidFill>
                  <a:srgbClr val="000000"/>
                </a:solidFill>
                <a:latin typeface="Times New Roman"/>
              </a:endParaRPr>
            </a:p>
          </p:txBody>
        </p:sp>
        <p:sp>
          <p:nvSpPr>
            <p:cNvPr id="1013" name="Line 300"/>
            <p:cNvSpPr/>
            <p:nvPr/>
          </p:nvSpPr>
          <p:spPr>
            <a:xfrm flipH="1" flipV="1">
              <a:off x="4174920" y="4208760"/>
              <a:ext cx="1907640" cy="1091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4" name="Group 301"/>
          <p:cNvGrpSpPr/>
          <p:nvPr/>
        </p:nvGrpSpPr>
        <p:grpSpPr>
          <a:xfrm>
            <a:off x="3421080" y="1359000"/>
            <a:ext cx="5268960" cy="1617480"/>
            <a:chOff x="3421080" y="1359000"/>
            <a:chExt cx="5268960" cy="1617480"/>
          </a:xfrm>
        </p:grpSpPr>
        <p:sp>
          <p:nvSpPr>
            <p:cNvPr id="1015" name="Freeform 302"/>
            <p:cNvSpPr/>
            <p:nvPr/>
          </p:nvSpPr>
          <p:spPr>
            <a:xfrm>
              <a:off x="3900600" y="1395360"/>
              <a:ext cx="3392280" cy="1370160"/>
            </a:xfrm>
            <a:custGeom>
              <a:avLst/>
              <a:gdLst>
                <a:gd name="textAreaLeft" fmla="*/ 0 w 3392280"/>
                <a:gd name="textAreaRight" fmla="*/ 3392640 w 3392280"/>
                <a:gd name="textAreaTop" fmla="*/ 0 h 1370160"/>
                <a:gd name="textAreaBottom" fmla="*/ 1370160 h 1370160"/>
              </a:gdLst>
              <a:ahLst/>
              <a:rect l="textAreaLeft" t="textAreaTop" r="textAreaRight" b="textAreaBottom"/>
              <a:pathLst>
                <a:path w="2137" h="863">
                  <a:moveTo>
                    <a:pt x="272" y="0"/>
                  </a:moveTo>
                  <a:lnTo>
                    <a:pt x="2137" y="58"/>
                  </a:lnTo>
                  <a:lnTo>
                    <a:pt x="1537" y="863"/>
                  </a:lnTo>
                  <a:lnTo>
                    <a:pt x="0" y="419"/>
                  </a:lnTo>
                  <a:lnTo>
                    <a:pt x="255" y="378"/>
                  </a:lnTo>
                  <a:lnTo>
                    <a:pt x="420" y="239"/>
                  </a:lnTo>
                  <a:lnTo>
                    <a:pt x="378" y="99"/>
                  </a:lnTo>
                  <a:lnTo>
                    <a:pt x="272"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Oval 303"/>
            <p:cNvSpPr/>
            <p:nvPr/>
          </p:nvSpPr>
          <p:spPr>
            <a:xfrm>
              <a:off x="5938920" y="1517760"/>
              <a:ext cx="2751120" cy="14587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Line 304"/>
            <p:cNvSpPr/>
            <p:nvPr/>
          </p:nvSpPr>
          <p:spPr>
            <a:xfrm flipH="1" flipV="1">
              <a:off x="4241880" y="1396800"/>
              <a:ext cx="3495600" cy="14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Oval 305"/>
            <p:cNvSpPr/>
            <p:nvPr/>
          </p:nvSpPr>
          <p:spPr>
            <a:xfrm>
              <a:off x="3421080" y="1359000"/>
              <a:ext cx="1122480" cy="691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Line 306"/>
            <p:cNvSpPr/>
            <p:nvPr/>
          </p:nvSpPr>
          <p:spPr>
            <a:xfrm>
              <a:off x="3654360" y="1984320"/>
              <a:ext cx="2737080" cy="806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20" name="Group 307"/>
            <p:cNvGrpSpPr/>
            <p:nvPr/>
          </p:nvGrpSpPr>
          <p:grpSpPr>
            <a:xfrm>
              <a:off x="6256440" y="1938240"/>
              <a:ext cx="2114280" cy="619200"/>
              <a:chOff x="6256440" y="1938240"/>
              <a:chExt cx="2114280" cy="619200"/>
            </a:xfrm>
          </p:grpSpPr>
          <p:sp>
            <p:nvSpPr>
              <p:cNvPr id="1021" name="Line 308"/>
              <p:cNvSpPr/>
              <p:nvPr/>
            </p:nvSpPr>
            <p:spPr>
              <a:xfrm>
                <a:off x="6337440" y="2247840"/>
                <a:ext cx="19540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Rectangle 309"/>
              <p:cNvSpPr/>
              <p:nvPr/>
            </p:nvSpPr>
            <p:spPr>
              <a:xfrm>
                <a:off x="6946560" y="2006640"/>
                <a:ext cx="686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NLLC</a:t>
                </a:r>
                <a:endParaRPr b="0" lang="en-US" sz="1600" spc="-1" strike="noStrike">
                  <a:solidFill>
                    <a:srgbClr val="000000"/>
                  </a:solidFill>
                  <a:latin typeface="Times New Roman"/>
                </a:endParaRPr>
              </a:p>
            </p:txBody>
          </p:sp>
          <p:sp>
            <p:nvSpPr>
              <p:cNvPr id="1023" name="Rectangle 310"/>
              <p:cNvSpPr/>
              <p:nvPr/>
            </p:nvSpPr>
            <p:spPr>
              <a:xfrm>
                <a:off x="6472080" y="2300400"/>
                <a:ext cx="39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45</a:t>
                </a:r>
                <a:endParaRPr b="0" lang="en-US" sz="1600" spc="-1" strike="noStrike">
                  <a:solidFill>
                    <a:srgbClr val="000000"/>
                  </a:solidFill>
                  <a:latin typeface="Times New Roman"/>
                </a:endParaRPr>
              </a:p>
            </p:txBody>
          </p:sp>
          <p:sp>
            <p:nvSpPr>
              <p:cNvPr id="1024" name="Rectangle 311"/>
              <p:cNvSpPr/>
              <p:nvPr/>
            </p:nvSpPr>
            <p:spPr>
              <a:xfrm>
                <a:off x="7687080" y="2300400"/>
                <a:ext cx="462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15</a:t>
                </a:r>
                <a:endParaRPr b="0" lang="en-US" sz="1600" spc="-1" strike="noStrike">
                  <a:solidFill>
                    <a:srgbClr val="000000"/>
                  </a:solidFill>
                  <a:latin typeface="Times New Roman"/>
                </a:endParaRPr>
              </a:p>
            </p:txBody>
          </p:sp>
          <p:sp>
            <p:nvSpPr>
              <p:cNvPr id="1025" name="Rectangle 312"/>
              <p:cNvSpPr/>
              <p:nvPr/>
            </p:nvSpPr>
            <p:spPr>
              <a:xfrm>
                <a:off x="6256440" y="1938240"/>
                <a:ext cx="2114280" cy="6192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2" presetSubtype="1">
                                  <p:stCondLst>
                                    <p:cond delay="0"/>
                                  </p:stCondLst>
                                  <p:childTnLst>
                                    <p:set>
                                      <p:cBhvr>
                                        <p:cTn id="352" dur="1" fill="hold">
                                          <p:stCondLst>
                                            <p:cond delay="0"/>
                                          </p:stCondLst>
                                        </p:cTn>
                                        <p:tgtEl>
                                          <p:spTgt spid="1010"/>
                                        </p:tgtEl>
                                        <p:attrNameLst>
                                          <p:attrName>style.visibility</p:attrName>
                                        </p:attrNameLst>
                                      </p:cBhvr>
                                      <p:to>
                                        <p:strVal val="visible"/>
                                      </p:to>
                                    </p:set>
                                    <p:anim calcmode="lin" valueType="num">
                                      <p:cBhvr additive="base">
                                        <p:cTn id="353" dur="500" fill="hold"/>
                                        <p:tgtEl>
                                          <p:spTgt spid="1010"/>
                                        </p:tgtEl>
                                        <p:attrNameLst>
                                          <p:attrName>ppt_x</p:attrName>
                                        </p:attrNameLst>
                                      </p:cBhvr>
                                      <p:tavLst>
                                        <p:tav tm="0">
                                          <p:val>
                                            <p:strVal val="#ppt_x"/>
                                          </p:val>
                                        </p:tav>
                                        <p:tav tm="100000">
                                          <p:val>
                                            <p:strVal val="#ppt_x"/>
                                          </p:val>
                                        </p:tav>
                                      </p:tavLst>
                                    </p:anim>
                                    <p:anim calcmode="lin" valueType="num">
                                      <p:cBhvr additive="base">
                                        <p:cTn id="354" dur="500" fill="hold"/>
                                        <p:tgtEl>
                                          <p:spTgt spid="1010"/>
                                        </p:tgtEl>
                                        <p:attrNameLst>
                                          <p:attrName>ppt_y</p:attrName>
                                        </p:attrNameLst>
                                      </p:cBhvr>
                                      <p:tavLst>
                                        <p:tav tm="0">
                                          <p:val>
                                            <p:strVal val="0-#ppt_h/2"/>
                                          </p:val>
                                        </p:tav>
                                        <p:tav tm="100000">
                                          <p:val>
                                            <p:strVal val="#ppt_y"/>
                                          </p:val>
                                        </p:tav>
                                      </p:tavLst>
                                    </p:anim>
                                  </p:childTnLst>
                                </p:cTn>
                              </p:par>
                            </p:childTnLst>
                          </p:cTn>
                        </p:par>
                        <p:par>
                          <p:cTn id="355" fill="hold">
                            <p:stCondLst>
                              <p:cond delay="500"/>
                            </p:stCondLst>
                            <p:childTnLst>
                              <p:par>
                                <p:cTn id="356" nodeType="afterEffect" fill="hold" presetClass="entr" presetID="17" presetSubtype="1">
                                  <p:stCondLst>
                                    <p:cond delay="0"/>
                                  </p:stCondLst>
                                  <p:childTnLst>
                                    <p:set>
                                      <p:cBhvr>
                                        <p:cTn id="357" dur="1" fill="hold">
                                          <p:stCondLst>
                                            <p:cond delay="0"/>
                                          </p:stCondLst>
                                        </p:cTn>
                                        <p:tgtEl>
                                          <p:spTgt spid="715"/>
                                        </p:tgtEl>
                                        <p:attrNameLst>
                                          <p:attrName>style.visibility</p:attrName>
                                        </p:attrNameLst>
                                      </p:cBhvr>
                                      <p:to>
                                        <p:strVal val="visible"/>
                                      </p:to>
                                    </p:set>
                                    <p:anim calcmode="lin" valueType="num">
                                      <p:cBhvr additive="repl">
                                        <p:cTn id="358" dur="500" fill="hold"/>
                                        <p:tgtEl>
                                          <p:spTgt spid="715"/>
                                        </p:tgtEl>
                                        <p:attrNameLst>
                                          <p:attrName>ppt_x</p:attrName>
                                        </p:attrNameLst>
                                      </p:cBhvr>
                                      <p:tavLst>
                                        <p:tav tm="0">
                                          <p:val>
                                            <p:strVal val="#ppt_x"/>
                                          </p:val>
                                        </p:tav>
                                        <p:tav tm="100000">
                                          <p:val>
                                            <p:strVal val="#ppt_x"/>
                                          </p:val>
                                        </p:tav>
                                      </p:tavLst>
                                    </p:anim>
                                    <p:anim calcmode="lin" valueType="num">
                                      <p:cBhvr additive="repl">
                                        <p:cTn id="359" dur="500" fill="hold"/>
                                        <p:tgtEl>
                                          <p:spTgt spid="715"/>
                                        </p:tgtEl>
                                        <p:attrNameLst>
                                          <p:attrName>ppt_y</p:attrName>
                                        </p:attrNameLst>
                                      </p:cBhvr>
                                      <p:tavLst>
                                        <p:tav tm="0">
                                          <p:val>
                                            <p:strVal val="#ppt_y-#ppt_h/2"/>
                                          </p:val>
                                        </p:tav>
                                        <p:tav tm="100000">
                                          <p:val>
                                            <p:strVal val="#ppt_y"/>
                                          </p:val>
                                        </p:tav>
                                      </p:tavLst>
                                    </p:anim>
                                    <p:anim calcmode="lin" valueType="num">
                                      <p:cBhvr additive="repl">
                                        <p:cTn id="360" dur="500" fill="hold"/>
                                        <p:tgtEl>
                                          <p:spTgt spid="715"/>
                                        </p:tgtEl>
                                        <p:attrNameLst>
                                          <p:attrName>ppt_w</p:attrName>
                                        </p:attrNameLst>
                                      </p:cBhvr>
                                      <p:tavLst>
                                        <p:tav tm="0">
                                          <p:val>
                                            <p:strVal val="#ppt_w"/>
                                          </p:val>
                                        </p:tav>
                                        <p:tav tm="100000">
                                          <p:val>
                                            <p:strVal val="#ppt_w"/>
                                          </p:val>
                                        </p:tav>
                                      </p:tavLst>
                                    </p:anim>
                                    <p:anim calcmode="lin" valueType="num">
                                      <p:cBhvr additive="repl">
                                        <p:cTn id="361" dur="500" fill="hold"/>
                                        <p:tgtEl>
                                          <p:spTgt spid="715"/>
                                        </p:tgtEl>
                                        <p:attrNameLst>
                                          <p:attrName>ppt_h</p:attrName>
                                        </p:attrNameLst>
                                      </p:cBhvr>
                                      <p:tavLst>
                                        <p:tav tm="0">
                                          <p:val>
                                            <p:fltVal val="0"/>
                                          </p:val>
                                        </p:tav>
                                        <p:tav tm="100000">
                                          <p:val>
                                            <p:strVal val="#ppt_h"/>
                                          </p:val>
                                        </p:tav>
                                      </p:tavLst>
                                    </p:anim>
                                  </p:childTnLst>
                                </p:cTn>
                              </p:par>
                            </p:childTnLst>
                          </p:cTn>
                        </p:par>
                        <p:par>
                          <p:cTn id="362" fill="hold">
                            <p:stCondLst>
                              <p:cond delay="1000"/>
                            </p:stCondLst>
                            <p:childTnLst>
                              <p:par>
                                <p:cTn id="363" nodeType="afterEffect" fill="hold" presetClass="entr" presetID="22" presetSubtype="4">
                                  <p:stCondLst>
                                    <p:cond delay="0"/>
                                  </p:stCondLst>
                                  <p:childTnLst>
                                    <p:set>
                                      <p:cBhvr>
                                        <p:cTn id="364" dur="1" fill="hold">
                                          <p:stCondLst>
                                            <p:cond delay="0"/>
                                          </p:stCondLst>
                                        </p:cTn>
                                        <p:tgtEl>
                                          <p:spTgt spid="1009"/>
                                        </p:tgtEl>
                                        <p:attrNameLst>
                                          <p:attrName>style.visibility</p:attrName>
                                        </p:attrNameLst>
                                      </p:cBhvr>
                                      <p:to>
                                        <p:strVal val="visible"/>
                                      </p:to>
                                    </p:set>
                                    <p:animEffect filter="wipe(down)" transition="in">
                                      <p:cBhvr additive="repl">
                                        <p:cTn id="365" dur="500"/>
                                        <p:tgtEl>
                                          <p:spTgt spid="1009"/>
                                        </p:tgtEl>
                                      </p:cBhvr>
                                    </p:animEffect>
                                  </p:childTnLst>
                                </p:cTn>
                              </p:par>
                            </p:childTnLst>
                          </p:cTn>
                        </p:par>
                        <p:par>
                          <p:cTn id="366" fill="hold">
                            <p:stCondLst>
                              <p:cond delay="1500"/>
                            </p:stCondLst>
                            <p:childTnLst>
                              <p:par>
                                <p:cTn id="367" nodeType="afterEffect" fill="hold" presetClass="entr" presetID="1">
                                  <p:stCondLst>
                                    <p:cond delay="0"/>
                                  </p:stCondLst>
                                  <p:childTnLst>
                                    <p:set>
                                      <p:cBhvr>
                                        <p:cTn id="368" dur="1" fill="hold">
                                          <p:stCondLst>
                                            <p:cond delay="499"/>
                                          </p:stCondLst>
                                        </p:cTn>
                                        <p:tgtEl>
                                          <p:spTgt spid="1011"/>
                                        </p:tgtEl>
                                        <p:attrNameLst>
                                          <p:attrName>style.visibility</p:attrName>
                                        </p:attrNameLst>
                                      </p:cBhvr>
                                      <p:to>
                                        <p:strVal val="visible"/>
                                      </p:to>
                                    </p:set>
                                  </p:childTnLst>
                                </p:cTn>
                              </p:par>
                            </p:childTnLst>
                          </p:cTn>
                        </p:par>
                        <p:par>
                          <p:cTn id="369" fill="hold">
                            <p:stCondLst>
                              <p:cond delay="2000"/>
                            </p:stCondLst>
                            <p:childTnLst>
                              <p:par>
                                <p:cTn id="370" nodeType="afterEffect" fill="hold" presetClass="entr" presetID="22" presetSubtype="8">
                                  <p:stCondLst>
                                    <p:cond delay="0"/>
                                  </p:stCondLst>
                                  <p:childTnLst>
                                    <p:set>
                                      <p:cBhvr>
                                        <p:cTn id="371" dur="1" fill="hold">
                                          <p:stCondLst>
                                            <p:cond delay="0"/>
                                          </p:stCondLst>
                                        </p:cTn>
                                        <p:tgtEl>
                                          <p:spTgt spid="1014"/>
                                        </p:tgtEl>
                                        <p:attrNameLst>
                                          <p:attrName>style.visibility</p:attrName>
                                        </p:attrNameLst>
                                      </p:cBhvr>
                                      <p:to>
                                        <p:strVal val="visible"/>
                                      </p:to>
                                    </p:set>
                                    <p:animEffect filter="wipe(left)" transition="in">
                                      <p:cBhvr additive="repl">
                                        <p:cTn id="372" dur="500"/>
                                        <p:tgtEl>
                                          <p:spTgt spid="10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6" name="Group 2"/>
          <p:cNvGrpSpPr/>
          <p:nvPr/>
        </p:nvGrpSpPr>
        <p:grpSpPr>
          <a:xfrm>
            <a:off x="304920" y="1143000"/>
            <a:ext cx="4114800" cy="5475240"/>
            <a:chOff x="304920" y="1143000"/>
            <a:chExt cx="4114800" cy="5475240"/>
          </a:xfrm>
        </p:grpSpPr>
        <p:sp>
          <p:nvSpPr>
            <p:cNvPr id="1027" name="Rectangle 3"/>
            <p:cNvSpPr/>
            <p:nvPr/>
          </p:nvSpPr>
          <p:spPr>
            <a:xfrm>
              <a:off x="304920" y="1143000"/>
              <a:ext cx="4114800" cy="5475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Freeform 4"/>
            <p:cNvSpPr/>
            <p:nvPr/>
          </p:nvSpPr>
          <p:spPr>
            <a:xfrm>
              <a:off x="885960" y="2098800"/>
              <a:ext cx="1180800" cy="433800"/>
            </a:xfrm>
            <a:custGeom>
              <a:avLst/>
              <a:gdLst>
                <a:gd name="textAreaLeft" fmla="*/ 0 w 1180800"/>
                <a:gd name="textAreaRight" fmla="*/ 1181160 w 1180800"/>
                <a:gd name="textAreaTop" fmla="*/ 0 h 433800"/>
                <a:gd name="textAreaBottom" fmla="*/ 434160 h 433800"/>
              </a:gdLst>
              <a:ahLst/>
              <a:rect l="textAreaLeft" t="textAreaTop" r="textAreaRight" b="textAreaBottom"/>
              <a:pathLst>
                <a:path w="564" h="256">
                  <a:moveTo>
                    <a:pt x="0" y="0"/>
                  </a:moveTo>
                  <a:lnTo>
                    <a:pt x="144" y="68"/>
                  </a:lnTo>
                  <a:lnTo>
                    <a:pt x="172" y="44"/>
                  </a:lnTo>
                  <a:lnTo>
                    <a:pt x="208" y="112"/>
                  </a:lnTo>
                  <a:lnTo>
                    <a:pt x="232" y="96"/>
                  </a:lnTo>
                  <a:lnTo>
                    <a:pt x="384" y="176"/>
                  </a:lnTo>
                  <a:lnTo>
                    <a:pt x="408" y="148"/>
                  </a:lnTo>
                  <a:lnTo>
                    <a:pt x="440" y="232"/>
                  </a:lnTo>
                  <a:lnTo>
                    <a:pt x="468" y="208"/>
                  </a:lnTo>
                  <a:lnTo>
                    <a:pt x="564" y="256"/>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Freeform 5"/>
            <p:cNvSpPr/>
            <p:nvPr/>
          </p:nvSpPr>
          <p:spPr>
            <a:xfrm>
              <a:off x="867960" y="2269080"/>
              <a:ext cx="1180800" cy="433800"/>
            </a:xfrm>
            <a:custGeom>
              <a:avLst/>
              <a:gdLst>
                <a:gd name="textAreaLeft" fmla="*/ 0 w 1180800"/>
                <a:gd name="textAreaRight" fmla="*/ 1181160 w 1180800"/>
                <a:gd name="textAreaTop" fmla="*/ 0 h 433800"/>
                <a:gd name="textAreaBottom" fmla="*/ 434160 h 433800"/>
              </a:gdLst>
              <a:ahLst/>
              <a:rect l="textAreaLeft" t="textAreaTop" r="textAreaRight" b="textAreaBottom"/>
              <a:pathLst>
                <a:path w="564" h="256">
                  <a:moveTo>
                    <a:pt x="0" y="0"/>
                  </a:moveTo>
                  <a:lnTo>
                    <a:pt x="144" y="68"/>
                  </a:lnTo>
                  <a:lnTo>
                    <a:pt x="166" y="46"/>
                  </a:lnTo>
                  <a:lnTo>
                    <a:pt x="193" y="113"/>
                  </a:lnTo>
                  <a:lnTo>
                    <a:pt x="211" y="94"/>
                  </a:lnTo>
                  <a:lnTo>
                    <a:pt x="373" y="167"/>
                  </a:lnTo>
                  <a:lnTo>
                    <a:pt x="390" y="137"/>
                  </a:lnTo>
                  <a:lnTo>
                    <a:pt x="429" y="214"/>
                  </a:lnTo>
                  <a:lnTo>
                    <a:pt x="444" y="193"/>
                  </a:lnTo>
                  <a:lnTo>
                    <a:pt x="564" y="256"/>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Line 6"/>
            <p:cNvSpPr/>
            <p:nvPr/>
          </p:nvSpPr>
          <p:spPr>
            <a:xfrm>
              <a:off x="1937880" y="1320120"/>
              <a:ext cx="0" cy="1170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Line 7"/>
            <p:cNvSpPr/>
            <p:nvPr/>
          </p:nvSpPr>
          <p:spPr>
            <a:xfrm>
              <a:off x="995400" y="1320120"/>
              <a:ext cx="0" cy="82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Freeform 8"/>
            <p:cNvSpPr/>
            <p:nvPr/>
          </p:nvSpPr>
          <p:spPr>
            <a:xfrm>
              <a:off x="1422000" y="1535760"/>
              <a:ext cx="226080" cy="822600"/>
            </a:xfrm>
            <a:custGeom>
              <a:avLst/>
              <a:gdLst>
                <a:gd name="textAreaLeft" fmla="*/ 0 w 226080"/>
                <a:gd name="textAreaRight" fmla="*/ 226440 w 226080"/>
                <a:gd name="textAreaTop" fmla="*/ 0 h 822600"/>
                <a:gd name="textAreaBottom" fmla="*/ 822960 h 822600"/>
              </a:gdLst>
              <a:ahLst/>
              <a:rect l="textAreaLeft" t="textAreaTop" r="textAreaRight" b="textAreaBottom"/>
              <a:pathLst>
                <a:path w="108" h="485">
                  <a:moveTo>
                    <a:pt x="0" y="440"/>
                  </a:moveTo>
                  <a:lnTo>
                    <a:pt x="12" y="37"/>
                  </a:lnTo>
                  <a:cubicBezTo>
                    <a:pt x="18" y="18"/>
                    <a:pt x="36" y="7"/>
                    <a:pt x="56" y="4"/>
                  </a:cubicBezTo>
                  <a:cubicBezTo>
                    <a:pt x="70" y="0"/>
                    <a:pt x="76" y="6"/>
                    <a:pt x="84" y="8"/>
                  </a:cubicBezTo>
                  <a:cubicBezTo>
                    <a:pt x="92" y="10"/>
                    <a:pt x="105" y="20"/>
                    <a:pt x="107" y="25"/>
                  </a:cubicBezTo>
                  <a:lnTo>
                    <a:pt x="108" y="44"/>
                  </a:lnTo>
                  <a:lnTo>
                    <a:pt x="93" y="485"/>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Line 9"/>
            <p:cNvSpPr/>
            <p:nvPr/>
          </p:nvSpPr>
          <p:spPr>
            <a:xfrm flipV="1">
              <a:off x="1541880" y="1262880"/>
              <a:ext cx="0" cy="270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Line 10"/>
            <p:cNvSpPr/>
            <p:nvPr/>
          </p:nvSpPr>
          <p:spPr>
            <a:xfrm>
              <a:off x="1937880" y="2661840"/>
              <a:ext cx="0" cy="3796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Text Box 11"/>
            <p:cNvSpPr/>
            <p:nvPr/>
          </p:nvSpPr>
          <p:spPr>
            <a:xfrm>
              <a:off x="1980720" y="2761560"/>
              <a:ext cx="187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Upper transmitter</a:t>
              </a:r>
              <a:endParaRPr b="0" lang="en-US" sz="2400" spc="-1" strike="noStrike">
                <a:solidFill>
                  <a:srgbClr val="000000"/>
                </a:solidFill>
                <a:latin typeface="Times New Roman"/>
              </a:endParaRPr>
            </a:p>
          </p:txBody>
        </p:sp>
        <p:sp>
          <p:nvSpPr>
            <p:cNvPr id="1036" name="Text Box 12"/>
            <p:cNvSpPr/>
            <p:nvPr/>
          </p:nvSpPr>
          <p:spPr>
            <a:xfrm>
              <a:off x="2053080" y="5717520"/>
              <a:ext cx="194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Lower transmitter</a:t>
              </a:r>
              <a:endParaRPr b="0" lang="en-US" sz="2400" spc="-1" strike="noStrike">
                <a:solidFill>
                  <a:srgbClr val="000000"/>
                </a:solidFill>
                <a:latin typeface="Times New Roman"/>
              </a:endParaRPr>
            </a:p>
          </p:txBody>
        </p:sp>
        <p:sp>
          <p:nvSpPr>
            <p:cNvPr id="1037" name="Line 13"/>
            <p:cNvSpPr/>
            <p:nvPr/>
          </p:nvSpPr>
          <p:spPr>
            <a:xfrm>
              <a:off x="995400" y="2308680"/>
              <a:ext cx="0" cy="414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Freeform 14"/>
            <p:cNvSpPr/>
            <p:nvPr/>
          </p:nvSpPr>
          <p:spPr>
            <a:xfrm>
              <a:off x="845280" y="4092840"/>
              <a:ext cx="364320" cy="1891440"/>
            </a:xfrm>
            <a:custGeom>
              <a:avLst/>
              <a:gdLst>
                <a:gd name="textAreaLeft" fmla="*/ 0 w 364320"/>
                <a:gd name="textAreaRight" fmla="*/ 364680 w 364320"/>
                <a:gd name="textAreaTop" fmla="*/ 0 h 1891440"/>
                <a:gd name="textAreaBottom" fmla="*/ 1891800 h 1891440"/>
              </a:gdLst>
              <a:ahLst/>
              <a:rect l="textAreaLeft" t="textAreaTop" r="textAreaRight" b="textAreaBottom"/>
              <a:pathLst>
                <a:path w="174" h="1116">
                  <a:moveTo>
                    <a:pt x="174" y="0"/>
                  </a:moveTo>
                  <a:lnTo>
                    <a:pt x="0" y="69"/>
                  </a:lnTo>
                  <a:lnTo>
                    <a:pt x="1" y="1116"/>
                  </a:lnTo>
                </a:path>
              </a:pathLst>
            </a:custGeom>
            <a:noFill/>
            <a:ln w="25560">
              <a:solidFill>
                <a:srgbClr val="000000"/>
              </a:solidFill>
              <a:prstDash val="dash"/>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Freeform 15"/>
            <p:cNvSpPr/>
            <p:nvPr/>
          </p:nvSpPr>
          <p:spPr>
            <a:xfrm>
              <a:off x="1098720" y="2434680"/>
              <a:ext cx="424440" cy="3875400"/>
            </a:xfrm>
            <a:custGeom>
              <a:avLst/>
              <a:gdLst>
                <a:gd name="textAreaLeft" fmla="*/ 0 w 424440"/>
                <a:gd name="textAreaRight" fmla="*/ 424800 w 424440"/>
                <a:gd name="textAreaTop" fmla="*/ 0 h 3875400"/>
                <a:gd name="textAreaBottom" fmla="*/ 3875760 h 3875400"/>
              </a:gdLst>
              <a:ahLst/>
              <a:rect l="textAreaLeft" t="textAreaTop" r="textAreaRight" b="textAreaBottom"/>
              <a:pathLst>
                <a:path w="203" h="2286">
                  <a:moveTo>
                    <a:pt x="203" y="45"/>
                  </a:moveTo>
                  <a:lnTo>
                    <a:pt x="96" y="2249"/>
                  </a:lnTo>
                  <a:cubicBezTo>
                    <a:pt x="90" y="2268"/>
                    <a:pt x="72" y="2279"/>
                    <a:pt x="52" y="2282"/>
                  </a:cubicBezTo>
                  <a:cubicBezTo>
                    <a:pt x="38" y="2286"/>
                    <a:pt x="32" y="2280"/>
                    <a:pt x="24" y="2278"/>
                  </a:cubicBezTo>
                  <a:cubicBezTo>
                    <a:pt x="16" y="2276"/>
                    <a:pt x="3" y="2266"/>
                    <a:pt x="1" y="2261"/>
                  </a:cubicBezTo>
                  <a:lnTo>
                    <a:pt x="0" y="2242"/>
                  </a:lnTo>
                  <a:lnTo>
                    <a:pt x="110" y="0"/>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Line 16"/>
            <p:cNvSpPr/>
            <p:nvPr/>
          </p:nvSpPr>
          <p:spPr>
            <a:xfrm flipH="1" flipV="1">
              <a:off x="845280" y="5984640"/>
              <a:ext cx="256320" cy="10512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Line 17"/>
            <p:cNvSpPr/>
            <p:nvPr/>
          </p:nvSpPr>
          <p:spPr>
            <a:xfrm flipV="1">
              <a:off x="845280" y="4768920"/>
              <a:ext cx="326160" cy="86400"/>
            </a:xfrm>
            <a:prstGeom prst="line">
              <a:avLst/>
            </a:prstGeom>
            <a:ln w="25560">
              <a:solidFill>
                <a:srgbClr val="000000"/>
              </a:solidFill>
              <a:prstDash val="dash"/>
              <a:miter/>
              <a:tailEnd len="med" type="triangle" w="med"/>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042" name="Freeform 18"/>
            <p:cNvSpPr/>
            <p:nvPr/>
          </p:nvSpPr>
          <p:spPr>
            <a:xfrm>
              <a:off x="928800" y="3170880"/>
              <a:ext cx="216720" cy="1837080"/>
            </a:xfrm>
            <a:custGeom>
              <a:avLst/>
              <a:gdLst>
                <a:gd name="textAreaLeft" fmla="*/ 0 w 216720"/>
                <a:gd name="textAreaRight" fmla="*/ 217080 w 216720"/>
                <a:gd name="textAreaTop" fmla="*/ 0 h 1837080"/>
                <a:gd name="textAreaBottom" fmla="*/ 1837440 h 1837080"/>
              </a:gdLst>
              <a:ahLst/>
              <a:rect l="textAreaLeft" t="textAreaTop" r="textAreaRight" b="textAreaBottom"/>
              <a:pathLst>
                <a:path w="104" h="1084">
                  <a:moveTo>
                    <a:pt x="0" y="0"/>
                  </a:moveTo>
                  <a:lnTo>
                    <a:pt x="0" y="1028"/>
                  </a:lnTo>
                  <a:lnTo>
                    <a:pt x="104" y="1084"/>
                  </a:ln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Line 19"/>
            <p:cNvSpPr/>
            <p:nvPr/>
          </p:nvSpPr>
          <p:spPr>
            <a:xfrm flipH="1">
              <a:off x="928440" y="3007800"/>
              <a:ext cx="359640" cy="162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Line 20"/>
            <p:cNvSpPr/>
            <p:nvPr/>
          </p:nvSpPr>
          <p:spPr>
            <a:xfrm>
              <a:off x="928800" y="4254120"/>
              <a:ext cx="266760" cy="82080"/>
            </a:xfrm>
            <a:prstGeom prst="line">
              <a:avLst/>
            </a:prstGeom>
            <a:ln w="25560">
              <a:solidFill>
                <a:srgbClr val="000000"/>
              </a:solidFill>
              <a:miter/>
              <a:tailEnd len="med" type="triangle" w="med"/>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045" name="Text Box 21"/>
            <p:cNvSpPr/>
            <p:nvPr/>
          </p:nvSpPr>
          <p:spPr>
            <a:xfrm>
              <a:off x="1502280" y="376596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4"/>
                  </a:solidFill>
                  <a:latin typeface="Arial"/>
                </a:rPr>
                <a:t>R</a:t>
              </a:r>
              <a:r>
                <a:rPr b="1" lang="en-US" sz="2400" spc="-1" strike="noStrike" baseline="-25000">
                  <a:solidFill>
                    <a:srgbClr val="000094"/>
                  </a:solidFill>
                  <a:latin typeface="Arial"/>
                </a:rPr>
                <a:t>1</a:t>
              </a:r>
              <a:endParaRPr b="0" lang="en-US" sz="2400" spc="-1" strike="noStrike">
                <a:solidFill>
                  <a:srgbClr val="000000"/>
                </a:solidFill>
                <a:latin typeface="Times New Roman"/>
              </a:endParaRPr>
            </a:p>
          </p:txBody>
        </p:sp>
        <p:sp>
          <p:nvSpPr>
            <p:cNvPr id="1046" name="Text Box 22"/>
            <p:cNvSpPr/>
            <p:nvPr/>
          </p:nvSpPr>
          <p:spPr>
            <a:xfrm>
              <a:off x="1502280" y="411948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R</a:t>
              </a:r>
              <a:r>
                <a:rPr b="1" lang="en-US" sz="2400" spc="-1" strike="noStrike" baseline="-25000">
                  <a:solidFill>
                    <a:srgbClr val="006600"/>
                  </a:solidFill>
                  <a:latin typeface="Arial"/>
                </a:rPr>
                <a:t>2</a:t>
              </a:r>
              <a:endParaRPr b="0" lang="en-US" sz="2400" spc="-1" strike="noStrike">
                <a:solidFill>
                  <a:srgbClr val="000000"/>
                </a:solidFill>
                <a:latin typeface="Times New Roman"/>
              </a:endParaRPr>
            </a:p>
          </p:txBody>
        </p:sp>
        <p:sp>
          <p:nvSpPr>
            <p:cNvPr id="1047" name="Text Box 23"/>
            <p:cNvSpPr/>
            <p:nvPr/>
          </p:nvSpPr>
          <p:spPr>
            <a:xfrm>
              <a:off x="1502280" y="447732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R</a:t>
              </a:r>
              <a:r>
                <a:rPr b="1" lang="en-US" sz="2400" spc="-1" strike="noStrike" baseline="-25000">
                  <a:solidFill>
                    <a:srgbClr val="800000"/>
                  </a:solidFill>
                  <a:latin typeface="Arial"/>
                </a:rPr>
                <a:t>3</a:t>
              </a:r>
              <a:endParaRPr b="0" lang="en-US" sz="2400" spc="-1" strike="noStrike">
                <a:solidFill>
                  <a:srgbClr val="000000"/>
                </a:solidFill>
                <a:latin typeface="Times New Roman"/>
              </a:endParaRPr>
            </a:p>
          </p:txBody>
        </p:sp>
        <p:sp>
          <p:nvSpPr>
            <p:cNvPr id="1048" name="Text Box 24"/>
            <p:cNvSpPr/>
            <p:nvPr/>
          </p:nvSpPr>
          <p:spPr>
            <a:xfrm>
              <a:off x="1502280" y="483048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2400" spc="-1" strike="noStrike" baseline="-25000">
                  <a:solidFill>
                    <a:srgbClr val="000000"/>
                  </a:solidFill>
                  <a:latin typeface="Arial"/>
                </a:rPr>
                <a:t>4</a:t>
              </a:r>
              <a:endParaRPr b="0" lang="en-US" sz="2400" spc="-1" strike="noStrike">
                <a:solidFill>
                  <a:srgbClr val="000000"/>
                </a:solidFill>
                <a:latin typeface="Times New Roman"/>
              </a:endParaRPr>
            </a:p>
          </p:txBody>
        </p:sp>
        <p:sp>
          <p:nvSpPr>
            <p:cNvPr id="1049" name="Line 25"/>
            <p:cNvSpPr/>
            <p:nvPr/>
          </p:nvSpPr>
          <p:spPr>
            <a:xfrm flipH="1">
              <a:off x="1324440" y="5999400"/>
              <a:ext cx="655560" cy="70200"/>
            </a:xfrm>
            <a:prstGeom prst="line">
              <a:avLst/>
            </a:prstGeom>
            <a:ln w="28440">
              <a:solidFill>
                <a:srgbClr val="800000"/>
              </a:solidFill>
              <a:miter/>
              <a:tailEnd len="med" type="triangle" w="med"/>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1050" name="Line 26"/>
            <p:cNvSpPr/>
            <p:nvPr/>
          </p:nvSpPr>
          <p:spPr>
            <a:xfrm flipH="1" flipV="1">
              <a:off x="1470600" y="2972160"/>
              <a:ext cx="509760" cy="70200"/>
            </a:xfrm>
            <a:prstGeom prst="line">
              <a:avLst/>
            </a:prstGeom>
            <a:ln w="28440">
              <a:solidFill>
                <a:srgbClr val="800000"/>
              </a:solidFill>
              <a:miter/>
              <a:tailEnd len="med" type="triangle" w="med"/>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grpSp>
          <p:nvGrpSpPr>
            <p:cNvPr id="1051" name="Group 27"/>
            <p:cNvGrpSpPr/>
            <p:nvPr/>
          </p:nvGrpSpPr>
          <p:grpSpPr>
            <a:xfrm>
              <a:off x="1144080" y="6032520"/>
              <a:ext cx="128160" cy="109800"/>
              <a:chOff x="1144080" y="6032520"/>
              <a:chExt cx="128160" cy="109800"/>
            </a:xfrm>
          </p:grpSpPr>
          <p:sp>
            <p:nvSpPr>
              <p:cNvPr id="1052" name="Freeform 28"/>
              <p:cNvSpPr/>
              <p:nvPr/>
            </p:nvSpPr>
            <p:spPr>
              <a:xfrm>
                <a:off x="1144080" y="6098760"/>
                <a:ext cx="49680" cy="43560"/>
              </a:xfrm>
              <a:custGeom>
                <a:avLst/>
                <a:gdLst>
                  <a:gd name="textAreaLeft" fmla="*/ 0 w 49680"/>
                  <a:gd name="textAreaRight" fmla="*/ 50040 w 4968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53" name="Freeform 29"/>
              <p:cNvSpPr/>
              <p:nvPr/>
            </p:nvSpPr>
            <p:spPr>
              <a:xfrm flipH="1">
                <a:off x="1221840" y="6098760"/>
                <a:ext cx="50040" cy="43560"/>
              </a:xfrm>
              <a:custGeom>
                <a:avLst/>
                <a:gdLst>
                  <a:gd name="textAreaLeft" fmla="*/ -360 w 50040"/>
                  <a:gd name="textAreaRight" fmla="*/ 50040 w 5004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nvGrpSpPr>
              <p:cNvPr id="1054" name="Group 30"/>
              <p:cNvGrpSpPr/>
              <p:nvPr/>
            </p:nvGrpSpPr>
            <p:grpSpPr>
              <a:xfrm>
                <a:off x="1144080" y="6032520"/>
                <a:ext cx="128160" cy="43560"/>
                <a:chOff x="1144080" y="6032520"/>
                <a:chExt cx="128160" cy="43560"/>
              </a:xfrm>
            </p:grpSpPr>
            <p:sp>
              <p:nvSpPr>
                <p:cNvPr id="1055" name="Freeform 31"/>
                <p:cNvSpPr/>
                <p:nvPr/>
              </p:nvSpPr>
              <p:spPr>
                <a:xfrm flipV="1">
                  <a:off x="1144080" y="6032160"/>
                  <a:ext cx="49680" cy="43560"/>
                </a:xfrm>
                <a:custGeom>
                  <a:avLst/>
                  <a:gdLst>
                    <a:gd name="textAreaLeft" fmla="*/ 0 w 49680"/>
                    <a:gd name="textAreaRight" fmla="*/ 50040 w 4968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56" name="Freeform 32"/>
                <p:cNvSpPr/>
                <p:nvPr/>
              </p:nvSpPr>
              <p:spPr>
                <a:xfrm flipH="1" flipV="1">
                  <a:off x="1221840" y="6032160"/>
                  <a:ext cx="50040" cy="43560"/>
                </a:xfrm>
                <a:custGeom>
                  <a:avLst/>
                  <a:gdLst>
                    <a:gd name="textAreaLeft" fmla="*/ -360 w 50040"/>
                    <a:gd name="textAreaRight" fmla="*/ 50040 w 5004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1057" name="Group 33"/>
            <p:cNvGrpSpPr/>
            <p:nvPr/>
          </p:nvGrpSpPr>
          <p:grpSpPr>
            <a:xfrm>
              <a:off x="1209600" y="4969440"/>
              <a:ext cx="128160" cy="109800"/>
              <a:chOff x="1209600" y="4969440"/>
              <a:chExt cx="128160" cy="109800"/>
            </a:xfrm>
          </p:grpSpPr>
          <p:sp>
            <p:nvSpPr>
              <p:cNvPr id="1058" name="Freeform 34"/>
              <p:cNvSpPr/>
              <p:nvPr/>
            </p:nvSpPr>
            <p:spPr>
              <a:xfrm>
                <a:off x="1209600" y="5035680"/>
                <a:ext cx="49680" cy="43560"/>
              </a:xfrm>
              <a:custGeom>
                <a:avLst/>
                <a:gdLst>
                  <a:gd name="textAreaLeft" fmla="*/ 0 w 49680"/>
                  <a:gd name="textAreaRight" fmla="*/ 50040 w 4968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0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59" name="Freeform 35"/>
              <p:cNvSpPr/>
              <p:nvPr/>
            </p:nvSpPr>
            <p:spPr>
              <a:xfrm flipH="1">
                <a:off x="1287360" y="5035680"/>
                <a:ext cx="50040" cy="43560"/>
              </a:xfrm>
              <a:custGeom>
                <a:avLst/>
                <a:gdLst>
                  <a:gd name="textAreaLeft" fmla="*/ -360 w 50040"/>
                  <a:gd name="textAreaRight" fmla="*/ 50040 w 5004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0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nvGrpSpPr>
              <p:cNvPr id="1060" name="Group 36"/>
              <p:cNvGrpSpPr/>
              <p:nvPr/>
            </p:nvGrpSpPr>
            <p:grpSpPr>
              <a:xfrm>
                <a:off x="1209600" y="4969440"/>
                <a:ext cx="128160" cy="43560"/>
                <a:chOff x="1209600" y="4969440"/>
                <a:chExt cx="128160" cy="43560"/>
              </a:xfrm>
            </p:grpSpPr>
            <p:sp>
              <p:nvSpPr>
                <p:cNvPr id="1061" name="Freeform 37"/>
                <p:cNvSpPr/>
                <p:nvPr/>
              </p:nvSpPr>
              <p:spPr>
                <a:xfrm flipV="1">
                  <a:off x="1209600" y="4969080"/>
                  <a:ext cx="49680" cy="43560"/>
                </a:xfrm>
                <a:custGeom>
                  <a:avLst/>
                  <a:gdLst>
                    <a:gd name="textAreaLeft" fmla="*/ 0 w 49680"/>
                    <a:gd name="textAreaRight" fmla="*/ 50040 w 4968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0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62" name="Freeform 38"/>
                <p:cNvSpPr/>
                <p:nvPr/>
              </p:nvSpPr>
              <p:spPr>
                <a:xfrm flipH="1" flipV="1">
                  <a:off x="1287360" y="4969080"/>
                  <a:ext cx="50040" cy="43560"/>
                </a:xfrm>
                <a:custGeom>
                  <a:avLst/>
                  <a:gdLst>
                    <a:gd name="textAreaLeft" fmla="*/ -360 w 50040"/>
                    <a:gd name="textAreaRight" fmla="*/ 50040 w 5004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0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1063" name="Group 39"/>
            <p:cNvGrpSpPr/>
            <p:nvPr/>
          </p:nvGrpSpPr>
          <p:grpSpPr>
            <a:xfrm>
              <a:off x="1221840" y="4721760"/>
              <a:ext cx="128160" cy="109800"/>
              <a:chOff x="1221840" y="4721760"/>
              <a:chExt cx="128160" cy="109800"/>
            </a:xfrm>
          </p:grpSpPr>
          <p:sp>
            <p:nvSpPr>
              <p:cNvPr id="1064" name="Freeform 40"/>
              <p:cNvSpPr/>
              <p:nvPr/>
            </p:nvSpPr>
            <p:spPr>
              <a:xfrm>
                <a:off x="1221840" y="4788000"/>
                <a:ext cx="49680" cy="43560"/>
              </a:xfrm>
              <a:custGeom>
                <a:avLst/>
                <a:gdLst>
                  <a:gd name="textAreaLeft" fmla="*/ 0 w 49680"/>
                  <a:gd name="textAreaRight" fmla="*/ 50040 w 4968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65" name="Freeform 41"/>
              <p:cNvSpPr/>
              <p:nvPr/>
            </p:nvSpPr>
            <p:spPr>
              <a:xfrm flipH="1">
                <a:off x="1299600" y="4788000"/>
                <a:ext cx="50040" cy="43560"/>
              </a:xfrm>
              <a:custGeom>
                <a:avLst/>
                <a:gdLst>
                  <a:gd name="textAreaLeft" fmla="*/ -360 w 50040"/>
                  <a:gd name="textAreaRight" fmla="*/ 50040 w 5004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nvGrpSpPr>
              <p:cNvPr id="1066" name="Group 42"/>
              <p:cNvGrpSpPr/>
              <p:nvPr/>
            </p:nvGrpSpPr>
            <p:grpSpPr>
              <a:xfrm>
                <a:off x="1221840" y="4721760"/>
                <a:ext cx="128160" cy="43560"/>
                <a:chOff x="1221840" y="4721760"/>
                <a:chExt cx="128160" cy="43560"/>
              </a:xfrm>
            </p:grpSpPr>
            <p:sp>
              <p:nvSpPr>
                <p:cNvPr id="1067" name="Freeform 43"/>
                <p:cNvSpPr/>
                <p:nvPr/>
              </p:nvSpPr>
              <p:spPr>
                <a:xfrm flipV="1">
                  <a:off x="1221840" y="4721400"/>
                  <a:ext cx="49680" cy="43560"/>
                </a:xfrm>
                <a:custGeom>
                  <a:avLst/>
                  <a:gdLst>
                    <a:gd name="textAreaLeft" fmla="*/ 0 w 49680"/>
                    <a:gd name="textAreaRight" fmla="*/ 50040 w 4968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68" name="Freeform 44"/>
                <p:cNvSpPr/>
                <p:nvPr/>
              </p:nvSpPr>
              <p:spPr>
                <a:xfrm flipH="1" flipV="1">
                  <a:off x="1299600" y="4721400"/>
                  <a:ext cx="50040" cy="43560"/>
                </a:xfrm>
                <a:custGeom>
                  <a:avLst/>
                  <a:gdLst>
                    <a:gd name="textAreaLeft" fmla="*/ -360 w 50040"/>
                    <a:gd name="textAreaRight" fmla="*/ 50040 w 5004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1069" name="Group 45"/>
            <p:cNvGrpSpPr/>
            <p:nvPr/>
          </p:nvGrpSpPr>
          <p:grpSpPr>
            <a:xfrm>
              <a:off x="1248840" y="4295160"/>
              <a:ext cx="128160" cy="109800"/>
              <a:chOff x="1248840" y="4295160"/>
              <a:chExt cx="128160" cy="109800"/>
            </a:xfrm>
          </p:grpSpPr>
          <p:sp>
            <p:nvSpPr>
              <p:cNvPr id="1070" name="Freeform 46"/>
              <p:cNvSpPr/>
              <p:nvPr/>
            </p:nvSpPr>
            <p:spPr>
              <a:xfrm>
                <a:off x="1248840" y="4361400"/>
                <a:ext cx="49680" cy="43560"/>
              </a:xfrm>
              <a:custGeom>
                <a:avLst/>
                <a:gdLst>
                  <a:gd name="textAreaLeft" fmla="*/ 0 w 49680"/>
                  <a:gd name="textAreaRight" fmla="*/ 50040 w 4968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0066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71" name="Freeform 47"/>
              <p:cNvSpPr/>
              <p:nvPr/>
            </p:nvSpPr>
            <p:spPr>
              <a:xfrm flipH="1">
                <a:off x="1326600" y="4361400"/>
                <a:ext cx="50040" cy="43560"/>
              </a:xfrm>
              <a:custGeom>
                <a:avLst/>
                <a:gdLst>
                  <a:gd name="textAreaLeft" fmla="*/ -360 w 50040"/>
                  <a:gd name="textAreaRight" fmla="*/ 50040 w 5004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0066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nvGrpSpPr>
              <p:cNvPr id="1072" name="Group 48"/>
              <p:cNvGrpSpPr/>
              <p:nvPr/>
            </p:nvGrpSpPr>
            <p:grpSpPr>
              <a:xfrm>
                <a:off x="1248840" y="4295160"/>
                <a:ext cx="128160" cy="43560"/>
                <a:chOff x="1248840" y="4295160"/>
                <a:chExt cx="128160" cy="43560"/>
              </a:xfrm>
            </p:grpSpPr>
            <p:sp>
              <p:nvSpPr>
                <p:cNvPr id="1073" name="Freeform 49"/>
                <p:cNvSpPr/>
                <p:nvPr/>
              </p:nvSpPr>
              <p:spPr>
                <a:xfrm flipV="1">
                  <a:off x="1248840" y="4294800"/>
                  <a:ext cx="49680" cy="43560"/>
                </a:xfrm>
                <a:custGeom>
                  <a:avLst/>
                  <a:gdLst>
                    <a:gd name="textAreaLeft" fmla="*/ 0 w 49680"/>
                    <a:gd name="textAreaRight" fmla="*/ 50040 w 4968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0066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74" name="Freeform 50"/>
                <p:cNvSpPr/>
                <p:nvPr/>
              </p:nvSpPr>
              <p:spPr>
                <a:xfrm flipH="1" flipV="1">
                  <a:off x="1326600" y="4294800"/>
                  <a:ext cx="50040" cy="43560"/>
                </a:xfrm>
                <a:custGeom>
                  <a:avLst/>
                  <a:gdLst>
                    <a:gd name="textAreaLeft" fmla="*/ -360 w 50040"/>
                    <a:gd name="textAreaRight" fmla="*/ 50040 w 5004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0066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1075" name="Group 51"/>
            <p:cNvGrpSpPr/>
            <p:nvPr/>
          </p:nvGrpSpPr>
          <p:grpSpPr>
            <a:xfrm>
              <a:off x="1258200" y="4051800"/>
              <a:ext cx="128160" cy="109800"/>
              <a:chOff x="1258200" y="4051800"/>
              <a:chExt cx="128160" cy="109800"/>
            </a:xfrm>
          </p:grpSpPr>
          <p:sp>
            <p:nvSpPr>
              <p:cNvPr id="1076" name="Freeform 52"/>
              <p:cNvSpPr/>
              <p:nvPr/>
            </p:nvSpPr>
            <p:spPr>
              <a:xfrm>
                <a:off x="1258200" y="4118040"/>
                <a:ext cx="49680" cy="43560"/>
              </a:xfrm>
              <a:custGeom>
                <a:avLst/>
                <a:gdLst>
                  <a:gd name="textAreaLeft" fmla="*/ 0 w 49680"/>
                  <a:gd name="textAreaRight" fmla="*/ 50040 w 4968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000094"/>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77" name="Freeform 53"/>
              <p:cNvSpPr/>
              <p:nvPr/>
            </p:nvSpPr>
            <p:spPr>
              <a:xfrm flipH="1">
                <a:off x="1335960" y="4118040"/>
                <a:ext cx="50040" cy="43560"/>
              </a:xfrm>
              <a:custGeom>
                <a:avLst/>
                <a:gdLst>
                  <a:gd name="textAreaLeft" fmla="*/ -360 w 50040"/>
                  <a:gd name="textAreaRight" fmla="*/ 50040 w 5004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000094"/>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nvGrpSpPr>
              <p:cNvPr id="1078" name="Group 54"/>
              <p:cNvGrpSpPr/>
              <p:nvPr/>
            </p:nvGrpSpPr>
            <p:grpSpPr>
              <a:xfrm>
                <a:off x="1258200" y="4051800"/>
                <a:ext cx="128160" cy="43560"/>
                <a:chOff x="1258200" y="4051800"/>
                <a:chExt cx="128160" cy="43560"/>
              </a:xfrm>
            </p:grpSpPr>
            <p:sp>
              <p:nvSpPr>
                <p:cNvPr id="1079" name="Freeform 55"/>
                <p:cNvSpPr/>
                <p:nvPr/>
              </p:nvSpPr>
              <p:spPr>
                <a:xfrm flipV="1">
                  <a:off x="1258200" y="4051440"/>
                  <a:ext cx="49680" cy="43560"/>
                </a:xfrm>
                <a:custGeom>
                  <a:avLst/>
                  <a:gdLst>
                    <a:gd name="textAreaLeft" fmla="*/ 0 w 49680"/>
                    <a:gd name="textAreaRight" fmla="*/ 50040 w 4968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000094"/>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80" name="Freeform 56"/>
                <p:cNvSpPr/>
                <p:nvPr/>
              </p:nvSpPr>
              <p:spPr>
                <a:xfrm flipH="1" flipV="1">
                  <a:off x="1335960" y="4051440"/>
                  <a:ext cx="50040" cy="43560"/>
                </a:xfrm>
                <a:custGeom>
                  <a:avLst/>
                  <a:gdLst>
                    <a:gd name="textAreaLeft" fmla="*/ -360 w 50040"/>
                    <a:gd name="textAreaRight" fmla="*/ 50040 w 5004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000094"/>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1081" name="Group 57"/>
            <p:cNvGrpSpPr/>
            <p:nvPr/>
          </p:nvGrpSpPr>
          <p:grpSpPr>
            <a:xfrm>
              <a:off x="1326240" y="2954520"/>
              <a:ext cx="128160" cy="109800"/>
              <a:chOff x="1326240" y="2954520"/>
              <a:chExt cx="128160" cy="109800"/>
            </a:xfrm>
          </p:grpSpPr>
          <p:sp>
            <p:nvSpPr>
              <p:cNvPr id="1082" name="Freeform 58"/>
              <p:cNvSpPr/>
              <p:nvPr/>
            </p:nvSpPr>
            <p:spPr>
              <a:xfrm>
                <a:off x="1326240" y="3020760"/>
                <a:ext cx="49680" cy="43560"/>
              </a:xfrm>
              <a:custGeom>
                <a:avLst/>
                <a:gdLst>
                  <a:gd name="textAreaLeft" fmla="*/ 0 w 49680"/>
                  <a:gd name="textAreaRight" fmla="*/ 50040 w 4968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83" name="Freeform 59"/>
              <p:cNvSpPr/>
              <p:nvPr/>
            </p:nvSpPr>
            <p:spPr>
              <a:xfrm flipH="1">
                <a:off x="1404000" y="3020760"/>
                <a:ext cx="50040" cy="43560"/>
              </a:xfrm>
              <a:custGeom>
                <a:avLst/>
                <a:gdLst>
                  <a:gd name="textAreaLeft" fmla="*/ -360 w 50040"/>
                  <a:gd name="textAreaRight" fmla="*/ 50040 w 50040"/>
                  <a:gd name="textAreaTop" fmla="*/ 0 h 43560"/>
                  <a:gd name="textAreaBottom" fmla="*/ 4392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nvGrpSpPr>
              <p:cNvPr id="1084" name="Group 60"/>
              <p:cNvGrpSpPr/>
              <p:nvPr/>
            </p:nvGrpSpPr>
            <p:grpSpPr>
              <a:xfrm>
                <a:off x="1326240" y="2954520"/>
                <a:ext cx="128160" cy="43560"/>
                <a:chOff x="1326240" y="2954520"/>
                <a:chExt cx="128160" cy="43560"/>
              </a:xfrm>
            </p:grpSpPr>
            <p:sp>
              <p:nvSpPr>
                <p:cNvPr id="1085" name="Freeform 61"/>
                <p:cNvSpPr/>
                <p:nvPr/>
              </p:nvSpPr>
              <p:spPr>
                <a:xfrm flipV="1">
                  <a:off x="1326240" y="2954160"/>
                  <a:ext cx="49680" cy="43560"/>
                </a:xfrm>
                <a:custGeom>
                  <a:avLst/>
                  <a:gdLst>
                    <a:gd name="textAreaLeft" fmla="*/ 0 w 49680"/>
                    <a:gd name="textAreaRight" fmla="*/ 50040 w 4968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86" name="Freeform 62"/>
                <p:cNvSpPr/>
                <p:nvPr/>
              </p:nvSpPr>
              <p:spPr>
                <a:xfrm flipH="1" flipV="1">
                  <a:off x="1404000" y="2954160"/>
                  <a:ext cx="50040" cy="43560"/>
                </a:xfrm>
                <a:custGeom>
                  <a:avLst/>
                  <a:gdLst>
                    <a:gd name="textAreaLeft" fmla="*/ -360 w 50040"/>
                    <a:gd name="textAreaRight" fmla="*/ 50040 w 50040"/>
                    <a:gd name="textAreaTop" fmla="*/ -360 h 43560"/>
                    <a:gd name="textAreaBottom" fmla="*/ 43560 h 43560"/>
                  </a:gdLst>
                  <a:ahLst/>
                  <a:rect l="textAreaLeft" t="textAreaTop" r="textAreaRight" b="textAreaBottom"/>
                  <a:pathLst>
                    <a:path w="33" h="30">
                      <a:moveTo>
                        <a:pt x="0" y="0"/>
                      </a:moveTo>
                      <a:lnTo>
                        <a:pt x="0" y="30"/>
                      </a:lnTo>
                      <a:lnTo>
                        <a:pt x="33" y="30"/>
                      </a:lnTo>
                    </a:path>
                  </a:pathLst>
                </a:custGeom>
                <a:noFill/>
                <a:ln w="28440">
                  <a:solidFill>
                    <a:srgbClr val="800000"/>
                  </a:solidFill>
                  <a:round/>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sp>
        <p:nvSpPr>
          <p:cNvPr id="1087" name="Text Box 63"/>
          <p:cNvSpPr/>
          <p:nvPr/>
        </p:nvSpPr>
        <p:spPr>
          <a:xfrm>
            <a:off x="1127160" y="1936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8" name="Rectangle 64"/>
          <p:cNvSpPr/>
          <p:nvPr/>
        </p:nvSpPr>
        <p:spPr>
          <a:xfrm>
            <a:off x="533520" y="228600"/>
            <a:ext cx="81532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ACOUSTIC (SONIC) LOG</a:t>
            </a:r>
            <a:endParaRPr b="0" lang="en-US" sz="4000" spc="-1" strike="noStrike">
              <a:solidFill>
                <a:srgbClr val="000000"/>
              </a:solidFill>
              <a:latin typeface="Times New Roman"/>
            </a:endParaRPr>
          </a:p>
        </p:txBody>
      </p:sp>
      <p:sp>
        <p:nvSpPr>
          <p:cNvPr id="1089" name="Text Box 65"/>
          <p:cNvSpPr/>
          <p:nvPr/>
        </p:nvSpPr>
        <p:spPr>
          <a:xfrm>
            <a:off x="4632480" y="1793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Rectangle 66"/>
          <p:cNvSpPr/>
          <p:nvPr/>
        </p:nvSpPr>
        <p:spPr>
          <a:xfrm>
            <a:off x="4724280" y="1523880"/>
            <a:ext cx="41148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 usually consists of one sound transmitter (above) and two receivers (below)</a:t>
            </a:r>
            <a:endParaRPr b="0" lang="en-US" sz="2400" spc="-1" strike="noStrike">
              <a:solidFill>
                <a:srgbClr val="000000"/>
              </a:solidFill>
              <a:latin typeface="Times New Roman"/>
            </a:endParaRPr>
          </a:p>
          <a:p>
            <a:pPr marL="343080" indent="-34308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nd is generated, travels through formation</a:t>
            </a:r>
            <a:endParaRPr b="0" lang="en-US" sz="2400" spc="-1" strike="noStrike">
              <a:solidFill>
                <a:srgbClr val="000000"/>
              </a:solidFill>
              <a:latin typeface="Times New Roman"/>
            </a:endParaRPr>
          </a:p>
          <a:p>
            <a:pPr marL="343080" indent="-343080">
              <a:lnSpc>
                <a:spcPct val="9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apsed time between sound wave at receiver 1 vs receiver 2 is dependent upon density of medium through which the sound travel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afterEffect" fill="hold" presetClass="entr" presetID="12" presetSubtype="2">
                                  <p:stCondLst>
                                    <p:cond delay="0"/>
                                  </p:stCondLst>
                                  <p:childTnLst>
                                    <p:set>
                                      <p:cBhvr>
                                        <p:cTn id="378" dur="1" fill="hold">
                                          <p:stCondLst>
                                            <p:cond delay="0"/>
                                          </p:stCondLst>
                                        </p:cTn>
                                        <p:tgtEl>
                                          <p:spTgt spid="1088"/>
                                        </p:tgtEl>
                                        <p:attrNameLst>
                                          <p:attrName>style.visibility</p:attrName>
                                        </p:attrNameLst>
                                      </p:cBhvr>
                                      <p:to>
                                        <p:strVal val="visible"/>
                                      </p:to>
                                    </p:set>
                                    <p:animEffect filter="slide(fromRight)" transition="in">
                                      <p:cBhvr additive="repl">
                                        <p:cTn id="379" dur="500"/>
                                        <p:tgtEl>
                                          <p:spTgt spid="1088"/>
                                        </p:tgtEl>
                                      </p:cBhvr>
                                    </p:animEffect>
                                  </p:childTnLst>
                                </p:cTn>
                              </p:par>
                            </p:childTnLst>
                          </p:cTn>
                        </p:par>
                        <p:par>
                          <p:cTn id="380" fill="hold">
                            <p:stCondLst>
                              <p:cond delay="500"/>
                            </p:stCondLst>
                            <p:childTnLst>
                              <p:par>
                                <p:cTn id="381" nodeType="afterEffect" fill="hold" presetClass="entr" presetID="22" presetSubtype="1">
                                  <p:stCondLst>
                                    <p:cond delay="0"/>
                                  </p:stCondLst>
                                  <p:childTnLst>
                                    <p:set>
                                      <p:cBhvr>
                                        <p:cTn id="382" dur="1" fill="hold">
                                          <p:stCondLst>
                                            <p:cond delay="0"/>
                                          </p:stCondLst>
                                        </p:cTn>
                                        <p:tgtEl>
                                          <p:spTgt spid="1090">
                                            <p:txEl>
                                              <p:pRg st="0" end="0"/>
                                            </p:txEl>
                                          </p:spTgt>
                                        </p:tgtEl>
                                        <p:attrNameLst>
                                          <p:attrName>style.visibility</p:attrName>
                                        </p:attrNameLst>
                                      </p:cBhvr>
                                      <p:to>
                                        <p:strVal val="visible"/>
                                      </p:to>
                                    </p:set>
                                    <p:animEffect filter="wipe(up)" transition="in">
                                      <p:cBhvr additive="repl">
                                        <p:cTn id="383" dur="500"/>
                                        <p:tgtEl>
                                          <p:spTgt spid="1090">
                                            <p:txEl>
                                              <p:pRg st="0" end="0"/>
                                            </p:txEl>
                                          </p:spTgt>
                                        </p:tgtEl>
                                      </p:cBhvr>
                                    </p:animEffect>
                                  </p:childTnLst>
                                </p:cTn>
                              </p:par>
                            </p:childTnLst>
                          </p:cTn>
                        </p:par>
                        <p:par>
                          <p:cTn id="384" fill="hold">
                            <p:stCondLst>
                              <p:cond delay="1000"/>
                            </p:stCondLst>
                            <p:childTnLst>
                              <p:par>
                                <p:cTn id="385" nodeType="afterEffect" fill="hold" presetClass="entr" presetID="22" presetSubtype="1">
                                  <p:stCondLst>
                                    <p:cond delay="0"/>
                                  </p:stCondLst>
                                  <p:childTnLst>
                                    <p:set>
                                      <p:cBhvr>
                                        <p:cTn id="386" dur="1" fill="hold">
                                          <p:stCondLst>
                                            <p:cond delay="0"/>
                                          </p:stCondLst>
                                        </p:cTn>
                                        <p:tgtEl>
                                          <p:spTgt spid="1090">
                                            <p:txEl>
                                              <p:pRg st="1" end="1"/>
                                            </p:txEl>
                                          </p:spTgt>
                                        </p:tgtEl>
                                        <p:attrNameLst>
                                          <p:attrName>style.visibility</p:attrName>
                                        </p:attrNameLst>
                                      </p:cBhvr>
                                      <p:to>
                                        <p:strVal val="visible"/>
                                      </p:to>
                                    </p:set>
                                    <p:animEffect filter="wipe(up)" transition="in">
                                      <p:cBhvr additive="repl">
                                        <p:cTn id="387" dur="500"/>
                                        <p:tgtEl>
                                          <p:spTgt spid="1090">
                                            <p:txEl>
                                              <p:pRg st="1" end="1"/>
                                            </p:txEl>
                                          </p:spTgt>
                                        </p:tgtEl>
                                      </p:cBhvr>
                                    </p:animEffect>
                                  </p:childTnLst>
                                </p:cTn>
                              </p:par>
                            </p:childTnLst>
                          </p:cTn>
                        </p:par>
                        <p:par>
                          <p:cTn id="388" fill="hold">
                            <p:stCondLst>
                              <p:cond delay="1500"/>
                            </p:stCondLst>
                            <p:childTnLst>
                              <p:par>
                                <p:cTn id="389" nodeType="afterEffect" fill="hold" presetClass="entr" presetID="22" presetSubtype="1">
                                  <p:stCondLst>
                                    <p:cond delay="0"/>
                                  </p:stCondLst>
                                  <p:childTnLst>
                                    <p:set>
                                      <p:cBhvr>
                                        <p:cTn id="390" dur="1" fill="hold">
                                          <p:stCondLst>
                                            <p:cond delay="0"/>
                                          </p:stCondLst>
                                        </p:cTn>
                                        <p:tgtEl>
                                          <p:spTgt spid="1090">
                                            <p:txEl>
                                              <p:pRg st="2" end="2"/>
                                            </p:txEl>
                                          </p:spTgt>
                                        </p:tgtEl>
                                        <p:attrNameLst>
                                          <p:attrName>style.visibility</p:attrName>
                                        </p:attrNameLst>
                                      </p:cBhvr>
                                      <p:to>
                                        <p:strVal val="visible"/>
                                      </p:to>
                                    </p:set>
                                    <p:animEffect filter="wipe(up)" transition="in">
                                      <p:cBhvr additive="repl">
                                        <p:cTn id="391" dur="500"/>
                                        <p:tgtEl>
                                          <p:spTgt spid="10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2"/>
          <p:cNvGrpSpPr/>
          <p:nvPr/>
        </p:nvGrpSpPr>
        <p:grpSpPr>
          <a:xfrm>
            <a:off x="1260360" y="2401920"/>
            <a:ext cx="6791400" cy="4038480"/>
            <a:chOff x="1260360" y="2401920"/>
            <a:chExt cx="6791400" cy="4038480"/>
          </a:xfrm>
        </p:grpSpPr>
        <p:sp>
          <p:nvSpPr>
            <p:cNvPr id="50" name="Line 3"/>
            <p:cNvSpPr/>
            <p:nvPr/>
          </p:nvSpPr>
          <p:spPr>
            <a:xfrm flipH="1">
              <a:off x="5857560" y="2855880"/>
              <a:ext cx="1141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1" name="Line 4"/>
            <p:cNvSpPr/>
            <p:nvPr/>
          </p:nvSpPr>
          <p:spPr>
            <a:xfrm flipH="1">
              <a:off x="5839920" y="2886120"/>
              <a:ext cx="11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Line 5"/>
            <p:cNvSpPr/>
            <p:nvPr/>
          </p:nvSpPr>
          <p:spPr>
            <a:xfrm flipH="1">
              <a:off x="5823000" y="2913120"/>
              <a:ext cx="1094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 name="Line 6"/>
            <p:cNvSpPr/>
            <p:nvPr/>
          </p:nvSpPr>
          <p:spPr>
            <a:xfrm flipH="1">
              <a:off x="5803560" y="2941560"/>
              <a:ext cx="1126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4" name="Oval 7"/>
            <p:cNvSpPr/>
            <p:nvPr/>
          </p:nvSpPr>
          <p:spPr>
            <a:xfrm flipH="1">
              <a:off x="6068880" y="2854440"/>
              <a:ext cx="54000" cy="5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Oval 8"/>
            <p:cNvSpPr/>
            <p:nvPr/>
          </p:nvSpPr>
          <p:spPr>
            <a:xfrm flipH="1">
              <a:off x="5923080" y="2854440"/>
              <a:ext cx="54000" cy="5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Oval 9"/>
            <p:cNvSpPr/>
            <p:nvPr/>
          </p:nvSpPr>
          <p:spPr>
            <a:xfrm flipH="1">
              <a:off x="6948360" y="2851200"/>
              <a:ext cx="54000" cy="507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Freeform 10"/>
            <p:cNvSpPr/>
            <p:nvPr/>
          </p:nvSpPr>
          <p:spPr>
            <a:xfrm>
              <a:off x="1270080" y="4081320"/>
              <a:ext cx="6772320" cy="1084320"/>
            </a:xfrm>
            <a:custGeom>
              <a:avLst/>
              <a:gdLst>
                <a:gd name="textAreaLeft" fmla="*/ 0 w 6772320"/>
                <a:gd name="textAreaRight" fmla="*/ 6772680 w 6772320"/>
                <a:gd name="textAreaTop" fmla="*/ 0 h 1084320"/>
                <a:gd name="textAreaBottom" fmla="*/ 1084680 h 1084320"/>
              </a:gdLst>
              <a:ahLst/>
              <a:rect l="textAreaLeft" t="textAreaTop" r="textAreaRight" b="textAreaBottom"/>
              <a:pathLst>
                <a:path w="4014" h="642">
                  <a:moveTo>
                    <a:pt x="12" y="138"/>
                  </a:moveTo>
                  <a:lnTo>
                    <a:pt x="336" y="84"/>
                  </a:lnTo>
                  <a:lnTo>
                    <a:pt x="852" y="42"/>
                  </a:lnTo>
                  <a:lnTo>
                    <a:pt x="1296" y="12"/>
                  </a:lnTo>
                  <a:lnTo>
                    <a:pt x="1722" y="6"/>
                  </a:lnTo>
                  <a:lnTo>
                    <a:pt x="2010" y="0"/>
                  </a:lnTo>
                  <a:lnTo>
                    <a:pt x="2418" y="0"/>
                  </a:lnTo>
                  <a:lnTo>
                    <a:pt x="2754" y="12"/>
                  </a:lnTo>
                  <a:lnTo>
                    <a:pt x="3054" y="24"/>
                  </a:lnTo>
                  <a:lnTo>
                    <a:pt x="3366" y="36"/>
                  </a:lnTo>
                  <a:lnTo>
                    <a:pt x="3786" y="78"/>
                  </a:lnTo>
                  <a:lnTo>
                    <a:pt x="4014" y="96"/>
                  </a:lnTo>
                  <a:lnTo>
                    <a:pt x="4014" y="642"/>
                  </a:lnTo>
                  <a:lnTo>
                    <a:pt x="3834" y="606"/>
                  </a:lnTo>
                  <a:lnTo>
                    <a:pt x="3336" y="558"/>
                  </a:lnTo>
                  <a:lnTo>
                    <a:pt x="2856" y="516"/>
                  </a:lnTo>
                  <a:lnTo>
                    <a:pt x="2352" y="486"/>
                  </a:lnTo>
                  <a:lnTo>
                    <a:pt x="1974" y="486"/>
                  </a:lnTo>
                  <a:lnTo>
                    <a:pt x="1500" y="510"/>
                  </a:lnTo>
                  <a:lnTo>
                    <a:pt x="1038" y="522"/>
                  </a:lnTo>
                  <a:lnTo>
                    <a:pt x="498" y="558"/>
                  </a:lnTo>
                  <a:lnTo>
                    <a:pt x="168" y="612"/>
                  </a:lnTo>
                  <a:lnTo>
                    <a:pt x="0" y="624"/>
                  </a:lnTo>
                  <a:lnTo>
                    <a:pt x="12" y="138"/>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Freeform 11"/>
            <p:cNvSpPr/>
            <p:nvPr/>
          </p:nvSpPr>
          <p:spPr>
            <a:xfrm>
              <a:off x="1260360" y="4923000"/>
              <a:ext cx="6770880" cy="1031760"/>
            </a:xfrm>
            <a:custGeom>
              <a:avLst/>
              <a:gdLst>
                <a:gd name="textAreaLeft" fmla="*/ 0 w 6770880"/>
                <a:gd name="textAreaRight" fmla="*/ 6771240 w 6770880"/>
                <a:gd name="textAreaTop" fmla="*/ 0 h 1031760"/>
                <a:gd name="textAreaBottom" fmla="*/ 1032120 h 1031760"/>
              </a:gdLst>
              <a:ahLst/>
              <a:rect l="textAreaLeft" t="textAreaTop" r="textAreaRight" b="textAreaBottom"/>
              <a:pathLst>
                <a:path w="4014" h="612">
                  <a:moveTo>
                    <a:pt x="12" y="126"/>
                  </a:moveTo>
                  <a:lnTo>
                    <a:pt x="492" y="72"/>
                  </a:lnTo>
                  <a:lnTo>
                    <a:pt x="756" y="48"/>
                  </a:lnTo>
                  <a:lnTo>
                    <a:pt x="1164" y="24"/>
                  </a:lnTo>
                  <a:lnTo>
                    <a:pt x="1440" y="12"/>
                  </a:lnTo>
                  <a:lnTo>
                    <a:pt x="1950" y="0"/>
                  </a:lnTo>
                  <a:lnTo>
                    <a:pt x="2322" y="6"/>
                  </a:lnTo>
                  <a:lnTo>
                    <a:pt x="2652" y="18"/>
                  </a:lnTo>
                  <a:lnTo>
                    <a:pt x="3108" y="48"/>
                  </a:lnTo>
                  <a:lnTo>
                    <a:pt x="3732" y="108"/>
                  </a:lnTo>
                  <a:lnTo>
                    <a:pt x="4014" y="144"/>
                  </a:lnTo>
                  <a:lnTo>
                    <a:pt x="4014" y="612"/>
                  </a:lnTo>
                  <a:lnTo>
                    <a:pt x="3732" y="552"/>
                  </a:lnTo>
                  <a:lnTo>
                    <a:pt x="3378" y="480"/>
                  </a:lnTo>
                  <a:lnTo>
                    <a:pt x="3024" y="408"/>
                  </a:lnTo>
                  <a:lnTo>
                    <a:pt x="2736" y="372"/>
                  </a:lnTo>
                  <a:lnTo>
                    <a:pt x="2538" y="348"/>
                  </a:lnTo>
                  <a:lnTo>
                    <a:pt x="2328" y="330"/>
                  </a:lnTo>
                  <a:lnTo>
                    <a:pt x="2040" y="342"/>
                  </a:lnTo>
                  <a:lnTo>
                    <a:pt x="1746" y="354"/>
                  </a:lnTo>
                  <a:lnTo>
                    <a:pt x="1518" y="384"/>
                  </a:lnTo>
                  <a:lnTo>
                    <a:pt x="1332" y="390"/>
                  </a:lnTo>
                  <a:lnTo>
                    <a:pt x="990" y="444"/>
                  </a:lnTo>
                  <a:lnTo>
                    <a:pt x="564" y="510"/>
                  </a:lnTo>
                  <a:lnTo>
                    <a:pt x="78" y="594"/>
                  </a:lnTo>
                  <a:lnTo>
                    <a:pt x="0" y="612"/>
                  </a:lnTo>
                  <a:lnTo>
                    <a:pt x="12" y="12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Freeform 12"/>
            <p:cNvSpPr/>
            <p:nvPr/>
          </p:nvSpPr>
          <p:spPr>
            <a:xfrm>
              <a:off x="1281240" y="5489640"/>
              <a:ext cx="6761160" cy="890640"/>
            </a:xfrm>
            <a:custGeom>
              <a:avLst/>
              <a:gdLst>
                <a:gd name="textAreaLeft" fmla="*/ 0 w 6761160"/>
                <a:gd name="textAreaRight" fmla="*/ 6761520 w 6761160"/>
                <a:gd name="textAreaTop" fmla="*/ 0 h 890640"/>
                <a:gd name="textAreaBottom" fmla="*/ 891000 h 890640"/>
              </a:gdLst>
              <a:ahLst/>
              <a:rect l="textAreaLeft" t="textAreaTop" r="textAreaRight" b="textAreaBottom"/>
              <a:pathLst>
                <a:path w="4008" h="528">
                  <a:moveTo>
                    <a:pt x="0" y="276"/>
                  </a:moveTo>
                  <a:lnTo>
                    <a:pt x="0" y="528"/>
                  </a:lnTo>
                  <a:lnTo>
                    <a:pt x="4008" y="528"/>
                  </a:lnTo>
                  <a:lnTo>
                    <a:pt x="3996" y="276"/>
                  </a:lnTo>
                  <a:lnTo>
                    <a:pt x="3564" y="192"/>
                  </a:lnTo>
                  <a:lnTo>
                    <a:pt x="3162" y="102"/>
                  </a:lnTo>
                  <a:lnTo>
                    <a:pt x="2670" y="30"/>
                  </a:lnTo>
                  <a:lnTo>
                    <a:pt x="2346" y="0"/>
                  </a:lnTo>
                  <a:lnTo>
                    <a:pt x="2010" y="12"/>
                  </a:lnTo>
                  <a:lnTo>
                    <a:pt x="1638" y="30"/>
                  </a:lnTo>
                  <a:lnTo>
                    <a:pt x="1200" y="78"/>
                  </a:lnTo>
                  <a:lnTo>
                    <a:pt x="612" y="174"/>
                  </a:lnTo>
                  <a:lnTo>
                    <a:pt x="282" y="228"/>
                  </a:lnTo>
                  <a:lnTo>
                    <a:pt x="0" y="276"/>
                  </a:ln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Freeform 13"/>
            <p:cNvSpPr/>
            <p:nvPr/>
          </p:nvSpPr>
          <p:spPr>
            <a:xfrm>
              <a:off x="1290600" y="4911840"/>
              <a:ext cx="6751800" cy="253800"/>
            </a:xfrm>
            <a:custGeom>
              <a:avLst/>
              <a:gdLst>
                <a:gd name="textAreaLeft" fmla="*/ 0 w 6751800"/>
                <a:gd name="textAreaRight" fmla="*/ 6752160 w 6751800"/>
                <a:gd name="textAreaTop" fmla="*/ 0 h 253800"/>
                <a:gd name="textAreaBottom" fmla="*/ 254160 h 253800"/>
              </a:gdLst>
              <a:ahLst/>
              <a:rect l="textAreaLeft" t="textAreaTop" r="textAreaRight" b="textAreaBottom"/>
              <a:pathLst>
                <a:path w="4002" h="150">
                  <a:moveTo>
                    <a:pt x="0" y="138"/>
                  </a:moveTo>
                  <a:lnTo>
                    <a:pt x="492" y="72"/>
                  </a:lnTo>
                  <a:lnTo>
                    <a:pt x="1182" y="24"/>
                  </a:lnTo>
                  <a:lnTo>
                    <a:pt x="1692" y="12"/>
                  </a:lnTo>
                  <a:lnTo>
                    <a:pt x="2016" y="0"/>
                  </a:lnTo>
                  <a:lnTo>
                    <a:pt x="2544" y="18"/>
                  </a:lnTo>
                  <a:lnTo>
                    <a:pt x="3138" y="54"/>
                  </a:lnTo>
                  <a:lnTo>
                    <a:pt x="3690" y="108"/>
                  </a:lnTo>
                  <a:lnTo>
                    <a:pt x="4002" y="150"/>
                  </a:lnTo>
                </a:path>
              </a:pathLst>
            </a:custGeom>
            <a:noFill/>
            <a:ln w="2844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Freeform 14"/>
            <p:cNvSpPr/>
            <p:nvPr/>
          </p:nvSpPr>
          <p:spPr>
            <a:xfrm>
              <a:off x="1281240" y="5489640"/>
              <a:ext cx="6750000" cy="474480"/>
            </a:xfrm>
            <a:custGeom>
              <a:avLst/>
              <a:gdLst>
                <a:gd name="textAreaLeft" fmla="*/ 0 w 6750000"/>
                <a:gd name="textAreaRight" fmla="*/ 6750360 w 6750000"/>
                <a:gd name="textAreaTop" fmla="*/ 0 h 474480"/>
                <a:gd name="textAreaBottom" fmla="*/ 474840 h 474480"/>
              </a:gdLst>
              <a:ahLst/>
              <a:rect l="textAreaLeft" t="textAreaTop" r="textAreaRight" b="textAreaBottom"/>
              <a:pathLst>
                <a:path w="4002" h="282">
                  <a:moveTo>
                    <a:pt x="0" y="282"/>
                  </a:moveTo>
                  <a:lnTo>
                    <a:pt x="708" y="156"/>
                  </a:lnTo>
                  <a:lnTo>
                    <a:pt x="1032" y="102"/>
                  </a:lnTo>
                  <a:lnTo>
                    <a:pt x="1428" y="54"/>
                  </a:lnTo>
                  <a:lnTo>
                    <a:pt x="1734" y="24"/>
                  </a:lnTo>
                  <a:lnTo>
                    <a:pt x="1926" y="12"/>
                  </a:lnTo>
                  <a:lnTo>
                    <a:pt x="2172" y="0"/>
                  </a:lnTo>
                  <a:lnTo>
                    <a:pt x="2406" y="6"/>
                  </a:lnTo>
                  <a:lnTo>
                    <a:pt x="2778" y="42"/>
                  </a:lnTo>
                  <a:lnTo>
                    <a:pt x="3186" y="108"/>
                  </a:lnTo>
                  <a:lnTo>
                    <a:pt x="3582" y="192"/>
                  </a:lnTo>
                  <a:lnTo>
                    <a:pt x="4002" y="282"/>
                  </a:lnTo>
                </a:path>
              </a:pathLst>
            </a:custGeom>
            <a:noFill/>
            <a:ln w="2844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Freeform 15"/>
            <p:cNvSpPr/>
            <p:nvPr/>
          </p:nvSpPr>
          <p:spPr>
            <a:xfrm>
              <a:off x="3730680" y="5661000"/>
              <a:ext cx="2408040" cy="395280"/>
            </a:xfrm>
            <a:custGeom>
              <a:avLst/>
              <a:gdLst>
                <a:gd name="textAreaLeft" fmla="*/ 0 w 2408040"/>
                <a:gd name="textAreaRight" fmla="*/ 2408400 w 2408040"/>
                <a:gd name="textAreaTop" fmla="*/ 0 h 395280"/>
                <a:gd name="textAreaBottom" fmla="*/ 395640 h 395280"/>
              </a:gdLst>
              <a:ahLst/>
              <a:rect l="textAreaLeft" t="textAreaTop" r="textAreaRight" b="textAreaBottom"/>
              <a:pathLst>
                <a:path w="1428" h="234">
                  <a:moveTo>
                    <a:pt x="654" y="0"/>
                  </a:moveTo>
                  <a:lnTo>
                    <a:pt x="474" y="18"/>
                  </a:lnTo>
                  <a:lnTo>
                    <a:pt x="552" y="30"/>
                  </a:lnTo>
                  <a:lnTo>
                    <a:pt x="366" y="36"/>
                  </a:lnTo>
                  <a:lnTo>
                    <a:pt x="450" y="66"/>
                  </a:lnTo>
                  <a:lnTo>
                    <a:pt x="204" y="66"/>
                  </a:lnTo>
                  <a:lnTo>
                    <a:pt x="312" y="90"/>
                  </a:lnTo>
                  <a:lnTo>
                    <a:pt x="84" y="90"/>
                  </a:lnTo>
                  <a:lnTo>
                    <a:pt x="162" y="96"/>
                  </a:lnTo>
                  <a:lnTo>
                    <a:pt x="0" y="102"/>
                  </a:lnTo>
                  <a:lnTo>
                    <a:pt x="78" y="114"/>
                  </a:lnTo>
                  <a:lnTo>
                    <a:pt x="18" y="144"/>
                  </a:lnTo>
                  <a:lnTo>
                    <a:pt x="144" y="150"/>
                  </a:lnTo>
                  <a:lnTo>
                    <a:pt x="228" y="174"/>
                  </a:lnTo>
                  <a:lnTo>
                    <a:pt x="156" y="204"/>
                  </a:lnTo>
                  <a:lnTo>
                    <a:pt x="300" y="180"/>
                  </a:lnTo>
                  <a:lnTo>
                    <a:pt x="234" y="216"/>
                  </a:lnTo>
                  <a:lnTo>
                    <a:pt x="504" y="198"/>
                  </a:lnTo>
                  <a:lnTo>
                    <a:pt x="654" y="204"/>
                  </a:lnTo>
                  <a:lnTo>
                    <a:pt x="942" y="198"/>
                  </a:lnTo>
                  <a:lnTo>
                    <a:pt x="906" y="234"/>
                  </a:lnTo>
                  <a:lnTo>
                    <a:pt x="1122" y="192"/>
                  </a:lnTo>
                  <a:lnTo>
                    <a:pt x="1110" y="228"/>
                  </a:lnTo>
                  <a:lnTo>
                    <a:pt x="1212" y="198"/>
                  </a:lnTo>
                  <a:cubicBezTo>
                    <a:pt x="1330" y="173"/>
                    <a:pt x="1326" y="135"/>
                    <a:pt x="1326" y="186"/>
                  </a:cubicBezTo>
                  <a:lnTo>
                    <a:pt x="1416" y="150"/>
                  </a:lnTo>
                  <a:lnTo>
                    <a:pt x="1428" y="108"/>
                  </a:lnTo>
                  <a:lnTo>
                    <a:pt x="1230" y="96"/>
                  </a:lnTo>
                  <a:lnTo>
                    <a:pt x="1122" y="66"/>
                  </a:lnTo>
                  <a:lnTo>
                    <a:pt x="1194" y="48"/>
                  </a:lnTo>
                  <a:lnTo>
                    <a:pt x="1026" y="48"/>
                  </a:lnTo>
                  <a:lnTo>
                    <a:pt x="930" y="42"/>
                  </a:lnTo>
                  <a:lnTo>
                    <a:pt x="996" y="24"/>
                  </a:lnTo>
                  <a:lnTo>
                    <a:pt x="846" y="12"/>
                  </a:lnTo>
                  <a:lnTo>
                    <a:pt x="804" y="0"/>
                  </a:lnTo>
                  <a:lnTo>
                    <a:pt x="654" y="0"/>
                  </a:lnTo>
                  <a:close/>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Freeform 16"/>
            <p:cNvSpPr/>
            <p:nvPr/>
          </p:nvSpPr>
          <p:spPr>
            <a:xfrm>
              <a:off x="1270080" y="3544920"/>
              <a:ext cx="6781680" cy="760320"/>
            </a:xfrm>
            <a:custGeom>
              <a:avLst/>
              <a:gdLst>
                <a:gd name="textAreaLeft" fmla="*/ 0 w 6781680"/>
                <a:gd name="textAreaRight" fmla="*/ 6782040 w 6781680"/>
                <a:gd name="textAreaTop" fmla="*/ 0 h 760320"/>
                <a:gd name="textAreaBottom" fmla="*/ 760680 h 760320"/>
              </a:gdLst>
              <a:ahLst/>
              <a:rect l="textAreaLeft" t="textAreaTop" r="textAreaRight" b="textAreaBottom"/>
              <a:pathLst>
                <a:path w="4020" h="450">
                  <a:moveTo>
                    <a:pt x="0" y="0"/>
                  </a:moveTo>
                  <a:lnTo>
                    <a:pt x="4020" y="0"/>
                  </a:lnTo>
                  <a:lnTo>
                    <a:pt x="4020" y="408"/>
                  </a:lnTo>
                  <a:lnTo>
                    <a:pt x="3606" y="366"/>
                  </a:lnTo>
                  <a:lnTo>
                    <a:pt x="3054" y="342"/>
                  </a:lnTo>
                  <a:lnTo>
                    <a:pt x="2484" y="318"/>
                  </a:lnTo>
                  <a:lnTo>
                    <a:pt x="2118" y="312"/>
                  </a:lnTo>
                  <a:lnTo>
                    <a:pt x="1794" y="318"/>
                  </a:lnTo>
                  <a:lnTo>
                    <a:pt x="1230" y="330"/>
                  </a:lnTo>
                  <a:lnTo>
                    <a:pt x="906" y="354"/>
                  </a:lnTo>
                  <a:lnTo>
                    <a:pt x="624" y="366"/>
                  </a:lnTo>
                  <a:lnTo>
                    <a:pt x="252" y="414"/>
                  </a:lnTo>
                  <a:lnTo>
                    <a:pt x="0" y="450"/>
                  </a:lnTo>
                  <a:lnTo>
                    <a:pt x="0" y="0"/>
                  </a:lnTo>
                  <a:close/>
                </a:path>
              </a:pathLst>
            </a:cu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Line 17"/>
            <p:cNvSpPr/>
            <p:nvPr/>
          </p:nvSpPr>
          <p:spPr>
            <a:xfrm>
              <a:off x="1290600" y="3544920"/>
              <a:ext cx="67611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 name="Rectangle 18"/>
            <p:cNvSpPr/>
            <p:nvPr/>
          </p:nvSpPr>
          <p:spPr>
            <a:xfrm>
              <a:off x="1270080" y="2959200"/>
              <a:ext cx="6781680" cy="585720"/>
            </a:xfrm>
            <a:prstGeom prst="rect">
              <a:avLst/>
            </a:prstGeom>
            <a:blipFill rotWithShape="0">
              <a:blip r:embed="rId5"/>
              <a:srcRect/>
              <a:tile tx="0" ty="0" sx="100000" sy="100000" algn="ctr"/>
            </a:blipFill>
            <a:ln w="1908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Freeform 19"/>
            <p:cNvSpPr/>
            <p:nvPr/>
          </p:nvSpPr>
          <p:spPr>
            <a:xfrm>
              <a:off x="1290600" y="4071960"/>
              <a:ext cx="6740640" cy="233280"/>
            </a:xfrm>
            <a:custGeom>
              <a:avLst/>
              <a:gdLst>
                <a:gd name="textAreaLeft" fmla="*/ 0 w 6740640"/>
                <a:gd name="textAreaRight" fmla="*/ 6741000 w 6740640"/>
                <a:gd name="textAreaTop" fmla="*/ 0 h 233280"/>
                <a:gd name="textAreaBottom" fmla="*/ 233640 h 233280"/>
              </a:gdLst>
              <a:ahLst/>
              <a:rect l="textAreaLeft" t="textAreaTop" r="textAreaRight" b="textAreaBottom"/>
              <a:pathLst>
                <a:path w="3996" h="138">
                  <a:moveTo>
                    <a:pt x="0" y="138"/>
                  </a:moveTo>
                  <a:lnTo>
                    <a:pt x="492" y="72"/>
                  </a:lnTo>
                  <a:lnTo>
                    <a:pt x="1182" y="24"/>
                  </a:lnTo>
                  <a:lnTo>
                    <a:pt x="1692" y="12"/>
                  </a:lnTo>
                  <a:lnTo>
                    <a:pt x="2016" y="0"/>
                  </a:lnTo>
                  <a:lnTo>
                    <a:pt x="2544" y="18"/>
                  </a:lnTo>
                  <a:lnTo>
                    <a:pt x="3126" y="36"/>
                  </a:lnTo>
                  <a:lnTo>
                    <a:pt x="3684" y="66"/>
                  </a:lnTo>
                  <a:lnTo>
                    <a:pt x="3996" y="96"/>
                  </a:lnTo>
                </a:path>
              </a:pathLst>
            </a:custGeom>
            <a:noFill/>
            <a:ln w="2844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Line 20"/>
            <p:cNvSpPr/>
            <p:nvPr/>
          </p:nvSpPr>
          <p:spPr>
            <a:xfrm>
              <a:off x="1290600" y="2959200"/>
              <a:ext cx="6761160" cy="1440"/>
            </a:xfrm>
            <a:prstGeom prst="line">
              <a:avLst/>
            </a:prstGeom>
            <a:ln w="28440">
              <a:solidFill>
                <a:srgbClr val="996633"/>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8" name="Rectangle 21"/>
            <p:cNvSpPr/>
            <p:nvPr/>
          </p:nvSpPr>
          <p:spPr>
            <a:xfrm>
              <a:off x="4873680" y="2917800"/>
              <a:ext cx="162000" cy="3522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Freeform 22"/>
            <p:cNvSpPr/>
            <p:nvPr/>
          </p:nvSpPr>
          <p:spPr>
            <a:xfrm flipH="1">
              <a:off x="5994360" y="2800440"/>
              <a:ext cx="308160" cy="117360"/>
            </a:xfrm>
            <a:custGeom>
              <a:avLst/>
              <a:gdLst>
                <a:gd name="textAreaLeft" fmla="*/ 360 w 308160"/>
                <a:gd name="textAreaRight" fmla="*/ 308880 w 308160"/>
                <a:gd name="textAreaTop" fmla="*/ 0 h 117360"/>
                <a:gd name="textAreaBottom" fmla="*/ 117720 h 117360"/>
              </a:gdLst>
              <a:ahLst/>
              <a:rect l="textAreaLeft" t="textAreaTop" r="textAreaRight" b="textAreaBottom"/>
              <a:pathLst>
                <a:path w="331" h="128">
                  <a:moveTo>
                    <a:pt x="0" y="12"/>
                  </a:moveTo>
                  <a:lnTo>
                    <a:pt x="0" y="128"/>
                  </a:lnTo>
                  <a:lnTo>
                    <a:pt x="151" y="122"/>
                  </a:lnTo>
                  <a:lnTo>
                    <a:pt x="142" y="99"/>
                  </a:lnTo>
                  <a:lnTo>
                    <a:pt x="142" y="86"/>
                  </a:lnTo>
                  <a:lnTo>
                    <a:pt x="145" y="62"/>
                  </a:lnTo>
                  <a:lnTo>
                    <a:pt x="154" y="42"/>
                  </a:lnTo>
                  <a:lnTo>
                    <a:pt x="165" y="27"/>
                  </a:lnTo>
                  <a:lnTo>
                    <a:pt x="181" y="14"/>
                  </a:lnTo>
                  <a:lnTo>
                    <a:pt x="195" y="9"/>
                  </a:lnTo>
                  <a:lnTo>
                    <a:pt x="205" y="6"/>
                  </a:lnTo>
                  <a:lnTo>
                    <a:pt x="222" y="5"/>
                  </a:lnTo>
                  <a:lnTo>
                    <a:pt x="244" y="8"/>
                  </a:lnTo>
                  <a:lnTo>
                    <a:pt x="267" y="15"/>
                  </a:lnTo>
                  <a:lnTo>
                    <a:pt x="280" y="30"/>
                  </a:lnTo>
                  <a:lnTo>
                    <a:pt x="294" y="53"/>
                  </a:lnTo>
                  <a:lnTo>
                    <a:pt x="300" y="78"/>
                  </a:lnTo>
                  <a:lnTo>
                    <a:pt x="300" y="92"/>
                  </a:lnTo>
                  <a:lnTo>
                    <a:pt x="309" y="74"/>
                  </a:lnTo>
                  <a:lnTo>
                    <a:pt x="312" y="62"/>
                  </a:lnTo>
                  <a:lnTo>
                    <a:pt x="321" y="36"/>
                  </a:lnTo>
                  <a:lnTo>
                    <a:pt x="331" y="29"/>
                  </a:lnTo>
                  <a:lnTo>
                    <a:pt x="313" y="0"/>
                  </a:lnTo>
                  <a:lnTo>
                    <a:pt x="0" y="12"/>
                  </a:lnTo>
                  <a:close/>
                </a:path>
              </a:pathLst>
            </a:cu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Oval 23"/>
            <p:cNvSpPr/>
            <p:nvPr/>
          </p:nvSpPr>
          <p:spPr>
            <a:xfrm flipH="1">
              <a:off x="6023880" y="2803680"/>
              <a:ext cx="144360" cy="1490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Oval 24"/>
            <p:cNvSpPr/>
            <p:nvPr/>
          </p:nvSpPr>
          <p:spPr>
            <a:xfrm flipH="1">
              <a:off x="5868360" y="2801880"/>
              <a:ext cx="144360" cy="147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Line 25"/>
            <p:cNvSpPr/>
            <p:nvPr/>
          </p:nvSpPr>
          <p:spPr>
            <a:xfrm flipH="1">
              <a:off x="5895720" y="2803680"/>
              <a:ext cx="114120" cy="16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Line 26"/>
            <p:cNvSpPr/>
            <p:nvPr/>
          </p:nvSpPr>
          <p:spPr>
            <a:xfrm flipH="1">
              <a:off x="5792760" y="2801880"/>
              <a:ext cx="100080" cy="157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Line 27"/>
            <p:cNvSpPr/>
            <p:nvPr/>
          </p:nvSpPr>
          <p:spPr>
            <a:xfrm flipH="1">
              <a:off x="5873760" y="2827440"/>
              <a:ext cx="123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 name="Freeform 28"/>
            <p:cNvSpPr/>
            <p:nvPr/>
          </p:nvSpPr>
          <p:spPr>
            <a:xfrm flipH="1">
              <a:off x="5726880" y="2668680"/>
              <a:ext cx="166680" cy="112680"/>
            </a:xfrm>
            <a:custGeom>
              <a:avLst/>
              <a:gdLst>
                <a:gd name="textAreaLeft" fmla="*/ -360 w 166680"/>
                <a:gd name="textAreaRight" fmla="*/ 166680 w 166680"/>
                <a:gd name="textAreaTop" fmla="*/ 0 h 112680"/>
                <a:gd name="textAreaBottom" fmla="*/ 113040 h 112680"/>
              </a:gdLst>
              <a:ahLst/>
              <a:rect l="textAreaLeft" t="textAreaTop" r="textAreaRight" b="textAreaBottom"/>
              <a:pathLst>
                <a:path w="180" h="124">
                  <a:moveTo>
                    <a:pt x="180" y="124"/>
                  </a:moveTo>
                  <a:lnTo>
                    <a:pt x="180" y="0"/>
                  </a:lnTo>
                  <a:lnTo>
                    <a:pt x="0" y="0"/>
                  </a:lnTo>
                  <a:lnTo>
                    <a:pt x="0" y="122"/>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Line 29"/>
            <p:cNvSpPr/>
            <p:nvPr/>
          </p:nvSpPr>
          <p:spPr>
            <a:xfrm flipH="1">
              <a:off x="6692400" y="2820960"/>
              <a:ext cx="35244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7" name="Freeform 30"/>
            <p:cNvSpPr/>
            <p:nvPr/>
          </p:nvSpPr>
          <p:spPr>
            <a:xfrm flipH="1">
              <a:off x="6773040" y="2801880"/>
              <a:ext cx="257400" cy="19080"/>
            </a:xfrm>
            <a:custGeom>
              <a:avLst/>
              <a:gdLst>
                <a:gd name="textAreaLeft" fmla="*/ -360 w 257400"/>
                <a:gd name="textAreaRight" fmla="*/ 257400 w 257400"/>
                <a:gd name="textAreaTop" fmla="*/ 0 h 19080"/>
                <a:gd name="textAreaBottom" fmla="*/ 19440 h 19080"/>
              </a:gdLst>
              <a:ahLst/>
              <a:rect l="textAreaLeft" t="textAreaTop" r="textAreaRight" b="textAreaBottom"/>
              <a:pathLst>
                <a:path w="278" h="22">
                  <a:moveTo>
                    <a:pt x="0" y="0"/>
                  </a:moveTo>
                  <a:lnTo>
                    <a:pt x="0" y="22"/>
                  </a:lnTo>
                  <a:lnTo>
                    <a:pt x="278" y="22"/>
                  </a:lnTo>
                  <a:lnTo>
                    <a:pt x="278" y="2"/>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78" name="Freeform 31"/>
            <p:cNvSpPr/>
            <p:nvPr/>
          </p:nvSpPr>
          <p:spPr>
            <a:xfrm flipH="1">
              <a:off x="6773040" y="2779560"/>
              <a:ext cx="257400" cy="20880"/>
            </a:xfrm>
            <a:custGeom>
              <a:avLst/>
              <a:gdLst>
                <a:gd name="textAreaLeft" fmla="*/ -360 w 257400"/>
                <a:gd name="textAreaRight" fmla="*/ 257400 w 257400"/>
                <a:gd name="textAreaTop" fmla="*/ 0 h 20880"/>
                <a:gd name="textAreaBottom" fmla="*/ 21240 h 20880"/>
              </a:gdLst>
              <a:ahLst/>
              <a:rect l="textAreaLeft" t="textAreaTop" r="textAreaRight" b="textAreaBottom"/>
              <a:pathLst>
                <a:path w="278" h="22">
                  <a:moveTo>
                    <a:pt x="0" y="0"/>
                  </a:moveTo>
                  <a:lnTo>
                    <a:pt x="0" y="22"/>
                  </a:lnTo>
                  <a:lnTo>
                    <a:pt x="278" y="22"/>
                  </a:lnTo>
                  <a:lnTo>
                    <a:pt x="278" y="2"/>
                  </a:lnTo>
                  <a:lnTo>
                    <a:pt x="0" y="0"/>
                  </a:lnTo>
                  <a:close/>
                </a:path>
              </a:pathLst>
            </a:custGeom>
            <a:solidFill>
              <a:srgbClr val="b2b2b2"/>
            </a:solidFill>
            <a:ln w="9360">
              <a:solidFill>
                <a:srgbClr val="000000"/>
              </a:solidFill>
              <a:round/>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79" name="Freeform 32"/>
            <p:cNvSpPr/>
            <p:nvPr/>
          </p:nvSpPr>
          <p:spPr>
            <a:xfrm flipH="1">
              <a:off x="6773040" y="2757600"/>
              <a:ext cx="257400" cy="20520"/>
            </a:xfrm>
            <a:custGeom>
              <a:avLst/>
              <a:gdLst>
                <a:gd name="textAreaLeft" fmla="*/ -360 w 257400"/>
                <a:gd name="textAreaRight" fmla="*/ 257400 w 257400"/>
                <a:gd name="textAreaTop" fmla="*/ 0 h 20520"/>
                <a:gd name="textAreaBottom" fmla="*/ 20880 h 20520"/>
              </a:gdLst>
              <a:ahLst/>
              <a:rect l="textAreaLeft" t="textAreaTop" r="textAreaRight" b="textAreaBottom"/>
              <a:pathLst>
                <a:path w="278" h="22">
                  <a:moveTo>
                    <a:pt x="0" y="0"/>
                  </a:moveTo>
                  <a:lnTo>
                    <a:pt x="0" y="22"/>
                  </a:lnTo>
                  <a:lnTo>
                    <a:pt x="278" y="22"/>
                  </a:lnTo>
                  <a:lnTo>
                    <a:pt x="278" y="2"/>
                  </a:lnTo>
                  <a:lnTo>
                    <a:pt x="0" y="0"/>
                  </a:lnTo>
                  <a:close/>
                </a:path>
              </a:pathLst>
            </a:custGeom>
            <a:solidFill>
              <a:srgbClr val="b2b2b2"/>
            </a:solidFill>
            <a:ln w="9360">
              <a:solidFill>
                <a:srgbClr val="000000"/>
              </a:solidFill>
              <a:round/>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80" name="Freeform 33"/>
            <p:cNvSpPr/>
            <p:nvPr/>
          </p:nvSpPr>
          <p:spPr>
            <a:xfrm flipH="1">
              <a:off x="6357240" y="2813040"/>
              <a:ext cx="506520" cy="58680"/>
            </a:xfrm>
            <a:custGeom>
              <a:avLst/>
              <a:gdLst>
                <a:gd name="textAreaLeft" fmla="*/ -360 w 506520"/>
                <a:gd name="textAreaRight" fmla="*/ 506520 w 506520"/>
                <a:gd name="textAreaTop" fmla="*/ 0 h 58680"/>
                <a:gd name="textAreaBottom" fmla="*/ 59040 h 58680"/>
              </a:gdLst>
              <a:ahLst/>
              <a:rect l="textAreaLeft" t="textAreaTop" r="textAreaRight" b="textAreaBottom"/>
              <a:pathLst>
                <a:path w="544" h="64">
                  <a:moveTo>
                    <a:pt x="20" y="10"/>
                  </a:moveTo>
                  <a:lnTo>
                    <a:pt x="8" y="18"/>
                  </a:lnTo>
                  <a:lnTo>
                    <a:pt x="0" y="40"/>
                  </a:lnTo>
                  <a:lnTo>
                    <a:pt x="6" y="54"/>
                  </a:lnTo>
                  <a:lnTo>
                    <a:pt x="24" y="64"/>
                  </a:lnTo>
                  <a:lnTo>
                    <a:pt x="510" y="64"/>
                  </a:lnTo>
                  <a:lnTo>
                    <a:pt x="526" y="56"/>
                  </a:lnTo>
                  <a:lnTo>
                    <a:pt x="540" y="52"/>
                  </a:lnTo>
                  <a:lnTo>
                    <a:pt x="544" y="32"/>
                  </a:lnTo>
                  <a:lnTo>
                    <a:pt x="534" y="14"/>
                  </a:lnTo>
                  <a:lnTo>
                    <a:pt x="520" y="6"/>
                  </a:lnTo>
                  <a:lnTo>
                    <a:pt x="506" y="0"/>
                  </a:lnTo>
                  <a:lnTo>
                    <a:pt x="186" y="10"/>
                  </a:lnTo>
                  <a:lnTo>
                    <a:pt x="20" y="10"/>
                  </a:lnTo>
                  <a:close/>
                </a:path>
              </a:pathLst>
            </a:custGeom>
            <a:solidFill>
              <a:srgbClr val="b2b2b2"/>
            </a:solidFill>
            <a:ln w="9360">
              <a:solidFill>
                <a:srgbClr val="000000"/>
              </a:solidFill>
              <a:round/>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81" name="Freeform 34"/>
            <p:cNvSpPr/>
            <p:nvPr/>
          </p:nvSpPr>
          <p:spPr>
            <a:xfrm flipH="1">
              <a:off x="5691960" y="2563920"/>
              <a:ext cx="181080" cy="215640"/>
            </a:xfrm>
            <a:custGeom>
              <a:avLst/>
              <a:gdLst>
                <a:gd name="textAreaLeft" fmla="*/ -360 w 181080"/>
                <a:gd name="textAreaRight" fmla="*/ 181080 w 181080"/>
                <a:gd name="textAreaTop" fmla="*/ 0 h 215640"/>
                <a:gd name="textAreaBottom" fmla="*/ 216000 h 215640"/>
              </a:gdLst>
              <a:ahLst/>
              <a:rect l="textAreaLeft" t="textAreaTop" r="textAreaRight" b="textAreaBottom"/>
              <a:pathLst>
                <a:path w="195" h="237">
                  <a:moveTo>
                    <a:pt x="0" y="236"/>
                  </a:moveTo>
                  <a:lnTo>
                    <a:pt x="195" y="0"/>
                  </a:lnTo>
                  <a:lnTo>
                    <a:pt x="195" y="21"/>
                  </a:lnTo>
                  <a:lnTo>
                    <a:pt x="24" y="237"/>
                  </a:lnTo>
                  <a:lnTo>
                    <a:pt x="0" y="236"/>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35"/>
            <p:cNvSpPr/>
            <p:nvPr/>
          </p:nvSpPr>
          <p:spPr>
            <a:xfrm>
              <a:off x="5811840" y="2401920"/>
              <a:ext cx="1219320" cy="369720"/>
            </a:xfrm>
            <a:custGeom>
              <a:avLst/>
              <a:gdLst>
                <a:gd name="textAreaLeft" fmla="*/ 0 w 1219320"/>
                <a:gd name="textAreaRight" fmla="*/ 1219680 w 1219320"/>
                <a:gd name="textAreaTop" fmla="*/ 0 h 369720"/>
                <a:gd name="textAreaBottom" fmla="*/ 370080 h 369720"/>
              </a:gdLst>
              <a:ahLst/>
              <a:rect l="textAreaLeft" t="textAreaTop" r="textAreaRight" b="textAreaBottom"/>
              <a:pathLst>
                <a:path w="723" h="219">
                  <a:moveTo>
                    <a:pt x="723" y="215"/>
                  </a:moveTo>
                  <a:lnTo>
                    <a:pt x="723" y="2"/>
                  </a:lnTo>
                  <a:lnTo>
                    <a:pt x="608" y="2"/>
                  </a:lnTo>
                  <a:lnTo>
                    <a:pt x="498" y="0"/>
                  </a:lnTo>
                  <a:lnTo>
                    <a:pt x="454" y="2"/>
                  </a:lnTo>
                  <a:lnTo>
                    <a:pt x="378" y="4"/>
                  </a:lnTo>
                  <a:lnTo>
                    <a:pt x="308" y="10"/>
                  </a:lnTo>
                  <a:lnTo>
                    <a:pt x="249" y="18"/>
                  </a:lnTo>
                  <a:lnTo>
                    <a:pt x="174" y="41"/>
                  </a:lnTo>
                  <a:lnTo>
                    <a:pt x="102" y="85"/>
                  </a:lnTo>
                  <a:lnTo>
                    <a:pt x="55" y="144"/>
                  </a:lnTo>
                  <a:lnTo>
                    <a:pt x="0" y="219"/>
                  </a:lnTo>
                  <a:lnTo>
                    <a:pt x="723" y="215"/>
                  </a:lnTo>
                  <a:close/>
                </a:path>
              </a:pathLst>
            </a:custGeom>
            <a:solidFill>
              <a:srgbClr val="000000"/>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Oval 36"/>
            <p:cNvSpPr/>
            <p:nvPr/>
          </p:nvSpPr>
          <p:spPr>
            <a:xfrm flipH="1">
              <a:off x="6902280" y="2801880"/>
              <a:ext cx="146160" cy="147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 name="Group 37"/>
          <p:cNvGrpSpPr/>
          <p:nvPr/>
        </p:nvGrpSpPr>
        <p:grpSpPr>
          <a:xfrm>
            <a:off x="4575240" y="1436760"/>
            <a:ext cx="758880" cy="1531800"/>
            <a:chOff x="4575240" y="1436760"/>
            <a:chExt cx="758880" cy="1531800"/>
          </a:xfrm>
        </p:grpSpPr>
        <p:sp>
          <p:nvSpPr>
            <p:cNvPr id="85" name="Freeform 38"/>
            <p:cNvSpPr/>
            <p:nvPr/>
          </p:nvSpPr>
          <p:spPr>
            <a:xfrm>
              <a:off x="4689360" y="2405160"/>
              <a:ext cx="530280" cy="31680"/>
            </a:xfrm>
            <a:custGeom>
              <a:avLst/>
              <a:gdLst>
                <a:gd name="textAreaLeft" fmla="*/ 0 w 530280"/>
                <a:gd name="textAreaRight" fmla="*/ 530640 w 530280"/>
                <a:gd name="textAreaTop" fmla="*/ 0 h 31680"/>
                <a:gd name="textAreaBottom" fmla="*/ 32040 h 31680"/>
              </a:gdLst>
              <a:ahLst/>
              <a:rect l="textAreaLeft" t="textAreaTop" r="textAreaRight" b="textAreaBottom"/>
              <a:pathLst>
                <a:path w="330" h="20">
                  <a:moveTo>
                    <a:pt x="0" y="0"/>
                  </a:moveTo>
                  <a:lnTo>
                    <a:pt x="329" y="0"/>
                  </a:lnTo>
                  <a:lnTo>
                    <a:pt x="329" y="19"/>
                  </a:lnTo>
                  <a:lnTo>
                    <a:pt x="0" y="19"/>
                  </a:lnTo>
                  <a:lnTo>
                    <a:pt x="0" y="0"/>
                  </a:lnTo>
                </a:path>
              </a:pathLst>
            </a:custGeom>
            <a:solidFill>
              <a:srgbClr val="c0c0c0"/>
            </a:solidFill>
            <a:ln cap="rnd" w="19080">
              <a:solidFill>
                <a:srgbClr val="080808"/>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6" name="Freeform 39"/>
            <p:cNvSpPr/>
            <p:nvPr/>
          </p:nvSpPr>
          <p:spPr>
            <a:xfrm>
              <a:off x="4641840" y="2675160"/>
              <a:ext cx="625320" cy="31680"/>
            </a:xfrm>
            <a:custGeom>
              <a:avLst/>
              <a:gdLst>
                <a:gd name="textAreaLeft" fmla="*/ 0 w 625320"/>
                <a:gd name="textAreaRight" fmla="*/ 625680 w 625320"/>
                <a:gd name="textAreaTop" fmla="*/ 0 h 31680"/>
                <a:gd name="textAreaBottom" fmla="*/ 32040 h 31680"/>
              </a:gdLst>
              <a:ahLst/>
              <a:rect l="textAreaLeft" t="textAreaTop" r="textAreaRight" b="textAreaBottom"/>
              <a:pathLst>
                <a:path w="388" h="20">
                  <a:moveTo>
                    <a:pt x="0" y="0"/>
                  </a:moveTo>
                  <a:lnTo>
                    <a:pt x="387" y="0"/>
                  </a:lnTo>
                  <a:lnTo>
                    <a:pt x="387" y="19"/>
                  </a:lnTo>
                  <a:lnTo>
                    <a:pt x="0" y="19"/>
                  </a:lnTo>
                  <a:lnTo>
                    <a:pt x="0" y="0"/>
                  </a:lnTo>
                </a:path>
              </a:pathLst>
            </a:custGeom>
            <a:solidFill>
              <a:srgbClr val="c0c0c0"/>
            </a:solidFill>
            <a:ln cap="rnd" w="19080">
              <a:solidFill>
                <a:srgbClr val="080808"/>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7" name="Freeform 40"/>
            <p:cNvSpPr/>
            <p:nvPr/>
          </p:nvSpPr>
          <p:spPr>
            <a:xfrm>
              <a:off x="4734000" y="2102040"/>
              <a:ext cx="441360" cy="33120"/>
            </a:xfrm>
            <a:custGeom>
              <a:avLst/>
              <a:gdLst>
                <a:gd name="textAreaLeft" fmla="*/ 0 w 441360"/>
                <a:gd name="textAreaRight" fmla="*/ 441720 w 441360"/>
                <a:gd name="textAreaTop" fmla="*/ 0 h 33120"/>
                <a:gd name="textAreaBottom" fmla="*/ 33480 h 33120"/>
              </a:gdLst>
              <a:ahLst/>
              <a:rect l="textAreaLeft" t="textAreaTop" r="textAreaRight" b="textAreaBottom"/>
              <a:pathLst>
                <a:path w="274" h="20">
                  <a:moveTo>
                    <a:pt x="0" y="0"/>
                  </a:moveTo>
                  <a:lnTo>
                    <a:pt x="273" y="0"/>
                  </a:lnTo>
                  <a:lnTo>
                    <a:pt x="273" y="19"/>
                  </a:lnTo>
                  <a:lnTo>
                    <a:pt x="0" y="19"/>
                  </a:lnTo>
                  <a:lnTo>
                    <a:pt x="0" y="0"/>
                  </a:lnTo>
                </a:path>
              </a:pathLst>
            </a:custGeom>
            <a:solidFill>
              <a:srgbClr val="c0c0c0"/>
            </a:solidFill>
            <a:ln cap="rnd" w="19080">
              <a:solidFill>
                <a:srgbClr val="080808"/>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8" name="Freeform 41"/>
            <p:cNvSpPr/>
            <p:nvPr/>
          </p:nvSpPr>
          <p:spPr>
            <a:xfrm>
              <a:off x="4788000" y="1836720"/>
              <a:ext cx="333360" cy="31680"/>
            </a:xfrm>
            <a:custGeom>
              <a:avLst/>
              <a:gdLst>
                <a:gd name="textAreaLeft" fmla="*/ 0 w 333360"/>
                <a:gd name="textAreaRight" fmla="*/ 333720 w 333360"/>
                <a:gd name="textAreaTop" fmla="*/ 0 h 31680"/>
                <a:gd name="textAreaBottom" fmla="*/ 32040 h 31680"/>
              </a:gdLst>
              <a:ahLst/>
              <a:rect l="textAreaLeft" t="textAreaTop" r="textAreaRight" b="textAreaBottom"/>
              <a:pathLst>
                <a:path w="208" h="20">
                  <a:moveTo>
                    <a:pt x="0" y="0"/>
                  </a:moveTo>
                  <a:lnTo>
                    <a:pt x="207" y="0"/>
                  </a:lnTo>
                  <a:lnTo>
                    <a:pt x="207" y="19"/>
                  </a:lnTo>
                  <a:lnTo>
                    <a:pt x="0" y="19"/>
                  </a:lnTo>
                  <a:lnTo>
                    <a:pt x="0" y="0"/>
                  </a:lnTo>
                </a:path>
              </a:pathLst>
            </a:custGeom>
            <a:solidFill>
              <a:srgbClr val="c0c0c0"/>
            </a:solidFill>
            <a:ln cap="rnd" w="19080">
              <a:solidFill>
                <a:srgbClr val="080808"/>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9" name="Freeform 42"/>
            <p:cNvSpPr/>
            <p:nvPr/>
          </p:nvSpPr>
          <p:spPr>
            <a:xfrm>
              <a:off x="5059440" y="1587600"/>
              <a:ext cx="274680" cy="1380960"/>
            </a:xfrm>
            <a:custGeom>
              <a:avLst/>
              <a:gdLst>
                <a:gd name="textAreaLeft" fmla="*/ 0 w 274680"/>
                <a:gd name="textAreaRight" fmla="*/ 275040 w 274680"/>
                <a:gd name="textAreaTop" fmla="*/ 0 h 1380960"/>
                <a:gd name="textAreaBottom" fmla="*/ 1381320 h 1380960"/>
              </a:gdLst>
              <a:ahLst/>
              <a:rect l="textAreaLeft" t="textAreaTop" r="textAreaRight" b="textAreaBottom"/>
              <a:pathLst>
                <a:path w="171" h="860">
                  <a:moveTo>
                    <a:pt x="0" y="0"/>
                  </a:moveTo>
                  <a:lnTo>
                    <a:pt x="156" y="859"/>
                  </a:lnTo>
                  <a:lnTo>
                    <a:pt x="170" y="859"/>
                  </a:lnTo>
                  <a:lnTo>
                    <a:pt x="14" y="0"/>
                  </a:lnTo>
                  <a:lnTo>
                    <a:pt x="0" y="0"/>
                  </a:lnTo>
                </a:path>
              </a:pathLst>
            </a:custGeom>
            <a:solidFill>
              <a:srgbClr val="c0c0c0"/>
            </a:solidFill>
            <a:ln cap="rnd" w="19080">
              <a:solidFill>
                <a:srgbClr val="0808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43"/>
            <p:cNvSpPr/>
            <p:nvPr/>
          </p:nvSpPr>
          <p:spPr>
            <a:xfrm>
              <a:off x="4575240" y="1587600"/>
              <a:ext cx="268200" cy="1380960"/>
            </a:xfrm>
            <a:custGeom>
              <a:avLst/>
              <a:gdLst>
                <a:gd name="textAreaLeft" fmla="*/ 0 w 268200"/>
                <a:gd name="textAreaRight" fmla="*/ 268560 w 268200"/>
                <a:gd name="textAreaTop" fmla="*/ 0 h 1380960"/>
                <a:gd name="textAreaBottom" fmla="*/ 1381320 h 1380960"/>
              </a:gdLst>
              <a:ahLst/>
              <a:rect l="textAreaLeft" t="textAreaTop" r="textAreaRight" b="textAreaBottom"/>
              <a:pathLst>
                <a:path w="167" h="860">
                  <a:moveTo>
                    <a:pt x="166" y="0"/>
                  </a:moveTo>
                  <a:lnTo>
                    <a:pt x="14" y="859"/>
                  </a:lnTo>
                  <a:lnTo>
                    <a:pt x="0" y="859"/>
                  </a:lnTo>
                  <a:lnTo>
                    <a:pt x="152" y="0"/>
                  </a:lnTo>
                  <a:lnTo>
                    <a:pt x="166" y="0"/>
                  </a:lnTo>
                </a:path>
              </a:pathLst>
            </a:custGeom>
            <a:solidFill>
              <a:srgbClr val="c0c0c0"/>
            </a:solidFill>
            <a:ln cap="rnd" w="19080">
              <a:solidFill>
                <a:srgbClr val="0808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Freeform 44"/>
            <p:cNvSpPr/>
            <p:nvPr/>
          </p:nvSpPr>
          <p:spPr>
            <a:xfrm>
              <a:off x="4824360" y="1587600"/>
              <a:ext cx="297000" cy="247680"/>
            </a:xfrm>
            <a:custGeom>
              <a:avLst/>
              <a:gdLst>
                <a:gd name="textAreaLeft" fmla="*/ 0 w 297000"/>
                <a:gd name="textAreaRight" fmla="*/ 297360 w 297000"/>
                <a:gd name="textAreaTop" fmla="*/ 0 h 247680"/>
                <a:gd name="textAreaBottom" fmla="*/ 248040 h 247680"/>
              </a:gdLst>
              <a:ahLst/>
              <a:rect l="textAreaLeft" t="textAreaTop" r="textAreaRight" b="textAreaBottom"/>
              <a:pathLst>
                <a:path w="185" h="155">
                  <a:moveTo>
                    <a:pt x="0" y="0"/>
                  </a:moveTo>
                  <a:lnTo>
                    <a:pt x="170" y="154"/>
                  </a:lnTo>
                  <a:lnTo>
                    <a:pt x="184" y="154"/>
                  </a:lnTo>
                  <a:lnTo>
                    <a:pt x="14" y="0"/>
                  </a:lnTo>
                  <a:lnTo>
                    <a:pt x="0" y="0"/>
                  </a:lnTo>
                </a:path>
              </a:pathLst>
            </a:custGeom>
            <a:solidFill>
              <a:srgbClr val="c0c0c0"/>
            </a:solidFill>
            <a:ln cap="rnd" w="19080">
              <a:solidFill>
                <a:srgbClr val="0808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45"/>
            <p:cNvSpPr/>
            <p:nvPr/>
          </p:nvSpPr>
          <p:spPr>
            <a:xfrm>
              <a:off x="4780080" y="1587600"/>
              <a:ext cx="296640" cy="247680"/>
            </a:xfrm>
            <a:custGeom>
              <a:avLst/>
              <a:gdLst>
                <a:gd name="textAreaLeft" fmla="*/ 0 w 296640"/>
                <a:gd name="textAreaRight" fmla="*/ 297000 w 296640"/>
                <a:gd name="textAreaTop" fmla="*/ 0 h 247680"/>
                <a:gd name="textAreaBottom" fmla="*/ 248040 h 247680"/>
              </a:gdLst>
              <a:ahLst/>
              <a:rect l="textAreaLeft" t="textAreaTop" r="textAreaRight" b="textAreaBottom"/>
              <a:pathLst>
                <a:path w="185" h="155">
                  <a:moveTo>
                    <a:pt x="184" y="0"/>
                  </a:moveTo>
                  <a:lnTo>
                    <a:pt x="14" y="154"/>
                  </a:lnTo>
                  <a:lnTo>
                    <a:pt x="0" y="154"/>
                  </a:lnTo>
                  <a:lnTo>
                    <a:pt x="170" y="0"/>
                  </a:lnTo>
                  <a:lnTo>
                    <a:pt x="184" y="0"/>
                  </a:lnTo>
                </a:path>
              </a:pathLst>
            </a:custGeom>
            <a:solidFill>
              <a:srgbClr val="c0c0c0"/>
            </a:solidFill>
            <a:ln cap="rnd" w="19080">
              <a:solidFill>
                <a:srgbClr val="0808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46"/>
            <p:cNvSpPr/>
            <p:nvPr/>
          </p:nvSpPr>
          <p:spPr>
            <a:xfrm>
              <a:off x="4780080" y="1870200"/>
              <a:ext cx="365040" cy="228600"/>
            </a:xfrm>
            <a:custGeom>
              <a:avLst/>
              <a:gdLst>
                <a:gd name="textAreaLeft" fmla="*/ 0 w 365040"/>
                <a:gd name="textAreaRight" fmla="*/ 365400 w 365040"/>
                <a:gd name="textAreaTop" fmla="*/ 0 h 228600"/>
                <a:gd name="textAreaBottom" fmla="*/ 228960 h 228600"/>
              </a:gdLst>
              <a:ahLst/>
              <a:rect l="textAreaLeft" t="textAreaTop" r="textAreaRight" b="textAreaBottom"/>
              <a:pathLst>
                <a:path w="227" h="141">
                  <a:moveTo>
                    <a:pt x="14" y="0"/>
                  </a:moveTo>
                  <a:lnTo>
                    <a:pt x="226" y="140"/>
                  </a:lnTo>
                  <a:lnTo>
                    <a:pt x="212" y="140"/>
                  </a:lnTo>
                  <a:lnTo>
                    <a:pt x="0" y="0"/>
                  </a:lnTo>
                  <a:lnTo>
                    <a:pt x="14" y="0"/>
                  </a:lnTo>
                </a:path>
              </a:pathLst>
            </a:custGeom>
            <a:solidFill>
              <a:srgbClr val="c0c0c0"/>
            </a:solidFill>
            <a:ln cap="rnd" w="19080">
              <a:solidFill>
                <a:srgbClr val="0808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47"/>
            <p:cNvSpPr/>
            <p:nvPr/>
          </p:nvSpPr>
          <p:spPr>
            <a:xfrm>
              <a:off x="4757760" y="1870200"/>
              <a:ext cx="363600" cy="228600"/>
            </a:xfrm>
            <a:custGeom>
              <a:avLst/>
              <a:gdLst>
                <a:gd name="textAreaLeft" fmla="*/ 0 w 363600"/>
                <a:gd name="textAreaRight" fmla="*/ 363960 w 363600"/>
                <a:gd name="textAreaTop" fmla="*/ 0 h 228600"/>
                <a:gd name="textAreaBottom" fmla="*/ 228960 h 228600"/>
              </a:gdLst>
              <a:ahLst/>
              <a:rect l="textAreaLeft" t="textAreaTop" r="textAreaRight" b="textAreaBottom"/>
              <a:pathLst>
                <a:path w="227" h="141">
                  <a:moveTo>
                    <a:pt x="212" y="0"/>
                  </a:moveTo>
                  <a:lnTo>
                    <a:pt x="0" y="140"/>
                  </a:lnTo>
                  <a:lnTo>
                    <a:pt x="14" y="140"/>
                  </a:lnTo>
                  <a:lnTo>
                    <a:pt x="226" y="0"/>
                  </a:lnTo>
                  <a:lnTo>
                    <a:pt x="212" y="0"/>
                  </a:lnTo>
                </a:path>
              </a:pathLst>
            </a:custGeom>
            <a:solidFill>
              <a:srgbClr val="c0c0c0"/>
            </a:solidFill>
            <a:ln cap="rnd" w="19080">
              <a:solidFill>
                <a:srgbClr val="0808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Freeform 48"/>
            <p:cNvSpPr/>
            <p:nvPr/>
          </p:nvSpPr>
          <p:spPr>
            <a:xfrm>
              <a:off x="4734000" y="2135160"/>
              <a:ext cx="485640" cy="266760"/>
            </a:xfrm>
            <a:custGeom>
              <a:avLst/>
              <a:gdLst>
                <a:gd name="textAreaLeft" fmla="*/ 0 w 485640"/>
                <a:gd name="textAreaRight" fmla="*/ 486000 w 485640"/>
                <a:gd name="textAreaTop" fmla="*/ 0 h 266760"/>
                <a:gd name="textAreaBottom" fmla="*/ 267120 h 266760"/>
              </a:gdLst>
              <a:ahLst/>
              <a:rect l="textAreaLeft" t="textAreaTop" r="textAreaRight" b="textAreaBottom"/>
              <a:pathLst>
                <a:path w="302" h="165">
                  <a:moveTo>
                    <a:pt x="0" y="0"/>
                  </a:moveTo>
                  <a:lnTo>
                    <a:pt x="287" y="164"/>
                  </a:lnTo>
                  <a:lnTo>
                    <a:pt x="301" y="164"/>
                  </a:lnTo>
                  <a:lnTo>
                    <a:pt x="14" y="0"/>
                  </a:lnTo>
                  <a:lnTo>
                    <a:pt x="0" y="0"/>
                  </a:lnTo>
                </a:path>
              </a:pathLst>
            </a:custGeom>
            <a:solidFill>
              <a:srgbClr val="c0c0c0"/>
            </a:solidFill>
            <a:ln cap="rnd" w="19080">
              <a:solidFill>
                <a:srgbClr val="0808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49"/>
            <p:cNvSpPr/>
            <p:nvPr/>
          </p:nvSpPr>
          <p:spPr>
            <a:xfrm>
              <a:off x="4689360" y="2135160"/>
              <a:ext cx="486000" cy="266760"/>
            </a:xfrm>
            <a:custGeom>
              <a:avLst/>
              <a:gdLst>
                <a:gd name="textAreaLeft" fmla="*/ 0 w 486000"/>
                <a:gd name="textAreaRight" fmla="*/ 486360 w 486000"/>
                <a:gd name="textAreaTop" fmla="*/ 0 h 266760"/>
                <a:gd name="textAreaBottom" fmla="*/ 267120 h 266760"/>
              </a:gdLst>
              <a:ahLst/>
              <a:rect l="textAreaLeft" t="textAreaTop" r="textAreaRight" b="textAreaBottom"/>
              <a:pathLst>
                <a:path w="302" h="165">
                  <a:moveTo>
                    <a:pt x="301" y="0"/>
                  </a:moveTo>
                  <a:lnTo>
                    <a:pt x="14" y="164"/>
                  </a:lnTo>
                  <a:lnTo>
                    <a:pt x="0" y="164"/>
                  </a:lnTo>
                  <a:lnTo>
                    <a:pt x="282" y="0"/>
                  </a:lnTo>
                  <a:lnTo>
                    <a:pt x="301" y="0"/>
                  </a:lnTo>
                </a:path>
              </a:pathLst>
            </a:custGeom>
            <a:solidFill>
              <a:srgbClr val="c0c0c0"/>
            </a:solidFill>
            <a:ln cap="rnd" w="19080">
              <a:solidFill>
                <a:srgbClr val="0808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50"/>
            <p:cNvSpPr/>
            <p:nvPr/>
          </p:nvSpPr>
          <p:spPr>
            <a:xfrm>
              <a:off x="4689360" y="2438280"/>
              <a:ext cx="577800" cy="231840"/>
            </a:xfrm>
            <a:custGeom>
              <a:avLst/>
              <a:gdLst>
                <a:gd name="textAreaLeft" fmla="*/ 0 w 577800"/>
                <a:gd name="textAreaRight" fmla="*/ 578160 w 577800"/>
                <a:gd name="textAreaTop" fmla="*/ 0 h 231840"/>
                <a:gd name="textAreaBottom" fmla="*/ 232200 h 231840"/>
              </a:gdLst>
              <a:ahLst/>
              <a:rect l="textAreaLeft" t="textAreaTop" r="textAreaRight" b="textAreaBottom"/>
              <a:pathLst>
                <a:path w="359" h="144">
                  <a:moveTo>
                    <a:pt x="0" y="0"/>
                  </a:moveTo>
                  <a:lnTo>
                    <a:pt x="344" y="143"/>
                  </a:lnTo>
                  <a:lnTo>
                    <a:pt x="358" y="143"/>
                  </a:lnTo>
                  <a:lnTo>
                    <a:pt x="19" y="0"/>
                  </a:lnTo>
                  <a:lnTo>
                    <a:pt x="0" y="0"/>
                  </a:lnTo>
                </a:path>
              </a:pathLst>
            </a:custGeom>
            <a:solidFill>
              <a:srgbClr val="c0c0c0"/>
            </a:solidFill>
            <a:ln cap="rnd" w="19080">
              <a:solidFill>
                <a:srgbClr val="0808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Freeform 51"/>
            <p:cNvSpPr/>
            <p:nvPr/>
          </p:nvSpPr>
          <p:spPr>
            <a:xfrm>
              <a:off x="4641840" y="2438280"/>
              <a:ext cx="577800" cy="231840"/>
            </a:xfrm>
            <a:custGeom>
              <a:avLst/>
              <a:gdLst>
                <a:gd name="textAreaLeft" fmla="*/ 0 w 577800"/>
                <a:gd name="textAreaRight" fmla="*/ 578160 w 577800"/>
                <a:gd name="textAreaTop" fmla="*/ 0 h 231840"/>
                <a:gd name="textAreaBottom" fmla="*/ 232200 h 231840"/>
              </a:gdLst>
              <a:ahLst/>
              <a:rect l="textAreaLeft" t="textAreaTop" r="textAreaRight" b="textAreaBottom"/>
              <a:pathLst>
                <a:path w="359" h="144">
                  <a:moveTo>
                    <a:pt x="358" y="0"/>
                  </a:moveTo>
                  <a:lnTo>
                    <a:pt x="14" y="143"/>
                  </a:lnTo>
                  <a:lnTo>
                    <a:pt x="0" y="143"/>
                  </a:lnTo>
                  <a:lnTo>
                    <a:pt x="339" y="0"/>
                  </a:lnTo>
                  <a:lnTo>
                    <a:pt x="358" y="0"/>
                  </a:lnTo>
                </a:path>
              </a:pathLst>
            </a:custGeom>
            <a:solidFill>
              <a:srgbClr val="c0c0c0"/>
            </a:solidFill>
            <a:ln cap="rnd" w="19080">
              <a:solidFill>
                <a:srgbClr val="0808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Freeform 52"/>
            <p:cNvSpPr/>
            <p:nvPr/>
          </p:nvSpPr>
          <p:spPr>
            <a:xfrm>
              <a:off x="4757760" y="1436760"/>
              <a:ext cx="387360" cy="158760"/>
            </a:xfrm>
            <a:custGeom>
              <a:avLst/>
              <a:gdLst>
                <a:gd name="textAreaLeft" fmla="*/ 0 w 387360"/>
                <a:gd name="textAreaRight" fmla="*/ 387720 w 387360"/>
                <a:gd name="textAreaTop" fmla="*/ 0 h 158760"/>
                <a:gd name="textAreaBottom" fmla="*/ 159120 h 158760"/>
              </a:gdLst>
              <a:ahLst/>
              <a:rect l="textAreaLeft" t="textAreaTop" r="textAreaRight" b="textAreaBottom"/>
              <a:pathLst>
                <a:path w="241" h="99">
                  <a:moveTo>
                    <a:pt x="83" y="0"/>
                  </a:moveTo>
                  <a:lnTo>
                    <a:pt x="161" y="0"/>
                  </a:lnTo>
                  <a:lnTo>
                    <a:pt x="161" y="63"/>
                  </a:lnTo>
                  <a:lnTo>
                    <a:pt x="240" y="63"/>
                  </a:lnTo>
                  <a:lnTo>
                    <a:pt x="240" y="98"/>
                  </a:lnTo>
                  <a:lnTo>
                    <a:pt x="0" y="98"/>
                  </a:lnTo>
                  <a:lnTo>
                    <a:pt x="0" y="63"/>
                  </a:lnTo>
                  <a:lnTo>
                    <a:pt x="83" y="63"/>
                  </a:lnTo>
                  <a:lnTo>
                    <a:pt x="83" y="0"/>
                  </a:lnTo>
                </a:path>
              </a:pathLst>
            </a:custGeom>
            <a:solidFill>
              <a:srgbClr val="c0c0c0"/>
            </a:solidFill>
            <a:ln cap="rnd" w="19080">
              <a:solidFill>
                <a:srgbClr val="0808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Group 53"/>
          <p:cNvGrpSpPr/>
          <p:nvPr/>
        </p:nvGrpSpPr>
        <p:grpSpPr>
          <a:xfrm>
            <a:off x="4929120" y="1585800"/>
            <a:ext cx="60480" cy="4395960"/>
            <a:chOff x="4929120" y="1585800"/>
            <a:chExt cx="60480" cy="4395960"/>
          </a:xfrm>
        </p:grpSpPr>
        <p:sp>
          <p:nvSpPr>
            <p:cNvPr id="101" name="Line 54"/>
            <p:cNvSpPr/>
            <p:nvPr/>
          </p:nvSpPr>
          <p:spPr>
            <a:xfrm>
              <a:off x="4956120" y="1585800"/>
              <a:ext cx="6480" cy="4133880"/>
            </a:xfrm>
            <a:prstGeom prst="line">
              <a:avLst/>
            </a:prstGeom>
            <a:ln w="19080">
              <a:solidFill>
                <a:srgbClr val="1c1c1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Freeform 55"/>
            <p:cNvSpPr/>
            <p:nvPr/>
          </p:nvSpPr>
          <p:spPr>
            <a:xfrm>
              <a:off x="4929120" y="5645160"/>
              <a:ext cx="60480" cy="336600"/>
            </a:xfrm>
            <a:custGeom>
              <a:avLst/>
              <a:gdLst>
                <a:gd name="textAreaLeft" fmla="*/ 0 w 60480"/>
                <a:gd name="textAreaRight" fmla="*/ 60840 w 60480"/>
                <a:gd name="textAreaTop" fmla="*/ 0 h 336600"/>
                <a:gd name="textAreaBottom" fmla="*/ 336960 h 336600"/>
              </a:gdLst>
              <a:ahLst/>
              <a:rect l="textAreaLeft" t="textAreaTop" r="textAreaRight" b="textAreaBottom"/>
              <a:pathLst>
                <a:path w="38" h="209">
                  <a:moveTo>
                    <a:pt x="0" y="0"/>
                  </a:moveTo>
                  <a:lnTo>
                    <a:pt x="37" y="0"/>
                  </a:lnTo>
                  <a:lnTo>
                    <a:pt x="37" y="208"/>
                  </a:lnTo>
                  <a:lnTo>
                    <a:pt x="0" y="208"/>
                  </a:lnTo>
                  <a:lnTo>
                    <a:pt x="0" y="0"/>
                  </a:lnTo>
                </a:path>
              </a:pathLst>
            </a:custGeom>
            <a:solidFill>
              <a:srgbClr val="c0c0c0"/>
            </a:solidFill>
            <a:ln cap="rnd" w="12600">
              <a:solidFill>
                <a:srgbClr val="1c1c1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 name="Line 56"/>
          <p:cNvSpPr/>
          <p:nvPr/>
        </p:nvSpPr>
        <p:spPr>
          <a:xfrm flipH="1" flipV="1">
            <a:off x="5256360" y="2690640"/>
            <a:ext cx="550800" cy="74880"/>
          </a:xfrm>
          <a:prstGeom prst="line">
            <a:avLst/>
          </a:prstGeom>
          <a:ln w="1908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04" name="Line 57"/>
          <p:cNvSpPr/>
          <p:nvPr/>
        </p:nvSpPr>
        <p:spPr>
          <a:xfrm>
            <a:off x="6264360" y="2730600"/>
            <a:ext cx="41256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5" name="Freeform 58"/>
          <p:cNvSpPr/>
          <p:nvPr/>
        </p:nvSpPr>
        <p:spPr>
          <a:xfrm flipH="1">
            <a:off x="5688000" y="2779560"/>
            <a:ext cx="1038240" cy="44640"/>
          </a:xfrm>
          <a:custGeom>
            <a:avLst/>
            <a:gdLst>
              <a:gd name="textAreaLeft" fmla="*/ 360 w 1038240"/>
              <a:gd name="textAreaRight" fmla="*/ 1038960 w 1038240"/>
              <a:gd name="textAreaTop" fmla="*/ 0 h 44640"/>
              <a:gd name="textAreaBottom" fmla="*/ 45000 h 44640"/>
            </a:gdLst>
            <a:ahLst/>
            <a:rect l="textAreaLeft" t="textAreaTop" r="textAreaRight" b="textAreaBottom"/>
            <a:pathLst>
              <a:path w="1080" h="48">
                <a:moveTo>
                  <a:pt x="2" y="0"/>
                </a:moveTo>
                <a:lnTo>
                  <a:pt x="1080" y="1"/>
                </a:lnTo>
                <a:lnTo>
                  <a:pt x="894" y="20"/>
                </a:lnTo>
                <a:lnTo>
                  <a:pt x="0" y="48"/>
                </a:lnTo>
                <a:lnTo>
                  <a:pt x="2" y="0"/>
                </a:ln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06" name="Rectangle 59"/>
          <p:cNvSpPr/>
          <p:nvPr/>
        </p:nvSpPr>
        <p:spPr>
          <a:xfrm flipH="1">
            <a:off x="6726960" y="2652840"/>
            <a:ext cx="42840" cy="168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7" name="Group 60"/>
          <p:cNvGrpSpPr/>
          <p:nvPr/>
        </p:nvGrpSpPr>
        <p:grpSpPr>
          <a:xfrm>
            <a:off x="7005600" y="2582640"/>
            <a:ext cx="261360" cy="326880"/>
            <a:chOff x="7005600" y="2582640"/>
            <a:chExt cx="261360" cy="326880"/>
          </a:xfrm>
        </p:grpSpPr>
        <p:sp>
          <p:nvSpPr>
            <p:cNvPr id="108" name="Freeform 61"/>
            <p:cNvSpPr/>
            <p:nvPr/>
          </p:nvSpPr>
          <p:spPr>
            <a:xfrm flipH="1">
              <a:off x="7043760" y="2678760"/>
              <a:ext cx="217800" cy="230760"/>
            </a:xfrm>
            <a:custGeom>
              <a:avLst/>
              <a:gdLst>
                <a:gd name="textAreaLeft" fmla="*/ -360 w 217800"/>
                <a:gd name="textAreaRight" fmla="*/ 217800 w 217800"/>
                <a:gd name="textAreaTop" fmla="*/ 0 h 230760"/>
                <a:gd name="textAreaBottom" fmla="*/ 231120 h 230760"/>
              </a:gdLst>
              <a:ahLst/>
              <a:rect l="textAreaLeft" t="textAreaTop" r="textAreaRight" b="textAreaBottom"/>
              <a:pathLst>
                <a:path w="234" h="253">
                  <a:moveTo>
                    <a:pt x="6" y="0"/>
                  </a:moveTo>
                  <a:lnTo>
                    <a:pt x="28" y="88"/>
                  </a:lnTo>
                  <a:lnTo>
                    <a:pt x="12" y="100"/>
                  </a:lnTo>
                  <a:lnTo>
                    <a:pt x="3" y="180"/>
                  </a:lnTo>
                  <a:lnTo>
                    <a:pt x="0" y="240"/>
                  </a:lnTo>
                  <a:lnTo>
                    <a:pt x="28" y="240"/>
                  </a:lnTo>
                  <a:lnTo>
                    <a:pt x="34" y="253"/>
                  </a:lnTo>
                  <a:lnTo>
                    <a:pt x="217" y="252"/>
                  </a:lnTo>
                  <a:lnTo>
                    <a:pt x="234" y="0"/>
                  </a:lnTo>
                  <a:lnTo>
                    <a:pt x="6" y="0"/>
                  </a:lnTo>
                  <a:close/>
                </a:path>
              </a:pathLst>
            </a:cu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Freeform 62"/>
            <p:cNvSpPr/>
            <p:nvPr/>
          </p:nvSpPr>
          <p:spPr>
            <a:xfrm flipH="1">
              <a:off x="7043760" y="2668680"/>
              <a:ext cx="222840" cy="11160"/>
            </a:xfrm>
            <a:custGeom>
              <a:avLst/>
              <a:gdLst>
                <a:gd name="textAreaLeft" fmla="*/ -360 w 222840"/>
                <a:gd name="textAreaRight" fmla="*/ 222840 w 222840"/>
                <a:gd name="textAreaTop" fmla="*/ 0 h 11160"/>
                <a:gd name="textAreaBottom" fmla="*/ 11520 h 11160"/>
              </a:gdLst>
              <a:ahLst/>
              <a:rect l="textAreaLeft" t="textAreaTop" r="textAreaRight" b="textAreaBottom"/>
              <a:pathLst>
                <a:path w="240" h="12">
                  <a:moveTo>
                    <a:pt x="6" y="12"/>
                  </a:moveTo>
                  <a:lnTo>
                    <a:pt x="0" y="0"/>
                  </a:lnTo>
                  <a:lnTo>
                    <a:pt x="229" y="0"/>
                  </a:lnTo>
                  <a:lnTo>
                    <a:pt x="240" y="9"/>
                  </a:lnTo>
                </a:path>
              </a:pathLst>
            </a:custGeom>
            <a:noFill/>
            <a:ln w="9360">
              <a:solidFill>
                <a:srgbClr val="000000"/>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10" name="Freeform 63"/>
            <p:cNvSpPr/>
            <p:nvPr/>
          </p:nvSpPr>
          <p:spPr>
            <a:xfrm flipH="1">
              <a:off x="7197480" y="2695680"/>
              <a:ext cx="30600" cy="52200"/>
            </a:xfrm>
            <a:custGeom>
              <a:avLst/>
              <a:gdLst>
                <a:gd name="textAreaLeft" fmla="*/ -360 w 30600"/>
                <a:gd name="textAreaRight" fmla="*/ 30600 w 30600"/>
                <a:gd name="textAreaTop" fmla="*/ 0 h 52200"/>
                <a:gd name="textAreaBottom" fmla="*/ 52560 h 52200"/>
              </a:gdLst>
              <a:ahLst/>
              <a:rect l="textAreaLeft" t="textAreaTop" r="textAreaRight" b="textAreaBottom"/>
              <a:pathLst>
                <a:path w="33" h="57">
                  <a:moveTo>
                    <a:pt x="0" y="0"/>
                  </a:moveTo>
                  <a:lnTo>
                    <a:pt x="18" y="57"/>
                  </a:lnTo>
                  <a:lnTo>
                    <a:pt x="33" y="57"/>
                  </a:lnTo>
                  <a:lnTo>
                    <a:pt x="33" y="0"/>
                  </a:lnTo>
                  <a:lnTo>
                    <a:pt x="0" y="0"/>
                  </a:lnTo>
                  <a:close/>
                </a:path>
              </a:pathLst>
            </a:custGeom>
            <a:noFill/>
            <a:ln w="9360">
              <a:solidFill>
                <a:srgbClr val="000000"/>
              </a:solidFill>
              <a:round/>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11" name="Freeform 64"/>
            <p:cNvSpPr/>
            <p:nvPr/>
          </p:nvSpPr>
          <p:spPr>
            <a:xfrm flipH="1">
              <a:off x="7074720" y="2692080"/>
              <a:ext cx="96480" cy="60480"/>
            </a:xfrm>
            <a:custGeom>
              <a:avLst/>
              <a:gdLst>
                <a:gd name="textAreaLeft" fmla="*/ 360 w 96480"/>
                <a:gd name="textAreaRight" fmla="*/ 97200 w 96480"/>
                <a:gd name="textAreaTop" fmla="*/ 0 h 60480"/>
                <a:gd name="textAreaBottom" fmla="*/ 60840 h 60480"/>
              </a:gdLst>
              <a:ahLst/>
              <a:rect l="textAreaLeft" t="textAreaTop" r="textAreaRight" b="textAreaBottom"/>
              <a:pathLst>
                <a:path w="104" h="64">
                  <a:moveTo>
                    <a:pt x="0" y="0"/>
                  </a:moveTo>
                  <a:lnTo>
                    <a:pt x="0" y="64"/>
                  </a:lnTo>
                  <a:lnTo>
                    <a:pt x="104" y="63"/>
                  </a:lnTo>
                  <a:lnTo>
                    <a:pt x="104" y="0"/>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12" name="Line 65"/>
            <p:cNvSpPr/>
            <p:nvPr/>
          </p:nvSpPr>
          <p:spPr>
            <a:xfrm flipV="1">
              <a:off x="7024320" y="2582640"/>
              <a:ext cx="2844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Line 66"/>
            <p:cNvSpPr/>
            <p:nvPr/>
          </p:nvSpPr>
          <p:spPr>
            <a:xfrm flipV="1">
              <a:off x="7005600" y="2591280"/>
              <a:ext cx="65880" cy="23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Rectangle 67"/>
            <p:cNvSpPr/>
            <p:nvPr/>
          </p:nvSpPr>
          <p:spPr>
            <a:xfrm flipH="1">
              <a:off x="7089480" y="2788560"/>
              <a:ext cx="89640" cy="85680"/>
            </a:xfrm>
            <a:prstGeom prst="rect">
              <a:avLst/>
            </a:prstGeom>
            <a:solidFill>
              <a:srgbClr val="808080"/>
            </a:solidFill>
            <a:ln w="28440">
              <a:solidFill>
                <a:srgbClr val="000000"/>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 name="Group 68"/>
          <p:cNvGrpSpPr/>
          <p:nvPr/>
        </p:nvGrpSpPr>
        <p:grpSpPr>
          <a:xfrm>
            <a:off x="2057400" y="1514520"/>
            <a:ext cx="2252520" cy="3463920"/>
            <a:chOff x="2057400" y="1514520"/>
            <a:chExt cx="2252520" cy="3463920"/>
          </a:xfrm>
        </p:grpSpPr>
        <p:sp>
          <p:nvSpPr>
            <p:cNvPr id="116" name="Rectangle 69"/>
            <p:cNvSpPr/>
            <p:nvPr/>
          </p:nvSpPr>
          <p:spPr>
            <a:xfrm>
              <a:off x="2057400" y="1962000"/>
              <a:ext cx="2246400" cy="3006720"/>
            </a:xfrm>
            <a:prstGeom prst="rect">
              <a:avLst/>
            </a:prstGeom>
            <a:solidFill>
              <a:srgbClr val="ffffff"/>
            </a:solid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Line 70"/>
            <p:cNvSpPr/>
            <p:nvPr/>
          </p:nvSpPr>
          <p:spPr>
            <a:xfrm>
              <a:off x="2063880" y="2138400"/>
              <a:ext cx="2246040" cy="1440"/>
            </a:xfrm>
            <a:prstGeom prst="line">
              <a:avLst/>
            </a:prstGeom>
            <a:ln w="1908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8" name="Line 71"/>
            <p:cNvSpPr/>
            <p:nvPr/>
          </p:nvSpPr>
          <p:spPr>
            <a:xfrm>
              <a:off x="2948040" y="2252520"/>
              <a:ext cx="1361880" cy="1800"/>
            </a:xfrm>
            <a:prstGeom prst="line">
              <a:avLst/>
            </a:prstGeom>
            <a:ln w="19080">
              <a:solidFill>
                <a:srgbClr val="008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9" name="Line 72"/>
            <p:cNvSpPr/>
            <p:nvPr/>
          </p:nvSpPr>
          <p:spPr>
            <a:xfrm>
              <a:off x="2063880" y="2381400"/>
              <a:ext cx="2246040" cy="1440"/>
            </a:xfrm>
            <a:prstGeom prst="line">
              <a:avLst/>
            </a:prstGeom>
            <a:ln w="1908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0" name="Line 73"/>
            <p:cNvSpPr/>
            <p:nvPr/>
          </p:nvSpPr>
          <p:spPr>
            <a:xfrm>
              <a:off x="2063880" y="252900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1" name="Line 74"/>
            <p:cNvSpPr/>
            <p:nvPr/>
          </p:nvSpPr>
          <p:spPr>
            <a:xfrm>
              <a:off x="2063880" y="266400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2" name="Line 75"/>
            <p:cNvSpPr/>
            <p:nvPr/>
          </p:nvSpPr>
          <p:spPr>
            <a:xfrm>
              <a:off x="2063880" y="279252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3" name="Line 76"/>
            <p:cNvSpPr/>
            <p:nvPr/>
          </p:nvSpPr>
          <p:spPr>
            <a:xfrm>
              <a:off x="2063880" y="294804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4" name="Line 77"/>
            <p:cNvSpPr/>
            <p:nvPr/>
          </p:nvSpPr>
          <p:spPr>
            <a:xfrm>
              <a:off x="2063880" y="306864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5" name="Line 78"/>
            <p:cNvSpPr/>
            <p:nvPr/>
          </p:nvSpPr>
          <p:spPr>
            <a:xfrm>
              <a:off x="2063880" y="320364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6" name="Line 79"/>
            <p:cNvSpPr/>
            <p:nvPr/>
          </p:nvSpPr>
          <p:spPr>
            <a:xfrm>
              <a:off x="2063880" y="333216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7" name="Line 80"/>
            <p:cNvSpPr/>
            <p:nvPr/>
          </p:nvSpPr>
          <p:spPr>
            <a:xfrm>
              <a:off x="2063880" y="3473280"/>
              <a:ext cx="2246040" cy="1800"/>
            </a:xfrm>
            <a:prstGeom prst="line">
              <a:avLst/>
            </a:prstGeom>
            <a:ln w="12600">
              <a:solidFill>
                <a:srgbClr val="008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8" name="Line 81"/>
            <p:cNvSpPr/>
            <p:nvPr/>
          </p:nvSpPr>
          <p:spPr>
            <a:xfrm>
              <a:off x="2063880" y="360216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9" name="Line 82"/>
            <p:cNvSpPr/>
            <p:nvPr/>
          </p:nvSpPr>
          <p:spPr>
            <a:xfrm>
              <a:off x="2063880" y="3736800"/>
              <a:ext cx="2246040" cy="1800"/>
            </a:xfrm>
            <a:prstGeom prst="line">
              <a:avLst/>
            </a:prstGeom>
            <a:ln w="12600">
              <a:solidFill>
                <a:srgbClr val="008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0" name="Line 83"/>
            <p:cNvSpPr/>
            <p:nvPr/>
          </p:nvSpPr>
          <p:spPr>
            <a:xfrm>
              <a:off x="2063880" y="3871800"/>
              <a:ext cx="2246040" cy="1800"/>
            </a:xfrm>
            <a:prstGeom prst="line">
              <a:avLst/>
            </a:prstGeom>
            <a:ln w="12600">
              <a:solidFill>
                <a:srgbClr val="008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1" name="Line 84"/>
            <p:cNvSpPr/>
            <p:nvPr/>
          </p:nvSpPr>
          <p:spPr>
            <a:xfrm>
              <a:off x="2063880" y="399420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2" name="Line 85"/>
            <p:cNvSpPr/>
            <p:nvPr/>
          </p:nvSpPr>
          <p:spPr>
            <a:xfrm>
              <a:off x="2063880" y="4135320"/>
              <a:ext cx="2246040" cy="1800"/>
            </a:xfrm>
            <a:prstGeom prst="line">
              <a:avLst/>
            </a:prstGeom>
            <a:ln w="12600">
              <a:solidFill>
                <a:srgbClr val="008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3" name="Line 86"/>
            <p:cNvSpPr/>
            <p:nvPr/>
          </p:nvSpPr>
          <p:spPr>
            <a:xfrm>
              <a:off x="2063880" y="427680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4" name="Line 87"/>
            <p:cNvSpPr/>
            <p:nvPr/>
          </p:nvSpPr>
          <p:spPr>
            <a:xfrm>
              <a:off x="2063880" y="440532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5" name="Line 88"/>
            <p:cNvSpPr/>
            <p:nvPr/>
          </p:nvSpPr>
          <p:spPr>
            <a:xfrm>
              <a:off x="2063880" y="454032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6" name="Line 89"/>
            <p:cNvSpPr/>
            <p:nvPr/>
          </p:nvSpPr>
          <p:spPr>
            <a:xfrm>
              <a:off x="2063880" y="4695840"/>
              <a:ext cx="2246040" cy="1440"/>
            </a:xfrm>
            <a:prstGeom prst="line">
              <a:avLst/>
            </a:prstGeom>
            <a:ln w="12600">
              <a:solidFill>
                <a:srgbClr val="008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7" name="Line 90"/>
            <p:cNvSpPr/>
            <p:nvPr/>
          </p:nvSpPr>
          <p:spPr>
            <a:xfrm>
              <a:off x="2063880" y="4822920"/>
              <a:ext cx="2246040" cy="3240"/>
            </a:xfrm>
            <a:prstGeom prst="line">
              <a:avLst/>
            </a:prstGeom>
            <a:ln w="12600">
              <a:solidFill>
                <a:srgbClr val="008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38" name="Rectangle 91"/>
            <p:cNvSpPr/>
            <p:nvPr/>
          </p:nvSpPr>
          <p:spPr>
            <a:xfrm>
              <a:off x="2732040" y="2184480"/>
              <a:ext cx="209520" cy="2712960"/>
            </a:xfrm>
            <a:prstGeom prst="rect">
              <a:avLst/>
            </a:prstGeom>
            <a:solidFill>
              <a:srgbClr val="ffffff"/>
            </a:solid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Line 92"/>
            <p:cNvSpPr/>
            <p:nvPr/>
          </p:nvSpPr>
          <p:spPr>
            <a:xfrm>
              <a:off x="2941560" y="1962000"/>
              <a:ext cx="1800" cy="30099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Line 93"/>
            <p:cNvSpPr/>
            <p:nvPr/>
          </p:nvSpPr>
          <p:spPr>
            <a:xfrm>
              <a:off x="2732040" y="1962000"/>
              <a:ext cx="1800" cy="3009960"/>
            </a:xfrm>
            <a:prstGeom prst="line">
              <a:avLst/>
            </a:prstGeom>
            <a:ln w="1908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Line 94"/>
            <p:cNvSpPr/>
            <p:nvPr/>
          </p:nvSpPr>
          <p:spPr>
            <a:xfrm>
              <a:off x="2185920" y="2381400"/>
              <a:ext cx="1800" cy="259704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Line 95"/>
            <p:cNvSpPr/>
            <p:nvPr/>
          </p:nvSpPr>
          <p:spPr>
            <a:xfrm>
              <a:off x="2320920" y="2381400"/>
              <a:ext cx="1440" cy="259704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Line 96"/>
            <p:cNvSpPr/>
            <p:nvPr/>
          </p:nvSpPr>
          <p:spPr>
            <a:xfrm>
              <a:off x="2455920" y="2381400"/>
              <a:ext cx="1440" cy="259704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Line 97"/>
            <p:cNvSpPr/>
            <p:nvPr/>
          </p:nvSpPr>
          <p:spPr>
            <a:xfrm>
              <a:off x="2597040" y="2381400"/>
              <a:ext cx="1800" cy="259704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Line 98"/>
            <p:cNvSpPr/>
            <p:nvPr/>
          </p:nvSpPr>
          <p:spPr>
            <a:xfrm>
              <a:off x="3184560" y="2381400"/>
              <a:ext cx="1440" cy="259704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Line 99"/>
            <p:cNvSpPr/>
            <p:nvPr/>
          </p:nvSpPr>
          <p:spPr>
            <a:xfrm>
              <a:off x="3527280" y="2381400"/>
              <a:ext cx="1800" cy="259704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Line 100"/>
            <p:cNvSpPr/>
            <p:nvPr/>
          </p:nvSpPr>
          <p:spPr>
            <a:xfrm>
              <a:off x="3851280" y="2381400"/>
              <a:ext cx="1440" cy="259704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Line 101"/>
            <p:cNvSpPr/>
            <p:nvPr/>
          </p:nvSpPr>
          <p:spPr>
            <a:xfrm>
              <a:off x="4183200" y="2381400"/>
              <a:ext cx="1440" cy="259704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Freeform 102"/>
            <p:cNvSpPr/>
            <p:nvPr/>
          </p:nvSpPr>
          <p:spPr>
            <a:xfrm>
              <a:off x="2112840" y="2382840"/>
              <a:ext cx="490680" cy="2570040"/>
            </a:xfrm>
            <a:custGeom>
              <a:avLst/>
              <a:gdLst>
                <a:gd name="textAreaLeft" fmla="*/ 0 w 490680"/>
                <a:gd name="textAreaRight" fmla="*/ 491040 w 490680"/>
                <a:gd name="textAreaTop" fmla="*/ 0 h 2570040"/>
                <a:gd name="textAreaBottom" fmla="*/ 2570040 h 2570040"/>
              </a:gdLst>
              <a:ahLst/>
              <a:rect l="textAreaLeft" t="textAreaTop" r="textAreaRight" b="textAreaBottom"/>
              <a:pathLst>
                <a:path w="291" h="1524">
                  <a:moveTo>
                    <a:pt x="264" y="0"/>
                  </a:moveTo>
                  <a:lnTo>
                    <a:pt x="237" y="15"/>
                  </a:lnTo>
                  <a:lnTo>
                    <a:pt x="207" y="24"/>
                  </a:lnTo>
                  <a:lnTo>
                    <a:pt x="168" y="48"/>
                  </a:lnTo>
                  <a:lnTo>
                    <a:pt x="192" y="63"/>
                  </a:lnTo>
                  <a:lnTo>
                    <a:pt x="243" y="81"/>
                  </a:lnTo>
                  <a:lnTo>
                    <a:pt x="270" y="117"/>
                  </a:lnTo>
                  <a:lnTo>
                    <a:pt x="258" y="153"/>
                  </a:lnTo>
                  <a:lnTo>
                    <a:pt x="213" y="159"/>
                  </a:lnTo>
                  <a:lnTo>
                    <a:pt x="150" y="165"/>
                  </a:lnTo>
                  <a:lnTo>
                    <a:pt x="108" y="168"/>
                  </a:lnTo>
                  <a:lnTo>
                    <a:pt x="159" y="192"/>
                  </a:lnTo>
                  <a:lnTo>
                    <a:pt x="216" y="225"/>
                  </a:lnTo>
                  <a:lnTo>
                    <a:pt x="228" y="261"/>
                  </a:lnTo>
                  <a:lnTo>
                    <a:pt x="267" y="291"/>
                  </a:lnTo>
                  <a:lnTo>
                    <a:pt x="276" y="315"/>
                  </a:lnTo>
                  <a:lnTo>
                    <a:pt x="264" y="339"/>
                  </a:lnTo>
                  <a:lnTo>
                    <a:pt x="225" y="354"/>
                  </a:lnTo>
                  <a:lnTo>
                    <a:pt x="183" y="366"/>
                  </a:lnTo>
                  <a:lnTo>
                    <a:pt x="102" y="375"/>
                  </a:lnTo>
                  <a:lnTo>
                    <a:pt x="57" y="384"/>
                  </a:lnTo>
                  <a:lnTo>
                    <a:pt x="120" y="426"/>
                  </a:lnTo>
                  <a:lnTo>
                    <a:pt x="144" y="450"/>
                  </a:lnTo>
                  <a:lnTo>
                    <a:pt x="93" y="459"/>
                  </a:lnTo>
                  <a:lnTo>
                    <a:pt x="33" y="471"/>
                  </a:lnTo>
                  <a:lnTo>
                    <a:pt x="60" y="504"/>
                  </a:lnTo>
                  <a:lnTo>
                    <a:pt x="63" y="528"/>
                  </a:lnTo>
                  <a:lnTo>
                    <a:pt x="42" y="543"/>
                  </a:lnTo>
                  <a:lnTo>
                    <a:pt x="12" y="543"/>
                  </a:lnTo>
                  <a:lnTo>
                    <a:pt x="12" y="564"/>
                  </a:lnTo>
                  <a:lnTo>
                    <a:pt x="0" y="600"/>
                  </a:lnTo>
                  <a:lnTo>
                    <a:pt x="18" y="627"/>
                  </a:lnTo>
                  <a:lnTo>
                    <a:pt x="42" y="657"/>
                  </a:lnTo>
                  <a:lnTo>
                    <a:pt x="36" y="687"/>
                  </a:lnTo>
                  <a:lnTo>
                    <a:pt x="33" y="717"/>
                  </a:lnTo>
                  <a:lnTo>
                    <a:pt x="24" y="738"/>
                  </a:lnTo>
                  <a:lnTo>
                    <a:pt x="9" y="756"/>
                  </a:lnTo>
                  <a:lnTo>
                    <a:pt x="15" y="780"/>
                  </a:lnTo>
                  <a:lnTo>
                    <a:pt x="12" y="801"/>
                  </a:lnTo>
                  <a:lnTo>
                    <a:pt x="36" y="825"/>
                  </a:lnTo>
                  <a:lnTo>
                    <a:pt x="123" y="840"/>
                  </a:lnTo>
                  <a:lnTo>
                    <a:pt x="189" y="855"/>
                  </a:lnTo>
                  <a:lnTo>
                    <a:pt x="231" y="870"/>
                  </a:lnTo>
                  <a:lnTo>
                    <a:pt x="252" y="891"/>
                  </a:lnTo>
                  <a:lnTo>
                    <a:pt x="210" y="915"/>
                  </a:lnTo>
                  <a:lnTo>
                    <a:pt x="132" y="918"/>
                  </a:lnTo>
                  <a:lnTo>
                    <a:pt x="81" y="921"/>
                  </a:lnTo>
                  <a:lnTo>
                    <a:pt x="57" y="930"/>
                  </a:lnTo>
                  <a:lnTo>
                    <a:pt x="96" y="951"/>
                  </a:lnTo>
                  <a:lnTo>
                    <a:pt x="144" y="966"/>
                  </a:lnTo>
                  <a:lnTo>
                    <a:pt x="84" y="972"/>
                  </a:lnTo>
                  <a:lnTo>
                    <a:pt x="57" y="984"/>
                  </a:lnTo>
                  <a:lnTo>
                    <a:pt x="102" y="999"/>
                  </a:lnTo>
                  <a:lnTo>
                    <a:pt x="159" y="1011"/>
                  </a:lnTo>
                  <a:lnTo>
                    <a:pt x="204" y="1035"/>
                  </a:lnTo>
                  <a:lnTo>
                    <a:pt x="258" y="1059"/>
                  </a:lnTo>
                  <a:lnTo>
                    <a:pt x="270" y="1074"/>
                  </a:lnTo>
                  <a:lnTo>
                    <a:pt x="249" y="1089"/>
                  </a:lnTo>
                  <a:lnTo>
                    <a:pt x="225" y="1101"/>
                  </a:lnTo>
                  <a:lnTo>
                    <a:pt x="285" y="1134"/>
                  </a:lnTo>
                  <a:lnTo>
                    <a:pt x="183" y="1164"/>
                  </a:lnTo>
                  <a:lnTo>
                    <a:pt x="117" y="1176"/>
                  </a:lnTo>
                  <a:lnTo>
                    <a:pt x="48" y="1194"/>
                  </a:lnTo>
                  <a:lnTo>
                    <a:pt x="57" y="1218"/>
                  </a:lnTo>
                  <a:lnTo>
                    <a:pt x="126" y="1233"/>
                  </a:lnTo>
                  <a:lnTo>
                    <a:pt x="210" y="1245"/>
                  </a:lnTo>
                  <a:lnTo>
                    <a:pt x="243" y="1263"/>
                  </a:lnTo>
                  <a:lnTo>
                    <a:pt x="243" y="1281"/>
                  </a:lnTo>
                  <a:lnTo>
                    <a:pt x="192" y="1287"/>
                  </a:lnTo>
                  <a:lnTo>
                    <a:pt x="231" y="1308"/>
                  </a:lnTo>
                  <a:lnTo>
                    <a:pt x="252" y="1341"/>
                  </a:lnTo>
                  <a:lnTo>
                    <a:pt x="264" y="1365"/>
                  </a:lnTo>
                  <a:lnTo>
                    <a:pt x="285" y="1389"/>
                  </a:lnTo>
                  <a:lnTo>
                    <a:pt x="288" y="1425"/>
                  </a:lnTo>
                  <a:lnTo>
                    <a:pt x="291" y="1458"/>
                  </a:lnTo>
                  <a:lnTo>
                    <a:pt x="285" y="1497"/>
                  </a:lnTo>
                  <a:lnTo>
                    <a:pt x="291" y="1524"/>
                  </a:ln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Text Box 103"/>
            <p:cNvSpPr/>
            <p:nvPr/>
          </p:nvSpPr>
          <p:spPr>
            <a:xfrm>
              <a:off x="2354040" y="1514520"/>
              <a:ext cx="1451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4"/>
                  </a:solidFill>
                  <a:latin typeface="Arial"/>
                </a:rPr>
                <a:t>Well Log</a:t>
              </a:r>
              <a:endParaRPr b="0" lang="en-US" sz="2400" spc="-1" strike="noStrike">
                <a:solidFill>
                  <a:srgbClr val="000000"/>
                </a:solidFill>
                <a:latin typeface="Times New Roman"/>
              </a:endParaRPr>
            </a:p>
          </p:txBody>
        </p:sp>
        <p:sp>
          <p:nvSpPr>
            <p:cNvPr id="151" name="Text Box 104"/>
            <p:cNvSpPr/>
            <p:nvPr/>
          </p:nvSpPr>
          <p:spPr>
            <a:xfrm>
              <a:off x="2203560" y="192888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a:rPr>
                <a:t>SP</a:t>
              </a:r>
              <a:endParaRPr b="0" lang="en-US" sz="1000" spc="-1" strike="noStrike">
                <a:solidFill>
                  <a:srgbClr val="000000"/>
                </a:solidFill>
                <a:latin typeface="Times New Roman"/>
              </a:endParaRPr>
            </a:p>
          </p:txBody>
        </p:sp>
        <p:sp>
          <p:nvSpPr>
            <p:cNvPr id="152" name="Text Box 105"/>
            <p:cNvSpPr/>
            <p:nvPr/>
          </p:nvSpPr>
          <p:spPr>
            <a:xfrm>
              <a:off x="3176280" y="1928880"/>
              <a:ext cx="813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a:rPr>
                <a:t>Resistivity</a:t>
              </a:r>
              <a:endParaRPr b="0" lang="en-US" sz="1000" spc="-1" strike="noStrike">
                <a:solidFill>
                  <a:srgbClr val="000000"/>
                </a:solidFill>
                <a:latin typeface="Times New Roman"/>
              </a:endParaRPr>
            </a:p>
          </p:txBody>
        </p:sp>
        <p:sp>
          <p:nvSpPr>
            <p:cNvPr id="153" name="Freeform 106"/>
            <p:cNvSpPr/>
            <p:nvPr/>
          </p:nvSpPr>
          <p:spPr>
            <a:xfrm>
              <a:off x="3301920" y="2382840"/>
              <a:ext cx="277920" cy="2585880"/>
            </a:xfrm>
            <a:custGeom>
              <a:avLst/>
              <a:gdLst>
                <a:gd name="textAreaLeft" fmla="*/ 0 w 277920"/>
                <a:gd name="textAreaRight" fmla="*/ 278280 w 277920"/>
                <a:gd name="textAreaTop" fmla="*/ 0 h 2585880"/>
                <a:gd name="textAreaBottom" fmla="*/ 2586240 h 2585880"/>
              </a:gdLst>
              <a:ahLst/>
              <a:rect l="textAreaLeft" t="textAreaTop" r="textAreaRight" b="textAreaBottom"/>
              <a:pathLst>
                <a:path w="165" h="1533">
                  <a:moveTo>
                    <a:pt x="33" y="0"/>
                  </a:moveTo>
                  <a:lnTo>
                    <a:pt x="54" y="33"/>
                  </a:lnTo>
                  <a:lnTo>
                    <a:pt x="108" y="54"/>
                  </a:lnTo>
                  <a:lnTo>
                    <a:pt x="126" y="63"/>
                  </a:lnTo>
                  <a:lnTo>
                    <a:pt x="66" y="84"/>
                  </a:lnTo>
                  <a:lnTo>
                    <a:pt x="27" y="84"/>
                  </a:lnTo>
                  <a:lnTo>
                    <a:pt x="30" y="111"/>
                  </a:lnTo>
                  <a:lnTo>
                    <a:pt x="21" y="132"/>
                  </a:lnTo>
                  <a:lnTo>
                    <a:pt x="69" y="165"/>
                  </a:lnTo>
                  <a:lnTo>
                    <a:pt x="123" y="180"/>
                  </a:lnTo>
                  <a:lnTo>
                    <a:pt x="75" y="195"/>
                  </a:lnTo>
                  <a:lnTo>
                    <a:pt x="57" y="201"/>
                  </a:lnTo>
                  <a:lnTo>
                    <a:pt x="36" y="231"/>
                  </a:lnTo>
                  <a:lnTo>
                    <a:pt x="0" y="231"/>
                  </a:lnTo>
                  <a:lnTo>
                    <a:pt x="42" y="246"/>
                  </a:lnTo>
                  <a:lnTo>
                    <a:pt x="24" y="282"/>
                  </a:lnTo>
                  <a:lnTo>
                    <a:pt x="15" y="312"/>
                  </a:lnTo>
                  <a:lnTo>
                    <a:pt x="12" y="342"/>
                  </a:lnTo>
                  <a:lnTo>
                    <a:pt x="36" y="360"/>
                  </a:lnTo>
                  <a:lnTo>
                    <a:pt x="90" y="378"/>
                  </a:lnTo>
                  <a:lnTo>
                    <a:pt x="126" y="393"/>
                  </a:lnTo>
                  <a:lnTo>
                    <a:pt x="87" y="411"/>
                  </a:lnTo>
                  <a:lnTo>
                    <a:pt x="72" y="435"/>
                  </a:lnTo>
                  <a:lnTo>
                    <a:pt x="36" y="444"/>
                  </a:lnTo>
                  <a:lnTo>
                    <a:pt x="78" y="453"/>
                  </a:lnTo>
                  <a:lnTo>
                    <a:pt x="93" y="468"/>
                  </a:lnTo>
                  <a:lnTo>
                    <a:pt x="72" y="495"/>
                  </a:lnTo>
                  <a:lnTo>
                    <a:pt x="57" y="513"/>
                  </a:lnTo>
                  <a:lnTo>
                    <a:pt x="72" y="534"/>
                  </a:lnTo>
                  <a:lnTo>
                    <a:pt x="69" y="558"/>
                  </a:lnTo>
                  <a:lnTo>
                    <a:pt x="51" y="576"/>
                  </a:lnTo>
                  <a:lnTo>
                    <a:pt x="51" y="597"/>
                  </a:lnTo>
                  <a:lnTo>
                    <a:pt x="87" y="624"/>
                  </a:lnTo>
                  <a:lnTo>
                    <a:pt x="132" y="645"/>
                  </a:lnTo>
                  <a:lnTo>
                    <a:pt x="72" y="648"/>
                  </a:lnTo>
                  <a:lnTo>
                    <a:pt x="81" y="666"/>
                  </a:lnTo>
                  <a:lnTo>
                    <a:pt x="75" y="684"/>
                  </a:lnTo>
                  <a:lnTo>
                    <a:pt x="81" y="720"/>
                  </a:lnTo>
                  <a:lnTo>
                    <a:pt x="87" y="753"/>
                  </a:lnTo>
                  <a:lnTo>
                    <a:pt x="72" y="774"/>
                  </a:lnTo>
                  <a:lnTo>
                    <a:pt x="45" y="786"/>
                  </a:lnTo>
                  <a:lnTo>
                    <a:pt x="81" y="801"/>
                  </a:lnTo>
                  <a:lnTo>
                    <a:pt x="108" y="813"/>
                  </a:lnTo>
                  <a:cubicBezTo>
                    <a:pt x="100" y="821"/>
                    <a:pt x="84" y="837"/>
                    <a:pt x="84" y="837"/>
                  </a:cubicBezTo>
                  <a:lnTo>
                    <a:pt x="51" y="864"/>
                  </a:lnTo>
                  <a:lnTo>
                    <a:pt x="24" y="876"/>
                  </a:lnTo>
                  <a:lnTo>
                    <a:pt x="12" y="891"/>
                  </a:lnTo>
                  <a:lnTo>
                    <a:pt x="30" y="909"/>
                  </a:lnTo>
                  <a:lnTo>
                    <a:pt x="66" y="918"/>
                  </a:lnTo>
                  <a:lnTo>
                    <a:pt x="114" y="933"/>
                  </a:lnTo>
                  <a:lnTo>
                    <a:pt x="117" y="951"/>
                  </a:lnTo>
                  <a:lnTo>
                    <a:pt x="78" y="960"/>
                  </a:lnTo>
                  <a:lnTo>
                    <a:pt x="57" y="963"/>
                  </a:lnTo>
                  <a:lnTo>
                    <a:pt x="108" y="990"/>
                  </a:lnTo>
                  <a:lnTo>
                    <a:pt x="129" y="996"/>
                  </a:lnTo>
                  <a:lnTo>
                    <a:pt x="102" y="1017"/>
                  </a:lnTo>
                  <a:lnTo>
                    <a:pt x="63" y="1035"/>
                  </a:lnTo>
                  <a:lnTo>
                    <a:pt x="123" y="1041"/>
                  </a:lnTo>
                  <a:lnTo>
                    <a:pt x="150" y="1047"/>
                  </a:lnTo>
                  <a:lnTo>
                    <a:pt x="99" y="1056"/>
                  </a:lnTo>
                  <a:lnTo>
                    <a:pt x="45" y="1056"/>
                  </a:lnTo>
                  <a:lnTo>
                    <a:pt x="42" y="1104"/>
                  </a:lnTo>
                  <a:lnTo>
                    <a:pt x="48" y="1137"/>
                  </a:lnTo>
                  <a:lnTo>
                    <a:pt x="81" y="1158"/>
                  </a:lnTo>
                  <a:lnTo>
                    <a:pt x="132" y="1167"/>
                  </a:lnTo>
                  <a:lnTo>
                    <a:pt x="150" y="1191"/>
                  </a:lnTo>
                  <a:lnTo>
                    <a:pt x="162" y="1212"/>
                  </a:lnTo>
                  <a:lnTo>
                    <a:pt x="114" y="1233"/>
                  </a:lnTo>
                  <a:lnTo>
                    <a:pt x="54" y="1236"/>
                  </a:lnTo>
                  <a:lnTo>
                    <a:pt x="33" y="1242"/>
                  </a:lnTo>
                  <a:lnTo>
                    <a:pt x="66" y="1266"/>
                  </a:lnTo>
                  <a:lnTo>
                    <a:pt x="117" y="1275"/>
                  </a:lnTo>
                  <a:lnTo>
                    <a:pt x="165" y="1290"/>
                  </a:lnTo>
                  <a:lnTo>
                    <a:pt x="135" y="1305"/>
                  </a:lnTo>
                  <a:lnTo>
                    <a:pt x="99" y="1314"/>
                  </a:lnTo>
                  <a:lnTo>
                    <a:pt x="60" y="1323"/>
                  </a:lnTo>
                  <a:lnTo>
                    <a:pt x="21" y="1338"/>
                  </a:lnTo>
                  <a:lnTo>
                    <a:pt x="15" y="1359"/>
                  </a:lnTo>
                  <a:lnTo>
                    <a:pt x="33" y="1380"/>
                  </a:lnTo>
                  <a:lnTo>
                    <a:pt x="51" y="1398"/>
                  </a:lnTo>
                  <a:lnTo>
                    <a:pt x="42" y="1422"/>
                  </a:lnTo>
                  <a:lnTo>
                    <a:pt x="45" y="1464"/>
                  </a:lnTo>
                  <a:lnTo>
                    <a:pt x="69" y="1488"/>
                  </a:lnTo>
                  <a:lnTo>
                    <a:pt x="69" y="1509"/>
                  </a:lnTo>
                  <a:lnTo>
                    <a:pt x="48" y="1533"/>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4" name="PlaceHolder 1"/>
          <p:cNvSpPr>
            <a:spLocks noGrp="1"/>
          </p:cNvSpPr>
          <p:nvPr>
            <p:ph type="title"/>
          </p:nvPr>
        </p:nvSpPr>
        <p:spPr>
          <a:xfrm>
            <a:off x="0" y="167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HOLE LOG EVALU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72">
                                  <p:stCondLst>
                                    <p:cond delay="0"/>
                                  </p:stCondLst>
                                  <p:childTnLst>
                                    <p:set>
                                      <p:cBhvr>
                                        <p:cTn id="6" dur="1" fill="hold">
                                          <p:stCondLst>
                                            <p:cond delay="0"/>
                                          </p:stCondLst>
                                        </p:cTn>
                                        <p:tgtEl>
                                          <p:spTgt spid="154"/>
                                        </p:tgtEl>
                                        <p:attrNameLst>
                                          <p:attrName>style.visibility</p:attrName>
                                        </p:attrNameLst>
                                      </p:cBhvr>
                                      <p:to>
                                        <p:strVal val="visible"/>
                                      </p:to>
                                    </p:set>
                                    <p:anim calcmode="lin" valueType="num">
                                      <p:cBhvr additive="repl">
                                        <p:cTn id="7" dur="500" fill="hold"/>
                                        <p:tgtEl>
                                          <p:spTgt spid="154"/>
                                        </p:tgtEl>
                                        <p:attrNameLst>
                                          <p:attrName>ppt_w</p:attrName>
                                        </p:attrNameLst>
                                      </p:cBhvr>
                                      <p:tavLst>
                                        <p:tav tm="0">
                                          <p:val>
                                            <p:strVal val="2/3*#ppt_w"/>
                                          </p:val>
                                        </p:tav>
                                        <p:tav tm="100000">
                                          <p:val>
                                            <p:strVal val="#ppt_w"/>
                                          </p:val>
                                        </p:tav>
                                      </p:tavLst>
                                    </p:anim>
                                    <p:anim calcmode="lin" valueType="num">
                                      <p:cBhvr additive="repl">
                                        <p:cTn id="8" dur="500" fill="hold"/>
                                        <p:tgtEl>
                                          <p:spTgt spid="154"/>
                                        </p:tgtEl>
                                        <p:attrNameLst>
                                          <p:attrName>ppt_h</p:attrName>
                                        </p:attrNameLst>
                                      </p:cBhvr>
                                      <p:tavLst>
                                        <p:tav tm="0">
                                          <p:val>
                                            <p:strVal val="2/3*#ppt_h"/>
                                          </p:val>
                                        </p:tav>
                                        <p:tav tm="100000">
                                          <p:val>
                                            <p:strVal val="#ppt_h"/>
                                          </p:val>
                                        </p:tav>
                                      </p:tavLst>
                                    </p:anim>
                                  </p:childTnLst>
                                </p:cTn>
                              </p:par>
                            </p:childTnLst>
                          </p:cTn>
                        </p:par>
                        <p:par>
                          <p:cTn id="9" fill="hold">
                            <p:stCondLst>
                              <p:cond delay="500"/>
                            </p:stCondLst>
                            <p:childTnLst>
                              <p:par>
                                <p:cTn id="10" nodeType="afterEffect" fill="hold" presetClass="entr" presetID="22" presetSubtype="1">
                                  <p:stCondLst>
                                    <p:cond delay="0"/>
                                  </p:stCondLst>
                                  <p:childTnLst>
                                    <p:set>
                                      <p:cBhvr>
                                        <p:cTn id="11" dur="1" fill="hold">
                                          <p:stCondLst>
                                            <p:cond delay="0"/>
                                          </p:stCondLst>
                                        </p:cTn>
                                        <p:tgtEl>
                                          <p:spTgt spid="100"/>
                                        </p:tgtEl>
                                        <p:attrNameLst>
                                          <p:attrName>style.visibility</p:attrName>
                                        </p:attrNameLst>
                                      </p:cBhvr>
                                      <p:to>
                                        <p:strVal val="visible"/>
                                      </p:to>
                                    </p:set>
                                    <p:animEffect filter="wipe(up)" transition="in">
                                      <p:cBhvr additive="repl">
                                        <p:cTn id="12" dur="500"/>
                                        <p:tgtEl>
                                          <p:spTgt spid="10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115"/>
                                        </p:tgtEl>
                                        <p:attrNameLst>
                                          <p:attrName>style.visibility</p:attrName>
                                        </p:attrNameLst>
                                      </p:cBhvr>
                                      <p:to>
                                        <p:strVal val="visible"/>
                                      </p:to>
                                    </p:set>
                                    <p:animEffect filter="wipe(up)" transition="in">
                                      <p:cBhvr additive="repl">
                                        <p:cTn id="17"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Freeform 2"/>
          <p:cNvSpPr/>
          <p:nvPr/>
        </p:nvSpPr>
        <p:spPr>
          <a:xfrm>
            <a:off x="1986120" y="3076560"/>
            <a:ext cx="5133960" cy="1727280"/>
          </a:xfrm>
          <a:custGeom>
            <a:avLst/>
            <a:gdLst>
              <a:gd name="textAreaLeft" fmla="*/ 0 w 5133960"/>
              <a:gd name="textAreaRight" fmla="*/ 5134320 w 5133960"/>
              <a:gd name="textAreaTop" fmla="*/ 0 h 1727280"/>
              <a:gd name="textAreaBottom" fmla="*/ 1727640 h 1727280"/>
            </a:gdLst>
            <a:ahLst/>
            <a:rect l="textAreaLeft" t="textAreaTop" r="textAreaRight" b="textAreaBottom"/>
            <a:pathLst>
              <a:path w="2979" h="976">
                <a:moveTo>
                  <a:pt x="0" y="485"/>
                </a:moveTo>
                <a:lnTo>
                  <a:pt x="639" y="485"/>
                </a:lnTo>
                <a:lnTo>
                  <a:pt x="668" y="454"/>
                </a:lnTo>
                <a:lnTo>
                  <a:pt x="683" y="448"/>
                </a:lnTo>
                <a:lnTo>
                  <a:pt x="704" y="454"/>
                </a:lnTo>
                <a:cubicBezTo>
                  <a:pt x="719" y="475"/>
                  <a:pt x="745" y="593"/>
                  <a:pt x="771" y="575"/>
                </a:cubicBezTo>
                <a:cubicBezTo>
                  <a:pt x="797" y="557"/>
                  <a:pt x="832" y="339"/>
                  <a:pt x="861" y="347"/>
                </a:cubicBezTo>
                <a:cubicBezTo>
                  <a:pt x="890" y="355"/>
                  <a:pt x="916" y="624"/>
                  <a:pt x="945" y="623"/>
                </a:cubicBezTo>
                <a:cubicBezTo>
                  <a:pt x="974" y="622"/>
                  <a:pt x="1006" y="347"/>
                  <a:pt x="1035" y="341"/>
                </a:cubicBezTo>
                <a:cubicBezTo>
                  <a:pt x="1064" y="335"/>
                  <a:pt x="1091" y="578"/>
                  <a:pt x="1119" y="587"/>
                </a:cubicBezTo>
                <a:cubicBezTo>
                  <a:pt x="1147" y="596"/>
                  <a:pt x="1174" y="393"/>
                  <a:pt x="1203" y="395"/>
                </a:cubicBezTo>
                <a:cubicBezTo>
                  <a:pt x="1232" y="397"/>
                  <a:pt x="1264" y="618"/>
                  <a:pt x="1293" y="599"/>
                </a:cubicBezTo>
                <a:cubicBezTo>
                  <a:pt x="1322" y="580"/>
                  <a:pt x="1351" y="230"/>
                  <a:pt x="1377" y="281"/>
                </a:cubicBezTo>
                <a:cubicBezTo>
                  <a:pt x="1403" y="332"/>
                  <a:pt x="1421" y="950"/>
                  <a:pt x="1449" y="905"/>
                </a:cubicBezTo>
                <a:cubicBezTo>
                  <a:pt x="1477" y="860"/>
                  <a:pt x="1517" y="0"/>
                  <a:pt x="1545" y="11"/>
                </a:cubicBezTo>
                <a:cubicBezTo>
                  <a:pt x="1573" y="22"/>
                  <a:pt x="1590" y="966"/>
                  <a:pt x="1617" y="971"/>
                </a:cubicBezTo>
                <a:cubicBezTo>
                  <a:pt x="1644" y="976"/>
                  <a:pt x="1680" y="59"/>
                  <a:pt x="1707" y="41"/>
                </a:cubicBezTo>
                <a:cubicBezTo>
                  <a:pt x="1734" y="23"/>
                  <a:pt x="1752" y="858"/>
                  <a:pt x="1779" y="863"/>
                </a:cubicBezTo>
                <a:cubicBezTo>
                  <a:pt x="1806" y="868"/>
                  <a:pt x="1839" y="88"/>
                  <a:pt x="1869" y="71"/>
                </a:cubicBezTo>
                <a:cubicBezTo>
                  <a:pt x="1899" y="54"/>
                  <a:pt x="1929" y="719"/>
                  <a:pt x="1959" y="761"/>
                </a:cubicBezTo>
                <a:cubicBezTo>
                  <a:pt x="1989" y="803"/>
                  <a:pt x="2019" y="336"/>
                  <a:pt x="2049" y="323"/>
                </a:cubicBezTo>
                <a:cubicBezTo>
                  <a:pt x="2079" y="310"/>
                  <a:pt x="2105" y="689"/>
                  <a:pt x="2139" y="683"/>
                </a:cubicBezTo>
                <a:cubicBezTo>
                  <a:pt x="2173" y="677"/>
                  <a:pt x="2226" y="278"/>
                  <a:pt x="2253" y="287"/>
                </a:cubicBezTo>
                <a:cubicBezTo>
                  <a:pt x="2280" y="296"/>
                  <a:pt x="2279" y="741"/>
                  <a:pt x="2301" y="737"/>
                </a:cubicBezTo>
                <a:cubicBezTo>
                  <a:pt x="2323" y="733"/>
                  <a:pt x="2356" y="267"/>
                  <a:pt x="2385" y="263"/>
                </a:cubicBezTo>
                <a:cubicBezTo>
                  <a:pt x="2414" y="259"/>
                  <a:pt x="2446" y="702"/>
                  <a:pt x="2475" y="713"/>
                </a:cubicBezTo>
                <a:cubicBezTo>
                  <a:pt x="2504" y="724"/>
                  <a:pt x="2529" y="332"/>
                  <a:pt x="2559" y="329"/>
                </a:cubicBezTo>
                <a:cubicBezTo>
                  <a:pt x="2589" y="326"/>
                  <a:pt x="2625" y="702"/>
                  <a:pt x="2655" y="695"/>
                </a:cubicBezTo>
                <a:cubicBezTo>
                  <a:pt x="2685" y="688"/>
                  <a:pt x="2713" y="280"/>
                  <a:pt x="2739" y="287"/>
                </a:cubicBezTo>
                <a:cubicBezTo>
                  <a:pt x="2765" y="294"/>
                  <a:pt x="2783" y="729"/>
                  <a:pt x="2811" y="737"/>
                </a:cubicBezTo>
                <a:cubicBezTo>
                  <a:pt x="2839" y="745"/>
                  <a:pt x="2879" y="341"/>
                  <a:pt x="2907" y="335"/>
                </a:cubicBezTo>
                <a:cubicBezTo>
                  <a:pt x="2935" y="329"/>
                  <a:pt x="2967" y="640"/>
                  <a:pt x="2979" y="701"/>
                </a:cubicBezTo>
              </a:path>
            </a:pathLst>
          </a:custGeom>
          <a:noFill/>
          <a:ln w="38160">
            <a:solidFill>
              <a:srgbClr val="000094"/>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2" name="Group 3"/>
          <p:cNvGrpSpPr/>
          <p:nvPr/>
        </p:nvGrpSpPr>
        <p:grpSpPr>
          <a:xfrm>
            <a:off x="1752480" y="762120"/>
            <a:ext cx="5791320" cy="5581440"/>
            <a:chOff x="1752480" y="762120"/>
            <a:chExt cx="5791320" cy="5581440"/>
          </a:xfrm>
        </p:grpSpPr>
        <p:sp>
          <p:nvSpPr>
            <p:cNvPr id="1093" name="Rectangle 4"/>
            <p:cNvSpPr/>
            <p:nvPr/>
          </p:nvSpPr>
          <p:spPr>
            <a:xfrm>
              <a:off x="1752480" y="762120"/>
              <a:ext cx="5791320" cy="5581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4" name="Text Box 5"/>
            <p:cNvSpPr/>
            <p:nvPr/>
          </p:nvSpPr>
          <p:spPr>
            <a:xfrm>
              <a:off x="2198160" y="4775040"/>
              <a:ext cx="58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Arial"/>
                </a:rPr>
                <a:t>sec</a:t>
              </a:r>
              <a:endParaRPr b="0" lang="en-US" sz="1400" spc="-1" strike="noStrike">
                <a:solidFill>
                  <a:srgbClr val="000000"/>
                </a:solidFill>
                <a:latin typeface="Times New Roman"/>
              </a:endParaRPr>
            </a:p>
          </p:txBody>
        </p:sp>
        <p:grpSp>
          <p:nvGrpSpPr>
            <p:cNvPr id="1095" name="Group 6"/>
            <p:cNvGrpSpPr/>
            <p:nvPr/>
          </p:nvGrpSpPr>
          <p:grpSpPr>
            <a:xfrm>
              <a:off x="1976400" y="5090760"/>
              <a:ext cx="5157360" cy="46080"/>
              <a:chOff x="1976400" y="5090760"/>
              <a:chExt cx="5157360" cy="46080"/>
            </a:xfrm>
          </p:grpSpPr>
          <p:sp>
            <p:nvSpPr>
              <p:cNvPr id="1096" name="Line 7"/>
              <p:cNvSpPr/>
              <p:nvPr/>
            </p:nvSpPr>
            <p:spPr>
              <a:xfrm>
                <a:off x="1976400" y="5136840"/>
                <a:ext cx="5157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Line 8"/>
              <p:cNvSpPr/>
              <p:nvPr/>
            </p:nvSpPr>
            <p:spPr>
              <a:xfrm flipV="1">
                <a:off x="19900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098" name="Line 9"/>
              <p:cNvSpPr/>
              <p:nvPr/>
            </p:nvSpPr>
            <p:spPr>
              <a:xfrm flipV="1">
                <a:off x="23554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099" name="Line 10"/>
              <p:cNvSpPr/>
              <p:nvPr/>
            </p:nvSpPr>
            <p:spPr>
              <a:xfrm flipV="1">
                <a:off x="272232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00" name="Line 11"/>
              <p:cNvSpPr/>
              <p:nvPr/>
            </p:nvSpPr>
            <p:spPr>
              <a:xfrm flipV="1">
                <a:off x="30880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01" name="Line 12"/>
              <p:cNvSpPr/>
              <p:nvPr/>
            </p:nvSpPr>
            <p:spPr>
              <a:xfrm flipV="1">
                <a:off x="34552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02" name="Line 13"/>
              <p:cNvSpPr/>
              <p:nvPr/>
            </p:nvSpPr>
            <p:spPr>
              <a:xfrm flipV="1">
                <a:off x="38206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03" name="Line 14"/>
              <p:cNvSpPr/>
              <p:nvPr/>
            </p:nvSpPr>
            <p:spPr>
              <a:xfrm flipV="1">
                <a:off x="41878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04" name="Line 15"/>
              <p:cNvSpPr/>
              <p:nvPr/>
            </p:nvSpPr>
            <p:spPr>
              <a:xfrm flipV="1">
                <a:off x="49204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05" name="Line 16"/>
              <p:cNvSpPr/>
              <p:nvPr/>
            </p:nvSpPr>
            <p:spPr>
              <a:xfrm flipV="1">
                <a:off x="455364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06" name="Line 17"/>
              <p:cNvSpPr/>
              <p:nvPr/>
            </p:nvSpPr>
            <p:spPr>
              <a:xfrm flipV="1">
                <a:off x="528624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07" name="Line 18"/>
              <p:cNvSpPr/>
              <p:nvPr/>
            </p:nvSpPr>
            <p:spPr>
              <a:xfrm flipV="1">
                <a:off x="56530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08" name="Line 19"/>
              <p:cNvSpPr/>
              <p:nvPr/>
            </p:nvSpPr>
            <p:spPr>
              <a:xfrm flipV="1">
                <a:off x="60184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09" name="Line 20"/>
              <p:cNvSpPr/>
              <p:nvPr/>
            </p:nvSpPr>
            <p:spPr>
              <a:xfrm flipV="1">
                <a:off x="63856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10" name="Line 21"/>
              <p:cNvSpPr/>
              <p:nvPr/>
            </p:nvSpPr>
            <p:spPr>
              <a:xfrm flipV="1">
                <a:off x="67510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111" name="Line 22"/>
              <p:cNvSpPr/>
              <p:nvPr/>
            </p:nvSpPr>
            <p:spPr>
              <a:xfrm flipV="1">
                <a:off x="7118280" y="5090760"/>
                <a:ext cx="0" cy="45720"/>
              </a:xfrm>
              <a:prstGeom prst="line">
                <a:avLst/>
              </a:prstGeom>
              <a:ln w="255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sp>
          <p:nvSpPr>
            <p:cNvPr id="1112" name="Line 23"/>
            <p:cNvSpPr/>
            <p:nvPr/>
          </p:nvSpPr>
          <p:spPr>
            <a:xfrm>
              <a:off x="1990800" y="3765600"/>
              <a:ext cx="0" cy="349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Line 24"/>
            <p:cNvSpPr/>
            <p:nvPr/>
          </p:nvSpPr>
          <p:spPr>
            <a:xfrm>
              <a:off x="2355840" y="4572000"/>
              <a:ext cx="0" cy="264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Line 25"/>
            <p:cNvSpPr/>
            <p:nvPr/>
          </p:nvSpPr>
          <p:spPr>
            <a:xfrm>
              <a:off x="2722680" y="4572000"/>
              <a:ext cx="0" cy="264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Text Box 26"/>
            <p:cNvSpPr/>
            <p:nvPr/>
          </p:nvSpPr>
          <p:spPr>
            <a:xfrm>
              <a:off x="2344320" y="4540320"/>
              <a:ext cx="378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a:t>
              </a:r>
              <a:endParaRPr b="0" lang="en-US" sz="1400" spc="-1" strike="noStrike">
                <a:solidFill>
                  <a:srgbClr val="000000"/>
                </a:solidFill>
                <a:latin typeface="Times New Roman"/>
              </a:endParaRPr>
            </a:p>
          </p:txBody>
        </p:sp>
        <p:sp>
          <p:nvSpPr>
            <p:cNvPr id="1116" name="Text Box 27"/>
            <p:cNvSpPr/>
            <p:nvPr/>
          </p:nvSpPr>
          <p:spPr>
            <a:xfrm>
              <a:off x="1852200" y="4110120"/>
              <a:ext cx="34704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r>
                <a:rPr b="1" lang="en-US" sz="1400" spc="-1" strike="noStrike" baseline="-25000">
                  <a:solidFill>
                    <a:srgbClr val="000000"/>
                  </a:solidFill>
                  <a:latin typeface="Arial"/>
                </a:rPr>
                <a:t>0</a:t>
              </a:r>
              <a:endParaRPr b="0" lang="en-US" sz="1400" spc="-1" strike="noStrike">
                <a:solidFill>
                  <a:srgbClr val="000000"/>
                </a:solidFill>
                <a:latin typeface="Times New Roman"/>
              </a:endParaRPr>
            </a:p>
          </p:txBody>
        </p:sp>
        <p:sp>
          <p:nvSpPr>
            <p:cNvPr id="1117" name="Text Box 28"/>
            <p:cNvSpPr/>
            <p:nvPr/>
          </p:nvSpPr>
          <p:spPr>
            <a:xfrm>
              <a:off x="3192120" y="4067280"/>
              <a:ext cx="3574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r>
                <a:rPr b="1" lang="en-US" sz="1400" spc="-1" strike="noStrike" baseline="-25000">
                  <a:solidFill>
                    <a:srgbClr val="000000"/>
                  </a:solidFill>
                  <a:latin typeface="Arial"/>
                </a:rPr>
                <a:t>2</a:t>
              </a:r>
              <a:endParaRPr b="0" lang="en-US" sz="1400" spc="-1" strike="noStrike">
                <a:solidFill>
                  <a:srgbClr val="000000"/>
                </a:solidFill>
                <a:latin typeface="Times New Roman"/>
              </a:endParaRPr>
            </a:p>
          </p:txBody>
        </p:sp>
        <p:sp>
          <p:nvSpPr>
            <p:cNvPr id="1118" name="Text Box 29"/>
            <p:cNvSpPr/>
            <p:nvPr/>
          </p:nvSpPr>
          <p:spPr>
            <a:xfrm>
              <a:off x="3001680" y="3537000"/>
              <a:ext cx="3574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r>
                <a:rPr b="1" lang="en-US" sz="1400" spc="-1" strike="noStrike" baseline="-25000">
                  <a:solidFill>
                    <a:srgbClr val="000000"/>
                  </a:solidFill>
                  <a:latin typeface="Arial"/>
                </a:rPr>
                <a:t>1</a:t>
              </a:r>
              <a:endParaRPr b="0" lang="en-US" sz="1400" spc="-1" strike="noStrike">
                <a:solidFill>
                  <a:srgbClr val="000000"/>
                </a:solidFill>
                <a:latin typeface="Times New Roman"/>
              </a:endParaRPr>
            </a:p>
          </p:txBody>
        </p:sp>
        <p:sp>
          <p:nvSpPr>
            <p:cNvPr id="1119" name="Text Box 30"/>
            <p:cNvSpPr/>
            <p:nvPr/>
          </p:nvSpPr>
          <p:spPr>
            <a:xfrm>
              <a:off x="3331800" y="3355920"/>
              <a:ext cx="3574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r>
                <a:rPr b="1" lang="en-US" sz="1400" spc="-1" strike="noStrike" baseline="-25000">
                  <a:solidFill>
                    <a:srgbClr val="000000"/>
                  </a:solidFill>
                  <a:latin typeface="Arial"/>
                </a:rPr>
                <a:t>3</a:t>
              </a:r>
              <a:endParaRPr b="0" lang="en-US" sz="1400" spc="-1" strike="noStrike">
                <a:solidFill>
                  <a:srgbClr val="000000"/>
                </a:solidFill>
                <a:latin typeface="Times New Roman"/>
              </a:endParaRPr>
            </a:p>
          </p:txBody>
        </p:sp>
        <p:sp>
          <p:nvSpPr>
            <p:cNvPr id="1120" name="Line 31"/>
            <p:cNvSpPr/>
            <p:nvPr/>
          </p:nvSpPr>
          <p:spPr>
            <a:xfrm flipH="1">
              <a:off x="2722320" y="4703760"/>
              <a:ext cx="1760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Line 32"/>
            <p:cNvSpPr/>
            <p:nvPr/>
          </p:nvSpPr>
          <p:spPr>
            <a:xfrm>
              <a:off x="2179800" y="4703760"/>
              <a:ext cx="1760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AutoShape 33"/>
            <p:cNvSpPr/>
            <p:nvPr/>
          </p:nvSpPr>
          <p:spPr>
            <a:xfrm rot="16200000">
              <a:off x="3565080" y="1861920"/>
              <a:ext cx="222480" cy="1336680"/>
            </a:xfrm>
            <a:custGeom>
              <a:avLst/>
              <a:gdLst>
                <a:gd name="textAreaLeft" fmla="*/ 0 w 222480"/>
                <a:gd name="textAreaRight" fmla="*/ 80280 w 222480"/>
                <a:gd name="textAreaTop" fmla="*/ 34560 h 1336680"/>
                <a:gd name="textAreaBottom" fmla="*/ 1302120 h 133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AutoShape 34"/>
            <p:cNvSpPr/>
            <p:nvPr/>
          </p:nvSpPr>
          <p:spPr>
            <a:xfrm rot="16200000">
              <a:off x="4906800" y="1886040"/>
              <a:ext cx="222480" cy="1288800"/>
            </a:xfrm>
            <a:custGeom>
              <a:avLst/>
              <a:gdLst>
                <a:gd name="textAreaLeft" fmla="*/ 0 w 222480"/>
                <a:gd name="textAreaRight" fmla="*/ 80280 w 222480"/>
                <a:gd name="textAreaTop" fmla="*/ 33480 h 1288800"/>
                <a:gd name="textAreaBottom" fmla="*/ 1255320 h 128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AutoShape 35"/>
            <p:cNvSpPr/>
            <p:nvPr/>
          </p:nvSpPr>
          <p:spPr>
            <a:xfrm rot="16200000">
              <a:off x="6434640" y="1665720"/>
              <a:ext cx="222480" cy="1729080"/>
            </a:xfrm>
            <a:custGeom>
              <a:avLst/>
              <a:gdLst>
                <a:gd name="textAreaLeft" fmla="*/ 0 w 222480"/>
                <a:gd name="textAreaRight" fmla="*/ 80280 w 222480"/>
                <a:gd name="textAreaTop" fmla="*/ 45000 h 1729080"/>
                <a:gd name="textAreaBottom" fmla="*/ 1684080 h 172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5" name="Text Box 36"/>
            <p:cNvSpPr/>
            <p:nvPr/>
          </p:nvSpPr>
          <p:spPr>
            <a:xfrm>
              <a:off x="6006600" y="2155680"/>
              <a:ext cx="1130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d waves</a:t>
              </a:r>
              <a:endParaRPr b="0" lang="en-US" sz="1400" spc="-1" strike="noStrike">
                <a:solidFill>
                  <a:srgbClr val="000000"/>
                </a:solidFill>
                <a:latin typeface="Times New Roman"/>
              </a:endParaRPr>
            </a:p>
          </p:txBody>
        </p:sp>
        <p:sp>
          <p:nvSpPr>
            <p:cNvPr id="1126" name="Text Box 37"/>
            <p:cNvSpPr/>
            <p:nvPr/>
          </p:nvSpPr>
          <p:spPr>
            <a:xfrm>
              <a:off x="4559040" y="1938240"/>
              <a:ext cx="923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yleig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s</a:t>
              </a:r>
              <a:endParaRPr b="0" lang="en-US" sz="1400" spc="-1" strike="noStrike">
                <a:solidFill>
                  <a:srgbClr val="000000"/>
                </a:solidFill>
                <a:latin typeface="Times New Roman"/>
              </a:endParaRPr>
            </a:p>
          </p:txBody>
        </p:sp>
        <p:sp>
          <p:nvSpPr>
            <p:cNvPr id="1127" name="Text Box 38"/>
            <p:cNvSpPr/>
            <p:nvPr/>
          </p:nvSpPr>
          <p:spPr>
            <a:xfrm>
              <a:off x="2991600" y="1938240"/>
              <a:ext cx="1467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ssion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s</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afterEffect" fill="hold" presetClass="entr" presetID="1">
                                  <p:stCondLst>
                                    <p:cond delay="0"/>
                                  </p:stCondLst>
                                  <p:childTnLst>
                                    <p:set>
                                      <p:cBhvr>
                                        <p:cTn id="397" dur="1" fill="hold">
                                          <p:stCondLst>
                                            <p:cond delay="499"/>
                                          </p:stCondLst>
                                        </p:cTn>
                                        <p:tgtEl>
                                          <p:spTgt spid="1092"/>
                                        </p:tgtEl>
                                        <p:attrNameLst>
                                          <p:attrName>style.visibility</p:attrName>
                                        </p:attrNameLst>
                                      </p:cBhvr>
                                      <p:to>
                                        <p:strVal val="visible"/>
                                      </p:to>
                                    </p:set>
                                  </p:childTnLst>
                                </p:cTn>
                              </p:par>
                            </p:childTnLst>
                          </p:cTn>
                        </p:par>
                        <p:par>
                          <p:cTn id="398" fill="hold">
                            <p:stCondLst>
                              <p:cond delay="500"/>
                            </p:stCondLst>
                            <p:childTnLst>
                              <p:par>
                                <p:cTn id="399" nodeType="afterEffect" fill="hold" presetClass="entr" presetID="22" presetSubtype="8">
                                  <p:stCondLst>
                                    <p:cond delay="0"/>
                                  </p:stCondLst>
                                  <p:childTnLst>
                                    <p:set>
                                      <p:cBhvr>
                                        <p:cTn id="400" dur="1" fill="hold">
                                          <p:stCondLst>
                                            <p:cond delay="0"/>
                                          </p:stCondLst>
                                        </p:cTn>
                                        <p:tgtEl>
                                          <p:spTgt spid="1091"/>
                                        </p:tgtEl>
                                        <p:attrNameLst>
                                          <p:attrName>style.visibility</p:attrName>
                                        </p:attrNameLst>
                                      </p:cBhvr>
                                      <p:to>
                                        <p:strVal val="visible"/>
                                      </p:to>
                                    </p:set>
                                    <p:animEffect filter="wipe(left)" transition="in">
                                      <p:cBhvr additive="repl">
                                        <p:cTn id="401" dur="500"/>
                                        <p:tgtEl>
                                          <p:spTgt spid="10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28" name="Object 2"/>
          <p:cNvGraphicFramePr/>
          <p:nvPr/>
        </p:nvGraphicFramePr>
        <p:xfrm>
          <a:off x="-914400" y="2514600"/>
          <a:ext cx="10972800" cy="3619440"/>
        </p:xfrm>
        <a:graphic>
          <a:graphicData uri="http://schemas.openxmlformats.org/presentationml/2006/ole">
            <p:oleObj progId="Word.Document.12" r:id="rId1" spid="">
              <p:embed/>
              <p:pic>
                <p:nvPicPr>
                  <p:cNvPr id="1129" name="Object 2" descr=""/>
                  <p:cNvPicPr/>
                  <p:nvPr/>
                </p:nvPicPr>
                <p:blipFill>
                  <a:blip r:embed="rId2"/>
                  <a:stretch/>
                </p:blipFill>
                <p:spPr>
                  <a:xfrm>
                    <a:off x="-914400" y="2514600"/>
                    <a:ext cx="10972800" cy="3619440"/>
                  </a:xfrm>
                  <a:prstGeom prst="rect">
                    <a:avLst/>
                  </a:prstGeom>
                  <a:ln w="0">
                    <a:noFill/>
                  </a:ln>
                </p:spPr>
              </p:pic>
            </p:oleObj>
          </a:graphicData>
        </a:graphic>
      </p:graphicFrame>
      <p:sp>
        <p:nvSpPr>
          <p:cNvPr id="1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COMMON LITHOLOGY MATRIX</a:t>
            </a:r>
            <a:br>
              <a:rPr sz="4000"/>
            </a:br>
            <a:r>
              <a:rPr b="1" lang="en-US" sz="4000" spc="-1" strike="noStrike">
                <a:solidFill>
                  <a:srgbClr val="990000"/>
                </a:solidFill>
                <a:latin typeface="Arial"/>
              </a:rPr>
              <a:t>TRAVEL TIMES USE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9">
                                  <p:stCondLst>
                                    <p:cond delay="0"/>
                                  </p:stCondLst>
                                  <p:childTnLst>
                                    <p:set>
                                      <p:cBhvr>
                                        <p:cTn id="407" dur="1" fill="hold">
                                          <p:stCondLst>
                                            <p:cond delay="0"/>
                                          </p:stCondLst>
                                        </p:cTn>
                                        <p:tgtEl>
                                          <p:spTgt spid="1130"/>
                                        </p:tgtEl>
                                        <p:attrNameLst>
                                          <p:attrName>style.visibility</p:attrName>
                                        </p:attrNameLst>
                                      </p:cBhvr>
                                      <p:to>
                                        <p:strVal val="visible"/>
                                      </p:to>
                                    </p:set>
                                    <p:animEffect filter="dissolve" transition="in">
                                      <p:cBhvr additive="repl">
                                        <p:cTn id="408" dur="500"/>
                                        <p:tgtEl>
                                          <p:spTgt spid="1130"/>
                                        </p:tgtEl>
                                      </p:cBhvr>
                                    </p:animEffect>
                                  </p:childTnLst>
                                </p:cTn>
                              </p:par>
                            </p:childTnLst>
                          </p:cTn>
                        </p:par>
                        <p:par>
                          <p:cTn id="409" fill="hold">
                            <p:stCondLst>
                              <p:cond delay="500"/>
                            </p:stCondLst>
                            <p:childTnLst>
                              <p:par>
                                <p:cTn id="410" nodeType="afterEffect" fill="hold" presetClass="entr" presetID="1">
                                  <p:stCondLst>
                                    <p:cond delay="0"/>
                                  </p:stCondLst>
                                  <p:childTnLst>
                                    <p:set>
                                      <p:cBhvr>
                                        <p:cTn id="411" dur="1" fill="hold">
                                          <p:stCondLst>
                                            <p:cond delay="499"/>
                                          </p:stCondLst>
                                        </p:cTn>
                                        <p:tgtEl>
                                          <p:spTgt spid="1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title"/>
          </p:nvPr>
        </p:nvSpPr>
        <p:spPr>
          <a:xfrm>
            <a:off x="380520" y="304920"/>
            <a:ext cx="8153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ACOUSTIC (SONIC) LOG</a:t>
            </a:r>
            <a:endParaRPr b="0" lang="en-US" sz="4400" spc="-1" strike="noStrike">
              <a:solidFill>
                <a:srgbClr val="000000"/>
              </a:solidFill>
              <a:latin typeface="Times New Roman"/>
            </a:endParaRPr>
          </a:p>
        </p:txBody>
      </p:sp>
      <p:sp>
        <p:nvSpPr>
          <p:cNvPr id="1132" name="PlaceHolder 2"/>
          <p:cNvSpPr>
            <a:spLocks noGrp="1"/>
          </p:cNvSpPr>
          <p:nvPr>
            <p:ph/>
          </p:nvPr>
        </p:nvSpPr>
        <p:spPr>
          <a:xfrm>
            <a:off x="990360" y="1523520"/>
            <a:ext cx="4190760" cy="762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00"/>
                </a:solidFill>
                <a:uFillTx/>
                <a:latin typeface="Arial"/>
              </a:rPr>
              <a:t>Working equation</a:t>
            </a:r>
            <a:endParaRPr b="0" lang="en-US" sz="3200" spc="-1" strike="noStrike">
              <a:solidFill>
                <a:srgbClr val="000000"/>
              </a:solidFill>
              <a:latin typeface="Times New Roman"/>
            </a:endParaRPr>
          </a:p>
        </p:txBody>
      </p:sp>
      <mc:AlternateContent>
        <mc:Choice xmlns:a14="http://schemas.microsoft.com/office/drawing/2010/main" Requires="a14">
          <p:sp>
            <p:nvSpPr>
              <p:cNvPr id="1133" name="Object 4"/>
              <p:cNvSpPr txBox="1"/>
              <p:nvPr/>
            </p:nvSpPr>
            <p:spPr>
              <a:xfrm>
                <a:off x="1600200" y="2286000"/>
                <a:ext cx="6110280" cy="2090880"/>
              </a:xfrm>
              <a:prstGeom prst="rect">
                <a:avLst/>
              </a:prstGeom>
            </p:spPr>
            <p:txBody>
              <a:bodyPr/>
              <a:p>
                <a14:m>
                  <m:oMath xmlns:m="http://schemas.openxmlformats.org/officeDocument/2006/math">
                    <m:eqArr>
                      <m:e>
                        <m:sSub>
                          <m:e>
                            <m:r>
                              <m:t xml:space="preserve">Δt</m:t>
                            </m:r>
                          </m:e>
                          <m:sub>
                            <m:r>
                              <m:t xml:space="preserve">L</m:t>
                            </m:r>
                          </m:sub>
                        </m:sSub>
                        <m:r>
                          <m:t xml:space="preserve"> </m:t>
                        </m:r>
                        <m:r>
                          <m:t xml:space="preserve">=</m:t>
                        </m:r>
                        <m:r>
                          <m:t xml:space="preserve"> </m:t>
                        </m:r>
                        <m:r>
                          <m:t xml:space="preserve">φ</m:t>
                        </m:r>
                        <m:r>
                          <m:t xml:space="preserve"> </m:t>
                        </m:r>
                        <m:sSub>
                          <m:e>
                            <m:r>
                              <m:t xml:space="preserve">S</m:t>
                            </m:r>
                          </m:e>
                          <m:sub>
                            <m:r>
                              <m:rPr>
                                <m:lit/>
                                <m:nor/>
                              </m:rPr>
                              <m:t xml:space="preserve">xo</m:t>
                            </m:r>
                          </m:sub>
                        </m:sSub>
                        <m:r>
                          <m:t xml:space="preserve"> </m:t>
                        </m:r>
                        <m:sSub>
                          <m:e>
                            <m:r>
                              <m:t xml:space="preserve">Δt</m:t>
                            </m:r>
                          </m:e>
                          <m:sub>
                            <m:r>
                              <m:rPr>
                                <m:lit/>
                                <m:nor/>
                              </m:rPr>
                              <m:t xml:space="preserve">mf</m:t>
                            </m:r>
                          </m:sub>
                        </m:sSub>
                        <m:r>
                          <m:t xml:space="preserve"> </m:t>
                        </m:r>
                        <m:r>
                          <m:t xml:space="preserve">+</m:t>
                        </m:r>
                        <m:r>
                          <m:t xml:space="preserve"> </m:t>
                        </m:r>
                        <m:r>
                          <m:t xml:space="preserve">φ</m:t>
                        </m:r>
                        <m:r>
                          <m:t xml:space="preserve"> </m:t>
                        </m:r>
                        <m:d>
                          <m:dPr>
                            <m:begChr m:val="("/>
                            <m:endChr m:val=")"/>
                          </m:dPr>
                          <m:e>
                            <m:r>
                              <m:t xml:space="preserve">1</m:t>
                            </m:r>
                            <m:r>
                              <m:t xml:space="preserve"> </m:t>
                            </m:r>
                            <m:r>
                              <m:t xml:space="preserve">−</m:t>
                            </m:r>
                            <m:r>
                              <m:t xml:space="preserve"> </m:t>
                            </m:r>
                            <m:sSub>
                              <m:e>
                                <m:r>
                                  <m:t xml:space="preserve">S</m:t>
                                </m:r>
                              </m:e>
                              <m:sub>
                                <m:r>
                                  <m:rPr>
                                    <m:lit/>
                                    <m:nor/>
                                  </m:rPr>
                                  <m:t xml:space="preserve">xo</m:t>
                                </m:r>
                              </m:sub>
                            </m:sSub>
                          </m:e>
                        </m:d>
                        <m:r>
                          <m:t xml:space="preserve"> </m:t>
                        </m:r>
                        <m:sSub>
                          <m:e>
                            <m:r>
                              <m:t xml:space="preserve">Δt</m:t>
                            </m:r>
                          </m:e>
                          <m:sub>
                            <m:r>
                              <m:rPr>
                                <m:lit/>
                                <m:nor/>
                              </m:rPr>
                              <m:t xml:space="preserve">hc</m:t>
                            </m:r>
                          </m:sub>
                        </m:sSub>
                      </m:e>
                      <m:e/>
                      <m:e>
                        <m:r>
                          <m:t xml:space="preserve">+</m:t>
                        </m:r>
                        <m:r>
                          <m:t xml:space="preserve"> </m:t>
                        </m:r>
                        <m:sSub>
                          <m:e>
                            <m:r>
                              <m:t xml:space="preserve">V</m:t>
                            </m:r>
                          </m:e>
                          <m:sub>
                            <m:r>
                              <m:rPr>
                                <m:lit/>
                                <m:nor/>
                              </m:rPr>
                              <m:t xml:space="preserve">sh</m:t>
                            </m:r>
                          </m:sub>
                        </m:sSub>
                        <m:r>
                          <m:t xml:space="preserve"> </m:t>
                        </m:r>
                        <m:sSub>
                          <m:e>
                            <m:r>
                              <m:t xml:space="preserve">Δt</m:t>
                            </m:r>
                          </m:e>
                          <m:sub>
                            <m:r>
                              <m:rPr>
                                <m:lit/>
                                <m:nor/>
                              </m:rPr>
                              <m:t xml:space="preserve">sh</m:t>
                            </m:r>
                          </m:sub>
                        </m:sSub>
                        <m:r>
                          <m:t xml:space="preserve"> </m:t>
                        </m:r>
                        <m:r>
                          <m:t xml:space="preserve">+</m:t>
                        </m:r>
                        <m:r>
                          <m:t xml:space="preserve"> </m:t>
                        </m:r>
                        <m:d>
                          <m:dPr>
                            <m:begChr m:val="("/>
                            <m:endChr m:val=")"/>
                          </m:dPr>
                          <m:e>
                            <m:r>
                              <m:t xml:space="preserve">1</m:t>
                            </m:r>
                            <m:r>
                              <m:t xml:space="preserve"> </m:t>
                            </m:r>
                            <m:r>
                              <m:t xml:space="preserve">−</m:t>
                            </m:r>
                            <m:r>
                              <m:t xml:space="preserve"> </m:t>
                            </m:r>
                            <m:r>
                              <m:t xml:space="preserve">φ</m:t>
                            </m:r>
                            <m:r>
                              <m:t xml:space="preserve"> </m:t>
                            </m:r>
                            <m:r>
                              <m:t xml:space="preserve">−</m:t>
                            </m:r>
                            <m:r>
                              <m:t xml:space="preserve"> </m:t>
                            </m:r>
                            <m:sSub>
                              <m:e>
                                <m:r>
                                  <m:t xml:space="preserve">V</m:t>
                                </m:r>
                              </m:e>
                              <m:sub>
                                <m:r>
                                  <m:rPr>
                                    <m:lit/>
                                    <m:nor/>
                                  </m:rPr>
                                  <m:t xml:space="preserve">sh</m:t>
                                </m:r>
                              </m:sub>
                            </m:sSub>
                          </m:e>
                        </m:d>
                        <m:r>
                          <m:t xml:space="preserve"> </m:t>
                        </m:r>
                        <m:sSub>
                          <m:e>
                            <m:r>
                              <m:t xml:space="preserve">Δt</m:t>
                            </m:r>
                          </m:e>
                          <m:sub>
                            <m:r>
                              <m:rPr>
                                <m:lit/>
                                <m:nor/>
                              </m:rPr>
                              <m:t xml:space="preserve">ma</m:t>
                            </m:r>
                          </m:sub>
                        </m:sSub>
                      </m:e>
                    </m:eqArr>
                  </m:oMath>
                </a14:m>
              </a:p>
            </p:txBody>
          </p:sp>
        </mc:Choice>
        <mc:Fallback/>
      </mc:AlternateContent>
      <p:sp>
        <p:nvSpPr>
          <p:cNvPr id="1134" name="Text Box 5"/>
          <p:cNvSpPr/>
          <p:nvPr/>
        </p:nvSpPr>
        <p:spPr>
          <a:xfrm>
            <a:off x="0" y="4997520"/>
            <a:ext cx="6781680" cy="2026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t</a:t>
            </a:r>
            <a:r>
              <a:rPr b="0" lang="en-US" sz="1600" spc="-1" strike="noStrike" baseline="-25000">
                <a:solidFill>
                  <a:srgbClr val="000000"/>
                </a:solidFill>
                <a:latin typeface="Arial"/>
              </a:rPr>
              <a:t>L</a:t>
            </a:r>
            <a:r>
              <a:rPr b="0" lang="en-US" sz="1600" spc="-1" strike="noStrike">
                <a:solidFill>
                  <a:srgbClr val="000000"/>
                </a:solidFill>
                <a:latin typeface="Arial"/>
              </a:rPr>
              <a:t>	</a:t>
            </a:r>
            <a:r>
              <a:rPr b="0" lang="en-US" sz="1600" spc="-1" strike="noStrike">
                <a:solidFill>
                  <a:srgbClr val="000000"/>
                </a:solidFill>
                <a:latin typeface="Arial"/>
              </a:rPr>
              <a:t>=  Recorded parameter, travel time read from log</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Arial"/>
              </a:rPr>
              <a:t>S</a:t>
            </a:r>
            <a:r>
              <a:rPr b="0" lang="en-US" sz="1600" spc="-1" strike="noStrike" baseline="-25000">
                <a:solidFill>
                  <a:srgbClr val="000000"/>
                </a:solidFill>
                <a:latin typeface="Arial"/>
              </a:rPr>
              <a:t>xo</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t</a:t>
            </a:r>
            <a:r>
              <a:rPr b="0" lang="en-US" sz="1600" spc="-1" strike="noStrike" baseline="-25000">
                <a:solidFill>
                  <a:srgbClr val="000000"/>
                </a:solidFill>
                <a:latin typeface="Arial"/>
              </a:rPr>
              <a:t>mf</a:t>
            </a:r>
            <a:r>
              <a:rPr b="0" lang="en-US" sz="1600" spc="-1" strike="noStrike">
                <a:solidFill>
                  <a:srgbClr val="000000"/>
                </a:solidFill>
                <a:latin typeface="Arial"/>
              </a:rPr>
              <a:t>	</a:t>
            </a:r>
            <a:r>
              <a:rPr b="0" lang="en-US" sz="1600" spc="-1" strike="noStrike">
                <a:solidFill>
                  <a:srgbClr val="000000"/>
                </a:solidFill>
                <a:latin typeface="Arial"/>
              </a:rPr>
              <a:t>=  Mud filtrate portio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Arial"/>
              </a:rPr>
              <a:t>(1 - S</a:t>
            </a:r>
            <a:r>
              <a:rPr b="0" lang="en-US" sz="1600" spc="-1" strike="noStrike" baseline="-25000">
                <a:solidFill>
                  <a:srgbClr val="000000"/>
                </a:solidFill>
                <a:latin typeface="Arial"/>
              </a:rPr>
              <a:t>xo</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t</a:t>
            </a:r>
            <a:r>
              <a:rPr b="0" lang="en-US" sz="1600" spc="-1" strike="noStrike" baseline="-25000">
                <a:solidFill>
                  <a:srgbClr val="000000"/>
                </a:solidFill>
                <a:latin typeface="Arial"/>
              </a:rPr>
              <a:t>hc</a:t>
            </a:r>
            <a:r>
              <a:rPr b="0" lang="en-US" sz="1600" spc="-1" strike="noStrike">
                <a:solidFill>
                  <a:srgbClr val="000000"/>
                </a:solidFill>
                <a:latin typeface="Arial"/>
              </a:rPr>
              <a:t>  = Hydrocarbon portio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sh</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t</a:t>
            </a:r>
            <a:r>
              <a:rPr b="0" lang="en-US" sz="1600" spc="-1" strike="noStrike" baseline="-25000">
                <a:solidFill>
                  <a:srgbClr val="000000"/>
                </a:solidFill>
                <a:latin typeface="Arial"/>
              </a:rPr>
              <a:t>sh</a:t>
            </a:r>
            <a:r>
              <a:rPr b="0" lang="en-US" sz="1600" spc="-1" strike="noStrike">
                <a:solidFill>
                  <a:srgbClr val="000000"/>
                </a:solidFill>
                <a:latin typeface="Arial"/>
              </a:rPr>
              <a:t>	</a:t>
            </a:r>
            <a:r>
              <a:rPr b="0" lang="en-US" sz="1600" spc="-1" strike="noStrike">
                <a:solidFill>
                  <a:srgbClr val="000000"/>
                </a:solidFill>
                <a:latin typeface="Arial"/>
              </a:rPr>
              <a:t>=  Shale portio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 </a:t>
            </a:r>
            <a:r>
              <a:rPr b="0" lang="en-US" sz="1600" spc="-1" strike="noStrike">
                <a:solidFill>
                  <a:srgbClr val="000000"/>
                </a:solidFill>
                <a:latin typeface="Symbol"/>
                <a:ea typeface="Symbol"/>
              </a:rPr>
              <a:t></a:t>
            </a:r>
            <a:r>
              <a:rPr b="0" lang="en-US" sz="1600" spc="-1" strike="noStrike">
                <a:solidFill>
                  <a:srgbClr val="000000"/>
                </a:solidFill>
                <a:latin typeface="Arial"/>
              </a:rPr>
              <a:t> - V</a:t>
            </a:r>
            <a:r>
              <a:rPr b="0" lang="en-US" sz="1600" spc="-1" strike="noStrike" baseline="-25000">
                <a:solidFill>
                  <a:srgbClr val="000000"/>
                </a:solidFill>
                <a:latin typeface="Arial"/>
              </a:rPr>
              <a:t>sh</a:t>
            </a:r>
            <a:r>
              <a:rPr b="0" lang="en-US" sz="1600" spc="-1" strike="noStrike">
                <a:solidFill>
                  <a:srgbClr val="000000"/>
                </a:solidFill>
                <a:latin typeface="Arial"/>
              </a:rPr>
              <a:t>) </a:t>
            </a:r>
            <a:r>
              <a:rPr b="0" lang="en-US" sz="1600" spc="-1" strike="noStrike">
                <a:solidFill>
                  <a:srgbClr val="000000"/>
                </a:solidFill>
                <a:latin typeface="Symbol"/>
                <a:ea typeface="Symbol"/>
              </a:rPr>
              <a:t></a:t>
            </a:r>
            <a:r>
              <a:rPr b="0" lang="en-US" sz="1600" spc="-1" strike="noStrike">
                <a:solidFill>
                  <a:srgbClr val="000000"/>
                </a:solidFill>
                <a:latin typeface="Arial"/>
              </a:rPr>
              <a:t>t</a:t>
            </a:r>
            <a:r>
              <a:rPr b="0" lang="en-US" sz="1600" spc="-1" strike="noStrike" baseline="-25000">
                <a:solidFill>
                  <a:srgbClr val="000000"/>
                </a:solidFill>
                <a:latin typeface="Arial"/>
              </a:rPr>
              <a:t>ma  </a:t>
            </a:r>
            <a:r>
              <a:rPr b="0" lang="en-US" sz="1600" spc="-1" strike="noStrike">
                <a:solidFill>
                  <a:srgbClr val="000000"/>
                </a:solidFill>
                <a:latin typeface="Arial"/>
              </a:rPr>
              <a:t>=  Matrix por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afterEffect" fill="hold" presetClass="entr" presetID="4" presetSubtype="16">
                                  <p:stCondLst>
                                    <p:cond delay="0"/>
                                  </p:stCondLst>
                                  <p:childTnLst>
                                    <p:set>
                                      <p:cBhvr>
                                        <p:cTn id="417" dur="1" fill="hold">
                                          <p:stCondLst>
                                            <p:cond delay="0"/>
                                          </p:stCondLst>
                                        </p:cTn>
                                        <p:tgtEl>
                                          <p:spTgt spid="1131"/>
                                        </p:tgtEl>
                                        <p:attrNameLst>
                                          <p:attrName>style.visibility</p:attrName>
                                        </p:attrNameLst>
                                      </p:cBhvr>
                                      <p:to>
                                        <p:strVal val="visible"/>
                                      </p:to>
                                    </p:set>
                                    <p:animEffect filter="box(in)" transition="in">
                                      <p:cBhvr additive="repl">
                                        <p:cTn id="418" dur="500"/>
                                        <p:tgtEl>
                                          <p:spTgt spid="1131"/>
                                        </p:tgtEl>
                                      </p:cBhvr>
                                    </p:animEffect>
                                  </p:childTnLst>
                                </p:cTn>
                              </p:par>
                            </p:childTnLst>
                          </p:cTn>
                        </p:par>
                        <p:par>
                          <p:cTn id="419" fill="hold">
                            <p:stCondLst>
                              <p:cond delay="500"/>
                            </p:stCondLst>
                            <p:childTnLst>
                              <p:par>
                                <p:cTn id="420" nodeType="afterEffect" fill="hold" presetClass="entr" presetID="16" presetSubtype="37">
                                  <p:stCondLst>
                                    <p:cond delay="0"/>
                                  </p:stCondLst>
                                  <p:childTnLst>
                                    <p:set>
                                      <p:cBhvr>
                                        <p:cTn id="421" dur="1" fill="hold">
                                          <p:stCondLst>
                                            <p:cond delay="0"/>
                                          </p:stCondLst>
                                        </p:cTn>
                                        <p:tgtEl>
                                          <p:spTgt spid="1132">
                                            <p:txEl>
                                              <p:pRg st="0" end="0"/>
                                            </p:txEl>
                                          </p:spTgt>
                                        </p:tgtEl>
                                        <p:attrNameLst>
                                          <p:attrName>style.visibility</p:attrName>
                                        </p:attrNameLst>
                                      </p:cBhvr>
                                      <p:to>
                                        <p:strVal val="visible"/>
                                      </p:to>
                                    </p:set>
                                    <p:animEffect filter="barn(outVertical)" transition="in">
                                      <p:cBhvr additive="repl">
                                        <p:cTn id="422" dur="500"/>
                                        <p:tgtEl>
                                          <p:spTgt spid="1132">
                                            <p:txEl>
                                              <p:pRg st="0" end="0"/>
                                            </p:txEl>
                                          </p:spTgt>
                                        </p:tgtEl>
                                      </p:cBhvr>
                                    </p:animEffect>
                                  </p:childTnLst>
                                </p:cTn>
                              </p:par>
                            </p:childTnLst>
                          </p:cTn>
                        </p:par>
                        <p:par>
                          <p:cTn id="423" fill="hold">
                            <p:stCondLst>
                              <p:cond delay="1000"/>
                            </p:stCondLst>
                            <p:childTnLst>
                              <p:par>
                                <p:cTn id="424" nodeType="afterEffect" fill="hold" presetClass="entr" presetID="16" presetSubtype="37">
                                  <p:stCondLst>
                                    <p:cond delay="0"/>
                                  </p:stCondLst>
                                  <p:childTnLst>
                                    <p:set>
                                      <p:cBhvr>
                                        <p:cTn id="425" dur="1" fill="hold">
                                          <p:stCondLst>
                                            <p:cond delay="0"/>
                                          </p:stCondLst>
                                        </p:cTn>
                                        <p:tgtEl>
                                          <p:spTgt spid="1133"/>
                                        </p:tgtEl>
                                        <p:attrNameLst>
                                          <p:attrName>style.visibility</p:attrName>
                                        </p:attrNameLst>
                                      </p:cBhvr>
                                      <p:to>
                                        <p:strVal val="visible"/>
                                      </p:to>
                                    </p:set>
                                    <p:animEffect filter="barn(outVertical)" transition="in">
                                      <p:cBhvr additive="repl">
                                        <p:cTn id="426"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28240"/>
            <a:ext cx="81532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ACOUSTIC (SONIC) LOG</a:t>
            </a:r>
            <a:endParaRPr b="0" lang="en-US" sz="4000" spc="-1" strike="noStrike">
              <a:solidFill>
                <a:srgbClr val="000000"/>
              </a:solidFill>
              <a:latin typeface="Times New Roman"/>
            </a:endParaRPr>
          </a:p>
        </p:txBody>
      </p:sp>
      <p:sp>
        <p:nvSpPr>
          <p:cNvPr id="1136" name="PlaceHolder 2"/>
          <p:cNvSpPr>
            <a:spLocks noGrp="1"/>
          </p:cNvSpPr>
          <p:nvPr>
            <p:ph/>
          </p:nvPr>
        </p:nvSpPr>
        <p:spPr>
          <a:xfrm>
            <a:off x="1371600" y="1066680"/>
            <a:ext cx="6858000" cy="2819520"/>
          </a:xfrm>
          <a:prstGeom prst="rect">
            <a:avLst/>
          </a:prstGeom>
          <a:noFill/>
          <a:ln w="0">
            <a:noFill/>
          </a:ln>
        </p:spPr>
        <p:txBody>
          <a:bodyPr anchor="t">
            <a:normAutofit fontScale="95000"/>
          </a:bodyPr>
          <a:p>
            <a:pPr marL="325800" indent="-325800">
              <a:spcBef>
                <a:spcPts val="799"/>
              </a:spcBef>
              <a:spcAft>
                <a:spcPts val="2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V</a:t>
            </a:r>
            <a:r>
              <a:rPr b="0" lang="en-US" sz="3200" spc="-1" strike="noStrike" baseline="-25000">
                <a:solidFill>
                  <a:srgbClr val="000000"/>
                </a:solidFill>
                <a:latin typeface="Times New Roman"/>
              </a:rPr>
              <a:t>sh</a:t>
            </a:r>
            <a:r>
              <a:rPr b="0" lang="en-US" sz="3200" spc="-1" strike="noStrike">
                <a:solidFill>
                  <a:srgbClr val="000000"/>
                </a:solidFill>
                <a:latin typeface="Times New Roman"/>
              </a:rPr>
              <a:t> = 0 and if hydrocarbon is liquid (i.e. </a:t>
            </a:r>
            <a:r>
              <a:rPr b="0" lang="en-US" sz="3200" spc="-1" strike="noStrike">
                <a:solidFill>
                  <a:srgbClr val="000000"/>
                </a:solidFill>
                <a:latin typeface="Symbol"/>
                <a:ea typeface="Symbol"/>
              </a:rPr>
              <a:t></a:t>
            </a:r>
            <a:r>
              <a:rPr b="0" lang="en-US" sz="3200" spc="-1" strike="noStrike">
                <a:solidFill>
                  <a:srgbClr val="000000"/>
                </a:solidFill>
                <a:latin typeface="Times New Roman"/>
              </a:rPr>
              <a:t>t</a:t>
            </a:r>
            <a:r>
              <a:rPr b="0" lang="en-US" sz="3200" spc="-1" strike="noStrike" baseline="-25000">
                <a:solidFill>
                  <a:srgbClr val="000000"/>
                </a:solidFill>
                <a:latin typeface="Times New Roman"/>
              </a:rPr>
              <a:t>mf</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t</a:t>
            </a:r>
            <a:r>
              <a:rPr b="0" lang="en-US" sz="3200" spc="-1" strike="noStrike" baseline="-25000">
                <a:solidFill>
                  <a:srgbClr val="000000"/>
                </a:solidFill>
                <a:latin typeface="Times New Roman"/>
              </a:rPr>
              <a:t>f</a:t>
            </a:r>
            <a:r>
              <a:rPr b="0" lang="en-US" sz="3200" spc="-1" strike="noStrike">
                <a:solidFill>
                  <a:srgbClr val="000000"/>
                </a:solidFill>
                <a:latin typeface="Times New Roman"/>
              </a:rPr>
              <a:t>), then</a:t>
            </a:r>
            <a:endParaRPr b="0" lang="en-US" sz="3200" spc="-1" strike="noStrike">
              <a:solidFill>
                <a:srgbClr val="000000"/>
              </a:solidFill>
              <a:latin typeface="Times New Roman"/>
            </a:endParaRPr>
          </a:p>
          <a:p>
            <a:pPr marL="325800" indent="-325800">
              <a:lnSpc>
                <a:spcPct val="100000"/>
              </a:lnSpc>
              <a:spcBef>
                <a:spcPts val="799"/>
              </a:spcBef>
              <a:spcAft>
                <a:spcPts val="2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t</a:t>
            </a:r>
            <a:r>
              <a:rPr b="0" lang="en-US" sz="3200" spc="-1" strike="noStrike" baseline="-25000">
                <a:solidFill>
                  <a:srgbClr val="000000"/>
                </a:solidFill>
                <a:latin typeface="Times New Roman"/>
              </a:rPr>
              <a:t>L</a:t>
            </a:r>
            <a:r>
              <a:rPr b="0" lang="en-US" sz="3200" spc="-1" strike="noStrike">
                <a:solidFill>
                  <a:srgbClr val="000000"/>
                </a:solidFill>
                <a:latin typeface="Times New Roman"/>
              </a:rPr>
              <a:t> =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t</a:t>
            </a:r>
            <a:r>
              <a:rPr b="0" lang="en-US" sz="3200" spc="-1" strike="noStrike" baseline="-25000">
                <a:solidFill>
                  <a:srgbClr val="000000"/>
                </a:solidFill>
                <a:latin typeface="Times New Roman"/>
              </a:rPr>
              <a:t>f</a:t>
            </a:r>
            <a:r>
              <a:rPr b="0" lang="en-US" sz="3200" spc="-1" strike="noStrike">
                <a:solidFill>
                  <a:srgbClr val="000000"/>
                </a:solidFill>
                <a:latin typeface="Times New Roman"/>
              </a:rPr>
              <a:t> + (1 -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t</a:t>
            </a:r>
            <a:r>
              <a:rPr b="0" lang="en-US" sz="3200" spc="-1" strike="noStrike" baseline="-25000">
                <a:solidFill>
                  <a:srgbClr val="000000"/>
                </a:solidFill>
                <a:latin typeface="Times New Roman"/>
              </a:rPr>
              <a:t>m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2580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or</a:t>
            </a:r>
            <a:endParaRPr b="0" lang="en-US" sz="3200" spc="-1" strike="noStrike">
              <a:solidFill>
                <a:srgbClr val="000000"/>
              </a:solidFill>
              <a:latin typeface="Times New Roman"/>
            </a:endParaRPr>
          </a:p>
        </p:txBody>
      </p:sp>
      <mc:AlternateContent>
        <mc:Choice xmlns:a14="http://schemas.microsoft.com/office/drawing/2010/main" Requires="a14">
          <p:sp>
            <p:nvSpPr>
              <p:cNvPr id="1137" name="Object 4"/>
              <p:cNvSpPr txBox="1"/>
              <p:nvPr/>
            </p:nvSpPr>
            <p:spPr>
              <a:xfrm>
                <a:off x="1523880" y="3848040"/>
                <a:ext cx="3899160" cy="1181160"/>
              </a:xfrm>
              <a:prstGeom prst="rect">
                <a:avLst/>
              </a:prstGeom>
            </p:spPr>
            <p:txBody>
              <a:bodyPr/>
              <a:p>
                <a14:m>
                  <m:oMath xmlns:m="http://schemas.openxmlformats.org/officeDocument/2006/math">
                    <m:sSub>
                      <m:e>
                        <m:r>
                          <m:t xml:space="preserve">φ</m:t>
                        </m:r>
                      </m:e>
                      <m:sub>
                        <m:r>
                          <m:t xml:space="preserve">s</m:t>
                        </m:r>
                      </m:sub>
                    </m:sSub>
                    <m:r>
                      <m:t xml:space="preserve"> </m:t>
                    </m:r>
                    <m:r>
                      <m:t xml:space="preserve">=</m:t>
                    </m:r>
                    <m:r>
                      <m:t xml:space="preserve"> </m:t>
                    </m:r>
                    <m:r>
                      <m:t xml:space="preserve">φ</m:t>
                    </m:r>
                    <m:r>
                      <m:t xml:space="preserve"> </m:t>
                    </m:r>
                    <m:r>
                      <m:t xml:space="preserve">=</m:t>
                    </m:r>
                    <m:r>
                      <m:t xml:space="preserve"> </m:t>
                    </m:r>
                    <m:f>
                      <m:num>
                        <m:sSub>
                          <m:e>
                            <m:r>
                              <m:t xml:space="preserve">Δt</m:t>
                            </m:r>
                          </m:e>
                          <m:sub>
                            <m:r>
                              <m:t xml:space="preserve">L</m:t>
                            </m:r>
                          </m:sub>
                        </m:sSub>
                        <m:r>
                          <m:t xml:space="preserve"> </m:t>
                        </m:r>
                        <m:r>
                          <m:t xml:space="preserve">−</m:t>
                        </m:r>
                        <m:r>
                          <m:t xml:space="preserve"> </m:t>
                        </m:r>
                        <m:sSub>
                          <m:e>
                            <m:r>
                              <m:t xml:space="preserve">Δt</m:t>
                            </m:r>
                          </m:e>
                          <m:sub>
                            <m:r>
                              <m:rPr>
                                <m:lit/>
                                <m:nor/>
                              </m:rPr>
                              <m:t xml:space="preserve">ma</m:t>
                            </m:r>
                          </m:sub>
                        </m:sSub>
                      </m:num>
                      <m:den>
                        <m:sSub>
                          <m:e>
                            <m:r>
                              <m:t xml:space="preserve">Δt</m:t>
                            </m:r>
                          </m:e>
                          <m:sub>
                            <m:r>
                              <m:t xml:space="preserve">f</m:t>
                            </m:r>
                          </m:sub>
                        </m:sSub>
                        <m:r>
                          <m:t xml:space="preserve"> </m:t>
                        </m:r>
                        <m:r>
                          <m:t xml:space="preserve">−</m:t>
                        </m:r>
                        <m:r>
                          <m:t xml:space="preserve"> </m:t>
                        </m:r>
                        <m:sSub>
                          <m:e>
                            <m:r>
                              <m:t xml:space="preserve">Δt</m:t>
                            </m:r>
                          </m:e>
                          <m:sub>
                            <m:r>
                              <m:rPr>
                                <m:lit/>
                                <m:nor/>
                              </m:rPr>
                              <m:t xml:space="preserve">ma</m:t>
                            </m:r>
                          </m:sub>
                        </m:sSub>
                      </m:den>
                    </m:f>
                  </m:oMath>
                </a14:m>
              </a:p>
            </p:txBody>
          </p:sp>
        </mc:Choice>
        <mc:Fallback/>
      </mc:AlternateContent>
      <p:sp>
        <p:nvSpPr>
          <p:cNvPr id="1138" name="Text Box 5"/>
          <p:cNvSpPr/>
          <p:nvPr/>
        </p:nvSpPr>
        <p:spPr>
          <a:xfrm>
            <a:off x="13680" y="5324400"/>
            <a:ext cx="5173200" cy="1673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Arial"/>
              </a:rPr>
              <a:t>s</a:t>
            </a:r>
            <a:r>
              <a:rPr b="0" lang="en-US" sz="1600" spc="-1" strike="noStrike">
                <a:solidFill>
                  <a:srgbClr val="000000"/>
                </a:solidFill>
                <a:latin typeface="Arial"/>
              </a:rPr>
              <a:t>  = Porosity calculated from sonic log reading, fractio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t</a:t>
            </a:r>
            <a:r>
              <a:rPr b="0" lang="en-US" sz="1600" spc="-1" strike="noStrike" baseline="-25000">
                <a:solidFill>
                  <a:srgbClr val="000000"/>
                </a:solidFill>
                <a:latin typeface="Arial"/>
              </a:rPr>
              <a:t>L  </a:t>
            </a:r>
            <a:r>
              <a:rPr b="0" lang="en-US" sz="1600" spc="-1" strike="noStrike">
                <a:solidFill>
                  <a:srgbClr val="000000"/>
                </a:solidFill>
                <a:latin typeface="Arial"/>
              </a:rPr>
              <a:t>= Travel time reading from log, microseconds/f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t</a:t>
            </a:r>
            <a:r>
              <a:rPr b="0" lang="en-US" sz="1600" spc="-1" strike="noStrike" baseline="-25000">
                <a:solidFill>
                  <a:srgbClr val="000000"/>
                </a:solidFill>
                <a:latin typeface="Arial"/>
              </a:rPr>
              <a:t>ma  </a:t>
            </a:r>
            <a:r>
              <a:rPr b="0" lang="en-US" sz="1600" spc="-1" strike="noStrike">
                <a:solidFill>
                  <a:srgbClr val="000000"/>
                </a:solidFill>
                <a:latin typeface="Arial"/>
              </a:rPr>
              <a:t>= Travel time in matrix, microseconds/ft</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t</a:t>
            </a:r>
            <a:r>
              <a:rPr b="0" lang="en-US" sz="1600" spc="-1" strike="noStrike" baseline="-25000">
                <a:solidFill>
                  <a:srgbClr val="000000"/>
                </a:solidFill>
                <a:latin typeface="Arial"/>
              </a:rPr>
              <a:t>f</a:t>
            </a:r>
            <a:r>
              <a:rPr b="0" lang="en-US" sz="1600" spc="-1" strike="noStrike">
                <a:solidFill>
                  <a:srgbClr val="000000"/>
                </a:solidFill>
                <a:latin typeface="Arial"/>
              </a:rPr>
              <a:t>   = Travel time in fluid, microseconds/ f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afterEffect" fill="hold" presetClass="entr" presetID="23" presetSubtype="272">
                                  <p:stCondLst>
                                    <p:cond delay="0"/>
                                  </p:stCondLst>
                                  <p:childTnLst>
                                    <p:set>
                                      <p:cBhvr>
                                        <p:cTn id="432" dur="1" fill="hold">
                                          <p:stCondLst>
                                            <p:cond delay="0"/>
                                          </p:stCondLst>
                                        </p:cTn>
                                        <p:tgtEl>
                                          <p:spTgt spid="1135"/>
                                        </p:tgtEl>
                                        <p:attrNameLst>
                                          <p:attrName>style.visibility</p:attrName>
                                        </p:attrNameLst>
                                      </p:cBhvr>
                                      <p:to>
                                        <p:strVal val="visible"/>
                                      </p:to>
                                    </p:set>
                                    <p:anim calcmode="lin" valueType="num">
                                      <p:cBhvr additive="repl">
                                        <p:cTn id="433" dur="500" fill="hold"/>
                                        <p:tgtEl>
                                          <p:spTgt spid="1135"/>
                                        </p:tgtEl>
                                        <p:attrNameLst>
                                          <p:attrName>ppt_w</p:attrName>
                                        </p:attrNameLst>
                                      </p:cBhvr>
                                      <p:tavLst>
                                        <p:tav tm="0">
                                          <p:val>
                                            <p:strVal val="2/3*#ppt_w"/>
                                          </p:val>
                                        </p:tav>
                                        <p:tav tm="100000">
                                          <p:val>
                                            <p:strVal val="#ppt_w"/>
                                          </p:val>
                                        </p:tav>
                                      </p:tavLst>
                                    </p:anim>
                                    <p:anim calcmode="lin" valueType="num">
                                      <p:cBhvr additive="repl">
                                        <p:cTn id="434" dur="500" fill="hold"/>
                                        <p:tgtEl>
                                          <p:spTgt spid="1135"/>
                                        </p:tgtEl>
                                        <p:attrNameLst>
                                          <p:attrName>ppt_h</p:attrName>
                                        </p:attrNameLst>
                                      </p:cBhvr>
                                      <p:tavLst>
                                        <p:tav tm="0">
                                          <p:val>
                                            <p:strVal val="2/3*#ppt_h"/>
                                          </p:val>
                                        </p:tav>
                                        <p:tav tm="100000">
                                          <p:val>
                                            <p:strVal val="#ppt_h"/>
                                          </p:val>
                                        </p:tav>
                                      </p:tavLst>
                                    </p:anim>
                                  </p:childTnLst>
                                </p:cTn>
                              </p:par>
                            </p:childTnLst>
                          </p:cTn>
                        </p:par>
                        <p:par>
                          <p:cTn id="435" fill="hold">
                            <p:stCondLst>
                              <p:cond delay="500"/>
                            </p:stCondLst>
                            <p:childTnLst>
                              <p:par>
                                <p:cTn id="436" nodeType="afterEffect" fill="hold" presetClass="entr" presetID="22" presetSubtype="8">
                                  <p:stCondLst>
                                    <p:cond delay="0"/>
                                  </p:stCondLst>
                                  <p:childTnLst>
                                    <p:set>
                                      <p:cBhvr>
                                        <p:cTn id="437" dur="1" fill="hold">
                                          <p:stCondLst>
                                            <p:cond delay="0"/>
                                          </p:stCondLst>
                                        </p:cTn>
                                        <p:tgtEl>
                                          <p:spTgt spid="1136">
                                            <p:txEl>
                                              <p:pRg st="0" end="0"/>
                                            </p:txEl>
                                          </p:spTgt>
                                        </p:tgtEl>
                                        <p:attrNameLst>
                                          <p:attrName>style.visibility</p:attrName>
                                        </p:attrNameLst>
                                      </p:cBhvr>
                                      <p:to>
                                        <p:strVal val="visible"/>
                                      </p:to>
                                    </p:set>
                                    <p:animEffect filter="wipe(left)" transition="in">
                                      <p:cBhvr additive="repl">
                                        <p:cTn id="438" dur="500"/>
                                        <p:tgtEl>
                                          <p:spTgt spid="1136">
                                            <p:txEl>
                                              <p:pRg st="0" end="0"/>
                                            </p:txEl>
                                          </p:spTgt>
                                        </p:tgtEl>
                                      </p:cBhvr>
                                    </p:animEffect>
                                  </p:childTnLst>
                                </p:cTn>
                              </p:par>
                            </p:childTnLst>
                          </p:cTn>
                        </p:par>
                        <p:par>
                          <p:cTn id="439" fill="hold">
                            <p:stCondLst>
                              <p:cond delay="1000"/>
                            </p:stCondLst>
                            <p:childTnLst>
                              <p:par>
                                <p:cTn id="440" nodeType="afterEffect" fill="hold" presetClass="entr" presetID="22" presetSubtype="8">
                                  <p:stCondLst>
                                    <p:cond delay="0"/>
                                  </p:stCondLst>
                                  <p:childTnLst>
                                    <p:set>
                                      <p:cBhvr>
                                        <p:cTn id="441" dur="1" fill="hold">
                                          <p:stCondLst>
                                            <p:cond delay="0"/>
                                          </p:stCondLst>
                                        </p:cTn>
                                        <p:tgtEl>
                                          <p:spTgt spid="1136">
                                            <p:txEl>
                                              <p:pRg st="1" end="1"/>
                                            </p:txEl>
                                          </p:spTgt>
                                        </p:tgtEl>
                                        <p:attrNameLst>
                                          <p:attrName>style.visibility</p:attrName>
                                        </p:attrNameLst>
                                      </p:cBhvr>
                                      <p:to>
                                        <p:strVal val="visible"/>
                                      </p:to>
                                    </p:set>
                                    <p:animEffect filter="wipe(left)" transition="in">
                                      <p:cBhvr additive="repl">
                                        <p:cTn id="442" dur="500"/>
                                        <p:tgtEl>
                                          <p:spTgt spid="1136">
                                            <p:txEl>
                                              <p:pRg st="1" end="1"/>
                                            </p:txEl>
                                          </p:spTgt>
                                        </p:tgtEl>
                                      </p:cBhvr>
                                    </p:animEffect>
                                  </p:childTnLst>
                                </p:cTn>
                              </p:par>
                            </p:childTnLst>
                          </p:cTn>
                        </p:par>
                        <p:par>
                          <p:cTn id="443" fill="hold">
                            <p:stCondLst>
                              <p:cond delay="1500"/>
                            </p:stCondLst>
                            <p:childTnLst>
                              <p:par>
                                <p:cTn id="444" nodeType="afterEffect" fill="hold" presetClass="entr" presetID="22" presetSubtype="8">
                                  <p:stCondLst>
                                    <p:cond delay="0"/>
                                  </p:stCondLst>
                                  <p:childTnLst>
                                    <p:set>
                                      <p:cBhvr>
                                        <p:cTn id="445" dur="1" fill="hold">
                                          <p:stCondLst>
                                            <p:cond delay="0"/>
                                          </p:stCondLst>
                                        </p:cTn>
                                        <p:tgtEl>
                                          <p:spTgt spid="1136">
                                            <p:txEl>
                                              <p:pRg st="2" end="2"/>
                                            </p:txEl>
                                          </p:spTgt>
                                        </p:tgtEl>
                                        <p:attrNameLst>
                                          <p:attrName>style.visibility</p:attrName>
                                        </p:attrNameLst>
                                      </p:cBhvr>
                                      <p:to>
                                        <p:strVal val="visible"/>
                                      </p:to>
                                    </p:set>
                                    <p:animEffect filter="wipe(left)" transition="in">
                                      <p:cBhvr additive="repl">
                                        <p:cTn id="446" dur="500"/>
                                        <p:tgtEl>
                                          <p:spTgt spid="1136">
                                            <p:txEl>
                                              <p:pRg st="2" end="2"/>
                                            </p:txEl>
                                          </p:spTgt>
                                        </p:tgtEl>
                                      </p:cBhvr>
                                    </p:animEffect>
                                  </p:childTnLst>
                                </p:cTn>
                              </p:par>
                            </p:childTnLst>
                          </p:cTn>
                        </p:par>
                        <p:par>
                          <p:cTn id="447" fill="hold">
                            <p:stCondLst>
                              <p:cond delay="2000"/>
                            </p:stCondLst>
                            <p:childTnLst>
                              <p:par>
                                <p:cTn id="448" nodeType="afterEffect" fill="hold" presetClass="entr" presetID="22" presetSubtype="8">
                                  <p:stCondLst>
                                    <p:cond delay="0"/>
                                  </p:stCondLst>
                                  <p:childTnLst>
                                    <p:set>
                                      <p:cBhvr>
                                        <p:cTn id="449" dur="1" fill="hold">
                                          <p:stCondLst>
                                            <p:cond delay="0"/>
                                          </p:stCondLst>
                                        </p:cTn>
                                        <p:tgtEl>
                                          <p:spTgt spid="1137"/>
                                        </p:tgtEl>
                                        <p:attrNameLst>
                                          <p:attrName>style.visibility</p:attrName>
                                        </p:attrNameLst>
                                      </p:cBhvr>
                                      <p:to>
                                        <p:strVal val="visible"/>
                                      </p:to>
                                    </p:set>
                                    <p:animEffect filter="wipe(left)" transition="in">
                                      <p:cBhvr additive="repl">
                                        <p:cTn id="450" dur="500"/>
                                        <p:tgtEl>
                                          <p:spTgt spid="1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9" name="Group 2"/>
          <p:cNvGrpSpPr/>
          <p:nvPr/>
        </p:nvGrpSpPr>
        <p:grpSpPr>
          <a:xfrm>
            <a:off x="2328840" y="1125360"/>
            <a:ext cx="4511520" cy="5531040"/>
            <a:chOff x="2328840" y="1125360"/>
            <a:chExt cx="4511520" cy="5531040"/>
          </a:xfrm>
        </p:grpSpPr>
        <p:sp>
          <p:nvSpPr>
            <p:cNvPr id="1140" name="Rectangle 3"/>
            <p:cNvSpPr/>
            <p:nvPr/>
          </p:nvSpPr>
          <p:spPr>
            <a:xfrm>
              <a:off x="2328840" y="1838160"/>
              <a:ext cx="4510080" cy="481680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1" name="Line 4"/>
            <p:cNvSpPr/>
            <p:nvPr/>
          </p:nvSpPr>
          <p:spPr>
            <a:xfrm>
              <a:off x="2328840" y="2193840"/>
              <a:ext cx="1336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2" name="Line 5"/>
            <p:cNvSpPr/>
            <p:nvPr/>
          </p:nvSpPr>
          <p:spPr>
            <a:xfrm>
              <a:off x="2328840" y="2490840"/>
              <a:ext cx="133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3" name="Line 6"/>
            <p:cNvSpPr/>
            <p:nvPr/>
          </p:nvSpPr>
          <p:spPr>
            <a:xfrm>
              <a:off x="2328840" y="2789280"/>
              <a:ext cx="133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4" name="Line 7"/>
            <p:cNvSpPr/>
            <p:nvPr/>
          </p:nvSpPr>
          <p:spPr>
            <a:xfrm>
              <a:off x="2328840" y="3086280"/>
              <a:ext cx="133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Line 8"/>
            <p:cNvSpPr/>
            <p:nvPr/>
          </p:nvSpPr>
          <p:spPr>
            <a:xfrm>
              <a:off x="2328840" y="3384720"/>
              <a:ext cx="133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Line 9"/>
            <p:cNvSpPr/>
            <p:nvPr/>
          </p:nvSpPr>
          <p:spPr>
            <a:xfrm>
              <a:off x="2328840" y="3681360"/>
              <a:ext cx="1336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7" name="Line 10"/>
            <p:cNvSpPr/>
            <p:nvPr/>
          </p:nvSpPr>
          <p:spPr>
            <a:xfrm>
              <a:off x="2328840" y="3978360"/>
              <a:ext cx="133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8" name="Line 11"/>
            <p:cNvSpPr/>
            <p:nvPr/>
          </p:nvSpPr>
          <p:spPr>
            <a:xfrm>
              <a:off x="2328840" y="4276800"/>
              <a:ext cx="133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9" name="Line 12"/>
            <p:cNvSpPr/>
            <p:nvPr/>
          </p:nvSpPr>
          <p:spPr>
            <a:xfrm>
              <a:off x="2328840" y="4573440"/>
              <a:ext cx="1336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0" name="Line 13"/>
            <p:cNvSpPr/>
            <p:nvPr/>
          </p:nvSpPr>
          <p:spPr>
            <a:xfrm>
              <a:off x="2328840" y="4871880"/>
              <a:ext cx="133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Line 14"/>
            <p:cNvSpPr/>
            <p:nvPr/>
          </p:nvSpPr>
          <p:spPr>
            <a:xfrm>
              <a:off x="2328840" y="5168880"/>
              <a:ext cx="133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2" name="Line 15"/>
            <p:cNvSpPr/>
            <p:nvPr/>
          </p:nvSpPr>
          <p:spPr>
            <a:xfrm>
              <a:off x="2328840" y="5465880"/>
              <a:ext cx="133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3" name="Line 16"/>
            <p:cNvSpPr/>
            <p:nvPr/>
          </p:nvSpPr>
          <p:spPr>
            <a:xfrm>
              <a:off x="2328840" y="5762520"/>
              <a:ext cx="1336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4" name="Line 17"/>
            <p:cNvSpPr/>
            <p:nvPr/>
          </p:nvSpPr>
          <p:spPr>
            <a:xfrm>
              <a:off x="2328840" y="6059520"/>
              <a:ext cx="133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5" name="Line 18"/>
            <p:cNvSpPr/>
            <p:nvPr/>
          </p:nvSpPr>
          <p:spPr>
            <a:xfrm>
              <a:off x="2328840" y="6357960"/>
              <a:ext cx="133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6" name="Line 19"/>
            <p:cNvSpPr/>
            <p:nvPr/>
          </p:nvSpPr>
          <p:spPr>
            <a:xfrm>
              <a:off x="2328840" y="6654960"/>
              <a:ext cx="133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7" name="Line 20"/>
            <p:cNvSpPr/>
            <p:nvPr/>
          </p:nvSpPr>
          <p:spPr>
            <a:xfrm>
              <a:off x="2328840" y="3384720"/>
              <a:ext cx="1336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Line 21"/>
            <p:cNvSpPr/>
            <p:nvPr/>
          </p:nvSpPr>
          <p:spPr>
            <a:xfrm>
              <a:off x="2328840" y="4871880"/>
              <a:ext cx="1336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Line 22"/>
            <p:cNvSpPr/>
            <p:nvPr/>
          </p:nvSpPr>
          <p:spPr>
            <a:xfrm>
              <a:off x="2328840" y="6357960"/>
              <a:ext cx="1336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0" name="Line 23"/>
            <p:cNvSpPr/>
            <p:nvPr/>
          </p:nvSpPr>
          <p:spPr>
            <a:xfrm>
              <a:off x="2328840" y="4871880"/>
              <a:ext cx="133668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Line 24"/>
            <p:cNvSpPr/>
            <p:nvPr/>
          </p:nvSpPr>
          <p:spPr>
            <a:xfrm>
              <a:off x="4165560" y="2193840"/>
              <a:ext cx="267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2" name="Line 25"/>
            <p:cNvSpPr/>
            <p:nvPr/>
          </p:nvSpPr>
          <p:spPr>
            <a:xfrm>
              <a:off x="4165560" y="2490840"/>
              <a:ext cx="267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Line 26"/>
            <p:cNvSpPr/>
            <p:nvPr/>
          </p:nvSpPr>
          <p:spPr>
            <a:xfrm>
              <a:off x="4165560" y="2789280"/>
              <a:ext cx="267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4" name="Line 27"/>
            <p:cNvSpPr/>
            <p:nvPr/>
          </p:nvSpPr>
          <p:spPr>
            <a:xfrm>
              <a:off x="4165560" y="3086280"/>
              <a:ext cx="267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5" name="Line 28"/>
            <p:cNvSpPr/>
            <p:nvPr/>
          </p:nvSpPr>
          <p:spPr>
            <a:xfrm>
              <a:off x="4165560" y="3384720"/>
              <a:ext cx="2673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Line 29"/>
            <p:cNvSpPr/>
            <p:nvPr/>
          </p:nvSpPr>
          <p:spPr>
            <a:xfrm>
              <a:off x="4165560" y="3681360"/>
              <a:ext cx="267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Line 30"/>
            <p:cNvSpPr/>
            <p:nvPr/>
          </p:nvSpPr>
          <p:spPr>
            <a:xfrm>
              <a:off x="4165560" y="3978360"/>
              <a:ext cx="267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8" name="Line 31"/>
            <p:cNvSpPr/>
            <p:nvPr/>
          </p:nvSpPr>
          <p:spPr>
            <a:xfrm>
              <a:off x="4165560" y="4276800"/>
              <a:ext cx="267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9" name="Line 32"/>
            <p:cNvSpPr/>
            <p:nvPr/>
          </p:nvSpPr>
          <p:spPr>
            <a:xfrm>
              <a:off x="4165560" y="4573440"/>
              <a:ext cx="267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0" name="Line 33"/>
            <p:cNvSpPr/>
            <p:nvPr/>
          </p:nvSpPr>
          <p:spPr>
            <a:xfrm>
              <a:off x="4165560" y="4871880"/>
              <a:ext cx="2673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Line 34"/>
            <p:cNvSpPr/>
            <p:nvPr/>
          </p:nvSpPr>
          <p:spPr>
            <a:xfrm>
              <a:off x="4165560" y="5168880"/>
              <a:ext cx="267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Line 35"/>
            <p:cNvSpPr/>
            <p:nvPr/>
          </p:nvSpPr>
          <p:spPr>
            <a:xfrm>
              <a:off x="4165560" y="5465880"/>
              <a:ext cx="267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3" name="Line 36"/>
            <p:cNvSpPr/>
            <p:nvPr/>
          </p:nvSpPr>
          <p:spPr>
            <a:xfrm>
              <a:off x="4165560" y="5762520"/>
              <a:ext cx="2673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4" name="Line 37"/>
            <p:cNvSpPr/>
            <p:nvPr/>
          </p:nvSpPr>
          <p:spPr>
            <a:xfrm>
              <a:off x="4165560" y="6059520"/>
              <a:ext cx="267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5" name="Line 38"/>
            <p:cNvSpPr/>
            <p:nvPr/>
          </p:nvSpPr>
          <p:spPr>
            <a:xfrm>
              <a:off x="4165560" y="6357960"/>
              <a:ext cx="267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6" name="Line 39"/>
            <p:cNvSpPr/>
            <p:nvPr/>
          </p:nvSpPr>
          <p:spPr>
            <a:xfrm>
              <a:off x="4165560" y="6654960"/>
              <a:ext cx="2673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7" name="Line 40"/>
            <p:cNvSpPr/>
            <p:nvPr/>
          </p:nvSpPr>
          <p:spPr>
            <a:xfrm>
              <a:off x="4165560" y="3384720"/>
              <a:ext cx="26733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Line 41"/>
            <p:cNvSpPr/>
            <p:nvPr/>
          </p:nvSpPr>
          <p:spPr>
            <a:xfrm>
              <a:off x="4165560" y="4871880"/>
              <a:ext cx="26733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Line 42"/>
            <p:cNvSpPr/>
            <p:nvPr/>
          </p:nvSpPr>
          <p:spPr>
            <a:xfrm>
              <a:off x="4165560" y="6357960"/>
              <a:ext cx="26733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0" name="Rectangle 43"/>
            <p:cNvSpPr/>
            <p:nvPr/>
          </p:nvSpPr>
          <p:spPr>
            <a:xfrm>
              <a:off x="2328840" y="1125360"/>
              <a:ext cx="4510080" cy="71784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81" name="Group 44"/>
            <p:cNvGrpSpPr/>
            <p:nvPr/>
          </p:nvGrpSpPr>
          <p:grpSpPr>
            <a:xfrm>
              <a:off x="4189320" y="1203480"/>
              <a:ext cx="2627280" cy="271440"/>
              <a:chOff x="4189320" y="1203480"/>
              <a:chExt cx="2627280" cy="271440"/>
            </a:xfrm>
          </p:grpSpPr>
          <p:sp>
            <p:nvSpPr>
              <p:cNvPr id="1182" name="Line 45"/>
              <p:cNvSpPr/>
              <p:nvPr/>
            </p:nvSpPr>
            <p:spPr>
              <a:xfrm>
                <a:off x="4211640" y="1341720"/>
                <a:ext cx="2581200" cy="2880"/>
              </a:xfrm>
              <a:prstGeom prst="line">
                <a:avLst/>
              </a:prstGeom>
              <a:ln w="64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83" name="Rectangle 46"/>
              <p:cNvSpPr/>
              <p:nvPr/>
            </p:nvSpPr>
            <p:spPr>
              <a:xfrm>
                <a:off x="5425920" y="1203480"/>
                <a:ext cx="1180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T</a:t>
                </a:r>
                <a:endParaRPr b="0" lang="en-US" sz="700" spc="-1" strike="noStrike">
                  <a:solidFill>
                    <a:srgbClr val="000000"/>
                  </a:solidFill>
                  <a:latin typeface="Times New Roman"/>
                </a:endParaRPr>
              </a:p>
            </p:txBody>
          </p:sp>
          <p:sp>
            <p:nvSpPr>
              <p:cNvPr id="1184" name="Rectangle 47"/>
              <p:cNvSpPr/>
              <p:nvPr/>
            </p:nvSpPr>
            <p:spPr>
              <a:xfrm>
                <a:off x="5375160" y="1341720"/>
                <a:ext cx="23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SFT</a:t>
                </a:r>
                <a:endParaRPr b="0" lang="en-US" sz="700" spc="-1" strike="noStrike">
                  <a:solidFill>
                    <a:srgbClr val="000000"/>
                  </a:solidFill>
                  <a:latin typeface="Times New Roman"/>
                </a:endParaRPr>
              </a:p>
            </p:txBody>
          </p:sp>
          <p:sp>
            <p:nvSpPr>
              <p:cNvPr id="1185" name="Rectangle 48"/>
              <p:cNvSpPr/>
              <p:nvPr/>
            </p:nvSpPr>
            <p:spPr>
              <a:xfrm>
                <a:off x="4207320" y="1341720"/>
                <a:ext cx="146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40</a:t>
                </a:r>
                <a:endParaRPr b="0" lang="en-US" sz="700" spc="-1" strike="noStrike">
                  <a:solidFill>
                    <a:srgbClr val="000000"/>
                  </a:solidFill>
                  <a:latin typeface="Times New Roman"/>
                </a:endParaRPr>
              </a:p>
            </p:txBody>
          </p:sp>
          <p:sp>
            <p:nvSpPr>
              <p:cNvPr id="1186" name="Rectangle 49"/>
              <p:cNvSpPr/>
              <p:nvPr/>
            </p:nvSpPr>
            <p:spPr>
              <a:xfrm>
                <a:off x="6669000" y="13417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0</a:t>
                </a:r>
                <a:endParaRPr b="0" lang="en-US" sz="700" spc="-1" strike="noStrike">
                  <a:solidFill>
                    <a:srgbClr val="000000"/>
                  </a:solidFill>
                  <a:latin typeface="Times New Roman"/>
                </a:endParaRPr>
              </a:p>
            </p:txBody>
          </p:sp>
          <p:sp>
            <p:nvSpPr>
              <p:cNvPr id="1187" name="Rectangle 50"/>
              <p:cNvSpPr/>
              <p:nvPr/>
            </p:nvSpPr>
            <p:spPr>
              <a:xfrm>
                <a:off x="4189320" y="1214640"/>
                <a:ext cx="2627280" cy="2602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8" name="Group 51"/>
            <p:cNvGrpSpPr/>
            <p:nvPr/>
          </p:nvGrpSpPr>
          <p:grpSpPr>
            <a:xfrm>
              <a:off x="4189320" y="1504800"/>
              <a:ext cx="2627280" cy="260640"/>
              <a:chOff x="4189320" y="1504800"/>
              <a:chExt cx="2627280" cy="260640"/>
            </a:xfrm>
          </p:grpSpPr>
          <p:sp>
            <p:nvSpPr>
              <p:cNvPr id="1189" name="Line 52"/>
              <p:cNvSpPr/>
              <p:nvPr/>
            </p:nvSpPr>
            <p:spPr>
              <a:xfrm>
                <a:off x="4211640" y="1630440"/>
                <a:ext cx="2581200" cy="1440"/>
              </a:xfrm>
              <a:prstGeom prst="line">
                <a:avLst/>
              </a:prstGeom>
              <a:ln w="19080">
                <a:solidFill>
                  <a:srgbClr val="008000"/>
                </a:solidFill>
                <a:prstDash val="sys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Rectangle 53"/>
              <p:cNvSpPr/>
              <p:nvPr/>
            </p:nvSpPr>
            <p:spPr>
              <a:xfrm>
                <a:off x="5388840" y="1504800"/>
                <a:ext cx="2080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HI</a:t>
                </a:r>
                <a:endParaRPr b="0" lang="en-US" sz="700" spc="-1" strike="noStrike">
                  <a:solidFill>
                    <a:srgbClr val="000000"/>
                  </a:solidFill>
                  <a:latin typeface="Times New Roman"/>
                </a:endParaRPr>
              </a:p>
            </p:txBody>
          </p:sp>
          <p:sp>
            <p:nvSpPr>
              <p:cNvPr id="1191" name="Rectangle 54"/>
              <p:cNvSpPr/>
              <p:nvPr/>
            </p:nvSpPr>
            <p:spPr>
              <a:xfrm>
                <a:off x="5446440" y="1635120"/>
                <a:ext cx="79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Times New Roman"/>
                </a:endParaRPr>
              </a:p>
            </p:txBody>
          </p:sp>
          <p:sp>
            <p:nvSpPr>
              <p:cNvPr id="1192" name="Rectangle 55"/>
              <p:cNvSpPr/>
              <p:nvPr/>
            </p:nvSpPr>
            <p:spPr>
              <a:xfrm>
                <a:off x="4206960" y="16351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0</a:t>
                </a:r>
                <a:endParaRPr b="0" lang="en-US" sz="700" spc="-1" strike="noStrike">
                  <a:solidFill>
                    <a:srgbClr val="000000"/>
                  </a:solidFill>
                  <a:latin typeface="Times New Roman"/>
                </a:endParaRPr>
              </a:p>
            </p:txBody>
          </p:sp>
          <p:sp>
            <p:nvSpPr>
              <p:cNvPr id="1193" name="Rectangle 56"/>
              <p:cNvSpPr/>
              <p:nvPr/>
            </p:nvSpPr>
            <p:spPr>
              <a:xfrm>
                <a:off x="6669000" y="163512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a:t>
                </a:r>
                <a:endParaRPr b="0" lang="en-US" sz="700" spc="-1" strike="noStrike">
                  <a:solidFill>
                    <a:srgbClr val="000000"/>
                  </a:solidFill>
                  <a:latin typeface="Times New Roman"/>
                </a:endParaRPr>
              </a:p>
            </p:txBody>
          </p:sp>
          <p:sp>
            <p:nvSpPr>
              <p:cNvPr id="1194" name="Rectangle 57"/>
              <p:cNvSpPr/>
              <p:nvPr/>
            </p:nvSpPr>
            <p:spPr>
              <a:xfrm>
                <a:off x="4189320" y="1504800"/>
                <a:ext cx="2627280" cy="2606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95" name="Line 58"/>
            <p:cNvSpPr/>
            <p:nvPr/>
          </p:nvSpPr>
          <p:spPr>
            <a:xfrm>
              <a:off x="2328840" y="1936800"/>
              <a:ext cx="133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Line 59"/>
            <p:cNvSpPr/>
            <p:nvPr/>
          </p:nvSpPr>
          <p:spPr>
            <a:xfrm>
              <a:off x="2328840" y="1936800"/>
              <a:ext cx="1336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Line 60"/>
            <p:cNvSpPr/>
            <p:nvPr/>
          </p:nvSpPr>
          <p:spPr>
            <a:xfrm>
              <a:off x="2328840" y="1936800"/>
              <a:ext cx="133668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Line 61"/>
            <p:cNvSpPr/>
            <p:nvPr/>
          </p:nvSpPr>
          <p:spPr>
            <a:xfrm>
              <a:off x="4165560" y="1936800"/>
              <a:ext cx="26733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Line 62"/>
            <p:cNvSpPr/>
            <p:nvPr/>
          </p:nvSpPr>
          <p:spPr>
            <a:xfrm>
              <a:off x="4165560" y="1936800"/>
              <a:ext cx="26733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Line 63"/>
            <p:cNvSpPr/>
            <p:nvPr/>
          </p:nvSpPr>
          <p:spPr>
            <a:xfrm>
              <a:off x="4165560" y="1936800"/>
              <a:ext cx="267336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Line 64"/>
            <p:cNvSpPr/>
            <p:nvPr/>
          </p:nvSpPr>
          <p:spPr>
            <a:xfrm>
              <a:off x="4165560" y="4871880"/>
              <a:ext cx="267336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Line 65"/>
            <p:cNvSpPr/>
            <p:nvPr/>
          </p:nvSpPr>
          <p:spPr>
            <a:xfrm>
              <a:off x="2328840" y="1838160"/>
              <a:ext cx="1440" cy="48168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Line 66"/>
            <p:cNvSpPr/>
            <p:nvPr/>
          </p:nvSpPr>
          <p:spPr>
            <a:xfrm>
              <a:off x="3665520" y="1838160"/>
              <a:ext cx="1440" cy="48168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Line 67"/>
            <p:cNvSpPr/>
            <p:nvPr/>
          </p:nvSpPr>
          <p:spPr>
            <a:xfrm>
              <a:off x="2462040" y="1838160"/>
              <a:ext cx="180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Line 68"/>
            <p:cNvSpPr/>
            <p:nvPr/>
          </p:nvSpPr>
          <p:spPr>
            <a:xfrm>
              <a:off x="2595600" y="1838160"/>
              <a:ext cx="144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Line 69"/>
            <p:cNvSpPr/>
            <p:nvPr/>
          </p:nvSpPr>
          <p:spPr>
            <a:xfrm>
              <a:off x="2730600" y="1838160"/>
              <a:ext cx="144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Line 70"/>
            <p:cNvSpPr/>
            <p:nvPr/>
          </p:nvSpPr>
          <p:spPr>
            <a:xfrm>
              <a:off x="2863800" y="1838160"/>
              <a:ext cx="180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Line 71"/>
            <p:cNvSpPr/>
            <p:nvPr/>
          </p:nvSpPr>
          <p:spPr>
            <a:xfrm>
              <a:off x="2997360" y="1838160"/>
              <a:ext cx="1440" cy="4816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Line 72"/>
            <p:cNvSpPr/>
            <p:nvPr/>
          </p:nvSpPr>
          <p:spPr>
            <a:xfrm>
              <a:off x="3130560" y="1838160"/>
              <a:ext cx="144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Line 73"/>
            <p:cNvSpPr/>
            <p:nvPr/>
          </p:nvSpPr>
          <p:spPr>
            <a:xfrm>
              <a:off x="3265560" y="1838160"/>
              <a:ext cx="144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Line 74"/>
            <p:cNvSpPr/>
            <p:nvPr/>
          </p:nvSpPr>
          <p:spPr>
            <a:xfrm>
              <a:off x="3398760" y="1838160"/>
              <a:ext cx="180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Line 75"/>
            <p:cNvSpPr/>
            <p:nvPr/>
          </p:nvSpPr>
          <p:spPr>
            <a:xfrm>
              <a:off x="3532320" y="1838160"/>
              <a:ext cx="144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Line 76"/>
            <p:cNvSpPr/>
            <p:nvPr/>
          </p:nvSpPr>
          <p:spPr>
            <a:xfrm>
              <a:off x="3665520" y="1838160"/>
              <a:ext cx="1440" cy="48168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Line 77"/>
            <p:cNvSpPr/>
            <p:nvPr/>
          </p:nvSpPr>
          <p:spPr>
            <a:xfrm>
              <a:off x="4165560" y="1838160"/>
              <a:ext cx="1800" cy="48168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Line 78"/>
            <p:cNvSpPr/>
            <p:nvPr/>
          </p:nvSpPr>
          <p:spPr>
            <a:xfrm>
              <a:off x="4165560" y="1838160"/>
              <a:ext cx="1800" cy="48168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Line 79"/>
            <p:cNvSpPr/>
            <p:nvPr/>
          </p:nvSpPr>
          <p:spPr>
            <a:xfrm>
              <a:off x="6838920" y="1838160"/>
              <a:ext cx="1440" cy="48168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Line 80"/>
            <p:cNvSpPr/>
            <p:nvPr/>
          </p:nvSpPr>
          <p:spPr>
            <a:xfrm>
              <a:off x="4433760" y="1838160"/>
              <a:ext cx="180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Line 81"/>
            <p:cNvSpPr/>
            <p:nvPr/>
          </p:nvSpPr>
          <p:spPr>
            <a:xfrm>
              <a:off x="4700520" y="1838160"/>
              <a:ext cx="180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Line 82"/>
            <p:cNvSpPr/>
            <p:nvPr/>
          </p:nvSpPr>
          <p:spPr>
            <a:xfrm>
              <a:off x="4968720" y="1838160"/>
              <a:ext cx="180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Line 83"/>
            <p:cNvSpPr/>
            <p:nvPr/>
          </p:nvSpPr>
          <p:spPr>
            <a:xfrm>
              <a:off x="5235480" y="1838160"/>
              <a:ext cx="180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Line 84"/>
            <p:cNvSpPr/>
            <p:nvPr/>
          </p:nvSpPr>
          <p:spPr>
            <a:xfrm>
              <a:off x="5504040" y="1838160"/>
              <a:ext cx="1440" cy="4816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Line 85"/>
            <p:cNvSpPr/>
            <p:nvPr/>
          </p:nvSpPr>
          <p:spPr>
            <a:xfrm>
              <a:off x="5770440" y="1838160"/>
              <a:ext cx="180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Line 86"/>
            <p:cNvSpPr/>
            <p:nvPr/>
          </p:nvSpPr>
          <p:spPr>
            <a:xfrm>
              <a:off x="6037200" y="1838160"/>
              <a:ext cx="180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Line 87"/>
            <p:cNvSpPr/>
            <p:nvPr/>
          </p:nvSpPr>
          <p:spPr>
            <a:xfrm>
              <a:off x="6303960" y="1838160"/>
              <a:ext cx="144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Line 88"/>
            <p:cNvSpPr/>
            <p:nvPr/>
          </p:nvSpPr>
          <p:spPr>
            <a:xfrm>
              <a:off x="6572160" y="1838160"/>
              <a:ext cx="1800" cy="481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Freeform 89"/>
            <p:cNvSpPr/>
            <p:nvPr/>
          </p:nvSpPr>
          <p:spPr>
            <a:xfrm>
              <a:off x="2571840" y="1838160"/>
              <a:ext cx="761760" cy="4816800"/>
            </a:xfrm>
            <a:custGeom>
              <a:avLst/>
              <a:gdLst>
                <a:gd name="textAreaLeft" fmla="*/ 0 w 761760"/>
                <a:gd name="textAreaRight" fmla="*/ 762120 w 761760"/>
                <a:gd name="textAreaTop" fmla="*/ 0 h 4816800"/>
                <a:gd name="textAreaBottom" fmla="*/ 4817160 h 4816800"/>
              </a:gdLst>
              <a:ahLst/>
              <a:rect l="textAreaLeft" t="textAreaTop" r="textAreaRight" b="textAreaBottom"/>
              <a:pathLst>
                <a:path w="1016" h="7223">
                  <a:moveTo>
                    <a:pt x="764" y="0"/>
                  </a:moveTo>
                  <a:lnTo>
                    <a:pt x="774" y="22"/>
                  </a:lnTo>
                  <a:lnTo>
                    <a:pt x="796" y="44"/>
                  </a:lnTo>
                  <a:lnTo>
                    <a:pt x="805" y="67"/>
                  </a:lnTo>
                  <a:lnTo>
                    <a:pt x="776" y="89"/>
                  </a:lnTo>
                  <a:lnTo>
                    <a:pt x="765" y="111"/>
                  </a:lnTo>
                  <a:lnTo>
                    <a:pt x="790" y="133"/>
                  </a:lnTo>
                  <a:lnTo>
                    <a:pt x="824" y="156"/>
                  </a:lnTo>
                  <a:lnTo>
                    <a:pt x="903" y="178"/>
                  </a:lnTo>
                  <a:lnTo>
                    <a:pt x="918" y="200"/>
                  </a:lnTo>
                  <a:lnTo>
                    <a:pt x="918" y="223"/>
                  </a:lnTo>
                  <a:lnTo>
                    <a:pt x="890" y="245"/>
                  </a:lnTo>
                  <a:lnTo>
                    <a:pt x="872" y="267"/>
                  </a:lnTo>
                  <a:lnTo>
                    <a:pt x="853" y="290"/>
                  </a:lnTo>
                  <a:lnTo>
                    <a:pt x="838" y="312"/>
                  </a:lnTo>
                  <a:lnTo>
                    <a:pt x="816" y="334"/>
                  </a:lnTo>
                  <a:lnTo>
                    <a:pt x="801" y="356"/>
                  </a:lnTo>
                  <a:lnTo>
                    <a:pt x="801" y="379"/>
                  </a:lnTo>
                  <a:lnTo>
                    <a:pt x="832" y="401"/>
                  </a:lnTo>
                  <a:lnTo>
                    <a:pt x="851" y="423"/>
                  </a:lnTo>
                  <a:lnTo>
                    <a:pt x="863" y="446"/>
                  </a:lnTo>
                  <a:lnTo>
                    <a:pt x="890" y="468"/>
                  </a:lnTo>
                  <a:lnTo>
                    <a:pt x="915" y="490"/>
                  </a:lnTo>
                  <a:lnTo>
                    <a:pt x="933" y="512"/>
                  </a:lnTo>
                  <a:lnTo>
                    <a:pt x="958" y="535"/>
                  </a:lnTo>
                  <a:lnTo>
                    <a:pt x="970" y="557"/>
                  </a:lnTo>
                  <a:lnTo>
                    <a:pt x="967" y="579"/>
                  </a:lnTo>
                  <a:lnTo>
                    <a:pt x="979" y="602"/>
                  </a:lnTo>
                  <a:lnTo>
                    <a:pt x="1001" y="624"/>
                  </a:lnTo>
                  <a:lnTo>
                    <a:pt x="983" y="646"/>
                  </a:lnTo>
                  <a:lnTo>
                    <a:pt x="952" y="669"/>
                  </a:lnTo>
                  <a:lnTo>
                    <a:pt x="937" y="691"/>
                  </a:lnTo>
                  <a:lnTo>
                    <a:pt x="931" y="713"/>
                  </a:lnTo>
                  <a:lnTo>
                    <a:pt x="961" y="735"/>
                  </a:lnTo>
                  <a:lnTo>
                    <a:pt x="977" y="758"/>
                  </a:lnTo>
                  <a:lnTo>
                    <a:pt x="979" y="780"/>
                  </a:lnTo>
                  <a:lnTo>
                    <a:pt x="976" y="802"/>
                  </a:lnTo>
                  <a:lnTo>
                    <a:pt x="991" y="825"/>
                  </a:lnTo>
                  <a:lnTo>
                    <a:pt x="991" y="847"/>
                  </a:lnTo>
                  <a:lnTo>
                    <a:pt x="991" y="869"/>
                  </a:lnTo>
                  <a:lnTo>
                    <a:pt x="976" y="891"/>
                  </a:lnTo>
                  <a:lnTo>
                    <a:pt x="962" y="914"/>
                  </a:lnTo>
                  <a:lnTo>
                    <a:pt x="964" y="936"/>
                  </a:lnTo>
                  <a:lnTo>
                    <a:pt x="985" y="958"/>
                  </a:lnTo>
                  <a:lnTo>
                    <a:pt x="1007" y="981"/>
                  </a:lnTo>
                  <a:lnTo>
                    <a:pt x="1016" y="1003"/>
                  </a:lnTo>
                  <a:lnTo>
                    <a:pt x="959" y="1025"/>
                  </a:lnTo>
                  <a:lnTo>
                    <a:pt x="927" y="1047"/>
                  </a:lnTo>
                  <a:lnTo>
                    <a:pt x="912" y="1070"/>
                  </a:lnTo>
                  <a:lnTo>
                    <a:pt x="882" y="1092"/>
                  </a:lnTo>
                  <a:lnTo>
                    <a:pt x="879" y="1114"/>
                  </a:lnTo>
                  <a:lnTo>
                    <a:pt x="851" y="1137"/>
                  </a:lnTo>
                  <a:lnTo>
                    <a:pt x="833" y="1159"/>
                  </a:lnTo>
                  <a:lnTo>
                    <a:pt x="850" y="1181"/>
                  </a:lnTo>
                  <a:lnTo>
                    <a:pt x="865" y="1204"/>
                  </a:lnTo>
                  <a:lnTo>
                    <a:pt x="867" y="1226"/>
                  </a:lnTo>
                  <a:lnTo>
                    <a:pt x="856" y="1248"/>
                  </a:lnTo>
                  <a:lnTo>
                    <a:pt x="835" y="1270"/>
                  </a:lnTo>
                  <a:lnTo>
                    <a:pt x="833" y="1293"/>
                  </a:lnTo>
                  <a:lnTo>
                    <a:pt x="853" y="1315"/>
                  </a:lnTo>
                  <a:lnTo>
                    <a:pt x="878" y="1337"/>
                  </a:lnTo>
                  <a:lnTo>
                    <a:pt x="906" y="1360"/>
                  </a:lnTo>
                  <a:lnTo>
                    <a:pt x="912" y="1382"/>
                  </a:lnTo>
                  <a:lnTo>
                    <a:pt x="916" y="1404"/>
                  </a:lnTo>
                  <a:lnTo>
                    <a:pt x="910" y="1426"/>
                  </a:lnTo>
                  <a:lnTo>
                    <a:pt x="872" y="1449"/>
                  </a:lnTo>
                  <a:lnTo>
                    <a:pt x="836" y="1471"/>
                  </a:lnTo>
                  <a:lnTo>
                    <a:pt x="793" y="1493"/>
                  </a:lnTo>
                  <a:lnTo>
                    <a:pt x="764" y="1516"/>
                  </a:lnTo>
                  <a:lnTo>
                    <a:pt x="724" y="1538"/>
                  </a:lnTo>
                  <a:lnTo>
                    <a:pt x="722" y="1560"/>
                  </a:lnTo>
                  <a:lnTo>
                    <a:pt x="736" y="1583"/>
                  </a:lnTo>
                  <a:lnTo>
                    <a:pt x="744" y="1605"/>
                  </a:lnTo>
                  <a:lnTo>
                    <a:pt x="768" y="1627"/>
                  </a:lnTo>
                  <a:lnTo>
                    <a:pt x="776" y="1649"/>
                  </a:lnTo>
                  <a:lnTo>
                    <a:pt x="799" y="1672"/>
                  </a:lnTo>
                  <a:lnTo>
                    <a:pt x="835" y="1694"/>
                  </a:lnTo>
                  <a:lnTo>
                    <a:pt x="899" y="1716"/>
                  </a:lnTo>
                  <a:lnTo>
                    <a:pt x="934" y="1739"/>
                  </a:lnTo>
                  <a:lnTo>
                    <a:pt x="942" y="1761"/>
                  </a:lnTo>
                  <a:lnTo>
                    <a:pt x="942" y="1783"/>
                  </a:lnTo>
                  <a:lnTo>
                    <a:pt x="942" y="1805"/>
                  </a:lnTo>
                  <a:lnTo>
                    <a:pt x="937" y="1828"/>
                  </a:lnTo>
                  <a:lnTo>
                    <a:pt x="910" y="1850"/>
                  </a:lnTo>
                  <a:lnTo>
                    <a:pt x="902" y="1872"/>
                  </a:lnTo>
                  <a:lnTo>
                    <a:pt x="937" y="1895"/>
                  </a:lnTo>
                  <a:lnTo>
                    <a:pt x="931" y="1917"/>
                  </a:lnTo>
                  <a:lnTo>
                    <a:pt x="853" y="1939"/>
                  </a:lnTo>
                  <a:lnTo>
                    <a:pt x="804" y="1961"/>
                  </a:lnTo>
                  <a:lnTo>
                    <a:pt x="767" y="1984"/>
                  </a:lnTo>
                  <a:lnTo>
                    <a:pt x="738" y="2006"/>
                  </a:lnTo>
                  <a:lnTo>
                    <a:pt x="676" y="2028"/>
                  </a:lnTo>
                  <a:lnTo>
                    <a:pt x="479" y="2051"/>
                  </a:lnTo>
                  <a:lnTo>
                    <a:pt x="282" y="2073"/>
                  </a:lnTo>
                  <a:lnTo>
                    <a:pt x="171" y="2095"/>
                  </a:lnTo>
                  <a:lnTo>
                    <a:pt x="117" y="2118"/>
                  </a:lnTo>
                  <a:lnTo>
                    <a:pt x="92" y="2140"/>
                  </a:lnTo>
                  <a:lnTo>
                    <a:pt x="62" y="2162"/>
                  </a:lnTo>
                  <a:lnTo>
                    <a:pt x="58" y="2184"/>
                  </a:lnTo>
                  <a:lnTo>
                    <a:pt x="58" y="2207"/>
                  </a:lnTo>
                  <a:lnTo>
                    <a:pt x="61" y="2229"/>
                  </a:lnTo>
                  <a:lnTo>
                    <a:pt x="58" y="2251"/>
                  </a:lnTo>
                  <a:lnTo>
                    <a:pt x="54" y="2274"/>
                  </a:lnTo>
                  <a:lnTo>
                    <a:pt x="45" y="2296"/>
                  </a:lnTo>
                  <a:lnTo>
                    <a:pt x="31" y="2318"/>
                  </a:lnTo>
                  <a:lnTo>
                    <a:pt x="12" y="2340"/>
                  </a:lnTo>
                  <a:lnTo>
                    <a:pt x="14" y="2363"/>
                  </a:lnTo>
                  <a:lnTo>
                    <a:pt x="0" y="2385"/>
                  </a:lnTo>
                  <a:lnTo>
                    <a:pt x="11" y="2407"/>
                  </a:lnTo>
                  <a:lnTo>
                    <a:pt x="31" y="2430"/>
                  </a:lnTo>
                  <a:lnTo>
                    <a:pt x="27" y="2452"/>
                  </a:lnTo>
                  <a:lnTo>
                    <a:pt x="33" y="2474"/>
                  </a:lnTo>
                  <a:lnTo>
                    <a:pt x="31" y="2496"/>
                  </a:lnTo>
                  <a:lnTo>
                    <a:pt x="25" y="2519"/>
                  </a:lnTo>
                  <a:lnTo>
                    <a:pt x="33" y="2541"/>
                  </a:lnTo>
                  <a:lnTo>
                    <a:pt x="65" y="2563"/>
                  </a:lnTo>
                  <a:lnTo>
                    <a:pt x="80" y="2586"/>
                  </a:lnTo>
                  <a:lnTo>
                    <a:pt x="102" y="2608"/>
                  </a:lnTo>
                  <a:lnTo>
                    <a:pt x="107" y="2630"/>
                  </a:lnTo>
                  <a:lnTo>
                    <a:pt x="141" y="2653"/>
                  </a:lnTo>
                  <a:lnTo>
                    <a:pt x="234" y="2675"/>
                  </a:lnTo>
                  <a:lnTo>
                    <a:pt x="356" y="2697"/>
                  </a:lnTo>
                  <a:lnTo>
                    <a:pt x="421" y="2719"/>
                  </a:lnTo>
                  <a:lnTo>
                    <a:pt x="454" y="2742"/>
                  </a:lnTo>
                  <a:lnTo>
                    <a:pt x="455" y="2764"/>
                  </a:lnTo>
                  <a:lnTo>
                    <a:pt x="446" y="2786"/>
                  </a:lnTo>
                  <a:lnTo>
                    <a:pt x="455" y="2809"/>
                  </a:lnTo>
                  <a:lnTo>
                    <a:pt x="475" y="2831"/>
                  </a:lnTo>
                  <a:lnTo>
                    <a:pt x="521" y="2853"/>
                  </a:lnTo>
                  <a:lnTo>
                    <a:pt x="567" y="2875"/>
                  </a:lnTo>
                  <a:lnTo>
                    <a:pt x="589" y="2898"/>
                  </a:lnTo>
                  <a:lnTo>
                    <a:pt x="610" y="2920"/>
                  </a:lnTo>
                  <a:lnTo>
                    <a:pt x="612" y="2942"/>
                  </a:lnTo>
                  <a:lnTo>
                    <a:pt x="586" y="2965"/>
                  </a:lnTo>
                  <a:lnTo>
                    <a:pt x="568" y="2987"/>
                  </a:lnTo>
                  <a:lnTo>
                    <a:pt x="558" y="3009"/>
                  </a:lnTo>
                  <a:lnTo>
                    <a:pt x="572" y="3032"/>
                  </a:lnTo>
                  <a:lnTo>
                    <a:pt x="669" y="3054"/>
                  </a:lnTo>
                  <a:lnTo>
                    <a:pt x="719" y="3076"/>
                  </a:lnTo>
                  <a:lnTo>
                    <a:pt x="756" y="3098"/>
                  </a:lnTo>
                  <a:lnTo>
                    <a:pt x="773" y="3121"/>
                  </a:lnTo>
                  <a:lnTo>
                    <a:pt x="783" y="3143"/>
                  </a:lnTo>
                  <a:lnTo>
                    <a:pt x="764" y="3165"/>
                  </a:lnTo>
                  <a:lnTo>
                    <a:pt x="737" y="3188"/>
                  </a:lnTo>
                  <a:lnTo>
                    <a:pt x="624" y="3210"/>
                  </a:lnTo>
                  <a:lnTo>
                    <a:pt x="491" y="3232"/>
                  </a:lnTo>
                  <a:lnTo>
                    <a:pt x="389" y="3254"/>
                  </a:lnTo>
                  <a:lnTo>
                    <a:pt x="312" y="3277"/>
                  </a:lnTo>
                  <a:lnTo>
                    <a:pt x="264" y="3299"/>
                  </a:lnTo>
                  <a:lnTo>
                    <a:pt x="193" y="3321"/>
                  </a:lnTo>
                  <a:lnTo>
                    <a:pt x="151" y="3344"/>
                  </a:lnTo>
                  <a:lnTo>
                    <a:pt x="129" y="3366"/>
                  </a:lnTo>
                  <a:lnTo>
                    <a:pt x="125" y="3388"/>
                  </a:lnTo>
                  <a:lnTo>
                    <a:pt x="143" y="3410"/>
                  </a:lnTo>
                  <a:lnTo>
                    <a:pt x="135" y="3433"/>
                  </a:lnTo>
                  <a:lnTo>
                    <a:pt x="135" y="3455"/>
                  </a:lnTo>
                  <a:lnTo>
                    <a:pt x="129" y="3477"/>
                  </a:lnTo>
                  <a:lnTo>
                    <a:pt x="110" y="3500"/>
                  </a:lnTo>
                  <a:lnTo>
                    <a:pt x="119" y="3522"/>
                  </a:lnTo>
                  <a:lnTo>
                    <a:pt x="144" y="3544"/>
                  </a:lnTo>
                  <a:lnTo>
                    <a:pt x="168" y="3567"/>
                  </a:lnTo>
                  <a:lnTo>
                    <a:pt x="190" y="3589"/>
                  </a:lnTo>
                  <a:lnTo>
                    <a:pt x="199" y="3611"/>
                  </a:lnTo>
                  <a:lnTo>
                    <a:pt x="194" y="3633"/>
                  </a:lnTo>
                  <a:lnTo>
                    <a:pt x="194" y="3656"/>
                  </a:lnTo>
                  <a:lnTo>
                    <a:pt x="211" y="3678"/>
                  </a:lnTo>
                  <a:lnTo>
                    <a:pt x="218" y="3700"/>
                  </a:lnTo>
                  <a:lnTo>
                    <a:pt x="249" y="3723"/>
                  </a:lnTo>
                  <a:lnTo>
                    <a:pt x="267" y="3745"/>
                  </a:lnTo>
                  <a:lnTo>
                    <a:pt x="288" y="3767"/>
                  </a:lnTo>
                  <a:lnTo>
                    <a:pt x="285" y="3789"/>
                  </a:lnTo>
                  <a:lnTo>
                    <a:pt x="280" y="3812"/>
                  </a:lnTo>
                  <a:lnTo>
                    <a:pt x="273" y="3834"/>
                  </a:lnTo>
                  <a:lnTo>
                    <a:pt x="263" y="3856"/>
                  </a:lnTo>
                  <a:lnTo>
                    <a:pt x="277" y="3879"/>
                  </a:lnTo>
                  <a:lnTo>
                    <a:pt x="297" y="3901"/>
                  </a:lnTo>
                  <a:lnTo>
                    <a:pt x="309" y="3923"/>
                  </a:lnTo>
                  <a:lnTo>
                    <a:pt x="301" y="3946"/>
                  </a:lnTo>
                  <a:lnTo>
                    <a:pt x="303" y="3968"/>
                  </a:lnTo>
                  <a:lnTo>
                    <a:pt x="314" y="3990"/>
                  </a:lnTo>
                  <a:lnTo>
                    <a:pt x="316" y="4012"/>
                  </a:lnTo>
                  <a:lnTo>
                    <a:pt x="292" y="4035"/>
                  </a:lnTo>
                  <a:lnTo>
                    <a:pt x="277" y="4057"/>
                  </a:lnTo>
                  <a:lnTo>
                    <a:pt x="276" y="4079"/>
                  </a:lnTo>
                  <a:lnTo>
                    <a:pt x="322" y="4102"/>
                  </a:lnTo>
                  <a:lnTo>
                    <a:pt x="399" y="4124"/>
                  </a:lnTo>
                  <a:lnTo>
                    <a:pt x="433" y="4146"/>
                  </a:lnTo>
                  <a:lnTo>
                    <a:pt x="466" y="4168"/>
                  </a:lnTo>
                  <a:lnTo>
                    <a:pt x="475" y="4191"/>
                  </a:lnTo>
                  <a:lnTo>
                    <a:pt x="435" y="4213"/>
                  </a:lnTo>
                  <a:lnTo>
                    <a:pt x="405" y="4235"/>
                  </a:lnTo>
                  <a:lnTo>
                    <a:pt x="383" y="4258"/>
                  </a:lnTo>
                  <a:lnTo>
                    <a:pt x="355" y="4280"/>
                  </a:lnTo>
                  <a:lnTo>
                    <a:pt x="291" y="4302"/>
                  </a:lnTo>
                  <a:lnTo>
                    <a:pt x="258" y="4324"/>
                  </a:lnTo>
                  <a:lnTo>
                    <a:pt x="237" y="4347"/>
                  </a:lnTo>
                  <a:lnTo>
                    <a:pt x="245" y="4369"/>
                  </a:lnTo>
                  <a:lnTo>
                    <a:pt x="258" y="4391"/>
                  </a:lnTo>
                  <a:lnTo>
                    <a:pt x="260" y="4414"/>
                  </a:lnTo>
                  <a:lnTo>
                    <a:pt x="254" y="4436"/>
                  </a:lnTo>
                  <a:lnTo>
                    <a:pt x="242" y="4458"/>
                  </a:lnTo>
                  <a:lnTo>
                    <a:pt x="252" y="4481"/>
                  </a:lnTo>
                  <a:lnTo>
                    <a:pt x="251" y="4503"/>
                  </a:lnTo>
                  <a:lnTo>
                    <a:pt x="212" y="4525"/>
                  </a:lnTo>
                  <a:lnTo>
                    <a:pt x="180" y="4547"/>
                  </a:lnTo>
                  <a:lnTo>
                    <a:pt x="83" y="4570"/>
                  </a:lnTo>
                  <a:lnTo>
                    <a:pt x="80" y="4592"/>
                  </a:lnTo>
                  <a:lnTo>
                    <a:pt x="82" y="4614"/>
                  </a:lnTo>
                  <a:lnTo>
                    <a:pt x="73" y="4637"/>
                  </a:lnTo>
                  <a:lnTo>
                    <a:pt x="40" y="4659"/>
                  </a:lnTo>
                  <a:lnTo>
                    <a:pt x="40" y="4681"/>
                  </a:lnTo>
                  <a:lnTo>
                    <a:pt x="61" y="4703"/>
                  </a:lnTo>
                  <a:lnTo>
                    <a:pt x="85" y="4726"/>
                  </a:lnTo>
                  <a:lnTo>
                    <a:pt x="125" y="4748"/>
                  </a:lnTo>
                  <a:lnTo>
                    <a:pt x="157" y="4770"/>
                  </a:lnTo>
                  <a:lnTo>
                    <a:pt x="183" y="4793"/>
                  </a:lnTo>
                  <a:lnTo>
                    <a:pt x="187" y="4815"/>
                  </a:lnTo>
                  <a:lnTo>
                    <a:pt x="180" y="4837"/>
                  </a:lnTo>
                  <a:lnTo>
                    <a:pt x="205" y="4860"/>
                  </a:lnTo>
                  <a:lnTo>
                    <a:pt x="220" y="4882"/>
                  </a:lnTo>
                  <a:lnTo>
                    <a:pt x="209" y="4904"/>
                  </a:lnTo>
                  <a:lnTo>
                    <a:pt x="145" y="4926"/>
                  </a:lnTo>
                  <a:lnTo>
                    <a:pt x="119" y="4949"/>
                  </a:lnTo>
                  <a:lnTo>
                    <a:pt x="73" y="4971"/>
                  </a:lnTo>
                  <a:lnTo>
                    <a:pt x="61" y="4993"/>
                  </a:lnTo>
                  <a:lnTo>
                    <a:pt x="48" y="5016"/>
                  </a:lnTo>
                  <a:lnTo>
                    <a:pt x="49" y="5038"/>
                  </a:lnTo>
                  <a:lnTo>
                    <a:pt x="58" y="5060"/>
                  </a:lnTo>
                  <a:lnTo>
                    <a:pt x="70" y="5082"/>
                  </a:lnTo>
                  <a:lnTo>
                    <a:pt x="126" y="5105"/>
                  </a:lnTo>
                  <a:lnTo>
                    <a:pt x="194" y="5127"/>
                  </a:lnTo>
                  <a:lnTo>
                    <a:pt x="251" y="5149"/>
                  </a:lnTo>
                  <a:lnTo>
                    <a:pt x="282" y="5172"/>
                  </a:lnTo>
                  <a:lnTo>
                    <a:pt x="310" y="5194"/>
                  </a:lnTo>
                  <a:lnTo>
                    <a:pt x="309" y="5216"/>
                  </a:lnTo>
                  <a:lnTo>
                    <a:pt x="312" y="5238"/>
                  </a:lnTo>
                  <a:lnTo>
                    <a:pt x="298" y="5261"/>
                  </a:lnTo>
                  <a:lnTo>
                    <a:pt x="261" y="5283"/>
                  </a:lnTo>
                  <a:lnTo>
                    <a:pt x="255" y="5305"/>
                  </a:lnTo>
                  <a:lnTo>
                    <a:pt x="334" y="5328"/>
                  </a:lnTo>
                  <a:lnTo>
                    <a:pt x="458" y="5350"/>
                  </a:lnTo>
                  <a:lnTo>
                    <a:pt x="589" y="5372"/>
                  </a:lnTo>
                  <a:lnTo>
                    <a:pt x="661" y="5395"/>
                  </a:lnTo>
                  <a:lnTo>
                    <a:pt x="698" y="5417"/>
                  </a:lnTo>
                  <a:lnTo>
                    <a:pt x="713" y="5439"/>
                  </a:lnTo>
                  <a:lnTo>
                    <a:pt x="700" y="5461"/>
                  </a:lnTo>
                  <a:lnTo>
                    <a:pt x="698" y="5484"/>
                  </a:lnTo>
                  <a:lnTo>
                    <a:pt x="712" y="5506"/>
                  </a:lnTo>
                  <a:lnTo>
                    <a:pt x="731" y="5528"/>
                  </a:lnTo>
                  <a:lnTo>
                    <a:pt x="761" y="5551"/>
                  </a:lnTo>
                  <a:lnTo>
                    <a:pt x="779" y="5573"/>
                  </a:lnTo>
                  <a:lnTo>
                    <a:pt x="787" y="5595"/>
                  </a:lnTo>
                  <a:lnTo>
                    <a:pt x="807" y="5617"/>
                  </a:lnTo>
                  <a:lnTo>
                    <a:pt x="795" y="5640"/>
                  </a:lnTo>
                  <a:lnTo>
                    <a:pt x="770" y="5662"/>
                  </a:lnTo>
                  <a:lnTo>
                    <a:pt x="734" y="5684"/>
                  </a:lnTo>
                  <a:lnTo>
                    <a:pt x="654" y="5707"/>
                  </a:lnTo>
                  <a:lnTo>
                    <a:pt x="596" y="5729"/>
                  </a:lnTo>
                  <a:lnTo>
                    <a:pt x="552" y="5751"/>
                  </a:lnTo>
                  <a:lnTo>
                    <a:pt x="534" y="5773"/>
                  </a:lnTo>
                  <a:lnTo>
                    <a:pt x="529" y="5796"/>
                  </a:lnTo>
                  <a:lnTo>
                    <a:pt x="559" y="5818"/>
                  </a:lnTo>
                  <a:lnTo>
                    <a:pt x="578" y="5840"/>
                  </a:lnTo>
                  <a:lnTo>
                    <a:pt x="595" y="5863"/>
                  </a:lnTo>
                  <a:lnTo>
                    <a:pt x="607" y="5885"/>
                  </a:lnTo>
                  <a:lnTo>
                    <a:pt x="607" y="5907"/>
                  </a:lnTo>
                  <a:lnTo>
                    <a:pt x="626" y="5930"/>
                  </a:lnTo>
                  <a:lnTo>
                    <a:pt x="655" y="5952"/>
                  </a:lnTo>
                  <a:lnTo>
                    <a:pt x="682" y="5974"/>
                  </a:lnTo>
                  <a:lnTo>
                    <a:pt x="753" y="5996"/>
                  </a:lnTo>
                  <a:lnTo>
                    <a:pt x="781" y="6019"/>
                  </a:lnTo>
                  <a:lnTo>
                    <a:pt x="799" y="6041"/>
                  </a:lnTo>
                  <a:lnTo>
                    <a:pt x="799" y="6063"/>
                  </a:lnTo>
                  <a:lnTo>
                    <a:pt x="822" y="6086"/>
                  </a:lnTo>
                  <a:lnTo>
                    <a:pt x="811" y="6108"/>
                  </a:lnTo>
                  <a:lnTo>
                    <a:pt x="759" y="6130"/>
                  </a:lnTo>
                  <a:lnTo>
                    <a:pt x="700" y="6152"/>
                  </a:lnTo>
                  <a:lnTo>
                    <a:pt x="647" y="6175"/>
                  </a:lnTo>
                  <a:lnTo>
                    <a:pt x="639" y="6197"/>
                  </a:lnTo>
                  <a:lnTo>
                    <a:pt x="664" y="6219"/>
                  </a:lnTo>
                  <a:lnTo>
                    <a:pt x="690" y="6242"/>
                  </a:lnTo>
                  <a:lnTo>
                    <a:pt x="666" y="6264"/>
                  </a:lnTo>
                  <a:lnTo>
                    <a:pt x="657" y="6286"/>
                  </a:lnTo>
                  <a:lnTo>
                    <a:pt x="648" y="6309"/>
                  </a:lnTo>
                  <a:lnTo>
                    <a:pt x="642" y="6331"/>
                  </a:lnTo>
                  <a:lnTo>
                    <a:pt x="670" y="6353"/>
                  </a:lnTo>
                  <a:lnTo>
                    <a:pt x="697" y="6375"/>
                  </a:lnTo>
                  <a:lnTo>
                    <a:pt x="733" y="6398"/>
                  </a:lnTo>
                  <a:lnTo>
                    <a:pt x="755" y="6420"/>
                  </a:lnTo>
                  <a:lnTo>
                    <a:pt x="833" y="6442"/>
                  </a:lnTo>
                  <a:lnTo>
                    <a:pt x="853" y="6465"/>
                  </a:lnTo>
                  <a:lnTo>
                    <a:pt x="854" y="6487"/>
                  </a:lnTo>
                  <a:lnTo>
                    <a:pt x="862" y="6509"/>
                  </a:lnTo>
                  <a:lnTo>
                    <a:pt x="908" y="6531"/>
                  </a:lnTo>
                  <a:lnTo>
                    <a:pt x="956" y="6554"/>
                  </a:lnTo>
                  <a:lnTo>
                    <a:pt x="974" y="6576"/>
                  </a:lnTo>
                  <a:lnTo>
                    <a:pt x="939" y="6598"/>
                  </a:lnTo>
                  <a:lnTo>
                    <a:pt x="910" y="6621"/>
                  </a:lnTo>
                  <a:lnTo>
                    <a:pt x="890" y="6643"/>
                  </a:lnTo>
                  <a:lnTo>
                    <a:pt x="873" y="6665"/>
                  </a:lnTo>
                  <a:lnTo>
                    <a:pt x="853" y="6687"/>
                  </a:lnTo>
                  <a:lnTo>
                    <a:pt x="841" y="6710"/>
                  </a:lnTo>
                  <a:lnTo>
                    <a:pt x="853" y="6732"/>
                  </a:lnTo>
                  <a:lnTo>
                    <a:pt x="867" y="6754"/>
                  </a:lnTo>
                  <a:lnTo>
                    <a:pt x="870" y="6777"/>
                  </a:lnTo>
                  <a:lnTo>
                    <a:pt x="913" y="6799"/>
                  </a:lnTo>
                  <a:lnTo>
                    <a:pt x="897" y="6821"/>
                  </a:lnTo>
                  <a:lnTo>
                    <a:pt x="813" y="6844"/>
                  </a:lnTo>
                  <a:lnTo>
                    <a:pt x="749" y="6866"/>
                  </a:lnTo>
                  <a:lnTo>
                    <a:pt x="679" y="6888"/>
                  </a:lnTo>
                  <a:lnTo>
                    <a:pt x="564" y="6910"/>
                  </a:lnTo>
                  <a:lnTo>
                    <a:pt x="519" y="6933"/>
                  </a:lnTo>
                  <a:lnTo>
                    <a:pt x="460" y="6955"/>
                  </a:lnTo>
                  <a:lnTo>
                    <a:pt x="403" y="6977"/>
                  </a:lnTo>
                  <a:lnTo>
                    <a:pt x="338" y="7000"/>
                  </a:lnTo>
                  <a:lnTo>
                    <a:pt x="323" y="7022"/>
                  </a:lnTo>
                  <a:lnTo>
                    <a:pt x="317" y="7044"/>
                  </a:lnTo>
                  <a:lnTo>
                    <a:pt x="298" y="7066"/>
                  </a:lnTo>
                  <a:lnTo>
                    <a:pt x="288" y="7089"/>
                  </a:lnTo>
                  <a:lnTo>
                    <a:pt x="294" y="7111"/>
                  </a:lnTo>
                  <a:lnTo>
                    <a:pt x="292" y="7133"/>
                  </a:lnTo>
                  <a:lnTo>
                    <a:pt x="294" y="7156"/>
                  </a:lnTo>
                  <a:lnTo>
                    <a:pt x="303" y="7178"/>
                  </a:lnTo>
                  <a:lnTo>
                    <a:pt x="303" y="7200"/>
                  </a:lnTo>
                  <a:lnTo>
                    <a:pt x="301" y="7223"/>
                  </a:ln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Freeform 90"/>
            <p:cNvSpPr/>
            <p:nvPr/>
          </p:nvSpPr>
          <p:spPr>
            <a:xfrm>
              <a:off x="2622600" y="1838160"/>
              <a:ext cx="108000" cy="4816800"/>
            </a:xfrm>
            <a:custGeom>
              <a:avLst/>
              <a:gdLst>
                <a:gd name="textAreaLeft" fmla="*/ 0 w 108000"/>
                <a:gd name="textAreaRight" fmla="*/ 108360 w 108000"/>
                <a:gd name="textAreaTop" fmla="*/ 0 h 4816800"/>
                <a:gd name="textAreaBottom" fmla="*/ 4817160 h 4816800"/>
              </a:gdLst>
              <a:ahLst/>
              <a:rect l="textAreaLeft" t="textAreaTop" r="textAreaRight" b="textAreaBottom"/>
              <a:pathLst>
                <a:path w="141" h="7223">
                  <a:moveTo>
                    <a:pt x="116" y="0"/>
                  </a:moveTo>
                  <a:lnTo>
                    <a:pt x="111" y="22"/>
                  </a:lnTo>
                  <a:lnTo>
                    <a:pt x="108" y="44"/>
                  </a:lnTo>
                  <a:lnTo>
                    <a:pt x="108" y="67"/>
                  </a:lnTo>
                  <a:lnTo>
                    <a:pt x="108" y="89"/>
                  </a:lnTo>
                  <a:lnTo>
                    <a:pt x="107" y="111"/>
                  </a:lnTo>
                  <a:lnTo>
                    <a:pt x="108" y="133"/>
                  </a:lnTo>
                  <a:lnTo>
                    <a:pt x="107" y="156"/>
                  </a:lnTo>
                  <a:lnTo>
                    <a:pt x="116" y="178"/>
                  </a:lnTo>
                  <a:lnTo>
                    <a:pt x="120" y="200"/>
                  </a:lnTo>
                  <a:lnTo>
                    <a:pt x="120" y="223"/>
                  </a:lnTo>
                  <a:lnTo>
                    <a:pt x="120" y="245"/>
                  </a:lnTo>
                  <a:lnTo>
                    <a:pt x="120" y="267"/>
                  </a:lnTo>
                  <a:lnTo>
                    <a:pt x="120" y="290"/>
                  </a:lnTo>
                  <a:lnTo>
                    <a:pt x="120" y="312"/>
                  </a:lnTo>
                  <a:lnTo>
                    <a:pt x="123" y="334"/>
                  </a:lnTo>
                  <a:lnTo>
                    <a:pt x="124" y="356"/>
                  </a:lnTo>
                  <a:lnTo>
                    <a:pt x="124" y="379"/>
                  </a:lnTo>
                  <a:lnTo>
                    <a:pt x="124" y="401"/>
                  </a:lnTo>
                  <a:lnTo>
                    <a:pt x="127" y="423"/>
                  </a:lnTo>
                  <a:lnTo>
                    <a:pt x="127" y="446"/>
                  </a:lnTo>
                  <a:lnTo>
                    <a:pt x="127" y="468"/>
                  </a:lnTo>
                  <a:lnTo>
                    <a:pt x="127" y="490"/>
                  </a:lnTo>
                  <a:lnTo>
                    <a:pt x="129" y="512"/>
                  </a:lnTo>
                  <a:lnTo>
                    <a:pt x="129" y="535"/>
                  </a:lnTo>
                  <a:lnTo>
                    <a:pt x="132" y="557"/>
                  </a:lnTo>
                  <a:lnTo>
                    <a:pt x="132" y="579"/>
                  </a:lnTo>
                  <a:lnTo>
                    <a:pt x="132" y="602"/>
                  </a:lnTo>
                  <a:lnTo>
                    <a:pt x="132" y="624"/>
                  </a:lnTo>
                  <a:lnTo>
                    <a:pt x="132" y="646"/>
                  </a:lnTo>
                  <a:lnTo>
                    <a:pt x="132" y="669"/>
                  </a:lnTo>
                  <a:lnTo>
                    <a:pt x="132" y="691"/>
                  </a:lnTo>
                  <a:lnTo>
                    <a:pt x="132" y="713"/>
                  </a:lnTo>
                  <a:lnTo>
                    <a:pt x="132" y="735"/>
                  </a:lnTo>
                  <a:lnTo>
                    <a:pt x="136" y="758"/>
                  </a:lnTo>
                  <a:lnTo>
                    <a:pt x="136" y="780"/>
                  </a:lnTo>
                  <a:lnTo>
                    <a:pt x="136" y="802"/>
                  </a:lnTo>
                  <a:lnTo>
                    <a:pt x="136" y="825"/>
                  </a:lnTo>
                  <a:lnTo>
                    <a:pt x="136" y="847"/>
                  </a:lnTo>
                  <a:lnTo>
                    <a:pt x="136" y="869"/>
                  </a:lnTo>
                  <a:lnTo>
                    <a:pt x="136" y="891"/>
                  </a:lnTo>
                  <a:lnTo>
                    <a:pt x="136" y="914"/>
                  </a:lnTo>
                  <a:lnTo>
                    <a:pt x="136" y="936"/>
                  </a:lnTo>
                  <a:lnTo>
                    <a:pt x="133" y="958"/>
                  </a:lnTo>
                  <a:lnTo>
                    <a:pt x="135" y="981"/>
                  </a:lnTo>
                  <a:lnTo>
                    <a:pt x="132" y="1003"/>
                  </a:lnTo>
                  <a:lnTo>
                    <a:pt x="132" y="1025"/>
                  </a:lnTo>
                  <a:lnTo>
                    <a:pt x="132" y="1047"/>
                  </a:lnTo>
                  <a:lnTo>
                    <a:pt x="132" y="1070"/>
                  </a:lnTo>
                  <a:lnTo>
                    <a:pt x="132" y="1092"/>
                  </a:lnTo>
                  <a:lnTo>
                    <a:pt x="132" y="1114"/>
                  </a:lnTo>
                  <a:lnTo>
                    <a:pt x="132" y="1137"/>
                  </a:lnTo>
                  <a:lnTo>
                    <a:pt x="132" y="1159"/>
                  </a:lnTo>
                  <a:lnTo>
                    <a:pt x="133" y="1181"/>
                  </a:lnTo>
                  <a:lnTo>
                    <a:pt x="135" y="1204"/>
                  </a:lnTo>
                  <a:lnTo>
                    <a:pt x="141" y="1226"/>
                  </a:lnTo>
                  <a:lnTo>
                    <a:pt x="141" y="1248"/>
                  </a:lnTo>
                  <a:lnTo>
                    <a:pt x="136" y="1270"/>
                  </a:lnTo>
                  <a:lnTo>
                    <a:pt x="132" y="1293"/>
                  </a:lnTo>
                  <a:lnTo>
                    <a:pt x="132" y="1315"/>
                  </a:lnTo>
                  <a:lnTo>
                    <a:pt x="132" y="1337"/>
                  </a:lnTo>
                  <a:lnTo>
                    <a:pt x="133" y="1360"/>
                  </a:lnTo>
                  <a:lnTo>
                    <a:pt x="127" y="1382"/>
                  </a:lnTo>
                  <a:lnTo>
                    <a:pt x="124" y="1404"/>
                  </a:lnTo>
                  <a:lnTo>
                    <a:pt x="123" y="1426"/>
                  </a:lnTo>
                  <a:lnTo>
                    <a:pt x="121" y="1449"/>
                  </a:lnTo>
                  <a:lnTo>
                    <a:pt x="116" y="1471"/>
                  </a:lnTo>
                  <a:lnTo>
                    <a:pt x="111" y="1493"/>
                  </a:lnTo>
                  <a:lnTo>
                    <a:pt x="111" y="1516"/>
                  </a:lnTo>
                  <a:lnTo>
                    <a:pt x="113" y="1538"/>
                  </a:lnTo>
                  <a:lnTo>
                    <a:pt x="107" y="1560"/>
                  </a:lnTo>
                  <a:lnTo>
                    <a:pt x="104" y="1583"/>
                  </a:lnTo>
                  <a:lnTo>
                    <a:pt x="104" y="1605"/>
                  </a:lnTo>
                  <a:lnTo>
                    <a:pt x="108" y="1627"/>
                  </a:lnTo>
                  <a:lnTo>
                    <a:pt x="108" y="1649"/>
                  </a:lnTo>
                  <a:lnTo>
                    <a:pt x="104" y="1672"/>
                  </a:lnTo>
                  <a:lnTo>
                    <a:pt x="99" y="1694"/>
                  </a:lnTo>
                  <a:lnTo>
                    <a:pt x="99" y="1716"/>
                  </a:lnTo>
                  <a:lnTo>
                    <a:pt x="99" y="1739"/>
                  </a:lnTo>
                  <a:lnTo>
                    <a:pt x="99" y="1761"/>
                  </a:lnTo>
                  <a:lnTo>
                    <a:pt x="96" y="1783"/>
                  </a:lnTo>
                  <a:lnTo>
                    <a:pt x="92" y="1805"/>
                  </a:lnTo>
                  <a:lnTo>
                    <a:pt x="87" y="1828"/>
                  </a:lnTo>
                  <a:lnTo>
                    <a:pt x="81" y="1850"/>
                  </a:lnTo>
                  <a:lnTo>
                    <a:pt x="83" y="1872"/>
                  </a:lnTo>
                  <a:lnTo>
                    <a:pt x="83" y="1895"/>
                  </a:lnTo>
                  <a:lnTo>
                    <a:pt x="81" y="1917"/>
                  </a:lnTo>
                  <a:lnTo>
                    <a:pt x="78" y="1939"/>
                  </a:lnTo>
                  <a:lnTo>
                    <a:pt x="71" y="1961"/>
                  </a:lnTo>
                  <a:lnTo>
                    <a:pt x="67" y="1984"/>
                  </a:lnTo>
                  <a:lnTo>
                    <a:pt x="52" y="2006"/>
                  </a:lnTo>
                  <a:lnTo>
                    <a:pt x="41" y="2028"/>
                  </a:lnTo>
                  <a:lnTo>
                    <a:pt x="41" y="2051"/>
                  </a:lnTo>
                  <a:lnTo>
                    <a:pt x="28" y="2073"/>
                  </a:lnTo>
                  <a:lnTo>
                    <a:pt x="25" y="2095"/>
                  </a:lnTo>
                  <a:lnTo>
                    <a:pt x="25" y="2118"/>
                  </a:lnTo>
                  <a:lnTo>
                    <a:pt x="30" y="2140"/>
                  </a:lnTo>
                  <a:lnTo>
                    <a:pt x="32" y="2162"/>
                  </a:lnTo>
                  <a:lnTo>
                    <a:pt x="32" y="2184"/>
                  </a:lnTo>
                  <a:lnTo>
                    <a:pt x="32" y="2207"/>
                  </a:lnTo>
                  <a:lnTo>
                    <a:pt x="32" y="2229"/>
                  </a:lnTo>
                  <a:lnTo>
                    <a:pt x="35" y="2251"/>
                  </a:lnTo>
                  <a:lnTo>
                    <a:pt x="32" y="2274"/>
                  </a:lnTo>
                  <a:lnTo>
                    <a:pt x="37" y="2296"/>
                  </a:lnTo>
                  <a:lnTo>
                    <a:pt x="37" y="2318"/>
                  </a:lnTo>
                  <a:lnTo>
                    <a:pt x="37" y="2340"/>
                  </a:lnTo>
                  <a:lnTo>
                    <a:pt x="37" y="2363"/>
                  </a:lnTo>
                  <a:lnTo>
                    <a:pt x="37" y="2385"/>
                  </a:lnTo>
                  <a:lnTo>
                    <a:pt x="34" y="2407"/>
                  </a:lnTo>
                  <a:lnTo>
                    <a:pt x="34" y="2430"/>
                  </a:lnTo>
                  <a:lnTo>
                    <a:pt x="34" y="2452"/>
                  </a:lnTo>
                  <a:lnTo>
                    <a:pt x="32" y="2474"/>
                  </a:lnTo>
                  <a:lnTo>
                    <a:pt x="32" y="2496"/>
                  </a:lnTo>
                  <a:lnTo>
                    <a:pt x="32" y="2519"/>
                  </a:lnTo>
                  <a:lnTo>
                    <a:pt x="32" y="2541"/>
                  </a:lnTo>
                  <a:lnTo>
                    <a:pt x="35" y="2563"/>
                  </a:lnTo>
                  <a:lnTo>
                    <a:pt x="41" y="2586"/>
                  </a:lnTo>
                  <a:lnTo>
                    <a:pt x="41" y="2608"/>
                  </a:lnTo>
                  <a:lnTo>
                    <a:pt x="47" y="2630"/>
                  </a:lnTo>
                  <a:lnTo>
                    <a:pt x="59" y="2653"/>
                  </a:lnTo>
                  <a:lnTo>
                    <a:pt x="70" y="2675"/>
                  </a:lnTo>
                  <a:lnTo>
                    <a:pt x="74" y="2697"/>
                  </a:lnTo>
                  <a:lnTo>
                    <a:pt x="74" y="2719"/>
                  </a:lnTo>
                  <a:lnTo>
                    <a:pt x="74" y="2742"/>
                  </a:lnTo>
                  <a:lnTo>
                    <a:pt x="74" y="2764"/>
                  </a:lnTo>
                  <a:lnTo>
                    <a:pt x="74" y="2786"/>
                  </a:lnTo>
                  <a:lnTo>
                    <a:pt x="74" y="2809"/>
                  </a:lnTo>
                  <a:lnTo>
                    <a:pt x="74" y="2831"/>
                  </a:lnTo>
                  <a:lnTo>
                    <a:pt x="74" y="2853"/>
                  </a:lnTo>
                  <a:lnTo>
                    <a:pt x="75" y="2875"/>
                  </a:lnTo>
                  <a:lnTo>
                    <a:pt x="78" y="2898"/>
                  </a:lnTo>
                  <a:lnTo>
                    <a:pt x="75" y="2920"/>
                  </a:lnTo>
                  <a:lnTo>
                    <a:pt x="74" y="2942"/>
                  </a:lnTo>
                  <a:lnTo>
                    <a:pt x="74" y="2965"/>
                  </a:lnTo>
                  <a:lnTo>
                    <a:pt x="74" y="2987"/>
                  </a:lnTo>
                  <a:lnTo>
                    <a:pt x="74" y="3009"/>
                  </a:lnTo>
                  <a:lnTo>
                    <a:pt x="74" y="3032"/>
                  </a:lnTo>
                  <a:lnTo>
                    <a:pt x="74" y="3054"/>
                  </a:lnTo>
                  <a:lnTo>
                    <a:pt x="70" y="3076"/>
                  </a:lnTo>
                  <a:lnTo>
                    <a:pt x="71" y="3098"/>
                  </a:lnTo>
                  <a:lnTo>
                    <a:pt x="65" y="3121"/>
                  </a:lnTo>
                  <a:lnTo>
                    <a:pt x="59" y="3143"/>
                  </a:lnTo>
                  <a:lnTo>
                    <a:pt x="58" y="3165"/>
                  </a:lnTo>
                  <a:lnTo>
                    <a:pt x="53" y="3188"/>
                  </a:lnTo>
                  <a:lnTo>
                    <a:pt x="46" y="3210"/>
                  </a:lnTo>
                  <a:lnTo>
                    <a:pt x="41" y="3232"/>
                  </a:lnTo>
                  <a:lnTo>
                    <a:pt x="38" y="3254"/>
                  </a:lnTo>
                  <a:lnTo>
                    <a:pt x="30" y="3277"/>
                  </a:lnTo>
                  <a:lnTo>
                    <a:pt x="32" y="3299"/>
                  </a:lnTo>
                  <a:lnTo>
                    <a:pt x="30" y="3321"/>
                  </a:lnTo>
                  <a:lnTo>
                    <a:pt x="28" y="3344"/>
                  </a:lnTo>
                  <a:lnTo>
                    <a:pt x="25" y="3366"/>
                  </a:lnTo>
                  <a:lnTo>
                    <a:pt x="25" y="3388"/>
                  </a:lnTo>
                  <a:lnTo>
                    <a:pt x="21" y="3410"/>
                  </a:lnTo>
                  <a:lnTo>
                    <a:pt x="21" y="3433"/>
                  </a:lnTo>
                  <a:lnTo>
                    <a:pt x="24" y="3455"/>
                  </a:lnTo>
                  <a:lnTo>
                    <a:pt x="34" y="3477"/>
                  </a:lnTo>
                  <a:lnTo>
                    <a:pt x="32" y="3500"/>
                  </a:lnTo>
                  <a:lnTo>
                    <a:pt x="37" y="3522"/>
                  </a:lnTo>
                  <a:lnTo>
                    <a:pt x="37" y="3544"/>
                  </a:lnTo>
                  <a:lnTo>
                    <a:pt x="37" y="3567"/>
                  </a:lnTo>
                  <a:lnTo>
                    <a:pt x="32" y="3589"/>
                  </a:lnTo>
                  <a:lnTo>
                    <a:pt x="30" y="3611"/>
                  </a:lnTo>
                  <a:lnTo>
                    <a:pt x="30" y="3633"/>
                  </a:lnTo>
                  <a:lnTo>
                    <a:pt x="31" y="3656"/>
                  </a:lnTo>
                  <a:lnTo>
                    <a:pt x="44" y="3678"/>
                  </a:lnTo>
                  <a:lnTo>
                    <a:pt x="46" y="3700"/>
                  </a:lnTo>
                  <a:lnTo>
                    <a:pt x="46" y="3723"/>
                  </a:lnTo>
                  <a:lnTo>
                    <a:pt x="50" y="3745"/>
                  </a:lnTo>
                  <a:lnTo>
                    <a:pt x="27" y="3767"/>
                  </a:lnTo>
                  <a:lnTo>
                    <a:pt x="24" y="3789"/>
                  </a:lnTo>
                  <a:lnTo>
                    <a:pt x="50" y="3812"/>
                  </a:lnTo>
                  <a:lnTo>
                    <a:pt x="59" y="3834"/>
                  </a:lnTo>
                  <a:lnTo>
                    <a:pt x="61" y="3856"/>
                  </a:lnTo>
                  <a:lnTo>
                    <a:pt x="67" y="3879"/>
                  </a:lnTo>
                  <a:lnTo>
                    <a:pt x="67" y="3901"/>
                  </a:lnTo>
                  <a:lnTo>
                    <a:pt x="67" y="3923"/>
                  </a:lnTo>
                  <a:lnTo>
                    <a:pt x="64" y="3946"/>
                  </a:lnTo>
                  <a:lnTo>
                    <a:pt x="58" y="3968"/>
                  </a:lnTo>
                  <a:lnTo>
                    <a:pt x="55" y="3990"/>
                  </a:lnTo>
                  <a:lnTo>
                    <a:pt x="50" y="4012"/>
                  </a:lnTo>
                  <a:lnTo>
                    <a:pt x="44" y="4035"/>
                  </a:lnTo>
                  <a:lnTo>
                    <a:pt x="46" y="4057"/>
                  </a:lnTo>
                  <a:lnTo>
                    <a:pt x="53" y="4079"/>
                  </a:lnTo>
                  <a:lnTo>
                    <a:pt x="62" y="4102"/>
                  </a:lnTo>
                  <a:lnTo>
                    <a:pt x="62" y="4124"/>
                  </a:lnTo>
                  <a:lnTo>
                    <a:pt x="62" y="4146"/>
                  </a:lnTo>
                  <a:lnTo>
                    <a:pt x="62" y="4168"/>
                  </a:lnTo>
                  <a:lnTo>
                    <a:pt x="62" y="4191"/>
                  </a:lnTo>
                  <a:lnTo>
                    <a:pt x="62" y="4213"/>
                  </a:lnTo>
                  <a:lnTo>
                    <a:pt x="53" y="4235"/>
                  </a:lnTo>
                  <a:lnTo>
                    <a:pt x="50" y="4258"/>
                  </a:lnTo>
                  <a:lnTo>
                    <a:pt x="46" y="4280"/>
                  </a:lnTo>
                  <a:lnTo>
                    <a:pt x="43" y="4302"/>
                  </a:lnTo>
                  <a:lnTo>
                    <a:pt x="32" y="4324"/>
                  </a:lnTo>
                  <a:lnTo>
                    <a:pt x="25" y="4347"/>
                  </a:lnTo>
                  <a:lnTo>
                    <a:pt x="25" y="4369"/>
                  </a:lnTo>
                  <a:lnTo>
                    <a:pt x="25" y="4391"/>
                  </a:lnTo>
                  <a:lnTo>
                    <a:pt x="25" y="4414"/>
                  </a:lnTo>
                  <a:lnTo>
                    <a:pt x="25" y="4436"/>
                  </a:lnTo>
                  <a:lnTo>
                    <a:pt x="21" y="4458"/>
                  </a:lnTo>
                  <a:lnTo>
                    <a:pt x="9" y="4481"/>
                  </a:lnTo>
                  <a:lnTo>
                    <a:pt x="12" y="4503"/>
                  </a:lnTo>
                  <a:lnTo>
                    <a:pt x="16" y="4525"/>
                  </a:lnTo>
                  <a:lnTo>
                    <a:pt x="16" y="4547"/>
                  </a:lnTo>
                  <a:lnTo>
                    <a:pt x="9" y="4570"/>
                  </a:lnTo>
                  <a:lnTo>
                    <a:pt x="9" y="4592"/>
                  </a:lnTo>
                  <a:lnTo>
                    <a:pt x="7" y="4614"/>
                  </a:lnTo>
                  <a:lnTo>
                    <a:pt x="19" y="4637"/>
                  </a:lnTo>
                  <a:lnTo>
                    <a:pt x="25" y="4659"/>
                  </a:lnTo>
                  <a:lnTo>
                    <a:pt x="25" y="4681"/>
                  </a:lnTo>
                  <a:lnTo>
                    <a:pt x="10" y="4703"/>
                  </a:lnTo>
                  <a:lnTo>
                    <a:pt x="0" y="4726"/>
                  </a:lnTo>
                  <a:lnTo>
                    <a:pt x="0" y="4748"/>
                  </a:lnTo>
                  <a:lnTo>
                    <a:pt x="1" y="4770"/>
                  </a:lnTo>
                  <a:lnTo>
                    <a:pt x="13" y="4793"/>
                  </a:lnTo>
                  <a:lnTo>
                    <a:pt x="16" y="4815"/>
                  </a:lnTo>
                  <a:lnTo>
                    <a:pt x="21" y="4837"/>
                  </a:lnTo>
                  <a:lnTo>
                    <a:pt x="21" y="4860"/>
                  </a:lnTo>
                  <a:lnTo>
                    <a:pt x="22" y="4882"/>
                  </a:lnTo>
                  <a:lnTo>
                    <a:pt x="34" y="4904"/>
                  </a:lnTo>
                  <a:lnTo>
                    <a:pt x="46" y="4926"/>
                  </a:lnTo>
                  <a:lnTo>
                    <a:pt x="24" y="4949"/>
                  </a:lnTo>
                  <a:lnTo>
                    <a:pt x="9" y="4971"/>
                  </a:lnTo>
                  <a:lnTo>
                    <a:pt x="21" y="4993"/>
                  </a:lnTo>
                  <a:lnTo>
                    <a:pt x="30" y="5016"/>
                  </a:lnTo>
                  <a:lnTo>
                    <a:pt x="30" y="5038"/>
                  </a:lnTo>
                  <a:lnTo>
                    <a:pt x="30" y="5060"/>
                  </a:lnTo>
                  <a:lnTo>
                    <a:pt x="37" y="5082"/>
                  </a:lnTo>
                  <a:lnTo>
                    <a:pt x="46" y="5105"/>
                  </a:lnTo>
                  <a:lnTo>
                    <a:pt x="49" y="5127"/>
                  </a:lnTo>
                  <a:lnTo>
                    <a:pt x="50" y="5149"/>
                  </a:lnTo>
                  <a:lnTo>
                    <a:pt x="53" y="5172"/>
                  </a:lnTo>
                  <a:lnTo>
                    <a:pt x="64" y="5194"/>
                  </a:lnTo>
                  <a:lnTo>
                    <a:pt x="73" y="5216"/>
                  </a:lnTo>
                  <a:lnTo>
                    <a:pt x="81" y="5238"/>
                  </a:lnTo>
                  <a:lnTo>
                    <a:pt x="87" y="5261"/>
                  </a:lnTo>
                  <a:lnTo>
                    <a:pt x="87" y="5283"/>
                  </a:lnTo>
                  <a:lnTo>
                    <a:pt x="86" y="5305"/>
                  </a:lnTo>
                  <a:lnTo>
                    <a:pt x="92" y="5328"/>
                  </a:lnTo>
                  <a:lnTo>
                    <a:pt x="96" y="5350"/>
                  </a:lnTo>
                  <a:lnTo>
                    <a:pt x="95" y="5372"/>
                  </a:lnTo>
                  <a:lnTo>
                    <a:pt x="95" y="5395"/>
                  </a:lnTo>
                  <a:lnTo>
                    <a:pt x="99" y="5417"/>
                  </a:lnTo>
                  <a:lnTo>
                    <a:pt x="111" y="5439"/>
                  </a:lnTo>
                  <a:lnTo>
                    <a:pt x="111" y="5461"/>
                  </a:lnTo>
                  <a:lnTo>
                    <a:pt x="111" y="5484"/>
                  </a:lnTo>
                  <a:lnTo>
                    <a:pt x="111" y="5506"/>
                  </a:lnTo>
                  <a:lnTo>
                    <a:pt x="111" y="5528"/>
                  </a:lnTo>
                  <a:lnTo>
                    <a:pt x="111" y="5551"/>
                  </a:lnTo>
                  <a:lnTo>
                    <a:pt x="111" y="5573"/>
                  </a:lnTo>
                  <a:lnTo>
                    <a:pt x="111" y="5595"/>
                  </a:lnTo>
                  <a:lnTo>
                    <a:pt x="111" y="5617"/>
                  </a:lnTo>
                  <a:lnTo>
                    <a:pt x="113" y="5640"/>
                  </a:lnTo>
                  <a:lnTo>
                    <a:pt x="120" y="5662"/>
                  </a:lnTo>
                  <a:lnTo>
                    <a:pt x="120" y="5684"/>
                  </a:lnTo>
                  <a:lnTo>
                    <a:pt x="120" y="5707"/>
                  </a:lnTo>
                  <a:lnTo>
                    <a:pt x="120" y="5729"/>
                  </a:lnTo>
                  <a:lnTo>
                    <a:pt x="120" y="5751"/>
                  </a:lnTo>
                  <a:lnTo>
                    <a:pt x="123" y="5773"/>
                  </a:lnTo>
                  <a:lnTo>
                    <a:pt x="124" y="5796"/>
                  </a:lnTo>
                  <a:lnTo>
                    <a:pt x="124" y="5818"/>
                  </a:lnTo>
                  <a:lnTo>
                    <a:pt x="124" y="5840"/>
                  </a:lnTo>
                  <a:lnTo>
                    <a:pt x="124" y="5863"/>
                  </a:lnTo>
                  <a:lnTo>
                    <a:pt x="124" y="5885"/>
                  </a:lnTo>
                  <a:lnTo>
                    <a:pt x="124" y="5907"/>
                  </a:lnTo>
                  <a:lnTo>
                    <a:pt x="124" y="5930"/>
                  </a:lnTo>
                  <a:lnTo>
                    <a:pt x="124" y="5952"/>
                  </a:lnTo>
                  <a:lnTo>
                    <a:pt x="124" y="5974"/>
                  </a:lnTo>
                  <a:lnTo>
                    <a:pt x="124" y="5996"/>
                  </a:lnTo>
                  <a:lnTo>
                    <a:pt x="123" y="6019"/>
                  </a:lnTo>
                  <a:lnTo>
                    <a:pt x="129" y="6041"/>
                  </a:lnTo>
                  <a:lnTo>
                    <a:pt x="129" y="6063"/>
                  </a:lnTo>
                  <a:lnTo>
                    <a:pt x="129" y="6086"/>
                  </a:lnTo>
                  <a:lnTo>
                    <a:pt x="127" y="6108"/>
                  </a:lnTo>
                  <a:lnTo>
                    <a:pt x="129" y="6130"/>
                  </a:lnTo>
                  <a:lnTo>
                    <a:pt x="129" y="6152"/>
                  </a:lnTo>
                  <a:lnTo>
                    <a:pt x="129" y="6175"/>
                  </a:lnTo>
                  <a:lnTo>
                    <a:pt x="123" y="6197"/>
                  </a:lnTo>
                  <a:lnTo>
                    <a:pt x="120" y="6219"/>
                  </a:lnTo>
                  <a:lnTo>
                    <a:pt x="116" y="6242"/>
                  </a:lnTo>
                  <a:lnTo>
                    <a:pt x="111" y="6264"/>
                  </a:lnTo>
                  <a:lnTo>
                    <a:pt x="116" y="6286"/>
                  </a:lnTo>
                  <a:lnTo>
                    <a:pt x="116" y="6309"/>
                  </a:lnTo>
                  <a:lnTo>
                    <a:pt x="116" y="6331"/>
                  </a:lnTo>
                  <a:lnTo>
                    <a:pt x="116" y="6353"/>
                  </a:lnTo>
                  <a:lnTo>
                    <a:pt x="116" y="6375"/>
                  </a:lnTo>
                  <a:lnTo>
                    <a:pt x="111" y="6398"/>
                  </a:lnTo>
                  <a:lnTo>
                    <a:pt x="108" y="6420"/>
                  </a:lnTo>
                  <a:lnTo>
                    <a:pt x="108" y="6442"/>
                  </a:lnTo>
                  <a:lnTo>
                    <a:pt x="108" y="6465"/>
                  </a:lnTo>
                  <a:lnTo>
                    <a:pt x="108" y="6487"/>
                  </a:lnTo>
                  <a:lnTo>
                    <a:pt x="108" y="6509"/>
                  </a:lnTo>
                  <a:lnTo>
                    <a:pt x="107" y="6531"/>
                  </a:lnTo>
                  <a:lnTo>
                    <a:pt x="105" y="6554"/>
                  </a:lnTo>
                  <a:lnTo>
                    <a:pt x="98" y="6576"/>
                  </a:lnTo>
                  <a:lnTo>
                    <a:pt x="92" y="6598"/>
                  </a:lnTo>
                  <a:lnTo>
                    <a:pt x="87" y="6621"/>
                  </a:lnTo>
                  <a:lnTo>
                    <a:pt x="87" y="6643"/>
                  </a:lnTo>
                  <a:lnTo>
                    <a:pt x="87" y="6665"/>
                  </a:lnTo>
                  <a:lnTo>
                    <a:pt x="87" y="6687"/>
                  </a:lnTo>
                  <a:lnTo>
                    <a:pt x="87" y="6710"/>
                  </a:lnTo>
                  <a:lnTo>
                    <a:pt x="87" y="6732"/>
                  </a:lnTo>
                  <a:lnTo>
                    <a:pt x="86" y="6754"/>
                  </a:lnTo>
                  <a:lnTo>
                    <a:pt x="83" y="6777"/>
                  </a:lnTo>
                  <a:lnTo>
                    <a:pt x="78" y="6799"/>
                  </a:lnTo>
                  <a:lnTo>
                    <a:pt x="78" y="6821"/>
                  </a:lnTo>
                  <a:lnTo>
                    <a:pt x="78" y="6844"/>
                  </a:lnTo>
                  <a:lnTo>
                    <a:pt x="78" y="6866"/>
                  </a:lnTo>
                  <a:lnTo>
                    <a:pt x="78" y="6888"/>
                  </a:lnTo>
                  <a:lnTo>
                    <a:pt x="75" y="6910"/>
                  </a:lnTo>
                  <a:lnTo>
                    <a:pt x="71" y="6933"/>
                  </a:lnTo>
                  <a:lnTo>
                    <a:pt x="70" y="6955"/>
                  </a:lnTo>
                  <a:lnTo>
                    <a:pt x="70" y="6977"/>
                  </a:lnTo>
                  <a:lnTo>
                    <a:pt x="67" y="7000"/>
                  </a:lnTo>
                  <a:lnTo>
                    <a:pt x="62" y="7022"/>
                  </a:lnTo>
                  <a:lnTo>
                    <a:pt x="59" y="7044"/>
                  </a:lnTo>
                  <a:lnTo>
                    <a:pt x="58" y="7066"/>
                  </a:lnTo>
                  <a:lnTo>
                    <a:pt x="59" y="7089"/>
                  </a:lnTo>
                  <a:lnTo>
                    <a:pt x="59" y="7111"/>
                  </a:lnTo>
                  <a:lnTo>
                    <a:pt x="50" y="7133"/>
                  </a:lnTo>
                  <a:lnTo>
                    <a:pt x="46" y="7156"/>
                  </a:lnTo>
                  <a:lnTo>
                    <a:pt x="44" y="7178"/>
                  </a:lnTo>
                  <a:lnTo>
                    <a:pt x="41" y="7200"/>
                  </a:lnTo>
                  <a:lnTo>
                    <a:pt x="41" y="7223"/>
                  </a:lnTo>
                </a:path>
              </a:pathLst>
            </a:custGeom>
            <a:noFill/>
            <a:ln w="38160">
              <a:solidFill>
                <a:srgbClr val="cc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Freeform 91"/>
            <p:cNvSpPr/>
            <p:nvPr/>
          </p:nvSpPr>
          <p:spPr>
            <a:xfrm>
              <a:off x="5351400" y="1838160"/>
              <a:ext cx="1166760" cy="4816800"/>
            </a:xfrm>
            <a:custGeom>
              <a:avLst/>
              <a:gdLst>
                <a:gd name="textAreaLeft" fmla="*/ 0 w 1166760"/>
                <a:gd name="textAreaRight" fmla="*/ 1167120 w 1166760"/>
                <a:gd name="textAreaTop" fmla="*/ 0 h 4816800"/>
                <a:gd name="textAreaBottom" fmla="*/ 4817160 h 4816800"/>
              </a:gdLst>
              <a:ahLst/>
              <a:rect l="textAreaLeft" t="textAreaTop" r="textAreaRight" b="textAreaBottom"/>
              <a:pathLst>
                <a:path w="1552" h="7223">
                  <a:moveTo>
                    <a:pt x="539" y="0"/>
                  </a:moveTo>
                  <a:lnTo>
                    <a:pt x="539" y="22"/>
                  </a:lnTo>
                  <a:lnTo>
                    <a:pt x="536" y="44"/>
                  </a:lnTo>
                  <a:lnTo>
                    <a:pt x="523" y="67"/>
                  </a:lnTo>
                  <a:lnTo>
                    <a:pt x="507" y="89"/>
                  </a:lnTo>
                  <a:lnTo>
                    <a:pt x="484" y="111"/>
                  </a:lnTo>
                  <a:lnTo>
                    <a:pt x="452" y="133"/>
                  </a:lnTo>
                  <a:lnTo>
                    <a:pt x="427" y="156"/>
                  </a:lnTo>
                  <a:lnTo>
                    <a:pt x="418" y="178"/>
                  </a:lnTo>
                  <a:lnTo>
                    <a:pt x="434" y="200"/>
                  </a:lnTo>
                  <a:lnTo>
                    <a:pt x="447" y="223"/>
                  </a:lnTo>
                  <a:lnTo>
                    <a:pt x="473" y="245"/>
                  </a:lnTo>
                  <a:lnTo>
                    <a:pt x="489" y="267"/>
                  </a:lnTo>
                  <a:lnTo>
                    <a:pt x="516" y="290"/>
                  </a:lnTo>
                  <a:lnTo>
                    <a:pt x="533" y="312"/>
                  </a:lnTo>
                  <a:lnTo>
                    <a:pt x="524" y="334"/>
                  </a:lnTo>
                  <a:lnTo>
                    <a:pt x="502" y="356"/>
                  </a:lnTo>
                  <a:lnTo>
                    <a:pt x="452" y="379"/>
                  </a:lnTo>
                  <a:lnTo>
                    <a:pt x="430" y="401"/>
                  </a:lnTo>
                  <a:lnTo>
                    <a:pt x="388" y="423"/>
                  </a:lnTo>
                  <a:lnTo>
                    <a:pt x="333" y="446"/>
                  </a:lnTo>
                  <a:lnTo>
                    <a:pt x="266" y="468"/>
                  </a:lnTo>
                  <a:lnTo>
                    <a:pt x="249" y="490"/>
                  </a:lnTo>
                  <a:lnTo>
                    <a:pt x="237" y="512"/>
                  </a:lnTo>
                  <a:lnTo>
                    <a:pt x="203" y="535"/>
                  </a:lnTo>
                  <a:lnTo>
                    <a:pt x="157" y="557"/>
                  </a:lnTo>
                  <a:lnTo>
                    <a:pt x="134" y="579"/>
                  </a:lnTo>
                  <a:lnTo>
                    <a:pt x="139" y="602"/>
                  </a:lnTo>
                  <a:lnTo>
                    <a:pt x="157" y="624"/>
                  </a:lnTo>
                  <a:lnTo>
                    <a:pt x="198" y="646"/>
                  </a:lnTo>
                  <a:lnTo>
                    <a:pt x="203" y="669"/>
                  </a:lnTo>
                  <a:lnTo>
                    <a:pt x="189" y="691"/>
                  </a:lnTo>
                  <a:lnTo>
                    <a:pt x="149" y="713"/>
                  </a:lnTo>
                  <a:lnTo>
                    <a:pt x="154" y="735"/>
                  </a:lnTo>
                  <a:lnTo>
                    <a:pt x="183" y="758"/>
                  </a:lnTo>
                  <a:lnTo>
                    <a:pt x="204" y="780"/>
                  </a:lnTo>
                  <a:lnTo>
                    <a:pt x="262" y="802"/>
                  </a:lnTo>
                  <a:lnTo>
                    <a:pt x="262" y="825"/>
                  </a:lnTo>
                  <a:lnTo>
                    <a:pt x="244" y="847"/>
                  </a:lnTo>
                  <a:lnTo>
                    <a:pt x="215" y="869"/>
                  </a:lnTo>
                  <a:lnTo>
                    <a:pt x="189" y="891"/>
                  </a:lnTo>
                  <a:lnTo>
                    <a:pt x="160" y="914"/>
                  </a:lnTo>
                  <a:lnTo>
                    <a:pt x="157" y="936"/>
                  </a:lnTo>
                  <a:lnTo>
                    <a:pt x="157" y="958"/>
                  </a:lnTo>
                  <a:lnTo>
                    <a:pt x="198" y="981"/>
                  </a:lnTo>
                  <a:lnTo>
                    <a:pt x="219" y="1003"/>
                  </a:lnTo>
                  <a:lnTo>
                    <a:pt x="249" y="1025"/>
                  </a:lnTo>
                  <a:lnTo>
                    <a:pt x="283" y="1047"/>
                  </a:lnTo>
                  <a:lnTo>
                    <a:pt x="354" y="1070"/>
                  </a:lnTo>
                  <a:lnTo>
                    <a:pt x="388" y="1092"/>
                  </a:lnTo>
                  <a:lnTo>
                    <a:pt x="427" y="1114"/>
                  </a:lnTo>
                  <a:lnTo>
                    <a:pt x="452" y="1137"/>
                  </a:lnTo>
                  <a:lnTo>
                    <a:pt x="544" y="1159"/>
                  </a:lnTo>
                  <a:lnTo>
                    <a:pt x="582" y="1181"/>
                  </a:lnTo>
                  <a:lnTo>
                    <a:pt x="587" y="1204"/>
                  </a:lnTo>
                  <a:lnTo>
                    <a:pt x="573" y="1226"/>
                  </a:lnTo>
                  <a:lnTo>
                    <a:pt x="511" y="1248"/>
                  </a:lnTo>
                  <a:lnTo>
                    <a:pt x="473" y="1270"/>
                  </a:lnTo>
                  <a:lnTo>
                    <a:pt x="447" y="1293"/>
                  </a:lnTo>
                  <a:lnTo>
                    <a:pt x="438" y="1315"/>
                  </a:lnTo>
                  <a:lnTo>
                    <a:pt x="452" y="1337"/>
                  </a:lnTo>
                  <a:lnTo>
                    <a:pt x="468" y="1360"/>
                  </a:lnTo>
                  <a:lnTo>
                    <a:pt x="505" y="1382"/>
                  </a:lnTo>
                  <a:lnTo>
                    <a:pt x="521" y="1404"/>
                  </a:lnTo>
                  <a:lnTo>
                    <a:pt x="618" y="1426"/>
                  </a:lnTo>
                  <a:lnTo>
                    <a:pt x="668" y="1449"/>
                  </a:lnTo>
                  <a:lnTo>
                    <a:pt x="683" y="1471"/>
                  </a:lnTo>
                  <a:lnTo>
                    <a:pt x="687" y="1493"/>
                  </a:lnTo>
                  <a:lnTo>
                    <a:pt x="670" y="1516"/>
                  </a:lnTo>
                  <a:lnTo>
                    <a:pt x="649" y="1538"/>
                  </a:lnTo>
                  <a:lnTo>
                    <a:pt x="652" y="1560"/>
                  </a:lnTo>
                  <a:lnTo>
                    <a:pt x="656" y="1583"/>
                  </a:lnTo>
                  <a:lnTo>
                    <a:pt x="591" y="1605"/>
                  </a:lnTo>
                  <a:lnTo>
                    <a:pt x="544" y="1627"/>
                  </a:lnTo>
                  <a:lnTo>
                    <a:pt x="521" y="1649"/>
                  </a:lnTo>
                  <a:lnTo>
                    <a:pt x="489" y="1672"/>
                  </a:lnTo>
                  <a:lnTo>
                    <a:pt x="443" y="1694"/>
                  </a:lnTo>
                  <a:lnTo>
                    <a:pt x="418" y="1716"/>
                  </a:lnTo>
                  <a:lnTo>
                    <a:pt x="404" y="1739"/>
                  </a:lnTo>
                  <a:lnTo>
                    <a:pt x="400" y="1761"/>
                  </a:lnTo>
                  <a:lnTo>
                    <a:pt x="391" y="1783"/>
                  </a:lnTo>
                  <a:lnTo>
                    <a:pt x="372" y="1805"/>
                  </a:lnTo>
                  <a:lnTo>
                    <a:pt x="375" y="1828"/>
                  </a:lnTo>
                  <a:lnTo>
                    <a:pt x="392" y="1850"/>
                  </a:lnTo>
                  <a:lnTo>
                    <a:pt x="413" y="1872"/>
                  </a:lnTo>
                  <a:lnTo>
                    <a:pt x="430" y="1895"/>
                  </a:lnTo>
                  <a:lnTo>
                    <a:pt x="477" y="1917"/>
                  </a:lnTo>
                  <a:lnTo>
                    <a:pt x="489" y="1939"/>
                  </a:lnTo>
                  <a:lnTo>
                    <a:pt x="529" y="1961"/>
                  </a:lnTo>
                  <a:lnTo>
                    <a:pt x="561" y="1984"/>
                  </a:lnTo>
                  <a:lnTo>
                    <a:pt x="563" y="2006"/>
                  </a:lnTo>
                  <a:lnTo>
                    <a:pt x="542" y="2028"/>
                  </a:lnTo>
                  <a:lnTo>
                    <a:pt x="432" y="2051"/>
                  </a:lnTo>
                  <a:lnTo>
                    <a:pt x="363" y="2073"/>
                  </a:lnTo>
                  <a:lnTo>
                    <a:pt x="332" y="2095"/>
                  </a:lnTo>
                  <a:lnTo>
                    <a:pt x="324" y="2118"/>
                  </a:lnTo>
                  <a:lnTo>
                    <a:pt x="333" y="2140"/>
                  </a:lnTo>
                  <a:lnTo>
                    <a:pt x="367" y="2162"/>
                  </a:lnTo>
                  <a:lnTo>
                    <a:pt x="409" y="2184"/>
                  </a:lnTo>
                  <a:lnTo>
                    <a:pt x="409" y="2207"/>
                  </a:lnTo>
                  <a:lnTo>
                    <a:pt x="358" y="2229"/>
                  </a:lnTo>
                  <a:lnTo>
                    <a:pt x="367" y="2251"/>
                  </a:lnTo>
                  <a:lnTo>
                    <a:pt x="379" y="2274"/>
                  </a:lnTo>
                  <a:lnTo>
                    <a:pt x="404" y="2296"/>
                  </a:lnTo>
                  <a:lnTo>
                    <a:pt x="447" y="2318"/>
                  </a:lnTo>
                  <a:lnTo>
                    <a:pt x="481" y="2340"/>
                  </a:lnTo>
                  <a:lnTo>
                    <a:pt x="468" y="2363"/>
                  </a:lnTo>
                  <a:lnTo>
                    <a:pt x="452" y="2385"/>
                  </a:lnTo>
                  <a:lnTo>
                    <a:pt x="427" y="2407"/>
                  </a:lnTo>
                  <a:lnTo>
                    <a:pt x="427" y="2430"/>
                  </a:lnTo>
                  <a:lnTo>
                    <a:pt x="427" y="2452"/>
                  </a:lnTo>
                  <a:lnTo>
                    <a:pt x="404" y="2474"/>
                  </a:lnTo>
                  <a:lnTo>
                    <a:pt x="427" y="2496"/>
                  </a:lnTo>
                  <a:lnTo>
                    <a:pt x="456" y="2519"/>
                  </a:lnTo>
                  <a:lnTo>
                    <a:pt x="456" y="2541"/>
                  </a:lnTo>
                  <a:lnTo>
                    <a:pt x="459" y="2563"/>
                  </a:lnTo>
                  <a:lnTo>
                    <a:pt x="452" y="2586"/>
                  </a:lnTo>
                  <a:lnTo>
                    <a:pt x="473" y="2608"/>
                  </a:lnTo>
                  <a:lnTo>
                    <a:pt x="518" y="2630"/>
                  </a:lnTo>
                  <a:lnTo>
                    <a:pt x="578" y="2653"/>
                  </a:lnTo>
                  <a:lnTo>
                    <a:pt x="599" y="2675"/>
                  </a:lnTo>
                  <a:lnTo>
                    <a:pt x="616" y="2697"/>
                  </a:lnTo>
                  <a:lnTo>
                    <a:pt x="633" y="2719"/>
                  </a:lnTo>
                  <a:lnTo>
                    <a:pt x="646" y="2742"/>
                  </a:lnTo>
                  <a:lnTo>
                    <a:pt x="665" y="2764"/>
                  </a:lnTo>
                  <a:lnTo>
                    <a:pt x="717" y="2786"/>
                  </a:lnTo>
                  <a:lnTo>
                    <a:pt x="742" y="2809"/>
                  </a:lnTo>
                  <a:lnTo>
                    <a:pt x="742" y="2831"/>
                  </a:lnTo>
                  <a:lnTo>
                    <a:pt x="742" y="2853"/>
                  </a:lnTo>
                  <a:lnTo>
                    <a:pt x="748" y="2875"/>
                  </a:lnTo>
                  <a:lnTo>
                    <a:pt x="759" y="2898"/>
                  </a:lnTo>
                  <a:lnTo>
                    <a:pt x="768" y="2920"/>
                  </a:lnTo>
                  <a:lnTo>
                    <a:pt x="768" y="2942"/>
                  </a:lnTo>
                  <a:lnTo>
                    <a:pt x="768" y="2965"/>
                  </a:lnTo>
                  <a:lnTo>
                    <a:pt x="768" y="2987"/>
                  </a:lnTo>
                  <a:lnTo>
                    <a:pt x="768" y="3009"/>
                  </a:lnTo>
                  <a:lnTo>
                    <a:pt x="776" y="3032"/>
                  </a:lnTo>
                  <a:lnTo>
                    <a:pt x="754" y="3054"/>
                  </a:lnTo>
                  <a:lnTo>
                    <a:pt x="759" y="3076"/>
                  </a:lnTo>
                  <a:lnTo>
                    <a:pt x="744" y="3098"/>
                  </a:lnTo>
                  <a:lnTo>
                    <a:pt x="733" y="3121"/>
                  </a:lnTo>
                  <a:lnTo>
                    <a:pt x="733" y="3143"/>
                  </a:lnTo>
                  <a:lnTo>
                    <a:pt x="759" y="3165"/>
                  </a:lnTo>
                  <a:lnTo>
                    <a:pt x="768" y="3188"/>
                  </a:lnTo>
                  <a:lnTo>
                    <a:pt x="748" y="3210"/>
                  </a:lnTo>
                  <a:lnTo>
                    <a:pt x="667" y="3232"/>
                  </a:lnTo>
                  <a:lnTo>
                    <a:pt x="624" y="3254"/>
                  </a:lnTo>
                  <a:lnTo>
                    <a:pt x="560" y="3277"/>
                  </a:lnTo>
                  <a:lnTo>
                    <a:pt x="516" y="3299"/>
                  </a:lnTo>
                  <a:lnTo>
                    <a:pt x="484" y="3321"/>
                  </a:lnTo>
                  <a:lnTo>
                    <a:pt x="468" y="3344"/>
                  </a:lnTo>
                  <a:lnTo>
                    <a:pt x="443" y="3366"/>
                  </a:lnTo>
                  <a:lnTo>
                    <a:pt x="427" y="3388"/>
                  </a:lnTo>
                  <a:lnTo>
                    <a:pt x="434" y="3410"/>
                  </a:lnTo>
                  <a:lnTo>
                    <a:pt x="427" y="3433"/>
                  </a:lnTo>
                  <a:lnTo>
                    <a:pt x="438" y="3455"/>
                  </a:lnTo>
                  <a:lnTo>
                    <a:pt x="468" y="3477"/>
                  </a:lnTo>
                  <a:lnTo>
                    <a:pt x="484" y="3500"/>
                  </a:lnTo>
                  <a:lnTo>
                    <a:pt x="511" y="3522"/>
                  </a:lnTo>
                  <a:lnTo>
                    <a:pt x="527" y="3544"/>
                  </a:lnTo>
                  <a:lnTo>
                    <a:pt x="532" y="3567"/>
                  </a:lnTo>
                  <a:lnTo>
                    <a:pt x="518" y="3589"/>
                  </a:lnTo>
                  <a:lnTo>
                    <a:pt x="536" y="3611"/>
                  </a:lnTo>
                  <a:lnTo>
                    <a:pt x="553" y="3633"/>
                  </a:lnTo>
                  <a:lnTo>
                    <a:pt x="557" y="3656"/>
                  </a:lnTo>
                  <a:lnTo>
                    <a:pt x="527" y="3678"/>
                  </a:lnTo>
                  <a:lnTo>
                    <a:pt x="527" y="3700"/>
                  </a:lnTo>
                  <a:lnTo>
                    <a:pt x="539" y="3723"/>
                  </a:lnTo>
                  <a:lnTo>
                    <a:pt x="544" y="3745"/>
                  </a:lnTo>
                  <a:lnTo>
                    <a:pt x="523" y="3767"/>
                  </a:lnTo>
                  <a:lnTo>
                    <a:pt x="544" y="3789"/>
                  </a:lnTo>
                  <a:lnTo>
                    <a:pt x="557" y="3812"/>
                  </a:lnTo>
                  <a:lnTo>
                    <a:pt x="557" y="3834"/>
                  </a:lnTo>
                  <a:lnTo>
                    <a:pt x="569" y="3856"/>
                  </a:lnTo>
                  <a:lnTo>
                    <a:pt x="564" y="3879"/>
                  </a:lnTo>
                  <a:lnTo>
                    <a:pt x="561" y="3901"/>
                  </a:lnTo>
                  <a:lnTo>
                    <a:pt x="548" y="3923"/>
                  </a:lnTo>
                  <a:lnTo>
                    <a:pt x="544" y="3946"/>
                  </a:lnTo>
                  <a:lnTo>
                    <a:pt x="553" y="3968"/>
                  </a:lnTo>
                  <a:lnTo>
                    <a:pt x="489" y="3990"/>
                  </a:lnTo>
                  <a:lnTo>
                    <a:pt x="418" y="4012"/>
                  </a:lnTo>
                  <a:lnTo>
                    <a:pt x="367" y="4035"/>
                  </a:lnTo>
                  <a:lnTo>
                    <a:pt x="388" y="4057"/>
                  </a:lnTo>
                  <a:lnTo>
                    <a:pt x="425" y="4079"/>
                  </a:lnTo>
                  <a:lnTo>
                    <a:pt x="511" y="4102"/>
                  </a:lnTo>
                  <a:lnTo>
                    <a:pt x="581" y="4124"/>
                  </a:lnTo>
                  <a:lnTo>
                    <a:pt x="599" y="4146"/>
                  </a:lnTo>
                  <a:lnTo>
                    <a:pt x="591" y="4168"/>
                  </a:lnTo>
                  <a:lnTo>
                    <a:pt x="569" y="4191"/>
                  </a:lnTo>
                  <a:lnTo>
                    <a:pt x="569" y="4213"/>
                  </a:lnTo>
                  <a:lnTo>
                    <a:pt x="587" y="4235"/>
                  </a:lnTo>
                  <a:lnTo>
                    <a:pt x="591" y="4258"/>
                  </a:lnTo>
                  <a:lnTo>
                    <a:pt x="591" y="4280"/>
                  </a:lnTo>
                  <a:lnTo>
                    <a:pt x="594" y="4302"/>
                  </a:lnTo>
                  <a:lnTo>
                    <a:pt x="582" y="4324"/>
                  </a:lnTo>
                  <a:lnTo>
                    <a:pt x="569" y="4347"/>
                  </a:lnTo>
                  <a:lnTo>
                    <a:pt x="578" y="4369"/>
                  </a:lnTo>
                  <a:lnTo>
                    <a:pt x="582" y="4391"/>
                  </a:lnTo>
                  <a:lnTo>
                    <a:pt x="564" y="4414"/>
                  </a:lnTo>
                  <a:lnTo>
                    <a:pt x="553" y="4436"/>
                  </a:lnTo>
                  <a:lnTo>
                    <a:pt x="613" y="4458"/>
                  </a:lnTo>
                  <a:lnTo>
                    <a:pt x="791" y="4481"/>
                  </a:lnTo>
                  <a:lnTo>
                    <a:pt x="981" y="4503"/>
                  </a:lnTo>
                  <a:lnTo>
                    <a:pt x="1192" y="4525"/>
                  </a:lnTo>
                  <a:lnTo>
                    <a:pt x="1341" y="4547"/>
                  </a:lnTo>
                  <a:lnTo>
                    <a:pt x="1467" y="4570"/>
                  </a:lnTo>
                  <a:lnTo>
                    <a:pt x="1467" y="4592"/>
                  </a:lnTo>
                  <a:lnTo>
                    <a:pt x="1484" y="4614"/>
                  </a:lnTo>
                  <a:lnTo>
                    <a:pt x="1518" y="4637"/>
                  </a:lnTo>
                  <a:lnTo>
                    <a:pt x="1537" y="4659"/>
                  </a:lnTo>
                  <a:lnTo>
                    <a:pt x="1552" y="4681"/>
                  </a:lnTo>
                  <a:lnTo>
                    <a:pt x="1436" y="4703"/>
                  </a:lnTo>
                  <a:lnTo>
                    <a:pt x="1264" y="4726"/>
                  </a:lnTo>
                  <a:lnTo>
                    <a:pt x="1003" y="4748"/>
                  </a:lnTo>
                  <a:lnTo>
                    <a:pt x="803" y="4770"/>
                  </a:lnTo>
                  <a:lnTo>
                    <a:pt x="719" y="4793"/>
                  </a:lnTo>
                  <a:lnTo>
                    <a:pt x="653" y="4815"/>
                  </a:lnTo>
                  <a:lnTo>
                    <a:pt x="653" y="4837"/>
                  </a:lnTo>
                  <a:lnTo>
                    <a:pt x="653" y="4860"/>
                  </a:lnTo>
                  <a:lnTo>
                    <a:pt x="676" y="4882"/>
                  </a:lnTo>
                  <a:lnTo>
                    <a:pt x="687" y="4904"/>
                  </a:lnTo>
                  <a:lnTo>
                    <a:pt x="701" y="4926"/>
                  </a:lnTo>
                  <a:lnTo>
                    <a:pt x="726" y="4949"/>
                  </a:lnTo>
                  <a:lnTo>
                    <a:pt x="751" y="4971"/>
                  </a:lnTo>
                  <a:lnTo>
                    <a:pt x="763" y="4993"/>
                  </a:lnTo>
                  <a:lnTo>
                    <a:pt x="763" y="5016"/>
                  </a:lnTo>
                  <a:lnTo>
                    <a:pt x="772" y="5038"/>
                  </a:lnTo>
                  <a:lnTo>
                    <a:pt x="742" y="5060"/>
                  </a:lnTo>
                  <a:lnTo>
                    <a:pt x="704" y="5082"/>
                  </a:lnTo>
                  <a:lnTo>
                    <a:pt x="610" y="5105"/>
                  </a:lnTo>
                  <a:lnTo>
                    <a:pt x="582" y="5127"/>
                  </a:lnTo>
                  <a:lnTo>
                    <a:pt x="564" y="5149"/>
                  </a:lnTo>
                  <a:lnTo>
                    <a:pt x="544" y="5172"/>
                  </a:lnTo>
                  <a:lnTo>
                    <a:pt x="532" y="5194"/>
                  </a:lnTo>
                  <a:lnTo>
                    <a:pt x="532" y="5216"/>
                  </a:lnTo>
                  <a:lnTo>
                    <a:pt x="557" y="5238"/>
                  </a:lnTo>
                  <a:lnTo>
                    <a:pt x="561" y="5261"/>
                  </a:lnTo>
                  <a:lnTo>
                    <a:pt x="561" y="5283"/>
                  </a:lnTo>
                  <a:lnTo>
                    <a:pt x="561" y="5305"/>
                  </a:lnTo>
                  <a:lnTo>
                    <a:pt x="594" y="5328"/>
                  </a:lnTo>
                  <a:lnTo>
                    <a:pt x="646" y="5350"/>
                  </a:lnTo>
                  <a:lnTo>
                    <a:pt x="722" y="5372"/>
                  </a:lnTo>
                  <a:lnTo>
                    <a:pt x="729" y="5395"/>
                  </a:lnTo>
                  <a:lnTo>
                    <a:pt x="733" y="5417"/>
                  </a:lnTo>
                  <a:lnTo>
                    <a:pt x="689" y="5439"/>
                  </a:lnTo>
                  <a:lnTo>
                    <a:pt x="671" y="5461"/>
                  </a:lnTo>
                  <a:lnTo>
                    <a:pt x="658" y="5484"/>
                  </a:lnTo>
                  <a:lnTo>
                    <a:pt x="649" y="5506"/>
                  </a:lnTo>
                  <a:lnTo>
                    <a:pt x="642" y="5528"/>
                  </a:lnTo>
                  <a:lnTo>
                    <a:pt x="633" y="5551"/>
                  </a:lnTo>
                  <a:lnTo>
                    <a:pt x="624" y="5573"/>
                  </a:lnTo>
                  <a:lnTo>
                    <a:pt x="619" y="5595"/>
                  </a:lnTo>
                  <a:lnTo>
                    <a:pt x="624" y="5617"/>
                  </a:lnTo>
                  <a:lnTo>
                    <a:pt x="661" y="5640"/>
                  </a:lnTo>
                  <a:lnTo>
                    <a:pt x="705" y="5662"/>
                  </a:lnTo>
                  <a:lnTo>
                    <a:pt x="771" y="5684"/>
                  </a:lnTo>
                  <a:lnTo>
                    <a:pt x="802" y="5707"/>
                  </a:lnTo>
                  <a:lnTo>
                    <a:pt x="805" y="5729"/>
                  </a:lnTo>
                  <a:lnTo>
                    <a:pt x="784" y="5751"/>
                  </a:lnTo>
                  <a:lnTo>
                    <a:pt x="768" y="5773"/>
                  </a:lnTo>
                  <a:lnTo>
                    <a:pt x="753" y="5796"/>
                  </a:lnTo>
                  <a:lnTo>
                    <a:pt x="717" y="5818"/>
                  </a:lnTo>
                  <a:lnTo>
                    <a:pt x="717" y="5840"/>
                  </a:lnTo>
                  <a:lnTo>
                    <a:pt x="717" y="5863"/>
                  </a:lnTo>
                  <a:lnTo>
                    <a:pt x="714" y="5885"/>
                  </a:lnTo>
                  <a:lnTo>
                    <a:pt x="692" y="5907"/>
                  </a:lnTo>
                  <a:lnTo>
                    <a:pt x="649" y="5930"/>
                  </a:lnTo>
                  <a:lnTo>
                    <a:pt x="616" y="5952"/>
                  </a:lnTo>
                  <a:lnTo>
                    <a:pt x="607" y="5974"/>
                  </a:lnTo>
                  <a:lnTo>
                    <a:pt x="542" y="5996"/>
                  </a:lnTo>
                  <a:lnTo>
                    <a:pt x="514" y="6019"/>
                  </a:lnTo>
                  <a:lnTo>
                    <a:pt x="511" y="6041"/>
                  </a:lnTo>
                  <a:lnTo>
                    <a:pt x="498" y="6063"/>
                  </a:lnTo>
                  <a:lnTo>
                    <a:pt x="548" y="6086"/>
                  </a:lnTo>
                  <a:lnTo>
                    <a:pt x="582" y="6108"/>
                  </a:lnTo>
                  <a:lnTo>
                    <a:pt x="633" y="6130"/>
                  </a:lnTo>
                  <a:lnTo>
                    <a:pt x="615" y="6152"/>
                  </a:lnTo>
                  <a:lnTo>
                    <a:pt x="523" y="6175"/>
                  </a:lnTo>
                  <a:lnTo>
                    <a:pt x="459" y="6197"/>
                  </a:lnTo>
                  <a:lnTo>
                    <a:pt x="459" y="6219"/>
                  </a:lnTo>
                  <a:lnTo>
                    <a:pt x="489" y="6242"/>
                  </a:lnTo>
                  <a:lnTo>
                    <a:pt x="536" y="6264"/>
                  </a:lnTo>
                  <a:lnTo>
                    <a:pt x="606" y="6286"/>
                  </a:lnTo>
                  <a:lnTo>
                    <a:pt x="630" y="6309"/>
                  </a:lnTo>
                  <a:lnTo>
                    <a:pt x="613" y="6331"/>
                  </a:lnTo>
                  <a:lnTo>
                    <a:pt x="599" y="6353"/>
                  </a:lnTo>
                  <a:lnTo>
                    <a:pt x="582" y="6375"/>
                  </a:lnTo>
                  <a:lnTo>
                    <a:pt x="573" y="6398"/>
                  </a:lnTo>
                  <a:lnTo>
                    <a:pt x="563" y="6420"/>
                  </a:lnTo>
                  <a:lnTo>
                    <a:pt x="536" y="6442"/>
                  </a:lnTo>
                  <a:lnTo>
                    <a:pt x="465" y="6465"/>
                  </a:lnTo>
                  <a:lnTo>
                    <a:pt x="369" y="6487"/>
                  </a:lnTo>
                  <a:lnTo>
                    <a:pt x="232" y="6509"/>
                  </a:lnTo>
                  <a:lnTo>
                    <a:pt x="223" y="6531"/>
                  </a:lnTo>
                  <a:lnTo>
                    <a:pt x="249" y="6554"/>
                  </a:lnTo>
                  <a:lnTo>
                    <a:pt x="287" y="6576"/>
                  </a:lnTo>
                  <a:lnTo>
                    <a:pt x="437" y="6598"/>
                  </a:lnTo>
                  <a:lnTo>
                    <a:pt x="511" y="6621"/>
                  </a:lnTo>
                  <a:lnTo>
                    <a:pt x="514" y="6643"/>
                  </a:lnTo>
                  <a:lnTo>
                    <a:pt x="489" y="6665"/>
                  </a:lnTo>
                  <a:lnTo>
                    <a:pt x="473" y="6687"/>
                  </a:lnTo>
                  <a:lnTo>
                    <a:pt x="404" y="6710"/>
                  </a:lnTo>
                  <a:lnTo>
                    <a:pt x="397" y="6732"/>
                  </a:lnTo>
                  <a:lnTo>
                    <a:pt x="384" y="6754"/>
                  </a:lnTo>
                  <a:lnTo>
                    <a:pt x="367" y="6777"/>
                  </a:lnTo>
                  <a:lnTo>
                    <a:pt x="106" y="6799"/>
                  </a:lnTo>
                  <a:lnTo>
                    <a:pt x="0" y="6821"/>
                  </a:lnTo>
                  <a:lnTo>
                    <a:pt x="22" y="6844"/>
                  </a:lnTo>
                  <a:lnTo>
                    <a:pt x="249" y="6866"/>
                  </a:lnTo>
                  <a:lnTo>
                    <a:pt x="403" y="6888"/>
                  </a:lnTo>
                  <a:lnTo>
                    <a:pt x="557" y="6910"/>
                  </a:lnTo>
                  <a:lnTo>
                    <a:pt x="923" y="6933"/>
                  </a:lnTo>
                  <a:lnTo>
                    <a:pt x="941" y="6955"/>
                  </a:lnTo>
                  <a:lnTo>
                    <a:pt x="941" y="6977"/>
                  </a:lnTo>
                  <a:lnTo>
                    <a:pt x="953" y="7000"/>
                  </a:lnTo>
                  <a:lnTo>
                    <a:pt x="957" y="7022"/>
                  </a:lnTo>
                  <a:lnTo>
                    <a:pt x="962" y="7044"/>
                  </a:lnTo>
                  <a:lnTo>
                    <a:pt x="962" y="7066"/>
                  </a:lnTo>
                  <a:lnTo>
                    <a:pt x="969" y="7089"/>
                  </a:lnTo>
                  <a:lnTo>
                    <a:pt x="974" y="7111"/>
                  </a:lnTo>
                  <a:lnTo>
                    <a:pt x="974" y="7133"/>
                  </a:lnTo>
                  <a:lnTo>
                    <a:pt x="983" y="7156"/>
                  </a:lnTo>
                  <a:lnTo>
                    <a:pt x="987" y="7178"/>
                  </a:lnTo>
                  <a:lnTo>
                    <a:pt x="991" y="7200"/>
                  </a:lnTo>
                  <a:lnTo>
                    <a:pt x="991" y="7223"/>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Freeform 92"/>
            <p:cNvSpPr/>
            <p:nvPr/>
          </p:nvSpPr>
          <p:spPr>
            <a:xfrm>
              <a:off x="4164120" y="1838160"/>
              <a:ext cx="1625400" cy="4816800"/>
            </a:xfrm>
            <a:custGeom>
              <a:avLst/>
              <a:gdLst>
                <a:gd name="textAreaLeft" fmla="*/ 0 w 1625400"/>
                <a:gd name="textAreaRight" fmla="*/ 1625760 w 1625400"/>
                <a:gd name="textAreaTop" fmla="*/ 0 h 4816800"/>
                <a:gd name="textAreaBottom" fmla="*/ 4817160 h 4816800"/>
              </a:gdLst>
              <a:ahLst/>
              <a:rect l="textAreaLeft" t="textAreaTop" r="textAreaRight" b="textAreaBottom"/>
              <a:pathLst>
                <a:path w="2166" h="7223">
                  <a:moveTo>
                    <a:pt x="519" y="0"/>
                  </a:moveTo>
                  <a:lnTo>
                    <a:pt x="513" y="22"/>
                  </a:lnTo>
                  <a:lnTo>
                    <a:pt x="501" y="44"/>
                  </a:lnTo>
                  <a:lnTo>
                    <a:pt x="487" y="67"/>
                  </a:lnTo>
                  <a:lnTo>
                    <a:pt x="485" y="89"/>
                  </a:lnTo>
                  <a:lnTo>
                    <a:pt x="459" y="111"/>
                  </a:lnTo>
                  <a:lnTo>
                    <a:pt x="427" y="133"/>
                  </a:lnTo>
                  <a:lnTo>
                    <a:pt x="415" y="156"/>
                  </a:lnTo>
                  <a:lnTo>
                    <a:pt x="388" y="178"/>
                  </a:lnTo>
                  <a:lnTo>
                    <a:pt x="369" y="200"/>
                  </a:lnTo>
                  <a:lnTo>
                    <a:pt x="360" y="223"/>
                  </a:lnTo>
                  <a:lnTo>
                    <a:pt x="394" y="245"/>
                  </a:lnTo>
                  <a:lnTo>
                    <a:pt x="444" y="267"/>
                  </a:lnTo>
                  <a:lnTo>
                    <a:pt x="470" y="290"/>
                  </a:lnTo>
                  <a:lnTo>
                    <a:pt x="495" y="312"/>
                  </a:lnTo>
                  <a:lnTo>
                    <a:pt x="513" y="334"/>
                  </a:lnTo>
                  <a:lnTo>
                    <a:pt x="498" y="356"/>
                  </a:lnTo>
                  <a:lnTo>
                    <a:pt x="483" y="379"/>
                  </a:lnTo>
                  <a:lnTo>
                    <a:pt x="474" y="401"/>
                  </a:lnTo>
                  <a:lnTo>
                    <a:pt x="427" y="423"/>
                  </a:lnTo>
                  <a:lnTo>
                    <a:pt x="400" y="446"/>
                  </a:lnTo>
                  <a:lnTo>
                    <a:pt x="275" y="468"/>
                  </a:lnTo>
                  <a:lnTo>
                    <a:pt x="237" y="490"/>
                  </a:lnTo>
                  <a:lnTo>
                    <a:pt x="189" y="512"/>
                  </a:lnTo>
                  <a:lnTo>
                    <a:pt x="166" y="535"/>
                  </a:lnTo>
                  <a:lnTo>
                    <a:pt x="129" y="557"/>
                  </a:lnTo>
                  <a:lnTo>
                    <a:pt x="86" y="579"/>
                  </a:lnTo>
                  <a:lnTo>
                    <a:pt x="52" y="602"/>
                  </a:lnTo>
                  <a:lnTo>
                    <a:pt x="23" y="624"/>
                  </a:lnTo>
                  <a:lnTo>
                    <a:pt x="58" y="646"/>
                  </a:lnTo>
                  <a:lnTo>
                    <a:pt x="95" y="669"/>
                  </a:lnTo>
                  <a:lnTo>
                    <a:pt x="115" y="691"/>
                  </a:lnTo>
                  <a:lnTo>
                    <a:pt x="77" y="713"/>
                  </a:lnTo>
                  <a:lnTo>
                    <a:pt x="29" y="735"/>
                  </a:lnTo>
                  <a:lnTo>
                    <a:pt x="47" y="758"/>
                  </a:lnTo>
                  <a:lnTo>
                    <a:pt x="72" y="780"/>
                  </a:lnTo>
                  <a:lnTo>
                    <a:pt x="93" y="802"/>
                  </a:lnTo>
                  <a:lnTo>
                    <a:pt x="195" y="825"/>
                  </a:lnTo>
                  <a:lnTo>
                    <a:pt x="195" y="847"/>
                  </a:lnTo>
                  <a:lnTo>
                    <a:pt x="173" y="869"/>
                  </a:lnTo>
                  <a:lnTo>
                    <a:pt x="155" y="891"/>
                  </a:lnTo>
                  <a:lnTo>
                    <a:pt x="102" y="914"/>
                  </a:lnTo>
                  <a:lnTo>
                    <a:pt x="81" y="936"/>
                  </a:lnTo>
                  <a:lnTo>
                    <a:pt x="59" y="958"/>
                  </a:lnTo>
                  <a:lnTo>
                    <a:pt x="59" y="981"/>
                  </a:lnTo>
                  <a:lnTo>
                    <a:pt x="106" y="1003"/>
                  </a:lnTo>
                  <a:lnTo>
                    <a:pt x="130" y="1025"/>
                  </a:lnTo>
                  <a:lnTo>
                    <a:pt x="182" y="1047"/>
                  </a:lnTo>
                  <a:lnTo>
                    <a:pt x="219" y="1070"/>
                  </a:lnTo>
                  <a:lnTo>
                    <a:pt x="284" y="1092"/>
                  </a:lnTo>
                  <a:lnTo>
                    <a:pt x="324" y="1114"/>
                  </a:lnTo>
                  <a:lnTo>
                    <a:pt x="427" y="1137"/>
                  </a:lnTo>
                  <a:lnTo>
                    <a:pt x="528" y="1159"/>
                  </a:lnTo>
                  <a:lnTo>
                    <a:pt x="545" y="1181"/>
                  </a:lnTo>
                  <a:lnTo>
                    <a:pt x="579" y="1204"/>
                  </a:lnTo>
                  <a:lnTo>
                    <a:pt x="560" y="1226"/>
                  </a:lnTo>
                  <a:lnTo>
                    <a:pt x="548" y="1248"/>
                  </a:lnTo>
                  <a:lnTo>
                    <a:pt x="516" y="1270"/>
                  </a:lnTo>
                  <a:lnTo>
                    <a:pt x="439" y="1293"/>
                  </a:lnTo>
                  <a:lnTo>
                    <a:pt x="409" y="1315"/>
                  </a:lnTo>
                  <a:lnTo>
                    <a:pt x="378" y="1337"/>
                  </a:lnTo>
                  <a:lnTo>
                    <a:pt x="388" y="1360"/>
                  </a:lnTo>
                  <a:lnTo>
                    <a:pt x="409" y="1382"/>
                  </a:lnTo>
                  <a:lnTo>
                    <a:pt x="482" y="1404"/>
                  </a:lnTo>
                  <a:lnTo>
                    <a:pt x="642" y="1426"/>
                  </a:lnTo>
                  <a:lnTo>
                    <a:pt x="668" y="1449"/>
                  </a:lnTo>
                  <a:lnTo>
                    <a:pt x="688" y="1471"/>
                  </a:lnTo>
                  <a:lnTo>
                    <a:pt x="719" y="1493"/>
                  </a:lnTo>
                  <a:lnTo>
                    <a:pt x="716" y="1516"/>
                  </a:lnTo>
                  <a:lnTo>
                    <a:pt x="656" y="1538"/>
                  </a:lnTo>
                  <a:lnTo>
                    <a:pt x="656" y="1560"/>
                  </a:lnTo>
                  <a:lnTo>
                    <a:pt x="656" y="1583"/>
                  </a:lnTo>
                  <a:lnTo>
                    <a:pt x="654" y="1605"/>
                  </a:lnTo>
                  <a:lnTo>
                    <a:pt x="618" y="1627"/>
                  </a:lnTo>
                  <a:lnTo>
                    <a:pt x="551" y="1649"/>
                  </a:lnTo>
                  <a:lnTo>
                    <a:pt x="470" y="1672"/>
                  </a:lnTo>
                  <a:lnTo>
                    <a:pt x="421" y="1694"/>
                  </a:lnTo>
                  <a:lnTo>
                    <a:pt x="382" y="1716"/>
                  </a:lnTo>
                  <a:lnTo>
                    <a:pt x="378" y="1739"/>
                  </a:lnTo>
                  <a:lnTo>
                    <a:pt x="348" y="1761"/>
                  </a:lnTo>
                  <a:lnTo>
                    <a:pt x="329" y="1783"/>
                  </a:lnTo>
                  <a:lnTo>
                    <a:pt x="310" y="1805"/>
                  </a:lnTo>
                  <a:lnTo>
                    <a:pt x="283" y="1828"/>
                  </a:lnTo>
                  <a:lnTo>
                    <a:pt x="278" y="1850"/>
                  </a:lnTo>
                  <a:lnTo>
                    <a:pt x="311" y="1872"/>
                  </a:lnTo>
                  <a:lnTo>
                    <a:pt x="351" y="1895"/>
                  </a:lnTo>
                  <a:lnTo>
                    <a:pt x="409" y="1917"/>
                  </a:lnTo>
                  <a:lnTo>
                    <a:pt x="459" y="1939"/>
                  </a:lnTo>
                  <a:lnTo>
                    <a:pt x="479" y="1961"/>
                  </a:lnTo>
                  <a:lnTo>
                    <a:pt x="562" y="1984"/>
                  </a:lnTo>
                  <a:lnTo>
                    <a:pt x="541" y="2006"/>
                  </a:lnTo>
                  <a:lnTo>
                    <a:pt x="520" y="2028"/>
                  </a:lnTo>
                  <a:lnTo>
                    <a:pt x="495" y="2051"/>
                  </a:lnTo>
                  <a:lnTo>
                    <a:pt x="356" y="2073"/>
                  </a:lnTo>
                  <a:lnTo>
                    <a:pt x="310" y="2095"/>
                  </a:lnTo>
                  <a:lnTo>
                    <a:pt x="244" y="2118"/>
                  </a:lnTo>
                  <a:lnTo>
                    <a:pt x="280" y="2140"/>
                  </a:lnTo>
                  <a:lnTo>
                    <a:pt x="345" y="2162"/>
                  </a:lnTo>
                  <a:lnTo>
                    <a:pt x="366" y="2184"/>
                  </a:lnTo>
                  <a:lnTo>
                    <a:pt x="344" y="2207"/>
                  </a:lnTo>
                  <a:lnTo>
                    <a:pt x="321" y="2229"/>
                  </a:lnTo>
                  <a:lnTo>
                    <a:pt x="284" y="2251"/>
                  </a:lnTo>
                  <a:lnTo>
                    <a:pt x="301" y="2274"/>
                  </a:lnTo>
                  <a:lnTo>
                    <a:pt x="335" y="2296"/>
                  </a:lnTo>
                  <a:lnTo>
                    <a:pt x="400" y="2318"/>
                  </a:lnTo>
                  <a:lnTo>
                    <a:pt x="450" y="2340"/>
                  </a:lnTo>
                  <a:lnTo>
                    <a:pt x="436" y="2363"/>
                  </a:lnTo>
                  <a:lnTo>
                    <a:pt x="394" y="2385"/>
                  </a:lnTo>
                  <a:lnTo>
                    <a:pt x="342" y="2407"/>
                  </a:lnTo>
                  <a:lnTo>
                    <a:pt x="360" y="2430"/>
                  </a:lnTo>
                  <a:lnTo>
                    <a:pt x="366" y="2452"/>
                  </a:lnTo>
                  <a:lnTo>
                    <a:pt x="335" y="2474"/>
                  </a:lnTo>
                  <a:lnTo>
                    <a:pt x="375" y="2496"/>
                  </a:lnTo>
                  <a:lnTo>
                    <a:pt x="418" y="2519"/>
                  </a:lnTo>
                  <a:lnTo>
                    <a:pt x="409" y="2541"/>
                  </a:lnTo>
                  <a:lnTo>
                    <a:pt x="403" y="2563"/>
                  </a:lnTo>
                  <a:lnTo>
                    <a:pt x="403" y="2586"/>
                  </a:lnTo>
                  <a:lnTo>
                    <a:pt x="442" y="2608"/>
                  </a:lnTo>
                  <a:lnTo>
                    <a:pt x="479" y="2630"/>
                  </a:lnTo>
                  <a:lnTo>
                    <a:pt x="542" y="2653"/>
                  </a:lnTo>
                  <a:lnTo>
                    <a:pt x="603" y="2675"/>
                  </a:lnTo>
                  <a:lnTo>
                    <a:pt x="615" y="2697"/>
                  </a:lnTo>
                  <a:lnTo>
                    <a:pt x="637" y="2719"/>
                  </a:lnTo>
                  <a:lnTo>
                    <a:pt x="651" y="2742"/>
                  </a:lnTo>
                  <a:lnTo>
                    <a:pt x="726" y="2764"/>
                  </a:lnTo>
                  <a:lnTo>
                    <a:pt x="754" y="2786"/>
                  </a:lnTo>
                  <a:lnTo>
                    <a:pt x="771" y="2809"/>
                  </a:lnTo>
                  <a:lnTo>
                    <a:pt x="754" y="2831"/>
                  </a:lnTo>
                  <a:lnTo>
                    <a:pt x="781" y="2853"/>
                  </a:lnTo>
                  <a:lnTo>
                    <a:pt x="780" y="2875"/>
                  </a:lnTo>
                  <a:lnTo>
                    <a:pt x="771" y="2898"/>
                  </a:lnTo>
                  <a:lnTo>
                    <a:pt x="765" y="2920"/>
                  </a:lnTo>
                  <a:lnTo>
                    <a:pt x="787" y="2942"/>
                  </a:lnTo>
                  <a:lnTo>
                    <a:pt x="800" y="2965"/>
                  </a:lnTo>
                  <a:lnTo>
                    <a:pt x="802" y="2987"/>
                  </a:lnTo>
                  <a:lnTo>
                    <a:pt x="806" y="3009"/>
                  </a:lnTo>
                  <a:lnTo>
                    <a:pt x="811" y="3032"/>
                  </a:lnTo>
                  <a:lnTo>
                    <a:pt x="811" y="3054"/>
                  </a:lnTo>
                  <a:lnTo>
                    <a:pt x="806" y="3076"/>
                  </a:lnTo>
                  <a:lnTo>
                    <a:pt x="788" y="3098"/>
                  </a:lnTo>
                  <a:lnTo>
                    <a:pt x="759" y="3121"/>
                  </a:lnTo>
                  <a:lnTo>
                    <a:pt x="751" y="3143"/>
                  </a:lnTo>
                  <a:lnTo>
                    <a:pt x="751" y="3165"/>
                  </a:lnTo>
                  <a:lnTo>
                    <a:pt x="762" y="3188"/>
                  </a:lnTo>
                  <a:lnTo>
                    <a:pt x="769" y="3210"/>
                  </a:lnTo>
                  <a:lnTo>
                    <a:pt x="731" y="3232"/>
                  </a:lnTo>
                  <a:lnTo>
                    <a:pt x="713" y="3254"/>
                  </a:lnTo>
                  <a:lnTo>
                    <a:pt x="575" y="3277"/>
                  </a:lnTo>
                  <a:lnTo>
                    <a:pt x="476" y="3299"/>
                  </a:lnTo>
                  <a:lnTo>
                    <a:pt x="453" y="3321"/>
                  </a:lnTo>
                  <a:lnTo>
                    <a:pt x="442" y="3344"/>
                  </a:lnTo>
                  <a:lnTo>
                    <a:pt x="421" y="3366"/>
                  </a:lnTo>
                  <a:lnTo>
                    <a:pt x="394" y="3388"/>
                  </a:lnTo>
                  <a:lnTo>
                    <a:pt x="372" y="3410"/>
                  </a:lnTo>
                  <a:lnTo>
                    <a:pt x="357" y="3433"/>
                  </a:lnTo>
                  <a:lnTo>
                    <a:pt x="341" y="3455"/>
                  </a:lnTo>
                  <a:lnTo>
                    <a:pt x="341" y="3477"/>
                  </a:lnTo>
                  <a:lnTo>
                    <a:pt x="388" y="3500"/>
                  </a:lnTo>
                  <a:lnTo>
                    <a:pt x="412" y="3522"/>
                  </a:lnTo>
                  <a:lnTo>
                    <a:pt x="430" y="3544"/>
                  </a:lnTo>
                  <a:lnTo>
                    <a:pt x="474" y="3567"/>
                  </a:lnTo>
                  <a:lnTo>
                    <a:pt x="470" y="3589"/>
                  </a:lnTo>
                  <a:lnTo>
                    <a:pt x="468" y="3611"/>
                  </a:lnTo>
                  <a:lnTo>
                    <a:pt x="482" y="3633"/>
                  </a:lnTo>
                  <a:lnTo>
                    <a:pt x="513" y="3656"/>
                  </a:lnTo>
                  <a:lnTo>
                    <a:pt x="510" y="3678"/>
                  </a:lnTo>
                  <a:lnTo>
                    <a:pt x="492" y="3700"/>
                  </a:lnTo>
                  <a:lnTo>
                    <a:pt x="474" y="3723"/>
                  </a:lnTo>
                  <a:lnTo>
                    <a:pt x="474" y="3745"/>
                  </a:lnTo>
                  <a:lnTo>
                    <a:pt x="474" y="3767"/>
                  </a:lnTo>
                  <a:lnTo>
                    <a:pt x="476" y="3789"/>
                  </a:lnTo>
                  <a:lnTo>
                    <a:pt x="479" y="3812"/>
                  </a:lnTo>
                  <a:lnTo>
                    <a:pt x="513" y="3834"/>
                  </a:lnTo>
                  <a:lnTo>
                    <a:pt x="513" y="3856"/>
                  </a:lnTo>
                  <a:lnTo>
                    <a:pt x="522" y="3879"/>
                  </a:lnTo>
                  <a:lnTo>
                    <a:pt x="528" y="3901"/>
                  </a:lnTo>
                  <a:lnTo>
                    <a:pt x="510" y="3923"/>
                  </a:lnTo>
                  <a:lnTo>
                    <a:pt x="507" y="3946"/>
                  </a:lnTo>
                  <a:lnTo>
                    <a:pt x="502" y="3968"/>
                  </a:lnTo>
                  <a:lnTo>
                    <a:pt x="450" y="3990"/>
                  </a:lnTo>
                  <a:lnTo>
                    <a:pt x="335" y="4012"/>
                  </a:lnTo>
                  <a:lnTo>
                    <a:pt x="250" y="4035"/>
                  </a:lnTo>
                  <a:lnTo>
                    <a:pt x="247" y="4057"/>
                  </a:lnTo>
                  <a:lnTo>
                    <a:pt x="289" y="4079"/>
                  </a:lnTo>
                  <a:lnTo>
                    <a:pt x="342" y="4102"/>
                  </a:lnTo>
                  <a:lnTo>
                    <a:pt x="459" y="4124"/>
                  </a:lnTo>
                  <a:lnTo>
                    <a:pt x="542" y="4146"/>
                  </a:lnTo>
                  <a:lnTo>
                    <a:pt x="551" y="4168"/>
                  </a:lnTo>
                  <a:lnTo>
                    <a:pt x="536" y="4191"/>
                  </a:lnTo>
                  <a:lnTo>
                    <a:pt x="530" y="4213"/>
                  </a:lnTo>
                  <a:lnTo>
                    <a:pt x="533" y="4235"/>
                  </a:lnTo>
                  <a:lnTo>
                    <a:pt x="548" y="4258"/>
                  </a:lnTo>
                  <a:lnTo>
                    <a:pt x="560" y="4280"/>
                  </a:lnTo>
                  <a:lnTo>
                    <a:pt x="560" y="4302"/>
                  </a:lnTo>
                  <a:lnTo>
                    <a:pt x="551" y="4324"/>
                  </a:lnTo>
                  <a:lnTo>
                    <a:pt x="551" y="4347"/>
                  </a:lnTo>
                  <a:lnTo>
                    <a:pt x="551" y="4369"/>
                  </a:lnTo>
                  <a:lnTo>
                    <a:pt x="542" y="4391"/>
                  </a:lnTo>
                  <a:lnTo>
                    <a:pt x="487" y="4414"/>
                  </a:lnTo>
                  <a:lnTo>
                    <a:pt x="462" y="4436"/>
                  </a:lnTo>
                  <a:lnTo>
                    <a:pt x="576" y="4458"/>
                  </a:lnTo>
                  <a:lnTo>
                    <a:pt x="784" y="4481"/>
                  </a:lnTo>
                  <a:lnTo>
                    <a:pt x="1005" y="4503"/>
                  </a:lnTo>
                  <a:lnTo>
                    <a:pt x="1238" y="4525"/>
                  </a:lnTo>
                  <a:lnTo>
                    <a:pt x="1697" y="4547"/>
                  </a:lnTo>
                  <a:lnTo>
                    <a:pt x="1890" y="4570"/>
                  </a:lnTo>
                  <a:lnTo>
                    <a:pt x="1905" y="4592"/>
                  </a:lnTo>
                  <a:lnTo>
                    <a:pt x="1926" y="4614"/>
                  </a:lnTo>
                  <a:lnTo>
                    <a:pt x="1995" y="4637"/>
                  </a:lnTo>
                  <a:lnTo>
                    <a:pt x="2136" y="4659"/>
                  </a:lnTo>
                  <a:lnTo>
                    <a:pt x="2166" y="4681"/>
                  </a:lnTo>
                  <a:lnTo>
                    <a:pt x="2014" y="4703"/>
                  </a:lnTo>
                  <a:lnTo>
                    <a:pt x="1675" y="4726"/>
                  </a:lnTo>
                  <a:lnTo>
                    <a:pt x="1144" y="4748"/>
                  </a:lnTo>
                  <a:lnTo>
                    <a:pt x="759" y="4770"/>
                  </a:lnTo>
                  <a:lnTo>
                    <a:pt x="634" y="4793"/>
                  </a:lnTo>
                  <a:lnTo>
                    <a:pt x="656" y="4815"/>
                  </a:lnTo>
                  <a:lnTo>
                    <a:pt x="643" y="4837"/>
                  </a:lnTo>
                  <a:lnTo>
                    <a:pt x="625" y="4860"/>
                  </a:lnTo>
                  <a:lnTo>
                    <a:pt x="622" y="4882"/>
                  </a:lnTo>
                  <a:lnTo>
                    <a:pt x="665" y="4904"/>
                  </a:lnTo>
                  <a:lnTo>
                    <a:pt x="726" y="4926"/>
                  </a:lnTo>
                  <a:lnTo>
                    <a:pt x="814" y="4949"/>
                  </a:lnTo>
                  <a:lnTo>
                    <a:pt x="827" y="4971"/>
                  </a:lnTo>
                  <a:lnTo>
                    <a:pt x="774" y="4993"/>
                  </a:lnTo>
                  <a:lnTo>
                    <a:pt x="771" y="5016"/>
                  </a:lnTo>
                  <a:lnTo>
                    <a:pt x="748" y="5038"/>
                  </a:lnTo>
                  <a:lnTo>
                    <a:pt x="722" y="5060"/>
                  </a:lnTo>
                  <a:lnTo>
                    <a:pt x="605" y="5082"/>
                  </a:lnTo>
                  <a:lnTo>
                    <a:pt x="562" y="5105"/>
                  </a:lnTo>
                  <a:lnTo>
                    <a:pt x="530" y="5127"/>
                  </a:lnTo>
                  <a:lnTo>
                    <a:pt x="510" y="5149"/>
                  </a:lnTo>
                  <a:lnTo>
                    <a:pt x="486" y="5172"/>
                  </a:lnTo>
                  <a:lnTo>
                    <a:pt x="485" y="5194"/>
                  </a:lnTo>
                  <a:lnTo>
                    <a:pt x="516" y="5216"/>
                  </a:lnTo>
                  <a:lnTo>
                    <a:pt x="511" y="5238"/>
                  </a:lnTo>
                  <a:lnTo>
                    <a:pt x="492" y="5261"/>
                  </a:lnTo>
                  <a:lnTo>
                    <a:pt x="489" y="5283"/>
                  </a:lnTo>
                  <a:lnTo>
                    <a:pt x="487" y="5305"/>
                  </a:lnTo>
                  <a:lnTo>
                    <a:pt x="608" y="5328"/>
                  </a:lnTo>
                  <a:lnTo>
                    <a:pt x="720" y="5350"/>
                  </a:lnTo>
                  <a:lnTo>
                    <a:pt x="732" y="5372"/>
                  </a:lnTo>
                  <a:lnTo>
                    <a:pt x="744" y="5395"/>
                  </a:lnTo>
                  <a:lnTo>
                    <a:pt x="744" y="5417"/>
                  </a:lnTo>
                  <a:lnTo>
                    <a:pt x="697" y="5439"/>
                  </a:lnTo>
                  <a:lnTo>
                    <a:pt x="668" y="5461"/>
                  </a:lnTo>
                  <a:lnTo>
                    <a:pt x="659" y="5484"/>
                  </a:lnTo>
                  <a:lnTo>
                    <a:pt x="640" y="5506"/>
                  </a:lnTo>
                  <a:lnTo>
                    <a:pt x="597" y="5528"/>
                  </a:lnTo>
                  <a:lnTo>
                    <a:pt x="581" y="5551"/>
                  </a:lnTo>
                  <a:lnTo>
                    <a:pt x="581" y="5573"/>
                  </a:lnTo>
                  <a:lnTo>
                    <a:pt x="605" y="5595"/>
                  </a:lnTo>
                  <a:lnTo>
                    <a:pt x="648" y="5617"/>
                  </a:lnTo>
                  <a:lnTo>
                    <a:pt x="707" y="5640"/>
                  </a:lnTo>
                  <a:lnTo>
                    <a:pt x="763" y="5662"/>
                  </a:lnTo>
                  <a:lnTo>
                    <a:pt x="800" y="5684"/>
                  </a:lnTo>
                  <a:lnTo>
                    <a:pt x="814" y="5707"/>
                  </a:lnTo>
                  <a:lnTo>
                    <a:pt x="854" y="5729"/>
                  </a:lnTo>
                  <a:lnTo>
                    <a:pt x="827" y="5751"/>
                  </a:lnTo>
                  <a:lnTo>
                    <a:pt x="797" y="5773"/>
                  </a:lnTo>
                  <a:lnTo>
                    <a:pt x="774" y="5796"/>
                  </a:lnTo>
                  <a:lnTo>
                    <a:pt x="713" y="5818"/>
                  </a:lnTo>
                  <a:lnTo>
                    <a:pt x="726" y="5840"/>
                  </a:lnTo>
                  <a:lnTo>
                    <a:pt x="729" y="5863"/>
                  </a:lnTo>
                  <a:lnTo>
                    <a:pt x="714" y="5885"/>
                  </a:lnTo>
                  <a:lnTo>
                    <a:pt x="676" y="5907"/>
                  </a:lnTo>
                  <a:lnTo>
                    <a:pt x="643" y="5930"/>
                  </a:lnTo>
                  <a:lnTo>
                    <a:pt x="594" y="5952"/>
                  </a:lnTo>
                  <a:lnTo>
                    <a:pt x="572" y="5974"/>
                  </a:lnTo>
                  <a:lnTo>
                    <a:pt x="513" y="5996"/>
                  </a:lnTo>
                  <a:lnTo>
                    <a:pt x="467" y="6019"/>
                  </a:lnTo>
                  <a:lnTo>
                    <a:pt x="453" y="6041"/>
                  </a:lnTo>
                  <a:lnTo>
                    <a:pt x="433" y="6063"/>
                  </a:lnTo>
                  <a:lnTo>
                    <a:pt x="430" y="6086"/>
                  </a:lnTo>
                  <a:lnTo>
                    <a:pt x="565" y="6108"/>
                  </a:lnTo>
                  <a:lnTo>
                    <a:pt x="594" y="6130"/>
                  </a:lnTo>
                  <a:lnTo>
                    <a:pt x="606" y="6152"/>
                  </a:lnTo>
                  <a:lnTo>
                    <a:pt x="390" y="6175"/>
                  </a:lnTo>
                  <a:lnTo>
                    <a:pt x="373" y="6197"/>
                  </a:lnTo>
                  <a:lnTo>
                    <a:pt x="357" y="6219"/>
                  </a:lnTo>
                  <a:lnTo>
                    <a:pt x="357" y="6242"/>
                  </a:lnTo>
                  <a:lnTo>
                    <a:pt x="536" y="6264"/>
                  </a:lnTo>
                  <a:lnTo>
                    <a:pt x="591" y="6286"/>
                  </a:lnTo>
                  <a:lnTo>
                    <a:pt x="609" y="6309"/>
                  </a:lnTo>
                  <a:lnTo>
                    <a:pt x="579" y="6331"/>
                  </a:lnTo>
                  <a:lnTo>
                    <a:pt x="548" y="6353"/>
                  </a:lnTo>
                  <a:lnTo>
                    <a:pt x="513" y="6375"/>
                  </a:lnTo>
                  <a:lnTo>
                    <a:pt x="492" y="6398"/>
                  </a:lnTo>
                  <a:lnTo>
                    <a:pt x="455" y="6420"/>
                  </a:lnTo>
                  <a:lnTo>
                    <a:pt x="413" y="6442"/>
                  </a:lnTo>
                  <a:lnTo>
                    <a:pt x="350" y="6465"/>
                  </a:lnTo>
                  <a:lnTo>
                    <a:pt x="228" y="6487"/>
                  </a:lnTo>
                  <a:lnTo>
                    <a:pt x="154" y="6509"/>
                  </a:lnTo>
                  <a:lnTo>
                    <a:pt x="112" y="6531"/>
                  </a:lnTo>
                  <a:lnTo>
                    <a:pt x="142" y="6554"/>
                  </a:lnTo>
                  <a:lnTo>
                    <a:pt x="259" y="6576"/>
                  </a:lnTo>
                  <a:lnTo>
                    <a:pt x="452" y="6598"/>
                  </a:lnTo>
                  <a:lnTo>
                    <a:pt x="450" y="6621"/>
                  </a:lnTo>
                  <a:lnTo>
                    <a:pt x="430" y="6643"/>
                  </a:lnTo>
                  <a:lnTo>
                    <a:pt x="412" y="6665"/>
                  </a:lnTo>
                  <a:lnTo>
                    <a:pt x="381" y="6687"/>
                  </a:lnTo>
                  <a:lnTo>
                    <a:pt x="308" y="6710"/>
                  </a:lnTo>
                  <a:lnTo>
                    <a:pt x="295" y="6732"/>
                  </a:lnTo>
                  <a:lnTo>
                    <a:pt x="283" y="6754"/>
                  </a:lnTo>
                  <a:lnTo>
                    <a:pt x="270" y="6777"/>
                  </a:lnTo>
                  <a:lnTo>
                    <a:pt x="43" y="6799"/>
                  </a:lnTo>
                  <a:lnTo>
                    <a:pt x="3" y="6821"/>
                  </a:lnTo>
                  <a:lnTo>
                    <a:pt x="1" y="6844"/>
                  </a:lnTo>
                  <a:lnTo>
                    <a:pt x="0" y="6866"/>
                  </a:lnTo>
                  <a:lnTo>
                    <a:pt x="542" y="6888"/>
                  </a:lnTo>
                  <a:lnTo>
                    <a:pt x="870" y="6910"/>
                  </a:lnTo>
                  <a:lnTo>
                    <a:pt x="965" y="6933"/>
                  </a:lnTo>
                  <a:lnTo>
                    <a:pt x="965" y="6955"/>
                  </a:lnTo>
                  <a:lnTo>
                    <a:pt x="972" y="6977"/>
                  </a:lnTo>
                  <a:lnTo>
                    <a:pt x="978" y="7000"/>
                  </a:lnTo>
                  <a:lnTo>
                    <a:pt x="983" y="7022"/>
                  </a:lnTo>
                  <a:lnTo>
                    <a:pt x="986" y="7044"/>
                  </a:lnTo>
                  <a:lnTo>
                    <a:pt x="993" y="7066"/>
                  </a:lnTo>
                  <a:lnTo>
                    <a:pt x="996" y="7089"/>
                  </a:lnTo>
                  <a:lnTo>
                    <a:pt x="999" y="7111"/>
                  </a:lnTo>
                  <a:lnTo>
                    <a:pt x="999" y="7133"/>
                  </a:lnTo>
                  <a:lnTo>
                    <a:pt x="1006" y="7156"/>
                  </a:lnTo>
                  <a:lnTo>
                    <a:pt x="1006" y="7178"/>
                  </a:lnTo>
                  <a:lnTo>
                    <a:pt x="1006" y="7200"/>
                  </a:lnTo>
                  <a:lnTo>
                    <a:pt x="1006" y="7223"/>
                  </a:lnTo>
                </a:path>
              </a:pathLst>
            </a:custGeom>
            <a:noFill/>
            <a:ln w="38160">
              <a:solidFill>
                <a:srgbClr val="008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Rectangle 93"/>
            <p:cNvSpPr/>
            <p:nvPr/>
          </p:nvSpPr>
          <p:spPr>
            <a:xfrm>
              <a:off x="3696840" y="1854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00</a:t>
              </a:r>
              <a:endParaRPr b="0" lang="en-US" sz="1600" spc="-1" strike="noStrike">
                <a:solidFill>
                  <a:srgbClr val="000000"/>
                </a:solidFill>
                <a:latin typeface="Times New Roman"/>
              </a:endParaRPr>
            </a:p>
          </p:txBody>
        </p:sp>
        <p:sp>
          <p:nvSpPr>
            <p:cNvPr id="1231" name="Rectangle 94"/>
            <p:cNvSpPr/>
            <p:nvPr/>
          </p:nvSpPr>
          <p:spPr>
            <a:xfrm>
              <a:off x="3696840" y="48290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00</a:t>
              </a:r>
              <a:endParaRPr b="0" lang="en-US" sz="1600" spc="-1" strike="noStrike">
                <a:solidFill>
                  <a:srgbClr val="000000"/>
                </a:solidFill>
                <a:latin typeface="Times New Roman"/>
              </a:endParaRPr>
            </a:p>
          </p:txBody>
        </p:sp>
        <p:grpSp>
          <p:nvGrpSpPr>
            <p:cNvPr id="1232" name="Group 95"/>
            <p:cNvGrpSpPr/>
            <p:nvPr/>
          </p:nvGrpSpPr>
          <p:grpSpPr>
            <a:xfrm>
              <a:off x="2344680" y="1203480"/>
              <a:ext cx="1287360" cy="561960"/>
              <a:chOff x="2344680" y="1203480"/>
              <a:chExt cx="1287360" cy="561960"/>
            </a:xfrm>
          </p:grpSpPr>
          <p:sp>
            <p:nvSpPr>
              <p:cNvPr id="1233" name="Line 96"/>
              <p:cNvSpPr/>
              <p:nvPr/>
            </p:nvSpPr>
            <p:spPr>
              <a:xfrm>
                <a:off x="2367000" y="1330200"/>
                <a:ext cx="1241280" cy="1800"/>
              </a:xfrm>
              <a:prstGeom prst="line">
                <a:avLst/>
              </a:prstGeom>
              <a:ln w="190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4" name="Rectangle 97"/>
              <p:cNvSpPr/>
              <p:nvPr/>
            </p:nvSpPr>
            <p:spPr>
              <a:xfrm>
                <a:off x="2901960" y="1203480"/>
                <a:ext cx="133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R</a:t>
                </a:r>
                <a:endParaRPr b="0" lang="en-US" sz="700" spc="-1" strike="noStrike">
                  <a:solidFill>
                    <a:srgbClr val="000000"/>
                  </a:solidFill>
                  <a:latin typeface="Times New Roman"/>
                </a:endParaRPr>
              </a:p>
            </p:txBody>
          </p:sp>
          <p:sp>
            <p:nvSpPr>
              <p:cNvPr id="1235" name="Rectangle 98"/>
              <p:cNvSpPr/>
              <p:nvPr/>
            </p:nvSpPr>
            <p:spPr>
              <a:xfrm>
                <a:off x="2896920" y="1330200"/>
                <a:ext cx="144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I</a:t>
                </a:r>
                <a:endParaRPr b="0" lang="en-US" sz="700" spc="-1" strike="noStrike">
                  <a:solidFill>
                    <a:srgbClr val="000000"/>
                  </a:solidFill>
                  <a:latin typeface="Times New Roman"/>
                </a:endParaRPr>
              </a:p>
            </p:txBody>
          </p:sp>
          <p:sp>
            <p:nvSpPr>
              <p:cNvPr id="1236" name="Rectangle 99"/>
              <p:cNvSpPr/>
              <p:nvPr/>
            </p:nvSpPr>
            <p:spPr>
              <a:xfrm>
                <a:off x="2362320" y="133020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a:t>
                </a:r>
                <a:endParaRPr b="0" lang="en-US" sz="700" spc="-1" strike="noStrike">
                  <a:solidFill>
                    <a:srgbClr val="000000"/>
                  </a:solidFill>
                  <a:latin typeface="Times New Roman"/>
                </a:endParaRPr>
              </a:p>
            </p:txBody>
          </p:sp>
          <p:sp>
            <p:nvSpPr>
              <p:cNvPr id="1237" name="Rectangle 100"/>
              <p:cNvSpPr/>
              <p:nvPr/>
            </p:nvSpPr>
            <p:spPr>
              <a:xfrm>
                <a:off x="3426120" y="1330200"/>
                <a:ext cx="146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a:t>
                </a:r>
                <a:endParaRPr b="0" lang="en-US" sz="700" spc="-1" strike="noStrike">
                  <a:solidFill>
                    <a:srgbClr val="000000"/>
                  </a:solidFill>
                  <a:latin typeface="Times New Roman"/>
                </a:endParaRPr>
              </a:p>
            </p:txBody>
          </p:sp>
          <p:sp>
            <p:nvSpPr>
              <p:cNvPr id="1238" name="Rectangle 101"/>
              <p:cNvSpPr/>
              <p:nvPr/>
            </p:nvSpPr>
            <p:spPr>
              <a:xfrm>
                <a:off x="2344680" y="1208160"/>
                <a:ext cx="1287360" cy="2476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Line 102"/>
              <p:cNvSpPr/>
              <p:nvPr/>
            </p:nvSpPr>
            <p:spPr>
              <a:xfrm>
                <a:off x="2367000" y="1644480"/>
                <a:ext cx="1241280" cy="1800"/>
              </a:xfrm>
              <a:prstGeom prst="line">
                <a:avLst/>
              </a:prstGeom>
              <a:ln w="12600">
                <a:solidFill>
                  <a:srgbClr val="cc000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0" name="Rectangle 103"/>
              <p:cNvSpPr/>
              <p:nvPr/>
            </p:nvSpPr>
            <p:spPr>
              <a:xfrm>
                <a:off x="2841120" y="1512720"/>
                <a:ext cx="256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ALIX</a:t>
                </a:r>
                <a:endParaRPr b="0" lang="en-US" sz="700" spc="-1" strike="noStrike">
                  <a:solidFill>
                    <a:srgbClr val="000000"/>
                  </a:solidFill>
                  <a:latin typeface="Times New Roman"/>
                </a:endParaRPr>
              </a:p>
            </p:txBody>
          </p:sp>
          <p:sp>
            <p:nvSpPr>
              <p:cNvPr id="1241" name="Rectangle 104"/>
              <p:cNvSpPr/>
              <p:nvPr/>
            </p:nvSpPr>
            <p:spPr>
              <a:xfrm>
                <a:off x="2924280" y="1639800"/>
                <a:ext cx="89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a:t>
                </a:r>
                <a:endParaRPr b="0" lang="en-US" sz="700" spc="-1" strike="noStrike">
                  <a:solidFill>
                    <a:srgbClr val="000000"/>
                  </a:solidFill>
                  <a:latin typeface="Times New Roman"/>
                </a:endParaRPr>
              </a:p>
            </p:txBody>
          </p:sp>
          <p:sp>
            <p:nvSpPr>
              <p:cNvPr id="1242" name="Rectangle 105"/>
              <p:cNvSpPr/>
              <p:nvPr/>
            </p:nvSpPr>
            <p:spPr>
              <a:xfrm>
                <a:off x="2362320" y="163980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a:t>
                </a:r>
                <a:endParaRPr b="0" lang="en-US" sz="700" spc="-1" strike="noStrike">
                  <a:solidFill>
                    <a:srgbClr val="000000"/>
                  </a:solidFill>
                  <a:latin typeface="Times New Roman"/>
                </a:endParaRPr>
              </a:p>
            </p:txBody>
          </p:sp>
          <p:sp>
            <p:nvSpPr>
              <p:cNvPr id="1243" name="Rectangle 106"/>
              <p:cNvSpPr/>
              <p:nvPr/>
            </p:nvSpPr>
            <p:spPr>
              <a:xfrm>
                <a:off x="3475080" y="163980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6</a:t>
                </a:r>
                <a:endParaRPr b="0" lang="en-US" sz="700" spc="-1" strike="noStrike">
                  <a:solidFill>
                    <a:srgbClr val="000000"/>
                  </a:solidFill>
                  <a:latin typeface="Times New Roman"/>
                </a:endParaRPr>
              </a:p>
            </p:txBody>
          </p:sp>
          <p:sp>
            <p:nvSpPr>
              <p:cNvPr id="1244" name="Rectangle 107"/>
              <p:cNvSpPr/>
              <p:nvPr/>
            </p:nvSpPr>
            <p:spPr>
              <a:xfrm>
                <a:off x="2344680" y="1514520"/>
                <a:ext cx="1287360" cy="25092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245" name="PlaceHolder 1"/>
          <p:cNvSpPr>
            <a:spLocks noGrp="1"/>
          </p:cNvSpPr>
          <p:nvPr>
            <p:ph type="title"/>
          </p:nvPr>
        </p:nvSpPr>
        <p:spPr>
          <a:xfrm>
            <a:off x="0" y="304920"/>
            <a:ext cx="91440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ACOUSTIC (SONIC) LOG</a:t>
            </a:r>
            <a:endParaRPr b="0" lang="en-US" sz="4000" spc="-1" strike="noStrike">
              <a:solidFill>
                <a:srgbClr val="000000"/>
              </a:solidFill>
              <a:latin typeface="Times New Roman"/>
            </a:endParaRPr>
          </a:p>
        </p:txBody>
      </p:sp>
      <p:grpSp>
        <p:nvGrpSpPr>
          <p:cNvPr id="1246" name="Group 109"/>
          <p:cNvGrpSpPr/>
          <p:nvPr/>
        </p:nvGrpSpPr>
        <p:grpSpPr>
          <a:xfrm>
            <a:off x="5529240" y="2265480"/>
            <a:ext cx="2074680" cy="243720"/>
            <a:chOff x="5529240" y="2265480"/>
            <a:chExt cx="2074680" cy="243720"/>
          </a:xfrm>
        </p:grpSpPr>
        <p:sp>
          <p:nvSpPr>
            <p:cNvPr id="1247" name="Text Box 110"/>
            <p:cNvSpPr/>
            <p:nvPr/>
          </p:nvSpPr>
          <p:spPr>
            <a:xfrm>
              <a:off x="5981760" y="2265480"/>
              <a:ext cx="1622160" cy="243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nic travel time</a:t>
              </a:r>
              <a:endParaRPr b="0" lang="en-US" sz="1600" spc="-1" strike="noStrike">
                <a:solidFill>
                  <a:srgbClr val="000000"/>
                </a:solidFill>
                <a:latin typeface="Times New Roman"/>
              </a:endParaRPr>
            </a:p>
          </p:txBody>
        </p:sp>
        <p:sp>
          <p:nvSpPr>
            <p:cNvPr id="1248" name="Line 111"/>
            <p:cNvSpPr/>
            <p:nvPr/>
          </p:nvSpPr>
          <p:spPr>
            <a:xfrm flipH="1">
              <a:off x="5529240" y="2387520"/>
              <a:ext cx="396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9" name="Group 112"/>
          <p:cNvGrpSpPr/>
          <p:nvPr/>
        </p:nvGrpSpPr>
        <p:grpSpPr>
          <a:xfrm>
            <a:off x="4494240" y="3309840"/>
            <a:ext cx="1216080" cy="487080"/>
            <a:chOff x="4494240" y="3309840"/>
            <a:chExt cx="1216080" cy="487080"/>
          </a:xfrm>
        </p:grpSpPr>
        <p:sp>
          <p:nvSpPr>
            <p:cNvPr id="1250" name="Text Box 113"/>
            <p:cNvSpPr/>
            <p:nvPr/>
          </p:nvSpPr>
          <p:spPr>
            <a:xfrm>
              <a:off x="4863960" y="3309840"/>
              <a:ext cx="846360" cy="4870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ni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osity</a:t>
              </a:r>
              <a:endParaRPr b="0" lang="en-US" sz="1600" spc="-1" strike="noStrike">
                <a:solidFill>
                  <a:srgbClr val="000000"/>
                </a:solidFill>
                <a:latin typeface="Times New Roman"/>
              </a:endParaRPr>
            </a:p>
          </p:txBody>
        </p:sp>
        <p:sp>
          <p:nvSpPr>
            <p:cNvPr id="1251" name="Line 114"/>
            <p:cNvSpPr/>
            <p:nvPr/>
          </p:nvSpPr>
          <p:spPr>
            <a:xfrm flipH="1" flipV="1">
              <a:off x="4494240" y="3320640"/>
              <a:ext cx="317520" cy="149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2" name="Group 115"/>
          <p:cNvGrpSpPr/>
          <p:nvPr/>
        </p:nvGrpSpPr>
        <p:grpSpPr>
          <a:xfrm>
            <a:off x="1323360" y="5716440"/>
            <a:ext cx="1346760" cy="337320"/>
            <a:chOff x="1323360" y="5716440"/>
            <a:chExt cx="1346760" cy="337320"/>
          </a:xfrm>
        </p:grpSpPr>
        <p:sp>
          <p:nvSpPr>
            <p:cNvPr id="1253" name="Text Box 116"/>
            <p:cNvSpPr/>
            <p:nvPr/>
          </p:nvSpPr>
          <p:spPr>
            <a:xfrm>
              <a:off x="1323360" y="571644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iper</a:t>
              </a:r>
              <a:endParaRPr b="0" lang="en-US" sz="1600" spc="-1" strike="noStrike">
                <a:solidFill>
                  <a:srgbClr val="000000"/>
                </a:solidFill>
                <a:latin typeface="Times New Roman"/>
              </a:endParaRPr>
            </a:p>
          </p:txBody>
        </p:sp>
        <p:sp>
          <p:nvSpPr>
            <p:cNvPr id="1254" name="Line 117"/>
            <p:cNvSpPr/>
            <p:nvPr/>
          </p:nvSpPr>
          <p:spPr>
            <a:xfrm>
              <a:off x="2193840" y="5884920"/>
              <a:ext cx="476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5" name="Group 118"/>
          <p:cNvGrpSpPr/>
          <p:nvPr/>
        </p:nvGrpSpPr>
        <p:grpSpPr>
          <a:xfrm>
            <a:off x="3330720" y="2390400"/>
            <a:ext cx="955440" cy="706680"/>
            <a:chOff x="3330720" y="2390400"/>
            <a:chExt cx="955440" cy="706680"/>
          </a:xfrm>
        </p:grpSpPr>
        <p:sp>
          <p:nvSpPr>
            <p:cNvPr id="1256" name="Text Box 119"/>
            <p:cNvSpPr/>
            <p:nvPr/>
          </p:nvSpPr>
          <p:spPr>
            <a:xfrm>
              <a:off x="3490920" y="2610000"/>
              <a:ext cx="795240" cy="4870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mma Ray</a:t>
              </a:r>
              <a:endParaRPr b="0" lang="en-US" sz="1600" spc="-1" strike="noStrike">
                <a:solidFill>
                  <a:srgbClr val="000000"/>
                </a:solidFill>
                <a:latin typeface="Times New Roman"/>
              </a:endParaRPr>
            </a:p>
          </p:txBody>
        </p:sp>
        <p:sp>
          <p:nvSpPr>
            <p:cNvPr id="1257" name="Line 120"/>
            <p:cNvSpPr/>
            <p:nvPr/>
          </p:nvSpPr>
          <p:spPr>
            <a:xfrm flipH="1" flipV="1">
              <a:off x="3330720" y="2390400"/>
              <a:ext cx="434880" cy="23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afterEffect" fill="hold" presetClass="entr" presetID="2" presetSubtype="1">
                                  <p:stCondLst>
                                    <p:cond delay="0"/>
                                  </p:stCondLst>
                                  <p:childTnLst>
                                    <p:set>
                                      <p:cBhvr>
                                        <p:cTn id="456" dur="1" fill="hold">
                                          <p:stCondLst>
                                            <p:cond delay="0"/>
                                          </p:stCondLst>
                                        </p:cTn>
                                        <p:tgtEl>
                                          <p:spTgt spid="1245"/>
                                        </p:tgtEl>
                                        <p:attrNameLst>
                                          <p:attrName>style.visibility</p:attrName>
                                        </p:attrNameLst>
                                      </p:cBhvr>
                                      <p:to>
                                        <p:strVal val="visible"/>
                                      </p:to>
                                    </p:set>
                                    <p:anim calcmode="lin" valueType="num">
                                      <p:cBhvr additive="base">
                                        <p:cTn id="457" dur="500" fill="hold"/>
                                        <p:tgtEl>
                                          <p:spTgt spid="1245"/>
                                        </p:tgtEl>
                                        <p:attrNameLst>
                                          <p:attrName>ppt_x</p:attrName>
                                        </p:attrNameLst>
                                      </p:cBhvr>
                                      <p:tavLst>
                                        <p:tav tm="0">
                                          <p:val>
                                            <p:strVal val="#ppt_x"/>
                                          </p:val>
                                        </p:tav>
                                        <p:tav tm="100000">
                                          <p:val>
                                            <p:strVal val="#ppt_x"/>
                                          </p:val>
                                        </p:tav>
                                      </p:tavLst>
                                    </p:anim>
                                    <p:anim calcmode="lin" valueType="num">
                                      <p:cBhvr additive="base">
                                        <p:cTn id="458" dur="500" fill="hold"/>
                                        <p:tgtEl>
                                          <p:spTgt spid="1245"/>
                                        </p:tgtEl>
                                        <p:attrNameLst>
                                          <p:attrName>ppt_y</p:attrName>
                                        </p:attrNameLst>
                                      </p:cBhvr>
                                      <p:tavLst>
                                        <p:tav tm="0">
                                          <p:val>
                                            <p:strVal val="0-#ppt_h/2"/>
                                          </p:val>
                                        </p:tav>
                                        <p:tav tm="100000">
                                          <p:val>
                                            <p:strVal val="#ppt_y"/>
                                          </p:val>
                                        </p:tav>
                                      </p:tavLst>
                                    </p:anim>
                                  </p:childTnLst>
                                </p:cTn>
                              </p:par>
                            </p:childTnLst>
                          </p:cTn>
                        </p:par>
                        <p:par>
                          <p:cTn id="459" fill="hold">
                            <p:stCondLst>
                              <p:cond delay="500"/>
                            </p:stCondLst>
                            <p:childTnLst>
                              <p:par>
                                <p:cTn id="460" nodeType="afterEffect" fill="hold" presetClass="entr" presetID="17" presetSubtype="1">
                                  <p:stCondLst>
                                    <p:cond delay="0"/>
                                  </p:stCondLst>
                                  <p:childTnLst>
                                    <p:set>
                                      <p:cBhvr>
                                        <p:cTn id="461" dur="1" fill="hold">
                                          <p:stCondLst>
                                            <p:cond delay="0"/>
                                          </p:stCondLst>
                                        </p:cTn>
                                        <p:tgtEl>
                                          <p:spTgt spid="1139"/>
                                        </p:tgtEl>
                                        <p:attrNameLst>
                                          <p:attrName>style.visibility</p:attrName>
                                        </p:attrNameLst>
                                      </p:cBhvr>
                                      <p:to>
                                        <p:strVal val="visible"/>
                                      </p:to>
                                    </p:set>
                                    <p:anim calcmode="lin" valueType="num">
                                      <p:cBhvr additive="repl">
                                        <p:cTn id="462" dur="500" fill="hold"/>
                                        <p:tgtEl>
                                          <p:spTgt spid="1139"/>
                                        </p:tgtEl>
                                        <p:attrNameLst>
                                          <p:attrName>ppt_x</p:attrName>
                                        </p:attrNameLst>
                                      </p:cBhvr>
                                      <p:tavLst>
                                        <p:tav tm="0">
                                          <p:val>
                                            <p:strVal val="#ppt_x"/>
                                          </p:val>
                                        </p:tav>
                                        <p:tav tm="100000">
                                          <p:val>
                                            <p:strVal val="#ppt_x"/>
                                          </p:val>
                                        </p:tav>
                                      </p:tavLst>
                                    </p:anim>
                                    <p:anim calcmode="lin" valueType="num">
                                      <p:cBhvr additive="repl">
                                        <p:cTn id="463" dur="500" fill="hold"/>
                                        <p:tgtEl>
                                          <p:spTgt spid="1139"/>
                                        </p:tgtEl>
                                        <p:attrNameLst>
                                          <p:attrName>ppt_y</p:attrName>
                                        </p:attrNameLst>
                                      </p:cBhvr>
                                      <p:tavLst>
                                        <p:tav tm="0">
                                          <p:val>
                                            <p:strVal val="#ppt_y-#ppt_h/2"/>
                                          </p:val>
                                        </p:tav>
                                        <p:tav tm="100000">
                                          <p:val>
                                            <p:strVal val="#ppt_y"/>
                                          </p:val>
                                        </p:tav>
                                      </p:tavLst>
                                    </p:anim>
                                    <p:anim calcmode="lin" valueType="num">
                                      <p:cBhvr additive="repl">
                                        <p:cTn id="464" dur="500" fill="hold"/>
                                        <p:tgtEl>
                                          <p:spTgt spid="1139"/>
                                        </p:tgtEl>
                                        <p:attrNameLst>
                                          <p:attrName>ppt_w</p:attrName>
                                        </p:attrNameLst>
                                      </p:cBhvr>
                                      <p:tavLst>
                                        <p:tav tm="0">
                                          <p:val>
                                            <p:strVal val="#ppt_w"/>
                                          </p:val>
                                        </p:tav>
                                        <p:tav tm="100000">
                                          <p:val>
                                            <p:strVal val="#ppt_w"/>
                                          </p:val>
                                        </p:tav>
                                      </p:tavLst>
                                    </p:anim>
                                    <p:anim calcmode="lin" valueType="num">
                                      <p:cBhvr additive="repl">
                                        <p:cTn id="465" dur="500" fill="hold"/>
                                        <p:tgtEl>
                                          <p:spTgt spid="1139"/>
                                        </p:tgtEl>
                                        <p:attrNameLst>
                                          <p:attrName>ppt_h</p:attrName>
                                        </p:attrNameLst>
                                      </p:cBhvr>
                                      <p:tavLst>
                                        <p:tav tm="0">
                                          <p:val>
                                            <p:fltVal val="0"/>
                                          </p:val>
                                        </p:tav>
                                        <p:tav tm="100000">
                                          <p:val>
                                            <p:strVal val="#ppt_h"/>
                                          </p:val>
                                        </p:tav>
                                      </p:tavLst>
                                    </p:anim>
                                  </p:childTnLst>
                                </p:cTn>
                              </p:par>
                            </p:childTnLst>
                          </p:cTn>
                        </p:par>
                        <p:par>
                          <p:cTn id="466" fill="hold">
                            <p:stCondLst>
                              <p:cond delay="1000"/>
                            </p:stCondLst>
                            <p:childTnLst>
                              <p:par>
                                <p:cTn id="467" nodeType="afterEffect" fill="hold" presetClass="entr" presetID="1">
                                  <p:stCondLst>
                                    <p:cond delay="0"/>
                                  </p:stCondLst>
                                  <p:childTnLst>
                                    <p:set>
                                      <p:cBhvr>
                                        <p:cTn id="468" dur="1" fill="hold">
                                          <p:stCondLst>
                                            <p:cond delay="499"/>
                                          </p:stCondLst>
                                        </p:cTn>
                                        <p:tgtEl>
                                          <p:spTgt spid="1246"/>
                                        </p:tgtEl>
                                        <p:attrNameLst>
                                          <p:attrName>style.visibility</p:attrName>
                                        </p:attrNameLst>
                                      </p:cBhvr>
                                      <p:to>
                                        <p:strVal val="visible"/>
                                      </p:to>
                                    </p:set>
                                  </p:childTnLst>
                                </p:cTn>
                              </p:par>
                            </p:childTnLst>
                          </p:cTn>
                        </p:par>
                        <p:par>
                          <p:cTn id="469" fill="hold">
                            <p:stCondLst>
                              <p:cond delay="1500"/>
                            </p:stCondLst>
                            <p:childTnLst>
                              <p:par>
                                <p:cTn id="470" nodeType="afterEffect" fill="hold" presetClass="entr" presetID="1">
                                  <p:stCondLst>
                                    <p:cond delay="0"/>
                                  </p:stCondLst>
                                  <p:childTnLst>
                                    <p:set>
                                      <p:cBhvr>
                                        <p:cTn id="471" dur="1" fill="hold">
                                          <p:stCondLst>
                                            <p:cond delay="499"/>
                                          </p:stCondLst>
                                        </p:cTn>
                                        <p:tgtEl>
                                          <p:spTgt spid="1255"/>
                                        </p:tgtEl>
                                        <p:attrNameLst>
                                          <p:attrName>style.visibility</p:attrName>
                                        </p:attrNameLst>
                                      </p:cBhvr>
                                      <p:to>
                                        <p:strVal val="visible"/>
                                      </p:to>
                                    </p:set>
                                  </p:childTnLst>
                                </p:cTn>
                              </p:par>
                            </p:childTnLst>
                          </p:cTn>
                        </p:par>
                        <p:par>
                          <p:cTn id="472" fill="hold">
                            <p:stCondLst>
                              <p:cond delay="2000"/>
                            </p:stCondLst>
                            <p:childTnLst>
                              <p:par>
                                <p:cTn id="473" nodeType="afterEffect" fill="hold" presetClass="entr" presetID="1">
                                  <p:stCondLst>
                                    <p:cond delay="0"/>
                                  </p:stCondLst>
                                  <p:childTnLst>
                                    <p:set>
                                      <p:cBhvr>
                                        <p:cTn id="474" dur="1" fill="hold">
                                          <p:stCondLst>
                                            <p:cond delay="499"/>
                                          </p:stCondLst>
                                        </p:cTn>
                                        <p:tgtEl>
                                          <p:spTgt spid="1249"/>
                                        </p:tgtEl>
                                        <p:attrNameLst>
                                          <p:attrName>style.visibility</p:attrName>
                                        </p:attrNameLst>
                                      </p:cBhvr>
                                      <p:to>
                                        <p:strVal val="visible"/>
                                      </p:to>
                                    </p:set>
                                  </p:childTnLst>
                                </p:cTn>
                              </p:par>
                            </p:childTnLst>
                          </p:cTn>
                        </p:par>
                        <p:par>
                          <p:cTn id="475" fill="hold">
                            <p:stCondLst>
                              <p:cond delay="2500"/>
                            </p:stCondLst>
                            <p:childTnLst>
                              <p:par>
                                <p:cTn id="476" nodeType="afterEffect" fill="hold" presetClass="entr" presetID="1">
                                  <p:stCondLst>
                                    <p:cond delay="0"/>
                                  </p:stCondLst>
                                  <p:childTnLst>
                                    <p:set>
                                      <p:cBhvr>
                                        <p:cTn id="477" dur="1" fill="hold">
                                          <p:stCondLst>
                                            <p:cond delay="499"/>
                                          </p:stCondLst>
                                        </p:cTn>
                                        <p:tgtEl>
                                          <p:spTgt spid="1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SONIC LOG</a:t>
            </a:r>
            <a:endParaRPr b="0" lang="en-US" sz="4000" spc="-1" strike="noStrike">
              <a:solidFill>
                <a:srgbClr val="000000"/>
              </a:solidFill>
              <a:latin typeface="Times New Roman"/>
            </a:endParaRPr>
          </a:p>
        </p:txBody>
      </p:sp>
      <p:sp>
        <p:nvSpPr>
          <p:cNvPr id="1259" name="PlaceHolder 2"/>
          <p:cNvSpPr>
            <a:spLocks noGrp="1"/>
          </p:cNvSpPr>
          <p:nvPr>
            <p:ph/>
          </p:nvPr>
        </p:nvSpPr>
        <p:spPr>
          <a:xfrm>
            <a:off x="304560" y="1218960"/>
            <a:ext cx="8451720" cy="2724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00"/>
                </a:solidFill>
                <a:uFillTx/>
                <a:latin typeface="Arial"/>
              </a:rPr>
              <a:t>The response can be written as follows:</a:t>
            </a:r>
            <a:endParaRPr b="0" lang="en-US" sz="3200" spc="-1" strike="noStrike">
              <a:solidFill>
                <a:srgbClr val="000000"/>
              </a:solidFill>
              <a:latin typeface="Times New Roman"/>
            </a:endParaRPr>
          </a:p>
        </p:txBody>
      </p:sp>
      <mc:AlternateContent>
        <mc:Choice xmlns:a14="http://schemas.microsoft.com/office/drawing/2010/main" Requires="a14">
          <p:sp>
            <p:nvSpPr>
              <p:cNvPr id="1260" name="Object 4"/>
              <p:cNvSpPr txBox="1"/>
              <p:nvPr/>
            </p:nvSpPr>
            <p:spPr>
              <a:xfrm>
                <a:off x="1600200" y="1981080"/>
                <a:ext cx="5524560" cy="800280"/>
              </a:xfrm>
              <a:prstGeom prst="rect">
                <a:avLst/>
              </a:prstGeom>
            </p:spPr>
            <p:txBody>
              <a:bodyPr/>
              <a:p>
                <a14:m>
                  <m:oMath xmlns:m="http://schemas.openxmlformats.org/officeDocument/2006/math">
                    <m:sSub>
                      <m:e>
                        <m:r>
                          <m:t xml:space="preserve">t</m:t>
                        </m:r>
                      </m:e>
                      <m:sub>
                        <m:r>
                          <m:rPr>
                            <m:lit/>
                            <m:nor/>
                          </m:rPr>
                          <m:t xml:space="preserve">log</m:t>
                        </m:r>
                      </m:sub>
                    </m:sSub>
                    <m:r>
                      <m:t xml:space="preserve"> </m:t>
                    </m:r>
                    <m:r>
                      <m:t xml:space="preserve">=</m:t>
                    </m:r>
                    <m:r>
                      <m:t xml:space="preserve"> </m:t>
                    </m:r>
                    <m:sSub>
                      <m:e>
                        <m:r>
                          <m:t xml:space="preserve">t</m:t>
                        </m:r>
                      </m:e>
                      <m:sub>
                        <m:r>
                          <m:rPr>
                            <m:lit/>
                            <m:nor/>
                          </m:rPr>
                          <m:t xml:space="preserve">ma</m:t>
                        </m:r>
                      </m:sub>
                    </m:sSub>
                    <m:r>
                      <m:t xml:space="preserve"> </m:t>
                    </m:r>
                    <m:d>
                      <m:dPr>
                        <m:begChr m:val="("/>
                        <m:endChr m:val=")"/>
                      </m:dPr>
                      <m:e>
                        <m:r>
                          <m:t xml:space="preserve">1</m:t>
                        </m:r>
                        <m:r>
                          <m:t xml:space="preserve"> </m:t>
                        </m:r>
                        <m:r>
                          <m:t xml:space="preserve">−</m:t>
                        </m:r>
                        <m:r>
                          <m:t xml:space="preserve"> </m:t>
                        </m:r>
                        <m:r>
                          <m:t xml:space="preserve">φ</m:t>
                        </m:r>
                      </m:e>
                    </m:d>
                    <m:r>
                      <m:t xml:space="preserve"> </m:t>
                    </m:r>
                    <m:r>
                      <m:t xml:space="preserve">+</m:t>
                    </m:r>
                    <m:r>
                      <m:t xml:space="preserve"> </m:t>
                    </m:r>
                    <m:sSub>
                      <m:e>
                        <m:r>
                          <m:t xml:space="preserve">t</m:t>
                        </m:r>
                      </m:e>
                      <m:sub>
                        <m:r>
                          <m:t xml:space="preserve">f</m:t>
                        </m:r>
                      </m:sub>
                    </m:sSub>
                    <m:r>
                      <m:t xml:space="preserve"> </m:t>
                    </m:r>
                    <m:r>
                      <m:t xml:space="preserve">φ</m:t>
                    </m:r>
                  </m:oMath>
                </a14:m>
              </a:p>
            </p:txBody>
          </p:sp>
        </mc:Choice>
        <mc:Fallback/>
      </mc:AlternateContent>
      <mc:AlternateContent>
        <mc:Choice xmlns:a14="http://schemas.microsoft.com/office/drawing/2010/main" Requires="a14">
          <p:sp>
            <p:nvSpPr>
              <p:cNvPr id="1261" name="Object 5"/>
              <p:cNvSpPr txBox="1"/>
              <p:nvPr/>
            </p:nvSpPr>
            <p:spPr>
              <a:xfrm>
                <a:off x="2209680" y="3206880"/>
                <a:ext cx="2965680" cy="1441440"/>
              </a:xfrm>
              <a:prstGeom prst="rect">
                <a:avLst/>
              </a:prstGeom>
            </p:spPr>
            <p:txBody>
              <a:bodyPr/>
              <a:p>
                <a14:m>
                  <m:oMath xmlns:m="http://schemas.openxmlformats.org/officeDocument/2006/math">
                    <m:r>
                      <m:t xml:space="preserve">φ</m:t>
                    </m:r>
                    <m:r>
                      <m:t xml:space="preserve"> </m:t>
                    </m:r>
                    <m:r>
                      <m:t xml:space="preserve">=</m:t>
                    </m:r>
                    <m:r>
                      <m:t xml:space="preserve"> </m:t>
                    </m:r>
                    <m:f>
                      <m:num>
                        <m:sSub>
                          <m:e>
                            <m:r>
                              <m:t xml:space="preserve">t</m:t>
                            </m:r>
                          </m:e>
                          <m:sub>
                            <m:r>
                              <m:rPr>
                                <m:lit/>
                                <m:nor/>
                              </m:rPr>
                              <m:t xml:space="preserve">log</m:t>
                            </m:r>
                          </m:sub>
                        </m:sSub>
                        <m:r>
                          <m:t xml:space="preserve"> </m:t>
                        </m:r>
                        <m:r>
                          <m:t xml:space="preserve">−</m:t>
                        </m:r>
                        <m:r>
                          <m:t xml:space="preserve"> </m:t>
                        </m:r>
                        <m:sSub>
                          <m:e>
                            <m:r>
                              <m:t xml:space="preserve">t</m:t>
                            </m:r>
                          </m:e>
                          <m:sub>
                            <m:r>
                              <m:rPr>
                                <m:lit/>
                                <m:nor/>
                              </m:rPr>
                              <m:t xml:space="preserve">ma</m:t>
                            </m:r>
                          </m:sub>
                        </m:sSub>
                      </m:num>
                      <m:den>
                        <m:sSub>
                          <m:e>
                            <m:r>
                              <m:t xml:space="preserve">t</m:t>
                            </m:r>
                          </m:e>
                          <m:sub>
                            <m:r>
                              <m:t xml:space="preserve">f</m:t>
                            </m:r>
                          </m:sub>
                        </m:sSub>
                        <m:r>
                          <m:t xml:space="preserve"> </m:t>
                        </m:r>
                        <m:r>
                          <m:t xml:space="preserve">−</m:t>
                        </m:r>
                        <m:r>
                          <m:t xml:space="preserve"> </m:t>
                        </m:r>
                        <m:sSub>
                          <m:e>
                            <m:r>
                              <m:t xml:space="preserve">t</m:t>
                            </m:r>
                          </m:e>
                          <m:sub>
                            <m:r>
                              <m:rPr>
                                <m:lit/>
                                <m:nor/>
                              </m:rPr>
                              <m:t xml:space="preserve">ma</m:t>
                            </m:r>
                          </m:sub>
                        </m:sSub>
                      </m:den>
                    </m:f>
                  </m:oMath>
                </a14:m>
              </a:p>
            </p:txBody>
          </p:sp>
        </mc:Choice>
        <mc:Fallback/>
      </mc:AlternateContent>
      <p:sp>
        <p:nvSpPr>
          <p:cNvPr id="1262" name="Text Box 6"/>
          <p:cNvSpPr/>
          <p:nvPr/>
        </p:nvSpPr>
        <p:spPr>
          <a:xfrm>
            <a:off x="38160" y="5324400"/>
            <a:ext cx="3647880" cy="1640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log </a:t>
            </a:r>
            <a:r>
              <a:rPr b="0" lang="en-US" sz="1600" spc="-1" strike="noStrike">
                <a:solidFill>
                  <a:srgbClr val="000000"/>
                </a:solidFill>
                <a:latin typeface="Arial"/>
              </a:rPr>
              <a:t> = log reading, </a:t>
            </a:r>
            <a:r>
              <a:rPr b="0" lang="en-US" sz="1600" spc="-1" strike="noStrike">
                <a:solidFill>
                  <a:srgbClr val="000000"/>
                </a:solidFill>
                <a:latin typeface="Symbol"/>
                <a:ea typeface="Symbol"/>
              </a:rPr>
              <a:t></a:t>
            </a:r>
            <a:r>
              <a:rPr b="0" lang="en-US" sz="1600" spc="-1" strike="noStrike">
                <a:solidFill>
                  <a:srgbClr val="000000"/>
                </a:solidFill>
                <a:latin typeface="Arial"/>
              </a:rPr>
              <a:t>sec/ft</a:t>
            </a:r>
            <a:endParaRPr b="0" lang="en-US" sz="16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ma  =</a:t>
            </a:r>
            <a:r>
              <a:rPr b="0" lang="en-US" sz="1600" spc="-1" strike="noStrike">
                <a:solidFill>
                  <a:srgbClr val="000000"/>
                </a:solidFill>
                <a:latin typeface="Arial"/>
              </a:rPr>
              <a:t> the matrix travel time, </a:t>
            </a:r>
            <a:r>
              <a:rPr b="0" lang="en-US" sz="1600" spc="-1" strike="noStrike">
                <a:solidFill>
                  <a:srgbClr val="000000"/>
                </a:solidFill>
                <a:latin typeface="Symbol"/>
                <a:ea typeface="Symbol"/>
              </a:rPr>
              <a:t></a:t>
            </a:r>
            <a:r>
              <a:rPr b="0" lang="en-US" sz="1600" spc="-1" strike="noStrike">
                <a:solidFill>
                  <a:srgbClr val="000000"/>
                </a:solidFill>
                <a:latin typeface="Arial"/>
              </a:rPr>
              <a:t>sec/ft</a:t>
            </a:r>
            <a:endParaRPr b="0" lang="en-US" sz="16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f</a:t>
            </a:r>
            <a:r>
              <a:rPr b="0" lang="en-US" sz="1600" spc="-1" strike="noStrike">
                <a:solidFill>
                  <a:srgbClr val="000000"/>
                </a:solidFill>
                <a:latin typeface="Arial"/>
              </a:rPr>
              <a:t>   = the fluid travel time, </a:t>
            </a:r>
            <a:r>
              <a:rPr b="0" lang="en-US" sz="1600" spc="-1" strike="noStrike">
                <a:solidFill>
                  <a:srgbClr val="000000"/>
                </a:solidFill>
                <a:latin typeface="Symbol"/>
                <a:ea typeface="Symbol"/>
              </a:rPr>
              <a:t></a:t>
            </a:r>
            <a:r>
              <a:rPr b="0" lang="en-US" sz="1600" spc="-1" strike="noStrike">
                <a:solidFill>
                  <a:srgbClr val="000000"/>
                </a:solidFill>
                <a:latin typeface="Arial"/>
              </a:rPr>
              <a:t>sec/ft</a:t>
            </a:r>
            <a:endParaRPr b="0" lang="en-US" sz="16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   </a:t>
            </a:r>
            <a:r>
              <a:rPr b="0" lang="en-US" sz="1600" spc="-1" strike="noStrike">
                <a:solidFill>
                  <a:srgbClr val="000000"/>
                </a:solidFill>
                <a:latin typeface="Arial"/>
              </a:rPr>
              <a:t>= poros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afterEffect" fill="hold" presetClass="entr" presetID="16" presetSubtype="26">
                                  <p:stCondLst>
                                    <p:cond delay="0"/>
                                  </p:stCondLst>
                                  <p:childTnLst>
                                    <p:set>
                                      <p:cBhvr>
                                        <p:cTn id="483" dur="1" fill="hold">
                                          <p:stCondLst>
                                            <p:cond delay="0"/>
                                          </p:stCondLst>
                                        </p:cTn>
                                        <p:tgtEl>
                                          <p:spTgt spid="1258"/>
                                        </p:tgtEl>
                                        <p:attrNameLst>
                                          <p:attrName>style.visibility</p:attrName>
                                        </p:attrNameLst>
                                      </p:cBhvr>
                                      <p:to>
                                        <p:strVal val="visible"/>
                                      </p:to>
                                    </p:set>
                                    <p:animEffect filter="barn(inHorizontal)" transition="in">
                                      <p:cBhvr additive="repl">
                                        <p:cTn id="484" dur="500"/>
                                        <p:tgtEl>
                                          <p:spTgt spid="1258"/>
                                        </p:tgtEl>
                                      </p:cBhvr>
                                    </p:animEffect>
                                  </p:childTnLst>
                                </p:cTn>
                              </p:par>
                            </p:childTnLst>
                          </p:cTn>
                        </p:par>
                        <p:par>
                          <p:cTn id="485" fill="hold">
                            <p:stCondLst>
                              <p:cond delay="500"/>
                            </p:stCondLst>
                            <p:childTnLst>
                              <p:par>
                                <p:cTn id="486" nodeType="afterEffect" fill="hold" presetClass="entr" presetID="2" presetSubtype="8">
                                  <p:stCondLst>
                                    <p:cond delay="0"/>
                                  </p:stCondLst>
                                  <p:childTnLst>
                                    <p:set>
                                      <p:cBhvr>
                                        <p:cTn id="487" dur="1" fill="hold">
                                          <p:stCondLst>
                                            <p:cond delay="0"/>
                                          </p:stCondLst>
                                        </p:cTn>
                                        <p:tgtEl>
                                          <p:spTgt spid="1259">
                                            <p:txEl>
                                              <p:pRg st="0" end="0"/>
                                            </p:txEl>
                                          </p:spTgt>
                                        </p:tgtEl>
                                        <p:attrNameLst>
                                          <p:attrName>style.visibility</p:attrName>
                                        </p:attrNameLst>
                                      </p:cBhvr>
                                      <p:to>
                                        <p:strVal val="visible"/>
                                      </p:to>
                                    </p:set>
                                    <p:anim calcmode="lin" valueType="num">
                                      <p:cBhvr additive="base">
                                        <p:cTn id="488" dur="500" fill="hold"/>
                                        <p:tgtEl>
                                          <p:spTgt spid="1259">
                                            <p:txEl>
                                              <p:pRg st="0" end="0"/>
                                            </p:txEl>
                                          </p:spTgt>
                                        </p:tgtEl>
                                        <p:attrNameLst>
                                          <p:attrName>ppt_x</p:attrName>
                                        </p:attrNameLst>
                                      </p:cBhvr>
                                      <p:tavLst>
                                        <p:tav tm="0">
                                          <p:val>
                                            <p:strVal val="0-#ppt_w/2"/>
                                          </p:val>
                                        </p:tav>
                                        <p:tav tm="100000">
                                          <p:val>
                                            <p:strVal val="#ppt_x"/>
                                          </p:val>
                                        </p:tav>
                                      </p:tavLst>
                                    </p:anim>
                                    <p:anim calcmode="lin" valueType="num">
                                      <p:cBhvr additive="base">
                                        <p:cTn id="489" dur="500" fill="hold"/>
                                        <p:tgtEl>
                                          <p:spTgt spid="1259">
                                            <p:txEl>
                                              <p:pRg st="0" end="0"/>
                                            </p:txEl>
                                          </p:spTgt>
                                        </p:tgtEl>
                                        <p:attrNameLst>
                                          <p:attrName>ppt_y</p:attrName>
                                        </p:attrNameLst>
                                      </p:cBhvr>
                                      <p:tavLst>
                                        <p:tav tm="0">
                                          <p:val>
                                            <p:strVal val="#ppt_y"/>
                                          </p:val>
                                        </p:tav>
                                        <p:tav tm="100000">
                                          <p:val>
                                            <p:strVal val="#ppt_y"/>
                                          </p:val>
                                        </p:tav>
                                      </p:tavLst>
                                    </p:anim>
                                  </p:childTnLst>
                                </p:cTn>
                              </p:par>
                            </p:childTnLst>
                          </p:cTn>
                        </p:par>
                        <p:par>
                          <p:cTn id="490" fill="hold">
                            <p:stCondLst>
                              <p:cond delay="1000"/>
                            </p:stCondLst>
                            <p:childTnLst>
                              <p:par>
                                <p:cTn id="491" nodeType="afterEffect" fill="hold" presetClass="entr" presetID="2" presetSubtype="8">
                                  <p:stCondLst>
                                    <p:cond delay="0"/>
                                  </p:stCondLst>
                                  <p:childTnLst>
                                    <p:set>
                                      <p:cBhvr>
                                        <p:cTn id="492" dur="1" fill="hold">
                                          <p:stCondLst>
                                            <p:cond delay="0"/>
                                          </p:stCondLst>
                                        </p:cTn>
                                        <p:tgtEl>
                                          <p:spTgt spid="1260"/>
                                        </p:tgtEl>
                                        <p:attrNameLst>
                                          <p:attrName>style.visibility</p:attrName>
                                        </p:attrNameLst>
                                      </p:cBhvr>
                                      <p:to>
                                        <p:strVal val="visible"/>
                                      </p:to>
                                    </p:set>
                                    <p:anim calcmode="lin" valueType="num">
                                      <p:cBhvr additive="base">
                                        <p:cTn id="493" dur="500" fill="hold"/>
                                        <p:tgtEl>
                                          <p:spTgt spid="1260"/>
                                        </p:tgtEl>
                                        <p:attrNameLst>
                                          <p:attrName>ppt_x</p:attrName>
                                        </p:attrNameLst>
                                      </p:cBhvr>
                                      <p:tavLst>
                                        <p:tav tm="0">
                                          <p:val>
                                            <p:strVal val="0-#ppt_w/2"/>
                                          </p:val>
                                        </p:tav>
                                        <p:tav tm="100000">
                                          <p:val>
                                            <p:strVal val="#ppt_x"/>
                                          </p:val>
                                        </p:tav>
                                      </p:tavLst>
                                    </p:anim>
                                    <p:anim calcmode="lin" valueType="num">
                                      <p:cBhvr additive="base">
                                        <p:cTn id="494" dur="500" fill="hold"/>
                                        <p:tgtEl>
                                          <p:spTgt spid="1260"/>
                                        </p:tgtEl>
                                        <p:attrNameLst>
                                          <p:attrName>ppt_y</p:attrName>
                                        </p:attrNameLst>
                                      </p:cBhvr>
                                      <p:tavLst>
                                        <p:tav tm="0">
                                          <p:val>
                                            <p:strVal val="#ppt_y"/>
                                          </p:val>
                                        </p:tav>
                                        <p:tav tm="100000">
                                          <p:val>
                                            <p:strVal val="#ppt_y"/>
                                          </p:val>
                                        </p:tav>
                                      </p:tavLst>
                                    </p:anim>
                                  </p:childTnLst>
                                </p:cTn>
                              </p:par>
                            </p:childTnLst>
                          </p:cTn>
                        </p:par>
                        <p:par>
                          <p:cTn id="495" fill="hold">
                            <p:stCondLst>
                              <p:cond delay="1500"/>
                            </p:stCondLst>
                            <p:childTnLst>
                              <p:par>
                                <p:cTn id="496" nodeType="afterEffect" fill="hold" presetClass="entr" presetID="2" presetSubtype="8">
                                  <p:stCondLst>
                                    <p:cond delay="0"/>
                                  </p:stCondLst>
                                  <p:childTnLst>
                                    <p:set>
                                      <p:cBhvr>
                                        <p:cTn id="497" dur="1" fill="hold">
                                          <p:stCondLst>
                                            <p:cond delay="0"/>
                                          </p:stCondLst>
                                        </p:cTn>
                                        <p:tgtEl>
                                          <p:spTgt spid="1261"/>
                                        </p:tgtEl>
                                        <p:attrNameLst>
                                          <p:attrName>style.visibility</p:attrName>
                                        </p:attrNameLst>
                                      </p:cBhvr>
                                      <p:to>
                                        <p:strVal val="visible"/>
                                      </p:to>
                                    </p:set>
                                    <p:anim calcmode="lin" valueType="num">
                                      <p:cBhvr additive="base">
                                        <p:cTn id="498" dur="500" fill="hold"/>
                                        <p:tgtEl>
                                          <p:spTgt spid="1261"/>
                                        </p:tgtEl>
                                        <p:attrNameLst>
                                          <p:attrName>ppt_x</p:attrName>
                                        </p:attrNameLst>
                                      </p:cBhvr>
                                      <p:tavLst>
                                        <p:tav tm="0">
                                          <p:val>
                                            <p:strVal val="0-#ppt_w/2"/>
                                          </p:val>
                                        </p:tav>
                                        <p:tav tm="100000">
                                          <p:val>
                                            <p:strVal val="#ppt_x"/>
                                          </p:val>
                                        </p:tav>
                                      </p:tavLst>
                                    </p:anim>
                                    <p:anim calcmode="lin" valueType="num">
                                      <p:cBhvr additive="base">
                                        <p:cTn id="499" dur="500" fill="hold"/>
                                        <p:tgtEl>
                                          <p:spTgt spid="1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3" name="Group 2"/>
          <p:cNvGrpSpPr/>
          <p:nvPr/>
        </p:nvGrpSpPr>
        <p:grpSpPr>
          <a:xfrm>
            <a:off x="465120" y="1143000"/>
            <a:ext cx="5116680" cy="5410080"/>
            <a:chOff x="465120" y="1143000"/>
            <a:chExt cx="5116680" cy="5410080"/>
          </a:xfrm>
        </p:grpSpPr>
        <p:grpSp>
          <p:nvGrpSpPr>
            <p:cNvPr id="1264" name="Group 3"/>
            <p:cNvGrpSpPr/>
            <p:nvPr/>
          </p:nvGrpSpPr>
          <p:grpSpPr>
            <a:xfrm>
              <a:off x="465120" y="1143000"/>
              <a:ext cx="5116680" cy="5410080"/>
              <a:chOff x="465120" y="1143000"/>
              <a:chExt cx="5116680" cy="5410080"/>
            </a:xfrm>
          </p:grpSpPr>
          <p:sp>
            <p:nvSpPr>
              <p:cNvPr id="1265" name="Rectangle 4"/>
              <p:cNvSpPr/>
              <p:nvPr/>
            </p:nvSpPr>
            <p:spPr>
              <a:xfrm>
                <a:off x="465120" y="1263600"/>
                <a:ext cx="5116680" cy="8636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Rectangle 5"/>
              <p:cNvSpPr/>
              <p:nvPr/>
            </p:nvSpPr>
            <p:spPr>
              <a:xfrm>
                <a:off x="465120" y="2127240"/>
                <a:ext cx="5116680" cy="44258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7" name="Line 6"/>
              <p:cNvSpPr/>
              <p:nvPr/>
            </p:nvSpPr>
            <p:spPr>
              <a:xfrm>
                <a:off x="990720" y="139860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8" name="Line 7"/>
              <p:cNvSpPr/>
              <p:nvPr/>
            </p:nvSpPr>
            <p:spPr>
              <a:xfrm>
                <a:off x="990720" y="1400040"/>
                <a:ext cx="912600" cy="3240"/>
              </a:xfrm>
              <a:prstGeom prst="line">
                <a:avLst/>
              </a:prstGeom>
              <a:ln w="0">
                <a:solidFill>
                  <a:srgbClr val="0000ff"/>
                </a:solidFill>
                <a:prstDash val="sysDash"/>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69" name="Line 8"/>
              <p:cNvSpPr/>
              <p:nvPr/>
            </p:nvSpPr>
            <p:spPr>
              <a:xfrm>
                <a:off x="990720" y="140508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0" name="Line 9"/>
              <p:cNvSpPr/>
              <p:nvPr/>
            </p:nvSpPr>
            <p:spPr>
              <a:xfrm>
                <a:off x="990720" y="140652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1" name="Line 10"/>
              <p:cNvSpPr/>
              <p:nvPr/>
            </p:nvSpPr>
            <p:spPr>
              <a:xfrm>
                <a:off x="990720" y="140976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2" name="Line 11"/>
              <p:cNvSpPr/>
              <p:nvPr/>
            </p:nvSpPr>
            <p:spPr>
              <a:xfrm>
                <a:off x="990720" y="1411200"/>
                <a:ext cx="912600" cy="1800"/>
              </a:xfrm>
              <a:prstGeom prst="line">
                <a:avLst/>
              </a:prstGeom>
              <a:ln w="0">
                <a:solidFill>
                  <a:srgbClr val="0000ff"/>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3" name="Rectangle 12"/>
              <p:cNvSpPr/>
              <p:nvPr/>
            </p:nvSpPr>
            <p:spPr>
              <a:xfrm>
                <a:off x="1318680" y="128916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GRC</a:t>
                </a:r>
                <a:endParaRPr b="0" lang="en-US" sz="1000" spc="-1" strike="noStrike">
                  <a:solidFill>
                    <a:srgbClr val="000000"/>
                  </a:solidFill>
                  <a:latin typeface="Times New Roman"/>
                </a:endParaRPr>
              </a:p>
            </p:txBody>
          </p:sp>
          <p:sp>
            <p:nvSpPr>
              <p:cNvPr id="1274" name="Rectangle 13"/>
              <p:cNvSpPr/>
              <p:nvPr/>
            </p:nvSpPr>
            <p:spPr>
              <a:xfrm>
                <a:off x="993240" y="1406520"/>
                <a:ext cx="77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a:t>
                </a:r>
                <a:endParaRPr b="0" lang="en-US" sz="1000" spc="-1" strike="noStrike">
                  <a:solidFill>
                    <a:srgbClr val="000000"/>
                  </a:solidFill>
                  <a:latin typeface="Times New Roman"/>
                </a:endParaRPr>
              </a:p>
            </p:txBody>
          </p:sp>
          <p:sp>
            <p:nvSpPr>
              <p:cNvPr id="1275" name="Rectangle 14"/>
              <p:cNvSpPr/>
              <p:nvPr/>
            </p:nvSpPr>
            <p:spPr>
              <a:xfrm>
                <a:off x="164412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50</a:t>
                </a:r>
                <a:endParaRPr b="0" lang="en-US" sz="1000" spc="-1" strike="noStrike">
                  <a:solidFill>
                    <a:srgbClr val="000000"/>
                  </a:solidFill>
                  <a:latin typeface="Times New Roman"/>
                </a:endParaRPr>
              </a:p>
            </p:txBody>
          </p:sp>
          <p:sp>
            <p:nvSpPr>
              <p:cNvPr id="1276" name="Rectangle 15"/>
              <p:cNvSpPr/>
              <p:nvPr/>
            </p:nvSpPr>
            <p:spPr>
              <a:xfrm>
                <a:off x="95256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7" name="Line 16"/>
              <p:cNvSpPr/>
              <p:nvPr/>
            </p:nvSpPr>
            <p:spPr>
              <a:xfrm>
                <a:off x="990720" y="1693800"/>
                <a:ext cx="912600" cy="1800"/>
              </a:xfrm>
              <a:prstGeom prst="line">
                <a:avLst/>
              </a:prstGeom>
              <a:ln w="2844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8" name="Rectangle 17"/>
              <p:cNvSpPr/>
              <p:nvPr/>
            </p:nvSpPr>
            <p:spPr>
              <a:xfrm>
                <a:off x="1318680" y="15778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PC</a:t>
                </a:r>
                <a:endParaRPr b="0" lang="en-US" sz="1000" spc="-1" strike="noStrike">
                  <a:solidFill>
                    <a:srgbClr val="000000"/>
                  </a:solidFill>
                  <a:latin typeface="Times New Roman"/>
                </a:endParaRPr>
              </a:p>
            </p:txBody>
          </p:sp>
          <p:sp>
            <p:nvSpPr>
              <p:cNvPr id="1279" name="Rectangle 18"/>
              <p:cNvSpPr/>
              <p:nvPr/>
            </p:nvSpPr>
            <p:spPr>
              <a:xfrm>
                <a:off x="1350720" y="169380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V</a:t>
                </a:r>
                <a:endParaRPr b="0" lang="en-US" sz="1000" spc="-1" strike="noStrike">
                  <a:solidFill>
                    <a:srgbClr val="000000"/>
                  </a:solidFill>
                  <a:latin typeface="Times New Roman"/>
                </a:endParaRPr>
              </a:p>
            </p:txBody>
          </p:sp>
          <p:sp>
            <p:nvSpPr>
              <p:cNvPr id="1280" name="Rectangle 19"/>
              <p:cNvSpPr/>
              <p:nvPr/>
            </p:nvSpPr>
            <p:spPr>
              <a:xfrm>
                <a:off x="993240" y="169380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60</a:t>
                </a:r>
                <a:endParaRPr b="0" lang="en-US" sz="1000" spc="-1" strike="noStrike">
                  <a:solidFill>
                    <a:srgbClr val="000000"/>
                  </a:solidFill>
                  <a:latin typeface="Times New Roman"/>
                </a:endParaRPr>
              </a:p>
            </p:txBody>
          </p:sp>
          <p:sp>
            <p:nvSpPr>
              <p:cNvPr id="1281" name="Rectangle 20"/>
              <p:cNvSpPr/>
              <p:nvPr/>
            </p:nvSpPr>
            <p:spPr>
              <a:xfrm>
                <a:off x="1709640" y="169380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40</a:t>
                </a:r>
                <a:endParaRPr b="0" lang="en-US" sz="1000" spc="-1" strike="noStrike">
                  <a:solidFill>
                    <a:srgbClr val="000000"/>
                  </a:solidFill>
                  <a:latin typeface="Times New Roman"/>
                </a:endParaRPr>
              </a:p>
            </p:txBody>
          </p:sp>
          <p:sp>
            <p:nvSpPr>
              <p:cNvPr id="1282" name="Rectangle 21"/>
              <p:cNvSpPr/>
              <p:nvPr/>
            </p:nvSpPr>
            <p:spPr>
              <a:xfrm>
                <a:off x="952560" y="157968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3" name="Line 22"/>
              <p:cNvSpPr/>
              <p:nvPr/>
            </p:nvSpPr>
            <p:spPr>
              <a:xfrm>
                <a:off x="990720" y="197496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4" name="Line 23"/>
              <p:cNvSpPr/>
              <p:nvPr/>
            </p:nvSpPr>
            <p:spPr>
              <a:xfrm>
                <a:off x="990720" y="197640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5" name="Line 24"/>
              <p:cNvSpPr/>
              <p:nvPr/>
            </p:nvSpPr>
            <p:spPr>
              <a:xfrm>
                <a:off x="990720" y="197964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6" name="Line 25"/>
              <p:cNvSpPr/>
              <p:nvPr/>
            </p:nvSpPr>
            <p:spPr>
              <a:xfrm>
                <a:off x="990720" y="198108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7" name="Line 26"/>
              <p:cNvSpPr/>
              <p:nvPr/>
            </p:nvSpPr>
            <p:spPr>
              <a:xfrm>
                <a:off x="990720" y="198432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8" name="Line 27"/>
              <p:cNvSpPr/>
              <p:nvPr/>
            </p:nvSpPr>
            <p:spPr>
              <a:xfrm>
                <a:off x="990720" y="198612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9" name="Rectangle 28"/>
              <p:cNvSpPr/>
              <p:nvPr/>
            </p:nvSpPr>
            <p:spPr>
              <a:xfrm>
                <a:off x="1287000" y="18637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CAL</a:t>
                </a:r>
                <a:endParaRPr b="0" lang="en-US" sz="1000" spc="-1" strike="noStrike">
                  <a:solidFill>
                    <a:srgbClr val="000000"/>
                  </a:solidFill>
                  <a:latin typeface="Times New Roman"/>
                </a:endParaRPr>
              </a:p>
            </p:txBody>
          </p:sp>
          <p:sp>
            <p:nvSpPr>
              <p:cNvPr id="1290" name="Rectangle 29"/>
              <p:cNvSpPr/>
              <p:nvPr/>
            </p:nvSpPr>
            <p:spPr>
              <a:xfrm>
                <a:off x="993240" y="1981080"/>
                <a:ext cx="77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6</a:t>
                </a:r>
                <a:endParaRPr b="0" lang="en-US" sz="1000" spc="-1" strike="noStrike">
                  <a:solidFill>
                    <a:srgbClr val="000000"/>
                  </a:solidFill>
                  <a:latin typeface="Times New Roman"/>
                </a:endParaRPr>
              </a:p>
            </p:txBody>
          </p:sp>
          <p:sp>
            <p:nvSpPr>
              <p:cNvPr id="1291" name="Rectangle 30"/>
              <p:cNvSpPr/>
              <p:nvPr/>
            </p:nvSpPr>
            <p:spPr>
              <a:xfrm>
                <a:off x="1709640" y="198108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6</a:t>
                </a:r>
                <a:endParaRPr b="0" lang="en-US" sz="1000" spc="-1" strike="noStrike">
                  <a:solidFill>
                    <a:srgbClr val="000000"/>
                  </a:solidFill>
                  <a:latin typeface="Times New Roman"/>
                </a:endParaRPr>
              </a:p>
            </p:txBody>
          </p:sp>
          <p:sp>
            <p:nvSpPr>
              <p:cNvPr id="1292" name="Rectangle 31"/>
              <p:cNvSpPr/>
              <p:nvPr/>
            </p:nvSpPr>
            <p:spPr>
              <a:xfrm>
                <a:off x="952560" y="1866960"/>
                <a:ext cx="993600" cy="230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3" name="Line 32"/>
              <p:cNvSpPr/>
              <p:nvPr/>
            </p:nvSpPr>
            <p:spPr>
              <a:xfrm>
                <a:off x="2068560" y="139860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4" name="Line 33"/>
              <p:cNvSpPr/>
              <p:nvPr/>
            </p:nvSpPr>
            <p:spPr>
              <a:xfrm>
                <a:off x="2068560" y="1400040"/>
                <a:ext cx="1271520" cy="3240"/>
              </a:xfrm>
              <a:prstGeom prst="line">
                <a:avLst/>
              </a:prstGeom>
              <a:ln w="0">
                <a:solidFill>
                  <a:srgbClr val="008000"/>
                </a:solidFill>
                <a:prstDash val="sysDash"/>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95" name="Line 34"/>
              <p:cNvSpPr/>
              <p:nvPr/>
            </p:nvSpPr>
            <p:spPr>
              <a:xfrm>
                <a:off x="2068560" y="140508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6" name="Line 35"/>
              <p:cNvSpPr/>
              <p:nvPr/>
            </p:nvSpPr>
            <p:spPr>
              <a:xfrm>
                <a:off x="2068560" y="140652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7" name="Line 36"/>
              <p:cNvSpPr/>
              <p:nvPr/>
            </p:nvSpPr>
            <p:spPr>
              <a:xfrm>
                <a:off x="2068560" y="140976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8" name="Line 37"/>
              <p:cNvSpPr/>
              <p:nvPr/>
            </p:nvSpPr>
            <p:spPr>
              <a:xfrm>
                <a:off x="2068560" y="1411200"/>
                <a:ext cx="1271520" cy="1800"/>
              </a:xfrm>
              <a:prstGeom prst="line">
                <a:avLst/>
              </a:prstGeom>
              <a:ln w="0">
                <a:solidFill>
                  <a:srgbClr val="008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9" name="Rectangle 38"/>
              <p:cNvSpPr/>
              <p:nvPr/>
            </p:nvSpPr>
            <p:spPr>
              <a:xfrm>
                <a:off x="2542680" y="128916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LDC</a:t>
                </a:r>
                <a:endParaRPr b="0" lang="en-US" sz="1000" spc="-1" strike="noStrike">
                  <a:solidFill>
                    <a:srgbClr val="000000"/>
                  </a:solidFill>
                  <a:latin typeface="Times New Roman"/>
                </a:endParaRPr>
              </a:p>
            </p:txBody>
          </p:sp>
          <p:sp>
            <p:nvSpPr>
              <p:cNvPr id="1300" name="Rectangle 39"/>
              <p:cNvSpPr/>
              <p:nvPr/>
            </p:nvSpPr>
            <p:spPr>
              <a:xfrm>
                <a:off x="207288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1301" name="Rectangle 40"/>
              <p:cNvSpPr/>
              <p:nvPr/>
            </p:nvSpPr>
            <p:spPr>
              <a:xfrm>
                <a:off x="308088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1302" name="Rectangle 41"/>
              <p:cNvSpPr/>
              <p:nvPr/>
            </p:nvSpPr>
            <p:spPr>
              <a:xfrm>
                <a:off x="2028960" y="1292400"/>
                <a:ext cx="135396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Line 42"/>
              <p:cNvSpPr/>
              <p:nvPr/>
            </p:nvSpPr>
            <p:spPr>
              <a:xfrm>
                <a:off x="2068560" y="168588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4" name="Line 43"/>
              <p:cNvSpPr/>
              <p:nvPr/>
            </p:nvSpPr>
            <p:spPr>
              <a:xfrm>
                <a:off x="2068560" y="168912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5" name="Line 44"/>
              <p:cNvSpPr/>
              <p:nvPr/>
            </p:nvSpPr>
            <p:spPr>
              <a:xfrm>
                <a:off x="2068560" y="169056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6" name="Line 45"/>
              <p:cNvSpPr/>
              <p:nvPr/>
            </p:nvSpPr>
            <p:spPr>
              <a:xfrm>
                <a:off x="2068560" y="169380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7" name="Line 46"/>
              <p:cNvSpPr/>
              <p:nvPr/>
            </p:nvSpPr>
            <p:spPr>
              <a:xfrm>
                <a:off x="2068560" y="169560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8" name="Line 47"/>
              <p:cNvSpPr/>
              <p:nvPr/>
            </p:nvSpPr>
            <p:spPr>
              <a:xfrm>
                <a:off x="2068560" y="170028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9" name="Rectangle 48"/>
              <p:cNvSpPr/>
              <p:nvPr/>
            </p:nvSpPr>
            <p:spPr>
              <a:xfrm>
                <a:off x="2574720" y="15778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NC</a:t>
                </a:r>
                <a:endParaRPr b="0" lang="en-US" sz="1000" spc="-1" strike="noStrike">
                  <a:solidFill>
                    <a:srgbClr val="000000"/>
                  </a:solidFill>
                  <a:latin typeface="Times New Roman"/>
                </a:endParaRPr>
              </a:p>
            </p:txBody>
          </p:sp>
          <p:sp>
            <p:nvSpPr>
              <p:cNvPr id="1310" name="Rectangle 49"/>
              <p:cNvSpPr/>
              <p:nvPr/>
            </p:nvSpPr>
            <p:spPr>
              <a:xfrm>
                <a:off x="2072880" y="169380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1311" name="Rectangle 50"/>
              <p:cNvSpPr/>
              <p:nvPr/>
            </p:nvSpPr>
            <p:spPr>
              <a:xfrm>
                <a:off x="3080880" y="169380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1312" name="Rectangle 51"/>
              <p:cNvSpPr/>
              <p:nvPr/>
            </p:nvSpPr>
            <p:spPr>
              <a:xfrm>
                <a:off x="2028960" y="1579680"/>
                <a:ext cx="135396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3" name="Line 52"/>
              <p:cNvSpPr/>
              <p:nvPr/>
            </p:nvSpPr>
            <p:spPr>
              <a:xfrm>
                <a:off x="2068560" y="1981080"/>
                <a:ext cx="127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4" name="Rectangle 53"/>
              <p:cNvSpPr/>
              <p:nvPr/>
            </p:nvSpPr>
            <p:spPr>
              <a:xfrm>
                <a:off x="2512800" y="186372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LLCF</a:t>
                </a:r>
                <a:endParaRPr b="0" lang="en-US" sz="1000" spc="-1" strike="noStrike">
                  <a:solidFill>
                    <a:srgbClr val="000000"/>
                  </a:solidFill>
                  <a:latin typeface="Times New Roman"/>
                </a:endParaRPr>
              </a:p>
            </p:txBody>
          </p:sp>
          <p:sp>
            <p:nvSpPr>
              <p:cNvPr id="1315" name="Rectangle 54"/>
              <p:cNvSpPr/>
              <p:nvPr/>
            </p:nvSpPr>
            <p:spPr>
              <a:xfrm>
                <a:off x="2072880" y="19810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1316" name="Rectangle 55"/>
              <p:cNvSpPr/>
              <p:nvPr/>
            </p:nvSpPr>
            <p:spPr>
              <a:xfrm>
                <a:off x="3080880" y="19810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1317" name="Rectangle 56"/>
              <p:cNvSpPr/>
              <p:nvPr/>
            </p:nvSpPr>
            <p:spPr>
              <a:xfrm>
                <a:off x="2028960" y="1866960"/>
                <a:ext cx="1353960" cy="230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Line 57"/>
              <p:cNvSpPr/>
              <p:nvPr/>
            </p:nvSpPr>
            <p:spPr>
              <a:xfrm>
                <a:off x="3505320" y="1406520"/>
                <a:ext cx="912600" cy="1440"/>
              </a:xfrm>
              <a:prstGeom prst="line">
                <a:avLst/>
              </a:prstGeom>
              <a:ln w="0">
                <a:solidFill>
                  <a:srgbClr val="008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9" name="Rectangle 58"/>
              <p:cNvSpPr/>
              <p:nvPr/>
            </p:nvSpPr>
            <p:spPr>
              <a:xfrm>
                <a:off x="3800160" y="128916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RHOC</a:t>
                </a:r>
                <a:endParaRPr b="0" lang="en-US" sz="1000" spc="-1" strike="noStrike">
                  <a:solidFill>
                    <a:srgbClr val="000000"/>
                  </a:solidFill>
                  <a:latin typeface="Times New Roman"/>
                </a:endParaRPr>
              </a:p>
            </p:txBody>
          </p:sp>
          <p:sp>
            <p:nvSpPr>
              <p:cNvPr id="1320" name="Rectangle 59"/>
              <p:cNvSpPr/>
              <p:nvPr/>
            </p:nvSpPr>
            <p:spPr>
              <a:xfrm>
                <a:off x="350784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95</a:t>
                </a:r>
                <a:endParaRPr b="0" lang="en-US" sz="1000" spc="-1" strike="noStrike">
                  <a:solidFill>
                    <a:srgbClr val="000000"/>
                  </a:solidFill>
                  <a:latin typeface="Times New Roman"/>
                </a:endParaRPr>
              </a:p>
            </p:txBody>
          </p:sp>
          <p:sp>
            <p:nvSpPr>
              <p:cNvPr id="1321" name="Rectangle 60"/>
              <p:cNvSpPr/>
              <p:nvPr/>
            </p:nvSpPr>
            <p:spPr>
              <a:xfrm>
                <a:off x="409536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95</a:t>
                </a:r>
                <a:endParaRPr b="0" lang="en-US" sz="1000" spc="-1" strike="noStrike">
                  <a:solidFill>
                    <a:srgbClr val="000000"/>
                  </a:solidFill>
                  <a:latin typeface="Times New Roman"/>
                </a:endParaRPr>
              </a:p>
            </p:txBody>
          </p:sp>
          <p:sp>
            <p:nvSpPr>
              <p:cNvPr id="1322" name="Rectangle 61"/>
              <p:cNvSpPr/>
              <p:nvPr/>
            </p:nvSpPr>
            <p:spPr>
              <a:xfrm>
                <a:off x="346716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Line 62"/>
              <p:cNvSpPr/>
              <p:nvPr/>
            </p:nvSpPr>
            <p:spPr>
              <a:xfrm>
                <a:off x="3505320" y="168588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4" name="Line 63"/>
              <p:cNvSpPr/>
              <p:nvPr/>
            </p:nvSpPr>
            <p:spPr>
              <a:xfrm>
                <a:off x="3505320" y="168912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5" name="Line 64"/>
              <p:cNvSpPr/>
              <p:nvPr/>
            </p:nvSpPr>
            <p:spPr>
              <a:xfrm>
                <a:off x="3505320" y="169056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6" name="Line 65"/>
              <p:cNvSpPr/>
              <p:nvPr/>
            </p:nvSpPr>
            <p:spPr>
              <a:xfrm>
                <a:off x="3505320" y="169380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7" name="Line 66"/>
              <p:cNvSpPr/>
              <p:nvPr/>
            </p:nvSpPr>
            <p:spPr>
              <a:xfrm>
                <a:off x="3505320" y="169560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8" name="Line 67"/>
              <p:cNvSpPr/>
              <p:nvPr/>
            </p:nvSpPr>
            <p:spPr>
              <a:xfrm>
                <a:off x="3505320" y="170028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9" name="Rectangle 68"/>
              <p:cNvSpPr/>
              <p:nvPr/>
            </p:nvSpPr>
            <p:spPr>
              <a:xfrm>
                <a:off x="3769920" y="157788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CNLLC</a:t>
                </a:r>
                <a:endParaRPr b="0" lang="en-US" sz="1000" spc="-1" strike="noStrike">
                  <a:solidFill>
                    <a:srgbClr val="000000"/>
                  </a:solidFill>
                  <a:latin typeface="Times New Roman"/>
                </a:endParaRPr>
              </a:p>
            </p:txBody>
          </p:sp>
          <p:sp>
            <p:nvSpPr>
              <p:cNvPr id="1330" name="Rectangle 69"/>
              <p:cNvSpPr/>
              <p:nvPr/>
            </p:nvSpPr>
            <p:spPr>
              <a:xfrm>
                <a:off x="3507840" y="169380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45</a:t>
                </a:r>
                <a:endParaRPr b="0" lang="en-US" sz="1000" spc="-1" strike="noStrike">
                  <a:solidFill>
                    <a:srgbClr val="000000"/>
                  </a:solidFill>
                  <a:latin typeface="Times New Roman"/>
                </a:endParaRPr>
              </a:p>
            </p:txBody>
          </p:sp>
          <p:sp>
            <p:nvSpPr>
              <p:cNvPr id="1331" name="Rectangle 70"/>
              <p:cNvSpPr/>
              <p:nvPr/>
            </p:nvSpPr>
            <p:spPr>
              <a:xfrm>
                <a:off x="4033440" y="169380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15</a:t>
                </a:r>
                <a:endParaRPr b="0" lang="en-US" sz="1000" spc="-1" strike="noStrike">
                  <a:solidFill>
                    <a:srgbClr val="000000"/>
                  </a:solidFill>
                  <a:latin typeface="Times New Roman"/>
                </a:endParaRPr>
              </a:p>
            </p:txBody>
          </p:sp>
          <p:sp>
            <p:nvSpPr>
              <p:cNvPr id="1332" name="Rectangle 71"/>
              <p:cNvSpPr/>
              <p:nvPr/>
            </p:nvSpPr>
            <p:spPr>
              <a:xfrm>
                <a:off x="3467160" y="157968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Line 72"/>
              <p:cNvSpPr/>
              <p:nvPr/>
            </p:nvSpPr>
            <p:spPr>
              <a:xfrm>
                <a:off x="4583160" y="1406520"/>
                <a:ext cx="9126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4" name="Rectangle 73"/>
              <p:cNvSpPr/>
              <p:nvPr/>
            </p:nvSpPr>
            <p:spPr>
              <a:xfrm>
                <a:off x="4941720" y="128916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T</a:t>
                </a:r>
                <a:endParaRPr b="0" lang="en-US" sz="1000" spc="-1" strike="noStrike">
                  <a:solidFill>
                    <a:srgbClr val="000000"/>
                  </a:solidFill>
                  <a:latin typeface="Times New Roman"/>
                </a:endParaRPr>
              </a:p>
            </p:txBody>
          </p:sp>
          <p:sp>
            <p:nvSpPr>
              <p:cNvPr id="1335" name="Rectangle 74"/>
              <p:cNvSpPr/>
              <p:nvPr/>
            </p:nvSpPr>
            <p:spPr>
              <a:xfrm>
                <a:off x="487800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us/f</a:t>
                </a:r>
                <a:endParaRPr b="0" lang="en-US" sz="1000" spc="-1" strike="noStrike">
                  <a:solidFill>
                    <a:srgbClr val="000000"/>
                  </a:solidFill>
                  <a:latin typeface="Times New Roman"/>
                </a:endParaRPr>
              </a:p>
            </p:txBody>
          </p:sp>
          <p:sp>
            <p:nvSpPr>
              <p:cNvPr id="1336" name="Rectangle 75"/>
              <p:cNvSpPr/>
              <p:nvPr/>
            </p:nvSpPr>
            <p:spPr>
              <a:xfrm>
                <a:off x="458604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50</a:t>
                </a:r>
                <a:endParaRPr b="0" lang="en-US" sz="1000" spc="-1" strike="noStrike">
                  <a:solidFill>
                    <a:srgbClr val="000000"/>
                  </a:solidFill>
                  <a:latin typeface="Times New Roman"/>
                </a:endParaRPr>
              </a:p>
            </p:txBody>
          </p:sp>
          <p:sp>
            <p:nvSpPr>
              <p:cNvPr id="1337" name="Rectangle 76"/>
              <p:cNvSpPr/>
              <p:nvPr/>
            </p:nvSpPr>
            <p:spPr>
              <a:xfrm>
                <a:off x="5300280" y="140652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50</a:t>
                </a:r>
                <a:endParaRPr b="0" lang="en-US" sz="1000" spc="-1" strike="noStrike">
                  <a:solidFill>
                    <a:srgbClr val="000000"/>
                  </a:solidFill>
                  <a:latin typeface="Times New Roman"/>
                </a:endParaRPr>
              </a:p>
            </p:txBody>
          </p:sp>
          <p:sp>
            <p:nvSpPr>
              <p:cNvPr id="1338" name="Rectangle 77"/>
              <p:cNvSpPr/>
              <p:nvPr/>
            </p:nvSpPr>
            <p:spPr>
              <a:xfrm>
                <a:off x="454356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9" name="Rectangle 78"/>
              <p:cNvSpPr/>
              <p:nvPr/>
            </p:nvSpPr>
            <p:spPr>
              <a:xfrm>
                <a:off x="491760" y="1143000"/>
                <a:ext cx="1067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01) BONANZA 1</a:t>
                </a:r>
                <a:endParaRPr b="0" lang="en-US" sz="1000" spc="-1" strike="noStrike">
                  <a:solidFill>
                    <a:srgbClr val="000000"/>
                  </a:solidFill>
                  <a:latin typeface="Times New Roman"/>
                </a:endParaRPr>
              </a:p>
            </p:txBody>
          </p:sp>
          <p:sp>
            <p:nvSpPr>
              <p:cNvPr id="1340" name="Line 79"/>
              <p:cNvSpPr/>
              <p:nvPr/>
            </p:nvSpPr>
            <p:spPr>
              <a:xfrm>
                <a:off x="9111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1" name="Line 80"/>
              <p:cNvSpPr/>
              <p:nvPr/>
            </p:nvSpPr>
            <p:spPr>
              <a:xfrm>
                <a:off x="911160" y="243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2" name="Line 81"/>
              <p:cNvSpPr/>
              <p:nvPr/>
            </p:nvSpPr>
            <p:spPr>
              <a:xfrm>
                <a:off x="911160" y="25844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3" name="Line 82"/>
              <p:cNvSpPr/>
              <p:nvPr/>
            </p:nvSpPr>
            <p:spPr>
              <a:xfrm>
                <a:off x="911160" y="273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4" name="Line 83"/>
              <p:cNvSpPr/>
              <p:nvPr/>
            </p:nvSpPr>
            <p:spPr>
              <a:xfrm>
                <a:off x="911160" y="28908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5" name="Line 84"/>
              <p:cNvSpPr/>
              <p:nvPr/>
            </p:nvSpPr>
            <p:spPr>
              <a:xfrm>
                <a:off x="9111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6" name="Line 85"/>
              <p:cNvSpPr/>
              <p:nvPr/>
            </p:nvSpPr>
            <p:spPr>
              <a:xfrm>
                <a:off x="911160" y="31939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7" name="Line 86"/>
              <p:cNvSpPr/>
              <p:nvPr/>
            </p:nvSpPr>
            <p:spPr>
              <a:xfrm>
                <a:off x="911160" y="33465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8" name="Line 87"/>
              <p:cNvSpPr/>
              <p:nvPr/>
            </p:nvSpPr>
            <p:spPr>
              <a:xfrm>
                <a:off x="911160" y="34988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9" name="Line 88"/>
              <p:cNvSpPr/>
              <p:nvPr/>
            </p:nvSpPr>
            <p:spPr>
              <a:xfrm>
                <a:off x="911160" y="36529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0" name="Line 89"/>
              <p:cNvSpPr/>
              <p:nvPr/>
            </p:nvSpPr>
            <p:spPr>
              <a:xfrm>
                <a:off x="9111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1" name="Line 90"/>
              <p:cNvSpPr/>
              <p:nvPr/>
            </p:nvSpPr>
            <p:spPr>
              <a:xfrm>
                <a:off x="911160" y="395748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2" name="Line 91"/>
              <p:cNvSpPr/>
              <p:nvPr/>
            </p:nvSpPr>
            <p:spPr>
              <a:xfrm>
                <a:off x="911160" y="41101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3" name="Line 92"/>
              <p:cNvSpPr/>
              <p:nvPr/>
            </p:nvSpPr>
            <p:spPr>
              <a:xfrm>
                <a:off x="911160" y="42624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4" name="Line 93"/>
              <p:cNvSpPr/>
              <p:nvPr/>
            </p:nvSpPr>
            <p:spPr>
              <a:xfrm>
                <a:off x="911160" y="441468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55" name="Line 94"/>
              <p:cNvSpPr/>
              <p:nvPr/>
            </p:nvSpPr>
            <p:spPr>
              <a:xfrm>
                <a:off x="9111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6" name="Line 95"/>
              <p:cNvSpPr/>
              <p:nvPr/>
            </p:nvSpPr>
            <p:spPr>
              <a:xfrm>
                <a:off x="911160" y="47214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7" name="Line 96"/>
              <p:cNvSpPr/>
              <p:nvPr/>
            </p:nvSpPr>
            <p:spPr>
              <a:xfrm>
                <a:off x="911160" y="487368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8" name="Line 97"/>
              <p:cNvSpPr/>
              <p:nvPr/>
            </p:nvSpPr>
            <p:spPr>
              <a:xfrm>
                <a:off x="911160" y="50259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9" name="Line 98"/>
              <p:cNvSpPr/>
              <p:nvPr/>
            </p:nvSpPr>
            <p:spPr>
              <a:xfrm>
                <a:off x="911160" y="51786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0" name="Line 99"/>
              <p:cNvSpPr/>
              <p:nvPr/>
            </p:nvSpPr>
            <p:spPr>
              <a:xfrm>
                <a:off x="9111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1" name="Line 100"/>
              <p:cNvSpPr/>
              <p:nvPr/>
            </p:nvSpPr>
            <p:spPr>
              <a:xfrm>
                <a:off x="911160" y="54849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2" name="Line 101"/>
              <p:cNvSpPr/>
              <p:nvPr/>
            </p:nvSpPr>
            <p:spPr>
              <a:xfrm>
                <a:off x="911160" y="56372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3" name="Line 102"/>
              <p:cNvSpPr/>
              <p:nvPr/>
            </p:nvSpPr>
            <p:spPr>
              <a:xfrm>
                <a:off x="911160" y="578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4" name="Line 103"/>
              <p:cNvSpPr/>
              <p:nvPr/>
            </p:nvSpPr>
            <p:spPr>
              <a:xfrm>
                <a:off x="911160" y="594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5" name="Line 104"/>
              <p:cNvSpPr/>
              <p:nvPr/>
            </p:nvSpPr>
            <p:spPr>
              <a:xfrm>
                <a:off x="9111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66" name="Line 105"/>
              <p:cNvSpPr/>
              <p:nvPr/>
            </p:nvSpPr>
            <p:spPr>
              <a:xfrm>
                <a:off x="911160" y="624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7" name="Line 106"/>
              <p:cNvSpPr/>
              <p:nvPr/>
            </p:nvSpPr>
            <p:spPr>
              <a:xfrm>
                <a:off x="911160" y="64008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8" name="Line 107"/>
              <p:cNvSpPr/>
              <p:nvPr/>
            </p:nvSpPr>
            <p:spPr>
              <a:xfrm>
                <a:off x="9111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9" name="Line 108"/>
              <p:cNvSpPr/>
              <p:nvPr/>
            </p:nvSpPr>
            <p:spPr>
              <a:xfrm>
                <a:off x="9111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0" name="Line 109"/>
              <p:cNvSpPr/>
              <p:nvPr/>
            </p:nvSpPr>
            <p:spPr>
              <a:xfrm>
                <a:off x="9111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1" name="Line 110"/>
              <p:cNvSpPr/>
              <p:nvPr/>
            </p:nvSpPr>
            <p:spPr>
              <a:xfrm>
                <a:off x="9111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2" name="Line 111"/>
              <p:cNvSpPr/>
              <p:nvPr/>
            </p:nvSpPr>
            <p:spPr>
              <a:xfrm>
                <a:off x="9111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3" name="Line 112"/>
              <p:cNvSpPr/>
              <p:nvPr/>
            </p:nvSpPr>
            <p:spPr>
              <a:xfrm>
                <a:off x="9111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74" name="Line 113"/>
              <p:cNvSpPr/>
              <p:nvPr/>
            </p:nvSpPr>
            <p:spPr>
              <a:xfrm>
                <a:off x="9111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5" name="Line 114"/>
              <p:cNvSpPr/>
              <p:nvPr/>
            </p:nvSpPr>
            <p:spPr>
              <a:xfrm>
                <a:off x="9111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6" name="Line 115"/>
              <p:cNvSpPr/>
              <p:nvPr/>
            </p:nvSpPr>
            <p:spPr>
              <a:xfrm>
                <a:off x="9111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7" name="Line 116"/>
              <p:cNvSpPr/>
              <p:nvPr/>
            </p:nvSpPr>
            <p:spPr>
              <a:xfrm>
                <a:off x="199080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8" name="Line 117"/>
              <p:cNvSpPr/>
              <p:nvPr/>
            </p:nvSpPr>
            <p:spPr>
              <a:xfrm>
                <a:off x="1990800" y="24321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9" name="Line 118"/>
              <p:cNvSpPr/>
              <p:nvPr/>
            </p:nvSpPr>
            <p:spPr>
              <a:xfrm>
                <a:off x="1990800" y="25844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0" name="Line 119"/>
              <p:cNvSpPr/>
              <p:nvPr/>
            </p:nvSpPr>
            <p:spPr>
              <a:xfrm>
                <a:off x="1990800" y="27385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1" name="Line 120"/>
              <p:cNvSpPr/>
              <p:nvPr/>
            </p:nvSpPr>
            <p:spPr>
              <a:xfrm>
                <a:off x="1990800" y="28908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2" name="Line 121"/>
              <p:cNvSpPr/>
              <p:nvPr/>
            </p:nvSpPr>
            <p:spPr>
              <a:xfrm>
                <a:off x="1990800" y="30416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3" name="Line 122"/>
              <p:cNvSpPr/>
              <p:nvPr/>
            </p:nvSpPr>
            <p:spPr>
              <a:xfrm>
                <a:off x="1990800" y="31939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4" name="Line 123"/>
              <p:cNvSpPr/>
              <p:nvPr/>
            </p:nvSpPr>
            <p:spPr>
              <a:xfrm>
                <a:off x="1990800" y="33465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5" name="Line 124"/>
              <p:cNvSpPr/>
              <p:nvPr/>
            </p:nvSpPr>
            <p:spPr>
              <a:xfrm>
                <a:off x="1990800" y="34988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6" name="Line 125"/>
              <p:cNvSpPr/>
              <p:nvPr/>
            </p:nvSpPr>
            <p:spPr>
              <a:xfrm>
                <a:off x="1990800" y="36529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7" name="Line 126"/>
              <p:cNvSpPr/>
              <p:nvPr/>
            </p:nvSpPr>
            <p:spPr>
              <a:xfrm>
                <a:off x="199080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8" name="Line 127"/>
              <p:cNvSpPr/>
              <p:nvPr/>
            </p:nvSpPr>
            <p:spPr>
              <a:xfrm>
                <a:off x="1990800" y="395748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9" name="Line 128"/>
              <p:cNvSpPr/>
              <p:nvPr/>
            </p:nvSpPr>
            <p:spPr>
              <a:xfrm>
                <a:off x="1990800" y="41101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0" name="Line 129"/>
              <p:cNvSpPr/>
              <p:nvPr/>
            </p:nvSpPr>
            <p:spPr>
              <a:xfrm>
                <a:off x="1990800" y="42624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1" name="Line 130"/>
              <p:cNvSpPr/>
              <p:nvPr/>
            </p:nvSpPr>
            <p:spPr>
              <a:xfrm>
                <a:off x="1990800" y="441468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92" name="Line 131"/>
              <p:cNvSpPr/>
              <p:nvPr/>
            </p:nvSpPr>
            <p:spPr>
              <a:xfrm>
                <a:off x="1990800" y="45687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3" name="Line 132"/>
              <p:cNvSpPr/>
              <p:nvPr/>
            </p:nvSpPr>
            <p:spPr>
              <a:xfrm>
                <a:off x="1990800" y="47214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4" name="Line 133"/>
              <p:cNvSpPr/>
              <p:nvPr/>
            </p:nvSpPr>
            <p:spPr>
              <a:xfrm>
                <a:off x="1990800" y="487368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5" name="Line 134"/>
              <p:cNvSpPr/>
              <p:nvPr/>
            </p:nvSpPr>
            <p:spPr>
              <a:xfrm>
                <a:off x="1990800" y="50259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6" name="Line 135"/>
              <p:cNvSpPr/>
              <p:nvPr/>
            </p:nvSpPr>
            <p:spPr>
              <a:xfrm>
                <a:off x="1990800" y="51786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7" name="Line 136"/>
              <p:cNvSpPr/>
              <p:nvPr/>
            </p:nvSpPr>
            <p:spPr>
              <a:xfrm>
                <a:off x="199080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8" name="Line 137"/>
              <p:cNvSpPr/>
              <p:nvPr/>
            </p:nvSpPr>
            <p:spPr>
              <a:xfrm>
                <a:off x="1990800" y="54849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9" name="Line 138"/>
              <p:cNvSpPr/>
              <p:nvPr/>
            </p:nvSpPr>
            <p:spPr>
              <a:xfrm>
                <a:off x="1990800" y="56372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0" name="Line 139"/>
              <p:cNvSpPr/>
              <p:nvPr/>
            </p:nvSpPr>
            <p:spPr>
              <a:xfrm>
                <a:off x="1990800" y="578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1" name="Line 140"/>
              <p:cNvSpPr/>
              <p:nvPr/>
            </p:nvSpPr>
            <p:spPr>
              <a:xfrm>
                <a:off x="1990800" y="59421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2" name="Line 141"/>
              <p:cNvSpPr/>
              <p:nvPr/>
            </p:nvSpPr>
            <p:spPr>
              <a:xfrm>
                <a:off x="1990800" y="609444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03" name="Line 142"/>
              <p:cNvSpPr/>
              <p:nvPr/>
            </p:nvSpPr>
            <p:spPr>
              <a:xfrm>
                <a:off x="1990800" y="62485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4" name="Line 143"/>
              <p:cNvSpPr/>
              <p:nvPr/>
            </p:nvSpPr>
            <p:spPr>
              <a:xfrm>
                <a:off x="1990800" y="64008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5" name="Line 144"/>
              <p:cNvSpPr/>
              <p:nvPr/>
            </p:nvSpPr>
            <p:spPr>
              <a:xfrm>
                <a:off x="199080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6" name="Line 145"/>
              <p:cNvSpPr/>
              <p:nvPr/>
            </p:nvSpPr>
            <p:spPr>
              <a:xfrm>
                <a:off x="1990800" y="30416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7" name="Line 146"/>
              <p:cNvSpPr/>
              <p:nvPr/>
            </p:nvSpPr>
            <p:spPr>
              <a:xfrm>
                <a:off x="199080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8" name="Line 147"/>
              <p:cNvSpPr/>
              <p:nvPr/>
            </p:nvSpPr>
            <p:spPr>
              <a:xfrm>
                <a:off x="1990800" y="45687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9" name="Line 148"/>
              <p:cNvSpPr/>
              <p:nvPr/>
            </p:nvSpPr>
            <p:spPr>
              <a:xfrm>
                <a:off x="199080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0" name="Line 149"/>
              <p:cNvSpPr/>
              <p:nvPr/>
            </p:nvSpPr>
            <p:spPr>
              <a:xfrm>
                <a:off x="1990800" y="609444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11" name="Line 150"/>
              <p:cNvSpPr/>
              <p:nvPr/>
            </p:nvSpPr>
            <p:spPr>
              <a:xfrm>
                <a:off x="199080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2" name="Line 151"/>
              <p:cNvSpPr/>
              <p:nvPr/>
            </p:nvSpPr>
            <p:spPr>
              <a:xfrm>
                <a:off x="199080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3" name="Line 152"/>
              <p:cNvSpPr/>
              <p:nvPr/>
            </p:nvSpPr>
            <p:spPr>
              <a:xfrm>
                <a:off x="199080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4" name="Line 153"/>
              <p:cNvSpPr/>
              <p:nvPr/>
            </p:nvSpPr>
            <p:spPr>
              <a:xfrm>
                <a:off x="34257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5" name="Line 154"/>
              <p:cNvSpPr/>
              <p:nvPr/>
            </p:nvSpPr>
            <p:spPr>
              <a:xfrm>
                <a:off x="3425760" y="243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6" name="Line 155"/>
              <p:cNvSpPr/>
              <p:nvPr/>
            </p:nvSpPr>
            <p:spPr>
              <a:xfrm>
                <a:off x="3425760" y="25844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7" name="Line 156"/>
              <p:cNvSpPr/>
              <p:nvPr/>
            </p:nvSpPr>
            <p:spPr>
              <a:xfrm>
                <a:off x="3425760" y="273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8" name="Line 157"/>
              <p:cNvSpPr/>
              <p:nvPr/>
            </p:nvSpPr>
            <p:spPr>
              <a:xfrm>
                <a:off x="3425760" y="28908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9" name="Line 158"/>
              <p:cNvSpPr/>
              <p:nvPr/>
            </p:nvSpPr>
            <p:spPr>
              <a:xfrm>
                <a:off x="34257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0" name="Line 159"/>
              <p:cNvSpPr/>
              <p:nvPr/>
            </p:nvSpPr>
            <p:spPr>
              <a:xfrm>
                <a:off x="3425760" y="31939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1" name="Line 160"/>
              <p:cNvSpPr/>
              <p:nvPr/>
            </p:nvSpPr>
            <p:spPr>
              <a:xfrm>
                <a:off x="3425760" y="33465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2" name="Line 161"/>
              <p:cNvSpPr/>
              <p:nvPr/>
            </p:nvSpPr>
            <p:spPr>
              <a:xfrm>
                <a:off x="3425760" y="34988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3" name="Line 162"/>
              <p:cNvSpPr/>
              <p:nvPr/>
            </p:nvSpPr>
            <p:spPr>
              <a:xfrm>
                <a:off x="3425760" y="36529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4" name="Line 163"/>
              <p:cNvSpPr/>
              <p:nvPr/>
            </p:nvSpPr>
            <p:spPr>
              <a:xfrm>
                <a:off x="34257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5" name="Line 164"/>
              <p:cNvSpPr/>
              <p:nvPr/>
            </p:nvSpPr>
            <p:spPr>
              <a:xfrm>
                <a:off x="3425760" y="395748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6" name="Line 165"/>
              <p:cNvSpPr/>
              <p:nvPr/>
            </p:nvSpPr>
            <p:spPr>
              <a:xfrm>
                <a:off x="3425760" y="41101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7" name="Line 166"/>
              <p:cNvSpPr/>
              <p:nvPr/>
            </p:nvSpPr>
            <p:spPr>
              <a:xfrm>
                <a:off x="3425760" y="42624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8" name="Line 167"/>
              <p:cNvSpPr/>
              <p:nvPr/>
            </p:nvSpPr>
            <p:spPr>
              <a:xfrm>
                <a:off x="3425760" y="441468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29" name="Line 168"/>
              <p:cNvSpPr/>
              <p:nvPr/>
            </p:nvSpPr>
            <p:spPr>
              <a:xfrm>
                <a:off x="34257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0" name="Line 169"/>
              <p:cNvSpPr/>
              <p:nvPr/>
            </p:nvSpPr>
            <p:spPr>
              <a:xfrm>
                <a:off x="3425760" y="47214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1" name="Line 170"/>
              <p:cNvSpPr/>
              <p:nvPr/>
            </p:nvSpPr>
            <p:spPr>
              <a:xfrm>
                <a:off x="3425760" y="487368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2" name="Line 171"/>
              <p:cNvSpPr/>
              <p:nvPr/>
            </p:nvSpPr>
            <p:spPr>
              <a:xfrm>
                <a:off x="3425760" y="50259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3" name="Line 172"/>
              <p:cNvSpPr/>
              <p:nvPr/>
            </p:nvSpPr>
            <p:spPr>
              <a:xfrm>
                <a:off x="3425760" y="51786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4" name="Line 173"/>
              <p:cNvSpPr/>
              <p:nvPr/>
            </p:nvSpPr>
            <p:spPr>
              <a:xfrm>
                <a:off x="34257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5" name="Line 174"/>
              <p:cNvSpPr/>
              <p:nvPr/>
            </p:nvSpPr>
            <p:spPr>
              <a:xfrm>
                <a:off x="3425760" y="54849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6" name="Line 175"/>
              <p:cNvSpPr/>
              <p:nvPr/>
            </p:nvSpPr>
            <p:spPr>
              <a:xfrm>
                <a:off x="3425760" y="56372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7" name="Line 176"/>
              <p:cNvSpPr/>
              <p:nvPr/>
            </p:nvSpPr>
            <p:spPr>
              <a:xfrm>
                <a:off x="3425760" y="578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8" name="Line 177"/>
              <p:cNvSpPr/>
              <p:nvPr/>
            </p:nvSpPr>
            <p:spPr>
              <a:xfrm>
                <a:off x="3425760" y="594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9" name="Line 178"/>
              <p:cNvSpPr/>
              <p:nvPr/>
            </p:nvSpPr>
            <p:spPr>
              <a:xfrm>
                <a:off x="34257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40" name="Line 179"/>
              <p:cNvSpPr/>
              <p:nvPr/>
            </p:nvSpPr>
            <p:spPr>
              <a:xfrm>
                <a:off x="3425760" y="624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1" name="Line 180"/>
              <p:cNvSpPr/>
              <p:nvPr/>
            </p:nvSpPr>
            <p:spPr>
              <a:xfrm>
                <a:off x="3425760" y="64008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2" name="Line 181"/>
              <p:cNvSpPr/>
              <p:nvPr/>
            </p:nvSpPr>
            <p:spPr>
              <a:xfrm>
                <a:off x="34257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3" name="Line 182"/>
              <p:cNvSpPr/>
              <p:nvPr/>
            </p:nvSpPr>
            <p:spPr>
              <a:xfrm>
                <a:off x="342576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4" name="Line 183"/>
              <p:cNvSpPr/>
              <p:nvPr/>
            </p:nvSpPr>
            <p:spPr>
              <a:xfrm>
                <a:off x="34257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5" name="Line 184"/>
              <p:cNvSpPr/>
              <p:nvPr/>
            </p:nvSpPr>
            <p:spPr>
              <a:xfrm>
                <a:off x="342576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6" name="Line 185"/>
              <p:cNvSpPr/>
              <p:nvPr/>
            </p:nvSpPr>
            <p:spPr>
              <a:xfrm>
                <a:off x="34257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7" name="Line 186"/>
              <p:cNvSpPr/>
              <p:nvPr/>
            </p:nvSpPr>
            <p:spPr>
              <a:xfrm>
                <a:off x="342576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48" name="Line 187"/>
              <p:cNvSpPr/>
              <p:nvPr/>
            </p:nvSpPr>
            <p:spPr>
              <a:xfrm>
                <a:off x="342576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9" name="Line 188"/>
              <p:cNvSpPr/>
              <p:nvPr/>
            </p:nvSpPr>
            <p:spPr>
              <a:xfrm>
                <a:off x="342576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0" name="Line 189"/>
              <p:cNvSpPr/>
              <p:nvPr/>
            </p:nvSpPr>
            <p:spPr>
              <a:xfrm>
                <a:off x="342576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1" name="Line 190"/>
              <p:cNvSpPr/>
              <p:nvPr/>
            </p:nvSpPr>
            <p:spPr>
              <a:xfrm>
                <a:off x="4505400" y="22795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2" name="Line 191"/>
              <p:cNvSpPr/>
              <p:nvPr/>
            </p:nvSpPr>
            <p:spPr>
              <a:xfrm>
                <a:off x="4505400" y="24321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3" name="Line 192"/>
              <p:cNvSpPr/>
              <p:nvPr/>
            </p:nvSpPr>
            <p:spPr>
              <a:xfrm>
                <a:off x="4505400" y="25844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4" name="Line 193"/>
              <p:cNvSpPr/>
              <p:nvPr/>
            </p:nvSpPr>
            <p:spPr>
              <a:xfrm>
                <a:off x="4505400" y="27385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5" name="Line 194"/>
              <p:cNvSpPr/>
              <p:nvPr/>
            </p:nvSpPr>
            <p:spPr>
              <a:xfrm>
                <a:off x="4505400" y="28908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6" name="Line 195"/>
              <p:cNvSpPr/>
              <p:nvPr/>
            </p:nvSpPr>
            <p:spPr>
              <a:xfrm>
                <a:off x="4505400" y="30416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7" name="Line 196"/>
              <p:cNvSpPr/>
              <p:nvPr/>
            </p:nvSpPr>
            <p:spPr>
              <a:xfrm>
                <a:off x="4505400" y="31939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8" name="Line 197"/>
              <p:cNvSpPr/>
              <p:nvPr/>
            </p:nvSpPr>
            <p:spPr>
              <a:xfrm>
                <a:off x="4505400" y="33465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9" name="Line 198"/>
              <p:cNvSpPr/>
              <p:nvPr/>
            </p:nvSpPr>
            <p:spPr>
              <a:xfrm>
                <a:off x="4505400" y="34988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0" name="Line 199"/>
              <p:cNvSpPr/>
              <p:nvPr/>
            </p:nvSpPr>
            <p:spPr>
              <a:xfrm>
                <a:off x="4505400" y="36529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1" name="Line 200"/>
              <p:cNvSpPr/>
              <p:nvPr/>
            </p:nvSpPr>
            <p:spPr>
              <a:xfrm>
                <a:off x="4505400" y="38052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2" name="Line 201"/>
              <p:cNvSpPr/>
              <p:nvPr/>
            </p:nvSpPr>
            <p:spPr>
              <a:xfrm>
                <a:off x="4505400" y="395748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3" name="Line 202"/>
              <p:cNvSpPr/>
              <p:nvPr/>
            </p:nvSpPr>
            <p:spPr>
              <a:xfrm>
                <a:off x="4505400" y="41101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4" name="Line 203"/>
              <p:cNvSpPr/>
              <p:nvPr/>
            </p:nvSpPr>
            <p:spPr>
              <a:xfrm>
                <a:off x="4505400" y="42624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5" name="Line 204"/>
              <p:cNvSpPr/>
              <p:nvPr/>
            </p:nvSpPr>
            <p:spPr>
              <a:xfrm>
                <a:off x="4505400" y="4414680"/>
                <a:ext cx="1076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66" name="Line 205"/>
              <p:cNvSpPr/>
              <p:nvPr/>
            </p:nvSpPr>
            <p:spPr>
              <a:xfrm>
                <a:off x="4505400" y="456876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7" name="Line 206"/>
              <p:cNvSpPr/>
              <p:nvPr/>
            </p:nvSpPr>
            <p:spPr>
              <a:xfrm>
                <a:off x="4505400" y="47214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8" name="Line 207"/>
              <p:cNvSpPr/>
              <p:nvPr/>
            </p:nvSpPr>
            <p:spPr>
              <a:xfrm>
                <a:off x="4505400" y="487368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9" name="Line 208"/>
              <p:cNvSpPr/>
              <p:nvPr/>
            </p:nvSpPr>
            <p:spPr>
              <a:xfrm>
                <a:off x="4505400" y="502596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0" name="Line 209"/>
              <p:cNvSpPr/>
              <p:nvPr/>
            </p:nvSpPr>
            <p:spPr>
              <a:xfrm>
                <a:off x="4505400" y="51786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1" name="Line 210"/>
              <p:cNvSpPr/>
              <p:nvPr/>
            </p:nvSpPr>
            <p:spPr>
              <a:xfrm>
                <a:off x="4505400" y="53323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2" name="Line 211"/>
              <p:cNvSpPr/>
              <p:nvPr/>
            </p:nvSpPr>
            <p:spPr>
              <a:xfrm>
                <a:off x="4505400" y="54849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3" name="Line 212"/>
              <p:cNvSpPr/>
              <p:nvPr/>
            </p:nvSpPr>
            <p:spPr>
              <a:xfrm>
                <a:off x="4505400" y="56372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4" name="Line 213"/>
              <p:cNvSpPr/>
              <p:nvPr/>
            </p:nvSpPr>
            <p:spPr>
              <a:xfrm>
                <a:off x="4505400" y="57895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5" name="Line 214"/>
              <p:cNvSpPr/>
              <p:nvPr/>
            </p:nvSpPr>
            <p:spPr>
              <a:xfrm>
                <a:off x="4505400" y="59421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6" name="Line 215"/>
              <p:cNvSpPr/>
              <p:nvPr/>
            </p:nvSpPr>
            <p:spPr>
              <a:xfrm>
                <a:off x="4505400" y="6094440"/>
                <a:ext cx="1076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77" name="Line 216"/>
              <p:cNvSpPr/>
              <p:nvPr/>
            </p:nvSpPr>
            <p:spPr>
              <a:xfrm>
                <a:off x="4505400" y="62485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8" name="Line 217"/>
              <p:cNvSpPr/>
              <p:nvPr/>
            </p:nvSpPr>
            <p:spPr>
              <a:xfrm>
                <a:off x="4505400" y="64008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9" name="Line 218"/>
              <p:cNvSpPr/>
              <p:nvPr/>
            </p:nvSpPr>
            <p:spPr>
              <a:xfrm>
                <a:off x="4505400" y="227952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0" name="Line 219"/>
              <p:cNvSpPr/>
              <p:nvPr/>
            </p:nvSpPr>
            <p:spPr>
              <a:xfrm>
                <a:off x="4505400" y="3041640"/>
                <a:ext cx="1076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1" name="Line 220"/>
              <p:cNvSpPr/>
              <p:nvPr/>
            </p:nvSpPr>
            <p:spPr>
              <a:xfrm>
                <a:off x="4505400" y="380520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2" name="Line 221"/>
              <p:cNvSpPr/>
              <p:nvPr/>
            </p:nvSpPr>
            <p:spPr>
              <a:xfrm>
                <a:off x="4505400" y="456876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3" name="Line 222"/>
              <p:cNvSpPr/>
              <p:nvPr/>
            </p:nvSpPr>
            <p:spPr>
              <a:xfrm>
                <a:off x="4505400" y="533232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4" name="Line 223"/>
              <p:cNvSpPr/>
              <p:nvPr/>
            </p:nvSpPr>
            <p:spPr>
              <a:xfrm>
                <a:off x="4505400" y="6094440"/>
                <a:ext cx="10764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85" name="Line 224"/>
              <p:cNvSpPr/>
              <p:nvPr/>
            </p:nvSpPr>
            <p:spPr>
              <a:xfrm>
                <a:off x="907920" y="2279520"/>
                <a:ext cx="467388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6" name="Line 225"/>
              <p:cNvSpPr/>
              <p:nvPr/>
            </p:nvSpPr>
            <p:spPr>
              <a:xfrm>
                <a:off x="911160" y="3803760"/>
                <a:ext cx="4670640" cy="3240"/>
              </a:xfrm>
              <a:prstGeom prst="line">
                <a:avLst/>
              </a:prstGeom>
              <a:ln w="205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87" name="Line 226"/>
              <p:cNvSpPr/>
              <p:nvPr/>
            </p:nvSpPr>
            <p:spPr>
              <a:xfrm>
                <a:off x="911160" y="5327640"/>
                <a:ext cx="4670640" cy="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Line 227"/>
              <p:cNvSpPr/>
              <p:nvPr/>
            </p:nvSpPr>
            <p:spPr>
              <a:xfrm>
                <a:off x="9111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Line 228"/>
              <p:cNvSpPr/>
              <p:nvPr/>
            </p:nvSpPr>
            <p:spPr>
              <a:xfrm>
                <a:off x="19908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Line 229"/>
              <p:cNvSpPr/>
              <p:nvPr/>
            </p:nvSpPr>
            <p:spPr>
              <a:xfrm>
                <a:off x="11286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Line 230"/>
              <p:cNvSpPr/>
              <p:nvPr/>
            </p:nvSpPr>
            <p:spPr>
              <a:xfrm>
                <a:off x="13431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Line 231"/>
              <p:cNvSpPr/>
              <p:nvPr/>
            </p:nvSpPr>
            <p:spPr>
              <a:xfrm>
                <a:off x="15588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Line 232"/>
              <p:cNvSpPr/>
              <p:nvPr/>
            </p:nvSpPr>
            <p:spPr>
              <a:xfrm>
                <a:off x="1773360" y="2127240"/>
                <a:ext cx="288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Line 233"/>
              <p:cNvSpPr/>
              <p:nvPr/>
            </p:nvSpPr>
            <p:spPr>
              <a:xfrm>
                <a:off x="19908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Line 234"/>
              <p:cNvSpPr/>
              <p:nvPr/>
            </p:nvSpPr>
            <p:spPr>
              <a:xfrm>
                <a:off x="3425760" y="2127240"/>
                <a:ext cx="180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Line 235"/>
              <p:cNvSpPr/>
              <p:nvPr/>
            </p:nvSpPr>
            <p:spPr>
              <a:xfrm>
                <a:off x="1990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Line 236"/>
              <p:cNvSpPr/>
              <p:nvPr/>
            </p:nvSpPr>
            <p:spPr>
              <a:xfrm>
                <a:off x="20732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Line 237"/>
              <p:cNvSpPr/>
              <p:nvPr/>
            </p:nvSpPr>
            <p:spPr>
              <a:xfrm>
                <a:off x="21337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Line 238"/>
              <p:cNvSpPr/>
              <p:nvPr/>
            </p:nvSpPr>
            <p:spPr>
              <a:xfrm>
                <a:off x="2179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Line 239"/>
              <p:cNvSpPr/>
              <p:nvPr/>
            </p:nvSpPr>
            <p:spPr>
              <a:xfrm>
                <a:off x="2216160" y="2127240"/>
                <a:ext cx="32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Line 240"/>
              <p:cNvSpPr/>
              <p:nvPr/>
            </p:nvSpPr>
            <p:spPr>
              <a:xfrm>
                <a:off x="22496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Line 241"/>
              <p:cNvSpPr/>
              <p:nvPr/>
            </p:nvSpPr>
            <p:spPr>
              <a:xfrm>
                <a:off x="22780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Line 242"/>
              <p:cNvSpPr/>
              <p:nvPr/>
            </p:nvSpPr>
            <p:spPr>
              <a:xfrm>
                <a:off x="23018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Line 243"/>
              <p:cNvSpPr/>
              <p:nvPr/>
            </p:nvSpPr>
            <p:spPr>
              <a:xfrm>
                <a:off x="23241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Line 244"/>
              <p:cNvSpPr/>
              <p:nvPr/>
            </p:nvSpPr>
            <p:spPr>
              <a:xfrm>
                <a:off x="24670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Line 245"/>
              <p:cNvSpPr/>
              <p:nvPr/>
            </p:nvSpPr>
            <p:spPr>
              <a:xfrm>
                <a:off x="25495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Line 246"/>
              <p:cNvSpPr/>
              <p:nvPr/>
            </p:nvSpPr>
            <p:spPr>
              <a:xfrm>
                <a:off x="26114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Line 247"/>
              <p:cNvSpPr/>
              <p:nvPr/>
            </p:nvSpPr>
            <p:spPr>
              <a:xfrm>
                <a:off x="2657520" y="2127240"/>
                <a:ext cx="32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Line 248"/>
              <p:cNvSpPr/>
              <p:nvPr/>
            </p:nvSpPr>
            <p:spPr>
              <a:xfrm>
                <a:off x="26938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Line 249"/>
              <p:cNvSpPr/>
              <p:nvPr/>
            </p:nvSpPr>
            <p:spPr>
              <a:xfrm>
                <a:off x="27255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Line 250"/>
              <p:cNvSpPr/>
              <p:nvPr/>
            </p:nvSpPr>
            <p:spPr>
              <a:xfrm>
                <a:off x="27543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Line 251"/>
              <p:cNvSpPr/>
              <p:nvPr/>
            </p:nvSpPr>
            <p:spPr>
              <a:xfrm>
                <a:off x="27795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Line 252"/>
              <p:cNvSpPr/>
              <p:nvPr/>
            </p:nvSpPr>
            <p:spPr>
              <a:xfrm>
                <a:off x="28018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Line 253"/>
              <p:cNvSpPr/>
              <p:nvPr/>
            </p:nvSpPr>
            <p:spPr>
              <a:xfrm>
                <a:off x="29462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Line 254"/>
              <p:cNvSpPr/>
              <p:nvPr/>
            </p:nvSpPr>
            <p:spPr>
              <a:xfrm>
                <a:off x="30322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Line 255"/>
              <p:cNvSpPr/>
              <p:nvPr/>
            </p:nvSpPr>
            <p:spPr>
              <a:xfrm>
                <a:off x="30891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Line 256"/>
              <p:cNvSpPr/>
              <p:nvPr/>
            </p:nvSpPr>
            <p:spPr>
              <a:xfrm>
                <a:off x="31352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Line 257"/>
              <p:cNvSpPr/>
              <p:nvPr/>
            </p:nvSpPr>
            <p:spPr>
              <a:xfrm>
                <a:off x="31748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Line 258"/>
              <p:cNvSpPr/>
              <p:nvPr/>
            </p:nvSpPr>
            <p:spPr>
              <a:xfrm>
                <a:off x="32083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Line 259"/>
              <p:cNvSpPr/>
              <p:nvPr/>
            </p:nvSpPr>
            <p:spPr>
              <a:xfrm>
                <a:off x="32338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Line 260"/>
              <p:cNvSpPr/>
              <p:nvPr/>
            </p:nvSpPr>
            <p:spPr>
              <a:xfrm>
                <a:off x="32590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Line 261"/>
              <p:cNvSpPr/>
              <p:nvPr/>
            </p:nvSpPr>
            <p:spPr>
              <a:xfrm>
                <a:off x="32781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Line 262"/>
              <p:cNvSpPr/>
              <p:nvPr/>
            </p:nvSpPr>
            <p:spPr>
              <a:xfrm>
                <a:off x="3425760" y="2127240"/>
                <a:ext cx="180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Line 263"/>
              <p:cNvSpPr/>
              <p:nvPr/>
            </p:nvSpPr>
            <p:spPr>
              <a:xfrm>
                <a:off x="45054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Line 264"/>
              <p:cNvSpPr/>
              <p:nvPr/>
            </p:nvSpPr>
            <p:spPr>
              <a:xfrm>
                <a:off x="35337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Line 265"/>
              <p:cNvSpPr/>
              <p:nvPr/>
            </p:nvSpPr>
            <p:spPr>
              <a:xfrm>
                <a:off x="36417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Line 266"/>
              <p:cNvSpPr/>
              <p:nvPr/>
            </p:nvSpPr>
            <p:spPr>
              <a:xfrm>
                <a:off x="37512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Line 267"/>
              <p:cNvSpPr/>
              <p:nvPr/>
            </p:nvSpPr>
            <p:spPr>
              <a:xfrm>
                <a:off x="38577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Line 268"/>
              <p:cNvSpPr/>
              <p:nvPr/>
            </p:nvSpPr>
            <p:spPr>
              <a:xfrm>
                <a:off x="3965400" y="2127240"/>
                <a:ext cx="1800" cy="4425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Line 269"/>
              <p:cNvSpPr/>
              <p:nvPr/>
            </p:nvSpPr>
            <p:spPr>
              <a:xfrm>
                <a:off x="40734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Line 270"/>
              <p:cNvSpPr/>
              <p:nvPr/>
            </p:nvSpPr>
            <p:spPr>
              <a:xfrm>
                <a:off x="41799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Line 271"/>
              <p:cNvSpPr/>
              <p:nvPr/>
            </p:nvSpPr>
            <p:spPr>
              <a:xfrm>
                <a:off x="42879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Line 272"/>
              <p:cNvSpPr/>
              <p:nvPr/>
            </p:nvSpPr>
            <p:spPr>
              <a:xfrm>
                <a:off x="43956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Line 273"/>
              <p:cNvSpPr/>
              <p:nvPr/>
            </p:nvSpPr>
            <p:spPr>
              <a:xfrm>
                <a:off x="450540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Line 274"/>
              <p:cNvSpPr/>
              <p:nvPr/>
            </p:nvSpPr>
            <p:spPr>
              <a:xfrm>
                <a:off x="46116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Line 275"/>
              <p:cNvSpPr/>
              <p:nvPr/>
            </p:nvSpPr>
            <p:spPr>
              <a:xfrm>
                <a:off x="47196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Line 276"/>
              <p:cNvSpPr/>
              <p:nvPr/>
            </p:nvSpPr>
            <p:spPr>
              <a:xfrm>
                <a:off x="48276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Line 277"/>
              <p:cNvSpPr/>
              <p:nvPr/>
            </p:nvSpPr>
            <p:spPr>
              <a:xfrm>
                <a:off x="49356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Line 278"/>
              <p:cNvSpPr/>
              <p:nvPr/>
            </p:nvSpPr>
            <p:spPr>
              <a:xfrm>
                <a:off x="5041800" y="2127240"/>
                <a:ext cx="1800" cy="4425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Line 279"/>
              <p:cNvSpPr/>
              <p:nvPr/>
            </p:nvSpPr>
            <p:spPr>
              <a:xfrm>
                <a:off x="514980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Line 280"/>
              <p:cNvSpPr/>
              <p:nvPr/>
            </p:nvSpPr>
            <p:spPr>
              <a:xfrm>
                <a:off x="52592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Line 281"/>
              <p:cNvSpPr/>
              <p:nvPr/>
            </p:nvSpPr>
            <p:spPr>
              <a:xfrm>
                <a:off x="5365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Line 282"/>
              <p:cNvSpPr/>
              <p:nvPr/>
            </p:nvSpPr>
            <p:spPr>
              <a:xfrm>
                <a:off x="5473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Rectangle 283"/>
              <p:cNvSpPr/>
              <p:nvPr/>
            </p:nvSpPr>
            <p:spPr>
              <a:xfrm>
                <a:off x="491760" y="222552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700</a:t>
                </a:r>
                <a:endParaRPr b="0" lang="en-US" sz="1000" spc="-1" strike="noStrike">
                  <a:solidFill>
                    <a:srgbClr val="000000"/>
                  </a:solidFill>
                  <a:latin typeface="Times New Roman"/>
                </a:endParaRPr>
              </a:p>
            </p:txBody>
          </p:sp>
          <p:sp>
            <p:nvSpPr>
              <p:cNvPr id="1545" name="Rectangle 284"/>
              <p:cNvSpPr/>
              <p:nvPr/>
            </p:nvSpPr>
            <p:spPr>
              <a:xfrm>
                <a:off x="491760" y="375300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800</a:t>
                </a:r>
                <a:endParaRPr b="0" lang="en-US" sz="1000" spc="-1" strike="noStrike">
                  <a:solidFill>
                    <a:srgbClr val="000000"/>
                  </a:solidFill>
                  <a:latin typeface="Times New Roman"/>
                </a:endParaRPr>
              </a:p>
            </p:txBody>
          </p:sp>
          <p:sp>
            <p:nvSpPr>
              <p:cNvPr id="1546" name="Rectangle 285"/>
              <p:cNvSpPr/>
              <p:nvPr/>
            </p:nvSpPr>
            <p:spPr>
              <a:xfrm>
                <a:off x="491760" y="527688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900</a:t>
                </a:r>
                <a:endParaRPr b="0" lang="en-US" sz="1000" spc="-1" strike="noStrike">
                  <a:solidFill>
                    <a:srgbClr val="000000"/>
                  </a:solidFill>
                  <a:latin typeface="Times New Roman"/>
                </a:endParaRPr>
              </a:p>
            </p:txBody>
          </p:sp>
        </p:grpSp>
        <p:sp>
          <p:nvSpPr>
            <p:cNvPr id="1547" name="Freeform 286"/>
            <p:cNvSpPr/>
            <p:nvPr/>
          </p:nvSpPr>
          <p:spPr>
            <a:xfrm>
              <a:off x="2201760" y="2157480"/>
              <a:ext cx="1123920" cy="4379760"/>
            </a:xfrm>
            <a:custGeom>
              <a:avLst/>
              <a:gdLst>
                <a:gd name="textAreaLeft" fmla="*/ 0 w 1123920"/>
                <a:gd name="textAreaRight" fmla="*/ 1124280 w 1123920"/>
                <a:gd name="textAreaTop" fmla="*/ 0 h 4379760"/>
                <a:gd name="textAreaBottom" fmla="*/ 4380120 h 4379760"/>
              </a:gdLst>
              <a:ahLst/>
              <a:rect l="textAreaLeft" t="textAreaTop" r="textAreaRight" b="textAreaBottom"/>
              <a:pathLst>
                <a:path w="665" h="2582">
                  <a:moveTo>
                    <a:pt x="159" y="0"/>
                  </a:moveTo>
                  <a:lnTo>
                    <a:pt x="155" y="4"/>
                  </a:lnTo>
                  <a:lnTo>
                    <a:pt x="149" y="9"/>
                  </a:lnTo>
                  <a:lnTo>
                    <a:pt x="147" y="13"/>
                  </a:lnTo>
                  <a:lnTo>
                    <a:pt x="147" y="18"/>
                  </a:lnTo>
                  <a:lnTo>
                    <a:pt x="147" y="22"/>
                  </a:lnTo>
                  <a:lnTo>
                    <a:pt x="149" y="27"/>
                  </a:lnTo>
                  <a:lnTo>
                    <a:pt x="153" y="31"/>
                  </a:lnTo>
                  <a:lnTo>
                    <a:pt x="153" y="36"/>
                  </a:lnTo>
                  <a:lnTo>
                    <a:pt x="155" y="40"/>
                  </a:lnTo>
                  <a:lnTo>
                    <a:pt x="155" y="45"/>
                  </a:lnTo>
                  <a:lnTo>
                    <a:pt x="155" y="49"/>
                  </a:lnTo>
                  <a:lnTo>
                    <a:pt x="155" y="54"/>
                  </a:lnTo>
                  <a:lnTo>
                    <a:pt x="149" y="58"/>
                  </a:lnTo>
                  <a:lnTo>
                    <a:pt x="147" y="63"/>
                  </a:lnTo>
                  <a:lnTo>
                    <a:pt x="147" y="67"/>
                  </a:lnTo>
                  <a:lnTo>
                    <a:pt x="151" y="72"/>
                  </a:lnTo>
                  <a:lnTo>
                    <a:pt x="153" y="76"/>
                  </a:lnTo>
                  <a:lnTo>
                    <a:pt x="157" y="81"/>
                  </a:lnTo>
                  <a:lnTo>
                    <a:pt x="153" y="85"/>
                  </a:lnTo>
                  <a:lnTo>
                    <a:pt x="151" y="90"/>
                  </a:lnTo>
                  <a:lnTo>
                    <a:pt x="153" y="94"/>
                  </a:lnTo>
                  <a:lnTo>
                    <a:pt x="153" y="99"/>
                  </a:lnTo>
                  <a:lnTo>
                    <a:pt x="151" y="103"/>
                  </a:lnTo>
                  <a:lnTo>
                    <a:pt x="149" y="108"/>
                  </a:lnTo>
                  <a:lnTo>
                    <a:pt x="149" y="112"/>
                  </a:lnTo>
                  <a:lnTo>
                    <a:pt x="149" y="117"/>
                  </a:lnTo>
                  <a:lnTo>
                    <a:pt x="149" y="121"/>
                  </a:lnTo>
                  <a:lnTo>
                    <a:pt x="151" y="126"/>
                  </a:lnTo>
                  <a:lnTo>
                    <a:pt x="151" y="130"/>
                  </a:lnTo>
                  <a:lnTo>
                    <a:pt x="153" y="135"/>
                  </a:lnTo>
                  <a:lnTo>
                    <a:pt x="153" y="139"/>
                  </a:lnTo>
                  <a:lnTo>
                    <a:pt x="149" y="144"/>
                  </a:lnTo>
                  <a:lnTo>
                    <a:pt x="140" y="148"/>
                  </a:lnTo>
                  <a:lnTo>
                    <a:pt x="136" y="153"/>
                  </a:lnTo>
                  <a:lnTo>
                    <a:pt x="130" y="157"/>
                  </a:lnTo>
                  <a:lnTo>
                    <a:pt x="127" y="162"/>
                  </a:lnTo>
                  <a:lnTo>
                    <a:pt x="125" y="166"/>
                  </a:lnTo>
                  <a:lnTo>
                    <a:pt x="123" y="171"/>
                  </a:lnTo>
                  <a:lnTo>
                    <a:pt x="127" y="175"/>
                  </a:lnTo>
                  <a:lnTo>
                    <a:pt x="138" y="180"/>
                  </a:lnTo>
                  <a:lnTo>
                    <a:pt x="159" y="184"/>
                  </a:lnTo>
                  <a:lnTo>
                    <a:pt x="172" y="189"/>
                  </a:lnTo>
                  <a:lnTo>
                    <a:pt x="210" y="193"/>
                  </a:lnTo>
                  <a:lnTo>
                    <a:pt x="236" y="198"/>
                  </a:lnTo>
                  <a:lnTo>
                    <a:pt x="357" y="202"/>
                  </a:lnTo>
                  <a:lnTo>
                    <a:pt x="416" y="207"/>
                  </a:lnTo>
                  <a:lnTo>
                    <a:pt x="435" y="211"/>
                  </a:lnTo>
                  <a:lnTo>
                    <a:pt x="435" y="216"/>
                  </a:lnTo>
                  <a:lnTo>
                    <a:pt x="421" y="220"/>
                  </a:lnTo>
                  <a:lnTo>
                    <a:pt x="418" y="225"/>
                  </a:lnTo>
                  <a:lnTo>
                    <a:pt x="431" y="229"/>
                  </a:lnTo>
                  <a:lnTo>
                    <a:pt x="461" y="234"/>
                  </a:lnTo>
                  <a:lnTo>
                    <a:pt x="493" y="238"/>
                  </a:lnTo>
                  <a:lnTo>
                    <a:pt x="508" y="243"/>
                  </a:lnTo>
                  <a:lnTo>
                    <a:pt x="520" y="247"/>
                  </a:lnTo>
                  <a:lnTo>
                    <a:pt x="548" y="252"/>
                  </a:lnTo>
                  <a:lnTo>
                    <a:pt x="574" y="256"/>
                  </a:lnTo>
                  <a:lnTo>
                    <a:pt x="603" y="261"/>
                  </a:lnTo>
                  <a:lnTo>
                    <a:pt x="614" y="265"/>
                  </a:lnTo>
                  <a:lnTo>
                    <a:pt x="622" y="270"/>
                  </a:lnTo>
                  <a:lnTo>
                    <a:pt x="633" y="274"/>
                  </a:lnTo>
                  <a:lnTo>
                    <a:pt x="637" y="279"/>
                  </a:lnTo>
                  <a:lnTo>
                    <a:pt x="642" y="283"/>
                  </a:lnTo>
                  <a:lnTo>
                    <a:pt x="646" y="288"/>
                  </a:lnTo>
                  <a:lnTo>
                    <a:pt x="650" y="292"/>
                  </a:lnTo>
                  <a:lnTo>
                    <a:pt x="654" y="297"/>
                  </a:lnTo>
                  <a:lnTo>
                    <a:pt x="659" y="301"/>
                  </a:lnTo>
                  <a:lnTo>
                    <a:pt x="659" y="306"/>
                  </a:lnTo>
                  <a:lnTo>
                    <a:pt x="659" y="310"/>
                  </a:lnTo>
                  <a:lnTo>
                    <a:pt x="661" y="315"/>
                  </a:lnTo>
                  <a:lnTo>
                    <a:pt x="665" y="319"/>
                  </a:lnTo>
                  <a:lnTo>
                    <a:pt x="665" y="324"/>
                  </a:lnTo>
                  <a:lnTo>
                    <a:pt x="665" y="328"/>
                  </a:lnTo>
                  <a:lnTo>
                    <a:pt x="665" y="333"/>
                  </a:lnTo>
                  <a:lnTo>
                    <a:pt x="665" y="337"/>
                  </a:lnTo>
                  <a:lnTo>
                    <a:pt x="659" y="342"/>
                  </a:lnTo>
                  <a:lnTo>
                    <a:pt x="648" y="346"/>
                  </a:lnTo>
                  <a:lnTo>
                    <a:pt x="633" y="351"/>
                  </a:lnTo>
                  <a:lnTo>
                    <a:pt x="625" y="355"/>
                  </a:lnTo>
                  <a:lnTo>
                    <a:pt x="618" y="360"/>
                  </a:lnTo>
                  <a:lnTo>
                    <a:pt x="605" y="364"/>
                  </a:lnTo>
                  <a:lnTo>
                    <a:pt x="595" y="369"/>
                  </a:lnTo>
                  <a:lnTo>
                    <a:pt x="593" y="373"/>
                  </a:lnTo>
                  <a:lnTo>
                    <a:pt x="588" y="378"/>
                  </a:lnTo>
                  <a:lnTo>
                    <a:pt x="580" y="382"/>
                  </a:lnTo>
                  <a:lnTo>
                    <a:pt x="580" y="387"/>
                  </a:lnTo>
                  <a:lnTo>
                    <a:pt x="578" y="391"/>
                  </a:lnTo>
                  <a:lnTo>
                    <a:pt x="578" y="396"/>
                  </a:lnTo>
                  <a:lnTo>
                    <a:pt x="584" y="400"/>
                  </a:lnTo>
                  <a:lnTo>
                    <a:pt x="595" y="405"/>
                  </a:lnTo>
                  <a:lnTo>
                    <a:pt x="612" y="409"/>
                  </a:lnTo>
                  <a:lnTo>
                    <a:pt x="627" y="414"/>
                  </a:lnTo>
                  <a:lnTo>
                    <a:pt x="642" y="418"/>
                  </a:lnTo>
                  <a:lnTo>
                    <a:pt x="654" y="423"/>
                  </a:lnTo>
                  <a:lnTo>
                    <a:pt x="659" y="427"/>
                  </a:lnTo>
                  <a:lnTo>
                    <a:pt x="659" y="432"/>
                  </a:lnTo>
                  <a:lnTo>
                    <a:pt x="650" y="436"/>
                  </a:lnTo>
                  <a:lnTo>
                    <a:pt x="642" y="441"/>
                  </a:lnTo>
                  <a:lnTo>
                    <a:pt x="629" y="445"/>
                  </a:lnTo>
                  <a:lnTo>
                    <a:pt x="599" y="450"/>
                  </a:lnTo>
                  <a:lnTo>
                    <a:pt x="582" y="454"/>
                  </a:lnTo>
                  <a:lnTo>
                    <a:pt x="565" y="459"/>
                  </a:lnTo>
                  <a:lnTo>
                    <a:pt x="552" y="463"/>
                  </a:lnTo>
                  <a:lnTo>
                    <a:pt x="550" y="468"/>
                  </a:lnTo>
                  <a:lnTo>
                    <a:pt x="550" y="472"/>
                  </a:lnTo>
                  <a:lnTo>
                    <a:pt x="561" y="477"/>
                  </a:lnTo>
                  <a:lnTo>
                    <a:pt x="569" y="481"/>
                  </a:lnTo>
                  <a:lnTo>
                    <a:pt x="586" y="486"/>
                  </a:lnTo>
                  <a:lnTo>
                    <a:pt x="612" y="490"/>
                  </a:lnTo>
                  <a:lnTo>
                    <a:pt x="631" y="495"/>
                  </a:lnTo>
                  <a:lnTo>
                    <a:pt x="644" y="499"/>
                  </a:lnTo>
                  <a:lnTo>
                    <a:pt x="650" y="504"/>
                  </a:lnTo>
                  <a:lnTo>
                    <a:pt x="650" y="508"/>
                  </a:lnTo>
                  <a:lnTo>
                    <a:pt x="646" y="512"/>
                  </a:lnTo>
                  <a:lnTo>
                    <a:pt x="627" y="517"/>
                  </a:lnTo>
                  <a:lnTo>
                    <a:pt x="614" y="521"/>
                  </a:lnTo>
                  <a:lnTo>
                    <a:pt x="597" y="526"/>
                  </a:lnTo>
                  <a:lnTo>
                    <a:pt x="586" y="530"/>
                  </a:lnTo>
                  <a:lnTo>
                    <a:pt x="580" y="535"/>
                  </a:lnTo>
                  <a:lnTo>
                    <a:pt x="565" y="539"/>
                  </a:lnTo>
                  <a:lnTo>
                    <a:pt x="559" y="544"/>
                  </a:lnTo>
                  <a:lnTo>
                    <a:pt x="548" y="548"/>
                  </a:lnTo>
                  <a:lnTo>
                    <a:pt x="546" y="553"/>
                  </a:lnTo>
                  <a:lnTo>
                    <a:pt x="535" y="557"/>
                  </a:lnTo>
                  <a:lnTo>
                    <a:pt x="531" y="562"/>
                  </a:lnTo>
                  <a:lnTo>
                    <a:pt x="540" y="566"/>
                  </a:lnTo>
                  <a:lnTo>
                    <a:pt x="554" y="571"/>
                  </a:lnTo>
                  <a:lnTo>
                    <a:pt x="567" y="575"/>
                  </a:lnTo>
                  <a:lnTo>
                    <a:pt x="582" y="580"/>
                  </a:lnTo>
                  <a:lnTo>
                    <a:pt x="601" y="584"/>
                  </a:lnTo>
                  <a:lnTo>
                    <a:pt x="612" y="589"/>
                  </a:lnTo>
                  <a:lnTo>
                    <a:pt x="627" y="593"/>
                  </a:lnTo>
                  <a:lnTo>
                    <a:pt x="639" y="598"/>
                  </a:lnTo>
                  <a:lnTo>
                    <a:pt x="642" y="602"/>
                  </a:lnTo>
                  <a:lnTo>
                    <a:pt x="648" y="607"/>
                  </a:lnTo>
                  <a:lnTo>
                    <a:pt x="650" y="611"/>
                  </a:lnTo>
                  <a:lnTo>
                    <a:pt x="650" y="616"/>
                  </a:lnTo>
                  <a:lnTo>
                    <a:pt x="650" y="620"/>
                  </a:lnTo>
                  <a:lnTo>
                    <a:pt x="650" y="625"/>
                  </a:lnTo>
                  <a:lnTo>
                    <a:pt x="642" y="629"/>
                  </a:lnTo>
                  <a:lnTo>
                    <a:pt x="635" y="634"/>
                  </a:lnTo>
                  <a:lnTo>
                    <a:pt x="622" y="638"/>
                  </a:lnTo>
                  <a:lnTo>
                    <a:pt x="605" y="643"/>
                  </a:lnTo>
                  <a:lnTo>
                    <a:pt x="601" y="647"/>
                  </a:lnTo>
                  <a:lnTo>
                    <a:pt x="605" y="652"/>
                  </a:lnTo>
                  <a:lnTo>
                    <a:pt x="608" y="656"/>
                  </a:lnTo>
                  <a:lnTo>
                    <a:pt x="614" y="661"/>
                  </a:lnTo>
                  <a:lnTo>
                    <a:pt x="616" y="665"/>
                  </a:lnTo>
                  <a:lnTo>
                    <a:pt x="622" y="670"/>
                  </a:lnTo>
                  <a:lnTo>
                    <a:pt x="625" y="674"/>
                  </a:lnTo>
                  <a:lnTo>
                    <a:pt x="625" y="679"/>
                  </a:lnTo>
                  <a:lnTo>
                    <a:pt x="629" y="683"/>
                  </a:lnTo>
                  <a:lnTo>
                    <a:pt x="633" y="688"/>
                  </a:lnTo>
                  <a:lnTo>
                    <a:pt x="631" y="692"/>
                  </a:lnTo>
                  <a:lnTo>
                    <a:pt x="629" y="697"/>
                  </a:lnTo>
                  <a:lnTo>
                    <a:pt x="605" y="701"/>
                  </a:lnTo>
                  <a:lnTo>
                    <a:pt x="595" y="706"/>
                  </a:lnTo>
                  <a:lnTo>
                    <a:pt x="593" y="710"/>
                  </a:lnTo>
                  <a:lnTo>
                    <a:pt x="597" y="715"/>
                  </a:lnTo>
                  <a:lnTo>
                    <a:pt x="599" y="719"/>
                  </a:lnTo>
                  <a:lnTo>
                    <a:pt x="599" y="724"/>
                  </a:lnTo>
                  <a:lnTo>
                    <a:pt x="595" y="728"/>
                  </a:lnTo>
                  <a:lnTo>
                    <a:pt x="588" y="733"/>
                  </a:lnTo>
                  <a:lnTo>
                    <a:pt x="578" y="737"/>
                  </a:lnTo>
                  <a:lnTo>
                    <a:pt x="567" y="742"/>
                  </a:lnTo>
                  <a:lnTo>
                    <a:pt x="561" y="746"/>
                  </a:lnTo>
                  <a:lnTo>
                    <a:pt x="561" y="751"/>
                  </a:lnTo>
                  <a:lnTo>
                    <a:pt x="548" y="755"/>
                  </a:lnTo>
                  <a:lnTo>
                    <a:pt x="537" y="760"/>
                  </a:lnTo>
                  <a:lnTo>
                    <a:pt x="533" y="764"/>
                  </a:lnTo>
                  <a:lnTo>
                    <a:pt x="529" y="769"/>
                  </a:lnTo>
                  <a:lnTo>
                    <a:pt x="518" y="773"/>
                  </a:lnTo>
                  <a:lnTo>
                    <a:pt x="514" y="778"/>
                  </a:lnTo>
                  <a:lnTo>
                    <a:pt x="510" y="782"/>
                  </a:lnTo>
                  <a:lnTo>
                    <a:pt x="508" y="787"/>
                  </a:lnTo>
                  <a:lnTo>
                    <a:pt x="503" y="791"/>
                  </a:lnTo>
                  <a:lnTo>
                    <a:pt x="499" y="796"/>
                  </a:lnTo>
                  <a:lnTo>
                    <a:pt x="495" y="800"/>
                  </a:lnTo>
                  <a:lnTo>
                    <a:pt x="493" y="805"/>
                  </a:lnTo>
                  <a:lnTo>
                    <a:pt x="484" y="809"/>
                  </a:lnTo>
                  <a:lnTo>
                    <a:pt x="472" y="814"/>
                  </a:lnTo>
                  <a:lnTo>
                    <a:pt x="467" y="818"/>
                  </a:lnTo>
                  <a:lnTo>
                    <a:pt x="461" y="823"/>
                  </a:lnTo>
                  <a:lnTo>
                    <a:pt x="429" y="827"/>
                  </a:lnTo>
                  <a:lnTo>
                    <a:pt x="404" y="832"/>
                  </a:lnTo>
                  <a:lnTo>
                    <a:pt x="382" y="836"/>
                  </a:lnTo>
                  <a:lnTo>
                    <a:pt x="355" y="841"/>
                  </a:lnTo>
                  <a:lnTo>
                    <a:pt x="329" y="845"/>
                  </a:lnTo>
                  <a:lnTo>
                    <a:pt x="323" y="850"/>
                  </a:lnTo>
                  <a:lnTo>
                    <a:pt x="306" y="854"/>
                  </a:lnTo>
                  <a:lnTo>
                    <a:pt x="293" y="859"/>
                  </a:lnTo>
                  <a:lnTo>
                    <a:pt x="300" y="863"/>
                  </a:lnTo>
                  <a:lnTo>
                    <a:pt x="308" y="868"/>
                  </a:lnTo>
                  <a:lnTo>
                    <a:pt x="314" y="872"/>
                  </a:lnTo>
                  <a:lnTo>
                    <a:pt x="323" y="877"/>
                  </a:lnTo>
                  <a:lnTo>
                    <a:pt x="351" y="881"/>
                  </a:lnTo>
                  <a:lnTo>
                    <a:pt x="365" y="886"/>
                  </a:lnTo>
                  <a:lnTo>
                    <a:pt x="391" y="890"/>
                  </a:lnTo>
                  <a:lnTo>
                    <a:pt x="414" y="895"/>
                  </a:lnTo>
                  <a:lnTo>
                    <a:pt x="433" y="899"/>
                  </a:lnTo>
                  <a:lnTo>
                    <a:pt x="459" y="904"/>
                  </a:lnTo>
                  <a:lnTo>
                    <a:pt x="491" y="908"/>
                  </a:lnTo>
                  <a:lnTo>
                    <a:pt x="510" y="913"/>
                  </a:lnTo>
                  <a:lnTo>
                    <a:pt x="518" y="917"/>
                  </a:lnTo>
                  <a:lnTo>
                    <a:pt x="540" y="922"/>
                  </a:lnTo>
                  <a:lnTo>
                    <a:pt x="557" y="926"/>
                  </a:lnTo>
                  <a:lnTo>
                    <a:pt x="567" y="931"/>
                  </a:lnTo>
                  <a:lnTo>
                    <a:pt x="574" y="935"/>
                  </a:lnTo>
                  <a:lnTo>
                    <a:pt x="580" y="940"/>
                  </a:lnTo>
                  <a:lnTo>
                    <a:pt x="584" y="944"/>
                  </a:lnTo>
                  <a:lnTo>
                    <a:pt x="584" y="949"/>
                  </a:lnTo>
                  <a:lnTo>
                    <a:pt x="582" y="953"/>
                  </a:lnTo>
                  <a:lnTo>
                    <a:pt x="565" y="958"/>
                  </a:lnTo>
                  <a:lnTo>
                    <a:pt x="554" y="962"/>
                  </a:lnTo>
                  <a:lnTo>
                    <a:pt x="531" y="967"/>
                  </a:lnTo>
                  <a:lnTo>
                    <a:pt x="482" y="971"/>
                  </a:lnTo>
                  <a:lnTo>
                    <a:pt x="455" y="976"/>
                  </a:lnTo>
                  <a:lnTo>
                    <a:pt x="427" y="980"/>
                  </a:lnTo>
                  <a:lnTo>
                    <a:pt x="399" y="985"/>
                  </a:lnTo>
                  <a:lnTo>
                    <a:pt x="355" y="989"/>
                  </a:lnTo>
                  <a:lnTo>
                    <a:pt x="329" y="994"/>
                  </a:lnTo>
                  <a:lnTo>
                    <a:pt x="272" y="998"/>
                  </a:lnTo>
                  <a:lnTo>
                    <a:pt x="246" y="1003"/>
                  </a:lnTo>
                  <a:lnTo>
                    <a:pt x="238" y="1007"/>
                  </a:lnTo>
                  <a:lnTo>
                    <a:pt x="238" y="1012"/>
                  </a:lnTo>
                  <a:lnTo>
                    <a:pt x="251" y="1016"/>
                  </a:lnTo>
                  <a:lnTo>
                    <a:pt x="272" y="1021"/>
                  </a:lnTo>
                  <a:lnTo>
                    <a:pt x="287" y="1025"/>
                  </a:lnTo>
                  <a:lnTo>
                    <a:pt x="300" y="1030"/>
                  </a:lnTo>
                  <a:lnTo>
                    <a:pt x="308" y="1034"/>
                  </a:lnTo>
                  <a:lnTo>
                    <a:pt x="312" y="1039"/>
                  </a:lnTo>
                  <a:lnTo>
                    <a:pt x="340" y="1043"/>
                  </a:lnTo>
                  <a:lnTo>
                    <a:pt x="359" y="1048"/>
                  </a:lnTo>
                  <a:lnTo>
                    <a:pt x="365" y="1052"/>
                  </a:lnTo>
                  <a:lnTo>
                    <a:pt x="372" y="1057"/>
                  </a:lnTo>
                  <a:lnTo>
                    <a:pt x="361" y="1061"/>
                  </a:lnTo>
                  <a:lnTo>
                    <a:pt x="344" y="1066"/>
                  </a:lnTo>
                  <a:lnTo>
                    <a:pt x="331" y="1070"/>
                  </a:lnTo>
                  <a:lnTo>
                    <a:pt x="325" y="1075"/>
                  </a:lnTo>
                  <a:lnTo>
                    <a:pt x="314" y="1079"/>
                  </a:lnTo>
                  <a:lnTo>
                    <a:pt x="310" y="1084"/>
                  </a:lnTo>
                  <a:lnTo>
                    <a:pt x="304" y="1088"/>
                  </a:lnTo>
                  <a:lnTo>
                    <a:pt x="300" y="1093"/>
                  </a:lnTo>
                  <a:lnTo>
                    <a:pt x="302" y="1097"/>
                  </a:lnTo>
                  <a:lnTo>
                    <a:pt x="306" y="1102"/>
                  </a:lnTo>
                  <a:lnTo>
                    <a:pt x="308" y="1106"/>
                  </a:lnTo>
                  <a:lnTo>
                    <a:pt x="312" y="1111"/>
                  </a:lnTo>
                  <a:lnTo>
                    <a:pt x="321" y="1115"/>
                  </a:lnTo>
                  <a:lnTo>
                    <a:pt x="329" y="1120"/>
                  </a:lnTo>
                  <a:lnTo>
                    <a:pt x="334" y="1124"/>
                  </a:lnTo>
                  <a:lnTo>
                    <a:pt x="340" y="1129"/>
                  </a:lnTo>
                  <a:lnTo>
                    <a:pt x="342" y="1133"/>
                  </a:lnTo>
                  <a:lnTo>
                    <a:pt x="346" y="1138"/>
                  </a:lnTo>
                  <a:lnTo>
                    <a:pt x="346" y="1142"/>
                  </a:lnTo>
                  <a:lnTo>
                    <a:pt x="344" y="1147"/>
                  </a:lnTo>
                  <a:lnTo>
                    <a:pt x="338" y="1151"/>
                  </a:lnTo>
                  <a:lnTo>
                    <a:pt x="325" y="1156"/>
                  </a:lnTo>
                  <a:lnTo>
                    <a:pt x="321" y="1160"/>
                  </a:lnTo>
                  <a:lnTo>
                    <a:pt x="317" y="1165"/>
                  </a:lnTo>
                  <a:lnTo>
                    <a:pt x="314" y="1169"/>
                  </a:lnTo>
                  <a:lnTo>
                    <a:pt x="314" y="1174"/>
                  </a:lnTo>
                  <a:lnTo>
                    <a:pt x="317" y="1178"/>
                  </a:lnTo>
                  <a:lnTo>
                    <a:pt x="327" y="1183"/>
                  </a:lnTo>
                  <a:lnTo>
                    <a:pt x="346" y="1187"/>
                  </a:lnTo>
                  <a:lnTo>
                    <a:pt x="355" y="1192"/>
                  </a:lnTo>
                  <a:lnTo>
                    <a:pt x="370" y="1196"/>
                  </a:lnTo>
                  <a:lnTo>
                    <a:pt x="384" y="1201"/>
                  </a:lnTo>
                  <a:lnTo>
                    <a:pt x="393" y="1205"/>
                  </a:lnTo>
                  <a:lnTo>
                    <a:pt x="397" y="1210"/>
                  </a:lnTo>
                  <a:lnTo>
                    <a:pt x="389" y="1214"/>
                  </a:lnTo>
                  <a:lnTo>
                    <a:pt x="363" y="1219"/>
                  </a:lnTo>
                  <a:lnTo>
                    <a:pt x="336" y="1223"/>
                  </a:lnTo>
                  <a:lnTo>
                    <a:pt x="276" y="1228"/>
                  </a:lnTo>
                  <a:lnTo>
                    <a:pt x="242" y="1232"/>
                  </a:lnTo>
                  <a:lnTo>
                    <a:pt x="189" y="1237"/>
                  </a:lnTo>
                  <a:lnTo>
                    <a:pt x="153" y="1241"/>
                  </a:lnTo>
                  <a:lnTo>
                    <a:pt x="147" y="1246"/>
                  </a:lnTo>
                  <a:lnTo>
                    <a:pt x="140" y="1250"/>
                  </a:lnTo>
                  <a:lnTo>
                    <a:pt x="140" y="1255"/>
                  </a:lnTo>
                  <a:lnTo>
                    <a:pt x="140" y="1259"/>
                  </a:lnTo>
                  <a:lnTo>
                    <a:pt x="140" y="1264"/>
                  </a:lnTo>
                  <a:lnTo>
                    <a:pt x="140" y="1268"/>
                  </a:lnTo>
                  <a:lnTo>
                    <a:pt x="149" y="1273"/>
                  </a:lnTo>
                  <a:lnTo>
                    <a:pt x="153" y="1277"/>
                  </a:lnTo>
                  <a:lnTo>
                    <a:pt x="155" y="1282"/>
                  </a:lnTo>
                  <a:lnTo>
                    <a:pt x="157" y="1286"/>
                  </a:lnTo>
                  <a:lnTo>
                    <a:pt x="161" y="1291"/>
                  </a:lnTo>
                  <a:lnTo>
                    <a:pt x="161" y="1295"/>
                  </a:lnTo>
                  <a:lnTo>
                    <a:pt x="159" y="1300"/>
                  </a:lnTo>
                  <a:lnTo>
                    <a:pt x="153" y="1304"/>
                  </a:lnTo>
                  <a:lnTo>
                    <a:pt x="149" y="1309"/>
                  </a:lnTo>
                  <a:lnTo>
                    <a:pt x="140" y="1313"/>
                  </a:lnTo>
                  <a:lnTo>
                    <a:pt x="134" y="1318"/>
                  </a:lnTo>
                  <a:lnTo>
                    <a:pt x="127" y="1322"/>
                  </a:lnTo>
                  <a:lnTo>
                    <a:pt x="125" y="1327"/>
                  </a:lnTo>
                  <a:lnTo>
                    <a:pt x="123" y="1331"/>
                  </a:lnTo>
                  <a:lnTo>
                    <a:pt x="119" y="1336"/>
                  </a:lnTo>
                  <a:lnTo>
                    <a:pt x="119" y="1340"/>
                  </a:lnTo>
                  <a:lnTo>
                    <a:pt x="119" y="1345"/>
                  </a:lnTo>
                  <a:lnTo>
                    <a:pt x="117" y="1349"/>
                  </a:lnTo>
                  <a:lnTo>
                    <a:pt x="115" y="1354"/>
                  </a:lnTo>
                  <a:lnTo>
                    <a:pt x="115" y="1358"/>
                  </a:lnTo>
                  <a:lnTo>
                    <a:pt x="108" y="1363"/>
                  </a:lnTo>
                  <a:lnTo>
                    <a:pt x="98" y="1367"/>
                  </a:lnTo>
                  <a:lnTo>
                    <a:pt x="87" y="1372"/>
                  </a:lnTo>
                  <a:lnTo>
                    <a:pt x="81" y="1376"/>
                  </a:lnTo>
                  <a:lnTo>
                    <a:pt x="66" y="1381"/>
                  </a:lnTo>
                  <a:lnTo>
                    <a:pt x="64" y="1385"/>
                  </a:lnTo>
                  <a:lnTo>
                    <a:pt x="64" y="1390"/>
                  </a:lnTo>
                  <a:lnTo>
                    <a:pt x="64" y="1394"/>
                  </a:lnTo>
                  <a:lnTo>
                    <a:pt x="64" y="1399"/>
                  </a:lnTo>
                  <a:lnTo>
                    <a:pt x="64" y="1403"/>
                  </a:lnTo>
                  <a:lnTo>
                    <a:pt x="64" y="1408"/>
                  </a:lnTo>
                  <a:lnTo>
                    <a:pt x="64" y="1412"/>
                  </a:lnTo>
                  <a:lnTo>
                    <a:pt x="59" y="1417"/>
                  </a:lnTo>
                  <a:lnTo>
                    <a:pt x="59" y="1421"/>
                  </a:lnTo>
                  <a:lnTo>
                    <a:pt x="59" y="1426"/>
                  </a:lnTo>
                  <a:lnTo>
                    <a:pt x="59" y="1430"/>
                  </a:lnTo>
                  <a:lnTo>
                    <a:pt x="59" y="1435"/>
                  </a:lnTo>
                  <a:lnTo>
                    <a:pt x="62" y="1439"/>
                  </a:lnTo>
                  <a:lnTo>
                    <a:pt x="64" y="1444"/>
                  </a:lnTo>
                  <a:lnTo>
                    <a:pt x="66" y="1448"/>
                  </a:lnTo>
                  <a:lnTo>
                    <a:pt x="68" y="1453"/>
                  </a:lnTo>
                  <a:lnTo>
                    <a:pt x="68" y="1457"/>
                  </a:lnTo>
                  <a:lnTo>
                    <a:pt x="70" y="1462"/>
                  </a:lnTo>
                  <a:lnTo>
                    <a:pt x="68" y="1466"/>
                  </a:lnTo>
                  <a:lnTo>
                    <a:pt x="64" y="1471"/>
                  </a:lnTo>
                  <a:lnTo>
                    <a:pt x="59" y="1475"/>
                  </a:lnTo>
                  <a:lnTo>
                    <a:pt x="55" y="1480"/>
                  </a:lnTo>
                  <a:lnTo>
                    <a:pt x="53" y="1484"/>
                  </a:lnTo>
                  <a:lnTo>
                    <a:pt x="53" y="1489"/>
                  </a:lnTo>
                  <a:lnTo>
                    <a:pt x="53" y="1493"/>
                  </a:lnTo>
                  <a:lnTo>
                    <a:pt x="53" y="1498"/>
                  </a:lnTo>
                  <a:lnTo>
                    <a:pt x="57" y="1502"/>
                  </a:lnTo>
                  <a:lnTo>
                    <a:pt x="62" y="1507"/>
                  </a:lnTo>
                  <a:lnTo>
                    <a:pt x="68" y="1511"/>
                  </a:lnTo>
                  <a:lnTo>
                    <a:pt x="70" y="1516"/>
                  </a:lnTo>
                  <a:lnTo>
                    <a:pt x="76" y="1520"/>
                  </a:lnTo>
                  <a:lnTo>
                    <a:pt x="83" y="1525"/>
                  </a:lnTo>
                  <a:lnTo>
                    <a:pt x="83" y="1529"/>
                  </a:lnTo>
                  <a:lnTo>
                    <a:pt x="83" y="1534"/>
                  </a:lnTo>
                  <a:lnTo>
                    <a:pt x="76" y="1538"/>
                  </a:lnTo>
                  <a:lnTo>
                    <a:pt x="68" y="1543"/>
                  </a:lnTo>
                  <a:lnTo>
                    <a:pt x="55" y="1547"/>
                  </a:lnTo>
                  <a:lnTo>
                    <a:pt x="51" y="1552"/>
                  </a:lnTo>
                  <a:lnTo>
                    <a:pt x="42" y="1556"/>
                  </a:lnTo>
                  <a:lnTo>
                    <a:pt x="32" y="1560"/>
                  </a:lnTo>
                  <a:lnTo>
                    <a:pt x="26" y="1565"/>
                  </a:lnTo>
                  <a:lnTo>
                    <a:pt x="19" y="1569"/>
                  </a:lnTo>
                  <a:lnTo>
                    <a:pt x="19" y="1574"/>
                  </a:lnTo>
                  <a:lnTo>
                    <a:pt x="23" y="1578"/>
                  </a:lnTo>
                  <a:lnTo>
                    <a:pt x="23" y="1583"/>
                  </a:lnTo>
                  <a:lnTo>
                    <a:pt x="23" y="1587"/>
                  </a:lnTo>
                  <a:lnTo>
                    <a:pt x="21" y="1592"/>
                  </a:lnTo>
                  <a:lnTo>
                    <a:pt x="17" y="1596"/>
                  </a:lnTo>
                  <a:lnTo>
                    <a:pt x="11" y="1601"/>
                  </a:lnTo>
                  <a:lnTo>
                    <a:pt x="9" y="1605"/>
                  </a:lnTo>
                  <a:lnTo>
                    <a:pt x="6" y="1610"/>
                  </a:lnTo>
                  <a:lnTo>
                    <a:pt x="4" y="1614"/>
                  </a:lnTo>
                  <a:lnTo>
                    <a:pt x="2" y="1619"/>
                  </a:lnTo>
                  <a:lnTo>
                    <a:pt x="2" y="1623"/>
                  </a:lnTo>
                  <a:lnTo>
                    <a:pt x="2" y="1628"/>
                  </a:lnTo>
                  <a:lnTo>
                    <a:pt x="0" y="1632"/>
                  </a:lnTo>
                  <a:lnTo>
                    <a:pt x="0" y="1637"/>
                  </a:lnTo>
                  <a:lnTo>
                    <a:pt x="0" y="1641"/>
                  </a:lnTo>
                  <a:lnTo>
                    <a:pt x="0" y="1646"/>
                  </a:lnTo>
                  <a:lnTo>
                    <a:pt x="0" y="1650"/>
                  </a:lnTo>
                  <a:lnTo>
                    <a:pt x="2" y="1655"/>
                  </a:lnTo>
                  <a:lnTo>
                    <a:pt x="6" y="1659"/>
                  </a:lnTo>
                  <a:lnTo>
                    <a:pt x="6" y="1664"/>
                  </a:lnTo>
                  <a:lnTo>
                    <a:pt x="13" y="1668"/>
                  </a:lnTo>
                  <a:lnTo>
                    <a:pt x="15" y="1673"/>
                  </a:lnTo>
                  <a:lnTo>
                    <a:pt x="19" y="1677"/>
                  </a:lnTo>
                  <a:lnTo>
                    <a:pt x="23" y="1682"/>
                  </a:lnTo>
                  <a:lnTo>
                    <a:pt x="23" y="1686"/>
                  </a:lnTo>
                  <a:lnTo>
                    <a:pt x="21" y="1691"/>
                  </a:lnTo>
                  <a:lnTo>
                    <a:pt x="19" y="1695"/>
                  </a:lnTo>
                  <a:lnTo>
                    <a:pt x="19" y="1700"/>
                  </a:lnTo>
                  <a:lnTo>
                    <a:pt x="21" y="1704"/>
                  </a:lnTo>
                  <a:lnTo>
                    <a:pt x="23" y="1709"/>
                  </a:lnTo>
                  <a:lnTo>
                    <a:pt x="23" y="1713"/>
                  </a:lnTo>
                  <a:lnTo>
                    <a:pt x="26" y="1718"/>
                  </a:lnTo>
                  <a:lnTo>
                    <a:pt x="26" y="1722"/>
                  </a:lnTo>
                  <a:lnTo>
                    <a:pt x="26" y="1727"/>
                  </a:lnTo>
                  <a:lnTo>
                    <a:pt x="26" y="1731"/>
                  </a:lnTo>
                  <a:lnTo>
                    <a:pt x="30" y="1736"/>
                  </a:lnTo>
                  <a:lnTo>
                    <a:pt x="34" y="1740"/>
                  </a:lnTo>
                  <a:lnTo>
                    <a:pt x="40" y="1745"/>
                  </a:lnTo>
                  <a:lnTo>
                    <a:pt x="42" y="1749"/>
                  </a:lnTo>
                  <a:lnTo>
                    <a:pt x="47" y="1754"/>
                  </a:lnTo>
                  <a:lnTo>
                    <a:pt x="55" y="1758"/>
                  </a:lnTo>
                  <a:lnTo>
                    <a:pt x="64" y="1763"/>
                  </a:lnTo>
                  <a:lnTo>
                    <a:pt x="68" y="1767"/>
                  </a:lnTo>
                  <a:lnTo>
                    <a:pt x="70" y="1772"/>
                  </a:lnTo>
                  <a:lnTo>
                    <a:pt x="72" y="1776"/>
                  </a:lnTo>
                  <a:lnTo>
                    <a:pt x="74" y="1781"/>
                  </a:lnTo>
                  <a:lnTo>
                    <a:pt x="76" y="1785"/>
                  </a:lnTo>
                  <a:lnTo>
                    <a:pt x="72" y="1790"/>
                  </a:lnTo>
                  <a:lnTo>
                    <a:pt x="72" y="1794"/>
                  </a:lnTo>
                  <a:lnTo>
                    <a:pt x="70" y="1799"/>
                  </a:lnTo>
                  <a:lnTo>
                    <a:pt x="68" y="1803"/>
                  </a:lnTo>
                  <a:lnTo>
                    <a:pt x="66" y="1808"/>
                  </a:lnTo>
                  <a:lnTo>
                    <a:pt x="62" y="1812"/>
                  </a:lnTo>
                  <a:lnTo>
                    <a:pt x="57" y="1817"/>
                  </a:lnTo>
                  <a:lnTo>
                    <a:pt x="55" y="1821"/>
                  </a:lnTo>
                  <a:lnTo>
                    <a:pt x="55" y="1826"/>
                  </a:lnTo>
                  <a:lnTo>
                    <a:pt x="57" y="1830"/>
                  </a:lnTo>
                  <a:lnTo>
                    <a:pt x="59" y="1835"/>
                  </a:lnTo>
                  <a:lnTo>
                    <a:pt x="64" y="1839"/>
                  </a:lnTo>
                  <a:lnTo>
                    <a:pt x="66" y="1844"/>
                  </a:lnTo>
                  <a:lnTo>
                    <a:pt x="68" y="1848"/>
                  </a:lnTo>
                  <a:lnTo>
                    <a:pt x="70" y="1853"/>
                  </a:lnTo>
                  <a:lnTo>
                    <a:pt x="66" y="1857"/>
                  </a:lnTo>
                  <a:lnTo>
                    <a:pt x="62" y="1862"/>
                  </a:lnTo>
                  <a:lnTo>
                    <a:pt x="49" y="1866"/>
                  </a:lnTo>
                  <a:lnTo>
                    <a:pt x="47" y="1871"/>
                  </a:lnTo>
                  <a:lnTo>
                    <a:pt x="47" y="1875"/>
                  </a:lnTo>
                  <a:lnTo>
                    <a:pt x="70" y="1880"/>
                  </a:lnTo>
                  <a:lnTo>
                    <a:pt x="89" y="1884"/>
                  </a:lnTo>
                  <a:lnTo>
                    <a:pt x="98" y="1889"/>
                  </a:lnTo>
                  <a:lnTo>
                    <a:pt x="98" y="1893"/>
                  </a:lnTo>
                  <a:lnTo>
                    <a:pt x="96" y="1898"/>
                  </a:lnTo>
                  <a:lnTo>
                    <a:pt x="79" y="1902"/>
                  </a:lnTo>
                  <a:lnTo>
                    <a:pt x="70" y="1907"/>
                  </a:lnTo>
                  <a:lnTo>
                    <a:pt x="70" y="1911"/>
                  </a:lnTo>
                  <a:lnTo>
                    <a:pt x="68" y="1916"/>
                  </a:lnTo>
                  <a:lnTo>
                    <a:pt x="64" y="1920"/>
                  </a:lnTo>
                  <a:lnTo>
                    <a:pt x="64" y="1925"/>
                  </a:lnTo>
                  <a:lnTo>
                    <a:pt x="62" y="1929"/>
                  </a:lnTo>
                  <a:lnTo>
                    <a:pt x="64" y="1934"/>
                  </a:lnTo>
                  <a:lnTo>
                    <a:pt x="66" y="1938"/>
                  </a:lnTo>
                  <a:lnTo>
                    <a:pt x="68" y="1943"/>
                  </a:lnTo>
                  <a:lnTo>
                    <a:pt x="68" y="1947"/>
                  </a:lnTo>
                  <a:lnTo>
                    <a:pt x="68" y="1952"/>
                  </a:lnTo>
                  <a:lnTo>
                    <a:pt x="68" y="1956"/>
                  </a:lnTo>
                  <a:lnTo>
                    <a:pt x="66" y="1961"/>
                  </a:lnTo>
                  <a:lnTo>
                    <a:pt x="64" y="1965"/>
                  </a:lnTo>
                  <a:lnTo>
                    <a:pt x="64" y="1970"/>
                  </a:lnTo>
                  <a:lnTo>
                    <a:pt x="64" y="1974"/>
                  </a:lnTo>
                  <a:lnTo>
                    <a:pt x="64" y="1979"/>
                  </a:lnTo>
                  <a:lnTo>
                    <a:pt x="64" y="1983"/>
                  </a:lnTo>
                  <a:lnTo>
                    <a:pt x="64" y="1988"/>
                  </a:lnTo>
                  <a:lnTo>
                    <a:pt x="55" y="1992"/>
                  </a:lnTo>
                  <a:lnTo>
                    <a:pt x="51" y="1997"/>
                  </a:lnTo>
                  <a:lnTo>
                    <a:pt x="47" y="2001"/>
                  </a:lnTo>
                  <a:lnTo>
                    <a:pt x="42" y="2006"/>
                  </a:lnTo>
                  <a:lnTo>
                    <a:pt x="42" y="2010"/>
                  </a:lnTo>
                  <a:lnTo>
                    <a:pt x="42" y="2015"/>
                  </a:lnTo>
                  <a:lnTo>
                    <a:pt x="42" y="2019"/>
                  </a:lnTo>
                  <a:lnTo>
                    <a:pt x="45" y="2024"/>
                  </a:lnTo>
                  <a:lnTo>
                    <a:pt x="45" y="2028"/>
                  </a:lnTo>
                  <a:lnTo>
                    <a:pt x="47" y="2033"/>
                  </a:lnTo>
                  <a:lnTo>
                    <a:pt x="47" y="2037"/>
                  </a:lnTo>
                  <a:lnTo>
                    <a:pt x="45" y="2042"/>
                  </a:lnTo>
                  <a:lnTo>
                    <a:pt x="42" y="2046"/>
                  </a:lnTo>
                  <a:lnTo>
                    <a:pt x="40" y="2051"/>
                  </a:lnTo>
                  <a:lnTo>
                    <a:pt x="40" y="2055"/>
                  </a:lnTo>
                  <a:lnTo>
                    <a:pt x="42" y="2060"/>
                  </a:lnTo>
                  <a:lnTo>
                    <a:pt x="51" y="2064"/>
                  </a:lnTo>
                  <a:lnTo>
                    <a:pt x="57" y="2069"/>
                  </a:lnTo>
                  <a:lnTo>
                    <a:pt x="76" y="2073"/>
                  </a:lnTo>
                  <a:lnTo>
                    <a:pt x="93" y="2078"/>
                  </a:lnTo>
                  <a:lnTo>
                    <a:pt x="108" y="2082"/>
                  </a:lnTo>
                  <a:lnTo>
                    <a:pt x="130" y="2087"/>
                  </a:lnTo>
                  <a:lnTo>
                    <a:pt x="132" y="2091"/>
                  </a:lnTo>
                  <a:lnTo>
                    <a:pt x="151" y="2096"/>
                  </a:lnTo>
                  <a:lnTo>
                    <a:pt x="157" y="2100"/>
                  </a:lnTo>
                  <a:lnTo>
                    <a:pt x="157" y="2105"/>
                  </a:lnTo>
                  <a:lnTo>
                    <a:pt x="155" y="2109"/>
                  </a:lnTo>
                  <a:lnTo>
                    <a:pt x="151" y="2114"/>
                  </a:lnTo>
                  <a:lnTo>
                    <a:pt x="142" y="2118"/>
                  </a:lnTo>
                  <a:lnTo>
                    <a:pt x="138" y="2123"/>
                  </a:lnTo>
                  <a:lnTo>
                    <a:pt x="138" y="2127"/>
                  </a:lnTo>
                  <a:lnTo>
                    <a:pt x="144" y="2132"/>
                  </a:lnTo>
                  <a:lnTo>
                    <a:pt x="159" y="2136"/>
                  </a:lnTo>
                  <a:lnTo>
                    <a:pt x="174" y="2141"/>
                  </a:lnTo>
                  <a:lnTo>
                    <a:pt x="181" y="2145"/>
                  </a:lnTo>
                  <a:lnTo>
                    <a:pt x="187" y="2150"/>
                  </a:lnTo>
                  <a:lnTo>
                    <a:pt x="193" y="2154"/>
                  </a:lnTo>
                  <a:lnTo>
                    <a:pt x="193" y="2159"/>
                  </a:lnTo>
                  <a:lnTo>
                    <a:pt x="193" y="2163"/>
                  </a:lnTo>
                  <a:lnTo>
                    <a:pt x="193" y="2168"/>
                  </a:lnTo>
                  <a:lnTo>
                    <a:pt x="191" y="2172"/>
                  </a:lnTo>
                  <a:lnTo>
                    <a:pt x="191" y="2177"/>
                  </a:lnTo>
                  <a:lnTo>
                    <a:pt x="185" y="2181"/>
                  </a:lnTo>
                  <a:lnTo>
                    <a:pt x="183" y="2186"/>
                  </a:lnTo>
                  <a:lnTo>
                    <a:pt x="176" y="2190"/>
                  </a:lnTo>
                  <a:lnTo>
                    <a:pt x="172" y="2195"/>
                  </a:lnTo>
                  <a:lnTo>
                    <a:pt x="168" y="2199"/>
                  </a:lnTo>
                  <a:lnTo>
                    <a:pt x="164" y="2204"/>
                  </a:lnTo>
                  <a:lnTo>
                    <a:pt x="161" y="2208"/>
                  </a:lnTo>
                  <a:lnTo>
                    <a:pt x="159" y="2213"/>
                  </a:lnTo>
                  <a:lnTo>
                    <a:pt x="159" y="2217"/>
                  </a:lnTo>
                  <a:lnTo>
                    <a:pt x="161" y="2222"/>
                  </a:lnTo>
                  <a:lnTo>
                    <a:pt x="170" y="2226"/>
                  </a:lnTo>
                  <a:lnTo>
                    <a:pt x="174" y="2231"/>
                  </a:lnTo>
                  <a:lnTo>
                    <a:pt x="178" y="2235"/>
                  </a:lnTo>
                  <a:lnTo>
                    <a:pt x="198" y="2240"/>
                  </a:lnTo>
                  <a:lnTo>
                    <a:pt x="215" y="2244"/>
                  </a:lnTo>
                  <a:lnTo>
                    <a:pt x="232" y="2249"/>
                  </a:lnTo>
                  <a:lnTo>
                    <a:pt x="242" y="2253"/>
                  </a:lnTo>
                  <a:lnTo>
                    <a:pt x="242" y="2258"/>
                  </a:lnTo>
                  <a:lnTo>
                    <a:pt x="244" y="2262"/>
                  </a:lnTo>
                  <a:lnTo>
                    <a:pt x="246" y="2267"/>
                  </a:lnTo>
                  <a:lnTo>
                    <a:pt x="246" y="2271"/>
                  </a:lnTo>
                  <a:lnTo>
                    <a:pt x="246" y="2276"/>
                  </a:lnTo>
                  <a:lnTo>
                    <a:pt x="246" y="2280"/>
                  </a:lnTo>
                  <a:lnTo>
                    <a:pt x="246" y="2285"/>
                  </a:lnTo>
                  <a:lnTo>
                    <a:pt x="249" y="2289"/>
                  </a:lnTo>
                  <a:lnTo>
                    <a:pt x="253" y="2294"/>
                  </a:lnTo>
                  <a:lnTo>
                    <a:pt x="255" y="2298"/>
                  </a:lnTo>
                  <a:lnTo>
                    <a:pt x="242" y="2303"/>
                  </a:lnTo>
                  <a:lnTo>
                    <a:pt x="238" y="2307"/>
                  </a:lnTo>
                  <a:lnTo>
                    <a:pt x="227" y="2312"/>
                  </a:lnTo>
                  <a:lnTo>
                    <a:pt x="219" y="2316"/>
                  </a:lnTo>
                  <a:lnTo>
                    <a:pt x="212" y="2321"/>
                  </a:lnTo>
                  <a:lnTo>
                    <a:pt x="204" y="2325"/>
                  </a:lnTo>
                  <a:lnTo>
                    <a:pt x="193" y="2330"/>
                  </a:lnTo>
                  <a:lnTo>
                    <a:pt x="191" y="2334"/>
                  </a:lnTo>
                  <a:lnTo>
                    <a:pt x="187" y="2339"/>
                  </a:lnTo>
                  <a:lnTo>
                    <a:pt x="183" y="2343"/>
                  </a:lnTo>
                  <a:lnTo>
                    <a:pt x="181" y="2348"/>
                  </a:lnTo>
                  <a:lnTo>
                    <a:pt x="174" y="2352"/>
                  </a:lnTo>
                  <a:lnTo>
                    <a:pt x="172" y="2357"/>
                  </a:lnTo>
                  <a:lnTo>
                    <a:pt x="168" y="2361"/>
                  </a:lnTo>
                  <a:lnTo>
                    <a:pt x="164" y="2366"/>
                  </a:lnTo>
                  <a:lnTo>
                    <a:pt x="159" y="2370"/>
                  </a:lnTo>
                  <a:lnTo>
                    <a:pt x="157" y="2375"/>
                  </a:lnTo>
                  <a:lnTo>
                    <a:pt x="155" y="2379"/>
                  </a:lnTo>
                  <a:lnTo>
                    <a:pt x="153" y="2384"/>
                  </a:lnTo>
                  <a:lnTo>
                    <a:pt x="151" y="2388"/>
                  </a:lnTo>
                  <a:lnTo>
                    <a:pt x="149" y="2393"/>
                  </a:lnTo>
                  <a:lnTo>
                    <a:pt x="149" y="2397"/>
                  </a:lnTo>
                  <a:lnTo>
                    <a:pt x="149" y="2402"/>
                  </a:lnTo>
                  <a:lnTo>
                    <a:pt x="149" y="2406"/>
                  </a:lnTo>
                  <a:lnTo>
                    <a:pt x="149" y="2411"/>
                  </a:lnTo>
                  <a:lnTo>
                    <a:pt x="147" y="2415"/>
                  </a:lnTo>
                  <a:lnTo>
                    <a:pt x="147" y="2420"/>
                  </a:lnTo>
                  <a:lnTo>
                    <a:pt x="144" y="2424"/>
                  </a:lnTo>
                  <a:lnTo>
                    <a:pt x="144" y="2429"/>
                  </a:lnTo>
                  <a:lnTo>
                    <a:pt x="144" y="2433"/>
                  </a:lnTo>
                  <a:lnTo>
                    <a:pt x="142" y="2438"/>
                  </a:lnTo>
                  <a:lnTo>
                    <a:pt x="140" y="2442"/>
                  </a:lnTo>
                  <a:lnTo>
                    <a:pt x="140" y="2447"/>
                  </a:lnTo>
                  <a:lnTo>
                    <a:pt x="138" y="2451"/>
                  </a:lnTo>
                  <a:lnTo>
                    <a:pt x="136" y="2456"/>
                  </a:lnTo>
                  <a:lnTo>
                    <a:pt x="134" y="2460"/>
                  </a:lnTo>
                  <a:lnTo>
                    <a:pt x="132" y="2465"/>
                  </a:lnTo>
                  <a:lnTo>
                    <a:pt x="132" y="2469"/>
                  </a:lnTo>
                  <a:lnTo>
                    <a:pt x="132" y="2474"/>
                  </a:lnTo>
                  <a:lnTo>
                    <a:pt x="136" y="2478"/>
                  </a:lnTo>
                  <a:lnTo>
                    <a:pt x="142" y="2483"/>
                  </a:lnTo>
                  <a:lnTo>
                    <a:pt x="149" y="2487"/>
                  </a:lnTo>
                  <a:lnTo>
                    <a:pt x="151" y="2492"/>
                  </a:lnTo>
                  <a:lnTo>
                    <a:pt x="155" y="2496"/>
                  </a:lnTo>
                  <a:lnTo>
                    <a:pt x="161" y="2501"/>
                  </a:lnTo>
                  <a:lnTo>
                    <a:pt x="166" y="2505"/>
                  </a:lnTo>
                  <a:lnTo>
                    <a:pt x="168" y="2510"/>
                  </a:lnTo>
                  <a:lnTo>
                    <a:pt x="172" y="2514"/>
                  </a:lnTo>
                  <a:lnTo>
                    <a:pt x="172" y="2519"/>
                  </a:lnTo>
                  <a:lnTo>
                    <a:pt x="170" y="2523"/>
                  </a:lnTo>
                  <a:lnTo>
                    <a:pt x="166" y="2528"/>
                  </a:lnTo>
                  <a:lnTo>
                    <a:pt x="164" y="2532"/>
                  </a:lnTo>
                  <a:lnTo>
                    <a:pt x="157" y="2537"/>
                  </a:lnTo>
                  <a:lnTo>
                    <a:pt x="155" y="2541"/>
                  </a:lnTo>
                  <a:lnTo>
                    <a:pt x="155" y="2546"/>
                  </a:lnTo>
                  <a:lnTo>
                    <a:pt x="155" y="2550"/>
                  </a:lnTo>
                  <a:lnTo>
                    <a:pt x="155" y="2555"/>
                  </a:lnTo>
                  <a:lnTo>
                    <a:pt x="155" y="2559"/>
                  </a:lnTo>
                  <a:lnTo>
                    <a:pt x="153" y="2564"/>
                  </a:lnTo>
                  <a:lnTo>
                    <a:pt x="151" y="2568"/>
                  </a:lnTo>
                  <a:lnTo>
                    <a:pt x="149" y="2573"/>
                  </a:lnTo>
                  <a:lnTo>
                    <a:pt x="149" y="2577"/>
                  </a:lnTo>
                  <a:lnTo>
                    <a:pt x="149" y="2582"/>
                  </a:lnTo>
                </a:path>
              </a:pathLst>
            </a:custGeom>
            <a:noFill/>
            <a:ln w="28440">
              <a:solidFill>
                <a:srgbClr val="008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Freeform 287"/>
            <p:cNvSpPr/>
            <p:nvPr/>
          </p:nvSpPr>
          <p:spPr>
            <a:xfrm>
              <a:off x="2262240" y="2157480"/>
              <a:ext cx="987480" cy="4379760"/>
            </a:xfrm>
            <a:custGeom>
              <a:avLst/>
              <a:gdLst>
                <a:gd name="textAreaLeft" fmla="*/ 0 w 987480"/>
                <a:gd name="textAreaRight" fmla="*/ 987840 w 987480"/>
                <a:gd name="textAreaTop" fmla="*/ 0 h 4379760"/>
                <a:gd name="textAreaBottom" fmla="*/ 4380120 h 4379760"/>
              </a:gdLst>
              <a:ahLst/>
              <a:rect l="textAreaLeft" t="textAreaTop" r="textAreaRight" b="textAreaBottom"/>
              <a:pathLst>
                <a:path w="584" h="2582">
                  <a:moveTo>
                    <a:pt x="136" y="0"/>
                  </a:moveTo>
                  <a:lnTo>
                    <a:pt x="125" y="4"/>
                  </a:lnTo>
                  <a:lnTo>
                    <a:pt x="121" y="9"/>
                  </a:lnTo>
                  <a:lnTo>
                    <a:pt x="117" y="13"/>
                  </a:lnTo>
                  <a:lnTo>
                    <a:pt x="115" y="18"/>
                  </a:lnTo>
                  <a:lnTo>
                    <a:pt x="115" y="22"/>
                  </a:lnTo>
                  <a:lnTo>
                    <a:pt x="117" y="27"/>
                  </a:lnTo>
                  <a:lnTo>
                    <a:pt x="119" y="31"/>
                  </a:lnTo>
                  <a:lnTo>
                    <a:pt x="117" y="36"/>
                  </a:lnTo>
                  <a:lnTo>
                    <a:pt x="117" y="40"/>
                  </a:lnTo>
                  <a:lnTo>
                    <a:pt x="117" y="45"/>
                  </a:lnTo>
                  <a:lnTo>
                    <a:pt x="117" y="49"/>
                  </a:lnTo>
                  <a:lnTo>
                    <a:pt x="119" y="54"/>
                  </a:lnTo>
                  <a:lnTo>
                    <a:pt x="119" y="58"/>
                  </a:lnTo>
                  <a:lnTo>
                    <a:pt x="123" y="63"/>
                  </a:lnTo>
                  <a:lnTo>
                    <a:pt x="125" y="67"/>
                  </a:lnTo>
                  <a:lnTo>
                    <a:pt x="128" y="72"/>
                  </a:lnTo>
                  <a:lnTo>
                    <a:pt x="132" y="76"/>
                  </a:lnTo>
                  <a:lnTo>
                    <a:pt x="132" y="81"/>
                  </a:lnTo>
                  <a:lnTo>
                    <a:pt x="132" y="85"/>
                  </a:lnTo>
                  <a:lnTo>
                    <a:pt x="130" y="90"/>
                  </a:lnTo>
                  <a:lnTo>
                    <a:pt x="125" y="94"/>
                  </a:lnTo>
                  <a:lnTo>
                    <a:pt x="125" y="99"/>
                  </a:lnTo>
                  <a:lnTo>
                    <a:pt x="121" y="103"/>
                  </a:lnTo>
                  <a:lnTo>
                    <a:pt x="119" y="108"/>
                  </a:lnTo>
                  <a:lnTo>
                    <a:pt x="117" y="112"/>
                  </a:lnTo>
                  <a:lnTo>
                    <a:pt x="117" y="117"/>
                  </a:lnTo>
                  <a:lnTo>
                    <a:pt x="117" y="121"/>
                  </a:lnTo>
                  <a:lnTo>
                    <a:pt x="117" y="126"/>
                  </a:lnTo>
                  <a:lnTo>
                    <a:pt x="123" y="130"/>
                  </a:lnTo>
                  <a:lnTo>
                    <a:pt x="121" y="135"/>
                  </a:lnTo>
                  <a:lnTo>
                    <a:pt x="119" y="139"/>
                  </a:lnTo>
                  <a:lnTo>
                    <a:pt x="117" y="144"/>
                  </a:lnTo>
                  <a:lnTo>
                    <a:pt x="115" y="148"/>
                  </a:lnTo>
                  <a:lnTo>
                    <a:pt x="111" y="153"/>
                  </a:lnTo>
                  <a:lnTo>
                    <a:pt x="102" y="157"/>
                  </a:lnTo>
                  <a:lnTo>
                    <a:pt x="98" y="162"/>
                  </a:lnTo>
                  <a:lnTo>
                    <a:pt x="94" y="166"/>
                  </a:lnTo>
                  <a:lnTo>
                    <a:pt x="91" y="171"/>
                  </a:lnTo>
                  <a:lnTo>
                    <a:pt x="94" y="175"/>
                  </a:lnTo>
                  <a:lnTo>
                    <a:pt x="100" y="180"/>
                  </a:lnTo>
                  <a:lnTo>
                    <a:pt x="106" y="184"/>
                  </a:lnTo>
                  <a:lnTo>
                    <a:pt x="142" y="189"/>
                  </a:lnTo>
                  <a:lnTo>
                    <a:pt x="185" y="193"/>
                  </a:lnTo>
                  <a:lnTo>
                    <a:pt x="221" y="198"/>
                  </a:lnTo>
                  <a:lnTo>
                    <a:pt x="289" y="202"/>
                  </a:lnTo>
                  <a:lnTo>
                    <a:pt x="300" y="207"/>
                  </a:lnTo>
                  <a:lnTo>
                    <a:pt x="319" y="211"/>
                  </a:lnTo>
                  <a:lnTo>
                    <a:pt x="332" y="216"/>
                  </a:lnTo>
                  <a:lnTo>
                    <a:pt x="336" y="220"/>
                  </a:lnTo>
                  <a:lnTo>
                    <a:pt x="346" y="225"/>
                  </a:lnTo>
                  <a:lnTo>
                    <a:pt x="359" y="229"/>
                  </a:lnTo>
                  <a:lnTo>
                    <a:pt x="376" y="234"/>
                  </a:lnTo>
                  <a:lnTo>
                    <a:pt x="385" y="238"/>
                  </a:lnTo>
                  <a:lnTo>
                    <a:pt x="395" y="243"/>
                  </a:lnTo>
                  <a:lnTo>
                    <a:pt x="404" y="247"/>
                  </a:lnTo>
                  <a:lnTo>
                    <a:pt x="427" y="252"/>
                  </a:lnTo>
                  <a:lnTo>
                    <a:pt x="436" y="256"/>
                  </a:lnTo>
                  <a:lnTo>
                    <a:pt x="448" y="261"/>
                  </a:lnTo>
                  <a:lnTo>
                    <a:pt x="463" y="265"/>
                  </a:lnTo>
                  <a:lnTo>
                    <a:pt x="467" y="270"/>
                  </a:lnTo>
                  <a:lnTo>
                    <a:pt x="474" y="274"/>
                  </a:lnTo>
                  <a:lnTo>
                    <a:pt x="478" y="279"/>
                  </a:lnTo>
                  <a:lnTo>
                    <a:pt x="482" y="283"/>
                  </a:lnTo>
                  <a:lnTo>
                    <a:pt x="493" y="288"/>
                  </a:lnTo>
                  <a:lnTo>
                    <a:pt x="495" y="292"/>
                  </a:lnTo>
                  <a:lnTo>
                    <a:pt x="504" y="297"/>
                  </a:lnTo>
                  <a:lnTo>
                    <a:pt x="508" y="301"/>
                  </a:lnTo>
                  <a:lnTo>
                    <a:pt x="512" y="306"/>
                  </a:lnTo>
                  <a:lnTo>
                    <a:pt x="518" y="310"/>
                  </a:lnTo>
                  <a:lnTo>
                    <a:pt x="523" y="315"/>
                  </a:lnTo>
                  <a:lnTo>
                    <a:pt x="529" y="319"/>
                  </a:lnTo>
                  <a:lnTo>
                    <a:pt x="533" y="324"/>
                  </a:lnTo>
                  <a:lnTo>
                    <a:pt x="533" y="328"/>
                  </a:lnTo>
                  <a:lnTo>
                    <a:pt x="533" y="333"/>
                  </a:lnTo>
                  <a:lnTo>
                    <a:pt x="535" y="337"/>
                  </a:lnTo>
                  <a:lnTo>
                    <a:pt x="529" y="342"/>
                  </a:lnTo>
                  <a:lnTo>
                    <a:pt x="527" y="346"/>
                  </a:lnTo>
                  <a:lnTo>
                    <a:pt x="521" y="351"/>
                  </a:lnTo>
                  <a:lnTo>
                    <a:pt x="514" y="355"/>
                  </a:lnTo>
                  <a:lnTo>
                    <a:pt x="506" y="360"/>
                  </a:lnTo>
                  <a:lnTo>
                    <a:pt x="501" y="364"/>
                  </a:lnTo>
                  <a:lnTo>
                    <a:pt x="491" y="369"/>
                  </a:lnTo>
                  <a:lnTo>
                    <a:pt x="489" y="373"/>
                  </a:lnTo>
                  <a:lnTo>
                    <a:pt x="487" y="378"/>
                  </a:lnTo>
                  <a:lnTo>
                    <a:pt x="487" y="382"/>
                  </a:lnTo>
                  <a:lnTo>
                    <a:pt x="491" y="387"/>
                  </a:lnTo>
                  <a:lnTo>
                    <a:pt x="497" y="391"/>
                  </a:lnTo>
                  <a:lnTo>
                    <a:pt x="504" y="396"/>
                  </a:lnTo>
                  <a:lnTo>
                    <a:pt x="504" y="400"/>
                  </a:lnTo>
                  <a:lnTo>
                    <a:pt x="514" y="405"/>
                  </a:lnTo>
                  <a:lnTo>
                    <a:pt x="516" y="409"/>
                  </a:lnTo>
                  <a:lnTo>
                    <a:pt x="518" y="414"/>
                  </a:lnTo>
                  <a:lnTo>
                    <a:pt x="518" y="418"/>
                  </a:lnTo>
                  <a:lnTo>
                    <a:pt x="516" y="423"/>
                  </a:lnTo>
                  <a:lnTo>
                    <a:pt x="514" y="427"/>
                  </a:lnTo>
                  <a:lnTo>
                    <a:pt x="512" y="432"/>
                  </a:lnTo>
                  <a:lnTo>
                    <a:pt x="506" y="436"/>
                  </a:lnTo>
                  <a:lnTo>
                    <a:pt x="504" y="441"/>
                  </a:lnTo>
                  <a:lnTo>
                    <a:pt x="499" y="445"/>
                  </a:lnTo>
                  <a:lnTo>
                    <a:pt x="491" y="450"/>
                  </a:lnTo>
                  <a:lnTo>
                    <a:pt x="489" y="454"/>
                  </a:lnTo>
                  <a:lnTo>
                    <a:pt x="484" y="459"/>
                  </a:lnTo>
                  <a:lnTo>
                    <a:pt x="484" y="463"/>
                  </a:lnTo>
                  <a:lnTo>
                    <a:pt x="491" y="468"/>
                  </a:lnTo>
                  <a:lnTo>
                    <a:pt x="497" y="472"/>
                  </a:lnTo>
                  <a:lnTo>
                    <a:pt x="497" y="477"/>
                  </a:lnTo>
                  <a:lnTo>
                    <a:pt x="506" y="481"/>
                  </a:lnTo>
                  <a:lnTo>
                    <a:pt x="512" y="486"/>
                  </a:lnTo>
                  <a:lnTo>
                    <a:pt x="518" y="490"/>
                  </a:lnTo>
                  <a:lnTo>
                    <a:pt x="518" y="495"/>
                  </a:lnTo>
                  <a:lnTo>
                    <a:pt x="512" y="499"/>
                  </a:lnTo>
                  <a:lnTo>
                    <a:pt x="512" y="504"/>
                  </a:lnTo>
                  <a:lnTo>
                    <a:pt x="510" y="508"/>
                  </a:lnTo>
                  <a:lnTo>
                    <a:pt x="510" y="512"/>
                  </a:lnTo>
                  <a:lnTo>
                    <a:pt x="508" y="517"/>
                  </a:lnTo>
                  <a:lnTo>
                    <a:pt x="508" y="521"/>
                  </a:lnTo>
                  <a:lnTo>
                    <a:pt x="506" y="526"/>
                  </a:lnTo>
                  <a:lnTo>
                    <a:pt x="501" y="530"/>
                  </a:lnTo>
                  <a:lnTo>
                    <a:pt x="497" y="535"/>
                  </a:lnTo>
                  <a:lnTo>
                    <a:pt x="495" y="539"/>
                  </a:lnTo>
                  <a:lnTo>
                    <a:pt x="491" y="544"/>
                  </a:lnTo>
                  <a:lnTo>
                    <a:pt x="487" y="548"/>
                  </a:lnTo>
                  <a:lnTo>
                    <a:pt x="487" y="553"/>
                  </a:lnTo>
                  <a:lnTo>
                    <a:pt x="487" y="557"/>
                  </a:lnTo>
                  <a:lnTo>
                    <a:pt x="487" y="562"/>
                  </a:lnTo>
                  <a:lnTo>
                    <a:pt x="484" y="566"/>
                  </a:lnTo>
                  <a:lnTo>
                    <a:pt x="491" y="571"/>
                  </a:lnTo>
                  <a:lnTo>
                    <a:pt x="495" y="575"/>
                  </a:lnTo>
                  <a:lnTo>
                    <a:pt x="497" y="580"/>
                  </a:lnTo>
                  <a:lnTo>
                    <a:pt x="506" y="584"/>
                  </a:lnTo>
                  <a:lnTo>
                    <a:pt x="510" y="589"/>
                  </a:lnTo>
                  <a:lnTo>
                    <a:pt x="521" y="593"/>
                  </a:lnTo>
                  <a:lnTo>
                    <a:pt x="527" y="598"/>
                  </a:lnTo>
                  <a:lnTo>
                    <a:pt x="535" y="602"/>
                  </a:lnTo>
                  <a:lnTo>
                    <a:pt x="550" y="607"/>
                  </a:lnTo>
                  <a:lnTo>
                    <a:pt x="555" y="611"/>
                  </a:lnTo>
                  <a:lnTo>
                    <a:pt x="559" y="616"/>
                  </a:lnTo>
                  <a:lnTo>
                    <a:pt x="567" y="620"/>
                  </a:lnTo>
                  <a:lnTo>
                    <a:pt x="572" y="625"/>
                  </a:lnTo>
                  <a:lnTo>
                    <a:pt x="576" y="629"/>
                  </a:lnTo>
                  <a:lnTo>
                    <a:pt x="582" y="634"/>
                  </a:lnTo>
                  <a:lnTo>
                    <a:pt x="582" y="638"/>
                  </a:lnTo>
                  <a:lnTo>
                    <a:pt x="584" y="643"/>
                  </a:lnTo>
                  <a:lnTo>
                    <a:pt x="582" y="647"/>
                  </a:lnTo>
                  <a:lnTo>
                    <a:pt x="580" y="652"/>
                  </a:lnTo>
                  <a:lnTo>
                    <a:pt x="578" y="656"/>
                  </a:lnTo>
                  <a:lnTo>
                    <a:pt x="578" y="661"/>
                  </a:lnTo>
                  <a:lnTo>
                    <a:pt x="578" y="665"/>
                  </a:lnTo>
                  <a:lnTo>
                    <a:pt x="576" y="670"/>
                  </a:lnTo>
                  <a:lnTo>
                    <a:pt x="569" y="674"/>
                  </a:lnTo>
                  <a:lnTo>
                    <a:pt x="569" y="679"/>
                  </a:lnTo>
                  <a:lnTo>
                    <a:pt x="565" y="683"/>
                  </a:lnTo>
                  <a:lnTo>
                    <a:pt x="557" y="688"/>
                  </a:lnTo>
                  <a:lnTo>
                    <a:pt x="544" y="692"/>
                  </a:lnTo>
                  <a:lnTo>
                    <a:pt x="540" y="697"/>
                  </a:lnTo>
                  <a:lnTo>
                    <a:pt x="531" y="701"/>
                  </a:lnTo>
                  <a:lnTo>
                    <a:pt x="523" y="706"/>
                  </a:lnTo>
                  <a:lnTo>
                    <a:pt x="514" y="710"/>
                  </a:lnTo>
                  <a:lnTo>
                    <a:pt x="512" y="715"/>
                  </a:lnTo>
                  <a:lnTo>
                    <a:pt x="508" y="719"/>
                  </a:lnTo>
                  <a:lnTo>
                    <a:pt x="504" y="724"/>
                  </a:lnTo>
                  <a:lnTo>
                    <a:pt x="499" y="728"/>
                  </a:lnTo>
                  <a:lnTo>
                    <a:pt x="493" y="733"/>
                  </a:lnTo>
                  <a:lnTo>
                    <a:pt x="478" y="737"/>
                  </a:lnTo>
                  <a:lnTo>
                    <a:pt x="474" y="742"/>
                  </a:lnTo>
                  <a:lnTo>
                    <a:pt x="467" y="746"/>
                  </a:lnTo>
                  <a:lnTo>
                    <a:pt x="463" y="751"/>
                  </a:lnTo>
                  <a:lnTo>
                    <a:pt x="459" y="755"/>
                  </a:lnTo>
                  <a:lnTo>
                    <a:pt x="455" y="760"/>
                  </a:lnTo>
                  <a:lnTo>
                    <a:pt x="453" y="764"/>
                  </a:lnTo>
                  <a:lnTo>
                    <a:pt x="448" y="769"/>
                  </a:lnTo>
                  <a:lnTo>
                    <a:pt x="444" y="773"/>
                  </a:lnTo>
                  <a:lnTo>
                    <a:pt x="436" y="778"/>
                  </a:lnTo>
                  <a:lnTo>
                    <a:pt x="425" y="782"/>
                  </a:lnTo>
                  <a:lnTo>
                    <a:pt x="421" y="787"/>
                  </a:lnTo>
                  <a:lnTo>
                    <a:pt x="406" y="791"/>
                  </a:lnTo>
                  <a:lnTo>
                    <a:pt x="395" y="796"/>
                  </a:lnTo>
                  <a:lnTo>
                    <a:pt x="389" y="800"/>
                  </a:lnTo>
                  <a:lnTo>
                    <a:pt x="380" y="805"/>
                  </a:lnTo>
                  <a:lnTo>
                    <a:pt x="365" y="809"/>
                  </a:lnTo>
                  <a:lnTo>
                    <a:pt x="359" y="814"/>
                  </a:lnTo>
                  <a:lnTo>
                    <a:pt x="346" y="818"/>
                  </a:lnTo>
                  <a:lnTo>
                    <a:pt x="340" y="823"/>
                  </a:lnTo>
                  <a:lnTo>
                    <a:pt x="329" y="827"/>
                  </a:lnTo>
                  <a:lnTo>
                    <a:pt x="325" y="832"/>
                  </a:lnTo>
                  <a:lnTo>
                    <a:pt x="319" y="836"/>
                  </a:lnTo>
                  <a:lnTo>
                    <a:pt x="312" y="841"/>
                  </a:lnTo>
                  <a:lnTo>
                    <a:pt x="306" y="845"/>
                  </a:lnTo>
                  <a:lnTo>
                    <a:pt x="304" y="850"/>
                  </a:lnTo>
                  <a:lnTo>
                    <a:pt x="293" y="854"/>
                  </a:lnTo>
                  <a:lnTo>
                    <a:pt x="291" y="859"/>
                  </a:lnTo>
                  <a:lnTo>
                    <a:pt x="287" y="863"/>
                  </a:lnTo>
                  <a:lnTo>
                    <a:pt x="289" y="868"/>
                  </a:lnTo>
                  <a:lnTo>
                    <a:pt x="291" y="872"/>
                  </a:lnTo>
                  <a:lnTo>
                    <a:pt x="295" y="877"/>
                  </a:lnTo>
                  <a:lnTo>
                    <a:pt x="308" y="881"/>
                  </a:lnTo>
                  <a:lnTo>
                    <a:pt x="321" y="886"/>
                  </a:lnTo>
                  <a:lnTo>
                    <a:pt x="334" y="890"/>
                  </a:lnTo>
                  <a:lnTo>
                    <a:pt x="351" y="895"/>
                  </a:lnTo>
                  <a:lnTo>
                    <a:pt x="361" y="899"/>
                  </a:lnTo>
                  <a:lnTo>
                    <a:pt x="376" y="904"/>
                  </a:lnTo>
                  <a:lnTo>
                    <a:pt x="389" y="908"/>
                  </a:lnTo>
                  <a:lnTo>
                    <a:pt x="410" y="913"/>
                  </a:lnTo>
                  <a:lnTo>
                    <a:pt x="436" y="917"/>
                  </a:lnTo>
                  <a:lnTo>
                    <a:pt x="453" y="922"/>
                  </a:lnTo>
                  <a:lnTo>
                    <a:pt x="467" y="926"/>
                  </a:lnTo>
                  <a:lnTo>
                    <a:pt x="480" y="931"/>
                  </a:lnTo>
                  <a:lnTo>
                    <a:pt x="516" y="935"/>
                  </a:lnTo>
                  <a:lnTo>
                    <a:pt x="523" y="940"/>
                  </a:lnTo>
                  <a:lnTo>
                    <a:pt x="529" y="944"/>
                  </a:lnTo>
                  <a:lnTo>
                    <a:pt x="533" y="949"/>
                  </a:lnTo>
                  <a:lnTo>
                    <a:pt x="529" y="953"/>
                  </a:lnTo>
                  <a:lnTo>
                    <a:pt x="523" y="958"/>
                  </a:lnTo>
                  <a:lnTo>
                    <a:pt x="501" y="962"/>
                  </a:lnTo>
                  <a:lnTo>
                    <a:pt x="493" y="967"/>
                  </a:lnTo>
                  <a:lnTo>
                    <a:pt x="461" y="971"/>
                  </a:lnTo>
                  <a:lnTo>
                    <a:pt x="433" y="976"/>
                  </a:lnTo>
                  <a:lnTo>
                    <a:pt x="419" y="980"/>
                  </a:lnTo>
                  <a:lnTo>
                    <a:pt x="410" y="985"/>
                  </a:lnTo>
                  <a:lnTo>
                    <a:pt x="380" y="989"/>
                  </a:lnTo>
                  <a:lnTo>
                    <a:pt x="363" y="994"/>
                  </a:lnTo>
                  <a:lnTo>
                    <a:pt x="319" y="998"/>
                  </a:lnTo>
                  <a:lnTo>
                    <a:pt x="302" y="1003"/>
                  </a:lnTo>
                  <a:lnTo>
                    <a:pt x="287" y="1007"/>
                  </a:lnTo>
                  <a:lnTo>
                    <a:pt x="291" y="1012"/>
                  </a:lnTo>
                  <a:lnTo>
                    <a:pt x="291" y="1016"/>
                  </a:lnTo>
                  <a:lnTo>
                    <a:pt x="298" y="1021"/>
                  </a:lnTo>
                  <a:lnTo>
                    <a:pt x="302" y="1025"/>
                  </a:lnTo>
                  <a:lnTo>
                    <a:pt x="304" y="1030"/>
                  </a:lnTo>
                  <a:lnTo>
                    <a:pt x="308" y="1034"/>
                  </a:lnTo>
                  <a:lnTo>
                    <a:pt x="310" y="1039"/>
                  </a:lnTo>
                  <a:lnTo>
                    <a:pt x="315" y="1043"/>
                  </a:lnTo>
                  <a:lnTo>
                    <a:pt x="317" y="1048"/>
                  </a:lnTo>
                  <a:lnTo>
                    <a:pt x="319" y="1052"/>
                  </a:lnTo>
                  <a:lnTo>
                    <a:pt x="319" y="1057"/>
                  </a:lnTo>
                  <a:lnTo>
                    <a:pt x="319" y="1061"/>
                  </a:lnTo>
                  <a:lnTo>
                    <a:pt x="310" y="1066"/>
                  </a:lnTo>
                  <a:lnTo>
                    <a:pt x="304" y="1070"/>
                  </a:lnTo>
                  <a:lnTo>
                    <a:pt x="302" y="1075"/>
                  </a:lnTo>
                  <a:lnTo>
                    <a:pt x="293" y="1079"/>
                  </a:lnTo>
                  <a:lnTo>
                    <a:pt x="287" y="1084"/>
                  </a:lnTo>
                  <a:lnTo>
                    <a:pt x="285" y="1088"/>
                  </a:lnTo>
                  <a:lnTo>
                    <a:pt x="283" y="1093"/>
                  </a:lnTo>
                  <a:lnTo>
                    <a:pt x="276" y="1097"/>
                  </a:lnTo>
                  <a:lnTo>
                    <a:pt x="270" y="1102"/>
                  </a:lnTo>
                  <a:lnTo>
                    <a:pt x="270" y="1106"/>
                  </a:lnTo>
                  <a:lnTo>
                    <a:pt x="272" y="1111"/>
                  </a:lnTo>
                  <a:lnTo>
                    <a:pt x="272" y="1115"/>
                  </a:lnTo>
                  <a:lnTo>
                    <a:pt x="274" y="1120"/>
                  </a:lnTo>
                  <a:lnTo>
                    <a:pt x="281" y="1124"/>
                  </a:lnTo>
                  <a:lnTo>
                    <a:pt x="283" y="1129"/>
                  </a:lnTo>
                  <a:lnTo>
                    <a:pt x="289" y="1133"/>
                  </a:lnTo>
                  <a:lnTo>
                    <a:pt x="291" y="1138"/>
                  </a:lnTo>
                  <a:lnTo>
                    <a:pt x="291" y="1142"/>
                  </a:lnTo>
                  <a:lnTo>
                    <a:pt x="289" y="1147"/>
                  </a:lnTo>
                  <a:lnTo>
                    <a:pt x="287" y="1151"/>
                  </a:lnTo>
                  <a:lnTo>
                    <a:pt x="285" y="1156"/>
                  </a:lnTo>
                  <a:lnTo>
                    <a:pt x="281" y="1160"/>
                  </a:lnTo>
                  <a:lnTo>
                    <a:pt x="278" y="1165"/>
                  </a:lnTo>
                  <a:lnTo>
                    <a:pt x="276" y="1169"/>
                  </a:lnTo>
                  <a:lnTo>
                    <a:pt x="274" y="1174"/>
                  </a:lnTo>
                  <a:lnTo>
                    <a:pt x="274" y="1178"/>
                  </a:lnTo>
                  <a:lnTo>
                    <a:pt x="274" y="1183"/>
                  </a:lnTo>
                  <a:lnTo>
                    <a:pt x="274" y="1187"/>
                  </a:lnTo>
                  <a:lnTo>
                    <a:pt x="276" y="1192"/>
                  </a:lnTo>
                  <a:lnTo>
                    <a:pt x="281" y="1196"/>
                  </a:lnTo>
                  <a:lnTo>
                    <a:pt x="281" y="1201"/>
                  </a:lnTo>
                  <a:lnTo>
                    <a:pt x="283" y="1205"/>
                  </a:lnTo>
                  <a:lnTo>
                    <a:pt x="285" y="1210"/>
                  </a:lnTo>
                  <a:lnTo>
                    <a:pt x="266" y="1214"/>
                  </a:lnTo>
                  <a:lnTo>
                    <a:pt x="251" y="1219"/>
                  </a:lnTo>
                  <a:lnTo>
                    <a:pt x="221" y="1223"/>
                  </a:lnTo>
                  <a:lnTo>
                    <a:pt x="200" y="1228"/>
                  </a:lnTo>
                  <a:lnTo>
                    <a:pt x="196" y="1232"/>
                  </a:lnTo>
                  <a:lnTo>
                    <a:pt x="181" y="1237"/>
                  </a:lnTo>
                  <a:lnTo>
                    <a:pt x="176" y="1241"/>
                  </a:lnTo>
                  <a:lnTo>
                    <a:pt x="170" y="1246"/>
                  </a:lnTo>
                  <a:lnTo>
                    <a:pt x="168" y="1250"/>
                  </a:lnTo>
                  <a:lnTo>
                    <a:pt x="166" y="1255"/>
                  </a:lnTo>
                  <a:lnTo>
                    <a:pt x="162" y="1259"/>
                  </a:lnTo>
                  <a:lnTo>
                    <a:pt x="162" y="1264"/>
                  </a:lnTo>
                  <a:lnTo>
                    <a:pt x="162" y="1268"/>
                  </a:lnTo>
                  <a:lnTo>
                    <a:pt x="162" y="1273"/>
                  </a:lnTo>
                  <a:lnTo>
                    <a:pt x="162" y="1277"/>
                  </a:lnTo>
                  <a:lnTo>
                    <a:pt x="162" y="1282"/>
                  </a:lnTo>
                  <a:lnTo>
                    <a:pt x="162" y="1286"/>
                  </a:lnTo>
                  <a:lnTo>
                    <a:pt x="162" y="1291"/>
                  </a:lnTo>
                  <a:lnTo>
                    <a:pt x="162" y="1295"/>
                  </a:lnTo>
                  <a:lnTo>
                    <a:pt x="159" y="1300"/>
                  </a:lnTo>
                  <a:lnTo>
                    <a:pt x="157" y="1304"/>
                  </a:lnTo>
                  <a:lnTo>
                    <a:pt x="155" y="1309"/>
                  </a:lnTo>
                  <a:lnTo>
                    <a:pt x="147" y="1313"/>
                  </a:lnTo>
                  <a:lnTo>
                    <a:pt x="147" y="1318"/>
                  </a:lnTo>
                  <a:lnTo>
                    <a:pt x="145" y="1322"/>
                  </a:lnTo>
                  <a:lnTo>
                    <a:pt x="145" y="1327"/>
                  </a:lnTo>
                  <a:lnTo>
                    <a:pt x="145" y="1331"/>
                  </a:lnTo>
                  <a:lnTo>
                    <a:pt x="147" y="1336"/>
                  </a:lnTo>
                  <a:lnTo>
                    <a:pt x="147" y="1340"/>
                  </a:lnTo>
                  <a:lnTo>
                    <a:pt x="147" y="1345"/>
                  </a:lnTo>
                  <a:lnTo>
                    <a:pt x="147" y="1349"/>
                  </a:lnTo>
                  <a:lnTo>
                    <a:pt x="145" y="1354"/>
                  </a:lnTo>
                  <a:lnTo>
                    <a:pt x="142" y="1358"/>
                  </a:lnTo>
                  <a:lnTo>
                    <a:pt x="130" y="1363"/>
                  </a:lnTo>
                  <a:lnTo>
                    <a:pt x="128" y="1367"/>
                  </a:lnTo>
                  <a:lnTo>
                    <a:pt x="119" y="1372"/>
                  </a:lnTo>
                  <a:lnTo>
                    <a:pt x="115" y="1376"/>
                  </a:lnTo>
                  <a:lnTo>
                    <a:pt x="108" y="1381"/>
                  </a:lnTo>
                  <a:lnTo>
                    <a:pt x="106" y="1385"/>
                  </a:lnTo>
                  <a:lnTo>
                    <a:pt x="104" y="1390"/>
                  </a:lnTo>
                  <a:lnTo>
                    <a:pt x="104" y="1394"/>
                  </a:lnTo>
                  <a:lnTo>
                    <a:pt x="102" y="1399"/>
                  </a:lnTo>
                  <a:lnTo>
                    <a:pt x="100" y="1403"/>
                  </a:lnTo>
                  <a:lnTo>
                    <a:pt x="98" y="1408"/>
                  </a:lnTo>
                  <a:lnTo>
                    <a:pt x="98" y="1412"/>
                  </a:lnTo>
                  <a:lnTo>
                    <a:pt x="98" y="1417"/>
                  </a:lnTo>
                  <a:lnTo>
                    <a:pt x="98" y="1421"/>
                  </a:lnTo>
                  <a:lnTo>
                    <a:pt x="100" y="1426"/>
                  </a:lnTo>
                  <a:lnTo>
                    <a:pt x="100" y="1430"/>
                  </a:lnTo>
                  <a:lnTo>
                    <a:pt x="100" y="1435"/>
                  </a:lnTo>
                  <a:lnTo>
                    <a:pt x="100" y="1439"/>
                  </a:lnTo>
                  <a:lnTo>
                    <a:pt x="100" y="1444"/>
                  </a:lnTo>
                  <a:lnTo>
                    <a:pt x="100" y="1448"/>
                  </a:lnTo>
                  <a:lnTo>
                    <a:pt x="100" y="1453"/>
                  </a:lnTo>
                  <a:lnTo>
                    <a:pt x="100" y="1457"/>
                  </a:lnTo>
                  <a:lnTo>
                    <a:pt x="100" y="1462"/>
                  </a:lnTo>
                  <a:lnTo>
                    <a:pt x="100" y="1466"/>
                  </a:lnTo>
                  <a:lnTo>
                    <a:pt x="98" y="1471"/>
                  </a:lnTo>
                  <a:lnTo>
                    <a:pt x="96" y="1475"/>
                  </a:lnTo>
                  <a:lnTo>
                    <a:pt x="91" y="1480"/>
                  </a:lnTo>
                  <a:lnTo>
                    <a:pt x="89" y="1484"/>
                  </a:lnTo>
                  <a:lnTo>
                    <a:pt x="85" y="1489"/>
                  </a:lnTo>
                  <a:lnTo>
                    <a:pt x="83" y="1493"/>
                  </a:lnTo>
                  <a:lnTo>
                    <a:pt x="83" y="1498"/>
                  </a:lnTo>
                  <a:lnTo>
                    <a:pt x="83" y="1502"/>
                  </a:lnTo>
                  <a:lnTo>
                    <a:pt x="83" y="1507"/>
                  </a:lnTo>
                  <a:lnTo>
                    <a:pt x="85" y="1511"/>
                  </a:lnTo>
                  <a:lnTo>
                    <a:pt x="87" y="1516"/>
                  </a:lnTo>
                  <a:lnTo>
                    <a:pt x="89" y="1520"/>
                  </a:lnTo>
                  <a:lnTo>
                    <a:pt x="91" y="1525"/>
                  </a:lnTo>
                  <a:lnTo>
                    <a:pt x="94" y="1529"/>
                  </a:lnTo>
                  <a:lnTo>
                    <a:pt x="94" y="1534"/>
                  </a:lnTo>
                  <a:lnTo>
                    <a:pt x="94" y="1538"/>
                  </a:lnTo>
                  <a:lnTo>
                    <a:pt x="91" y="1543"/>
                  </a:lnTo>
                  <a:lnTo>
                    <a:pt x="87" y="1547"/>
                  </a:lnTo>
                  <a:lnTo>
                    <a:pt x="83" y="1552"/>
                  </a:lnTo>
                  <a:lnTo>
                    <a:pt x="81" y="1556"/>
                  </a:lnTo>
                  <a:lnTo>
                    <a:pt x="77" y="1560"/>
                  </a:lnTo>
                  <a:lnTo>
                    <a:pt x="62" y="1565"/>
                  </a:lnTo>
                  <a:lnTo>
                    <a:pt x="47" y="1569"/>
                  </a:lnTo>
                  <a:lnTo>
                    <a:pt x="38" y="1574"/>
                  </a:lnTo>
                  <a:lnTo>
                    <a:pt x="36" y="1578"/>
                  </a:lnTo>
                  <a:lnTo>
                    <a:pt x="26" y="1583"/>
                  </a:lnTo>
                  <a:lnTo>
                    <a:pt x="23" y="1587"/>
                  </a:lnTo>
                  <a:lnTo>
                    <a:pt x="21" y="1592"/>
                  </a:lnTo>
                  <a:lnTo>
                    <a:pt x="19" y="1596"/>
                  </a:lnTo>
                  <a:lnTo>
                    <a:pt x="15" y="1601"/>
                  </a:lnTo>
                  <a:lnTo>
                    <a:pt x="11" y="1605"/>
                  </a:lnTo>
                  <a:lnTo>
                    <a:pt x="6" y="1610"/>
                  </a:lnTo>
                  <a:lnTo>
                    <a:pt x="6" y="1614"/>
                  </a:lnTo>
                  <a:lnTo>
                    <a:pt x="4" y="1619"/>
                  </a:lnTo>
                  <a:lnTo>
                    <a:pt x="4" y="1623"/>
                  </a:lnTo>
                  <a:lnTo>
                    <a:pt x="2" y="1628"/>
                  </a:lnTo>
                  <a:lnTo>
                    <a:pt x="2" y="1632"/>
                  </a:lnTo>
                  <a:lnTo>
                    <a:pt x="2" y="1637"/>
                  </a:lnTo>
                  <a:lnTo>
                    <a:pt x="0" y="1641"/>
                  </a:lnTo>
                  <a:lnTo>
                    <a:pt x="0" y="1646"/>
                  </a:lnTo>
                  <a:lnTo>
                    <a:pt x="0" y="1650"/>
                  </a:lnTo>
                  <a:lnTo>
                    <a:pt x="0" y="1655"/>
                  </a:lnTo>
                  <a:lnTo>
                    <a:pt x="0" y="1659"/>
                  </a:lnTo>
                  <a:lnTo>
                    <a:pt x="2" y="1664"/>
                  </a:lnTo>
                  <a:lnTo>
                    <a:pt x="2" y="1668"/>
                  </a:lnTo>
                  <a:lnTo>
                    <a:pt x="9" y="1673"/>
                  </a:lnTo>
                  <a:lnTo>
                    <a:pt x="9" y="1677"/>
                  </a:lnTo>
                  <a:lnTo>
                    <a:pt x="11" y="1682"/>
                  </a:lnTo>
                  <a:lnTo>
                    <a:pt x="13" y="1686"/>
                  </a:lnTo>
                  <a:lnTo>
                    <a:pt x="15" y="1691"/>
                  </a:lnTo>
                  <a:lnTo>
                    <a:pt x="19" y="1695"/>
                  </a:lnTo>
                  <a:lnTo>
                    <a:pt x="21" y="1700"/>
                  </a:lnTo>
                  <a:lnTo>
                    <a:pt x="21" y="1704"/>
                  </a:lnTo>
                  <a:lnTo>
                    <a:pt x="23" y="1709"/>
                  </a:lnTo>
                  <a:lnTo>
                    <a:pt x="26" y="1713"/>
                  </a:lnTo>
                  <a:lnTo>
                    <a:pt x="28" y="1718"/>
                  </a:lnTo>
                  <a:lnTo>
                    <a:pt x="30" y="1722"/>
                  </a:lnTo>
                  <a:lnTo>
                    <a:pt x="34" y="1727"/>
                  </a:lnTo>
                  <a:lnTo>
                    <a:pt x="38" y="1731"/>
                  </a:lnTo>
                  <a:lnTo>
                    <a:pt x="43" y="1736"/>
                  </a:lnTo>
                  <a:lnTo>
                    <a:pt x="49" y="1740"/>
                  </a:lnTo>
                  <a:lnTo>
                    <a:pt x="53" y="1745"/>
                  </a:lnTo>
                  <a:lnTo>
                    <a:pt x="57" y="1749"/>
                  </a:lnTo>
                  <a:lnTo>
                    <a:pt x="64" y="1754"/>
                  </a:lnTo>
                  <a:lnTo>
                    <a:pt x="66" y="1758"/>
                  </a:lnTo>
                  <a:lnTo>
                    <a:pt x="68" y="1763"/>
                  </a:lnTo>
                  <a:lnTo>
                    <a:pt x="72" y="1767"/>
                  </a:lnTo>
                  <a:lnTo>
                    <a:pt x="79" y="1772"/>
                  </a:lnTo>
                  <a:lnTo>
                    <a:pt x="81" y="1776"/>
                  </a:lnTo>
                  <a:lnTo>
                    <a:pt x="83" y="1781"/>
                  </a:lnTo>
                  <a:lnTo>
                    <a:pt x="89" y="1785"/>
                  </a:lnTo>
                  <a:lnTo>
                    <a:pt x="91" y="1790"/>
                  </a:lnTo>
                  <a:lnTo>
                    <a:pt x="91" y="1794"/>
                  </a:lnTo>
                  <a:lnTo>
                    <a:pt x="91" y="1799"/>
                  </a:lnTo>
                  <a:lnTo>
                    <a:pt x="91" y="1803"/>
                  </a:lnTo>
                  <a:lnTo>
                    <a:pt x="94" y="1808"/>
                  </a:lnTo>
                  <a:lnTo>
                    <a:pt x="94" y="1812"/>
                  </a:lnTo>
                  <a:lnTo>
                    <a:pt x="94" y="1817"/>
                  </a:lnTo>
                  <a:lnTo>
                    <a:pt x="91" y="1821"/>
                  </a:lnTo>
                  <a:lnTo>
                    <a:pt x="89" y="1826"/>
                  </a:lnTo>
                  <a:lnTo>
                    <a:pt x="89" y="1830"/>
                  </a:lnTo>
                  <a:lnTo>
                    <a:pt x="89" y="1835"/>
                  </a:lnTo>
                  <a:lnTo>
                    <a:pt x="91" y="1839"/>
                  </a:lnTo>
                  <a:lnTo>
                    <a:pt x="91" y="1844"/>
                  </a:lnTo>
                  <a:lnTo>
                    <a:pt x="94" y="1848"/>
                  </a:lnTo>
                  <a:lnTo>
                    <a:pt x="96" y="1853"/>
                  </a:lnTo>
                  <a:lnTo>
                    <a:pt x="96" y="1857"/>
                  </a:lnTo>
                  <a:lnTo>
                    <a:pt x="94" y="1862"/>
                  </a:lnTo>
                  <a:lnTo>
                    <a:pt x="94" y="1866"/>
                  </a:lnTo>
                  <a:lnTo>
                    <a:pt x="94" y="1871"/>
                  </a:lnTo>
                  <a:lnTo>
                    <a:pt x="98" y="1875"/>
                  </a:lnTo>
                  <a:lnTo>
                    <a:pt x="104" y="1880"/>
                  </a:lnTo>
                  <a:lnTo>
                    <a:pt x="108" y="1884"/>
                  </a:lnTo>
                  <a:lnTo>
                    <a:pt x="111" y="1889"/>
                  </a:lnTo>
                  <a:lnTo>
                    <a:pt x="111" y="1893"/>
                  </a:lnTo>
                  <a:lnTo>
                    <a:pt x="113" y="1898"/>
                  </a:lnTo>
                  <a:lnTo>
                    <a:pt x="111" y="1902"/>
                  </a:lnTo>
                  <a:lnTo>
                    <a:pt x="106" y="1907"/>
                  </a:lnTo>
                  <a:lnTo>
                    <a:pt x="106" y="1911"/>
                  </a:lnTo>
                  <a:lnTo>
                    <a:pt x="104" y="1916"/>
                  </a:lnTo>
                  <a:lnTo>
                    <a:pt x="102" y="1920"/>
                  </a:lnTo>
                  <a:lnTo>
                    <a:pt x="102" y="1925"/>
                  </a:lnTo>
                  <a:lnTo>
                    <a:pt x="100" y="1929"/>
                  </a:lnTo>
                  <a:lnTo>
                    <a:pt x="100" y="1934"/>
                  </a:lnTo>
                  <a:lnTo>
                    <a:pt x="100" y="1938"/>
                  </a:lnTo>
                  <a:lnTo>
                    <a:pt x="102" y="1943"/>
                  </a:lnTo>
                  <a:lnTo>
                    <a:pt x="102" y="1947"/>
                  </a:lnTo>
                  <a:lnTo>
                    <a:pt x="102" y="1952"/>
                  </a:lnTo>
                  <a:lnTo>
                    <a:pt x="102" y="1956"/>
                  </a:lnTo>
                  <a:lnTo>
                    <a:pt x="102" y="1961"/>
                  </a:lnTo>
                  <a:lnTo>
                    <a:pt x="98" y="1965"/>
                  </a:lnTo>
                  <a:lnTo>
                    <a:pt x="96" y="1970"/>
                  </a:lnTo>
                  <a:lnTo>
                    <a:pt x="94" y="1974"/>
                  </a:lnTo>
                  <a:lnTo>
                    <a:pt x="94" y="1979"/>
                  </a:lnTo>
                  <a:lnTo>
                    <a:pt x="94" y="1983"/>
                  </a:lnTo>
                  <a:lnTo>
                    <a:pt x="94" y="1988"/>
                  </a:lnTo>
                  <a:lnTo>
                    <a:pt x="96" y="1992"/>
                  </a:lnTo>
                  <a:lnTo>
                    <a:pt x="96" y="1997"/>
                  </a:lnTo>
                  <a:lnTo>
                    <a:pt x="96" y="2001"/>
                  </a:lnTo>
                  <a:lnTo>
                    <a:pt x="96" y="2006"/>
                  </a:lnTo>
                  <a:lnTo>
                    <a:pt x="94" y="2010"/>
                  </a:lnTo>
                  <a:lnTo>
                    <a:pt x="94" y="2015"/>
                  </a:lnTo>
                  <a:lnTo>
                    <a:pt x="94" y="2019"/>
                  </a:lnTo>
                  <a:lnTo>
                    <a:pt x="91" y="2024"/>
                  </a:lnTo>
                  <a:lnTo>
                    <a:pt x="91" y="2028"/>
                  </a:lnTo>
                  <a:lnTo>
                    <a:pt x="91" y="2033"/>
                  </a:lnTo>
                  <a:lnTo>
                    <a:pt x="91" y="2037"/>
                  </a:lnTo>
                  <a:lnTo>
                    <a:pt x="89" y="2042"/>
                  </a:lnTo>
                  <a:lnTo>
                    <a:pt x="89" y="2046"/>
                  </a:lnTo>
                  <a:lnTo>
                    <a:pt x="87" y="2051"/>
                  </a:lnTo>
                  <a:lnTo>
                    <a:pt x="89" y="2055"/>
                  </a:lnTo>
                  <a:lnTo>
                    <a:pt x="91" y="2060"/>
                  </a:lnTo>
                  <a:lnTo>
                    <a:pt x="96" y="2064"/>
                  </a:lnTo>
                  <a:lnTo>
                    <a:pt x="104" y="2069"/>
                  </a:lnTo>
                  <a:lnTo>
                    <a:pt x="115" y="2073"/>
                  </a:lnTo>
                  <a:lnTo>
                    <a:pt x="123" y="2078"/>
                  </a:lnTo>
                  <a:lnTo>
                    <a:pt x="136" y="2082"/>
                  </a:lnTo>
                  <a:lnTo>
                    <a:pt x="147" y="2087"/>
                  </a:lnTo>
                  <a:lnTo>
                    <a:pt x="151" y="2091"/>
                  </a:lnTo>
                  <a:lnTo>
                    <a:pt x="159" y="2096"/>
                  </a:lnTo>
                  <a:lnTo>
                    <a:pt x="166" y="2100"/>
                  </a:lnTo>
                  <a:lnTo>
                    <a:pt x="168" y="2105"/>
                  </a:lnTo>
                  <a:lnTo>
                    <a:pt x="172" y="2109"/>
                  </a:lnTo>
                  <a:lnTo>
                    <a:pt x="172" y="2114"/>
                  </a:lnTo>
                  <a:lnTo>
                    <a:pt x="172" y="2118"/>
                  </a:lnTo>
                  <a:lnTo>
                    <a:pt x="172" y="2123"/>
                  </a:lnTo>
                  <a:lnTo>
                    <a:pt x="172" y="2127"/>
                  </a:lnTo>
                  <a:lnTo>
                    <a:pt x="172" y="2132"/>
                  </a:lnTo>
                  <a:lnTo>
                    <a:pt x="174" y="2136"/>
                  </a:lnTo>
                  <a:lnTo>
                    <a:pt x="176" y="2141"/>
                  </a:lnTo>
                  <a:lnTo>
                    <a:pt x="179" y="2145"/>
                  </a:lnTo>
                  <a:lnTo>
                    <a:pt x="181" y="2150"/>
                  </a:lnTo>
                  <a:lnTo>
                    <a:pt x="183" y="2154"/>
                  </a:lnTo>
                  <a:lnTo>
                    <a:pt x="187" y="2159"/>
                  </a:lnTo>
                  <a:lnTo>
                    <a:pt x="189" y="2163"/>
                  </a:lnTo>
                  <a:lnTo>
                    <a:pt x="189" y="2168"/>
                  </a:lnTo>
                  <a:lnTo>
                    <a:pt x="189" y="2172"/>
                  </a:lnTo>
                  <a:lnTo>
                    <a:pt x="187" y="2177"/>
                  </a:lnTo>
                  <a:lnTo>
                    <a:pt x="185" y="2181"/>
                  </a:lnTo>
                  <a:lnTo>
                    <a:pt x="183" y="2186"/>
                  </a:lnTo>
                  <a:lnTo>
                    <a:pt x="181" y="2190"/>
                  </a:lnTo>
                  <a:lnTo>
                    <a:pt x="181" y="2195"/>
                  </a:lnTo>
                  <a:lnTo>
                    <a:pt x="179" y="2199"/>
                  </a:lnTo>
                  <a:lnTo>
                    <a:pt x="174" y="2204"/>
                  </a:lnTo>
                  <a:lnTo>
                    <a:pt x="174" y="2208"/>
                  </a:lnTo>
                  <a:lnTo>
                    <a:pt x="174" y="2213"/>
                  </a:lnTo>
                  <a:lnTo>
                    <a:pt x="176" y="2217"/>
                  </a:lnTo>
                  <a:lnTo>
                    <a:pt x="181" y="2222"/>
                  </a:lnTo>
                  <a:lnTo>
                    <a:pt x="187" y="2226"/>
                  </a:lnTo>
                  <a:lnTo>
                    <a:pt x="189" y="2231"/>
                  </a:lnTo>
                  <a:lnTo>
                    <a:pt x="193" y="2235"/>
                  </a:lnTo>
                  <a:lnTo>
                    <a:pt x="202" y="2240"/>
                  </a:lnTo>
                  <a:lnTo>
                    <a:pt x="206" y="2244"/>
                  </a:lnTo>
                  <a:lnTo>
                    <a:pt x="208" y="2249"/>
                  </a:lnTo>
                  <a:lnTo>
                    <a:pt x="210" y="2253"/>
                  </a:lnTo>
                  <a:lnTo>
                    <a:pt x="221" y="2258"/>
                  </a:lnTo>
                  <a:lnTo>
                    <a:pt x="223" y="2262"/>
                  </a:lnTo>
                  <a:lnTo>
                    <a:pt x="225" y="2267"/>
                  </a:lnTo>
                  <a:lnTo>
                    <a:pt x="225" y="2271"/>
                  </a:lnTo>
                  <a:lnTo>
                    <a:pt x="227" y="2276"/>
                  </a:lnTo>
                  <a:lnTo>
                    <a:pt x="230" y="2280"/>
                  </a:lnTo>
                  <a:lnTo>
                    <a:pt x="232" y="2285"/>
                  </a:lnTo>
                  <a:lnTo>
                    <a:pt x="232" y="2289"/>
                  </a:lnTo>
                  <a:lnTo>
                    <a:pt x="236" y="2294"/>
                  </a:lnTo>
                  <a:lnTo>
                    <a:pt x="240" y="2298"/>
                  </a:lnTo>
                  <a:lnTo>
                    <a:pt x="244" y="2303"/>
                  </a:lnTo>
                  <a:lnTo>
                    <a:pt x="249" y="2307"/>
                  </a:lnTo>
                  <a:lnTo>
                    <a:pt x="249" y="2312"/>
                  </a:lnTo>
                  <a:lnTo>
                    <a:pt x="249" y="2316"/>
                  </a:lnTo>
                  <a:lnTo>
                    <a:pt x="249" y="2321"/>
                  </a:lnTo>
                  <a:lnTo>
                    <a:pt x="249" y="2325"/>
                  </a:lnTo>
                  <a:lnTo>
                    <a:pt x="244" y="2330"/>
                  </a:lnTo>
                  <a:lnTo>
                    <a:pt x="240" y="2334"/>
                  </a:lnTo>
                  <a:lnTo>
                    <a:pt x="230" y="2339"/>
                  </a:lnTo>
                  <a:lnTo>
                    <a:pt x="230" y="2343"/>
                  </a:lnTo>
                  <a:lnTo>
                    <a:pt x="221" y="2348"/>
                  </a:lnTo>
                  <a:lnTo>
                    <a:pt x="213" y="2352"/>
                  </a:lnTo>
                  <a:lnTo>
                    <a:pt x="202" y="2357"/>
                  </a:lnTo>
                  <a:lnTo>
                    <a:pt x="200" y="2361"/>
                  </a:lnTo>
                  <a:lnTo>
                    <a:pt x="187" y="2366"/>
                  </a:lnTo>
                  <a:lnTo>
                    <a:pt x="183" y="2370"/>
                  </a:lnTo>
                  <a:lnTo>
                    <a:pt x="179" y="2375"/>
                  </a:lnTo>
                  <a:lnTo>
                    <a:pt x="172" y="2379"/>
                  </a:lnTo>
                  <a:lnTo>
                    <a:pt x="168" y="2384"/>
                  </a:lnTo>
                  <a:lnTo>
                    <a:pt x="166" y="2388"/>
                  </a:lnTo>
                  <a:lnTo>
                    <a:pt x="164" y="2393"/>
                  </a:lnTo>
                  <a:lnTo>
                    <a:pt x="162" y="2397"/>
                  </a:lnTo>
                  <a:lnTo>
                    <a:pt x="159" y="2402"/>
                  </a:lnTo>
                  <a:lnTo>
                    <a:pt x="157" y="2406"/>
                  </a:lnTo>
                  <a:lnTo>
                    <a:pt x="155" y="2411"/>
                  </a:lnTo>
                  <a:lnTo>
                    <a:pt x="153" y="2415"/>
                  </a:lnTo>
                  <a:lnTo>
                    <a:pt x="151" y="2420"/>
                  </a:lnTo>
                  <a:lnTo>
                    <a:pt x="149" y="2424"/>
                  </a:lnTo>
                  <a:lnTo>
                    <a:pt x="149" y="2429"/>
                  </a:lnTo>
                  <a:lnTo>
                    <a:pt x="147" y="2433"/>
                  </a:lnTo>
                  <a:lnTo>
                    <a:pt x="147" y="2438"/>
                  </a:lnTo>
                  <a:lnTo>
                    <a:pt x="147" y="2442"/>
                  </a:lnTo>
                  <a:lnTo>
                    <a:pt x="149" y="2447"/>
                  </a:lnTo>
                  <a:lnTo>
                    <a:pt x="153" y="2451"/>
                  </a:lnTo>
                  <a:lnTo>
                    <a:pt x="157" y="2456"/>
                  </a:lnTo>
                  <a:lnTo>
                    <a:pt x="162" y="2460"/>
                  </a:lnTo>
                  <a:lnTo>
                    <a:pt x="166" y="2465"/>
                  </a:lnTo>
                  <a:lnTo>
                    <a:pt x="166" y="2469"/>
                  </a:lnTo>
                  <a:lnTo>
                    <a:pt x="170" y="2474"/>
                  </a:lnTo>
                  <a:lnTo>
                    <a:pt x="170" y="2478"/>
                  </a:lnTo>
                  <a:lnTo>
                    <a:pt x="172" y="2483"/>
                  </a:lnTo>
                  <a:lnTo>
                    <a:pt x="170" y="2487"/>
                  </a:lnTo>
                  <a:lnTo>
                    <a:pt x="164" y="2492"/>
                  </a:lnTo>
                  <a:lnTo>
                    <a:pt x="157" y="2496"/>
                  </a:lnTo>
                  <a:lnTo>
                    <a:pt x="151" y="2501"/>
                  </a:lnTo>
                  <a:lnTo>
                    <a:pt x="147" y="2505"/>
                  </a:lnTo>
                  <a:lnTo>
                    <a:pt x="145" y="2510"/>
                  </a:lnTo>
                  <a:lnTo>
                    <a:pt x="140" y="2514"/>
                  </a:lnTo>
                  <a:lnTo>
                    <a:pt x="138" y="2519"/>
                  </a:lnTo>
                  <a:lnTo>
                    <a:pt x="136" y="2523"/>
                  </a:lnTo>
                  <a:lnTo>
                    <a:pt x="132" y="2528"/>
                  </a:lnTo>
                  <a:lnTo>
                    <a:pt x="130" y="2532"/>
                  </a:lnTo>
                  <a:lnTo>
                    <a:pt x="128" y="2537"/>
                  </a:lnTo>
                  <a:lnTo>
                    <a:pt x="125" y="2541"/>
                  </a:lnTo>
                  <a:lnTo>
                    <a:pt x="125" y="2546"/>
                  </a:lnTo>
                  <a:lnTo>
                    <a:pt x="123" y="2550"/>
                  </a:lnTo>
                  <a:lnTo>
                    <a:pt x="121" y="2555"/>
                  </a:lnTo>
                  <a:lnTo>
                    <a:pt x="121" y="2559"/>
                  </a:lnTo>
                  <a:lnTo>
                    <a:pt x="119" y="2564"/>
                  </a:lnTo>
                  <a:lnTo>
                    <a:pt x="117" y="2568"/>
                  </a:lnTo>
                  <a:lnTo>
                    <a:pt x="115" y="2573"/>
                  </a:lnTo>
                  <a:lnTo>
                    <a:pt x="115" y="2577"/>
                  </a:lnTo>
                  <a:lnTo>
                    <a:pt x="115" y="2582"/>
                  </a:ln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Freeform 288"/>
            <p:cNvSpPr/>
            <p:nvPr/>
          </p:nvSpPr>
          <p:spPr>
            <a:xfrm>
              <a:off x="2330280" y="2157480"/>
              <a:ext cx="1095480" cy="4379760"/>
            </a:xfrm>
            <a:custGeom>
              <a:avLst/>
              <a:gdLst>
                <a:gd name="textAreaLeft" fmla="*/ 0 w 1095480"/>
                <a:gd name="textAreaRight" fmla="*/ 1095840 w 1095480"/>
                <a:gd name="textAreaTop" fmla="*/ 0 h 4379760"/>
                <a:gd name="textAreaBottom" fmla="*/ 4380120 h 4379760"/>
              </a:gdLst>
              <a:ahLst/>
              <a:rect l="textAreaLeft" t="textAreaTop" r="textAreaRight" b="textAreaBottom"/>
              <a:pathLst>
                <a:path w="648" h="2582">
                  <a:moveTo>
                    <a:pt x="39" y="0"/>
                  </a:moveTo>
                  <a:lnTo>
                    <a:pt x="15" y="4"/>
                  </a:lnTo>
                  <a:lnTo>
                    <a:pt x="41" y="9"/>
                  </a:lnTo>
                  <a:lnTo>
                    <a:pt x="49" y="13"/>
                  </a:lnTo>
                  <a:lnTo>
                    <a:pt x="60" y="18"/>
                  </a:lnTo>
                  <a:lnTo>
                    <a:pt x="45" y="22"/>
                  </a:lnTo>
                  <a:lnTo>
                    <a:pt x="49" y="27"/>
                  </a:lnTo>
                  <a:lnTo>
                    <a:pt x="51" y="31"/>
                  </a:lnTo>
                  <a:lnTo>
                    <a:pt x="51" y="36"/>
                  </a:lnTo>
                  <a:lnTo>
                    <a:pt x="51" y="40"/>
                  </a:lnTo>
                  <a:lnTo>
                    <a:pt x="51" y="45"/>
                  </a:lnTo>
                  <a:lnTo>
                    <a:pt x="56" y="49"/>
                  </a:lnTo>
                  <a:lnTo>
                    <a:pt x="58" y="54"/>
                  </a:lnTo>
                  <a:lnTo>
                    <a:pt x="56" y="58"/>
                  </a:lnTo>
                  <a:lnTo>
                    <a:pt x="54" y="63"/>
                  </a:lnTo>
                  <a:lnTo>
                    <a:pt x="54" y="67"/>
                  </a:lnTo>
                  <a:lnTo>
                    <a:pt x="54" y="72"/>
                  </a:lnTo>
                  <a:lnTo>
                    <a:pt x="51" y="76"/>
                  </a:lnTo>
                  <a:lnTo>
                    <a:pt x="49" y="81"/>
                  </a:lnTo>
                  <a:lnTo>
                    <a:pt x="49" y="85"/>
                  </a:lnTo>
                  <a:lnTo>
                    <a:pt x="49" y="90"/>
                  </a:lnTo>
                  <a:lnTo>
                    <a:pt x="49" y="94"/>
                  </a:lnTo>
                  <a:lnTo>
                    <a:pt x="47" y="99"/>
                  </a:lnTo>
                  <a:lnTo>
                    <a:pt x="43" y="103"/>
                  </a:lnTo>
                  <a:lnTo>
                    <a:pt x="43" y="108"/>
                  </a:lnTo>
                  <a:lnTo>
                    <a:pt x="43" y="112"/>
                  </a:lnTo>
                  <a:lnTo>
                    <a:pt x="43" y="117"/>
                  </a:lnTo>
                  <a:lnTo>
                    <a:pt x="45" y="121"/>
                  </a:lnTo>
                  <a:lnTo>
                    <a:pt x="47" y="126"/>
                  </a:lnTo>
                  <a:lnTo>
                    <a:pt x="54" y="130"/>
                  </a:lnTo>
                  <a:lnTo>
                    <a:pt x="60" y="135"/>
                  </a:lnTo>
                  <a:lnTo>
                    <a:pt x="66" y="139"/>
                  </a:lnTo>
                  <a:lnTo>
                    <a:pt x="71" y="144"/>
                  </a:lnTo>
                  <a:lnTo>
                    <a:pt x="73" y="148"/>
                  </a:lnTo>
                  <a:lnTo>
                    <a:pt x="75" y="153"/>
                  </a:lnTo>
                  <a:lnTo>
                    <a:pt x="85" y="157"/>
                  </a:lnTo>
                  <a:lnTo>
                    <a:pt x="102" y="162"/>
                  </a:lnTo>
                  <a:lnTo>
                    <a:pt x="149" y="166"/>
                  </a:lnTo>
                  <a:lnTo>
                    <a:pt x="211" y="171"/>
                  </a:lnTo>
                  <a:lnTo>
                    <a:pt x="253" y="175"/>
                  </a:lnTo>
                  <a:lnTo>
                    <a:pt x="277" y="180"/>
                  </a:lnTo>
                  <a:lnTo>
                    <a:pt x="298" y="184"/>
                  </a:lnTo>
                  <a:lnTo>
                    <a:pt x="313" y="189"/>
                  </a:lnTo>
                  <a:lnTo>
                    <a:pt x="321" y="193"/>
                  </a:lnTo>
                  <a:lnTo>
                    <a:pt x="328" y="198"/>
                  </a:lnTo>
                  <a:lnTo>
                    <a:pt x="332" y="202"/>
                  </a:lnTo>
                  <a:lnTo>
                    <a:pt x="330" y="207"/>
                  </a:lnTo>
                  <a:lnTo>
                    <a:pt x="319" y="211"/>
                  </a:lnTo>
                  <a:lnTo>
                    <a:pt x="311" y="216"/>
                  </a:lnTo>
                  <a:lnTo>
                    <a:pt x="308" y="220"/>
                  </a:lnTo>
                  <a:lnTo>
                    <a:pt x="306" y="225"/>
                  </a:lnTo>
                  <a:lnTo>
                    <a:pt x="304" y="229"/>
                  </a:lnTo>
                  <a:lnTo>
                    <a:pt x="304" y="234"/>
                  </a:lnTo>
                  <a:lnTo>
                    <a:pt x="302" y="238"/>
                  </a:lnTo>
                  <a:lnTo>
                    <a:pt x="300" y="243"/>
                  </a:lnTo>
                  <a:lnTo>
                    <a:pt x="298" y="247"/>
                  </a:lnTo>
                  <a:lnTo>
                    <a:pt x="294" y="252"/>
                  </a:lnTo>
                  <a:lnTo>
                    <a:pt x="287" y="256"/>
                  </a:lnTo>
                  <a:lnTo>
                    <a:pt x="279" y="261"/>
                  </a:lnTo>
                  <a:lnTo>
                    <a:pt x="277" y="265"/>
                  </a:lnTo>
                  <a:lnTo>
                    <a:pt x="279" y="270"/>
                  </a:lnTo>
                  <a:lnTo>
                    <a:pt x="281" y="274"/>
                  </a:lnTo>
                  <a:lnTo>
                    <a:pt x="281" y="279"/>
                  </a:lnTo>
                  <a:lnTo>
                    <a:pt x="283" y="283"/>
                  </a:lnTo>
                  <a:lnTo>
                    <a:pt x="285" y="288"/>
                  </a:lnTo>
                  <a:lnTo>
                    <a:pt x="285" y="292"/>
                  </a:lnTo>
                  <a:lnTo>
                    <a:pt x="287" y="297"/>
                  </a:lnTo>
                  <a:lnTo>
                    <a:pt x="287" y="301"/>
                  </a:lnTo>
                  <a:lnTo>
                    <a:pt x="289" y="306"/>
                  </a:lnTo>
                  <a:lnTo>
                    <a:pt x="292" y="310"/>
                  </a:lnTo>
                  <a:lnTo>
                    <a:pt x="294" y="315"/>
                  </a:lnTo>
                  <a:lnTo>
                    <a:pt x="298" y="319"/>
                  </a:lnTo>
                  <a:lnTo>
                    <a:pt x="300" y="324"/>
                  </a:lnTo>
                  <a:lnTo>
                    <a:pt x="300" y="328"/>
                  </a:lnTo>
                  <a:lnTo>
                    <a:pt x="302" y="333"/>
                  </a:lnTo>
                  <a:lnTo>
                    <a:pt x="304" y="337"/>
                  </a:lnTo>
                  <a:lnTo>
                    <a:pt x="304" y="342"/>
                  </a:lnTo>
                  <a:lnTo>
                    <a:pt x="302" y="346"/>
                  </a:lnTo>
                  <a:lnTo>
                    <a:pt x="302" y="351"/>
                  </a:lnTo>
                  <a:lnTo>
                    <a:pt x="300" y="355"/>
                  </a:lnTo>
                  <a:lnTo>
                    <a:pt x="296" y="360"/>
                  </a:lnTo>
                  <a:lnTo>
                    <a:pt x="296" y="364"/>
                  </a:lnTo>
                  <a:lnTo>
                    <a:pt x="302" y="369"/>
                  </a:lnTo>
                  <a:lnTo>
                    <a:pt x="311" y="373"/>
                  </a:lnTo>
                  <a:lnTo>
                    <a:pt x="317" y="378"/>
                  </a:lnTo>
                  <a:lnTo>
                    <a:pt x="323" y="382"/>
                  </a:lnTo>
                  <a:lnTo>
                    <a:pt x="328" y="387"/>
                  </a:lnTo>
                  <a:lnTo>
                    <a:pt x="332" y="391"/>
                  </a:lnTo>
                  <a:lnTo>
                    <a:pt x="338" y="396"/>
                  </a:lnTo>
                  <a:lnTo>
                    <a:pt x="342" y="400"/>
                  </a:lnTo>
                  <a:lnTo>
                    <a:pt x="345" y="405"/>
                  </a:lnTo>
                  <a:lnTo>
                    <a:pt x="345" y="409"/>
                  </a:lnTo>
                  <a:lnTo>
                    <a:pt x="345" y="414"/>
                  </a:lnTo>
                  <a:lnTo>
                    <a:pt x="345" y="418"/>
                  </a:lnTo>
                  <a:lnTo>
                    <a:pt x="345" y="423"/>
                  </a:lnTo>
                  <a:lnTo>
                    <a:pt x="349" y="427"/>
                  </a:lnTo>
                  <a:lnTo>
                    <a:pt x="355" y="432"/>
                  </a:lnTo>
                  <a:lnTo>
                    <a:pt x="364" y="436"/>
                  </a:lnTo>
                  <a:lnTo>
                    <a:pt x="374" y="441"/>
                  </a:lnTo>
                  <a:lnTo>
                    <a:pt x="387" y="445"/>
                  </a:lnTo>
                  <a:lnTo>
                    <a:pt x="398" y="450"/>
                  </a:lnTo>
                  <a:lnTo>
                    <a:pt x="408" y="454"/>
                  </a:lnTo>
                  <a:lnTo>
                    <a:pt x="421" y="459"/>
                  </a:lnTo>
                  <a:lnTo>
                    <a:pt x="434" y="463"/>
                  </a:lnTo>
                  <a:lnTo>
                    <a:pt x="440" y="468"/>
                  </a:lnTo>
                  <a:lnTo>
                    <a:pt x="438" y="472"/>
                  </a:lnTo>
                  <a:lnTo>
                    <a:pt x="436" y="477"/>
                  </a:lnTo>
                  <a:lnTo>
                    <a:pt x="430" y="481"/>
                  </a:lnTo>
                  <a:lnTo>
                    <a:pt x="419" y="486"/>
                  </a:lnTo>
                  <a:lnTo>
                    <a:pt x="406" y="490"/>
                  </a:lnTo>
                  <a:lnTo>
                    <a:pt x="391" y="495"/>
                  </a:lnTo>
                  <a:lnTo>
                    <a:pt x="370" y="499"/>
                  </a:lnTo>
                  <a:lnTo>
                    <a:pt x="347" y="504"/>
                  </a:lnTo>
                  <a:lnTo>
                    <a:pt x="330" y="508"/>
                  </a:lnTo>
                  <a:lnTo>
                    <a:pt x="319" y="512"/>
                  </a:lnTo>
                  <a:lnTo>
                    <a:pt x="311" y="517"/>
                  </a:lnTo>
                  <a:lnTo>
                    <a:pt x="304" y="521"/>
                  </a:lnTo>
                  <a:lnTo>
                    <a:pt x="298" y="526"/>
                  </a:lnTo>
                  <a:lnTo>
                    <a:pt x="298" y="530"/>
                  </a:lnTo>
                  <a:lnTo>
                    <a:pt x="302" y="535"/>
                  </a:lnTo>
                  <a:lnTo>
                    <a:pt x="304" y="539"/>
                  </a:lnTo>
                  <a:lnTo>
                    <a:pt x="302" y="544"/>
                  </a:lnTo>
                  <a:lnTo>
                    <a:pt x="306" y="548"/>
                  </a:lnTo>
                  <a:lnTo>
                    <a:pt x="319" y="553"/>
                  </a:lnTo>
                  <a:lnTo>
                    <a:pt x="334" y="557"/>
                  </a:lnTo>
                  <a:lnTo>
                    <a:pt x="342" y="562"/>
                  </a:lnTo>
                  <a:lnTo>
                    <a:pt x="349" y="566"/>
                  </a:lnTo>
                  <a:lnTo>
                    <a:pt x="353" y="571"/>
                  </a:lnTo>
                  <a:lnTo>
                    <a:pt x="351" y="575"/>
                  </a:lnTo>
                  <a:lnTo>
                    <a:pt x="347" y="580"/>
                  </a:lnTo>
                  <a:lnTo>
                    <a:pt x="345" y="584"/>
                  </a:lnTo>
                  <a:lnTo>
                    <a:pt x="336" y="589"/>
                  </a:lnTo>
                  <a:lnTo>
                    <a:pt x="328" y="593"/>
                  </a:lnTo>
                  <a:lnTo>
                    <a:pt x="315" y="598"/>
                  </a:lnTo>
                  <a:lnTo>
                    <a:pt x="306" y="602"/>
                  </a:lnTo>
                  <a:lnTo>
                    <a:pt x="300" y="607"/>
                  </a:lnTo>
                  <a:lnTo>
                    <a:pt x="296" y="611"/>
                  </a:lnTo>
                  <a:lnTo>
                    <a:pt x="296" y="616"/>
                  </a:lnTo>
                  <a:lnTo>
                    <a:pt x="296" y="620"/>
                  </a:lnTo>
                  <a:lnTo>
                    <a:pt x="292" y="625"/>
                  </a:lnTo>
                  <a:lnTo>
                    <a:pt x="292" y="629"/>
                  </a:lnTo>
                  <a:lnTo>
                    <a:pt x="287" y="634"/>
                  </a:lnTo>
                  <a:lnTo>
                    <a:pt x="281" y="638"/>
                  </a:lnTo>
                  <a:lnTo>
                    <a:pt x="275" y="643"/>
                  </a:lnTo>
                  <a:lnTo>
                    <a:pt x="275" y="647"/>
                  </a:lnTo>
                  <a:lnTo>
                    <a:pt x="281" y="652"/>
                  </a:lnTo>
                  <a:lnTo>
                    <a:pt x="287" y="656"/>
                  </a:lnTo>
                  <a:lnTo>
                    <a:pt x="294" y="661"/>
                  </a:lnTo>
                  <a:lnTo>
                    <a:pt x="315" y="665"/>
                  </a:lnTo>
                  <a:lnTo>
                    <a:pt x="342" y="670"/>
                  </a:lnTo>
                  <a:lnTo>
                    <a:pt x="359" y="674"/>
                  </a:lnTo>
                  <a:lnTo>
                    <a:pt x="374" y="679"/>
                  </a:lnTo>
                  <a:lnTo>
                    <a:pt x="389" y="683"/>
                  </a:lnTo>
                  <a:lnTo>
                    <a:pt x="393" y="688"/>
                  </a:lnTo>
                  <a:lnTo>
                    <a:pt x="391" y="692"/>
                  </a:lnTo>
                  <a:lnTo>
                    <a:pt x="393" y="697"/>
                  </a:lnTo>
                  <a:lnTo>
                    <a:pt x="396" y="701"/>
                  </a:lnTo>
                  <a:lnTo>
                    <a:pt x="389" y="706"/>
                  </a:lnTo>
                  <a:lnTo>
                    <a:pt x="374" y="710"/>
                  </a:lnTo>
                  <a:lnTo>
                    <a:pt x="362" y="715"/>
                  </a:lnTo>
                  <a:lnTo>
                    <a:pt x="347" y="719"/>
                  </a:lnTo>
                  <a:lnTo>
                    <a:pt x="336" y="724"/>
                  </a:lnTo>
                  <a:lnTo>
                    <a:pt x="338" y="728"/>
                  </a:lnTo>
                  <a:lnTo>
                    <a:pt x="338" y="733"/>
                  </a:lnTo>
                  <a:lnTo>
                    <a:pt x="334" y="737"/>
                  </a:lnTo>
                  <a:lnTo>
                    <a:pt x="323" y="742"/>
                  </a:lnTo>
                  <a:lnTo>
                    <a:pt x="317" y="746"/>
                  </a:lnTo>
                  <a:lnTo>
                    <a:pt x="313" y="751"/>
                  </a:lnTo>
                  <a:lnTo>
                    <a:pt x="308" y="755"/>
                  </a:lnTo>
                  <a:lnTo>
                    <a:pt x="304" y="760"/>
                  </a:lnTo>
                  <a:lnTo>
                    <a:pt x="296" y="764"/>
                  </a:lnTo>
                  <a:lnTo>
                    <a:pt x="283" y="769"/>
                  </a:lnTo>
                  <a:lnTo>
                    <a:pt x="272" y="773"/>
                  </a:lnTo>
                  <a:lnTo>
                    <a:pt x="266" y="778"/>
                  </a:lnTo>
                  <a:lnTo>
                    <a:pt x="264" y="782"/>
                  </a:lnTo>
                  <a:lnTo>
                    <a:pt x="262" y="787"/>
                  </a:lnTo>
                  <a:lnTo>
                    <a:pt x="262" y="791"/>
                  </a:lnTo>
                  <a:lnTo>
                    <a:pt x="262" y="796"/>
                  </a:lnTo>
                  <a:lnTo>
                    <a:pt x="262" y="800"/>
                  </a:lnTo>
                  <a:lnTo>
                    <a:pt x="260" y="805"/>
                  </a:lnTo>
                  <a:lnTo>
                    <a:pt x="260" y="809"/>
                  </a:lnTo>
                  <a:lnTo>
                    <a:pt x="262" y="814"/>
                  </a:lnTo>
                  <a:lnTo>
                    <a:pt x="264" y="818"/>
                  </a:lnTo>
                  <a:lnTo>
                    <a:pt x="264" y="823"/>
                  </a:lnTo>
                  <a:lnTo>
                    <a:pt x="264" y="827"/>
                  </a:lnTo>
                  <a:lnTo>
                    <a:pt x="272" y="832"/>
                  </a:lnTo>
                  <a:lnTo>
                    <a:pt x="289" y="836"/>
                  </a:lnTo>
                  <a:lnTo>
                    <a:pt x="308" y="841"/>
                  </a:lnTo>
                  <a:lnTo>
                    <a:pt x="325" y="845"/>
                  </a:lnTo>
                  <a:lnTo>
                    <a:pt x="340" y="850"/>
                  </a:lnTo>
                  <a:lnTo>
                    <a:pt x="351" y="854"/>
                  </a:lnTo>
                  <a:lnTo>
                    <a:pt x="359" y="859"/>
                  </a:lnTo>
                  <a:lnTo>
                    <a:pt x="370" y="863"/>
                  </a:lnTo>
                  <a:lnTo>
                    <a:pt x="383" y="868"/>
                  </a:lnTo>
                  <a:lnTo>
                    <a:pt x="393" y="872"/>
                  </a:lnTo>
                  <a:lnTo>
                    <a:pt x="398" y="877"/>
                  </a:lnTo>
                  <a:lnTo>
                    <a:pt x="413" y="881"/>
                  </a:lnTo>
                  <a:lnTo>
                    <a:pt x="440" y="886"/>
                  </a:lnTo>
                  <a:lnTo>
                    <a:pt x="470" y="890"/>
                  </a:lnTo>
                  <a:lnTo>
                    <a:pt x="502" y="895"/>
                  </a:lnTo>
                  <a:lnTo>
                    <a:pt x="532" y="899"/>
                  </a:lnTo>
                  <a:lnTo>
                    <a:pt x="563" y="904"/>
                  </a:lnTo>
                  <a:lnTo>
                    <a:pt x="587" y="908"/>
                  </a:lnTo>
                  <a:lnTo>
                    <a:pt x="602" y="913"/>
                  </a:lnTo>
                  <a:lnTo>
                    <a:pt x="617" y="917"/>
                  </a:lnTo>
                  <a:lnTo>
                    <a:pt x="629" y="922"/>
                  </a:lnTo>
                  <a:lnTo>
                    <a:pt x="633" y="926"/>
                  </a:lnTo>
                  <a:lnTo>
                    <a:pt x="638" y="931"/>
                  </a:lnTo>
                  <a:lnTo>
                    <a:pt x="646" y="935"/>
                  </a:lnTo>
                  <a:lnTo>
                    <a:pt x="648" y="940"/>
                  </a:lnTo>
                  <a:lnTo>
                    <a:pt x="648" y="944"/>
                  </a:lnTo>
                  <a:lnTo>
                    <a:pt x="648" y="949"/>
                  </a:lnTo>
                  <a:lnTo>
                    <a:pt x="648" y="953"/>
                  </a:lnTo>
                  <a:lnTo>
                    <a:pt x="648" y="958"/>
                  </a:lnTo>
                  <a:lnTo>
                    <a:pt x="648" y="962"/>
                  </a:lnTo>
                  <a:lnTo>
                    <a:pt x="648" y="967"/>
                  </a:lnTo>
                  <a:lnTo>
                    <a:pt x="648" y="971"/>
                  </a:lnTo>
                  <a:lnTo>
                    <a:pt x="642" y="976"/>
                  </a:lnTo>
                  <a:lnTo>
                    <a:pt x="625" y="980"/>
                  </a:lnTo>
                  <a:lnTo>
                    <a:pt x="610" y="985"/>
                  </a:lnTo>
                  <a:lnTo>
                    <a:pt x="595" y="989"/>
                  </a:lnTo>
                  <a:lnTo>
                    <a:pt x="576" y="994"/>
                  </a:lnTo>
                  <a:lnTo>
                    <a:pt x="549" y="998"/>
                  </a:lnTo>
                  <a:lnTo>
                    <a:pt x="515" y="1003"/>
                  </a:lnTo>
                  <a:lnTo>
                    <a:pt x="485" y="1007"/>
                  </a:lnTo>
                  <a:lnTo>
                    <a:pt x="440" y="1012"/>
                  </a:lnTo>
                  <a:lnTo>
                    <a:pt x="381" y="1016"/>
                  </a:lnTo>
                  <a:lnTo>
                    <a:pt x="370" y="1021"/>
                  </a:lnTo>
                  <a:lnTo>
                    <a:pt x="393" y="1025"/>
                  </a:lnTo>
                  <a:lnTo>
                    <a:pt x="425" y="1030"/>
                  </a:lnTo>
                  <a:lnTo>
                    <a:pt x="447" y="1034"/>
                  </a:lnTo>
                  <a:lnTo>
                    <a:pt x="464" y="1039"/>
                  </a:lnTo>
                  <a:lnTo>
                    <a:pt x="476" y="1043"/>
                  </a:lnTo>
                  <a:lnTo>
                    <a:pt x="489" y="1048"/>
                  </a:lnTo>
                  <a:lnTo>
                    <a:pt x="495" y="1052"/>
                  </a:lnTo>
                  <a:lnTo>
                    <a:pt x="500" y="1057"/>
                  </a:lnTo>
                  <a:lnTo>
                    <a:pt x="502" y="1061"/>
                  </a:lnTo>
                  <a:lnTo>
                    <a:pt x="495" y="1066"/>
                  </a:lnTo>
                  <a:lnTo>
                    <a:pt x="485" y="1070"/>
                  </a:lnTo>
                  <a:lnTo>
                    <a:pt x="476" y="1075"/>
                  </a:lnTo>
                  <a:lnTo>
                    <a:pt x="472" y="1079"/>
                  </a:lnTo>
                  <a:lnTo>
                    <a:pt x="461" y="1084"/>
                  </a:lnTo>
                  <a:lnTo>
                    <a:pt x="449" y="1088"/>
                  </a:lnTo>
                  <a:lnTo>
                    <a:pt x="442" y="1093"/>
                  </a:lnTo>
                  <a:lnTo>
                    <a:pt x="434" y="1097"/>
                  </a:lnTo>
                  <a:lnTo>
                    <a:pt x="430" y="1102"/>
                  </a:lnTo>
                  <a:lnTo>
                    <a:pt x="427" y="1106"/>
                  </a:lnTo>
                  <a:lnTo>
                    <a:pt x="434" y="1111"/>
                  </a:lnTo>
                  <a:lnTo>
                    <a:pt x="438" y="1115"/>
                  </a:lnTo>
                  <a:lnTo>
                    <a:pt x="442" y="1120"/>
                  </a:lnTo>
                  <a:lnTo>
                    <a:pt x="453" y="1124"/>
                  </a:lnTo>
                  <a:lnTo>
                    <a:pt x="464" y="1129"/>
                  </a:lnTo>
                  <a:lnTo>
                    <a:pt x="470" y="1133"/>
                  </a:lnTo>
                  <a:lnTo>
                    <a:pt x="472" y="1138"/>
                  </a:lnTo>
                  <a:lnTo>
                    <a:pt x="474" y="1142"/>
                  </a:lnTo>
                  <a:lnTo>
                    <a:pt x="472" y="1147"/>
                  </a:lnTo>
                  <a:lnTo>
                    <a:pt x="468" y="1151"/>
                  </a:lnTo>
                  <a:lnTo>
                    <a:pt x="464" y="1156"/>
                  </a:lnTo>
                  <a:lnTo>
                    <a:pt x="459" y="1160"/>
                  </a:lnTo>
                  <a:lnTo>
                    <a:pt x="453" y="1165"/>
                  </a:lnTo>
                  <a:lnTo>
                    <a:pt x="444" y="1169"/>
                  </a:lnTo>
                  <a:lnTo>
                    <a:pt x="444" y="1174"/>
                  </a:lnTo>
                  <a:lnTo>
                    <a:pt x="455" y="1178"/>
                  </a:lnTo>
                  <a:lnTo>
                    <a:pt x="476" y="1183"/>
                  </a:lnTo>
                  <a:lnTo>
                    <a:pt x="495" y="1187"/>
                  </a:lnTo>
                  <a:lnTo>
                    <a:pt x="510" y="1192"/>
                  </a:lnTo>
                  <a:lnTo>
                    <a:pt x="527" y="1196"/>
                  </a:lnTo>
                  <a:lnTo>
                    <a:pt x="546" y="1201"/>
                  </a:lnTo>
                  <a:lnTo>
                    <a:pt x="557" y="1205"/>
                  </a:lnTo>
                  <a:lnTo>
                    <a:pt x="561" y="1210"/>
                  </a:lnTo>
                  <a:lnTo>
                    <a:pt x="561" y="1214"/>
                  </a:lnTo>
                  <a:lnTo>
                    <a:pt x="555" y="1219"/>
                  </a:lnTo>
                  <a:lnTo>
                    <a:pt x="542" y="1223"/>
                  </a:lnTo>
                  <a:lnTo>
                    <a:pt x="527" y="1228"/>
                  </a:lnTo>
                  <a:lnTo>
                    <a:pt x="508" y="1232"/>
                  </a:lnTo>
                  <a:lnTo>
                    <a:pt x="481" y="1237"/>
                  </a:lnTo>
                  <a:lnTo>
                    <a:pt x="442" y="1241"/>
                  </a:lnTo>
                  <a:lnTo>
                    <a:pt x="400" y="1246"/>
                  </a:lnTo>
                  <a:lnTo>
                    <a:pt x="366" y="1250"/>
                  </a:lnTo>
                  <a:lnTo>
                    <a:pt x="347" y="1255"/>
                  </a:lnTo>
                  <a:lnTo>
                    <a:pt x="328" y="1259"/>
                  </a:lnTo>
                  <a:lnTo>
                    <a:pt x="300" y="1264"/>
                  </a:lnTo>
                  <a:lnTo>
                    <a:pt x="285" y="1268"/>
                  </a:lnTo>
                  <a:lnTo>
                    <a:pt x="281" y="1273"/>
                  </a:lnTo>
                  <a:lnTo>
                    <a:pt x="279" y="1277"/>
                  </a:lnTo>
                  <a:lnTo>
                    <a:pt x="279" y="1282"/>
                  </a:lnTo>
                  <a:lnTo>
                    <a:pt x="279" y="1286"/>
                  </a:lnTo>
                  <a:lnTo>
                    <a:pt x="270" y="1291"/>
                  </a:lnTo>
                  <a:lnTo>
                    <a:pt x="258" y="1295"/>
                  </a:lnTo>
                  <a:lnTo>
                    <a:pt x="245" y="1300"/>
                  </a:lnTo>
                  <a:lnTo>
                    <a:pt x="238" y="1304"/>
                  </a:lnTo>
                  <a:lnTo>
                    <a:pt x="234" y="1309"/>
                  </a:lnTo>
                  <a:lnTo>
                    <a:pt x="230" y="1313"/>
                  </a:lnTo>
                  <a:lnTo>
                    <a:pt x="232" y="1318"/>
                  </a:lnTo>
                  <a:lnTo>
                    <a:pt x="241" y="1322"/>
                  </a:lnTo>
                  <a:lnTo>
                    <a:pt x="245" y="1327"/>
                  </a:lnTo>
                  <a:lnTo>
                    <a:pt x="245" y="1331"/>
                  </a:lnTo>
                  <a:lnTo>
                    <a:pt x="249" y="1336"/>
                  </a:lnTo>
                  <a:lnTo>
                    <a:pt x="249" y="1340"/>
                  </a:lnTo>
                  <a:lnTo>
                    <a:pt x="247" y="1345"/>
                  </a:lnTo>
                  <a:lnTo>
                    <a:pt x="243" y="1349"/>
                  </a:lnTo>
                  <a:lnTo>
                    <a:pt x="236" y="1354"/>
                  </a:lnTo>
                  <a:lnTo>
                    <a:pt x="221" y="1358"/>
                  </a:lnTo>
                  <a:lnTo>
                    <a:pt x="202" y="1363"/>
                  </a:lnTo>
                  <a:lnTo>
                    <a:pt x="190" y="1367"/>
                  </a:lnTo>
                  <a:lnTo>
                    <a:pt x="183" y="1372"/>
                  </a:lnTo>
                  <a:lnTo>
                    <a:pt x="177" y="1376"/>
                  </a:lnTo>
                  <a:lnTo>
                    <a:pt x="173" y="1381"/>
                  </a:lnTo>
                  <a:lnTo>
                    <a:pt x="168" y="1385"/>
                  </a:lnTo>
                  <a:lnTo>
                    <a:pt x="166" y="1390"/>
                  </a:lnTo>
                  <a:lnTo>
                    <a:pt x="166" y="1394"/>
                  </a:lnTo>
                  <a:lnTo>
                    <a:pt x="164" y="1399"/>
                  </a:lnTo>
                  <a:lnTo>
                    <a:pt x="164" y="1403"/>
                  </a:lnTo>
                  <a:lnTo>
                    <a:pt x="164" y="1408"/>
                  </a:lnTo>
                  <a:lnTo>
                    <a:pt x="162" y="1412"/>
                  </a:lnTo>
                  <a:lnTo>
                    <a:pt x="166" y="1417"/>
                  </a:lnTo>
                  <a:lnTo>
                    <a:pt x="173" y="1421"/>
                  </a:lnTo>
                  <a:lnTo>
                    <a:pt x="177" y="1426"/>
                  </a:lnTo>
                  <a:lnTo>
                    <a:pt x="177" y="1430"/>
                  </a:lnTo>
                  <a:lnTo>
                    <a:pt x="179" y="1435"/>
                  </a:lnTo>
                  <a:lnTo>
                    <a:pt x="179" y="1439"/>
                  </a:lnTo>
                  <a:lnTo>
                    <a:pt x="179" y="1444"/>
                  </a:lnTo>
                  <a:lnTo>
                    <a:pt x="179" y="1448"/>
                  </a:lnTo>
                  <a:lnTo>
                    <a:pt x="177" y="1453"/>
                  </a:lnTo>
                  <a:lnTo>
                    <a:pt x="173" y="1457"/>
                  </a:lnTo>
                  <a:lnTo>
                    <a:pt x="166" y="1462"/>
                  </a:lnTo>
                  <a:lnTo>
                    <a:pt x="166" y="1466"/>
                  </a:lnTo>
                  <a:lnTo>
                    <a:pt x="164" y="1471"/>
                  </a:lnTo>
                  <a:lnTo>
                    <a:pt x="168" y="1475"/>
                  </a:lnTo>
                  <a:lnTo>
                    <a:pt x="175" y="1480"/>
                  </a:lnTo>
                  <a:lnTo>
                    <a:pt x="177" y="1484"/>
                  </a:lnTo>
                  <a:lnTo>
                    <a:pt x="181" y="1489"/>
                  </a:lnTo>
                  <a:lnTo>
                    <a:pt x="183" y="1493"/>
                  </a:lnTo>
                  <a:lnTo>
                    <a:pt x="183" y="1498"/>
                  </a:lnTo>
                  <a:lnTo>
                    <a:pt x="183" y="1502"/>
                  </a:lnTo>
                  <a:lnTo>
                    <a:pt x="187" y="1507"/>
                  </a:lnTo>
                  <a:lnTo>
                    <a:pt x="198" y="1511"/>
                  </a:lnTo>
                  <a:lnTo>
                    <a:pt x="198" y="1516"/>
                  </a:lnTo>
                  <a:lnTo>
                    <a:pt x="194" y="1520"/>
                  </a:lnTo>
                  <a:lnTo>
                    <a:pt x="192" y="1525"/>
                  </a:lnTo>
                  <a:lnTo>
                    <a:pt x="190" y="1529"/>
                  </a:lnTo>
                  <a:lnTo>
                    <a:pt x="187" y="1534"/>
                  </a:lnTo>
                  <a:lnTo>
                    <a:pt x="185" y="1538"/>
                  </a:lnTo>
                  <a:lnTo>
                    <a:pt x="181" y="1543"/>
                  </a:lnTo>
                  <a:lnTo>
                    <a:pt x="168" y="1547"/>
                  </a:lnTo>
                  <a:lnTo>
                    <a:pt x="151" y="1552"/>
                  </a:lnTo>
                  <a:lnTo>
                    <a:pt x="141" y="1556"/>
                  </a:lnTo>
                  <a:lnTo>
                    <a:pt x="134" y="1560"/>
                  </a:lnTo>
                  <a:lnTo>
                    <a:pt x="128" y="1565"/>
                  </a:lnTo>
                  <a:lnTo>
                    <a:pt x="124" y="1569"/>
                  </a:lnTo>
                  <a:lnTo>
                    <a:pt x="117" y="1574"/>
                  </a:lnTo>
                  <a:lnTo>
                    <a:pt x="111" y="1578"/>
                  </a:lnTo>
                  <a:lnTo>
                    <a:pt x="107" y="1583"/>
                  </a:lnTo>
                  <a:lnTo>
                    <a:pt x="105" y="1587"/>
                  </a:lnTo>
                  <a:lnTo>
                    <a:pt x="105" y="1592"/>
                  </a:lnTo>
                  <a:lnTo>
                    <a:pt x="105" y="1596"/>
                  </a:lnTo>
                  <a:lnTo>
                    <a:pt x="102" y="1601"/>
                  </a:lnTo>
                  <a:lnTo>
                    <a:pt x="98" y="1605"/>
                  </a:lnTo>
                  <a:lnTo>
                    <a:pt x="96" y="1610"/>
                  </a:lnTo>
                  <a:lnTo>
                    <a:pt x="96" y="1614"/>
                  </a:lnTo>
                  <a:lnTo>
                    <a:pt x="96" y="1619"/>
                  </a:lnTo>
                  <a:lnTo>
                    <a:pt x="96" y="1623"/>
                  </a:lnTo>
                  <a:lnTo>
                    <a:pt x="96" y="1628"/>
                  </a:lnTo>
                  <a:lnTo>
                    <a:pt x="96" y="1632"/>
                  </a:lnTo>
                  <a:lnTo>
                    <a:pt x="94" y="1637"/>
                  </a:lnTo>
                  <a:lnTo>
                    <a:pt x="94" y="1641"/>
                  </a:lnTo>
                  <a:lnTo>
                    <a:pt x="96" y="1646"/>
                  </a:lnTo>
                  <a:lnTo>
                    <a:pt x="96" y="1650"/>
                  </a:lnTo>
                  <a:lnTo>
                    <a:pt x="96" y="1655"/>
                  </a:lnTo>
                  <a:lnTo>
                    <a:pt x="98" y="1659"/>
                  </a:lnTo>
                  <a:lnTo>
                    <a:pt x="102" y="1664"/>
                  </a:lnTo>
                  <a:lnTo>
                    <a:pt x="109" y="1668"/>
                  </a:lnTo>
                  <a:lnTo>
                    <a:pt x="113" y="1673"/>
                  </a:lnTo>
                  <a:lnTo>
                    <a:pt x="115" y="1677"/>
                  </a:lnTo>
                  <a:lnTo>
                    <a:pt x="117" y="1682"/>
                  </a:lnTo>
                  <a:lnTo>
                    <a:pt x="119" y="1686"/>
                  </a:lnTo>
                  <a:lnTo>
                    <a:pt x="119" y="1691"/>
                  </a:lnTo>
                  <a:lnTo>
                    <a:pt x="122" y="1695"/>
                  </a:lnTo>
                  <a:lnTo>
                    <a:pt x="126" y="1700"/>
                  </a:lnTo>
                  <a:lnTo>
                    <a:pt x="126" y="1704"/>
                  </a:lnTo>
                  <a:lnTo>
                    <a:pt x="124" y="1709"/>
                  </a:lnTo>
                  <a:lnTo>
                    <a:pt x="122" y="1713"/>
                  </a:lnTo>
                  <a:lnTo>
                    <a:pt x="124" y="1718"/>
                  </a:lnTo>
                  <a:lnTo>
                    <a:pt x="124" y="1722"/>
                  </a:lnTo>
                  <a:lnTo>
                    <a:pt x="126" y="1727"/>
                  </a:lnTo>
                  <a:lnTo>
                    <a:pt x="126" y="1731"/>
                  </a:lnTo>
                  <a:lnTo>
                    <a:pt x="130" y="1736"/>
                  </a:lnTo>
                  <a:lnTo>
                    <a:pt x="134" y="1740"/>
                  </a:lnTo>
                  <a:lnTo>
                    <a:pt x="141" y="1745"/>
                  </a:lnTo>
                  <a:lnTo>
                    <a:pt x="151" y="1749"/>
                  </a:lnTo>
                  <a:lnTo>
                    <a:pt x="162" y="1754"/>
                  </a:lnTo>
                  <a:lnTo>
                    <a:pt x="173" y="1758"/>
                  </a:lnTo>
                  <a:lnTo>
                    <a:pt x="179" y="1763"/>
                  </a:lnTo>
                  <a:lnTo>
                    <a:pt x="185" y="1767"/>
                  </a:lnTo>
                  <a:lnTo>
                    <a:pt x="192" y="1772"/>
                  </a:lnTo>
                  <a:lnTo>
                    <a:pt x="196" y="1776"/>
                  </a:lnTo>
                  <a:lnTo>
                    <a:pt x="200" y="1781"/>
                  </a:lnTo>
                  <a:lnTo>
                    <a:pt x="202" y="1785"/>
                  </a:lnTo>
                  <a:lnTo>
                    <a:pt x="202" y="1790"/>
                  </a:lnTo>
                  <a:lnTo>
                    <a:pt x="198" y="1794"/>
                  </a:lnTo>
                  <a:lnTo>
                    <a:pt x="196" y="1799"/>
                  </a:lnTo>
                  <a:lnTo>
                    <a:pt x="194" y="1803"/>
                  </a:lnTo>
                  <a:lnTo>
                    <a:pt x="192" y="1808"/>
                  </a:lnTo>
                  <a:lnTo>
                    <a:pt x="192" y="1812"/>
                  </a:lnTo>
                  <a:lnTo>
                    <a:pt x="190" y="1817"/>
                  </a:lnTo>
                  <a:lnTo>
                    <a:pt x="190" y="1821"/>
                  </a:lnTo>
                  <a:lnTo>
                    <a:pt x="194" y="1826"/>
                  </a:lnTo>
                  <a:lnTo>
                    <a:pt x="202" y="1830"/>
                  </a:lnTo>
                  <a:lnTo>
                    <a:pt x="209" y="1835"/>
                  </a:lnTo>
                  <a:lnTo>
                    <a:pt x="211" y="1839"/>
                  </a:lnTo>
                  <a:lnTo>
                    <a:pt x="211" y="1844"/>
                  </a:lnTo>
                  <a:lnTo>
                    <a:pt x="207" y="1848"/>
                  </a:lnTo>
                  <a:lnTo>
                    <a:pt x="204" y="1853"/>
                  </a:lnTo>
                  <a:lnTo>
                    <a:pt x="200" y="1857"/>
                  </a:lnTo>
                  <a:lnTo>
                    <a:pt x="198" y="1862"/>
                  </a:lnTo>
                  <a:lnTo>
                    <a:pt x="196" y="1866"/>
                  </a:lnTo>
                  <a:lnTo>
                    <a:pt x="196" y="1871"/>
                  </a:lnTo>
                  <a:lnTo>
                    <a:pt x="198" y="1875"/>
                  </a:lnTo>
                  <a:lnTo>
                    <a:pt x="198" y="1880"/>
                  </a:lnTo>
                  <a:lnTo>
                    <a:pt x="200" y="1884"/>
                  </a:lnTo>
                  <a:lnTo>
                    <a:pt x="200" y="1889"/>
                  </a:lnTo>
                  <a:lnTo>
                    <a:pt x="200" y="1893"/>
                  </a:lnTo>
                  <a:lnTo>
                    <a:pt x="198" y="1898"/>
                  </a:lnTo>
                  <a:lnTo>
                    <a:pt x="194" y="1902"/>
                  </a:lnTo>
                  <a:lnTo>
                    <a:pt x="183" y="1907"/>
                  </a:lnTo>
                  <a:lnTo>
                    <a:pt x="170" y="1911"/>
                  </a:lnTo>
                  <a:lnTo>
                    <a:pt x="160" y="1916"/>
                  </a:lnTo>
                  <a:lnTo>
                    <a:pt x="158" y="1920"/>
                  </a:lnTo>
                  <a:lnTo>
                    <a:pt x="162" y="1925"/>
                  </a:lnTo>
                  <a:lnTo>
                    <a:pt x="164" y="1929"/>
                  </a:lnTo>
                  <a:lnTo>
                    <a:pt x="164" y="1934"/>
                  </a:lnTo>
                  <a:lnTo>
                    <a:pt x="166" y="1938"/>
                  </a:lnTo>
                  <a:lnTo>
                    <a:pt x="168" y="1943"/>
                  </a:lnTo>
                  <a:lnTo>
                    <a:pt x="170" y="1947"/>
                  </a:lnTo>
                  <a:lnTo>
                    <a:pt x="173" y="1952"/>
                  </a:lnTo>
                  <a:lnTo>
                    <a:pt x="175" y="1956"/>
                  </a:lnTo>
                  <a:lnTo>
                    <a:pt x="175" y="1961"/>
                  </a:lnTo>
                  <a:lnTo>
                    <a:pt x="173" y="1965"/>
                  </a:lnTo>
                  <a:lnTo>
                    <a:pt x="173" y="1970"/>
                  </a:lnTo>
                  <a:lnTo>
                    <a:pt x="173" y="1974"/>
                  </a:lnTo>
                  <a:lnTo>
                    <a:pt x="175" y="1979"/>
                  </a:lnTo>
                  <a:lnTo>
                    <a:pt x="175" y="1983"/>
                  </a:lnTo>
                  <a:lnTo>
                    <a:pt x="175" y="1988"/>
                  </a:lnTo>
                  <a:lnTo>
                    <a:pt x="170" y="1992"/>
                  </a:lnTo>
                  <a:lnTo>
                    <a:pt x="166" y="1997"/>
                  </a:lnTo>
                  <a:lnTo>
                    <a:pt x="166" y="2001"/>
                  </a:lnTo>
                  <a:lnTo>
                    <a:pt x="166" y="2006"/>
                  </a:lnTo>
                  <a:lnTo>
                    <a:pt x="164" y="2010"/>
                  </a:lnTo>
                  <a:lnTo>
                    <a:pt x="162" y="2015"/>
                  </a:lnTo>
                  <a:lnTo>
                    <a:pt x="160" y="2019"/>
                  </a:lnTo>
                  <a:lnTo>
                    <a:pt x="160" y="2024"/>
                  </a:lnTo>
                  <a:lnTo>
                    <a:pt x="160" y="2028"/>
                  </a:lnTo>
                  <a:lnTo>
                    <a:pt x="162" y="2033"/>
                  </a:lnTo>
                  <a:lnTo>
                    <a:pt x="166" y="2037"/>
                  </a:lnTo>
                  <a:lnTo>
                    <a:pt x="166" y="2042"/>
                  </a:lnTo>
                  <a:lnTo>
                    <a:pt x="164" y="2046"/>
                  </a:lnTo>
                  <a:lnTo>
                    <a:pt x="164" y="2051"/>
                  </a:lnTo>
                  <a:lnTo>
                    <a:pt x="166" y="2055"/>
                  </a:lnTo>
                  <a:lnTo>
                    <a:pt x="170" y="2060"/>
                  </a:lnTo>
                  <a:lnTo>
                    <a:pt x="179" y="2064"/>
                  </a:lnTo>
                  <a:lnTo>
                    <a:pt x="194" y="2069"/>
                  </a:lnTo>
                  <a:lnTo>
                    <a:pt x="209" y="2073"/>
                  </a:lnTo>
                  <a:lnTo>
                    <a:pt x="224" y="2078"/>
                  </a:lnTo>
                  <a:lnTo>
                    <a:pt x="236" y="2082"/>
                  </a:lnTo>
                  <a:lnTo>
                    <a:pt x="249" y="2087"/>
                  </a:lnTo>
                  <a:lnTo>
                    <a:pt x="258" y="2091"/>
                  </a:lnTo>
                  <a:lnTo>
                    <a:pt x="264" y="2096"/>
                  </a:lnTo>
                  <a:lnTo>
                    <a:pt x="268" y="2100"/>
                  </a:lnTo>
                  <a:lnTo>
                    <a:pt x="268" y="2105"/>
                  </a:lnTo>
                  <a:lnTo>
                    <a:pt x="266" y="2109"/>
                  </a:lnTo>
                  <a:lnTo>
                    <a:pt x="264" y="2114"/>
                  </a:lnTo>
                  <a:lnTo>
                    <a:pt x="264" y="2118"/>
                  </a:lnTo>
                  <a:lnTo>
                    <a:pt x="266" y="2123"/>
                  </a:lnTo>
                  <a:lnTo>
                    <a:pt x="272" y="2127"/>
                  </a:lnTo>
                  <a:lnTo>
                    <a:pt x="283" y="2132"/>
                  </a:lnTo>
                  <a:lnTo>
                    <a:pt x="289" y="2136"/>
                  </a:lnTo>
                  <a:lnTo>
                    <a:pt x="296" y="2141"/>
                  </a:lnTo>
                  <a:lnTo>
                    <a:pt x="304" y="2145"/>
                  </a:lnTo>
                  <a:lnTo>
                    <a:pt x="311" y="2150"/>
                  </a:lnTo>
                  <a:lnTo>
                    <a:pt x="315" y="2154"/>
                  </a:lnTo>
                  <a:lnTo>
                    <a:pt x="317" y="2159"/>
                  </a:lnTo>
                  <a:lnTo>
                    <a:pt x="319" y="2163"/>
                  </a:lnTo>
                  <a:lnTo>
                    <a:pt x="319" y="2168"/>
                  </a:lnTo>
                  <a:lnTo>
                    <a:pt x="317" y="2172"/>
                  </a:lnTo>
                  <a:lnTo>
                    <a:pt x="315" y="2177"/>
                  </a:lnTo>
                  <a:lnTo>
                    <a:pt x="315" y="2181"/>
                  </a:lnTo>
                  <a:lnTo>
                    <a:pt x="313" y="2186"/>
                  </a:lnTo>
                  <a:lnTo>
                    <a:pt x="311" y="2190"/>
                  </a:lnTo>
                  <a:lnTo>
                    <a:pt x="304" y="2195"/>
                  </a:lnTo>
                  <a:lnTo>
                    <a:pt x="300" y="2199"/>
                  </a:lnTo>
                  <a:lnTo>
                    <a:pt x="294" y="2204"/>
                  </a:lnTo>
                  <a:lnTo>
                    <a:pt x="283" y="2208"/>
                  </a:lnTo>
                  <a:lnTo>
                    <a:pt x="275" y="2213"/>
                  </a:lnTo>
                  <a:lnTo>
                    <a:pt x="268" y="2217"/>
                  </a:lnTo>
                  <a:lnTo>
                    <a:pt x="266" y="2222"/>
                  </a:lnTo>
                  <a:lnTo>
                    <a:pt x="272" y="2226"/>
                  </a:lnTo>
                  <a:lnTo>
                    <a:pt x="283" y="2231"/>
                  </a:lnTo>
                  <a:lnTo>
                    <a:pt x="296" y="2235"/>
                  </a:lnTo>
                  <a:lnTo>
                    <a:pt x="306" y="2240"/>
                  </a:lnTo>
                  <a:lnTo>
                    <a:pt x="317" y="2244"/>
                  </a:lnTo>
                  <a:lnTo>
                    <a:pt x="328" y="2249"/>
                  </a:lnTo>
                  <a:lnTo>
                    <a:pt x="349" y="2253"/>
                  </a:lnTo>
                  <a:lnTo>
                    <a:pt x="374" y="2258"/>
                  </a:lnTo>
                  <a:lnTo>
                    <a:pt x="389" y="2262"/>
                  </a:lnTo>
                  <a:lnTo>
                    <a:pt x="396" y="2267"/>
                  </a:lnTo>
                  <a:lnTo>
                    <a:pt x="400" y="2271"/>
                  </a:lnTo>
                  <a:lnTo>
                    <a:pt x="404" y="2276"/>
                  </a:lnTo>
                  <a:lnTo>
                    <a:pt x="406" y="2280"/>
                  </a:lnTo>
                  <a:lnTo>
                    <a:pt x="406" y="2285"/>
                  </a:lnTo>
                  <a:lnTo>
                    <a:pt x="404" y="2289"/>
                  </a:lnTo>
                  <a:lnTo>
                    <a:pt x="393" y="2294"/>
                  </a:lnTo>
                  <a:lnTo>
                    <a:pt x="374" y="2298"/>
                  </a:lnTo>
                  <a:lnTo>
                    <a:pt x="359" y="2303"/>
                  </a:lnTo>
                  <a:lnTo>
                    <a:pt x="351" y="2307"/>
                  </a:lnTo>
                  <a:lnTo>
                    <a:pt x="340" y="2312"/>
                  </a:lnTo>
                  <a:lnTo>
                    <a:pt x="332" y="2316"/>
                  </a:lnTo>
                  <a:lnTo>
                    <a:pt x="321" y="2321"/>
                  </a:lnTo>
                  <a:lnTo>
                    <a:pt x="313" y="2325"/>
                  </a:lnTo>
                  <a:lnTo>
                    <a:pt x="306" y="2330"/>
                  </a:lnTo>
                  <a:lnTo>
                    <a:pt x="302" y="2334"/>
                  </a:lnTo>
                  <a:lnTo>
                    <a:pt x="298" y="2339"/>
                  </a:lnTo>
                  <a:lnTo>
                    <a:pt x="289" y="2343"/>
                  </a:lnTo>
                  <a:lnTo>
                    <a:pt x="279" y="2348"/>
                  </a:lnTo>
                  <a:lnTo>
                    <a:pt x="270" y="2352"/>
                  </a:lnTo>
                  <a:lnTo>
                    <a:pt x="264" y="2357"/>
                  </a:lnTo>
                  <a:lnTo>
                    <a:pt x="262" y="2361"/>
                  </a:lnTo>
                  <a:lnTo>
                    <a:pt x="258" y="2366"/>
                  </a:lnTo>
                  <a:lnTo>
                    <a:pt x="255" y="2370"/>
                  </a:lnTo>
                  <a:lnTo>
                    <a:pt x="253" y="2375"/>
                  </a:lnTo>
                  <a:lnTo>
                    <a:pt x="253" y="2379"/>
                  </a:lnTo>
                  <a:lnTo>
                    <a:pt x="255" y="2384"/>
                  </a:lnTo>
                  <a:lnTo>
                    <a:pt x="262" y="2388"/>
                  </a:lnTo>
                  <a:lnTo>
                    <a:pt x="262" y="2393"/>
                  </a:lnTo>
                  <a:lnTo>
                    <a:pt x="264" y="2397"/>
                  </a:lnTo>
                  <a:lnTo>
                    <a:pt x="264" y="2402"/>
                  </a:lnTo>
                  <a:lnTo>
                    <a:pt x="262" y="2406"/>
                  </a:lnTo>
                  <a:lnTo>
                    <a:pt x="264" y="2411"/>
                  </a:lnTo>
                  <a:lnTo>
                    <a:pt x="266" y="2415"/>
                  </a:lnTo>
                  <a:lnTo>
                    <a:pt x="266" y="2420"/>
                  </a:lnTo>
                  <a:lnTo>
                    <a:pt x="262" y="2424"/>
                  </a:lnTo>
                  <a:lnTo>
                    <a:pt x="258" y="2429"/>
                  </a:lnTo>
                  <a:lnTo>
                    <a:pt x="258" y="2433"/>
                  </a:lnTo>
                  <a:lnTo>
                    <a:pt x="255" y="2438"/>
                  </a:lnTo>
                  <a:lnTo>
                    <a:pt x="255" y="2442"/>
                  </a:lnTo>
                  <a:lnTo>
                    <a:pt x="258" y="2447"/>
                  </a:lnTo>
                  <a:lnTo>
                    <a:pt x="258" y="2451"/>
                  </a:lnTo>
                  <a:lnTo>
                    <a:pt x="255" y="2456"/>
                  </a:lnTo>
                  <a:lnTo>
                    <a:pt x="264" y="2460"/>
                  </a:lnTo>
                  <a:lnTo>
                    <a:pt x="275" y="2465"/>
                  </a:lnTo>
                  <a:lnTo>
                    <a:pt x="275" y="2469"/>
                  </a:lnTo>
                  <a:lnTo>
                    <a:pt x="266" y="2474"/>
                  </a:lnTo>
                  <a:lnTo>
                    <a:pt x="255" y="2478"/>
                  </a:lnTo>
                  <a:lnTo>
                    <a:pt x="241" y="2483"/>
                  </a:lnTo>
                  <a:lnTo>
                    <a:pt x="221" y="2487"/>
                  </a:lnTo>
                  <a:lnTo>
                    <a:pt x="202" y="2492"/>
                  </a:lnTo>
                  <a:lnTo>
                    <a:pt x="185" y="2496"/>
                  </a:lnTo>
                  <a:lnTo>
                    <a:pt x="151" y="2501"/>
                  </a:lnTo>
                  <a:lnTo>
                    <a:pt x="98" y="2505"/>
                  </a:lnTo>
                  <a:lnTo>
                    <a:pt x="71" y="2510"/>
                  </a:lnTo>
                  <a:lnTo>
                    <a:pt x="62" y="2514"/>
                  </a:lnTo>
                  <a:lnTo>
                    <a:pt x="56" y="2519"/>
                  </a:lnTo>
                  <a:lnTo>
                    <a:pt x="56" y="2523"/>
                  </a:lnTo>
                  <a:lnTo>
                    <a:pt x="54" y="2528"/>
                  </a:lnTo>
                  <a:lnTo>
                    <a:pt x="49" y="2532"/>
                  </a:lnTo>
                  <a:lnTo>
                    <a:pt x="43" y="2537"/>
                  </a:lnTo>
                  <a:lnTo>
                    <a:pt x="39" y="2541"/>
                  </a:lnTo>
                  <a:lnTo>
                    <a:pt x="34" y="2546"/>
                  </a:lnTo>
                  <a:lnTo>
                    <a:pt x="32" y="2550"/>
                  </a:lnTo>
                  <a:lnTo>
                    <a:pt x="30" y="2555"/>
                  </a:lnTo>
                  <a:lnTo>
                    <a:pt x="30" y="2559"/>
                  </a:lnTo>
                  <a:lnTo>
                    <a:pt x="17" y="2564"/>
                  </a:lnTo>
                  <a:lnTo>
                    <a:pt x="22" y="2568"/>
                  </a:lnTo>
                  <a:lnTo>
                    <a:pt x="0" y="2573"/>
                  </a:lnTo>
                  <a:lnTo>
                    <a:pt x="49" y="2577"/>
                  </a:lnTo>
                  <a:lnTo>
                    <a:pt x="83" y="2582"/>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Freeform 289"/>
            <p:cNvSpPr/>
            <p:nvPr/>
          </p:nvSpPr>
          <p:spPr>
            <a:xfrm>
              <a:off x="3581280" y="2157480"/>
              <a:ext cx="501840" cy="4379760"/>
            </a:xfrm>
            <a:custGeom>
              <a:avLst/>
              <a:gdLst>
                <a:gd name="textAreaLeft" fmla="*/ 0 w 501840"/>
                <a:gd name="textAreaRight" fmla="*/ 502200 w 501840"/>
                <a:gd name="textAreaTop" fmla="*/ 0 h 4379760"/>
                <a:gd name="textAreaBottom" fmla="*/ 4380120 h 4379760"/>
              </a:gdLst>
              <a:ahLst/>
              <a:rect l="textAreaLeft" t="textAreaTop" r="textAreaRight" b="textAreaBottom"/>
              <a:pathLst>
                <a:path w="297" h="2582">
                  <a:moveTo>
                    <a:pt x="223" y="0"/>
                  </a:moveTo>
                  <a:lnTo>
                    <a:pt x="223" y="4"/>
                  </a:lnTo>
                  <a:lnTo>
                    <a:pt x="225" y="9"/>
                  </a:lnTo>
                  <a:lnTo>
                    <a:pt x="216" y="13"/>
                  </a:lnTo>
                  <a:lnTo>
                    <a:pt x="208" y="18"/>
                  </a:lnTo>
                  <a:lnTo>
                    <a:pt x="199" y="22"/>
                  </a:lnTo>
                  <a:lnTo>
                    <a:pt x="195" y="27"/>
                  </a:lnTo>
                  <a:lnTo>
                    <a:pt x="191" y="31"/>
                  </a:lnTo>
                  <a:lnTo>
                    <a:pt x="197" y="36"/>
                  </a:lnTo>
                  <a:lnTo>
                    <a:pt x="208" y="40"/>
                  </a:lnTo>
                  <a:lnTo>
                    <a:pt x="212" y="45"/>
                  </a:lnTo>
                  <a:lnTo>
                    <a:pt x="210" y="49"/>
                  </a:lnTo>
                  <a:lnTo>
                    <a:pt x="199" y="54"/>
                  </a:lnTo>
                  <a:lnTo>
                    <a:pt x="182" y="58"/>
                  </a:lnTo>
                  <a:lnTo>
                    <a:pt x="187" y="63"/>
                  </a:lnTo>
                  <a:lnTo>
                    <a:pt x="195" y="67"/>
                  </a:lnTo>
                  <a:lnTo>
                    <a:pt x="206" y="72"/>
                  </a:lnTo>
                  <a:lnTo>
                    <a:pt x="212" y="76"/>
                  </a:lnTo>
                  <a:lnTo>
                    <a:pt x="204" y="81"/>
                  </a:lnTo>
                  <a:lnTo>
                    <a:pt x="191" y="85"/>
                  </a:lnTo>
                  <a:lnTo>
                    <a:pt x="185" y="90"/>
                  </a:lnTo>
                  <a:lnTo>
                    <a:pt x="185" y="94"/>
                  </a:lnTo>
                  <a:lnTo>
                    <a:pt x="189" y="99"/>
                  </a:lnTo>
                  <a:lnTo>
                    <a:pt x="197" y="103"/>
                  </a:lnTo>
                  <a:lnTo>
                    <a:pt x="191" y="108"/>
                  </a:lnTo>
                  <a:lnTo>
                    <a:pt x="185" y="112"/>
                  </a:lnTo>
                  <a:lnTo>
                    <a:pt x="178" y="117"/>
                  </a:lnTo>
                  <a:lnTo>
                    <a:pt x="178" y="121"/>
                  </a:lnTo>
                  <a:lnTo>
                    <a:pt x="182" y="126"/>
                  </a:lnTo>
                  <a:lnTo>
                    <a:pt x="185" y="130"/>
                  </a:lnTo>
                  <a:lnTo>
                    <a:pt x="193" y="135"/>
                  </a:lnTo>
                  <a:lnTo>
                    <a:pt x="187" y="139"/>
                  </a:lnTo>
                  <a:lnTo>
                    <a:pt x="178" y="144"/>
                  </a:lnTo>
                  <a:lnTo>
                    <a:pt x="161" y="148"/>
                  </a:lnTo>
                  <a:lnTo>
                    <a:pt x="144" y="153"/>
                  </a:lnTo>
                  <a:lnTo>
                    <a:pt x="123" y="157"/>
                  </a:lnTo>
                  <a:lnTo>
                    <a:pt x="91" y="162"/>
                  </a:lnTo>
                  <a:lnTo>
                    <a:pt x="51" y="166"/>
                  </a:lnTo>
                  <a:lnTo>
                    <a:pt x="42" y="171"/>
                  </a:lnTo>
                  <a:lnTo>
                    <a:pt x="40" y="175"/>
                  </a:lnTo>
                  <a:lnTo>
                    <a:pt x="29" y="180"/>
                  </a:lnTo>
                  <a:lnTo>
                    <a:pt x="27" y="184"/>
                  </a:lnTo>
                  <a:lnTo>
                    <a:pt x="40" y="189"/>
                  </a:lnTo>
                  <a:lnTo>
                    <a:pt x="68" y="193"/>
                  </a:lnTo>
                  <a:lnTo>
                    <a:pt x="146" y="198"/>
                  </a:lnTo>
                  <a:lnTo>
                    <a:pt x="206" y="202"/>
                  </a:lnTo>
                  <a:lnTo>
                    <a:pt x="221" y="207"/>
                  </a:lnTo>
                  <a:lnTo>
                    <a:pt x="197" y="211"/>
                  </a:lnTo>
                  <a:lnTo>
                    <a:pt x="91" y="216"/>
                  </a:lnTo>
                  <a:lnTo>
                    <a:pt x="61" y="220"/>
                  </a:lnTo>
                  <a:lnTo>
                    <a:pt x="46" y="225"/>
                  </a:lnTo>
                  <a:lnTo>
                    <a:pt x="59" y="229"/>
                  </a:lnTo>
                  <a:lnTo>
                    <a:pt x="89" y="234"/>
                  </a:lnTo>
                  <a:lnTo>
                    <a:pt x="91" y="238"/>
                  </a:lnTo>
                  <a:lnTo>
                    <a:pt x="78" y="243"/>
                  </a:lnTo>
                  <a:lnTo>
                    <a:pt x="72" y="247"/>
                  </a:lnTo>
                  <a:lnTo>
                    <a:pt x="76" y="252"/>
                  </a:lnTo>
                  <a:lnTo>
                    <a:pt x="68" y="256"/>
                  </a:lnTo>
                  <a:lnTo>
                    <a:pt x="66" y="261"/>
                  </a:lnTo>
                  <a:lnTo>
                    <a:pt x="66" y="265"/>
                  </a:lnTo>
                  <a:lnTo>
                    <a:pt x="68" y="270"/>
                  </a:lnTo>
                  <a:lnTo>
                    <a:pt x="70" y="274"/>
                  </a:lnTo>
                  <a:lnTo>
                    <a:pt x="70" y="279"/>
                  </a:lnTo>
                  <a:lnTo>
                    <a:pt x="70" y="283"/>
                  </a:lnTo>
                  <a:lnTo>
                    <a:pt x="72" y="288"/>
                  </a:lnTo>
                  <a:lnTo>
                    <a:pt x="74" y="292"/>
                  </a:lnTo>
                  <a:lnTo>
                    <a:pt x="76" y="297"/>
                  </a:lnTo>
                  <a:lnTo>
                    <a:pt x="72" y="301"/>
                  </a:lnTo>
                  <a:lnTo>
                    <a:pt x="63" y="306"/>
                  </a:lnTo>
                  <a:lnTo>
                    <a:pt x="63" y="310"/>
                  </a:lnTo>
                  <a:lnTo>
                    <a:pt x="68" y="315"/>
                  </a:lnTo>
                  <a:lnTo>
                    <a:pt x="70" y="319"/>
                  </a:lnTo>
                  <a:lnTo>
                    <a:pt x="74" y="324"/>
                  </a:lnTo>
                  <a:lnTo>
                    <a:pt x="74" y="328"/>
                  </a:lnTo>
                  <a:lnTo>
                    <a:pt x="74" y="333"/>
                  </a:lnTo>
                  <a:lnTo>
                    <a:pt x="70" y="337"/>
                  </a:lnTo>
                  <a:lnTo>
                    <a:pt x="66" y="342"/>
                  </a:lnTo>
                  <a:lnTo>
                    <a:pt x="68" y="346"/>
                  </a:lnTo>
                  <a:lnTo>
                    <a:pt x="74" y="351"/>
                  </a:lnTo>
                  <a:lnTo>
                    <a:pt x="74" y="355"/>
                  </a:lnTo>
                  <a:lnTo>
                    <a:pt x="76" y="360"/>
                  </a:lnTo>
                  <a:lnTo>
                    <a:pt x="93" y="364"/>
                  </a:lnTo>
                  <a:lnTo>
                    <a:pt x="95" y="369"/>
                  </a:lnTo>
                  <a:lnTo>
                    <a:pt x="95" y="373"/>
                  </a:lnTo>
                  <a:lnTo>
                    <a:pt x="100" y="378"/>
                  </a:lnTo>
                  <a:lnTo>
                    <a:pt x="100" y="382"/>
                  </a:lnTo>
                  <a:lnTo>
                    <a:pt x="95" y="387"/>
                  </a:lnTo>
                  <a:lnTo>
                    <a:pt x="97" y="391"/>
                  </a:lnTo>
                  <a:lnTo>
                    <a:pt x="95" y="396"/>
                  </a:lnTo>
                  <a:lnTo>
                    <a:pt x="93" y="400"/>
                  </a:lnTo>
                  <a:lnTo>
                    <a:pt x="89" y="405"/>
                  </a:lnTo>
                  <a:lnTo>
                    <a:pt x="87" y="409"/>
                  </a:lnTo>
                  <a:lnTo>
                    <a:pt x="89" y="414"/>
                  </a:lnTo>
                  <a:lnTo>
                    <a:pt x="89" y="418"/>
                  </a:lnTo>
                  <a:lnTo>
                    <a:pt x="104" y="423"/>
                  </a:lnTo>
                  <a:lnTo>
                    <a:pt x="106" y="427"/>
                  </a:lnTo>
                  <a:lnTo>
                    <a:pt x="106" y="432"/>
                  </a:lnTo>
                  <a:lnTo>
                    <a:pt x="102" y="436"/>
                  </a:lnTo>
                  <a:lnTo>
                    <a:pt x="97" y="441"/>
                  </a:lnTo>
                  <a:lnTo>
                    <a:pt x="95" y="445"/>
                  </a:lnTo>
                  <a:lnTo>
                    <a:pt x="95" y="450"/>
                  </a:lnTo>
                  <a:lnTo>
                    <a:pt x="95" y="454"/>
                  </a:lnTo>
                  <a:lnTo>
                    <a:pt x="97" y="459"/>
                  </a:lnTo>
                  <a:lnTo>
                    <a:pt x="97" y="463"/>
                  </a:lnTo>
                  <a:lnTo>
                    <a:pt x="93" y="468"/>
                  </a:lnTo>
                  <a:lnTo>
                    <a:pt x="91" y="472"/>
                  </a:lnTo>
                  <a:lnTo>
                    <a:pt x="93" y="477"/>
                  </a:lnTo>
                  <a:lnTo>
                    <a:pt x="87" y="481"/>
                  </a:lnTo>
                  <a:lnTo>
                    <a:pt x="87" y="486"/>
                  </a:lnTo>
                  <a:lnTo>
                    <a:pt x="85" y="490"/>
                  </a:lnTo>
                  <a:lnTo>
                    <a:pt x="85" y="495"/>
                  </a:lnTo>
                  <a:lnTo>
                    <a:pt x="85" y="499"/>
                  </a:lnTo>
                  <a:lnTo>
                    <a:pt x="85" y="504"/>
                  </a:lnTo>
                  <a:lnTo>
                    <a:pt x="83" y="508"/>
                  </a:lnTo>
                  <a:lnTo>
                    <a:pt x="80" y="512"/>
                  </a:lnTo>
                  <a:lnTo>
                    <a:pt x="87" y="517"/>
                  </a:lnTo>
                  <a:lnTo>
                    <a:pt x="83" y="521"/>
                  </a:lnTo>
                  <a:lnTo>
                    <a:pt x="68" y="526"/>
                  </a:lnTo>
                  <a:lnTo>
                    <a:pt x="68" y="530"/>
                  </a:lnTo>
                  <a:lnTo>
                    <a:pt x="68" y="535"/>
                  </a:lnTo>
                  <a:lnTo>
                    <a:pt x="68" y="539"/>
                  </a:lnTo>
                  <a:lnTo>
                    <a:pt x="68" y="544"/>
                  </a:lnTo>
                  <a:lnTo>
                    <a:pt x="63" y="548"/>
                  </a:lnTo>
                  <a:lnTo>
                    <a:pt x="63" y="553"/>
                  </a:lnTo>
                  <a:lnTo>
                    <a:pt x="66" y="557"/>
                  </a:lnTo>
                  <a:lnTo>
                    <a:pt x="59" y="562"/>
                  </a:lnTo>
                  <a:lnTo>
                    <a:pt x="57" y="566"/>
                  </a:lnTo>
                  <a:lnTo>
                    <a:pt x="63" y="571"/>
                  </a:lnTo>
                  <a:lnTo>
                    <a:pt x="68" y="575"/>
                  </a:lnTo>
                  <a:lnTo>
                    <a:pt x="74" y="580"/>
                  </a:lnTo>
                  <a:lnTo>
                    <a:pt x="80" y="584"/>
                  </a:lnTo>
                  <a:lnTo>
                    <a:pt x="80" y="589"/>
                  </a:lnTo>
                  <a:lnTo>
                    <a:pt x="76" y="593"/>
                  </a:lnTo>
                  <a:lnTo>
                    <a:pt x="80" y="598"/>
                  </a:lnTo>
                  <a:lnTo>
                    <a:pt x="80" y="602"/>
                  </a:lnTo>
                  <a:lnTo>
                    <a:pt x="80" y="607"/>
                  </a:lnTo>
                  <a:lnTo>
                    <a:pt x="87" y="611"/>
                  </a:lnTo>
                  <a:lnTo>
                    <a:pt x="91" y="616"/>
                  </a:lnTo>
                  <a:lnTo>
                    <a:pt x="93" y="620"/>
                  </a:lnTo>
                  <a:lnTo>
                    <a:pt x="93" y="625"/>
                  </a:lnTo>
                  <a:lnTo>
                    <a:pt x="95" y="629"/>
                  </a:lnTo>
                  <a:lnTo>
                    <a:pt x="97" y="634"/>
                  </a:lnTo>
                  <a:lnTo>
                    <a:pt x="93" y="638"/>
                  </a:lnTo>
                  <a:lnTo>
                    <a:pt x="91" y="643"/>
                  </a:lnTo>
                  <a:lnTo>
                    <a:pt x="91" y="647"/>
                  </a:lnTo>
                  <a:lnTo>
                    <a:pt x="91" y="652"/>
                  </a:lnTo>
                  <a:lnTo>
                    <a:pt x="87" y="656"/>
                  </a:lnTo>
                  <a:lnTo>
                    <a:pt x="87" y="661"/>
                  </a:lnTo>
                  <a:lnTo>
                    <a:pt x="89" y="665"/>
                  </a:lnTo>
                  <a:lnTo>
                    <a:pt x="87" y="670"/>
                  </a:lnTo>
                  <a:lnTo>
                    <a:pt x="83" y="674"/>
                  </a:lnTo>
                  <a:lnTo>
                    <a:pt x="83" y="679"/>
                  </a:lnTo>
                  <a:lnTo>
                    <a:pt x="83" y="683"/>
                  </a:lnTo>
                  <a:lnTo>
                    <a:pt x="83" y="688"/>
                  </a:lnTo>
                  <a:lnTo>
                    <a:pt x="78" y="692"/>
                  </a:lnTo>
                  <a:lnTo>
                    <a:pt x="63" y="697"/>
                  </a:lnTo>
                  <a:lnTo>
                    <a:pt x="53" y="701"/>
                  </a:lnTo>
                  <a:lnTo>
                    <a:pt x="51" y="706"/>
                  </a:lnTo>
                  <a:lnTo>
                    <a:pt x="53" y="710"/>
                  </a:lnTo>
                  <a:lnTo>
                    <a:pt x="66" y="715"/>
                  </a:lnTo>
                  <a:lnTo>
                    <a:pt x="68" y="719"/>
                  </a:lnTo>
                  <a:lnTo>
                    <a:pt x="74" y="724"/>
                  </a:lnTo>
                  <a:lnTo>
                    <a:pt x="78" y="728"/>
                  </a:lnTo>
                  <a:lnTo>
                    <a:pt x="91" y="733"/>
                  </a:lnTo>
                  <a:lnTo>
                    <a:pt x="95" y="737"/>
                  </a:lnTo>
                  <a:lnTo>
                    <a:pt x="89" y="742"/>
                  </a:lnTo>
                  <a:lnTo>
                    <a:pt x="87" y="746"/>
                  </a:lnTo>
                  <a:lnTo>
                    <a:pt x="83" y="751"/>
                  </a:lnTo>
                  <a:lnTo>
                    <a:pt x="74" y="755"/>
                  </a:lnTo>
                  <a:lnTo>
                    <a:pt x="68" y="760"/>
                  </a:lnTo>
                  <a:lnTo>
                    <a:pt x="66" y="764"/>
                  </a:lnTo>
                  <a:lnTo>
                    <a:pt x="68" y="769"/>
                  </a:lnTo>
                  <a:lnTo>
                    <a:pt x="68" y="773"/>
                  </a:lnTo>
                  <a:lnTo>
                    <a:pt x="66" y="778"/>
                  </a:lnTo>
                  <a:lnTo>
                    <a:pt x="61" y="782"/>
                  </a:lnTo>
                  <a:lnTo>
                    <a:pt x="63" y="787"/>
                  </a:lnTo>
                  <a:lnTo>
                    <a:pt x="61" y="791"/>
                  </a:lnTo>
                  <a:lnTo>
                    <a:pt x="61" y="796"/>
                  </a:lnTo>
                  <a:lnTo>
                    <a:pt x="61" y="800"/>
                  </a:lnTo>
                  <a:lnTo>
                    <a:pt x="63" y="805"/>
                  </a:lnTo>
                  <a:lnTo>
                    <a:pt x="63" y="809"/>
                  </a:lnTo>
                  <a:lnTo>
                    <a:pt x="63" y="814"/>
                  </a:lnTo>
                  <a:lnTo>
                    <a:pt x="74" y="818"/>
                  </a:lnTo>
                  <a:lnTo>
                    <a:pt x="85" y="823"/>
                  </a:lnTo>
                  <a:lnTo>
                    <a:pt x="93" y="827"/>
                  </a:lnTo>
                  <a:lnTo>
                    <a:pt x="100" y="832"/>
                  </a:lnTo>
                  <a:lnTo>
                    <a:pt x="117" y="836"/>
                  </a:lnTo>
                  <a:lnTo>
                    <a:pt x="123" y="841"/>
                  </a:lnTo>
                  <a:lnTo>
                    <a:pt x="138" y="845"/>
                  </a:lnTo>
                  <a:lnTo>
                    <a:pt x="163" y="850"/>
                  </a:lnTo>
                  <a:lnTo>
                    <a:pt x="176" y="854"/>
                  </a:lnTo>
                  <a:lnTo>
                    <a:pt x="174" y="859"/>
                  </a:lnTo>
                  <a:lnTo>
                    <a:pt x="168" y="863"/>
                  </a:lnTo>
                  <a:lnTo>
                    <a:pt x="165" y="868"/>
                  </a:lnTo>
                  <a:lnTo>
                    <a:pt x="153" y="872"/>
                  </a:lnTo>
                  <a:lnTo>
                    <a:pt x="140" y="877"/>
                  </a:lnTo>
                  <a:lnTo>
                    <a:pt x="129" y="881"/>
                  </a:lnTo>
                  <a:lnTo>
                    <a:pt x="127" y="886"/>
                  </a:lnTo>
                  <a:lnTo>
                    <a:pt x="121" y="890"/>
                  </a:lnTo>
                  <a:lnTo>
                    <a:pt x="102" y="895"/>
                  </a:lnTo>
                  <a:lnTo>
                    <a:pt x="87" y="899"/>
                  </a:lnTo>
                  <a:lnTo>
                    <a:pt x="78" y="904"/>
                  </a:lnTo>
                  <a:lnTo>
                    <a:pt x="78" y="908"/>
                  </a:lnTo>
                  <a:lnTo>
                    <a:pt x="85" y="913"/>
                  </a:lnTo>
                  <a:lnTo>
                    <a:pt x="95" y="917"/>
                  </a:lnTo>
                  <a:lnTo>
                    <a:pt x="97" y="922"/>
                  </a:lnTo>
                  <a:lnTo>
                    <a:pt x="110" y="926"/>
                  </a:lnTo>
                  <a:lnTo>
                    <a:pt x="108" y="931"/>
                  </a:lnTo>
                  <a:lnTo>
                    <a:pt x="110" y="935"/>
                  </a:lnTo>
                  <a:lnTo>
                    <a:pt x="95" y="940"/>
                  </a:lnTo>
                  <a:lnTo>
                    <a:pt x="91" y="944"/>
                  </a:lnTo>
                  <a:lnTo>
                    <a:pt x="89" y="949"/>
                  </a:lnTo>
                  <a:lnTo>
                    <a:pt x="89" y="953"/>
                  </a:lnTo>
                  <a:lnTo>
                    <a:pt x="76" y="958"/>
                  </a:lnTo>
                  <a:lnTo>
                    <a:pt x="76" y="962"/>
                  </a:lnTo>
                  <a:lnTo>
                    <a:pt x="83" y="967"/>
                  </a:lnTo>
                  <a:lnTo>
                    <a:pt x="91" y="971"/>
                  </a:lnTo>
                  <a:lnTo>
                    <a:pt x="100" y="976"/>
                  </a:lnTo>
                  <a:lnTo>
                    <a:pt x="114" y="980"/>
                  </a:lnTo>
                  <a:lnTo>
                    <a:pt x="129" y="985"/>
                  </a:lnTo>
                  <a:lnTo>
                    <a:pt x="161" y="989"/>
                  </a:lnTo>
                  <a:lnTo>
                    <a:pt x="185" y="994"/>
                  </a:lnTo>
                  <a:lnTo>
                    <a:pt x="187" y="998"/>
                  </a:lnTo>
                  <a:lnTo>
                    <a:pt x="197" y="1003"/>
                  </a:lnTo>
                  <a:lnTo>
                    <a:pt x="208" y="1007"/>
                  </a:lnTo>
                  <a:lnTo>
                    <a:pt x="229" y="1012"/>
                  </a:lnTo>
                  <a:lnTo>
                    <a:pt x="235" y="1016"/>
                  </a:lnTo>
                  <a:lnTo>
                    <a:pt x="242" y="1021"/>
                  </a:lnTo>
                  <a:lnTo>
                    <a:pt x="248" y="1025"/>
                  </a:lnTo>
                  <a:lnTo>
                    <a:pt x="263" y="1030"/>
                  </a:lnTo>
                  <a:lnTo>
                    <a:pt x="280" y="1034"/>
                  </a:lnTo>
                  <a:lnTo>
                    <a:pt x="284" y="1039"/>
                  </a:lnTo>
                  <a:lnTo>
                    <a:pt x="284" y="1043"/>
                  </a:lnTo>
                  <a:lnTo>
                    <a:pt x="282" y="1048"/>
                  </a:lnTo>
                  <a:lnTo>
                    <a:pt x="280" y="1052"/>
                  </a:lnTo>
                  <a:lnTo>
                    <a:pt x="282" y="1057"/>
                  </a:lnTo>
                  <a:lnTo>
                    <a:pt x="282" y="1061"/>
                  </a:lnTo>
                  <a:lnTo>
                    <a:pt x="278" y="1066"/>
                  </a:lnTo>
                  <a:lnTo>
                    <a:pt x="276" y="1070"/>
                  </a:lnTo>
                  <a:lnTo>
                    <a:pt x="267" y="1075"/>
                  </a:lnTo>
                  <a:lnTo>
                    <a:pt x="261" y="1079"/>
                  </a:lnTo>
                  <a:lnTo>
                    <a:pt x="252" y="1084"/>
                  </a:lnTo>
                  <a:lnTo>
                    <a:pt x="255" y="1088"/>
                  </a:lnTo>
                  <a:lnTo>
                    <a:pt x="257" y="1093"/>
                  </a:lnTo>
                  <a:lnTo>
                    <a:pt x="257" y="1097"/>
                  </a:lnTo>
                  <a:lnTo>
                    <a:pt x="261" y="1102"/>
                  </a:lnTo>
                  <a:lnTo>
                    <a:pt x="265" y="1106"/>
                  </a:lnTo>
                  <a:lnTo>
                    <a:pt x="269" y="1111"/>
                  </a:lnTo>
                  <a:lnTo>
                    <a:pt x="274" y="1115"/>
                  </a:lnTo>
                  <a:lnTo>
                    <a:pt x="274" y="1120"/>
                  </a:lnTo>
                  <a:lnTo>
                    <a:pt x="274" y="1124"/>
                  </a:lnTo>
                  <a:lnTo>
                    <a:pt x="276" y="1129"/>
                  </a:lnTo>
                  <a:lnTo>
                    <a:pt x="276" y="1133"/>
                  </a:lnTo>
                  <a:lnTo>
                    <a:pt x="274" y="1138"/>
                  </a:lnTo>
                  <a:lnTo>
                    <a:pt x="265" y="1142"/>
                  </a:lnTo>
                  <a:lnTo>
                    <a:pt x="261" y="1147"/>
                  </a:lnTo>
                  <a:lnTo>
                    <a:pt x="259" y="1151"/>
                  </a:lnTo>
                  <a:lnTo>
                    <a:pt x="263" y="1156"/>
                  </a:lnTo>
                  <a:lnTo>
                    <a:pt x="263" y="1160"/>
                  </a:lnTo>
                  <a:lnTo>
                    <a:pt x="259" y="1165"/>
                  </a:lnTo>
                  <a:lnTo>
                    <a:pt x="265" y="1169"/>
                  </a:lnTo>
                  <a:lnTo>
                    <a:pt x="265" y="1174"/>
                  </a:lnTo>
                  <a:lnTo>
                    <a:pt x="272" y="1178"/>
                  </a:lnTo>
                  <a:lnTo>
                    <a:pt x="272" y="1183"/>
                  </a:lnTo>
                  <a:lnTo>
                    <a:pt x="278" y="1187"/>
                  </a:lnTo>
                  <a:lnTo>
                    <a:pt x="289" y="1192"/>
                  </a:lnTo>
                  <a:lnTo>
                    <a:pt x="297" y="1196"/>
                  </a:lnTo>
                  <a:lnTo>
                    <a:pt x="293" y="1201"/>
                  </a:lnTo>
                  <a:lnTo>
                    <a:pt x="295" y="1205"/>
                  </a:lnTo>
                  <a:lnTo>
                    <a:pt x="278" y="1210"/>
                  </a:lnTo>
                  <a:lnTo>
                    <a:pt x="259" y="1214"/>
                  </a:lnTo>
                  <a:lnTo>
                    <a:pt x="229" y="1219"/>
                  </a:lnTo>
                  <a:lnTo>
                    <a:pt x="187" y="1223"/>
                  </a:lnTo>
                  <a:lnTo>
                    <a:pt x="180" y="1228"/>
                  </a:lnTo>
                  <a:lnTo>
                    <a:pt x="185" y="1232"/>
                  </a:lnTo>
                  <a:lnTo>
                    <a:pt x="159" y="1237"/>
                  </a:lnTo>
                  <a:lnTo>
                    <a:pt x="157" y="1241"/>
                  </a:lnTo>
                  <a:lnTo>
                    <a:pt x="157" y="1246"/>
                  </a:lnTo>
                  <a:lnTo>
                    <a:pt x="157" y="1250"/>
                  </a:lnTo>
                  <a:lnTo>
                    <a:pt x="159" y="1255"/>
                  </a:lnTo>
                  <a:lnTo>
                    <a:pt x="172" y="1259"/>
                  </a:lnTo>
                  <a:lnTo>
                    <a:pt x="172" y="1264"/>
                  </a:lnTo>
                  <a:lnTo>
                    <a:pt x="163" y="1268"/>
                  </a:lnTo>
                  <a:lnTo>
                    <a:pt x="165" y="1273"/>
                  </a:lnTo>
                  <a:lnTo>
                    <a:pt x="170" y="1277"/>
                  </a:lnTo>
                  <a:lnTo>
                    <a:pt x="165" y="1282"/>
                  </a:lnTo>
                  <a:lnTo>
                    <a:pt x="161" y="1286"/>
                  </a:lnTo>
                  <a:lnTo>
                    <a:pt x="151" y="1291"/>
                  </a:lnTo>
                  <a:lnTo>
                    <a:pt x="142" y="1295"/>
                  </a:lnTo>
                  <a:lnTo>
                    <a:pt x="136" y="1300"/>
                  </a:lnTo>
                  <a:lnTo>
                    <a:pt x="131" y="1304"/>
                  </a:lnTo>
                  <a:lnTo>
                    <a:pt x="129" y="1309"/>
                  </a:lnTo>
                  <a:lnTo>
                    <a:pt x="136" y="1313"/>
                  </a:lnTo>
                  <a:lnTo>
                    <a:pt x="142" y="1318"/>
                  </a:lnTo>
                  <a:lnTo>
                    <a:pt x="148" y="1322"/>
                  </a:lnTo>
                  <a:lnTo>
                    <a:pt x="155" y="1327"/>
                  </a:lnTo>
                  <a:lnTo>
                    <a:pt x="146" y="1331"/>
                  </a:lnTo>
                  <a:lnTo>
                    <a:pt x="142" y="1336"/>
                  </a:lnTo>
                  <a:lnTo>
                    <a:pt x="138" y="1340"/>
                  </a:lnTo>
                  <a:lnTo>
                    <a:pt x="114" y="1345"/>
                  </a:lnTo>
                  <a:lnTo>
                    <a:pt x="104" y="1349"/>
                  </a:lnTo>
                  <a:lnTo>
                    <a:pt x="97" y="1354"/>
                  </a:lnTo>
                  <a:lnTo>
                    <a:pt x="95" y="1358"/>
                  </a:lnTo>
                  <a:lnTo>
                    <a:pt x="91" y="1363"/>
                  </a:lnTo>
                  <a:lnTo>
                    <a:pt x="85" y="1367"/>
                  </a:lnTo>
                  <a:lnTo>
                    <a:pt x="85" y="1372"/>
                  </a:lnTo>
                  <a:lnTo>
                    <a:pt x="89" y="1376"/>
                  </a:lnTo>
                  <a:lnTo>
                    <a:pt x="87" y="1381"/>
                  </a:lnTo>
                  <a:lnTo>
                    <a:pt x="87" y="1385"/>
                  </a:lnTo>
                  <a:lnTo>
                    <a:pt x="87" y="1390"/>
                  </a:lnTo>
                  <a:lnTo>
                    <a:pt x="85" y="1394"/>
                  </a:lnTo>
                  <a:lnTo>
                    <a:pt x="78" y="1399"/>
                  </a:lnTo>
                  <a:lnTo>
                    <a:pt x="80" y="1403"/>
                  </a:lnTo>
                  <a:lnTo>
                    <a:pt x="83" y="1408"/>
                  </a:lnTo>
                  <a:lnTo>
                    <a:pt x="83" y="1412"/>
                  </a:lnTo>
                  <a:lnTo>
                    <a:pt x="85" y="1417"/>
                  </a:lnTo>
                  <a:lnTo>
                    <a:pt x="93" y="1421"/>
                  </a:lnTo>
                  <a:lnTo>
                    <a:pt x="102" y="1426"/>
                  </a:lnTo>
                  <a:lnTo>
                    <a:pt x="95" y="1430"/>
                  </a:lnTo>
                  <a:lnTo>
                    <a:pt x="93" y="1435"/>
                  </a:lnTo>
                  <a:lnTo>
                    <a:pt x="91" y="1439"/>
                  </a:lnTo>
                  <a:lnTo>
                    <a:pt x="91" y="1444"/>
                  </a:lnTo>
                  <a:lnTo>
                    <a:pt x="89" y="1448"/>
                  </a:lnTo>
                  <a:lnTo>
                    <a:pt x="83" y="1453"/>
                  </a:lnTo>
                  <a:lnTo>
                    <a:pt x="80" y="1457"/>
                  </a:lnTo>
                  <a:lnTo>
                    <a:pt x="83" y="1462"/>
                  </a:lnTo>
                  <a:lnTo>
                    <a:pt x="85" y="1466"/>
                  </a:lnTo>
                  <a:lnTo>
                    <a:pt x="91" y="1471"/>
                  </a:lnTo>
                  <a:lnTo>
                    <a:pt x="93" y="1475"/>
                  </a:lnTo>
                  <a:lnTo>
                    <a:pt x="91" y="1480"/>
                  </a:lnTo>
                  <a:lnTo>
                    <a:pt x="102" y="1484"/>
                  </a:lnTo>
                  <a:lnTo>
                    <a:pt x="104" y="1489"/>
                  </a:lnTo>
                  <a:lnTo>
                    <a:pt x="100" y="1493"/>
                  </a:lnTo>
                  <a:lnTo>
                    <a:pt x="95" y="1498"/>
                  </a:lnTo>
                  <a:lnTo>
                    <a:pt x="95" y="1502"/>
                  </a:lnTo>
                  <a:lnTo>
                    <a:pt x="85" y="1507"/>
                  </a:lnTo>
                  <a:lnTo>
                    <a:pt x="85" y="1511"/>
                  </a:lnTo>
                  <a:lnTo>
                    <a:pt x="91" y="1516"/>
                  </a:lnTo>
                  <a:lnTo>
                    <a:pt x="100" y="1520"/>
                  </a:lnTo>
                  <a:lnTo>
                    <a:pt x="102" y="1525"/>
                  </a:lnTo>
                  <a:lnTo>
                    <a:pt x="93" y="1529"/>
                  </a:lnTo>
                  <a:lnTo>
                    <a:pt x="80" y="1534"/>
                  </a:lnTo>
                  <a:lnTo>
                    <a:pt x="76" y="1538"/>
                  </a:lnTo>
                  <a:lnTo>
                    <a:pt x="61" y="1543"/>
                  </a:lnTo>
                  <a:lnTo>
                    <a:pt x="53" y="1547"/>
                  </a:lnTo>
                  <a:lnTo>
                    <a:pt x="42" y="1552"/>
                  </a:lnTo>
                  <a:lnTo>
                    <a:pt x="40" y="1556"/>
                  </a:lnTo>
                  <a:lnTo>
                    <a:pt x="42" y="1560"/>
                  </a:lnTo>
                  <a:lnTo>
                    <a:pt x="46" y="1565"/>
                  </a:lnTo>
                  <a:lnTo>
                    <a:pt x="36" y="1569"/>
                  </a:lnTo>
                  <a:lnTo>
                    <a:pt x="29" y="1574"/>
                  </a:lnTo>
                  <a:lnTo>
                    <a:pt x="17" y="1578"/>
                  </a:lnTo>
                  <a:lnTo>
                    <a:pt x="12" y="1583"/>
                  </a:lnTo>
                  <a:lnTo>
                    <a:pt x="15" y="1587"/>
                  </a:lnTo>
                  <a:lnTo>
                    <a:pt x="19" y="1592"/>
                  </a:lnTo>
                  <a:lnTo>
                    <a:pt x="15" y="1596"/>
                  </a:lnTo>
                  <a:lnTo>
                    <a:pt x="15" y="1601"/>
                  </a:lnTo>
                  <a:lnTo>
                    <a:pt x="8" y="1605"/>
                  </a:lnTo>
                  <a:lnTo>
                    <a:pt x="2" y="1610"/>
                  </a:lnTo>
                  <a:lnTo>
                    <a:pt x="2" y="1614"/>
                  </a:lnTo>
                  <a:lnTo>
                    <a:pt x="4" y="1619"/>
                  </a:lnTo>
                  <a:lnTo>
                    <a:pt x="8" y="1623"/>
                  </a:lnTo>
                  <a:lnTo>
                    <a:pt x="0" y="1628"/>
                  </a:lnTo>
                  <a:lnTo>
                    <a:pt x="2" y="1632"/>
                  </a:lnTo>
                  <a:lnTo>
                    <a:pt x="2" y="1637"/>
                  </a:lnTo>
                  <a:lnTo>
                    <a:pt x="2" y="1641"/>
                  </a:lnTo>
                  <a:lnTo>
                    <a:pt x="2" y="1646"/>
                  </a:lnTo>
                  <a:lnTo>
                    <a:pt x="4" y="1650"/>
                  </a:lnTo>
                  <a:lnTo>
                    <a:pt x="10" y="1655"/>
                  </a:lnTo>
                  <a:lnTo>
                    <a:pt x="10" y="1659"/>
                  </a:lnTo>
                  <a:lnTo>
                    <a:pt x="17" y="1664"/>
                  </a:lnTo>
                  <a:lnTo>
                    <a:pt x="25" y="1668"/>
                  </a:lnTo>
                  <a:lnTo>
                    <a:pt x="34" y="1673"/>
                  </a:lnTo>
                  <a:lnTo>
                    <a:pt x="38" y="1677"/>
                  </a:lnTo>
                  <a:lnTo>
                    <a:pt x="29" y="1682"/>
                  </a:lnTo>
                  <a:lnTo>
                    <a:pt x="27" y="1686"/>
                  </a:lnTo>
                  <a:lnTo>
                    <a:pt x="34" y="1691"/>
                  </a:lnTo>
                  <a:lnTo>
                    <a:pt x="36" y="1695"/>
                  </a:lnTo>
                  <a:lnTo>
                    <a:pt x="40" y="1700"/>
                  </a:lnTo>
                  <a:lnTo>
                    <a:pt x="42" y="1704"/>
                  </a:lnTo>
                  <a:lnTo>
                    <a:pt x="44" y="1709"/>
                  </a:lnTo>
                  <a:lnTo>
                    <a:pt x="44" y="1713"/>
                  </a:lnTo>
                  <a:lnTo>
                    <a:pt x="46" y="1718"/>
                  </a:lnTo>
                  <a:lnTo>
                    <a:pt x="46" y="1722"/>
                  </a:lnTo>
                  <a:lnTo>
                    <a:pt x="46" y="1727"/>
                  </a:lnTo>
                  <a:lnTo>
                    <a:pt x="51" y="1731"/>
                  </a:lnTo>
                  <a:lnTo>
                    <a:pt x="59" y="1736"/>
                  </a:lnTo>
                  <a:lnTo>
                    <a:pt x="70" y="1740"/>
                  </a:lnTo>
                  <a:lnTo>
                    <a:pt x="76" y="1745"/>
                  </a:lnTo>
                  <a:lnTo>
                    <a:pt x="91" y="1749"/>
                  </a:lnTo>
                  <a:lnTo>
                    <a:pt x="97" y="1754"/>
                  </a:lnTo>
                  <a:lnTo>
                    <a:pt x="97" y="1758"/>
                  </a:lnTo>
                  <a:lnTo>
                    <a:pt x="97" y="1763"/>
                  </a:lnTo>
                  <a:lnTo>
                    <a:pt x="100" y="1767"/>
                  </a:lnTo>
                  <a:lnTo>
                    <a:pt x="104" y="1772"/>
                  </a:lnTo>
                  <a:lnTo>
                    <a:pt x="102" y="1776"/>
                  </a:lnTo>
                  <a:lnTo>
                    <a:pt x="102" y="1781"/>
                  </a:lnTo>
                  <a:lnTo>
                    <a:pt x="102" y="1785"/>
                  </a:lnTo>
                  <a:lnTo>
                    <a:pt x="104" y="1790"/>
                  </a:lnTo>
                  <a:lnTo>
                    <a:pt x="93" y="1794"/>
                  </a:lnTo>
                  <a:lnTo>
                    <a:pt x="91" y="1799"/>
                  </a:lnTo>
                  <a:lnTo>
                    <a:pt x="91" y="1803"/>
                  </a:lnTo>
                  <a:lnTo>
                    <a:pt x="89" y="1808"/>
                  </a:lnTo>
                  <a:lnTo>
                    <a:pt x="87" y="1812"/>
                  </a:lnTo>
                  <a:lnTo>
                    <a:pt x="89" y="1817"/>
                  </a:lnTo>
                  <a:lnTo>
                    <a:pt x="100" y="1821"/>
                  </a:lnTo>
                  <a:lnTo>
                    <a:pt x="104" y="1826"/>
                  </a:lnTo>
                  <a:lnTo>
                    <a:pt x="102" y="1830"/>
                  </a:lnTo>
                  <a:lnTo>
                    <a:pt x="104" y="1835"/>
                  </a:lnTo>
                  <a:lnTo>
                    <a:pt x="95" y="1839"/>
                  </a:lnTo>
                  <a:lnTo>
                    <a:pt x="89" y="1844"/>
                  </a:lnTo>
                  <a:lnTo>
                    <a:pt x="85" y="1848"/>
                  </a:lnTo>
                  <a:lnTo>
                    <a:pt x="83" y="1853"/>
                  </a:lnTo>
                  <a:lnTo>
                    <a:pt x="78" y="1857"/>
                  </a:lnTo>
                  <a:lnTo>
                    <a:pt x="91" y="1862"/>
                  </a:lnTo>
                  <a:lnTo>
                    <a:pt x="102" y="1866"/>
                  </a:lnTo>
                  <a:lnTo>
                    <a:pt x="104" y="1871"/>
                  </a:lnTo>
                  <a:lnTo>
                    <a:pt x="119" y="1875"/>
                  </a:lnTo>
                  <a:lnTo>
                    <a:pt x="121" y="1880"/>
                  </a:lnTo>
                  <a:lnTo>
                    <a:pt x="121" y="1884"/>
                  </a:lnTo>
                  <a:lnTo>
                    <a:pt x="114" y="1889"/>
                  </a:lnTo>
                  <a:lnTo>
                    <a:pt x="110" y="1893"/>
                  </a:lnTo>
                  <a:lnTo>
                    <a:pt x="91" y="1898"/>
                  </a:lnTo>
                  <a:lnTo>
                    <a:pt x="83" y="1902"/>
                  </a:lnTo>
                  <a:lnTo>
                    <a:pt x="80" y="1907"/>
                  </a:lnTo>
                  <a:lnTo>
                    <a:pt x="80" y="1911"/>
                  </a:lnTo>
                  <a:lnTo>
                    <a:pt x="74" y="1916"/>
                  </a:lnTo>
                  <a:lnTo>
                    <a:pt x="80" y="1920"/>
                  </a:lnTo>
                  <a:lnTo>
                    <a:pt x="85" y="1925"/>
                  </a:lnTo>
                  <a:lnTo>
                    <a:pt x="91" y="1929"/>
                  </a:lnTo>
                  <a:lnTo>
                    <a:pt x="100" y="1934"/>
                  </a:lnTo>
                  <a:lnTo>
                    <a:pt x="93" y="1938"/>
                  </a:lnTo>
                  <a:lnTo>
                    <a:pt x="91" y="1943"/>
                  </a:lnTo>
                  <a:lnTo>
                    <a:pt x="85" y="1947"/>
                  </a:lnTo>
                  <a:lnTo>
                    <a:pt x="89" y="1952"/>
                  </a:lnTo>
                  <a:lnTo>
                    <a:pt x="89" y="1956"/>
                  </a:lnTo>
                  <a:lnTo>
                    <a:pt x="89" y="1961"/>
                  </a:lnTo>
                  <a:lnTo>
                    <a:pt x="87" y="1965"/>
                  </a:lnTo>
                  <a:lnTo>
                    <a:pt x="85" y="1970"/>
                  </a:lnTo>
                  <a:lnTo>
                    <a:pt x="85" y="1974"/>
                  </a:lnTo>
                  <a:lnTo>
                    <a:pt x="93" y="1979"/>
                  </a:lnTo>
                  <a:lnTo>
                    <a:pt x="97" y="1983"/>
                  </a:lnTo>
                  <a:lnTo>
                    <a:pt x="91" y="1988"/>
                  </a:lnTo>
                  <a:lnTo>
                    <a:pt x="80" y="1992"/>
                  </a:lnTo>
                  <a:lnTo>
                    <a:pt x="68" y="1997"/>
                  </a:lnTo>
                  <a:lnTo>
                    <a:pt x="63" y="2001"/>
                  </a:lnTo>
                  <a:lnTo>
                    <a:pt x="63" y="2006"/>
                  </a:lnTo>
                  <a:lnTo>
                    <a:pt x="68" y="2010"/>
                  </a:lnTo>
                  <a:lnTo>
                    <a:pt x="78" y="2015"/>
                  </a:lnTo>
                  <a:lnTo>
                    <a:pt x="70" y="2019"/>
                  </a:lnTo>
                  <a:lnTo>
                    <a:pt x="70" y="2024"/>
                  </a:lnTo>
                  <a:lnTo>
                    <a:pt x="70" y="2028"/>
                  </a:lnTo>
                  <a:lnTo>
                    <a:pt x="72" y="2033"/>
                  </a:lnTo>
                  <a:lnTo>
                    <a:pt x="72" y="2037"/>
                  </a:lnTo>
                  <a:lnTo>
                    <a:pt x="68" y="2042"/>
                  </a:lnTo>
                  <a:lnTo>
                    <a:pt x="68" y="2046"/>
                  </a:lnTo>
                  <a:lnTo>
                    <a:pt x="68" y="2051"/>
                  </a:lnTo>
                  <a:lnTo>
                    <a:pt x="87" y="2055"/>
                  </a:lnTo>
                  <a:lnTo>
                    <a:pt x="97" y="2060"/>
                  </a:lnTo>
                  <a:lnTo>
                    <a:pt x="129" y="2064"/>
                  </a:lnTo>
                  <a:lnTo>
                    <a:pt x="155" y="2069"/>
                  </a:lnTo>
                  <a:lnTo>
                    <a:pt x="172" y="2073"/>
                  </a:lnTo>
                  <a:lnTo>
                    <a:pt x="170" y="2078"/>
                  </a:lnTo>
                  <a:lnTo>
                    <a:pt x="174" y="2082"/>
                  </a:lnTo>
                  <a:lnTo>
                    <a:pt x="176" y="2087"/>
                  </a:lnTo>
                  <a:lnTo>
                    <a:pt x="172" y="2091"/>
                  </a:lnTo>
                  <a:lnTo>
                    <a:pt x="168" y="2096"/>
                  </a:lnTo>
                  <a:lnTo>
                    <a:pt x="168" y="2100"/>
                  </a:lnTo>
                  <a:lnTo>
                    <a:pt x="163" y="2105"/>
                  </a:lnTo>
                  <a:lnTo>
                    <a:pt x="157" y="2109"/>
                  </a:lnTo>
                  <a:lnTo>
                    <a:pt x="148" y="2114"/>
                  </a:lnTo>
                  <a:lnTo>
                    <a:pt x="146" y="2118"/>
                  </a:lnTo>
                  <a:lnTo>
                    <a:pt x="148" y="2123"/>
                  </a:lnTo>
                  <a:lnTo>
                    <a:pt x="182" y="2127"/>
                  </a:lnTo>
                  <a:lnTo>
                    <a:pt x="191" y="2132"/>
                  </a:lnTo>
                  <a:lnTo>
                    <a:pt x="204" y="2136"/>
                  </a:lnTo>
                  <a:lnTo>
                    <a:pt x="202" y="2141"/>
                  </a:lnTo>
                  <a:lnTo>
                    <a:pt x="202" y="2145"/>
                  </a:lnTo>
                  <a:lnTo>
                    <a:pt x="195" y="2150"/>
                  </a:lnTo>
                  <a:lnTo>
                    <a:pt x="193" y="2154"/>
                  </a:lnTo>
                  <a:lnTo>
                    <a:pt x="193" y="2159"/>
                  </a:lnTo>
                  <a:lnTo>
                    <a:pt x="197" y="2163"/>
                  </a:lnTo>
                  <a:lnTo>
                    <a:pt x="199" y="2168"/>
                  </a:lnTo>
                  <a:lnTo>
                    <a:pt x="208" y="2172"/>
                  </a:lnTo>
                  <a:lnTo>
                    <a:pt x="204" y="2177"/>
                  </a:lnTo>
                  <a:lnTo>
                    <a:pt x="197" y="2181"/>
                  </a:lnTo>
                  <a:lnTo>
                    <a:pt x="191" y="2186"/>
                  </a:lnTo>
                  <a:lnTo>
                    <a:pt x="180" y="2190"/>
                  </a:lnTo>
                  <a:lnTo>
                    <a:pt x="178" y="2195"/>
                  </a:lnTo>
                  <a:lnTo>
                    <a:pt x="172" y="2199"/>
                  </a:lnTo>
                  <a:lnTo>
                    <a:pt x="168" y="2204"/>
                  </a:lnTo>
                  <a:lnTo>
                    <a:pt x="172" y="2208"/>
                  </a:lnTo>
                  <a:lnTo>
                    <a:pt x="172" y="2213"/>
                  </a:lnTo>
                  <a:lnTo>
                    <a:pt x="163" y="2217"/>
                  </a:lnTo>
                  <a:lnTo>
                    <a:pt x="174" y="2222"/>
                  </a:lnTo>
                  <a:lnTo>
                    <a:pt x="180" y="2226"/>
                  </a:lnTo>
                  <a:lnTo>
                    <a:pt x="197" y="2231"/>
                  </a:lnTo>
                  <a:lnTo>
                    <a:pt x="210" y="2235"/>
                  </a:lnTo>
                  <a:lnTo>
                    <a:pt x="221" y="2240"/>
                  </a:lnTo>
                  <a:lnTo>
                    <a:pt x="227" y="2244"/>
                  </a:lnTo>
                  <a:lnTo>
                    <a:pt x="225" y="2249"/>
                  </a:lnTo>
                  <a:lnTo>
                    <a:pt x="225" y="2253"/>
                  </a:lnTo>
                  <a:lnTo>
                    <a:pt x="227" y="2258"/>
                  </a:lnTo>
                  <a:lnTo>
                    <a:pt x="233" y="2262"/>
                  </a:lnTo>
                  <a:lnTo>
                    <a:pt x="235" y="2267"/>
                  </a:lnTo>
                  <a:lnTo>
                    <a:pt x="240" y="2271"/>
                  </a:lnTo>
                  <a:lnTo>
                    <a:pt x="240" y="2276"/>
                  </a:lnTo>
                  <a:lnTo>
                    <a:pt x="238" y="2280"/>
                  </a:lnTo>
                  <a:lnTo>
                    <a:pt x="238" y="2285"/>
                  </a:lnTo>
                  <a:lnTo>
                    <a:pt x="223" y="2289"/>
                  </a:lnTo>
                  <a:lnTo>
                    <a:pt x="210" y="2294"/>
                  </a:lnTo>
                  <a:lnTo>
                    <a:pt x="199" y="2298"/>
                  </a:lnTo>
                  <a:lnTo>
                    <a:pt x="197" y="2303"/>
                  </a:lnTo>
                  <a:lnTo>
                    <a:pt x="199" y="2307"/>
                  </a:lnTo>
                  <a:lnTo>
                    <a:pt x="199" y="2312"/>
                  </a:lnTo>
                  <a:lnTo>
                    <a:pt x="195" y="2316"/>
                  </a:lnTo>
                  <a:lnTo>
                    <a:pt x="195" y="2321"/>
                  </a:lnTo>
                  <a:lnTo>
                    <a:pt x="182" y="2325"/>
                  </a:lnTo>
                  <a:lnTo>
                    <a:pt x="180" y="2330"/>
                  </a:lnTo>
                  <a:lnTo>
                    <a:pt x="180" y="2334"/>
                  </a:lnTo>
                  <a:lnTo>
                    <a:pt x="178" y="2339"/>
                  </a:lnTo>
                  <a:lnTo>
                    <a:pt x="168" y="2343"/>
                  </a:lnTo>
                  <a:lnTo>
                    <a:pt x="168" y="2348"/>
                  </a:lnTo>
                  <a:lnTo>
                    <a:pt x="165" y="2352"/>
                  </a:lnTo>
                  <a:lnTo>
                    <a:pt x="172" y="2357"/>
                  </a:lnTo>
                  <a:lnTo>
                    <a:pt x="172" y="2361"/>
                  </a:lnTo>
                  <a:lnTo>
                    <a:pt x="172" y="2366"/>
                  </a:lnTo>
                  <a:lnTo>
                    <a:pt x="174" y="2370"/>
                  </a:lnTo>
                  <a:lnTo>
                    <a:pt x="172" y="2375"/>
                  </a:lnTo>
                  <a:lnTo>
                    <a:pt x="159" y="2379"/>
                  </a:lnTo>
                  <a:lnTo>
                    <a:pt x="157" y="2384"/>
                  </a:lnTo>
                  <a:lnTo>
                    <a:pt x="157" y="2388"/>
                  </a:lnTo>
                  <a:lnTo>
                    <a:pt x="159" y="2393"/>
                  </a:lnTo>
                  <a:lnTo>
                    <a:pt x="165" y="2397"/>
                  </a:lnTo>
                  <a:lnTo>
                    <a:pt x="163" y="2402"/>
                  </a:lnTo>
                  <a:lnTo>
                    <a:pt x="163" y="2406"/>
                  </a:lnTo>
                  <a:lnTo>
                    <a:pt x="163" y="2411"/>
                  </a:lnTo>
                  <a:lnTo>
                    <a:pt x="161" y="2415"/>
                  </a:lnTo>
                  <a:lnTo>
                    <a:pt x="148" y="2420"/>
                  </a:lnTo>
                  <a:lnTo>
                    <a:pt x="142" y="2424"/>
                  </a:lnTo>
                  <a:lnTo>
                    <a:pt x="142" y="2429"/>
                  </a:lnTo>
                  <a:lnTo>
                    <a:pt x="148" y="2433"/>
                  </a:lnTo>
                  <a:lnTo>
                    <a:pt x="161" y="2438"/>
                  </a:lnTo>
                  <a:lnTo>
                    <a:pt x="165" y="2442"/>
                  </a:lnTo>
                  <a:lnTo>
                    <a:pt x="168" y="2447"/>
                  </a:lnTo>
                  <a:lnTo>
                    <a:pt x="176" y="2451"/>
                  </a:lnTo>
                  <a:lnTo>
                    <a:pt x="163" y="2456"/>
                  </a:lnTo>
                  <a:lnTo>
                    <a:pt x="146" y="2460"/>
                  </a:lnTo>
                  <a:lnTo>
                    <a:pt x="151" y="2465"/>
                  </a:lnTo>
                  <a:lnTo>
                    <a:pt x="185" y="2469"/>
                  </a:lnTo>
                  <a:lnTo>
                    <a:pt x="202" y="2474"/>
                  </a:lnTo>
                  <a:lnTo>
                    <a:pt x="195" y="2478"/>
                  </a:lnTo>
                  <a:lnTo>
                    <a:pt x="193" y="2483"/>
                  </a:lnTo>
                  <a:lnTo>
                    <a:pt x="185" y="2487"/>
                  </a:lnTo>
                  <a:lnTo>
                    <a:pt x="191" y="2492"/>
                  </a:lnTo>
                  <a:lnTo>
                    <a:pt x="210" y="2496"/>
                  </a:lnTo>
                  <a:lnTo>
                    <a:pt x="212" y="2501"/>
                  </a:lnTo>
                  <a:lnTo>
                    <a:pt x="219" y="2505"/>
                  </a:lnTo>
                  <a:lnTo>
                    <a:pt x="210" y="2510"/>
                  </a:lnTo>
                  <a:lnTo>
                    <a:pt x="199" y="2514"/>
                  </a:lnTo>
                  <a:lnTo>
                    <a:pt x="191" y="2519"/>
                  </a:lnTo>
                  <a:lnTo>
                    <a:pt x="195" y="2523"/>
                  </a:lnTo>
                  <a:lnTo>
                    <a:pt x="193" y="2528"/>
                  </a:lnTo>
                  <a:lnTo>
                    <a:pt x="193" y="2532"/>
                  </a:lnTo>
                  <a:lnTo>
                    <a:pt x="195" y="2537"/>
                  </a:lnTo>
                  <a:lnTo>
                    <a:pt x="189" y="2541"/>
                  </a:lnTo>
                  <a:lnTo>
                    <a:pt x="187" y="2546"/>
                  </a:lnTo>
                  <a:lnTo>
                    <a:pt x="193" y="2550"/>
                  </a:lnTo>
                  <a:lnTo>
                    <a:pt x="202" y="2555"/>
                  </a:lnTo>
                  <a:lnTo>
                    <a:pt x="206" y="2559"/>
                  </a:lnTo>
                  <a:lnTo>
                    <a:pt x="212" y="2564"/>
                  </a:lnTo>
                  <a:lnTo>
                    <a:pt x="223" y="2568"/>
                  </a:lnTo>
                  <a:lnTo>
                    <a:pt x="225" y="2573"/>
                  </a:lnTo>
                  <a:lnTo>
                    <a:pt x="225" y="2577"/>
                  </a:lnTo>
                  <a:lnTo>
                    <a:pt x="214" y="2582"/>
                  </a:lnTo>
                </a:path>
              </a:pathLst>
            </a:custGeom>
            <a:noFill/>
            <a:ln w="2052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Freeform 290"/>
            <p:cNvSpPr/>
            <p:nvPr/>
          </p:nvSpPr>
          <p:spPr>
            <a:xfrm>
              <a:off x="3416400" y="2157480"/>
              <a:ext cx="760320" cy="4379760"/>
            </a:xfrm>
            <a:custGeom>
              <a:avLst/>
              <a:gdLst>
                <a:gd name="textAreaLeft" fmla="*/ 0 w 760320"/>
                <a:gd name="textAreaRight" fmla="*/ 760680 w 760320"/>
                <a:gd name="textAreaTop" fmla="*/ 0 h 4379760"/>
                <a:gd name="textAreaBottom" fmla="*/ 4380120 h 4379760"/>
              </a:gdLst>
              <a:ahLst/>
              <a:rect l="textAreaLeft" t="textAreaTop" r="textAreaRight" b="textAreaBottom"/>
              <a:pathLst>
                <a:path w="450" h="2582">
                  <a:moveTo>
                    <a:pt x="0" y="0"/>
                  </a:moveTo>
                  <a:lnTo>
                    <a:pt x="0" y="4"/>
                  </a:lnTo>
                  <a:lnTo>
                    <a:pt x="0" y="9"/>
                  </a:lnTo>
                  <a:lnTo>
                    <a:pt x="0" y="13"/>
                  </a:lnTo>
                  <a:lnTo>
                    <a:pt x="0" y="18"/>
                  </a:lnTo>
                  <a:lnTo>
                    <a:pt x="0" y="22"/>
                  </a:lnTo>
                  <a:lnTo>
                    <a:pt x="0" y="27"/>
                  </a:lnTo>
                  <a:lnTo>
                    <a:pt x="0" y="31"/>
                  </a:lnTo>
                  <a:lnTo>
                    <a:pt x="0" y="36"/>
                  </a:lnTo>
                  <a:lnTo>
                    <a:pt x="0" y="40"/>
                  </a:lnTo>
                  <a:lnTo>
                    <a:pt x="0" y="45"/>
                  </a:lnTo>
                  <a:lnTo>
                    <a:pt x="0" y="49"/>
                  </a:lnTo>
                  <a:lnTo>
                    <a:pt x="0" y="54"/>
                  </a:lnTo>
                  <a:lnTo>
                    <a:pt x="0" y="58"/>
                  </a:lnTo>
                  <a:lnTo>
                    <a:pt x="0" y="63"/>
                  </a:lnTo>
                  <a:lnTo>
                    <a:pt x="0" y="67"/>
                  </a:lnTo>
                  <a:lnTo>
                    <a:pt x="0" y="72"/>
                  </a:lnTo>
                  <a:lnTo>
                    <a:pt x="0" y="76"/>
                  </a:lnTo>
                  <a:lnTo>
                    <a:pt x="0" y="81"/>
                  </a:lnTo>
                  <a:lnTo>
                    <a:pt x="0" y="85"/>
                  </a:lnTo>
                  <a:lnTo>
                    <a:pt x="0" y="90"/>
                  </a:lnTo>
                  <a:lnTo>
                    <a:pt x="0" y="94"/>
                  </a:lnTo>
                  <a:lnTo>
                    <a:pt x="0" y="99"/>
                  </a:lnTo>
                  <a:lnTo>
                    <a:pt x="0" y="103"/>
                  </a:lnTo>
                  <a:lnTo>
                    <a:pt x="0" y="108"/>
                  </a:lnTo>
                  <a:lnTo>
                    <a:pt x="0" y="112"/>
                  </a:lnTo>
                  <a:lnTo>
                    <a:pt x="0" y="117"/>
                  </a:lnTo>
                  <a:lnTo>
                    <a:pt x="0" y="121"/>
                  </a:lnTo>
                  <a:lnTo>
                    <a:pt x="0" y="126"/>
                  </a:lnTo>
                  <a:lnTo>
                    <a:pt x="0" y="130"/>
                  </a:lnTo>
                  <a:lnTo>
                    <a:pt x="0" y="135"/>
                  </a:lnTo>
                  <a:lnTo>
                    <a:pt x="0" y="139"/>
                  </a:lnTo>
                  <a:lnTo>
                    <a:pt x="0" y="144"/>
                  </a:lnTo>
                  <a:lnTo>
                    <a:pt x="0" y="148"/>
                  </a:lnTo>
                  <a:lnTo>
                    <a:pt x="0" y="153"/>
                  </a:lnTo>
                  <a:lnTo>
                    <a:pt x="0" y="157"/>
                  </a:lnTo>
                  <a:lnTo>
                    <a:pt x="0" y="162"/>
                  </a:lnTo>
                  <a:lnTo>
                    <a:pt x="0" y="166"/>
                  </a:lnTo>
                  <a:lnTo>
                    <a:pt x="0" y="171"/>
                  </a:lnTo>
                  <a:lnTo>
                    <a:pt x="0" y="175"/>
                  </a:lnTo>
                  <a:lnTo>
                    <a:pt x="0" y="180"/>
                  </a:lnTo>
                  <a:lnTo>
                    <a:pt x="0" y="184"/>
                  </a:lnTo>
                  <a:lnTo>
                    <a:pt x="0" y="189"/>
                  </a:lnTo>
                  <a:lnTo>
                    <a:pt x="0" y="193"/>
                  </a:lnTo>
                  <a:lnTo>
                    <a:pt x="96" y="198"/>
                  </a:lnTo>
                  <a:lnTo>
                    <a:pt x="276" y="202"/>
                  </a:lnTo>
                  <a:lnTo>
                    <a:pt x="287" y="207"/>
                  </a:lnTo>
                  <a:lnTo>
                    <a:pt x="283" y="211"/>
                  </a:lnTo>
                  <a:lnTo>
                    <a:pt x="278" y="216"/>
                  </a:lnTo>
                  <a:lnTo>
                    <a:pt x="278" y="220"/>
                  </a:lnTo>
                  <a:lnTo>
                    <a:pt x="285" y="225"/>
                  </a:lnTo>
                  <a:lnTo>
                    <a:pt x="293" y="229"/>
                  </a:lnTo>
                  <a:lnTo>
                    <a:pt x="300" y="234"/>
                  </a:lnTo>
                  <a:lnTo>
                    <a:pt x="302" y="238"/>
                  </a:lnTo>
                  <a:lnTo>
                    <a:pt x="310" y="243"/>
                  </a:lnTo>
                  <a:lnTo>
                    <a:pt x="312" y="247"/>
                  </a:lnTo>
                  <a:lnTo>
                    <a:pt x="314" y="252"/>
                  </a:lnTo>
                  <a:lnTo>
                    <a:pt x="319" y="256"/>
                  </a:lnTo>
                  <a:lnTo>
                    <a:pt x="325" y="261"/>
                  </a:lnTo>
                  <a:lnTo>
                    <a:pt x="333" y="265"/>
                  </a:lnTo>
                  <a:lnTo>
                    <a:pt x="336" y="270"/>
                  </a:lnTo>
                  <a:lnTo>
                    <a:pt x="336" y="274"/>
                  </a:lnTo>
                  <a:lnTo>
                    <a:pt x="338" y="279"/>
                  </a:lnTo>
                  <a:lnTo>
                    <a:pt x="336" y="283"/>
                  </a:lnTo>
                  <a:lnTo>
                    <a:pt x="333" y="288"/>
                  </a:lnTo>
                  <a:lnTo>
                    <a:pt x="325" y="292"/>
                  </a:lnTo>
                  <a:lnTo>
                    <a:pt x="323" y="297"/>
                  </a:lnTo>
                  <a:lnTo>
                    <a:pt x="323" y="301"/>
                  </a:lnTo>
                  <a:lnTo>
                    <a:pt x="323" y="306"/>
                  </a:lnTo>
                  <a:lnTo>
                    <a:pt x="327" y="310"/>
                  </a:lnTo>
                  <a:lnTo>
                    <a:pt x="333" y="315"/>
                  </a:lnTo>
                  <a:lnTo>
                    <a:pt x="333" y="319"/>
                  </a:lnTo>
                  <a:lnTo>
                    <a:pt x="333" y="324"/>
                  </a:lnTo>
                  <a:lnTo>
                    <a:pt x="340" y="328"/>
                  </a:lnTo>
                  <a:lnTo>
                    <a:pt x="340" y="333"/>
                  </a:lnTo>
                  <a:lnTo>
                    <a:pt x="340" y="337"/>
                  </a:lnTo>
                  <a:lnTo>
                    <a:pt x="338" y="342"/>
                  </a:lnTo>
                  <a:lnTo>
                    <a:pt x="333" y="346"/>
                  </a:lnTo>
                  <a:lnTo>
                    <a:pt x="327" y="351"/>
                  </a:lnTo>
                  <a:lnTo>
                    <a:pt x="323" y="355"/>
                  </a:lnTo>
                  <a:lnTo>
                    <a:pt x="323" y="360"/>
                  </a:lnTo>
                  <a:lnTo>
                    <a:pt x="317" y="364"/>
                  </a:lnTo>
                  <a:lnTo>
                    <a:pt x="314" y="369"/>
                  </a:lnTo>
                  <a:lnTo>
                    <a:pt x="312" y="373"/>
                  </a:lnTo>
                  <a:lnTo>
                    <a:pt x="302" y="378"/>
                  </a:lnTo>
                  <a:lnTo>
                    <a:pt x="297" y="382"/>
                  </a:lnTo>
                  <a:lnTo>
                    <a:pt x="280" y="387"/>
                  </a:lnTo>
                  <a:lnTo>
                    <a:pt x="272" y="391"/>
                  </a:lnTo>
                  <a:lnTo>
                    <a:pt x="259" y="396"/>
                  </a:lnTo>
                  <a:lnTo>
                    <a:pt x="221" y="400"/>
                  </a:lnTo>
                  <a:lnTo>
                    <a:pt x="206" y="405"/>
                  </a:lnTo>
                  <a:lnTo>
                    <a:pt x="200" y="409"/>
                  </a:lnTo>
                  <a:lnTo>
                    <a:pt x="202" y="414"/>
                  </a:lnTo>
                  <a:lnTo>
                    <a:pt x="206" y="418"/>
                  </a:lnTo>
                  <a:lnTo>
                    <a:pt x="212" y="423"/>
                  </a:lnTo>
                  <a:lnTo>
                    <a:pt x="215" y="427"/>
                  </a:lnTo>
                  <a:lnTo>
                    <a:pt x="219" y="432"/>
                  </a:lnTo>
                  <a:lnTo>
                    <a:pt x="221" y="436"/>
                  </a:lnTo>
                  <a:lnTo>
                    <a:pt x="223" y="441"/>
                  </a:lnTo>
                  <a:lnTo>
                    <a:pt x="223" y="445"/>
                  </a:lnTo>
                  <a:lnTo>
                    <a:pt x="223" y="450"/>
                  </a:lnTo>
                  <a:lnTo>
                    <a:pt x="225" y="454"/>
                  </a:lnTo>
                  <a:lnTo>
                    <a:pt x="223" y="459"/>
                  </a:lnTo>
                  <a:lnTo>
                    <a:pt x="215" y="463"/>
                  </a:lnTo>
                  <a:lnTo>
                    <a:pt x="210" y="468"/>
                  </a:lnTo>
                  <a:lnTo>
                    <a:pt x="210" y="472"/>
                  </a:lnTo>
                  <a:lnTo>
                    <a:pt x="208" y="477"/>
                  </a:lnTo>
                  <a:lnTo>
                    <a:pt x="212" y="481"/>
                  </a:lnTo>
                  <a:lnTo>
                    <a:pt x="210" y="486"/>
                  </a:lnTo>
                  <a:lnTo>
                    <a:pt x="208" y="490"/>
                  </a:lnTo>
                  <a:lnTo>
                    <a:pt x="208" y="495"/>
                  </a:lnTo>
                  <a:lnTo>
                    <a:pt x="195" y="499"/>
                  </a:lnTo>
                  <a:lnTo>
                    <a:pt x="191" y="504"/>
                  </a:lnTo>
                  <a:lnTo>
                    <a:pt x="189" y="508"/>
                  </a:lnTo>
                  <a:lnTo>
                    <a:pt x="198" y="512"/>
                  </a:lnTo>
                  <a:lnTo>
                    <a:pt x="208" y="517"/>
                  </a:lnTo>
                  <a:lnTo>
                    <a:pt x="206" y="521"/>
                  </a:lnTo>
                  <a:lnTo>
                    <a:pt x="185" y="526"/>
                  </a:lnTo>
                  <a:lnTo>
                    <a:pt x="170" y="530"/>
                  </a:lnTo>
                  <a:lnTo>
                    <a:pt x="166" y="535"/>
                  </a:lnTo>
                  <a:lnTo>
                    <a:pt x="164" y="539"/>
                  </a:lnTo>
                  <a:lnTo>
                    <a:pt x="164" y="544"/>
                  </a:lnTo>
                  <a:lnTo>
                    <a:pt x="166" y="548"/>
                  </a:lnTo>
                  <a:lnTo>
                    <a:pt x="178" y="553"/>
                  </a:lnTo>
                  <a:lnTo>
                    <a:pt x="183" y="557"/>
                  </a:lnTo>
                  <a:lnTo>
                    <a:pt x="185" y="562"/>
                  </a:lnTo>
                  <a:lnTo>
                    <a:pt x="187" y="566"/>
                  </a:lnTo>
                  <a:lnTo>
                    <a:pt x="193" y="571"/>
                  </a:lnTo>
                  <a:lnTo>
                    <a:pt x="198" y="575"/>
                  </a:lnTo>
                  <a:lnTo>
                    <a:pt x="204" y="580"/>
                  </a:lnTo>
                  <a:lnTo>
                    <a:pt x="208" y="584"/>
                  </a:lnTo>
                  <a:lnTo>
                    <a:pt x="208" y="589"/>
                  </a:lnTo>
                  <a:lnTo>
                    <a:pt x="208" y="593"/>
                  </a:lnTo>
                  <a:lnTo>
                    <a:pt x="208" y="598"/>
                  </a:lnTo>
                  <a:lnTo>
                    <a:pt x="215" y="602"/>
                  </a:lnTo>
                  <a:lnTo>
                    <a:pt x="223" y="607"/>
                  </a:lnTo>
                  <a:lnTo>
                    <a:pt x="227" y="611"/>
                  </a:lnTo>
                  <a:lnTo>
                    <a:pt x="232" y="616"/>
                  </a:lnTo>
                  <a:lnTo>
                    <a:pt x="236" y="620"/>
                  </a:lnTo>
                  <a:lnTo>
                    <a:pt x="238" y="625"/>
                  </a:lnTo>
                  <a:lnTo>
                    <a:pt x="238" y="629"/>
                  </a:lnTo>
                  <a:lnTo>
                    <a:pt x="236" y="634"/>
                  </a:lnTo>
                  <a:lnTo>
                    <a:pt x="232" y="638"/>
                  </a:lnTo>
                  <a:lnTo>
                    <a:pt x="232" y="643"/>
                  </a:lnTo>
                  <a:lnTo>
                    <a:pt x="232" y="647"/>
                  </a:lnTo>
                  <a:lnTo>
                    <a:pt x="232" y="652"/>
                  </a:lnTo>
                  <a:lnTo>
                    <a:pt x="236" y="656"/>
                  </a:lnTo>
                  <a:lnTo>
                    <a:pt x="238" y="661"/>
                  </a:lnTo>
                  <a:lnTo>
                    <a:pt x="234" y="665"/>
                  </a:lnTo>
                  <a:lnTo>
                    <a:pt x="232" y="670"/>
                  </a:lnTo>
                  <a:lnTo>
                    <a:pt x="225" y="674"/>
                  </a:lnTo>
                  <a:lnTo>
                    <a:pt x="225" y="679"/>
                  </a:lnTo>
                  <a:lnTo>
                    <a:pt x="221" y="683"/>
                  </a:lnTo>
                  <a:lnTo>
                    <a:pt x="225" y="688"/>
                  </a:lnTo>
                  <a:lnTo>
                    <a:pt x="225" y="692"/>
                  </a:lnTo>
                  <a:lnTo>
                    <a:pt x="221" y="697"/>
                  </a:lnTo>
                  <a:lnTo>
                    <a:pt x="219" y="701"/>
                  </a:lnTo>
                  <a:lnTo>
                    <a:pt x="215" y="706"/>
                  </a:lnTo>
                  <a:lnTo>
                    <a:pt x="215" y="710"/>
                  </a:lnTo>
                  <a:lnTo>
                    <a:pt x="215" y="715"/>
                  </a:lnTo>
                  <a:lnTo>
                    <a:pt x="215" y="719"/>
                  </a:lnTo>
                  <a:lnTo>
                    <a:pt x="217" y="724"/>
                  </a:lnTo>
                  <a:lnTo>
                    <a:pt x="219" y="728"/>
                  </a:lnTo>
                  <a:lnTo>
                    <a:pt x="221" y="733"/>
                  </a:lnTo>
                  <a:lnTo>
                    <a:pt x="225" y="737"/>
                  </a:lnTo>
                  <a:lnTo>
                    <a:pt x="227" y="742"/>
                  </a:lnTo>
                  <a:lnTo>
                    <a:pt x="225" y="746"/>
                  </a:lnTo>
                  <a:lnTo>
                    <a:pt x="223" y="751"/>
                  </a:lnTo>
                  <a:lnTo>
                    <a:pt x="210" y="755"/>
                  </a:lnTo>
                  <a:lnTo>
                    <a:pt x="200" y="760"/>
                  </a:lnTo>
                  <a:lnTo>
                    <a:pt x="187" y="764"/>
                  </a:lnTo>
                  <a:lnTo>
                    <a:pt x="176" y="769"/>
                  </a:lnTo>
                  <a:lnTo>
                    <a:pt x="174" y="773"/>
                  </a:lnTo>
                  <a:lnTo>
                    <a:pt x="176" y="778"/>
                  </a:lnTo>
                  <a:lnTo>
                    <a:pt x="181" y="782"/>
                  </a:lnTo>
                  <a:lnTo>
                    <a:pt x="189" y="787"/>
                  </a:lnTo>
                  <a:lnTo>
                    <a:pt x="195" y="791"/>
                  </a:lnTo>
                  <a:lnTo>
                    <a:pt x="198" y="796"/>
                  </a:lnTo>
                  <a:lnTo>
                    <a:pt x="195" y="800"/>
                  </a:lnTo>
                  <a:lnTo>
                    <a:pt x="187" y="805"/>
                  </a:lnTo>
                  <a:lnTo>
                    <a:pt x="176" y="809"/>
                  </a:lnTo>
                  <a:lnTo>
                    <a:pt x="172" y="814"/>
                  </a:lnTo>
                  <a:lnTo>
                    <a:pt x="168" y="818"/>
                  </a:lnTo>
                  <a:lnTo>
                    <a:pt x="164" y="823"/>
                  </a:lnTo>
                  <a:lnTo>
                    <a:pt x="159" y="827"/>
                  </a:lnTo>
                  <a:lnTo>
                    <a:pt x="159" y="832"/>
                  </a:lnTo>
                  <a:lnTo>
                    <a:pt x="138" y="836"/>
                  </a:lnTo>
                  <a:lnTo>
                    <a:pt x="132" y="841"/>
                  </a:lnTo>
                  <a:lnTo>
                    <a:pt x="110" y="845"/>
                  </a:lnTo>
                  <a:lnTo>
                    <a:pt x="83" y="850"/>
                  </a:lnTo>
                  <a:lnTo>
                    <a:pt x="74" y="854"/>
                  </a:lnTo>
                  <a:lnTo>
                    <a:pt x="70" y="859"/>
                  </a:lnTo>
                  <a:lnTo>
                    <a:pt x="72" y="863"/>
                  </a:lnTo>
                  <a:lnTo>
                    <a:pt x="79" y="868"/>
                  </a:lnTo>
                  <a:lnTo>
                    <a:pt x="87" y="872"/>
                  </a:lnTo>
                  <a:lnTo>
                    <a:pt x="98" y="877"/>
                  </a:lnTo>
                  <a:lnTo>
                    <a:pt x="102" y="881"/>
                  </a:lnTo>
                  <a:lnTo>
                    <a:pt x="110" y="886"/>
                  </a:lnTo>
                  <a:lnTo>
                    <a:pt x="132" y="890"/>
                  </a:lnTo>
                  <a:lnTo>
                    <a:pt x="159" y="895"/>
                  </a:lnTo>
                  <a:lnTo>
                    <a:pt x="176" y="899"/>
                  </a:lnTo>
                  <a:lnTo>
                    <a:pt x="183" y="904"/>
                  </a:lnTo>
                  <a:lnTo>
                    <a:pt x="204" y="908"/>
                  </a:lnTo>
                  <a:lnTo>
                    <a:pt x="215" y="913"/>
                  </a:lnTo>
                  <a:lnTo>
                    <a:pt x="221" y="917"/>
                  </a:lnTo>
                  <a:lnTo>
                    <a:pt x="225" y="922"/>
                  </a:lnTo>
                  <a:lnTo>
                    <a:pt x="240" y="926"/>
                  </a:lnTo>
                  <a:lnTo>
                    <a:pt x="246" y="931"/>
                  </a:lnTo>
                  <a:lnTo>
                    <a:pt x="251" y="935"/>
                  </a:lnTo>
                  <a:lnTo>
                    <a:pt x="259" y="940"/>
                  </a:lnTo>
                  <a:lnTo>
                    <a:pt x="257" y="944"/>
                  </a:lnTo>
                  <a:lnTo>
                    <a:pt x="253" y="949"/>
                  </a:lnTo>
                  <a:lnTo>
                    <a:pt x="240" y="953"/>
                  </a:lnTo>
                  <a:lnTo>
                    <a:pt x="227" y="958"/>
                  </a:lnTo>
                  <a:lnTo>
                    <a:pt x="223" y="962"/>
                  </a:lnTo>
                  <a:lnTo>
                    <a:pt x="223" y="967"/>
                  </a:lnTo>
                  <a:lnTo>
                    <a:pt x="221" y="971"/>
                  </a:lnTo>
                  <a:lnTo>
                    <a:pt x="219" y="976"/>
                  </a:lnTo>
                  <a:lnTo>
                    <a:pt x="206" y="980"/>
                  </a:lnTo>
                  <a:lnTo>
                    <a:pt x="193" y="985"/>
                  </a:lnTo>
                  <a:lnTo>
                    <a:pt x="187" y="989"/>
                  </a:lnTo>
                  <a:lnTo>
                    <a:pt x="183" y="994"/>
                  </a:lnTo>
                  <a:lnTo>
                    <a:pt x="185" y="998"/>
                  </a:lnTo>
                  <a:lnTo>
                    <a:pt x="198" y="1003"/>
                  </a:lnTo>
                  <a:lnTo>
                    <a:pt x="236" y="1007"/>
                  </a:lnTo>
                  <a:lnTo>
                    <a:pt x="312" y="1012"/>
                  </a:lnTo>
                  <a:lnTo>
                    <a:pt x="357" y="1016"/>
                  </a:lnTo>
                  <a:lnTo>
                    <a:pt x="372" y="1021"/>
                  </a:lnTo>
                  <a:lnTo>
                    <a:pt x="387" y="1025"/>
                  </a:lnTo>
                  <a:lnTo>
                    <a:pt x="391" y="1030"/>
                  </a:lnTo>
                  <a:lnTo>
                    <a:pt x="414" y="1034"/>
                  </a:lnTo>
                  <a:lnTo>
                    <a:pt x="433" y="1039"/>
                  </a:lnTo>
                  <a:lnTo>
                    <a:pt x="435" y="1043"/>
                  </a:lnTo>
                  <a:lnTo>
                    <a:pt x="433" y="1048"/>
                  </a:lnTo>
                  <a:lnTo>
                    <a:pt x="433" y="1052"/>
                  </a:lnTo>
                  <a:lnTo>
                    <a:pt x="431" y="1057"/>
                  </a:lnTo>
                  <a:lnTo>
                    <a:pt x="425" y="1061"/>
                  </a:lnTo>
                  <a:lnTo>
                    <a:pt x="423" y="1066"/>
                  </a:lnTo>
                  <a:lnTo>
                    <a:pt x="410" y="1070"/>
                  </a:lnTo>
                  <a:lnTo>
                    <a:pt x="406" y="1075"/>
                  </a:lnTo>
                  <a:lnTo>
                    <a:pt x="391" y="1079"/>
                  </a:lnTo>
                  <a:lnTo>
                    <a:pt x="376" y="1084"/>
                  </a:lnTo>
                  <a:lnTo>
                    <a:pt x="378" y="1088"/>
                  </a:lnTo>
                  <a:lnTo>
                    <a:pt x="382" y="1093"/>
                  </a:lnTo>
                  <a:lnTo>
                    <a:pt x="389" y="1097"/>
                  </a:lnTo>
                  <a:lnTo>
                    <a:pt x="393" y="1102"/>
                  </a:lnTo>
                  <a:lnTo>
                    <a:pt x="399" y="1106"/>
                  </a:lnTo>
                  <a:lnTo>
                    <a:pt x="404" y="1111"/>
                  </a:lnTo>
                  <a:lnTo>
                    <a:pt x="408" y="1115"/>
                  </a:lnTo>
                  <a:lnTo>
                    <a:pt x="410" y="1120"/>
                  </a:lnTo>
                  <a:lnTo>
                    <a:pt x="421" y="1124"/>
                  </a:lnTo>
                  <a:lnTo>
                    <a:pt x="423" y="1129"/>
                  </a:lnTo>
                  <a:lnTo>
                    <a:pt x="423" y="1133"/>
                  </a:lnTo>
                  <a:lnTo>
                    <a:pt x="421" y="1138"/>
                  </a:lnTo>
                  <a:lnTo>
                    <a:pt x="408" y="1142"/>
                  </a:lnTo>
                  <a:lnTo>
                    <a:pt x="397" y="1147"/>
                  </a:lnTo>
                  <a:lnTo>
                    <a:pt x="393" y="1151"/>
                  </a:lnTo>
                  <a:lnTo>
                    <a:pt x="391" y="1156"/>
                  </a:lnTo>
                  <a:lnTo>
                    <a:pt x="384" y="1160"/>
                  </a:lnTo>
                  <a:lnTo>
                    <a:pt x="384" y="1165"/>
                  </a:lnTo>
                  <a:lnTo>
                    <a:pt x="391" y="1169"/>
                  </a:lnTo>
                  <a:lnTo>
                    <a:pt x="395" y="1174"/>
                  </a:lnTo>
                  <a:lnTo>
                    <a:pt x="401" y="1178"/>
                  </a:lnTo>
                  <a:lnTo>
                    <a:pt x="410" y="1183"/>
                  </a:lnTo>
                  <a:lnTo>
                    <a:pt x="423" y="1187"/>
                  </a:lnTo>
                  <a:lnTo>
                    <a:pt x="431" y="1192"/>
                  </a:lnTo>
                  <a:lnTo>
                    <a:pt x="444" y="1196"/>
                  </a:lnTo>
                  <a:lnTo>
                    <a:pt x="450" y="1201"/>
                  </a:lnTo>
                  <a:lnTo>
                    <a:pt x="442" y="1205"/>
                  </a:lnTo>
                  <a:lnTo>
                    <a:pt x="408" y="1210"/>
                  </a:lnTo>
                  <a:lnTo>
                    <a:pt x="378" y="1214"/>
                  </a:lnTo>
                  <a:lnTo>
                    <a:pt x="348" y="1219"/>
                  </a:lnTo>
                  <a:lnTo>
                    <a:pt x="323" y="1223"/>
                  </a:lnTo>
                  <a:lnTo>
                    <a:pt x="304" y="1228"/>
                  </a:lnTo>
                  <a:lnTo>
                    <a:pt x="291" y="1232"/>
                  </a:lnTo>
                  <a:lnTo>
                    <a:pt x="276" y="1237"/>
                  </a:lnTo>
                  <a:lnTo>
                    <a:pt x="270" y="1241"/>
                  </a:lnTo>
                  <a:lnTo>
                    <a:pt x="266" y="1246"/>
                  </a:lnTo>
                  <a:lnTo>
                    <a:pt x="268" y="1250"/>
                  </a:lnTo>
                  <a:lnTo>
                    <a:pt x="272" y="1255"/>
                  </a:lnTo>
                  <a:lnTo>
                    <a:pt x="276" y="1259"/>
                  </a:lnTo>
                  <a:lnTo>
                    <a:pt x="283" y="1264"/>
                  </a:lnTo>
                  <a:lnTo>
                    <a:pt x="287" y="1268"/>
                  </a:lnTo>
                  <a:lnTo>
                    <a:pt x="291" y="1273"/>
                  </a:lnTo>
                  <a:lnTo>
                    <a:pt x="287" y="1277"/>
                  </a:lnTo>
                  <a:lnTo>
                    <a:pt x="276" y="1282"/>
                  </a:lnTo>
                  <a:lnTo>
                    <a:pt x="266" y="1286"/>
                  </a:lnTo>
                  <a:lnTo>
                    <a:pt x="261" y="1291"/>
                  </a:lnTo>
                  <a:lnTo>
                    <a:pt x="242" y="1295"/>
                  </a:lnTo>
                  <a:lnTo>
                    <a:pt x="238" y="1300"/>
                  </a:lnTo>
                  <a:lnTo>
                    <a:pt x="238" y="1304"/>
                  </a:lnTo>
                  <a:lnTo>
                    <a:pt x="242" y="1309"/>
                  </a:lnTo>
                  <a:lnTo>
                    <a:pt x="244" y="1313"/>
                  </a:lnTo>
                  <a:lnTo>
                    <a:pt x="246" y="1318"/>
                  </a:lnTo>
                  <a:lnTo>
                    <a:pt x="251" y="1322"/>
                  </a:lnTo>
                  <a:lnTo>
                    <a:pt x="253" y="1327"/>
                  </a:lnTo>
                  <a:lnTo>
                    <a:pt x="255" y="1331"/>
                  </a:lnTo>
                  <a:lnTo>
                    <a:pt x="255" y="1336"/>
                  </a:lnTo>
                  <a:lnTo>
                    <a:pt x="246" y="1340"/>
                  </a:lnTo>
                  <a:lnTo>
                    <a:pt x="242" y="1345"/>
                  </a:lnTo>
                  <a:lnTo>
                    <a:pt x="229" y="1349"/>
                  </a:lnTo>
                  <a:lnTo>
                    <a:pt x="223" y="1354"/>
                  </a:lnTo>
                  <a:lnTo>
                    <a:pt x="219" y="1358"/>
                  </a:lnTo>
                  <a:lnTo>
                    <a:pt x="217" y="1363"/>
                  </a:lnTo>
                  <a:lnTo>
                    <a:pt x="212" y="1367"/>
                  </a:lnTo>
                  <a:lnTo>
                    <a:pt x="215" y="1372"/>
                  </a:lnTo>
                  <a:lnTo>
                    <a:pt x="217" y="1376"/>
                  </a:lnTo>
                  <a:lnTo>
                    <a:pt x="219" y="1381"/>
                  </a:lnTo>
                  <a:lnTo>
                    <a:pt x="219" y="1385"/>
                  </a:lnTo>
                  <a:lnTo>
                    <a:pt x="217" y="1390"/>
                  </a:lnTo>
                  <a:lnTo>
                    <a:pt x="215" y="1394"/>
                  </a:lnTo>
                  <a:lnTo>
                    <a:pt x="215" y="1399"/>
                  </a:lnTo>
                  <a:lnTo>
                    <a:pt x="212" y="1403"/>
                  </a:lnTo>
                  <a:lnTo>
                    <a:pt x="212" y="1408"/>
                  </a:lnTo>
                  <a:lnTo>
                    <a:pt x="215" y="1412"/>
                  </a:lnTo>
                  <a:lnTo>
                    <a:pt x="215" y="1417"/>
                  </a:lnTo>
                  <a:lnTo>
                    <a:pt x="219" y="1421"/>
                  </a:lnTo>
                  <a:lnTo>
                    <a:pt x="221" y="1426"/>
                  </a:lnTo>
                  <a:lnTo>
                    <a:pt x="221" y="1430"/>
                  </a:lnTo>
                  <a:lnTo>
                    <a:pt x="221" y="1435"/>
                  </a:lnTo>
                  <a:lnTo>
                    <a:pt x="219" y="1439"/>
                  </a:lnTo>
                  <a:lnTo>
                    <a:pt x="217" y="1444"/>
                  </a:lnTo>
                  <a:lnTo>
                    <a:pt x="217" y="1448"/>
                  </a:lnTo>
                  <a:lnTo>
                    <a:pt x="219" y="1453"/>
                  </a:lnTo>
                  <a:lnTo>
                    <a:pt x="221" y="1457"/>
                  </a:lnTo>
                  <a:lnTo>
                    <a:pt x="223" y="1462"/>
                  </a:lnTo>
                  <a:lnTo>
                    <a:pt x="223" y="1466"/>
                  </a:lnTo>
                  <a:lnTo>
                    <a:pt x="223" y="1471"/>
                  </a:lnTo>
                  <a:lnTo>
                    <a:pt x="223" y="1475"/>
                  </a:lnTo>
                  <a:lnTo>
                    <a:pt x="223" y="1480"/>
                  </a:lnTo>
                  <a:lnTo>
                    <a:pt x="223" y="1484"/>
                  </a:lnTo>
                  <a:lnTo>
                    <a:pt x="221" y="1489"/>
                  </a:lnTo>
                  <a:lnTo>
                    <a:pt x="215" y="1493"/>
                  </a:lnTo>
                  <a:lnTo>
                    <a:pt x="206" y="1498"/>
                  </a:lnTo>
                  <a:lnTo>
                    <a:pt x="200" y="1502"/>
                  </a:lnTo>
                  <a:lnTo>
                    <a:pt x="200" y="1507"/>
                  </a:lnTo>
                  <a:lnTo>
                    <a:pt x="202" y="1511"/>
                  </a:lnTo>
                  <a:lnTo>
                    <a:pt x="206" y="1516"/>
                  </a:lnTo>
                  <a:lnTo>
                    <a:pt x="210" y="1520"/>
                  </a:lnTo>
                  <a:lnTo>
                    <a:pt x="223" y="1525"/>
                  </a:lnTo>
                  <a:lnTo>
                    <a:pt x="229" y="1529"/>
                  </a:lnTo>
                  <a:lnTo>
                    <a:pt x="229" y="1534"/>
                  </a:lnTo>
                  <a:lnTo>
                    <a:pt x="229" y="1538"/>
                  </a:lnTo>
                  <a:lnTo>
                    <a:pt x="225" y="1543"/>
                  </a:lnTo>
                  <a:lnTo>
                    <a:pt x="168" y="1547"/>
                  </a:lnTo>
                  <a:lnTo>
                    <a:pt x="155" y="1552"/>
                  </a:lnTo>
                  <a:lnTo>
                    <a:pt x="153" y="1556"/>
                  </a:lnTo>
                  <a:lnTo>
                    <a:pt x="149" y="1560"/>
                  </a:lnTo>
                  <a:lnTo>
                    <a:pt x="144" y="1565"/>
                  </a:lnTo>
                  <a:lnTo>
                    <a:pt x="144" y="1569"/>
                  </a:lnTo>
                  <a:lnTo>
                    <a:pt x="144" y="1574"/>
                  </a:lnTo>
                  <a:lnTo>
                    <a:pt x="144" y="1578"/>
                  </a:lnTo>
                  <a:lnTo>
                    <a:pt x="142" y="1583"/>
                  </a:lnTo>
                  <a:lnTo>
                    <a:pt x="142" y="1587"/>
                  </a:lnTo>
                  <a:lnTo>
                    <a:pt x="140" y="1592"/>
                  </a:lnTo>
                  <a:lnTo>
                    <a:pt x="138" y="1596"/>
                  </a:lnTo>
                  <a:lnTo>
                    <a:pt x="132" y="1601"/>
                  </a:lnTo>
                  <a:lnTo>
                    <a:pt x="125" y="1605"/>
                  </a:lnTo>
                  <a:lnTo>
                    <a:pt x="123" y="1610"/>
                  </a:lnTo>
                  <a:lnTo>
                    <a:pt x="123" y="1614"/>
                  </a:lnTo>
                  <a:lnTo>
                    <a:pt x="125" y="1619"/>
                  </a:lnTo>
                  <a:lnTo>
                    <a:pt x="125" y="1623"/>
                  </a:lnTo>
                  <a:lnTo>
                    <a:pt x="127" y="1628"/>
                  </a:lnTo>
                  <a:lnTo>
                    <a:pt x="127" y="1632"/>
                  </a:lnTo>
                  <a:lnTo>
                    <a:pt x="125" y="1637"/>
                  </a:lnTo>
                  <a:lnTo>
                    <a:pt x="125" y="1641"/>
                  </a:lnTo>
                  <a:lnTo>
                    <a:pt x="125" y="1646"/>
                  </a:lnTo>
                  <a:lnTo>
                    <a:pt x="130" y="1650"/>
                  </a:lnTo>
                  <a:lnTo>
                    <a:pt x="134" y="1655"/>
                  </a:lnTo>
                  <a:lnTo>
                    <a:pt x="142" y="1659"/>
                  </a:lnTo>
                  <a:lnTo>
                    <a:pt x="147" y="1664"/>
                  </a:lnTo>
                  <a:lnTo>
                    <a:pt x="153" y="1668"/>
                  </a:lnTo>
                  <a:lnTo>
                    <a:pt x="155" y="1673"/>
                  </a:lnTo>
                  <a:lnTo>
                    <a:pt x="155" y="1677"/>
                  </a:lnTo>
                  <a:lnTo>
                    <a:pt x="155" y="1682"/>
                  </a:lnTo>
                  <a:lnTo>
                    <a:pt x="155" y="1686"/>
                  </a:lnTo>
                  <a:lnTo>
                    <a:pt x="153" y="1691"/>
                  </a:lnTo>
                  <a:lnTo>
                    <a:pt x="155" y="1695"/>
                  </a:lnTo>
                  <a:lnTo>
                    <a:pt x="157" y="1700"/>
                  </a:lnTo>
                  <a:lnTo>
                    <a:pt x="159" y="1704"/>
                  </a:lnTo>
                  <a:lnTo>
                    <a:pt x="164" y="1709"/>
                  </a:lnTo>
                  <a:lnTo>
                    <a:pt x="170" y="1713"/>
                  </a:lnTo>
                  <a:lnTo>
                    <a:pt x="172" y="1718"/>
                  </a:lnTo>
                  <a:lnTo>
                    <a:pt x="176" y="1722"/>
                  </a:lnTo>
                  <a:lnTo>
                    <a:pt x="178" y="1727"/>
                  </a:lnTo>
                  <a:lnTo>
                    <a:pt x="185" y="1731"/>
                  </a:lnTo>
                  <a:lnTo>
                    <a:pt x="191" y="1736"/>
                  </a:lnTo>
                  <a:lnTo>
                    <a:pt x="195" y="1740"/>
                  </a:lnTo>
                  <a:lnTo>
                    <a:pt x="202" y="1745"/>
                  </a:lnTo>
                  <a:lnTo>
                    <a:pt x="204" y="1749"/>
                  </a:lnTo>
                  <a:lnTo>
                    <a:pt x="206" y="1754"/>
                  </a:lnTo>
                  <a:lnTo>
                    <a:pt x="206" y="1758"/>
                  </a:lnTo>
                  <a:lnTo>
                    <a:pt x="212" y="1763"/>
                  </a:lnTo>
                  <a:lnTo>
                    <a:pt x="215" y="1767"/>
                  </a:lnTo>
                  <a:lnTo>
                    <a:pt x="215" y="1772"/>
                  </a:lnTo>
                  <a:lnTo>
                    <a:pt x="217" y="1776"/>
                  </a:lnTo>
                  <a:lnTo>
                    <a:pt x="215" y="1781"/>
                  </a:lnTo>
                  <a:lnTo>
                    <a:pt x="210" y="1785"/>
                  </a:lnTo>
                  <a:lnTo>
                    <a:pt x="208" y="1790"/>
                  </a:lnTo>
                  <a:lnTo>
                    <a:pt x="206" y="1794"/>
                  </a:lnTo>
                  <a:lnTo>
                    <a:pt x="206" y="1799"/>
                  </a:lnTo>
                  <a:lnTo>
                    <a:pt x="198" y="1803"/>
                  </a:lnTo>
                  <a:lnTo>
                    <a:pt x="189" y="1808"/>
                  </a:lnTo>
                  <a:lnTo>
                    <a:pt x="189" y="1812"/>
                  </a:lnTo>
                  <a:lnTo>
                    <a:pt x="181" y="1817"/>
                  </a:lnTo>
                  <a:lnTo>
                    <a:pt x="178" y="1821"/>
                  </a:lnTo>
                  <a:lnTo>
                    <a:pt x="183" y="1826"/>
                  </a:lnTo>
                  <a:lnTo>
                    <a:pt x="198" y="1830"/>
                  </a:lnTo>
                  <a:lnTo>
                    <a:pt x="200" y="1835"/>
                  </a:lnTo>
                  <a:lnTo>
                    <a:pt x="200" y="1839"/>
                  </a:lnTo>
                  <a:lnTo>
                    <a:pt x="200" y="1844"/>
                  </a:lnTo>
                  <a:lnTo>
                    <a:pt x="189" y="1848"/>
                  </a:lnTo>
                  <a:lnTo>
                    <a:pt x="191" y="1853"/>
                  </a:lnTo>
                  <a:lnTo>
                    <a:pt x="189" y="1857"/>
                  </a:lnTo>
                  <a:lnTo>
                    <a:pt x="189" y="1862"/>
                  </a:lnTo>
                  <a:lnTo>
                    <a:pt x="191" y="1866"/>
                  </a:lnTo>
                  <a:lnTo>
                    <a:pt x="202" y="1871"/>
                  </a:lnTo>
                  <a:lnTo>
                    <a:pt x="212" y="1875"/>
                  </a:lnTo>
                  <a:lnTo>
                    <a:pt x="223" y="1880"/>
                  </a:lnTo>
                  <a:lnTo>
                    <a:pt x="229" y="1884"/>
                  </a:lnTo>
                  <a:lnTo>
                    <a:pt x="232" y="1889"/>
                  </a:lnTo>
                  <a:lnTo>
                    <a:pt x="225" y="1893"/>
                  </a:lnTo>
                  <a:lnTo>
                    <a:pt x="221" y="1898"/>
                  </a:lnTo>
                  <a:lnTo>
                    <a:pt x="221" y="1902"/>
                  </a:lnTo>
                  <a:lnTo>
                    <a:pt x="219" y="1907"/>
                  </a:lnTo>
                  <a:lnTo>
                    <a:pt x="219" y="1911"/>
                  </a:lnTo>
                  <a:lnTo>
                    <a:pt x="215" y="1916"/>
                  </a:lnTo>
                  <a:lnTo>
                    <a:pt x="212" y="1920"/>
                  </a:lnTo>
                  <a:lnTo>
                    <a:pt x="195" y="1925"/>
                  </a:lnTo>
                  <a:lnTo>
                    <a:pt x="200" y="1929"/>
                  </a:lnTo>
                  <a:lnTo>
                    <a:pt x="202" y="1934"/>
                  </a:lnTo>
                  <a:lnTo>
                    <a:pt x="204" y="1938"/>
                  </a:lnTo>
                  <a:lnTo>
                    <a:pt x="204" y="1943"/>
                  </a:lnTo>
                  <a:lnTo>
                    <a:pt x="202" y="1947"/>
                  </a:lnTo>
                  <a:lnTo>
                    <a:pt x="202" y="1952"/>
                  </a:lnTo>
                  <a:lnTo>
                    <a:pt x="202" y="1956"/>
                  </a:lnTo>
                  <a:lnTo>
                    <a:pt x="200" y="1961"/>
                  </a:lnTo>
                  <a:lnTo>
                    <a:pt x="200" y="1965"/>
                  </a:lnTo>
                  <a:lnTo>
                    <a:pt x="198" y="1970"/>
                  </a:lnTo>
                  <a:lnTo>
                    <a:pt x="193" y="1974"/>
                  </a:lnTo>
                  <a:lnTo>
                    <a:pt x="185" y="1979"/>
                  </a:lnTo>
                  <a:lnTo>
                    <a:pt x="183" y="1983"/>
                  </a:lnTo>
                  <a:lnTo>
                    <a:pt x="178" y="1988"/>
                  </a:lnTo>
                  <a:lnTo>
                    <a:pt x="176" y="1992"/>
                  </a:lnTo>
                  <a:lnTo>
                    <a:pt x="172" y="1997"/>
                  </a:lnTo>
                  <a:lnTo>
                    <a:pt x="176" y="2001"/>
                  </a:lnTo>
                  <a:lnTo>
                    <a:pt x="178" y="2006"/>
                  </a:lnTo>
                  <a:lnTo>
                    <a:pt x="181" y="2010"/>
                  </a:lnTo>
                  <a:lnTo>
                    <a:pt x="178" y="2015"/>
                  </a:lnTo>
                  <a:lnTo>
                    <a:pt x="178" y="2019"/>
                  </a:lnTo>
                  <a:lnTo>
                    <a:pt x="176" y="2024"/>
                  </a:lnTo>
                  <a:lnTo>
                    <a:pt x="178" y="2028"/>
                  </a:lnTo>
                  <a:lnTo>
                    <a:pt x="183" y="2033"/>
                  </a:lnTo>
                  <a:lnTo>
                    <a:pt x="185" y="2037"/>
                  </a:lnTo>
                  <a:lnTo>
                    <a:pt x="181" y="2042"/>
                  </a:lnTo>
                  <a:lnTo>
                    <a:pt x="181" y="2046"/>
                  </a:lnTo>
                  <a:lnTo>
                    <a:pt x="183" y="2051"/>
                  </a:lnTo>
                  <a:lnTo>
                    <a:pt x="200" y="2055"/>
                  </a:lnTo>
                  <a:lnTo>
                    <a:pt x="210" y="2060"/>
                  </a:lnTo>
                  <a:lnTo>
                    <a:pt x="240" y="2064"/>
                  </a:lnTo>
                  <a:lnTo>
                    <a:pt x="261" y="2069"/>
                  </a:lnTo>
                  <a:lnTo>
                    <a:pt x="272" y="2073"/>
                  </a:lnTo>
                  <a:lnTo>
                    <a:pt x="280" y="2078"/>
                  </a:lnTo>
                  <a:lnTo>
                    <a:pt x="287" y="2082"/>
                  </a:lnTo>
                  <a:lnTo>
                    <a:pt x="289" y="2087"/>
                  </a:lnTo>
                  <a:lnTo>
                    <a:pt x="289" y="2091"/>
                  </a:lnTo>
                  <a:lnTo>
                    <a:pt x="289" y="2096"/>
                  </a:lnTo>
                  <a:lnTo>
                    <a:pt x="287" y="2100"/>
                  </a:lnTo>
                  <a:lnTo>
                    <a:pt x="287" y="2105"/>
                  </a:lnTo>
                  <a:lnTo>
                    <a:pt x="287" y="2109"/>
                  </a:lnTo>
                  <a:lnTo>
                    <a:pt x="287" y="2114"/>
                  </a:lnTo>
                  <a:lnTo>
                    <a:pt x="287" y="2118"/>
                  </a:lnTo>
                  <a:lnTo>
                    <a:pt x="293" y="2123"/>
                  </a:lnTo>
                  <a:lnTo>
                    <a:pt x="304" y="2127"/>
                  </a:lnTo>
                  <a:lnTo>
                    <a:pt x="310" y="2132"/>
                  </a:lnTo>
                  <a:lnTo>
                    <a:pt x="312" y="2136"/>
                  </a:lnTo>
                  <a:lnTo>
                    <a:pt x="312" y="2141"/>
                  </a:lnTo>
                  <a:lnTo>
                    <a:pt x="314" y="2145"/>
                  </a:lnTo>
                  <a:lnTo>
                    <a:pt x="314" y="2150"/>
                  </a:lnTo>
                  <a:lnTo>
                    <a:pt x="312" y="2154"/>
                  </a:lnTo>
                  <a:lnTo>
                    <a:pt x="312" y="2159"/>
                  </a:lnTo>
                  <a:lnTo>
                    <a:pt x="312" y="2163"/>
                  </a:lnTo>
                  <a:lnTo>
                    <a:pt x="314" y="2168"/>
                  </a:lnTo>
                  <a:lnTo>
                    <a:pt x="317" y="2172"/>
                  </a:lnTo>
                  <a:lnTo>
                    <a:pt x="317" y="2177"/>
                  </a:lnTo>
                  <a:lnTo>
                    <a:pt x="317" y="2181"/>
                  </a:lnTo>
                  <a:lnTo>
                    <a:pt x="314" y="2186"/>
                  </a:lnTo>
                  <a:lnTo>
                    <a:pt x="306" y="2190"/>
                  </a:lnTo>
                  <a:lnTo>
                    <a:pt x="304" y="2195"/>
                  </a:lnTo>
                  <a:lnTo>
                    <a:pt x="295" y="2199"/>
                  </a:lnTo>
                  <a:lnTo>
                    <a:pt x="289" y="2204"/>
                  </a:lnTo>
                  <a:lnTo>
                    <a:pt x="283" y="2208"/>
                  </a:lnTo>
                  <a:lnTo>
                    <a:pt x="283" y="2213"/>
                  </a:lnTo>
                  <a:lnTo>
                    <a:pt x="291" y="2217"/>
                  </a:lnTo>
                  <a:lnTo>
                    <a:pt x="302" y="2222"/>
                  </a:lnTo>
                  <a:lnTo>
                    <a:pt x="308" y="2226"/>
                  </a:lnTo>
                  <a:lnTo>
                    <a:pt x="314" y="2231"/>
                  </a:lnTo>
                  <a:lnTo>
                    <a:pt x="329" y="2235"/>
                  </a:lnTo>
                  <a:lnTo>
                    <a:pt x="336" y="2240"/>
                  </a:lnTo>
                  <a:lnTo>
                    <a:pt x="342" y="2244"/>
                  </a:lnTo>
                  <a:lnTo>
                    <a:pt x="346" y="2249"/>
                  </a:lnTo>
                  <a:lnTo>
                    <a:pt x="346" y="2253"/>
                  </a:lnTo>
                  <a:lnTo>
                    <a:pt x="348" y="2258"/>
                  </a:lnTo>
                  <a:lnTo>
                    <a:pt x="350" y="2262"/>
                  </a:lnTo>
                  <a:lnTo>
                    <a:pt x="355" y="2267"/>
                  </a:lnTo>
                  <a:lnTo>
                    <a:pt x="357" y="2271"/>
                  </a:lnTo>
                  <a:lnTo>
                    <a:pt x="357" y="2276"/>
                  </a:lnTo>
                  <a:lnTo>
                    <a:pt x="355" y="2280"/>
                  </a:lnTo>
                  <a:lnTo>
                    <a:pt x="350" y="2285"/>
                  </a:lnTo>
                  <a:lnTo>
                    <a:pt x="344" y="2289"/>
                  </a:lnTo>
                  <a:lnTo>
                    <a:pt x="338" y="2294"/>
                  </a:lnTo>
                  <a:lnTo>
                    <a:pt x="331" y="2298"/>
                  </a:lnTo>
                  <a:lnTo>
                    <a:pt x="329" y="2303"/>
                  </a:lnTo>
                  <a:lnTo>
                    <a:pt x="319" y="2307"/>
                  </a:lnTo>
                  <a:lnTo>
                    <a:pt x="312" y="2312"/>
                  </a:lnTo>
                  <a:lnTo>
                    <a:pt x="312" y="2316"/>
                  </a:lnTo>
                  <a:lnTo>
                    <a:pt x="312" y="2321"/>
                  </a:lnTo>
                  <a:lnTo>
                    <a:pt x="312" y="2325"/>
                  </a:lnTo>
                  <a:lnTo>
                    <a:pt x="312" y="2330"/>
                  </a:lnTo>
                  <a:lnTo>
                    <a:pt x="312" y="2334"/>
                  </a:lnTo>
                  <a:lnTo>
                    <a:pt x="308" y="2339"/>
                  </a:lnTo>
                  <a:lnTo>
                    <a:pt x="297" y="2343"/>
                  </a:lnTo>
                  <a:lnTo>
                    <a:pt x="291" y="2348"/>
                  </a:lnTo>
                  <a:lnTo>
                    <a:pt x="287" y="2352"/>
                  </a:lnTo>
                  <a:lnTo>
                    <a:pt x="285" y="2357"/>
                  </a:lnTo>
                  <a:lnTo>
                    <a:pt x="280" y="2361"/>
                  </a:lnTo>
                  <a:lnTo>
                    <a:pt x="276" y="2366"/>
                  </a:lnTo>
                  <a:lnTo>
                    <a:pt x="274" y="2370"/>
                  </a:lnTo>
                  <a:lnTo>
                    <a:pt x="274" y="2375"/>
                  </a:lnTo>
                  <a:lnTo>
                    <a:pt x="274" y="2379"/>
                  </a:lnTo>
                  <a:lnTo>
                    <a:pt x="276" y="2384"/>
                  </a:lnTo>
                  <a:lnTo>
                    <a:pt x="278" y="2388"/>
                  </a:lnTo>
                  <a:lnTo>
                    <a:pt x="280" y="2393"/>
                  </a:lnTo>
                  <a:lnTo>
                    <a:pt x="285" y="2397"/>
                  </a:lnTo>
                  <a:lnTo>
                    <a:pt x="289" y="2402"/>
                  </a:lnTo>
                  <a:lnTo>
                    <a:pt x="291" y="2406"/>
                  </a:lnTo>
                  <a:lnTo>
                    <a:pt x="291" y="2411"/>
                  </a:lnTo>
                  <a:lnTo>
                    <a:pt x="291" y="2415"/>
                  </a:lnTo>
                  <a:lnTo>
                    <a:pt x="289" y="2420"/>
                  </a:lnTo>
                  <a:lnTo>
                    <a:pt x="287" y="2424"/>
                  </a:lnTo>
                  <a:lnTo>
                    <a:pt x="287" y="2429"/>
                  </a:lnTo>
                  <a:lnTo>
                    <a:pt x="285" y="2433"/>
                  </a:lnTo>
                  <a:lnTo>
                    <a:pt x="289" y="2438"/>
                  </a:lnTo>
                  <a:lnTo>
                    <a:pt x="291" y="2442"/>
                  </a:lnTo>
                  <a:lnTo>
                    <a:pt x="293" y="2447"/>
                  </a:lnTo>
                  <a:lnTo>
                    <a:pt x="304" y="2451"/>
                  </a:lnTo>
                  <a:lnTo>
                    <a:pt x="304" y="2456"/>
                  </a:lnTo>
                  <a:lnTo>
                    <a:pt x="302" y="2460"/>
                  </a:lnTo>
                  <a:lnTo>
                    <a:pt x="302" y="2465"/>
                  </a:lnTo>
                  <a:lnTo>
                    <a:pt x="270" y="2469"/>
                  </a:lnTo>
                  <a:lnTo>
                    <a:pt x="225" y="2474"/>
                  </a:lnTo>
                  <a:lnTo>
                    <a:pt x="189" y="2478"/>
                  </a:lnTo>
                  <a:lnTo>
                    <a:pt x="76" y="2483"/>
                  </a:lnTo>
                  <a:lnTo>
                    <a:pt x="36" y="2487"/>
                  </a:lnTo>
                  <a:lnTo>
                    <a:pt x="13" y="2492"/>
                  </a:lnTo>
                  <a:lnTo>
                    <a:pt x="2" y="2496"/>
                  </a:lnTo>
                  <a:lnTo>
                    <a:pt x="0" y="2501"/>
                  </a:lnTo>
                  <a:lnTo>
                    <a:pt x="0" y="2505"/>
                  </a:lnTo>
                  <a:lnTo>
                    <a:pt x="0" y="2510"/>
                  </a:lnTo>
                  <a:lnTo>
                    <a:pt x="4" y="2514"/>
                  </a:lnTo>
                  <a:lnTo>
                    <a:pt x="15" y="2519"/>
                  </a:lnTo>
                  <a:lnTo>
                    <a:pt x="17" y="2523"/>
                  </a:lnTo>
                  <a:lnTo>
                    <a:pt x="17" y="2528"/>
                  </a:lnTo>
                  <a:lnTo>
                    <a:pt x="17" y="2532"/>
                  </a:lnTo>
                  <a:lnTo>
                    <a:pt x="15" y="2537"/>
                  </a:lnTo>
                  <a:lnTo>
                    <a:pt x="13" y="2541"/>
                  </a:lnTo>
                  <a:lnTo>
                    <a:pt x="17" y="2546"/>
                  </a:lnTo>
                  <a:lnTo>
                    <a:pt x="19" y="2550"/>
                  </a:lnTo>
                  <a:lnTo>
                    <a:pt x="17" y="2555"/>
                  </a:lnTo>
                  <a:lnTo>
                    <a:pt x="15" y="2559"/>
                  </a:lnTo>
                  <a:lnTo>
                    <a:pt x="15" y="2564"/>
                  </a:lnTo>
                  <a:lnTo>
                    <a:pt x="11" y="2568"/>
                  </a:lnTo>
                  <a:lnTo>
                    <a:pt x="6" y="2573"/>
                  </a:lnTo>
                  <a:lnTo>
                    <a:pt x="6" y="2577"/>
                  </a:lnTo>
                  <a:lnTo>
                    <a:pt x="6" y="2582"/>
                  </a:lnTo>
                </a:path>
              </a:pathLst>
            </a:custGeom>
            <a:noFill/>
            <a:ln w="2844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Freeform 291"/>
            <p:cNvSpPr/>
            <p:nvPr/>
          </p:nvSpPr>
          <p:spPr>
            <a:xfrm>
              <a:off x="1109520" y="2157480"/>
              <a:ext cx="754200" cy="4379760"/>
            </a:xfrm>
            <a:custGeom>
              <a:avLst/>
              <a:gdLst>
                <a:gd name="textAreaLeft" fmla="*/ 0 w 754200"/>
                <a:gd name="textAreaRight" fmla="*/ 754560 w 754200"/>
                <a:gd name="textAreaTop" fmla="*/ 0 h 4379760"/>
                <a:gd name="textAreaBottom" fmla="*/ 4380120 h 4379760"/>
              </a:gdLst>
              <a:ahLst/>
              <a:rect l="textAreaLeft" t="textAreaTop" r="textAreaRight" b="textAreaBottom"/>
              <a:pathLst>
                <a:path w="446" h="2582">
                  <a:moveTo>
                    <a:pt x="395" y="0"/>
                  </a:moveTo>
                  <a:lnTo>
                    <a:pt x="397" y="4"/>
                  </a:lnTo>
                  <a:lnTo>
                    <a:pt x="402" y="9"/>
                  </a:lnTo>
                  <a:lnTo>
                    <a:pt x="404" y="13"/>
                  </a:lnTo>
                  <a:lnTo>
                    <a:pt x="389" y="18"/>
                  </a:lnTo>
                  <a:lnTo>
                    <a:pt x="376" y="22"/>
                  </a:lnTo>
                  <a:lnTo>
                    <a:pt x="366" y="27"/>
                  </a:lnTo>
                  <a:lnTo>
                    <a:pt x="355" y="31"/>
                  </a:lnTo>
                  <a:lnTo>
                    <a:pt x="351" y="36"/>
                  </a:lnTo>
                  <a:lnTo>
                    <a:pt x="349" y="40"/>
                  </a:lnTo>
                  <a:lnTo>
                    <a:pt x="361" y="45"/>
                  </a:lnTo>
                  <a:lnTo>
                    <a:pt x="372" y="49"/>
                  </a:lnTo>
                  <a:lnTo>
                    <a:pt x="380" y="54"/>
                  </a:lnTo>
                  <a:lnTo>
                    <a:pt x="383" y="58"/>
                  </a:lnTo>
                  <a:lnTo>
                    <a:pt x="391" y="63"/>
                  </a:lnTo>
                  <a:lnTo>
                    <a:pt x="395" y="67"/>
                  </a:lnTo>
                  <a:lnTo>
                    <a:pt x="402" y="72"/>
                  </a:lnTo>
                  <a:lnTo>
                    <a:pt x="408" y="76"/>
                  </a:lnTo>
                  <a:lnTo>
                    <a:pt x="393" y="81"/>
                  </a:lnTo>
                  <a:lnTo>
                    <a:pt x="400" y="85"/>
                  </a:lnTo>
                  <a:lnTo>
                    <a:pt x="423" y="90"/>
                  </a:lnTo>
                  <a:lnTo>
                    <a:pt x="425" y="94"/>
                  </a:lnTo>
                  <a:lnTo>
                    <a:pt x="425" y="99"/>
                  </a:lnTo>
                  <a:lnTo>
                    <a:pt x="434" y="103"/>
                  </a:lnTo>
                  <a:lnTo>
                    <a:pt x="436" y="108"/>
                  </a:lnTo>
                  <a:lnTo>
                    <a:pt x="446" y="112"/>
                  </a:lnTo>
                  <a:lnTo>
                    <a:pt x="436" y="117"/>
                  </a:lnTo>
                  <a:lnTo>
                    <a:pt x="427" y="121"/>
                  </a:lnTo>
                  <a:lnTo>
                    <a:pt x="402" y="126"/>
                  </a:lnTo>
                  <a:lnTo>
                    <a:pt x="391" y="130"/>
                  </a:lnTo>
                  <a:lnTo>
                    <a:pt x="395" y="135"/>
                  </a:lnTo>
                  <a:lnTo>
                    <a:pt x="400" y="139"/>
                  </a:lnTo>
                  <a:lnTo>
                    <a:pt x="419" y="144"/>
                  </a:lnTo>
                  <a:lnTo>
                    <a:pt x="423" y="148"/>
                  </a:lnTo>
                  <a:lnTo>
                    <a:pt x="436" y="153"/>
                  </a:lnTo>
                  <a:lnTo>
                    <a:pt x="434" y="157"/>
                  </a:lnTo>
                  <a:lnTo>
                    <a:pt x="431" y="162"/>
                  </a:lnTo>
                  <a:lnTo>
                    <a:pt x="414" y="166"/>
                  </a:lnTo>
                  <a:lnTo>
                    <a:pt x="404" y="171"/>
                  </a:lnTo>
                  <a:lnTo>
                    <a:pt x="414" y="175"/>
                  </a:lnTo>
                  <a:lnTo>
                    <a:pt x="427" y="180"/>
                  </a:lnTo>
                  <a:lnTo>
                    <a:pt x="442" y="184"/>
                  </a:lnTo>
                  <a:lnTo>
                    <a:pt x="444" y="189"/>
                  </a:lnTo>
                  <a:lnTo>
                    <a:pt x="404" y="193"/>
                  </a:lnTo>
                  <a:lnTo>
                    <a:pt x="270" y="198"/>
                  </a:lnTo>
                  <a:lnTo>
                    <a:pt x="149" y="202"/>
                  </a:lnTo>
                  <a:lnTo>
                    <a:pt x="64" y="207"/>
                  </a:lnTo>
                  <a:lnTo>
                    <a:pt x="47" y="211"/>
                  </a:lnTo>
                  <a:lnTo>
                    <a:pt x="19" y="216"/>
                  </a:lnTo>
                  <a:lnTo>
                    <a:pt x="15" y="220"/>
                  </a:lnTo>
                  <a:lnTo>
                    <a:pt x="0" y="225"/>
                  </a:lnTo>
                  <a:lnTo>
                    <a:pt x="7" y="229"/>
                  </a:lnTo>
                  <a:lnTo>
                    <a:pt x="21" y="234"/>
                  </a:lnTo>
                  <a:lnTo>
                    <a:pt x="26" y="238"/>
                  </a:lnTo>
                  <a:lnTo>
                    <a:pt x="36" y="243"/>
                  </a:lnTo>
                  <a:lnTo>
                    <a:pt x="47" y="247"/>
                  </a:lnTo>
                  <a:lnTo>
                    <a:pt x="66" y="252"/>
                  </a:lnTo>
                  <a:lnTo>
                    <a:pt x="94" y="256"/>
                  </a:lnTo>
                  <a:lnTo>
                    <a:pt x="77" y="261"/>
                  </a:lnTo>
                  <a:lnTo>
                    <a:pt x="77" y="265"/>
                  </a:lnTo>
                  <a:lnTo>
                    <a:pt x="77" y="270"/>
                  </a:lnTo>
                  <a:lnTo>
                    <a:pt x="68" y="274"/>
                  </a:lnTo>
                  <a:lnTo>
                    <a:pt x="64" y="279"/>
                  </a:lnTo>
                  <a:lnTo>
                    <a:pt x="51" y="283"/>
                  </a:lnTo>
                  <a:lnTo>
                    <a:pt x="51" y="288"/>
                  </a:lnTo>
                  <a:lnTo>
                    <a:pt x="58" y="292"/>
                  </a:lnTo>
                  <a:lnTo>
                    <a:pt x="58" y="297"/>
                  </a:lnTo>
                  <a:lnTo>
                    <a:pt x="47" y="301"/>
                  </a:lnTo>
                  <a:lnTo>
                    <a:pt x="49" y="306"/>
                  </a:lnTo>
                  <a:lnTo>
                    <a:pt x="47" y="310"/>
                  </a:lnTo>
                  <a:lnTo>
                    <a:pt x="49" y="315"/>
                  </a:lnTo>
                  <a:lnTo>
                    <a:pt x="60" y="319"/>
                  </a:lnTo>
                  <a:lnTo>
                    <a:pt x="70" y="324"/>
                  </a:lnTo>
                  <a:lnTo>
                    <a:pt x="70" y="328"/>
                  </a:lnTo>
                  <a:lnTo>
                    <a:pt x="68" y="333"/>
                  </a:lnTo>
                  <a:lnTo>
                    <a:pt x="62" y="337"/>
                  </a:lnTo>
                  <a:lnTo>
                    <a:pt x="62" y="342"/>
                  </a:lnTo>
                  <a:lnTo>
                    <a:pt x="60" y="346"/>
                  </a:lnTo>
                  <a:lnTo>
                    <a:pt x="51" y="351"/>
                  </a:lnTo>
                  <a:lnTo>
                    <a:pt x="53" y="355"/>
                  </a:lnTo>
                  <a:lnTo>
                    <a:pt x="55" y="360"/>
                  </a:lnTo>
                  <a:lnTo>
                    <a:pt x="60" y="364"/>
                  </a:lnTo>
                  <a:lnTo>
                    <a:pt x="51" y="369"/>
                  </a:lnTo>
                  <a:lnTo>
                    <a:pt x="53" y="373"/>
                  </a:lnTo>
                  <a:lnTo>
                    <a:pt x="53" y="378"/>
                  </a:lnTo>
                  <a:lnTo>
                    <a:pt x="53" y="382"/>
                  </a:lnTo>
                  <a:lnTo>
                    <a:pt x="53" y="387"/>
                  </a:lnTo>
                  <a:lnTo>
                    <a:pt x="55" y="391"/>
                  </a:lnTo>
                  <a:lnTo>
                    <a:pt x="60" y="396"/>
                  </a:lnTo>
                  <a:lnTo>
                    <a:pt x="62" y="400"/>
                  </a:lnTo>
                  <a:lnTo>
                    <a:pt x="58" y="405"/>
                  </a:lnTo>
                  <a:lnTo>
                    <a:pt x="58" y="409"/>
                  </a:lnTo>
                  <a:lnTo>
                    <a:pt x="55" y="414"/>
                  </a:lnTo>
                  <a:lnTo>
                    <a:pt x="62" y="418"/>
                  </a:lnTo>
                  <a:lnTo>
                    <a:pt x="55" y="423"/>
                  </a:lnTo>
                  <a:lnTo>
                    <a:pt x="64" y="427"/>
                  </a:lnTo>
                  <a:lnTo>
                    <a:pt x="60" y="432"/>
                  </a:lnTo>
                  <a:lnTo>
                    <a:pt x="47" y="436"/>
                  </a:lnTo>
                  <a:lnTo>
                    <a:pt x="38" y="441"/>
                  </a:lnTo>
                  <a:lnTo>
                    <a:pt x="34" y="445"/>
                  </a:lnTo>
                  <a:lnTo>
                    <a:pt x="24" y="450"/>
                  </a:lnTo>
                  <a:lnTo>
                    <a:pt x="21" y="454"/>
                  </a:lnTo>
                  <a:lnTo>
                    <a:pt x="34" y="459"/>
                  </a:lnTo>
                  <a:lnTo>
                    <a:pt x="38" y="463"/>
                  </a:lnTo>
                  <a:lnTo>
                    <a:pt x="38" y="468"/>
                  </a:lnTo>
                  <a:lnTo>
                    <a:pt x="43" y="472"/>
                  </a:lnTo>
                  <a:lnTo>
                    <a:pt x="53" y="477"/>
                  </a:lnTo>
                  <a:lnTo>
                    <a:pt x="43" y="481"/>
                  </a:lnTo>
                  <a:lnTo>
                    <a:pt x="43" y="486"/>
                  </a:lnTo>
                  <a:lnTo>
                    <a:pt x="43" y="490"/>
                  </a:lnTo>
                  <a:lnTo>
                    <a:pt x="36" y="495"/>
                  </a:lnTo>
                  <a:lnTo>
                    <a:pt x="45" y="499"/>
                  </a:lnTo>
                  <a:lnTo>
                    <a:pt x="47" y="504"/>
                  </a:lnTo>
                  <a:lnTo>
                    <a:pt x="47" y="508"/>
                  </a:lnTo>
                  <a:lnTo>
                    <a:pt x="28" y="512"/>
                  </a:lnTo>
                  <a:lnTo>
                    <a:pt x="30" y="517"/>
                  </a:lnTo>
                  <a:lnTo>
                    <a:pt x="43" y="521"/>
                  </a:lnTo>
                  <a:lnTo>
                    <a:pt x="43" y="526"/>
                  </a:lnTo>
                  <a:lnTo>
                    <a:pt x="28" y="530"/>
                  </a:lnTo>
                  <a:lnTo>
                    <a:pt x="28" y="535"/>
                  </a:lnTo>
                  <a:lnTo>
                    <a:pt x="32" y="539"/>
                  </a:lnTo>
                  <a:lnTo>
                    <a:pt x="36" y="544"/>
                  </a:lnTo>
                  <a:lnTo>
                    <a:pt x="41" y="548"/>
                  </a:lnTo>
                  <a:lnTo>
                    <a:pt x="51" y="553"/>
                  </a:lnTo>
                  <a:lnTo>
                    <a:pt x="62" y="557"/>
                  </a:lnTo>
                  <a:lnTo>
                    <a:pt x="60" y="562"/>
                  </a:lnTo>
                  <a:lnTo>
                    <a:pt x="66" y="566"/>
                  </a:lnTo>
                  <a:lnTo>
                    <a:pt x="72" y="571"/>
                  </a:lnTo>
                  <a:lnTo>
                    <a:pt x="70" y="575"/>
                  </a:lnTo>
                  <a:lnTo>
                    <a:pt x="62" y="580"/>
                  </a:lnTo>
                  <a:lnTo>
                    <a:pt x="62" y="584"/>
                  </a:lnTo>
                  <a:lnTo>
                    <a:pt x="51" y="589"/>
                  </a:lnTo>
                  <a:lnTo>
                    <a:pt x="45" y="593"/>
                  </a:lnTo>
                  <a:lnTo>
                    <a:pt x="45" y="598"/>
                  </a:lnTo>
                  <a:lnTo>
                    <a:pt x="53" y="602"/>
                  </a:lnTo>
                  <a:lnTo>
                    <a:pt x="49" y="607"/>
                  </a:lnTo>
                  <a:lnTo>
                    <a:pt x="45" y="611"/>
                  </a:lnTo>
                  <a:lnTo>
                    <a:pt x="49" y="616"/>
                  </a:lnTo>
                  <a:lnTo>
                    <a:pt x="51" y="620"/>
                  </a:lnTo>
                  <a:lnTo>
                    <a:pt x="51" y="625"/>
                  </a:lnTo>
                  <a:lnTo>
                    <a:pt x="51" y="629"/>
                  </a:lnTo>
                  <a:lnTo>
                    <a:pt x="53" y="634"/>
                  </a:lnTo>
                  <a:lnTo>
                    <a:pt x="70" y="638"/>
                  </a:lnTo>
                  <a:lnTo>
                    <a:pt x="72" y="643"/>
                  </a:lnTo>
                  <a:lnTo>
                    <a:pt x="68" y="647"/>
                  </a:lnTo>
                  <a:lnTo>
                    <a:pt x="64" y="652"/>
                  </a:lnTo>
                  <a:lnTo>
                    <a:pt x="66" y="656"/>
                  </a:lnTo>
                  <a:lnTo>
                    <a:pt x="70" y="661"/>
                  </a:lnTo>
                  <a:lnTo>
                    <a:pt x="79" y="665"/>
                  </a:lnTo>
                  <a:lnTo>
                    <a:pt x="94" y="670"/>
                  </a:lnTo>
                  <a:lnTo>
                    <a:pt x="94" y="674"/>
                  </a:lnTo>
                  <a:lnTo>
                    <a:pt x="72" y="679"/>
                  </a:lnTo>
                  <a:lnTo>
                    <a:pt x="60" y="683"/>
                  </a:lnTo>
                  <a:lnTo>
                    <a:pt x="64" y="688"/>
                  </a:lnTo>
                  <a:lnTo>
                    <a:pt x="66" y="692"/>
                  </a:lnTo>
                  <a:lnTo>
                    <a:pt x="77" y="697"/>
                  </a:lnTo>
                  <a:lnTo>
                    <a:pt x="77" y="701"/>
                  </a:lnTo>
                  <a:lnTo>
                    <a:pt x="75" y="706"/>
                  </a:lnTo>
                  <a:lnTo>
                    <a:pt x="75" y="710"/>
                  </a:lnTo>
                  <a:lnTo>
                    <a:pt x="85" y="715"/>
                  </a:lnTo>
                  <a:lnTo>
                    <a:pt x="85" y="719"/>
                  </a:lnTo>
                  <a:lnTo>
                    <a:pt x="75" y="724"/>
                  </a:lnTo>
                  <a:lnTo>
                    <a:pt x="72" y="728"/>
                  </a:lnTo>
                  <a:lnTo>
                    <a:pt x="81" y="733"/>
                  </a:lnTo>
                  <a:lnTo>
                    <a:pt x="89" y="737"/>
                  </a:lnTo>
                  <a:lnTo>
                    <a:pt x="83" y="742"/>
                  </a:lnTo>
                  <a:lnTo>
                    <a:pt x="79" y="746"/>
                  </a:lnTo>
                  <a:lnTo>
                    <a:pt x="79" y="751"/>
                  </a:lnTo>
                  <a:lnTo>
                    <a:pt x="81" y="755"/>
                  </a:lnTo>
                  <a:lnTo>
                    <a:pt x="83" y="760"/>
                  </a:lnTo>
                  <a:lnTo>
                    <a:pt x="83" y="764"/>
                  </a:lnTo>
                  <a:lnTo>
                    <a:pt x="85" y="769"/>
                  </a:lnTo>
                  <a:lnTo>
                    <a:pt x="85" y="773"/>
                  </a:lnTo>
                  <a:lnTo>
                    <a:pt x="79" y="778"/>
                  </a:lnTo>
                  <a:lnTo>
                    <a:pt x="75" y="782"/>
                  </a:lnTo>
                  <a:lnTo>
                    <a:pt x="79" y="787"/>
                  </a:lnTo>
                  <a:lnTo>
                    <a:pt x="96" y="791"/>
                  </a:lnTo>
                  <a:lnTo>
                    <a:pt x="111" y="796"/>
                  </a:lnTo>
                  <a:lnTo>
                    <a:pt x="111" y="800"/>
                  </a:lnTo>
                  <a:lnTo>
                    <a:pt x="113" y="805"/>
                  </a:lnTo>
                  <a:lnTo>
                    <a:pt x="106" y="809"/>
                  </a:lnTo>
                  <a:lnTo>
                    <a:pt x="115" y="814"/>
                  </a:lnTo>
                  <a:lnTo>
                    <a:pt x="126" y="818"/>
                  </a:lnTo>
                  <a:lnTo>
                    <a:pt x="145" y="823"/>
                  </a:lnTo>
                  <a:lnTo>
                    <a:pt x="174" y="827"/>
                  </a:lnTo>
                  <a:lnTo>
                    <a:pt x="174" y="832"/>
                  </a:lnTo>
                  <a:lnTo>
                    <a:pt x="164" y="836"/>
                  </a:lnTo>
                  <a:lnTo>
                    <a:pt x="174" y="841"/>
                  </a:lnTo>
                  <a:lnTo>
                    <a:pt x="245" y="845"/>
                  </a:lnTo>
                  <a:lnTo>
                    <a:pt x="253" y="850"/>
                  </a:lnTo>
                  <a:lnTo>
                    <a:pt x="293" y="854"/>
                  </a:lnTo>
                  <a:lnTo>
                    <a:pt x="323" y="859"/>
                  </a:lnTo>
                  <a:lnTo>
                    <a:pt x="325" y="863"/>
                  </a:lnTo>
                  <a:lnTo>
                    <a:pt x="281" y="868"/>
                  </a:lnTo>
                  <a:lnTo>
                    <a:pt x="240" y="872"/>
                  </a:lnTo>
                  <a:lnTo>
                    <a:pt x="221" y="877"/>
                  </a:lnTo>
                  <a:lnTo>
                    <a:pt x="191" y="881"/>
                  </a:lnTo>
                  <a:lnTo>
                    <a:pt x="151" y="886"/>
                  </a:lnTo>
                  <a:lnTo>
                    <a:pt x="111" y="890"/>
                  </a:lnTo>
                  <a:lnTo>
                    <a:pt x="102" y="895"/>
                  </a:lnTo>
                  <a:lnTo>
                    <a:pt x="85" y="899"/>
                  </a:lnTo>
                  <a:lnTo>
                    <a:pt x="75" y="904"/>
                  </a:lnTo>
                  <a:lnTo>
                    <a:pt x="72" y="908"/>
                  </a:lnTo>
                  <a:lnTo>
                    <a:pt x="75" y="913"/>
                  </a:lnTo>
                  <a:lnTo>
                    <a:pt x="87" y="917"/>
                  </a:lnTo>
                  <a:lnTo>
                    <a:pt x="83" y="922"/>
                  </a:lnTo>
                  <a:lnTo>
                    <a:pt x="77" y="926"/>
                  </a:lnTo>
                  <a:lnTo>
                    <a:pt x="72" y="931"/>
                  </a:lnTo>
                  <a:lnTo>
                    <a:pt x="58" y="935"/>
                  </a:lnTo>
                  <a:lnTo>
                    <a:pt x="55" y="940"/>
                  </a:lnTo>
                  <a:lnTo>
                    <a:pt x="64" y="944"/>
                  </a:lnTo>
                  <a:lnTo>
                    <a:pt x="72" y="949"/>
                  </a:lnTo>
                  <a:lnTo>
                    <a:pt x="70" y="953"/>
                  </a:lnTo>
                  <a:lnTo>
                    <a:pt x="70" y="958"/>
                  </a:lnTo>
                  <a:lnTo>
                    <a:pt x="53" y="962"/>
                  </a:lnTo>
                  <a:lnTo>
                    <a:pt x="51" y="967"/>
                  </a:lnTo>
                  <a:lnTo>
                    <a:pt x="62" y="971"/>
                  </a:lnTo>
                  <a:lnTo>
                    <a:pt x="72" y="976"/>
                  </a:lnTo>
                  <a:lnTo>
                    <a:pt x="87" y="980"/>
                  </a:lnTo>
                  <a:lnTo>
                    <a:pt x="121" y="985"/>
                  </a:lnTo>
                  <a:lnTo>
                    <a:pt x="136" y="989"/>
                  </a:lnTo>
                  <a:lnTo>
                    <a:pt x="147" y="994"/>
                  </a:lnTo>
                  <a:lnTo>
                    <a:pt x="123" y="998"/>
                  </a:lnTo>
                  <a:lnTo>
                    <a:pt x="115" y="1003"/>
                  </a:lnTo>
                  <a:lnTo>
                    <a:pt x="77" y="1007"/>
                  </a:lnTo>
                  <a:lnTo>
                    <a:pt x="62" y="1012"/>
                  </a:lnTo>
                  <a:lnTo>
                    <a:pt x="68" y="1016"/>
                  </a:lnTo>
                  <a:lnTo>
                    <a:pt x="58" y="1021"/>
                  </a:lnTo>
                  <a:lnTo>
                    <a:pt x="55" y="1025"/>
                  </a:lnTo>
                  <a:lnTo>
                    <a:pt x="64" y="1030"/>
                  </a:lnTo>
                  <a:lnTo>
                    <a:pt x="64" y="1034"/>
                  </a:lnTo>
                  <a:lnTo>
                    <a:pt x="62" y="1039"/>
                  </a:lnTo>
                  <a:lnTo>
                    <a:pt x="62" y="1043"/>
                  </a:lnTo>
                  <a:lnTo>
                    <a:pt x="43" y="1048"/>
                  </a:lnTo>
                  <a:lnTo>
                    <a:pt x="34" y="1052"/>
                  </a:lnTo>
                  <a:lnTo>
                    <a:pt x="49" y="1057"/>
                  </a:lnTo>
                  <a:lnTo>
                    <a:pt x="66" y="1061"/>
                  </a:lnTo>
                  <a:lnTo>
                    <a:pt x="64" y="1066"/>
                  </a:lnTo>
                  <a:lnTo>
                    <a:pt x="66" y="1070"/>
                  </a:lnTo>
                  <a:lnTo>
                    <a:pt x="77" y="1075"/>
                  </a:lnTo>
                  <a:lnTo>
                    <a:pt x="75" y="1079"/>
                  </a:lnTo>
                  <a:lnTo>
                    <a:pt x="79" y="1084"/>
                  </a:lnTo>
                  <a:lnTo>
                    <a:pt x="87" y="1088"/>
                  </a:lnTo>
                  <a:lnTo>
                    <a:pt x="96" y="1093"/>
                  </a:lnTo>
                  <a:lnTo>
                    <a:pt x="92" y="1097"/>
                  </a:lnTo>
                  <a:lnTo>
                    <a:pt x="81" y="1102"/>
                  </a:lnTo>
                  <a:lnTo>
                    <a:pt x="85" y="1106"/>
                  </a:lnTo>
                  <a:lnTo>
                    <a:pt x="96" y="1111"/>
                  </a:lnTo>
                  <a:lnTo>
                    <a:pt x="89" y="1115"/>
                  </a:lnTo>
                  <a:lnTo>
                    <a:pt x="89" y="1120"/>
                  </a:lnTo>
                  <a:lnTo>
                    <a:pt x="96" y="1124"/>
                  </a:lnTo>
                  <a:lnTo>
                    <a:pt x="100" y="1129"/>
                  </a:lnTo>
                  <a:lnTo>
                    <a:pt x="94" y="1133"/>
                  </a:lnTo>
                  <a:lnTo>
                    <a:pt x="79" y="1138"/>
                  </a:lnTo>
                  <a:lnTo>
                    <a:pt x="72" y="1142"/>
                  </a:lnTo>
                  <a:lnTo>
                    <a:pt x="70" y="1147"/>
                  </a:lnTo>
                  <a:lnTo>
                    <a:pt x="66" y="1151"/>
                  </a:lnTo>
                  <a:lnTo>
                    <a:pt x="58" y="1156"/>
                  </a:lnTo>
                  <a:lnTo>
                    <a:pt x="45" y="1160"/>
                  </a:lnTo>
                  <a:lnTo>
                    <a:pt x="36" y="1165"/>
                  </a:lnTo>
                  <a:lnTo>
                    <a:pt x="34" y="1169"/>
                  </a:lnTo>
                  <a:lnTo>
                    <a:pt x="30" y="1174"/>
                  </a:lnTo>
                  <a:lnTo>
                    <a:pt x="28" y="1178"/>
                  </a:lnTo>
                  <a:lnTo>
                    <a:pt x="47" y="1183"/>
                  </a:lnTo>
                  <a:lnTo>
                    <a:pt x="53" y="1187"/>
                  </a:lnTo>
                  <a:lnTo>
                    <a:pt x="62" y="1192"/>
                  </a:lnTo>
                  <a:lnTo>
                    <a:pt x="72" y="1196"/>
                  </a:lnTo>
                  <a:lnTo>
                    <a:pt x="62" y="1201"/>
                  </a:lnTo>
                  <a:lnTo>
                    <a:pt x="51" y="1205"/>
                  </a:lnTo>
                  <a:lnTo>
                    <a:pt x="41" y="1210"/>
                  </a:lnTo>
                  <a:lnTo>
                    <a:pt x="45" y="1214"/>
                  </a:lnTo>
                  <a:lnTo>
                    <a:pt x="49" y="1219"/>
                  </a:lnTo>
                  <a:lnTo>
                    <a:pt x="38" y="1223"/>
                  </a:lnTo>
                  <a:lnTo>
                    <a:pt x="30" y="1228"/>
                  </a:lnTo>
                  <a:lnTo>
                    <a:pt x="36" y="1232"/>
                  </a:lnTo>
                  <a:lnTo>
                    <a:pt x="38" y="1237"/>
                  </a:lnTo>
                  <a:lnTo>
                    <a:pt x="34" y="1241"/>
                  </a:lnTo>
                  <a:lnTo>
                    <a:pt x="36" y="1246"/>
                  </a:lnTo>
                  <a:lnTo>
                    <a:pt x="43" y="1250"/>
                  </a:lnTo>
                  <a:lnTo>
                    <a:pt x="43" y="1255"/>
                  </a:lnTo>
                  <a:lnTo>
                    <a:pt x="36" y="1259"/>
                  </a:lnTo>
                  <a:lnTo>
                    <a:pt x="28" y="1264"/>
                  </a:lnTo>
                  <a:lnTo>
                    <a:pt x="19" y="1268"/>
                  </a:lnTo>
                  <a:lnTo>
                    <a:pt x="21" y="1273"/>
                  </a:lnTo>
                  <a:lnTo>
                    <a:pt x="45" y="1277"/>
                  </a:lnTo>
                  <a:lnTo>
                    <a:pt x="49" y="1282"/>
                  </a:lnTo>
                  <a:lnTo>
                    <a:pt x="62" y="1286"/>
                  </a:lnTo>
                  <a:lnTo>
                    <a:pt x="75" y="1291"/>
                  </a:lnTo>
                  <a:lnTo>
                    <a:pt x="72" y="1295"/>
                  </a:lnTo>
                  <a:lnTo>
                    <a:pt x="62" y="1300"/>
                  </a:lnTo>
                  <a:lnTo>
                    <a:pt x="64" y="1304"/>
                  </a:lnTo>
                  <a:lnTo>
                    <a:pt x="77" y="1309"/>
                  </a:lnTo>
                  <a:lnTo>
                    <a:pt x="79" y="1313"/>
                  </a:lnTo>
                  <a:lnTo>
                    <a:pt x="77" y="1318"/>
                  </a:lnTo>
                  <a:lnTo>
                    <a:pt x="72" y="1322"/>
                  </a:lnTo>
                  <a:lnTo>
                    <a:pt x="68" y="1327"/>
                  </a:lnTo>
                  <a:lnTo>
                    <a:pt x="66" y="1331"/>
                  </a:lnTo>
                  <a:lnTo>
                    <a:pt x="64" y="1336"/>
                  </a:lnTo>
                  <a:lnTo>
                    <a:pt x="58" y="1340"/>
                  </a:lnTo>
                  <a:lnTo>
                    <a:pt x="58" y="1345"/>
                  </a:lnTo>
                  <a:lnTo>
                    <a:pt x="51" y="1349"/>
                  </a:lnTo>
                  <a:lnTo>
                    <a:pt x="49" y="1354"/>
                  </a:lnTo>
                  <a:lnTo>
                    <a:pt x="55" y="1358"/>
                  </a:lnTo>
                  <a:lnTo>
                    <a:pt x="68" y="1363"/>
                  </a:lnTo>
                  <a:lnTo>
                    <a:pt x="70" y="1367"/>
                  </a:lnTo>
                  <a:lnTo>
                    <a:pt x="72" y="1372"/>
                  </a:lnTo>
                  <a:lnTo>
                    <a:pt x="72" y="1376"/>
                  </a:lnTo>
                  <a:lnTo>
                    <a:pt x="66" y="1381"/>
                  </a:lnTo>
                  <a:lnTo>
                    <a:pt x="64" y="1385"/>
                  </a:lnTo>
                  <a:lnTo>
                    <a:pt x="60" y="1390"/>
                  </a:lnTo>
                  <a:lnTo>
                    <a:pt x="58" y="1394"/>
                  </a:lnTo>
                  <a:lnTo>
                    <a:pt x="60" y="1399"/>
                  </a:lnTo>
                  <a:lnTo>
                    <a:pt x="64" y="1403"/>
                  </a:lnTo>
                  <a:lnTo>
                    <a:pt x="66" y="1408"/>
                  </a:lnTo>
                  <a:lnTo>
                    <a:pt x="60" y="1412"/>
                  </a:lnTo>
                  <a:lnTo>
                    <a:pt x="58" y="1417"/>
                  </a:lnTo>
                  <a:lnTo>
                    <a:pt x="64" y="1421"/>
                  </a:lnTo>
                  <a:lnTo>
                    <a:pt x="58" y="1426"/>
                  </a:lnTo>
                  <a:lnTo>
                    <a:pt x="58" y="1430"/>
                  </a:lnTo>
                  <a:lnTo>
                    <a:pt x="64" y="1435"/>
                  </a:lnTo>
                  <a:lnTo>
                    <a:pt x="66" y="1439"/>
                  </a:lnTo>
                  <a:lnTo>
                    <a:pt x="64" y="1444"/>
                  </a:lnTo>
                  <a:lnTo>
                    <a:pt x="64" y="1448"/>
                  </a:lnTo>
                  <a:lnTo>
                    <a:pt x="68" y="1453"/>
                  </a:lnTo>
                  <a:lnTo>
                    <a:pt x="79" y="1457"/>
                  </a:lnTo>
                  <a:lnTo>
                    <a:pt x="89" y="1462"/>
                  </a:lnTo>
                  <a:lnTo>
                    <a:pt x="85" y="1466"/>
                  </a:lnTo>
                  <a:lnTo>
                    <a:pt x="81" y="1471"/>
                  </a:lnTo>
                  <a:lnTo>
                    <a:pt x="53" y="1475"/>
                  </a:lnTo>
                  <a:lnTo>
                    <a:pt x="51" y="1480"/>
                  </a:lnTo>
                  <a:lnTo>
                    <a:pt x="36" y="1484"/>
                  </a:lnTo>
                  <a:lnTo>
                    <a:pt x="34" y="1489"/>
                  </a:lnTo>
                  <a:lnTo>
                    <a:pt x="26" y="1493"/>
                  </a:lnTo>
                  <a:lnTo>
                    <a:pt x="51" y="1498"/>
                  </a:lnTo>
                  <a:lnTo>
                    <a:pt x="58" y="1502"/>
                  </a:lnTo>
                  <a:lnTo>
                    <a:pt x="60" y="1507"/>
                  </a:lnTo>
                  <a:lnTo>
                    <a:pt x="79" y="1511"/>
                  </a:lnTo>
                  <a:lnTo>
                    <a:pt x="79" y="1516"/>
                  </a:lnTo>
                  <a:lnTo>
                    <a:pt x="70" y="1520"/>
                  </a:lnTo>
                  <a:lnTo>
                    <a:pt x="66" y="1525"/>
                  </a:lnTo>
                  <a:lnTo>
                    <a:pt x="55" y="1529"/>
                  </a:lnTo>
                  <a:lnTo>
                    <a:pt x="51" y="1534"/>
                  </a:lnTo>
                  <a:lnTo>
                    <a:pt x="51" y="1538"/>
                  </a:lnTo>
                  <a:lnTo>
                    <a:pt x="45" y="1543"/>
                  </a:lnTo>
                  <a:lnTo>
                    <a:pt x="45" y="1547"/>
                  </a:lnTo>
                  <a:lnTo>
                    <a:pt x="58" y="1552"/>
                  </a:lnTo>
                  <a:lnTo>
                    <a:pt x="68" y="1556"/>
                  </a:lnTo>
                  <a:lnTo>
                    <a:pt x="55" y="1560"/>
                  </a:lnTo>
                  <a:lnTo>
                    <a:pt x="51" y="1565"/>
                  </a:lnTo>
                  <a:lnTo>
                    <a:pt x="45" y="1569"/>
                  </a:lnTo>
                  <a:lnTo>
                    <a:pt x="45" y="1574"/>
                  </a:lnTo>
                  <a:lnTo>
                    <a:pt x="45" y="1578"/>
                  </a:lnTo>
                  <a:lnTo>
                    <a:pt x="45" y="1583"/>
                  </a:lnTo>
                  <a:lnTo>
                    <a:pt x="30" y="1587"/>
                  </a:lnTo>
                  <a:lnTo>
                    <a:pt x="28" y="1592"/>
                  </a:lnTo>
                  <a:lnTo>
                    <a:pt x="36" y="1596"/>
                  </a:lnTo>
                  <a:lnTo>
                    <a:pt x="38" y="1601"/>
                  </a:lnTo>
                  <a:lnTo>
                    <a:pt x="32" y="1605"/>
                  </a:lnTo>
                  <a:lnTo>
                    <a:pt x="47" y="1610"/>
                  </a:lnTo>
                  <a:lnTo>
                    <a:pt x="47" y="1614"/>
                  </a:lnTo>
                  <a:lnTo>
                    <a:pt x="58" y="1619"/>
                  </a:lnTo>
                  <a:lnTo>
                    <a:pt x="66" y="1623"/>
                  </a:lnTo>
                  <a:lnTo>
                    <a:pt x="32" y="1628"/>
                  </a:lnTo>
                  <a:lnTo>
                    <a:pt x="30" y="1632"/>
                  </a:lnTo>
                  <a:lnTo>
                    <a:pt x="45" y="1637"/>
                  </a:lnTo>
                  <a:lnTo>
                    <a:pt x="41" y="1641"/>
                  </a:lnTo>
                  <a:lnTo>
                    <a:pt x="47" y="1646"/>
                  </a:lnTo>
                  <a:lnTo>
                    <a:pt x="55" y="1650"/>
                  </a:lnTo>
                  <a:lnTo>
                    <a:pt x="75" y="1655"/>
                  </a:lnTo>
                  <a:lnTo>
                    <a:pt x="92" y="1659"/>
                  </a:lnTo>
                  <a:lnTo>
                    <a:pt x="87" y="1664"/>
                  </a:lnTo>
                  <a:lnTo>
                    <a:pt x="83" y="1668"/>
                  </a:lnTo>
                  <a:lnTo>
                    <a:pt x="53" y="1673"/>
                  </a:lnTo>
                  <a:lnTo>
                    <a:pt x="51" y="1677"/>
                  </a:lnTo>
                  <a:lnTo>
                    <a:pt x="49" y="1682"/>
                  </a:lnTo>
                  <a:lnTo>
                    <a:pt x="38" y="1686"/>
                  </a:lnTo>
                  <a:lnTo>
                    <a:pt x="38" y="1691"/>
                  </a:lnTo>
                  <a:lnTo>
                    <a:pt x="41" y="1695"/>
                  </a:lnTo>
                  <a:lnTo>
                    <a:pt x="41" y="1700"/>
                  </a:lnTo>
                  <a:lnTo>
                    <a:pt x="55" y="1704"/>
                  </a:lnTo>
                  <a:lnTo>
                    <a:pt x="58" y="1709"/>
                  </a:lnTo>
                  <a:lnTo>
                    <a:pt x="53" y="1713"/>
                  </a:lnTo>
                  <a:lnTo>
                    <a:pt x="79" y="1718"/>
                  </a:lnTo>
                  <a:lnTo>
                    <a:pt x="96" y="1722"/>
                  </a:lnTo>
                  <a:lnTo>
                    <a:pt x="109" y="1727"/>
                  </a:lnTo>
                  <a:lnTo>
                    <a:pt x="102" y="1731"/>
                  </a:lnTo>
                  <a:lnTo>
                    <a:pt x="70" y="1736"/>
                  </a:lnTo>
                  <a:lnTo>
                    <a:pt x="64" y="1740"/>
                  </a:lnTo>
                  <a:lnTo>
                    <a:pt x="64" y="1745"/>
                  </a:lnTo>
                  <a:lnTo>
                    <a:pt x="64" y="1749"/>
                  </a:lnTo>
                  <a:lnTo>
                    <a:pt x="51" y="1754"/>
                  </a:lnTo>
                  <a:lnTo>
                    <a:pt x="51" y="1758"/>
                  </a:lnTo>
                  <a:lnTo>
                    <a:pt x="43" y="1763"/>
                  </a:lnTo>
                  <a:lnTo>
                    <a:pt x="43" y="1767"/>
                  </a:lnTo>
                  <a:lnTo>
                    <a:pt x="66" y="1772"/>
                  </a:lnTo>
                  <a:lnTo>
                    <a:pt x="72" y="1776"/>
                  </a:lnTo>
                  <a:lnTo>
                    <a:pt x="72" y="1781"/>
                  </a:lnTo>
                  <a:lnTo>
                    <a:pt x="77" y="1785"/>
                  </a:lnTo>
                  <a:lnTo>
                    <a:pt x="64" y="1790"/>
                  </a:lnTo>
                  <a:lnTo>
                    <a:pt x="53" y="1794"/>
                  </a:lnTo>
                  <a:lnTo>
                    <a:pt x="53" y="1799"/>
                  </a:lnTo>
                  <a:lnTo>
                    <a:pt x="72" y="1803"/>
                  </a:lnTo>
                  <a:lnTo>
                    <a:pt x="81" y="1808"/>
                  </a:lnTo>
                  <a:lnTo>
                    <a:pt x="83" y="1812"/>
                  </a:lnTo>
                  <a:lnTo>
                    <a:pt x="72" y="1817"/>
                  </a:lnTo>
                  <a:lnTo>
                    <a:pt x="87" y="1821"/>
                  </a:lnTo>
                  <a:lnTo>
                    <a:pt x="96" y="1826"/>
                  </a:lnTo>
                  <a:lnTo>
                    <a:pt x="96" y="1830"/>
                  </a:lnTo>
                  <a:lnTo>
                    <a:pt x="104" y="1835"/>
                  </a:lnTo>
                  <a:lnTo>
                    <a:pt x="117" y="1839"/>
                  </a:lnTo>
                  <a:lnTo>
                    <a:pt x="119" y="1844"/>
                  </a:lnTo>
                  <a:lnTo>
                    <a:pt x="119" y="1848"/>
                  </a:lnTo>
                  <a:lnTo>
                    <a:pt x="98" y="1853"/>
                  </a:lnTo>
                  <a:lnTo>
                    <a:pt x="94" y="1857"/>
                  </a:lnTo>
                  <a:lnTo>
                    <a:pt x="98" y="1862"/>
                  </a:lnTo>
                  <a:lnTo>
                    <a:pt x="98" y="1866"/>
                  </a:lnTo>
                  <a:lnTo>
                    <a:pt x="79" y="1871"/>
                  </a:lnTo>
                  <a:lnTo>
                    <a:pt x="70" y="1875"/>
                  </a:lnTo>
                  <a:lnTo>
                    <a:pt x="70" y="1880"/>
                  </a:lnTo>
                  <a:lnTo>
                    <a:pt x="66" y="1884"/>
                  </a:lnTo>
                  <a:lnTo>
                    <a:pt x="53" y="1889"/>
                  </a:lnTo>
                  <a:lnTo>
                    <a:pt x="60" y="1893"/>
                  </a:lnTo>
                  <a:lnTo>
                    <a:pt x="47" y="1898"/>
                  </a:lnTo>
                  <a:lnTo>
                    <a:pt x="45" y="1902"/>
                  </a:lnTo>
                  <a:lnTo>
                    <a:pt x="51" y="1907"/>
                  </a:lnTo>
                  <a:lnTo>
                    <a:pt x="75" y="1911"/>
                  </a:lnTo>
                  <a:lnTo>
                    <a:pt x="79" y="1916"/>
                  </a:lnTo>
                  <a:lnTo>
                    <a:pt x="66" y="1920"/>
                  </a:lnTo>
                  <a:lnTo>
                    <a:pt x="62" y="1925"/>
                  </a:lnTo>
                  <a:lnTo>
                    <a:pt x="77" y="1929"/>
                  </a:lnTo>
                  <a:lnTo>
                    <a:pt x="75" y="1934"/>
                  </a:lnTo>
                  <a:lnTo>
                    <a:pt x="72" y="1938"/>
                  </a:lnTo>
                  <a:lnTo>
                    <a:pt x="94" y="1943"/>
                  </a:lnTo>
                  <a:lnTo>
                    <a:pt x="111" y="1947"/>
                  </a:lnTo>
                  <a:lnTo>
                    <a:pt x="132" y="1952"/>
                  </a:lnTo>
                  <a:lnTo>
                    <a:pt x="126" y="1956"/>
                  </a:lnTo>
                  <a:lnTo>
                    <a:pt x="89" y="1961"/>
                  </a:lnTo>
                  <a:lnTo>
                    <a:pt x="75" y="1965"/>
                  </a:lnTo>
                  <a:lnTo>
                    <a:pt x="81" y="1970"/>
                  </a:lnTo>
                  <a:lnTo>
                    <a:pt x="85" y="1974"/>
                  </a:lnTo>
                  <a:lnTo>
                    <a:pt x="92" y="1979"/>
                  </a:lnTo>
                  <a:lnTo>
                    <a:pt x="104" y="1983"/>
                  </a:lnTo>
                  <a:lnTo>
                    <a:pt x="100" y="1988"/>
                  </a:lnTo>
                  <a:lnTo>
                    <a:pt x="94" y="1992"/>
                  </a:lnTo>
                  <a:lnTo>
                    <a:pt x="85" y="1997"/>
                  </a:lnTo>
                  <a:lnTo>
                    <a:pt x="96" y="2001"/>
                  </a:lnTo>
                  <a:lnTo>
                    <a:pt x="104" y="2006"/>
                  </a:lnTo>
                  <a:lnTo>
                    <a:pt x="104" y="2010"/>
                  </a:lnTo>
                  <a:lnTo>
                    <a:pt x="89" y="2015"/>
                  </a:lnTo>
                  <a:lnTo>
                    <a:pt x="83" y="2019"/>
                  </a:lnTo>
                  <a:lnTo>
                    <a:pt x="72" y="2024"/>
                  </a:lnTo>
                  <a:lnTo>
                    <a:pt x="70" y="2028"/>
                  </a:lnTo>
                  <a:lnTo>
                    <a:pt x="70" y="2033"/>
                  </a:lnTo>
                  <a:lnTo>
                    <a:pt x="75" y="2037"/>
                  </a:lnTo>
                  <a:lnTo>
                    <a:pt x="79" y="2042"/>
                  </a:lnTo>
                  <a:lnTo>
                    <a:pt x="79" y="2046"/>
                  </a:lnTo>
                  <a:lnTo>
                    <a:pt x="70" y="2051"/>
                  </a:lnTo>
                  <a:lnTo>
                    <a:pt x="72" y="2055"/>
                  </a:lnTo>
                  <a:lnTo>
                    <a:pt x="64" y="2060"/>
                  </a:lnTo>
                  <a:lnTo>
                    <a:pt x="64" y="2064"/>
                  </a:lnTo>
                  <a:lnTo>
                    <a:pt x="60" y="2069"/>
                  </a:lnTo>
                  <a:lnTo>
                    <a:pt x="58" y="2073"/>
                  </a:lnTo>
                  <a:lnTo>
                    <a:pt x="58" y="2078"/>
                  </a:lnTo>
                  <a:lnTo>
                    <a:pt x="60" y="2082"/>
                  </a:lnTo>
                  <a:lnTo>
                    <a:pt x="68" y="2087"/>
                  </a:lnTo>
                  <a:lnTo>
                    <a:pt x="77" y="2091"/>
                  </a:lnTo>
                  <a:lnTo>
                    <a:pt x="85" y="2096"/>
                  </a:lnTo>
                  <a:lnTo>
                    <a:pt x="85" y="2100"/>
                  </a:lnTo>
                  <a:lnTo>
                    <a:pt x="75" y="2105"/>
                  </a:lnTo>
                  <a:lnTo>
                    <a:pt x="72" y="2109"/>
                  </a:lnTo>
                  <a:lnTo>
                    <a:pt x="75" y="2114"/>
                  </a:lnTo>
                  <a:lnTo>
                    <a:pt x="75" y="2118"/>
                  </a:lnTo>
                  <a:lnTo>
                    <a:pt x="83" y="2123"/>
                  </a:lnTo>
                  <a:lnTo>
                    <a:pt x="87" y="2127"/>
                  </a:lnTo>
                  <a:lnTo>
                    <a:pt x="81" y="2132"/>
                  </a:lnTo>
                  <a:lnTo>
                    <a:pt x="83" y="2136"/>
                  </a:lnTo>
                  <a:lnTo>
                    <a:pt x="83" y="2141"/>
                  </a:lnTo>
                  <a:lnTo>
                    <a:pt x="77" y="2145"/>
                  </a:lnTo>
                  <a:lnTo>
                    <a:pt x="70" y="2150"/>
                  </a:lnTo>
                  <a:lnTo>
                    <a:pt x="70" y="2154"/>
                  </a:lnTo>
                  <a:lnTo>
                    <a:pt x="72" y="2159"/>
                  </a:lnTo>
                  <a:lnTo>
                    <a:pt x="81" y="2163"/>
                  </a:lnTo>
                  <a:lnTo>
                    <a:pt x="94" y="2168"/>
                  </a:lnTo>
                  <a:lnTo>
                    <a:pt x="94" y="2172"/>
                  </a:lnTo>
                  <a:lnTo>
                    <a:pt x="87" y="2177"/>
                  </a:lnTo>
                  <a:lnTo>
                    <a:pt x="77" y="2181"/>
                  </a:lnTo>
                  <a:lnTo>
                    <a:pt x="75" y="2186"/>
                  </a:lnTo>
                  <a:lnTo>
                    <a:pt x="77" y="2190"/>
                  </a:lnTo>
                  <a:lnTo>
                    <a:pt x="81" y="2195"/>
                  </a:lnTo>
                  <a:lnTo>
                    <a:pt x="85" y="2199"/>
                  </a:lnTo>
                  <a:lnTo>
                    <a:pt x="83" y="2204"/>
                  </a:lnTo>
                  <a:lnTo>
                    <a:pt x="79" y="2208"/>
                  </a:lnTo>
                  <a:lnTo>
                    <a:pt x="79" y="2213"/>
                  </a:lnTo>
                  <a:lnTo>
                    <a:pt x="77" y="2217"/>
                  </a:lnTo>
                  <a:lnTo>
                    <a:pt x="72" y="2222"/>
                  </a:lnTo>
                  <a:lnTo>
                    <a:pt x="72" y="2226"/>
                  </a:lnTo>
                  <a:lnTo>
                    <a:pt x="72" y="2231"/>
                  </a:lnTo>
                  <a:lnTo>
                    <a:pt x="75" y="2235"/>
                  </a:lnTo>
                  <a:lnTo>
                    <a:pt x="79" y="2240"/>
                  </a:lnTo>
                  <a:lnTo>
                    <a:pt x="94" y="2244"/>
                  </a:lnTo>
                  <a:lnTo>
                    <a:pt x="96" y="2249"/>
                  </a:lnTo>
                  <a:lnTo>
                    <a:pt x="85" y="2253"/>
                  </a:lnTo>
                  <a:lnTo>
                    <a:pt x="70" y="2258"/>
                  </a:lnTo>
                  <a:lnTo>
                    <a:pt x="68" y="2262"/>
                  </a:lnTo>
                  <a:lnTo>
                    <a:pt x="75" y="2267"/>
                  </a:lnTo>
                  <a:lnTo>
                    <a:pt x="87" y="2271"/>
                  </a:lnTo>
                  <a:lnTo>
                    <a:pt x="98" y="2276"/>
                  </a:lnTo>
                  <a:lnTo>
                    <a:pt x="98" y="2280"/>
                  </a:lnTo>
                  <a:lnTo>
                    <a:pt x="89" y="2285"/>
                  </a:lnTo>
                  <a:lnTo>
                    <a:pt x="81" y="2289"/>
                  </a:lnTo>
                  <a:lnTo>
                    <a:pt x="81" y="2294"/>
                  </a:lnTo>
                  <a:lnTo>
                    <a:pt x="85" y="2298"/>
                  </a:lnTo>
                  <a:lnTo>
                    <a:pt x="94" y="2303"/>
                  </a:lnTo>
                  <a:lnTo>
                    <a:pt x="89" y="2307"/>
                  </a:lnTo>
                  <a:lnTo>
                    <a:pt x="87" y="2312"/>
                  </a:lnTo>
                  <a:lnTo>
                    <a:pt x="87" y="2316"/>
                  </a:lnTo>
                  <a:lnTo>
                    <a:pt x="72" y="2321"/>
                  </a:lnTo>
                  <a:lnTo>
                    <a:pt x="70" y="2325"/>
                  </a:lnTo>
                  <a:lnTo>
                    <a:pt x="72" y="2330"/>
                  </a:lnTo>
                  <a:lnTo>
                    <a:pt x="75" y="2334"/>
                  </a:lnTo>
                  <a:lnTo>
                    <a:pt x="75" y="2339"/>
                  </a:lnTo>
                  <a:lnTo>
                    <a:pt x="79" y="2343"/>
                  </a:lnTo>
                  <a:lnTo>
                    <a:pt x="98" y="2348"/>
                  </a:lnTo>
                  <a:lnTo>
                    <a:pt x="104" y="2352"/>
                  </a:lnTo>
                  <a:lnTo>
                    <a:pt x="104" y="2357"/>
                  </a:lnTo>
                  <a:lnTo>
                    <a:pt x="89" y="2361"/>
                  </a:lnTo>
                  <a:lnTo>
                    <a:pt x="83" y="2366"/>
                  </a:lnTo>
                  <a:lnTo>
                    <a:pt x="72" y="2370"/>
                  </a:lnTo>
                  <a:lnTo>
                    <a:pt x="70" y="2375"/>
                  </a:lnTo>
                  <a:lnTo>
                    <a:pt x="66" y="2379"/>
                  </a:lnTo>
                  <a:lnTo>
                    <a:pt x="66" y="2384"/>
                  </a:lnTo>
                  <a:lnTo>
                    <a:pt x="66" y="2388"/>
                  </a:lnTo>
                  <a:lnTo>
                    <a:pt x="62" y="2393"/>
                  </a:lnTo>
                  <a:lnTo>
                    <a:pt x="55" y="2397"/>
                  </a:lnTo>
                  <a:lnTo>
                    <a:pt x="51" y="2402"/>
                  </a:lnTo>
                  <a:lnTo>
                    <a:pt x="49" y="2406"/>
                  </a:lnTo>
                  <a:lnTo>
                    <a:pt x="58" y="2411"/>
                  </a:lnTo>
                  <a:lnTo>
                    <a:pt x="68" y="2415"/>
                  </a:lnTo>
                  <a:lnTo>
                    <a:pt x="83" y="2420"/>
                  </a:lnTo>
                  <a:lnTo>
                    <a:pt x="94" y="2424"/>
                  </a:lnTo>
                  <a:lnTo>
                    <a:pt x="128" y="2429"/>
                  </a:lnTo>
                  <a:lnTo>
                    <a:pt x="151" y="2433"/>
                  </a:lnTo>
                  <a:lnTo>
                    <a:pt x="157" y="2438"/>
                  </a:lnTo>
                  <a:lnTo>
                    <a:pt x="157" y="2442"/>
                  </a:lnTo>
                  <a:lnTo>
                    <a:pt x="170" y="2447"/>
                  </a:lnTo>
                  <a:lnTo>
                    <a:pt x="183" y="2451"/>
                  </a:lnTo>
                  <a:lnTo>
                    <a:pt x="196" y="2456"/>
                  </a:lnTo>
                  <a:lnTo>
                    <a:pt x="206" y="2460"/>
                  </a:lnTo>
                  <a:lnTo>
                    <a:pt x="245" y="2465"/>
                  </a:lnTo>
                  <a:lnTo>
                    <a:pt x="272" y="2469"/>
                  </a:lnTo>
                  <a:lnTo>
                    <a:pt x="310" y="2474"/>
                  </a:lnTo>
                  <a:lnTo>
                    <a:pt x="389" y="2478"/>
                  </a:lnTo>
                  <a:lnTo>
                    <a:pt x="410" y="2483"/>
                  </a:lnTo>
                  <a:lnTo>
                    <a:pt x="412" y="2487"/>
                  </a:lnTo>
                  <a:lnTo>
                    <a:pt x="412" y="2492"/>
                  </a:lnTo>
                  <a:lnTo>
                    <a:pt x="408" y="2496"/>
                  </a:lnTo>
                  <a:lnTo>
                    <a:pt x="391" y="2501"/>
                  </a:lnTo>
                  <a:lnTo>
                    <a:pt x="376" y="2505"/>
                  </a:lnTo>
                  <a:lnTo>
                    <a:pt x="389" y="2510"/>
                  </a:lnTo>
                  <a:lnTo>
                    <a:pt x="389" y="2514"/>
                  </a:lnTo>
                  <a:lnTo>
                    <a:pt x="385" y="2519"/>
                  </a:lnTo>
                  <a:lnTo>
                    <a:pt x="374" y="2523"/>
                  </a:lnTo>
                  <a:lnTo>
                    <a:pt x="376" y="2528"/>
                  </a:lnTo>
                  <a:lnTo>
                    <a:pt x="361" y="2532"/>
                  </a:lnTo>
                  <a:lnTo>
                    <a:pt x="361" y="2537"/>
                  </a:lnTo>
                  <a:lnTo>
                    <a:pt x="359" y="2541"/>
                  </a:lnTo>
                  <a:lnTo>
                    <a:pt x="361" y="2546"/>
                  </a:lnTo>
                  <a:lnTo>
                    <a:pt x="366" y="2550"/>
                  </a:lnTo>
                  <a:lnTo>
                    <a:pt x="380" y="2555"/>
                  </a:lnTo>
                  <a:lnTo>
                    <a:pt x="400" y="2559"/>
                  </a:lnTo>
                  <a:lnTo>
                    <a:pt x="410" y="2564"/>
                  </a:lnTo>
                  <a:lnTo>
                    <a:pt x="427" y="2568"/>
                  </a:lnTo>
                  <a:lnTo>
                    <a:pt x="417" y="2573"/>
                  </a:lnTo>
                  <a:lnTo>
                    <a:pt x="402" y="2577"/>
                  </a:lnTo>
                  <a:lnTo>
                    <a:pt x="402" y="2582"/>
                  </a:lnTo>
                </a:path>
              </a:pathLst>
            </a:custGeom>
            <a:noFill/>
            <a:ln w="28440">
              <a:solidFill>
                <a:srgbClr val="0000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Freeform 292"/>
            <p:cNvSpPr/>
            <p:nvPr/>
          </p:nvSpPr>
          <p:spPr>
            <a:xfrm>
              <a:off x="1501920" y="2127240"/>
              <a:ext cx="271440" cy="4425840"/>
            </a:xfrm>
            <a:custGeom>
              <a:avLst/>
              <a:gdLst>
                <a:gd name="textAreaLeft" fmla="*/ 0 w 271440"/>
                <a:gd name="textAreaRight" fmla="*/ 271440 w 271440"/>
                <a:gd name="textAreaTop" fmla="*/ 0 h 4425840"/>
                <a:gd name="textAreaBottom" fmla="*/ 4426200 h 4425840"/>
              </a:gdLst>
              <a:ahLst/>
              <a:rect l="textAreaLeft" t="textAreaTop" r="textAreaRight" b="textAreaBottom"/>
              <a:pathLst>
                <a:path w="161" h="2609">
                  <a:moveTo>
                    <a:pt x="148" y="0"/>
                  </a:moveTo>
                  <a:lnTo>
                    <a:pt x="146" y="4"/>
                  </a:lnTo>
                  <a:lnTo>
                    <a:pt x="146" y="9"/>
                  </a:lnTo>
                  <a:lnTo>
                    <a:pt x="146" y="13"/>
                  </a:lnTo>
                  <a:lnTo>
                    <a:pt x="146" y="18"/>
                  </a:lnTo>
                  <a:lnTo>
                    <a:pt x="148" y="22"/>
                  </a:lnTo>
                  <a:lnTo>
                    <a:pt x="148" y="27"/>
                  </a:lnTo>
                  <a:lnTo>
                    <a:pt x="151" y="31"/>
                  </a:lnTo>
                  <a:lnTo>
                    <a:pt x="153" y="36"/>
                  </a:lnTo>
                  <a:lnTo>
                    <a:pt x="155" y="40"/>
                  </a:lnTo>
                  <a:lnTo>
                    <a:pt x="155" y="45"/>
                  </a:lnTo>
                  <a:lnTo>
                    <a:pt x="157" y="49"/>
                  </a:lnTo>
                  <a:lnTo>
                    <a:pt x="157" y="54"/>
                  </a:lnTo>
                  <a:lnTo>
                    <a:pt x="157" y="58"/>
                  </a:lnTo>
                  <a:lnTo>
                    <a:pt x="157" y="63"/>
                  </a:lnTo>
                  <a:lnTo>
                    <a:pt x="159" y="67"/>
                  </a:lnTo>
                  <a:lnTo>
                    <a:pt x="159" y="72"/>
                  </a:lnTo>
                  <a:lnTo>
                    <a:pt x="159" y="76"/>
                  </a:lnTo>
                  <a:lnTo>
                    <a:pt x="159" y="81"/>
                  </a:lnTo>
                  <a:lnTo>
                    <a:pt x="159" y="85"/>
                  </a:lnTo>
                  <a:lnTo>
                    <a:pt x="159" y="90"/>
                  </a:lnTo>
                  <a:lnTo>
                    <a:pt x="157" y="94"/>
                  </a:lnTo>
                  <a:lnTo>
                    <a:pt x="157" y="99"/>
                  </a:lnTo>
                  <a:lnTo>
                    <a:pt x="157" y="103"/>
                  </a:lnTo>
                  <a:lnTo>
                    <a:pt x="157" y="108"/>
                  </a:lnTo>
                  <a:lnTo>
                    <a:pt x="157" y="112"/>
                  </a:lnTo>
                  <a:lnTo>
                    <a:pt x="157" y="117"/>
                  </a:lnTo>
                  <a:lnTo>
                    <a:pt x="157" y="121"/>
                  </a:lnTo>
                  <a:lnTo>
                    <a:pt x="159" y="126"/>
                  </a:lnTo>
                  <a:lnTo>
                    <a:pt x="159" y="130"/>
                  </a:lnTo>
                  <a:lnTo>
                    <a:pt x="159" y="135"/>
                  </a:lnTo>
                  <a:lnTo>
                    <a:pt x="159" y="139"/>
                  </a:lnTo>
                  <a:lnTo>
                    <a:pt x="159" y="144"/>
                  </a:lnTo>
                  <a:lnTo>
                    <a:pt x="159" y="148"/>
                  </a:lnTo>
                  <a:lnTo>
                    <a:pt x="159" y="153"/>
                  </a:lnTo>
                  <a:lnTo>
                    <a:pt x="157" y="157"/>
                  </a:lnTo>
                  <a:lnTo>
                    <a:pt x="157" y="162"/>
                  </a:lnTo>
                  <a:lnTo>
                    <a:pt x="155" y="166"/>
                  </a:lnTo>
                  <a:lnTo>
                    <a:pt x="153" y="171"/>
                  </a:lnTo>
                  <a:lnTo>
                    <a:pt x="151" y="175"/>
                  </a:lnTo>
                  <a:lnTo>
                    <a:pt x="146" y="180"/>
                  </a:lnTo>
                  <a:lnTo>
                    <a:pt x="142" y="184"/>
                  </a:lnTo>
                  <a:lnTo>
                    <a:pt x="138" y="189"/>
                  </a:lnTo>
                  <a:lnTo>
                    <a:pt x="131" y="193"/>
                  </a:lnTo>
                  <a:lnTo>
                    <a:pt x="121" y="198"/>
                  </a:lnTo>
                  <a:lnTo>
                    <a:pt x="114" y="202"/>
                  </a:lnTo>
                  <a:lnTo>
                    <a:pt x="106" y="207"/>
                  </a:lnTo>
                  <a:lnTo>
                    <a:pt x="87" y="211"/>
                  </a:lnTo>
                  <a:lnTo>
                    <a:pt x="76" y="216"/>
                  </a:lnTo>
                  <a:lnTo>
                    <a:pt x="64" y="220"/>
                  </a:lnTo>
                  <a:lnTo>
                    <a:pt x="59" y="225"/>
                  </a:lnTo>
                  <a:lnTo>
                    <a:pt x="47" y="229"/>
                  </a:lnTo>
                  <a:lnTo>
                    <a:pt x="38" y="234"/>
                  </a:lnTo>
                  <a:lnTo>
                    <a:pt x="36" y="238"/>
                  </a:lnTo>
                  <a:lnTo>
                    <a:pt x="30" y="243"/>
                  </a:lnTo>
                  <a:lnTo>
                    <a:pt x="23" y="247"/>
                  </a:lnTo>
                  <a:lnTo>
                    <a:pt x="17" y="252"/>
                  </a:lnTo>
                  <a:lnTo>
                    <a:pt x="13" y="256"/>
                  </a:lnTo>
                  <a:lnTo>
                    <a:pt x="13" y="261"/>
                  </a:lnTo>
                  <a:lnTo>
                    <a:pt x="8" y="265"/>
                  </a:lnTo>
                  <a:lnTo>
                    <a:pt x="6" y="270"/>
                  </a:lnTo>
                  <a:lnTo>
                    <a:pt x="6" y="274"/>
                  </a:lnTo>
                  <a:lnTo>
                    <a:pt x="6" y="279"/>
                  </a:lnTo>
                  <a:lnTo>
                    <a:pt x="6" y="283"/>
                  </a:lnTo>
                  <a:lnTo>
                    <a:pt x="4" y="288"/>
                  </a:lnTo>
                  <a:lnTo>
                    <a:pt x="4" y="292"/>
                  </a:lnTo>
                  <a:lnTo>
                    <a:pt x="4" y="297"/>
                  </a:lnTo>
                  <a:lnTo>
                    <a:pt x="4" y="301"/>
                  </a:lnTo>
                  <a:lnTo>
                    <a:pt x="4" y="306"/>
                  </a:lnTo>
                  <a:lnTo>
                    <a:pt x="4" y="310"/>
                  </a:lnTo>
                  <a:lnTo>
                    <a:pt x="4" y="315"/>
                  </a:lnTo>
                  <a:lnTo>
                    <a:pt x="6" y="319"/>
                  </a:lnTo>
                  <a:lnTo>
                    <a:pt x="6" y="324"/>
                  </a:lnTo>
                  <a:lnTo>
                    <a:pt x="6" y="328"/>
                  </a:lnTo>
                  <a:lnTo>
                    <a:pt x="6" y="333"/>
                  </a:lnTo>
                  <a:lnTo>
                    <a:pt x="6" y="337"/>
                  </a:lnTo>
                  <a:lnTo>
                    <a:pt x="6" y="342"/>
                  </a:lnTo>
                  <a:lnTo>
                    <a:pt x="4" y="346"/>
                  </a:lnTo>
                  <a:lnTo>
                    <a:pt x="4" y="351"/>
                  </a:lnTo>
                  <a:lnTo>
                    <a:pt x="6" y="355"/>
                  </a:lnTo>
                  <a:lnTo>
                    <a:pt x="6" y="360"/>
                  </a:lnTo>
                  <a:lnTo>
                    <a:pt x="8" y="364"/>
                  </a:lnTo>
                  <a:lnTo>
                    <a:pt x="8" y="369"/>
                  </a:lnTo>
                  <a:lnTo>
                    <a:pt x="10" y="373"/>
                  </a:lnTo>
                  <a:lnTo>
                    <a:pt x="13" y="378"/>
                  </a:lnTo>
                  <a:lnTo>
                    <a:pt x="13" y="382"/>
                  </a:lnTo>
                  <a:lnTo>
                    <a:pt x="13" y="387"/>
                  </a:lnTo>
                  <a:lnTo>
                    <a:pt x="13" y="391"/>
                  </a:lnTo>
                  <a:lnTo>
                    <a:pt x="13" y="396"/>
                  </a:lnTo>
                  <a:lnTo>
                    <a:pt x="13" y="400"/>
                  </a:lnTo>
                  <a:lnTo>
                    <a:pt x="10" y="405"/>
                  </a:lnTo>
                  <a:lnTo>
                    <a:pt x="10" y="409"/>
                  </a:lnTo>
                  <a:lnTo>
                    <a:pt x="8" y="414"/>
                  </a:lnTo>
                  <a:lnTo>
                    <a:pt x="8" y="418"/>
                  </a:lnTo>
                  <a:lnTo>
                    <a:pt x="8" y="423"/>
                  </a:lnTo>
                  <a:lnTo>
                    <a:pt x="10" y="427"/>
                  </a:lnTo>
                  <a:lnTo>
                    <a:pt x="10" y="432"/>
                  </a:lnTo>
                  <a:lnTo>
                    <a:pt x="13" y="436"/>
                  </a:lnTo>
                  <a:lnTo>
                    <a:pt x="13" y="441"/>
                  </a:lnTo>
                  <a:lnTo>
                    <a:pt x="13" y="445"/>
                  </a:lnTo>
                  <a:lnTo>
                    <a:pt x="13" y="450"/>
                  </a:lnTo>
                  <a:lnTo>
                    <a:pt x="15" y="454"/>
                  </a:lnTo>
                  <a:lnTo>
                    <a:pt x="15" y="459"/>
                  </a:lnTo>
                  <a:lnTo>
                    <a:pt x="15" y="463"/>
                  </a:lnTo>
                  <a:lnTo>
                    <a:pt x="17" y="468"/>
                  </a:lnTo>
                  <a:lnTo>
                    <a:pt x="17" y="472"/>
                  </a:lnTo>
                  <a:lnTo>
                    <a:pt x="17" y="477"/>
                  </a:lnTo>
                  <a:lnTo>
                    <a:pt x="17" y="481"/>
                  </a:lnTo>
                  <a:lnTo>
                    <a:pt x="19" y="486"/>
                  </a:lnTo>
                  <a:lnTo>
                    <a:pt x="19" y="490"/>
                  </a:lnTo>
                  <a:lnTo>
                    <a:pt x="19" y="495"/>
                  </a:lnTo>
                  <a:lnTo>
                    <a:pt x="19" y="499"/>
                  </a:lnTo>
                  <a:lnTo>
                    <a:pt x="19" y="504"/>
                  </a:lnTo>
                  <a:lnTo>
                    <a:pt x="19" y="508"/>
                  </a:lnTo>
                  <a:lnTo>
                    <a:pt x="19" y="513"/>
                  </a:lnTo>
                  <a:lnTo>
                    <a:pt x="19" y="517"/>
                  </a:lnTo>
                  <a:lnTo>
                    <a:pt x="19" y="522"/>
                  </a:lnTo>
                  <a:lnTo>
                    <a:pt x="19" y="526"/>
                  </a:lnTo>
                  <a:lnTo>
                    <a:pt x="21" y="530"/>
                  </a:lnTo>
                  <a:lnTo>
                    <a:pt x="19" y="535"/>
                  </a:lnTo>
                  <a:lnTo>
                    <a:pt x="17" y="539"/>
                  </a:lnTo>
                  <a:lnTo>
                    <a:pt x="19" y="544"/>
                  </a:lnTo>
                  <a:lnTo>
                    <a:pt x="19" y="548"/>
                  </a:lnTo>
                  <a:lnTo>
                    <a:pt x="19" y="553"/>
                  </a:lnTo>
                  <a:lnTo>
                    <a:pt x="19" y="557"/>
                  </a:lnTo>
                  <a:lnTo>
                    <a:pt x="17" y="562"/>
                  </a:lnTo>
                  <a:lnTo>
                    <a:pt x="17" y="566"/>
                  </a:lnTo>
                  <a:lnTo>
                    <a:pt x="17" y="571"/>
                  </a:lnTo>
                  <a:lnTo>
                    <a:pt x="17" y="575"/>
                  </a:lnTo>
                  <a:lnTo>
                    <a:pt x="17" y="580"/>
                  </a:lnTo>
                  <a:lnTo>
                    <a:pt x="21" y="584"/>
                  </a:lnTo>
                  <a:lnTo>
                    <a:pt x="21" y="589"/>
                  </a:lnTo>
                  <a:lnTo>
                    <a:pt x="21" y="593"/>
                  </a:lnTo>
                  <a:lnTo>
                    <a:pt x="21" y="598"/>
                  </a:lnTo>
                  <a:lnTo>
                    <a:pt x="21" y="602"/>
                  </a:lnTo>
                  <a:lnTo>
                    <a:pt x="19" y="607"/>
                  </a:lnTo>
                  <a:lnTo>
                    <a:pt x="19" y="611"/>
                  </a:lnTo>
                  <a:lnTo>
                    <a:pt x="21" y="616"/>
                  </a:lnTo>
                  <a:lnTo>
                    <a:pt x="21" y="620"/>
                  </a:lnTo>
                  <a:lnTo>
                    <a:pt x="21" y="625"/>
                  </a:lnTo>
                  <a:lnTo>
                    <a:pt x="23" y="629"/>
                  </a:lnTo>
                  <a:lnTo>
                    <a:pt x="23" y="634"/>
                  </a:lnTo>
                  <a:lnTo>
                    <a:pt x="23" y="638"/>
                  </a:lnTo>
                  <a:lnTo>
                    <a:pt x="23" y="643"/>
                  </a:lnTo>
                  <a:lnTo>
                    <a:pt x="25" y="647"/>
                  </a:lnTo>
                  <a:lnTo>
                    <a:pt x="25" y="652"/>
                  </a:lnTo>
                  <a:lnTo>
                    <a:pt x="25" y="656"/>
                  </a:lnTo>
                  <a:lnTo>
                    <a:pt x="27" y="661"/>
                  </a:lnTo>
                  <a:lnTo>
                    <a:pt x="27" y="665"/>
                  </a:lnTo>
                  <a:lnTo>
                    <a:pt x="30" y="670"/>
                  </a:lnTo>
                  <a:lnTo>
                    <a:pt x="30" y="674"/>
                  </a:lnTo>
                  <a:lnTo>
                    <a:pt x="30" y="679"/>
                  </a:lnTo>
                  <a:lnTo>
                    <a:pt x="30" y="683"/>
                  </a:lnTo>
                  <a:lnTo>
                    <a:pt x="30" y="688"/>
                  </a:lnTo>
                  <a:lnTo>
                    <a:pt x="30" y="692"/>
                  </a:lnTo>
                  <a:lnTo>
                    <a:pt x="30" y="697"/>
                  </a:lnTo>
                  <a:lnTo>
                    <a:pt x="30" y="701"/>
                  </a:lnTo>
                  <a:lnTo>
                    <a:pt x="30" y="706"/>
                  </a:lnTo>
                  <a:lnTo>
                    <a:pt x="30" y="710"/>
                  </a:lnTo>
                  <a:lnTo>
                    <a:pt x="30" y="715"/>
                  </a:lnTo>
                  <a:lnTo>
                    <a:pt x="32" y="719"/>
                  </a:lnTo>
                  <a:lnTo>
                    <a:pt x="32" y="724"/>
                  </a:lnTo>
                  <a:lnTo>
                    <a:pt x="32" y="728"/>
                  </a:lnTo>
                  <a:lnTo>
                    <a:pt x="32" y="733"/>
                  </a:lnTo>
                  <a:lnTo>
                    <a:pt x="30" y="737"/>
                  </a:lnTo>
                  <a:lnTo>
                    <a:pt x="30" y="742"/>
                  </a:lnTo>
                  <a:lnTo>
                    <a:pt x="30" y="746"/>
                  </a:lnTo>
                  <a:lnTo>
                    <a:pt x="32" y="751"/>
                  </a:lnTo>
                  <a:lnTo>
                    <a:pt x="32" y="755"/>
                  </a:lnTo>
                  <a:lnTo>
                    <a:pt x="32" y="760"/>
                  </a:lnTo>
                  <a:lnTo>
                    <a:pt x="32" y="764"/>
                  </a:lnTo>
                  <a:lnTo>
                    <a:pt x="32" y="769"/>
                  </a:lnTo>
                  <a:lnTo>
                    <a:pt x="32" y="773"/>
                  </a:lnTo>
                  <a:lnTo>
                    <a:pt x="34" y="778"/>
                  </a:lnTo>
                  <a:lnTo>
                    <a:pt x="34" y="782"/>
                  </a:lnTo>
                  <a:lnTo>
                    <a:pt x="36" y="787"/>
                  </a:lnTo>
                  <a:lnTo>
                    <a:pt x="38" y="791"/>
                  </a:lnTo>
                  <a:lnTo>
                    <a:pt x="40" y="796"/>
                  </a:lnTo>
                  <a:lnTo>
                    <a:pt x="42" y="800"/>
                  </a:lnTo>
                  <a:lnTo>
                    <a:pt x="44" y="805"/>
                  </a:lnTo>
                  <a:lnTo>
                    <a:pt x="44" y="809"/>
                  </a:lnTo>
                  <a:lnTo>
                    <a:pt x="47" y="814"/>
                  </a:lnTo>
                  <a:lnTo>
                    <a:pt x="49" y="818"/>
                  </a:lnTo>
                  <a:lnTo>
                    <a:pt x="51" y="823"/>
                  </a:lnTo>
                  <a:lnTo>
                    <a:pt x="57" y="827"/>
                  </a:lnTo>
                  <a:lnTo>
                    <a:pt x="61" y="832"/>
                  </a:lnTo>
                  <a:lnTo>
                    <a:pt x="68" y="836"/>
                  </a:lnTo>
                  <a:lnTo>
                    <a:pt x="74" y="841"/>
                  </a:lnTo>
                  <a:lnTo>
                    <a:pt x="83" y="845"/>
                  </a:lnTo>
                  <a:lnTo>
                    <a:pt x="93" y="850"/>
                  </a:lnTo>
                  <a:lnTo>
                    <a:pt x="102" y="854"/>
                  </a:lnTo>
                  <a:lnTo>
                    <a:pt x="114" y="859"/>
                  </a:lnTo>
                  <a:lnTo>
                    <a:pt x="127" y="863"/>
                  </a:lnTo>
                  <a:lnTo>
                    <a:pt x="142" y="868"/>
                  </a:lnTo>
                  <a:lnTo>
                    <a:pt x="153" y="872"/>
                  </a:lnTo>
                  <a:lnTo>
                    <a:pt x="159" y="877"/>
                  </a:lnTo>
                  <a:lnTo>
                    <a:pt x="161" y="881"/>
                  </a:lnTo>
                  <a:lnTo>
                    <a:pt x="161" y="886"/>
                  </a:lnTo>
                  <a:lnTo>
                    <a:pt x="159" y="890"/>
                  </a:lnTo>
                  <a:lnTo>
                    <a:pt x="157" y="895"/>
                  </a:lnTo>
                  <a:lnTo>
                    <a:pt x="151" y="899"/>
                  </a:lnTo>
                  <a:lnTo>
                    <a:pt x="151" y="904"/>
                  </a:lnTo>
                  <a:lnTo>
                    <a:pt x="144" y="908"/>
                  </a:lnTo>
                  <a:lnTo>
                    <a:pt x="144" y="913"/>
                  </a:lnTo>
                  <a:lnTo>
                    <a:pt x="142" y="917"/>
                  </a:lnTo>
                  <a:lnTo>
                    <a:pt x="140" y="922"/>
                  </a:lnTo>
                  <a:lnTo>
                    <a:pt x="136" y="926"/>
                  </a:lnTo>
                  <a:lnTo>
                    <a:pt x="134" y="931"/>
                  </a:lnTo>
                  <a:lnTo>
                    <a:pt x="131" y="935"/>
                  </a:lnTo>
                  <a:lnTo>
                    <a:pt x="127" y="940"/>
                  </a:lnTo>
                  <a:lnTo>
                    <a:pt x="127" y="944"/>
                  </a:lnTo>
                  <a:lnTo>
                    <a:pt x="125" y="949"/>
                  </a:lnTo>
                  <a:lnTo>
                    <a:pt x="123" y="953"/>
                  </a:lnTo>
                  <a:lnTo>
                    <a:pt x="121" y="958"/>
                  </a:lnTo>
                  <a:lnTo>
                    <a:pt x="117" y="962"/>
                  </a:lnTo>
                  <a:lnTo>
                    <a:pt x="112" y="967"/>
                  </a:lnTo>
                  <a:lnTo>
                    <a:pt x="110" y="971"/>
                  </a:lnTo>
                  <a:lnTo>
                    <a:pt x="108" y="976"/>
                  </a:lnTo>
                  <a:lnTo>
                    <a:pt x="106" y="980"/>
                  </a:lnTo>
                  <a:lnTo>
                    <a:pt x="104" y="985"/>
                  </a:lnTo>
                  <a:lnTo>
                    <a:pt x="102" y="989"/>
                  </a:lnTo>
                  <a:lnTo>
                    <a:pt x="100" y="994"/>
                  </a:lnTo>
                  <a:lnTo>
                    <a:pt x="98" y="998"/>
                  </a:lnTo>
                  <a:lnTo>
                    <a:pt x="98" y="1003"/>
                  </a:lnTo>
                  <a:lnTo>
                    <a:pt x="98" y="1007"/>
                  </a:lnTo>
                  <a:lnTo>
                    <a:pt x="95" y="1012"/>
                  </a:lnTo>
                  <a:lnTo>
                    <a:pt x="95" y="1016"/>
                  </a:lnTo>
                  <a:lnTo>
                    <a:pt x="95" y="1021"/>
                  </a:lnTo>
                  <a:lnTo>
                    <a:pt x="93" y="1025"/>
                  </a:lnTo>
                  <a:lnTo>
                    <a:pt x="93" y="1030"/>
                  </a:lnTo>
                  <a:lnTo>
                    <a:pt x="93" y="1034"/>
                  </a:lnTo>
                  <a:lnTo>
                    <a:pt x="87" y="1039"/>
                  </a:lnTo>
                  <a:lnTo>
                    <a:pt x="85" y="1043"/>
                  </a:lnTo>
                  <a:lnTo>
                    <a:pt x="83" y="1048"/>
                  </a:lnTo>
                  <a:lnTo>
                    <a:pt x="78" y="1052"/>
                  </a:lnTo>
                  <a:lnTo>
                    <a:pt x="76" y="1057"/>
                  </a:lnTo>
                  <a:lnTo>
                    <a:pt x="72" y="1061"/>
                  </a:lnTo>
                  <a:lnTo>
                    <a:pt x="68" y="1066"/>
                  </a:lnTo>
                  <a:lnTo>
                    <a:pt x="66" y="1070"/>
                  </a:lnTo>
                  <a:lnTo>
                    <a:pt x="64" y="1075"/>
                  </a:lnTo>
                  <a:lnTo>
                    <a:pt x="59" y="1079"/>
                  </a:lnTo>
                  <a:lnTo>
                    <a:pt x="57" y="1084"/>
                  </a:lnTo>
                  <a:lnTo>
                    <a:pt x="55" y="1088"/>
                  </a:lnTo>
                  <a:lnTo>
                    <a:pt x="53" y="1093"/>
                  </a:lnTo>
                  <a:lnTo>
                    <a:pt x="51" y="1097"/>
                  </a:lnTo>
                  <a:lnTo>
                    <a:pt x="51" y="1102"/>
                  </a:lnTo>
                  <a:lnTo>
                    <a:pt x="49" y="1106"/>
                  </a:lnTo>
                  <a:lnTo>
                    <a:pt x="47" y="1111"/>
                  </a:lnTo>
                  <a:lnTo>
                    <a:pt x="47" y="1115"/>
                  </a:lnTo>
                  <a:lnTo>
                    <a:pt x="47" y="1120"/>
                  </a:lnTo>
                  <a:lnTo>
                    <a:pt x="44" y="1124"/>
                  </a:lnTo>
                  <a:lnTo>
                    <a:pt x="44" y="1129"/>
                  </a:lnTo>
                  <a:lnTo>
                    <a:pt x="42" y="1133"/>
                  </a:lnTo>
                  <a:lnTo>
                    <a:pt x="42" y="1138"/>
                  </a:lnTo>
                  <a:lnTo>
                    <a:pt x="40" y="1142"/>
                  </a:lnTo>
                  <a:lnTo>
                    <a:pt x="40" y="1147"/>
                  </a:lnTo>
                  <a:lnTo>
                    <a:pt x="38" y="1151"/>
                  </a:lnTo>
                  <a:lnTo>
                    <a:pt x="38" y="1156"/>
                  </a:lnTo>
                  <a:lnTo>
                    <a:pt x="38" y="1160"/>
                  </a:lnTo>
                  <a:lnTo>
                    <a:pt x="38" y="1165"/>
                  </a:lnTo>
                  <a:lnTo>
                    <a:pt x="38" y="1169"/>
                  </a:lnTo>
                  <a:lnTo>
                    <a:pt x="36" y="1174"/>
                  </a:lnTo>
                  <a:lnTo>
                    <a:pt x="36" y="1178"/>
                  </a:lnTo>
                  <a:lnTo>
                    <a:pt x="34" y="1183"/>
                  </a:lnTo>
                  <a:lnTo>
                    <a:pt x="32" y="1187"/>
                  </a:lnTo>
                  <a:lnTo>
                    <a:pt x="32" y="1192"/>
                  </a:lnTo>
                  <a:lnTo>
                    <a:pt x="30" y="1196"/>
                  </a:lnTo>
                  <a:lnTo>
                    <a:pt x="30" y="1201"/>
                  </a:lnTo>
                  <a:lnTo>
                    <a:pt x="30" y="1205"/>
                  </a:lnTo>
                  <a:lnTo>
                    <a:pt x="30" y="1210"/>
                  </a:lnTo>
                  <a:lnTo>
                    <a:pt x="30" y="1214"/>
                  </a:lnTo>
                  <a:lnTo>
                    <a:pt x="27" y="1219"/>
                  </a:lnTo>
                  <a:lnTo>
                    <a:pt x="27" y="1223"/>
                  </a:lnTo>
                  <a:lnTo>
                    <a:pt x="27" y="1228"/>
                  </a:lnTo>
                  <a:lnTo>
                    <a:pt x="25" y="1232"/>
                  </a:lnTo>
                  <a:lnTo>
                    <a:pt x="25" y="1237"/>
                  </a:lnTo>
                  <a:lnTo>
                    <a:pt x="25" y="1241"/>
                  </a:lnTo>
                  <a:lnTo>
                    <a:pt x="25" y="1246"/>
                  </a:lnTo>
                  <a:lnTo>
                    <a:pt x="23" y="1250"/>
                  </a:lnTo>
                  <a:lnTo>
                    <a:pt x="23" y="1255"/>
                  </a:lnTo>
                  <a:lnTo>
                    <a:pt x="23" y="1259"/>
                  </a:lnTo>
                  <a:lnTo>
                    <a:pt x="23" y="1264"/>
                  </a:lnTo>
                  <a:lnTo>
                    <a:pt x="23" y="1268"/>
                  </a:lnTo>
                  <a:lnTo>
                    <a:pt x="25" y="1273"/>
                  </a:lnTo>
                  <a:lnTo>
                    <a:pt x="25" y="1277"/>
                  </a:lnTo>
                  <a:lnTo>
                    <a:pt x="25" y="1282"/>
                  </a:lnTo>
                  <a:lnTo>
                    <a:pt x="25" y="1286"/>
                  </a:lnTo>
                  <a:lnTo>
                    <a:pt x="27" y="1291"/>
                  </a:lnTo>
                  <a:lnTo>
                    <a:pt x="27" y="1295"/>
                  </a:lnTo>
                  <a:lnTo>
                    <a:pt x="30" y="1300"/>
                  </a:lnTo>
                  <a:lnTo>
                    <a:pt x="30" y="1304"/>
                  </a:lnTo>
                  <a:lnTo>
                    <a:pt x="30" y="1309"/>
                  </a:lnTo>
                  <a:lnTo>
                    <a:pt x="32" y="1313"/>
                  </a:lnTo>
                  <a:lnTo>
                    <a:pt x="34" y="1318"/>
                  </a:lnTo>
                  <a:lnTo>
                    <a:pt x="32" y="1322"/>
                  </a:lnTo>
                  <a:lnTo>
                    <a:pt x="32" y="1327"/>
                  </a:lnTo>
                  <a:lnTo>
                    <a:pt x="32" y="1331"/>
                  </a:lnTo>
                  <a:lnTo>
                    <a:pt x="30" y="1336"/>
                  </a:lnTo>
                  <a:lnTo>
                    <a:pt x="27" y="1340"/>
                  </a:lnTo>
                  <a:lnTo>
                    <a:pt x="27" y="1345"/>
                  </a:lnTo>
                  <a:lnTo>
                    <a:pt x="27" y="1349"/>
                  </a:lnTo>
                  <a:lnTo>
                    <a:pt x="27" y="1354"/>
                  </a:lnTo>
                  <a:lnTo>
                    <a:pt x="25" y="1358"/>
                  </a:lnTo>
                  <a:lnTo>
                    <a:pt x="25" y="1363"/>
                  </a:lnTo>
                  <a:lnTo>
                    <a:pt x="25" y="1367"/>
                  </a:lnTo>
                  <a:lnTo>
                    <a:pt x="25" y="1372"/>
                  </a:lnTo>
                  <a:lnTo>
                    <a:pt x="25" y="1376"/>
                  </a:lnTo>
                  <a:lnTo>
                    <a:pt x="25" y="1381"/>
                  </a:lnTo>
                  <a:lnTo>
                    <a:pt x="25" y="1385"/>
                  </a:lnTo>
                  <a:lnTo>
                    <a:pt x="25" y="1390"/>
                  </a:lnTo>
                  <a:lnTo>
                    <a:pt x="25" y="1394"/>
                  </a:lnTo>
                  <a:lnTo>
                    <a:pt x="25" y="1399"/>
                  </a:lnTo>
                  <a:lnTo>
                    <a:pt x="23" y="1403"/>
                  </a:lnTo>
                  <a:lnTo>
                    <a:pt x="23" y="1408"/>
                  </a:lnTo>
                  <a:lnTo>
                    <a:pt x="23" y="1412"/>
                  </a:lnTo>
                  <a:lnTo>
                    <a:pt x="23" y="1417"/>
                  </a:lnTo>
                  <a:lnTo>
                    <a:pt x="23" y="1421"/>
                  </a:lnTo>
                  <a:lnTo>
                    <a:pt x="23" y="1426"/>
                  </a:lnTo>
                  <a:lnTo>
                    <a:pt x="23" y="1430"/>
                  </a:lnTo>
                  <a:lnTo>
                    <a:pt x="23" y="1435"/>
                  </a:lnTo>
                  <a:lnTo>
                    <a:pt x="23" y="1439"/>
                  </a:lnTo>
                  <a:lnTo>
                    <a:pt x="23" y="1444"/>
                  </a:lnTo>
                  <a:lnTo>
                    <a:pt x="23" y="1448"/>
                  </a:lnTo>
                  <a:lnTo>
                    <a:pt x="23" y="1453"/>
                  </a:lnTo>
                  <a:lnTo>
                    <a:pt x="23" y="1457"/>
                  </a:lnTo>
                  <a:lnTo>
                    <a:pt x="23" y="1462"/>
                  </a:lnTo>
                  <a:lnTo>
                    <a:pt x="21" y="1466"/>
                  </a:lnTo>
                  <a:lnTo>
                    <a:pt x="23" y="1471"/>
                  </a:lnTo>
                  <a:lnTo>
                    <a:pt x="23" y="1475"/>
                  </a:lnTo>
                  <a:lnTo>
                    <a:pt x="23" y="1480"/>
                  </a:lnTo>
                  <a:lnTo>
                    <a:pt x="23" y="1484"/>
                  </a:lnTo>
                  <a:lnTo>
                    <a:pt x="23" y="1489"/>
                  </a:lnTo>
                  <a:lnTo>
                    <a:pt x="23" y="1493"/>
                  </a:lnTo>
                  <a:lnTo>
                    <a:pt x="23" y="1498"/>
                  </a:lnTo>
                  <a:lnTo>
                    <a:pt x="23" y="1502"/>
                  </a:lnTo>
                  <a:lnTo>
                    <a:pt x="23" y="1507"/>
                  </a:lnTo>
                  <a:lnTo>
                    <a:pt x="23" y="1511"/>
                  </a:lnTo>
                  <a:lnTo>
                    <a:pt x="23" y="1516"/>
                  </a:lnTo>
                  <a:lnTo>
                    <a:pt x="21" y="1520"/>
                  </a:lnTo>
                  <a:lnTo>
                    <a:pt x="23" y="1525"/>
                  </a:lnTo>
                  <a:lnTo>
                    <a:pt x="21" y="1529"/>
                  </a:lnTo>
                  <a:lnTo>
                    <a:pt x="21" y="1534"/>
                  </a:lnTo>
                  <a:lnTo>
                    <a:pt x="21" y="1538"/>
                  </a:lnTo>
                  <a:lnTo>
                    <a:pt x="21" y="1543"/>
                  </a:lnTo>
                  <a:lnTo>
                    <a:pt x="19" y="1547"/>
                  </a:lnTo>
                  <a:lnTo>
                    <a:pt x="19" y="1552"/>
                  </a:lnTo>
                  <a:lnTo>
                    <a:pt x="19" y="1556"/>
                  </a:lnTo>
                  <a:lnTo>
                    <a:pt x="19" y="1561"/>
                  </a:lnTo>
                  <a:lnTo>
                    <a:pt x="17" y="1565"/>
                  </a:lnTo>
                  <a:lnTo>
                    <a:pt x="19" y="1570"/>
                  </a:lnTo>
                  <a:lnTo>
                    <a:pt x="19" y="1574"/>
                  </a:lnTo>
                  <a:lnTo>
                    <a:pt x="19" y="1578"/>
                  </a:lnTo>
                  <a:lnTo>
                    <a:pt x="19" y="1583"/>
                  </a:lnTo>
                  <a:lnTo>
                    <a:pt x="19" y="1587"/>
                  </a:lnTo>
                  <a:lnTo>
                    <a:pt x="19" y="1592"/>
                  </a:lnTo>
                  <a:lnTo>
                    <a:pt x="19" y="1596"/>
                  </a:lnTo>
                  <a:lnTo>
                    <a:pt x="19" y="1601"/>
                  </a:lnTo>
                  <a:lnTo>
                    <a:pt x="19" y="1605"/>
                  </a:lnTo>
                  <a:lnTo>
                    <a:pt x="19" y="1610"/>
                  </a:lnTo>
                  <a:lnTo>
                    <a:pt x="21" y="1614"/>
                  </a:lnTo>
                  <a:lnTo>
                    <a:pt x="21" y="1619"/>
                  </a:lnTo>
                  <a:lnTo>
                    <a:pt x="21" y="1623"/>
                  </a:lnTo>
                  <a:lnTo>
                    <a:pt x="21" y="1628"/>
                  </a:lnTo>
                  <a:lnTo>
                    <a:pt x="21" y="1632"/>
                  </a:lnTo>
                  <a:lnTo>
                    <a:pt x="21" y="1637"/>
                  </a:lnTo>
                  <a:lnTo>
                    <a:pt x="21" y="1641"/>
                  </a:lnTo>
                  <a:lnTo>
                    <a:pt x="21" y="1646"/>
                  </a:lnTo>
                  <a:lnTo>
                    <a:pt x="21" y="1650"/>
                  </a:lnTo>
                  <a:lnTo>
                    <a:pt x="21" y="1655"/>
                  </a:lnTo>
                  <a:lnTo>
                    <a:pt x="21" y="1659"/>
                  </a:lnTo>
                  <a:lnTo>
                    <a:pt x="21" y="1664"/>
                  </a:lnTo>
                  <a:lnTo>
                    <a:pt x="21" y="1668"/>
                  </a:lnTo>
                  <a:lnTo>
                    <a:pt x="21" y="1673"/>
                  </a:lnTo>
                  <a:lnTo>
                    <a:pt x="21" y="1677"/>
                  </a:lnTo>
                  <a:lnTo>
                    <a:pt x="21" y="1682"/>
                  </a:lnTo>
                  <a:lnTo>
                    <a:pt x="21" y="1686"/>
                  </a:lnTo>
                  <a:lnTo>
                    <a:pt x="21" y="1691"/>
                  </a:lnTo>
                  <a:lnTo>
                    <a:pt x="21" y="1695"/>
                  </a:lnTo>
                  <a:lnTo>
                    <a:pt x="21" y="1700"/>
                  </a:lnTo>
                  <a:lnTo>
                    <a:pt x="21" y="1704"/>
                  </a:lnTo>
                  <a:lnTo>
                    <a:pt x="21" y="1709"/>
                  </a:lnTo>
                  <a:lnTo>
                    <a:pt x="21" y="1713"/>
                  </a:lnTo>
                  <a:lnTo>
                    <a:pt x="21" y="1718"/>
                  </a:lnTo>
                  <a:lnTo>
                    <a:pt x="21" y="1722"/>
                  </a:lnTo>
                  <a:lnTo>
                    <a:pt x="21" y="1727"/>
                  </a:lnTo>
                  <a:lnTo>
                    <a:pt x="21" y="1731"/>
                  </a:lnTo>
                  <a:lnTo>
                    <a:pt x="21" y="1736"/>
                  </a:lnTo>
                  <a:lnTo>
                    <a:pt x="19" y="1740"/>
                  </a:lnTo>
                  <a:lnTo>
                    <a:pt x="19" y="1745"/>
                  </a:lnTo>
                  <a:lnTo>
                    <a:pt x="19" y="1749"/>
                  </a:lnTo>
                  <a:lnTo>
                    <a:pt x="19" y="1754"/>
                  </a:lnTo>
                  <a:lnTo>
                    <a:pt x="19" y="1758"/>
                  </a:lnTo>
                  <a:lnTo>
                    <a:pt x="17" y="1763"/>
                  </a:lnTo>
                  <a:lnTo>
                    <a:pt x="17" y="1767"/>
                  </a:lnTo>
                  <a:lnTo>
                    <a:pt x="17" y="1772"/>
                  </a:lnTo>
                  <a:lnTo>
                    <a:pt x="17" y="1776"/>
                  </a:lnTo>
                  <a:lnTo>
                    <a:pt x="17" y="1781"/>
                  </a:lnTo>
                  <a:lnTo>
                    <a:pt x="17" y="1785"/>
                  </a:lnTo>
                  <a:lnTo>
                    <a:pt x="19" y="1790"/>
                  </a:lnTo>
                  <a:lnTo>
                    <a:pt x="17" y="1794"/>
                  </a:lnTo>
                  <a:lnTo>
                    <a:pt x="17" y="1799"/>
                  </a:lnTo>
                  <a:lnTo>
                    <a:pt x="17" y="1803"/>
                  </a:lnTo>
                  <a:lnTo>
                    <a:pt x="17" y="1808"/>
                  </a:lnTo>
                  <a:lnTo>
                    <a:pt x="17" y="1812"/>
                  </a:lnTo>
                  <a:lnTo>
                    <a:pt x="17" y="1817"/>
                  </a:lnTo>
                  <a:lnTo>
                    <a:pt x="17" y="1821"/>
                  </a:lnTo>
                  <a:lnTo>
                    <a:pt x="17" y="1826"/>
                  </a:lnTo>
                  <a:lnTo>
                    <a:pt x="17" y="1830"/>
                  </a:lnTo>
                  <a:lnTo>
                    <a:pt x="17" y="1835"/>
                  </a:lnTo>
                  <a:lnTo>
                    <a:pt x="17" y="1839"/>
                  </a:lnTo>
                  <a:lnTo>
                    <a:pt x="17" y="1844"/>
                  </a:lnTo>
                  <a:lnTo>
                    <a:pt x="17" y="1848"/>
                  </a:lnTo>
                  <a:lnTo>
                    <a:pt x="17" y="1853"/>
                  </a:lnTo>
                  <a:lnTo>
                    <a:pt x="17" y="1857"/>
                  </a:lnTo>
                  <a:lnTo>
                    <a:pt x="17" y="1862"/>
                  </a:lnTo>
                  <a:lnTo>
                    <a:pt x="15" y="1866"/>
                  </a:lnTo>
                  <a:lnTo>
                    <a:pt x="15" y="1871"/>
                  </a:lnTo>
                  <a:lnTo>
                    <a:pt x="15" y="1875"/>
                  </a:lnTo>
                  <a:lnTo>
                    <a:pt x="13" y="1880"/>
                  </a:lnTo>
                  <a:lnTo>
                    <a:pt x="10" y="1884"/>
                  </a:lnTo>
                  <a:lnTo>
                    <a:pt x="10" y="1889"/>
                  </a:lnTo>
                  <a:lnTo>
                    <a:pt x="10" y="1893"/>
                  </a:lnTo>
                  <a:lnTo>
                    <a:pt x="10" y="1898"/>
                  </a:lnTo>
                  <a:lnTo>
                    <a:pt x="10" y="1902"/>
                  </a:lnTo>
                  <a:lnTo>
                    <a:pt x="10" y="1907"/>
                  </a:lnTo>
                  <a:lnTo>
                    <a:pt x="13" y="1911"/>
                  </a:lnTo>
                  <a:lnTo>
                    <a:pt x="10" y="1916"/>
                  </a:lnTo>
                  <a:lnTo>
                    <a:pt x="13" y="1920"/>
                  </a:lnTo>
                  <a:lnTo>
                    <a:pt x="13" y="1925"/>
                  </a:lnTo>
                  <a:lnTo>
                    <a:pt x="13" y="1929"/>
                  </a:lnTo>
                  <a:lnTo>
                    <a:pt x="13" y="1934"/>
                  </a:lnTo>
                  <a:lnTo>
                    <a:pt x="13" y="1938"/>
                  </a:lnTo>
                  <a:lnTo>
                    <a:pt x="13" y="1943"/>
                  </a:lnTo>
                  <a:lnTo>
                    <a:pt x="13" y="1947"/>
                  </a:lnTo>
                  <a:lnTo>
                    <a:pt x="13" y="1952"/>
                  </a:lnTo>
                  <a:lnTo>
                    <a:pt x="13" y="1956"/>
                  </a:lnTo>
                  <a:lnTo>
                    <a:pt x="13" y="1961"/>
                  </a:lnTo>
                  <a:lnTo>
                    <a:pt x="13" y="1965"/>
                  </a:lnTo>
                  <a:lnTo>
                    <a:pt x="13" y="1970"/>
                  </a:lnTo>
                  <a:lnTo>
                    <a:pt x="13" y="1974"/>
                  </a:lnTo>
                  <a:lnTo>
                    <a:pt x="13" y="1979"/>
                  </a:lnTo>
                  <a:lnTo>
                    <a:pt x="13" y="1983"/>
                  </a:lnTo>
                  <a:lnTo>
                    <a:pt x="13" y="1988"/>
                  </a:lnTo>
                  <a:lnTo>
                    <a:pt x="10" y="1992"/>
                  </a:lnTo>
                  <a:lnTo>
                    <a:pt x="10" y="1997"/>
                  </a:lnTo>
                  <a:lnTo>
                    <a:pt x="10" y="2001"/>
                  </a:lnTo>
                  <a:lnTo>
                    <a:pt x="8" y="2006"/>
                  </a:lnTo>
                  <a:lnTo>
                    <a:pt x="8" y="2010"/>
                  </a:lnTo>
                  <a:lnTo>
                    <a:pt x="8" y="2015"/>
                  </a:lnTo>
                  <a:lnTo>
                    <a:pt x="10" y="2019"/>
                  </a:lnTo>
                  <a:lnTo>
                    <a:pt x="10" y="2024"/>
                  </a:lnTo>
                  <a:lnTo>
                    <a:pt x="8" y="2028"/>
                  </a:lnTo>
                  <a:lnTo>
                    <a:pt x="8" y="2033"/>
                  </a:lnTo>
                  <a:lnTo>
                    <a:pt x="8" y="2037"/>
                  </a:lnTo>
                  <a:lnTo>
                    <a:pt x="8" y="2042"/>
                  </a:lnTo>
                  <a:lnTo>
                    <a:pt x="10" y="2046"/>
                  </a:lnTo>
                  <a:lnTo>
                    <a:pt x="10" y="2051"/>
                  </a:lnTo>
                  <a:lnTo>
                    <a:pt x="10" y="2055"/>
                  </a:lnTo>
                  <a:lnTo>
                    <a:pt x="10" y="2060"/>
                  </a:lnTo>
                  <a:lnTo>
                    <a:pt x="10" y="2064"/>
                  </a:lnTo>
                  <a:lnTo>
                    <a:pt x="10" y="2069"/>
                  </a:lnTo>
                  <a:lnTo>
                    <a:pt x="10" y="2073"/>
                  </a:lnTo>
                  <a:lnTo>
                    <a:pt x="10" y="2078"/>
                  </a:lnTo>
                  <a:lnTo>
                    <a:pt x="10" y="2082"/>
                  </a:lnTo>
                  <a:lnTo>
                    <a:pt x="8" y="2087"/>
                  </a:lnTo>
                  <a:lnTo>
                    <a:pt x="8" y="2091"/>
                  </a:lnTo>
                  <a:lnTo>
                    <a:pt x="8" y="2096"/>
                  </a:lnTo>
                  <a:lnTo>
                    <a:pt x="8" y="2100"/>
                  </a:lnTo>
                  <a:lnTo>
                    <a:pt x="8" y="2105"/>
                  </a:lnTo>
                  <a:lnTo>
                    <a:pt x="6" y="2109"/>
                  </a:lnTo>
                  <a:lnTo>
                    <a:pt x="6" y="2114"/>
                  </a:lnTo>
                  <a:lnTo>
                    <a:pt x="8" y="2118"/>
                  </a:lnTo>
                  <a:lnTo>
                    <a:pt x="8" y="2123"/>
                  </a:lnTo>
                  <a:lnTo>
                    <a:pt x="8" y="2127"/>
                  </a:lnTo>
                  <a:lnTo>
                    <a:pt x="8" y="2132"/>
                  </a:lnTo>
                  <a:lnTo>
                    <a:pt x="8" y="2136"/>
                  </a:lnTo>
                  <a:lnTo>
                    <a:pt x="8" y="2141"/>
                  </a:lnTo>
                  <a:lnTo>
                    <a:pt x="8" y="2145"/>
                  </a:lnTo>
                  <a:lnTo>
                    <a:pt x="8" y="2150"/>
                  </a:lnTo>
                  <a:lnTo>
                    <a:pt x="8" y="2154"/>
                  </a:lnTo>
                  <a:lnTo>
                    <a:pt x="8" y="2159"/>
                  </a:lnTo>
                  <a:lnTo>
                    <a:pt x="8" y="2163"/>
                  </a:lnTo>
                  <a:lnTo>
                    <a:pt x="8" y="2168"/>
                  </a:lnTo>
                  <a:lnTo>
                    <a:pt x="8" y="2172"/>
                  </a:lnTo>
                  <a:lnTo>
                    <a:pt x="6" y="2177"/>
                  </a:lnTo>
                  <a:lnTo>
                    <a:pt x="6" y="2181"/>
                  </a:lnTo>
                  <a:lnTo>
                    <a:pt x="4" y="2186"/>
                  </a:lnTo>
                  <a:lnTo>
                    <a:pt x="6" y="2190"/>
                  </a:lnTo>
                  <a:lnTo>
                    <a:pt x="6" y="2195"/>
                  </a:lnTo>
                  <a:lnTo>
                    <a:pt x="6" y="2199"/>
                  </a:lnTo>
                  <a:lnTo>
                    <a:pt x="6" y="2204"/>
                  </a:lnTo>
                  <a:lnTo>
                    <a:pt x="6" y="2208"/>
                  </a:lnTo>
                  <a:lnTo>
                    <a:pt x="6" y="2213"/>
                  </a:lnTo>
                  <a:lnTo>
                    <a:pt x="6" y="2217"/>
                  </a:lnTo>
                  <a:lnTo>
                    <a:pt x="6" y="2222"/>
                  </a:lnTo>
                  <a:lnTo>
                    <a:pt x="6" y="2226"/>
                  </a:lnTo>
                  <a:lnTo>
                    <a:pt x="4" y="2231"/>
                  </a:lnTo>
                  <a:lnTo>
                    <a:pt x="4" y="2235"/>
                  </a:lnTo>
                  <a:lnTo>
                    <a:pt x="4" y="2240"/>
                  </a:lnTo>
                  <a:lnTo>
                    <a:pt x="4" y="2244"/>
                  </a:lnTo>
                  <a:lnTo>
                    <a:pt x="4" y="2249"/>
                  </a:lnTo>
                  <a:lnTo>
                    <a:pt x="4" y="2253"/>
                  </a:lnTo>
                  <a:lnTo>
                    <a:pt x="4" y="2258"/>
                  </a:lnTo>
                  <a:lnTo>
                    <a:pt x="4" y="2262"/>
                  </a:lnTo>
                  <a:lnTo>
                    <a:pt x="4" y="2267"/>
                  </a:lnTo>
                  <a:lnTo>
                    <a:pt x="4" y="2271"/>
                  </a:lnTo>
                  <a:lnTo>
                    <a:pt x="4" y="2276"/>
                  </a:lnTo>
                  <a:lnTo>
                    <a:pt x="4" y="2280"/>
                  </a:lnTo>
                  <a:lnTo>
                    <a:pt x="4" y="2285"/>
                  </a:lnTo>
                  <a:lnTo>
                    <a:pt x="4" y="2289"/>
                  </a:lnTo>
                  <a:lnTo>
                    <a:pt x="4" y="2294"/>
                  </a:lnTo>
                  <a:lnTo>
                    <a:pt x="2" y="2298"/>
                  </a:lnTo>
                  <a:lnTo>
                    <a:pt x="2" y="2303"/>
                  </a:lnTo>
                  <a:lnTo>
                    <a:pt x="2" y="2307"/>
                  </a:lnTo>
                  <a:lnTo>
                    <a:pt x="2" y="2312"/>
                  </a:lnTo>
                  <a:lnTo>
                    <a:pt x="2" y="2316"/>
                  </a:lnTo>
                  <a:lnTo>
                    <a:pt x="2" y="2321"/>
                  </a:lnTo>
                  <a:lnTo>
                    <a:pt x="2" y="2325"/>
                  </a:lnTo>
                  <a:lnTo>
                    <a:pt x="2" y="2330"/>
                  </a:lnTo>
                  <a:lnTo>
                    <a:pt x="2" y="2334"/>
                  </a:lnTo>
                  <a:lnTo>
                    <a:pt x="2" y="2339"/>
                  </a:lnTo>
                  <a:lnTo>
                    <a:pt x="0" y="2343"/>
                  </a:lnTo>
                  <a:lnTo>
                    <a:pt x="0" y="2348"/>
                  </a:lnTo>
                  <a:lnTo>
                    <a:pt x="0" y="2352"/>
                  </a:lnTo>
                  <a:lnTo>
                    <a:pt x="0" y="2357"/>
                  </a:lnTo>
                  <a:lnTo>
                    <a:pt x="0" y="2361"/>
                  </a:lnTo>
                  <a:lnTo>
                    <a:pt x="0" y="2366"/>
                  </a:lnTo>
                  <a:lnTo>
                    <a:pt x="2" y="2370"/>
                  </a:lnTo>
                  <a:lnTo>
                    <a:pt x="2" y="2375"/>
                  </a:lnTo>
                  <a:lnTo>
                    <a:pt x="2" y="2379"/>
                  </a:lnTo>
                  <a:lnTo>
                    <a:pt x="2" y="2384"/>
                  </a:lnTo>
                  <a:lnTo>
                    <a:pt x="2" y="2388"/>
                  </a:lnTo>
                  <a:lnTo>
                    <a:pt x="2" y="2393"/>
                  </a:lnTo>
                  <a:lnTo>
                    <a:pt x="2" y="2397"/>
                  </a:lnTo>
                  <a:lnTo>
                    <a:pt x="2" y="2402"/>
                  </a:lnTo>
                  <a:lnTo>
                    <a:pt x="2" y="2406"/>
                  </a:lnTo>
                  <a:lnTo>
                    <a:pt x="4" y="2411"/>
                  </a:lnTo>
                  <a:lnTo>
                    <a:pt x="4" y="2415"/>
                  </a:lnTo>
                  <a:lnTo>
                    <a:pt x="4" y="2420"/>
                  </a:lnTo>
                  <a:lnTo>
                    <a:pt x="4" y="2424"/>
                  </a:lnTo>
                  <a:lnTo>
                    <a:pt x="6" y="2429"/>
                  </a:lnTo>
                  <a:lnTo>
                    <a:pt x="6" y="2433"/>
                  </a:lnTo>
                  <a:lnTo>
                    <a:pt x="8" y="2438"/>
                  </a:lnTo>
                  <a:lnTo>
                    <a:pt x="13" y="2442"/>
                  </a:lnTo>
                  <a:lnTo>
                    <a:pt x="15" y="2447"/>
                  </a:lnTo>
                  <a:lnTo>
                    <a:pt x="17" y="2451"/>
                  </a:lnTo>
                  <a:lnTo>
                    <a:pt x="21" y="2456"/>
                  </a:lnTo>
                  <a:lnTo>
                    <a:pt x="23" y="2460"/>
                  </a:lnTo>
                  <a:lnTo>
                    <a:pt x="27" y="2465"/>
                  </a:lnTo>
                  <a:lnTo>
                    <a:pt x="32" y="2469"/>
                  </a:lnTo>
                  <a:lnTo>
                    <a:pt x="36" y="2474"/>
                  </a:lnTo>
                  <a:lnTo>
                    <a:pt x="49" y="2478"/>
                  </a:lnTo>
                  <a:lnTo>
                    <a:pt x="55" y="2483"/>
                  </a:lnTo>
                  <a:lnTo>
                    <a:pt x="64" y="2487"/>
                  </a:lnTo>
                  <a:lnTo>
                    <a:pt x="83" y="2492"/>
                  </a:lnTo>
                  <a:lnTo>
                    <a:pt x="98" y="2496"/>
                  </a:lnTo>
                  <a:lnTo>
                    <a:pt x="110" y="2501"/>
                  </a:lnTo>
                  <a:lnTo>
                    <a:pt x="127" y="2505"/>
                  </a:lnTo>
                  <a:lnTo>
                    <a:pt x="136" y="2510"/>
                  </a:lnTo>
                  <a:lnTo>
                    <a:pt x="144" y="2514"/>
                  </a:lnTo>
                  <a:lnTo>
                    <a:pt x="155" y="2519"/>
                  </a:lnTo>
                  <a:lnTo>
                    <a:pt x="157" y="2523"/>
                  </a:lnTo>
                  <a:lnTo>
                    <a:pt x="157" y="2528"/>
                  </a:lnTo>
                  <a:lnTo>
                    <a:pt x="159" y="2532"/>
                  </a:lnTo>
                  <a:lnTo>
                    <a:pt x="159" y="2537"/>
                  </a:lnTo>
                  <a:lnTo>
                    <a:pt x="161" y="2541"/>
                  </a:lnTo>
                  <a:lnTo>
                    <a:pt x="161" y="2546"/>
                  </a:lnTo>
                  <a:lnTo>
                    <a:pt x="161" y="2550"/>
                  </a:lnTo>
                  <a:lnTo>
                    <a:pt x="161" y="2555"/>
                  </a:lnTo>
                  <a:lnTo>
                    <a:pt x="161" y="2559"/>
                  </a:lnTo>
                  <a:lnTo>
                    <a:pt x="161" y="2564"/>
                  </a:lnTo>
                  <a:lnTo>
                    <a:pt x="161" y="2568"/>
                  </a:lnTo>
                  <a:lnTo>
                    <a:pt x="161" y="2573"/>
                  </a:lnTo>
                  <a:lnTo>
                    <a:pt x="161" y="2577"/>
                  </a:lnTo>
                  <a:lnTo>
                    <a:pt x="161" y="2582"/>
                  </a:lnTo>
                  <a:lnTo>
                    <a:pt x="159" y="2586"/>
                  </a:lnTo>
                  <a:lnTo>
                    <a:pt x="159" y="2591"/>
                  </a:lnTo>
                  <a:lnTo>
                    <a:pt x="161" y="2595"/>
                  </a:lnTo>
                  <a:lnTo>
                    <a:pt x="161" y="2600"/>
                  </a:lnTo>
                  <a:lnTo>
                    <a:pt x="161" y="2604"/>
                  </a:lnTo>
                  <a:lnTo>
                    <a:pt x="161" y="2609"/>
                  </a:ln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Freeform 293"/>
            <p:cNvSpPr/>
            <p:nvPr/>
          </p:nvSpPr>
          <p:spPr>
            <a:xfrm>
              <a:off x="1282680" y="2157480"/>
              <a:ext cx="272880" cy="4379760"/>
            </a:xfrm>
            <a:custGeom>
              <a:avLst/>
              <a:gdLst>
                <a:gd name="textAreaLeft" fmla="*/ 0 w 272880"/>
                <a:gd name="textAreaRight" fmla="*/ 273240 w 272880"/>
                <a:gd name="textAreaTop" fmla="*/ 0 h 4379760"/>
                <a:gd name="textAreaBottom" fmla="*/ 4380120 h 4379760"/>
              </a:gdLst>
              <a:ahLst/>
              <a:rect l="textAreaLeft" t="textAreaTop" r="textAreaRight" b="textAreaBottom"/>
              <a:pathLst>
                <a:path w="162" h="2582">
                  <a:moveTo>
                    <a:pt x="111" y="0"/>
                  </a:moveTo>
                  <a:lnTo>
                    <a:pt x="115" y="4"/>
                  </a:lnTo>
                  <a:lnTo>
                    <a:pt x="117" y="9"/>
                  </a:lnTo>
                  <a:lnTo>
                    <a:pt x="119" y="13"/>
                  </a:lnTo>
                  <a:lnTo>
                    <a:pt x="117" y="18"/>
                  </a:lnTo>
                  <a:lnTo>
                    <a:pt x="117" y="22"/>
                  </a:lnTo>
                  <a:lnTo>
                    <a:pt x="117" y="27"/>
                  </a:lnTo>
                  <a:lnTo>
                    <a:pt x="117" y="31"/>
                  </a:lnTo>
                  <a:lnTo>
                    <a:pt x="117" y="36"/>
                  </a:lnTo>
                  <a:lnTo>
                    <a:pt x="113" y="40"/>
                  </a:lnTo>
                  <a:lnTo>
                    <a:pt x="109" y="45"/>
                  </a:lnTo>
                  <a:lnTo>
                    <a:pt x="106" y="49"/>
                  </a:lnTo>
                  <a:lnTo>
                    <a:pt x="109" y="54"/>
                  </a:lnTo>
                  <a:lnTo>
                    <a:pt x="111" y="58"/>
                  </a:lnTo>
                  <a:lnTo>
                    <a:pt x="113" y="63"/>
                  </a:lnTo>
                  <a:lnTo>
                    <a:pt x="115" y="67"/>
                  </a:lnTo>
                  <a:lnTo>
                    <a:pt x="113" y="72"/>
                  </a:lnTo>
                  <a:lnTo>
                    <a:pt x="111" y="76"/>
                  </a:lnTo>
                  <a:lnTo>
                    <a:pt x="109" y="81"/>
                  </a:lnTo>
                  <a:lnTo>
                    <a:pt x="111" y="85"/>
                  </a:lnTo>
                  <a:lnTo>
                    <a:pt x="111" y="90"/>
                  </a:lnTo>
                  <a:lnTo>
                    <a:pt x="111" y="94"/>
                  </a:lnTo>
                  <a:lnTo>
                    <a:pt x="111" y="99"/>
                  </a:lnTo>
                  <a:lnTo>
                    <a:pt x="119" y="103"/>
                  </a:lnTo>
                  <a:lnTo>
                    <a:pt x="132" y="108"/>
                  </a:lnTo>
                  <a:lnTo>
                    <a:pt x="143" y="112"/>
                  </a:lnTo>
                  <a:lnTo>
                    <a:pt x="140" y="117"/>
                  </a:lnTo>
                  <a:lnTo>
                    <a:pt x="132" y="121"/>
                  </a:lnTo>
                  <a:lnTo>
                    <a:pt x="123" y="126"/>
                  </a:lnTo>
                  <a:lnTo>
                    <a:pt x="111" y="130"/>
                  </a:lnTo>
                  <a:lnTo>
                    <a:pt x="106" y="135"/>
                  </a:lnTo>
                  <a:lnTo>
                    <a:pt x="109" y="139"/>
                  </a:lnTo>
                  <a:lnTo>
                    <a:pt x="115" y="144"/>
                  </a:lnTo>
                  <a:lnTo>
                    <a:pt x="126" y="148"/>
                  </a:lnTo>
                  <a:lnTo>
                    <a:pt x="134" y="153"/>
                  </a:lnTo>
                  <a:lnTo>
                    <a:pt x="136" y="157"/>
                  </a:lnTo>
                  <a:lnTo>
                    <a:pt x="134" y="162"/>
                  </a:lnTo>
                  <a:lnTo>
                    <a:pt x="132" y="166"/>
                  </a:lnTo>
                  <a:lnTo>
                    <a:pt x="132" y="171"/>
                  </a:lnTo>
                  <a:lnTo>
                    <a:pt x="138" y="175"/>
                  </a:lnTo>
                  <a:lnTo>
                    <a:pt x="147" y="180"/>
                  </a:lnTo>
                  <a:lnTo>
                    <a:pt x="153" y="184"/>
                  </a:lnTo>
                  <a:lnTo>
                    <a:pt x="162" y="189"/>
                  </a:lnTo>
                  <a:lnTo>
                    <a:pt x="145" y="193"/>
                  </a:lnTo>
                  <a:lnTo>
                    <a:pt x="96" y="198"/>
                  </a:lnTo>
                  <a:lnTo>
                    <a:pt x="53" y="202"/>
                  </a:lnTo>
                  <a:lnTo>
                    <a:pt x="32" y="207"/>
                  </a:lnTo>
                  <a:lnTo>
                    <a:pt x="21" y="211"/>
                  </a:lnTo>
                  <a:lnTo>
                    <a:pt x="13" y="216"/>
                  </a:lnTo>
                  <a:lnTo>
                    <a:pt x="11" y="220"/>
                  </a:lnTo>
                  <a:lnTo>
                    <a:pt x="9" y="225"/>
                  </a:lnTo>
                  <a:lnTo>
                    <a:pt x="4" y="229"/>
                  </a:lnTo>
                  <a:lnTo>
                    <a:pt x="2" y="234"/>
                  </a:lnTo>
                  <a:lnTo>
                    <a:pt x="2" y="238"/>
                  </a:lnTo>
                  <a:lnTo>
                    <a:pt x="0" y="243"/>
                  </a:lnTo>
                  <a:lnTo>
                    <a:pt x="0" y="247"/>
                  </a:lnTo>
                  <a:lnTo>
                    <a:pt x="0" y="252"/>
                  </a:lnTo>
                  <a:lnTo>
                    <a:pt x="0" y="256"/>
                  </a:lnTo>
                  <a:lnTo>
                    <a:pt x="0" y="261"/>
                  </a:lnTo>
                  <a:lnTo>
                    <a:pt x="2" y="265"/>
                  </a:lnTo>
                  <a:lnTo>
                    <a:pt x="4" y="270"/>
                  </a:lnTo>
                  <a:lnTo>
                    <a:pt x="4" y="274"/>
                  </a:lnTo>
                  <a:lnTo>
                    <a:pt x="7" y="279"/>
                  </a:lnTo>
                  <a:lnTo>
                    <a:pt x="7" y="283"/>
                  </a:lnTo>
                  <a:lnTo>
                    <a:pt x="9" y="288"/>
                  </a:lnTo>
                  <a:lnTo>
                    <a:pt x="7" y="292"/>
                  </a:lnTo>
                  <a:lnTo>
                    <a:pt x="7" y="297"/>
                  </a:lnTo>
                  <a:lnTo>
                    <a:pt x="7" y="301"/>
                  </a:lnTo>
                  <a:lnTo>
                    <a:pt x="7" y="306"/>
                  </a:lnTo>
                  <a:lnTo>
                    <a:pt x="7" y="310"/>
                  </a:lnTo>
                  <a:lnTo>
                    <a:pt x="7" y="315"/>
                  </a:lnTo>
                  <a:lnTo>
                    <a:pt x="7" y="319"/>
                  </a:lnTo>
                  <a:lnTo>
                    <a:pt x="9" y="324"/>
                  </a:lnTo>
                  <a:lnTo>
                    <a:pt x="7" y="328"/>
                  </a:lnTo>
                  <a:lnTo>
                    <a:pt x="7" y="333"/>
                  </a:lnTo>
                  <a:lnTo>
                    <a:pt x="7" y="337"/>
                  </a:lnTo>
                  <a:lnTo>
                    <a:pt x="7" y="342"/>
                  </a:lnTo>
                  <a:lnTo>
                    <a:pt x="7" y="346"/>
                  </a:lnTo>
                  <a:lnTo>
                    <a:pt x="7" y="351"/>
                  </a:lnTo>
                  <a:lnTo>
                    <a:pt x="7" y="355"/>
                  </a:lnTo>
                  <a:lnTo>
                    <a:pt x="7" y="360"/>
                  </a:lnTo>
                  <a:lnTo>
                    <a:pt x="7" y="364"/>
                  </a:lnTo>
                  <a:lnTo>
                    <a:pt x="7" y="369"/>
                  </a:lnTo>
                  <a:lnTo>
                    <a:pt x="4" y="373"/>
                  </a:lnTo>
                  <a:lnTo>
                    <a:pt x="4" y="378"/>
                  </a:lnTo>
                  <a:lnTo>
                    <a:pt x="4" y="382"/>
                  </a:lnTo>
                  <a:lnTo>
                    <a:pt x="4" y="387"/>
                  </a:lnTo>
                  <a:lnTo>
                    <a:pt x="4" y="391"/>
                  </a:lnTo>
                  <a:lnTo>
                    <a:pt x="4" y="396"/>
                  </a:lnTo>
                  <a:lnTo>
                    <a:pt x="4" y="400"/>
                  </a:lnTo>
                  <a:lnTo>
                    <a:pt x="7" y="405"/>
                  </a:lnTo>
                  <a:lnTo>
                    <a:pt x="7" y="409"/>
                  </a:lnTo>
                  <a:lnTo>
                    <a:pt x="7" y="414"/>
                  </a:lnTo>
                  <a:lnTo>
                    <a:pt x="7" y="418"/>
                  </a:lnTo>
                  <a:lnTo>
                    <a:pt x="7" y="423"/>
                  </a:lnTo>
                  <a:lnTo>
                    <a:pt x="7" y="427"/>
                  </a:lnTo>
                  <a:lnTo>
                    <a:pt x="7" y="432"/>
                  </a:lnTo>
                  <a:lnTo>
                    <a:pt x="7" y="436"/>
                  </a:lnTo>
                  <a:lnTo>
                    <a:pt x="7" y="441"/>
                  </a:lnTo>
                  <a:lnTo>
                    <a:pt x="7" y="445"/>
                  </a:lnTo>
                  <a:lnTo>
                    <a:pt x="7" y="450"/>
                  </a:lnTo>
                  <a:lnTo>
                    <a:pt x="7" y="454"/>
                  </a:lnTo>
                  <a:lnTo>
                    <a:pt x="7" y="459"/>
                  </a:lnTo>
                  <a:lnTo>
                    <a:pt x="7" y="463"/>
                  </a:lnTo>
                  <a:lnTo>
                    <a:pt x="7" y="468"/>
                  </a:lnTo>
                  <a:lnTo>
                    <a:pt x="9" y="472"/>
                  </a:lnTo>
                  <a:lnTo>
                    <a:pt x="9" y="477"/>
                  </a:lnTo>
                  <a:lnTo>
                    <a:pt x="9" y="481"/>
                  </a:lnTo>
                  <a:lnTo>
                    <a:pt x="9" y="486"/>
                  </a:lnTo>
                  <a:lnTo>
                    <a:pt x="7" y="490"/>
                  </a:lnTo>
                  <a:lnTo>
                    <a:pt x="7" y="495"/>
                  </a:lnTo>
                  <a:lnTo>
                    <a:pt x="4" y="499"/>
                  </a:lnTo>
                  <a:lnTo>
                    <a:pt x="4" y="504"/>
                  </a:lnTo>
                  <a:lnTo>
                    <a:pt x="2" y="508"/>
                  </a:lnTo>
                  <a:lnTo>
                    <a:pt x="2" y="512"/>
                  </a:lnTo>
                  <a:lnTo>
                    <a:pt x="2" y="517"/>
                  </a:lnTo>
                  <a:lnTo>
                    <a:pt x="2" y="521"/>
                  </a:lnTo>
                  <a:lnTo>
                    <a:pt x="2" y="526"/>
                  </a:lnTo>
                  <a:lnTo>
                    <a:pt x="2" y="530"/>
                  </a:lnTo>
                  <a:lnTo>
                    <a:pt x="2" y="535"/>
                  </a:lnTo>
                  <a:lnTo>
                    <a:pt x="2" y="539"/>
                  </a:lnTo>
                  <a:lnTo>
                    <a:pt x="2" y="544"/>
                  </a:lnTo>
                  <a:lnTo>
                    <a:pt x="0" y="548"/>
                  </a:lnTo>
                  <a:lnTo>
                    <a:pt x="0" y="553"/>
                  </a:lnTo>
                  <a:lnTo>
                    <a:pt x="0" y="557"/>
                  </a:lnTo>
                  <a:lnTo>
                    <a:pt x="0" y="562"/>
                  </a:lnTo>
                  <a:lnTo>
                    <a:pt x="0" y="566"/>
                  </a:lnTo>
                  <a:lnTo>
                    <a:pt x="0" y="571"/>
                  </a:lnTo>
                  <a:lnTo>
                    <a:pt x="0" y="575"/>
                  </a:lnTo>
                  <a:lnTo>
                    <a:pt x="0" y="580"/>
                  </a:lnTo>
                  <a:lnTo>
                    <a:pt x="0" y="584"/>
                  </a:lnTo>
                  <a:lnTo>
                    <a:pt x="2" y="589"/>
                  </a:lnTo>
                  <a:lnTo>
                    <a:pt x="2" y="593"/>
                  </a:lnTo>
                  <a:lnTo>
                    <a:pt x="4" y="598"/>
                  </a:lnTo>
                  <a:lnTo>
                    <a:pt x="4" y="602"/>
                  </a:lnTo>
                  <a:lnTo>
                    <a:pt x="4" y="607"/>
                  </a:lnTo>
                  <a:lnTo>
                    <a:pt x="4" y="611"/>
                  </a:lnTo>
                  <a:lnTo>
                    <a:pt x="4" y="616"/>
                  </a:lnTo>
                  <a:lnTo>
                    <a:pt x="4" y="620"/>
                  </a:lnTo>
                  <a:lnTo>
                    <a:pt x="7" y="625"/>
                  </a:lnTo>
                  <a:lnTo>
                    <a:pt x="7" y="629"/>
                  </a:lnTo>
                  <a:lnTo>
                    <a:pt x="7" y="634"/>
                  </a:lnTo>
                  <a:lnTo>
                    <a:pt x="7" y="638"/>
                  </a:lnTo>
                  <a:lnTo>
                    <a:pt x="7" y="643"/>
                  </a:lnTo>
                  <a:lnTo>
                    <a:pt x="4" y="647"/>
                  </a:lnTo>
                  <a:lnTo>
                    <a:pt x="4" y="652"/>
                  </a:lnTo>
                  <a:lnTo>
                    <a:pt x="4" y="656"/>
                  </a:lnTo>
                  <a:lnTo>
                    <a:pt x="4" y="661"/>
                  </a:lnTo>
                  <a:lnTo>
                    <a:pt x="4" y="665"/>
                  </a:lnTo>
                  <a:lnTo>
                    <a:pt x="4" y="670"/>
                  </a:lnTo>
                  <a:lnTo>
                    <a:pt x="4" y="674"/>
                  </a:lnTo>
                  <a:lnTo>
                    <a:pt x="7" y="679"/>
                  </a:lnTo>
                  <a:lnTo>
                    <a:pt x="7" y="683"/>
                  </a:lnTo>
                  <a:lnTo>
                    <a:pt x="4" y="688"/>
                  </a:lnTo>
                  <a:lnTo>
                    <a:pt x="4" y="692"/>
                  </a:lnTo>
                  <a:lnTo>
                    <a:pt x="4" y="697"/>
                  </a:lnTo>
                  <a:lnTo>
                    <a:pt x="4" y="701"/>
                  </a:lnTo>
                  <a:lnTo>
                    <a:pt x="2" y="706"/>
                  </a:lnTo>
                  <a:lnTo>
                    <a:pt x="2" y="710"/>
                  </a:lnTo>
                  <a:lnTo>
                    <a:pt x="2" y="715"/>
                  </a:lnTo>
                  <a:lnTo>
                    <a:pt x="2" y="719"/>
                  </a:lnTo>
                  <a:lnTo>
                    <a:pt x="0" y="724"/>
                  </a:lnTo>
                  <a:lnTo>
                    <a:pt x="0" y="728"/>
                  </a:lnTo>
                  <a:lnTo>
                    <a:pt x="0" y="733"/>
                  </a:lnTo>
                  <a:lnTo>
                    <a:pt x="0" y="737"/>
                  </a:lnTo>
                  <a:lnTo>
                    <a:pt x="0" y="742"/>
                  </a:lnTo>
                  <a:lnTo>
                    <a:pt x="0" y="746"/>
                  </a:lnTo>
                  <a:lnTo>
                    <a:pt x="0" y="751"/>
                  </a:lnTo>
                  <a:lnTo>
                    <a:pt x="0" y="755"/>
                  </a:lnTo>
                  <a:lnTo>
                    <a:pt x="0" y="760"/>
                  </a:lnTo>
                  <a:lnTo>
                    <a:pt x="0" y="764"/>
                  </a:lnTo>
                  <a:lnTo>
                    <a:pt x="0" y="769"/>
                  </a:lnTo>
                  <a:lnTo>
                    <a:pt x="0" y="773"/>
                  </a:lnTo>
                  <a:lnTo>
                    <a:pt x="0" y="778"/>
                  </a:lnTo>
                  <a:lnTo>
                    <a:pt x="0" y="782"/>
                  </a:lnTo>
                  <a:lnTo>
                    <a:pt x="0" y="787"/>
                  </a:lnTo>
                  <a:lnTo>
                    <a:pt x="0" y="791"/>
                  </a:lnTo>
                  <a:lnTo>
                    <a:pt x="2" y="796"/>
                  </a:lnTo>
                  <a:lnTo>
                    <a:pt x="2" y="800"/>
                  </a:lnTo>
                  <a:lnTo>
                    <a:pt x="2" y="805"/>
                  </a:lnTo>
                  <a:lnTo>
                    <a:pt x="2" y="809"/>
                  </a:lnTo>
                  <a:lnTo>
                    <a:pt x="2" y="814"/>
                  </a:lnTo>
                  <a:lnTo>
                    <a:pt x="2" y="818"/>
                  </a:lnTo>
                  <a:lnTo>
                    <a:pt x="7" y="823"/>
                  </a:lnTo>
                  <a:lnTo>
                    <a:pt x="13" y="827"/>
                  </a:lnTo>
                  <a:lnTo>
                    <a:pt x="19" y="832"/>
                  </a:lnTo>
                  <a:lnTo>
                    <a:pt x="26" y="836"/>
                  </a:lnTo>
                  <a:lnTo>
                    <a:pt x="30" y="841"/>
                  </a:lnTo>
                  <a:lnTo>
                    <a:pt x="36" y="845"/>
                  </a:lnTo>
                  <a:lnTo>
                    <a:pt x="45" y="850"/>
                  </a:lnTo>
                  <a:lnTo>
                    <a:pt x="47" y="854"/>
                  </a:lnTo>
                  <a:lnTo>
                    <a:pt x="45" y="859"/>
                  </a:lnTo>
                  <a:lnTo>
                    <a:pt x="41" y="863"/>
                  </a:lnTo>
                  <a:lnTo>
                    <a:pt x="38" y="868"/>
                  </a:lnTo>
                  <a:lnTo>
                    <a:pt x="32" y="872"/>
                  </a:lnTo>
                  <a:lnTo>
                    <a:pt x="26" y="877"/>
                  </a:lnTo>
                  <a:lnTo>
                    <a:pt x="21" y="881"/>
                  </a:lnTo>
                  <a:lnTo>
                    <a:pt x="19" y="886"/>
                  </a:lnTo>
                  <a:lnTo>
                    <a:pt x="19" y="890"/>
                  </a:lnTo>
                  <a:lnTo>
                    <a:pt x="19" y="895"/>
                  </a:lnTo>
                  <a:lnTo>
                    <a:pt x="19" y="899"/>
                  </a:lnTo>
                  <a:lnTo>
                    <a:pt x="19" y="904"/>
                  </a:lnTo>
                  <a:lnTo>
                    <a:pt x="19" y="908"/>
                  </a:lnTo>
                  <a:lnTo>
                    <a:pt x="19" y="913"/>
                  </a:lnTo>
                  <a:lnTo>
                    <a:pt x="17" y="917"/>
                  </a:lnTo>
                  <a:lnTo>
                    <a:pt x="17" y="922"/>
                  </a:lnTo>
                  <a:lnTo>
                    <a:pt x="15" y="926"/>
                  </a:lnTo>
                  <a:lnTo>
                    <a:pt x="15" y="931"/>
                  </a:lnTo>
                  <a:lnTo>
                    <a:pt x="15" y="935"/>
                  </a:lnTo>
                  <a:lnTo>
                    <a:pt x="15" y="940"/>
                  </a:lnTo>
                  <a:lnTo>
                    <a:pt x="15" y="944"/>
                  </a:lnTo>
                  <a:lnTo>
                    <a:pt x="15" y="949"/>
                  </a:lnTo>
                  <a:lnTo>
                    <a:pt x="15" y="953"/>
                  </a:lnTo>
                  <a:lnTo>
                    <a:pt x="17" y="958"/>
                  </a:lnTo>
                  <a:lnTo>
                    <a:pt x="17" y="962"/>
                  </a:lnTo>
                  <a:lnTo>
                    <a:pt x="17" y="967"/>
                  </a:lnTo>
                  <a:lnTo>
                    <a:pt x="17" y="971"/>
                  </a:lnTo>
                  <a:lnTo>
                    <a:pt x="17" y="976"/>
                  </a:lnTo>
                  <a:lnTo>
                    <a:pt x="17" y="980"/>
                  </a:lnTo>
                  <a:lnTo>
                    <a:pt x="17" y="985"/>
                  </a:lnTo>
                  <a:lnTo>
                    <a:pt x="17" y="989"/>
                  </a:lnTo>
                  <a:lnTo>
                    <a:pt x="17" y="994"/>
                  </a:lnTo>
                  <a:lnTo>
                    <a:pt x="15" y="998"/>
                  </a:lnTo>
                  <a:lnTo>
                    <a:pt x="13" y="1003"/>
                  </a:lnTo>
                  <a:lnTo>
                    <a:pt x="13" y="1007"/>
                  </a:lnTo>
                  <a:lnTo>
                    <a:pt x="13" y="1012"/>
                  </a:lnTo>
                  <a:lnTo>
                    <a:pt x="13" y="1016"/>
                  </a:lnTo>
                  <a:lnTo>
                    <a:pt x="11" y="1021"/>
                  </a:lnTo>
                  <a:lnTo>
                    <a:pt x="11" y="1025"/>
                  </a:lnTo>
                  <a:lnTo>
                    <a:pt x="9" y="1030"/>
                  </a:lnTo>
                  <a:lnTo>
                    <a:pt x="9" y="1034"/>
                  </a:lnTo>
                  <a:lnTo>
                    <a:pt x="7" y="1039"/>
                  </a:lnTo>
                  <a:lnTo>
                    <a:pt x="7" y="1043"/>
                  </a:lnTo>
                  <a:lnTo>
                    <a:pt x="7" y="1048"/>
                  </a:lnTo>
                  <a:lnTo>
                    <a:pt x="9" y="1052"/>
                  </a:lnTo>
                  <a:lnTo>
                    <a:pt x="9" y="1057"/>
                  </a:lnTo>
                  <a:lnTo>
                    <a:pt x="9" y="1061"/>
                  </a:lnTo>
                  <a:lnTo>
                    <a:pt x="9" y="1066"/>
                  </a:lnTo>
                  <a:lnTo>
                    <a:pt x="11" y="1070"/>
                  </a:lnTo>
                  <a:lnTo>
                    <a:pt x="11" y="1075"/>
                  </a:lnTo>
                  <a:lnTo>
                    <a:pt x="11" y="1079"/>
                  </a:lnTo>
                  <a:lnTo>
                    <a:pt x="9" y="1084"/>
                  </a:lnTo>
                  <a:lnTo>
                    <a:pt x="9" y="1088"/>
                  </a:lnTo>
                  <a:lnTo>
                    <a:pt x="9" y="1093"/>
                  </a:lnTo>
                  <a:lnTo>
                    <a:pt x="9" y="1097"/>
                  </a:lnTo>
                  <a:lnTo>
                    <a:pt x="7" y="1102"/>
                  </a:lnTo>
                  <a:lnTo>
                    <a:pt x="7" y="1106"/>
                  </a:lnTo>
                  <a:lnTo>
                    <a:pt x="7" y="1111"/>
                  </a:lnTo>
                  <a:lnTo>
                    <a:pt x="4" y="1115"/>
                  </a:lnTo>
                  <a:lnTo>
                    <a:pt x="4" y="1120"/>
                  </a:lnTo>
                  <a:lnTo>
                    <a:pt x="4" y="1124"/>
                  </a:lnTo>
                  <a:lnTo>
                    <a:pt x="7" y="1129"/>
                  </a:lnTo>
                  <a:lnTo>
                    <a:pt x="7" y="1133"/>
                  </a:lnTo>
                  <a:lnTo>
                    <a:pt x="7" y="1138"/>
                  </a:lnTo>
                  <a:lnTo>
                    <a:pt x="7" y="1142"/>
                  </a:lnTo>
                  <a:lnTo>
                    <a:pt x="7" y="1147"/>
                  </a:lnTo>
                  <a:lnTo>
                    <a:pt x="9" y="1151"/>
                  </a:lnTo>
                  <a:lnTo>
                    <a:pt x="9" y="1156"/>
                  </a:lnTo>
                  <a:lnTo>
                    <a:pt x="11" y="1160"/>
                  </a:lnTo>
                  <a:lnTo>
                    <a:pt x="9" y="1165"/>
                  </a:lnTo>
                  <a:lnTo>
                    <a:pt x="9" y="1169"/>
                  </a:lnTo>
                  <a:lnTo>
                    <a:pt x="9" y="1174"/>
                  </a:lnTo>
                  <a:lnTo>
                    <a:pt x="9" y="1178"/>
                  </a:lnTo>
                  <a:lnTo>
                    <a:pt x="9" y="1183"/>
                  </a:lnTo>
                  <a:lnTo>
                    <a:pt x="11" y="1187"/>
                  </a:lnTo>
                  <a:lnTo>
                    <a:pt x="11" y="1192"/>
                  </a:lnTo>
                  <a:lnTo>
                    <a:pt x="11" y="1196"/>
                  </a:lnTo>
                  <a:lnTo>
                    <a:pt x="11" y="1201"/>
                  </a:lnTo>
                  <a:lnTo>
                    <a:pt x="11" y="1205"/>
                  </a:lnTo>
                  <a:lnTo>
                    <a:pt x="11" y="1210"/>
                  </a:lnTo>
                  <a:lnTo>
                    <a:pt x="9" y="1214"/>
                  </a:lnTo>
                  <a:lnTo>
                    <a:pt x="9" y="1219"/>
                  </a:lnTo>
                  <a:lnTo>
                    <a:pt x="9" y="1223"/>
                  </a:lnTo>
                  <a:lnTo>
                    <a:pt x="9" y="1228"/>
                  </a:lnTo>
                  <a:lnTo>
                    <a:pt x="9" y="1232"/>
                  </a:lnTo>
                  <a:lnTo>
                    <a:pt x="9" y="1237"/>
                  </a:lnTo>
                  <a:lnTo>
                    <a:pt x="9" y="1241"/>
                  </a:lnTo>
                  <a:lnTo>
                    <a:pt x="7" y="1246"/>
                  </a:lnTo>
                  <a:lnTo>
                    <a:pt x="7" y="1250"/>
                  </a:lnTo>
                  <a:lnTo>
                    <a:pt x="7" y="1255"/>
                  </a:lnTo>
                  <a:lnTo>
                    <a:pt x="9" y="1259"/>
                  </a:lnTo>
                  <a:lnTo>
                    <a:pt x="9" y="1264"/>
                  </a:lnTo>
                  <a:lnTo>
                    <a:pt x="11" y="1268"/>
                  </a:lnTo>
                  <a:lnTo>
                    <a:pt x="11" y="1273"/>
                  </a:lnTo>
                  <a:lnTo>
                    <a:pt x="11" y="1277"/>
                  </a:lnTo>
                  <a:lnTo>
                    <a:pt x="13" y="1282"/>
                  </a:lnTo>
                  <a:lnTo>
                    <a:pt x="13" y="1286"/>
                  </a:lnTo>
                  <a:lnTo>
                    <a:pt x="11" y="1291"/>
                  </a:lnTo>
                  <a:lnTo>
                    <a:pt x="11" y="1295"/>
                  </a:lnTo>
                  <a:lnTo>
                    <a:pt x="11" y="1300"/>
                  </a:lnTo>
                  <a:lnTo>
                    <a:pt x="11" y="1304"/>
                  </a:lnTo>
                  <a:lnTo>
                    <a:pt x="13" y="1309"/>
                  </a:lnTo>
                  <a:lnTo>
                    <a:pt x="11" y="1313"/>
                  </a:lnTo>
                  <a:lnTo>
                    <a:pt x="11" y="1318"/>
                  </a:lnTo>
                  <a:lnTo>
                    <a:pt x="11" y="1322"/>
                  </a:lnTo>
                  <a:lnTo>
                    <a:pt x="9" y="1327"/>
                  </a:lnTo>
                  <a:lnTo>
                    <a:pt x="9" y="1331"/>
                  </a:lnTo>
                  <a:lnTo>
                    <a:pt x="11" y="1336"/>
                  </a:lnTo>
                  <a:lnTo>
                    <a:pt x="13" y="1340"/>
                  </a:lnTo>
                  <a:lnTo>
                    <a:pt x="15" y="1345"/>
                  </a:lnTo>
                  <a:lnTo>
                    <a:pt x="15" y="1349"/>
                  </a:lnTo>
                  <a:lnTo>
                    <a:pt x="15" y="1354"/>
                  </a:lnTo>
                  <a:lnTo>
                    <a:pt x="15" y="1358"/>
                  </a:lnTo>
                  <a:lnTo>
                    <a:pt x="15" y="1363"/>
                  </a:lnTo>
                  <a:lnTo>
                    <a:pt x="15" y="1367"/>
                  </a:lnTo>
                  <a:lnTo>
                    <a:pt x="15" y="1372"/>
                  </a:lnTo>
                  <a:lnTo>
                    <a:pt x="13" y="1376"/>
                  </a:lnTo>
                  <a:lnTo>
                    <a:pt x="13" y="1381"/>
                  </a:lnTo>
                  <a:lnTo>
                    <a:pt x="13" y="1385"/>
                  </a:lnTo>
                  <a:lnTo>
                    <a:pt x="13" y="1390"/>
                  </a:lnTo>
                  <a:lnTo>
                    <a:pt x="13" y="1394"/>
                  </a:lnTo>
                  <a:lnTo>
                    <a:pt x="13" y="1399"/>
                  </a:lnTo>
                  <a:lnTo>
                    <a:pt x="13" y="1403"/>
                  </a:lnTo>
                  <a:lnTo>
                    <a:pt x="13" y="1408"/>
                  </a:lnTo>
                  <a:lnTo>
                    <a:pt x="13" y="1412"/>
                  </a:lnTo>
                  <a:lnTo>
                    <a:pt x="13" y="1417"/>
                  </a:lnTo>
                  <a:lnTo>
                    <a:pt x="11" y="1421"/>
                  </a:lnTo>
                  <a:lnTo>
                    <a:pt x="9" y="1426"/>
                  </a:lnTo>
                  <a:lnTo>
                    <a:pt x="9" y="1430"/>
                  </a:lnTo>
                  <a:lnTo>
                    <a:pt x="7" y="1435"/>
                  </a:lnTo>
                  <a:lnTo>
                    <a:pt x="9" y="1439"/>
                  </a:lnTo>
                  <a:lnTo>
                    <a:pt x="9" y="1444"/>
                  </a:lnTo>
                  <a:lnTo>
                    <a:pt x="9" y="1448"/>
                  </a:lnTo>
                  <a:lnTo>
                    <a:pt x="11" y="1453"/>
                  </a:lnTo>
                  <a:lnTo>
                    <a:pt x="11" y="1457"/>
                  </a:lnTo>
                  <a:lnTo>
                    <a:pt x="11" y="1462"/>
                  </a:lnTo>
                  <a:lnTo>
                    <a:pt x="13" y="1466"/>
                  </a:lnTo>
                  <a:lnTo>
                    <a:pt x="13" y="1471"/>
                  </a:lnTo>
                  <a:lnTo>
                    <a:pt x="13" y="1475"/>
                  </a:lnTo>
                  <a:lnTo>
                    <a:pt x="13" y="1480"/>
                  </a:lnTo>
                  <a:lnTo>
                    <a:pt x="13" y="1484"/>
                  </a:lnTo>
                  <a:lnTo>
                    <a:pt x="13" y="1489"/>
                  </a:lnTo>
                  <a:lnTo>
                    <a:pt x="11" y="1493"/>
                  </a:lnTo>
                  <a:lnTo>
                    <a:pt x="11" y="1498"/>
                  </a:lnTo>
                  <a:lnTo>
                    <a:pt x="11" y="1502"/>
                  </a:lnTo>
                  <a:lnTo>
                    <a:pt x="11" y="1507"/>
                  </a:lnTo>
                  <a:lnTo>
                    <a:pt x="11" y="1511"/>
                  </a:lnTo>
                  <a:lnTo>
                    <a:pt x="11" y="1516"/>
                  </a:lnTo>
                  <a:lnTo>
                    <a:pt x="13" y="1520"/>
                  </a:lnTo>
                  <a:lnTo>
                    <a:pt x="15" y="1525"/>
                  </a:lnTo>
                  <a:lnTo>
                    <a:pt x="13" y="1529"/>
                  </a:lnTo>
                  <a:lnTo>
                    <a:pt x="11" y="1534"/>
                  </a:lnTo>
                  <a:lnTo>
                    <a:pt x="9" y="1538"/>
                  </a:lnTo>
                  <a:lnTo>
                    <a:pt x="9" y="1543"/>
                  </a:lnTo>
                  <a:lnTo>
                    <a:pt x="9" y="1547"/>
                  </a:lnTo>
                  <a:lnTo>
                    <a:pt x="9" y="1552"/>
                  </a:lnTo>
                  <a:lnTo>
                    <a:pt x="9" y="1556"/>
                  </a:lnTo>
                  <a:lnTo>
                    <a:pt x="9" y="1560"/>
                  </a:lnTo>
                  <a:lnTo>
                    <a:pt x="7" y="1565"/>
                  </a:lnTo>
                  <a:lnTo>
                    <a:pt x="7" y="1569"/>
                  </a:lnTo>
                  <a:lnTo>
                    <a:pt x="7" y="1574"/>
                  </a:lnTo>
                  <a:lnTo>
                    <a:pt x="9" y="1578"/>
                  </a:lnTo>
                  <a:lnTo>
                    <a:pt x="9" y="1583"/>
                  </a:lnTo>
                  <a:lnTo>
                    <a:pt x="9" y="1587"/>
                  </a:lnTo>
                  <a:lnTo>
                    <a:pt x="9" y="1592"/>
                  </a:lnTo>
                  <a:lnTo>
                    <a:pt x="9" y="1596"/>
                  </a:lnTo>
                  <a:lnTo>
                    <a:pt x="9" y="1601"/>
                  </a:lnTo>
                  <a:lnTo>
                    <a:pt x="9" y="1605"/>
                  </a:lnTo>
                  <a:lnTo>
                    <a:pt x="11" y="1610"/>
                  </a:lnTo>
                  <a:lnTo>
                    <a:pt x="11" y="1614"/>
                  </a:lnTo>
                  <a:lnTo>
                    <a:pt x="11" y="1619"/>
                  </a:lnTo>
                  <a:lnTo>
                    <a:pt x="13" y="1623"/>
                  </a:lnTo>
                  <a:lnTo>
                    <a:pt x="13" y="1628"/>
                  </a:lnTo>
                  <a:lnTo>
                    <a:pt x="11" y="1632"/>
                  </a:lnTo>
                  <a:lnTo>
                    <a:pt x="11" y="1637"/>
                  </a:lnTo>
                  <a:lnTo>
                    <a:pt x="11" y="1641"/>
                  </a:lnTo>
                  <a:lnTo>
                    <a:pt x="11" y="1646"/>
                  </a:lnTo>
                  <a:lnTo>
                    <a:pt x="11" y="1650"/>
                  </a:lnTo>
                  <a:lnTo>
                    <a:pt x="11" y="1655"/>
                  </a:lnTo>
                  <a:lnTo>
                    <a:pt x="11" y="1659"/>
                  </a:lnTo>
                  <a:lnTo>
                    <a:pt x="11" y="1664"/>
                  </a:lnTo>
                  <a:lnTo>
                    <a:pt x="9" y="1668"/>
                  </a:lnTo>
                  <a:lnTo>
                    <a:pt x="9" y="1673"/>
                  </a:lnTo>
                  <a:lnTo>
                    <a:pt x="9" y="1677"/>
                  </a:lnTo>
                  <a:lnTo>
                    <a:pt x="9" y="1682"/>
                  </a:lnTo>
                  <a:lnTo>
                    <a:pt x="9" y="1686"/>
                  </a:lnTo>
                  <a:lnTo>
                    <a:pt x="9" y="1691"/>
                  </a:lnTo>
                  <a:lnTo>
                    <a:pt x="9" y="1695"/>
                  </a:lnTo>
                  <a:lnTo>
                    <a:pt x="9" y="1700"/>
                  </a:lnTo>
                  <a:lnTo>
                    <a:pt x="9" y="1704"/>
                  </a:lnTo>
                  <a:lnTo>
                    <a:pt x="9" y="1709"/>
                  </a:lnTo>
                  <a:lnTo>
                    <a:pt x="9" y="1713"/>
                  </a:lnTo>
                  <a:lnTo>
                    <a:pt x="11" y="1718"/>
                  </a:lnTo>
                  <a:lnTo>
                    <a:pt x="11" y="1722"/>
                  </a:lnTo>
                  <a:lnTo>
                    <a:pt x="11" y="1727"/>
                  </a:lnTo>
                  <a:lnTo>
                    <a:pt x="11" y="1731"/>
                  </a:lnTo>
                  <a:lnTo>
                    <a:pt x="11" y="1736"/>
                  </a:lnTo>
                  <a:lnTo>
                    <a:pt x="11" y="1740"/>
                  </a:lnTo>
                  <a:lnTo>
                    <a:pt x="11" y="1745"/>
                  </a:lnTo>
                  <a:lnTo>
                    <a:pt x="11" y="1749"/>
                  </a:lnTo>
                  <a:lnTo>
                    <a:pt x="9" y="1754"/>
                  </a:lnTo>
                  <a:lnTo>
                    <a:pt x="9" y="1758"/>
                  </a:lnTo>
                  <a:lnTo>
                    <a:pt x="9" y="1763"/>
                  </a:lnTo>
                  <a:lnTo>
                    <a:pt x="9" y="1767"/>
                  </a:lnTo>
                  <a:lnTo>
                    <a:pt x="9" y="1772"/>
                  </a:lnTo>
                  <a:lnTo>
                    <a:pt x="9" y="1776"/>
                  </a:lnTo>
                  <a:lnTo>
                    <a:pt x="9" y="1781"/>
                  </a:lnTo>
                  <a:lnTo>
                    <a:pt x="9" y="1785"/>
                  </a:lnTo>
                  <a:lnTo>
                    <a:pt x="11" y="1790"/>
                  </a:lnTo>
                  <a:lnTo>
                    <a:pt x="13" y="1794"/>
                  </a:lnTo>
                  <a:lnTo>
                    <a:pt x="13" y="1799"/>
                  </a:lnTo>
                  <a:lnTo>
                    <a:pt x="11" y="1803"/>
                  </a:lnTo>
                  <a:lnTo>
                    <a:pt x="11" y="1808"/>
                  </a:lnTo>
                  <a:lnTo>
                    <a:pt x="11" y="1812"/>
                  </a:lnTo>
                  <a:lnTo>
                    <a:pt x="11" y="1817"/>
                  </a:lnTo>
                  <a:lnTo>
                    <a:pt x="11" y="1821"/>
                  </a:lnTo>
                  <a:lnTo>
                    <a:pt x="11" y="1826"/>
                  </a:lnTo>
                  <a:lnTo>
                    <a:pt x="11" y="1830"/>
                  </a:lnTo>
                  <a:lnTo>
                    <a:pt x="11" y="1835"/>
                  </a:lnTo>
                  <a:lnTo>
                    <a:pt x="11" y="1839"/>
                  </a:lnTo>
                  <a:lnTo>
                    <a:pt x="9" y="1844"/>
                  </a:lnTo>
                  <a:lnTo>
                    <a:pt x="9" y="1848"/>
                  </a:lnTo>
                  <a:lnTo>
                    <a:pt x="9" y="1853"/>
                  </a:lnTo>
                  <a:lnTo>
                    <a:pt x="9" y="1857"/>
                  </a:lnTo>
                  <a:lnTo>
                    <a:pt x="9" y="1862"/>
                  </a:lnTo>
                  <a:lnTo>
                    <a:pt x="9" y="1866"/>
                  </a:lnTo>
                  <a:lnTo>
                    <a:pt x="9" y="1871"/>
                  </a:lnTo>
                  <a:lnTo>
                    <a:pt x="9" y="1875"/>
                  </a:lnTo>
                  <a:lnTo>
                    <a:pt x="9" y="1880"/>
                  </a:lnTo>
                  <a:lnTo>
                    <a:pt x="9" y="1884"/>
                  </a:lnTo>
                  <a:lnTo>
                    <a:pt x="9" y="1889"/>
                  </a:lnTo>
                  <a:lnTo>
                    <a:pt x="9" y="1893"/>
                  </a:lnTo>
                  <a:lnTo>
                    <a:pt x="9" y="1898"/>
                  </a:lnTo>
                  <a:lnTo>
                    <a:pt x="9" y="1902"/>
                  </a:lnTo>
                  <a:lnTo>
                    <a:pt x="9" y="1907"/>
                  </a:lnTo>
                  <a:lnTo>
                    <a:pt x="11" y="1911"/>
                  </a:lnTo>
                  <a:lnTo>
                    <a:pt x="11" y="1916"/>
                  </a:lnTo>
                  <a:lnTo>
                    <a:pt x="11" y="1920"/>
                  </a:lnTo>
                  <a:lnTo>
                    <a:pt x="11" y="1925"/>
                  </a:lnTo>
                  <a:lnTo>
                    <a:pt x="11" y="1929"/>
                  </a:lnTo>
                  <a:lnTo>
                    <a:pt x="11" y="1934"/>
                  </a:lnTo>
                  <a:lnTo>
                    <a:pt x="11" y="1938"/>
                  </a:lnTo>
                  <a:lnTo>
                    <a:pt x="11" y="1943"/>
                  </a:lnTo>
                  <a:lnTo>
                    <a:pt x="11" y="1947"/>
                  </a:lnTo>
                  <a:lnTo>
                    <a:pt x="11" y="1952"/>
                  </a:lnTo>
                  <a:lnTo>
                    <a:pt x="11" y="1956"/>
                  </a:lnTo>
                  <a:lnTo>
                    <a:pt x="11" y="1961"/>
                  </a:lnTo>
                  <a:lnTo>
                    <a:pt x="11" y="1965"/>
                  </a:lnTo>
                  <a:lnTo>
                    <a:pt x="11" y="1970"/>
                  </a:lnTo>
                  <a:lnTo>
                    <a:pt x="11" y="1974"/>
                  </a:lnTo>
                  <a:lnTo>
                    <a:pt x="11" y="1979"/>
                  </a:lnTo>
                  <a:lnTo>
                    <a:pt x="11" y="1983"/>
                  </a:lnTo>
                  <a:lnTo>
                    <a:pt x="11" y="1988"/>
                  </a:lnTo>
                  <a:lnTo>
                    <a:pt x="11" y="1992"/>
                  </a:lnTo>
                  <a:lnTo>
                    <a:pt x="11" y="1997"/>
                  </a:lnTo>
                  <a:lnTo>
                    <a:pt x="11" y="2001"/>
                  </a:lnTo>
                  <a:lnTo>
                    <a:pt x="11" y="2006"/>
                  </a:lnTo>
                  <a:lnTo>
                    <a:pt x="11" y="2010"/>
                  </a:lnTo>
                  <a:lnTo>
                    <a:pt x="11" y="2015"/>
                  </a:lnTo>
                  <a:lnTo>
                    <a:pt x="11" y="2019"/>
                  </a:lnTo>
                  <a:lnTo>
                    <a:pt x="11" y="2024"/>
                  </a:lnTo>
                  <a:lnTo>
                    <a:pt x="11" y="2028"/>
                  </a:lnTo>
                  <a:lnTo>
                    <a:pt x="11" y="2033"/>
                  </a:lnTo>
                  <a:lnTo>
                    <a:pt x="11" y="2037"/>
                  </a:lnTo>
                  <a:lnTo>
                    <a:pt x="11" y="2042"/>
                  </a:lnTo>
                  <a:lnTo>
                    <a:pt x="11" y="2046"/>
                  </a:lnTo>
                  <a:lnTo>
                    <a:pt x="11" y="2051"/>
                  </a:lnTo>
                  <a:lnTo>
                    <a:pt x="11" y="2055"/>
                  </a:lnTo>
                  <a:lnTo>
                    <a:pt x="11" y="2060"/>
                  </a:lnTo>
                  <a:lnTo>
                    <a:pt x="11" y="2064"/>
                  </a:lnTo>
                  <a:lnTo>
                    <a:pt x="11" y="2069"/>
                  </a:lnTo>
                  <a:lnTo>
                    <a:pt x="11" y="2073"/>
                  </a:lnTo>
                  <a:lnTo>
                    <a:pt x="11" y="2078"/>
                  </a:lnTo>
                  <a:lnTo>
                    <a:pt x="11" y="2082"/>
                  </a:lnTo>
                  <a:lnTo>
                    <a:pt x="11" y="2087"/>
                  </a:lnTo>
                  <a:lnTo>
                    <a:pt x="9" y="2091"/>
                  </a:lnTo>
                  <a:lnTo>
                    <a:pt x="9" y="2096"/>
                  </a:lnTo>
                  <a:lnTo>
                    <a:pt x="9" y="2100"/>
                  </a:lnTo>
                  <a:lnTo>
                    <a:pt x="9" y="2105"/>
                  </a:lnTo>
                  <a:lnTo>
                    <a:pt x="11" y="2109"/>
                  </a:lnTo>
                  <a:lnTo>
                    <a:pt x="11" y="2114"/>
                  </a:lnTo>
                  <a:lnTo>
                    <a:pt x="13" y="2118"/>
                  </a:lnTo>
                  <a:lnTo>
                    <a:pt x="13" y="2123"/>
                  </a:lnTo>
                  <a:lnTo>
                    <a:pt x="11" y="2127"/>
                  </a:lnTo>
                  <a:lnTo>
                    <a:pt x="11" y="2132"/>
                  </a:lnTo>
                  <a:lnTo>
                    <a:pt x="11" y="2136"/>
                  </a:lnTo>
                  <a:lnTo>
                    <a:pt x="11" y="2141"/>
                  </a:lnTo>
                  <a:lnTo>
                    <a:pt x="11" y="2145"/>
                  </a:lnTo>
                  <a:lnTo>
                    <a:pt x="11" y="2150"/>
                  </a:lnTo>
                  <a:lnTo>
                    <a:pt x="13" y="2154"/>
                  </a:lnTo>
                  <a:lnTo>
                    <a:pt x="15" y="2159"/>
                  </a:lnTo>
                  <a:lnTo>
                    <a:pt x="17" y="2163"/>
                  </a:lnTo>
                  <a:lnTo>
                    <a:pt x="17" y="2168"/>
                  </a:lnTo>
                  <a:lnTo>
                    <a:pt x="15" y="2172"/>
                  </a:lnTo>
                  <a:lnTo>
                    <a:pt x="15" y="2177"/>
                  </a:lnTo>
                  <a:lnTo>
                    <a:pt x="13" y="2181"/>
                  </a:lnTo>
                  <a:lnTo>
                    <a:pt x="13" y="2186"/>
                  </a:lnTo>
                  <a:lnTo>
                    <a:pt x="15" y="2190"/>
                  </a:lnTo>
                  <a:lnTo>
                    <a:pt x="15" y="2195"/>
                  </a:lnTo>
                  <a:lnTo>
                    <a:pt x="15" y="2199"/>
                  </a:lnTo>
                  <a:lnTo>
                    <a:pt x="15" y="2204"/>
                  </a:lnTo>
                  <a:lnTo>
                    <a:pt x="15" y="2208"/>
                  </a:lnTo>
                  <a:lnTo>
                    <a:pt x="17" y="2213"/>
                  </a:lnTo>
                  <a:lnTo>
                    <a:pt x="17" y="2217"/>
                  </a:lnTo>
                  <a:lnTo>
                    <a:pt x="17" y="2222"/>
                  </a:lnTo>
                  <a:lnTo>
                    <a:pt x="15" y="2226"/>
                  </a:lnTo>
                  <a:lnTo>
                    <a:pt x="15" y="2231"/>
                  </a:lnTo>
                  <a:lnTo>
                    <a:pt x="15" y="2235"/>
                  </a:lnTo>
                  <a:lnTo>
                    <a:pt x="15" y="2240"/>
                  </a:lnTo>
                  <a:lnTo>
                    <a:pt x="15" y="2244"/>
                  </a:lnTo>
                  <a:lnTo>
                    <a:pt x="15" y="2249"/>
                  </a:lnTo>
                  <a:lnTo>
                    <a:pt x="15" y="2253"/>
                  </a:lnTo>
                  <a:lnTo>
                    <a:pt x="15" y="2258"/>
                  </a:lnTo>
                  <a:lnTo>
                    <a:pt x="15" y="2262"/>
                  </a:lnTo>
                  <a:lnTo>
                    <a:pt x="15" y="2267"/>
                  </a:lnTo>
                  <a:lnTo>
                    <a:pt x="15" y="2271"/>
                  </a:lnTo>
                  <a:lnTo>
                    <a:pt x="15" y="2276"/>
                  </a:lnTo>
                  <a:lnTo>
                    <a:pt x="13" y="2280"/>
                  </a:lnTo>
                  <a:lnTo>
                    <a:pt x="13" y="2285"/>
                  </a:lnTo>
                  <a:lnTo>
                    <a:pt x="13" y="2289"/>
                  </a:lnTo>
                  <a:lnTo>
                    <a:pt x="13" y="2294"/>
                  </a:lnTo>
                  <a:lnTo>
                    <a:pt x="13" y="2298"/>
                  </a:lnTo>
                  <a:lnTo>
                    <a:pt x="13" y="2303"/>
                  </a:lnTo>
                  <a:lnTo>
                    <a:pt x="13" y="2307"/>
                  </a:lnTo>
                  <a:lnTo>
                    <a:pt x="11" y="2312"/>
                  </a:lnTo>
                  <a:lnTo>
                    <a:pt x="11" y="2316"/>
                  </a:lnTo>
                  <a:lnTo>
                    <a:pt x="11" y="2321"/>
                  </a:lnTo>
                  <a:lnTo>
                    <a:pt x="11" y="2325"/>
                  </a:lnTo>
                  <a:lnTo>
                    <a:pt x="11" y="2330"/>
                  </a:lnTo>
                  <a:lnTo>
                    <a:pt x="11" y="2334"/>
                  </a:lnTo>
                  <a:lnTo>
                    <a:pt x="13" y="2339"/>
                  </a:lnTo>
                  <a:lnTo>
                    <a:pt x="13" y="2343"/>
                  </a:lnTo>
                  <a:lnTo>
                    <a:pt x="15" y="2348"/>
                  </a:lnTo>
                  <a:lnTo>
                    <a:pt x="15" y="2352"/>
                  </a:lnTo>
                  <a:lnTo>
                    <a:pt x="15" y="2357"/>
                  </a:lnTo>
                  <a:lnTo>
                    <a:pt x="15" y="2361"/>
                  </a:lnTo>
                  <a:lnTo>
                    <a:pt x="15" y="2366"/>
                  </a:lnTo>
                  <a:lnTo>
                    <a:pt x="15" y="2370"/>
                  </a:lnTo>
                  <a:lnTo>
                    <a:pt x="15" y="2375"/>
                  </a:lnTo>
                  <a:lnTo>
                    <a:pt x="15" y="2379"/>
                  </a:lnTo>
                  <a:lnTo>
                    <a:pt x="15" y="2384"/>
                  </a:lnTo>
                  <a:lnTo>
                    <a:pt x="15" y="2388"/>
                  </a:lnTo>
                  <a:lnTo>
                    <a:pt x="15" y="2393"/>
                  </a:lnTo>
                  <a:lnTo>
                    <a:pt x="15" y="2397"/>
                  </a:lnTo>
                  <a:lnTo>
                    <a:pt x="15" y="2402"/>
                  </a:lnTo>
                  <a:lnTo>
                    <a:pt x="13" y="2406"/>
                  </a:lnTo>
                  <a:lnTo>
                    <a:pt x="13" y="2411"/>
                  </a:lnTo>
                  <a:lnTo>
                    <a:pt x="11" y="2415"/>
                  </a:lnTo>
                  <a:lnTo>
                    <a:pt x="11" y="2420"/>
                  </a:lnTo>
                  <a:lnTo>
                    <a:pt x="11" y="2424"/>
                  </a:lnTo>
                  <a:lnTo>
                    <a:pt x="11" y="2429"/>
                  </a:lnTo>
                  <a:lnTo>
                    <a:pt x="11" y="2433"/>
                  </a:lnTo>
                  <a:lnTo>
                    <a:pt x="11" y="2438"/>
                  </a:lnTo>
                  <a:lnTo>
                    <a:pt x="11" y="2442"/>
                  </a:lnTo>
                  <a:lnTo>
                    <a:pt x="11" y="2447"/>
                  </a:lnTo>
                  <a:lnTo>
                    <a:pt x="11" y="2451"/>
                  </a:lnTo>
                  <a:lnTo>
                    <a:pt x="13" y="2456"/>
                  </a:lnTo>
                  <a:lnTo>
                    <a:pt x="15" y="2460"/>
                  </a:lnTo>
                  <a:lnTo>
                    <a:pt x="21" y="2465"/>
                  </a:lnTo>
                  <a:lnTo>
                    <a:pt x="30" y="2469"/>
                  </a:lnTo>
                  <a:lnTo>
                    <a:pt x="36" y="2474"/>
                  </a:lnTo>
                  <a:lnTo>
                    <a:pt x="41" y="2478"/>
                  </a:lnTo>
                  <a:lnTo>
                    <a:pt x="47" y="2483"/>
                  </a:lnTo>
                  <a:lnTo>
                    <a:pt x="58" y="2487"/>
                  </a:lnTo>
                  <a:lnTo>
                    <a:pt x="68" y="2492"/>
                  </a:lnTo>
                  <a:lnTo>
                    <a:pt x="72" y="2496"/>
                  </a:lnTo>
                  <a:lnTo>
                    <a:pt x="66" y="2501"/>
                  </a:lnTo>
                  <a:lnTo>
                    <a:pt x="60" y="2505"/>
                  </a:lnTo>
                  <a:lnTo>
                    <a:pt x="51" y="2510"/>
                  </a:lnTo>
                  <a:lnTo>
                    <a:pt x="49" y="2514"/>
                  </a:lnTo>
                  <a:lnTo>
                    <a:pt x="60" y="2519"/>
                  </a:lnTo>
                  <a:lnTo>
                    <a:pt x="77" y="2523"/>
                  </a:lnTo>
                  <a:lnTo>
                    <a:pt x="94" y="2528"/>
                  </a:lnTo>
                  <a:lnTo>
                    <a:pt x="106" y="2532"/>
                  </a:lnTo>
                  <a:lnTo>
                    <a:pt x="119" y="2537"/>
                  </a:lnTo>
                  <a:lnTo>
                    <a:pt x="117" y="2541"/>
                  </a:lnTo>
                  <a:lnTo>
                    <a:pt x="102" y="2546"/>
                  </a:lnTo>
                  <a:lnTo>
                    <a:pt x="87" y="2550"/>
                  </a:lnTo>
                  <a:lnTo>
                    <a:pt x="81" y="2555"/>
                  </a:lnTo>
                  <a:lnTo>
                    <a:pt x="77" y="2559"/>
                  </a:lnTo>
                  <a:lnTo>
                    <a:pt x="72" y="2564"/>
                  </a:lnTo>
                  <a:lnTo>
                    <a:pt x="72" y="2568"/>
                  </a:lnTo>
                  <a:lnTo>
                    <a:pt x="77" y="2573"/>
                  </a:lnTo>
                  <a:lnTo>
                    <a:pt x="81" y="2577"/>
                  </a:lnTo>
                  <a:lnTo>
                    <a:pt x="81" y="2582"/>
                  </a:ln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5" name="Freeform 294"/>
          <p:cNvSpPr/>
          <p:nvPr/>
        </p:nvSpPr>
        <p:spPr>
          <a:xfrm>
            <a:off x="5010120" y="2157480"/>
            <a:ext cx="463680" cy="4379760"/>
          </a:xfrm>
          <a:custGeom>
            <a:avLst/>
            <a:gdLst>
              <a:gd name="textAreaLeft" fmla="*/ 0 w 463680"/>
              <a:gd name="textAreaRight" fmla="*/ 464040 w 463680"/>
              <a:gd name="textAreaTop" fmla="*/ 0 h 4379760"/>
              <a:gd name="textAreaBottom" fmla="*/ 4380120 h 4379760"/>
            </a:gdLst>
            <a:ahLst/>
            <a:rect l="textAreaLeft" t="textAreaTop" r="textAreaRight" b="textAreaBottom"/>
            <a:pathLst>
              <a:path w="274" h="2582">
                <a:moveTo>
                  <a:pt x="104" y="0"/>
                </a:moveTo>
                <a:lnTo>
                  <a:pt x="104" y="4"/>
                </a:lnTo>
                <a:lnTo>
                  <a:pt x="102" y="9"/>
                </a:lnTo>
                <a:lnTo>
                  <a:pt x="100" y="13"/>
                </a:lnTo>
                <a:lnTo>
                  <a:pt x="108" y="18"/>
                </a:lnTo>
                <a:lnTo>
                  <a:pt x="115" y="22"/>
                </a:lnTo>
                <a:lnTo>
                  <a:pt x="121" y="27"/>
                </a:lnTo>
                <a:lnTo>
                  <a:pt x="125" y="31"/>
                </a:lnTo>
                <a:lnTo>
                  <a:pt x="128" y="36"/>
                </a:lnTo>
                <a:lnTo>
                  <a:pt x="130" y="40"/>
                </a:lnTo>
                <a:lnTo>
                  <a:pt x="123" y="45"/>
                </a:lnTo>
                <a:lnTo>
                  <a:pt x="117" y="49"/>
                </a:lnTo>
                <a:lnTo>
                  <a:pt x="113" y="54"/>
                </a:lnTo>
                <a:lnTo>
                  <a:pt x="113" y="58"/>
                </a:lnTo>
                <a:lnTo>
                  <a:pt x="108" y="63"/>
                </a:lnTo>
                <a:lnTo>
                  <a:pt x="106" y="67"/>
                </a:lnTo>
                <a:lnTo>
                  <a:pt x="102" y="72"/>
                </a:lnTo>
                <a:lnTo>
                  <a:pt x="98" y="76"/>
                </a:lnTo>
                <a:lnTo>
                  <a:pt x="106" y="81"/>
                </a:lnTo>
                <a:lnTo>
                  <a:pt x="102" y="85"/>
                </a:lnTo>
                <a:lnTo>
                  <a:pt x="91" y="90"/>
                </a:lnTo>
                <a:lnTo>
                  <a:pt x="89" y="94"/>
                </a:lnTo>
                <a:lnTo>
                  <a:pt x="89" y="99"/>
                </a:lnTo>
                <a:lnTo>
                  <a:pt x="85" y="103"/>
                </a:lnTo>
                <a:lnTo>
                  <a:pt x="85" y="108"/>
                </a:lnTo>
                <a:lnTo>
                  <a:pt x="79" y="112"/>
                </a:lnTo>
                <a:lnTo>
                  <a:pt x="83" y="117"/>
                </a:lnTo>
                <a:lnTo>
                  <a:pt x="89" y="121"/>
                </a:lnTo>
                <a:lnTo>
                  <a:pt x="102" y="126"/>
                </a:lnTo>
                <a:lnTo>
                  <a:pt x="106" y="130"/>
                </a:lnTo>
                <a:lnTo>
                  <a:pt x="104" y="135"/>
                </a:lnTo>
                <a:lnTo>
                  <a:pt x="102" y="139"/>
                </a:lnTo>
                <a:lnTo>
                  <a:pt x="94" y="144"/>
                </a:lnTo>
                <a:lnTo>
                  <a:pt x="89" y="148"/>
                </a:lnTo>
                <a:lnTo>
                  <a:pt x="85" y="153"/>
                </a:lnTo>
                <a:lnTo>
                  <a:pt x="85" y="157"/>
                </a:lnTo>
                <a:lnTo>
                  <a:pt x="87" y="162"/>
                </a:lnTo>
                <a:lnTo>
                  <a:pt x="96" y="166"/>
                </a:lnTo>
                <a:lnTo>
                  <a:pt x="100" y="171"/>
                </a:lnTo>
                <a:lnTo>
                  <a:pt x="96" y="175"/>
                </a:lnTo>
                <a:lnTo>
                  <a:pt x="87" y="180"/>
                </a:lnTo>
                <a:lnTo>
                  <a:pt x="81" y="184"/>
                </a:lnTo>
                <a:lnTo>
                  <a:pt x="79" y="189"/>
                </a:lnTo>
                <a:lnTo>
                  <a:pt x="100" y="193"/>
                </a:lnTo>
                <a:lnTo>
                  <a:pt x="170" y="198"/>
                </a:lnTo>
                <a:lnTo>
                  <a:pt x="221" y="202"/>
                </a:lnTo>
                <a:lnTo>
                  <a:pt x="170" y="207"/>
                </a:lnTo>
                <a:lnTo>
                  <a:pt x="155" y="211"/>
                </a:lnTo>
                <a:lnTo>
                  <a:pt x="100" y="216"/>
                </a:lnTo>
                <a:lnTo>
                  <a:pt x="83" y="220"/>
                </a:lnTo>
                <a:lnTo>
                  <a:pt x="85" y="225"/>
                </a:lnTo>
                <a:lnTo>
                  <a:pt x="89" y="229"/>
                </a:lnTo>
                <a:lnTo>
                  <a:pt x="102" y="234"/>
                </a:lnTo>
                <a:lnTo>
                  <a:pt x="102" y="238"/>
                </a:lnTo>
                <a:lnTo>
                  <a:pt x="96" y="243"/>
                </a:lnTo>
                <a:lnTo>
                  <a:pt x="96" y="247"/>
                </a:lnTo>
                <a:lnTo>
                  <a:pt x="100" y="252"/>
                </a:lnTo>
                <a:lnTo>
                  <a:pt x="102" y="256"/>
                </a:lnTo>
                <a:lnTo>
                  <a:pt x="102" y="261"/>
                </a:lnTo>
                <a:lnTo>
                  <a:pt x="102" y="265"/>
                </a:lnTo>
                <a:lnTo>
                  <a:pt x="102" y="270"/>
                </a:lnTo>
                <a:lnTo>
                  <a:pt x="102" y="274"/>
                </a:lnTo>
                <a:lnTo>
                  <a:pt x="102" y="279"/>
                </a:lnTo>
                <a:lnTo>
                  <a:pt x="100" y="283"/>
                </a:lnTo>
                <a:lnTo>
                  <a:pt x="100" y="288"/>
                </a:lnTo>
                <a:lnTo>
                  <a:pt x="102" y="292"/>
                </a:lnTo>
                <a:lnTo>
                  <a:pt x="102" y="297"/>
                </a:lnTo>
                <a:lnTo>
                  <a:pt x="98" y="301"/>
                </a:lnTo>
                <a:lnTo>
                  <a:pt x="94" y="306"/>
                </a:lnTo>
                <a:lnTo>
                  <a:pt x="94" y="310"/>
                </a:lnTo>
                <a:lnTo>
                  <a:pt x="98" y="315"/>
                </a:lnTo>
                <a:lnTo>
                  <a:pt x="100" y="319"/>
                </a:lnTo>
                <a:lnTo>
                  <a:pt x="106" y="324"/>
                </a:lnTo>
                <a:lnTo>
                  <a:pt x="108" y="328"/>
                </a:lnTo>
                <a:lnTo>
                  <a:pt x="106" y="333"/>
                </a:lnTo>
                <a:lnTo>
                  <a:pt x="102" y="337"/>
                </a:lnTo>
                <a:lnTo>
                  <a:pt x="100" y="342"/>
                </a:lnTo>
                <a:lnTo>
                  <a:pt x="100" y="346"/>
                </a:lnTo>
                <a:lnTo>
                  <a:pt x="100" y="351"/>
                </a:lnTo>
                <a:lnTo>
                  <a:pt x="100" y="355"/>
                </a:lnTo>
                <a:lnTo>
                  <a:pt x="102" y="360"/>
                </a:lnTo>
                <a:lnTo>
                  <a:pt x="111" y="364"/>
                </a:lnTo>
                <a:lnTo>
                  <a:pt x="111" y="369"/>
                </a:lnTo>
                <a:lnTo>
                  <a:pt x="111" y="373"/>
                </a:lnTo>
                <a:lnTo>
                  <a:pt x="111" y="378"/>
                </a:lnTo>
                <a:lnTo>
                  <a:pt x="108" y="382"/>
                </a:lnTo>
                <a:lnTo>
                  <a:pt x="104" y="387"/>
                </a:lnTo>
                <a:lnTo>
                  <a:pt x="102" y="391"/>
                </a:lnTo>
                <a:lnTo>
                  <a:pt x="106" y="396"/>
                </a:lnTo>
                <a:lnTo>
                  <a:pt x="94" y="400"/>
                </a:lnTo>
                <a:lnTo>
                  <a:pt x="87" y="405"/>
                </a:lnTo>
                <a:lnTo>
                  <a:pt x="85" y="409"/>
                </a:lnTo>
                <a:lnTo>
                  <a:pt x="85" y="414"/>
                </a:lnTo>
                <a:lnTo>
                  <a:pt x="89" y="418"/>
                </a:lnTo>
                <a:lnTo>
                  <a:pt x="96" y="423"/>
                </a:lnTo>
                <a:lnTo>
                  <a:pt x="98" y="427"/>
                </a:lnTo>
                <a:lnTo>
                  <a:pt x="100" y="432"/>
                </a:lnTo>
                <a:lnTo>
                  <a:pt x="98" y="436"/>
                </a:lnTo>
                <a:lnTo>
                  <a:pt x="96" y="441"/>
                </a:lnTo>
                <a:lnTo>
                  <a:pt x="94" y="445"/>
                </a:lnTo>
                <a:lnTo>
                  <a:pt x="91" y="450"/>
                </a:lnTo>
                <a:lnTo>
                  <a:pt x="94" y="454"/>
                </a:lnTo>
                <a:lnTo>
                  <a:pt x="94" y="459"/>
                </a:lnTo>
                <a:lnTo>
                  <a:pt x="91" y="463"/>
                </a:lnTo>
                <a:lnTo>
                  <a:pt x="89" y="468"/>
                </a:lnTo>
                <a:lnTo>
                  <a:pt x="87" y="472"/>
                </a:lnTo>
                <a:lnTo>
                  <a:pt x="89" y="477"/>
                </a:lnTo>
                <a:lnTo>
                  <a:pt x="87" y="481"/>
                </a:lnTo>
                <a:lnTo>
                  <a:pt x="87" y="486"/>
                </a:lnTo>
                <a:lnTo>
                  <a:pt x="85" y="490"/>
                </a:lnTo>
                <a:lnTo>
                  <a:pt x="85" y="495"/>
                </a:lnTo>
                <a:lnTo>
                  <a:pt x="81" y="499"/>
                </a:lnTo>
                <a:lnTo>
                  <a:pt x="81" y="504"/>
                </a:lnTo>
                <a:lnTo>
                  <a:pt x="79" y="508"/>
                </a:lnTo>
                <a:lnTo>
                  <a:pt x="79" y="512"/>
                </a:lnTo>
                <a:lnTo>
                  <a:pt x="85" y="517"/>
                </a:lnTo>
                <a:lnTo>
                  <a:pt x="83" y="521"/>
                </a:lnTo>
                <a:lnTo>
                  <a:pt x="70" y="526"/>
                </a:lnTo>
                <a:lnTo>
                  <a:pt x="64" y="530"/>
                </a:lnTo>
                <a:lnTo>
                  <a:pt x="64" y="535"/>
                </a:lnTo>
                <a:lnTo>
                  <a:pt x="64" y="539"/>
                </a:lnTo>
                <a:lnTo>
                  <a:pt x="64" y="544"/>
                </a:lnTo>
                <a:lnTo>
                  <a:pt x="62" y="548"/>
                </a:lnTo>
                <a:lnTo>
                  <a:pt x="66" y="553"/>
                </a:lnTo>
                <a:lnTo>
                  <a:pt x="70" y="557"/>
                </a:lnTo>
                <a:lnTo>
                  <a:pt x="68" y="562"/>
                </a:lnTo>
                <a:lnTo>
                  <a:pt x="66" y="566"/>
                </a:lnTo>
                <a:lnTo>
                  <a:pt x="77" y="571"/>
                </a:lnTo>
                <a:lnTo>
                  <a:pt x="74" y="575"/>
                </a:lnTo>
                <a:lnTo>
                  <a:pt x="81" y="580"/>
                </a:lnTo>
                <a:lnTo>
                  <a:pt x="85" y="584"/>
                </a:lnTo>
                <a:lnTo>
                  <a:pt x="83" y="589"/>
                </a:lnTo>
                <a:lnTo>
                  <a:pt x="81" y="593"/>
                </a:lnTo>
                <a:lnTo>
                  <a:pt x="83" y="598"/>
                </a:lnTo>
                <a:lnTo>
                  <a:pt x="85" y="602"/>
                </a:lnTo>
                <a:lnTo>
                  <a:pt x="87" y="607"/>
                </a:lnTo>
                <a:lnTo>
                  <a:pt x="91" y="611"/>
                </a:lnTo>
                <a:lnTo>
                  <a:pt x="96" y="616"/>
                </a:lnTo>
                <a:lnTo>
                  <a:pt x="98" y="620"/>
                </a:lnTo>
                <a:lnTo>
                  <a:pt x="98" y="625"/>
                </a:lnTo>
                <a:lnTo>
                  <a:pt x="100" y="629"/>
                </a:lnTo>
                <a:lnTo>
                  <a:pt x="100" y="634"/>
                </a:lnTo>
                <a:lnTo>
                  <a:pt x="98" y="638"/>
                </a:lnTo>
                <a:lnTo>
                  <a:pt x="98" y="643"/>
                </a:lnTo>
                <a:lnTo>
                  <a:pt x="96" y="647"/>
                </a:lnTo>
                <a:lnTo>
                  <a:pt x="96" y="652"/>
                </a:lnTo>
                <a:lnTo>
                  <a:pt x="96" y="656"/>
                </a:lnTo>
                <a:lnTo>
                  <a:pt x="98" y="661"/>
                </a:lnTo>
                <a:lnTo>
                  <a:pt x="96" y="665"/>
                </a:lnTo>
                <a:lnTo>
                  <a:pt x="98" y="670"/>
                </a:lnTo>
                <a:lnTo>
                  <a:pt x="94" y="674"/>
                </a:lnTo>
                <a:lnTo>
                  <a:pt x="91" y="679"/>
                </a:lnTo>
                <a:lnTo>
                  <a:pt x="89" y="683"/>
                </a:lnTo>
                <a:lnTo>
                  <a:pt x="91" y="688"/>
                </a:lnTo>
                <a:lnTo>
                  <a:pt x="89" y="692"/>
                </a:lnTo>
                <a:lnTo>
                  <a:pt x="89" y="697"/>
                </a:lnTo>
                <a:lnTo>
                  <a:pt x="89" y="701"/>
                </a:lnTo>
                <a:lnTo>
                  <a:pt x="85" y="706"/>
                </a:lnTo>
                <a:lnTo>
                  <a:pt x="77" y="710"/>
                </a:lnTo>
                <a:lnTo>
                  <a:pt x="77" y="715"/>
                </a:lnTo>
                <a:lnTo>
                  <a:pt x="81" y="719"/>
                </a:lnTo>
                <a:lnTo>
                  <a:pt x="83" y="724"/>
                </a:lnTo>
                <a:lnTo>
                  <a:pt x="87" y="728"/>
                </a:lnTo>
                <a:lnTo>
                  <a:pt x="91" y="733"/>
                </a:lnTo>
                <a:lnTo>
                  <a:pt x="94" y="737"/>
                </a:lnTo>
                <a:lnTo>
                  <a:pt x="96" y="742"/>
                </a:lnTo>
                <a:lnTo>
                  <a:pt x="98" y="746"/>
                </a:lnTo>
                <a:lnTo>
                  <a:pt x="100" y="751"/>
                </a:lnTo>
                <a:lnTo>
                  <a:pt x="102" y="755"/>
                </a:lnTo>
                <a:lnTo>
                  <a:pt x="111" y="760"/>
                </a:lnTo>
                <a:lnTo>
                  <a:pt x="111" y="764"/>
                </a:lnTo>
                <a:lnTo>
                  <a:pt x="117" y="769"/>
                </a:lnTo>
                <a:lnTo>
                  <a:pt x="119" y="773"/>
                </a:lnTo>
                <a:lnTo>
                  <a:pt x="128" y="778"/>
                </a:lnTo>
                <a:lnTo>
                  <a:pt x="151" y="782"/>
                </a:lnTo>
                <a:lnTo>
                  <a:pt x="162" y="787"/>
                </a:lnTo>
                <a:lnTo>
                  <a:pt x="168" y="791"/>
                </a:lnTo>
                <a:lnTo>
                  <a:pt x="176" y="796"/>
                </a:lnTo>
                <a:lnTo>
                  <a:pt x="189" y="800"/>
                </a:lnTo>
                <a:lnTo>
                  <a:pt x="193" y="805"/>
                </a:lnTo>
                <a:lnTo>
                  <a:pt x="181" y="809"/>
                </a:lnTo>
                <a:lnTo>
                  <a:pt x="196" y="814"/>
                </a:lnTo>
                <a:lnTo>
                  <a:pt x="210" y="818"/>
                </a:lnTo>
                <a:lnTo>
                  <a:pt x="219" y="823"/>
                </a:lnTo>
                <a:lnTo>
                  <a:pt x="217" y="827"/>
                </a:lnTo>
                <a:lnTo>
                  <a:pt x="217" y="832"/>
                </a:lnTo>
                <a:lnTo>
                  <a:pt x="219" y="836"/>
                </a:lnTo>
                <a:lnTo>
                  <a:pt x="217" y="841"/>
                </a:lnTo>
                <a:lnTo>
                  <a:pt x="183" y="845"/>
                </a:lnTo>
                <a:lnTo>
                  <a:pt x="179" y="850"/>
                </a:lnTo>
                <a:lnTo>
                  <a:pt x="157" y="854"/>
                </a:lnTo>
                <a:lnTo>
                  <a:pt x="142" y="859"/>
                </a:lnTo>
                <a:lnTo>
                  <a:pt x="142" y="863"/>
                </a:lnTo>
                <a:lnTo>
                  <a:pt x="166" y="868"/>
                </a:lnTo>
                <a:lnTo>
                  <a:pt x="187" y="872"/>
                </a:lnTo>
                <a:lnTo>
                  <a:pt x="196" y="877"/>
                </a:lnTo>
                <a:lnTo>
                  <a:pt x="210" y="881"/>
                </a:lnTo>
                <a:lnTo>
                  <a:pt x="221" y="886"/>
                </a:lnTo>
                <a:lnTo>
                  <a:pt x="187" y="890"/>
                </a:lnTo>
                <a:lnTo>
                  <a:pt x="170" y="895"/>
                </a:lnTo>
                <a:lnTo>
                  <a:pt x="121" y="899"/>
                </a:lnTo>
                <a:lnTo>
                  <a:pt x="85" y="904"/>
                </a:lnTo>
                <a:lnTo>
                  <a:pt x="83" y="908"/>
                </a:lnTo>
                <a:lnTo>
                  <a:pt x="89" y="913"/>
                </a:lnTo>
                <a:lnTo>
                  <a:pt x="128" y="917"/>
                </a:lnTo>
                <a:lnTo>
                  <a:pt x="113" y="922"/>
                </a:lnTo>
                <a:lnTo>
                  <a:pt x="108" y="926"/>
                </a:lnTo>
                <a:lnTo>
                  <a:pt x="108" y="931"/>
                </a:lnTo>
                <a:lnTo>
                  <a:pt x="111" y="935"/>
                </a:lnTo>
                <a:lnTo>
                  <a:pt x="106" y="940"/>
                </a:lnTo>
                <a:lnTo>
                  <a:pt x="104" y="944"/>
                </a:lnTo>
                <a:lnTo>
                  <a:pt x="102" y="949"/>
                </a:lnTo>
                <a:lnTo>
                  <a:pt x="98" y="953"/>
                </a:lnTo>
                <a:lnTo>
                  <a:pt x="89" y="958"/>
                </a:lnTo>
                <a:lnTo>
                  <a:pt x="85" y="962"/>
                </a:lnTo>
                <a:lnTo>
                  <a:pt x="87" y="967"/>
                </a:lnTo>
                <a:lnTo>
                  <a:pt x="91" y="971"/>
                </a:lnTo>
                <a:lnTo>
                  <a:pt x="96" y="976"/>
                </a:lnTo>
                <a:lnTo>
                  <a:pt x="132" y="980"/>
                </a:lnTo>
                <a:lnTo>
                  <a:pt x="204" y="985"/>
                </a:lnTo>
                <a:lnTo>
                  <a:pt x="217" y="989"/>
                </a:lnTo>
                <a:lnTo>
                  <a:pt x="221" y="994"/>
                </a:lnTo>
                <a:lnTo>
                  <a:pt x="206" y="998"/>
                </a:lnTo>
                <a:lnTo>
                  <a:pt x="193" y="1003"/>
                </a:lnTo>
                <a:lnTo>
                  <a:pt x="189" y="1007"/>
                </a:lnTo>
                <a:lnTo>
                  <a:pt x="189" y="1012"/>
                </a:lnTo>
                <a:lnTo>
                  <a:pt x="193" y="1016"/>
                </a:lnTo>
                <a:lnTo>
                  <a:pt x="196" y="1021"/>
                </a:lnTo>
                <a:lnTo>
                  <a:pt x="210" y="1025"/>
                </a:lnTo>
                <a:lnTo>
                  <a:pt x="221" y="1030"/>
                </a:lnTo>
                <a:lnTo>
                  <a:pt x="240" y="1034"/>
                </a:lnTo>
                <a:lnTo>
                  <a:pt x="251" y="1039"/>
                </a:lnTo>
                <a:lnTo>
                  <a:pt x="251" y="1043"/>
                </a:lnTo>
                <a:lnTo>
                  <a:pt x="242" y="1048"/>
                </a:lnTo>
                <a:lnTo>
                  <a:pt x="238" y="1052"/>
                </a:lnTo>
                <a:lnTo>
                  <a:pt x="242" y="1057"/>
                </a:lnTo>
                <a:lnTo>
                  <a:pt x="247" y="1061"/>
                </a:lnTo>
                <a:lnTo>
                  <a:pt x="242" y="1066"/>
                </a:lnTo>
                <a:lnTo>
                  <a:pt x="236" y="1070"/>
                </a:lnTo>
                <a:lnTo>
                  <a:pt x="234" y="1075"/>
                </a:lnTo>
                <a:lnTo>
                  <a:pt x="223" y="1079"/>
                </a:lnTo>
                <a:lnTo>
                  <a:pt x="215" y="1084"/>
                </a:lnTo>
                <a:lnTo>
                  <a:pt x="219" y="1088"/>
                </a:lnTo>
                <a:lnTo>
                  <a:pt x="225" y="1093"/>
                </a:lnTo>
                <a:lnTo>
                  <a:pt x="225" y="1097"/>
                </a:lnTo>
                <a:lnTo>
                  <a:pt x="227" y="1102"/>
                </a:lnTo>
                <a:lnTo>
                  <a:pt x="234" y="1106"/>
                </a:lnTo>
                <a:lnTo>
                  <a:pt x="244" y="1111"/>
                </a:lnTo>
                <a:lnTo>
                  <a:pt x="244" y="1115"/>
                </a:lnTo>
                <a:lnTo>
                  <a:pt x="247" y="1120"/>
                </a:lnTo>
                <a:lnTo>
                  <a:pt x="261" y="1124"/>
                </a:lnTo>
                <a:lnTo>
                  <a:pt x="259" y="1129"/>
                </a:lnTo>
                <a:lnTo>
                  <a:pt x="264" y="1133"/>
                </a:lnTo>
                <a:lnTo>
                  <a:pt x="249" y="1138"/>
                </a:lnTo>
                <a:lnTo>
                  <a:pt x="234" y="1142"/>
                </a:lnTo>
                <a:lnTo>
                  <a:pt x="225" y="1147"/>
                </a:lnTo>
                <a:lnTo>
                  <a:pt x="221" y="1151"/>
                </a:lnTo>
                <a:lnTo>
                  <a:pt x="219" y="1156"/>
                </a:lnTo>
                <a:lnTo>
                  <a:pt x="215" y="1160"/>
                </a:lnTo>
                <a:lnTo>
                  <a:pt x="210" y="1165"/>
                </a:lnTo>
                <a:lnTo>
                  <a:pt x="215" y="1169"/>
                </a:lnTo>
                <a:lnTo>
                  <a:pt x="217" y="1174"/>
                </a:lnTo>
                <a:lnTo>
                  <a:pt x="221" y="1178"/>
                </a:lnTo>
                <a:lnTo>
                  <a:pt x="230" y="1183"/>
                </a:lnTo>
                <a:lnTo>
                  <a:pt x="238" y="1187"/>
                </a:lnTo>
                <a:lnTo>
                  <a:pt x="251" y="1192"/>
                </a:lnTo>
                <a:lnTo>
                  <a:pt x="274" y="1196"/>
                </a:lnTo>
                <a:lnTo>
                  <a:pt x="266" y="1201"/>
                </a:lnTo>
                <a:lnTo>
                  <a:pt x="255" y="1205"/>
                </a:lnTo>
                <a:lnTo>
                  <a:pt x="230" y="1210"/>
                </a:lnTo>
                <a:lnTo>
                  <a:pt x="213" y="1214"/>
                </a:lnTo>
                <a:lnTo>
                  <a:pt x="189" y="1219"/>
                </a:lnTo>
                <a:lnTo>
                  <a:pt x="162" y="1223"/>
                </a:lnTo>
                <a:lnTo>
                  <a:pt x="151" y="1228"/>
                </a:lnTo>
                <a:lnTo>
                  <a:pt x="147" y="1232"/>
                </a:lnTo>
                <a:lnTo>
                  <a:pt x="130" y="1237"/>
                </a:lnTo>
                <a:lnTo>
                  <a:pt x="125" y="1241"/>
                </a:lnTo>
                <a:lnTo>
                  <a:pt x="123" y="1246"/>
                </a:lnTo>
                <a:lnTo>
                  <a:pt x="125" y="1250"/>
                </a:lnTo>
                <a:lnTo>
                  <a:pt x="128" y="1255"/>
                </a:lnTo>
                <a:lnTo>
                  <a:pt x="134" y="1259"/>
                </a:lnTo>
                <a:lnTo>
                  <a:pt x="134" y="1264"/>
                </a:lnTo>
                <a:lnTo>
                  <a:pt x="134" y="1268"/>
                </a:lnTo>
                <a:lnTo>
                  <a:pt x="134" y="1273"/>
                </a:lnTo>
                <a:lnTo>
                  <a:pt x="138" y="1277"/>
                </a:lnTo>
                <a:lnTo>
                  <a:pt x="134" y="1282"/>
                </a:lnTo>
                <a:lnTo>
                  <a:pt x="130" y="1286"/>
                </a:lnTo>
                <a:lnTo>
                  <a:pt x="125" y="1291"/>
                </a:lnTo>
                <a:lnTo>
                  <a:pt x="117" y="1295"/>
                </a:lnTo>
                <a:lnTo>
                  <a:pt x="111" y="1300"/>
                </a:lnTo>
                <a:lnTo>
                  <a:pt x="108" y="1304"/>
                </a:lnTo>
                <a:lnTo>
                  <a:pt x="111" y="1309"/>
                </a:lnTo>
                <a:lnTo>
                  <a:pt x="115" y="1313"/>
                </a:lnTo>
                <a:lnTo>
                  <a:pt x="117" y="1318"/>
                </a:lnTo>
                <a:lnTo>
                  <a:pt x="121" y="1322"/>
                </a:lnTo>
                <a:lnTo>
                  <a:pt x="123" y="1327"/>
                </a:lnTo>
                <a:lnTo>
                  <a:pt x="119" y="1331"/>
                </a:lnTo>
                <a:lnTo>
                  <a:pt x="117" y="1336"/>
                </a:lnTo>
                <a:lnTo>
                  <a:pt x="111" y="1340"/>
                </a:lnTo>
                <a:lnTo>
                  <a:pt x="100" y="1345"/>
                </a:lnTo>
                <a:lnTo>
                  <a:pt x="89" y="1349"/>
                </a:lnTo>
                <a:lnTo>
                  <a:pt x="85" y="1354"/>
                </a:lnTo>
                <a:lnTo>
                  <a:pt x="83" y="1358"/>
                </a:lnTo>
                <a:lnTo>
                  <a:pt x="83" y="1363"/>
                </a:lnTo>
                <a:lnTo>
                  <a:pt x="77" y="1367"/>
                </a:lnTo>
                <a:lnTo>
                  <a:pt x="79" y="1372"/>
                </a:lnTo>
                <a:lnTo>
                  <a:pt x="81" y="1376"/>
                </a:lnTo>
                <a:lnTo>
                  <a:pt x="79" y="1381"/>
                </a:lnTo>
                <a:lnTo>
                  <a:pt x="79" y="1385"/>
                </a:lnTo>
                <a:lnTo>
                  <a:pt x="77" y="1390"/>
                </a:lnTo>
                <a:lnTo>
                  <a:pt x="74" y="1394"/>
                </a:lnTo>
                <a:lnTo>
                  <a:pt x="72" y="1399"/>
                </a:lnTo>
                <a:lnTo>
                  <a:pt x="74" y="1403"/>
                </a:lnTo>
                <a:lnTo>
                  <a:pt x="74" y="1408"/>
                </a:lnTo>
                <a:lnTo>
                  <a:pt x="74" y="1412"/>
                </a:lnTo>
                <a:lnTo>
                  <a:pt x="74" y="1417"/>
                </a:lnTo>
                <a:lnTo>
                  <a:pt x="83" y="1421"/>
                </a:lnTo>
                <a:lnTo>
                  <a:pt x="85" y="1426"/>
                </a:lnTo>
                <a:lnTo>
                  <a:pt x="83" y="1430"/>
                </a:lnTo>
                <a:lnTo>
                  <a:pt x="83" y="1435"/>
                </a:lnTo>
                <a:lnTo>
                  <a:pt x="81" y="1439"/>
                </a:lnTo>
                <a:lnTo>
                  <a:pt x="81" y="1444"/>
                </a:lnTo>
                <a:lnTo>
                  <a:pt x="79" y="1448"/>
                </a:lnTo>
                <a:lnTo>
                  <a:pt x="77" y="1453"/>
                </a:lnTo>
                <a:lnTo>
                  <a:pt x="77" y="1457"/>
                </a:lnTo>
                <a:lnTo>
                  <a:pt x="81" y="1462"/>
                </a:lnTo>
                <a:lnTo>
                  <a:pt x="83" y="1466"/>
                </a:lnTo>
                <a:lnTo>
                  <a:pt x="83" y="1471"/>
                </a:lnTo>
                <a:lnTo>
                  <a:pt x="83" y="1475"/>
                </a:lnTo>
                <a:lnTo>
                  <a:pt x="81" y="1480"/>
                </a:lnTo>
                <a:lnTo>
                  <a:pt x="81" y="1484"/>
                </a:lnTo>
                <a:lnTo>
                  <a:pt x="77" y="1489"/>
                </a:lnTo>
                <a:lnTo>
                  <a:pt x="79" y="1493"/>
                </a:lnTo>
                <a:lnTo>
                  <a:pt x="81" y="1498"/>
                </a:lnTo>
                <a:lnTo>
                  <a:pt x="81" y="1502"/>
                </a:lnTo>
                <a:lnTo>
                  <a:pt x="81" y="1507"/>
                </a:lnTo>
                <a:lnTo>
                  <a:pt x="83" y="1511"/>
                </a:lnTo>
                <a:lnTo>
                  <a:pt x="85" y="1516"/>
                </a:lnTo>
                <a:lnTo>
                  <a:pt x="87" y="1520"/>
                </a:lnTo>
                <a:lnTo>
                  <a:pt x="87" y="1525"/>
                </a:lnTo>
                <a:lnTo>
                  <a:pt x="83" y="1529"/>
                </a:lnTo>
                <a:lnTo>
                  <a:pt x="79" y="1534"/>
                </a:lnTo>
                <a:lnTo>
                  <a:pt x="74" y="1538"/>
                </a:lnTo>
                <a:lnTo>
                  <a:pt x="66" y="1543"/>
                </a:lnTo>
                <a:lnTo>
                  <a:pt x="45" y="1547"/>
                </a:lnTo>
                <a:lnTo>
                  <a:pt x="36" y="1552"/>
                </a:lnTo>
                <a:lnTo>
                  <a:pt x="60" y="1556"/>
                </a:lnTo>
                <a:lnTo>
                  <a:pt x="34" y="1560"/>
                </a:lnTo>
                <a:lnTo>
                  <a:pt x="34" y="1565"/>
                </a:lnTo>
                <a:lnTo>
                  <a:pt x="28" y="1569"/>
                </a:lnTo>
                <a:lnTo>
                  <a:pt x="26" y="1574"/>
                </a:lnTo>
                <a:lnTo>
                  <a:pt x="19" y="1578"/>
                </a:lnTo>
                <a:lnTo>
                  <a:pt x="17" y="1583"/>
                </a:lnTo>
                <a:lnTo>
                  <a:pt x="15" y="1587"/>
                </a:lnTo>
                <a:lnTo>
                  <a:pt x="17" y="1592"/>
                </a:lnTo>
                <a:lnTo>
                  <a:pt x="15" y="1596"/>
                </a:lnTo>
                <a:lnTo>
                  <a:pt x="13" y="1601"/>
                </a:lnTo>
                <a:lnTo>
                  <a:pt x="7" y="1605"/>
                </a:lnTo>
                <a:lnTo>
                  <a:pt x="7" y="1610"/>
                </a:lnTo>
                <a:lnTo>
                  <a:pt x="2" y="1614"/>
                </a:lnTo>
                <a:lnTo>
                  <a:pt x="0" y="1619"/>
                </a:lnTo>
                <a:lnTo>
                  <a:pt x="0" y="1623"/>
                </a:lnTo>
                <a:lnTo>
                  <a:pt x="0" y="1628"/>
                </a:lnTo>
                <a:lnTo>
                  <a:pt x="2" y="1632"/>
                </a:lnTo>
                <a:lnTo>
                  <a:pt x="7" y="1637"/>
                </a:lnTo>
                <a:lnTo>
                  <a:pt x="4" y="1641"/>
                </a:lnTo>
                <a:lnTo>
                  <a:pt x="7" y="1646"/>
                </a:lnTo>
                <a:lnTo>
                  <a:pt x="9" y="1650"/>
                </a:lnTo>
                <a:lnTo>
                  <a:pt x="11" y="1655"/>
                </a:lnTo>
                <a:lnTo>
                  <a:pt x="15" y="1659"/>
                </a:lnTo>
                <a:lnTo>
                  <a:pt x="21" y="1664"/>
                </a:lnTo>
                <a:lnTo>
                  <a:pt x="26" y="1668"/>
                </a:lnTo>
                <a:lnTo>
                  <a:pt x="28" y="1673"/>
                </a:lnTo>
                <a:lnTo>
                  <a:pt x="30" y="1677"/>
                </a:lnTo>
                <a:lnTo>
                  <a:pt x="30" y="1682"/>
                </a:lnTo>
                <a:lnTo>
                  <a:pt x="26" y="1686"/>
                </a:lnTo>
                <a:lnTo>
                  <a:pt x="30" y="1691"/>
                </a:lnTo>
                <a:lnTo>
                  <a:pt x="30" y="1695"/>
                </a:lnTo>
                <a:lnTo>
                  <a:pt x="34" y="1700"/>
                </a:lnTo>
                <a:lnTo>
                  <a:pt x="38" y="1704"/>
                </a:lnTo>
                <a:lnTo>
                  <a:pt x="41" y="1709"/>
                </a:lnTo>
                <a:lnTo>
                  <a:pt x="41" y="1713"/>
                </a:lnTo>
                <a:lnTo>
                  <a:pt x="43" y="1718"/>
                </a:lnTo>
                <a:lnTo>
                  <a:pt x="47" y="1722"/>
                </a:lnTo>
                <a:lnTo>
                  <a:pt x="53" y="1727"/>
                </a:lnTo>
                <a:lnTo>
                  <a:pt x="55" y="1731"/>
                </a:lnTo>
                <a:lnTo>
                  <a:pt x="60" y="1736"/>
                </a:lnTo>
                <a:lnTo>
                  <a:pt x="64" y="1740"/>
                </a:lnTo>
                <a:lnTo>
                  <a:pt x="68" y="1745"/>
                </a:lnTo>
                <a:lnTo>
                  <a:pt x="77" y="1749"/>
                </a:lnTo>
                <a:lnTo>
                  <a:pt x="79" y="1754"/>
                </a:lnTo>
                <a:lnTo>
                  <a:pt x="79" y="1758"/>
                </a:lnTo>
                <a:lnTo>
                  <a:pt x="79" y="1763"/>
                </a:lnTo>
                <a:lnTo>
                  <a:pt x="81" y="1767"/>
                </a:lnTo>
                <a:lnTo>
                  <a:pt x="85" y="1772"/>
                </a:lnTo>
                <a:lnTo>
                  <a:pt x="87" y="1776"/>
                </a:lnTo>
                <a:lnTo>
                  <a:pt x="85" y="1781"/>
                </a:lnTo>
                <a:lnTo>
                  <a:pt x="87" y="1785"/>
                </a:lnTo>
                <a:lnTo>
                  <a:pt x="83" y="1790"/>
                </a:lnTo>
                <a:lnTo>
                  <a:pt x="83" y="1794"/>
                </a:lnTo>
                <a:lnTo>
                  <a:pt x="87" y="1799"/>
                </a:lnTo>
                <a:lnTo>
                  <a:pt x="89" y="1803"/>
                </a:lnTo>
                <a:lnTo>
                  <a:pt x="94" y="1808"/>
                </a:lnTo>
                <a:lnTo>
                  <a:pt x="98" y="1812"/>
                </a:lnTo>
                <a:lnTo>
                  <a:pt x="98" y="1817"/>
                </a:lnTo>
                <a:lnTo>
                  <a:pt x="100" y="1821"/>
                </a:lnTo>
                <a:lnTo>
                  <a:pt x="100" y="1826"/>
                </a:lnTo>
                <a:lnTo>
                  <a:pt x="100" y="1830"/>
                </a:lnTo>
                <a:lnTo>
                  <a:pt x="98" y="1835"/>
                </a:lnTo>
                <a:lnTo>
                  <a:pt x="96" y="1839"/>
                </a:lnTo>
                <a:lnTo>
                  <a:pt x="94" y="1844"/>
                </a:lnTo>
                <a:lnTo>
                  <a:pt x="96" y="1848"/>
                </a:lnTo>
                <a:lnTo>
                  <a:pt x="100" y="1853"/>
                </a:lnTo>
                <a:lnTo>
                  <a:pt x="100" y="1857"/>
                </a:lnTo>
                <a:lnTo>
                  <a:pt x="100" y="1862"/>
                </a:lnTo>
                <a:lnTo>
                  <a:pt x="100" y="1866"/>
                </a:lnTo>
                <a:lnTo>
                  <a:pt x="96" y="1871"/>
                </a:lnTo>
                <a:lnTo>
                  <a:pt x="94" y="1875"/>
                </a:lnTo>
                <a:lnTo>
                  <a:pt x="94" y="1880"/>
                </a:lnTo>
                <a:lnTo>
                  <a:pt x="96" y="1884"/>
                </a:lnTo>
                <a:lnTo>
                  <a:pt x="96" y="1889"/>
                </a:lnTo>
                <a:lnTo>
                  <a:pt x="91" y="1893"/>
                </a:lnTo>
                <a:lnTo>
                  <a:pt x="81" y="1898"/>
                </a:lnTo>
                <a:lnTo>
                  <a:pt x="74" y="1902"/>
                </a:lnTo>
                <a:lnTo>
                  <a:pt x="74" y="1907"/>
                </a:lnTo>
                <a:lnTo>
                  <a:pt x="79" y="1911"/>
                </a:lnTo>
                <a:lnTo>
                  <a:pt x="96" y="1916"/>
                </a:lnTo>
                <a:lnTo>
                  <a:pt x="74" y="1920"/>
                </a:lnTo>
                <a:lnTo>
                  <a:pt x="70" y="1925"/>
                </a:lnTo>
                <a:lnTo>
                  <a:pt x="87" y="1929"/>
                </a:lnTo>
                <a:lnTo>
                  <a:pt x="81" y="1934"/>
                </a:lnTo>
                <a:lnTo>
                  <a:pt x="79" y="1938"/>
                </a:lnTo>
                <a:lnTo>
                  <a:pt x="79" y="1943"/>
                </a:lnTo>
                <a:lnTo>
                  <a:pt x="83" y="1947"/>
                </a:lnTo>
                <a:lnTo>
                  <a:pt x="85" y="1952"/>
                </a:lnTo>
                <a:lnTo>
                  <a:pt x="87" y="1956"/>
                </a:lnTo>
                <a:lnTo>
                  <a:pt x="85" y="1961"/>
                </a:lnTo>
                <a:lnTo>
                  <a:pt x="85" y="1965"/>
                </a:lnTo>
                <a:lnTo>
                  <a:pt x="85" y="1970"/>
                </a:lnTo>
                <a:lnTo>
                  <a:pt x="85" y="1974"/>
                </a:lnTo>
                <a:lnTo>
                  <a:pt x="83" y="1979"/>
                </a:lnTo>
                <a:lnTo>
                  <a:pt x="83" y="1983"/>
                </a:lnTo>
                <a:lnTo>
                  <a:pt x="81" y="1988"/>
                </a:lnTo>
                <a:lnTo>
                  <a:pt x="70" y="1992"/>
                </a:lnTo>
                <a:lnTo>
                  <a:pt x="70" y="1997"/>
                </a:lnTo>
                <a:lnTo>
                  <a:pt x="72" y="2001"/>
                </a:lnTo>
                <a:lnTo>
                  <a:pt x="72" y="2006"/>
                </a:lnTo>
                <a:lnTo>
                  <a:pt x="70" y="2010"/>
                </a:lnTo>
                <a:lnTo>
                  <a:pt x="68" y="2015"/>
                </a:lnTo>
                <a:lnTo>
                  <a:pt x="68" y="2019"/>
                </a:lnTo>
                <a:lnTo>
                  <a:pt x="64" y="2024"/>
                </a:lnTo>
                <a:lnTo>
                  <a:pt x="62" y="2028"/>
                </a:lnTo>
                <a:lnTo>
                  <a:pt x="62" y="2033"/>
                </a:lnTo>
                <a:lnTo>
                  <a:pt x="62" y="2037"/>
                </a:lnTo>
                <a:lnTo>
                  <a:pt x="64" y="2042"/>
                </a:lnTo>
                <a:lnTo>
                  <a:pt x="64" y="2046"/>
                </a:lnTo>
                <a:lnTo>
                  <a:pt x="64" y="2051"/>
                </a:lnTo>
                <a:lnTo>
                  <a:pt x="68" y="2055"/>
                </a:lnTo>
                <a:lnTo>
                  <a:pt x="74" y="2060"/>
                </a:lnTo>
                <a:lnTo>
                  <a:pt x="81" y="2064"/>
                </a:lnTo>
                <a:lnTo>
                  <a:pt x="123" y="2069"/>
                </a:lnTo>
                <a:lnTo>
                  <a:pt x="136" y="2073"/>
                </a:lnTo>
                <a:lnTo>
                  <a:pt x="138" y="2078"/>
                </a:lnTo>
                <a:lnTo>
                  <a:pt x="142" y="2082"/>
                </a:lnTo>
                <a:lnTo>
                  <a:pt x="145" y="2087"/>
                </a:lnTo>
                <a:lnTo>
                  <a:pt x="145" y="2091"/>
                </a:lnTo>
                <a:lnTo>
                  <a:pt x="145" y="2096"/>
                </a:lnTo>
                <a:lnTo>
                  <a:pt x="145" y="2100"/>
                </a:lnTo>
                <a:lnTo>
                  <a:pt x="140" y="2105"/>
                </a:lnTo>
                <a:lnTo>
                  <a:pt x="136" y="2109"/>
                </a:lnTo>
                <a:lnTo>
                  <a:pt x="132" y="2114"/>
                </a:lnTo>
                <a:lnTo>
                  <a:pt x="132" y="2118"/>
                </a:lnTo>
                <a:lnTo>
                  <a:pt x="136" y="2123"/>
                </a:lnTo>
                <a:lnTo>
                  <a:pt x="157" y="2127"/>
                </a:lnTo>
                <a:lnTo>
                  <a:pt x="162" y="2132"/>
                </a:lnTo>
                <a:lnTo>
                  <a:pt x="170" y="2136"/>
                </a:lnTo>
                <a:lnTo>
                  <a:pt x="168" y="2141"/>
                </a:lnTo>
                <a:lnTo>
                  <a:pt x="168" y="2145"/>
                </a:lnTo>
                <a:lnTo>
                  <a:pt x="164" y="2150"/>
                </a:lnTo>
                <a:lnTo>
                  <a:pt x="162" y="2154"/>
                </a:lnTo>
                <a:lnTo>
                  <a:pt x="162" y="2159"/>
                </a:lnTo>
                <a:lnTo>
                  <a:pt x="166" y="2163"/>
                </a:lnTo>
                <a:lnTo>
                  <a:pt x="170" y="2168"/>
                </a:lnTo>
                <a:lnTo>
                  <a:pt x="174" y="2172"/>
                </a:lnTo>
                <a:lnTo>
                  <a:pt x="172" y="2177"/>
                </a:lnTo>
                <a:lnTo>
                  <a:pt x="166" y="2181"/>
                </a:lnTo>
                <a:lnTo>
                  <a:pt x="162" y="2186"/>
                </a:lnTo>
                <a:lnTo>
                  <a:pt x="155" y="2190"/>
                </a:lnTo>
                <a:lnTo>
                  <a:pt x="153" y="2195"/>
                </a:lnTo>
                <a:lnTo>
                  <a:pt x="149" y="2199"/>
                </a:lnTo>
                <a:lnTo>
                  <a:pt x="145" y="2204"/>
                </a:lnTo>
                <a:lnTo>
                  <a:pt x="142" y="2208"/>
                </a:lnTo>
                <a:lnTo>
                  <a:pt x="145" y="2213"/>
                </a:lnTo>
                <a:lnTo>
                  <a:pt x="142" y="2217"/>
                </a:lnTo>
                <a:lnTo>
                  <a:pt x="149" y="2222"/>
                </a:lnTo>
                <a:lnTo>
                  <a:pt x="155" y="2226"/>
                </a:lnTo>
                <a:lnTo>
                  <a:pt x="166" y="2231"/>
                </a:lnTo>
                <a:lnTo>
                  <a:pt x="176" y="2235"/>
                </a:lnTo>
                <a:lnTo>
                  <a:pt x="185" y="2240"/>
                </a:lnTo>
                <a:lnTo>
                  <a:pt x="193" y="2244"/>
                </a:lnTo>
                <a:lnTo>
                  <a:pt x="193" y="2249"/>
                </a:lnTo>
                <a:lnTo>
                  <a:pt x="191" y="2253"/>
                </a:lnTo>
                <a:lnTo>
                  <a:pt x="191" y="2258"/>
                </a:lnTo>
                <a:lnTo>
                  <a:pt x="193" y="2262"/>
                </a:lnTo>
                <a:lnTo>
                  <a:pt x="198" y="2267"/>
                </a:lnTo>
                <a:lnTo>
                  <a:pt x="204" y="2271"/>
                </a:lnTo>
                <a:lnTo>
                  <a:pt x="206" y="2276"/>
                </a:lnTo>
                <a:lnTo>
                  <a:pt x="204" y="2280"/>
                </a:lnTo>
                <a:lnTo>
                  <a:pt x="200" y="2285"/>
                </a:lnTo>
                <a:lnTo>
                  <a:pt x="189" y="2289"/>
                </a:lnTo>
                <a:lnTo>
                  <a:pt x="181" y="2294"/>
                </a:lnTo>
                <a:lnTo>
                  <a:pt x="176" y="2298"/>
                </a:lnTo>
                <a:lnTo>
                  <a:pt x="174" y="2303"/>
                </a:lnTo>
                <a:lnTo>
                  <a:pt x="172" y="2307"/>
                </a:lnTo>
                <a:lnTo>
                  <a:pt x="168" y="2312"/>
                </a:lnTo>
                <a:lnTo>
                  <a:pt x="166" y="2316"/>
                </a:lnTo>
                <a:lnTo>
                  <a:pt x="164" y="2321"/>
                </a:lnTo>
                <a:lnTo>
                  <a:pt x="157" y="2325"/>
                </a:lnTo>
                <a:lnTo>
                  <a:pt x="157" y="2330"/>
                </a:lnTo>
                <a:lnTo>
                  <a:pt x="157" y="2334"/>
                </a:lnTo>
                <a:lnTo>
                  <a:pt x="153" y="2339"/>
                </a:lnTo>
                <a:lnTo>
                  <a:pt x="151" y="2343"/>
                </a:lnTo>
                <a:lnTo>
                  <a:pt x="147" y="2348"/>
                </a:lnTo>
                <a:lnTo>
                  <a:pt x="147" y="2352"/>
                </a:lnTo>
                <a:lnTo>
                  <a:pt x="147" y="2357"/>
                </a:lnTo>
                <a:lnTo>
                  <a:pt x="147" y="2361"/>
                </a:lnTo>
                <a:lnTo>
                  <a:pt x="147" y="2366"/>
                </a:lnTo>
                <a:lnTo>
                  <a:pt x="145" y="2370"/>
                </a:lnTo>
                <a:lnTo>
                  <a:pt x="138" y="2375"/>
                </a:lnTo>
                <a:lnTo>
                  <a:pt x="132" y="2379"/>
                </a:lnTo>
                <a:lnTo>
                  <a:pt x="132" y="2384"/>
                </a:lnTo>
                <a:lnTo>
                  <a:pt x="132" y="2388"/>
                </a:lnTo>
                <a:lnTo>
                  <a:pt x="134" y="2393"/>
                </a:lnTo>
                <a:lnTo>
                  <a:pt x="136" y="2397"/>
                </a:lnTo>
                <a:lnTo>
                  <a:pt x="136" y="2402"/>
                </a:lnTo>
                <a:lnTo>
                  <a:pt x="136" y="2406"/>
                </a:lnTo>
                <a:lnTo>
                  <a:pt x="138" y="2411"/>
                </a:lnTo>
                <a:lnTo>
                  <a:pt x="138" y="2415"/>
                </a:lnTo>
                <a:lnTo>
                  <a:pt x="134" y="2420"/>
                </a:lnTo>
                <a:lnTo>
                  <a:pt x="147" y="2424"/>
                </a:lnTo>
                <a:lnTo>
                  <a:pt x="210" y="2429"/>
                </a:lnTo>
                <a:lnTo>
                  <a:pt x="221" y="2433"/>
                </a:lnTo>
                <a:lnTo>
                  <a:pt x="221" y="2438"/>
                </a:lnTo>
                <a:lnTo>
                  <a:pt x="221" y="2442"/>
                </a:lnTo>
                <a:lnTo>
                  <a:pt x="217" y="2447"/>
                </a:lnTo>
                <a:lnTo>
                  <a:pt x="213" y="2451"/>
                </a:lnTo>
                <a:lnTo>
                  <a:pt x="208" y="2456"/>
                </a:lnTo>
                <a:lnTo>
                  <a:pt x="204" y="2460"/>
                </a:lnTo>
                <a:lnTo>
                  <a:pt x="185" y="2465"/>
                </a:lnTo>
                <a:lnTo>
                  <a:pt x="170" y="2469"/>
                </a:lnTo>
                <a:lnTo>
                  <a:pt x="149" y="2474"/>
                </a:lnTo>
                <a:lnTo>
                  <a:pt x="108" y="2478"/>
                </a:lnTo>
                <a:lnTo>
                  <a:pt x="98" y="2483"/>
                </a:lnTo>
                <a:lnTo>
                  <a:pt x="96" y="2487"/>
                </a:lnTo>
                <a:lnTo>
                  <a:pt x="96" y="2492"/>
                </a:lnTo>
                <a:lnTo>
                  <a:pt x="100" y="2496"/>
                </a:lnTo>
                <a:lnTo>
                  <a:pt x="108" y="2501"/>
                </a:lnTo>
                <a:lnTo>
                  <a:pt x="115" y="2505"/>
                </a:lnTo>
                <a:lnTo>
                  <a:pt x="108" y="2510"/>
                </a:lnTo>
                <a:lnTo>
                  <a:pt x="108" y="2514"/>
                </a:lnTo>
                <a:lnTo>
                  <a:pt x="111" y="2519"/>
                </a:lnTo>
                <a:lnTo>
                  <a:pt x="117" y="2523"/>
                </a:lnTo>
                <a:lnTo>
                  <a:pt x="115" y="2528"/>
                </a:lnTo>
                <a:lnTo>
                  <a:pt x="123" y="2532"/>
                </a:lnTo>
                <a:lnTo>
                  <a:pt x="123" y="2537"/>
                </a:lnTo>
                <a:lnTo>
                  <a:pt x="123" y="2541"/>
                </a:lnTo>
                <a:lnTo>
                  <a:pt x="123" y="2546"/>
                </a:lnTo>
                <a:lnTo>
                  <a:pt x="121" y="2550"/>
                </a:lnTo>
                <a:lnTo>
                  <a:pt x="113" y="2555"/>
                </a:lnTo>
                <a:lnTo>
                  <a:pt x="102" y="2559"/>
                </a:lnTo>
                <a:lnTo>
                  <a:pt x="98" y="2564"/>
                </a:lnTo>
                <a:lnTo>
                  <a:pt x="89" y="2568"/>
                </a:lnTo>
                <a:lnTo>
                  <a:pt x="94" y="2573"/>
                </a:lnTo>
                <a:lnTo>
                  <a:pt x="102" y="2577"/>
                </a:lnTo>
                <a:lnTo>
                  <a:pt x="102" y="2582"/>
                </a:ln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PlaceHolder 1"/>
          <p:cNvSpPr>
            <a:spLocks noGrp="1"/>
          </p:cNvSpPr>
          <p:nvPr>
            <p:ph type="title"/>
          </p:nvPr>
        </p:nvSpPr>
        <p:spPr>
          <a:xfrm>
            <a:off x="2590560" y="151920"/>
            <a:ext cx="38098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SONIC LOG</a:t>
            </a:r>
            <a:endParaRPr b="0" lang="en-US" sz="4400" spc="-1" strike="noStrike">
              <a:solidFill>
                <a:srgbClr val="000000"/>
              </a:solidFill>
              <a:latin typeface="Times New Roman"/>
            </a:endParaRPr>
          </a:p>
        </p:txBody>
      </p:sp>
      <p:grpSp>
        <p:nvGrpSpPr>
          <p:cNvPr id="1557" name="Group 296"/>
          <p:cNvGrpSpPr/>
          <p:nvPr/>
        </p:nvGrpSpPr>
        <p:grpSpPr>
          <a:xfrm>
            <a:off x="5173560" y="4430880"/>
            <a:ext cx="1334520" cy="593280"/>
            <a:chOff x="5173560" y="4430880"/>
            <a:chExt cx="1334520" cy="593280"/>
          </a:xfrm>
        </p:grpSpPr>
        <p:sp>
          <p:nvSpPr>
            <p:cNvPr id="1558" name="Text Box 297"/>
            <p:cNvSpPr/>
            <p:nvPr/>
          </p:nvSpPr>
          <p:spPr>
            <a:xfrm>
              <a:off x="5775840" y="444348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n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a:t>
              </a:r>
              <a:endParaRPr b="0" lang="en-US" sz="1600" spc="-1" strike="noStrike">
                <a:solidFill>
                  <a:srgbClr val="000000"/>
                </a:solidFill>
                <a:latin typeface="Times New Roman"/>
              </a:endParaRPr>
            </a:p>
          </p:txBody>
        </p:sp>
        <p:sp>
          <p:nvSpPr>
            <p:cNvPr id="1559" name="Line 298"/>
            <p:cNvSpPr/>
            <p:nvPr/>
          </p:nvSpPr>
          <p:spPr>
            <a:xfrm flipH="1" flipV="1">
              <a:off x="5173560" y="4430880"/>
              <a:ext cx="612720" cy="179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0" name="Group 299"/>
          <p:cNvGrpSpPr/>
          <p:nvPr/>
        </p:nvGrpSpPr>
        <p:grpSpPr>
          <a:xfrm>
            <a:off x="4476600" y="1095480"/>
            <a:ext cx="4276800" cy="1892160"/>
            <a:chOff x="4476600" y="1095480"/>
            <a:chExt cx="4276800" cy="1892160"/>
          </a:xfrm>
        </p:grpSpPr>
        <p:sp>
          <p:nvSpPr>
            <p:cNvPr id="1561" name="Freeform 300"/>
            <p:cNvSpPr/>
            <p:nvPr/>
          </p:nvSpPr>
          <p:spPr>
            <a:xfrm>
              <a:off x="4749840" y="1200240"/>
              <a:ext cx="1747800" cy="1617480"/>
            </a:xfrm>
            <a:custGeom>
              <a:avLst/>
              <a:gdLst>
                <a:gd name="textAreaLeft" fmla="*/ 0 w 1747800"/>
                <a:gd name="textAreaRight" fmla="*/ 1748160 w 1747800"/>
                <a:gd name="textAreaTop" fmla="*/ 0 h 1617480"/>
                <a:gd name="textAreaBottom" fmla="*/ 1617840 h 1617480"/>
              </a:gdLst>
              <a:ahLst/>
              <a:rect l="textAreaLeft" t="textAreaTop" r="textAreaRight" b="textAreaBottom"/>
              <a:pathLst>
                <a:path w="1101" h="1019">
                  <a:moveTo>
                    <a:pt x="419" y="0"/>
                  </a:moveTo>
                  <a:lnTo>
                    <a:pt x="928" y="66"/>
                  </a:lnTo>
                  <a:lnTo>
                    <a:pt x="1101" y="1019"/>
                  </a:lnTo>
                  <a:lnTo>
                    <a:pt x="0" y="362"/>
                  </a:lnTo>
                  <a:lnTo>
                    <a:pt x="337" y="353"/>
                  </a:lnTo>
                  <a:lnTo>
                    <a:pt x="517" y="279"/>
                  </a:lnTo>
                  <a:lnTo>
                    <a:pt x="542" y="107"/>
                  </a:lnTo>
                  <a:lnTo>
                    <a:pt x="419"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Oval 301"/>
            <p:cNvSpPr/>
            <p:nvPr/>
          </p:nvSpPr>
          <p:spPr>
            <a:xfrm>
              <a:off x="6002280" y="1528920"/>
              <a:ext cx="2751120" cy="14587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3" name="Line 302"/>
            <p:cNvSpPr/>
            <p:nvPr/>
          </p:nvSpPr>
          <p:spPr>
            <a:xfrm flipH="1" flipV="1">
              <a:off x="5310000" y="1147320"/>
              <a:ext cx="2360520" cy="405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Oval 303"/>
            <p:cNvSpPr/>
            <p:nvPr/>
          </p:nvSpPr>
          <p:spPr>
            <a:xfrm>
              <a:off x="4476600" y="1095480"/>
              <a:ext cx="1122480" cy="691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5" name="Line 304"/>
            <p:cNvSpPr/>
            <p:nvPr/>
          </p:nvSpPr>
          <p:spPr>
            <a:xfrm>
              <a:off x="4657680" y="1708200"/>
              <a:ext cx="1719360" cy="1042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66" name="Group 305"/>
            <p:cNvGrpSpPr/>
            <p:nvPr/>
          </p:nvGrpSpPr>
          <p:grpSpPr>
            <a:xfrm>
              <a:off x="6319800" y="1949400"/>
              <a:ext cx="2114640" cy="618840"/>
              <a:chOff x="6319800" y="1949400"/>
              <a:chExt cx="2114640" cy="618840"/>
            </a:xfrm>
          </p:grpSpPr>
          <p:sp>
            <p:nvSpPr>
              <p:cNvPr id="1567" name="Line 306"/>
              <p:cNvSpPr/>
              <p:nvPr/>
            </p:nvSpPr>
            <p:spPr>
              <a:xfrm>
                <a:off x="6400800" y="2258640"/>
                <a:ext cx="1954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Rectangle 307"/>
              <p:cNvSpPr/>
              <p:nvPr/>
            </p:nvSpPr>
            <p:spPr>
              <a:xfrm>
                <a:off x="7218360" y="2017440"/>
                <a:ext cx="270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T</a:t>
                </a:r>
                <a:endParaRPr b="0" lang="en-US" sz="1600" spc="-1" strike="noStrike">
                  <a:solidFill>
                    <a:srgbClr val="000000"/>
                  </a:solidFill>
                  <a:latin typeface="Times New Roman"/>
                </a:endParaRPr>
              </a:p>
            </p:txBody>
          </p:sp>
          <p:sp>
            <p:nvSpPr>
              <p:cNvPr id="1569" name="Rectangle 308"/>
              <p:cNvSpPr/>
              <p:nvPr/>
            </p:nvSpPr>
            <p:spPr>
              <a:xfrm>
                <a:off x="6562440" y="2311200"/>
                <a:ext cx="339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0</a:t>
                </a:r>
                <a:endParaRPr b="0" lang="en-US" sz="1600" spc="-1" strike="noStrike">
                  <a:solidFill>
                    <a:srgbClr val="000000"/>
                  </a:solidFill>
                  <a:latin typeface="Times New Roman"/>
                </a:endParaRPr>
              </a:p>
            </p:txBody>
          </p:sp>
          <p:sp>
            <p:nvSpPr>
              <p:cNvPr id="1570" name="Rectangle 309"/>
              <p:cNvSpPr/>
              <p:nvPr/>
            </p:nvSpPr>
            <p:spPr>
              <a:xfrm>
                <a:off x="7867440" y="23112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a:t>
                </a:r>
                <a:endParaRPr b="0" lang="en-US" sz="1600" spc="-1" strike="noStrike">
                  <a:solidFill>
                    <a:srgbClr val="000000"/>
                  </a:solidFill>
                  <a:latin typeface="Times New Roman"/>
                </a:endParaRPr>
              </a:p>
            </p:txBody>
          </p:sp>
          <p:sp>
            <p:nvSpPr>
              <p:cNvPr id="1571" name="Rectangle 310"/>
              <p:cNvSpPr/>
              <p:nvPr/>
            </p:nvSpPr>
            <p:spPr>
              <a:xfrm>
                <a:off x="6319800" y="1949400"/>
                <a:ext cx="2114640" cy="6188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2" name="Rectangle 311"/>
              <p:cNvSpPr/>
              <p:nvPr/>
            </p:nvSpPr>
            <p:spPr>
              <a:xfrm>
                <a:off x="7198560" y="2311200"/>
                <a:ext cx="360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f</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2" presetSubtype="1">
                                  <p:stCondLst>
                                    <p:cond delay="0"/>
                                  </p:stCondLst>
                                  <p:childTnLst>
                                    <p:set>
                                      <p:cBhvr>
                                        <p:cTn id="505" dur="1" fill="hold">
                                          <p:stCondLst>
                                            <p:cond delay="0"/>
                                          </p:stCondLst>
                                        </p:cTn>
                                        <p:tgtEl>
                                          <p:spTgt spid="1556"/>
                                        </p:tgtEl>
                                        <p:attrNameLst>
                                          <p:attrName>style.visibility</p:attrName>
                                        </p:attrNameLst>
                                      </p:cBhvr>
                                      <p:to>
                                        <p:strVal val="visible"/>
                                      </p:to>
                                    </p:set>
                                    <p:anim calcmode="lin" valueType="num">
                                      <p:cBhvr additive="base">
                                        <p:cTn id="506" dur="500" fill="hold"/>
                                        <p:tgtEl>
                                          <p:spTgt spid="1556"/>
                                        </p:tgtEl>
                                        <p:attrNameLst>
                                          <p:attrName>ppt_x</p:attrName>
                                        </p:attrNameLst>
                                      </p:cBhvr>
                                      <p:tavLst>
                                        <p:tav tm="0">
                                          <p:val>
                                            <p:strVal val="#ppt_x"/>
                                          </p:val>
                                        </p:tav>
                                        <p:tav tm="100000">
                                          <p:val>
                                            <p:strVal val="#ppt_x"/>
                                          </p:val>
                                        </p:tav>
                                      </p:tavLst>
                                    </p:anim>
                                    <p:anim calcmode="lin" valueType="num">
                                      <p:cBhvr additive="base">
                                        <p:cTn id="507" dur="500" fill="hold"/>
                                        <p:tgtEl>
                                          <p:spTgt spid="1556"/>
                                        </p:tgtEl>
                                        <p:attrNameLst>
                                          <p:attrName>ppt_y</p:attrName>
                                        </p:attrNameLst>
                                      </p:cBhvr>
                                      <p:tavLst>
                                        <p:tav tm="0">
                                          <p:val>
                                            <p:strVal val="0-#ppt_h/2"/>
                                          </p:val>
                                        </p:tav>
                                        <p:tav tm="100000">
                                          <p:val>
                                            <p:strVal val="#ppt_y"/>
                                          </p:val>
                                        </p:tav>
                                      </p:tavLst>
                                    </p:anim>
                                  </p:childTnLst>
                                </p:cTn>
                              </p:par>
                            </p:childTnLst>
                          </p:cTn>
                        </p:par>
                        <p:par>
                          <p:cTn id="508" fill="hold">
                            <p:stCondLst>
                              <p:cond delay="500"/>
                            </p:stCondLst>
                            <p:childTnLst>
                              <p:par>
                                <p:cTn id="509" nodeType="afterEffect" fill="hold" presetClass="entr" presetID="17" presetSubtype="1">
                                  <p:stCondLst>
                                    <p:cond delay="0"/>
                                  </p:stCondLst>
                                  <p:childTnLst>
                                    <p:set>
                                      <p:cBhvr>
                                        <p:cTn id="510" dur="1" fill="hold">
                                          <p:stCondLst>
                                            <p:cond delay="0"/>
                                          </p:stCondLst>
                                        </p:cTn>
                                        <p:tgtEl>
                                          <p:spTgt spid="1263"/>
                                        </p:tgtEl>
                                        <p:attrNameLst>
                                          <p:attrName>style.visibility</p:attrName>
                                        </p:attrNameLst>
                                      </p:cBhvr>
                                      <p:to>
                                        <p:strVal val="visible"/>
                                      </p:to>
                                    </p:set>
                                    <p:anim calcmode="lin" valueType="num">
                                      <p:cBhvr additive="repl">
                                        <p:cTn id="511" dur="500" fill="hold"/>
                                        <p:tgtEl>
                                          <p:spTgt spid="1263"/>
                                        </p:tgtEl>
                                        <p:attrNameLst>
                                          <p:attrName>ppt_x</p:attrName>
                                        </p:attrNameLst>
                                      </p:cBhvr>
                                      <p:tavLst>
                                        <p:tav tm="0">
                                          <p:val>
                                            <p:strVal val="#ppt_x"/>
                                          </p:val>
                                        </p:tav>
                                        <p:tav tm="100000">
                                          <p:val>
                                            <p:strVal val="#ppt_x"/>
                                          </p:val>
                                        </p:tav>
                                      </p:tavLst>
                                    </p:anim>
                                    <p:anim calcmode="lin" valueType="num">
                                      <p:cBhvr additive="repl">
                                        <p:cTn id="512" dur="500" fill="hold"/>
                                        <p:tgtEl>
                                          <p:spTgt spid="1263"/>
                                        </p:tgtEl>
                                        <p:attrNameLst>
                                          <p:attrName>ppt_y</p:attrName>
                                        </p:attrNameLst>
                                      </p:cBhvr>
                                      <p:tavLst>
                                        <p:tav tm="0">
                                          <p:val>
                                            <p:strVal val="#ppt_y-#ppt_h/2"/>
                                          </p:val>
                                        </p:tav>
                                        <p:tav tm="100000">
                                          <p:val>
                                            <p:strVal val="#ppt_y"/>
                                          </p:val>
                                        </p:tav>
                                      </p:tavLst>
                                    </p:anim>
                                    <p:anim calcmode="lin" valueType="num">
                                      <p:cBhvr additive="repl">
                                        <p:cTn id="513" dur="500" fill="hold"/>
                                        <p:tgtEl>
                                          <p:spTgt spid="1263"/>
                                        </p:tgtEl>
                                        <p:attrNameLst>
                                          <p:attrName>ppt_w</p:attrName>
                                        </p:attrNameLst>
                                      </p:cBhvr>
                                      <p:tavLst>
                                        <p:tav tm="0">
                                          <p:val>
                                            <p:strVal val="#ppt_w"/>
                                          </p:val>
                                        </p:tav>
                                        <p:tav tm="100000">
                                          <p:val>
                                            <p:strVal val="#ppt_w"/>
                                          </p:val>
                                        </p:tav>
                                      </p:tavLst>
                                    </p:anim>
                                    <p:anim calcmode="lin" valueType="num">
                                      <p:cBhvr additive="repl">
                                        <p:cTn id="514" dur="500" fill="hold"/>
                                        <p:tgtEl>
                                          <p:spTgt spid="1263"/>
                                        </p:tgtEl>
                                        <p:attrNameLst>
                                          <p:attrName>ppt_h</p:attrName>
                                        </p:attrNameLst>
                                      </p:cBhvr>
                                      <p:tavLst>
                                        <p:tav tm="0">
                                          <p:val>
                                            <p:fltVal val="0"/>
                                          </p:val>
                                        </p:tav>
                                        <p:tav tm="100000">
                                          <p:val>
                                            <p:strVal val="#ppt_h"/>
                                          </p:val>
                                        </p:tav>
                                      </p:tavLst>
                                    </p:anim>
                                  </p:childTnLst>
                                </p:cTn>
                              </p:par>
                            </p:childTnLst>
                          </p:cTn>
                        </p:par>
                        <p:par>
                          <p:cTn id="515" fill="hold">
                            <p:stCondLst>
                              <p:cond delay="1000"/>
                            </p:stCondLst>
                            <p:childTnLst>
                              <p:par>
                                <p:cTn id="516" nodeType="afterEffect" fill="hold" presetClass="entr" presetID="22" presetSubtype="4">
                                  <p:stCondLst>
                                    <p:cond delay="0"/>
                                  </p:stCondLst>
                                  <p:childTnLst>
                                    <p:set>
                                      <p:cBhvr>
                                        <p:cTn id="517" dur="1" fill="hold">
                                          <p:stCondLst>
                                            <p:cond delay="0"/>
                                          </p:stCondLst>
                                        </p:cTn>
                                        <p:tgtEl>
                                          <p:spTgt spid="1555"/>
                                        </p:tgtEl>
                                        <p:attrNameLst>
                                          <p:attrName>style.visibility</p:attrName>
                                        </p:attrNameLst>
                                      </p:cBhvr>
                                      <p:to>
                                        <p:strVal val="visible"/>
                                      </p:to>
                                    </p:set>
                                    <p:animEffect filter="wipe(down)" transition="in">
                                      <p:cBhvr additive="repl">
                                        <p:cTn id="518" dur="500"/>
                                        <p:tgtEl>
                                          <p:spTgt spid="1555"/>
                                        </p:tgtEl>
                                      </p:cBhvr>
                                    </p:animEffect>
                                  </p:childTnLst>
                                </p:cTn>
                              </p:par>
                            </p:childTnLst>
                          </p:cTn>
                        </p:par>
                        <p:par>
                          <p:cTn id="519" fill="hold">
                            <p:stCondLst>
                              <p:cond delay="1500"/>
                            </p:stCondLst>
                            <p:childTnLst>
                              <p:par>
                                <p:cTn id="520" nodeType="afterEffect" fill="hold" presetClass="entr" presetID="1">
                                  <p:stCondLst>
                                    <p:cond delay="0"/>
                                  </p:stCondLst>
                                  <p:childTnLst>
                                    <p:set>
                                      <p:cBhvr>
                                        <p:cTn id="521" dur="1" fill="hold">
                                          <p:stCondLst>
                                            <p:cond delay="499"/>
                                          </p:stCondLst>
                                        </p:cTn>
                                        <p:tgtEl>
                                          <p:spTgt spid="1557"/>
                                        </p:tgtEl>
                                        <p:attrNameLst>
                                          <p:attrName>style.visibility</p:attrName>
                                        </p:attrNameLst>
                                      </p:cBhvr>
                                      <p:to>
                                        <p:strVal val="visible"/>
                                      </p:to>
                                    </p:set>
                                  </p:childTnLst>
                                </p:cTn>
                              </p:par>
                            </p:childTnLst>
                          </p:cTn>
                        </p:par>
                        <p:par>
                          <p:cTn id="522" fill="hold">
                            <p:stCondLst>
                              <p:cond delay="2000"/>
                            </p:stCondLst>
                            <p:childTnLst>
                              <p:par>
                                <p:cTn id="523" nodeType="afterEffect" fill="hold" presetClass="entr" presetID="22" presetSubtype="8">
                                  <p:stCondLst>
                                    <p:cond delay="0"/>
                                  </p:stCondLst>
                                  <p:childTnLst>
                                    <p:set>
                                      <p:cBhvr>
                                        <p:cTn id="524" dur="1" fill="hold">
                                          <p:stCondLst>
                                            <p:cond delay="0"/>
                                          </p:stCondLst>
                                        </p:cTn>
                                        <p:tgtEl>
                                          <p:spTgt spid="1560"/>
                                        </p:tgtEl>
                                        <p:attrNameLst>
                                          <p:attrName>style.visibility</p:attrName>
                                        </p:attrNameLst>
                                      </p:cBhvr>
                                      <p:to>
                                        <p:strVal val="visible"/>
                                      </p:to>
                                    </p:set>
                                    <p:animEffect filter="wipe(left)" transition="in">
                                      <p:cBhvr additive="repl">
                                        <p:cTn id="525" dur="500"/>
                                        <p:tgtEl>
                                          <p:spTgt spid="1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0" y="304920"/>
            <a:ext cx="9144000" cy="304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EXAMPLE</a:t>
            </a:r>
            <a:br>
              <a:rPr sz="4400"/>
            </a:br>
            <a:br>
              <a:rPr sz="4400"/>
            </a:br>
            <a:r>
              <a:rPr b="0" lang="en-US" sz="3600" spc="-1" strike="noStrike">
                <a:solidFill>
                  <a:srgbClr val="000000"/>
                </a:solidFill>
                <a:latin typeface="Arial"/>
              </a:rPr>
              <a:t>Calculating Rock Porosity </a:t>
            </a:r>
            <a:br>
              <a:rPr sz="3600"/>
            </a:br>
            <a:r>
              <a:rPr b="0" lang="en-US" sz="3600" spc="-1" strike="noStrike">
                <a:solidFill>
                  <a:srgbClr val="000000"/>
                </a:solidFill>
                <a:latin typeface="Arial"/>
              </a:rPr>
              <a:t>Using an Acoustic Log</a:t>
            </a:r>
            <a:endParaRPr b="0" lang="en-US" sz="3600" spc="-1" strike="noStrike">
              <a:solidFill>
                <a:srgbClr val="000000"/>
              </a:solidFill>
              <a:latin typeface="Times New Roman"/>
            </a:endParaRPr>
          </a:p>
        </p:txBody>
      </p:sp>
      <p:sp>
        <p:nvSpPr>
          <p:cNvPr id="1574" name="Text Box 3"/>
          <p:cNvSpPr/>
          <p:nvPr/>
        </p:nvSpPr>
        <p:spPr>
          <a:xfrm>
            <a:off x="380880" y="3452760"/>
            <a:ext cx="7848720" cy="316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culate the porosity for the following intervals.  The measured travel times from the log are summarized in the following table.</a:t>
            </a:r>
            <a:endParaRPr b="0" lang="en-US" sz="1600" spc="-1" strike="noStrike">
              <a:solidFill>
                <a:srgbClr val="000000"/>
              </a:solidFill>
              <a:latin typeface="Times New Roman"/>
            </a:endParaRPr>
          </a:p>
          <a:p>
            <a:pPr>
              <a:lnSpc>
                <a:spcPct val="100000"/>
              </a:lnSpc>
              <a:spcBef>
                <a:spcPts val="7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depth of 10,820’, accoustic log reads travel time of 65 </a:t>
            </a:r>
            <a:r>
              <a:rPr b="0" lang="en-US" sz="2000" spc="-1" strike="noStrike">
                <a:solidFill>
                  <a:srgbClr val="000000"/>
                </a:solidFill>
                <a:latin typeface="Symbol"/>
                <a:ea typeface="Symbol"/>
              </a:rPr>
              <a:t></a:t>
            </a:r>
            <a:r>
              <a:rPr b="0" lang="en-US" sz="2000" spc="-1" strike="noStrike">
                <a:solidFill>
                  <a:srgbClr val="000000"/>
                </a:solidFill>
                <a:latin typeface="Arial"/>
              </a:rPr>
              <a:t>s/ft.</a:t>
            </a:r>
            <a:endParaRPr b="0" lang="en-US" sz="2000" spc="-1" strike="noStrike">
              <a:solidFill>
                <a:srgbClr val="000000"/>
              </a:solidFill>
              <a:latin typeface="Times New Roman"/>
            </a:endParaRPr>
          </a:p>
          <a:p>
            <a:pPr>
              <a:lnSpc>
                <a:spcPct val="100000"/>
              </a:lnSpc>
              <a:spcBef>
                <a:spcPts val="7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porosity.  Does this value agree with density and neutron logs?</a:t>
            </a:r>
            <a:endParaRPr b="0" lang="en-US" sz="2000" spc="-1" strike="noStrike">
              <a:solidFill>
                <a:srgbClr val="000000"/>
              </a:solidFill>
              <a:latin typeface="Times New Roman"/>
            </a:endParaRPr>
          </a:p>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 a matrix travel time, </a:t>
            </a:r>
            <a:r>
              <a:rPr b="0" lang="en-US" sz="1600" spc="-1" strike="noStrike">
                <a:solidFill>
                  <a:srgbClr val="000000"/>
                </a:solidFill>
                <a:latin typeface="Symbol"/>
                <a:ea typeface="Symbol"/>
              </a:rPr>
              <a:t></a:t>
            </a:r>
            <a:r>
              <a:rPr b="0" lang="en-US" sz="1600" spc="-1" strike="noStrike">
                <a:solidFill>
                  <a:srgbClr val="000000"/>
                </a:solidFill>
                <a:latin typeface="Arial"/>
              </a:rPr>
              <a:t>t</a:t>
            </a:r>
            <a:r>
              <a:rPr b="0" lang="en-US" sz="1600" spc="-1" strike="noStrike" baseline="-25000">
                <a:solidFill>
                  <a:srgbClr val="000000"/>
                </a:solidFill>
                <a:latin typeface="Arial"/>
              </a:rPr>
              <a:t>m</a:t>
            </a:r>
            <a:r>
              <a:rPr b="0" lang="en-US" sz="1600" spc="-1" strike="noStrike">
                <a:solidFill>
                  <a:srgbClr val="000000"/>
                </a:solidFill>
                <a:latin typeface="Arial"/>
              </a:rPr>
              <a:t> = 51.6 </a:t>
            </a:r>
            <a:r>
              <a:rPr b="0" lang="en-US" sz="1600" spc="-1" strike="noStrike">
                <a:solidFill>
                  <a:srgbClr val="000000"/>
                </a:solidFill>
                <a:latin typeface="Symbol"/>
                <a:ea typeface="Symbol"/>
              </a:rPr>
              <a:t></a:t>
            </a:r>
            <a:r>
              <a:rPr b="0" lang="en-US" sz="1600" spc="-1" strike="noStrike">
                <a:solidFill>
                  <a:srgbClr val="000000"/>
                </a:solidFill>
                <a:latin typeface="Arial"/>
              </a:rPr>
              <a:t>sec/ft.  In addition, assume the formation is saturated with water having a </a:t>
            </a:r>
            <a:r>
              <a:rPr b="0" lang="en-US" sz="1600" spc="-1" strike="noStrike">
                <a:solidFill>
                  <a:srgbClr val="000000"/>
                </a:solidFill>
                <a:latin typeface="Symbol"/>
                <a:ea typeface="Symbol"/>
              </a:rPr>
              <a:t></a:t>
            </a:r>
            <a:r>
              <a:rPr b="0" lang="en-US" sz="1600" spc="-1" strike="noStrike">
                <a:solidFill>
                  <a:srgbClr val="000000"/>
                </a:solidFill>
                <a:latin typeface="Arial"/>
              </a:rPr>
              <a:t>t</a:t>
            </a:r>
            <a:r>
              <a:rPr b="0" lang="en-US" sz="1600" spc="-1" strike="noStrike" baseline="-25000">
                <a:solidFill>
                  <a:srgbClr val="000000"/>
                </a:solidFill>
                <a:latin typeface="Arial"/>
              </a:rPr>
              <a:t>f</a:t>
            </a:r>
            <a:r>
              <a:rPr b="0" lang="en-US" sz="1600" spc="-1" strike="noStrike">
                <a:solidFill>
                  <a:srgbClr val="000000"/>
                </a:solidFill>
                <a:latin typeface="Arial"/>
              </a:rPr>
              <a:t> = 189.0 </a:t>
            </a:r>
            <a:r>
              <a:rPr b="0" lang="en-US" sz="1600" spc="-1" strike="noStrike">
                <a:solidFill>
                  <a:srgbClr val="000000"/>
                </a:solidFill>
                <a:latin typeface="Symbol"/>
                <a:ea typeface="Symbol"/>
              </a:rPr>
              <a:t></a:t>
            </a:r>
            <a:r>
              <a:rPr b="0" lang="en-US" sz="1600" spc="-1" strike="noStrike">
                <a:solidFill>
                  <a:srgbClr val="000000"/>
                </a:solidFill>
                <a:latin typeface="Arial"/>
              </a:rPr>
              <a:t>sec/f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entr" presetID="5" presetSubtype="10">
                                  <p:stCondLst>
                                    <p:cond delay="0"/>
                                  </p:stCondLst>
                                  <p:childTnLst>
                                    <p:set>
                                      <p:cBhvr>
                                        <p:cTn id="531" dur="1" fill="hold">
                                          <p:stCondLst>
                                            <p:cond delay="0"/>
                                          </p:stCondLst>
                                        </p:cTn>
                                        <p:tgtEl>
                                          <p:spTgt spid="1573"/>
                                        </p:tgtEl>
                                        <p:attrNameLst>
                                          <p:attrName>style.visibility</p:attrName>
                                        </p:attrNameLst>
                                      </p:cBhvr>
                                      <p:to>
                                        <p:strVal val="visible"/>
                                      </p:to>
                                    </p:set>
                                    <p:animEffect filter="checkerboard(across)" transition="in">
                                      <p:cBhvr additive="repl">
                                        <p:cTn id="532" dur="500"/>
                                        <p:tgtEl>
                                          <p:spTgt spid="1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5" name="Group 2"/>
          <p:cNvGrpSpPr/>
          <p:nvPr/>
        </p:nvGrpSpPr>
        <p:grpSpPr>
          <a:xfrm>
            <a:off x="2057400" y="1143000"/>
            <a:ext cx="5116680" cy="5410080"/>
            <a:chOff x="2057400" y="1143000"/>
            <a:chExt cx="5116680" cy="5410080"/>
          </a:xfrm>
        </p:grpSpPr>
        <p:sp>
          <p:nvSpPr>
            <p:cNvPr id="1576" name="Rectangle 3"/>
            <p:cNvSpPr/>
            <p:nvPr/>
          </p:nvSpPr>
          <p:spPr>
            <a:xfrm>
              <a:off x="2057400" y="1263600"/>
              <a:ext cx="5116680" cy="8636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7" name="Rectangle 4"/>
            <p:cNvSpPr/>
            <p:nvPr/>
          </p:nvSpPr>
          <p:spPr>
            <a:xfrm>
              <a:off x="2057400" y="2127240"/>
              <a:ext cx="5116680" cy="44258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8" name="Line 5"/>
            <p:cNvSpPr/>
            <p:nvPr/>
          </p:nvSpPr>
          <p:spPr>
            <a:xfrm>
              <a:off x="2583000" y="139860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9" name="Line 6"/>
            <p:cNvSpPr/>
            <p:nvPr/>
          </p:nvSpPr>
          <p:spPr>
            <a:xfrm>
              <a:off x="2583000" y="1400040"/>
              <a:ext cx="912600" cy="3240"/>
            </a:xfrm>
            <a:prstGeom prst="line">
              <a:avLst/>
            </a:prstGeom>
            <a:ln w="0">
              <a:solidFill>
                <a:srgbClr val="0000ff"/>
              </a:solidFill>
              <a:prstDash val="sysDash"/>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80" name="Line 7"/>
            <p:cNvSpPr/>
            <p:nvPr/>
          </p:nvSpPr>
          <p:spPr>
            <a:xfrm>
              <a:off x="2583000" y="140508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1" name="Line 8"/>
            <p:cNvSpPr/>
            <p:nvPr/>
          </p:nvSpPr>
          <p:spPr>
            <a:xfrm>
              <a:off x="2583000" y="140652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2" name="Line 9"/>
            <p:cNvSpPr/>
            <p:nvPr/>
          </p:nvSpPr>
          <p:spPr>
            <a:xfrm>
              <a:off x="2583000" y="1409760"/>
              <a:ext cx="912600" cy="1440"/>
            </a:xfrm>
            <a:prstGeom prst="line">
              <a:avLst/>
            </a:prstGeom>
            <a:ln w="0">
              <a:solidFill>
                <a:srgbClr val="0000ff"/>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3" name="Line 10"/>
            <p:cNvSpPr/>
            <p:nvPr/>
          </p:nvSpPr>
          <p:spPr>
            <a:xfrm>
              <a:off x="2583000" y="1411200"/>
              <a:ext cx="912600" cy="1800"/>
            </a:xfrm>
            <a:prstGeom prst="line">
              <a:avLst/>
            </a:prstGeom>
            <a:ln w="0">
              <a:solidFill>
                <a:srgbClr val="0000ff"/>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4" name="Rectangle 11"/>
            <p:cNvSpPr/>
            <p:nvPr/>
          </p:nvSpPr>
          <p:spPr>
            <a:xfrm>
              <a:off x="2910960" y="128916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GRC</a:t>
              </a:r>
              <a:endParaRPr b="0" lang="en-US" sz="1000" spc="-1" strike="noStrike">
                <a:solidFill>
                  <a:srgbClr val="000000"/>
                </a:solidFill>
                <a:latin typeface="Times New Roman"/>
              </a:endParaRPr>
            </a:p>
          </p:txBody>
        </p:sp>
        <p:sp>
          <p:nvSpPr>
            <p:cNvPr id="1585" name="Rectangle 12"/>
            <p:cNvSpPr/>
            <p:nvPr/>
          </p:nvSpPr>
          <p:spPr>
            <a:xfrm>
              <a:off x="2585520" y="1406520"/>
              <a:ext cx="77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a:t>
              </a:r>
              <a:endParaRPr b="0" lang="en-US" sz="1000" spc="-1" strike="noStrike">
                <a:solidFill>
                  <a:srgbClr val="000000"/>
                </a:solidFill>
                <a:latin typeface="Times New Roman"/>
              </a:endParaRPr>
            </a:p>
          </p:txBody>
        </p:sp>
        <p:sp>
          <p:nvSpPr>
            <p:cNvPr id="1586" name="Rectangle 13"/>
            <p:cNvSpPr/>
            <p:nvPr/>
          </p:nvSpPr>
          <p:spPr>
            <a:xfrm>
              <a:off x="323640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50</a:t>
              </a:r>
              <a:endParaRPr b="0" lang="en-US" sz="1000" spc="-1" strike="noStrike">
                <a:solidFill>
                  <a:srgbClr val="000000"/>
                </a:solidFill>
                <a:latin typeface="Times New Roman"/>
              </a:endParaRPr>
            </a:p>
          </p:txBody>
        </p:sp>
        <p:sp>
          <p:nvSpPr>
            <p:cNvPr id="1587" name="Rectangle 14"/>
            <p:cNvSpPr/>
            <p:nvPr/>
          </p:nvSpPr>
          <p:spPr>
            <a:xfrm>
              <a:off x="254484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8" name="Line 15"/>
            <p:cNvSpPr/>
            <p:nvPr/>
          </p:nvSpPr>
          <p:spPr>
            <a:xfrm>
              <a:off x="2583000" y="1693800"/>
              <a:ext cx="912600" cy="1800"/>
            </a:xfrm>
            <a:prstGeom prst="line">
              <a:avLst/>
            </a:prstGeom>
            <a:ln w="2844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9" name="Rectangle 16"/>
            <p:cNvSpPr/>
            <p:nvPr/>
          </p:nvSpPr>
          <p:spPr>
            <a:xfrm>
              <a:off x="2910960" y="15778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PC</a:t>
              </a:r>
              <a:endParaRPr b="0" lang="en-US" sz="1000" spc="-1" strike="noStrike">
                <a:solidFill>
                  <a:srgbClr val="000000"/>
                </a:solidFill>
                <a:latin typeface="Times New Roman"/>
              </a:endParaRPr>
            </a:p>
          </p:txBody>
        </p:sp>
        <p:sp>
          <p:nvSpPr>
            <p:cNvPr id="1590" name="Rectangle 17"/>
            <p:cNvSpPr/>
            <p:nvPr/>
          </p:nvSpPr>
          <p:spPr>
            <a:xfrm>
              <a:off x="2943000" y="169380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V</a:t>
              </a:r>
              <a:endParaRPr b="0" lang="en-US" sz="1000" spc="-1" strike="noStrike">
                <a:solidFill>
                  <a:srgbClr val="000000"/>
                </a:solidFill>
                <a:latin typeface="Times New Roman"/>
              </a:endParaRPr>
            </a:p>
          </p:txBody>
        </p:sp>
        <p:sp>
          <p:nvSpPr>
            <p:cNvPr id="1591" name="Rectangle 18"/>
            <p:cNvSpPr/>
            <p:nvPr/>
          </p:nvSpPr>
          <p:spPr>
            <a:xfrm>
              <a:off x="2585520" y="169380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60</a:t>
              </a:r>
              <a:endParaRPr b="0" lang="en-US" sz="1000" spc="-1" strike="noStrike">
                <a:solidFill>
                  <a:srgbClr val="000000"/>
                </a:solidFill>
                <a:latin typeface="Times New Roman"/>
              </a:endParaRPr>
            </a:p>
          </p:txBody>
        </p:sp>
        <p:sp>
          <p:nvSpPr>
            <p:cNvPr id="1592" name="Rectangle 19"/>
            <p:cNvSpPr/>
            <p:nvPr/>
          </p:nvSpPr>
          <p:spPr>
            <a:xfrm>
              <a:off x="3301920" y="169380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40</a:t>
              </a:r>
              <a:endParaRPr b="0" lang="en-US" sz="1000" spc="-1" strike="noStrike">
                <a:solidFill>
                  <a:srgbClr val="000000"/>
                </a:solidFill>
                <a:latin typeface="Times New Roman"/>
              </a:endParaRPr>
            </a:p>
          </p:txBody>
        </p:sp>
        <p:sp>
          <p:nvSpPr>
            <p:cNvPr id="1593" name="Rectangle 20"/>
            <p:cNvSpPr/>
            <p:nvPr/>
          </p:nvSpPr>
          <p:spPr>
            <a:xfrm>
              <a:off x="2544840" y="157968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4" name="Line 21"/>
            <p:cNvSpPr/>
            <p:nvPr/>
          </p:nvSpPr>
          <p:spPr>
            <a:xfrm>
              <a:off x="2583000" y="197496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5" name="Line 22"/>
            <p:cNvSpPr/>
            <p:nvPr/>
          </p:nvSpPr>
          <p:spPr>
            <a:xfrm>
              <a:off x="2583000" y="197640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6" name="Line 23"/>
            <p:cNvSpPr/>
            <p:nvPr/>
          </p:nvSpPr>
          <p:spPr>
            <a:xfrm>
              <a:off x="2583000" y="197964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7" name="Line 24"/>
            <p:cNvSpPr/>
            <p:nvPr/>
          </p:nvSpPr>
          <p:spPr>
            <a:xfrm>
              <a:off x="2583000" y="198108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8" name="Line 25"/>
            <p:cNvSpPr/>
            <p:nvPr/>
          </p:nvSpPr>
          <p:spPr>
            <a:xfrm>
              <a:off x="2583000" y="1984320"/>
              <a:ext cx="91260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9" name="Line 26"/>
            <p:cNvSpPr/>
            <p:nvPr/>
          </p:nvSpPr>
          <p:spPr>
            <a:xfrm>
              <a:off x="2583000" y="1986120"/>
              <a:ext cx="91260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0" name="Rectangle 27"/>
            <p:cNvSpPr/>
            <p:nvPr/>
          </p:nvSpPr>
          <p:spPr>
            <a:xfrm>
              <a:off x="2879280" y="18637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CAL</a:t>
              </a:r>
              <a:endParaRPr b="0" lang="en-US" sz="1000" spc="-1" strike="noStrike">
                <a:solidFill>
                  <a:srgbClr val="000000"/>
                </a:solidFill>
                <a:latin typeface="Times New Roman"/>
              </a:endParaRPr>
            </a:p>
          </p:txBody>
        </p:sp>
        <p:sp>
          <p:nvSpPr>
            <p:cNvPr id="1601" name="Rectangle 28"/>
            <p:cNvSpPr/>
            <p:nvPr/>
          </p:nvSpPr>
          <p:spPr>
            <a:xfrm>
              <a:off x="2585520" y="1981080"/>
              <a:ext cx="77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6</a:t>
              </a:r>
              <a:endParaRPr b="0" lang="en-US" sz="1000" spc="-1" strike="noStrike">
                <a:solidFill>
                  <a:srgbClr val="000000"/>
                </a:solidFill>
                <a:latin typeface="Times New Roman"/>
              </a:endParaRPr>
            </a:p>
          </p:txBody>
        </p:sp>
        <p:sp>
          <p:nvSpPr>
            <p:cNvPr id="1602" name="Rectangle 29"/>
            <p:cNvSpPr/>
            <p:nvPr/>
          </p:nvSpPr>
          <p:spPr>
            <a:xfrm>
              <a:off x="3301920" y="198108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6</a:t>
              </a:r>
              <a:endParaRPr b="0" lang="en-US" sz="1000" spc="-1" strike="noStrike">
                <a:solidFill>
                  <a:srgbClr val="000000"/>
                </a:solidFill>
                <a:latin typeface="Times New Roman"/>
              </a:endParaRPr>
            </a:p>
          </p:txBody>
        </p:sp>
        <p:sp>
          <p:nvSpPr>
            <p:cNvPr id="1603" name="Rectangle 30"/>
            <p:cNvSpPr/>
            <p:nvPr/>
          </p:nvSpPr>
          <p:spPr>
            <a:xfrm>
              <a:off x="2544840" y="1866960"/>
              <a:ext cx="993600" cy="230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4" name="Line 31"/>
            <p:cNvSpPr/>
            <p:nvPr/>
          </p:nvSpPr>
          <p:spPr>
            <a:xfrm>
              <a:off x="3660840" y="139860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5" name="Line 32"/>
            <p:cNvSpPr/>
            <p:nvPr/>
          </p:nvSpPr>
          <p:spPr>
            <a:xfrm>
              <a:off x="3660840" y="1400040"/>
              <a:ext cx="1271520" cy="3240"/>
            </a:xfrm>
            <a:prstGeom prst="line">
              <a:avLst/>
            </a:prstGeom>
            <a:ln w="0">
              <a:solidFill>
                <a:srgbClr val="008000"/>
              </a:solidFill>
              <a:prstDash val="sysDash"/>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06" name="Line 33"/>
            <p:cNvSpPr/>
            <p:nvPr/>
          </p:nvSpPr>
          <p:spPr>
            <a:xfrm>
              <a:off x="3660840" y="140508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7" name="Line 34"/>
            <p:cNvSpPr/>
            <p:nvPr/>
          </p:nvSpPr>
          <p:spPr>
            <a:xfrm>
              <a:off x="3660840" y="140652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8" name="Line 35"/>
            <p:cNvSpPr/>
            <p:nvPr/>
          </p:nvSpPr>
          <p:spPr>
            <a:xfrm>
              <a:off x="3660840" y="1409760"/>
              <a:ext cx="1271520" cy="1440"/>
            </a:xfrm>
            <a:prstGeom prst="line">
              <a:avLst/>
            </a:prstGeom>
            <a:ln w="0">
              <a:solidFill>
                <a:srgbClr val="008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9" name="Line 36"/>
            <p:cNvSpPr/>
            <p:nvPr/>
          </p:nvSpPr>
          <p:spPr>
            <a:xfrm>
              <a:off x="3660840" y="1411200"/>
              <a:ext cx="1271520" cy="1800"/>
            </a:xfrm>
            <a:prstGeom prst="line">
              <a:avLst/>
            </a:prstGeom>
            <a:ln w="0">
              <a:solidFill>
                <a:srgbClr val="008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0" name="Rectangle 37"/>
            <p:cNvSpPr/>
            <p:nvPr/>
          </p:nvSpPr>
          <p:spPr>
            <a:xfrm>
              <a:off x="4134960" y="128916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LDC</a:t>
              </a:r>
              <a:endParaRPr b="0" lang="en-US" sz="1000" spc="-1" strike="noStrike">
                <a:solidFill>
                  <a:srgbClr val="000000"/>
                </a:solidFill>
                <a:latin typeface="Times New Roman"/>
              </a:endParaRPr>
            </a:p>
          </p:txBody>
        </p:sp>
        <p:sp>
          <p:nvSpPr>
            <p:cNvPr id="1611" name="Rectangle 38"/>
            <p:cNvSpPr/>
            <p:nvPr/>
          </p:nvSpPr>
          <p:spPr>
            <a:xfrm>
              <a:off x="366516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1612" name="Rectangle 39"/>
            <p:cNvSpPr/>
            <p:nvPr/>
          </p:nvSpPr>
          <p:spPr>
            <a:xfrm>
              <a:off x="467316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1613" name="Rectangle 40"/>
            <p:cNvSpPr/>
            <p:nvPr/>
          </p:nvSpPr>
          <p:spPr>
            <a:xfrm>
              <a:off x="3621240" y="1292400"/>
              <a:ext cx="135396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4" name="Line 41"/>
            <p:cNvSpPr/>
            <p:nvPr/>
          </p:nvSpPr>
          <p:spPr>
            <a:xfrm>
              <a:off x="3660840" y="168588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5" name="Line 42"/>
            <p:cNvSpPr/>
            <p:nvPr/>
          </p:nvSpPr>
          <p:spPr>
            <a:xfrm>
              <a:off x="3660840" y="168912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6" name="Line 43"/>
            <p:cNvSpPr/>
            <p:nvPr/>
          </p:nvSpPr>
          <p:spPr>
            <a:xfrm>
              <a:off x="3660840" y="169056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7" name="Line 44"/>
            <p:cNvSpPr/>
            <p:nvPr/>
          </p:nvSpPr>
          <p:spPr>
            <a:xfrm>
              <a:off x="3660840" y="1693800"/>
              <a:ext cx="1271520" cy="1800"/>
            </a:xfrm>
            <a:prstGeom prst="line">
              <a:avLst/>
            </a:prstGeom>
            <a:ln w="0">
              <a:solidFill>
                <a:srgbClr val="ff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8" name="Line 45"/>
            <p:cNvSpPr/>
            <p:nvPr/>
          </p:nvSpPr>
          <p:spPr>
            <a:xfrm>
              <a:off x="3660840" y="169560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9" name="Line 46"/>
            <p:cNvSpPr/>
            <p:nvPr/>
          </p:nvSpPr>
          <p:spPr>
            <a:xfrm>
              <a:off x="3660840" y="1700280"/>
              <a:ext cx="1271520" cy="1440"/>
            </a:xfrm>
            <a:prstGeom prst="line">
              <a:avLst/>
            </a:prstGeom>
            <a:ln w="0">
              <a:solidFill>
                <a:srgbClr val="ff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0" name="Rectangle 47"/>
            <p:cNvSpPr/>
            <p:nvPr/>
          </p:nvSpPr>
          <p:spPr>
            <a:xfrm>
              <a:off x="4167000" y="15778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NC</a:t>
              </a:r>
              <a:endParaRPr b="0" lang="en-US" sz="1000" spc="-1" strike="noStrike">
                <a:solidFill>
                  <a:srgbClr val="000000"/>
                </a:solidFill>
                <a:latin typeface="Times New Roman"/>
              </a:endParaRPr>
            </a:p>
          </p:txBody>
        </p:sp>
        <p:sp>
          <p:nvSpPr>
            <p:cNvPr id="1621" name="Rectangle 48"/>
            <p:cNvSpPr/>
            <p:nvPr/>
          </p:nvSpPr>
          <p:spPr>
            <a:xfrm>
              <a:off x="3665160" y="169380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1622" name="Rectangle 49"/>
            <p:cNvSpPr/>
            <p:nvPr/>
          </p:nvSpPr>
          <p:spPr>
            <a:xfrm>
              <a:off x="4673160" y="169380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1623" name="Rectangle 50"/>
            <p:cNvSpPr/>
            <p:nvPr/>
          </p:nvSpPr>
          <p:spPr>
            <a:xfrm>
              <a:off x="3621240" y="1579680"/>
              <a:ext cx="135396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4" name="Line 51"/>
            <p:cNvSpPr/>
            <p:nvPr/>
          </p:nvSpPr>
          <p:spPr>
            <a:xfrm>
              <a:off x="3660840" y="1981080"/>
              <a:ext cx="1271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5" name="Rectangle 52"/>
            <p:cNvSpPr/>
            <p:nvPr/>
          </p:nvSpPr>
          <p:spPr>
            <a:xfrm>
              <a:off x="4105080" y="186372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LLCF</a:t>
              </a:r>
              <a:endParaRPr b="0" lang="en-US" sz="1000" spc="-1" strike="noStrike">
                <a:solidFill>
                  <a:srgbClr val="000000"/>
                </a:solidFill>
                <a:latin typeface="Times New Roman"/>
              </a:endParaRPr>
            </a:p>
          </p:txBody>
        </p:sp>
        <p:sp>
          <p:nvSpPr>
            <p:cNvPr id="1626" name="Rectangle 53"/>
            <p:cNvSpPr/>
            <p:nvPr/>
          </p:nvSpPr>
          <p:spPr>
            <a:xfrm>
              <a:off x="3665160" y="19810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2</a:t>
              </a:r>
              <a:endParaRPr b="0" lang="en-US" sz="1000" spc="-1" strike="noStrike">
                <a:solidFill>
                  <a:srgbClr val="000000"/>
                </a:solidFill>
                <a:latin typeface="Times New Roman"/>
              </a:endParaRPr>
            </a:p>
          </p:txBody>
        </p:sp>
        <p:sp>
          <p:nvSpPr>
            <p:cNvPr id="1627" name="Rectangle 54"/>
            <p:cNvSpPr/>
            <p:nvPr/>
          </p:nvSpPr>
          <p:spPr>
            <a:xfrm>
              <a:off x="4673160" y="198108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00</a:t>
              </a:r>
              <a:endParaRPr b="0" lang="en-US" sz="1000" spc="-1" strike="noStrike">
                <a:solidFill>
                  <a:srgbClr val="000000"/>
                </a:solidFill>
                <a:latin typeface="Times New Roman"/>
              </a:endParaRPr>
            </a:p>
          </p:txBody>
        </p:sp>
        <p:sp>
          <p:nvSpPr>
            <p:cNvPr id="1628" name="Rectangle 55"/>
            <p:cNvSpPr/>
            <p:nvPr/>
          </p:nvSpPr>
          <p:spPr>
            <a:xfrm>
              <a:off x="3621240" y="1866960"/>
              <a:ext cx="1353960" cy="230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9" name="Line 56"/>
            <p:cNvSpPr/>
            <p:nvPr/>
          </p:nvSpPr>
          <p:spPr>
            <a:xfrm>
              <a:off x="5097600" y="1406520"/>
              <a:ext cx="912600" cy="1440"/>
            </a:xfrm>
            <a:prstGeom prst="line">
              <a:avLst/>
            </a:prstGeom>
            <a:ln w="0">
              <a:solidFill>
                <a:srgbClr val="00808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0" name="Rectangle 57"/>
            <p:cNvSpPr/>
            <p:nvPr/>
          </p:nvSpPr>
          <p:spPr>
            <a:xfrm>
              <a:off x="5392440" y="128916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RHOC</a:t>
              </a:r>
              <a:endParaRPr b="0" lang="en-US" sz="1000" spc="-1" strike="noStrike">
                <a:solidFill>
                  <a:srgbClr val="000000"/>
                </a:solidFill>
                <a:latin typeface="Times New Roman"/>
              </a:endParaRPr>
            </a:p>
          </p:txBody>
        </p:sp>
        <p:sp>
          <p:nvSpPr>
            <p:cNvPr id="1631" name="Rectangle 58"/>
            <p:cNvSpPr/>
            <p:nvPr/>
          </p:nvSpPr>
          <p:spPr>
            <a:xfrm>
              <a:off x="510012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95</a:t>
              </a:r>
              <a:endParaRPr b="0" lang="en-US" sz="1000" spc="-1" strike="noStrike">
                <a:solidFill>
                  <a:srgbClr val="000000"/>
                </a:solidFill>
                <a:latin typeface="Times New Roman"/>
              </a:endParaRPr>
            </a:p>
          </p:txBody>
        </p:sp>
        <p:sp>
          <p:nvSpPr>
            <p:cNvPr id="1632" name="Rectangle 59"/>
            <p:cNvSpPr/>
            <p:nvPr/>
          </p:nvSpPr>
          <p:spPr>
            <a:xfrm>
              <a:off x="568764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2.95</a:t>
              </a:r>
              <a:endParaRPr b="0" lang="en-US" sz="1000" spc="-1" strike="noStrike">
                <a:solidFill>
                  <a:srgbClr val="000000"/>
                </a:solidFill>
                <a:latin typeface="Times New Roman"/>
              </a:endParaRPr>
            </a:p>
          </p:txBody>
        </p:sp>
        <p:sp>
          <p:nvSpPr>
            <p:cNvPr id="1633" name="Rectangle 60"/>
            <p:cNvSpPr/>
            <p:nvPr/>
          </p:nvSpPr>
          <p:spPr>
            <a:xfrm>
              <a:off x="505944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4" name="Line 61"/>
            <p:cNvSpPr/>
            <p:nvPr/>
          </p:nvSpPr>
          <p:spPr>
            <a:xfrm>
              <a:off x="5097600" y="168588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5" name="Line 62"/>
            <p:cNvSpPr/>
            <p:nvPr/>
          </p:nvSpPr>
          <p:spPr>
            <a:xfrm>
              <a:off x="5097600" y="168912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6" name="Line 63"/>
            <p:cNvSpPr/>
            <p:nvPr/>
          </p:nvSpPr>
          <p:spPr>
            <a:xfrm>
              <a:off x="5097600" y="169056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7" name="Line 64"/>
            <p:cNvSpPr/>
            <p:nvPr/>
          </p:nvSpPr>
          <p:spPr>
            <a:xfrm>
              <a:off x="5097600" y="1693800"/>
              <a:ext cx="9126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8" name="Line 65"/>
            <p:cNvSpPr/>
            <p:nvPr/>
          </p:nvSpPr>
          <p:spPr>
            <a:xfrm>
              <a:off x="5097600" y="169560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9" name="Line 66"/>
            <p:cNvSpPr/>
            <p:nvPr/>
          </p:nvSpPr>
          <p:spPr>
            <a:xfrm>
              <a:off x="5097600" y="1700280"/>
              <a:ext cx="912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0" name="Rectangle 67"/>
            <p:cNvSpPr/>
            <p:nvPr/>
          </p:nvSpPr>
          <p:spPr>
            <a:xfrm>
              <a:off x="5362200" y="157788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CNLLC</a:t>
              </a:r>
              <a:endParaRPr b="0" lang="en-US" sz="1000" spc="-1" strike="noStrike">
                <a:solidFill>
                  <a:srgbClr val="000000"/>
                </a:solidFill>
                <a:latin typeface="Times New Roman"/>
              </a:endParaRPr>
            </a:p>
          </p:txBody>
        </p:sp>
        <p:sp>
          <p:nvSpPr>
            <p:cNvPr id="1641" name="Rectangle 68"/>
            <p:cNvSpPr/>
            <p:nvPr/>
          </p:nvSpPr>
          <p:spPr>
            <a:xfrm>
              <a:off x="5100120" y="169380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45</a:t>
              </a:r>
              <a:endParaRPr b="0" lang="en-US" sz="1000" spc="-1" strike="noStrike">
                <a:solidFill>
                  <a:srgbClr val="000000"/>
                </a:solidFill>
                <a:latin typeface="Times New Roman"/>
              </a:endParaRPr>
            </a:p>
          </p:txBody>
        </p:sp>
        <p:sp>
          <p:nvSpPr>
            <p:cNvPr id="1642" name="Rectangle 69"/>
            <p:cNvSpPr/>
            <p:nvPr/>
          </p:nvSpPr>
          <p:spPr>
            <a:xfrm>
              <a:off x="5625720" y="169380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15</a:t>
              </a:r>
              <a:endParaRPr b="0" lang="en-US" sz="1000" spc="-1" strike="noStrike">
                <a:solidFill>
                  <a:srgbClr val="000000"/>
                </a:solidFill>
                <a:latin typeface="Times New Roman"/>
              </a:endParaRPr>
            </a:p>
          </p:txBody>
        </p:sp>
        <p:sp>
          <p:nvSpPr>
            <p:cNvPr id="1643" name="Rectangle 70"/>
            <p:cNvSpPr/>
            <p:nvPr/>
          </p:nvSpPr>
          <p:spPr>
            <a:xfrm>
              <a:off x="5059440" y="157968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4" name="Line 71"/>
            <p:cNvSpPr/>
            <p:nvPr/>
          </p:nvSpPr>
          <p:spPr>
            <a:xfrm>
              <a:off x="6175440" y="1406520"/>
              <a:ext cx="9126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5" name="Rectangle 72"/>
            <p:cNvSpPr/>
            <p:nvPr/>
          </p:nvSpPr>
          <p:spPr>
            <a:xfrm>
              <a:off x="6534000" y="128916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T</a:t>
              </a:r>
              <a:endParaRPr b="0" lang="en-US" sz="1000" spc="-1" strike="noStrike">
                <a:solidFill>
                  <a:srgbClr val="000000"/>
                </a:solidFill>
                <a:latin typeface="Times New Roman"/>
              </a:endParaRPr>
            </a:p>
          </p:txBody>
        </p:sp>
        <p:sp>
          <p:nvSpPr>
            <p:cNvPr id="1646" name="Rectangle 73"/>
            <p:cNvSpPr/>
            <p:nvPr/>
          </p:nvSpPr>
          <p:spPr>
            <a:xfrm>
              <a:off x="6470280" y="14065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us/f</a:t>
              </a:r>
              <a:endParaRPr b="0" lang="en-US" sz="1000" spc="-1" strike="noStrike">
                <a:solidFill>
                  <a:srgbClr val="000000"/>
                </a:solidFill>
                <a:latin typeface="Times New Roman"/>
              </a:endParaRPr>
            </a:p>
          </p:txBody>
        </p:sp>
        <p:sp>
          <p:nvSpPr>
            <p:cNvPr id="1647" name="Rectangle 74"/>
            <p:cNvSpPr/>
            <p:nvPr/>
          </p:nvSpPr>
          <p:spPr>
            <a:xfrm>
              <a:off x="6178320" y="140652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50</a:t>
              </a:r>
              <a:endParaRPr b="0" lang="en-US" sz="1000" spc="-1" strike="noStrike">
                <a:solidFill>
                  <a:srgbClr val="000000"/>
                </a:solidFill>
                <a:latin typeface="Times New Roman"/>
              </a:endParaRPr>
            </a:p>
          </p:txBody>
        </p:sp>
        <p:sp>
          <p:nvSpPr>
            <p:cNvPr id="1648" name="Rectangle 75"/>
            <p:cNvSpPr/>
            <p:nvPr/>
          </p:nvSpPr>
          <p:spPr>
            <a:xfrm>
              <a:off x="6892560" y="140652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50</a:t>
              </a:r>
              <a:endParaRPr b="0" lang="en-US" sz="1000" spc="-1" strike="noStrike">
                <a:solidFill>
                  <a:srgbClr val="000000"/>
                </a:solidFill>
                <a:latin typeface="Times New Roman"/>
              </a:endParaRPr>
            </a:p>
          </p:txBody>
        </p:sp>
        <p:sp>
          <p:nvSpPr>
            <p:cNvPr id="1649" name="Rectangle 76"/>
            <p:cNvSpPr/>
            <p:nvPr/>
          </p:nvSpPr>
          <p:spPr>
            <a:xfrm>
              <a:off x="6135840" y="129240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0" name="Rectangle 77"/>
            <p:cNvSpPr/>
            <p:nvPr/>
          </p:nvSpPr>
          <p:spPr>
            <a:xfrm>
              <a:off x="2084040" y="1143000"/>
              <a:ext cx="1067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01) BONANZA 1</a:t>
              </a:r>
              <a:endParaRPr b="0" lang="en-US" sz="1000" spc="-1" strike="noStrike">
                <a:solidFill>
                  <a:srgbClr val="000000"/>
                </a:solidFill>
                <a:latin typeface="Times New Roman"/>
              </a:endParaRPr>
            </a:p>
          </p:txBody>
        </p:sp>
        <p:sp>
          <p:nvSpPr>
            <p:cNvPr id="1651" name="Line 78"/>
            <p:cNvSpPr/>
            <p:nvPr/>
          </p:nvSpPr>
          <p:spPr>
            <a:xfrm>
              <a:off x="250344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2" name="Line 79"/>
            <p:cNvSpPr/>
            <p:nvPr/>
          </p:nvSpPr>
          <p:spPr>
            <a:xfrm>
              <a:off x="2503440" y="243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3" name="Line 80"/>
            <p:cNvSpPr/>
            <p:nvPr/>
          </p:nvSpPr>
          <p:spPr>
            <a:xfrm>
              <a:off x="2503440" y="25844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4" name="Line 81"/>
            <p:cNvSpPr/>
            <p:nvPr/>
          </p:nvSpPr>
          <p:spPr>
            <a:xfrm>
              <a:off x="2503440" y="273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5" name="Line 82"/>
            <p:cNvSpPr/>
            <p:nvPr/>
          </p:nvSpPr>
          <p:spPr>
            <a:xfrm>
              <a:off x="2503440" y="28908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6" name="Line 83"/>
            <p:cNvSpPr/>
            <p:nvPr/>
          </p:nvSpPr>
          <p:spPr>
            <a:xfrm>
              <a:off x="250344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7" name="Line 84"/>
            <p:cNvSpPr/>
            <p:nvPr/>
          </p:nvSpPr>
          <p:spPr>
            <a:xfrm>
              <a:off x="2503440" y="31939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8" name="Line 85"/>
            <p:cNvSpPr/>
            <p:nvPr/>
          </p:nvSpPr>
          <p:spPr>
            <a:xfrm>
              <a:off x="2503440" y="33465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9" name="Line 86"/>
            <p:cNvSpPr/>
            <p:nvPr/>
          </p:nvSpPr>
          <p:spPr>
            <a:xfrm>
              <a:off x="2503440" y="34988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0" name="Line 87"/>
            <p:cNvSpPr/>
            <p:nvPr/>
          </p:nvSpPr>
          <p:spPr>
            <a:xfrm>
              <a:off x="2503440" y="36529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1" name="Line 88"/>
            <p:cNvSpPr/>
            <p:nvPr/>
          </p:nvSpPr>
          <p:spPr>
            <a:xfrm>
              <a:off x="250344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2" name="Line 89"/>
            <p:cNvSpPr/>
            <p:nvPr/>
          </p:nvSpPr>
          <p:spPr>
            <a:xfrm>
              <a:off x="2503440" y="395748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3" name="Line 90"/>
            <p:cNvSpPr/>
            <p:nvPr/>
          </p:nvSpPr>
          <p:spPr>
            <a:xfrm>
              <a:off x="2503440" y="41101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4" name="Line 91"/>
            <p:cNvSpPr/>
            <p:nvPr/>
          </p:nvSpPr>
          <p:spPr>
            <a:xfrm>
              <a:off x="2503440" y="42624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5" name="Line 92"/>
            <p:cNvSpPr/>
            <p:nvPr/>
          </p:nvSpPr>
          <p:spPr>
            <a:xfrm>
              <a:off x="2503440" y="441468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66" name="Line 93"/>
            <p:cNvSpPr/>
            <p:nvPr/>
          </p:nvSpPr>
          <p:spPr>
            <a:xfrm>
              <a:off x="250344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7" name="Line 94"/>
            <p:cNvSpPr/>
            <p:nvPr/>
          </p:nvSpPr>
          <p:spPr>
            <a:xfrm>
              <a:off x="2503440" y="47214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8" name="Line 95"/>
            <p:cNvSpPr/>
            <p:nvPr/>
          </p:nvSpPr>
          <p:spPr>
            <a:xfrm>
              <a:off x="2503440" y="487368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9" name="Line 96"/>
            <p:cNvSpPr/>
            <p:nvPr/>
          </p:nvSpPr>
          <p:spPr>
            <a:xfrm>
              <a:off x="2503440" y="50259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0" name="Line 97"/>
            <p:cNvSpPr/>
            <p:nvPr/>
          </p:nvSpPr>
          <p:spPr>
            <a:xfrm>
              <a:off x="2503440" y="51786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1" name="Line 98"/>
            <p:cNvSpPr/>
            <p:nvPr/>
          </p:nvSpPr>
          <p:spPr>
            <a:xfrm>
              <a:off x="250344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2" name="Line 99"/>
            <p:cNvSpPr/>
            <p:nvPr/>
          </p:nvSpPr>
          <p:spPr>
            <a:xfrm>
              <a:off x="2503440" y="54849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3" name="Line 100"/>
            <p:cNvSpPr/>
            <p:nvPr/>
          </p:nvSpPr>
          <p:spPr>
            <a:xfrm>
              <a:off x="2503440" y="56372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4" name="Line 101"/>
            <p:cNvSpPr/>
            <p:nvPr/>
          </p:nvSpPr>
          <p:spPr>
            <a:xfrm>
              <a:off x="2503440" y="578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5" name="Line 102"/>
            <p:cNvSpPr/>
            <p:nvPr/>
          </p:nvSpPr>
          <p:spPr>
            <a:xfrm>
              <a:off x="2503440" y="594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6" name="Line 103"/>
            <p:cNvSpPr/>
            <p:nvPr/>
          </p:nvSpPr>
          <p:spPr>
            <a:xfrm>
              <a:off x="250344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77" name="Line 104"/>
            <p:cNvSpPr/>
            <p:nvPr/>
          </p:nvSpPr>
          <p:spPr>
            <a:xfrm>
              <a:off x="2503440" y="624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8" name="Line 105"/>
            <p:cNvSpPr/>
            <p:nvPr/>
          </p:nvSpPr>
          <p:spPr>
            <a:xfrm>
              <a:off x="2503440" y="64008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9" name="Line 106"/>
            <p:cNvSpPr/>
            <p:nvPr/>
          </p:nvSpPr>
          <p:spPr>
            <a:xfrm>
              <a:off x="250344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0" name="Line 107"/>
            <p:cNvSpPr/>
            <p:nvPr/>
          </p:nvSpPr>
          <p:spPr>
            <a:xfrm>
              <a:off x="250344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1" name="Line 108"/>
            <p:cNvSpPr/>
            <p:nvPr/>
          </p:nvSpPr>
          <p:spPr>
            <a:xfrm>
              <a:off x="250344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2" name="Line 109"/>
            <p:cNvSpPr/>
            <p:nvPr/>
          </p:nvSpPr>
          <p:spPr>
            <a:xfrm>
              <a:off x="250344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3" name="Line 110"/>
            <p:cNvSpPr/>
            <p:nvPr/>
          </p:nvSpPr>
          <p:spPr>
            <a:xfrm>
              <a:off x="250344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4" name="Line 111"/>
            <p:cNvSpPr/>
            <p:nvPr/>
          </p:nvSpPr>
          <p:spPr>
            <a:xfrm>
              <a:off x="250344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85" name="Line 112"/>
            <p:cNvSpPr/>
            <p:nvPr/>
          </p:nvSpPr>
          <p:spPr>
            <a:xfrm>
              <a:off x="250344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6" name="Line 113"/>
            <p:cNvSpPr/>
            <p:nvPr/>
          </p:nvSpPr>
          <p:spPr>
            <a:xfrm>
              <a:off x="250344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7" name="Line 114"/>
            <p:cNvSpPr/>
            <p:nvPr/>
          </p:nvSpPr>
          <p:spPr>
            <a:xfrm>
              <a:off x="250344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8" name="Line 115"/>
            <p:cNvSpPr/>
            <p:nvPr/>
          </p:nvSpPr>
          <p:spPr>
            <a:xfrm>
              <a:off x="358308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Line 116"/>
            <p:cNvSpPr/>
            <p:nvPr/>
          </p:nvSpPr>
          <p:spPr>
            <a:xfrm>
              <a:off x="3583080" y="24321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0" name="Line 117"/>
            <p:cNvSpPr/>
            <p:nvPr/>
          </p:nvSpPr>
          <p:spPr>
            <a:xfrm>
              <a:off x="3583080" y="25844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1" name="Line 118"/>
            <p:cNvSpPr/>
            <p:nvPr/>
          </p:nvSpPr>
          <p:spPr>
            <a:xfrm>
              <a:off x="3583080" y="27385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2" name="Line 119"/>
            <p:cNvSpPr/>
            <p:nvPr/>
          </p:nvSpPr>
          <p:spPr>
            <a:xfrm>
              <a:off x="3583080" y="28908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Line 120"/>
            <p:cNvSpPr/>
            <p:nvPr/>
          </p:nvSpPr>
          <p:spPr>
            <a:xfrm>
              <a:off x="3583080" y="30416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4" name="Line 121"/>
            <p:cNvSpPr/>
            <p:nvPr/>
          </p:nvSpPr>
          <p:spPr>
            <a:xfrm>
              <a:off x="3583080" y="31939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Line 122"/>
            <p:cNvSpPr/>
            <p:nvPr/>
          </p:nvSpPr>
          <p:spPr>
            <a:xfrm>
              <a:off x="3583080" y="33465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6" name="Line 123"/>
            <p:cNvSpPr/>
            <p:nvPr/>
          </p:nvSpPr>
          <p:spPr>
            <a:xfrm>
              <a:off x="3583080" y="34988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7" name="Line 124"/>
            <p:cNvSpPr/>
            <p:nvPr/>
          </p:nvSpPr>
          <p:spPr>
            <a:xfrm>
              <a:off x="3583080" y="36529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8" name="Line 125"/>
            <p:cNvSpPr/>
            <p:nvPr/>
          </p:nvSpPr>
          <p:spPr>
            <a:xfrm>
              <a:off x="358308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9" name="Line 126"/>
            <p:cNvSpPr/>
            <p:nvPr/>
          </p:nvSpPr>
          <p:spPr>
            <a:xfrm>
              <a:off x="3583080" y="395748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Line 127"/>
            <p:cNvSpPr/>
            <p:nvPr/>
          </p:nvSpPr>
          <p:spPr>
            <a:xfrm>
              <a:off x="3583080" y="41101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1" name="Line 128"/>
            <p:cNvSpPr/>
            <p:nvPr/>
          </p:nvSpPr>
          <p:spPr>
            <a:xfrm>
              <a:off x="3583080" y="42624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Line 129"/>
            <p:cNvSpPr/>
            <p:nvPr/>
          </p:nvSpPr>
          <p:spPr>
            <a:xfrm>
              <a:off x="3583080" y="441468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3" name="Line 130"/>
            <p:cNvSpPr/>
            <p:nvPr/>
          </p:nvSpPr>
          <p:spPr>
            <a:xfrm>
              <a:off x="3583080" y="45687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Line 131"/>
            <p:cNvSpPr/>
            <p:nvPr/>
          </p:nvSpPr>
          <p:spPr>
            <a:xfrm>
              <a:off x="3583080" y="47214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5" name="Line 132"/>
            <p:cNvSpPr/>
            <p:nvPr/>
          </p:nvSpPr>
          <p:spPr>
            <a:xfrm>
              <a:off x="3583080" y="487368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6" name="Line 133"/>
            <p:cNvSpPr/>
            <p:nvPr/>
          </p:nvSpPr>
          <p:spPr>
            <a:xfrm>
              <a:off x="3583080" y="50259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Line 134"/>
            <p:cNvSpPr/>
            <p:nvPr/>
          </p:nvSpPr>
          <p:spPr>
            <a:xfrm>
              <a:off x="3583080" y="51786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8" name="Line 135"/>
            <p:cNvSpPr/>
            <p:nvPr/>
          </p:nvSpPr>
          <p:spPr>
            <a:xfrm>
              <a:off x="358308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Line 136"/>
            <p:cNvSpPr/>
            <p:nvPr/>
          </p:nvSpPr>
          <p:spPr>
            <a:xfrm>
              <a:off x="3583080" y="54849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0" name="Line 137"/>
            <p:cNvSpPr/>
            <p:nvPr/>
          </p:nvSpPr>
          <p:spPr>
            <a:xfrm>
              <a:off x="3583080" y="56372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1" name="Line 138"/>
            <p:cNvSpPr/>
            <p:nvPr/>
          </p:nvSpPr>
          <p:spPr>
            <a:xfrm>
              <a:off x="3583080" y="578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2" name="Line 139"/>
            <p:cNvSpPr/>
            <p:nvPr/>
          </p:nvSpPr>
          <p:spPr>
            <a:xfrm>
              <a:off x="3583080" y="594216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3" name="Line 140"/>
            <p:cNvSpPr/>
            <p:nvPr/>
          </p:nvSpPr>
          <p:spPr>
            <a:xfrm>
              <a:off x="3583080" y="609444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4" name="Line 141"/>
            <p:cNvSpPr/>
            <p:nvPr/>
          </p:nvSpPr>
          <p:spPr>
            <a:xfrm>
              <a:off x="3583080" y="624852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5" name="Line 142"/>
            <p:cNvSpPr/>
            <p:nvPr/>
          </p:nvSpPr>
          <p:spPr>
            <a:xfrm>
              <a:off x="3583080" y="640080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6" name="Line 143"/>
            <p:cNvSpPr/>
            <p:nvPr/>
          </p:nvSpPr>
          <p:spPr>
            <a:xfrm>
              <a:off x="358308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7" name="Line 144"/>
            <p:cNvSpPr/>
            <p:nvPr/>
          </p:nvSpPr>
          <p:spPr>
            <a:xfrm>
              <a:off x="3583080" y="3041640"/>
              <a:ext cx="143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8" name="Line 145"/>
            <p:cNvSpPr/>
            <p:nvPr/>
          </p:nvSpPr>
          <p:spPr>
            <a:xfrm>
              <a:off x="358308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9" name="Line 146"/>
            <p:cNvSpPr/>
            <p:nvPr/>
          </p:nvSpPr>
          <p:spPr>
            <a:xfrm>
              <a:off x="3583080" y="456876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0" name="Line 147"/>
            <p:cNvSpPr/>
            <p:nvPr/>
          </p:nvSpPr>
          <p:spPr>
            <a:xfrm>
              <a:off x="358308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Line 148"/>
            <p:cNvSpPr/>
            <p:nvPr/>
          </p:nvSpPr>
          <p:spPr>
            <a:xfrm>
              <a:off x="3583080" y="6094440"/>
              <a:ext cx="14349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Line 149"/>
            <p:cNvSpPr/>
            <p:nvPr/>
          </p:nvSpPr>
          <p:spPr>
            <a:xfrm>
              <a:off x="3583080" y="22795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Line 150"/>
            <p:cNvSpPr/>
            <p:nvPr/>
          </p:nvSpPr>
          <p:spPr>
            <a:xfrm>
              <a:off x="3583080" y="380520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4" name="Line 151"/>
            <p:cNvSpPr/>
            <p:nvPr/>
          </p:nvSpPr>
          <p:spPr>
            <a:xfrm>
              <a:off x="3583080" y="5332320"/>
              <a:ext cx="143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Line 152"/>
            <p:cNvSpPr/>
            <p:nvPr/>
          </p:nvSpPr>
          <p:spPr>
            <a:xfrm>
              <a:off x="501804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6" name="Line 153"/>
            <p:cNvSpPr/>
            <p:nvPr/>
          </p:nvSpPr>
          <p:spPr>
            <a:xfrm>
              <a:off x="5018040" y="243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7" name="Line 154"/>
            <p:cNvSpPr/>
            <p:nvPr/>
          </p:nvSpPr>
          <p:spPr>
            <a:xfrm>
              <a:off x="5018040" y="25844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8" name="Line 155"/>
            <p:cNvSpPr/>
            <p:nvPr/>
          </p:nvSpPr>
          <p:spPr>
            <a:xfrm>
              <a:off x="5018040" y="273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9" name="Line 156"/>
            <p:cNvSpPr/>
            <p:nvPr/>
          </p:nvSpPr>
          <p:spPr>
            <a:xfrm>
              <a:off x="5018040" y="28908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Line 157"/>
            <p:cNvSpPr/>
            <p:nvPr/>
          </p:nvSpPr>
          <p:spPr>
            <a:xfrm>
              <a:off x="501804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1" name="Line 158"/>
            <p:cNvSpPr/>
            <p:nvPr/>
          </p:nvSpPr>
          <p:spPr>
            <a:xfrm>
              <a:off x="5018040" y="31939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Line 159"/>
            <p:cNvSpPr/>
            <p:nvPr/>
          </p:nvSpPr>
          <p:spPr>
            <a:xfrm>
              <a:off x="5018040" y="33465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3" name="Line 160"/>
            <p:cNvSpPr/>
            <p:nvPr/>
          </p:nvSpPr>
          <p:spPr>
            <a:xfrm>
              <a:off x="5018040" y="34988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4" name="Line 161"/>
            <p:cNvSpPr/>
            <p:nvPr/>
          </p:nvSpPr>
          <p:spPr>
            <a:xfrm>
              <a:off x="5018040" y="36529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5" name="Line 162"/>
            <p:cNvSpPr/>
            <p:nvPr/>
          </p:nvSpPr>
          <p:spPr>
            <a:xfrm>
              <a:off x="501804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6" name="Line 163"/>
            <p:cNvSpPr/>
            <p:nvPr/>
          </p:nvSpPr>
          <p:spPr>
            <a:xfrm>
              <a:off x="5018040" y="395748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7" name="Line 164"/>
            <p:cNvSpPr/>
            <p:nvPr/>
          </p:nvSpPr>
          <p:spPr>
            <a:xfrm>
              <a:off x="5018040" y="41101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8" name="Line 165"/>
            <p:cNvSpPr/>
            <p:nvPr/>
          </p:nvSpPr>
          <p:spPr>
            <a:xfrm>
              <a:off x="5018040" y="42624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9" name="Line 166"/>
            <p:cNvSpPr/>
            <p:nvPr/>
          </p:nvSpPr>
          <p:spPr>
            <a:xfrm>
              <a:off x="5018040" y="441468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40" name="Line 167"/>
            <p:cNvSpPr/>
            <p:nvPr/>
          </p:nvSpPr>
          <p:spPr>
            <a:xfrm>
              <a:off x="501804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1" name="Line 168"/>
            <p:cNvSpPr/>
            <p:nvPr/>
          </p:nvSpPr>
          <p:spPr>
            <a:xfrm>
              <a:off x="5018040" y="47214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2" name="Line 169"/>
            <p:cNvSpPr/>
            <p:nvPr/>
          </p:nvSpPr>
          <p:spPr>
            <a:xfrm>
              <a:off x="5018040" y="487368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3" name="Line 170"/>
            <p:cNvSpPr/>
            <p:nvPr/>
          </p:nvSpPr>
          <p:spPr>
            <a:xfrm>
              <a:off x="5018040" y="50259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4" name="Line 171"/>
            <p:cNvSpPr/>
            <p:nvPr/>
          </p:nvSpPr>
          <p:spPr>
            <a:xfrm>
              <a:off x="5018040" y="51786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5" name="Line 172"/>
            <p:cNvSpPr/>
            <p:nvPr/>
          </p:nvSpPr>
          <p:spPr>
            <a:xfrm>
              <a:off x="501804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6" name="Line 173"/>
            <p:cNvSpPr/>
            <p:nvPr/>
          </p:nvSpPr>
          <p:spPr>
            <a:xfrm>
              <a:off x="5018040" y="54849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7" name="Line 174"/>
            <p:cNvSpPr/>
            <p:nvPr/>
          </p:nvSpPr>
          <p:spPr>
            <a:xfrm>
              <a:off x="5018040" y="56372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8" name="Line 175"/>
            <p:cNvSpPr/>
            <p:nvPr/>
          </p:nvSpPr>
          <p:spPr>
            <a:xfrm>
              <a:off x="5018040" y="578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9" name="Line 176"/>
            <p:cNvSpPr/>
            <p:nvPr/>
          </p:nvSpPr>
          <p:spPr>
            <a:xfrm>
              <a:off x="5018040" y="594216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0" name="Line 177"/>
            <p:cNvSpPr/>
            <p:nvPr/>
          </p:nvSpPr>
          <p:spPr>
            <a:xfrm>
              <a:off x="501804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51" name="Line 178"/>
            <p:cNvSpPr/>
            <p:nvPr/>
          </p:nvSpPr>
          <p:spPr>
            <a:xfrm>
              <a:off x="5018040" y="624852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2" name="Line 179"/>
            <p:cNvSpPr/>
            <p:nvPr/>
          </p:nvSpPr>
          <p:spPr>
            <a:xfrm>
              <a:off x="5018040" y="640080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3" name="Line 180"/>
            <p:cNvSpPr/>
            <p:nvPr/>
          </p:nvSpPr>
          <p:spPr>
            <a:xfrm>
              <a:off x="501804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4" name="Line 181"/>
            <p:cNvSpPr/>
            <p:nvPr/>
          </p:nvSpPr>
          <p:spPr>
            <a:xfrm>
              <a:off x="5018040" y="3041640"/>
              <a:ext cx="1079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5" name="Line 182"/>
            <p:cNvSpPr/>
            <p:nvPr/>
          </p:nvSpPr>
          <p:spPr>
            <a:xfrm>
              <a:off x="501804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6" name="Line 183"/>
            <p:cNvSpPr/>
            <p:nvPr/>
          </p:nvSpPr>
          <p:spPr>
            <a:xfrm>
              <a:off x="5018040" y="456876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7" name="Line 184"/>
            <p:cNvSpPr/>
            <p:nvPr/>
          </p:nvSpPr>
          <p:spPr>
            <a:xfrm>
              <a:off x="501804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8" name="Line 185"/>
            <p:cNvSpPr/>
            <p:nvPr/>
          </p:nvSpPr>
          <p:spPr>
            <a:xfrm>
              <a:off x="5018040" y="6094440"/>
              <a:ext cx="10796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59" name="Line 186"/>
            <p:cNvSpPr/>
            <p:nvPr/>
          </p:nvSpPr>
          <p:spPr>
            <a:xfrm>
              <a:off x="5018040" y="22795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0" name="Line 187"/>
            <p:cNvSpPr/>
            <p:nvPr/>
          </p:nvSpPr>
          <p:spPr>
            <a:xfrm>
              <a:off x="5018040" y="380520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1" name="Line 188"/>
            <p:cNvSpPr/>
            <p:nvPr/>
          </p:nvSpPr>
          <p:spPr>
            <a:xfrm>
              <a:off x="5018040" y="5332320"/>
              <a:ext cx="1079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2" name="Line 189"/>
            <p:cNvSpPr/>
            <p:nvPr/>
          </p:nvSpPr>
          <p:spPr>
            <a:xfrm>
              <a:off x="6097680" y="22795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3" name="Line 190"/>
            <p:cNvSpPr/>
            <p:nvPr/>
          </p:nvSpPr>
          <p:spPr>
            <a:xfrm>
              <a:off x="6097680" y="24321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4" name="Line 191"/>
            <p:cNvSpPr/>
            <p:nvPr/>
          </p:nvSpPr>
          <p:spPr>
            <a:xfrm>
              <a:off x="6097680" y="25844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5" name="Line 192"/>
            <p:cNvSpPr/>
            <p:nvPr/>
          </p:nvSpPr>
          <p:spPr>
            <a:xfrm>
              <a:off x="6097680" y="27385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6" name="Line 193"/>
            <p:cNvSpPr/>
            <p:nvPr/>
          </p:nvSpPr>
          <p:spPr>
            <a:xfrm>
              <a:off x="6097680" y="28908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7" name="Line 194"/>
            <p:cNvSpPr/>
            <p:nvPr/>
          </p:nvSpPr>
          <p:spPr>
            <a:xfrm>
              <a:off x="6097680" y="30416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8" name="Line 195"/>
            <p:cNvSpPr/>
            <p:nvPr/>
          </p:nvSpPr>
          <p:spPr>
            <a:xfrm>
              <a:off x="6097680" y="31939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9" name="Line 196"/>
            <p:cNvSpPr/>
            <p:nvPr/>
          </p:nvSpPr>
          <p:spPr>
            <a:xfrm>
              <a:off x="6097680" y="33465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0" name="Line 197"/>
            <p:cNvSpPr/>
            <p:nvPr/>
          </p:nvSpPr>
          <p:spPr>
            <a:xfrm>
              <a:off x="6097680" y="34988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1" name="Line 198"/>
            <p:cNvSpPr/>
            <p:nvPr/>
          </p:nvSpPr>
          <p:spPr>
            <a:xfrm>
              <a:off x="6097680" y="36529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2" name="Line 199"/>
            <p:cNvSpPr/>
            <p:nvPr/>
          </p:nvSpPr>
          <p:spPr>
            <a:xfrm>
              <a:off x="6097680" y="38052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3" name="Line 200"/>
            <p:cNvSpPr/>
            <p:nvPr/>
          </p:nvSpPr>
          <p:spPr>
            <a:xfrm>
              <a:off x="6097680" y="395748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4" name="Line 201"/>
            <p:cNvSpPr/>
            <p:nvPr/>
          </p:nvSpPr>
          <p:spPr>
            <a:xfrm>
              <a:off x="6097680" y="41101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5" name="Line 202"/>
            <p:cNvSpPr/>
            <p:nvPr/>
          </p:nvSpPr>
          <p:spPr>
            <a:xfrm>
              <a:off x="6097680" y="426240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6" name="Line 203"/>
            <p:cNvSpPr/>
            <p:nvPr/>
          </p:nvSpPr>
          <p:spPr>
            <a:xfrm>
              <a:off x="6097680" y="4414680"/>
              <a:ext cx="1076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77" name="Line 204"/>
            <p:cNvSpPr/>
            <p:nvPr/>
          </p:nvSpPr>
          <p:spPr>
            <a:xfrm>
              <a:off x="6097680" y="456876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8" name="Line 205"/>
            <p:cNvSpPr/>
            <p:nvPr/>
          </p:nvSpPr>
          <p:spPr>
            <a:xfrm>
              <a:off x="6097680" y="47214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9" name="Line 206"/>
            <p:cNvSpPr/>
            <p:nvPr/>
          </p:nvSpPr>
          <p:spPr>
            <a:xfrm>
              <a:off x="6097680" y="487368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0" name="Line 207"/>
            <p:cNvSpPr/>
            <p:nvPr/>
          </p:nvSpPr>
          <p:spPr>
            <a:xfrm>
              <a:off x="6097680" y="502596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1" name="Line 208"/>
            <p:cNvSpPr/>
            <p:nvPr/>
          </p:nvSpPr>
          <p:spPr>
            <a:xfrm>
              <a:off x="6097680" y="51786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2" name="Line 209"/>
            <p:cNvSpPr/>
            <p:nvPr/>
          </p:nvSpPr>
          <p:spPr>
            <a:xfrm>
              <a:off x="6097680" y="53323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3" name="Line 210"/>
            <p:cNvSpPr/>
            <p:nvPr/>
          </p:nvSpPr>
          <p:spPr>
            <a:xfrm>
              <a:off x="6097680" y="54849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4" name="Line 211"/>
            <p:cNvSpPr/>
            <p:nvPr/>
          </p:nvSpPr>
          <p:spPr>
            <a:xfrm>
              <a:off x="6097680" y="563724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5" name="Line 212"/>
            <p:cNvSpPr/>
            <p:nvPr/>
          </p:nvSpPr>
          <p:spPr>
            <a:xfrm>
              <a:off x="6097680" y="578952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6" name="Line 213"/>
            <p:cNvSpPr/>
            <p:nvPr/>
          </p:nvSpPr>
          <p:spPr>
            <a:xfrm>
              <a:off x="6097680" y="594216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7" name="Line 214"/>
            <p:cNvSpPr/>
            <p:nvPr/>
          </p:nvSpPr>
          <p:spPr>
            <a:xfrm>
              <a:off x="6097680" y="6094440"/>
              <a:ext cx="1076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88" name="Line 215"/>
            <p:cNvSpPr/>
            <p:nvPr/>
          </p:nvSpPr>
          <p:spPr>
            <a:xfrm>
              <a:off x="6097680" y="624852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9" name="Line 216"/>
            <p:cNvSpPr/>
            <p:nvPr/>
          </p:nvSpPr>
          <p:spPr>
            <a:xfrm>
              <a:off x="6097680" y="64008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0" name="Line 217"/>
            <p:cNvSpPr/>
            <p:nvPr/>
          </p:nvSpPr>
          <p:spPr>
            <a:xfrm>
              <a:off x="6097680" y="227952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1" name="Line 218"/>
            <p:cNvSpPr/>
            <p:nvPr/>
          </p:nvSpPr>
          <p:spPr>
            <a:xfrm>
              <a:off x="6097680" y="3041640"/>
              <a:ext cx="1076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2" name="Line 219"/>
            <p:cNvSpPr/>
            <p:nvPr/>
          </p:nvSpPr>
          <p:spPr>
            <a:xfrm>
              <a:off x="6097680" y="380520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Line 220"/>
            <p:cNvSpPr/>
            <p:nvPr/>
          </p:nvSpPr>
          <p:spPr>
            <a:xfrm>
              <a:off x="6097680" y="456876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4" name="Line 221"/>
            <p:cNvSpPr/>
            <p:nvPr/>
          </p:nvSpPr>
          <p:spPr>
            <a:xfrm>
              <a:off x="6097680" y="5332320"/>
              <a:ext cx="1076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Line 222"/>
            <p:cNvSpPr/>
            <p:nvPr/>
          </p:nvSpPr>
          <p:spPr>
            <a:xfrm>
              <a:off x="6097680" y="6094440"/>
              <a:ext cx="10764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96" name="Line 223"/>
            <p:cNvSpPr/>
            <p:nvPr/>
          </p:nvSpPr>
          <p:spPr>
            <a:xfrm>
              <a:off x="2500200" y="2279520"/>
              <a:ext cx="467388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Line 224"/>
            <p:cNvSpPr/>
            <p:nvPr/>
          </p:nvSpPr>
          <p:spPr>
            <a:xfrm>
              <a:off x="2503440" y="3803760"/>
              <a:ext cx="4670640" cy="3240"/>
            </a:xfrm>
            <a:prstGeom prst="line">
              <a:avLst/>
            </a:prstGeom>
            <a:ln w="205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98" name="Line 225"/>
            <p:cNvSpPr/>
            <p:nvPr/>
          </p:nvSpPr>
          <p:spPr>
            <a:xfrm>
              <a:off x="2503440" y="5327640"/>
              <a:ext cx="4670640" cy="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Line 226"/>
            <p:cNvSpPr/>
            <p:nvPr/>
          </p:nvSpPr>
          <p:spPr>
            <a:xfrm>
              <a:off x="25034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Line 227"/>
            <p:cNvSpPr/>
            <p:nvPr/>
          </p:nvSpPr>
          <p:spPr>
            <a:xfrm>
              <a:off x="358308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Line 228"/>
            <p:cNvSpPr/>
            <p:nvPr/>
          </p:nvSpPr>
          <p:spPr>
            <a:xfrm>
              <a:off x="27208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Line 229"/>
            <p:cNvSpPr/>
            <p:nvPr/>
          </p:nvSpPr>
          <p:spPr>
            <a:xfrm>
              <a:off x="29354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Line 230"/>
            <p:cNvSpPr/>
            <p:nvPr/>
          </p:nvSpPr>
          <p:spPr>
            <a:xfrm>
              <a:off x="31510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Line 231"/>
            <p:cNvSpPr/>
            <p:nvPr/>
          </p:nvSpPr>
          <p:spPr>
            <a:xfrm>
              <a:off x="3365640" y="2127240"/>
              <a:ext cx="288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Line 232"/>
            <p:cNvSpPr/>
            <p:nvPr/>
          </p:nvSpPr>
          <p:spPr>
            <a:xfrm>
              <a:off x="358308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Line 233"/>
            <p:cNvSpPr/>
            <p:nvPr/>
          </p:nvSpPr>
          <p:spPr>
            <a:xfrm>
              <a:off x="5018040" y="2127240"/>
              <a:ext cx="180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Line 234"/>
            <p:cNvSpPr/>
            <p:nvPr/>
          </p:nvSpPr>
          <p:spPr>
            <a:xfrm>
              <a:off x="35830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Line 235"/>
            <p:cNvSpPr/>
            <p:nvPr/>
          </p:nvSpPr>
          <p:spPr>
            <a:xfrm>
              <a:off x="36655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Line 236"/>
            <p:cNvSpPr/>
            <p:nvPr/>
          </p:nvSpPr>
          <p:spPr>
            <a:xfrm>
              <a:off x="37260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Line 237"/>
            <p:cNvSpPr/>
            <p:nvPr/>
          </p:nvSpPr>
          <p:spPr>
            <a:xfrm>
              <a:off x="37720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Line 238"/>
            <p:cNvSpPr/>
            <p:nvPr/>
          </p:nvSpPr>
          <p:spPr>
            <a:xfrm>
              <a:off x="3808440" y="2127240"/>
              <a:ext cx="32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Line 239"/>
            <p:cNvSpPr/>
            <p:nvPr/>
          </p:nvSpPr>
          <p:spPr>
            <a:xfrm>
              <a:off x="38419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Line 240"/>
            <p:cNvSpPr/>
            <p:nvPr/>
          </p:nvSpPr>
          <p:spPr>
            <a:xfrm>
              <a:off x="38703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Line 241"/>
            <p:cNvSpPr/>
            <p:nvPr/>
          </p:nvSpPr>
          <p:spPr>
            <a:xfrm>
              <a:off x="38941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Line 242"/>
            <p:cNvSpPr/>
            <p:nvPr/>
          </p:nvSpPr>
          <p:spPr>
            <a:xfrm>
              <a:off x="39164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Line 243"/>
            <p:cNvSpPr/>
            <p:nvPr/>
          </p:nvSpPr>
          <p:spPr>
            <a:xfrm>
              <a:off x="40593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Line 244"/>
            <p:cNvSpPr/>
            <p:nvPr/>
          </p:nvSpPr>
          <p:spPr>
            <a:xfrm>
              <a:off x="41418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Line 245"/>
            <p:cNvSpPr/>
            <p:nvPr/>
          </p:nvSpPr>
          <p:spPr>
            <a:xfrm>
              <a:off x="420372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Line 246"/>
            <p:cNvSpPr/>
            <p:nvPr/>
          </p:nvSpPr>
          <p:spPr>
            <a:xfrm>
              <a:off x="4249800" y="2127240"/>
              <a:ext cx="32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Line 247"/>
            <p:cNvSpPr/>
            <p:nvPr/>
          </p:nvSpPr>
          <p:spPr>
            <a:xfrm>
              <a:off x="42861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Line 248"/>
            <p:cNvSpPr/>
            <p:nvPr/>
          </p:nvSpPr>
          <p:spPr>
            <a:xfrm>
              <a:off x="43178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Line 249"/>
            <p:cNvSpPr/>
            <p:nvPr/>
          </p:nvSpPr>
          <p:spPr>
            <a:xfrm>
              <a:off x="43466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Line 250"/>
            <p:cNvSpPr/>
            <p:nvPr/>
          </p:nvSpPr>
          <p:spPr>
            <a:xfrm>
              <a:off x="43718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Line 251"/>
            <p:cNvSpPr/>
            <p:nvPr/>
          </p:nvSpPr>
          <p:spPr>
            <a:xfrm>
              <a:off x="43941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Line 252"/>
            <p:cNvSpPr/>
            <p:nvPr/>
          </p:nvSpPr>
          <p:spPr>
            <a:xfrm>
              <a:off x="453852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Line 253"/>
            <p:cNvSpPr/>
            <p:nvPr/>
          </p:nvSpPr>
          <p:spPr>
            <a:xfrm>
              <a:off x="46245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Line 254"/>
            <p:cNvSpPr/>
            <p:nvPr/>
          </p:nvSpPr>
          <p:spPr>
            <a:xfrm>
              <a:off x="468144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Line 255"/>
            <p:cNvSpPr/>
            <p:nvPr/>
          </p:nvSpPr>
          <p:spPr>
            <a:xfrm>
              <a:off x="472752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Line 256"/>
            <p:cNvSpPr/>
            <p:nvPr/>
          </p:nvSpPr>
          <p:spPr>
            <a:xfrm>
              <a:off x="476712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Line 257"/>
            <p:cNvSpPr/>
            <p:nvPr/>
          </p:nvSpPr>
          <p:spPr>
            <a:xfrm>
              <a:off x="480060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Line 258"/>
            <p:cNvSpPr/>
            <p:nvPr/>
          </p:nvSpPr>
          <p:spPr>
            <a:xfrm>
              <a:off x="482616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Line 259"/>
            <p:cNvSpPr/>
            <p:nvPr/>
          </p:nvSpPr>
          <p:spPr>
            <a:xfrm>
              <a:off x="485136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Line 260"/>
            <p:cNvSpPr/>
            <p:nvPr/>
          </p:nvSpPr>
          <p:spPr>
            <a:xfrm>
              <a:off x="48704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Line 261"/>
            <p:cNvSpPr/>
            <p:nvPr/>
          </p:nvSpPr>
          <p:spPr>
            <a:xfrm>
              <a:off x="5018040" y="2127240"/>
              <a:ext cx="180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Line 262"/>
            <p:cNvSpPr/>
            <p:nvPr/>
          </p:nvSpPr>
          <p:spPr>
            <a:xfrm>
              <a:off x="609768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Line 263"/>
            <p:cNvSpPr/>
            <p:nvPr/>
          </p:nvSpPr>
          <p:spPr>
            <a:xfrm>
              <a:off x="51260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Line 264"/>
            <p:cNvSpPr/>
            <p:nvPr/>
          </p:nvSpPr>
          <p:spPr>
            <a:xfrm>
              <a:off x="52340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Line 265"/>
            <p:cNvSpPr/>
            <p:nvPr/>
          </p:nvSpPr>
          <p:spPr>
            <a:xfrm>
              <a:off x="53434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Line 266"/>
            <p:cNvSpPr/>
            <p:nvPr/>
          </p:nvSpPr>
          <p:spPr>
            <a:xfrm>
              <a:off x="54500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Line 267"/>
            <p:cNvSpPr/>
            <p:nvPr/>
          </p:nvSpPr>
          <p:spPr>
            <a:xfrm>
              <a:off x="5557680" y="2127240"/>
              <a:ext cx="1800" cy="4425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Line 268"/>
            <p:cNvSpPr/>
            <p:nvPr/>
          </p:nvSpPr>
          <p:spPr>
            <a:xfrm>
              <a:off x="56656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Line 269"/>
            <p:cNvSpPr/>
            <p:nvPr/>
          </p:nvSpPr>
          <p:spPr>
            <a:xfrm>
              <a:off x="57722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Line 270"/>
            <p:cNvSpPr/>
            <p:nvPr/>
          </p:nvSpPr>
          <p:spPr>
            <a:xfrm>
              <a:off x="588024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Line 271"/>
            <p:cNvSpPr/>
            <p:nvPr/>
          </p:nvSpPr>
          <p:spPr>
            <a:xfrm>
              <a:off x="59878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Line 272"/>
            <p:cNvSpPr/>
            <p:nvPr/>
          </p:nvSpPr>
          <p:spPr>
            <a:xfrm>
              <a:off x="6097680" y="2127240"/>
              <a:ext cx="1440" cy="442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Line 273"/>
            <p:cNvSpPr/>
            <p:nvPr/>
          </p:nvSpPr>
          <p:spPr>
            <a:xfrm>
              <a:off x="62038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Line 274"/>
            <p:cNvSpPr/>
            <p:nvPr/>
          </p:nvSpPr>
          <p:spPr>
            <a:xfrm>
              <a:off x="63118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Line 275"/>
            <p:cNvSpPr/>
            <p:nvPr/>
          </p:nvSpPr>
          <p:spPr>
            <a:xfrm>
              <a:off x="64198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Line 276"/>
            <p:cNvSpPr/>
            <p:nvPr/>
          </p:nvSpPr>
          <p:spPr>
            <a:xfrm>
              <a:off x="65278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Line 277"/>
            <p:cNvSpPr/>
            <p:nvPr/>
          </p:nvSpPr>
          <p:spPr>
            <a:xfrm>
              <a:off x="6634080" y="2127240"/>
              <a:ext cx="1800" cy="4425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Line 278"/>
            <p:cNvSpPr/>
            <p:nvPr/>
          </p:nvSpPr>
          <p:spPr>
            <a:xfrm>
              <a:off x="674208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Line 279"/>
            <p:cNvSpPr/>
            <p:nvPr/>
          </p:nvSpPr>
          <p:spPr>
            <a:xfrm>
              <a:off x="6851520" y="2127240"/>
              <a:ext cx="180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Line 280"/>
            <p:cNvSpPr/>
            <p:nvPr/>
          </p:nvSpPr>
          <p:spPr>
            <a:xfrm>
              <a:off x="69580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Line 281"/>
            <p:cNvSpPr/>
            <p:nvPr/>
          </p:nvSpPr>
          <p:spPr>
            <a:xfrm>
              <a:off x="7066080" y="2127240"/>
              <a:ext cx="1440" cy="442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Rectangle 282"/>
            <p:cNvSpPr/>
            <p:nvPr/>
          </p:nvSpPr>
          <p:spPr>
            <a:xfrm>
              <a:off x="2084040" y="222552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700</a:t>
              </a:r>
              <a:endParaRPr b="0" lang="en-US" sz="1000" spc="-1" strike="noStrike">
                <a:solidFill>
                  <a:srgbClr val="000000"/>
                </a:solidFill>
                <a:latin typeface="Times New Roman"/>
              </a:endParaRPr>
            </a:p>
          </p:txBody>
        </p:sp>
        <p:sp>
          <p:nvSpPr>
            <p:cNvPr id="1856" name="Rectangle 283"/>
            <p:cNvSpPr/>
            <p:nvPr/>
          </p:nvSpPr>
          <p:spPr>
            <a:xfrm>
              <a:off x="2084040" y="375300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800</a:t>
              </a:r>
              <a:endParaRPr b="0" lang="en-US" sz="1000" spc="-1" strike="noStrike">
                <a:solidFill>
                  <a:srgbClr val="000000"/>
                </a:solidFill>
                <a:latin typeface="Times New Roman"/>
              </a:endParaRPr>
            </a:p>
          </p:txBody>
        </p:sp>
        <p:sp>
          <p:nvSpPr>
            <p:cNvPr id="1857" name="Rectangle 284"/>
            <p:cNvSpPr/>
            <p:nvPr/>
          </p:nvSpPr>
          <p:spPr>
            <a:xfrm>
              <a:off x="2084040" y="527688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900</a:t>
              </a:r>
              <a:endParaRPr b="0" lang="en-US" sz="1000" spc="-1" strike="noStrike">
                <a:solidFill>
                  <a:srgbClr val="000000"/>
                </a:solidFill>
                <a:latin typeface="Times New Roman"/>
              </a:endParaRPr>
            </a:p>
          </p:txBody>
        </p:sp>
        <p:sp>
          <p:nvSpPr>
            <p:cNvPr id="1858" name="Freeform 285"/>
            <p:cNvSpPr/>
            <p:nvPr/>
          </p:nvSpPr>
          <p:spPr>
            <a:xfrm>
              <a:off x="3794040" y="2157480"/>
              <a:ext cx="1123920" cy="4379760"/>
            </a:xfrm>
            <a:custGeom>
              <a:avLst/>
              <a:gdLst>
                <a:gd name="textAreaLeft" fmla="*/ 0 w 1123920"/>
                <a:gd name="textAreaRight" fmla="*/ 1124280 w 1123920"/>
                <a:gd name="textAreaTop" fmla="*/ 0 h 4379760"/>
                <a:gd name="textAreaBottom" fmla="*/ 4380120 h 4379760"/>
              </a:gdLst>
              <a:ahLst/>
              <a:rect l="textAreaLeft" t="textAreaTop" r="textAreaRight" b="textAreaBottom"/>
              <a:pathLst>
                <a:path w="665" h="2582">
                  <a:moveTo>
                    <a:pt x="159" y="0"/>
                  </a:moveTo>
                  <a:lnTo>
                    <a:pt x="155" y="4"/>
                  </a:lnTo>
                  <a:lnTo>
                    <a:pt x="149" y="9"/>
                  </a:lnTo>
                  <a:lnTo>
                    <a:pt x="147" y="13"/>
                  </a:lnTo>
                  <a:lnTo>
                    <a:pt x="147" y="18"/>
                  </a:lnTo>
                  <a:lnTo>
                    <a:pt x="147" y="22"/>
                  </a:lnTo>
                  <a:lnTo>
                    <a:pt x="149" y="27"/>
                  </a:lnTo>
                  <a:lnTo>
                    <a:pt x="153" y="31"/>
                  </a:lnTo>
                  <a:lnTo>
                    <a:pt x="153" y="36"/>
                  </a:lnTo>
                  <a:lnTo>
                    <a:pt x="155" y="40"/>
                  </a:lnTo>
                  <a:lnTo>
                    <a:pt x="155" y="45"/>
                  </a:lnTo>
                  <a:lnTo>
                    <a:pt x="155" y="49"/>
                  </a:lnTo>
                  <a:lnTo>
                    <a:pt x="155" y="54"/>
                  </a:lnTo>
                  <a:lnTo>
                    <a:pt x="149" y="58"/>
                  </a:lnTo>
                  <a:lnTo>
                    <a:pt x="147" y="63"/>
                  </a:lnTo>
                  <a:lnTo>
                    <a:pt x="147" y="67"/>
                  </a:lnTo>
                  <a:lnTo>
                    <a:pt x="151" y="72"/>
                  </a:lnTo>
                  <a:lnTo>
                    <a:pt x="153" y="76"/>
                  </a:lnTo>
                  <a:lnTo>
                    <a:pt x="157" y="81"/>
                  </a:lnTo>
                  <a:lnTo>
                    <a:pt x="153" y="85"/>
                  </a:lnTo>
                  <a:lnTo>
                    <a:pt x="151" y="90"/>
                  </a:lnTo>
                  <a:lnTo>
                    <a:pt x="153" y="94"/>
                  </a:lnTo>
                  <a:lnTo>
                    <a:pt x="153" y="99"/>
                  </a:lnTo>
                  <a:lnTo>
                    <a:pt x="151" y="103"/>
                  </a:lnTo>
                  <a:lnTo>
                    <a:pt x="149" y="108"/>
                  </a:lnTo>
                  <a:lnTo>
                    <a:pt x="149" y="112"/>
                  </a:lnTo>
                  <a:lnTo>
                    <a:pt x="149" y="117"/>
                  </a:lnTo>
                  <a:lnTo>
                    <a:pt x="149" y="121"/>
                  </a:lnTo>
                  <a:lnTo>
                    <a:pt x="151" y="126"/>
                  </a:lnTo>
                  <a:lnTo>
                    <a:pt x="151" y="130"/>
                  </a:lnTo>
                  <a:lnTo>
                    <a:pt x="153" y="135"/>
                  </a:lnTo>
                  <a:lnTo>
                    <a:pt x="153" y="139"/>
                  </a:lnTo>
                  <a:lnTo>
                    <a:pt x="149" y="144"/>
                  </a:lnTo>
                  <a:lnTo>
                    <a:pt x="140" y="148"/>
                  </a:lnTo>
                  <a:lnTo>
                    <a:pt x="136" y="153"/>
                  </a:lnTo>
                  <a:lnTo>
                    <a:pt x="130" y="157"/>
                  </a:lnTo>
                  <a:lnTo>
                    <a:pt x="127" y="162"/>
                  </a:lnTo>
                  <a:lnTo>
                    <a:pt x="125" y="166"/>
                  </a:lnTo>
                  <a:lnTo>
                    <a:pt x="123" y="171"/>
                  </a:lnTo>
                  <a:lnTo>
                    <a:pt x="127" y="175"/>
                  </a:lnTo>
                  <a:lnTo>
                    <a:pt x="138" y="180"/>
                  </a:lnTo>
                  <a:lnTo>
                    <a:pt x="159" y="184"/>
                  </a:lnTo>
                  <a:lnTo>
                    <a:pt x="172" y="189"/>
                  </a:lnTo>
                  <a:lnTo>
                    <a:pt x="210" y="193"/>
                  </a:lnTo>
                  <a:lnTo>
                    <a:pt x="236" y="198"/>
                  </a:lnTo>
                  <a:lnTo>
                    <a:pt x="357" y="202"/>
                  </a:lnTo>
                  <a:lnTo>
                    <a:pt x="416" y="207"/>
                  </a:lnTo>
                  <a:lnTo>
                    <a:pt x="435" y="211"/>
                  </a:lnTo>
                  <a:lnTo>
                    <a:pt x="435" y="216"/>
                  </a:lnTo>
                  <a:lnTo>
                    <a:pt x="421" y="220"/>
                  </a:lnTo>
                  <a:lnTo>
                    <a:pt x="418" y="225"/>
                  </a:lnTo>
                  <a:lnTo>
                    <a:pt x="431" y="229"/>
                  </a:lnTo>
                  <a:lnTo>
                    <a:pt x="461" y="234"/>
                  </a:lnTo>
                  <a:lnTo>
                    <a:pt x="493" y="238"/>
                  </a:lnTo>
                  <a:lnTo>
                    <a:pt x="508" y="243"/>
                  </a:lnTo>
                  <a:lnTo>
                    <a:pt x="520" y="247"/>
                  </a:lnTo>
                  <a:lnTo>
                    <a:pt x="548" y="252"/>
                  </a:lnTo>
                  <a:lnTo>
                    <a:pt x="574" y="256"/>
                  </a:lnTo>
                  <a:lnTo>
                    <a:pt x="603" y="261"/>
                  </a:lnTo>
                  <a:lnTo>
                    <a:pt x="614" y="265"/>
                  </a:lnTo>
                  <a:lnTo>
                    <a:pt x="622" y="270"/>
                  </a:lnTo>
                  <a:lnTo>
                    <a:pt x="633" y="274"/>
                  </a:lnTo>
                  <a:lnTo>
                    <a:pt x="637" y="279"/>
                  </a:lnTo>
                  <a:lnTo>
                    <a:pt x="642" y="283"/>
                  </a:lnTo>
                  <a:lnTo>
                    <a:pt x="646" y="288"/>
                  </a:lnTo>
                  <a:lnTo>
                    <a:pt x="650" y="292"/>
                  </a:lnTo>
                  <a:lnTo>
                    <a:pt x="654" y="297"/>
                  </a:lnTo>
                  <a:lnTo>
                    <a:pt x="659" y="301"/>
                  </a:lnTo>
                  <a:lnTo>
                    <a:pt x="659" y="306"/>
                  </a:lnTo>
                  <a:lnTo>
                    <a:pt x="659" y="310"/>
                  </a:lnTo>
                  <a:lnTo>
                    <a:pt x="661" y="315"/>
                  </a:lnTo>
                  <a:lnTo>
                    <a:pt x="665" y="319"/>
                  </a:lnTo>
                  <a:lnTo>
                    <a:pt x="665" y="324"/>
                  </a:lnTo>
                  <a:lnTo>
                    <a:pt x="665" y="328"/>
                  </a:lnTo>
                  <a:lnTo>
                    <a:pt x="665" y="333"/>
                  </a:lnTo>
                  <a:lnTo>
                    <a:pt x="665" y="337"/>
                  </a:lnTo>
                  <a:lnTo>
                    <a:pt x="659" y="342"/>
                  </a:lnTo>
                  <a:lnTo>
                    <a:pt x="648" y="346"/>
                  </a:lnTo>
                  <a:lnTo>
                    <a:pt x="633" y="351"/>
                  </a:lnTo>
                  <a:lnTo>
                    <a:pt x="625" y="355"/>
                  </a:lnTo>
                  <a:lnTo>
                    <a:pt x="618" y="360"/>
                  </a:lnTo>
                  <a:lnTo>
                    <a:pt x="605" y="364"/>
                  </a:lnTo>
                  <a:lnTo>
                    <a:pt x="595" y="369"/>
                  </a:lnTo>
                  <a:lnTo>
                    <a:pt x="593" y="373"/>
                  </a:lnTo>
                  <a:lnTo>
                    <a:pt x="588" y="378"/>
                  </a:lnTo>
                  <a:lnTo>
                    <a:pt x="580" y="382"/>
                  </a:lnTo>
                  <a:lnTo>
                    <a:pt x="580" y="387"/>
                  </a:lnTo>
                  <a:lnTo>
                    <a:pt x="578" y="391"/>
                  </a:lnTo>
                  <a:lnTo>
                    <a:pt x="578" y="396"/>
                  </a:lnTo>
                  <a:lnTo>
                    <a:pt x="584" y="400"/>
                  </a:lnTo>
                  <a:lnTo>
                    <a:pt x="595" y="405"/>
                  </a:lnTo>
                  <a:lnTo>
                    <a:pt x="612" y="409"/>
                  </a:lnTo>
                  <a:lnTo>
                    <a:pt x="627" y="414"/>
                  </a:lnTo>
                  <a:lnTo>
                    <a:pt x="642" y="418"/>
                  </a:lnTo>
                  <a:lnTo>
                    <a:pt x="654" y="423"/>
                  </a:lnTo>
                  <a:lnTo>
                    <a:pt x="659" y="427"/>
                  </a:lnTo>
                  <a:lnTo>
                    <a:pt x="659" y="432"/>
                  </a:lnTo>
                  <a:lnTo>
                    <a:pt x="650" y="436"/>
                  </a:lnTo>
                  <a:lnTo>
                    <a:pt x="642" y="441"/>
                  </a:lnTo>
                  <a:lnTo>
                    <a:pt x="629" y="445"/>
                  </a:lnTo>
                  <a:lnTo>
                    <a:pt x="599" y="450"/>
                  </a:lnTo>
                  <a:lnTo>
                    <a:pt x="582" y="454"/>
                  </a:lnTo>
                  <a:lnTo>
                    <a:pt x="565" y="459"/>
                  </a:lnTo>
                  <a:lnTo>
                    <a:pt x="552" y="463"/>
                  </a:lnTo>
                  <a:lnTo>
                    <a:pt x="550" y="468"/>
                  </a:lnTo>
                  <a:lnTo>
                    <a:pt x="550" y="472"/>
                  </a:lnTo>
                  <a:lnTo>
                    <a:pt x="561" y="477"/>
                  </a:lnTo>
                  <a:lnTo>
                    <a:pt x="569" y="481"/>
                  </a:lnTo>
                  <a:lnTo>
                    <a:pt x="586" y="486"/>
                  </a:lnTo>
                  <a:lnTo>
                    <a:pt x="612" y="490"/>
                  </a:lnTo>
                  <a:lnTo>
                    <a:pt x="631" y="495"/>
                  </a:lnTo>
                  <a:lnTo>
                    <a:pt x="644" y="499"/>
                  </a:lnTo>
                  <a:lnTo>
                    <a:pt x="650" y="504"/>
                  </a:lnTo>
                  <a:lnTo>
                    <a:pt x="650" y="508"/>
                  </a:lnTo>
                  <a:lnTo>
                    <a:pt x="646" y="512"/>
                  </a:lnTo>
                  <a:lnTo>
                    <a:pt x="627" y="517"/>
                  </a:lnTo>
                  <a:lnTo>
                    <a:pt x="614" y="521"/>
                  </a:lnTo>
                  <a:lnTo>
                    <a:pt x="597" y="526"/>
                  </a:lnTo>
                  <a:lnTo>
                    <a:pt x="586" y="530"/>
                  </a:lnTo>
                  <a:lnTo>
                    <a:pt x="580" y="535"/>
                  </a:lnTo>
                  <a:lnTo>
                    <a:pt x="565" y="539"/>
                  </a:lnTo>
                  <a:lnTo>
                    <a:pt x="559" y="544"/>
                  </a:lnTo>
                  <a:lnTo>
                    <a:pt x="548" y="548"/>
                  </a:lnTo>
                  <a:lnTo>
                    <a:pt x="546" y="553"/>
                  </a:lnTo>
                  <a:lnTo>
                    <a:pt x="535" y="557"/>
                  </a:lnTo>
                  <a:lnTo>
                    <a:pt x="531" y="562"/>
                  </a:lnTo>
                  <a:lnTo>
                    <a:pt x="540" y="566"/>
                  </a:lnTo>
                  <a:lnTo>
                    <a:pt x="554" y="571"/>
                  </a:lnTo>
                  <a:lnTo>
                    <a:pt x="567" y="575"/>
                  </a:lnTo>
                  <a:lnTo>
                    <a:pt x="582" y="580"/>
                  </a:lnTo>
                  <a:lnTo>
                    <a:pt x="601" y="584"/>
                  </a:lnTo>
                  <a:lnTo>
                    <a:pt x="612" y="589"/>
                  </a:lnTo>
                  <a:lnTo>
                    <a:pt x="627" y="593"/>
                  </a:lnTo>
                  <a:lnTo>
                    <a:pt x="639" y="598"/>
                  </a:lnTo>
                  <a:lnTo>
                    <a:pt x="642" y="602"/>
                  </a:lnTo>
                  <a:lnTo>
                    <a:pt x="648" y="607"/>
                  </a:lnTo>
                  <a:lnTo>
                    <a:pt x="650" y="611"/>
                  </a:lnTo>
                  <a:lnTo>
                    <a:pt x="650" y="616"/>
                  </a:lnTo>
                  <a:lnTo>
                    <a:pt x="650" y="620"/>
                  </a:lnTo>
                  <a:lnTo>
                    <a:pt x="650" y="625"/>
                  </a:lnTo>
                  <a:lnTo>
                    <a:pt x="642" y="629"/>
                  </a:lnTo>
                  <a:lnTo>
                    <a:pt x="635" y="634"/>
                  </a:lnTo>
                  <a:lnTo>
                    <a:pt x="622" y="638"/>
                  </a:lnTo>
                  <a:lnTo>
                    <a:pt x="605" y="643"/>
                  </a:lnTo>
                  <a:lnTo>
                    <a:pt x="601" y="647"/>
                  </a:lnTo>
                  <a:lnTo>
                    <a:pt x="605" y="652"/>
                  </a:lnTo>
                  <a:lnTo>
                    <a:pt x="608" y="656"/>
                  </a:lnTo>
                  <a:lnTo>
                    <a:pt x="614" y="661"/>
                  </a:lnTo>
                  <a:lnTo>
                    <a:pt x="616" y="665"/>
                  </a:lnTo>
                  <a:lnTo>
                    <a:pt x="622" y="670"/>
                  </a:lnTo>
                  <a:lnTo>
                    <a:pt x="625" y="674"/>
                  </a:lnTo>
                  <a:lnTo>
                    <a:pt x="625" y="679"/>
                  </a:lnTo>
                  <a:lnTo>
                    <a:pt x="629" y="683"/>
                  </a:lnTo>
                  <a:lnTo>
                    <a:pt x="633" y="688"/>
                  </a:lnTo>
                  <a:lnTo>
                    <a:pt x="631" y="692"/>
                  </a:lnTo>
                  <a:lnTo>
                    <a:pt x="629" y="697"/>
                  </a:lnTo>
                  <a:lnTo>
                    <a:pt x="605" y="701"/>
                  </a:lnTo>
                  <a:lnTo>
                    <a:pt x="595" y="706"/>
                  </a:lnTo>
                  <a:lnTo>
                    <a:pt x="593" y="710"/>
                  </a:lnTo>
                  <a:lnTo>
                    <a:pt x="597" y="715"/>
                  </a:lnTo>
                  <a:lnTo>
                    <a:pt x="599" y="719"/>
                  </a:lnTo>
                  <a:lnTo>
                    <a:pt x="599" y="724"/>
                  </a:lnTo>
                  <a:lnTo>
                    <a:pt x="595" y="728"/>
                  </a:lnTo>
                  <a:lnTo>
                    <a:pt x="588" y="733"/>
                  </a:lnTo>
                  <a:lnTo>
                    <a:pt x="578" y="737"/>
                  </a:lnTo>
                  <a:lnTo>
                    <a:pt x="567" y="742"/>
                  </a:lnTo>
                  <a:lnTo>
                    <a:pt x="561" y="746"/>
                  </a:lnTo>
                  <a:lnTo>
                    <a:pt x="561" y="751"/>
                  </a:lnTo>
                  <a:lnTo>
                    <a:pt x="548" y="755"/>
                  </a:lnTo>
                  <a:lnTo>
                    <a:pt x="537" y="760"/>
                  </a:lnTo>
                  <a:lnTo>
                    <a:pt x="533" y="764"/>
                  </a:lnTo>
                  <a:lnTo>
                    <a:pt x="529" y="769"/>
                  </a:lnTo>
                  <a:lnTo>
                    <a:pt x="518" y="773"/>
                  </a:lnTo>
                  <a:lnTo>
                    <a:pt x="514" y="778"/>
                  </a:lnTo>
                  <a:lnTo>
                    <a:pt x="510" y="782"/>
                  </a:lnTo>
                  <a:lnTo>
                    <a:pt x="508" y="787"/>
                  </a:lnTo>
                  <a:lnTo>
                    <a:pt x="503" y="791"/>
                  </a:lnTo>
                  <a:lnTo>
                    <a:pt x="499" y="796"/>
                  </a:lnTo>
                  <a:lnTo>
                    <a:pt x="495" y="800"/>
                  </a:lnTo>
                  <a:lnTo>
                    <a:pt x="493" y="805"/>
                  </a:lnTo>
                  <a:lnTo>
                    <a:pt x="484" y="809"/>
                  </a:lnTo>
                  <a:lnTo>
                    <a:pt x="472" y="814"/>
                  </a:lnTo>
                  <a:lnTo>
                    <a:pt x="467" y="818"/>
                  </a:lnTo>
                  <a:lnTo>
                    <a:pt x="461" y="823"/>
                  </a:lnTo>
                  <a:lnTo>
                    <a:pt x="429" y="827"/>
                  </a:lnTo>
                  <a:lnTo>
                    <a:pt x="404" y="832"/>
                  </a:lnTo>
                  <a:lnTo>
                    <a:pt x="382" y="836"/>
                  </a:lnTo>
                  <a:lnTo>
                    <a:pt x="355" y="841"/>
                  </a:lnTo>
                  <a:lnTo>
                    <a:pt x="329" y="845"/>
                  </a:lnTo>
                  <a:lnTo>
                    <a:pt x="323" y="850"/>
                  </a:lnTo>
                  <a:lnTo>
                    <a:pt x="306" y="854"/>
                  </a:lnTo>
                  <a:lnTo>
                    <a:pt x="293" y="859"/>
                  </a:lnTo>
                  <a:lnTo>
                    <a:pt x="300" y="863"/>
                  </a:lnTo>
                  <a:lnTo>
                    <a:pt x="308" y="868"/>
                  </a:lnTo>
                  <a:lnTo>
                    <a:pt x="314" y="872"/>
                  </a:lnTo>
                  <a:lnTo>
                    <a:pt x="323" y="877"/>
                  </a:lnTo>
                  <a:lnTo>
                    <a:pt x="351" y="881"/>
                  </a:lnTo>
                  <a:lnTo>
                    <a:pt x="365" y="886"/>
                  </a:lnTo>
                  <a:lnTo>
                    <a:pt x="391" y="890"/>
                  </a:lnTo>
                  <a:lnTo>
                    <a:pt x="414" y="895"/>
                  </a:lnTo>
                  <a:lnTo>
                    <a:pt x="433" y="899"/>
                  </a:lnTo>
                  <a:lnTo>
                    <a:pt x="459" y="904"/>
                  </a:lnTo>
                  <a:lnTo>
                    <a:pt x="491" y="908"/>
                  </a:lnTo>
                  <a:lnTo>
                    <a:pt x="510" y="913"/>
                  </a:lnTo>
                  <a:lnTo>
                    <a:pt x="518" y="917"/>
                  </a:lnTo>
                  <a:lnTo>
                    <a:pt x="540" y="922"/>
                  </a:lnTo>
                  <a:lnTo>
                    <a:pt x="557" y="926"/>
                  </a:lnTo>
                  <a:lnTo>
                    <a:pt x="567" y="931"/>
                  </a:lnTo>
                  <a:lnTo>
                    <a:pt x="574" y="935"/>
                  </a:lnTo>
                  <a:lnTo>
                    <a:pt x="580" y="940"/>
                  </a:lnTo>
                  <a:lnTo>
                    <a:pt x="584" y="944"/>
                  </a:lnTo>
                  <a:lnTo>
                    <a:pt x="584" y="949"/>
                  </a:lnTo>
                  <a:lnTo>
                    <a:pt x="582" y="953"/>
                  </a:lnTo>
                  <a:lnTo>
                    <a:pt x="565" y="958"/>
                  </a:lnTo>
                  <a:lnTo>
                    <a:pt x="554" y="962"/>
                  </a:lnTo>
                  <a:lnTo>
                    <a:pt x="531" y="967"/>
                  </a:lnTo>
                  <a:lnTo>
                    <a:pt x="482" y="971"/>
                  </a:lnTo>
                  <a:lnTo>
                    <a:pt x="455" y="976"/>
                  </a:lnTo>
                  <a:lnTo>
                    <a:pt x="427" y="980"/>
                  </a:lnTo>
                  <a:lnTo>
                    <a:pt x="399" y="985"/>
                  </a:lnTo>
                  <a:lnTo>
                    <a:pt x="355" y="989"/>
                  </a:lnTo>
                  <a:lnTo>
                    <a:pt x="329" y="994"/>
                  </a:lnTo>
                  <a:lnTo>
                    <a:pt x="272" y="998"/>
                  </a:lnTo>
                  <a:lnTo>
                    <a:pt x="246" y="1003"/>
                  </a:lnTo>
                  <a:lnTo>
                    <a:pt x="238" y="1007"/>
                  </a:lnTo>
                  <a:lnTo>
                    <a:pt x="238" y="1012"/>
                  </a:lnTo>
                  <a:lnTo>
                    <a:pt x="251" y="1016"/>
                  </a:lnTo>
                  <a:lnTo>
                    <a:pt x="272" y="1021"/>
                  </a:lnTo>
                  <a:lnTo>
                    <a:pt x="287" y="1025"/>
                  </a:lnTo>
                  <a:lnTo>
                    <a:pt x="300" y="1030"/>
                  </a:lnTo>
                  <a:lnTo>
                    <a:pt x="308" y="1034"/>
                  </a:lnTo>
                  <a:lnTo>
                    <a:pt x="312" y="1039"/>
                  </a:lnTo>
                  <a:lnTo>
                    <a:pt x="340" y="1043"/>
                  </a:lnTo>
                  <a:lnTo>
                    <a:pt x="359" y="1048"/>
                  </a:lnTo>
                  <a:lnTo>
                    <a:pt x="365" y="1052"/>
                  </a:lnTo>
                  <a:lnTo>
                    <a:pt x="372" y="1057"/>
                  </a:lnTo>
                  <a:lnTo>
                    <a:pt x="361" y="1061"/>
                  </a:lnTo>
                  <a:lnTo>
                    <a:pt x="344" y="1066"/>
                  </a:lnTo>
                  <a:lnTo>
                    <a:pt x="331" y="1070"/>
                  </a:lnTo>
                  <a:lnTo>
                    <a:pt x="325" y="1075"/>
                  </a:lnTo>
                  <a:lnTo>
                    <a:pt x="314" y="1079"/>
                  </a:lnTo>
                  <a:lnTo>
                    <a:pt x="310" y="1084"/>
                  </a:lnTo>
                  <a:lnTo>
                    <a:pt x="304" y="1088"/>
                  </a:lnTo>
                  <a:lnTo>
                    <a:pt x="300" y="1093"/>
                  </a:lnTo>
                  <a:lnTo>
                    <a:pt x="302" y="1097"/>
                  </a:lnTo>
                  <a:lnTo>
                    <a:pt x="306" y="1102"/>
                  </a:lnTo>
                  <a:lnTo>
                    <a:pt x="308" y="1106"/>
                  </a:lnTo>
                  <a:lnTo>
                    <a:pt x="312" y="1111"/>
                  </a:lnTo>
                  <a:lnTo>
                    <a:pt x="321" y="1115"/>
                  </a:lnTo>
                  <a:lnTo>
                    <a:pt x="329" y="1120"/>
                  </a:lnTo>
                  <a:lnTo>
                    <a:pt x="334" y="1124"/>
                  </a:lnTo>
                  <a:lnTo>
                    <a:pt x="340" y="1129"/>
                  </a:lnTo>
                  <a:lnTo>
                    <a:pt x="342" y="1133"/>
                  </a:lnTo>
                  <a:lnTo>
                    <a:pt x="346" y="1138"/>
                  </a:lnTo>
                  <a:lnTo>
                    <a:pt x="346" y="1142"/>
                  </a:lnTo>
                  <a:lnTo>
                    <a:pt x="344" y="1147"/>
                  </a:lnTo>
                  <a:lnTo>
                    <a:pt x="338" y="1151"/>
                  </a:lnTo>
                  <a:lnTo>
                    <a:pt x="325" y="1156"/>
                  </a:lnTo>
                  <a:lnTo>
                    <a:pt x="321" y="1160"/>
                  </a:lnTo>
                  <a:lnTo>
                    <a:pt x="317" y="1165"/>
                  </a:lnTo>
                  <a:lnTo>
                    <a:pt x="314" y="1169"/>
                  </a:lnTo>
                  <a:lnTo>
                    <a:pt x="314" y="1174"/>
                  </a:lnTo>
                  <a:lnTo>
                    <a:pt x="317" y="1178"/>
                  </a:lnTo>
                  <a:lnTo>
                    <a:pt x="327" y="1183"/>
                  </a:lnTo>
                  <a:lnTo>
                    <a:pt x="346" y="1187"/>
                  </a:lnTo>
                  <a:lnTo>
                    <a:pt x="355" y="1192"/>
                  </a:lnTo>
                  <a:lnTo>
                    <a:pt x="370" y="1196"/>
                  </a:lnTo>
                  <a:lnTo>
                    <a:pt x="384" y="1201"/>
                  </a:lnTo>
                  <a:lnTo>
                    <a:pt x="393" y="1205"/>
                  </a:lnTo>
                  <a:lnTo>
                    <a:pt x="397" y="1210"/>
                  </a:lnTo>
                  <a:lnTo>
                    <a:pt x="389" y="1214"/>
                  </a:lnTo>
                  <a:lnTo>
                    <a:pt x="363" y="1219"/>
                  </a:lnTo>
                  <a:lnTo>
                    <a:pt x="336" y="1223"/>
                  </a:lnTo>
                  <a:lnTo>
                    <a:pt x="276" y="1228"/>
                  </a:lnTo>
                  <a:lnTo>
                    <a:pt x="242" y="1232"/>
                  </a:lnTo>
                  <a:lnTo>
                    <a:pt x="189" y="1237"/>
                  </a:lnTo>
                  <a:lnTo>
                    <a:pt x="153" y="1241"/>
                  </a:lnTo>
                  <a:lnTo>
                    <a:pt x="147" y="1246"/>
                  </a:lnTo>
                  <a:lnTo>
                    <a:pt x="140" y="1250"/>
                  </a:lnTo>
                  <a:lnTo>
                    <a:pt x="140" y="1255"/>
                  </a:lnTo>
                  <a:lnTo>
                    <a:pt x="140" y="1259"/>
                  </a:lnTo>
                  <a:lnTo>
                    <a:pt x="140" y="1264"/>
                  </a:lnTo>
                  <a:lnTo>
                    <a:pt x="140" y="1268"/>
                  </a:lnTo>
                  <a:lnTo>
                    <a:pt x="149" y="1273"/>
                  </a:lnTo>
                  <a:lnTo>
                    <a:pt x="153" y="1277"/>
                  </a:lnTo>
                  <a:lnTo>
                    <a:pt x="155" y="1282"/>
                  </a:lnTo>
                  <a:lnTo>
                    <a:pt x="157" y="1286"/>
                  </a:lnTo>
                  <a:lnTo>
                    <a:pt x="161" y="1291"/>
                  </a:lnTo>
                  <a:lnTo>
                    <a:pt x="161" y="1295"/>
                  </a:lnTo>
                  <a:lnTo>
                    <a:pt x="159" y="1300"/>
                  </a:lnTo>
                  <a:lnTo>
                    <a:pt x="153" y="1304"/>
                  </a:lnTo>
                  <a:lnTo>
                    <a:pt x="149" y="1309"/>
                  </a:lnTo>
                  <a:lnTo>
                    <a:pt x="140" y="1313"/>
                  </a:lnTo>
                  <a:lnTo>
                    <a:pt x="134" y="1318"/>
                  </a:lnTo>
                  <a:lnTo>
                    <a:pt x="127" y="1322"/>
                  </a:lnTo>
                  <a:lnTo>
                    <a:pt x="125" y="1327"/>
                  </a:lnTo>
                  <a:lnTo>
                    <a:pt x="123" y="1331"/>
                  </a:lnTo>
                  <a:lnTo>
                    <a:pt x="119" y="1336"/>
                  </a:lnTo>
                  <a:lnTo>
                    <a:pt x="119" y="1340"/>
                  </a:lnTo>
                  <a:lnTo>
                    <a:pt x="119" y="1345"/>
                  </a:lnTo>
                  <a:lnTo>
                    <a:pt x="117" y="1349"/>
                  </a:lnTo>
                  <a:lnTo>
                    <a:pt x="115" y="1354"/>
                  </a:lnTo>
                  <a:lnTo>
                    <a:pt x="115" y="1358"/>
                  </a:lnTo>
                  <a:lnTo>
                    <a:pt x="108" y="1363"/>
                  </a:lnTo>
                  <a:lnTo>
                    <a:pt x="98" y="1367"/>
                  </a:lnTo>
                  <a:lnTo>
                    <a:pt x="87" y="1372"/>
                  </a:lnTo>
                  <a:lnTo>
                    <a:pt x="81" y="1376"/>
                  </a:lnTo>
                  <a:lnTo>
                    <a:pt x="66" y="1381"/>
                  </a:lnTo>
                  <a:lnTo>
                    <a:pt x="64" y="1385"/>
                  </a:lnTo>
                  <a:lnTo>
                    <a:pt x="64" y="1390"/>
                  </a:lnTo>
                  <a:lnTo>
                    <a:pt x="64" y="1394"/>
                  </a:lnTo>
                  <a:lnTo>
                    <a:pt x="64" y="1399"/>
                  </a:lnTo>
                  <a:lnTo>
                    <a:pt x="64" y="1403"/>
                  </a:lnTo>
                  <a:lnTo>
                    <a:pt x="64" y="1408"/>
                  </a:lnTo>
                  <a:lnTo>
                    <a:pt x="64" y="1412"/>
                  </a:lnTo>
                  <a:lnTo>
                    <a:pt x="59" y="1417"/>
                  </a:lnTo>
                  <a:lnTo>
                    <a:pt x="59" y="1421"/>
                  </a:lnTo>
                  <a:lnTo>
                    <a:pt x="59" y="1426"/>
                  </a:lnTo>
                  <a:lnTo>
                    <a:pt x="59" y="1430"/>
                  </a:lnTo>
                  <a:lnTo>
                    <a:pt x="59" y="1435"/>
                  </a:lnTo>
                  <a:lnTo>
                    <a:pt x="62" y="1439"/>
                  </a:lnTo>
                  <a:lnTo>
                    <a:pt x="64" y="1444"/>
                  </a:lnTo>
                  <a:lnTo>
                    <a:pt x="66" y="1448"/>
                  </a:lnTo>
                  <a:lnTo>
                    <a:pt x="68" y="1453"/>
                  </a:lnTo>
                  <a:lnTo>
                    <a:pt x="68" y="1457"/>
                  </a:lnTo>
                  <a:lnTo>
                    <a:pt x="70" y="1462"/>
                  </a:lnTo>
                  <a:lnTo>
                    <a:pt x="68" y="1466"/>
                  </a:lnTo>
                  <a:lnTo>
                    <a:pt x="64" y="1471"/>
                  </a:lnTo>
                  <a:lnTo>
                    <a:pt x="59" y="1475"/>
                  </a:lnTo>
                  <a:lnTo>
                    <a:pt x="55" y="1480"/>
                  </a:lnTo>
                  <a:lnTo>
                    <a:pt x="53" y="1484"/>
                  </a:lnTo>
                  <a:lnTo>
                    <a:pt x="53" y="1489"/>
                  </a:lnTo>
                  <a:lnTo>
                    <a:pt x="53" y="1493"/>
                  </a:lnTo>
                  <a:lnTo>
                    <a:pt x="53" y="1498"/>
                  </a:lnTo>
                  <a:lnTo>
                    <a:pt x="57" y="1502"/>
                  </a:lnTo>
                  <a:lnTo>
                    <a:pt x="62" y="1507"/>
                  </a:lnTo>
                  <a:lnTo>
                    <a:pt x="68" y="1511"/>
                  </a:lnTo>
                  <a:lnTo>
                    <a:pt x="70" y="1516"/>
                  </a:lnTo>
                  <a:lnTo>
                    <a:pt x="76" y="1520"/>
                  </a:lnTo>
                  <a:lnTo>
                    <a:pt x="83" y="1525"/>
                  </a:lnTo>
                  <a:lnTo>
                    <a:pt x="83" y="1529"/>
                  </a:lnTo>
                  <a:lnTo>
                    <a:pt x="83" y="1534"/>
                  </a:lnTo>
                  <a:lnTo>
                    <a:pt x="76" y="1538"/>
                  </a:lnTo>
                  <a:lnTo>
                    <a:pt x="68" y="1543"/>
                  </a:lnTo>
                  <a:lnTo>
                    <a:pt x="55" y="1547"/>
                  </a:lnTo>
                  <a:lnTo>
                    <a:pt x="51" y="1552"/>
                  </a:lnTo>
                  <a:lnTo>
                    <a:pt x="42" y="1556"/>
                  </a:lnTo>
                  <a:lnTo>
                    <a:pt x="32" y="1560"/>
                  </a:lnTo>
                  <a:lnTo>
                    <a:pt x="26" y="1565"/>
                  </a:lnTo>
                  <a:lnTo>
                    <a:pt x="19" y="1569"/>
                  </a:lnTo>
                  <a:lnTo>
                    <a:pt x="19" y="1574"/>
                  </a:lnTo>
                  <a:lnTo>
                    <a:pt x="23" y="1578"/>
                  </a:lnTo>
                  <a:lnTo>
                    <a:pt x="23" y="1583"/>
                  </a:lnTo>
                  <a:lnTo>
                    <a:pt x="23" y="1587"/>
                  </a:lnTo>
                  <a:lnTo>
                    <a:pt x="21" y="1592"/>
                  </a:lnTo>
                  <a:lnTo>
                    <a:pt x="17" y="1596"/>
                  </a:lnTo>
                  <a:lnTo>
                    <a:pt x="11" y="1601"/>
                  </a:lnTo>
                  <a:lnTo>
                    <a:pt x="9" y="1605"/>
                  </a:lnTo>
                  <a:lnTo>
                    <a:pt x="6" y="1610"/>
                  </a:lnTo>
                  <a:lnTo>
                    <a:pt x="4" y="1614"/>
                  </a:lnTo>
                  <a:lnTo>
                    <a:pt x="2" y="1619"/>
                  </a:lnTo>
                  <a:lnTo>
                    <a:pt x="2" y="1623"/>
                  </a:lnTo>
                  <a:lnTo>
                    <a:pt x="2" y="1628"/>
                  </a:lnTo>
                  <a:lnTo>
                    <a:pt x="0" y="1632"/>
                  </a:lnTo>
                  <a:lnTo>
                    <a:pt x="0" y="1637"/>
                  </a:lnTo>
                  <a:lnTo>
                    <a:pt x="0" y="1641"/>
                  </a:lnTo>
                  <a:lnTo>
                    <a:pt x="0" y="1646"/>
                  </a:lnTo>
                  <a:lnTo>
                    <a:pt x="0" y="1650"/>
                  </a:lnTo>
                  <a:lnTo>
                    <a:pt x="2" y="1655"/>
                  </a:lnTo>
                  <a:lnTo>
                    <a:pt x="6" y="1659"/>
                  </a:lnTo>
                  <a:lnTo>
                    <a:pt x="6" y="1664"/>
                  </a:lnTo>
                  <a:lnTo>
                    <a:pt x="13" y="1668"/>
                  </a:lnTo>
                  <a:lnTo>
                    <a:pt x="15" y="1673"/>
                  </a:lnTo>
                  <a:lnTo>
                    <a:pt x="19" y="1677"/>
                  </a:lnTo>
                  <a:lnTo>
                    <a:pt x="23" y="1682"/>
                  </a:lnTo>
                  <a:lnTo>
                    <a:pt x="23" y="1686"/>
                  </a:lnTo>
                  <a:lnTo>
                    <a:pt x="21" y="1691"/>
                  </a:lnTo>
                  <a:lnTo>
                    <a:pt x="19" y="1695"/>
                  </a:lnTo>
                  <a:lnTo>
                    <a:pt x="19" y="1700"/>
                  </a:lnTo>
                  <a:lnTo>
                    <a:pt x="21" y="1704"/>
                  </a:lnTo>
                  <a:lnTo>
                    <a:pt x="23" y="1709"/>
                  </a:lnTo>
                  <a:lnTo>
                    <a:pt x="23" y="1713"/>
                  </a:lnTo>
                  <a:lnTo>
                    <a:pt x="26" y="1718"/>
                  </a:lnTo>
                  <a:lnTo>
                    <a:pt x="26" y="1722"/>
                  </a:lnTo>
                  <a:lnTo>
                    <a:pt x="26" y="1727"/>
                  </a:lnTo>
                  <a:lnTo>
                    <a:pt x="26" y="1731"/>
                  </a:lnTo>
                  <a:lnTo>
                    <a:pt x="30" y="1736"/>
                  </a:lnTo>
                  <a:lnTo>
                    <a:pt x="34" y="1740"/>
                  </a:lnTo>
                  <a:lnTo>
                    <a:pt x="40" y="1745"/>
                  </a:lnTo>
                  <a:lnTo>
                    <a:pt x="42" y="1749"/>
                  </a:lnTo>
                  <a:lnTo>
                    <a:pt x="47" y="1754"/>
                  </a:lnTo>
                  <a:lnTo>
                    <a:pt x="55" y="1758"/>
                  </a:lnTo>
                  <a:lnTo>
                    <a:pt x="64" y="1763"/>
                  </a:lnTo>
                  <a:lnTo>
                    <a:pt x="68" y="1767"/>
                  </a:lnTo>
                  <a:lnTo>
                    <a:pt x="70" y="1772"/>
                  </a:lnTo>
                  <a:lnTo>
                    <a:pt x="72" y="1776"/>
                  </a:lnTo>
                  <a:lnTo>
                    <a:pt x="74" y="1781"/>
                  </a:lnTo>
                  <a:lnTo>
                    <a:pt x="76" y="1785"/>
                  </a:lnTo>
                  <a:lnTo>
                    <a:pt x="72" y="1790"/>
                  </a:lnTo>
                  <a:lnTo>
                    <a:pt x="72" y="1794"/>
                  </a:lnTo>
                  <a:lnTo>
                    <a:pt x="70" y="1799"/>
                  </a:lnTo>
                  <a:lnTo>
                    <a:pt x="68" y="1803"/>
                  </a:lnTo>
                  <a:lnTo>
                    <a:pt x="66" y="1808"/>
                  </a:lnTo>
                  <a:lnTo>
                    <a:pt x="62" y="1812"/>
                  </a:lnTo>
                  <a:lnTo>
                    <a:pt x="57" y="1817"/>
                  </a:lnTo>
                  <a:lnTo>
                    <a:pt x="55" y="1821"/>
                  </a:lnTo>
                  <a:lnTo>
                    <a:pt x="55" y="1826"/>
                  </a:lnTo>
                  <a:lnTo>
                    <a:pt x="57" y="1830"/>
                  </a:lnTo>
                  <a:lnTo>
                    <a:pt x="59" y="1835"/>
                  </a:lnTo>
                  <a:lnTo>
                    <a:pt x="64" y="1839"/>
                  </a:lnTo>
                  <a:lnTo>
                    <a:pt x="66" y="1844"/>
                  </a:lnTo>
                  <a:lnTo>
                    <a:pt x="68" y="1848"/>
                  </a:lnTo>
                  <a:lnTo>
                    <a:pt x="70" y="1853"/>
                  </a:lnTo>
                  <a:lnTo>
                    <a:pt x="66" y="1857"/>
                  </a:lnTo>
                  <a:lnTo>
                    <a:pt x="62" y="1862"/>
                  </a:lnTo>
                  <a:lnTo>
                    <a:pt x="49" y="1866"/>
                  </a:lnTo>
                  <a:lnTo>
                    <a:pt x="47" y="1871"/>
                  </a:lnTo>
                  <a:lnTo>
                    <a:pt x="47" y="1875"/>
                  </a:lnTo>
                  <a:lnTo>
                    <a:pt x="70" y="1880"/>
                  </a:lnTo>
                  <a:lnTo>
                    <a:pt x="89" y="1884"/>
                  </a:lnTo>
                  <a:lnTo>
                    <a:pt x="98" y="1889"/>
                  </a:lnTo>
                  <a:lnTo>
                    <a:pt x="98" y="1893"/>
                  </a:lnTo>
                  <a:lnTo>
                    <a:pt x="96" y="1898"/>
                  </a:lnTo>
                  <a:lnTo>
                    <a:pt x="79" y="1902"/>
                  </a:lnTo>
                  <a:lnTo>
                    <a:pt x="70" y="1907"/>
                  </a:lnTo>
                  <a:lnTo>
                    <a:pt x="70" y="1911"/>
                  </a:lnTo>
                  <a:lnTo>
                    <a:pt x="68" y="1916"/>
                  </a:lnTo>
                  <a:lnTo>
                    <a:pt x="64" y="1920"/>
                  </a:lnTo>
                  <a:lnTo>
                    <a:pt x="64" y="1925"/>
                  </a:lnTo>
                  <a:lnTo>
                    <a:pt x="62" y="1929"/>
                  </a:lnTo>
                  <a:lnTo>
                    <a:pt x="64" y="1934"/>
                  </a:lnTo>
                  <a:lnTo>
                    <a:pt x="66" y="1938"/>
                  </a:lnTo>
                  <a:lnTo>
                    <a:pt x="68" y="1943"/>
                  </a:lnTo>
                  <a:lnTo>
                    <a:pt x="68" y="1947"/>
                  </a:lnTo>
                  <a:lnTo>
                    <a:pt x="68" y="1952"/>
                  </a:lnTo>
                  <a:lnTo>
                    <a:pt x="68" y="1956"/>
                  </a:lnTo>
                  <a:lnTo>
                    <a:pt x="66" y="1961"/>
                  </a:lnTo>
                  <a:lnTo>
                    <a:pt x="64" y="1965"/>
                  </a:lnTo>
                  <a:lnTo>
                    <a:pt x="64" y="1970"/>
                  </a:lnTo>
                  <a:lnTo>
                    <a:pt x="64" y="1974"/>
                  </a:lnTo>
                  <a:lnTo>
                    <a:pt x="64" y="1979"/>
                  </a:lnTo>
                  <a:lnTo>
                    <a:pt x="64" y="1983"/>
                  </a:lnTo>
                  <a:lnTo>
                    <a:pt x="64" y="1988"/>
                  </a:lnTo>
                  <a:lnTo>
                    <a:pt x="55" y="1992"/>
                  </a:lnTo>
                  <a:lnTo>
                    <a:pt x="51" y="1997"/>
                  </a:lnTo>
                  <a:lnTo>
                    <a:pt x="47" y="2001"/>
                  </a:lnTo>
                  <a:lnTo>
                    <a:pt x="42" y="2006"/>
                  </a:lnTo>
                  <a:lnTo>
                    <a:pt x="42" y="2010"/>
                  </a:lnTo>
                  <a:lnTo>
                    <a:pt x="42" y="2015"/>
                  </a:lnTo>
                  <a:lnTo>
                    <a:pt x="42" y="2019"/>
                  </a:lnTo>
                  <a:lnTo>
                    <a:pt x="45" y="2024"/>
                  </a:lnTo>
                  <a:lnTo>
                    <a:pt x="45" y="2028"/>
                  </a:lnTo>
                  <a:lnTo>
                    <a:pt x="47" y="2033"/>
                  </a:lnTo>
                  <a:lnTo>
                    <a:pt x="47" y="2037"/>
                  </a:lnTo>
                  <a:lnTo>
                    <a:pt x="45" y="2042"/>
                  </a:lnTo>
                  <a:lnTo>
                    <a:pt x="42" y="2046"/>
                  </a:lnTo>
                  <a:lnTo>
                    <a:pt x="40" y="2051"/>
                  </a:lnTo>
                  <a:lnTo>
                    <a:pt x="40" y="2055"/>
                  </a:lnTo>
                  <a:lnTo>
                    <a:pt x="42" y="2060"/>
                  </a:lnTo>
                  <a:lnTo>
                    <a:pt x="51" y="2064"/>
                  </a:lnTo>
                  <a:lnTo>
                    <a:pt x="57" y="2069"/>
                  </a:lnTo>
                  <a:lnTo>
                    <a:pt x="76" y="2073"/>
                  </a:lnTo>
                  <a:lnTo>
                    <a:pt x="93" y="2078"/>
                  </a:lnTo>
                  <a:lnTo>
                    <a:pt x="108" y="2082"/>
                  </a:lnTo>
                  <a:lnTo>
                    <a:pt x="130" y="2087"/>
                  </a:lnTo>
                  <a:lnTo>
                    <a:pt x="132" y="2091"/>
                  </a:lnTo>
                  <a:lnTo>
                    <a:pt x="151" y="2096"/>
                  </a:lnTo>
                  <a:lnTo>
                    <a:pt x="157" y="2100"/>
                  </a:lnTo>
                  <a:lnTo>
                    <a:pt x="157" y="2105"/>
                  </a:lnTo>
                  <a:lnTo>
                    <a:pt x="155" y="2109"/>
                  </a:lnTo>
                  <a:lnTo>
                    <a:pt x="151" y="2114"/>
                  </a:lnTo>
                  <a:lnTo>
                    <a:pt x="142" y="2118"/>
                  </a:lnTo>
                  <a:lnTo>
                    <a:pt x="138" y="2123"/>
                  </a:lnTo>
                  <a:lnTo>
                    <a:pt x="138" y="2127"/>
                  </a:lnTo>
                  <a:lnTo>
                    <a:pt x="144" y="2132"/>
                  </a:lnTo>
                  <a:lnTo>
                    <a:pt x="159" y="2136"/>
                  </a:lnTo>
                  <a:lnTo>
                    <a:pt x="174" y="2141"/>
                  </a:lnTo>
                  <a:lnTo>
                    <a:pt x="181" y="2145"/>
                  </a:lnTo>
                  <a:lnTo>
                    <a:pt x="187" y="2150"/>
                  </a:lnTo>
                  <a:lnTo>
                    <a:pt x="193" y="2154"/>
                  </a:lnTo>
                  <a:lnTo>
                    <a:pt x="193" y="2159"/>
                  </a:lnTo>
                  <a:lnTo>
                    <a:pt x="193" y="2163"/>
                  </a:lnTo>
                  <a:lnTo>
                    <a:pt x="193" y="2168"/>
                  </a:lnTo>
                  <a:lnTo>
                    <a:pt x="191" y="2172"/>
                  </a:lnTo>
                  <a:lnTo>
                    <a:pt x="191" y="2177"/>
                  </a:lnTo>
                  <a:lnTo>
                    <a:pt x="185" y="2181"/>
                  </a:lnTo>
                  <a:lnTo>
                    <a:pt x="183" y="2186"/>
                  </a:lnTo>
                  <a:lnTo>
                    <a:pt x="176" y="2190"/>
                  </a:lnTo>
                  <a:lnTo>
                    <a:pt x="172" y="2195"/>
                  </a:lnTo>
                  <a:lnTo>
                    <a:pt x="168" y="2199"/>
                  </a:lnTo>
                  <a:lnTo>
                    <a:pt x="164" y="2204"/>
                  </a:lnTo>
                  <a:lnTo>
                    <a:pt x="161" y="2208"/>
                  </a:lnTo>
                  <a:lnTo>
                    <a:pt x="159" y="2213"/>
                  </a:lnTo>
                  <a:lnTo>
                    <a:pt x="159" y="2217"/>
                  </a:lnTo>
                  <a:lnTo>
                    <a:pt x="161" y="2222"/>
                  </a:lnTo>
                  <a:lnTo>
                    <a:pt x="170" y="2226"/>
                  </a:lnTo>
                  <a:lnTo>
                    <a:pt x="174" y="2231"/>
                  </a:lnTo>
                  <a:lnTo>
                    <a:pt x="178" y="2235"/>
                  </a:lnTo>
                  <a:lnTo>
                    <a:pt x="198" y="2240"/>
                  </a:lnTo>
                  <a:lnTo>
                    <a:pt x="215" y="2244"/>
                  </a:lnTo>
                  <a:lnTo>
                    <a:pt x="232" y="2249"/>
                  </a:lnTo>
                  <a:lnTo>
                    <a:pt x="242" y="2253"/>
                  </a:lnTo>
                  <a:lnTo>
                    <a:pt x="242" y="2258"/>
                  </a:lnTo>
                  <a:lnTo>
                    <a:pt x="244" y="2262"/>
                  </a:lnTo>
                  <a:lnTo>
                    <a:pt x="246" y="2267"/>
                  </a:lnTo>
                  <a:lnTo>
                    <a:pt x="246" y="2271"/>
                  </a:lnTo>
                  <a:lnTo>
                    <a:pt x="246" y="2276"/>
                  </a:lnTo>
                  <a:lnTo>
                    <a:pt x="246" y="2280"/>
                  </a:lnTo>
                  <a:lnTo>
                    <a:pt x="246" y="2285"/>
                  </a:lnTo>
                  <a:lnTo>
                    <a:pt x="249" y="2289"/>
                  </a:lnTo>
                  <a:lnTo>
                    <a:pt x="253" y="2294"/>
                  </a:lnTo>
                  <a:lnTo>
                    <a:pt x="255" y="2298"/>
                  </a:lnTo>
                  <a:lnTo>
                    <a:pt x="242" y="2303"/>
                  </a:lnTo>
                  <a:lnTo>
                    <a:pt x="238" y="2307"/>
                  </a:lnTo>
                  <a:lnTo>
                    <a:pt x="227" y="2312"/>
                  </a:lnTo>
                  <a:lnTo>
                    <a:pt x="219" y="2316"/>
                  </a:lnTo>
                  <a:lnTo>
                    <a:pt x="212" y="2321"/>
                  </a:lnTo>
                  <a:lnTo>
                    <a:pt x="204" y="2325"/>
                  </a:lnTo>
                  <a:lnTo>
                    <a:pt x="193" y="2330"/>
                  </a:lnTo>
                  <a:lnTo>
                    <a:pt x="191" y="2334"/>
                  </a:lnTo>
                  <a:lnTo>
                    <a:pt x="187" y="2339"/>
                  </a:lnTo>
                  <a:lnTo>
                    <a:pt x="183" y="2343"/>
                  </a:lnTo>
                  <a:lnTo>
                    <a:pt x="181" y="2348"/>
                  </a:lnTo>
                  <a:lnTo>
                    <a:pt x="174" y="2352"/>
                  </a:lnTo>
                  <a:lnTo>
                    <a:pt x="172" y="2357"/>
                  </a:lnTo>
                  <a:lnTo>
                    <a:pt x="168" y="2361"/>
                  </a:lnTo>
                  <a:lnTo>
                    <a:pt x="164" y="2366"/>
                  </a:lnTo>
                  <a:lnTo>
                    <a:pt x="159" y="2370"/>
                  </a:lnTo>
                  <a:lnTo>
                    <a:pt x="157" y="2375"/>
                  </a:lnTo>
                  <a:lnTo>
                    <a:pt x="155" y="2379"/>
                  </a:lnTo>
                  <a:lnTo>
                    <a:pt x="153" y="2384"/>
                  </a:lnTo>
                  <a:lnTo>
                    <a:pt x="151" y="2388"/>
                  </a:lnTo>
                  <a:lnTo>
                    <a:pt x="149" y="2393"/>
                  </a:lnTo>
                  <a:lnTo>
                    <a:pt x="149" y="2397"/>
                  </a:lnTo>
                  <a:lnTo>
                    <a:pt x="149" y="2402"/>
                  </a:lnTo>
                  <a:lnTo>
                    <a:pt x="149" y="2406"/>
                  </a:lnTo>
                  <a:lnTo>
                    <a:pt x="149" y="2411"/>
                  </a:lnTo>
                  <a:lnTo>
                    <a:pt x="147" y="2415"/>
                  </a:lnTo>
                  <a:lnTo>
                    <a:pt x="147" y="2420"/>
                  </a:lnTo>
                  <a:lnTo>
                    <a:pt x="144" y="2424"/>
                  </a:lnTo>
                  <a:lnTo>
                    <a:pt x="144" y="2429"/>
                  </a:lnTo>
                  <a:lnTo>
                    <a:pt x="144" y="2433"/>
                  </a:lnTo>
                  <a:lnTo>
                    <a:pt x="142" y="2438"/>
                  </a:lnTo>
                  <a:lnTo>
                    <a:pt x="140" y="2442"/>
                  </a:lnTo>
                  <a:lnTo>
                    <a:pt x="140" y="2447"/>
                  </a:lnTo>
                  <a:lnTo>
                    <a:pt x="138" y="2451"/>
                  </a:lnTo>
                  <a:lnTo>
                    <a:pt x="136" y="2456"/>
                  </a:lnTo>
                  <a:lnTo>
                    <a:pt x="134" y="2460"/>
                  </a:lnTo>
                  <a:lnTo>
                    <a:pt x="132" y="2465"/>
                  </a:lnTo>
                  <a:lnTo>
                    <a:pt x="132" y="2469"/>
                  </a:lnTo>
                  <a:lnTo>
                    <a:pt x="132" y="2474"/>
                  </a:lnTo>
                  <a:lnTo>
                    <a:pt x="136" y="2478"/>
                  </a:lnTo>
                  <a:lnTo>
                    <a:pt x="142" y="2483"/>
                  </a:lnTo>
                  <a:lnTo>
                    <a:pt x="149" y="2487"/>
                  </a:lnTo>
                  <a:lnTo>
                    <a:pt x="151" y="2492"/>
                  </a:lnTo>
                  <a:lnTo>
                    <a:pt x="155" y="2496"/>
                  </a:lnTo>
                  <a:lnTo>
                    <a:pt x="161" y="2501"/>
                  </a:lnTo>
                  <a:lnTo>
                    <a:pt x="166" y="2505"/>
                  </a:lnTo>
                  <a:lnTo>
                    <a:pt x="168" y="2510"/>
                  </a:lnTo>
                  <a:lnTo>
                    <a:pt x="172" y="2514"/>
                  </a:lnTo>
                  <a:lnTo>
                    <a:pt x="172" y="2519"/>
                  </a:lnTo>
                  <a:lnTo>
                    <a:pt x="170" y="2523"/>
                  </a:lnTo>
                  <a:lnTo>
                    <a:pt x="166" y="2528"/>
                  </a:lnTo>
                  <a:lnTo>
                    <a:pt x="164" y="2532"/>
                  </a:lnTo>
                  <a:lnTo>
                    <a:pt x="157" y="2537"/>
                  </a:lnTo>
                  <a:lnTo>
                    <a:pt x="155" y="2541"/>
                  </a:lnTo>
                  <a:lnTo>
                    <a:pt x="155" y="2546"/>
                  </a:lnTo>
                  <a:lnTo>
                    <a:pt x="155" y="2550"/>
                  </a:lnTo>
                  <a:lnTo>
                    <a:pt x="155" y="2555"/>
                  </a:lnTo>
                  <a:lnTo>
                    <a:pt x="155" y="2559"/>
                  </a:lnTo>
                  <a:lnTo>
                    <a:pt x="153" y="2564"/>
                  </a:lnTo>
                  <a:lnTo>
                    <a:pt x="151" y="2568"/>
                  </a:lnTo>
                  <a:lnTo>
                    <a:pt x="149" y="2573"/>
                  </a:lnTo>
                  <a:lnTo>
                    <a:pt x="149" y="2577"/>
                  </a:lnTo>
                  <a:lnTo>
                    <a:pt x="149" y="2582"/>
                  </a:lnTo>
                </a:path>
              </a:pathLst>
            </a:custGeom>
            <a:noFill/>
            <a:ln w="28440">
              <a:solidFill>
                <a:srgbClr val="008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9" name="Freeform 286"/>
            <p:cNvSpPr/>
            <p:nvPr/>
          </p:nvSpPr>
          <p:spPr>
            <a:xfrm>
              <a:off x="3854520" y="2157480"/>
              <a:ext cx="987480" cy="4379760"/>
            </a:xfrm>
            <a:custGeom>
              <a:avLst/>
              <a:gdLst>
                <a:gd name="textAreaLeft" fmla="*/ 0 w 987480"/>
                <a:gd name="textAreaRight" fmla="*/ 987840 w 987480"/>
                <a:gd name="textAreaTop" fmla="*/ 0 h 4379760"/>
                <a:gd name="textAreaBottom" fmla="*/ 4380120 h 4379760"/>
              </a:gdLst>
              <a:ahLst/>
              <a:rect l="textAreaLeft" t="textAreaTop" r="textAreaRight" b="textAreaBottom"/>
              <a:pathLst>
                <a:path w="584" h="2582">
                  <a:moveTo>
                    <a:pt x="136" y="0"/>
                  </a:moveTo>
                  <a:lnTo>
                    <a:pt x="125" y="4"/>
                  </a:lnTo>
                  <a:lnTo>
                    <a:pt x="121" y="9"/>
                  </a:lnTo>
                  <a:lnTo>
                    <a:pt x="117" y="13"/>
                  </a:lnTo>
                  <a:lnTo>
                    <a:pt x="115" y="18"/>
                  </a:lnTo>
                  <a:lnTo>
                    <a:pt x="115" y="22"/>
                  </a:lnTo>
                  <a:lnTo>
                    <a:pt x="117" y="27"/>
                  </a:lnTo>
                  <a:lnTo>
                    <a:pt x="119" y="31"/>
                  </a:lnTo>
                  <a:lnTo>
                    <a:pt x="117" y="36"/>
                  </a:lnTo>
                  <a:lnTo>
                    <a:pt x="117" y="40"/>
                  </a:lnTo>
                  <a:lnTo>
                    <a:pt x="117" y="45"/>
                  </a:lnTo>
                  <a:lnTo>
                    <a:pt x="117" y="49"/>
                  </a:lnTo>
                  <a:lnTo>
                    <a:pt x="119" y="54"/>
                  </a:lnTo>
                  <a:lnTo>
                    <a:pt x="119" y="58"/>
                  </a:lnTo>
                  <a:lnTo>
                    <a:pt x="123" y="63"/>
                  </a:lnTo>
                  <a:lnTo>
                    <a:pt x="125" y="67"/>
                  </a:lnTo>
                  <a:lnTo>
                    <a:pt x="128" y="72"/>
                  </a:lnTo>
                  <a:lnTo>
                    <a:pt x="132" y="76"/>
                  </a:lnTo>
                  <a:lnTo>
                    <a:pt x="132" y="81"/>
                  </a:lnTo>
                  <a:lnTo>
                    <a:pt x="132" y="85"/>
                  </a:lnTo>
                  <a:lnTo>
                    <a:pt x="130" y="90"/>
                  </a:lnTo>
                  <a:lnTo>
                    <a:pt x="125" y="94"/>
                  </a:lnTo>
                  <a:lnTo>
                    <a:pt x="125" y="99"/>
                  </a:lnTo>
                  <a:lnTo>
                    <a:pt x="121" y="103"/>
                  </a:lnTo>
                  <a:lnTo>
                    <a:pt x="119" y="108"/>
                  </a:lnTo>
                  <a:lnTo>
                    <a:pt x="117" y="112"/>
                  </a:lnTo>
                  <a:lnTo>
                    <a:pt x="117" y="117"/>
                  </a:lnTo>
                  <a:lnTo>
                    <a:pt x="117" y="121"/>
                  </a:lnTo>
                  <a:lnTo>
                    <a:pt x="117" y="126"/>
                  </a:lnTo>
                  <a:lnTo>
                    <a:pt x="123" y="130"/>
                  </a:lnTo>
                  <a:lnTo>
                    <a:pt x="121" y="135"/>
                  </a:lnTo>
                  <a:lnTo>
                    <a:pt x="119" y="139"/>
                  </a:lnTo>
                  <a:lnTo>
                    <a:pt x="117" y="144"/>
                  </a:lnTo>
                  <a:lnTo>
                    <a:pt x="115" y="148"/>
                  </a:lnTo>
                  <a:lnTo>
                    <a:pt x="111" y="153"/>
                  </a:lnTo>
                  <a:lnTo>
                    <a:pt x="102" y="157"/>
                  </a:lnTo>
                  <a:lnTo>
                    <a:pt x="98" y="162"/>
                  </a:lnTo>
                  <a:lnTo>
                    <a:pt x="94" y="166"/>
                  </a:lnTo>
                  <a:lnTo>
                    <a:pt x="91" y="171"/>
                  </a:lnTo>
                  <a:lnTo>
                    <a:pt x="94" y="175"/>
                  </a:lnTo>
                  <a:lnTo>
                    <a:pt x="100" y="180"/>
                  </a:lnTo>
                  <a:lnTo>
                    <a:pt x="106" y="184"/>
                  </a:lnTo>
                  <a:lnTo>
                    <a:pt x="142" y="189"/>
                  </a:lnTo>
                  <a:lnTo>
                    <a:pt x="185" y="193"/>
                  </a:lnTo>
                  <a:lnTo>
                    <a:pt x="221" y="198"/>
                  </a:lnTo>
                  <a:lnTo>
                    <a:pt x="289" y="202"/>
                  </a:lnTo>
                  <a:lnTo>
                    <a:pt x="300" y="207"/>
                  </a:lnTo>
                  <a:lnTo>
                    <a:pt x="319" y="211"/>
                  </a:lnTo>
                  <a:lnTo>
                    <a:pt x="332" y="216"/>
                  </a:lnTo>
                  <a:lnTo>
                    <a:pt x="336" y="220"/>
                  </a:lnTo>
                  <a:lnTo>
                    <a:pt x="346" y="225"/>
                  </a:lnTo>
                  <a:lnTo>
                    <a:pt x="359" y="229"/>
                  </a:lnTo>
                  <a:lnTo>
                    <a:pt x="376" y="234"/>
                  </a:lnTo>
                  <a:lnTo>
                    <a:pt x="385" y="238"/>
                  </a:lnTo>
                  <a:lnTo>
                    <a:pt x="395" y="243"/>
                  </a:lnTo>
                  <a:lnTo>
                    <a:pt x="404" y="247"/>
                  </a:lnTo>
                  <a:lnTo>
                    <a:pt x="427" y="252"/>
                  </a:lnTo>
                  <a:lnTo>
                    <a:pt x="436" y="256"/>
                  </a:lnTo>
                  <a:lnTo>
                    <a:pt x="448" y="261"/>
                  </a:lnTo>
                  <a:lnTo>
                    <a:pt x="463" y="265"/>
                  </a:lnTo>
                  <a:lnTo>
                    <a:pt x="467" y="270"/>
                  </a:lnTo>
                  <a:lnTo>
                    <a:pt x="474" y="274"/>
                  </a:lnTo>
                  <a:lnTo>
                    <a:pt x="478" y="279"/>
                  </a:lnTo>
                  <a:lnTo>
                    <a:pt x="482" y="283"/>
                  </a:lnTo>
                  <a:lnTo>
                    <a:pt x="493" y="288"/>
                  </a:lnTo>
                  <a:lnTo>
                    <a:pt x="495" y="292"/>
                  </a:lnTo>
                  <a:lnTo>
                    <a:pt x="504" y="297"/>
                  </a:lnTo>
                  <a:lnTo>
                    <a:pt x="508" y="301"/>
                  </a:lnTo>
                  <a:lnTo>
                    <a:pt x="512" y="306"/>
                  </a:lnTo>
                  <a:lnTo>
                    <a:pt x="518" y="310"/>
                  </a:lnTo>
                  <a:lnTo>
                    <a:pt x="523" y="315"/>
                  </a:lnTo>
                  <a:lnTo>
                    <a:pt x="529" y="319"/>
                  </a:lnTo>
                  <a:lnTo>
                    <a:pt x="533" y="324"/>
                  </a:lnTo>
                  <a:lnTo>
                    <a:pt x="533" y="328"/>
                  </a:lnTo>
                  <a:lnTo>
                    <a:pt x="533" y="333"/>
                  </a:lnTo>
                  <a:lnTo>
                    <a:pt x="535" y="337"/>
                  </a:lnTo>
                  <a:lnTo>
                    <a:pt x="529" y="342"/>
                  </a:lnTo>
                  <a:lnTo>
                    <a:pt x="527" y="346"/>
                  </a:lnTo>
                  <a:lnTo>
                    <a:pt x="521" y="351"/>
                  </a:lnTo>
                  <a:lnTo>
                    <a:pt x="514" y="355"/>
                  </a:lnTo>
                  <a:lnTo>
                    <a:pt x="506" y="360"/>
                  </a:lnTo>
                  <a:lnTo>
                    <a:pt x="501" y="364"/>
                  </a:lnTo>
                  <a:lnTo>
                    <a:pt x="491" y="369"/>
                  </a:lnTo>
                  <a:lnTo>
                    <a:pt x="489" y="373"/>
                  </a:lnTo>
                  <a:lnTo>
                    <a:pt x="487" y="378"/>
                  </a:lnTo>
                  <a:lnTo>
                    <a:pt x="487" y="382"/>
                  </a:lnTo>
                  <a:lnTo>
                    <a:pt x="491" y="387"/>
                  </a:lnTo>
                  <a:lnTo>
                    <a:pt x="497" y="391"/>
                  </a:lnTo>
                  <a:lnTo>
                    <a:pt x="504" y="396"/>
                  </a:lnTo>
                  <a:lnTo>
                    <a:pt x="504" y="400"/>
                  </a:lnTo>
                  <a:lnTo>
                    <a:pt x="514" y="405"/>
                  </a:lnTo>
                  <a:lnTo>
                    <a:pt x="516" y="409"/>
                  </a:lnTo>
                  <a:lnTo>
                    <a:pt x="518" y="414"/>
                  </a:lnTo>
                  <a:lnTo>
                    <a:pt x="518" y="418"/>
                  </a:lnTo>
                  <a:lnTo>
                    <a:pt x="516" y="423"/>
                  </a:lnTo>
                  <a:lnTo>
                    <a:pt x="514" y="427"/>
                  </a:lnTo>
                  <a:lnTo>
                    <a:pt x="512" y="432"/>
                  </a:lnTo>
                  <a:lnTo>
                    <a:pt x="506" y="436"/>
                  </a:lnTo>
                  <a:lnTo>
                    <a:pt x="504" y="441"/>
                  </a:lnTo>
                  <a:lnTo>
                    <a:pt x="499" y="445"/>
                  </a:lnTo>
                  <a:lnTo>
                    <a:pt x="491" y="450"/>
                  </a:lnTo>
                  <a:lnTo>
                    <a:pt x="489" y="454"/>
                  </a:lnTo>
                  <a:lnTo>
                    <a:pt x="484" y="459"/>
                  </a:lnTo>
                  <a:lnTo>
                    <a:pt x="484" y="463"/>
                  </a:lnTo>
                  <a:lnTo>
                    <a:pt x="491" y="468"/>
                  </a:lnTo>
                  <a:lnTo>
                    <a:pt x="497" y="472"/>
                  </a:lnTo>
                  <a:lnTo>
                    <a:pt x="497" y="477"/>
                  </a:lnTo>
                  <a:lnTo>
                    <a:pt x="506" y="481"/>
                  </a:lnTo>
                  <a:lnTo>
                    <a:pt x="512" y="486"/>
                  </a:lnTo>
                  <a:lnTo>
                    <a:pt x="518" y="490"/>
                  </a:lnTo>
                  <a:lnTo>
                    <a:pt x="518" y="495"/>
                  </a:lnTo>
                  <a:lnTo>
                    <a:pt x="512" y="499"/>
                  </a:lnTo>
                  <a:lnTo>
                    <a:pt x="512" y="504"/>
                  </a:lnTo>
                  <a:lnTo>
                    <a:pt x="510" y="508"/>
                  </a:lnTo>
                  <a:lnTo>
                    <a:pt x="510" y="512"/>
                  </a:lnTo>
                  <a:lnTo>
                    <a:pt x="508" y="517"/>
                  </a:lnTo>
                  <a:lnTo>
                    <a:pt x="508" y="521"/>
                  </a:lnTo>
                  <a:lnTo>
                    <a:pt x="506" y="526"/>
                  </a:lnTo>
                  <a:lnTo>
                    <a:pt x="501" y="530"/>
                  </a:lnTo>
                  <a:lnTo>
                    <a:pt x="497" y="535"/>
                  </a:lnTo>
                  <a:lnTo>
                    <a:pt x="495" y="539"/>
                  </a:lnTo>
                  <a:lnTo>
                    <a:pt x="491" y="544"/>
                  </a:lnTo>
                  <a:lnTo>
                    <a:pt x="487" y="548"/>
                  </a:lnTo>
                  <a:lnTo>
                    <a:pt x="487" y="553"/>
                  </a:lnTo>
                  <a:lnTo>
                    <a:pt x="487" y="557"/>
                  </a:lnTo>
                  <a:lnTo>
                    <a:pt x="487" y="562"/>
                  </a:lnTo>
                  <a:lnTo>
                    <a:pt x="484" y="566"/>
                  </a:lnTo>
                  <a:lnTo>
                    <a:pt x="491" y="571"/>
                  </a:lnTo>
                  <a:lnTo>
                    <a:pt x="495" y="575"/>
                  </a:lnTo>
                  <a:lnTo>
                    <a:pt x="497" y="580"/>
                  </a:lnTo>
                  <a:lnTo>
                    <a:pt x="506" y="584"/>
                  </a:lnTo>
                  <a:lnTo>
                    <a:pt x="510" y="589"/>
                  </a:lnTo>
                  <a:lnTo>
                    <a:pt x="521" y="593"/>
                  </a:lnTo>
                  <a:lnTo>
                    <a:pt x="527" y="598"/>
                  </a:lnTo>
                  <a:lnTo>
                    <a:pt x="535" y="602"/>
                  </a:lnTo>
                  <a:lnTo>
                    <a:pt x="550" y="607"/>
                  </a:lnTo>
                  <a:lnTo>
                    <a:pt x="555" y="611"/>
                  </a:lnTo>
                  <a:lnTo>
                    <a:pt x="559" y="616"/>
                  </a:lnTo>
                  <a:lnTo>
                    <a:pt x="567" y="620"/>
                  </a:lnTo>
                  <a:lnTo>
                    <a:pt x="572" y="625"/>
                  </a:lnTo>
                  <a:lnTo>
                    <a:pt x="576" y="629"/>
                  </a:lnTo>
                  <a:lnTo>
                    <a:pt x="582" y="634"/>
                  </a:lnTo>
                  <a:lnTo>
                    <a:pt x="582" y="638"/>
                  </a:lnTo>
                  <a:lnTo>
                    <a:pt x="584" y="643"/>
                  </a:lnTo>
                  <a:lnTo>
                    <a:pt x="582" y="647"/>
                  </a:lnTo>
                  <a:lnTo>
                    <a:pt x="580" y="652"/>
                  </a:lnTo>
                  <a:lnTo>
                    <a:pt x="578" y="656"/>
                  </a:lnTo>
                  <a:lnTo>
                    <a:pt x="578" y="661"/>
                  </a:lnTo>
                  <a:lnTo>
                    <a:pt x="578" y="665"/>
                  </a:lnTo>
                  <a:lnTo>
                    <a:pt x="576" y="670"/>
                  </a:lnTo>
                  <a:lnTo>
                    <a:pt x="569" y="674"/>
                  </a:lnTo>
                  <a:lnTo>
                    <a:pt x="569" y="679"/>
                  </a:lnTo>
                  <a:lnTo>
                    <a:pt x="565" y="683"/>
                  </a:lnTo>
                  <a:lnTo>
                    <a:pt x="557" y="688"/>
                  </a:lnTo>
                  <a:lnTo>
                    <a:pt x="544" y="692"/>
                  </a:lnTo>
                  <a:lnTo>
                    <a:pt x="540" y="697"/>
                  </a:lnTo>
                  <a:lnTo>
                    <a:pt x="531" y="701"/>
                  </a:lnTo>
                  <a:lnTo>
                    <a:pt x="523" y="706"/>
                  </a:lnTo>
                  <a:lnTo>
                    <a:pt x="514" y="710"/>
                  </a:lnTo>
                  <a:lnTo>
                    <a:pt x="512" y="715"/>
                  </a:lnTo>
                  <a:lnTo>
                    <a:pt x="508" y="719"/>
                  </a:lnTo>
                  <a:lnTo>
                    <a:pt x="504" y="724"/>
                  </a:lnTo>
                  <a:lnTo>
                    <a:pt x="499" y="728"/>
                  </a:lnTo>
                  <a:lnTo>
                    <a:pt x="493" y="733"/>
                  </a:lnTo>
                  <a:lnTo>
                    <a:pt x="478" y="737"/>
                  </a:lnTo>
                  <a:lnTo>
                    <a:pt x="474" y="742"/>
                  </a:lnTo>
                  <a:lnTo>
                    <a:pt x="467" y="746"/>
                  </a:lnTo>
                  <a:lnTo>
                    <a:pt x="463" y="751"/>
                  </a:lnTo>
                  <a:lnTo>
                    <a:pt x="459" y="755"/>
                  </a:lnTo>
                  <a:lnTo>
                    <a:pt x="455" y="760"/>
                  </a:lnTo>
                  <a:lnTo>
                    <a:pt x="453" y="764"/>
                  </a:lnTo>
                  <a:lnTo>
                    <a:pt x="448" y="769"/>
                  </a:lnTo>
                  <a:lnTo>
                    <a:pt x="444" y="773"/>
                  </a:lnTo>
                  <a:lnTo>
                    <a:pt x="436" y="778"/>
                  </a:lnTo>
                  <a:lnTo>
                    <a:pt x="425" y="782"/>
                  </a:lnTo>
                  <a:lnTo>
                    <a:pt x="421" y="787"/>
                  </a:lnTo>
                  <a:lnTo>
                    <a:pt x="406" y="791"/>
                  </a:lnTo>
                  <a:lnTo>
                    <a:pt x="395" y="796"/>
                  </a:lnTo>
                  <a:lnTo>
                    <a:pt x="389" y="800"/>
                  </a:lnTo>
                  <a:lnTo>
                    <a:pt x="380" y="805"/>
                  </a:lnTo>
                  <a:lnTo>
                    <a:pt x="365" y="809"/>
                  </a:lnTo>
                  <a:lnTo>
                    <a:pt x="359" y="814"/>
                  </a:lnTo>
                  <a:lnTo>
                    <a:pt x="346" y="818"/>
                  </a:lnTo>
                  <a:lnTo>
                    <a:pt x="340" y="823"/>
                  </a:lnTo>
                  <a:lnTo>
                    <a:pt x="329" y="827"/>
                  </a:lnTo>
                  <a:lnTo>
                    <a:pt x="325" y="832"/>
                  </a:lnTo>
                  <a:lnTo>
                    <a:pt x="319" y="836"/>
                  </a:lnTo>
                  <a:lnTo>
                    <a:pt x="312" y="841"/>
                  </a:lnTo>
                  <a:lnTo>
                    <a:pt x="306" y="845"/>
                  </a:lnTo>
                  <a:lnTo>
                    <a:pt x="304" y="850"/>
                  </a:lnTo>
                  <a:lnTo>
                    <a:pt x="293" y="854"/>
                  </a:lnTo>
                  <a:lnTo>
                    <a:pt x="291" y="859"/>
                  </a:lnTo>
                  <a:lnTo>
                    <a:pt x="287" y="863"/>
                  </a:lnTo>
                  <a:lnTo>
                    <a:pt x="289" y="868"/>
                  </a:lnTo>
                  <a:lnTo>
                    <a:pt x="291" y="872"/>
                  </a:lnTo>
                  <a:lnTo>
                    <a:pt x="295" y="877"/>
                  </a:lnTo>
                  <a:lnTo>
                    <a:pt x="308" y="881"/>
                  </a:lnTo>
                  <a:lnTo>
                    <a:pt x="321" y="886"/>
                  </a:lnTo>
                  <a:lnTo>
                    <a:pt x="334" y="890"/>
                  </a:lnTo>
                  <a:lnTo>
                    <a:pt x="351" y="895"/>
                  </a:lnTo>
                  <a:lnTo>
                    <a:pt x="361" y="899"/>
                  </a:lnTo>
                  <a:lnTo>
                    <a:pt x="376" y="904"/>
                  </a:lnTo>
                  <a:lnTo>
                    <a:pt x="389" y="908"/>
                  </a:lnTo>
                  <a:lnTo>
                    <a:pt x="410" y="913"/>
                  </a:lnTo>
                  <a:lnTo>
                    <a:pt x="436" y="917"/>
                  </a:lnTo>
                  <a:lnTo>
                    <a:pt x="453" y="922"/>
                  </a:lnTo>
                  <a:lnTo>
                    <a:pt x="467" y="926"/>
                  </a:lnTo>
                  <a:lnTo>
                    <a:pt x="480" y="931"/>
                  </a:lnTo>
                  <a:lnTo>
                    <a:pt x="516" y="935"/>
                  </a:lnTo>
                  <a:lnTo>
                    <a:pt x="523" y="940"/>
                  </a:lnTo>
                  <a:lnTo>
                    <a:pt x="529" y="944"/>
                  </a:lnTo>
                  <a:lnTo>
                    <a:pt x="533" y="949"/>
                  </a:lnTo>
                  <a:lnTo>
                    <a:pt x="529" y="953"/>
                  </a:lnTo>
                  <a:lnTo>
                    <a:pt x="523" y="958"/>
                  </a:lnTo>
                  <a:lnTo>
                    <a:pt x="501" y="962"/>
                  </a:lnTo>
                  <a:lnTo>
                    <a:pt x="493" y="967"/>
                  </a:lnTo>
                  <a:lnTo>
                    <a:pt x="461" y="971"/>
                  </a:lnTo>
                  <a:lnTo>
                    <a:pt x="433" y="976"/>
                  </a:lnTo>
                  <a:lnTo>
                    <a:pt x="419" y="980"/>
                  </a:lnTo>
                  <a:lnTo>
                    <a:pt x="410" y="985"/>
                  </a:lnTo>
                  <a:lnTo>
                    <a:pt x="380" y="989"/>
                  </a:lnTo>
                  <a:lnTo>
                    <a:pt x="363" y="994"/>
                  </a:lnTo>
                  <a:lnTo>
                    <a:pt x="319" y="998"/>
                  </a:lnTo>
                  <a:lnTo>
                    <a:pt x="302" y="1003"/>
                  </a:lnTo>
                  <a:lnTo>
                    <a:pt x="287" y="1007"/>
                  </a:lnTo>
                  <a:lnTo>
                    <a:pt x="291" y="1012"/>
                  </a:lnTo>
                  <a:lnTo>
                    <a:pt x="291" y="1016"/>
                  </a:lnTo>
                  <a:lnTo>
                    <a:pt x="298" y="1021"/>
                  </a:lnTo>
                  <a:lnTo>
                    <a:pt x="302" y="1025"/>
                  </a:lnTo>
                  <a:lnTo>
                    <a:pt x="304" y="1030"/>
                  </a:lnTo>
                  <a:lnTo>
                    <a:pt x="308" y="1034"/>
                  </a:lnTo>
                  <a:lnTo>
                    <a:pt x="310" y="1039"/>
                  </a:lnTo>
                  <a:lnTo>
                    <a:pt x="315" y="1043"/>
                  </a:lnTo>
                  <a:lnTo>
                    <a:pt x="317" y="1048"/>
                  </a:lnTo>
                  <a:lnTo>
                    <a:pt x="319" y="1052"/>
                  </a:lnTo>
                  <a:lnTo>
                    <a:pt x="319" y="1057"/>
                  </a:lnTo>
                  <a:lnTo>
                    <a:pt x="319" y="1061"/>
                  </a:lnTo>
                  <a:lnTo>
                    <a:pt x="310" y="1066"/>
                  </a:lnTo>
                  <a:lnTo>
                    <a:pt x="304" y="1070"/>
                  </a:lnTo>
                  <a:lnTo>
                    <a:pt x="302" y="1075"/>
                  </a:lnTo>
                  <a:lnTo>
                    <a:pt x="293" y="1079"/>
                  </a:lnTo>
                  <a:lnTo>
                    <a:pt x="287" y="1084"/>
                  </a:lnTo>
                  <a:lnTo>
                    <a:pt x="285" y="1088"/>
                  </a:lnTo>
                  <a:lnTo>
                    <a:pt x="283" y="1093"/>
                  </a:lnTo>
                  <a:lnTo>
                    <a:pt x="276" y="1097"/>
                  </a:lnTo>
                  <a:lnTo>
                    <a:pt x="270" y="1102"/>
                  </a:lnTo>
                  <a:lnTo>
                    <a:pt x="270" y="1106"/>
                  </a:lnTo>
                  <a:lnTo>
                    <a:pt x="272" y="1111"/>
                  </a:lnTo>
                  <a:lnTo>
                    <a:pt x="272" y="1115"/>
                  </a:lnTo>
                  <a:lnTo>
                    <a:pt x="274" y="1120"/>
                  </a:lnTo>
                  <a:lnTo>
                    <a:pt x="281" y="1124"/>
                  </a:lnTo>
                  <a:lnTo>
                    <a:pt x="283" y="1129"/>
                  </a:lnTo>
                  <a:lnTo>
                    <a:pt x="289" y="1133"/>
                  </a:lnTo>
                  <a:lnTo>
                    <a:pt x="291" y="1138"/>
                  </a:lnTo>
                  <a:lnTo>
                    <a:pt x="291" y="1142"/>
                  </a:lnTo>
                  <a:lnTo>
                    <a:pt x="289" y="1147"/>
                  </a:lnTo>
                  <a:lnTo>
                    <a:pt x="287" y="1151"/>
                  </a:lnTo>
                  <a:lnTo>
                    <a:pt x="285" y="1156"/>
                  </a:lnTo>
                  <a:lnTo>
                    <a:pt x="281" y="1160"/>
                  </a:lnTo>
                  <a:lnTo>
                    <a:pt x="278" y="1165"/>
                  </a:lnTo>
                  <a:lnTo>
                    <a:pt x="276" y="1169"/>
                  </a:lnTo>
                  <a:lnTo>
                    <a:pt x="274" y="1174"/>
                  </a:lnTo>
                  <a:lnTo>
                    <a:pt x="274" y="1178"/>
                  </a:lnTo>
                  <a:lnTo>
                    <a:pt x="274" y="1183"/>
                  </a:lnTo>
                  <a:lnTo>
                    <a:pt x="274" y="1187"/>
                  </a:lnTo>
                  <a:lnTo>
                    <a:pt x="276" y="1192"/>
                  </a:lnTo>
                  <a:lnTo>
                    <a:pt x="281" y="1196"/>
                  </a:lnTo>
                  <a:lnTo>
                    <a:pt x="281" y="1201"/>
                  </a:lnTo>
                  <a:lnTo>
                    <a:pt x="283" y="1205"/>
                  </a:lnTo>
                  <a:lnTo>
                    <a:pt x="285" y="1210"/>
                  </a:lnTo>
                  <a:lnTo>
                    <a:pt x="266" y="1214"/>
                  </a:lnTo>
                  <a:lnTo>
                    <a:pt x="251" y="1219"/>
                  </a:lnTo>
                  <a:lnTo>
                    <a:pt x="221" y="1223"/>
                  </a:lnTo>
                  <a:lnTo>
                    <a:pt x="200" y="1228"/>
                  </a:lnTo>
                  <a:lnTo>
                    <a:pt x="196" y="1232"/>
                  </a:lnTo>
                  <a:lnTo>
                    <a:pt x="181" y="1237"/>
                  </a:lnTo>
                  <a:lnTo>
                    <a:pt x="176" y="1241"/>
                  </a:lnTo>
                  <a:lnTo>
                    <a:pt x="170" y="1246"/>
                  </a:lnTo>
                  <a:lnTo>
                    <a:pt x="168" y="1250"/>
                  </a:lnTo>
                  <a:lnTo>
                    <a:pt x="166" y="1255"/>
                  </a:lnTo>
                  <a:lnTo>
                    <a:pt x="162" y="1259"/>
                  </a:lnTo>
                  <a:lnTo>
                    <a:pt x="162" y="1264"/>
                  </a:lnTo>
                  <a:lnTo>
                    <a:pt x="162" y="1268"/>
                  </a:lnTo>
                  <a:lnTo>
                    <a:pt x="162" y="1273"/>
                  </a:lnTo>
                  <a:lnTo>
                    <a:pt x="162" y="1277"/>
                  </a:lnTo>
                  <a:lnTo>
                    <a:pt x="162" y="1282"/>
                  </a:lnTo>
                  <a:lnTo>
                    <a:pt x="162" y="1286"/>
                  </a:lnTo>
                  <a:lnTo>
                    <a:pt x="162" y="1291"/>
                  </a:lnTo>
                  <a:lnTo>
                    <a:pt x="162" y="1295"/>
                  </a:lnTo>
                  <a:lnTo>
                    <a:pt x="159" y="1300"/>
                  </a:lnTo>
                  <a:lnTo>
                    <a:pt x="157" y="1304"/>
                  </a:lnTo>
                  <a:lnTo>
                    <a:pt x="155" y="1309"/>
                  </a:lnTo>
                  <a:lnTo>
                    <a:pt x="147" y="1313"/>
                  </a:lnTo>
                  <a:lnTo>
                    <a:pt x="147" y="1318"/>
                  </a:lnTo>
                  <a:lnTo>
                    <a:pt x="145" y="1322"/>
                  </a:lnTo>
                  <a:lnTo>
                    <a:pt x="145" y="1327"/>
                  </a:lnTo>
                  <a:lnTo>
                    <a:pt x="145" y="1331"/>
                  </a:lnTo>
                  <a:lnTo>
                    <a:pt x="147" y="1336"/>
                  </a:lnTo>
                  <a:lnTo>
                    <a:pt x="147" y="1340"/>
                  </a:lnTo>
                  <a:lnTo>
                    <a:pt x="147" y="1345"/>
                  </a:lnTo>
                  <a:lnTo>
                    <a:pt x="147" y="1349"/>
                  </a:lnTo>
                  <a:lnTo>
                    <a:pt x="145" y="1354"/>
                  </a:lnTo>
                  <a:lnTo>
                    <a:pt x="142" y="1358"/>
                  </a:lnTo>
                  <a:lnTo>
                    <a:pt x="130" y="1363"/>
                  </a:lnTo>
                  <a:lnTo>
                    <a:pt x="128" y="1367"/>
                  </a:lnTo>
                  <a:lnTo>
                    <a:pt x="119" y="1372"/>
                  </a:lnTo>
                  <a:lnTo>
                    <a:pt x="115" y="1376"/>
                  </a:lnTo>
                  <a:lnTo>
                    <a:pt x="108" y="1381"/>
                  </a:lnTo>
                  <a:lnTo>
                    <a:pt x="106" y="1385"/>
                  </a:lnTo>
                  <a:lnTo>
                    <a:pt x="104" y="1390"/>
                  </a:lnTo>
                  <a:lnTo>
                    <a:pt x="104" y="1394"/>
                  </a:lnTo>
                  <a:lnTo>
                    <a:pt x="102" y="1399"/>
                  </a:lnTo>
                  <a:lnTo>
                    <a:pt x="100" y="1403"/>
                  </a:lnTo>
                  <a:lnTo>
                    <a:pt x="98" y="1408"/>
                  </a:lnTo>
                  <a:lnTo>
                    <a:pt x="98" y="1412"/>
                  </a:lnTo>
                  <a:lnTo>
                    <a:pt x="98" y="1417"/>
                  </a:lnTo>
                  <a:lnTo>
                    <a:pt x="98" y="1421"/>
                  </a:lnTo>
                  <a:lnTo>
                    <a:pt x="100" y="1426"/>
                  </a:lnTo>
                  <a:lnTo>
                    <a:pt x="100" y="1430"/>
                  </a:lnTo>
                  <a:lnTo>
                    <a:pt x="100" y="1435"/>
                  </a:lnTo>
                  <a:lnTo>
                    <a:pt x="100" y="1439"/>
                  </a:lnTo>
                  <a:lnTo>
                    <a:pt x="100" y="1444"/>
                  </a:lnTo>
                  <a:lnTo>
                    <a:pt x="100" y="1448"/>
                  </a:lnTo>
                  <a:lnTo>
                    <a:pt x="100" y="1453"/>
                  </a:lnTo>
                  <a:lnTo>
                    <a:pt x="100" y="1457"/>
                  </a:lnTo>
                  <a:lnTo>
                    <a:pt x="100" y="1462"/>
                  </a:lnTo>
                  <a:lnTo>
                    <a:pt x="100" y="1466"/>
                  </a:lnTo>
                  <a:lnTo>
                    <a:pt x="98" y="1471"/>
                  </a:lnTo>
                  <a:lnTo>
                    <a:pt x="96" y="1475"/>
                  </a:lnTo>
                  <a:lnTo>
                    <a:pt x="91" y="1480"/>
                  </a:lnTo>
                  <a:lnTo>
                    <a:pt x="89" y="1484"/>
                  </a:lnTo>
                  <a:lnTo>
                    <a:pt x="85" y="1489"/>
                  </a:lnTo>
                  <a:lnTo>
                    <a:pt x="83" y="1493"/>
                  </a:lnTo>
                  <a:lnTo>
                    <a:pt x="83" y="1498"/>
                  </a:lnTo>
                  <a:lnTo>
                    <a:pt x="83" y="1502"/>
                  </a:lnTo>
                  <a:lnTo>
                    <a:pt x="83" y="1507"/>
                  </a:lnTo>
                  <a:lnTo>
                    <a:pt x="85" y="1511"/>
                  </a:lnTo>
                  <a:lnTo>
                    <a:pt x="87" y="1516"/>
                  </a:lnTo>
                  <a:lnTo>
                    <a:pt x="89" y="1520"/>
                  </a:lnTo>
                  <a:lnTo>
                    <a:pt x="91" y="1525"/>
                  </a:lnTo>
                  <a:lnTo>
                    <a:pt x="94" y="1529"/>
                  </a:lnTo>
                  <a:lnTo>
                    <a:pt x="94" y="1534"/>
                  </a:lnTo>
                  <a:lnTo>
                    <a:pt x="94" y="1538"/>
                  </a:lnTo>
                  <a:lnTo>
                    <a:pt x="91" y="1543"/>
                  </a:lnTo>
                  <a:lnTo>
                    <a:pt x="87" y="1547"/>
                  </a:lnTo>
                  <a:lnTo>
                    <a:pt x="83" y="1552"/>
                  </a:lnTo>
                  <a:lnTo>
                    <a:pt x="81" y="1556"/>
                  </a:lnTo>
                  <a:lnTo>
                    <a:pt x="77" y="1560"/>
                  </a:lnTo>
                  <a:lnTo>
                    <a:pt x="62" y="1565"/>
                  </a:lnTo>
                  <a:lnTo>
                    <a:pt x="47" y="1569"/>
                  </a:lnTo>
                  <a:lnTo>
                    <a:pt x="38" y="1574"/>
                  </a:lnTo>
                  <a:lnTo>
                    <a:pt x="36" y="1578"/>
                  </a:lnTo>
                  <a:lnTo>
                    <a:pt x="26" y="1583"/>
                  </a:lnTo>
                  <a:lnTo>
                    <a:pt x="23" y="1587"/>
                  </a:lnTo>
                  <a:lnTo>
                    <a:pt x="21" y="1592"/>
                  </a:lnTo>
                  <a:lnTo>
                    <a:pt x="19" y="1596"/>
                  </a:lnTo>
                  <a:lnTo>
                    <a:pt x="15" y="1601"/>
                  </a:lnTo>
                  <a:lnTo>
                    <a:pt x="11" y="1605"/>
                  </a:lnTo>
                  <a:lnTo>
                    <a:pt x="6" y="1610"/>
                  </a:lnTo>
                  <a:lnTo>
                    <a:pt x="6" y="1614"/>
                  </a:lnTo>
                  <a:lnTo>
                    <a:pt x="4" y="1619"/>
                  </a:lnTo>
                  <a:lnTo>
                    <a:pt x="4" y="1623"/>
                  </a:lnTo>
                  <a:lnTo>
                    <a:pt x="2" y="1628"/>
                  </a:lnTo>
                  <a:lnTo>
                    <a:pt x="2" y="1632"/>
                  </a:lnTo>
                  <a:lnTo>
                    <a:pt x="2" y="1637"/>
                  </a:lnTo>
                  <a:lnTo>
                    <a:pt x="0" y="1641"/>
                  </a:lnTo>
                  <a:lnTo>
                    <a:pt x="0" y="1646"/>
                  </a:lnTo>
                  <a:lnTo>
                    <a:pt x="0" y="1650"/>
                  </a:lnTo>
                  <a:lnTo>
                    <a:pt x="0" y="1655"/>
                  </a:lnTo>
                  <a:lnTo>
                    <a:pt x="0" y="1659"/>
                  </a:lnTo>
                  <a:lnTo>
                    <a:pt x="2" y="1664"/>
                  </a:lnTo>
                  <a:lnTo>
                    <a:pt x="2" y="1668"/>
                  </a:lnTo>
                  <a:lnTo>
                    <a:pt x="9" y="1673"/>
                  </a:lnTo>
                  <a:lnTo>
                    <a:pt x="9" y="1677"/>
                  </a:lnTo>
                  <a:lnTo>
                    <a:pt x="11" y="1682"/>
                  </a:lnTo>
                  <a:lnTo>
                    <a:pt x="13" y="1686"/>
                  </a:lnTo>
                  <a:lnTo>
                    <a:pt x="15" y="1691"/>
                  </a:lnTo>
                  <a:lnTo>
                    <a:pt x="19" y="1695"/>
                  </a:lnTo>
                  <a:lnTo>
                    <a:pt x="21" y="1700"/>
                  </a:lnTo>
                  <a:lnTo>
                    <a:pt x="21" y="1704"/>
                  </a:lnTo>
                  <a:lnTo>
                    <a:pt x="23" y="1709"/>
                  </a:lnTo>
                  <a:lnTo>
                    <a:pt x="26" y="1713"/>
                  </a:lnTo>
                  <a:lnTo>
                    <a:pt x="28" y="1718"/>
                  </a:lnTo>
                  <a:lnTo>
                    <a:pt x="30" y="1722"/>
                  </a:lnTo>
                  <a:lnTo>
                    <a:pt x="34" y="1727"/>
                  </a:lnTo>
                  <a:lnTo>
                    <a:pt x="38" y="1731"/>
                  </a:lnTo>
                  <a:lnTo>
                    <a:pt x="43" y="1736"/>
                  </a:lnTo>
                  <a:lnTo>
                    <a:pt x="49" y="1740"/>
                  </a:lnTo>
                  <a:lnTo>
                    <a:pt x="53" y="1745"/>
                  </a:lnTo>
                  <a:lnTo>
                    <a:pt x="57" y="1749"/>
                  </a:lnTo>
                  <a:lnTo>
                    <a:pt x="64" y="1754"/>
                  </a:lnTo>
                  <a:lnTo>
                    <a:pt x="66" y="1758"/>
                  </a:lnTo>
                  <a:lnTo>
                    <a:pt x="68" y="1763"/>
                  </a:lnTo>
                  <a:lnTo>
                    <a:pt x="72" y="1767"/>
                  </a:lnTo>
                  <a:lnTo>
                    <a:pt x="79" y="1772"/>
                  </a:lnTo>
                  <a:lnTo>
                    <a:pt x="81" y="1776"/>
                  </a:lnTo>
                  <a:lnTo>
                    <a:pt x="83" y="1781"/>
                  </a:lnTo>
                  <a:lnTo>
                    <a:pt x="89" y="1785"/>
                  </a:lnTo>
                  <a:lnTo>
                    <a:pt x="91" y="1790"/>
                  </a:lnTo>
                  <a:lnTo>
                    <a:pt x="91" y="1794"/>
                  </a:lnTo>
                  <a:lnTo>
                    <a:pt x="91" y="1799"/>
                  </a:lnTo>
                  <a:lnTo>
                    <a:pt x="91" y="1803"/>
                  </a:lnTo>
                  <a:lnTo>
                    <a:pt x="94" y="1808"/>
                  </a:lnTo>
                  <a:lnTo>
                    <a:pt x="94" y="1812"/>
                  </a:lnTo>
                  <a:lnTo>
                    <a:pt x="94" y="1817"/>
                  </a:lnTo>
                  <a:lnTo>
                    <a:pt x="91" y="1821"/>
                  </a:lnTo>
                  <a:lnTo>
                    <a:pt x="89" y="1826"/>
                  </a:lnTo>
                  <a:lnTo>
                    <a:pt x="89" y="1830"/>
                  </a:lnTo>
                  <a:lnTo>
                    <a:pt x="89" y="1835"/>
                  </a:lnTo>
                  <a:lnTo>
                    <a:pt x="91" y="1839"/>
                  </a:lnTo>
                  <a:lnTo>
                    <a:pt x="91" y="1844"/>
                  </a:lnTo>
                  <a:lnTo>
                    <a:pt x="94" y="1848"/>
                  </a:lnTo>
                  <a:lnTo>
                    <a:pt x="96" y="1853"/>
                  </a:lnTo>
                  <a:lnTo>
                    <a:pt x="96" y="1857"/>
                  </a:lnTo>
                  <a:lnTo>
                    <a:pt x="94" y="1862"/>
                  </a:lnTo>
                  <a:lnTo>
                    <a:pt x="94" y="1866"/>
                  </a:lnTo>
                  <a:lnTo>
                    <a:pt x="94" y="1871"/>
                  </a:lnTo>
                  <a:lnTo>
                    <a:pt x="98" y="1875"/>
                  </a:lnTo>
                  <a:lnTo>
                    <a:pt x="104" y="1880"/>
                  </a:lnTo>
                  <a:lnTo>
                    <a:pt x="108" y="1884"/>
                  </a:lnTo>
                  <a:lnTo>
                    <a:pt x="111" y="1889"/>
                  </a:lnTo>
                  <a:lnTo>
                    <a:pt x="111" y="1893"/>
                  </a:lnTo>
                  <a:lnTo>
                    <a:pt x="113" y="1898"/>
                  </a:lnTo>
                  <a:lnTo>
                    <a:pt x="111" y="1902"/>
                  </a:lnTo>
                  <a:lnTo>
                    <a:pt x="106" y="1907"/>
                  </a:lnTo>
                  <a:lnTo>
                    <a:pt x="106" y="1911"/>
                  </a:lnTo>
                  <a:lnTo>
                    <a:pt x="104" y="1916"/>
                  </a:lnTo>
                  <a:lnTo>
                    <a:pt x="102" y="1920"/>
                  </a:lnTo>
                  <a:lnTo>
                    <a:pt x="102" y="1925"/>
                  </a:lnTo>
                  <a:lnTo>
                    <a:pt x="100" y="1929"/>
                  </a:lnTo>
                  <a:lnTo>
                    <a:pt x="100" y="1934"/>
                  </a:lnTo>
                  <a:lnTo>
                    <a:pt x="100" y="1938"/>
                  </a:lnTo>
                  <a:lnTo>
                    <a:pt x="102" y="1943"/>
                  </a:lnTo>
                  <a:lnTo>
                    <a:pt x="102" y="1947"/>
                  </a:lnTo>
                  <a:lnTo>
                    <a:pt x="102" y="1952"/>
                  </a:lnTo>
                  <a:lnTo>
                    <a:pt x="102" y="1956"/>
                  </a:lnTo>
                  <a:lnTo>
                    <a:pt x="102" y="1961"/>
                  </a:lnTo>
                  <a:lnTo>
                    <a:pt x="98" y="1965"/>
                  </a:lnTo>
                  <a:lnTo>
                    <a:pt x="96" y="1970"/>
                  </a:lnTo>
                  <a:lnTo>
                    <a:pt x="94" y="1974"/>
                  </a:lnTo>
                  <a:lnTo>
                    <a:pt x="94" y="1979"/>
                  </a:lnTo>
                  <a:lnTo>
                    <a:pt x="94" y="1983"/>
                  </a:lnTo>
                  <a:lnTo>
                    <a:pt x="94" y="1988"/>
                  </a:lnTo>
                  <a:lnTo>
                    <a:pt x="96" y="1992"/>
                  </a:lnTo>
                  <a:lnTo>
                    <a:pt x="96" y="1997"/>
                  </a:lnTo>
                  <a:lnTo>
                    <a:pt x="96" y="2001"/>
                  </a:lnTo>
                  <a:lnTo>
                    <a:pt x="96" y="2006"/>
                  </a:lnTo>
                  <a:lnTo>
                    <a:pt x="94" y="2010"/>
                  </a:lnTo>
                  <a:lnTo>
                    <a:pt x="94" y="2015"/>
                  </a:lnTo>
                  <a:lnTo>
                    <a:pt x="94" y="2019"/>
                  </a:lnTo>
                  <a:lnTo>
                    <a:pt x="91" y="2024"/>
                  </a:lnTo>
                  <a:lnTo>
                    <a:pt x="91" y="2028"/>
                  </a:lnTo>
                  <a:lnTo>
                    <a:pt x="91" y="2033"/>
                  </a:lnTo>
                  <a:lnTo>
                    <a:pt x="91" y="2037"/>
                  </a:lnTo>
                  <a:lnTo>
                    <a:pt x="89" y="2042"/>
                  </a:lnTo>
                  <a:lnTo>
                    <a:pt x="89" y="2046"/>
                  </a:lnTo>
                  <a:lnTo>
                    <a:pt x="87" y="2051"/>
                  </a:lnTo>
                  <a:lnTo>
                    <a:pt x="89" y="2055"/>
                  </a:lnTo>
                  <a:lnTo>
                    <a:pt x="91" y="2060"/>
                  </a:lnTo>
                  <a:lnTo>
                    <a:pt x="96" y="2064"/>
                  </a:lnTo>
                  <a:lnTo>
                    <a:pt x="104" y="2069"/>
                  </a:lnTo>
                  <a:lnTo>
                    <a:pt x="115" y="2073"/>
                  </a:lnTo>
                  <a:lnTo>
                    <a:pt x="123" y="2078"/>
                  </a:lnTo>
                  <a:lnTo>
                    <a:pt x="136" y="2082"/>
                  </a:lnTo>
                  <a:lnTo>
                    <a:pt x="147" y="2087"/>
                  </a:lnTo>
                  <a:lnTo>
                    <a:pt x="151" y="2091"/>
                  </a:lnTo>
                  <a:lnTo>
                    <a:pt x="159" y="2096"/>
                  </a:lnTo>
                  <a:lnTo>
                    <a:pt x="166" y="2100"/>
                  </a:lnTo>
                  <a:lnTo>
                    <a:pt x="168" y="2105"/>
                  </a:lnTo>
                  <a:lnTo>
                    <a:pt x="172" y="2109"/>
                  </a:lnTo>
                  <a:lnTo>
                    <a:pt x="172" y="2114"/>
                  </a:lnTo>
                  <a:lnTo>
                    <a:pt x="172" y="2118"/>
                  </a:lnTo>
                  <a:lnTo>
                    <a:pt x="172" y="2123"/>
                  </a:lnTo>
                  <a:lnTo>
                    <a:pt x="172" y="2127"/>
                  </a:lnTo>
                  <a:lnTo>
                    <a:pt x="172" y="2132"/>
                  </a:lnTo>
                  <a:lnTo>
                    <a:pt x="174" y="2136"/>
                  </a:lnTo>
                  <a:lnTo>
                    <a:pt x="176" y="2141"/>
                  </a:lnTo>
                  <a:lnTo>
                    <a:pt x="179" y="2145"/>
                  </a:lnTo>
                  <a:lnTo>
                    <a:pt x="181" y="2150"/>
                  </a:lnTo>
                  <a:lnTo>
                    <a:pt x="183" y="2154"/>
                  </a:lnTo>
                  <a:lnTo>
                    <a:pt x="187" y="2159"/>
                  </a:lnTo>
                  <a:lnTo>
                    <a:pt x="189" y="2163"/>
                  </a:lnTo>
                  <a:lnTo>
                    <a:pt x="189" y="2168"/>
                  </a:lnTo>
                  <a:lnTo>
                    <a:pt x="189" y="2172"/>
                  </a:lnTo>
                  <a:lnTo>
                    <a:pt x="187" y="2177"/>
                  </a:lnTo>
                  <a:lnTo>
                    <a:pt x="185" y="2181"/>
                  </a:lnTo>
                  <a:lnTo>
                    <a:pt x="183" y="2186"/>
                  </a:lnTo>
                  <a:lnTo>
                    <a:pt x="181" y="2190"/>
                  </a:lnTo>
                  <a:lnTo>
                    <a:pt x="181" y="2195"/>
                  </a:lnTo>
                  <a:lnTo>
                    <a:pt x="179" y="2199"/>
                  </a:lnTo>
                  <a:lnTo>
                    <a:pt x="174" y="2204"/>
                  </a:lnTo>
                  <a:lnTo>
                    <a:pt x="174" y="2208"/>
                  </a:lnTo>
                  <a:lnTo>
                    <a:pt x="174" y="2213"/>
                  </a:lnTo>
                  <a:lnTo>
                    <a:pt x="176" y="2217"/>
                  </a:lnTo>
                  <a:lnTo>
                    <a:pt x="181" y="2222"/>
                  </a:lnTo>
                  <a:lnTo>
                    <a:pt x="187" y="2226"/>
                  </a:lnTo>
                  <a:lnTo>
                    <a:pt x="189" y="2231"/>
                  </a:lnTo>
                  <a:lnTo>
                    <a:pt x="193" y="2235"/>
                  </a:lnTo>
                  <a:lnTo>
                    <a:pt x="202" y="2240"/>
                  </a:lnTo>
                  <a:lnTo>
                    <a:pt x="206" y="2244"/>
                  </a:lnTo>
                  <a:lnTo>
                    <a:pt x="208" y="2249"/>
                  </a:lnTo>
                  <a:lnTo>
                    <a:pt x="210" y="2253"/>
                  </a:lnTo>
                  <a:lnTo>
                    <a:pt x="221" y="2258"/>
                  </a:lnTo>
                  <a:lnTo>
                    <a:pt x="223" y="2262"/>
                  </a:lnTo>
                  <a:lnTo>
                    <a:pt x="225" y="2267"/>
                  </a:lnTo>
                  <a:lnTo>
                    <a:pt x="225" y="2271"/>
                  </a:lnTo>
                  <a:lnTo>
                    <a:pt x="227" y="2276"/>
                  </a:lnTo>
                  <a:lnTo>
                    <a:pt x="230" y="2280"/>
                  </a:lnTo>
                  <a:lnTo>
                    <a:pt x="232" y="2285"/>
                  </a:lnTo>
                  <a:lnTo>
                    <a:pt x="232" y="2289"/>
                  </a:lnTo>
                  <a:lnTo>
                    <a:pt x="236" y="2294"/>
                  </a:lnTo>
                  <a:lnTo>
                    <a:pt x="240" y="2298"/>
                  </a:lnTo>
                  <a:lnTo>
                    <a:pt x="244" y="2303"/>
                  </a:lnTo>
                  <a:lnTo>
                    <a:pt x="249" y="2307"/>
                  </a:lnTo>
                  <a:lnTo>
                    <a:pt x="249" y="2312"/>
                  </a:lnTo>
                  <a:lnTo>
                    <a:pt x="249" y="2316"/>
                  </a:lnTo>
                  <a:lnTo>
                    <a:pt x="249" y="2321"/>
                  </a:lnTo>
                  <a:lnTo>
                    <a:pt x="249" y="2325"/>
                  </a:lnTo>
                  <a:lnTo>
                    <a:pt x="244" y="2330"/>
                  </a:lnTo>
                  <a:lnTo>
                    <a:pt x="240" y="2334"/>
                  </a:lnTo>
                  <a:lnTo>
                    <a:pt x="230" y="2339"/>
                  </a:lnTo>
                  <a:lnTo>
                    <a:pt x="230" y="2343"/>
                  </a:lnTo>
                  <a:lnTo>
                    <a:pt x="221" y="2348"/>
                  </a:lnTo>
                  <a:lnTo>
                    <a:pt x="213" y="2352"/>
                  </a:lnTo>
                  <a:lnTo>
                    <a:pt x="202" y="2357"/>
                  </a:lnTo>
                  <a:lnTo>
                    <a:pt x="200" y="2361"/>
                  </a:lnTo>
                  <a:lnTo>
                    <a:pt x="187" y="2366"/>
                  </a:lnTo>
                  <a:lnTo>
                    <a:pt x="183" y="2370"/>
                  </a:lnTo>
                  <a:lnTo>
                    <a:pt x="179" y="2375"/>
                  </a:lnTo>
                  <a:lnTo>
                    <a:pt x="172" y="2379"/>
                  </a:lnTo>
                  <a:lnTo>
                    <a:pt x="168" y="2384"/>
                  </a:lnTo>
                  <a:lnTo>
                    <a:pt x="166" y="2388"/>
                  </a:lnTo>
                  <a:lnTo>
                    <a:pt x="164" y="2393"/>
                  </a:lnTo>
                  <a:lnTo>
                    <a:pt x="162" y="2397"/>
                  </a:lnTo>
                  <a:lnTo>
                    <a:pt x="159" y="2402"/>
                  </a:lnTo>
                  <a:lnTo>
                    <a:pt x="157" y="2406"/>
                  </a:lnTo>
                  <a:lnTo>
                    <a:pt x="155" y="2411"/>
                  </a:lnTo>
                  <a:lnTo>
                    <a:pt x="153" y="2415"/>
                  </a:lnTo>
                  <a:lnTo>
                    <a:pt x="151" y="2420"/>
                  </a:lnTo>
                  <a:lnTo>
                    <a:pt x="149" y="2424"/>
                  </a:lnTo>
                  <a:lnTo>
                    <a:pt x="149" y="2429"/>
                  </a:lnTo>
                  <a:lnTo>
                    <a:pt x="147" y="2433"/>
                  </a:lnTo>
                  <a:lnTo>
                    <a:pt x="147" y="2438"/>
                  </a:lnTo>
                  <a:lnTo>
                    <a:pt x="147" y="2442"/>
                  </a:lnTo>
                  <a:lnTo>
                    <a:pt x="149" y="2447"/>
                  </a:lnTo>
                  <a:lnTo>
                    <a:pt x="153" y="2451"/>
                  </a:lnTo>
                  <a:lnTo>
                    <a:pt x="157" y="2456"/>
                  </a:lnTo>
                  <a:lnTo>
                    <a:pt x="162" y="2460"/>
                  </a:lnTo>
                  <a:lnTo>
                    <a:pt x="166" y="2465"/>
                  </a:lnTo>
                  <a:lnTo>
                    <a:pt x="166" y="2469"/>
                  </a:lnTo>
                  <a:lnTo>
                    <a:pt x="170" y="2474"/>
                  </a:lnTo>
                  <a:lnTo>
                    <a:pt x="170" y="2478"/>
                  </a:lnTo>
                  <a:lnTo>
                    <a:pt x="172" y="2483"/>
                  </a:lnTo>
                  <a:lnTo>
                    <a:pt x="170" y="2487"/>
                  </a:lnTo>
                  <a:lnTo>
                    <a:pt x="164" y="2492"/>
                  </a:lnTo>
                  <a:lnTo>
                    <a:pt x="157" y="2496"/>
                  </a:lnTo>
                  <a:lnTo>
                    <a:pt x="151" y="2501"/>
                  </a:lnTo>
                  <a:lnTo>
                    <a:pt x="147" y="2505"/>
                  </a:lnTo>
                  <a:lnTo>
                    <a:pt x="145" y="2510"/>
                  </a:lnTo>
                  <a:lnTo>
                    <a:pt x="140" y="2514"/>
                  </a:lnTo>
                  <a:lnTo>
                    <a:pt x="138" y="2519"/>
                  </a:lnTo>
                  <a:lnTo>
                    <a:pt x="136" y="2523"/>
                  </a:lnTo>
                  <a:lnTo>
                    <a:pt x="132" y="2528"/>
                  </a:lnTo>
                  <a:lnTo>
                    <a:pt x="130" y="2532"/>
                  </a:lnTo>
                  <a:lnTo>
                    <a:pt x="128" y="2537"/>
                  </a:lnTo>
                  <a:lnTo>
                    <a:pt x="125" y="2541"/>
                  </a:lnTo>
                  <a:lnTo>
                    <a:pt x="125" y="2546"/>
                  </a:lnTo>
                  <a:lnTo>
                    <a:pt x="123" y="2550"/>
                  </a:lnTo>
                  <a:lnTo>
                    <a:pt x="121" y="2555"/>
                  </a:lnTo>
                  <a:lnTo>
                    <a:pt x="121" y="2559"/>
                  </a:lnTo>
                  <a:lnTo>
                    <a:pt x="119" y="2564"/>
                  </a:lnTo>
                  <a:lnTo>
                    <a:pt x="117" y="2568"/>
                  </a:lnTo>
                  <a:lnTo>
                    <a:pt x="115" y="2573"/>
                  </a:lnTo>
                  <a:lnTo>
                    <a:pt x="115" y="2577"/>
                  </a:lnTo>
                  <a:lnTo>
                    <a:pt x="115" y="2582"/>
                  </a:ln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Freeform 287"/>
            <p:cNvSpPr/>
            <p:nvPr/>
          </p:nvSpPr>
          <p:spPr>
            <a:xfrm>
              <a:off x="3922560" y="2157480"/>
              <a:ext cx="1095480" cy="4379760"/>
            </a:xfrm>
            <a:custGeom>
              <a:avLst/>
              <a:gdLst>
                <a:gd name="textAreaLeft" fmla="*/ 0 w 1095480"/>
                <a:gd name="textAreaRight" fmla="*/ 1095840 w 1095480"/>
                <a:gd name="textAreaTop" fmla="*/ 0 h 4379760"/>
                <a:gd name="textAreaBottom" fmla="*/ 4380120 h 4379760"/>
              </a:gdLst>
              <a:ahLst/>
              <a:rect l="textAreaLeft" t="textAreaTop" r="textAreaRight" b="textAreaBottom"/>
              <a:pathLst>
                <a:path w="648" h="2582">
                  <a:moveTo>
                    <a:pt x="39" y="0"/>
                  </a:moveTo>
                  <a:lnTo>
                    <a:pt x="15" y="4"/>
                  </a:lnTo>
                  <a:lnTo>
                    <a:pt x="41" y="9"/>
                  </a:lnTo>
                  <a:lnTo>
                    <a:pt x="49" y="13"/>
                  </a:lnTo>
                  <a:lnTo>
                    <a:pt x="60" y="18"/>
                  </a:lnTo>
                  <a:lnTo>
                    <a:pt x="45" y="22"/>
                  </a:lnTo>
                  <a:lnTo>
                    <a:pt x="49" y="27"/>
                  </a:lnTo>
                  <a:lnTo>
                    <a:pt x="51" y="31"/>
                  </a:lnTo>
                  <a:lnTo>
                    <a:pt x="51" y="36"/>
                  </a:lnTo>
                  <a:lnTo>
                    <a:pt x="51" y="40"/>
                  </a:lnTo>
                  <a:lnTo>
                    <a:pt x="51" y="45"/>
                  </a:lnTo>
                  <a:lnTo>
                    <a:pt x="56" y="49"/>
                  </a:lnTo>
                  <a:lnTo>
                    <a:pt x="58" y="54"/>
                  </a:lnTo>
                  <a:lnTo>
                    <a:pt x="56" y="58"/>
                  </a:lnTo>
                  <a:lnTo>
                    <a:pt x="54" y="63"/>
                  </a:lnTo>
                  <a:lnTo>
                    <a:pt x="54" y="67"/>
                  </a:lnTo>
                  <a:lnTo>
                    <a:pt x="54" y="72"/>
                  </a:lnTo>
                  <a:lnTo>
                    <a:pt x="51" y="76"/>
                  </a:lnTo>
                  <a:lnTo>
                    <a:pt x="49" y="81"/>
                  </a:lnTo>
                  <a:lnTo>
                    <a:pt x="49" y="85"/>
                  </a:lnTo>
                  <a:lnTo>
                    <a:pt x="49" y="90"/>
                  </a:lnTo>
                  <a:lnTo>
                    <a:pt x="49" y="94"/>
                  </a:lnTo>
                  <a:lnTo>
                    <a:pt x="47" y="99"/>
                  </a:lnTo>
                  <a:lnTo>
                    <a:pt x="43" y="103"/>
                  </a:lnTo>
                  <a:lnTo>
                    <a:pt x="43" y="108"/>
                  </a:lnTo>
                  <a:lnTo>
                    <a:pt x="43" y="112"/>
                  </a:lnTo>
                  <a:lnTo>
                    <a:pt x="43" y="117"/>
                  </a:lnTo>
                  <a:lnTo>
                    <a:pt x="45" y="121"/>
                  </a:lnTo>
                  <a:lnTo>
                    <a:pt x="47" y="126"/>
                  </a:lnTo>
                  <a:lnTo>
                    <a:pt x="54" y="130"/>
                  </a:lnTo>
                  <a:lnTo>
                    <a:pt x="60" y="135"/>
                  </a:lnTo>
                  <a:lnTo>
                    <a:pt x="66" y="139"/>
                  </a:lnTo>
                  <a:lnTo>
                    <a:pt x="71" y="144"/>
                  </a:lnTo>
                  <a:lnTo>
                    <a:pt x="73" y="148"/>
                  </a:lnTo>
                  <a:lnTo>
                    <a:pt x="75" y="153"/>
                  </a:lnTo>
                  <a:lnTo>
                    <a:pt x="85" y="157"/>
                  </a:lnTo>
                  <a:lnTo>
                    <a:pt x="102" y="162"/>
                  </a:lnTo>
                  <a:lnTo>
                    <a:pt x="149" y="166"/>
                  </a:lnTo>
                  <a:lnTo>
                    <a:pt x="211" y="171"/>
                  </a:lnTo>
                  <a:lnTo>
                    <a:pt x="253" y="175"/>
                  </a:lnTo>
                  <a:lnTo>
                    <a:pt x="277" y="180"/>
                  </a:lnTo>
                  <a:lnTo>
                    <a:pt x="298" y="184"/>
                  </a:lnTo>
                  <a:lnTo>
                    <a:pt x="313" y="189"/>
                  </a:lnTo>
                  <a:lnTo>
                    <a:pt x="321" y="193"/>
                  </a:lnTo>
                  <a:lnTo>
                    <a:pt x="328" y="198"/>
                  </a:lnTo>
                  <a:lnTo>
                    <a:pt x="332" y="202"/>
                  </a:lnTo>
                  <a:lnTo>
                    <a:pt x="330" y="207"/>
                  </a:lnTo>
                  <a:lnTo>
                    <a:pt x="319" y="211"/>
                  </a:lnTo>
                  <a:lnTo>
                    <a:pt x="311" y="216"/>
                  </a:lnTo>
                  <a:lnTo>
                    <a:pt x="308" y="220"/>
                  </a:lnTo>
                  <a:lnTo>
                    <a:pt x="306" y="225"/>
                  </a:lnTo>
                  <a:lnTo>
                    <a:pt x="304" y="229"/>
                  </a:lnTo>
                  <a:lnTo>
                    <a:pt x="304" y="234"/>
                  </a:lnTo>
                  <a:lnTo>
                    <a:pt x="302" y="238"/>
                  </a:lnTo>
                  <a:lnTo>
                    <a:pt x="300" y="243"/>
                  </a:lnTo>
                  <a:lnTo>
                    <a:pt x="298" y="247"/>
                  </a:lnTo>
                  <a:lnTo>
                    <a:pt x="294" y="252"/>
                  </a:lnTo>
                  <a:lnTo>
                    <a:pt x="287" y="256"/>
                  </a:lnTo>
                  <a:lnTo>
                    <a:pt x="279" y="261"/>
                  </a:lnTo>
                  <a:lnTo>
                    <a:pt x="277" y="265"/>
                  </a:lnTo>
                  <a:lnTo>
                    <a:pt x="279" y="270"/>
                  </a:lnTo>
                  <a:lnTo>
                    <a:pt x="281" y="274"/>
                  </a:lnTo>
                  <a:lnTo>
                    <a:pt x="281" y="279"/>
                  </a:lnTo>
                  <a:lnTo>
                    <a:pt x="283" y="283"/>
                  </a:lnTo>
                  <a:lnTo>
                    <a:pt x="285" y="288"/>
                  </a:lnTo>
                  <a:lnTo>
                    <a:pt x="285" y="292"/>
                  </a:lnTo>
                  <a:lnTo>
                    <a:pt x="287" y="297"/>
                  </a:lnTo>
                  <a:lnTo>
                    <a:pt x="287" y="301"/>
                  </a:lnTo>
                  <a:lnTo>
                    <a:pt x="289" y="306"/>
                  </a:lnTo>
                  <a:lnTo>
                    <a:pt x="292" y="310"/>
                  </a:lnTo>
                  <a:lnTo>
                    <a:pt x="294" y="315"/>
                  </a:lnTo>
                  <a:lnTo>
                    <a:pt x="298" y="319"/>
                  </a:lnTo>
                  <a:lnTo>
                    <a:pt x="300" y="324"/>
                  </a:lnTo>
                  <a:lnTo>
                    <a:pt x="300" y="328"/>
                  </a:lnTo>
                  <a:lnTo>
                    <a:pt x="302" y="333"/>
                  </a:lnTo>
                  <a:lnTo>
                    <a:pt x="304" y="337"/>
                  </a:lnTo>
                  <a:lnTo>
                    <a:pt x="304" y="342"/>
                  </a:lnTo>
                  <a:lnTo>
                    <a:pt x="302" y="346"/>
                  </a:lnTo>
                  <a:lnTo>
                    <a:pt x="302" y="351"/>
                  </a:lnTo>
                  <a:lnTo>
                    <a:pt x="300" y="355"/>
                  </a:lnTo>
                  <a:lnTo>
                    <a:pt x="296" y="360"/>
                  </a:lnTo>
                  <a:lnTo>
                    <a:pt x="296" y="364"/>
                  </a:lnTo>
                  <a:lnTo>
                    <a:pt x="302" y="369"/>
                  </a:lnTo>
                  <a:lnTo>
                    <a:pt x="311" y="373"/>
                  </a:lnTo>
                  <a:lnTo>
                    <a:pt x="317" y="378"/>
                  </a:lnTo>
                  <a:lnTo>
                    <a:pt x="323" y="382"/>
                  </a:lnTo>
                  <a:lnTo>
                    <a:pt x="328" y="387"/>
                  </a:lnTo>
                  <a:lnTo>
                    <a:pt x="332" y="391"/>
                  </a:lnTo>
                  <a:lnTo>
                    <a:pt x="338" y="396"/>
                  </a:lnTo>
                  <a:lnTo>
                    <a:pt x="342" y="400"/>
                  </a:lnTo>
                  <a:lnTo>
                    <a:pt x="345" y="405"/>
                  </a:lnTo>
                  <a:lnTo>
                    <a:pt x="345" y="409"/>
                  </a:lnTo>
                  <a:lnTo>
                    <a:pt x="345" y="414"/>
                  </a:lnTo>
                  <a:lnTo>
                    <a:pt x="345" y="418"/>
                  </a:lnTo>
                  <a:lnTo>
                    <a:pt x="345" y="423"/>
                  </a:lnTo>
                  <a:lnTo>
                    <a:pt x="349" y="427"/>
                  </a:lnTo>
                  <a:lnTo>
                    <a:pt x="355" y="432"/>
                  </a:lnTo>
                  <a:lnTo>
                    <a:pt x="364" y="436"/>
                  </a:lnTo>
                  <a:lnTo>
                    <a:pt x="374" y="441"/>
                  </a:lnTo>
                  <a:lnTo>
                    <a:pt x="387" y="445"/>
                  </a:lnTo>
                  <a:lnTo>
                    <a:pt x="398" y="450"/>
                  </a:lnTo>
                  <a:lnTo>
                    <a:pt x="408" y="454"/>
                  </a:lnTo>
                  <a:lnTo>
                    <a:pt x="421" y="459"/>
                  </a:lnTo>
                  <a:lnTo>
                    <a:pt x="434" y="463"/>
                  </a:lnTo>
                  <a:lnTo>
                    <a:pt x="440" y="468"/>
                  </a:lnTo>
                  <a:lnTo>
                    <a:pt x="438" y="472"/>
                  </a:lnTo>
                  <a:lnTo>
                    <a:pt x="436" y="477"/>
                  </a:lnTo>
                  <a:lnTo>
                    <a:pt x="430" y="481"/>
                  </a:lnTo>
                  <a:lnTo>
                    <a:pt x="419" y="486"/>
                  </a:lnTo>
                  <a:lnTo>
                    <a:pt x="406" y="490"/>
                  </a:lnTo>
                  <a:lnTo>
                    <a:pt x="391" y="495"/>
                  </a:lnTo>
                  <a:lnTo>
                    <a:pt x="370" y="499"/>
                  </a:lnTo>
                  <a:lnTo>
                    <a:pt x="347" y="504"/>
                  </a:lnTo>
                  <a:lnTo>
                    <a:pt x="330" y="508"/>
                  </a:lnTo>
                  <a:lnTo>
                    <a:pt x="319" y="512"/>
                  </a:lnTo>
                  <a:lnTo>
                    <a:pt x="311" y="517"/>
                  </a:lnTo>
                  <a:lnTo>
                    <a:pt x="304" y="521"/>
                  </a:lnTo>
                  <a:lnTo>
                    <a:pt x="298" y="526"/>
                  </a:lnTo>
                  <a:lnTo>
                    <a:pt x="298" y="530"/>
                  </a:lnTo>
                  <a:lnTo>
                    <a:pt x="302" y="535"/>
                  </a:lnTo>
                  <a:lnTo>
                    <a:pt x="304" y="539"/>
                  </a:lnTo>
                  <a:lnTo>
                    <a:pt x="302" y="544"/>
                  </a:lnTo>
                  <a:lnTo>
                    <a:pt x="306" y="548"/>
                  </a:lnTo>
                  <a:lnTo>
                    <a:pt x="319" y="553"/>
                  </a:lnTo>
                  <a:lnTo>
                    <a:pt x="334" y="557"/>
                  </a:lnTo>
                  <a:lnTo>
                    <a:pt x="342" y="562"/>
                  </a:lnTo>
                  <a:lnTo>
                    <a:pt x="349" y="566"/>
                  </a:lnTo>
                  <a:lnTo>
                    <a:pt x="353" y="571"/>
                  </a:lnTo>
                  <a:lnTo>
                    <a:pt x="351" y="575"/>
                  </a:lnTo>
                  <a:lnTo>
                    <a:pt x="347" y="580"/>
                  </a:lnTo>
                  <a:lnTo>
                    <a:pt x="345" y="584"/>
                  </a:lnTo>
                  <a:lnTo>
                    <a:pt x="336" y="589"/>
                  </a:lnTo>
                  <a:lnTo>
                    <a:pt x="328" y="593"/>
                  </a:lnTo>
                  <a:lnTo>
                    <a:pt x="315" y="598"/>
                  </a:lnTo>
                  <a:lnTo>
                    <a:pt x="306" y="602"/>
                  </a:lnTo>
                  <a:lnTo>
                    <a:pt x="300" y="607"/>
                  </a:lnTo>
                  <a:lnTo>
                    <a:pt x="296" y="611"/>
                  </a:lnTo>
                  <a:lnTo>
                    <a:pt x="296" y="616"/>
                  </a:lnTo>
                  <a:lnTo>
                    <a:pt x="296" y="620"/>
                  </a:lnTo>
                  <a:lnTo>
                    <a:pt x="292" y="625"/>
                  </a:lnTo>
                  <a:lnTo>
                    <a:pt x="292" y="629"/>
                  </a:lnTo>
                  <a:lnTo>
                    <a:pt x="287" y="634"/>
                  </a:lnTo>
                  <a:lnTo>
                    <a:pt x="281" y="638"/>
                  </a:lnTo>
                  <a:lnTo>
                    <a:pt x="275" y="643"/>
                  </a:lnTo>
                  <a:lnTo>
                    <a:pt x="275" y="647"/>
                  </a:lnTo>
                  <a:lnTo>
                    <a:pt x="281" y="652"/>
                  </a:lnTo>
                  <a:lnTo>
                    <a:pt x="287" y="656"/>
                  </a:lnTo>
                  <a:lnTo>
                    <a:pt x="294" y="661"/>
                  </a:lnTo>
                  <a:lnTo>
                    <a:pt x="315" y="665"/>
                  </a:lnTo>
                  <a:lnTo>
                    <a:pt x="342" y="670"/>
                  </a:lnTo>
                  <a:lnTo>
                    <a:pt x="359" y="674"/>
                  </a:lnTo>
                  <a:lnTo>
                    <a:pt x="374" y="679"/>
                  </a:lnTo>
                  <a:lnTo>
                    <a:pt x="389" y="683"/>
                  </a:lnTo>
                  <a:lnTo>
                    <a:pt x="393" y="688"/>
                  </a:lnTo>
                  <a:lnTo>
                    <a:pt x="391" y="692"/>
                  </a:lnTo>
                  <a:lnTo>
                    <a:pt x="393" y="697"/>
                  </a:lnTo>
                  <a:lnTo>
                    <a:pt x="396" y="701"/>
                  </a:lnTo>
                  <a:lnTo>
                    <a:pt x="389" y="706"/>
                  </a:lnTo>
                  <a:lnTo>
                    <a:pt x="374" y="710"/>
                  </a:lnTo>
                  <a:lnTo>
                    <a:pt x="362" y="715"/>
                  </a:lnTo>
                  <a:lnTo>
                    <a:pt x="347" y="719"/>
                  </a:lnTo>
                  <a:lnTo>
                    <a:pt x="336" y="724"/>
                  </a:lnTo>
                  <a:lnTo>
                    <a:pt x="338" y="728"/>
                  </a:lnTo>
                  <a:lnTo>
                    <a:pt x="338" y="733"/>
                  </a:lnTo>
                  <a:lnTo>
                    <a:pt x="334" y="737"/>
                  </a:lnTo>
                  <a:lnTo>
                    <a:pt x="323" y="742"/>
                  </a:lnTo>
                  <a:lnTo>
                    <a:pt x="317" y="746"/>
                  </a:lnTo>
                  <a:lnTo>
                    <a:pt x="313" y="751"/>
                  </a:lnTo>
                  <a:lnTo>
                    <a:pt x="308" y="755"/>
                  </a:lnTo>
                  <a:lnTo>
                    <a:pt x="304" y="760"/>
                  </a:lnTo>
                  <a:lnTo>
                    <a:pt x="296" y="764"/>
                  </a:lnTo>
                  <a:lnTo>
                    <a:pt x="283" y="769"/>
                  </a:lnTo>
                  <a:lnTo>
                    <a:pt x="272" y="773"/>
                  </a:lnTo>
                  <a:lnTo>
                    <a:pt x="266" y="778"/>
                  </a:lnTo>
                  <a:lnTo>
                    <a:pt x="264" y="782"/>
                  </a:lnTo>
                  <a:lnTo>
                    <a:pt x="262" y="787"/>
                  </a:lnTo>
                  <a:lnTo>
                    <a:pt x="262" y="791"/>
                  </a:lnTo>
                  <a:lnTo>
                    <a:pt x="262" y="796"/>
                  </a:lnTo>
                  <a:lnTo>
                    <a:pt x="262" y="800"/>
                  </a:lnTo>
                  <a:lnTo>
                    <a:pt x="260" y="805"/>
                  </a:lnTo>
                  <a:lnTo>
                    <a:pt x="260" y="809"/>
                  </a:lnTo>
                  <a:lnTo>
                    <a:pt x="262" y="814"/>
                  </a:lnTo>
                  <a:lnTo>
                    <a:pt x="264" y="818"/>
                  </a:lnTo>
                  <a:lnTo>
                    <a:pt x="264" y="823"/>
                  </a:lnTo>
                  <a:lnTo>
                    <a:pt x="264" y="827"/>
                  </a:lnTo>
                  <a:lnTo>
                    <a:pt x="272" y="832"/>
                  </a:lnTo>
                  <a:lnTo>
                    <a:pt x="289" y="836"/>
                  </a:lnTo>
                  <a:lnTo>
                    <a:pt x="308" y="841"/>
                  </a:lnTo>
                  <a:lnTo>
                    <a:pt x="325" y="845"/>
                  </a:lnTo>
                  <a:lnTo>
                    <a:pt x="340" y="850"/>
                  </a:lnTo>
                  <a:lnTo>
                    <a:pt x="351" y="854"/>
                  </a:lnTo>
                  <a:lnTo>
                    <a:pt x="359" y="859"/>
                  </a:lnTo>
                  <a:lnTo>
                    <a:pt x="370" y="863"/>
                  </a:lnTo>
                  <a:lnTo>
                    <a:pt x="383" y="868"/>
                  </a:lnTo>
                  <a:lnTo>
                    <a:pt x="393" y="872"/>
                  </a:lnTo>
                  <a:lnTo>
                    <a:pt x="398" y="877"/>
                  </a:lnTo>
                  <a:lnTo>
                    <a:pt x="413" y="881"/>
                  </a:lnTo>
                  <a:lnTo>
                    <a:pt x="440" y="886"/>
                  </a:lnTo>
                  <a:lnTo>
                    <a:pt x="470" y="890"/>
                  </a:lnTo>
                  <a:lnTo>
                    <a:pt x="502" y="895"/>
                  </a:lnTo>
                  <a:lnTo>
                    <a:pt x="532" y="899"/>
                  </a:lnTo>
                  <a:lnTo>
                    <a:pt x="563" y="904"/>
                  </a:lnTo>
                  <a:lnTo>
                    <a:pt x="587" y="908"/>
                  </a:lnTo>
                  <a:lnTo>
                    <a:pt x="602" y="913"/>
                  </a:lnTo>
                  <a:lnTo>
                    <a:pt x="617" y="917"/>
                  </a:lnTo>
                  <a:lnTo>
                    <a:pt x="629" y="922"/>
                  </a:lnTo>
                  <a:lnTo>
                    <a:pt x="633" y="926"/>
                  </a:lnTo>
                  <a:lnTo>
                    <a:pt x="638" y="931"/>
                  </a:lnTo>
                  <a:lnTo>
                    <a:pt x="646" y="935"/>
                  </a:lnTo>
                  <a:lnTo>
                    <a:pt x="648" y="940"/>
                  </a:lnTo>
                  <a:lnTo>
                    <a:pt x="648" y="944"/>
                  </a:lnTo>
                  <a:lnTo>
                    <a:pt x="648" y="949"/>
                  </a:lnTo>
                  <a:lnTo>
                    <a:pt x="648" y="953"/>
                  </a:lnTo>
                  <a:lnTo>
                    <a:pt x="648" y="958"/>
                  </a:lnTo>
                  <a:lnTo>
                    <a:pt x="648" y="962"/>
                  </a:lnTo>
                  <a:lnTo>
                    <a:pt x="648" y="967"/>
                  </a:lnTo>
                  <a:lnTo>
                    <a:pt x="648" y="971"/>
                  </a:lnTo>
                  <a:lnTo>
                    <a:pt x="642" y="976"/>
                  </a:lnTo>
                  <a:lnTo>
                    <a:pt x="625" y="980"/>
                  </a:lnTo>
                  <a:lnTo>
                    <a:pt x="610" y="985"/>
                  </a:lnTo>
                  <a:lnTo>
                    <a:pt x="595" y="989"/>
                  </a:lnTo>
                  <a:lnTo>
                    <a:pt x="576" y="994"/>
                  </a:lnTo>
                  <a:lnTo>
                    <a:pt x="549" y="998"/>
                  </a:lnTo>
                  <a:lnTo>
                    <a:pt x="515" y="1003"/>
                  </a:lnTo>
                  <a:lnTo>
                    <a:pt x="485" y="1007"/>
                  </a:lnTo>
                  <a:lnTo>
                    <a:pt x="440" y="1012"/>
                  </a:lnTo>
                  <a:lnTo>
                    <a:pt x="381" y="1016"/>
                  </a:lnTo>
                  <a:lnTo>
                    <a:pt x="370" y="1021"/>
                  </a:lnTo>
                  <a:lnTo>
                    <a:pt x="393" y="1025"/>
                  </a:lnTo>
                  <a:lnTo>
                    <a:pt x="425" y="1030"/>
                  </a:lnTo>
                  <a:lnTo>
                    <a:pt x="447" y="1034"/>
                  </a:lnTo>
                  <a:lnTo>
                    <a:pt x="464" y="1039"/>
                  </a:lnTo>
                  <a:lnTo>
                    <a:pt x="476" y="1043"/>
                  </a:lnTo>
                  <a:lnTo>
                    <a:pt x="489" y="1048"/>
                  </a:lnTo>
                  <a:lnTo>
                    <a:pt x="495" y="1052"/>
                  </a:lnTo>
                  <a:lnTo>
                    <a:pt x="500" y="1057"/>
                  </a:lnTo>
                  <a:lnTo>
                    <a:pt x="502" y="1061"/>
                  </a:lnTo>
                  <a:lnTo>
                    <a:pt x="495" y="1066"/>
                  </a:lnTo>
                  <a:lnTo>
                    <a:pt x="485" y="1070"/>
                  </a:lnTo>
                  <a:lnTo>
                    <a:pt x="476" y="1075"/>
                  </a:lnTo>
                  <a:lnTo>
                    <a:pt x="472" y="1079"/>
                  </a:lnTo>
                  <a:lnTo>
                    <a:pt x="461" y="1084"/>
                  </a:lnTo>
                  <a:lnTo>
                    <a:pt x="449" y="1088"/>
                  </a:lnTo>
                  <a:lnTo>
                    <a:pt x="442" y="1093"/>
                  </a:lnTo>
                  <a:lnTo>
                    <a:pt x="434" y="1097"/>
                  </a:lnTo>
                  <a:lnTo>
                    <a:pt x="430" y="1102"/>
                  </a:lnTo>
                  <a:lnTo>
                    <a:pt x="427" y="1106"/>
                  </a:lnTo>
                  <a:lnTo>
                    <a:pt x="434" y="1111"/>
                  </a:lnTo>
                  <a:lnTo>
                    <a:pt x="438" y="1115"/>
                  </a:lnTo>
                  <a:lnTo>
                    <a:pt x="442" y="1120"/>
                  </a:lnTo>
                  <a:lnTo>
                    <a:pt x="453" y="1124"/>
                  </a:lnTo>
                  <a:lnTo>
                    <a:pt x="464" y="1129"/>
                  </a:lnTo>
                  <a:lnTo>
                    <a:pt x="470" y="1133"/>
                  </a:lnTo>
                  <a:lnTo>
                    <a:pt x="472" y="1138"/>
                  </a:lnTo>
                  <a:lnTo>
                    <a:pt x="474" y="1142"/>
                  </a:lnTo>
                  <a:lnTo>
                    <a:pt x="472" y="1147"/>
                  </a:lnTo>
                  <a:lnTo>
                    <a:pt x="468" y="1151"/>
                  </a:lnTo>
                  <a:lnTo>
                    <a:pt x="464" y="1156"/>
                  </a:lnTo>
                  <a:lnTo>
                    <a:pt x="459" y="1160"/>
                  </a:lnTo>
                  <a:lnTo>
                    <a:pt x="453" y="1165"/>
                  </a:lnTo>
                  <a:lnTo>
                    <a:pt x="444" y="1169"/>
                  </a:lnTo>
                  <a:lnTo>
                    <a:pt x="444" y="1174"/>
                  </a:lnTo>
                  <a:lnTo>
                    <a:pt x="455" y="1178"/>
                  </a:lnTo>
                  <a:lnTo>
                    <a:pt x="476" y="1183"/>
                  </a:lnTo>
                  <a:lnTo>
                    <a:pt x="495" y="1187"/>
                  </a:lnTo>
                  <a:lnTo>
                    <a:pt x="510" y="1192"/>
                  </a:lnTo>
                  <a:lnTo>
                    <a:pt x="527" y="1196"/>
                  </a:lnTo>
                  <a:lnTo>
                    <a:pt x="546" y="1201"/>
                  </a:lnTo>
                  <a:lnTo>
                    <a:pt x="557" y="1205"/>
                  </a:lnTo>
                  <a:lnTo>
                    <a:pt x="561" y="1210"/>
                  </a:lnTo>
                  <a:lnTo>
                    <a:pt x="561" y="1214"/>
                  </a:lnTo>
                  <a:lnTo>
                    <a:pt x="555" y="1219"/>
                  </a:lnTo>
                  <a:lnTo>
                    <a:pt x="542" y="1223"/>
                  </a:lnTo>
                  <a:lnTo>
                    <a:pt x="527" y="1228"/>
                  </a:lnTo>
                  <a:lnTo>
                    <a:pt x="508" y="1232"/>
                  </a:lnTo>
                  <a:lnTo>
                    <a:pt x="481" y="1237"/>
                  </a:lnTo>
                  <a:lnTo>
                    <a:pt x="442" y="1241"/>
                  </a:lnTo>
                  <a:lnTo>
                    <a:pt x="400" y="1246"/>
                  </a:lnTo>
                  <a:lnTo>
                    <a:pt x="366" y="1250"/>
                  </a:lnTo>
                  <a:lnTo>
                    <a:pt x="347" y="1255"/>
                  </a:lnTo>
                  <a:lnTo>
                    <a:pt x="328" y="1259"/>
                  </a:lnTo>
                  <a:lnTo>
                    <a:pt x="300" y="1264"/>
                  </a:lnTo>
                  <a:lnTo>
                    <a:pt x="285" y="1268"/>
                  </a:lnTo>
                  <a:lnTo>
                    <a:pt x="281" y="1273"/>
                  </a:lnTo>
                  <a:lnTo>
                    <a:pt x="279" y="1277"/>
                  </a:lnTo>
                  <a:lnTo>
                    <a:pt x="279" y="1282"/>
                  </a:lnTo>
                  <a:lnTo>
                    <a:pt x="279" y="1286"/>
                  </a:lnTo>
                  <a:lnTo>
                    <a:pt x="270" y="1291"/>
                  </a:lnTo>
                  <a:lnTo>
                    <a:pt x="258" y="1295"/>
                  </a:lnTo>
                  <a:lnTo>
                    <a:pt x="245" y="1300"/>
                  </a:lnTo>
                  <a:lnTo>
                    <a:pt x="238" y="1304"/>
                  </a:lnTo>
                  <a:lnTo>
                    <a:pt x="234" y="1309"/>
                  </a:lnTo>
                  <a:lnTo>
                    <a:pt x="230" y="1313"/>
                  </a:lnTo>
                  <a:lnTo>
                    <a:pt x="232" y="1318"/>
                  </a:lnTo>
                  <a:lnTo>
                    <a:pt x="241" y="1322"/>
                  </a:lnTo>
                  <a:lnTo>
                    <a:pt x="245" y="1327"/>
                  </a:lnTo>
                  <a:lnTo>
                    <a:pt x="245" y="1331"/>
                  </a:lnTo>
                  <a:lnTo>
                    <a:pt x="249" y="1336"/>
                  </a:lnTo>
                  <a:lnTo>
                    <a:pt x="249" y="1340"/>
                  </a:lnTo>
                  <a:lnTo>
                    <a:pt x="247" y="1345"/>
                  </a:lnTo>
                  <a:lnTo>
                    <a:pt x="243" y="1349"/>
                  </a:lnTo>
                  <a:lnTo>
                    <a:pt x="236" y="1354"/>
                  </a:lnTo>
                  <a:lnTo>
                    <a:pt x="221" y="1358"/>
                  </a:lnTo>
                  <a:lnTo>
                    <a:pt x="202" y="1363"/>
                  </a:lnTo>
                  <a:lnTo>
                    <a:pt x="190" y="1367"/>
                  </a:lnTo>
                  <a:lnTo>
                    <a:pt x="183" y="1372"/>
                  </a:lnTo>
                  <a:lnTo>
                    <a:pt x="177" y="1376"/>
                  </a:lnTo>
                  <a:lnTo>
                    <a:pt x="173" y="1381"/>
                  </a:lnTo>
                  <a:lnTo>
                    <a:pt x="168" y="1385"/>
                  </a:lnTo>
                  <a:lnTo>
                    <a:pt x="166" y="1390"/>
                  </a:lnTo>
                  <a:lnTo>
                    <a:pt x="166" y="1394"/>
                  </a:lnTo>
                  <a:lnTo>
                    <a:pt x="164" y="1399"/>
                  </a:lnTo>
                  <a:lnTo>
                    <a:pt x="164" y="1403"/>
                  </a:lnTo>
                  <a:lnTo>
                    <a:pt x="164" y="1408"/>
                  </a:lnTo>
                  <a:lnTo>
                    <a:pt x="162" y="1412"/>
                  </a:lnTo>
                  <a:lnTo>
                    <a:pt x="166" y="1417"/>
                  </a:lnTo>
                  <a:lnTo>
                    <a:pt x="173" y="1421"/>
                  </a:lnTo>
                  <a:lnTo>
                    <a:pt x="177" y="1426"/>
                  </a:lnTo>
                  <a:lnTo>
                    <a:pt x="177" y="1430"/>
                  </a:lnTo>
                  <a:lnTo>
                    <a:pt x="179" y="1435"/>
                  </a:lnTo>
                  <a:lnTo>
                    <a:pt x="179" y="1439"/>
                  </a:lnTo>
                  <a:lnTo>
                    <a:pt x="179" y="1444"/>
                  </a:lnTo>
                  <a:lnTo>
                    <a:pt x="179" y="1448"/>
                  </a:lnTo>
                  <a:lnTo>
                    <a:pt x="177" y="1453"/>
                  </a:lnTo>
                  <a:lnTo>
                    <a:pt x="173" y="1457"/>
                  </a:lnTo>
                  <a:lnTo>
                    <a:pt x="166" y="1462"/>
                  </a:lnTo>
                  <a:lnTo>
                    <a:pt x="166" y="1466"/>
                  </a:lnTo>
                  <a:lnTo>
                    <a:pt x="164" y="1471"/>
                  </a:lnTo>
                  <a:lnTo>
                    <a:pt x="168" y="1475"/>
                  </a:lnTo>
                  <a:lnTo>
                    <a:pt x="175" y="1480"/>
                  </a:lnTo>
                  <a:lnTo>
                    <a:pt x="177" y="1484"/>
                  </a:lnTo>
                  <a:lnTo>
                    <a:pt x="181" y="1489"/>
                  </a:lnTo>
                  <a:lnTo>
                    <a:pt x="183" y="1493"/>
                  </a:lnTo>
                  <a:lnTo>
                    <a:pt x="183" y="1498"/>
                  </a:lnTo>
                  <a:lnTo>
                    <a:pt x="183" y="1502"/>
                  </a:lnTo>
                  <a:lnTo>
                    <a:pt x="187" y="1507"/>
                  </a:lnTo>
                  <a:lnTo>
                    <a:pt x="198" y="1511"/>
                  </a:lnTo>
                  <a:lnTo>
                    <a:pt x="198" y="1516"/>
                  </a:lnTo>
                  <a:lnTo>
                    <a:pt x="194" y="1520"/>
                  </a:lnTo>
                  <a:lnTo>
                    <a:pt x="192" y="1525"/>
                  </a:lnTo>
                  <a:lnTo>
                    <a:pt x="190" y="1529"/>
                  </a:lnTo>
                  <a:lnTo>
                    <a:pt x="187" y="1534"/>
                  </a:lnTo>
                  <a:lnTo>
                    <a:pt x="185" y="1538"/>
                  </a:lnTo>
                  <a:lnTo>
                    <a:pt x="181" y="1543"/>
                  </a:lnTo>
                  <a:lnTo>
                    <a:pt x="168" y="1547"/>
                  </a:lnTo>
                  <a:lnTo>
                    <a:pt x="151" y="1552"/>
                  </a:lnTo>
                  <a:lnTo>
                    <a:pt x="141" y="1556"/>
                  </a:lnTo>
                  <a:lnTo>
                    <a:pt x="134" y="1560"/>
                  </a:lnTo>
                  <a:lnTo>
                    <a:pt x="128" y="1565"/>
                  </a:lnTo>
                  <a:lnTo>
                    <a:pt x="124" y="1569"/>
                  </a:lnTo>
                  <a:lnTo>
                    <a:pt x="117" y="1574"/>
                  </a:lnTo>
                  <a:lnTo>
                    <a:pt x="111" y="1578"/>
                  </a:lnTo>
                  <a:lnTo>
                    <a:pt x="107" y="1583"/>
                  </a:lnTo>
                  <a:lnTo>
                    <a:pt x="105" y="1587"/>
                  </a:lnTo>
                  <a:lnTo>
                    <a:pt x="105" y="1592"/>
                  </a:lnTo>
                  <a:lnTo>
                    <a:pt x="105" y="1596"/>
                  </a:lnTo>
                  <a:lnTo>
                    <a:pt x="102" y="1601"/>
                  </a:lnTo>
                  <a:lnTo>
                    <a:pt x="98" y="1605"/>
                  </a:lnTo>
                  <a:lnTo>
                    <a:pt x="96" y="1610"/>
                  </a:lnTo>
                  <a:lnTo>
                    <a:pt x="96" y="1614"/>
                  </a:lnTo>
                  <a:lnTo>
                    <a:pt x="96" y="1619"/>
                  </a:lnTo>
                  <a:lnTo>
                    <a:pt x="96" y="1623"/>
                  </a:lnTo>
                  <a:lnTo>
                    <a:pt x="96" y="1628"/>
                  </a:lnTo>
                  <a:lnTo>
                    <a:pt x="96" y="1632"/>
                  </a:lnTo>
                  <a:lnTo>
                    <a:pt x="94" y="1637"/>
                  </a:lnTo>
                  <a:lnTo>
                    <a:pt x="94" y="1641"/>
                  </a:lnTo>
                  <a:lnTo>
                    <a:pt x="96" y="1646"/>
                  </a:lnTo>
                  <a:lnTo>
                    <a:pt x="96" y="1650"/>
                  </a:lnTo>
                  <a:lnTo>
                    <a:pt x="96" y="1655"/>
                  </a:lnTo>
                  <a:lnTo>
                    <a:pt x="98" y="1659"/>
                  </a:lnTo>
                  <a:lnTo>
                    <a:pt x="102" y="1664"/>
                  </a:lnTo>
                  <a:lnTo>
                    <a:pt x="109" y="1668"/>
                  </a:lnTo>
                  <a:lnTo>
                    <a:pt x="113" y="1673"/>
                  </a:lnTo>
                  <a:lnTo>
                    <a:pt x="115" y="1677"/>
                  </a:lnTo>
                  <a:lnTo>
                    <a:pt x="117" y="1682"/>
                  </a:lnTo>
                  <a:lnTo>
                    <a:pt x="119" y="1686"/>
                  </a:lnTo>
                  <a:lnTo>
                    <a:pt x="119" y="1691"/>
                  </a:lnTo>
                  <a:lnTo>
                    <a:pt x="122" y="1695"/>
                  </a:lnTo>
                  <a:lnTo>
                    <a:pt x="126" y="1700"/>
                  </a:lnTo>
                  <a:lnTo>
                    <a:pt x="126" y="1704"/>
                  </a:lnTo>
                  <a:lnTo>
                    <a:pt x="124" y="1709"/>
                  </a:lnTo>
                  <a:lnTo>
                    <a:pt x="122" y="1713"/>
                  </a:lnTo>
                  <a:lnTo>
                    <a:pt x="124" y="1718"/>
                  </a:lnTo>
                  <a:lnTo>
                    <a:pt x="124" y="1722"/>
                  </a:lnTo>
                  <a:lnTo>
                    <a:pt x="126" y="1727"/>
                  </a:lnTo>
                  <a:lnTo>
                    <a:pt x="126" y="1731"/>
                  </a:lnTo>
                  <a:lnTo>
                    <a:pt x="130" y="1736"/>
                  </a:lnTo>
                  <a:lnTo>
                    <a:pt x="134" y="1740"/>
                  </a:lnTo>
                  <a:lnTo>
                    <a:pt x="141" y="1745"/>
                  </a:lnTo>
                  <a:lnTo>
                    <a:pt x="151" y="1749"/>
                  </a:lnTo>
                  <a:lnTo>
                    <a:pt x="162" y="1754"/>
                  </a:lnTo>
                  <a:lnTo>
                    <a:pt x="173" y="1758"/>
                  </a:lnTo>
                  <a:lnTo>
                    <a:pt x="179" y="1763"/>
                  </a:lnTo>
                  <a:lnTo>
                    <a:pt x="185" y="1767"/>
                  </a:lnTo>
                  <a:lnTo>
                    <a:pt x="192" y="1772"/>
                  </a:lnTo>
                  <a:lnTo>
                    <a:pt x="196" y="1776"/>
                  </a:lnTo>
                  <a:lnTo>
                    <a:pt x="200" y="1781"/>
                  </a:lnTo>
                  <a:lnTo>
                    <a:pt x="202" y="1785"/>
                  </a:lnTo>
                  <a:lnTo>
                    <a:pt x="202" y="1790"/>
                  </a:lnTo>
                  <a:lnTo>
                    <a:pt x="198" y="1794"/>
                  </a:lnTo>
                  <a:lnTo>
                    <a:pt x="196" y="1799"/>
                  </a:lnTo>
                  <a:lnTo>
                    <a:pt x="194" y="1803"/>
                  </a:lnTo>
                  <a:lnTo>
                    <a:pt x="192" y="1808"/>
                  </a:lnTo>
                  <a:lnTo>
                    <a:pt x="192" y="1812"/>
                  </a:lnTo>
                  <a:lnTo>
                    <a:pt x="190" y="1817"/>
                  </a:lnTo>
                  <a:lnTo>
                    <a:pt x="190" y="1821"/>
                  </a:lnTo>
                  <a:lnTo>
                    <a:pt x="194" y="1826"/>
                  </a:lnTo>
                  <a:lnTo>
                    <a:pt x="202" y="1830"/>
                  </a:lnTo>
                  <a:lnTo>
                    <a:pt x="209" y="1835"/>
                  </a:lnTo>
                  <a:lnTo>
                    <a:pt x="211" y="1839"/>
                  </a:lnTo>
                  <a:lnTo>
                    <a:pt x="211" y="1844"/>
                  </a:lnTo>
                  <a:lnTo>
                    <a:pt x="207" y="1848"/>
                  </a:lnTo>
                  <a:lnTo>
                    <a:pt x="204" y="1853"/>
                  </a:lnTo>
                  <a:lnTo>
                    <a:pt x="200" y="1857"/>
                  </a:lnTo>
                  <a:lnTo>
                    <a:pt x="198" y="1862"/>
                  </a:lnTo>
                  <a:lnTo>
                    <a:pt x="196" y="1866"/>
                  </a:lnTo>
                  <a:lnTo>
                    <a:pt x="196" y="1871"/>
                  </a:lnTo>
                  <a:lnTo>
                    <a:pt x="198" y="1875"/>
                  </a:lnTo>
                  <a:lnTo>
                    <a:pt x="198" y="1880"/>
                  </a:lnTo>
                  <a:lnTo>
                    <a:pt x="200" y="1884"/>
                  </a:lnTo>
                  <a:lnTo>
                    <a:pt x="200" y="1889"/>
                  </a:lnTo>
                  <a:lnTo>
                    <a:pt x="200" y="1893"/>
                  </a:lnTo>
                  <a:lnTo>
                    <a:pt x="198" y="1898"/>
                  </a:lnTo>
                  <a:lnTo>
                    <a:pt x="194" y="1902"/>
                  </a:lnTo>
                  <a:lnTo>
                    <a:pt x="183" y="1907"/>
                  </a:lnTo>
                  <a:lnTo>
                    <a:pt x="170" y="1911"/>
                  </a:lnTo>
                  <a:lnTo>
                    <a:pt x="160" y="1916"/>
                  </a:lnTo>
                  <a:lnTo>
                    <a:pt x="158" y="1920"/>
                  </a:lnTo>
                  <a:lnTo>
                    <a:pt x="162" y="1925"/>
                  </a:lnTo>
                  <a:lnTo>
                    <a:pt x="164" y="1929"/>
                  </a:lnTo>
                  <a:lnTo>
                    <a:pt x="164" y="1934"/>
                  </a:lnTo>
                  <a:lnTo>
                    <a:pt x="166" y="1938"/>
                  </a:lnTo>
                  <a:lnTo>
                    <a:pt x="168" y="1943"/>
                  </a:lnTo>
                  <a:lnTo>
                    <a:pt x="170" y="1947"/>
                  </a:lnTo>
                  <a:lnTo>
                    <a:pt x="173" y="1952"/>
                  </a:lnTo>
                  <a:lnTo>
                    <a:pt x="175" y="1956"/>
                  </a:lnTo>
                  <a:lnTo>
                    <a:pt x="175" y="1961"/>
                  </a:lnTo>
                  <a:lnTo>
                    <a:pt x="173" y="1965"/>
                  </a:lnTo>
                  <a:lnTo>
                    <a:pt x="173" y="1970"/>
                  </a:lnTo>
                  <a:lnTo>
                    <a:pt x="173" y="1974"/>
                  </a:lnTo>
                  <a:lnTo>
                    <a:pt x="175" y="1979"/>
                  </a:lnTo>
                  <a:lnTo>
                    <a:pt x="175" y="1983"/>
                  </a:lnTo>
                  <a:lnTo>
                    <a:pt x="175" y="1988"/>
                  </a:lnTo>
                  <a:lnTo>
                    <a:pt x="170" y="1992"/>
                  </a:lnTo>
                  <a:lnTo>
                    <a:pt x="166" y="1997"/>
                  </a:lnTo>
                  <a:lnTo>
                    <a:pt x="166" y="2001"/>
                  </a:lnTo>
                  <a:lnTo>
                    <a:pt x="166" y="2006"/>
                  </a:lnTo>
                  <a:lnTo>
                    <a:pt x="164" y="2010"/>
                  </a:lnTo>
                  <a:lnTo>
                    <a:pt x="162" y="2015"/>
                  </a:lnTo>
                  <a:lnTo>
                    <a:pt x="160" y="2019"/>
                  </a:lnTo>
                  <a:lnTo>
                    <a:pt x="160" y="2024"/>
                  </a:lnTo>
                  <a:lnTo>
                    <a:pt x="160" y="2028"/>
                  </a:lnTo>
                  <a:lnTo>
                    <a:pt x="162" y="2033"/>
                  </a:lnTo>
                  <a:lnTo>
                    <a:pt x="166" y="2037"/>
                  </a:lnTo>
                  <a:lnTo>
                    <a:pt x="166" y="2042"/>
                  </a:lnTo>
                  <a:lnTo>
                    <a:pt x="164" y="2046"/>
                  </a:lnTo>
                  <a:lnTo>
                    <a:pt x="164" y="2051"/>
                  </a:lnTo>
                  <a:lnTo>
                    <a:pt x="166" y="2055"/>
                  </a:lnTo>
                  <a:lnTo>
                    <a:pt x="170" y="2060"/>
                  </a:lnTo>
                  <a:lnTo>
                    <a:pt x="179" y="2064"/>
                  </a:lnTo>
                  <a:lnTo>
                    <a:pt x="194" y="2069"/>
                  </a:lnTo>
                  <a:lnTo>
                    <a:pt x="209" y="2073"/>
                  </a:lnTo>
                  <a:lnTo>
                    <a:pt x="224" y="2078"/>
                  </a:lnTo>
                  <a:lnTo>
                    <a:pt x="236" y="2082"/>
                  </a:lnTo>
                  <a:lnTo>
                    <a:pt x="249" y="2087"/>
                  </a:lnTo>
                  <a:lnTo>
                    <a:pt x="258" y="2091"/>
                  </a:lnTo>
                  <a:lnTo>
                    <a:pt x="264" y="2096"/>
                  </a:lnTo>
                  <a:lnTo>
                    <a:pt x="268" y="2100"/>
                  </a:lnTo>
                  <a:lnTo>
                    <a:pt x="268" y="2105"/>
                  </a:lnTo>
                  <a:lnTo>
                    <a:pt x="266" y="2109"/>
                  </a:lnTo>
                  <a:lnTo>
                    <a:pt x="264" y="2114"/>
                  </a:lnTo>
                  <a:lnTo>
                    <a:pt x="264" y="2118"/>
                  </a:lnTo>
                  <a:lnTo>
                    <a:pt x="266" y="2123"/>
                  </a:lnTo>
                  <a:lnTo>
                    <a:pt x="272" y="2127"/>
                  </a:lnTo>
                  <a:lnTo>
                    <a:pt x="283" y="2132"/>
                  </a:lnTo>
                  <a:lnTo>
                    <a:pt x="289" y="2136"/>
                  </a:lnTo>
                  <a:lnTo>
                    <a:pt x="296" y="2141"/>
                  </a:lnTo>
                  <a:lnTo>
                    <a:pt x="304" y="2145"/>
                  </a:lnTo>
                  <a:lnTo>
                    <a:pt x="311" y="2150"/>
                  </a:lnTo>
                  <a:lnTo>
                    <a:pt x="315" y="2154"/>
                  </a:lnTo>
                  <a:lnTo>
                    <a:pt x="317" y="2159"/>
                  </a:lnTo>
                  <a:lnTo>
                    <a:pt x="319" y="2163"/>
                  </a:lnTo>
                  <a:lnTo>
                    <a:pt x="319" y="2168"/>
                  </a:lnTo>
                  <a:lnTo>
                    <a:pt x="317" y="2172"/>
                  </a:lnTo>
                  <a:lnTo>
                    <a:pt x="315" y="2177"/>
                  </a:lnTo>
                  <a:lnTo>
                    <a:pt x="315" y="2181"/>
                  </a:lnTo>
                  <a:lnTo>
                    <a:pt x="313" y="2186"/>
                  </a:lnTo>
                  <a:lnTo>
                    <a:pt x="311" y="2190"/>
                  </a:lnTo>
                  <a:lnTo>
                    <a:pt x="304" y="2195"/>
                  </a:lnTo>
                  <a:lnTo>
                    <a:pt x="300" y="2199"/>
                  </a:lnTo>
                  <a:lnTo>
                    <a:pt x="294" y="2204"/>
                  </a:lnTo>
                  <a:lnTo>
                    <a:pt x="283" y="2208"/>
                  </a:lnTo>
                  <a:lnTo>
                    <a:pt x="275" y="2213"/>
                  </a:lnTo>
                  <a:lnTo>
                    <a:pt x="268" y="2217"/>
                  </a:lnTo>
                  <a:lnTo>
                    <a:pt x="266" y="2222"/>
                  </a:lnTo>
                  <a:lnTo>
                    <a:pt x="272" y="2226"/>
                  </a:lnTo>
                  <a:lnTo>
                    <a:pt x="283" y="2231"/>
                  </a:lnTo>
                  <a:lnTo>
                    <a:pt x="296" y="2235"/>
                  </a:lnTo>
                  <a:lnTo>
                    <a:pt x="306" y="2240"/>
                  </a:lnTo>
                  <a:lnTo>
                    <a:pt x="317" y="2244"/>
                  </a:lnTo>
                  <a:lnTo>
                    <a:pt x="328" y="2249"/>
                  </a:lnTo>
                  <a:lnTo>
                    <a:pt x="349" y="2253"/>
                  </a:lnTo>
                  <a:lnTo>
                    <a:pt x="374" y="2258"/>
                  </a:lnTo>
                  <a:lnTo>
                    <a:pt x="389" y="2262"/>
                  </a:lnTo>
                  <a:lnTo>
                    <a:pt x="396" y="2267"/>
                  </a:lnTo>
                  <a:lnTo>
                    <a:pt x="400" y="2271"/>
                  </a:lnTo>
                  <a:lnTo>
                    <a:pt x="404" y="2276"/>
                  </a:lnTo>
                  <a:lnTo>
                    <a:pt x="406" y="2280"/>
                  </a:lnTo>
                  <a:lnTo>
                    <a:pt x="406" y="2285"/>
                  </a:lnTo>
                  <a:lnTo>
                    <a:pt x="404" y="2289"/>
                  </a:lnTo>
                  <a:lnTo>
                    <a:pt x="393" y="2294"/>
                  </a:lnTo>
                  <a:lnTo>
                    <a:pt x="374" y="2298"/>
                  </a:lnTo>
                  <a:lnTo>
                    <a:pt x="359" y="2303"/>
                  </a:lnTo>
                  <a:lnTo>
                    <a:pt x="351" y="2307"/>
                  </a:lnTo>
                  <a:lnTo>
                    <a:pt x="340" y="2312"/>
                  </a:lnTo>
                  <a:lnTo>
                    <a:pt x="332" y="2316"/>
                  </a:lnTo>
                  <a:lnTo>
                    <a:pt x="321" y="2321"/>
                  </a:lnTo>
                  <a:lnTo>
                    <a:pt x="313" y="2325"/>
                  </a:lnTo>
                  <a:lnTo>
                    <a:pt x="306" y="2330"/>
                  </a:lnTo>
                  <a:lnTo>
                    <a:pt x="302" y="2334"/>
                  </a:lnTo>
                  <a:lnTo>
                    <a:pt x="298" y="2339"/>
                  </a:lnTo>
                  <a:lnTo>
                    <a:pt x="289" y="2343"/>
                  </a:lnTo>
                  <a:lnTo>
                    <a:pt x="279" y="2348"/>
                  </a:lnTo>
                  <a:lnTo>
                    <a:pt x="270" y="2352"/>
                  </a:lnTo>
                  <a:lnTo>
                    <a:pt x="264" y="2357"/>
                  </a:lnTo>
                  <a:lnTo>
                    <a:pt x="262" y="2361"/>
                  </a:lnTo>
                  <a:lnTo>
                    <a:pt x="258" y="2366"/>
                  </a:lnTo>
                  <a:lnTo>
                    <a:pt x="255" y="2370"/>
                  </a:lnTo>
                  <a:lnTo>
                    <a:pt x="253" y="2375"/>
                  </a:lnTo>
                  <a:lnTo>
                    <a:pt x="253" y="2379"/>
                  </a:lnTo>
                  <a:lnTo>
                    <a:pt x="255" y="2384"/>
                  </a:lnTo>
                  <a:lnTo>
                    <a:pt x="262" y="2388"/>
                  </a:lnTo>
                  <a:lnTo>
                    <a:pt x="262" y="2393"/>
                  </a:lnTo>
                  <a:lnTo>
                    <a:pt x="264" y="2397"/>
                  </a:lnTo>
                  <a:lnTo>
                    <a:pt x="264" y="2402"/>
                  </a:lnTo>
                  <a:lnTo>
                    <a:pt x="262" y="2406"/>
                  </a:lnTo>
                  <a:lnTo>
                    <a:pt x="264" y="2411"/>
                  </a:lnTo>
                  <a:lnTo>
                    <a:pt x="266" y="2415"/>
                  </a:lnTo>
                  <a:lnTo>
                    <a:pt x="266" y="2420"/>
                  </a:lnTo>
                  <a:lnTo>
                    <a:pt x="262" y="2424"/>
                  </a:lnTo>
                  <a:lnTo>
                    <a:pt x="258" y="2429"/>
                  </a:lnTo>
                  <a:lnTo>
                    <a:pt x="258" y="2433"/>
                  </a:lnTo>
                  <a:lnTo>
                    <a:pt x="255" y="2438"/>
                  </a:lnTo>
                  <a:lnTo>
                    <a:pt x="255" y="2442"/>
                  </a:lnTo>
                  <a:lnTo>
                    <a:pt x="258" y="2447"/>
                  </a:lnTo>
                  <a:lnTo>
                    <a:pt x="258" y="2451"/>
                  </a:lnTo>
                  <a:lnTo>
                    <a:pt x="255" y="2456"/>
                  </a:lnTo>
                  <a:lnTo>
                    <a:pt x="264" y="2460"/>
                  </a:lnTo>
                  <a:lnTo>
                    <a:pt x="275" y="2465"/>
                  </a:lnTo>
                  <a:lnTo>
                    <a:pt x="275" y="2469"/>
                  </a:lnTo>
                  <a:lnTo>
                    <a:pt x="266" y="2474"/>
                  </a:lnTo>
                  <a:lnTo>
                    <a:pt x="255" y="2478"/>
                  </a:lnTo>
                  <a:lnTo>
                    <a:pt x="241" y="2483"/>
                  </a:lnTo>
                  <a:lnTo>
                    <a:pt x="221" y="2487"/>
                  </a:lnTo>
                  <a:lnTo>
                    <a:pt x="202" y="2492"/>
                  </a:lnTo>
                  <a:lnTo>
                    <a:pt x="185" y="2496"/>
                  </a:lnTo>
                  <a:lnTo>
                    <a:pt x="151" y="2501"/>
                  </a:lnTo>
                  <a:lnTo>
                    <a:pt x="98" y="2505"/>
                  </a:lnTo>
                  <a:lnTo>
                    <a:pt x="71" y="2510"/>
                  </a:lnTo>
                  <a:lnTo>
                    <a:pt x="62" y="2514"/>
                  </a:lnTo>
                  <a:lnTo>
                    <a:pt x="56" y="2519"/>
                  </a:lnTo>
                  <a:lnTo>
                    <a:pt x="56" y="2523"/>
                  </a:lnTo>
                  <a:lnTo>
                    <a:pt x="54" y="2528"/>
                  </a:lnTo>
                  <a:lnTo>
                    <a:pt x="49" y="2532"/>
                  </a:lnTo>
                  <a:lnTo>
                    <a:pt x="43" y="2537"/>
                  </a:lnTo>
                  <a:lnTo>
                    <a:pt x="39" y="2541"/>
                  </a:lnTo>
                  <a:lnTo>
                    <a:pt x="34" y="2546"/>
                  </a:lnTo>
                  <a:lnTo>
                    <a:pt x="32" y="2550"/>
                  </a:lnTo>
                  <a:lnTo>
                    <a:pt x="30" y="2555"/>
                  </a:lnTo>
                  <a:lnTo>
                    <a:pt x="30" y="2559"/>
                  </a:lnTo>
                  <a:lnTo>
                    <a:pt x="17" y="2564"/>
                  </a:lnTo>
                  <a:lnTo>
                    <a:pt x="22" y="2568"/>
                  </a:lnTo>
                  <a:lnTo>
                    <a:pt x="0" y="2573"/>
                  </a:lnTo>
                  <a:lnTo>
                    <a:pt x="49" y="2577"/>
                  </a:lnTo>
                  <a:lnTo>
                    <a:pt x="83" y="2582"/>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Freeform 288"/>
            <p:cNvSpPr/>
            <p:nvPr/>
          </p:nvSpPr>
          <p:spPr>
            <a:xfrm>
              <a:off x="5173560" y="2157480"/>
              <a:ext cx="501840" cy="4379760"/>
            </a:xfrm>
            <a:custGeom>
              <a:avLst/>
              <a:gdLst>
                <a:gd name="textAreaLeft" fmla="*/ 0 w 501840"/>
                <a:gd name="textAreaRight" fmla="*/ 502200 w 501840"/>
                <a:gd name="textAreaTop" fmla="*/ 0 h 4379760"/>
                <a:gd name="textAreaBottom" fmla="*/ 4380120 h 4379760"/>
              </a:gdLst>
              <a:ahLst/>
              <a:rect l="textAreaLeft" t="textAreaTop" r="textAreaRight" b="textAreaBottom"/>
              <a:pathLst>
                <a:path w="297" h="2582">
                  <a:moveTo>
                    <a:pt x="223" y="0"/>
                  </a:moveTo>
                  <a:lnTo>
                    <a:pt x="223" y="4"/>
                  </a:lnTo>
                  <a:lnTo>
                    <a:pt x="225" y="9"/>
                  </a:lnTo>
                  <a:lnTo>
                    <a:pt x="216" y="13"/>
                  </a:lnTo>
                  <a:lnTo>
                    <a:pt x="208" y="18"/>
                  </a:lnTo>
                  <a:lnTo>
                    <a:pt x="199" y="22"/>
                  </a:lnTo>
                  <a:lnTo>
                    <a:pt x="195" y="27"/>
                  </a:lnTo>
                  <a:lnTo>
                    <a:pt x="191" y="31"/>
                  </a:lnTo>
                  <a:lnTo>
                    <a:pt x="197" y="36"/>
                  </a:lnTo>
                  <a:lnTo>
                    <a:pt x="208" y="40"/>
                  </a:lnTo>
                  <a:lnTo>
                    <a:pt x="212" y="45"/>
                  </a:lnTo>
                  <a:lnTo>
                    <a:pt x="210" y="49"/>
                  </a:lnTo>
                  <a:lnTo>
                    <a:pt x="199" y="54"/>
                  </a:lnTo>
                  <a:lnTo>
                    <a:pt x="182" y="58"/>
                  </a:lnTo>
                  <a:lnTo>
                    <a:pt x="187" y="63"/>
                  </a:lnTo>
                  <a:lnTo>
                    <a:pt x="195" y="67"/>
                  </a:lnTo>
                  <a:lnTo>
                    <a:pt x="206" y="72"/>
                  </a:lnTo>
                  <a:lnTo>
                    <a:pt x="212" y="76"/>
                  </a:lnTo>
                  <a:lnTo>
                    <a:pt x="204" y="81"/>
                  </a:lnTo>
                  <a:lnTo>
                    <a:pt x="191" y="85"/>
                  </a:lnTo>
                  <a:lnTo>
                    <a:pt x="185" y="90"/>
                  </a:lnTo>
                  <a:lnTo>
                    <a:pt x="185" y="94"/>
                  </a:lnTo>
                  <a:lnTo>
                    <a:pt x="189" y="99"/>
                  </a:lnTo>
                  <a:lnTo>
                    <a:pt x="197" y="103"/>
                  </a:lnTo>
                  <a:lnTo>
                    <a:pt x="191" y="108"/>
                  </a:lnTo>
                  <a:lnTo>
                    <a:pt x="185" y="112"/>
                  </a:lnTo>
                  <a:lnTo>
                    <a:pt x="178" y="117"/>
                  </a:lnTo>
                  <a:lnTo>
                    <a:pt x="178" y="121"/>
                  </a:lnTo>
                  <a:lnTo>
                    <a:pt x="182" y="126"/>
                  </a:lnTo>
                  <a:lnTo>
                    <a:pt x="185" y="130"/>
                  </a:lnTo>
                  <a:lnTo>
                    <a:pt x="193" y="135"/>
                  </a:lnTo>
                  <a:lnTo>
                    <a:pt x="187" y="139"/>
                  </a:lnTo>
                  <a:lnTo>
                    <a:pt x="178" y="144"/>
                  </a:lnTo>
                  <a:lnTo>
                    <a:pt x="161" y="148"/>
                  </a:lnTo>
                  <a:lnTo>
                    <a:pt x="144" y="153"/>
                  </a:lnTo>
                  <a:lnTo>
                    <a:pt x="123" y="157"/>
                  </a:lnTo>
                  <a:lnTo>
                    <a:pt x="91" y="162"/>
                  </a:lnTo>
                  <a:lnTo>
                    <a:pt x="51" y="166"/>
                  </a:lnTo>
                  <a:lnTo>
                    <a:pt x="42" y="171"/>
                  </a:lnTo>
                  <a:lnTo>
                    <a:pt x="40" y="175"/>
                  </a:lnTo>
                  <a:lnTo>
                    <a:pt x="29" y="180"/>
                  </a:lnTo>
                  <a:lnTo>
                    <a:pt x="27" y="184"/>
                  </a:lnTo>
                  <a:lnTo>
                    <a:pt x="40" y="189"/>
                  </a:lnTo>
                  <a:lnTo>
                    <a:pt x="68" y="193"/>
                  </a:lnTo>
                  <a:lnTo>
                    <a:pt x="146" y="198"/>
                  </a:lnTo>
                  <a:lnTo>
                    <a:pt x="206" y="202"/>
                  </a:lnTo>
                  <a:lnTo>
                    <a:pt x="221" y="207"/>
                  </a:lnTo>
                  <a:lnTo>
                    <a:pt x="197" y="211"/>
                  </a:lnTo>
                  <a:lnTo>
                    <a:pt x="91" y="216"/>
                  </a:lnTo>
                  <a:lnTo>
                    <a:pt x="61" y="220"/>
                  </a:lnTo>
                  <a:lnTo>
                    <a:pt x="46" y="225"/>
                  </a:lnTo>
                  <a:lnTo>
                    <a:pt x="59" y="229"/>
                  </a:lnTo>
                  <a:lnTo>
                    <a:pt x="89" y="234"/>
                  </a:lnTo>
                  <a:lnTo>
                    <a:pt x="91" y="238"/>
                  </a:lnTo>
                  <a:lnTo>
                    <a:pt x="78" y="243"/>
                  </a:lnTo>
                  <a:lnTo>
                    <a:pt x="72" y="247"/>
                  </a:lnTo>
                  <a:lnTo>
                    <a:pt x="76" y="252"/>
                  </a:lnTo>
                  <a:lnTo>
                    <a:pt x="68" y="256"/>
                  </a:lnTo>
                  <a:lnTo>
                    <a:pt x="66" y="261"/>
                  </a:lnTo>
                  <a:lnTo>
                    <a:pt x="66" y="265"/>
                  </a:lnTo>
                  <a:lnTo>
                    <a:pt x="68" y="270"/>
                  </a:lnTo>
                  <a:lnTo>
                    <a:pt x="70" y="274"/>
                  </a:lnTo>
                  <a:lnTo>
                    <a:pt x="70" y="279"/>
                  </a:lnTo>
                  <a:lnTo>
                    <a:pt x="70" y="283"/>
                  </a:lnTo>
                  <a:lnTo>
                    <a:pt x="72" y="288"/>
                  </a:lnTo>
                  <a:lnTo>
                    <a:pt x="74" y="292"/>
                  </a:lnTo>
                  <a:lnTo>
                    <a:pt x="76" y="297"/>
                  </a:lnTo>
                  <a:lnTo>
                    <a:pt x="72" y="301"/>
                  </a:lnTo>
                  <a:lnTo>
                    <a:pt x="63" y="306"/>
                  </a:lnTo>
                  <a:lnTo>
                    <a:pt x="63" y="310"/>
                  </a:lnTo>
                  <a:lnTo>
                    <a:pt x="68" y="315"/>
                  </a:lnTo>
                  <a:lnTo>
                    <a:pt x="70" y="319"/>
                  </a:lnTo>
                  <a:lnTo>
                    <a:pt x="74" y="324"/>
                  </a:lnTo>
                  <a:lnTo>
                    <a:pt x="74" y="328"/>
                  </a:lnTo>
                  <a:lnTo>
                    <a:pt x="74" y="333"/>
                  </a:lnTo>
                  <a:lnTo>
                    <a:pt x="70" y="337"/>
                  </a:lnTo>
                  <a:lnTo>
                    <a:pt x="66" y="342"/>
                  </a:lnTo>
                  <a:lnTo>
                    <a:pt x="68" y="346"/>
                  </a:lnTo>
                  <a:lnTo>
                    <a:pt x="74" y="351"/>
                  </a:lnTo>
                  <a:lnTo>
                    <a:pt x="74" y="355"/>
                  </a:lnTo>
                  <a:lnTo>
                    <a:pt x="76" y="360"/>
                  </a:lnTo>
                  <a:lnTo>
                    <a:pt x="93" y="364"/>
                  </a:lnTo>
                  <a:lnTo>
                    <a:pt x="95" y="369"/>
                  </a:lnTo>
                  <a:lnTo>
                    <a:pt x="95" y="373"/>
                  </a:lnTo>
                  <a:lnTo>
                    <a:pt x="100" y="378"/>
                  </a:lnTo>
                  <a:lnTo>
                    <a:pt x="100" y="382"/>
                  </a:lnTo>
                  <a:lnTo>
                    <a:pt x="95" y="387"/>
                  </a:lnTo>
                  <a:lnTo>
                    <a:pt x="97" y="391"/>
                  </a:lnTo>
                  <a:lnTo>
                    <a:pt x="95" y="396"/>
                  </a:lnTo>
                  <a:lnTo>
                    <a:pt x="93" y="400"/>
                  </a:lnTo>
                  <a:lnTo>
                    <a:pt x="89" y="405"/>
                  </a:lnTo>
                  <a:lnTo>
                    <a:pt x="87" y="409"/>
                  </a:lnTo>
                  <a:lnTo>
                    <a:pt x="89" y="414"/>
                  </a:lnTo>
                  <a:lnTo>
                    <a:pt x="89" y="418"/>
                  </a:lnTo>
                  <a:lnTo>
                    <a:pt x="104" y="423"/>
                  </a:lnTo>
                  <a:lnTo>
                    <a:pt x="106" y="427"/>
                  </a:lnTo>
                  <a:lnTo>
                    <a:pt x="106" y="432"/>
                  </a:lnTo>
                  <a:lnTo>
                    <a:pt x="102" y="436"/>
                  </a:lnTo>
                  <a:lnTo>
                    <a:pt x="97" y="441"/>
                  </a:lnTo>
                  <a:lnTo>
                    <a:pt x="95" y="445"/>
                  </a:lnTo>
                  <a:lnTo>
                    <a:pt x="95" y="450"/>
                  </a:lnTo>
                  <a:lnTo>
                    <a:pt x="95" y="454"/>
                  </a:lnTo>
                  <a:lnTo>
                    <a:pt x="97" y="459"/>
                  </a:lnTo>
                  <a:lnTo>
                    <a:pt x="97" y="463"/>
                  </a:lnTo>
                  <a:lnTo>
                    <a:pt x="93" y="468"/>
                  </a:lnTo>
                  <a:lnTo>
                    <a:pt x="91" y="472"/>
                  </a:lnTo>
                  <a:lnTo>
                    <a:pt x="93" y="477"/>
                  </a:lnTo>
                  <a:lnTo>
                    <a:pt x="87" y="481"/>
                  </a:lnTo>
                  <a:lnTo>
                    <a:pt x="87" y="486"/>
                  </a:lnTo>
                  <a:lnTo>
                    <a:pt x="85" y="490"/>
                  </a:lnTo>
                  <a:lnTo>
                    <a:pt x="85" y="495"/>
                  </a:lnTo>
                  <a:lnTo>
                    <a:pt x="85" y="499"/>
                  </a:lnTo>
                  <a:lnTo>
                    <a:pt x="85" y="504"/>
                  </a:lnTo>
                  <a:lnTo>
                    <a:pt x="83" y="508"/>
                  </a:lnTo>
                  <a:lnTo>
                    <a:pt x="80" y="512"/>
                  </a:lnTo>
                  <a:lnTo>
                    <a:pt x="87" y="517"/>
                  </a:lnTo>
                  <a:lnTo>
                    <a:pt x="83" y="521"/>
                  </a:lnTo>
                  <a:lnTo>
                    <a:pt x="68" y="526"/>
                  </a:lnTo>
                  <a:lnTo>
                    <a:pt x="68" y="530"/>
                  </a:lnTo>
                  <a:lnTo>
                    <a:pt x="68" y="535"/>
                  </a:lnTo>
                  <a:lnTo>
                    <a:pt x="68" y="539"/>
                  </a:lnTo>
                  <a:lnTo>
                    <a:pt x="68" y="544"/>
                  </a:lnTo>
                  <a:lnTo>
                    <a:pt x="63" y="548"/>
                  </a:lnTo>
                  <a:lnTo>
                    <a:pt x="63" y="553"/>
                  </a:lnTo>
                  <a:lnTo>
                    <a:pt x="66" y="557"/>
                  </a:lnTo>
                  <a:lnTo>
                    <a:pt x="59" y="562"/>
                  </a:lnTo>
                  <a:lnTo>
                    <a:pt x="57" y="566"/>
                  </a:lnTo>
                  <a:lnTo>
                    <a:pt x="63" y="571"/>
                  </a:lnTo>
                  <a:lnTo>
                    <a:pt x="68" y="575"/>
                  </a:lnTo>
                  <a:lnTo>
                    <a:pt x="74" y="580"/>
                  </a:lnTo>
                  <a:lnTo>
                    <a:pt x="80" y="584"/>
                  </a:lnTo>
                  <a:lnTo>
                    <a:pt x="80" y="589"/>
                  </a:lnTo>
                  <a:lnTo>
                    <a:pt x="76" y="593"/>
                  </a:lnTo>
                  <a:lnTo>
                    <a:pt x="80" y="598"/>
                  </a:lnTo>
                  <a:lnTo>
                    <a:pt x="80" y="602"/>
                  </a:lnTo>
                  <a:lnTo>
                    <a:pt x="80" y="607"/>
                  </a:lnTo>
                  <a:lnTo>
                    <a:pt x="87" y="611"/>
                  </a:lnTo>
                  <a:lnTo>
                    <a:pt x="91" y="616"/>
                  </a:lnTo>
                  <a:lnTo>
                    <a:pt x="93" y="620"/>
                  </a:lnTo>
                  <a:lnTo>
                    <a:pt x="93" y="625"/>
                  </a:lnTo>
                  <a:lnTo>
                    <a:pt x="95" y="629"/>
                  </a:lnTo>
                  <a:lnTo>
                    <a:pt x="97" y="634"/>
                  </a:lnTo>
                  <a:lnTo>
                    <a:pt x="93" y="638"/>
                  </a:lnTo>
                  <a:lnTo>
                    <a:pt x="91" y="643"/>
                  </a:lnTo>
                  <a:lnTo>
                    <a:pt x="91" y="647"/>
                  </a:lnTo>
                  <a:lnTo>
                    <a:pt x="91" y="652"/>
                  </a:lnTo>
                  <a:lnTo>
                    <a:pt x="87" y="656"/>
                  </a:lnTo>
                  <a:lnTo>
                    <a:pt x="87" y="661"/>
                  </a:lnTo>
                  <a:lnTo>
                    <a:pt x="89" y="665"/>
                  </a:lnTo>
                  <a:lnTo>
                    <a:pt x="87" y="670"/>
                  </a:lnTo>
                  <a:lnTo>
                    <a:pt x="83" y="674"/>
                  </a:lnTo>
                  <a:lnTo>
                    <a:pt x="83" y="679"/>
                  </a:lnTo>
                  <a:lnTo>
                    <a:pt x="83" y="683"/>
                  </a:lnTo>
                  <a:lnTo>
                    <a:pt x="83" y="688"/>
                  </a:lnTo>
                  <a:lnTo>
                    <a:pt x="78" y="692"/>
                  </a:lnTo>
                  <a:lnTo>
                    <a:pt x="63" y="697"/>
                  </a:lnTo>
                  <a:lnTo>
                    <a:pt x="53" y="701"/>
                  </a:lnTo>
                  <a:lnTo>
                    <a:pt x="51" y="706"/>
                  </a:lnTo>
                  <a:lnTo>
                    <a:pt x="53" y="710"/>
                  </a:lnTo>
                  <a:lnTo>
                    <a:pt x="66" y="715"/>
                  </a:lnTo>
                  <a:lnTo>
                    <a:pt x="68" y="719"/>
                  </a:lnTo>
                  <a:lnTo>
                    <a:pt x="74" y="724"/>
                  </a:lnTo>
                  <a:lnTo>
                    <a:pt x="78" y="728"/>
                  </a:lnTo>
                  <a:lnTo>
                    <a:pt x="91" y="733"/>
                  </a:lnTo>
                  <a:lnTo>
                    <a:pt x="95" y="737"/>
                  </a:lnTo>
                  <a:lnTo>
                    <a:pt x="89" y="742"/>
                  </a:lnTo>
                  <a:lnTo>
                    <a:pt x="87" y="746"/>
                  </a:lnTo>
                  <a:lnTo>
                    <a:pt x="83" y="751"/>
                  </a:lnTo>
                  <a:lnTo>
                    <a:pt x="74" y="755"/>
                  </a:lnTo>
                  <a:lnTo>
                    <a:pt x="68" y="760"/>
                  </a:lnTo>
                  <a:lnTo>
                    <a:pt x="66" y="764"/>
                  </a:lnTo>
                  <a:lnTo>
                    <a:pt x="68" y="769"/>
                  </a:lnTo>
                  <a:lnTo>
                    <a:pt x="68" y="773"/>
                  </a:lnTo>
                  <a:lnTo>
                    <a:pt x="66" y="778"/>
                  </a:lnTo>
                  <a:lnTo>
                    <a:pt x="61" y="782"/>
                  </a:lnTo>
                  <a:lnTo>
                    <a:pt x="63" y="787"/>
                  </a:lnTo>
                  <a:lnTo>
                    <a:pt x="61" y="791"/>
                  </a:lnTo>
                  <a:lnTo>
                    <a:pt x="61" y="796"/>
                  </a:lnTo>
                  <a:lnTo>
                    <a:pt x="61" y="800"/>
                  </a:lnTo>
                  <a:lnTo>
                    <a:pt x="63" y="805"/>
                  </a:lnTo>
                  <a:lnTo>
                    <a:pt x="63" y="809"/>
                  </a:lnTo>
                  <a:lnTo>
                    <a:pt x="63" y="814"/>
                  </a:lnTo>
                  <a:lnTo>
                    <a:pt x="74" y="818"/>
                  </a:lnTo>
                  <a:lnTo>
                    <a:pt x="85" y="823"/>
                  </a:lnTo>
                  <a:lnTo>
                    <a:pt x="93" y="827"/>
                  </a:lnTo>
                  <a:lnTo>
                    <a:pt x="100" y="832"/>
                  </a:lnTo>
                  <a:lnTo>
                    <a:pt x="117" y="836"/>
                  </a:lnTo>
                  <a:lnTo>
                    <a:pt x="123" y="841"/>
                  </a:lnTo>
                  <a:lnTo>
                    <a:pt x="138" y="845"/>
                  </a:lnTo>
                  <a:lnTo>
                    <a:pt x="163" y="850"/>
                  </a:lnTo>
                  <a:lnTo>
                    <a:pt x="176" y="854"/>
                  </a:lnTo>
                  <a:lnTo>
                    <a:pt x="174" y="859"/>
                  </a:lnTo>
                  <a:lnTo>
                    <a:pt x="168" y="863"/>
                  </a:lnTo>
                  <a:lnTo>
                    <a:pt x="165" y="868"/>
                  </a:lnTo>
                  <a:lnTo>
                    <a:pt x="153" y="872"/>
                  </a:lnTo>
                  <a:lnTo>
                    <a:pt x="140" y="877"/>
                  </a:lnTo>
                  <a:lnTo>
                    <a:pt x="129" y="881"/>
                  </a:lnTo>
                  <a:lnTo>
                    <a:pt x="127" y="886"/>
                  </a:lnTo>
                  <a:lnTo>
                    <a:pt x="121" y="890"/>
                  </a:lnTo>
                  <a:lnTo>
                    <a:pt x="102" y="895"/>
                  </a:lnTo>
                  <a:lnTo>
                    <a:pt x="87" y="899"/>
                  </a:lnTo>
                  <a:lnTo>
                    <a:pt x="78" y="904"/>
                  </a:lnTo>
                  <a:lnTo>
                    <a:pt x="78" y="908"/>
                  </a:lnTo>
                  <a:lnTo>
                    <a:pt x="85" y="913"/>
                  </a:lnTo>
                  <a:lnTo>
                    <a:pt x="95" y="917"/>
                  </a:lnTo>
                  <a:lnTo>
                    <a:pt x="97" y="922"/>
                  </a:lnTo>
                  <a:lnTo>
                    <a:pt x="110" y="926"/>
                  </a:lnTo>
                  <a:lnTo>
                    <a:pt x="108" y="931"/>
                  </a:lnTo>
                  <a:lnTo>
                    <a:pt x="110" y="935"/>
                  </a:lnTo>
                  <a:lnTo>
                    <a:pt x="95" y="940"/>
                  </a:lnTo>
                  <a:lnTo>
                    <a:pt x="91" y="944"/>
                  </a:lnTo>
                  <a:lnTo>
                    <a:pt x="89" y="949"/>
                  </a:lnTo>
                  <a:lnTo>
                    <a:pt x="89" y="953"/>
                  </a:lnTo>
                  <a:lnTo>
                    <a:pt x="76" y="958"/>
                  </a:lnTo>
                  <a:lnTo>
                    <a:pt x="76" y="962"/>
                  </a:lnTo>
                  <a:lnTo>
                    <a:pt x="83" y="967"/>
                  </a:lnTo>
                  <a:lnTo>
                    <a:pt x="91" y="971"/>
                  </a:lnTo>
                  <a:lnTo>
                    <a:pt x="100" y="976"/>
                  </a:lnTo>
                  <a:lnTo>
                    <a:pt x="114" y="980"/>
                  </a:lnTo>
                  <a:lnTo>
                    <a:pt x="129" y="985"/>
                  </a:lnTo>
                  <a:lnTo>
                    <a:pt x="161" y="989"/>
                  </a:lnTo>
                  <a:lnTo>
                    <a:pt x="185" y="994"/>
                  </a:lnTo>
                  <a:lnTo>
                    <a:pt x="187" y="998"/>
                  </a:lnTo>
                  <a:lnTo>
                    <a:pt x="197" y="1003"/>
                  </a:lnTo>
                  <a:lnTo>
                    <a:pt x="208" y="1007"/>
                  </a:lnTo>
                  <a:lnTo>
                    <a:pt x="229" y="1012"/>
                  </a:lnTo>
                  <a:lnTo>
                    <a:pt x="235" y="1016"/>
                  </a:lnTo>
                  <a:lnTo>
                    <a:pt x="242" y="1021"/>
                  </a:lnTo>
                  <a:lnTo>
                    <a:pt x="248" y="1025"/>
                  </a:lnTo>
                  <a:lnTo>
                    <a:pt x="263" y="1030"/>
                  </a:lnTo>
                  <a:lnTo>
                    <a:pt x="280" y="1034"/>
                  </a:lnTo>
                  <a:lnTo>
                    <a:pt x="284" y="1039"/>
                  </a:lnTo>
                  <a:lnTo>
                    <a:pt x="284" y="1043"/>
                  </a:lnTo>
                  <a:lnTo>
                    <a:pt x="282" y="1048"/>
                  </a:lnTo>
                  <a:lnTo>
                    <a:pt x="280" y="1052"/>
                  </a:lnTo>
                  <a:lnTo>
                    <a:pt x="282" y="1057"/>
                  </a:lnTo>
                  <a:lnTo>
                    <a:pt x="282" y="1061"/>
                  </a:lnTo>
                  <a:lnTo>
                    <a:pt x="278" y="1066"/>
                  </a:lnTo>
                  <a:lnTo>
                    <a:pt x="276" y="1070"/>
                  </a:lnTo>
                  <a:lnTo>
                    <a:pt x="267" y="1075"/>
                  </a:lnTo>
                  <a:lnTo>
                    <a:pt x="261" y="1079"/>
                  </a:lnTo>
                  <a:lnTo>
                    <a:pt x="252" y="1084"/>
                  </a:lnTo>
                  <a:lnTo>
                    <a:pt x="255" y="1088"/>
                  </a:lnTo>
                  <a:lnTo>
                    <a:pt x="257" y="1093"/>
                  </a:lnTo>
                  <a:lnTo>
                    <a:pt x="257" y="1097"/>
                  </a:lnTo>
                  <a:lnTo>
                    <a:pt x="261" y="1102"/>
                  </a:lnTo>
                  <a:lnTo>
                    <a:pt x="265" y="1106"/>
                  </a:lnTo>
                  <a:lnTo>
                    <a:pt x="269" y="1111"/>
                  </a:lnTo>
                  <a:lnTo>
                    <a:pt x="274" y="1115"/>
                  </a:lnTo>
                  <a:lnTo>
                    <a:pt x="274" y="1120"/>
                  </a:lnTo>
                  <a:lnTo>
                    <a:pt x="274" y="1124"/>
                  </a:lnTo>
                  <a:lnTo>
                    <a:pt x="276" y="1129"/>
                  </a:lnTo>
                  <a:lnTo>
                    <a:pt x="276" y="1133"/>
                  </a:lnTo>
                  <a:lnTo>
                    <a:pt x="274" y="1138"/>
                  </a:lnTo>
                  <a:lnTo>
                    <a:pt x="265" y="1142"/>
                  </a:lnTo>
                  <a:lnTo>
                    <a:pt x="261" y="1147"/>
                  </a:lnTo>
                  <a:lnTo>
                    <a:pt x="259" y="1151"/>
                  </a:lnTo>
                  <a:lnTo>
                    <a:pt x="263" y="1156"/>
                  </a:lnTo>
                  <a:lnTo>
                    <a:pt x="263" y="1160"/>
                  </a:lnTo>
                  <a:lnTo>
                    <a:pt x="259" y="1165"/>
                  </a:lnTo>
                  <a:lnTo>
                    <a:pt x="265" y="1169"/>
                  </a:lnTo>
                  <a:lnTo>
                    <a:pt x="265" y="1174"/>
                  </a:lnTo>
                  <a:lnTo>
                    <a:pt x="272" y="1178"/>
                  </a:lnTo>
                  <a:lnTo>
                    <a:pt x="272" y="1183"/>
                  </a:lnTo>
                  <a:lnTo>
                    <a:pt x="278" y="1187"/>
                  </a:lnTo>
                  <a:lnTo>
                    <a:pt x="289" y="1192"/>
                  </a:lnTo>
                  <a:lnTo>
                    <a:pt x="297" y="1196"/>
                  </a:lnTo>
                  <a:lnTo>
                    <a:pt x="293" y="1201"/>
                  </a:lnTo>
                  <a:lnTo>
                    <a:pt x="295" y="1205"/>
                  </a:lnTo>
                  <a:lnTo>
                    <a:pt x="278" y="1210"/>
                  </a:lnTo>
                  <a:lnTo>
                    <a:pt x="259" y="1214"/>
                  </a:lnTo>
                  <a:lnTo>
                    <a:pt x="229" y="1219"/>
                  </a:lnTo>
                  <a:lnTo>
                    <a:pt x="187" y="1223"/>
                  </a:lnTo>
                  <a:lnTo>
                    <a:pt x="180" y="1228"/>
                  </a:lnTo>
                  <a:lnTo>
                    <a:pt x="185" y="1232"/>
                  </a:lnTo>
                  <a:lnTo>
                    <a:pt x="159" y="1237"/>
                  </a:lnTo>
                  <a:lnTo>
                    <a:pt x="157" y="1241"/>
                  </a:lnTo>
                  <a:lnTo>
                    <a:pt x="157" y="1246"/>
                  </a:lnTo>
                  <a:lnTo>
                    <a:pt x="157" y="1250"/>
                  </a:lnTo>
                  <a:lnTo>
                    <a:pt x="159" y="1255"/>
                  </a:lnTo>
                  <a:lnTo>
                    <a:pt x="172" y="1259"/>
                  </a:lnTo>
                  <a:lnTo>
                    <a:pt x="172" y="1264"/>
                  </a:lnTo>
                  <a:lnTo>
                    <a:pt x="163" y="1268"/>
                  </a:lnTo>
                  <a:lnTo>
                    <a:pt x="165" y="1273"/>
                  </a:lnTo>
                  <a:lnTo>
                    <a:pt x="170" y="1277"/>
                  </a:lnTo>
                  <a:lnTo>
                    <a:pt x="165" y="1282"/>
                  </a:lnTo>
                  <a:lnTo>
                    <a:pt x="161" y="1286"/>
                  </a:lnTo>
                  <a:lnTo>
                    <a:pt x="151" y="1291"/>
                  </a:lnTo>
                  <a:lnTo>
                    <a:pt x="142" y="1295"/>
                  </a:lnTo>
                  <a:lnTo>
                    <a:pt x="136" y="1300"/>
                  </a:lnTo>
                  <a:lnTo>
                    <a:pt x="131" y="1304"/>
                  </a:lnTo>
                  <a:lnTo>
                    <a:pt x="129" y="1309"/>
                  </a:lnTo>
                  <a:lnTo>
                    <a:pt x="136" y="1313"/>
                  </a:lnTo>
                  <a:lnTo>
                    <a:pt x="142" y="1318"/>
                  </a:lnTo>
                  <a:lnTo>
                    <a:pt x="148" y="1322"/>
                  </a:lnTo>
                  <a:lnTo>
                    <a:pt x="155" y="1327"/>
                  </a:lnTo>
                  <a:lnTo>
                    <a:pt x="146" y="1331"/>
                  </a:lnTo>
                  <a:lnTo>
                    <a:pt x="142" y="1336"/>
                  </a:lnTo>
                  <a:lnTo>
                    <a:pt x="138" y="1340"/>
                  </a:lnTo>
                  <a:lnTo>
                    <a:pt x="114" y="1345"/>
                  </a:lnTo>
                  <a:lnTo>
                    <a:pt x="104" y="1349"/>
                  </a:lnTo>
                  <a:lnTo>
                    <a:pt x="97" y="1354"/>
                  </a:lnTo>
                  <a:lnTo>
                    <a:pt x="95" y="1358"/>
                  </a:lnTo>
                  <a:lnTo>
                    <a:pt x="91" y="1363"/>
                  </a:lnTo>
                  <a:lnTo>
                    <a:pt x="85" y="1367"/>
                  </a:lnTo>
                  <a:lnTo>
                    <a:pt x="85" y="1372"/>
                  </a:lnTo>
                  <a:lnTo>
                    <a:pt x="89" y="1376"/>
                  </a:lnTo>
                  <a:lnTo>
                    <a:pt x="87" y="1381"/>
                  </a:lnTo>
                  <a:lnTo>
                    <a:pt x="87" y="1385"/>
                  </a:lnTo>
                  <a:lnTo>
                    <a:pt x="87" y="1390"/>
                  </a:lnTo>
                  <a:lnTo>
                    <a:pt x="85" y="1394"/>
                  </a:lnTo>
                  <a:lnTo>
                    <a:pt x="78" y="1399"/>
                  </a:lnTo>
                  <a:lnTo>
                    <a:pt x="80" y="1403"/>
                  </a:lnTo>
                  <a:lnTo>
                    <a:pt x="83" y="1408"/>
                  </a:lnTo>
                  <a:lnTo>
                    <a:pt x="83" y="1412"/>
                  </a:lnTo>
                  <a:lnTo>
                    <a:pt x="85" y="1417"/>
                  </a:lnTo>
                  <a:lnTo>
                    <a:pt x="93" y="1421"/>
                  </a:lnTo>
                  <a:lnTo>
                    <a:pt x="102" y="1426"/>
                  </a:lnTo>
                  <a:lnTo>
                    <a:pt x="95" y="1430"/>
                  </a:lnTo>
                  <a:lnTo>
                    <a:pt x="93" y="1435"/>
                  </a:lnTo>
                  <a:lnTo>
                    <a:pt x="91" y="1439"/>
                  </a:lnTo>
                  <a:lnTo>
                    <a:pt x="91" y="1444"/>
                  </a:lnTo>
                  <a:lnTo>
                    <a:pt x="89" y="1448"/>
                  </a:lnTo>
                  <a:lnTo>
                    <a:pt x="83" y="1453"/>
                  </a:lnTo>
                  <a:lnTo>
                    <a:pt x="80" y="1457"/>
                  </a:lnTo>
                  <a:lnTo>
                    <a:pt x="83" y="1462"/>
                  </a:lnTo>
                  <a:lnTo>
                    <a:pt x="85" y="1466"/>
                  </a:lnTo>
                  <a:lnTo>
                    <a:pt x="91" y="1471"/>
                  </a:lnTo>
                  <a:lnTo>
                    <a:pt x="93" y="1475"/>
                  </a:lnTo>
                  <a:lnTo>
                    <a:pt x="91" y="1480"/>
                  </a:lnTo>
                  <a:lnTo>
                    <a:pt x="102" y="1484"/>
                  </a:lnTo>
                  <a:lnTo>
                    <a:pt x="104" y="1489"/>
                  </a:lnTo>
                  <a:lnTo>
                    <a:pt x="100" y="1493"/>
                  </a:lnTo>
                  <a:lnTo>
                    <a:pt x="95" y="1498"/>
                  </a:lnTo>
                  <a:lnTo>
                    <a:pt x="95" y="1502"/>
                  </a:lnTo>
                  <a:lnTo>
                    <a:pt x="85" y="1507"/>
                  </a:lnTo>
                  <a:lnTo>
                    <a:pt x="85" y="1511"/>
                  </a:lnTo>
                  <a:lnTo>
                    <a:pt x="91" y="1516"/>
                  </a:lnTo>
                  <a:lnTo>
                    <a:pt x="100" y="1520"/>
                  </a:lnTo>
                  <a:lnTo>
                    <a:pt x="102" y="1525"/>
                  </a:lnTo>
                  <a:lnTo>
                    <a:pt x="93" y="1529"/>
                  </a:lnTo>
                  <a:lnTo>
                    <a:pt x="80" y="1534"/>
                  </a:lnTo>
                  <a:lnTo>
                    <a:pt x="76" y="1538"/>
                  </a:lnTo>
                  <a:lnTo>
                    <a:pt x="61" y="1543"/>
                  </a:lnTo>
                  <a:lnTo>
                    <a:pt x="53" y="1547"/>
                  </a:lnTo>
                  <a:lnTo>
                    <a:pt x="42" y="1552"/>
                  </a:lnTo>
                  <a:lnTo>
                    <a:pt x="40" y="1556"/>
                  </a:lnTo>
                  <a:lnTo>
                    <a:pt x="42" y="1560"/>
                  </a:lnTo>
                  <a:lnTo>
                    <a:pt x="46" y="1565"/>
                  </a:lnTo>
                  <a:lnTo>
                    <a:pt x="36" y="1569"/>
                  </a:lnTo>
                  <a:lnTo>
                    <a:pt x="29" y="1574"/>
                  </a:lnTo>
                  <a:lnTo>
                    <a:pt x="17" y="1578"/>
                  </a:lnTo>
                  <a:lnTo>
                    <a:pt x="12" y="1583"/>
                  </a:lnTo>
                  <a:lnTo>
                    <a:pt x="15" y="1587"/>
                  </a:lnTo>
                  <a:lnTo>
                    <a:pt x="19" y="1592"/>
                  </a:lnTo>
                  <a:lnTo>
                    <a:pt x="15" y="1596"/>
                  </a:lnTo>
                  <a:lnTo>
                    <a:pt x="15" y="1601"/>
                  </a:lnTo>
                  <a:lnTo>
                    <a:pt x="8" y="1605"/>
                  </a:lnTo>
                  <a:lnTo>
                    <a:pt x="2" y="1610"/>
                  </a:lnTo>
                  <a:lnTo>
                    <a:pt x="2" y="1614"/>
                  </a:lnTo>
                  <a:lnTo>
                    <a:pt x="4" y="1619"/>
                  </a:lnTo>
                  <a:lnTo>
                    <a:pt x="8" y="1623"/>
                  </a:lnTo>
                  <a:lnTo>
                    <a:pt x="0" y="1628"/>
                  </a:lnTo>
                  <a:lnTo>
                    <a:pt x="2" y="1632"/>
                  </a:lnTo>
                  <a:lnTo>
                    <a:pt x="2" y="1637"/>
                  </a:lnTo>
                  <a:lnTo>
                    <a:pt x="2" y="1641"/>
                  </a:lnTo>
                  <a:lnTo>
                    <a:pt x="2" y="1646"/>
                  </a:lnTo>
                  <a:lnTo>
                    <a:pt x="4" y="1650"/>
                  </a:lnTo>
                  <a:lnTo>
                    <a:pt x="10" y="1655"/>
                  </a:lnTo>
                  <a:lnTo>
                    <a:pt x="10" y="1659"/>
                  </a:lnTo>
                  <a:lnTo>
                    <a:pt x="17" y="1664"/>
                  </a:lnTo>
                  <a:lnTo>
                    <a:pt x="25" y="1668"/>
                  </a:lnTo>
                  <a:lnTo>
                    <a:pt x="34" y="1673"/>
                  </a:lnTo>
                  <a:lnTo>
                    <a:pt x="38" y="1677"/>
                  </a:lnTo>
                  <a:lnTo>
                    <a:pt x="29" y="1682"/>
                  </a:lnTo>
                  <a:lnTo>
                    <a:pt x="27" y="1686"/>
                  </a:lnTo>
                  <a:lnTo>
                    <a:pt x="34" y="1691"/>
                  </a:lnTo>
                  <a:lnTo>
                    <a:pt x="36" y="1695"/>
                  </a:lnTo>
                  <a:lnTo>
                    <a:pt x="40" y="1700"/>
                  </a:lnTo>
                  <a:lnTo>
                    <a:pt x="42" y="1704"/>
                  </a:lnTo>
                  <a:lnTo>
                    <a:pt x="44" y="1709"/>
                  </a:lnTo>
                  <a:lnTo>
                    <a:pt x="44" y="1713"/>
                  </a:lnTo>
                  <a:lnTo>
                    <a:pt x="46" y="1718"/>
                  </a:lnTo>
                  <a:lnTo>
                    <a:pt x="46" y="1722"/>
                  </a:lnTo>
                  <a:lnTo>
                    <a:pt x="46" y="1727"/>
                  </a:lnTo>
                  <a:lnTo>
                    <a:pt x="51" y="1731"/>
                  </a:lnTo>
                  <a:lnTo>
                    <a:pt x="59" y="1736"/>
                  </a:lnTo>
                  <a:lnTo>
                    <a:pt x="70" y="1740"/>
                  </a:lnTo>
                  <a:lnTo>
                    <a:pt x="76" y="1745"/>
                  </a:lnTo>
                  <a:lnTo>
                    <a:pt x="91" y="1749"/>
                  </a:lnTo>
                  <a:lnTo>
                    <a:pt x="97" y="1754"/>
                  </a:lnTo>
                  <a:lnTo>
                    <a:pt x="97" y="1758"/>
                  </a:lnTo>
                  <a:lnTo>
                    <a:pt x="97" y="1763"/>
                  </a:lnTo>
                  <a:lnTo>
                    <a:pt x="100" y="1767"/>
                  </a:lnTo>
                  <a:lnTo>
                    <a:pt x="104" y="1772"/>
                  </a:lnTo>
                  <a:lnTo>
                    <a:pt x="102" y="1776"/>
                  </a:lnTo>
                  <a:lnTo>
                    <a:pt x="102" y="1781"/>
                  </a:lnTo>
                  <a:lnTo>
                    <a:pt x="102" y="1785"/>
                  </a:lnTo>
                  <a:lnTo>
                    <a:pt x="104" y="1790"/>
                  </a:lnTo>
                  <a:lnTo>
                    <a:pt x="93" y="1794"/>
                  </a:lnTo>
                  <a:lnTo>
                    <a:pt x="91" y="1799"/>
                  </a:lnTo>
                  <a:lnTo>
                    <a:pt x="91" y="1803"/>
                  </a:lnTo>
                  <a:lnTo>
                    <a:pt x="89" y="1808"/>
                  </a:lnTo>
                  <a:lnTo>
                    <a:pt x="87" y="1812"/>
                  </a:lnTo>
                  <a:lnTo>
                    <a:pt x="89" y="1817"/>
                  </a:lnTo>
                  <a:lnTo>
                    <a:pt x="100" y="1821"/>
                  </a:lnTo>
                  <a:lnTo>
                    <a:pt x="104" y="1826"/>
                  </a:lnTo>
                  <a:lnTo>
                    <a:pt x="102" y="1830"/>
                  </a:lnTo>
                  <a:lnTo>
                    <a:pt x="104" y="1835"/>
                  </a:lnTo>
                  <a:lnTo>
                    <a:pt x="95" y="1839"/>
                  </a:lnTo>
                  <a:lnTo>
                    <a:pt x="89" y="1844"/>
                  </a:lnTo>
                  <a:lnTo>
                    <a:pt x="85" y="1848"/>
                  </a:lnTo>
                  <a:lnTo>
                    <a:pt x="83" y="1853"/>
                  </a:lnTo>
                  <a:lnTo>
                    <a:pt x="78" y="1857"/>
                  </a:lnTo>
                  <a:lnTo>
                    <a:pt x="91" y="1862"/>
                  </a:lnTo>
                  <a:lnTo>
                    <a:pt x="102" y="1866"/>
                  </a:lnTo>
                  <a:lnTo>
                    <a:pt x="104" y="1871"/>
                  </a:lnTo>
                  <a:lnTo>
                    <a:pt x="119" y="1875"/>
                  </a:lnTo>
                  <a:lnTo>
                    <a:pt x="121" y="1880"/>
                  </a:lnTo>
                  <a:lnTo>
                    <a:pt x="121" y="1884"/>
                  </a:lnTo>
                  <a:lnTo>
                    <a:pt x="114" y="1889"/>
                  </a:lnTo>
                  <a:lnTo>
                    <a:pt x="110" y="1893"/>
                  </a:lnTo>
                  <a:lnTo>
                    <a:pt x="91" y="1898"/>
                  </a:lnTo>
                  <a:lnTo>
                    <a:pt x="83" y="1902"/>
                  </a:lnTo>
                  <a:lnTo>
                    <a:pt x="80" y="1907"/>
                  </a:lnTo>
                  <a:lnTo>
                    <a:pt x="80" y="1911"/>
                  </a:lnTo>
                  <a:lnTo>
                    <a:pt x="74" y="1916"/>
                  </a:lnTo>
                  <a:lnTo>
                    <a:pt x="80" y="1920"/>
                  </a:lnTo>
                  <a:lnTo>
                    <a:pt x="85" y="1925"/>
                  </a:lnTo>
                  <a:lnTo>
                    <a:pt x="91" y="1929"/>
                  </a:lnTo>
                  <a:lnTo>
                    <a:pt x="100" y="1934"/>
                  </a:lnTo>
                  <a:lnTo>
                    <a:pt x="93" y="1938"/>
                  </a:lnTo>
                  <a:lnTo>
                    <a:pt x="91" y="1943"/>
                  </a:lnTo>
                  <a:lnTo>
                    <a:pt x="85" y="1947"/>
                  </a:lnTo>
                  <a:lnTo>
                    <a:pt x="89" y="1952"/>
                  </a:lnTo>
                  <a:lnTo>
                    <a:pt x="89" y="1956"/>
                  </a:lnTo>
                  <a:lnTo>
                    <a:pt x="89" y="1961"/>
                  </a:lnTo>
                  <a:lnTo>
                    <a:pt x="87" y="1965"/>
                  </a:lnTo>
                  <a:lnTo>
                    <a:pt x="85" y="1970"/>
                  </a:lnTo>
                  <a:lnTo>
                    <a:pt x="85" y="1974"/>
                  </a:lnTo>
                  <a:lnTo>
                    <a:pt x="93" y="1979"/>
                  </a:lnTo>
                  <a:lnTo>
                    <a:pt x="97" y="1983"/>
                  </a:lnTo>
                  <a:lnTo>
                    <a:pt x="91" y="1988"/>
                  </a:lnTo>
                  <a:lnTo>
                    <a:pt x="80" y="1992"/>
                  </a:lnTo>
                  <a:lnTo>
                    <a:pt x="68" y="1997"/>
                  </a:lnTo>
                  <a:lnTo>
                    <a:pt x="63" y="2001"/>
                  </a:lnTo>
                  <a:lnTo>
                    <a:pt x="63" y="2006"/>
                  </a:lnTo>
                  <a:lnTo>
                    <a:pt x="68" y="2010"/>
                  </a:lnTo>
                  <a:lnTo>
                    <a:pt x="78" y="2015"/>
                  </a:lnTo>
                  <a:lnTo>
                    <a:pt x="70" y="2019"/>
                  </a:lnTo>
                  <a:lnTo>
                    <a:pt x="70" y="2024"/>
                  </a:lnTo>
                  <a:lnTo>
                    <a:pt x="70" y="2028"/>
                  </a:lnTo>
                  <a:lnTo>
                    <a:pt x="72" y="2033"/>
                  </a:lnTo>
                  <a:lnTo>
                    <a:pt x="72" y="2037"/>
                  </a:lnTo>
                  <a:lnTo>
                    <a:pt x="68" y="2042"/>
                  </a:lnTo>
                  <a:lnTo>
                    <a:pt x="68" y="2046"/>
                  </a:lnTo>
                  <a:lnTo>
                    <a:pt x="68" y="2051"/>
                  </a:lnTo>
                  <a:lnTo>
                    <a:pt x="87" y="2055"/>
                  </a:lnTo>
                  <a:lnTo>
                    <a:pt x="97" y="2060"/>
                  </a:lnTo>
                  <a:lnTo>
                    <a:pt x="129" y="2064"/>
                  </a:lnTo>
                  <a:lnTo>
                    <a:pt x="155" y="2069"/>
                  </a:lnTo>
                  <a:lnTo>
                    <a:pt x="172" y="2073"/>
                  </a:lnTo>
                  <a:lnTo>
                    <a:pt x="170" y="2078"/>
                  </a:lnTo>
                  <a:lnTo>
                    <a:pt x="174" y="2082"/>
                  </a:lnTo>
                  <a:lnTo>
                    <a:pt x="176" y="2087"/>
                  </a:lnTo>
                  <a:lnTo>
                    <a:pt x="172" y="2091"/>
                  </a:lnTo>
                  <a:lnTo>
                    <a:pt x="168" y="2096"/>
                  </a:lnTo>
                  <a:lnTo>
                    <a:pt x="168" y="2100"/>
                  </a:lnTo>
                  <a:lnTo>
                    <a:pt x="163" y="2105"/>
                  </a:lnTo>
                  <a:lnTo>
                    <a:pt x="157" y="2109"/>
                  </a:lnTo>
                  <a:lnTo>
                    <a:pt x="148" y="2114"/>
                  </a:lnTo>
                  <a:lnTo>
                    <a:pt x="146" y="2118"/>
                  </a:lnTo>
                  <a:lnTo>
                    <a:pt x="148" y="2123"/>
                  </a:lnTo>
                  <a:lnTo>
                    <a:pt x="182" y="2127"/>
                  </a:lnTo>
                  <a:lnTo>
                    <a:pt x="191" y="2132"/>
                  </a:lnTo>
                  <a:lnTo>
                    <a:pt x="204" y="2136"/>
                  </a:lnTo>
                  <a:lnTo>
                    <a:pt x="202" y="2141"/>
                  </a:lnTo>
                  <a:lnTo>
                    <a:pt x="202" y="2145"/>
                  </a:lnTo>
                  <a:lnTo>
                    <a:pt x="195" y="2150"/>
                  </a:lnTo>
                  <a:lnTo>
                    <a:pt x="193" y="2154"/>
                  </a:lnTo>
                  <a:lnTo>
                    <a:pt x="193" y="2159"/>
                  </a:lnTo>
                  <a:lnTo>
                    <a:pt x="197" y="2163"/>
                  </a:lnTo>
                  <a:lnTo>
                    <a:pt x="199" y="2168"/>
                  </a:lnTo>
                  <a:lnTo>
                    <a:pt x="208" y="2172"/>
                  </a:lnTo>
                  <a:lnTo>
                    <a:pt x="204" y="2177"/>
                  </a:lnTo>
                  <a:lnTo>
                    <a:pt x="197" y="2181"/>
                  </a:lnTo>
                  <a:lnTo>
                    <a:pt x="191" y="2186"/>
                  </a:lnTo>
                  <a:lnTo>
                    <a:pt x="180" y="2190"/>
                  </a:lnTo>
                  <a:lnTo>
                    <a:pt x="178" y="2195"/>
                  </a:lnTo>
                  <a:lnTo>
                    <a:pt x="172" y="2199"/>
                  </a:lnTo>
                  <a:lnTo>
                    <a:pt x="168" y="2204"/>
                  </a:lnTo>
                  <a:lnTo>
                    <a:pt x="172" y="2208"/>
                  </a:lnTo>
                  <a:lnTo>
                    <a:pt x="172" y="2213"/>
                  </a:lnTo>
                  <a:lnTo>
                    <a:pt x="163" y="2217"/>
                  </a:lnTo>
                  <a:lnTo>
                    <a:pt x="174" y="2222"/>
                  </a:lnTo>
                  <a:lnTo>
                    <a:pt x="180" y="2226"/>
                  </a:lnTo>
                  <a:lnTo>
                    <a:pt x="197" y="2231"/>
                  </a:lnTo>
                  <a:lnTo>
                    <a:pt x="210" y="2235"/>
                  </a:lnTo>
                  <a:lnTo>
                    <a:pt x="221" y="2240"/>
                  </a:lnTo>
                  <a:lnTo>
                    <a:pt x="227" y="2244"/>
                  </a:lnTo>
                  <a:lnTo>
                    <a:pt x="225" y="2249"/>
                  </a:lnTo>
                  <a:lnTo>
                    <a:pt x="225" y="2253"/>
                  </a:lnTo>
                  <a:lnTo>
                    <a:pt x="227" y="2258"/>
                  </a:lnTo>
                  <a:lnTo>
                    <a:pt x="233" y="2262"/>
                  </a:lnTo>
                  <a:lnTo>
                    <a:pt x="235" y="2267"/>
                  </a:lnTo>
                  <a:lnTo>
                    <a:pt x="240" y="2271"/>
                  </a:lnTo>
                  <a:lnTo>
                    <a:pt x="240" y="2276"/>
                  </a:lnTo>
                  <a:lnTo>
                    <a:pt x="238" y="2280"/>
                  </a:lnTo>
                  <a:lnTo>
                    <a:pt x="238" y="2285"/>
                  </a:lnTo>
                  <a:lnTo>
                    <a:pt x="223" y="2289"/>
                  </a:lnTo>
                  <a:lnTo>
                    <a:pt x="210" y="2294"/>
                  </a:lnTo>
                  <a:lnTo>
                    <a:pt x="199" y="2298"/>
                  </a:lnTo>
                  <a:lnTo>
                    <a:pt x="197" y="2303"/>
                  </a:lnTo>
                  <a:lnTo>
                    <a:pt x="199" y="2307"/>
                  </a:lnTo>
                  <a:lnTo>
                    <a:pt x="199" y="2312"/>
                  </a:lnTo>
                  <a:lnTo>
                    <a:pt x="195" y="2316"/>
                  </a:lnTo>
                  <a:lnTo>
                    <a:pt x="195" y="2321"/>
                  </a:lnTo>
                  <a:lnTo>
                    <a:pt x="182" y="2325"/>
                  </a:lnTo>
                  <a:lnTo>
                    <a:pt x="180" y="2330"/>
                  </a:lnTo>
                  <a:lnTo>
                    <a:pt x="180" y="2334"/>
                  </a:lnTo>
                  <a:lnTo>
                    <a:pt x="178" y="2339"/>
                  </a:lnTo>
                  <a:lnTo>
                    <a:pt x="168" y="2343"/>
                  </a:lnTo>
                  <a:lnTo>
                    <a:pt x="168" y="2348"/>
                  </a:lnTo>
                  <a:lnTo>
                    <a:pt x="165" y="2352"/>
                  </a:lnTo>
                  <a:lnTo>
                    <a:pt x="172" y="2357"/>
                  </a:lnTo>
                  <a:lnTo>
                    <a:pt x="172" y="2361"/>
                  </a:lnTo>
                  <a:lnTo>
                    <a:pt x="172" y="2366"/>
                  </a:lnTo>
                  <a:lnTo>
                    <a:pt x="174" y="2370"/>
                  </a:lnTo>
                  <a:lnTo>
                    <a:pt x="172" y="2375"/>
                  </a:lnTo>
                  <a:lnTo>
                    <a:pt x="159" y="2379"/>
                  </a:lnTo>
                  <a:lnTo>
                    <a:pt x="157" y="2384"/>
                  </a:lnTo>
                  <a:lnTo>
                    <a:pt x="157" y="2388"/>
                  </a:lnTo>
                  <a:lnTo>
                    <a:pt x="159" y="2393"/>
                  </a:lnTo>
                  <a:lnTo>
                    <a:pt x="165" y="2397"/>
                  </a:lnTo>
                  <a:lnTo>
                    <a:pt x="163" y="2402"/>
                  </a:lnTo>
                  <a:lnTo>
                    <a:pt x="163" y="2406"/>
                  </a:lnTo>
                  <a:lnTo>
                    <a:pt x="163" y="2411"/>
                  </a:lnTo>
                  <a:lnTo>
                    <a:pt x="161" y="2415"/>
                  </a:lnTo>
                  <a:lnTo>
                    <a:pt x="148" y="2420"/>
                  </a:lnTo>
                  <a:lnTo>
                    <a:pt x="142" y="2424"/>
                  </a:lnTo>
                  <a:lnTo>
                    <a:pt x="142" y="2429"/>
                  </a:lnTo>
                  <a:lnTo>
                    <a:pt x="148" y="2433"/>
                  </a:lnTo>
                  <a:lnTo>
                    <a:pt x="161" y="2438"/>
                  </a:lnTo>
                  <a:lnTo>
                    <a:pt x="165" y="2442"/>
                  </a:lnTo>
                  <a:lnTo>
                    <a:pt x="168" y="2447"/>
                  </a:lnTo>
                  <a:lnTo>
                    <a:pt x="176" y="2451"/>
                  </a:lnTo>
                  <a:lnTo>
                    <a:pt x="163" y="2456"/>
                  </a:lnTo>
                  <a:lnTo>
                    <a:pt x="146" y="2460"/>
                  </a:lnTo>
                  <a:lnTo>
                    <a:pt x="151" y="2465"/>
                  </a:lnTo>
                  <a:lnTo>
                    <a:pt x="185" y="2469"/>
                  </a:lnTo>
                  <a:lnTo>
                    <a:pt x="202" y="2474"/>
                  </a:lnTo>
                  <a:lnTo>
                    <a:pt x="195" y="2478"/>
                  </a:lnTo>
                  <a:lnTo>
                    <a:pt x="193" y="2483"/>
                  </a:lnTo>
                  <a:lnTo>
                    <a:pt x="185" y="2487"/>
                  </a:lnTo>
                  <a:lnTo>
                    <a:pt x="191" y="2492"/>
                  </a:lnTo>
                  <a:lnTo>
                    <a:pt x="210" y="2496"/>
                  </a:lnTo>
                  <a:lnTo>
                    <a:pt x="212" y="2501"/>
                  </a:lnTo>
                  <a:lnTo>
                    <a:pt x="219" y="2505"/>
                  </a:lnTo>
                  <a:lnTo>
                    <a:pt x="210" y="2510"/>
                  </a:lnTo>
                  <a:lnTo>
                    <a:pt x="199" y="2514"/>
                  </a:lnTo>
                  <a:lnTo>
                    <a:pt x="191" y="2519"/>
                  </a:lnTo>
                  <a:lnTo>
                    <a:pt x="195" y="2523"/>
                  </a:lnTo>
                  <a:lnTo>
                    <a:pt x="193" y="2528"/>
                  </a:lnTo>
                  <a:lnTo>
                    <a:pt x="193" y="2532"/>
                  </a:lnTo>
                  <a:lnTo>
                    <a:pt x="195" y="2537"/>
                  </a:lnTo>
                  <a:lnTo>
                    <a:pt x="189" y="2541"/>
                  </a:lnTo>
                  <a:lnTo>
                    <a:pt x="187" y="2546"/>
                  </a:lnTo>
                  <a:lnTo>
                    <a:pt x="193" y="2550"/>
                  </a:lnTo>
                  <a:lnTo>
                    <a:pt x="202" y="2555"/>
                  </a:lnTo>
                  <a:lnTo>
                    <a:pt x="206" y="2559"/>
                  </a:lnTo>
                  <a:lnTo>
                    <a:pt x="212" y="2564"/>
                  </a:lnTo>
                  <a:lnTo>
                    <a:pt x="223" y="2568"/>
                  </a:lnTo>
                  <a:lnTo>
                    <a:pt x="225" y="2573"/>
                  </a:lnTo>
                  <a:lnTo>
                    <a:pt x="225" y="2577"/>
                  </a:lnTo>
                  <a:lnTo>
                    <a:pt x="214" y="2582"/>
                  </a:lnTo>
                </a:path>
              </a:pathLst>
            </a:custGeom>
            <a:noFill/>
            <a:ln w="2052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Freeform 289"/>
            <p:cNvSpPr/>
            <p:nvPr/>
          </p:nvSpPr>
          <p:spPr>
            <a:xfrm>
              <a:off x="5008680" y="2157480"/>
              <a:ext cx="760320" cy="4379760"/>
            </a:xfrm>
            <a:custGeom>
              <a:avLst/>
              <a:gdLst>
                <a:gd name="textAreaLeft" fmla="*/ 0 w 760320"/>
                <a:gd name="textAreaRight" fmla="*/ 760680 w 760320"/>
                <a:gd name="textAreaTop" fmla="*/ 0 h 4379760"/>
                <a:gd name="textAreaBottom" fmla="*/ 4380120 h 4379760"/>
              </a:gdLst>
              <a:ahLst/>
              <a:rect l="textAreaLeft" t="textAreaTop" r="textAreaRight" b="textAreaBottom"/>
              <a:pathLst>
                <a:path w="450" h="2582">
                  <a:moveTo>
                    <a:pt x="0" y="0"/>
                  </a:moveTo>
                  <a:lnTo>
                    <a:pt x="0" y="4"/>
                  </a:lnTo>
                  <a:lnTo>
                    <a:pt x="0" y="9"/>
                  </a:lnTo>
                  <a:lnTo>
                    <a:pt x="0" y="13"/>
                  </a:lnTo>
                  <a:lnTo>
                    <a:pt x="0" y="18"/>
                  </a:lnTo>
                  <a:lnTo>
                    <a:pt x="0" y="22"/>
                  </a:lnTo>
                  <a:lnTo>
                    <a:pt x="0" y="27"/>
                  </a:lnTo>
                  <a:lnTo>
                    <a:pt x="0" y="31"/>
                  </a:lnTo>
                  <a:lnTo>
                    <a:pt x="0" y="36"/>
                  </a:lnTo>
                  <a:lnTo>
                    <a:pt x="0" y="40"/>
                  </a:lnTo>
                  <a:lnTo>
                    <a:pt x="0" y="45"/>
                  </a:lnTo>
                  <a:lnTo>
                    <a:pt x="0" y="49"/>
                  </a:lnTo>
                  <a:lnTo>
                    <a:pt x="0" y="54"/>
                  </a:lnTo>
                  <a:lnTo>
                    <a:pt x="0" y="58"/>
                  </a:lnTo>
                  <a:lnTo>
                    <a:pt x="0" y="63"/>
                  </a:lnTo>
                  <a:lnTo>
                    <a:pt x="0" y="67"/>
                  </a:lnTo>
                  <a:lnTo>
                    <a:pt x="0" y="72"/>
                  </a:lnTo>
                  <a:lnTo>
                    <a:pt x="0" y="76"/>
                  </a:lnTo>
                  <a:lnTo>
                    <a:pt x="0" y="81"/>
                  </a:lnTo>
                  <a:lnTo>
                    <a:pt x="0" y="85"/>
                  </a:lnTo>
                  <a:lnTo>
                    <a:pt x="0" y="90"/>
                  </a:lnTo>
                  <a:lnTo>
                    <a:pt x="0" y="94"/>
                  </a:lnTo>
                  <a:lnTo>
                    <a:pt x="0" y="99"/>
                  </a:lnTo>
                  <a:lnTo>
                    <a:pt x="0" y="103"/>
                  </a:lnTo>
                  <a:lnTo>
                    <a:pt x="0" y="108"/>
                  </a:lnTo>
                  <a:lnTo>
                    <a:pt x="0" y="112"/>
                  </a:lnTo>
                  <a:lnTo>
                    <a:pt x="0" y="117"/>
                  </a:lnTo>
                  <a:lnTo>
                    <a:pt x="0" y="121"/>
                  </a:lnTo>
                  <a:lnTo>
                    <a:pt x="0" y="126"/>
                  </a:lnTo>
                  <a:lnTo>
                    <a:pt x="0" y="130"/>
                  </a:lnTo>
                  <a:lnTo>
                    <a:pt x="0" y="135"/>
                  </a:lnTo>
                  <a:lnTo>
                    <a:pt x="0" y="139"/>
                  </a:lnTo>
                  <a:lnTo>
                    <a:pt x="0" y="144"/>
                  </a:lnTo>
                  <a:lnTo>
                    <a:pt x="0" y="148"/>
                  </a:lnTo>
                  <a:lnTo>
                    <a:pt x="0" y="153"/>
                  </a:lnTo>
                  <a:lnTo>
                    <a:pt x="0" y="157"/>
                  </a:lnTo>
                  <a:lnTo>
                    <a:pt x="0" y="162"/>
                  </a:lnTo>
                  <a:lnTo>
                    <a:pt x="0" y="166"/>
                  </a:lnTo>
                  <a:lnTo>
                    <a:pt x="0" y="171"/>
                  </a:lnTo>
                  <a:lnTo>
                    <a:pt x="0" y="175"/>
                  </a:lnTo>
                  <a:lnTo>
                    <a:pt x="0" y="180"/>
                  </a:lnTo>
                  <a:lnTo>
                    <a:pt x="0" y="184"/>
                  </a:lnTo>
                  <a:lnTo>
                    <a:pt x="0" y="189"/>
                  </a:lnTo>
                  <a:lnTo>
                    <a:pt x="0" y="193"/>
                  </a:lnTo>
                  <a:lnTo>
                    <a:pt x="96" y="198"/>
                  </a:lnTo>
                  <a:lnTo>
                    <a:pt x="276" y="202"/>
                  </a:lnTo>
                  <a:lnTo>
                    <a:pt x="287" y="207"/>
                  </a:lnTo>
                  <a:lnTo>
                    <a:pt x="283" y="211"/>
                  </a:lnTo>
                  <a:lnTo>
                    <a:pt x="278" y="216"/>
                  </a:lnTo>
                  <a:lnTo>
                    <a:pt x="278" y="220"/>
                  </a:lnTo>
                  <a:lnTo>
                    <a:pt x="285" y="225"/>
                  </a:lnTo>
                  <a:lnTo>
                    <a:pt x="293" y="229"/>
                  </a:lnTo>
                  <a:lnTo>
                    <a:pt x="300" y="234"/>
                  </a:lnTo>
                  <a:lnTo>
                    <a:pt x="302" y="238"/>
                  </a:lnTo>
                  <a:lnTo>
                    <a:pt x="310" y="243"/>
                  </a:lnTo>
                  <a:lnTo>
                    <a:pt x="312" y="247"/>
                  </a:lnTo>
                  <a:lnTo>
                    <a:pt x="314" y="252"/>
                  </a:lnTo>
                  <a:lnTo>
                    <a:pt x="319" y="256"/>
                  </a:lnTo>
                  <a:lnTo>
                    <a:pt x="325" y="261"/>
                  </a:lnTo>
                  <a:lnTo>
                    <a:pt x="333" y="265"/>
                  </a:lnTo>
                  <a:lnTo>
                    <a:pt x="336" y="270"/>
                  </a:lnTo>
                  <a:lnTo>
                    <a:pt x="336" y="274"/>
                  </a:lnTo>
                  <a:lnTo>
                    <a:pt x="338" y="279"/>
                  </a:lnTo>
                  <a:lnTo>
                    <a:pt x="336" y="283"/>
                  </a:lnTo>
                  <a:lnTo>
                    <a:pt x="333" y="288"/>
                  </a:lnTo>
                  <a:lnTo>
                    <a:pt x="325" y="292"/>
                  </a:lnTo>
                  <a:lnTo>
                    <a:pt x="323" y="297"/>
                  </a:lnTo>
                  <a:lnTo>
                    <a:pt x="323" y="301"/>
                  </a:lnTo>
                  <a:lnTo>
                    <a:pt x="323" y="306"/>
                  </a:lnTo>
                  <a:lnTo>
                    <a:pt x="327" y="310"/>
                  </a:lnTo>
                  <a:lnTo>
                    <a:pt x="333" y="315"/>
                  </a:lnTo>
                  <a:lnTo>
                    <a:pt x="333" y="319"/>
                  </a:lnTo>
                  <a:lnTo>
                    <a:pt x="333" y="324"/>
                  </a:lnTo>
                  <a:lnTo>
                    <a:pt x="340" y="328"/>
                  </a:lnTo>
                  <a:lnTo>
                    <a:pt x="340" y="333"/>
                  </a:lnTo>
                  <a:lnTo>
                    <a:pt x="340" y="337"/>
                  </a:lnTo>
                  <a:lnTo>
                    <a:pt x="338" y="342"/>
                  </a:lnTo>
                  <a:lnTo>
                    <a:pt x="333" y="346"/>
                  </a:lnTo>
                  <a:lnTo>
                    <a:pt x="327" y="351"/>
                  </a:lnTo>
                  <a:lnTo>
                    <a:pt x="323" y="355"/>
                  </a:lnTo>
                  <a:lnTo>
                    <a:pt x="323" y="360"/>
                  </a:lnTo>
                  <a:lnTo>
                    <a:pt x="317" y="364"/>
                  </a:lnTo>
                  <a:lnTo>
                    <a:pt x="314" y="369"/>
                  </a:lnTo>
                  <a:lnTo>
                    <a:pt x="312" y="373"/>
                  </a:lnTo>
                  <a:lnTo>
                    <a:pt x="302" y="378"/>
                  </a:lnTo>
                  <a:lnTo>
                    <a:pt x="297" y="382"/>
                  </a:lnTo>
                  <a:lnTo>
                    <a:pt x="280" y="387"/>
                  </a:lnTo>
                  <a:lnTo>
                    <a:pt x="272" y="391"/>
                  </a:lnTo>
                  <a:lnTo>
                    <a:pt x="259" y="396"/>
                  </a:lnTo>
                  <a:lnTo>
                    <a:pt x="221" y="400"/>
                  </a:lnTo>
                  <a:lnTo>
                    <a:pt x="206" y="405"/>
                  </a:lnTo>
                  <a:lnTo>
                    <a:pt x="200" y="409"/>
                  </a:lnTo>
                  <a:lnTo>
                    <a:pt x="202" y="414"/>
                  </a:lnTo>
                  <a:lnTo>
                    <a:pt x="206" y="418"/>
                  </a:lnTo>
                  <a:lnTo>
                    <a:pt x="212" y="423"/>
                  </a:lnTo>
                  <a:lnTo>
                    <a:pt x="215" y="427"/>
                  </a:lnTo>
                  <a:lnTo>
                    <a:pt x="219" y="432"/>
                  </a:lnTo>
                  <a:lnTo>
                    <a:pt x="221" y="436"/>
                  </a:lnTo>
                  <a:lnTo>
                    <a:pt x="223" y="441"/>
                  </a:lnTo>
                  <a:lnTo>
                    <a:pt x="223" y="445"/>
                  </a:lnTo>
                  <a:lnTo>
                    <a:pt x="223" y="450"/>
                  </a:lnTo>
                  <a:lnTo>
                    <a:pt x="225" y="454"/>
                  </a:lnTo>
                  <a:lnTo>
                    <a:pt x="223" y="459"/>
                  </a:lnTo>
                  <a:lnTo>
                    <a:pt x="215" y="463"/>
                  </a:lnTo>
                  <a:lnTo>
                    <a:pt x="210" y="468"/>
                  </a:lnTo>
                  <a:lnTo>
                    <a:pt x="210" y="472"/>
                  </a:lnTo>
                  <a:lnTo>
                    <a:pt x="208" y="477"/>
                  </a:lnTo>
                  <a:lnTo>
                    <a:pt x="212" y="481"/>
                  </a:lnTo>
                  <a:lnTo>
                    <a:pt x="210" y="486"/>
                  </a:lnTo>
                  <a:lnTo>
                    <a:pt x="208" y="490"/>
                  </a:lnTo>
                  <a:lnTo>
                    <a:pt x="208" y="495"/>
                  </a:lnTo>
                  <a:lnTo>
                    <a:pt x="195" y="499"/>
                  </a:lnTo>
                  <a:lnTo>
                    <a:pt x="191" y="504"/>
                  </a:lnTo>
                  <a:lnTo>
                    <a:pt x="189" y="508"/>
                  </a:lnTo>
                  <a:lnTo>
                    <a:pt x="198" y="512"/>
                  </a:lnTo>
                  <a:lnTo>
                    <a:pt x="208" y="517"/>
                  </a:lnTo>
                  <a:lnTo>
                    <a:pt x="206" y="521"/>
                  </a:lnTo>
                  <a:lnTo>
                    <a:pt x="185" y="526"/>
                  </a:lnTo>
                  <a:lnTo>
                    <a:pt x="170" y="530"/>
                  </a:lnTo>
                  <a:lnTo>
                    <a:pt x="166" y="535"/>
                  </a:lnTo>
                  <a:lnTo>
                    <a:pt x="164" y="539"/>
                  </a:lnTo>
                  <a:lnTo>
                    <a:pt x="164" y="544"/>
                  </a:lnTo>
                  <a:lnTo>
                    <a:pt x="166" y="548"/>
                  </a:lnTo>
                  <a:lnTo>
                    <a:pt x="178" y="553"/>
                  </a:lnTo>
                  <a:lnTo>
                    <a:pt x="183" y="557"/>
                  </a:lnTo>
                  <a:lnTo>
                    <a:pt x="185" y="562"/>
                  </a:lnTo>
                  <a:lnTo>
                    <a:pt x="187" y="566"/>
                  </a:lnTo>
                  <a:lnTo>
                    <a:pt x="193" y="571"/>
                  </a:lnTo>
                  <a:lnTo>
                    <a:pt x="198" y="575"/>
                  </a:lnTo>
                  <a:lnTo>
                    <a:pt x="204" y="580"/>
                  </a:lnTo>
                  <a:lnTo>
                    <a:pt x="208" y="584"/>
                  </a:lnTo>
                  <a:lnTo>
                    <a:pt x="208" y="589"/>
                  </a:lnTo>
                  <a:lnTo>
                    <a:pt x="208" y="593"/>
                  </a:lnTo>
                  <a:lnTo>
                    <a:pt x="208" y="598"/>
                  </a:lnTo>
                  <a:lnTo>
                    <a:pt x="215" y="602"/>
                  </a:lnTo>
                  <a:lnTo>
                    <a:pt x="223" y="607"/>
                  </a:lnTo>
                  <a:lnTo>
                    <a:pt x="227" y="611"/>
                  </a:lnTo>
                  <a:lnTo>
                    <a:pt x="232" y="616"/>
                  </a:lnTo>
                  <a:lnTo>
                    <a:pt x="236" y="620"/>
                  </a:lnTo>
                  <a:lnTo>
                    <a:pt x="238" y="625"/>
                  </a:lnTo>
                  <a:lnTo>
                    <a:pt x="238" y="629"/>
                  </a:lnTo>
                  <a:lnTo>
                    <a:pt x="236" y="634"/>
                  </a:lnTo>
                  <a:lnTo>
                    <a:pt x="232" y="638"/>
                  </a:lnTo>
                  <a:lnTo>
                    <a:pt x="232" y="643"/>
                  </a:lnTo>
                  <a:lnTo>
                    <a:pt x="232" y="647"/>
                  </a:lnTo>
                  <a:lnTo>
                    <a:pt x="232" y="652"/>
                  </a:lnTo>
                  <a:lnTo>
                    <a:pt x="236" y="656"/>
                  </a:lnTo>
                  <a:lnTo>
                    <a:pt x="238" y="661"/>
                  </a:lnTo>
                  <a:lnTo>
                    <a:pt x="234" y="665"/>
                  </a:lnTo>
                  <a:lnTo>
                    <a:pt x="232" y="670"/>
                  </a:lnTo>
                  <a:lnTo>
                    <a:pt x="225" y="674"/>
                  </a:lnTo>
                  <a:lnTo>
                    <a:pt x="225" y="679"/>
                  </a:lnTo>
                  <a:lnTo>
                    <a:pt x="221" y="683"/>
                  </a:lnTo>
                  <a:lnTo>
                    <a:pt x="225" y="688"/>
                  </a:lnTo>
                  <a:lnTo>
                    <a:pt x="225" y="692"/>
                  </a:lnTo>
                  <a:lnTo>
                    <a:pt x="221" y="697"/>
                  </a:lnTo>
                  <a:lnTo>
                    <a:pt x="219" y="701"/>
                  </a:lnTo>
                  <a:lnTo>
                    <a:pt x="215" y="706"/>
                  </a:lnTo>
                  <a:lnTo>
                    <a:pt x="215" y="710"/>
                  </a:lnTo>
                  <a:lnTo>
                    <a:pt x="215" y="715"/>
                  </a:lnTo>
                  <a:lnTo>
                    <a:pt x="215" y="719"/>
                  </a:lnTo>
                  <a:lnTo>
                    <a:pt x="217" y="724"/>
                  </a:lnTo>
                  <a:lnTo>
                    <a:pt x="219" y="728"/>
                  </a:lnTo>
                  <a:lnTo>
                    <a:pt x="221" y="733"/>
                  </a:lnTo>
                  <a:lnTo>
                    <a:pt x="225" y="737"/>
                  </a:lnTo>
                  <a:lnTo>
                    <a:pt x="227" y="742"/>
                  </a:lnTo>
                  <a:lnTo>
                    <a:pt x="225" y="746"/>
                  </a:lnTo>
                  <a:lnTo>
                    <a:pt x="223" y="751"/>
                  </a:lnTo>
                  <a:lnTo>
                    <a:pt x="210" y="755"/>
                  </a:lnTo>
                  <a:lnTo>
                    <a:pt x="200" y="760"/>
                  </a:lnTo>
                  <a:lnTo>
                    <a:pt x="187" y="764"/>
                  </a:lnTo>
                  <a:lnTo>
                    <a:pt x="176" y="769"/>
                  </a:lnTo>
                  <a:lnTo>
                    <a:pt x="174" y="773"/>
                  </a:lnTo>
                  <a:lnTo>
                    <a:pt x="176" y="778"/>
                  </a:lnTo>
                  <a:lnTo>
                    <a:pt x="181" y="782"/>
                  </a:lnTo>
                  <a:lnTo>
                    <a:pt x="189" y="787"/>
                  </a:lnTo>
                  <a:lnTo>
                    <a:pt x="195" y="791"/>
                  </a:lnTo>
                  <a:lnTo>
                    <a:pt x="198" y="796"/>
                  </a:lnTo>
                  <a:lnTo>
                    <a:pt x="195" y="800"/>
                  </a:lnTo>
                  <a:lnTo>
                    <a:pt x="187" y="805"/>
                  </a:lnTo>
                  <a:lnTo>
                    <a:pt x="176" y="809"/>
                  </a:lnTo>
                  <a:lnTo>
                    <a:pt x="172" y="814"/>
                  </a:lnTo>
                  <a:lnTo>
                    <a:pt x="168" y="818"/>
                  </a:lnTo>
                  <a:lnTo>
                    <a:pt x="164" y="823"/>
                  </a:lnTo>
                  <a:lnTo>
                    <a:pt x="159" y="827"/>
                  </a:lnTo>
                  <a:lnTo>
                    <a:pt x="159" y="832"/>
                  </a:lnTo>
                  <a:lnTo>
                    <a:pt x="138" y="836"/>
                  </a:lnTo>
                  <a:lnTo>
                    <a:pt x="132" y="841"/>
                  </a:lnTo>
                  <a:lnTo>
                    <a:pt x="110" y="845"/>
                  </a:lnTo>
                  <a:lnTo>
                    <a:pt x="83" y="850"/>
                  </a:lnTo>
                  <a:lnTo>
                    <a:pt x="74" y="854"/>
                  </a:lnTo>
                  <a:lnTo>
                    <a:pt x="70" y="859"/>
                  </a:lnTo>
                  <a:lnTo>
                    <a:pt x="72" y="863"/>
                  </a:lnTo>
                  <a:lnTo>
                    <a:pt x="79" y="868"/>
                  </a:lnTo>
                  <a:lnTo>
                    <a:pt x="87" y="872"/>
                  </a:lnTo>
                  <a:lnTo>
                    <a:pt x="98" y="877"/>
                  </a:lnTo>
                  <a:lnTo>
                    <a:pt x="102" y="881"/>
                  </a:lnTo>
                  <a:lnTo>
                    <a:pt x="110" y="886"/>
                  </a:lnTo>
                  <a:lnTo>
                    <a:pt x="132" y="890"/>
                  </a:lnTo>
                  <a:lnTo>
                    <a:pt x="159" y="895"/>
                  </a:lnTo>
                  <a:lnTo>
                    <a:pt x="176" y="899"/>
                  </a:lnTo>
                  <a:lnTo>
                    <a:pt x="183" y="904"/>
                  </a:lnTo>
                  <a:lnTo>
                    <a:pt x="204" y="908"/>
                  </a:lnTo>
                  <a:lnTo>
                    <a:pt x="215" y="913"/>
                  </a:lnTo>
                  <a:lnTo>
                    <a:pt x="221" y="917"/>
                  </a:lnTo>
                  <a:lnTo>
                    <a:pt x="225" y="922"/>
                  </a:lnTo>
                  <a:lnTo>
                    <a:pt x="240" y="926"/>
                  </a:lnTo>
                  <a:lnTo>
                    <a:pt x="246" y="931"/>
                  </a:lnTo>
                  <a:lnTo>
                    <a:pt x="251" y="935"/>
                  </a:lnTo>
                  <a:lnTo>
                    <a:pt x="259" y="940"/>
                  </a:lnTo>
                  <a:lnTo>
                    <a:pt x="257" y="944"/>
                  </a:lnTo>
                  <a:lnTo>
                    <a:pt x="253" y="949"/>
                  </a:lnTo>
                  <a:lnTo>
                    <a:pt x="240" y="953"/>
                  </a:lnTo>
                  <a:lnTo>
                    <a:pt x="227" y="958"/>
                  </a:lnTo>
                  <a:lnTo>
                    <a:pt x="223" y="962"/>
                  </a:lnTo>
                  <a:lnTo>
                    <a:pt x="223" y="967"/>
                  </a:lnTo>
                  <a:lnTo>
                    <a:pt x="221" y="971"/>
                  </a:lnTo>
                  <a:lnTo>
                    <a:pt x="219" y="976"/>
                  </a:lnTo>
                  <a:lnTo>
                    <a:pt x="206" y="980"/>
                  </a:lnTo>
                  <a:lnTo>
                    <a:pt x="193" y="985"/>
                  </a:lnTo>
                  <a:lnTo>
                    <a:pt x="187" y="989"/>
                  </a:lnTo>
                  <a:lnTo>
                    <a:pt x="183" y="994"/>
                  </a:lnTo>
                  <a:lnTo>
                    <a:pt x="185" y="998"/>
                  </a:lnTo>
                  <a:lnTo>
                    <a:pt x="198" y="1003"/>
                  </a:lnTo>
                  <a:lnTo>
                    <a:pt x="236" y="1007"/>
                  </a:lnTo>
                  <a:lnTo>
                    <a:pt x="312" y="1012"/>
                  </a:lnTo>
                  <a:lnTo>
                    <a:pt x="357" y="1016"/>
                  </a:lnTo>
                  <a:lnTo>
                    <a:pt x="372" y="1021"/>
                  </a:lnTo>
                  <a:lnTo>
                    <a:pt x="387" y="1025"/>
                  </a:lnTo>
                  <a:lnTo>
                    <a:pt x="391" y="1030"/>
                  </a:lnTo>
                  <a:lnTo>
                    <a:pt x="414" y="1034"/>
                  </a:lnTo>
                  <a:lnTo>
                    <a:pt x="433" y="1039"/>
                  </a:lnTo>
                  <a:lnTo>
                    <a:pt x="435" y="1043"/>
                  </a:lnTo>
                  <a:lnTo>
                    <a:pt x="433" y="1048"/>
                  </a:lnTo>
                  <a:lnTo>
                    <a:pt x="433" y="1052"/>
                  </a:lnTo>
                  <a:lnTo>
                    <a:pt x="431" y="1057"/>
                  </a:lnTo>
                  <a:lnTo>
                    <a:pt x="425" y="1061"/>
                  </a:lnTo>
                  <a:lnTo>
                    <a:pt x="423" y="1066"/>
                  </a:lnTo>
                  <a:lnTo>
                    <a:pt x="410" y="1070"/>
                  </a:lnTo>
                  <a:lnTo>
                    <a:pt x="406" y="1075"/>
                  </a:lnTo>
                  <a:lnTo>
                    <a:pt x="391" y="1079"/>
                  </a:lnTo>
                  <a:lnTo>
                    <a:pt x="376" y="1084"/>
                  </a:lnTo>
                  <a:lnTo>
                    <a:pt x="378" y="1088"/>
                  </a:lnTo>
                  <a:lnTo>
                    <a:pt x="382" y="1093"/>
                  </a:lnTo>
                  <a:lnTo>
                    <a:pt x="389" y="1097"/>
                  </a:lnTo>
                  <a:lnTo>
                    <a:pt x="393" y="1102"/>
                  </a:lnTo>
                  <a:lnTo>
                    <a:pt x="399" y="1106"/>
                  </a:lnTo>
                  <a:lnTo>
                    <a:pt x="404" y="1111"/>
                  </a:lnTo>
                  <a:lnTo>
                    <a:pt x="408" y="1115"/>
                  </a:lnTo>
                  <a:lnTo>
                    <a:pt x="410" y="1120"/>
                  </a:lnTo>
                  <a:lnTo>
                    <a:pt x="421" y="1124"/>
                  </a:lnTo>
                  <a:lnTo>
                    <a:pt x="423" y="1129"/>
                  </a:lnTo>
                  <a:lnTo>
                    <a:pt x="423" y="1133"/>
                  </a:lnTo>
                  <a:lnTo>
                    <a:pt x="421" y="1138"/>
                  </a:lnTo>
                  <a:lnTo>
                    <a:pt x="408" y="1142"/>
                  </a:lnTo>
                  <a:lnTo>
                    <a:pt x="397" y="1147"/>
                  </a:lnTo>
                  <a:lnTo>
                    <a:pt x="393" y="1151"/>
                  </a:lnTo>
                  <a:lnTo>
                    <a:pt x="391" y="1156"/>
                  </a:lnTo>
                  <a:lnTo>
                    <a:pt x="384" y="1160"/>
                  </a:lnTo>
                  <a:lnTo>
                    <a:pt x="384" y="1165"/>
                  </a:lnTo>
                  <a:lnTo>
                    <a:pt x="391" y="1169"/>
                  </a:lnTo>
                  <a:lnTo>
                    <a:pt x="395" y="1174"/>
                  </a:lnTo>
                  <a:lnTo>
                    <a:pt x="401" y="1178"/>
                  </a:lnTo>
                  <a:lnTo>
                    <a:pt x="410" y="1183"/>
                  </a:lnTo>
                  <a:lnTo>
                    <a:pt x="423" y="1187"/>
                  </a:lnTo>
                  <a:lnTo>
                    <a:pt x="431" y="1192"/>
                  </a:lnTo>
                  <a:lnTo>
                    <a:pt x="444" y="1196"/>
                  </a:lnTo>
                  <a:lnTo>
                    <a:pt x="450" y="1201"/>
                  </a:lnTo>
                  <a:lnTo>
                    <a:pt x="442" y="1205"/>
                  </a:lnTo>
                  <a:lnTo>
                    <a:pt x="408" y="1210"/>
                  </a:lnTo>
                  <a:lnTo>
                    <a:pt x="378" y="1214"/>
                  </a:lnTo>
                  <a:lnTo>
                    <a:pt x="348" y="1219"/>
                  </a:lnTo>
                  <a:lnTo>
                    <a:pt x="323" y="1223"/>
                  </a:lnTo>
                  <a:lnTo>
                    <a:pt x="304" y="1228"/>
                  </a:lnTo>
                  <a:lnTo>
                    <a:pt x="291" y="1232"/>
                  </a:lnTo>
                  <a:lnTo>
                    <a:pt x="276" y="1237"/>
                  </a:lnTo>
                  <a:lnTo>
                    <a:pt x="270" y="1241"/>
                  </a:lnTo>
                  <a:lnTo>
                    <a:pt x="266" y="1246"/>
                  </a:lnTo>
                  <a:lnTo>
                    <a:pt x="268" y="1250"/>
                  </a:lnTo>
                  <a:lnTo>
                    <a:pt x="272" y="1255"/>
                  </a:lnTo>
                  <a:lnTo>
                    <a:pt x="276" y="1259"/>
                  </a:lnTo>
                  <a:lnTo>
                    <a:pt x="283" y="1264"/>
                  </a:lnTo>
                  <a:lnTo>
                    <a:pt x="287" y="1268"/>
                  </a:lnTo>
                  <a:lnTo>
                    <a:pt x="291" y="1273"/>
                  </a:lnTo>
                  <a:lnTo>
                    <a:pt x="287" y="1277"/>
                  </a:lnTo>
                  <a:lnTo>
                    <a:pt x="276" y="1282"/>
                  </a:lnTo>
                  <a:lnTo>
                    <a:pt x="266" y="1286"/>
                  </a:lnTo>
                  <a:lnTo>
                    <a:pt x="261" y="1291"/>
                  </a:lnTo>
                  <a:lnTo>
                    <a:pt x="242" y="1295"/>
                  </a:lnTo>
                  <a:lnTo>
                    <a:pt x="238" y="1300"/>
                  </a:lnTo>
                  <a:lnTo>
                    <a:pt x="238" y="1304"/>
                  </a:lnTo>
                  <a:lnTo>
                    <a:pt x="242" y="1309"/>
                  </a:lnTo>
                  <a:lnTo>
                    <a:pt x="244" y="1313"/>
                  </a:lnTo>
                  <a:lnTo>
                    <a:pt x="246" y="1318"/>
                  </a:lnTo>
                  <a:lnTo>
                    <a:pt x="251" y="1322"/>
                  </a:lnTo>
                  <a:lnTo>
                    <a:pt x="253" y="1327"/>
                  </a:lnTo>
                  <a:lnTo>
                    <a:pt x="255" y="1331"/>
                  </a:lnTo>
                  <a:lnTo>
                    <a:pt x="255" y="1336"/>
                  </a:lnTo>
                  <a:lnTo>
                    <a:pt x="246" y="1340"/>
                  </a:lnTo>
                  <a:lnTo>
                    <a:pt x="242" y="1345"/>
                  </a:lnTo>
                  <a:lnTo>
                    <a:pt x="229" y="1349"/>
                  </a:lnTo>
                  <a:lnTo>
                    <a:pt x="223" y="1354"/>
                  </a:lnTo>
                  <a:lnTo>
                    <a:pt x="219" y="1358"/>
                  </a:lnTo>
                  <a:lnTo>
                    <a:pt x="217" y="1363"/>
                  </a:lnTo>
                  <a:lnTo>
                    <a:pt x="212" y="1367"/>
                  </a:lnTo>
                  <a:lnTo>
                    <a:pt x="215" y="1372"/>
                  </a:lnTo>
                  <a:lnTo>
                    <a:pt x="217" y="1376"/>
                  </a:lnTo>
                  <a:lnTo>
                    <a:pt x="219" y="1381"/>
                  </a:lnTo>
                  <a:lnTo>
                    <a:pt x="219" y="1385"/>
                  </a:lnTo>
                  <a:lnTo>
                    <a:pt x="217" y="1390"/>
                  </a:lnTo>
                  <a:lnTo>
                    <a:pt x="215" y="1394"/>
                  </a:lnTo>
                  <a:lnTo>
                    <a:pt x="215" y="1399"/>
                  </a:lnTo>
                  <a:lnTo>
                    <a:pt x="212" y="1403"/>
                  </a:lnTo>
                  <a:lnTo>
                    <a:pt x="212" y="1408"/>
                  </a:lnTo>
                  <a:lnTo>
                    <a:pt x="215" y="1412"/>
                  </a:lnTo>
                  <a:lnTo>
                    <a:pt x="215" y="1417"/>
                  </a:lnTo>
                  <a:lnTo>
                    <a:pt x="219" y="1421"/>
                  </a:lnTo>
                  <a:lnTo>
                    <a:pt x="221" y="1426"/>
                  </a:lnTo>
                  <a:lnTo>
                    <a:pt x="221" y="1430"/>
                  </a:lnTo>
                  <a:lnTo>
                    <a:pt x="221" y="1435"/>
                  </a:lnTo>
                  <a:lnTo>
                    <a:pt x="219" y="1439"/>
                  </a:lnTo>
                  <a:lnTo>
                    <a:pt x="217" y="1444"/>
                  </a:lnTo>
                  <a:lnTo>
                    <a:pt x="217" y="1448"/>
                  </a:lnTo>
                  <a:lnTo>
                    <a:pt x="219" y="1453"/>
                  </a:lnTo>
                  <a:lnTo>
                    <a:pt x="221" y="1457"/>
                  </a:lnTo>
                  <a:lnTo>
                    <a:pt x="223" y="1462"/>
                  </a:lnTo>
                  <a:lnTo>
                    <a:pt x="223" y="1466"/>
                  </a:lnTo>
                  <a:lnTo>
                    <a:pt x="223" y="1471"/>
                  </a:lnTo>
                  <a:lnTo>
                    <a:pt x="223" y="1475"/>
                  </a:lnTo>
                  <a:lnTo>
                    <a:pt x="223" y="1480"/>
                  </a:lnTo>
                  <a:lnTo>
                    <a:pt x="223" y="1484"/>
                  </a:lnTo>
                  <a:lnTo>
                    <a:pt x="221" y="1489"/>
                  </a:lnTo>
                  <a:lnTo>
                    <a:pt x="215" y="1493"/>
                  </a:lnTo>
                  <a:lnTo>
                    <a:pt x="206" y="1498"/>
                  </a:lnTo>
                  <a:lnTo>
                    <a:pt x="200" y="1502"/>
                  </a:lnTo>
                  <a:lnTo>
                    <a:pt x="200" y="1507"/>
                  </a:lnTo>
                  <a:lnTo>
                    <a:pt x="202" y="1511"/>
                  </a:lnTo>
                  <a:lnTo>
                    <a:pt x="206" y="1516"/>
                  </a:lnTo>
                  <a:lnTo>
                    <a:pt x="210" y="1520"/>
                  </a:lnTo>
                  <a:lnTo>
                    <a:pt x="223" y="1525"/>
                  </a:lnTo>
                  <a:lnTo>
                    <a:pt x="229" y="1529"/>
                  </a:lnTo>
                  <a:lnTo>
                    <a:pt x="229" y="1534"/>
                  </a:lnTo>
                  <a:lnTo>
                    <a:pt x="229" y="1538"/>
                  </a:lnTo>
                  <a:lnTo>
                    <a:pt x="225" y="1543"/>
                  </a:lnTo>
                  <a:lnTo>
                    <a:pt x="168" y="1547"/>
                  </a:lnTo>
                  <a:lnTo>
                    <a:pt x="155" y="1552"/>
                  </a:lnTo>
                  <a:lnTo>
                    <a:pt x="153" y="1556"/>
                  </a:lnTo>
                  <a:lnTo>
                    <a:pt x="149" y="1560"/>
                  </a:lnTo>
                  <a:lnTo>
                    <a:pt x="144" y="1565"/>
                  </a:lnTo>
                  <a:lnTo>
                    <a:pt x="144" y="1569"/>
                  </a:lnTo>
                  <a:lnTo>
                    <a:pt x="144" y="1574"/>
                  </a:lnTo>
                  <a:lnTo>
                    <a:pt x="144" y="1578"/>
                  </a:lnTo>
                  <a:lnTo>
                    <a:pt x="142" y="1583"/>
                  </a:lnTo>
                  <a:lnTo>
                    <a:pt x="142" y="1587"/>
                  </a:lnTo>
                  <a:lnTo>
                    <a:pt x="140" y="1592"/>
                  </a:lnTo>
                  <a:lnTo>
                    <a:pt x="138" y="1596"/>
                  </a:lnTo>
                  <a:lnTo>
                    <a:pt x="132" y="1601"/>
                  </a:lnTo>
                  <a:lnTo>
                    <a:pt x="125" y="1605"/>
                  </a:lnTo>
                  <a:lnTo>
                    <a:pt x="123" y="1610"/>
                  </a:lnTo>
                  <a:lnTo>
                    <a:pt x="123" y="1614"/>
                  </a:lnTo>
                  <a:lnTo>
                    <a:pt x="125" y="1619"/>
                  </a:lnTo>
                  <a:lnTo>
                    <a:pt x="125" y="1623"/>
                  </a:lnTo>
                  <a:lnTo>
                    <a:pt x="127" y="1628"/>
                  </a:lnTo>
                  <a:lnTo>
                    <a:pt x="127" y="1632"/>
                  </a:lnTo>
                  <a:lnTo>
                    <a:pt x="125" y="1637"/>
                  </a:lnTo>
                  <a:lnTo>
                    <a:pt x="125" y="1641"/>
                  </a:lnTo>
                  <a:lnTo>
                    <a:pt x="125" y="1646"/>
                  </a:lnTo>
                  <a:lnTo>
                    <a:pt x="130" y="1650"/>
                  </a:lnTo>
                  <a:lnTo>
                    <a:pt x="134" y="1655"/>
                  </a:lnTo>
                  <a:lnTo>
                    <a:pt x="142" y="1659"/>
                  </a:lnTo>
                  <a:lnTo>
                    <a:pt x="147" y="1664"/>
                  </a:lnTo>
                  <a:lnTo>
                    <a:pt x="153" y="1668"/>
                  </a:lnTo>
                  <a:lnTo>
                    <a:pt x="155" y="1673"/>
                  </a:lnTo>
                  <a:lnTo>
                    <a:pt x="155" y="1677"/>
                  </a:lnTo>
                  <a:lnTo>
                    <a:pt x="155" y="1682"/>
                  </a:lnTo>
                  <a:lnTo>
                    <a:pt x="155" y="1686"/>
                  </a:lnTo>
                  <a:lnTo>
                    <a:pt x="153" y="1691"/>
                  </a:lnTo>
                  <a:lnTo>
                    <a:pt x="155" y="1695"/>
                  </a:lnTo>
                  <a:lnTo>
                    <a:pt x="157" y="1700"/>
                  </a:lnTo>
                  <a:lnTo>
                    <a:pt x="159" y="1704"/>
                  </a:lnTo>
                  <a:lnTo>
                    <a:pt x="164" y="1709"/>
                  </a:lnTo>
                  <a:lnTo>
                    <a:pt x="170" y="1713"/>
                  </a:lnTo>
                  <a:lnTo>
                    <a:pt x="172" y="1718"/>
                  </a:lnTo>
                  <a:lnTo>
                    <a:pt x="176" y="1722"/>
                  </a:lnTo>
                  <a:lnTo>
                    <a:pt x="178" y="1727"/>
                  </a:lnTo>
                  <a:lnTo>
                    <a:pt x="185" y="1731"/>
                  </a:lnTo>
                  <a:lnTo>
                    <a:pt x="191" y="1736"/>
                  </a:lnTo>
                  <a:lnTo>
                    <a:pt x="195" y="1740"/>
                  </a:lnTo>
                  <a:lnTo>
                    <a:pt x="202" y="1745"/>
                  </a:lnTo>
                  <a:lnTo>
                    <a:pt x="204" y="1749"/>
                  </a:lnTo>
                  <a:lnTo>
                    <a:pt x="206" y="1754"/>
                  </a:lnTo>
                  <a:lnTo>
                    <a:pt x="206" y="1758"/>
                  </a:lnTo>
                  <a:lnTo>
                    <a:pt x="212" y="1763"/>
                  </a:lnTo>
                  <a:lnTo>
                    <a:pt x="215" y="1767"/>
                  </a:lnTo>
                  <a:lnTo>
                    <a:pt x="215" y="1772"/>
                  </a:lnTo>
                  <a:lnTo>
                    <a:pt x="217" y="1776"/>
                  </a:lnTo>
                  <a:lnTo>
                    <a:pt x="215" y="1781"/>
                  </a:lnTo>
                  <a:lnTo>
                    <a:pt x="210" y="1785"/>
                  </a:lnTo>
                  <a:lnTo>
                    <a:pt x="208" y="1790"/>
                  </a:lnTo>
                  <a:lnTo>
                    <a:pt x="206" y="1794"/>
                  </a:lnTo>
                  <a:lnTo>
                    <a:pt x="206" y="1799"/>
                  </a:lnTo>
                  <a:lnTo>
                    <a:pt x="198" y="1803"/>
                  </a:lnTo>
                  <a:lnTo>
                    <a:pt x="189" y="1808"/>
                  </a:lnTo>
                  <a:lnTo>
                    <a:pt x="189" y="1812"/>
                  </a:lnTo>
                  <a:lnTo>
                    <a:pt x="181" y="1817"/>
                  </a:lnTo>
                  <a:lnTo>
                    <a:pt x="178" y="1821"/>
                  </a:lnTo>
                  <a:lnTo>
                    <a:pt x="183" y="1826"/>
                  </a:lnTo>
                  <a:lnTo>
                    <a:pt x="198" y="1830"/>
                  </a:lnTo>
                  <a:lnTo>
                    <a:pt x="200" y="1835"/>
                  </a:lnTo>
                  <a:lnTo>
                    <a:pt x="200" y="1839"/>
                  </a:lnTo>
                  <a:lnTo>
                    <a:pt x="200" y="1844"/>
                  </a:lnTo>
                  <a:lnTo>
                    <a:pt x="189" y="1848"/>
                  </a:lnTo>
                  <a:lnTo>
                    <a:pt x="191" y="1853"/>
                  </a:lnTo>
                  <a:lnTo>
                    <a:pt x="189" y="1857"/>
                  </a:lnTo>
                  <a:lnTo>
                    <a:pt x="189" y="1862"/>
                  </a:lnTo>
                  <a:lnTo>
                    <a:pt x="191" y="1866"/>
                  </a:lnTo>
                  <a:lnTo>
                    <a:pt x="202" y="1871"/>
                  </a:lnTo>
                  <a:lnTo>
                    <a:pt x="212" y="1875"/>
                  </a:lnTo>
                  <a:lnTo>
                    <a:pt x="223" y="1880"/>
                  </a:lnTo>
                  <a:lnTo>
                    <a:pt x="229" y="1884"/>
                  </a:lnTo>
                  <a:lnTo>
                    <a:pt x="232" y="1889"/>
                  </a:lnTo>
                  <a:lnTo>
                    <a:pt x="225" y="1893"/>
                  </a:lnTo>
                  <a:lnTo>
                    <a:pt x="221" y="1898"/>
                  </a:lnTo>
                  <a:lnTo>
                    <a:pt x="221" y="1902"/>
                  </a:lnTo>
                  <a:lnTo>
                    <a:pt x="219" y="1907"/>
                  </a:lnTo>
                  <a:lnTo>
                    <a:pt x="219" y="1911"/>
                  </a:lnTo>
                  <a:lnTo>
                    <a:pt x="215" y="1916"/>
                  </a:lnTo>
                  <a:lnTo>
                    <a:pt x="212" y="1920"/>
                  </a:lnTo>
                  <a:lnTo>
                    <a:pt x="195" y="1925"/>
                  </a:lnTo>
                  <a:lnTo>
                    <a:pt x="200" y="1929"/>
                  </a:lnTo>
                  <a:lnTo>
                    <a:pt x="202" y="1934"/>
                  </a:lnTo>
                  <a:lnTo>
                    <a:pt x="204" y="1938"/>
                  </a:lnTo>
                  <a:lnTo>
                    <a:pt x="204" y="1943"/>
                  </a:lnTo>
                  <a:lnTo>
                    <a:pt x="202" y="1947"/>
                  </a:lnTo>
                  <a:lnTo>
                    <a:pt x="202" y="1952"/>
                  </a:lnTo>
                  <a:lnTo>
                    <a:pt x="202" y="1956"/>
                  </a:lnTo>
                  <a:lnTo>
                    <a:pt x="200" y="1961"/>
                  </a:lnTo>
                  <a:lnTo>
                    <a:pt x="200" y="1965"/>
                  </a:lnTo>
                  <a:lnTo>
                    <a:pt x="198" y="1970"/>
                  </a:lnTo>
                  <a:lnTo>
                    <a:pt x="193" y="1974"/>
                  </a:lnTo>
                  <a:lnTo>
                    <a:pt x="185" y="1979"/>
                  </a:lnTo>
                  <a:lnTo>
                    <a:pt x="183" y="1983"/>
                  </a:lnTo>
                  <a:lnTo>
                    <a:pt x="178" y="1988"/>
                  </a:lnTo>
                  <a:lnTo>
                    <a:pt x="176" y="1992"/>
                  </a:lnTo>
                  <a:lnTo>
                    <a:pt x="172" y="1997"/>
                  </a:lnTo>
                  <a:lnTo>
                    <a:pt x="176" y="2001"/>
                  </a:lnTo>
                  <a:lnTo>
                    <a:pt x="178" y="2006"/>
                  </a:lnTo>
                  <a:lnTo>
                    <a:pt x="181" y="2010"/>
                  </a:lnTo>
                  <a:lnTo>
                    <a:pt x="178" y="2015"/>
                  </a:lnTo>
                  <a:lnTo>
                    <a:pt x="178" y="2019"/>
                  </a:lnTo>
                  <a:lnTo>
                    <a:pt x="176" y="2024"/>
                  </a:lnTo>
                  <a:lnTo>
                    <a:pt x="178" y="2028"/>
                  </a:lnTo>
                  <a:lnTo>
                    <a:pt x="183" y="2033"/>
                  </a:lnTo>
                  <a:lnTo>
                    <a:pt x="185" y="2037"/>
                  </a:lnTo>
                  <a:lnTo>
                    <a:pt x="181" y="2042"/>
                  </a:lnTo>
                  <a:lnTo>
                    <a:pt x="181" y="2046"/>
                  </a:lnTo>
                  <a:lnTo>
                    <a:pt x="183" y="2051"/>
                  </a:lnTo>
                  <a:lnTo>
                    <a:pt x="200" y="2055"/>
                  </a:lnTo>
                  <a:lnTo>
                    <a:pt x="210" y="2060"/>
                  </a:lnTo>
                  <a:lnTo>
                    <a:pt x="240" y="2064"/>
                  </a:lnTo>
                  <a:lnTo>
                    <a:pt x="261" y="2069"/>
                  </a:lnTo>
                  <a:lnTo>
                    <a:pt x="272" y="2073"/>
                  </a:lnTo>
                  <a:lnTo>
                    <a:pt x="280" y="2078"/>
                  </a:lnTo>
                  <a:lnTo>
                    <a:pt x="287" y="2082"/>
                  </a:lnTo>
                  <a:lnTo>
                    <a:pt x="289" y="2087"/>
                  </a:lnTo>
                  <a:lnTo>
                    <a:pt x="289" y="2091"/>
                  </a:lnTo>
                  <a:lnTo>
                    <a:pt x="289" y="2096"/>
                  </a:lnTo>
                  <a:lnTo>
                    <a:pt x="287" y="2100"/>
                  </a:lnTo>
                  <a:lnTo>
                    <a:pt x="287" y="2105"/>
                  </a:lnTo>
                  <a:lnTo>
                    <a:pt x="287" y="2109"/>
                  </a:lnTo>
                  <a:lnTo>
                    <a:pt x="287" y="2114"/>
                  </a:lnTo>
                  <a:lnTo>
                    <a:pt x="287" y="2118"/>
                  </a:lnTo>
                  <a:lnTo>
                    <a:pt x="293" y="2123"/>
                  </a:lnTo>
                  <a:lnTo>
                    <a:pt x="304" y="2127"/>
                  </a:lnTo>
                  <a:lnTo>
                    <a:pt x="310" y="2132"/>
                  </a:lnTo>
                  <a:lnTo>
                    <a:pt x="312" y="2136"/>
                  </a:lnTo>
                  <a:lnTo>
                    <a:pt x="312" y="2141"/>
                  </a:lnTo>
                  <a:lnTo>
                    <a:pt x="314" y="2145"/>
                  </a:lnTo>
                  <a:lnTo>
                    <a:pt x="314" y="2150"/>
                  </a:lnTo>
                  <a:lnTo>
                    <a:pt x="312" y="2154"/>
                  </a:lnTo>
                  <a:lnTo>
                    <a:pt x="312" y="2159"/>
                  </a:lnTo>
                  <a:lnTo>
                    <a:pt x="312" y="2163"/>
                  </a:lnTo>
                  <a:lnTo>
                    <a:pt x="314" y="2168"/>
                  </a:lnTo>
                  <a:lnTo>
                    <a:pt x="317" y="2172"/>
                  </a:lnTo>
                  <a:lnTo>
                    <a:pt x="317" y="2177"/>
                  </a:lnTo>
                  <a:lnTo>
                    <a:pt x="317" y="2181"/>
                  </a:lnTo>
                  <a:lnTo>
                    <a:pt x="314" y="2186"/>
                  </a:lnTo>
                  <a:lnTo>
                    <a:pt x="306" y="2190"/>
                  </a:lnTo>
                  <a:lnTo>
                    <a:pt x="304" y="2195"/>
                  </a:lnTo>
                  <a:lnTo>
                    <a:pt x="295" y="2199"/>
                  </a:lnTo>
                  <a:lnTo>
                    <a:pt x="289" y="2204"/>
                  </a:lnTo>
                  <a:lnTo>
                    <a:pt x="283" y="2208"/>
                  </a:lnTo>
                  <a:lnTo>
                    <a:pt x="283" y="2213"/>
                  </a:lnTo>
                  <a:lnTo>
                    <a:pt x="291" y="2217"/>
                  </a:lnTo>
                  <a:lnTo>
                    <a:pt x="302" y="2222"/>
                  </a:lnTo>
                  <a:lnTo>
                    <a:pt x="308" y="2226"/>
                  </a:lnTo>
                  <a:lnTo>
                    <a:pt x="314" y="2231"/>
                  </a:lnTo>
                  <a:lnTo>
                    <a:pt x="329" y="2235"/>
                  </a:lnTo>
                  <a:lnTo>
                    <a:pt x="336" y="2240"/>
                  </a:lnTo>
                  <a:lnTo>
                    <a:pt x="342" y="2244"/>
                  </a:lnTo>
                  <a:lnTo>
                    <a:pt x="346" y="2249"/>
                  </a:lnTo>
                  <a:lnTo>
                    <a:pt x="346" y="2253"/>
                  </a:lnTo>
                  <a:lnTo>
                    <a:pt x="348" y="2258"/>
                  </a:lnTo>
                  <a:lnTo>
                    <a:pt x="350" y="2262"/>
                  </a:lnTo>
                  <a:lnTo>
                    <a:pt x="355" y="2267"/>
                  </a:lnTo>
                  <a:lnTo>
                    <a:pt x="357" y="2271"/>
                  </a:lnTo>
                  <a:lnTo>
                    <a:pt x="357" y="2276"/>
                  </a:lnTo>
                  <a:lnTo>
                    <a:pt x="355" y="2280"/>
                  </a:lnTo>
                  <a:lnTo>
                    <a:pt x="350" y="2285"/>
                  </a:lnTo>
                  <a:lnTo>
                    <a:pt x="344" y="2289"/>
                  </a:lnTo>
                  <a:lnTo>
                    <a:pt x="338" y="2294"/>
                  </a:lnTo>
                  <a:lnTo>
                    <a:pt x="331" y="2298"/>
                  </a:lnTo>
                  <a:lnTo>
                    <a:pt x="329" y="2303"/>
                  </a:lnTo>
                  <a:lnTo>
                    <a:pt x="319" y="2307"/>
                  </a:lnTo>
                  <a:lnTo>
                    <a:pt x="312" y="2312"/>
                  </a:lnTo>
                  <a:lnTo>
                    <a:pt x="312" y="2316"/>
                  </a:lnTo>
                  <a:lnTo>
                    <a:pt x="312" y="2321"/>
                  </a:lnTo>
                  <a:lnTo>
                    <a:pt x="312" y="2325"/>
                  </a:lnTo>
                  <a:lnTo>
                    <a:pt x="312" y="2330"/>
                  </a:lnTo>
                  <a:lnTo>
                    <a:pt x="312" y="2334"/>
                  </a:lnTo>
                  <a:lnTo>
                    <a:pt x="308" y="2339"/>
                  </a:lnTo>
                  <a:lnTo>
                    <a:pt x="297" y="2343"/>
                  </a:lnTo>
                  <a:lnTo>
                    <a:pt x="291" y="2348"/>
                  </a:lnTo>
                  <a:lnTo>
                    <a:pt x="287" y="2352"/>
                  </a:lnTo>
                  <a:lnTo>
                    <a:pt x="285" y="2357"/>
                  </a:lnTo>
                  <a:lnTo>
                    <a:pt x="280" y="2361"/>
                  </a:lnTo>
                  <a:lnTo>
                    <a:pt x="276" y="2366"/>
                  </a:lnTo>
                  <a:lnTo>
                    <a:pt x="274" y="2370"/>
                  </a:lnTo>
                  <a:lnTo>
                    <a:pt x="274" y="2375"/>
                  </a:lnTo>
                  <a:lnTo>
                    <a:pt x="274" y="2379"/>
                  </a:lnTo>
                  <a:lnTo>
                    <a:pt x="276" y="2384"/>
                  </a:lnTo>
                  <a:lnTo>
                    <a:pt x="278" y="2388"/>
                  </a:lnTo>
                  <a:lnTo>
                    <a:pt x="280" y="2393"/>
                  </a:lnTo>
                  <a:lnTo>
                    <a:pt x="285" y="2397"/>
                  </a:lnTo>
                  <a:lnTo>
                    <a:pt x="289" y="2402"/>
                  </a:lnTo>
                  <a:lnTo>
                    <a:pt x="291" y="2406"/>
                  </a:lnTo>
                  <a:lnTo>
                    <a:pt x="291" y="2411"/>
                  </a:lnTo>
                  <a:lnTo>
                    <a:pt x="291" y="2415"/>
                  </a:lnTo>
                  <a:lnTo>
                    <a:pt x="289" y="2420"/>
                  </a:lnTo>
                  <a:lnTo>
                    <a:pt x="287" y="2424"/>
                  </a:lnTo>
                  <a:lnTo>
                    <a:pt x="287" y="2429"/>
                  </a:lnTo>
                  <a:lnTo>
                    <a:pt x="285" y="2433"/>
                  </a:lnTo>
                  <a:lnTo>
                    <a:pt x="289" y="2438"/>
                  </a:lnTo>
                  <a:lnTo>
                    <a:pt x="291" y="2442"/>
                  </a:lnTo>
                  <a:lnTo>
                    <a:pt x="293" y="2447"/>
                  </a:lnTo>
                  <a:lnTo>
                    <a:pt x="304" y="2451"/>
                  </a:lnTo>
                  <a:lnTo>
                    <a:pt x="304" y="2456"/>
                  </a:lnTo>
                  <a:lnTo>
                    <a:pt x="302" y="2460"/>
                  </a:lnTo>
                  <a:lnTo>
                    <a:pt x="302" y="2465"/>
                  </a:lnTo>
                  <a:lnTo>
                    <a:pt x="270" y="2469"/>
                  </a:lnTo>
                  <a:lnTo>
                    <a:pt x="225" y="2474"/>
                  </a:lnTo>
                  <a:lnTo>
                    <a:pt x="189" y="2478"/>
                  </a:lnTo>
                  <a:lnTo>
                    <a:pt x="76" y="2483"/>
                  </a:lnTo>
                  <a:lnTo>
                    <a:pt x="36" y="2487"/>
                  </a:lnTo>
                  <a:lnTo>
                    <a:pt x="13" y="2492"/>
                  </a:lnTo>
                  <a:lnTo>
                    <a:pt x="2" y="2496"/>
                  </a:lnTo>
                  <a:lnTo>
                    <a:pt x="0" y="2501"/>
                  </a:lnTo>
                  <a:lnTo>
                    <a:pt x="0" y="2505"/>
                  </a:lnTo>
                  <a:lnTo>
                    <a:pt x="0" y="2510"/>
                  </a:lnTo>
                  <a:lnTo>
                    <a:pt x="4" y="2514"/>
                  </a:lnTo>
                  <a:lnTo>
                    <a:pt x="15" y="2519"/>
                  </a:lnTo>
                  <a:lnTo>
                    <a:pt x="17" y="2523"/>
                  </a:lnTo>
                  <a:lnTo>
                    <a:pt x="17" y="2528"/>
                  </a:lnTo>
                  <a:lnTo>
                    <a:pt x="17" y="2532"/>
                  </a:lnTo>
                  <a:lnTo>
                    <a:pt x="15" y="2537"/>
                  </a:lnTo>
                  <a:lnTo>
                    <a:pt x="13" y="2541"/>
                  </a:lnTo>
                  <a:lnTo>
                    <a:pt x="17" y="2546"/>
                  </a:lnTo>
                  <a:lnTo>
                    <a:pt x="19" y="2550"/>
                  </a:lnTo>
                  <a:lnTo>
                    <a:pt x="17" y="2555"/>
                  </a:lnTo>
                  <a:lnTo>
                    <a:pt x="15" y="2559"/>
                  </a:lnTo>
                  <a:lnTo>
                    <a:pt x="15" y="2564"/>
                  </a:lnTo>
                  <a:lnTo>
                    <a:pt x="11" y="2568"/>
                  </a:lnTo>
                  <a:lnTo>
                    <a:pt x="6" y="2573"/>
                  </a:lnTo>
                  <a:lnTo>
                    <a:pt x="6" y="2577"/>
                  </a:lnTo>
                  <a:lnTo>
                    <a:pt x="6" y="2582"/>
                  </a:lnTo>
                </a:path>
              </a:pathLst>
            </a:custGeom>
            <a:noFill/>
            <a:ln w="2844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Freeform 290"/>
            <p:cNvSpPr/>
            <p:nvPr/>
          </p:nvSpPr>
          <p:spPr>
            <a:xfrm>
              <a:off x="2701800" y="2157480"/>
              <a:ext cx="754200" cy="4379760"/>
            </a:xfrm>
            <a:custGeom>
              <a:avLst/>
              <a:gdLst>
                <a:gd name="textAreaLeft" fmla="*/ 0 w 754200"/>
                <a:gd name="textAreaRight" fmla="*/ 754560 w 754200"/>
                <a:gd name="textAreaTop" fmla="*/ 0 h 4379760"/>
                <a:gd name="textAreaBottom" fmla="*/ 4380120 h 4379760"/>
              </a:gdLst>
              <a:ahLst/>
              <a:rect l="textAreaLeft" t="textAreaTop" r="textAreaRight" b="textAreaBottom"/>
              <a:pathLst>
                <a:path w="446" h="2582">
                  <a:moveTo>
                    <a:pt x="395" y="0"/>
                  </a:moveTo>
                  <a:lnTo>
                    <a:pt x="397" y="4"/>
                  </a:lnTo>
                  <a:lnTo>
                    <a:pt x="402" y="9"/>
                  </a:lnTo>
                  <a:lnTo>
                    <a:pt x="404" y="13"/>
                  </a:lnTo>
                  <a:lnTo>
                    <a:pt x="389" y="18"/>
                  </a:lnTo>
                  <a:lnTo>
                    <a:pt x="376" y="22"/>
                  </a:lnTo>
                  <a:lnTo>
                    <a:pt x="366" y="27"/>
                  </a:lnTo>
                  <a:lnTo>
                    <a:pt x="355" y="31"/>
                  </a:lnTo>
                  <a:lnTo>
                    <a:pt x="351" y="36"/>
                  </a:lnTo>
                  <a:lnTo>
                    <a:pt x="349" y="40"/>
                  </a:lnTo>
                  <a:lnTo>
                    <a:pt x="361" y="45"/>
                  </a:lnTo>
                  <a:lnTo>
                    <a:pt x="372" y="49"/>
                  </a:lnTo>
                  <a:lnTo>
                    <a:pt x="380" y="54"/>
                  </a:lnTo>
                  <a:lnTo>
                    <a:pt x="383" y="58"/>
                  </a:lnTo>
                  <a:lnTo>
                    <a:pt x="391" y="63"/>
                  </a:lnTo>
                  <a:lnTo>
                    <a:pt x="395" y="67"/>
                  </a:lnTo>
                  <a:lnTo>
                    <a:pt x="402" y="72"/>
                  </a:lnTo>
                  <a:lnTo>
                    <a:pt x="408" y="76"/>
                  </a:lnTo>
                  <a:lnTo>
                    <a:pt x="393" y="81"/>
                  </a:lnTo>
                  <a:lnTo>
                    <a:pt x="400" y="85"/>
                  </a:lnTo>
                  <a:lnTo>
                    <a:pt x="423" y="90"/>
                  </a:lnTo>
                  <a:lnTo>
                    <a:pt x="425" y="94"/>
                  </a:lnTo>
                  <a:lnTo>
                    <a:pt x="425" y="99"/>
                  </a:lnTo>
                  <a:lnTo>
                    <a:pt x="434" y="103"/>
                  </a:lnTo>
                  <a:lnTo>
                    <a:pt x="436" y="108"/>
                  </a:lnTo>
                  <a:lnTo>
                    <a:pt x="446" y="112"/>
                  </a:lnTo>
                  <a:lnTo>
                    <a:pt x="436" y="117"/>
                  </a:lnTo>
                  <a:lnTo>
                    <a:pt x="427" y="121"/>
                  </a:lnTo>
                  <a:lnTo>
                    <a:pt x="402" y="126"/>
                  </a:lnTo>
                  <a:lnTo>
                    <a:pt x="391" y="130"/>
                  </a:lnTo>
                  <a:lnTo>
                    <a:pt x="395" y="135"/>
                  </a:lnTo>
                  <a:lnTo>
                    <a:pt x="400" y="139"/>
                  </a:lnTo>
                  <a:lnTo>
                    <a:pt x="419" y="144"/>
                  </a:lnTo>
                  <a:lnTo>
                    <a:pt x="423" y="148"/>
                  </a:lnTo>
                  <a:lnTo>
                    <a:pt x="436" y="153"/>
                  </a:lnTo>
                  <a:lnTo>
                    <a:pt x="434" y="157"/>
                  </a:lnTo>
                  <a:lnTo>
                    <a:pt x="431" y="162"/>
                  </a:lnTo>
                  <a:lnTo>
                    <a:pt x="414" y="166"/>
                  </a:lnTo>
                  <a:lnTo>
                    <a:pt x="404" y="171"/>
                  </a:lnTo>
                  <a:lnTo>
                    <a:pt x="414" y="175"/>
                  </a:lnTo>
                  <a:lnTo>
                    <a:pt x="427" y="180"/>
                  </a:lnTo>
                  <a:lnTo>
                    <a:pt x="442" y="184"/>
                  </a:lnTo>
                  <a:lnTo>
                    <a:pt x="444" y="189"/>
                  </a:lnTo>
                  <a:lnTo>
                    <a:pt x="404" y="193"/>
                  </a:lnTo>
                  <a:lnTo>
                    <a:pt x="270" y="198"/>
                  </a:lnTo>
                  <a:lnTo>
                    <a:pt x="149" y="202"/>
                  </a:lnTo>
                  <a:lnTo>
                    <a:pt x="64" y="207"/>
                  </a:lnTo>
                  <a:lnTo>
                    <a:pt x="47" y="211"/>
                  </a:lnTo>
                  <a:lnTo>
                    <a:pt x="19" y="216"/>
                  </a:lnTo>
                  <a:lnTo>
                    <a:pt x="15" y="220"/>
                  </a:lnTo>
                  <a:lnTo>
                    <a:pt x="0" y="225"/>
                  </a:lnTo>
                  <a:lnTo>
                    <a:pt x="7" y="229"/>
                  </a:lnTo>
                  <a:lnTo>
                    <a:pt x="21" y="234"/>
                  </a:lnTo>
                  <a:lnTo>
                    <a:pt x="26" y="238"/>
                  </a:lnTo>
                  <a:lnTo>
                    <a:pt x="36" y="243"/>
                  </a:lnTo>
                  <a:lnTo>
                    <a:pt x="47" y="247"/>
                  </a:lnTo>
                  <a:lnTo>
                    <a:pt x="66" y="252"/>
                  </a:lnTo>
                  <a:lnTo>
                    <a:pt x="94" y="256"/>
                  </a:lnTo>
                  <a:lnTo>
                    <a:pt x="77" y="261"/>
                  </a:lnTo>
                  <a:lnTo>
                    <a:pt x="77" y="265"/>
                  </a:lnTo>
                  <a:lnTo>
                    <a:pt x="77" y="270"/>
                  </a:lnTo>
                  <a:lnTo>
                    <a:pt x="68" y="274"/>
                  </a:lnTo>
                  <a:lnTo>
                    <a:pt x="64" y="279"/>
                  </a:lnTo>
                  <a:lnTo>
                    <a:pt x="51" y="283"/>
                  </a:lnTo>
                  <a:lnTo>
                    <a:pt x="51" y="288"/>
                  </a:lnTo>
                  <a:lnTo>
                    <a:pt x="58" y="292"/>
                  </a:lnTo>
                  <a:lnTo>
                    <a:pt x="58" y="297"/>
                  </a:lnTo>
                  <a:lnTo>
                    <a:pt x="47" y="301"/>
                  </a:lnTo>
                  <a:lnTo>
                    <a:pt x="49" y="306"/>
                  </a:lnTo>
                  <a:lnTo>
                    <a:pt x="47" y="310"/>
                  </a:lnTo>
                  <a:lnTo>
                    <a:pt x="49" y="315"/>
                  </a:lnTo>
                  <a:lnTo>
                    <a:pt x="60" y="319"/>
                  </a:lnTo>
                  <a:lnTo>
                    <a:pt x="70" y="324"/>
                  </a:lnTo>
                  <a:lnTo>
                    <a:pt x="70" y="328"/>
                  </a:lnTo>
                  <a:lnTo>
                    <a:pt x="68" y="333"/>
                  </a:lnTo>
                  <a:lnTo>
                    <a:pt x="62" y="337"/>
                  </a:lnTo>
                  <a:lnTo>
                    <a:pt x="62" y="342"/>
                  </a:lnTo>
                  <a:lnTo>
                    <a:pt x="60" y="346"/>
                  </a:lnTo>
                  <a:lnTo>
                    <a:pt x="51" y="351"/>
                  </a:lnTo>
                  <a:lnTo>
                    <a:pt x="53" y="355"/>
                  </a:lnTo>
                  <a:lnTo>
                    <a:pt x="55" y="360"/>
                  </a:lnTo>
                  <a:lnTo>
                    <a:pt x="60" y="364"/>
                  </a:lnTo>
                  <a:lnTo>
                    <a:pt x="51" y="369"/>
                  </a:lnTo>
                  <a:lnTo>
                    <a:pt x="53" y="373"/>
                  </a:lnTo>
                  <a:lnTo>
                    <a:pt x="53" y="378"/>
                  </a:lnTo>
                  <a:lnTo>
                    <a:pt x="53" y="382"/>
                  </a:lnTo>
                  <a:lnTo>
                    <a:pt x="53" y="387"/>
                  </a:lnTo>
                  <a:lnTo>
                    <a:pt x="55" y="391"/>
                  </a:lnTo>
                  <a:lnTo>
                    <a:pt x="60" y="396"/>
                  </a:lnTo>
                  <a:lnTo>
                    <a:pt x="62" y="400"/>
                  </a:lnTo>
                  <a:lnTo>
                    <a:pt x="58" y="405"/>
                  </a:lnTo>
                  <a:lnTo>
                    <a:pt x="58" y="409"/>
                  </a:lnTo>
                  <a:lnTo>
                    <a:pt x="55" y="414"/>
                  </a:lnTo>
                  <a:lnTo>
                    <a:pt x="62" y="418"/>
                  </a:lnTo>
                  <a:lnTo>
                    <a:pt x="55" y="423"/>
                  </a:lnTo>
                  <a:lnTo>
                    <a:pt x="64" y="427"/>
                  </a:lnTo>
                  <a:lnTo>
                    <a:pt x="60" y="432"/>
                  </a:lnTo>
                  <a:lnTo>
                    <a:pt x="47" y="436"/>
                  </a:lnTo>
                  <a:lnTo>
                    <a:pt x="38" y="441"/>
                  </a:lnTo>
                  <a:lnTo>
                    <a:pt x="34" y="445"/>
                  </a:lnTo>
                  <a:lnTo>
                    <a:pt x="24" y="450"/>
                  </a:lnTo>
                  <a:lnTo>
                    <a:pt x="21" y="454"/>
                  </a:lnTo>
                  <a:lnTo>
                    <a:pt x="34" y="459"/>
                  </a:lnTo>
                  <a:lnTo>
                    <a:pt x="38" y="463"/>
                  </a:lnTo>
                  <a:lnTo>
                    <a:pt x="38" y="468"/>
                  </a:lnTo>
                  <a:lnTo>
                    <a:pt x="43" y="472"/>
                  </a:lnTo>
                  <a:lnTo>
                    <a:pt x="53" y="477"/>
                  </a:lnTo>
                  <a:lnTo>
                    <a:pt x="43" y="481"/>
                  </a:lnTo>
                  <a:lnTo>
                    <a:pt x="43" y="486"/>
                  </a:lnTo>
                  <a:lnTo>
                    <a:pt x="43" y="490"/>
                  </a:lnTo>
                  <a:lnTo>
                    <a:pt x="36" y="495"/>
                  </a:lnTo>
                  <a:lnTo>
                    <a:pt x="45" y="499"/>
                  </a:lnTo>
                  <a:lnTo>
                    <a:pt x="47" y="504"/>
                  </a:lnTo>
                  <a:lnTo>
                    <a:pt x="47" y="508"/>
                  </a:lnTo>
                  <a:lnTo>
                    <a:pt x="28" y="512"/>
                  </a:lnTo>
                  <a:lnTo>
                    <a:pt x="30" y="517"/>
                  </a:lnTo>
                  <a:lnTo>
                    <a:pt x="43" y="521"/>
                  </a:lnTo>
                  <a:lnTo>
                    <a:pt x="43" y="526"/>
                  </a:lnTo>
                  <a:lnTo>
                    <a:pt x="28" y="530"/>
                  </a:lnTo>
                  <a:lnTo>
                    <a:pt x="28" y="535"/>
                  </a:lnTo>
                  <a:lnTo>
                    <a:pt x="32" y="539"/>
                  </a:lnTo>
                  <a:lnTo>
                    <a:pt x="36" y="544"/>
                  </a:lnTo>
                  <a:lnTo>
                    <a:pt x="41" y="548"/>
                  </a:lnTo>
                  <a:lnTo>
                    <a:pt x="51" y="553"/>
                  </a:lnTo>
                  <a:lnTo>
                    <a:pt x="62" y="557"/>
                  </a:lnTo>
                  <a:lnTo>
                    <a:pt x="60" y="562"/>
                  </a:lnTo>
                  <a:lnTo>
                    <a:pt x="66" y="566"/>
                  </a:lnTo>
                  <a:lnTo>
                    <a:pt x="72" y="571"/>
                  </a:lnTo>
                  <a:lnTo>
                    <a:pt x="70" y="575"/>
                  </a:lnTo>
                  <a:lnTo>
                    <a:pt x="62" y="580"/>
                  </a:lnTo>
                  <a:lnTo>
                    <a:pt x="62" y="584"/>
                  </a:lnTo>
                  <a:lnTo>
                    <a:pt x="51" y="589"/>
                  </a:lnTo>
                  <a:lnTo>
                    <a:pt x="45" y="593"/>
                  </a:lnTo>
                  <a:lnTo>
                    <a:pt x="45" y="598"/>
                  </a:lnTo>
                  <a:lnTo>
                    <a:pt x="53" y="602"/>
                  </a:lnTo>
                  <a:lnTo>
                    <a:pt x="49" y="607"/>
                  </a:lnTo>
                  <a:lnTo>
                    <a:pt x="45" y="611"/>
                  </a:lnTo>
                  <a:lnTo>
                    <a:pt x="49" y="616"/>
                  </a:lnTo>
                  <a:lnTo>
                    <a:pt x="51" y="620"/>
                  </a:lnTo>
                  <a:lnTo>
                    <a:pt x="51" y="625"/>
                  </a:lnTo>
                  <a:lnTo>
                    <a:pt x="51" y="629"/>
                  </a:lnTo>
                  <a:lnTo>
                    <a:pt x="53" y="634"/>
                  </a:lnTo>
                  <a:lnTo>
                    <a:pt x="70" y="638"/>
                  </a:lnTo>
                  <a:lnTo>
                    <a:pt x="72" y="643"/>
                  </a:lnTo>
                  <a:lnTo>
                    <a:pt x="68" y="647"/>
                  </a:lnTo>
                  <a:lnTo>
                    <a:pt x="64" y="652"/>
                  </a:lnTo>
                  <a:lnTo>
                    <a:pt x="66" y="656"/>
                  </a:lnTo>
                  <a:lnTo>
                    <a:pt x="70" y="661"/>
                  </a:lnTo>
                  <a:lnTo>
                    <a:pt x="79" y="665"/>
                  </a:lnTo>
                  <a:lnTo>
                    <a:pt x="94" y="670"/>
                  </a:lnTo>
                  <a:lnTo>
                    <a:pt x="94" y="674"/>
                  </a:lnTo>
                  <a:lnTo>
                    <a:pt x="72" y="679"/>
                  </a:lnTo>
                  <a:lnTo>
                    <a:pt x="60" y="683"/>
                  </a:lnTo>
                  <a:lnTo>
                    <a:pt x="64" y="688"/>
                  </a:lnTo>
                  <a:lnTo>
                    <a:pt x="66" y="692"/>
                  </a:lnTo>
                  <a:lnTo>
                    <a:pt x="77" y="697"/>
                  </a:lnTo>
                  <a:lnTo>
                    <a:pt x="77" y="701"/>
                  </a:lnTo>
                  <a:lnTo>
                    <a:pt x="75" y="706"/>
                  </a:lnTo>
                  <a:lnTo>
                    <a:pt x="75" y="710"/>
                  </a:lnTo>
                  <a:lnTo>
                    <a:pt x="85" y="715"/>
                  </a:lnTo>
                  <a:lnTo>
                    <a:pt x="85" y="719"/>
                  </a:lnTo>
                  <a:lnTo>
                    <a:pt x="75" y="724"/>
                  </a:lnTo>
                  <a:lnTo>
                    <a:pt x="72" y="728"/>
                  </a:lnTo>
                  <a:lnTo>
                    <a:pt x="81" y="733"/>
                  </a:lnTo>
                  <a:lnTo>
                    <a:pt x="89" y="737"/>
                  </a:lnTo>
                  <a:lnTo>
                    <a:pt x="83" y="742"/>
                  </a:lnTo>
                  <a:lnTo>
                    <a:pt x="79" y="746"/>
                  </a:lnTo>
                  <a:lnTo>
                    <a:pt x="79" y="751"/>
                  </a:lnTo>
                  <a:lnTo>
                    <a:pt x="81" y="755"/>
                  </a:lnTo>
                  <a:lnTo>
                    <a:pt x="83" y="760"/>
                  </a:lnTo>
                  <a:lnTo>
                    <a:pt x="83" y="764"/>
                  </a:lnTo>
                  <a:lnTo>
                    <a:pt x="85" y="769"/>
                  </a:lnTo>
                  <a:lnTo>
                    <a:pt x="85" y="773"/>
                  </a:lnTo>
                  <a:lnTo>
                    <a:pt x="79" y="778"/>
                  </a:lnTo>
                  <a:lnTo>
                    <a:pt x="75" y="782"/>
                  </a:lnTo>
                  <a:lnTo>
                    <a:pt x="79" y="787"/>
                  </a:lnTo>
                  <a:lnTo>
                    <a:pt x="96" y="791"/>
                  </a:lnTo>
                  <a:lnTo>
                    <a:pt x="111" y="796"/>
                  </a:lnTo>
                  <a:lnTo>
                    <a:pt x="111" y="800"/>
                  </a:lnTo>
                  <a:lnTo>
                    <a:pt x="113" y="805"/>
                  </a:lnTo>
                  <a:lnTo>
                    <a:pt x="106" y="809"/>
                  </a:lnTo>
                  <a:lnTo>
                    <a:pt x="115" y="814"/>
                  </a:lnTo>
                  <a:lnTo>
                    <a:pt x="126" y="818"/>
                  </a:lnTo>
                  <a:lnTo>
                    <a:pt x="145" y="823"/>
                  </a:lnTo>
                  <a:lnTo>
                    <a:pt x="174" y="827"/>
                  </a:lnTo>
                  <a:lnTo>
                    <a:pt x="174" y="832"/>
                  </a:lnTo>
                  <a:lnTo>
                    <a:pt x="164" y="836"/>
                  </a:lnTo>
                  <a:lnTo>
                    <a:pt x="174" y="841"/>
                  </a:lnTo>
                  <a:lnTo>
                    <a:pt x="245" y="845"/>
                  </a:lnTo>
                  <a:lnTo>
                    <a:pt x="253" y="850"/>
                  </a:lnTo>
                  <a:lnTo>
                    <a:pt x="293" y="854"/>
                  </a:lnTo>
                  <a:lnTo>
                    <a:pt x="323" y="859"/>
                  </a:lnTo>
                  <a:lnTo>
                    <a:pt x="325" y="863"/>
                  </a:lnTo>
                  <a:lnTo>
                    <a:pt x="281" y="868"/>
                  </a:lnTo>
                  <a:lnTo>
                    <a:pt x="240" y="872"/>
                  </a:lnTo>
                  <a:lnTo>
                    <a:pt x="221" y="877"/>
                  </a:lnTo>
                  <a:lnTo>
                    <a:pt x="191" y="881"/>
                  </a:lnTo>
                  <a:lnTo>
                    <a:pt x="151" y="886"/>
                  </a:lnTo>
                  <a:lnTo>
                    <a:pt x="111" y="890"/>
                  </a:lnTo>
                  <a:lnTo>
                    <a:pt x="102" y="895"/>
                  </a:lnTo>
                  <a:lnTo>
                    <a:pt x="85" y="899"/>
                  </a:lnTo>
                  <a:lnTo>
                    <a:pt x="75" y="904"/>
                  </a:lnTo>
                  <a:lnTo>
                    <a:pt x="72" y="908"/>
                  </a:lnTo>
                  <a:lnTo>
                    <a:pt x="75" y="913"/>
                  </a:lnTo>
                  <a:lnTo>
                    <a:pt x="87" y="917"/>
                  </a:lnTo>
                  <a:lnTo>
                    <a:pt x="83" y="922"/>
                  </a:lnTo>
                  <a:lnTo>
                    <a:pt x="77" y="926"/>
                  </a:lnTo>
                  <a:lnTo>
                    <a:pt x="72" y="931"/>
                  </a:lnTo>
                  <a:lnTo>
                    <a:pt x="58" y="935"/>
                  </a:lnTo>
                  <a:lnTo>
                    <a:pt x="55" y="940"/>
                  </a:lnTo>
                  <a:lnTo>
                    <a:pt x="64" y="944"/>
                  </a:lnTo>
                  <a:lnTo>
                    <a:pt x="72" y="949"/>
                  </a:lnTo>
                  <a:lnTo>
                    <a:pt x="70" y="953"/>
                  </a:lnTo>
                  <a:lnTo>
                    <a:pt x="70" y="958"/>
                  </a:lnTo>
                  <a:lnTo>
                    <a:pt x="53" y="962"/>
                  </a:lnTo>
                  <a:lnTo>
                    <a:pt x="51" y="967"/>
                  </a:lnTo>
                  <a:lnTo>
                    <a:pt x="62" y="971"/>
                  </a:lnTo>
                  <a:lnTo>
                    <a:pt x="72" y="976"/>
                  </a:lnTo>
                  <a:lnTo>
                    <a:pt x="87" y="980"/>
                  </a:lnTo>
                  <a:lnTo>
                    <a:pt x="121" y="985"/>
                  </a:lnTo>
                  <a:lnTo>
                    <a:pt x="136" y="989"/>
                  </a:lnTo>
                  <a:lnTo>
                    <a:pt x="147" y="994"/>
                  </a:lnTo>
                  <a:lnTo>
                    <a:pt x="123" y="998"/>
                  </a:lnTo>
                  <a:lnTo>
                    <a:pt x="115" y="1003"/>
                  </a:lnTo>
                  <a:lnTo>
                    <a:pt x="77" y="1007"/>
                  </a:lnTo>
                  <a:lnTo>
                    <a:pt x="62" y="1012"/>
                  </a:lnTo>
                  <a:lnTo>
                    <a:pt x="68" y="1016"/>
                  </a:lnTo>
                  <a:lnTo>
                    <a:pt x="58" y="1021"/>
                  </a:lnTo>
                  <a:lnTo>
                    <a:pt x="55" y="1025"/>
                  </a:lnTo>
                  <a:lnTo>
                    <a:pt x="64" y="1030"/>
                  </a:lnTo>
                  <a:lnTo>
                    <a:pt x="64" y="1034"/>
                  </a:lnTo>
                  <a:lnTo>
                    <a:pt x="62" y="1039"/>
                  </a:lnTo>
                  <a:lnTo>
                    <a:pt x="62" y="1043"/>
                  </a:lnTo>
                  <a:lnTo>
                    <a:pt x="43" y="1048"/>
                  </a:lnTo>
                  <a:lnTo>
                    <a:pt x="34" y="1052"/>
                  </a:lnTo>
                  <a:lnTo>
                    <a:pt x="49" y="1057"/>
                  </a:lnTo>
                  <a:lnTo>
                    <a:pt x="66" y="1061"/>
                  </a:lnTo>
                  <a:lnTo>
                    <a:pt x="64" y="1066"/>
                  </a:lnTo>
                  <a:lnTo>
                    <a:pt x="66" y="1070"/>
                  </a:lnTo>
                  <a:lnTo>
                    <a:pt x="77" y="1075"/>
                  </a:lnTo>
                  <a:lnTo>
                    <a:pt x="75" y="1079"/>
                  </a:lnTo>
                  <a:lnTo>
                    <a:pt x="79" y="1084"/>
                  </a:lnTo>
                  <a:lnTo>
                    <a:pt x="87" y="1088"/>
                  </a:lnTo>
                  <a:lnTo>
                    <a:pt x="96" y="1093"/>
                  </a:lnTo>
                  <a:lnTo>
                    <a:pt x="92" y="1097"/>
                  </a:lnTo>
                  <a:lnTo>
                    <a:pt x="81" y="1102"/>
                  </a:lnTo>
                  <a:lnTo>
                    <a:pt x="85" y="1106"/>
                  </a:lnTo>
                  <a:lnTo>
                    <a:pt x="96" y="1111"/>
                  </a:lnTo>
                  <a:lnTo>
                    <a:pt x="89" y="1115"/>
                  </a:lnTo>
                  <a:lnTo>
                    <a:pt x="89" y="1120"/>
                  </a:lnTo>
                  <a:lnTo>
                    <a:pt x="96" y="1124"/>
                  </a:lnTo>
                  <a:lnTo>
                    <a:pt x="100" y="1129"/>
                  </a:lnTo>
                  <a:lnTo>
                    <a:pt x="94" y="1133"/>
                  </a:lnTo>
                  <a:lnTo>
                    <a:pt x="79" y="1138"/>
                  </a:lnTo>
                  <a:lnTo>
                    <a:pt x="72" y="1142"/>
                  </a:lnTo>
                  <a:lnTo>
                    <a:pt x="70" y="1147"/>
                  </a:lnTo>
                  <a:lnTo>
                    <a:pt x="66" y="1151"/>
                  </a:lnTo>
                  <a:lnTo>
                    <a:pt x="58" y="1156"/>
                  </a:lnTo>
                  <a:lnTo>
                    <a:pt x="45" y="1160"/>
                  </a:lnTo>
                  <a:lnTo>
                    <a:pt x="36" y="1165"/>
                  </a:lnTo>
                  <a:lnTo>
                    <a:pt x="34" y="1169"/>
                  </a:lnTo>
                  <a:lnTo>
                    <a:pt x="30" y="1174"/>
                  </a:lnTo>
                  <a:lnTo>
                    <a:pt x="28" y="1178"/>
                  </a:lnTo>
                  <a:lnTo>
                    <a:pt x="47" y="1183"/>
                  </a:lnTo>
                  <a:lnTo>
                    <a:pt x="53" y="1187"/>
                  </a:lnTo>
                  <a:lnTo>
                    <a:pt x="62" y="1192"/>
                  </a:lnTo>
                  <a:lnTo>
                    <a:pt x="72" y="1196"/>
                  </a:lnTo>
                  <a:lnTo>
                    <a:pt x="62" y="1201"/>
                  </a:lnTo>
                  <a:lnTo>
                    <a:pt x="51" y="1205"/>
                  </a:lnTo>
                  <a:lnTo>
                    <a:pt x="41" y="1210"/>
                  </a:lnTo>
                  <a:lnTo>
                    <a:pt x="45" y="1214"/>
                  </a:lnTo>
                  <a:lnTo>
                    <a:pt x="49" y="1219"/>
                  </a:lnTo>
                  <a:lnTo>
                    <a:pt x="38" y="1223"/>
                  </a:lnTo>
                  <a:lnTo>
                    <a:pt x="30" y="1228"/>
                  </a:lnTo>
                  <a:lnTo>
                    <a:pt x="36" y="1232"/>
                  </a:lnTo>
                  <a:lnTo>
                    <a:pt x="38" y="1237"/>
                  </a:lnTo>
                  <a:lnTo>
                    <a:pt x="34" y="1241"/>
                  </a:lnTo>
                  <a:lnTo>
                    <a:pt x="36" y="1246"/>
                  </a:lnTo>
                  <a:lnTo>
                    <a:pt x="43" y="1250"/>
                  </a:lnTo>
                  <a:lnTo>
                    <a:pt x="43" y="1255"/>
                  </a:lnTo>
                  <a:lnTo>
                    <a:pt x="36" y="1259"/>
                  </a:lnTo>
                  <a:lnTo>
                    <a:pt x="28" y="1264"/>
                  </a:lnTo>
                  <a:lnTo>
                    <a:pt x="19" y="1268"/>
                  </a:lnTo>
                  <a:lnTo>
                    <a:pt x="21" y="1273"/>
                  </a:lnTo>
                  <a:lnTo>
                    <a:pt x="45" y="1277"/>
                  </a:lnTo>
                  <a:lnTo>
                    <a:pt x="49" y="1282"/>
                  </a:lnTo>
                  <a:lnTo>
                    <a:pt x="62" y="1286"/>
                  </a:lnTo>
                  <a:lnTo>
                    <a:pt x="75" y="1291"/>
                  </a:lnTo>
                  <a:lnTo>
                    <a:pt x="72" y="1295"/>
                  </a:lnTo>
                  <a:lnTo>
                    <a:pt x="62" y="1300"/>
                  </a:lnTo>
                  <a:lnTo>
                    <a:pt x="64" y="1304"/>
                  </a:lnTo>
                  <a:lnTo>
                    <a:pt x="77" y="1309"/>
                  </a:lnTo>
                  <a:lnTo>
                    <a:pt x="79" y="1313"/>
                  </a:lnTo>
                  <a:lnTo>
                    <a:pt x="77" y="1318"/>
                  </a:lnTo>
                  <a:lnTo>
                    <a:pt x="72" y="1322"/>
                  </a:lnTo>
                  <a:lnTo>
                    <a:pt x="68" y="1327"/>
                  </a:lnTo>
                  <a:lnTo>
                    <a:pt x="66" y="1331"/>
                  </a:lnTo>
                  <a:lnTo>
                    <a:pt x="64" y="1336"/>
                  </a:lnTo>
                  <a:lnTo>
                    <a:pt x="58" y="1340"/>
                  </a:lnTo>
                  <a:lnTo>
                    <a:pt x="58" y="1345"/>
                  </a:lnTo>
                  <a:lnTo>
                    <a:pt x="51" y="1349"/>
                  </a:lnTo>
                  <a:lnTo>
                    <a:pt x="49" y="1354"/>
                  </a:lnTo>
                  <a:lnTo>
                    <a:pt x="55" y="1358"/>
                  </a:lnTo>
                  <a:lnTo>
                    <a:pt x="68" y="1363"/>
                  </a:lnTo>
                  <a:lnTo>
                    <a:pt x="70" y="1367"/>
                  </a:lnTo>
                  <a:lnTo>
                    <a:pt x="72" y="1372"/>
                  </a:lnTo>
                  <a:lnTo>
                    <a:pt x="72" y="1376"/>
                  </a:lnTo>
                  <a:lnTo>
                    <a:pt x="66" y="1381"/>
                  </a:lnTo>
                  <a:lnTo>
                    <a:pt x="64" y="1385"/>
                  </a:lnTo>
                  <a:lnTo>
                    <a:pt x="60" y="1390"/>
                  </a:lnTo>
                  <a:lnTo>
                    <a:pt x="58" y="1394"/>
                  </a:lnTo>
                  <a:lnTo>
                    <a:pt x="60" y="1399"/>
                  </a:lnTo>
                  <a:lnTo>
                    <a:pt x="64" y="1403"/>
                  </a:lnTo>
                  <a:lnTo>
                    <a:pt x="66" y="1408"/>
                  </a:lnTo>
                  <a:lnTo>
                    <a:pt x="60" y="1412"/>
                  </a:lnTo>
                  <a:lnTo>
                    <a:pt x="58" y="1417"/>
                  </a:lnTo>
                  <a:lnTo>
                    <a:pt x="64" y="1421"/>
                  </a:lnTo>
                  <a:lnTo>
                    <a:pt x="58" y="1426"/>
                  </a:lnTo>
                  <a:lnTo>
                    <a:pt x="58" y="1430"/>
                  </a:lnTo>
                  <a:lnTo>
                    <a:pt x="64" y="1435"/>
                  </a:lnTo>
                  <a:lnTo>
                    <a:pt x="66" y="1439"/>
                  </a:lnTo>
                  <a:lnTo>
                    <a:pt x="64" y="1444"/>
                  </a:lnTo>
                  <a:lnTo>
                    <a:pt x="64" y="1448"/>
                  </a:lnTo>
                  <a:lnTo>
                    <a:pt x="68" y="1453"/>
                  </a:lnTo>
                  <a:lnTo>
                    <a:pt x="79" y="1457"/>
                  </a:lnTo>
                  <a:lnTo>
                    <a:pt x="89" y="1462"/>
                  </a:lnTo>
                  <a:lnTo>
                    <a:pt x="85" y="1466"/>
                  </a:lnTo>
                  <a:lnTo>
                    <a:pt x="81" y="1471"/>
                  </a:lnTo>
                  <a:lnTo>
                    <a:pt x="53" y="1475"/>
                  </a:lnTo>
                  <a:lnTo>
                    <a:pt x="51" y="1480"/>
                  </a:lnTo>
                  <a:lnTo>
                    <a:pt x="36" y="1484"/>
                  </a:lnTo>
                  <a:lnTo>
                    <a:pt x="34" y="1489"/>
                  </a:lnTo>
                  <a:lnTo>
                    <a:pt x="26" y="1493"/>
                  </a:lnTo>
                  <a:lnTo>
                    <a:pt x="51" y="1498"/>
                  </a:lnTo>
                  <a:lnTo>
                    <a:pt x="58" y="1502"/>
                  </a:lnTo>
                  <a:lnTo>
                    <a:pt x="60" y="1507"/>
                  </a:lnTo>
                  <a:lnTo>
                    <a:pt x="79" y="1511"/>
                  </a:lnTo>
                  <a:lnTo>
                    <a:pt x="79" y="1516"/>
                  </a:lnTo>
                  <a:lnTo>
                    <a:pt x="70" y="1520"/>
                  </a:lnTo>
                  <a:lnTo>
                    <a:pt x="66" y="1525"/>
                  </a:lnTo>
                  <a:lnTo>
                    <a:pt x="55" y="1529"/>
                  </a:lnTo>
                  <a:lnTo>
                    <a:pt x="51" y="1534"/>
                  </a:lnTo>
                  <a:lnTo>
                    <a:pt x="51" y="1538"/>
                  </a:lnTo>
                  <a:lnTo>
                    <a:pt x="45" y="1543"/>
                  </a:lnTo>
                  <a:lnTo>
                    <a:pt x="45" y="1547"/>
                  </a:lnTo>
                  <a:lnTo>
                    <a:pt x="58" y="1552"/>
                  </a:lnTo>
                  <a:lnTo>
                    <a:pt x="68" y="1556"/>
                  </a:lnTo>
                  <a:lnTo>
                    <a:pt x="55" y="1560"/>
                  </a:lnTo>
                  <a:lnTo>
                    <a:pt x="51" y="1565"/>
                  </a:lnTo>
                  <a:lnTo>
                    <a:pt x="45" y="1569"/>
                  </a:lnTo>
                  <a:lnTo>
                    <a:pt x="45" y="1574"/>
                  </a:lnTo>
                  <a:lnTo>
                    <a:pt x="45" y="1578"/>
                  </a:lnTo>
                  <a:lnTo>
                    <a:pt x="45" y="1583"/>
                  </a:lnTo>
                  <a:lnTo>
                    <a:pt x="30" y="1587"/>
                  </a:lnTo>
                  <a:lnTo>
                    <a:pt x="28" y="1592"/>
                  </a:lnTo>
                  <a:lnTo>
                    <a:pt x="36" y="1596"/>
                  </a:lnTo>
                  <a:lnTo>
                    <a:pt x="38" y="1601"/>
                  </a:lnTo>
                  <a:lnTo>
                    <a:pt x="32" y="1605"/>
                  </a:lnTo>
                  <a:lnTo>
                    <a:pt x="47" y="1610"/>
                  </a:lnTo>
                  <a:lnTo>
                    <a:pt x="47" y="1614"/>
                  </a:lnTo>
                  <a:lnTo>
                    <a:pt x="58" y="1619"/>
                  </a:lnTo>
                  <a:lnTo>
                    <a:pt x="66" y="1623"/>
                  </a:lnTo>
                  <a:lnTo>
                    <a:pt x="32" y="1628"/>
                  </a:lnTo>
                  <a:lnTo>
                    <a:pt x="30" y="1632"/>
                  </a:lnTo>
                  <a:lnTo>
                    <a:pt x="45" y="1637"/>
                  </a:lnTo>
                  <a:lnTo>
                    <a:pt x="41" y="1641"/>
                  </a:lnTo>
                  <a:lnTo>
                    <a:pt x="47" y="1646"/>
                  </a:lnTo>
                  <a:lnTo>
                    <a:pt x="55" y="1650"/>
                  </a:lnTo>
                  <a:lnTo>
                    <a:pt x="75" y="1655"/>
                  </a:lnTo>
                  <a:lnTo>
                    <a:pt x="92" y="1659"/>
                  </a:lnTo>
                  <a:lnTo>
                    <a:pt x="87" y="1664"/>
                  </a:lnTo>
                  <a:lnTo>
                    <a:pt x="83" y="1668"/>
                  </a:lnTo>
                  <a:lnTo>
                    <a:pt x="53" y="1673"/>
                  </a:lnTo>
                  <a:lnTo>
                    <a:pt x="51" y="1677"/>
                  </a:lnTo>
                  <a:lnTo>
                    <a:pt x="49" y="1682"/>
                  </a:lnTo>
                  <a:lnTo>
                    <a:pt x="38" y="1686"/>
                  </a:lnTo>
                  <a:lnTo>
                    <a:pt x="38" y="1691"/>
                  </a:lnTo>
                  <a:lnTo>
                    <a:pt x="41" y="1695"/>
                  </a:lnTo>
                  <a:lnTo>
                    <a:pt x="41" y="1700"/>
                  </a:lnTo>
                  <a:lnTo>
                    <a:pt x="55" y="1704"/>
                  </a:lnTo>
                  <a:lnTo>
                    <a:pt x="58" y="1709"/>
                  </a:lnTo>
                  <a:lnTo>
                    <a:pt x="53" y="1713"/>
                  </a:lnTo>
                  <a:lnTo>
                    <a:pt x="79" y="1718"/>
                  </a:lnTo>
                  <a:lnTo>
                    <a:pt x="96" y="1722"/>
                  </a:lnTo>
                  <a:lnTo>
                    <a:pt x="109" y="1727"/>
                  </a:lnTo>
                  <a:lnTo>
                    <a:pt x="102" y="1731"/>
                  </a:lnTo>
                  <a:lnTo>
                    <a:pt x="70" y="1736"/>
                  </a:lnTo>
                  <a:lnTo>
                    <a:pt x="64" y="1740"/>
                  </a:lnTo>
                  <a:lnTo>
                    <a:pt x="64" y="1745"/>
                  </a:lnTo>
                  <a:lnTo>
                    <a:pt x="64" y="1749"/>
                  </a:lnTo>
                  <a:lnTo>
                    <a:pt x="51" y="1754"/>
                  </a:lnTo>
                  <a:lnTo>
                    <a:pt x="51" y="1758"/>
                  </a:lnTo>
                  <a:lnTo>
                    <a:pt x="43" y="1763"/>
                  </a:lnTo>
                  <a:lnTo>
                    <a:pt x="43" y="1767"/>
                  </a:lnTo>
                  <a:lnTo>
                    <a:pt x="66" y="1772"/>
                  </a:lnTo>
                  <a:lnTo>
                    <a:pt x="72" y="1776"/>
                  </a:lnTo>
                  <a:lnTo>
                    <a:pt x="72" y="1781"/>
                  </a:lnTo>
                  <a:lnTo>
                    <a:pt x="77" y="1785"/>
                  </a:lnTo>
                  <a:lnTo>
                    <a:pt x="64" y="1790"/>
                  </a:lnTo>
                  <a:lnTo>
                    <a:pt x="53" y="1794"/>
                  </a:lnTo>
                  <a:lnTo>
                    <a:pt x="53" y="1799"/>
                  </a:lnTo>
                  <a:lnTo>
                    <a:pt x="72" y="1803"/>
                  </a:lnTo>
                  <a:lnTo>
                    <a:pt x="81" y="1808"/>
                  </a:lnTo>
                  <a:lnTo>
                    <a:pt x="83" y="1812"/>
                  </a:lnTo>
                  <a:lnTo>
                    <a:pt x="72" y="1817"/>
                  </a:lnTo>
                  <a:lnTo>
                    <a:pt x="87" y="1821"/>
                  </a:lnTo>
                  <a:lnTo>
                    <a:pt x="96" y="1826"/>
                  </a:lnTo>
                  <a:lnTo>
                    <a:pt x="96" y="1830"/>
                  </a:lnTo>
                  <a:lnTo>
                    <a:pt x="104" y="1835"/>
                  </a:lnTo>
                  <a:lnTo>
                    <a:pt x="117" y="1839"/>
                  </a:lnTo>
                  <a:lnTo>
                    <a:pt x="119" y="1844"/>
                  </a:lnTo>
                  <a:lnTo>
                    <a:pt x="119" y="1848"/>
                  </a:lnTo>
                  <a:lnTo>
                    <a:pt x="98" y="1853"/>
                  </a:lnTo>
                  <a:lnTo>
                    <a:pt x="94" y="1857"/>
                  </a:lnTo>
                  <a:lnTo>
                    <a:pt x="98" y="1862"/>
                  </a:lnTo>
                  <a:lnTo>
                    <a:pt x="98" y="1866"/>
                  </a:lnTo>
                  <a:lnTo>
                    <a:pt x="79" y="1871"/>
                  </a:lnTo>
                  <a:lnTo>
                    <a:pt x="70" y="1875"/>
                  </a:lnTo>
                  <a:lnTo>
                    <a:pt x="70" y="1880"/>
                  </a:lnTo>
                  <a:lnTo>
                    <a:pt x="66" y="1884"/>
                  </a:lnTo>
                  <a:lnTo>
                    <a:pt x="53" y="1889"/>
                  </a:lnTo>
                  <a:lnTo>
                    <a:pt x="60" y="1893"/>
                  </a:lnTo>
                  <a:lnTo>
                    <a:pt x="47" y="1898"/>
                  </a:lnTo>
                  <a:lnTo>
                    <a:pt x="45" y="1902"/>
                  </a:lnTo>
                  <a:lnTo>
                    <a:pt x="51" y="1907"/>
                  </a:lnTo>
                  <a:lnTo>
                    <a:pt x="75" y="1911"/>
                  </a:lnTo>
                  <a:lnTo>
                    <a:pt x="79" y="1916"/>
                  </a:lnTo>
                  <a:lnTo>
                    <a:pt x="66" y="1920"/>
                  </a:lnTo>
                  <a:lnTo>
                    <a:pt x="62" y="1925"/>
                  </a:lnTo>
                  <a:lnTo>
                    <a:pt x="77" y="1929"/>
                  </a:lnTo>
                  <a:lnTo>
                    <a:pt x="75" y="1934"/>
                  </a:lnTo>
                  <a:lnTo>
                    <a:pt x="72" y="1938"/>
                  </a:lnTo>
                  <a:lnTo>
                    <a:pt x="94" y="1943"/>
                  </a:lnTo>
                  <a:lnTo>
                    <a:pt x="111" y="1947"/>
                  </a:lnTo>
                  <a:lnTo>
                    <a:pt x="132" y="1952"/>
                  </a:lnTo>
                  <a:lnTo>
                    <a:pt x="126" y="1956"/>
                  </a:lnTo>
                  <a:lnTo>
                    <a:pt x="89" y="1961"/>
                  </a:lnTo>
                  <a:lnTo>
                    <a:pt x="75" y="1965"/>
                  </a:lnTo>
                  <a:lnTo>
                    <a:pt x="81" y="1970"/>
                  </a:lnTo>
                  <a:lnTo>
                    <a:pt x="85" y="1974"/>
                  </a:lnTo>
                  <a:lnTo>
                    <a:pt x="92" y="1979"/>
                  </a:lnTo>
                  <a:lnTo>
                    <a:pt x="104" y="1983"/>
                  </a:lnTo>
                  <a:lnTo>
                    <a:pt x="100" y="1988"/>
                  </a:lnTo>
                  <a:lnTo>
                    <a:pt x="94" y="1992"/>
                  </a:lnTo>
                  <a:lnTo>
                    <a:pt x="85" y="1997"/>
                  </a:lnTo>
                  <a:lnTo>
                    <a:pt x="96" y="2001"/>
                  </a:lnTo>
                  <a:lnTo>
                    <a:pt x="104" y="2006"/>
                  </a:lnTo>
                  <a:lnTo>
                    <a:pt x="104" y="2010"/>
                  </a:lnTo>
                  <a:lnTo>
                    <a:pt x="89" y="2015"/>
                  </a:lnTo>
                  <a:lnTo>
                    <a:pt x="83" y="2019"/>
                  </a:lnTo>
                  <a:lnTo>
                    <a:pt x="72" y="2024"/>
                  </a:lnTo>
                  <a:lnTo>
                    <a:pt x="70" y="2028"/>
                  </a:lnTo>
                  <a:lnTo>
                    <a:pt x="70" y="2033"/>
                  </a:lnTo>
                  <a:lnTo>
                    <a:pt x="75" y="2037"/>
                  </a:lnTo>
                  <a:lnTo>
                    <a:pt x="79" y="2042"/>
                  </a:lnTo>
                  <a:lnTo>
                    <a:pt x="79" y="2046"/>
                  </a:lnTo>
                  <a:lnTo>
                    <a:pt x="70" y="2051"/>
                  </a:lnTo>
                  <a:lnTo>
                    <a:pt x="72" y="2055"/>
                  </a:lnTo>
                  <a:lnTo>
                    <a:pt x="64" y="2060"/>
                  </a:lnTo>
                  <a:lnTo>
                    <a:pt x="64" y="2064"/>
                  </a:lnTo>
                  <a:lnTo>
                    <a:pt x="60" y="2069"/>
                  </a:lnTo>
                  <a:lnTo>
                    <a:pt x="58" y="2073"/>
                  </a:lnTo>
                  <a:lnTo>
                    <a:pt x="58" y="2078"/>
                  </a:lnTo>
                  <a:lnTo>
                    <a:pt x="60" y="2082"/>
                  </a:lnTo>
                  <a:lnTo>
                    <a:pt x="68" y="2087"/>
                  </a:lnTo>
                  <a:lnTo>
                    <a:pt x="77" y="2091"/>
                  </a:lnTo>
                  <a:lnTo>
                    <a:pt x="85" y="2096"/>
                  </a:lnTo>
                  <a:lnTo>
                    <a:pt x="85" y="2100"/>
                  </a:lnTo>
                  <a:lnTo>
                    <a:pt x="75" y="2105"/>
                  </a:lnTo>
                  <a:lnTo>
                    <a:pt x="72" y="2109"/>
                  </a:lnTo>
                  <a:lnTo>
                    <a:pt x="75" y="2114"/>
                  </a:lnTo>
                  <a:lnTo>
                    <a:pt x="75" y="2118"/>
                  </a:lnTo>
                  <a:lnTo>
                    <a:pt x="83" y="2123"/>
                  </a:lnTo>
                  <a:lnTo>
                    <a:pt x="87" y="2127"/>
                  </a:lnTo>
                  <a:lnTo>
                    <a:pt x="81" y="2132"/>
                  </a:lnTo>
                  <a:lnTo>
                    <a:pt x="83" y="2136"/>
                  </a:lnTo>
                  <a:lnTo>
                    <a:pt x="83" y="2141"/>
                  </a:lnTo>
                  <a:lnTo>
                    <a:pt x="77" y="2145"/>
                  </a:lnTo>
                  <a:lnTo>
                    <a:pt x="70" y="2150"/>
                  </a:lnTo>
                  <a:lnTo>
                    <a:pt x="70" y="2154"/>
                  </a:lnTo>
                  <a:lnTo>
                    <a:pt x="72" y="2159"/>
                  </a:lnTo>
                  <a:lnTo>
                    <a:pt x="81" y="2163"/>
                  </a:lnTo>
                  <a:lnTo>
                    <a:pt x="94" y="2168"/>
                  </a:lnTo>
                  <a:lnTo>
                    <a:pt x="94" y="2172"/>
                  </a:lnTo>
                  <a:lnTo>
                    <a:pt x="87" y="2177"/>
                  </a:lnTo>
                  <a:lnTo>
                    <a:pt x="77" y="2181"/>
                  </a:lnTo>
                  <a:lnTo>
                    <a:pt x="75" y="2186"/>
                  </a:lnTo>
                  <a:lnTo>
                    <a:pt x="77" y="2190"/>
                  </a:lnTo>
                  <a:lnTo>
                    <a:pt x="81" y="2195"/>
                  </a:lnTo>
                  <a:lnTo>
                    <a:pt x="85" y="2199"/>
                  </a:lnTo>
                  <a:lnTo>
                    <a:pt x="83" y="2204"/>
                  </a:lnTo>
                  <a:lnTo>
                    <a:pt x="79" y="2208"/>
                  </a:lnTo>
                  <a:lnTo>
                    <a:pt x="79" y="2213"/>
                  </a:lnTo>
                  <a:lnTo>
                    <a:pt x="77" y="2217"/>
                  </a:lnTo>
                  <a:lnTo>
                    <a:pt x="72" y="2222"/>
                  </a:lnTo>
                  <a:lnTo>
                    <a:pt x="72" y="2226"/>
                  </a:lnTo>
                  <a:lnTo>
                    <a:pt x="72" y="2231"/>
                  </a:lnTo>
                  <a:lnTo>
                    <a:pt x="75" y="2235"/>
                  </a:lnTo>
                  <a:lnTo>
                    <a:pt x="79" y="2240"/>
                  </a:lnTo>
                  <a:lnTo>
                    <a:pt x="94" y="2244"/>
                  </a:lnTo>
                  <a:lnTo>
                    <a:pt x="96" y="2249"/>
                  </a:lnTo>
                  <a:lnTo>
                    <a:pt x="85" y="2253"/>
                  </a:lnTo>
                  <a:lnTo>
                    <a:pt x="70" y="2258"/>
                  </a:lnTo>
                  <a:lnTo>
                    <a:pt x="68" y="2262"/>
                  </a:lnTo>
                  <a:lnTo>
                    <a:pt x="75" y="2267"/>
                  </a:lnTo>
                  <a:lnTo>
                    <a:pt x="87" y="2271"/>
                  </a:lnTo>
                  <a:lnTo>
                    <a:pt x="98" y="2276"/>
                  </a:lnTo>
                  <a:lnTo>
                    <a:pt x="98" y="2280"/>
                  </a:lnTo>
                  <a:lnTo>
                    <a:pt x="89" y="2285"/>
                  </a:lnTo>
                  <a:lnTo>
                    <a:pt x="81" y="2289"/>
                  </a:lnTo>
                  <a:lnTo>
                    <a:pt x="81" y="2294"/>
                  </a:lnTo>
                  <a:lnTo>
                    <a:pt x="85" y="2298"/>
                  </a:lnTo>
                  <a:lnTo>
                    <a:pt x="94" y="2303"/>
                  </a:lnTo>
                  <a:lnTo>
                    <a:pt x="89" y="2307"/>
                  </a:lnTo>
                  <a:lnTo>
                    <a:pt x="87" y="2312"/>
                  </a:lnTo>
                  <a:lnTo>
                    <a:pt x="87" y="2316"/>
                  </a:lnTo>
                  <a:lnTo>
                    <a:pt x="72" y="2321"/>
                  </a:lnTo>
                  <a:lnTo>
                    <a:pt x="70" y="2325"/>
                  </a:lnTo>
                  <a:lnTo>
                    <a:pt x="72" y="2330"/>
                  </a:lnTo>
                  <a:lnTo>
                    <a:pt x="75" y="2334"/>
                  </a:lnTo>
                  <a:lnTo>
                    <a:pt x="75" y="2339"/>
                  </a:lnTo>
                  <a:lnTo>
                    <a:pt x="79" y="2343"/>
                  </a:lnTo>
                  <a:lnTo>
                    <a:pt x="98" y="2348"/>
                  </a:lnTo>
                  <a:lnTo>
                    <a:pt x="104" y="2352"/>
                  </a:lnTo>
                  <a:lnTo>
                    <a:pt x="104" y="2357"/>
                  </a:lnTo>
                  <a:lnTo>
                    <a:pt x="89" y="2361"/>
                  </a:lnTo>
                  <a:lnTo>
                    <a:pt x="83" y="2366"/>
                  </a:lnTo>
                  <a:lnTo>
                    <a:pt x="72" y="2370"/>
                  </a:lnTo>
                  <a:lnTo>
                    <a:pt x="70" y="2375"/>
                  </a:lnTo>
                  <a:lnTo>
                    <a:pt x="66" y="2379"/>
                  </a:lnTo>
                  <a:lnTo>
                    <a:pt x="66" y="2384"/>
                  </a:lnTo>
                  <a:lnTo>
                    <a:pt x="66" y="2388"/>
                  </a:lnTo>
                  <a:lnTo>
                    <a:pt x="62" y="2393"/>
                  </a:lnTo>
                  <a:lnTo>
                    <a:pt x="55" y="2397"/>
                  </a:lnTo>
                  <a:lnTo>
                    <a:pt x="51" y="2402"/>
                  </a:lnTo>
                  <a:lnTo>
                    <a:pt x="49" y="2406"/>
                  </a:lnTo>
                  <a:lnTo>
                    <a:pt x="58" y="2411"/>
                  </a:lnTo>
                  <a:lnTo>
                    <a:pt x="68" y="2415"/>
                  </a:lnTo>
                  <a:lnTo>
                    <a:pt x="83" y="2420"/>
                  </a:lnTo>
                  <a:lnTo>
                    <a:pt x="94" y="2424"/>
                  </a:lnTo>
                  <a:lnTo>
                    <a:pt x="128" y="2429"/>
                  </a:lnTo>
                  <a:lnTo>
                    <a:pt x="151" y="2433"/>
                  </a:lnTo>
                  <a:lnTo>
                    <a:pt x="157" y="2438"/>
                  </a:lnTo>
                  <a:lnTo>
                    <a:pt x="157" y="2442"/>
                  </a:lnTo>
                  <a:lnTo>
                    <a:pt x="170" y="2447"/>
                  </a:lnTo>
                  <a:lnTo>
                    <a:pt x="183" y="2451"/>
                  </a:lnTo>
                  <a:lnTo>
                    <a:pt x="196" y="2456"/>
                  </a:lnTo>
                  <a:lnTo>
                    <a:pt x="206" y="2460"/>
                  </a:lnTo>
                  <a:lnTo>
                    <a:pt x="245" y="2465"/>
                  </a:lnTo>
                  <a:lnTo>
                    <a:pt x="272" y="2469"/>
                  </a:lnTo>
                  <a:lnTo>
                    <a:pt x="310" y="2474"/>
                  </a:lnTo>
                  <a:lnTo>
                    <a:pt x="389" y="2478"/>
                  </a:lnTo>
                  <a:lnTo>
                    <a:pt x="410" y="2483"/>
                  </a:lnTo>
                  <a:lnTo>
                    <a:pt x="412" y="2487"/>
                  </a:lnTo>
                  <a:lnTo>
                    <a:pt x="412" y="2492"/>
                  </a:lnTo>
                  <a:lnTo>
                    <a:pt x="408" y="2496"/>
                  </a:lnTo>
                  <a:lnTo>
                    <a:pt x="391" y="2501"/>
                  </a:lnTo>
                  <a:lnTo>
                    <a:pt x="376" y="2505"/>
                  </a:lnTo>
                  <a:lnTo>
                    <a:pt x="389" y="2510"/>
                  </a:lnTo>
                  <a:lnTo>
                    <a:pt x="389" y="2514"/>
                  </a:lnTo>
                  <a:lnTo>
                    <a:pt x="385" y="2519"/>
                  </a:lnTo>
                  <a:lnTo>
                    <a:pt x="374" y="2523"/>
                  </a:lnTo>
                  <a:lnTo>
                    <a:pt x="376" y="2528"/>
                  </a:lnTo>
                  <a:lnTo>
                    <a:pt x="361" y="2532"/>
                  </a:lnTo>
                  <a:lnTo>
                    <a:pt x="361" y="2537"/>
                  </a:lnTo>
                  <a:lnTo>
                    <a:pt x="359" y="2541"/>
                  </a:lnTo>
                  <a:lnTo>
                    <a:pt x="361" y="2546"/>
                  </a:lnTo>
                  <a:lnTo>
                    <a:pt x="366" y="2550"/>
                  </a:lnTo>
                  <a:lnTo>
                    <a:pt x="380" y="2555"/>
                  </a:lnTo>
                  <a:lnTo>
                    <a:pt x="400" y="2559"/>
                  </a:lnTo>
                  <a:lnTo>
                    <a:pt x="410" y="2564"/>
                  </a:lnTo>
                  <a:lnTo>
                    <a:pt x="427" y="2568"/>
                  </a:lnTo>
                  <a:lnTo>
                    <a:pt x="417" y="2573"/>
                  </a:lnTo>
                  <a:lnTo>
                    <a:pt x="402" y="2577"/>
                  </a:lnTo>
                  <a:lnTo>
                    <a:pt x="402" y="2582"/>
                  </a:lnTo>
                </a:path>
              </a:pathLst>
            </a:custGeom>
            <a:noFill/>
            <a:ln w="28440">
              <a:solidFill>
                <a:srgbClr val="0000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Freeform 291"/>
            <p:cNvSpPr/>
            <p:nvPr/>
          </p:nvSpPr>
          <p:spPr>
            <a:xfrm>
              <a:off x="3094200" y="2127240"/>
              <a:ext cx="271440" cy="4425840"/>
            </a:xfrm>
            <a:custGeom>
              <a:avLst/>
              <a:gdLst>
                <a:gd name="textAreaLeft" fmla="*/ 0 w 271440"/>
                <a:gd name="textAreaRight" fmla="*/ 271440 w 271440"/>
                <a:gd name="textAreaTop" fmla="*/ 0 h 4425840"/>
                <a:gd name="textAreaBottom" fmla="*/ 4426200 h 4425840"/>
              </a:gdLst>
              <a:ahLst/>
              <a:rect l="textAreaLeft" t="textAreaTop" r="textAreaRight" b="textAreaBottom"/>
              <a:pathLst>
                <a:path w="161" h="2609">
                  <a:moveTo>
                    <a:pt x="148" y="0"/>
                  </a:moveTo>
                  <a:lnTo>
                    <a:pt x="146" y="4"/>
                  </a:lnTo>
                  <a:lnTo>
                    <a:pt x="146" y="9"/>
                  </a:lnTo>
                  <a:lnTo>
                    <a:pt x="146" y="13"/>
                  </a:lnTo>
                  <a:lnTo>
                    <a:pt x="146" y="18"/>
                  </a:lnTo>
                  <a:lnTo>
                    <a:pt x="148" y="22"/>
                  </a:lnTo>
                  <a:lnTo>
                    <a:pt x="148" y="27"/>
                  </a:lnTo>
                  <a:lnTo>
                    <a:pt x="151" y="31"/>
                  </a:lnTo>
                  <a:lnTo>
                    <a:pt x="153" y="36"/>
                  </a:lnTo>
                  <a:lnTo>
                    <a:pt x="155" y="40"/>
                  </a:lnTo>
                  <a:lnTo>
                    <a:pt x="155" y="45"/>
                  </a:lnTo>
                  <a:lnTo>
                    <a:pt x="157" y="49"/>
                  </a:lnTo>
                  <a:lnTo>
                    <a:pt x="157" y="54"/>
                  </a:lnTo>
                  <a:lnTo>
                    <a:pt x="157" y="58"/>
                  </a:lnTo>
                  <a:lnTo>
                    <a:pt x="157" y="63"/>
                  </a:lnTo>
                  <a:lnTo>
                    <a:pt x="159" y="67"/>
                  </a:lnTo>
                  <a:lnTo>
                    <a:pt x="159" y="72"/>
                  </a:lnTo>
                  <a:lnTo>
                    <a:pt x="159" y="76"/>
                  </a:lnTo>
                  <a:lnTo>
                    <a:pt x="159" y="81"/>
                  </a:lnTo>
                  <a:lnTo>
                    <a:pt x="159" y="85"/>
                  </a:lnTo>
                  <a:lnTo>
                    <a:pt x="159" y="90"/>
                  </a:lnTo>
                  <a:lnTo>
                    <a:pt x="157" y="94"/>
                  </a:lnTo>
                  <a:lnTo>
                    <a:pt x="157" y="99"/>
                  </a:lnTo>
                  <a:lnTo>
                    <a:pt x="157" y="103"/>
                  </a:lnTo>
                  <a:lnTo>
                    <a:pt x="157" y="108"/>
                  </a:lnTo>
                  <a:lnTo>
                    <a:pt x="157" y="112"/>
                  </a:lnTo>
                  <a:lnTo>
                    <a:pt x="157" y="117"/>
                  </a:lnTo>
                  <a:lnTo>
                    <a:pt x="157" y="121"/>
                  </a:lnTo>
                  <a:lnTo>
                    <a:pt x="159" y="126"/>
                  </a:lnTo>
                  <a:lnTo>
                    <a:pt x="159" y="130"/>
                  </a:lnTo>
                  <a:lnTo>
                    <a:pt x="159" y="135"/>
                  </a:lnTo>
                  <a:lnTo>
                    <a:pt x="159" y="139"/>
                  </a:lnTo>
                  <a:lnTo>
                    <a:pt x="159" y="144"/>
                  </a:lnTo>
                  <a:lnTo>
                    <a:pt x="159" y="148"/>
                  </a:lnTo>
                  <a:lnTo>
                    <a:pt x="159" y="153"/>
                  </a:lnTo>
                  <a:lnTo>
                    <a:pt x="157" y="157"/>
                  </a:lnTo>
                  <a:lnTo>
                    <a:pt x="157" y="162"/>
                  </a:lnTo>
                  <a:lnTo>
                    <a:pt x="155" y="166"/>
                  </a:lnTo>
                  <a:lnTo>
                    <a:pt x="153" y="171"/>
                  </a:lnTo>
                  <a:lnTo>
                    <a:pt x="151" y="175"/>
                  </a:lnTo>
                  <a:lnTo>
                    <a:pt x="146" y="180"/>
                  </a:lnTo>
                  <a:lnTo>
                    <a:pt x="142" y="184"/>
                  </a:lnTo>
                  <a:lnTo>
                    <a:pt x="138" y="189"/>
                  </a:lnTo>
                  <a:lnTo>
                    <a:pt x="131" y="193"/>
                  </a:lnTo>
                  <a:lnTo>
                    <a:pt x="121" y="198"/>
                  </a:lnTo>
                  <a:lnTo>
                    <a:pt x="114" y="202"/>
                  </a:lnTo>
                  <a:lnTo>
                    <a:pt x="106" y="207"/>
                  </a:lnTo>
                  <a:lnTo>
                    <a:pt x="87" y="211"/>
                  </a:lnTo>
                  <a:lnTo>
                    <a:pt x="76" y="216"/>
                  </a:lnTo>
                  <a:lnTo>
                    <a:pt x="64" y="220"/>
                  </a:lnTo>
                  <a:lnTo>
                    <a:pt x="59" y="225"/>
                  </a:lnTo>
                  <a:lnTo>
                    <a:pt x="47" y="229"/>
                  </a:lnTo>
                  <a:lnTo>
                    <a:pt x="38" y="234"/>
                  </a:lnTo>
                  <a:lnTo>
                    <a:pt x="36" y="238"/>
                  </a:lnTo>
                  <a:lnTo>
                    <a:pt x="30" y="243"/>
                  </a:lnTo>
                  <a:lnTo>
                    <a:pt x="23" y="247"/>
                  </a:lnTo>
                  <a:lnTo>
                    <a:pt x="17" y="252"/>
                  </a:lnTo>
                  <a:lnTo>
                    <a:pt x="13" y="256"/>
                  </a:lnTo>
                  <a:lnTo>
                    <a:pt x="13" y="261"/>
                  </a:lnTo>
                  <a:lnTo>
                    <a:pt x="8" y="265"/>
                  </a:lnTo>
                  <a:lnTo>
                    <a:pt x="6" y="270"/>
                  </a:lnTo>
                  <a:lnTo>
                    <a:pt x="6" y="274"/>
                  </a:lnTo>
                  <a:lnTo>
                    <a:pt x="6" y="279"/>
                  </a:lnTo>
                  <a:lnTo>
                    <a:pt x="6" y="283"/>
                  </a:lnTo>
                  <a:lnTo>
                    <a:pt x="4" y="288"/>
                  </a:lnTo>
                  <a:lnTo>
                    <a:pt x="4" y="292"/>
                  </a:lnTo>
                  <a:lnTo>
                    <a:pt x="4" y="297"/>
                  </a:lnTo>
                  <a:lnTo>
                    <a:pt x="4" y="301"/>
                  </a:lnTo>
                  <a:lnTo>
                    <a:pt x="4" y="306"/>
                  </a:lnTo>
                  <a:lnTo>
                    <a:pt x="4" y="310"/>
                  </a:lnTo>
                  <a:lnTo>
                    <a:pt x="4" y="315"/>
                  </a:lnTo>
                  <a:lnTo>
                    <a:pt x="6" y="319"/>
                  </a:lnTo>
                  <a:lnTo>
                    <a:pt x="6" y="324"/>
                  </a:lnTo>
                  <a:lnTo>
                    <a:pt x="6" y="328"/>
                  </a:lnTo>
                  <a:lnTo>
                    <a:pt x="6" y="333"/>
                  </a:lnTo>
                  <a:lnTo>
                    <a:pt x="6" y="337"/>
                  </a:lnTo>
                  <a:lnTo>
                    <a:pt x="6" y="342"/>
                  </a:lnTo>
                  <a:lnTo>
                    <a:pt x="4" y="346"/>
                  </a:lnTo>
                  <a:lnTo>
                    <a:pt x="4" y="351"/>
                  </a:lnTo>
                  <a:lnTo>
                    <a:pt x="6" y="355"/>
                  </a:lnTo>
                  <a:lnTo>
                    <a:pt x="6" y="360"/>
                  </a:lnTo>
                  <a:lnTo>
                    <a:pt x="8" y="364"/>
                  </a:lnTo>
                  <a:lnTo>
                    <a:pt x="8" y="369"/>
                  </a:lnTo>
                  <a:lnTo>
                    <a:pt x="10" y="373"/>
                  </a:lnTo>
                  <a:lnTo>
                    <a:pt x="13" y="378"/>
                  </a:lnTo>
                  <a:lnTo>
                    <a:pt x="13" y="382"/>
                  </a:lnTo>
                  <a:lnTo>
                    <a:pt x="13" y="387"/>
                  </a:lnTo>
                  <a:lnTo>
                    <a:pt x="13" y="391"/>
                  </a:lnTo>
                  <a:lnTo>
                    <a:pt x="13" y="396"/>
                  </a:lnTo>
                  <a:lnTo>
                    <a:pt x="13" y="400"/>
                  </a:lnTo>
                  <a:lnTo>
                    <a:pt x="10" y="405"/>
                  </a:lnTo>
                  <a:lnTo>
                    <a:pt x="10" y="409"/>
                  </a:lnTo>
                  <a:lnTo>
                    <a:pt x="8" y="414"/>
                  </a:lnTo>
                  <a:lnTo>
                    <a:pt x="8" y="418"/>
                  </a:lnTo>
                  <a:lnTo>
                    <a:pt x="8" y="423"/>
                  </a:lnTo>
                  <a:lnTo>
                    <a:pt x="10" y="427"/>
                  </a:lnTo>
                  <a:lnTo>
                    <a:pt x="10" y="432"/>
                  </a:lnTo>
                  <a:lnTo>
                    <a:pt x="13" y="436"/>
                  </a:lnTo>
                  <a:lnTo>
                    <a:pt x="13" y="441"/>
                  </a:lnTo>
                  <a:lnTo>
                    <a:pt x="13" y="445"/>
                  </a:lnTo>
                  <a:lnTo>
                    <a:pt x="13" y="450"/>
                  </a:lnTo>
                  <a:lnTo>
                    <a:pt x="15" y="454"/>
                  </a:lnTo>
                  <a:lnTo>
                    <a:pt x="15" y="459"/>
                  </a:lnTo>
                  <a:lnTo>
                    <a:pt x="15" y="463"/>
                  </a:lnTo>
                  <a:lnTo>
                    <a:pt x="17" y="468"/>
                  </a:lnTo>
                  <a:lnTo>
                    <a:pt x="17" y="472"/>
                  </a:lnTo>
                  <a:lnTo>
                    <a:pt x="17" y="477"/>
                  </a:lnTo>
                  <a:lnTo>
                    <a:pt x="17" y="481"/>
                  </a:lnTo>
                  <a:lnTo>
                    <a:pt x="19" y="486"/>
                  </a:lnTo>
                  <a:lnTo>
                    <a:pt x="19" y="490"/>
                  </a:lnTo>
                  <a:lnTo>
                    <a:pt x="19" y="495"/>
                  </a:lnTo>
                  <a:lnTo>
                    <a:pt x="19" y="499"/>
                  </a:lnTo>
                  <a:lnTo>
                    <a:pt x="19" y="504"/>
                  </a:lnTo>
                  <a:lnTo>
                    <a:pt x="19" y="508"/>
                  </a:lnTo>
                  <a:lnTo>
                    <a:pt x="19" y="513"/>
                  </a:lnTo>
                  <a:lnTo>
                    <a:pt x="19" y="517"/>
                  </a:lnTo>
                  <a:lnTo>
                    <a:pt x="19" y="522"/>
                  </a:lnTo>
                  <a:lnTo>
                    <a:pt x="19" y="526"/>
                  </a:lnTo>
                  <a:lnTo>
                    <a:pt x="21" y="530"/>
                  </a:lnTo>
                  <a:lnTo>
                    <a:pt x="19" y="535"/>
                  </a:lnTo>
                  <a:lnTo>
                    <a:pt x="17" y="539"/>
                  </a:lnTo>
                  <a:lnTo>
                    <a:pt x="19" y="544"/>
                  </a:lnTo>
                  <a:lnTo>
                    <a:pt x="19" y="548"/>
                  </a:lnTo>
                  <a:lnTo>
                    <a:pt x="19" y="553"/>
                  </a:lnTo>
                  <a:lnTo>
                    <a:pt x="19" y="557"/>
                  </a:lnTo>
                  <a:lnTo>
                    <a:pt x="17" y="562"/>
                  </a:lnTo>
                  <a:lnTo>
                    <a:pt x="17" y="566"/>
                  </a:lnTo>
                  <a:lnTo>
                    <a:pt x="17" y="571"/>
                  </a:lnTo>
                  <a:lnTo>
                    <a:pt x="17" y="575"/>
                  </a:lnTo>
                  <a:lnTo>
                    <a:pt x="17" y="580"/>
                  </a:lnTo>
                  <a:lnTo>
                    <a:pt x="21" y="584"/>
                  </a:lnTo>
                  <a:lnTo>
                    <a:pt x="21" y="589"/>
                  </a:lnTo>
                  <a:lnTo>
                    <a:pt x="21" y="593"/>
                  </a:lnTo>
                  <a:lnTo>
                    <a:pt x="21" y="598"/>
                  </a:lnTo>
                  <a:lnTo>
                    <a:pt x="21" y="602"/>
                  </a:lnTo>
                  <a:lnTo>
                    <a:pt x="19" y="607"/>
                  </a:lnTo>
                  <a:lnTo>
                    <a:pt x="19" y="611"/>
                  </a:lnTo>
                  <a:lnTo>
                    <a:pt x="21" y="616"/>
                  </a:lnTo>
                  <a:lnTo>
                    <a:pt x="21" y="620"/>
                  </a:lnTo>
                  <a:lnTo>
                    <a:pt x="21" y="625"/>
                  </a:lnTo>
                  <a:lnTo>
                    <a:pt x="23" y="629"/>
                  </a:lnTo>
                  <a:lnTo>
                    <a:pt x="23" y="634"/>
                  </a:lnTo>
                  <a:lnTo>
                    <a:pt x="23" y="638"/>
                  </a:lnTo>
                  <a:lnTo>
                    <a:pt x="23" y="643"/>
                  </a:lnTo>
                  <a:lnTo>
                    <a:pt x="25" y="647"/>
                  </a:lnTo>
                  <a:lnTo>
                    <a:pt x="25" y="652"/>
                  </a:lnTo>
                  <a:lnTo>
                    <a:pt x="25" y="656"/>
                  </a:lnTo>
                  <a:lnTo>
                    <a:pt x="27" y="661"/>
                  </a:lnTo>
                  <a:lnTo>
                    <a:pt x="27" y="665"/>
                  </a:lnTo>
                  <a:lnTo>
                    <a:pt x="30" y="670"/>
                  </a:lnTo>
                  <a:lnTo>
                    <a:pt x="30" y="674"/>
                  </a:lnTo>
                  <a:lnTo>
                    <a:pt x="30" y="679"/>
                  </a:lnTo>
                  <a:lnTo>
                    <a:pt x="30" y="683"/>
                  </a:lnTo>
                  <a:lnTo>
                    <a:pt x="30" y="688"/>
                  </a:lnTo>
                  <a:lnTo>
                    <a:pt x="30" y="692"/>
                  </a:lnTo>
                  <a:lnTo>
                    <a:pt x="30" y="697"/>
                  </a:lnTo>
                  <a:lnTo>
                    <a:pt x="30" y="701"/>
                  </a:lnTo>
                  <a:lnTo>
                    <a:pt x="30" y="706"/>
                  </a:lnTo>
                  <a:lnTo>
                    <a:pt x="30" y="710"/>
                  </a:lnTo>
                  <a:lnTo>
                    <a:pt x="30" y="715"/>
                  </a:lnTo>
                  <a:lnTo>
                    <a:pt x="32" y="719"/>
                  </a:lnTo>
                  <a:lnTo>
                    <a:pt x="32" y="724"/>
                  </a:lnTo>
                  <a:lnTo>
                    <a:pt x="32" y="728"/>
                  </a:lnTo>
                  <a:lnTo>
                    <a:pt x="32" y="733"/>
                  </a:lnTo>
                  <a:lnTo>
                    <a:pt x="30" y="737"/>
                  </a:lnTo>
                  <a:lnTo>
                    <a:pt x="30" y="742"/>
                  </a:lnTo>
                  <a:lnTo>
                    <a:pt x="30" y="746"/>
                  </a:lnTo>
                  <a:lnTo>
                    <a:pt x="32" y="751"/>
                  </a:lnTo>
                  <a:lnTo>
                    <a:pt x="32" y="755"/>
                  </a:lnTo>
                  <a:lnTo>
                    <a:pt x="32" y="760"/>
                  </a:lnTo>
                  <a:lnTo>
                    <a:pt x="32" y="764"/>
                  </a:lnTo>
                  <a:lnTo>
                    <a:pt x="32" y="769"/>
                  </a:lnTo>
                  <a:lnTo>
                    <a:pt x="32" y="773"/>
                  </a:lnTo>
                  <a:lnTo>
                    <a:pt x="34" y="778"/>
                  </a:lnTo>
                  <a:lnTo>
                    <a:pt x="34" y="782"/>
                  </a:lnTo>
                  <a:lnTo>
                    <a:pt x="36" y="787"/>
                  </a:lnTo>
                  <a:lnTo>
                    <a:pt x="38" y="791"/>
                  </a:lnTo>
                  <a:lnTo>
                    <a:pt x="40" y="796"/>
                  </a:lnTo>
                  <a:lnTo>
                    <a:pt x="42" y="800"/>
                  </a:lnTo>
                  <a:lnTo>
                    <a:pt x="44" y="805"/>
                  </a:lnTo>
                  <a:lnTo>
                    <a:pt x="44" y="809"/>
                  </a:lnTo>
                  <a:lnTo>
                    <a:pt x="47" y="814"/>
                  </a:lnTo>
                  <a:lnTo>
                    <a:pt x="49" y="818"/>
                  </a:lnTo>
                  <a:lnTo>
                    <a:pt x="51" y="823"/>
                  </a:lnTo>
                  <a:lnTo>
                    <a:pt x="57" y="827"/>
                  </a:lnTo>
                  <a:lnTo>
                    <a:pt x="61" y="832"/>
                  </a:lnTo>
                  <a:lnTo>
                    <a:pt x="68" y="836"/>
                  </a:lnTo>
                  <a:lnTo>
                    <a:pt x="74" y="841"/>
                  </a:lnTo>
                  <a:lnTo>
                    <a:pt x="83" y="845"/>
                  </a:lnTo>
                  <a:lnTo>
                    <a:pt x="93" y="850"/>
                  </a:lnTo>
                  <a:lnTo>
                    <a:pt x="102" y="854"/>
                  </a:lnTo>
                  <a:lnTo>
                    <a:pt x="114" y="859"/>
                  </a:lnTo>
                  <a:lnTo>
                    <a:pt x="127" y="863"/>
                  </a:lnTo>
                  <a:lnTo>
                    <a:pt x="142" y="868"/>
                  </a:lnTo>
                  <a:lnTo>
                    <a:pt x="153" y="872"/>
                  </a:lnTo>
                  <a:lnTo>
                    <a:pt x="159" y="877"/>
                  </a:lnTo>
                  <a:lnTo>
                    <a:pt x="161" y="881"/>
                  </a:lnTo>
                  <a:lnTo>
                    <a:pt x="161" y="886"/>
                  </a:lnTo>
                  <a:lnTo>
                    <a:pt x="159" y="890"/>
                  </a:lnTo>
                  <a:lnTo>
                    <a:pt x="157" y="895"/>
                  </a:lnTo>
                  <a:lnTo>
                    <a:pt x="151" y="899"/>
                  </a:lnTo>
                  <a:lnTo>
                    <a:pt x="151" y="904"/>
                  </a:lnTo>
                  <a:lnTo>
                    <a:pt x="144" y="908"/>
                  </a:lnTo>
                  <a:lnTo>
                    <a:pt x="144" y="913"/>
                  </a:lnTo>
                  <a:lnTo>
                    <a:pt x="142" y="917"/>
                  </a:lnTo>
                  <a:lnTo>
                    <a:pt x="140" y="922"/>
                  </a:lnTo>
                  <a:lnTo>
                    <a:pt x="136" y="926"/>
                  </a:lnTo>
                  <a:lnTo>
                    <a:pt x="134" y="931"/>
                  </a:lnTo>
                  <a:lnTo>
                    <a:pt x="131" y="935"/>
                  </a:lnTo>
                  <a:lnTo>
                    <a:pt x="127" y="940"/>
                  </a:lnTo>
                  <a:lnTo>
                    <a:pt x="127" y="944"/>
                  </a:lnTo>
                  <a:lnTo>
                    <a:pt x="125" y="949"/>
                  </a:lnTo>
                  <a:lnTo>
                    <a:pt x="123" y="953"/>
                  </a:lnTo>
                  <a:lnTo>
                    <a:pt x="121" y="958"/>
                  </a:lnTo>
                  <a:lnTo>
                    <a:pt x="117" y="962"/>
                  </a:lnTo>
                  <a:lnTo>
                    <a:pt x="112" y="967"/>
                  </a:lnTo>
                  <a:lnTo>
                    <a:pt x="110" y="971"/>
                  </a:lnTo>
                  <a:lnTo>
                    <a:pt x="108" y="976"/>
                  </a:lnTo>
                  <a:lnTo>
                    <a:pt x="106" y="980"/>
                  </a:lnTo>
                  <a:lnTo>
                    <a:pt x="104" y="985"/>
                  </a:lnTo>
                  <a:lnTo>
                    <a:pt x="102" y="989"/>
                  </a:lnTo>
                  <a:lnTo>
                    <a:pt x="100" y="994"/>
                  </a:lnTo>
                  <a:lnTo>
                    <a:pt x="98" y="998"/>
                  </a:lnTo>
                  <a:lnTo>
                    <a:pt x="98" y="1003"/>
                  </a:lnTo>
                  <a:lnTo>
                    <a:pt x="98" y="1007"/>
                  </a:lnTo>
                  <a:lnTo>
                    <a:pt x="95" y="1012"/>
                  </a:lnTo>
                  <a:lnTo>
                    <a:pt x="95" y="1016"/>
                  </a:lnTo>
                  <a:lnTo>
                    <a:pt x="95" y="1021"/>
                  </a:lnTo>
                  <a:lnTo>
                    <a:pt x="93" y="1025"/>
                  </a:lnTo>
                  <a:lnTo>
                    <a:pt x="93" y="1030"/>
                  </a:lnTo>
                  <a:lnTo>
                    <a:pt x="93" y="1034"/>
                  </a:lnTo>
                  <a:lnTo>
                    <a:pt x="87" y="1039"/>
                  </a:lnTo>
                  <a:lnTo>
                    <a:pt x="85" y="1043"/>
                  </a:lnTo>
                  <a:lnTo>
                    <a:pt x="83" y="1048"/>
                  </a:lnTo>
                  <a:lnTo>
                    <a:pt x="78" y="1052"/>
                  </a:lnTo>
                  <a:lnTo>
                    <a:pt x="76" y="1057"/>
                  </a:lnTo>
                  <a:lnTo>
                    <a:pt x="72" y="1061"/>
                  </a:lnTo>
                  <a:lnTo>
                    <a:pt x="68" y="1066"/>
                  </a:lnTo>
                  <a:lnTo>
                    <a:pt x="66" y="1070"/>
                  </a:lnTo>
                  <a:lnTo>
                    <a:pt x="64" y="1075"/>
                  </a:lnTo>
                  <a:lnTo>
                    <a:pt x="59" y="1079"/>
                  </a:lnTo>
                  <a:lnTo>
                    <a:pt x="57" y="1084"/>
                  </a:lnTo>
                  <a:lnTo>
                    <a:pt x="55" y="1088"/>
                  </a:lnTo>
                  <a:lnTo>
                    <a:pt x="53" y="1093"/>
                  </a:lnTo>
                  <a:lnTo>
                    <a:pt x="51" y="1097"/>
                  </a:lnTo>
                  <a:lnTo>
                    <a:pt x="51" y="1102"/>
                  </a:lnTo>
                  <a:lnTo>
                    <a:pt x="49" y="1106"/>
                  </a:lnTo>
                  <a:lnTo>
                    <a:pt x="47" y="1111"/>
                  </a:lnTo>
                  <a:lnTo>
                    <a:pt x="47" y="1115"/>
                  </a:lnTo>
                  <a:lnTo>
                    <a:pt x="47" y="1120"/>
                  </a:lnTo>
                  <a:lnTo>
                    <a:pt x="44" y="1124"/>
                  </a:lnTo>
                  <a:lnTo>
                    <a:pt x="44" y="1129"/>
                  </a:lnTo>
                  <a:lnTo>
                    <a:pt x="42" y="1133"/>
                  </a:lnTo>
                  <a:lnTo>
                    <a:pt x="42" y="1138"/>
                  </a:lnTo>
                  <a:lnTo>
                    <a:pt x="40" y="1142"/>
                  </a:lnTo>
                  <a:lnTo>
                    <a:pt x="40" y="1147"/>
                  </a:lnTo>
                  <a:lnTo>
                    <a:pt x="38" y="1151"/>
                  </a:lnTo>
                  <a:lnTo>
                    <a:pt x="38" y="1156"/>
                  </a:lnTo>
                  <a:lnTo>
                    <a:pt x="38" y="1160"/>
                  </a:lnTo>
                  <a:lnTo>
                    <a:pt x="38" y="1165"/>
                  </a:lnTo>
                  <a:lnTo>
                    <a:pt x="38" y="1169"/>
                  </a:lnTo>
                  <a:lnTo>
                    <a:pt x="36" y="1174"/>
                  </a:lnTo>
                  <a:lnTo>
                    <a:pt x="36" y="1178"/>
                  </a:lnTo>
                  <a:lnTo>
                    <a:pt x="34" y="1183"/>
                  </a:lnTo>
                  <a:lnTo>
                    <a:pt x="32" y="1187"/>
                  </a:lnTo>
                  <a:lnTo>
                    <a:pt x="32" y="1192"/>
                  </a:lnTo>
                  <a:lnTo>
                    <a:pt x="30" y="1196"/>
                  </a:lnTo>
                  <a:lnTo>
                    <a:pt x="30" y="1201"/>
                  </a:lnTo>
                  <a:lnTo>
                    <a:pt x="30" y="1205"/>
                  </a:lnTo>
                  <a:lnTo>
                    <a:pt x="30" y="1210"/>
                  </a:lnTo>
                  <a:lnTo>
                    <a:pt x="30" y="1214"/>
                  </a:lnTo>
                  <a:lnTo>
                    <a:pt x="27" y="1219"/>
                  </a:lnTo>
                  <a:lnTo>
                    <a:pt x="27" y="1223"/>
                  </a:lnTo>
                  <a:lnTo>
                    <a:pt x="27" y="1228"/>
                  </a:lnTo>
                  <a:lnTo>
                    <a:pt x="25" y="1232"/>
                  </a:lnTo>
                  <a:lnTo>
                    <a:pt x="25" y="1237"/>
                  </a:lnTo>
                  <a:lnTo>
                    <a:pt x="25" y="1241"/>
                  </a:lnTo>
                  <a:lnTo>
                    <a:pt x="25" y="1246"/>
                  </a:lnTo>
                  <a:lnTo>
                    <a:pt x="23" y="1250"/>
                  </a:lnTo>
                  <a:lnTo>
                    <a:pt x="23" y="1255"/>
                  </a:lnTo>
                  <a:lnTo>
                    <a:pt x="23" y="1259"/>
                  </a:lnTo>
                  <a:lnTo>
                    <a:pt x="23" y="1264"/>
                  </a:lnTo>
                  <a:lnTo>
                    <a:pt x="23" y="1268"/>
                  </a:lnTo>
                  <a:lnTo>
                    <a:pt x="25" y="1273"/>
                  </a:lnTo>
                  <a:lnTo>
                    <a:pt x="25" y="1277"/>
                  </a:lnTo>
                  <a:lnTo>
                    <a:pt x="25" y="1282"/>
                  </a:lnTo>
                  <a:lnTo>
                    <a:pt x="25" y="1286"/>
                  </a:lnTo>
                  <a:lnTo>
                    <a:pt x="27" y="1291"/>
                  </a:lnTo>
                  <a:lnTo>
                    <a:pt x="27" y="1295"/>
                  </a:lnTo>
                  <a:lnTo>
                    <a:pt x="30" y="1300"/>
                  </a:lnTo>
                  <a:lnTo>
                    <a:pt x="30" y="1304"/>
                  </a:lnTo>
                  <a:lnTo>
                    <a:pt x="30" y="1309"/>
                  </a:lnTo>
                  <a:lnTo>
                    <a:pt x="32" y="1313"/>
                  </a:lnTo>
                  <a:lnTo>
                    <a:pt x="34" y="1318"/>
                  </a:lnTo>
                  <a:lnTo>
                    <a:pt x="32" y="1322"/>
                  </a:lnTo>
                  <a:lnTo>
                    <a:pt x="32" y="1327"/>
                  </a:lnTo>
                  <a:lnTo>
                    <a:pt x="32" y="1331"/>
                  </a:lnTo>
                  <a:lnTo>
                    <a:pt x="30" y="1336"/>
                  </a:lnTo>
                  <a:lnTo>
                    <a:pt x="27" y="1340"/>
                  </a:lnTo>
                  <a:lnTo>
                    <a:pt x="27" y="1345"/>
                  </a:lnTo>
                  <a:lnTo>
                    <a:pt x="27" y="1349"/>
                  </a:lnTo>
                  <a:lnTo>
                    <a:pt x="27" y="1354"/>
                  </a:lnTo>
                  <a:lnTo>
                    <a:pt x="25" y="1358"/>
                  </a:lnTo>
                  <a:lnTo>
                    <a:pt x="25" y="1363"/>
                  </a:lnTo>
                  <a:lnTo>
                    <a:pt x="25" y="1367"/>
                  </a:lnTo>
                  <a:lnTo>
                    <a:pt x="25" y="1372"/>
                  </a:lnTo>
                  <a:lnTo>
                    <a:pt x="25" y="1376"/>
                  </a:lnTo>
                  <a:lnTo>
                    <a:pt x="25" y="1381"/>
                  </a:lnTo>
                  <a:lnTo>
                    <a:pt x="25" y="1385"/>
                  </a:lnTo>
                  <a:lnTo>
                    <a:pt x="25" y="1390"/>
                  </a:lnTo>
                  <a:lnTo>
                    <a:pt x="25" y="1394"/>
                  </a:lnTo>
                  <a:lnTo>
                    <a:pt x="25" y="1399"/>
                  </a:lnTo>
                  <a:lnTo>
                    <a:pt x="23" y="1403"/>
                  </a:lnTo>
                  <a:lnTo>
                    <a:pt x="23" y="1408"/>
                  </a:lnTo>
                  <a:lnTo>
                    <a:pt x="23" y="1412"/>
                  </a:lnTo>
                  <a:lnTo>
                    <a:pt x="23" y="1417"/>
                  </a:lnTo>
                  <a:lnTo>
                    <a:pt x="23" y="1421"/>
                  </a:lnTo>
                  <a:lnTo>
                    <a:pt x="23" y="1426"/>
                  </a:lnTo>
                  <a:lnTo>
                    <a:pt x="23" y="1430"/>
                  </a:lnTo>
                  <a:lnTo>
                    <a:pt x="23" y="1435"/>
                  </a:lnTo>
                  <a:lnTo>
                    <a:pt x="23" y="1439"/>
                  </a:lnTo>
                  <a:lnTo>
                    <a:pt x="23" y="1444"/>
                  </a:lnTo>
                  <a:lnTo>
                    <a:pt x="23" y="1448"/>
                  </a:lnTo>
                  <a:lnTo>
                    <a:pt x="23" y="1453"/>
                  </a:lnTo>
                  <a:lnTo>
                    <a:pt x="23" y="1457"/>
                  </a:lnTo>
                  <a:lnTo>
                    <a:pt x="23" y="1462"/>
                  </a:lnTo>
                  <a:lnTo>
                    <a:pt x="21" y="1466"/>
                  </a:lnTo>
                  <a:lnTo>
                    <a:pt x="23" y="1471"/>
                  </a:lnTo>
                  <a:lnTo>
                    <a:pt x="23" y="1475"/>
                  </a:lnTo>
                  <a:lnTo>
                    <a:pt x="23" y="1480"/>
                  </a:lnTo>
                  <a:lnTo>
                    <a:pt x="23" y="1484"/>
                  </a:lnTo>
                  <a:lnTo>
                    <a:pt x="23" y="1489"/>
                  </a:lnTo>
                  <a:lnTo>
                    <a:pt x="23" y="1493"/>
                  </a:lnTo>
                  <a:lnTo>
                    <a:pt x="23" y="1498"/>
                  </a:lnTo>
                  <a:lnTo>
                    <a:pt x="23" y="1502"/>
                  </a:lnTo>
                  <a:lnTo>
                    <a:pt x="23" y="1507"/>
                  </a:lnTo>
                  <a:lnTo>
                    <a:pt x="23" y="1511"/>
                  </a:lnTo>
                  <a:lnTo>
                    <a:pt x="23" y="1516"/>
                  </a:lnTo>
                  <a:lnTo>
                    <a:pt x="21" y="1520"/>
                  </a:lnTo>
                  <a:lnTo>
                    <a:pt x="23" y="1525"/>
                  </a:lnTo>
                  <a:lnTo>
                    <a:pt x="21" y="1529"/>
                  </a:lnTo>
                  <a:lnTo>
                    <a:pt x="21" y="1534"/>
                  </a:lnTo>
                  <a:lnTo>
                    <a:pt x="21" y="1538"/>
                  </a:lnTo>
                  <a:lnTo>
                    <a:pt x="21" y="1543"/>
                  </a:lnTo>
                  <a:lnTo>
                    <a:pt x="19" y="1547"/>
                  </a:lnTo>
                  <a:lnTo>
                    <a:pt x="19" y="1552"/>
                  </a:lnTo>
                  <a:lnTo>
                    <a:pt x="19" y="1556"/>
                  </a:lnTo>
                  <a:lnTo>
                    <a:pt x="19" y="1561"/>
                  </a:lnTo>
                  <a:lnTo>
                    <a:pt x="17" y="1565"/>
                  </a:lnTo>
                  <a:lnTo>
                    <a:pt x="19" y="1570"/>
                  </a:lnTo>
                  <a:lnTo>
                    <a:pt x="19" y="1574"/>
                  </a:lnTo>
                  <a:lnTo>
                    <a:pt x="19" y="1578"/>
                  </a:lnTo>
                  <a:lnTo>
                    <a:pt x="19" y="1583"/>
                  </a:lnTo>
                  <a:lnTo>
                    <a:pt x="19" y="1587"/>
                  </a:lnTo>
                  <a:lnTo>
                    <a:pt x="19" y="1592"/>
                  </a:lnTo>
                  <a:lnTo>
                    <a:pt x="19" y="1596"/>
                  </a:lnTo>
                  <a:lnTo>
                    <a:pt x="19" y="1601"/>
                  </a:lnTo>
                  <a:lnTo>
                    <a:pt x="19" y="1605"/>
                  </a:lnTo>
                  <a:lnTo>
                    <a:pt x="19" y="1610"/>
                  </a:lnTo>
                  <a:lnTo>
                    <a:pt x="21" y="1614"/>
                  </a:lnTo>
                  <a:lnTo>
                    <a:pt x="21" y="1619"/>
                  </a:lnTo>
                  <a:lnTo>
                    <a:pt x="21" y="1623"/>
                  </a:lnTo>
                  <a:lnTo>
                    <a:pt x="21" y="1628"/>
                  </a:lnTo>
                  <a:lnTo>
                    <a:pt x="21" y="1632"/>
                  </a:lnTo>
                  <a:lnTo>
                    <a:pt x="21" y="1637"/>
                  </a:lnTo>
                  <a:lnTo>
                    <a:pt x="21" y="1641"/>
                  </a:lnTo>
                  <a:lnTo>
                    <a:pt x="21" y="1646"/>
                  </a:lnTo>
                  <a:lnTo>
                    <a:pt x="21" y="1650"/>
                  </a:lnTo>
                  <a:lnTo>
                    <a:pt x="21" y="1655"/>
                  </a:lnTo>
                  <a:lnTo>
                    <a:pt x="21" y="1659"/>
                  </a:lnTo>
                  <a:lnTo>
                    <a:pt x="21" y="1664"/>
                  </a:lnTo>
                  <a:lnTo>
                    <a:pt x="21" y="1668"/>
                  </a:lnTo>
                  <a:lnTo>
                    <a:pt x="21" y="1673"/>
                  </a:lnTo>
                  <a:lnTo>
                    <a:pt x="21" y="1677"/>
                  </a:lnTo>
                  <a:lnTo>
                    <a:pt x="21" y="1682"/>
                  </a:lnTo>
                  <a:lnTo>
                    <a:pt x="21" y="1686"/>
                  </a:lnTo>
                  <a:lnTo>
                    <a:pt x="21" y="1691"/>
                  </a:lnTo>
                  <a:lnTo>
                    <a:pt x="21" y="1695"/>
                  </a:lnTo>
                  <a:lnTo>
                    <a:pt x="21" y="1700"/>
                  </a:lnTo>
                  <a:lnTo>
                    <a:pt x="21" y="1704"/>
                  </a:lnTo>
                  <a:lnTo>
                    <a:pt x="21" y="1709"/>
                  </a:lnTo>
                  <a:lnTo>
                    <a:pt x="21" y="1713"/>
                  </a:lnTo>
                  <a:lnTo>
                    <a:pt x="21" y="1718"/>
                  </a:lnTo>
                  <a:lnTo>
                    <a:pt x="21" y="1722"/>
                  </a:lnTo>
                  <a:lnTo>
                    <a:pt x="21" y="1727"/>
                  </a:lnTo>
                  <a:lnTo>
                    <a:pt x="21" y="1731"/>
                  </a:lnTo>
                  <a:lnTo>
                    <a:pt x="21" y="1736"/>
                  </a:lnTo>
                  <a:lnTo>
                    <a:pt x="19" y="1740"/>
                  </a:lnTo>
                  <a:lnTo>
                    <a:pt x="19" y="1745"/>
                  </a:lnTo>
                  <a:lnTo>
                    <a:pt x="19" y="1749"/>
                  </a:lnTo>
                  <a:lnTo>
                    <a:pt x="19" y="1754"/>
                  </a:lnTo>
                  <a:lnTo>
                    <a:pt x="19" y="1758"/>
                  </a:lnTo>
                  <a:lnTo>
                    <a:pt x="17" y="1763"/>
                  </a:lnTo>
                  <a:lnTo>
                    <a:pt x="17" y="1767"/>
                  </a:lnTo>
                  <a:lnTo>
                    <a:pt x="17" y="1772"/>
                  </a:lnTo>
                  <a:lnTo>
                    <a:pt x="17" y="1776"/>
                  </a:lnTo>
                  <a:lnTo>
                    <a:pt x="17" y="1781"/>
                  </a:lnTo>
                  <a:lnTo>
                    <a:pt x="17" y="1785"/>
                  </a:lnTo>
                  <a:lnTo>
                    <a:pt x="19" y="1790"/>
                  </a:lnTo>
                  <a:lnTo>
                    <a:pt x="17" y="1794"/>
                  </a:lnTo>
                  <a:lnTo>
                    <a:pt x="17" y="1799"/>
                  </a:lnTo>
                  <a:lnTo>
                    <a:pt x="17" y="1803"/>
                  </a:lnTo>
                  <a:lnTo>
                    <a:pt x="17" y="1808"/>
                  </a:lnTo>
                  <a:lnTo>
                    <a:pt x="17" y="1812"/>
                  </a:lnTo>
                  <a:lnTo>
                    <a:pt x="17" y="1817"/>
                  </a:lnTo>
                  <a:lnTo>
                    <a:pt x="17" y="1821"/>
                  </a:lnTo>
                  <a:lnTo>
                    <a:pt x="17" y="1826"/>
                  </a:lnTo>
                  <a:lnTo>
                    <a:pt x="17" y="1830"/>
                  </a:lnTo>
                  <a:lnTo>
                    <a:pt x="17" y="1835"/>
                  </a:lnTo>
                  <a:lnTo>
                    <a:pt x="17" y="1839"/>
                  </a:lnTo>
                  <a:lnTo>
                    <a:pt x="17" y="1844"/>
                  </a:lnTo>
                  <a:lnTo>
                    <a:pt x="17" y="1848"/>
                  </a:lnTo>
                  <a:lnTo>
                    <a:pt x="17" y="1853"/>
                  </a:lnTo>
                  <a:lnTo>
                    <a:pt x="17" y="1857"/>
                  </a:lnTo>
                  <a:lnTo>
                    <a:pt x="17" y="1862"/>
                  </a:lnTo>
                  <a:lnTo>
                    <a:pt x="15" y="1866"/>
                  </a:lnTo>
                  <a:lnTo>
                    <a:pt x="15" y="1871"/>
                  </a:lnTo>
                  <a:lnTo>
                    <a:pt x="15" y="1875"/>
                  </a:lnTo>
                  <a:lnTo>
                    <a:pt x="13" y="1880"/>
                  </a:lnTo>
                  <a:lnTo>
                    <a:pt x="10" y="1884"/>
                  </a:lnTo>
                  <a:lnTo>
                    <a:pt x="10" y="1889"/>
                  </a:lnTo>
                  <a:lnTo>
                    <a:pt x="10" y="1893"/>
                  </a:lnTo>
                  <a:lnTo>
                    <a:pt x="10" y="1898"/>
                  </a:lnTo>
                  <a:lnTo>
                    <a:pt x="10" y="1902"/>
                  </a:lnTo>
                  <a:lnTo>
                    <a:pt x="10" y="1907"/>
                  </a:lnTo>
                  <a:lnTo>
                    <a:pt x="13" y="1911"/>
                  </a:lnTo>
                  <a:lnTo>
                    <a:pt x="10" y="1916"/>
                  </a:lnTo>
                  <a:lnTo>
                    <a:pt x="13" y="1920"/>
                  </a:lnTo>
                  <a:lnTo>
                    <a:pt x="13" y="1925"/>
                  </a:lnTo>
                  <a:lnTo>
                    <a:pt x="13" y="1929"/>
                  </a:lnTo>
                  <a:lnTo>
                    <a:pt x="13" y="1934"/>
                  </a:lnTo>
                  <a:lnTo>
                    <a:pt x="13" y="1938"/>
                  </a:lnTo>
                  <a:lnTo>
                    <a:pt x="13" y="1943"/>
                  </a:lnTo>
                  <a:lnTo>
                    <a:pt x="13" y="1947"/>
                  </a:lnTo>
                  <a:lnTo>
                    <a:pt x="13" y="1952"/>
                  </a:lnTo>
                  <a:lnTo>
                    <a:pt x="13" y="1956"/>
                  </a:lnTo>
                  <a:lnTo>
                    <a:pt x="13" y="1961"/>
                  </a:lnTo>
                  <a:lnTo>
                    <a:pt x="13" y="1965"/>
                  </a:lnTo>
                  <a:lnTo>
                    <a:pt x="13" y="1970"/>
                  </a:lnTo>
                  <a:lnTo>
                    <a:pt x="13" y="1974"/>
                  </a:lnTo>
                  <a:lnTo>
                    <a:pt x="13" y="1979"/>
                  </a:lnTo>
                  <a:lnTo>
                    <a:pt x="13" y="1983"/>
                  </a:lnTo>
                  <a:lnTo>
                    <a:pt x="13" y="1988"/>
                  </a:lnTo>
                  <a:lnTo>
                    <a:pt x="10" y="1992"/>
                  </a:lnTo>
                  <a:lnTo>
                    <a:pt x="10" y="1997"/>
                  </a:lnTo>
                  <a:lnTo>
                    <a:pt x="10" y="2001"/>
                  </a:lnTo>
                  <a:lnTo>
                    <a:pt x="8" y="2006"/>
                  </a:lnTo>
                  <a:lnTo>
                    <a:pt x="8" y="2010"/>
                  </a:lnTo>
                  <a:lnTo>
                    <a:pt x="8" y="2015"/>
                  </a:lnTo>
                  <a:lnTo>
                    <a:pt x="10" y="2019"/>
                  </a:lnTo>
                  <a:lnTo>
                    <a:pt x="10" y="2024"/>
                  </a:lnTo>
                  <a:lnTo>
                    <a:pt x="8" y="2028"/>
                  </a:lnTo>
                  <a:lnTo>
                    <a:pt x="8" y="2033"/>
                  </a:lnTo>
                  <a:lnTo>
                    <a:pt x="8" y="2037"/>
                  </a:lnTo>
                  <a:lnTo>
                    <a:pt x="8" y="2042"/>
                  </a:lnTo>
                  <a:lnTo>
                    <a:pt x="10" y="2046"/>
                  </a:lnTo>
                  <a:lnTo>
                    <a:pt x="10" y="2051"/>
                  </a:lnTo>
                  <a:lnTo>
                    <a:pt x="10" y="2055"/>
                  </a:lnTo>
                  <a:lnTo>
                    <a:pt x="10" y="2060"/>
                  </a:lnTo>
                  <a:lnTo>
                    <a:pt x="10" y="2064"/>
                  </a:lnTo>
                  <a:lnTo>
                    <a:pt x="10" y="2069"/>
                  </a:lnTo>
                  <a:lnTo>
                    <a:pt x="10" y="2073"/>
                  </a:lnTo>
                  <a:lnTo>
                    <a:pt x="10" y="2078"/>
                  </a:lnTo>
                  <a:lnTo>
                    <a:pt x="10" y="2082"/>
                  </a:lnTo>
                  <a:lnTo>
                    <a:pt x="8" y="2087"/>
                  </a:lnTo>
                  <a:lnTo>
                    <a:pt x="8" y="2091"/>
                  </a:lnTo>
                  <a:lnTo>
                    <a:pt x="8" y="2096"/>
                  </a:lnTo>
                  <a:lnTo>
                    <a:pt x="8" y="2100"/>
                  </a:lnTo>
                  <a:lnTo>
                    <a:pt x="8" y="2105"/>
                  </a:lnTo>
                  <a:lnTo>
                    <a:pt x="6" y="2109"/>
                  </a:lnTo>
                  <a:lnTo>
                    <a:pt x="6" y="2114"/>
                  </a:lnTo>
                  <a:lnTo>
                    <a:pt x="8" y="2118"/>
                  </a:lnTo>
                  <a:lnTo>
                    <a:pt x="8" y="2123"/>
                  </a:lnTo>
                  <a:lnTo>
                    <a:pt x="8" y="2127"/>
                  </a:lnTo>
                  <a:lnTo>
                    <a:pt x="8" y="2132"/>
                  </a:lnTo>
                  <a:lnTo>
                    <a:pt x="8" y="2136"/>
                  </a:lnTo>
                  <a:lnTo>
                    <a:pt x="8" y="2141"/>
                  </a:lnTo>
                  <a:lnTo>
                    <a:pt x="8" y="2145"/>
                  </a:lnTo>
                  <a:lnTo>
                    <a:pt x="8" y="2150"/>
                  </a:lnTo>
                  <a:lnTo>
                    <a:pt x="8" y="2154"/>
                  </a:lnTo>
                  <a:lnTo>
                    <a:pt x="8" y="2159"/>
                  </a:lnTo>
                  <a:lnTo>
                    <a:pt x="8" y="2163"/>
                  </a:lnTo>
                  <a:lnTo>
                    <a:pt x="8" y="2168"/>
                  </a:lnTo>
                  <a:lnTo>
                    <a:pt x="8" y="2172"/>
                  </a:lnTo>
                  <a:lnTo>
                    <a:pt x="6" y="2177"/>
                  </a:lnTo>
                  <a:lnTo>
                    <a:pt x="6" y="2181"/>
                  </a:lnTo>
                  <a:lnTo>
                    <a:pt x="4" y="2186"/>
                  </a:lnTo>
                  <a:lnTo>
                    <a:pt x="6" y="2190"/>
                  </a:lnTo>
                  <a:lnTo>
                    <a:pt x="6" y="2195"/>
                  </a:lnTo>
                  <a:lnTo>
                    <a:pt x="6" y="2199"/>
                  </a:lnTo>
                  <a:lnTo>
                    <a:pt x="6" y="2204"/>
                  </a:lnTo>
                  <a:lnTo>
                    <a:pt x="6" y="2208"/>
                  </a:lnTo>
                  <a:lnTo>
                    <a:pt x="6" y="2213"/>
                  </a:lnTo>
                  <a:lnTo>
                    <a:pt x="6" y="2217"/>
                  </a:lnTo>
                  <a:lnTo>
                    <a:pt x="6" y="2222"/>
                  </a:lnTo>
                  <a:lnTo>
                    <a:pt x="6" y="2226"/>
                  </a:lnTo>
                  <a:lnTo>
                    <a:pt x="4" y="2231"/>
                  </a:lnTo>
                  <a:lnTo>
                    <a:pt x="4" y="2235"/>
                  </a:lnTo>
                  <a:lnTo>
                    <a:pt x="4" y="2240"/>
                  </a:lnTo>
                  <a:lnTo>
                    <a:pt x="4" y="2244"/>
                  </a:lnTo>
                  <a:lnTo>
                    <a:pt x="4" y="2249"/>
                  </a:lnTo>
                  <a:lnTo>
                    <a:pt x="4" y="2253"/>
                  </a:lnTo>
                  <a:lnTo>
                    <a:pt x="4" y="2258"/>
                  </a:lnTo>
                  <a:lnTo>
                    <a:pt x="4" y="2262"/>
                  </a:lnTo>
                  <a:lnTo>
                    <a:pt x="4" y="2267"/>
                  </a:lnTo>
                  <a:lnTo>
                    <a:pt x="4" y="2271"/>
                  </a:lnTo>
                  <a:lnTo>
                    <a:pt x="4" y="2276"/>
                  </a:lnTo>
                  <a:lnTo>
                    <a:pt x="4" y="2280"/>
                  </a:lnTo>
                  <a:lnTo>
                    <a:pt x="4" y="2285"/>
                  </a:lnTo>
                  <a:lnTo>
                    <a:pt x="4" y="2289"/>
                  </a:lnTo>
                  <a:lnTo>
                    <a:pt x="4" y="2294"/>
                  </a:lnTo>
                  <a:lnTo>
                    <a:pt x="2" y="2298"/>
                  </a:lnTo>
                  <a:lnTo>
                    <a:pt x="2" y="2303"/>
                  </a:lnTo>
                  <a:lnTo>
                    <a:pt x="2" y="2307"/>
                  </a:lnTo>
                  <a:lnTo>
                    <a:pt x="2" y="2312"/>
                  </a:lnTo>
                  <a:lnTo>
                    <a:pt x="2" y="2316"/>
                  </a:lnTo>
                  <a:lnTo>
                    <a:pt x="2" y="2321"/>
                  </a:lnTo>
                  <a:lnTo>
                    <a:pt x="2" y="2325"/>
                  </a:lnTo>
                  <a:lnTo>
                    <a:pt x="2" y="2330"/>
                  </a:lnTo>
                  <a:lnTo>
                    <a:pt x="2" y="2334"/>
                  </a:lnTo>
                  <a:lnTo>
                    <a:pt x="2" y="2339"/>
                  </a:lnTo>
                  <a:lnTo>
                    <a:pt x="0" y="2343"/>
                  </a:lnTo>
                  <a:lnTo>
                    <a:pt x="0" y="2348"/>
                  </a:lnTo>
                  <a:lnTo>
                    <a:pt x="0" y="2352"/>
                  </a:lnTo>
                  <a:lnTo>
                    <a:pt x="0" y="2357"/>
                  </a:lnTo>
                  <a:lnTo>
                    <a:pt x="0" y="2361"/>
                  </a:lnTo>
                  <a:lnTo>
                    <a:pt x="0" y="2366"/>
                  </a:lnTo>
                  <a:lnTo>
                    <a:pt x="2" y="2370"/>
                  </a:lnTo>
                  <a:lnTo>
                    <a:pt x="2" y="2375"/>
                  </a:lnTo>
                  <a:lnTo>
                    <a:pt x="2" y="2379"/>
                  </a:lnTo>
                  <a:lnTo>
                    <a:pt x="2" y="2384"/>
                  </a:lnTo>
                  <a:lnTo>
                    <a:pt x="2" y="2388"/>
                  </a:lnTo>
                  <a:lnTo>
                    <a:pt x="2" y="2393"/>
                  </a:lnTo>
                  <a:lnTo>
                    <a:pt x="2" y="2397"/>
                  </a:lnTo>
                  <a:lnTo>
                    <a:pt x="2" y="2402"/>
                  </a:lnTo>
                  <a:lnTo>
                    <a:pt x="2" y="2406"/>
                  </a:lnTo>
                  <a:lnTo>
                    <a:pt x="4" y="2411"/>
                  </a:lnTo>
                  <a:lnTo>
                    <a:pt x="4" y="2415"/>
                  </a:lnTo>
                  <a:lnTo>
                    <a:pt x="4" y="2420"/>
                  </a:lnTo>
                  <a:lnTo>
                    <a:pt x="4" y="2424"/>
                  </a:lnTo>
                  <a:lnTo>
                    <a:pt x="6" y="2429"/>
                  </a:lnTo>
                  <a:lnTo>
                    <a:pt x="6" y="2433"/>
                  </a:lnTo>
                  <a:lnTo>
                    <a:pt x="8" y="2438"/>
                  </a:lnTo>
                  <a:lnTo>
                    <a:pt x="13" y="2442"/>
                  </a:lnTo>
                  <a:lnTo>
                    <a:pt x="15" y="2447"/>
                  </a:lnTo>
                  <a:lnTo>
                    <a:pt x="17" y="2451"/>
                  </a:lnTo>
                  <a:lnTo>
                    <a:pt x="21" y="2456"/>
                  </a:lnTo>
                  <a:lnTo>
                    <a:pt x="23" y="2460"/>
                  </a:lnTo>
                  <a:lnTo>
                    <a:pt x="27" y="2465"/>
                  </a:lnTo>
                  <a:lnTo>
                    <a:pt x="32" y="2469"/>
                  </a:lnTo>
                  <a:lnTo>
                    <a:pt x="36" y="2474"/>
                  </a:lnTo>
                  <a:lnTo>
                    <a:pt x="49" y="2478"/>
                  </a:lnTo>
                  <a:lnTo>
                    <a:pt x="55" y="2483"/>
                  </a:lnTo>
                  <a:lnTo>
                    <a:pt x="64" y="2487"/>
                  </a:lnTo>
                  <a:lnTo>
                    <a:pt x="83" y="2492"/>
                  </a:lnTo>
                  <a:lnTo>
                    <a:pt x="98" y="2496"/>
                  </a:lnTo>
                  <a:lnTo>
                    <a:pt x="110" y="2501"/>
                  </a:lnTo>
                  <a:lnTo>
                    <a:pt x="127" y="2505"/>
                  </a:lnTo>
                  <a:lnTo>
                    <a:pt x="136" y="2510"/>
                  </a:lnTo>
                  <a:lnTo>
                    <a:pt x="144" y="2514"/>
                  </a:lnTo>
                  <a:lnTo>
                    <a:pt x="155" y="2519"/>
                  </a:lnTo>
                  <a:lnTo>
                    <a:pt x="157" y="2523"/>
                  </a:lnTo>
                  <a:lnTo>
                    <a:pt x="157" y="2528"/>
                  </a:lnTo>
                  <a:lnTo>
                    <a:pt x="159" y="2532"/>
                  </a:lnTo>
                  <a:lnTo>
                    <a:pt x="159" y="2537"/>
                  </a:lnTo>
                  <a:lnTo>
                    <a:pt x="161" y="2541"/>
                  </a:lnTo>
                  <a:lnTo>
                    <a:pt x="161" y="2546"/>
                  </a:lnTo>
                  <a:lnTo>
                    <a:pt x="161" y="2550"/>
                  </a:lnTo>
                  <a:lnTo>
                    <a:pt x="161" y="2555"/>
                  </a:lnTo>
                  <a:lnTo>
                    <a:pt x="161" y="2559"/>
                  </a:lnTo>
                  <a:lnTo>
                    <a:pt x="161" y="2564"/>
                  </a:lnTo>
                  <a:lnTo>
                    <a:pt x="161" y="2568"/>
                  </a:lnTo>
                  <a:lnTo>
                    <a:pt x="161" y="2573"/>
                  </a:lnTo>
                  <a:lnTo>
                    <a:pt x="161" y="2577"/>
                  </a:lnTo>
                  <a:lnTo>
                    <a:pt x="161" y="2582"/>
                  </a:lnTo>
                  <a:lnTo>
                    <a:pt x="159" y="2586"/>
                  </a:lnTo>
                  <a:lnTo>
                    <a:pt x="159" y="2591"/>
                  </a:lnTo>
                  <a:lnTo>
                    <a:pt x="161" y="2595"/>
                  </a:lnTo>
                  <a:lnTo>
                    <a:pt x="161" y="2600"/>
                  </a:lnTo>
                  <a:lnTo>
                    <a:pt x="161" y="2604"/>
                  </a:lnTo>
                  <a:lnTo>
                    <a:pt x="161" y="2609"/>
                  </a:ln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Freeform 292"/>
            <p:cNvSpPr/>
            <p:nvPr/>
          </p:nvSpPr>
          <p:spPr>
            <a:xfrm>
              <a:off x="2874960" y="2157480"/>
              <a:ext cx="272880" cy="4379760"/>
            </a:xfrm>
            <a:custGeom>
              <a:avLst/>
              <a:gdLst>
                <a:gd name="textAreaLeft" fmla="*/ 0 w 272880"/>
                <a:gd name="textAreaRight" fmla="*/ 273240 w 272880"/>
                <a:gd name="textAreaTop" fmla="*/ 0 h 4379760"/>
                <a:gd name="textAreaBottom" fmla="*/ 4380120 h 4379760"/>
              </a:gdLst>
              <a:ahLst/>
              <a:rect l="textAreaLeft" t="textAreaTop" r="textAreaRight" b="textAreaBottom"/>
              <a:pathLst>
                <a:path w="162" h="2582">
                  <a:moveTo>
                    <a:pt x="111" y="0"/>
                  </a:moveTo>
                  <a:lnTo>
                    <a:pt x="115" y="4"/>
                  </a:lnTo>
                  <a:lnTo>
                    <a:pt x="117" y="9"/>
                  </a:lnTo>
                  <a:lnTo>
                    <a:pt x="119" y="13"/>
                  </a:lnTo>
                  <a:lnTo>
                    <a:pt x="117" y="18"/>
                  </a:lnTo>
                  <a:lnTo>
                    <a:pt x="117" y="22"/>
                  </a:lnTo>
                  <a:lnTo>
                    <a:pt x="117" y="27"/>
                  </a:lnTo>
                  <a:lnTo>
                    <a:pt x="117" y="31"/>
                  </a:lnTo>
                  <a:lnTo>
                    <a:pt x="117" y="36"/>
                  </a:lnTo>
                  <a:lnTo>
                    <a:pt x="113" y="40"/>
                  </a:lnTo>
                  <a:lnTo>
                    <a:pt x="109" y="45"/>
                  </a:lnTo>
                  <a:lnTo>
                    <a:pt x="106" y="49"/>
                  </a:lnTo>
                  <a:lnTo>
                    <a:pt x="109" y="54"/>
                  </a:lnTo>
                  <a:lnTo>
                    <a:pt x="111" y="58"/>
                  </a:lnTo>
                  <a:lnTo>
                    <a:pt x="113" y="63"/>
                  </a:lnTo>
                  <a:lnTo>
                    <a:pt x="115" y="67"/>
                  </a:lnTo>
                  <a:lnTo>
                    <a:pt x="113" y="72"/>
                  </a:lnTo>
                  <a:lnTo>
                    <a:pt x="111" y="76"/>
                  </a:lnTo>
                  <a:lnTo>
                    <a:pt x="109" y="81"/>
                  </a:lnTo>
                  <a:lnTo>
                    <a:pt x="111" y="85"/>
                  </a:lnTo>
                  <a:lnTo>
                    <a:pt x="111" y="90"/>
                  </a:lnTo>
                  <a:lnTo>
                    <a:pt x="111" y="94"/>
                  </a:lnTo>
                  <a:lnTo>
                    <a:pt x="111" y="99"/>
                  </a:lnTo>
                  <a:lnTo>
                    <a:pt x="119" y="103"/>
                  </a:lnTo>
                  <a:lnTo>
                    <a:pt x="132" y="108"/>
                  </a:lnTo>
                  <a:lnTo>
                    <a:pt x="143" y="112"/>
                  </a:lnTo>
                  <a:lnTo>
                    <a:pt x="140" y="117"/>
                  </a:lnTo>
                  <a:lnTo>
                    <a:pt x="132" y="121"/>
                  </a:lnTo>
                  <a:lnTo>
                    <a:pt x="123" y="126"/>
                  </a:lnTo>
                  <a:lnTo>
                    <a:pt x="111" y="130"/>
                  </a:lnTo>
                  <a:lnTo>
                    <a:pt x="106" y="135"/>
                  </a:lnTo>
                  <a:lnTo>
                    <a:pt x="109" y="139"/>
                  </a:lnTo>
                  <a:lnTo>
                    <a:pt x="115" y="144"/>
                  </a:lnTo>
                  <a:lnTo>
                    <a:pt x="126" y="148"/>
                  </a:lnTo>
                  <a:lnTo>
                    <a:pt x="134" y="153"/>
                  </a:lnTo>
                  <a:lnTo>
                    <a:pt x="136" y="157"/>
                  </a:lnTo>
                  <a:lnTo>
                    <a:pt x="134" y="162"/>
                  </a:lnTo>
                  <a:lnTo>
                    <a:pt x="132" y="166"/>
                  </a:lnTo>
                  <a:lnTo>
                    <a:pt x="132" y="171"/>
                  </a:lnTo>
                  <a:lnTo>
                    <a:pt x="138" y="175"/>
                  </a:lnTo>
                  <a:lnTo>
                    <a:pt x="147" y="180"/>
                  </a:lnTo>
                  <a:lnTo>
                    <a:pt x="153" y="184"/>
                  </a:lnTo>
                  <a:lnTo>
                    <a:pt x="162" y="189"/>
                  </a:lnTo>
                  <a:lnTo>
                    <a:pt x="145" y="193"/>
                  </a:lnTo>
                  <a:lnTo>
                    <a:pt x="96" y="198"/>
                  </a:lnTo>
                  <a:lnTo>
                    <a:pt x="53" y="202"/>
                  </a:lnTo>
                  <a:lnTo>
                    <a:pt x="32" y="207"/>
                  </a:lnTo>
                  <a:lnTo>
                    <a:pt x="21" y="211"/>
                  </a:lnTo>
                  <a:lnTo>
                    <a:pt x="13" y="216"/>
                  </a:lnTo>
                  <a:lnTo>
                    <a:pt x="11" y="220"/>
                  </a:lnTo>
                  <a:lnTo>
                    <a:pt x="9" y="225"/>
                  </a:lnTo>
                  <a:lnTo>
                    <a:pt x="4" y="229"/>
                  </a:lnTo>
                  <a:lnTo>
                    <a:pt x="2" y="234"/>
                  </a:lnTo>
                  <a:lnTo>
                    <a:pt x="2" y="238"/>
                  </a:lnTo>
                  <a:lnTo>
                    <a:pt x="0" y="243"/>
                  </a:lnTo>
                  <a:lnTo>
                    <a:pt x="0" y="247"/>
                  </a:lnTo>
                  <a:lnTo>
                    <a:pt x="0" y="252"/>
                  </a:lnTo>
                  <a:lnTo>
                    <a:pt x="0" y="256"/>
                  </a:lnTo>
                  <a:lnTo>
                    <a:pt x="0" y="261"/>
                  </a:lnTo>
                  <a:lnTo>
                    <a:pt x="2" y="265"/>
                  </a:lnTo>
                  <a:lnTo>
                    <a:pt x="4" y="270"/>
                  </a:lnTo>
                  <a:lnTo>
                    <a:pt x="4" y="274"/>
                  </a:lnTo>
                  <a:lnTo>
                    <a:pt x="7" y="279"/>
                  </a:lnTo>
                  <a:lnTo>
                    <a:pt x="7" y="283"/>
                  </a:lnTo>
                  <a:lnTo>
                    <a:pt x="9" y="288"/>
                  </a:lnTo>
                  <a:lnTo>
                    <a:pt x="7" y="292"/>
                  </a:lnTo>
                  <a:lnTo>
                    <a:pt x="7" y="297"/>
                  </a:lnTo>
                  <a:lnTo>
                    <a:pt x="7" y="301"/>
                  </a:lnTo>
                  <a:lnTo>
                    <a:pt x="7" y="306"/>
                  </a:lnTo>
                  <a:lnTo>
                    <a:pt x="7" y="310"/>
                  </a:lnTo>
                  <a:lnTo>
                    <a:pt x="7" y="315"/>
                  </a:lnTo>
                  <a:lnTo>
                    <a:pt x="7" y="319"/>
                  </a:lnTo>
                  <a:lnTo>
                    <a:pt x="9" y="324"/>
                  </a:lnTo>
                  <a:lnTo>
                    <a:pt x="7" y="328"/>
                  </a:lnTo>
                  <a:lnTo>
                    <a:pt x="7" y="333"/>
                  </a:lnTo>
                  <a:lnTo>
                    <a:pt x="7" y="337"/>
                  </a:lnTo>
                  <a:lnTo>
                    <a:pt x="7" y="342"/>
                  </a:lnTo>
                  <a:lnTo>
                    <a:pt x="7" y="346"/>
                  </a:lnTo>
                  <a:lnTo>
                    <a:pt x="7" y="351"/>
                  </a:lnTo>
                  <a:lnTo>
                    <a:pt x="7" y="355"/>
                  </a:lnTo>
                  <a:lnTo>
                    <a:pt x="7" y="360"/>
                  </a:lnTo>
                  <a:lnTo>
                    <a:pt x="7" y="364"/>
                  </a:lnTo>
                  <a:lnTo>
                    <a:pt x="7" y="369"/>
                  </a:lnTo>
                  <a:lnTo>
                    <a:pt x="4" y="373"/>
                  </a:lnTo>
                  <a:lnTo>
                    <a:pt x="4" y="378"/>
                  </a:lnTo>
                  <a:lnTo>
                    <a:pt x="4" y="382"/>
                  </a:lnTo>
                  <a:lnTo>
                    <a:pt x="4" y="387"/>
                  </a:lnTo>
                  <a:lnTo>
                    <a:pt x="4" y="391"/>
                  </a:lnTo>
                  <a:lnTo>
                    <a:pt x="4" y="396"/>
                  </a:lnTo>
                  <a:lnTo>
                    <a:pt x="4" y="400"/>
                  </a:lnTo>
                  <a:lnTo>
                    <a:pt x="7" y="405"/>
                  </a:lnTo>
                  <a:lnTo>
                    <a:pt x="7" y="409"/>
                  </a:lnTo>
                  <a:lnTo>
                    <a:pt x="7" y="414"/>
                  </a:lnTo>
                  <a:lnTo>
                    <a:pt x="7" y="418"/>
                  </a:lnTo>
                  <a:lnTo>
                    <a:pt x="7" y="423"/>
                  </a:lnTo>
                  <a:lnTo>
                    <a:pt x="7" y="427"/>
                  </a:lnTo>
                  <a:lnTo>
                    <a:pt x="7" y="432"/>
                  </a:lnTo>
                  <a:lnTo>
                    <a:pt x="7" y="436"/>
                  </a:lnTo>
                  <a:lnTo>
                    <a:pt x="7" y="441"/>
                  </a:lnTo>
                  <a:lnTo>
                    <a:pt x="7" y="445"/>
                  </a:lnTo>
                  <a:lnTo>
                    <a:pt x="7" y="450"/>
                  </a:lnTo>
                  <a:lnTo>
                    <a:pt x="7" y="454"/>
                  </a:lnTo>
                  <a:lnTo>
                    <a:pt x="7" y="459"/>
                  </a:lnTo>
                  <a:lnTo>
                    <a:pt x="7" y="463"/>
                  </a:lnTo>
                  <a:lnTo>
                    <a:pt x="7" y="468"/>
                  </a:lnTo>
                  <a:lnTo>
                    <a:pt x="9" y="472"/>
                  </a:lnTo>
                  <a:lnTo>
                    <a:pt x="9" y="477"/>
                  </a:lnTo>
                  <a:lnTo>
                    <a:pt x="9" y="481"/>
                  </a:lnTo>
                  <a:lnTo>
                    <a:pt x="9" y="486"/>
                  </a:lnTo>
                  <a:lnTo>
                    <a:pt x="7" y="490"/>
                  </a:lnTo>
                  <a:lnTo>
                    <a:pt x="7" y="495"/>
                  </a:lnTo>
                  <a:lnTo>
                    <a:pt x="4" y="499"/>
                  </a:lnTo>
                  <a:lnTo>
                    <a:pt x="4" y="504"/>
                  </a:lnTo>
                  <a:lnTo>
                    <a:pt x="2" y="508"/>
                  </a:lnTo>
                  <a:lnTo>
                    <a:pt x="2" y="512"/>
                  </a:lnTo>
                  <a:lnTo>
                    <a:pt x="2" y="517"/>
                  </a:lnTo>
                  <a:lnTo>
                    <a:pt x="2" y="521"/>
                  </a:lnTo>
                  <a:lnTo>
                    <a:pt x="2" y="526"/>
                  </a:lnTo>
                  <a:lnTo>
                    <a:pt x="2" y="530"/>
                  </a:lnTo>
                  <a:lnTo>
                    <a:pt x="2" y="535"/>
                  </a:lnTo>
                  <a:lnTo>
                    <a:pt x="2" y="539"/>
                  </a:lnTo>
                  <a:lnTo>
                    <a:pt x="2" y="544"/>
                  </a:lnTo>
                  <a:lnTo>
                    <a:pt x="0" y="548"/>
                  </a:lnTo>
                  <a:lnTo>
                    <a:pt x="0" y="553"/>
                  </a:lnTo>
                  <a:lnTo>
                    <a:pt x="0" y="557"/>
                  </a:lnTo>
                  <a:lnTo>
                    <a:pt x="0" y="562"/>
                  </a:lnTo>
                  <a:lnTo>
                    <a:pt x="0" y="566"/>
                  </a:lnTo>
                  <a:lnTo>
                    <a:pt x="0" y="571"/>
                  </a:lnTo>
                  <a:lnTo>
                    <a:pt x="0" y="575"/>
                  </a:lnTo>
                  <a:lnTo>
                    <a:pt x="0" y="580"/>
                  </a:lnTo>
                  <a:lnTo>
                    <a:pt x="0" y="584"/>
                  </a:lnTo>
                  <a:lnTo>
                    <a:pt x="2" y="589"/>
                  </a:lnTo>
                  <a:lnTo>
                    <a:pt x="2" y="593"/>
                  </a:lnTo>
                  <a:lnTo>
                    <a:pt x="4" y="598"/>
                  </a:lnTo>
                  <a:lnTo>
                    <a:pt x="4" y="602"/>
                  </a:lnTo>
                  <a:lnTo>
                    <a:pt x="4" y="607"/>
                  </a:lnTo>
                  <a:lnTo>
                    <a:pt x="4" y="611"/>
                  </a:lnTo>
                  <a:lnTo>
                    <a:pt x="4" y="616"/>
                  </a:lnTo>
                  <a:lnTo>
                    <a:pt x="4" y="620"/>
                  </a:lnTo>
                  <a:lnTo>
                    <a:pt x="7" y="625"/>
                  </a:lnTo>
                  <a:lnTo>
                    <a:pt x="7" y="629"/>
                  </a:lnTo>
                  <a:lnTo>
                    <a:pt x="7" y="634"/>
                  </a:lnTo>
                  <a:lnTo>
                    <a:pt x="7" y="638"/>
                  </a:lnTo>
                  <a:lnTo>
                    <a:pt x="7" y="643"/>
                  </a:lnTo>
                  <a:lnTo>
                    <a:pt x="4" y="647"/>
                  </a:lnTo>
                  <a:lnTo>
                    <a:pt x="4" y="652"/>
                  </a:lnTo>
                  <a:lnTo>
                    <a:pt x="4" y="656"/>
                  </a:lnTo>
                  <a:lnTo>
                    <a:pt x="4" y="661"/>
                  </a:lnTo>
                  <a:lnTo>
                    <a:pt x="4" y="665"/>
                  </a:lnTo>
                  <a:lnTo>
                    <a:pt x="4" y="670"/>
                  </a:lnTo>
                  <a:lnTo>
                    <a:pt x="4" y="674"/>
                  </a:lnTo>
                  <a:lnTo>
                    <a:pt x="7" y="679"/>
                  </a:lnTo>
                  <a:lnTo>
                    <a:pt x="7" y="683"/>
                  </a:lnTo>
                  <a:lnTo>
                    <a:pt x="4" y="688"/>
                  </a:lnTo>
                  <a:lnTo>
                    <a:pt x="4" y="692"/>
                  </a:lnTo>
                  <a:lnTo>
                    <a:pt x="4" y="697"/>
                  </a:lnTo>
                  <a:lnTo>
                    <a:pt x="4" y="701"/>
                  </a:lnTo>
                  <a:lnTo>
                    <a:pt x="2" y="706"/>
                  </a:lnTo>
                  <a:lnTo>
                    <a:pt x="2" y="710"/>
                  </a:lnTo>
                  <a:lnTo>
                    <a:pt x="2" y="715"/>
                  </a:lnTo>
                  <a:lnTo>
                    <a:pt x="2" y="719"/>
                  </a:lnTo>
                  <a:lnTo>
                    <a:pt x="0" y="724"/>
                  </a:lnTo>
                  <a:lnTo>
                    <a:pt x="0" y="728"/>
                  </a:lnTo>
                  <a:lnTo>
                    <a:pt x="0" y="733"/>
                  </a:lnTo>
                  <a:lnTo>
                    <a:pt x="0" y="737"/>
                  </a:lnTo>
                  <a:lnTo>
                    <a:pt x="0" y="742"/>
                  </a:lnTo>
                  <a:lnTo>
                    <a:pt x="0" y="746"/>
                  </a:lnTo>
                  <a:lnTo>
                    <a:pt x="0" y="751"/>
                  </a:lnTo>
                  <a:lnTo>
                    <a:pt x="0" y="755"/>
                  </a:lnTo>
                  <a:lnTo>
                    <a:pt x="0" y="760"/>
                  </a:lnTo>
                  <a:lnTo>
                    <a:pt x="0" y="764"/>
                  </a:lnTo>
                  <a:lnTo>
                    <a:pt x="0" y="769"/>
                  </a:lnTo>
                  <a:lnTo>
                    <a:pt x="0" y="773"/>
                  </a:lnTo>
                  <a:lnTo>
                    <a:pt x="0" y="778"/>
                  </a:lnTo>
                  <a:lnTo>
                    <a:pt x="0" y="782"/>
                  </a:lnTo>
                  <a:lnTo>
                    <a:pt x="0" y="787"/>
                  </a:lnTo>
                  <a:lnTo>
                    <a:pt x="0" y="791"/>
                  </a:lnTo>
                  <a:lnTo>
                    <a:pt x="2" y="796"/>
                  </a:lnTo>
                  <a:lnTo>
                    <a:pt x="2" y="800"/>
                  </a:lnTo>
                  <a:lnTo>
                    <a:pt x="2" y="805"/>
                  </a:lnTo>
                  <a:lnTo>
                    <a:pt x="2" y="809"/>
                  </a:lnTo>
                  <a:lnTo>
                    <a:pt x="2" y="814"/>
                  </a:lnTo>
                  <a:lnTo>
                    <a:pt x="2" y="818"/>
                  </a:lnTo>
                  <a:lnTo>
                    <a:pt x="7" y="823"/>
                  </a:lnTo>
                  <a:lnTo>
                    <a:pt x="13" y="827"/>
                  </a:lnTo>
                  <a:lnTo>
                    <a:pt x="19" y="832"/>
                  </a:lnTo>
                  <a:lnTo>
                    <a:pt x="26" y="836"/>
                  </a:lnTo>
                  <a:lnTo>
                    <a:pt x="30" y="841"/>
                  </a:lnTo>
                  <a:lnTo>
                    <a:pt x="36" y="845"/>
                  </a:lnTo>
                  <a:lnTo>
                    <a:pt x="45" y="850"/>
                  </a:lnTo>
                  <a:lnTo>
                    <a:pt x="47" y="854"/>
                  </a:lnTo>
                  <a:lnTo>
                    <a:pt x="45" y="859"/>
                  </a:lnTo>
                  <a:lnTo>
                    <a:pt x="41" y="863"/>
                  </a:lnTo>
                  <a:lnTo>
                    <a:pt x="38" y="868"/>
                  </a:lnTo>
                  <a:lnTo>
                    <a:pt x="32" y="872"/>
                  </a:lnTo>
                  <a:lnTo>
                    <a:pt x="26" y="877"/>
                  </a:lnTo>
                  <a:lnTo>
                    <a:pt x="21" y="881"/>
                  </a:lnTo>
                  <a:lnTo>
                    <a:pt x="19" y="886"/>
                  </a:lnTo>
                  <a:lnTo>
                    <a:pt x="19" y="890"/>
                  </a:lnTo>
                  <a:lnTo>
                    <a:pt x="19" y="895"/>
                  </a:lnTo>
                  <a:lnTo>
                    <a:pt x="19" y="899"/>
                  </a:lnTo>
                  <a:lnTo>
                    <a:pt x="19" y="904"/>
                  </a:lnTo>
                  <a:lnTo>
                    <a:pt x="19" y="908"/>
                  </a:lnTo>
                  <a:lnTo>
                    <a:pt x="19" y="913"/>
                  </a:lnTo>
                  <a:lnTo>
                    <a:pt x="17" y="917"/>
                  </a:lnTo>
                  <a:lnTo>
                    <a:pt x="17" y="922"/>
                  </a:lnTo>
                  <a:lnTo>
                    <a:pt x="15" y="926"/>
                  </a:lnTo>
                  <a:lnTo>
                    <a:pt x="15" y="931"/>
                  </a:lnTo>
                  <a:lnTo>
                    <a:pt x="15" y="935"/>
                  </a:lnTo>
                  <a:lnTo>
                    <a:pt x="15" y="940"/>
                  </a:lnTo>
                  <a:lnTo>
                    <a:pt x="15" y="944"/>
                  </a:lnTo>
                  <a:lnTo>
                    <a:pt x="15" y="949"/>
                  </a:lnTo>
                  <a:lnTo>
                    <a:pt x="15" y="953"/>
                  </a:lnTo>
                  <a:lnTo>
                    <a:pt x="17" y="958"/>
                  </a:lnTo>
                  <a:lnTo>
                    <a:pt x="17" y="962"/>
                  </a:lnTo>
                  <a:lnTo>
                    <a:pt x="17" y="967"/>
                  </a:lnTo>
                  <a:lnTo>
                    <a:pt x="17" y="971"/>
                  </a:lnTo>
                  <a:lnTo>
                    <a:pt x="17" y="976"/>
                  </a:lnTo>
                  <a:lnTo>
                    <a:pt x="17" y="980"/>
                  </a:lnTo>
                  <a:lnTo>
                    <a:pt x="17" y="985"/>
                  </a:lnTo>
                  <a:lnTo>
                    <a:pt x="17" y="989"/>
                  </a:lnTo>
                  <a:lnTo>
                    <a:pt x="17" y="994"/>
                  </a:lnTo>
                  <a:lnTo>
                    <a:pt x="15" y="998"/>
                  </a:lnTo>
                  <a:lnTo>
                    <a:pt x="13" y="1003"/>
                  </a:lnTo>
                  <a:lnTo>
                    <a:pt x="13" y="1007"/>
                  </a:lnTo>
                  <a:lnTo>
                    <a:pt x="13" y="1012"/>
                  </a:lnTo>
                  <a:lnTo>
                    <a:pt x="13" y="1016"/>
                  </a:lnTo>
                  <a:lnTo>
                    <a:pt x="11" y="1021"/>
                  </a:lnTo>
                  <a:lnTo>
                    <a:pt x="11" y="1025"/>
                  </a:lnTo>
                  <a:lnTo>
                    <a:pt x="9" y="1030"/>
                  </a:lnTo>
                  <a:lnTo>
                    <a:pt x="9" y="1034"/>
                  </a:lnTo>
                  <a:lnTo>
                    <a:pt x="7" y="1039"/>
                  </a:lnTo>
                  <a:lnTo>
                    <a:pt x="7" y="1043"/>
                  </a:lnTo>
                  <a:lnTo>
                    <a:pt x="7" y="1048"/>
                  </a:lnTo>
                  <a:lnTo>
                    <a:pt x="9" y="1052"/>
                  </a:lnTo>
                  <a:lnTo>
                    <a:pt x="9" y="1057"/>
                  </a:lnTo>
                  <a:lnTo>
                    <a:pt x="9" y="1061"/>
                  </a:lnTo>
                  <a:lnTo>
                    <a:pt x="9" y="1066"/>
                  </a:lnTo>
                  <a:lnTo>
                    <a:pt x="11" y="1070"/>
                  </a:lnTo>
                  <a:lnTo>
                    <a:pt x="11" y="1075"/>
                  </a:lnTo>
                  <a:lnTo>
                    <a:pt x="11" y="1079"/>
                  </a:lnTo>
                  <a:lnTo>
                    <a:pt x="9" y="1084"/>
                  </a:lnTo>
                  <a:lnTo>
                    <a:pt x="9" y="1088"/>
                  </a:lnTo>
                  <a:lnTo>
                    <a:pt x="9" y="1093"/>
                  </a:lnTo>
                  <a:lnTo>
                    <a:pt x="9" y="1097"/>
                  </a:lnTo>
                  <a:lnTo>
                    <a:pt x="7" y="1102"/>
                  </a:lnTo>
                  <a:lnTo>
                    <a:pt x="7" y="1106"/>
                  </a:lnTo>
                  <a:lnTo>
                    <a:pt x="7" y="1111"/>
                  </a:lnTo>
                  <a:lnTo>
                    <a:pt x="4" y="1115"/>
                  </a:lnTo>
                  <a:lnTo>
                    <a:pt x="4" y="1120"/>
                  </a:lnTo>
                  <a:lnTo>
                    <a:pt x="4" y="1124"/>
                  </a:lnTo>
                  <a:lnTo>
                    <a:pt x="7" y="1129"/>
                  </a:lnTo>
                  <a:lnTo>
                    <a:pt x="7" y="1133"/>
                  </a:lnTo>
                  <a:lnTo>
                    <a:pt x="7" y="1138"/>
                  </a:lnTo>
                  <a:lnTo>
                    <a:pt x="7" y="1142"/>
                  </a:lnTo>
                  <a:lnTo>
                    <a:pt x="7" y="1147"/>
                  </a:lnTo>
                  <a:lnTo>
                    <a:pt x="9" y="1151"/>
                  </a:lnTo>
                  <a:lnTo>
                    <a:pt x="9" y="1156"/>
                  </a:lnTo>
                  <a:lnTo>
                    <a:pt x="11" y="1160"/>
                  </a:lnTo>
                  <a:lnTo>
                    <a:pt x="9" y="1165"/>
                  </a:lnTo>
                  <a:lnTo>
                    <a:pt x="9" y="1169"/>
                  </a:lnTo>
                  <a:lnTo>
                    <a:pt x="9" y="1174"/>
                  </a:lnTo>
                  <a:lnTo>
                    <a:pt x="9" y="1178"/>
                  </a:lnTo>
                  <a:lnTo>
                    <a:pt x="9" y="1183"/>
                  </a:lnTo>
                  <a:lnTo>
                    <a:pt x="11" y="1187"/>
                  </a:lnTo>
                  <a:lnTo>
                    <a:pt x="11" y="1192"/>
                  </a:lnTo>
                  <a:lnTo>
                    <a:pt x="11" y="1196"/>
                  </a:lnTo>
                  <a:lnTo>
                    <a:pt x="11" y="1201"/>
                  </a:lnTo>
                  <a:lnTo>
                    <a:pt x="11" y="1205"/>
                  </a:lnTo>
                  <a:lnTo>
                    <a:pt x="11" y="1210"/>
                  </a:lnTo>
                  <a:lnTo>
                    <a:pt x="9" y="1214"/>
                  </a:lnTo>
                  <a:lnTo>
                    <a:pt x="9" y="1219"/>
                  </a:lnTo>
                  <a:lnTo>
                    <a:pt x="9" y="1223"/>
                  </a:lnTo>
                  <a:lnTo>
                    <a:pt x="9" y="1228"/>
                  </a:lnTo>
                  <a:lnTo>
                    <a:pt x="9" y="1232"/>
                  </a:lnTo>
                  <a:lnTo>
                    <a:pt x="9" y="1237"/>
                  </a:lnTo>
                  <a:lnTo>
                    <a:pt x="9" y="1241"/>
                  </a:lnTo>
                  <a:lnTo>
                    <a:pt x="7" y="1246"/>
                  </a:lnTo>
                  <a:lnTo>
                    <a:pt x="7" y="1250"/>
                  </a:lnTo>
                  <a:lnTo>
                    <a:pt x="7" y="1255"/>
                  </a:lnTo>
                  <a:lnTo>
                    <a:pt x="9" y="1259"/>
                  </a:lnTo>
                  <a:lnTo>
                    <a:pt x="9" y="1264"/>
                  </a:lnTo>
                  <a:lnTo>
                    <a:pt x="11" y="1268"/>
                  </a:lnTo>
                  <a:lnTo>
                    <a:pt x="11" y="1273"/>
                  </a:lnTo>
                  <a:lnTo>
                    <a:pt x="11" y="1277"/>
                  </a:lnTo>
                  <a:lnTo>
                    <a:pt x="13" y="1282"/>
                  </a:lnTo>
                  <a:lnTo>
                    <a:pt x="13" y="1286"/>
                  </a:lnTo>
                  <a:lnTo>
                    <a:pt x="11" y="1291"/>
                  </a:lnTo>
                  <a:lnTo>
                    <a:pt x="11" y="1295"/>
                  </a:lnTo>
                  <a:lnTo>
                    <a:pt x="11" y="1300"/>
                  </a:lnTo>
                  <a:lnTo>
                    <a:pt x="11" y="1304"/>
                  </a:lnTo>
                  <a:lnTo>
                    <a:pt x="13" y="1309"/>
                  </a:lnTo>
                  <a:lnTo>
                    <a:pt x="11" y="1313"/>
                  </a:lnTo>
                  <a:lnTo>
                    <a:pt x="11" y="1318"/>
                  </a:lnTo>
                  <a:lnTo>
                    <a:pt x="11" y="1322"/>
                  </a:lnTo>
                  <a:lnTo>
                    <a:pt x="9" y="1327"/>
                  </a:lnTo>
                  <a:lnTo>
                    <a:pt x="9" y="1331"/>
                  </a:lnTo>
                  <a:lnTo>
                    <a:pt x="11" y="1336"/>
                  </a:lnTo>
                  <a:lnTo>
                    <a:pt x="13" y="1340"/>
                  </a:lnTo>
                  <a:lnTo>
                    <a:pt x="15" y="1345"/>
                  </a:lnTo>
                  <a:lnTo>
                    <a:pt x="15" y="1349"/>
                  </a:lnTo>
                  <a:lnTo>
                    <a:pt x="15" y="1354"/>
                  </a:lnTo>
                  <a:lnTo>
                    <a:pt x="15" y="1358"/>
                  </a:lnTo>
                  <a:lnTo>
                    <a:pt x="15" y="1363"/>
                  </a:lnTo>
                  <a:lnTo>
                    <a:pt x="15" y="1367"/>
                  </a:lnTo>
                  <a:lnTo>
                    <a:pt x="15" y="1372"/>
                  </a:lnTo>
                  <a:lnTo>
                    <a:pt x="13" y="1376"/>
                  </a:lnTo>
                  <a:lnTo>
                    <a:pt x="13" y="1381"/>
                  </a:lnTo>
                  <a:lnTo>
                    <a:pt x="13" y="1385"/>
                  </a:lnTo>
                  <a:lnTo>
                    <a:pt x="13" y="1390"/>
                  </a:lnTo>
                  <a:lnTo>
                    <a:pt x="13" y="1394"/>
                  </a:lnTo>
                  <a:lnTo>
                    <a:pt x="13" y="1399"/>
                  </a:lnTo>
                  <a:lnTo>
                    <a:pt x="13" y="1403"/>
                  </a:lnTo>
                  <a:lnTo>
                    <a:pt x="13" y="1408"/>
                  </a:lnTo>
                  <a:lnTo>
                    <a:pt x="13" y="1412"/>
                  </a:lnTo>
                  <a:lnTo>
                    <a:pt x="13" y="1417"/>
                  </a:lnTo>
                  <a:lnTo>
                    <a:pt x="11" y="1421"/>
                  </a:lnTo>
                  <a:lnTo>
                    <a:pt x="9" y="1426"/>
                  </a:lnTo>
                  <a:lnTo>
                    <a:pt x="9" y="1430"/>
                  </a:lnTo>
                  <a:lnTo>
                    <a:pt x="7" y="1435"/>
                  </a:lnTo>
                  <a:lnTo>
                    <a:pt x="9" y="1439"/>
                  </a:lnTo>
                  <a:lnTo>
                    <a:pt x="9" y="1444"/>
                  </a:lnTo>
                  <a:lnTo>
                    <a:pt x="9" y="1448"/>
                  </a:lnTo>
                  <a:lnTo>
                    <a:pt x="11" y="1453"/>
                  </a:lnTo>
                  <a:lnTo>
                    <a:pt x="11" y="1457"/>
                  </a:lnTo>
                  <a:lnTo>
                    <a:pt x="11" y="1462"/>
                  </a:lnTo>
                  <a:lnTo>
                    <a:pt x="13" y="1466"/>
                  </a:lnTo>
                  <a:lnTo>
                    <a:pt x="13" y="1471"/>
                  </a:lnTo>
                  <a:lnTo>
                    <a:pt x="13" y="1475"/>
                  </a:lnTo>
                  <a:lnTo>
                    <a:pt x="13" y="1480"/>
                  </a:lnTo>
                  <a:lnTo>
                    <a:pt x="13" y="1484"/>
                  </a:lnTo>
                  <a:lnTo>
                    <a:pt x="13" y="1489"/>
                  </a:lnTo>
                  <a:lnTo>
                    <a:pt x="11" y="1493"/>
                  </a:lnTo>
                  <a:lnTo>
                    <a:pt x="11" y="1498"/>
                  </a:lnTo>
                  <a:lnTo>
                    <a:pt x="11" y="1502"/>
                  </a:lnTo>
                  <a:lnTo>
                    <a:pt x="11" y="1507"/>
                  </a:lnTo>
                  <a:lnTo>
                    <a:pt x="11" y="1511"/>
                  </a:lnTo>
                  <a:lnTo>
                    <a:pt x="11" y="1516"/>
                  </a:lnTo>
                  <a:lnTo>
                    <a:pt x="13" y="1520"/>
                  </a:lnTo>
                  <a:lnTo>
                    <a:pt x="15" y="1525"/>
                  </a:lnTo>
                  <a:lnTo>
                    <a:pt x="13" y="1529"/>
                  </a:lnTo>
                  <a:lnTo>
                    <a:pt x="11" y="1534"/>
                  </a:lnTo>
                  <a:lnTo>
                    <a:pt x="9" y="1538"/>
                  </a:lnTo>
                  <a:lnTo>
                    <a:pt x="9" y="1543"/>
                  </a:lnTo>
                  <a:lnTo>
                    <a:pt x="9" y="1547"/>
                  </a:lnTo>
                  <a:lnTo>
                    <a:pt x="9" y="1552"/>
                  </a:lnTo>
                  <a:lnTo>
                    <a:pt x="9" y="1556"/>
                  </a:lnTo>
                  <a:lnTo>
                    <a:pt x="9" y="1560"/>
                  </a:lnTo>
                  <a:lnTo>
                    <a:pt x="7" y="1565"/>
                  </a:lnTo>
                  <a:lnTo>
                    <a:pt x="7" y="1569"/>
                  </a:lnTo>
                  <a:lnTo>
                    <a:pt x="7" y="1574"/>
                  </a:lnTo>
                  <a:lnTo>
                    <a:pt x="9" y="1578"/>
                  </a:lnTo>
                  <a:lnTo>
                    <a:pt x="9" y="1583"/>
                  </a:lnTo>
                  <a:lnTo>
                    <a:pt x="9" y="1587"/>
                  </a:lnTo>
                  <a:lnTo>
                    <a:pt x="9" y="1592"/>
                  </a:lnTo>
                  <a:lnTo>
                    <a:pt x="9" y="1596"/>
                  </a:lnTo>
                  <a:lnTo>
                    <a:pt x="9" y="1601"/>
                  </a:lnTo>
                  <a:lnTo>
                    <a:pt x="9" y="1605"/>
                  </a:lnTo>
                  <a:lnTo>
                    <a:pt x="11" y="1610"/>
                  </a:lnTo>
                  <a:lnTo>
                    <a:pt x="11" y="1614"/>
                  </a:lnTo>
                  <a:lnTo>
                    <a:pt x="11" y="1619"/>
                  </a:lnTo>
                  <a:lnTo>
                    <a:pt x="13" y="1623"/>
                  </a:lnTo>
                  <a:lnTo>
                    <a:pt x="13" y="1628"/>
                  </a:lnTo>
                  <a:lnTo>
                    <a:pt x="11" y="1632"/>
                  </a:lnTo>
                  <a:lnTo>
                    <a:pt x="11" y="1637"/>
                  </a:lnTo>
                  <a:lnTo>
                    <a:pt x="11" y="1641"/>
                  </a:lnTo>
                  <a:lnTo>
                    <a:pt x="11" y="1646"/>
                  </a:lnTo>
                  <a:lnTo>
                    <a:pt x="11" y="1650"/>
                  </a:lnTo>
                  <a:lnTo>
                    <a:pt x="11" y="1655"/>
                  </a:lnTo>
                  <a:lnTo>
                    <a:pt x="11" y="1659"/>
                  </a:lnTo>
                  <a:lnTo>
                    <a:pt x="11" y="1664"/>
                  </a:lnTo>
                  <a:lnTo>
                    <a:pt x="9" y="1668"/>
                  </a:lnTo>
                  <a:lnTo>
                    <a:pt x="9" y="1673"/>
                  </a:lnTo>
                  <a:lnTo>
                    <a:pt x="9" y="1677"/>
                  </a:lnTo>
                  <a:lnTo>
                    <a:pt x="9" y="1682"/>
                  </a:lnTo>
                  <a:lnTo>
                    <a:pt x="9" y="1686"/>
                  </a:lnTo>
                  <a:lnTo>
                    <a:pt x="9" y="1691"/>
                  </a:lnTo>
                  <a:lnTo>
                    <a:pt x="9" y="1695"/>
                  </a:lnTo>
                  <a:lnTo>
                    <a:pt x="9" y="1700"/>
                  </a:lnTo>
                  <a:lnTo>
                    <a:pt x="9" y="1704"/>
                  </a:lnTo>
                  <a:lnTo>
                    <a:pt x="9" y="1709"/>
                  </a:lnTo>
                  <a:lnTo>
                    <a:pt x="9" y="1713"/>
                  </a:lnTo>
                  <a:lnTo>
                    <a:pt x="11" y="1718"/>
                  </a:lnTo>
                  <a:lnTo>
                    <a:pt x="11" y="1722"/>
                  </a:lnTo>
                  <a:lnTo>
                    <a:pt x="11" y="1727"/>
                  </a:lnTo>
                  <a:lnTo>
                    <a:pt x="11" y="1731"/>
                  </a:lnTo>
                  <a:lnTo>
                    <a:pt x="11" y="1736"/>
                  </a:lnTo>
                  <a:lnTo>
                    <a:pt x="11" y="1740"/>
                  </a:lnTo>
                  <a:lnTo>
                    <a:pt x="11" y="1745"/>
                  </a:lnTo>
                  <a:lnTo>
                    <a:pt x="11" y="1749"/>
                  </a:lnTo>
                  <a:lnTo>
                    <a:pt x="9" y="1754"/>
                  </a:lnTo>
                  <a:lnTo>
                    <a:pt x="9" y="1758"/>
                  </a:lnTo>
                  <a:lnTo>
                    <a:pt x="9" y="1763"/>
                  </a:lnTo>
                  <a:lnTo>
                    <a:pt x="9" y="1767"/>
                  </a:lnTo>
                  <a:lnTo>
                    <a:pt x="9" y="1772"/>
                  </a:lnTo>
                  <a:lnTo>
                    <a:pt x="9" y="1776"/>
                  </a:lnTo>
                  <a:lnTo>
                    <a:pt x="9" y="1781"/>
                  </a:lnTo>
                  <a:lnTo>
                    <a:pt x="9" y="1785"/>
                  </a:lnTo>
                  <a:lnTo>
                    <a:pt x="11" y="1790"/>
                  </a:lnTo>
                  <a:lnTo>
                    <a:pt x="13" y="1794"/>
                  </a:lnTo>
                  <a:lnTo>
                    <a:pt x="13" y="1799"/>
                  </a:lnTo>
                  <a:lnTo>
                    <a:pt x="11" y="1803"/>
                  </a:lnTo>
                  <a:lnTo>
                    <a:pt x="11" y="1808"/>
                  </a:lnTo>
                  <a:lnTo>
                    <a:pt x="11" y="1812"/>
                  </a:lnTo>
                  <a:lnTo>
                    <a:pt x="11" y="1817"/>
                  </a:lnTo>
                  <a:lnTo>
                    <a:pt x="11" y="1821"/>
                  </a:lnTo>
                  <a:lnTo>
                    <a:pt x="11" y="1826"/>
                  </a:lnTo>
                  <a:lnTo>
                    <a:pt x="11" y="1830"/>
                  </a:lnTo>
                  <a:lnTo>
                    <a:pt x="11" y="1835"/>
                  </a:lnTo>
                  <a:lnTo>
                    <a:pt x="11" y="1839"/>
                  </a:lnTo>
                  <a:lnTo>
                    <a:pt x="9" y="1844"/>
                  </a:lnTo>
                  <a:lnTo>
                    <a:pt x="9" y="1848"/>
                  </a:lnTo>
                  <a:lnTo>
                    <a:pt x="9" y="1853"/>
                  </a:lnTo>
                  <a:lnTo>
                    <a:pt x="9" y="1857"/>
                  </a:lnTo>
                  <a:lnTo>
                    <a:pt x="9" y="1862"/>
                  </a:lnTo>
                  <a:lnTo>
                    <a:pt x="9" y="1866"/>
                  </a:lnTo>
                  <a:lnTo>
                    <a:pt x="9" y="1871"/>
                  </a:lnTo>
                  <a:lnTo>
                    <a:pt x="9" y="1875"/>
                  </a:lnTo>
                  <a:lnTo>
                    <a:pt x="9" y="1880"/>
                  </a:lnTo>
                  <a:lnTo>
                    <a:pt x="9" y="1884"/>
                  </a:lnTo>
                  <a:lnTo>
                    <a:pt x="9" y="1889"/>
                  </a:lnTo>
                  <a:lnTo>
                    <a:pt x="9" y="1893"/>
                  </a:lnTo>
                  <a:lnTo>
                    <a:pt x="9" y="1898"/>
                  </a:lnTo>
                  <a:lnTo>
                    <a:pt x="9" y="1902"/>
                  </a:lnTo>
                  <a:lnTo>
                    <a:pt x="9" y="1907"/>
                  </a:lnTo>
                  <a:lnTo>
                    <a:pt x="11" y="1911"/>
                  </a:lnTo>
                  <a:lnTo>
                    <a:pt x="11" y="1916"/>
                  </a:lnTo>
                  <a:lnTo>
                    <a:pt x="11" y="1920"/>
                  </a:lnTo>
                  <a:lnTo>
                    <a:pt x="11" y="1925"/>
                  </a:lnTo>
                  <a:lnTo>
                    <a:pt x="11" y="1929"/>
                  </a:lnTo>
                  <a:lnTo>
                    <a:pt x="11" y="1934"/>
                  </a:lnTo>
                  <a:lnTo>
                    <a:pt x="11" y="1938"/>
                  </a:lnTo>
                  <a:lnTo>
                    <a:pt x="11" y="1943"/>
                  </a:lnTo>
                  <a:lnTo>
                    <a:pt x="11" y="1947"/>
                  </a:lnTo>
                  <a:lnTo>
                    <a:pt x="11" y="1952"/>
                  </a:lnTo>
                  <a:lnTo>
                    <a:pt x="11" y="1956"/>
                  </a:lnTo>
                  <a:lnTo>
                    <a:pt x="11" y="1961"/>
                  </a:lnTo>
                  <a:lnTo>
                    <a:pt x="11" y="1965"/>
                  </a:lnTo>
                  <a:lnTo>
                    <a:pt x="11" y="1970"/>
                  </a:lnTo>
                  <a:lnTo>
                    <a:pt x="11" y="1974"/>
                  </a:lnTo>
                  <a:lnTo>
                    <a:pt x="11" y="1979"/>
                  </a:lnTo>
                  <a:lnTo>
                    <a:pt x="11" y="1983"/>
                  </a:lnTo>
                  <a:lnTo>
                    <a:pt x="11" y="1988"/>
                  </a:lnTo>
                  <a:lnTo>
                    <a:pt x="11" y="1992"/>
                  </a:lnTo>
                  <a:lnTo>
                    <a:pt x="11" y="1997"/>
                  </a:lnTo>
                  <a:lnTo>
                    <a:pt x="11" y="2001"/>
                  </a:lnTo>
                  <a:lnTo>
                    <a:pt x="11" y="2006"/>
                  </a:lnTo>
                  <a:lnTo>
                    <a:pt x="11" y="2010"/>
                  </a:lnTo>
                  <a:lnTo>
                    <a:pt x="11" y="2015"/>
                  </a:lnTo>
                  <a:lnTo>
                    <a:pt x="11" y="2019"/>
                  </a:lnTo>
                  <a:lnTo>
                    <a:pt x="11" y="2024"/>
                  </a:lnTo>
                  <a:lnTo>
                    <a:pt x="11" y="2028"/>
                  </a:lnTo>
                  <a:lnTo>
                    <a:pt x="11" y="2033"/>
                  </a:lnTo>
                  <a:lnTo>
                    <a:pt x="11" y="2037"/>
                  </a:lnTo>
                  <a:lnTo>
                    <a:pt x="11" y="2042"/>
                  </a:lnTo>
                  <a:lnTo>
                    <a:pt x="11" y="2046"/>
                  </a:lnTo>
                  <a:lnTo>
                    <a:pt x="11" y="2051"/>
                  </a:lnTo>
                  <a:lnTo>
                    <a:pt x="11" y="2055"/>
                  </a:lnTo>
                  <a:lnTo>
                    <a:pt x="11" y="2060"/>
                  </a:lnTo>
                  <a:lnTo>
                    <a:pt x="11" y="2064"/>
                  </a:lnTo>
                  <a:lnTo>
                    <a:pt x="11" y="2069"/>
                  </a:lnTo>
                  <a:lnTo>
                    <a:pt x="11" y="2073"/>
                  </a:lnTo>
                  <a:lnTo>
                    <a:pt x="11" y="2078"/>
                  </a:lnTo>
                  <a:lnTo>
                    <a:pt x="11" y="2082"/>
                  </a:lnTo>
                  <a:lnTo>
                    <a:pt x="11" y="2087"/>
                  </a:lnTo>
                  <a:lnTo>
                    <a:pt x="9" y="2091"/>
                  </a:lnTo>
                  <a:lnTo>
                    <a:pt x="9" y="2096"/>
                  </a:lnTo>
                  <a:lnTo>
                    <a:pt x="9" y="2100"/>
                  </a:lnTo>
                  <a:lnTo>
                    <a:pt x="9" y="2105"/>
                  </a:lnTo>
                  <a:lnTo>
                    <a:pt x="11" y="2109"/>
                  </a:lnTo>
                  <a:lnTo>
                    <a:pt x="11" y="2114"/>
                  </a:lnTo>
                  <a:lnTo>
                    <a:pt x="13" y="2118"/>
                  </a:lnTo>
                  <a:lnTo>
                    <a:pt x="13" y="2123"/>
                  </a:lnTo>
                  <a:lnTo>
                    <a:pt x="11" y="2127"/>
                  </a:lnTo>
                  <a:lnTo>
                    <a:pt x="11" y="2132"/>
                  </a:lnTo>
                  <a:lnTo>
                    <a:pt x="11" y="2136"/>
                  </a:lnTo>
                  <a:lnTo>
                    <a:pt x="11" y="2141"/>
                  </a:lnTo>
                  <a:lnTo>
                    <a:pt x="11" y="2145"/>
                  </a:lnTo>
                  <a:lnTo>
                    <a:pt x="11" y="2150"/>
                  </a:lnTo>
                  <a:lnTo>
                    <a:pt x="13" y="2154"/>
                  </a:lnTo>
                  <a:lnTo>
                    <a:pt x="15" y="2159"/>
                  </a:lnTo>
                  <a:lnTo>
                    <a:pt x="17" y="2163"/>
                  </a:lnTo>
                  <a:lnTo>
                    <a:pt x="17" y="2168"/>
                  </a:lnTo>
                  <a:lnTo>
                    <a:pt x="15" y="2172"/>
                  </a:lnTo>
                  <a:lnTo>
                    <a:pt x="15" y="2177"/>
                  </a:lnTo>
                  <a:lnTo>
                    <a:pt x="13" y="2181"/>
                  </a:lnTo>
                  <a:lnTo>
                    <a:pt x="13" y="2186"/>
                  </a:lnTo>
                  <a:lnTo>
                    <a:pt x="15" y="2190"/>
                  </a:lnTo>
                  <a:lnTo>
                    <a:pt x="15" y="2195"/>
                  </a:lnTo>
                  <a:lnTo>
                    <a:pt x="15" y="2199"/>
                  </a:lnTo>
                  <a:lnTo>
                    <a:pt x="15" y="2204"/>
                  </a:lnTo>
                  <a:lnTo>
                    <a:pt x="15" y="2208"/>
                  </a:lnTo>
                  <a:lnTo>
                    <a:pt x="17" y="2213"/>
                  </a:lnTo>
                  <a:lnTo>
                    <a:pt x="17" y="2217"/>
                  </a:lnTo>
                  <a:lnTo>
                    <a:pt x="17" y="2222"/>
                  </a:lnTo>
                  <a:lnTo>
                    <a:pt x="15" y="2226"/>
                  </a:lnTo>
                  <a:lnTo>
                    <a:pt x="15" y="2231"/>
                  </a:lnTo>
                  <a:lnTo>
                    <a:pt x="15" y="2235"/>
                  </a:lnTo>
                  <a:lnTo>
                    <a:pt x="15" y="2240"/>
                  </a:lnTo>
                  <a:lnTo>
                    <a:pt x="15" y="2244"/>
                  </a:lnTo>
                  <a:lnTo>
                    <a:pt x="15" y="2249"/>
                  </a:lnTo>
                  <a:lnTo>
                    <a:pt x="15" y="2253"/>
                  </a:lnTo>
                  <a:lnTo>
                    <a:pt x="15" y="2258"/>
                  </a:lnTo>
                  <a:lnTo>
                    <a:pt x="15" y="2262"/>
                  </a:lnTo>
                  <a:lnTo>
                    <a:pt x="15" y="2267"/>
                  </a:lnTo>
                  <a:lnTo>
                    <a:pt x="15" y="2271"/>
                  </a:lnTo>
                  <a:lnTo>
                    <a:pt x="15" y="2276"/>
                  </a:lnTo>
                  <a:lnTo>
                    <a:pt x="13" y="2280"/>
                  </a:lnTo>
                  <a:lnTo>
                    <a:pt x="13" y="2285"/>
                  </a:lnTo>
                  <a:lnTo>
                    <a:pt x="13" y="2289"/>
                  </a:lnTo>
                  <a:lnTo>
                    <a:pt x="13" y="2294"/>
                  </a:lnTo>
                  <a:lnTo>
                    <a:pt x="13" y="2298"/>
                  </a:lnTo>
                  <a:lnTo>
                    <a:pt x="13" y="2303"/>
                  </a:lnTo>
                  <a:lnTo>
                    <a:pt x="13" y="2307"/>
                  </a:lnTo>
                  <a:lnTo>
                    <a:pt x="11" y="2312"/>
                  </a:lnTo>
                  <a:lnTo>
                    <a:pt x="11" y="2316"/>
                  </a:lnTo>
                  <a:lnTo>
                    <a:pt x="11" y="2321"/>
                  </a:lnTo>
                  <a:lnTo>
                    <a:pt x="11" y="2325"/>
                  </a:lnTo>
                  <a:lnTo>
                    <a:pt x="11" y="2330"/>
                  </a:lnTo>
                  <a:lnTo>
                    <a:pt x="11" y="2334"/>
                  </a:lnTo>
                  <a:lnTo>
                    <a:pt x="13" y="2339"/>
                  </a:lnTo>
                  <a:lnTo>
                    <a:pt x="13" y="2343"/>
                  </a:lnTo>
                  <a:lnTo>
                    <a:pt x="15" y="2348"/>
                  </a:lnTo>
                  <a:lnTo>
                    <a:pt x="15" y="2352"/>
                  </a:lnTo>
                  <a:lnTo>
                    <a:pt x="15" y="2357"/>
                  </a:lnTo>
                  <a:lnTo>
                    <a:pt x="15" y="2361"/>
                  </a:lnTo>
                  <a:lnTo>
                    <a:pt x="15" y="2366"/>
                  </a:lnTo>
                  <a:lnTo>
                    <a:pt x="15" y="2370"/>
                  </a:lnTo>
                  <a:lnTo>
                    <a:pt x="15" y="2375"/>
                  </a:lnTo>
                  <a:lnTo>
                    <a:pt x="15" y="2379"/>
                  </a:lnTo>
                  <a:lnTo>
                    <a:pt x="15" y="2384"/>
                  </a:lnTo>
                  <a:lnTo>
                    <a:pt x="15" y="2388"/>
                  </a:lnTo>
                  <a:lnTo>
                    <a:pt x="15" y="2393"/>
                  </a:lnTo>
                  <a:lnTo>
                    <a:pt x="15" y="2397"/>
                  </a:lnTo>
                  <a:lnTo>
                    <a:pt x="15" y="2402"/>
                  </a:lnTo>
                  <a:lnTo>
                    <a:pt x="13" y="2406"/>
                  </a:lnTo>
                  <a:lnTo>
                    <a:pt x="13" y="2411"/>
                  </a:lnTo>
                  <a:lnTo>
                    <a:pt x="11" y="2415"/>
                  </a:lnTo>
                  <a:lnTo>
                    <a:pt x="11" y="2420"/>
                  </a:lnTo>
                  <a:lnTo>
                    <a:pt x="11" y="2424"/>
                  </a:lnTo>
                  <a:lnTo>
                    <a:pt x="11" y="2429"/>
                  </a:lnTo>
                  <a:lnTo>
                    <a:pt x="11" y="2433"/>
                  </a:lnTo>
                  <a:lnTo>
                    <a:pt x="11" y="2438"/>
                  </a:lnTo>
                  <a:lnTo>
                    <a:pt x="11" y="2442"/>
                  </a:lnTo>
                  <a:lnTo>
                    <a:pt x="11" y="2447"/>
                  </a:lnTo>
                  <a:lnTo>
                    <a:pt x="11" y="2451"/>
                  </a:lnTo>
                  <a:lnTo>
                    <a:pt x="13" y="2456"/>
                  </a:lnTo>
                  <a:lnTo>
                    <a:pt x="15" y="2460"/>
                  </a:lnTo>
                  <a:lnTo>
                    <a:pt x="21" y="2465"/>
                  </a:lnTo>
                  <a:lnTo>
                    <a:pt x="30" y="2469"/>
                  </a:lnTo>
                  <a:lnTo>
                    <a:pt x="36" y="2474"/>
                  </a:lnTo>
                  <a:lnTo>
                    <a:pt x="41" y="2478"/>
                  </a:lnTo>
                  <a:lnTo>
                    <a:pt x="47" y="2483"/>
                  </a:lnTo>
                  <a:lnTo>
                    <a:pt x="58" y="2487"/>
                  </a:lnTo>
                  <a:lnTo>
                    <a:pt x="68" y="2492"/>
                  </a:lnTo>
                  <a:lnTo>
                    <a:pt x="72" y="2496"/>
                  </a:lnTo>
                  <a:lnTo>
                    <a:pt x="66" y="2501"/>
                  </a:lnTo>
                  <a:lnTo>
                    <a:pt x="60" y="2505"/>
                  </a:lnTo>
                  <a:lnTo>
                    <a:pt x="51" y="2510"/>
                  </a:lnTo>
                  <a:lnTo>
                    <a:pt x="49" y="2514"/>
                  </a:lnTo>
                  <a:lnTo>
                    <a:pt x="60" y="2519"/>
                  </a:lnTo>
                  <a:lnTo>
                    <a:pt x="77" y="2523"/>
                  </a:lnTo>
                  <a:lnTo>
                    <a:pt x="94" y="2528"/>
                  </a:lnTo>
                  <a:lnTo>
                    <a:pt x="106" y="2532"/>
                  </a:lnTo>
                  <a:lnTo>
                    <a:pt x="119" y="2537"/>
                  </a:lnTo>
                  <a:lnTo>
                    <a:pt x="117" y="2541"/>
                  </a:lnTo>
                  <a:lnTo>
                    <a:pt x="102" y="2546"/>
                  </a:lnTo>
                  <a:lnTo>
                    <a:pt x="87" y="2550"/>
                  </a:lnTo>
                  <a:lnTo>
                    <a:pt x="81" y="2555"/>
                  </a:lnTo>
                  <a:lnTo>
                    <a:pt x="77" y="2559"/>
                  </a:lnTo>
                  <a:lnTo>
                    <a:pt x="72" y="2564"/>
                  </a:lnTo>
                  <a:lnTo>
                    <a:pt x="72" y="2568"/>
                  </a:lnTo>
                  <a:lnTo>
                    <a:pt x="77" y="2573"/>
                  </a:lnTo>
                  <a:lnTo>
                    <a:pt x="81" y="2577"/>
                  </a:lnTo>
                  <a:lnTo>
                    <a:pt x="81" y="2582"/>
                  </a:ln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Freeform 293"/>
            <p:cNvSpPr/>
            <p:nvPr/>
          </p:nvSpPr>
          <p:spPr>
            <a:xfrm>
              <a:off x="6602400" y="2157480"/>
              <a:ext cx="463680" cy="4379760"/>
            </a:xfrm>
            <a:custGeom>
              <a:avLst/>
              <a:gdLst>
                <a:gd name="textAreaLeft" fmla="*/ 0 w 463680"/>
                <a:gd name="textAreaRight" fmla="*/ 464040 w 463680"/>
                <a:gd name="textAreaTop" fmla="*/ 0 h 4379760"/>
                <a:gd name="textAreaBottom" fmla="*/ 4380120 h 4379760"/>
              </a:gdLst>
              <a:ahLst/>
              <a:rect l="textAreaLeft" t="textAreaTop" r="textAreaRight" b="textAreaBottom"/>
              <a:pathLst>
                <a:path w="274" h="2582">
                  <a:moveTo>
                    <a:pt x="104" y="0"/>
                  </a:moveTo>
                  <a:lnTo>
                    <a:pt x="104" y="4"/>
                  </a:lnTo>
                  <a:lnTo>
                    <a:pt x="102" y="9"/>
                  </a:lnTo>
                  <a:lnTo>
                    <a:pt x="100" y="13"/>
                  </a:lnTo>
                  <a:lnTo>
                    <a:pt x="108" y="18"/>
                  </a:lnTo>
                  <a:lnTo>
                    <a:pt x="115" y="22"/>
                  </a:lnTo>
                  <a:lnTo>
                    <a:pt x="121" y="27"/>
                  </a:lnTo>
                  <a:lnTo>
                    <a:pt x="125" y="31"/>
                  </a:lnTo>
                  <a:lnTo>
                    <a:pt x="128" y="36"/>
                  </a:lnTo>
                  <a:lnTo>
                    <a:pt x="130" y="40"/>
                  </a:lnTo>
                  <a:lnTo>
                    <a:pt x="123" y="45"/>
                  </a:lnTo>
                  <a:lnTo>
                    <a:pt x="117" y="49"/>
                  </a:lnTo>
                  <a:lnTo>
                    <a:pt x="113" y="54"/>
                  </a:lnTo>
                  <a:lnTo>
                    <a:pt x="113" y="58"/>
                  </a:lnTo>
                  <a:lnTo>
                    <a:pt x="108" y="63"/>
                  </a:lnTo>
                  <a:lnTo>
                    <a:pt x="106" y="67"/>
                  </a:lnTo>
                  <a:lnTo>
                    <a:pt x="102" y="72"/>
                  </a:lnTo>
                  <a:lnTo>
                    <a:pt x="98" y="76"/>
                  </a:lnTo>
                  <a:lnTo>
                    <a:pt x="106" y="81"/>
                  </a:lnTo>
                  <a:lnTo>
                    <a:pt x="102" y="85"/>
                  </a:lnTo>
                  <a:lnTo>
                    <a:pt x="91" y="90"/>
                  </a:lnTo>
                  <a:lnTo>
                    <a:pt x="89" y="94"/>
                  </a:lnTo>
                  <a:lnTo>
                    <a:pt x="89" y="99"/>
                  </a:lnTo>
                  <a:lnTo>
                    <a:pt x="85" y="103"/>
                  </a:lnTo>
                  <a:lnTo>
                    <a:pt x="85" y="108"/>
                  </a:lnTo>
                  <a:lnTo>
                    <a:pt x="79" y="112"/>
                  </a:lnTo>
                  <a:lnTo>
                    <a:pt x="83" y="117"/>
                  </a:lnTo>
                  <a:lnTo>
                    <a:pt x="89" y="121"/>
                  </a:lnTo>
                  <a:lnTo>
                    <a:pt x="102" y="126"/>
                  </a:lnTo>
                  <a:lnTo>
                    <a:pt x="106" y="130"/>
                  </a:lnTo>
                  <a:lnTo>
                    <a:pt x="104" y="135"/>
                  </a:lnTo>
                  <a:lnTo>
                    <a:pt x="102" y="139"/>
                  </a:lnTo>
                  <a:lnTo>
                    <a:pt x="94" y="144"/>
                  </a:lnTo>
                  <a:lnTo>
                    <a:pt x="89" y="148"/>
                  </a:lnTo>
                  <a:lnTo>
                    <a:pt x="85" y="153"/>
                  </a:lnTo>
                  <a:lnTo>
                    <a:pt x="85" y="157"/>
                  </a:lnTo>
                  <a:lnTo>
                    <a:pt x="87" y="162"/>
                  </a:lnTo>
                  <a:lnTo>
                    <a:pt x="96" y="166"/>
                  </a:lnTo>
                  <a:lnTo>
                    <a:pt x="100" y="171"/>
                  </a:lnTo>
                  <a:lnTo>
                    <a:pt x="96" y="175"/>
                  </a:lnTo>
                  <a:lnTo>
                    <a:pt x="87" y="180"/>
                  </a:lnTo>
                  <a:lnTo>
                    <a:pt x="81" y="184"/>
                  </a:lnTo>
                  <a:lnTo>
                    <a:pt x="79" y="189"/>
                  </a:lnTo>
                  <a:lnTo>
                    <a:pt x="100" y="193"/>
                  </a:lnTo>
                  <a:lnTo>
                    <a:pt x="170" y="198"/>
                  </a:lnTo>
                  <a:lnTo>
                    <a:pt x="221" y="202"/>
                  </a:lnTo>
                  <a:lnTo>
                    <a:pt x="170" y="207"/>
                  </a:lnTo>
                  <a:lnTo>
                    <a:pt x="155" y="211"/>
                  </a:lnTo>
                  <a:lnTo>
                    <a:pt x="100" y="216"/>
                  </a:lnTo>
                  <a:lnTo>
                    <a:pt x="83" y="220"/>
                  </a:lnTo>
                  <a:lnTo>
                    <a:pt x="85" y="225"/>
                  </a:lnTo>
                  <a:lnTo>
                    <a:pt x="89" y="229"/>
                  </a:lnTo>
                  <a:lnTo>
                    <a:pt x="102" y="234"/>
                  </a:lnTo>
                  <a:lnTo>
                    <a:pt x="102" y="238"/>
                  </a:lnTo>
                  <a:lnTo>
                    <a:pt x="96" y="243"/>
                  </a:lnTo>
                  <a:lnTo>
                    <a:pt x="96" y="247"/>
                  </a:lnTo>
                  <a:lnTo>
                    <a:pt x="100" y="252"/>
                  </a:lnTo>
                  <a:lnTo>
                    <a:pt x="102" y="256"/>
                  </a:lnTo>
                  <a:lnTo>
                    <a:pt x="102" y="261"/>
                  </a:lnTo>
                  <a:lnTo>
                    <a:pt x="102" y="265"/>
                  </a:lnTo>
                  <a:lnTo>
                    <a:pt x="102" y="270"/>
                  </a:lnTo>
                  <a:lnTo>
                    <a:pt x="102" y="274"/>
                  </a:lnTo>
                  <a:lnTo>
                    <a:pt x="102" y="279"/>
                  </a:lnTo>
                  <a:lnTo>
                    <a:pt x="100" y="283"/>
                  </a:lnTo>
                  <a:lnTo>
                    <a:pt x="100" y="288"/>
                  </a:lnTo>
                  <a:lnTo>
                    <a:pt x="102" y="292"/>
                  </a:lnTo>
                  <a:lnTo>
                    <a:pt x="102" y="297"/>
                  </a:lnTo>
                  <a:lnTo>
                    <a:pt x="98" y="301"/>
                  </a:lnTo>
                  <a:lnTo>
                    <a:pt x="94" y="306"/>
                  </a:lnTo>
                  <a:lnTo>
                    <a:pt x="94" y="310"/>
                  </a:lnTo>
                  <a:lnTo>
                    <a:pt x="98" y="315"/>
                  </a:lnTo>
                  <a:lnTo>
                    <a:pt x="100" y="319"/>
                  </a:lnTo>
                  <a:lnTo>
                    <a:pt x="106" y="324"/>
                  </a:lnTo>
                  <a:lnTo>
                    <a:pt x="108" y="328"/>
                  </a:lnTo>
                  <a:lnTo>
                    <a:pt x="106" y="333"/>
                  </a:lnTo>
                  <a:lnTo>
                    <a:pt x="102" y="337"/>
                  </a:lnTo>
                  <a:lnTo>
                    <a:pt x="100" y="342"/>
                  </a:lnTo>
                  <a:lnTo>
                    <a:pt x="100" y="346"/>
                  </a:lnTo>
                  <a:lnTo>
                    <a:pt x="100" y="351"/>
                  </a:lnTo>
                  <a:lnTo>
                    <a:pt x="100" y="355"/>
                  </a:lnTo>
                  <a:lnTo>
                    <a:pt x="102" y="360"/>
                  </a:lnTo>
                  <a:lnTo>
                    <a:pt x="111" y="364"/>
                  </a:lnTo>
                  <a:lnTo>
                    <a:pt x="111" y="369"/>
                  </a:lnTo>
                  <a:lnTo>
                    <a:pt x="111" y="373"/>
                  </a:lnTo>
                  <a:lnTo>
                    <a:pt x="111" y="378"/>
                  </a:lnTo>
                  <a:lnTo>
                    <a:pt x="108" y="382"/>
                  </a:lnTo>
                  <a:lnTo>
                    <a:pt x="104" y="387"/>
                  </a:lnTo>
                  <a:lnTo>
                    <a:pt x="102" y="391"/>
                  </a:lnTo>
                  <a:lnTo>
                    <a:pt x="106" y="396"/>
                  </a:lnTo>
                  <a:lnTo>
                    <a:pt x="94" y="400"/>
                  </a:lnTo>
                  <a:lnTo>
                    <a:pt x="87" y="405"/>
                  </a:lnTo>
                  <a:lnTo>
                    <a:pt x="85" y="409"/>
                  </a:lnTo>
                  <a:lnTo>
                    <a:pt x="85" y="414"/>
                  </a:lnTo>
                  <a:lnTo>
                    <a:pt x="89" y="418"/>
                  </a:lnTo>
                  <a:lnTo>
                    <a:pt x="96" y="423"/>
                  </a:lnTo>
                  <a:lnTo>
                    <a:pt x="98" y="427"/>
                  </a:lnTo>
                  <a:lnTo>
                    <a:pt x="100" y="432"/>
                  </a:lnTo>
                  <a:lnTo>
                    <a:pt x="98" y="436"/>
                  </a:lnTo>
                  <a:lnTo>
                    <a:pt x="96" y="441"/>
                  </a:lnTo>
                  <a:lnTo>
                    <a:pt x="94" y="445"/>
                  </a:lnTo>
                  <a:lnTo>
                    <a:pt x="91" y="450"/>
                  </a:lnTo>
                  <a:lnTo>
                    <a:pt x="94" y="454"/>
                  </a:lnTo>
                  <a:lnTo>
                    <a:pt x="94" y="459"/>
                  </a:lnTo>
                  <a:lnTo>
                    <a:pt x="91" y="463"/>
                  </a:lnTo>
                  <a:lnTo>
                    <a:pt x="89" y="468"/>
                  </a:lnTo>
                  <a:lnTo>
                    <a:pt x="87" y="472"/>
                  </a:lnTo>
                  <a:lnTo>
                    <a:pt x="89" y="477"/>
                  </a:lnTo>
                  <a:lnTo>
                    <a:pt x="87" y="481"/>
                  </a:lnTo>
                  <a:lnTo>
                    <a:pt x="87" y="486"/>
                  </a:lnTo>
                  <a:lnTo>
                    <a:pt x="85" y="490"/>
                  </a:lnTo>
                  <a:lnTo>
                    <a:pt x="85" y="495"/>
                  </a:lnTo>
                  <a:lnTo>
                    <a:pt x="81" y="499"/>
                  </a:lnTo>
                  <a:lnTo>
                    <a:pt x="81" y="504"/>
                  </a:lnTo>
                  <a:lnTo>
                    <a:pt x="79" y="508"/>
                  </a:lnTo>
                  <a:lnTo>
                    <a:pt x="79" y="512"/>
                  </a:lnTo>
                  <a:lnTo>
                    <a:pt x="85" y="517"/>
                  </a:lnTo>
                  <a:lnTo>
                    <a:pt x="83" y="521"/>
                  </a:lnTo>
                  <a:lnTo>
                    <a:pt x="70" y="526"/>
                  </a:lnTo>
                  <a:lnTo>
                    <a:pt x="64" y="530"/>
                  </a:lnTo>
                  <a:lnTo>
                    <a:pt x="64" y="535"/>
                  </a:lnTo>
                  <a:lnTo>
                    <a:pt x="64" y="539"/>
                  </a:lnTo>
                  <a:lnTo>
                    <a:pt x="64" y="544"/>
                  </a:lnTo>
                  <a:lnTo>
                    <a:pt x="62" y="548"/>
                  </a:lnTo>
                  <a:lnTo>
                    <a:pt x="66" y="553"/>
                  </a:lnTo>
                  <a:lnTo>
                    <a:pt x="70" y="557"/>
                  </a:lnTo>
                  <a:lnTo>
                    <a:pt x="68" y="562"/>
                  </a:lnTo>
                  <a:lnTo>
                    <a:pt x="66" y="566"/>
                  </a:lnTo>
                  <a:lnTo>
                    <a:pt x="77" y="571"/>
                  </a:lnTo>
                  <a:lnTo>
                    <a:pt x="74" y="575"/>
                  </a:lnTo>
                  <a:lnTo>
                    <a:pt x="81" y="580"/>
                  </a:lnTo>
                  <a:lnTo>
                    <a:pt x="85" y="584"/>
                  </a:lnTo>
                  <a:lnTo>
                    <a:pt x="83" y="589"/>
                  </a:lnTo>
                  <a:lnTo>
                    <a:pt x="81" y="593"/>
                  </a:lnTo>
                  <a:lnTo>
                    <a:pt x="83" y="598"/>
                  </a:lnTo>
                  <a:lnTo>
                    <a:pt x="85" y="602"/>
                  </a:lnTo>
                  <a:lnTo>
                    <a:pt x="87" y="607"/>
                  </a:lnTo>
                  <a:lnTo>
                    <a:pt x="91" y="611"/>
                  </a:lnTo>
                  <a:lnTo>
                    <a:pt x="96" y="616"/>
                  </a:lnTo>
                  <a:lnTo>
                    <a:pt x="98" y="620"/>
                  </a:lnTo>
                  <a:lnTo>
                    <a:pt x="98" y="625"/>
                  </a:lnTo>
                  <a:lnTo>
                    <a:pt x="100" y="629"/>
                  </a:lnTo>
                  <a:lnTo>
                    <a:pt x="100" y="634"/>
                  </a:lnTo>
                  <a:lnTo>
                    <a:pt x="98" y="638"/>
                  </a:lnTo>
                  <a:lnTo>
                    <a:pt x="98" y="643"/>
                  </a:lnTo>
                  <a:lnTo>
                    <a:pt x="96" y="647"/>
                  </a:lnTo>
                  <a:lnTo>
                    <a:pt x="96" y="652"/>
                  </a:lnTo>
                  <a:lnTo>
                    <a:pt x="96" y="656"/>
                  </a:lnTo>
                  <a:lnTo>
                    <a:pt x="98" y="661"/>
                  </a:lnTo>
                  <a:lnTo>
                    <a:pt x="96" y="665"/>
                  </a:lnTo>
                  <a:lnTo>
                    <a:pt x="98" y="670"/>
                  </a:lnTo>
                  <a:lnTo>
                    <a:pt x="94" y="674"/>
                  </a:lnTo>
                  <a:lnTo>
                    <a:pt x="91" y="679"/>
                  </a:lnTo>
                  <a:lnTo>
                    <a:pt x="89" y="683"/>
                  </a:lnTo>
                  <a:lnTo>
                    <a:pt x="91" y="688"/>
                  </a:lnTo>
                  <a:lnTo>
                    <a:pt x="89" y="692"/>
                  </a:lnTo>
                  <a:lnTo>
                    <a:pt x="89" y="697"/>
                  </a:lnTo>
                  <a:lnTo>
                    <a:pt x="89" y="701"/>
                  </a:lnTo>
                  <a:lnTo>
                    <a:pt x="85" y="706"/>
                  </a:lnTo>
                  <a:lnTo>
                    <a:pt x="77" y="710"/>
                  </a:lnTo>
                  <a:lnTo>
                    <a:pt x="77" y="715"/>
                  </a:lnTo>
                  <a:lnTo>
                    <a:pt x="81" y="719"/>
                  </a:lnTo>
                  <a:lnTo>
                    <a:pt x="83" y="724"/>
                  </a:lnTo>
                  <a:lnTo>
                    <a:pt x="87" y="728"/>
                  </a:lnTo>
                  <a:lnTo>
                    <a:pt x="91" y="733"/>
                  </a:lnTo>
                  <a:lnTo>
                    <a:pt x="94" y="737"/>
                  </a:lnTo>
                  <a:lnTo>
                    <a:pt x="96" y="742"/>
                  </a:lnTo>
                  <a:lnTo>
                    <a:pt x="98" y="746"/>
                  </a:lnTo>
                  <a:lnTo>
                    <a:pt x="100" y="751"/>
                  </a:lnTo>
                  <a:lnTo>
                    <a:pt x="102" y="755"/>
                  </a:lnTo>
                  <a:lnTo>
                    <a:pt x="111" y="760"/>
                  </a:lnTo>
                  <a:lnTo>
                    <a:pt x="111" y="764"/>
                  </a:lnTo>
                  <a:lnTo>
                    <a:pt x="117" y="769"/>
                  </a:lnTo>
                  <a:lnTo>
                    <a:pt x="119" y="773"/>
                  </a:lnTo>
                  <a:lnTo>
                    <a:pt x="128" y="778"/>
                  </a:lnTo>
                  <a:lnTo>
                    <a:pt x="151" y="782"/>
                  </a:lnTo>
                  <a:lnTo>
                    <a:pt x="162" y="787"/>
                  </a:lnTo>
                  <a:lnTo>
                    <a:pt x="168" y="791"/>
                  </a:lnTo>
                  <a:lnTo>
                    <a:pt x="176" y="796"/>
                  </a:lnTo>
                  <a:lnTo>
                    <a:pt x="189" y="800"/>
                  </a:lnTo>
                  <a:lnTo>
                    <a:pt x="193" y="805"/>
                  </a:lnTo>
                  <a:lnTo>
                    <a:pt x="181" y="809"/>
                  </a:lnTo>
                  <a:lnTo>
                    <a:pt x="196" y="814"/>
                  </a:lnTo>
                  <a:lnTo>
                    <a:pt x="210" y="818"/>
                  </a:lnTo>
                  <a:lnTo>
                    <a:pt x="219" y="823"/>
                  </a:lnTo>
                  <a:lnTo>
                    <a:pt x="217" y="827"/>
                  </a:lnTo>
                  <a:lnTo>
                    <a:pt x="217" y="832"/>
                  </a:lnTo>
                  <a:lnTo>
                    <a:pt x="219" y="836"/>
                  </a:lnTo>
                  <a:lnTo>
                    <a:pt x="217" y="841"/>
                  </a:lnTo>
                  <a:lnTo>
                    <a:pt x="183" y="845"/>
                  </a:lnTo>
                  <a:lnTo>
                    <a:pt x="179" y="850"/>
                  </a:lnTo>
                  <a:lnTo>
                    <a:pt x="157" y="854"/>
                  </a:lnTo>
                  <a:lnTo>
                    <a:pt x="142" y="859"/>
                  </a:lnTo>
                  <a:lnTo>
                    <a:pt x="142" y="863"/>
                  </a:lnTo>
                  <a:lnTo>
                    <a:pt x="166" y="868"/>
                  </a:lnTo>
                  <a:lnTo>
                    <a:pt x="187" y="872"/>
                  </a:lnTo>
                  <a:lnTo>
                    <a:pt x="196" y="877"/>
                  </a:lnTo>
                  <a:lnTo>
                    <a:pt x="210" y="881"/>
                  </a:lnTo>
                  <a:lnTo>
                    <a:pt x="221" y="886"/>
                  </a:lnTo>
                  <a:lnTo>
                    <a:pt x="187" y="890"/>
                  </a:lnTo>
                  <a:lnTo>
                    <a:pt x="170" y="895"/>
                  </a:lnTo>
                  <a:lnTo>
                    <a:pt x="121" y="899"/>
                  </a:lnTo>
                  <a:lnTo>
                    <a:pt x="85" y="904"/>
                  </a:lnTo>
                  <a:lnTo>
                    <a:pt x="83" y="908"/>
                  </a:lnTo>
                  <a:lnTo>
                    <a:pt x="89" y="913"/>
                  </a:lnTo>
                  <a:lnTo>
                    <a:pt x="128" y="917"/>
                  </a:lnTo>
                  <a:lnTo>
                    <a:pt x="113" y="922"/>
                  </a:lnTo>
                  <a:lnTo>
                    <a:pt x="108" y="926"/>
                  </a:lnTo>
                  <a:lnTo>
                    <a:pt x="108" y="931"/>
                  </a:lnTo>
                  <a:lnTo>
                    <a:pt x="111" y="935"/>
                  </a:lnTo>
                  <a:lnTo>
                    <a:pt x="106" y="940"/>
                  </a:lnTo>
                  <a:lnTo>
                    <a:pt x="104" y="944"/>
                  </a:lnTo>
                  <a:lnTo>
                    <a:pt x="102" y="949"/>
                  </a:lnTo>
                  <a:lnTo>
                    <a:pt x="98" y="953"/>
                  </a:lnTo>
                  <a:lnTo>
                    <a:pt x="89" y="958"/>
                  </a:lnTo>
                  <a:lnTo>
                    <a:pt x="85" y="962"/>
                  </a:lnTo>
                  <a:lnTo>
                    <a:pt x="87" y="967"/>
                  </a:lnTo>
                  <a:lnTo>
                    <a:pt x="91" y="971"/>
                  </a:lnTo>
                  <a:lnTo>
                    <a:pt x="96" y="976"/>
                  </a:lnTo>
                  <a:lnTo>
                    <a:pt x="132" y="980"/>
                  </a:lnTo>
                  <a:lnTo>
                    <a:pt x="204" y="985"/>
                  </a:lnTo>
                  <a:lnTo>
                    <a:pt x="217" y="989"/>
                  </a:lnTo>
                  <a:lnTo>
                    <a:pt x="221" y="994"/>
                  </a:lnTo>
                  <a:lnTo>
                    <a:pt x="206" y="998"/>
                  </a:lnTo>
                  <a:lnTo>
                    <a:pt x="193" y="1003"/>
                  </a:lnTo>
                  <a:lnTo>
                    <a:pt x="189" y="1007"/>
                  </a:lnTo>
                  <a:lnTo>
                    <a:pt x="189" y="1012"/>
                  </a:lnTo>
                  <a:lnTo>
                    <a:pt x="193" y="1016"/>
                  </a:lnTo>
                  <a:lnTo>
                    <a:pt x="196" y="1021"/>
                  </a:lnTo>
                  <a:lnTo>
                    <a:pt x="210" y="1025"/>
                  </a:lnTo>
                  <a:lnTo>
                    <a:pt x="221" y="1030"/>
                  </a:lnTo>
                  <a:lnTo>
                    <a:pt x="240" y="1034"/>
                  </a:lnTo>
                  <a:lnTo>
                    <a:pt x="251" y="1039"/>
                  </a:lnTo>
                  <a:lnTo>
                    <a:pt x="251" y="1043"/>
                  </a:lnTo>
                  <a:lnTo>
                    <a:pt x="242" y="1048"/>
                  </a:lnTo>
                  <a:lnTo>
                    <a:pt x="238" y="1052"/>
                  </a:lnTo>
                  <a:lnTo>
                    <a:pt x="242" y="1057"/>
                  </a:lnTo>
                  <a:lnTo>
                    <a:pt x="247" y="1061"/>
                  </a:lnTo>
                  <a:lnTo>
                    <a:pt x="242" y="1066"/>
                  </a:lnTo>
                  <a:lnTo>
                    <a:pt x="236" y="1070"/>
                  </a:lnTo>
                  <a:lnTo>
                    <a:pt x="234" y="1075"/>
                  </a:lnTo>
                  <a:lnTo>
                    <a:pt x="223" y="1079"/>
                  </a:lnTo>
                  <a:lnTo>
                    <a:pt x="215" y="1084"/>
                  </a:lnTo>
                  <a:lnTo>
                    <a:pt x="219" y="1088"/>
                  </a:lnTo>
                  <a:lnTo>
                    <a:pt x="225" y="1093"/>
                  </a:lnTo>
                  <a:lnTo>
                    <a:pt x="225" y="1097"/>
                  </a:lnTo>
                  <a:lnTo>
                    <a:pt x="227" y="1102"/>
                  </a:lnTo>
                  <a:lnTo>
                    <a:pt x="234" y="1106"/>
                  </a:lnTo>
                  <a:lnTo>
                    <a:pt x="244" y="1111"/>
                  </a:lnTo>
                  <a:lnTo>
                    <a:pt x="244" y="1115"/>
                  </a:lnTo>
                  <a:lnTo>
                    <a:pt x="247" y="1120"/>
                  </a:lnTo>
                  <a:lnTo>
                    <a:pt x="261" y="1124"/>
                  </a:lnTo>
                  <a:lnTo>
                    <a:pt x="259" y="1129"/>
                  </a:lnTo>
                  <a:lnTo>
                    <a:pt x="264" y="1133"/>
                  </a:lnTo>
                  <a:lnTo>
                    <a:pt x="249" y="1138"/>
                  </a:lnTo>
                  <a:lnTo>
                    <a:pt x="234" y="1142"/>
                  </a:lnTo>
                  <a:lnTo>
                    <a:pt x="225" y="1147"/>
                  </a:lnTo>
                  <a:lnTo>
                    <a:pt x="221" y="1151"/>
                  </a:lnTo>
                  <a:lnTo>
                    <a:pt x="219" y="1156"/>
                  </a:lnTo>
                  <a:lnTo>
                    <a:pt x="215" y="1160"/>
                  </a:lnTo>
                  <a:lnTo>
                    <a:pt x="210" y="1165"/>
                  </a:lnTo>
                  <a:lnTo>
                    <a:pt x="215" y="1169"/>
                  </a:lnTo>
                  <a:lnTo>
                    <a:pt x="217" y="1174"/>
                  </a:lnTo>
                  <a:lnTo>
                    <a:pt x="221" y="1178"/>
                  </a:lnTo>
                  <a:lnTo>
                    <a:pt x="230" y="1183"/>
                  </a:lnTo>
                  <a:lnTo>
                    <a:pt x="238" y="1187"/>
                  </a:lnTo>
                  <a:lnTo>
                    <a:pt x="251" y="1192"/>
                  </a:lnTo>
                  <a:lnTo>
                    <a:pt x="274" y="1196"/>
                  </a:lnTo>
                  <a:lnTo>
                    <a:pt x="266" y="1201"/>
                  </a:lnTo>
                  <a:lnTo>
                    <a:pt x="255" y="1205"/>
                  </a:lnTo>
                  <a:lnTo>
                    <a:pt x="230" y="1210"/>
                  </a:lnTo>
                  <a:lnTo>
                    <a:pt x="213" y="1214"/>
                  </a:lnTo>
                  <a:lnTo>
                    <a:pt x="189" y="1219"/>
                  </a:lnTo>
                  <a:lnTo>
                    <a:pt x="162" y="1223"/>
                  </a:lnTo>
                  <a:lnTo>
                    <a:pt x="151" y="1228"/>
                  </a:lnTo>
                  <a:lnTo>
                    <a:pt x="147" y="1232"/>
                  </a:lnTo>
                  <a:lnTo>
                    <a:pt x="130" y="1237"/>
                  </a:lnTo>
                  <a:lnTo>
                    <a:pt x="125" y="1241"/>
                  </a:lnTo>
                  <a:lnTo>
                    <a:pt x="123" y="1246"/>
                  </a:lnTo>
                  <a:lnTo>
                    <a:pt x="125" y="1250"/>
                  </a:lnTo>
                  <a:lnTo>
                    <a:pt x="128" y="1255"/>
                  </a:lnTo>
                  <a:lnTo>
                    <a:pt x="134" y="1259"/>
                  </a:lnTo>
                  <a:lnTo>
                    <a:pt x="134" y="1264"/>
                  </a:lnTo>
                  <a:lnTo>
                    <a:pt x="134" y="1268"/>
                  </a:lnTo>
                  <a:lnTo>
                    <a:pt x="134" y="1273"/>
                  </a:lnTo>
                  <a:lnTo>
                    <a:pt x="138" y="1277"/>
                  </a:lnTo>
                  <a:lnTo>
                    <a:pt x="134" y="1282"/>
                  </a:lnTo>
                  <a:lnTo>
                    <a:pt x="130" y="1286"/>
                  </a:lnTo>
                  <a:lnTo>
                    <a:pt x="125" y="1291"/>
                  </a:lnTo>
                  <a:lnTo>
                    <a:pt x="117" y="1295"/>
                  </a:lnTo>
                  <a:lnTo>
                    <a:pt x="111" y="1300"/>
                  </a:lnTo>
                  <a:lnTo>
                    <a:pt x="108" y="1304"/>
                  </a:lnTo>
                  <a:lnTo>
                    <a:pt x="111" y="1309"/>
                  </a:lnTo>
                  <a:lnTo>
                    <a:pt x="115" y="1313"/>
                  </a:lnTo>
                  <a:lnTo>
                    <a:pt x="117" y="1318"/>
                  </a:lnTo>
                  <a:lnTo>
                    <a:pt x="121" y="1322"/>
                  </a:lnTo>
                  <a:lnTo>
                    <a:pt x="123" y="1327"/>
                  </a:lnTo>
                  <a:lnTo>
                    <a:pt x="119" y="1331"/>
                  </a:lnTo>
                  <a:lnTo>
                    <a:pt x="117" y="1336"/>
                  </a:lnTo>
                  <a:lnTo>
                    <a:pt x="111" y="1340"/>
                  </a:lnTo>
                  <a:lnTo>
                    <a:pt x="100" y="1345"/>
                  </a:lnTo>
                  <a:lnTo>
                    <a:pt x="89" y="1349"/>
                  </a:lnTo>
                  <a:lnTo>
                    <a:pt x="85" y="1354"/>
                  </a:lnTo>
                  <a:lnTo>
                    <a:pt x="83" y="1358"/>
                  </a:lnTo>
                  <a:lnTo>
                    <a:pt x="83" y="1363"/>
                  </a:lnTo>
                  <a:lnTo>
                    <a:pt x="77" y="1367"/>
                  </a:lnTo>
                  <a:lnTo>
                    <a:pt x="79" y="1372"/>
                  </a:lnTo>
                  <a:lnTo>
                    <a:pt x="81" y="1376"/>
                  </a:lnTo>
                  <a:lnTo>
                    <a:pt x="79" y="1381"/>
                  </a:lnTo>
                  <a:lnTo>
                    <a:pt x="79" y="1385"/>
                  </a:lnTo>
                  <a:lnTo>
                    <a:pt x="77" y="1390"/>
                  </a:lnTo>
                  <a:lnTo>
                    <a:pt x="74" y="1394"/>
                  </a:lnTo>
                  <a:lnTo>
                    <a:pt x="72" y="1399"/>
                  </a:lnTo>
                  <a:lnTo>
                    <a:pt x="74" y="1403"/>
                  </a:lnTo>
                  <a:lnTo>
                    <a:pt x="74" y="1408"/>
                  </a:lnTo>
                  <a:lnTo>
                    <a:pt x="74" y="1412"/>
                  </a:lnTo>
                  <a:lnTo>
                    <a:pt x="74" y="1417"/>
                  </a:lnTo>
                  <a:lnTo>
                    <a:pt x="83" y="1421"/>
                  </a:lnTo>
                  <a:lnTo>
                    <a:pt x="85" y="1426"/>
                  </a:lnTo>
                  <a:lnTo>
                    <a:pt x="83" y="1430"/>
                  </a:lnTo>
                  <a:lnTo>
                    <a:pt x="83" y="1435"/>
                  </a:lnTo>
                  <a:lnTo>
                    <a:pt x="81" y="1439"/>
                  </a:lnTo>
                  <a:lnTo>
                    <a:pt x="81" y="1444"/>
                  </a:lnTo>
                  <a:lnTo>
                    <a:pt x="79" y="1448"/>
                  </a:lnTo>
                  <a:lnTo>
                    <a:pt x="77" y="1453"/>
                  </a:lnTo>
                  <a:lnTo>
                    <a:pt x="77" y="1457"/>
                  </a:lnTo>
                  <a:lnTo>
                    <a:pt x="81" y="1462"/>
                  </a:lnTo>
                  <a:lnTo>
                    <a:pt x="83" y="1466"/>
                  </a:lnTo>
                  <a:lnTo>
                    <a:pt x="83" y="1471"/>
                  </a:lnTo>
                  <a:lnTo>
                    <a:pt x="83" y="1475"/>
                  </a:lnTo>
                  <a:lnTo>
                    <a:pt x="81" y="1480"/>
                  </a:lnTo>
                  <a:lnTo>
                    <a:pt x="81" y="1484"/>
                  </a:lnTo>
                  <a:lnTo>
                    <a:pt x="77" y="1489"/>
                  </a:lnTo>
                  <a:lnTo>
                    <a:pt x="79" y="1493"/>
                  </a:lnTo>
                  <a:lnTo>
                    <a:pt x="81" y="1498"/>
                  </a:lnTo>
                  <a:lnTo>
                    <a:pt x="81" y="1502"/>
                  </a:lnTo>
                  <a:lnTo>
                    <a:pt x="81" y="1507"/>
                  </a:lnTo>
                  <a:lnTo>
                    <a:pt x="83" y="1511"/>
                  </a:lnTo>
                  <a:lnTo>
                    <a:pt x="85" y="1516"/>
                  </a:lnTo>
                  <a:lnTo>
                    <a:pt x="87" y="1520"/>
                  </a:lnTo>
                  <a:lnTo>
                    <a:pt x="87" y="1525"/>
                  </a:lnTo>
                  <a:lnTo>
                    <a:pt x="83" y="1529"/>
                  </a:lnTo>
                  <a:lnTo>
                    <a:pt x="79" y="1534"/>
                  </a:lnTo>
                  <a:lnTo>
                    <a:pt x="74" y="1538"/>
                  </a:lnTo>
                  <a:lnTo>
                    <a:pt x="66" y="1543"/>
                  </a:lnTo>
                  <a:lnTo>
                    <a:pt x="45" y="1547"/>
                  </a:lnTo>
                  <a:lnTo>
                    <a:pt x="36" y="1552"/>
                  </a:lnTo>
                  <a:lnTo>
                    <a:pt x="60" y="1556"/>
                  </a:lnTo>
                  <a:lnTo>
                    <a:pt x="34" y="1560"/>
                  </a:lnTo>
                  <a:lnTo>
                    <a:pt x="34" y="1565"/>
                  </a:lnTo>
                  <a:lnTo>
                    <a:pt x="28" y="1569"/>
                  </a:lnTo>
                  <a:lnTo>
                    <a:pt x="26" y="1574"/>
                  </a:lnTo>
                  <a:lnTo>
                    <a:pt x="19" y="1578"/>
                  </a:lnTo>
                  <a:lnTo>
                    <a:pt x="17" y="1583"/>
                  </a:lnTo>
                  <a:lnTo>
                    <a:pt x="15" y="1587"/>
                  </a:lnTo>
                  <a:lnTo>
                    <a:pt x="17" y="1592"/>
                  </a:lnTo>
                  <a:lnTo>
                    <a:pt x="15" y="1596"/>
                  </a:lnTo>
                  <a:lnTo>
                    <a:pt x="13" y="1601"/>
                  </a:lnTo>
                  <a:lnTo>
                    <a:pt x="7" y="1605"/>
                  </a:lnTo>
                  <a:lnTo>
                    <a:pt x="7" y="1610"/>
                  </a:lnTo>
                  <a:lnTo>
                    <a:pt x="2" y="1614"/>
                  </a:lnTo>
                  <a:lnTo>
                    <a:pt x="0" y="1619"/>
                  </a:lnTo>
                  <a:lnTo>
                    <a:pt x="0" y="1623"/>
                  </a:lnTo>
                  <a:lnTo>
                    <a:pt x="0" y="1628"/>
                  </a:lnTo>
                  <a:lnTo>
                    <a:pt x="2" y="1632"/>
                  </a:lnTo>
                  <a:lnTo>
                    <a:pt x="7" y="1637"/>
                  </a:lnTo>
                  <a:lnTo>
                    <a:pt x="4" y="1641"/>
                  </a:lnTo>
                  <a:lnTo>
                    <a:pt x="7" y="1646"/>
                  </a:lnTo>
                  <a:lnTo>
                    <a:pt x="9" y="1650"/>
                  </a:lnTo>
                  <a:lnTo>
                    <a:pt x="11" y="1655"/>
                  </a:lnTo>
                  <a:lnTo>
                    <a:pt x="15" y="1659"/>
                  </a:lnTo>
                  <a:lnTo>
                    <a:pt x="21" y="1664"/>
                  </a:lnTo>
                  <a:lnTo>
                    <a:pt x="26" y="1668"/>
                  </a:lnTo>
                  <a:lnTo>
                    <a:pt x="28" y="1673"/>
                  </a:lnTo>
                  <a:lnTo>
                    <a:pt x="30" y="1677"/>
                  </a:lnTo>
                  <a:lnTo>
                    <a:pt x="30" y="1682"/>
                  </a:lnTo>
                  <a:lnTo>
                    <a:pt x="26" y="1686"/>
                  </a:lnTo>
                  <a:lnTo>
                    <a:pt x="30" y="1691"/>
                  </a:lnTo>
                  <a:lnTo>
                    <a:pt x="30" y="1695"/>
                  </a:lnTo>
                  <a:lnTo>
                    <a:pt x="34" y="1700"/>
                  </a:lnTo>
                  <a:lnTo>
                    <a:pt x="38" y="1704"/>
                  </a:lnTo>
                  <a:lnTo>
                    <a:pt x="41" y="1709"/>
                  </a:lnTo>
                  <a:lnTo>
                    <a:pt x="41" y="1713"/>
                  </a:lnTo>
                  <a:lnTo>
                    <a:pt x="43" y="1718"/>
                  </a:lnTo>
                  <a:lnTo>
                    <a:pt x="47" y="1722"/>
                  </a:lnTo>
                  <a:lnTo>
                    <a:pt x="53" y="1727"/>
                  </a:lnTo>
                  <a:lnTo>
                    <a:pt x="55" y="1731"/>
                  </a:lnTo>
                  <a:lnTo>
                    <a:pt x="60" y="1736"/>
                  </a:lnTo>
                  <a:lnTo>
                    <a:pt x="64" y="1740"/>
                  </a:lnTo>
                  <a:lnTo>
                    <a:pt x="68" y="1745"/>
                  </a:lnTo>
                  <a:lnTo>
                    <a:pt x="77" y="1749"/>
                  </a:lnTo>
                  <a:lnTo>
                    <a:pt x="79" y="1754"/>
                  </a:lnTo>
                  <a:lnTo>
                    <a:pt x="79" y="1758"/>
                  </a:lnTo>
                  <a:lnTo>
                    <a:pt x="79" y="1763"/>
                  </a:lnTo>
                  <a:lnTo>
                    <a:pt x="81" y="1767"/>
                  </a:lnTo>
                  <a:lnTo>
                    <a:pt x="85" y="1772"/>
                  </a:lnTo>
                  <a:lnTo>
                    <a:pt x="87" y="1776"/>
                  </a:lnTo>
                  <a:lnTo>
                    <a:pt x="85" y="1781"/>
                  </a:lnTo>
                  <a:lnTo>
                    <a:pt x="87" y="1785"/>
                  </a:lnTo>
                  <a:lnTo>
                    <a:pt x="83" y="1790"/>
                  </a:lnTo>
                  <a:lnTo>
                    <a:pt x="83" y="1794"/>
                  </a:lnTo>
                  <a:lnTo>
                    <a:pt x="87" y="1799"/>
                  </a:lnTo>
                  <a:lnTo>
                    <a:pt x="89" y="1803"/>
                  </a:lnTo>
                  <a:lnTo>
                    <a:pt x="94" y="1808"/>
                  </a:lnTo>
                  <a:lnTo>
                    <a:pt x="98" y="1812"/>
                  </a:lnTo>
                  <a:lnTo>
                    <a:pt x="98" y="1817"/>
                  </a:lnTo>
                  <a:lnTo>
                    <a:pt x="100" y="1821"/>
                  </a:lnTo>
                  <a:lnTo>
                    <a:pt x="100" y="1826"/>
                  </a:lnTo>
                  <a:lnTo>
                    <a:pt x="100" y="1830"/>
                  </a:lnTo>
                  <a:lnTo>
                    <a:pt x="98" y="1835"/>
                  </a:lnTo>
                  <a:lnTo>
                    <a:pt x="96" y="1839"/>
                  </a:lnTo>
                  <a:lnTo>
                    <a:pt x="94" y="1844"/>
                  </a:lnTo>
                  <a:lnTo>
                    <a:pt x="96" y="1848"/>
                  </a:lnTo>
                  <a:lnTo>
                    <a:pt x="100" y="1853"/>
                  </a:lnTo>
                  <a:lnTo>
                    <a:pt x="100" y="1857"/>
                  </a:lnTo>
                  <a:lnTo>
                    <a:pt x="100" y="1862"/>
                  </a:lnTo>
                  <a:lnTo>
                    <a:pt x="100" y="1866"/>
                  </a:lnTo>
                  <a:lnTo>
                    <a:pt x="96" y="1871"/>
                  </a:lnTo>
                  <a:lnTo>
                    <a:pt x="94" y="1875"/>
                  </a:lnTo>
                  <a:lnTo>
                    <a:pt x="94" y="1880"/>
                  </a:lnTo>
                  <a:lnTo>
                    <a:pt x="96" y="1884"/>
                  </a:lnTo>
                  <a:lnTo>
                    <a:pt x="96" y="1889"/>
                  </a:lnTo>
                  <a:lnTo>
                    <a:pt x="91" y="1893"/>
                  </a:lnTo>
                  <a:lnTo>
                    <a:pt x="81" y="1898"/>
                  </a:lnTo>
                  <a:lnTo>
                    <a:pt x="74" y="1902"/>
                  </a:lnTo>
                  <a:lnTo>
                    <a:pt x="74" y="1907"/>
                  </a:lnTo>
                  <a:lnTo>
                    <a:pt x="79" y="1911"/>
                  </a:lnTo>
                  <a:lnTo>
                    <a:pt x="96" y="1916"/>
                  </a:lnTo>
                  <a:lnTo>
                    <a:pt x="74" y="1920"/>
                  </a:lnTo>
                  <a:lnTo>
                    <a:pt x="70" y="1925"/>
                  </a:lnTo>
                  <a:lnTo>
                    <a:pt x="87" y="1929"/>
                  </a:lnTo>
                  <a:lnTo>
                    <a:pt x="81" y="1934"/>
                  </a:lnTo>
                  <a:lnTo>
                    <a:pt x="79" y="1938"/>
                  </a:lnTo>
                  <a:lnTo>
                    <a:pt x="79" y="1943"/>
                  </a:lnTo>
                  <a:lnTo>
                    <a:pt x="83" y="1947"/>
                  </a:lnTo>
                  <a:lnTo>
                    <a:pt x="85" y="1952"/>
                  </a:lnTo>
                  <a:lnTo>
                    <a:pt x="87" y="1956"/>
                  </a:lnTo>
                  <a:lnTo>
                    <a:pt x="85" y="1961"/>
                  </a:lnTo>
                  <a:lnTo>
                    <a:pt x="85" y="1965"/>
                  </a:lnTo>
                  <a:lnTo>
                    <a:pt x="85" y="1970"/>
                  </a:lnTo>
                  <a:lnTo>
                    <a:pt x="85" y="1974"/>
                  </a:lnTo>
                  <a:lnTo>
                    <a:pt x="83" y="1979"/>
                  </a:lnTo>
                  <a:lnTo>
                    <a:pt x="83" y="1983"/>
                  </a:lnTo>
                  <a:lnTo>
                    <a:pt x="81" y="1988"/>
                  </a:lnTo>
                  <a:lnTo>
                    <a:pt x="70" y="1992"/>
                  </a:lnTo>
                  <a:lnTo>
                    <a:pt x="70" y="1997"/>
                  </a:lnTo>
                  <a:lnTo>
                    <a:pt x="72" y="2001"/>
                  </a:lnTo>
                  <a:lnTo>
                    <a:pt x="72" y="2006"/>
                  </a:lnTo>
                  <a:lnTo>
                    <a:pt x="70" y="2010"/>
                  </a:lnTo>
                  <a:lnTo>
                    <a:pt x="68" y="2015"/>
                  </a:lnTo>
                  <a:lnTo>
                    <a:pt x="68" y="2019"/>
                  </a:lnTo>
                  <a:lnTo>
                    <a:pt x="64" y="2024"/>
                  </a:lnTo>
                  <a:lnTo>
                    <a:pt x="62" y="2028"/>
                  </a:lnTo>
                  <a:lnTo>
                    <a:pt x="62" y="2033"/>
                  </a:lnTo>
                  <a:lnTo>
                    <a:pt x="62" y="2037"/>
                  </a:lnTo>
                  <a:lnTo>
                    <a:pt x="64" y="2042"/>
                  </a:lnTo>
                  <a:lnTo>
                    <a:pt x="64" y="2046"/>
                  </a:lnTo>
                  <a:lnTo>
                    <a:pt x="64" y="2051"/>
                  </a:lnTo>
                  <a:lnTo>
                    <a:pt x="68" y="2055"/>
                  </a:lnTo>
                  <a:lnTo>
                    <a:pt x="74" y="2060"/>
                  </a:lnTo>
                  <a:lnTo>
                    <a:pt x="81" y="2064"/>
                  </a:lnTo>
                  <a:lnTo>
                    <a:pt x="123" y="2069"/>
                  </a:lnTo>
                  <a:lnTo>
                    <a:pt x="136" y="2073"/>
                  </a:lnTo>
                  <a:lnTo>
                    <a:pt x="138" y="2078"/>
                  </a:lnTo>
                  <a:lnTo>
                    <a:pt x="142" y="2082"/>
                  </a:lnTo>
                  <a:lnTo>
                    <a:pt x="145" y="2087"/>
                  </a:lnTo>
                  <a:lnTo>
                    <a:pt x="145" y="2091"/>
                  </a:lnTo>
                  <a:lnTo>
                    <a:pt x="145" y="2096"/>
                  </a:lnTo>
                  <a:lnTo>
                    <a:pt x="145" y="2100"/>
                  </a:lnTo>
                  <a:lnTo>
                    <a:pt x="140" y="2105"/>
                  </a:lnTo>
                  <a:lnTo>
                    <a:pt x="136" y="2109"/>
                  </a:lnTo>
                  <a:lnTo>
                    <a:pt x="132" y="2114"/>
                  </a:lnTo>
                  <a:lnTo>
                    <a:pt x="132" y="2118"/>
                  </a:lnTo>
                  <a:lnTo>
                    <a:pt x="136" y="2123"/>
                  </a:lnTo>
                  <a:lnTo>
                    <a:pt x="157" y="2127"/>
                  </a:lnTo>
                  <a:lnTo>
                    <a:pt x="162" y="2132"/>
                  </a:lnTo>
                  <a:lnTo>
                    <a:pt x="170" y="2136"/>
                  </a:lnTo>
                  <a:lnTo>
                    <a:pt x="168" y="2141"/>
                  </a:lnTo>
                  <a:lnTo>
                    <a:pt x="168" y="2145"/>
                  </a:lnTo>
                  <a:lnTo>
                    <a:pt x="164" y="2150"/>
                  </a:lnTo>
                  <a:lnTo>
                    <a:pt x="162" y="2154"/>
                  </a:lnTo>
                  <a:lnTo>
                    <a:pt x="162" y="2159"/>
                  </a:lnTo>
                  <a:lnTo>
                    <a:pt x="166" y="2163"/>
                  </a:lnTo>
                  <a:lnTo>
                    <a:pt x="170" y="2168"/>
                  </a:lnTo>
                  <a:lnTo>
                    <a:pt x="174" y="2172"/>
                  </a:lnTo>
                  <a:lnTo>
                    <a:pt x="172" y="2177"/>
                  </a:lnTo>
                  <a:lnTo>
                    <a:pt x="166" y="2181"/>
                  </a:lnTo>
                  <a:lnTo>
                    <a:pt x="162" y="2186"/>
                  </a:lnTo>
                  <a:lnTo>
                    <a:pt x="155" y="2190"/>
                  </a:lnTo>
                  <a:lnTo>
                    <a:pt x="153" y="2195"/>
                  </a:lnTo>
                  <a:lnTo>
                    <a:pt x="149" y="2199"/>
                  </a:lnTo>
                  <a:lnTo>
                    <a:pt x="145" y="2204"/>
                  </a:lnTo>
                  <a:lnTo>
                    <a:pt x="142" y="2208"/>
                  </a:lnTo>
                  <a:lnTo>
                    <a:pt x="145" y="2213"/>
                  </a:lnTo>
                  <a:lnTo>
                    <a:pt x="142" y="2217"/>
                  </a:lnTo>
                  <a:lnTo>
                    <a:pt x="149" y="2222"/>
                  </a:lnTo>
                  <a:lnTo>
                    <a:pt x="155" y="2226"/>
                  </a:lnTo>
                  <a:lnTo>
                    <a:pt x="166" y="2231"/>
                  </a:lnTo>
                  <a:lnTo>
                    <a:pt x="176" y="2235"/>
                  </a:lnTo>
                  <a:lnTo>
                    <a:pt x="185" y="2240"/>
                  </a:lnTo>
                  <a:lnTo>
                    <a:pt x="193" y="2244"/>
                  </a:lnTo>
                  <a:lnTo>
                    <a:pt x="193" y="2249"/>
                  </a:lnTo>
                  <a:lnTo>
                    <a:pt x="191" y="2253"/>
                  </a:lnTo>
                  <a:lnTo>
                    <a:pt x="191" y="2258"/>
                  </a:lnTo>
                  <a:lnTo>
                    <a:pt x="193" y="2262"/>
                  </a:lnTo>
                  <a:lnTo>
                    <a:pt x="198" y="2267"/>
                  </a:lnTo>
                  <a:lnTo>
                    <a:pt x="204" y="2271"/>
                  </a:lnTo>
                  <a:lnTo>
                    <a:pt x="206" y="2276"/>
                  </a:lnTo>
                  <a:lnTo>
                    <a:pt x="204" y="2280"/>
                  </a:lnTo>
                  <a:lnTo>
                    <a:pt x="200" y="2285"/>
                  </a:lnTo>
                  <a:lnTo>
                    <a:pt x="189" y="2289"/>
                  </a:lnTo>
                  <a:lnTo>
                    <a:pt x="181" y="2294"/>
                  </a:lnTo>
                  <a:lnTo>
                    <a:pt x="176" y="2298"/>
                  </a:lnTo>
                  <a:lnTo>
                    <a:pt x="174" y="2303"/>
                  </a:lnTo>
                  <a:lnTo>
                    <a:pt x="172" y="2307"/>
                  </a:lnTo>
                  <a:lnTo>
                    <a:pt x="168" y="2312"/>
                  </a:lnTo>
                  <a:lnTo>
                    <a:pt x="166" y="2316"/>
                  </a:lnTo>
                  <a:lnTo>
                    <a:pt x="164" y="2321"/>
                  </a:lnTo>
                  <a:lnTo>
                    <a:pt x="157" y="2325"/>
                  </a:lnTo>
                  <a:lnTo>
                    <a:pt x="157" y="2330"/>
                  </a:lnTo>
                  <a:lnTo>
                    <a:pt x="157" y="2334"/>
                  </a:lnTo>
                  <a:lnTo>
                    <a:pt x="153" y="2339"/>
                  </a:lnTo>
                  <a:lnTo>
                    <a:pt x="151" y="2343"/>
                  </a:lnTo>
                  <a:lnTo>
                    <a:pt x="147" y="2348"/>
                  </a:lnTo>
                  <a:lnTo>
                    <a:pt x="147" y="2352"/>
                  </a:lnTo>
                  <a:lnTo>
                    <a:pt x="147" y="2357"/>
                  </a:lnTo>
                  <a:lnTo>
                    <a:pt x="147" y="2361"/>
                  </a:lnTo>
                  <a:lnTo>
                    <a:pt x="147" y="2366"/>
                  </a:lnTo>
                  <a:lnTo>
                    <a:pt x="145" y="2370"/>
                  </a:lnTo>
                  <a:lnTo>
                    <a:pt x="138" y="2375"/>
                  </a:lnTo>
                  <a:lnTo>
                    <a:pt x="132" y="2379"/>
                  </a:lnTo>
                  <a:lnTo>
                    <a:pt x="132" y="2384"/>
                  </a:lnTo>
                  <a:lnTo>
                    <a:pt x="132" y="2388"/>
                  </a:lnTo>
                  <a:lnTo>
                    <a:pt x="134" y="2393"/>
                  </a:lnTo>
                  <a:lnTo>
                    <a:pt x="136" y="2397"/>
                  </a:lnTo>
                  <a:lnTo>
                    <a:pt x="136" y="2402"/>
                  </a:lnTo>
                  <a:lnTo>
                    <a:pt x="136" y="2406"/>
                  </a:lnTo>
                  <a:lnTo>
                    <a:pt x="138" y="2411"/>
                  </a:lnTo>
                  <a:lnTo>
                    <a:pt x="138" y="2415"/>
                  </a:lnTo>
                  <a:lnTo>
                    <a:pt x="134" y="2420"/>
                  </a:lnTo>
                  <a:lnTo>
                    <a:pt x="147" y="2424"/>
                  </a:lnTo>
                  <a:lnTo>
                    <a:pt x="210" y="2429"/>
                  </a:lnTo>
                  <a:lnTo>
                    <a:pt x="221" y="2433"/>
                  </a:lnTo>
                  <a:lnTo>
                    <a:pt x="221" y="2438"/>
                  </a:lnTo>
                  <a:lnTo>
                    <a:pt x="221" y="2442"/>
                  </a:lnTo>
                  <a:lnTo>
                    <a:pt x="217" y="2447"/>
                  </a:lnTo>
                  <a:lnTo>
                    <a:pt x="213" y="2451"/>
                  </a:lnTo>
                  <a:lnTo>
                    <a:pt x="208" y="2456"/>
                  </a:lnTo>
                  <a:lnTo>
                    <a:pt x="204" y="2460"/>
                  </a:lnTo>
                  <a:lnTo>
                    <a:pt x="185" y="2465"/>
                  </a:lnTo>
                  <a:lnTo>
                    <a:pt x="170" y="2469"/>
                  </a:lnTo>
                  <a:lnTo>
                    <a:pt x="149" y="2474"/>
                  </a:lnTo>
                  <a:lnTo>
                    <a:pt x="108" y="2478"/>
                  </a:lnTo>
                  <a:lnTo>
                    <a:pt x="98" y="2483"/>
                  </a:lnTo>
                  <a:lnTo>
                    <a:pt x="96" y="2487"/>
                  </a:lnTo>
                  <a:lnTo>
                    <a:pt x="96" y="2492"/>
                  </a:lnTo>
                  <a:lnTo>
                    <a:pt x="100" y="2496"/>
                  </a:lnTo>
                  <a:lnTo>
                    <a:pt x="108" y="2501"/>
                  </a:lnTo>
                  <a:lnTo>
                    <a:pt x="115" y="2505"/>
                  </a:lnTo>
                  <a:lnTo>
                    <a:pt x="108" y="2510"/>
                  </a:lnTo>
                  <a:lnTo>
                    <a:pt x="108" y="2514"/>
                  </a:lnTo>
                  <a:lnTo>
                    <a:pt x="111" y="2519"/>
                  </a:lnTo>
                  <a:lnTo>
                    <a:pt x="117" y="2523"/>
                  </a:lnTo>
                  <a:lnTo>
                    <a:pt x="115" y="2528"/>
                  </a:lnTo>
                  <a:lnTo>
                    <a:pt x="123" y="2532"/>
                  </a:lnTo>
                  <a:lnTo>
                    <a:pt x="123" y="2537"/>
                  </a:lnTo>
                  <a:lnTo>
                    <a:pt x="123" y="2541"/>
                  </a:lnTo>
                  <a:lnTo>
                    <a:pt x="123" y="2546"/>
                  </a:lnTo>
                  <a:lnTo>
                    <a:pt x="121" y="2550"/>
                  </a:lnTo>
                  <a:lnTo>
                    <a:pt x="113" y="2555"/>
                  </a:lnTo>
                  <a:lnTo>
                    <a:pt x="102" y="2559"/>
                  </a:lnTo>
                  <a:lnTo>
                    <a:pt x="98" y="2564"/>
                  </a:lnTo>
                  <a:lnTo>
                    <a:pt x="89" y="2568"/>
                  </a:lnTo>
                  <a:lnTo>
                    <a:pt x="94" y="2573"/>
                  </a:lnTo>
                  <a:lnTo>
                    <a:pt x="102" y="2577"/>
                  </a:lnTo>
                  <a:lnTo>
                    <a:pt x="102" y="2582"/>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Line 294"/>
            <p:cNvSpPr/>
            <p:nvPr/>
          </p:nvSpPr>
          <p:spPr>
            <a:xfrm>
              <a:off x="6175440" y="1697040"/>
              <a:ext cx="9126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8" name="Rectangle 295"/>
            <p:cNvSpPr/>
            <p:nvPr/>
          </p:nvSpPr>
          <p:spPr>
            <a:xfrm>
              <a:off x="6457680" y="156528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PHI</a:t>
              </a:r>
              <a:endParaRPr b="0" lang="en-US" sz="1000" spc="-1" strike="noStrike">
                <a:solidFill>
                  <a:srgbClr val="000000"/>
                </a:solidFill>
                <a:latin typeface="Times New Roman"/>
              </a:endParaRPr>
            </a:p>
          </p:txBody>
        </p:sp>
        <p:sp>
          <p:nvSpPr>
            <p:cNvPr id="1869" name="Rectangle 296"/>
            <p:cNvSpPr/>
            <p:nvPr/>
          </p:nvSpPr>
          <p:spPr>
            <a:xfrm>
              <a:off x="6535440" y="169704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s</a:t>
              </a:r>
              <a:endParaRPr b="0" lang="en-US" sz="1000" spc="-1" strike="noStrike">
                <a:solidFill>
                  <a:srgbClr val="000000"/>
                </a:solidFill>
                <a:latin typeface="Times New Roman"/>
              </a:endParaRPr>
            </a:p>
          </p:txBody>
        </p:sp>
        <p:sp>
          <p:nvSpPr>
            <p:cNvPr id="1870" name="Rectangle 297"/>
            <p:cNvSpPr/>
            <p:nvPr/>
          </p:nvSpPr>
          <p:spPr>
            <a:xfrm>
              <a:off x="6178320" y="1697040"/>
              <a:ext cx="1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45</a:t>
              </a:r>
              <a:endParaRPr b="0" lang="en-US" sz="1000" spc="-1" strike="noStrike">
                <a:solidFill>
                  <a:srgbClr val="000000"/>
                </a:solidFill>
                <a:latin typeface="Times New Roman"/>
              </a:endParaRPr>
            </a:p>
          </p:txBody>
        </p:sp>
        <p:sp>
          <p:nvSpPr>
            <p:cNvPr id="1871" name="Rectangle 298"/>
            <p:cNvSpPr/>
            <p:nvPr/>
          </p:nvSpPr>
          <p:spPr>
            <a:xfrm>
              <a:off x="6892560" y="1697040"/>
              <a:ext cx="2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5</a:t>
              </a:r>
              <a:endParaRPr b="0" lang="en-US" sz="1000" spc="-1" strike="noStrike">
                <a:solidFill>
                  <a:srgbClr val="000000"/>
                </a:solidFill>
                <a:latin typeface="Times New Roman"/>
              </a:endParaRPr>
            </a:p>
          </p:txBody>
        </p:sp>
        <p:sp>
          <p:nvSpPr>
            <p:cNvPr id="1872" name="Rectangle 299"/>
            <p:cNvSpPr/>
            <p:nvPr/>
          </p:nvSpPr>
          <p:spPr>
            <a:xfrm>
              <a:off x="6135840" y="1582560"/>
              <a:ext cx="993600" cy="228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73" name="PlaceHolder 1"/>
          <p:cNvSpPr>
            <a:spLocks noGrp="1"/>
          </p:cNvSpPr>
          <p:nvPr>
            <p:ph type="title"/>
          </p:nvPr>
        </p:nvSpPr>
        <p:spPr>
          <a:xfrm>
            <a:off x="0" y="38052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EXAMPLE SOLUTION SONIC LOG </a:t>
            </a:r>
            <a:endParaRPr b="0" lang="en-US" sz="3600" spc="-1" strike="noStrike">
              <a:solidFill>
                <a:srgbClr val="000000"/>
              </a:solidFill>
              <a:latin typeface="Times New Roman"/>
            </a:endParaRPr>
          </a:p>
        </p:txBody>
      </p:sp>
      <p:sp>
        <p:nvSpPr>
          <p:cNvPr id="1874" name="Freeform 301"/>
          <p:cNvSpPr/>
          <p:nvPr/>
        </p:nvSpPr>
        <p:spPr>
          <a:xfrm>
            <a:off x="6324480" y="2157480"/>
            <a:ext cx="408240" cy="4368600"/>
          </a:xfrm>
          <a:custGeom>
            <a:avLst/>
            <a:gdLst>
              <a:gd name="textAreaLeft" fmla="*/ 0 w 408240"/>
              <a:gd name="textAreaRight" fmla="*/ 408600 w 408240"/>
              <a:gd name="textAreaTop" fmla="*/ 0 h 4368600"/>
              <a:gd name="textAreaBottom" fmla="*/ 4368960 h 4368600"/>
            </a:gdLst>
            <a:ahLst/>
            <a:rect l="textAreaLeft" t="textAreaTop" r="textAreaRight" b="textAreaBottom"/>
            <a:pathLst>
              <a:path w="257" h="2752">
                <a:moveTo>
                  <a:pt x="99" y="0"/>
                </a:moveTo>
                <a:lnTo>
                  <a:pt x="97" y="4"/>
                </a:lnTo>
                <a:lnTo>
                  <a:pt x="96" y="9"/>
                </a:lnTo>
                <a:lnTo>
                  <a:pt x="94" y="14"/>
                </a:lnTo>
                <a:lnTo>
                  <a:pt x="102" y="19"/>
                </a:lnTo>
                <a:lnTo>
                  <a:pt x="108" y="24"/>
                </a:lnTo>
                <a:lnTo>
                  <a:pt x="113" y="28"/>
                </a:lnTo>
                <a:lnTo>
                  <a:pt x="118" y="33"/>
                </a:lnTo>
                <a:lnTo>
                  <a:pt x="120" y="38"/>
                </a:lnTo>
                <a:lnTo>
                  <a:pt x="121" y="43"/>
                </a:lnTo>
                <a:lnTo>
                  <a:pt x="115" y="48"/>
                </a:lnTo>
                <a:lnTo>
                  <a:pt x="110" y="52"/>
                </a:lnTo>
                <a:lnTo>
                  <a:pt x="105" y="57"/>
                </a:lnTo>
                <a:lnTo>
                  <a:pt x="105" y="62"/>
                </a:lnTo>
                <a:lnTo>
                  <a:pt x="102" y="67"/>
                </a:lnTo>
                <a:lnTo>
                  <a:pt x="99" y="72"/>
                </a:lnTo>
                <a:lnTo>
                  <a:pt x="96" y="76"/>
                </a:lnTo>
                <a:lnTo>
                  <a:pt x="92" y="81"/>
                </a:lnTo>
                <a:lnTo>
                  <a:pt x="99" y="86"/>
                </a:lnTo>
                <a:lnTo>
                  <a:pt x="97" y="91"/>
                </a:lnTo>
                <a:lnTo>
                  <a:pt x="86" y="95"/>
                </a:lnTo>
                <a:lnTo>
                  <a:pt x="84" y="100"/>
                </a:lnTo>
                <a:lnTo>
                  <a:pt x="84" y="105"/>
                </a:lnTo>
                <a:lnTo>
                  <a:pt x="80" y="110"/>
                </a:lnTo>
                <a:lnTo>
                  <a:pt x="80" y="115"/>
                </a:lnTo>
                <a:lnTo>
                  <a:pt x="73" y="119"/>
                </a:lnTo>
                <a:lnTo>
                  <a:pt x="78" y="124"/>
                </a:lnTo>
                <a:lnTo>
                  <a:pt x="83" y="129"/>
                </a:lnTo>
                <a:lnTo>
                  <a:pt x="96" y="134"/>
                </a:lnTo>
                <a:lnTo>
                  <a:pt x="100" y="139"/>
                </a:lnTo>
                <a:lnTo>
                  <a:pt x="99" y="143"/>
                </a:lnTo>
                <a:lnTo>
                  <a:pt x="96" y="148"/>
                </a:lnTo>
                <a:lnTo>
                  <a:pt x="88" y="153"/>
                </a:lnTo>
                <a:lnTo>
                  <a:pt x="84" y="158"/>
                </a:lnTo>
                <a:lnTo>
                  <a:pt x="80" y="163"/>
                </a:lnTo>
                <a:lnTo>
                  <a:pt x="80" y="167"/>
                </a:lnTo>
                <a:lnTo>
                  <a:pt x="81" y="172"/>
                </a:lnTo>
                <a:lnTo>
                  <a:pt x="89" y="177"/>
                </a:lnTo>
                <a:lnTo>
                  <a:pt x="94" y="182"/>
                </a:lnTo>
                <a:lnTo>
                  <a:pt x="89" y="187"/>
                </a:lnTo>
                <a:lnTo>
                  <a:pt x="83" y="191"/>
                </a:lnTo>
                <a:lnTo>
                  <a:pt x="77" y="196"/>
                </a:lnTo>
                <a:lnTo>
                  <a:pt x="75" y="201"/>
                </a:lnTo>
                <a:lnTo>
                  <a:pt x="94" y="206"/>
                </a:lnTo>
                <a:lnTo>
                  <a:pt x="159" y="211"/>
                </a:lnTo>
                <a:lnTo>
                  <a:pt x="207" y="215"/>
                </a:lnTo>
                <a:lnTo>
                  <a:pt x="159" y="220"/>
                </a:lnTo>
                <a:lnTo>
                  <a:pt x="145" y="225"/>
                </a:lnTo>
                <a:lnTo>
                  <a:pt x="94" y="230"/>
                </a:lnTo>
                <a:lnTo>
                  <a:pt x="78" y="235"/>
                </a:lnTo>
                <a:lnTo>
                  <a:pt x="80" y="239"/>
                </a:lnTo>
                <a:lnTo>
                  <a:pt x="84" y="244"/>
                </a:lnTo>
                <a:lnTo>
                  <a:pt x="96" y="249"/>
                </a:lnTo>
                <a:lnTo>
                  <a:pt x="96" y="254"/>
                </a:lnTo>
                <a:lnTo>
                  <a:pt x="91" y="259"/>
                </a:lnTo>
                <a:lnTo>
                  <a:pt x="89" y="263"/>
                </a:lnTo>
                <a:lnTo>
                  <a:pt x="92" y="268"/>
                </a:lnTo>
                <a:lnTo>
                  <a:pt x="96" y="273"/>
                </a:lnTo>
                <a:lnTo>
                  <a:pt x="96" y="278"/>
                </a:lnTo>
                <a:lnTo>
                  <a:pt x="96" y="282"/>
                </a:lnTo>
                <a:lnTo>
                  <a:pt x="96" y="287"/>
                </a:lnTo>
                <a:lnTo>
                  <a:pt x="97" y="292"/>
                </a:lnTo>
                <a:lnTo>
                  <a:pt x="97" y="297"/>
                </a:lnTo>
                <a:lnTo>
                  <a:pt x="94" y="302"/>
                </a:lnTo>
                <a:lnTo>
                  <a:pt x="94" y="306"/>
                </a:lnTo>
                <a:lnTo>
                  <a:pt x="96" y="311"/>
                </a:lnTo>
                <a:lnTo>
                  <a:pt x="96" y="316"/>
                </a:lnTo>
                <a:lnTo>
                  <a:pt x="91" y="321"/>
                </a:lnTo>
                <a:lnTo>
                  <a:pt x="88" y="326"/>
                </a:lnTo>
                <a:lnTo>
                  <a:pt x="88" y="330"/>
                </a:lnTo>
                <a:lnTo>
                  <a:pt x="91" y="335"/>
                </a:lnTo>
                <a:lnTo>
                  <a:pt x="94" y="340"/>
                </a:lnTo>
                <a:lnTo>
                  <a:pt x="99" y="345"/>
                </a:lnTo>
                <a:lnTo>
                  <a:pt x="100" y="350"/>
                </a:lnTo>
                <a:lnTo>
                  <a:pt x="100" y="354"/>
                </a:lnTo>
                <a:lnTo>
                  <a:pt x="97" y="359"/>
                </a:lnTo>
                <a:lnTo>
                  <a:pt x="94" y="364"/>
                </a:lnTo>
                <a:lnTo>
                  <a:pt x="92" y="369"/>
                </a:lnTo>
                <a:lnTo>
                  <a:pt x="94" y="374"/>
                </a:lnTo>
                <a:lnTo>
                  <a:pt x="94" y="378"/>
                </a:lnTo>
                <a:lnTo>
                  <a:pt x="96" y="383"/>
                </a:lnTo>
                <a:lnTo>
                  <a:pt x="105" y="388"/>
                </a:lnTo>
                <a:lnTo>
                  <a:pt x="104" y="393"/>
                </a:lnTo>
                <a:lnTo>
                  <a:pt x="104" y="398"/>
                </a:lnTo>
                <a:lnTo>
                  <a:pt x="104" y="402"/>
                </a:lnTo>
                <a:lnTo>
                  <a:pt x="102" y="407"/>
                </a:lnTo>
                <a:lnTo>
                  <a:pt x="97" y="412"/>
                </a:lnTo>
                <a:lnTo>
                  <a:pt x="97" y="417"/>
                </a:lnTo>
                <a:lnTo>
                  <a:pt x="100" y="422"/>
                </a:lnTo>
                <a:lnTo>
                  <a:pt x="89" y="426"/>
                </a:lnTo>
                <a:lnTo>
                  <a:pt x="81" y="431"/>
                </a:lnTo>
                <a:lnTo>
                  <a:pt x="80" y="436"/>
                </a:lnTo>
                <a:lnTo>
                  <a:pt x="81" y="441"/>
                </a:lnTo>
                <a:lnTo>
                  <a:pt x="83" y="446"/>
                </a:lnTo>
                <a:lnTo>
                  <a:pt x="91" y="450"/>
                </a:lnTo>
                <a:lnTo>
                  <a:pt x="92" y="455"/>
                </a:lnTo>
                <a:lnTo>
                  <a:pt x="94" y="460"/>
                </a:lnTo>
                <a:lnTo>
                  <a:pt x="91" y="465"/>
                </a:lnTo>
                <a:lnTo>
                  <a:pt x="89" y="469"/>
                </a:lnTo>
                <a:lnTo>
                  <a:pt x="88" y="474"/>
                </a:lnTo>
                <a:lnTo>
                  <a:pt x="86" y="479"/>
                </a:lnTo>
                <a:lnTo>
                  <a:pt x="89" y="484"/>
                </a:lnTo>
                <a:lnTo>
                  <a:pt x="88" y="489"/>
                </a:lnTo>
                <a:lnTo>
                  <a:pt x="86" y="493"/>
                </a:lnTo>
                <a:lnTo>
                  <a:pt x="83" y="498"/>
                </a:lnTo>
                <a:lnTo>
                  <a:pt x="83" y="503"/>
                </a:lnTo>
                <a:lnTo>
                  <a:pt x="84" y="508"/>
                </a:lnTo>
                <a:lnTo>
                  <a:pt x="81" y="513"/>
                </a:lnTo>
                <a:lnTo>
                  <a:pt x="81" y="517"/>
                </a:lnTo>
                <a:lnTo>
                  <a:pt x="80" y="522"/>
                </a:lnTo>
                <a:lnTo>
                  <a:pt x="80" y="527"/>
                </a:lnTo>
                <a:lnTo>
                  <a:pt x="77" y="532"/>
                </a:lnTo>
                <a:lnTo>
                  <a:pt x="75" y="537"/>
                </a:lnTo>
                <a:lnTo>
                  <a:pt x="75" y="541"/>
                </a:lnTo>
                <a:lnTo>
                  <a:pt x="75" y="546"/>
                </a:lnTo>
                <a:lnTo>
                  <a:pt x="80" y="551"/>
                </a:lnTo>
                <a:lnTo>
                  <a:pt x="78" y="556"/>
                </a:lnTo>
                <a:lnTo>
                  <a:pt x="67" y="561"/>
                </a:lnTo>
                <a:lnTo>
                  <a:pt x="61" y="565"/>
                </a:lnTo>
                <a:lnTo>
                  <a:pt x="59" y="570"/>
                </a:lnTo>
                <a:lnTo>
                  <a:pt x="59" y="575"/>
                </a:lnTo>
                <a:lnTo>
                  <a:pt x="59" y="580"/>
                </a:lnTo>
                <a:lnTo>
                  <a:pt x="59" y="585"/>
                </a:lnTo>
                <a:lnTo>
                  <a:pt x="62" y="589"/>
                </a:lnTo>
                <a:lnTo>
                  <a:pt x="65" y="594"/>
                </a:lnTo>
                <a:lnTo>
                  <a:pt x="64" y="599"/>
                </a:lnTo>
                <a:lnTo>
                  <a:pt x="62" y="604"/>
                </a:lnTo>
                <a:lnTo>
                  <a:pt x="72" y="609"/>
                </a:lnTo>
                <a:lnTo>
                  <a:pt x="72" y="613"/>
                </a:lnTo>
                <a:lnTo>
                  <a:pt x="75" y="618"/>
                </a:lnTo>
                <a:lnTo>
                  <a:pt x="80" y="623"/>
                </a:lnTo>
                <a:lnTo>
                  <a:pt x="78" y="628"/>
                </a:lnTo>
                <a:lnTo>
                  <a:pt x="77" y="633"/>
                </a:lnTo>
                <a:lnTo>
                  <a:pt x="78" y="637"/>
                </a:lnTo>
                <a:lnTo>
                  <a:pt x="80" y="642"/>
                </a:lnTo>
                <a:lnTo>
                  <a:pt x="83" y="647"/>
                </a:lnTo>
                <a:lnTo>
                  <a:pt x="86" y="652"/>
                </a:lnTo>
                <a:lnTo>
                  <a:pt x="89" y="656"/>
                </a:lnTo>
                <a:lnTo>
                  <a:pt x="92" y="661"/>
                </a:lnTo>
                <a:lnTo>
                  <a:pt x="92" y="666"/>
                </a:lnTo>
                <a:lnTo>
                  <a:pt x="94" y="671"/>
                </a:lnTo>
                <a:lnTo>
                  <a:pt x="94" y="676"/>
                </a:lnTo>
                <a:lnTo>
                  <a:pt x="91" y="680"/>
                </a:lnTo>
                <a:lnTo>
                  <a:pt x="91" y="685"/>
                </a:lnTo>
                <a:lnTo>
                  <a:pt x="91" y="690"/>
                </a:lnTo>
                <a:lnTo>
                  <a:pt x="91" y="695"/>
                </a:lnTo>
                <a:lnTo>
                  <a:pt x="91" y="700"/>
                </a:lnTo>
                <a:lnTo>
                  <a:pt x="91" y="704"/>
                </a:lnTo>
                <a:lnTo>
                  <a:pt x="91" y="709"/>
                </a:lnTo>
                <a:lnTo>
                  <a:pt x="91" y="714"/>
                </a:lnTo>
                <a:lnTo>
                  <a:pt x="89" y="719"/>
                </a:lnTo>
                <a:lnTo>
                  <a:pt x="86" y="724"/>
                </a:lnTo>
                <a:lnTo>
                  <a:pt x="84" y="728"/>
                </a:lnTo>
                <a:lnTo>
                  <a:pt x="86" y="733"/>
                </a:lnTo>
                <a:lnTo>
                  <a:pt x="84" y="738"/>
                </a:lnTo>
                <a:lnTo>
                  <a:pt x="83" y="743"/>
                </a:lnTo>
                <a:lnTo>
                  <a:pt x="83" y="748"/>
                </a:lnTo>
                <a:lnTo>
                  <a:pt x="80" y="752"/>
                </a:lnTo>
                <a:lnTo>
                  <a:pt x="73" y="757"/>
                </a:lnTo>
                <a:lnTo>
                  <a:pt x="73" y="762"/>
                </a:lnTo>
                <a:lnTo>
                  <a:pt x="75" y="767"/>
                </a:lnTo>
                <a:lnTo>
                  <a:pt x="78" y="772"/>
                </a:lnTo>
                <a:lnTo>
                  <a:pt x="81" y="776"/>
                </a:lnTo>
                <a:lnTo>
                  <a:pt x="86" y="781"/>
                </a:lnTo>
                <a:lnTo>
                  <a:pt x="89" y="786"/>
                </a:lnTo>
                <a:lnTo>
                  <a:pt x="91" y="791"/>
                </a:lnTo>
                <a:lnTo>
                  <a:pt x="91" y="796"/>
                </a:lnTo>
                <a:lnTo>
                  <a:pt x="92" y="800"/>
                </a:lnTo>
                <a:lnTo>
                  <a:pt x="96" y="805"/>
                </a:lnTo>
                <a:lnTo>
                  <a:pt x="104" y="810"/>
                </a:lnTo>
                <a:lnTo>
                  <a:pt x="104" y="815"/>
                </a:lnTo>
                <a:lnTo>
                  <a:pt x="108" y="820"/>
                </a:lnTo>
                <a:lnTo>
                  <a:pt x="112" y="824"/>
                </a:lnTo>
                <a:lnTo>
                  <a:pt x="120" y="829"/>
                </a:lnTo>
                <a:lnTo>
                  <a:pt x="140" y="834"/>
                </a:lnTo>
                <a:lnTo>
                  <a:pt x="151" y="839"/>
                </a:lnTo>
                <a:lnTo>
                  <a:pt x="158" y="843"/>
                </a:lnTo>
                <a:lnTo>
                  <a:pt x="166" y="848"/>
                </a:lnTo>
                <a:lnTo>
                  <a:pt x="177" y="853"/>
                </a:lnTo>
                <a:lnTo>
                  <a:pt x="180" y="858"/>
                </a:lnTo>
                <a:lnTo>
                  <a:pt x="169" y="863"/>
                </a:lnTo>
                <a:lnTo>
                  <a:pt x="183" y="867"/>
                </a:lnTo>
                <a:lnTo>
                  <a:pt x="196" y="872"/>
                </a:lnTo>
                <a:lnTo>
                  <a:pt x="206" y="877"/>
                </a:lnTo>
                <a:lnTo>
                  <a:pt x="202" y="882"/>
                </a:lnTo>
                <a:lnTo>
                  <a:pt x="204" y="887"/>
                </a:lnTo>
                <a:lnTo>
                  <a:pt x="206" y="891"/>
                </a:lnTo>
                <a:lnTo>
                  <a:pt x="202" y="896"/>
                </a:lnTo>
                <a:lnTo>
                  <a:pt x="172" y="901"/>
                </a:lnTo>
                <a:lnTo>
                  <a:pt x="167" y="906"/>
                </a:lnTo>
                <a:lnTo>
                  <a:pt x="148" y="911"/>
                </a:lnTo>
                <a:lnTo>
                  <a:pt x="134" y="915"/>
                </a:lnTo>
                <a:lnTo>
                  <a:pt x="132" y="920"/>
                </a:lnTo>
                <a:lnTo>
                  <a:pt x="155" y="925"/>
                </a:lnTo>
                <a:lnTo>
                  <a:pt x="175" y="930"/>
                </a:lnTo>
                <a:lnTo>
                  <a:pt x="183" y="935"/>
                </a:lnTo>
                <a:lnTo>
                  <a:pt x="198" y="939"/>
                </a:lnTo>
                <a:lnTo>
                  <a:pt x="207" y="944"/>
                </a:lnTo>
                <a:lnTo>
                  <a:pt x="175" y="949"/>
                </a:lnTo>
                <a:lnTo>
                  <a:pt x="159" y="954"/>
                </a:lnTo>
                <a:lnTo>
                  <a:pt x="113" y="959"/>
                </a:lnTo>
                <a:lnTo>
                  <a:pt x="80" y="963"/>
                </a:lnTo>
                <a:lnTo>
                  <a:pt x="78" y="968"/>
                </a:lnTo>
                <a:lnTo>
                  <a:pt x="83" y="973"/>
                </a:lnTo>
                <a:lnTo>
                  <a:pt x="121" y="978"/>
                </a:lnTo>
                <a:lnTo>
                  <a:pt x="107" y="983"/>
                </a:lnTo>
                <a:lnTo>
                  <a:pt x="102" y="987"/>
                </a:lnTo>
                <a:lnTo>
                  <a:pt x="102" y="992"/>
                </a:lnTo>
                <a:lnTo>
                  <a:pt x="104" y="997"/>
                </a:lnTo>
                <a:lnTo>
                  <a:pt x="99" y="1002"/>
                </a:lnTo>
                <a:lnTo>
                  <a:pt x="97" y="1007"/>
                </a:lnTo>
                <a:lnTo>
                  <a:pt x="97" y="1011"/>
                </a:lnTo>
                <a:lnTo>
                  <a:pt x="92" y="1016"/>
                </a:lnTo>
                <a:lnTo>
                  <a:pt x="83" y="1021"/>
                </a:lnTo>
                <a:lnTo>
                  <a:pt x="80" y="1026"/>
                </a:lnTo>
                <a:lnTo>
                  <a:pt x="83" y="1030"/>
                </a:lnTo>
                <a:lnTo>
                  <a:pt x="86" y="1035"/>
                </a:lnTo>
                <a:lnTo>
                  <a:pt x="91" y="1040"/>
                </a:lnTo>
                <a:lnTo>
                  <a:pt x="123" y="1045"/>
                </a:lnTo>
                <a:lnTo>
                  <a:pt x="191" y="1050"/>
                </a:lnTo>
                <a:lnTo>
                  <a:pt x="204" y="1054"/>
                </a:lnTo>
                <a:lnTo>
                  <a:pt x="207" y="1059"/>
                </a:lnTo>
                <a:lnTo>
                  <a:pt x="193" y="1064"/>
                </a:lnTo>
                <a:lnTo>
                  <a:pt x="182" y="1069"/>
                </a:lnTo>
                <a:lnTo>
                  <a:pt x="177" y="1074"/>
                </a:lnTo>
                <a:lnTo>
                  <a:pt x="177" y="1078"/>
                </a:lnTo>
                <a:lnTo>
                  <a:pt x="182" y="1083"/>
                </a:lnTo>
                <a:lnTo>
                  <a:pt x="183" y="1088"/>
                </a:lnTo>
                <a:lnTo>
                  <a:pt x="198" y="1093"/>
                </a:lnTo>
                <a:lnTo>
                  <a:pt x="209" y="1098"/>
                </a:lnTo>
                <a:lnTo>
                  <a:pt x="225" y="1102"/>
                </a:lnTo>
                <a:lnTo>
                  <a:pt x="236" y="1107"/>
                </a:lnTo>
                <a:lnTo>
                  <a:pt x="236" y="1112"/>
                </a:lnTo>
                <a:lnTo>
                  <a:pt x="226" y="1117"/>
                </a:lnTo>
                <a:lnTo>
                  <a:pt x="223" y="1122"/>
                </a:lnTo>
                <a:lnTo>
                  <a:pt x="228" y="1126"/>
                </a:lnTo>
                <a:lnTo>
                  <a:pt x="231" y="1131"/>
                </a:lnTo>
                <a:lnTo>
                  <a:pt x="228" y="1136"/>
                </a:lnTo>
                <a:lnTo>
                  <a:pt x="222" y="1141"/>
                </a:lnTo>
                <a:lnTo>
                  <a:pt x="220" y="1146"/>
                </a:lnTo>
                <a:lnTo>
                  <a:pt x="210" y="1150"/>
                </a:lnTo>
                <a:lnTo>
                  <a:pt x="201" y="1155"/>
                </a:lnTo>
                <a:lnTo>
                  <a:pt x="206" y="1160"/>
                </a:lnTo>
                <a:lnTo>
                  <a:pt x="212" y="1165"/>
                </a:lnTo>
                <a:lnTo>
                  <a:pt x="212" y="1170"/>
                </a:lnTo>
                <a:lnTo>
                  <a:pt x="214" y="1174"/>
                </a:lnTo>
                <a:lnTo>
                  <a:pt x="220" y="1179"/>
                </a:lnTo>
                <a:lnTo>
                  <a:pt x="230" y="1184"/>
                </a:lnTo>
                <a:lnTo>
                  <a:pt x="230" y="1189"/>
                </a:lnTo>
                <a:lnTo>
                  <a:pt x="231" y="1193"/>
                </a:lnTo>
                <a:lnTo>
                  <a:pt x="245" y="1198"/>
                </a:lnTo>
                <a:lnTo>
                  <a:pt x="242" y="1203"/>
                </a:lnTo>
                <a:lnTo>
                  <a:pt x="245" y="1208"/>
                </a:lnTo>
                <a:lnTo>
                  <a:pt x="233" y="1213"/>
                </a:lnTo>
                <a:lnTo>
                  <a:pt x="218" y="1217"/>
                </a:lnTo>
                <a:lnTo>
                  <a:pt x="210" y="1222"/>
                </a:lnTo>
                <a:lnTo>
                  <a:pt x="207" y="1227"/>
                </a:lnTo>
                <a:lnTo>
                  <a:pt x="206" y="1232"/>
                </a:lnTo>
                <a:lnTo>
                  <a:pt x="201" y="1237"/>
                </a:lnTo>
                <a:lnTo>
                  <a:pt x="198" y="1241"/>
                </a:lnTo>
                <a:lnTo>
                  <a:pt x="201" y="1246"/>
                </a:lnTo>
                <a:lnTo>
                  <a:pt x="202" y="1251"/>
                </a:lnTo>
                <a:lnTo>
                  <a:pt x="207" y="1256"/>
                </a:lnTo>
                <a:lnTo>
                  <a:pt x="215" y="1261"/>
                </a:lnTo>
                <a:lnTo>
                  <a:pt x="223" y="1265"/>
                </a:lnTo>
                <a:lnTo>
                  <a:pt x="236" y="1270"/>
                </a:lnTo>
                <a:lnTo>
                  <a:pt x="257" y="1275"/>
                </a:lnTo>
                <a:lnTo>
                  <a:pt x="249" y="1280"/>
                </a:lnTo>
                <a:lnTo>
                  <a:pt x="239" y="1285"/>
                </a:lnTo>
                <a:lnTo>
                  <a:pt x="215" y="1289"/>
                </a:lnTo>
                <a:lnTo>
                  <a:pt x="199" y="1294"/>
                </a:lnTo>
                <a:lnTo>
                  <a:pt x="177" y="1299"/>
                </a:lnTo>
                <a:lnTo>
                  <a:pt x="150" y="1304"/>
                </a:lnTo>
                <a:lnTo>
                  <a:pt x="140" y="1309"/>
                </a:lnTo>
                <a:lnTo>
                  <a:pt x="139" y="1313"/>
                </a:lnTo>
                <a:lnTo>
                  <a:pt x="123" y="1318"/>
                </a:lnTo>
                <a:lnTo>
                  <a:pt x="118" y="1323"/>
                </a:lnTo>
                <a:lnTo>
                  <a:pt x="116" y="1328"/>
                </a:lnTo>
                <a:lnTo>
                  <a:pt x="118" y="1333"/>
                </a:lnTo>
                <a:lnTo>
                  <a:pt x="120" y="1337"/>
                </a:lnTo>
                <a:lnTo>
                  <a:pt x="126" y="1342"/>
                </a:lnTo>
                <a:lnTo>
                  <a:pt x="126" y="1347"/>
                </a:lnTo>
                <a:lnTo>
                  <a:pt x="126" y="1352"/>
                </a:lnTo>
                <a:lnTo>
                  <a:pt x="126" y="1357"/>
                </a:lnTo>
                <a:lnTo>
                  <a:pt x="129" y="1361"/>
                </a:lnTo>
                <a:lnTo>
                  <a:pt x="126" y="1366"/>
                </a:lnTo>
                <a:lnTo>
                  <a:pt x="123" y="1371"/>
                </a:lnTo>
                <a:lnTo>
                  <a:pt x="118" y="1376"/>
                </a:lnTo>
                <a:lnTo>
                  <a:pt x="110" y="1380"/>
                </a:lnTo>
                <a:lnTo>
                  <a:pt x="104" y="1385"/>
                </a:lnTo>
                <a:lnTo>
                  <a:pt x="102" y="1390"/>
                </a:lnTo>
                <a:lnTo>
                  <a:pt x="104" y="1395"/>
                </a:lnTo>
                <a:lnTo>
                  <a:pt x="107" y="1400"/>
                </a:lnTo>
                <a:lnTo>
                  <a:pt x="110" y="1404"/>
                </a:lnTo>
                <a:lnTo>
                  <a:pt x="113" y="1409"/>
                </a:lnTo>
                <a:lnTo>
                  <a:pt x="115" y="1414"/>
                </a:lnTo>
                <a:lnTo>
                  <a:pt x="112" y="1419"/>
                </a:lnTo>
                <a:lnTo>
                  <a:pt x="110" y="1424"/>
                </a:lnTo>
                <a:lnTo>
                  <a:pt x="105" y="1428"/>
                </a:lnTo>
                <a:lnTo>
                  <a:pt x="94" y="1433"/>
                </a:lnTo>
                <a:lnTo>
                  <a:pt x="84" y="1438"/>
                </a:lnTo>
                <a:lnTo>
                  <a:pt x="80" y="1443"/>
                </a:lnTo>
                <a:lnTo>
                  <a:pt x="78" y="1448"/>
                </a:lnTo>
                <a:lnTo>
                  <a:pt x="77" y="1452"/>
                </a:lnTo>
                <a:lnTo>
                  <a:pt x="73" y="1457"/>
                </a:lnTo>
                <a:lnTo>
                  <a:pt x="73" y="1462"/>
                </a:lnTo>
                <a:lnTo>
                  <a:pt x="77" y="1467"/>
                </a:lnTo>
                <a:lnTo>
                  <a:pt x="75" y="1472"/>
                </a:lnTo>
                <a:lnTo>
                  <a:pt x="73" y="1476"/>
                </a:lnTo>
                <a:lnTo>
                  <a:pt x="72" y="1481"/>
                </a:lnTo>
                <a:lnTo>
                  <a:pt x="70" y="1486"/>
                </a:lnTo>
                <a:lnTo>
                  <a:pt x="69" y="1491"/>
                </a:lnTo>
                <a:lnTo>
                  <a:pt x="70" y="1496"/>
                </a:lnTo>
                <a:lnTo>
                  <a:pt x="70" y="1500"/>
                </a:lnTo>
                <a:lnTo>
                  <a:pt x="70" y="1505"/>
                </a:lnTo>
                <a:lnTo>
                  <a:pt x="70" y="1510"/>
                </a:lnTo>
                <a:lnTo>
                  <a:pt x="77" y="1515"/>
                </a:lnTo>
                <a:lnTo>
                  <a:pt x="81" y="1520"/>
                </a:lnTo>
                <a:lnTo>
                  <a:pt x="78" y="1524"/>
                </a:lnTo>
                <a:lnTo>
                  <a:pt x="78" y="1529"/>
                </a:lnTo>
                <a:lnTo>
                  <a:pt x="77" y="1534"/>
                </a:lnTo>
                <a:lnTo>
                  <a:pt x="75" y="1539"/>
                </a:lnTo>
                <a:lnTo>
                  <a:pt x="75" y="1544"/>
                </a:lnTo>
                <a:lnTo>
                  <a:pt x="73" y="1548"/>
                </a:lnTo>
                <a:lnTo>
                  <a:pt x="73" y="1553"/>
                </a:lnTo>
                <a:lnTo>
                  <a:pt x="75" y="1558"/>
                </a:lnTo>
                <a:lnTo>
                  <a:pt x="77" y="1563"/>
                </a:lnTo>
                <a:lnTo>
                  <a:pt x="77" y="1567"/>
                </a:lnTo>
                <a:lnTo>
                  <a:pt x="77" y="1572"/>
                </a:lnTo>
                <a:lnTo>
                  <a:pt x="75" y="1577"/>
                </a:lnTo>
                <a:lnTo>
                  <a:pt x="75" y="1582"/>
                </a:lnTo>
                <a:lnTo>
                  <a:pt x="73" y="1587"/>
                </a:lnTo>
                <a:lnTo>
                  <a:pt x="73" y="1591"/>
                </a:lnTo>
                <a:lnTo>
                  <a:pt x="75" y="1596"/>
                </a:lnTo>
                <a:lnTo>
                  <a:pt x="75" y="1601"/>
                </a:lnTo>
                <a:lnTo>
                  <a:pt x="75" y="1606"/>
                </a:lnTo>
                <a:lnTo>
                  <a:pt x="77" y="1611"/>
                </a:lnTo>
                <a:lnTo>
                  <a:pt x="80" y="1615"/>
                </a:lnTo>
                <a:lnTo>
                  <a:pt x="81" y="1620"/>
                </a:lnTo>
                <a:lnTo>
                  <a:pt x="81" y="1625"/>
                </a:lnTo>
                <a:lnTo>
                  <a:pt x="78" y="1630"/>
                </a:lnTo>
                <a:lnTo>
                  <a:pt x="73" y="1635"/>
                </a:lnTo>
                <a:lnTo>
                  <a:pt x="70" y="1639"/>
                </a:lnTo>
                <a:lnTo>
                  <a:pt x="62" y="1644"/>
                </a:lnTo>
                <a:lnTo>
                  <a:pt x="41" y="1649"/>
                </a:lnTo>
                <a:lnTo>
                  <a:pt x="35" y="1654"/>
                </a:lnTo>
                <a:lnTo>
                  <a:pt x="56" y="1659"/>
                </a:lnTo>
                <a:lnTo>
                  <a:pt x="33" y="1663"/>
                </a:lnTo>
                <a:lnTo>
                  <a:pt x="32" y="1668"/>
                </a:lnTo>
                <a:lnTo>
                  <a:pt x="27" y="1673"/>
                </a:lnTo>
                <a:lnTo>
                  <a:pt x="24" y="1678"/>
                </a:lnTo>
                <a:lnTo>
                  <a:pt x="18" y="1683"/>
                </a:lnTo>
                <a:lnTo>
                  <a:pt x="16" y="1687"/>
                </a:lnTo>
                <a:lnTo>
                  <a:pt x="14" y="1692"/>
                </a:lnTo>
                <a:lnTo>
                  <a:pt x="16" y="1697"/>
                </a:lnTo>
                <a:lnTo>
                  <a:pt x="14" y="1702"/>
                </a:lnTo>
                <a:lnTo>
                  <a:pt x="13" y="1707"/>
                </a:lnTo>
                <a:lnTo>
                  <a:pt x="8" y="1711"/>
                </a:lnTo>
                <a:lnTo>
                  <a:pt x="5" y="1716"/>
                </a:lnTo>
                <a:lnTo>
                  <a:pt x="3" y="1721"/>
                </a:lnTo>
                <a:lnTo>
                  <a:pt x="0" y="1726"/>
                </a:lnTo>
                <a:lnTo>
                  <a:pt x="2" y="1731"/>
                </a:lnTo>
                <a:lnTo>
                  <a:pt x="0" y="1735"/>
                </a:lnTo>
                <a:lnTo>
                  <a:pt x="3" y="1740"/>
                </a:lnTo>
                <a:lnTo>
                  <a:pt x="5" y="1745"/>
                </a:lnTo>
                <a:lnTo>
                  <a:pt x="5" y="1750"/>
                </a:lnTo>
                <a:lnTo>
                  <a:pt x="6" y="1754"/>
                </a:lnTo>
                <a:lnTo>
                  <a:pt x="8" y="1759"/>
                </a:lnTo>
                <a:lnTo>
                  <a:pt x="10" y="1764"/>
                </a:lnTo>
                <a:lnTo>
                  <a:pt x="14" y="1769"/>
                </a:lnTo>
                <a:lnTo>
                  <a:pt x="21" y="1774"/>
                </a:lnTo>
                <a:lnTo>
                  <a:pt x="24" y="1778"/>
                </a:lnTo>
                <a:lnTo>
                  <a:pt x="26" y="1783"/>
                </a:lnTo>
                <a:lnTo>
                  <a:pt x="29" y="1788"/>
                </a:lnTo>
                <a:lnTo>
                  <a:pt x="27" y="1793"/>
                </a:lnTo>
                <a:lnTo>
                  <a:pt x="24" y="1798"/>
                </a:lnTo>
                <a:lnTo>
                  <a:pt x="27" y="1802"/>
                </a:lnTo>
                <a:lnTo>
                  <a:pt x="29" y="1807"/>
                </a:lnTo>
                <a:lnTo>
                  <a:pt x="32" y="1812"/>
                </a:lnTo>
                <a:lnTo>
                  <a:pt x="35" y="1817"/>
                </a:lnTo>
                <a:lnTo>
                  <a:pt x="38" y="1822"/>
                </a:lnTo>
                <a:lnTo>
                  <a:pt x="38" y="1826"/>
                </a:lnTo>
                <a:lnTo>
                  <a:pt x="40" y="1831"/>
                </a:lnTo>
                <a:lnTo>
                  <a:pt x="43" y="1836"/>
                </a:lnTo>
                <a:lnTo>
                  <a:pt x="49" y="1841"/>
                </a:lnTo>
                <a:lnTo>
                  <a:pt x="53" y="1846"/>
                </a:lnTo>
                <a:lnTo>
                  <a:pt x="56" y="1850"/>
                </a:lnTo>
                <a:lnTo>
                  <a:pt x="59" y="1855"/>
                </a:lnTo>
                <a:lnTo>
                  <a:pt x="64" y="1860"/>
                </a:lnTo>
                <a:lnTo>
                  <a:pt x="72" y="1865"/>
                </a:lnTo>
                <a:lnTo>
                  <a:pt x="73" y="1870"/>
                </a:lnTo>
                <a:lnTo>
                  <a:pt x="73" y="1874"/>
                </a:lnTo>
                <a:lnTo>
                  <a:pt x="73" y="1879"/>
                </a:lnTo>
                <a:lnTo>
                  <a:pt x="75" y="1884"/>
                </a:lnTo>
                <a:lnTo>
                  <a:pt x="81" y="1889"/>
                </a:lnTo>
                <a:lnTo>
                  <a:pt x="81" y="1894"/>
                </a:lnTo>
                <a:lnTo>
                  <a:pt x="81" y="1898"/>
                </a:lnTo>
                <a:lnTo>
                  <a:pt x="81" y="1903"/>
                </a:lnTo>
                <a:lnTo>
                  <a:pt x="78" y="1908"/>
                </a:lnTo>
                <a:lnTo>
                  <a:pt x="78" y="1913"/>
                </a:lnTo>
                <a:lnTo>
                  <a:pt x="83" y="1918"/>
                </a:lnTo>
                <a:lnTo>
                  <a:pt x="84" y="1922"/>
                </a:lnTo>
                <a:lnTo>
                  <a:pt x="88" y="1927"/>
                </a:lnTo>
                <a:lnTo>
                  <a:pt x="91" y="1932"/>
                </a:lnTo>
                <a:lnTo>
                  <a:pt x="91" y="1937"/>
                </a:lnTo>
                <a:lnTo>
                  <a:pt x="92" y="1941"/>
                </a:lnTo>
                <a:lnTo>
                  <a:pt x="92" y="1946"/>
                </a:lnTo>
                <a:lnTo>
                  <a:pt x="92" y="1951"/>
                </a:lnTo>
                <a:lnTo>
                  <a:pt x="91" y="1956"/>
                </a:lnTo>
                <a:lnTo>
                  <a:pt x="91" y="1961"/>
                </a:lnTo>
                <a:lnTo>
                  <a:pt x="89" y="1965"/>
                </a:lnTo>
                <a:lnTo>
                  <a:pt x="91" y="1970"/>
                </a:lnTo>
                <a:lnTo>
                  <a:pt x="92" y="1975"/>
                </a:lnTo>
                <a:lnTo>
                  <a:pt x="92" y="1980"/>
                </a:lnTo>
                <a:lnTo>
                  <a:pt x="92" y="1985"/>
                </a:lnTo>
                <a:lnTo>
                  <a:pt x="92" y="1989"/>
                </a:lnTo>
                <a:lnTo>
                  <a:pt x="91" y="1994"/>
                </a:lnTo>
                <a:lnTo>
                  <a:pt x="88" y="1999"/>
                </a:lnTo>
                <a:lnTo>
                  <a:pt x="88" y="2004"/>
                </a:lnTo>
                <a:lnTo>
                  <a:pt x="91" y="2009"/>
                </a:lnTo>
                <a:lnTo>
                  <a:pt x="89" y="2013"/>
                </a:lnTo>
                <a:lnTo>
                  <a:pt x="86" y="2018"/>
                </a:lnTo>
                <a:lnTo>
                  <a:pt x="75" y="2023"/>
                </a:lnTo>
                <a:lnTo>
                  <a:pt x="70" y="2028"/>
                </a:lnTo>
                <a:lnTo>
                  <a:pt x="70" y="2033"/>
                </a:lnTo>
                <a:lnTo>
                  <a:pt x="73" y="2037"/>
                </a:lnTo>
                <a:lnTo>
                  <a:pt x="89" y="2042"/>
                </a:lnTo>
                <a:lnTo>
                  <a:pt x="70" y="2047"/>
                </a:lnTo>
                <a:lnTo>
                  <a:pt x="67" y="2052"/>
                </a:lnTo>
                <a:lnTo>
                  <a:pt x="83" y="2057"/>
                </a:lnTo>
                <a:lnTo>
                  <a:pt x="77" y="2061"/>
                </a:lnTo>
                <a:lnTo>
                  <a:pt x="73" y="2066"/>
                </a:lnTo>
                <a:lnTo>
                  <a:pt x="73" y="2071"/>
                </a:lnTo>
                <a:lnTo>
                  <a:pt x="77" y="2076"/>
                </a:lnTo>
                <a:lnTo>
                  <a:pt x="80" y="2081"/>
                </a:lnTo>
                <a:lnTo>
                  <a:pt x="81" y="2085"/>
                </a:lnTo>
                <a:lnTo>
                  <a:pt x="80" y="2090"/>
                </a:lnTo>
                <a:lnTo>
                  <a:pt x="80" y="2095"/>
                </a:lnTo>
                <a:lnTo>
                  <a:pt x="80" y="2100"/>
                </a:lnTo>
                <a:lnTo>
                  <a:pt x="80" y="2105"/>
                </a:lnTo>
                <a:lnTo>
                  <a:pt x="78" y="2109"/>
                </a:lnTo>
                <a:lnTo>
                  <a:pt x="77" y="2114"/>
                </a:lnTo>
                <a:lnTo>
                  <a:pt x="75" y="2119"/>
                </a:lnTo>
                <a:lnTo>
                  <a:pt x="67" y="2124"/>
                </a:lnTo>
                <a:lnTo>
                  <a:pt x="65" y="2128"/>
                </a:lnTo>
                <a:lnTo>
                  <a:pt x="69" y="2133"/>
                </a:lnTo>
                <a:lnTo>
                  <a:pt x="69" y="2138"/>
                </a:lnTo>
                <a:lnTo>
                  <a:pt x="65" y="2143"/>
                </a:lnTo>
                <a:lnTo>
                  <a:pt x="64" y="2148"/>
                </a:lnTo>
                <a:lnTo>
                  <a:pt x="64" y="2152"/>
                </a:lnTo>
                <a:lnTo>
                  <a:pt x="61" y="2157"/>
                </a:lnTo>
                <a:lnTo>
                  <a:pt x="57" y="2162"/>
                </a:lnTo>
                <a:lnTo>
                  <a:pt x="57" y="2167"/>
                </a:lnTo>
                <a:lnTo>
                  <a:pt x="57" y="2172"/>
                </a:lnTo>
                <a:lnTo>
                  <a:pt x="59" y="2176"/>
                </a:lnTo>
                <a:lnTo>
                  <a:pt x="59" y="2181"/>
                </a:lnTo>
                <a:lnTo>
                  <a:pt x="61" y="2186"/>
                </a:lnTo>
                <a:lnTo>
                  <a:pt x="64" y="2191"/>
                </a:lnTo>
                <a:lnTo>
                  <a:pt x="70" y="2196"/>
                </a:lnTo>
                <a:lnTo>
                  <a:pt x="75" y="2200"/>
                </a:lnTo>
                <a:lnTo>
                  <a:pt x="116" y="2205"/>
                </a:lnTo>
                <a:lnTo>
                  <a:pt x="128" y="2210"/>
                </a:lnTo>
                <a:lnTo>
                  <a:pt x="129" y="2215"/>
                </a:lnTo>
                <a:lnTo>
                  <a:pt x="134" y="2220"/>
                </a:lnTo>
                <a:lnTo>
                  <a:pt x="137" y="2224"/>
                </a:lnTo>
                <a:lnTo>
                  <a:pt x="135" y="2229"/>
                </a:lnTo>
                <a:lnTo>
                  <a:pt x="135" y="2234"/>
                </a:lnTo>
                <a:lnTo>
                  <a:pt x="135" y="2239"/>
                </a:lnTo>
                <a:lnTo>
                  <a:pt x="132" y="2244"/>
                </a:lnTo>
                <a:lnTo>
                  <a:pt x="129" y="2248"/>
                </a:lnTo>
                <a:lnTo>
                  <a:pt x="124" y="2253"/>
                </a:lnTo>
                <a:lnTo>
                  <a:pt x="124" y="2258"/>
                </a:lnTo>
                <a:lnTo>
                  <a:pt x="129" y="2263"/>
                </a:lnTo>
                <a:lnTo>
                  <a:pt x="148" y="2268"/>
                </a:lnTo>
                <a:lnTo>
                  <a:pt x="151" y="2272"/>
                </a:lnTo>
                <a:lnTo>
                  <a:pt x="159" y="2277"/>
                </a:lnTo>
                <a:lnTo>
                  <a:pt x="158" y="2282"/>
                </a:lnTo>
                <a:lnTo>
                  <a:pt x="158" y="2287"/>
                </a:lnTo>
                <a:lnTo>
                  <a:pt x="153" y="2292"/>
                </a:lnTo>
                <a:lnTo>
                  <a:pt x="151" y="2296"/>
                </a:lnTo>
                <a:lnTo>
                  <a:pt x="151" y="2301"/>
                </a:lnTo>
                <a:lnTo>
                  <a:pt x="156" y="2306"/>
                </a:lnTo>
                <a:lnTo>
                  <a:pt x="159" y="2311"/>
                </a:lnTo>
                <a:lnTo>
                  <a:pt x="164" y="2315"/>
                </a:lnTo>
                <a:lnTo>
                  <a:pt x="161" y="2320"/>
                </a:lnTo>
                <a:lnTo>
                  <a:pt x="156" y="2325"/>
                </a:lnTo>
                <a:lnTo>
                  <a:pt x="151" y="2330"/>
                </a:lnTo>
                <a:lnTo>
                  <a:pt x="145" y="2335"/>
                </a:lnTo>
                <a:lnTo>
                  <a:pt x="143" y="2339"/>
                </a:lnTo>
                <a:lnTo>
                  <a:pt x="140" y="2344"/>
                </a:lnTo>
                <a:lnTo>
                  <a:pt x="135" y="2349"/>
                </a:lnTo>
                <a:lnTo>
                  <a:pt x="134" y="2354"/>
                </a:lnTo>
                <a:lnTo>
                  <a:pt x="135" y="2359"/>
                </a:lnTo>
                <a:lnTo>
                  <a:pt x="134" y="2363"/>
                </a:lnTo>
                <a:lnTo>
                  <a:pt x="140" y="2368"/>
                </a:lnTo>
                <a:lnTo>
                  <a:pt x="145" y="2373"/>
                </a:lnTo>
                <a:lnTo>
                  <a:pt x="155" y="2378"/>
                </a:lnTo>
                <a:lnTo>
                  <a:pt x="166" y="2383"/>
                </a:lnTo>
                <a:lnTo>
                  <a:pt x="174" y="2387"/>
                </a:lnTo>
                <a:lnTo>
                  <a:pt x="180" y="2392"/>
                </a:lnTo>
                <a:lnTo>
                  <a:pt x="182" y="2397"/>
                </a:lnTo>
                <a:lnTo>
                  <a:pt x="180" y="2402"/>
                </a:lnTo>
                <a:lnTo>
                  <a:pt x="179" y="2407"/>
                </a:lnTo>
                <a:lnTo>
                  <a:pt x="182" y="2411"/>
                </a:lnTo>
                <a:lnTo>
                  <a:pt x="185" y="2416"/>
                </a:lnTo>
                <a:lnTo>
                  <a:pt x="191" y="2421"/>
                </a:lnTo>
                <a:lnTo>
                  <a:pt x="193" y="2426"/>
                </a:lnTo>
                <a:lnTo>
                  <a:pt x="191" y="2431"/>
                </a:lnTo>
                <a:lnTo>
                  <a:pt x="188" y="2435"/>
                </a:lnTo>
                <a:lnTo>
                  <a:pt x="177" y="2440"/>
                </a:lnTo>
                <a:lnTo>
                  <a:pt x="171" y="2445"/>
                </a:lnTo>
                <a:lnTo>
                  <a:pt x="164" y="2450"/>
                </a:lnTo>
                <a:lnTo>
                  <a:pt x="164" y="2455"/>
                </a:lnTo>
                <a:lnTo>
                  <a:pt x="161" y="2459"/>
                </a:lnTo>
                <a:lnTo>
                  <a:pt x="158" y="2464"/>
                </a:lnTo>
                <a:lnTo>
                  <a:pt x="156" y="2469"/>
                </a:lnTo>
                <a:lnTo>
                  <a:pt x="155" y="2474"/>
                </a:lnTo>
                <a:lnTo>
                  <a:pt x="148" y="2479"/>
                </a:lnTo>
                <a:lnTo>
                  <a:pt x="147" y="2483"/>
                </a:lnTo>
                <a:lnTo>
                  <a:pt x="147" y="2488"/>
                </a:lnTo>
                <a:lnTo>
                  <a:pt x="145" y="2493"/>
                </a:lnTo>
                <a:lnTo>
                  <a:pt x="140" y="2498"/>
                </a:lnTo>
                <a:lnTo>
                  <a:pt x="137" y="2502"/>
                </a:lnTo>
                <a:lnTo>
                  <a:pt x="139" y="2507"/>
                </a:lnTo>
                <a:lnTo>
                  <a:pt x="137" y="2512"/>
                </a:lnTo>
                <a:lnTo>
                  <a:pt x="137" y="2517"/>
                </a:lnTo>
                <a:lnTo>
                  <a:pt x="137" y="2522"/>
                </a:lnTo>
                <a:lnTo>
                  <a:pt x="135" y="2526"/>
                </a:lnTo>
                <a:lnTo>
                  <a:pt x="131" y="2531"/>
                </a:lnTo>
                <a:lnTo>
                  <a:pt x="124" y="2536"/>
                </a:lnTo>
                <a:lnTo>
                  <a:pt x="124" y="2541"/>
                </a:lnTo>
                <a:lnTo>
                  <a:pt x="124" y="2546"/>
                </a:lnTo>
                <a:lnTo>
                  <a:pt x="126" y="2550"/>
                </a:lnTo>
                <a:lnTo>
                  <a:pt x="128" y="2555"/>
                </a:lnTo>
                <a:lnTo>
                  <a:pt x="128" y="2560"/>
                </a:lnTo>
                <a:lnTo>
                  <a:pt x="129" y="2565"/>
                </a:lnTo>
                <a:lnTo>
                  <a:pt x="131" y="2570"/>
                </a:lnTo>
                <a:lnTo>
                  <a:pt x="131" y="2574"/>
                </a:lnTo>
                <a:lnTo>
                  <a:pt x="126" y="2579"/>
                </a:lnTo>
                <a:lnTo>
                  <a:pt x="139" y="2584"/>
                </a:lnTo>
                <a:lnTo>
                  <a:pt x="198" y="2589"/>
                </a:lnTo>
                <a:lnTo>
                  <a:pt x="207" y="2594"/>
                </a:lnTo>
                <a:lnTo>
                  <a:pt x="207" y="2598"/>
                </a:lnTo>
                <a:lnTo>
                  <a:pt x="207" y="2603"/>
                </a:lnTo>
                <a:lnTo>
                  <a:pt x="204" y="2608"/>
                </a:lnTo>
                <a:lnTo>
                  <a:pt x="199" y="2613"/>
                </a:lnTo>
                <a:lnTo>
                  <a:pt x="196" y="2618"/>
                </a:lnTo>
                <a:lnTo>
                  <a:pt x="191" y="2622"/>
                </a:lnTo>
                <a:lnTo>
                  <a:pt x="172" y="2627"/>
                </a:lnTo>
                <a:lnTo>
                  <a:pt x="159" y="2632"/>
                </a:lnTo>
                <a:lnTo>
                  <a:pt x="140" y="2637"/>
                </a:lnTo>
                <a:lnTo>
                  <a:pt x="102" y="2642"/>
                </a:lnTo>
                <a:lnTo>
                  <a:pt x="92" y="2646"/>
                </a:lnTo>
                <a:lnTo>
                  <a:pt x="91" y="2651"/>
                </a:lnTo>
                <a:lnTo>
                  <a:pt x="91" y="2656"/>
                </a:lnTo>
                <a:lnTo>
                  <a:pt x="92" y="2661"/>
                </a:lnTo>
                <a:lnTo>
                  <a:pt x="102" y="2666"/>
                </a:lnTo>
                <a:lnTo>
                  <a:pt x="108" y="2670"/>
                </a:lnTo>
                <a:lnTo>
                  <a:pt x="102" y="2675"/>
                </a:lnTo>
                <a:lnTo>
                  <a:pt x="102" y="2680"/>
                </a:lnTo>
                <a:lnTo>
                  <a:pt x="104" y="2685"/>
                </a:lnTo>
                <a:lnTo>
                  <a:pt x="108" y="2689"/>
                </a:lnTo>
                <a:lnTo>
                  <a:pt x="108" y="2694"/>
                </a:lnTo>
                <a:lnTo>
                  <a:pt x="115" y="2699"/>
                </a:lnTo>
                <a:lnTo>
                  <a:pt x="115" y="2704"/>
                </a:lnTo>
                <a:lnTo>
                  <a:pt x="116" y="2709"/>
                </a:lnTo>
                <a:lnTo>
                  <a:pt x="115" y="2713"/>
                </a:lnTo>
                <a:lnTo>
                  <a:pt x="113" y="2718"/>
                </a:lnTo>
                <a:lnTo>
                  <a:pt x="107" y="2723"/>
                </a:lnTo>
                <a:lnTo>
                  <a:pt x="96" y="2728"/>
                </a:lnTo>
                <a:lnTo>
                  <a:pt x="92" y="2733"/>
                </a:lnTo>
                <a:lnTo>
                  <a:pt x="84" y="2737"/>
                </a:lnTo>
                <a:lnTo>
                  <a:pt x="89" y="2742"/>
                </a:lnTo>
                <a:lnTo>
                  <a:pt x="96" y="2747"/>
                </a:lnTo>
                <a:lnTo>
                  <a:pt x="96" y="2752"/>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5" name="Group 302"/>
          <p:cNvGrpSpPr/>
          <p:nvPr/>
        </p:nvGrpSpPr>
        <p:grpSpPr>
          <a:xfrm>
            <a:off x="6695640" y="3917880"/>
            <a:ext cx="1397160" cy="307080"/>
            <a:chOff x="6695640" y="3917880"/>
            <a:chExt cx="1397160" cy="307080"/>
          </a:xfrm>
        </p:grpSpPr>
        <p:sp>
          <p:nvSpPr>
            <p:cNvPr id="1876" name="Text Box 303"/>
            <p:cNvSpPr/>
            <p:nvPr/>
          </p:nvSpPr>
          <p:spPr>
            <a:xfrm>
              <a:off x="7495920" y="3917880"/>
              <a:ext cx="5968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HI</a:t>
              </a:r>
              <a:endParaRPr b="0" lang="en-US" sz="1400" spc="-1" strike="noStrike">
                <a:solidFill>
                  <a:srgbClr val="000000"/>
                </a:solidFill>
                <a:latin typeface="Times New Roman"/>
              </a:endParaRPr>
            </a:p>
          </p:txBody>
        </p:sp>
        <p:sp>
          <p:nvSpPr>
            <p:cNvPr id="1877" name="Line 304"/>
            <p:cNvSpPr/>
            <p:nvPr/>
          </p:nvSpPr>
          <p:spPr>
            <a:xfrm>
              <a:off x="6695640" y="4069080"/>
              <a:ext cx="821880" cy="4320"/>
            </a:xfrm>
            <a:prstGeom prst="line">
              <a:avLst/>
            </a:prstGeom>
            <a:ln w="38160">
              <a:solidFill>
                <a:srgbClr val="000000"/>
              </a:solidFill>
              <a:miter/>
              <a:headEnd len="med" type="triangle" w="med"/>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afterEffect" fill="hold" presetClass="entr" presetID="2" presetSubtype="1">
                                  <p:stCondLst>
                                    <p:cond delay="0"/>
                                  </p:stCondLst>
                                  <p:childTnLst>
                                    <p:set>
                                      <p:cBhvr>
                                        <p:cTn id="538" dur="1" fill="hold">
                                          <p:stCondLst>
                                            <p:cond delay="0"/>
                                          </p:stCondLst>
                                        </p:cTn>
                                        <p:tgtEl>
                                          <p:spTgt spid="1873"/>
                                        </p:tgtEl>
                                        <p:attrNameLst>
                                          <p:attrName>style.visibility</p:attrName>
                                        </p:attrNameLst>
                                      </p:cBhvr>
                                      <p:to>
                                        <p:strVal val="visible"/>
                                      </p:to>
                                    </p:set>
                                    <p:anim calcmode="lin" valueType="num">
                                      <p:cBhvr additive="base">
                                        <p:cTn id="539" dur="500" fill="hold"/>
                                        <p:tgtEl>
                                          <p:spTgt spid="1873"/>
                                        </p:tgtEl>
                                        <p:attrNameLst>
                                          <p:attrName>ppt_x</p:attrName>
                                        </p:attrNameLst>
                                      </p:cBhvr>
                                      <p:tavLst>
                                        <p:tav tm="0">
                                          <p:val>
                                            <p:strVal val="#ppt_x"/>
                                          </p:val>
                                        </p:tav>
                                        <p:tav tm="100000">
                                          <p:val>
                                            <p:strVal val="#ppt_x"/>
                                          </p:val>
                                        </p:tav>
                                      </p:tavLst>
                                    </p:anim>
                                    <p:anim calcmode="lin" valueType="num">
                                      <p:cBhvr additive="base">
                                        <p:cTn id="540" dur="500" fill="hold"/>
                                        <p:tgtEl>
                                          <p:spTgt spid="1873"/>
                                        </p:tgtEl>
                                        <p:attrNameLst>
                                          <p:attrName>ppt_y</p:attrName>
                                        </p:attrNameLst>
                                      </p:cBhvr>
                                      <p:tavLst>
                                        <p:tav tm="0">
                                          <p:val>
                                            <p:strVal val="0-#ppt_h/2"/>
                                          </p:val>
                                        </p:tav>
                                        <p:tav tm="100000">
                                          <p:val>
                                            <p:strVal val="#ppt_y"/>
                                          </p:val>
                                        </p:tav>
                                      </p:tavLst>
                                    </p:anim>
                                  </p:childTnLst>
                                </p:cTn>
                              </p:par>
                            </p:childTnLst>
                          </p:cTn>
                        </p:par>
                        <p:par>
                          <p:cTn id="541" fill="hold">
                            <p:stCondLst>
                              <p:cond delay="500"/>
                            </p:stCondLst>
                            <p:childTnLst>
                              <p:par>
                                <p:cTn id="542" nodeType="afterEffect" fill="hold" presetClass="entr" presetID="17" presetSubtype="1">
                                  <p:stCondLst>
                                    <p:cond delay="0"/>
                                  </p:stCondLst>
                                  <p:childTnLst>
                                    <p:set>
                                      <p:cBhvr>
                                        <p:cTn id="543" dur="1" fill="hold">
                                          <p:stCondLst>
                                            <p:cond delay="0"/>
                                          </p:stCondLst>
                                        </p:cTn>
                                        <p:tgtEl>
                                          <p:spTgt spid="1575"/>
                                        </p:tgtEl>
                                        <p:attrNameLst>
                                          <p:attrName>style.visibility</p:attrName>
                                        </p:attrNameLst>
                                      </p:cBhvr>
                                      <p:to>
                                        <p:strVal val="visible"/>
                                      </p:to>
                                    </p:set>
                                    <p:anim calcmode="lin" valueType="num">
                                      <p:cBhvr additive="repl">
                                        <p:cTn id="544" dur="500" fill="hold"/>
                                        <p:tgtEl>
                                          <p:spTgt spid="1575"/>
                                        </p:tgtEl>
                                        <p:attrNameLst>
                                          <p:attrName>ppt_x</p:attrName>
                                        </p:attrNameLst>
                                      </p:cBhvr>
                                      <p:tavLst>
                                        <p:tav tm="0">
                                          <p:val>
                                            <p:strVal val="#ppt_x"/>
                                          </p:val>
                                        </p:tav>
                                        <p:tav tm="100000">
                                          <p:val>
                                            <p:strVal val="#ppt_x"/>
                                          </p:val>
                                        </p:tav>
                                      </p:tavLst>
                                    </p:anim>
                                    <p:anim calcmode="lin" valueType="num">
                                      <p:cBhvr additive="repl">
                                        <p:cTn id="545" dur="500" fill="hold"/>
                                        <p:tgtEl>
                                          <p:spTgt spid="1575"/>
                                        </p:tgtEl>
                                        <p:attrNameLst>
                                          <p:attrName>ppt_y</p:attrName>
                                        </p:attrNameLst>
                                      </p:cBhvr>
                                      <p:tavLst>
                                        <p:tav tm="0">
                                          <p:val>
                                            <p:strVal val="#ppt_y-#ppt_h/2"/>
                                          </p:val>
                                        </p:tav>
                                        <p:tav tm="100000">
                                          <p:val>
                                            <p:strVal val="#ppt_y"/>
                                          </p:val>
                                        </p:tav>
                                      </p:tavLst>
                                    </p:anim>
                                    <p:anim calcmode="lin" valueType="num">
                                      <p:cBhvr additive="repl">
                                        <p:cTn id="546" dur="500" fill="hold"/>
                                        <p:tgtEl>
                                          <p:spTgt spid="1575"/>
                                        </p:tgtEl>
                                        <p:attrNameLst>
                                          <p:attrName>ppt_w</p:attrName>
                                        </p:attrNameLst>
                                      </p:cBhvr>
                                      <p:tavLst>
                                        <p:tav tm="0">
                                          <p:val>
                                            <p:strVal val="#ppt_w"/>
                                          </p:val>
                                        </p:tav>
                                        <p:tav tm="100000">
                                          <p:val>
                                            <p:strVal val="#ppt_w"/>
                                          </p:val>
                                        </p:tav>
                                      </p:tavLst>
                                    </p:anim>
                                    <p:anim calcmode="lin" valueType="num">
                                      <p:cBhvr additive="repl">
                                        <p:cTn id="547" dur="500" fill="hold"/>
                                        <p:tgtEl>
                                          <p:spTgt spid="1575"/>
                                        </p:tgtEl>
                                        <p:attrNameLst>
                                          <p:attrName>ppt_h</p:attrName>
                                        </p:attrNameLst>
                                      </p:cBhvr>
                                      <p:tavLst>
                                        <p:tav tm="0">
                                          <p:val>
                                            <p:fltVal val="0"/>
                                          </p:val>
                                        </p:tav>
                                        <p:tav tm="100000">
                                          <p:val>
                                            <p:strVal val="#ppt_h"/>
                                          </p:val>
                                        </p:tav>
                                      </p:tavLst>
                                    </p:anim>
                                  </p:childTnLst>
                                </p:cTn>
                              </p:par>
                            </p:childTnLst>
                          </p:cTn>
                        </p:par>
                        <p:par>
                          <p:cTn id="548" fill="hold">
                            <p:stCondLst>
                              <p:cond delay="1000"/>
                            </p:stCondLst>
                            <p:childTnLst>
                              <p:par>
                                <p:cTn id="549" nodeType="afterEffect" fill="hold" presetClass="entr" presetID="22" presetSubtype="4">
                                  <p:stCondLst>
                                    <p:cond delay="0"/>
                                  </p:stCondLst>
                                  <p:childTnLst>
                                    <p:set>
                                      <p:cBhvr>
                                        <p:cTn id="550" dur="1" fill="hold">
                                          <p:stCondLst>
                                            <p:cond delay="0"/>
                                          </p:stCondLst>
                                        </p:cTn>
                                        <p:tgtEl>
                                          <p:spTgt spid="1874"/>
                                        </p:tgtEl>
                                        <p:attrNameLst>
                                          <p:attrName>style.visibility</p:attrName>
                                        </p:attrNameLst>
                                      </p:cBhvr>
                                      <p:to>
                                        <p:strVal val="visible"/>
                                      </p:to>
                                    </p:set>
                                    <p:animEffect filter="wipe(down)" transition="in">
                                      <p:cBhvr additive="repl">
                                        <p:cTn id="551" dur="500"/>
                                        <p:tgtEl>
                                          <p:spTgt spid="1874"/>
                                        </p:tgtEl>
                                      </p:cBhvr>
                                    </p:animEffect>
                                  </p:childTnLst>
                                </p:cTn>
                              </p:par>
                            </p:childTnLst>
                          </p:cTn>
                        </p:par>
                        <p:par>
                          <p:cTn id="552" fill="hold">
                            <p:stCondLst>
                              <p:cond delay="1500"/>
                            </p:stCondLst>
                            <p:childTnLst>
                              <p:par>
                                <p:cTn id="553" nodeType="afterEffect" fill="hold" presetClass="entr" presetID="1">
                                  <p:stCondLst>
                                    <p:cond delay="0"/>
                                  </p:stCondLst>
                                  <p:childTnLst>
                                    <p:set>
                                      <p:cBhvr>
                                        <p:cTn id="554" dur="1" fill="hold">
                                          <p:stCondLst>
                                            <p:cond delay="499"/>
                                          </p:stCondLst>
                                        </p:cTn>
                                        <p:tgtEl>
                                          <p:spTgt spid="18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PlaceHolder 1"/>
          <p:cNvSpPr>
            <a:spLocks noGrp="1"/>
          </p:cNvSpPr>
          <p:nvPr>
            <p:ph type="title"/>
          </p:nvPr>
        </p:nvSpPr>
        <p:spPr>
          <a:xfrm>
            <a:off x="0" y="6854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FACTORS AFFECTING SONIC </a:t>
            </a:r>
            <a:br>
              <a:rPr sz="4000"/>
            </a:br>
            <a:r>
              <a:rPr b="1" lang="en-US" sz="4000" spc="-1" strike="noStrike">
                <a:solidFill>
                  <a:srgbClr val="990000"/>
                </a:solidFill>
                <a:latin typeface="Arial"/>
              </a:rPr>
              <a:t>LOG RESPONSE</a:t>
            </a:r>
            <a:endParaRPr b="0" lang="en-US" sz="4000" spc="-1" strike="noStrike">
              <a:solidFill>
                <a:srgbClr val="000000"/>
              </a:solidFill>
              <a:latin typeface="Times New Roman"/>
            </a:endParaRPr>
          </a:p>
        </p:txBody>
      </p:sp>
      <p:sp>
        <p:nvSpPr>
          <p:cNvPr id="1879" name="PlaceHolder 2"/>
          <p:cNvSpPr>
            <a:spLocks noGrp="1"/>
          </p:cNvSpPr>
          <p:nvPr>
            <p:ph/>
          </p:nvPr>
        </p:nvSpPr>
        <p:spPr>
          <a:xfrm>
            <a:off x="1218960" y="2590920"/>
            <a:ext cx="6933960" cy="3047760"/>
          </a:xfrm>
          <a:prstGeom prst="rect">
            <a:avLst/>
          </a:prstGeom>
          <a:noFill/>
          <a:ln w="0">
            <a:noFill/>
          </a:ln>
        </p:spPr>
        <p:txBody>
          <a:bodyPr anchor="t">
            <a:normAutofit/>
          </a:bodyPr>
          <a:p>
            <a:pPr marL="343080" indent="-343080">
              <a:lnSpc>
                <a:spcPct val="100000"/>
              </a:lnSpc>
              <a:spcBef>
                <a:spcPts val="7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consolidated formations</a:t>
            </a:r>
            <a:endParaRPr b="0" lang="en-US" sz="3200" spc="-1" strike="noStrike">
              <a:solidFill>
                <a:srgbClr val="000000"/>
              </a:solidFill>
              <a:latin typeface="Times New Roman"/>
            </a:endParaRPr>
          </a:p>
          <a:p>
            <a:pPr marL="343080" indent="-343080">
              <a:lnSpc>
                <a:spcPct val="100000"/>
              </a:lnSpc>
              <a:spcBef>
                <a:spcPts val="7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ly fractured formations</a:t>
            </a:r>
            <a:endParaRPr b="0" lang="en-US" sz="3200" spc="-1" strike="noStrike">
              <a:solidFill>
                <a:srgbClr val="000000"/>
              </a:solidFill>
              <a:latin typeface="Times New Roman"/>
            </a:endParaRPr>
          </a:p>
          <a:p>
            <a:pPr marL="343080" indent="-343080">
              <a:lnSpc>
                <a:spcPct val="100000"/>
              </a:lnSpc>
              <a:spcBef>
                <a:spcPts val="7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drocarbons (especially gas)</a:t>
            </a:r>
            <a:endParaRPr b="0" lang="en-US" sz="3200" spc="-1" strike="noStrike">
              <a:solidFill>
                <a:srgbClr val="000000"/>
              </a:solidFill>
              <a:latin typeface="Times New Roman"/>
            </a:endParaRPr>
          </a:p>
          <a:p>
            <a:pPr marL="343080" indent="-343080">
              <a:lnSpc>
                <a:spcPct val="100000"/>
              </a:lnSpc>
              <a:spcBef>
                <a:spcPts val="7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gose salt sec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16" presetSubtype="42">
                                  <p:stCondLst>
                                    <p:cond delay="0"/>
                                  </p:stCondLst>
                                  <p:childTnLst>
                                    <p:set>
                                      <p:cBhvr>
                                        <p:cTn id="560" dur="1" fill="hold">
                                          <p:stCondLst>
                                            <p:cond delay="0"/>
                                          </p:stCondLst>
                                        </p:cTn>
                                        <p:tgtEl>
                                          <p:spTgt spid="1878"/>
                                        </p:tgtEl>
                                        <p:attrNameLst>
                                          <p:attrName>style.visibility</p:attrName>
                                        </p:attrNameLst>
                                      </p:cBhvr>
                                      <p:to>
                                        <p:strVal val="visible"/>
                                      </p:to>
                                    </p:set>
                                    <p:animEffect filter="barn(outHorizontal)" transition="in">
                                      <p:cBhvr additive="repl">
                                        <p:cTn id="561" dur="500"/>
                                        <p:tgtEl>
                                          <p:spTgt spid="1878"/>
                                        </p:tgtEl>
                                      </p:cBhvr>
                                    </p:animEffect>
                                  </p:childTnLst>
                                </p:cTn>
                              </p:par>
                            </p:childTnLst>
                          </p:cTn>
                        </p:par>
                        <p:par>
                          <p:cTn id="562" fill="hold">
                            <p:stCondLst>
                              <p:cond delay="500"/>
                            </p:stCondLst>
                            <p:childTnLst>
                              <p:par>
                                <p:cTn id="563" nodeType="afterEffect" fill="hold" presetClass="entr" presetID="15">
                                  <p:stCondLst>
                                    <p:cond delay="0"/>
                                  </p:stCondLst>
                                  <p:childTnLst>
                                    <p:set>
                                      <p:cBhvr>
                                        <p:cTn id="564" dur="1" fill="hold">
                                          <p:stCondLst>
                                            <p:cond delay="0"/>
                                          </p:stCondLst>
                                        </p:cTn>
                                        <p:tgtEl>
                                          <p:spTgt spid="1879">
                                            <p:txEl>
                                              <p:pRg st="0" end="0"/>
                                            </p:txEl>
                                          </p:spTgt>
                                        </p:tgtEl>
                                        <p:attrNameLst>
                                          <p:attrName>style.visibility</p:attrName>
                                        </p:attrNameLst>
                                      </p:cBhvr>
                                      <p:to>
                                        <p:strVal val="visible"/>
                                      </p:to>
                                    </p:set>
                                    <p:anim calcmode="lin" valueType="num">
                                      <p:cBhvr additive="repl">
                                        <p:cTn id="565" dur="1000" fill="hold"/>
                                        <p:tgtEl>
                                          <p:spTgt spid="1879">
                                            <p:txEl>
                                              <p:pRg st="0" end="0"/>
                                            </p:txEl>
                                          </p:spTgt>
                                        </p:tgtEl>
                                        <p:attrNameLst>
                                          <p:attrName>ppt_w</p:attrName>
                                        </p:attrNameLst>
                                      </p:cBhvr>
                                      <p:tavLst>
                                        <p:tav tm="0">
                                          <p:val>
                                            <p:fltVal val="0"/>
                                          </p:val>
                                        </p:tav>
                                        <p:tav tm="100000">
                                          <p:val>
                                            <p:strVal val="#ppt_w"/>
                                          </p:val>
                                        </p:tav>
                                      </p:tavLst>
                                    </p:anim>
                                    <p:anim calcmode="lin" valueType="num">
                                      <p:cBhvr additive="repl">
                                        <p:cTn id="566" dur="1000" fill="hold"/>
                                        <p:tgtEl>
                                          <p:spTgt spid="1879">
                                            <p:txEl>
                                              <p:pRg st="0" end="0"/>
                                            </p:txEl>
                                          </p:spTgt>
                                        </p:tgtEl>
                                        <p:attrNameLst>
                                          <p:attrName>ppt_h</p:attrName>
                                        </p:attrNameLst>
                                      </p:cBhvr>
                                      <p:tavLst>
                                        <p:tav tm="0">
                                          <p:val>
                                            <p:fltVal val="0"/>
                                          </p:val>
                                        </p:tav>
                                        <p:tav tm="100000">
                                          <p:val>
                                            <p:strVal val="#ppt_h"/>
                                          </p:val>
                                        </p:tav>
                                      </p:tavLst>
                                    </p:anim>
                                    <p:anim calcmode="lin" valueType="num">
                                      <p:cBhvr additive="repl">
                                        <p:cTn id="567" dur="1000" fill="hold"/>
                                        <p:tgtEl>
                                          <p:spTgt spid="187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68" dur="1000" fill="hold"/>
                                        <p:tgtEl>
                                          <p:spTgt spid="187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569" fill="hold">
                            <p:stCondLst>
                              <p:cond delay="1500"/>
                            </p:stCondLst>
                            <p:childTnLst>
                              <p:par>
                                <p:cTn id="570" nodeType="afterEffect" fill="hold" presetClass="entr" presetID="15">
                                  <p:stCondLst>
                                    <p:cond delay="0"/>
                                  </p:stCondLst>
                                  <p:childTnLst>
                                    <p:set>
                                      <p:cBhvr>
                                        <p:cTn id="571" dur="1" fill="hold">
                                          <p:stCondLst>
                                            <p:cond delay="0"/>
                                          </p:stCondLst>
                                        </p:cTn>
                                        <p:tgtEl>
                                          <p:spTgt spid="1879">
                                            <p:txEl>
                                              <p:pRg st="1" end="1"/>
                                            </p:txEl>
                                          </p:spTgt>
                                        </p:tgtEl>
                                        <p:attrNameLst>
                                          <p:attrName>style.visibility</p:attrName>
                                        </p:attrNameLst>
                                      </p:cBhvr>
                                      <p:to>
                                        <p:strVal val="visible"/>
                                      </p:to>
                                    </p:set>
                                    <p:anim calcmode="lin" valueType="num">
                                      <p:cBhvr additive="repl">
                                        <p:cTn id="572" dur="1000" fill="hold"/>
                                        <p:tgtEl>
                                          <p:spTgt spid="1879">
                                            <p:txEl>
                                              <p:pRg st="1" end="1"/>
                                            </p:txEl>
                                          </p:spTgt>
                                        </p:tgtEl>
                                        <p:attrNameLst>
                                          <p:attrName>ppt_w</p:attrName>
                                        </p:attrNameLst>
                                      </p:cBhvr>
                                      <p:tavLst>
                                        <p:tav tm="0">
                                          <p:val>
                                            <p:fltVal val="0"/>
                                          </p:val>
                                        </p:tav>
                                        <p:tav tm="100000">
                                          <p:val>
                                            <p:strVal val="#ppt_w"/>
                                          </p:val>
                                        </p:tav>
                                      </p:tavLst>
                                    </p:anim>
                                    <p:anim calcmode="lin" valueType="num">
                                      <p:cBhvr additive="repl">
                                        <p:cTn id="573" dur="1000" fill="hold"/>
                                        <p:tgtEl>
                                          <p:spTgt spid="1879">
                                            <p:txEl>
                                              <p:pRg st="1" end="1"/>
                                            </p:txEl>
                                          </p:spTgt>
                                        </p:tgtEl>
                                        <p:attrNameLst>
                                          <p:attrName>ppt_h</p:attrName>
                                        </p:attrNameLst>
                                      </p:cBhvr>
                                      <p:tavLst>
                                        <p:tav tm="0">
                                          <p:val>
                                            <p:fltVal val="0"/>
                                          </p:val>
                                        </p:tav>
                                        <p:tav tm="100000">
                                          <p:val>
                                            <p:strVal val="#ppt_h"/>
                                          </p:val>
                                        </p:tav>
                                      </p:tavLst>
                                    </p:anim>
                                    <p:anim calcmode="lin" valueType="num">
                                      <p:cBhvr additive="repl">
                                        <p:cTn id="574" dur="1000" fill="hold"/>
                                        <p:tgtEl>
                                          <p:spTgt spid="187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75" dur="1000" fill="hold"/>
                                        <p:tgtEl>
                                          <p:spTgt spid="187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576" fill="hold">
                            <p:stCondLst>
                              <p:cond delay="2500"/>
                            </p:stCondLst>
                            <p:childTnLst>
                              <p:par>
                                <p:cTn id="577" nodeType="afterEffect" fill="hold" presetClass="entr" presetID="15">
                                  <p:stCondLst>
                                    <p:cond delay="0"/>
                                  </p:stCondLst>
                                  <p:childTnLst>
                                    <p:set>
                                      <p:cBhvr>
                                        <p:cTn id="578" dur="1" fill="hold">
                                          <p:stCondLst>
                                            <p:cond delay="0"/>
                                          </p:stCondLst>
                                        </p:cTn>
                                        <p:tgtEl>
                                          <p:spTgt spid="1879">
                                            <p:txEl>
                                              <p:pRg st="2" end="2"/>
                                            </p:txEl>
                                          </p:spTgt>
                                        </p:tgtEl>
                                        <p:attrNameLst>
                                          <p:attrName>style.visibility</p:attrName>
                                        </p:attrNameLst>
                                      </p:cBhvr>
                                      <p:to>
                                        <p:strVal val="visible"/>
                                      </p:to>
                                    </p:set>
                                    <p:anim calcmode="lin" valueType="num">
                                      <p:cBhvr additive="repl">
                                        <p:cTn id="579" dur="1000" fill="hold"/>
                                        <p:tgtEl>
                                          <p:spTgt spid="1879">
                                            <p:txEl>
                                              <p:pRg st="2" end="2"/>
                                            </p:txEl>
                                          </p:spTgt>
                                        </p:tgtEl>
                                        <p:attrNameLst>
                                          <p:attrName>ppt_w</p:attrName>
                                        </p:attrNameLst>
                                      </p:cBhvr>
                                      <p:tavLst>
                                        <p:tav tm="0">
                                          <p:val>
                                            <p:fltVal val="0"/>
                                          </p:val>
                                        </p:tav>
                                        <p:tav tm="100000">
                                          <p:val>
                                            <p:strVal val="#ppt_w"/>
                                          </p:val>
                                        </p:tav>
                                      </p:tavLst>
                                    </p:anim>
                                    <p:anim calcmode="lin" valueType="num">
                                      <p:cBhvr additive="repl">
                                        <p:cTn id="580" dur="1000" fill="hold"/>
                                        <p:tgtEl>
                                          <p:spTgt spid="1879">
                                            <p:txEl>
                                              <p:pRg st="2" end="2"/>
                                            </p:txEl>
                                          </p:spTgt>
                                        </p:tgtEl>
                                        <p:attrNameLst>
                                          <p:attrName>ppt_h</p:attrName>
                                        </p:attrNameLst>
                                      </p:cBhvr>
                                      <p:tavLst>
                                        <p:tav tm="0">
                                          <p:val>
                                            <p:fltVal val="0"/>
                                          </p:val>
                                        </p:tav>
                                        <p:tav tm="100000">
                                          <p:val>
                                            <p:strVal val="#ppt_h"/>
                                          </p:val>
                                        </p:tav>
                                      </p:tavLst>
                                    </p:anim>
                                    <p:anim calcmode="lin" valueType="num">
                                      <p:cBhvr additive="repl">
                                        <p:cTn id="581" dur="1000" fill="hold"/>
                                        <p:tgtEl>
                                          <p:spTgt spid="187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2" dur="1000" fill="hold"/>
                                        <p:tgtEl>
                                          <p:spTgt spid="187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583" fill="hold">
                            <p:stCondLst>
                              <p:cond delay="3500"/>
                            </p:stCondLst>
                            <p:childTnLst>
                              <p:par>
                                <p:cTn id="584" nodeType="afterEffect" fill="hold" presetClass="entr" presetID="15">
                                  <p:stCondLst>
                                    <p:cond delay="0"/>
                                  </p:stCondLst>
                                  <p:childTnLst>
                                    <p:set>
                                      <p:cBhvr>
                                        <p:cTn id="585" dur="1" fill="hold">
                                          <p:stCondLst>
                                            <p:cond delay="0"/>
                                          </p:stCondLst>
                                        </p:cTn>
                                        <p:tgtEl>
                                          <p:spTgt spid="1879">
                                            <p:txEl>
                                              <p:pRg st="3" end="3"/>
                                            </p:txEl>
                                          </p:spTgt>
                                        </p:tgtEl>
                                        <p:attrNameLst>
                                          <p:attrName>style.visibility</p:attrName>
                                        </p:attrNameLst>
                                      </p:cBhvr>
                                      <p:to>
                                        <p:strVal val="visible"/>
                                      </p:to>
                                    </p:set>
                                    <p:anim calcmode="lin" valueType="num">
                                      <p:cBhvr additive="repl">
                                        <p:cTn id="586" dur="1000" fill="hold"/>
                                        <p:tgtEl>
                                          <p:spTgt spid="1879">
                                            <p:txEl>
                                              <p:pRg st="3" end="3"/>
                                            </p:txEl>
                                          </p:spTgt>
                                        </p:tgtEl>
                                        <p:attrNameLst>
                                          <p:attrName>ppt_w</p:attrName>
                                        </p:attrNameLst>
                                      </p:cBhvr>
                                      <p:tavLst>
                                        <p:tav tm="0">
                                          <p:val>
                                            <p:fltVal val="0"/>
                                          </p:val>
                                        </p:tav>
                                        <p:tav tm="100000">
                                          <p:val>
                                            <p:strVal val="#ppt_w"/>
                                          </p:val>
                                        </p:tav>
                                      </p:tavLst>
                                    </p:anim>
                                    <p:anim calcmode="lin" valueType="num">
                                      <p:cBhvr additive="repl">
                                        <p:cTn id="587" dur="1000" fill="hold"/>
                                        <p:tgtEl>
                                          <p:spTgt spid="1879">
                                            <p:txEl>
                                              <p:pRg st="3" end="3"/>
                                            </p:txEl>
                                          </p:spTgt>
                                        </p:tgtEl>
                                        <p:attrNameLst>
                                          <p:attrName>ppt_h</p:attrName>
                                        </p:attrNameLst>
                                      </p:cBhvr>
                                      <p:tavLst>
                                        <p:tav tm="0">
                                          <p:val>
                                            <p:fltVal val="0"/>
                                          </p:val>
                                        </p:tav>
                                        <p:tav tm="100000">
                                          <p:val>
                                            <p:strVal val="#ppt_h"/>
                                          </p:val>
                                        </p:tav>
                                      </p:tavLst>
                                    </p:anim>
                                    <p:anim calcmode="lin" valueType="num">
                                      <p:cBhvr additive="repl">
                                        <p:cTn id="588" dur="1000" fill="hold"/>
                                        <p:tgtEl>
                                          <p:spTgt spid="187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9" dur="1000" fill="hold"/>
                                        <p:tgtEl>
                                          <p:spTgt spid="187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6997680" y="3838680"/>
            <a:ext cx="1384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il sand</a:t>
            </a:r>
            <a:endParaRPr b="0" lang="en-US" sz="2400" spc="-1" strike="noStrike">
              <a:solidFill>
                <a:srgbClr val="000000"/>
              </a:solidFill>
              <a:latin typeface="Times New Roman"/>
            </a:endParaRPr>
          </a:p>
        </p:txBody>
      </p:sp>
      <p:grpSp>
        <p:nvGrpSpPr>
          <p:cNvPr id="156" name="Group 3"/>
          <p:cNvGrpSpPr/>
          <p:nvPr/>
        </p:nvGrpSpPr>
        <p:grpSpPr>
          <a:xfrm>
            <a:off x="1449000" y="1305000"/>
            <a:ext cx="6543360" cy="5045040"/>
            <a:chOff x="1449000" y="1305000"/>
            <a:chExt cx="6543360" cy="5045040"/>
          </a:xfrm>
        </p:grpSpPr>
        <p:sp>
          <p:nvSpPr>
            <p:cNvPr id="157" name="Rectangle 4"/>
            <p:cNvSpPr/>
            <p:nvPr/>
          </p:nvSpPr>
          <p:spPr>
            <a:xfrm>
              <a:off x="1598760" y="2860560"/>
              <a:ext cx="5359320" cy="803520"/>
            </a:xfrm>
            <a:prstGeom prst="rect">
              <a:avLst/>
            </a:prstGeom>
            <a:blipFill rotWithShape="0">
              <a:blip r:embed="rId1"/>
              <a:srcRect/>
              <a:tile tx="0" ty="0" sx="100000" sy="100000" algn="ctr"/>
            </a:blipFill>
            <a:ln w="19080">
              <a:solidFill>
                <a:srgbClr val="0808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5"/>
            <p:cNvSpPr/>
            <p:nvPr/>
          </p:nvSpPr>
          <p:spPr>
            <a:xfrm>
              <a:off x="1612800" y="3665520"/>
              <a:ext cx="5359680" cy="803160"/>
            </a:xfrm>
            <a:prstGeom prst="rect">
              <a:avLst/>
            </a:prstGeom>
            <a:blipFill rotWithShape="0">
              <a:blip r:embed="rId2"/>
              <a:srcRect/>
              <a:tile tx="0" ty="0" sx="100000" sy="100000" algn="ctr"/>
            </a:blipFill>
            <a:ln w="19080">
              <a:solidFill>
                <a:srgbClr val="0808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6"/>
            <p:cNvSpPr/>
            <p:nvPr/>
          </p:nvSpPr>
          <p:spPr>
            <a:xfrm>
              <a:off x="1598760" y="4470480"/>
              <a:ext cx="5359320" cy="689040"/>
            </a:xfrm>
            <a:prstGeom prst="rect">
              <a:avLst/>
            </a:prstGeom>
            <a:blipFill rotWithShape="0">
              <a:blip r:embed="rId3"/>
              <a:srcRect/>
              <a:tile tx="0" ty="0" sx="100000" sy="100000" algn="ctr"/>
            </a:blipFill>
            <a:ln w="19080">
              <a:solidFill>
                <a:srgbClr val="0808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Rectangle 7"/>
            <p:cNvSpPr/>
            <p:nvPr/>
          </p:nvSpPr>
          <p:spPr>
            <a:xfrm>
              <a:off x="1527120" y="2801880"/>
              <a:ext cx="130320" cy="2441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8"/>
            <p:cNvSpPr/>
            <p:nvPr/>
          </p:nvSpPr>
          <p:spPr>
            <a:xfrm>
              <a:off x="6886440" y="2801880"/>
              <a:ext cx="130320" cy="2441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Freeform 9"/>
            <p:cNvSpPr/>
            <p:nvPr/>
          </p:nvSpPr>
          <p:spPr>
            <a:xfrm>
              <a:off x="2158920" y="2270160"/>
              <a:ext cx="346320" cy="3276720"/>
            </a:xfrm>
            <a:custGeom>
              <a:avLst/>
              <a:gdLst>
                <a:gd name="textAreaLeft" fmla="*/ 0 w 346320"/>
                <a:gd name="textAreaRight" fmla="*/ 346680 w 346320"/>
                <a:gd name="textAreaTop" fmla="*/ 0 h 3276720"/>
                <a:gd name="textAreaBottom" fmla="*/ 3277080 h 3276720"/>
              </a:gdLst>
              <a:ahLst/>
              <a:rect l="textAreaLeft" t="textAreaTop" r="textAreaRight" b="textAreaBottom"/>
              <a:pathLst>
                <a:path w="178" h="1689">
                  <a:moveTo>
                    <a:pt x="178" y="0"/>
                  </a:moveTo>
                  <a:lnTo>
                    <a:pt x="170" y="96"/>
                  </a:lnTo>
                  <a:lnTo>
                    <a:pt x="170" y="163"/>
                  </a:lnTo>
                  <a:lnTo>
                    <a:pt x="163" y="266"/>
                  </a:lnTo>
                  <a:lnTo>
                    <a:pt x="170" y="378"/>
                  </a:lnTo>
                  <a:lnTo>
                    <a:pt x="178" y="466"/>
                  </a:lnTo>
                  <a:lnTo>
                    <a:pt x="170" y="629"/>
                  </a:lnTo>
                  <a:lnTo>
                    <a:pt x="155" y="689"/>
                  </a:lnTo>
                  <a:lnTo>
                    <a:pt x="96" y="755"/>
                  </a:lnTo>
                  <a:lnTo>
                    <a:pt x="52" y="822"/>
                  </a:lnTo>
                  <a:lnTo>
                    <a:pt x="7" y="889"/>
                  </a:lnTo>
                  <a:lnTo>
                    <a:pt x="0" y="948"/>
                  </a:lnTo>
                  <a:lnTo>
                    <a:pt x="22" y="992"/>
                  </a:lnTo>
                  <a:lnTo>
                    <a:pt x="37" y="1044"/>
                  </a:lnTo>
                  <a:lnTo>
                    <a:pt x="96" y="1089"/>
                  </a:lnTo>
                  <a:lnTo>
                    <a:pt x="148" y="1118"/>
                  </a:lnTo>
                  <a:lnTo>
                    <a:pt x="170" y="1237"/>
                  </a:lnTo>
                  <a:lnTo>
                    <a:pt x="118" y="1444"/>
                  </a:lnTo>
                  <a:lnTo>
                    <a:pt x="126" y="1518"/>
                  </a:lnTo>
                  <a:lnTo>
                    <a:pt x="148" y="1578"/>
                  </a:lnTo>
                  <a:lnTo>
                    <a:pt x="148" y="1674"/>
                  </a:lnTo>
                  <a:lnTo>
                    <a:pt x="103" y="1689"/>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Freeform 10"/>
            <p:cNvSpPr/>
            <p:nvPr/>
          </p:nvSpPr>
          <p:spPr>
            <a:xfrm>
              <a:off x="4471920" y="2212920"/>
              <a:ext cx="690480" cy="3317760"/>
            </a:xfrm>
            <a:custGeom>
              <a:avLst/>
              <a:gdLst>
                <a:gd name="textAreaLeft" fmla="*/ 0 w 690480"/>
                <a:gd name="textAreaRight" fmla="*/ 690840 w 690480"/>
                <a:gd name="textAreaTop" fmla="*/ 0 h 3317760"/>
                <a:gd name="textAreaBottom" fmla="*/ 3318120 h 3317760"/>
              </a:gdLst>
              <a:ahLst/>
              <a:rect l="textAreaLeft" t="textAreaTop" r="textAreaRight" b="textAreaBottom"/>
              <a:pathLst>
                <a:path w="356" h="1711">
                  <a:moveTo>
                    <a:pt x="59" y="0"/>
                  </a:moveTo>
                  <a:lnTo>
                    <a:pt x="52" y="126"/>
                  </a:lnTo>
                  <a:lnTo>
                    <a:pt x="59" y="200"/>
                  </a:lnTo>
                  <a:lnTo>
                    <a:pt x="74" y="282"/>
                  </a:lnTo>
                  <a:lnTo>
                    <a:pt x="89" y="348"/>
                  </a:lnTo>
                  <a:lnTo>
                    <a:pt x="126" y="430"/>
                  </a:lnTo>
                  <a:lnTo>
                    <a:pt x="141" y="482"/>
                  </a:lnTo>
                  <a:lnTo>
                    <a:pt x="156" y="534"/>
                  </a:lnTo>
                  <a:lnTo>
                    <a:pt x="156" y="585"/>
                  </a:lnTo>
                  <a:lnTo>
                    <a:pt x="134" y="637"/>
                  </a:lnTo>
                  <a:lnTo>
                    <a:pt x="59" y="659"/>
                  </a:lnTo>
                  <a:lnTo>
                    <a:pt x="0" y="697"/>
                  </a:lnTo>
                  <a:lnTo>
                    <a:pt x="82" y="756"/>
                  </a:lnTo>
                  <a:lnTo>
                    <a:pt x="148" y="785"/>
                  </a:lnTo>
                  <a:lnTo>
                    <a:pt x="222" y="822"/>
                  </a:lnTo>
                  <a:lnTo>
                    <a:pt x="245" y="859"/>
                  </a:lnTo>
                  <a:lnTo>
                    <a:pt x="259" y="911"/>
                  </a:lnTo>
                  <a:lnTo>
                    <a:pt x="304" y="934"/>
                  </a:lnTo>
                  <a:lnTo>
                    <a:pt x="341" y="971"/>
                  </a:lnTo>
                  <a:lnTo>
                    <a:pt x="356" y="1059"/>
                  </a:lnTo>
                  <a:lnTo>
                    <a:pt x="326" y="1119"/>
                  </a:lnTo>
                  <a:lnTo>
                    <a:pt x="274" y="1141"/>
                  </a:lnTo>
                  <a:lnTo>
                    <a:pt x="208" y="1171"/>
                  </a:lnTo>
                  <a:lnTo>
                    <a:pt x="119" y="1185"/>
                  </a:lnTo>
                  <a:cubicBezTo>
                    <a:pt x="77" y="1194"/>
                    <a:pt x="93" y="1188"/>
                    <a:pt x="67" y="1200"/>
                  </a:cubicBezTo>
                  <a:lnTo>
                    <a:pt x="22" y="1237"/>
                  </a:lnTo>
                  <a:lnTo>
                    <a:pt x="15" y="1297"/>
                  </a:lnTo>
                  <a:lnTo>
                    <a:pt x="52" y="1326"/>
                  </a:lnTo>
                  <a:lnTo>
                    <a:pt x="59" y="1408"/>
                  </a:lnTo>
                  <a:lnTo>
                    <a:pt x="22" y="1467"/>
                  </a:lnTo>
                  <a:lnTo>
                    <a:pt x="52" y="1504"/>
                  </a:lnTo>
                  <a:lnTo>
                    <a:pt x="22" y="1548"/>
                  </a:lnTo>
                  <a:lnTo>
                    <a:pt x="15" y="1615"/>
                  </a:lnTo>
                  <a:lnTo>
                    <a:pt x="30" y="1711"/>
                  </a:lnTo>
                </a:path>
              </a:pathLst>
            </a:custGeom>
            <a:noFill/>
            <a:ln w="38160">
              <a:solidFill>
                <a:srgbClr val="0048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Freeform 11"/>
            <p:cNvSpPr/>
            <p:nvPr/>
          </p:nvSpPr>
          <p:spPr>
            <a:xfrm>
              <a:off x="5694480" y="2182680"/>
              <a:ext cx="515880" cy="3321360"/>
            </a:xfrm>
            <a:custGeom>
              <a:avLst/>
              <a:gdLst>
                <a:gd name="textAreaLeft" fmla="*/ 0 w 515880"/>
                <a:gd name="textAreaRight" fmla="*/ 516240 w 515880"/>
                <a:gd name="textAreaTop" fmla="*/ 0 h 3321360"/>
                <a:gd name="textAreaBottom" fmla="*/ 3321720 h 3321360"/>
              </a:gdLst>
              <a:ahLst/>
              <a:rect l="textAreaLeft" t="textAreaTop" r="textAreaRight" b="textAreaBottom"/>
              <a:pathLst>
                <a:path w="325" h="2092">
                  <a:moveTo>
                    <a:pt x="308" y="0"/>
                  </a:moveTo>
                  <a:lnTo>
                    <a:pt x="325" y="109"/>
                  </a:lnTo>
                  <a:lnTo>
                    <a:pt x="308" y="218"/>
                  </a:lnTo>
                  <a:lnTo>
                    <a:pt x="290" y="326"/>
                  </a:lnTo>
                  <a:lnTo>
                    <a:pt x="290" y="398"/>
                  </a:lnTo>
                  <a:lnTo>
                    <a:pt x="316" y="472"/>
                  </a:lnTo>
                  <a:lnTo>
                    <a:pt x="316" y="579"/>
                  </a:lnTo>
                  <a:lnTo>
                    <a:pt x="308" y="653"/>
                  </a:lnTo>
                  <a:lnTo>
                    <a:pt x="298" y="743"/>
                  </a:lnTo>
                  <a:lnTo>
                    <a:pt x="308" y="842"/>
                  </a:lnTo>
                  <a:lnTo>
                    <a:pt x="308" y="932"/>
                  </a:lnTo>
                  <a:lnTo>
                    <a:pt x="211" y="938"/>
                  </a:lnTo>
                  <a:lnTo>
                    <a:pt x="148" y="956"/>
                  </a:lnTo>
                  <a:lnTo>
                    <a:pt x="72" y="987"/>
                  </a:lnTo>
                  <a:lnTo>
                    <a:pt x="9" y="1023"/>
                  </a:lnTo>
                  <a:lnTo>
                    <a:pt x="0" y="1086"/>
                  </a:lnTo>
                  <a:lnTo>
                    <a:pt x="9" y="1160"/>
                  </a:lnTo>
                  <a:lnTo>
                    <a:pt x="64" y="1187"/>
                  </a:lnTo>
                  <a:lnTo>
                    <a:pt x="117" y="1232"/>
                  </a:lnTo>
                  <a:lnTo>
                    <a:pt x="172" y="1286"/>
                  </a:lnTo>
                  <a:lnTo>
                    <a:pt x="127" y="1340"/>
                  </a:lnTo>
                  <a:lnTo>
                    <a:pt x="81" y="1376"/>
                  </a:lnTo>
                  <a:lnTo>
                    <a:pt x="127" y="1439"/>
                  </a:lnTo>
                  <a:lnTo>
                    <a:pt x="226" y="1521"/>
                  </a:lnTo>
                  <a:lnTo>
                    <a:pt x="244" y="1575"/>
                  </a:lnTo>
                  <a:lnTo>
                    <a:pt x="244" y="1639"/>
                  </a:lnTo>
                  <a:lnTo>
                    <a:pt x="235" y="1739"/>
                  </a:lnTo>
                  <a:lnTo>
                    <a:pt x="271" y="1820"/>
                  </a:lnTo>
                  <a:lnTo>
                    <a:pt x="271" y="1893"/>
                  </a:lnTo>
                  <a:lnTo>
                    <a:pt x="253" y="1983"/>
                  </a:lnTo>
                  <a:lnTo>
                    <a:pt x="263" y="2037"/>
                  </a:lnTo>
                  <a:lnTo>
                    <a:pt x="253" y="2092"/>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Rectangle 12"/>
            <p:cNvSpPr/>
            <p:nvPr/>
          </p:nvSpPr>
          <p:spPr>
            <a:xfrm>
              <a:off x="3352680" y="2529000"/>
              <a:ext cx="271440" cy="3390840"/>
            </a:xfrm>
            <a:prstGeom prst="rect">
              <a:avLst/>
            </a:prstGeom>
            <a:gradFill rotWithShape="0">
              <a:gsLst>
                <a:gs pos="0">
                  <a:srgbClr val="a9a9a9"/>
                </a:gs>
                <a:gs pos="50000">
                  <a:srgbClr val="ffffff"/>
                </a:gs>
                <a:gs pos="100000">
                  <a:srgbClr val="a9a9a9"/>
                </a:gs>
              </a:gsLst>
              <a:lin ang="0"/>
            </a:gradFill>
            <a:ln w="1908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13"/>
            <p:cNvSpPr/>
            <p:nvPr/>
          </p:nvSpPr>
          <p:spPr>
            <a:xfrm>
              <a:off x="3251160" y="5877000"/>
              <a:ext cx="44460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14"/>
            <p:cNvSpPr/>
            <p:nvPr/>
          </p:nvSpPr>
          <p:spPr>
            <a:xfrm>
              <a:off x="3251160" y="2457360"/>
              <a:ext cx="44460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Line 15"/>
            <p:cNvSpPr/>
            <p:nvPr/>
          </p:nvSpPr>
          <p:spPr>
            <a:xfrm>
              <a:off x="4443480" y="2139840"/>
              <a:ext cx="387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Line 16"/>
            <p:cNvSpPr/>
            <p:nvPr/>
          </p:nvSpPr>
          <p:spPr>
            <a:xfrm>
              <a:off x="2301840" y="2139840"/>
              <a:ext cx="387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Line 17"/>
            <p:cNvSpPr/>
            <p:nvPr/>
          </p:nvSpPr>
          <p:spPr>
            <a:xfrm flipH="1">
              <a:off x="5979600" y="2139840"/>
              <a:ext cx="389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Text Box 18"/>
            <p:cNvSpPr/>
            <p:nvPr/>
          </p:nvSpPr>
          <p:spPr>
            <a:xfrm>
              <a:off x="1754640" y="5524560"/>
              <a:ext cx="1299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m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a:t>
              </a:r>
              <a:endParaRPr b="0" lang="en-US" sz="2400" spc="-1" strike="noStrike">
                <a:solidFill>
                  <a:srgbClr val="000000"/>
                </a:solidFill>
                <a:latin typeface="Times New Roman"/>
              </a:endParaRPr>
            </a:p>
          </p:txBody>
        </p:sp>
        <p:sp>
          <p:nvSpPr>
            <p:cNvPr id="172" name="Text Box 19"/>
            <p:cNvSpPr/>
            <p:nvPr/>
          </p:nvSpPr>
          <p:spPr>
            <a:xfrm>
              <a:off x="3612600" y="5508720"/>
              <a:ext cx="1791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Resisitivity</a:t>
              </a:r>
              <a:endParaRPr b="0" lang="en-US" sz="2400" spc="-1" strike="noStrike">
                <a:solidFill>
                  <a:srgbClr val="000000"/>
                </a:solidFill>
                <a:latin typeface="Times New Roman"/>
              </a:endParaRPr>
            </a:p>
          </p:txBody>
        </p:sp>
        <p:sp>
          <p:nvSpPr>
            <p:cNvPr id="173" name="Text Box 20"/>
            <p:cNvSpPr/>
            <p:nvPr/>
          </p:nvSpPr>
          <p:spPr>
            <a:xfrm>
              <a:off x="5424480" y="5508720"/>
              <a:ext cx="1400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osity</a:t>
              </a:r>
              <a:endParaRPr b="0" lang="en-US" sz="2400" spc="-1" strike="noStrike">
                <a:solidFill>
                  <a:srgbClr val="000000"/>
                </a:solidFill>
                <a:latin typeface="Times New Roman"/>
              </a:endParaRPr>
            </a:p>
          </p:txBody>
        </p:sp>
        <p:sp>
          <p:nvSpPr>
            <p:cNvPr id="174" name="Text Box 21"/>
            <p:cNvSpPr/>
            <p:nvPr/>
          </p:nvSpPr>
          <p:spPr>
            <a:xfrm>
              <a:off x="1449000" y="1305000"/>
              <a:ext cx="1977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activity</a:t>
              </a:r>
              <a:endParaRPr b="0" lang="en-US" sz="2400" spc="-1" strike="noStrike">
                <a:solidFill>
                  <a:srgbClr val="000000"/>
                </a:solidFill>
                <a:latin typeface="Times New Roman"/>
              </a:endParaRPr>
            </a:p>
          </p:txBody>
        </p:sp>
        <p:sp>
          <p:nvSpPr>
            <p:cNvPr id="175" name="Text Box 22"/>
            <p:cNvSpPr/>
            <p:nvPr/>
          </p:nvSpPr>
          <p:spPr>
            <a:xfrm>
              <a:off x="3583080" y="1305000"/>
              <a:ext cx="1704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Increas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resistivity</a:t>
              </a:r>
              <a:endParaRPr b="0" lang="en-US" sz="2400" spc="-1" strike="noStrike">
                <a:solidFill>
                  <a:srgbClr val="000000"/>
                </a:solidFill>
                <a:latin typeface="Times New Roman"/>
              </a:endParaRPr>
            </a:p>
          </p:txBody>
        </p:sp>
        <p:sp>
          <p:nvSpPr>
            <p:cNvPr id="176" name="Text Box 23"/>
            <p:cNvSpPr/>
            <p:nvPr/>
          </p:nvSpPr>
          <p:spPr>
            <a:xfrm>
              <a:off x="5391360" y="1314360"/>
              <a:ext cx="1704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osity</a:t>
              </a:r>
              <a:endParaRPr b="0" lang="en-US" sz="2400" spc="-1" strike="noStrike">
                <a:solidFill>
                  <a:srgbClr val="000000"/>
                </a:solidFill>
                <a:latin typeface="Times New Roman"/>
              </a:endParaRPr>
            </a:p>
          </p:txBody>
        </p:sp>
        <p:sp>
          <p:nvSpPr>
            <p:cNvPr id="177" name="Text Box 24"/>
            <p:cNvSpPr/>
            <p:nvPr/>
          </p:nvSpPr>
          <p:spPr>
            <a:xfrm>
              <a:off x="6999480" y="3033720"/>
              <a:ext cx="992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le</a:t>
              </a:r>
              <a:endParaRPr b="0" lang="en-US" sz="2400" spc="-1" strike="noStrike">
                <a:solidFill>
                  <a:srgbClr val="000000"/>
                </a:solidFill>
                <a:latin typeface="Times New Roman"/>
              </a:endParaRPr>
            </a:p>
          </p:txBody>
        </p:sp>
        <p:sp>
          <p:nvSpPr>
            <p:cNvPr id="178" name="Text Box 25"/>
            <p:cNvSpPr/>
            <p:nvPr/>
          </p:nvSpPr>
          <p:spPr>
            <a:xfrm>
              <a:off x="6999480" y="4586400"/>
              <a:ext cx="992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le</a:t>
              </a:r>
              <a:endParaRPr b="0" lang="en-US" sz="2400" spc="-1" strike="noStrike">
                <a:solidFill>
                  <a:srgbClr val="000000"/>
                </a:solidFill>
                <a:latin typeface="Times New Roman"/>
              </a:endParaRPr>
            </a:p>
          </p:txBody>
        </p:sp>
      </p:grpSp>
      <p:sp>
        <p:nvSpPr>
          <p:cNvPr id="179" name="Text Box 26"/>
          <p:cNvSpPr/>
          <p:nvPr/>
        </p:nvSpPr>
        <p:spPr>
          <a:xfrm>
            <a:off x="299880" y="304920"/>
            <a:ext cx="850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POROSITY DETERMINATION BY LOGG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533160"/>
            <a:ext cx="86868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RESPONSES OF POROSITY LOGS</a:t>
            </a:r>
            <a:endParaRPr b="0" lang="en-US" sz="4000" spc="-1" strike="noStrike">
              <a:solidFill>
                <a:srgbClr val="000000"/>
              </a:solidFill>
              <a:latin typeface="Times New Roman"/>
            </a:endParaRPr>
          </a:p>
        </p:txBody>
      </p:sp>
      <p:sp>
        <p:nvSpPr>
          <p:cNvPr id="1881" name="PlaceHolder 2"/>
          <p:cNvSpPr>
            <a:spLocks noGrp="1"/>
          </p:cNvSpPr>
          <p:nvPr>
            <p:ph/>
          </p:nvPr>
        </p:nvSpPr>
        <p:spPr>
          <a:xfrm>
            <a:off x="762120" y="182880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he three porosity log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d differently to different matrix compositions</a:t>
            </a:r>
            <a:endParaRPr b="0" lang="en-US" sz="2800" spc="-1" strike="noStrike">
              <a:solidFill>
                <a:srgbClr val="000000"/>
              </a:solidFill>
              <a:latin typeface="Times New Roman"/>
            </a:endParaRPr>
          </a:p>
          <a:p>
            <a:pPr lvl="1" marL="743040" indent="-285840">
              <a:lnSpc>
                <a:spcPct val="90000"/>
              </a:lnSpc>
              <a:spcBef>
                <a:spcPts val="700"/>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d differently to presence of gas or light oils</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ombinations of logs can</a:t>
            </a:r>
            <a:r>
              <a:rPr b="0" lang="en-US" sz="3200" spc="-1" strike="noStrike" u="sng">
                <a:solidFill>
                  <a:srgbClr val="000000"/>
                </a:solidFill>
                <a:uFillTx/>
                <a:latin typeface="Arial"/>
              </a:rPr>
              <a:t>:</a:t>
            </a:r>
            <a:r>
              <a:rPr b="0" lang="en-US" sz="3200" spc="-1" strike="noStrike">
                <a:solidFill>
                  <a:srgbClr val="000000"/>
                </a:solidFill>
                <a:latin typeface="Arial"/>
              </a:rPr>
              <a:t>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y composition of matrix</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 the type of hydrocarbon in po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fill="hold">
                      <p:stCondLst>
                        <p:cond delay="0"/>
                      </p:stCondLst>
                      <p:childTnLst>
                        <p:par>
                          <p:cTn id="593" fill="hold">
                            <p:stCondLst>
                              <p:cond delay="0"/>
                            </p:stCondLst>
                            <p:childTnLst>
                              <p:par>
                                <p:cTn id="594" nodeType="afterEffect" fill="hold" presetClass="entr" presetID="2" presetSubtype="8">
                                  <p:stCondLst>
                                    <p:cond delay="0"/>
                                  </p:stCondLst>
                                  <p:childTnLst>
                                    <p:set>
                                      <p:cBhvr>
                                        <p:cTn id="595" dur="1" fill="hold">
                                          <p:stCondLst>
                                            <p:cond delay="0"/>
                                          </p:stCondLst>
                                        </p:cTn>
                                        <p:tgtEl>
                                          <p:spTgt spid="1880"/>
                                        </p:tgtEl>
                                        <p:attrNameLst>
                                          <p:attrName>style.visibility</p:attrName>
                                        </p:attrNameLst>
                                      </p:cBhvr>
                                      <p:to>
                                        <p:strVal val="visible"/>
                                      </p:to>
                                    </p:set>
                                    <p:anim calcmode="lin" valueType="num">
                                      <p:cBhvr additive="base">
                                        <p:cTn id="596" dur="500" fill="hold"/>
                                        <p:tgtEl>
                                          <p:spTgt spid="1880"/>
                                        </p:tgtEl>
                                        <p:attrNameLst>
                                          <p:attrName>ppt_x</p:attrName>
                                        </p:attrNameLst>
                                      </p:cBhvr>
                                      <p:tavLst>
                                        <p:tav tm="0">
                                          <p:val>
                                            <p:strVal val="0-#ppt_w/2"/>
                                          </p:val>
                                        </p:tav>
                                        <p:tav tm="100000">
                                          <p:val>
                                            <p:strVal val="#ppt_x"/>
                                          </p:val>
                                        </p:tav>
                                      </p:tavLst>
                                    </p:anim>
                                    <p:anim calcmode="lin" valueType="num">
                                      <p:cBhvr additive="base">
                                        <p:cTn id="597" dur="500" fill="hold"/>
                                        <p:tgtEl>
                                          <p:spTgt spid="1880"/>
                                        </p:tgtEl>
                                        <p:attrNameLst>
                                          <p:attrName>ppt_y</p:attrName>
                                        </p:attrNameLst>
                                      </p:cBhvr>
                                      <p:tavLst>
                                        <p:tav tm="0">
                                          <p:val>
                                            <p:strVal val="#ppt_y"/>
                                          </p:val>
                                        </p:tav>
                                        <p:tav tm="100000">
                                          <p:val>
                                            <p:strVal val="#ppt_y"/>
                                          </p:val>
                                        </p:tav>
                                      </p:tavLst>
                                    </p:anim>
                                  </p:childTnLst>
                                </p:cTn>
                              </p:par>
                            </p:childTnLst>
                          </p:cTn>
                        </p:par>
                        <p:par>
                          <p:cTn id="598" fill="hold">
                            <p:stCondLst>
                              <p:cond delay="500"/>
                            </p:stCondLst>
                            <p:childTnLst>
                              <p:par>
                                <p:cTn id="599" nodeType="afterEffect" fill="hold" presetClass="entr" presetID="18" presetSubtype="3">
                                  <p:stCondLst>
                                    <p:cond delay="0"/>
                                  </p:stCondLst>
                                  <p:childTnLst>
                                    <p:set>
                                      <p:cBhvr>
                                        <p:cTn id="600" dur="1" fill="hold">
                                          <p:stCondLst>
                                            <p:cond delay="0"/>
                                          </p:stCondLst>
                                        </p:cTn>
                                        <p:tgtEl>
                                          <p:spTgt spid="1881">
                                            <p:txEl>
                                              <p:pRg st="0" end="0"/>
                                            </p:txEl>
                                          </p:spTgt>
                                        </p:tgtEl>
                                        <p:attrNameLst>
                                          <p:attrName>style.visibility</p:attrName>
                                        </p:attrNameLst>
                                      </p:cBhvr>
                                      <p:to>
                                        <p:strVal val="visible"/>
                                      </p:to>
                                    </p:set>
                                    <p:animEffect filter="strips(upRight)" transition="in">
                                      <p:cBhvr additive="repl">
                                        <p:cTn id="601" dur="500"/>
                                        <p:tgtEl>
                                          <p:spTgt spid="1881">
                                            <p:txEl>
                                              <p:pRg st="0" end="0"/>
                                            </p:txEl>
                                          </p:spTgt>
                                        </p:tgtEl>
                                      </p:cBhvr>
                                    </p:animEffect>
                                  </p:childTnLst>
                                </p:cTn>
                              </p:par>
                              <p:par>
                                <p:cTn id="602" nodeType="withEffect" fill="hold" presetClass="entr" presetID="18" presetSubtype="3">
                                  <p:stCondLst>
                                    <p:cond delay="0"/>
                                  </p:stCondLst>
                                  <p:childTnLst>
                                    <p:set>
                                      <p:cBhvr>
                                        <p:cTn id="603" dur="1" fill="hold">
                                          <p:stCondLst>
                                            <p:cond delay="0"/>
                                          </p:stCondLst>
                                        </p:cTn>
                                        <p:tgtEl>
                                          <p:spTgt spid="1881">
                                            <p:txEl>
                                              <p:pRg st="1" end="1"/>
                                            </p:txEl>
                                          </p:spTgt>
                                        </p:tgtEl>
                                        <p:attrNameLst>
                                          <p:attrName>style.visibility</p:attrName>
                                        </p:attrNameLst>
                                      </p:cBhvr>
                                      <p:to>
                                        <p:strVal val="visible"/>
                                      </p:to>
                                    </p:set>
                                    <p:animEffect filter="strips(upRight)" transition="in">
                                      <p:cBhvr additive="repl">
                                        <p:cTn id="604" dur="500"/>
                                        <p:tgtEl>
                                          <p:spTgt spid="1881">
                                            <p:txEl>
                                              <p:pRg st="1" end="1"/>
                                            </p:txEl>
                                          </p:spTgt>
                                        </p:tgtEl>
                                      </p:cBhvr>
                                    </p:animEffect>
                                  </p:childTnLst>
                                </p:cTn>
                              </p:par>
                              <p:par>
                                <p:cTn id="605" nodeType="withEffect" fill="hold" presetClass="entr" presetID="18" presetSubtype="3">
                                  <p:stCondLst>
                                    <p:cond delay="0"/>
                                  </p:stCondLst>
                                  <p:childTnLst>
                                    <p:set>
                                      <p:cBhvr>
                                        <p:cTn id="606" dur="1" fill="hold">
                                          <p:stCondLst>
                                            <p:cond delay="0"/>
                                          </p:stCondLst>
                                        </p:cTn>
                                        <p:tgtEl>
                                          <p:spTgt spid="1881">
                                            <p:txEl>
                                              <p:pRg st="2" end="2"/>
                                            </p:txEl>
                                          </p:spTgt>
                                        </p:tgtEl>
                                        <p:attrNameLst>
                                          <p:attrName>style.visibility</p:attrName>
                                        </p:attrNameLst>
                                      </p:cBhvr>
                                      <p:to>
                                        <p:strVal val="visible"/>
                                      </p:to>
                                    </p:set>
                                    <p:animEffect filter="strips(upRight)" transition="in">
                                      <p:cBhvr additive="repl">
                                        <p:cTn id="607" dur="500"/>
                                        <p:tgtEl>
                                          <p:spTgt spid="1881">
                                            <p:txEl>
                                              <p:pRg st="2" end="2"/>
                                            </p:txEl>
                                          </p:spTgt>
                                        </p:tgtEl>
                                      </p:cBhvr>
                                    </p:animEffect>
                                  </p:childTnLst>
                                </p:cTn>
                              </p:par>
                            </p:childTnLst>
                          </p:cTn>
                        </p:par>
                        <p:par>
                          <p:cTn id="608" fill="hold">
                            <p:stCondLst>
                              <p:cond delay="1000"/>
                            </p:stCondLst>
                            <p:childTnLst>
                              <p:par>
                                <p:cTn id="609" nodeType="afterEffect" fill="hold" presetClass="entr" presetID="18" presetSubtype="3">
                                  <p:stCondLst>
                                    <p:cond delay="0"/>
                                  </p:stCondLst>
                                  <p:childTnLst>
                                    <p:set>
                                      <p:cBhvr>
                                        <p:cTn id="610" dur="1" fill="hold">
                                          <p:stCondLst>
                                            <p:cond delay="0"/>
                                          </p:stCondLst>
                                        </p:cTn>
                                        <p:tgtEl>
                                          <p:spTgt spid="1881">
                                            <p:txEl>
                                              <p:pRg st="3" end="3"/>
                                            </p:txEl>
                                          </p:spTgt>
                                        </p:tgtEl>
                                        <p:attrNameLst>
                                          <p:attrName>style.visibility</p:attrName>
                                        </p:attrNameLst>
                                      </p:cBhvr>
                                      <p:to>
                                        <p:strVal val="visible"/>
                                      </p:to>
                                    </p:set>
                                    <p:animEffect filter="strips(upRight)" transition="in">
                                      <p:cBhvr additive="repl">
                                        <p:cTn id="611" dur="500"/>
                                        <p:tgtEl>
                                          <p:spTgt spid="1881">
                                            <p:txEl>
                                              <p:pRg st="3" end="3"/>
                                            </p:txEl>
                                          </p:spTgt>
                                        </p:tgtEl>
                                      </p:cBhvr>
                                    </p:animEffect>
                                  </p:childTnLst>
                                </p:cTn>
                              </p:par>
                              <p:par>
                                <p:cTn id="612" nodeType="withEffect" fill="hold" presetClass="entr" presetID="18" presetSubtype="3">
                                  <p:stCondLst>
                                    <p:cond delay="0"/>
                                  </p:stCondLst>
                                  <p:childTnLst>
                                    <p:set>
                                      <p:cBhvr>
                                        <p:cTn id="613" dur="1" fill="hold">
                                          <p:stCondLst>
                                            <p:cond delay="0"/>
                                          </p:stCondLst>
                                        </p:cTn>
                                        <p:tgtEl>
                                          <p:spTgt spid="1881">
                                            <p:txEl>
                                              <p:pRg st="4" end="4"/>
                                            </p:txEl>
                                          </p:spTgt>
                                        </p:tgtEl>
                                        <p:attrNameLst>
                                          <p:attrName>style.visibility</p:attrName>
                                        </p:attrNameLst>
                                      </p:cBhvr>
                                      <p:to>
                                        <p:strVal val="visible"/>
                                      </p:to>
                                    </p:set>
                                    <p:animEffect filter="strips(upRight)" transition="in">
                                      <p:cBhvr additive="repl">
                                        <p:cTn id="614" dur="500"/>
                                        <p:tgtEl>
                                          <p:spTgt spid="1881">
                                            <p:txEl>
                                              <p:pRg st="4" end="4"/>
                                            </p:txEl>
                                          </p:spTgt>
                                        </p:tgtEl>
                                      </p:cBhvr>
                                    </p:animEffect>
                                  </p:childTnLst>
                                </p:cTn>
                              </p:par>
                              <p:par>
                                <p:cTn id="615" nodeType="withEffect" fill="hold" presetClass="entr" presetID="18" presetSubtype="3">
                                  <p:stCondLst>
                                    <p:cond delay="0"/>
                                  </p:stCondLst>
                                  <p:childTnLst>
                                    <p:set>
                                      <p:cBhvr>
                                        <p:cTn id="616" dur="1" fill="hold">
                                          <p:stCondLst>
                                            <p:cond delay="0"/>
                                          </p:stCondLst>
                                        </p:cTn>
                                        <p:tgtEl>
                                          <p:spTgt spid="1881">
                                            <p:txEl>
                                              <p:pRg st="5" end="5"/>
                                            </p:txEl>
                                          </p:spTgt>
                                        </p:tgtEl>
                                        <p:attrNameLst>
                                          <p:attrName>style.visibility</p:attrName>
                                        </p:attrNameLst>
                                      </p:cBhvr>
                                      <p:to>
                                        <p:strVal val="visible"/>
                                      </p:to>
                                    </p:set>
                                    <p:animEffect filter="strips(upRight)" transition="in">
                                      <p:cBhvr additive="repl">
                                        <p:cTn id="617" dur="500"/>
                                        <p:tgtEl>
                                          <p:spTgt spid="18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PlaceHolder 1"/>
          <p:cNvSpPr>
            <a:spLocks noGrp="1"/>
          </p:cNvSpPr>
          <p:nvPr>
            <p:ph type="title"/>
          </p:nvPr>
        </p:nvSpPr>
        <p:spPr>
          <a:xfrm>
            <a:off x="2286000" y="685440"/>
            <a:ext cx="4114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GAS EFFECT</a:t>
            </a:r>
            <a:endParaRPr b="0" lang="en-US" sz="4800" spc="-1" strike="noStrike">
              <a:solidFill>
                <a:srgbClr val="000000"/>
              </a:solidFill>
              <a:latin typeface="Times New Roman"/>
            </a:endParaRPr>
          </a:p>
        </p:txBody>
      </p:sp>
      <p:sp>
        <p:nvSpPr>
          <p:cNvPr id="1883" name="PlaceHolder 2"/>
          <p:cNvSpPr>
            <a:spLocks noGrp="1"/>
          </p:cNvSpPr>
          <p:nvPr>
            <p:ph/>
          </p:nvPr>
        </p:nvSpPr>
        <p:spPr>
          <a:xfrm>
            <a:off x="1752120" y="2119320"/>
            <a:ext cx="5791320" cy="2681280"/>
          </a:xfrm>
          <a:prstGeom prst="rect">
            <a:avLst/>
          </a:prstGeom>
          <a:noFill/>
          <a:ln w="0">
            <a:noFill/>
          </a:ln>
        </p:spPr>
        <p:txBody>
          <a:bodyPr anchor="t">
            <a:normAutofit fontScale="98000"/>
          </a:bodyPr>
          <a:p>
            <a:pPr marL="335880" indent="-335880">
              <a:lnSpc>
                <a:spcPct val="90000"/>
              </a:lnSpc>
              <a:spcBef>
                <a:spcPts val="850"/>
              </a:spcBef>
              <a:spcAft>
                <a:spcPts val="21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000000"/>
                </a:solidFill>
                <a:uFillTx/>
                <a:latin typeface="Arial"/>
              </a:rPr>
              <a:t>Density</a:t>
            </a:r>
            <a:r>
              <a:rPr b="0" lang="en-US" sz="3400" spc="-1" strike="noStrike">
                <a:solidFill>
                  <a:srgbClr val="000000"/>
                </a:solidFill>
                <a:latin typeface="Arial"/>
              </a:rPr>
              <a:t> - </a:t>
            </a:r>
            <a:r>
              <a:rPr b="0" lang="en-US" sz="3400" spc="-1" strike="noStrike">
                <a:solidFill>
                  <a:srgbClr val="000000"/>
                </a:solidFill>
                <a:latin typeface="Symbol"/>
                <a:ea typeface="Symbol"/>
              </a:rPr>
              <a:t></a:t>
            </a:r>
            <a:r>
              <a:rPr b="0" lang="en-US" sz="3400" spc="-1" strike="noStrike">
                <a:solidFill>
                  <a:srgbClr val="000000"/>
                </a:solidFill>
                <a:latin typeface="Arial"/>
              </a:rPr>
              <a:t> is too high</a:t>
            </a:r>
            <a:endParaRPr b="0" lang="en-US" sz="3400" spc="-1" strike="noStrike">
              <a:solidFill>
                <a:srgbClr val="000000"/>
              </a:solidFill>
              <a:latin typeface="Times New Roman"/>
            </a:endParaRPr>
          </a:p>
          <a:p>
            <a:pPr marL="335880" indent="-335880">
              <a:lnSpc>
                <a:spcPct val="90000"/>
              </a:lnSpc>
              <a:spcBef>
                <a:spcPts val="850"/>
              </a:spcBef>
              <a:spcAft>
                <a:spcPts val="21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000000"/>
                </a:solidFill>
                <a:uFillTx/>
                <a:latin typeface="Arial"/>
              </a:rPr>
              <a:t>Neutron</a:t>
            </a:r>
            <a:r>
              <a:rPr b="0" lang="en-US" sz="3400" spc="-1" strike="noStrike">
                <a:solidFill>
                  <a:srgbClr val="000000"/>
                </a:solidFill>
                <a:latin typeface="Arial"/>
              </a:rPr>
              <a:t> - </a:t>
            </a:r>
            <a:r>
              <a:rPr b="0" lang="en-US" sz="3400" spc="-1" strike="noStrike">
                <a:solidFill>
                  <a:srgbClr val="000000"/>
                </a:solidFill>
                <a:latin typeface="Symbol"/>
                <a:ea typeface="Symbol"/>
              </a:rPr>
              <a:t></a:t>
            </a:r>
            <a:r>
              <a:rPr b="0" lang="en-US" sz="3400" spc="-1" strike="noStrike">
                <a:solidFill>
                  <a:srgbClr val="000000"/>
                </a:solidFill>
                <a:latin typeface="Arial"/>
              </a:rPr>
              <a:t> is too low</a:t>
            </a:r>
            <a:endParaRPr b="0" lang="en-US" sz="3400" spc="-1" strike="noStrike">
              <a:solidFill>
                <a:srgbClr val="000000"/>
              </a:solidFill>
              <a:latin typeface="Times New Roman"/>
            </a:endParaRPr>
          </a:p>
          <a:p>
            <a:pPr marL="335880" indent="-335880">
              <a:lnSpc>
                <a:spcPct val="90000"/>
              </a:lnSpc>
              <a:spcBef>
                <a:spcPts val="850"/>
              </a:spcBef>
              <a:spcAft>
                <a:spcPts val="21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000000"/>
                </a:solidFill>
                <a:uFillTx/>
                <a:latin typeface="Arial"/>
              </a:rPr>
              <a:t>Sonic</a:t>
            </a:r>
            <a:r>
              <a:rPr b="0" lang="en-US" sz="3400" spc="-1" strike="noStrike">
                <a:solidFill>
                  <a:srgbClr val="000000"/>
                </a:solidFill>
                <a:latin typeface="Arial"/>
              </a:rPr>
              <a:t> - </a:t>
            </a:r>
            <a:r>
              <a:rPr b="0" lang="en-US" sz="3400" spc="-1" strike="noStrike">
                <a:solidFill>
                  <a:srgbClr val="000000"/>
                </a:solidFill>
                <a:latin typeface="Symbol"/>
                <a:ea typeface="Symbol"/>
              </a:rPr>
              <a:t></a:t>
            </a:r>
            <a:r>
              <a:rPr b="0" lang="en-US" sz="3400" spc="-1" strike="noStrike">
                <a:solidFill>
                  <a:srgbClr val="000000"/>
                </a:solidFill>
                <a:latin typeface="Arial"/>
              </a:rPr>
              <a:t> is not significantly    affected by ga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afterEffect" fill="hold" presetClass="entr" presetID="23" presetSubtype="272">
                                  <p:stCondLst>
                                    <p:cond delay="0"/>
                                  </p:stCondLst>
                                  <p:childTnLst>
                                    <p:set>
                                      <p:cBhvr>
                                        <p:cTn id="623" dur="1" fill="hold">
                                          <p:stCondLst>
                                            <p:cond delay="0"/>
                                          </p:stCondLst>
                                        </p:cTn>
                                        <p:tgtEl>
                                          <p:spTgt spid="1882"/>
                                        </p:tgtEl>
                                        <p:attrNameLst>
                                          <p:attrName>style.visibility</p:attrName>
                                        </p:attrNameLst>
                                      </p:cBhvr>
                                      <p:to>
                                        <p:strVal val="visible"/>
                                      </p:to>
                                    </p:set>
                                    <p:anim calcmode="lin" valueType="num">
                                      <p:cBhvr additive="repl">
                                        <p:cTn id="624" dur="500" fill="hold"/>
                                        <p:tgtEl>
                                          <p:spTgt spid="1882"/>
                                        </p:tgtEl>
                                        <p:attrNameLst>
                                          <p:attrName>ppt_w</p:attrName>
                                        </p:attrNameLst>
                                      </p:cBhvr>
                                      <p:tavLst>
                                        <p:tav tm="0">
                                          <p:val>
                                            <p:strVal val="2/3*#ppt_w"/>
                                          </p:val>
                                        </p:tav>
                                        <p:tav tm="100000">
                                          <p:val>
                                            <p:strVal val="#ppt_w"/>
                                          </p:val>
                                        </p:tav>
                                      </p:tavLst>
                                    </p:anim>
                                    <p:anim calcmode="lin" valueType="num">
                                      <p:cBhvr additive="repl">
                                        <p:cTn id="625" dur="500" fill="hold"/>
                                        <p:tgtEl>
                                          <p:spTgt spid="1882"/>
                                        </p:tgtEl>
                                        <p:attrNameLst>
                                          <p:attrName>ppt_h</p:attrName>
                                        </p:attrNameLst>
                                      </p:cBhvr>
                                      <p:tavLst>
                                        <p:tav tm="0">
                                          <p:val>
                                            <p:strVal val="2/3*#ppt_h"/>
                                          </p:val>
                                        </p:tav>
                                        <p:tav tm="100000">
                                          <p:val>
                                            <p:strVal val="#ppt_h"/>
                                          </p:val>
                                        </p:tav>
                                      </p:tavLst>
                                    </p:anim>
                                  </p:childTnLst>
                                </p:cTn>
                              </p:par>
                            </p:childTnLst>
                          </p:cTn>
                        </p:par>
                        <p:par>
                          <p:cTn id="626" fill="hold">
                            <p:stCondLst>
                              <p:cond delay="500"/>
                            </p:stCondLst>
                            <p:childTnLst>
                              <p:par>
                                <p:cTn id="627" nodeType="afterEffect" fill="hold" presetClass="entr" presetID="17" presetSubtype="10">
                                  <p:stCondLst>
                                    <p:cond delay="0"/>
                                  </p:stCondLst>
                                  <p:childTnLst>
                                    <p:set>
                                      <p:cBhvr>
                                        <p:cTn id="628" dur="1" fill="hold">
                                          <p:stCondLst>
                                            <p:cond delay="0"/>
                                          </p:stCondLst>
                                        </p:cTn>
                                        <p:tgtEl>
                                          <p:spTgt spid="1883">
                                            <p:txEl>
                                              <p:pRg st="0" end="0"/>
                                            </p:txEl>
                                          </p:spTgt>
                                        </p:tgtEl>
                                        <p:attrNameLst>
                                          <p:attrName>style.visibility</p:attrName>
                                        </p:attrNameLst>
                                      </p:cBhvr>
                                      <p:to>
                                        <p:strVal val="visible"/>
                                      </p:to>
                                    </p:set>
                                    <p:anim calcmode="lin" valueType="num">
                                      <p:cBhvr additive="repl">
                                        <p:cTn id="629" dur="500" fill="hold"/>
                                        <p:tgtEl>
                                          <p:spTgt spid="1883">
                                            <p:txEl>
                                              <p:pRg st="0" end="0"/>
                                            </p:txEl>
                                          </p:spTgt>
                                        </p:tgtEl>
                                        <p:attrNameLst>
                                          <p:attrName>ppt_w</p:attrName>
                                        </p:attrNameLst>
                                      </p:cBhvr>
                                      <p:tavLst>
                                        <p:tav tm="0">
                                          <p:val>
                                            <p:fltVal val="0"/>
                                          </p:val>
                                        </p:tav>
                                        <p:tav tm="100000">
                                          <p:val>
                                            <p:strVal val="#ppt_w"/>
                                          </p:val>
                                        </p:tav>
                                      </p:tavLst>
                                    </p:anim>
                                    <p:anim calcmode="lin" valueType="num">
                                      <p:cBhvr additive="repl">
                                        <p:cTn id="630" dur="500" fill="hold"/>
                                        <p:tgtEl>
                                          <p:spTgt spid="1883">
                                            <p:txEl>
                                              <p:pRg st="0" end="0"/>
                                            </p:txEl>
                                          </p:spTgt>
                                        </p:tgtEl>
                                        <p:attrNameLst>
                                          <p:attrName>ppt_h</p:attrName>
                                        </p:attrNameLst>
                                      </p:cBhvr>
                                      <p:tavLst>
                                        <p:tav tm="0">
                                          <p:val>
                                            <p:strVal val="#ppt_h"/>
                                          </p:val>
                                        </p:tav>
                                        <p:tav tm="100000">
                                          <p:val>
                                            <p:strVal val="#ppt_h"/>
                                          </p:val>
                                        </p:tav>
                                      </p:tavLst>
                                    </p:anim>
                                  </p:childTnLst>
                                </p:cTn>
                              </p:par>
                            </p:childTnLst>
                          </p:cTn>
                        </p:par>
                        <p:par>
                          <p:cTn id="631" fill="hold">
                            <p:stCondLst>
                              <p:cond delay="1000"/>
                            </p:stCondLst>
                            <p:childTnLst>
                              <p:par>
                                <p:cTn id="632" nodeType="afterEffect" fill="hold" presetClass="entr" presetID="17" presetSubtype="10">
                                  <p:stCondLst>
                                    <p:cond delay="0"/>
                                  </p:stCondLst>
                                  <p:childTnLst>
                                    <p:set>
                                      <p:cBhvr>
                                        <p:cTn id="633" dur="1" fill="hold">
                                          <p:stCondLst>
                                            <p:cond delay="0"/>
                                          </p:stCondLst>
                                        </p:cTn>
                                        <p:tgtEl>
                                          <p:spTgt spid="1883">
                                            <p:txEl>
                                              <p:pRg st="1" end="1"/>
                                            </p:txEl>
                                          </p:spTgt>
                                        </p:tgtEl>
                                        <p:attrNameLst>
                                          <p:attrName>style.visibility</p:attrName>
                                        </p:attrNameLst>
                                      </p:cBhvr>
                                      <p:to>
                                        <p:strVal val="visible"/>
                                      </p:to>
                                    </p:set>
                                    <p:anim calcmode="lin" valueType="num">
                                      <p:cBhvr additive="repl">
                                        <p:cTn id="634" dur="500" fill="hold"/>
                                        <p:tgtEl>
                                          <p:spTgt spid="1883">
                                            <p:txEl>
                                              <p:pRg st="1" end="1"/>
                                            </p:txEl>
                                          </p:spTgt>
                                        </p:tgtEl>
                                        <p:attrNameLst>
                                          <p:attrName>ppt_w</p:attrName>
                                        </p:attrNameLst>
                                      </p:cBhvr>
                                      <p:tavLst>
                                        <p:tav tm="0">
                                          <p:val>
                                            <p:fltVal val="0"/>
                                          </p:val>
                                        </p:tav>
                                        <p:tav tm="100000">
                                          <p:val>
                                            <p:strVal val="#ppt_w"/>
                                          </p:val>
                                        </p:tav>
                                      </p:tavLst>
                                    </p:anim>
                                    <p:anim calcmode="lin" valueType="num">
                                      <p:cBhvr additive="repl">
                                        <p:cTn id="635" dur="500" fill="hold"/>
                                        <p:tgtEl>
                                          <p:spTgt spid="1883">
                                            <p:txEl>
                                              <p:pRg st="1" end="1"/>
                                            </p:txEl>
                                          </p:spTgt>
                                        </p:tgtEl>
                                        <p:attrNameLst>
                                          <p:attrName>ppt_h</p:attrName>
                                        </p:attrNameLst>
                                      </p:cBhvr>
                                      <p:tavLst>
                                        <p:tav tm="0">
                                          <p:val>
                                            <p:strVal val="#ppt_h"/>
                                          </p:val>
                                        </p:tav>
                                        <p:tav tm="100000">
                                          <p:val>
                                            <p:strVal val="#ppt_h"/>
                                          </p:val>
                                        </p:tav>
                                      </p:tavLst>
                                    </p:anim>
                                  </p:childTnLst>
                                </p:cTn>
                              </p:par>
                            </p:childTnLst>
                          </p:cTn>
                        </p:par>
                        <p:par>
                          <p:cTn id="636" fill="hold">
                            <p:stCondLst>
                              <p:cond delay="1500"/>
                            </p:stCondLst>
                            <p:childTnLst>
                              <p:par>
                                <p:cTn id="637" nodeType="afterEffect" fill="hold" presetClass="entr" presetID="17" presetSubtype="10">
                                  <p:stCondLst>
                                    <p:cond delay="0"/>
                                  </p:stCondLst>
                                  <p:childTnLst>
                                    <p:set>
                                      <p:cBhvr>
                                        <p:cTn id="638" dur="1" fill="hold">
                                          <p:stCondLst>
                                            <p:cond delay="0"/>
                                          </p:stCondLst>
                                        </p:cTn>
                                        <p:tgtEl>
                                          <p:spTgt spid="1883">
                                            <p:txEl>
                                              <p:pRg st="2" end="2"/>
                                            </p:txEl>
                                          </p:spTgt>
                                        </p:tgtEl>
                                        <p:attrNameLst>
                                          <p:attrName>style.visibility</p:attrName>
                                        </p:attrNameLst>
                                      </p:cBhvr>
                                      <p:to>
                                        <p:strVal val="visible"/>
                                      </p:to>
                                    </p:set>
                                    <p:anim calcmode="lin" valueType="num">
                                      <p:cBhvr additive="repl">
                                        <p:cTn id="639" dur="500" fill="hold"/>
                                        <p:tgtEl>
                                          <p:spTgt spid="1883">
                                            <p:txEl>
                                              <p:pRg st="2" end="2"/>
                                            </p:txEl>
                                          </p:spTgt>
                                        </p:tgtEl>
                                        <p:attrNameLst>
                                          <p:attrName>ppt_w</p:attrName>
                                        </p:attrNameLst>
                                      </p:cBhvr>
                                      <p:tavLst>
                                        <p:tav tm="0">
                                          <p:val>
                                            <p:fltVal val="0"/>
                                          </p:val>
                                        </p:tav>
                                        <p:tav tm="100000">
                                          <p:val>
                                            <p:strVal val="#ppt_w"/>
                                          </p:val>
                                        </p:tav>
                                      </p:tavLst>
                                    </p:anim>
                                    <p:anim calcmode="lin" valueType="num">
                                      <p:cBhvr additive="repl">
                                        <p:cTn id="640" dur="500" fill="hold"/>
                                        <p:tgtEl>
                                          <p:spTgt spid="188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PlaceHolder 1"/>
          <p:cNvSpPr>
            <a:spLocks noGrp="1"/>
          </p:cNvSpPr>
          <p:nvPr>
            <p:ph type="title"/>
          </p:nvPr>
        </p:nvSpPr>
        <p:spPr>
          <a:xfrm>
            <a:off x="762120" y="228240"/>
            <a:ext cx="76197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ESTIMATING POROSITY FROM </a:t>
            </a:r>
            <a:br>
              <a:rPr sz="3600"/>
            </a:br>
            <a:r>
              <a:rPr b="1" lang="en-US" sz="3600" spc="-1" strike="noStrike">
                <a:solidFill>
                  <a:srgbClr val="990000"/>
                </a:solidFill>
                <a:latin typeface="Arial"/>
              </a:rPr>
              <a:t>WELL LOGS</a:t>
            </a:r>
            <a:endParaRPr b="0" lang="en-US" sz="3600" spc="-1" strike="noStrike">
              <a:solidFill>
                <a:srgbClr val="000000"/>
              </a:solidFill>
              <a:latin typeface="Times New Roman"/>
            </a:endParaRPr>
          </a:p>
        </p:txBody>
      </p:sp>
      <p:sp>
        <p:nvSpPr>
          <p:cNvPr id="1885" name="Text Box 3"/>
          <p:cNvSpPr/>
          <p:nvPr/>
        </p:nvSpPr>
        <p:spPr>
          <a:xfrm>
            <a:off x="1371600" y="1752480"/>
            <a:ext cx="6248520" cy="417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hole logging tools are the most common method of determining porosity:</a:t>
            </a:r>
            <a:endParaRPr b="0" lang="en-US" sz="2000" spc="-1" strike="noStrike">
              <a:solidFill>
                <a:srgbClr val="000000"/>
              </a:solidFill>
              <a:latin typeface="Times New Roman"/>
            </a:endParaRPr>
          </a:p>
          <a:p>
            <a:pPr lvl="1" marL="457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ss expensive than coring and may be less risk of sticking the tool in the hole</a:t>
            </a:r>
            <a:endParaRPr b="0" lang="en-US" sz="2000" spc="-1" strike="noStrike">
              <a:solidFill>
                <a:srgbClr val="000000"/>
              </a:solidFill>
              <a:latin typeface="Times New Roman"/>
            </a:endParaRPr>
          </a:p>
          <a:p>
            <a:pPr lvl="1" marL="457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ring may not be practical in unconsolidated formations or in formations with high secondary porosity such as vugs or natural fractures.</a:t>
            </a:r>
            <a:endParaRPr b="0" lang="en-US" sz="20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porosity measurements are very important, both coring and logging programs may be conducted so the log-based porosity calculations can be used to calibrated to the core-based porosity measurements</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6" name="Group 2"/>
          <p:cNvGrpSpPr/>
          <p:nvPr/>
        </p:nvGrpSpPr>
        <p:grpSpPr>
          <a:xfrm>
            <a:off x="533520" y="228600"/>
            <a:ext cx="8146800" cy="6278400"/>
            <a:chOff x="533520" y="228600"/>
            <a:chExt cx="8146800" cy="6278400"/>
          </a:xfrm>
        </p:grpSpPr>
        <p:sp>
          <p:nvSpPr>
            <p:cNvPr id="1887" name="Rectangle 3"/>
            <p:cNvSpPr/>
            <p:nvPr/>
          </p:nvSpPr>
          <p:spPr>
            <a:xfrm>
              <a:off x="539640" y="235080"/>
              <a:ext cx="8136000" cy="6267240"/>
            </a:xfrm>
            <a:prstGeom prst="rect">
              <a:avLst/>
            </a:pr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8" name="Freeform 4"/>
            <p:cNvSpPr/>
            <p:nvPr/>
          </p:nvSpPr>
          <p:spPr>
            <a:xfrm>
              <a:off x="533520" y="228600"/>
              <a:ext cx="8146800" cy="6278400"/>
            </a:xfrm>
            <a:custGeom>
              <a:avLst/>
              <a:gdLst>
                <a:gd name="textAreaLeft" fmla="*/ 0 w 8146800"/>
                <a:gd name="textAreaRight" fmla="*/ 8147160 w 8146800"/>
                <a:gd name="textAreaTop" fmla="*/ 0 h 6278400"/>
                <a:gd name="textAreaBottom" fmla="*/ 6278760 h 6278400"/>
              </a:gdLst>
              <a:ahLst/>
              <a:rect l="textAreaLeft" t="textAreaTop" r="textAreaRight" b="textAreaBottom"/>
              <a:pathLst>
                <a:path w="5132" h="3955">
                  <a:moveTo>
                    <a:pt x="4" y="0"/>
                  </a:moveTo>
                  <a:lnTo>
                    <a:pt x="2" y="0"/>
                  </a:lnTo>
                  <a:lnTo>
                    <a:pt x="2" y="2"/>
                  </a:lnTo>
                  <a:lnTo>
                    <a:pt x="0" y="2"/>
                  </a:lnTo>
                  <a:lnTo>
                    <a:pt x="0" y="3952"/>
                  </a:lnTo>
                  <a:lnTo>
                    <a:pt x="2" y="3952"/>
                  </a:lnTo>
                  <a:lnTo>
                    <a:pt x="2" y="3955"/>
                  </a:lnTo>
                  <a:lnTo>
                    <a:pt x="5129" y="3955"/>
                  </a:lnTo>
                  <a:lnTo>
                    <a:pt x="5129" y="3952"/>
                  </a:lnTo>
                  <a:lnTo>
                    <a:pt x="5132" y="3952"/>
                  </a:lnTo>
                  <a:lnTo>
                    <a:pt x="5132" y="2"/>
                  </a:lnTo>
                  <a:lnTo>
                    <a:pt x="5129" y="2"/>
                  </a:lnTo>
                  <a:lnTo>
                    <a:pt x="5129" y="0"/>
                  </a:lnTo>
                  <a:lnTo>
                    <a:pt x="5127" y="0"/>
                  </a:lnTo>
                  <a:lnTo>
                    <a:pt x="4" y="0"/>
                  </a:lnTo>
                  <a:lnTo>
                    <a:pt x="4" y="9"/>
                  </a:lnTo>
                  <a:lnTo>
                    <a:pt x="5127" y="9"/>
                  </a:lnTo>
                  <a:lnTo>
                    <a:pt x="5123" y="4"/>
                  </a:lnTo>
                  <a:lnTo>
                    <a:pt x="5123" y="3950"/>
                  </a:lnTo>
                  <a:lnTo>
                    <a:pt x="5127" y="3946"/>
                  </a:lnTo>
                  <a:lnTo>
                    <a:pt x="4" y="3946"/>
                  </a:lnTo>
                  <a:lnTo>
                    <a:pt x="9" y="3950"/>
                  </a:lnTo>
                  <a:lnTo>
                    <a:pt x="9" y="4"/>
                  </a:lnTo>
                  <a:lnTo>
                    <a:pt x="4" y="9"/>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Rectangle 5"/>
            <p:cNvSpPr/>
            <p:nvPr/>
          </p:nvSpPr>
          <p:spPr>
            <a:xfrm>
              <a:off x="930240" y="1308240"/>
              <a:ext cx="7378560" cy="4970160"/>
            </a:xfrm>
            <a:prstGeom prst="rect">
              <a:avLst/>
            </a:prstGeom>
            <a:solidFill>
              <a:srgbClr val="f9d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0" name="Freeform 6"/>
            <p:cNvSpPr/>
            <p:nvPr/>
          </p:nvSpPr>
          <p:spPr>
            <a:xfrm>
              <a:off x="919080" y="1297080"/>
              <a:ext cx="7396200" cy="4987800"/>
            </a:xfrm>
            <a:custGeom>
              <a:avLst/>
              <a:gdLst>
                <a:gd name="textAreaLeft" fmla="*/ 0 w 7396200"/>
                <a:gd name="textAreaRight" fmla="*/ 7396560 w 7396200"/>
                <a:gd name="textAreaTop" fmla="*/ 0 h 4987800"/>
                <a:gd name="textAreaBottom" fmla="*/ 4987800 h 4987800"/>
              </a:gdLst>
              <a:ahLst/>
              <a:rect l="textAreaLeft" t="textAreaTop" r="textAreaRight" b="textAreaBottom"/>
              <a:pathLst>
                <a:path w="4659" h="3142">
                  <a:moveTo>
                    <a:pt x="7" y="0"/>
                  </a:moveTo>
                  <a:lnTo>
                    <a:pt x="4" y="0"/>
                  </a:lnTo>
                  <a:lnTo>
                    <a:pt x="0" y="5"/>
                  </a:lnTo>
                  <a:lnTo>
                    <a:pt x="0" y="3140"/>
                  </a:lnTo>
                  <a:lnTo>
                    <a:pt x="2" y="3140"/>
                  </a:lnTo>
                  <a:lnTo>
                    <a:pt x="4" y="3142"/>
                  </a:lnTo>
                  <a:lnTo>
                    <a:pt x="4657" y="3142"/>
                  </a:lnTo>
                  <a:lnTo>
                    <a:pt x="4657" y="3140"/>
                  </a:lnTo>
                  <a:lnTo>
                    <a:pt x="4659" y="3140"/>
                  </a:lnTo>
                  <a:lnTo>
                    <a:pt x="4659" y="5"/>
                  </a:lnTo>
                  <a:lnTo>
                    <a:pt x="4657" y="3"/>
                  </a:lnTo>
                  <a:lnTo>
                    <a:pt x="4657" y="0"/>
                  </a:lnTo>
                  <a:lnTo>
                    <a:pt x="4652" y="0"/>
                  </a:lnTo>
                  <a:lnTo>
                    <a:pt x="7" y="0"/>
                  </a:lnTo>
                  <a:lnTo>
                    <a:pt x="7" y="14"/>
                  </a:lnTo>
                  <a:lnTo>
                    <a:pt x="4652" y="14"/>
                  </a:lnTo>
                  <a:lnTo>
                    <a:pt x="4646" y="7"/>
                  </a:lnTo>
                  <a:lnTo>
                    <a:pt x="4646" y="3136"/>
                  </a:lnTo>
                  <a:lnTo>
                    <a:pt x="4652" y="3129"/>
                  </a:lnTo>
                  <a:lnTo>
                    <a:pt x="7" y="3129"/>
                  </a:lnTo>
                  <a:lnTo>
                    <a:pt x="13" y="3136"/>
                  </a:lnTo>
                  <a:lnTo>
                    <a:pt x="13" y="7"/>
                  </a:lnTo>
                  <a:lnTo>
                    <a:pt x="7" y="14"/>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1" name="Freeform 7"/>
            <p:cNvSpPr/>
            <p:nvPr/>
          </p:nvSpPr>
          <p:spPr>
            <a:xfrm>
              <a:off x="1006560" y="1473120"/>
              <a:ext cx="2071440" cy="1157400"/>
            </a:xfrm>
            <a:custGeom>
              <a:avLst/>
              <a:gdLst>
                <a:gd name="textAreaLeft" fmla="*/ 0 w 2071440"/>
                <a:gd name="textAreaRight" fmla="*/ 2071800 w 2071440"/>
                <a:gd name="textAreaTop" fmla="*/ 0 h 1157400"/>
                <a:gd name="textAreaBottom" fmla="*/ 1157760 h 1157400"/>
              </a:gdLst>
              <a:ahLst/>
              <a:rect l="textAreaLeft" t="textAreaTop" r="textAreaRight" b="textAreaBottom"/>
              <a:pathLst>
                <a:path w="1305" h="729">
                  <a:moveTo>
                    <a:pt x="86" y="205"/>
                  </a:moveTo>
                  <a:lnTo>
                    <a:pt x="190" y="130"/>
                  </a:lnTo>
                  <a:lnTo>
                    <a:pt x="239" y="97"/>
                  </a:lnTo>
                  <a:lnTo>
                    <a:pt x="283" y="66"/>
                  </a:lnTo>
                  <a:lnTo>
                    <a:pt x="322" y="42"/>
                  </a:lnTo>
                  <a:lnTo>
                    <a:pt x="358" y="24"/>
                  </a:lnTo>
                  <a:lnTo>
                    <a:pt x="391" y="11"/>
                  </a:lnTo>
                  <a:lnTo>
                    <a:pt x="424" y="2"/>
                  </a:lnTo>
                  <a:lnTo>
                    <a:pt x="459" y="0"/>
                  </a:lnTo>
                  <a:lnTo>
                    <a:pt x="495" y="4"/>
                  </a:lnTo>
                  <a:lnTo>
                    <a:pt x="572" y="20"/>
                  </a:lnTo>
                  <a:lnTo>
                    <a:pt x="647" y="44"/>
                  </a:lnTo>
                  <a:lnTo>
                    <a:pt x="720" y="68"/>
                  </a:lnTo>
                  <a:lnTo>
                    <a:pt x="793" y="90"/>
                  </a:lnTo>
                  <a:lnTo>
                    <a:pt x="828" y="99"/>
                  </a:lnTo>
                  <a:lnTo>
                    <a:pt x="859" y="106"/>
                  </a:lnTo>
                  <a:lnTo>
                    <a:pt x="914" y="112"/>
                  </a:lnTo>
                  <a:lnTo>
                    <a:pt x="967" y="119"/>
                  </a:lnTo>
                  <a:lnTo>
                    <a:pt x="1036" y="128"/>
                  </a:lnTo>
                  <a:lnTo>
                    <a:pt x="1071" y="137"/>
                  </a:lnTo>
                  <a:lnTo>
                    <a:pt x="1102" y="148"/>
                  </a:lnTo>
                  <a:lnTo>
                    <a:pt x="1131" y="163"/>
                  </a:lnTo>
                  <a:lnTo>
                    <a:pt x="1155" y="183"/>
                  </a:lnTo>
                  <a:lnTo>
                    <a:pt x="1179" y="207"/>
                  </a:lnTo>
                  <a:lnTo>
                    <a:pt x="1201" y="236"/>
                  </a:lnTo>
                  <a:lnTo>
                    <a:pt x="1226" y="267"/>
                  </a:lnTo>
                  <a:lnTo>
                    <a:pt x="1248" y="300"/>
                  </a:lnTo>
                  <a:lnTo>
                    <a:pt x="1268" y="331"/>
                  </a:lnTo>
                  <a:lnTo>
                    <a:pt x="1285" y="358"/>
                  </a:lnTo>
                  <a:lnTo>
                    <a:pt x="1296" y="375"/>
                  </a:lnTo>
                  <a:lnTo>
                    <a:pt x="1303" y="386"/>
                  </a:lnTo>
                  <a:lnTo>
                    <a:pt x="1305" y="397"/>
                  </a:lnTo>
                  <a:lnTo>
                    <a:pt x="1303" y="408"/>
                  </a:lnTo>
                  <a:lnTo>
                    <a:pt x="1301" y="417"/>
                  </a:lnTo>
                  <a:lnTo>
                    <a:pt x="1296" y="430"/>
                  </a:lnTo>
                  <a:lnTo>
                    <a:pt x="1283" y="468"/>
                  </a:lnTo>
                  <a:lnTo>
                    <a:pt x="1270" y="503"/>
                  </a:lnTo>
                  <a:lnTo>
                    <a:pt x="1259" y="530"/>
                  </a:lnTo>
                  <a:lnTo>
                    <a:pt x="1250" y="541"/>
                  </a:lnTo>
                  <a:lnTo>
                    <a:pt x="1234" y="556"/>
                  </a:lnTo>
                  <a:lnTo>
                    <a:pt x="1210" y="576"/>
                  </a:lnTo>
                  <a:lnTo>
                    <a:pt x="1179" y="598"/>
                  </a:lnTo>
                  <a:lnTo>
                    <a:pt x="1111" y="642"/>
                  </a:lnTo>
                  <a:lnTo>
                    <a:pt x="1075" y="660"/>
                  </a:lnTo>
                  <a:lnTo>
                    <a:pt x="1042" y="676"/>
                  </a:lnTo>
                  <a:lnTo>
                    <a:pt x="1011" y="684"/>
                  </a:lnTo>
                  <a:lnTo>
                    <a:pt x="983" y="693"/>
                  </a:lnTo>
                  <a:lnTo>
                    <a:pt x="930" y="704"/>
                  </a:lnTo>
                  <a:lnTo>
                    <a:pt x="894" y="709"/>
                  </a:lnTo>
                  <a:lnTo>
                    <a:pt x="850" y="713"/>
                  </a:lnTo>
                  <a:lnTo>
                    <a:pt x="821" y="715"/>
                  </a:lnTo>
                  <a:lnTo>
                    <a:pt x="791" y="717"/>
                  </a:lnTo>
                  <a:lnTo>
                    <a:pt x="718" y="724"/>
                  </a:lnTo>
                  <a:lnTo>
                    <a:pt x="638" y="726"/>
                  </a:lnTo>
                  <a:lnTo>
                    <a:pt x="552" y="729"/>
                  </a:lnTo>
                  <a:lnTo>
                    <a:pt x="466" y="729"/>
                  </a:lnTo>
                  <a:lnTo>
                    <a:pt x="380" y="722"/>
                  </a:lnTo>
                  <a:lnTo>
                    <a:pt x="298" y="711"/>
                  </a:lnTo>
                  <a:lnTo>
                    <a:pt x="223" y="691"/>
                  </a:lnTo>
                  <a:lnTo>
                    <a:pt x="188" y="680"/>
                  </a:lnTo>
                  <a:lnTo>
                    <a:pt x="157" y="667"/>
                  </a:lnTo>
                  <a:lnTo>
                    <a:pt x="102" y="638"/>
                  </a:lnTo>
                  <a:lnTo>
                    <a:pt x="60" y="609"/>
                  </a:lnTo>
                  <a:lnTo>
                    <a:pt x="42" y="596"/>
                  </a:lnTo>
                  <a:lnTo>
                    <a:pt x="27" y="585"/>
                  </a:lnTo>
                  <a:lnTo>
                    <a:pt x="16" y="576"/>
                  </a:lnTo>
                  <a:lnTo>
                    <a:pt x="7" y="570"/>
                  </a:lnTo>
                  <a:lnTo>
                    <a:pt x="0" y="558"/>
                  </a:lnTo>
                  <a:lnTo>
                    <a:pt x="0" y="547"/>
                  </a:lnTo>
                  <a:lnTo>
                    <a:pt x="7" y="532"/>
                  </a:lnTo>
                  <a:lnTo>
                    <a:pt x="18" y="510"/>
                  </a:lnTo>
                  <a:lnTo>
                    <a:pt x="31" y="481"/>
                  </a:lnTo>
                  <a:lnTo>
                    <a:pt x="44" y="448"/>
                  </a:lnTo>
                  <a:lnTo>
                    <a:pt x="58" y="413"/>
                  </a:lnTo>
                  <a:lnTo>
                    <a:pt x="66" y="377"/>
                  </a:lnTo>
                  <a:lnTo>
                    <a:pt x="71" y="344"/>
                  </a:lnTo>
                  <a:lnTo>
                    <a:pt x="73" y="311"/>
                  </a:lnTo>
                  <a:lnTo>
                    <a:pt x="75" y="282"/>
                  </a:lnTo>
                  <a:lnTo>
                    <a:pt x="77" y="258"/>
                  </a:lnTo>
                  <a:lnTo>
                    <a:pt x="82" y="238"/>
                  </a:lnTo>
                  <a:lnTo>
                    <a:pt x="86" y="205"/>
                  </a:lnTo>
                  <a:close/>
                </a:path>
              </a:pathLst>
            </a:custGeom>
            <a:solidFill>
              <a:srgbClr val="8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Freeform 8"/>
            <p:cNvSpPr/>
            <p:nvPr/>
          </p:nvSpPr>
          <p:spPr>
            <a:xfrm>
              <a:off x="985680" y="3002040"/>
              <a:ext cx="2113200" cy="1334880"/>
            </a:xfrm>
            <a:custGeom>
              <a:avLst/>
              <a:gdLst>
                <a:gd name="textAreaLeft" fmla="*/ 0 w 2113200"/>
                <a:gd name="textAreaRight" fmla="*/ 2113560 w 2113200"/>
                <a:gd name="textAreaTop" fmla="*/ 0 h 1334880"/>
                <a:gd name="textAreaBottom" fmla="*/ 1335240 h 1334880"/>
              </a:gdLst>
              <a:ahLst/>
              <a:rect l="textAreaLeft" t="textAreaTop" r="textAreaRight" b="textAreaBottom"/>
              <a:pathLst>
                <a:path w="1331" h="841">
                  <a:moveTo>
                    <a:pt x="84" y="28"/>
                  </a:moveTo>
                  <a:lnTo>
                    <a:pt x="90" y="30"/>
                  </a:lnTo>
                  <a:lnTo>
                    <a:pt x="95" y="33"/>
                  </a:lnTo>
                  <a:lnTo>
                    <a:pt x="101" y="33"/>
                  </a:lnTo>
                  <a:lnTo>
                    <a:pt x="108" y="35"/>
                  </a:lnTo>
                  <a:lnTo>
                    <a:pt x="112" y="37"/>
                  </a:lnTo>
                  <a:lnTo>
                    <a:pt x="119" y="39"/>
                  </a:lnTo>
                  <a:lnTo>
                    <a:pt x="126" y="39"/>
                  </a:lnTo>
                  <a:lnTo>
                    <a:pt x="130" y="42"/>
                  </a:lnTo>
                  <a:lnTo>
                    <a:pt x="137" y="44"/>
                  </a:lnTo>
                  <a:lnTo>
                    <a:pt x="143" y="44"/>
                  </a:lnTo>
                  <a:lnTo>
                    <a:pt x="148" y="46"/>
                  </a:lnTo>
                  <a:lnTo>
                    <a:pt x="154" y="48"/>
                  </a:lnTo>
                  <a:lnTo>
                    <a:pt x="159" y="50"/>
                  </a:lnTo>
                  <a:lnTo>
                    <a:pt x="165" y="50"/>
                  </a:lnTo>
                  <a:lnTo>
                    <a:pt x="172" y="53"/>
                  </a:lnTo>
                  <a:lnTo>
                    <a:pt x="176" y="55"/>
                  </a:lnTo>
                  <a:lnTo>
                    <a:pt x="183" y="55"/>
                  </a:lnTo>
                  <a:lnTo>
                    <a:pt x="190" y="57"/>
                  </a:lnTo>
                  <a:lnTo>
                    <a:pt x="194" y="57"/>
                  </a:lnTo>
                  <a:lnTo>
                    <a:pt x="207" y="61"/>
                  </a:lnTo>
                  <a:lnTo>
                    <a:pt x="212" y="61"/>
                  </a:lnTo>
                  <a:lnTo>
                    <a:pt x="218" y="64"/>
                  </a:lnTo>
                  <a:lnTo>
                    <a:pt x="223" y="64"/>
                  </a:lnTo>
                  <a:lnTo>
                    <a:pt x="236" y="68"/>
                  </a:lnTo>
                  <a:lnTo>
                    <a:pt x="241" y="68"/>
                  </a:lnTo>
                  <a:lnTo>
                    <a:pt x="247" y="70"/>
                  </a:lnTo>
                  <a:lnTo>
                    <a:pt x="252" y="70"/>
                  </a:lnTo>
                  <a:lnTo>
                    <a:pt x="258" y="72"/>
                  </a:lnTo>
                  <a:lnTo>
                    <a:pt x="265" y="72"/>
                  </a:lnTo>
                  <a:lnTo>
                    <a:pt x="269" y="75"/>
                  </a:lnTo>
                  <a:lnTo>
                    <a:pt x="276" y="75"/>
                  </a:lnTo>
                  <a:lnTo>
                    <a:pt x="282" y="77"/>
                  </a:lnTo>
                  <a:lnTo>
                    <a:pt x="287" y="77"/>
                  </a:lnTo>
                  <a:lnTo>
                    <a:pt x="294" y="79"/>
                  </a:lnTo>
                  <a:lnTo>
                    <a:pt x="298" y="79"/>
                  </a:lnTo>
                  <a:lnTo>
                    <a:pt x="305" y="81"/>
                  </a:lnTo>
                  <a:lnTo>
                    <a:pt x="316" y="81"/>
                  </a:lnTo>
                  <a:lnTo>
                    <a:pt x="322" y="83"/>
                  </a:lnTo>
                  <a:lnTo>
                    <a:pt x="327" y="83"/>
                  </a:lnTo>
                  <a:lnTo>
                    <a:pt x="333" y="86"/>
                  </a:lnTo>
                  <a:lnTo>
                    <a:pt x="344" y="86"/>
                  </a:lnTo>
                  <a:lnTo>
                    <a:pt x="351" y="88"/>
                  </a:lnTo>
                  <a:lnTo>
                    <a:pt x="364" y="88"/>
                  </a:lnTo>
                  <a:lnTo>
                    <a:pt x="369" y="90"/>
                  </a:lnTo>
                  <a:lnTo>
                    <a:pt x="386" y="90"/>
                  </a:lnTo>
                  <a:lnTo>
                    <a:pt x="393" y="92"/>
                  </a:lnTo>
                  <a:lnTo>
                    <a:pt x="404" y="92"/>
                  </a:lnTo>
                  <a:lnTo>
                    <a:pt x="408" y="94"/>
                  </a:lnTo>
                  <a:lnTo>
                    <a:pt x="433" y="94"/>
                  </a:lnTo>
                  <a:lnTo>
                    <a:pt x="437" y="97"/>
                  </a:lnTo>
                  <a:lnTo>
                    <a:pt x="466" y="97"/>
                  </a:lnTo>
                  <a:lnTo>
                    <a:pt x="472" y="99"/>
                  </a:lnTo>
                  <a:lnTo>
                    <a:pt x="517" y="99"/>
                  </a:lnTo>
                  <a:lnTo>
                    <a:pt x="523" y="101"/>
                  </a:lnTo>
                  <a:lnTo>
                    <a:pt x="609" y="101"/>
                  </a:lnTo>
                  <a:lnTo>
                    <a:pt x="614" y="103"/>
                  </a:lnTo>
                  <a:lnTo>
                    <a:pt x="709" y="103"/>
                  </a:lnTo>
                  <a:lnTo>
                    <a:pt x="713" y="106"/>
                  </a:lnTo>
                  <a:lnTo>
                    <a:pt x="748" y="106"/>
                  </a:lnTo>
                  <a:lnTo>
                    <a:pt x="755" y="103"/>
                  </a:lnTo>
                  <a:lnTo>
                    <a:pt x="793" y="103"/>
                  </a:lnTo>
                  <a:lnTo>
                    <a:pt x="797" y="101"/>
                  </a:lnTo>
                  <a:lnTo>
                    <a:pt x="815" y="101"/>
                  </a:lnTo>
                  <a:lnTo>
                    <a:pt x="819" y="99"/>
                  </a:lnTo>
                  <a:lnTo>
                    <a:pt x="828" y="99"/>
                  </a:lnTo>
                  <a:lnTo>
                    <a:pt x="832" y="97"/>
                  </a:lnTo>
                  <a:lnTo>
                    <a:pt x="843" y="97"/>
                  </a:lnTo>
                  <a:lnTo>
                    <a:pt x="846" y="94"/>
                  </a:lnTo>
                  <a:lnTo>
                    <a:pt x="850" y="94"/>
                  </a:lnTo>
                  <a:lnTo>
                    <a:pt x="854" y="92"/>
                  </a:lnTo>
                  <a:lnTo>
                    <a:pt x="857" y="92"/>
                  </a:lnTo>
                  <a:lnTo>
                    <a:pt x="861" y="90"/>
                  </a:lnTo>
                  <a:lnTo>
                    <a:pt x="863" y="88"/>
                  </a:lnTo>
                  <a:lnTo>
                    <a:pt x="868" y="88"/>
                  </a:lnTo>
                  <a:lnTo>
                    <a:pt x="870" y="86"/>
                  </a:lnTo>
                  <a:lnTo>
                    <a:pt x="874" y="83"/>
                  </a:lnTo>
                  <a:lnTo>
                    <a:pt x="876" y="83"/>
                  </a:lnTo>
                  <a:lnTo>
                    <a:pt x="881" y="81"/>
                  </a:lnTo>
                  <a:lnTo>
                    <a:pt x="885" y="77"/>
                  </a:lnTo>
                  <a:lnTo>
                    <a:pt x="890" y="77"/>
                  </a:lnTo>
                  <a:lnTo>
                    <a:pt x="894" y="72"/>
                  </a:lnTo>
                  <a:lnTo>
                    <a:pt x="899" y="68"/>
                  </a:lnTo>
                  <a:lnTo>
                    <a:pt x="903" y="66"/>
                  </a:lnTo>
                  <a:lnTo>
                    <a:pt x="905" y="64"/>
                  </a:lnTo>
                  <a:lnTo>
                    <a:pt x="907" y="64"/>
                  </a:lnTo>
                  <a:lnTo>
                    <a:pt x="912" y="59"/>
                  </a:lnTo>
                  <a:lnTo>
                    <a:pt x="916" y="57"/>
                  </a:lnTo>
                  <a:lnTo>
                    <a:pt x="921" y="53"/>
                  </a:lnTo>
                  <a:lnTo>
                    <a:pt x="925" y="48"/>
                  </a:lnTo>
                  <a:lnTo>
                    <a:pt x="927" y="46"/>
                  </a:lnTo>
                  <a:lnTo>
                    <a:pt x="929" y="46"/>
                  </a:lnTo>
                  <a:lnTo>
                    <a:pt x="934" y="44"/>
                  </a:lnTo>
                  <a:lnTo>
                    <a:pt x="938" y="39"/>
                  </a:lnTo>
                  <a:lnTo>
                    <a:pt x="943" y="35"/>
                  </a:lnTo>
                  <a:lnTo>
                    <a:pt x="945" y="35"/>
                  </a:lnTo>
                  <a:lnTo>
                    <a:pt x="949" y="33"/>
                  </a:lnTo>
                  <a:lnTo>
                    <a:pt x="952" y="30"/>
                  </a:lnTo>
                  <a:lnTo>
                    <a:pt x="954" y="30"/>
                  </a:lnTo>
                  <a:lnTo>
                    <a:pt x="956" y="28"/>
                  </a:lnTo>
                  <a:lnTo>
                    <a:pt x="960" y="26"/>
                  </a:lnTo>
                  <a:lnTo>
                    <a:pt x="963" y="26"/>
                  </a:lnTo>
                  <a:lnTo>
                    <a:pt x="965" y="24"/>
                  </a:lnTo>
                  <a:lnTo>
                    <a:pt x="969" y="24"/>
                  </a:lnTo>
                  <a:lnTo>
                    <a:pt x="971" y="22"/>
                  </a:lnTo>
                  <a:lnTo>
                    <a:pt x="978" y="22"/>
                  </a:lnTo>
                  <a:lnTo>
                    <a:pt x="980" y="19"/>
                  </a:lnTo>
                  <a:lnTo>
                    <a:pt x="982" y="19"/>
                  </a:lnTo>
                  <a:lnTo>
                    <a:pt x="987" y="17"/>
                  </a:lnTo>
                  <a:lnTo>
                    <a:pt x="991" y="17"/>
                  </a:lnTo>
                  <a:lnTo>
                    <a:pt x="993" y="15"/>
                  </a:lnTo>
                  <a:lnTo>
                    <a:pt x="1000" y="15"/>
                  </a:lnTo>
                  <a:lnTo>
                    <a:pt x="1005" y="13"/>
                  </a:lnTo>
                  <a:lnTo>
                    <a:pt x="1007" y="13"/>
                  </a:lnTo>
                  <a:lnTo>
                    <a:pt x="1011" y="11"/>
                  </a:lnTo>
                  <a:lnTo>
                    <a:pt x="1018" y="11"/>
                  </a:lnTo>
                  <a:lnTo>
                    <a:pt x="1022" y="8"/>
                  </a:lnTo>
                  <a:lnTo>
                    <a:pt x="1024" y="8"/>
                  </a:lnTo>
                  <a:lnTo>
                    <a:pt x="1029" y="6"/>
                  </a:lnTo>
                  <a:lnTo>
                    <a:pt x="1035" y="6"/>
                  </a:lnTo>
                  <a:lnTo>
                    <a:pt x="1040" y="4"/>
                  </a:lnTo>
                  <a:lnTo>
                    <a:pt x="1051" y="4"/>
                  </a:lnTo>
                  <a:lnTo>
                    <a:pt x="1055" y="2"/>
                  </a:lnTo>
                  <a:lnTo>
                    <a:pt x="1073" y="2"/>
                  </a:lnTo>
                  <a:lnTo>
                    <a:pt x="1077" y="0"/>
                  </a:lnTo>
                  <a:lnTo>
                    <a:pt x="1093" y="0"/>
                  </a:lnTo>
                  <a:lnTo>
                    <a:pt x="1095" y="2"/>
                  </a:lnTo>
                  <a:lnTo>
                    <a:pt x="1111" y="2"/>
                  </a:lnTo>
                  <a:lnTo>
                    <a:pt x="1115" y="4"/>
                  </a:lnTo>
                  <a:lnTo>
                    <a:pt x="1119" y="4"/>
                  </a:lnTo>
                  <a:lnTo>
                    <a:pt x="1122" y="6"/>
                  </a:lnTo>
                  <a:lnTo>
                    <a:pt x="1130" y="6"/>
                  </a:lnTo>
                  <a:lnTo>
                    <a:pt x="1133" y="8"/>
                  </a:lnTo>
                  <a:lnTo>
                    <a:pt x="1137" y="11"/>
                  </a:lnTo>
                  <a:lnTo>
                    <a:pt x="1141" y="11"/>
                  </a:lnTo>
                  <a:lnTo>
                    <a:pt x="1146" y="13"/>
                  </a:lnTo>
                  <a:lnTo>
                    <a:pt x="1148" y="15"/>
                  </a:lnTo>
                  <a:lnTo>
                    <a:pt x="1150" y="15"/>
                  </a:lnTo>
                  <a:lnTo>
                    <a:pt x="1159" y="19"/>
                  </a:lnTo>
                  <a:lnTo>
                    <a:pt x="1168" y="24"/>
                  </a:lnTo>
                  <a:lnTo>
                    <a:pt x="1170" y="24"/>
                  </a:lnTo>
                  <a:lnTo>
                    <a:pt x="1179" y="28"/>
                  </a:lnTo>
                  <a:lnTo>
                    <a:pt x="1183" y="30"/>
                  </a:lnTo>
                  <a:lnTo>
                    <a:pt x="1190" y="33"/>
                  </a:lnTo>
                  <a:lnTo>
                    <a:pt x="1199" y="37"/>
                  </a:lnTo>
                  <a:lnTo>
                    <a:pt x="1208" y="42"/>
                  </a:lnTo>
                  <a:lnTo>
                    <a:pt x="1216" y="46"/>
                  </a:lnTo>
                  <a:lnTo>
                    <a:pt x="1225" y="50"/>
                  </a:lnTo>
                  <a:lnTo>
                    <a:pt x="1230" y="53"/>
                  </a:lnTo>
                  <a:lnTo>
                    <a:pt x="1236" y="55"/>
                  </a:lnTo>
                  <a:lnTo>
                    <a:pt x="1241" y="59"/>
                  </a:lnTo>
                  <a:lnTo>
                    <a:pt x="1250" y="64"/>
                  </a:lnTo>
                  <a:lnTo>
                    <a:pt x="1254" y="68"/>
                  </a:lnTo>
                  <a:lnTo>
                    <a:pt x="1258" y="70"/>
                  </a:lnTo>
                  <a:lnTo>
                    <a:pt x="1267" y="79"/>
                  </a:lnTo>
                  <a:lnTo>
                    <a:pt x="1272" y="81"/>
                  </a:lnTo>
                  <a:lnTo>
                    <a:pt x="1274" y="86"/>
                  </a:lnTo>
                  <a:lnTo>
                    <a:pt x="1283" y="94"/>
                  </a:lnTo>
                  <a:lnTo>
                    <a:pt x="1287" y="99"/>
                  </a:lnTo>
                  <a:lnTo>
                    <a:pt x="1289" y="103"/>
                  </a:lnTo>
                  <a:lnTo>
                    <a:pt x="1298" y="112"/>
                  </a:lnTo>
                  <a:lnTo>
                    <a:pt x="1300" y="117"/>
                  </a:lnTo>
                  <a:lnTo>
                    <a:pt x="1305" y="123"/>
                  </a:lnTo>
                  <a:lnTo>
                    <a:pt x="1307" y="128"/>
                  </a:lnTo>
                  <a:lnTo>
                    <a:pt x="1311" y="141"/>
                  </a:lnTo>
                  <a:lnTo>
                    <a:pt x="1316" y="145"/>
                  </a:lnTo>
                  <a:lnTo>
                    <a:pt x="1320" y="159"/>
                  </a:lnTo>
                  <a:lnTo>
                    <a:pt x="1322" y="165"/>
                  </a:lnTo>
                  <a:lnTo>
                    <a:pt x="1322" y="172"/>
                  </a:lnTo>
                  <a:lnTo>
                    <a:pt x="1325" y="181"/>
                  </a:lnTo>
                  <a:lnTo>
                    <a:pt x="1327" y="185"/>
                  </a:lnTo>
                  <a:lnTo>
                    <a:pt x="1327" y="192"/>
                  </a:lnTo>
                  <a:lnTo>
                    <a:pt x="1329" y="200"/>
                  </a:lnTo>
                  <a:lnTo>
                    <a:pt x="1329" y="238"/>
                  </a:lnTo>
                  <a:lnTo>
                    <a:pt x="1331" y="249"/>
                  </a:lnTo>
                  <a:lnTo>
                    <a:pt x="1329" y="260"/>
                  </a:lnTo>
                  <a:lnTo>
                    <a:pt x="1329" y="295"/>
                  </a:lnTo>
                  <a:lnTo>
                    <a:pt x="1327" y="306"/>
                  </a:lnTo>
                  <a:lnTo>
                    <a:pt x="1327" y="333"/>
                  </a:lnTo>
                  <a:lnTo>
                    <a:pt x="1325" y="346"/>
                  </a:lnTo>
                  <a:lnTo>
                    <a:pt x="1325" y="359"/>
                  </a:lnTo>
                  <a:lnTo>
                    <a:pt x="1320" y="386"/>
                  </a:lnTo>
                  <a:lnTo>
                    <a:pt x="1320" y="399"/>
                  </a:lnTo>
                  <a:lnTo>
                    <a:pt x="1316" y="426"/>
                  </a:lnTo>
                  <a:lnTo>
                    <a:pt x="1314" y="441"/>
                  </a:lnTo>
                  <a:lnTo>
                    <a:pt x="1314" y="454"/>
                  </a:lnTo>
                  <a:lnTo>
                    <a:pt x="1309" y="481"/>
                  </a:lnTo>
                  <a:lnTo>
                    <a:pt x="1305" y="507"/>
                  </a:lnTo>
                  <a:lnTo>
                    <a:pt x="1300" y="534"/>
                  </a:lnTo>
                  <a:lnTo>
                    <a:pt x="1300" y="547"/>
                  </a:lnTo>
                  <a:lnTo>
                    <a:pt x="1296" y="574"/>
                  </a:lnTo>
                  <a:lnTo>
                    <a:pt x="1294" y="585"/>
                  </a:lnTo>
                  <a:lnTo>
                    <a:pt x="1292" y="598"/>
                  </a:lnTo>
                  <a:lnTo>
                    <a:pt x="1287" y="620"/>
                  </a:lnTo>
                  <a:lnTo>
                    <a:pt x="1287" y="631"/>
                  </a:lnTo>
                  <a:lnTo>
                    <a:pt x="1285" y="642"/>
                  </a:lnTo>
                  <a:lnTo>
                    <a:pt x="1283" y="651"/>
                  </a:lnTo>
                  <a:lnTo>
                    <a:pt x="1283" y="662"/>
                  </a:lnTo>
                  <a:lnTo>
                    <a:pt x="1278" y="680"/>
                  </a:lnTo>
                  <a:lnTo>
                    <a:pt x="1278" y="686"/>
                  </a:lnTo>
                  <a:lnTo>
                    <a:pt x="1276" y="695"/>
                  </a:lnTo>
                  <a:lnTo>
                    <a:pt x="1276" y="713"/>
                  </a:lnTo>
                  <a:lnTo>
                    <a:pt x="1274" y="717"/>
                  </a:lnTo>
                  <a:lnTo>
                    <a:pt x="1274" y="737"/>
                  </a:lnTo>
                  <a:lnTo>
                    <a:pt x="1272" y="741"/>
                  </a:lnTo>
                  <a:lnTo>
                    <a:pt x="1272" y="746"/>
                  </a:lnTo>
                  <a:lnTo>
                    <a:pt x="1274" y="746"/>
                  </a:lnTo>
                  <a:lnTo>
                    <a:pt x="1274" y="750"/>
                  </a:lnTo>
                  <a:lnTo>
                    <a:pt x="1276" y="750"/>
                  </a:lnTo>
                  <a:lnTo>
                    <a:pt x="1276" y="741"/>
                  </a:lnTo>
                  <a:lnTo>
                    <a:pt x="1278" y="741"/>
                  </a:lnTo>
                  <a:lnTo>
                    <a:pt x="1278" y="728"/>
                  </a:lnTo>
                  <a:lnTo>
                    <a:pt x="1276" y="726"/>
                  </a:lnTo>
                  <a:lnTo>
                    <a:pt x="1276" y="722"/>
                  </a:lnTo>
                  <a:lnTo>
                    <a:pt x="1274" y="719"/>
                  </a:lnTo>
                  <a:lnTo>
                    <a:pt x="1267" y="719"/>
                  </a:lnTo>
                  <a:lnTo>
                    <a:pt x="1267" y="722"/>
                  </a:lnTo>
                  <a:lnTo>
                    <a:pt x="1263" y="722"/>
                  </a:lnTo>
                  <a:lnTo>
                    <a:pt x="1261" y="724"/>
                  </a:lnTo>
                  <a:lnTo>
                    <a:pt x="1258" y="724"/>
                  </a:lnTo>
                  <a:lnTo>
                    <a:pt x="1256" y="726"/>
                  </a:lnTo>
                  <a:lnTo>
                    <a:pt x="1254" y="726"/>
                  </a:lnTo>
                  <a:lnTo>
                    <a:pt x="1250" y="730"/>
                  </a:lnTo>
                  <a:lnTo>
                    <a:pt x="1247" y="730"/>
                  </a:lnTo>
                  <a:lnTo>
                    <a:pt x="1243" y="735"/>
                  </a:lnTo>
                  <a:lnTo>
                    <a:pt x="1239" y="735"/>
                  </a:lnTo>
                  <a:lnTo>
                    <a:pt x="1234" y="739"/>
                  </a:lnTo>
                  <a:lnTo>
                    <a:pt x="1232" y="739"/>
                  </a:lnTo>
                  <a:lnTo>
                    <a:pt x="1228" y="741"/>
                  </a:lnTo>
                  <a:lnTo>
                    <a:pt x="1225" y="744"/>
                  </a:lnTo>
                  <a:lnTo>
                    <a:pt x="1221" y="746"/>
                  </a:lnTo>
                  <a:lnTo>
                    <a:pt x="1219" y="746"/>
                  </a:lnTo>
                  <a:lnTo>
                    <a:pt x="1216" y="748"/>
                  </a:lnTo>
                  <a:lnTo>
                    <a:pt x="1212" y="750"/>
                  </a:lnTo>
                  <a:lnTo>
                    <a:pt x="1210" y="752"/>
                  </a:lnTo>
                  <a:lnTo>
                    <a:pt x="1205" y="755"/>
                  </a:lnTo>
                  <a:lnTo>
                    <a:pt x="1203" y="757"/>
                  </a:lnTo>
                  <a:lnTo>
                    <a:pt x="1199" y="757"/>
                  </a:lnTo>
                  <a:lnTo>
                    <a:pt x="1194" y="759"/>
                  </a:lnTo>
                  <a:lnTo>
                    <a:pt x="1192" y="761"/>
                  </a:lnTo>
                  <a:lnTo>
                    <a:pt x="1188" y="764"/>
                  </a:lnTo>
                  <a:lnTo>
                    <a:pt x="1186" y="766"/>
                  </a:lnTo>
                  <a:lnTo>
                    <a:pt x="1181" y="766"/>
                  </a:lnTo>
                  <a:lnTo>
                    <a:pt x="1177" y="768"/>
                  </a:lnTo>
                  <a:lnTo>
                    <a:pt x="1175" y="770"/>
                  </a:lnTo>
                  <a:lnTo>
                    <a:pt x="1166" y="775"/>
                  </a:lnTo>
                  <a:lnTo>
                    <a:pt x="1164" y="775"/>
                  </a:lnTo>
                  <a:lnTo>
                    <a:pt x="1155" y="779"/>
                  </a:lnTo>
                  <a:lnTo>
                    <a:pt x="1150" y="781"/>
                  </a:lnTo>
                  <a:lnTo>
                    <a:pt x="1148" y="783"/>
                  </a:lnTo>
                  <a:lnTo>
                    <a:pt x="1144" y="783"/>
                  </a:lnTo>
                  <a:lnTo>
                    <a:pt x="1135" y="788"/>
                  </a:lnTo>
                  <a:lnTo>
                    <a:pt x="1133" y="788"/>
                  </a:lnTo>
                  <a:lnTo>
                    <a:pt x="1124" y="792"/>
                  </a:lnTo>
                  <a:lnTo>
                    <a:pt x="1119" y="792"/>
                  </a:lnTo>
                  <a:lnTo>
                    <a:pt x="1119" y="794"/>
                  </a:lnTo>
                  <a:lnTo>
                    <a:pt x="1115" y="794"/>
                  </a:lnTo>
                  <a:lnTo>
                    <a:pt x="1111" y="797"/>
                  </a:lnTo>
                  <a:lnTo>
                    <a:pt x="1106" y="797"/>
                  </a:lnTo>
                  <a:lnTo>
                    <a:pt x="1104" y="799"/>
                  </a:lnTo>
                  <a:lnTo>
                    <a:pt x="1099" y="799"/>
                  </a:lnTo>
                  <a:lnTo>
                    <a:pt x="1095" y="801"/>
                  </a:lnTo>
                  <a:lnTo>
                    <a:pt x="1093" y="803"/>
                  </a:lnTo>
                  <a:lnTo>
                    <a:pt x="1088" y="803"/>
                  </a:lnTo>
                  <a:lnTo>
                    <a:pt x="1084" y="805"/>
                  </a:lnTo>
                  <a:lnTo>
                    <a:pt x="1082" y="805"/>
                  </a:lnTo>
                  <a:lnTo>
                    <a:pt x="1073" y="810"/>
                  </a:lnTo>
                  <a:lnTo>
                    <a:pt x="1069" y="810"/>
                  </a:lnTo>
                  <a:lnTo>
                    <a:pt x="1066" y="812"/>
                  </a:lnTo>
                  <a:lnTo>
                    <a:pt x="1062" y="812"/>
                  </a:lnTo>
                  <a:lnTo>
                    <a:pt x="1058" y="814"/>
                  </a:lnTo>
                  <a:lnTo>
                    <a:pt x="1055" y="817"/>
                  </a:lnTo>
                  <a:lnTo>
                    <a:pt x="1051" y="817"/>
                  </a:lnTo>
                  <a:lnTo>
                    <a:pt x="1046" y="819"/>
                  </a:lnTo>
                  <a:lnTo>
                    <a:pt x="1042" y="819"/>
                  </a:lnTo>
                  <a:lnTo>
                    <a:pt x="1038" y="821"/>
                  </a:lnTo>
                  <a:lnTo>
                    <a:pt x="1035" y="821"/>
                  </a:lnTo>
                  <a:lnTo>
                    <a:pt x="1031" y="823"/>
                  </a:lnTo>
                  <a:lnTo>
                    <a:pt x="1027" y="823"/>
                  </a:lnTo>
                  <a:lnTo>
                    <a:pt x="1022" y="825"/>
                  </a:lnTo>
                  <a:lnTo>
                    <a:pt x="1018" y="825"/>
                  </a:lnTo>
                  <a:lnTo>
                    <a:pt x="1013" y="828"/>
                  </a:lnTo>
                  <a:lnTo>
                    <a:pt x="1009" y="828"/>
                  </a:lnTo>
                  <a:lnTo>
                    <a:pt x="1005" y="830"/>
                  </a:lnTo>
                  <a:lnTo>
                    <a:pt x="1000" y="830"/>
                  </a:lnTo>
                  <a:lnTo>
                    <a:pt x="996" y="832"/>
                  </a:lnTo>
                  <a:lnTo>
                    <a:pt x="985" y="832"/>
                  </a:lnTo>
                  <a:lnTo>
                    <a:pt x="980" y="834"/>
                  </a:lnTo>
                  <a:lnTo>
                    <a:pt x="969" y="834"/>
                  </a:lnTo>
                  <a:lnTo>
                    <a:pt x="965" y="836"/>
                  </a:lnTo>
                  <a:lnTo>
                    <a:pt x="949" y="836"/>
                  </a:lnTo>
                  <a:lnTo>
                    <a:pt x="943" y="839"/>
                  </a:lnTo>
                  <a:lnTo>
                    <a:pt x="912" y="839"/>
                  </a:lnTo>
                  <a:lnTo>
                    <a:pt x="910" y="841"/>
                  </a:lnTo>
                  <a:lnTo>
                    <a:pt x="865" y="841"/>
                  </a:lnTo>
                  <a:lnTo>
                    <a:pt x="857" y="839"/>
                  </a:lnTo>
                  <a:lnTo>
                    <a:pt x="817" y="839"/>
                  </a:lnTo>
                  <a:lnTo>
                    <a:pt x="808" y="836"/>
                  </a:lnTo>
                  <a:lnTo>
                    <a:pt x="773" y="836"/>
                  </a:lnTo>
                  <a:lnTo>
                    <a:pt x="764" y="834"/>
                  </a:lnTo>
                  <a:lnTo>
                    <a:pt x="744" y="834"/>
                  </a:lnTo>
                  <a:lnTo>
                    <a:pt x="735" y="832"/>
                  </a:lnTo>
                  <a:lnTo>
                    <a:pt x="717" y="832"/>
                  </a:lnTo>
                  <a:lnTo>
                    <a:pt x="709" y="830"/>
                  </a:lnTo>
                  <a:lnTo>
                    <a:pt x="698" y="830"/>
                  </a:lnTo>
                  <a:lnTo>
                    <a:pt x="689" y="828"/>
                  </a:lnTo>
                  <a:lnTo>
                    <a:pt x="671" y="828"/>
                  </a:lnTo>
                  <a:lnTo>
                    <a:pt x="660" y="825"/>
                  </a:lnTo>
                  <a:lnTo>
                    <a:pt x="651" y="825"/>
                  </a:lnTo>
                  <a:lnTo>
                    <a:pt x="642" y="823"/>
                  </a:lnTo>
                  <a:lnTo>
                    <a:pt x="623" y="823"/>
                  </a:lnTo>
                  <a:lnTo>
                    <a:pt x="614" y="821"/>
                  </a:lnTo>
                  <a:lnTo>
                    <a:pt x="605" y="821"/>
                  </a:lnTo>
                  <a:lnTo>
                    <a:pt x="596" y="819"/>
                  </a:lnTo>
                  <a:lnTo>
                    <a:pt x="587" y="819"/>
                  </a:lnTo>
                  <a:lnTo>
                    <a:pt x="578" y="817"/>
                  </a:lnTo>
                  <a:lnTo>
                    <a:pt x="570" y="817"/>
                  </a:lnTo>
                  <a:lnTo>
                    <a:pt x="561" y="814"/>
                  </a:lnTo>
                  <a:lnTo>
                    <a:pt x="543" y="814"/>
                  </a:lnTo>
                  <a:lnTo>
                    <a:pt x="534" y="812"/>
                  </a:lnTo>
                  <a:lnTo>
                    <a:pt x="528" y="812"/>
                  </a:lnTo>
                  <a:lnTo>
                    <a:pt x="519" y="810"/>
                  </a:lnTo>
                  <a:lnTo>
                    <a:pt x="508" y="810"/>
                  </a:lnTo>
                  <a:lnTo>
                    <a:pt x="499" y="808"/>
                  </a:lnTo>
                  <a:lnTo>
                    <a:pt x="490" y="808"/>
                  </a:lnTo>
                  <a:lnTo>
                    <a:pt x="483" y="805"/>
                  </a:lnTo>
                  <a:lnTo>
                    <a:pt x="475" y="803"/>
                  </a:lnTo>
                  <a:lnTo>
                    <a:pt x="468" y="803"/>
                  </a:lnTo>
                  <a:lnTo>
                    <a:pt x="459" y="801"/>
                  </a:lnTo>
                  <a:lnTo>
                    <a:pt x="452" y="801"/>
                  </a:lnTo>
                  <a:lnTo>
                    <a:pt x="444" y="799"/>
                  </a:lnTo>
                  <a:lnTo>
                    <a:pt x="437" y="797"/>
                  </a:lnTo>
                  <a:lnTo>
                    <a:pt x="428" y="797"/>
                  </a:lnTo>
                  <a:lnTo>
                    <a:pt x="422" y="794"/>
                  </a:lnTo>
                  <a:lnTo>
                    <a:pt x="413" y="792"/>
                  </a:lnTo>
                  <a:lnTo>
                    <a:pt x="406" y="792"/>
                  </a:lnTo>
                  <a:lnTo>
                    <a:pt x="397" y="790"/>
                  </a:lnTo>
                  <a:lnTo>
                    <a:pt x="391" y="788"/>
                  </a:lnTo>
                  <a:lnTo>
                    <a:pt x="382" y="786"/>
                  </a:lnTo>
                  <a:lnTo>
                    <a:pt x="375" y="786"/>
                  </a:lnTo>
                  <a:lnTo>
                    <a:pt x="366" y="783"/>
                  </a:lnTo>
                  <a:lnTo>
                    <a:pt x="360" y="781"/>
                  </a:lnTo>
                  <a:lnTo>
                    <a:pt x="351" y="779"/>
                  </a:lnTo>
                  <a:lnTo>
                    <a:pt x="344" y="779"/>
                  </a:lnTo>
                  <a:lnTo>
                    <a:pt x="338" y="777"/>
                  </a:lnTo>
                  <a:lnTo>
                    <a:pt x="329" y="775"/>
                  </a:lnTo>
                  <a:lnTo>
                    <a:pt x="322" y="772"/>
                  </a:lnTo>
                  <a:lnTo>
                    <a:pt x="316" y="772"/>
                  </a:lnTo>
                  <a:lnTo>
                    <a:pt x="302" y="768"/>
                  </a:lnTo>
                  <a:lnTo>
                    <a:pt x="294" y="766"/>
                  </a:lnTo>
                  <a:lnTo>
                    <a:pt x="287" y="766"/>
                  </a:lnTo>
                  <a:lnTo>
                    <a:pt x="280" y="764"/>
                  </a:lnTo>
                  <a:lnTo>
                    <a:pt x="274" y="764"/>
                  </a:lnTo>
                  <a:lnTo>
                    <a:pt x="260" y="759"/>
                  </a:lnTo>
                  <a:lnTo>
                    <a:pt x="256" y="759"/>
                  </a:lnTo>
                  <a:lnTo>
                    <a:pt x="249" y="757"/>
                  </a:lnTo>
                  <a:lnTo>
                    <a:pt x="243" y="757"/>
                  </a:lnTo>
                  <a:lnTo>
                    <a:pt x="236" y="755"/>
                  </a:lnTo>
                  <a:lnTo>
                    <a:pt x="232" y="755"/>
                  </a:lnTo>
                  <a:lnTo>
                    <a:pt x="225" y="752"/>
                  </a:lnTo>
                  <a:lnTo>
                    <a:pt x="214" y="752"/>
                  </a:lnTo>
                  <a:lnTo>
                    <a:pt x="210" y="750"/>
                  </a:lnTo>
                  <a:lnTo>
                    <a:pt x="188" y="750"/>
                  </a:lnTo>
                  <a:lnTo>
                    <a:pt x="181" y="748"/>
                  </a:lnTo>
                  <a:lnTo>
                    <a:pt x="179" y="748"/>
                  </a:lnTo>
                  <a:lnTo>
                    <a:pt x="174" y="750"/>
                  </a:lnTo>
                  <a:lnTo>
                    <a:pt x="154" y="750"/>
                  </a:lnTo>
                  <a:lnTo>
                    <a:pt x="152" y="752"/>
                  </a:lnTo>
                  <a:lnTo>
                    <a:pt x="146" y="752"/>
                  </a:lnTo>
                  <a:lnTo>
                    <a:pt x="143" y="755"/>
                  </a:lnTo>
                  <a:lnTo>
                    <a:pt x="139" y="755"/>
                  </a:lnTo>
                  <a:lnTo>
                    <a:pt x="137" y="757"/>
                  </a:lnTo>
                  <a:lnTo>
                    <a:pt x="135" y="757"/>
                  </a:lnTo>
                  <a:lnTo>
                    <a:pt x="132" y="759"/>
                  </a:lnTo>
                  <a:lnTo>
                    <a:pt x="130" y="759"/>
                  </a:lnTo>
                  <a:lnTo>
                    <a:pt x="128" y="761"/>
                  </a:lnTo>
                  <a:lnTo>
                    <a:pt x="126" y="761"/>
                  </a:lnTo>
                  <a:lnTo>
                    <a:pt x="123" y="764"/>
                  </a:lnTo>
                  <a:lnTo>
                    <a:pt x="121" y="764"/>
                  </a:lnTo>
                  <a:lnTo>
                    <a:pt x="117" y="768"/>
                  </a:lnTo>
                  <a:lnTo>
                    <a:pt x="115" y="768"/>
                  </a:lnTo>
                  <a:lnTo>
                    <a:pt x="115" y="770"/>
                  </a:lnTo>
                  <a:lnTo>
                    <a:pt x="112" y="770"/>
                  </a:lnTo>
                  <a:lnTo>
                    <a:pt x="108" y="775"/>
                  </a:lnTo>
                  <a:lnTo>
                    <a:pt x="104" y="779"/>
                  </a:lnTo>
                  <a:lnTo>
                    <a:pt x="101" y="781"/>
                  </a:lnTo>
                  <a:lnTo>
                    <a:pt x="99" y="781"/>
                  </a:lnTo>
                  <a:lnTo>
                    <a:pt x="99" y="783"/>
                  </a:lnTo>
                  <a:lnTo>
                    <a:pt x="97" y="783"/>
                  </a:lnTo>
                  <a:lnTo>
                    <a:pt x="97" y="786"/>
                  </a:lnTo>
                  <a:lnTo>
                    <a:pt x="95" y="786"/>
                  </a:lnTo>
                  <a:lnTo>
                    <a:pt x="90" y="790"/>
                  </a:lnTo>
                  <a:lnTo>
                    <a:pt x="88" y="790"/>
                  </a:lnTo>
                  <a:lnTo>
                    <a:pt x="88" y="792"/>
                  </a:lnTo>
                  <a:lnTo>
                    <a:pt x="84" y="792"/>
                  </a:lnTo>
                  <a:lnTo>
                    <a:pt x="84" y="794"/>
                  </a:lnTo>
                  <a:lnTo>
                    <a:pt x="77" y="794"/>
                  </a:lnTo>
                  <a:lnTo>
                    <a:pt x="75" y="797"/>
                  </a:lnTo>
                  <a:lnTo>
                    <a:pt x="73" y="797"/>
                  </a:lnTo>
                  <a:lnTo>
                    <a:pt x="71" y="799"/>
                  </a:lnTo>
                  <a:lnTo>
                    <a:pt x="68" y="799"/>
                  </a:lnTo>
                  <a:lnTo>
                    <a:pt x="66" y="801"/>
                  </a:lnTo>
                  <a:lnTo>
                    <a:pt x="64" y="801"/>
                  </a:lnTo>
                  <a:lnTo>
                    <a:pt x="62" y="803"/>
                  </a:lnTo>
                  <a:lnTo>
                    <a:pt x="55" y="803"/>
                  </a:lnTo>
                  <a:lnTo>
                    <a:pt x="53" y="801"/>
                  </a:lnTo>
                  <a:lnTo>
                    <a:pt x="51" y="801"/>
                  </a:lnTo>
                  <a:lnTo>
                    <a:pt x="51" y="799"/>
                  </a:lnTo>
                  <a:lnTo>
                    <a:pt x="48" y="799"/>
                  </a:lnTo>
                  <a:lnTo>
                    <a:pt x="48" y="797"/>
                  </a:lnTo>
                  <a:lnTo>
                    <a:pt x="46" y="797"/>
                  </a:lnTo>
                  <a:lnTo>
                    <a:pt x="46" y="794"/>
                  </a:lnTo>
                  <a:lnTo>
                    <a:pt x="42" y="790"/>
                  </a:lnTo>
                  <a:lnTo>
                    <a:pt x="40" y="788"/>
                  </a:lnTo>
                  <a:lnTo>
                    <a:pt x="37" y="788"/>
                  </a:lnTo>
                  <a:lnTo>
                    <a:pt x="35" y="786"/>
                  </a:lnTo>
                  <a:lnTo>
                    <a:pt x="31" y="786"/>
                  </a:lnTo>
                  <a:lnTo>
                    <a:pt x="31" y="783"/>
                  </a:lnTo>
                  <a:lnTo>
                    <a:pt x="26" y="783"/>
                  </a:lnTo>
                  <a:lnTo>
                    <a:pt x="26" y="781"/>
                  </a:lnTo>
                  <a:lnTo>
                    <a:pt x="24" y="781"/>
                  </a:lnTo>
                  <a:lnTo>
                    <a:pt x="24" y="779"/>
                  </a:lnTo>
                  <a:lnTo>
                    <a:pt x="22" y="779"/>
                  </a:lnTo>
                  <a:lnTo>
                    <a:pt x="20" y="777"/>
                  </a:lnTo>
                  <a:lnTo>
                    <a:pt x="20" y="775"/>
                  </a:lnTo>
                  <a:lnTo>
                    <a:pt x="18" y="775"/>
                  </a:lnTo>
                  <a:lnTo>
                    <a:pt x="18" y="772"/>
                  </a:lnTo>
                  <a:lnTo>
                    <a:pt x="15" y="770"/>
                  </a:lnTo>
                  <a:lnTo>
                    <a:pt x="15" y="768"/>
                  </a:lnTo>
                  <a:lnTo>
                    <a:pt x="13" y="766"/>
                  </a:lnTo>
                  <a:lnTo>
                    <a:pt x="13" y="764"/>
                  </a:lnTo>
                  <a:lnTo>
                    <a:pt x="11" y="761"/>
                  </a:lnTo>
                  <a:lnTo>
                    <a:pt x="11" y="759"/>
                  </a:lnTo>
                  <a:lnTo>
                    <a:pt x="9" y="755"/>
                  </a:lnTo>
                  <a:lnTo>
                    <a:pt x="9" y="748"/>
                  </a:lnTo>
                  <a:lnTo>
                    <a:pt x="6" y="744"/>
                  </a:lnTo>
                  <a:lnTo>
                    <a:pt x="6" y="735"/>
                  </a:lnTo>
                  <a:lnTo>
                    <a:pt x="4" y="730"/>
                  </a:lnTo>
                  <a:lnTo>
                    <a:pt x="4" y="719"/>
                  </a:lnTo>
                  <a:lnTo>
                    <a:pt x="2" y="715"/>
                  </a:lnTo>
                  <a:lnTo>
                    <a:pt x="2" y="651"/>
                  </a:lnTo>
                  <a:lnTo>
                    <a:pt x="0" y="642"/>
                  </a:lnTo>
                  <a:lnTo>
                    <a:pt x="0" y="518"/>
                  </a:lnTo>
                  <a:lnTo>
                    <a:pt x="2" y="507"/>
                  </a:lnTo>
                  <a:lnTo>
                    <a:pt x="2" y="417"/>
                  </a:lnTo>
                  <a:lnTo>
                    <a:pt x="4" y="404"/>
                  </a:lnTo>
                  <a:lnTo>
                    <a:pt x="4" y="346"/>
                  </a:lnTo>
                  <a:lnTo>
                    <a:pt x="6" y="333"/>
                  </a:lnTo>
                  <a:lnTo>
                    <a:pt x="6" y="287"/>
                  </a:lnTo>
                  <a:lnTo>
                    <a:pt x="9" y="271"/>
                  </a:lnTo>
                  <a:lnTo>
                    <a:pt x="9" y="238"/>
                  </a:lnTo>
                  <a:lnTo>
                    <a:pt x="11" y="223"/>
                  </a:lnTo>
                  <a:lnTo>
                    <a:pt x="11" y="189"/>
                  </a:lnTo>
                  <a:lnTo>
                    <a:pt x="13" y="172"/>
                  </a:lnTo>
                  <a:lnTo>
                    <a:pt x="13" y="154"/>
                  </a:lnTo>
                  <a:lnTo>
                    <a:pt x="15" y="136"/>
                  </a:lnTo>
                  <a:lnTo>
                    <a:pt x="15" y="101"/>
                  </a:lnTo>
                  <a:lnTo>
                    <a:pt x="18" y="83"/>
                  </a:lnTo>
                  <a:lnTo>
                    <a:pt x="18" y="72"/>
                  </a:lnTo>
                  <a:lnTo>
                    <a:pt x="84" y="28"/>
                  </a:lnTo>
                  <a:close/>
                </a:path>
              </a:pathLst>
            </a:custGeom>
            <a:solidFill>
              <a:srgbClr val="80ffff"/>
            </a:solidFill>
            <a:ln w="0">
              <a:solidFill>
                <a:srgbClr val="80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3" name="Freeform 9"/>
            <p:cNvSpPr/>
            <p:nvPr/>
          </p:nvSpPr>
          <p:spPr>
            <a:xfrm>
              <a:off x="1084320" y="4656240"/>
              <a:ext cx="1965240" cy="1471680"/>
            </a:xfrm>
            <a:custGeom>
              <a:avLst/>
              <a:gdLst>
                <a:gd name="textAreaLeft" fmla="*/ 0 w 1965240"/>
                <a:gd name="textAreaRight" fmla="*/ 1965600 w 1965240"/>
                <a:gd name="textAreaTop" fmla="*/ 0 h 1471680"/>
                <a:gd name="textAreaBottom" fmla="*/ 1471680 h 1471680"/>
              </a:gdLst>
              <a:ahLst/>
              <a:rect l="textAreaLeft" t="textAreaTop" r="textAreaRight" b="textAreaBottom"/>
              <a:pathLst>
                <a:path w="1238" h="927">
                  <a:moveTo>
                    <a:pt x="0" y="373"/>
                  </a:moveTo>
                  <a:lnTo>
                    <a:pt x="68" y="137"/>
                  </a:lnTo>
                  <a:lnTo>
                    <a:pt x="174" y="68"/>
                  </a:lnTo>
                  <a:lnTo>
                    <a:pt x="607" y="0"/>
                  </a:lnTo>
                  <a:lnTo>
                    <a:pt x="1053" y="148"/>
                  </a:lnTo>
                  <a:lnTo>
                    <a:pt x="1238" y="380"/>
                  </a:lnTo>
                  <a:lnTo>
                    <a:pt x="1071" y="640"/>
                  </a:lnTo>
                  <a:lnTo>
                    <a:pt x="931" y="770"/>
                  </a:lnTo>
                  <a:lnTo>
                    <a:pt x="468" y="927"/>
                  </a:lnTo>
                  <a:lnTo>
                    <a:pt x="190" y="909"/>
                  </a:lnTo>
                  <a:lnTo>
                    <a:pt x="44" y="678"/>
                  </a:lnTo>
                  <a:lnTo>
                    <a:pt x="0" y="373"/>
                  </a:lnTo>
                  <a:close/>
                </a:path>
              </a:pathLst>
            </a:custGeom>
            <a:solidFill>
              <a:srgbClr val="80ffff"/>
            </a:solidFill>
            <a:ln w="0">
              <a:solidFill>
                <a:srgbClr val="80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Rectangle 10"/>
            <p:cNvSpPr/>
            <p:nvPr/>
          </p:nvSpPr>
          <p:spPr>
            <a:xfrm>
              <a:off x="5668920" y="1308240"/>
              <a:ext cx="704880" cy="823680"/>
            </a:xfrm>
            <a:prstGeom prst="rect">
              <a:avLst/>
            </a:prstGeom>
            <a:solidFill>
              <a:srgbClr val="80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5" name="Rectangle 11"/>
            <p:cNvSpPr/>
            <p:nvPr/>
          </p:nvSpPr>
          <p:spPr>
            <a:xfrm>
              <a:off x="1164960" y="228600"/>
              <a:ext cx="7271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Influence Of Clay-Mineral Distribution</a:t>
              </a:r>
              <a:endParaRPr b="0" lang="en-US" sz="3200" spc="-1" strike="noStrike">
                <a:solidFill>
                  <a:srgbClr val="000000"/>
                </a:solidFill>
                <a:latin typeface="Times New Roman"/>
              </a:endParaRPr>
            </a:p>
          </p:txBody>
        </p:sp>
        <p:sp>
          <p:nvSpPr>
            <p:cNvPr id="1896" name="Rectangle 12"/>
            <p:cNvSpPr/>
            <p:nvPr/>
          </p:nvSpPr>
          <p:spPr>
            <a:xfrm>
              <a:off x="2642760" y="685800"/>
              <a:ext cx="41108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On Effective Porosity</a:t>
              </a:r>
              <a:endParaRPr b="0" lang="en-US" sz="3200" spc="-1" strike="noStrike">
                <a:solidFill>
                  <a:srgbClr val="000000"/>
                </a:solidFill>
                <a:latin typeface="Times New Roman"/>
              </a:endParaRPr>
            </a:p>
          </p:txBody>
        </p:sp>
        <p:sp>
          <p:nvSpPr>
            <p:cNvPr id="1897" name="Line 13"/>
            <p:cNvSpPr/>
            <p:nvPr/>
          </p:nvSpPr>
          <p:spPr>
            <a:xfrm>
              <a:off x="3147840" y="1258920"/>
              <a:ext cx="1800" cy="4956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8" name="Line 14"/>
            <p:cNvSpPr/>
            <p:nvPr/>
          </p:nvSpPr>
          <p:spPr>
            <a:xfrm>
              <a:off x="5668920" y="1319040"/>
              <a:ext cx="1800" cy="496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9" name="Freeform 15"/>
            <p:cNvSpPr/>
            <p:nvPr/>
          </p:nvSpPr>
          <p:spPr>
            <a:xfrm>
              <a:off x="925560" y="2878200"/>
              <a:ext cx="7389720" cy="22320"/>
            </a:xfrm>
            <a:custGeom>
              <a:avLst/>
              <a:gdLst>
                <a:gd name="textAreaLeft" fmla="*/ 0 w 7389720"/>
                <a:gd name="textAreaRight" fmla="*/ 7390080 w 7389720"/>
                <a:gd name="textAreaTop" fmla="*/ 0 h 22320"/>
                <a:gd name="textAreaBottom" fmla="*/ 22680 h 22320"/>
              </a:gdLst>
              <a:ahLst/>
              <a:rect l="textAreaLeft" t="textAreaTop" r="textAreaRight" b="textAreaBottom"/>
              <a:pathLst>
                <a:path w="4655" h="14">
                  <a:moveTo>
                    <a:pt x="7" y="0"/>
                  </a:moveTo>
                  <a:lnTo>
                    <a:pt x="5" y="0"/>
                  </a:lnTo>
                  <a:lnTo>
                    <a:pt x="0" y="5"/>
                  </a:lnTo>
                  <a:lnTo>
                    <a:pt x="0" y="11"/>
                  </a:lnTo>
                  <a:lnTo>
                    <a:pt x="3" y="11"/>
                  </a:lnTo>
                  <a:lnTo>
                    <a:pt x="5" y="14"/>
                  </a:lnTo>
                  <a:lnTo>
                    <a:pt x="4653" y="14"/>
                  </a:lnTo>
                  <a:lnTo>
                    <a:pt x="4653" y="11"/>
                  </a:lnTo>
                  <a:lnTo>
                    <a:pt x="4655" y="11"/>
                  </a:lnTo>
                  <a:lnTo>
                    <a:pt x="4655" y="5"/>
                  </a:lnTo>
                  <a:lnTo>
                    <a:pt x="4653" y="2"/>
                  </a:lnTo>
                  <a:lnTo>
                    <a:pt x="4653" y="0"/>
                  </a:lnTo>
                  <a:lnTo>
                    <a:pt x="4648" y="0"/>
                  </a:lnTo>
                  <a:lnTo>
                    <a:pt x="7"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900" name="Freeform 16"/>
            <p:cNvSpPr/>
            <p:nvPr/>
          </p:nvSpPr>
          <p:spPr>
            <a:xfrm>
              <a:off x="907920" y="4525920"/>
              <a:ext cx="7386840" cy="20520"/>
            </a:xfrm>
            <a:custGeom>
              <a:avLst/>
              <a:gdLst>
                <a:gd name="textAreaLeft" fmla="*/ 0 w 7386840"/>
                <a:gd name="textAreaRight" fmla="*/ 7387200 w 7386840"/>
                <a:gd name="textAreaTop" fmla="*/ 0 h 20520"/>
                <a:gd name="textAreaBottom" fmla="*/ 20880 h 20520"/>
              </a:gdLst>
              <a:ahLst/>
              <a:rect l="textAreaLeft" t="textAreaTop" r="textAreaRight" b="textAreaBottom"/>
              <a:pathLst>
                <a:path w="4653" h="13">
                  <a:moveTo>
                    <a:pt x="7" y="0"/>
                  </a:moveTo>
                  <a:lnTo>
                    <a:pt x="5" y="0"/>
                  </a:lnTo>
                  <a:lnTo>
                    <a:pt x="0" y="4"/>
                  </a:lnTo>
                  <a:lnTo>
                    <a:pt x="0" y="11"/>
                  </a:lnTo>
                  <a:lnTo>
                    <a:pt x="2" y="11"/>
                  </a:lnTo>
                  <a:lnTo>
                    <a:pt x="5" y="13"/>
                  </a:lnTo>
                  <a:lnTo>
                    <a:pt x="4650" y="13"/>
                  </a:lnTo>
                  <a:lnTo>
                    <a:pt x="4650" y="11"/>
                  </a:lnTo>
                  <a:lnTo>
                    <a:pt x="4653" y="11"/>
                  </a:lnTo>
                  <a:lnTo>
                    <a:pt x="4653" y="4"/>
                  </a:lnTo>
                  <a:lnTo>
                    <a:pt x="4650" y="2"/>
                  </a:lnTo>
                  <a:lnTo>
                    <a:pt x="4650" y="0"/>
                  </a:lnTo>
                  <a:lnTo>
                    <a:pt x="4646" y="0"/>
                  </a:lnTo>
                  <a:lnTo>
                    <a:pt x="7"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01" name="Rectangle 17"/>
            <p:cNvSpPr/>
            <p:nvPr/>
          </p:nvSpPr>
          <p:spPr>
            <a:xfrm>
              <a:off x="3428280" y="1523880"/>
              <a:ext cx="1925640" cy="959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ispersed Clay</a:t>
              </a:r>
              <a:endParaRPr b="0" lang="en-US" sz="21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400" spc="-1" strike="noStrike">
                  <a:solidFill>
                    <a:srgbClr val="000000"/>
                  </a:solidFill>
                  <a:latin typeface="Arial"/>
                </a:rPr>
                <a:t>Pore-filling</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ore-lining</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ore-bridging</a:t>
              </a:r>
              <a:endParaRPr b="0" lang="en-US" sz="1400" spc="-1" strike="noStrike">
                <a:solidFill>
                  <a:srgbClr val="000000"/>
                </a:solidFill>
                <a:latin typeface="Times New Roman"/>
              </a:endParaRPr>
            </a:p>
          </p:txBody>
        </p:sp>
        <p:sp>
          <p:nvSpPr>
            <p:cNvPr id="1902" name="Rectangle 18"/>
            <p:cNvSpPr/>
            <p:nvPr/>
          </p:nvSpPr>
          <p:spPr>
            <a:xfrm>
              <a:off x="3400200" y="3632040"/>
              <a:ext cx="2061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lay Lamination</a:t>
              </a:r>
              <a:endParaRPr b="0" lang="en-US" sz="2100" spc="-1" strike="noStrike">
                <a:solidFill>
                  <a:srgbClr val="000000"/>
                </a:solidFill>
                <a:latin typeface="Times New Roman"/>
              </a:endParaRPr>
            </a:p>
          </p:txBody>
        </p:sp>
        <p:sp>
          <p:nvSpPr>
            <p:cNvPr id="1903" name="Rectangle 19"/>
            <p:cNvSpPr/>
            <p:nvPr/>
          </p:nvSpPr>
          <p:spPr>
            <a:xfrm>
              <a:off x="3481200" y="4859280"/>
              <a:ext cx="18964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tructural Clay</a:t>
              </a:r>
              <a:endParaRPr b="0" lang="en-US" sz="2100" spc="-1" strike="noStrike">
                <a:solidFill>
                  <a:srgbClr val="000000"/>
                </a:solidFill>
                <a:latin typeface="Times New Roman"/>
              </a:endParaRPr>
            </a:p>
          </p:txBody>
        </p:sp>
        <p:sp>
          <p:nvSpPr>
            <p:cNvPr id="1904" name="Rectangle 20"/>
            <p:cNvSpPr/>
            <p:nvPr/>
          </p:nvSpPr>
          <p:spPr>
            <a:xfrm>
              <a:off x="3486600" y="5149800"/>
              <a:ext cx="1828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ock Fragments,</a:t>
              </a:r>
              <a:endParaRPr b="0" lang="en-US" sz="1700" spc="-1" strike="noStrike">
                <a:solidFill>
                  <a:srgbClr val="000000"/>
                </a:solidFill>
                <a:latin typeface="Times New Roman"/>
              </a:endParaRPr>
            </a:p>
          </p:txBody>
        </p:sp>
        <p:sp>
          <p:nvSpPr>
            <p:cNvPr id="1905" name="Rectangle 21"/>
            <p:cNvSpPr/>
            <p:nvPr/>
          </p:nvSpPr>
          <p:spPr>
            <a:xfrm>
              <a:off x="3665880" y="5402160"/>
              <a:ext cx="1478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ip-Up Clasts,</a:t>
              </a:r>
              <a:endParaRPr b="0" lang="en-US" sz="1700" spc="-1" strike="noStrike">
                <a:solidFill>
                  <a:srgbClr val="000000"/>
                </a:solidFill>
                <a:latin typeface="Times New Roman"/>
              </a:endParaRPr>
            </a:p>
          </p:txBody>
        </p:sp>
        <p:sp>
          <p:nvSpPr>
            <p:cNvPr id="1906" name="Rectangle 22"/>
            <p:cNvSpPr/>
            <p:nvPr/>
          </p:nvSpPr>
          <p:spPr>
            <a:xfrm>
              <a:off x="3246480" y="5654520"/>
              <a:ext cx="2307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lay-Replaced Grains)</a:t>
              </a:r>
              <a:endParaRPr b="0" lang="en-US" sz="1700" spc="-1" strike="noStrike">
                <a:solidFill>
                  <a:srgbClr val="000000"/>
                </a:solidFill>
                <a:latin typeface="Times New Roman"/>
              </a:endParaRPr>
            </a:p>
          </p:txBody>
        </p:sp>
        <p:sp>
          <p:nvSpPr>
            <p:cNvPr id="1907" name="Line 23"/>
            <p:cNvSpPr/>
            <p:nvPr/>
          </p:nvSpPr>
          <p:spPr>
            <a:xfrm>
              <a:off x="5668920" y="2128680"/>
              <a:ext cx="26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08" name="Line 24"/>
            <p:cNvSpPr/>
            <p:nvPr/>
          </p:nvSpPr>
          <p:spPr>
            <a:xfrm>
              <a:off x="5668920" y="3710160"/>
              <a:ext cx="26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9" name="Line 25"/>
            <p:cNvSpPr/>
            <p:nvPr/>
          </p:nvSpPr>
          <p:spPr>
            <a:xfrm>
              <a:off x="5668920" y="5398920"/>
              <a:ext cx="26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0" name="Rectangle 26"/>
            <p:cNvSpPr/>
            <p:nvPr/>
          </p:nvSpPr>
          <p:spPr>
            <a:xfrm>
              <a:off x="6470640" y="3054240"/>
              <a:ext cx="192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1911" name="Rectangle 27"/>
            <p:cNvSpPr/>
            <p:nvPr/>
          </p:nvSpPr>
          <p:spPr>
            <a:xfrm>
              <a:off x="6638400" y="328932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t>
              </a:r>
              <a:endParaRPr b="0" lang="en-US" sz="2100" spc="-1" strike="noStrike">
                <a:solidFill>
                  <a:srgbClr val="000000"/>
                </a:solidFill>
                <a:latin typeface="Times New Roman"/>
              </a:endParaRPr>
            </a:p>
          </p:txBody>
        </p:sp>
        <p:sp>
          <p:nvSpPr>
            <p:cNvPr id="1912" name="Rectangle 28"/>
            <p:cNvSpPr/>
            <p:nvPr/>
          </p:nvSpPr>
          <p:spPr>
            <a:xfrm>
              <a:off x="5895720" y="1444680"/>
              <a:ext cx="192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1913" name="Rectangle 29"/>
            <p:cNvSpPr/>
            <p:nvPr/>
          </p:nvSpPr>
          <p:spPr>
            <a:xfrm>
              <a:off x="6068520" y="167940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t>
              </a:r>
              <a:endParaRPr b="0" lang="en-US" sz="2100" spc="-1" strike="noStrike">
                <a:solidFill>
                  <a:srgbClr val="000000"/>
                </a:solidFill>
                <a:latin typeface="Times New Roman"/>
              </a:endParaRPr>
            </a:p>
          </p:txBody>
        </p:sp>
        <p:sp>
          <p:nvSpPr>
            <p:cNvPr id="1914" name="Rectangle 30"/>
            <p:cNvSpPr/>
            <p:nvPr/>
          </p:nvSpPr>
          <p:spPr>
            <a:xfrm>
              <a:off x="6846840" y="4705200"/>
              <a:ext cx="192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1915" name="Rectangle 31"/>
            <p:cNvSpPr/>
            <p:nvPr/>
          </p:nvSpPr>
          <p:spPr>
            <a:xfrm>
              <a:off x="7014960" y="494028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t>
              </a:r>
              <a:endParaRPr b="0" lang="en-US" sz="2100" spc="-1" strike="noStrike">
                <a:solidFill>
                  <a:srgbClr val="000000"/>
                </a:solidFill>
                <a:latin typeface="Times New Roman"/>
              </a:endParaRPr>
            </a:p>
          </p:txBody>
        </p:sp>
        <p:sp>
          <p:nvSpPr>
            <p:cNvPr id="1916" name="Rectangle 32"/>
            <p:cNvSpPr/>
            <p:nvPr/>
          </p:nvSpPr>
          <p:spPr>
            <a:xfrm>
              <a:off x="6369120" y="1301760"/>
              <a:ext cx="1917720" cy="830160"/>
            </a:xfrm>
            <a:prstGeom prst="rect">
              <a:avLst/>
            </a:prstGeom>
            <a:solidFill>
              <a:srgbClr val="a16121"/>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7" name="Rectangle 33"/>
            <p:cNvSpPr/>
            <p:nvPr/>
          </p:nvSpPr>
          <p:spPr>
            <a:xfrm>
              <a:off x="7063920" y="1438200"/>
              <a:ext cx="457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lay</a:t>
              </a:r>
              <a:endParaRPr b="0" lang="en-US" sz="1700" spc="-1" strike="noStrike">
                <a:solidFill>
                  <a:srgbClr val="000000"/>
                </a:solidFill>
                <a:latin typeface="Times New Roman"/>
              </a:endParaRPr>
            </a:p>
          </p:txBody>
        </p:sp>
        <p:sp>
          <p:nvSpPr>
            <p:cNvPr id="1918" name="Rectangle 34"/>
            <p:cNvSpPr/>
            <p:nvPr/>
          </p:nvSpPr>
          <p:spPr>
            <a:xfrm>
              <a:off x="6853680" y="1690560"/>
              <a:ext cx="876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Minerals</a:t>
              </a:r>
              <a:endParaRPr b="0" lang="en-US" sz="1700" spc="-1" strike="noStrike">
                <a:solidFill>
                  <a:srgbClr val="000000"/>
                </a:solidFill>
                <a:latin typeface="Times New Roman"/>
              </a:endParaRPr>
            </a:p>
          </p:txBody>
        </p:sp>
        <p:sp>
          <p:nvSpPr>
            <p:cNvPr id="1919" name="Rectangle 35"/>
            <p:cNvSpPr/>
            <p:nvPr/>
          </p:nvSpPr>
          <p:spPr>
            <a:xfrm>
              <a:off x="5668920" y="2138400"/>
              <a:ext cx="2639880" cy="79200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0" name="Rectangle 36"/>
            <p:cNvSpPr/>
            <p:nvPr/>
          </p:nvSpPr>
          <p:spPr>
            <a:xfrm>
              <a:off x="6208920" y="2289240"/>
              <a:ext cx="1488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etrital Quartz</a:t>
              </a:r>
              <a:endParaRPr b="0" lang="en-US" sz="1700" spc="-1" strike="noStrike">
                <a:solidFill>
                  <a:srgbClr val="000000"/>
                </a:solidFill>
                <a:latin typeface="Times New Roman"/>
              </a:endParaRPr>
            </a:p>
          </p:txBody>
        </p:sp>
        <p:sp>
          <p:nvSpPr>
            <p:cNvPr id="1921" name="Rectangle 37"/>
            <p:cNvSpPr/>
            <p:nvPr/>
          </p:nvSpPr>
          <p:spPr>
            <a:xfrm>
              <a:off x="6615360" y="2538360"/>
              <a:ext cx="68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rains</a:t>
              </a:r>
              <a:endParaRPr b="0" lang="en-US" sz="1700" spc="-1" strike="noStrike">
                <a:solidFill>
                  <a:srgbClr val="000000"/>
                </a:solidFill>
                <a:latin typeface="Times New Roman"/>
              </a:endParaRPr>
            </a:p>
          </p:txBody>
        </p:sp>
        <p:sp>
          <p:nvSpPr>
            <p:cNvPr id="1922" name="Rectangle 38"/>
            <p:cNvSpPr/>
            <p:nvPr/>
          </p:nvSpPr>
          <p:spPr>
            <a:xfrm>
              <a:off x="5668920" y="3666960"/>
              <a:ext cx="1868400" cy="88272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3" name="Rectangle 39"/>
            <p:cNvSpPr/>
            <p:nvPr/>
          </p:nvSpPr>
          <p:spPr>
            <a:xfrm>
              <a:off x="5672160" y="5334120"/>
              <a:ext cx="1531800" cy="93348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4" name="Rectangle 40"/>
            <p:cNvSpPr/>
            <p:nvPr/>
          </p:nvSpPr>
          <p:spPr>
            <a:xfrm>
              <a:off x="7186680" y="5334120"/>
              <a:ext cx="1111320" cy="944280"/>
            </a:xfrm>
            <a:prstGeom prst="rect">
              <a:avLst/>
            </a:prstGeom>
            <a:solidFill>
              <a:srgbClr val="a16121"/>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5" name="Freeform 41"/>
            <p:cNvSpPr/>
            <p:nvPr/>
          </p:nvSpPr>
          <p:spPr>
            <a:xfrm>
              <a:off x="1476360" y="1447920"/>
              <a:ext cx="461880" cy="231480"/>
            </a:xfrm>
            <a:custGeom>
              <a:avLst/>
              <a:gdLst>
                <a:gd name="textAreaLeft" fmla="*/ 0 w 461880"/>
                <a:gd name="textAreaRight" fmla="*/ 462240 w 461880"/>
                <a:gd name="textAreaTop" fmla="*/ 0 h 231480"/>
                <a:gd name="textAreaBottom" fmla="*/ 231840 h 231480"/>
              </a:gdLst>
              <a:ahLst/>
              <a:rect l="textAreaLeft" t="textAreaTop" r="textAreaRight" b="textAreaBottom"/>
              <a:pathLst>
                <a:path w="291" h="146">
                  <a:moveTo>
                    <a:pt x="0" y="69"/>
                  </a:moveTo>
                  <a:lnTo>
                    <a:pt x="0" y="91"/>
                  </a:lnTo>
                  <a:lnTo>
                    <a:pt x="4" y="111"/>
                  </a:lnTo>
                  <a:lnTo>
                    <a:pt x="13" y="128"/>
                  </a:lnTo>
                  <a:lnTo>
                    <a:pt x="22" y="135"/>
                  </a:lnTo>
                  <a:lnTo>
                    <a:pt x="33" y="140"/>
                  </a:lnTo>
                  <a:lnTo>
                    <a:pt x="46" y="144"/>
                  </a:lnTo>
                  <a:lnTo>
                    <a:pt x="64" y="146"/>
                  </a:lnTo>
                  <a:lnTo>
                    <a:pt x="104" y="146"/>
                  </a:lnTo>
                  <a:lnTo>
                    <a:pt x="148" y="140"/>
                  </a:lnTo>
                  <a:lnTo>
                    <a:pt x="192" y="128"/>
                  </a:lnTo>
                  <a:lnTo>
                    <a:pt x="234" y="111"/>
                  </a:lnTo>
                  <a:lnTo>
                    <a:pt x="267" y="91"/>
                  </a:lnTo>
                  <a:lnTo>
                    <a:pt x="278" y="80"/>
                  </a:lnTo>
                  <a:lnTo>
                    <a:pt x="287" y="69"/>
                  </a:lnTo>
                  <a:lnTo>
                    <a:pt x="291" y="60"/>
                  </a:lnTo>
                  <a:lnTo>
                    <a:pt x="289" y="49"/>
                  </a:lnTo>
                  <a:lnTo>
                    <a:pt x="283" y="40"/>
                  </a:lnTo>
                  <a:lnTo>
                    <a:pt x="272" y="31"/>
                  </a:lnTo>
                  <a:lnTo>
                    <a:pt x="258" y="22"/>
                  </a:lnTo>
                  <a:lnTo>
                    <a:pt x="241" y="16"/>
                  </a:lnTo>
                  <a:lnTo>
                    <a:pt x="199" y="7"/>
                  </a:lnTo>
                  <a:lnTo>
                    <a:pt x="159" y="0"/>
                  </a:lnTo>
                  <a:lnTo>
                    <a:pt x="124" y="0"/>
                  </a:lnTo>
                  <a:lnTo>
                    <a:pt x="95" y="3"/>
                  </a:lnTo>
                  <a:lnTo>
                    <a:pt x="46" y="18"/>
                  </a:lnTo>
                  <a:lnTo>
                    <a:pt x="0" y="69"/>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Freeform 42"/>
            <p:cNvSpPr/>
            <p:nvPr/>
          </p:nvSpPr>
          <p:spPr>
            <a:xfrm>
              <a:off x="1897200" y="1574640"/>
              <a:ext cx="574560" cy="374760"/>
            </a:xfrm>
            <a:custGeom>
              <a:avLst/>
              <a:gdLst>
                <a:gd name="textAreaLeft" fmla="*/ 0 w 574560"/>
                <a:gd name="textAreaRight" fmla="*/ 574920 w 574560"/>
                <a:gd name="textAreaTop" fmla="*/ 0 h 374760"/>
                <a:gd name="textAreaBottom" fmla="*/ 375120 h 374760"/>
              </a:gdLst>
              <a:ahLst/>
              <a:rect l="textAreaLeft" t="textAreaTop" r="textAreaRight" b="textAreaBottom"/>
              <a:pathLst>
                <a:path w="362" h="236">
                  <a:moveTo>
                    <a:pt x="20" y="7"/>
                  </a:moveTo>
                  <a:lnTo>
                    <a:pt x="9" y="26"/>
                  </a:lnTo>
                  <a:lnTo>
                    <a:pt x="2" y="48"/>
                  </a:lnTo>
                  <a:lnTo>
                    <a:pt x="0" y="71"/>
                  </a:lnTo>
                  <a:lnTo>
                    <a:pt x="9" y="95"/>
                  </a:lnTo>
                  <a:lnTo>
                    <a:pt x="29" y="124"/>
                  </a:lnTo>
                  <a:lnTo>
                    <a:pt x="57" y="154"/>
                  </a:lnTo>
                  <a:lnTo>
                    <a:pt x="90" y="181"/>
                  </a:lnTo>
                  <a:lnTo>
                    <a:pt x="130" y="205"/>
                  </a:lnTo>
                  <a:lnTo>
                    <a:pt x="172" y="225"/>
                  </a:lnTo>
                  <a:lnTo>
                    <a:pt x="214" y="236"/>
                  </a:lnTo>
                  <a:lnTo>
                    <a:pt x="256" y="234"/>
                  </a:lnTo>
                  <a:lnTo>
                    <a:pt x="276" y="230"/>
                  </a:lnTo>
                  <a:lnTo>
                    <a:pt x="294" y="221"/>
                  </a:lnTo>
                  <a:lnTo>
                    <a:pt x="311" y="207"/>
                  </a:lnTo>
                  <a:lnTo>
                    <a:pt x="327" y="192"/>
                  </a:lnTo>
                  <a:lnTo>
                    <a:pt x="340" y="174"/>
                  </a:lnTo>
                  <a:lnTo>
                    <a:pt x="351" y="157"/>
                  </a:lnTo>
                  <a:lnTo>
                    <a:pt x="358" y="137"/>
                  </a:lnTo>
                  <a:lnTo>
                    <a:pt x="362" y="117"/>
                  </a:lnTo>
                  <a:lnTo>
                    <a:pt x="360" y="97"/>
                  </a:lnTo>
                  <a:lnTo>
                    <a:pt x="351" y="79"/>
                  </a:lnTo>
                  <a:lnTo>
                    <a:pt x="338" y="64"/>
                  </a:lnTo>
                  <a:lnTo>
                    <a:pt x="320" y="51"/>
                  </a:lnTo>
                  <a:lnTo>
                    <a:pt x="296" y="40"/>
                  </a:lnTo>
                  <a:lnTo>
                    <a:pt x="269" y="31"/>
                  </a:lnTo>
                  <a:lnTo>
                    <a:pt x="205" y="13"/>
                  </a:lnTo>
                  <a:lnTo>
                    <a:pt x="137" y="0"/>
                  </a:lnTo>
                  <a:lnTo>
                    <a:pt x="20" y="7"/>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Freeform 43"/>
            <p:cNvSpPr/>
            <p:nvPr/>
          </p:nvSpPr>
          <p:spPr>
            <a:xfrm>
              <a:off x="2152800" y="1935000"/>
              <a:ext cx="512640" cy="231840"/>
            </a:xfrm>
            <a:custGeom>
              <a:avLst/>
              <a:gdLst>
                <a:gd name="textAreaLeft" fmla="*/ 0 w 512640"/>
                <a:gd name="textAreaRight" fmla="*/ 513000 w 512640"/>
                <a:gd name="textAreaTop" fmla="*/ 0 h 231840"/>
                <a:gd name="textAreaBottom" fmla="*/ 232200 h 231840"/>
              </a:gdLst>
              <a:ahLst/>
              <a:rect l="textAreaLeft" t="textAreaTop" r="textAreaRight" b="textAreaBottom"/>
              <a:pathLst>
                <a:path w="323" h="146">
                  <a:moveTo>
                    <a:pt x="0" y="73"/>
                  </a:moveTo>
                  <a:lnTo>
                    <a:pt x="7" y="95"/>
                  </a:lnTo>
                  <a:lnTo>
                    <a:pt x="18" y="115"/>
                  </a:lnTo>
                  <a:lnTo>
                    <a:pt x="33" y="131"/>
                  </a:lnTo>
                  <a:lnTo>
                    <a:pt x="58" y="142"/>
                  </a:lnTo>
                  <a:lnTo>
                    <a:pt x="93" y="146"/>
                  </a:lnTo>
                  <a:lnTo>
                    <a:pt x="135" y="146"/>
                  </a:lnTo>
                  <a:lnTo>
                    <a:pt x="179" y="139"/>
                  </a:lnTo>
                  <a:lnTo>
                    <a:pt x="223" y="128"/>
                  </a:lnTo>
                  <a:lnTo>
                    <a:pt x="265" y="111"/>
                  </a:lnTo>
                  <a:lnTo>
                    <a:pt x="298" y="91"/>
                  </a:lnTo>
                  <a:lnTo>
                    <a:pt x="309" y="80"/>
                  </a:lnTo>
                  <a:lnTo>
                    <a:pt x="318" y="69"/>
                  </a:lnTo>
                  <a:lnTo>
                    <a:pt x="323" y="60"/>
                  </a:lnTo>
                  <a:lnTo>
                    <a:pt x="320" y="49"/>
                  </a:lnTo>
                  <a:lnTo>
                    <a:pt x="314" y="40"/>
                  </a:lnTo>
                  <a:lnTo>
                    <a:pt x="303" y="31"/>
                  </a:lnTo>
                  <a:lnTo>
                    <a:pt x="289" y="22"/>
                  </a:lnTo>
                  <a:lnTo>
                    <a:pt x="272" y="16"/>
                  </a:lnTo>
                  <a:lnTo>
                    <a:pt x="230" y="7"/>
                  </a:lnTo>
                  <a:lnTo>
                    <a:pt x="190" y="0"/>
                  </a:lnTo>
                  <a:lnTo>
                    <a:pt x="155" y="0"/>
                  </a:lnTo>
                  <a:lnTo>
                    <a:pt x="126" y="3"/>
                  </a:lnTo>
                  <a:lnTo>
                    <a:pt x="77" y="18"/>
                  </a:lnTo>
                  <a:lnTo>
                    <a:pt x="0" y="73"/>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Freeform 44"/>
            <p:cNvSpPr/>
            <p:nvPr/>
          </p:nvSpPr>
          <p:spPr>
            <a:xfrm>
              <a:off x="2558880" y="2013120"/>
              <a:ext cx="516240" cy="368280"/>
            </a:xfrm>
            <a:custGeom>
              <a:avLst/>
              <a:gdLst>
                <a:gd name="textAreaLeft" fmla="*/ 0 w 516240"/>
                <a:gd name="textAreaRight" fmla="*/ 516600 w 516240"/>
                <a:gd name="textAreaTop" fmla="*/ 0 h 368280"/>
                <a:gd name="textAreaBottom" fmla="*/ 368640 h 368280"/>
              </a:gdLst>
              <a:ahLst/>
              <a:rect l="textAreaLeft" t="textAreaTop" r="textAreaRight" b="textAreaBottom"/>
              <a:pathLst>
                <a:path w="325" h="232">
                  <a:moveTo>
                    <a:pt x="0" y="71"/>
                  </a:moveTo>
                  <a:lnTo>
                    <a:pt x="5" y="86"/>
                  </a:lnTo>
                  <a:lnTo>
                    <a:pt x="11" y="106"/>
                  </a:lnTo>
                  <a:lnTo>
                    <a:pt x="29" y="157"/>
                  </a:lnTo>
                  <a:lnTo>
                    <a:pt x="40" y="181"/>
                  </a:lnTo>
                  <a:lnTo>
                    <a:pt x="51" y="203"/>
                  </a:lnTo>
                  <a:lnTo>
                    <a:pt x="64" y="218"/>
                  </a:lnTo>
                  <a:lnTo>
                    <a:pt x="80" y="227"/>
                  </a:lnTo>
                  <a:lnTo>
                    <a:pt x="95" y="232"/>
                  </a:lnTo>
                  <a:lnTo>
                    <a:pt x="157" y="232"/>
                  </a:lnTo>
                  <a:lnTo>
                    <a:pt x="203" y="225"/>
                  </a:lnTo>
                  <a:lnTo>
                    <a:pt x="250" y="212"/>
                  </a:lnTo>
                  <a:lnTo>
                    <a:pt x="270" y="201"/>
                  </a:lnTo>
                  <a:lnTo>
                    <a:pt x="287" y="181"/>
                  </a:lnTo>
                  <a:lnTo>
                    <a:pt x="303" y="159"/>
                  </a:lnTo>
                  <a:lnTo>
                    <a:pt x="314" y="132"/>
                  </a:lnTo>
                  <a:lnTo>
                    <a:pt x="320" y="106"/>
                  </a:lnTo>
                  <a:lnTo>
                    <a:pt x="325" y="82"/>
                  </a:lnTo>
                  <a:lnTo>
                    <a:pt x="325" y="62"/>
                  </a:lnTo>
                  <a:lnTo>
                    <a:pt x="323" y="48"/>
                  </a:lnTo>
                  <a:lnTo>
                    <a:pt x="318" y="40"/>
                  </a:lnTo>
                  <a:lnTo>
                    <a:pt x="307" y="33"/>
                  </a:lnTo>
                  <a:lnTo>
                    <a:pt x="281" y="20"/>
                  </a:lnTo>
                  <a:lnTo>
                    <a:pt x="248" y="9"/>
                  </a:lnTo>
                  <a:lnTo>
                    <a:pt x="210" y="2"/>
                  </a:lnTo>
                  <a:lnTo>
                    <a:pt x="192" y="0"/>
                  </a:lnTo>
                  <a:lnTo>
                    <a:pt x="157" y="0"/>
                  </a:lnTo>
                  <a:lnTo>
                    <a:pt x="128" y="2"/>
                  </a:lnTo>
                  <a:lnTo>
                    <a:pt x="80" y="18"/>
                  </a:lnTo>
                  <a:lnTo>
                    <a:pt x="0" y="71"/>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Freeform 45"/>
            <p:cNvSpPr/>
            <p:nvPr/>
          </p:nvSpPr>
          <p:spPr>
            <a:xfrm>
              <a:off x="1378080" y="3138480"/>
              <a:ext cx="434880" cy="272880"/>
            </a:xfrm>
            <a:custGeom>
              <a:avLst/>
              <a:gdLst>
                <a:gd name="textAreaLeft" fmla="*/ 0 w 434880"/>
                <a:gd name="textAreaRight" fmla="*/ 435240 w 434880"/>
                <a:gd name="textAreaTop" fmla="*/ 0 h 272880"/>
                <a:gd name="textAreaBottom" fmla="*/ 273240 h 272880"/>
              </a:gdLst>
              <a:ahLst/>
              <a:rect l="textAreaLeft" t="textAreaTop" r="textAreaRight" b="textAreaBottom"/>
              <a:pathLst>
                <a:path w="274" h="172">
                  <a:moveTo>
                    <a:pt x="146" y="4"/>
                  </a:moveTo>
                  <a:lnTo>
                    <a:pt x="77" y="4"/>
                  </a:lnTo>
                  <a:lnTo>
                    <a:pt x="49" y="8"/>
                  </a:lnTo>
                  <a:lnTo>
                    <a:pt x="24" y="15"/>
                  </a:lnTo>
                  <a:lnTo>
                    <a:pt x="9" y="28"/>
                  </a:lnTo>
                  <a:lnTo>
                    <a:pt x="0" y="44"/>
                  </a:lnTo>
                  <a:lnTo>
                    <a:pt x="2" y="64"/>
                  </a:lnTo>
                  <a:lnTo>
                    <a:pt x="16" y="86"/>
                  </a:lnTo>
                  <a:lnTo>
                    <a:pt x="40" y="108"/>
                  </a:lnTo>
                  <a:lnTo>
                    <a:pt x="73" y="130"/>
                  </a:lnTo>
                  <a:lnTo>
                    <a:pt x="113" y="150"/>
                  </a:lnTo>
                  <a:lnTo>
                    <a:pt x="155" y="163"/>
                  </a:lnTo>
                  <a:lnTo>
                    <a:pt x="197" y="172"/>
                  </a:lnTo>
                  <a:lnTo>
                    <a:pt x="234" y="172"/>
                  </a:lnTo>
                  <a:lnTo>
                    <a:pt x="250" y="170"/>
                  </a:lnTo>
                  <a:lnTo>
                    <a:pt x="261" y="165"/>
                  </a:lnTo>
                  <a:lnTo>
                    <a:pt x="270" y="159"/>
                  </a:lnTo>
                  <a:lnTo>
                    <a:pt x="274" y="150"/>
                  </a:lnTo>
                  <a:lnTo>
                    <a:pt x="274" y="139"/>
                  </a:lnTo>
                  <a:lnTo>
                    <a:pt x="270" y="128"/>
                  </a:lnTo>
                  <a:lnTo>
                    <a:pt x="252" y="99"/>
                  </a:lnTo>
                  <a:lnTo>
                    <a:pt x="225" y="70"/>
                  </a:lnTo>
                  <a:lnTo>
                    <a:pt x="194" y="44"/>
                  </a:lnTo>
                  <a:lnTo>
                    <a:pt x="168" y="26"/>
                  </a:lnTo>
                  <a:lnTo>
                    <a:pt x="141" y="13"/>
                  </a:lnTo>
                  <a:lnTo>
                    <a:pt x="95" y="0"/>
                  </a:lnTo>
                  <a:lnTo>
                    <a:pt x="146" y="4"/>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Freeform 46"/>
            <p:cNvSpPr/>
            <p:nvPr/>
          </p:nvSpPr>
          <p:spPr>
            <a:xfrm>
              <a:off x="1816200" y="3141720"/>
              <a:ext cx="476280" cy="311040"/>
            </a:xfrm>
            <a:custGeom>
              <a:avLst/>
              <a:gdLst>
                <a:gd name="textAreaLeft" fmla="*/ 0 w 476280"/>
                <a:gd name="textAreaRight" fmla="*/ 476640 w 476280"/>
                <a:gd name="textAreaTop" fmla="*/ 0 h 311040"/>
                <a:gd name="textAreaBottom" fmla="*/ 311400 h 311040"/>
              </a:gdLst>
              <a:ahLst/>
              <a:rect l="textAreaLeft" t="textAreaTop" r="textAreaRight" b="textAreaBottom"/>
              <a:pathLst>
                <a:path w="300" h="196">
                  <a:moveTo>
                    <a:pt x="16" y="22"/>
                  </a:moveTo>
                  <a:lnTo>
                    <a:pt x="5" y="59"/>
                  </a:lnTo>
                  <a:lnTo>
                    <a:pt x="0" y="101"/>
                  </a:lnTo>
                  <a:lnTo>
                    <a:pt x="2" y="126"/>
                  </a:lnTo>
                  <a:lnTo>
                    <a:pt x="11" y="152"/>
                  </a:lnTo>
                  <a:lnTo>
                    <a:pt x="27" y="172"/>
                  </a:lnTo>
                  <a:lnTo>
                    <a:pt x="49" y="188"/>
                  </a:lnTo>
                  <a:lnTo>
                    <a:pt x="82" y="196"/>
                  </a:lnTo>
                  <a:lnTo>
                    <a:pt x="122" y="196"/>
                  </a:lnTo>
                  <a:lnTo>
                    <a:pt x="164" y="190"/>
                  </a:lnTo>
                  <a:lnTo>
                    <a:pt x="206" y="179"/>
                  </a:lnTo>
                  <a:lnTo>
                    <a:pt x="245" y="163"/>
                  </a:lnTo>
                  <a:lnTo>
                    <a:pt x="278" y="143"/>
                  </a:lnTo>
                  <a:lnTo>
                    <a:pt x="289" y="132"/>
                  </a:lnTo>
                  <a:lnTo>
                    <a:pt x="298" y="119"/>
                  </a:lnTo>
                  <a:lnTo>
                    <a:pt x="300" y="108"/>
                  </a:lnTo>
                  <a:lnTo>
                    <a:pt x="300" y="95"/>
                  </a:lnTo>
                  <a:lnTo>
                    <a:pt x="294" y="84"/>
                  </a:lnTo>
                  <a:lnTo>
                    <a:pt x="285" y="71"/>
                  </a:lnTo>
                  <a:lnTo>
                    <a:pt x="252" y="48"/>
                  </a:lnTo>
                  <a:lnTo>
                    <a:pt x="210" y="24"/>
                  </a:lnTo>
                  <a:lnTo>
                    <a:pt x="164" y="0"/>
                  </a:lnTo>
                  <a:lnTo>
                    <a:pt x="16" y="22"/>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Freeform 47"/>
            <p:cNvSpPr/>
            <p:nvPr/>
          </p:nvSpPr>
          <p:spPr>
            <a:xfrm>
              <a:off x="2247840" y="3133800"/>
              <a:ext cx="447840" cy="249120"/>
            </a:xfrm>
            <a:custGeom>
              <a:avLst/>
              <a:gdLst>
                <a:gd name="textAreaLeft" fmla="*/ 0 w 447840"/>
                <a:gd name="textAreaRight" fmla="*/ 448200 w 447840"/>
                <a:gd name="textAreaTop" fmla="*/ 0 h 249120"/>
                <a:gd name="textAreaBottom" fmla="*/ 249480 h 249120"/>
              </a:gdLst>
              <a:ahLst/>
              <a:rect l="textAreaLeft" t="textAreaTop" r="textAreaRight" b="textAreaBottom"/>
              <a:pathLst>
                <a:path w="282" h="157">
                  <a:moveTo>
                    <a:pt x="134" y="0"/>
                  </a:moveTo>
                  <a:lnTo>
                    <a:pt x="68" y="11"/>
                  </a:lnTo>
                  <a:lnTo>
                    <a:pt x="39" y="20"/>
                  </a:lnTo>
                  <a:lnTo>
                    <a:pt x="17" y="31"/>
                  </a:lnTo>
                  <a:lnTo>
                    <a:pt x="4" y="47"/>
                  </a:lnTo>
                  <a:lnTo>
                    <a:pt x="0" y="64"/>
                  </a:lnTo>
                  <a:lnTo>
                    <a:pt x="4" y="82"/>
                  </a:lnTo>
                  <a:lnTo>
                    <a:pt x="20" y="102"/>
                  </a:lnTo>
                  <a:lnTo>
                    <a:pt x="46" y="122"/>
                  </a:lnTo>
                  <a:lnTo>
                    <a:pt x="84" y="137"/>
                  </a:lnTo>
                  <a:lnTo>
                    <a:pt x="123" y="148"/>
                  </a:lnTo>
                  <a:lnTo>
                    <a:pt x="168" y="155"/>
                  </a:lnTo>
                  <a:lnTo>
                    <a:pt x="212" y="157"/>
                  </a:lnTo>
                  <a:lnTo>
                    <a:pt x="247" y="153"/>
                  </a:lnTo>
                  <a:lnTo>
                    <a:pt x="263" y="148"/>
                  </a:lnTo>
                  <a:lnTo>
                    <a:pt x="274" y="144"/>
                  </a:lnTo>
                  <a:lnTo>
                    <a:pt x="280" y="135"/>
                  </a:lnTo>
                  <a:lnTo>
                    <a:pt x="282" y="126"/>
                  </a:lnTo>
                  <a:lnTo>
                    <a:pt x="280" y="115"/>
                  </a:lnTo>
                  <a:lnTo>
                    <a:pt x="276" y="104"/>
                  </a:lnTo>
                  <a:lnTo>
                    <a:pt x="254" y="78"/>
                  </a:lnTo>
                  <a:lnTo>
                    <a:pt x="223" y="53"/>
                  </a:lnTo>
                  <a:lnTo>
                    <a:pt x="190" y="31"/>
                  </a:lnTo>
                  <a:lnTo>
                    <a:pt x="161" y="18"/>
                  </a:lnTo>
                  <a:lnTo>
                    <a:pt x="134" y="9"/>
                  </a:lnTo>
                  <a:lnTo>
                    <a:pt x="86" y="3"/>
                  </a:lnTo>
                  <a:lnTo>
                    <a:pt x="134"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Freeform 48"/>
            <p:cNvSpPr/>
            <p:nvPr/>
          </p:nvSpPr>
          <p:spPr>
            <a:xfrm>
              <a:off x="2117880" y="3365640"/>
              <a:ext cx="458640" cy="228600"/>
            </a:xfrm>
            <a:custGeom>
              <a:avLst/>
              <a:gdLst>
                <a:gd name="textAreaLeft" fmla="*/ 0 w 458640"/>
                <a:gd name="textAreaRight" fmla="*/ 459000 w 458640"/>
                <a:gd name="textAreaTop" fmla="*/ 0 h 228600"/>
                <a:gd name="textAreaBottom" fmla="*/ 228960 h 228600"/>
              </a:gdLst>
              <a:ahLst/>
              <a:rect l="textAreaLeft" t="textAreaTop" r="textAreaRight" b="textAreaBottom"/>
              <a:pathLst>
                <a:path w="289" h="144">
                  <a:moveTo>
                    <a:pt x="102" y="0"/>
                  </a:moveTo>
                  <a:lnTo>
                    <a:pt x="44" y="38"/>
                  </a:lnTo>
                  <a:lnTo>
                    <a:pt x="22" y="55"/>
                  </a:lnTo>
                  <a:lnTo>
                    <a:pt x="7" y="75"/>
                  </a:lnTo>
                  <a:lnTo>
                    <a:pt x="0" y="95"/>
                  </a:lnTo>
                  <a:lnTo>
                    <a:pt x="2" y="113"/>
                  </a:lnTo>
                  <a:lnTo>
                    <a:pt x="16" y="128"/>
                  </a:lnTo>
                  <a:lnTo>
                    <a:pt x="38" y="139"/>
                  </a:lnTo>
                  <a:lnTo>
                    <a:pt x="71" y="144"/>
                  </a:lnTo>
                  <a:lnTo>
                    <a:pt x="110" y="144"/>
                  </a:lnTo>
                  <a:lnTo>
                    <a:pt x="152" y="137"/>
                  </a:lnTo>
                  <a:lnTo>
                    <a:pt x="194" y="126"/>
                  </a:lnTo>
                  <a:lnTo>
                    <a:pt x="234" y="111"/>
                  </a:lnTo>
                  <a:lnTo>
                    <a:pt x="267" y="91"/>
                  </a:lnTo>
                  <a:lnTo>
                    <a:pt x="278" y="80"/>
                  </a:lnTo>
                  <a:lnTo>
                    <a:pt x="285" y="71"/>
                  </a:lnTo>
                  <a:lnTo>
                    <a:pt x="289" y="60"/>
                  </a:lnTo>
                  <a:lnTo>
                    <a:pt x="287" y="51"/>
                  </a:lnTo>
                  <a:lnTo>
                    <a:pt x="280" y="42"/>
                  </a:lnTo>
                  <a:lnTo>
                    <a:pt x="272" y="33"/>
                  </a:lnTo>
                  <a:lnTo>
                    <a:pt x="241" y="20"/>
                  </a:lnTo>
                  <a:lnTo>
                    <a:pt x="201" y="11"/>
                  </a:lnTo>
                  <a:lnTo>
                    <a:pt x="163" y="5"/>
                  </a:lnTo>
                  <a:lnTo>
                    <a:pt x="130" y="5"/>
                  </a:lnTo>
                  <a:lnTo>
                    <a:pt x="102" y="9"/>
                  </a:lnTo>
                  <a:lnTo>
                    <a:pt x="55" y="22"/>
                  </a:lnTo>
                  <a:lnTo>
                    <a:pt x="102"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Freeform 49"/>
            <p:cNvSpPr/>
            <p:nvPr/>
          </p:nvSpPr>
          <p:spPr>
            <a:xfrm>
              <a:off x="1679400" y="3495600"/>
              <a:ext cx="459000" cy="227160"/>
            </a:xfrm>
            <a:custGeom>
              <a:avLst/>
              <a:gdLst>
                <a:gd name="textAreaLeft" fmla="*/ 0 w 459000"/>
                <a:gd name="textAreaRight" fmla="*/ 459360 w 459000"/>
                <a:gd name="textAreaTop" fmla="*/ 0 h 227160"/>
                <a:gd name="textAreaBottom" fmla="*/ 227160 h 227160"/>
              </a:gdLst>
              <a:ahLst/>
              <a:rect l="textAreaLeft" t="textAreaTop" r="textAreaRight" b="textAreaBottom"/>
              <a:pathLst>
                <a:path w="289" h="143">
                  <a:moveTo>
                    <a:pt x="102" y="0"/>
                  </a:moveTo>
                  <a:lnTo>
                    <a:pt x="44" y="37"/>
                  </a:lnTo>
                  <a:lnTo>
                    <a:pt x="22" y="55"/>
                  </a:lnTo>
                  <a:lnTo>
                    <a:pt x="7" y="75"/>
                  </a:lnTo>
                  <a:lnTo>
                    <a:pt x="0" y="95"/>
                  </a:lnTo>
                  <a:lnTo>
                    <a:pt x="2" y="112"/>
                  </a:lnTo>
                  <a:lnTo>
                    <a:pt x="15" y="128"/>
                  </a:lnTo>
                  <a:lnTo>
                    <a:pt x="38" y="139"/>
                  </a:lnTo>
                  <a:lnTo>
                    <a:pt x="71" y="143"/>
                  </a:lnTo>
                  <a:lnTo>
                    <a:pt x="110" y="143"/>
                  </a:lnTo>
                  <a:lnTo>
                    <a:pt x="152" y="137"/>
                  </a:lnTo>
                  <a:lnTo>
                    <a:pt x="194" y="126"/>
                  </a:lnTo>
                  <a:lnTo>
                    <a:pt x="234" y="110"/>
                  </a:lnTo>
                  <a:lnTo>
                    <a:pt x="267" y="93"/>
                  </a:lnTo>
                  <a:lnTo>
                    <a:pt x="278" y="82"/>
                  </a:lnTo>
                  <a:lnTo>
                    <a:pt x="285" y="73"/>
                  </a:lnTo>
                  <a:lnTo>
                    <a:pt x="289" y="62"/>
                  </a:lnTo>
                  <a:lnTo>
                    <a:pt x="287" y="53"/>
                  </a:lnTo>
                  <a:lnTo>
                    <a:pt x="280" y="44"/>
                  </a:lnTo>
                  <a:lnTo>
                    <a:pt x="272" y="35"/>
                  </a:lnTo>
                  <a:lnTo>
                    <a:pt x="241" y="22"/>
                  </a:lnTo>
                  <a:lnTo>
                    <a:pt x="201" y="13"/>
                  </a:lnTo>
                  <a:lnTo>
                    <a:pt x="163" y="7"/>
                  </a:lnTo>
                  <a:lnTo>
                    <a:pt x="130" y="7"/>
                  </a:lnTo>
                  <a:lnTo>
                    <a:pt x="104" y="9"/>
                  </a:lnTo>
                  <a:lnTo>
                    <a:pt x="57" y="22"/>
                  </a:lnTo>
                  <a:lnTo>
                    <a:pt x="102"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Freeform 50"/>
            <p:cNvSpPr/>
            <p:nvPr/>
          </p:nvSpPr>
          <p:spPr>
            <a:xfrm>
              <a:off x="1195560" y="3355920"/>
              <a:ext cx="536400" cy="255600"/>
            </a:xfrm>
            <a:custGeom>
              <a:avLst/>
              <a:gdLst>
                <a:gd name="textAreaLeft" fmla="*/ 0 w 536400"/>
                <a:gd name="textAreaRight" fmla="*/ 536760 w 536400"/>
                <a:gd name="textAreaTop" fmla="*/ 0 h 255600"/>
                <a:gd name="textAreaBottom" fmla="*/ 255600 h 255600"/>
              </a:gdLst>
              <a:ahLst/>
              <a:rect l="textAreaLeft" t="textAreaTop" r="textAreaRight" b="textAreaBottom"/>
              <a:pathLst>
                <a:path w="338" h="161">
                  <a:moveTo>
                    <a:pt x="102" y="0"/>
                  </a:moveTo>
                  <a:lnTo>
                    <a:pt x="44" y="37"/>
                  </a:lnTo>
                  <a:lnTo>
                    <a:pt x="22" y="55"/>
                  </a:lnTo>
                  <a:lnTo>
                    <a:pt x="7" y="75"/>
                  </a:lnTo>
                  <a:lnTo>
                    <a:pt x="0" y="95"/>
                  </a:lnTo>
                  <a:lnTo>
                    <a:pt x="0" y="103"/>
                  </a:lnTo>
                  <a:lnTo>
                    <a:pt x="5" y="114"/>
                  </a:lnTo>
                  <a:lnTo>
                    <a:pt x="14" y="123"/>
                  </a:lnTo>
                  <a:lnTo>
                    <a:pt x="25" y="130"/>
                  </a:lnTo>
                  <a:lnTo>
                    <a:pt x="42" y="139"/>
                  </a:lnTo>
                  <a:lnTo>
                    <a:pt x="62" y="145"/>
                  </a:lnTo>
                  <a:lnTo>
                    <a:pt x="89" y="152"/>
                  </a:lnTo>
                  <a:lnTo>
                    <a:pt x="117" y="156"/>
                  </a:lnTo>
                  <a:lnTo>
                    <a:pt x="181" y="161"/>
                  </a:lnTo>
                  <a:lnTo>
                    <a:pt x="243" y="161"/>
                  </a:lnTo>
                  <a:lnTo>
                    <a:pt x="270" y="156"/>
                  </a:lnTo>
                  <a:lnTo>
                    <a:pt x="294" y="150"/>
                  </a:lnTo>
                  <a:lnTo>
                    <a:pt x="314" y="141"/>
                  </a:lnTo>
                  <a:lnTo>
                    <a:pt x="327" y="132"/>
                  </a:lnTo>
                  <a:lnTo>
                    <a:pt x="334" y="121"/>
                  </a:lnTo>
                  <a:lnTo>
                    <a:pt x="338" y="108"/>
                  </a:lnTo>
                  <a:lnTo>
                    <a:pt x="338" y="95"/>
                  </a:lnTo>
                  <a:lnTo>
                    <a:pt x="334" y="81"/>
                  </a:lnTo>
                  <a:lnTo>
                    <a:pt x="325" y="68"/>
                  </a:lnTo>
                  <a:lnTo>
                    <a:pt x="314" y="57"/>
                  </a:lnTo>
                  <a:lnTo>
                    <a:pt x="283" y="37"/>
                  </a:lnTo>
                  <a:lnTo>
                    <a:pt x="243" y="22"/>
                  </a:lnTo>
                  <a:lnTo>
                    <a:pt x="203" y="11"/>
                  </a:lnTo>
                  <a:lnTo>
                    <a:pt x="164" y="4"/>
                  </a:lnTo>
                  <a:lnTo>
                    <a:pt x="131" y="4"/>
                  </a:lnTo>
                  <a:lnTo>
                    <a:pt x="102" y="8"/>
                  </a:lnTo>
                  <a:lnTo>
                    <a:pt x="56" y="22"/>
                  </a:lnTo>
                  <a:lnTo>
                    <a:pt x="102"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Freeform 51"/>
            <p:cNvSpPr/>
            <p:nvPr/>
          </p:nvSpPr>
          <p:spPr>
            <a:xfrm>
              <a:off x="1290600" y="3873600"/>
              <a:ext cx="496800" cy="361800"/>
            </a:xfrm>
            <a:custGeom>
              <a:avLst/>
              <a:gdLst>
                <a:gd name="textAreaLeft" fmla="*/ 0 w 496800"/>
                <a:gd name="textAreaRight" fmla="*/ 497160 w 496800"/>
                <a:gd name="textAreaTop" fmla="*/ 0 h 361800"/>
                <a:gd name="textAreaBottom" fmla="*/ 362160 h 361800"/>
              </a:gdLst>
              <a:ahLst/>
              <a:rect l="textAreaLeft" t="textAreaTop" r="textAreaRight" b="textAreaBottom"/>
              <a:pathLst>
                <a:path w="313" h="228">
                  <a:moveTo>
                    <a:pt x="115" y="0"/>
                  </a:moveTo>
                  <a:lnTo>
                    <a:pt x="57" y="38"/>
                  </a:lnTo>
                  <a:lnTo>
                    <a:pt x="33" y="62"/>
                  </a:lnTo>
                  <a:lnTo>
                    <a:pt x="13" y="89"/>
                  </a:lnTo>
                  <a:lnTo>
                    <a:pt x="2" y="122"/>
                  </a:lnTo>
                  <a:lnTo>
                    <a:pt x="0" y="157"/>
                  </a:lnTo>
                  <a:lnTo>
                    <a:pt x="2" y="173"/>
                  </a:lnTo>
                  <a:lnTo>
                    <a:pt x="9" y="188"/>
                  </a:lnTo>
                  <a:lnTo>
                    <a:pt x="20" y="201"/>
                  </a:lnTo>
                  <a:lnTo>
                    <a:pt x="33" y="212"/>
                  </a:lnTo>
                  <a:lnTo>
                    <a:pt x="51" y="219"/>
                  </a:lnTo>
                  <a:lnTo>
                    <a:pt x="73" y="226"/>
                  </a:lnTo>
                  <a:lnTo>
                    <a:pt x="95" y="228"/>
                  </a:lnTo>
                  <a:lnTo>
                    <a:pt x="121" y="226"/>
                  </a:lnTo>
                  <a:lnTo>
                    <a:pt x="172" y="217"/>
                  </a:lnTo>
                  <a:lnTo>
                    <a:pt x="223" y="197"/>
                  </a:lnTo>
                  <a:lnTo>
                    <a:pt x="245" y="184"/>
                  </a:lnTo>
                  <a:lnTo>
                    <a:pt x="265" y="168"/>
                  </a:lnTo>
                  <a:lnTo>
                    <a:pt x="283" y="150"/>
                  </a:lnTo>
                  <a:lnTo>
                    <a:pt x="296" y="133"/>
                  </a:lnTo>
                  <a:lnTo>
                    <a:pt x="305" y="115"/>
                  </a:lnTo>
                  <a:lnTo>
                    <a:pt x="311" y="98"/>
                  </a:lnTo>
                  <a:lnTo>
                    <a:pt x="313" y="80"/>
                  </a:lnTo>
                  <a:lnTo>
                    <a:pt x="309" y="64"/>
                  </a:lnTo>
                  <a:lnTo>
                    <a:pt x="300" y="51"/>
                  </a:lnTo>
                  <a:lnTo>
                    <a:pt x="289" y="40"/>
                  </a:lnTo>
                  <a:lnTo>
                    <a:pt x="256" y="22"/>
                  </a:lnTo>
                  <a:lnTo>
                    <a:pt x="219" y="11"/>
                  </a:lnTo>
                  <a:lnTo>
                    <a:pt x="179" y="5"/>
                  </a:lnTo>
                  <a:lnTo>
                    <a:pt x="146" y="5"/>
                  </a:lnTo>
                  <a:lnTo>
                    <a:pt x="117" y="9"/>
                  </a:lnTo>
                  <a:lnTo>
                    <a:pt x="71" y="22"/>
                  </a:lnTo>
                  <a:lnTo>
                    <a:pt x="115"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Rectangle 52"/>
            <p:cNvSpPr/>
            <p:nvPr/>
          </p:nvSpPr>
          <p:spPr>
            <a:xfrm>
              <a:off x="5668920" y="4538520"/>
              <a:ext cx="2629080" cy="795600"/>
            </a:xfrm>
            <a:prstGeom prst="rect">
              <a:avLst/>
            </a:prstGeom>
            <a:solidFill>
              <a:srgbClr val="80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7" name="Freeform 53"/>
            <p:cNvSpPr/>
            <p:nvPr/>
          </p:nvSpPr>
          <p:spPr>
            <a:xfrm>
              <a:off x="1690560" y="3908520"/>
              <a:ext cx="476280" cy="382320"/>
            </a:xfrm>
            <a:custGeom>
              <a:avLst/>
              <a:gdLst>
                <a:gd name="textAreaLeft" fmla="*/ 0 w 476280"/>
                <a:gd name="textAreaRight" fmla="*/ 476640 w 476280"/>
                <a:gd name="textAreaTop" fmla="*/ 0 h 382320"/>
                <a:gd name="textAreaBottom" fmla="*/ 382680 h 382320"/>
              </a:gdLst>
              <a:ahLst/>
              <a:rect l="textAreaLeft" t="textAreaTop" r="textAreaRight" b="textAreaBottom"/>
              <a:pathLst>
                <a:path w="300" h="241">
                  <a:moveTo>
                    <a:pt x="117" y="23"/>
                  </a:moveTo>
                  <a:lnTo>
                    <a:pt x="84" y="60"/>
                  </a:lnTo>
                  <a:lnTo>
                    <a:pt x="53" y="95"/>
                  </a:lnTo>
                  <a:lnTo>
                    <a:pt x="26" y="128"/>
                  </a:lnTo>
                  <a:lnTo>
                    <a:pt x="8" y="159"/>
                  </a:lnTo>
                  <a:lnTo>
                    <a:pt x="0" y="186"/>
                  </a:lnTo>
                  <a:lnTo>
                    <a:pt x="4" y="208"/>
                  </a:lnTo>
                  <a:lnTo>
                    <a:pt x="17" y="226"/>
                  </a:lnTo>
                  <a:lnTo>
                    <a:pt x="39" y="237"/>
                  </a:lnTo>
                  <a:lnTo>
                    <a:pt x="73" y="241"/>
                  </a:lnTo>
                  <a:lnTo>
                    <a:pt x="112" y="241"/>
                  </a:lnTo>
                  <a:lnTo>
                    <a:pt x="154" y="234"/>
                  </a:lnTo>
                  <a:lnTo>
                    <a:pt x="196" y="223"/>
                  </a:lnTo>
                  <a:lnTo>
                    <a:pt x="236" y="208"/>
                  </a:lnTo>
                  <a:lnTo>
                    <a:pt x="269" y="186"/>
                  </a:lnTo>
                  <a:lnTo>
                    <a:pt x="282" y="175"/>
                  </a:lnTo>
                  <a:lnTo>
                    <a:pt x="291" y="159"/>
                  </a:lnTo>
                  <a:lnTo>
                    <a:pt x="298" y="146"/>
                  </a:lnTo>
                  <a:lnTo>
                    <a:pt x="300" y="131"/>
                  </a:lnTo>
                  <a:lnTo>
                    <a:pt x="298" y="115"/>
                  </a:lnTo>
                  <a:lnTo>
                    <a:pt x="291" y="100"/>
                  </a:lnTo>
                  <a:lnTo>
                    <a:pt x="271" y="69"/>
                  </a:lnTo>
                  <a:lnTo>
                    <a:pt x="245" y="40"/>
                  </a:lnTo>
                  <a:lnTo>
                    <a:pt x="218" y="18"/>
                  </a:lnTo>
                  <a:lnTo>
                    <a:pt x="196" y="5"/>
                  </a:lnTo>
                  <a:lnTo>
                    <a:pt x="176" y="0"/>
                  </a:lnTo>
                  <a:lnTo>
                    <a:pt x="148" y="0"/>
                  </a:lnTo>
                  <a:lnTo>
                    <a:pt x="117" y="23"/>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Freeform 54"/>
            <p:cNvSpPr/>
            <p:nvPr/>
          </p:nvSpPr>
          <p:spPr>
            <a:xfrm>
              <a:off x="2170080" y="3992400"/>
              <a:ext cx="414360" cy="316080"/>
            </a:xfrm>
            <a:custGeom>
              <a:avLst/>
              <a:gdLst>
                <a:gd name="textAreaLeft" fmla="*/ 0 w 414360"/>
                <a:gd name="textAreaRight" fmla="*/ 414720 w 414360"/>
                <a:gd name="textAreaTop" fmla="*/ 0 h 316080"/>
                <a:gd name="textAreaBottom" fmla="*/ 316080 h 316080"/>
              </a:gdLst>
              <a:ahLst/>
              <a:rect l="textAreaLeft" t="textAreaTop" r="textAreaRight" b="textAreaBottom"/>
              <a:pathLst>
                <a:path w="261" h="199">
                  <a:moveTo>
                    <a:pt x="150" y="11"/>
                  </a:moveTo>
                  <a:lnTo>
                    <a:pt x="84" y="7"/>
                  </a:lnTo>
                  <a:lnTo>
                    <a:pt x="53" y="7"/>
                  </a:lnTo>
                  <a:lnTo>
                    <a:pt x="29" y="14"/>
                  </a:lnTo>
                  <a:lnTo>
                    <a:pt x="13" y="25"/>
                  </a:lnTo>
                  <a:lnTo>
                    <a:pt x="2" y="40"/>
                  </a:lnTo>
                  <a:lnTo>
                    <a:pt x="0" y="62"/>
                  </a:lnTo>
                  <a:lnTo>
                    <a:pt x="7" y="87"/>
                  </a:lnTo>
                  <a:lnTo>
                    <a:pt x="22" y="115"/>
                  </a:lnTo>
                  <a:lnTo>
                    <a:pt x="47" y="144"/>
                  </a:lnTo>
                  <a:lnTo>
                    <a:pt x="77" y="170"/>
                  </a:lnTo>
                  <a:lnTo>
                    <a:pt x="115" y="188"/>
                  </a:lnTo>
                  <a:lnTo>
                    <a:pt x="159" y="199"/>
                  </a:lnTo>
                  <a:lnTo>
                    <a:pt x="201" y="199"/>
                  </a:lnTo>
                  <a:lnTo>
                    <a:pt x="221" y="195"/>
                  </a:lnTo>
                  <a:lnTo>
                    <a:pt x="236" y="188"/>
                  </a:lnTo>
                  <a:lnTo>
                    <a:pt x="250" y="181"/>
                  </a:lnTo>
                  <a:lnTo>
                    <a:pt x="259" y="170"/>
                  </a:lnTo>
                  <a:lnTo>
                    <a:pt x="261" y="157"/>
                  </a:lnTo>
                  <a:lnTo>
                    <a:pt x="261" y="144"/>
                  </a:lnTo>
                  <a:lnTo>
                    <a:pt x="254" y="128"/>
                  </a:lnTo>
                  <a:lnTo>
                    <a:pt x="247" y="111"/>
                  </a:lnTo>
                  <a:lnTo>
                    <a:pt x="223" y="80"/>
                  </a:lnTo>
                  <a:lnTo>
                    <a:pt x="194" y="51"/>
                  </a:lnTo>
                  <a:lnTo>
                    <a:pt x="170" y="31"/>
                  </a:lnTo>
                  <a:lnTo>
                    <a:pt x="146" y="18"/>
                  </a:lnTo>
                  <a:lnTo>
                    <a:pt x="102" y="0"/>
                  </a:lnTo>
                  <a:lnTo>
                    <a:pt x="150" y="11"/>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Freeform 55"/>
            <p:cNvSpPr/>
            <p:nvPr/>
          </p:nvSpPr>
          <p:spPr>
            <a:xfrm>
              <a:off x="2552760" y="3968640"/>
              <a:ext cx="461880" cy="276480"/>
            </a:xfrm>
            <a:custGeom>
              <a:avLst/>
              <a:gdLst>
                <a:gd name="textAreaLeft" fmla="*/ 0 w 461880"/>
                <a:gd name="textAreaRight" fmla="*/ 462240 w 461880"/>
                <a:gd name="textAreaTop" fmla="*/ 0 h 276480"/>
                <a:gd name="textAreaBottom" fmla="*/ 276840 h 276480"/>
              </a:gdLst>
              <a:ahLst/>
              <a:rect l="textAreaLeft" t="textAreaTop" r="textAreaRight" b="textAreaBottom"/>
              <a:pathLst>
                <a:path w="291" h="174">
                  <a:moveTo>
                    <a:pt x="101" y="0"/>
                  </a:moveTo>
                  <a:lnTo>
                    <a:pt x="44" y="38"/>
                  </a:lnTo>
                  <a:lnTo>
                    <a:pt x="22" y="55"/>
                  </a:lnTo>
                  <a:lnTo>
                    <a:pt x="6" y="75"/>
                  </a:lnTo>
                  <a:lnTo>
                    <a:pt x="0" y="95"/>
                  </a:lnTo>
                  <a:lnTo>
                    <a:pt x="4" y="115"/>
                  </a:lnTo>
                  <a:lnTo>
                    <a:pt x="18" y="132"/>
                  </a:lnTo>
                  <a:lnTo>
                    <a:pt x="40" y="148"/>
                  </a:lnTo>
                  <a:lnTo>
                    <a:pt x="73" y="163"/>
                  </a:lnTo>
                  <a:lnTo>
                    <a:pt x="112" y="172"/>
                  </a:lnTo>
                  <a:lnTo>
                    <a:pt x="154" y="174"/>
                  </a:lnTo>
                  <a:lnTo>
                    <a:pt x="196" y="166"/>
                  </a:lnTo>
                  <a:lnTo>
                    <a:pt x="216" y="157"/>
                  </a:lnTo>
                  <a:lnTo>
                    <a:pt x="236" y="146"/>
                  </a:lnTo>
                  <a:lnTo>
                    <a:pt x="269" y="119"/>
                  </a:lnTo>
                  <a:lnTo>
                    <a:pt x="280" y="104"/>
                  </a:lnTo>
                  <a:lnTo>
                    <a:pt x="287" y="88"/>
                  </a:lnTo>
                  <a:lnTo>
                    <a:pt x="291" y="73"/>
                  </a:lnTo>
                  <a:lnTo>
                    <a:pt x="289" y="60"/>
                  </a:lnTo>
                  <a:lnTo>
                    <a:pt x="282" y="49"/>
                  </a:lnTo>
                  <a:lnTo>
                    <a:pt x="274" y="38"/>
                  </a:lnTo>
                  <a:lnTo>
                    <a:pt x="258" y="29"/>
                  </a:lnTo>
                  <a:lnTo>
                    <a:pt x="243" y="22"/>
                  </a:lnTo>
                  <a:lnTo>
                    <a:pt x="203" y="11"/>
                  </a:lnTo>
                  <a:lnTo>
                    <a:pt x="165" y="4"/>
                  </a:lnTo>
                  <a:lnTo>
                    <a:pt x="132" y="4"/>
                  </a:lnTo>
                  <a:lnTo>
                    <a:pt x="104" y="9"/>
                  </a:lnTo>
                  <a:lnTo>
                    <a:pt x="57" y="22"/>
                  </a:lnTo>
                  <a:lnTo>
                    <a:pt x="101"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Freeform 56"/>
            <p:cNvSpPr/>
            <p:nvPr/>
          </p:nvSpPr>
          <p:spPr>
            <a:xfrm>
              <a:off x="2352600" y="3803760"/>
              <a:ext cx="459000" cy="228600"/>
            </a:xfrm>
            <a:custGeom>
              <a:avLst/>
              <a:gdLst>
                <a:gd name="textAreaLeft" fmla="*/ 0 w 459000"/>
                <a:gd name="textAreaRight" fmla="*/ 459360 w 459000"/>
                <a:gd name="textAreaTop" fmla="*/ 0 h 228600"/>
                <a:gd name="textAreaBottom" fmla="*/ 228960 h 228600"/>
              </a:gdLst>
              <a:ahLst/>
              <a:rect l="textAreaLeft" t="textAreaTop" r="textAreaRight" b="textAreaBottom"/>
              <a:pathLst>
                <a:path w="289" h="144">
                  <a:moveTo>
                    <a:pt x="102" y="0"/>
                  </a:moveTo>
                  <a:lnTo>
                    <a:pt x="44" y="38"/>
                  </a:lnTo>
                  <a:lnTo>
                    <a:pt x="22" y="55"/>
                  </a:lnTo>
                  <a:lnTo>
                    <a:pt x="7" y="75"/>
                  </a:lnTo>
                  <a:lnTo>
                    <a:pt x="0" y="95"/>
                  </a:lnTo>
                  <a:lnTo>
                    <a:pt x="4" y="113"/>
                  </a:lnTo>
                  <a:lnTo>
                    <a:pt x="18" y="128"/>
                  </a:lnTo>
                  <a:lnTo>
                    <a:pt x="40" y="139"/>
                  </a:lnTo>
                  <a:lnTo>
                    <a:pt x="73" y="144"/>
                  </a:lnTo>
                  <a:lnTo>
                    <a:pt x="113" y="144"/>
                  </a:lnTo>
                  <a:lnTo>
                    <a:pt x="155" y="137"/>
                  </a:lnTo>
                  <a:lnTo>
                    <a:pt x="197" y="126"/>
                  </a:lnTo>
                  <a:lnTo>
                    <a:pt x="236" y="111"/>
                  </a:lnTo>
                  <a:lnTo>
                    <a:pt x="267" y="91"/>
                  </a:lnTo>
                  <a:lnTo>
                    <a:pt x="278" y="80"/>
                  </a:lnTo>
                  <a:lnTo>
                    <a:pt x="285" y="71"/>
                  </a:lnTo>
                  <a:lnTo>
                    <a:pt x="289" y="60"/>
                  </a:lnTo>
                  <a:lnTo>
                    <a:pt x="287" y="51"/>
                  </a:lnTo>
                  <a:lnTo>
                    <a:pt x="280" y="42"/>
                  </a:lnTo>
                  <a:lnTo>
                    <a:pt x="272" y="33"/>
                  </a:lnTo>
                  <a:lnTo>
                    <a:pt x="241" y="20"/>
                  </a:lnTo>
                  <a:lnTo>
                    <a:pt x="201" y="11"/>
                  </a:lnTo>
                  <a:lnTo>
                    <a:pt x="163" y="5"/>
                  </a:lnTo>
                  <a:lnTo>
                    <a:pt x="130" y="5"/>
                  </a:lnTo>
                  <a:lnTo>
                    <a:pt x="104" y="9"/>
                  </a:lnTo>
                  <a:lnTo>
                    <a:pt x="57" y="22"/>
                  </a:lnTo>
                  <a:lnTo>
                    <a:pt x="102"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Freeform 57"/>
            <p:cNvSpPr/>
            <p:nvPr/>
          </p:nvSpPr>
          <p:spPr>
            <a:xfrm>
              <a:off x="1195560" y="4749840"/>
              <a:ext cx="588960" cy="350640"/>
            </a:xfrm>
            <a:custGeom>
              <a:avLst/>
              <a:gdLst>
                <a:gd name="textAreaLeft" fmla="*/ 0 w 588960"/>
                <a:gd name="textAreaRight" fmla="*/ 589320 w 588960"/>
                <a:gd name="textAreaTop" fmla="*/ 0 h 350640"/>
                <a:gd name="textAreaBottom" fmla="*/ 351000 h 350640"/>
              </a:gdLst>
              <a:ahLst/>
              <a:rect l="textAreaLeft" t="textAreaTop" r="textAreaRight" b="textAreaBottom"/>
              <a:pathLst>
                <a:path w="371" h="221">
                  <a:moveTo>
                    <a:pt x="122" y="0"/>
                  </a:moveTo>
                  <a:lnTo>
                    <a:pt x="53" y="45"/>
                  </a:lnTo>
                  <a:lnTo>
                    <a:pt x="25" y="67"/>
                  </a:lnTo>
                  <a:lnTo>
                    <a:pt x="7" y="89"/>
                  </a:lnTo>
                  <a:lnTo>
                    <a:pt x="0" y="113"/>
                  </a:lnTo>
                  <a:lnTo>
                    <a:pt x="0" y="126"/>
                  </a:lnTo>
                  <a:lnTo>
                    <a:pt x="5" y="137"/>
                  </a:lnTo>
                  <a:lnTo>
                    <a:pt x="11" y="148"/>
                  </a:lnTo>
                  <a:lnTo>
                    <a:pt x="25" y="159"/>
                  </a:lnTo>
                  <a:lnTo>
                    <a:pt x="40" y="170"/>
                  </a:lnTo>
                  <a:lnTo>
                    <a:pt x="60" y="181"/>
                  </a:lnTo>
                  <a:lnTo>
                    <a:pt x="84" y="192"/>
                  </a:lnTo>
                  <a:lnTo>
                    <a:pt x="113" y="201"/>
                  </a:lnTo>
                  <a:lnTo>
                    <a:pt x="175" y="217"/>
                  </a:lnTo>
                  <a:lnTo>
                    <a:pt x="239" y="221"/>
                  </a:lnTo>
                  <a:lnTo>
                    <a:pt x="268" y="219"/>
                  </a:lnTo>
                  <a:lnTo>
                    <a:pt x="294" y="212"/>
                  </a:lnTo>
                  <a:lnTo>
                    <a:pt x="318" y="201"/>
                  </a:lnTo>
                  <a:lnTo>
                    <a:pt x="338" y="188"/>
                  </a:lnTo>
                  <a:lnTo>
                    <a:pt x="354" y="173"/>
                  </a:lnTo>
                  <a:lnTo>
                    <a:pt x="365" y="153"/>
                  </a:lnTo>
                  <a:lnTo>
                    <a:pt x="369" y="133"/>
                  </a:lnTo>
                  <a:lnTo>
                    <a:pt x="371" y="113"/>
                  </a:lnTo>
                  <a:lnTo>
                    <a:pt x="369" y="93"/>
                  </a:lnTo>
                  <a:lnTo>
                    <a:pt x="360" y="75"/>
                  </a:lnTo>
                  <a:lnTo>
                    <a:pt x="347" y="60"/>
                  </a:lnTo>
                  <a:lnTo>
                    <a:pt x="332" y="47"/>
                  </a:lnTo>
                  <a:lnTo>
                    <a:pt x="290" y="27"/>
                  </a:lnTo>
                  <a:lnTo>
                    <a:pt x="241" y="14"/>
                  </a:lnTo>
                  <a:lnTo>
                    <a:pt x="195" y="7"/>
                  </a:lnTo>
                  <a:lnTo>
                    <a:pt x="155" y="7"/>
                  </a:lnTo>
                  <a:lnTo>
                    <a:pt x="122" y="11"/>
                  </a:lnTo>
                  <a:lnTo>
                    <a:pt x="67" y="27"/>
                  </a:lnTo>
                  <a:lnTo>
                    <a:pt x="122"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Freeform 58"/>
            <p:cNvSpPr/>
            <p:nvPr/>
          </p:nvSpPr>
          <p:spPr>
            <a:xfrm>
              <a:off x="1760400" y="4708440"/>
              <a:ext cx="574920" cy="417600"/>
            </a:xfrm>
            <a:custGeom>
              <a:avLst/>
              <a:gdLst>
                <a:gd name="textAreaLeft" fmla="*/ 0 w 574920"/>
                <a:gd name="textAreaRight" fmla="*/ 575280 w 574920"/>
                <a:gd name="textAreaTop" fmla="*/ 0 h 417600"/>
                <a:gd name="textAreaBottom" fmla="*/ 417960 h 417600"/>
              </a:gdLst>
              <a:ahLst/>
              <a:rect l="textAreaLeft" t="textAreaTop" r="textAreaRight" b="textAreaBottom"/>
              <a:pathLst>
                <a:path w="362" h="263">
                  <a:moveTo>
                    <a:pt x="97" y="26"/>
                  </a:moveTo>
                  <a:lnTo>
                    <a:pt x="42" y="101"/>
                  </a:lnTo>
                  <a:lnTo>
                    <a:pt x="20" y="137"/>
                  </a:lnTo>
                  <a:lnTo>
                    <a:pt x="4" y="168"/>
                  </a:lnTo>
                  <a:lnTo>
                    <a:pt x="0" y="196"/>
                  </a:lnTo>
                  <a:lnTo>
                    <a:pt x="4" y="223"/>
                  </a:lnTo>
                  <a:lnTo>
                    <a:pt x="11" y="234"/>
                  </a:lnTo>
                  <a:lnTo>
                    <a:pt x="20" y="243"/>
                  </a:lnTo>
                  <a:lnTo>
                    <a:pt x="31" y="249"/>
                  </a:lnTo>
                  <a:lnTo>
                    <a:pt x="46" y="256"/>
                  </a:lnTo>
                  <a:lnTo>
                    <a:pt x="86" y="263"/>
                  </a:lnTo>
                  <a:lnTo>
                    <a:pt x="135" y="263"/>
                  </a:lnTo>
                  <a:lnTo>
                    <a:pt x="185" y="254"/>
                  </a:lnTo>
                  <a:lnTo>
                    <a:pt x="236" y="241"/>
                  </a:lnTo>
                  <a:lnTo>
                    <a:pt x="285" y="221"/>
                  </a:lnTo>
                  <a:lnTo>
                    <a:pt x="324" y="199"/>
                  </a:lnTo>
                  <a:lnTo>
                    <a:pt x="340" y="185"/>
                  </a:lnTo>
                  <a:lnTo>
                    <a:pt x="351" y="170"/>
                  </a:lnTo>
                  <a:lnTo>
                    <a:pt x="360" y="157"/>
                  </a:lnTo>
                  <a:lnTo>
                    <a:pt x="362" y="141"/>
                  </a:lnTo>
                  <a:lnTo>
                    <a:pt x="360" y="126"/>
                  </a:lnTo>
                  <a:lnTo>
                    <a:pt x="355" y="110"/>
                  </a:lnTo>
                  <a:lnTo>
                    <a:pt x="333" y="82"/>
                  </a:lnTo>
                  <a:lnTo>
                    <a:pt x="302" y="57"/>
                  </a:lnTo>
                  <a:lnTo>
                    <a:pt x="271" y="35"/>
                  </a:lnTo>
                  <a:lnTo>
                    <a:pt x="245" y="20"/>
                  </a:lnTo>
                  <a:lnTo>
                    <a:pt x="223" y="11"/>
                  </a:lnTo>
                  <a:lnTo>
                    <a:pt x="185" y="0"/>
                  </a:lnTo>
                  <a:lnTo>
                    <a:pt x="97" y="26"/>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Freeform 59"/>
            <p:cNvSpPr/>
            <p:nvPr/>
          </p:nvSpPr>
          <p:spPr>
            <a:xfrm>
              <a:off x="2244600" y="4876920"/>
              <a:ext cx="560520" cy="336600"/>
            </a:xfrm>
            <a:custGeom>
              <a:avLst/>
              <a:gdLst>
                <a:gd name="textAreaLeft" fmla="*/ 0 w 560520"/>
                <a:gd name="textAreaRight" fmla="*/ 560880 w 560520"/>
                <a:gd name="textAreaTop" fmla="*/ 0 h 336600"/>
                <a:gd name="textAreaBottom" fmla="*/ 336960 h 336600"/>
              </a:gdLst>
              <a:ahLst/>
              <a:rect l="textAreaLeft" t="textAreaTop" r="textAreaRight" b="textAreaBottom"/>
              <a:pathLst>
                <a:path w="353" h="212">
                  <a:moveTo>
                    <a:pt x="123" y="0"/>
                  </a:moveTo>
                  <a:lnTo>
                    <a:pt x="55" y="44"/>
                  </a:lnTo>
                  <a:lnTo>
                    <a:pt x="26" y="68"/>
                  </a:lnTo>
                  <a:lnTo>
                    <a:pt x="8" y="90"/>
                  </a:lnTo>
                  <a:lnTo>
                    <a:pt x="0" y="115"/>
                  </a:lnTo>
                  <a:lnTo>
                    <a:pt x="4" y="139"/>
                  </a:lnTo>
                  <a:lnTo>
                    <a:pt x="19" y="161"/>
                  </a:lnTo>
                  <a:lnTo>
                    <a:pt x="33" y="172"/>
                  </a:lnTo>
                  <a:lnTo>
                    <a:pt x="48" y="181"/>
                  </a:lnTo>
                  <a:lnTo>
                    <a:pt x="88" y="199"/>
                  </a:lnTo>
                  <a:lnTo>
                    <a:pt x="139" y="210"/>
                  </a:lnTo>
                  <a:lnTo>
                    <a:pt x="192" y="212"/>
                  </a:lnTo>
                  <a:lnTo>
                    <a:pt x="216" y="207"/>
                  </a:lnTo>
                  <a:lnTo>
                    <a:pt x="242" y="201"/>
                  </a:lnTo>
                  <a:lnTo>
                    <a:pt x="291" y="179"/>
                  </a:lnTo>
                  <a:lnTo>
                    <a:pt x="311" y="163"/>
                  </a:lnTo>
                  <a:lnTo>
                    <a:pt x="326" y="146"/>
                  </a:lnTo>
                  <a:lnTo>
                    <a:pt x="340" y="128"/>
                  </a:lnTo>
                  <a:lnTo>
                    <a:pt x="348" y="110"/>
                  </a:lnTo>
                  <a:lnTo>
                    <a:pt x="353" y="90"/>
                  </a:lnTo>
                  <a:lnTo>
                    <a:pt x="351" y="75"/>
                  </a:lnTo>
                  <a:lnTo>
                    <a:pt x="342" y="59"/>
                  </a:lnTo>
                  <a:lnTo>
                    <a:pt x="329" y="46"/>
                  </a:lnTo>
                  <a:lnTo>
                    <a:pt x="311" y="35"/>
                  </a:lnTo>
                  <a:lnTo>
                    <a:pt x="291" y="26"/>
                  </a:lnTo>
                  <a:lnTo>
                    <a:pt x="242" y="13"/>
                  </a:lnTo>
                  <a:lnTo>
                    <a:pt x="196" y="6"/>
                  </a:lnTo>
                  <a:lnTo>
                    <a:pt x="156" y="6"/>
                  </a:lnTo>
                  <a:lnTo>
                    <a:pt x="123" y="11"/>
                  </a:lnTo>
                  <a:lnTo>
                    <a:pt x="68" y="29"/>
                  </a:lnTo>
                  <a:lnTo>
                    <a:pt x="123"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Freeform 60"/>
            <p:cNvSpPr/>
            <p:nvPr/>
          </p:nvSpPr>
          <p:spPr>
            <a:xfrm>
              <a:off x="1192320" y="5559480"/>
              <a:ext cx="554040" cy="277920"/>
            </a:xfrm>
            <a:custGeom>
              <a:avLst/>
              <a:gdLst>
                <a:gd name="textAreaLeft" fmla="*/ 0 w 554040"/>
                <a:gd name="textAreaRight" fmla="*/ 554400 w 554040"/>
                <a:gd name="textAreaTop" fmla="*/ 0 h 277920"/>
                <a:gd name="textAreaBottom" fmla="*/ 278280 h 277920"/>
              </a:gdLst>
              <a:ahLst/>
              <a:rect l="textAreaLeft" t="textAreaTop" r="textAreaRight" b="textAreaBottom"/>
              <a:pathLst>
                <a:path w="349" h="175">
                  <a:moveTo>
                    <a:pt x="124" y="0"/>
                  </a:moveTo>
                  <a:lnTo>
                    <a:pt x="55" y="45"/>
                  </a:lnTo>
                  <a:lnTo>
                    <a:pt x="27" y="69"/>
                  </a:lnTo>
                  <a:lnTo>
                    <a:pt x="9" y="91"/>
                  </a:lnTo>
                  <a:lnTo>
                    <a:pt x="0" y="115"/>
                  </a:lnTo>
                  <a:lnTo>
                    <a:pt x="5" y="137"/>
                  </a:lnTo>
                  <a:lnTo>
                    <a:pt x="11" y="146"/>
                  </a:lnTo>
                  <a:lnTo>
                    <a:pt x="20" y="155"/>
                  </a:lnTo>
                  <a:lnTo>
                    <a:pt x="31" y="162"/>
                  </a:lnTo>
                  <a:lnTo>
                    <a:pt x="46" y="168"/>
                  </a:lnTo>
                  <a:lnTo>
                    <a:pt x="86" y="175"/>
                  </a:lnTo>
                  <a:lnTo>
                    <a:pt x="135" y="175"/>
                  </a:lnTo>
                  <a:lnTo>
                    <a:pt x="186" y="166"/>
                  </a:lnTo>
                  <a:lnTo>
                    <a:pt x="236" y="153"/>
                  </a:lnTo>
                  <a:lnTo>
                    <a:pt x="283" y="133"/>
                  </a:lnTo>
                  <a:lnTo>
                    <a:pt x="305" y="122"/>
                  </a:lnTo>
                  <a:lnTo>
                    <a:pt x="322" y="111"/>
                  </a:lnTo>
                  <a:lnTo>
                    <a:pt x="336" y="98"/>
                  </a:lnTo>
                  <a:lnTo>
                    <a:pt x="345" y="84"/>
                  </a:lnTo>
                  <a:lnTo>
                    <a:pt x="349" y="71"/>
                  </a:lnTo>
                  <a:lnTo>
                    <a:pt x="347" y="60"/>
                  </a:lnTo>
                  <a:lnTo>
                    <a:pt x="340" y="49"/>
                  </a:lnTo>
                  <a:lnTo>
                    <a:pt x="327" y="40"/>
                  </a:lnTo>
                  <a:lnTo>
                    <a:pt x="309" y="31"/>
                  </a:lnTo>
                  <a:lnTo>
                    <a:pt x="289" y="25"/>
                  </a:lnTo>
                  <a:lnTo>
                    <a:pt x="243" y="14"/>
                  </a:lnTo>
                  <a:lnTo>
                    <a:pt x="197" y="7"/>
                  </a:lnTo>
                  <a:lnTo>
                    <a:pt x="157" y="7"/>
                  </a:lnTo>
                  <a:lnTo>
                    <a:pt x="124" y="11"/>
                  </a:lnTo>
                  <a:lnTo>
                    <a:pt x="69" y="27"/>
                  </a:lnTo>
                  <a:lnTo>
                    <a:pt x="124"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Freeform 61"/>
            <p:cNvSpPr/>
            <p:nvPr/>
          </p:nvSpPr>
          <p:spPr>
            <a:xfrm>
              <a:off x="1697040" y="5448240"/>
              <a:ext cx="696960" cy="360360"/>
            </a:xfrm>
            <a:custGeom>
              <a:avLst/>
              <a:gdLst>
                <a:gd name="textAreaLeft" fmla="*/ 0 w 696960"/>
                <a:gd name="textAreaRight" fmla="*/ 697320 w 696960"/>
                <a:gd name="textAreaTop" fmla="*/ 0 h 360360"/>
                <a:gd name="textAreaBottom" fmla="*/ 360720 h 360360"/>
              </a:gdLst>
              <a:ahLst/>
              <a:rect l="textAreaLeft" t="textAreaTop" r="textAreaRight" b="textAreaBottom"/>
              <a:pathLst>
                <a:path w="439" h="227">
                  <a:moveTo>
                    <a:pt x="29" y="62"/>
                  </a:moveTo>
                  <a:lnTo>
                    <a:pt x="7" y="106"/>
                  </a:lnTo>
                  <a:lnTo>
                    <a:pt x="0" y="128"/>
                  </a:lnTo>
                  <a:lnTo>
                    <a:pt x="4" y="150"/>
                  </a:lnTo>
                  <a:lnTo>
                    <a:pt x="18" y="172"/>
                  </a:lnTo>
                  <a:lnTo>
                    <a:pt x="42" y="192"/>
                  </a:lnTo>
                  <a:lnTo>
                    <a:pt x="75" y="210"/>
                  </a:lnTo>
                  <a:lnTo>
                    <a:pt x="117" y="221"/>
                  </a:lnTo>
                  <a:lnTo>
                    <a:pt x="166" y="227"/>
                  </a:lnTo>
                  <a:lnTo>
                    <a:pt x="216" y="227"/>
                  </a:lnTo>
                  <a:lnTo>
                    <a:pt x="269" y="218"/>
                  </a:lnTo>
                  <a:lnTo>
                    <a:pt x="320" y="205"/>
                  </a:lnTo>
                  <a:lnTo>
                    <a:pt x="369" y="185"/>
                  </a:lnTo>
                  <a:lnTo>
                    <a:pt x="391" y="174"/>
                  </a:lnTo>
                  <a:lnTo>
                    <a:pt x="409" y="161"/>
                  </a:lnTo>
                  <a:lnTo>
                    <a:pt x="422" y="148"/>
                  </a:lnTo>
                  <a:lnTo>
                    <a:pt x="433" y="134"/>
                  </a:lnTo>
                  <a:lnTo>
                    <a:pt x="439" y="119"/>
                  </a:lnTo>
                  <a:lnTo>
                    <a:pt x="439" y="106"/>
                  </a:lnTo>
                  <a:lnTo>
                    <a:pt x="435" y="92"/>
                  </a:lnTo>
                  <a:lnTo>
                    <a:pt x="426" y="79"/>
                  </a:lnTo>
                  <a:lnTo>
                    <a:pt x="411" y="66"/>
                  </a:lnTo>
                  <a:lnTo>
                    <a:pt x="395" y="55"/>
                  </a:lnTo>
                  <a:lnTo>
                    <a:pt x="353" y="33"/>
                  </a:lnTo>
                  <a:lnTo>
                    <a:pt x="311" y="17"/>
                  </a:lnTo>
                  <a:lnTo>
                    <a:pt x="272" y="6"/>
                  </a:lnTo>
                  <a:lnTo>
                    <a:pt x="236" y="2"/>
                  </a:lnTo>
                  <a:lnTo>
                    <a:pt x="172" y="0"/>
                  </a:lnTo>
                  <a:lnTo>
                    <a:pt x="29" y="62"/>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Freeform 62"/>
            <p:cNvSpPr/>
            <p:nvPr/>
          </p:nvSpPr>
          <p:spPr>
            <a:xfrm>
              <a:off x="2457360" y="5178600"/>
              <a:ext cx="554040" cy="276120"/>
            </a:xfrm>
            <a:custGeom>
              <a:avLst/>
              <a:gdLst>
                <a:gd name="textAreaLeft" fmla="*/ 0 w 554040"/>
                <a:gd name="textAreaRight" fmla="*/ 554400 w 554040"/>
                <a:gd name="textAreaTop" fmla="*/ 0 h 276120"/>
                <a:gd name="textAreaBottom" fmla="*/ 276480 h 276120"/>
              </a:gdLst>
              <a:ahLst/>
              <a:rect l="textAreaLeft" t="textAreaTop" r="textAreaRight" b="textAreaBottom"/>
              <a:pathLst>
                <a:path w="349" h="174">
                  <a:moveTo>
                    <a:pt x="124" y="0"/>
                  </a:moveTo>
                  <a:lnTo>
                    <a:pt x="55" y="44"/>
                  </a:lnTo>
                  <a:lnTo>
                    <a:pt x="27" y="66"/>
                  </a:lnTo>
                  <a:lnTo>
                    <a:pt x="9" y="88"/>
                  </a:lnTo>
                  <a:lnTo>
                    <a:pt x="0" y="112"/>
                  </a:lnTo>
                  <a:lnTo>
                    <a:pt x="5" y="134"/>
                  </a:lnTo>
                  <a:lnTo>
                    <a:pt x="11" y="145"/>
                  </a:lnTo>
                  <a:lnTo>
                    <a:pt x="20" y="154"/>
                  </a:lnTo>
                  <a:lnTo>
                    <a:pt x="31" y="161"/>
                  </a:lnTo>
                  <a:lnTo>
                    <a:pt x="47" y="168"/>
                  </a:lnTo>
                  <a:lnTo>
                    <a:pt x="86" y="174"/>
                  </a:lnTo>
                  <a:lnTo>
                    <a:pt x="135" y="174"/>
                  </a:lnTo>
                  <a:lnTo>
                    <a:pt x="186" y="165"/>
                  </a:lnTo>
                  <a:lnTo>
                    <a:pt x="237" y="152"/>
                  </a:lnTo>
                  <a:lnTo>
                    <a:pt x="283" y="132"/>
                  </a:lnTo>
                  <a:lnTo>
                    <a:pt x="305" y="121"/>
                  </a:lnTo>
                  <a:lnTo>
                    <a:pt x="323" y="110"/>
                  </a:lnTo>
                  <a:lnTo>
                    <a:pt x="336" y="97"/>
                  </a:lnTo>
                  <a:lnTo>
                    <a:pt x="345" y="84"/>
                  </a:lnTo>
                  <a:lnTo>
                    <a:pt x="349" y="70"/>
                  </a:lnTo>
                  <a:lnTo>
                    <a:pt x="347" y="59"/>
                  </a:lnTo>
                  <a:lnTo>
                    <a:pt x="340" y="48"/>
                  </a:lnTo>
                  <a:lnTo>
                    <a:pt x="327" y="39"/>
                  </a:lnTo>
                  <a:lnTo>
                    <a:pt x="309" y="31"/>
                  </a:lnTo>
                  <a:lnTo>
                    <a:pt x="289" y="22"/>
                  </a:lnTo>
                  <a:lnTo>
                    <a:pt x="243" y="11"/>
                  </a:lnTo>
                  <a:lnTo>
                    <a:pt x="197" y="4"/>
                  </a:lnTo>
                  <a:lnTo>
                    <a:pt x="157" y="4"/>
                  </a:lnTo>
                  <a:lnTo>
                    <a:pt x="124" y="9"/>
                  </a:lnTo>
                  <a:lnTo>
                    <a:pt x="69" y="26"/>
                  </a:lnTo>
                  <a:lnTo>
                    <a:pt x="124"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Freeform 63"/>
            <p:cNvSpPr/>
            <p:nvPr/>
          </p:nvSpPr>
          <p:spPr>
            <a:xfrm>
              <a:off x="2030400" y="5732640"/>
              <a:ext cx="557280" cy="276120"/>
            </a:xfrm>
            <a:custGeom>
              <a:avLst/>
              <a:gdLst>
                <a:gd name="textAreaLeft" fmla="*/ 0 w 557280"/>
                <a:gd name="textAreaRight" fmla="*/ 557640 w 557280"/>
                <a:gd name="textAreaTop" fmla="*/ 0 h 276120"/>
                <a:gd name="textAreaBottom" fmla="*/ 276480 h 276120"/>
              </a:gdLst>
              <a:ahLst/>
              <a:rect l="textAreaLeft" t="textAreaTop" r="textAreaRight" b="textAreaBottom"/>
              <a:pathLst>
                <a:path w="351" h="174">
                  <a:moveTo>
                    <a:pt x="124" y="0"/>
                  </a:moveTo>
                  <a:lnTo>
                    <a:pt x="55" y="44"/>
                  </a:lnTo>
                  <a:lnTo>
                    <a:pt x="26" y="66"/>
                  </a:lnTo>
                  <a:lnTo>
                    <a:pt x="9" y="88"/>
                  </a:lnTo>
                  <a:lnTo>
                    <a:pt x="0" y="112"/>
                  </a:lnTo>
                  <a:lnTo>
                    <a:pt x="4" y="134"/>
                  </a:lnTo>
                  <a:lnTo>
                    <a:pt x="11" y="145"/>
                  </a:lnTo>
                  <a:lnTo>
                    <a:pt x="20" y="154"/>
                  </a:lnTo>
                  <a:lnTo>
                    <a:pt x="31" y="161"/>
                  </a:lnTo>
                  <a:lnTo>
                    <a:pt x="46" y="167"/>
                  </a:lnTo>
                  <a:lnTo>
                    <a:pt x="86" y="174"/>
                  </a:lnTo>
                  <a:lnTo>
                    <a:pt x="135" y="174"/>
                  </a:lnTo>
                  <a:lnTo>
                    <a:pt x="185" y="165"/>
                  </a:lnTo>
                  <a:lnTo>
                    <a:pt x="236" y="152"/>
                  </a:lnTo>
                  <a:lnTo>
                    <a:pt x="285" y="132"/>
                  </a:lnTo>
                  <a:lnTo>
                    <a:pt x="305" y="121"/>
                  </a:lnTo>
                  <a:lnTo>
                    <a:pt x="322" y="110"/>
                  </a:lnTo>
                  <a:lnTo>
                    <a:pt x="338" y="97"/>
                  </a:lnTo>
                  <a:lnTo>
                    <a:pt x="347" y="84"/>
                  </a:lnTo>
                  <a:lnTo>
                    <a:pt x="351" y="70"/>
                  </a:lnTo>
                  <a:lnTo>
                    <a:pt x="349" y="59"/>
                  </a:lnTo>
                  <a:lnTo>
                    <a:pt x="342" y="48"/>
                  </a:lnTo>
                  <a:lnTo>
                    <a:pt x="329" y="39"/>
                  </a:lnTo>
                  <a:lnTo>
                    <a:pt x="311" y="31"/>
                  </a:lnTo>
                  <a:lnTo>
                    <a:pt x="291" y="24"/>
                  </a:lnTo>
                  <a:lnTo>
                    <a:pt x="245" y="13"/>
                  </a:lnTo>
                  <a:lnTo>
                    <a:pt x="199" y="6"/>
                  </a:lnTo>
                  <a:lnTo>
                    <a:pt x="159" y="6"/>
                  </a:lnTo>
                  <a:lnTo>
                    <a:pt x="126" y="11"/>
                  </a:lnTo>
                  <a:lnTo>
                    <a:pt x="71" y="26"/>
                  </a:lnTo>
                  <a:lnTo>
                    <a:pt x="124"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Freeform 64"/>
            <p:cNvSpPr/>
            <p:nvPr/>
          </p:nvSpPr>
          <p:spPr>
            <a:xfrm>
              <a:off x="1122480" y="5091120"/>
              <a:ext cx="554040" cy="276120"/>
            </a:xfrm>
            <a:custGeom>
              <a:avLst/>
              <a:gdLst>
                <a:gd name="textAreaLeft" fmla="*/ 0 w 554040"/>
                <a:gd name="textAreaRight" fmla="*/ 554400 w 554040"/>
                <a:gd name="textAreaTop" fmla="*/ 0 h 276120"/>
                <a:gd name="textAreaBottom" fmla="*/ 276480 h 276120"/>
              </a:gdLst>
              <a:ahLst/>
              <a:rect l="textAreaLeft" t="textAreaTop" r="textAreaRight" b="textAreaBottom"/>
              <a:pathLst>
                <a:path w="349" h="174">
                  <a:moveTo>
                    <a:pt x="121" y="0"/>
                  </a:moveTo>
                  <a:lnTo>
                    <a:pt x="53" y="44"/>
                  </a:lnTo>
                  <a:lnTo>
                    <a:pt x="24" y="68"/>
                  </a:lnTo>
                  <a:lnTo>
                    <a:pt x="7" y="90"/>
                  </a:lnTo>
                  <a:lnTo>
                    <a:pt x="0" y="114"/>
                  </a:lnTo>
                  <a:lnTo>
                    <a:pt x="4" y="136"/>
                  </a:lnTo>
                  <a:lnTo>
                    <a:pt x="9" y="145"/>
                  </a:lnTo>
                  <a:lnTo>
                    <a:pt x="20" y="154"/>
                  </a:lnTo>
                  <a:lnTo>
                    <a:pt x="31" y="161"/>
                  </a:lnTo>
                  <a:lnTo>
                    <a:pt x="46" y="167"/>
                  </a:lnTo>
                  <a:lnTo>
                    <a:pt x="86" y="174"/>
                  </a:lnTo>
                  <a:lnTo>
                    <a:pt x="135" y="174"/>
                  </a:lnTo>
                  <a:lnTo>
                    <a:pt x="185" y="165"/>
                  </a:lnTo>
                  <a:lnTo>
                    <a:pt x="236" y="152"/>
                  </a:lnTo>
                  <a:lnTo>
                    <a:pt x="283" y="132"/>
                  </a:lnTo>
                  <a:lnTo>
                    <a:pt x="322" y="110"/>
                  </a:lnTo>
                  <a:lnTo>
                    <a:pt x="336" y="97"/>
                  </a:lnTo>
                  <a:lnTo>
                    <a:pt x="344" y="86"/>
                  </a:lnTo>
                  <a:lnTo>
                    <a:pt x="349" y="72"/>
                  </a:lnTo>
                  <a:lnTo>
                    <a:pt x="347" y="61"/>
                  </a:lnTo>
                  <a:lnTo>
                    <a:pt x="340" y="50"/>
                  </a:lnTo>
                  <a:lnTo>
                    <a:pt x="327" y="41"/>
                  </a:lnTo>
                  <a:lnTo>
                    <a:pt x="309" y="33"/>
                  </a:lnTo>
                  <a:lnTo>
                    <a:pt x="289" y="24"/>
                  </a:lnTo>
                  <a:lnTo>
                    <a:pt x="243" y="13"/>
                  </a:lnTo>
                  <a:lnTo>
                    <a:pt x="196" y="6"/>
                  </a:lnTo>
                  <a:lnTo>
                    <a:pt x="157" y="6"/>
                  </a:lnTo>
                  <a:lnTo>
                    <a:pt x="124" y="11"/>
                  </a:lnTo>
                  <a:lnTo>
                    <a:pt x="68" y="26"/>
                  </a:lnTo>
                  <a:lnTo>
                    <a:pt x="121"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Freeform 65"/>
            <p:cNvSpPr/>
            <p:nvPr/>
          </p:nvSpPr>
          <p:spPr>
            <a:xfrm>
              <a:off x="2022480" y="5129280"/>
              <a:ext cx="463680" cy="438120"/>
            </a:xfrm>
            <a:custGeom>
              <a:avLst/>
              <a:gdLst>
                <a:gd name="textAreaLeft" fmla="*/ 0 w 463680"/>
                <a:gd name="textAreaRight" fmla="*/ 464040 w 463680"/>
                <a:gd name="textAreaTop" fmla="*/ 0 h 438120"/>
                <a:gd name="textAreaBottom" fmla="*/ 438480 h 438120"/>
              </a:gdLst>
              <a:ahLst/>
              <a:rect l="textAreaLeft" t="textAreaTop" r="textAreaRight" b="textAreaBottom"/>
              <a:pathLst>
                <a:path w="292" h="276">
                  <a:moveTo>
                    <a:pt x="221" y="64"/>
                  </a:moveTo>
                  <a:lnTo>
                    <a:pt x="157" y="40"/>
                  </a:lnTo>
                  <a:lnTo>
                    <a:pt x="100" y="20"/>
                  </a:lnTo>
                  <a:lnTo>
                    <a:pt x="73" y="11"/>
                  </a:lnTo>
                  <a:lnTo>
                    <a:pt x="51" y="4"/>
                  </a:lnTo>
                  <a:lnTo>
                    <a:pt x="34" y="0"/>
                  </a:lnTo>
                  <a:lnTo>
                    <a:pt x="18" y="0"/>
                  </a:lnTo>
                  <a:lnTo>
                    <a:pt x="7" y="2"/>
                  </a:lnTo>
                  <a:lnTo>
                    <a:pt x="3" y="9"/>
                  </a:lnTo>
                  <a:lnTo>
                    <a:pt x="0" y="17"/>
                  </a:lnTo>
                  <a:lnTo>
                    <a:pt x="3" y="29"/>
                  </a:lnTo>
                  <a:lnTo>
                    <a:pt x="16" y="55"/>
                  </a:lnTo>
                  <a:lnTo>
                    <a:pt x="36" y="88"/>
                  </a:lnTo>
                  <a:lnTo>
                    <a:pt x="62" y="123"/>
                  </a:lnTo>
                  <a:lnTo>
                    <a:pt x="91" y="161"/>
                  </a:lnTo>
                  <a:lnTo>
                    <a:pt x="124" y="196"/>
                  </a:lnTo>
                  <a:lnTo>
                    <a:pt x="162" y="227"/>
                  </a:lnTo>
                  <a:lnTo>
                    <a:pt x="199" y="254"/>
                  </a:lnTo>
                  <a:lnTo>
                    <a:pt x="237" y="269"/>
                  </a:lnTo>
                  <a:lnTo>
                    <a:pt x="252" y="274"/>
                  </a:lnTo>
                  <a:lnTo>
                    <a:pt x="268" y="276"/>
                  </a:lnTo>
                  <a:lnTo>
                    <a:pt x="279" y="271"/>
                  </a:lnTo>
                  <a:lnTo>
                    <a:pt x="285" y="265"/>
                  </a:lnTo>
                  <a:lnTo>
                    <a:pt x="290" y="254"/>
                  </a:lnTo>
                  <a:lnTo>
                    <a:pt x="292" y="238"/>
                  </a:lnTo>
                  <a:lnTo>
                    <a:pt x="290" y="221"/>
                  </a:lnTo>
                  <a:lnTo>
                    <a:pt x="285" y="203"/>
                  </a:lnTo>
                  <a:lnTo>
                    <a:pt x="272" y="161"/>
                  </a:lnTo>
                  <a:lnTo>
                    <a:pt x="252" y="123"/>
                  </a:lnTo>
                  <a:lnTo>
                    <a:pt x="232" y="93"/>
                  </a:lnTo>
                  <a:lnTo>
                    <a:pt x="212" y="70"/>
                  </a:lnTo>
                  <a:lnTo>
                    <a:pt x="173" y="37"/>
                  </a:lnTo>
                  <a:lnTo>
                    <a:pt x="221" y="64"/>
                  </a:lnTo>
                  <a:close/>
                </a:path>
              </a:pathLst>
            </a:custGeom>
            <a:solidFill>
              <a:srgbClr val="a1612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Freeform 66"/>
            <p:cNvSpPr/>
            <p:nvPr/>
          </p:nvSpPr>
          <p:spPr>
            <a:xfrm>
              <a:off x="1339920" y="5219640"/>
              <a:ext cx="736560" cy="336600"/>
            </a:xfrm>
            <a:custGeom>
              <a:avLst/>
              <a:gdLst>
                <a:gd name="textAreaLeft" fmla="*/ 0 w 736560"/>
                <a:gd name="textAreaRight" fmla="*/ 736920 w 736560"/>
                <a:gd name="textAreaTop" fmla="*/ 0 h 336600"/>
                <a:gd name="textAreaBottom" fmla="*/ 336960 h 336600"/>
              </a:gdLst>
              <a:ahLst/>
              <a:rect l="textAreaLeft" t="textAreaTop" r="textAreaRight" b="textAreaBottom"/>
              <a:pathLst>
                <a:path w="464" h="212">
                  <a:moveTo>
                    <a:pt x="236" y="0"/>
                  </a:moveTo>
                  <a:lnTo>
                    <a:pt x="137" y="75"/>
                  </a:lnTo>
                  <a:lnTo>
                    <a:pt x="90" y="111"/>
                  </a:lnTo>
                  <a:lnTo>
                    <a:pt x="51" y="142"/>
                  </a:lnTo>
                  <a:lnTo>
                    <a:pt x="20" y="168"/>
                  </a:lnTo>
                  <a:lnTo>
                    <a:pt x="9" y="181"/>
                  </a:lnTo>
                  <a:lnTo>
                    <a:pt x="2" y="190"/>
                  </a:lnTo>
                  <a:lnTo>
                    <a:pt x="0" y="199"/>
                  </a:lnTo>
                  <a:lnTo>
                    <a:pt x="4" y="206"/>
                  </a:lnTo>
                  <a:lnTo>
                    <a:pt x="13" y="210"/>
                  </a:lnTo>
                  <a:lnTo>
                    <a:pt x="31" y="212"/>
                  </a:lnTo>
                  <a:lnTo>
                    <a:pt x="55" y="212"/>
                  </a:lnTo>
                  <a:lnTo>
                    <a:pt x="86" y="210"/>
                  </a:lnTo>
                  <a:lnTo>
                    <a:pt x="121" y="206"/>
                  </a:lnTo>
                  <a:lnTo>
                    <a:pt x="159" y="201"/>
                  </a:lnTo>
                  <a:lnTo>
                    <a:pt x="241" y="184"/>
                  </a:lnTo>
                  <a:lnTo>
                    <a:pt x="320" y="161"/>
                  </a:lnTo>
                  <a:lnTo>
                    <a:pt x="355" y="150"/>
                  </a:lnTo>
                  <a:lnTo>
                    <a:pt x="384" y="137"/>
                  </a:lnTo>
                  <a:lnTo>
                    <a:pt x="411" y="124"/>
                  </a:lnTo>
                  <a:lnTo>
                    <a:pt x="433" y="111"/>
                  </a:lnTo>
                  <a:lnTo>
                    <a:pt x="448" y="97"/>
                  </a:lnTo>
                  <a:lnTo>
                    <a:pt x="459" y="84"/>
                  </a:lnTo>
                  <a:lnTo>
                    <a:pt x="464" y="71"/>
                  </a:lnTo>
                  <a:lnTo>
                    <a:pt x="461" y="60"/>
                  </a:lnTo>
                  <a:lnTo>
                    <a:pt x="455" y="49"/>
                  </a:lnTo>
                  <a:lnTo>
                    <a:pt x="441" y="40"/>
                  </a:lnTo>
                  <a:lnTo>
                    <a:pt x="424" y="31"/>
                  </a:lnTo>
                  <a:lnTo>
                    <a:pt x="404" y="25"/>
                  </a:lnTo>
                  <a:lnTo>
                    <a:pt x="358" y="13"/>
                  </a:lnTo>
                  <a:lnTo>
                    <a:pt x="311" y="7"/>
                  </a:lnTo>
                  <a:lnTo>
                    <a:pt x="271" y="7"/>
                  </a:lnTo>
                  <a:lnTo>
                    <a:pt x="238" y="11"/>
                  </a:lnTo>
                  <a:lnTo>
                    <a:pt x="183" y="27"/>
                  </a:lnTo>
                  <a:lnTo>
                    <a:pt x="236" y="0"/>
                  </a:lnTo>
                  <a:close/>
                </a:path>
              </a:pathLst>
            </a:custGeom>
            <a:solidFill>
              <a:srgbClr val="a1612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1" name="Freeform 67"/>
            <p:cNvSpPr/>
            <p:nvPr/>
          </p:nvSpPr>
          <p:spPr>
            <a:xfrm>
              <a:off x="2468520" y="5448240"/>
              <a:ext cx="365040" cy="336600"/>
            </a:xfrm>
            <a:custGeom>
              <a:avLst/>
              <a:gdLst>
                <a:gd name="textAreaLeft" fmla="*/ 0 w 365040"/>
                <a:gd name="textAreaRight" fmla="*/ 365040 w 365040"/>
                <a:gd name="textAreaTop" fmla="*/ 0 h 336600"/>
                <a:gd name="textAreaBottom" fmla="*/ 336960 h 336600"/>
              </a:gdLst>
              <a:ahLst/>
              <a:rect l="textAreaLeft" t="textAreaTop" r="textAreaRight" b="textAreaBottom"/>
              <a:pathLst>
                <a:path w="230" h="212">
                  <a:moveTo>
                    <a:pt x="117" y="0"/>
                  </a:moveTo>
                  <a:lnTo>
                    <a:pt x="82" y="22"/>
                  </a:lnTo>
                  <a:lnTo>
                    <a:pt x="48" y="44"/>
                  </a:lnTo>
                  <a:lnTo>
                    <a:pt x="22" y="70"/>
                  </a:lnTo>
                  <a:lnTo>
                    <a:pt x="4" y="99"/>
                  </a:lnTo>
                  <a:lnTo>
                    <a:pt x="0" y="132"/>
                  </a:lnTo>
                  <a:lnTo>
                    <a:pt x="6" y="163"/>
                  </a:lnTo>
                  <a:lnTo>
                    <a:pt x="15" y="179"/>
                  </a:lnTo>
                  <a:lnTo>
                    <a:pt x="24" y="190"/>
                  </a:lnTo>
                  <a:lnTo>
                    <a:pt x="37" y="201"/>
                  </a:lnTo>
                  <a:lnTo>
                    <a:pt x="53" y="207"/>
                  </a:lnTo>
                  <a:lnTo>
                    <a:pt x="71" y="212"/>
                  </a:lnTo>
                  <a:lnTo>
                    <a:pt x="90" y="212"/>
                  </a:lnTo>
                  <a:lnTo>
                    <a:pt x="130" y="205"/>
                  </a:lnTo>
                  <a:lnTo>
                    <a:pt x="170" y="187"/>
                  </a:lnTo>
                  <a:lnTo>
                    <a:pt x="201" y="168"/>
                  </a:lnTo>
                  <a:lnTo>
                    <a:pt x="221" y="145"/>
                  </a:lnTo>
                  <a:lnTo>
                    <a:pt x="230" y="123"/>
                  </a:lnTo>
                  <a:lnTo>
                    <a:pt x="227" y="99"/>
                  </a:lnTo>
                  <a:lnTo>
                    <a:pt x="221" y="77"/>
                  </a:lnTo>
                  <a:lnTo>
                    <a:pt x="212" y="55"/>
                  </a:lnTo>
                  <a:lnTo>
                    <a:pt x="199" y="37"/>
                  </a:lnTo>
                  <a:lnTo>
                    <a:pt x="181" y="22"/>
                  </a:lnTo>
                  <a:lnTo>
                    <a:pt x="161" y="11"/>
                  </a:lnTo>
                  <a:lnTo>
                    <a:pt x="139" y="9"/>
                  </a:lnTo>
                  <a:lnTo>
                    <a:pt x="115" y="11"/>
                  </a:lnTo>
                  <a:lnTo>
                    <a:pt x="62" y="26"/>
                  </a:lnTo>
                  <a:lnTo>
                    <a:pt x="117" y="0"/>
                  </a:lnTo>
                  <a:close/>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Freeform 68"/>
            <p:cNvSpPr/>
            <p:nvPr/>
          </p:nvSpPr>
          <p:spPr>
            <a:xfrm>
              <a:off x="1452600" y="5773680"/>
              <a:ext cx="587160" cy="351000"/>
            </a:xfrm>
            <a:custGeom>
              <a:avLst/>
              <a:gdLst>
                <a:gd name="textAreaLeft" fmla="*/ 0 w 587160"/>
                <a:gd name="textAreaRight" fmla="*/ 587520 w 587160"/>
                <a:gd name="textAreaTop" fmla="*/ 0 h 351000"/>
                <a:gd name="textAreaBottom" fmla="*/ 351360 h 351000"/>
              </a:gdLst>
              <a:ahLst/>
              <a:rect l="textAreaLeft" t="textAreaTop" r="textAreaRight" b="textAreaBottom"/>
              <a:pathLst>
                <a:path w="370" h="221">
                  <a:moveTo>
                    <a:pt x="121" y="0"/>
                  </a:moveTo>
                  <a:lnTo>
                    <a:pt x="53" y="44"/>
                  </a:lnTo>
                  <a:lnTo>
                    <a:pt x="24" y="66"/>
                  </a:lnTo>
                  <a:lnTo>
                    <a:pt x="6" y="88"/>
                  </a:lnTo>
                  <a:lnTo>
                    <a:pt x="0" y="113"/>
                  </a:lnTo>
                  <a:lnTo>
                    <a:pt x="0" y="126"/>
                  </a:lnTo>
                  <a:lnTo>
                    <a:pt x="4" y="137"/>
                  </a:lnTo>
                  <a:lnTo>
                    <a:pt x="11" y="148"/>
                  </a:lnTo>
                  <a:lnTo>
                    <a:pt x="24" y="159"/>
                  </a:lnTo>
                  <a:lnTo>
                    <a:pt x="39" y="170"/>
                  </a:lnTo>
                  <a:lnTo>
                    <a:pt x="59" y="181"/>
                  </a:lnTo>
                  <a:lnTo>
                    <a:pt x="83" y="192"/>
                  </a:lnTo>
                  <a:lnTo>
                    <a:pt x="112" y="201"/>
                  </a:lnTo>
                  <a:lnTo>
                    <a:pt x="174" y="216"/>
                  </a:lnTo>
                  <a:lnTo>
                    <a:pt x="238" y="221"/>
                  </a:lnTo>
                  <a:lnTo>
                    <a:pt x="267" y="219"/>
                  </a:lnTo>
                  <a:lnTo>
                    <a:pt x="293" y="212"/>
                  </a:lnTo>
                  <a:lnTo>
                    <a:pt x="317" y="201"/>
                  </a:lnTo>
                  <a:lnTo>
                    <a:pt x="337" y="188"/>
                  </a:lnTo>
                  <a:lnTo>
                    <a:pt x="353" y="172"/>
                  </a:lnTo>
                  <a:lnTo>
                    <a:pt x="364" y="152"/>
                  </a:lnTo>
                  <a:lnTo>
                    <a:pt x="368" y="133"/>
                  </a:lnTo>
                  <a:lnTo>
                    <a:pt x="370" y="113"/>
                  </a:lnTo>
                  <a:lnTo>
                    <a:pt x="368" y="93"/>
                  </a:lnTo>
                  <a:lnTo>
                    <a:pt x="359" y="75"/>
                  </a:lnTo>
                  <a:lnTo>
                    <a:pt x="346" y="60"/>
                  </a:lnTo>
                  <a:lnTo>
                    <a:pt x="331" y="46"/>
                  </a:lnTo>
                  <a:lnTo>
                    <a:pt x="289" y="27"/>
                  </a:lnTo>
                  <a:lnTo>
                    <a:pt x="240" y="13"/>
                  </a:lnTo>
                  <a:lnTo>
                    <a:pt x="194" y="7"/>
                  </a:lnTo>
                  <a:lnTo>
                    <a:pt x="154" y="7"/>
                  </a:lnTo>
                  <a:lnTo>
                    <a:pt x="121" y="11"/>
                  </a:lnTo>
                  <a:lnTo>
                    <a:pt x="66" y="27"/>
                  </a:lnTo>
                  <a:lnTo>
                    <a:pt x="121"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3" name="Freeform 69"/>
            <p:cNvSpPr/>
            <p:nvPr/>
          </p:nvSpPr>
          <p:spPr>
            <a:xfrm>
              <a:off x="985680" y="3498840"/>
              <a:ext cx="2095560" cy="365040"/>
            </a:xfrm>
            <a:custGeom>
              <a:avLst/>
              <a:gdLst/>
              <a:ahLst/>
              <a:rect l="l" t="t" r="r" b="b"/>
              <a:pathLst>
                <a:path w="1320" h="230">
                  <a:moveTo>
                    <a:pt x="218" y="51"/>
                  </a:moveTo>
                  <a:lnTo>
                    <a:pt x="0" y="0"/>
                  </a:lnTo>
                  <a:lnTo>
                    <a:pt x="6" y="150"/>
                  </a:lnTo>
                  <a:lnTo>
                    <a:pt x="0" y="230"/>
                  </a:lnTo>
                  <a:lnTo>
                    <a:pt x="338" y="230"/>
                  </a:lnTo>
                  <a:lnTo>
                    <a:pt x="605" y="230"/>
                  </a:lnTo>
                  <a:lnTo>
                    <a:pt x="925" y="199"/>
                  </a:lnTo>
                  <a:lnTo>
                    <a:pt x="1294" y="230"/>
                  </a:lnTo>
                  <a:lnTo>
                    <a:pt x="1311" y="139"/>
                  </a:lnTo>
                  <a:lnTo>
                    <a:pt x="1320" y="0"/>
                  </a:lnTo>
                  <a:lnTo>
                    <a:pt x="934" y="66"/>
                  </a:lnTo>
                  <a:lnTo>
                    <a:pt x="664" y="95"/>
                  </a:lnTo>
                  <a:lnTo>
                    <a:pt x="598" y="139"/>
                  </a:lnTo>
                  <a:lnTo>
                    <a:pt x="448" y="117"/>
                  </a:lnTo>
                  <a:lnTo>
                    <a:pt x="218" y="51"/>
                  </a:lnTo>
                  <a:close/>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4" name="Freeform 70"/>
            <p:cNvSpPr/>
            <p:nvPr/>
          </p:nvSpPr>
          <p:spPr>
            <a:xfrm>
              <a:off x="1987560" y="3849840"/>
              <a:ext cx="452520" cy="133200"/>
            </a:xfrm>
            <a:custGeom>
              <a:avLst/>
              <a:gdLst>
                <a:gd name="textAreaLeft" fmla="*/ 0 w 452520"/>
                <a:gd name="textAreaRight" fmla="*/ 452880 w 452520"/>
                <a:gd name="textAreaTop" fmla="*/ 0 h 133200"/>
                <a:gd name="textAreaBottom" fmla="*/ 133560 h 133200"/>
              </a:gdLst>
              <a:ahLst/>
              <a:rect l="textAreaLeft" t="textAreaTop" r="textAreaRight" b="textAreaBottom"/>
              <a:pathLst>
                <a:path w="285" h="84">
                  <a:moveTo>
                    <a:pt x="71" y="0"/>
                  </a:moveTo>
                  <a:lnTo>
                    <a:pt x="25" y="11"/>
                  </a:lnTo>
                  <a:lnTo>
                    <a:pt x="9" y="20"/>
                  </a:lnTo>
                  <a:lnTo>
                    <a:pt x="0" y="29"/>
                  </a:lnTo>
                  <a:lnTo>
                    <a:pt x="3" y="42"/>
                  </a:lnTo>
                  <a:lnTo>
                    <a:pt x="16" y="53"/>
                  </a:lnTo>
                  <a:lnTo>
                    <a:pt x="33" y="66"/>
                  </a:lnTo>
                  <a:lnTo>
                    <a:pt x="60" y="75"/>
                  </a:lnTo>
                  <a:lnTo>
                    <a:pt x="91" y="82"/>
                  </a:lnTo>
                  <a:lnTo>
                    <a:pt x="124" y="84"/>
                  </a:lnTo>
                  <a:lnTo>
                    <a:pt x="159" y="82"/>
                  </a:lnTo>
                  <a:lnTo>
                    <a:pt x="195" y="73"/>
                  </a:lnTo>
                  <a:lnTo>
                    <a:pt x="230" y="60"/>
                  </a:lnTo>
                  <a:lnTo>
                    <a:pt x="261" y="42"/>
                  </a:lnTo>
                  <a:lnTo>
                    <a:pt x="281" y="24"/>
                  </a:lnTo>
                  <a:lnTo>
                    <a:pt x="285" y="18"/>
                  </a:lnTo>
                  <a:lnTo>
                    <a:pt x="285" y="11"/>
                  </a:lnTo>
                  <a:lnTo>
                    <a:pt x="281" y="7"/>
                  </a:lnTo>
                  <a:lnTo>
                    <a:pt x="272" y="4"/>
                  </a:lnTo>
                  <a:lnTo>
                    <a:pt x="248" y="2"/>
                  </a:lnTo>
                  <a:lnTo>
                    <a:pt x="177" y="7"/>
                  </a:lnTo>
                  <a:lnTo>
                    <a:pt x="117" y="11"/>
                  </a:lnTo>
                  <a:lnTo>
                    <a:pt x="64" y="15"/>
                  </a:lnTo>
                  <a:lnTo>
                    <a:pt x="71"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Freeform 71"/>
            <p:cNvSpPr/>
            <p:nvPr/>
          </p:nvSpPr>
          <p:spPr>
            <a:xfrm>
              <a:off x="1203480" y="3664080"/>
              <a:ext cx="1523880" cy="93600"/>
            </a:xfrm>
            <a:custGeom>
              <a:avLst/>
              <a:gdLst>
                <a:gd name="textAreaLeft" fmla="*/ 0 w 1523880"/>
                <a:gd name="textAreaRight" fmla="*/ 1524240 w 1523880"/>
                <a:gd name="textAreaTop" fmla="*/ 0 h 93600"/>
                <a:gd name="textAreaBottom" fmla="*/ 93960 h 93600"/>
              </a:gdLst>
              <a:ahLst/>
              <a:rect l="textAreaLeft" t="textAreaTop" r="textAreaRight" b="textAreaBottom"/>
              <a:pathLst>
                <a:path w="960" h="59">
                  <a:moveTo>
                    <a:pt x="0" y="0"/>
                  </a:moveTo>
                  <a:lnTo>
                    <a:pt x="170" y="35"/>
                  </a:lnTo>
                  <a:lnTo>
                    <a:pt x="342" y="59"/>
                  </a:lnTo>
                  <a:lnTo>
                    <a:pt x="536" y="59"/>
                  </a:lnTo>
                  <a:lnTo>
                    <a:pt x="819" y="6"/>
                  </a:lnTo>
                  <a:lnTo>
                    <a:pt x="960" y="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6" name="Line 72"/>
            <p:cNvSpPr/>
            <p:nvPr/>
          </p:nvSpPr>
          <p:spPr>
            <a:xfrm>
              <a:off x="1189080" y="3757680"/>
              <a:ext cx="3920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57" name="Line 73"/>
            <p:cNvSpPr/>
            <p:nvPr/>
          </p:nvSpPr>
          <p:spPr>
            <a:xfrm flipV="1">
              <a:off x="2584440" y="3744720"/>
              <a:ext cx="3682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58" name="Freeform 74"/>
            <p:cNvSpPr/>
            <p:nvPr/>
          </p:nvSpPr>
          <p:spPr>
            <a:xfrm>
              <a:off x="1006560" y="3046320"/>
              <a:ext cx="385560" cy="354240"/>
            </a:xfrm>
            <a:custGeom>
              <a:avLst/>
              <a:gdLst>
                <a:gd name="textAreaLeft" fmla="*/ 0 w 385560"/>
                <a:gd name="textAreaRight" fmla="*/ 385920 w 385560"/>
                <a:gd name="textAreaTop" fmla="*/ 0 h 354240"/>
                <a:gd name="textAreaBottom" fmla="*/ 354240 h 354240"/>
              </a:gdLst>
              <a:ahLst/>
              <a:rect l="textAreaLeft" t="textAreaTop" r="textAreaRight" b="textAreaBottom"/>
              <a:pathLst>
                <a:path w="243" h="223">
                  <a:moveTo>
                    <a:pt x="0" y="60"/>
                  </a:moveTo>
                  <a:lnTo>
                    <a:pt x="7" y="131"/>
                  </a:lnTo>
                  <a:lnTo>
                    <a:pt x="16" y="164"/>
                  </a:lnTo>
                  <a:lnTo>
                    <a:pt x="31" y="188"/>
                  </a:lnTo>
                  <a:lnTo>
                    <a:pt x="55" y="208"/>
                  </a:lnTo>
                  <a:lnTo>
                    <a:pt x="84" y="219"/>
                  </a:lnTo>
                  <a:lnTo>
                    <a:pt x="115" y="223"/>
                  </a:lnTo>
                  <a:lnTo>
                    <a:pt x="148" y="221"/>
                  </a:lnTo>
                  <a:lnTo>
                    <a:pt x="181" y="214"/>
                  </a:lnTo>
                  <a:lnTo>
                    <a:pt x="210" y="201"/>
                  </a:lnTo>
                  <a:lnTo>
                    <a:pt x="232" y="184"/>
                  </a:lnTo>
                  <a:lnTo>
                    <a:pt x="239" y="172"/>
                  </a:lnTo>
                  <a:lnTo>
                    <a:pt x="243" y="161"/>
                  </a:lnTo>
                  <a:lnTo>
                    <a:pt x="243" y="135"/>
                  </a:lnTo>
                  <a:lnTo>
                    <a:pt x="234" y="108"/>
                  </a:lnTo>
                  <a:lnTo>
                    <a:pt x="214" y="82"/>
                  </a:lnTo>
                  <a:lnTo>
                    <a:pt x="192" y="58"/>
                  </a:lnTo>
                  <a:lnTo>
                    <a:pt x="168" y="38"/>
                  </a:lnTo>
                  <a:lnTo>
                    <a:pt x="141" y="22"/>
                  </a:lnTo>
                  <a:lnTo>
                    <a:pt x="86" y="0"/>
                  </a:lnTo>
                  <a:lnTo>
                    <a:pt x="0" y="6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9" name="Freeform 75"/>
            <p:cNvSpPr/>
            <p:nvPr/>
          </p:nvSpPr>
          <p:spPr>
            <a:xfrm>
              <a:off x="2665440" y="3240000"/>
              <a:ext cx="426960" cy="328680"/>
            </a:xfrm>
            <a:custGeom>
              <a:avLst/>
              <a:gdLst>
                <a:gd name="textAreaLeft" fmla="*/ 0 w 426960"/>
                <a:gd name="textAreaRight" fmla="*/ 427320 w 426960"/>
                <a:gd name="textAreaTop" fmla="*/ 0 h 328680"/>
                <a:gd name="textAreaBottom" fmla="*/ 329040 h 328680"/>
              </a:gdLst>
              <a:ahLst/>
              <a:rect l="textAreaLeft" t="textAreaTop" r="textAreaRight" b="textAreaBottom"/>
              <a:pathLst>
                <a:path w="269" h="207">
                  <a:moveTo>
                    <a:pt x="46" y="50"/>
                  </a:moveTo>
                  <a:lnTo>
                    <a:pt x="13" y="110"/>
                  </a:lnTo>
                  <a:lnTo>
                    <a:pt x="4" y="137"/>
                  </a:lnTo>
                  <a:lnTo>
                    <a:pt x="0" y="161"/>
                  </a:lnTo>
                  <a:lnTo>
                    <a:pt x="4" y="181"/>
                  </a:lnTo>
                  <a:lnTo>
                    <a:pt x="17" y="198"/>
                  </a:lnTo>
                  <a:lnTo>
                    <a:pt x="39" y="207"/>
                  </a:lnTo>
                  <a:lnTo>
                    <a:pt x="70" y="207"/>
                  </a:lnTo>
                  <a:lnTo>
                    <a:pt x="112" y="201"/>
                  </a:lnTo>
                  <a:lnTo>
                    <a:pt x="158" y="187"/>
                  </a:lnTo>
                  <a:lnTo>
                    <a:pt x="203" y="163"/>
                  </a:lnTo>
                  <a:lnTo>
                    <a:pt x="223" y="150"/>
                  </a:lnTo>
                  <a:lnTo>
                    <a:pt x="238" y="134"/>
                  </a:lnTo>
                  <a:lnTo>
                    <a:pt x="251" y="119"/>
                  </a:lnTo>
                  <a:lnTo>
                    <a:pt x="260" y="99"/>
                  </a:lnTo>
                  <a:lnTo>
                    <a:pt x="267" y="81"/>
                  </a:lnTo>
                  <a:lnTo>
                    <a:pt x="269" y="64"/>
                  </a:lnTo>
                  <a:lnTo>
                    <a:pt x="269" y="46"/>
                  </a:lnTo>
                  <a:lnTo>
                    <a:pt x="264" y="31"/>
                  </a:lnTo>
                  <a:lnTo>
                    <a:pt x="258" y="20"/>
                  </a:lnTo>
                  <a:lnTo>
                    <a:pt x="247" y="9"/>
                  </a:lnTo>
                  <a:lnTo>
                    <a:pt x="234" y="2"/>
                  </a:lnTo>
                  <a:lnTo>
                    <a:pt x="216" y="0"/>
                  </a:lnTo>
                  <a:lnTo>
                    <a:pt x="178" y="0"/>
                  </a:lnTo>
                  <a:lnTo>
                    <a:pt x="139" y="11"/>
                  </a:lnTo>
                  <a:lnTo>
                    <a:pt x="103" y="24"/>
                  </a:lnTo>
                  <a:lnTo>
                    <a:pt x="75" y="42"/>
                  </a:lnTo>
                  <a:lnTo>
                    <a:pt x="50" y="57"/>
                  </a:lnTo>
                  <a:lnTo>
                    <a:pt x="17" y="92"/>
                  </a:lnTo>
                  <a:lnTo>
                    <a:pt x="46" y="5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Freeform 76"/>
            <p:cNvSpPr/>
            <p:nvPr/>
          </p:nvSpPr>
          <p:spPr>
            <a:xfrm>
              <a:off x="2496960" y="3014640"/>
              <a:ext cx="451080" cy="246240"/>
            </a:xfrm>
            <a:custGeom>
              <a:avLst/>
              <a:gdLst>
                <a:gd name="textAreaLeft" fmla="*/ 0 w 451080"/>
                <a:gd name="textAreaRight" fmla="*/ 451440 w 451080"/>
                <a:gd name="textAreaTop" fmla="*/ 0 h 246240"/>
                <a:gd name="textAreaBottom" fmla="*/ 246240 h 246240"/>
              </a:gdLst>
              <a:ahLst/>
              <a:rect l="textAreaLeft" t="textAreaTop" r="textAreaRight" b="textAreaBottom"/>
              <a:pathLst>
                <a:path w="284" h="155">
                  <a:moveTo>
                    <a:pt x="154" y="155"/>
                  </a:moveTo>
                  <a:lnTo>
                    <a:pt x="218" y="142"/>
                  </a:lnTo>
                  <a:lnTo>
                    <a:pt x="247" y="133"/>
                  </a:lnTo>
                  <a:lnTo>
                    <a:pt x="267" y="120"/>
                  </a:lnTo>
                  <a:lnTo>
                    <a:pt x="280" y="104"/>
                  </a:lnTo>
                  <a:lnTo>
                    <a:pt x="284" y="86"/>
                  </a:lnTo>
                  <a:lnTo>
                    <a:pt x="280" y="69"/>
                  </a:lnTo>
                  <a:lnTo>
                    <a:pt x="262" y="49"/>
                  </a:lnTo>
                  <a:lnTo>
                    <a:pt x="236" y="31"/>
                  </a:lnTo>
                  <a:lnTo>
                    <a:pt x="198" y="18"/>
                  </a:lnTo>
                  <a:lnTo>
                    <a:pt x="156" y="7"/>
                  </a:lnTo>
                  <a:lnTo>
                    <a:pt x="112" y="0"/>
                  </a:lnTo>
                  <a:lnTo>
                    <a:pt x="70" y="0"/>
                  </a:lnTo>
                  <a:lnTo>
                    <a:pt x="35" y="5"/>
                  </a:lnTo>
                  <a:lnTo>
                    <a:pt x="19" y="9"/>
                  </a:lnTo>
                  <a:lnTo>
                    <a:pt x="8" y="16"/>
                  </a:lnTo>
                  <a:lnTo>
                    <a:pt x="2" y="25"/>
                  </a:lnTo>
                  <a:lnTo>
                    <a:pt x="0" y="34"/>
                  </a:lnTo>
                  <a:lnTo>
                    <a:pt x="2" y="45"/>
                  </a:lnTo>
                  <a:lnTo>
                    <a:pt x="8" y="56"/>
                  </a:lnTo>
                  <a:lnTo>
                    <a:pt x="33" y="80"/>
                  </a:lnTo>
                  <a:lnTo>
                    <a:pt x="64" y="104"/>
                  </a:lnTo>
                  <a:lnTo>
                    <a:pt x="97" y="124"/>
                  </a:lnTo>
                  <a:lnTo>
                    <a:pt x="128" y="137"/>
                  </a:lnTo>
                  <a:lnTo>
                    <a:pt x="154" y="144"/>
                  </a:lnTo>
                  <a:lnTo>
                    <a:pt x="203" y="151"/>
                  </a:lnTo>
                  <a:lnTo>
                    <a:pt x="154" y="155"/>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1" name="Freeform 77"/>
            <p:cNvSpPr/>
            <p:nvPr/>
          </p:nvSpPr>
          <p:spPr>
            <a:xfrm>
              <a:off x="1003320" y="3863880"/>
              <a:ext cx="353880" cy="374760"/>
            </a:xfrm>
            <a:custGeom>
              <a:avLst/>
              <a:gdLst>
                <a:gd name="textAreaLeft" fmla="*/ 0 w 353880"/>
                <a:gd name="textAreaRight" fmla="*/ 354240 w 353880"/>
                <a:gd name="textAreaTop" fmla="*/ 0 h 374760"/>
                <a:gd name="textAreaBottom" fmla="*/ 375120 h 374760"/>
              </a:gdLst>
              <a:ahLst/>
              <a:rect l="textAreaLeft" t="textAreaTop" r="textAreaRight" b="textAreaBottom"/>
              <a:pathLst>
                <a:path w="223" h="236">
                  <a:moveTo>
                    <a:pt x="29" y="22"/>
                  </a:moveTo>
                  <a:lnTo>
                    <a:pt x="7" y="108"/>
                  </a:lnTo>
                  <a:lnTo>
                    <a:pt x="0" y="148"/>
                  </a:lnTo>
                  <a:lnTo>
                    <a:pt x="2" y="181"/>
                  </a:lnTo>
                  <a:lnTo>
                    <a:pt x="15" y="207"/>
                  </a:lnTo>
                  <a:lnTo>
                    <a:pt x="35" y="227"/>
                  </a:lnTo>
                  <a:lnTo>
                    <a:pt x="60" y="236"/>
                  </a:lnTo>
                  <a:lnTo>
                    <a:pt x="86" y="232"/>
                  </a:lnTo>
                  <a:lnTo>
                    <a:pt x="115" y="218"/>
                  </a:lnTo>
                  <a:lnTo>
                    <a:pt x="141" y="194"/>
                  </a:lnTo>
                  <a:lnTo>
                    <a:pt x="168" y="163"/>
                  </a:lnTo>
                  <a:lnTo>
                    <a:pt x="190" y="128"/>
                  </a:lnTo>
                  <a:lnTo>
                    <a:pt x="210" y="90"/>
                  </a:lnTo>
                  <a:lnTo>
                    <a:pt x="221" y="57"/>
                  </a:lnTo>
                  <a:lnTo>
                    <a:pt x="223" y="42"/>
                  </a:lnTo>
                  <a:lnTo>
                    <a:pt x="223" y="26"/>
                  </a:lnTo>
                  <a:lnTo>
                    <a:pt x="218" y="15"/>
                  </a:lnTo>
                  <a:lnTo>
                    <a:pt x="210" y="6"/>
                  </a:lnTo>
                  <a:lnTo>
                    <a:pt x="196" y="2"/>
                  </a:lnTo>
                  <a:lnTo>
                    <a:pt x="181" y="0"/>
                  </a:lnTo>
                  <a:lnTo>
                    <a:pt x="161" y="0"/>
                  </a:lnTo>
                  <a:lnTo>
                    <a:pt x="139" y="2"/>
                  </a:lnTo>
                  <a:lnTo>
                    <a:pt x="86" y="9"/>
                  </a:lnTo>
                  <a:lnTo>
                    <a:pt x="29" y="22"/>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2" name="Freeform 78"/>
            <p:cNvSpPr/>
            <p:nvPr/>
          </p:nvSpPr>
          <p:spPr>
            <a:xfrm>
              <a:off x="2100240" y="2160720"/>
              <a:ext cx="480960" cy="325440"/>
            </a:xfrm>
            <a:custGeom>
              <a:avLst/>
              <a:gdLst>
                <a:gd name="textAreaLeft" fmla="*/ 0 w 480960"/>
                <a:gd name="textAreaRight" fmla="*/ 481320 w 480960"/>
                <a:gd name="textAreaTop" fmla="*/ 0 h 325440"/>
                <a:gd name="textAreaBottom" fmla="*/ 325800 h 325440"/>
              </a:gdLst>
              <a:ahLst/>
              <a:rect l="textAreaLeft" t="textAreaTop" r="textAreaRight" b="textAreaBottom"/>
              <a:pathLst>
                <a:path w="303" h="205">
                  <a:moveTo>
                    <a:pt x="0" y="110"/>
                  </a:moveTo>
                  <a:lnTo>
                    <a:pt x="13" y="137"/>
                  </a:lnTo>
                  <a:lnTo>
                    <a:pt x="33" y="165"/>
                  </a:lnTo>
                  <a:lnTo>
                    <a:pt x="57" y="190"/>
                  </a:lnTo>
                  <a:lnTo>
                    <a:pt x="73" y="198"/>
                  </a:lnTo>
                  <a:lnTo>
                    <a:pt x="86" y="205"/>
                  </a:lnTo>
                  <a:lnTo>
                    <a:pt x="102" y="205"/>
                  </a:lnTo>
                  <a:lnTo>
                    <a:pt x="115" y="201"/>
                  </a:lnTo>
                  <a:lnTo>
                    <a:pt x="141" y="181"/>
                  </a:lnTo>
                  <a:lnTo>
                    <a:pt x="172" y="156"/>
                  </a:lnTo>
                  <a:lnTo>
                    <a:pt x="192" y="143"/>
                  </a:lnTo>
                  <a:lnTo>
                    <a:pt x="212" y="134"/>
                  </a:lnTo>
                  <a:lnTo>
                    <a:pt x="252" y="117"/>
                  </a:lnTo>
                  <a:lnTo>
                    <a:pt x="283" y="95"/>
                  </a:lnTo>
                  <a:lnTo>
                    <a:pt x="291" y="81"/>
                  </a:lnTo>
                  <a:lnTo>
                    <a:pt x="300" y="70"/>
                  </a:lnTo>
                  <a:lnTo>
                    <a:pt x="303" y="59"/>
                  </a:lnTo>
                  <a:lnTo>
                    <a:pt x="300" y="48"/>
                  </a:lnTo>
                  <a:lnTo>
                    <a:pt x="296" y="39"/>
                  </a:lnTo>
                  <a:lnTo>
                    <a:pt x="285" y="33"/>
                  </a:lnTo>
                  <a:lnTo>
                    <a:pt x="258" y="19"/>
                  </a:lnTo>
                  <a:lnTo>
                    <a:pt x="225" y="8"/>
                  </a:lnTo>
                  <a:lnTo>
                    <a:pt x="188" y="2"/>
                  </a:lnTo>
                  <a:lnTo>
                    <a:pt x="168" y="0"/>
                  </a:lnTo>
                  <a:lnTo>
                    <a:pt x="132" y="0"/>
                  </a:lnTo>
                  <a:lnTo>
                    <a:pt x="104" y="4"/>
                  </a:lnTo>
                  <a:lnTo>
                    <a:pt x="55" y="17"/>
                  </a:lnTo>
                  <a:lnTo>
                    <a:pt x="0" y="11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Freeform 79"/>
            <p:cNvSpPr/>
            <p:nvPr/>
          </p:nvSpPr>
          <p:spPr>
            <a:xfrm>
              <a:off x="1703520" y="2408400"/>
              <a:ext cx="515880" cy="231480"/>
            </a:xfrm>
            <a:custGeom>
              <a:avLst/>
              <a:gdLst>
                <a:gd name="textAreaLeft" fmla="*/ 0 w 515880"/>
                <a:gd name="textAreaRight" fmla="*/ 516240 w 515880"/>
                <a:gd name="textAreaTop" fmla="*/ 0 h 231480"/>
                <a:gd name="textAreaBottom" fmla="*/ 231840 h 231480"/>
              </a:gdLst>
              <a:ahLst/>
              <a:rect l="textAreaLeft" t="textAreaTop" r="textAreaRight" b="textAreaBottom"/>
              <a:pathLst>
                <a:path w="325" h="146">
                  <a:moveTo>
                    <a:pt x="0" y="71"/>
                  </a:moveTo>
                  <a:lnTo>
                    <a:pt x="20" y="113"/>
                  </a:lnTo>
                  <a:lnTo>
                    <a:pt x="36" y="128"/>
                  </a:lnTo>
                  <a:lnTo>
                    <a:pt x="60" y="142"/>
                  </a:lnTo>
                  <a:lnTo>
                    <a:pt x="95" y="146"/>
                  </a:lnTo>
                  <a:lnTo>
                    <a:pt x="137" y="146"/>
                  </a:lnTo>
                  <a:lnTo>
                    <a:pt x="182" y="140"/>
                  </a:lnTo>
                  <a:lnTo>
                    <a:pt x="226" y="128"/>
                  </a:lnTo>
                  <a:lnTo>
                    <a:pt x="268" y="111"/>
                  </a:lnTo>
                  <a:lnTo>
                    <a:pt x="301" y="91"/>
                  </a:lnTo>
                  <a:lnTo>
                    <a:pt x="312" y="80"/>
                  </a:lnTo>
                  <a:lnTo>
                    <a:pt x="321" y="69"/>
                  </a:lnTo>
                  <a:lnTo>
                    <a:pt x="325" y="60"/>
                  </a:lnTo>
                  <a:lnTo>
                    <a:pt x="323" y="49"/>
                  </a:lnTo>
                  <a:lnTo>
                    <a:pt x="318" y="40"/>
                  </a:lnTo>
                  <a:lnTo>
                    <a:pt x="307" y="34"/>
                  </a:lnTo>
                  <a:lnTo>
                    <a:pt x="281" y="20"/>
                  </a:lnTo>
                  <a:lnTo>
                    <a:pt x="248" y="9"/>
                  </a:lnTo>
                  <a:lnTo>
                    <a:pt x="210" y="3"/>
                  </a:lnTo>
                  <a:lnTo>
                    <a:pt x="201" y="3"/>
                  </a:lnTo>
                  <a:lnTo>
                    <a:pt x="193" y="0"/>
                  </a:lnTo>
                  <a:lnTo>
                    <a:pt x="157" y="0"/>
                  </a:lnTo>
                  <a:lnTo>
                    <a:pt x="129" y="3"/>
                  </a:lnTo>
                  <a:lnTo>
                    <a:pt x="80" y="18"/>
                  </a:lnTo>
                  <a:lnTo>
                    <a:pt x="0" y="71"/>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4" name="Freeform 80"/>
            <p:cNvSpPr/>
            <p:nvPr/>
          </p:nvSpPr>
          <p:spPr>
            <a:xfrm>
              <a:off x="2468520" y="1644480"/>
              <a:ext cx="438120" cy="365400"/>
            </a:xfrm>
            <a:custGeom>
              <a:avLst/>
              <a:gdLst>
                <a:gd name="textAreaLeft" fmla="*/ 0 w 438120"/>
                <a:gd name="textAreaRight" fmla="*/ 438480 w 438120"/>
                <a:gd name="textAreaTop" fmla="*/ 0 h 365400"/>
                <a:gd name="textAreaBottom" fmla="*/ 365760 h 365400"/>
              </a:gdLst>
              <a:ahLst/>
              <a:rect l="textAreaLeft" t="textAreaTop" r="textAreaRight" b="textAreaBottom"/>
              <a:pathLst>
                <a:path w="276" h="230">
                  <a:moveTo>
                    <a:pt x="20" y="11"/>
                  </a:moveTo>
                  <a:lnTo>
                    <a:pt x="13" y="20"/>
                  </a:lnTo>
                  <a:lnTo>
                    <a:pt x="9" y="24"/>
                  </a:lnTo>
                  <a:lnTo>
                    <a:pt x="2" y="31"/>
                  </a:lnTo>
                  <a:lnTo>
                    <a:pt x="0" y="40"/>
                  </a:lnTo>
                  <a:lnTo>
                    <a:pt x="2" y="46"/>
                  </a:lnTo>
                  <a:lnTo>
                    <a:pt x="4" y="60"/>
                  </a:lnTo>
                  <a:lnTo>
                    <a:pt x="20" y="91"/>
                  </a:lnTo>
                  <a:lnTo>
                    <a:pt x="44" y="124"/>
                  </a:lnTo>
                  <a:lnTo>
                    <a:pt x="75" y="157"/>
                  </a:lnTo>
                  <a:lnTo>
                    <a:pt x="112" y="186"/>
                  </a:lnTo>
                  <a:lnTo>
                    <a:pt x="150" y="210"/>
                  </a:lnTo>
                  <a:lnTo>
                    <a:pt x="185" y="225"/>
                  </a:lnTo>
                  <a:lnTo>
                    <a:pt x="201" y="230"/>
                  </a:lnTo>
                  <a:lnTo>
                    <a:pt x="216" y="230"/>
                  </a:lnTo>
                  <a:lnTo>
                    <a:pt x="227" y="225"/>
                  </a:lnTo>
                  <a:lnTo>
                    <a:pt x="234" y="219"/>
                  </a:lnTo>
                  <a:lnTo>
                    <a:pt x="241" y="210"/>
                  </a:lnTo>
                  <a:lnTo>
                    <a:pt x="249" y="199"/>
                  </a:lnTo>
                  <a:lnTo>
                    <a:pt x="265" y="168"/>
                  </a:lnTo>
                  <a:lnTo>
                    <a:pt x="276" y="135"/>
                  </a:lnTo>
                  <a:lnTo>
                    <a:pt x="276" y="117"/>
                  </a:lnTo>
                  <a:lnTo>
                    <a:pt x="269" y="102"/>
                  </a:lnTo>
                  <a:lnTo>
                    <a:pt x="267" y="97"/>
                  </a:lnTo>
                  <a:lnTo>
                    <a:pt x="260" y="91"/>
                  </a:lnTo>
                  <a:lnTo>
                    <a:pt x="245" y="75"/>
                  </a:lnTo>
                  <a:lnTo>
                    <a:pt x="230" y="57"/>
                  </a:lnTo>
                  <a:lnTo>
                    <a:pt x="223" y="51"/>
                  </a:lnTo>
                  <a:lnTo>
                    <a:pt x="221" y="46"/>
                  </a:lnTo>
                  <a:lnTo>
                    <a:pt x="210" y="33"/>
                  </a:lnTo>
                  <a:lnTo>
                    <a:pt x="196" y="24"/>
                  </a:lnTo>
                  <a:lnTo>
                    <a:pt x="170" y="16"/>
                  </a:lnTo>
                  <a:lnTo>
                    <a:pt x="141" y="9"/>
                  </a:lnTo>
                  <a:lnTo>
                    <a:pt x="117" y="0"/>
                  </a:lnTo>
                  <a:lnTo>
                    <a:pt x="20" y="11"/>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5" name="Freeform 81"/>
            <p:cNvSpPr/>
            <p:nvPr/>
          </p:nvSpPr>
          <p:spPr>
            <a:xfrm>
              <a:off x="1230480" y="2178000"/>
              <a:ext cx="350640" cy="230400"/>
            </a:xfrm>
            <a:custGeom>
              <a:avLst/>
              <a:gdLst>
                <a:gd name="textAreaLeft" fmla="*/ 0 w 350640"/>
                <a:gd name="textAreaRight" fmla="*/ 351000 w 350640"/>
                <a:gd name="textAreaTop" fmla="*/ 0 h 230400"/>
                <a:gd name="textAreaBottom" fmla="*/ 230760 h 230400"/>
              </a:gdLst>
              <a:ahLst/>
              <a:rect l="textAreaLeft" t="textAreaTop" r="textAreaRight" b="textAreaBottom"/>
              <a:pathLst>
                <a:path w="221" h="145">
                  <a:moveTo>
                    <a:pt x="87" y="61"/>
                  </a:moveTo>
                  <a:lnTo>
                    <a:pt x="87" y="57"/>
                  </a:lnTo>
                  <a:lnTo>
                    <a:pt x="91" y="57"/>
                  </a:lnTo>
                  <a:lnTo>
                    <a:pt x="91" y="55"/>
                  </a:lnTo>
                  <a:lnTo>
                    <a:pt x="95" y="55"/>
                  </a:lnTo>
                  <a:lnTo>
                    <a:pt x="98" y="53"/>
                  </a:lnTo>
                  <a:lnTo>
                    <a:pt x="106" y="53"/>
                  </a:lnTo>
                  <a:lnTo>
                    <a:pt x="109" y="50"/>
                  </a:lnTo>
                  <a:lnTo>
                    <a:pt x="120" y="50"/>
                  </a:lnTo>
                  <a:lnTo>
                    <a:pt x="122" y="48"/>
                  </a:lnTo>
                  <a:lnTo>
                    <a:pt x="133" y="48"/>
                  </a:lnTo>
                  <a:lnTo>
                    <a:pt x="135" y="46"/>
                  </a:lnTo>
                  <a:lnTo>
                    <a:pt x="144" y="46"/>
                  </a:lnTo>
                  <a:lnTo>
                    <a:pt x="146" y="44"/>
                  </a:lnTo>
                  <a:lnTo>
                    <a:pt x="153" y="44"/>
                  </a:lnTo>
                  <a:lnTo>
                    <a:pt x="153" y="42"/>
                  </a:lnTo>
                  <a:lnTo>
                    <a:pt x="157" y="42"/>
                  </a:lnTo>
                  <a:lnTo>
                    <a:pt x="159" y="39"/>
                  </a:lnTo>
                  <a:lnTo>
                    <a:pt x="162" y="39"/>
                  </a:lnTo>
                  <a:lnTo>
                    <a:pt x="164" y="37"/>
                  </a:lnTo>
                  <a:lnTo>
                    <a:pt x="166" y="37"/>
                  </a:lnTo>
                  <a:lnTo>
                    <a:pt x="168" y="35"/>
                  </a:lnTo>
                  <a:lnTo>
                    <a:pt x="170" y="35"/>
                  </a:lnTo>
                  <a:lnTo>
                    <a:pt x="173" y="33"/>
                  </a:lnTo>
                  <a:lnTo>
                    <a:pt x="177" y="33"/>
                  </a:lnTo>
                  <a:lnTo>
                    <a:pt x="179" y="31"/>
                  </a:lnTo>
                  <a:lnTo>
                    <a:pt x="181" y="31"/>
                  </a:lnTo>
                  <a:lnTo>
                    <a:pt x="184" y="28"/>
                  </a:lnTo>
                  <a:lnTo>
                    <a:pt x="186" y="28"/>
                  </a:lnTo>
                  <a:lnTo>
                    <a:pt x="186" y="26"/>
                  </a:lnTo>
                  <a:lnTo>
                    <a:pt x="190" y="26"/>
                  </a:lnTo>
                  <a:lnTo>
                    <a:pt x="190" y="24"/>
                  </a:lnTo>
                  <a:lnTo>
                    <a:pt x="195" y="24"/>
                  </a:lnTo>
                  <a:lnTo>
                    <a:pt x="195" y="22"/>
                  </a:lnTo>
                  <a:lnTo>
                    <a:pt x="197" y="22"/>
                  </a:lnTo>
                  <a:lnTo>
                    <a:pt x="199" y="20"/>
                  </a:lnTo>
                  <a:lnTo>
                    <a:pt x="201" y="20"/>
                  </a:lnTo>
                  <a:lnTo>
                    <a:pt x="204" y="17"/>
                  </a:lnTo>
                  <a:lnTo>
                    <a:pt x="206" y="17"/>
                  </a:lnTo>
                  <a:lnTo>
                    <a:pt x="206" y="15"/>
                  </a:lnTo>
                  <a:lnTo>
                    <a:pt x="210" y="15"/>
                  </a:lnTo>
                  <a:lnTo>
                    <a:pt x="210" y="13"/>
                  </a:lnTo>
                  <a:lnTo>
                    <a:pt x="212" y="13"/>
                  </a:lnTo>
                  <a:lnTo>
                    <a:pt x="212" y="11"/>
                  </a:lnTo>
                  <a:lnTo>
                    <a:pt x="215" y="11"/>
                  </a:lnTo>
                  <a:lnTo>
                    <a:pt x="215" y="8"/>
                  </a:lnTo>
                  <a:lnTo>
                    <a:pt x="217" y="8"/>
                  </a:lnTo>
                  <a:lnTo>
                    <a:pt x="217" y="6"/>
                  </a:lnTo>
                  <a:lnTo>
                    <a:pt x="219" y="6"/>
                  </a:lnTo>
                  <a:lnTo>
                    <a:pt x="219" y="4"/>
                  </a:lnTo>
                  <a:lnTo>
                    <a:pt x="221" y="4"/>
                  </a:lnTo>
                  <a:lnTo>
                    <a:pt x="221" y="0"/>
                  </a:lnTo>
                  <a:lnTo>
                    <a:pt x="210" y="0"/>
                  </a:lnTo>
                  <a:lnTo>
                    <a:pt x="210" y="2"/>
                  </a:lnTo>
                  <a:lnTo>
                    <a:pt x="204" y="2"/>
                  </a:lnTo>
                  <a:lnTo>
                    <a:pt x="201" y="4"/>
                  </a:lnTo>
                  <a:lnTo>
                    <a:pt x="197" y="4"/>
                  </a:lnTo>
                  <a:lnTo>
                    <a:pt x="195" y="6"/>
                  </a:lnTo>
                  <a:lnTo>
                    <a:pt x="190" y="6"/>
                  </a:lnTo>
                  <a:lnTo>
                    <a:pt x="188" y="8"/>
                  </a:lnTo>
                  <a:lnTo>
                    <a:pt x="186" y="8"/>
                  </a:lnTo>
                  <a:lnTo>
                    <a:pt x="181" y="11"/>
                  </a:lnTo>
                  <a:lnTo>
                    <a:pt x="179" y="11"/>
                  </a:lnTo>
                  <a:lnTo>
                    <a:pt x="177" y="13"/>
                  </a:lnTo>
                  <a:lnTo>
                    <a:pt x="175" y="13"/>
                  </a:lnTo>
                  <a:lnTo>
                    <a:pt x="170" y="15"/>
                  </a:lnTo>
                  <a:lnTo>
                    <a:pt x="168" y="15"/>
                  </a:lnTo>
                  <a:lnTo>
                    <a:pt x="166" y="17"/>
                  </a:lnTo>
                  <a:lnTo>
                    <a:pt x="162" y="17"/>
                  </a:lnTo>
                  <a:lnTo>
                    <a:pt x="159" y="20"/>
                  </a:lnTo>
                  <a:lnTo>
                    <a:pt x="157" y="20"/>
                  </a:lnTo>
                  <a:lnTo>
                    <a:pt x="153" y="22"/>
                  </a:lnTo>
                  <a:lnTo>
                    <a:pt x="151" y="22"/>
                  </a:lnTo>
                  <a:lnTo>
                    <a:pt x="146" y="24"/>
                  </a:lnTo>
                  <a:lnTo>
                    <a:pt x="144" y="26"/>
                  </a:lnTo>
                  <a:lnTo>
                    <a:pt x="142" y="26"/>
                  </a:lnTo>
                  <a:lnTo>
                    <a:pt x="137" y="28"/>
                  </a:lnTo>
                  <a:lnTo>
                    <a:pt x="135" y="28"/>
                  </a:lnTo>
                  <a:lnTo>
                    <a:pt x="131" y="31"/>
                  </a:lnTo>
                  <a:lnTo>
                    <a:pt x="128" y="31"/>
                  </a:lnTo>
                  <a:lnTo>
                    <a:pt x="126" y="33"/>
                  </a:lnTo>
                  <a:lnTo>
                    <a:pt x="122" y="33"/>
                  </a:lnTo>
                  <a:lnTo>
                    <a:pt x="120" y="35"/>
                  </a:lnTo>
                  <a:lnTo>
                    <a:pt x="115" y="35"/>
                  </a:lnTo>
                  <a:lnTo>
                    <a:pt x="113" y="37"/>
                  </a:lnTo>
                  <a:lnTo>
                    <a:pt x="111" y="37"/>
                  </a:lnTo>
                  <a:lnTo>
                    <a:pt x="106" y="39"/>
                  </a:lnTo>
                  <a:lnTo>
                    <a:pt x="102" y="39"/>
                  </a:lnTo>
                  <a:lnTo>
                    <a:pt x="100" y="42"/>
                  </a:lnTo>
                  <a:lnTo>
                    <a:pt x="95" y="42"/>
                  </a:lnTo>
                  <a:lnTo>
                    <a:pt x="93" y="44"/>
                  </a:lnTo>
                  <a:lnTo>
                    <a:pt x="87" y="44"/>
                  </a:lnTo>
                  <a:lnTo>
                    <a:pt x="87" y="46"/>
                  </a:lnTo>
                  <a:lnTo>
                    <a:pt x="42" y="46"/>
                  </a:lnTo>
                  <a:lnTo>
                    <a:pt x="40" y="44"/>
                  </a:lnTo>
                  <a:lnTo>
                    <a:pt x="25" y="44"/>
                  </a:lnTo>
                  <a:lnTo>
                    <a:pt x="22" y="42"/>
                  </a:lnTo>
                  <a:lnTo>
                    <a:pt x="0" y="42"/>
                  </a:lnTo>
                  <a:lnTo>
                    <a:pt x="0" y="46"/>
                  </a:lnTo>
                  <a:lnTo>
                    <a:pt x="3" y="48"/>
                  </a:lnTo>
                  <a:lnTo>
                    <a:pt x="3" y="50"/>
                  </a:lnTo>
                  <a:lnTo>
                    <a:pt x="5" y="50"/>
                  </a:lnTo>
                  <a:lnTo>
                    <a:pt x="7" y="53"/>
                  </a:lnTo>
                  <a:lnTo>
                    <a:pt x="9" y="53"/>
                  </a:lnTo>
                  <a:lnTo>
                    <a:pt x="9" y="55"/>
                  </a:lnTo>
                  <a:lnTo>
                    <a:pt x="14" y="57"/>
                  </a:lnTo>
                  <a:lnTo>
                    <a:pt x="18" y="61"/>
                  </a:lnTo>
                  <a:lnTo>
                    <a:pt x="20" y="61"/>
                  </a:lnTo>
                  <a:lnTo>
                    <a:pt x="22" y="64"/>
                  </a:lnTo>
                  <a:lnTo>
                    <a:pt x="27" y="66"/>
                  </a:lnTo>
                  <a:lnTo>
                    <a:pt x="29" y="68"/>
                  </a:lnTo>
                  <a:lnTo>
                    <a:pt x="38" y="73"/>
                  </a:lnTo>
                  <a:lnTo>
                    <a:pt x="40" y="75"/>
                  </a:lnTo>
                  <a:lnTo>
                    <a:pt x="49" y="79"/>
                  </a:lnTo>
                  <a:lnTo>
                    <a:pt x="53" y="81"/>
                  </a:lnTo>
                  <a:lnTo>
                    <a:pt x="56" y="84"/>
                  </a:lnTo>
                  <a:lnTo>
                    <a:pt x="60" y="88"/>
                  </a:lnTo>
                  <a:lnTo>
                    <a:pt x="69" y="92"/>
                  </a:lnTo>
                  <a:lnTo>
                    <a:pt x="78" y="97"/>
                  </a:lnTo>
                  <a:lnTo>
                    <a:pt x="87" y="101"/>
                  </a:lnTo>
                  <a:lnTo>
                    <a:pt x="89" y="103"/>
                  </a:lnTo>
                  <a:lnTo>
                    <a:pt x="98" y="108"/>
                  </a:lnTo>
                  <a:lnTo>
                    <a:pt x="106" y="112"/>
                  </a:lnTo>
                  <a:lnTo>
                    <a:pt x="111" y="114"/>
                  </a:lnTo>
                  <a:lnTo>
                    <a:pt x="113" y="117"/>
                  </a:lnTo>
                  <a:lnTo>
                    <a:pt x="122" y="121"/>
                  </a:lnTo>
                  <a:lnTo>
                    <a:pt x="124" y="123"/>
                  </a:lnTo>
                  <a:lnTo>
                    <a:pt x="128" y="126"/>
                  </a:lnTo>
                  <a:lnTo>
                    <a:pt x="131" y="128"/>
                  </a:lnTo>
                  <a:lnTo>
                    <a:pt x="135" y="128"/>
                  </a:lnTo>
                  <a:lnTo>
                    <a:pt x="140" y="132"/>
                  </a:lnTo>
                  <a:lnTo>
                    <a:pt x="142" y="134"/>
                  </a:lnTo>
                  <a:lnTo>
                    <a:pt x="144" y="134"/>
                  </a:lnTo>
                  <a:lnTo>
                    <a:pt x="146" y="137"/>
                  </a:lnTo>
                  <a:lnTo>
                    <a:pt x="148" y="137"/>
                  </a:lnTo>
                  <a:lnTo>
                    <a:pt x="151" y="139"/>
                  </a:lnTo>
                  <a:lnTo>
                    <a:pt x="153" y="139"/>
                  </a:lnTo>
                  <a:lnTo>
                    <a:pt x="153" y="141"/>
                  </a:lnTo>
                  <a:lnTo>
                    <a:pt x="155" y="141"/>
                  </a:lnTo>
                  <a:lnTo>
                    <a:pt x="157" y="143"/>
                  </a:lnTo>
                  <a:lnTo>
                    <a:pt x="159" y="143"/>
                  </a:lnTo>
                  <a:lnTo>
                    <a:pt x="159" y="145"/>
                  </a:lnTo>
                  <a:lnTo>
                    <a:pt x="162" y="145"/>
                  </a:lnTo>
                  <a:lnTo>
                    <a:pt x="159" y="145"/>
                  </a:lnTo>
                  <a:lnTo>
                    <a:pt x="159" y="143"/>
                  </a:lnTo>
                  <a:lnTo>
                    <a:pt x="155" y="143"/>
                  </a:lnTo>
                  <a:lnTo>
                    <a:pt x="155" y="141"/>
                  </a:lnTo>
                  <a:lnTo>
                    <a:pt x="153" y="141"/>
                  </a:lnTo>
                  <a:lnTo>
                    <a:pt x="155" y="141"/>
                  </a:lnTo>
                  <a:lnTo>
                    <a:pt x="155" y="134"/>
                  </a:lnTo>
                  <a:lnTo>
                    <a:pt x="157" y="134"/>
                  </a:lnTo>
                  <a:lnTo>
                    <a:pt x="157" y="130"/>
                  </a:lnTo>
                  <a:lnTo>
                    <a:pt x="159" y="128"/>
                  </a:lnTo>
                  <a:lnTo>
                    <a:pt x="159" y="126"/>
                  </a:lnTo>
                  <a:lnTo>
                    <a:pt x="162" y="126"/>
                  </a:lnTo>
                  <a:lnTo>
                    <a:pt x="162" y="119"/>
                  </a:lnTo>
                  <a:lnTo>
                    <a:pt x="164" y="119"/>
                  </a:lnTo>
                  <a:lnTo>
                    <a:pt x="164" y="117"/>
                  </a:lnTo>
                  <a:lnTo>
                    <a:pt x="166" y="114"/>
                  </a:lnTo>
                  <a:lnTo>
                    <a:pt x="166" y="112"/>
                  </a:lnTo>
                  <a:lnTo>
                    <a:pt x="168" y="110"/>
                  </a:lnTo>
                  <a:lnTo>
                    <a:pt x="168" y="108"/>
                  </a:lnTo>
                  <a:lnTo>
                    <a:pt x="170" y="106"/>
                  </a:lnTo>
                  <a:lnTo>
                    <a:pt x="170" y="103"/>
                  </a:lnTo>
                  <a:lnTo>
                    <a:pt x="173" y="101"/>
                  </a:lnTo>
                  <a:lnTo>
                    <a:pt x="173" y="99"/>
                  </a:lnTo>
                  <a:lnTo>
                    <a:pt x="175" y="95"/>
                  </a:lnTo>
                  <a:lnTo>
                    <a:pt x="175" y="92"/>
                  </a:lnTo>
                  <a:lnTo>
                    <a:pt x="177" y="90"/>
                  </a:lnTo>
                  <a:lnTo>
                    <a:pt x="177" y="88"/>
                  </a:lnTo>
                  <a:lnTo>
                    <a:pt x="179" y="84"/>
                  </a:lnTo>
                  <a:lnTo>
                    <a:pt x="181" y="81"/>
                  </a:lnTo>
                  <a:lnTo>
                    <a:pt x="181" y="79"/>
                  </a:lnTo>
                  <a:lnTo>
                    <a:pt x="184" y="77"/>
                  </a:lnTo>
                  <a:lnTo>
                    <a:pt x="184" y="73"/>
                  </a:lnTo>
                  <a:lnTo>
                    <a:pt x="188" y="68"/>
                  </a:lnTo>
                  <a:lnTo>
                    <a:pt x="188" y="66"/>
                  </a:lnTo>
                  <a:lnTo>
                    <a:pt x="190" y="61"/>
                  </a:lnTo>
                  <a:lnTo>
                    <a:pt x="190" y="59"/>
                  </a:lnTo>
                  <a:lnTo>
                    <a:pt x="195" y="55"/>
                  </a:lnTo>
                  <a:lnTo>
                    <a:pt x="195" y="50"/>
                  </a:lnTo>
                  <a:lnTo>
                    <a:pt x="197" y="48"/>
                  </a:lnTo>
                  <a:lnTo>
                    <a:pt x="197" y="46"/>
                  </a:lnTo>
                  <a:lnTo>
                    <a:pt x="199" y="44"/>
                  </a:lnTo>
                  <a:lnTo>
                    <a:pt x="199" y="42"/>
                  </a:lnTo>
                  <a:lnTo>
                    <a:pt x="201" y="39"/>
                  </a:lnTo>
                  <a:lnTo>
                    <a:pt x="201" y="37"/>
                  </a:lnTo>
                  <a:lnTo>
                    <a:pt x="204" y="35"/>
                  </a:lnTo>
                  <a:lnTo>
                    <a:pt x="204" y="31"/>
                  </a:lnTo>
                  <a:lnTo>
                    <a:pt x="206" y="28"/>
                  </a:lnTo>
                  <a:lnTo>
                    <a:pt x="206" y="24"/>
                  </a:lnTo>
                  <a:lnTo>
                    <a:pt x="208" y="24"/>
                  </a:lnTo>
                  <a:lnTo>
                    <a:pt x="208" y="20"/>
                  </a:lnTo>
                  <a:lnTo>
                    <a:pt x="210" y="20"/>
                  </a:lnTo>
                  <a:lnTo>
                    <a:pt x="210" y="11"/>
                  </a:lnTo>
                  <a:lnTo>
                    <a:pt x="208" y="11"/>
                  </a:lnTo>
                  <a:lnTo>
                    <a:pt x="206" y="13"/>
                  </a:lnTo>
                  <a:lnTo>
                    <a:pt x="204" y="13"/>
                  </a:lnTo>
                  <a:lnTo>
                    <a:pt x="204" y="15"/>
                  </a:lnTo>
                  <a:lnTo>
                    <a:pt x="201" y="15"/>
                  </a:lnTo>
                  <a:lnTo>
                    <a:pt x="201" y="17"/>
                  </a:lnTo>
                  <a:lnTo>
                    <a:pt x="197" y="22"/>
                  </a:lnTo>
                  <a:lnTo>
                    <a:pt x="197" y="24"/>
                  </a:lnTo>
                  <a:lnTo>
                    <a:pt x="195" y="24"/>
                  </a:lnTo>
                  <a:lnTo>
                    <a:pt x="195" y="26"/>
                  </a:lnTo>
                  <a:lnTo>
                    <a:pt x="193" y="26"/>
                  </a:lnTo>
                  <a:lnTo>
                    <a:pt x="193" y="31"/>
                  </a:lnTo>
                  <a:lnTo>
                    <a:pt x="190" y="31"/>
                  </a:lnTo>
                  <a:lnTo>
                    <a:pt x="190" y="33"/>
                  </a:lnTo>
                  <a:lnTo>
                    <a:pt x="186" y="37"/>
                  </a:lnTo>
                  <a:lnTo>
                    <a:pt x="186" y="39"/>
                  </a:lnTo>
                  <a:lnTo>
                    <a:pt x="184" y="42"/>
                  </a:lnTo>
                  <a:lnTo>
                    <a:pt x="184" y="44"/>
                  </a:lnTo>
                  <a:lnTo>
                    <a:pt x="181" y="44"/>
                  </a:lnTo>
                  <a:lnTo>
                    <a:pt x="181" y="46"/>
                  </a:lnTo>
                  <a:lnTo>
                    <a:pt x="179" y="48"/>
                  </a:lnTo>
                  <a:lnTo>
                    <a:pt x="179" y="50"/>
                  </a:lnTo>
                  <a:lnTo>
                    <a:pt x="177" y="53"/>
                  </a:lnTo>
                  <a:lnTo>
                    <a:pt x="177" y="55"/>
                  </a:lnTo>
                  <a:lnTo>
                    <a:pt x="175" y="57"/>
                  </a:lnTo>
                  <a:lnTo>
                    <a:pt x="175" y="59"/>
                  </a:lnTo>
                  <a:lnTo>
                    <a:pt x="173" y="61"/>
                  </a:lnTo>
                  <a:lnTo>
                    <a:pt x="173" y="64"/>
                  </a:lnTo>
                  <a:lnTo>
                    <a:pt x="170" y="66"/>
                  </a:lnTo>
                  <a:lnTo>
                    <a:pt x="170" y="68"/>
                  </a:lnTo>
                  <a:lnTo>
                    <a:pt x="168" y="70"/>
                  </a:lnTo>
                  <a:lnTo>
                    <a:pt x="168" y="73"/>
                  </a:lnTo>
                  <a:lnTo>
                    <a:pt x="166" y="75"/>
                  </a:lnTo>
                  <a:lnTo>
                    <a:pt x="166" y="77"/>
                  </a:lnTo>
                  <a:lnTo>
                    <a:pt x="164" y="79"/>
                  </a:lnTo>
                  <a:lnTo>
                    <a:pt x="164" y="81"/>
                  </a:lnTo>
                  <a:lnTo>
                    <a:pt x="159" y="86"/>
                  </a:lnTo>
                  <a:lnTo>
                    <a:pt x="159" y="88"/>
                  </a:lnTo>
                  <a:lnTo>
                    <a:pt x="157" y="90"/>
                  </a:lnTo>
                  <a:lnTo>
                    <a:pt x="157" y="92"/>
                  </a:lnTo>
                  <a:lnTo>
                    <a:pt x="155" y="92"/>
                  </a:lnTo>
                  <a:lnTo>
                    <a:pt x="155" y="95"/>
                  </a:lnTo>
                  <a:lnTo>
                    <a:pt x="153" y="97"/>
                  </a:lnTo>
                  <a:lnTo>
                    <a:pt x="153" y="99"/>
                  </a:lnTo>
                  <a:lnTo>
                    <a:pt x="151" y="101"/>
                  </a:lnTo>
                  <a:lnTo>
                    <a:pt x="151" y="103"/>
                  </a:lnTo>
                  <a:lnTo>
                    <a:pt x="148" y="103"/>
                  </a:lnTo>
                  <a:lnTo>
                    <a:pt x="148" y="108"/>
                  </a:lnTo>
                  <a:lnTo>
                    <a:pt x="146" y="108"/>
                  </a:lnTo>
                  <a:lnTo>
                    <a:pt x="146" y="110"/>
                  </a:lnTo>
                  <a:lnTo>
                    <a:pt x="144" y="110"/>
                  </a:lnTo>
                  <a:lnTo>
                    <a:pt x="144" y="112"/>
                  </a:lnTo>
                  <a:lnTo>
                    <a:pt x="140" y="112"/>
                  </a:lnTo>
                  <a:lnTo>
                    <a:pt x="140" y="108"/>
                  </a:lnTo>
                  <a:lnTo>
                    <a:pt x="135" y="103"/>
                  </a:lnTo>
                  <a:lnTo>
                    <a:pt x="133" y="101"/>
                  </a:lnTo>
                  <a:lnTo>
                    <a:pt x="131" y="101"/>
                  </a:lnTo>
                  <a:lnTo>
                    <a:pt x="131" y="99"/>
                  </a:lnTo>
                  <a:lnTo>
                    <a:pt x="128" y="99"/>
                  </a:lnTo>
                  <a:lnTo>
                    <a:pt x="128" y="97"/>
                  </a:lnTo>
                  <a:lnTo>
                    <a:pt x="124" y="97"/>
                  </a:lnTo>
                  <a:lnTo>
                    <a:pt x="124" y="95"/>
                  </a:lnTo>
                  <a:lnTo>
                    <a:pt x="122" y="95"/>
                  </a:lnTo>
                  <a:lnTo>
                    <a:pt x="120" y="92"/>
                  </a:lnTo>
                  <a:lnTo>
                    <a:pt x="117" y="92"/>
                  </a:lnTo>
                  <a:lnTo>
                    <a:pt x="117" y="90"/>
                  </a:lnTo>
                  <a:lnTo>
                    <a:pt x="115" y="90"/>
                  </a:lnTo>
                  <a:lnTo>
                    <a:pt x="111" y="86"/>
                  </a:lnTo>
                  <a:lnTo>
                    <a:pt x="109" y="86"/>
                  </a:lnTo>
                  <a:lnTo>
                    <a:pt x="109" y="84"/>
                  </a:lnTo>
                  <a:lnTo>
                    <a:pt x="104" y="84"/>
                  </a:lnTo>
                  <a:lnTo>
                    <a:pt x="104" y="81"/>
                  </a:lnTo>
                  <a:lnTo>
                    <a:pt x="102" y="81"/>
                  </a:lnTo>
                  <a:lnTo>
                    <a:pt x="102" y="79"/>
                  </a:lnTo>
                  <a:lnTo>
                    <a:pt x="100" y="79"/>
                  </a:lnTo>
                  <a:lnTo>
                    <a:pt x="95" y="75"/>
                  </a:lnTo>
                  <a:lnTo>
                    <a:pt x="91" y="70"/>
                  </a:lnTo>
                  <a:lnTo>
                    <a:pt x="87" y="66"/>
                  </a:lnTo>
                  <a:lnTo>
                    <a:pt x="87" y="64"/>
                  </a:lnTo>
                  <a:lnTo>
                    <a:pt x="84" y="61"/>
                  </a:lnTo>
                  <a:lnTo>
                    <a:pt x="87" y="61"/>
                  </a:lnTo>
                  <a:close/>
                </a:path>
              </a:pathLst>
            </a:custGeom>
            <a:solidFill>
              <a:srgbClr val="a1612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Freeform 82"/>
            <p:cNvSpPr/>
            <p:nvPr/>
          </p:nvSpPr>
          <p:spPr>
            <a:xfrm>
              <a:off x="2286000" y="2367000"/>
              <a:ext cx="511200" cy="231840"/>
            </a:xfrm>
            <a:custGeom>
              <a:avLst/>
              <a:gdLst>
                <a:gd name="textAreaLeft" fmla="*/ 0 w 511200"/>
                <a:gd name="textAreaRight" fmla="*/ 511200 w 511200"/>
                <a:gd name="textAreaTop" fmla="*/ 0 h 231840"/>
                <a:gd name="textAreaBottom" fmla="*/ 232200 h 231840"/>
              </a:gdLst>
              <a:ahLst/>
              <a:rect l="textAreaLeft" t="textAreaTop" r="textAreaRight" b="textAreaBottom"/>
              <a:pathLst>
                <a:path w="322" h="146">
                  <a:moveTo>
                    <a:pt x="0" y="71"/>
                  </a:moveTo>
                  <a:lnTo>
                    <a:pt x="7" y="93"/>
                  </a:lnTo>
                  <a:lnTo>
                    <a:pt x="18" y="113"/>
                  </a:lnTo>
                  <a:lnTo>
                    <a:pt x="35" y="128"/>
                  </a:lnTo>
                  <a:lnTo>
                    <a:pt x="60" y="139"/>
                  </a:lnTo>
                  <a:lnTo>
                    <a:pt x="93" y="146"/>
                  </a:lnTo>
                  <a:lnTo>
                    <a:pt x="135" y="146"/>
                  </a:lnTo>
                  <a:lnTo>
                    <a:pt x="179" y="139"/>
                  </a:lnTo>
                  <a:lnTo>
                    <a:pt x="225" y="126"/>
                  </a:lnTo>
                  <a:lnTo>
                    <a:pt x="265" y="110"/>
                  </a:lnTo>
                  <a:lnTo>
                    <a:pt x="298" y="90"/>
                  </a:lnTo>
                  <a:lnTo>
                    <a:pt x="311" y="79"/>
                  </a:lnTo>
                  <a:lnTo>
                    <a:pt x="318" y="68"/>
                  </a:lnTo>
                  <a:lnTo>
                    <a:pt x="322" y="57"/>
                  </a:lnTo>
                  <a:lnTo>
                    <a:pt x="322" y="46"/>
                  </a:lnTo>
                  <a:lnTo>
                    <a:pt x="318" y="37"/>
                  </a:lnTo>
                  <a:lnTo>
                    <a:pt x="307" y="31"/>
                  </a:lnTo>
                  <a:lnTo>
                    <a:pt x="280" y="18"/>
                  </a:lnTo>
                  <a:lnTo>
                    <a:pt x="245" y="9"/>
                  </a:lnTo>
                  <a:lnTo>
                    <a:pt x="210" y="2"/>
                  </a:lnTo>
                  <a:lnTo>
                    <a:pt x="190" y="0"/>
                  </a:lnTo>
                  <a:lnTo>
                    <a:pt x="155" y="0"/>
                  </a:lnTo>
                  <a:lnTo>
                    <a:pt x="126" y="2"/>
                  </a:lnTo>
                  <a:lnTo>
                    <a:pt x="77" y="15"/>
                  </a:lnTo>
                  <a:lnTo>
                    <a:pt x="0" y="71"/>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Freeform 83"/>
            <p:cNvSpPr/>
            <p:nvPr/>
          </p:nvSpPr>
          <p:spPr>
            <a:xfrm>
              <a:off x="1000080" y="2254320"/>
              <a:ext cx="514440" cy="350640"/>
            </a:xfrm>
            <a:custGeom>
              <a:avLst/>
              <a:gdLst>
                <a:gd name="textAreaLeft" fmla="*/ 0 w 514440"/>
                <a:gd name="textAreaRight" fmla="*/ 514440 w 514440"/>
                <a:gd name="textAreaTop" fmla="*/ 0 h 350640"/>
                <a:gd name="textAreaBottom" fmla="*/ 351000 h 350640"/>
              </a:gdLst>
              <a:ahLst/>
              <a:rect l="textAreaLeft" t="textAreaTop" r="textAreaRight" b="textAreaBottom"/>
              <a:pathLst>
                <a:path w="324" h="221">
                  <a:moveTo>
                    <a:pt x="103" y="2"/>
                  </a:moveTo>
                  <a:lnTo>
                    <a:pt x="97" y="13"/>
                  </a:lnTo>
                  <a:lnTo>
                    <a:pt x="81" y="22"/>
                  </a:lnTo>
                  <a:lnTo>
                    <a:pt x="42" y="40"/>
                  </a:lnTo>
                  <a:lnTo>
                    <a:pt x="22" y="49"/>
                  </a:lnTo>
                  <a:lnTo>
                    <a:pt x="9" y="58"/>
                  </a:lnTo>
                  <a:lnTo>
                    <a:pt x="0" y="69"/>
                  </a:lnTo>
                  <a:lnTo>
                    <a:pt x="4" y="80"/>
                  </a:lnTo>
                  <a:lnTo>
                    <a:pt x="15" y="93"/>
                  </a:lnTo>
                  <a:lnTo>
                    <a:pt x="33" y="113"/>
                  </a:lnTo>
                  <a:lnTo>
                    <a:pt x="77" y="155"/>
                  </a:lnTo>
                  <a:lnTo>
                    <a:pt x="126" y="192"/>
                  </a:lnTo>
                  <a:lnTo>
                    <a:pt x="150" y="208"/>
                  </a:lnTo>
                  <a:lnTo>
                    <a:pt x="174" y="217"/>
                  </a:lnTo>
                  <a:lnTo>
                    <a:pt x="198" y="221"/>
                  </a:lnTo>
                  <a:lnTo>
                    <a:pt x="223" y="219"/>
                  </a:lnTo>
                  <a:lnTo>
                    <a:pt x="247" y="214"/>
                  </a:lnTo>
                  <a:lnTo>
                    <a:pt x="269" y="208"/>
                  </a:lnTo>
                  <a:lnTo>
                    <a:pt x="291" y="197"/>
                  </a:lnTo>
                  <a:lnTo>
                    <a:pt x="307" y="186"/>
                  </a:lnTo>
                  <a:lnTo>
                    <a:pt x="320" y="175"/>
                  </a:lnTo>
                  <a:lnTo>
                    <a:pt x="324" y="164"/>
                  </a:lnTo>
                  <a:lnTo>
                    <a:pt x="324" y="142"/>
                  </a:lnTo>
                  <a:lnTo>
                    <a:pt x="315" y="117"/>
                  </a:lnTo>
                  <a:lnTo>
                    <a:pt x="300" y="91"/>
                  </a:lnTo>
                  <a:lnTo>
                    <a:pt x="276" y="64"/>
                  </a:lnTo>
                  <a:lnTo>
                    <a:pt x="267" y="60"/>
                  </a:lnTo>
                  <a:lnTo>
                    <a:pt x="254" y="51"/>
                  </a:lnTo>
                  <a:lnTo>
                    <a:pt x="240" y="40"/>
                  </a:lnTo>
                  <a:lnTo>
                    <a:pt x="232" y="36"/>
                  </a:lnTo>
                  <a:lnTo>
                    <a:pt x="218" y="25"/>
                  </a:lnTo>
                  <a:lnTo>
                    <a:pt x="205" y="18"/>
                  </a:lnTo>
                  <a:lnTo>
                    <a:pt x="183" y="9"/>
                  </a:lnTo>
                  <a:lnTo>
                    <a:pt x="174" y="7"/>
                  </a:lnTo>
                  <a:lnTo>
                    <a:pt x="163" y="5"/>
                  </a:lnTo>
                  <a:lnTo>
                    <a:pt x="141" y="0"/>
                  </a:lnTo>
                  <a:lnTo>
                    <a:pt x="103" y="2"/>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Freeform 84"/>
            <p:cNvSpPr/>
            <p:nvPr/>
          </p:nvSpPr>
          <p:spPr>
            <a:xfrm>
              <a:off x="1108080" y="2023920"/>
              <a:ext cx="515880" cy="230400"/>
            </a:xfrm>
            <a:custGeom>
              <a:avLst/>
              <a:gdLst>
                <a:gd name="textAreaLeft" fmla="*/ 0 w 515880"/>
                <a:gd name="textAreaRight" fmla="*/ 516240 w 515880"/>
                <a:gd name="textAreaTop" fmla="*/ 0 h 230400"/>
                <a:gd name="textAreaBottom" fmla="*/ 230760 h 230400"/>
              </a:gdLst>
              <a:ahLst/>
              <a:rect l="textAreaLeft" t="textAreaTop" r="textAreaRight" b="textAreaBottom"/>
              <a:pathLst>
                <a:path w="325" h="145">
                  <a:moveTo>
                    <a:pt x="0" y="72"/>
                  </a:moveTo>
                  <a:lnTo>
                    <a:pt x="7" y="94"/>
                  </a:lnTo>
                  <a:lnTo>
                    <a:pt x="18" y="114"/>
                  </a:lnTo>
                  <a:lnTo>
                    <a:pt x="33" y="130"/>
                  </a:lnTo>
                  <a:lnTo>
                    <a:pt x="58" y="141"/>
                  </a:lnTo>
                  <a:lnTo>
                    <a:pt x="93" y="145"/>
                  </a:lnTo>
                  <a:lnTo>
                    <a:pt x="135" y="145"/>
                  </a:lnTo>
                  <a:lnTo>
                    <a:pt x="179" y="139"/>
                  </a:lnTo>
                  <a:lnTo>
                    <a:pt x="223" y="128"/>
                  </a:lnTo>
                  <a:lnTo>
                    <a:pt x="265" y="110"/>
                  </a:lnTo>
                  <a:lnTo>
                    <a:pt x="300" y="90"/>
                  </a:lnTo>
                  <a:lnTo>
                    <a:pt x="311" y="79"/>
                  </a:lnTo>
                  <a:lnTo>
                    <a:pt x="320" y="68"/>
                  </a:lnTo>
                  <a:lnTo>
                    <a:pt x="325" y="59"/>
                  </a:lnTo>
                  <a:lnTo>
                    <a:pt x="323" y="48"/>
                  </a:lnTo>
                  <a:lnTo>
                    <a:pt x="316" y="39"/>
                  </a:lnTo>
                  <a:lnTo>
                    <a:pt x="305" y="30"/>
                  </a:lnTo>
                  <a:lnTo>
                    <a:pt x="292" y="22"/>
                  </a:lnTo>
                  <a:lnTo>
                    <a:pt x="274" y="15"/>
                  </a:lnTo>
                  <a:lnTo>
                    <a:pt x="232" y="6"/>
                  </a:lnTo>
                  <a:lnTo>
                    <a:pt x="192" y="0"/>
                  </a:lnTo>
                  <a:lnTo>
                    <a:pt x="157" y="0"/>
                  </a:lnTo>
                  <a:lnTo>
                    <a:pt x="128" y="2"/>
                  </a:lnTo>
                  <a:lnTo>
                    <a:pt x="80" y="17"/>
                  </a:lnTo>
                  <a:lnTo>
                    <a:pt x="0" y="72"/>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Freeform 85"/>
            <p:cNvSpPr/>
            <p:nvPr/>
          </p:nvSpPr>
          <p:spPr>
            <a:xfrm>
              <a:off x="1511280" y="1987560"/>
              <a:ext cx="273240" cy="210960"/>
            </a:xfrm>
            <a:custGeom>
              <a:avLst/>
              <a:gdLst>
                <a:gd name="textAreaLeft" fmla="*/ 0 w 273240"/>
                <a:gd name="textAreaRight" fmla="*/ 273600 w 273240"/>
                <a:gd name="textAreaTop" fmla="*/ 0 h 210960"/>
                <a:gd name="textAreaBottom" fmla="*/ 211320 h 210960"/>
              </a:gdLst>
              <a:ahLst/>
              <a:rect l="textAreaLeft" t="textAreaTop" r="textAreaRight" b="textAreaBottom"/>
              <a:pathLst>
                <a:path w="172" h="133">
                  <a:moveTo>
                    <a:pt x="11" y="23"/>
                  </a:moveTo>
                  <a:lnTo>
                    <a:pt x="9" y="23"/>
                  </a:lnTo>
                  <a:lnTo>
                    <a:pt x="7" y="25"/>
                  </a:lnTo>
                  <a:lnTo>
                    <a:pt x="4" y="25"/>
                  </a:lnTo>
                  <a:lnTo>
                    <a:pt x="4" y="27"/>
                  </a:lnTo>
                  <a:lnTo>
                    <a:pt x="2" y="27"/>
                  </a:lnTo>
                  <a:lnTo>
                    <a:pt x="2" y="29"/>
                  </a:lnTo>
                  <a:lnTo>
                    <a:pt x="0" y="29"/>
                  </a:lnTo>
                  <a:lnTo>
                    <a:pt x="0" y="31"/>
                  </a:lnTo>
                  <a:lnTo>
                    <a:pt x="2" y="31"/>
                  </a:lnTo>
                  <a:lnTo>
                    <a:pt x="2" y="36"/>
                  </a:lnTo>
                  <a:lnTo>
                    <a:pt x="7" y="40"/>
                  </a:lnTo>
                  <a:lnTo>
                    <a:pt x="9" y="42"/>
                  </a:lnTo>
                  <a:lnTo>
                    <a:pt x="11" y="42"/>
                  </a:lnTo>
                  <a:lnTo>
                    <a:pt x="13" y="45"/>
                  </a:lnTo>
                  <a:lnTo>
                    <a:pt x="16" y="45"/>
                  </a:lnTo>
                  <a:lnTo>
                    <a:pt x="16" y="47"/>
                  </a:lnTo>
                  <a:lnTo>
                    <a:pt x="20" y="47"/>
                  </a:lnTo>
                  <a:lnTo>
                    <a:pt x="22" y="49"/>
                  </a:lnTo>
                  <a:lnTo>
                    <a:pt x="24" y="49"/>
                  </a:lnTo>
                  <a:lnTo>
                    <a:pt x="27" y="51"/>
                  </a:lnTo>
                  <a:lnTo>
                    <a:pt x="29" y="51"/>
                  </a:lnTo>
                  <a:lnTo>
                    <a:pt x="31" y="53"/>
                  </a:lnTo>
                  <a:lnTo>
                    <a:pt x="33" y="53"/>
                  </a:lnTo>
                  <a:lnTo>
                    <a:pt x="35" y="56"/>
                  </a:lnTo>
                  <a:lnTo>
                    <a:pt x="38" y="56"/>
                  </a:lnTo>
                  <a:lnTo>
                    <a:pt x="40" y="58"/>
                  </a:lnTo>
                  <a:lnTo>
                    <a:pt x="42" y="58"/>
                  </a:lnTo>
                  <a:lnTo>
                    <a:pt x="44" y="60"/>
                  </a:lnTo>
                  <a:lnTo>
                    <a:pt x="46" y="60"/>
                  </a:lnTo>
                  <a:lnTo>
                    <a:pt x="49" y="62"/>
                  </a:lnTo>
                  <a:lnTo>
                    <a:pt x="51" y="62"/>
                  </a:lnTo>
                  <a:lnTo>
                    <a:pt x="53" y="64"/>
                  </a:lnTo>
                  <a:lnTo>
                    <a:pt x="55" y="64"/>
                  </a:lnTo>
                  <a:lnTo>
                    <a:pt x="55" y="67"/>
                  </a:lnTo>
                  <a:lnTo>
                    <a:pt x="60" y="67"/>
                  </a:lnTo>
                  <a:lnTo>
                    <a:pt x="60" y="69"/>
                  </a:lnTo>
                  <a:lnTo>
                    <a:pt x="62" y="69"/>
                  </a:lnTo>
                  <a:lnTo>
                    <a:pt x="66" y="73"/>
                  </a:lnTo>
                  <a:lnTo>
                    <a:pt x="66" y="76"/>
                  </a:lnTo>
                  <a:lnTo>
                    <a:pt x="69" y="76"/>
                  </a:lnTo>
                  <a:lnTo>
                    <a:pt x="69" y="80"/>
                  </a:lnTo>
                  <a:lnTo>
                    <a:pt x="66" y="82"/>
                  </a:lnTo>
                  <a:lnTo>
                    <a:pt x="66" y="84"/>
                  </a:lnTo>
                  <a:lnTo>
                    <a:pt x="64" y="84"/>
                  </a:lnTo>
                  <a:lnTo>
                    <a:pt x="64" y="89"/>
                  </a:lnTo>
                  <a:lnTo>
                    <a:pt x="62" y="89"/>
                  </a:lnTo>
                  <a:lnTo>
                    <a:pt x="62" y="91"/>
                  </a:lnTo>
                  <a:lnTo>
                    <a:pt x="60" y="91"/>
                  </a:lnTo>
                  <a:lnTo>
                    <a:pt x="60" y="93"/>
                  </a:lnTo>
                  <a:lnTo>
                    <a:pt x="57" y="93"/>
                  </a:lnTo>
                  <a:lnTo>
                    <a:pt x="57" y="95"/>
                  </a:lnTo>
                  <a:lnTo>
                    <a:pt x="55" y="95"/>
                  </a:lnTo>
                  <a:lnTo>
                    <a:pt x="55" y="98"/>
                  </a:lnTo>
                  <a:lnTo>
                    <a:pt x="53" y="98"/>
                  </a:lnTo>
                  <a:lnTo>
                    <a:pt x="53" y="100"/>
                  </a:lnTo>
                  <a:lnTo>
                    <a:pt x="51" y="100"/>
                  </a:lnTo>
                  <a:lnTo>
                    <a:pt x="51" y="102"/>
                  </a:lnTo>
                  <a:lnTo>
                    <a:pt x="49" y="102"/>
                  </a:lnTo>
                  <a:lnTo>
                    <a:pt x="49" y="104"/>
                  </a:lnTo>
                  <a:lnTo>
                    <a:pt x="46" y="104"/>
                  </a:lnTo>
                  <a:lnTo>
                    <a:pt x="42" y="109"/>
                  </a:lnTo>
                  <a:lnTo>
                    <a:pt x="38" y="113"/>
                  </a:lnTo>
                  <a:lnTo>
                    <a:pt x="38" y="115"/>
                  </a:lnTo>
                  <a:lnTo>
                    <a:pt x="35" y="115"/>
                  </a:lnTo>
                  <a:lnTo>
                    <a:pt x="35" y="120"/>
                  </a:lnTo>
                  <a:lnTo>
                    <a:pt x="33" y="120"/>
                  </a:lnTo>
                  <a:lnTo>
                    <a:pt x="33" y="124"/>
                  </a:lnTo>
                  <a:lnTo>
                    <a:pt x="35" y="124"/>
                  </a:lnTo>
                  <a:lnTo>
                    <a:pt x="35" y="128"/>
                  </a:lnTo>
                  <a:lnTo>
                    <a:pt x="38" y="128"/>
                  </a:lnTo>
                  <a:lnTo>
                    <a:pt x="38" y="131"/>
                  </a:lnTo>
                  <a:lnTo>
                    <a:pt x="44" y="131"/>
                  </a:lnTo>
                  <a:lnTo>
                    <a:pt x="44" y="133"/>
                  </a:lnTo>
                  <a:lnTo>
                    <a:pt x="53" y="133"/>
                  </a:lnTo>
                  <a:lnTo>
                    <a:pt x="53" y="131"/>
                  </a:lnTo>
                  <a:lnTo>
                    <a:pt x="60" y="131"/>
                  </a:lnTo>
                  <a:lnTo>
                    <a:pt x="62" y="128"/>
                  </a:lnTo>
                  <a:lnTo>
                    <a:pt x="66" y="128"/>
                  </a:lnTo>
                  <a:lnTo>
                    <a:pt x="69" y="126"/>
                  </a:lnTo>
                  <a:lnTo>
                    <a:pt x="73" y="126"/>
                  </a:lnTo>
                  <a:lnTo>
                    <a:pt x="73" y="124"/>
                  </a:lnTo>
                  <a:lnTo>
                    <a:pt x="77" y="124"/>
                  </a:lnTo>
                  <a:lnTo>
                    <a:pt x="80" y="122"/>
                  </a:lnTo>
                  <a:lnTo>
                    <a:pt x="82" y="122"/>
                  </a:lnTo>
                  <a:lnTo>
                    <a:pt x="84" y="120"/>
                  </a:lnTo>
                  <a:lnTo>
                    <a:pt x="86" y="120"/>
                  </a:lnTo>
                  <a:lnTo>
                    <a:pt x="88" y="117"/>
                  </a:lnTo>
                  <a:lnTo>
                    <a:pt x="93" y="117"/>
                  </a:lnTo>
                  <a:lnTo>
                    <a:pt x="95" y="115"/>
                  </a:lnTo>
                  <a:lnTo>
                    <a:pt x="99" y="115"/>
                  </a:lnTo>
                  <a:lnTo>
                    <a:pt x="99" y="113"/>
                  </a:lnTo>
                  <a:lnTo>
                    <a:pt x="106" y="113"/>
                  </a:lnTo>
                  <a:lnTo>
                    <a:pt x="106" y="111"/>
                  </a:lnTo>
                  <a:lnTo>
                    <a:pt x="110" y="111"/>
                  </a:lnTo>
                  <a:lnTo>
                    <a:pt x="113" y="109"/>
                  </a:lnTo>
                  <a:lnTo>
                    <a:pt x="121" y="109"/>
                  </a:lnTo>
                  <a:lnTo>
                    <a:pt x="121" y="106"/>
                  </a:lnTo>
                  <a:lnTo>
                    <a:pt x="141" y="106"/>
                  </a:lnTo>
                  <a:lnTo>
                    <a:pt x="144" y="109"/>
                  </a:lnTo>
                  <a:lnTo>
                    <a:pt x="155" y="109"/>
                  </a:lnTo>
                  <a:lnTo>
                    <a:pt x="157" y="111"/>
                  </a:lnTo>
                  <a:lnTo>
                    <a:pt x="172" y="111"/>
                  </a:lnTo>
                  <a:lnTo>
                    <a:pt x="172" y="106"/>
                  </a:lnTo>
                  <a:lnTo>
                    <a:pt x="170" y="106"/>
                  </a:lnTo>
                  <a:lnTo>
                    <a:pt x="170" y="104"/>
                  </a:lnTo>
                  <a:lnTo>
                    <a:pt x="168" y="102"/>
                  </a:lnTo>
                  <a:lnTo>
                    <a:pt x="166" y="102"/>
                  </a:lnTo>
                  <a:lnTo>
                    <a:pt x="166" y="100"/>
                  </a:lnTo>
                  <a:lnTo>
                    <a:pt x="163" y="100"/>
                  </a:lnTo>
                  <a:lnTo>
                    <a:pt x="163" y="98"/>
                  </a:lnTo>
                  <a:lnTo>
                    <a:pt x="161" y="98"/>
                  </a:lnTo>
                  <a:lnTo>
                    <a:pt x="161" y="95"/>
                  </a:lnTo>
                  <a:lnTo>
                    <a:pt x="157" y="91"/>
                  </a:lnTo>
                  <a:lnTo>
                    <a:pt x="157" y="89"/>
                  </a:lnTo>
                  <a:lnTo>
                    <a:pt x="155" y="87"/>
                  </a:lnTo>
                  <a:lnTo>
                    <a:pt x="155" y="82"/>
                  </a:lnTo>
                  <a:lnTo>
                    <a:pt x="152" y="80"/>
                  </a:lnTo>
                  <a:lnTo>
                    <a:pt x="152" y="73"/>
                  </a:lnTo>
                  <a:lnTo>
                    <a:pt x="155" y="71"/>
                  </a:lnTo>
                  <a:lnTo>
                    <a:pt x="155" y="60"/>
                  </a:lnTo>
                  <a:lnTo>
                    <a:pt x="157" y="58"/>
                  </a:lnTo>
                  <a:lnTo>
                    <a:pt x="157" y="49"/>
                  </a:lnTo>
                  <a:lnTo>
                    <a:pt x="159" y="47"/>
                  </a:lnTo>
                  <a:lnTo>
                    <a:pt x="159" y="36"/>
                  </a:lnTo>
                  <a:lnTo>
                    <a:pt x="161" y="34"/>
                  </a:lnTo>
                  <a:lnTo>
                    <a:pt x="161" y="16"/>
                  </a:lnTo>
                  <a:lnTo>
                    <a:pt x="159" y="14"/>
                  </a:lnTo>
                  <a:lnTo>
                    <a:pt x="159" y="9"/>
                  </a:lnTo>
                  <a:lnTo>
                    <a:pt x="157" y="9"/>
                  </a:lnTo>
                  <a:lnTo>
                    <a:pt x="157" y="7"/>
                  </a:lnTo>
                  <a:lnTo>
                    <a:pt x="155" y="7"/>
                  </a:lnTo>
                  <a:lnTo>
                    <a:pt x="155" y="5"/>
                  </a:lnTo>
                  <a:lnTo>
                    <a:pt x="152" y="5"/>
                  </a:lnTo>
                  <a:lnTo>
                    <a:pt x="150" y="3"/>
                  </a:lnTo>
                  <a:lnTo>
                    <a:pt x="144" y="3"/>
                  </a:lnTo>
                  <a:lnTo>
                    <a:pt x="141" y="0"/>
                  </a:lnTo>
                  <a:lnTo>
                    <a:pt x="119" y="0"/>
                  </a:lnTo>
                  <a:lnTo>
                    <a:pt x="117" y="3"/>
                  </a:lnTo>
                  <a:lnTo>
                    <a:pt x="99" y="3"/>
                  </a:lnTo>
                  <a:lnTo>
                    <a:pt x="97" y="5"/>
                  </a:lnTo>
                  <a:lnTo>
                    <a:pt x="86" y="5"/>
                  </a:lnTo>
                  <a:lnTo>
                    <a:pt x="82" y="7"/>
                  </a:lnTo>
                  <a:lnTo>
                    <a:pt x="73" y="7"/>
                  </a:lnTo>
                  <a:lnTo>
                    <a:pt x="69" y="9"/>
                  </a:lnTo>
                  <a:lnTo>
                    <a:pt x="62" y="9"/>
                  </a:lnTo>
                  <a:lnTo>
                    <a:pt x="57" y="11"/>
                  </a:lnTo>
                  <a:lnTo>
                    <a:pt x="53" y="11"/>
                  </a:lnTo>
                  <a:lnTo>
                    <a:pt x="49" y="14"/>
                  </a:lnTo>
                  <a:lnTo>
                    <a:pt x="40" y="14"/>
                  </a:lnTo>
                  <a:lnTo>
                    <a:pt x="38" y="16"/>
                  </a:lnTo>
                  <a:lnTo>
                    <a:pt x="31" y="16"/>
                  </a:lnTo>
                  <a:lnTo>
                    <a:pt x="29" y="18"/>
                  </a:lnTo>
                  <a:lnTo>
                    <a:pt x="22" y="18"/>
                  </a:lnTo>
                  <a:lnTo>
                    <a:pt x="22" y="20"/>
                  </a:lnTo>
                  <a:lnTo>
                    <a:pt x="16" y="20"/>
                  </a:lnTo>
                  <a:lnTo>
                    <a:pt x="16" y="23"/>
                  </a:lnTo>
                  <a:lnTo>
                    <a:pt x="13" y="23"/>
                  </a:lnTo>
                  <a:lnTo>
                    <a:pt x="13" y="25"/>
                  </a:lnTo>
                  <a:lnTo>
                    <a:pt x="16" y="25"/>
                  </a:lnTo>
                  <a:lnTo>
                    <a:pt x="16" y="27"/>
                  </a:lnTo>
                  <a:lnTo>
                    <a:pt x="20" y="27"/>
                  </a:lnTo>
                  <a:lnTo>
                    <a:pt x="20" y="29"/>
                  </a:lnTo>
                  <a:lnTo>
                    <a:pt x="27" y="29"/>
                  </a:lnTo>
                  <a:lnTo>
                    <a:pt x="29" y="31"/>
                  </a:lnTo>
                  <a:lnTo>
                    <a:pt x="35" y="31"/>
                  </a:lnTo>
                  <a:lnTo>
                    <a:pt x="38" y="34"/>
                  </a:lnTo>
                  <a:lnTo>
                    <a:pt x="57" y="34"/>
                  </a:lnTo>
                  <a:lnTo>
                    <a:pt x="57" y="36"/>
                  </a:lnTo>
                  <a:lnTo>
                    <a:pt x="91" y="36"/>
                  </a:lnTo>
                  <a:lnTo>
                    <a:pt x="91" y="34"/>
                  </a:lnTo>
                  <a:lnTo>
                    <a:pt x="102" y="34"/>
                  </a:lnTo>
                  <a:lnTo>
                    <a:pt x="104" y="31"/>
                  </a:lnTo>
                  <a:lnTo>
                    <a:pt x="110" y="31"/>
                  </a:lnTo>
                  <a:lnTo>
                    <a:pt x="113" y="29"/>
                  </a:lnTo>
                  <a:lnTo>
                    <a:pt x="121" y="29"/>
                  </a:lnTo>
                  <a:lnTo>
                    <a:pt x="121" y="27"/>
                  </a:lnTo>
                  <a:lnTo>
                    <a:pt x="137" y="27"/>
                  </a:lnTo>
                  <a:lnTo>
                    <a:pt x="139" y="29"/>
                  </a:lnTo>
                  <a:lnTo>
                    <a:pt x="139" y="42"/>
                  </a:lnTo>
                  <a:lnTo>
                    <a:pt x="137" y="42"/>
                  </a:lnTo>
                  <a:lnTo>
                    <a:pt x="137" y="49"/>
                  </a:lnTo>
                  <a:lnTo>
                    <a:pt x="135" y="49"/>
                  </a:lnTo>
                  <a:lnTo>
                    <a:pt x="135" y="53"/>
                  </a:lnTo>
                  <a:lnTo>
                    <a:pt x="133" y="56"/>
                  </a:lnTo>
                  <a:lnTo>
                    <a:pt x="133" y="60"/>
                  </a:lnTo>
                  <a:lnTo>
                    <a:pt x="130" y="60"/>
                  </a:lnTo>
                  <a:lnTo>
                    <a:pt x="130" y="71"/>
                  </a:lnTo>
                  <a:lnTo>
                    <a:pt x="128" y="71"/>
                  </a:lnTo>
                  <a:lnTo>
                    <a:pt x="130" y="71"/>
                  </a:lnTo>
                  <a:lnTo>
                    <a:pt x="130" y="82"/>
                  </a:lnTo>
                  <a:lnTo>
                    <a:pt x="133" y="82"/>
                  </a:lnTo>
                  <a:lnTo>
                    <a:pt x="133" y="87"/>
                  </a:lnTo>
                  <a:lnTo>
                    <a:pt x="135" y="87"/>
                  </a:lnTo>
                  <a:lnTo>
                    <a:pt x="135" y="91"/>
                  </a:lnTo>
                  <a:lnTo>
                    <a:pt x="137" y="93"/>
                  </a:lnTo>
                  <a:lnTo>
                    <a:pt x="139" y="93"/>
                  </a:lnTo>
                  <a:lnTo>
                    <a:pt x="139" y="91"/>
                  </a:lnTo>
                  <a:lnTo>
                    <a:pt x="135" y="91"/>
                  </a:lnTo>
                  <a:lnTo>
                    <a:pt x="135" y="93"/>
                  </a:lnTo>
                  <a:lnTo>
                    <a:pt x="124" y="93"/>
                  </a:lnTo>
                  <a:lnTo>
                    <a:pt x="121" y="95"/>
                  </a:lnTo>
                  <a:lnTo>
                    <a:pt x="113" y="95"/>
                  </a:lnTo>
                  <a:lnTo>
                    <a:pt x="113" y="98"/>
                  </a:lnTo>
                  <a:lnTo>
                    <a:pt x="102" y="98"/>
                  </a:lnTo>
                  <a:lnTo>
                    <a:pt x="99" y="100"/>
                  </a:lnTo>
                  <a:lnTo>
                    <a:pt x="91" y="100"/>
                  </a:lnTo>
                  <a:lnTo>
                    <a:pt x="88" y="102"/>
                  </a:lnTo>
                  <a:lnTo>
                    <a:pt x="75" y="102"/>
                  </a:lnTo>
                  <a:lnTo>
                    <a:pt x="73" y="100"/>
                  </a:lnTo>
                  <a:lnTo>
                    <a:pt x="73" y="93"/>
                  </a:lnTo>
                  <a:lnTo>
                    <a:pt x="75" y="93"/>
                  </a:lnTo>
                  <a:lnTo>
                    <a:pt x="75" y="91"/>
                  </a:lnTo>
                  <a:lnTo>
                    <a:pt x="77" y="89"/>
                  </a:lnTo>
                  <a:lnTo>
                    <a:pt x="77" y="87"/>
                  </a:lnTo>
                  <a:lnTo>
                    <a:pt x="80" y="87"/>
                  </a:lnTo>
                  <a:lnTo>
                    <a:pt x="80" y="82"/>
                  </a:lnTo>
                  <a:lnTo>
                    <a:pt x="82" y="82"/>
                  </a:lnTo>
                  <a:lnTo>
                    <a:pt x="82" y="69"/>
                  </a:lnTo>
                  <a:lnTo>
                    <a:pt x="80" y="69"/>
                  </a:lnTo>
                  <a:lnTo>
                    <a:pt x="80" y="67"/>
                  </a:lnTo>
                  <a:lnTo>
                    <a:pt x="77" y="67"/>
                  </a:lnTo>
                  <a:lnTo>
                    <a:pt x="77" y="64"/>
                  </a:lnTo>
                  <a:lnTo>
                    <a:pt x="75" y="64"/>
                  </a:lnTo>
                  <a:lnTo>
                    <a:pt x="75" y="62"/>
                  </a:lnTo>
                  <a:lnTo>
                    <a:pt x="73" y="62"/>
                  </a:lnTo>
                  <a:lnTo>
                    <a:pt x="73" y="60"/>
                  </a:lnTo>
                  <a:lnTo>
                    <a:pt x="71" y="60"/>
                  </a:lnTo>
                  <a:lnTo>
                    <a:pt x="71" y="58"/>
                  </a:lnTo>
                  <a:lnTo>
                    <a:pt x="69" y="58"/>
                  </a:lnTo>
                  <a:lnTo>
                    <a:pt x="64" y="53"/>
                  </a:lnTo>
                  <a:lnTo>
                    <a:pt x="62" y="53"/>
                  </a:lnTo>
                  <a:lnTo>
                    <a:pt x="60" y="51"/>
                  </a:lnTo>
                  <a:lnTo>
                    <a:pt x="57" y="51"/>
                  </a:lnTo>
                  <a:lnTo>
                    <a:pt x="57" y="49"/>
                  </a:lnTo>
                  <a:lnTo>
                    <a:pt x="55" y="49"/>
                  </a:lnTo>
                  <a:lnTo>
                    <a:pt x="55" y="47"/>
                  </a:lnTo>
                  <a:lnTo>
                    <a:pt x="51" y="47"/>
                  </a:lnTo>
                  <a:lnTo>
                    <a:pt x="51" y="45"/>
                  </a:lnTo>
                  <a:lnTo>
                    <a:pt x="49" y="45"/>
                  </a:lnTo>
                  <a:lnTo>
                    <a:pt x="46" y="42"/>
                  </a:lnTo>
                  <a:lnTo>
                    <a:pt x="44" y="42"/>
                  </a:lnTo>
                  <a:lnTo>
                    <a:pt x="42" y="40"/>
                  </a:lnTo>
                  <a:lnTo>
                    <a:pt x="40" y="40"/>
                  </a:lnTo>
                  <a:lnTo>
                    <a:pt x="35" y="36"/>
                  </a:lnTo>
                  <a:lnTo>
                    <a:pt x="31" y="36"/>
                  </a:lnTo>
                  <a:lnTo>
                    <a:pt x="29" y="34"/>
                  </a:lnTo>
                  <a:lnTo>
                    <a:pt x="11" y="23"/>
                  </a:lnTo>
                  <a:close/>
                </a:path>
              </a:pathLst>
            </a:custGeom>
            <a:solidFill>
              <a:srgbClr val="a1612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Freeform 86"/>
            <p:cNvSpPr/>
            <p:nvPr/>
          </p:nvSpPr>
          <p:spPr>
            <a:xfrm>
              <a:off x="1473120" y="1739880"/>
              <a:ext cx="501840" cy="290520"/>
            </a:xfrm>
            <a:custGeom>
              <a:avLst/>
              <a:gdLst>
                <a:gd name="textAreaLeft" fmla="*/ 0 w 501840"/>
                <a:gd name="textAreaRight" fmla="*/ 502200 w 501840"/>
                <a:gd name="textAreaTop" fmla="*/ 0 h 290520"/>
                <a:gd name="textAreaBottom" fmla="*/ 290520 h 290520"/>
              </a:gdLst>
              <a:ahLst/>
              <a:rect l="textAreaLeft" t="textAreaTop" r="textAreaRight" b="textAreaBottom"/>
              <a:pathLst>
                <a:path w="316" h="183">
                  <a:moveTo>
                    <a:pt x="4" y="90"/>
                  </a:moveTo>
                  <a:lnTo>
                    <a:pt x="0" y="117"/>
                  </a:lnTo>
                  <a:lnTo>
                    <a:pt x="0" y="141"/>
                  </a:lnTo>
                  <a:lnTo>
                    <a:pt x="9" y="161"/>
                  </a:lnTo>
                  <a:lnTo>
                    <a:pt x="17" y="167"/>
                  </a:lnTo>
                  <a:lnTo>
                    <a:pt x="28" y="174"/>
                  </a:lnTo>
                  <a:lnTo>
                    <a:pt x="44" y="179"/>
                  </a:lnTo>
                  <a:lnTo>
                    <a:pt x="62" y="183"/>
                  </a:lnTo>
                  <a:lnTo>
                    <a:pt x="106" y="183"/>
                  </a:lnTo>
                  <a:lnTo>
                    <a:pt x="154" y="174"/>
                  </a:lnTo>
                  <a:lnTo>
                    <a:pt x="203" y="159"/>
                  </a:lnTo>
                  <a:lnTo>
                    <a:pt x="249" y="137"/>
                  </a:lnTo>
                  <a:lnTo>
                    <a:pt x="287" y="108"/>
                  </a:lnTo>
                  <a:lnTo>
                    <a:pt x="302" y="95"/>
                  </a:lnTo>
                  <a:lnTo>
                    <a:pt x="311" y="79"/>
                  </a:lnTo>
                  <a:lnTo>
                    <a:pt x="316" y="66"/>
                  </a:lnTo>
                  <a:lnTo>
                    <a:pt x="316" y="53"/>
                  </a:lnTo>
                  <a:lnTo>
                    <a:pt x="311" y="42"/>
                  </a:lnTo>
                  <a:lnTo>
                    <a:pt x="300" y="33"/>
                  </a:lnTo>
                  <a:lnTo>
                    <a:pt x="285" y="24"/>
                  </a:lnTo>
                  <a:lnTo>
                    <a:pt x="269" y="17"/>
                  </a:lnTo>
                  <a:lnTo>
                    <a:pt x="227" y="6"/>
                  </a:lnTo>
                  <a:lnTo>
                    <a:pt x="187" y="0"/>
                  </a:lnTo>
                  <a:lnTo>
                    <a:pt x="152" y="0"/>
                  </a:lnTo>
                  <a:lnTo>
                    <a:pt x="123" y="2"/>
                  </a:lnTo>
                  <a:lnTo>
                    <a:pt x="75" y="17"/>
                  </a:lnTo>
                  <a:lnTo>
                    <a:pt x="4" y="9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Freeform 87"/>
            <p:cNvSpPr/>
            <p:nvPr/>
          </p:nvSpPr>
          <p:spPr>
            <a:xfrm>
              <a:off x="1469880" y="2152800"/>
              <a:ext cx="511200" cy="336240"/>
            </a:xfrm>
            <a:custGeom>
              <a:avLst/>
              <a:gdLst/>
              <a:ahLst/>
              <a:rect l="l" t="t" r="r" b="b"/>
              <a:pathLst>
                <a:path w="322" h="212">
                  <a:moveTo>
                    <a:pt x="0" y="139"/>
                  </a:moveTo>
                  <a:lnTo>
                    <a:pt x="6" y="161"/>
                  </a:lnTo>
                  <a:lnTo>
                    <a:pt x="17" y="181"/>
                  </a:lnTo>
                  <a:lnTo>
                    <a:pt x="33" y="197"/>
                  </a:lnTo>
                  <a:lnTo>
                    <a:pt x="57" y="208"/>
                  </a:lnTo>
                  <a:lnTo>
                    <a:pt x="92" y="212"/>
                  </a:lnTo>
                  <a:lnTo>
                    <a:pt x="134" y="212"/>
                  </a:lnTo>
                  <a:lnTo>
                    <a:pt x="178" y="206"/>
                  </a:lnTo>
                  <a:lnTo>
                    <a:pt x="223" y="195"/>
                  </a:lnTo>
                  <a:lnTo>
                    <a:pt x="265" y="177"/>
                  </a:lnTo>
                  <a:lnTo>
                    <a:pt x="298" y="155"/>
                  </a:lnTo>
                  <a:lnTo>
                    <a:pt x="311" y="144"/>
                  </a:lnTo>
                  <a:lnTo>
                    <a:pt x="318" y="130"/>
                  </a:lnTo>
                  <a:lnTo>
                    <a:pt x="322" y="117"/>
                  </a:lnTo>
                  <a:lnTo>
                    <a:pt x="322" y="102"/>
                  </a:lnTo>
                  <a:lnTo>
                    <a:pt x="318" y="89"/>
                  </a:lnTo>
                  <a:lnTo>
                    <a:pt x="306" y="73"/>
                  </a:lnTo>
                  <a:lnTo>
                    <a:pt x="278" y="44"/>
                  </a:lnTo>
                  <a:lnTo>
                    <a:pt x="238" y="20"/>
                  </a:lnTo>
                  <a:lnTo>
                    <a:pt x="198" y="5"/>
                  </a:lnTo>
                  <a:lnTo>
                    <a:pt x="161" y="0"/>
                  </a:lnTo>
                  <a:lnTo>
                    <a:pt x="125" y="2"/>
                  </a:lnTo>
                  <a:lnTo>
                    <a:pt x="61" y="22"/>
                  </a:lnTo>
                  <a:lnTo>
                    <a:pt x="0" y="139"/>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Freeform 88"/>
            <p:cNvSpPr/>
            <p:nvPr/>
          </p:nvSpPr>
          <p:spPr>
            <a:xfrm>
              <a:off x="1735200" y="1984320"/>
              <a:ext cx="452520" cy="243000"/>
            </a:xfrm>
            <a:custGeom>
              <a:avLst/>
              <a:gdLst>
                <a:gd name="textAreaLeft" fmla="*/ 0 w 452520"/>
                <a:gd name="textAreaRight" fmla="*/ 452880 w 452520"/>
                <a:gd name="textAreaTop" fmla="*/ 0 h 243000"/>
                <a:gd name="textAreaBottom" fmla="*/ 243360 h 243000"/>
              </a:gdLst>
              <a:ahLst/>
              <a:rect l="textAreaLeft" t="textAreaTop" r="textAreaRight" b="textAreaBottom"/>
              <a:pathLst>
                <a:path w="285" h="153">
                  <a:moveTo>
                    <a:pt x="9" y="13"/>
                  </a:moveTo>
                  <a:lnTo>
                    <a:pt x="0" y="55"/>
                  </a:lnTo>
                  <a:lnTo>
                    <a:pt x="0" y="75"/>
                  </a:lnTo>
                  <a:lnTo>
                    <a:pt x="7" y="91"/>
                  </a:lnTo>
                  <a:lnTo>
                    <a:pt x="20" y="106"/>
                  </a:lnTo>
                  <a:lnTo>
                    <a:pt x="42" y="117"/>
                  </a:lnTo>
                  <a:lnTo>
                    <a:pt x="73" y="128"/>
                  </a:lnTo>
                  <a:lnTo>
                    <a:pt x="113" y="137"/>
                  </a:lnTo>
                  <a:lnTo>
                    <a:pt x="164" y="146"/>
                  </a:lnTo>
                  <a:lnTo>
                    <a:pt x="215" y="153"/>
                  </a:lnTo>
                  <a:lnTo>
                    <a:pt x="237" y="153"/>
                  </a:lnTo>
                  <a:lnTo>
                    <a:pt x="257" y="150"/>
                  </a:lnTo>
                  <a:lnTo>
                    <a:pt x="272" y="148"/>
                  </a:lnTo>
                  <a:lnTo>
                    <a:pt x="281" y="142"/>
                  </a:lnTo>
                  <a:lnTo>
                    <a:pt x="285" y="133"/>
                  </a:lnTo>
                  <a:lnTo>
                    <a:pt x="283" y="122"/>
                  </a:lnTo>
                  <a:lnTo>
                    <a:pt x="265" y="95"/>
                  </a:lnTo>
                  <a:lnTo>
                    <a:pt x="237" y="66"/>
                  </a:lnTo>
                  <a:lnTo>
                    <a:pt x="204" y="42"/>
                  </a:lnTo>
                  <a:lnTo>
                    <a:pt x="173" y="25"/>
                  </a:lnTo>
                  <a:lnTo>
                    <a:pt x="146" y="13"/>
                  </a:lnTo>
                  <a:lnTo>
                    <a:pt x="98" y="0"/>
                  </a:lnTo>
                  <a:lnTo>
                    <a:pt x="9" y="13"/>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Freeform 89"/>
            <p:cNvSpPr/>
            <p:nvPr/>
          </p:nvSpPr>
          <p:spPr>
            <a:xfrm>
              <a:off x="1487520" y="1589040"/>
              <a:ext cx="500040" cy="290520"/>
            </a:xfrm>
            <a:custGeom>
              <a:avLst/>
              <a:gdLst>
                <a:gd name="textAreaLeft" fmla="*/ 0 w 500040"/>
                <a:gd name="textAreaRight" fmla="*/ 500400 w 500040"/>
                <a:gd name="textAreaTop" fmla="*/ 0 h 290520"/>
                <a:gd name="textAreaBottom" fmla="*/ 290520 h 290520"/>
              </a:gdLst>
              <a:ahLst/>
              <a:rect l="textAreaLeft" t="textAreaTop" r="textAreaRight" b="textAreaBottom"/>
              <a:pathLst>
                <a:path w="315" h="183">
                  <a:moveTo>
                    <a:pt x="8" y="53"/>
                  </a:moveTo>
                  <a:lnTo>
                    <a:pt x="13" y="57"/>
                  </a:lnTo>
                  <a:lnTo>
                    <a:pt x="15" y="64"/>
                  </a:lnTo>
                  <a:lnTo>
                    <a:pt x="15" y="88"/>
                  </a:lnTo>
                  <a:lnTo>
                    <a:pt x="13" y="108"/>
                  </a:lnTo>
                  <a:lnTo>
                    <a:pt x="8" y="132"/>
                  </a:lnTo>
                  <a:lnTo>
                    <a:pt x="4" y="154"/>
                  </a:lnTo>
                  <a:lnTo>
                    <a:pt x="2" y="172"/>
                  </a:lnTo>
                  <a:lnTo>
                    <a:pt x="2" y="183"/>
                  </a:lnTo>
                  <a:lnTo>
                    <a:pt x="6" y="183"/>
                  </a:lnTo>
                  <a:lnTo>
                    <a:pt x="15" y="179"/>
                  </a:lnTo>
                  <a:lnTo>
                    <a:pt x="24" y="168"/>
                  </a:lnTo>
                  <a:lnTo>
                    <a:pt x="37" y="150"/>
                  </a:lnTo>
                  <a:lnTo>
                    <a:pt x="55" y="132"/>
                  </a:lnTo>
                  <a:lnTo>
                    <a:pt x="72" y="119"/>
                  </a:lnTo>
                  <a:lnTo>
                    <a:pt x="97" y="112"/>
                  </a:lnTo>
                  <a:lnTo>
                    <a:pt x="123" y="108"/>
                  </a:lnTo>
                  <a:lnTo>
                    <a:pt x="181" y="108"/>
                  </a:lnTo>
                  <a:lnTo>
                    <a:pt x="209" y="110"/>
                  </a:lnTo>
                  <a:lnTo>
                    <a:pt x="236" y="117"/>
                  </a:lnTo>
                  <a:lnTo>
                    <a:pt x="262" y="126"/>
                  </a:lnTo>
                  <a:lnTo>
                    <a:pt x="284" y="130"/>
                  </a:lnTo>
                  <a:lnTo>
                    <a:pt x="300" y="132"/>
                  </a:lnTo>
                  <a:lnTo>
                    <a:pt x="309" y="134"/>
                  </a:lnTo>
                  <a:lnTo>
                    <a:pt x="315" y="137"/>
                  </a:lnTo>
                  <a:lnTo>
                    <a:pt x="315" y="132"/>
                  </a:lnTo>
                  <a:lnTo>
                    <a:pt x="309" y="119"/>
                  </a:lnTo>
                  <a:lnTo>
                    <a:pt x="295" y="101"/>
                  </a:lnTo>
                  <a:lnTo>
                    <a:pt x="280" y="81"/>
                  </a:lnTo>
                  <a:lnTo>
                    <a:pt x="269" y="68"/>
                  </a:lnTo>
                  <a:lnTo>
                    <a:pt x="265" y="62"/>
                  </a:lnTo>
                  <a:lnTo>
                    <a:pt x="265" y="59"/>
                  </a:lnTo>
                  <a:lnTo>
                    <a:pt x="267" y="53"/>
                  </a:lnTo>
                  <a:lnTo>
                    <a:pt x="271" y="33"/>
                  </a:lnTo>
                  <a:lnTo>
                    <a:pt x="276" y="22"/>
                  </a:lnTo>
                  <a:lnTo>
                    <a:pt x="276" y="13"/>
                  </a:lnTo>
                  <a:lnTo>
                    <a:pt x="276" y="2"/>
                  </a:lnTo>
                  <a:lnTo>
                    <a:pt x="269" y="0"/>
                  </a:lnTo>
                  <a:lnTo>
                    <a:pt x="262" y="0"/>
                  </a:lnTo>
                  <a:lnTo>
                    <a:pt x="254" y="2"/>
                  </a:lnTo>
                  <a:lnTo>
                    <a:pt x="240" y="6"/>
                  </a:lnTo>
                  <a:lnTo>
                    <a:pt x="220" y="11"/>
                  </a:lnTo>
                  <a:lnTo>
                    <a:pt x="176" y="24"/>
                  </a:lnTo>
                  <a:lnTo>
                    <a:pt x="130" y="37"/>
                  </a:lnTo>
                  <a:lnTo>
                    <a:pt x="108" y="42"/>
                  </a:lnTo>
                  <a:lnTo>
                    <a:pt x="90" y="46"/>
                  </a:lnTo>
                  <a:lnTo>
                    <a:pt x="61" y="48"/>
                  </a:lnTo>
                  <a:lnTo>
                    <a:pt x="35" y="44"/>
                  </a:lnTo>
                  <a:lnTo>
                    <a:pt x="17" y="39"/>
                  </a:lnTo>
                  <a:lnTo>
                    <a:pt x="4" y="39"/>
                  </a:lnTo>
                  <a:lnTo>
                    <a:pt x="0" y="44"/>
                  </a:lnTo>
                  <a:lnTo>
                    <a:pt x="2" y="48"/>
                  </a:lnTo>
                  <a:lnTo>
                    <a:pt x="8" y="53"/>
                  </a:lnTo>
                  <a:lnTo>
                    <a:pt x="24" y="57"/>
                  </a:lnTo>
                  <a:lnTo>
                    <a:pt x="35" y="59"/>
                  </a:lnTo>
                  <a:lnTo>
                    <a:pt x="50" y="59"/>
                  </a:lnTo>
                  <a:lnTo>
                    <a:pt x="88" y="62"/>
                  </a:lnTo>
                  <a:lnTo>
                    <a:pt x="125" y="62"/>
                  </a:lnTo>
                  <a:lnTo>
                    <a:pt x="154" y="59"/>
                  </a:lnTo>
                  <a:lnTo>
                    <a:pt x="174" y="57"/>
                  </a:lnTo>
                  <a:lnTo>
                    <a:pt x="187" y="53"/>
                  </a:lnTo>
                  <a:lnTo>
                    <a:pt x="207" y="44"/>
                  </a:lnTo>
                  <a:lnTo>
                    <a:pt x="231" y="35"/>
                  </a:lnTo>
                  <a:lnTo>
                    <a:pt x="242" y="28"/>
                  </a:lnTo>
                  <a:lnTo>
                    <a:pt x="249" y="26"/>
                  </a:lnTo>
                  <a:lnTo>
                    <a:pt x="251" y="26"/>
                  </a:lnTo>
                  <a:lnTo>
                    <a:pt x="249" y="28"/>
                  </a:lnTo>
                  <a:lnTo>
                    <a:pt x="247" y="33"/>
                  </a:lnTo>
                  <a:lnTo>
                    <a:pt x="247" y="39"/>
                  </a:lnTo>
                  <a:lnTo>
                    <a:pt x="249" y="51"/>
                  </a:lnTo>
                  <a:lnTo>
                    <a:pt x="254" y="66"/>
                  </a:lnTo>
                  <a:lnTo>
                    <a:pt x="256" y="79"/>
                  </a:lnTo>
                  <a:lnTo>
                    <a:pt x="256" y="90"/>
                  </a:lnTo>
                  <a:lnTo>
                    <a:pt x="254" y="95"/>
                  </a:lnTo>
                  <a:lnTo>
                    <a:pt x="247" y="95"/>
                  </a:lnTo>
                  <a:lnTo>
                    <a:pt x="236" y="92"/>
                  </a:lnTo>
                  <a:lnTo>
                    <a:pt x="218" y="90"/>
                  </a:lnTo>
                  <a:lnTo>
                    <a:pt x="194" y="88"/>
                  </a:lnTo>
                  <a:lnTo>
                    <a:pt x="145" y="84"/>
                  </a:lnTo>
                  <a:lnTo>
                    <a:pt x="95" y="90"/>
                  </a:lnTo>
                  <a:lnTo>
                    <a:pt x="70" y="97"/>
                  </a:lnTo>
                  <a:lnTo>
                    <a:pt x="53" y="101"/>
                  </a:lnTo>
                  <a:lnTo>
                    <a:pt x="42" y="110"/>
                  </a:lnTo>
                  <a:lnTo>
                    <a:pt x="39" y="121"/>
                  </a:lnTo>
                  <a:lnTo>
                    <a:pt x="37" y="130"/>
                  </a:lnTo>
                  <a:lnTo>
                    <a:pt x="37" y="86"/>
                  </a:lnTo>
                  <a:lnTo>
                    <a:pt x="42" y="59"/>
                  </a:lnTo>
                  <a:lnTo>
                    <a:pt x="19" y="57"/>
                  </a:lnTo>
                  <a:lnTo>
                    <a:pt x="8" y="53"/>
                  </a:lnTo>
                  <a:close/>
                </a:path>
              </a:pathLst>
            </a:custGeom>
            <a:solidFill>
              <a:srgbClr val="a1612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Freeform 90"/>
            <p:cNvSpPr/>
            <p:nvPr/>
          </p:nvSpPr>
          <p:spPr>
            <a:xfrm>
              <a:off x="1122480" y="1655640"/>
              <a:ext cx="406440" cy="385920"/>
            </a:xfrm>
            <a:custGeom>
              <a:avLst/>
              <a:gdLst>
                <a:gd name="textAreaLeft" fmla="*/ 0 w 406440"/>
                <a:gd name="textAreaRight" fmla="*/ 406800 w 406440"/>
                <a:gd name="textAreaTop" fmla="*/ 0 h 385920"/>
                <a:gd name="textAreaBottom" fmla="*/ 386280 h 385920"/>
              </a:gdLst>
              <a:ahLst/>
              <a:rect l="textAreaLeft" t="textAreaTop" r="textAreaRight" b="textAreaBottom"/>
              <a:pathLst>
                <a:path w="256" h="243">
                  <a:moveTo>
                    <a:pt x="0" y="161"/>
                  </a:moveTo>
                  <a:lnTo>
                    <a:pt x="9" y="170"/>
                  </a:lnTo>
                  <a:lnTo>
                    <a:pt x="15" y="183"/>
                  </a:lnTo>
                  <a:lnTo>
                    <a:pt x="24" y="198"/>
                  </a:lnTo>
                  <a:lnTo>
                    <a:pt x="31" y="212"/>
                  </a:lnTo>
                  <a:lnTo>
                    <a:pt x="40" y="225"/>
                  </a:lnTo>
                  <a:lnTo>
                    <a:pt x="51" y="236"/>
                  </a:lnTo>
                  <a:lnTo>
                    <a:pt x="62" y="243"/>
                  </a:lnTo>
                  <a:lnTo>
                    <a:pt x="75" y="243"/>
                  </a:lnTo>
                  <a:lnTo>
                    <a:pt x="90" y="238"/>
                  </a:lnTo>
                  <a:lnTo>
                    <a:pt x="110" y="229"/>
                  </a:lnTo>
                  <a:lnTo>
                    <a:pt x="150" y="205"/>
                  </a:lnTo>
                  <a:lnTo>
                    <a:pt x="188" y="174"/>
                  </a:lnTo>
                  <a:lnTo>
                    <a:pt x="223" y="139"/>
                  </a:lnTo>
                  <a:lnTo>
                    <a:pt x="236" y="121"/>
                  </a:lnTo>
                  <a:lnTo>
                    <a:pt x="247" y="101"/>
                  </a:lnTo>
                  <a:lnTo>
                    <a:pt x="254" y="81"/>
                  </a:lnTo>
                  <a:lnTo>
                    <a:pt x="256" y="64"/>
                  </a:lnTo>
                  <a:lnTo>
                    <a:pt x="256" y="44"/>
                  </a:lnTo>
                  <a:lnTo>
                    <a:pt x="254" y="28"/>
                  </a:lnTo>
                  <a:lnTo>
                    <a:pt x="247" y="15"/>
                  </a:lnTo>
                  <a:lnTo>
                    <a:pt x="241" y="6"/>
                  </a:lnTo>
                  <a:lnTo>
                    <a:pt x="232" y="2"/>
                  </a:lnTo>
                  <a:lnTo>
                    <a:pt x="221" y="0"/>
                  </a:lnTo>
                  <a:lnTo>
                    <a:pt x="192" y="0"/>
                  </a:lnTo>
                  <a:lnTo>
                    <a:pt x="157" y="9"/>
                  </a:lnTo>
                  <a:lnTo>
                    <a:pt x="121" y="20"/>
                  </a:lnTo>
                  <a:lnTo>
                    <a:pt x="104" y="28"/>
                  </a:lnTo>
                  <a:lnTo>
                    <a:pt x="73" y="44"/>
                  </a:lnTo>
                  <a:lnTo>
                    <a:pt x="49" y="61"/>
                  </a:lnTo>
                  <a:lnTo>
                    <a:pt x="13" y="99"/>
                  </a:lnTo>
                  <a:lnTo>
                    <a:pt x="0" y="161"/>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5" name="Rectangle 91"/>
            <p:cNvSpPr/>
            <p:nvPr/>
          </p:nvSpPr>
          <p:spPr>
            <a:xfrm>
              <a:off x="5668920" y="2887560"/>
              <a:ext cx="1868400" cy="774720"/>
            </a:xfrm>
            <a:prstGeom prst="rect">
              <a:avLst/>
            </a:prstGeom>
            <a:solidFill>
              <a:srgbClr val="80ffff"/>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6" name="Rectangle 92"/>
            <p:cNvSpPr/>
            <p:nvPr/>
          </p:nvSpPr>
          <p:spPr>
            <a:xfrm>
              <a:off x="7534440" y="2867040"/>
              <a:ext cx="763560" cy="1654200"/>
            </a:xfrm>
            <a:prstGeom prst="rect">
              <a:avLst/>
            </a:prstGeom>
            <a:solidFill>
              <a:srgbClr val="a16121"/>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7" name="Rectangle 93"/>
            <p:cNvSpPr/>
            <p:nvPr/>
          </p:nvSpPr>
          <p:spPr>
            <a:xfrm>
              <a:off x="6400800" y="2971800"/>
              <a:ext cx="192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sp>
          <p:nvSpPr>
            <p:cNvPr id="1978" name="Text Box 94"/>
            <p:cNvSpPr/>
            <p:nvPr/>
          </p:nvSpPr>
          <p:spPr>
            <a:xfrm>
              <a:off x="6478560" y="3124080"/>
              <a:ext cx="3286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t>
              </a:r>
              <a:endParaRPr b="0" lang="en-US" sz="2100" spc="-1" strike="noStrike">
                <a:solidFill>
                  <a:srgbClr val="000000"/>
                </a:solidFill>
                <a:latin typeface="Times New Roman"/>
              </a:endParaRPr>
            </a:p>
          </p:txBody>
        </p:sp>
        <p:sp>
          <p:nvSpPr>
            <p:cNvPr id="1979" name="Text Box 95"/>
            <p:cNvSpPr/>
            <p:nvPr/>
          </p:nvSpPr>
          <p:spPr>
            <a:xfrm>
              <a:off x="7032600" y="4816440"/>
              <a:ext cx="3286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a:t>
              </a:r>
              <a:endParaRPr b="0" lang="en-US" sz="2100" spc="-1" strike="noStrike">
                <a:solidFill>
                  <a:srgbClr val="000000"/>
                </a:solidFill>
                <a:latin typeface="Times New Roman"/>
              </a:endParaRPr>
            </a:p>
          </p:txBody>
        </p:sp>
        <p:sp>
          <p:nvSpPr>
            <p:cNvPr id="1980" name="Rectangle 96"/>
            <p:cNvSpPr/>
            <p:nvPr/>
          </p:nvSpPr>
          <p:spPr>
            <a:xfrm>
              <a:off x="6933960" y="4648320"/>
              <a:ext cx="192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Symbol"/>
                  <a:ea typeface="Symbol"/>
                </a:rPr>
                <a:t></a:t>
              </a:r>
              <a:endParaRPr b="0" lang="en-US" sz="2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1" name="Line 2"/>
          <p:cNvSpPr/>
          <p:nvPr/>
        </p:nvSpPr>
        <p:spPr>
          <a:xfrm flipV="1">
            <a:off x="819000" y="2141640"/>
            <a:ext cx="1800" cy="79200"/>
          </a:xfrm>
          <a:prstGeom prst="line">
            <a:avLst/>
          </a:prstGeom>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82" name="Freeform 3"/>
          <p:cNvSpPr/>
          <p:nvPr/>
        </p:nvSpPr>
        <p:spPr>
          <a:xfrm>
            <a:off x="2670120" y="6066000"/>
            <a:ext cx="368280" cy="145800"/>
          </a:xfrm>
          <a:custGeom>
            <a:avLst/>
            <a:gdLst>
              <a:gd name="textAreaLeft" fmla="*/ 0 w 368280"/>
              <a:gd name="textAreaRight" fmla="*/ 368640 w 368280"/>
              <a:gd name="textAreaTop" fmla="*/ 0 h 145800"/>
              <a:gd name="textAreaBottom" fmla="*/ 145800 h 145800"/>
            </a:gdLst>
            <a:ahLst/>
            <a:rect l="textAreaLeft" t="textAreaTop" r="textAreaRight" b="textAreaBottom"/>
            <a:pathLst>
              <a:path w="232" h="92">
                <a:moveTo>
                  <a:pt x="227" y="0"/>
                </a:moveTo>
                <a:lnTo>
                  <a:pt x="35" y="0"/>
                </a:lnTo>
                <a:lnTo>
                  <a:pt x="31" y="4"/>
                </a:lnTo>
                <a:lnTo>
                  <a:pt x="29" y="4"/>
                </a:lnTo>
                <a:lnTo>
                  <a:pt x="25" y="8"/>
                </a:lnTo>
                <a:lnTo>
                  <a:pt x="23" y="8"/>
                </a:lnTo>
                <a:lnTo>
                  <a:pt x="23" y="10"/>
                </a:lnTo>
                <a:lnTo>
                  <a:pt x="19" y="14"/>
                </a:lnTo>
                <a:lnTo>
                  <a:pt x="17" y="16"/>
                </a:lnTo>
                <a:lnTo>
                  <a:pt x="15" y="16"/>
                </a:lnTo>
                <a:lnTo>
                  <a:pt x="15" y="18"/>
                </a:lnTo>
                <a:lnTo>
                  <a:pt x="13" y="18"/>
                </a:lnTo>
                <a:lnTo>
                  <a:pt x="13" y="20"/>
                </a:lnTo>
                <a:lnTo>
                  <a:pt x="12" y="21"/>
                </a:lnTo>
                <a:lnTo>
                  <a:pt x="12" y="23"/>
                </a:lnTo>
                <a:lnTo>
                  <a:pt x="10" y="23"/>
                </a:lnTo>
                <a:lnTo>
                  <a:pt x="10" y="25"/>
                </a:lnTo>
                <a:lnTo>
                  <a:pt x="8" y="25"/>
                </a:lnTo>
                <a:lnTo>
                  <a:pt x="8" y="27"/>
                </a:lnTo>
                <a:lnTo>
                  <a:pt x="6" y="29"/>
                </a:lnTo>
                <a:lnTo>
                  <a:pt x="6" y="31"/>
                </a:lnTo>
                <a:lnTo>
                  <a:pt x="4" y="33"/>
                </a:lnTo>
                <a:lnTo>
                  <a:pt x="4" y="35"/>
                </a:lnTo>
                <a:lnTo>
                  <a:pt x="2" y="37"/>
                </a:lnTo>
                <a:lnTo>
                  <a:pt x="2" y="41"/>
                </a:lnTo>
                <a:lnTo>
                  <a:pt x="0" y="43"/>
                </a:lnTo>
                <a:lnTo>
                  <a:pt x="0" y="58"/>
                </a:lnTo>
                <a:lnTo>
                  <a:pt x="2" y="58"/>
                </a:lnTo>
                <a:lnTo>
                  <a:pt x="2" y="64"/>
                </a:lnTo>
                <a:lnTo>
                  <a:pt x="4" y="64"/>
                </a:lnTo>
                <a:lnTo>
                  <a:pt x="4" y="68"/>
                </a:lnTo>
                <a:lnTo>
                  <a:pt x="6" y="68"/>
                </a:lnTo>
                <a:lnTo>
                  <a:pt x="6" y="69"/>
                </a:lnTo>
                <a:lnTo>
                  <a:pt x="8" y="71"/>
                </a:lnTo>
                <a:lnTo>
                  <a:pt x="8" y="73"/>
                </a:lnTo>
                <a:lnTo>
                  <a:pt x="10" y="73"/>
                </a:lnTo>
                <a:lnTo>
                  <a:pt x="10" y="75"/>
                </a:lnTo>
                <a:lnTo>
                  <a:pt x="12" y="75"/>
                </a:lnTo>
                <a:lnTo>
                  <a:pt x="12" y="77"/>
                </a:lnTo>
                <a:lnTo>
                  <a:pt x="15" y="81"/>
                </a:lnTo>
                <a:lnTo>
                  <a:pt x="17" y="81"/>
                </a:lnTo>
                <a:lnTo>
                  <a:pt x="17" y="83"/>
                </a:lnTo>
                <a:lnTo>
                  <a:pt x="19" y="83"/>
                </a:lnTo>
                <a:lnTo>
                  <a:pt x="23" y="87"/>
                </a:lnTo>
                <a:lnTo>
                  <a:pt x="25" y="89"/>
                </a:lnTo>
                <a:lnTo>
                  <a:pt x="27" y="89"/>
                </a:lnTo>
                <a:lnTo>
                  <a:pt x="27" y="91"/>
                </a:lnTo>
                <a:lnTo>
                  <a:pt x="29" y="91"/>
                </a:lnTo>
                <a:lnTo>
                  <a:pt x="31" y="92"/>
                </a:lnTo>
                <a:lnTo>
                  <a:pt x="232" y="92"/>
                </a:lnTo>
                <a:lnTo>
                  <a:pt x="227" y="0"/>
                </a:lnTo>
                <a:close/>
              </a:path>
            </a:pathLst>
          </a:custGeom>
          <a:solidFill>
            <a:srgbClr val="f9d3a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Freeform 4"/>
          <p:cNvSpPr/>
          <p:nvPr/>
        </p:nvSpPr>
        <p:spPr>
          <a:xfrm>
            <a:off x="2685960" y="4984920"/>
            <a:ext cx="368280" cy="152280"/>
          </a:xfrm>
          <a:custGeom>
            <a:avLst/>
            <a:gdLst>
              <a:gd name="textAreaLeft" fmla="*/ 0 w 368280"/>
              <a:gd name="textAreaRight" fmla="*/ 368640 w 368280"/>
              <a:gd name="textAreaTop" fmla="*/ 0 h 152280"/>
              <a:gd name="textAreaBottom" fmla="*/ 152640 h 152280"/>
            </a:gdLst>
            <a:ahLst/>
            <a:rect l="textAreaLeft" t="textAreaTop" r="textAreaRight" b="textAreaBottom"/>
            <a:pathLst>
              <a:path w="232" h="96">
                <a:moveTo>
                  <a:pt x="226" y="0"/>
                </a:moveTo>
                <a:lnTo>
                  <a:pt x="32" y="0"/>
                </a:lnTo>
                <a:lnTo>
                  <a:pt x="28" y="3"/>
                </a:lnTo>
                <a:lnTo>
                  <a:pt x="27" y="3"/>
                </a:lnTo>
                <a:lnTo>
                  <a:pt x="27" y="5"/>
                </a:lnTo>
                <a:lnTo>
                  <a:pt x="25" y="5"/>
                </a:lnTo>
                <a:lnTo>
                  <a:pt x="23" y="7"/>
                </a:lnTo>
                <a:lnTo>
                  <a:pt x="23" y="9"/>
                </a:lnTo>
                <a:lnTo>
                  <a:pt x="21" y="9"/>
                </a:lnTo>
                <a:lnTo>
                  <a:pt x="21" y="11"/>
                </a:lnTo>
                <a:lnTo>
                  <a:pt x="19" y="11"/>
                </a:lnTo>
                <a:lnTo>
                  <a:pt x="15" y="15"/>
                </a:lnTo>
                <a:lnTo>
                  <a:pt x="15" y="17"/>
                </a:lnTo>
                <a:lnTo>
                  <a:pt x="13" y="17"/>
                </a:lnTo>
                <a:lnTo>
                  <a:pt x="13" y="19"/>
                </a:lnTo>
                <a:lnTo>
                  <a:pt x="9" y="23"/>
                </a:lnTo>
                <a:lnTo>
                  <a:pt x="9" y="25"/>
                </a:lnTo>
                <a:lnTo>
                  <a:pt x="7" y="25"/>
                </a:lnTo>
                <a:lnTo>
                  <a:pt x="7" y="26"/>
                </a:lnTo>
                <a:lnTo>
                  <a:pt x="5" y="28"/>
                </a:lnTo>
                <a:lnTo>
                  <a:pt x="5" y="30"/>
                </a:lnTo>
                <a:lnTo>
                  <a:pt x="3" y="32"/>
                </a:lnTo>
                <a:lnTo>
                  <a:pt x="3" y="36"/>
                </a:lnTo>
                <a:lnTo>
                  <a:pt x="2" y="36"/>
                </a:lnTo>
                <a:lnTo>
                  <a:pt x="2" y="42"/>
                </a:lnTo>
                <a:lnTo>
                  <a:pt x="0" y="42"/>
                </a:lnTo>
                <a:lnTo>
                  <a:pt x="0" y="57"/>
                </a:lnTo>
                <a:lnTo>
                  <a:pt x="2" y="59"/>
                </a:lnTo>
                <a:lnTo>
                  <a:pt x="2" y="63"/>
                </a:lnTo>
                <a:lnTo>
                  <a:pt x="3" y="65"/>
                </a:lnTo>
                <a:lnTo>
                  <a:pt x="3" y="69"/>
                </a:lnTo>
                <a:lnTo>
                  <a:pt x="5" y="69"/>
                </a:lnTo>
                <a:lnTo>
                  <a:pt x="5" y="73"/>
                </a:lnTo>
                <a:lnTo>
                  <a:pt x="7" y="73"/>
                </a:lnTo>
                <a:lnTo>
                  <a:pt x="7" y="74"/>
                </a:lnTo>
                <a:lnTo>
                  <a:pt x="11" y="78"/>
                </a:lnTo>
                <a:lnTo>
                  <a:pt x="13" y="80"/>
                </a:lnTo>
                <a:lnTo>
                  <a:pt x="13" y="82"/>
                </a:lnTo>
                <a:lnTo>
                  <a:pt x="15" y="82"/>
                </a:lnTo>
                <a:lnTo>
                  <a:pt x="15" y="84"/>
                </a:lnTo>
                <a:lnTo>
                  <a:pt x="17" y="84"/>
                </a:lnTo>
                <a:lnTo>
                  <a:pt x="17" y="86"/>
                </a:lnTo>
                <a:lnTo>
                  <a:pt x="19" y="86"/>
                </a:lnTo>
                <a:lnTo>
                  <a:pt x="23" y="90"/>
                </a:lnTo>
                <a:lnTo>
                  <a:pt x="25" y="92"/>
                </a:lnTo>
                <a:lnTo>
                  <a:pt x="27" y="92"/>
                </a:lnTo>
                <a:lnTo>
                  <a:pt x="27" y="94"/>
                </a:lnTo>
                <a:lnTo>
                  <a:pt x="28" y="94"/>
                </a:lnTo>
                <a:lnTo>
                  <a:pt x="30" y="96"/>
                </a:lnTo>
                <a:lnTo>
                  <a:pt x="232" y="96"/>
                </a:lnTo>
                <a:lnTo>
                  <a:pt x="226" y="0"/>
                </a:lnTo>
                <a:close/>
              </a:path>
            </a:pathLst>
          </a:custGeom>
          <a:solidFill>
            <a:srgbClr val="f9d3a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Freeform 5"/>
          <p:cNvSpPr/>
          <p:nvPr/>
        </p:nvSpPr>
        <p:spPr>
          <a:xfrm>
            <a:off x="2693880" y="3852720"/>
            <a:ext cx="370080" cy="146160"/>
          </a:xfrm>
          <a:custGeom>
            <a:avLst/>
            <a:gdLst>
              <a:gd name="textAreaLeft" fmla="*/ 0 w 370080"/>
              <a:gd name="textAreaRight" fmla="*/ 370440 w 370080"/>
              <a:gd name="textAreaTop" fmla="*/ 0 h 146160"/>
              <a:gd name="textAreaBottom" fmla="*/ 146520 h 146160"/>
            </a:gdLst>
            <a:ahLst/>
            <a:rect l="textAreaLeft" t="textAreaTop" r="textAreaRight" b="textAreaBottom"/>
            <a:pathLst>
              <a:path w="233" h="92">
                <a:moveTo>
                  <a:pt x="227" y="0"/>
                </a:moveTo>
                <a:lnTo>
                  <a:pt x="35" y="0"/>
                </a:lnTo>
                <a:lnTo>
                  <a:pt x="31" y="4"/>
                </a:lnTo>
                <a:lnTo>
                  <a:pt x="29" y="4"/>
                </a:lnTo>
                <a:lnTo>
                  <a:pt x="25" y="8"/>
                </a:lnTo>
                <a:lnTo>
                  <a:pt x="23" y="8"/>
                </a:lnTo>
                <a:lnTo>
                  <a:pt x="23" y="10"/>
                </a:lnTo>
                <a:lnTo>
                  <a:pt x="20" y="14"/>
                </a:lnTo>
                <a:lnTo>
                  <a:pt x="18" y="15"/>
                </a:lnTo>
                <a:lnTo>
                  <a:pt x="16" y="15"/>
                </a:lnTo>
                <a:lnTo>
                  <a:pt x="16" y="17"/>
                </a:lnTo>
                <a:lnTo>
                  <a:pt x="14" y="17"/>
                </a:lnTo>
                <a:lnTo>
                  <a:pt x="14" y="19"/>
                </a:lnTo>
                <a:lnTo>
                  <a:pt x="12" y="21"/>
                </a:lnTo>
                <a:lnTo>
                  <a:pt x="12" y="23"/>
                </a:lnTo>
                <a:lnTo>
                  <a:pt x="10" y="23"/>
                </a:lnTo>
                <a:lnTo>
                  <a:pt x="10" y="25"/>
                </a:lnTo>
                <a:lnTo>
                  <a:pt x="8" y="25"/>
                </a:lnTo>
                <a:lnTo>
                  <a:pt x="8" y="27"/>
                </a:lnTo>
                <a:lnTo>
                  <a:pt x="6" y="29"/>
                </a:lnTo>
                <a:lnTo>
                  <a:pt x="6" y="31"/>
                </a:lnTo>
                <a:lnTo>
                  <a:pt x="4" y="33"/>
                </a:lnTo>
                <a:lnTo>
                  <a:pt x="4" y="35"/>
                </a:lnTo>
                <a:lnTo>
                  <a:pt x="2" y="37"/>
                </a:lnTo>
                <a:lnTo>
                  <a:pt x="2" y="40"/>
                </a:lnTo>
                <a:lnTo>
                  <a:pt x="0" y="42"/>
                </a:lnTo>
                <a:lnTo>
                  <a:pt x="0" y="58"/>
                </a:lnTo>
                <a:lnTo>
                  <a:pt x="2" y="58"/>
                </a:lnTo>
                <a:lnTo>
                  <a:pt x="2" y="63"/>
                </a:lnTo>
                <a:lnTo>
                  <a:pt x="4" y="63"/>
                </a:lnTo>
                <a:lnTo>
                  <a:pt x="4" y="67"/>
                </a:lnTo>
                <a:lnTo>
                  <a:pt x="6" y="67"/>
                </a:lnTo>
                <a:lnTo>
                  <a:pt x="6" y="69"/>
                </a:lnTo>
                <a:lnTo>
                  <a:pt x="8" y="71"/>
                </a:lnTo>
                <a:lnTo>
                  <a:pt x="8" y="73"/>
                </a:lnTo>
                <a:lnTo>
                  <a:pt x="10" y="73"/>
                </a:lnTo>
                <a:lnTo>
                  <a:pt x="10" y="75"/>
                </a:lnTo>
                <a:lnTo>
                  <a:pt x="12" y="75"/>
                </a:lnTo>
                <a:lnTo>
                  <a:pt x="12" y="77"/>
                </a:lnTo>
                <a:lnTo>
                  <a:pt x="16" y="81"/>
                </a:lnTo>
                <a:lnTo>
                  <a:pt x="18" y="81"/>
                </a:lnTo>
                <a:lnTo>
                  <a:pt x="18" y="83"/>
                </a:lnTo>
                <a:lnTo>
                  <a:pt x="20" y="83"/>
                </a:lnTo>
                <a:lnTo>
                  <a:pt x="23" y="86"/>
                </a:lnTo>
                <a:lnTo>
                  <a:pt x="25" y="88"/>
                </a:lnTo>
                <a:lnTo>
                  <a:pt x="27" y="88"/>
                </a:lnTo>
                <a:lnTo>
                  <a:pt x="27" y="90"/>
                </a:lnTo>
                <a:lnTo>
                  <a:pt x="29" y="90"/>
                </a:lnTo>
                <a:lnTo>
                  <a:pt x="31" y="92"/>
                </a:lnTo>
                <a:lnTo>
                  <a:pt x="233" y="92"/>
                </a:lnTo>
                <a:lnTo>
                  <a:pt x="227" y="0"/>
                </a:lnTo>
                <a:close/>
              </a:path>
            </a:pathLst>
          </a:custGeom>
          <a:solidFill>
            <a:srgbClr val="fff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5" name="Freeform 6"/>
          <p:cNvSpPr/>
          <p:nvPr/>
        </p:nvSpPr>
        <p:spPr>
          <a:xfrm>
            <a:off x="2693880" y="2766960"/>
            <a:ext cx="370080" cy="158760"/>
          </a:xfrm>
          <a:custGeom>
            <a:avLst/>
            <a:gdLst>
              <a:gd name="textAreaLeft" fmla="*/ 0 w 370080"/>
              <a:gd name="textAreaRight" fmla="*/ 370440 w 370080"/>
              <a:gd name="textAreaTop" fmla="*/ 0 h 158760"/>
              <a:gd name="textAreaBottom" fmla="*/ 159120 h 158760"/>
            </a:gdLst>
            <a:ahLst/>
            <a:rect l="textAreaLeft" t="textAreaTop" r="textAreaRight" b="textAreaBottom"/>
            <a:pathLst>
              <a:path w="233" h="100">
                <a:moveTo>
                  <a:pt x="227" y="0"/>
                </a:moveTo>
                <a:lnTo>
                  <a:pt x="35" y="0"/>
                </a:lnTo>
                <a:lnTo>
                  <a:pt x="31" y="4"/>
                </a:lnTo>
                <a:lnTo>
                  <a:pt x="29" y="4"/>
                </a:lnTo>
                <a:lnTo>
                  <a:pt x="27" y="6"/>
                </a:lnTo>
                <a:lnTo>
                  <a:pt x="27" y="8"/>
                </a:lnTo>
                <a:lnTo>
                  <a:pt x="25" y="8"/>
                </a:lnTo>
                <a:lnTo>
                  <a:pt x="22" y="12"/>
                </a:lnTo>
                <a:lnTo>
                  <a:pt x="22" y="14"/>
                </a:lnTo>
                <a:lnTo>
                  <a:pt x="20" y="14"/>
                </a:lnTo>
                <a:lnTo>
                  <a:pt x="20" y="16"/>
                </a:lnTo>
                <a:lnTo>
                  <a:pt x="18" y="16"/>
                </a:lnTo>
                <a:lnTo>
                  <a:pt x="16" y="18"/>
                </a:lnTo>
                <a:lnTo>
                  <a:pt x="16" y="20"/>
                </a:lnTo>
                <a:lnTo>
                  <a:pt x="14" y="20"/>
                </a:lnTo>
                <a:lnTo>
                  <a:pt x="14" y="22"/>
                </a:lnTo>
                <a:lnTo>
                  <a:pt x="10" y="25"/>
                </a:lnTo>
                <a:lnTo>
                  <a:pt x="10" y="27"/>
                </a:lnTo>
                <a:lnTo>
                  <a:pt x="8" y="27"/>
                </a:lnTo>
                <a:lnTo>
                  <a:pt x="8" y="29"/>
                </a:lnTo>
                <a:lnTo>
                  <a:pt x="6" y="31"/>
                </a:lnTo>
                <a:lnTo>
                  <a:pt x="6" y="35"/>
                </a:lnTo>
                <a:lnTo>
                  <a:pt x="4" y="35"/>
                </a:lnTo>
                <a:lnTo>
                  <a:pt x="4" y="39"/>
                </a:lnTo>
                <a:lnTo>
                  <a:pt x="2" y="39"/>
                </a:lnTo>
                <a:lnTo>
                  <a:pt x="2" y="45"/>
                </a:lnTo>
                <a:lnTo>
                  <a:pt x="0" y="45"/>
                </a:lnTo>
                <a:lnTo>
                  <a:pt x="0" y="62"/>
                </a:lnTo>
                <a:lnTo>
                  <a:pt x="2" y="64"/>
                </a:lnTo>
                <a:lnTo>
                  <a:pt x="2" y="68"/>
                </a:lnTo>
                <a:lnTo>
                  <a:pt x="4" y="70"/>
                </a:lnTo>
                <a:lnTo>
                  <a:pt x="4" y="71"/>
                </a:lnTo>
                <a:lnTo>
                  <a:pt x="6" y="73"/>
                </a:lnTo>
                <a:lnTo>
                  <a:pt x="6" y="75"/>
                </a:lnTo>
                <a:lnTo>
                  <a:pt x="8" y="77"/>
                </a:lnTo>
                <a:lnTo>
                  <a:pt x="8" y="79"/>
                </a:lnTo>
                <a:lnTo>
                  <a:pt x="10" y="79"/>
                </a:lnTo>
                <a:lnTo>
                  <a:pt x="10" y="81"/>
                </a:lnTo>
                <a:lnTo>
                  <a:pt x="12" y="81"/>
                </a:lnTo>
                <a:lnTo>
                  <a:pt x="12" y="83"/>
                </a:lnTo>
                <a:lnTo>
                  <a:pt x="16" y="87"/>
                </a:lnTo>
                <a:lnTo>
                  <a:pt x="18" y="89"/>
                </a:lnTo>
                <a:lnTo>
                  <a:pt x="18" y="91"/>
                </a:lnTo>
                <a:lnTo>
                  <a:pt x="20" y="91"/>
                </a:lnTo>
                <a:lnTo>
                  <a:pt x="23" y="94"/>
                </a:lnTo>
                <a:lnTo>
                  <a:pt x="25" y="96"/>
                </a:lnTo>
                <a:lnTo>
                  <a:pt x="27" y="96"/>
                </a:lnTo>
                <a:lnTo>
                  <a:pt x="27" y="98"/>
                </a:lnTo>
                <a:lnTo>
                  <a:pt x="29" y="98"/>
                </a:lnTo>
                <a:lnTo>
                  <a:pt x="31" y="100"/>
                </a:lnTo>
                <a:lnTo>
                  <a:pt x="233" y="100"/>
                </a:lnTo>
                <a:lnTo>
                  <a:pt x="227" y="0"/>
                </a:lnTo>
                <a:close/>
              </a:path>
            </a:pathLst>
          </a:custGeom>
          <a:solidFill>
            <a:srgbClr val="ffff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Freeform 7"/>
          <p:cNvSpPr/>
          <p:nvPr/>
        </p:nvSpPr>
        <p:spPr>
          <a:xfrm>
            <a:off x="1011240" y="2322360"/>
            <a:ext cx="264960" cy="4299120"/>
          </a:xfrm>
          <a:custGeom>
            <a:avLst/>
            <a:gdLst>
              <a:gd name="textAreaLeft" fmla="*/ 0 w 264960"/>
              <a:gd name="textAreaRight" fmla="*/ 265320 w 264960"/>
              <a:gd name="textAreaTop" fmla="*/ 0 h 4299120"/>
              <a:gd name="textAreaBottom" fmla="*/ 4299480 h 4299120"/>
            </a:gdLst>
            <a:ahLst/>
            <a:rect l="textAreaLeft" t="textAreaTop" r="textAreaRight" b="textAreaBottom"/>
            <a:pathLst>
              <a:path w="167" h="2708">
                <a:moveTo>
                  <a:pt x="4" y="0"/>
                </a:moveTo>
                <a:lnTo>
                  <a:pt x="0" y="2675"/>
                </a:lnTo>
                <a:lnTo>
                  <a:pt x="2" y="2677"/>
                </a:lnTo>
                <a:lnTo>
                  <a:pt x="4" y="2677"/>
                </a:lnTo>
                <a:lnTo>
                  <a:pt x="8" y="2681"/>
                </a:lnTo>
                <a:lnTo>
                  <a:pt x="10" y="2681"/>
                </a:lnTo>
                <a:lnTo>
                  <a:pt x="10" y="2683"/>
                </a:lnTo>
                <a:lnTo>
                  <a:pt x="12" y="2685"/>
                </a:lnTo>
                <a:lnTo>
                  <a:pt x="14" y="2685"/>
                </a:lnTo>
                <a:lnTo>
                  <a:pt x="18" y="2689"/>
                </a:lnTo>
                <a:lnTo>
                  <a:pt x="19" y="2689"/>
                </a:lnTo>
                <a:lnTo>
                  <a:pt x="21" y="2691"/>
                </a:lnTo>
                <a:lnTo>
                  <a:pt x="23" y="2691"/>
                </a:lnTo>
                <a:lnTo>
                  <a:pt x="25" y="2692"/>
                </a:lnTo>
                <a:lnTo>
                  <a:pt x="27" y="2692"/>
                </a:lnTo>
                <a:lnTo>
                  <a:pt x="29" y="2694"/>
                </a:lnTo>
                <a:lnTo>
                  <a:pt x="31" y="2694"/>
                </a:lnTo>
                <a:lnTo>
                  <a:pt x="33" y="2696"/>
                </a:lnTo>
                <a:lnTo>
                  <a:pt x="35" y="2696"/>
                </a:lnTo>
                <a:lnTo>
                  <a:pt x="37" y="2698"/>
                </a:lnTo>
                <a:lnTo>
                  <a:pt x="39" y="2698"/>
                </a:lnTo>
                <a:lnTo>
                  <a:pt x="41" y="2700"/>
                </a:lnTo>
                <a:lnTo>
                  <a:pt x="44" y="2700"/>
                </a:lnTo>
                <a:lnTo>
                  <a:pt x="46" y="2702"/>
                </a:lnTo>
                <a:lnTo>
                  <a:pt x="50" y="2702"/>
                </a:lnTo>
                <a:lnTo>
                  <a:pt x="52" y="2704"/>
                </a:lnTo>
                <a:lnTo>
                  <a:pt x="56" y="2704"/>
                </a:lnTo>
                <a:lnTo>
                  <a:pt x="58" y="2706"/>
                </a:lnTo>
                <a:lnTo>
                  <a:pt x="67" y="2706"/>
                </a:lnTo>
                <a:lnTo>
                  <a:pt x="69" y="2708"/>
                </a:lnTo>
                <a:lnTo>
                  <a:pt x="96" y="2708"/>
                </a:lnTo>
                <a:lnTo>
                  <a:pt x="96" y="2706"/>
                </a:lnTo>
                <a:lnTo>
                  <a:pt x="106" y="2706"/>
                </a:lnTo>
                <a:lnTo>
                  <a:pt x="108" y="2704"/>
                </a:lnTo>
                <a:lnTo>
                  <a:pt x="114" y="2704"/>
                </a:lnTo>
                <a:lnTo>
                  <a:pt x="115" y="2702"/>
                </a:lnTo>
                <a:lnTo>
                  <a:pt x="121" y="2702"/>
                </a:lnTo>
                <a:lnTo>
                  <a:pt x="123" y="2700"/>
                </a:lnTo>
                <a:lnTo>
                  <a:pt x="125" y="2700"/>
                </a:lnTo>
                <a:lnTo>
                  <a:pt x="127" y="2698"/>
                </a:lnTo>
                <a:lnTo>
                  <a:pt x="129" y="2698"/>
                </a:lnTo>
                <a:lnTo>
                  <a:pt x="131" y="2696"/>
                </a:lnTo>
                <a:lnTo>
                  <a:pt x="133" y="2696"/>
                </a:lnTo>
                <a:lnTo>
                  <a:pt x="135" y="2694"/>
                </a:lnTo>
                <a:lnTo>
                  <a:pt x="137" y="2694"/>
                </a:lnTo>
                <a:lnTo>
                  <a:pt x="139" y="2692"/>
                </a:lnTo>
                <a:lnTo>
                  <a:pt x="140" y="2692"/>
                </a:lnTo>
                <a:lnTo>
                  <a:pt x="142" y="2691"/>
                </a:lnTo>
                <a:lnTo>
                  <a:pt x="144" y="2691"/>
                </a:lnTo>
                <a:lnTo>
                  <a:pt x="146" y="2689"/>
                </a:lnTo>
                <a:lnTo>
                  <a:pt x="148" y="2689"/>
                </a:lnTo>
                <a:lnTo>
                  <a:pt x="150" y="2687"/>
                </a:lnTo>
                <a:lnTo>
                  <a:pt x="152" y="2687"/>
                </a:lnTo>
                <a:lnTo>
                  <a:pt x="156" y="2683"/>
                </a:lnTo>
                <a:lnTo>
                  <a:pt x="158" y="2683"/>
                </a:lnTo>
                <a:lnTo>
                  <a:pt x="162" y="2679"/>
                </a:lnTo>
                <a:lnTo>
                  <a:pt x="163" y="2679"/>
                </a:lnTo>
                <a:lnTo>
                  <a:pt x="165" y="2677"/>
                </a:lnTo>
                <a:lnTo>
                  <a:pt x="165" y="2675"/>
                </a:lnTo>
                <a:lnTo>
                  <a:pt x="167" y="2675"/>
                </a:lnTo>
                <a:lnTo>
                  <a:pt x="167" y="4"/>
                </a:lnTo>
                <a:lnTo>
                  <a:pt x="4"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Freeform 8"/>
          <p:cNvSpPr/>
          <p:nvPr/>
        </p:nvSpPr>
        <p:spPr>
          <a:xfrm>
            <a:off x="1011240" y="3103560"/>
            <a:ext cx="264960" cy="203040"/>
          </a:xfrm>
          <a:custGeom>
            <a:avLst/>
            <a:gdLst>
              <a:gd name="textAreaLeft" fmla="*/ 0 w 264960"/>
              <a:gd name="textAreaRight" fmla="*/ 265320 w 264960"/>
              <a:gd name="textAreaTop" fmla="*/ 0 h 203040"/>
              <a:gd name="textAreaBottom" fmla="*/ 203400 h 203040"/>
            </a:gdLst>
            <a:ahLst/>
            <a:rect l="textAreaLeft" t="textAreaTop" r="textAreaRight" b="textAreaBottom"/>
            <a:pathLst>
              <a:path w="167" h="128">
                <a:moveTo>
                  <a:pt x="0" y="0"/>
                </a:moveTo>
                <a:lnTo>
                  <a:pt x="33" y="5"/>
                </a:lnTo>
                <a:lnTo>
                  <a:pt x="64" y="9"/>
                </a:lnTo>
                <a:lnTo>
                  <a:pt x="91" y="11"/>
                </a:lnTo>
                <a:lnTo>
                  <a:pt x="114" y="9"/>
                </a:lnTo>
                <a:lnTo>
                  <a:pt x="137" y="3"/>
                </a:lnTo>
                <a:lnTo>
                  <a:pt x="152" y="2"/>
                </a:lnTo>
                <a:lnTo>
                  <a:pt x="162" y="2"/>
                </a:lnTo>
                <a:lnTo>
                  <a:pt x="163" y="7"/>
                </a:lnTo>
                <a:lnTo>
                  <a:pt x="163" y="19"/>
                </a:lnTo>
                <a:lnTo>
                  <a:pt x="167" y="48"/>
                </a:lnTo>
                <a:lnTo>
                  <a:pt x="163" y="78"/>
                </a:lnTo>
                <a:lnTo>
                  <a:pt x="163" y="107"/>
                </a:lnTo>
                <a:lnTo>
                  <a:pt x="150" y="119"/>
                </a:lnTo>
                <a:lnTo>
                  <a:pt x="133" y="123"/>
                </a:lnTo>
                <a:lnTo>
                  <a:pt x="112" y="124"/>
                </a:lnTo>
                <a:lnTo>
                  <a:pt x="94" y="126"/>
                </a:lnTo>
                <a:lnTo>
                  <a:pt x="71" y="128"/>
                </a:lnTo>
                <a:lnTo>
                  <a:pt x="50" y="124"/>
                </a:lnTo>
                <a:lnTo>
                  <a:pt x="29" y="119"/>
                </a:lnTo>
                <a:lnTo>
                  <a:pt x="14" y="113"/>
                </a:lnTo>
                <a:lnTo>
                  <a:pt x="8" y="107"/>
                </a:lnTo>
                <a:lnTo>
                  <a:pt x="8" y="103"/>
                </a:lnTo>
                <a:lnTo>
                  <a:pt x="0" y="107"/>
                </a:lnTo>
                <a:lnTo>
                  <a:pt x="0" y="0"/>
                </a:lnTo>
                <a:close/>
              </a:path>
            </a:pathLst>
          </a:custGeom>
          <a:solidFill>
            <a:srgbClr val="ffc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Freeform 9"/>
          <p:cNvSpPr/>
          <p:nvPr/>
        </p:nvSpPr>
        <p:spPr>
          <a:xfrm>
            <a:off x="1008000" y="3100320"/>
            <a:ext cx="271440" cy="209520"/>
          </a:xfrm>
          <a:custGeom>
            <a:avLst/>
            <a:gdLst>
              <a:gd name="textAreaLeft" fmla="*/ 0 w 271440"/>
              <a:gd name="textAreaRight" fmla="*/ 271800 w 271440"/>
              <a:gd name="textAreaTop" fmla="*/ 0 h 209520"/>
              <a:gd name="textAreaBottom" fmla="*/ 209880 h 209520"/>
            </a:gdLst>
            <a:ahLst/>
            <a:rect l="textAreaLeft" t="textAreaTop" r="textAreaRight" b="textAreaBottom"/>
            <a:pathLst>
              <a:path w="171" h="132">
                <a:moveTo>
                  <a:pt x="4" y="2"/>
                </a:moveTo>
                <a:lnTo>
                  <a:pt x="2" y="4"/>
                </a:lnTo>
                <a:lnTo>
                  <a:pt x="35" y="9"/>
                </a:lnTo>
                <a:lnTo>
                  <a:pt x="66" y="13"/>
                </a:lnTo>
                <a:lnTo>
                  <a:pt x="93" y="15"/>
                </a:lnTo>
                <a:lnTo>
                  <a:pt x="116" y="13"/>
                </a:lnTo>
                <a:lnTo>
                  <a:pt x="139" y="7"/>
                </a:lnTo>
                <a:lnTo>
                  <a:pt x="154" y="5"/>
                </a:lnTo>
                <a:lnTo>
                  <a:pt x="164" y="5"/>
                </a:lnTo>
                <a:lnTo>
                  <a:pt x="162" y="4"/>
                </a:lnTo>
                <a:lnTo>
                  <a:pt x="164" y="9"/>
                </a:lnTo>
                <a:lnTo>
                  <a:pt x="164" y="21"/>
                </a:lnTo>
                <a:lnTo>
                  <a:pt x="167" y="50"/>
                </a:lnTo>
                <a:lnTo>
                  <a:pt x="164" y="80"/>
                </a:lnTo>
                <a:lnTo>
                  <a:pt x="164" y="109"/>
                </a:lnTo>
                <a:lnTo>
                  <a:pt x="164" y="107"/>
                </a:lnTo>
                <a:lnTo>
                  <a:pt x="150" y="119"/>
                </a:lnTo>
                <a:lnTo>
                  <a:pt x="152" y="119"/>
                </a:lnTo>
                <a:lnTo>
                  <a:pt x="135" y="123"/>
                </a:lnTo>
                <a:lnTo>
                  <a:pt x="114" y="125"/>
                </a:lnTo>
                <a:lnTo>
                  <a:pt x="96" y="126"/>
                </a:lnTo>
                <a:lnTo>
                  <a:pt x="73" y="128"/>
                </a:lnTo>
                <a:lnTo>
                  <a:pt x="52" y="125"/>
                </a:lnTo>
                <a:lnTo>
                  <a:pt x="31" y="119"/>
                </a:lnTo>
                <a:lnTo>
                  <a:pt x="16" y="113"/>
                </a:lnTo>
                <a:lnTo>
                  <a:pt x="18" y="113"/>
                </a:lnTo>
                <a:lnTo>
                  <a:pt x="12" y="107"/>
                </a:lnTo>
                <a:lnTo>
                  <a:pt x="12" y="109"/>
                </a:lnTo>
                <a:lnTo>
                  <a:pt x="12" y="103"/>
                </a:lnTo>
                <a:lnTo>
                  <a:pt x="10" y="103"/>
                </a:lnTo>
                <a:lnTo>
                  <a:pt x="2" y="107"/>
                </a:lnTo>
                <a:lnTo>
                  <a:pt x="4" y="109"/>
                </a:lnTo>
                <a:lnTo>
                  <a:pt x="4" y="2"/>
                </a:lnTo>
                <a:lnTo>
                  <a:pt x="0" y="2"/>
                </a:lnTo>
                <a:lnTo>
                  <a:pt x="0" y="109"/>
                </a:lnTo>
                <a:lnTo>
                  <a:pt x="0" y="111"/>
                </a:lnTo>
                <a:lnTo>
                  <a:pt x="2" y="111"/>
                </a:lnTo>
                <a:lnTo>
                  <a:pt x="10" y="107"/>
                </a:lnTo>
                <a:lnTo>
                  <a:pt x="8" y="105"/>
                </a:lnTo>
                <a:lnTo>
                  <a:pt x="8" y="109"/>
                </a:lnTo>
                <a:lnTo>
                  <a:pt x="8" y="111"/>
                </a:lnTo>
                <a:lnTo>
                  <a:pt x="14" y="117"/>
                </a:lnTo>
                <a:lnTo>
                  <a:pt x="16" y="117"/>
                </a:lnTo>
                <a:lnTo>
                  <a:pt x="31" y="123"/>
                </a:lnTo>
                <a:lnTo>
                  <a:pt x="52" y="128"/>
                </a:lnTo>
                <a:lnTo>
                  <a:pt x="73" y="132"/>
                </a:lnTo>
                <a:lnTo>
                  <a:pt x="96" y="130"/>
                </a:lnTo>
                <a:lnTo>
                  <a:pt x="114" y="128"/>
                </a:lnTo>
                <a:lnTo>
                  <a:pt x="135" y="126"/>
                </a:lnTo>
                <a:lnTo>
                  <a:pt x="152" y="123"/>
                </a:lnTo>
                <a:lnTo>
                  <a:pt x="154" y="123"/>
                </a:lnTo>
                <a:lnTo>
                  <a:pt x="167" y="111"/>
                </a:lnTo>
                <a:lnTo>
                  <a:pt x="167" y="109"/>
                </a:lnTo>
                <a:lnTo>
                  <a:pt x="167" y="80"/>
                </a:lnTo>
                <a:lnTo>
                  <a:pt x="171" y="50"/>
                </a:lnTo>
                <a:lnTo>
                  <a:pt x="167" y="21"/>
                </a:lnTo>
                <a:lnTo>
                  <a:pt x="167" y="9"/>
                </a:lnTo>
                <a:lnTo>
                  <a:pt x="165" y="4"/>
                </a:lnTo>
                <a:lnTo>
                  <a:pt x="165" y="2"/>
                </a:lnTo>
                <a:lnTo>
                  <a:pt x="164" y="2"/>
                </a:lnTo>
                <a:lnTo>
                  <a:pt x="154" y="2"/>
                </a:lnTo>
                <a:lnTo>
                  <a:pt x="139" y="4"/>
                </a:lnTo>
                <a:lnTo>
                  <a:pt x="116" y="9"/>
                </a:lnTo>
                <a:lnTo>
                  <a:pt x="93" y="11"/>
                </a:lnTo>
                <a:lnTo>
                  <a:pt x="66" y="9"/>
                </a:lnTo>
                <a:lnTo>
                  <a:pt x="35" y="5"/>
                </a:lnTo>
                <a:lnTo>
                  <a:pt x="2" y="0"/>
                </a:lnTo>
                <a:lnTo>
                  <a:pt x="0" y="0"/>
                </a:lnTo>
                <a:lnTo>
                  <a:pt x="0" y="2"/>
                </a:lnTo>
                <a:lnTo>
                  <a:pt x="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Freeform 10"/>
          <p:cNvSpPr/>
          <p:nvPr/>
        </p:nvSpPr>
        <p:spPr>
          <a:xfrm>
            <a:off x="1008000" y="435600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67" h="144">
                <a:moveTo>
                  <a:pt x="2" y="10"/>
                </a:moveTo>
                <a:lnTo>
                  <a:pt x="44" y="23"/>
                </a:lnTo>
                <a:lnTo>
                  <a:pt x="87" y="25"/>
                </a:lnTo>
                <a:lnTo>
                  <a:pt x="98" y="25"/>
                </a:lnTo>
                <a:lnTo>
                  <a:pt x="108" y="27"/>
                </a:lnTo>
                <a:lnTo>
                  <a:pt x="129" y="23"/>
                </a:lnTo>
                <a:lnTo>
                  <a:pt x="148" y="13"/>
                </a:lnTo>
                <a:lnTo>
                  <a:pt x="154" y="6"/>
                </a:lnTo>
                <a:lnTo>
                  <a:pt x="160" y="2"/>
                </a:lnTo>
                <a:lnTo>
                  <a:pt x="164" y="0"/>
                </a:lnTo>
                <a:lnTo>
                  <a:pt x="165" y="2"/>
                </a:lnTo>
                <a:lnTo>
                  <a:pt x="165" y="27"/>
                </a:lnTo>
                <a:lnTo>
                  <a:pt x="165" y="83"/>
                </a:lnTo>
                <a:lnTo>
                  <a:pt x="165" y="119"/>
                </a:lnTo>
                <a:lnTo>
                  <a:pt x="165" y="132"/>
                </a:lnTo>
                <a:lnTo>
                  <a:pt x="167" y="142"/>
                </a:lnTo>
                <a:lnTo>
                  <a:pt x="165" y="144"/>
                </a:lnTo>
                <a:lnTo>
                  <a:pt x="164" y="140"/>
                </a:lnTo>
                <a:lnTo>
                  <a:pt x="158" y="132"/>
                </a:lnTo>
                <a:lnTo>
                  <a:pt x="148" y="123"/>
                </a:lnTo>
                <a:lnTo>
                  <a:pt x="127" y="109"/>
                </a:lnTo>
                <a:lnTo>
                  <a:pt x="102" y="106"/>
                </a:lnTo>
                <a:lnTo>
                  <a:pt x="77" y="107"/>
                </a:lnTo>
                <a:lnTo>
                  <a:pt x="54" y="113"/>
                </a:lnTo>
                <a:lnTo>
                  <a:pt x="39" y="119"/>
                </a:lnTo>
                <a:lnTo>
                  <a:pt x="27" y="123"/>
                </a:lnTo>
                <a:lnTo>
                  <a:pt x="21" y="123"/>
                </a:lnTo>
                <a:lnTo>
                  <a:pt x="10" y="119"/>
                </a:lnTo>
                <a:lnTo>
                  <a:pt x="2" y="111"/>
                </a:lnTo>
                <a:lnTo>
                  <a:pt x="2" y="107"/>
                </a:lnTo>
                <a:lnTo>
                  <a:pt x="0" y="104"/>
                </a:lnTo>
                <a:lnTo>
                  <a:pt x="2" y="10"/>
                </a:lnTo>
                <a:close/>
              </a:path>
            </a:pathLst>
          </a:custGeom>
          <a:solidFill>
            <a:srgbClr val="ffc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Freeform 11"/>
          <p:cNvSpPr/>
          <p:nvPr/>
        </p:nvSpPr>
        <p:spPr>
          <a:xfrm>
            <a:off x="1004760" y="4352760"/>
            <a:ext cx="271440" cy="235080"/>
          </a:xfrm>
          <a:custGeom>
            <a:avLst/>
            <a:gdLst>
              <a:gd name="textAreaLeft" fmla="*/ 0 w 271440"/>
              <a:gd name="textAreaRight" fmla="*/ 271800 w 271440"/>
              <a:gd name="textAreaTop" fmla="*/ 0 h 235080"/>
              <a:gd name="textAreaBottom" fmla="*/ 235440 h 235080"/>
            </a:gdLst>
            <a:ahLst/>
            <a:rect l="textAreaLeft" t="textAreaTop" r="textAreaRight" b="textAreaBottom"/>
            <a:pathLst>
              <a:path w="171" h="148">
                <a:moveTo>
                  <a:pt x="6" y="12"/>
                </a:moveTo>
                <a:lnTo>
                  <a:pt x="4" y="13"/>
                </a:lnTo>
                <a:lnTo>
                  <a:pt x="46" y="27"/>
                </a:lnTo>
                <a:lnTo>
                  <a:pt x="89" y="29"/>
                </a:lnTo>
                <a:lnTo>
                  <a:pt x="100" y="29"/>
                </a:lnTo>
                <a:lnTo>
                  <a:pt x="110" y="31"/>
                </a:lnTo>
                <a:lnTo>
                  <a:pt x="131" y="27"/>
                </a:lnTo>
                <a:lnTo>
                  <a:pt x="150" y="17"/>
                </a:lnTo>
                <a:lnTo>
                  <a:pt x="152" y="17"/>
                </a:lnTo>
                <a:lnTo>
                  <a:pt x="158" y="10"/>
                </a:lnTo>
                <a:lnTo>
                  <a:pt x="164" y="6"/>
                </a:lnTo>
                <a:lnTo>
                  <a:pt x="162" y="6"/>
                </a:lnTo>
                <a:lnTo>
                  <a:pt x="166" y="4"/>
                </a:lnTo>
                <a:lnTo>
                  <a:pt x="164" y="4"/>
                </a:lnTo>
                <a:lnTo>
                  <a:pt x="166" y="6"/>
                </a:lnTo>
                <a:lnTo>
                  <a:pt x="166" y="4"/>
                </a:lnTo>
                <a:lnTo>
                  <a:pt x="166" y="134"/>
                </a:lnTo>
                <a:lnTo>
                  <a:pt x="167" y="144"/>
                </a:lnTo>
                <a:lnTo>
                  <a:pt x="167" y="142"/>
                </a:lnTo>
                <a:lnTo>
                  <a:pt x="166" y="144"/>
                </a:lnTo>
                <a:lnTo>
                  <a:pt x="169" y="146"/>
                </a:lnTo>
                <a:lnTo>
                  <a:pt x="167" y="142"/>
                </a:lnTo>
                <a:lnTo>
                  <a:pt x="167" y="140"/>
                </a:lnTo>
                <a:lnTo>
                  <a:pt x="162" y="133"/>
                </a:lnTo>
                <a:lnTo>
                  <a:pt x="152" y="123"/>
                </a:lnTo>
                <a:lnTo>
                  <a:pt x="131" y="109"/>
                </a:lnTo>
                <a:lnTo>
                  <a:pt x="129" y="109"/>
                </a:lnTo>
                <a:lnTo>
                  <a:pt x="104" y="106"/>
                </a:lnTo>
                <a:lnTo>
                  <a:pt x="79" y="108"/>
                </a:lnTo>
                <a:lnTo>
                  <a:pt x="56" y="113"/>
                </a:lnTo>
                <a:lnTo>
                  <a:pt x="41" y="119"/>
                </a:lnTo>
                <a:lnTo>
                  <a:pt x="29" y="123"/>
                </a:lnTo>
                <a:lnTo>
                  <a:pt x="23" y="123"/>
                </a:lnTo>
                <a:lnTo>
                  <a:pt x="12" y="119"/>
                </a:lnTo>
                <a:lnTo>
                  <a:pt x="14" y="119"/>
                </a:lnTo>
                <a:lnTo>
                  <a:pt x="6" y="111"/>
                </a:lnTo>
                <a:lnTo>
                  <a:pt x="6" y="113"/>
                </a:lnTo>
                <a:lnTo>
                  <a:pt x="6" y="109"/>
                </a:lnTo>
                <a:lnTo>
                  <a:pt x="4" y="106"/>
                </a:lnTo>
                <a:lnTo>
                  <a:pt x="6" y="12"/>
                </a:lnTo>
                <a:lnTo>
                  <a:pt x="2" y="12"/>
                </a:lnTo>
                <a:lnTo>
                  <a:pt x="0" y="106"/>
                </a:lnTo>
                <a:lnTo>
                  <a:pt x="2" y="109"/>
                </a:lnTo>
                <a:lnTo>
                  <a:pt x="2" y="113"/>
                </a:lnTo>
                <a:lnTo>
                  <a:pt x="2" y="115"/>
                </a:lnTo>
                <a:lnTo>
                  <a:pt x="10" y="123"/>
                </a:lnTo>
                <a:lnTo>
                  <a:pt x="12" y="123"/>
                </a:lnTo>
                <a:lnTo>
                  <a:pt x="23" y="127"/>
                </a:lnTo>
                <a:lnTo>
                  <a:pt x="29" y="127"/>
                </a:lnTo>
                <a:lnTo>
                  <a:pt x="41" y="123"/>
                </a:lnTo>
                <a:lnTo>
                  <a:pt x="56" y="117"/>
                </a:lnTo>
                <a:lnTo>
                  <a:pt x="79" y="111"/>
                </a:lnTo>
                <a:lnTo>
                  <a:pt x="104" y="109"/>
                </a:lnTo>
                <a:lnTo>
                  <a:pt x="129" y="113"/>
                </a:lnTo>
                <a:lnTo>
                  <a:pt x="127" y="113"/>
                </a:lnTo>
                <a:lnTo>
                  <a:pt x="148" y="127"/>
                </a:lnTo>
                <a:lnTo>
                  <a:pt x="158" y="136"/>
                </a:lnTo>
                <a:lnTo>
                  <a:pt x="164" y="144"/>
                </a:lnTo>
                <a:lnTo>
                  <a:pt x="164" y="142"/>
                </a:lnTo>
                <a:lnTo>
                  <a:pt x="166" y="146"/>
                </a:lnTo>
                <a:lnTo>
                  <a:pt x="166" y="148"/>
                </a:lnTo>
                <a:lnTo>
                  <a:pt x="167" y="148"/>
                </a:lnTo>
                <a:lnTo>
                  <a:pt x="169" y="148"/>
                </a:lnTo>
                <a:lnTo>
                  <a:pt x="171" y="146"/>
                </a:lnTo>
                <a:lnTo>
                  <a:pt x="171" y="144"/>
                </a:lnTo>
                <a:lnTo>
                  <a:pt x="169" y="134"/>
                </a:lnTo>
                <a:lnTo>
                  <a:pt x="169" y="4"/>
                </a:lnTo>
                <a:lnTo>
                  <a:pt x="169" y="2"/>
                </a:lnTo>
                <a:lnTo>
                  <a:pt x="167" y="0"/>
                </a:lnTo>
                <a:lnTo>
                  <a:pt x="166" y="0"/>
                </a:lnTo>
                <a:lnTo>
                  <a:pt x="162" y="2"/>
                </a:lnTo>
                <a:lnTo>
                  <a:pt x="160" y="2"/>
                </a:lnTo>
                <a:lnTo>
                  <a:pt x="154" y="6"/>
                </a:lnTo>
                <a:lnTo>
                  <a:pt x="148" y="13"/>
                </a:lnTo>
                <a:lnTo>
                  <a:pt x="150" y="13"/>
                </a:lnTo>
                <a:lnTo>
                  <a:pt x="131" y="23"/>
                </a:lnTo>
                <a:lnTo>
                  <a:pt x="110" y="27"/>
                </a:lnTo>
                <a:lnTo>
                  <a:pt x="100" y="25"/>
                </a:lnTo>
                <a:lnTo>
                  <a:pt x="89" y="25"/>
                </a:lnTo>
                <a:lnTo>
                  <a:pt x="46" y="23"/>
                </a:lnTo>
                <a:lnTo>
                  <a:pt x="4" y="10"/>
                </a:lnTo>
                <a:lnTo>
                  <a:pt x="2" y="10"/>
                </a:lnTo>
                <a:lnTo>
                  <a:pt x="2" y="12"/>
                </a:lnTo>
                <a:lnTo>
                  <a:pt x="6"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Freeform 12"/>
          <p:cNvSpPr/>
          <p:nvPr/>
        </p:nvSpPr>
        <p:spPr>
          <a:xfrm>
            <a:off x="1004760" y="4630680"/>
            <a:ext cx="265320" cy="347760"/>
          </a:xfrm>
          <a:custGeom>
            <a:avLst/>
            <a:gdLst>
              <a:gd name="textAreaLeft" fmla="*/ 0 w 265320"/>
              <a:gd name="textAreaRight" fmla="*/ 265680 w 265320"/>
              <a:gd name="textAreaTop" fmla="*/ 0 h 347760"/>
              <a:gd name="textAreaBottom" fmla="*/ 348120 h 347760"/>
            </a:gdLst>
            <a:ahLst/>
            <a:rect l="textAreaLeft" t="textAreaTop" r="textAreaRight" b="textAreaBottom"/>
            <a:pathLst>
              <a:path w="167" h="219">
                <a:moveTo>
                  <a:pt x="2" y="32"/>
                </a:moveTo>
                <a:lnTo>
                  <a:pt x="8" y="29"/>
                </a:lnTo>
                <a:lnTo>
                  <a:pt x="14" y="23"/>
                </a:lnTo>
                <a:lnTo>
                  <a:pt x="22" y="21"/>
                </a:lnTo>
                <a:lnTo>
                  <a:pt x="31" y="19"/>
                </a:lnTo>
                <a:lnTo>
                  <a:pt x="46" y="25"/>
                </a:lnTo>
                <a:lnTo>
                  <a:pt x="64" y="29"/>
                </a:lnTo>
                <a:lnTo>
                  <a:pt x="85" y="32"/>
                </a:lnTo>
                <a:lnTo>
                  <a:pt x="100" y="32"/>
                </a:lnTo>
                <a:lnTo>
                  <a:pt x="112" y="31"/>
                </a:lnTo>
                <a:lnTo>
                  <a:pt x="119" y="23"/>
                </a:lnTo>
                <a:lnTo>
                  <a:pt x="133" y="17"/>
                </a:lnTo>
                <a:lnTo>
                  <a:pt x="144" y="11"/>
                </a:lnTo>
                <a:lnTo>
                  <a:pt x="162" y="0"/>
                </a:lnTo>
                <a:lnTo>
                  <a:pt x="164" y="0"/>
                </a:lnTo>
                <a:lnTo>
                  <a:pt x="166" y="2"/>
                </a:lnTo>
                <a:lnTo>
                  <a:pt x="167" y="11"/>
                </a:lnTo>
                <a:lnTo>
                  <a:pt x="167" y="32"/>
                </a:lnTo>
                <a:lnTo>
                  <a:pt x="166" y="182"/>
                </a:lnTo>
                <a:lnTo>
                  <a:pt x="166" y="205"/>
                </a:lnTo>
                <a:lnTo>
                  <a:pt x="164" y="215"/>
                </a:lnTo>
                <a:lnTo>
                  <a:pt x="162" y="219"/>
                </a:lnTo>
                <a:lnTo>
                  <a:pt x="158" y="219"/>
                </a:lnTo>
                <a:lnTo>
                  <a:pt x="146" y="217"/>
                </a:lnTo>
                <a:lnTo>
                  <a:pt x="127" y="215"/>
                </a:lnTo>
                <a:lnTo>
                  <a:pt x="87" y="209"/>
                </a:lnTo>
                <a:lnTo>
                  <a:pt x="39" y="209"/>
                </a:lnTo>
                <a:lnTo>
                  <a:pt x="0" y="209"/>
                </a:lnTo>
                <a:lnTo>
                  <a:pt x="2" y="32"/>
                </a:lnTo>
                <a:close/>
              </a:path>
            </a:pathLst>
          </a:custGeom>
          <a:solidFill>
            <a:srgbClr val="ffc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Freeform 13"/>
          <p:cNvSpPr/>
          <p:nvPr/>
        </p:nvSpPr>
        <p:spPr>
          <a:xfrm>
            <a:off x="1001880" y="4627440"/>
            <a:ext cx="271440" cy="354240"/>
          </a:xfrm>
          <a:custGeom>
            <a:avLst/>
            <a:gdLst>
              <a:gd name="textAreaLeft" fmla="*/ 0 w 271440"/>
              <a:gd name="textAreaRight" fmla="*/ 271800 w 271440"/>
              <a:gd name="textAreaTop" fmla="*/ 0 h 354240"/>
              <a:gd name="textAreaBottom" fmla="*/ 354240 h 354240"/>
            </a:gdLst>
            <a:ahLst/>
            <a:rect l="textAreaLeft" t="textAreaTop" r="textAreaRight" b="textAreaBottom"/>
            <a:pathLst>
              <a:path w="171" h="223">
                <a:moveTo>
                  <a:pt x="6" y="34"/>
                </a:moveTo>
                <a:lnTo>
                  <a:pt x="6" y="36"/>
                </a:lnTo>
                <a:lnTo>
                  <a:pt x="12" y="33"/>
                </a:lnTo>
                <a:lnTo>
                  <a:pt x="18" y="27"/>
                </a:lnTo>
                <a:lnTo>
                  <a:pt x="16" y="27"/>
                </a:lnTo>
                <a:lnTo>
                  <a:pt x="24" y="25"/>
                </a:lnTo>
                <a:lnTo>
                  <a:pt x="33" y="23"/>
                </a:lnTo>
                <a:lnTo>
                  <a:pt x="48" y="29"/>
                </a:lnTo>
                <a:lnTo>
                  <a:pt x="66" y="33"/>
                </a:lnTo>
                <a:lnTo>
                  <a:pt x="87" y="36"/>
                </a:lnTo>
                <a:lnTo>
                  <a:pt x="102" y="36"/>
                </a:lnTo>
                <a:lnTo>
                  <a:pt x="114" y="34"/>
                </a:lnTo>
                <a:lnTo>
                  <a:pt x="116" y="34"/>
                </a:lnTo>
                <a:lnTo>
                  <a:pt x="123" y="27"/>
                </a:lnTo>
                <a:lnTo>
                  <a:pt x="121" y="27"/>
                </a:lnTo>
                <a:lnTo>
                  <a:pt x="135" y="21"/>
                </a:lnTo>
                <a:lnTo>
                  <a:pt x="146" y="15"/>
                </a:lnTo>
                <a:lnTo>
                  <a:pt x="148" y="15"/>
                </a:lnTo>
                <a:lnTo>
                  <a:pt x="166" y="4"/>
                </a:lnTo>
                <a:lnTo>
                  <a:pt x="164" y="4"/>
                </a:lnTo>
                <a:lnTo>
                  <a:pt x="166" y="4"/>
                </a:lnTo>
                <a:lnTo>
                  <a:pt x="164" y="4"/>
                </a:lnTo>
                <a:lnTo>
                  <a:pt x="166" y="6"/>
                </a:lnTo>
                <a:lnTo>
                  <a:pt x="166" y="4"/>
                </a:lnTo>
                <a:lnTo>
                  <a:pt x="168" y="13"/>
                </a:lnTo>
                <a:lnTo>
                  <a:pt x="168" y="34"/>
                </a:lnTo>
                <a:lnTo>
                  <a:pt x="166" y="184"/>
                </a:lnTo>
                <a:lnTo>
                  <a:pt x="166" y="207"/>
                </a:lnTo>
                <a:lnTo>
                  <a:pt x="164" y="217"/>
                </a:lnTo>
                <a:lnTo>
                  <a:pt x="162" y="221"/>
                </a:lnTo>
                <a:lnTo>
                  <a:pt x="164" y="219"/>
                </a:lnTo>
                <a:lnTo>
                  <a:pt x="160" y="219"/>
                </a:lnTo>
                <a:lnTo>
                  <a:pt x="148" y="217"/>
                </a:lnTo>
                <a:lnTo>
                  <a:pt x="129" y="215"/>
                </a:lnTo>
                <a:lnTo>
                  <a:pt x="89" y="209"/>
                </a:lnTo>
                <a:lnTo>
                  <a:pt x="2" y="209"/>
                </a:lnTo>
                <a:lnTo>
                  <a:pt x="4" y="211"/>
                </a:lnTo>
                <a:lnTo>
                  <a:pt x="6" y="34"/>
                </a:lnTo>
                <a:lnTo>
                  <a:pt x="2" y="34"/>
                </a:lnTo>
                <a:lnTo>
                  <a:pt x="0" y="211"/>
                </a:lnTo>
                <a:lnTo>
                  <a:pt x="0" y="213"/>
                </a:lnTo>
                <a:lnTo>
                  <a:pt x="2" y="213"/>
                </a:lnTo>
                <a:lnTo>
                  <a:pt x="89" y="213"/>
                </a:lnTo>
                <a:lnTo>
                  <a:pt x="129" y="219"/>
                </a:lnTo>
                <a:lnTo>
                  <a:pt x="148" y="221"/>
                </a:lnTo>
                <a:lnTo>
                  <a:pt x="160" y="223"/>
                </a:lnTo>
                <a:lnTo>
                  <a:pt x="164" y="223"/>
                </a:lnTo>
                <a:lnTo>
                  <a:pt x="166" y="223"/>
                </a:lnTo>
                <a:lnTo>
                  <a:pt x="166" y="221"/>
                </a:lnTo>
                <a:lnTo>
                  <a:pt x="168" y="217"/>
                </a:lnTo>
                <a:lnTo>
                  <a:pt x="169" y="207"/>
                </a:lnTo>
                <a:lnTo>
                  <a:pt x="169" y="184"/>
                </a:lnTo>
                <a:lnTo>
                  <a:pt x="171" y="34"/>
                </a:lnTo>
                <a:lnTo>
                  <a:pt x="171" y="13"/>
                </a:lnTo>
                <a:lnTo>
                  <a:pt x="169" y="4"/>
                </a:lnTo>
                <a:lnTo>
                  <a:pt x="169" y="2"/>
                </a:lnTo>
                <a:lnTo>
                  <a:pt x="168" y="0"/>
                </a:lnTo>
                <a:lnTo>
                  <a:pt x="166" y="0"/>
                </a:lnTo>
                <a:lnTo>
                  <a:pt x="164" y="0"/>
                </a:lnTo>
                <a:lnTo>
                  <a:pt x="162" y="0"/>
                </a:lnTo>
                <a:lnTo>
                  <a:pt x="145" y="11"/>
                </a:lnTo>
                <a:lnTo>
                  <a:pt x="146" y="11"/>
                </a:lnTo>
                <a:lnTo>
                  <a:pt x="135" y="17"/>
                </a:lnTo>
                <a:lnTo>
                  <a:pt x="121" y="23"/>
                </a:lnTo>
                <a:lnTo>
                  <a:pt x="120" y="23"/>
                </a:lnTo>
                <a:lnTo>
                  <a:pt x="112" y="31"/>
                </a:lnTo>
                <a:lnTo>
                  <a:pt x="114" y="31"/>
                </a:lnTo>
                <a:lnTo>
                  <a:pt x="102" y="33"/>
                </a:lnTo>
                <a:lnTo>
                  <a:pt x="87" y="33"/>
                </a:lnTo>
                <a:lnTo>
                  <a:pt x="66" y="29"/>
                </a:lnTo>
                <a:lnTo>
                  <a:pt x="48" y="25"/>
                </a:lnTo>
                <a:lnTo>
                  <a:pt x="33" y="19"/>
                </a:lnTo>
                <a:lnTo>
                  <a:pt x="24" y="21"/>
                </a:lnTo>
                <a:lnTo>
                  <a:pt x="16" y="23"/>
                </a:lnTo>
                <a:lnTo>
                  <a:pt x="14" y="23"/>
                </a:lnTo>
                <a:lnTo>
                  <a:pt x="8" y="29"/>
                </a:lnTo>
                <a:lnTo>
                  <a:pt x="2" y="33"/>
                </a:lnTo>
                <a:lnTo>
                  <a:pt x="2" y="34"/>
                </a:lnTo>
                <a:lnTo>
                  <a:pt x="6"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Freeform 14"/>
          <p:cNvSpPr/>
          <p:nvPr/>
        </p:nvSpPr>
        <p:spPr>
          <a:xfrm>
            <a:off x="1004760" y="5021280"/>
            <a:ext cx="271440" cy="1587600"/>
          </a:xfrm>
          <a:custGeom>
            <a:avLst/>
            <a:gdLst>
              <a:gd name="textAreaLeft" fmla="*/ 0 w 271440"/>
              <a:gd name="textAreaRight" fmla="*/ 271800 w 271440"/>
              <a:gd name="textAreaTop" fmla="*/ 0 h 1587600"/>
              <a:gd name="textAreaBottom" fmla="*/ 1587960 h 1587600"/>
            </a:gdLst>
            <a:ahLst/>
            <a:rect l="textAreaLeft" t="textAreaTop" r="textAreaRight" b="textAreaBottom"/>
            <a:pathLst>
              <a:path w="171" h="1000">
                <a:moveTo>
                  <a:pt x="0" y="0"/>
                </a:moveTo>
                <a:lnTo>
                  <a:pt x="25" y="7"/>
                </a:lnTo>
                <a:lnTo>
                  <a:pt x="48" y="13"/>
                </a:lnTo>
                <a:lnTo>
                  <a:pt x="70" y="17"/>
                </a:lnTo>
                <a:lnTo>
                  <a:pt x="95" y="17"/>
                </a:lnTo>
                <a:lnTo>
                  <a:pt x="127" y="15"/>
                </a:lnTo>
                <a:lnTo>
                  <a:pt x="143" y="11"/>
                </a:lnTo>
                <a:lnTo>
                  <a:pt x="154" y="5"/>
                </a:lnTo>
                <a:lnTo>
                  <a:pt x="164" y="0"/>
                </a:lnTo>
                <a:lnTo>
                  <a:pt x="166" y="2"/>
                </a:lnTo>
                <a:lnTo>
                  <a:pt x="169" y="3"/>
                </a:lnTo>
                <a:lnTo>
                  <a:pt x="169" y="13"/>
                </a:lnTo>
                <a:lnTo>
                  <a:pt x="171" y="26"/>
                </a:lnTo>
                <a:lnTo>
                  <a:pt x="171" y="76"/>
                </a:lnTo>
                <a:lnTo>
                  <a:pt x="171" y="274"/>
                </a:lnTo>
                <a:lnTo>
                  <a:pt x="169" y="528"/>
                </a:lnTo>
                <a:lnTo>
                  <a:pt x="169" y="968"/>
                </a:lnTo>
                <a:lnTo>
                  <a:pt x="167" y="969"/>
                </a:lnTo>
                <a:lnTo>
                  <a:pt x="166" y="969"/>
                </a:lnTo>
                <a:lnTo>
                  <a:pt x="162" y="973"/>
                </a:lnTo>
                <a:lnTo>
                  <a:pt x="160" y="973"/>
                </a:lnTo>
                <a:lnTo>
                  <a:pt x="160" y="975"/>
                </a:lnTo>
                <a:lnTo>
                  <a:pt x="158" y="977"/>
                </a:lnTo>
                <a:lnTo>
                  <a:pt x="156" y="977"/>
                </a:lnTo>
                <a:lnTo>
                  <a:pt x="152" y="981"/>
                </a:lnTo>
                <a:lnTo>
                  <a:pt x="150" y="981"/>
                </a:lnTo>
                <a:lnTo>
                  <a:pt x="148" y="983"/>
                </a:lnTo>
                <a:lnTo>
                  <a:pt x="146" y="983"/>
                </a:lnTo>
                <a:lnTo>
                  <a:pt x="144" y="985"/>
                </a:lnTo>
                <a:lnTo>
                  <a:pt x="143" y="985"/>
                </a:lnTo>
                <a:lnTo>
                  <a:pt x="139" y="989"/>
                </a:lnTo>
                <a:lnTo>
                  <a:pt x="135" y="989"/>
                </a:lnTo>
                <a:lnTo>
                  <a:pt x="133" y="991"/>
                </a:lnTo>
                <a:lnTo>
                  <a:pt x="131" y="991"/>
                </a:lnTo>
                <a:lnTo>
                  <a:pt x="129" y="992"/>
                </a:lnTo>
                <a:lnTo>
                  <a:pt x="125" y="992"/>
                </a:lnTo>
                <a:lnTo>
                  <a:pt x="123" y="994"/>
                </a:lnTo>
                <a:lnTo>
                  <a:pt x="119" y="994"/>
                </a:lnTo>
                <a:lnTo>
                  <a:pt x="118" y="996"/>
                </a:lnTo>
                <a:lnTo>
                  <a:pt x="114" y="996"/>
                </a:lnTo>
                <a:lnTo>
                  <a:pt x="112" y="998"/>
                </a:lnTo>
                <a:lnTo>
                  <a:pt x="102" y="998"/>
                </a:lnTo>
                <a:lnTo>
                  <a:pt x="100" y="1000"/>
                </a:lnTo>
                <a:lnTo>
                  <a:pt x="73" y="1000"/>
                </a:lnTo>
                <a:lnTo>
                  <a:pt x="71" y="998"/>
                </a:lnTo>
                <a:lnTo>
                  <a:pt x="64" y="998"/>
                </a:lnTo>
                <a:lnTo>
                  <a:pt x="62" y="996"/>
                </a:lnTo>
                <a:lnTo>
                  <a:pt x="56" y="996"/>
                </a:lnTo>
                <a:lnTo>
                  <a:pt x="54" y="994"/>
                </a:lnTo>
                <a:lnTo>
                  <a:pt x="48" y="994"/>
                </a:lnTo>
                <a:lnTo>
                  <a:pt x="46" y="992"/>
                </a:lnTo>
                <a:lnTo>
                  <a:pt x="45" y="992"/>
                </a:lnTo>
                <a:lnTo>
                  <a:pt x="43" y="991"/>
                </a:lnTo>
                <a:lnTo>
                  <a:pt x="39" y="991"/>
                </a:lnTo>
                <a:lnTo>
                  <a:pt x="37" y="989"/>
                </a:lnTo>
                <a:lnTo>
                  <a:pt x="35" y="989"/>
                </a:lnTo>
                <a:lnTo>
                  <a:pt x="33" y="987"/>
                </a:lnTo>
                <a:lnTo>
                  <a:pt x="31" y="987"/>
                </a:lnTo>
                <a:lnTo>
                  <a:pt x="29" y="985"/>
                </a:lnTo>
                <a:lnTo>
                  <a:pt x="27" y="985"/>
                </a:lnTo>
                <a:lnTo>
                  <a:pt x="25" y="983"/>
                </a:lnTo>
                <a:lnTo>
                  <a:pt x="23" y="983"/>
                </a:lnTo>
                <a:lnTo>
                  <a:pt x="22" y="981"/>
                </a:lnTo>
                <a:lnTo>
                  <a:pt x="20" y="981"/>
                </a:lnTo>
                <a:lnTo>
                  <a:pt x="18" y="979"/>
                </a:lnTo>
                <a:lnTo>
                  <a:pt x="16" y="979"/>
                </a:lnTo>
                <a:lnTo>
                  <a:pt x="12" y="975"/>
                </a:lnTo>
                <a:lnTo>
                  <a:pt x="10" y="975"/>
                </a:lnTo>
                <a:lnTo>
                  <a:pt x="6" y="971"/>
                </a:lnTo>
                <a:lnTo>
                  <a:pt x="2" y="968"/>
                </a:lnTo>
                <a:lnTo>
                  <a:pt x="0" y="968"/>
                </a:lnTo>
                <a:lnTo>
                  <a:pt x="0" y="0"/>
                </a:lnTo>
                <a:close/>
              </a:path>
            </a:pathLst>
          </a:custGeom>
          <a:solidFill>
            <a:srgbClr val="ffc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Freeform 15"/>
          <p:cNvSpPr/>
          <p:nvPr/>
        </p:nvSpPr>
        <p:spPr>
          <a:xfrm>
            <a:off x="1001880" y="5018040"/>
            <a:ext cx="277560" cy="1593720"/>
          </a:xfrm>
          <a:custGeom>
            <a:avLst/>
            <a:gdLst>
              <a:gd name="textAreaLeft" fmla="*/ 0 w 277560"/>
              <a:gd name="textAreaRight" fmla="*/ 277560 w 277560"/>
              <a:gd name="textAreaTop" fmla="*/ 0 h 1593720"/>
              <a:gd name="textAreaBottom" fmla="*/ 1594080 h 1593720"/>
            </a:gdLst>
            <a:ahLst/>
            <a:rect l="textAreaLeft" t="textAreaTop" r="textAreaRight" b="textAreaBottom"/>
            <a:pathLst>
              <a:path w="175" h="1004">
                <a:moveTo>
                  <a:pt x="4" y="2"/>
                </a:moveTo>
                <a:lnTo>
                  <a:pt x="2" y="4"/>
                </a:lnTo>
                <a:lnTo>
                  <a:pt x="27" y="11"/>
                </a:lnTo>
                <a:lnTo>
                  <a:pt x="50" y="17"/>
                </a:lnTo>
                <a:lnTo>
                  <a:pt x="72" y="21"/>
                </a:lnTo>
                <a:lnTo>
                  <a:pt x="97" y="21"/>
                </a:lnTo>
                <a:lnTo>
                  <a:pt x="129" y="19"/>
                </a:lnTo>
                <a:lnTo>
                  <a:pt x="145" y="15"/>
                </a:lnTo>
                <a:lnTo>
                  <a:pt x="156" y="9"/>
                </a:lnTo>
                <a:lnTo>
                  <a:pt x="158" y="9"/>
                </a:lnTo>
                <a:lnTo>
                  <a:pt x="168" y="4"/>
                </a:lnTo>
                <a:lnTo>
                  <a:pt x="164" y="4"/>
                </a:lnTo>
                <a:lnTo>
                  <a:pt x="166" y="5"/>
                </a:lnTo>
                <a:lnTo>
                  <a:pt x="168" y="5"/>
                </a:lnTo>
                <a:lnTo>
                  <a:pt x="171" y="7"/>
                </a:lnTo>
                <a:lnTo>
                  <a:pt x="169" y="5"/>
                </a:lnTo>
                <a:lnTo>
                  <a:pt x="169" y="15"/>
                </a:lnTo>
                <a:lnTo>
                  <a:pt x="171" y="28"/>
                </a:lnTo>
                <a:lnTo>
                  <a:pt x="171" y="276"/>
                </a:lnTo>
                <a:lnTo>
                  <a:pt x="169" y="530"/>
                </a:lnTo>
                <a:lnTo>
                  <a:pt x="169" y="970"/>
                </a:lnTo>
                <a:lnTo>
                  <a:pt x="169" y="968"/>
                </a:lnTo>
                <a:lnTo>
                  <a:pt x="168" y="970"/>
                </a:lnTo>
                <a:lnTo>
                  <a:pt x="169" y="970"/>
                </a:lnTo>
                <a:lnTo>
                  <a:pt x="166" y="970"/>
                </a:lnTo>
                <a:lnTo>
                  <a:pt x="162" y="973"/>
                </a:lnTo>
                <a:lnTo>
                  <a:pt x="164" y="973"/>
                </a:lnTo>
                <a:lnTo>
                  <a:pt x="160" y="973"/>
                </a:lnTo>
                <a:lnTo>
                  <a:pt x="160" y="977"/>
                </a:lnTo>
                <a:lnTo>
                  <a:pt x="160" y="975"/>
                </a:lnTo>
                <a:lnTo>
                  <a:pt x="158" y="977"/>
                </a:lnTo>
                <a:lnTo>
                  <a:pt x="160" y="977"/>
                </a:lnTo>
                <a:lnTo>
                  <a:pt x="156" y="977"/>
                </a:lnTo>
                <a:lnTo>
                  <a:pt x="152" y="981"/>
                </a:lnTo>
                <a:lnTo>
                  <a:pt x="154" y="981"/>
                </a:lnTo>
                <a:lnTo>
                  <a:pt x="150" y="981"/>
                </a:lnTo>
                <a:lnTo>
                  <a:pt x="148" y="983"/>
                </a:lnTo>
                <a:lnTo>
                  <a:pt x="150" y="983"/>
                </a:lnTo>
                <a:lnTo>
                  <a:pt x="146" y="983"/>
                </a:lnTo>
                <a:lnTo>
                  <a:pt x="145" y="985"/>
                </a:lnTo>
                <a:lnTo>
                  <a:pt x="146" y="985"/>
                </a:lnTo>
                <a:lnTo>
                  <a:pt x="143" y="985"/>
                </a:lnTo>
                <a:lnTo>
                  <a:pt x="139" y="989"/>
                </a:lnTo>
                <a:lnTo>
                  <a:pt x="141" y="989"/>
                </a:lnTo>
                <a:lnTo>
                  <a:pt x="135" y="989"/>
                </a:lnTo>
                <a:lnTo>
                  <a:pt x="133" y="991"/>
                </a:lnTo>
                <a:lnTo>
                  <a:pt x="135" y="991"/>
                </a:lnTo>
                <a:lnTo>
                  <a:pt x="131" y="991"/>
                </a:lnTo>
                <a:lnTo>
                  <a:pt x="129" y="993"/>
                </a:lnTo>
                <a:lnTo>
                  <a:pt x="131" y="993"/>
                </a:lnTo>
                <a:lnTo>
                  <a:pt x="125" y="993"/>
                </a:lnTo>
                <a:lnTo>
                  <a:pt x="123" y="994"/>
                </a:lnTo>
                <a:lnTo>
                  <a:pt x="125" y="994"/>
                </a:lnTo>
                <a:lnTo>
                  <a:pt x="120" y="994"/>
                </a:lnTo>
                <a:lnTo>
                  <a:pt x="118" y="996"/>
                </a:lnTo>
                <a:lnTo>
                  <a:pt x="120" y="996"/>
                </a:lnTo>
                <a:lnTo>
                  <a:pt x="114" y="996"/>
                </a:lnTo>
                <a:lnTo>
                  <a:pt x="112" y="998"/>
                </a:lnTo>
                <a:lnTo>
                  <a:pt x="114" y="998"/>
                </a:lnTo>
                <a:lnTo>
                  <a:pt x="102" y="998"/>
                </a:lnTo>
                <a:lnTo>
                  <a:pt x="100" y="1000"/>
                </a:lnTo>
                <a:lnTo>
                  <a:pt x="102" y="1000"/>
                </a:lnTo>
                <a:lnTo>
                  <a:pt x="75" y="1000"/>
                </a:lnTo>
                <a:lnTo>
                  <a:pt x="77" y="1000"/>
                </a:lnTo>
                <a:lnTo>
                  <a:pt x="75" y="998"/>
                </a:lnTo>
                <a:lnTo>
                  <a:pt x="66" y="998"/>
                </a:lnTo>
                <a:lnTo>
                  <a:pt x="68" y="998"/>
                </a:lnTo>
                <a:lnTo>
                  <a:pt x="66" y="996"/>
                </a:lnTo>
                <a:lnTo>
                  <a:pt x="58" y="996"/>
                </a:lnTo>
                <a:lnTo>
                  <a:pt x="60" y="996"/>
                </a:lnTo>
                <a:lnTo>
                  <a:pt x="58" y="994"/>
                </a:lnTo>
                <a:lnTo>
                  <a:pt x="50" y="994"/>
                </a:lnTo>
                <a:lnTo>
                  <a:pt x="52" y="994"/>
                </a:lnTo>
                <a:lnTo>
                  <a:pt x="50" y="993"/>
                </a:lnTo>
                <a:lnTo>
                  <a:pt x="47" y="993"/>
                </a:lnTo>
                <a:lnTo>
                  <a:pt x="48" y="993"/>
                </a:lnTo>
                <a:lnTo>
                  <a:pt x="47" y="991"/>
                </a:lnTo>
                <a:lnTo>
                  <a:pt x="41" y="991"/>
                </a:lnTo>
                <a:lnTo>
                  <a:pt x="43" y="991"/>
                </a:lnTo>
                <a:lnTo>
                  <a:pt x="41" y="989"/>
                </a:lnTo>
                <a:lnTo>
                  <a:pt x="37" y="989"/>
                </a:lnTo>
                <a:lnTo>
                  <a:pt x="39" y="989"/>
                </a:lnTo>
                <a:lnTo>
                  <a:pt x="37" y="987"/>
                </a:lnTo>
                <a:lnTo>
                  <a:pt x="33" y="987"/>
                </a:lnTo>
                <a:lnTo>
                  <a:pt x="35" y="987"/>
                </a:lnTo>
                <a:lnTo>
                  <a:pt x="33" y="985"/>
                </a:lnTo>
                <a:lnTo>
                  <a:pt x="29" y="985"/>
                </a:lnTo>
                <a:lnTo>
                  <a:pt x="31" y="985"/>
                </a:lnTo>
                <a:lnTo>
                  <a:pt x="29" y="983"/>
                </a:lnTo>
                <a:lnTo>
                  <a:pt x="25" y="983"/>
                </a:lnTo>
                <a:lnTo>
                  <a:pt x="27" y="983"/>
                </a:lnTo>
                <a:lnTo>
                  <a:pt x="25" y="981"/>
                </a:lnTo>
                <a:lnTo>
                  <a:pt x="22" y="981"/>
                </a:lnTo>
                <a:lnTo>
                  <a:pt x="24" y="981"/>
                </a:lnTo>
                <a:lnTo>
                  <a:pt x="22" y="979"/>
                </a:lnTo>
                <a:lnTo>
                  <a:pt x="18" y="979"/>
                </a:lnTo>
                <a:lnTo>
                  <a:pt x="20" y="979"/>
                </a:lnTo>
                <a:lnTo>
                  <a:pt x="16" y="975"/>
                </a:lnTo>
                <a:lnTo>
                  <a:pt x="12" y="975"/>
                </a:lnTo>
                <a:lnTo>
                  <a:pt x="14" y="975"/>
                </a:lnTo>
                <a:lnTo>
                  <a:pt x="6" y="968"/>
                </a:lnTo>
                <a:lnTo>
                  <a:pt x="2" y="968"/>
                </a:lnTo>
                <a:lnTo>
                  <a:pt x="4" y="970"/>
                </a:lnTo>
                <a:lnTo>
                  <a:pt x="4" y="2"/>
                </a:lnTo>
                <a:lnTo>
                  <a:pt x="0" y="2"/>
                </a:lnTo>
                <a:lnTo>
                  <a:pt x="0" y="970"/>
                </a:lnTo>
                <a:lnTo>
                  <a:pt x="0" y="971"/>
                </a:lnTo>
                <a:lnTo>
                  <a:pt x="2" y="971"/>
                </a:lnTo>
                <a:lnTo>
                  <a:pt x="4" y="971"/>
                </a:lnTo>
                <a:lnTo>
                  <a:pt x="2" y="971"/>
                </a:lnTo>
                <a:lnTo>
                  <a:pt x="10" y="979"/>
                </a:lnTo>
                <a:lnTo>
                  <a:pt x="12" y="979"/>
                </a:lnTo>
                <a:lnTo>
                  <a:pt x="14" y="979"/>
                </a:lnTo>
                <a:lnTo>
                  <a:pt x="12" y="979"/>
                </a:lnTo>
                <a:lnTo>
                  <a:pt x="16" y="983"/>
                </a:lnTo>
                <a:lnTo>
                  <a:pt x="18" y="983"/>
                </a:lnTo>
                <a:lnTo>
                  <a:pt x="20" y="983"/>
                </a:lnTo>
                <a:lnTo>
                  <a:pt x="18" y="983"/>
                </a:lnTo>
                <a:lnTo>
                  <a:pt x="20" y="985"/>
                </a:lnTo>
                <a:lnTo>
                  <a:pt x="22" y="985"/>
                </a:lnTo>
                <a:lnTo>
                  <a:pt x="24" y="985"/>
                </a:lnTo>
                <a:lnTo>
                  <a:pt x="22" y="985"/>
                </a:lnTo>
                <a:lnTo>
                  <a:pt x="24" y="987"/>
                </a:lnTo>
                <a:lnTo>
                  <a:pt x="25" y="987"/>
                </a:lnTo>
                <a:lnTo>
                  <a:pt x="27" y="987"/>
                </a:lnTo>
                <a:lnTo>
                  <a:pt x="25" y="987"/>
                </a:lnTo>
                <a:lnTo>
                  <a:pt x="27" y="989"/>
                </a:lnTo>
                <a:lnTo>
                  <a:pt x="29" y="989"/>
                </a:lnTo>
                <a:lnTo>
                  <a:pt x="31" y="989"/>
                </a:lnTo>
                <a:lnTo>
                  <a:pt x="29" y="989"/>
                </a:lnTo>
                <a:lnTo>
                  <a:pt x="31" y="991"/>
                </a:lnTo>
                <a:lnTo>
                  <a:pt x="33" y="991"/>
                </a:lnTo>
                <a:lnTo>
                  <a:pt x="35" y="991"/>
                </a:lnTo>
                <a:lnTo>
                  <a:pt x="33" y="991"/>
                </a:lnTo>
                <a:lnTo>
                  <a:pt x="35" y="993"/>
                </a:lnTo>
                <a:lnTo>
                  <a:pt x="37" y="993"/>
                </a:lnTo>
                <a:lnTo>
                  <a:pt x="39" y="993"/>
                </a:lnTo>
                <a:lnTo>
                  <a:pt x="37" y="993"/>
                </a:lnTo>
                <a:lnTo>
                  <a:pt x="39" y="994"/>
                </a:lnTo>
                <a:lnTo>
                  <a:pt x="41" y="994"/>
                </a:lnTo>
                <a:lnTo>
                  <a:pt x="45" y="994"/>
                </a:lnTo>
                <a:lnTo>
                  <a:pt x="43" y="994"/>
                </a:lnTo>
                <a:lnTo>
                  <a:pt x="45" y="996"/>
                </a:lnTo>
                <a:lnTo>
                  <a:pt x="47" y="996"/>
                </a:lnTo>
                <a:lnTo>
                  <a:pt x="48" y="996"/>
                </a:lnTo>
                <a:lnTo>
                  <a:pt x="47" y="996"/>
                </a:lnTo>
                <a:lnTo>
                  <a:pt x="48" y="998"/>
                </a:lnTo>
                <a:lnTo>
                  <a:pt x="50" y="998"/>
                </a:lnTo>
                <a:lnTo>
                  <a:pt x="56" y="998"/>
                </a:lnTo>
                <a:lnTo>
                  <a:pt x="54" y="998"/>
                </a:lnTo>
                <a:lnTo>
                  <a:pt x="56" y="1000"/>
                </a:lnTo>
                <a:lnTo>
                  <a:pt x="58" y="1000"/>
                </a:lnTo>
                <a:lnTo>
                  <a:pt x="64" y="1000"/>
                </a:lnTo>
                <a:lnTo>
                  <a:pt x="62" y="1000"/>
                </a:lnTo>
                <a:lnTo>
                  <a:pt x="64" y="1002"/>
                </a:lnTo>
                <a:lnTo>
                  <a:pt x="66" y="1002"/>
                </a:lnTo>
                <a:lnTo>
                  <a:pt x="73" y="1002"/>
                </a:lnTo>
                <a:lnTo>
                  <a:pt x="72" y="1002"/>
                </a:lnTo>
                <a:lnTo>
                  <a:pt x="73" y="1004"/>
                </a:lnTo>
                <a:lnTo>
                  <a:pt x="75" y="1004"/>
                </a:lnTo>
                <a:lnTo>
                  <a:pt x="102" y="1004"/>
                </a:lnTo>
                <a:lnTo>
                  <a:pt x="104" y="1004"/>
                </a:lnTo>
                <a:lnTo>
                  <a:pt x="106" y="1002"/>
                </a:lnTo>
                <a:lnTo>
                  <a:pt x="104" y="1002"/>
                </a:lnTo>
                <a:lnTo>
                  <a:pt x="114" y="1002"/>
                </a:lnTo>
                <a:lnTo>
                  <a:pt x="116" y="1002"/>
                </a:lnTo>
                <a:lnTo>
                  <a:pt x="118" y="1000"/>
                </a:lnTo>
                <a:lnTo>
                  <a:pt x="116" y="1000"/>
                </a:lnTo>
                <a:lnTo>
                  <a:pt x="120" y="1000"/>
                </a:lnTo>
                <a:lnTo>
                  <a:pt x="121" y="1000"/>
                </a:lnTo>
                <a:lnTo>
                  <a:pt x="123" y="998"/>
                </a:lnTo>
                <a:lnTo>
                  <a:pt x="121" y="998"/>
                </a:lnTo>
                <a:lnTo>
                  <a:pt x="125" y="998"/>
                </a:lnTo>
                <a:lnTo>
                  <a:pt x="127" y="998"/>
                </a:lnTo>
                <a:lnTo>
                  <a:pt x="129" y="996"/>
                </a:lnTo>
                <a:lnTo>
                  <a:pt x="127" y="996"/>
                </a:lnTo>
                <a:lnTo>
                  <a:pt x="131" y="996"/>
                </a:lnTo>
                <a:lnTo>
                  <a:pt x="133" y="996"/>
                </a:lnTo>
                <a:lnTo>
                  <a:pt x="135" y="994"/>
                </a:lnTo>
                <a:lnTo>
                  <a:pt x="133" y="994"/>
                </a:lnTo>
                <a:lnTo>
                  <a:pt x="135" y="994"/>
                </a:lnTo>
                <a:lnTo>
                  <a:pt x="137" y="994"/>
                </a:lnTo>
                <a:lnTo>
                  <a:pt x="139" y="993"/>
                </a:lnTo>
                <a:lnTo>
                  <a:pt x="137" y="993"/>
                </a:lnTo>
                <a:lnTo>
                  <a:pt x="141" y="993"/>
                </a:lnTo>
                <a:lnTo>
                  <a:pt x="143" y="993"/>
                </a:lnTo>
                <a:lnTo>
                  <a:pt x="146" y="989"/>
                </a:lnTo>
                <a:lnTo>
                  <a:pt x="145" y="989"/>
                </a:lnTo>
                <a:lnTo>
                  <a:pt x="146" y="989"/>
                </a:lnTo>
                <a:lnTo>
                  <a:pt x="148" y="989"/>
                </a:lnTo>
                <a:lnTo>
                  <a:pt x="150" y="987"/>
                </a:lnTo>
                <a:lnTo>
                  <a:pt x="148" y="987"/>
                </a:lnTo>
                <a:lnTo>
                  <a:pt x="150" y="987"/>
                </a:lnTo>
                <a:lnTo>
                  <a:pt x="152" y="987"/>
                </a:lnTo>
                <a:lnTo>
                  <a:pt x="154" y="985"/>
                </a:lnTo>
                <a:lnTo>
                  <a:pt x="152" y="985"/>
                </a:lnTo>
                <a:lnTo>
                  <a:pt x="154" y="985"/>
                </a:lnTo>
                <a:lnTo>
                  <a:pt x="156" y="985"/>
                </a:lnTo>
                <a:lnTo>
                  <a:pt x="160" y="981"/>
                </a:lnTo>
                <a:lnTo>
                  <a:pt x="158" y="981"/>
                </a:lnTo>
                <a:lnTo>
                  <a:pt x="160" y="981"/>
                </a:lnTo>
                <a:lnTo>
                  <a:pt x="162" y="981"/>
                </a:lnTo>
                <a:lnTo>
                  <a:pt x="164" y="979"/>
                </a:lnTo>
                <a:lnTo>
                  <a:pt x="164" y="977"/>
                </a:lnTo>
                <a:lnTo>
                  <a:pt x="164" y="975"/>
                </a:lnTo>
                <a:lnTo>
                  <a:pt x="162" y="977"/>
                </a:lnTo>
                <a:lnTo>
                  <a:pt x="164" y="977"/>
                </a:lnTo>
                <a:lnTo>
                  <a:pt x="166" y="977"/>
                </a:lnTo>
                <a:lnTo>
                  <a:pt x="169" y="973"/>
                </a:lnTo>
                <a:lnTo>
                  <a:pt x="168" y="973"/>
                </a:lnTo>
                <a:lnTo>
                  <a:pt x="169" y="973"/>
                </a:lnTo>
                <a:lnTo>
                  <a:pt x="171" y="973"/>
                </a:lnTo>
                <a:lnTo>
                  <a:pt x="173" y="971"/>
                </a:lnTo>
                <a:lnTo>
                  <a:pt x="173" y="970"/>
                </a:lnTo>
                <a:lnTo>
                  <a:pt x="173" y="530"/>
                </a:lnTo>
                <a:lnTo>
                  <a:pt x="175" y="276"/>
                </a:lnTo>
                <a:lnTo>
                  <a:pt x="175" y="28"/>
                </a:lnTo>
                <a:lnTo>
                  <a:pt x="173" y="15"/>
                </a:lnTo>
                <a:lnTo>
                  <a:pt x="173" y="5"/>
                </a:lnTo>
                <a:lnTo>
                  <a:pt x="173" y="4"/>
                </a:lnTo>
                <a:lnTo>
                  <a:pt x="171" y="4"/>
                </a:lnTo>
                <a:lnTo>
                  <a:pt x="168" y="2"/>
                </a:lnTo>
                <a:lnTo>
                  <a:pt x="169" y="2"/>
                </a:lnTo>
                <a:lnTo>
                  <a:pt x="168" y="0"/>
                </a:lnTo>
                <a:lnTo>
                  <a:pt x="166" y="0"/>
                </a:lnTo>
                <a:lnTo>
                  <a:pt x="164" y="0"/>
                </a:lnTo>
                <a:lnTo>
                  <a:pt x="154" y="5"/>
                </a:lnTo>
                <a:lnTo>
                  <a:pt x="156" y="5"/>
                </a:lnTo>
                <a:lnTo>
                  <a:pt x="145" y="11"/>
                </a:lnTo>
                <a:lnTo>
                  <a:pt x="129" y="15"/>
                </a:lnTo>
                <a:lnTo>
                  <a:pt x="97" y="17"/>
                </a:lnTo>
                <a:lnTo>
                  <a:pt x="72" y="17"/>
                </a:lnTo>
                <a:lnTo>
                  <a:pt x="50" y="13"/>
                </a:lnTo>
                <a:lnTo>
                  <a:pt x="27" y="7"/>
                </a:lnTo>
                <a:lnTo>
                  <a:pt x="2" y="0"/>
                </a:lnTo>
                <a:lnTo>
                  <a:pt x="0" y="0"/>
                </a:lnTo>
                <a:lnTo>
                  <a:pt x="0" y="2"/>
                </a:lnTo>
                <a:lnTo>
                  <a:pt x="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Freeform 16"/>
          <p:cNvSpPr/>
          <p:nvPr/>
        </p:nvSpPr>
        <p:spPr>
          <a:xfrm>
            <a:off x="1639800" y="4630680"/>
            <a:ext cx="801720" cy="881280"/>
          </a:xfrm>
          <a:custGeom>
            <a:avLst/>
            <a:gdLst>
              <a:gd name="textAreaLeft" fmla="*/ 0 w 801720"/>
              <a:gd name="textAreaRight" fmla="*/ 802080 w 801720"/>
              <a:gd name="textAreaTop" fmla="*/ 0 h 881280"/>
              <a:gd name="textAreaBottom" fmla="*/ 881640 h 881280"/>
            </a:gdLst>
            <a:ahLst/>
            <a:rect l="textAreaLeft" t="textAreaTop" r="textAreaRight" b="textAreaBottom"/>
            <a:pathLst>
              <a:path w="505" h="555">
                <a:moveTo>
                  <a:pt x="0" y="0"/>
                </a:moveTo>
                <a:lnTo>
                  <a:pt x="6" y="480"/>
                </a:lnTo>
                <a:lnTo>
                  <a:pt x="11" y="484"/>
                </a:lnTo>
                <a:lnTo>
                  <a:pt x="15" y="486"/>
                </a:lnTo>
                <a:lnTo>
                  <a:pt x="21" y="489"/>
                </a:lnTo>
                <a:lnTo>
                  <a:pt x="25" y="491"/>
                </a:lnTo>
                <a:lnTo>
                  <a:pt x="31" y="495"/>
                </a:lnTo>
                <a:lnTo>
                  <a:pt x="34" y="497"/>
                </a:lnTo>
                <a:lnTo>
                  <a:pt x="40" y="501"/>
                </a:lnTo>
                <a:lnTo>
                  <a:pt x="44" y="503"/>
                </a:lnTo>
                <a:lnTo>
                  <a:pt x="50" y="507"/>
                </a:lnTo>
                <a:lnTo>
                  <a:pt x="54" y="509"/>
                </a:lnTo>
                <a:lnTo>
                  <a:pt x="59" y="511"/>
                </a:lnTo>
                <a:lnTo>
                  <a:pt x="65" y="514"/>
                </a:lnTo>
                <a:lnTo>
                  <a:pt x="69" y="516"/>
                </a:lnTo>
                <a:lnTo>
                  <a:pt x="75" y="518"/>
                </a:lnTo>
                <a:lnTo>
                  <a:pt x="79" y="520"/>
                </a:lnTo>
                <a:lnTo>
                  <a:pt x="90" y="524"/>
                </a:lnTo>
                <a:lnTo>
                  <a:pt x="94" y="526"/>
                </a:lnTo>
                <a:lnTo>
                  <a:pt x="106" y="530"/>
                </a:lnTo>
                <a:lnTo>
                  <a:pt x="109" y="532"/>
                </a:lnTo>
                <a:lnTo>
                  <a:pt x="115" y="534"/>
                </a:lnTo>
                <a:lnTo>
                  <a:pt x="119" y="536"/>
                </a:lnTo>
                <a:lnTo>
                  <a:pt x="130" y="539"/>
                </a:lnTo>
                <a:lnTo>
                  <a:pt x="134" y="539"/>
                </a:lnTo>
                <a:lnTo>
                  <a:pt x="146" y="543"/>
                </a:lnTo>
                <a:lnTo>
                  <a:pt x="150" y="543"/>
                </a:lnTo>
                <a:lnTo>
                  <a:pt x="161" y="547"/>
                </a:lnTo>
                <a:lnTo>
                  <a:pt x="165" y="547"/>
                </a:lnTo>
                <a:lnTo>
                  <a:pt x="171" y="549"/>
                </a:lnTo>
                <a:lnTo>
                  <a:pt x="177" y="549"/>
                </a:lnTo>
                <a:lnTo>
                  <a:pt x="180" y="551"/>
                </a:lnTo>
                <a:lnTo>
                  <a:pt x="192" y="551"/>
                </a:lnTo>
                <a:lnTo>
                  <a:pt x="198" y="553"/>
                </a:lnTo>
                <a:lnTo>
                  <a:pt x="213" y="553"/>
                </a:lnTo>
                <a:lnTo>
                  <a:pt x="219" y="555"/>
                </a:lnTo>
                <a:lnTo>
                  <a:pt x="269" y="555"/>
                </a:lnTo>
                <a:lnTo>
                  <a:pt x="275" y="553"/>
                </a:lnTo>
                <a:lnTo>
                  <a:pt x="290" y="553"/>
                </a:lnTo>
                <a:lnTo>
                  <a:pt x="296" y="551"/>
                </a:lnTo>
                <a:lnTo>
                  <a:pt x="301" y="551"/>
                </a:lnTo>
                <a:lnTo>
                  <a:pt x="305" y="549"/>
                </a:lnTo>
                <a:lnTo>
                  <a:pt x="311" y="549"/>
                </a:lnTo>
                <a:lnTo>
                  <a:pt x="317" y="547"/>
                </a:lnTo>
                <a:lnTo>
                  <a:pt x="323" y="547"/>
                </a:lnTo>
                <a:lnTo>
                  <a:pt x="328" y="545"/>
                </a:lnTo>
                <a:lnTo>
                  <a:pt x="334" y="545"/>
                </a:lnTo>
                <a:lnTo>
                  <a:pt x="340" y="543"/>
                </a:lnTo>
                <a:lnTo>
                  <a:pt x="344" y="543"/>
                </a:lnTo>
                <a:lnTo>
                  <a:pt x="355" y="539"/>
                </a:lnTo>
                <a:lnTo>
                  <a:pt x="367" y="536"/>
                </a:lnTo>
                <a:lnTo>
                  <a:pt x="372" y="536"/>
                </a:lnTo>
                <a:lnTo>
                  <a:pt x="378" y="534"/>
                </a:lnTo>
                <a:lnTo>
                  <a:pt x="382" y="532"/>
                </a:lnTo>
                <a:lnTo>
                  <a:pt x="394" y="528"/>
                </a:lnTo>
                <a:lnTo>
                  <a:pt x="405" y="524"/>
                </a:lnTo>
                <a:lnTo>
                  <a:pt x="417" y="520"/>
                </a:lnTo>
                <a:lnTo>
                  <a:pt x="422" y="516"/>
                </a:lnTo>
                <a:lnTo>
                  <a:pt x="434" y="513"/>
                </a:lnTo>
                <a:lnTo>
                  <a:pt x="440" y="511"/>
                </a:lnTo>
                <a:lnTo>
                  <a:pt x="445" y="507"/>
                </a:lnTo>
                <a:lnTo>
                  <a:pt x="457" y="503"/>
                </a:lnTo>
                <a:lnTo>
                  <a:pt x="461" y="499"/>
                </a:lnTo>
                <a:lnTo>
                  <a:pt x="467" y="497"/>
                </a:lnTo>
                <a:lnTo>
                  <a:pt x="472" y="493"/>
                </a:lnTo>
                <a:lnTo>
                  <a:pt x="478" y="491"/>
                </a:lnTo>
                <a:lnTo>
                  <a:pt x="484" y="488"/>
                </a:lnTo>
                <a:lnTo>
                  <a:pt x="490" y="486"/>
                </a:lnTo>
                <a:lnTo>
                  <a:pt x="495" y="482"/>
                </a:lnTo>
                <a:lnTo>
                  <a:pt x="499" y="480"/>
                </a:lnTo>
                <a:lnTo>
                  <a:pt x="505" y="36"/>
                </a:lnTo>
                <a:lnTo>
                  <a:pt x="505" y="0"/>
                </a:lnTo>
                <a:lnTo>
                  <a:pt x="0" y="0"/>
                </a:lnTo>
                <a:close/>
              </a:path>
            </a:pathLst>
          </a:custGeom>
          <a:solidFill>
            <a:srgbClr val="ffc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Freeform 17"/>
          <p:cNvSpPr/>
          <p:nvPr/>
        </p:nvSpPr>
        <p:spPr>
          <a:xfrm>
            <a:off x="1636560" y="4627440"/>
            <a:ext cx="808200" cy="887400"/>
          </a:xfrm>
          <a:custGeom>
            <a:avLst/>
            <a:gdLst>
              <a:gd name="textAreaLeft" fmla="*/ 0 w 808200"/>
              <a:gd name="textAreaRight" fmla="*/ 808560 w 808200"/>
              <a:gd name="textAreaTop" fmla="*/ 0 h 887400"/>
              <a:gd name="textAreaBottom" fmla="*/ 887760 h 887400"/>
            </a:gdLst>
            <a:ahLst/>
            <a:rect l="textAreaLeft" t="textAreaTop" r="textAreaRight" b="textAreaBottom"/>
            <a:pathLst>
              <a:path w="509" h="559">
                <a:moveTo>
                  <a:pt x="2" y="0"/>
                </a:moveTo>
                <a:lnTo>
                  <a:pt x="0" y="0"/>
                </a:lnTo>
                <a:lnTo>
                  <a:pt x="0" y="2"/>
                </a:lnTo>
                <a:lnTo>
                  <a:pt x="6" y="482"/>
                </a:lnTo>
                <a:lnTo>
                  <a:pt x="6" y="484"/>
                </a:lnTo>
                <a:lnTo>
                  <a:pt x="11" y="488"/>
                </a:lnTo>
                <a:lnTo>
                  <a:pt x="13" y="488"/>
                </a:lnTo>
                <a:lnTo>
                  <a:pt x="17" y="490"/>
                </a:lnTo>
                <a:lnTo>
                  <a:pt x="15" y="490"/>
                </a:lnTo>
                <a:lnTo>
                  <a:pt x="21" y="493"/>
                </a:lnTo>
                <a:lnTo>
                  <a:pt x="23" y="493"/>
                </a:lnTo>
                <a:lnTo>
                  <a:pt x="27" y="495"/>
                </a:lnTo>
                <a:lnTo>
                  <a:pt x="25" y="495"/>
                </a:lnTo>
                <a:lnTo>
                  <a:pt x="31" y="499"/>
                </a:lnTo>
                <a:lnTo>
                  <a:pt x="33" y="499"/>
                </a:lnTo>
                <a:lnTo>
                  <a:pt x="36" y="501"/>
                </a:lnTo>
                <a:lnTo>
                  <a:pt x="35" y="501"/>
                </a:lnTo>
                <a:lnTo>
                  <a:pt x="40" y="505"/>
                </a:lnTo>
                <a:lnTo>
                  <a:pt x="42" y="505"/>
                </a:lnTo>
                <a:lnTo>
                  <a:pt x="46" y="507"/>
                </a:lnTo>
                <a:lnTo>
                  <a:pt x="44" y="507"/>
                </a:lnTo>
                <a:lnTo>
                  <a:pt x="50" y="511"/>
                </a:lnTo>
                <a:lnTo>
                  <a:pt x="52" y="511"/>
                </a:lnTo>
                <a:lnTo>
                  <a:pt x="56" y="513"/>
                </a:lnTo>
                <a:lnTo>
                  <a:pt x="61" y="515"/>
                </a:lnTo>
                <a:lnTo>
                  <a:pt x="59" y="515"/>
                </a:lnTo>
                <a:lnTo>
                  <a:pt x="65" y="518"/>
                </a:lnTo>
                <a:lnTo>
                  <a:pt x="67" y="518"/>
                </a:lnTo>
                <a:lnTo>
                  <a:pt x="71" y="520"/>
                </a:lnTo>
                <a:lnTo>
                  <a:pt x="77" y="522"/>
                </a:lnTo>
                <a:lnTo>
                  <a:pt x="81" y="524"/>
                </a:lnTo>
                <a:lnTo>
                  <a:pt x="92" y="528"/>
                </a:lnTo>
                <a:lnTo>
                  <a:pt x="96" y="530"/>
                </a:lnTo>
                <a:lnTo>
                  <a:pt x="108" y="534"/>
                </a:lnTo>
                <a:lnTo>
                  <a:pt x="111" y="536"/>
                </a:lnTo>
                <a:lnTo>
                  <a:pt x="117" y="538"/>
                </a:lnTo>
                <a:lnTo>
                  <a:pt x="121" y="540"/>
                </a:lnTo>
                <a:lnTo>
                  <a:pt x="132" y="543"/>
                </a:lnTo>
                <a:lnTo>
                  <a:pt x="136" y="543"/>
                </a:lnTo>
                <a:lnTo>
                  <a:pt x="148" y="547"/>
                </a:lnTo>
                <a:lnTo>
                  <a:pt x="152" y="547"/>
                </a:lnTo>
                <a:lnTo>
                  <a:pt x="163" y="551"/>
                </a:lnTo>
                <a:lnTo>
                  <a:pt x="167" y="551"/>
                </a:lnTo>
                <a:lnTo>
                  <a:pt x="173" y="553"/>
                </a:lnTo>
                <a:lnTo>
                  <a:pt x="179" y="553"/>
                </a:lnTo>
                <a:lnTo>
                  <a:pt x="182" y="555"/>
                </a:lnTo>
                <a:lnTo>
                  <a:pt x="194" y="555"/>
                </a:lnTo>
                <a:lnTo>
                  <a:pt x="200" y="557"/>
                </a:lnTo>
                <a:lnTo>
                  <a:pt x="215" y="557"/>
                </a:lnTo>
                <a:lnTo>
                  <a:pt x="221" y="559"/>
                </a:lnTo>
                <a:lnTo>
                  <a:pt x="271" y="559"/>
                </a:lnTo>
                <a:lnTo>
                  <a:pt x="277" y="557"/>
                </a:lnTo>
                <a:lnTo>
                  <a:pt x="292" y="557"/>
                </a:lnTo>
                <a:lnTo>
                  <a:pt x="298" y="555"/>
                </a:lnTo>
                <a:lnTo>
                  <a:pt x="303" y="555"/>
                </a:lnTo>
                <a:lnTo>
                  <a:pt x="307" y="553"/>
                </a:lnTo>
                <a:lnTo>
                  <a:pt x="313" y="553"/>
                </a:lnTo>
                <a:lnTo>
                  <a:pt x="319" y="551"/>
                </a:lnTo>
                <a:lnTo>
                  <a:pt x="325" y="551"/>
                </a:lnTo>
                <a:lnTo>
                  <a:pt x="330" y="549"/>
                </a:lnTo>
                <a:lnTo>
                  <a:pt x="336" y="549"/>
                </a:lnTo>
                <a:lnTo>
                  <a:pt x="342" y="547"/>
                </a:lnTo>
                <a:lnTo>
                  <a:pt x="346" y="547"/>
                </a:lnTo>
                <a:lnTo>
                  <a:pt x="369" y="540"/>
                </a:lnTo>
                <a:lnTo>
                  <a:pt x="374" y="540"/>
                </a:lnTo>
                <a:lnTo>
                  <a:pt x="380" y="538"/>
                </a:lnTo>
                <a:lnTo>
                  <a:pt x="384" y="536"/>
                </a:lnTo>
                <a:lnTo>
                  <a:pt x="419" y="524"/>
                </a:lnTo>
                <a:lnTo>
                  <a:pt x="421" y="524"/>
                </a:lnTo>
                <a:lnTo>
                  <a:pt x="426" y="520"/>
                </a:lnTo>
                <a:lnTo>
                  <a:pt x="424" y="520"/>
                </a:lnTo>
                <a:lnTo>
                  <a:pt x="442" y="515"/>
                </a:lnTo>
                <a:lnTo>
                  <a:pt x="444" y="515"/>
                </a:lnTo>
                <a:lnTo>
                  <a:pt x="449" y="511"/>
                </a:lnTo>
                <a:lnTo>
                  <a:pt x="447" y="511"/>
                </a:lnTo>
                <a:lnTo>
                  <a:pt x="459" y="507"/>
                </a:lnTo>
                <a:lnTo>
                  <a:pt x="461" y="507"/>
                </a:lnTo>
                <a:lnTo>
                  <a:pt x="465" y="503"/>
                </a:lnTo>
                <a:lnTo>
                  <a:pt x="463" y="503"/>
                </a:lnTo>
                <a:lnTo>
                  <a:pt x="469" y="501"/>
                </a:lnTo>
                <a:lnTo>
                  <a:pt x="471" y="501"/>
                </a:lnTo>
                <a:lnTo>
                  <a:pt x="476" y="497"/>
                </a:lnTo>
                <a:lnTo>
                  <a:pt x="474" y="497"/>
                </a:lnTo>
                <a:lnTo>
                  <a:pt x="480" y="495"/>
                </a:lnTo>
                <a:lnTo>
                  <a:pt x="482" y="495"/>
                </a:lnTo>
                <a:lnTo>
                  <a:pt x="488" y="491"/>
                </a:lnTo>
                <a:lnTo>
                  <a:pt x="486" y="491"/>
                </a:lnTo>
                <a:lnTo>
                  <a:pt x="492" y="490"/>
                </a:lnTo>
                <a:lnTo>
                  <a:pt x="494" y="490"/>
                </a:lnTo>
                <a:lnTo>
                  <a:pt x="499" y="486"/>
                </a:lnTo>
                <a:lnTo>
                  <a:pt x="497" y="486"/>
                </a:lnTo>
                <a:lnTo>
                  <a:pt x="501" y="484"/>
                </a:lnTo>
                <a:lnTo>
                  <a:pt x="503" y="484"/>
                </a:lnTo>
                <a:lnTo>
                  <a:pt x="503" y="482"/>
                </a:lnTo>
                <a:lnTo>
                  <a:pt x="509" y="38"/>
                </a:lnTo>
                <a:lnTo>
                  <a:pt x="509" y="0"/>
                </a:lnTo>
                <a:lnTo>
                  <a:pt x="507" y="0"/>
                </a:lnTo>
                <a:lnTo>
                  <a:pt x="2" y="0"/>
                </a:lnTo>
                <a:lnTo>
                  <a:pt x="2" y="4"/>
                </a:lnTo>
                <a:lnTo>
                  <a:pt x="507" y="4"/>
                </a:lnTo>
                <a:lnTo>
                  <a:pt x="505" y="2"/>
                </a:lnTo>
                <a:lnTo>
                  <a:pt x="505" y="38"/>
                </a:lnTo>
                <a:lnTo>
                  <a:pt x="499" y="482"/>
                </a:lnTo>
                <a:lnTo>
                  <a:pt x="501" y="480"/>
                </a:lnTo>
                <a:lnTo>
                  <a:pt x="497" y="482"/>
                </a:lnTo>
                <a:lnTo>
                  <a:pt x="495" y="482"/>
                </a:lnTo>
                <a:lnTo>
                  <a:pt x="490" y="486"/>
                </a:lnTo>
                <a:lnTo>
                  <a:pt x="492" y="486"/>
                </a:lnTo>
                <a:lnTo>
                  <a:pt x="486" y="488"/>
                </a:lnTo>
                <a:lnTo>
                  <a:pt x="484" y="488"/>
                </a:lnTo>
                <a:lnTo>
                  <a:pt x="478" y="491"/>
                </a:lnTo>
                <a:lnTo>
                  <a:pt x="480" y="491"/>
                </a:lnTo>
                <a:lnTo>
                  <a:pt x="474" y="493"/>
                </a:lnTo>
                <a:lnTo>
                  <a:pt x="472" y="493"/>
                </a:lnTo>
                <a:lnTo>
                  <a:pt x="467" y="497"/>
                </a:lnTo>
                <a:lnTo>
                  <a:pt x="469" y="497"/>
                </a:lnTo>
                <a:lnTo>
                  <a:pt x="463" y="499"/>
                </a:lnTo>
                <a:lnTo>
                  <a:pt x="461" y="499"/>
                </a:lnTo>
                <a:lnTo>
                  <a:pt x="457" y="503"/>
                </a:lnTo>
                <a:lnTo>
                  <a:pt x="459" y="503"/>
                </a:lnTo>
                <a:lnTo>
                  <a:pt x="447" y="507"/>
                </a:lnTo>
                <a:lnTo>
                  <a:pt x="446" y="507"/>
                </a:lnTo>
                <a:lnTo>
                  <a:pt x="440" y="511"/>
                </a:lnTo>
                <a:lnTo>
                  <a:pt x="442" y="511"/>
                </a:lnTo>
                <a:lnTo>
                  <a:pt x="424" y="516"/>
                </a:lnTo>
                <a:lnTo>
                  <a:pt x="422" y="516"/>
                </a:lnTo>
                <a:lnTo>
                  <a:pt x="417" y="520"/>
                </a:lnTo>
                <a:lnTo>
                  <a:pt x="419" y="520"/>
                </a:lnTo>
                <a:lnTo>
                  <a:pt x="384" y="532"/>
                </a:lnTo>
                <a:lnTo>
                  <a:pt x="380" y="534"/>
                </a:lnTo>
                <a:lnTo>
                  <a:pt x="374" y="536"/>
                </a:lnTo>
                <a:lnTo>
                  <a:pt x="369" y="536"/>
                </a:lnTo>
                <a:lnTo>
                  <a:pt x="346" y="543"/>
                </a:lnTo>
                <a:lnTo>
                  <a:pt x="342" y="543"/>
                </a:lnTo>
                <a:lnTo>
                  <a:pt x="336" y="545"/>
                </a:lnTo>
                <a:lnTo>
                  <a:pt x="330" y="545"/>
                </a:lnTo>
                <a:lnTo>
                  <a:pt x="325" y="547"/>
                </a:lnTo>
                <a:lnTo>
                  <a:pt x="319" y="547"/>
                </a:lnTo>
                <a:lnTo>
                  <a:pt x="313" y="549"/>
                </a:lnTo>
                <a:lnTo>
                  <a:pt x="307" y="549"/>
                </a:lnTo>
                <a:lnTo>
                  <a:pt x="303" y="551"/>
                </a:lnTo>
                <a:lnTo>
                  <a:pt x="298" y="551"/>
                </a:lnTo>
                <a:lnTo>
                  <a:pt x="292" y="553"/>
                </a:lnTo>
                <a:lnTo>
                  <a:pt x="277" y="553"/>
                </a:lnTo>
                <a:lnTo>
                  <a:pt x="271" y="555"/>
                </a:lnTo>
                <a:lnTo>
                  <a:pt x="221" y="555"/>
                </a:lnTo>
                <a:lnTo>
                  <a:pt x="215" y="553"/>
                </a:lnTo>
                <a:lnTo>
                  <a:pt x="200" y="553"/>
                </a:lnTo>
                <a:lnTo>
                  <a:pt x="194" y="551"/>
                </a:lnTo>
                <a:lnTo>
                  <a:pt x="182" y="551"/>
                </a:lnTo>
                <a:lnTo>
                  <a:pt x="179" y="549"/>
                </a:lnTo>
                <a:lnTo>
                  <a:pt x="173" y="549"/>
                </a:lnTo>
                <a:lnTo>
                  <a:pt x="167" y="547"/>
                </a:lnTo>
                <a:lnTo>
                  <a:pt x="163" y="547"/>
                </a:lnTo>
                <a:lnTo>
                  <a:pt x="152" y="543"/>
                </a:lnTo>
                <a:lnTo>
                  <a:pt x="148" y="543"/>
                </a:lnTo>
                <a:lnTo>
                  <a:pt x="136" y="540"/>
                </a:lnTo>
                <a:lnTo>
                  <a:pt x="132" y="540"/>
                </a:lnTo>
                <a:lnTo>
                  <a:pt x="121" y="536"/>
                </a:lnTo>
                <a:lnTo>
                  <a:pt x="117" y="534"/>
                </a:lnTo>
                <a:lnTo>
                  <a:pt x="111" y="532"/>
                </a:lnTo>
                <a:lnTo>
                  <a:pt x="108" y="530"/>
                </a:lnTo>
                <a:lnTo>
                  <a:pt x="96" y="526"/>
                </a:lnTo>
                <a:lnTo>
                  <a:pt x="92" y="524"/>
                </a:lnTo>
                <a:lnTo>
                  <a:pt x="81" y="520"/>
                </a:lnTo>
                <a:lnTo>
                  <a:pt x="77" y="518"/>
                </a:lnTo>
                <a:lnTo>
                  <a:pt x="71" y="516"/>
                </a:lnTo>
                <a:lnTo>
                  <a:pt x="67" y="515"/>
                </a:lnTo>
                <a:lnTo>
                  <a:pt x="69" y="515"/>
                </a:lnTo>
                <a:lnTo>
                  <a:pt x="63" y="511"/>
                </a:lnTo>
                <a:lnTo>
                  <a:pt x="61" y="511"/>
                </a:lnTo>
                <a:lnTo>
                  <a:pt x="56" y="509"/>
                </a:lnTo>
                <a:lnTo>
                  <a:pt x="52" y="507"/>
                </a:lnTo>
                <a:lnTo>
                  <a:pt x="54" y="507"/>
                </a:lnTo>
                <a:lnTo>
                  <a:pt x="48" y="503"/>
                </a:lnTo>
                <a:lnTo>
                  <a:pt x="46" y="503"/>
                </a:lnTo>
                <a:lnTo>
                  <a:pt x="42" y="501"/>
                </a:lnTo>
                <a:lnTo>
                  <a:pt x="44" y="501"/>
                </a:lnTo>
                <a:lnTo>
                  <a:pt x="38" y="497"/>
                </a:lnTo>
                <a:lnTo>
                  <a:pt x="36" y="497"/>
                </a:lnTo>
                <a:lnTo>
                  <a:pt x="33" y="495"/>
                </a:lnTo>
                <a:lnTo>
                  <a:pt x="35" y="495"/>
                </a:lnTo>
                <a:lnTo>
                  <a:pt x="29" y="491"/>
                </a:lnTo>
                <a:lnTo>
                  <a:pt x="27" y="491"/>
                </a:lnTo>
                <a:lnTo>
                  <a:pt x="23" y="490"/>
                </a:lnTo>
                <a:lnTo>
                  <a:pt x="25" y="490"/>
                </a:lnTo>
                <a:lnTo>
                  <a:pt x="19" y="486"/>
                </a:lnTo>
                <a:lnTo>
                  <a:pt x="17" y="486"/>
                </a:lnTo>
                <a:lnTo>
                  <a:pt x="13" y="484"/>
                </a:lnTo>
                <a:lnTo>
                  <a:pt x="15" y="484"/>
                </a:lnTo>
                <a:lnTo>
                  <a:pt x="10" y="480"/>
                </a:lnTo>
                <a:lnTo>
                  <a:pt x="10" y="482"/>
                </a:lnTo>
                <a:lnTo>
                  <a:pt x="4" y="2"/>
                </a:lnTo>
                <a:lnTo>
                  <a:pt x="2" y="4"/>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Freeform 18"/>
          <p:cNvSpPr/>
          <p:nvPr/>
        </p:nvSpPr>
        <p:spPr>
          <a:xfrm>
            <a:off x="1636560" y="5743440"/>
            <a:ext cx="801720" cy="831960"/>
          </a:xfrm>
          <a:custGeom>
            <a:avLst/>
            <a:gdLst>
              <a:gd name="textAreaLeft" fmla="*/ 0 w 801720"/>
              <a:gd name="textAreaRight" fmla="*/ 802080 w 801720"/>
              <a:gd name="textAreaTop" fmla="*/ 0 h 831960"/>
              <a:gd name="textAreaBottom" fmla="*/ 832320 h 831960"/>
            </a:gdLst>
            <a:ahLst/>
            <a:rect l="textAreaLeft" t="textAreaTop" r="textAreaRight" b="textAreaBottom"/>
            <a:pathLst>
              <a:path w="505" h="524">
                <a:moveTo>
                  <a:pt x="0" y="0"/>
                </a:moveTo>
                <a:lnTo>
                  <a:pt x="8" y="453"/>
                </a:lnTo>
                <a:lnTo>
                  <a:pt x="13" y="457"/>
                </a:lnTo>
                <a:lnTo>
                  <a:pt x="17" y="459"/>
                </a:lnTo>
                <a:lnTo>
                  <a:pt x="23" y="463"/>
                </a:lnTo>
                <a:lnTo>
                  <a:pt x="27" y="464"/>
                </a:lnTo>
                <a:lnTo>
                  <a:pt x="33" y="468"/>
                </a:lnTo>
                <a:lnTo>
                  <a:pt x="36" y="470"/>
                </a:lnTo>
                <a:lnTo>
                  <a:pt x="42" y="472"/>
                </a:lnTo>
                <a:lnTo>
                  <a:pt x="46" y="476"/>
                </a:lnTo>
                <a:lnTo>
                  <a:pt x="58" y="480"/>
                </a:lnTo>
                <a:lnTo>
                  <a:pt x="61" y="482"/>
                </a:lnTo>
                <a:lnTo>
                  <a:pt x="67" y="486"/>
                </a:lnTo>
                <a:lnTo>
                  <a:pt x="71" y="488"/>
                </a:lnTo>
                <a:lnTo>
                  <a:pt x="83" y="491"/>
                </a:lnTo>
                <a:lnTo>
                  <a:pt x="86" y="493"/>
                </a:lnTo>
                <a:lnTo>
                  <a:pt x="92" y="495"/>
                </a:lnTo>
                <a:lnTo>
                  <a:pt x="96" y="497"/>
                </a:lnTo>
                <a:lnTo>
                  <a:pt x="108" y="501"/>
                </a:lnTo>
                <a:lnTo>
                  <a:pt x="111" y="503"/>
                </a:lnTo>
                <a:lnTo>
                  <a:pt x="123" y="507"/>
                </a:lnTo>
                <a:lnTo>
                  <a:pt x="127" y="507"/>
                </a:lnTo>
                <a:lnTo>
                  <a:pt x="132" y="509"/>
                </a:lnTo>
                <a:lnTo>
                  <a:pt x="136" y="511"/>
                </a:lnTo>
                <a:lnTo>
                  <a:pt x="142" y="511"/>
                </a:lnTo>
                <a:lnTo>
                  <a:pt x="148" y="513"/>
                </a:lnTo>
                <a:lnTo>
                  <a:pt x="152" y="514"/>
                </a:lnTo>
                <a:lnTo>
                  <a:pt x="157" y="514"/>
                </a:lnTo>
                <a:lnTo>
                  <a:pt x="163" y="516"/>
                </a:lnTo>
                <a:lnTo>
                  <a:pt x="167" y="516"/>
                </a:lnTo>
                <a:lnTo>
                  <a:pt x="173" y="518"/>
                </a:lnTo>
                <a:lnTo>
                  <a:pt x="179" y="518"/>
                </a:lnTo>
                <a:lnTo>
                  <a:pt x="184" y="520"/>
                </a:lnTo>
                <a:lnTo>
                  <a:pt x="194" y="520"/>
                </a:lnTo>
                <a:lnTo>
                  <a:pt x="200" y="522"/>
                </a:lnTo>
                <a:lnTo>
                  <a:pt x="215" y="522"/>
                </a:lnTo>
                <a:lnTo>
                  <a:pt x="221" y="524"/>
                </a:lnTo>
                <a:lnTo>
                  <a:pt x="271" y="524"/>
                </a:lnTo>
                <a:lnTo>
                  <a:pt x="277" y="522"/>
                </a:lnTo>
                <a:lnTo>
                  <a:pt x="292" y="522"/>
                </a:lnTo>
                <a:lnTo>
                  <a:pt x="298" y="520"/>
                </a:lnTo>
                <a:lnTo>
                  <a:pt x="307" y="520"/>
                </a:lnTo>
                <a:lnTo>
                  <a:pt x="313" y="518"/>
                </a:lnTo>
                <a:lnTo>
                  <a:pt x="319" y="518"/>
                </a:lnTo>
                <a:lnTo>
                  <a:pt x="325" y="516"/>
                </a:lnTo>
                <a:lnTo>
                  <a:pt x="330" y="516"/>
                </a:lnTo>
                <a:lnTo>
                  <a:pt x="334" y="514"/>
                </a:lnTo>
                <a:lnTo>
                  <a:pt x="340" y="513"/>
                </a:lnTo>
                <a:lnTo>
                  <a:pt x="346" y="513"/>
                </a:lnTo>
                <a:lnTo>
                  <a:pt x="357" y="509"/>
                </a:lnTo>
                <a:lnTo>
                  <a:pt x="363" y="509"/>
                </a:lnTo>
                <a:lnTo>
                  <a:pt x="367" y="507"/>
                </a:lnTo>
                <a:lnTo>
                  <a:pt x="378" y="503"/>
                </a:lnTo>
                <a:lnTo>
                  <a:pt x="384" y="501"/>
                </a:lnTo>
                <a:lnTo>
                  <a:pt x="390" y="501"/>
                </a:lnTo>
                <a:lnTo>
                  <a:pt x="401" y="497"/>
                </a:lnTo>
                <a:lnTo>
                  <a:pt x="407" y="495"/>
                </a:lnTo>
                <a:lnTo>
                  <a:pt x="411" y="493"/>
                </a:lnTo>
                <a:lnTo>
                  <a:pt x="417" y="491"/>
                </a:lnTo>
                <a:lnTo>
                  <a:pt x="422" y="488"/>
                </a:lnTo>
                <a:lnTo>
                  <a:pt x="434" y="484"/>
                </a:lnTo>
                <a:lnTo>
                  <a:pt x="446" y="480"/>
                </a:lnTo>
                <a:lnTo>
                  <a:pt x="451" y="476"/>
                </a:lnTo>
                <a:lnTo>
                  <a:pt x="463" y="472"/>
                </a:lnTo>
                <a:lnTo>
                  <a:pt x="469" y="468"/>
                </a:lnTo>
                <a:lnTo>
                  <a:pt x="474" y="466"/>
                </a:lnTo>
                <a:lnTo>
                  <a:pt x="480" y="463"/>
                </a:lnTo>
                <a:lnTo>
                  <a:pt x="484" y="461"/>
                </a:lnTo>
                <a:lnTo>
                  <a:pt x="490" y="457"/>
                </a:lnTo>
                <a:lnTo>
                  <a:pt x="495" y="455"/>
                </a:lnTo>
                <a:lnTo>
                  <a:pt x="499" y="453"/>
                </a:lnTo>
                <a:lnTo>
                  <a:pt x="505" y="36"/>
                </a:lnTo>
                <a:lnTo>
                  <a:pt x="505" y="0"/>
                </a:lnTo>
                <a:lnTo>
                  <a:pt x="0" y="0"/>
                </a:lnTo>
                <a:close/>
              </a:path>
            </a:pathLst>
          </a:custGeom>
          <a:solidFill>
            <a:srgbClr val="ffc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Freeform 19"/>
          <p:cNvSpPr/>
          <p:nvPr/>
        </p:nvSpPr>
        <p:spPr>
          <a:xfrm>
            <a:off x="1633680" y="5740560"/>
            <a:ext cx="807840" cy="838080"/>
          </a:xfrm>
          <a:custGeom>
            <a:avLst/>
            <a:gdLst>
              <a:gd name="textAreaLeft" fmla="*/ 0 w 807840"/>
              <a:gd name="textAreaRight" fmla="*/ 808200 w 807840"/>
              <a:gd name="textAreaTop" fmla="*/ 0 h 838080"/>
              <a:gd name="textAreaBottom" fmla="*/ 838440 h 838080"/>
            </a:gdLst>
            <a:ahLst/>
            <a:rect l="textAreaLeft" t="textAreaTop" r="textAreaRight" b="textAreaBottom"/>
            <a:pathLst>
              <a:path w="509" h="528">
                <a:moveTo>
                  <a:pt x="2" y="0"/>
                </a:moveTo>
                <a:lnTo>
                  <a:pt x="0" y="0"/>
                </a:lnTo>
                <a:lnTo>
                  <a:pt x="0" y="2"/>
                </a:lnTo>
                <a:lnTo>
                  <a:pt x="8" y="455"/>
                </a:lnTo>
                <a:lnTo>
                  <a:pt x="8" y="457"/>
                </a:lnTo>
                <a:lnTo>
                  <a:pt x="13" y="461"/>
                </a:lnTo>
                <a:lnTo>
                  <a:pt x="15" y="461"/>
                </a:lnTo>
                <a:lnTo>
                  <a:pt x="19" y="463"/>
                </a:lnTo>
                <a:lnTo>
                  <a:pt x="17" y="463"/>
                </a:lnTo>
                <a:lnTo>
                  <a:pt x="23" y="466"/>
                </a:lnTo>
                <a:lnTo>
                  <a:pt x="25" y="466"/>
                </a:lnTo>
                <a:lnTo>
                  <a:pt x="29" y="468"/>
                </a:lnTo>
                <a:lnTo>
                  <a:pt x="27" y="468"/>
                </a:lnTo>
                <a:lnTo>
                  <a:pt x="33" y="472"/>
                </a:lnTo>
                <a:lnTo>
                  <a:pt x="35" y="472"/>
                </a:lnTo>
                <a:lnTo>
                  <a:pt x="38" y="474"/>
                </a:lnTo>
                <a:lnTo>
                  <a:pt x="44" y="476"/>
                </a:lnTo>
                <a:lnTo>
                  <a:pt x="42" y="476"/>
                </a:lnTo>
                <a:lnTo>
                  <a:pt x="46" y="480"/>
                </a:lnTo>
                <a:lnTo>
                  <a:pt x="48" y="480"/>
                </a:lnTo>
                <a:lnTo>
                  <a:pt x="60" y="484"/>
                </a:lnTo>
                <a:lnTo>
                  <a:pt x="63" y="486"/>
                </a:lnTo>
                <a:lnTo>
                  <a:pt x="61" y="486"/>
                </a:lnTo>
                <a:lnTo>
                  <a:pt x="67" y="490"/>
                </a:lnTo>
                <a:lnTo>
                  <a:pt x="69" y="490"/>
                </a:lnTo>
                <a:lnTo>
                  <a:pt x="73" y="491"/>
                </a:lnTo>
                <a:lnTo>
                  <a:pt x="85" y="495"/>
                </a:lnTo>
                <a:lnTo>
                  <a:pt x="88" y="497"/>
                </a:lnTo>
                <a:lnTo>
                  <a:pt x="94" y="499"/>
                </a:lnTo>
                <a:lnTo>
                  <a:pt x="98" y="501"/>
                </a:lnTo>
                <a:lnTo>
                  <a:pt x="110" y="505"/>
                </a:lnTo>
                <a:lnTo>
                  <a:pt x="113" y="507"/>
                </a:lnTo>
                <a:lnTo>
                  <a:pt x="125" y="511"/>
                </a:lnTo>
                <a:lnTo>
                  <a:pt x="129" y="511"/>
                </a:lnTo>
                <a:lnTo>
                  <a:pt x="134" y="513"/>
                </a:lnTo>
                <a:lnTo>
                  <a:pt x="138" y="515"/>
                </a:lnTo>
                <a:lnTo>
                  <a:pt x="144" y="515"/>
                </a:lnTo>
                <a:lnTo>
                  <a:pt x="150" y="516"/>
                </a:lnTo>
                <a:lnTo>
                  <a:pt x="154" y="518"/>
                </a:lnTo>
                <a:lnTo>
                  <a:pt x="159" y="518"/>
                </a:lnTo>
                <a:lnTo>
                  <a:pt x="165" y="520"/>
                </a:lnTo>
                <a:lnTo>
                  <a:pt x="169" y="520"/>
                </a:lnTo>
                <a:lnTo>
                  <a:pt x="175" y="522"/>
                </a:lnTo>
                <a:lnTo>
                  <a:pt x="181" y="522"/>
                </a:lnTo>
                <a:lnTo>
                  <a:pt x="186" y="524"/>
                </a:lnTo>
                <a:lnTo>
                  <a:pt x="196" y="524"/>
                </a:lnTo>
                <a:lnTo>
                  <a:pt x="202" y="526"/>
                </a:lnTo>
                <a:lnTo>
                  <a:pt x="217" y="526"/>
                </a:lnTo>
                <a:lnTo>
                  <a:pt x="223" y="528"/>
                </a:lnTo>
                <a:lnTo>
                  <a:pt x="273" y="528"/>
                </a:lnTo>
                <a:lnTo>
                  <a:pt x="279" y="526"/>
                </a:lnTo>
                <a:lnTo>
                  <a:pt x="294" y="526"/>
                </a:lnTo>
                <a:lnTo>
                  <a:pt x="300" y="524"/>
                </a:lnTo>
                <a:lnTo>
                  <a:pt x="309" y="524"/>
                </a:lnTo>
                <a:lnTo>
                  <a:pt x="315" y="522"/>
                </a:lnTo>
                <a:lnTo>
                  <a:pt x="321" y="522"/>
                </a:lnTo>
                <a:lnTo>
                  <a:pt x="327" y="520"/>
                </a:lnTo>
                <a:lnTo>
                  <a:pt x="332" y="520"/>
                </a:lnTo>
                <a:lnTo>
                  <a:pt x="336" y="518"/>
                </a:lnTo>
                <a:lnTo>
                  <a:pt x="342" y="516"/>
                </a:lnTo>
                <a:lnTo>
                  <a:pt x="348" y="516"/>
                </a:lnTo>
                <a:lnTo>
                  <a:pt x="359" y="513"/>
                </a:lnTo>
                <a:lnTo>
                  <a:pt x="365" y="513"/>
                </a:lnTo>
                <a:lnTo>
                  <a:pt x="369" y="511"/>
                </a:lnTo>
                <a:lnTo>
                  <a:pt x="386" y="505"/>
                </a:lnTo>
                <a:lnTo>
                  <a:pt x="392" y="505"/>
                </a:lnTo>
                <a:lnTo>
                  <a:pt x="409" y="499"/>
                </a:lnTo>
                <a:lnTo>
                  <a:pt x="413" y="497"/>
                </a:lnTo>
                <a:lnTo>
                  <a:pt x="419" y="495"/>
                </a:lnTo>
                <a:lnTo>
                  <a:pt x="421" y="495"/>
                </a:lnTo>
                <a:lnTo>
                  <a:pt x="426" y="491"/>
                </a:lnTo>
                <a:lnTo>
                  <a:pt x="424" y="491"/>
                </a:lnTo>
                <a:lnTo>
                  <a:pt x="448" y="484"/>
                </a:lnTo>
                <a:lnTo>
                  <a:pt x="449" y="484"/>
                </a:lnTo>
                <a:lnTo>
                  <a:pt x="455" y="480"/>
                </a:lnTo>
                <a:lnTo>
                  <a:pt x="453" y="480"/>
                </a:lnTo>
                <a:lnTo>
                  <a:pt x="465" y="476"/>
                </a:lnTo>
                <a:lnTo>
                  <a:pt x="467" y="476"/>
                </a:lnTo>
                <a:lnTo>
                  <a:pt x="473" y="472"/>
                </a:lnTo>
                <a:lnTo>
                  <a:pt x="471" y="472"/>
                </a:lnTo>
                <a:lnTo>
                  <a:pt x="476" y="470"/>
                </a:lnTo>
                <a:lnTo>
                  <a:pt x="478" y="470"/>
                </a:lnTo>
                <a:lnTo>
                  <a:pt x="484" y="466"/>
                </a:lnTo>
                <a:lnTo>
                  <a:pt x="482" y="466"/>
                </a:lnTo>
                <a:lnTo>
                  <a:pt x="486" y="465"/>
                </a:lnTo>
                <a:lnTo>
                  <a:pt x="488" y="465"/>
                </a:lnTo>
                <a:lnTo>
                  <a:pt x="494" y="461"/>
                </a:lnTo>
                <a:lnTo>
                  <a:pt x="492" y="461"/>
                </a:lnTo>
                <a:lnTo>
                  <a:pt x="497" y="459"/>
                </a:lnTo>
                <a:lnTo>
                  <a:pt x="501" y="457"/>
                </a:lnTo>
                <a:lnTo>
                  <a:pt x="503" y="457"/>
                </a:lnTo>
                <a:lnTo>
                  <a:pt x="503" y="455"/>
                </a:lnTo>
                <a:lnTo>
                  <a:pt x="509" y="38"/>
                </a:lnTo>
                <a:lnTo>
                  <a:pt x="509" y="0"/>
                </a:lnTo>
                <a:lnTo>
                  <a:pt x="507" y="0"/>
                </a:lnTo>
                <a:lnTo>
                  <a:pt x="2" y="0"/>
                </a:lnTo>
                <a:lnTo>
                  <a:pt x="2" y="4"/>
                </a:lnTo>
                <a:lnTo>
                  <a:pt x="507" y="4"/>
                </a:lnTo>
                <a:lnTo>
                  <a:pt x="505" y="2"/>
                </a:lnTo>
                <a:lnTo>
                  <a:pt x="505" y="38"/>
                </a:lnTo>
                <a:lnTo>
                  <a:pt x="499" y="455"/>
                </a:lnTo>
                <a:lnTo>
                  <a:pt x="501" y="453"/>
                </a:lnTo>
                <a:lnTo>
                  <a:pt x="497" y="455"/>
                </a:lnTo>
                <a:lnTo>
                  <a:pt x="492" y="457"/>
                </a:lnTo>
                <a:lnTo>
                  <a:pt x="490" y="457"/>
                </a:lnTo>
                <a:lnTo>
                  <a:pt x="484" y="461"/>
                </a:lnTo>
                <a:lnTo>
                  <a:pt x="486" y="461"/>
                </a:lnTo>
                <a:lnTo>
                  <a:pt x="482" y="463"/>
                </a:lnTo>
                <a:lnTo>
                  <a:pt x="480" y="463"/>
                </a:lnTo>
                <a:lnTo>
                  <a:pt x="474" y="466"/>
                </a:lnTo>
                <a:lnTo>
                  <a:pt x="476" y="466"/>
                </a:lnTo>
                <a:lnTo>
                  <a:pt x="471" y="468"/>
                </a:lnTo>
                <a:lnTo>
                  <a:pt x="469" y="468"/>
                </a:lnTo>
                <a:lnTo>
                  <a:pt x="463" y="472"/>
                </a:lnTo>
                <a:lnTo>
                  <a:pt x="465" y="472"/>
                </a:lnTo>
                <a:lnTo>
                  <a:pt x="453" y="476"/>
                </a:lnTo>
                <a:lnTo>
                  <a:pt x="451" y="476"/>
                </a:lnTo>
                <a:lnTo>
                  <a:pt x="446" y="480"/>
                </a:lnTo>
                <a:lnTo>
                  <a:pt x="448" y="480"/>
                </a:lnTo>
                <a:lnTo>
                  <a:pt x="424" y="488"/>
                </a:lnTo>
                <a:lnTo>
                  <a:pt x="423" y="488"/>
                </a:lnTo>
                <a:lnTo>
                  <a:pt x="417" y="491"/>
                </a:lnTo>
                <a:lnTo>
                  <a:pt x="419" y="491"/>
                </a:lnTo>
                <a:lnTo>
                  <a:pt x="413" y="493"/>
                </a:lnTo>
                <a:lnTo>
                  <a:pt x="409" y="495"/>
                </a:lnTo>
                <a:lnTo>
                  <a:pt x="392" y="501"/>
                </a:lnTo>
                <a:lnTo>
                  <a:pt x="386" y="501"/>
                </a:lnTo>
                <a:lnTo>
                  <a:pt x="369" y="507"/>
                </a:lnTo>
                <a:lnTo>
                  <a:pt x="365" y="509"/>
                </a:lnTo>
                <a:lnTo>
                  <a:pt x="359" y="509"/>
                </a:lnTo>
                <a:lnTo>
                  <a:pt x="348" y="513"/>
                </a:lnTo>
                <a:lnTo>
                  <a:pt x="342" y="513"/>
                </a:lnTo>
                <a:lnTo>
                  <a:pt x="336" y="515"/>
                </a:lnTo>
                <a:lnTo>
                  <a:pt x="332" y="516"/>
                </a:lnTo>
                <a:lnTo>
                  <a:pt x="327" y="516"/>
                </a:lnTo>
                <a:lnTo>
                  <a:pt x="321" y="518"/>
                </a:lnTo>
                <a:lnTo>
                  <a:pt x="315" y="518"/>
                </a:lnTo>
                <a:lnTo>
                  <a:pt x="309" y="520"/>
                </a:lnTo>
                <a:lnTo>
                  <a:pt x="300" y="520"/>
                </a:lnTo>
                <a:lnTo>
                  <a:pt x="294" y="522"/>
                </a:lnTo>
                <a:lnTo>
                  <a:pt x="279" y="522"/>
                </a:lnTo>
                <a:lnTo>
                  <a:pt x="273" y="524"/>
                </a:lnTo>
                <a:lnTo>
                  <a:pt x="223" y="524"/>
                </a:lnTo>
                <a:lnTo>
                  <a:pt x="217" y="522"/>
                </a:lnTo>
                <a:lnTo>
                  <a:pt x="202" y="522"/>
                </a:lnTo>
                <a:lnTo>
                  <a:pt x="196" y="520"/>
                </a:lnTo>
                <a:lnTo>
                  <a:pt x="186" y="520"/>
                </a:lnTo>
                <a:lnTo>
                  <a:pt x="181" y="518"/>
                </a:lnTo>
                <a:lnTo>
                  <a:pt x="175" y="518"/>
                </a:lnTo>
                <a:lnTo>
                  <a:pt x="169" y="516"/>
                </a:lnTo>
                <a:lnTo>
                  <a:pt x="165" y="516"/>
                </a:lnTo>
                <a:lnTo>
                  <a:pt x="159" y="515"/>
                </a:lnTo>
                <a:lnTo>
                  <a:pt x="154" y="515"/>
                </a:lnTo>
                <a:lnTo>
                  <a:pt x="150" y="513"/>
                </a:lnTo>
                <a:lnTo>
                  <a:pt x="144" y="511"/>
                </a:lnTo>
                <a:lnTo>
                  <a:pt x="138" y="511"/>
                </a:lnTo>
                <a:lnTo>
                  <a:pt x="134" y="509"/>
                </a:lnTo>
                <a:lnTo>
                  <a:pt x="129" y="507"/>
                </a:lnTo>
                <a:lnTo>
                  <a:pt x="125" y="507"/>
                </a:lnTo>
                <a:lnTo>
                  <a:pt x="113" y="503"/>
                </a:lnTo>
                <a:lnTo>
                  <a:pt x="110" y="501"/>
                </a:lnTo>
                <a:lnTo>
                  <a:pt x="98" y="497"/>
                </a:lnTo>
                <a:lnTo>
                  <a:pt x="94" y="495"/>
                </a:lnTo>
                <a:lnTo>
                  <a:pt x="88" y="493"/>
                </a:lnTo>
                <a:lnTo>
                  <a:pt x="85" y="491"/>
                </a:lnTo>
                <a:lnTo>
                  <a:pt x="73" y="488"/>
                </a:lnTo>
                <a:lnTo>
                  <a:pt x="69" y="486"/>
                </a:lnTo>
                <a:lnTo>
                  <a:pt x="71" y="486"/>
                </a:lnTo>
                <a:lnTo>
                  <a:pt x="65" y="482"/>
                </a:lnTo>
                <a:lnTo>
                  <a:pt x="63" y="482"/>
                </a:lnTo>
                <a:lnTo>
                  <a:pt x="60" y="480"/>
                </a:lnTo>
                <a:lnTo>
                  <a:pt x="48" y="476"/>
                </a:lnTo>
                <a:lnTo>
                  <a:pt x="50" y="476"/>
                </a:lnTo>
                <a:lnTo>
                  <a:pt x="46" y="472"/>
                </a:lnTo>
                <a:lnTo>
                  <a:pt x="44" y="472"/>
                </a:lnTo>
                <a:lnTo>
                  <a:pt x="38" y="470"/>
                </a:lnTo>
                <a:lnTo>
                  <a:pt x="35" y="468"/>
                </a:lnTo>
                <a:lnTo>
                  <a:pt x="37" y="468"/>
                </a:lnTo>
                <a:lnTo>
                  <a:pt x="31" y="465"/>
                </a:lnTo>
                <a:lnTo>
                  <a:pt x="29" y="465"/>
                </a:lnTo>
                <a:lnTo>
                  <a:pt x="25" y="463"/>
                </a:lnTo>
                <a:lnTo>
                  <a:pt x="27" y="463"/>
                </a:lnTo>
                <a:lnTo>
                  <a:pt x="21" y="459"/>
                </a:lnTo>
                <a:lnTo>
                  <a:pt x="19" y="459"/>
                </a:lnTo>
                <a:lnTo>
                  <a:pt x="15" y="457"/>
                </a:lnTo>
                <a:lnTo>
                  <a:pt x="17" y="457"/>
                </a:lnTo>
                <a:lnTo>
                  <a:pt x="12" y="453"/>
                </a:lnTo>
                <a:lnTo>
                  <a:pt x="12" y="455"/>
                </a:lnTo>
                <a:lnTo>
                  <a:pt x="4" y="2"/>
                </a:lnTo>
                <a:lnTo>
                  <a:pt x="2" y="4"/>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Freeform 20"/>
          <p:cNvSpPr/>
          <p:nvPr/>
        </p:nvSpPr>
        <p:spPr>
          <a:xfrm>
            <a:off x="1639800" y="3551400"/>
            <a:ext cx="801720" cy="880920"/>
          </a:xfrm>
          <a:custGeom>
            <a:avLst/>
            <a:gdLst>
              <a:gd name="textAreaLeft" fmla="*/ 0 w 801720"/>
              <a:gd name="textAreaRight" fmla="*/ 802080 w 801720"/>
              <a:gd name="textAreaTop" fmla="*/ 0 h 880920"/>
              <a:gd name="textAreaBottom" fmla="*/ 881280 h 880920"/>
            </a:gdLst>
            <a:ahLst/>
            <a:rect l="textAreaLeft" t="textAreaTop" r="textAreaRight" b="textAreaBottom"/>
            <a:pathLst>
              <a:path w="505" h="555">
                <a:moveTo>
                  <a:pt x="0" y="0"/>
                </a:moveTo>
                <a:lnTo>
                  <a:pt x="6" y="480"/>
                </a:lnTo>
                <a:lnTo>
                  <a:pt x="11" y="484"/>
                </a:lnTo>
                <a:lnTo>
                  <a:pt x="15" y="486"/>
                </a:lnTo>
                <a:lnTo>
                  <a:pt x="21" y="490"/>
                </a:lnTo>
                <a:lnTo>
                  <a:pt x="25" y="492"/>
                </a:lnTo>
                <a:lnTo>
                  <a:pt x="31" y="495"/>
                </a:lnTo>
                <a:lnTo>
                  <a:pt x="34" y="497"/>
                </a:lnTo>
                <a:lnTo>
                  <a:pt x="40" y="501"/>
                </a:lnTo>
                <a:lnTo>
                  <a:pt x="44" y="503"/>
                </a:lnTo>
                <a:lnTo>
                  <a:pt x="50" y="507"/>
                </a:lnTo>
                <a:lnTo>
                  <a:pt x="54" y="509"/>
                </a:lnTo>
                <a:lnTo>
                  <a:pt x="59" y="511"/>
                </a:lnTo>
                <a:lnTo>
                  <a:pt x="65" y="515"/>
                </a:lnTo>
                <a:lnTo>
                  <a:pt x="69" y="517"/>
                </a:lnTo>
                <a:lnTo>
                  <a:pt x="75" y="518"/>
                </a:lnTo>
                <a:lnTo>
                  <a:pt x="79" y="520"/>
                </a:lnTo>
                <a:lnTo>
                  <a:pt x="90" y="524"/>
                </a:lnTo>
                <a:lnTo>
                  <a:pt x="94" y="526"/>
                </a:lnTo>
                <a:lnTo>
                  <a:pt x="106" y="530"/>
                </a:lnTo>
                <a:lnTo>
                  <a:pt x="109" y="532"/>
                </a:lnTo>
                <a:lnTo>
                  <a:pt x="115" y="534"/>
                </a:lnTo>
                <a:lnTo>
                  <a:pt x="119" y="536"/>
                </a:lnTo>
                <a:lnTo>
                  <a:pt x="130" y="540"/>
                </a:lnTo>
                <a:lnTo>
                  <a:pt x="134" y="540"/>
                </a:lnTo>
                <a:lnTo>
                  <a:pt x="146" y="543"/>
                </a:lnTo>
                <a:lnTo>
                  <a:pt x="150" y="543"/>
                </a:lnTo>
                <a:lnTo>
                  <a:pt x="161" y="547"/>
                </a:lnTo>
                <a:lnTo>
                  <a:pt x="165" y="547"/>
                </a:lnTo>
                <a:lnTo>
                  <a:pt x="171" y="549"/>
                </a:lnTo>
                <a:lnTo>
                  <a:pt x="177" y="549"/>
                </a:lnTo>
                <a:lnTo>
                  <a:pt x="180" y="551"/>
                </a:lnTo>
                <a:lnTo>
                  <a:pt x="192" y="551"/>
                </a:lnTo>
                <a:lnTo>
                  <a:pt x="198" y="553"/>
                </a:lnTo>
                <a:lnTo>
                  <a:pt x="213" y="553"/>
                </a:lnTo>
                <a:lnTo>
                  <a:pt x="219" y="555"/>
                </a:lnTo>
                <a:lnTo>
                  <a:pt x="269" y="555"/>
                </a:lnTo>
                <a:lnTo>
                  <a:pt x="275" y="553"/>
                </a:lnTo>
                <a:lnTo>
                  <a:pt x="290" y="553"/>
                </a:lnTo>
                <a:lnTo>
                  <a:pt x="296" y="551"/>
                </a:lnTo>
                <a:lnTo>
                  <a:pt x="301" y="551"/>
                </a:lnTo>
                <a:lnTo>
                  <a:pt x="305" y="549"/>
                </a:lnTo>
                <a:lnTo>
                  <a:pt x="311" y="549"/>
                </a:lnTo>
                <a:lnTo>
                  <a:pt x="317" y="547"/>
                </a:lnTo>
                <a:lnTo>
                  <a:pt x="323" y="547"/>
                </a:lnTo>
                <a:lnTo>
                  <a:pt x="328" y="545"/>
                </a:lnTo>
                <a:lnTo>
                  <a:pt x="334" y="545"/>
                </a:lnTo>
                <a:lnTo>
                  <a:pt x="340" y="543"/>
                </a:lnTo>
                <a:lnTo>
                  <a:pt x="344" y="543"/>
                </a:lnTo>
                <a:lnTo>
                  <a:pt x="355" y="540"/>
                </a:lnTo>
                <a:lnTo>
                  <a:pt x="367" y="536"/>
                </a:lnTo>
                <a:lnTo>
                  <a:pt x="372" y="536"/>
                </a:lnTo>
                <a:lnTo>
                  <a:pt x="378" y="534"/>
                </a:lnTo>
                <a:lnTo>
                  <a:pt x="382" y="532"/>
                </a:lnTo>
                <a:lnTo>
                  <a:pt x="394" y="528"/>
                </a:lnTo>
                <a:lnTo>
                  <a:pt x="405" y="524"/>
                </a:lnTo>
                <a:lnTo>
                  <a:pt x="417" y="520"/>
                </a:lnTo>
                <a:lnTo>
                  <a:pt x="422" y="517"/>
                </a:lnTo>
                <a:lnTo>
                  <a:pt x="434" y="513"/>
                </a:lnTo>
                <a:lnTo>
                  <a:pt x="440" y="511"/>
                </a:lnTo>
                <a:lnTo>
                  <a:pt x="445" y="507"/>
                </a:lnTo>
                <a:lnTo>
                  <a:pt x="457" y="503"/>
                </a:lnTo>
                <a:lnTo>
                  <a:pt x="461" y="499"/>
                </a:lnTo>
                <a:lnTo>
                  <a:pt x="467" y="497"/>
                </a:lnTo>
                <a:lnTo>
                  <a:pt x="472" y="493"/>
                </a:lnTo>
                <a:lnTo>
                  <a:pt x="478" y="492"/>
                </a:lnTo>
                <a:lnTo>
                  <a:pt x="484" y="488"/>
                </a:lnTo>
                <a:lnTo>
                  <a:pt x="490" y="486"/>
                </a:lnTo>
                <a:lnTo>
                  <a:pt x="495" y="482"/>
                </a:lnTo>
                <a:lnTo>
                  <a:pt x="499" y="480"/>
                </a:lnTo>
                <a:lnTo>
                  <a:pt x="505" y="36"/>
                </a:lnTo>
                <a:lnTo>
                  <a:pt x="505" y="0"/>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Freeform 21"/>
          <p:cNvSpPr/>
          <p:nvPr/>
        </p:nvSpPr>
        <p:spPr>
          <a:xfrm>
            <a:off x="1636560" y="3548160"/>
            <a:ext cx="808200" cy="887400"/>
          </a:xfrm>
          <a:custGeom>
            <a:avLst/>
            <a:gdLst>
              <a:gd name="textAreaLeft" fmla="*/ 0 w 808200"/>
              <a:gd name="textAreaRight" fmla="*/ 808560 w 808200"/>
              <a:gd name="textAreaTop" fmla="*/ 0 h 887400"/>
              <a:gd name="textAreaBottom" fmla="*/ 887760 h 887400"/>
            </a:gdLst>
            <a:ahLst/>
            <a:rect l="textAreaLeft" t="textAreaTop" r="textAreaRight" b="textAreaBottom"/>
            <a:pathLst>
              <a:path w="509" h="559">
                <a:moveTo>
                  <a:pt x="2" y="0"/>
                </a:moveTo>
                <a:lnTo>
                  <a:pt x="0" y="0"/>
                </a:lnTo>
                <a:lnTo>
                  <a:pt x="0" y="2"/>
                </a:lnTo>
                <a:lnTo>
                  <a:pt x="6" y="482"/>
                </a:lnTo>
                <a:lnTo>
                  <a:pt x="6" y="484"/>
                </a:lnTo>
                <a:lnTo>
                  <a:pt x="11" y="488"/>
                </a:lnTo>
                <a:lnTo>
                  <a:pt x="13" y="488"/>
                </a:lnTo>
                <a:lnTo>
                  <a:pt x="17" y="490"/>
                </a:lnTo>
                <a:lnTo>
                  <a:pt x="15" y="490"/>
                </a:lnTo>
                <a:lnTo>
                  <a:pt x="21" y="494"/>
                </a:lnTo>
                <a:lnTo>
                  <a:pt x="23" y="494"/>
                </a:lnTo>
                <a:lnTo>
                  <a:pt x="27" y="495"/>
                </a:lnTo>
                <a:lnTo>
                  <a:pt x="25" y="495"/>
                </a:lnTo>
                <a:lnTo>
                  <a:pt x="31" y="499"/>
                </a:lnTo>
                <a:lnTo>
                  <a:pt x="33" y="499"/>
                </a:lnTo>
                <a:lnTo>
                  <a:pt x="36" y="501"/>
                </a:lnTo>
                <a:lnTo>
                  <a:pt x="35" y="501"/>
                </a:lnTo>
                <a:lnTo>
                  <a:pt x="40" y="505"/>
                </a:lnTo>
                <a:lnTo>
                  <a:pt x="42" y="505"/>
                </a:lnTo>
                <a:lnTo>
                  <a:pt x="46" y="507"/>
                </a:lnTo>
                <a:lnTo>
                  <a:pt x="44" y="507"/>
                </a:lnTo>
                <a:lnTo>
                  <a:pt x="50" y="511"/>
                </a:lnTo>
                <a:lnTo>
                  <a:pt x="52" y="511"/>
                </a:lnTo>
                <a:lnTo>
                  <a:pt x="56" y="513"/>
                </a:lnTo>
                <a:lnTo>
                  <a:pt x="61" y="515"/>
                </a:lnTo>
                <a:lnTo>
                  <a:pt x="59" y="515"/>
                </a:lnTo>
                <a:lnTo>
                  <a:pt x="65" y="519"/>
                </a:lnTo>
                <a:lnTo>
                  <a:pt x="67" y="519"/>
                </a:lnTo>
                <a:lnTo>
                  <a:pt x="71" y="520"/>
                </a:lnTo>
                <a:lnTo>
                  <a:pt x="77" y="522"/>
                </a:lnTo>
                <a:lnTo>
                  <a:pt x="81" y="524"/>
                </a:lnTo>
                <a:lnTo>
                  <a:pt x="92" y="528"/>
                </a:lnTo>
                <a:lnTo>
                  <a:pt x="96" y="530"/>
                </a:lnTo>
                <a:lnTo>
                  <a:pt x="108" y="534"/>
                </a:lnTo>
                <a:lnTo>
                  <a:pt x="111" y="536"/>
                </a:lnTo>
                <a:lnTo>
                  <a:pt x="117" y="538"/>
                </a:lnTo>
                <a:lnTo>
                  <a:pt x="121" y="540"/>
                </a:lnTo>
                <a:lnTo>
                  <a:pt x="132" y="544"/>
                </a:lnTo>
                <a:lnTo>
                  <a:pt x="136" y="544"/>
                </a:lnTo>
                <a:lnTo>
                  <a:pt x="148" y="547"/>
                </a:lnTo>
                <a:lnTo>
                  <a:pt x="152" y="547"/>
                </a:lnTo>
                <a:lnTo>
                  <a:pt x="163" y="551"/>
                </a:lnTo>
                <a:lnTo>
                  <a:pt x="167" y="551"/>
                </a:lnTo>
                <a:lnTo>
                  <a:pt x="173" y="553"/>
                </a:lnTo>
                <a:lnTo>
                  <a:pt x="179" y="553"/>
                </a:lnTo>
                <a:lnTo>
                  <a:pt x="182" y="555"/>
                </a:lnTo>
                <a:lnTo>
                  <a:pt x="194" y="555"/>
                </a:lnTo>
                <a:lnTo>
                  <a:pt x="200" y="557"/>
                </a:lnTo>
                <a:lnTo>
                  <a:pt x="215" y="557"/>
                </a:lnTo>
                <a:lnTo>
                  <a:pt x="221" y="559"/>
                </a:lnTo>
                <a:lnTo>
                  <a:pt x="271" y="559"/>
                </a:lnTo>
                <a:lnTo>
                  <a:pt x="277" y="557"/>
                </a:lnTo>
                <a:lnTo>
                  <a:pt x="292" y="557"/>
                </a:lnTo>
                <a:lnTo>
                  <a:pt x="298" y="555"/>
                </a:lnTo>
                <a:lnTo>
                  <a:pt x="303" y="555"/>
                </a:lnTo>
                <a:lnTo>
                  <a:pt x="307" y="553"/>
                </a:lnTo>
                <a:lnTo>
                  <a:pt x="313" y="553"/>
                </a:lnTo>
                <a:lnTo>
                  <a:pt x="319" y="551"/>
                </a:lnTo>
                <a:lnTo>
                  <a:pt x="325" y="551"/>
                </a:lnTo>
                <a:lnTo>
                  <a:pt x="330" y="549"/>
                </a:lnTo>
                <a:lnTo>
                  <a:pt x="336" y="549"/>
                </a:lnTo>
                <a:lnTo>
                  <a:pt x="342" y="547"/>
                </a:lnTo>
                <a:lnTo>
                  <a:pt x="346" y="547"/>
                </a:lnTo>
                <a:lnTo>
                  <a:pt x="369" y="540"/>
                </a:lnTo>
                <a:lnTo>
                  <a:pt x="374" y="540"/>
                </a:lnTo>
                <a:lnTo>
                  <a:pt x="380" y="538"/>
                </a:lnTo>
                <a:lnTo>
                  <a:pt x="384" y="536"/>
                </a:lnTo>
                <a:lnTo>
                  <a:pt x="419" y="524"/>
                </a:lnTo>
                <a:lnTo>
                  <a:pt x="421" y="524"/>
                </a:lnTo>
                <a:lnTo>
                  <a:pt x="426" y="520"/>
                </a:lnTo>
                <a:lnTo>
                  <a:pt x="424" y="520"/>
                </a:lnTo>
                <a:lnTo>
                  <a:pt x="442" y="515"/>
                </a:lnTo>
                <a:lnTo>
                  <a:pt x="444" y="515"/>
                </a:lnTo>
                <a:lnTo>
                  <a:pt x="449" y="511"/>
                </a:lnTo>
                <a:lnTo>
                  <a:pt x="447" y="511"/>
                </a:lnTo>
                <a:lnTo>
                  <a:pt x="459" y="507"/>
                </a:lnTo>
                <a:lnTo>
                  <a:pt x="461" y="507"/>
                </a:lnTo>
                <a:lnTo>
                  <a:pt x="465" y="503"/>
                </a:lnTo>
                <a:lnTo>
                  <a:pt x="463" y="503"/>
                </a:lnTo>
                <a:lnTo>
                  <a:pt x="469" y="501"/>
                </a:lnTo>
                <a:lnTo>
                  <a:pt x="471" y="501"/>
                </a:lnTo>
                <a:lnTo>
                  <a:pt x="476" y="497"/>
                </a:lnTo>
                <a:lnTo>
                  <a:pt x="474" y="497"/>
                </a:lnTo>
                <a:lnTo>
                  <a:pt x="480" y="495"/>
                </a:lnTo>
                <a:lnTo>
                  <a:pt x="482" y="495"/>
                </a:lnTo>
                <a:lnTo>
                  <a:pt x="488" y="492"/>
                </a:lnTo>
                <a:lnTo>
                  <a:pt x="486" y="492"/>
                </a:lnTo>
                <a:lnTo>
                  <a:pt x="492" y="490"/>
                </a:lnTo>
                <a:lnTo>
                  <a:pt x="494" y="490"/>
                </a:lnTo>
                <a:lnTo>
                  <a:pt x="499" y="486"/>
                </a:lnTo>
                <a:lnTo>
                  <a:pt x="497" y="486"/>
                </a:lnTo>
                <a:lnTo>
                  <a:pt x="501" y="484"/>
                </a:lnTo>
                <a:lnTo>
                  <a:pt x="503" y="484"/>
                </a:lnTo>
                <a:lnTo>
                  <a:pt x="503" y="482"/>
                </a:lnTo>
                <a:lnTo>
                  <a:pt x="509" y="38"/>
                </a:lnTo>
                <a:lnTo>
                  <a:pt x="509" y="0"/>
                </a:lnTo>
                <a:lnTo>
                  <a:pt x="507" y="0"/>
                </a:lnTo>
                <a:lnTo>
                  <a:pt x="2" y="0"/>
                </a:lnTo>
                <a:lnTo>
                  <a:pt x="2" y="4"/>
                </a:lnTo>
                <a:lnTo>
                  <a:pt x="507" y="4"/>
                </a:lnTo>
                <a:lnTo>
                  <a:pt x="505" y="2"/>
                </a:lnTo>
                <a:lnTo>
                  <a:pt x="505" y="38"/>
                </a:lnTo>
                <a:lnTo>
                  <a:pt x="499" y="482"/>
                </a:lnTo>
                <a:lnTo>
                  <a:pt x="501" y="480"/>
                </a:lnTo>
                <a:lnTo>
                  <a:pt x="497" y="482"/>
                </a:lnTo>
                <a:lnTo>
                  <a:pt x="495" y="482"/>
                </a:lnTo>
                <a:lnTo>
                  <a:pt x="490" y="486"/>
                </a:lnTo>
                <a:lnTo>
                  <a:pt x="492" y="486"/>
                </a:lnTo>
                <a:lnTo>
                  <a:pt x="486" y="488"/>
                </a:lnTo>
                <a:lnTo>
                  <a:pt x="484" y="488"/>
                </a:lnTo>
                <a:lnTo>
                  <a:pt x="478" y="492"/>
                </a:lnTo>
                <a:lnTo>
                  <a:pt x="480" y="492"/>
                </a:lnTo>
                <a:lnTo>
                  <a:pt x="474" y="494"/>
                </a:lnTo>
                <a:lnTo>
                  <a:pt x="472" y="494"/>
                </a:lnTo>
                <a:lnTo>
                  <a:pt x="467" y="497"/>
                </a:lnTo>
                <a:lnTo>
                  <a:pt x="469" y="497"/>
                </a:lnTo>
                <a:lnTo>
                  <a:pt x="463" y="499"/>
                </a:lnTo>
                <a:lnTo>
                  <a:pt x="461" y="499"/>
                </a:lnTo>
                <a:lnTo>
                  <a:pt x="457" y="503"/>
                </a:lnTo>
                <a:lnTo>
                  <a:pt x="459" y="503"/>
                </a:lnTo>
                <a:lnTo>
                  <a:pt x="447" y="507"/>
                </a:lnTo>
                <a:lnTo>
                  <a:pt x="446" y="507"/>
                </a:lnTo>
                <a:lnTo>
                  <a:pt x="440" y="511"/>
                </a:lnTo>
                <a:lnTo>
                  <a:pt x="442" y="511"/>
                </a:lnTo>
                <a:lnTo>
                  <a:pt x="424" y="517"/>
                </a:lnTo>
                <a:lnTo>
                  <a:pt x="422" y="517"/>
                </a:lnTo>
                <a:lnTo>
                  <a:pt x="417" y="520"/>
                </a:lnTo>
                <a:lnTo>
                  <a:pt x="419" y="520"/>
                </a:lnTo>
                <a:lnTo>
                  <a:pt x="384" y="532"/>
                </a:lnTo>
                <a:lnTo>
                  <a:pt x="380" y="534"/>
                </a:lnTo>
                <a:lnTo>
                  <a:pt x="374" y="536"/>
                </a:lnTo>
                <a:lnTo>
                  <a:pt x="369" y="536"/>
                </a:lnTo>
                <a:lnTo>
                  <a:pt x="346" y="544"/>
                </a:lnTo>
                <a:lnTo>
                  <a:pt x="342" y="544"/>
                </a:lnTo>
                <a:lnTo>
                  <a:pt x="336" y="545"/>
                </a:lnTo>
                <a:lnTo>
                  <a:pt x="330" y="545"/>
                </a:lnTo>
                <a:lnTo>
                  <a:pt x="325" y="547"/>
                </a:lnTo>
                <a:lnTo>
                  <a:pt x="319" y="547"/>
                </a:lnTo>
                <a:lnTo>
                  <a:pt x="313" y="549"/>
                </a:lnTo>
                <a:lnTo>
                  <a:pt x="307" y="549"/>
                </a:lnTo>
                <a:lnTo>
                  <a:pt x="303" y="551"/>
                </a:lnTo>
                <a:lnTo>
                  <a:pt x="298" y="551"/>
                </a:lnTo>
                <a:lnTo>
                  <a:pt x="292" y="553"/>
                </a:lnTo>
                <a:lnTo>
                  <a:pt x="277" y="553"/>
                </a:lnTo>
                <a:lnTo>
                  <a:pt x="271" y="555"/>
                </a:lnTo>
                <a:lnTo>
                  <a:pt x="221" y="555"/>
                </a:lnTo>
                <a:lnTo>
                  <a:pt x="215" y="553"/>
                </a:lnTo>
                <a:lnTo>
                  <a:pt x="200" y="553"/>
                </a:lnTo>
                <a:lnTo>
                  <a:pt x="194" y="551"/>
                </a:lnTo>
                <a:lnTo>
                  <a:pt x="182" y="551"/>
                </a:lnTo>
                <a:lnTo>
                  <a:pt x="179" y="549"/>
                </a:lnTo>
                <a:lnTo>
                  <a:pt x="173" y="549"/>
                </a:lnTo>
                <a:lnTo>
                  <a:pt x="167" y="547"/>
                </a:lnTo>
                <a:lnTo>
                  <a:pt x="163" y="547"/>
                </a:lnTo>
                <a:lnTo>
                  <a:pt x="152" y="544"/>
                </a:lnTo>
                <a:lnTo>
                  <a:pt x="148" y="544"/>
                </a:lnTo>
                <a:lnTo>
                  <a:pt x="136" y="540"/>
                </a:lnTo>
                <a:lnTo>
                  <a:pt x="132" y="540"/>
                </a:lnTo>
                <a:lnTo>
                  <a:pt x="121" y="536"/>
                </a:lnTo>
                <a:lnTo>
                  <a:pt x="117" y="534"/>
                </a:lnTo>
                <a:lnTo>
                  <a:pt x="111" y="532"/>
                </a:lnTo>
                <a:lnTo>
                  <a:pt x="108" y="530"/>
                </a:lnTo>
                <a:lnTo>
                  <a:pt x="96" y="526"/>
                </a:lnTo>
                <a:lnTo>
                  <a:pt x="92" y="524"/>
                </a:lnTo>
                <a:lnTo>
                  <a:pt x="81" y="520"/>
                </a:lnTo>
                <a:lnTo>
                  <a:pt x="77" y="519"/>
                </a:lnTo>
                <a:lnTo>
                  <a:pt x="71" y="517"/>
                </a:lnTo>
                <a:lnTo>
                  <a:pt x="67" y="515"/>
                </a:lnTo>
                <a:lnTo>
                  <a:pt x="69" y="515"/>
                </a:lnTo>
                <a:lnTo>
                  <a:pt x="63" y="511"/>
                </a:lnTo>
                <a:lnTo>
                  <a:pt x="61" y="511"/>
                </a:lnTo>
                <a:lnTo>
                  <a:pt x="56" y="509"/>
                </a:lnTo>
                <a:lnTo>
                  <a:pt x="52" y="507"/>
                </a:lnTo>
                <a:lnTo>
                  <a:pt x="54" y="507"/>
                </a:lnTo>
                <a:lnTo>
                  <a:pt x="48" y="503"/>
                </a:lnTo>
                <a:lnTo>
                  <a:pt x="46" y="503"/>
                </a:lnTo>
                <a:lnTo>
                  <a:pt x="42" y="501"/>
                </a:lnTo>
                <a:lnTo>
                  <a:pt x="44" y="501"/>
                </a:lnTo>
                <a:lnTo>
                  <a:pt x="38" y="497"/>
                </a:lnTo>
                <a:lnTo>
                  <a:pt x="36" y="497"/>
                </a:lnTo>
                <a:lnTo>
                  <a:pt x="33" y="495"/>
                </a:lnTo>
                <a:lnTo>
                  <a:pt x="35" y="495"/>
                </a:lnTo>
                <a:lnTo>
                  <a:pt x="29" y="492"/>
                </a:lnTo>
                <a:lnTo>
                  <a:pt x="27" y="492"/>
                </a:lnTo>
                <a:lnTo>
                  <a:pt x="23" y="490"/>
                </a:lnTo>
                <a:lnTo>
                  <a:pt x="25" y="490"/>
                </a:lnTo>
                <a:lnTo>
                  <a:pt x="19" y="486"/>
                </a:lnTo>
                <a:lnTo>
                  <a:pt x="17" y="486"/>
                </a:lnTo>
                <a:lnTo>
                  <a:pt x="13" y="484"/>
                </a:lnTo>
                <a:lnTo>
                  <a:pt x="15" y="484"/>
                </a:lnTo>
                <a:lnTo>
                  <a:pt x="10" y="480"/>
                </a:lnTo>
                <a:lnTo>
                  <a:pt x="10" y="482"/>
                </a:lnTo>
                <a:lnTo>
                  <a:pt x="4" y="2"/>
                </a:lnTo>
                <a:lnTo>
                  <a:pt x="2" y="4"/>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Freeform 22"/>
          <p:cNvSpPr/>
          <p:nvPr/>
        </p:nvSpPr>
        <p:spPr>
          <a:xfrm>
            <a:off x="1649520" y="2432160"/>
            <a:ext cx="801720" cy="880920"/>
          </a:xfrm>
          <a:custGeom>
            <a:avLst/>
            <a:gdLst>
              <a:gd name="textAreaLeft" fmla="*/ 0 w 801720"/>
              <a:gd name="textAreaRight" fmla="*/ 802080 w 801720"/>
              <a:gd name="textAreaTop" fmla="*/ 0 h 880920"/>
              <a:gd name="textAreaBottom" fmla="*/ 881280 h 880920"/>
            </a:gdLst>
            <a:ahLst/>
            <a:rect l="textAreaLeft" t="textAreaTop" r="textAreaRight" b="textAreaBottom"/>
            <a:pathLst>
              <a:path w="505" h="555">
                <a:moveTo>
                  <a:pt x="0" y="0"/>
                </a:moveTo>
                <a:lnTo>
                  <a:pt x="5" y="480"/>
                </a:lnTo>
                <a:lnTo>
                  <a:pt x="11" y="484"/>
                </a:lnTo>
                <a:lnTo>
                  <a:pt x="15" y="486"/>
                </a:lnTo>
                <a:lnTo>
                  <a:pt x="21" y="490"/>
                </a:lnTo>
                <a:lnTo>
                  <a:pt x="25" y="492"/>
                </a:lnTo>
                <a:lnTo>
                  <a:pt x="30" y="496"/>
                </a:lnTo>
                <a:lnTo>
                  <a:pt x="34" y="498"/>
                </a:lnTo>
                <a:lnTo>
                  <a:pt x="40" y="501"/>
                </a:lnTo>
                <a:lnTo>
                  <a:pt x="46" y="503"/>
                </a:lnTo>
                <a:lnTo>
                  <a:pt x="50" y="507"/>
                </a:lnTo>
                <a:lnTo>
                  <a:pt x="55" y="509"/>
                </a:lnTo>
                <a:lnTo>
                  <a:pt x="59" y="511"/>
                </a:lnTo>
                <a:lnTo>
                  <a:pt x="65" y="515"/>
                </a:lnTo>
                <a:lnTo>
                  <a:pt x="71" y="517"/>
                </a:lnTo>
                <a:lnTo>
                  <a:pt x="75" y="519"/>
                </a:lnTo>
                <a:lnTo>
                  <a:pt x="86" y="522"/>
                </a:lnTo>
                <a:lnTo>
                  <a:pt x="90" y="524"/>
                </a:lnTo>
                <a:lnTo>
                  <a:pt x="101" y="528"/>
                </a:lnTo>
                <a:lnTo>
                  <a:pt x="105" y="530"/>
                </a:lnTo>
                <a:lnTo>
                  <a:pt x="111" y="532"/>
                </a:lnTo>
                <a:lnTo>
                  <a:pt x="115" y="534"/>
                </a:lnTo>
                <a:lnTo>
                  <a:pt x="126" y="538"/>
                </a:lnTo>
                <a:lnTo>
                  <a:pt x="130" y="540"/>
                </a:lnTo>
                <a:lnTo>
                  <a:pt x="136" y="540"/>
                </a:lnTo>
                <a:lnTo>
                  <a:pt x="148" y="544"/>
                </a:lnTo>
                <a:lnTo>
                  <a:pt x="151" y="544"/>
                </a:lnTo>
                <a:lnTo>
                  <a:pt x="163" y="547"/>
                </a:lnTo>
                <a:lnTo>
                  <a:pt x="167" y="547"/>
                </a:lnTo>
                <a:lnTo>
                  <a:pt x="172" y="549"/>
                </a:lnTo>
                <a:lnTo>
                  <a:pt x="178" y="549"/>
                </a:lnTo>
                <a:lnTo>
                  <a:pt x="182" y="551"/>
                </a:lnTo>
                <a:lnTo>
                  <a:pt x="194" y="551"/>
                </a:lnTo>
                <a:lnTo>
                  <a:pt x="199" y="553"/>
                </a:lnTo>
                <a:lnTo>
                  <a:pt x="215" y="553"/>
                </a:lnTo>
                <a:lnTo>
                  <a:pt x="219" y="555"/>
                </a:lnTo>
                <a:lnTo>
                  <a:pt x="270" y="555"/>
                </a:lnTo>
                <a:lnTo>
                  <a:pt x="276" y="553"/>
                </a:lnTo>
                <a:lnTo>
                  <a:pt x="292" y="553"/>
                </a:lnTo>
                <a:lnTo>
                  <a:pt x="297" y="551"/>
                </a:lnTo>
                <a:lnTo>
                  <a:pt x="303" y="551"/>
                </a:lnTo>
                <a:lnTo>
                  <a:pt x="307" y="549"/>
                </a:lnTo>
                <a:lnTo>
                  <a:pt x="313" y="549"/>
                </a:lnTo>
                <a:lnTo>
                  <a:pt x="318" y="547"/>
                </a:lnTo>
                <a:lnTo>
                  <a:pt x="324" y="547"/>
                </a:lnTo>
                <a:lnTo>
                  <a:pt x="330" y="546"/>
                </a:lnTo>
                <a:lnTo>
                  <a:pt x="336" y="546"/>
                </a:lnTo>
                <a:lnTo>
                  <a:pt x="340" y="544"/>
                </a:lnTo>
                <a:lnTo>
                  <a:pt x="345" y="544"/>
                </a:lnTo>
                <a:lnTo>
                  <a:pt x="357" y="540"/>
                </a:lnTo>
                <a:lnTo>
                  <a:pt x="368" y="536"/>
                </a:lnTo>
                <a:lnTo>
                  <a:pt x="372" y="536"/>
                </a:lnTo>
                <a:lnTo>
                  <a:pt x="384" y="532"/>
                </a:lnTo>
                <a:lnTo>
                  <a:pt x="395" y="528"/>
                </a:lnTo>
                <a:lnTo>
                  <a:pt x="407" y="524"/>
                </a:lnTo>
                <a:lnTo>
                  <a:pt x="413" y="522"/>
                </a:lnTo>
                <a:lnTo>
                  <a:pt x="416" y="521"/>
                </a:lnTo>
                <a:lnTo>
                  <a:pt x="422" y="517"/>
                </a:lnTo>
                <a:lnTo>
                  <a:pt x="434" y="513"/>
                </a:lnTo>
                <a:lnTo>
                  <a:pt x="439" y="511"/>
                </a:lnTo>
                <a:lnTo>
                  <a:pt x="445" y="507"/>
                </a:lnTo>
                <a:lnTo>
                  <a:pt x="457" y="503"/>
                </a:lnTo>
                <a:lnTo>
                  <a:pt x="463" y="499"/>
                </a:lnTo>
                <a:lnTo>
                  <a:pt x="468" y="498"/>
                </a:lnTo>
                <a:lnTo>
                  <a:pt x="474" y="494"/>
                </a:lnTo>
                <a:lnTo>
                  <a:pt x="480" y="492"/>
                </a:lnTo>
                <a:lnTo>
                  <a:pt x="484" y="488"/>
                </a:lnTo>
                <a:lnTo>
                  <a:pt x="489" y="486"/>
                </a:lnTo>
                <a:lnTo>
                  <a:pt x="495" y="482"/>
                </a:lnTo>
                <a:lnTo>
                  <a:pt x="499" y="480"/>
                </a:lnTo>
                <a:lnTo>
                  <a:pt x="505" y="37"/>
                </a:lnTo>
                <a:lnTo>
                  <a:pt x="505" y="0"/>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Freeform 23"/>
          <p:cNvSpPr/>
          <p:nvPr/>
        </p:nvSpPr>
        <p:spPr>
          <a:xfrm>
            <a:off x="1646280" y="2428920"/>
            <a:ext cx="807840" cy="887400"/>
          </a:xfrm>
          <a:custGeom>
            <a:avLst/>
            <a:gdLst>
              <a:gd name="textAreaLeft" fmla="*/ 0 w 807840"/>
              <a:gd name="textAreaRight" fmla="*/ 808200 w 807840"/>
              <a:gd name="textAreaTop" fmla="*/ 0 h 887400"/>
              <a:gd name="textAreaBottom" fmla="*/ 887760 h 887400"/>
            </a:gdLst>
            <a:ahLst/>
            <a:rect l="textAreaLeft" t="textAreaTop" r="textAreaRight" b="textAreaBottom"/>
            <a:pathLst>
              <a:path w="509" h="559">
                <a:moveTo>
                  <a:pt x="2" y="0"/>
                </a:moveTo>
                <a:lnTo>
                  <a:pt x="0" y="0"/>
                </a:lnTo>
                <a:lnTo>
                  <a:pt x="0" y="2"/>
                </a:lnTo>
                <a:lnTo>
                  <a:pt x="5" y="482"/>
                </a:lnTo>
                <a:lnTo>
                  <a:pt x="5" y="484"/>
                </a:lnTo>
                <a:lnTo>
                  <a:pt x="11" y="488"/>
                </a:lnTo>
                <a:lnTo>
                  <a:pt x="13" y="488"/>
                </a:lnTo>
                <a:lnTo>
                  <a:pt x="17" y="490"/>
                </a:lnTo>
                <a:lnTo>
                  <a:pt x="15" y="490"/>
                </a:lnTo>
                <a:lnTo>
                  <a:pt x="21" y="494"/>
                </a:lnTo>
                <a:lnTo>
                  <a:pt x="23" y="494"/>
                </a:lnTo>
                <a:lnTo>
                  <a:pt x="27" y="496"/>
                </a:lnTo>
                <a:lnTo>
                  <a:pt x="25" y="496"/>
                </a:lnTo>
                <a:lnTo>
                  <a:pt x="30" y="500"/>
                </a:lnTo>
                <a:lnTo>
                  <a:pt x="32" y="500"/>
                </a:lnTo>
                <a:lnTo>
                  <a:pt x="36" y="501"/>
                </a:lnTo>
                <a:lnTo>
                  <a:pt x="34" y="501"/>
                </a:lnTo>
                <a:lnTo>
                  <a:pt x="40" y="505"/>
                </a:lnTo>
                <a:lnTo>
                  <a:pt x="42" y="505"/>
                </a:lnTo>
                <a:lnTo>
                  <a:pt x="48" y="507"/>
                </a:lnTo>
                <a:lnTo>
                  <a:pt x="46" y="507"/>
                </a:lnTo>
                <a:lnTo>
                  <a:pt x="50" y="511"/>
                </a:lnTo>
                <a:lnTo>
                  <a:pt x="52" y="511"/>
                </a:lnTo>
                <a:lnTo>
                  <a:pt x="57" y="513"/>
                </a:lnTo>
                <a:lnTo>
                  <a:pt x="61" y="515"/>
                </a:lnTo>
                <a:lnTo>
                  <a:pt x="59" y="515"/>
                </a:lnTo>
                <a:lnTo>
                  <a:pt x="65" y="519"/>
                </a:lnTo>
                <a:lnTo>
                  <a:pt x="67" y="519"/>
                </a:lnTo>
                <a:lnTo>
                  <a:pt x="73" y="521"/>
                </a:lnTo>
                <a:lnTo>
                  <a:pt x="77" y="523"/>
                </a:lnTo>
                <a:lnTo>
                  <a:pt x="88" y="526"/>
                </a:lnTo>
                <a:lnTo>
                  <a:pt x="92" y="528"/>
                </a:lnTo>
                <a:lnTo>
                  <a:pt x="103" y="532"/>
                </a:lnTo>
                <a:lnTo>
                  <a:pt x="107" y="534"/>
                </a:lnTo>
                <a:lnTo>
                  <a:pt x="113" y="536"/>
                </a:lnTo>
                <a:lnTo>
                  <a:pt x="117" y="538"/>
                </a:lnTo>
                <a:lnTo>
                  <a:pt x="128" y="542"/>
                </a:lnTo>
                <a:lnTo>
                  <a:pt x="132" y="544"/>
                </a:lnTo>
                <a:lnTo>
                  <a:pt x="138" y="544"/>
                </a:lnTo>
                <a:lnTo>
                  <a:pt x="150" y="548"/>
                </a:lnTo>
                <a:lnTo>
                  <a:pt x="153" y="548"/>
                </a:lnTo>
                <a:lnTo>
                  <a:pt x="165" y="551"/>
                </a:lnTo>
                <a:lnTo>
                  <a:pt x="169" y="551"/>
                </a:lnTo>
                <a:lnTo>
                  <a:pt x="174" y="553"/>
                </a:lnTo>
                <a:lnTo>
                  <a:pt x="180" y="553"/>
                </a:lnTo>
                <a:lnTo>
                  <a:pt x="184" y="555"/>
                </a:lnTo>
                <a:lnTo>
                  <a:pt x="196" y="555"/>
                </a:lnTo>
                <a:lnTo>
                  <a:pt x="201" y="557"/>
                </a:lnTo>
                <a:lnTo>
                  <a:pt x="217" y="557"/>
                </a:lnTo>
                <a:lnTo>
                  <a:pt x="221" y="559"/>
                </a:lnTo>
                <a:lnTo>
                  <a:pt x="272" y="559"/>
                </a:lnTo>
                <a:lnTo>
                  <a:pt x="278" y="557"/>
                </a:lnTo>
                <a:lnTo>
                  <a:pt x="294" y="557"/>
                </a:lnTo>
                <a:lnTo>
                  <a:pt x="299" y="555"/>
                </a:lnTo>
                <a:lnTo>
                  <a:pt x="305" y="555"/>
                </a:lnTo>
                <a:lnTo>
                  <a:pt x="309" y="553"/>
                </a:lnTo>
                <a:lnTo>
                  <a:pt x="315" y="553"/>
                </a:lnTo>
                <a:lnTo>
                  <a:pt x="320" y="551"/>
                </a:lnTo>
                <a:lnTo>
                  <a:pt x="326" y="551"/>
                </a:lnTo>
                <a:lnTo>
                  <a:pt x="332" y="549"/>
                </a:lnTo>
                <a:lnTo>
                  <a:pt x="338" y="549"/>
                </a:lnTo>
                <a:lnTo>
                  <a:pt x="342" y="548"/>
                </a:lnTo>
                <a:lnTo>
                  <a:pt x="347" y="548"/>
                </a:lnTo>
                <a:lnTo>
                  <a:pt x="370" y="540"/>
                </a:lnTo>
                <a:lnTo>
                  <a:pt x="374" y="540"/>
                </a:lnTo>
                <a:lnTo>
                  <a:pt x="415" y="526"/>
                </a:lnTo>
                <a:lnTo>
                  <a:pt x="418" y="524"/>
                </a:lnTo>
                <a:lnTo>
                  <a:pt x="420" y="524"/>
                </a:lnTo>
                <a:lnTo>
                  <a:pt x="426" y="521"/>
                </a:lnTo>
                <a:lnTo>
                  <a:pt x="424" y="521"/>
                </a:lnTo>
                <a:lnTo>
                  <a:pt x="441" y="515"/>
                </a:lnTo>
                <a:lnTo>
                  <a:pt x="443" y="515"/>
                </a:lnTo>
                <a:lnTo>
                  <a:pt x="449" y="511"/>
                </a:lnTo>
                <a:lnTo>
                  <a:pt x="447" y="511"/>
                </a:lnTo>
                <a:lnTo>
                  <a:pt x="459" y="507"/>
                </a:lnTo>
                <a:lnTo>
                  <a:pt x="461" y="507"/>
                </a:lnTo>
                <a:lnTo>
                  <a:pt x="466" y="503"/>
                </a:lnTo>
                <a:lnTo>
                  <a:pt x="465" y="503"/>
                </a:lnTo>
                <a:lnTo>
                  <a:pt x="470" y="501"/>
                </a:lnTo>
                <a:lnTo>
                  <a:pt x="472" y="501"/>
                </a:lnTo>
                <a:lnTo>
                  <a:pt x="478" y="498"/>
                </a:lnTo>
                <a:lnTo>
                  <a:pt x="476" y="498"/>
                </a:lnTo>
                <a:lnTo>
                  <a:pt x="482" y="496"/>
                </a:lnTo>
                <a:lnTo>
                  <a:pt x="484" y="496"/>
                </a:lnTo>
                <a:lnTo>
                  <a:pt x="488" y="492"/>
                </a:lnTo>
                <a:lnTo>
                  <a:pt x="486" y="492"/>
                </a:lnTo>
                <a:lnTo>
                  <a:pt x="491" y="490"/>
                </a:lnTo>
                <a:lnTo>
                  <a:pt x="493" y="490"/>
                </a:lnTo>
                <a:lnTo>
                  <a:pt x="499" y="486"/>
                </a:lnTo>
                <a:lnTo>
                  <a:pt x="497" y="486"/>
                </a:lnTo>
                <a:lnTo>
                  <a:pt x="501" y="484"/>
                </a:lnTo>
                <a:lnTo>
                  <a:pt x="503" y="484"/>
                </a:lnTo>
                <a:lnTo>
                  <a:pt x="503" y="482"/>
                </a:lnTo>
                <a:lnTo>
                  <a:pt x="509" y="39"/>
                </a:lnTo>
                <a:lnTo>
                  <a:pt x="509" y="0"/>
                </a:lnTo>
                <a:lnTo>
                  <a:pt x="507" y="0"/>
                </a:lnTo>
                <a:lnTo>
                  <a:pt x="2" y="0"/>
                </a:lnTo>
                <a:lnTo>
                  <a:pt x="2" y="4"/>
                </a:lnTo>
                <a:lnTo>
                  <a:pt x="507" y="4"/>
                </a:lnTo>
                <a:lnTo>
                  <a:pt x="505" y="2"/>
                </a:lnTo>
                <a:lnTo>
                  <a:pt x="505" y="39"/>
                </a:lnTo>
                <a:lnTo>
                  <a:pt x="499" y="482"/>
                </a:lnTo>
                <a:lnTo>
                  <a:pt x="501" y="480"/>
                </a:lnTo>
                <a:lnTo>
                  <a:pt x="497" y="482"/>
                </a:lnTo>
                <a:lnTo>
                  <a:pt x="495" y="482"/>
                </a:lnTo>
                <a:lnTo>
                  <a:pt x="489" y="486"/>
                </a:lnTo>
                <a:lnTo>
                  <a:pt x="491" y="486"/>
                </a:lnTo>
                <a:lnTo>
                  <a:pt x="486" y="488"/>
                </a:lnTo>
                <a:lnTo>
                  <a:pt x="484" y="488"/>
                </a:lnTo>
                <a:lnTo>
                  <a:pt x="480" y="492"/>
                </a:lnTo>
                <a:lnTo>
                  <a:pt x="482" y="492"/>
                </a:lnTo>
                <a:lnTo>
                  <a:pt x="476" y="494"/>
                </a:lnTo>
                <a:lnTo>
                  <a:pt x="474" y="494"/>
                </a:lnTo>
                <a:lnTo>
                  <a:pt x="468" y="498"/>
                </a:lnTo>
                <a:lnTo>
                  <a:pt x="470" y="498"/>
                </a:lnTo>
                <a:lnTo>
                  <a:pt x="465" y="500"/>
                </a:lnTo>
                <a:lnTo>
                  <a:pt x="463" y="500"/>
                </a:lnTo>
                <a:lnTo>
                  <a:pt x="457" y="503"/>
                </a:lnTo>
                <a:lnTo>
                  <a:pt x="459" y="503"/>
                </a:lnTo>
                <a:lnTo>
                  <a:pt x="447" y="507"/>
                </a:lnTo>
                <a:lnTo>
                  <a:pt x="445" y="507"/>
                </a:lnTo>
                <a:lnTo>
                  <a:pt x="440" y="511"/>
                </a:lnTo>
                <a:lnTo>
                  <a:pt x="441" y="511"/>
                </a:lnTo>
                <a:lnTo>
                  <a:pt x="424" y="517"/>
                </a:lnTo>
                <a:lnTo>
                  <a:pt x="422" y="517"/>
                </a:lnTo>
                <a:lnTo>
                  <a:pt x="416" y="521"/>
                </a:lnTo>
                <a:lnTo>
                  <a:pt x="418" y="521"/>
                </a:lnTo>
                <a:lnTo>
                  <a:pt x="415" y="523"/>
                </a:lnTo>
                <a:lnTo>
                  <a:pt x="374" y="536"/>
                </a:lnTo>
                <a:lnTo>
                  <a:pt x="370" y="536"/>
                </a:lnTo>
                <a:lnTo>
                  <a:pt x="347" y="544"/>
                </a:lnTo>
                <a:lnTo>
                  <a:pt x="342" y="544"/>
                </a:lnTo>
                <a:lnTo>
                  <a:pt x="338" y="546"/>
                </a:lnTo>
                <a:lnTo>
                  <a:pt x="332" y="546"/>
                </a:lnTo>
                <a:lnTo>
                  <a:pt x="326" y="548"/>
                </a:lnTo>
                <a:lnTo>
                  <a:pt x="320" y="548"/>
                </a:lnTo>
                <a:lnTo>
                  <a:pt x="315" y="549"/>
                </a:lnTo>
                <a:lnTo>
                  <a:pt x="309" y="549"/>
                </a:lnTo>
                <a:lnTo>
                  <a:pt x="305" y="551"/>
                </a:lnTo>
                <a:lnTo>
                  <a:pt x="299" y="551"/>
                </a:lnTo>
                <a:lnTo>
                  <a:pt x="294" y="553"/>
                </a:lnTo>
                <a:lnTo>
                  <a:pt x="278" y="553"/>
                </a:lnTo>
                <a:lnTo>
                  <a:pt x="272" y="555"/>
                </a:lnTo>
                <a:lnTo>
                  <a:pt x="221" y="555"/>
                </a:lnTo>
                <a:lnTo>
                  <a:pt x="217" y="553"/>
                </a:lnTo>
                <a:lnTo>
                  <a:pt x="201" y="553"/>
                </a:lnTo>
                <a:lnTo>
                  <a:pt x="196" y="551"/>
                </a:lnTo>
                <a:lnTo>
                  <a:pt x="184" y="551"/>
                </a:lnTo>
                <a:lnTo>
                  <a:pt x="180" y="549"/>
                </a:lnTo>
                <a:lnTo>
                  <a:pt x="174" y="549"/>
                </a:lnTo>
                <a:lnTo>
                  <a:pt x="169" y="548"/>
                </a:lnTo>
                <a:lnTo>
                  <a:pt x="165" y="548"/>
                </a:lnTo>
                <a:lnTo>
                  <a:pt x="153" y="544"/>
                </a:lnTo>
                <a:lnTo>
                  <a:pt x="150" y="544"/>
                </a:lnTo>
                <a:lnTo>
                  <a:pt x="138" y="540"/>
                </a:lnTo>
                <a:lnTo>
                  <a:pt x="132" y="540"/>
                </a:lnTo>
                <a:lnTo>
                  <a:pt x="128" y="538"/>
                </a:lnTo>
                <a:lnTo>
                  <a:pt x="117" y="534"/>
                </a:lnTo>
                <a:lnTo>
                  <a:pt x="113" y="532"/>
                </a:lnTo>
                <a:lnTo>
                  <a:pt x="107" y="530"/>
                </a:lnTo>
                <a:lnTo>
                  <a:pt x="103" y="528"/>
                </a:lnTo>
                <a:lnTo>
                  <a:pt x="92" y="524"/>
                </a:lnTo>
                <a:lnTo>
                  <a:pt x="88" y="523"/>
                </a:lnTo>
                <a:lnTo>
                  <a:pt x="77" y="519"/>
                </a:lnTo>
                <a:lnTo>
                  <a:pt x="73" y="517"/>
                </a:lnTo>
                <a:lnTo>
                  <a:pt x="67" y="515"/>
                </a:lnTo>
                <a:lnTo>
                  <a:pt x="69" y="515"/>
                </a:lnTo>
                <a:lnTo>
                  <a:pt x="63" y="511"/>
                </a:lnTo>
                <a:lnTo>
                  <a:pt x="61" y="511"/>
                </a:lnTo>
                <a:lnTo>
                  <a:pt x="57" y="509"/>
                </a:lnTo>
                <a:lnTo>
                  <a:pt x="52" y="507"/>
                </a:lnTo>
                <a:lnTo>
                  <a:pt x="53" y="507"/>
                </a:lnTo>
                <a:lnTo>
                  <a:pt x="50" y="503"/>
                </a:lnTo>
                <a:lnTo>
                  <a:pt x="48" y="503"/>
                </a:lnTo>
                <a:lnTo>
                  <a:pt x="42" y="501"/>
                </a:lnTo>
                <a:lnTo>
                  <a:pt x="44" y="501"/>
                </a:lnTo>
                <a:lnTo>
                  <a:pt x="38" y="498"/>
                </a:lnTo>
                <a:lnTo>
                  <a:pt x="36" y="498"/>
                </a:lnTo>
                <a:lnTo>
                  <a:pt x="32" y="496"/>
                </a:lnTo>
                <a:lnTo>
                  <a:pt x="34" y="496"/>
                </a:lnTo>
                <a:lnTo>
                  <a:pt x="29" y="492"/>
                </a:lnTo>
                <a:lnTo>
                  <a:pt x="27" y="492"/>
                </a:lnTo>
                <a:lnTo>
                  <a:pt x="23" y="490"/>
                </a:lnTo>
                <a:lnTo>
                  <a:pt x="25" y="490"/>
                </a:lnTo>
                <a:lnTo>
                  <a:pt x="19" y="486"/>
                </a:lnTo>
                <a:lnTo>
                  <a:pt x="17" y="486"/>
                </a:lnTo>
                <a:lnTo>
                  <a:pt x="13" y="484"/>
                </a:lnTo>
                <a:lnTo>
                  <a:pt x="15" y="484"/>
                </a:lnTo>
                <a:lnTo>
                  <a:pt x="9" y="480"/>
                </a:lnTo>
                <a:lnTo>
                  <a:pt x="9" y="482"/>
                </a:lnTo>
                <a:lnTo>
                  <a:pt x="4" y="2"/>
                </a:lnTo>
                <a:lnTo>
                  <a:pt x="2" y="4"/>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Rectangle 24"/>
          <p:cNvSpPr/>
          <p:nvPr/>
        </p:nvSpPr>
        <p:spPr>
          <a:xfrm>
            <a:off x="7799400" y="2371680"/>
            <a:ext cx="536400" cy="72540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4" name="Rectangle 25"/>
          <p:cNvSpPr/>
          <p:nvPr/>
        </p:nvSpPr>
        <p:spPr>
          <a:xfrm>
            <a:off x="7799400" y="3292560"/>
            <a:ext cx="536400" cy="1120680"/>
          </a:xfrm>
          <a:prstGeom prst="rect">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5" name="Rectangle 26"/>
          <p:cNvSpPr/>
          <p:nvPr/>
        </p:nvSpPr>
        <p:spPr>
          <a:xfrm>
            <a:off x="7799400" y="3094200"/>
            <a:ext cx="536400" cy="201600"/>
          </a:xfrm>
          <a:prstGeom prst="rect">
            <a:avLst/>
          </a:prstGeom>
          <a:solidFill>
            <a:srgbClr val="c2c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6" name="Rectangle 27"/>
          <p:cNvSpPr/>
          <p:nvPr/>
        </p:nvSpPr>
        <p:spPr>
          <a:xfrm>
            <a:off x="7790040" y="4411800"/>
            <a:ext cx="545760" cy="993600"/>
          </a:xfrm>
          <a:prstGeom prst="rect">
            <a:avLst/>
          </a:prstGeom>
          <a:solidFill>
            <a:srgbClr val="c2c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7" name="Rectangle 28"/>
          <p:cNvSpPr/>
          <p:nvPr/>
        </p:nvSpPr>
        <p:spPr>
          <a:xfrm>
            <a:off x="7799400" y="5402160"/>
            <a:ext cx="536400" cy="1231920"/>
          </a:xfrm>
          <a:prstGeom prst="rect">
            <a:avLst/>
          </a:prstGeom>
          <a:solidFill>
            <a:srgbClr val="61a12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8" name="Rectangle 29"/>
          <p:cNvSpPr/>
          <p:nvPr/>
        </p:nvSpPr>
        <p:spPr>
          <a:xfrm>
            <a:off x="5262480" y="2459160"/>
            <a:ext cx="646200" cy="777600"/>
          </a:xfrm>
          <a:prstGeom prst="rect">
            <a:avLst/>
          </a:prstGeom>
          <a:solidFill>
            <a:srgbClr val="f9d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9" name="Freeform 30"/>
          <p:cNvSpPr/>
          <p:nvPr/>
        </p:nvSpPr>
        <p:spPr>
          <a:xfrm>
            <a:off x="5256360" y="2454120"/>
            <a:ext cx="655560" cy="785880"/>
          </a:xfrm>
          <a:custGeom>
            <a:avLst/>
            <a:gdLst>
              <a:gd name="textAreaLeft" fmla="*/ 0 w 655560"/>
              <a:gd name="textAreaRight" fmla="*/ 655920 w 655560"/>
              <a:gd name="textAreaTop" fmla="*/ 0 h 785880"/>
              <a:gd name="textAreaBottom" fmla="*/ 786240 h 785880"/>
            </a:gdLst>
            <a:ahLst/>
            <a:rect l="textAreaLeft" t="textAreaTop" r="textAreaRight" b="textAreaBottom"/>
            <a:pathLst>
              <a:path w="413" h="495">
                <a:moveTo>
                  <a:pt x="4" y="0"/>
                </a:moveTo>
                <a:lnTo>
                  <a:pt x="2" y="0"/>
                </a:lnTo>
                <a:lnTo>
                  <a:pt x="2" y="1"/>
                </a:lnTo>
                <a:lnTo>
                  <a:pt x="0" y="1"/>
                </a:lnTo>
                <a:lnTo>
                  <a:pt x="0" y="493"/>
                </a:lnTo>
                <a:lnTo>
                  <a:pt x="2" y="493"/>
                </a:lnTo>
                <a:lnTo>
                  <a:pt x="2" y="495"/>
                </a:lnTo>
                <a:lnTo>
                  <a:pt x="411" y="495"/>
                </a:lnTo>
                <a:lnTo>
                  <a:pt x="411" y="493"/>
                </a:lnTo>
                <a:lnTo>
                  <a:pt x="413" y="493"/>
                </a:lnTo>
                <a:lnTo>
                  <a:pt x="413" y="1"/>
                </a:lnTo>
                <a:lnTo>
                  <a:pt x="411" y="1"/>
                </a:lnTo>
                <a:lnTo>
                  <a:pt x="411" y="0"/>
                </a:lnTo>
                <a:lnTo>
                  <a:pt x="409" y="0"/>
                </a:lnTo>
                <a:lnTo>
                  <a:pt x="4" y="0"/>
                </a:lnTo>
                <a:lnTo>
                  <a:pt x="4" y="7"/>
                </a:lnTo>
                <a:lnTo>
                  <a:pt x="409" y="7"/>
                </a:lnTo>
                <a:lnTo>
                  <a:pt x="405" y="3"/>
                </a:lnTo>
                <a:lnTo>
                  <a:pt x="405" y="491"/>
                </a:lnTo>
                <a:lnTo>
                  <a:pt x="409" y="487"/>
                </a:lnTo>
                <a:lnTo>
                  <a:pt x="4" y="487"/>
                </a:lnTo>
                <a:lnTo>
                  <a:pt x="7" y="491"/>
                </a:lnTo>
                <a:lnTo>
                  <a:pt x="7" y="3"/>
                </a:lnTo>
                <a:lnTo>
                  <a:pt x="4" y="7"/>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Rectangle 31"/>
          <p:cNvSpPr/>
          <p:nvPr/>
        </p:nvSpPr>
        <p:spPr>
          <a:xfrm>
            <a:off x="5256360" y="3475080"/>
            <a:ext cx="649080" cy="777960"/>
          </a:xfrm>
          <a:prstGeom prst="rect">
            <a:avLst/>
          </a:prstGeom>
          <a:solidFill>
            <a:srgbClr val="f9d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1" name="Freeform 32"/>
          <p:cNvSpPr/>
          <p:nvPr/>
        </p:nvSpPr>
        <p:spPr>
          <a:xfrm>
            <a:off x="5249880" y="3468600"/>
            <a:ext cx="658800" cy="787320"/>
          </a:xfrm>
          <a:custGeom>
            <a:avLst/>
            <a:gdLst>
              <a:gd name="textAreaLeft" fmla="*/ 0 w 658800"/>
              <a:gd name="textAreaRight" fmla="*/ 658800 w 658800"/>
              <a:gd name="textAreaTop" fmla="*/ 0 h 787320"/>
              <a:gd name="textAreaBottom" fmla="*/ 787680 h 787320"/>
            </a:gdLst>
            <a:ahLst/>
            <a:rect l="textAreaLeft" t="textAreaTop" r="textAreaRight" b="textAreaBottom"/>
            <a:pathLst>
              <a:path w="415" h="496">
                <a:moveTo>
                  <a:pt x="4" y="0"/>
                </a:moveTo>
                <a:lnTo>
                  <a:pt x="2" y="0"/>
                </a:lnTo>
                <a:lnTo>
                  <a:pt x="2" y="2"/>
                </a:lnTo>
                <a:lnTo>
                  <a:pt x="0" y="2"/>
                </a:lnTo>
                <a:lnTo>
                  <a:pt x="0" y="494"/>
                </a:lnTo>
                <a:lnTo>
                  <a:pt x="2" y="494"/>
                </a:lnTo>
                <a:lnTo>
                  <a:pt x="2" y="496"/>
                </a:lnTo>
                <a:lnTo>
                  <a:pt x="413" y="496"/>
                </a:lnTo>
                <a:lnTo>
                  <a:pt x="413" y="494"/>
                </a:lnTo>
                <a:lnTo>
                  <a:pt x="415" y="494"/>
                </a:lnTo>
                <a:lnTo>
                  <a:pt x="415" y="2"/>
                </a:lnTo>
                <a:lnTo>
                  <a:pt x="413" y="2"/>
                </a:lnTo>
                <a:lnTo>
                  <a:pt x="413" y="0"/>
                </a:lnTo>
                <a:lnTo>
                  <a:pt x="411" y="0"/>
                </a:lnTo>
                <a:lnTo>
                  <a:pt x="4" y="0"/>
                </a:lnTo>
                <a:lnTo>
                  <a:pt x="4" y="8"/>
                </a:lnTo>
                <a:lnTo>
                  <a:pt x="411" y="8"/>
                </a:lnTo>
                <a:lnTo>
                  <a:pt x="407" y="4"/>
                </a:lnTo>
                <a:lnTo>
                  <a:pt x="407" y="492"/>
                </a:lnTo>
                <a:lnTo>
                  <a:pt x="411" y="488"/>
                </a:lnTo>
                <a:lnTo>
                  <a:pt x="4" y="488"/>
                </a:lnTo>
                <a:lnTo>
                  <a:pt x="8" y="492"/>
                </a:lnTo>
                <a:lnTo>
                  <a:pt x="8" y="4"/>
                </a:lnTo>
                <a:lnTo>
                  <a:pt x="4" y="8"/>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Rectangle 33"/>
          <p:cNvSpPr/>
          <p:nvPr/>
        </p:nvSpPr>
        <p:spPr>
          <a:xfrm>
            <a:off x="5253120" y="4600440"/>
            <a:ext cx="646200" cy="773280"/>
          </a:xfrm>
          <a:prstGeom prst="rect">
            <a:avLst/>
          </a:prstGeom>
          <a:solidFill>
            <a:srgbClr val="f9d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3" name="Freeform 34"/>
          <p:cNvSpPr/>
          <p:nvPr/>
        </p:nvSpPr>
        <p:spPr>
          <a:xfrm>
            <a:off x="5246640" y="4594320"/>
            <a:ext cx="655560" cy="782640"/>
          </a:xfrm>
          <a:custGeom>
            <a:avLst/>
            <a:gdLst>
              <a:gd name="textAreaLeft" fmla="*/ 0 w 655560"/>
              <a:gd name="textAreaRight" fmla="*/ 655920 w 655560"/>
              <a:gd name="textAreaTop" fmla="*/ 0 h 782640"/>
              <a:gd name="textAreaBottom" fmla="*/ 783000 h 782640"/>
            </a:gdLst>
            <a:ahLst/>
            <a:rect l="textAreaLeft" t="textAreaTop" r="textAreaRight" b="textAreaBottom"/>
            <a:pathLst>
              <a:path w="413" h="493">
                <a:moveTo>
                  <a:pt x="4" y="0"/>
                </a:moveTo>
                <a:lnTo>
                  <a:pt x="2" y="0"/>
                </a:lnTo>
                <a:lnTo>
                  <a:pt x="2" y="2"/>
                </a:lnTo>
                <a:lnTo>
                  <a:pt x="0" y="2"/>
                </a:lnTo>
                <a:lnTo>
                  <a:pt x="0" y="491"/>
                </a:lnTo>
                <a:lnTo>
                  <a:pt x="2" y="491"/>
                </a:lnTo>
                <a:lnTo>
                  <a:pt x="2" y="493"/>
                </a:lnTo>
                <a:lnTo>
                  <a:pt x="411" y="493"/>
                </a:lnTo>
                <a:lnTo>
                  <a:pt x="411" y="491"/>
                </a:lnTo>
                <a:lnTo>
                  <a:pt x="413" y="491"/>
                </a:lnTo>
                <a:lnTo>
                  <a:pt x="413" y="2"/>
                </a:lnTo>
                <a:lnTo>
                  <a:pt x="411" y="2"/>
                </a:lnTo>
                <a:lnTo>
                  <a:pt x="411" y="0"/>
                </a:lnTo>
                <a:lnTo>
                  <a:pt x="409" y="0"/>
                </a:lnTo>
                <a:lnTo>
                  <a:pt x="4" y="0"/>
                </a:lnTo>
                <a:lnTo>
                  <a:pt x="4" y="7"/>
                </a:lnTo>
                <a:lnTo>
                  <a:pt x="409" y="7"/>
                </a:lnTo>
                <a:lnTo>
                  <a:pt x="405" y="4"/>
                </a:lnTo>
                <a:lnTo>
                  <a:pt x="405" y="489"/>
                </a:lnTo>
                <a:lnTo>
                  <a:pt x="409" y="486"/>
                </a:lnTo>
                <a:lnTo>
                  <a:pt x="4" y="486"/>
                </a:lnTo>
                <a:lnTo>
                  <a:pt x="8" y="489"/>
                </a:lnTo>
                <a:lnTo>
                  <a:pt x="8" y="4"/>
                </a:lnTo>
                <a:lnTo>
                  <a:pt x="4" y="7"/>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Rectangle 35"/>
          <p:cNvSpPr/>
          <p:nvPr/>
        </p:nvSpPr>
        <p:spPr>
          <a:xfrm>
            <a:off x="5253120" y="5670720"/>
            <a:ext cx="646200" cy="772920"/>
          </a:xfrm>
          <a:prstGeom prst="rect">
            <a:avLst/>
          </a:prstGeom>
          <a:solidFill>
            <a:srgbClr val="f9d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5" name="Freeform 36"/>
          <p:cNvSpPr/>
          <p:nvPr/>
        </p:nvSpPr>
        <p:spPr>
          <a:xfrm>
            <a:off x="5246640" y="5664240"/>
            <a:ext cx="655560" cy="782640"/>
          </a:xfrm>
          <a:custGeom>
            <a:avLst/>
            <a:gdLst>
              <a:gd name="textAreaLeft" fmla="*/ 0 w 655560"/>
              <a:gd name="textAreaRight" fmla="*/ 655920 w 655560"/>
              <a:gd name="textAreaTop" fmla="*/ 0 h 782640"/>
              <a:gd name="textAreaBottom" fmla="*/ 783000 h 782640"/>
            </a:gdLst>
            <a:ahLst/>
            <a:rect l="textAreaLeft" t="textAreaTop" r="textAreaRight" b="textAreaBottom"/>
            <a:pathLst>
              <a:path w="413" h="493">
                <a:moveTo>
                  <a:pt x="4" y="0"/>
                </a:moveTo>
                <a:lnTo>
                  <a:pt x="2" y="0"/>
                </a:lnTo>
                <a:lnTo>
                  <a:pt x="2" y="2"/>
                </a:lnTo>
                <a:lnTo>
                  <a:pt x="0" y="2"/>
                </a:lnTo>
                <a:lnTo>
                  <a:pt x="0" y="491"/>
                </a:lnTo>
                <a:lnTo>
                  <a:pt x="2" y="491"/>
                </a:lnTo>
                <a:lnTo>
                  <a:pt x="2" y="493"/>
                </a:lnTo>
                <a:lnTo>
                  <a:pt x="411" y="493"/>
                </a:lnTo>
                <a:lnTo>
                  <a:pt x="411" y="491"/>
                </a:lnTo>
                <a:lnTo>
                  <a:pt x="413" y="491"/>
                </a:lnTo>
                <a:lnTo>
                  <a:pt x="413" y="2"/>
                </a:lnTo>
                <a:lnTo>
                  <a:pt x="411" y="2"/>
                </a:lnTo>
                <a:lnTo>
                  <a:pt x="411" y="0"/>
                </a:lnTo>
                <a:lnTo>
                  <a:pt x="409" y="0"/>
                </a:lnTo>
                <a:lnTo>
                  <a:pt x="4" y="0"/>
                </a:lnTo>
                <a:lnTo>
                  <a:pt x="4" y="7"/>
                </a:lnTo>
                <a:lnTo>
                  <a:pt x="409" y="7"/>
                </a:lnTo>
                <a:lnTo>
                  <a:pt x="405" y="4"/>
                </a:lnTo>
                <a:lnTo>
                  <a:pt x="405" y="490"/>
                </a:lnTo>
                <a:lnTo>
                  <a:pt x="409" y="486"/>
                </a:lnTo>
                <a:lnTo>
                  <a:pt x="4" y="486"/>
                </a:lnTo>
                <a:lnTo>
                  <a:pt x="8" y="490"/>
                </a:lnTo>
                <a:lnTo>
                  <a:pt x="8" y="4"/>
                </a:lnTo>
                <a:lnTo>
                  <a:pt x="4" y="7"/>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Oval 37"/>
          <p:cNvSpPr/>
          <p:nvPr/>
        </p:nvSpPr>
        <p:spPr>
          <a:xfrm>
            <a:off x="3316320" y="3459240"/>
            <a:ext cx="914400" cy="914400"/>
          </a:xfrm>
          <a:prstGeom prst="ellipse">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7" name="Freeform 38"/>
          <p:cNvSpPr/>
          <p:nvPr/>
        </p:nvSpPr>
        <p:spPr>
          <a:xfrm>
            <a:off x="3309840" y="3452760"/>
            <a:ext cx="924120" cy="924120"/>
          </a:xfrm>
          <a:custGeom>
            <a:avLst/>
            <a:gdLst>
              <a:gd name="textAreaLeft" fmla="*/ 0 w 924120"/>
              <a:gd name="textAreaRight" fmla="*/ 924480 w 924120"/>
              <a:gd name="textAreaTop" fmla="*/ 0 h 924120"/>
              <a:gd name="textAreaBottom" fmla="*/ 924480 h 924120"/>
            </a:gdLst>
            <a:ahLst/>
            <a:rect l="textAreaLeft" t="textAreaTop" r="textAreaRight" b="textAreaBottom"/>
            <a:pathLst>
              <a:path w="582" h="582">
                <a:moveTo>
                  <a:pt x="0" y="290"/>
                </a:moveTo>
                <a:lnTo>
                  <a:pt x="0" y="319"/>
                </a:lnTo>
                <a:lnTo>
                  <a:pt x="2" y="333"/>
                </a:lnTo>
                <a:lnTo>
                  <a:pt x="6" y="348"/>
                </a:lnTo>
                <a:lnTo>
                  <a:pt x="8" y="362"/>
                </a:lnTo>
                <a:lnTo>
                  <a:pt x="12" y="377"/>
                </a:lnTo>
                <a:lnTo>
                  <a:pt x="18" y="390"/>
                </a:lnTo>
                <a:lnTo>
                  <a:pt x="21" y="404"/>
                </a:lnTo>
                <a:lnTo>
                  <a:pt x="27" y="417"/>
                </a:lnTo>
                <a:lnTo>
                  <a:pt x="35" y="429"/>
                </a:lnTo>
                <a:lnTo>
                  <a:pt x="41" y="440"/>
                </a:lnTo>
                <a:lnTo>
                  <a:pt x="56" y="463"/>
                </a:lnTo>
                <a:lnTo>
                  <a:pt x="66" y="475"/>
                </a:lnTo>
                <a:lnTo>
                  <a:pt x="73" y="484"/>
                </a:lnTo>
                <a:lnTo>
                  <a:pt x="85" y="496"/>
                </a:lnTo>
                <a:lnTo>
                  <a:pt x="94" y="507"/>
                </a:lnTo>
                <a:lnTo>
                  <a:pt x="106" y="515"/>
                </a:lnTo>
                <a:lnTo>
                  <a:pt x="116" y="525"/>
                </a:lnTo>
                <a:lnTo>
                  <a:pt x="139" y="540"/>
                </a:lnTo>
                <a:lnTo>
                  <a:pt x="152" y="546"/>
                </a:lnTo>
                <a:lnTo>
                  <a:pt x="164" y="554"/>
                </a:lnTo>
                <a:lnTo>
                  <a:pt x="177" y="559"/>
                </a:lnTo>
                <a:lnTo>
                  <a:pt x="189" y="563"/>
                </a:lnTo>
                <a:lnTo>
                  <a:pt x="202" y="569"/>
                </a:lnTo>
                <a:lnTo>
                  <a:pt x="217" y="573"/>
                </a:lnTo>
                <a:lnTo>
                  <a:pt x="233" y="575"/>
                </a:lnTo>
                <a:lnTo>
                  <a:pt x="246" y="579"/>
                </a:lnTo>
                <a:lnTo>
                  <a:pt x="260" y="580"/>
                </a:lnTo>
                <a:lnTo>
                  <a:pt x="275" y="580"/>
                </a:lnTo>
                <a:lnTo>
                  <a:pt x="290" y="582"/>
                </a:lnTo>
                <a:lnTo>
                  <a:pt x="304" y="580"/>
                </a:lnTo>
                <a:lnTo>
                  <a:pt x="319" y="580"/>
                </a:lnTo>
                <a:lnTo>
                  <a:pt x="333" y="579"/>
                </a:lnTo>
                <a:lnTo>
                  <a:pt x="348" y="575"/>
                </a:lnTo>
                <a:lnTo>
                  <a:pt x="361" y="573"/>
                </a:lnTo>
                <a:lnTo>
                  <a:pt x="377" y="569"/>
                </a:lnTo>
                <a:lnTo>
                  <a:pt x="390" y="563"/>
                </a:lnTo>
                <a:lnTo>
                  <a:pt x="404" y="559"/>
                </a:lnTo>
                <a:lnTo>
                  <a:pt x="417" y="554"/>
                </a:lnTo>
                <a:lnTo>
                  <a:pt x="429" y="546"/>
                </a:lnTo>
                <a:lnTo>
                  <a:pt x="440" y="540"/>
                </a:lnTo>
                <a:lnTo>
                  <a:pt x="463" y="525"/>
                </a:lnTo>
                <a:lnTo>
                  <a:pt x="475" y="515"/>
                </a:lnTo>
                <a:lnTo>
                  <a:pt x="484" y="507"/>
                </a:lnTo>
                <a:lnTo>
                  <a:pt x="507" y="484"/>
                </a:lnTo>
                <a:lnTo>
                  <a:pt x="515" y="475"/>
                </a:lnTo>
                <a:lnTo>
                  <a:pt x="525" y="463"/>
                </a:lnTo>
                <a:lnTo>
                  <a:pt x="540" y="440"/>
                </a:lnTo>
                <a:lnTo>
                  <a:pt x="546" y="429"/>
                </a:lnTo>
                <a:lnTo>
                  <a:pt x="554" y="417"/>
                </a:lnTo>
                <a:lnTo>
                  <a:pt x="559" y="404"/>
                </a:lnTo>
                <a:lnTo>
                  <a:pt x="563" y="390"/>
                </a:lnTo>
                <a:lnTo>
                  <a:pt x="569" y="377"/>
                </a:lnTo>
                <a:lnTo>
                  <a:pt x="573" y="362"/>
                </a:lnTo>
                <a:lnTo>
                  <a:pt x="575" y="348"/>
                </a:lnTo>
                <a:lnTo>
                  <a:pt x="578" y="333"/>
                </a:lnTo>
                <a:lnTo>
                  <a:pt x="580" y="319"/>
                </a:lnTo>
                <a:lnTo>
                  <a:pt x="580" y="304"/>
                </a:lnTo>
                <a:lnTo>
                  <a:pt x="582" y="290"/>
                </a:lnTo>
                <a:lnTo>
                  <a:pt x="580" y="275"/>
                </a:lnTo>
                <a:lnTo>
                  <a:pt x="580" y="260"/>
                </a:lnTo>
                <a:lnTo>
                  <a:pt x="578" y="246"/>
                </a:lnTo>
                <a:lnTo>
                  <a:pt x="575" y="233"/>
                </a:lnTo>
                <a:lnTo>
                  <a:pt x="573" y="217"/>
                </a:lnTo>
                <a:lnTo>
                  <a:pt x="569" y="202"/>
                </a:lnTo>
                <a:lnTo>
                  <a:pt x="563" y="189"/>
                </a:lnTo>
                <a:lnTo>
                  <a:pt x="559" y="177"/>
                </a:lnTo>
                <a:lnTo>
                  <a:pt x="554" y="164"/>
                </a:lnTo>
                <a:lnTo>
                  <a:pt x="546" y="152"/>
                </a:lnTo>
                <a:lnTo>
                  <a:pt x="540" y="139"/>
                </a:lnTo>
                <a:lnTo>
                  <a:pt x="525" y="116"/>
                </a:lnTo>
                <a:lnTo>
                  <a:pt x="515" y="106"/>
                </a:lnTo>
                <a:lnTo>
                  <a:pt x="507" y="95"/>
                </a:lnTo>
                <a:lnTo>
                  <a:pt x="496" y="85"/>
                </a:lnTo>
                <a:lnTo>
                  <a:pt x="484" y="73"/>
                </a:lnTo>
                <a:lnTo>
                  <a:pt x="475" y="66"/>
                </a:lnTo>
                <a:lnTo>
                  <a:pt x="463" y="56"/>
                </a:lnTo>
                <a:lnTo>
                  <a:pt x="440" y="41"/>
                </a:lnTo>
                <a:lnTo>
                  <a:pt x="429" y="35"/>
                </a:lnTo>
                <a:lnTo>
                  <a:pt x="417" y="27"/>
                </a:lnTo>
                <a:lnTo>
                  <a:pt x="404" y="22"/>
                </a:lnTo>
                <a:lnTo>
                  <a:pt x="390" y="18"/>
                </a:lnTo>
                <a:lnTo>
                  <a:pt x="377" y="12"/>
                </a:lnTo>
                <a:lnTo>
                  <a:pt x="361" y="8"/>
                </a:lnTo>
                <a:lnTo>
                  <a:pt x="348" y="6"/>
                </a:lnTo>
                <a:lnTo>
                  <a:pt x="333" y="2"/>
                </a:lnTo>
                <a:lnTo>
                  <a:pt x="319" y="0"/>
                </a:lnTo>
                <a:lnTo>
                  <a:pt x="260" y="0"/>
                </a:lnTo>
                <a:lnTo>
                  <a:pt x="246" y="2"/>
                </a:lnTo>
                <a:lnTo>
                  <a:pt x="233" y="6"/>
                </a:lnTo>
                <a:lnTo>
                  <a:pt x="217" y="8"/>
                </a:lnTo>
                <a:lnTo>
                  <a:pt x="202" y="12"/>
                </a:lnTo>
                <a:lnTo>
                  <a:pt x="189" y="18"/>
                </a:lnTo>
                <a:lnTo>
                  <a:pt x="177" y="22"/>
                </a:lnTo>
                <a:lnTo>
                  <a:pt x="164" y="27"/>
                </a:lnTo>
                <a:lnTo>
                  <a:pt x="152" y="35"/>
                </a:lnTo>
                <a:lnTo>
                  <a:pt x="139" y="41"/>
                </a:lnTo>
                <a:lnTo>
                  <a:pt x="116" y="56"/>
                </a:lnTo>
                <a:lnTo>
                  <a:pt x="106" y="66"/>
                </a:lnTo>
                <a:lnTo>
                  <a:pt x="94" y="73"/>
                </a:lnTo>
                <a:lnTo>
                  <a:pt x="73" y="95"/>
                </a:lnTo>
                <a:lnTo>
                  <a:pt x="66" y="106"/>
                </a:lnTo>
                <a:lnTo>
                  <a:pt x="56" y="116"/>
                </a:lnTo>
                <a:lnTo>
                  <a:pt x="41" y="139"/>
                </a:lnTo>
                <a:lnTo>
                  <a:pt x="35" y="152"/>
                </a:lnTo>
                <a:lnTo>
                  <a:pt x="27" y="164"/>
                </a:lnTo>
                <a:lnTo>
                  <a:pt x="21" y="177"/>
                </a:lnTo>
                <a:lnTo>
                  <a:pt x="18" y="189"/>
                </a:lnTo>
                <a:lnTo>
                  <a:pt x="12" y="202"/>
                </a:lnTo>
                <a:lnTo>
                  <a:pt x="8" y="217"/>
                </a:lnTo>
                <a:lnTo>
                  <a:pt x="6" y="233"/>
                </a:lnTo>
                <a:lnTo>
                  <a:pt x="2" y="246"/>
                </a:lnTo>
                <a:lnTo>
                  <a:pt x="0" y="260"/>
                </a:lnTo>
                <a:lnTo>
                  <a:pt x="0" y="290"/>
                </a:lnTo>
                <a:lnTo>
                  <a:pt x="8" y="290"/>
                </a:lnTo>
                <a:lnTo>
                  <a:pt x="8" y="260"/>
                </a:lnTo>
                <a:lnTo>
                  <a:pt x="10" y="246"/>
                </a:lnTo>
                <a:lnTo>
                  <a:pt x="14" y="233"/>
                </a:lnTo>
                <a:lnTo>
                  <a:pt x="16" y="217"/>
                </a:lnTo>
                <a:lnTo>
                  <a:pt x="20" y="206"/>
                </a:lnTo>
                <a:lnTo>
                  <a:pt x="25" y="193"/>
                </a:lnTo>
                <a:lnTo>
                  <a:pt x="29" y="181"/>
                </a:lnTo>
                <a:lnTo>
                  <a:pt x="35" y="168"/>
                </a:lnTo>
                <a:lnTo>
                  <a:pt x="43" y="156"/>
                </a:lnTo>
                <a:lnTo>
                  <a:pt x="48" y="143"/>
                </a:lnTo>
                <a:lnTo>
                  <a:pt x="64" y="120"/>
                </a:lnTo>
                <a:lnTo>
                  <a:pt x="73" y="110"/>
                </a:lnTo>
                <a:lnTo>
                  <a:pt x="81" y="98"/>
                </a:lnTo>
                <a:lnTo>
                  <a:pt x="98" y="81"/>
                </a:lnTo>
                <a:lnTo>
                  <a:pt x="110" y="73"/>
                </a:lnTo>
                <a:lnTo>
                  <a:pt x="119" y="64"/>
                </a:lnTo>
                <a:lnTo>
                  <a:pt x="142" y="48"/>
                </a:lnTo>
                <a:lnTo>
                  <a:pt x="156" y="43"/>
                </a:lnTo>
                <a:lnTo>
                  <a:pt x="167" y="35"/>
                </a:lnTo>
                <a:lnTo>
                  <a:pt x="181" y="29"/>
                </a:lnTo>
                <a:lnTo>
                  <a:pt x="192" y="25"/>
                </a:lnTo>
                <a:lnTo>
                  <a:pt x="206" y="20"/>
                </a:lnTo>
                <a:lnTo>
                  <a:pt x="217" y="16"/>
                </a:lnTo>
                <a:lnTo>
                  <a:pt x="233" y="14"/>
                </a:lnTo>
                <a:lnTo>
                  <a:pt x="246" y="10"/>
                </a:lnTo>
                <a:lnTo>
                  <a:pt x="260" y="8"/>
                </a:lnTo>
                <a:lnTo>
                  <a:pt x="290" y="8"/>
                </a:lnTo>
                <a:lnTo>
                  <a:pt x="319" y="8"/>
                </a:lnTo>
                <a:lnTo>
                  <a:pt x="333" y="10"/>
                </a:lnTo>
                <a:lnTo>
                  <a:pt x="348" y="14"/>
                </a:lnTo>
                <a:lnTo>
                  <a:pt x="361" y="16"/>
                </a:lnTo>
                <a:lnTo>
                  <a:pt x="373" y="20"/>
                </a:lnTo>
                <a:lnTo>
                  <a:pt x="386" y="25"/>
                </a:lnTo>
                <a:lnTo>
                  <a:pt x="400" y="29"/>
                </a:lnTo>
                <a:lnTo>
                  <a:pt x="413" y="35"/>
                </a:lnTo>
                <a:lnTo>
                  <a:pt x="425" y="43"/>
                </a:lnTo>
                <a:lnTo>
                  <a:pt x="436" y="48"/>
                </a:lnTo>
                <a:lnTo>
                  <a:pt x="459" y="64"/>
                </a:lnTo>
                <a:lnTo>
                  <a:pt x="471" y="73"/>
                </a:lnTo>
                <a:lnTo>
                  <a:pt x="481" y="81"/>
                </a:lnTo>
                <a:lnTo>
                  <a:pt x="492" y="89"/>
                </a:lnTo>
                <a:lnTo>
                  <a:pt x="500" y="98"/>
                </a:lnTo>
                <a:lnTo>
                  <a:pt x="507" y="110"/>
                </a:lnTo>
                <a:lnTo>
                  <a:pt x="517" y="120"/>
                </a:lnTo>
                <a:lnTo>
                  <a:pt x="532" y="143"/>
                </a:lnTo>
                <a:lnTo>
                  <a:pt x="538" y="156"/>
                </a:lnTo>
                <a:lnTo>
                  <a:pt x="546" y="168"/>
                </a:lnTo>
                <a:lnTo>
                  <a:pt x="552" y="181"/>
                </a:lnTo>
                <a:lnTo>
                  <a:pt x="555" y="193"/>
                </a:lnTo>
                <a:lnTo>
                  <a:pt x="561" y="206"/>
                </a:lnTo>
                <a:lnTo>
                  <a:pt x="565" y="217"/>
                </a:lnTo>
                <a:lnTo>
                  <a:pt x="567" y="233"/>
                </a:lnTo>
                <a:lnTo>
                  <a:pt x="571" y="246"/>
                </a:lnTo>
                <a:lnTo>
                  <a:pt x="573" y="260"/>
                </a:lnTo>
                <a:lnTo>
                  <a:pt x="573" y="275"/>
                </a:lnTo>
                <a:lnTo>
                  <a:pt x="575" y="290"/>
                </a:lnTo>
                <a:lnTo>
                  <a:pt x="573" y="304"/>
                </a:lnTo>
                <a:lnTo>
                  <a:pt x="573" y="319"/>
                </a:lnTo>
                <a:lnTo>
                  <a:pt x="571" y="333"/>
                </a:lnTo>
                <a:lnTo>
                  <a:pt x="567" y="348"/>
                </a:lnTo>
                <a:lnTo>
                  <a:pt x="565" y="362"/>
                </a:lnTo>
                <a:lnTo>
                  <a:pt x="561" y="373"/>
                </a:lnTo>
                <a:lnTo>
                  <a:pt x="555" y="386"/>
                </a:lnTo>
                <a:lnTo>
                  <a:pt x="552" y="400"/>
                </a:lnTo>
                <a:lnTo>
                  <a:pt x="546" y="413"/>
                </a:lnTo>
                <a:lnTo>
                  <a:pt x="538" y="425"/>
                </a:lnTo>
                <a:lnTo>
                  <a:pt x="532" y="436"/>
                </a:lnTo>
                <a:lnTo>
                  <a:pt x="517" y="459"/>
                </a:lnTo>
                <a:lnTo>
                  <a:pt x="507" y="471"/>
                </a:lnTo>
                <a:lnTo>
                  <a:pt x="500" y="481"/>
                </a:lnTo>
                <a:lnTo>
                  <a:pt x="492" y="492"/>
                </a:lnTo>
                <a:lnTo>
                  <a:pt x="481" y="500"/>
                </a:lnTo>
                <a:lnTo>
                  <a:pt x="471" y="507"/>
                </a:lnTo>
                <a:lnTo>
                  <a:pt x="459" y="517"/>
                </a:lnTo>
                <a:lnTo>
                  <a:pt x="436" y="532"/>
                </a:lnTo>
                <a:lnTo>
                  <a:pt x="425" y="538"/>
                </a:lnTo>
                <a:lnTo>
                  <a:pt x="413" y="546"/>
                </a:lnTo>
                <a:lnTo>
                  <a:pt x="400" y="552"/>
                </a:lnTo>
                <a:lnTo>
                  <a:pt x="386" y="555"/>
                </a:lnTo>
                <a:lnTo>
                  <a:pt x="373" y="561"/>
                </a:lnTo>
                <a:lnTo>
                  <a:pt x="361" y="565"/>
                </a:lnTo>
                <a:lnTo>
                  <a:pt x="348" y="567"/>
                </a:lnTo>
                <a:lnTo>
                  <a:pt x="333" y="571"/>
                </a:lnTo>
                <a:lnTo>
                  <a:pt x="319" y="573"/>
                </a:lnTo>
                <a:lnTo>
                  <a:pt x="304" y="573"/>
                </a:lnTo>
                <a:lnTo>
                  <a:pt x="290" y="575"/>
                </a:lnTo>
                <a:lnTo>
                  <a:pt x="275" y="573"/>
                </a:lnTo>
                <a:lnTo>
                  <a:pt x="260" y="573"/>
                </a:lnTo>
                <a:lnTo>
                  <a:pt x="246" y="571"/>
                </a:lnTo>
                <a:lnTo>
                  <a:pt x="233" y="567"/>
                </a:lnTo>
                <a:lnTo>
                  <a:pt x="217" y="565"/>
                </a:lnTo>
                <a:lnTo>
                  <a:pt x="206" y="561"/>
                </a:lnTo>
                <a:lnTo>
                  <a:pt x="192" y="555"/>
                </a:lnTo>
                <a:lnTo>
                  <a:pt x="181" y="552"/>
                </a:lnTo>
                <a:lnTo>
                  <a:pt x="167" y="546"/>
                </a:lnTo>
                <a:lnTo>
                  <a:pt x="156" y="538"/>
                </a:lnTo>
                <a:lnTo>
                  <a:pt x="142" y="532"/>
                </a:lnTo>
                <a:lnTo>
                  <a:pt x="119" y="517"/>
                </a:lnTo>
                <a:lnTo>
                  <a:pt x="110" y="507"/>
                </a:lnTo>
                <a:lnTo>
                  <a:pt x="98" y="500"/>
                </a:lnTo>
                <a:lnTo>
                  <a:pt x="89" y="492"/>
                </a:lnTo>
                <a:lnTo>
                  <a:pt x="81" y="481"/>
                </a:lnTo>
                <a:lnTo>
                  <a:pt x="73" y="471"/>
                </a:lnTo>
                <a:lnTo>
                  <a:pt x="64" y="459"/>
                </a:lnTo>
                <a:lnTo>
                  <a:pt x="48" y="436"/>
                </a:lnTo>
                <a:lnTo>
                  <a:pt x="43" y="425"/>
                </a:lnTo>
                <a:lnTo>
                  <a:pt x="35" y="413"/>
                </a:lnTo>
                <a:lnTo>
                  <a:pt x="29" y="400"/>
                </a:lnTo>
                <a:lnTo>
                  <a:pt x="25" y="386"/>
                </a:lnTo>
                <a:lnTo>
                  <a:pt x="20" y="373"/>
                </a:lnTo>
                <a:lnTo>
                  <a:pt x="16" y="362"/>
                </a:lnTo>
                <a:lnTo>
                  <a:pt x="14" y="348"/>
                </a:lnTo>
                <a:lnTo>
                  <a:pt x="10" y="333"/>
                </a:lnTo>
                <a:lnTo>
                  <a:pt x="8" y="319"/>
                </a:lnTo>
                <a:lnTo>
                  <a:pt x="8" y="290"/>
                </a:lnTo>
                <a:lnTo>
                  <a:pt x="0"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8" name="Oval 39"/>
          <p:cNvSpPr/>
          <p:nvPr/>
        </p:nvSpPr>
        <p:spPr>
          <a:xfrm>
            <a:off x="3316320" y="4529160"/>
            <a:ext cx="914400" cy="915840"/>
          </a:xfrm>
          <a:prstGeom prst="ellipse">
            <a:avLst/>
          </a:prstGeom>
          <a:solidFill>
            <a:srgbClr val="ffc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9" name="Freeform 40"/>
          <p:cNvSpPr/>
          <p:nvPr/>
        </p:nvSpPr>
        <p:spPr>
          <a:xfrm>
            <a:off x="3309840" y="4524480"/>
            <a:ext cx="924120" cy="922320"/>
          </a:xfrm>
          <a:custGeom>
            <a:avLst/>
            <a:gdLst>
              <a:gd name="textAreaLeft" fmla="*/ 0 w 924120"/>
              <a:gd name="textAreaRight" fmla="*/ 924480 w 924120"/>
              <a:gd name="textAreaTop" fmla="*/ 0 h 922320"/>
              <a:gd name="textAreaBottom" fmla="*/ 922680 h 922320"/>
            </a:gdLst>
            <a:ahLst/>
            <a:rect l="textAreaLeft" t="textAreaTop" r="textAreaRight" b="textAreaBottom"/>
            <a:pathLst>
              <a:path w="582" h="581">
                <a:moveTo>
                  <a:pt x="0" y="290"/>
                </a:moveTo>
                <a:lnTo>
                  <a:pt x="0" y="318"/>
                </a:lnTo>
                <a:lnTo>
                  <a:pt x="2" y="332"/>
                </a:lnTo>
                <a:lnTo>
                  <a:pt x="6" y="347"/>
                </a:lnTo>
                <a:lnTo>
                  <a:pt x="8" y="361"/>
                </a:lnTo>
                <a:lnTo>
                  <a:pt x="12" y="376"/>
                </a:lnTo>
                <a:lnTo>
                  <a:pt x="18" y="389"/>
                </a:lnTo>
                <a:lnTo>
                  <a:pt x="21" y="403"/>
                </a:lnTo>
                <a:lnTo>
                  <a:pt x="27" y="416"/>
                </a:lnTo>
                <a:lnTo>
                  <a:pt x="35" y="428"/>
                </a:lnTo>
                <a:lnTo>
                  <a:pt x="41" y="439"/>
                </a:lnTo>
                <a:lnTo>
                  <a:pt x="56" y="462"/>
                </a:lnTo>
                <a:lnTo>
                  <a:pt x="66" y="474"/>
                </a:lnTo>
                <a:lnTo>
                  <a:pt x="73" y="484"/>
                </a:lnTo>
                <a:lnTo>
                  <a:pt x="85" y="495"/>
                </a:lnTo>
                <a:lnTo>
                  <a:pt x="94" y="507"/>
                </a:lnTo>
                <a:lnTo>
                  <a:pt x="106" y="514"/>
                </a:lnTo>
                <a:lnTo>
                  <a:pt x="116" y="524"/>
                </a:lnTo>
                <a:lnTo>
                  <a:pt x="139" y="539"/>
                </a:lnTo>
                <a:lnTo>
                  <a:pt x="152" y="545"/>
                </a:lnTo>
                <a:lnTo>
                  <a:pt x="164" y="553"/>
                </a:lnTo>
                <a:lnTo>
                  <a:pt x="177" y="558"/>
                </a:lnTo>
                <a:lnTo>
                  <a:pt x="189" y="562"/>
                </a:lnTo>
                <a:lnTo>
                  <a:pt x="202" y="568"/>
                </a:lnTo>
                <a:lnTo>
                  <a:pt x="217" y="572"/>
                </a:lnTo>
                <a:lnTo>
                  <a:pt x="233" y="574"/>
                </a:lnTo>
                <a:lnTo>
                  <a:pt x="246" y="578"/>
                </a:lnTo>
                <a:lnTo>
                  <a:pt x="260" y="580"/>
                </a:lnTo>
                <a:lnTo>
                  <a:pt x="275" y="580"/>
                </a:lnTo>
                <a:lnTo>
                  <a:pt x="290" y="581"/>
                </a:lnTo>
                <a:lnTo>
                  <a:pt x="304" y="580"/>
                </a:lnTo>
                <a:lnTo>
                  <a:pt x="319" y="580"/>
                </a:lnTo>
                <a:lnTo>
                  <a:pt x="333" y="578"/>
                </a:lnTo>
                <a:lnTo>
                  <a:pt x="348" y="574"/>
                </a:lnTo>
                <a:lnTo>
                  <a:pt x="361" y="572"/>
                </a:lnTo>
                <a:lnTo>
                  <a:pt x="377" y="568"/>
                </a:lnTo>
                <a:lnTo>
                  <a:pt x="390" y="562"/>
                </a:lnTo>
                <a:lnTo>
                  <a:pt x="404" y="558"/>
                </a:lnTo>
                <a:lnTo>
                  <a:pt x="417" y="553"/>
                </a:lnTo>
                <a:lnTo>
                  <a:pt x="429" y="545"/>
                </a:lnTo>
                <a:lnTo>
                  <a:pt x="440" y="539"/>
                </a:lnTo>
                <a:lnTo>
                  <a:pt x="463" y="524"/>
                </a:lnTo>
                <a:lnTo>
                  <a:pt x="475" y="514"/>
                </a:lnTo>
                <a:lnTo>
                  <a:pt x="484" y="507"/>
                </a:lnTo>
                <a:lnTo>
                  <a:pt x="507" y="484"/>
                </a:lnTo>
                <a:lnTo>
                  <a:pt x="515" y="474"/>
                </a:lnTo>
                <a:lnTo>
                  <a:pt x="525" y="462"/>
                </a:lnTo>
                <a:lnTo>
                  <a:pt x="540" y="439"/>
                </a:lnTo>
                <a:lnTo>
                  <a:pt x="546" y="428"/>
                </a:lnTo>
                <a:lnTo>
                  <a:pt x="554" y="416"/>
                </a:lnTo>
                <a:lnTo>
                  <a:pt x="559" y="403"/>
                </a:lnTo>
                <a:lnTo>
                  <a:pt x="563" y="389"/>
                </a:lnTo>
                <a:lnTo>
                  <a:pt x="569" y="376"/>
                </a:lnTo>
                <a:lnTo>
                  <a:pt x="573" y="361"/>
                </a:lnTo>
                <a:lnTo>
                  <a:pt x="575" y="347"/>
                </a:lnTo>
                <a:lnTo>
                  <a:pt x="578" y="332"/>
                </a:lnTo>
                <a:lnTo>
                  <a:pt x="580" y="318"/>
                </a:lnTo>
                <a:lnTo>
                  <a:pt x="580" y="303"/>
                </a:lnTo>
                <a:lnTo>
                  <a:pt x="582" y="290"/>
                </a:lnTo>
                <a:lnTo>
                  <a:pt x="580" y="274"/>
                </a:lnTo>
                <a:lnTo>
                  <a:pt x="580" y="259"/>
                </a:lnTo>
                <a:lnTo>
                  <a:pt x="578" y="245"/>
                </a:lnTo>
                <a:lnTo>
                  <a:pt x="575" y="232"/>
                </a:lnTo>
                <a:lnTo>
                  <a:pt x="573" y="217"/>
                </a:lnTo>
                <a:lnTo>
                  <a:pt x="569" y="201"/>
                </a:lnTo>
                <a:lnTo>
                  <a:pt x="563" y="188"/>
                </a:lnTo>
                <a:lnTo>
                  <a:pt x="559" y="176"/>
                </a:lnTo>
                <a:lnTo>
                  <a:pt x="554" y="163"/>
                </a:lnTo>
                <a:lnTo>
                  <a:pt x="546" y="151"/>
                </a:lnTo>
                <a:lnTo>
                  <a:pt x="540" y="138"/>
                </a:lnTo>
                <a:lnTo>
                  <a:pt x="525" y="115"/>
                </a:lnTo>
                <a:lnTo>
                  <a:pt x="515" y="105"/>
                </a:lnTo>
                <a:lnTo>
                  <a:pt x="507" y="94"/>
                </a:lnTo>
                <a:lnTo>
                  <a:pt x="496" y="84"/>
                </a:lnTo>
                <a:lnTo>
                  <a:pt x="484" y="73"/>
                </a:lnTo>
                <a:lnTo>
                  <a:pt x="475" y="65"/>
                </a:lnTo>
                <a:lnTo>
                  <a:pt x="463" y="55"/>
                </a:lnTo>
                <a:lnTo>
                  <a:pt x="440" y="40"/>
                </a:lnTo>
                <a:lnTo>
                  <a:pt x="429" y="34"/>
                </a:lnTo>
                <a:lnTo>
                  <a:pt x="417" y="26"/>
                </a:lnTo>
                <a:lnTo>
                  <a:pt x="404" y="21"/>
                </a:lnTo>
                <a:lnTo>
                  <a:pt x="390" y="17"/>
                </a:lnTo>
                <a:lnTo>
                  <a:pt x="377" y="11"/>
                </a:lnTo>
                <a:lnTo>
                  <a:pt x="361" y="7"/>
                </a:lnTo>
                <a:lnTo>
                  <a:pt x="348" y="5"/>
                </a:lnTo>
                <a:lnTo>
                  <a:pt x="333" y="1"/>
                </a:lnTo>
                <a:lnTo>
                  <a:pt x="319" y="0"/>
                </a:lnTo>
                <a:lnTo>
                  <a:pt x="260" y="0"/>
                </a:lnTo>
                <a:lnTo>
                  <a:pt x="246" y="1"/>
                </a:lnTo>
                <a:lnTo>
                  <a:pt x="233" y="5"/>
                </a:lnTo>
                <a:lnTo>
                  <a:pt x="217" y="7"/>
                </a:lnTo>
                <a:lnTo>
                  <a:pt x="202" y="11"/>
                </a:lnTo>
                <a:lnTo>
                  <a:pt x="189" y="17"/>
                </a:lnTo>
                <a:lnTo>
                  <a:pt x="177" y="21"/>
                </a:lnTo>
                <a:lnTo>
                  <a:pt x="164" y="26"/>
                </a:lnTo>
                <a:lnTo>
                  <a:pt x="152" y="34"/>
                </a:lnTo>
                <a:lnTo>
                  <a:pt x="139" y="40"/>
                </a:lnTo>
                <a:lnTo>
                  <a:pt x="116" y="55"/>
                </a:lnTo>
                <a:lnTo>
                  <a:pt x="106" y="65"/>
                </a:lnTo>
                <a:lnTo>
                  <a:pt x="94" y="73"/>
                </a:lnTo>
                <a:lnTo>
                  <a:pt x="73" y="94"/>
                </a:lnTo>
                <a:lnTo>
                  <a:pt x="66" y="105"/>
                </a:lnTo>
                <a:lnTo>
                  <a:pt x="56" y="115"/>
                </a:lnTo>
                <a:lnTo>
                  <a:pt x="41" y="138"/>
                </a:lnTo>
                <a:lnTo>
                  <a:pt x="35" y="151"/>
                </a:lnTo>
                <a:lnTo>
                  <a:pt x="27" y="163"/>
                </a:lnTo>
                <a:lnTo>
                  <a:pt x="21" y="176"/>
                </a:lnTo>
                <a:lnTo>
                  <a:pt x="18" y="188"/>
                </a:lnTo>
                <a:lnTo>
                  <a:pt x="12" y="201"/>
                </a:lnTo>
                <a:lnTo>
                  <a:pt x="8" y="217"/>
                </a:lnTo>
                <a:lnTo>
                  <a:pt x="6" y="232"/>
                </a:lnTo>
                <a:lnTo>
                  <a:pt x="2" y="245"/>
                </a:lnTo>
                <a:lnTo>
                  <a:pt x="0" y="259"/>
                </a:lnTo>
                <a:lnTo>
                  <a:pt x="0" y="290"/>
                </a:lnTo>
                <a:lnTo>
                  <a:pt x="8" y="290"/>
                </a:lnTo>
                <a:lnTo>
                  <a:pt x="8" y="259"/>
                </a:lnTo>
                <a:lnTo>
                  <a:pt x="10" y="245"/>
                </a:lnTo>
                <a:lnTo>
                  <a:pt x="14" y="232"/>
                </a:lnTo>
                <a:lnTo>
                  <a:pt x="16" y="217"/>
                </a:lnTo>
                <a:lnTo>
                  <a:pt x="20" y="205"/>
                </a:lnTo>
                <a:lnTo>
                  <a:pt x="25" y="192"/>
                </a:lnTo>
                <a:lnTo>
                  <a:pt x="29" y="180"/>
                </a:lnTo>
                <a:lnTo>
                  <a:pt x="35" y="167"/>
                </a:lnTo>
                <a:lnTo>
                  <a:pt x="43" y="155"/>
                </a:lnTo>
                <a:lnTo>
                  <a:pt x="48" y="142"/>
                </a:lnTo>
                <a:lnTo>
                  <a:pt x="64" y="119"/>
                </a:lnTo>
                <a:lnTo>
                  <a:pt x="73" y="109"/>
                </a:lnTo>
                <a:lnTo>
                  <a:pt x="81" y="98"/>
                </a:lnTo>
                <a:lnTo>
                  <a:pt x="98" y="80"/>
                </a:lnTo>
                <a:lnTo>
                  <a:pt x="110" y="73"/>
                </a:lnTo>
                <a:lnTo>
                  <a:pt x="119" y="63"/>
                </a:lnTo>
                <a:lnTo>
                  <a:pt x="142" y="48"/>
                </a:lnTo>
                <a:lnTo>
                  <a:pt x="156" y="42"/>
                </a:lnTo>
                <a:lnTo>
                  <a:pt x="167" y="34"/>
                </a:lnTo>
                <a:lnTo>
                  <a:pt x="181" y="28"/>
                </a:lnTo>
                <a:lnTo>
                  <a:pt x="192" y="25"/>
                </a:lnTo>
                <a:lnTo>
                  <a:pt x="206" y="19"/>
                </a:lnTo>
                <a:lnTo>
                  <a:pt x="217" y="15"/>
                </a:lnTo>
                <a:lnTo>
                  <a:pt x="233" y="13"/>
                </a:lnTo>
                <a:lnTo>
                  <a:pt x="246" y="9"/>
                </a:lnTo>
                <a:lnTo>
                  <a:pt x="260" y="7"/>
                </a:lnTo>
                <a:lnTo>
                  <a:pt x="290" y="7"/>
                </a:lnTo>
                <a:lnTo>
                  <a:pt x="319" y="7"/>
                </a:lnTo>
                <a:lnTo>
                  <a:pt x="333" y="9"/>
                </a:lnTo>
                <a:lnTo>
                  <a:pt x="348" y="13"/>
                </a:lnTo>
                <a:lnTo>
                  <a:pt x="361" y="15"/>
                </a:lnTo>
                <a:lnTo>
                  <a:pt x="373" y="19"/>
                </a:lnTo>
                <a:lnTo>
                  <a:pt x="386" y="25"/>
                </a:lnTo>
                <a:lnTo>
                  <a:pt x="400" y="28"/>
                </a:lnTo>
                <a:lnTo>
                  <a:pt x="413" y="34"/>
                </a:lnTo>
                <a:lnTo>
                  <a:pt x="425" y="42"/>
                </a:lnTo>
                <a:lnTo>
                  <a:pt x="436" y="48"/>
                </a:lnTo>
                <a:lnTo>
                  <a:pt x="459" y="63"/>
                </a:lnTo>
                <a:lnTo>
                  <a:pt x="471" y="73"/>
                </a:lnTo>
                <a:lnTo>
                  <a:pt x="481" y="80"/>
                </a:lnTo>
                <a:lnTo>
                  <a:pt x="492" y="88"/>
                </a:lnTo>
                <a:lnTo>
                  <a:pt x="500" y="98"/>
                </a:lnTo>
                <a:lnTo>
                  <a:pt x="507" y="109"/>
                </a:lnTo>
                <a:lnTo>
                  <a:pt x="517" y="119"/>
                </a:lnTo>
                <a:lnTo>
                  <a:pt x="532" y="142"/>
                </a:lnTo>
                <a:lnTo>
                  <a:pt x="538" y="155"/>
                </a:lnTo>
                <a:lnTo>
                  <a:pt x="546" y="167"/>
                </a:lnTo>
                <a:lnTo>
                  <a:pt x="552" y="180"/>
                </a:lnTo>
                <a:lnTo>
                  <a:pt x="555" y="192"/>
                </a:lnTo>
                <a:lnTo>
                  <a:pt x="561" y="205"/>
                </a:lnTo>
                <a:lnTo>
                  <a:pt x="565" y="217"/>
                </a:lnTo>
                <a:lnTo>
                  <a:pt x="567" y="232"/>
                </a:lnTo>
                <a:lnTo>
                  <a:pt x="571" y="245"/>
                </a:lnTo>
                <a:lnTo>
                  <a:pt x="573" y="259"/>
                </a:lnTo>
                <a:lnTo>
                  <a:pt x="573" y="274"/>
                </a:lnTo>
                <a:lnTo>
                  <a:pt x="575" y="290"/>
                </a:lnTo>
                <a:lnTo>
                  <a:pt x="573" y="303"/>
                </a:lnTo>
                <a:lnTo>
                  <a:pt x="573" y="318"/>
                </a:lnTo>
                <a:lnTo>
                  <a:pt x="571" y="332"/>
                </a:lnTo>
                <a:lnTo>
                  <a:pt x="567" y="347"/>
                </a:lnTo>
                <a:lnTo>
                  <a:pt x="565" y="361"/>
                </a:lnTo>
                <a:lnTo>
                  <a:pt x="561" y="372"/>
                </a:lnTo>
                <a:lnTo>
                  <a:pt x="555" y="386"/>
                </a:lnTo>
                <a:lnTo>
                  <a:pt x="552" y="399"/>
                </a:lnTo>
                <a:lnTo>
                  <a:pt x="546" y="412"/>
                </a:lnTo>
                <a:lnTo>
                  <a:pt x="538" y="424"/>
                </a:lnTo>
                <a:lnTo>
                  <a:pt x="532" y="436"/>
                </a:lnTo>
                <a:lnTo>
                  <a:pt x="517" y="459"/>
                </a:lnTo>
                <a:lnTo>
                  <a:pt x="507" y="470"/>
                </a:lnTo>
                <a:lnTo>
                  <a:pt x="500" y="480"/>
                </a:lnTo>
                <a:lnTo>
                  <a:pt x="492" y="491"/>
                </a:lnTo>
                <a:lnTo>
                  <a:pt x="481" y="499"/>
                </a:lnTo>
                <a:lnTo>
                  <a:pt x="471" y="507"/>
                </a:lnTo>
                <a:lnTo>
                  <a:pt x="459" y="516"/>
                </a:lnTo>
                <a:lnTo>
                  <a:pt x="436" y="532"/>
                </a:lnTo>
                <a:lnTo>
                  <a:pt x="425" y="537"/>
                </a:lnTo>
                <a:lnTo>
                  <a:pt x="413" y="545"/>
                </a:lnTo>
                <a:lnTo>
                  <a:pt x="400" y="551"/>
                </a:lnTo>
                <a:lnTo>
                  <a:pt x="386" y="555"/>
                </a:lnTo>
                <a:lnTo>
                  <a:pt x="373" y="560"/>
                </a:lnTo>
                <a:lnTo>
                  <a:pt x="361" y="564"/>
                </a:lnTo>
                <a:lnTo>
                  <a:pt x="348" y="566"/>
                </a:lnTo>
                <a:lnTo>
                  <a:pt x="333" y="570"/>
                </a:lnTo>
                <a:lnTo>
                  <a:pt x="319" y="572"/>
                </a:lnTo>
                <a:lnTo>
                  <a:pt x="304" y="572"/>
                </a:lnTo>
                <a:lnTo>
                  <a:pt x="290" y="574"/>
                </a:lnTo>
                <a:lnTo>
                  <a:pt x="275" y="572"/>
                </a:lnTo>
                <a:lnTo>
                  <a:pt x="260" y="572"/>
                </a:lnTo>
                <a:lnTo>
                  <a:pt x="246" y="570"/>
                </a:lnTo>
                <a:lnTo>
                  <a:pt x="233" y="566"/>
                </a:lnTo>
                <a:lnTo>
                  <a:pt x="217" y="564"/>
                </a:lnTo>
                <a:lnTo>
                  <a:pt x="206" y="560"/>
                </a:lnTo>
                <a:lnTo>
                  <a:pt x="192" y="555"/>
                </a:lnTo>
                <a:lnTo>
                  <a:pt x="181" y="551"/>
                </a:lnTo>
                <a:lnTo>
                  <a:pt x="167" y="545"/>
                </a:lnTo>
                <a:lnTo>
                  <a:pt x="156" y="537"/>
                </a:lnTo>
                <a:lnTo>
                  <a:pt x="142" y="532"/>
                </a:lnTo>
                <a:lnTo>
                  <a:pt x="119" y="516"/>
                </a:lnTo>
                <a:lnTo>
                  <a:pt x="110" y="507"/>
                </a:lnTo>
                <a:lnTo>
                  <a:pt x="98" y="499"/>
                </a:lnTo>
                <a:lnTo>
                  <a:pt x="89" y="491"/>
                </a:lnTo>
                <a:lnTo>
                  <a:pt x="81" y="480"/>
                </a:lnTo>
                <a:lnTo>
                  <a:pt x="73" y="470"/>
                </a:lnTo>
                <a:lnTo>
                  <a:pt x="64" y="459"/>
                </a:lnTo>
                <a:lnTo>
                  <a:pt x="48" y="436"/>
                </a:lnTo>
                <a:lnTo>
                  <a:pt x="43" y="424"/>
                </a:lnTo>
                <a:lnTo>
                  <a:pt x="35" y="412"/>
                </a:lnTo>
                <a:lnTo>
                  <a:pt x="29" y="399"/>
                </a:lnTo>
                <a:lnTo>
                  <a:pt x="25" y="386"/>
                </a:lnTo>
                <a:lnTo>
                  <a:pt x="20" y="372"/>
                </a:lnTo>
                <a:lnTo>
                  <a:pt x="16" y="361"/>
                </a:lnTo>
                <a:lnTo>
                  <a:pt x="14" y="347"/>
                </a:lnTo>
                <a:lnTo>
                  <a:pt x="10" y="332"/>
                </a:lnTo>
                <a:lnTo>
                  <a:pt x="8" y="318"/>
                </a:lnTo>
                <a:lnTo>
                  <a:pt x="8" y="290"/>
                </a:lnTo>
                <a:lnTo>
                  <a:pt x="0"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Oval 41"/>
          <p:cNvSpPr/>
          <p:nvPr/>
        </p:nvSpPr>
        <p:spPr>
          <a:xfrm>
            <a:off x="3316320" y="5599080"/>
            <a:ext cx="914400" cy="916200"/>
          </a:xfrm>
          <a:prstGeom prst="ellipse">
            <a:avLst/>
          </a:prstGeom>
          <a:solidFill>
            <a:srgbClr val="ffc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1" name="Freeform 42"/>
          <p:cNvSpPr/>
          <p:nvPr/>
        </p:nvSpPr>
        <p:spPr>
          <a:xfrm>
            <a:off x="3309840" y="5594400"/>
            <a:ext cx="924120" cy="923760"/>
          </a:xfrm>
          <a:custGeom>
            <a:avLst/>
            <a:gdLst>
              <a:gd name="textAreaLeft" fmla="*/ 0 w 924120"/>
              <a:gd name="textAreaRight" fmla="*/ 924480 w 924120"/>
              <a:gd name="textAreaTop" fmla="*/ 0 h 923760"/>
              <a:gd name="textAreaBottom" fmla="*/ 924120 h 923760"/>
            </a:gdLst>
            <a:ahLst/>
            <a:rect l="textAreaLeft" t="textAreaTop" r="textAreaRight" b="textAreaBottom"/>
            <a:pathLst>
              <a:path w="582" h="582">
                <a:moveTo>
                  <a:pt x="0" y="290"/>
                </a:moveTo>
                <a:lnTo>
                  <a:pt x="0" y="318"/>
                </a:lnTo>
                <a:lnTo>
                  <a:pt x="2" y="332"/>
                </a:lnTo>
                <a:lnTo>
                  <a:pt x="6" y="347"/>
                </a:lnTo>
                <a:lnTo>
                  <a:pt x="8" y="361"/>
                </a:lnTo>
                <a:lnTo>
                  <a:pt x="12" y="376"/>
                </a:lnTo>
                <a:lnTo>
                  <a:pt x="18" y="389"/>
                </a:lnTo>
                <a:lnTo>
                  <a:pt x="21" y="403"/>
                </a:lnTo>
                <a:lnTo>
                  <a:pt x="27" y="416"/>
                </a:lnTo>
                <a:lnTo>
                  <a:pt x="35" y="428"/>
                </a:lnTo>
                <a:lnTo>
                  <a:pt x="41" y="439"/>
                </a:lnTo>
                <a:lnTo>
                  <a:pt x="56" y="462"/>
                </a:lnTo>
                <a:lnTo>
                  <a:pt x="66" y="474"/>
                </a:lnTo>
                <a:lnTo>
                  <a:pt x="73" y="484"/>
                </a:lnTo>
                <a:lnTo>
                  <a:pt x="85" y="495"/>
                </a:lnTo>
                <a:lnTo>
                  <a:pt x="94" y="507"/>
                </a:lnTo>
                <a:lnTo>
                  <a:pt x="106" y="514"/>
                </a:lnTo>
                <a:lnTo>
                  <a:pt x="116" y="524"/>
                </a:lnTo>
                <a:lnTo>
                  <a:pt x="139" y="539"/>
                </a:lnTo>
                <a:lnTo>
                  <a:pt x="152" y="545"/>
                </a:lnTo>
                <a:lnTo>
                  <a:pt x="164" y="553"/>
                </a:lnTo>
                <a:lnTo>
                  <a:pt x="177" y="558"/>
                </a:lnTo>
                <a:lnTo>
                  <a:pt x="189" y="562"/>
                </a:lnTo>
                <a:lnTo>
                  <a:pt x="202" y="568"/>
                </a:lnTo>
                <a:lnTo>
                  <a:pt x="217" y="572"/>
                </a:lnTo>
                <a:lnTo>
                  <a:pt x="233" y="574"/>
                </a:lnTo>
                <a:lnTo>
                  <a:pt x="246" y="578"/>
                </a:lnTo>
                <a:lnTo>
                  <a:pt x="260" y="580"/>
                </a:lnTo>
                <a:lnTo>
                  <a:pt x="275" y="580"/>
                </a:lnTo>
                <a:lnTo>
                  <a:pt x="290" y="582"/>
                </a:lnTo>
                <a:lnTo>
                  <a:pt x="304" y="580"/>
                </a:lnTo>
                <a:lnTo>
                  <a:pt x="319" y="580"/>
                </a:lnTo>
                <a:lnTo>
                  <a:pt x="333" y="578"/>
                </a:lnTo>
                <a:lnTo>
                  <a:pt x="348" y="574"/>
                </a:lnTo>
                <a:lnTo>
                  <a:pt x="361" y="572"/>
                </a:lnTo>
                <a:lnTo>
                  <a:pt x="377" y="568"/>
                </a:lnTo>
                <a:lnTo>
                  <a:pt x="390" y="562"/>
                </a:lnTo>
                <a:lnTo>
                  <a:pt x="404" y="558"/>
                </a:lnTo>
                <a:lnTo>
                  <a:pt x="417" y="553"/>
                </a:lnTo>
                <a:lnTo>
                  <a:pt x="429" y="545"/>
                </a:lnTo>
                <a:lnTo>
                  <a:pt x="440" y="539"/>
                </a:lnTo>
                <a:lnTo>
                  <a:pt x="463" y="524"/>
                </a:lnTo>
                <a:lnTo>
                  <a:pt x="475" y="514"/>
                </a:lnTo>
                <a:lnTo>
                  <a:pt x="484" y="507"/>
                </a:lnTo>
                <a:lnTo>
                  <a:pt x="507" y="484"/>
                </a:lnTo>
                <a:lnTo>
                  <a:pt x="515" y="474"/>
                </a:lnTo>
                <a:lnTo>
                  <a:pt x="525" y="462"/>
                </a:lnTo>
                <a:lnTo>
                  <a:pt x="540" y="439"/>
                </a:lnTo>
                <a:lnTo>
                  <a:pt x="546" y="428"/>
                </a:lnTo>
                <a:lnTo>
                  <a:pt x="554" y="416"/>
                </a:lnTo>
                <a:lnTo>
                  <a:pt x="559" y="403"/>
                </a:lnTo>
                <a:lnTo>
                  <a:pt x="563" y="389"/>
                </a:lnTo>
                <a:lnTo>
                  <a:pt x="569" y="376"/>
                </a:lnTo>
                <a:lnTo>
                  <a:pt x="573" y="361"/>
                </a:lnTo>
                <a:lnTo>
                  <a:pt x="575" y="347"/>
                </a:lnTo>
                <a:lnTo>
                  <a:pt x="578" y="332"/>
                </a:lnTo>
                <a:lnTo>
                  <a:pt x="580" y="318"/>
                </a:lnTo>
                <a:lnTo>
                  <a:pt x="580" y="303"/>
                </a:lnTo>
                <a:lnTo>
                  <a:pt x="582" y="290"/>
                </a:lnTo>
                <a:lnTo>
                  <a:pt x="580" y="274"/>
                </a:lnTo>
                <a:lnTo>
                  <a:pt x="580" y="259"/>
                </a:lnTo>
                <a:lnTo>
                  <a:pt x="578" y="245"/>
                </a:lnTo>
                <a:lnTo>
                  <a:pt x="575" y="232"/>
                </a:lnTo>
                <a:lnTo>
                  <a:pt x="573" y="217"/>
                </a:lnTo>
                <a:lnTo>
                  <a:pt x="569" y="201"/>
                </a:lnTo>
                <a:lnTo>
                  <a:pt x="563" y="188"/>
                </a:lnTo>
                <a:lnTo>
                  <a:pt x="559" y="176"/>
                </a:lnTo>
                <a:lnTo>
                  <a:pt x="554" y="163"/>
                </a:lnTo>
                <a:lnTo>
                  <a:pt x="546" y="151"/>
                </a:lnTo>
                <a:lnTo>
                  <a:pt x="540" y="138"/>
                </a:lnTo>
                <a:lnTo>
                  <a:pt x="525" y="115"/>
                </a:lnTo>
                <a:lnTo>
                  <a:pt x="515" y="105"/>
                </a:lnTo>
                <a:lnTo>
                  <a:pt x="507" y="94"/>
                </a:lnTo>
                <a:lnTo>
                  <a:pt x="496" y="84"/>
                </a:lnTo>
                <a:lnTo>
                  <a:pt x="484" y="73"/>
                </a:lnTo>
                <a:lnTo>
                  <a:pt x="475" y="65"/>
                </a:lnTo>
                <a:lnTo>
                  <a:pt x="463" y="55"/>
                </a:lnTo>
                <a:lnTo>
                  <a:pt x="440" y="40"/>
                </a:lnTo>
                <a:lnTo>
                  <a:pt x="429" y="34"/>
                </a:lnTo>
                <a:lnTo>
                  <a:pt x="417" y="27"/>
                </a:lnTo>
                <a:lnTo>
                  <a:pt x="404" y="21"/>
                </a:lnTo>
                <a:lnTo>
                  <a:pt x="390" y="17"/>
                </a:lnTo>
                <a:lnTo>
                  <a:pt x="377" y="11"/>
                </a:lnTo>
                <a:lnTo>
                  <a:pt x="361" y="7"/>
                </a:lnTo>
                <a:lnTo>
                  <a:pt x="348" y="5"/>
                </a:lnTo>
                <a:lnTo>
                  <a:pt x="333" y="2"/>
                </a:lnTo>
                <a:lnTo>
                  <a:pt x="319" y="0"/>
                </a:lnTo>
                <a:lnTo>
                  <a:pt x="260" y="0"/>
                </a:lnTo>
                <a:lnTo>
                  <a:pt x="246" y="2"/>
                </a:lnTo>
                <a:lnTo>
                  <a:pt x="233" y="5"/>
                </a:lnTo>
                <a:lnTo>
                  <a:pt x="217" y="7"/>
                </a:lnTo>
                <a:lnTo>
                  <a:pt x="202" y="11"/>
                </a:lnTo>
                <a:lnTo>
                  <a:pt x="189" y="17"/>
                </a:lnTo>
                <a:lnTo>
                  <a:pt x="177" y="21"/>
                </a:lnTo>
                <a:lnTo>
                  <a:pt x="164" y="27"/>
                </a:lnTo>
                <a:lnTo>
                  <a:pt x="152" y="34"/>
                </a:lnTo>
                <a:lnTo>
                  <a:pt x="139" y="40"/>
                </a:lnTo>
                <a:lnTo>
                  <a:pt x="116" y="55"/>
                </a:lnTo>
                <a:lnTo>
                  <a:pt x="106" y="65"/>
                </a:lnTo>
                <a:lnTo>
                  <a:pt x="94" y="73"/>
                </a:lnTo>
                <a:lnTo>
                  <a:pt x="73" y="94"/>
                </a:lnTo>
                <a:lnTo>
                  <a:pt x="66" y="105"/>
                </a:lnTo>
                <a:lnTo>
                  <a:pt x="56" y="115"/>
                </a:lnTo>
                <a:lnTo>
                  <a:pt x="41" y="138"/>
                </a:lnTo>
                <a:lnTo>
                  <a:pt x="35" y="151"/>
                </a:lnTo>
                <a:lnTo>
                  <a:pt x="27" y="163"/>
                </a:lnTo>
                <a:lnTo>
                  <a:pt x="21" y="176"/>
                </a:lnTo>
                <a:lnTo>
                  <a:pt x="18" y="188"/>
                </a:lnTo>
                <a:lnTo>
                  <a:pt x="12" y="201"/>
                </a:lnTo>
                <a:lnTo>
                  <a:pt x="8" y="217"/>
                </a:lnTo>
                <a:lnTo>
                  <a:pt x="6" y="232"/>
                </a:lnTo>
                <a:lnTo>
                  <a:pt x="2" y="245"/>
                </a:lnTo>
                <a:lnTo>
                  <a:pt x="0" y="259"/>
                </a:lnTo>
                <a:lnTo>
                  <a:pt x="0" y="290"/>
                </a:lnTo>
                <a:lnTo>
                  <a:pt x="8" y="290"/>
                </a:lnTo>
                <a:lnTo>
                  <a:pt x="8" y="259"/>
                </a:lnTo>
                <a:lnTo>
                  <a:pt x="10" y="245"/>
                </a:lnTo>
                <a:lnTo>
                  <a:pt x="14" y="232"/>
                </a:lnTo>
                <a:lnTo>
                  <a:pt x="16" y="217"/>
                </a:lnTo>
                <a:lnTo>
                  <a:pt x="20" y="205"/>
                </a:lnTo>
                <a:lnTo>
                  <a:pt x="25" y="192"/>
                </a:lnTo>
                <a:lnTo>
                  <a:pt x="29" y="180"/>
                </a:lnTo>
                <a:lnTo>
                  <a:pt x="35" y="167"/>
                </a:lnTo>
                <a:lnTo>
                  <a:pt x="43" y="155"/>
                </a:lnTo>
                <a:lnTo>
                  <a:pt x="48" y="142"/>
                </a:lnTo>
                <a:lnTo>
                  <a:pt x="64" y="119"/>
                </a:lnTo>
                <a:lnTo>
                  <a:pt x="73" y="109"/>
                </a:lnTo>
                <a:lnTo>
                  <a:pt x="81" y="98"/>
                </a:lnTo>
                <a:lnTo>
                  <a:pt x="98" y="80"/>
                </a:lnTo>
                <a:lnTo>
                  <a:pt x="110" y="73"/>
                </a:lnTo>
                <a:lnTo>
                  <a:pt x="119" y="63"/>
                </a:lnTo>
                <a:lnTo>
                  <a:pt x="142" y="48"/>
                </a:lnTo>
                <a:lnTo>
                  <a:pt x="156" y="42"/>
                </a:lnTo>
                <a:lnTo>
                  <a:pt x="167" y="34"/>
                </a:lnTo>
                <a:lnTo>
                  <a:pt x="181" y="28"/>
                </a:lnTo>
                <a:lnTo>
                  <a:pt x="192" y="25"/>
                </a:lnTo>
                <a:lnTo>
                  <a:pt x="206" y="19"/>
                </a:lnTo>
                <a:lnTo>
                  <a:pt x="217" y="15"/>
                </a:lnTo>
                <a:lnTo>
                  <a:pt x="233" y="13"/>
                </a:lnTo>
                <a:lnTo>
                  <a:pt x="246" y="9"/>
                </a:lnTo>
                <a:lnTo>
                  <a:pt x="260" y="7"/>
                </a:lnTo>
                <a:lnTo>
                  <a:pt x="290" y="7"/>
                </a:lnTo>
                <a:lnTo>
                  <a:pt x="319" y="7"/>
                </a:lnTo>
                <a:lnTo>
                  <a:pt x="333" y="9"/>
                </a:lnTo>
                <a:lnTo>
                  <a:pt x="348" y="13"/>
                </a:lnTo>
                <a:lnTo>
                  <a:pt x="361" y="15"/>
                </a:lnTo>
                <a:lnTo>
                  <a:pt x="373" y="19"/>
                </a:lnTo>
                <a:lnTo>
                  <a:pt x="386" y="25"/>
                </a:lnTo>
                <a:lnTo>
                  <a:pt x="400" y="28"/>
                </a:lnTo>
                <a:lnTo>
                  <a:pt x="413" y="34"/>
                </a:lnTo>
                <a:lnTo>
                  <a:pt x="425" y="42"/>
                </a:lnTo>
                <a:lnTo>
                  <a:pt x="436" y="48"/>
                </a:lnTo>
                <a:lnTo>
                  <a:pt x="459" y="63"/>
                </a:lnTo>
                <a:lnTo>
                  <a:pt x="471" y="73"/>
                </a:lnTo>
                <a:lnTo>
                  <a:pt x="481" y="80"/>
                </a:lnTo>
                <a:lnTo>
                  <a:pt x="492" y="88"/>
                </a:lnTo>
                <a:lnTo>
                  <a:pt x="500" y="98"/>
                </a:lnTo>
                <a:lnTo>
                  <a:pt x="507" y="109"/>
                </a:lnTo>
                <a:lnTo>
                  <a:pt x="517" y="119"/>
                </a:lnTo>
                <a:lnTo>
                  <a:pt x="532" y="142"/>
                </a:lnTo>
                <a:lnTo>
                  <a:pt x="538" y="155"/>
                </a:lnTo>
                <a:lnTo>
                  <a:pt x="546" y="167"/>
                </a:lnTo>
                <a:lnTo>
                  <a:pt x="552" y="180"/>
                </a:lnTo>
                <a:lnTo>
                  <a:pt x="555" y="192"/>
                </a:lnTo>
                <a:lnTo>
                  <a:pt x="561" y="205"/>
                </a:lnTo>
                <a:lnTo>
                  <a:pt x="565" y="217"/>
                </a:lnTo>
                <a:lnTo>
                  <a:pt x="567" y="232"/>
                </a:lnTo>
                <a:lnTo>
                  <a:pt x="571" y="245"/>
                </a:lnTo>
                <a:lnTo>
                  <a:pt x="573" y="259"/>
                </a:lnTo>
                <a:lnTo>
                  <a:pt x="573" y="274"/>
                </a:lnTo>
                <a:lnTo>
                  <a:pt x="575" y="290"/>
                </a:lnTo>
                <a:lnTo>
                  <a:pt x="573" y="303"/>
                </a:lnTo>
                <a:lnTo>
                  <a:pt x="573" y="318"/>
                </a:lnTo>
                <a:lnTo>
                  <a:pt x="571" y="332"/>
                </a:lnTo>
                <a:lnTo>
                  <a:pt x="567" y="347"/>
                </a:lnTo>
                <a:lnTo>
                  <a:pt x="565" y="361"/>
                </a:lnTo>
                <a:lnTo>
                  <a:pt x="561" y="372"/>
                </a:lnTo>
                <a:lnTo>
                  <a:pt x="555" y="386"/>
                </a:lnTo>
                <a:lnTo>
                  <a:pt x="552" y="399"/>
                </a:lnTo>
                <a:lnTo>
                  <a:pt x="546" y="413"/>
                </a:lnTo>
                <a:lnTo>
                  <a:pt x="538" y="424"/>
                </a:lnTo>
                <a:lnTo>
                  <a:pt x="532" y="436"/>
                </a:lnTo>
                <a:lnTo>
                  <a:pt x="517" y="459"/>
                </a:lnTo>
                <a:lnTo>
                  <a:pt x="507" y="470"/>
                </a:lnTo>
                <a:lnTo>
                  <a:pt x="500" y="480"/>
                </a:lnTo>
                <a:lnTo>
                  <a:pt x="492" y="491"/>
                </a:lnTo>
                <a:lnTo>
                  <a:pt x="481" y="499"/>
                </a:lnTo>
                <a:lnTo>
                  <a:pt x="471" y="507"/>
                </a:lnTo>
                <a:lnTo>
                  <a:pt x="459" y="516"/>
                </a:lnTo>
                <a:lnTo>
                  <a:pt x="436" y="532"/>
                </a:lnTo>
                <a:lnTo>
                  <a:pt x="425" y="537"/>
                </a:lnTo>
                <a:lnTo>
                  <a:pt x="413" y="545"/>
                </a:lnTo>
                <a:lnTo>
                  <a:pt x="400" y="551"/>
                </a:lnTo>
                <a:lnTo>
                  <a:pt x="386" y="555"/>
                </a:lnTo>
                <a:lnTo>
                  <a:pt x="373" y="560"/>
                </a:lnTo>
                <a:lnTo>
                  <a:pt x="361" y="564"/>
                </a:lnTo>
                <a:lnTo>
                  <a:pt x="348" y="566"/>
                </a:lnTo>
                <a:lnTo>
                  <a:pt x="333" y="570"/>
                </a:lnTo>
                <a:lnTo>
                  <a:pt x="319" y="572"/>
                </a:lnTo>
                <a:lnTo>
                  <a:pt x="304" y="572"/>
                </a:lnTo>
                <a:lnTo>
                  <a:pt x="290" y="574"/>
                </a:lnTo>
                <a:lnTo>
                  <a:pt x="275" y="572"/>
                </a:lnTo>
                <a:lnTo>
                  <a:pt x="260" y="572"/>
                </a:lnTo>
                <a:lnTo>
                  <a:pt x="246" y="570"/>
                </a:lnTo>
                <a:lnTo>
                  <a:pt x="233" y="566"/>
                </a:lnTo>
                <a:lnTo>
                  <a:pt x="217" y="564"/>
                </a:lnTo>
                <a:lnTo>
                  <a:pt x="206" y="560"/>
                </a:lnTo>
                <a:lnTo>
                  <a:pt x="192" y="555"/>
                </a:lnTo>
                <a:lnTo>
                  <a:pt x="181" y="551"/>
                </a:lnTo>
                <a:lnTo>
                  <a:pt x="167" y="545"/>
                </a:lnTo>
                <a:lnTo>
                  <a:pt x="156" y="537"/>
                </a:lnTo>
                <a:lnTo>
                  <a:pt x="142" y="532"/>
                </a:lnTo>
                <a:lnTo>
                  <a:pt x="119" y="516"/>
                </a:lnTo>
                <a:lnTo>
                  <a:pt x="110" y="507"/>
                </a:lnTo>
                <a:lnTo>
                  <a:pt x="98" y="499"/>
                </a:lnTo>
                <a:lnTo>
                  <a:pt x="89" y="491"/>
                </a:lnTo>
                <a:lnTo>
                  <a:pt x="81" y="480"/>
                </a:lnTo>
                <a:lnTo>
                  <a:pt x="73" y="470"/>
                </a:lnTo>
                <a:lnTo>
                  <a:pt x="64" y="459"/>
                </a:lnTo>
                <a:lnTo>
                  <a:pt x="48" y="436"/>
                </a:lnTo>
                <a:lnTo>
                  <a:pt x="43" y="424"/>
                </a:lnTo>
                <a:lnTo>
                  <a:pt x="35" y="413"/>
                </a:lnTo>
                <a:lnTo>
                  <a:pt x="29" y="399"/>
                </a:lnTo>
                <a:lnTo>
                  <a:pt x="25" y="386"/>
                </a:lnTo>
                <a:lnTo>
                  <a:pt x="20" y="372"/>
                </a:lnTo>
                <a:lnTo>
                  <a:pt x="16" y="361"/>
                </a:lnTo>
                <a:lnTo>
                  <a:pt x="14" y="347"/>
                </a:lnTo>
                <a:lnTo>
                  <a:pt x="10" y="332"/>
                </a:lnTo>
                <a:lnTo>
                  <a:pt x="8" y="318"/>
                </a:lnTo>
                <a:lnTo>
                  <a:pt x="8" y="290"/>
                </a:lnTo>
                <a:lnTo>
                  <a:pt x="0"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Freeform 43"/>
          <p:cNvSpPr/>
          <p:nvPr/>
        </p:nvSpPr>
        <p:spPr>
          <a:xfrm>
            <a:off x="7783560" y="2365200"/>
            <a:ext cx="554040" cy="4259520"/>
          </a:xfrm>
          <a:custGeom>
            <a:avLst/>
            <a:gdLst>
              <a:gd name="textAreaLeft" fmla="*/ 0 w 554040"/>
              <a:gd name="textAreaRight" fmla="*/ 554400 w 554040"/>
              <a:gd name="textAreaTop" fmla="*/ 0 h 4259520"/>
              <a:gd name="textAreaBottom" fmla="*/ 4259520 h 4259520"/>
            </a:gdLst>
            <a:ahLst/>
            <a:rect l="textAreaLeft" t="textAreaTop" r="textAreaRight" b="textAreaBottom"/>
            <a:pathLst>
              <a:path w="349" h="2683">
                <a:moveTo>
                  <a:pt x="4" y="0"/>
                </a:moveTo>
                <a:lnTo>
                  <a:pt x="2" y="0"/>
                </a:lnTo>
                <a:lnTo>
                  <a:pt x="2" y="2"/>
                </a:lnTo>
                <a:lnTo>
                  <a:pt x="0" y="2"/>
                </a:lnTo>
                <a:lnTo>
                  <a:pt x="0" y="2681"/>
                </a:lnTo>
                <a:lnTo>
                  <a:pt x="2" y="2681"/>
                </a:lnTo>
                <a:lnTo>
                  <a:pt x="2" y="2683"/>
                </a:lnTo>
                <a:lnTo>
                  <a:pt x="348" y="2683"/>
                </a:lnTo>
                <a:lnTo>
                  <a:pt x="348" y="2681"/>
                </a:lnTo>
                <a:lnTo>
                  <a:pt x="349" y="2681"/>
                </a:lnTo>
                <a:lnTo>
                  <a:pt x="349" y="2"/>
                </a:lnTo>
                <a:lnTo>
                  <a:pt x="348" y="2"/>
                </a:lnTo>
                <a:lnTo>
                  <a:pt x="348" y="0"/>
                </a:lnTo>
                <a:lnTo>
                  <a:pt x="346" y="0"/>
                </a:lnTo>
                <a:lnTo>
                  <a:pt x="4" y="0"/>
                </a:lnTo>
                <a:lnTo>
                  <a:pt x="4" y="8"/>
                </a:lnTo>
                <a:lnTo>
                  <a:pt x="346" y="8"/>
                </a:lnTo>
                <a:lnTo>
                  <a:pt x="342" y="4"/>
                </a:lnTo>
                <a:lnTo>
                  <a:pt x="342" y="2679"/>
                </a:lnTo>
                <a:lnTo>
                  <a:pt x="346" y="2675"/>
                </a:lnTo>
                <a:lnTo>
                  <a:pt x="4" y="2675"/>
                </a:lnTo>
                <a:lnTo>
                  <a:pt x="8" y="2679"/>
                </a:lnTo>
                <a:lnTo>
                  <a:pt x="8" y="4"/>
                </a:lnTo>
                <a:lnTo>
                  <a:pt x="4" y="8"/>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Freeform 44"/>
          <p:cNvSpPr/>
          <p:nvPr/>
        </p:nvSpPr>
        <p:spPr>
          <a:xfrm>
            <a:off x="6340320" y="2362320"/>
            <a:ext cx="1449720" cy="4255920"/>
          </a:xfrm>
          <a:custGeom>
            <a:avLst/>
            <a:gdLst>
              <a:gd name="textAreaLeft" fmla="*/ 0 w 1449720"/>
              <a:gd name="textAreaRight" fmla="*/ 1450080 w 1449720"/>
              <a:gd name="textAreaTop" fmla="*/ 0 h 4255920"/>
              <a:gd name="textAreaBottom" fmla="*/ 4256280 h 4255920"/>
            </a:gdLst>
            <a:ahLst/>
            <a:rect l="textAreaLeft" t="textAreaTop" r="textAreaRight" b="textAreaBottom"/>
            <a:pathLst>
              <a:path w="913" h="2681">
                <a:moveTo>
                  <a:pt x="694" y="2681"/>
                </a:moveTo>
                <a:lnTo>
                  <a:pt x="913" y="2681"/>
                </a:lnTo>
                <a:lnTo>
                  <a:pt x="913" y="6"/>
                </a:lnTo>
                <a:lnTo>
                  <a:pt x="64" y="0"/>
                </a:lnTo>
                <a:lnTo>
                  <a:pt x="14" y="36"/>
                </a:lnTo>
                <a:lnTo>
                  <a:pt x="25" y="81"/>
                </a:lnTo>
                <a:lnTo>
                  <a:pt x="8" y="86"/>
                </a:lnTo>
                <a:lnTo>
                  <a:pt x="100" y="125"/>
                </a:lnTo>
                <a:lnTo>
                  <a:pt x="14" y="150"/>
                </a:lnTo>
                <a:lnTo>
                  <a:pt x="0" y="194"/>
                </a:lnTo>
                <a:lnTo>
                  <a:pt x="75" y="211"/>
                </a:lnTo>
                <a:lnTo>
                  <a:pt x="100" y="250"/>
                </a:lnTo>
                <a:lnTo>
                  <a:pt x="150" y="250"/>
                </a:lnTo>
                <a:lnTo>
                  <a:pt x="14" y="280"/>
                </a:lnTo>
                <a:lnTo>
                  <a:pt x="33" y="330"/>
                </a:lnTo>
                <a:lnTo>
                  <a:pt x="25" y="361"/>
                </a:lnTo>
                <a:lnTo>
                  <a:pt x="33" y="386"/>
                </a:lnTo>
                <a:lnTo>
                  <a:pt x="25" y="436"/>
                </a:lnTo>
                <a:lnTo>
                  <a:pt x="64" y="461"/>
                </a:lnTo>
                <a:lnTo>
                  <a:pt x="544" y="492"/>
                </a:lnTo>
                <a:lnTo>
                  <a:pt x="58" y="566"/>
                </a:lnTo>
                <a:lnTo>
                  <a:pt x="70" y="599"/>
                </a:lnTo>
                <a:lnTo>
                  <a:pt x="125" y="630"/>
                </a:lnTo>
                <a:lnTo>
                  <a:pt x="125" y="705"/>
                </a:lnTo>
                <a:lnTo>
                  <a:pt x="194" y="735"/>
                </a:lnTo>
                <a:lnTo>
                  <a:pt x="189" y="766"/>
                </a:lnTo>
                <a:lnTo>
                  <a:pt x="283" y="780"/>
                </a:lnTo>
                <a:lnTo>
                  <a:pt x="200" y="785"/>
                </a:lnTo>
                <a:lnTo>
                  <a:pt x="169" y="830"/>
                </a:lnTo>
                <a:lnTo>
                  <a:pt x="189" y="855"/>
                </a:lnTo>
                <a:lnTo>
                  <a:pt x="183" y="885"/>
                </a:lnTo>
                <a:lnTo>
                  <a:pt x="275" y="954"/>
                </a:lnTo>
                <a:lnTo>
                  <a:pt x="319" y="954"/>
                </a:lnTo>
                <a:lnTo>
                  <a:pt x="194" y="966"/>
                </a:lnTo>
                <a:lnTo>
                  <a:pt x="194" y="1066"/>
                </a:lnTo>
                <a:lnTo>
                  <a:pt x="183" y="1104"/>
                </a:lnTo>
                <a:lnTo>
                  <a:pt x="214" y="1116"/>
                </a:lnTo>
                <a:lnTo>
                  <a:pt x="258" y="1160"/>
                </a:lnTo>
                <a:lnTo>
                  <a:pt x="333" y="1166"/>
                </a:lnTo>
                <a:lnTo>
                  <a:pt x="314" y="1179"/>
                </a:lnTo>
                <a:lnTo>
                  <a:pt x="333" y="1185"/>
                </a:lnTo>
                <a:lnTo>
                  <a:pt x="250" y="1210"/>
                </a:lnTo>
                <a:lnTo>
                  <a:pt x="283" y="1229"/>
                </a:lnTo>
                <a:lnTo>
                  <a:pt x="258" y="1241"/>
                </a:lnTo>
                <a:lnTo>
                  <a:pt x="258" y="1279"/>
                </a:lnTo>
                <a:lnTo>
                  <a:pt x="400" y="1279"/>
                </a:lnTo>
                <a:lnTo>
                  <a:pt x="406" y="1340"/>
                </a:lnTo>
                <a:lnTo>
                  <a:pt x="388" y="1385"/>
                </a:lnTo>
                <a:lnTo>
                  <a:pt x="338" y="1410"/>
                </a:lnTo>
                <a:lnTo>
                  <a:pt x="258" y="1429"/>
                </a:lnTo>
                <a:lnTo>
                  <a:pt x="344" y="1454"/>
                </a:lnTo>
                <a:lnTo>
                  <a:pt x="394" y="1454"/>
                </a:lnTo>
                <a:lnTo>
                  <a:pt x="413" y="1504"/>
                </a:lnTo>
                <a:lnTo>
                  <a:pt x="444" y="1521"/>
                </a:lnTo>
                <a:lnTo>
                  <a:pt x="425" y="1554"/>
                </a:lnTo>
                <a:lnTo>
                  <a:pt x="431" y="1604"/>
                </a:lnTo>
                <a:lnTo>
                  <a:pt x="431" y="1615"/>
                </a:lnTo>
                <a:lnTo>
                  <a:pt x="450" y="1634"/>
                </a:lnTo>
                <a:lnTo>
                  <a:pt x="294" y="1665"/>
                </a:lnTo>
                <a:lnTo>
                  <a:pt x="406" y="1701"/>
                </a:lnTo>
                <a:lnTo>
                  <a:pt x="419" y="1721"/>
                </a:lnTo>
                <a:lnTo>
                  <a:pt x="444" y="1721"/>
                </a:lnTo>
                <a:lnTo>
                  <a:pt x="444" y="1734"/>
                </a:lnTo>
                <a:lnTo>
                  <a:pt x="444" y="1771"/>
                </a:lnTo>
                <a:lnTo>
                  <a:pt x="463" y="1784"/>
                </a:lnTo>
                <a:lnTo>
                  <a:pt x="450" y="1821"/>
                </a:lnTo>
                <a:lnTo>
                  <a:pt x="488" y="1859"/>
                </a:lnTo>
                <a:lnTo>
                  <a:pt x="600" y="1945"/>
                </a:lnTo>
                <a:lnTo>
                  <a:pt x="600" y="2039"/>
                </a:lnTo>
                <a:lnTo>
                  <a:pt x="600" y="2109"/>
                </a:lnTo>
                <a:lnTo>
                  <a:pt x="630" y="2145"/>
                </a:lnTo>
                <a:lnTo>
                  <a:pt x="619" y="2220"/>
                </a:lnTo>
                <a:lnTo>
                  <a:pt x="630" y="2306"/>
                </a:lnTo>
                <a:lnTo>
                  <a:pt x="625" y="2345"/>
                </a:lnTo>
                <a:lnTo>
                  <a:pt x="655" y="2364"/>
                </a:lnTo>
                <a:lnTo>
                  <a:pt x="644" y="2439"/>
                </a:lnTo>
                <a:lnTo>
                  <a:pt x="650" y="2506"/>
                </a:lnTo>
                <a:lnTo>
                  <a:pt x="680" y="2545"/>
                </a:lnTo>
                <a:lnTo>
                  <a:pt x="688" y="2606"/>
                </a:lnTo>
                <a:lnTo>
                  <a:pt x="705" y="2625"/>
                </a:lnTo>
                <a:lnTo>
                  <a:pt x="705" y="2664"/>
                </a:lnTo>
                <a:lnTo>
                  <a:pt x="694" y="2681"/>
                </a:lnTo>
                <a:close/>
              </a:path>
            </a:pathLst>
          </a:custGeom>
          <a:solidFill>
            <a:srgbClr val="f9d3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Freeform 45"/>
          <p:cNvSpPr/>
          <p:nvPr/>
        </p:nvSpPr>
        <p:spPr>
          <a:xfrm>
            <a:off x="6335640" y="2355840"/>
            <a:ext cx="1460520" cy="4268880"/>
          </a:xfrm>
          <a:custGeom>
            <a:avLst/>
            <a:gdLst>
              <a:gd name="textAreaLeft" fmla="*/ 0 w 1460520"/>
              <a:gd name="textAreaRight" fmla="*/ 1460520 w 1460520"/>
              <a:gd name="textAreaTop" fmla="*/ 0 h 4268880"/>
              <a:gd name="textAreaBottom" fmla="*/ 4269240 h 4268880"/>
            </a:gdLst>
            <a:ahLst/>
            <a:rect l="textAreaLeft" t="textAreaTop" r="textAreaRight" b="textAreaBottom"/>
            <a:pathLst>
              <a:path w="920" h="2689">
                <a:moveTo>
                  <a:pt x="693" y="2683"/>
                </a:moveTo>
                <a:lnTo>
                  <a:pt x="693" y="2687"/>
                </a:lnTo>
                <a:lnTo>
                  <a:pt x="695" y="2689"/>
                </a:lnTo>
                <a:lnTo>
                  <a:pt x="918" y="2689"/>
                </a:lnTo>
                <a:lnTo>
                  <a:pt x="918" y="2687"/>
                </a:lnTo>
                <a:lnTo>
                  <a:pt x="920" y="2687"/>
                </a:lnTo>
                <a:lnTo>
                  <a:pt x="920" y="8"/>
                </a:lnTo>
                <a:lnTo>
                  <a:pt x="918" y="8"/>
                </a:lnTo>
                <a:lnTo>
                  <a:pt x="918" y="6"/>
                </a:lnTo>
                <a:lnTo>
                  <a:pt x="916" y="6"/>
                </a:lnTo>
                <a:lnTo>
                  <a:pt x="67" y="0"/>
                </a:lnTo>
                <a:lnTo>
                  <a:pt x="65" y="0"/>
                </a:lnTo>
                <a:lnTo>
                  <a:pt x="15" y="37"/>
                </a:lnTo>
                <a:lnTo>
                  <a:pt x="13" y="39"/>
                </a:lnTo>
                <a:lnTo>
                  <a:pt x="13" y="42"/>
                </a:lnTo>
                <a:lnTo>
                  <a:pt x="25" y="87"/>
                </a:lnTo>
                <a:lnTo>
                  <a:pt x="26" y="81"/>
                </a:lnTo>
                <a:lnTo>
                  <a:pt x="9" y="87"/>
                </a:lnTo>
                <a:lnTo>
                  <a:pt x="9" y="88"/>
                </a:lnTo>
                <a:lnTo>
                  <a:pt x="7" y="88"/>
                </a:lnTo>
                <a:lnTo>
                  <a:pt x="7" y="92"/>
                </a:lnTo>
                <a:lnTo>
                  <a:pt x="9" y="92"/>
                </a:lnTo>
                <a:lnTo>
                  <a:pt x="9" y="94"/>
                </a:lnTo>
                <a:lnTo>
                  <a:pt x="101" y="133"/>
                </a:lnTo>
                <a:lnTo>
                  <a:pt x="101" y="125"/>
                </a:lnTo>
                <a:lnTo>
                  <a:pt x="15" y="150"/>
                </a:lnTo>
                <a:lnTo>
                  <a:pt x="15" y="152"/>
                </a:lnTo>
                <a:lnTo>
                  <a:pt x="13" y="152"/>
                </a:lnTo>
                <a:lnTo>
                  <a:pt x="0" y="196"/>
                </a:lnTo>
                <a:lnTo>
                  <a:pt x="0" y="200"/>
                </a:lnTo>
                <a:lnTo>
                  <a:pt x="2" y="200"/>
                </a:lnTo>
                <a:lnTo>
                  <a:pt x="2" y="202"/>
                </a:lnTo>
                <a:lnTo>
                  <a:pt x="3" y="202"/>
                </a:lnTo>
                <a:lnTo>
                  <a:pt x="78" y="219"/>
                </a:lnTo>
                <a:lnTo>
                  <a:pt x="75" y="217"/>
                </a:lnTo>
                <a:lnTo>
                  <a:pt x="99" y="256"/>
                </a:lnTo>
                <a:lnTo>
                  <a:pt x="101" y="256"/>
                </a:lnTo>
                <a:lnTo>
                  <a:pt x="101" y="257"/>
                </a:lnTo>
                <a:lnTo>
                  <a:pt x="153" y="257"/>
                </a:lnTo>
                <a:lnTo>
                  <a:pt x="153" y="250"/>
                </a:lnTo>
                <a:lnTo>
                  <a:pt x="17" y="281"/>
                </a:lnTo>
                <a:lnTo>
                  <a:pt x="15" y="281"/>
                </a:lnTo>
                <a:lnTo>
                  <a:pt x="15" y="282"/>
                </a:lnTo>
                <a:lnTo>
                  <a:pt x="13" y="282"/>
                </a:lnTo>
                <a:lnTo>
                  <a:pt x="13" y="286"/>
                </a:lnTo>
                <a:lnTo>
                  <a:pt x="32" y="336"/>
                </a:lnTo>
                <a:lnTo>
                  <a:pt x="32" y="334"/>
                </a:lnTo>
                <a:lnTo>
                  <a:pt x="25" y="365"/>
                </a:lnTo>
                <a:lnTo>
                  <a:pt x="25" y="367"/>
                </a:lnTo>
                <a:lnTo>
                  <a:pt x="32" y="392"/>
                </a:lnTo>
                <a:lnTo>
                  <a:pt x="32" y="390"/>
                </a:lnTo>
                <a:lnTo>
                  <a:pt x="25" y="440"/>
                </a:lnTo>
                <a:lnTo>
                  <a:pt x="25" y="442"/>
                </a:lnTo>
                <a:lnTo>
                  <a:pt x="26" y="444"/>
                </a:lnTo>
                <a:lnTo>
                  <a:pt x="65" y="469"/>
                </a:lnTo>
                <a:lnTo>
                  <a:pt x="67" y="469"/>
                </a:lnTo>
                <a:lnTo>
                  <a:pt x="547" y="499"/>
                </a:lnTo>
                <a:lnTo>
                  <a:pt x="547" y="492"/>
                </a:lnTo>
                <a:lnTo>
                  <a:pt x="61" y="567"/>
                </a:lnTo>
                <a:lnTo>
                  <a:pt x="59" y="567"/>
                </a:lnTo>
                <a:lnTo>
                  <a:pt x="57" y="569"/>
                </a:lnTo>
                <a:lnTo>
                  <a:pt x="57" y="572"/>
                </a:lnTo>
                <a:lnTo>
                  <a:pt x="69" y="605"/>
                </a:lnTo>
                <a:lnTo>
                  <a:pt x="71" y="607"/>
                </a:lnTo>
                <a:lnTo>
                  <a:pt x="126" y="638"/>
                </a:lnTo>
                <a:lnTo>
                  <a:pt x="124" y="634"/>
                </a:lnTo>
                <a:lnTo>
                  <a:pt x="124" y="711"/>
                </a:lnTo>
                <a:lnTo>
                  <a:pt x="126" y="711"/>
                </a:lnTo>
                <a:lnTo>
                  <a:pt x="126" y="713"/>
                </a:lnTo>
                <a:lnTo>
                  <a:pt x="196" y="743"/>
                </a:lnTo>
                <a:lnTo>
                  <a:pt x="194" y="739"/>
                </a:lnTo>
                <a:lnTo>
                  <a:pt x="188" y="770"/>
                </a:lnTo>
                <a:lnTo>
                  <a:pt x="188" y="772"/>
                </a:lnTo>
                <a:lnTo>
                  <a:pt x="190" y="774"/>
                </a:lnTo>
                <a:lnTo>
                  <a:pt x="192" y="774"/>
                </a:lnTo>
                <a:lnTo>
                  <a:pt x="286" y="788"/>
                </a:lnTo>
                <a:lnTo>
                  <a:pt x="286" y="780"/>
                </a:lnTo>
                <a:lnTo>
                  <a:pt x="203" y="786"/>
                </a:lnTo>
                <a:lnTo>
                  <a:pt x="201" y="786"/>
                </a:lnTo>
                <a:lnTo>
                  <a:pt x="199" y="788"/>
                </a:lnTo>
                <a:lnTo>
                  <a:pt x="169" y="832"/>
                </a:lnTo>
                <a:lnTo>
                  <a:pt x="169" y="836"/>
                </a:lnTo>
                <a:lnTo>
                  <a:pt x="188" y="860"/>
                </a:lnTo>
                <a:lnTo>
                  <a:pt x="188" y="859"/>
                </a:lnTo>
                <a:lnTo>
                  <a:pt x="182" y="889"/>
                </a:lnTo>
                <a:lnTo>
                  <a:pt x="182" y="891"/>
                </a:lnTo>
                <a:lnTo>
                  <a:pt x="184" y="893"/>
                </a:lnTo>
                <a:lnTo>
                  <a:pt x="276" y="962"/>
                </a:lnTo>
                <a:lnTo>
                  <a:pt x="322" y="962"/>
                </a:lnTo>
                <a:lnTo>
                  <a:pt x="322" y="955"/>
                </a:lnTo>
                <a:lnTo>
                  <a:pt x="197" y="966"/>
                </a:lnTo>
                <a:lnTo>
                  <a:pt x="196" y="966"/>
                </a:lnTo>
                <a:lnTo>
                  <a:pt x="194" y="968"/>
                </a:lnTo>
                <a:lnTo>
                  <a:pt x="194" y="1070"/>
                </a:lnTo>
                <a:lnTo>
                  <a:pt x="194" y="1068"/>
                </a:lnTo>
                <a:lnTo>
                  <a:pt x="182" y="1106"/>
                </a:lnTo>
                <a:lnTo>
                  <a:pt x="182" y="1110"/>
                </a:lnTo>
                <a:lnTo>
                  <a:pt x="184" y="1110"/>
                </a:lnTo>
                <a:lnTo>
                  <a:pt x="184" y="1112"/>
                </a:lnTo>
                <a:lnTo>
                  <a:pt x="215" y="1124"/>
                </a:lnTo>
                <a:lnTo>
                  <a:pt x="215" y="1122"/>
                </a:lnTo>
                <a:lnTo>
                  <a:pt x="259" y="1166"/>
                </a:lnTo>
                <a:lnTo>
                  <a:pt x="259" y="1168"/>
                </a:lnTo>
                <a:lnTo>
                  <a:pt x="261" y="1168"/>
                </a:lnTo>
                <a:lnTo>
                  <a:pt x="336" y="1174"/>
                </a:lnTo>
                <a:lnTo>
                  <a:pt x="334" y="1166"/>
                </a:lnTo>
                <a:lnTo>
                  <a:pt x="315" y="1179"/>
                </a:lnTo>
                <a:lnTo>
                  <a:pt x="313" y="1181"/>
                </a:lnTo>
                <a:lnTo>
                  <a:pt x="313" y="1185"/>
                </a:lnTo>
                <a:lnTo>
                  <a:pt x="315" y="1187"/>
                </a:lnTo>
                <a:lnTo>
                  <a:pt x="334" y="1193"/>
                </a:lnTo>
                <a:lnTo>
                  <a:pt x="334" y="1185"/>
                </a:lnTo>
                <a:lnTo>
                  <a:pt x="251" y="1210"/>
                </a:lnTo>
                <a:lnTo>
                  <a:pt x="251" y="1212"/>
                </a:lnTo>
                <a:lnTo>
                  <a:pt x="249" y="1212"/>
                </a:lnTo>
                <a:lnTo>
                  <a:pt x="249" y="1216"/>
                </a:lnTo>
                <a:lnTo>
                  <a:pt x="251" y="1216"/>
                </a:lnTo>
                <a:lnTo>
                  <a:pt x="251" y="1218"/>
                </a:lnTo>
                <a:lnTo>
                  <a:pt x="284" y="1237"/>
                </a:lnTo>
                <a:lnTo>
                  <a:pt x="284" y="1229"/>
                </a:lnTo>
                <a:lnTo>
                  <a:pt x="259" y="1241"/>
                </a:lnTo>
                <a:lnTo>
                  <a:pt x="257" y="1243"/>
                </a:lnTo>
                <a:lnTo>
                  <a:pt x="257" y="1285"/>
                </a:lnTo>
                <a:lnTo>
                  <a:pt x="259" y="1285"/>
                </a:lnTo>
                <a:lnTo>
                  <a:pt x="259" y="1287"/>
                </a:lnTo>
                <a:lnTo>
                  <a:pt x="403" y="1287"/>
                </a:lnTo>
                <a:lnTo>
                  <a:pt x="399" y="1283"/>
                </a:lnTo>
                <a:lnTo>
                  <a:pt x="405" y="1344"/>
                </a:lnTo>
                <a:lnTo>
                  <a:pt x="405" y="1343"/>
                </a:lnTo>
                <a:lnTo>
                  <a:pt x="388" y="1387"/>
                </a:lnTo>
                <a:lnTo>
                  <a:pt x="389" y="1385"/>
                </a:lnTo>
                <a:lnTo>
                  <a:pt x="340" y="1410"/>
                </a:lnTo>
                <a:lnTo>
                  <a:pt x="341" y="1410"/>
                </a:lnTo>
                <a:lnTo>
                  <a:pt x="261" y="1429"/>
                </a:lnTo>
                <a:lnTo>
                  <a:pt x="259" y="1429"/>
                </a:lnTo>
                <a:lnTo>
                  <a:pt x="259" y="1431"/>
                </a:lnTo>
                <a:lnTo>
                  <a:pt x="257" y="1431"/>
                </a:lnTo>
                <a:lnTo>
                  <a:pt x="257" y="1435"/>
                </a:lnTo>
                <a:lnTo>
                  <a:pt x="259" y="1435"/>
                </a:lnTo>
                <a:lnTo>
                  <a:pt x="259" y="1437"/>
                </a:lnTo>
                <a:lnTo>
                  <a:pt x="345" y="1462"/>
                </a:lnTo>
                <a:lnTo>
                  <a:pt x="397" y="1462"/>
                </a:lnTo>
                <a:lnTo>
                  <a:pt x="393" y="1460"/>
                </a:lnTo>
                <a:lnTo>
                  <a:pt x="413" y="1510"/>
                </a:lnTo>
                <a:lnTo>
                  <a:pt x="414" y="1512"/>
                </a:lnTo>
                <a:lnTo>
                  <a:pt x="445" y="1529"/>
                </a:lnTo>
                <a:lnTo>
                  <a:pt x="443" y="1523"/>
                </a:lnTo>
                <a:lnTo>
                  <a:pt x="424" y="1556"/>
                </a:lnTo>
                <a:lnTo>
                  <a:pt x="424" y="1558"/>
                </a:lnTo>
                <a:lnTo>
                  <a:pt x="430" y="1608"/>
                </a:lnTo>
                <a:lnTo>
                  <a:pt x="430" y="1621"/>
                </a:lnTo>
                <a:lnTo>
                  <a:pt x="432" y="1621"/>
                </a:lnTo>
                <a:lnTo>
                  <a:pt x="451" y="1640"/>
                </a:lnTo>
                <a:lnTo>
                  <a:pt x="453" y="1634"/>
                </a:lnTo>
                <a:lnTo>
                  <a:pt x="297" y="1665"/>
                </a:lnTo>
                <a:lnTo>
                  <a:pt x="295" y="1665"/>
                </a:lnTo>
                <a:lnTo>
                  <a:pt x="293" y="1667"/>
                </a:lnTo>
                <a:lnTo>
                  <a:pt x="293" y="1671"/>
                </a:lnTo>
                <a:lnTo>
                  <a:pt x="295" y="1673"/>
                </a:lnTo>
                <a:lnTo>
                  <a:pt x="407" y="1709"/>
                </a:lnTo>
                <a:lnTo>
                  <a:pt x="405" y="1707"/>
                </a:lnTo>
                <a:lnTo>
                  <a:pt x="418" y="1727"/>
                </a:lnTo>
                <a:lnTo>
                  <a:pt x="420" y="1729"/>
                </a:lnTo>
                <a:lnTo>
                  <a:pt x="447" y="1729"/>
                </a:lnTo>
                <a:lnTo>
                  <a:pt x="443" y="1725"/>
                </a:lnTo>
                <a:lnTo>
                  <a:pt x="443" y="1777"/>
                </a:lnTo>
                <a:lnTo>
                  <a:pt x="445" y="1777"/>
                </a:lnTo>
                <a:lnTo>
                  <a:pt x="445" y="1778"/>
                </a:lnTo>
                <a:lnTo>
                  <a:pt x="464" y="1792"/>
                </a:lnTo>
                <a:lnTo>
                  <a:pt x="462" y="1786"/>
                </a:lnTo>
                <a:lnTo>
                  <a:pt x="449" y="1823"/>
                </a:lnTo>
                <a:lnTo>
                  <a:pt x="449" y="1826"/>
                </a:lnTo>
                <a:lnTo>
                  <a:pt x="451" y="1826"/>
                </a:lnTo>
                <a:lnTo>
                  <a:pt x="489" y="1865"/>
                </a:lnTo>
                <a:lnTo>
                  <a:pt x="489" y="1867"/>
                </a:lnTo>
                <a:lnTo>
                  <a:pt x="601" y="1953"/>
                </a:lnTo>
                <a:lnTo>
                  <a:pt x="599" y="1949"/>
                </a:lnTo>
                <a:lnTo>
                  <a:pt x="599" y="2115"/>
                </a:lnTo>
                <a:lnTo>
                  <a:pt x="630" y="2151"/>
                </a:lnTo>
                <a:lnTo>
                  <a:pt x="630" y="2149"/>
                </a:lnTo>
                <a:lnTo>
                  <a:pt x="618" y="2224"/>
                </a:lnTo>
                <a:lnTo>
                  <a:pt x="630" y="2310"/>
                </a:lnTo>
                <a:lnTo>
                  <a:pt x="624" y="2349"/>
                </a:lnTo>
                <a:lnTo>
                  <a:pt x="624" y="2351"/>
                </a:lnTo>
                <a:lnTo>
                  <a:pt x="626" y="2353"/>
                </a:lnTo>
                <a:lnTo>
                  <a:pt x="656" y="2372"/>
                </a:lnTo>
                <a:lnTo>
                  <a:pt x="655" y="2368"/>
                </a:lnTo>
                <a:lnTo>
                  <a:pt x="643" y="2443"/>
                </a:lnTo>
                <a:lnTo>
                  <a:pt x="649" y="2510"/>
                </a:lnTo>
                <a:lnTo>
                  <a:pt x="649" y="2512"/>
                </a:lnTo>
                <a:lnTo>
                  <a:pt x="680" y="2550"/>
                </a:lnTo>
                <a:lnTo>
                  <a:pt x="680" y="2549"/>
                </a:lnTo>
                <a:lnTo>
                  <a:pt x="687" y="2610"/>
                </a:lnTo>
                <a:lnTo>
                  <a:pt x="687" y="2612"/>
                </a:lnTo>
                <a:lnTo>
                  <a:pt x="689" y="2612"/>
                </a:lnTo>
                <a:lnTo>
                  <a:pt x="706" y="2631"/>
                </a:lnTo>
                <a:lnTo>
                  <a:pt x="704" y="2629"/>
                </a:lnTo>
                <a:lnTo>
                  <a:pt x="704" y="2668"/>
                </a:lnTo>
                <a:lnTo>
                  <a:pt x="704" y="2666"/>
                </a:lnTo>
                <a:lnTo>
                  <a:pt x="693" y="2683"/>
                </a:lnTo>
                <a:lnTo>
                  <a:pt x="701" y="2687"/>
                </a:lnTo>
                <a:lnTo>
                  <a:pt x="712" y="2670"/>
                </a:lnTo>
                <a:lnTo>
                  <a:pt x="712" y="2668"/>
                </a:lnTo>
                <a:lnTo>
                  <a:pt x="712" y="2629"/>
                </a:lnTo>
                <a:lnTo>
                  <a:pt x="712" y="2627"/>
                </a:lnTo>
                <a:lnTo>
                  <a:pt x="710" y="2627"/>
                </a:lnTo>
                <a:lnTo>
                  <a:pt x="693" y="2608"/>
                </a:lnTo>
                <a:lnTo>
                  <a:pt x="695" y="2610"/>
                </a:lnTo>
                <a:lnTo>
                  <a:pt x="687" y="2549"/>
                </a:lnTo>
                <a:lnTo>
                  <a:pt x="687" y="2547"/>
                </a:lnTo>
                <a:lnTo>
                  <a:pt x="656" y="2508"/>
                </a:lnTo>
                <a:lnTo>
                  <a:pt x="656" y="2510"/>
                </a:lnTo>
                <a:lnTo>
                  <a:pt x="651" y="2443"/>
                </a:lnTo>
                <a:lnTo>
                  <a:pt x="662" y="2368"/>
                </a:lnTo>
                <a:lnTo>
                  <a:pt x="662" y="2366"/>
                </a:lnTo>
                <a:lnTo>
                  <a:pt x="660" y="2366"/>
                </a:lnTo>
                <a:lnTo>
                  <a:pt x="660" y="2364"/>
                </a:lnTo>
                <a:lnTo>
                  <a:pt x="630" y="2345"/>
                </a:lnTo>
                <a:lnTo>
                  <a:pt x="631" y="2349"/>
                </a:lnTo>
                <a:lnTo>
                  <a:pt x="637" y="2310"/>
                </a:lnTo>
                <a:lnTo>
                  <a:pt x="626" y="2224"/>
                </a:lnTo>
                <a:lnTo>
                  <a:pt x="637" y="2149"/>
                </a:lnTo>
                <a:lnTo>
                  <a:pt x="637" y="2147"/>
                </a:lnTo>
                <a:lnTo>
                  <a:pt x="607" y="2111"/>
                </a:lnTo>
                <a:lnTo>
                  <a:pt x="607" y="2113"/>
                </a:lnTo>
                <a:lnTo>
                  <a:pt x="607" y="1949"/>
                </a:lnTo>
                <a:lnTo>
                  <a:pt x="607" y="1947"/>
                </a:lnTo>
                <a:lnTo>
                  <a:pt x="605" y="1946"/>
                </a:lnTo>
                <a:lnTo>
                  <a:pt x="493" y="1859"/>
                </a:lnTo>
                <a:lnTo>
                  <a:pt x="493" y="1861"/>
                </a:lnTo>
                <a:lnTo>
                  <a:pt x="455" y="1823"/>
                </a:lnTo>
                <a:lnTo>
                  <a:pt x="457" y="1826"/>
                </a:lnTo>
                <a:lnTo>
                  <a:pt x="470" y="1790"/>
                </a:lnTo>
                <a:lnTo>
                  <a:pt x="470" y="1788"/>
                </a:lnTo>
                <a:lnTo>
                  <a:pt x="470" y="1786"/>
                </a:lnTo>
                <a:lnTo>
                  <a:pt x="468" y="1784"/>
                </a:lnTo>
                <a:lnTo>
                  <a:pt x="449" y="1771"/>
                </a:lnTo>
                <a:lnTo>
                  <a:pt x="451" y="1775"/>
                </a:lnTo>
                <a:lnTo>
                  <a:pt x="451" y="1725"/>
                </a:lnTo>
                <a:lnTo>
                  <a:pt x="451" y="1723"/>
                </a:lnTo>
                <a:lnTo>
                  <a:pt x="449" y="1723"/>
                </a:lnTo>
                <a:lnTo>
                  <a:pt x="449" y="1721"/>
                </a:lnTo>
                <a:lnTo>
                  <a:pt x="447" y="1721"/>
                </a:lnTo>
                <a:lnTo>
                  <a:pt x="422" y="1721"/>
                </a:lnTo>
                <a:lnTo>
                  <a:pt x="426" y="1723"/>
                </a:lnTo>
                <a:lnTo>
                  <a:pt x="413" y="1704"/>
                </a:lnTo>
                <a:lnTo>
                  <a:pt x="411" y="1704"/>
                </a:lnTo>
                <a:lnTo>
                  <a:pt x="411" y="1702"/>
                </a:lnTo>
                <a:lnTo>
                  <a:pt x="299" y="1665"/>
                </a:lnTo>
                <a:lnTo>
                  <a:pt x="297" y="1673"/>
                </a:lnTo>
                <a:lnTo>
                  <a:pt x="453" y="1642"/>
                </a:lnTo>
                <a:lnTo>
                  <a:pt x="455" y="1642"/>
                </a:lnTo>
                <a:lnTo>
                  <a:pt x="455" y="1640"/>
                </a:lnTo>
                <a:lnTo>
                  <a:pt x="457" y="1640"/>
                </a:lnTo>
                <a:lnTo>
                  <a:pt x="457" y="1638"/>
                </a:lnTo>
                <a:lnTo>
                  <a:pt x="457" y="1636"/>
                </a:lnTo>
                <a:lnTo>
                  <a:pt x="455" y="1636"/>
                </a:lnTo>
                <a:lnTo>
                  <a:pt x="436" y="1617"/>
                </a:lnTo>
                <a:lnTo>
                  <a:pt x="438" y="1619"/>
                </a:lnTo>
                <a:lnTo>
                  <a:pt x="438" y="1608"/>
                </a:lnTo>
                <a:lnTo>
                  <a:pt x="432" y="1558"/>
                </a:lnTo>
                <a:lnTo>
                  <a:pt x="432" y="1560"/>
                </a:lnTo>
                <a:lnTo>
                  <a:pt x="451" y="1527"/>
                </a:lnTo>
                <a:lnTo>
                  <a:pt x="451" y="1525"/>
                </a:lnTo>
                <a:lnTo>
                  <a:pt x="451" y="1523"/>
                </a:lnTo>
                <a:lnTo>
                  <a:pt x="449" y="1523"/>
                </a:lnTo>
                <a:lnTo>
                  <a:pt x="449" y="1521"/>
                </a:lnTo>
                <a:lnTo>
                  <a:pt x="418" y="1504"/>
                </a:lnTo>
                <a:lnTo>
                  <a:pt x="420" y="1506"/>
                </a:lnTo>
                <a:lnTo>
                  <a:pt x="401" y="1456"/>
                </a:lnTo>
                <a:lnTo>
                  <a:pt x="399" y="1456"/>
                </a:lnTo>
                <a:lnTo>
                  <a:pt x="399" y="1454"/>
                </a:lnTo>
                <a:lnTo>
                  <a:pt x="397" y="1454"/>
                </a:lnTo>
                <a:lnTo>
                  <a:pt x="347" y="1454"/>
                </a:lnTo>
                <a:lnTo>
                  <a:pt x="349" y="1454"/>
                </a:lnTo>
                <a:lnTo>
                  <a:pt x="263" y="1429"/>
                </a:lnTo>
                <a:lnTo>
                  <a:pt x="261" y="1437"/>
                </a:lnTo>
                <a:lnTo>
                  <a:pt x="341" y="1417"/>
                </a:lnTo>
                <a:lnTo>
                  <a:pt x="343" y="1417"/>
                </a:lnTo>
                <a:lnTo>
                  <a:pt x="393" y="1392"/>
                </a:lnTo>
                <a:lnTo>
                  <a:pt x="395" y="1391"/>
                </a:lnTo>
                <a:lnTo>
                  <a:pt x="413" y="1346"/>
                </a:lnTo>
                <a:lnTo>
                  <a:pt x="413" y="1344"/>
                </a:lnTo>
                <a:lnTo>
                  <a:pt x="407" y="1283"/>
                </a:lnTo>
                <a:lnTo>
                  <a:pt x="407" y="1281"/>
                </a:lnTo>
                <a:lnTo>
                  <a:pt x="405" y="1281"/>
                </a:lnTo>
                <a:lnTo>
                  <a:pt x="405" y="1279"/>
                </a:lnTo>
                <a:lnTo>
                  <a:pt x="403" y="1279"/>
                </a:lnTo>
                <a:lnTo>
                  <a:pt x="261" y="1279"/>
                </a:lnTo>
                <a:lnTo>
                  <a:pt x="265" y="1283"/>
                </a:lnTo>
                <a:lnTo>
                  <a:pt x="265" y="1245"/>
                </a:lnTo>
                <a:lnTo>
                  <a:pt x="263" y="1248"/>
                </a:lnTo>
                <a:lnTo>
                  <a:pt x="288" y="1237"/>
                </a:lnTo>
                <a:lnTo>
                  <a:pt x="288" y="1235"/>
                </a:lnTo>
                <a:lnTo>
                  <a:pt x="290" y="1235"/>
                </a:lnTo>
                <a:lnTo>
                  <a:pt x="290" y="1233"/>
                </a:lnTo>
                <a:lnTo>
                  <a:pt x="290" y="1231"/>
                </a:lnTo>
                <a:lnTo>
                  <a:pt x="288" y="1231"/>
                </a:lnTo>
                <a:lnTo>
                  <a:pt x="288" y="1229"/>
                </a:lnTo>
                <a:lnTo>
                  <a:pt x="255" y="1210"/>
                </a:lnTo>
                <a:lnTo>
                  <a:pt x="255" y="1218"/>
                </a:lnTo>
                <a:lnTo>
                  <a:pt x="338" y="1193"/>
                </a:lnTo>
                <a:lnTo>
                  <a:pt x="338" y="1191"/>
                </a:lnTo>
                <a:lnTo>
                  <a:pt x="340" y="1191"/>
                </a:lnTo>
                <a:lnTo>
                  <a:pt x="340" y="1189"/>
                </a:lnTo>
                <a:lnTo>
                  <a:pt x="340" y="1187"/>
                </a:lnTo>
                <a:lnTo>
                  <a:pt x="338" y="1187"/>
                </a:lnTo>
                <a:lnTo>
                  <a:pt x="338" y="1185"/>
                </a:lnTo>
                <a:lnTo>
                  <a:pt x="318" y="1179"/>
                </a:lnTo>
                <a:lnTo>
                  <a:pt x="318" y="1187"/>
                </a:lnTo>
                <a:lnTo>
                  <a:pt x="338" y="1174"/>
                </a:lnTo>
                <a:lnTo>
                  <a:pt x="340" y="1172"/>
                </a:lnTo>
                <a:lnTo>
                  <a:pt x="340" y="1170"/>
                </a:lnTo>
                <a:lnTo>
                  <a:pt x="340" y="1168"/>
                </a:lnTo>
                <a:lnTo>
                  <a:pt x="338" y="1166"/>
                </a:lnTo>
                <a:lnTo>
                  <a:pt x="336" y="1166"/>
                </a:lnTo>
                <a:lnTo>
                  <a:pt x="261" y="1160"/>
                </a:lnTo>
                <a:lnTo>
                  <a:pt x="263" y="1162"/>
                </a:lnTo>
                <a:lnTo>
                  <a:pt x="219" y="1118"/>
                </a:lnTo>
                <a:lnTo>
                  <a:pt x="219" y="1116"/>
                </a:lnTo>
                <a:lnTo>
                  <a:pt x="188" y="1104"/>
                </a:lnTo>
                <a:lnTo>
                  <a:pt x="190" y="1110"/>
                </a:lnTo>
                <a:lnTo>
                  <a:pt x="201" y="1072"/>
                </a:lnTo>
                <a:lnTo>
                  <a:pt x="201" y="1070"/>
                </a:lnTo>
                <a:lnTo>
                  <a:pt x="201" y="970"/>
                </a:lnTo>
                <a:lnTo>
                  <a:pt x="197" y="974"/>
                </a:lnTo>
                <a:lnTo>
                  <a:pt x="322" y="962"/>
                </a:lnTo>
                <a:lnTo>
                  <a:pt x="324" y="962"/>
                </a:lnTo>
                <a:lnTo>
                  <a:pt x="324" y="960"/>
                </a:lnTo>
                <a:lnTo>
                  <a:pt x="326" y="960"/>
                </a:lnTo>
                <a:lnTo>
                  <a:pt x="326" y="958"/>
                </a:lnTo>
                <a:lnTo>
                  <a:pt x="326" y="957"/>
                </a:lnTo>
                <a:lnTo>
                  <a:pt x="324" y="957"/>
                </a:lnTo>
                <a:lnTo>
                  <a:pt x="324" y="955"/>
                </a:lnTo>
                <a:lnTo>
                  <a:pt x="322" y="955"/>
                </a:lnTo>
                <a:lnTo>
                  <a:pt x="278" y="955"/>
                </a:lnTo>
                <a:lnTo>
                  <a:pt x="280" y="955"/>
                </a:lnTo>
                <a:lnTo>
                  <a:pt x="188" y="885"/>
                </a:lnTo>
                <a:lnTo>
                  <a:pt x="190" y="889"/>
                </a:lnTo>
                <a:lnTo>
                  <a:pt x="196" y="859"/>
                </a:lnTo>
                <a:lnTo>
                  <a:pt x="196" y="857"/>
                </a:lnTo>
                <a:lnTo>
                  <a:pt x="176" y="832"/>
                </a:lnTo>
                <a:lnTo>
                  <a:pt x="176" y="836"/>
                </a:lnTo>
                <a:lnTo>
                  <a:pt x="207" y="791"/>
                </a:lnTo>
                <a:lnTo>
                  <a:pt x="203" y="793"/>
                </a:lnTo>
                <a:lnTo>
                  <a:pt x="286" y="788"/>
                </a:lnTo>
                <a:lnTo>
                  <a:pt x="288" y="788"/>
                </a:lnTo>
                <a:lnTo>
                  <a:pt x="290" y="786"/>
                </a:lnTo>
                <a:lnTo>
                  <a:pt x="290" y="784"/>
                </a:lnTo>
                <a:lnTo>
                  <a:pt x="290" y="782"/>
                </a:lnTo>
                <a:lnTo>
                  <a:pt x="288" y="780"/>
                </a:lnTo>
                <a:lnTo>
                  <a:pt x="286" y="780"/>
                </a:lnTo>
                <a:lnTo>
                  <a:pt x="192" y="766"/>
                </a:lnTo>
                <a:lnTo>
                  <a:pt x="196" y="770"/>
                </a:lnTo>
                <a:lnTo>
                  <a:pt x="201" y="739"/>
                </a:lnTo>
                <a:lnTo>
                  <a:pt x="201" y="738"/>
                </a:lnTo>
                <a:lnTo>
                  <a:pt x="199" y="736"/>
                </a:lnTo>
                <a:lnTo>
                  <a:pt x="130" y="705"/>
                </a:lnTo>
                <a:lnTo>
                  <a:pt x="132" y="709"/>
                </a:lnTo>
                <a:lnTo>
                  <a:pt x="132" y="634"/>
                </a:lnTo>
                <a:lnTo>
                  <a:pt x="132" y="632"/>
                </a:lnTo>
                <a:lnTo>
                  <a:pt x="130" y="632"/>
                </a:lnTo>
                <a:lnTo>
                  <a:pt x="130" y="630"/>
                </a:lnTo>
                <a:lnTo>
                  <a:pt x="75" y="599"/>
                </a:lnTo>
                <a:lnTo>
                  <a:pt x="76" y="601"/>
                </a:lnTo>
                <a:lnTo>
                  <a:pt x="65" y="569"/>
                </a:lnTo>
                <a:lnTo>
                  <a:pt x="61" y="574"/>
                </a:lnTo>
                <a:lnTo>
                  <a:pt x="547" y="499"/>
                </a:lnTo>
                <a:lnTo>
                  <a:pt x="549" y="499"/>
                </a:lnTo>
                <a:lnTo>
                  <a:pt x="551" y="498"/>
                </a:lnTo>
                <a:lnTo>
                  <a:pt x="551" y="496"/>
                </a:lnTo>
                <a:lnTo>
                  <a:pt x="551" y="494"/>
                </a:lnTo>
                <a:lnTo>
                  <a:pt x="549" y="492"/>
                </a:lnTo>
                <a:lnTo>
                  <a:pt x="547" y="492"/>
                </a:lnTo>
                <a:lnTo>
                  <a:pt x="67" y="461"/>
                </a:lnTo>
                <a:lnTo>
                  <a:pt x="69" y="461"/>
                </a:lnTo>
                <a:lnTo>
                  <a:pt x="30" y="436"/>
                </a:lnTo>
                <a:lnTo>
                  <a:pt x="32" y="440"/>
                </a:lnTo>
                <a:lnTo>
                  <a:pt x="40" y="390"/>
                </a:lnTo>
                <a:lnTo>
                  <a:pt x="40" y="388"/>
                </a:lnTo>
                <a:lnTo>
                  <a:pt x="32" y="363"/>
                </a:lnTo>
                <a:lnTo>
                  <a:pt x="32" y="365"/>
                </a:lnTo>
                <a:lnTo>
                  <a:pt x="40" y="334"/>
                </a:lnTo>
                <a:lnTo>
                  <a:pt x="40" y="332"/>
                </a:lnTo>
                <a:lnTo>
                  <a:pt x="21" y="282"/>
                </a:lnTo>
                <a:lnTo>
                  <a:pt x="17" y="288"/>
                </a:lnTo>
                <a:lnTo>
                  <a:pt x="153" y="257"/>
                </a:lnTo>
                <a:lnTo>
                  <a:pt x="155" y="257"/>
                </a:lnTo>
                <a:lnTo>
                  <a:pt x="155" y="256"/>
                </a:lnTo>
                <a:lnTo>
                  <a:pt x="157" y="256"/>
                </a:lnTo>
                <a:lnTo>
                  <a:pt x="157" y="254"/>
                </a:lnTo>
                <a:lnTo>
                  <a:pt x="157" y="252"/>
                </a:lnTo>
                <a:lnTo>
                  <a:pt x="155" y="252"/>
                </a:lnTo>
                <a:lnTo>
                  <a:pt x="155" y="250"/>
                </a:lnTo>
                <a:lnTo>
                  <a:pt x="153" y="250"/>
                </a:lnTo>
                <a:lnTo>
                  <a:pt x="103" y="250"/>
                </a:lnTo>
                <a:lnTo>
                  <a:pt x="107" y="252"/>
                </a:lnTo>
                <a:lnTo>
                  <a:pt x="82" y="213"/>
                </a:lnTo>
                <a:lnTo>
                  <a:pt x="80" y="213"/>
                </a:lnTo>
                <a:lnTo>
                  <a:pt x="80" y="211"/>
                </a:lnTo>
                <a:lnTo>
                  <a:pt x="78" y="211"/>
                </a:lnTo>
                <a:lnTo>
                  <a:pt x="3" y="194"/>
                </a:lnTo>
                <a:lnTo>
                  <a:pt x="7" y="200"/>
                </a:lnTo>
                <a:lnTo>
                  <a:pt x="21" y="156"/>
                </a:lnTo>
                <a:lnTo>
                  <a:pt x="19" y="158"/>
                </a:lnTo>
                <a:lnTo>
                  <a:pt x="105" y="133"/>
                </a:lnTo>
                <a:lnTo>
                  <a:pt x="107" y="131"/>
                </a:lnTo>
                <a:lnTo>
                  <a:pt x="107" y="129"/>
                </a:lnTo>
                <a:lnTo>
                  <a:pt x="107" y="127"/>
                </a:lnTo>
                <a:lnTo>
                  <a:pt x="105" y="125"/>
                </a:lnTo>
                <a:lnTo>
                  <a:pt x="13" y="87"/>
                </a:lnTo>
                <a:lnTo>
                  <a:pt x="13" y="94"/>
                </a:lnTo>
                <a:lnTo>
                  <a:pt x="30" y="88"/>
                </a:lnTo>
                <a:lnTo>
                  <a:pt x="30" y="87"/>
                </a:lnTo>
                <a:lnTo>
                  <a:pt x="32" y="87"/>
                </a:lnTo>
                <a:lnTo>
                  <a:pt x="32" y="85"/>
                </a:lnTo>
                <a:lnTo>
                  <a:pt x="32" y="83"/>
                </a:lnTo>
                <a:lnTo>
                  <a:pt x="21" y="39"/>
                </a:lnTo>
                <a:lnTo>
                  <a:pt x="19" y="44"/>
                </a:lnTo>
                <a:lnTo>
                  <a:pt x="69" y="8"/>
                </a:lnTo>
                <a:lnTo>
                  <a:pt x="67" y="8"/>
                </a:lnTo>
                <a:lnTo>
                  <a:pt x="916" y="14"/>
                </a:lnTo>
                <a:lnTo>
                  <a:pt x="912" y="10"/>
                </a:lnTo>
                <a:lnTo>
                  <a:pt x="912" y="2685"/>
                </a:lnTo>
                <a:lnTo>
                  <a:pt x="916" y="2681"/>
                </a:lnTo>
                <a:lnTo>
                  <a:pt x="701" y="2687"/>
                </a:lnTo>
                <a:lnTo>
                  <a:pt x="693" y="26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Rectangle 46"/>
          <p:cNvSpPr/>
          <p:nvPr/>
        </p:nvSpPr>
        <p:spPr>
          <a:xfrm>
            <a:off x="7743960" y="148428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w</a:t>
            </a:r>
            <a:endParaRPr b="0" lang="en-US" sz="1800" spc="-1" strike="noStrike">
              <a:solidFill>
                <a:srgbClr val="000000"/>
              </a:solidFill>
              <a:latin typeface="Times New Roman"/>
            </a:endParaRPr>
          </a:p>
        </p:txBody>
      </p:sp>
      <p:sp>
        <p:nvSpPr>
          <p:cNvPr id="2026" name="Rectangle 47"/>
          <p:cNvSpPr/>
          <p:nvPr/>
        </p:nvSpPr>
        <p:spPr>
          <a:xfrm>
            <a:off x="7724880" y="174636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s</a:t>
            </a:r>
            <a:endParaRPr b="0" lang="en-US" sz="1800" spc="-1" strike="noStrike">
              <a:solidFill>
                <a:srgbClr val="000000"/>
              </a:solidFill>
              <a:latin typeface="Times New Roman"/>
            </a:endParaRPr>
          </a:p>
        </p:txBody>
      </p:sp>
      <p:sp>
        <p:nvSpPr>
          <p:cNvPr id="2027" name="Rectangle 48"/>
          <p:cNvSpPr/>
          <p:nvPr/>
        </p:nvSpPr>
        <p:spPr>
          <a:xfrm>
            <a:off x="6276960" y="1484280"/>
            <a:ext cx="128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mma Ray</a:t>
            </a:r>
            <a:endParaRPr b="0" lang="en-US" sz="1800" spc="-1" strike="noStrike">
              <a:solidFill>
                <a:srgbClr val="000000"/>
              </a:solidFill>
              <a:latin typeface="Times New Roman"/>
            </a:endParaRPr>
          </a:p>
        </p:txBody>
      </p:sp>
      <p:sp>
        <p:nvSpPr>
          <p:cNvPr id="2028" name="Rectangle 49"/>
          <p:cNvSpPr/>
          <p:nvPr/>
        </p:nvSpPr>
        <p:spPr>
          <a:xfrm>
            <a:off x="6725160" y="17463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t>
            </a:r>
            <a:endParaRPr b="0" lang="en-US" sz="1800" spc="-1" strike="noStrike">
              <a:solidFill>
                <a:srgbClr val="000000"/>
              </a:solidFill>
              <a:latin typeface="Times New Roman"/>
            </a:endParaRPr>
          </a:p>
        </p:txBody>
      </p:sp>
      <p:sp>
        <p:nvSpPr>
          <p:cNvPr id="2029" name="Rectangle 50"/>
          <p:cNvSpPr/>
          <p:nvPr/>
        </p:nvSpPr>
        <p:spPr>
          <a:xfrm>
            <a:off x="4460400" y="1484280"/>
            <a:ext cx="1369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rophysical</a:t>
            </a:r>
            <a:endParaRPr b="0" lang="en-US" sz="1800" spc="-1" strike="noStrike">
              <a:solidFill>
                <a:srgbClr val="000000"/>
              </a:solidFill>
              <a:latin typeface="Times New Roman"/>
            </a:endParaRPr>
          </a:p>
        </p:txBody>
      </p:sp>
      <p:sp>
        <p:nvSpPr>
          <p:cNvPr id="2030" name="Rectangle 51"/>
          <p:cNvSpPr/>
          <p:nvPr/>
        </p:nvSpPr>
        <p:spPr>
          <a:xfrm>
            <a:off x="4902120" y="174636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2031" name="Rectangle 52"/>
          <p:cNvSpPr/>
          <p:nvPr/>
        </p:nvSpPr>
        <p:spPr>
          <a:xfrm>
            <a:off x="3524400" y="148428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e</a:t>
            </a:r>
            <a:endParaRPr b="0" lang="en-US" sz="1800" spc="-1" strike="noStrike">
              <a:solidFill>
                <a:srgbClr val="000000"/>
              </a:solidFill>
              <a:latin typeface="Times New Roman"/>
            </a:endParaRPr>
          </a:p>
        </p:txBody>
      </p:sp>
      <p:sp>
        <p:nvSpPr>
          <p:cNvPr id="2032" name="Rectangle 53"/>
          <p:cNvSpPr/>
          <p:nvPr/>
        </p:nvSpPr>
        <p:spPr>
          <a:xfrm>
            <a:off x="3454560" y="1746360"/>
            <a:ext cx="62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a:t>
            </a:r>
            <a:endParaRPr b="0" lang="en-US" sz="1800" spc="-1" strike="noStrike">
              <a:solidFill>
                <a:srgbClr val="000000"/>
              </a:solidFill>
              <a:latin typeface="Times New Roman"/>
            </a:endParaRPr>
          </a:p>
        </p:txBody>
      </p:sp>
      <p:sp>
        <p:nvSpPr>
          <p:cNvPr id="2033" name="Rectangle 54"/>
          <p:cNvSpPr/>
          <p:nvPr/>
        </p:nvSpPr>
        <p:spPr>
          <a:xfrm>
            <a:off x="1442160" y="1614600"/>
            <a:ext cx="1090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hofacies</a:t>
            </a:r>
            <a:endParaRPr b="0" lang="en-US" sz="1800" spc="-1" strike="noStrike">
              <a:solidFill>
                <a:srgbClr val="000000"/>
              </a:solidFill>
              <a:latin typeface="Times New Roman"/>
            </a:endParaRPr>
          </a:p>
        </p:txBody>
      </p:sp>
      <p:sp>
        <p:nvSpPr>
          <p:cNvPr id="2034" name="Rectangle 55"/>
          <p:cNvSpPr/>
          <p:nvPr/>
        </p:nvSpPr>
        <p:spPr>
          <a:xfrm>
            <a:off x="816120" y="1614600"/>
            <a:ext cx="49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a:t>
            </a:r>
            <a:endParaRPr b="0" lang="en-US" sz="1800" spc="-1" strike="noStrike">
              <a:solidFill>
                <a:srgbClr val="000000"/>
              </a:solidFill>
              <a:latin typeface="Times New Roman"/>
            </a:endParaRPr>
          </a:p>
        </p:txBody>
      </p:sp>
      <p:sp>
        <p:nvSpPr>
          <p:cNvPr id="2035" name="Rectangle 56"/>
          <p:cNvSpPr/>
          <p:nvPr/>
        </p:nvSpPr>
        <p:spPr>
          <a:xfrm>
            <a:off x="7996320" y="58197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2036" name="Rectangle 57"/>
          <p:cNvSpPr/>
          <p:nvPr/>
        </p:nvSpPr>
        <p:spPr>
          <a:xfrm>
            <a:off x="7996320" y="47577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2037" name="Rectangle 58"/>
          <p:cNvSpPr/>
          <p:nvPr/>
        </p:nvSpPr>
        <p:spPr>
          <a:xfrm>
            <a:off x="7996320" y="36702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2038" name="Rectangle 59"/>
          <p:cNvSpPr/>
          <p:nvPr/>
        </p:nvSpPr>
        <p:spPr>
          <a:xfrm>
            <a:off x="7999560" y="30751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2039" name="Rectangle 60"/>
          <p:cNvSpPr/>
          <p:nvPr/>
        </p:nvSpPr>
        <p:spPr>
          <a:xfrm>
            <a:off x="7996320" y="25909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2040" name="Freeform 61"/>
          <p:cNvSpPr/>
          <p:nvPr/>
        </p:nvSpPr>
        <p:spPr>
          <a:xfrm>
            <a:off x="5365800" y="2538360"/>
            <a:ext cx="527040" cy="615960"/>
          </a:xfrm>
          <a:custGeom>
            <a:avLst/>
            <a:gdLst>
              <a:gd name="textAreaLeft" fmla="*/ 0 w 527040"/>
              <a:gd name="textAreaRight" fmla="*/ 527400 w 527040"/>
              <a:gd name="textAreaTop" fmla="*/ 0 h 615960"/>
              <a:gd name="textAreaBottom" fmla="*/ 616320 h 615960"/>
            </a:gdLst>
            <a:ahLst/>
            <a:rect l="textAreaLeft" t="textAreaTop" r="textAreaRight" b="textAreaBottom"/>
            <a:pathLst>
              <a:path w="332" h="388">
                <a:moveTo>
                  <a:pt x="13" y="4"/>
                </a:moveTo>
                <a:lnTo>
                  <a:pt x="13" y="2"/>
                </a:lnTo>
                <a:lnTo>
                  <a:pt x="11" y="2"/>
                </a:lnTo>
                <a:lnTo>
                  <a:pt x="11" y="0"/>
                </a:lnTo>
                <a:lnTo>
                  <a:pt x="8" y="0"/>
                </a:lnTo>
                <a:lnTo>
                  <a:pt x="8" y="2"/>
                </a:lnTo>
                <a:lnTo>
                  <a:pt x="6" y="2"/>
                </a:lnTo>
                <a:lnTo>
                  <a:pt x="6" y="4"/>
                </a:lnTo>
                <a:lnTo>
                  <a:pt x="4" y="12"/>
                </a:lnTo>
                <a:lnTo>
                  <a:pt x="4" y="79"/>
                </a:lnTo>
                <a:lnTo>
                  <a:pt x="2" y="87"/>
                </a:lnTo>
                <a:lnTo>
                  <a:pt x="2" y="158"/>
                </a:lnTo>
                <a:lnTo>
                  <a:pt x="0" y="164"/>
                </a:lnTo>
                <a:lnTo>
                  <a:pt x="0" y="308"/>
                </a:lnTo>
                <a:lnTo>
                  <a:pt x="2" y="310"/>
                </a:lnTo>
                <a:lnTo>
                  <a:pt x="2" y="321"/>
                </a:lnTo>
                <a:lnTo>
                  <a:pt x="6" y="323"/>
                </a:lnTo>
                <a:lnTo>
                  <a:pt x="4" y="321"/>
                </a:lnTo>
                <a:lnTo>
                  <a:pt x="4" y="323"/>
                </a:lnTo>
                <a:lnTo>
                  <a:pt x="4" y="321"/>
                </a:lnTo>
                <a:lnTo>
                  <a:pt x="4" y="327"/>
                </a:lnTo>
                <a:lnTo>
                  <a:pt x="6" y="329"/>
                </a:lnTo>
                <a:lnTo>
                  <a:pt x="6" y="333"/>
                </a:lnTo>
                <a:lnTo>
                  <a:pt x="9" y="336"/>
                </a:lnTo>
                <a:lnTo>
                  <a:pt x="11" y="336"/>
                </a:lnTo>
                <a:lnTo>
                  <a:pt x="9" y="340"/>
                </a:lnTo>
                <a:lnTo>
                  <a:pt x="13" y="344"/>
                </a:lnTo>
                <a:lnTo>
                  <a:pt x="15" y="344"/>
                </a:lnTo>
                <a:lnTo>
                  <a:pt x="13" y="346"/>
                </a:lnTo>
                <a:lnTo>
                  <a:pt x="17" y="350"/>
                </a:lnTo>
                <a:lnTo>
                  <a:pt x="19" y="350"/>
                </a:lnTo>
                <a:lnTo>
                  <a:pt x="17" y="352"/>
                </a:lnTo>
                <a:lnTo>
                  <a:pt x="21" y="356"/>
                </a:lnTo>
                <a:lnTo>
                  <a:pt x="23" y="354"/>
                </a:lnTo>
                <a:lnTo>
                  <a:pt x="21" y="356"/>
                </a:lnTo>
                <a:lnTo>
                  <a:pt x="27" y="361"/>
                </a:lnTo>
                <a:lnTo>
                  <a:pt x="29" y="361"/>
                </a:lnTo>
                <a:lnTo>
                  <a:pt x="34" y="367"/>
                </a:lnTo>
                <a:lnTo>
                  <a:pt x="38" y="367"/>
                </a:lnTo>
                <a:lnTo>
                  <a:pt x="42" y="371"/>
                </a:lnTo>
                <a:lnTo>
                  <a:pt x="44" y="371"/>
                </a:lnTo>
                <a:lnTo>
                  <a:pt x="46" y="373"/>
                </a:lnTo>
                <a:lnTo>
                  <a:pt x="50" y="373"/>
                </a:lnTo>
                <a:lnTo>
                  <a:pt x="52" y="375"/>
                </a:lnTo>
                <a:lnTo>
                  <a:pt x="56" y="375"/>
                </a:lnTo>
                <a:lnTo>
                  <a:pt x="57" y="377"/>
                </a:lnTo>
                <a:lnTo>
                  <a:pt x="61" y="377"/>
                </a:lnTo>
                <a:lnTo>
                  <a:pt x="63" y="379"/>
                </a:lnTo>
                <a:lnTo>
                  <a:pt x="73" y="379"/>
                </a:lnTo>
                <a:lnTo>
                  <a:pt x="75" y="381"/>
                </a:lnTo>
                <a:lnTo>
                  <a:pt x="84" y="381"/>
                </a:lnTo>
                <a:lnTo>
                  <a:pt x="86" y="383"/>
                </a:lnTo>
                <a:lnTo>
                  <a:pt x="105" y="383"/>
                </a:lnTo>
                <a:lnTo>
                  <a:pt x="107" y="384"/>
                </a:lnTo>
                <a:lnTo>
                  <a:pt x="125" y="384"/>
                </a:lnTo>
                <a:lnTo>
                  <a:pt x="127" y="386"/>
                </a:lnTo>
                <a:lnTo>
                  <a:pt x="209" y="386"/>
                </a:lnTo>
                <a:lnTo>
                  <a:pt x="211" y="388"/>
                </a:lnTo>
                <a:lnTo>
                  <a:pt x="330" y="388"/>
                </a:lnTo>
                <a:lnTo>
                  <a:pt x="330" y="386"/>
                </a:lnTo>
                <a:lnTo>
                  <a:pt x="332" y="386"/>
                </a:lnTo>
                <a:lnTo>
                  <a:pt x="332" y="383"/>
                </a:lnTo>
                <a:lnTo>
                  <a:pt x="330" y="383"/>
                </a:lnTo>
                <a:lnTo>
                  <a:pt x="330" y="381"/>
                </a:lnTo>
                <a:lnTo>
                  <a:pt x="328" y="381"/>
                </a:lnTo>
                <a:lnTo>
                  <a:pt x="213" y="381"/>
                </a:lnTo>
                <a:lnTo>
                  <a:pt x="215" y="381"/>
                </a:lnTo>
                <a:lnTo>
                  <a:pt x="209" y="379"/>
                </a:lnTo>
                <a:lnTo>
                  <a:pt x="130" y="379"/>
                </a:lnTo>
                <a:lnTo>
                  <a:pt x="129" y="377"/>
                </a:lnTo>
                <a:lnTo>
                  <a:pt x="109" y="377"/>
                </a:lnTo>
                <a:lnTo>
                  <a:pt x="111" y="377"/>
                </a:lnTo>
                <a:lnTo>
                  <a:pt x="105" y="375"/>
                </a:lnTo>
                <a:lnTo>
                  <a:pt x="90" y="375"/>
                </a:lnTo>
                <a:lnTo>
                  <a:pt x="88" y="373"/>
                </a:lnTo>
                <a:lnTo>
                  <a:pt x="79" y="373"/>
                </a:lnTo>
                <a:lnTo>
                  <a:pt x="77" y="371"/>
                </a:lnTo>
                <a:lnTo>
                  <a:pt x="67" y="371"/>
                </a:lnTo>
                <a:lnTo>
                  <a:pt x="65" y="369"/>
                </a:lnTo>
                <a:lnTo>
                  <a:pt x="61" y="369"/>
                </a:lnTo>
                <a:lnTo>
                  <a:pt x="59" y="367"/>
                </a:lnTo>
                <a:lnTo>
                  <a:pt x="56" y="367"/>
                </a:lnTo>
                <a:lnTo>
                  <a:pt x="54" y="365"/>
                </a:lnTo>
                <a:lnTo>
                  <a:pt x="50" y="365"/>
                </a:lnTo>
                <a:lnTo>
                  <a:pt x="48" y="363"/>
                </a:lnTo>
                <a:lnTo>
                  <a:pt x="46" y="363"/>
                </a:lnTo>
                <a:lnTo>
                  <a:pt x="44" y="361"/>
                </a:lnTo>
                <a:lnTo>
                  <a:pt x="40" y="361"/>
                </a:lnTo>
                <a:lnTo>
                  <a:pt x="42" y="363"/>
                </a:lnTo>
                <a:lnTo>
                  <a:pt x="40" y="359"/>
                </a:lnTo>
                <a:lnTo>
                  <a:pt x="38" y="359"/>
                </a:lnTo>
                <a:lnTo>
                  <a:pt x="33" y="354"/>
                </a:lnTo>
                <a:lnTo>
                  <a:pt x="31" y="354"/>
                </a:lnTo>
                <a:lnTo>
                  <a:pt x="29" y="352"/>
                </a:lnTo>
                <a:lnTo>
                  <a:pt x="27" y="350"/>
                </a:lnTo>
                <a:lnTo>
                  <a:pt x="25" y="348"/>
                </a:lnTo>
                <a:lnTo>
                  <a:pt x="23" y="346"/>
                </a:lnTo>
                <a:lnTo>
                  <a:pt x="21" y="346"/>
                </a:lnTo>
                <a:lnTo>
                  <a:pt x="23" y="344"/>
                </a:lnTo>
                <a:lnTo>
                  <a:pt x="21" y="342"/>
                </a:lnTo>
                <a:lnTo>
                  <a:pt x="19" y="340"/>
                </a:lnTo>
                <a:lnTo>
                  <a:pt x="17" y="340"/>
                </a:lnTo>
                <a:lnTo>
                  <a:pt x="19" y="338"/>
                </a:lnTo>
                <a:lnTo>
                  <a:pt x="17" y="336"/>
                </a:lnTo>
                <a:lnTo>
                  <a:pt x="15" y="333"/>
                </a:lnTo>
                <a:lnTo>
                  <a:pt x="13" y="333"/>
                </a:lnTo>
                <a:lnTo>
                  <a:pt x="15" y="331"/>
                </a:lnTo>
                <a:lnTo>
                  <a:pt x="13" y="329"/>
                </a:lnTo>
                <a:lnTo>
                  <a:pt x="13" y="325"/>
                </a:lnTo>
                <a:lnTo>
                  <a:pt x="11" y="323"/>
                </a:lnTo>
                <a:lnTo>
                  <a:pt x="11" y="321"/>
                </a:lnTo>
                <a:lnTo>
                  <a:pt x="11" y="319"/>
                </a:lnTo>
                <a:lnTo>
                  <a:pt x="11" y="321"/>
                </a:lnTo>
                <a:lnTo>
                  <a:pt x="9" y="319"/>
                </a:lnTo>
                <a:lnTo>
                  <a:pt x="9" y="317"/>
                </a:lnTo>
                <a:lnTo>
                  <a:pt x="9" y="306"/>
                </a:lnTo>
                <a:lnTo>
                  <a:pt x="8" y="304"/>
                </a:lnTo>
                <a:lnTo>
                  <a:pt x="8" y="223"/>
                </a:lnTo>
                <a:lnTo>
                  <a:pt x="8" y="164"/>
                </a:lnTo>
                <a:lnTo>
                  <a:pt x="9" y="158"/>
                </a:lnTo>
                <a:lnTo>
                  <a:pt x="9" y="87"/>
                </a:lnTo>
                <a:lnTo>
                  <a:pt x="11" y="79"/>
                </a:lnTo>
                <a:lnTo>
                  <a:pt x="11" y="12"/>
                </a:lnTo>
                <a:lnTo>
                  <a:pt x="1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Freeform 62"/>
          <p:cNvSpPr/>
          <p:nvPr/>
        </p:nvSpPr>
        <p:spPr>
          <a:xfrm>
            <a:off x="5445000" y="3594240"/>
            <a:ext cx="384480" cy="585720"/>
          </a:xfrm>
          <a:custGeom>
            <a:avLst/>
            <a:gdLst>
              <a:gd name="textAreaLeft" fmla="*/ 0 w 384480"/>
              <a:gd name="textAreaRight" fmla="*/ 384840 w 384480"/>
              <a:gd name="textAreaTop" fmla="*/ 0 h 585720"/>
              <a:gd name="textAreaBottom" fmla="*/ 585720 h 585720"/>
            </a:gdLst>
            <a:ahLst/>
            <a:rect l="textAreaLeft" t="textAreaTop" r="textAreaRight" b="textAreaBottom"/>
            <a:pathLst>
              <a:path w="242" h="369">
                <a:moveTo>
                  <a:pt x="7" y="4"/>
                </a:moveTo>
                <a:lnTo>
                  <a:pt x="7" y="2"/>
                </a:lnTo>
                <a:lnTo>
                  <a:pt x="6" y="2"/>
                </a:lnTo>
                <a:lnTo>
                  <a:pt x="6" y="0"/>
                </a:lnTo>
                <a:lnTo>
                  <a:pt x="2" y="0"/>
                </a:lnTo>
                <a:lnTo>
                  <a:pt x="2" y="2"/>
                </a:lnTo>
                <a:lnTo>
                  <a:pt x="0" y="2"/>
                </a:lnTo>
                <a:lnTo>
                  <a:pt x="0" y="86"/>
                </a:lnTo>
                <a:lnTo>
                  <a:pt x="2" y="94"/>
                </a:lnTo>
                <a:lnTo>
                  <a:pt x="2" y="171"/>
                </a:lnTo>
                <a:lnTo>
                  <a:pt x="4" y="178"/>
                </a:lnTo>
                <a:lnTo>
                  <a:pt x="4" y="234"/>
                </a:lnTo>
                <a:lnTo>
                  <a:pt x="6" y="242"/>
                </a:lnTo>
                <a:lnTo>
                  <a:pt x="6" y="240"/>
                </a:lnTo>
                <a:lnTo>
                  <a:pt x="6" y="263"/>
                </a:lnTo>
                <a:lnTo>
                  <a:pt x="7" y="267"/>
                </a:lnTo>
                <a:lnTo>
                  <a:pt x="7" y="278"/>
                </a:lnTo>
                <a:lnTo>
                  <a:pt x="9" y="282"/>
                </a:lnTo>
                <a:lnTo>
                  <a:pt x="9" y="294"/>
                </a:lnTo>
                <a:lnTo>
                  <a:pt x="11" y="296"/>
                </a:lnTo>
                <a:lnTo>
                  <a:pt x="11" y="301"/>
                </a:lnTo>
                <a:lnTo>
                  <a:pt x="13" y="303"/>
                </a:lnTo>
                <a:lnTo>
                  <a:pt x="13" y="305"/>
                </a:lnTo>
                <a:lnTo>
                  <a:pt x="15" y="307"/>
                </a:lnTo>
                <a:lnTo>
                  <a:pt x="15" y="313"/>
                </a:lnTo>
                <a:lnTo>
                  <a:pt x="19" y="317"/>
                </a:lnTo>
                <a:lnTo>
                  <a:pt x="21" y="319"/>
                </a:lnTo>
                <a:lnTo>
                  <a:pt x="21" y="321"/>
                </a:lnTo>
                <a:lnTo>
                  <a:pt x="25" y="324"/>
                </a:lnTo>
                <a:lnTo>
                  <a:pt x="27" y="326"/>
                </a:lnTo>
                <a:lnTo>
                  <a:pt x="32" y="330"/>
                </a:lnTo>
                <a:lnTo>
                  <a:pt x="34" y="334"/>
                </a:lnTo>
                <a:lnTo>
                  <a:pt x="36" y="334"/>
                </a:lnTo>
                <a:lnTo>
                  <a:pt x="40" y="338"/>
                </a:lnTo>
                <a:lnTo>
                  <a:pt x="42" y="338"/>
                </a:lnTo>
                <a:lnTo>
                  <a:pt x="44" y="340"/>
                </a:lnTo>
                <a:lnTo>
                  <a:pt x="46" y="340"/>
                </a:lnTo>
                <a:lnTo>
                  <a:pt x="48" y="342"/>
                </a:lnTo>
                <a:lnTo>
                  <a:pt x="52" y="342"/>
                </a:lnTo>
                <a:lnTo>
                  <a:pt x="54" y="344"/>
                </a:lnTo>
                <a:lnTo>
                  <a:pt x="55" y="344"/>
                </a:lnTo>
                <a:lnTo>
                  <a:pt x="57" y="346"/>
                </a:lnTo>
                <a:lnTo>
                  <a:pt x="61" y="346"/>
                </a:lnTo>
                <a:lnTo>
                  <a:pt x="63" y="347"/>
                </a:lnTo>
                <a:lnTo>
                  <a:pt x="69" y="347"/>
                </a:lnTo>
                <a:lnTo>
                  <a:pt x="71" y="349"/>
                </a:lnTo>
                <a:lnTo>
                  <a:pt x="75" y="349"/>
                </a:lnTo>
                <a:lnTo>
                  <a:pt x="77" y="351"/>
                </a:lnTo>
                <a:lnTo>
                  <a:pt x="84" y="351"/>
                </a:lnTo>
                <a:lnTo>
                  <a:pt x="88" y="353"/>
                </a:lnTo>
                <a:lnTo>
                  <a:pt x="94" y="353"/>
                </a:lnTo>
                <a:lnTo>
                  <a:pt x="98" y="355"/>
                </a:lnTo>
                <a:lnTo>
                  <a:pt x="104" y="355"/>
                </a:lnTo>
                <a:lnTo>
                  <a:pt x="107" y="357"/>
                </a:lnTo>
                <a:lnTo>
                  <a:pt x="115" y="357"/>
                </a:lnTo>
                <a:lnTo>
                  <a:pt x="117" y="359"/>
                </a:lnTo>
                <a:lnTo>
                  <a:pt x="128" y="359"/>
                </a:lnTo>
                <a:lnTo>
                  <a:pt x="132" y="361"/>
                </a:lnTo>
                <a:lnTo>
                  <a:pt x="148" y="361"/>
                </a:lnTo>
                <a:lnTo>
                  <a:pt x="152" y="363"/>
                </a:lnTo>
                <a:lnTo>
                  <a:pt x="171" y="363"/>
                </a:lnTo>
                <a:lnTo>
                  <a:pt x="175" y="365"/>
                </a:lnTo>
                <a:lnTo>
                  <a:pt x="223" y="365"/>
                </a:lnTo>
                <a:lnTo>
                  <a:pt x="225" y="367"/>
                </a:lnTo>
                <a:lnTo>
                  <a:pt x="242" y="363"/>
                </a:lnTo>
                <a:lnTo>
                  <a:pt x="232" y="361"/>
                </a:lnTo>
                <a:lnTo>
                  <a:pt x="230" y="365"/>
                </a:lnTo>
                <a:lnTo>
                  <a:pt x="234" y="361"/>
                </a:lnTo>
                <a:lnTo>
                  <a:pt x="232" y="361"/>
                </a:lnTo>
                <a:lnTo>
                  <a:pt x="232" y="363"/>
                </a:lnTo>
                <a:lnTo>
                  <a:pt x="230" y="363"/>
                </a:lnTo>
                <a:lnTo>
                  <a:pt x="230" y="367"/>
                </a:lnTo>
                <a:lnTo>
                  <a:pt x="232" y="367"/>
                </a:lnTo>
                <a:lnTo>
                  <a:pt x="232" y="369"/>
                </a:lnTo>
                <a:lnTo>
                  <a:pt x="234" y="369"/>
                </a:lnTo>
                <a:lnTo>
                  <a:pt x="238" y="365"/>
                </a:lnTo>
                <a:lnTo>
                  <a:pt x="236" y="365"/>
                </a:lnTo>
                <a:lnTo>
                  <a:pt x="234" y="363"/>
                </a:lnTo>
                <a:lnTo>
                  <a:pt x="225" y="359"/>
                </a:lnTo>
                <a:lnTo>
                  <a:pt x="226" y="361"/>
                </a:lnTo>
                <a:lnTo>
                  <a:pt x="225" y="357"/>
                </a:lnTo>
                <a:lnTo>
                  <a:pt x="175" y="357"/>
                </a:lnTo>
                <a:lnTo>
                  <a:pt x="171" y="355"/>
                </a:lnTo>
                <a:lnTo>
                  <a:pt x="152" y="355"/>
                </a:lnTo>
                <a:lnTo>
                  <a:pt x="148" y="353"/>
                </a:lnTo>
                <a:lnTo>
                  <a:pt x="132" y="353"/>
                </a:lnTo>
                <a:lnTo>
                  <a:pt x="128" y="351"/>
                </a:lnTo>
                <a:lnTo>
                  <a:pt x="119" y="351"/>
                </a:lnTo>
                <a:lnTo>
                  <a:pt x="121" y="351"/>
                </a:lnTo>
                <a:lnTo>
                  <a:pt x="115" y="349"/>
                </a:lnTo>
                <a:lnTo>
                  <a:pt x="107" y="349"/>
                </a:lnTo>
                <a:lnTo>
                  <a:pt x="104" y="347"/>
                </a:lnTo>
                <a:lnTo>
                  <a:pt x="98" y="347"/>
                </a:lnTo>
                <a:lnTo>
                  <a:pt x="94" y="346"/>
                </a:lnTo>
                <a:lnTo>
                  <a:pt x="88" y="346"/>
                </a:lnTo>
                <a:lnTo>
                  <a:pt x="84" y="344"/>
                </a:lnTo>
                <a:lnTo>
                  <a:pt x="80" y="344"/>
                </a:lnTo>
                <a:lnTo>
                  <a:pt x="79" y="342"/>
                </a:lnTo>
                <a:lnTo>
                  <a:pt x="75" y="342"/>
                </a:lnTo>
                <a:lnTo>
                  <a:pt x="73" y="340"/>
                </a:lnTo>
                <a:lnTo>
                  <a:pt x="67" y="340"/>
                </a:lnTo>
                <a:lnTo>
                  <a:pt x="65" y="338"/>
                </a:lnTo>
                <a:lnTo>
                  <a:pt x="61" y="338"/>
                </a:lnTo>
                <a:lnTo>
                  <a:pt x="59" y="336"/>
                </a:lnTo>
                <a:lnTo>
                  <a:pt x="57" y="336"/>
                </a:lnTo>
                <a:lnTo>
                  <a:pt x="55" y="334"/>
                </a:lnTo>
                <a:lnTo>
                  <a:pt x="52" y="334"/>
                </a:lnTo>
                <a:lnTo>
                  <a:pt x="50" y="332"/>
                </a:lnTo>
                <a:lnTo>
                  <a:pt x="48" y="332"/>
                </a:lnTo>
                <a:lnTo>
                  <a:pt x="46" y="330"/>
                </a:lnTo>
                <a:lnTo>
                  <a:pt x="44" y="330"/>
                </a:lnTo>
                <a:lnTo>
                  <a:pt x="40" y="326"/>
                </a:lnTo>
                <a:lnTo>
                  <a:pt x="38" y="326"/>
                </a:lnTo>
                <a:lnTo>
                  <a:pt x="36" y="326"/>
                </a:lnTo>
                <a:lnTo>
                  <a:pt x="31" y="319"/>
                </a:lnTo>
                <a:lnTo>
                  <a:pt x="29" y="321"/>
                </a:lnTo>
                <a:lnTo>
                  <a:pt x="31" y="319"/>
                </a:lnTo>
                <a:lnTo>
                  <a:pt x="29" y="317"/>
                </a:lnTo>
                <a:lnTo>
                  <a:pt x="29" y="315"/>
                </a:lnTo>
                <a:lnTo>
                  <a:pt x="25" y="311"/>
                </a:lnTo>
                <a:lnTo>
                  <a:pt x="23" y="313"/>
                </a:lnTo>
                <a:lnTo>
                  <a:pt x="25" y="311"/>
                </a:lnTo>
                <a:lnTo>
                  <a:pt x="23" y="309"/>
                </a:lnTo>
                <a:lnTo>
                  <a:pt x="23" y="303"/>
                </a:lnTo>
                <a:lnTo>
                  <a:pt x="21" y="301"/>
                </a:lnTo>
                <a:lnTo>
                  <a:pt x="21" y="299"/>
                </a:lnTo>
                <a:lnTo>
                  <a:pt x="19" y="297"/>
                </a:lnTo>
                <a:lnTo>
                  <a:pt x="19" y="292"/>
                </a:lnTo>
                <a:lnTo>
                  <a:pt x="17" y="290"/>
                </a:lnTo>
                <a:lnTo>
                  <a:pt x="17" y="282"/>
                </a:lnTo>
                <a:lnTo>
                  <a:pt x="15" y="278"/>
                </a:lnTo>
                <a:lnTo>
                  <a:pt x="15" y="267"/>
                </a:lnTo>
                <a:lnTo>
                  <a:pt x="13" y="263"/>
                </a:lnTo>
                <a:lnTo>
                  <a:pt x="13" y="240"/>
                </a:lnTo>
                <a:lnTo>
                  <a:pt x="13" y="238"/>
                </a:lnTo>
                <a:lnTo>
                  <a:pt x="11" y="234"/>
                </a:lnTo>
                <a:lnTo>
                  <a:pt x="11" y="178"/>
                </a:lnTo>
                <a:lnTo>
                  <a:pt x="9" y="171"/>
                </a:lnTo>
                <a:lnTo>
                  <a:pt x="9" y="94"/>
                </a:lnTo>
                <a:lnTo>
                  <a:pt x="7" y="86"/>
                </a:lnTo>
                <a:lnTo>
                  <a:pt x="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Freeform 63"/>
          <p:cNvSpPr/>
          <p:nvPr/>
        </p:nvSpPr>
        <p:spPr>
          <a:xfrm>
            <a:off x="5634000" y="4664160"/>
            <a:ext cx="268200" cy="514440"/>
          </a:xfrm>
          <a:custGeom>
            <a:avLst/>
            <a:gdLst>
              <a:gd name="textAreaLeft" fmla="*/ 0 w 268200"/>
              <a:gd name="textAreaRight" fmla="*/ 268560 w 268200"/>
              <a:gd name="textAreaTop" fmla="*/ 0 h 514440"/>
              <a:gd name="textAreaBottom" fmla="*/ 514440 h 514440"/>
            </a:gdLst>
            <a:ahLst/>
            <a:rect l="textAreaLeft" t="textAreaTop" r="textAreaRight" b="textAreaBottom"/>
            <a:pathLst>
              <a:path w="169" h="324">
                <a:moveTo>
                  <a:pt x="8" y="4"/>
                </a:moveTo>
                <a:lnTo>
                  <a:pt x="8" y="2"/>
                </a:lnTo>
                <a:lnTo>
                  <a:pt x="6" y="2"/>
                </a:lnTo>
                <a:lnTo>
                  <a:pt x="6" y="0"/>
                </a:lnTo>
                <a:lnTo>
                  <a:pt x="2" y="0"/>
                </a:lnTo>
                <a:lnTo>
                  <a:pt x="2" y="2"/>
                </a:lnTo>
                <a:lnTo>
                  <a:pt x="0" y="2"/>
                </a:lnTo>
                <a:lnTo>
                  <a:pt x="0" y="132"/>
                </a:lnTo>
                <a:lnTo>
                  <a:pt x="2" y="138"/>
                </a:lnTo>
                <a:lnTo>
                  <a:pt x="2" y="159"/>
                </a:lnTo>
                <a:lnTo>
                  <a:pt x="4" y="165"/>
                </a:lnTo>
                <a:lnTo>
                  <a:pt x="4" y="163"/>
                </a:lnTo>
                <a:lnTo>
                  <a:pt x="4" y="177"/>
                </a:lnTo>
                <a:lnTo>
                  <a:pt x="6" y="180"/>
                </a:lnTo>
                <a:lnTo>
                  <a:pt x="6" y="190"/>
                </a:lnTo>
                <a:lnTo>
                  <a:pt x="8" y="194"/>
                </a:lnTo>
                <a:lnTo>
                  <a:pt x="8" y="202"/>
                </a:lnTo>
                <a:lnTo>
                  <a:pt x="9" y="203"/>
                </a:lnTo>
                <a:lnTo>
                  <a:pt x="9" y="207"/>
                </a:lnTo>
                <a:lnTo>
                  <a:pt x="11" y="209"/>
                </a:lnTo>
                <a:lnTo>
                  <a:pt x="13" y="213"/>
                </a:lnTo>
                <a:lnTo>
                  <a:pt x="13" y="219"/>
                </a:lnTo>
                <a:lnTo>
                  <a:pt x="17" y="223"/>
                </a:lnTo>
                <a:lnTo>
                  <a:pt x="17" y="227"/>
                </a:lnTo>
                <a:lnTo>
                  <a:pt x="19" y="228"/>
                </a:lnTo>
                <a:lnTo>
                  <a:pt x="19" y="230"/>
                </a:lnTo>
                <a:lnTo>
                  <a:pt x="23" y="234"/>
                </a:lnTo>
                <a:lnTo>
                  <a:pt x="27" y="238"/>
                </a:lnTo>
                <a:lnTo>
                  <a:pt x="36" y="246"/>
                </a:lnTo>
                <a:lnTo>
                  <a:pt x="36" y="248"/>
                </a:lnTo>
                <a:lnTo>
                  <a:pt x="36" y="246"/>
                </a:lnTo>
                <a:lnTo>
                  <a:pt x="42" y="253"/>
                </a:lnTo>
                <a:lnTo>
                  <a:pt x="48" y="255"/>
                </a:lnTo>
                <a:lnTo>
                  <a:pt x="52" y="259"/>
                </a:lnTo>
                <a:lnTo>
                  <a:pt x="54" y="259"/>
                </a:lnTo>
                <a:lnTo>
                  <a:pt x="59" y="265"/>
                </a:lnTo>
                <a:lnTo>
                  <a:pt x="63" y="265"/>
                </a:lnTo>
                <a:lnTo>
                  <a:pt x="65" y="267"/>
                </a:lnTo>
                <a:lnTo>
                  <a:pt x="67" y="267"/>
                </a:lnTo>
                <a:lnTo>
                  <a:pt x="71" y="271"/>
                </a:lnTo>
                <a:lnTo>
                  <a:pt x="75" y="271"/>
                </a:lnTo>
                <a:lnTo>
                  <a:pt x="79" y="275"/>
                </a:lnTo>
                <a:lnTo>
                  <a:pt x="81" y="275"/>
                </a:lnTo>
                <a:lnTo>
                  <a:pt x="82" y="276"/>
                </a:lnTo>
                <a:lnTo>
                  <a:pt x="86" y="276"/>
                </a:lnTo>
                <a:lnTo>
                  <a:pt x="90" y="280"/>
                </a:lnTo>
                <a:lnTo>
                  <a:pt x="92" y="280"/>
                </a:lnTo>
                <a:lnTo>
                  <a:pt x="94" y="282"/>
                </a:lnTo>
                <a:lnTo>
                  <a:pt x="96" y="282"/>
                </a:lnTo>
                <a:lnTo>
                  <a:pt x="98" y="284"/>
                </a:lnTo>
                <a:lnTo>
                  <a:pt x="100" y="284"/>
                </a:lnTo>
                <a:lnTo>
                  <a:pt x="102" y="286"/>
                </a:lnTo>
                <a:lnTo>
                  <a:pt x="106" y="288"/>
                </a:lnTo>
                <a:lnTo>
                  <a:pt x="107" y="288"/>
                </a:lnTo>
                <a:lnTo>
                  <a:pt x="109" y="290"/>
                </a:lnTo>
                <a:lnTo>
                  <a:pt x="111" y="290"/>
                </a:lnTo>
                <a:lnTo>
                  <a:pt x="113" y="292"/>
                </a:lnTo>
                <a:lnTo>
                  <a:pt x="115" y="292"/>
                </a:lnTo>
                <a:lnTo>
                  <a:pt x="117" y="294"/>
                </a:lnTo>
                <a:lnTo>
                  <a:pt x="119" y="294"/>
                </a:lnTo>
                <a:lnTo>
                  <a:pt x="123" y="298"/>
                </a:lnTo>
                <a:lnTo>
                  <a:pt x="125" y="298"/>
                </a:lnTo>
                <a:lnTo>
                  <a:pt x="127" y="299"/>
                </a:lnTo>
                <a:lnTo>
                  <a:pt x="129" y="299"/>
                </a:lnTo>
                <a:lnTo>
                  <a:pt x="130" y="301"/>
                </a:lnTo>
                <a:lnTo>
                  <a:pt x="132" y="301"/>
                </a:lnTo>
                <a:lnTo>
                  <a:pt x="136" y="305"/>
                </a:lnTo>
                <a:lnTo>
                  <a:pt x="138" y="303"/>
                </a:lnTo>
                <a:lnTo>
                  <a:pt x="138" y="305"/>
                </a:lnTo>
                <a:lnTo>
                  <a:pt x="140" y="307"/>
                </a:lnTo>
                <a:lnTo>
                  <a:pt x="144" y="311"/>
                </a:lnTo>
                <a:lnTo>
                  <a:pt x="146" y="311"/>
                </a:lnTo>
                <a:lnTo>
                  <a:pt x="148" y="313"/>
                </a:lnTo>
                <a:lnTo>
                  <a:pt x="150" y="313"/>
                </a:lnTo>
                <a:lnTo>
                  <a:pt x="157" y="321"/>
                </a:lnTo>
                <a:lnTo>
                  <a:pt x="159" y="321"/>
                </a:lnTo>
                <a:lnTo>
                  <a:pt x="163" y="323"/>
                </a:lnTo>
                <a:lnTo>
                  <a:pt x="163" y="324"/>
                </a:lnTo>
                <a:lnTo>
                  <a:pt x="167" y="324"/>
                </a:lnTo>
                <a:lnTo>
                  <a:pt x="169" y="323"/>
                </a:lnTo>
                <a:lnTo>
                  <a:pt x="169" y="319"/>
                </a:lnTo>
                <a:lnTo>
                  <a:pt x="167" y="317"/>
                </a:lnTo>
                <a:lnTo>
                  <a:pt x="167" y="319"/>
                </a:lnTo>
                <a:lnTo>
                  <a:pt x="163" y="313"/>
                </a:lnTo>
                <a:lnTo>
                  <a:pt x="161" y="313"/>
                </a:lnTo>
                <a:lnTo>
                  <a:pt x="157" y="309"/>
                </a:lnTo>
                <a:lnTo>
                  <a:pt x="155" y="311"/>
                </a:lnTo>
                <a:lnTo>
                  <a:pt x="157" y="309"/>
                </a:lnTo>
                <a:lnTo>
                  <a:pt x="154" y="305"/>
                </a:lnTo>
                <a:lnTo>
                  <a:pt x="152" y="305"/>
                </a:lnTo>
                <a:lnTo>
                  <a:pt x="150" y="303"/>
                </a:lnTo>
                <a:lnTo>
                  <a:pt x="148" y="303"/>
                </a:lnTo>
                <a:lnTo>
                  <a:pt x="144" y="299"/>
                </a:lnTo>
                <a:lnTo>
                  <a:pt x="142" y="301"/>
                </a:lnTo>
                <a:lnTo>
                  <a:pt x="142" y="299"/>
                </a:lnTo>
                <a:lnTo>
                  <a:pt x="140" y="298"/>
                </a:lnTo>
                <a:lnTo>
                  <a:pt x="136" y="294"/>
                </a:lnTo>
                <a:lnTo>
                  <a:pt x="134" y="294"/>
                </a:lnTo>
                <a:lnTo>
                  <a:pt x="132" y="292"/>
                </a:lnTo>
                <a:lnTo>
                  <a:pt x="130" y="292"/>
                </a:lnTo>
                <a:lnTo>
                  <a:pt x="129" y="290"/>
                </a:lnTo>
                <a:lnTo>
                  <a:pt x="127" y="290"/>
                </a:lnTo>
                <a:lnTo>
                  <a:pt x="123" y="286"/>
                </a:lnTo>
                <a:lnTo>
                  <a:pt x="121" y="286"/>
                </a:lnTo>
                <a:lnTo>
                  <a:pt x="119" y="284"/>
                </a:lnTo>
                <a:lnTo>
                  <a:pt x="117" y="284"/>
                </a:lnTo>
                <a:lnTo>
                  <a:pt x="115" y="282"/>
                </a:lnTo>
                <a:lnTo>
                  <a:pt x="113" y="282"/>
                </a:lnTo>
                <a:lnTo>
                  <a:pt x="111" y="280"/>
                </a:lnTo>
                <a:lnTo>
                  <a:pt x="107" y="280"/>
                </a:lnTo>
                <a:lnTo>
                  <a:pt x="109" y="280"/>
                </a:lnTo>
                <a:lnTo>
                  <a:pt x="106" y="278"/>
                </a:lnTo>
                <a:lnTo>
                  <a:pt x="104" y="276"/>
                </a:lnTo>
                <a:lnTo>
                  <a:pt x="102" y="276"/>
                </a:lnTo>
                <a:lnTo>
                  <a:pt x="100" y="275"/>
                </a:lnTo>
                <a:lnTo>
                  <a:pt x="98" y="275"/>
                </a:lnTo>
                <a:lnTo>
                  <a:pt x="96" y="273"/>
                </a:lnTo>
                <a:lnTo>
                  <a:pt x="94" y="273"/>
                </a:lnTo>
                <a:lnTo>
                  <a:pt x="92" y="271"/>
                </a:lnTo>
                <a:lnTo>
                  <a:pt x="86" y="269"/>
                </a:lnTo>
                <a:lnTo>
                  <a:pt x="84" y="267"/>
                </a:lnTo>
                <a:lnTo>
                  <a:pt x="82" y="267"/>
                </a:lnTo>
                <a:lnTo>
                  <a:pt x="79" y="263"/>
                </a:lnTo>
                <a:lnTo>
                  <a:pt x="75" y="263"/>
                </a:lnTo>
                <a:lnTo>
                  <a:pt x="71" y="259"/>
                </a:lnTo>
                <a:lnTo>
                  <a:pt x="69" y="259"/>
                </a:lnTo>
                <a:lnTo>
                  <a:pt x="67" y="257"/>
                </a:lnTo>
                <a:lnTo>
                  <a:pt x="63" y="257"/>
                </a:lnTo>
                <a:lnTo>
                  <a:pt x="57" y="251"/>
                </a:lnTo>
                <a:lnTo>
                  <a:pt x="56" y="251"/>
                </a:lnTo>
                <a:lnTo>
                  <a:pt x="52" y="248"/>
                </a:lnTo>
                <a:lnTo>
                  <a:pt x="48" y="248"/>
                </a:lnTo>
                <a:lnTo>
                  <a:pt x="46" y="246"/>
                </a:lnTo>
                <a:lnTo>
                  <a:pt x="40" y="242"/>
                </a:lnTo>
                <a:lnTo>
                  <a:pt x="40" y="240"/>
                </a:lnTo>
                <a:lnTo>
                  <a:pt x="40" y="242"/>
                </a:lnTo>
                <a:lnTo>
                  <a:pt x="31" y="230"/>
                </a:lnTo>
                <a:lnTo>
                  <a:pt x="29" y="232"/>
                </a:lnTo>
                <a:lnTo>
                  <a:pt x="31" y="230"/>
                </a:lnTo>
                <a:lnTo>
                  <a:pt x="27" y="227"/>
                </a:lnTo>
                <a:lnTo>
                  <a:pt x="27" y="225"/>
                </a:lnTo>
                <a:lnTo>
                  <a:pt x="25" y="223"/>
                </a:lnTo>
                <a:lnTo>
                  <a:pt x="25" y="219"/>
                </a:lnTo>
                <a:lnTo>
                  <a:pt x="21" y="215"/>
                </a:lnTo>
                <a:lnTo>
                  <a:pt x="21" y="213"/>
                </a:lnTo>
                <a:lnTo>
                  <a:pt x="19" y="209"/>
                </a:lnTo>
                <a:lnTo>
                  <a:pt x="19" y="205"/>
                </a:lnTo>
                <a:lnTo>
                  <a:pt x="17" y="203"/>
                </a:lnTo>
                <a:lnTo>
                  <a:pt x="17" y="200"/>
                </a:lnTo>
                <a:lnTo>
                  <a:pt x="15" y="198"/>
                </a:lnTo>
                <a:lnTo>
                  <a:pt x="15" y="194"/>
                </a:lnTo>
                <a:lnTo>
                  <a:pt x="13" y="190"/>
                </a:lnTo>
                <a:lnTo>
                  <a:pt x="13" y="180"/>
                </a:lnTo>
                <a:lnTo>
                  <a:pt x="11" y="177"/>
                </a:lnTo>
                <a:lnTo>
                  <a:pt x="11" y="163"/>
                </a:lnTo>
                <a:lnTo>
                  <a:pt x="11" y="161"/>
                </a:lnTo>
                <a:lnTo>
                  <a:pt x="9" y="159"/>
                </a:lnTo>
                <a:lnTo>
                  <a:pt x="9" y="138"/>
                </a:lnTo>
                <a:lnTo>
                  <a:pt x="8" y="132"/>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Freeform 64"/>
          <p:cNvSpPr/>
          <p:nvPr/>
        </p:nvSpPr>
        <p:spPr>
          <a:xfrm>
            <a:off x="5762520" y="5770440"/>
            <a:ext cx="81000" cy="311400"/>
          </a:xfrm>
          <a:custGeom>
            <a:avLst/>
            <a:gdLst>
              <a:gd name="textAreaLeft" fmla="*/ 0 w 81000"/>
              <a:gd name="textAreaRight" fmla="*/ 81360 w 81000"/>
              <a:gd name="textAreaTop" fmla="*/ 0 h 311400"/>
              <a:gd name="textAreaBottom" fmla="*/ 311760 h 311400"/>
            </a:gdLst>
            <a:ahLst/>
            <a:rect l="textAreaLeft" t="textAreaTop" r="textAreaRight" b="textAreaBottom"/>
            <a:pathLst>
              <a:path w="51" h="196">
                <a:moveTo>
                  <a:pt x="7" y="4"/>
                </a:moveTo>
                <a:lnTo>
                  <a:pt x="7" y="2"/>
                </a:lnTo>
                <a:lnTo>
                  <a:pt x="5" y="2"/>
                </a:lnTo>
                <a:lnTo>
                  <a:pt x="5" y="0"/>
                </a:lnTo>
                <a:lnTo>
                  <a:pt x="1" y="0"/>
                </a:lnTo>
                <a:lnTo>
                  <a:pt x="1" y="2"/>
                </a:lnTo>
                <a:lnTo>
                  <a:pt x="0" y="2"/>
                </a:lnTo>
                <a:lnTo>
                  <a:pt x="0" y="77"/>
                </a:lnTo>
                <a:lnTo>
                  <a:pt x="1" y="81"/>
                </a:lnTo>
                <a:lnTo>
                  <a:pt x="1" y="96"/>
                </a:lnTo>
                <a:lnTo>
                  <a:pt x="3" y="98"/>
                </a:lnTo>
                <a:lnTo>
                  <a:pt x="3" y="106"/>
                </a:lnTo>
                <a:lnTo>
                  <a:pt x="5" y="111"/>
                </a:lnTo>
                <a:lnTo>
                  <a:pt x="5" y="109"/>
                </a:lnTo>
                <a:lnTo>
                  <a:pt x="5" y="117"/>
                </a:lnTo>
                <a:lnTo>
                  <a:pt x="7" y="119"/>
                </a:lnTo>
                <a:lnTo>
                  <a:pt x="7" y="123"/>
                </a:lnTo>
                <a:lnTo>
                  <a:pt x="9" y="125"/>
                </a:lnTo>
                <a:lnTo>
                  <a:pt x="9" y="129"/>
                </a:lnTo>
                <a:lnTo>
                  <a:pt x="11" y="131"/>
                </a:lnTo>
                <a:lnTo>
                  <a:pt x="11" y="134"/>
                </a:lnTo>
                <a:lnTo>
                  <a:pt x="13" y="136"/>
                </a:lnTo>
                <a:lnTo>
                  <a:pt x="15" y="140"/>
                </a:lnTo>
                <a:lnTo>
                  <a:pt x="15" y="142"/>
                </a:lnTo>
                <a:lnTo>
                  <a:pt x="17" y="148"/>
                </a:lnTo>
                <a:lnTo>
                  <a:pt x="19" y="150"/>
                </a:lnTo>
                <a:lnTo>
                  <a:pt x="21" y="156"/>
                </a:lnTo>
                <a:lnTo>
                  <a:pt x="23" y="158"/>
                </a:lnTo>
                <a:lnTo>
                  <a:pt x="23" y="159"/>
                </a:lnTo>
                <a:lnTo>
                  <a:pt x="26" y="163"/>
                </a:lnTo>
                <a:lnTo>
                  <a:pt x="26" y="167"/>
                </a:lnTo>
                <a:lnTo>
                  <a:pt x="30" y="171"/>
                </a:lnTo>
                <a:lnTo>
                  <a:pt x="32" y="173"/>
                </a:lnTo>
                <a:lnTo>
                  <a:pt x="32" y="177"/>
                </a:lnTo>
                <a:lnTo>
                  <a:pt x="36" y="181"/>
                </a:lnTo>
                <a:lnTo>
                  <a:pt x="38" y="182"/>
                </a:lnTo>
                <a:lnTo>
                  <a:pt x="38" y="186"/>
                </a:lnTo>
                <a:lnTo>
                  <a:pt x="42" y="190"/>
                </a:lnTo>
                <a:lnTo>
                  <a:pt x="44" y="194"/>
                </a:lnTo>
                <a:lnTo>
                  <a:pt x="46" y="194"/>
                </a:lnTo>
                <a:lnTo>
                  <a:pt x="46" y="196"/>
                </a:lnTo>
                <a:lnTo>
                  <a:pt x="49" y="196"/>
                </a:lnTo>
                <a:lnTo>
                  <a:pt x="49" y="194"/>
                </a:lnTo>
                <a:lnTo>
                  <a:pt x="51" y="194"/>
                </a:lnTo>
                <a:lnTo>
                  <a:pt x="51" y="190"/>
                </a:lnTo>
                <a:lnTo>
                  <a:pt x="49" y="186"/>
                </a:lnTo>
                <a:lnTo>
                  <a:pt x="46" y="182"/>
                </a:lnTo>
                <a:lnTo>
                  <a:pt x="44" y="177"/>
                </a:lnTo>
                <a:lnTo>
                  <a:pt x="40" y="173"/>
                </a:lnTo>
                <a:lnTo>
                  <a:pt x="38" y="167"/>
                </a:lnTo>
                <a:lnTo>
                  <a:pt x="34" y="163"/>
                </a:lnTo>
                <a:lnTo>
                  <a:pt x="32" y="158"/>
                </a:lnTo>
                <a:lnTo>
                  <a:pt x="30" y="156"/>
                </a:lnTo>
                <a:lnTo>
                  <a:pt x="30" y="154"/>
                </a:lnTo>
                <a:lnTo>
                  <a:pt x="28" y="152"/>
                </a:lnTo>
                <a:lnTo>
                  <a:pt x="26" y="150"/>
                </a:lnTo>
                <a:lnTo>
                  <a:pt x="26" y="146"/>
                </a:lnTo>
                <a:lnTo>
                  <a:pt x="25" y="144"/>
                </a:lnTo>
                <a:lnTo>
                  <a:pt x="23" y="142"/>
                </a:lnTo>
                <a:lnTo>
                  <a:pt x="23" y="140"/>
                </a:lnTo>
                <a:lnTo>
                  <a:pt x="21" y="136"/>
                </a:lnTo>
                <a:lnTo>
                  <a:pt x="21" y="133"/>
                </a:lnTo>
                <a:lnTo>
                  <a:pt x="19" y="131"/>
                </a:lnTo>
                <a:lnTo>
                  <a:pt x="19" y="127"/>
                </a:lnTo>
                <a:lnTo>
                  <a:pt x="17" y="125"/>
                </a:lnTo>
                <a:lnTo>
                  <a:pt x="17" y="121"/>
                </a:lnTo>
                <a:lnTo>
                  <a:pt x="15" y="119"/>
                </a:lnTo>
                <a:lnTo>
                  <a:pt x="15" y="115"/>
                </a:lnTo>
                <a:lnTo>
                  <a:pt x="13" y="113"/>
                </a:lnTo>
                <a:lnTo>
                  <a:pt x="13" y="109"/>
                </a:lnTo>
                <a:lnTo>
                  <a:pt x="13" y="108"/>
                </a:lnTo>
                <a:lnTo>
                  <a:pt x="11" y="106"/>
                </a:lnTo>
                <a:lnTo>
                  <a:pt x="11" y="94"/>
                </a:lnTo>
                <a:lnTo>
                  <a:pt x="9" y="92"/>
                </a:lnTo>
                <a:lnTo>
                  <a:pt x="9" y="81"/>
                </a:lnTo>
                <a:lnTo>
                  <a:pt x="7" y="77"/>
                </a:lnTo>
                <a:lnTo>
                  <a:pt x="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Oval 65"/>
          <p:cNvSpPr/>
          <p:nvPr/>
        </p:nvSpPr>
        <p:spPr>
          <a:xfrm>
            <a:off x="3316320" y="2432160"/>
            <a:ext cx="914400" cy="911160"/>
          </a:xfrm>
          <a:prstGeom prst="ellipse">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5" name="Freeform 66"/>
          <p:cNvSpPr/>
          <p:nvPr/>
        </p:nvSpPr>
        <p:spPr>
          <a:xfrm>
            <a:off x="3309840" y="2425680"/>
            <a:ext cx="924120" cy="920880"/>
          </a:xfrm>
          <a:custGeom>
            <a:avLst/>
            <a:gdLst>
              <a:gd name="textAreaLeft" fmla="*/ 0 w 924120"/>
              <a:gd name="textAreaRight" fmla="*/ 924480 w 924120"/>
              <a:gd name="textAreaTop" fmla="*/ 0 h 920880"/>
              <a:gd name="textAreaBottom" fmla="*/ 921240 h 920880"/>
            </a:gdLst>
            <a:ahLst/>
            <a:rect l="textAreaLeft" t="textAreaTop" r="textAreaRight" b="textAreaBottom"/>
            <a:pathLst>
              <a:path w="582" h="580">
                <a:moveTo>
                  <a:pt x="0" y="290"/>
                </a:moveTo>
                <a:lnTo>
                  <a:pt x="0" y="319"/>
                </a:lnTo>
                <a:lnTo>
                  <a:pt x="2" y="333"/>
                </a:lnTo>
                <a:lnTo>
                  <a:pt x="6" y="346"/>
                </a:lnTo>
                <a:lnTo>
                  <a:pt x="8" y="361"/>
                </a:lnTo>
                <a:lnTo>
                  <a:pt x="12" y="377"/>
                </a:lnTo>
                <a:lnTo>
                  <a:pt x="18" y="390"/>
                </a:lnTo>
                <a:lnTo>
                  <a:pt x="21" y="402"/>
                </a:lnTo>
                <a:lnTo>
                  <a:pt x="27" y="415"/>
                </a:lnTo>
                <a:lnTo>
                  <a:pt x="35" y="427"/>
                </a:lnTo>
                <a:lnTo>
                  <a:pt x="41" y="440"/>
                </a:lnTo>
                <a:lnTo>
                  <a:pt x="56" y="463"/>
                </a:lnTo>
                <a:lnTo>
                  <a:pt x="66" y="473"/>
                </a:lnTo>
                <a:lnTo>
                  <a:pt x="73" y="484"/>
                </a:lnTo>
                <a:lnTo>
                  <a:pt x="94" y="505"/>
                </a:lnTo>
                <a:lnTo>
                  <a:pt x="106" y="513"/>
                </a:lnTo>
                <a:lnTo>
                  <a:pt x="116" y="523"/>
                </a:lnTo>
                <a:lnTo>
                  <a:pt x="139" y="538"/>
                </a:lnTo>
                <a:lnTo>
                  <a:pt x="152" y="544"/>
                </a:lnTo>
                <a:lnTo>
                  <a:pt x="164" y="551"/>
                </a:lnTo>
                <a:lnTo>
                  <a:pt x="177" y="557"/>
                </a:lnTo>
                <a:lnTo>
                  <a:pt x="189" y="561"/>
                </a:lnTo>
                <a:lnTo>
                  <a:pt x="202" y="567"/>
                </a:lnTo>
                <a:lnTo>
                  <a:pt x="217" y="571"/>
                </a:lnTo>
                <a:lnTo>
                  <a:pt x="233" y="573"/>
                </a:lnTo>
                <a:lnTo>
                  <a:pt x="246" y="576"/>
                </a:lnTo>
                <a:lnTo>
                  <a:pt x="260" y="578"/>
                </a:lnTo>
                <a:lnTo>
                  <a:pt x="275" y="578"/>
                </a:lnTo>
                <a:lnTo>
                  <a:pt x="290" y="580"/>
                </a:lnTo>
                <a:lnTo>
                  <a:pt x="304" y="578"/>
                </a:lnTo>
                <a:lnTo>
                  <a:pt x="319" y="578"/>
                </a:lnTo>
                <a:lnTo>
                  <a:pt x="333" y="576"/>
                </a:lnTo>
                <a:lnTo>
                  <a:pt x="348" y="573"/>
                </a:lnTo>
                <a:lnTo>
                  <a:pt x="361" y="571"/>
                </a:lnTo>
                <a:lnTo>
                  <a:pt x="377" y="567"/>
                </a:lnTo>
                <a:lnTo>
                  <a:pt x="390" y="561"/>
                </a:lnTo>
                <a:lnTo>
                  <a:pt x="404" y="557"/>
                </a:lnTo>
                <a:lnTo>
                  <a:pt x="417" y="551"/>
                </a:lnTo>
                <a:lnTo>
                  <a:pt x="429" y="544"/>
                </a:lnTo>
                <a:lnTo>
                  <a:pt x="440" y="538"/>
                </a:lnTo>
                <a:lnTo>
                  <a:pt x="463" y="523"/>
                </a:lnTo>
                <a:lnTo>
                  <a:pt x="475" y="513"/>
                </a:lnTo>
                <a:lnTo>
                  <a:pt x="484" y="505"/>
                </a:lnTo>
                <a:lnTo>
                  <a:pt x="496" y="494"/>
                </a:lnTo>
                <a:lnTo>
                  <a:pt x="507" y="484"/>
                </a:lnTo>
                <a:lnTo>
                  <a:pt x="515" y="473"/>
                </a:lnTo>
                <a:lnTo>
                  <a:pt x="525" y="463"/>
                </a:lnTo>
                <a:lnTo>
                  <a:pt x="540" y="440"/>
                </a:lnTo>
                <a:lnTo>
                  <a:pt x="546" y="427"/>
                </a:lnTo>
                <a:lnTo>
                  <a:pt x="554" y="415"/>
                </a:lnTo>
                <a:lnTo>
                  <a:pt x="559" y="402"/>
                </a:lnTo>
                <a:lnTo>
                  <a:pt x="563" y="390"/>
                </a:lnTo>
                <a:lnTo>
                  <a:pt x="569" y="377"/>
                </a:lnTo>
                <a:lnTo>
                  <a:pt x="573" y="361"/>
                </a:lnTo>
                <a:lnTo>
                  <a:pt x="575" y="346"/>
                </a:lnTo>
                <a:lnTo>
                  <a:pt x="578" y="333"/>
                </a:lnTo>
                <a:lnTo>
                  <a:pt x="580" y="319"/>
                </a:lnTo>
                <a:lnTo>
                  <a:pt x="580" y="304"/>
                </a:lnTo>
                <a:lnTo>
                  <a:pt x="582" y="290"/>
                </a:lnTo>
                <a:lnTo>
                  <a:pt x="580" y="275"/>
                </a:lnTo>
                <a:lnTo>
                  <a:pt x="580" y="260"/>
                </a:lnTo>
                <a:lnTo>
                  <a:pt x="578" y="246"/>
                </a:lnTo>
                <a:lnTo>
                  <a:pt x="575" y="233"/>
                </a:lnTo>
                <a:lnTo>
                  <a:pt x="573" y="217"/>
                </a:lnTo>
                <a:lnTo>
                  <a:pt x="569" y="202"/>
                </a:lnTo>
                <a:lnTo>
                  <a:pt x="563" y="188"/>
                </a:lnTo>
                <a:lnTo>
                  <a:pt x="559" y="177"/>
                </a:lnTo>
                <a:lnTo>
                  <a:pt x="554" y="164"/>
                </a:lnTo>
                <a:lnTo>
                  <a:pt x="546" y="152"/>
                </a:lnTo>
                <a:lnTo>
                  <a:pt x="540" y="139"/>
                </a:lnTo>
                <a:lnTo>
                  <a:pt x="525" y="116"/>
                </a:lnTo>
                <a:lnTo>
                  <a:pt x="515" y="106"/>
                </a:lnTo>
                <a:lnTo>
                  <a:pt x="507" y="94"/>
                </a:lnTo>
                <a:lnTo>
                  <a:pt x="496" y="85"/>
                </a:lnTo>
                <a:lnTo>
                  <a:pt x="484" y="73"/>
                </a:lnTo>
                <a:lnTo>
                  <a:pt x="475" y="66"/>
                </a:lnTo>
                <a:lnTo>
                  <a:pt x="463" y="56"/>
                </a:lnTo>
                <a:lnTo>
                  <a:pt x="440" y="41"/>
                </a:lnTo>
                <a:lnTo>
                  <a:pt x="429" y="35"/>
                </a:lnTo>
                <a:lnTo>
                  <a:pt x="417" y="27"/>
                </a:lnTo>
                <a:lnTo>
                  <a:pt x="404" y="21"/>
                </a:lnTo>
                <a:lnTo>
                  <a:pt x="390" y="18"/>
                </a:lnTo>
                <a:lnTo>
                  <a:pt x="377" y="12"/>
                </a:lnTo>
                <a:lnTo>
                  <a:pt x="361" y="8"/>
                </a:lnTo>
                <a:lnTo>
                  <a:pt x="348" y="6"/>
                </a:lnTo>
                <a:lnTo>
                  <a:pt x="333" y="2"/>
                </a:lnTo>
                <a:lnTo>
                  <a:pt x="319" y="0"/>
                </a:lnTo>
                <a:lnTo>
                  <a:pt x="260" y="0"/>
                </a:lnTo>
                <a:lnTo>
                  <a:pt x="246" y="2"/>
                </a:lnTo>
                <a:lnTo>
                  <a:pt x="233" y="6"/>
                </a:lnTo>
                <a:lnTo>
                  <a:pt x="217" y="8"/>
                </a:lnTo>
                <a:lnTo>
                  <a:pt x="202" y="12"/>
                </a:lnTo>
                <a:lnTo>
                  <a:pt x="189" y="18"/>
                </a:lnTo>
                <a:lnTo>
                  <a:pt x="177" y="21"/>
                </a:lnTo>
                <a:lnTo>
                  <a:pt x="164" y="27"/>
                </a:lnTo>
                <a:lnTo>
                  <a:pt x="152" y="35"/>
                </a:lnTo>
                <a:lnTo>
                  <a:pt x="139" y="41"/>
                </a:lnTo>
                <a:lnTo>
                  <a:pt x="116" y="56"/>
                </a:lnTo>
                <a:lnTo>
                  <a:pt x="106" y="66"/>
                </a:lnTo>
                <a:lnTo>
                  <a:pt x="94" y="73"/>
                </a:lnTo>
                <a:lnTo>
                  <a:pt x="73" y="94"/>
                </a:lnTo>
                <a:lnTo>
                  <a:pt x="66" y="106"/>
                </a:lnTo>
                <a:lnTo>
                  <a:pt x="56" y="116"/>
                </a:lnTo>
                <a:lnTo>
                  <a:pt x="41" y="139"/>
                </a:lnTo>
                <a:lnTo>
                  <a:pt x="35" y="152"/>
                </a:lnTo>
                <a:lnTo>
                  <a:pt x="27" y="164"/>
                </a:lnTo>
                <a:lnTo>
                  <a:pt x="21" y="177"/>
                </a:lnTo>
                <a:lnTo>
                  <a:pt x="18" y="188"/>
                </a:lnTo>
                <a:lnTo>
                  <a:pt x="12" y="202"/>
                </a:lnTo>
                <a:lnTo>
                  <a:pt x="8" y="217"/>
                </a:lnTo>
                <a:lnTo>
                  <a:pt x="6" y="233"/>
                </a:lnTo>
                <a:lnTo>
                  <a:pt x="2" y="246"/>
                </a:lnTo>
                <a:lnTo>
                  <a:pt x="0" y="260"/>
                </a:lnTo>
                <a:lnTo>
                  <a:pt x="0" y="290"/>
                </a:lnTo>
                <a:lnTo>
                  <a:pt x="8" y="290"/>
                </a:lnTo>
                <a:lnTo>
                  <a:pt x="8" y="260"/>
                </a:lnTo>
                <a:lnTo>
                  <a:pt x="10" y="246"/>
                </a:lnTo>
                <a:lnTo>
                  <a:pt x="14" y="233"/>
                </a:lnTo>
                <a:lnTo>
                  <a:pt x="16" y="217"/>
                </a:lnTo>
                <a:lnTo>
                  <a:pt x="20" y="206"/>
                </a:lnTo>
                <a:lnTo>
                  <a:pt x="25" y="192"/>
                </a:lnTo>
                <a:lnTo>
                  <a:pt x="29" y="181"/>
                </a:lnTo>
                <a:lnTo>
                  <a:pt x="35" y="167"/>
                </a:lnTo>
                <a:lnTo>
                  <a:pt x="43" y="156"/>
                </a:lnTo>
                <a:lnTo>
                  <a:pt x="48" y="142"/>
                </a:lnTo>
                <a:lnTo>
                  <a:pt x="64" y="119"/>
                </a:lnTo>
                <a:lnTo>
                  <a:pt x="73" y="110"/>
                </a:lnTo>
                <a:lnTo>
                  <a:pt x="81" y="98"/>
                </a:lnTo>
                <a:lnTo>
                  <a:pt x="98" y="81"/>
                </a:lnTo>
                <a:lnTo>
                  <a:pt x="110" y="73"/>
                </a:lnTo>
                <a:lnTo>
                  <a:pt x="119" y="64"/>
                </a:lnTo>
                <a:lnTo>
                  <a:pt x="142" y="48"/>
                </a:lnTo>
                <a:lnTo>
                  <a:pt x="156" y="43"/>
                </a:lnTo>
                <a:lnTo>
                  <a:pt x="167" y="35"/>
                </a:lnTo>
                <a:lnTo>
                  <a:pt x="181" y="29"/>
                </a:lnTo>
                <a:lnTo>
                  <a:pt x="192" y="25"/>
                </a:lnTo>
                <a:lnTo>
                  <a:pt x="206" y="19"/>
                </a:lnTo>
                <a:lnTo>
                  <a:pt x="217" y="16"/>
                </a:lnTo>
                <a:lnTo>
                  <a:pt x="233" y="14"/>
                </a:lnTo>
                <a:lnTo>
                  <a:pt x="246" y="10"/>
                </a:lnTo>
                <a:lnTo>
                  <a:pt x="260" y="8"/>
                </a:lnTo>
                <a:lnTo>
                  <a:pt x="290" y="8"/>
                </a:lnTo>
                <a:lnTo>
                  <a:pt x="319" y="8"/>
                </a:lnTo>
                <a:lnTo>
                  <a:pt x="333" y="10"/>
                </a:lnTo>
                <a:lnTo>
                  <a:pt x="348" y="14"/>
                </a:lnTo>
                <a:lnTo>
                  <a:pt x="361" y="16"/>
                </a:lnTo>
                <a:lnTo>
                  <a:pt x="373" y="19"/>
                </a:lnTo>
                <a:lnTo>
                  <a:pt x="386" y="25"/>
                </a:lnTo>
                <a:lnTo>
                  <a:pt x="400" y="29"/>
                </a:lnTo>
                <a:lnTo>
                  <a:pt x="413" y="35"/>
                </a:lnTo>
                <a:lnTo>
                  <a:pt x="425" y="43"/>
                </a:lnTo>
                <a:lnTo>
                  <a:pt x="436" y="48"/>
                </a:lnTo>
                <a:lnTo>
                  <a:pt x="459" y="64"/>
                </a:lnTo>
                <a:lnTo>
                  <a:pt x="471" y="73"/>
                </a:lnTo>
                <a:lnTo>
                  <a:pt x="481" y="81"/>
                </a:lnTo>
                <a:lnTo>
                  <a:pt x="492" y="89"/>
                </a:lnTo>
                <a:lnTo>
                  <a:pt x="500" y="98"/>
                </a:lnTo>
                <a:lnTo>
                  <a:pt x="507" y="110"/>
                </a:lnTo>
                <a:lnTo>
                  <a:pt x="517" y="119"/>
                </a:lnTo>
                <a:lnTo>
                  <a:pt x="532" y="142"/>
                </a:lnTo>
                <a:lnTo>
                  <a:pt x="538" y="156"/>
                </a:lnTo>
                <a:lnTo>
                  <a:pt x="546" y="167"/>
                </a:lnTo>
                <a:lnTo>
                  <a:pt x="552" y="181"/>
                </a:lnTo>
                <a:lnTo>
                  <a:pt x="555" y="192"/>
                </a:lnTo>
                <a:lnTo>
                  <a:pt x="561" y="206"/>
                </a:lnTo>
                <a:lnTo>
                  <a:pt x="565" y="217"/>
                </a:lnTo>
                <a:lnTo>
                  <a:pt x="567" y="233"/>
                </a:lnTo>
                <a:lnTo>
                  <a:pt x="571" y="246"/>
                </a:lnTo>
                <a:lnTo>
                  <a:pt x="573" y="260"/>
                </a:lnTo>
                <a:lnTo>
                  <a:pt x="573" y="275"/>
                </a:lnTo>
                <a:lnTo>
                  <a:pt x="575" y="290"/>
                </a:lnTo>
                <a:lnTo>
                  <a:pt x="573" y="304"/>
                </a:lnTo>
                <a:lnTo>
                  <a:pt x="573" y="319"/>
                </a:lnTo>
                <a:lnTo>
                  <a:pt x="571" y="333"/>
                </a:lnTo>
                <a:lnTo>
                  <a:pt x="567" y="346"/>
                </a:lnTo>
                <a:lnTo>
                  <a:pt x="565" y="361"/>
                </a:lnTo>
                <a:lnTo>
                  <a:pt x="561" y="373"/>
                </a:lnTo>
                <a:lnTo>
                  <a:pt x="555" y="386"/>
                </a:lnTo>
                <a:lnTo>
                  <a:pt x="552" y="398"/>
                </a:lnTo>
                <a:lnTo>
                  <a:pt x="546" y="411"/>
                </a:lnTo>
                <a:lnTo>
                  <a:pt x="538" y="423"/>
                </a:lnTo>
                <a:lnTo>
                  <a:pt x="532" y="436"/>
                </a:lnTo>
                <a:lnTo>
                  <a:pt x="517" y="459"/>
                </a:lnTo>
                <a:lnTo>
                  <a:pt x="507" y="469"/>
                </a:lnTo>
                <a:lnTo>
                  <a:pt x="500" y="480"/>
                </a:lnTo>
                <a:lnTo>
                  <a:pt x="492" y="490"/>
                </a:lnTo>
                <a:lnTo>
                  <a:pt x="481" y="498"/>
                </a:lnTo>
                <a:lnTo>
                  <a:pt x="471" y="505"/>
                </a:lnTo>
                <a:lnTo>
                  <a:pt x="459" y="515"/>
                </a:lnTo>
                <a:lnTo>
                  <a:pt x="436" y="530"/>
                </a:lnTo>
                <a:lnTo>
                  <a:pt x="425" y="536"/>
                </a:lnTo>
                <a:lnTo>
                  <a:pt x="413" y="544"/>
                </a:lnTo>
                <a:lnTo>
                  <a:pt x="400" y="550"/>
                </a:lnTo>
                <a:lnTo>
                  <a:pt x="386" y="553"/>
                </a:lnTo>
                <a:lnTo>
                  <a:pt x="373" y="559"/>
                </a:lnTo>
                <a:lnTo>
                  <a:pt x="361" y="563"/>
                </a:lnTo>
                <a:lnTo>
                  <a:pt x="348" y="565"/>
                </a:lnTo>
                <a:lnTo>
                  <a:pt x="333" y="569"/>
                </a:lnTo>
                <a:lnTo>
                  <a:pt x="319" y="571"/>
                </a:lnTo>
                <a:lnTo>
                  <a:pt x="304" y="571"/>
                </a:lnTo>
                <a:lnTo>
                  <a:pt x="290" y="573"/>
                </a:lnTo>
                <a:lnTo>
                  <a:pt x="275" y="571"/>
                </a:lnTo>
                <a:lnTo>
                  <a:pt x="260" y="571"/>
                </a:lnTo>
                <a:lnTo>
                  <a:pt x="246" y="569"/>
                </a:lnTo>
                <a:lnTo>
                  <a:pt x="233" y="565"/>
                </a:lnTo>
                <a:lnTo>
                  <a:pt x="217" y="563"/>
                </a:lnTo>
                <a:lnTo>
                  <a:pt x="206" y="559"/>
                </a:lnTo>
                <a:lnTo>
                  <a:pt x="192" y="553"/>
                </a:lnTo>
                <a:lnTo>
                  <a:pt x="181" y="550"/>
                </a:lnTo>
                <a:lnTo>
                  <a:pt x="167" y="544"/>
                </a:lnTo>
                <a:lnTo>
                  <a:pt x="156" y="536"/>
                </a:lnTo>
                <a:lnTo>
                  <a:pt x="142" y="530"/>
                </a:lnTo>
                <a:lnTo>
                  <a:pt x="119" y="515"/>
                </a:lnTo>
                <a:lnTo>
                  <a:pt x="110" y="505"/>
                </a:lnTo>
                <a:lnTo>
                  <a:pt x="98" y="498"/>
                </a:lnTo>
                <a:lnTo>
                  <a:pt x="81" y="480"/>
                </a:lnTo>
                <a:lnTo>
                  <a:pt x="73" y="469"/>
                </a:lnTo>
                <a:lnTo>
                  <a:pt x="64" y="459"/>
                </a:lnTo>
                <a:lnTo>
                  <a:pt x="48" y="436"/>
                </a:lnTo>
                <a:lnTo>
                  <a:pt x="43" y="423"/>
                </a:lnTo>
                <a:lnTo>
                  <a:pt x="35" y="411"/>
                </a:lnTo>
                <a:lnTo>
                  <a:pt x="29" y="398"/>
                </a:lnTo>
                <a:lnTo>
                  <a:pt x="25" y="386"/>
                </a:lnTo>
                <a:lnTo>
                  <a:pt x="20" y="373"/>
                </a:lnTo>
                <a:lnTo>
                  <a:pt x="16" y="361"/>
                </a:lnTo>
                <a:lnTo>
                  <a:pt x="14" y="346"/>
                </a:lnTo>
                <a:lnTo>
                  <a:pt x="10" y="333"/>
                </a:lnTo>
                <a:lnTo>
                  <a:pt x="8" y="319"/>
                </a:lnTo>
                <a:lnTo>
                  <a:pt x="8" y="290"/>
                </a:lnTo>
                <a:lnTo>
                  <a:pt x="0"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Freeform 67"/>
          <p:cNvSpPr/>
          <p:nvPr/>
        </p:nvSpPr>
        <p:spPr>
          <a:xfrm>
            <a:off x="3425760" y="2955960"/>
            <a:ext cx="141480" cy="119160"/>
          </a:xfrm>
          <a:custGeom>
            <a:avLst/>
            <a:gdLst>
              <a:gd name="textAreaLeft" fmla="*/ 0 w 141480"/>
              <a:gd name="textAreaRight" fmla="*/ 141840 w 141480"/>
              <a:gd name="textAreaTop" fmla="*/ 0 h 119160"/>
              <a:gd name="textAreaBottom" fmla="*/ 119520 h 119160"/>
            </a:gdLst>
            <a:ahLst/>
            <a:rect l="textAreaLeft" t="textAreaTop" r="textAreaRight" b="textAreaBottom"/>
            <a:pathLst>
              <a:path w="89" h="75">
                <a:moveTo>
                  <a:pt x="4" y="0"/>
                </a:moveTo>
                <a:lnTo>
                  <a:pt x="0" y="12"/>
                </a:lnTo>
                <a:lnTo>
                  <a:pt x="2" y="20"/>
                </a:lnTo>
                <a:lnTo>
                  <a:pt x="8" y="27"/>
                </a:lnTo>
                <a:lnTo>
                  <a:pt x="18" y="39"/>
                </a:lnTo>
                <a:lnTo>
                  <a:pt x="29" y="48"/>
                </a:lnTo>
                <a:lnTo>
                  <a:pt x="56" y="68"/>
                </a:lnTo>
                <a:lnTo>
                  <a:pt x="68" y="73"/>
                </a:lnTo>
                <a:lnTo>
                  <a:pt x="79" y="75"/>
                </a:lnTo>
                <a:lnTo>
                  <a:pt x="87" y="73"/>
                </a:lnTo>
                <a:lnTo>
                  <a:pt x="89" y="68"/>
                </a:lnTo>
                <a:lnTo>
                  <a:pt x="87" y="56"/>
                </a:lnTo>
                <a:lnTo>
                  <a:pt x="79" y="43"/>
                </a:lnTo>
                <a:lnTo>
                  <a:pt x="56" y="18"/>
                </a:lnTo>
                <a:lnTo>
                  <a:pt x="45" y="10"/>
                </a:lnTo>
                <a:lnTo>
                  <a:pt x="31" y="4"/>
                </a:lnTo>
                <a:lnTo>
                  <a:pt x="4"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Freeform 68"/>
          <p:cNvSpPr/>
          <p:nvPr/>
        </p:nvSpPr>
        <p:spPr>
          <a:xfrm>
            <a:off x="3362400" y="2782800"/>
            <a:ext cx="115920" cy="96840"/>
          </a:xfrm>
          <a:custGeom>
            <a:avLst/>
            <a:gdLst>
              <a:gd name="textAreaLeft" fmla="*/ 0 w 115920"/>
              <a:gd name="textAreaRight" fmla="*/ 116280 w 115920"/>
              <a:gd name="textAreaTop" fmla="*/ 0 h 96840"/>
              <a:gd name="textAreaBottom" fmla="*/ 97200 h 96840"/>
            </a:gdLst>
            <a:ahLst/>
            <a:rect l="textAreaLeft" t="textAreaTop" r="textAreaRight" b="textAreaBottom"/>
            <a:pathLst>
              <a:path w="73" h="61">
                <a:moveTo>
                  <a:pt x="0" y="21"/>
                </a:moveTo>
                <a:lnTo>
                  <a:pt x="12" y="8"/>
                </a:lnTo>
                <a:lnTo>
                  <a:pt x="27" y="0"/>
                </a:lnTo>
                <a:lnTo>
                  <a:pt x="48" y="0"/>
                </a:lnTo>
                <a:lnTo>
                  <a:pt x="58" y="4"/>
                </a:lnTo>
                <a:lnTo>
                  <a:pt x="65" y="10"/>
                </a:lnTo>
                <a:lnTo>
                  <a:pt x="71" y="17"/>
                </a:lnTo>
                <a:lnTo>
                  <a:pt x="73" y="29"/>
                </a:lnTo>
                <a:lnTo>
                  <a:pt x="71" y="38"/>
                </a:lnTo>
                <a:lnTo>
                  <a:pt x="67" y="48"/>
                </a:lnTo>
                <a:lnTo>
                  <a:pt x="60" y="56"/>
                </a:lnTo>
                <a:lnTo>
                  <a:pt x="52" y="60"/>
                </a:lnTo>
                <a:lnTo>
                  <a:pt x="40" y="61"/>
                </a:lnTo>
                <a:lnTo>
                  <a:pt x="31" y="60"/>
                </a:lnTo>
                <a:lnTo>
                  <a:pt x="23" y="54"/>
                </a:lnTo>
                <a:lnTo>
                  <a:pt x="15" y="44"/>
                </a:lnTo>
                <a:lnTo>
                  <a:pt x="0" y="21"/>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Freeform 69"/>
          <p:cNvSpPr/>
          <p:nvPr/>
        </p:nvSpPr>
        <p:spPr>
          <a:xfrm>
            <a:off x="3657600" y="2995560"/>
            <a:ext cx="128520" cy="141480"/>
          </a:xfrm>
          <a:custGeom>
            <a:avLst/>
            <a:gdLst>
              <a:gd name="textAreaLeft" fmla="*/ 0 w 128520"/>
              <a:gd name="textAreaRight" fmla="*/ 128880 w 128520"/>
              <a:gd name="textAreaTop" fmla="*/ 0 h 141480"/>
              <a:gd name="textAreaBottom" fmla="*/ 141840 h 141480"/>
            </a:gdLst>
            <a:ahLst/>
            <a:rect l="textAreaLeft" t="textAreaTop" r="textAreaRight" b="textAreaBottom"/>
            <a:pathLst>
              <a:path w="81" h="89">
                <a:moveTo>
                  <a:pt x="25" y="6"/>
                </a:moveTo>
                <a:lnTo>
                  <a:pt x="8" y="20"/>
                </a:lnTo>
                <a:lnTo>
                  <a:pt x="2" y="27"/>
                </a:lnTo>
                <a:lnTo>
                  <a:pt x="0" y="37"/>
                </a:lnTo>
                <a:lnTo>
                  <a:pt x="4" y="50"/>
                </a:lnTo>
                <a:lnTo>
                  <a:pt x="12" y="64"/>
                </a:lnTo>
                <a:lnTo>
                  <a:pt x="23" y="77"/>
                </a:lnTo>
                <a:lnTo>
                  <a:pt x="35" y="85"/>
                </a:lnTo>
                <a:lnTo>
                  <a:pt x="48" y="89"/>
                </a:lnTo>
                <a:lnTo>
                  <a:pt x="62" y="87"/>
                </a:lnTo>
                <a:lnTo>
                  <a:pt x="71" y="79"/>
                </a:lnTo>
                <a:lnTo>
                  <a:pt x="79" y="68"/>
                </a:lnTo>
                <a:lnTo>
                  <a:pt x="81" y="52"/>
                </a:lnTo>
                <a:lnTo>
                  <a:pt x="79" y="37"/>
                </a:lnTo>
                <a:lnTo>
                  <a:pt x="73" y="22"/>
                </a:lnTo>
                <a:lnTo>
                  <a:pt x="66" y="8"/>
                </a:lnTo>
                <a:lnTo>
                  <a:pt x="56" y="2"/>
                </a:lnTo>
                <a:lnTo>
                  <a:pt x="46" y="0"/>
                </a:lnTo>
                <a:lnTo>
                  <a:pt x="25" y="6"/>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Freeform 70"/>
          <p:cNvSpPr/>
          <p:nvPr/>
        </p:nvSpPr>
        <p:spPr>
          <a:xfrm>
            <a:off x="3573360" y="2855880"/>
            <a:ext cx="100080" cy="128520"/>
          </a:xfrm>
          <a:custGeom>
            <a:avLst/>
            <a:gdLst>
              <a:gd name="textAreaLeft" fmla="*/ 0 w 100080"/>
              <a:gd name="textAreaRight" fmla="*/ 100440 w 100080"/>
              <a:gd name="textAreaTop" fmla="*/ 0 h 128520"/>
              <a:gd name="textAreaBottom" fmla="*/ 128880 h 128520"/>
            </a:gdLst>
            <a:ahLst/>
            <a:rect l="textAreaLeft" t="textAreaTop" r="textAreaRight" b="textAreaBottom"/>
            <a:pathLst>
              <a:path w="63" h="81">
                <a:moveTo>
                  <a:pt x="11" y="0"/>
                </a:moveTo>
                <a:lnTo>
                  <a:pt x="1" y="25"/>
                </a:lnTo>
                <a:lnTo>
                  <a:pt x="0" y="48"/>
                </a:lnTo>
                <a:lnTo>
                  <a:pt x="11" y="69"/>
                </a:lnTo>
                <a:lnTo>
                  <a:pt x="19" y="77"/>
                </a:lnTo>
                <a:lnTo>
                  <a:pt x="26" y="81"/>
                </a:lnTo>
                <a:lnTo>
                  <a:pt x="36" y="81"/>
                </a:lnTo>
                <a:lnTo>
                  <a:pt x="46" y="79"/>
                </a:lnTo>
                <a:lnTo>
                  <a:pt x="53" y="73"/>
                </a:lnTo>
                <a:lnTo>
                  <a:pt x="59" y="63"/>
                </a:lnTo>
                <a:lnTo>
                  <a:pt x="63" y="54"/>
                </a:lnTo>
                <a:lnTo>
                  <a:pt x="63" y="44"/>
                </a:lnTo>
                <a:lnTo>
                  <a:pt x="59" y="33"/>
                </a:lnTo>
                <a:lnTo>
                  <a:pt x="53" y="23"/>
                </a:lnTo>
                <a:lnTo>
                  <a:pt x="34" y="10"/>
                </a:lnTo>
                <a:lnTo>
                  <a:pt x="11"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Freeform 71"/>
          <p:cNvSpPr/>
          <p:nvPr/>
        </p:nvSpPr>
        <p:spPr>
          <a:xfrm>
            <a:off x="3816360" y="3084480"/>
            <a:ext cx="103320" cy="149400"/>
          </a:xfrm>
          <a:custGeom>
            <a:avLst/>
            <a:gdLst>
              <a:gd name="textAreaLeft" fmla="*/ 0 w 103320"/>
              <a:gd name="textAreaRight" fmla="*/ 103680 w 103320"/>
              <a:gd name="textAreaTop" fmla="*/ 0 h 149400"/>
              <a:gd name="textAreaBottom" fmla="*/ 149760 h 149400"/>
            </a:gdLst>
            <a:ahLst/>
            <a:rect l="textAreaLeft" t="textAreaTop" r="textAreaRight" b="textAreaBottom"/>
            <a:pathLst>
              <a:path w="65" h="94">
                <a:moveTo>
                  <a:pt x="19" y="0"/>
                </a:moveTo>
                <a:lnTo>
                  <a:pt x="4" y="29"/>
                </a:lnTo>
                <a:lnTo>
                  <a:pt x="0" y="44"/>
                </a:lnTo>
                <a:lnTo>
                  <a:pt x="0" y="56"/>
                </a:lnTo>
                <a:lnTo>
                  <a:pt x="4" y="67"/>
                </a:lnTo>
                <a:lnTo>
                  <a:pt x="12" y="79"/>
                </a:lnTo>
                <a:lnTo>
                  <a:pt x="31" y="92"/>
                </a:lnTo>
                <a:lnTo>
                  <a:pt x="42" y="94"/>
                </a:lnTo>
                <a:lnTo>
                  <a:pt x="52" y="94"/>
                </a:lnTo>
                <a:lnTo>
                  <a:pt x="60" y="90"/>
                </a:lnTo>
                <a:lnTo>
                  <a:pt x="64" y="83"/>
                </a:lnTo>
                <a:lnTo>
                  <a:pt x="65" y="71"/>
                </a:lnTo>
                <a:lnTo>
                  <a:pt x="65" y="56"/>
                </a:lnTo>
                <a:lnTo>
                  <a:pt x="54" y="27"/>
                </a:lnTo>
                <a:lnTo>
                  <a:pt x="46" y="17"/>
                </a:lnTo>
                <a:lnTo>
                  <a:pt x="37" y="10"/>
                </a:lnTo>
                <a:lnTo>
                  <a:pt x="19"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Freeform 72"/>
          <p:cNvSpPr/>
          <p:nvPr/>
        </p:nvSpPr>
        <p:spPr>
          <a:xfrm>
            <a:off x="3587760" y="2719440"/>
            <a:ext cx="128520" cy="106200"/>
          </a:xfrm>
          <a:custGeom>
            <a:avLst/>
            <a:gdLst>
              <a:gd name="textAreaLeft" fmla="*/ 0 w 128520"/>
              <a:gd name="textAreaRight" fmla="*/ 128880 w 128520"/>
              <a:gd name="textAreaTop" fmla="*/ 0 h 106200"/>
              <a:gd name="textAreaBottom" fmla="*/ 106560 h 106200"/>
            </a:gdLst>
            <a:ahLst/>
            <a:rect l="textAreaLeft" t="textAreaTop" r="textAreaRight" b="textAreaBottom"/>
            <a:pathLst>
              <a:path w="81" h="67">
                <a:moveTo>
                  <a:pt x="8" y="0"/>
                </a:moveTo>
                <a:lnTo>
                  <a:pt x="2" y="17"/>
                </a:lnTo>
                <a:lnTo>
                  <a:pt x="0" y="36"/>
                </a:lnTo>
                <a:lnTo>
                  <a:pt x="12" y="55"/>
                </a:lnTo>
                <a:lnTo>
                  <a:pt x="19" y="63"/>
                </a:lnTo>
                <a:lnTo>
                  <a:pt x="29" y="67"/>
                </a:lnTo>
                <a:lnTo>
                  <a:pt x="40" y="67"/>
                </a:lnTo>
                <a:lnTo>
                  <a:pt x="50" y="65"/>
                </a:lnTo>
                <a:lnTo>
                  <a:pt x="62" y="59"/>
                </a:lnTo>
                <a:lnTo>
                  <a:pt x="69" y="52"/>
                </a:lnTo>
                <a:lnTo>
                  <a:pt x="77" y="44"/>
                </a:lnTo>
                <a:lnTo>
                  <a:pt x="81" y="36"/>
                </a:lnTo>
                <a:lnTo>
                  <a:pt x="79" y="28"/>
                </a:lnTo>
                <a:lnTo>
                  <a:pt x="73" y="21"/>
                </a:lnTo>
                <a:lnTo>
                  <a:pt x="62" y="15"/>
                </a:lnTo>
                <a:lnTo>
                  <a:pt x="46" y="9"/>
                </a:lnTo>
                <a:lnTo>
                  <a:pt x="8"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Freeform 73"/>
          <p:cNvSpPr/>
          <p:nvPr/>
        </p:nvSpPr>
        <p:spPr>
          <a:xfrm>
            <a:off x="3755880" y="2868480"/>
            <a:ext cx="106560" cy="136800"/>
          </a:xfrm>
          <a:custGeom>
            <a:avLst/>
            <a:gdLst>
              <a:gd name="textAreaLeft" fmla="*/ 0 w 106560"/>
              <a:gd name="textAreaRight" fmla="*/ 106920 w 106560"/>
              <a:gd name="textAreaTop" fmla="*/ 0 h 136800"/>
              <a:gd name="textAreaBottom" fmla="*/ 137160 h 136800"/>
            </a:gdLst>
            <a:ahLst/>
            <a:rect l="textAreaLeft" t="textAreaTop" r="textAreaRight" b="textAreaBottom"/>
            <a:pathLst>
              <a:path w="67" h="86">
                <a:moveTo>
                  <a:pt x="2" y="0"/>
                </a:moveTo>
                <a:lnTo>
                  <a:pt x="0" y="17"/>
                </a:lnTo>
                <a:lnTo>
                  <a:pt x="2" y="36"/>
                </a:lnTo>
                <a:lnTo>
                  <a:pt x="15" y="59"/>
                </a:lnTo>
                <a:lnTo>
                  <a:pt x="32" y="78"/>
                </a:lnTo>
                <a:lnTo>
                  <a:pt x="42" y="84"/>
                </a:lnTo>
                <a:lnTo>
                  <a:pt x="52" y="86"/>
                </a:lnTo>
                <a:lnTo>
                  <a:pt x="59" y="84"/>
                </a:lnTo>
                <a:lnTo>
                  <a:pt x="65" y="77"/>
                </a:lnTo>
                <a:lnTo>
                  <a:pt x="67" y="63"/>
                </a:lnTo>
                <a:lnTo>
                  <a:pt x="63" y="48"/>
                </a:lnTo>
                <a:lnTo>
                  <a:pt x="57" y="32"/>
                </a:lnTo>
                <a:lnTo>
                  <a:pt x="50" y="19"/>
                </a:lnTo>
                <a:lnTo>
                  <a:pt x="40" y="9"/>
                </a:lnTo>
                <a:lnTo>
                  <a:pt x="29" y="4"/>
                </a:lnTo>
                <a:lnTo>
                  <a:pt x="2"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Freeform 74"/>
          <p:cNvSpPr/>
          <p:nvPr/>
        </p:nvSpPr>
        <p:spPr>
          <a:xfrm>
            <a:off x="3578400" y="3179880"/>
            <a:ext cx="107640" cy="87120"/>
          </a:xfrm>
          <a:custGeom>
            <a:avLst/>
            <a:gdLst>
              <a:gd name="textAreaLeft" fmla="*/ 0 w 107640"/>
              <a:gd name="textAreaRight" fmla="*/ 108000 w 107640"/>
              <a:gd name="textAreaTop" fmla="*/ 0 h 87120"/>
              <a:gd name="textAreaBottom" fmla="*/ 87480 h 87120"/>
            </a:gdLst>
            <a:ahLst/>
            <a:rect l="textAreaLeft" t="textAreaTop" r="textAreaRight" b="textAreaBottom"/>
            <a:pathLst>
              <a:path w="68" h="55">
                <a:moveTo>
                  <a:pt x="0" y="15"/>
                </a:moveTo>
                <a:lnTo>
                  <a:pt x="4" y="32"/>
                </a:lnTo>
                <a:lnTo>
                  <a:pt x="8" y="40"/>
                </a:lnTo>
                <a:lnTo>
                  <a:pt x="16" y="46"/>
                </a:lnTo>
                <a:lnTo>
                  <a:pt x="27" y="51"/>
                </a:lnTo>
                <a:lnTo>
                  <a:pt x="41" y="55"/>
                </a:lnTo>
                <a:lnTo>
                  <a:pt x="52" y="53"/>
                </a:lnTo>
                <a:lnTo>
                  <a:pt x="62" y="48"/>
                </a:lnTo>
                <a:lnTo>
                  <a:pt x="66" y="38"/>
                </a:lnTo>
                <a:lnTo>
                  <a:pt x="68" y="25"/>
                </a:lnTo>
                <a:lnTo>
                  <a:pt x="62" y="11"/>
                </a:lnTo>
                <a:lnTo>
                  <a:pt x="54" y="2"/>
                </a:lnTo>
                <a:lnTo>
                  <a:pt x="45" y="0"/>
                </a:lnTo>
                <a:lnTo>
                  <a:pt x="31" y="2"/>
                </a:lnTo>
                <a:lnTo>
                  <a:pt x="0" y="15"/>
                </a:lnTo>
                <a:close/>
              </a:path>
            </a:pathLst>
          </a:custGeom>
          <a:solidFill>
            <a:srgbClr val="ffff00"/>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4" name="Freeform 75"/>
          <p:cNvSpPr/>
          <p:nvPr/>
        </p:nvSpPr>
        <p:spPr>
          <a:xfrm>
            <a:off x="3578400" y="3206880"/>
            <a:ext cx="2880" cy="12600"/>
          </a:xfrm>
          <a:custGeom>
            <a:avLst/>
            <a:gdLst>
              <a:gd name="textAreaLeft" fmla="*/ 0 w 2880"/>
              <a:gd name="textAreaRight" fmla="*/ 3240 w 2880"/>
              <a:gd name="textAreaTop" fmla="*/ 0 h 12600"/>
              <a:gd name="textAreaBottom" fmla="*/ 12960 h 12600"/>
            </a:gdLst>
            <a:ahLst/>
            <a:rect l="textAreaLeft" t="textAreaTop" r="textAreaRight" b="textAreaBottom"/>
            <a:pathLst>
              <a:path w="2" h="8">
                <a:moveTo>
                  <a:pt x="0" y="8"/>
                </a:moveTo>
                <a:lnTo>
                  <a:pt x="2" y="8"/>
                </a:lnTo>
                <a:lnTo>
                  <a:pt x="0" y="8"/>
                </a:lnTo>
                <a:lnTo>
                  <a:pt x="2" y="8"/>
                </a:lnTo>
                <a:lnTo>
                  <a:pt x="0" y="8"/>
                </a:lnTo>
                <a:lnTo>
                  <a:pt x="0" y="0"/>
                </a:lnTo>
                <a:lnTo>
                  <a:pt x="2" y="0"/>
                </a:lnTo>
                <a:lnTo>
                  <a:pt x="0" y="0"/>
                </a:lnTo>
                <a:lnTo>
                  <a:pt x="2" y="0"/>
                </a:lnTo>
                <a:lnTo>
                  <a:pt x="0" y="0"/>
                </a:lnTo>
                <a:lnTo>
                  <a:pt x="0"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55" name="Freeform 76"/>
          <p:cNvSpPr/>
          <p:nvPr/>
        </p:nvSpPr>
        <p:spPr>
          <a:xfrm>
            <a:off x="3432240" y="2581200"/>
            <a:ext cx="122040" cy="149400"/>
          </a:xfrm>
          <a:custGeom>
            <a:avLst/>
            <a:gdLst>
              <a:gd name="textAreaLeft" fmla="*/ 0 w 122040"/>
              <a:gd name="textAreaRight" fmla="*/ 122400 w 122040"/>
              <a:gd name="textAreaTop" fmla="*/ 0 h 149400"/>
              <a:gd name="textAreaBottom" fmla="*/ 149760 h 149400"/>
            </a:gdLst>
            <a:ahLst/>
            <a:rect l="textAreaLeft" t="textAreaTop" r="textAreaRight" b="textAreaBottom"/>
            <a:pathLst>
              <a:path w="77" h="94">
                <a:moveTo>
                  <a:pt x="12" y="18"/>
                </a:moveTo>
                <a:lnTo>
                  <a:pt x="2" y="44"/>
                </a:lnTo>
                <a:lnTo>
                  <a:pt x="0" y="58"/>
                </a:lnTo>
                <a:lnTo>
                  <a:pt x="2" y="69"/>
                </a:lnTo>
                <a:lnTo>
                  <a:pt x="8" y="81"/>
                </a:lnTo>
                <a:lnTo>
                  <a:pt x="17" y="89"/>
                </a:lnTo>
                <a:lnTo>
                  <a:pt x="29" y="94"/>
                </a:lnTo>
                <a:lnTo>
                  <a:pt x="41" y="94"/>
                </a:lnTo>
                <a:lnTo>
                  <a:pt x="54" y="90"/>
                </a:lnTo>
                <a:lnTo>
                  <a:pt x="65" y="81"/>
                </a:lnTo>
                <a:lnTo>
                  <a:pt x="73" y="67"/>
                </a:lnTo>
                <a:lnTo>
                  <a:pt x="77" y="52"/>
                </a:lnTo>
                <a:lnTo>
                  <a:pt x="77" y="37"/>
                </a:lnTo>
                <a:lnTo>
                  <a:pt x="71" y="23"/>
                </a:lnTo>
                <a:lnTo>
                  <a:pt x="64" y="10"/>
                </a:lnTo>
                <a:lnTo>
                  <a:pt x="54" y="2"/>
                </a:lnTo>
                <a:lnTo>
                  <a:pt x="44" y="0"/>
                </a:lnTo>
                <a:lnTo>
                  <a:pt x="33" y="4"/>
                </a:lnTo>
                <a:lnTo>
                  <a:pt x="12" y="18"/>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Freeform 77"/>
          <p:cNvSpPr/>
          <p:nvPr/>
        </p:nvSpPr>
        <p:spPr>
          <a:xfrm>
            <a:off x="3767040" y="2697120"/>
            <a:ext cx="155520" cy="125280"/>
          </a:xfrm>
          <a:custGeom>
            <a:avLst/>
            <a:gdLst>
              <a:gd name="textAreaLeft" fmla="*/ 0 w 155520"/>
              <a:gd name="textAreaRight" fmla="*/ 155880 w 155520"/>
              <a:gd name="textAreaTop" fmla="*/ 0 h 125280"/>
              <a:gd name="textAreaBottom" fmla="*/ 125280 h 125280"/>
            </a:gdLst>
            <a:ahLst/>
            <a:rect l="textAreaLeft" t="textAreaTop" r="textAreaRight" b="textAreaBottom"/>
            <a:pathLst>
              <a:path w="98" h="79">
                <a:moveTo>
                  <a:pt x="20" y="0"/>
                </a:moveTo>
                <a:lnTo>
                  <a:pt x="4" y="21"/>
                </a:lnTo>
                <a:lnTo>
                  <a:pt x="0" y="33"/>
                </a:lnTo>
                <a:lnTo>
                  <a:pt x="0" y="42"/>
                </a:lnTo>
                <a:lnTo>
                  <a:pt x="6" y="54"/>
                </a:lnTo>
                <a:lnTo>
                  <a:pt x="16" y="64"/>
                </a:lnTo>
                <a:lnTo>
                  <a:pt x="27" y="71"/>
                </a:lnTo>
                <a:lnTo>
                  <a:pt x="41" y="77"/>
                </a:lnTo>
                <a:lnTo>
                  <a:pt x="56" y="79"/>
                </a:lnTo>
                <a:lnTo>
                  <a:pt x="70" y="79"/>
                </a:lnTo>
                <a:lnTo>
                  <a:pt x="83" y="73"/>
                </a:lnTo>
                <a:lnTo>
                  <a:pt x="93" y="64"/>
                </a:lnTo>
                <a:lnTo>
                  <a:pt x="98" y="50"/>
                </a:lnTo>
                <a:lnTo>
                  <a:pt x="98" y="35"/>
                </a:lnTo>
                <a:lnTo>
                  <a:pt x="96" y="21"/>
                </a:lnTo>
                <a:lnTo>
                  <a:pt x="91" y="10"/>
                </a:lnTo>
                <a:lnTo>
                  <a:pt x="85" y="4"/>
                </a:lnTo>
                <a:lnTo>
                  <a:pt x="77" y="2"/>
                </a:lnTo>
                <a:lnTo>
                  <a:pt x="64" y="8"/>
                </a:lnTo>
                <a:lnTo>
                  <a:pt x="20"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Freeform 78"/>
          <p:cNvSpPr/>
          <p:nvPr/>
        </p:nvSpPr>
        <p:spPr>
          <a:xfrm>
            <a:off x="3560760" y="2462040"/>
            <a:ext cx="165240" cy="119160"/>
          </a:xfrm>
          <a:custGeom>
            <a:avLst/>
            <a:gdLst>
              <a:gd name="textAreaLeft" fmla="*/ 0 w 165240"/>
              <a:gd name="textAreaRight" fmla="*/ 165600 w 165240"/>
              <a:gd name="textAreaTop" fmla="*/ 0 h 119160"/>
              <a:gd name="textAreaBottom" fmla="*/ 119520 h 119160"/>
            </a:gdLst>
            <a:ahLst/>
            <a:rect l="textAreaLeft" t="textAreaTop" r="textAreaRight" b="textAreaBottom"/>
            <a:pathLst>
              <a:path w="104" h="75">
                <a:moveTo>
                  <a:pt x="0" y="12"/>
                </a:moveTo>
                <a:lnTo>
                  <a:pt x="19" y="52"/>
                </a:lnTo>
                <a:lnTo>
                  <a:pt x="29" y="68"/>
                </a:lnTo>
                <a:lnTo>
                  <a:pt x="42" y="75"/>
                </a:lnTo>
                <a:lnTo>
                  <a:pt x="57" y="75"/>
                </a:lnTo>
                <a:lnTo>
                  <a:pt x="73" y="69"/>
                </a:lnTo>
                <a:lnTo>
                  <a:pt x="86" y="60"/>
                </a:lnTo>
                <a:lnTo>
                  <a:pt x="96" y="46"/>
                </a:lnTo>
                <a:lnTo>
                  <a:pt x="102" y="33"/>
                </a:lnTo>
                <a:lnTo>
                  <a:pt x="104" y="21"/>
                </a:lnTo>
                <a:lnTo>
                  <a:pt x="100" y="10"/>
                </a:lnTo>
                <a:lnTo>
                  <a:pt x="94" y="2"/>
                </a:lnTo>
                <a:lnTo>
                  <a:pt x="88" y="0"/>
                </a:lnTo>
                <a:lnTo>
                  <a:pt x="81" y="0"/>
                </a:lnTo>
                <a:lnTo>
                  <a:pt x="67" y="2"/>
                </a:lnTo>
                <a:lnTo>
                  <a:pt x="61" y="6"/>
                </a:lnTo>
                <a:lnTo>
                  <a:pt x="0" y="12"/>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Freeform 79"/>
          <p:cNvSpPr/>
          <p:nvPr/>
        </p:nvSpPr>
        <p:spPr>
          <a:xfrm>
            <a:off x="3997440" y="3041640"/>
            <a:ext cx="139680" cy="135000"/>
          </a:xfrm>
          <a:custGeom>
            <a:avLst/>
            <a:gdLst>
              <a:gd name="textAreaLeft" fmla="*/ 0 w 139680"/>
              <a:gd name="textAreaRight" fmla="*/ 140040 w 139680"/>
              <a:gd name="textAreaTop" fmla="*/ 0 h 135000"/>
              <a:gd name="textAreaBottom" fmla="*/ 135360 h 135000"/>
            </a:gdLst>
            <a:ahLst/>
            <a:rect l="textAreaLeft" t="textAreaTop" r="textAreaRight" b="textAreaBottom"/>
            <a:pathLst>
              <a:path w="88" h="85">
                <a:moveTo>
                  <a:pt x="0" y="14"/>
                </a:moveTo>
                <a:lnTo>
                  <a:pt x="7" y="58"/>
                </a:lnTo>
                <a:lnTo>
                  <a:pt x="13" y="73"/>
                </a:lnTo>
                <a:lnTo>
                  <a:pt x="21" y="83"/>
                </a:lnTo>
                <a:lnTo>
                  <a:pt x="34" y="85"/>
                </a:lnTo>
                <a:lnTo>
                  <a:pt x="48" y="79"/>
                </a:lnTo>
                <a:lnTo>
                  <a:pt x="63" y="67"/>
                </a:lnTo>
                <a:lnTo>
                  <a:pt x="74" y="54"/>
                </a:lnTo>
                <a:lnTo>
                  <a:pt x="84" y="39"/>
                </a:lnTo>
                <a:lnTo>
                  <a:pt x="88" y="25"/>
                </a:lnTo>
                <a:lnTo>
                  <a:pt x="86" y="12"/>
                </a:lnTo>
                <a:lnTo>
                  <a:pt x="78" y="4"/>
                </a:lnTo>
                <a:lnTo>
                  <a:pt x="65" y="0"/>
                </a:lnTo>
                <a:lnTo>
                  <a:pt x="46" y="2"/>
                </a:lnTo>
                <a:lnTo>
                  <a:pt x="0" y="14"/>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Freeform 80"/>
          <p:cNvSpPr/>
          <p:nvPr/>
        </p:nvSpPr>
        <p:spPr>
          <a:xfrm>
            <a:off x="3727440" y="2538360"/>
            <a:ext cx="115920" cy="141480"/>
          </a:xfrm>
          <a:custGeom>
            <a:avLst/>
            <a:gdLst>
              <a:gd name="textAreaLeft" fmla="*/ 0 w 115920"/>
              <a:gd name="textAreaRight" fmla="*/ 116280 w 115920"/>
              <a:gd name="textAreaTop" fmla="*/ 0 h 141480"/>
              <a:gd name="textAreaBottom" fmla="*/ 141840 h 141480"/>
            </a:gdLst>
            <a:ahLst/>
            <a:rect l="textAreaLeft" t="textAreaTop" r="textAreaRight" b="textAreaBottom"/>
            <a:pathLst>
              <a:path w="73" h="89">
                <a:moveTo>
                  <a:pt x="6" y="0"/>
                </a:moveTo>
                <a:lnTo>
                  <a:pt x="2" y="14"/>
                </a:lnTo>
                <a:lnTo>
                  <a:pt x="0" y="21"/>
                </a:lnTo>
                <a:lnTo>
                  <a:pt x="2" y="33"/>
                </a:lnTo>
                <a:lnTo>
                  <a:pt x="14" y="64"/>
                </a:lnTo>
                <a:lnTo>
                  <a:pt x="22" y="77"/>
                </a:lnTo>
                <a:lnTo>
                  <a:pt x="31" y="87"/>
                </a:lnTo>
                <a:lnTo>
                  <a:pt x="41" y="89"/>
                </a:lnTo>
                <a:lnTo>
                  <a:pt x="52" y="85"/>
                </a:lnTo>
                <a:lnTo>
                  <a:pt x="60" y="77"/>
                </a:lnTo>
                <a:lnTo>
                  <a:pt x="68" y="66"/>
                </a:lnTo>
                <a:lnTo>
                  <a:pt x="72" y="54"/>
                </a:lnTo>
                <a:lnTo>
                  <a:pt x="73" y="41"/>
                </a:lnTo>
                <a:lnTo>
                  <a:pt x="70" y="29"/>
                </a:lnTo>
                <a:lnTo>
                  <a:pt x="64" y="20"/>
                </a:lnTo>
                <a:lnTo>
                  <a:pt x="52" y="12"/>
                </a:lnTo>
                <a:lnTo>
                  <a:pt x="39" y="8"/>
                </a:lnTo>
                <a:lnTo>
                  <a:pt x="6"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0" name="Freeform 81"/>
          <p:cNvSpPr/>
          <p:nvPr/>
        </p:nvSpPr>
        <p:spPr>
          <a:xfrm>
            <a:off x="3610080" y="2617920"/>
            <a:ext cx="50760" cy="69840"/>
          </a:xfrm>
          <a:custGeom>
            <a:avLst/>
            <a:gdLst>
              <a:gd name="textAreaLeft" fmla="*/ 0 w 50760"/>
              <a:gd name="textAreaRight" fmla="*/ 51120 w 50760"/>
              <a:gd name="textAreaTop" fmla="*/ 0 h 69840"/>
              <a:gd name="textAreaBottom" fmla="*/ 70200 h 69840"/>
            </a:gdLst>
            <a:ahLst/>
            <a:rect l="textAreaLeft" t="textAreaTop" r="textAreaRight" b="textAreaBottom"/>
            <a:pathLst>
              <a:path w="32" h="44">
                <a:moveTo>
                  <a:pt x="19" y="0"/>
                </a:moveTo>
                <a:lnTo>
                  <a:pt x="7" y="2"/>
                </a:lnTo>
                <a:lnTo>
                  <a:pt x="2" y="4"/>
                </a:lnTo>
                <a:lnTo>
                  <a:pt x="0" y="8"/>
                </a:lnTo>
                <a:lnTo>
                  <a:pt x="2" y="25"/>
                </a:lnTo>
                <a:lnTo>
                  <a:pt x="9" y="41"/>
                </a:lnTo>
                <a:lnTo>
                  <a:pt x="15" y="44"/>
                </a:lnTo>
                <a:lnTo>
                  <a:pt x="23" y="44"/>
                </a:lnTo>
                <a:lnTo>
                  <a:pt x="28" y="43"/>
                </a:lnTo>
                <a:lnTo>
                  <a:pt x="32" y="37"/>
                </a:lnTo>
                <a:lnTo>
                  <a:pt x="32" y="29"/>
                </a:lnTo>
                <a:lnTo>
                  <a:pt x="28" y="21"/>
                </a:lnTo>
                <a:lnTo>
                  <a:pt x="19" y="0"/>
                </a:lnTo>
                <a:close/>
              </a:path>
            </a:pathLst>
          </a:custGeom>
          <a:solidFill>
            <a:srgbClr val="ffff00"/>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61" name="Freeform 82"/>
          <p:cNvSpPr/>
          <p:nvPr/>
        </p:nvSpPr>
        <p:spPr>
          <a:xfrm>
            <a:off x="3902040" y="2481120"/>
            <a:ext cx="92160" cy="90720"/>
          </a:xfrm>
          <a:custGeom>
            <a:avLst/>
            <a:gdLst>
              <a:gd name="textAreaLeft" fmla="*/ 0 w 92160"/>
              <a:gd name="textAreaRight" fmla="*/ 92520 w 92160"/>
              <a:gd name="textAreaTop" fmla="*/ 0 h 90720"/>
              <a:gd name="textAreaBottom" fmla="*/ 91080 h 90720"/>
            </a:gdLst>
            <a:ahLst/>
            <a:rect l="textAreaLeft" t="textAreaTop" r="textAreaRight" b="textAreaBottom"/>
            <a:pathLst>
              <a:path w="58" h="57">
                <a:moveTo>
                  <a:pt x="10" y="0"/>
                </a:moveTo>
                <a:lnTo>
                  <a:pt x="0" y="23"/>
                </a:lnTo>
                <a:lnTo>
                  <a:pt x="0" y="34"/>
                </a:lnTo>
                <a:lnTo>
                  <a:pt x="2" y="42"/>
                </a:lnTo>
                <a:lnTo>
                  <a:pt x="8" y="50"/>
                </a:lnTo>
                <a:lnTo>
                  <a:pt x="17" y="54"/>
                </a:lnTo>
                <a:lnTo>
                  <a:pt x="38" y="57"/>
                </a:lnTo>
                <a:lnTo>
                  <a:pt x="48" y="57"/>
                </a:lnTo>
                <a:lnTo>
                  <a:pt x="54" y="56"/>
                </a:lnTo>
                <a:lnTo>
                  <a:pt x="56" y="52"/>
                </a:lnTo>
                <a:lnTo>
                  <a:pt x="58" y="46"/>
                </a:lnTo>
                <a:lnTo>
                  <a:pt x="56" y="33"/>
                </a:lnTo>
                <a:lnTo>
                  <a:pt x="46" y="19"/>
                </a:lnTo>
                <a:lnTo>
                  <a:pt x="29" y="9"/>
                </a:lnTo>
                <a:lnTo>
                  <a:pt x="10" y="0"/>
                </a:lnTo>
                <a:close/>
              </a:path>
            </a:pathLst>
          </a:custGeom>
          <a:solidFill>
            <a:srgbClr val="ffff00"/>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62" name="Freeform 83"/>
          <p:cNvSpPr/>
          <p:nvPr/>
        </p:nvSpPr>
        <p:spPr>
          <a:xfrm>
            <a:off x="3935520" y="2630520"/>
            <a:ext cx="115920" cy="142920"/>
          </a:xfrm>
          <a:custGeom>
            <a:avLst/>
            <a:gdLst>
              <a:gd name="textAreaLeft" fmla="*/ 0 w 115920"/>
              <a:gd name="textAreaRight" fmla="*/ 116280 w 115920"/>
              <a:gd name="textAreaTop" fmla="*/ 0 h 142920"/>
              <a:gd name="textAreaBottom" fmla="*/ 143280 h 142920"/>
            </a:gdLst>
            <a:ahLst/>
            <a:rect l="textAreaLeft" t="textAreaTop" r="textAreaRight" b="textAreaBottom"/>
            <a:pathLst>
              <a:path w="73" h="90">
                <a:moveTo>
                  <a:pt x="0" y="0"/>
                </a:moveTo>
                <a:lnTo>
                  <a:pt x="33" y="6"/>
                </a:lnTo>
                <a:lnTo>
                  <a:pt x="48" y="11"/>
                </a:lnTo>
                <a:lnTo>
                  <a:pt x="60" y="17"/>
                </a:lnTo>
                <a:lnTo>
                  <a:pt x="67" y="27"/>
                </a:lnTo>
                <a:lnTo>
                  <a:pt x="73" y="38"/>
                </a:lnTo>
                <a:lnTo>
                  <a:pt x="73" y="50"/>
                </a:lnTo>
                <a:lnTo>
                  <a:pt x="71" y="61"/>
                </a:lnTo>
                <a:lnTo>
                  <a:pt x="67" y="71"/>
                </a:lnTo>
                <a:lnTo>
                  <a:pt x="60" y="77"/>
                </a:lnTo>
                <a:lnTo>
                  <a:pt x="42" y="86"/>
                </a:lnTo>
                <a:lnTo>
                  <a:pt x="33" y="90"/>
                </a:lnTo>
                <a:lnTo>
                  <a:pt x="25" y="90"/>
                </a:lnTo>
                <a:lnTo>
                  <a:pt x="17" y="86"/>
                </a:lnTo>
                <a:lnTo>
                  <a:pt x="10" y="77"/>
                </a:lnTo>
                <a:lnTo>
                  <a:pt x="6" y="63"/>
                </a:lnTo>
                <a:lnTo>
                  <a:pt x="4" y="44"/>
                </a:lnTo>
                <a:lnTo>
                  <a:pt x="0"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Freeform 84"/>
          <p:cNvSpPr/>
          <p:nvPr/>
        </p:nvSpPr>
        <p:spPr>
          <a:xfrm>
            <a:off x="3908520" y="2813040"/>
            <a:ext cx="122040" cy="122400"/>
          </a:xfrm>
          <a:custGeom>
            <a:avLst/>
            <a:gdLst>
              <a:gd name="textAreaLeft" fmla="*/ 0 w 122040"/>
              <a:gd name="textAreaRight" fmla="*/ 122400 w 122040"/>
              <a:gd name="textAreaTop" fmla="*/ 0 h 122400"/>
              <a:gd name="textAreaBottom" fmla="*/ 122760 h 122400"/>
            </a:gdLst>
            <a:ahLst/>
            <a:rect l="textAreaLeft" t="textAreaTop" r="textAreaRight" b="textAreaBottom"/>
            <a:pathLst>
              <a:path w="77" h="77">
                <a:moveTo>
                  <a:pt x="31" y="2"/>
                </a:moveTo>
                <a:lnTo>
                  <a:pt x="11" y="14"/>
                </a:lnTo>
                <a:lnTo>
                  <a:pt x="4" y="21"/>
                </a:lnTo>
                <a:lnTo>
                  <a:pt x="0" y="29"/>
                </a:lnTo>
                <a:lnTo>
                  <a:pt x="0" y="39"/>
                </a:lnTo>
                <a:lnTo>
                  <a:pt x="4" y="48"/>
                </a:lnTo>
                <a:lnTo>
                  <a:pt x="9" y="58"/>
                </a:lnTo>
                <a:lnTo>
                  <a:pt x="17" y="65"/>
                </a:lnTo>
                <a:lnTo>
                  <a:pt x="29" y="73"/>
                </a:lnTo>
                <a:lnTo>
                  <a:pt x="40" y="77"/>
                </a:lnTo>
                <a:lnTo>
                  <a:pt x="54" y="77"/>
                </a:lnTo>
                <a:lnTo>
                  <a:pt x="63" y="73"/>
                </a:lnTo>
                <a:lnTo>
                  <a:pt x="71" y="65"/>
                </a:lnTo>
                <a:lnTo>
                  <a:pt x="75" y="52"/>
                </a:lnTo>
                <a:lnTo>
                  <a:pt x="77" y="23"/>
                </a:lnTo>
                <a:lnTo>
                  <a:pt x="77" y="14"/>
                </a:lnTo>
                <a:lnTo>
                  <a:pt x="75" y="6"/>
                </a:lnTo>
                <a:lnTo>
                  <a:pt x="71" y="2"/>
                </a:lnTo>
                <a:lnTo>
                  <a:pt x="65" y="0"/>
                </a:lnTo>
                <a:lnTo>
                  <a:pt x="50" y="0"/>
                </a:lnTo>
                <a:lnTo>
                  <a:pt x="31" y="2"/>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Freeform 85"/>
          <p:cNvSpPr/>
          <p:nvPr/>
        </p:nvSpPr>
        <p:spPr>
          <a:xfrm>
            <a:off x="4078440" y="2687760"/>
            <a:ext cx="88920" cy="158760"/>
          </a:xfrm>
          <a:custGeom>
            <a:avLst/>
            <a:gdLst>
              <a:gd name="textAreaLeft" fmla="*/ 0 w 88920"/>
              <a:gd name="textAreaRight" fmla="*/ 89280 w 88920"/>
              <a:gd name="textAreaTop" fmla="*/ 0 h 158760"/>
              <a:gd name="textAreaBottom" fmla="*/ 159120 h 158760"/>
            </a:gdLst>
            <a:ahLst/>
            <a:rect l="textAreaLeft" t="textAreaTop" r="textAreaRight" b="textAreaBottom"/>
            <a:pathLst>
              <a:path w="56" h="100">
                <a:moveTo>
                  <a:pt x="23" y="0"/>
                </a:moveTo>
                <a:lnTo>
                  <a:pt x="8" y="31"/>
                </a:lnTo>
                <a:lnTo>
                  <a:pt x="2" y="45"/>
                </a:lnTo>
                <a:lnTo>
                  <a:pt x="0" y="58"/>
                </a:lnTo>
                <a:lnTo>
                  <a:pt x="2" y="70"/>
                </a:lnTo>
                <a:lnTo>
                  <a:pt x="8" y="79"/>
                </a:lnTo>
                <a:lnTo>
                  <a:pt x="25" y="95"/>
                </a:lnTo>
                <a:lnTo>
                  <a:pt x="35" y="98"/>
                </a:lnTo>
                <a:lnTo>
                  <a:pt x="46" y="100"/>
                </a:lnTo>
                <a:lnTo>
                  <a:pt x="52" y="96"/>
                </a:lnTo>
                <a:lnTo>
                  <a:pt x="56" y="87"/>
                </a:lnTo>
                <a:lnTo>
                  <a:pt x="52" y="72"/>
                </a:lnTo>
                <a:lnTo>
                  <a:pt x="46" y="50"/>
                </a:lnTo>
                <a:lnTo>
                  <a:pt x="23"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Freeform 86"/>
          <p:cNvSpPr/>
          <p:nvPr/>
        </p:nvSpPr>
        <p:spPr>
          <a:xfrm>
            <a:off x="3886200" y="2955960"/>
            <a:ext cx="125280" cy="158760"/>
          </a:xfrm>
          <a:custGeom>
            <a:avLst/>
            <a:gdLst>
              <a:gd name="textAreaLeft" fmla="*/ 0 w 125280"/>
              <a:gd name="textAreaRight" fmla="*/ 125280 w 125280"/>
              <a:gd name="textAreaTop" fmla="*/ 0 h 158760"/>
              <a:gd name="textAreaBottom" fmla="*/ 159120 h 158760"/>
            </a:gdLst>
            <a:ahLst/>
            <a:rect l="textAreaLeft" t="textAreaTop" r="textAreaRight" b="textAreaBottom"/>
            <a:pathLst>
              <a:path w="79" h="100">
                <a:moveTo>
                  <a:pt x="14" y="0"/>
                </a:moveTo>
                <a:lnTo>
                  <a:pt x="4" y="22"/>
                </a:lnTo>
                <a:lnTo>
                  <a:pt x="0" y="43"/>
                </a:lnTo>
                <a:lnTo>
                  <a:pt x="6" y="66"/>
                </a:lnTo>
                <a:lnTo>
                  <a:pt x="18" y="87"/>
                </a:lnTo>
                <a:lnTo>
                  <a:pt x="25" y="95"/>
                </a:lnTo>
                <a:lnTo>
                  <a:pt x="31" y="98"/>
                </a:lnTo>
                <a:lnTo>
                  <a:pt x="37" y="100"/>
                </a:lnTo>
                <a:lnTo>
                  <a:pt x="45" y="96"/>
                </a:lnTo>
                <a:lnTo>
                  <a:pt x="52" y="89"/>
                </a:lnTo>
                <a:lnTo>
                  <a:pt x="62" y="79"/>
                </a:lnTo>
                <a:lnTo>
                  <a:pt x="73" y="52"/>
                </a:lnTo>
                <a:lnTo>
                  <a:pt x="77" y="41"/>
                </a:lnTo>
                <a:lnTo>
                  <a:pt x="79" y="31"/>
                </a:lnTo>
                <a:lnTo>
                  <a:pt x="75" y="23"/>
                </a:lnTo>
                <a:lnTo>
                  <a:pt x="70" y="16"/>
                </a:lnTo>
                <a:lnTo>
                  <a:pt x="58" y="10"/>
                </a:lnTo>
                <a:lnTo>
                  <a:pt x="45" y="6"/>
                </a:lnTo>
                <a:lnTo>
                  <a:pt x="29" y="4"/>
                </a:lnTo>
                <a:lnTo>
                  <a:pt x="14"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6" name="Freeform 87"/>
          <p:cNvSpPr/>
          <p:nvPr/>
        </p:nvSpPr>
        <p:spPr>
          <a:xfrm>
            <a:off x="4054320" y="2855880"/>
            <a:ext cx="95400" cy="155520"/>
          </a:xfrm>
          <a:custGeom>
            <a:avLst/>
            <a:gdLst>
              <a:gd name="textAreaLeft" fmla="*/ 0 w 95400"/>
              <a:gd name="textAreaRight" fmla="*/ 95760 w 95400"/>
              <a:gd name="textAreaTop" fmla="*/ 0 h 155520"/>
              <a:gd name="textAreaBottom" fmla="*/ 155880 h 155520"/>
            </a:gdLst>
            <a:ahLst/>
            <a:rect l="textAreaLeft" t="textAreaTop" r="textAreaRight" b="textAreaBottom"/>
            <a:pathLst>
              <a:path w="60" h="98">
                <a:moveTo>
                  <a:pt x="25" y="0"/>
                </a:moveTo>
                <a:lnTo>
                  <a:pt x="10" y="27"/>
                </a:lnTo>
                <a:lnTo>
                  <a:pt x="0" y="52"/>
                </a:lnTo>
                <a:lnTo>
                  <a:pt x="2" y="75"/>
                </a:lnTo>
                <a:lnTo>
                  <a:pt x="4" y="85"/>
                </a:lnTo>
                <a:lnTo>
                  <a:pt x="10" y="92"/>
                </a:lnTo>
                <a:lnTo>
                  <a:pt x="17" y="96"/>
                </a:lnTo>
                <a:lnTo>
                  <a:pt x="27" y="98"/>
                </a:lnTo>
                <a:lnTo>
                  <a:pt x="36" y="94"/>
                </a:lnTo>
                <a:lnTo>
                  <a:pt x="44" y="88"/>
                </a:lnTo>
                <a:lnTo>
                  <a:pt x="52" y="79"/>
                </a:lnTo>
                <a:lnTo>
                  <a:pt x="58" y="67"/>
                </a:lnTo>
                <a:lnTo>
                  <a:pt x="60" y="54"/>
                </a:lnTo>
                <a:lnTo>
                  <a:pt x="58" y="40"/>
                </a:lnTo>
                <a:lnTo>
                  <a:pt x="52" y="29"/>
                </a:lnTo>
                <a:lnTo>
                  <a:pt x="44" y="19"/>
                </a:lnTo>
                <a:lnTo>
                  <a:pt x="25"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7" name="Freeform 88"/>
          <p:cNvSpPr/>
          <p:nvPr/>
        </p:nvSpPr>
        <p:spPr>
          <a:xfrm>
            <a:off x="3727440" y="3222720"/>
            <a:ext cx="125280" cy="93600"/>
          </a:xfrm>
          <a:custGeom>
            <a:avLst/>
            <a:gdLst>
              <a:gd name="textAreaLeft" fmla="*/ 0 w 125280"/>
              <a:gd name="textAreaRight" fmla="*/ 125280 w 125280"/>
              <a:gd name="textAreaTop" fmla="*/ 0 h 93600"/>
              <a:gd name="textAreaBottom" fmla="*/ 93960 h 93600"/>
            </a:gdLst>
            <a:ahLst/>
            <a:rect l="textAreaLeft" t="textAreaTop" r="textAreaRight" b="textAreaBottom"/>
            <a:pathLst>
              <a:path w="79" h="59">
                <a:moveTo>
                  <a:pt x="20" y="0"/>
                </a:moveTo>
                <a:lnTo>
                  <a:pt x="8" y="11"/>
                </a:lnTo>
                <a:lnTo>
                  <a:pt x="0" y="24"/>
                </a:lnTo>
                <a:lnTo>
                  <a:pt x="2" y="40"/>
                </a:lnTo>
                <a:lnTo>
                  <a:pt x="10" y="51"/>
                </a:lnTo>
                <a:lnTo>
                  <a:pt x="27" y="59"/>
                </a:lnTo>
                <a:lnTo>
                  <a:pt x="49" y="59"/>
                </a:lnTo>
                <a:lnTo>
                  <a:pt x="68" y="53"/>
                </a:lnTo>
                <a:lnTo>
                  <a:pt x="73" y="49"/>
                </a:lnTo>
                <a:lnTo>
                  <a:pt x="77" y="42"/>
                </a:lnTo>
                <a:lnTo>
                  <a:pt x="79" y="34"/>
                </a:lnTo>
                <a:lnTo>
                  <a:pt x="77" y="24"/>
                </a:lnTo>
                <a:lnTo>
                  <a:pt x="72" y="15"/>
                </a:lnTo>
                <a:lnTo>
                  <a:pt x="64" y="7"/>
                </a:lnTo>
                <a:lnTo>
                  <a:pt x="43" y="1"/>
                </a:lnTo>
                <a:lnTo>
                  <a:pt x="20"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Freeform 89"/>
          <p:cNvSpPr/>
          <p:nvPr/>
        </p:nvSpPr>
        <p:spPr>
          <a:xfrm>
            <a:off x="3444840" y="3081240"/>
            <a:ext cx="112680" cy="138240"/>
          </a:xfrm>
          <a:custGeom>
            <a:avLst/>
            <a:gdLst>
              <a:gd name="textAreaLeft" fmla="*/ 0 w 112680"/>
              <a:gd name="textAreaRight" fmla="*/ 113040 w 112680"/>
              <a:gd name="textAreaTop" fmla="*/ 0 h 138240"/>
              <a:gd name="textAreaBottom" fmla="*/ 138240 h 138240"/>
            </a:gdLst>
            <a:ahLst/>
            <a:rect l="textAreaLeft" t="textAreaTop" r="textAreaRight" b="textAreaBottom"/>
            <a:pathLst>
              <a:path w="71" h="87">
                <a:moveTo>
                  <a:pt x="4" y="2"/>
                </a:moveTo>
                <a:lnTo>
                  <a:pt x="0" y="19"/>
                </a:lnTo>
                <a:lnTo>
                  <a:pt x="2" y="37"/>
                </a:lnTo>
                <a:lnTo>
                  <a:pt x="17" y="56"/>
                </a:lnTo>
                <a:lnTo>
                  <a:pt x="27" y="65"/>
                </a:lnTo>
                <a:lnTo>
                  <a:pt x="36" y="73"/>
                </a:lnTo>
                <a:lnTo>
                  <a:pt x="40" y="77"/>
                </a:lnTo>
                <a:lnTo>
                  <a:pt x="46" y="81"/>
                </a:lnTo>
                <a:lnTo>
                  <a:pt x="54" y="87"/>
                </a:lnTo>
                <a:lnTo>
                  <a:pt x="59" y="87"/>
                </a:lnTo>
                <a:lnTo>
                  <a:pt x="63" y="83"/>
                </a:lnTo>
                <a:lnTo>
                  <a:pt x="69" y="73"/>
                </a:lnTo>
                <a:lnTo>
                  <a:pt x="71" y="60"/>
                </a:lnTo>
                <a:lnTo>
                  <a:pt x="71" y="29"/>
                </a:lnTo>
                <a:lnTo>
                  <a:pt x="67" y="17"/>
                </a:lnTo>
                <a:lnTo>
                  <a:pt x="61" y="10"/>
                </a:lnTo>
                <a:lnTo>
                  <a:pt x="44" y="0"/>
                </a:lnTo>
                <a:lnTo>
                  <a:pt x="25" y="0"/>
                </a:lnTo>
                <a:lnTo>
                  <a:pt x="4" y="2"/>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Freeform 90"/>
          <p:cNvSpPr/>
          <p:nvPr/>
        </p:nvSpPr>
        <p:spPr>
          <a:xfrm>
            <a:off x="3621240" y="6161040"/>
            <a:ext cx="101520" cy="79560"/>
          </a:xfrm>
          <a:custGeom>
            <a:avLst/>
            <a:gdLst>
              <a:gd name="textAreaLeft" fmla="*/ 0 w 101520"/>
              <a:gd name="textAreaRight" fmla="*/ 101880 w 101520"/>
              <a:gd name="textAreaTop" fmla="*/ 0 h 79560"/>
              <a:gd name="textAreaBottom" fmla="*/ 79920 h 79560"/>
            </a:gdLst>
            <a:ahLst/>
            <a:rect l="textAreaLeft" t="textAreaTop" r="textAreaRight" b="textAreaBottom"/>
            <a:pathLst>
              <a:path w="64" h="50">
                <a:moveTo>
                  <a:pt x="48" y="2"/>
                </a:moveTo>
                <a:lnTo>
                  <a:pt x="21" y="0"/>
                </a:lnTo>
                <a:lnTo>
                  <a:pt x="10" y="2"/>
                </a:lnTo>
                <a:lnTo>
                  <a:pt x="2" y="6"/>
                </a:lnTo>
                <a:lnTo>
                  <a:pt x="0" y="15"/>
                </a:lnTo>
                <a:lnTo>
                  <a:pt x="0" y="25"/>
                </a:lnTo>
                <a:lnTo>
                  <a:pt x="6" y="36"/>
                </a:lnTo>
                <a:lnTo>
                  <a:pt x="16" y="44"/>
                </a:lnTo>
                <a:lnTo>
                  <a:pt x="29" y="50"/>
                </a:lnTo>
                <a:lnTo>
                  <a:pt x="43" y="50"/>
                </a:lnTo>
                <a:lnTo>
                  <a:pt x="54" y="46"/>
                </a:lnTo>
                <a:lnTo>
                  <a:pt x="62" y="40"/>
                </a:lnTo>
                <a:lnTo>
                  <a:pt x="64" y="32"/>
                </a:lnTo>
                <a:lnTo>
                  <a:pt x="62" y="23"/>
                </a:lnTo>
                <a:lnTo>
                  <a:pt x="56" y="11"/>
                </a:lnTo>
                <a:lnTo>
                  <a:pt x="48" y="2"/>
                </a:lnTo>
                <a:close/>
              </a:path>
            </a:pathLst>
          </a:custGeom>
          <a:solidFill>
            <a:srgbClr val="ffff00"/>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70" name="Freeform 91"/>
          <p:cNvSpPr/>
          <p:nvPr/>
        </p:nvSpPr>
        <p:spPr>
          <a:xfrm>
            <a:off x="3984480" y="5877000"/>
            <a:ext cx="100080" cy="66600"/>
          </a:xfrm>
          <a:custGeom>
            <a:avLst/>
            <a:gdLst>
              <a:gd name="textAreaLeft" fmla="*/ 0 w 100080"/>
              <a:gd name="textAreaRight" fmla="*/ 100440 w 100080"/>
              <a:gd name="textAreaTop" fmla="*/ 0 h 66600"/>
              <a:gd name="textAreaBottom" fmla="*/ 66960 h 66600"/>
            </a:gdLst>
            <a:ahLst/>
            <a:rect l="textAreaLeft" t="textAreaTop" r="textAreaRight" b="textAreaBottom"/>
            <a:pathLst>
              <a:path w="63" h="42">
                <a:moveTo>
                  <a:pt x="63" y="6"/>
                </a:moveTo>
                <a:lnTo>
                  <a:pt x="36" y="2"/>
                </a:lnTo>
                <a:lnTo>
                  <a:pt x="23" y="0"/>
                </a:lnTo>
                <a:lnTo>
                  <a:pt x="13" y="2"/>
                </a:lnTo>
                <a:lnTo>
                  <a:pt x="6" y="6"/>
                </a:lnTo>
                <a:lnTo>
                  <a:pt x="2" y="12"/>
                </a:lnTo>
                <a:lnTo>
                  <a:pt x="0" y="27"/>
                </a:lnTo>
                <a:lnTo>
                  <a:pt x="4" y="35"/>
                </a:lnTo>
                <a:lnTo>
                  <a:pt x="9" y="41"/>
                </a:lnTo>
                <a:lnTo>
                  <a:pt x="17" y="42"/>
                </a:lnTo>
                <a:lnTo>
                  <a:pt x="25" y="42"/>
                </a:lnTo>
                <a:lnTo>
                  <a:pt x="34" y="37"/>
                </a:lnTo>
                <a:lnTo>
                  <a:pt x="44" y="29"/>
                </a:lnTo>
                <a:lnTo>
                  <a:pt x="63" y="6"/>
                </a:lnTo>
                <a:close/>
              </a:path>
            </a:pathLst>
          </a:custGeom>
          <a:solidFill>
            <a:srgbClr val="ffff00"/>
          </a:solid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71" name="Freeform 92"/>
          <p:cNvSpPr/>
          <p:nvPr/>
        </p:nvSpPr>
        <p:spPr>
          <a:xfrm>
            <a:off x="4051440" y="5946840"/>
            <a:ext cx="79200" cy="88920"/>
          </a:xfrm>
          <a:custGeom>
            <a:avLst/>
            <a:gdLst>
              <a:gd name="textAreaLeft" fmla="*/ 0 w 79200"/>
              <a:gd name="textAreaRight" fmla="*/ 79560 w 79200"/>
              <a:gd name="textAreaTop" fmla="*/ 0 h 88920"/>
              <a:gd name="textAreaBottom" fmla="*/ 89280 h 88920"/>
            </a:gdLst>
            <a:ahLst/>
            <a:rect l="textAreaLeft" t="textAreaTop" r="textAreaRight" b="textAreaBottom"/>
            <a:pathLst>
              <a:path w="50" h="56">
                <a:moveTo>
                  <a:pt x="40" y="0"/>
                </a:moveTo>
                <a:lnTo>
                  <a:pt x="14" y="18"/>
                </a:lnTo>
                <a:lnTo>
                  <a:pt x="4" y="27"/>
                </a:lnTo>
                <a:lnTo>
                  <a:pt x="0" y="35"/>
                </a:lnTo>
                <a:lnTo>
                  <a:pt x="2" y="43"/>
                </a:lnTo>
                <a:lnTo>
                  <a:pt x="8" y="50"/>
                </a:lnTo>
                <a:lnTo>
                  <a:pt x="17" y="54"/>
                </a:lnTo>
                <a:lnTo>
                  <a:pt x="27" y="56"/>
                </a:lnTo>
                <a:lnTo>
                  <a:pt x="37" y="56"/>
                </a:lnTo>
                <a:lnTo>
                  <a:pt x="42" y="52"/>
                </a:lnTo>
                <a:lnTo>
                  <a:pt x="48" y="47"/>
                </a:lnTo>
                <a:lnTo>
                  <a:pt x="50" y="39"/>
                </a:lnTo>
                <a:lnTo>
                  <a:pt x="48" y="20"/>
                </a:lnTo>
                <a:lnTo>
                  <a:pt x="40" y="0"/>
                </a:lnTo>
                <a:close/>
              </a:path>
            </a:pathLst>
          </a:custGeom>
          <a:solidFill>
            <a:srgbClr val="ffff00"/>
          </a:soli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72" name="Freeform 93"/>
          <p:cNvSpPr/>
          <p:nvPr/>
        </p:nvSpPr>
        <p:spPr>
          <a:xfrm>
            <a:off x="3809880" y="6164280"/>
            <a:ext cx="109800" cy="76320"/>
          </a:xfrm>
          <a:custGeom>
            <a:avLst/>
            <a:gdLst>
              <a:gd name="textAreaLeft" fmla="*/ 0 w 109800"/>
              <a:gd name="textAreaRight" fmla="*/ 110160 w 109800"/>
              <a:gd name="textAreaTop" fmla="*/ 0 h 76320"/>
              <a:gd name="textAreaBottom" fmla="*/ 76680 h 76320"/>
            </a:gdLst>
            <a:ahLst/>
            <a:rect l="textAreaLeft" t="textAreaTop" r="textAreaRight" b="textAreaBottom"/>
            <a:pathLst>
              <a:path w="69" h="48">
                <a:moveTo>
                  <a:pt x="48" y="0"/>
                </a:moveTo>
                <a:lnTo>
                  <a:pt x="16" y="9"/>
                </a:lnTo>
                <a:lnTo>
                  <a:pt x="6" y="15"/>
                </a:lnTo>
                <a:lnTo>
                  <a:pt x="0" y="21"/>
                </a:lnTo>
                <a:lnTo>
                  <a:pt x="2" y="30"/>
                </a:lnTo>
                <a:lnTo>
                  <a:pt x="10" y="38"/>
                </a:lnTo>
                <a:lnTo>
                  <a:pt x="21" y="44"/>
                </a:lnTo>
                <a:lnTo>
                  <a:pt x="35" y="48"/>
                </a:lnTo>
                <a:lnTo>
                  <a:pt x="46" y="48"/>
                </a:lnTo>
                <a:lnTo>
                  <a:pt x="58" y="46"/>
                </a:lnTo>
                <a:lnTo>
                  <a:pt x="66" y="40"/>
                </a:lnTo>
                <a:lnTo>
                  <a:pt x="69" y="32"/>
                </a:lnTo>
                <a:lnTo>
                  <a:pt x="69" y="25"/>
                </a:lnTo>
                <a:lnTo>
                  <a:pt x="64" y="17"/>
                </a:lnTo>
                <a:lnTo>
                  <a:pt x="48" y="0"/>
                </a:lnTo>
                <a:close/>
              </a:path>
            </a:pathLst>
          </a:custGeom>
          <a:solidFill>
            <a:srgbClr val="ffff00"/>
          </a:solidFill>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073" name="Freeform 94"/>
          <p:cNvSpPr/>
          <p:nvPr/>
        </p:nvSpPr>
        <p:spPr>
          <a:xfrm>
            <a:off x="3627360" y="5840280"/>
            <a:ext cx="92160" cy="106560"/>
          </a:xfrm>
          <a:custGeom>
            <a:avLst/>
            <a:gdLst>
              <a:gd name="textAreaLeft" fmla="*/ 0 w 92160"/>
              <a:gd name="textAreaRight" fmla="*/ 92520 w 92160"/>
              <a:gd name="textAreaTop" fmla="*/ 0 h 106560"/>
              <a:gd name="textAreaBottom" fmla="*/ 106920 h 106560"/>
            </a:gdLst>
            <a:ahLst/>
            <a:rect l="textAreaLeft" t="textAreaTop" r="textAreaRight" b="textAreaBottom"/>
            <a:pathLst>
              <a:path w="58" h="67">
                <a:moveTo>
                  <a:pt x="58" y="17"/>
                </a:moveTo>
                <a:lnTo>
                  <a:pt x="56" y="16"/>
                </a:lnTo>
                <a:lnTo>
                  <a:pt x="56" y="14"/>
                </a:lnTo>
                <a:lnTo>
                  <a:pt x="54" y="14"/>
                </a:lnTo>
                <a:lnTo>
                  <a:pt x="54" y="12"/>
                </a:lnTo>
                <a:lnTo>
                  <a:pt x="52" y="12"/>
                </a:lnTo>
                <a:lnTo>
                  <a:pt x="50" y="10"/>
                </a:lnTo>
                <a:lnTo>
                  <a:pt x="48" y="10"/>
                </a:lnTo>
                <a:lnTo>
                  <a:pt x="48" y="8"/>
                </a:lnTo>
                <a:lnTo>
                  <a:pt x="44" y="8"/>
                </a:lnTo>
                <a:lnTo>
                  <a:pt x="42" y="6"/>
                </a:lnTo>
                <a:lnTo>
                  <a:pt x="39" y="6"/>
                </a:lnTo>
                <a:lnTo>
                  <a:pt x="37" y="4"/>
                </a:lnTo>
                <a:lnTo>
                  <a:pt x="33" y="4"/>
                </a:lnTo>
                <a:lnTo>
                  <a:pt x="31" y="2"/>
                </a:lnTo>
                <a:lnTo>
                  <a:pt x="23" y="2"/>
                </a:lnTo>
                <a:lnTo>
                  <a:pt x="23" y="0"/>
                </a:lnTo>
                <a:lnTo>
                  <a:pt x="6" y="0"/>
                </a:lnTo>
                <a:lnTo>
                  <a:pt x="4" y="2"/>
                </a:lnTo>
                <a:lnTo>
                  <a:pt x="2" y="2"/>
                </a:lnTo>
                <a:lnTo>
                  <a:pt x="2" y="4"/>
                </a:lnTo>
                <a:lnTo>
                  <a:pt x="0" y="4"/>
                </a:lnTo>
                <a:lnTo>
                  <a:pt x="0" y="23"/>
                </a:lnTo>
                <a:lnTo>
                  <a:pt x="2" y="25"/>
                </a:lnTo>
                <a:lnTo>
                  <a:pt x="2" y="33"/>
                </a:lnTo>
                <a:lnTo>
                  <a:pt x="4" y="35"/>
                </a:lnTo>
                <a:lnTo>
                  <a:pt x="4" y="41"/>
                </a:lnTo>
                <a:lnTo>
                  <a:pt x="6" y="42"/>
                </a:lnTo>
                <a:lnTo>
                  <a:pt x="6" y="46"/>
                </a:lnTo>
                <a:lnTo>
                  <a:pt x="8" y="48"/>
                </a:lnTo>
                <a:lnTo>
                  <a:pt x="8" y="50"/>
                </a:lnTo>
                <a:lnTo>
                  <a:pt x="10" y="52"/>
                </a:lnTo>
                <a:lnTo>
                  <a:pt x="10" y="56"/>
                </a:lnTo>
                <a:lnTo>
                  <a:pt x="12" y="58"/>
                </a:lnTo>
                <a:lnTo>
                  <a:pt x="12" y="60"/>
                </a:lnTo>
                <a:lnTo>
                  <a:pt x="14" y="62"/>
                </a:lnTo>
                <a:lnTo>
                  <a:pt x="14" y="64"/>
                </a:lnTo>
                <a:lnTo>
                  <a:pt x="15" y="64"/>
                </a:lnTo>
                <a:lnTo>
                  <a:pt x="15" y="65"/>
                </a:lnTo>
                <a:lnTo>
                  <a:pt x="17" y="65"/>
                </a:lnTo>
                <a:lnTo>
                  <a:pt x="19" y="67"/>
                </a:lnTo>
                <a:lnTo>
                  <a:pt x="21" y="65"/>
                </a:lnTo>
                <a:lnTo>
                  <a:pt x="23" y="65"/>
                </a:lnTo>
                <a:lnTo>
                  <a:pt x="27" y="62"/>
                </a:lnTo>
                <a:lnTo>
                  <a:pt x="29" y="62"/>
                </a:lnTo>
                <a:lnTo>
                  <a:pt x="31" y="60"/>
                </a:lnTo>
                <a:lnTo>
                  <a:pt x="31" y="58"/>
                </a:lnTo>
                <a:lnTo>
                  <a:pt x="33" y="58"/>
                </a:lnTo>
                <a:lnTo>
                  <a:pt x="33" y="56"/>
                </a:lnTo>
                <a:lnTo>
                  <a:pt x="35" y="56"/>
                </a:lnTo>
                <a:lnTo>
                  <a:pt x="37" y="54"/>
                </a:lnTo>
                <a:lnTo>
                  <a:pt x="37" y="52"/>
                </a:lnTo>
                <a:lnTo>
                  <a:pt x="39" y="50"/>
                </a:lnTo>
                <a:lnTo>
                  <a:pt x="40" y="50"/>
                </a:lnTo>
                <a:lnTo>
                  <a:pt x="40" y="48"/>
                </a:lnTo>
                <a:lnTo>
                  <a:pt x="42" y="46"/>
                </a:lnTo>
                <a:lnTo>
                  <a:pt x="42" y="44"/>
                </a:lnTo>
                <a:lnTo>
                  <a:pt x="44" y="44"/>
                </a:lnTo>
                <a:lnTo>
                  <a:pt x="44" y="42"/>
                </a:lnTo>
                <a:lnTo>
                  <a:pt x="48" y="39"/>
                </a:lnTo>
                <a:lnTo>
                  <a:pt x="50" y="37"/>
                </a:lnTo>
                <a:lnTo>
                  <a:pt x="50" y="33"/>
                </a:lnTo>
                <a:lnTo>
                  <a:pt x="54" y="29"/>
                </a:lnTo>
                <a:lnTo>
                  <a:pt x="54" y="27"/>
                </a:lnTo>
                <a:lnTo>
                  <a:pt x="56" y="25"/>
                </a:lnTo>
                <a:lnTo>
                  <a:pt x="56" y="21"/>
                </a:lnTo>
                <a:lnTo>
                  <a:pt x="58" y="19"/>
                </a:lnTo>
                <a:lnTo>
                  <a:pt x="58" y="17"/>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Freeform 95"/>
          <p:cNvSpPr/>
          <p:nvPr/>
        </p:nvSpPr>
        <p:spPr>
          <a:xfrm>
            <a:off x="3994200" y="6167520"/>
            <a:ext cx="109440" cy="83880"/>
          </a:xfrm>
          <a:custGeom>
            <a:avLst/>
            <a:gdLst>
              <a:gd name="textAreaLeft" fmla="*/ 0 w 109440"/>
              <a:gd name="textAreaRight" fmla="*/ 109800 w 109440"/>
              <a:gd name="textAreaTop" fmla="*/ 0 h 83880"/>
              <a:gd name="textAreaBottom" fmla="*/ 84240 h 83880"/>
            </a:gdLst>
            <a:ahLst/>
            <a:rect l="textAreaLeft" t="textAreaTop" r="textAreaRight" b="textAreaBottom"/>
            <a:pathLst>
              <a:path w="69" h="53">
                <a:moveTo>
                  <a:pt x="57" y="4"/>
                </a:moveTo>
                <a:lnTo>
                  <a:pt x="55" y="2"/>
                </a:lnTo>
                <a:lnTo>
                  <a:pt x="50" y="2"/>
                </a:lnTo>
                <a:lnTo>
                  <a:pt x="48" y="0"/>
                </a:lnTo>
                <a:lnTo>
                  <a:pt x="23" y="0"/>
                </a:lnTo>
                <a:lnTo>
                  <a:pt x="21" y="2"/>
                </a:lnTo>
                <a:lnTo>
                  <a:pt x="11" y="2"/>
                </a:lnTo>
                <a:lnTo>
                  <a:pt x="9" y="4"/>
                </a:lnTo>
                <a:lnTo>
                  <a:pt x="5" y="4"/>
                </a:lnTo>
                <a:lnTo>
                  <a:pt x="5" y="5"/>
                </a:lnTo>
                <a:lnTo>
                  <a:pt x="3" y="5"/>
                </a:lnTo>
                <a:lnTo>
                  <a:pt x="2" y="7"/>
                </a:lnTo>
                <a:lnTo>
                  <a:pt x="2" y="9"/>
                </a:lnTo>
                <a:lnTo>
                  <a:pt x="0" y="9"/>
                </a:lnTo>
                <a:lnTo>
                  <a:pt x="0" y="11"/>
                </a:lnTo>
                <a:lnTo>
                  <a:pt x="2" y="11"/>
                </a:lnTo>
                <a:lnTo>
                  <a:pt x="2" y="17"/>
                </a:lnTo>
                <a:lnTo>
                  <a:pt x="3" y="17"/>
                </a:lnTo>
                <a:lnTo>
                  <a:pt x="3" y="19"/>
                </a:lnTo>
                <a:lnTo>
                  <a:pt x="7" y="23"/>
                </a:lnTo>
                <a:lnTo>
                  <a:pt x="7" y="25"/>
                </a:lnTo>
                <a:lnTo>
                  <a:pt x="9" y="27"/>
                </a:lnTo>
                <a:lnTo>
                  <a:pt x="9" y="28"/>
                </a:lnTo>
                <a:lnTo>
                  <a:pt x="11" y="28"/>
                </a:lnTo>
                <a:lnTo>
                  <a:pt x="15" y="32"/>
                </a:lnTo>
                <a:lnTo>
                  <a:pt x="15" y="34"/>
                </a:lnTo>
                <a:lnTo>
                  <a:pt x="17" y="34"/>
                </a:lnTo>
                <a:lnTo>
                  <a:pt x="17" y="36"/>
                </a:lnTo>
                <a:lnTo>
                  <a:pt x="19" y="36"/>
                </a:lnTo>
                <a:lnTo>
                  <a:pt x="19" y="38"/>
                </a:lnTo>
                <a:lnTo>
                  <a:pt x="21" y="40"/>
                </a:lnTo>
                <a:lnTo>
                  <a:pt x="23" y="40"/>
                </a:lnTo>
                <a:lnTo>
                  <a:pt x="23" y="42"/>
                </a:lnTo>
                <a:lnTo>
                  <a:pt x="25" y="42"/>
                </a:lnTo>
                <a:lnTo>
                  <a:pt x="25" y="44"/>
                </a:lnTo>
                <a:lnTo>
                  <a:pt x="26" y="44"/>
                </a:lnTo>
                <a:lnTo>
                  <a:pt x="26" y="46"/>
                </a:lnTo>
                <a:lnTo>
                  <a:pt x="28" y="46"/>
                </a:lnTo>
                <a:lnTo>
                  <a:pt x="32" y="50"/>
                </a:lnTo>
                <a:lnTo>
                  <a:pt x="34" y="50"/>
                </a:lnTo>
                <a:lnTo>
                  <a:pt x="34" y="52"/>
                </a:lnTo>
                <a:lnTo>
                  <a:pt x="36" y="52"/>
                </a:lnTo>
                <a:lnTo>
                  <a:pt x="38" y="53"/>
                </a:lnTo>
                <a:lnTo>
                  <a:pt x="53" y="53"/>
                </a:lnTo>
                <a:lnTo>
                  <a:pt x="55" y="52"/>
                </a:lnTo>
                <a:lnTo>
                  <a:pt x="57" y="52"/>
                </a:lnTo>
                <a:lnTo>
                  <a:pt x="57" y="50"/>
                </a:lnTo>
                <a:lnTo>
                  <a:pt x="61" y="50"/>
                </a:lnTo>
                <a:lnTo>
                  <a:pt x="61" y="48"/>
                </a:lnTo>
                <a:lnTo>
                  <a:pt x="63" y="48"/>
                </a:lnTo>
                <a:lnTo>
                  <a:pt x="63" y="46"/>
                </a:lnTo>
                <a:lnTo>
                  <a:pt x="65" y="46"/>
                </a:lnTo>
                <a:lnTo>
                  <a:pt x="65" y="44"/>
                </a:lnTo>
                <a:lnTo>
                  <a:pt x="67" y="44"/>
                </a:lnTo>
                <a:lnTo>
                  <a:pt x="67" y="42"/>
                </a:lnTo>
                <a:lnTo>
                  <a:pt x="69" y="42"/>
                </a:lnTo>
                <a:lnTo>
                  <a:pt x="69" y="23"/>
                </a:lnTo>
                <a:lnTo>
                  <a:pt x="67" y="23"/>
                </a:lnTo>
                <a:lnTo>
                  <a:pt x="67" y="15"/>
                </a:lnTo>
                <a:lnTo>
                  <a:pt x="65" y="15"/>
                </a:lnTo>
                <a:lnTo>
                  <a:pt x="65" y="11"/>
                </a:lnTo>
                <a:lnTo>
                  <a:pt x="63" y="11"/>
                </a:lnTo>
                <a:lnTo>
                  <a:pt x="63" y="7"/>
                </a:lnTo>
                <a:lnTo>
                  <a:pt x="61" y="7"/>
                </a:lnTo>
                <a:lnTo>
                  <a:pt x="61" y="5"/>
                </a:lnTo>
                <a:lnTo>
                  <a:pt x="59" y="5"/>
                </a:lnTo>
                <a:lnTo>
                  <a:pt x="59" y="4"/>
                </a:lnTo>
                <a:lnTo>
                  <a:pt x="57" y="4"/>
                </a:lnTo>
                <a:close/>
              </a:path>
            </a:pathLst>
          </a:custGeom>
          <a:solidFill>
            <a:srgbClr val="ffff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75" name="Freeform 96"/>
          <p:cNvSpPr/>
          <p:nvPr/>
        </p:nvSpPr>
        <p:spPr>
          <a:xfrm>
            <a:off x="3441600" y="5862600"/>
            <a:ext cx="85680" cy="60480"/>
          </a:xfrm>
          <a:custGeom>
            <a:avLst/>
            <a:gdLst>
              <a:gd name="textAreaLeft" fmla="*/ 0 w 85680"/>
              <a:gd name="textAreaRight" fmla="*/ 85680 w 85680"/>
              <a:gd name="textAreaTop" fmla="*/ 0 h 60480"/>
              <a:gd name="textAreaBottom" fmla="*/ 60840 h 60480"/>
            </a:gdLst>
            <a:ahLst/>
            <a:rect l="textAreaLeft" t="textAreaTop" r="textAreaRight" b="textAreaBottom"/>
            <a:pathLst>
              <a:path w="54" h="38">
                <a:moveTo>
                  <a:pt x="23" y="0"/>
                </a:moveTo>
                <a:lnTo>
                  <a:pt x="10" y="0"/>
                </a:lnTo>
                <a:lnTo>
                  <a:pt x="2" y="3"/>
                </a:lnTo>
                <a:lnTo>
                  <a:pt x="0" y="15"/>
                </a:lnTo>
                <a:lnTo>
                  <a:pt x="2" y="27"/>
                </a:lnTo>
                <a:lnTo>
                  <a:pt x="11" y="36"/>
                </a:lnTo>
                <a:lnTo>
                  <a:pt x="23" y="38"/>
                </a:lnTo>
                <a:lnTo>
                  <a:pt x="38" y="34"/>
                </a:lnTo>
                <a:lnTo>
                  <a:pt x="50" y="27"/>
                </a:lnTo>
                <a:lnTo>
                  <a:pt x="54" y="21"/>
                </a:lnTo>
                <a:lnTo>
                  <a:pt x="50" y="13"/>
                </a:lnTo>
                <a:lnTo>
                  <a:pt x="31" y="2"/>
                </a:lnTo>
                <a:lnTo>
                  <a:pt x="8" y="0"/>
                </a:lnTo>
                <a:lnTo>
                  <a:pt x="23" y="0"/>
                </a:lnTo>
                <a:close/>
              </a:path>
            </a:pathLst>
          </a:custGeom>
          <a:solidFill>
            <a:srgbClr val="ffff00"/>
          </a:solidFill>
          <a:ln w="0">
            <a:solidFill>
              <a:srgbClr val="000000"/>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076" name="Freeform 97"/>
          <p:cNvSpPr/>
          <p:nvPr/>
        </p:nvSpPr>
        <p:spPr>
          <a:xfrm>
            <a:off x="3767040" y="5859360"/>
            <a:ext cx="68400" cy="33480"/>
          </a:xfrm>
          <a:custGeom>
            <a:avLst/>
            <a:gdLst>
              <a:gd name="textAreaLeft" fmla="*/ 0 w 68400"/>
              <a:gd name="textAreaRight" fmla="*/ 68760 w 68400"/>
              <a:gd name="textAreaTop" fmla="*/ 0 h 33480"/>
              <a:gd name="textAreaBottom" fmla="*/ 33840 h 33480"/>
            </a:gdLst>
            <a:ahLst/>
            <a:rect l="textAreaLeft" t="textAreaTop" r="textAreaRight" b="textAreaBottom"/>
            <a:pathLst>
              <a:path w="43" h="21">
                <a:moveTo>
                  <a:pt x="39" y="5"/>
                </a:moveTo>
                <a:lnTo>
                  <a:pt x="20" y="2"/>
                </a:lnTo>
                <a:lnTo>
                  <a:pt x="6" y="0"/>
                </a:lnTo>
                <a:lnTo>
                  <a:pt x="0" y="5"/>
                </a:lnTo>
                <a:lnTo>
                  <a:pt x="0" y="11"/>
                </a:lnTo>
                <a:lnTo>
                  <a:pt x="4" y="17"/>
                </a:lnTo>
                <a:lnTo>
                  <a:pt x="12" y="19"/>
                </a:lnTo>
                <a:lnTo>
                  <a:pt x="25" y="21"/>
                </a:lnTo>
                <a:lnTo>
                  <a:pt x="39" y="17"/>
                </a:lnTo>
                <a:lnTo>
                  <a:pt x="41" y="15"/>
                </a:lnTo>
                <a:lnTo>
                  <a:pt x="43" y="11"/>
                </a:lnTo>
                <a:lnTo>
                  <a:pt x="41" y="9"/>
                </a:lnTo>
                <a:lnTo>
                  <a:pt x="39" y="5"/>
                </a:lnTo>
                <a:close/>
              </a:path>
            </a:pathLst>
          </a:custGeom>
          <a:solidFill>
            <a:srgbClr val="ffff00"/>
          </a:solidFill>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077" name="Freeform 98"/>
          <p:cNvSpPr/>
          <p:nvPr/>
        </p:nvSpPr>
        <p:spPr>
          <a:xfrm>
            <a:off x="3567240" y="5919840"/>
            <a:ext cx="50760" cy="33120"/>
          </a:xfrm>
          <a:custGeom>
            <a:avLst/>
            <a:gdLst>
              <a:gd name="textAreaLeft" fmla="*/ 0 w 50760"/>
              <a:gd name="textAreaRight" fmla="*/ 51120 w 50760"/>
              <a:gd name="textAreaTop" fmla="*/ 0 h 33120"/>
              <a:gd name="textAreaBottom" fmla="*/ 33480 h 33120"/>
            </a:gdLst>
            <a:ahLst/>
            <a:rect l="textAreaLeft" t="textAreaTop" r="textAreaRight" b="textAreaBottom"/>
            <a:pathLst>
              <a:path w="32" h="21">
                <a:moveTo>
                  <a:pt x="7" y="0"/>
                </a:moveTo>
                <a:lnTo>
                  <a:pt x="0" y="12"/>
                </a:lnTo>
                <a:lnTo>
                  <a:pt x="4" y="17"/>
                </a:lnTo>
                <a:lnTo>
                  <a:pt x="11" y="19"/>
                </a:lnTo>
                <a:lnTo>
                  <a:pt x="23" y="21"/>
                </a:lnTo>
                <a:lnTo>
                  <a:pt x="29" y="17"/>
                </a:lnTo>
                <a:lnTo>
                  <a:pt x="32" y="14"/>
                </a:lnTo>
                <a:lnTo>
                  <a:pt x="29" y="8"/>
                </a:lnTo>
                <a:lnTo>
                  <a:pt x="23" y="6"/>
                </a:lnTo>
                <a:lnTo>
                  <a:pt x="15" y="2"/>
                </a:lnTo>
                <a:lnTo>
                  <a:pt x="7" y="0"/>
                </a:lnTo>
                <a:close/>
              </a:path>
            </a:pathLst>
          </a:custGeom>
          <a:solidFill>
            <a:srgbClr val="ffff00"/>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78" name="Freeform 99"/>
          <p:cNvSpPr/>
          <p:nvPr/>
        </p:nvSpPr>
        <p:spPr>
          <a:xfrm>
            <a:off x="3762360" y="5929200"/>
            <a:ext cx="57240" cy="46080"/>
          </a:xfrm>
          <a:custGeom>
            <a:avLst/>
            <a:gdLst>
              <a:gd name="textAreaLeft" fmla="*/ 0 w 57240"/>
              <a:gd name="textAreaRight" fmla="*/ 57600 w 57240"/>
              <a:gd name="textAreaTop" fmla="*/ 0 h 46080"/>
              <a:gd name="textAreaBottom" fmla="*/ 46440 h 46080"/>
            </a:gdLst>
            <a:ahLst/>
            <a:rect l="textAreaLeft" t="textAreaTop" r="textAreaRight" b="textAreaBottom"/>
            <a:pathLst>
              <a:path w="36" h="29">
                <a:moveTo>
                  <a:pt x="15" y="0"/>
                </a:moveTo>
                <a:lnTo>
                  <a:pt x="5" y="11"/>
                </a:lnTo>
                <a:lnTo>
                  <a:pt x="0" y="21"/>
                </a:lnTo>
                <a:lnTo>
                  <a:pt x="0" y="27"/>
                </a:lnTo>
                <a:lnTo>
                  <a:pt x="5" y="29"/>
                </a:lnTo>
                <a:lnTo>
                  <a:pt x="19" y="27"/>
                </a:lnTo>
                <a:lnTo>
                  <a:pt x="30" y="23"/>
                </a:lnTo>
                <a:lnTo>
                  <a:pt x="36" y="15"/>
                </a:lnTo>
                <a:lnTo>
                  <a:pt x="34" y="8"/>
                </a:lnTo>
                <a:lnTo>
                  <a:pt x="27" y="4"/>
                </a:lnTo>
                <a:lnTo>
                  <a:pt x="15" y="0"/>
                </a:lnTo>
                <a:close/>
              </a:path>
            </a:pathLst>
          </a:custGeom>
          <a:solidFill>
            <a:srgbClr val="ffff00"/>
          </a:solidFill>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79" name="Freeform 100"/>
          <p:cNvSpPr/>
          <p:nvPr/>
        </p:nvSpPr>
        <p:spPr>
          <a:xfrm>
            <a:off x="3494160" y="6154560"/>
            <a:ext cx="57240" cy="79560"/>
          </a:xfrm>
          <a:custGeom>
            <a:avLst/>
            <a:gdLst>
              <a:gd name="textAreaLeft" fmla="*/ 0 w 57240"/>
              <a:gd name="textAreaRight" fmla="*/ 57600 w 57240"/>
              <a:gd name="textAreaTop" fmla="*/ 0 h 79560"/>
              <a:gd name="textAreaBottom" fmla="*/ 79920 h 79560"/>
            </a:gdLst>
            <a:ahLst/>
            <a:rect l="textAreaLeft" t="textAreaTop" r="textAreaRight" b="textAreaBottom"/>
            <a:pathLst>
              <a:path w="36" h="50">
                <a:moveTo>
                  <a:pt x="17" y="0"/>
                </a:moveTo>
                <a:lnTo>
                  <a:pt x="5" y="13"/>
                </a:lnTo>
                <a:lnTo>
                  <a:pt x="0" y="25"/>
                </a:lnTo>
                <a:lnTo>
                  <a:pt x="3" y="38"/>
                </a:lnTo>
                <a:lnTo>
                  <a:pt x="13" y="46"/>
                </a:lnTo>
                <a:lnTo>
                  <a:pt x="25" y="50"/>
                </a:lnTo>
                <a:lnTo>
                  <a:pt x="34" y="48"/>
                </a:lnTo>
                <a:lnTo>
                  <a:pt x="36" y="40"/>
                </a:lnTo>
                <a:lnTo>
                  <a:pt x="34" y="35"/>
                </a:lnTo>
                <a:lnTo>
                  <a:pt x="32" y="27"/>
                </a:lnTo>
                <a:lnTo>
                  <a:pt x="32" y="15"/>
                </a:lnTo>
                <a:lnTo>
                  <a:pt x="28" y="6"/>
                </a:lnTo>
                <a:lnTo>
                  <a:pt x="23" y="2"/>
                </a:lnTo>
                <a:lnTo>
                  <a:pt x="17" y="0"/>
                </a:lnTo>
                <a:close/>
              </a:path>
            </a:pathLst>
          </a:custGeom>
          <a:solidFill>
            <a:srgbClr val="ffff00"/>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80" name="Freeform 101"/>
          <p:cNvSpPr/>
          <p:nvPr/>
        </p:nvSpPr>
        <p:spPr>
          <a:xfrm>
            <a:off x="3881520" y="5902200"/>
            <a:ext cx="73080" cy="27000"/>
          </a:xfrm>
          <a:custGeom>
            <a:avLst/>
            <a:gdLst>
              <a:gd name="textAreaLeft" fmla="*/ 0 w 73080"/>
              <a:gd name="textAreaRight" fmla="*/ 73440 w 73080"/>
              <a:gd name="textAreaTop" fmla="*/ 0 h 27000"/>
              <a:gd name="textAreaBottom" fmla="*/ 27360 h 27000"/>
            </a:gdLst>
            <a:ahLst/>
            <a:rect l="textAreaLeft" t="textAreaTop" r="textAreaRight" b="textAreaBottom"/>
            <a:pathLst>
              <a:path w="46" h="17">
                <a:moveTo>
                  <a:pt x="36" y="0"/>
                </a:moveTo>
                <a:lnTo>
                  <a:pt x="19" y="0"/>
                </a:lnTo>
                <a:lnTo>
                  <a:pt x="5" y="2"/>
                </a:lnTo>
                <a:lnTo>
                  <a:pt x="0" y="7"/>
                </a:lnTo>
                <a:lnTo>
                  <a:pt x="0" y="11"/>
                </a:lnTo>
                <a:lnTo>
                  <a:pt x="7" y="15"/>
                </a:lnTo>
                <a:lnTo>
                  <a:pt x="19" y="17"/>
                </a:lnTo>
                <a:lnTo>
                  <a:pt x="30" y="17"/>
                </a:lnTo>
                <a:lnTo>
                  <a:pt x="38" y="15"/>
                </a:lnTo>
                <a:lnTo>
                  <a:pt x="44" y="11"/>
                </a:lnTo>
                <a:lnTo>
                  <a:pt x="46" y="7"/>
                </a:lnTo>
                <a:lnTo>
                  <a:pt x="44" y="2"/>
                </a:lnTo>
                <a:lnTo>
                  <a:pt x="36" y="0"/>
                </a:lnTo>
                <a:close/>
              </a:path>
            </a:pathLst>
          </a:custGeom>
          <a:solidFill>
            <a:srgbClr val="ffff00"/>
          </a:solidFill>
          <a:ln w="0">
            <a:solidFill>
              <a:srgbClr val="000000"/>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81" name="Freeform 102"/>
          <p:cNvSpPr/>
          <p:nvPr/>
        </p:nvSpPr>
        <p:spPr>
          <a:xfrm>
            <a:off x="3882960" y="5956200"/>
            <a:ext cx="74520" cy="39960"/>
          </a:xfrm>
          <a:custGeom>
            <a:avLst/>
            <a:gdLst>
              <a:gd name="textAreaLeft" fmla="*/ 0 w 74520"/>
              <a:gd name="textAreaRight" fmla="*/ 74880 w 74520"/>
              <a:gd name="textAreaTop" fmla="*/ 0 h 39960"/>
              <a:gd name="textAreaBottom" fmla="*/ 40320 h 39960"/>
            </a:gdLst>
            <a:ahLst/>
            <a:rect l="textAreaLeft" t="textAreaTop" r="textAreaRight" b="textAreaBottom"/>
            <a:pathLst>
              <a:path w="47" h="25">
                <a:moveTo>
                  <a:pt x="4" y="0"/>
                </a:moveTo>
                <a:lnTo>
                  <a:pt x="0" y="8"/>
                </a:lnTo>
                <a:lnTo>
                  <a:pt x="0" y="16"/>
                </a:lnTo>
                <a:lnTo>
                  <a:pt x="12" y="19"/>
                </a:lnTo>
                <a:lnTo>
                  <a:pt x="27" y="23"/>
                </a:lnTo>
                <a:lnTo>
                  <a:pt x="41" y="25"/>
                </a:lnTo>
                <a:lnTo>
                  <a:pt x="47" y="21"/>
                </a:lnTo>
                <a:lnTo>
                  <a:pt x="47" y="14"/>
                </a:lnTo>
                <a:lnTo>
                  <a:pt x="43" y="6"/>
                </a:lnTo>
                <a:lnTo>
                  <a:pt x="27" y="4"/>
                </a:lnTo>
                <a:lnTo>
                  <a:pt x="4" y="0"/>
                </a:lnTo>
                <a:close/>
              </a:path>
            </a:pathLst>
          </a:custGeom>
          <a:solidFill>
            <a:srgbClr val="ffff00"/>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082" name="Freeform 103"/>
          <p:cNvSpPr/>
          <p:nvPr/>
        </p:nvSpPr>
        <p:spPr>
          <a:xfrm>
            <a:off x="3395520" y="6194520"/>
            <a:ext cx="30240" cy="39600"/>
          </a:xfrm>
          <a:custGeom>
            <a:avLst/>
            <a:gdLst>
              <a:gd name="textAreaLeft" fmla="*/ 0 w 30240"/>
              <a:gd name="textAreaRight" fmla="*/ 30600 w 30240"/>
              <a:gd name="textAreaTop" fmla="*/ 0 h 39600"/>
              <a:gd name="textAreaBottom" fmla="*/ 39960 h 39600"/>
            </a:gdLst>
            <a:ahLst/>
            <a:rect l="textAreaLeft" t="textAreaTop" r="textAreaRight" b="textAreaBottom"/>
            <a:pathLst>
              <a:path w="19" h="25">
                <a:moveTo>
                  <a:pt x="4" y="0"/>
                </a:moveTo>
                <a:lnTo>
                  <a:pt x="0" y="8"/>
                </a:lnTo>
                <a:lnTo>
                  <a:pt x="2" y="17"/>
                </a:lnTo>
                <a:lnTo>
                  <a:pt x="6" y="23"/>
                </a:lnTo>
                <a:lnTo>
                  <a:pt x="12" y="25"/>
                </a:lnTo>
                <a:lnTo>
                  <a:pt x="16" y="21"/>
                </a:lnTo>
                <a:lnTo>
                  <a:pt x="19" y="13"/>
                </a:lnTo>
                <a:lnTo>
                  <a:pt x="17" y="6"/>
                </a:lnTo>
                <a:lnTo>
                  <a:pt x="16" y="2"/>
                </a:lnTo>
                <a:lnTo>
                  <a:pt x="10" y="0"/>
                </a:lnTo>
                <a:lnTo>
                  <a:pt x="4" y="0"/>
                </a:lnTo>
                <a:close/>
              </a:path>
            </a:pathLst>
          </a:custGeom>
          <a:solidFill>
            <a:srgbClr val="ffff00"/>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83" name="Freeform 104"/>
          <p:cNvSpPr/>
          <p:nvPr/>
        </p:nvSpPr>
        <p:spPr>
          <a:xfrm>
            <a:off x="3468600" y="6270480"/>
            <a:ext cx="73080" cy="42840"/>
          </a:xfrm>
          <a:custGeom>
            <a:avLst/>
            <a:gdLst>
              <a:gd name="textAreaLeft" fmla="*/ 0 w 73080"/>
              <a:gd name="textAreaRight" fmla="*/ 73440 w 73080"/>
              <a:gd name="textAreaTop" fmla="*/ 0 h 42840"/>
              <a:gd name="textAreaBottom" fmla="*/ 43200 h 42840"/>
            </a:gdLst>
            <a:ahLst/>
            <a:rect l="textAreaLeft" t="textAreaTop" r="textAreaRight" b="textAreaBottom"/>
            <a:pathLst>
              <a:path w="46" h="27">
                <a:moveTo>
                  <a:pt x="33" y="4"/>
                </a:moveTo>
                <a:lnTo>
                  <a:pt x="14" y="0"/>
                </a:lnTo>
                <a:lnTo>
                  <a:pt x="4" y="2"/>
                </a:lnTo>
                <a:lnTo>
                  <a:pt x="0" y="8"/>
                </a:lnTo>
                <a:lnTo>
                  <a:pt x="6" y="15"/>
                </a:lnTo>
                <a:lnTo>
                  <a:pt x="18" y="23"/>
                </a:lnTo>
                <a:lnTo>
                  <a:pt x="33" y="27"/>
                </a:lnTo>
                <a:lnTo>
                  <a:pt x="42" y="23"/>
                </a:lnTo>
                <a:lnTo>
                  <a:pt x="46" y="21"/>
                </a:lnTo>
                <a:lnTo>
                  <a:pt x="46" y="17"/>
                </a:lnTo>
                <a:lnTo>
                  <a:pt x="42" y="10"/>
                </a:lnTo>
                <a:lnTo>
                  <a:pt x="39" y="6"/>
                </a:lnTo>
                <a:lnTo>
                  <a:pt x="33" y="4"/>
                </a:lnTo>
                <a:close/>
              </a:path>
            </a:pathLst>
          </a:custGeom>
          <a:solidFill>
            <a:srgbClr val="ffff00"/>
          </a:solid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084" name="Freeform 105"/>
          <p:cNvSpPr/>
          <p:nvPr/>
        </p:nvSpPr>
        <p:spPr>
          <a:xfrm>
            <a:off x="3621240" y="6254640"/>
            <a:ext cx="85680" cy="39960"/>
          </a:xfrm>
          <a:custGeom>
            <a:avLst/>
            <a:gdLst>
              <a:gd name="textAreaLeft" fmla="*/ 0 w 85680"/>
              <a:gd name="textAreaRight" fmla="*/ 85680 w 85680"/>
              <a:gd name="textAreaTop" fmla="*/ 0 h 39960"/>
              <a:gd name="textAreaBottom" fmla="*/ 40320 h 39960"/>
            </a:gdLst>
            <a:ahLst/>
            <a:rect l="textAreaLeft" t="textAreaTop" r="textAreaRight" b="textAreaBottom"/>
            <a:pathLst>
              <a:path w="54" h="25">
                <a:moveTo>
                  <a:pt x="31" y="2"/>
                </a:moveTo>
                <a:lnTo>
                  <a:pt x="18" y="0"/>
                </a:lnTo>
                <a:lnTo>
                  <a:pt x="6" y="2"/>
                </a:lnTo>
                <a:lnTo>
                  <a:pt x="0" y="16"/>
                </a:lnTo>
                <a:lnTo>
                  <a:pt x="4" y="20"/>
                </a:lnTo>
                <a:lnTo>
                  <a:pt x="12" y="23"/>
                </a:lnTo>
                <a:lnTo>
                  <a:pt x="29" y="25"/>
                </a:lnTo>
                <a:lnTo>
                  <a:pt x="44" y="23"/>
                </a:lnTo>
                <a:lnTo>
                  <a:pt x="52" y="22"/>
                </a:lnTo>
                <a:lnTo>
                  <a:pt x="54" y="16"/>
                </a:lnTo>
                <a:lnTo>
                  <a:pt x="52" y="12"/>
                </a:lnTo>
                <a:lnTo>
                  <a:pt x="46" y="6"/>
                </a:lnTo>
                <a:lnTo>
                  <a:pt x="37" y="4"/>
                </a:lnTo>
                <a:lnTo>
                  <a:pt x="25" y="0"/>
                </a:lnTo>
                <a:lnTo>
                  <a:pt x="31" y="2"/>
                </a:lnTo>
                <a:close/>
              </a:path>
            </a:pathLst>
          </a:custGeom>
          <a:solidFill>
            <a:srgbClr val="ffff00"/>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085" name="Freeform 106"/>
          <p:cNvSpPr/>
          <p:nvPr/>
        </p:nvSpPr>
        <p:spPr>
          <a:xfrm>
            <a:off x="3922560" y="6246720"/>
            <a:ext cx="122400" cy="47880"/>
          </a:xfrm>
          <a:custGeom>
            <a:avLst/>
            <a:gdLst>
              <a:gd name="textAreaLeft" fmla="*/ 0 w 122400"/>
              <a:gd name="textAreaRight" fmla="*/ 122760 w 122400"/>
              <a:gd name="textAreaTop" fmla="*/ 0 h 47880"/>
              <a:gd name="textAreaBottom" fmla="*/ 48240 h 47880"/>
            </a:gdLst>
            <a:ahLst/>
            <a:rect l="textAreaLeft" t="textAreaTop" r="textAreaRight" b="textAreaBottom"/>
            <a:pathLst>
              <a:path w="77" h="30">
                <a:moveTo>
                  <a:pt x="70" y="15"/>
                </a:moveTo>
                <a:lnTo>
                  <a:pt x="52" y="15"/>
                </a:lnTo>
                <a:lnTo>
                  <a:pt x="37" y="11"/>
                </a:lnTo>
                <a:lnTo>
                  <a:pt x="18" y="0"/>
                </a:lnTo>
                <a:lnTo>
                  <a:pt x="4" y="0"/>
                </a:lnTo>
                <a:lnTo>
                  <a:pt x="0" y="7"/>
                </a:lnTo>
                <a:lnTo>
                  <a:pt x="0" y="17"/>
                </a:lnTo>
                <a:lnTo>
                  <a:pt x="6" y="25"/>
                </a:lnTo>
                <a:lnTo>
                  <a:pt x="12" y="27"/>
                </a:lnTo>
                <a:lnTo>
                  <a:pt x="20" y="28"/>
                </a:lnTo>
                <a:lnTo>
                  <a:pt x="48" y="30"/>
                </a:lnTo>
                <a:lnTo>
                  <a:pt x="62" y="28"/>
                </a:lnTo>
                <a:lnTo>
                  <a:pt x="71" y="27"/>
                </a:lnTo>
                <a:lnTo>
                  <a:pt x="75" y="25"/>
                </a:lnTo>
                <a:lnTo>
                  <a:pt x="77" y="21"/>
                </a:lnTo>
                <a:lnTo>
                  <a:pt x="70" y="15"/>
                </a:lnTo>
                <a:close/>
              </a:path>
            </a:pathLst>
          </a:custGeom>
          <a:solidFill>
            <a:srgbClr val="ffff0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086" name="Freeform 107"/>
          <p:cNvSpPr/>
          <p:nvPr/>
        </p:nvSpPr>
        <p:spPr>
          <a:xfrm>
            <a:off x="3767040" y="6261120"/>
            <a:ext cx="58680" cy="39600"/>
          </a:xfrm>
          <a:custGeom>
            <a:avLst/>
            <a:gdLst>
              <a:gd name="textAreaLeft" fmla="*/ 0 w 58680"/>
              <a:gd name="textAreaRight" fmla="*/ 59040 w 58680"/>
              <a:gd name="textAreaTop" fmla="*/ 0 h 39600"/>
              <a:gd name="textAreaBottom" fmla="*/ 39960 h 39600"/>
            </a:gdLst>
            <a:ahLst/>
            <a:rect l="textAreaLeft" t="textAreaTop" r="textAreaRight" b="textAreaBottom"/>
            <a:pathLst>
              <a:path w="37" h="25">
                <a:moveTo>
                  <a:pt x="37" y="16"/>
                </a:moveTo>
                <a:lnTo>
                  <a:pt x="27" y="8"/>
                </a:lnTo>
                <a:lnTo>
                  <a:pt x="18" y="2"/>
                </a:lnTo>
                <a:lnTo>
                  <a:pt x="8" y="0"/>
                </a:lnTo>
                <a:lnTo>
                  <a:pt x="0" y="4"/>
                </a:lnTo>
                <a:lnTo>
                  <a:pt x="0" y="12"/>
                </a:lnTo>
                <a:lnTo>
                  <a:pt x="6" y="19"/>
                </a:lnTo>
                <a:lnTo>
                  <a:pt x="16" y="25"/>
                </a:lnTo>
                <a:lnTo>
                  <a:pt x="24" y="25"/>
                </a:lnTo>
                <a:lnTo>
                  <a:pt x="37" y="16"/>
                </a:lnTo>
                <a:close/>
              </a:path>
            </a:pathLst>
          </a:custGeom>
          <a:solidFill>
            <a:srgbClr val="ffff00"/>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87" name="Freeform 108"/>
          <p:cNvSpPr/>
          <p:nvPr/>
        </p:nvSpPr>
        <p:spPr>
          <a:xfrm>
            <a:off x="7783560" y="5386320"/>
            <a:ext cx="554040" cy="12600"/>
          </a:xfrm>
          <a:custGeom>
            <a:avLst/>
            <a:gdLst>
              <a:gd name="textAreaLeft" fmla="*/ 0 w 554040"/>
              <a:gd name="textAreaRight" fmla="*/ 554400 w 554040"/>
              <a:gd name="textAreaTop" fmla="*/ 0 h 12600"/>
              <a:gd name="textAreaBottom" fmla="*/ 12960 h 12600"/>
            </a:gdLst>
            <a:ahLst/>
            <a:rect l="textAreaLeft" t="textAreaTop" r="textAreaRight" b="textAreaBottom"/>
            <a:pathLst>
              <a:path w="349" h="8">
                <a:moveTo>
                  <a:pt x="4" y="0"/>
                </a:moveTo>
                <a:lnTo>
                  <a:pt x="2" y="0"/>
                </a:lnTo>
                <a:lnTo>
                  <a:pt x="2" y="2"/>
                </a:lnTo>
                <a:lnTo>
                  <a:pt x="0" y="2"/>
                </a:lnTo>
                <a:lnTo>
                  <a:pt x="0" y="6"/>
                </a:lnTo>
                <a:lnTo>
                  <a:pt x="2" y="6"/>
                </a:lnTo>
                <a:lnTo>
                  <a:pt x="2" y="8"/>
                </a:lnTo>
                <a:lnTo>
                  <a:pt x="348" y="8"/>
                </a:lnTo>
                <a:lnTo>
                  <a:pt x="348" y="6"/>
                </a:lnTo>
                <a:lnTo>
                  <a:pt x="349" y="6"/>
                </a:lnTo>
                <a:lnTo>
                  <a:pt x="349" y="2"/>
                </a:lnTo>
                <a:lnTo>
                  <a:pt x="348" y="2"/>
                </a:lnTo>
                <a:lnTo>
                  <a:pt x="348" y="0"/>
                </a:lnTo>
                <a:lnTo>
                  <a:pt x="346" y="0"/>
                </a:lnTo>
                <a:lnTo>
                  <a:pt x="4"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88" name="Freeform 109"/>
          <p:cNvSpPr/>
          <p:nvPr/>
        </p:nvSpPr>
        <p:spPr>
          <a:xfrm>
            <a:off x="7783560" y="4405320"/>
            <a:ext cx="554040" cy="11160"/>
          </a:xfrm>
          <a:custGeom>
            <a:avLst/>
            <a:gdLst>
              <a:gd name="textAreaLeft" fmla="*/ 0 w 554040"/>
              <a:gd name="textAreaRight" fmla="*/ 554400 w 554040"/>
              <a:gd name="textAreaTop" fmla="*/ 0 h 11160"/>
              <a:gd name="textAreaBottom" fmla="*/ 11520 h 11160"/>
            </a:gdLst>
            <a:ahLst/>
            <a:rect l="textAreaLeft" t="textAreaTop" r="textAreaRight" b="textAreaBottom"/>
            <a:pathLst>
              <a:path w="349" h="7">
                <a:moveTo>
                  <a:pt x="4" y="0"/>
                </a:moveTo>
                <a:lnTo>
                  <a:pt x="2" y="0"/>
                </a:lnTo>
                <a:lnTo>
                  <a:pt x="2" y="2"/>
                </a:lnTo>
                <a:lnTo>
                  <a:pt x="0" y="2"/>
                </a:lnTo>
                <a:lnTo>
                  <a:pt x="0" y="5"/>
                </a:lnTo>
                <a:lnTo>
                  <a:pt x="2" y="5"/>
                </a:lnTo>
                <a:lnTo>
                  <a:pt x="2" y="7"/>
                </a:lnTo>
                <a:lnTo>
                  <a:pt x="348" y="7"/>
                </a:lnTo>
                <a:lnTo>
                  <a:pt x="348" y="5"/>
                </a:lnTo>
                <a:lnTo>
                  <a:pt x="349" y="5"/>
                </a:lnTo>
                <a:lnTo>
                  <a:pt x="349" y="2"/>
                </a:lnTo>
                <a:lnTo>
                  <a:pt x="348" y="2"/>
                </a:lnTo>
                <a:lnTo>
                  <a:pt x="348" y="0"/>
                </a:lnTo>
                <a:lnTo>
                  <a:pt x="346" y="0"/>
                </a:lnTo>
                <a:lnTo>
                  <a:pt x="4"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089" name="Freeform 110"/>
          <p:cNvSpPr/>
          <p:nvPr/>
        </p:nvSpPr>
        <p:spPr>
          <a:xfrm>
            <a:off x="7783560" y="3286080"/>
            <a:ext cx="554040" cy="12600"/>
          </a:xfrm>
          <a:custGeom>
            <a:avLst/>
            <a:gdLst>
              <a:gd name="textAreaLeft" fmla="*/ 0 w 554040"/>
              <a:gd name="textAreaRight" fmla="*/ 554400 w 554040"/>
              <a:gd name="textAreaTop" fmla="*/ 0 h 12600"/>
              <a:gd name="textAreaBottom" fmla="*/ 12960 h 12600"/>
            </a:gdLst>
            <a:ahLst/>
            <a:rect l="textAreaLeft" t="textAreaTop" r="textAreaRight" b="textAreaBottom"/>
            <a:pathLst>
              <a:path w="349" h="8">
                <a:moveTo>
                  <a:pt x="4" y="0"/>
                </a:moveTo>
                <a:lnTo>
                  <a:pt x="2" y="0"/>
                </a:lnTo>
                <a:lnTo>
                  <a:pt x="2" y="2"/>
                </a:lnTo>
                <a:lnTo>
                  <a:pt x="0" y="2"/>
                </a:lnTo>
                <a:lnTo>
                  <a:pt x="0" y="6"/>
                </a:lnTo>
                <a:lnTo>
                  <a:pt x="2" y="6"/>
                </a:lnTo>
                <a:lnTo>
                  <a:pt x="2" y="8"/>
                </a:lnTo>
                <a:lnTo>
                  <a:pt x="348" y="8"/>
                </a:lnTo>
                <a:lnTo>
                  <a:pt x="348" y="6"/>
                </a:lnTo>
                <a:lnTo>
                  <a:pt x="349" y="6"/>
                </a:lnTo>
                <a:lnTo>
                  <a:pt x="349" y="2"/>
                </a:lnTo>
                <a:lnTo>
                  <a:pt x="348" y="2"/>
                </a:lnTo>
                <a:lnTo>
                  <a:pt x="348" y="0"/>
                </a:lnTo>
                <a:lnTo>
                  <a:pt x="346" y="0"/>
                </a:lnTo>
                <a:lnTo>
                  <a:pt x="4"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90" name="Freeform 111"/>
          <p:cNvSpPr/>
          <p:nvPr/>
        </p:nvSpPr>
        <p:spPr>
          <a:xfrm>
            <a:off x="7783560" y="3078000"/>
            <a:ext cx="554040" cy="12960"/>
          </a:xfrm>
          <a:custGeom>
            <a:avLst/>
            <a:gdLst>
              <a:gd name="textAreaLeft" fmla="*/ 0 w 554040"/>
              <a:gd name="textAreaRight" fmla="*/ 554400 w 554040"/>
              <a:gd name="textAreaTop" fmla="*/ 0 h 12960"/>
              <a:gd name="textAreaBottom" fmla="*/ 13320 h 12960"/>
            </a:gdLst>
            <a:ahLst/>
            <a:rect l="textAreaLeft" t="textAreaTop" r="textAreaRight" b="textAreaBottom"/>
            <a:pathLst>
              <a:path w="349" h="8">
                <a:moveTo>
                  <a:pt x="4" y="0"/>
                </a:moveTo>
                <a:lnTo>
                  <a:pt x="2" y="0"/>
                </a:lnTo>
                <a:lnTo>
                  <a:pt x="2" y="2"/>
                </a:lnTo>
                <a:lnTo>
                  <a:pt x="0" y="2"/>
                </a:lnTo>
                <a:lnTo>
                  <a:pt x="0" y="6"/>
                </a:lnTo>
                <a:lnTo>
                  <a:pt x="2" y="6"/>
                </a:lnTo>
                <a:lnTo>
                  <a:pt x="2" y="8"/>
                </a:lnTo>
                <a:lnTo>
                  <a:pt x="348" y="8"/>
                </a:lnTo>
                <a:lnTo>
                  <a:pt x="348" y="6"/>
                </a:lnTo>
                <a:lnTo>
                  <a:pt x="349" y="6"/>
                </a:lnTo>
                <a:lnTo>
                  <a:pt x="349" y="2"/>
                </a:lnTo>
                <a:lnTo>
                  <a:pt x="348" y="2"/>
                </a:lnTo>
                <a:lnTo>
                  <a:pt x="348" y="0"/>
                </a:lnTo>
                <a:lnTo>
                  <a:pt x="346" y="0"/>
                </a:lnTo>
                <a:lnTo>
                  <a:pt x="4"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091" name="Freeform 112"/>
          <p:cNvSpPr/>
          <p:nvPr/>
        </p:nvSpPr>
        <p:spPr>
          <a:xfrm>
            <a:off x="3398760" y="3905280"/>
            <a:ext cx="106560" cy="146160"/>
          </a:xfrm>
          <a:custGeom>
            <a:avLst/>
            <a:gdLst>
              <a:gd name="textAreaLeft" fmla="*/ 0 w 106560"/>
              <a:gd name="textAreaRight" fmla="*/ 106920 w 106560"/>
              <a:gd name="textAreaTop" fmla="*/ 0 h 146160"/>
              <a:gd name="textAreaBottom" fmla="*/ 146520 h 146160"/>
            </a:gdLst>
            <a:ahLst/>
            <a:rect l="textAreaLeft" t="textAreaTop" r="textAreaRight" b="textAreaBottom"/>
            <a:pathLst>
              <a:path w="67" h="92">
                <a:moveTo>
                  <a:pt x="29" y="2"/>
                </a:moveTo>
                <a:lnTo>
                  <a:pt x="15" y="15"/>
                </a:lnTo>
                <a:lnTo>
                  <a:pt x="4" y="29"/>
                </a:lnTo>
                <a:lnTo>
                  <a:pt x="0" y="38"/>
                </a:lnTo>
                <a:lnTo>
                  <a:pt x="2" y="50"/>
                </a:lnTo>
                <a:lnTo>
                  <a:pt x="14" y="69"/>
                </a:lnTo>
                <a:lnTo>
                  <a:pt x="27" y="84"/>
                </a:lnTo>
                <a:lnTo>
                  <a:pt x="33" y="90"/>
                </a:lnTo>
                <a:lnTo>
                  <a:pt x="37" y="92"/>
                </a:lnTo>
                <a:lnTo>
                  <a:pt x="46" y="90"/>
                </a:lnTo>
                <a:lnTo>
                  <a:pt x="56" y="82"/>
                </a:lnTo>
                <a:lnTo>
                  <a:pt x="63" y="73"/>
                </a:lnTo>
                <a:lnTo>
                  <a:pt x="67" y="63"/>
                </a:lnTo>
                <a:lnTo>
                  <a:pt x="67" y="48"/>
                </a:lnTo>
                <a:lnTo>
                  <a:pt x="65" y="17"/>
                </a:lnTo>
                <a:lnTo>
                  <a:pt x="62" y="11"/>
                </a:lnTo>
                <a:lnTo>
                  <a:pt x="58" y="9"/>
                </a:lnTo>
                <a:lnTo>
                  <a:pt x="56" y="7"/>
                </a:lnTo>
                <a:lnTo>
                  <a:pt x="50" y="4"/>
                </a:lnTo>
                <a:lnTo>
                  <a:pt x="42" y="0"/>
                </a:lnTo>
                <a:lnTo>
                  <a:pt x="29" y="2"/>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Freeform 113"/>
          <p:cNvSpPr/>
          <p:nvPr/>
        </p:nvSpPr>
        <p:spPr>
          <a:xfrm>
            <a:off x="3349800" y="3770280"/>
            <a:ext cx="72720" cy="119160"/>
          </a:xfrm>
          <a:custGeom>
            <a:avLst/>
            <a:gdLst>
              <a:gd name="textAreaLeft" fmla="*/ 0 w 72720"/>
              <a:gd name="textAreaRight" fmla="*/ 72720 w 72720"/>
              <a:gd name="textAreaTop" fmla="*/ 0 h 119160"/>
              <a:gd name="textAreaBottom" fmla="*/ 119520 h 119160"/>
            </a:gdLst>
            <a:ahLst/>
            <a:rect l="textAreaLeft" t="textAreaTop" r="textAreaRight" b="textAreaBottom"/>
            <a:pathLst>
              <a:path w="46" h="75">
                <a:moveTo>
                  <a:pt x="2" y="6"/>
                </a:moveTo>
                <a:lnTo>
                  <a:pt x="0" y="31"/>
                </a:lnTo>
                <a:lnTo>
                  <a:pt x="0" y="48"/>
                </a:lnTo>
                <a:lnTo>
                  <a:pt x="4" y="58"/>
                </a:lnTo>
                <a:lnTo>
                  <a:pt x="10" y="62"/>
                </a:lnTo>
                <a:lnTo>
                  <a:pt x="20" y="71"/>
                </a:lnTo>
                <a:lnTo>
                  <a:pt x="29" y="75"/>
                </a:lnTo>
                <a:lnTo>
                  <a:pt x="37" y="71"/>
                </a:lnTo>
                <a:lnTo>
                  <a:pt x="43" y="64"/>
                </a:lnTo>
                <a:lnTo>
                  <a:pt x="46" y="62"/>
                </a:lnTo>
                <a:lnTo>
                  <a:pt x="46" y="54"/>
                </a:lnTo>
                <a:lnTo>
                  <a:pt x="45" y="19"/>
                </a:lnTo>
                <a:lnTo>
                  <a:pt x="43" y="10"/>
                </a:lnTo>
                <a:lnTo>
                  <a:pt x="37" y="4"/>
                </a:lnTo>
                <a:lnTo>
                  <a:pt x="29" y="2"/>
                </a:lnTo>
                <a:lnTo>
                  <a:pt x="18" y="0"/>
                </a:lnTo>
                <a:lnTo>
                  <a:pt x="2" y="6"/>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Freeform 114"/>
          <p:cNvSpPr/>
          <p:nvPr/>
        </p:nvSpPr>
        <p:spPr>
          <a:xfrm>
            <a:off x="3471840" y="3760920"/>
            <a:ext cx="79560" cy="125280"/>
          </a:xfrm>
          <a:custGeom>
            <a:avLst/>
            <a:gdLst>
              <a:gd name="textAreaLeft" fmla="*/ 0 w 79560"/>
              <a:gd name="textAreaRight" fmla="*/ 79920 w 79560"/>
              <a:gd name="textAreaTop" fmla="*/ 0 h 125280"/>
              <a:gd name="textAreaBottom" fmla="*/ 125280 h 125280"/>
            </a:gdLst>
            <a:ahLst/>
            <a:rect l="textAreaLeft" t="textAreaTop" r="textAreaRight" b="textAreaBottom"/>
            <a:pathLst>
              <a:path w="50" h="79">
                <a:moveTo>
                  <a:pt x="0" y="27"/>
                </a:moveTo>
                <a:lnTo>
                  <a:pt x="4" y="45"/>
                </a:lnTo>
                <a:lnTo>
                  <a:pt x="8" y="60"/>
                </a:lnTo>
                <a:lnTo>
                  <a:pt x="17" y="72"/>
                </a:lnTo>
                <a:lnTo>
                  <a:pt x="27" y="75"/>
                </a:lnTo>
                <a:lnTo>
                  <a:pt x="37" y="79"/>
                </a:lnTo>
                <a:lnTo>
                  <a:pt x="44" y="77"/>
                </a:lnTo>
                <a:lnTo>
                  <a:pt x="48" y="73"/>
                </a:lnTo>
                <a:lnTo>
                  <a:pt x="50" y="62"/>
                </a:lnTo>
                <a:lnTo>
                  <a:pt x="50" y="47"/>
                </a:lnTo>
                <a:lnTo>
                  <a:pt x="46" y="27"/>
                </a:lnTo>
                <a:lnTo>
                  <a:pt x="42" y="10"/>
                </a:lnTo>
                <a:lnTo>
                  <a:pt x="39" y="4"/>
                </a:lnTo>
                <a:lnTo>
                  <a:pt x="33" y="0"/>
                </a:lnTo>
                <a:lnTo>
                  <a:pt x="21" y="2"/>
                </a:lnTo>
                <a:lnTo>
                  <a:pt x="10" y="10"/>
                </a:lnTo>
                <a:lnTo>
                  <a:pt x="6" y="16"/>
                </a:lnTo>
                <a:lnTo>
                  <a:pt x="6" y="18"/>
                </a:lnTo>
                <a:lnTo>
                  <a:pt x="8" y="18"/>
                </a:lnTo>
                <a:lnTo>
                  <a:pt x="0" y="27"/>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Freeform 115"/>
          <p:cNvSpPr/>
          <p:nvPr/>
        </p:nvSpPr>
        <p:spPr>
          <a:xfrm>
            <a:off x="3544920" y="3627360"/>
            <a:ext cx="106200" cy="149400"/>
          </a:xfrm>
          <a:custGeom>
            <a:avLst/>
            <a:gdLst>
              <a:gd name="textAreaLeft" fmla="*/ 0 w 106200"/>
              <a:gd name="textAreaRight" fmla="*/ 106560 w 106200"/>
              <a:gd name="textAreaTop" fmla="*/ 0 h 149400"/>
              <a:gd name="textAreaBottom" fmla="*/ 149760 h 149400"/>
            </a:gdLst>
            <a:ahLst/>
            <a:rect l="textAreaLeft" t="textAreaTop" r="textAreaRight" b="textAreaBottom"/>
            <a:pathLst>
              <a:path w="67" h="94">
                <a:moveTo>
                  <a:pt x="2" y="31"/>
                </a:moveTo>
                <a:lnTo>
                  <a:pt x="2" y="33"/>
                </a:lnTo>
                <a:lnTo>
                  <a:pt x="4" y="40"/>
                </a:lnTo>
                <a:lnTo>
                  <a:pt x="8" y="50"/>
                </a:lnTo>
                <a:lnTo>
                  <a:pt x="29" y="79"/>
                </a:lnTo>
                <a:lnTo>
                  <a:pt x="44" y="90"/>
                </a:lnTo>
                <a:lnTo>
                  <a:pt x="56" y="94"/>
                </a:lnTo>
                <a:lnTo>
                  <a:pt x="64" y="90"/>
                </a:lnTo>
                <a:lnTo>
                  <a:pt x="66" y="86"/>
                </a:lnTo>
                <a:lnTo>
                  <a:pt x="66" y="79"/>
                </a:lnTo>
                <a:lnTo>
                  <a:pt x="67" y="59"/>
                </a:lnTo>
                <a:lnTo>
                  <a:pt x="64" y="38"/>
                </a:lnTo>
                <a:lnTo>
                  <a:pt x="60" y="23"/>
                </a:lnTo>
                <a:lnTo>
                  <a:pt x="48" y="10"/>
                </a:lnTo>
                <a:lnTo>
                  <a:pt x="33" y="2"/>
                </a:lnTo>
                <a:lnTo>
                  <a:pt x="18" y="0"/>
                </a:lnTo>
                <a:lnTo>
                  <a:pt x="8" y="2"/>
                </a:lnTo>
                <a:lnTo>
                  <a:pt x="2" y="8"/>
                </a:lnTo>
                <a:lnTo>
                  <a:pt x="0" y="17"/>
                </a:lnTo>
                <a:lnTo>
                  <a:pt x="2" y="31"/>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5" name="Freeform 116"/>
          <p:cNvSpPr/>
          <p:nvPr/>
        </p:nvSpPr>
        <p:spPr>
          <a:xfrm>
            <a:off x="3422520" y="3621240"/>
            <a:ext cx="95400" cy="102960"/>
          </a:xfrm>
          <a:custGeom>
            <a:avLst/>
            <a:gdLst>
              <a:gd name="textAreaLeft" fmla="*/ 0 w 95400"/>
              <a:gd name="textAreaRight" fmla="*/ 95760 w 95400"/>
              <a:gd name="textAreaTop" fmla="*/ 0 h 102960"/>
              <a:gd name="textAreaBottom" fmla="*/ 103320 h 102960"/>
            </a:gdLst>
            <a:ahLst/>
            <a:rect l="textAreaLeft" t="textAreaTop" r="textAreaRight" b="textAreaBottom"/>
            <a:pathLst>
              <a:path w="60" h="65">
                <a:moveTo>
                  <a:pt x="6" y="0"/>
                </a:moveTo>
                <a:lnTo>
                  <a:pt x="0" y="23"/>
                </a:lnTo>
                <a:lnTo>
                  <a:pt x="2" y="46"/>
                </a:lnTo>
                <a:lnTo>
                  <a:pt x="8" y="56"/>
                </a:lnTo>
                <a:lnTo>
                  <a:pt x="14" y="62"/>
                </a:lnTo>
                <a:lnTo>
                  <a:pt x="23" y="65"/>
                </a:lnTo>
                <a:lnTo>
                  <a:pt x="33" y="63"/>
                </a:lnTo>
                <a:lnTo>
                  <a:pt x="47" y="56"/>
                </a:lnTo>
                <a:lnTo>
                  <a:pt x="56" y="44"/>
                </a:lnTo>
                <a:lnTo>
                  <a:pt x="60" y="33"/>
                </a:lnTo>
                <a:lnTo>
                  <a:pt x="54" y="21"/>
                </a:lnTo>
                <a:lnTo>
                  <a:pt x="43" y="12"/>
                </a:lnTo>
                <a:lnTo>
                  <a:pt x="27" y="4"/>
                </a:lnTo>
                <a:lnTo>
                  <a:pt x="16" y="0"/>
                </a:lnTo>
                <a:lnTo>
                  <a:pt x="6"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Freeform 117"/>
          <p:cNvSpPr/>
          <p:nvPr/>
        </p:nvSpPr>
        <p:spPr>
          <a:xfrm>
            <a:off x="3584520" y="3484440"/>
            <a:ext cx="88920" cy="109800"/>
          </a:xfrm>
          <a:custGeom>
            <a:avLst/>
            <a:gdLst>
              <a:gd name="textAreaLeft" fmla="*/ 0 w 88920"/>
              <a:gd name="textAreaRight" fmla="*/ 89280 w 88920"/>
              <a:gd name="textAreaTop" fmla="*/ 0 h 109800"/>
              <a:gd name="textAreaBottom" fmla="*/ 110160 h 109800"/>
            </a:gdLst>
            <a:ahLst/>
            <a:rect l="textAreaLeft" t="textAreaTop" r="textAreaRight" b="textAreaBottom"/>
            <a:pathLst>
              <a:path w="56" h="69">
                <a:moveTo>
                  <a:pt x="27" y="0"/>
                </a:moveTo>
                <a:lnTo>
                  <a:pt x="14" y="17"/>
                </a:lnTo>
                <a:lnTo>
                  <a:pt x="4" y="34"/>
                </a:lnTo>
                <a:lnTo>
                  <a:pt x="0" y="50"/>
                </a:lnTo>
                <a:lnTo>
                  <a:pt x="0" y="59"/>
                </a:lnTo>
                <a:lnTo>
                  <a:pt x="4" y="67"/>
                </a:lnTo>
                <a:lnTo>
                  <a:pt x="12" y="69"/>
                </a:lnTo>
                <a:lnTo>
                  <a:pt x="27" y="67"/>
                </a:lnTo>
                <a:lnTo>
                  <a:pt x="41" y="59"/>
                </a:lnTo>
                <a:lnTo>
                  <a:pt x="50" y="48"/>
                </a:lnTo>
                <a:lnTo>
                  <a:pt x="54" y="34"/>
                </a:lnTo>
                <a:lnTo>
                  <a:pt x="56" y="21"/>
                </a:lnTo>
                <a:lnTo>
                  <a:pt x="54" y="9"/>
                </a:lnTo>
                <a:lnTo>
                  <a:pt x="50" y="4"/>
                </a:lnTo>
                <a:lnTo>
                  <a:pt x="42" y="0"/>
                </a:lnTo>
                <a:lnTo>
                  <a:pt x="27"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Freeform 118"/>
          <p:cNvSpPr/>
          <p:nvPr/>
        </p:nvSpPr>
        <p:spPr>
          <a:xfrm>
            <a:off x="3693960" y="3524400"/>
            <a:ext cx="68400" cy="102960"/>
          </a:xfrm>
          <a:custGeom>
            <a:avLst/>
            <a:gdLst>
              <a:gd name="textAreaLeft" fmla="*/ 0 w 68400"/>
              <a:gd name="textAreaRight" fmla="*/ 68760 w 68400"/>
              <a:gd name="textAreaTop" fmla="*/ 0 h 102960"/>
              <a:gd name="textAreaBottom" fmla="*/ 103320 h 102960"/>
            </a:gdLst>
            <a:ahLst/>
            <a:rect l="textAreaLeft" t="textAreaTop" r="textAreaRight" b="textAreaBottom"/>
            <a:pathLst>
              <a:path w="43" h="65">
                <a:moveTo>
                  <a:pt x="2" y="3"/>
                </a:moveTo>
                <a:lnTo>
                  <a:pt x="2" y="30"/>
                </a:lnTo>
                <a:lnTo>
                  <a:pt x="2" y="44"/>
                </a:lnTo>
                <a:lnTo>
                  <a:pt x="0" y="55"/>
                </a:lnTo>
                <a:lnTo>
                  <a:pt x="4" y="63"/>
                </a:lnTo>
                <a:lnTo>
                  <a:pt x="12" y="65"/>
                </a:lnTo>
                <a:lnTo>
                  <a:pt x="23" y="65"/>
                </a:lnTo>
                <a:lnTo>
                  <a:pt x="29" y="61"/>
                </a:lnTo>
                <a:lnTo>
                  <a:pt x="35" y="55"/>
                </a:lnTo>
                <a:lnTo>
                  <a:pt x="41" y="40"/>
                </a:lnTo>
                <a:lnTo>
                  <a:pt x="43" y="21"/>
                </a:lnTo>
                <a:lnTo>
                  <a:pt x="41" y="7"/>
                </a:lnTo>
                <a:lnTo>
                  <a:pt x="33" y="0"/>
                </a:lnTo>
                <a:lnTo>
                  <a:pt x="20" y="0"/>
                </a:lnTo>
                <a:lnTo>
                  <a:pt x="2" y="3"/>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Freeform 119"/>
          <p:cNvSpPr/>
          <p:nvPr/>
        </p:nvSpPr>
        <p:spPr>
          <a:xfrm>
            <a:off x="3773520" y="3465360"/>
            <a:ext cx="109440" cy="73080"/>
          </a:xfrm>
          <a:custGeom>
            <a:avLst/>
            <a:gdLst>
              <a:gd name="textAreaLeft" fmla="*/ 0 w 109440"/>
              <a:gd name="textAreaRight" fmla="*/ 109800 w 109440"/>
              <a:gd name="textAreaTop" fmla="*/ 0 h 73080"/>
              <a:gd name="textAreaBottom" fmla="*/ 73440 h 73080"/>
            </a:gdLst>
            <a:ahLst/>
            <a:rect l="textAreaLeft" t="textAreaTop" r="textAreaRight" b="textAreaBottom"/>
            <a:pathLst>
              <a:path w="69" h="46">
                <a:moveTo>
                  <a:pt x="14" y="0"/>
                </a:moveTo>
                <a:lnTo>
                  <a:pt x="0" y="12"/>
                </a:lnTo>
                <a:lnTo>
                  <a:pt x="0" y="21"/>
                </a:lnTo>
                <a:lnTo>
                  <a:pt x="4" y="31"/>
                </a:lnTo>
                <a:lnTo>
                  <a:pt x="16" y="39"/>
                </a:lnTo>
                <a:lnTo>
                  <a:pt x="29" y="42"/>
                </a:lnTo>
                <a:lnTo>
                  <a:pt x="46" y="46"/>
                </a:lnTo>
                <a:lnTo>
                  <a:pt x="58" y="44"/>
                </a:lnTo>
                <a:lnTo>
                  <a:pt x="64" y="42"/>
                </a:lnTo>
                <a:lnTo>
                  <a:pt x="68" y="37"/>
                </a:lnTo>
                <a:lnTo>
                  <a:pt x="69" y="29"/>
                </a:lnTo>
                <a:lnTo>
                  <a:pt x="69" y="17"/>
                </a:lnTo>
                <a:lnTo>
                  <a:pt x="64" y="10"/>
                </a:lnTo>
                <a:lnTo>
                  <a:pt x="50" y="4"/>
                </a:lnTo>
                <a:lnTo>
                  <a:pt x="33" y="2"/>
                </a:lnTo>
                <a:lnTo>
                  <a:pt x="14" y="0"/>
                </a:lnTo>
                <a:close/>
              </a:path>
            </a:pathLst>
          </a:custGeom>
          <a:solidFill>
            <a:srgbClr val="ffff00"/>
          </a:solidFill>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99" name="Freeform 120"/>
          <p:cNvSpPr/>
          <p:nvPr/>
        </p:nvSpPr>
        <p:spPr>
          <a:xfrm>
            <a:off x="3905280" y="3538440"/>
            <a:ext cx="109440" cy="88920"/>
          </a:xfrm>
          <a:custGeom>
            <a:avLst/>
            <a:gdLst>
              <a:gd name="textAreaLeft" fmla="*/ 0 w 109440"/>
              <a:gd name="textAreaRight" fmla="*/ 109800 w 109440"/>
              <a:gd name="textAreaTop" fmla="*/ 0 h 88920"/>
              <a:gd name="textAreaBottom" fmla="*/ 89280 h 88920"/>
            </a:gdLst>
            <a:ahLst/>
            <a:rect l="textAreaLeft" t="textAreaTop" r="textAreaRight" b="textAreaBottom"/>
            <a:pathLst>
              <a:path w="69" h="56">
                <a:moveTo>
                  <a:pt x="4" y="14"/>
                </a:moveTo>
                <a:lnTo>
                  <a:pt x="8" y="23"/>
                </a:lnTo>
                <a:lnTo>
                  <a:pt x="13" y="35"/>
                </a:lnTo>
                <a:lnTo>
                  <a:pt x="23" y="46"/>
                </a:lnTo>
                <a:lnTo>
                  <a:pt x="34" y="54"/>
                </a:lnTo>
                <a:lnTo>
                  <a:pt x="48" y="56"/>
                </a:lnTo>
                <a:lnTo>
                  <a:pt x="59" y="52"/>
                </a:lnTo>
                <a:lnTo>
                  <a:pt x="67" y="46"/>
                </a:lnTo>
                <a:lnTo>
                  <a:pt x="69" y="35"/>
                </a:lnTo>
                <a:lnTo>
                  <a:pt x="65" y="19"/>
                </a:lnTo>
                <a:lnTo>
                  <a:pt x="59" y="10"/>
                </a:lnTo>
                <a:lnTo>
                  <a:pt x="50" y="4"/>
                </a:lnTo>
                <a:lnTo>
                  <a:pt x="29" y="0"/>
                </a:lnTo>
                <a:lnTo>
                  <a:pt x="9" y="2"/>
                </a:lnTo>
                <a:lnTo>
                  <a:pt x="2" y="8"/>
                </a:lnTo>
                <a:lnTo>
                  <a:pt x="0" y="14"/>
                </a:lnTo>
                <a:lnTo>
                  <a:pt x="6" y="21"/>
                </a:lnTo>
                <a:lnTo>
                  <a:pt x="4" y="14"/>
                </a:lnTo>
                <a:close/>
              </a:path>
            </a:pathLst>
          </a:custGeom>
          <a:solidFill>
            <a:srgbClr val="ffff00"/>
          </a:soli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00" name="Freeform 121"/>
          <p:cNvSpPr/>
          <p:nvPr/>
        </p:nvSpPr>
        <p:spPr>
          <a:xfrm>
            <a:off x="3693960" y="3670200"/>
            <a:ext cx="88920" cy="115920"/>
          </a:xfrm>
          <a:custGeom>
            <a:avLst/>
            <a:gdLst>
              <a:gd name="textAreaLeft" fmla="*/ 0 w 88920"/>
              <a:gd name="textAreaRight" fmla="*/ 89280 w 88920"/>
              <a:gd name="textAreaTop" fmla="*/ 0 h 115920"/>
              <a:gd name="textAreaBottom" fmla="*/ 116280 h 115920"/>
            </a:gdLst>
            <a:ahLst/>
            <a:rect l="textAreaLeft" t="textAreaTop" r="textAreaRight" b="textAreaBottom"/>
            <a:pathLst>
              <a:path w="56" h="73">
                <a:moveTo>
                  <a:pt x="0" y="13"/>
                </a:moveTo>
                <a:lnTo>
                  <a:pt x="2" y="31"/>
                </a:lnTo>
                <a:lnTo>
                  <a:pt x="8" y="46"/>
                </a:lnTo>
                <a:lnTo>
                  <a:pt x="20" y="61"/>
                </a:lnTo>
                <a:lnTo>
                  <a:pt x="33" y="69"/>
                </a:lnTo>
                <a:lnTo>
                  <a:pt x="39" y="73"/>
                </a:lnTo>
                <a:lnTo>
                  <a:pt x="45" y="73"/>
                </a:lnTo>
                <a:lnTo>
                  <a:pt x="48" y="71"/>
                </a:lnTo>
                <a:lnTo>
                  <a:pt x="52" y="67"/>
                </a:lnTo>
                <a:lnTo>
                  <a:pt x="56" y="52"/>
                </a:lnTo>
                <a:lnTo>
                  <a:pt x="56" y="32"/>
                </a:lnTo>
                <a:lnTo>
                  <a:pt x="54" y="19"/>
                </a:lnTo>
                <a:lnTo>
                  <a:pt x="45" y="9"/>
                </a:lnTo>
                <a:lnTo>
                  <a:pt x="33" y="2"/>
                </a:lnTo>
                <a:lnTo>
                  <a:pt x="20" y="0"/>
                </a:lnTo>
                <a:lnTo>
                  <a:pt x="10" y="6"/>
                </a:lnTo>
                <a:lnTo>
                  <a:pt x="0" y="13"/>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Freeform 122"/>
          <p:cNvSpPr/>
          <p:nvPr/>
        </p:nvSpPr>
        <p:spPr>
          <a:xfrm>
            <a:off x="3776760" y="3597120"/>
            <a:ext cx="106200" cy="87480"/>
          </a:xfrm>
          <a:custGeom>
            <a:avLst/>
            <a:gdLst>
              <a:gd name="textAreaLeft" fmla="*/ 0 w 106200"/>
              <a:gd name="textAreaRight" fmla="*/ 106560 w 106200"/>
              <a:gd name="textAreaTop" fmla="*/ 0 h 87480"/>
              <a:gd name="textAreaBottom" fmla="*/ 87840 h 87480"/>
            </a:gdLst>
            <a:ahLst/>
            <a:rect l="textAreaLeft" t="textAreaTop" r="textAreaRight" b="textAreaBottom"/>
            <a:pathLst>
              <a:path w="67" h="55">
                <a:moveTo>
                  <a:pt x="0" y="7"/>
                </a:moveTo>
                <a:lnTo>
                  <a:pt x="0" y="25"/>
                </a:lnTo>
                <a:lnTo>
                  <a:pt x="2" y="36"/>
                </a:lnTo>
                <a:lnTo>
                  <a:pt x="8" y="42"/>
                </a:lnTo>
                <a:lnTo>
                  <a:pt x="12" y="42"/>
                </a:lnTo>
                <a:lnTo>
                  <a:pt x="18" y="44"/>
                </a:lnTo>
                <a:lnTo>
                  <a:pt x="42" y="54"/>
                </a:lnTo>
                <a:lnTo>
                  <a:pt x="52" y="55"/>
                </a:lnTo>
                <a:lnTo>
                  <a:pt x="58" y="50"/>
                </a:lnTo>
                <a:lnTo>
                  <a:pt x="67" y="30"/>
                </a:lnTo>
                <a:lnTo>
                  <a:pt x="67" y="27"/>
                </a:lnTo>
                <a:lnTo>
                  <a:pt x="64" y="23"/>
                </a:lnTo>
                <a:lnTo>
                  <a:pt x="60" y="15"/>
                </a:lnTo>
                <a:lnTo>
                  <a:pt x="54" y="6"/>
                </a:lnTo>
                <a:lnTo>
                  <a:pt x="35" y="0"/>
                </a:lnTo>
                <a:lnTo>
                  <a:pt x="27" y="4"/>
                </a:lnTo>
                <a:lnTo>
                  <a:pt x="19" y="6"/>
                </a:lnTo>
                <a:lnTo>
                  <a:pt x="12" y="7"/>
                </a:lnTo>
                <a:lnTo>
                  <a:pt x="0" y="7"/>
                </a:lnTo>
                <a:close/>
              </a:path>
            </a:pathLst>
          </a:custGeom>
          <a:solidFill>
            <a:srgbClr val="ffff00"/>
          </a:solid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02" name="Freeform 123"/>
          <p:cNvSpPr/>
          <p:nvPr/>
        </p:nvSpPr>
        <p:spPr>
          <a:xfrm>
            <a:off x="3535200" y="3846600"/>
            <a:ext cx="104760" cy="118800"/>
          </a:xfrm>
          <a:custGeom>
            <a:avLst/>
            <a:gdLst>
              <a:gd name="textAreaLeft" fmla="*/ 0 w 104760"/>
              <a:gd name="textAreaRight" fmla="*/ 105120 w 104760"/>
              <a:gd name="textAreaTop" fmla="*/ 0 h 118800"/>
              <a:gd name="textAreaBottom" fmla="*/ 119160 h 118800"/>
            </a:gdLst>
            <a:ahLst/>
            <a:rect l="textAreaLeft" t="textAreaTop" r="textAreaRight" b="textAreaBottom"/>
            <a:pathLst>
              <a:path w="66" h="75">
                <a:moveTo>
                  <a:pt x="47" y="0"/>
                </a:moveTo>
                <a:lnTo>
                  <a:pt x="24" y="33"/>
                </a:lnTo>
                <a:lnTo>
                  <a:pt x="14" y="46"/>
                </a:lnTo>
                <a:lnTo>
                  <a:pt x="6" y="58"/>
                </a:lnTo>
                <a:lnTo>
                  <a:pt x="2" y="64"/>
                </a:lnTo>
                <a:lnTo>
                  <a:pt x="0" y="67"/>
                </a:lnTo>
                <a:lnTo>
                  <a:pt x="2" y="69"/>
                </a:lnTo>
                <a:lnTo>
                  <a:pt x="6" y="71"/>
                </a:lnTo>
                <a:lnTo>
                  <a:pt x="35" y="75"/>
                </a:lnTo>
                <a:lnTo>
                  <a:pt x="43" y="75"/>
                </a:lnTo>
                <a:lnTo>
                  <a:pt x="49" y="67"/>
                </a:lnTo>
                <a:lnTo>
                  <a:pt x="62" y="41"/>
                </a:lnTo>
                <a:lnTo>
                  <a:pt x="66" y="31"/>
                </a:lnTo>
                <a:lnTo>
                  <a:pt x="62" y="23"/>
                </a:lnTo>
                <a:lnTo>
                  <a:pt x="47"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Freeform 124"/>
          <p:cNvSpPr/>
          <p:nvPr/>
        </p:nvSpPr>
        <p:spPr>
          <a:xfrm>
            <a:off x="3666960" y="3789360"/>
            <a:ext cx="88920" cy="127080"/>
          </a:xfrm>
          <a:custGeom>
            <a:avLst/>
            <a:gdLst>
              <a:gd name="textAreaLeft" fmla="*/ 0 w 88920"/>
              <a:gd name="textAreaRight" fmla="*/ 89280 w 88920"/>
              <a:gd name="textAreaTop" fmla="*/ 0 h 127080"/>
              <a:gd name="textAreaBottom" fmla="*/ 127440 h 127080"/>
            </a:gdLst>
            <a:ahLst/>
            <a:rect l="textAreaLeft" t="textAreaTop" r="textAreaRight" b="textAreaBottom"/>
            <a:pathLst>
              <a:path w="56" h="80">
                <a:moveTo>
                  <a:pt x="2" y="0"/>
                </a:moveTo>
                <a:lnTo>
                  <a:pt x="0" y="19"/>
                </a:lnTo>
                <a:lnTo>
                  <a:pt x="2" y="38"/>
                </a:lnTo>
                <a:lnTo>
                  <a:pt x="10" y="54"/>
                </a:lnTo>
                <a:lnTo>
                  <a:pt x="17" y="65"/>
                </a:lnTo>
                <a:lnTo>
                  <a:pt x="27" y="75"/>
                </a:lnTo>
                <a:lnTo>
                  <a:pt x="37" y="78"/>
                </a:lnTo>
                <a:lnTo>
                  <a:pt x="44" y="80"/>
                </a:lnTo>
                <a:lnTo>
                  <a:pt x="50" y="75"/>
                </a:lnTo>
                <a:lnTo>
                  <a:pt x="54" y="65"/>
                </a:lnTo>
                <a:lnTo>
                  <a:pt x="56" y="52"/>
                </a:lnTo>
                <a:lnTo>
                  <a:pt x="54" y="38"/>
                </a:lnTo>
                <a:lnTo>
                  <a:pt x="46" y="23"/>
                </a:lnTo>
                <a:lnTo>
                  <a:pt x="31" y="11"/>
                </a:lnTo>
                <a:lnTo>
                  <a:pt x="15" y="4"/>
                </a:lnTo>
                <a:lnTo>
                  <a:pt x="6" y="0"/>
                </a:lnTo>
                <a:lnTo>
                  <a:pt x="2"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Freeform 125"/>
          <p:cNvSpPr/>
          <p:nvPr/>
        </p:nvSpPr>
        <p:spPr>
          <a:xfrm>
            <a:off x="3548160" y="4002120"/>
            <a:ext cx="106200" cy="76320"/>
          </a:xfrm>
          <a:custGeom>
            <a:avLst/>
            <a:gdLst>
              <a:gd name="textAreaLeft" fmla="*/ 0 w 106200"/>
              <a:gd name="textAreaRight" fmla="*/ 106560 w 106200"/>
              <a:gd name="textAreaTop" fmla="*/ 0 h 76320"/>
              <a:gd name="textAreaBottom" fmla="*/ 76680 h 76320"/>
            </a:gdLst>
            <a:ahLst/>
            <a:rect l="textAreaLeft" t="textAreaTop" r="textAreaRight" b="textAreaBottom"/>
            <a:pathLst>
              <a:path w="67" h="48">
                <a:moveTo>
                  <a:pt x="44" y="0"/>
                </a:moveTo>
                <a:lnTo>
                  <a:pt x="23" y="0"/>
                </a:lnTo>
                <a:lnTo>
                  <a:pt x="8" y="2"/>
                </a:lnTo>
                <a:lnTo>
                  <a:pt x="2" y="6"/>
                </a:lnTo>
                <a:lnTo>
                  <a:pt x="0" y="14"/>
                </a:lnTo>
                <a:lnTo>
                  <a:pt x="4" y="23"/>
                </a:lnTo>
                <a:lnTo>
                  <a:pt x="16" y="33"/>
                </a:lnTo>
                <a:lnTo>
                  <a:pt x="39" y="42"/>
                </a:lnTo>
                <a:lnTo>
                  <a:pt x="50" y="46"/>
                </a:lnTo>
                <a:lnTo>
                  <a:pt x="60" y="48"/>
                </a:lnTo>
                <a:lnTo>
                  <a:pt x="67" y="48"/>
                </a:lnTo>
                <a:lnTo>
                  <a:pt x="67" y="44"/>
                </a:lnTo>
                <a:lnTo>
                  <a:pt x="64" y="39"/>
                </a:lnTo>
                <a:lnTo>
                  <a:pt x="56" y="23"/>
                </a:lnTo>
                <a:lnTo>
                  <a:pt x="44" y="0"/>
                </a:lnTo>
                <a:close/>
              </a:path>
            </a:pathLst>
          </a:custGeom>
          <a:solidFill>
            <a:srgbClr val="ffff00"/>
          </a:solidFill>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105" name="Freeform 126"/>
          <p:cNvSpPr/>
          <p:nvPr/>
        </p:nvSpPr>
        <p:spPr>
          <a:xfrm>
            <a:off x="3395520" y="4078440"/>
            <a:ext cx="119160" cy="72720"/>
          </a:xfrm>
          <a:custGeom>
            <a:avLst/>
            <a:gdLst>
              <a:gd name="textAreaLeft" fmla="*/ 0 w 119160"/>
              <a:gd name="textAreaRight" fmla="*/ 119520 w 119160"/>
              <a:gd name="textAreaTop" fmla="*/ 0 h 72720"/>
              <a:gd name="textAreaBottom" fmla="*/ 72720 h 72720"/>
            </a:gdLst>
            <a:ahLst/>
            <a:rect l="textAreaLeft" t="textAreaTop" r="textAreaRight" b="textAreaBottom"/>
            <a:pathLst>
              <a:path w="75" h="46">
                <a:moveTo>
                  <a:pt x="2" y="2"/>
                </a:moveTo>
                <a:lnTo>
                  <a:pt x="0" y="6"/>
                </a:lnTo>
                <a:lnTo>
                  <a:pt x="0" y="12"/>
                </a:lnTo>
                <a:lnTo>
                  <a:pt x="14" y="35"/>
                </a:lnTo>
                <a:lnTo>
                  <a:pt x="25" y="44"/>
                </a:lnTo>
                <a:lnTo>
                  <a:pt x="37" y="46"/>
                </a:lnTo>
                <a:lnTo>
                  <a:pt x="46" y="46"/>
                </a:lnTo>
                <a:lnTo>
                  <a:pt x="56" y="41"/>
                </a:lnTo>
                <a:lnTo>
                  <a:pt x="73" y="14"/>
                </a:lnTo>
                <a:lnTo>
                  <a:pt x="75" y="4"/>
                </a:lnTo>
                <a:lnTo>
                  <a:pt x="73" y="2"/>
                </a:lnTo>
                <a:lnTo>
                  <a:pt x="69" y="0"/>
                </a:lnTo>
                <a:lnTo>
                  <a:pt x="33" y="0"/>
                </a:lnTo>
                <a:lnTo>
                  <a:pt x="2" y="2"/>
                </a:lnTo>
                <a:close/>
              </a:path>
            </a:pathLst>
          </a:custGeom>
          <a:solidFill>
            <a:srgbClr val="ffff00"/>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06" name="Freeform 127"/>
          <p:cNvSpPr/>
          <p:nvPr/>
        </p:nvSpPr>
        <p:spPr>
          <a:xfrm>
            <a:off x="3517920" y="4121280"/>
            <a:ext cx="128520" cy="118800"/>
          </a:xfrm>
          <a:custGeom>
            <a:avLst/>
            <a:gdLst>
              <a:gd name="textAreaLeft" fmla="*/ 0 w 128520"/>
              <a:gd name="textAreaRight" fmla="*/ 128880 w 128520"/>
              <a:gd name="textAreaTop" fmla="*/ 0 h 118800"/>
              <a:gd name="textAreaBottom" fmla="*/ 119160 h 118800"/>
            </a:gdLst>
            <a:ahLst/>
            <a:rect l="textAreaLeft" t="textAreaTop" r="textAreaRight" b="textAreaBottom"/>
            <a:pathLst>
              <a:path w="81" h="75">
                <a:moveTo>
                  <a:pt x="2" y="8"/>
                </a:moveTo>
                <a:lnTo>
                  <a:pt x="0" y="17"/>
                </a:lnTo>
                <a:lnTo>
                  <a:pt x="4" y="29"/>
                </a:lnTo>
                <a:lnTo>
                  <a:pt x="29" y="62"/>
                </a:lnTo>
                <a:lnTo>
                  <a:pt x="46" y="71"/>
                </a:lnTo>
                <a:lnTo>
                  <a:pt x="61" y="75"/>
                </a:lnTo>
                <a:lnTo>
                  <a:pt x="73" y="73"/>
                </a:lnTo>
                <a:lnTo>
                  <a:pt x="79" y="63"/>
                </a:lnTo>
                <a:lnTo>
                  <a:pt x="81" y="52"/>
                </a:lnTo>
                <a:lnTo>
                  <a:pt x="79" y="38"/>
                </a:lnTo>
                <a:lnTo>
                  <a:pt x="75" y="25"/>
                </a:lnTo>
                <a:lnTo>
                  <a:pt x="65" y="14"/>
                </a:lnTo>
                <a:lnTo>
                  <a:pt x="50" y="6"/>
                </a:lnTo>
                <a:lnTo>
                  <a:pt x="33" y="0"/>
                </a:lnTo>
                <a:lnTo>
                  <a:pt x="17" y="2"/>
                </a:lnTo>
                <a:lnTo>
                  <a:pt x="2" y="8"/>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Freeform 128"/>
          <p:cNvSpPr/>
          <p:nvPr/>
        </p:nvSpPr>
        <p:spPr>
          <a:xfrm>
            <a:off x="3666960" y="3935520"/>
            <a:ext cx="142920" cy="168120"/>
          </a:xfrm>
          <a:custGeom>
            <a:avLst/>
            <a:gdLst>
              <a:gd name="textAreaLeft" fmla="*/ 0 w 142920"/>
              <a:gd name="textAreaRight" fmla="*/ 143280 w 142920"/>
              <a:gd name="textAreaTop" fmla="*/ 0 h 168120"/>
              <a:gd name="textAreaBottom" fmla="*/ 168480 h 168120"/>
            </a:gdLst>
            <a:ahLst/>
            <a:rect l="textAreaLeft" t="textAreaTop" r="textAreaRight" b="textAreaBottom"/>
            <a:pathLst>
              <a:path w="90" h="106">
                <a:moveTo>
                  <a:pt x="8" y="0"/>
                </a:moveTo>
                <a:lnTo>
                  <a:pt x="0" y="15"/>
                </a:lnTo>
                <a:lnTo>
                  <a:pt x="0" y="27"/>
                </a:lnTo>
                <a:lnTo>
                  <a:pt x="4" y="36"/>
                </a:lnTo>
                <a:lnTo>
                  <a:pt x="12" y="46"/>
                </a:lnTo>
                <a:lnTo>
                  <a:pt x="19" y="58"/>
                </a:lnTo>
                <a:lnTo>
                  <a:pt x="31" y="79"/>
                </a:lnTo>
                <a:lnTo>
                  <a:pt x="40" y="98"/>
                </a:lnTo>
                <a:lnTo>
                  <a:pt x="44" y="104"/>
                </a:lnTo>
                <a:lnTo>
                  <a:pt x="48" y="106"/>
                </a:lnTo>
                <a:lnTo>
                  <a:pt x="56" y="106"/>
                </a:lnTo>
                <a:lnTo>
                  <a:pt x="71" y="104"/>
                </a:lnTo>
                <a:lnTo>
                  <a:pt x="85" y="100"/>
                </a:lnTo>
                <a:lnTo>
                  <a:pt x="90" y="98"/>
                </a:lnTo>
                <a:lnTo>
                  <a:pt x="90" y="90"/>
                </a:lnTo>
                <a:lnTo>
                  <a:pt x="90" y="79"/>
                </a:lnTo>
                <a:lnTo>
                  <a:pt x="85" y="61"/>
                </a:lnTo>
                <a:lnTo>
                  <a:pt x="75" y="44"/>
                </a:lnTo>
                <a:lnTo>
                  <a:pt x="56" y="27"/>
                </a:lnTo>
                <a:lnTo>
                  <a:pt x="33" y="13"/>
                </a:lnTo>
                <a:lnTo>
                  <a:pt x="8"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Freeform 129"/>
          <p:cNvSpPr/>
          <p:nvPr/>
        </p:nvSpPr>
        <p:spPr>
          <a:xfrm>
            <a:off x="3686040" y="4121280"/>
            <a:ext cx="115920" cy="95040"/>
          </a:xfrm>
          <a:custGeom>
            <a:avLst/>
            <a:gdLst>
              <a:gd name="textAreaLeft" fmla="*/ 0 w 115920"/>
              <a:gd name="textAreaRight" fmla="*/ 116280 w 115920"/>
              <a:gd name="textAreaTop" fmla="*/ 0 h 95040"/>
              <a:gd name="textAreaBottom" fmla="*/ 95400 h 95040"/>
            </a:gdLst>
            <a:ahLst/>
            <a:rect l="textAreaLeft" t="textAreaTop" r="textAreaRight" b="textAreaBottom"/>
            <a:pathLst>
              <a:path w="73" h="60">
                <a:moveTo>
                  <a:pt x="3" y="0"/>
                </a:moveTo>
                <a:lnTo>
                  <a:pt x="2" y="19"/>
                </a:lnTo>
                <a:lnTo>
                  <a:pt x="0" y="33"/>
                </a:lnTo>
                <a:lnTo>
                  <a:pt x="2" y="40"/>
                </a:lnTo>
                <a:lnTo>
                  <a:pt x="5" y="44"/>
                </a:lnTo>
                <a:lnTo>
                  <a:pt x="19" y="56"/>
                </a:lnTo>
                <a:lnTo>
                  <a:pt x="26" y="60"/>
                </a:lnTo>
                <a:lnTo>
                  <a:pt x="34" y="58"/>
                </a:lnTo>
                <a:lnTo>
                  <a:pt x="67" y="54"/>
                </a:lnTo>
                <a:lnTo>
                  <a:pt x="73" y="50"/>
                </a:lnTo>
                <a:lnTo>
                  <a:pt x="73" y="42"/>
                </a:lnTo>
                <a:lnTo>
                  <a:pt x="65" y="19"/>
                </a:lnTo>
                <a:lnTo>
                  <a:pt x="61" y="14"/>
                </a:lnTo>
                <a:lnTo>
                  <a:pt x="57" y="12"/>
                </a:lnTo>
                <a:lnTo>
                  <a:pt x="50" y="10"/>
                </a:lnTo>
                <a:lnTo>
                  <a:pt x="30" y="6"/>
                </a:lnTo>
                <a:lnTo>
                  <a:pt x="3"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Freeform 130"/>
          <p:cNvSpPr/>
          <p:nvPr/>
        </p:nvSpPr>
        <p:spPr>
          <a:xfrm>
            <a:off x="3819600" y="3755880"/>
            <a:ext cx="88920" cy="87480"/>
          </a:xfrm>
          <a:custGeom>
            <a:avLst/>
            <a:gdLst>
              <a:gd name="textAreaLeft" fmla="*/ 0 w 88920"/>
              <a:gd name="textAreaRight" fmla="*/ 89280 w 88920"/>
              <a:gd name="textAreaTop" fmla="*/ 0 h 87480"/>
              <a:gd name="textAreaBottom" fmla="*/ 87840 h 87480"/>
            </a:gdLst>
            <a:ahLst/>
            <a:rect l="textAreaLeft" t="textAreaTop" r="textAreaRight" b="textAreaBottom"/>
            <a:pathLst>
              <a:path w="56" h="55">
                <a:moveTo>
                  <a:pt x="15" y="0"/>
                </a:moveTo>
                <a:lnTo>
                  <a:pt x="6" y="9"/>
                </a:lnTo>
                <a:lnTo>
                  <a:pt x="0" y="19"/>
                </a:lnTo>
                <a:lnTo>
                  <a:pt x="0" y="34"/>
                </a:lnTo>
                <a:lnTo>
                  <a:pt x="8" y="48"/>
                </a:lnTo>
                <a:lnTo>
                  <a:pt x="14" y="51"/>
                </a:lnTo>
                <a:lnTo>
                  <a:pt x="23" y="55"/>
                </a:lnTo>
                <a:lnTo>
                  <a:pt x="31" y="55"/>
                </a:lnTo>
                <a:lnTo>
                  <a:pt x="39" y="51"/>
                </a:lnTo>
                <a:lnTo>
                  <a:pt x="50" y="42"/>
                </a:lnTo>
                <a:lnTo>
                  <a:pt x="56" y="28"/>
                </a:lnTo>
                <a:lnTo>
                  <a:pt x="56" y="17"/>
                </a:lnTo>
                <a:lnTo>
                  <a:pt x="48" y="7"/>
                </a:lnTo>
                <a:lnTo>
                  <a:pt x="33" y="3"/>
                </a:lnTo>
                <a:lnTo>
                  <a:pt x="15" y="0"/>
                </a:lnTo>
                <a:close/>
              </a:path>
            </a:pathLst>
          </a:custGeom>
          <a:solidFill>
            <a:srgbClr val="ffff00"/>
          </a:solid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10" name="Freeform 131"/>
          <p:cNvSpPr/>
          <p:nvPr/>
        </p:nvSpPr>
        <p:spPr>
          <a:xfrm>
            <a:off x="3889440" y="3673440"/>
            <a:ext cx="85680" cy="73080"/>
          </a:xfrm>
          <a:custGeom>
            <a:avLst/>
            <a:gdLst>
              <a:gd name="textAreaLeft" fmla="*/ 0 w 85680"/>
              <a:gd name="textAreaRight" fmla="*/ 85680 w 85680"/>
              <a:gd name="textAreaTop" fmla="*/ 0 h 73080"/>
              <a:gd name="textAreaBottom" fmla="*/ 73440 h 73080"/>
            </a:gdLst>
            <a:ahLst/>
            <a:rect l="textAreaLeft" t="textAreaTop" r="textAreaRight" b="textAreaBottom"/>
            <a:pathLst>
              <a:path w="54" h="46">
                <a:moveTo>
                  <a:pt x="23" y="0"/>
                </a:moveTo>
                <a:lnTo>
                  <a:pt x="12" y="7"/>
                </a:lnTo>
                <a:lnTo>
                  <a:pt x="4" y="15"/>
                </a:lnTo>
                <a:lnTo>
                  <a:pt x="0" y="19"/>
                </a:lnTo>
                <a:lnTo>
                  <a:pt x="2" y="23"/>
                </a:lnTo>
                <a:lnTo>
                  <a:pt x="8" y="32"/>
                </a:lnTo>
                <a:lnTo>
                  <a:pt x="18" y="40"/>
                </a:lnTo>
                <a:lnTo>
                  <a:pt x="33" y="46"/>
                </a:lnTo>
                <a:lnTo>
                  <a:pt x="46" y="46"/>
                </a:lnTo>
                <a:lnTo>
                  <a:pt x="54" y="44"/>
                </a:lnTo>
                <a:lnTo>
                  <a:pt x="54" y="36"/>
                </a:lnTo>
                <a:lnTo>
                  <a:pt x="54" y="25"/>
                </a:lnTo>
                <a:lnTo>
                  <a:pt x="48" y="13"/>
                </a:lnTo>
                <a:lnTo>
                  <a:pt x="37" y="6"/>
                </a:lnTo>
                <a:lnTo>
                  <a:pt x="23" y="0"/>
                </a:lnTo>
                <a:close/>
              </a:path>
            </a:pathLst>
          </a:custGeom>
          <a:solidFill>
            <a:srgbClr val="ffff00"/>
          </a:solidFill>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111" name="Freeform 132"/>
          <p:cNvSpPr/>
          <p:nvPr/>
        </p:nvSpPr>
        <p:spPr>
          <a:xfrm>
            <a:off x="4033800" y="3645000"/>
            <a:ext cx="69840" cy="95040"/>
          </a:xfrm>
          <a:custGeom>
            <a:avLst/>
            <a:gdLst>
              <a:gd name="textAreaLeft" fmla="*/ 0 w 69840"/>
              <a:gd name="textAreaRight" fmla="*/ 70200 w 69840"/>
              <a:gd name="textAreaTop" fmla="*/ 0 h 95040"/>
              <a:gd name="textAreaBottom" fmla="*/ 95400 h 95040"/>
            </a:gdLst>
            <a:ahLst/>
            <a:rect l="textAreaLeft" t="textAreaTop" r="textAreaRight" b="textAreaBottom"/>
            <a:pathLst>
              <a:path w="44" h="60">
                <a:moveTo>
                  <a:pt x="26" y="0"/>
                </a:moveTo>
                <a:lnTo>
                  <a:pt x="11" y="10"/>
                </a:lnTo>
                <a:lnTo>
                  <a:pt x="1" y="20"/>
                </a:lnTo>
                <a:lnTo>
                  <a:pt x="0" y="33"/>
                </a:lnTo>
                <a:lnTo>
                  <a:pt x="7" y="47"/>
                </a:lnTo>
                <a:lnTo>
                  <a:pt x="23" y="58"/>
                </a:lnTo>
                <a:lnTo>
                  <a:pt x="30" y="60"/>
                </a:lnTo>
                <a:lnTo>
                  <a:pt x="36" y="58"/>
                </a:lnTo>
                <a:lnTo>
                  <a:pt x="42" y="54"/>
                </a:lnTo>
                <a:lnTo>
                  <a:pt x="44" y="47"/>
                </a:lnTo>
                <a:lnTo>
                  <a:pt x="44" y="27"/>
                </a:lnTo>
                <a:lnTo>
                  <a:pt x="38" y="12"/>
                </a:lnTo>
                <a:lnTo>
                  <a:pt x="26"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Freeform 133"/>
          <p:cNvSpPr/>
          <p:nvPr/>
        </p:nvSpPr>
        <p:spPr>
          <a:xfrm>
            <a:off x="3782880" y="3836880"/>
            <a:ext cx="73080" cy="115920"/>
          </a:xfrm>
          <a:custGeom>
            <a:avLst/>
            <a:gdLst>
              <a:gd name="textAreaLeft" fmla="*/ 0 w 73080"/>
              <a:gd name="textAreaRight" fmla="*/ 73440 w 73080"/>
              <a:gd name="textAreaTop" fmla="*/ 0 h 115920"/>
              <a:gd name="textAreaBottom" fmla="*/ 116280 h 115920"/>
            </a:gdLst>
            <a:ahLst/>
            <a:rect l="textAreaLeft" t="textAreaTop" r="textAreaRight" b="textAreaBottom"/>
            <a:pathLst>
              <a:path w="46" h="73">
                <a:moveTo>
                  <a:pt x="14" y="0"/>
                </a:moveTo>
                <a:lnTo>
                  <a:pt x="6" y="12"/>
                </a:lnTo>
                <a:lnTo>
                  <a:pt x="0" y="25"/>
                </a:lnTo>
                <a:lnTo>
                  <a:pt x="2" y="43"/>
                </a:lnTo>
                <a:lnTo>
                  <a:pt x="8" y="56"/>
                </a:lnTo>
                <a:lnTo>
                  <a:pt x="15" y="68"/>
                </a:lnTo>
                <a:lnTo>
                  <a:pt x="23" y="73"/>
                </a:lnTo>
                <a:lnTo>
                  <a:pt x="35" y="73"/>
                </a:lnTo>
                <a:lnTo>
                  <a:pt x="40" y="72"/>
                </a:lnTo>
                <a:lnTo>
                  <a:pt x="44" y="68"/>
                </a:lnTo>
                <a:lnTo>
                  <a:pt x="46" y="52"/>
                </a:lnTo>
                <a:lnTo>
                  <a:pt x="38" y="33"/>
                </a:lnTo>
                <a:lnTo>
                  <a:pt x="27" y="16"/>
                </a:lnTo>
                <a:lnTo>
                  <a:pt x="14"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Freeform 134"/>
          <p:cNvSpPr/>
          <p:nvPr/>
        </p:nvSpPr>
        <p:spPr>
          <a:xfrm>
            <a:off x="3673440" y="4243320"/>
            <a:ext cx="131760" cy="106560"/>
          </a:xfrm>
          <a:custGeom>
            <a:avLst/>
            <a:gdLst>
              <a:gd name="textAreaLeft" fmla="*/ 0 w 131760"/>
              <a:gd name="textAreaRight" fmla="*/ 132120 w 131760"/>
              <a:gd name="textAreaTop" fmla="*/ 0 h 106560"/>
              <a:gd name="textAreaBottom" fmla="*/ 106920 h 106560"/>
            </a:gdLst>
            <a:ahLst/>
            <a:rect l="textAreaLeft" t="textAreaTop" r="textAreaRight" b="textAreaBottom"/>
            <a:pathLst>
              <a:path w="83" h="67">
                <a:moveTo>
                  <a:pt x="19" y="0"/>
                </a:moveTo>
                <a:lnTo>
                  <a:pt x="8" y="8"/>
                </a:lnTo>
                <a:lnTo>
                  <a:pt x="0" y="15"/>
                </a:lnTo>
                <a:lnTo>
                  <a:pt x="0" y="25"/>
                </a:lnTo>
                <a:lnTo>
                  <a:pt x="8" y="44"/>
                </a:lnTo>
                <a:lnTo>
                  <a:pt x="17" y="57"/>
                </a:lnTo>
                <a:lnTo>
                  <a:pt x="31" y="65"/>
                </a:lnTo>
                <a:lnTo>
                  <a:pt x="48" y="67"/>
                </a:lnTo>
                <a:lnTo>
                  <a:pt x="63" y="61"/>
                </a:lnTo>
                <a:lnTo>
                  <a:pt x="75" y="56"/>
                </a:lnTo>
                <a:lnTo>
                  <a:pt x="81" y="46"/>
                </a:lnTo>
                <a:lnTo>
                  <a:pt x="83" y="34"/>
                </a:lnTo>
                <a:lnTo>
                  <a:pt x="77" y="23"/>
                </a:lnTo>
                <a:lnTo>
                  <a:pt x="69" y="13"/>
                </a:lnTo>
                <a:lnTo>
                  <a:pt x="54" y="6"/>
                </a:lnTo>
                <a:lnTo>
                  <a:pt x="36" y="2"/>
                </a:lnTo>
                <a:lnTo>
                  <a:pt x="19"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4" name="Freeform 135"/>
          <p:cNvSpPr/>
          <p:nvPr/>
        </p:nvSpPr>
        <p:spPr>
          <a:xfrm>
            <a:off x="3819600" y="4216320"/>
            <a:ext cx="135000" cy="63720"/>
          </a:xfrm>
          <a:custGeom>
            <a:avLst/>
            <a:gdLst>
              <a:gd name="textAreaLeft" fmla="*/ 0 w 135000"/>
              <a:gd name="textAreaRight" fmla="*/ 135360 w 135000"/>
              <a:gd name="textAreaTop" fmla="*/ 0 h 63720"/>
              <a:gd name="textAreaBottom" fmla="*/ 64080 h 63720"/>
            </a:gdLst>
            <a:ahLst/>
            <a:rect l="textAreaLeft" t="textAreaTop" r="textAreaRight" b="textAreaBottom"/>
            <a:pathLst>
              <a:path w="85" h="40">
                <a:moveTo>
                  <a:pt x="21" y="0"/>
                </a:moveTo>
                <a:lnTo>
                  <a:pt x="10" y="13"/>
                </a:lnTo>
                <a:lnTo>
                  <a:pt x="2" y="25"/>
                </a:lnTo>
                <a:lnTo>
                  <a:pt x="0" y="30"/>
                </a:lnTo>
                <a:lnTo>
                  <a:pt x="2" y="32"/>
                </a:lnTo>
                <a:lnTo>
                  <a:pt x="8" y="34"/>
                </a:lnTo>
                <a:lnTo>
                  <a:pt x="46" y="38"/>
                </a:lnTo>
                <a:lnTo>
                  <a:pt x="56" y="40"/>
                </a:lnTo>
                <a:lnTo>
                  <a:pt x="60" y="34"/>
                </a:lnTo>
                <a:lnTo>
                  <a:pt x="71" y="23"/>
                </a:lnTo>
                <a:lnTo>
                  <a:pt x="81" y="11"/>
                </a:lnTo>
                <a:lnTo>
                  <a:pt x="85" y="7"/>
                </a:lnTo>
                <a:lnTo>
                  <a:pt x="85" y="5"/>
                </a:lnTo>
                <a:lnTo>
                  <a:pt x="81" y="3"/>
                </a:lnTo>
                <a:lnTo>
                  <a:pt x="75" y="2"/>
                </a:lnTo>
                <a:lnTo>
                  <a:pt x="65" y="0"/>
                </a:lnTo>
                <a:lnTo>
                  <a:pt x="21" y="0"/>
                </a:lnTo>
                <a:close/>
              </a:path>
            </a:pathLst>
          </a:custGeom>
          <a:solidFill>
            <a:srgbClr val="ffff00"/>
          </a:solidFill>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15" name="Freeform 136"/>
          <p:cNvSpPr/>
          <p:nvPr/>
        </p:nvSpPr>
        <p:spPr>
          <a:xfrm>
            <a:off x="3855960" y="4094280"/>
            <a:ext cx="85680" cy="87120"/>
          </a:xfrm>
          <a:custGeom>
            <a:avLst/>
            <a:gdLst>
              <a:gd name="textAreaLeft" fmla="*/ 0 w 85680"/>
              <a:gd name="textAreaRight" fmla="*/ 85680 w 85680"/>
              <a:gd name="textAreaTop" fmla="*/ 0 h 87120"/>
              <a:gd name="textAreaBottom" fmla="*/ 87480 h 87120"/>
            </a:gdLst>
            <a:ahLst/>
            <a:rect l="textAreaLeft" t="textAreaTop" r="textAreaRight" b="textAreaBottom"/>
            <a:pathLst>
              <a:path w="54" h="55">
                <a:moveTo>
                  <a:pt x="4" y="0"/>
                </a:moveTo>
                <a:lnTo>
                  <a:pt x="33" y="0"/>
                </a:lnTo>
                <a:lnTo>
                  <a:pt x="40" y="2"/>
                </a:lnTo>
                <a:lnTo>
                  <a:pt x="42" y="6"/>
                </a:lnTo>
                <a:lnTo>
                  <a:pt x="48" y="11"/>
                </a:lnTo>
                <a:lnTo>
                  <a:pt x="52" y="17"/>
                </a:lnTo>
                <a:lnTo>
                  <a:pt x="54" y="21"/>
                </a:lnTo>
                <a:lnTo>
                  <a:pt x="52" y="27"/>
                </a:lnTo>
                <a:lnTo>
                  <a:pt x="52" y="40"/>
                </a:lnTo>
                <a:lnTo>
                  <a:pt x="48" y="52"/>
                </a:lnTo>
                <a:lnTo>
                  <a:pt x="40" y="55"/>
                </a:lnTo>
                <a:lnTo>
                  <a:pt x="29" y="52"/>
                </a:lnTo>
                <a:lnTo>
                  <a:pt x="6" y="29"/>
                </a:lnTo>
                <a:lnTo>
                  <a:pt x="0" y="23"/>
                </a:lnTo>
                <a:lnTo>
                  <a:pt x="0" y="15"/>
                </a:lnTo>
                <a:lnTo>
                  <a:pt x="4" y="0"/>
                </a:lnTo>
                <a:close/>
              </a:path>
            </a:pathLst>
          </a:custGeom>
          <a:solidFill>
            <a:srgbClr val="ffff00"/>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6" name="Freeform 137"/>
          <p:cNvSpPr/>
          <p:nvPr/>
        </p:nvSpPr>
        <p:spPr>
          <a:xfrm>
            <a:off x="3852720" y="3956040"/>
            <a:ext cx="86040" cy="95400"/>
          </a:xfrm>
          <a:custGeom>
            <a:avLst/>
            <a:gdLst>
              <a:gd name="textAreaLeft" fmla="*/ 0 w 86040"/>
              <a:gd name="textAreaRight" fmla="*/ 86400 w 86040"/>
              <a:gd name="textAreaTop" fmla="*/ 0 h 95400"/>
              <a:gd name="textAreaBottom" fmla="*/ 95760 h 95400"/>
            </a:gdLst>
            <a:ahLst/>
            <a:rect l="textAreaLeft" t="textAreaTop" r="textAreaRight" b="textAreaBottom"/>
            <a:pathLst>
              <a:path w="54" h="60">
                <a:moveTo>
                  <a:pt x="10" y="0"/>
                </a:moveTo>
                <a:lnTo>
                  <a:pt x="8" y="14"/>
                </a:lnTo>
                <a:lnTo>
                  <a:pt x="0" y="25"/>
                </a:lnTo>
                <a:lnTo>
                  <a:pt x="4" y="39"/>
                </a:lnTo>
                <a:lnTo>
                  <a:pt x="12" y="52"/>
                </a:lnTo>
                <a:lnTo>
                  <a:pt x="23" y="60"/>
                </a:lnTo>
                <a:lnTo>
                  <a:pt x="35" y="60"/>
                </a:lnTo>
                <a:lnTo>
                  <a:pt x="46" y="52"/>
                </a:lnTo>
                <a:lnTo>
                  <a:pt x="54" y="39"/>
                </a:lnTo>
                <a:lnTo>
                  <a:pt x="52" y="21"/>
                </a:lnTo>
                <a:lnTo>
                  <a:pt x="41" y="6"/>
                </a:lnTo>
                <a:lnTo>
                  <a:pt x="27" y="0"/>
                </a:lnTo>
                <a:lnTo>
                  <a:pt x="10"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Freeform 138"/>
          <p:cNvSpPr/>
          <p:nvPr/>
        </p:nvSpPr>
        <p:spPr>
          <a:xfrm>
            <a:off x="3902040" y="3859200"/>
            <a:ext cx="106560" cy="109440"/>
          </a:xfrm>
          <a:custGeom>
            <a:avLst/>
            <a:gdLst>
              <a:gd name="textAreaLeft" fmla="*/ 0 w 106560"/>
              <a:gd name="textAreaRight" fmla="*/ 106920 w 106560"/>
              <a:gd name="textAreaTop" fmla="*/ 0 h 109440"/>
              <a:gd name="textAreaBottom" fmla="*/ 109800 h 109440"/>
            </a:gdLst>
            <a:ahLst/>
            <a:rect l="textAreaLeft" t="textAreaTop" r="textAreaRight" b="textAreaBottom"/>
            <a:pathLst>
              <a:path w="67" h="69">
                <a:moveTo>
                  <a:pt x="13" y="0"/>
                </a:moveTo>
                <a:lnTo>
                  <a:pt x="6" y="11"/>
                </a:lnTo>
                <a:lnTo>
                  <a:pt x="0" y="19"/>
                </a:lnTo>
                <a:lnTo>
                  <a:pt x="0" y="25"/>
                </a:lnTo>
                <a:lnTo>
                  <a:pt x="4" y="29"/>
                </a:lnTo>
                <a:lnTo>
                  <a:pt x="11" y="38"/>
                </a:lnTo>
                <a:lnTo>
                  <a:pt x="23" y="50"/>
                </a:lnTo>
                <a:lnTo>
                  <a:pt x="42" y="61"/>
                </a:lnTo>
                <a:lnTo>
                  <a:pt x="58" y="67"/>
                </a:lnTo>
                <a:lnTo>
                  <a:pt x="63" y="69"/>
                </a:lnTo>
                <a:lnTo>
                  <a:pt x="67" y="69"/>
                </a:lnTo>
                <a:lnTo>
                  <a:pt x="67" y="63"/>
                </a:lnTo>
                <a:lnTo>
                  <a:pt x="65" y="58"/>
                </a:lnTo>
                <a:lnTo>
                  <a:pt x="61" y="50"/>
                </a:lnTo>
                <a:lnTo>
                  <a:pt x="56" y="33"/>
                </a:lnTo>
                <a:lnTo>
                  <a:pt x="50" y="19"/>
                </a:lnTo>
                <a:lnTo>
                  <a:pt x="40" y="10"/>
                </a:lnTo>
                <a:lnTo>
                  <a:pt x="13"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Freeform 139"/>
          <p:cNvSpPr/>
          <p:nvPr/>
        </p:nvSpPr>
        <p:spPr>
          <a:xfrm>
            <a:off x="3981600" y="3755880"/>
            <a:ext cx="112680" cy="120960"/>
          </a:xfrm>
          <a:custGeom>
            <a:avLst/>
            <a:gdLst>
              <a:gd name="textAreaLeft" fmla="*/ 0 w 112680"/>
              <a:gd name="textAreaRight" fmla="*/ 113040 w 112680"/>
              <a:gd name="textAreaTop" fmla="*/ 0 h 120960"/>
              <a:gd name="textAreaBottom" fmla="*/ 121320 h 120960"/>
            </a:gdLst>
            <a:ahLst/>
            <a:rect l="textAreaLeft" t="textAreaTop" r="textAreaRight" b="textAreaBottom"/>
            <a:pathLst>
              <a:path w="71" h="76">
                <a:moveTo>
                  <a:pt x="11" y="3"/>
                </a:moveTo>
                <a:lnTo>
                  <a:pt x="4" y="15"/>
                </a:lnTo>
                <a:lnTo>
                  <a:pt x="0" y="30"/>
                </a:lnTo>
                <a:lnTo>
                  <a:pt x="8" y="48"/>
                </a:lnTo>
                <a:lnTo>
                  <a:pt x="19" y="63"/>
                </a:lnTo>
                <a:lnTo>
                  <a:pt x="38" y="75"/>
                </a:lnTo>
                <a:lnTo>
                  <a:pt x="48" y="76"/>
                </a:lnTo>
                <a:lnTo>
                  <a:pt x="56" y="76"/>
                </a:lnTo>
                <a:lnTo>
                  <a:pt x="67" y="69"/>
                </a:lnTo>
                <a:lnTo>
                  <a:pt x="71" y="55"/>
                </a:lnTo>
                <a:lnTo>
                  <a:pt x="71" y="40"/>
                </a:lnTo>
                <a:lnTo>
                  <a:pt x="63" y="25"/>
                </a:lnTo>
                <a:lnTo>
                  <a:pt x="48" y="11"/>
                </a:lnTo>
                <a:lnTo>
                  <a:pt x="29" y="0"/>
                </a:lnTo>
                <a:lnTo>
                  <a:pt x="11" y="3"/>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Freeform 140"/>
          <p:cNvSpPr/>
          <p:nvPr/>
        </p:nvSpPr>
        <p:spPr>
          <a:xfrm>
            <a:off x="3981600" y="4081320"/>
            <a:ext cx="106200" cy="92160"/>
          </a:xfrm>
          <a:custGeom>
            <a:avLst/>
            <a:gdLst>
              <a:gd name="textAreaLeft" fmla="*/ 0 w 106200"/>
              <a:gd name="textAreaRight" fmla="*/ 106560 w 106200"/>
              <a:gd name="textAreaTop" fmla="*/ 0 h 92160"/>
              <a:gd name="textAreaBottom" fmla="*/ 92520 h 92160"/>
            </a:gdLst>
            <a:ahLst/>
            <a:rect l="textAreaLeft" t="textAreaTop" r="textAreaRight" b="textAreaBottom"/>
            <a:pathLst>
              <a:path w="67" h="58">
                <a:moveTo>
                  <a:pt x="31" y="0"/>
                </a:moveTo>
                <a:lnTo>
                  <a:pt x="15" y="17"/>
                </a:lnTo>
                <a:lnTo>
                  <a:pt x="4" y="29"/>
                </a:lnTo>
                <a:lnTo>
                  <a:pt x="0" y="39"/>
                </a:lnTo>
                <a:lnTo>
                  <a:pt x="0" y="44"/>
                </a:lnTo>
                <a:lnTo>
                  <a:pt x="4" y="50"/>
                </a:lnTo>
                <a:lnTo>
                  <a:pt x="13" y="54"/>
                </a:lnTo>
                <a:lnTo>
                  <a:pt x="48" y="58"/>
                </a:lnTo>
                <a:lnTo>
                  <a:pt x="58" y="58"/>
                </a:lnTo>
                <a:lnTo>
                  <a:pt x="59" y="50"/>
                </a:lnTo>
                <a:lnTo>
                  <a:pt x="67" y="19"/>
                </a:lnTo>
                <a:lnTo>
                  <a:pt x="67" y="12"/>
                </a:lnTo>
                <a:lnTo>
                  <a:pt x="59" y="10"/>
                </a:lnTo>
                <a:lnTo>
                  <a:pt x="48" y="6"/>
                </a:lnTo>
                <a:lnTo>
                  <a:pt x="31" y="0"/>
                </a:lnTo>
                <a:close/>
              </a:path>
            </a:pathLst>
          </a:custGeom>
          <a:solidFill>
            <a:srgbClr val="ffff00"/>
          </a:solidFill>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120" name="Freeform 141"/>
          <p:cNvSpPr/>
          <p:nvPr/>
        </p:nvSpPr>
        <p:spPr>
          <a:xfrm>
            <a:off x="4008600" y="3956040"/>
            <a:ext cx="115560" cy="92160"/>
          </a:xfrm>
          <a:custGeom>
            <a:avLst/>
            <a:gdLst>
              <a:gd name="textAreaLeft" fmla="*/ 0 w 115560"/>
              <a:gd name="textAreaRight" fmla="*/ 115920 w 115560"/>
              <a:gd name="textAreaTop" fmla="*/ 0 h 92160"/>
              <a:gd name="textAreaBottom" fmla="*/ 92520 h 92160"/>
            </a:gdLst>
            <a:ahLst/>
            <a:rect l="textAreaLeft" t="textAreaTop" r="textAreaRight" b="textAreaBottom"/>
            <a:pathLst>
              <a:path w="73" h="58">
                <a:moveTo>
                  <a:pt x="17" y="0"/>
                </a:moveTo>
                <a:lnTo>
                  <a:pt x="6" y="23"/>
                </a:lnTo>
                <a:lnTo>
                  <a:pt x="0" y="39"/>
                </a:lnTo>
                <a:lnTo>
                  <a:pt x="0" y="50"/>
                </a:lnTo>
                <a:lnTo>
                  <a:pt x="6" y="58"/>
                </a:lnTo>
                <a:lnTo>
                  <a:pt x="14" y="58"/>
                </a:lnTo>
                <a:lnTo>
                  <a:pt x="25" y="56"/>
                </a:lnTo>
                <a:lnTo>
                  <a:pt x="35" y="52"/>
                </a:lnTo>
                <a:lnTo>
                  <a:pt x="50" y="50"/>
                </a:lnTo>
                <a:lnTo>
                  <a:pt x="64" y="43"/>
                </a:lnTo>
                <a:lnTo>
                  <a:pt x="71" y="29"/>
                </a:lnTo>
                <a:lnTo>
                  <a:pt x="73" y="14"/>
                </a:lnTo>
                <a:lnTo>
                  <a:pt x="71" y="8"/>
                </a:lnTo>
                <a:lnTo>
                  <a:pt x="67" y="4"/>
                </a:lnTo>
                <a:lnTo>
                  <a:pt x="54" y="0"/>
                </a:lnTo>
                <a:lnTo>
                  <a:pt x="17" y="0"/>
                </a:lnTo>
                <a:close/>
              </a:path>
            </a:pathLst>
          </a:custGeom>
          <a:solidFill>
            <a:srgbClr val="ffff00"/>
          </a:solidFill>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121" name="Freeform 142"/>
          <p:cNvSpPr/>
          <p:nvPr/>
        </p:nvSpPr>
        <p:spPr>
          <a:xfrm>
            <a:off x="4103640" y="3825720"/>
            <a:ext cx="63720" cy="106560"/>
          </a:xfrm>
          <a:custGeom>
            <a:avLst/>
            <a:gdLst>
              <a:gd name="textAreaLeft" fmla="*/ 0 w 63720"/>
              <a:gd name="textAreaRight" fmla="*/ 64080 w 63720"/>
              <a:gd name="textAreaTop" fmla="*/ 0 h 106560"/>
              <a:gd name="textAreaBottom" fmla="*/ 106920 h 106560"/>
            </a:gdLst>
            <a:ahLst/>
            <a:rect l="textAreaLeft" t="textAreaTop" r="textAreaRight" b="textAreaBottom"/>
            <a:pathLst>
              <a:path w="40" h="67">
                <a:moveTo>
                  <a:pt x="17" y="0"/>
                </a:moveTo>
                <a:lnTo>
                  <a:pt x="15" y="11"/>
                </a:lnTo>
                <a:lnTo>
                  <a:pt x="11" y="21"/>
                </a:lnTo>
                <a:lnTo>
                  <a:pt x="7" y="31"/>
                </a:lnTo>
                <a:lnTo>
                  <a:pt x="2" y="34"/>
                </a:lnTo>
                <a:lnTo>
                  <a:pt x="0" y="42"/>
                </a:lnTo>
                <a:lnTo>
                  <a:pt x="4" y="61"/>
                </a:lnTo>
                <a:lnTo>
                  <a:pt x="11" y="67"/>
                </a:lnTo>
                <a:lnTo>
                  <a:pt x="21" y="65"/>
                </a:lnTo>
                <a:lnTo>
                  <a:pt x="32" y="55"/>
                </a:lnTo>
                <a:lnTo>
                  <a:pt x="38" y="42"/>
                </a:lnTo>
                <a:lnTo>
                  <a:pt x="40" y="27"/>
                </a:lnTo>
                <a:lnTo>
                  <a:pt x="36" y="13"/>
                </a:lnTo>
                <a:lnTo>
                  <a:pt x="29" y="4"/>
                </a:lnTo>
                <a:lnTo>
                  <a:pt x="17"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Freeform 143"/>
          <p:cNvSpPr/>
          <p:nvPr/>
        </p:nvSpPr>
        <p:spPr>
          <a:xfrm>
            <a:off x="3581280" y="4591080"/>
            <a:ext cx="98640" cy="63360"/>
          </a:xfrm>
          <a:custGeom>
            <a:avLst/>
            <a:gdLst>
              <a:gd name="textAreaLeft" fmla="*/ 0 w 98640"/>
              <a:gd name="textAreaRight" fmla="*/ 99000 w 98640"/>
              <a:gd name="textAreaTop" fmla="*/ 0 h 63360"/>
              <a:gd name="textAreaBottom" fmla="*/ 63720 h 63360"/>
            </a:gdLst>
            <a:ahLst/>
            <a:rect l="textAreaLeft" t="textAreaTop" r="textAreaRight" b="textAreaBottom"/>
            <a:pathLst>
              <a:path w="62" h="40">
                <a:moveTo>
                  <a:pt x="20" y="0"/>
                </a:moveTo>
                <a:lnTo>
                  <a:pt x="10" y="6"/>
                </a:lnTo>
                <a:lnTo>
                  <a:pt x="2" y="13"/>
                </a:lnTo>
                <a:lnTo>
                  <a:pt x="0" y="23"/>
                </a:lnTo>
                <a:lnTo>
                  <a:pt x="4" y="31"/>
                </a:lnTo>
                <a:lnTo>
                  <a:pt x="12" y="36"/>
                </a:lnTo>
                <a:lnTo>
                  <a:pt x="25" y="38"/>
                </a:lnTo>
                <a:lnTo>
                  <a:pt x="43" y="40"/>
                </a:lnTo>
                <a:lnTo>
                  <a:pt x="56" y="34"/>
                </a:lnTo>
                <a:lnTo>
                  <a:pt x="60" y="31"/>
                </a:lnTo>
                <a:lnTo>
                  <a:pt x="62" y="25"/>
                </a:lnTo>
                <a:lnTo>
                  <a:pt x="56" y="13"/>
                </a:lnTo>
                <a:lnTo>
                  <a:pt x="41" y="6"/>
                </a:lnTo>
                <a:lnTo>
                  <a:pt x="29" y="4"/>
                </a:lnTo>
                <a:lnTo>
                  <a:pt x="20" y="0"/>
                </a:lnTo>
                <a:close/>
              </a:path>
            </a:pathLst>
          </a:custGeom>
          <a:solidFill>
            <a:srgbClr val="ffff00"/>
          </a:solid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23" name="Freeform 144"/>
          <p:cNvSpPr/>
          <p:nvPr/>
        </p:nvSpPr>
        <p:spPr>
          <a:xfrm>
            <a:off x="3726000" y="4587840"/>
            <a:ext cx="72720" cy="39600"/>
          </a:xfrm>
          <a:custGeom>
            <a:avLst/>
            <a:gdLst>
              <a:gd name="textAreaLeft" fmla="*/ 0 w 72720"/>
              <a:gd name="textAreaRight" fmla="*/ 72720 w 72720"/>
              <a:gd name="textAreaTop" fmla="*/ 0 h 39600"/>
              <a:gd name="textAreaBottom" fmla="*/ 39960 h 39600"/>
            </a:gdLst>
            <a:ahLst/>
            <a:rect l="textAreaLeft" t="textAreaTop" r="textAreaRight" b="textAreaBottom"/>
            <a:pathLst>
              <a:path w="46" h="25">
                <a:moveTo>
                  <a:pt x="1" y="0"/>
                </a:moveTo>
                <a:lnTo>
                  <a:pt x="0" y="19"/>
                </a:lnTo>
                <a:lnTo>
                  <a:pt x="44" y="25"/>
                </a:lnTo>
                <a:lnTo>
                  <a:pt x="46" y="13"/>
                </a:lnTo>
                <a:lnTo>
                  <a:pt x="21" y="8"/>
                </a:lnTo>
                <a:lnTo>
                  <a:pt x="5" y="6"/>
                </a:lnTo>
                <a:lnTo>
                  <a:pt x="1" y="0"/>
                </a:lnTo>
                <a:close/>
              </a:path>
            </a:pathLst>
          </a:custGeom>
          <a:solidFill>
            <a:srgbClr val="ffff00"/>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24" name="Freeform 145"/>
          <p:cNvSpPr/>
          <p:nvPr/>
        </p:nvSpPr>
        <p:spPr>
          <a:xfrm>
            <a:off x="3498840" y="4654440"/>
            <a:ext cx="68400" cy="39960"/>
          </a:xfrm>
          <a:custGeom>
            <a:avLst/>
            <a:gdLst>
              <a:gd name="textAreaLeft" fmla="*/ 0 w 68400"/>
              <a:gd name="textAreaRight" fmla="*/ 68760 w 68400"/>
              <a:gd name="textAreaTop" fmla="*/ 0 h 39960"/>
              <a:gd name="textAreaBottom" fmla="*/ 40320 h 39960"/>
            </a:gdLst>
            <a:ahLst/>
            <a:rect l="textAreaLeft" t="textAreaTop" r="textAreaRight" b="textAreaBottom"/>
            <a:pathLst>
              <a:path w="43" h="25">
                <a:moveTo>
                  <a:pt x="18" y="0"/>
                </a:moveTo>
                <a:lnTo>
                  <a:pt x="6" y="0"/>
                </a:lnTo>
                <a:lnTo>
                  <a:pt x="0" y="4"/>
                </a:lnTo>
                <a:lnTo>
                  <a:pt x="4" y="14"/>
                </a:lnTo>
                <a:lnTo>
                  <a:pt x="14" y="21"/>
                </a:lnTo>
                <a:lnTo>
                  <a:pt x="29" y="25"/>
                </a:lnTo>
                <a:lnTo>
                  <a:pt x="39" y="21"/>
                </a:lnTo>
                <a:lnTo>
                  <a:pt x="43" y="16"/>
                </a:lnTo>
                <a:lnTo>
                  <a:pt x="39" y="8"/>
                </a:lnTo>
                <a:lnTo>
                  <a:pt x="29" y="4"/>
                </a:lnTo>
                <a:lnTo>
                  <a:pt x="18" y="0"/>
                </a:lnTo>
                <a:close/>
              </a:path>
            </a:pathLst>
          </a:custGeom>
          <a:solidFill>
            <a:srgbClr val="ffff00"/>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25" name="Freeform 146"/>
          <p:cNvSpPr/>
          <p:nvPr/>
        </p:nvSpPr>
        <p:spPr>
          <a:xfrm>
            <a:off x="3414600" y="4700520"/>
            <a:ext cx="33480" cy="69840"/>
          </a:xfrm>
          <a:custGeom>
            <a:avLst/>
            <a:gdLst>
              <a:gd name="textAreaLeft" fmla="*/ 0 w 33480"/>
              <a:gd name="textAreaRight" fmla="*/ 33840 w 33480"/>
              <a:gd name="textAreaTop" fmla="*/ 0 h 69840"/>
              <a:gd name="textAreaBottom" fmla="*/ 70200 h 69840"/>
            </a:gdLst>
            <a:ahLst/>
            <a:rect l="textAreaLeft" t="textAreaTop" r="textAreaRight" b="textAreaBottom"/>
            <a:pathLst>
              <a:path w="21" h="44">
                <a:moveTo>
                  <a:pt x="15" y="0"/>
                </a:moveTo>
                <a:lnTo>
                  <a:pt x="9" y="15"/>
                </a:lnTo>
                <a:lnTo>
                  <a:pt x="4" y="29"/>
                </a:lnTo>
                <a:lnTo>
                  <a:pt x="2" y="38"/>
                </a:lnTo>
                <a:lnTo>
                  <a:pt x="0" y="42"/>
                </a:lnTo>
                <a:lnTo>
                  <a:pt x="2" y="44"/>
                </a:lnTo>
                <a:lnTo>
                  <a:pt x="5" y="42"/>
                </a:lnTo>
                <a:lnTo>
                  <a:pt x="11" y="38"/>
                </a:lnTo>
                <a:lnTo>
                  <a:pt x="15" y="31"/>
                </a:lnTo>
                <a:lnTo>
                  <a:pt x="19" y="23"/>
                </a:lnTo>
                <a:lnTo>
                  <a:pt x="21" y="15"/>
                </a:lnTo>
                <a:lnTo>
                  <a:pt x="21" y="2"/>
                </a:lnTo>
                <a:lnTo>
                  <a:pt x="15" y="0"/>
                </a:lnTo>
                <a:close/>
              </a:path>
            </a:pathLst>
          </a:custGeom>
          <a:solidFill>
            <a:srgbClr val="ffff00"/>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26" name="Freeform 147"/>
          <p:cNvSpPr/>
          <p:nvPr/>
        </p:nvSpPr>
        <p:spPr>
          <a:xfrm>
            <a:off x="3567240" y="4710240"/>
            <a:ext cx="63360" cy="87120"/>
          </a:xfrm>
          <a:custGeom>
            <a:avLst/>
            <a:gdLst>
              <a:gd name="textAreaLeft" fmla="*/ 0 w 63360"/>
              <a:gd name="textAreaRight" fmla="*/ 63720 w 63360"/>
              <a:gd name="textAreaTop" fmla="*/ 0 h 87120"/>
              <a:gd name="textAreaBottom" fmla="*/ 87480 h 87120"/>
            </a:gdLst>
            <a:ahLst/>
            <a:rect l="textAreaLeft" t="textAreaTop" r="textAreaRight" b="textAreaBottom"/>
            <a:pathLst>
              <a:path w="40" h="55">
                <a:moveTo>
                  <a:pt x="5" y="0"/>
                </a:moveTo>
                <a:lnTo>
                  <a:pt x="4" y="23"/>
                </a:lnTo>
                <a:lnTo>
                  <a:pt x="0" y="38"/>
                </a:lnTo>
                <a:lnTo>
                  <a:pt x="2" y="48"/>
                </a:lnTo>
                <a:lnTo>
                  <a:pt x="7" y="52"/>
                </a:lnTo>
                <a:lnTo>
                  <a:pt x="21" y="55"/>
                </a:lnTo>
                <a:lnTo>
                  <a:pt x="32" y="55"/>
                </a:lnTo>
                <a:lnTo>
                  <a:pt x="38" y="52"/>
                </a:lnTo>
                <a:lnTo>
                  <a:pt x="38" y="42"/>
                </a:lnTo>
                <a:lnTo>
                  <a:pt x="40" y="30"/>
                </a:lnTo>
                <a:lnTo>
                  <a:pt x="34" y="19"/>
                </a:lnTo>
                <a:lnTo>
                  <a:pt x="23" y="9"/>
                </a:lnTo>
                <a:lnTo>
                  <a:pt x="5" y="0"/>
                </a:lnTo>
                <a:close/>
              </a:path>
            </a:pathLst>
          </a:custGeom>
          <a:solidFill>
            <a:srgbClr val="ffff00"/>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7" name="Freeform 148"/>
          <p:cNvSpPr/>
          <p:nvPr/>
        </p:nvSpPr>
        <p:spPr>
          <a:xfrm>
            <a:off x="3475080" y="4740120"/>
            <a:ext cx="58680" cy="39960"/>
          </a:xfrm>
          <a:custGeom>
            <a:avLst/>
            <a:gdLst>
              <a:gd name="textAreaLeft" fmla="*/ 0 w 58680"/>
              <a:gd name="textAreaRight" fmla="*/ 59040 w 58680"/>
              <a:gd name="textAreaTop" fmla="*/ 0 h 39960"/>
              <a:gd name="textAreaBottom" fmla="*/ 40320 h 39960"/>
            </a:gdLst>
            <a:ahLst/>
            <a:rect l="textAreaLeft" t="textAreaTop" r="textAreaRight" b="textAreaBottom"/>
            <a:pathLst>
              <a:path w="37" h="25">
                <a:moveTo>
                  <a:pt x="10" y="0"/>
                </a:moveTo>
                <a:lnTo>
                  <a:pt x="8" y="13"/>
                </a:lnTo>
                <a:lnTo>
                  <a:pt x="21" y="23"/>
                </a:lnTo>
                <a:lnTo>
                  <a:pt x="29" y="25"/>
                </a:lnTo>
                <a:lnTo>
                  <a:pt x="35" y="21"/>
                </a:lnTo>
                <a:lnTo>
                  <a:pt x="37" y="15"/>
                </a:lnTo>
                <a:lnTo>
                  <a:pt x="35" y="10"/>
                </a:lnTo>
                <a:lnTo>
                  <a:pt x="25" y="4"/>
                </a:lnTo>
                <a:lnTo>
                  <a:pt x="17" y="4"/>
                </a:lnTo>
                <a:lnTo>
                  <a:pt x="0" y="6"/>
                </a:lnTo>
                <a:lnTo>
                  <a:pt x="10" y="0"/>
                </a:lnTo>
                <a:close/>
              </a:path>
            </a:pathLst>
          </a:custGeom>
          <a:solidFill>
            <a:srgbClr val="ffff00"/>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28" name="Freeform 149"/>
          <p:cNvSpPr/>
          <p:nvPr/>
        </p:nvSpPr>
        <p:spPr>
          <a:xfrm>
            <a:off x="3414600" y="4803840"/>
            <a:ext cx="50760" cy="69840"/>
          </a:xfrm>
          <a:custGeom>
            <a:avLst/>
            <a:gdLst>
              <a:gd name="textAreaLeft" fmla="*/ 0 w 50760"/>
              <a:gd name="textAreaRight" fmla="*/ 51120 w 50760"/>
              <a:gd name="textAreaTop" fmla="*/ 0 h 69840"/>
              <a:gd name="textAreaBottom" fmla="*/ 70200 h 69840"/>
            </a:gdLst>
            <a:ahLst/>
            <a:rect l="textAreaLeft" t="textAreaTop" r="textAreaRight" b="textAreaBottom"/>
            <a:pathLst>
              <a:path w="32" h="44">
                <a:moveTo>
                  <a:pt x="0" y="0"/>
                </a:moveTo>
                <a:lnTo>
                  <a:pt x="0" y="23"/>
                </a:lnTo>
                <a:lnTo>
                  <a:pt x="2" y="29"/>
                </a:lnTo>
                <a:lnTo>
                  <a:pt x="4" y="33"/>
                </a:lnTo>
                <a:lnTo>
                  <a:pt x="13" y="42"/>
                </a:lnTo>
                <a:lnTo>
                  <a:pt x="17" y="44"/>
                </a:lnTo>
                <a:lnTo>
                  <a:pt x="21" y="41"/>
                </a:lnTo>
                <a:lnTo>
                  <a:pt x="30" y="29"/>
                </a:lnTo>
                <a:lnTo>
                  <a:pt x="32" y="23"/>
                </a:lnTo>
                <a:lnTo>
                  <a:pt x="32" y="14"/>
                </a:lnTo>
                <a:lnTo>
                  <a:pt x="28" y="10"/>
                </a:lnTo>
                <a:lnTo>
                  <a:pt x="25" y="6"/>
                </a:lnTo>
                <a:lnTo>
                  <a:pt x="19" y="2"/>
                </a:lnTo>
                <a:lnTo>
                  <a:pt x="13" y="0"/>
                </a:lnTo>
                <a:lnTo>
                  <a:pt x="0" y="0"/>
                </a:lnTo>
                <a:close/>
              </a:path>
            </a:pathLst>
          </a:custGeom>
          <a:solidFill>
            <a:srgbClr val="ffff00"/>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29" name="Freeform 150"/>
          <p:cNvSpPr/>
          <p:nvPr/>
        </p:nvSpPr>
        <p:spPr>
          <a:xfrm>
            <a:off x="3533760" y="4822920"/>
            <a:ext cx="41400" cy="47520"/>
          </a:xfrm>
          <a:custGeom>
            <a:avLst/>
            <a:gdLst>
              <a:gd name="textAreaLeft" fmla="*/ 0 w 41400"/>
              <a:gd name="textAreaRight" fmla="*/ 41760 w 41400"/>
              <a:gd name="textAreaTop" fmla="*/ 0 h 47520"/>
              <a:gd name="textAreaBottom" fmla="*/ 47880 h 47520"/>
            </a:gdLst>
            <a:ahLst/>
            <a:rect l="textAreaLeft" t="textAreaTop" r="textAreaRight" b="textAreaBottom"/>
            <a:pathLst>
              <a:path w="26" h="30">
                <a:moveTo>
                  <a:pt x="1" y="0"/>
                </a:moveTo>
                <a:lnTo>
                  <a:pt x="0" y="13"/>
                </a:lnTo>
                <a:lnTo>
                  <a:pt x="0" y="25"/>
                </a:lnTo>
                <a:lnTo>
                  <a:pt x="0" y="30"/>
                </a:lnTo>
                <a:lnTo>
                  <a:pt x="3" y="30"/>
                </a:lnTo>
                <a:lnTo>
                  <a:pt x="17" y="30"/>
                </a:lnTo>
                <a:lnTo>
                  <a:pt x="23" y="29"/>
                </a:lnTo>
                <a:lnTo>
                  <a:pt x="25" y="23"/>
                </a:lnTo>
                <a:lnTo>
                  <a:pt x="26" y="9"/>
                </a:lnTo>
                <a:lnTo>
                  <a:pt x="26" y="6"/>
                </a:lnTo>
                <a:lnTo>
                  <a:pt x="21" y="2"/>
                </a:lnTo>
                <a:lnTo>
                  <a:pt x="13" y="2"/>
                </a:lnTo>
                <a:lnTo>
                  <a:pt x="1" y="0"/>
                </a:lnTo>
                <a:close/>
              </a:path>
            </a:pathLst>
          </a:custGeom>
          <a:solidFill>
            <a:srgbClr val="ffff00"/>
          </a:solid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30" name="Freeform 151"/>
          <p:cNvSpPr/>
          <p:nvPr/>
        </p:nvSpPr>
        <p:spPr>
          <a:xfrm>
            <a:off x="3676680" y="4694400"/>
            <a:ext cx="57240" cy="29880"/>
          </a:xfrm>
          <a:custGeom>
            <a:avLst/>
            <a:gdLst>
              <a:gd name="textAreaLeft" fmla="*/ 0 w 57240"/>
              <a:gd name="textAreaRight" fmla="*/ 57600 w 57240"/>
              <a:gd name="textAreaTop" fmla="*/ 0 h 29880"/>
              <a:gd name="textAreaBottom" fmla="*/ 30240 h 29880"/>
            </a:gdLst>
            <a:ahLst/>
            <a:rect l="textAreaLeft" t="textAreaTop" r="textAreaRight" b="textAreaBottom"/>
            <a:pathLst>
              <a:path w="36" h="19">
                <a:moveTo>
                  <a:pt x="0" y="0"/>
                </a:moveTo>
                <a:lnTo>
                  <a:pt x="0" y="4"/>
                </a:lnTo>
                <a:lnTo>
                  <a:pt x="2" y="8"/>
                </a:lnTo>
                <a:lnTo>
                  <a:pt x="8" y="12"/>
                </a:lnTo>
                <a:lnTo>
                  <a:pt x="29" y="17"/>
                </a:lnTo>
                <a:lnTo>
                  <a:pt x="34" y="19"/>
                </a:lnTo>
                <a:lnTo>
                  <a:pt x="34" y="17"/>
                </a:lnTo>
                <a:lnTo>
                  <a:pt x="36" y="14"/>
                </a:lnTo>
                <a:lnTo>
                  <a:pt x="36" y="8"/>
                </a:lnTo>
                <a:lnTo>
                  <a:pt x="34" y="4"/>
                </a:lnTo>
                <a:lnTo>
                  <a:pt x="31" y="0"/>
                </a:lnTo>
                <a:lnTo>
                  <a:pt x="23" y="0"/>
                </a:lnTo>
                <a:lnTo>
                  <a:pt x="0" y="0"/>
                </a:lnTo>
                <a:close/>
              </a:path>
            </a:pathLst>
          </a:custGeom>
          <a:solidFill>
            <a:srgbClr val="ffff00"/>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31" name="Freeform 152"/>
          <p:cNvSpPr/>
          <p:nvPr/>
        </p:nvSpPr>
        <p:spPr>
          <a:xfrm>
            <a:off x="3727440" y="4651200"/>
            <a:ext cx="58680" cy="28800"/>
          </a:xfrm>
          <a:custGeom>
            <a:avLst/>
            <a:gdLst>
              <a:gd name="textAreaLeft" fmla="*/ 0 w 58680"/>
              <a:gd name="textAreaRight" fmla="*/ 59040 w 58680"/>
              <a:gd name="textAreaTop" fmla="*/ 0 h 28800"/>
              <a:gd name="textAreaBottom" fmla="*/ 29160 h 28800"/>
            </a:gdLst>
            <a:ahLst/>
            <a:rect l="textAreaLeft" t="textAreaTop" r="textAreaRight" b="textAreaBottom"/>
            <a:pathLst>
              <a:path w="37" h="18">
                <a:moveTo>
                  <a:pt x="0" y="2"/>
                </a:moveTo>
                <a:lnTo>
                  <a:pt x="0" y="8"/>
                </a:lnTo>
                <a:lnTo>
                  <a:pt x="4" y="16"/>
                </a:lnTo>
                <a:lnTo>
                  <a:pt x="6" y="18"/>
                </a:lnTo>
                <a:lnTo>
                  <a:pt x="12" y="16"/>
                </a:lnTo>
                <a:lnTo>
                  <a:pt x="31" y="12"/>
                </a:lnTo>
                <a:lnTo>
                  <a:pt x="37" y="12"/>
                </a:lnTo>
                <a:lnTo>
                  <a:pt x="37" y="10"/>
                </a:lnTo>
                <a:lnTo>
                  <a:pt x="37" y="2"/>
                </a:lnTo>
                <a:lnTo>
                  <a:pt x="37" y="0"/>
                </a:lnTo>
                <a:lnTo>
                  <a:pt x="31" y="0"/>
                </a:lnTo>
                <a:lnTo>
                  <a:pt x="6" y="0"/>
                </a:lnTo>
                <a:lnTo>
                  <a:pt x="0" y="2"/>
                </a:lnTo>
                <a:close/>
              </a:path>
            </a:pathLst>
          </a:custGeom>
          <a:solidFill>
            <a:srgbClr val="ffff00"/>
          </a:solidFill>
          <a:ln w="0">
            <a:solidFill>
              <a:srgbClr val="000000"/>
            </a:solid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32" name="Freeform 153"/>
          <p:cNvSpPr/>
          <p:nvPr/>
        </p:nvSpPr>
        <p:spPr>
          <a:xfrm>
            <a:off x="3368520" y="4870440"/>
            <a:ext cx="88920" cy="92160"/>
          </a:xfrm>
          <a:custGeom>
            <a:avLst/>
            <a:gdLst>
              <a:gd name="textAreaLeft" fmla="*/ 0 w 88920"/>
              <a:gd name="textAreaRight" fmla="*/ 89280 w 88920"/>
              <a:gd name="textAreaTop" fmla="*/ 0 h 92160"/>
              <a:gd name="textAreaBottom" fmla="*/ 92520 h 92160"/>
            </a:gdLst>
            <a:ahLst/>
            <a:rect l="textAreaLeft" t="textAreaTop" r="textAreaRight" b="textAreaBottom"/>
            <a:pathLst>
              <a:path w="56" h="58">
                <a:moveTo>
                  <a:pt x="8" y="2"/>
                </a:moveTo>
                <a:lnTo>
                  <a:pt x="4" y="14"/>
                </a:lnTo>
                <a:lnTo>
                  <a:pt x="0" y="22"/>
                </a:lnTo>
                <a:lnTo>
                  <a:pt x="0" y="29"/>
                </a:lnTo>
                <a:lnTo>
                  <a:pt x="6" y="35"/>
                </a:lnTo>
                <a:lnTo>
                  <a:pt x="31" y="52"/>
                </a:lnTo>
                <a:lnTo>
                  <a:pt x="36" y="58"/>
                </a:lnTo>
                <a:lnTo>
                  <a:pt x="38" y="56"/>
                </a:lnTo>
                <a:lnTo>
                  <a:pt x="50" y="52"/>
                </a:lnTo>
                <a:lnTo>
                  <a:pt x="54" y="49"/>
                </a:lnTo>
                <a:lnTo>
                  <a:pt x="54" y="41"/>
                </a:lnTo>
                <a:lnTo>
                  <a:pt x="56" y="22"/>
                </a:lnTo>
                <a:lnTo>
                  <a:pt x="54" y="18"/>
                </a:lnTo>
                <a:lnTo>
                  <a:pt x="48" y="14"/>
                </a:lnTo>
                <a:lnTo>
                  <a:pt x="25" y="2"/>
                </a:lnTo>
                <a:lnTo>
                  <a:pt x="19" y="0"/>
                </a:lnTo>
                <a:lnTo>
                  <a:pt x="17" y="0"/>
                </a:lnTo>
                <a:lnTo>
                  <a:pt x="8" y="2"/>
                </a:lnTo>
                <a:close/>
              </a:path>
            </a:pathLst>
          </a:custGeom>
          <a:solidFill>
            <a:srgbClr val="ffff00"/>
          </a:solidFill>
          <a:ln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133" name="Freeform 154"/>
          <p:cNvSpPr/>
          <p:nvPr/>
        </p:nvSpPr>
        <p:spPr>
          <a:xfrm>
            <a:off x="3338640" y="4975200"/>
            <a:ext cx="56880" cy="66600"/>
          </a:xfrm>
          <a:custGeom>
            <a:avLst/>
            <a:gdLst>
              <a:gd name="textAreaLeft" fmla="*/ 0 w 56880"/>
              <a:gd name="textAreaRight" fmla="*/ 57240 w 56880"/>
              <a:gd name="textAreaTop" fmla="*/ 0 h 66600"/>
              <a:gd name="textAreaBottom" fmla="*/ 66960 h 66600"/>
            </a:gdLst>
            <a:ahLst/>
            <a:rect l="textAreaLeft" t="textAreaTop" r="textAreaRight" b="textAreaBottom"/>
            <a:pathLst>
              <a:path w="36" h="42">
                <a:moveTo>
                  <a:pt x="0" y="2"/>
                </a:moveTo>
                <a:lnTo>
                  <a:pt x="3" y="21"/>
                </a:lnTo>
                <a:lnTo>
                  <a:pt x="7" y="31"/>
                </a:lnTo>
                <a:lnTo>
                  <a:pt x="11" y="38"/>
                </a:lnTo>
                <a:lnTo>
                  <a:pt x="21" y="42"/>
                </a:lnTo>
                <a:lnTo>
                  <a:pt x="28" y="38"/>
                </a:lnTo>
                <a:lnTo>
                  <a:pt x="34" y="31"/>
                </a:lnTo>
                <a:lnTo>
                  <a:pt x="36" y="23"/>
                </a:lnTo>
                <a:lnTo>
                  <a:pt x="34" y="19"/>
                </a:lnTo>
                <a:lnTo>
                  <a:pt x="32" y="13"/>
                </a:lnTo>
                <a:lnTo>
                  <a:pt x="30" y="7"/>
                </a:lnTo>
                <a:lnTo>
                  <a:pt x="25" y="2"/>
                </a:lnTo>
                <a:lnTo>
                  <a:pt x="13" y="0"/>
                </a:lnTo>
                <a:lnTo>
                  <a:pt x="0" y="2"/>
                </a:lnTo>
                <a:close/>
              </a:path>
            </a:pathLst>
          </a:custGeom>
          <a:solidFill>
            <a:srgbClr val="ffff00"/>
          </a:solid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34" name="Freeform 155"/>
          <p:cNvSpPr/>
          <p:nvPr/>
        </p:nvSpPr>
        <p:spPr>
          <a:xfrm>
            <a:off x="3490920" y="4902120"/>
            <a:ext cx="57240" cy="76320"/>
          </a:xfrm>
          <a:custGeom>
            <a:avLst/>
            <a:gdLst>
              <a:gd name="textAreaLeft" fmla="*/ 0 w 57240"/>
              <a:gd name="textAreaRight" fmla="*/ 57600 w 57240"/>
              <a:gd name="textAreaTop" fmla="*/ 0 h 76320"/>
              <a:gd name="textAreaBottom" fmla="*/ 76680 h 76320"/>
            </a:gdLst>
            <a:ahLst/>
            <a:rect l="textAreaLeft" t="textAreaTop" r="textAreaRight" b="textAreaBottom"/>
            <a:pathLst>
              <a:path w="36" h="48">
                <a:moveTo>
                  <a:pt x="0" y="0"/>
                </a:moveTo>
                <a:lnTo>
                  <a:pt x="0" y="11"/>
                </a:lnTo>
                <a:lnTo>
                  <a:pt x="0" y="17"/>
                </a:lnTo>
                <a:lnTo>
                  <a:pt x="5" y="23"/>
                </a:lnTo>
                <a:lnTo>
                  <a:pt x="17" y="34"/>
                </a:lnTo>
                <a:lnTo>
                  <a:pt x="28" y="44"/>
                </a:lnTo>
                <a:lnTo>
                  <a:pt x="34" y="48"/>
                </a:lnTo>
                <a:lnTo>
                  <a:pt x="34" y="46"/>
                </a:lnTo>
                <a:lnTo>
                  <a:pt x="34" y="30"/>
                </a:lnTo>
                <a:lnTo>
                  <a:pt x="36" y="21"/>
                </a:lnTo>
                <a:lnTo>
                  <a:pt x="36" y="9"/>
                </a:lnTo>
                <a:lnTo>
                  <a:pt x="32" y="5"/>
                </a:lnTo>
                <a:lnTo>
                  <a:pt x="27" y="4"/>
                </a:lnTo>
                <a:lnTo>
                  <a:pt x="19" y="0"/>
                </a:lnTo>
                <a:lnTo>
                  <a:pt x="11" y="0"/>
                </a:lnTo>
                <a:lnTo>
                  <a:pt x="0" y="0"/>
                </a:lnTo>
                <a:close/>
              </a:path>
            </a:pathLst>
          </a:custGeom>
          <a:solidFill>
            <a:srgbClr val="ffff00"/>
          </a:solidFill>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135" name="Freeform 156"/>
          <p:cNvSpPr/>
          <p:nvPr/>
        </p:nvSpPr>
        <p:spPr>
          <a:xfrm>
            <a:off x="3444840" y="4968720"/>
            <a:ext cx="88920" cy="69840"/>
          </a:xfrm>
          <a:custGeom>
            <a:avLst/>
            <a:gdLst>
              <a:gd name="textAreaLeft" fmla="*/ 0 w 88920"/>
              <a:gd name="textAreaRight" fmla="*/ 89280 w 88920"/>
              <a:gd name="textAreaTop" fmla="*/ 0 h 69840"/>
              <a:gd name="textAreaBottom" fmla="*/ 70200 h 69840"/>
            </a:gdLst>
            <a:ahLst/>
            <a:rect l="textAreaLeft" t="textAreaTop" r="textAreaRight" b="textAreaBottom"/>
            <a:pathLst>
              <a:path w="56" h="44">
                <a:moveTo>
                  <a:pt x="4" y="10"/>
                </a:moveTo>
                <a:lnTo>
                  <a:pt x="2" y="25"/>
                </a:lnTo>
                <a:lnTo>
                  <a:pt x="0" y="36"/>
                </a:lnTo>
                <a:lnTo>
                  <a:pt x="2" y="42"/>
                </a:lnTo>
                <a:lnTo>
                  <a:pt x="8" y="44"/>
                </a:lnTo>
                <a:lnTo>
                  <a:pt x="27" y="44"/>
                </a:lnTo>
                <a:lnTo>
                  <a:pt x="46" y="42"/>
                </a:lnTo>
                <a:lnTo>
                  <a:pt x="54" y="42"/>
                </a:lnTo>
                <a:lnTo>
                  <a:pt x="56" y="38"/>
                </a:lnTo>
                <a:lnTo>
                  <a:pt x="56" y="33"/>
                </a:lnTo>
                <a:lnTo>
                  <a:pt x="50" y="23"/>
                </a:lnTo>
                <a:lnTo>
                  <a:pt x="27" y="4"/>
                </a:lnTo>
                <a:lnTo>
                  <a:pt x="21" y="0"/>
                </a:lnTo>
                <a:lnTo>
                  <a:pt x="17" y="0"/>
                </a:lnTo>
                <a:lnTo>
                  <a:pt x="11" y="4"/>
                </a:lnTo>
                <a:lnTo>
                  <a:pt x="4" y="10"/>
                </a:lnTo>
                <a:close/>
              </a:path>
            </a:pathLst>
          </a:custGeom>
          <a:solidFill>
            <a:srgbClr val="ffff00"/>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36" name="Freeform 157"/>
          <p:cNvSpPr/>
          <p:nvPr/>
        </p:nvSpPr>
        <p:spPr>
          <a:xfrm>
            <a:off x="3570120" y="4941720"/>
            <a:ext cx="44640" cy="69840"/>
          </a:xfrm>
          <a:custGeom>
            <a:avLst/>
            <a:gdLst>
              <a:gd name="textAreaLeft" fmla="*/ 0 w 44640"/>
              <a:gd name="textAreaRight" fmla="*/ 45000 w 44640"/>
              <a:gd name="textAreaTop" fmla="*/ 0 h 69840"/>
              <a:gd name="textAreaBottom" fmla="*/ 70200 h 69840"/>
            </a:gdLst>
            <a:ahLst/>
            <a:rect l="textAreaLeft" t="textAreaTop" r="textAreaRight" b="textAreaBottom"/>
            <a:pathLst>
              <a:path w="28" h="44">
                <a:moveTo>
                  <a:pt x="0" y="0"/>
                </a:moveTo>
                <a:lnTo>
                  <a:pt x="0" y="19"/>
                </a:lnTo>
                <a:lnTo>
                  <a:pt x="0" y="28"/>
                </a:lnTo>
                <a:lnTo>
                  <a:pt x="2" y="34"/>
                </a:lnTo>
                <a:lnTo>
                  <a:pt x="2" y="40"/>
                </a:lnTo>
                <a:lnTo>
                  <a:pt x="5" y="44"/>
                </a:lnTo>
                <a:lnTo>
                  <a:pt x="9" y="44"/>
                </a:lnTo>
                <a:lnTo>
                  <a:pt x="25" y="44"/>
                </a:lnTo>
                <a:lnTo>
                  <a:pt x="28" y="44"/>
                </a:lnTo>
                <a:lnTo>
                  <a:pt x="27" y="38"/>
                </a:lnTo>
                <a:lnTo>
                  <a:pt x="25" y="13"/>
                </a:lnTo>
                <a:lnTo>
                  <a:pt x="21" y="4"/>
                </a:lnTo>
                <a:lnTo>
                  <a:pt x="15" y="0"/>
                </a:lnTo>
                <a:lnTo>
                  <a:pt x="0" y="0"/>
                </a:lnTo>
                <a:close/>
              </a:path>
            </a:pathLst>
          </a:custGeom>
          <a:solidFill>
            <a:srgbClr val="ffff00"/>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37" name="Freeform 158"/>
          <p:cNvSpPr/>
          <p:nvPr/>
        </p:nvSpPr>
        <p:spPr>
          <a:xfrm>
            <a:off x="3697200" y="4870440"/>
            <a:ext cx="76320" cy="65160"/>
          </a:xfrm>
          <a:custGeom>
            <a:avLst/>
            <a:gdLst>
              <a:gd name="textAreaLeft" fmla="*/ 0 w 76320"/>
              <a:gd name="textAreaRight" fmla="*/ 76680 w 76320"/>
              <a:gd name="textAreaTop" fmla="*/ 0 h 65160"/>
              <a:gd name="textAreaBottom" fmla="*/ 65520 h 65160"/>
            </a:gdLst>
            <a:ahLst/>
            <a:rect l="textAreaLeft" t="textAreaTop" r="textAreaRight" b="textAreaBottom"/>
            <a:pathLst>
              <a:path w="48" h="41">
                <a:moveTo>
                  <a:pt x="2" y="0"/>
                </a:moveTo>
                <a:lnTo>
                  <a:pt x="0" y="18"/>
                </a:lnTo>
                <a:lnTo>
                  <a:pt x="4" y="31"/>
                </a:lnTo>
                <a:lnTo>
                  <a:pt x="12" y="39"/>
                </a:lnTo>
                <a:lnTo>
                  <a:pt x="21" y="41"/>
                </a:lnTo>
                <a:lnTo>
                  <a:pt x="31" y="41"/>
                </a:lnTo>
                <a:lnTo>
                  <a:pt x="39" y="37"/>
                </a:lnTo>
                <a:lnTo>
                  <a:pt x="44" y="33"/>
                </a:lnTo>
                <a:lnTo>
                  <a:pt x="46" y="27"/>
                </a:lnTo>
                <a:lnTo>
                  <a:pt x="48" y="24"/>
                </a:lnTo>
                <a:lnTo>
                  <a:pt x="43" y="20"/>
                </a:lnTo>
                <a:lnTo>
                  <a:pt x="23" y="4"/>
                </a:lnTo>
                <a:lnTo>
                  <a:pt x="12" y="0"/>
                </a:lnTo>
                <a:lnTo>
                  <a:pt x="2" y="0"/>
                </a:lnTo>
                <a:close/>
              </a:path>
            </a:pathLst>
          </a:custGeom>
          <a:solidFill>
            <a:srgbClr val="ffff00"/>
          </a:solidFill>
          <a:ln w="0">
            <a:solidFill>
              <a:srgbClr val="0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138" name="Freeform 159"/>
          <p:cNvSpPr/>
          <p:nvPr/>
        </p:nvSpPr>
        <p:spPr>
          <a:xfrm>
            <a:off x="4035600" y="4740120"/>
            <a:ext cx="71280" cy="73080"/>
          </a:xfrm>
          <a:custGeom>
            <a:avLst/>
            <a:gdLst>
              <a:gd name="textAreaLeft" fmla="*/ 0 w 71280"/>
              <a:gd name="textAreaRight" fmla="*/ 71640 w 71280"/>
              <a:gd name="textAreaTop" fmla="*/ 0 h 73080"/>
              <a:gd name="textAreaBottom" fmla="*/ 73440 h 73080"/>
            </a:gdLst>
            <a:ahLst/>
            <a:rect l="textAreaLeft" t="textAreaTop" r="textAreaRight" b="textAreaBottom"/>
            <a:pathLst>
              <a:path w="45" h="46">
                <a:moveTo>
                  <a:pt x="4" y="0"/>
                </a:moveTo>
                <a:lnTo>
                  <a:pt x="0" y="19"/>
                </a:lnTo>
                <a:lnTo>
                  <a:pt x="2" y="31"/>
                </a:lnTo>
                <a:lnTo>
                  <a:pt x="6" y="40"/>
                </a:lnTo>
                <a:lnTo>
                  <a:pt x="10" y="46"/>
                </a:lnTo>
                <a:lnTo>
                  <a:pt x="16" y="46"/>
                </a:lnTo>
                <a:lnTo>
                  <a:pt x="37" y="46"/>
                </a:lnTo>
                <a:lnTo>
                  <a:pt x="43" y="46"/>
                </a:lnTo>
                <a:lnTo>
                  <a:pt x="45" y="38"/>
                </a:lnTo>
                <a:lnTo>
                  <a:pt x="45" y="25"/>
                </a:lnTo>
                <a:lnTo>
                  <a:pt x="39" y="11"/>
                </a:lnTo>
                <a:lnTo>
                  <a:pt x="27" y="4"/>
                </a:lnTo>
                <a:lnTo>
                  <a:pt x="14" y="0"/>
                </a:lnTo>
                <a:lnTo>
                  <a:pt x="4" y="0"/>
                </a:lnTo>
                <a:close/>
              </a:path>
            </a:pathLst>
          </a:custGeom>
          <a:solidFill>
            <a:srgbClr val="ffff00"/>
          </a:solidFill>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139" name="Freeform 160"/>
          <p:cNvSpPr/>
          <p:nvPr/>
        </p:nvSpPr>
        <p:spPr>
          <a:xfrm>
            <a:off x="3825720" y="4581360"/>
            <a:ext cx="36720" cy="9720"/>
          </a:xfrm>
          <a:custGeom>
            <a:avLst/>
            <a:gdLst>
              <a:gd name="textAreaLeft" fmla="*/ 0 w 36720"/>
              <a:gd name="textAreaRight" fmla="*/ 37080 w 36720"/>
              <a:gd name="textAreaTop" fmla="*/ 0 h 9720"/>
              <a:gd name="textAreaBottom" fmla="*/ 10080 h 9720"/>
            </a:gdLst>
            <a:ahLst/>
            <a:rect l="textAreaLeft" t="textAreaTop" r="textAreaRight" b="textAreaBottom"/>
            <a:pathLst>
              <a:path w="23" h="6">
                <a:moveTo>
                  <a:pt x="0" y="0"/>
                </a:moveTo>
                <a:lnTo>
                  <a:pt x="4" y="6"/>
                </a:lnTo>
                <a:lnTo>
                  <a:pt x="19" y="6"/>
                </a:lnTo>
                <a:lnTo>
                  <a:pt x="23" y="4"/>
                </a:lnTo>
                <a:lnTo>
                  <a:pt x="19" y="0"/>
                </a:lnTo>
                <a:lnTo>
                  <a:pt x="0" y="0"/>
                </a:lnTo>
                <a:close/>
              </a:path>
            </a:pathLst>
          </a:custGeom>
          <a:solidFill>
            <a:srgbClr val="ffff00"/>
          </a:solid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40" name="Freeform 161"/>
          <p:cNvSpPr/>
          <p:nvPr/>
        </p:nvSpPr>
        <p:spPr>
          <a:xfrm>
            <a:off x="3862440" y="4624560"/>
            <a:ext cx="55440" cy="26640"/>
          </a:xfrm>
          <a:custGeom>
            <a:avLst/>
            <a:gdLst>
              <a:gd name="textAreaLeft" fmla="*/ 0 w 55440"/>
              <a:gd name="textAreaRight" fmla="*/ 55800 w 55440"/>
              <a:gd name="textAreaTop" fmla="*/ 0 h 26640"/>
              <a:gd name="textAreaBottom" fmla="*/ 27000 h 26640"/>
            </a:gdLst>
            <a:ahLst/>
            <a:rect l="textAreaLeft" t="textAreaTop" r="textAreaRight" b="textAreaBottom"/>
            <a:pathLst>
              <a:path w="35" h="17">
                <a:moveTo>
                  <a:pt x="0" y="0"/>
                </a:moveTo>
                <a:lnTo>
                  <a:pt x="0" y="6"/>
                </a:lnTo>
                <a:lnTo>
                  <a:pt x="6" y="11"/>
                </a:lnTo>
                <a:lnTo>
                  <a:pt x="29" y="17"/>
                </a:lnTo>
                <a:lnTo>
                  <a:pt x="35" y="15"/>
                </a:lnTo>
                <a:lnTo>
                  <a:pt x="35" y="11"/>
                </a:lnTo>
                <a:lnTo>
                  <a:pt x="33" y="8"/>
                </a:lnTo>
                <a:lnTo>
                  <a:pt x="27" y="4"/>
                </a:lnTo>
                <a:lnTo>
                  <a:pt x="15" y="2"/>
                </a:lnTo>
                <a:lnTo>
                  <a:pt x="0" y="0"/>
                </a:lnTo>
                <a:close/>
              </a:path>
            </a:pathLst>
          </a:custGeom>
          <a:solidFill>
            <a:srgbClr val="ffff00"/>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41" name="Freeform 162"/>
          <p:cNvSpPr/>
          <p:nvPr/>
        </p:nvSpPr>
        <p:spPr>
          <a:xfrm>
            <a:off x="3935520" y="4630680"/>
            <a:ext cx="73080" cy="33480"/>
          </a:xfrm>
          <a:custGeom>
            <a:avLst/>
            <a:gdLst>
              <a:gd name="textAreaLeft" fmla="*/ 0 w 73080"/>
              <a:gd name="textAreaRight" fmla="*/ 73440 w 73080"/>
              <a:gd name="textAreaTop" fmla="*/ 0 h 33480"/>
              <a:gd name="textAreaBottom" fmla="*/ 33840 h 33480"/>
            </a:gdLst>
            <a:ahLst/>
            <a:rect l="textAreaLeft" t="textAreaTop" r="textAreaRight" b="textAreaBottom"/>
            <a:pathLst>
              <a:path w="46" h="21">
                <a:moveTo>
                  <a:pt x="0" y="0"/>
                </a:moveTo>
                <a:lnTo>
                  <a:pt x="0" y="19"/>
                </a:lnTo>
                <a:lnTo>
                  <a:pt x="15" y="19"/>
                </a:lnTo>
                <a:lnTo>
                  <a:pt x="31" y="21"/>
                </a:lnTo>
                <a:lnTo>
                  <a:pt x="42" y="21"/>
                </a:lnTo>
                <a:lnTo>
                  <a:pt x="46" y="21"/>
                </a:lnTo>
                <a:lnTo>
                  <a:pt x="44" y="17"/>
                </a:lnTo>
                <a:lnTo>
                  <a:pt x="37" y="11"/>
                </a:lnTo>
                <a:lnTo>
                  <a:pt x="29" y="4"/>
                </a:lnTo>
                <a:lnTo>
                  <a:pt x="25" y="2"/>
                </a:lnTo>
                <a:lnTo>
                  <a:pt x="19" y="0"/>
                </a:lnTo>
                <a:lnTo>
                  <a:pt x="0" y="0"/>
                </a:lnTo>
                <a:close/>
              </a:path>
            </a:pathLst>
          </a:custGeom>
          <a:solidFill>
            <a:srgbClr val="ffff00"/>
          </a:solidFill>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142" name="Freeform 163"/>
          <p:cNvSpPr/>
          <p:nvPr/>
        </p:nvSpPr>
        <p:spPr>
          <a:xfrm>
            <a:off x="3660840" y="4794120"/>
            <a:ext cx="42840" cy="49320"/>
          </a:xfrm>
          <a:custGeom>
            <a:avLst/>
            <a:gdLst>
              <a:gd name="textAreaLeft" fmla="*/ 0 w 42840"/>
              <a:gd name="textAreaRight" fmla="*/ 43200 w 42840"/>
              <a:gd name="textAreaTop" fmla="*/ 0 h 49320"/>
              <a:gd name="textAreaBottom" fmla="*/ 49680 h 49320"/>
            </a:gdLst>
            <a:ahLst/>
            <a:rect l="textAreaLeft" t="textAreaTop" r="textAreaRight" b="textAreaBottom"/>
            <a:pathLst>
              <a:path w="27" h="31">
                <a:moveTo>
                  <a:pt x="8" y="0"/>
                </a:moveTo>
                <a:lnTo>
                  <a:pt x="0" y="18"/>
                </a:lnTo>
                <a:lnTo>
                  <a:pt x="0" y="29"/>
                </a:lnTo>
                <a:lnTo>
                  <a:pt x="8" y="31"/>
                </a:lnTo>
                <a:lnTo>
                  <a:pt x="23" y="31"/>
                </a:lnTo>
                <a:lnTo>
                  <a:pt x="27" y="31"/>
                </a:lnTo>
                <a:lnTo>
                  <a:pt x="27" y="27"/>
                </a:lnTo>
                <a:lnTo>
                  <a:pt x="25" y="10"/>
                </a:lnTo>
                <a:lnTo>
                  <a:pt x="23" y="6"/>
                </a:lnTo>
                <a:lnTo>
                  <a:pt x="19" y="2"/>
                </a:lnTo>
                <a:lnTo>
                  <a:pt x="8" y="0"/>
                </a:lnTo>
                <a:close/>
              </a:path>
            </a:pathLst>
          </a:custGeom>
          <a:solidFill>
            <a:srgbClr val="ffff0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143" name="Freeform 164"/>
          <p:cNvSpPr/>
          <p:nvPr/>
        </p:nvSpPr>
        <p:spPr>
          <a:xfrm>
            <a:off x="3349800" y="5062680"/>
            <a:ext cx="91800" cy="131760"/>
          </a:xfrm>
          <a:custGeom>
            <a:avLst/>
            <a:gdLst>
              <a:gd name="textAreaLeft" fmla="*/ 0 w 91800"/>
              <a:gd name="textAreaRight" fmla="*/ 92160 w 91800"/>
              <a:gd name="textAreaTop" fmla="*/ 0 h 131760"/>
              <a:gd name="textAreaBottom" fmla="*/ 132120 h 131760"/>
            </a:gdLst>
            <a:ahLst/>
            <a:rect l="textAreaLeft" t="textAreaTop" r="textAreaRight" b="textAreaBottom"/>
            <a:pathLst>
              <a:path w="58" h="83">
                <a:moveTo>
                  <a:pt x="0" y="0"/>
                </a:moveTo>
                <a:lnTo>
                  <a:pt x="8" y="41"/>
                </a:lnTo>
                <a:lnTo>
                  <a:pt x="10" y="56"/>
                </a:lnTo>
                <a:lnTo>
                  <a:pt x="14" y="70"/>
                </a:lnTo>
                <a:lnTo>
                  <a:pt x="16" y="79"/>
                </a:lnTo>
                <a:lnTo>
                  <a:pt x="20" y="83"/>
                </a:lnTo>
                <a:lnTo>
                  <a:pt x="25" y="83"/>
                </a:lnTo>
                <a:lnTo>
                  <a:pt x="45" y="81"/>
                </a:lnTo>
                <a:lnTo>
                  <a:pt x="50" y="81"/>
                </a:lnTo>
                <a:lnTo>
                  <a:pt x="50" y="77"/>
                </a:lnTo>
                <a:lnTo>
                  <a:pt x="54" y="72"/>
                </a:lnTo>
                <a:lnTo>
                  <a:pt x="56" y="64"/>
                </a:lnTo>
                <a:lnTo>
                  <a:pt x="58" y="56"/>
                </a:lnTo>
                <a:lnTo>
                  <a:pt x="56" y="48"/>
                </a:lnTo>
                <a:lnTo>
                  <a:pt x="56" y="45"/>
                </a:lnTo>
                <a:lnTo>
                  <a:pt x="50" y="37"/>
                </a:lnTo>
                <a:lnTo>
                  <a:pt x="27" y="10"/>
                </a:lnTo>
                <a:lnTo>
                  <a:pt x="18" y="4"/>
                </a:lnTo>
                <a:lnTo>
                  <a:pt x="12" y="4"/>
                </a:lnTo>
                <a:lnTo>
                  <a:pt x="16" y="6"/>
                </a:lnTo>
                <a:lnTo>
                  <a:pt x="23" y="8"/>
                </a:lnTo>
                <a:lnTo>
                  <a:pt x="0"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Freeform 165"/>
          <p:cNvSpPr/>
          <p:nvPr/>
        </p:nvSpPr>
        <p:spPr>
          <a:xfrm>
            <a:off x="3606840" y="4862520"/>
            <a:ext cx="63360" cy="87480"/>
          </a:xfrm>
          <a:custGeom>
            <a:avLst/>
            <a:gdLst>
              <a:gd name="textAreaLeft" fmla="*/ 0 w 63360"/>
              <a:gd name="textAreaRight" fmla="*/ 63720 w 63360"/>
              <a:gd name="textAreaTop" fmla="*/ 0 h 87480"/>
              <a:gd name="textAreaBottom" fmla="*/ 87840 h 87480"/>
            </a:gdLst>
            <a:ahLst/>
            <a:rect l="textAreaLeft" t="textAreaTop" r="textAreaRight" b="textAreaBottom"/>
            <a:pathLst>
              <a:path w="40" h="55">
                <a:moveTo>
                  <a:pt x="0" y="0"/>
                </a:moveTo>
                <a:lnTo>
                  <a:pt x="0" y="15"/>
                </a:lnTo>
                <a:lnTo>
                  <a:pt x="2" y="27"/>
                </a:lnTo>
                <a:lnTo>
                  <a:pt x="5" y="32"/>
                </a:lnTo>
                <a:lnTo>
                  <a:pt x="11" y="36"/>
                </a:lnTo>
                <a:lnTo>
                  <a:pt x="28" y="54"/>
                </a:lnTo>
                <a:lnTo>
                  <a:pt x="36" y="55"/>
                </a:lnTo>
                <a:lnTo>
                  <a:pt x="38" y="52"/>
                </a:lnTo>
                <a:lnTo>
                  <a:pt x="40" y="29"/>
                </a:lnTo>
                <a:lnTo>
                  <a:pt x="40" y="23"/>
                </a:lnTo>
                <a:lnTo>
                  <a:pt x="36" y="17"/>
                </a:lnTo>
                <a:lnTo>
                  <a:pt x="19" y="4"/>
                </a:lnTo>
                <a:lnTo>
                  <a:pt x="0" y="0"/>
                </a:lnTo>
                <a:close/>
              </a:path>
            </a:pathLst>
          </a:custGeom>
          <a:solidFill>
            <a:srgbClr val="ffff00"/>
          </a:solid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45" name="Freeform 166"/>
          <p:cNvSpPr/>
          <p:nvPr/>
        </p:nvSpPr>
        <p:spPr>
          <a:xfrm>
            <a:off x="3726000" y="4740120"/>
            <a:ext cx="44280" cy="52560"/>
          </a:xfrm>
          <a:custGeom>
            <a:avLst/>
            <a:gdLst>
              <a:gd name="textAreaLeft" fmla="*/ 0 w 44280"/>
              <a:gd name="textAreaRight" fmla="*/ 44640 w 44280"/>
              <a:gd name="textAreaTop" fmla="*/ 0 h 52560"/>
              <a:gd name="textAreaBottom" fmla="*/ 52920 h 52560"/>
            </a:gdLst>
            <a:ahLst/>
            <a:rect l="textAreaLeft" t="textAreaTop" r="textAreaRight" b="textAreaBottom"/>
            <a:pathLst>
              <a:path w="28" h="33">
                <a:moveTo>
                  <a:pt x="7" y="4"/>
                </a:moveTo>
                <a:lnTo>
                  <a:pt x="0" y="19"/>
                </a:lnTo>
                <a:lnTo>
                  <a:pt x="0" y="31"/>
                </a:lnTo>
                <a:lnTo>
                  <a:pt x="3" y="33"/>
                </a:lnTo>
                <a:lnTo>
                  <a:pt x="15" y="29"/>
                </a:lnTo>
                <a:lnTo>
                  <a:pt x="25" y="17"/>
                </a:lnTo>
                <a:lnTo>
                  <a:pt x="28" y="15"/>
                </a:lnTo>
                <a:lnTo>
                  <a:pt x="28" y="11"/>
                </a:lnTo>
                <a:lnTo>
                  <a:pt x="26" y="2"/>
                </a:lnTo>
                <a:lnTo>
                  <a:pt x="26" y="0"/>
                </a:lnTo>
                <a:lnTo>
                  <a:pt x="23" y="0"/>
                </a:lnTo>
                <a:lnTo>
                  <a:pt x="11" y="0"/>
                </a:lnTo>
                <a:lnTo>
                  <a:pt x="7" y="4"/>
                </a:lnTo>
                <a:close/>
              </a:path>
            </a:pathLst>
          </a:custGeom>
          <a:solidFill>
            <a:srgbClr val="ffff00"/>
          </a:solid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46" name="Freeform 167"/>
          <p:cNvSpPr/>
          <p:nvPr/>
        </p:nvSpPr>
        <p:spPr>
          <a:xfrm>
            <a:off x="3792600" y="4681440"/>
            <a:ext cx="57240" cy="36720"/>
          </a:xfrm>
          <a:custGeom>
            <a:avLst/>
            <a:gdLst>
              <a:gd name="textAreaLeft" fmla="*/ 0 w 57240"/>
              <a:gd name="textAreaRight" fmla="*/ 57600 w 57240"/>
              <a:gd name="textAreaTop" fmla="*/ 0 h 36720"/>
              <a:gd name="textAreaBottom" fmla="*/ 37080 h 36720"/>
            </a:gdLst>
            <a:ahLst/>
            <a:rect l="textAreaLeft" t="textAreaTop" r="textAreaRight" b="textAreaBottom"/>
            <a:pathLst>
              <a:path w="36" h="23">
                <a:moveTo>
                  <a:pt x="9" y="0"/>
                </a:moveTo>
                <a:lnTo>
                  <a:pt x="0" y="6"/>
                </a:lnTo>
                <a:lnTo>
                  <a:pt x="2" y="16"/>
                </a:lnTo>
                <a:lnTo>
                  <a:pt x="17" y="22"/>
                </a:lnTo>
                <a:lnTo>
                  <a:pt x="21" y="23"/>
                </a:lnTo>
                <a:lnTo>
                  <a:pt x="25" y="22"/>
                </a:lnTo>
                <a:lnTo>
                  <a:pt x="31" y="20"/>
                </a:lnTo>
                <a:lnTo>
                  <a:pt x="34" y="16"/>
                </a:lnTo>
                <a:lnTo>
                  <a:pt x="36" y="12"/>
                </a:lnTo>
                <a:lnTo>
                  <a:pt x="32" y="8"/>
                </a:lnTo>
                <a:lnTo>
                  <a:pt x="19" y="0"/>
                </a:lnTo>
                <a:lnTo>
                  <a:pt x="9" y="0"/>
                </a:lnTo>
                <a:close/>
              </a:path>
            </a:pathLst>
          </a:custGeom>
          <a:solidFill>
            <a:srgbClr val="ffff0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147" name="Freeform 168"/>
          <p:cNvSpPr/>
          <p:nvPr/>
        </p:nvSpPr>
        <p:spPr>
          <a:xfrm>
            <a:off x="3875040" y="4684680"/>
            <a:ext cx="57240" cy="36720"/>
          </a:xfrm>
          <a:custGeom>
            <a:avLst/>
            <a:gdLst>
              <a:gd name="textAreaLeft" fmla="*/ 0 w 57240"/>
              <a:gd name="textAreaRight" fmla="*/ 57600 w 57240"/>
              <a:gd name="textAreaTop" fmla="*/ 0 h 36720"/>
              <a:gd name="textAreaBottom" fmla="*/ 37080 h 36720"/>
            </a:gdLst>
            <a:ahLst/>
            <a:rect l="textAreaLeft" t="textAreaTop" r="textAreaRight" b="textAreaBottom"/>
            <a:pathLst>
              <a:path w="36" h="23">
                <a:moveTo>
                  <a:pt x="0" y="6"/>
                </a:moveTo>
                <a:lnTo>
                  <a:pt x="0" y="14"/>
                </a:lnTo>
                <a:lnTo>
                  <a:pt x="4" y="16"/>
                </a:lnTo>
                <a:lnTo>
                  <a:pt x="9" y="20"/>
                </a:lnTo>
                <a:lnTo>
                  <a:pt x="13" y="23"/>
                </a:lnTo>
                <a:lnTo>
                  <a:pt x="21" y="23"/>
                </a:lnTo>
                <a:lnTo>
                  <a:pt x="32" y="18"/>
                </a:lnTo>
                <a:lnTo>
                  <a:pt x="36" y="16"/>
                </a:lnTo>
                <a:lnTo>
                  <a:pt x="34" y="14"/>
                </a:lnTo>
                <a:lnTo>
                  <a:pt x="32" y="4"/>
                </a:lnTo>
                <a:lnTo>
                  <a:pt x="25" y="0"/>
                </a:lnTo>
                <a:lnTo>
                  <a:pt x="11" y="0"/>
                </a:lnTo>
                <a:lnTo>
                  <a:pt x="7" y="0"/>
                </a:lnTo>
                <a:lnTo>
                  <a:pt x="7" y="2"/>
                </a:lnTo>
                <a:lnTo>
                  <a:pt x="7" y="16"/>
                </a:lnTo>
                <a:lnTo>
                  <a:pt x="0" y="6"/>
                </a:lnTo>
                <a:close/>
              </a:path>
            </a:pathLst>
          </a:custGeom>
          <a:solidFill>
            <a:srgbClr val="ffff0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148" name="Freeform 169"/>
          <p:cNvSpPr/>
          <p:nvPr/>
        </p:nvSpPr>
        <p:spPr>
          <a:xfrm>
            <a:off x="3962520" y="4700520"/>
            <a:ext cx="55440" cy="46080"/>
          </a:xfrm>
          <a:custGeom>
            <a:avLst/>
            <a:gdLst>
              <a:gd name="textAreaLeft" fmla="*/ 0 w 55440"/>
              <a:gd name="textAreaRight" fmla="*/ 55800 w 55440"/>
              <a:gd name="textAreaTop" fmla="*/ 0 h 46080"/>
              <a:gd name="textAreaBottom" fmla="*/ 46440 h 46080"/>
            </a:gdLst>
            <a:ahLst/>
            <a:rect l="textAreaLeft" t="textAreaTop" r="textAreaRight" b="textAreaBottom"/>
            <a:pathLst>
              <a:path w="35" h="29">
                <a:moveTo>
                  <a:pt x="0" y="2"/>
                </a:moveTo>
                <a:lnTo>
                  <a:pt x="2" y="11"/>
                </a:lnTo>
                <a:lnTo>
                  <a:pt x="6" y="19"/>
                </a:lnTo>
                <a:lnTo>
                  <a:pt x="12" y="25"/>
                </a:lnTo>
                <a:lnTo>
                  <a:pt x="16" y="29"/>
                </a:lnTo>
                <a:lnTo>
                  <a:pt x="20" y="27"/>
                </a:lnTo>
                <a:lnTo>
                  <a:pt x="29" y="21"/>
                </a:lnTo>
                <a:lnTo>
                  <a:pt x="33" y="15"/>
                </a:lnTo>
                <a:lnTo>
                  <a:pt x="35" y="11"/>
                </a:lnTo>
                <a:lnTo>
                  <a:pt x="33" y="6"/>
                </a:lnTo>
                <a:lnTo>
                  <a:pt x="23" y="0"/>
                </a:lnTo>
                <a:lnTo>
                  <a:pt x="0" y="2"/>
                </a:lnTo>
                <a:close/>
              </a:path>
            </a:pathLst>
          </a:custGeom>
          <a:solidFill>
            <a:srgbClr val="ffff00"/>
          </a:solidFill>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149" name="Freeform 170"/>
          <p:cNvSpPr/>
          <p:nvPr/>
        </p:nvSpPr>
        <p:spPr>
          <a:xfrm>
            <a:off x="3795840" y="4773600"/>
            <a:ext cx="20520" cy="27000"/>
          </a:xfrm>
          <a:custGeom>
            <a:avLst/>
            <a:gdLst>
              <a:gd name="textAreaLeft" fmla="*/ 0 w 20520"/>
              <a:gd name="textAreaRight" fmla="*/ 20880 w 20520"/>
              <a:gd name="textAreaTop" fmla="*/ 0 h 27000"/>
              <a:gd name="textAreaBottom" fmla="*/ 27360 h 27000"/>
            </a:gdLst>
            <a:ahLst/>
            <a:rect l="textAreaLeft" t="textAreaTop" r="textAreaRight" b="textAreaBottom"/>
            <a:pathLst>
              <a:path w="13" h="17">
                <a:moveTo>
                  <a:pt x="6" y="0"/>
                </a:moveTo>
                <a:lnTo>
                  <a:pt x="2" y="4"/>
                </a:lnTo>
                <a:lnTo>
                  <a:pt x="0" y="10"/>
                </a:lnTo>
                <a:lnTo>
                  <a:pt x="4" y="15"/>
                </a:lnTo>
                <a:lnTo>
                  <a:pt x="9" y="17"/>
                </a:lnTo>
                <a:lnTo>
                  <a:pt x="13" y="15"/>
                </a:lnTo>
                <a:lnTo>
                  <a:pt x="13" y="10"/>
                </a:lnTo>
                <a:lnTo>
                  <a:pt x="11" y="4"/>
                </a:lnTo>
                <a:lnTo>
                  <a:pt x="6" y="0"/>
                </a:lnTo>
                <a:close/>
              </a:path>
            </a:pathLst>
          </a:custGeom>
          <a:solidFill>
            <a:srgbClr val="ffff00"/>
          </a:solidFill>
          <a:ln w="0">
            <a:solidFill>
              <a:srgbClr val="000000"/>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50" name="Freeform 171"/>
          <p:cNvSpPr/>
          <p:nvPr/>
        </p:nvSpPr>
        <p:spPr>
          <a:xfrm>
            <a:off x="3468600" y="5062680"/>
            <a:ext cx="61920" cy="82440"/>
          </a:xfrm>
          <a:custGeom>
            <a:avLst/>
            <a:gdLst>
              <a:gd name="textAreaLeft" fmla="*/ 0 w 61920"/>
              <a:gd name="textAreaRight" fmla="*/ 62280 w 61920"/>
              <a:gd name="textAreaTop" fmla="*/ 0 h 82440"/>
              <a:gd name="textAreaBottom" fmla="*/ 82800 h 82440"/>
            </a:gdLst>
            <a:ahLst/>
            <a:rect l="textAreaLeft" t="textAreaTop" r="textAreaRight" b="textAreaBottom"/>
            <a:pathLst>
              <a:path w="39" h="52">
                <a:moveTo>
                  <a:pt x="18" y="4"/>
                </a:moveTo>
                <a:lnTo>
                  <a:pt x="2" y="14"/>
                </a:lnTo>
                <a:lnTo>
                  <a:pt x="0" y="25"/>
                </a:lnTo>
                <a:lnTo>
                  <a:pt x="4" y="37"/>
                </a:lnTo>
                <a:lnTo>
                  <a:pt x="6" y="47"/>
                </a:lnTo>
                <a:lnTo>
                  <a:pt x="10" y="52"/>
                </a:lnTo>
                <a:lnTo>
                  <a:pt x="14" y="50"/>
                </a:lnTo>
                <a:lnTo>
                  <a:pt x="19" y="48"/>
                </a:lnTo>
                <a:lnTo>
                  <a:pt x="25" y="45"/>
                </a:lnTo>
                <a:lnTo>
                  <a:pt x="33" y="45"/>
                </a:lnTo>
                <a:lnTo>
                  <a:pt x="39" y="33"/>
                </a:lnTo>
                <a:lnTo>
                  <a:pt x="37" y="29"/>
                </a:lnTo>
                <a:lnTo>
                  <a:pt x="33" y="24"/>
                </a:lnTo>
                <a:lnTo>
                  <a:pt x="31" y="8"/>
                </a:lnTo>
                <a:lnTo>
                  <a:pt x="31" y="4"/>
                </a:lnTo>
                <a:lnTo>
                  <a:pt x="27" y="0"/>
                </a:lnTo>
                <a:lnTo>
                  <a:pt x="18" y="4"/>
                </a:lnTo>
                <a:close/>
              </a:path>
            </a:pathLst>
          </a:custGeom>
          <a:solidFill>
            <a:srgbClr val="ffff00"/>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51" name="Freeform 172"/>
          <p:cNvSpPr/>
          <p:nvPr/>
        </p:nvSpPr>
        <p:spPr>
          <a:xfrm>
            <a:off x="3578400" y="5054760"/>
            <a:ext cx="75960" cy="50760"/>
          </a:xfrm>
          <a:custGeom>
            <a:avLst/>
            <a:gdLst>
              <a:gd name="textAreaLeft" fmla="*/ 0 w 75960"/>
              <a:gd name="textAreaRight" fmla="*/ 76320 w 75960"/>
              <a:gd name="textAreaTop" fmla="*/ 0 h 50760"/>
              <a:gd name="textAreaBottom" fmla="*/ 51120 h 50760"/>
            </a:gdLst>
            <a:ahLst/>
            <a:rect l="textAreaLeft" t="textAreaTop" r="textAreaRight" b="textAreaBottom"/>
            <a:pathLst>
              <a:path w="48" h="32">
                <a:moveTo>
                  <a:pt x="4" y="0"/>
                </a:moveTo>
                <a:lnTo>
                  <a:pt x="22" y="2"/>
                </a:lnTo>
                <a:lnTo>
                  <a:pt x="35" y="4"/>
                </a:lnTo>
                <a:lnTo>
                  <a:pt x="45" y="9"/>
                </a:lnTo>
                <a:lnTo>
                  <a:pt x="46" y="15"/>
                </a:lnTo>
                <a:lnTo>
                  <a:pt x="48" y="23"/>
                </a:lnTo>
                <a:lnTo>
                  <a:pt x="45" y="29"/>
                </a:lnTo>
                <a:lnTo>
                  <a:pt x="39" y="32"/>
                </a:lnTo>
                <a:lnTo>
                  <a:pt x="33" y="29"/>
                </a:lnTo>
                <a:lnTo>
                  <a:pt x="29" y="25"/>
                </a:lnTo>
                <a:lnTo>
                  <a:pt x="23" y="21"/>
                </a:lnTo>
                <a:lnTo>
                  <a:pt x="16" y="21"/>
                </a:lnTo>
                <a:lnTo>
                  <a:pt x="8" y="32"/>
                </a:lnTo>
                <a:lnTo>
                  <a:pt x="4" y="32"/>
                </a:lnTo>
                <a:lnTo>
                  <a:pt x="0" y="27"/>
                </a:lnTo>
                <a:lnTo>
                  <a:pt x="4" y="17"/>
                </a:lnTo>
                <a:lnTo>
                  <a:pt x="14" y="4"/>
                </a:lnTo>
                <a:lnTo>
                  <a:pt x="4" y="0"/>
                </a:lnTo>
                <a:close/>
              </a:path>
            </a:pathLst>
          </a:custGeom>
          <a:solidFill>
            <a:srgbClr val="ffff00"/>
          </a:solidFill>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52" name="Freeform 173"/>
          <p:cNvSpPr/>
          <p:nvPr/>
        </p:nvSpPr>
        <p:spPr>
          <a:xfrm>
            <a:off x="4057560" y="5102280"/>
            <a:ext cx="82800" cy="104760"/>
          </a:xfrm>
          <a:custGeom>
            <a:avLst/>
            <a:gdLst>
              <a:gd name="textAreaLeft" fmla="*/ 0 w 82800"/>
              <a:gd name="textAreaRight" fmla="*/ 83160 w 82800"/>
              <a:gd name="textAreaTop" fmla="*/ 0 h 104760"/>
              <a:gd name="textAreaBottom" fmla="*/ 105120 h 104760"/>
            </a:gdLst>
            <a:ahLst/>
            <a:rect l="textAreaLeft" t="textAreaTop" r="textAreaRight" b="textAreaBottom"/>
            <a:pathLst>
              <a:path w="52" h="66">
                <a:moveTo>
                  <a:pt x="4" y="0"/>
                </a:moveTo>
                <a:lnTo>
                  <a:pt x="0" y="39"/>
                </a:lnTo>
                <a:lnTo>
                  <a:pt x="4" y="54"/>
                </a:lnTo>
                <a:lnTo>
                  <a:pt x="6" y="62"/>
                </a:lnTo>
                <a:lnTo>
                  <a:pt x="11" y="66"/>
                </a:lnTo>
                <a:lnTo>
                  <a:pt x="21" y="64"/>
                </a:lnTo>
                <a:lnTo>
                  <a:pt x="34" y="58"/>
                </a:lnTo>
                <a:lnTo>
                  <a:pt x="46" y="48"/>
                </a:lnTo>
                <a:lnTo>
                  <a:pt x="52" y="43"/>
                </a:lnTo>
                <a:lnTo>
                  <a:pt x="52" y="33"/>
                </a:lnTo>
                <a:lnTo>
                  <a:pt x="52" y="23"/>
                </a:lnTo>
                <a:lnTo>
                  <a:pt x="50" y="12"/>
                </a:lnTo>
                <a:lnTo>
                  <a:pt x="50" y="8"/>
                </a:lnTo>
                <a:lnTo>
                  <a:pt x="44" y="6"/>
                </a:lnTo>
                <a:lnTo>
                  <a:pt x="34" y="4"/>
                </a:lnTo>
                <a:lnTo>
                  <a:pt x="23" y="2"/>
                </a:lnTo>
                <a:lnTo>
                  <a:pt x="4"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Freeform 174"/>
          <p:cNvSpPr/>
          <p:nvPr/>
        </p:nvSpPr>
        <p:spPr>
          <a:xfrm>
            <a:off x="3852720" y="4786200"/>
            <a:ext cx="49320" cy="47880"/>
          </a:xfrm>
          <a:custGeom>
            <a:avLst/>
            <a:gdLst>
              <a:gd name="textAreaLeft" fmla="*/ 0 w 49320"/>
              <a:gd name="textAreaRight" fmla="*/ 49680 w 49320"/>
              <a:gd name="textAreaTop" fmla="*/ 0 h 47880"/>
              <a:gd name="textAreaBottom" fmla="*/ 48240 h 47880"/>
            </a:gdLst>
            <a:ahLst/>
            <a:rect l="textAreaLeft" t="textAreaTop" r="textAreaRight" b="textAreaBottom"/>
            <a:pathLst>
              <a:path w="31" h="30">
                <a:moveTo>
                  <a:pt x="4" y="0"/>
                </a:moveTo>
                <a:lnTo>
                  <a:pt x="0" y="13"/>
                </a:lnTo>
                <a:lnTo>
                  <a:pt x="0" y="21"/>
                </a:lnTo>
                <a:lnTo>
                  <a:pt x="4" y="27"/>
                </a:lnTo>
                <a:lnTo>
                  <a:pt x="18" y="30"/>
                </a:lnTo>
                <a:lnTo>
                  <a:pt x="25" y="30"/>
                </a:lnTo>
                <a:lnTo>
                  <a:pt x="31" y="27"/>
                </a:lnTo>
                <a:lnTo>
                  <a:pt x="31" y="13"/>
                </a:lnTo>
                <a:lnTo>
                  <a:pt x="23" y="5"/>
                </a:lnTo>
                <a:lnTo>
                  <a:pt x="10" y="2"/>
                </a:lnTo>
                <a:lnTo>
                  <a:pt x="4" y="0"/>
                </a:lnTo>
                <a:close/>
              </a:path>
            </a:pathLst>
          </a:custGeom>
          <a:solidFill>
            <a:srgbClr val="ffff0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54" name="Freeform 175"/>
          <p:cNvSpPr/>
          <p:nvPr/>
        </p:nvSpPr>
        <p:spPr>
          <a:xfrm>
            <a:off x="3846600" y="5091120"/>
            <a:ext cx="82440" cy="36360"/>
          </a:xfrm>
          <a:custGeom>
            <a:avLst/>
            <a:gdLst>
              <a:gd name="textAreaLeft" fmla="*/ 0 w 82440"/>
              <a:gd name="textAreaRight" fmla="*/ 82800 w 82440"/>
              <a:gd name="textAreaTop" fmla="*/ 0 h 36360"/>
              <a:gd name="textAreaBottom" fmla="*/ 36720 h 36360"/>
            </a:gdLst>
            <a:ahLst/>
            <a:rect l="textAreaLeft" t="textAreaTop" r="textAreaRight" b="textAreaBottom"/>
            <a:pathLst>
              <a:path w="52" h="23">
                <a:moveTo>
                  <a:pt x="2" y="2"/>
                </a:moveTo>
                <a:lnTo>
                  <a:pt x="0" y="9"/>
                </a:lnTo>
                <a:lnTo>
                  <a:pt x="0" y="15"/>
                </a:lnTo>
                <a:lnTo>
                  <a:pt x="0" y="19"/>
                </a:lnTo>
                <a:lnTo>
                  <a:pt x="4" y="19"/>
                </a:lnTo>
                <a:lnTo>
                  <a:pt x="20" y="23"/>
                </a:lnTo>
                <a:lnTo>
                  <a:pt x="27" y="21"/>
                </a:lnTo>
                <a:lnTo>
                  <a:pt x="46" y="17"/>
                </a:lnTo>
                <a:lnTo>
                  <a:pt x="52" y="15"/>
                </a:lnTo>
                <a:lnTo>
                  <a:pt x="52" y="11"/>
                </a:lnTo>
                <a:lnTo>
                  <a:pt x="48" y="4"/>
                </a:lnTo>
                <a:lnTo>
                  <a:pt x="43" y="2"/>
                </a:lnTo>
                <a:lnTo>
                  <a:pt x="25" y="0"/>
                </a:lnTo>
                <a:lnTo>
                  <a:pt x="2" y="2"/>
                </a:lnTo>
                <a:close/>
              </a:path>
            </a:pathLst>
          </a:custGeom>
          <a:solidFill>
            <a:srgbClr val="ffff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55" name="Freeform 176"/>
          <p:cNvSpPr/>
          <p:nvPr/>
        </p:nvSpPr>
        <p:spPr>
          <a:xfrm>
            <a:off x="3755880" y="4834080"/>
            <a:ext cx="27000" cy="39600"/>
          </a:xfrm>
          <a:custGeom>
            <a:avLst/>
            <a:gdLst>
              <a:gd name="textAreaLeft" fmla="*/ 0 w 27000"/>
              <a:gd name="textAreaRight" fmla="*/ 27360 w 27000"/>
              <a:gd name="textAreaTop" fmla="*/ 0 h 39600"/>
              <a:gd name="textAreaBottom" fmla="*/ 39960 h 39600"/>
            </a:gdLst>
            <a:ahLst/>
            <a:rect l="textAreaLeft" t="textAreaTop" r="textAreaRight" b="textAreaBottom"/>
            <a:pathLst>
              <a:path w="17" h="25">
                <a:moveTo>
                  <a:pt x="11" y="0"/>
                </a:moveTo>
                <a:lnTo>
                  <a:pt x="6" y="4"/>
                </a:lnTo>
                <a:lnTo>
                  <a:pt x="0" y="10"/>
                </a:lnTo>
                <a:lnTo>
                  <a:pt x="2" y="16"/>
                </a:lnTo>
                <a:lnTo>
                  <a:pt x="9" y="25"/>
                </a:lnTo>
                <a:lnTo>
                  <a:pt x="13" y="25"/>
                </a:lnTo>
                <a:lnTo>
                  <a:pt x="15" y="22"/>
                </a:lnTo>
                <a:lnTo>
                  <a:pt x="17" y="14"/>
                </a:lnTo>
                <a:lnTo>
                  <a:pt x="15" y="8"/>
                </a:lnTo>
                <a:lnTo>
                  <a:pt x="11" y="0"/>
                </a:lnTo>
                <a:close/>
              </a:path>
            </a:pathLst>
          </a:custGeom>
          <a:solidFill>
            <a:srgbClr val="ffff00"/>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56" name="Freeform 177"/>
          <p:cNvSpPr/>
          <p:nvPr/>
        </p:nvSpPr>
        <p:spPr>
          <a:xfrm>
            <a:off x="3948120" y="4767120"/>
            <a:ext cx="57240" cy="106560"/>
          </a:xfrm>
          <a:custGeom>
            <a:avLst/>
            <a:gdLst>
              <a:gd name="textAreaLeft" fmla="*/ 0 w 57240"/>
              <a:gd name="textAreaRight" fmla="*/ 57600 w 57240"/>
              <a:gd name="textAreaTop" fmla="*/ 0 h 106560"/>
              <a:gd name="textAreaBottom" fmla="*/ 106920 h 106560"/>
            </a:gdLst>
            <a:ahLst/>
            <a:rect l="textAreaLeft" t="textAreaTop" r="textAreaRight" b="textAreaBottom"/>
            <a:pathLst>
              <a:path w="36" h="67">
                <a:moveTo>
                  <a:pt x="13" y="0"/>
                </a:moveTo>
                <a:lnTo>
                  <a:pt x="2" y="23"/>
                </a:lnTo>
                <a:lnTo>
                  <a:pt x="0" y="44"/>
                </a:lnTo>
                <a:lnTo>
                  <a:pt x="7" y="65"/>
                </a:lnTo>
                <a:lnTo>
                  <a:pt x="13" y="67"/>
                </a:lnTo>
                <a:lnTo>
                  <a:pt x="17" y="64"/>
                </a:lnTo>
                <a:lnTo>
                  <a:pt x="32" y="42"/>
                </a:lnTo>
                <a:lnTo>
                  <a:pt x="36" y="35"/>
                </a:lnTo>
                <a:lnTo>
                  <a:pt x="34" y="27"/>
                </a:lnTo>
                <a:lnTo>
                  <a:pt x="29" y="6"/>
                </a:lnTo>
                <a:lnTo>
                  <a:pt x="21" y="0"/>
                </a:lnTo>
                <a:lnTo>
                  <a:pt x="13"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Freeform 178"/>
          <p:cNvSpPr/>
          <p:nvPr/>
        </p:nvSpPr>
        <p:spPr>
          <a:xfrm>
            <a:off x="3882960" y="4756320"/>
            <a:ext cx="49320" cy="20520"/>
          </a:xfrm>
          <a:custGeom>
            <a:avLst/>
            <a:gdLst>
              <a:gd name="textAreaLeft" fmla="*/ 0 w 49320"/>
              <a:gd name="textAreaRight" fmla="*/ 49680 w 49320"/>
              <a:gd name="textAreaTop" fmla="*/ 0 h 20520"/>
              <a:gd name="textAreaBottom" fmla="*/ 20880 h 20520"/>
            </a:gdLst>
            <a:ahLst/>
            <a:rect l="textAreaLeft" t="textAreaTop" r="textAreaRight" b="textAreaBottom"/>
            <a:pathLst>
              <a:path w="31" h="13">
                <a:moveTo>
                  <a:pt x="23" y="1"/>
                </a:moveTo>
                <a:lnTo>
                  <a:pt x="4" y="0"/>
                </a:lnTo>
                <a:lnTo>
                  <a:pt x="0" y="3"/>
                </a:lnTo>
                <a:lnTo>
                  <a:pt x="0" y="7"/>
                </a:lnTo>
                <a:lnTo>
                  <a:pt x="10" y="11"/>
                </a:lnTo>
                <a:lnTo>
                  <a:pt x="20" y="13"/>
                </a:lnTo>
                <a:lnTo>
                  <a:pt x="27" y="11"/>
                </a:lnTo>
                <a:lnTo>
                  <a:pt x="31" y="9"/>
                </a:lnTo>
                <a:lnTo>
                  <a:pt x="31" y="3"/>
                </a:lnTo>
                <a:lnTo>
                  <a:pt x="23" y="1"/>
                </a:lnTo>
                <a:close/>
              </a:path>
            </a:pathLst>
          </a:custGeom>
          <a:solidFill>
            <a:srgbClr val="ffff00"/>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58" name="Freeform 179"/>
          <p:cNvSpPr/>
          <p:nvPr/>
        </p:nvSpPr>
        <p:spPr>
          <a:xfrm>
            <a:off x="3429000" y="5170320"/>
            <a:ext cx="49320" cy="96840"/>
          </a:xfrm>
          <a:custGeom>
            <a:avLst/>
            <a:gdLst>
              <a:gd name="textAreaLeft" fmla="*/ 0 w 49320"/>
              <a:gd name="textAreaRight" fmla="*/ 49680 w 49320"/>
              <a:gd name="textAreaTop" fmla="*/ 0 h 96840"/>
              <a:gd name="textAreaBottom" fmla="*/ 97200 h 96840"/>
            </a:gdLst>
            <a:ahLst/>
            <a:rect l="textAreaLeft" t="textAreaTop" r="textAreaRight" b="textAreaBottom"/>
            <a:pathLst>
              <a:path w="31" h="61">
                <a:moveTo>
                  <a:pt x="23" y="0"/>
                </a:moveTo>
                <a:lnTo>
                  <a:pt x="12" y="11"/>
                </a:lnTo>
                <a:lnTo>
                  <a:pt x="8" y="17"/>
                </a:lnTo>
                <a:lnTo>
                  <a:pt x="4" y="21"/>
                </a:lnTo>
                <a:lnTo>
                  <a:pt x="0" y="27"/>
                </a:lnTo>
                <a:lnTo>
                  <a:pt x="0" y="30"/>
                </a:lnTo>
                <a:lnTo>
                  <a:pt x="0" y="50"/>
                </a:lnTo>
                <a:lnTo>
                  <a:pt x="2" y="55"/>
                </a:lnTo>
                <a:lnTo>
                  <a:pt x="8" y="61"/>
                </a:lnTo>
                <a:lnTo>
                  <a:pt x="18" y="61"/>
                </a:lnTo>
                <a:lnTo>
                  <a:pt x="27" y="55"/>
                </a:lnTo>
                <a:lnTo>
                  <a:pt x="31" y="53"/>
                </a:lnTo>
                <a:lnTo>
                  <a:pt x="31" y="44"/>
                </a:lnTo>
                <a:lnTo>
                  <a:pt x="29" y="9"/>
                </a:lnTo>
                <a:lnTo>
                  <a:pt x="29" y="4"/>
                </a:lnTo>
                <a:lnTo>
                  <a:pt x="27" y="2"/>
                </a:lnTo>
                <a:lnTo>
                  <a:pt x="23"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Freeform 180"/>
          <p:cNvSpPr/>
          <p:nvPr/>
        </p:nvSpPr>
        <p:spPr>
          <a:xfrm>
            <a:off x="3535200" y="5160960"/>
            <a:ext cx="59040" cy="57240"/>
          </a:xfrm>
          <a:custGeom>
            <a:avLst/>
            <a:gdLst>
              <a:gd name="textAreaLeft" fmla="*/ 0 w 59040"/>
              <a:gd name="textAreaRight" fmla="*/ 59400 w 59040"/>
              <a:gd name="textAreaTop" fmla="*/ 0 h 57240"/>
              <a:gd name="textAreaBottom" fmla="*/ 57600 h 57240"/>
            </a:gdLst>
            <a:ahLst/>
            <a:rect l="textAreaLeft" t="textAreaTop" r="textAreaRight" b="textAreaBottom"/>
            <a:pathLst>
              <a:path w="37" h="36">
                <a:moveTo>
                  <a:pt x="14" y="2"/>
                </a:moveTo>
                <a:lnTo>
                  <a:pt x="2" y="10"/>
                </a:lnTo>
                <a:lnTo>
                  <a:pt x="0" y="15"/>
                </a:lnTo>
                <a:lnTo>
                  <a:pt x="2" y="33"/>
                </a:lnTo>
                <a:lnTo>
                  <a:pt x="6" y="36"/>
                </a:lnTo>
                <a:lnTo>
                  <a:pt x="12" y="36"/>
                </a:lnTo>
                <a:lnTo>
                  <a:pt x="31" y="35"/>
                </a:lnTo>
                <a:lnTo>
                  <a:pt x="37" y="31"/>
                </a:lnTo>
                <a:lnTo>
                  <a:pt x="35" y="25"/>
                </a:lnTo>
                <a:lnTo>
                  <a:pt x="31" y="4"/>
                </a:lnTo>
                <a:lnTo>
                  <a:pt x="24" y="0"/>
                </a:lnTo>
                <a:lnTo>
                  <a:pt x="14" y="2"/>
                </a:lnTo>
                <a:close/>
              </a:path>
            </a:pathLst>
          </a:custGeom>
          <a:solidFill>
            <a:srgbClr val="ffff00"/>
          </a:solid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60" name="Freeform 181"/>
          <p:cNvSpPr/>
          <p:nvPr/>
        </p:nvSpPr>
        <p:spPr>
          <a:xfrm>
            <a:off x="3514680" y="5254560"/>
            <a:ext cx="63720" cy="49320"/>
          </a:xfrm>
          <a:custGeom>
            <a:avLst/>
            <a:gdLst>
              <a:gd name="textAreaLeft" fmla="*/ 0 w 63720"/>
              <a:gd name="textAreaRight" fmla="*/ 64080 w 63720"/>
              <a:gd name="textAreaTop" fmla="*/ 0 h 49320"/>
              <a:gd name="textAreaBottom" fmla="*/ 49680 h 49320"/>
            </a:gdLst>
            <a:ahLst/>
            <a:rect l="textAreaLeft" t="textAreaTop" r="textAreaRight" b="textAreaBottom"/>
            <a:pathLst>
              <a:path w="40" h="31">
                <a:moveTo>
                  <a:pt x="0" y="0"/>
                </a:moveTo>
                <a:lnTo>
                  <a:pt x="6" y="14"/>
                </a:lnTo>
                <a:lnTo>
                  <a:pt x="10" y="25"/>
                </a:lnTo>
                <a:lnTo>
                  <a:pt x="13" y="31"/>
                </a:lnTo>
                <a:lnTo>
                  <a:pt x="17" y="31"/>
                </a:lnTo>
                <a:lnTo>
                  <a:pt x="31" y="29"/>
                </a:lnTo>
                <a:lnTo>
                  <a:pt x="35" y="27"/>
                </a:lnTo>
                <a:lnTo>
                  <a:pt x="35" y="24"/>
                </a:lnTo>
                <a:lnTo>
                  <a:pt x="38" y="8"/>
                </a:lnTo>
                <a:lnTo>
                  <a:pt x="40" y="4"/>
                </a:lnTo>
                <a:lnTo>
                  <a:pt x="35" y="4"/>
                </a:lnTo>
                <a:lnTo>
                  <a:pt x="6" y="4"/>
                </a:lnTo>
                <a:lnTo>
                  <a:pt x="0" y="0"/>
                </a:lnTo>
                <a:close/>
              </a:path>
            </a:pathLst>
          </a:custGeom>
          <a:solidFill>
            <a:srgbClr val="ffff0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161" name="Freeform 182"/>
          <p:cNvSpPr/>
          <p:nvPr/>
        </p:nvSpPr>
        <p:spPr>
          <a:xfrm>
            <a:off x="3846600" y="4849920"/>
            <a:ext cx="61920" cy="29880"/>
          </a:xfrm>
          <a:custGeom>
            <a:avLst/>
            <a:gdLst>
              <a:gd name="textAreaLeft" fmla="*/ 0 w 61920"/>
              <a:gd name="textAreaRight" fmla="*/ 62280 w 61920"/>
              <a:gd name="textAreaTop" fmla="*/ 0 h 29880"/>
              <a:gd name="textAreaBottom" fmla="*/ 30240 h 29880"/>
            </a:gdLst>
            <a:ahLst/>
            <a:rect l="textAreaLeft" t="textAreaTop" r="textAreaRight" b="textAreaBottom"/>
            <a:pathLst>
              <a:path w="39" h="19">
                <a:moveTo>
                  <a:pt x="0" y="0"/>
                </a:moveTo>
                <a:lnTo>
                  <a:pt x="12" y="0"/>
                </a:lnTo>
                <a:lnTo>
                  <a:pt x="20" y="2"/>
                </a:lnTo>
                <a:lnTo>
                  <a:pt x="23" y="4"/>
                </a:lnTo>
                <a:lnTo>
                  <a:pt x="25" y="4"/>
                </a:lnTo>
                <a:lnTo>
                  <a:pt x="29" y="6"/>
                </a:lnTo>
                <a:lnTo>
                  <a:pt x="37" y="10"/>
                </a:lnTo>
                <a:lnTo>
                  <a:pt x="39" y="13"/>
                </a:lnTo>
                <a:lnTo>
                  <a:pt x="35" y="17"/>
                </a:lnTo>
                <a:lnTo>
                  <a:pt x="27" y="19"/>
                </a:lnTo>
                <a:lnTo>
                  <a:pt x="18" y="19"/>
                </a:lnTo>
                <a:lnTo>
                  <a:pt x="0" y="6"/>
                </a:lnTo>
                <a:lnTo>
                  <a:pt x="0" y="0"/>
                </a:lnTo>
                <a:close/>
              </a:path>
            </a:pathLst>
          </a:custGeom>
          <a:solidFill>
            <a:srgbClr val="ffff00"/>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62" name="Freeform 183"/>
          <p:cNvSpPr/>
          <p:nvPr/>
        </p:nvSpPr>
        <p:spPr>
          <a:xfrm>
            <a:off x="3691080" y="4952880"/>
            <a:ext cx="82440" cy="46080"/>
          </a:xfrm>
          <a:custGeom>
            <a:avLst/>
            <a:gdLst>
              <a:gd name="textAreaLeft" fmla="*/ 0 w 82440"/>
              <a:gd name="textAreaRight" fmla="*/ 82800 w 82440"/>
              <a:gd name="textAreaTop" fmla="*/ 0 h 46080"/>
              <a:gd name="textAreaBottom" fmla="*/ 46440 h 46080"/>
            </a:gdLst>
            <a:ahLst/>
            <a:rect l="textAreaLeft" t="textAreaTop" r="textAreaRight" b="textAreaBottom"/>
            <a:pathLst>
              <a:path w="52" h="29">
                <a:moveTo>
                  <a:pt x="0" y="23"/>
                </a:moveTo>
                <a:lnTo>
                  <a:pt x="12" y="4"/>
                </a:lnTo>
                <a:lnTo>
                  <a:pt x="18" y="0"/>
                </a:lnTo>
                <a:lnTo>
                  <a:pt x="23" y="2"/>
                </a:lnTo>
                <a:lnTo>
                  <a:pt x="37" y="8"/>
                </a:lnTo>
                <a:lnTo>
                  <a:pt x="47" y="14"/>
                </a:lnTo>
                <a:lnTo>
                  <a:pt x="52" y="21"/>
                </a:lnTo>
                <a:lnTo>
                  <a:pt x="50" y="25"/>
                </a:lnTo>
                <a:lnTo>
                  <a:pt x="48" y="29"/>
                </a:lnTo>
                <a:lnTo>
                  <a:pt x="39" y="27"/>
                </a:lnTo>
                <a:lnTo>
                  <a:pt x="23" y="25"/>
                </a:lnTo>
                <a:lnTo>
                  <a:pt x="0" y="23"/>
                </a:lnTo>
                <a:close/>
              </a:path>
            </a:pathLst>
          </a:custGeom>
          <a:solidFill>
            <a:srgbClr val="ffff00"/>
          </a:solidFill>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163" name="Freeform 184"/>
          <p:cNvSpPr/>
          <p:nvPr/>
        </p:nvSpPr>
        <p:spPr>
          <a:xfrm>
            <a:off x="3664080" y="5021280"/>
            <a:ext cx="46080" cy="50760"/>
          </a:xfrm>
          <a:custGeom>
            <a:avLst/>
            <a:gdLst>
              <a:gd name="textAreaLeft" fmla="*/ 0 w 46080"/>
              <a:gd name="textAreaRight" fmla="*/ 46440 w 46080"/>
              <a:gd name="textAreaTop" fmla="*/ 0 h 50760"/>
              <a:gd name="textAreaBottom" fmla="*/ 51120 h 50760"/>
            </a:gdLst>
            <a:ahLst/>
            <a:rect l="textAreaLeft" t="textAreaTop" r="textAreaRight" b="textAreaBottom"/>
            <a:pathLst>
              <a:path w="29" h="32">
                <a:moveTo>
                  <a:pt x="8" y="0"/>
                </a:moveTo>
                <a:lnTo>
                  <a:pt x="2" y="3"/>
                </a:lnTo>
                <a:lnTo>
                  <a:pt x="0" y="13"/>
                </a:lnTo>
                <a:lnTo>
                  <a:pt x="0" y="26"/>
                </a:lnTo>
                <a:lnTo>
                  <a:pt x="4" y="30"/>
                </a:lnTo>
                <a:lnTo>
                  <a:pt x="14" y="30"/>
                </a:lnTo>
                <a:lnTo>
                  <a:pt x="17" y="32"/>
                </a:lnTo>
                <a:lnTo>
                  <a:pt x="19" y="30"/>
                </a:lnTo>
                <a:lnTo>
                  <a:pt x="27" y="21"/>
                </a:lnTo>
                <a:lnTo>
                  <a:pt x="29" y="15"/>
                </a:lnTo>
                <a:lnTo>
                  <a:pt x="29" y="9"/>
                </a:lnTo>
                <a:lnTo>
                  <a:pt x="25" y="3"/>
                </a:lnTo>
                <a:lnTo>
                  <a:pt x="17" y="0"/>
                </a:lnTo>
                <a:lnTo>
                  <a:pt x="8" y="0"/>
                </a:lnTo>
                <a:close/>
              </a:path>
            </a:pathLst>
          </a:custGeom>
          <a:solidFill>
            <a:srgbClr val="ffff00"/>
          </a:solidFill>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64" name="Freeform 185"/>
          <p:cNvSpPr/>
          <p:nvPr/>
        </p:nvSpPr>
        <p:spPr>
          <a:xfrm>
            <a:off x="3782880" y="4905360"/>
            <a:ext cx="66960" cy="57240"/>
          </a:xfrm>
          <a:custGeom>
            <a:avLst/>
            <a:gdLst>
              <a:gd name="textAreaLeft" fmla="*/ 0 w 66960"/>
              <a:gd name="textAreaRight" fmla="*/ 67320 w 66960"/>
              <a:gd name="textAreaTop" fmla="*/ 0 h 57240"/>
              <a:gd name="textAreaBottom" fmla="*/ 57600 h 57240"/>
            </a:gdLst>
            <a:ahLst/>
            <a:rect l="textAreaLeft" t="textAreaTop" r="textAreaRight" b="textAreaBottom"/>
            <a:pathLst>
              <a:path w="42" h="36">
                <a:moveTo>
                  <a:pt x="15" y="0"/>
                </a:moveTo>
                <a:lnTo>
                  <a:pt x="8" y="11"/>
                </a:lnTo>
                <a:lnTo>
                  <a:pt x="2" y="19"/>
                </a:lnTo>
                <a:lnTo>
                  <a:pt x="0" y="25"/>
                </a:lnTo>
                <a:lnTo>
                  <a:pt x="0" y="28"/>
                </a:lnTo>
                <a:lnTo>
                  <a:pt x="6" y="32"/>
                </a:lnTo>
                <a:lnTo>
                  <a:pt x="21" y="36"/>
                </a:lnTo>
                <a:lnTo>
                  <a:pt x="35" y="34"/>
                </a:lnTo>
                <a:lnTo>
                  <a:pt x="42" y="32"/>
                </a:lnTo>
                <a:lnTo>
                  <a:pt x="42" y="28"/>
                </a:lnTo>
                <a:lnTo>
                  <a:pt x="40" y="15"/>
                </a:lnTo>
                <a:lnTo>
                  <a:pt x="37" y="13"/>
                </a:lnTo>
                <a:lnTo>
                  <a:pt x="33" y="9"/>
                </a:lnTo>
                <a:lnTo>
                  <a:pt x="25" y="2"/>
                </a:lnTo>
                <a:lnTo>
                  <a:pt x="15" y="0"/>
                </a:lnTo>
                <a:close/>
              </a:path>
            </a:pathLst>
          </a:custGeom>
          <a:solidFill>
            <a:srgbClr val="ffff00"/>
          </a:solidFill>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65" name="Freeform 186"/>
          <p:cNvSpPr/>
          <p:nvPr/>
        </p:nvSpPr>
        <p:spPr>
          <a:xfrm>
            <a:off x="4002120" y="4862520"/>
            <a:ext cx="46080" cy="76320"/>
          </a:xfrm>
          <a:custGeom>
            <a:avLst/>
            <a:gdLst>
              <a:gd name="textAreaLeft" fmla="*/ 0 w 46080"/>
              <a:gd name="textAreaRight" fmla="*/ 46440 w 46080"/>
              <a:gd name="textAreaTop" fmla="*/ 0 h 76320"/>
              <a:gd name="textAreaBottom" fmla="*/ 76680 h 76320"/>
            </a:gdLst>
            <a:ahLst/>
            <a:rect l="textAreaLeft" t="textAreaTop" r="textAreaRight" b="textAreaBottom"/>
            <a:pathLst>
              <a:path w="29" h="48">
                <a:moveTo>
                  <a:pt x="16" y="2"/>
                </a:moveTo>
                <a:lnTo>
                  <a:pt x="8" y="13"/>
                </a:lnTo>
                <a:lnTo>
                  <a:pt x="2" y="25"/>
                </a:lnTo>
                <a:lnTo>
                  <a:pt x="0" y="34"/>
                </a:lnTo>
                <a:lnTo>
                  <a:pt x="0" y="40"/>
                </a:lnTo>
                <a:lnTo>
                  <a:pt x="4" y="44"/>
                </a:lnTo>
                <a:lnTo>
                  <a:pt x="8" y="46"/>
                </a:lnTo>
                <a:lnTo>
                  <a:pt x="14" y="48"/>
                </a:lnTo>
                <a:lnTo>
                  <a:pt x="20" y="44"/>
                </a:lnTo>
                <a:lnTo>
                  <a:pt x="25" y="38"/>
                </a:lnTo>
                <a:lnTo>
                  <a:pt x="27" y="32"/>
                </a:lnTo>
                <a:lnTo>
                  <a:pt x="29" y="25"/>
                </a:lnTo>
                <a:lnTo>
                  <a:pt x="29" y="21"/>
                </a:lnTo>
                <a:lnTo>
                  <a:pt x="27" y="15"/>
                </a:lnTo>
                <a:lnTo>
                  <a:pt x="21" y="0"/>
                </a:lnTo>
                <a:lnTo>
                  <a:pt x="16" y="2"/>
                </a:lnTo>
                <a:close/>
              </a:path>
            </a:pathLst>
          </a:custGeom>
          <a:solidFill>
            <a:srgbClr val="ffff00"/>
          </a:solidFill>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166" name="Freeform 187"/>
          <p:cNvSpPr/>
          <p:nvPr/>
        </p:nvSpPr>
        <p:spPr>
          <a:xfrm>
            <a:off x="4054320" y="4856040"/>
            <a:ext cx="86040" cy="46080"/>
          </a:xfrm>
          <a:custGeom>
            <a:avLst/>
            <a:gdLst>
              <a:gd name="textAreaLeft" fmla="*/ 0 w 86040"/>
              <a:gd name="textAreaRight" fmla="*/ 86400 w 86040"/>
              <a:gd name="textAreaTop" fmla="*/ 0 h 46080"/>
              <a:gd name="textAreaBottom" fmla="*/ 46440 h 46080"/>
            </a:gdLst>
            <a:ahLst/>
            <a:rect l="textAreaLeft" t="textAreaTop" r="textAreaRight" b="textAreaBottom"/>
            <a:pathLst>
              <a:path w="54" h="29">
                <a:moveTo>
                  <a:pt x="0" y="2"/>
                </a:moveTo>
                <a:lnTo>
                  <a:pt x="13" y="0"/>
                </a:lnTo>
                <a:lnTo>
                  <a:pt x="23" y="0"/>
                </a:lnTo>
                <a:lnTo>
                  <a:pt x="29" y="0"/>
                </a:lnTo>
                <a:lnTo>
                  <a:pt x="36" y="4"/>
                </a:lnTo>
                <a:lnTo>
                  <a:pt x="44" y="6"/>
                </a:lnTo>
                <a:lnTo>
                  <a:pt x="50" y="8"/>
                </a:lnTo>
                <a:lnTo>
                  <a:pt x="54" y="11"/>
                </a:lnTo>
                <a:lnTo>
                  <a:pt x="54" y="15"/>
                </a:lnTo>
                <a:lnTo>
                  <a:pt x="54" y="21"/>
                </a:lnTo>
                <a:lnTo>
                  <a:pt x="50" y="25"/>
                </a:lnTo>
                <a:lnTo>
                  <a:pt x="42" y="29"/>
                </a:lnTo>
                <a:lnTo>
                  <a:pt x="35" y="27"/>
                </a:lnTo>
                <a:lnTo>
                  <a:pt x="31" y="21"/>
                </a:lnTo>
                <a:lnTo>
                  <a:pt x="25" y="15"/>
                </a:lnTo>
                <a:lnTo>
                  <a:pt x="17" y="13"/>
                </a:lnTo>
                <a:lnTo>
                  <a:pt x="8" y="11"/>
                </a:lnTo>
                <a:lnTo>
                  <a:pt x="0" y="2"/>
                </a:lnTo>
                <a:close/>
              </a:path>
            </a:pathLst>
          </a:custGeom>
          <a:solidFill>
            <a:srgbClr val="ffff00"/>
          </a:solidFill>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167" name="Freeform 188"/>
          <p:cNvSpPr/>
          <p:nvPr/>
        </p:nvSpPr>
        <p:spPr>
          <a:xfrm>
            <a:off x="3932280" y="5261040"/>
            <a:ext cx="69840" cy="88920"/>
          </a:xfrm>
          <a:custGeom>
            <a:avLst/>
            <a:gdLst>
              <a:gd name="textAreaLeft" fmla="*/ 0 w 69840"/>
              <a:gd name="textAreaRight" fmla="*/ 70200 w 69840"/>
              <a:gd name="textAreaTop" fmla="*/ 0 h 88920"/>
              <a:gd name="textAreaBottom" fmla="*/ 89280 h 88920"/>
            </a:gdLst>
            <a:ahLst/>
            <a:rect l="textAreaLeft" t="textAreaTop" r="textAreaRight" b="textAreaBottom"/>
            <a:pathLst>
              <a:path w="44" h="56">
                <a:moveTo>
                  <a:pt x="8" y="0"/>
                </a:moveTo>
                <a:lnTo>
                  <a:pt x="0" y="18"/>
                </a:lnTo>
                <a:lnTo>
                  <a:pt x="4" y="39"/>
                </a:lnTo>
                <a:lnTo>
                  <a:pt x="8" y="48"/>
                </a:lnTo>
                <a:lnTo>
                  <a:pt x="12" y="54"/>
                </a:lnTo>
                <a:lnTo>
                  <a:pt x="21" y="56"/>
                </a:lnTo>
                <a:lnTo>
                  <a:pt x="29" y="52"/>
                </a:lnTo>
                <a:lnTo>
                  <a:pt x="39" y="44"/>
                </a:lnTo>
                <a:lnTo>
                  <a:pt x="44" y="31"/>
                </a:lnTo>
                <a:lnTo>
                  <a:pt x="44" y="20"/>
                </a:lnTo>
                <a:lnTo>
                  <a:pt x="39" y="10"/>
                </a:lnTo>
                <a:lnTo>
                  <a:pt x="23" y="2"/>
                </a:lnTo>
                <a:lnTo>
                  <a:pt x="8" y="0"/>
                </a:lnTo>
                <a:close/>
              </a:path>
            </a:pathLst>
          </a:custGeom>
          <a:solidFill>
            <a:srgbClr val="ffff00"/>
          </a:soli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68" name="Freeform 189"/>
          <p:cNvSpPr/>
          <p:nvPr/>
        </p:nvSpPr>
        <p:spPr>
          <a:xfrm>
            <a:off x="3730680" y="5048280"/>
            <a:ext cx="22320" cy="39600"/>
          </a:xfrm>
          <a:custGeom>
            <a:avLst/>
            <a:gdLst>
              <a:gd name="textAreaLeft" fmla="*/ 0 w 22320"/>
              <a:gd name="textAreaRight" fmla="*/ 22680 w 22320"/>
              <a:gd name="textAreaTop" fmla="*/ 0 h 39600"/>
              <a:gd name="textAreaBottom" fmla="*/ 39960 h 39600"/>
            </a:gdLst>
            <a:ahLst/>
            <a:rect l="textAreaLeft" t="textAreaTop" r="textAreaRight" b="textAreaBottom"/>
            <a:pathLst>
              <a:path w="14" h="25">
                <a:moveTo>
                  <a:pt x="6" y="2"/>
                </a:moveTo>
                <a:lnTo>
                  <a:pt x="2" y="8"/>
                </a:lnTo>
                <a:lnTo>
                  <a:pt x="0" y="11"/>
                </a:lnTo>
                <a:lnTo>
                  <a:pt x="4" y="19"/>
                </a:lnTo>
                <a:lnTo>
                  <a:pt x="10" y="23"/>
                </a:lnTo>
                <a:lnTo>
                  <a:pt x="12" y="25"/>
                </a:lnTo>
                <a:lnTo>
                  <a:pt x="14" y="23"/>
                </a:lnTo>
                <a:lnTo>
                  <a:pt x="12" y="17"/>
                </a:lnTo>
                <a:lnTo>
                  <a:pt x="10" y="2"/>
                </a:lnTo>
                <a:lnTo>
                  <a:pt x="8" y="0"/>
                </a:lnTo>
                <a:lnTo>
                  <a:pt x="6" y="2"/>
                </a:lnTo>
                <a:close/>
              </a:path>
            </a:pathLst>
          </a:custGeom>
          <a:solidFill>
            <a:srgbClr val="ffff00"/>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69" name="Freeform 190"/>
          <p:cNvSpPr/>
          <p:nvPr/>
        </p:nvSpPr>
        <p:spPr>
          <a:xfrm>
            <a:off x="3570120" y="5330880"/>
            <a:ext cx="57240" cy="38160"/>
          </a:xfrm>
          <a:custGeom>
            <a:avLst/>
            <a:gdLst>
              <a:gd name="textAreaLeft" fmla="*/ 0 w 57240"/>
              <a:gd name="textAreaRight" fmla="*/ 57600 w 57240"/>
              <a:gd name="textAreaTop" fmla="*/ 0 h 38160"/>
              <a:gd name="textAreaBottom" fmla="*/ 38520 h 38160"/>
            </a:gdLst>
            <a:ahLst/>
            <a:rect l="textAreaLeft" t="textAreaTop" r="textAreaRight" b="textAreaBottom"/>
            <a:pathLst>
              <a:path w="36" h="24">
                <a:moveTo>
                  <a:pt x="0" y="10"/>
                </a:moveTo>
                <a:lnTo>
                  <a:pt x="7" y="0"/>
                </a:lnTo>
                <a:lnTo>
                  <a:pt x="19" y="0"/>
                </a:lnTo>
                <a:lnTo>
                  <a:pt x="27" y="4"/>
                </a:lnTo>
                <a:lnTo>
                  <a:pt x="32" y="8"/>
                </a:lnTo>
                <a:lnTo>
                  <a:pt x="36" y="14"/>
                </a:lnTo>
                <a:lnTo>
                  <a:pt x="34" y="20"/>
                </a:lnTo>
                <a:lnTo>
                  <a:pt x="28" y="24"/>
                </a:lnTo>
                <a:lnTo>
                  <a:pt x="23" y="24"/>
                </a:lnTo>
                <a:lnTo>
                  <a:pt x="15" y="20"/>
                </a:lnTo>
                <a:lnTo>
                  <a:pt x="3" y="16"/>
                </a:lnTo>
                <a:lnTo>
                  <a:pt x="0" y="10"/>
                </a:lnTo>
                <a:close/>
              </a:path>
            </a:pathLst>
          </a:custGeom>
          <a:solidFill>
            <a:srgbClr val="ffff00"/>
          </a:solidFill>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170" name="Freeform 191"/>
          <p:cNvSpPr/>
          <p:nvPr/>
        </p:nvSpPr>
        <p:spPr>
          <a:xfrm>
            <a:off x="3633840" y="5224320"/>
            <a:ext cx="55440" cy="82800"/>
          </a:xfrm>
          <a:custGeom>
            <a:avLst/>
            <a:gdLst>
              <a:gd name="textAreaLeft" fmla="*/ 0 w 55440"/>
              <a:gd name="textAreaRight" fmla="*/ 55800 w 55440"/>
              <a:gd name="textAreaTop" fmla="*/ 0 h 82800"/>
              <a:gd name="textAreaBottom" fmla="*/ 83160 h 82800"/>
            </a:gdLst>
            <a:ahLst/>
            <a:rect l="textAreaLeft" t="textAreaTop" r="textAreaRight" b="textAreaBottom"/>
            <a:pathLst>
              <a:path w="35" h="52">
                <a:moveTo>
                  <a:pt x="15" y="0"/>
                </a:moveTo>
                <a:lnTo>
                  <a:pt x="8" y="2"/>
                </a:lnTo>
                <a:lnTo>
                  <a:pt x="2" y="10"/>
                </a:lnTo>
                <a:lnTo>
                  <a:pt x="0" y="41"/>
                </a:lnTo>
                <a:lnTo>
                  <a:pt x="0" y="50"/>
                </a:lnTo>
                <a:lnTo>
                  <a:pt x="4" y="52"/>
                </a:lnTo>
                <a:lnTo>
                  <a:pt x="8" y="50"/>
                </a:lnTo>
                <a:lnTo>
                  <a:pt x="19" y="48"/>
                </a:lnTo>
                <a:lnTo>
                  <a:pt x="27" y="44"/>
                </a:lnTo>
                <a:lnTo>
                  <a:pt x="33" y="39"/>
                </a:lnTo>
                <a:lnTo>
                  <a:pt x="35" y="37"/>
                </a:lnTo>
                <a:lnTo>
                  <a:pt x="33" y="33"/>
                </a:lnTo>
                <a:lnTo>
                  <a:pt x="29" y="21"/>
                </a:lnTo>
                <a:lnTo>
                  <a:pt x="25" y="10"/>
                </a:lnTo>
                <a:lnTo>
                  <a:pt x="15" y="0"/>
                </a:lnTo>
                <a:close/>
              </a:path>
            </a:pathLst>
          </a:custGeom>
          <a:solidFill>
            <a:srgbClr val="ffff00"/>
          </a:solid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71" name="Freeform 192"/>
          <p:cNvSpPr/>
          <p:nvPr/>
        </p:nvSpPr>
        <p:spPr>
          <a:xfrm>
            <a:off x="3639960" y="5151600"/>
            <a:ext cx="63720" cy="39600"/>
          </a:xfrm>
          <a:custGeom>
            <a:avLst/>
            <a:gdLst>
              <a:gd name="textAreaLeft" fmla="*/ 0 w 63720"/>
              <a:gd name="textAreaRight" fmla="*/ 64080 w 63720"/>
              <a:gd name="textAreaTop" fmla="*/ 0 h 39600"/>
              <a:gd name="textAreaBottom" fmla="*/ 39960 h 39600"/>
            </a:gdLst>
            <a:ahLst/>
            <a:rect l="textAreaLeft" t="textAreaTop" r="textAreaRight" b="textAreaBottom"/>
            <a:pathLst>
              <a:path w="40" h="25">
                <a:moveTo>
                  <a:pt x="2" y="2"/>
                </a:moveTo>
                <a:lnTo>
                  <a:pt x="19" y="0"/>
                </a:lnTo>
                <a:lnTo>
                  <a:pt x="32" y="2"/>
                </a:lnTo>
                <a:lnTo>
                  <a:pt x="40" y="6"/>
                </a:lnTo>
                <a:lnTo>
                  <a:pt x="40" y="12"/>
                </a:lnTo>
                <a:lnTo>
                  <a:pt x="36" y="17"/>
                </a:lnTo>
                <a:lnTo>
                  <a:pt x="31" y="21"/>
                </a:lnTo>
                <a:lnTo>
                  <a:pt x="25" y="25"/>
                </a:lnTo>
                <a:lnTo>
                  <a:pt x="19" y="23"/>
                </a:lnTo>
                <a:lnTo>
                  <a:pt x="4" y="14"/>
                </a:lnTo>
                <a:lnTo>
                  <a:pt x="0" y="8"/>
                </a:lnTo>
                <a:lnTo>
                  <a:pt x="2" y="2"/>
                </a:lnTo>
                <a:close/>
              </a:path>
            </a:pathLst>
          </a:custGeom>
          <a:solidFill>
            <a:srgbClr val="ffff00"/>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72" name="Freeform 193"/>
          <p:cNvSpPr/>
          <p:nvPr/>
        </p:nvSpPr>
        <p:spPr>
          <a:xfrm>
            <a:off x="3776760" y="5029200"/>
            <a:ext cx="58680" cy="46080"/>
          </a:xfrm>
          <a:custGeom>
            <a:avLst/>
            <a:gdLst>
              <a:gd name="textAreaLeft" fmla="*/ 0 w 58680"/>
              <a:gd name="textAreaRight" fmla="*/ 59040 w 58680"/>
              <a:gd name="textAreaTop" fmla="*/ 0 h 46080"/>
              <a:gd name="textAreaBottom" fmla="*/ 46440 h 46080"/>
            </a:gdLst>
            <a:ahLst/>
            <a:rect l="textAreaLeft" t="textAreaTop" r="textAreaRight" b="textAreaBottom"/>
            <a:pathLst>
              <a:path w="37" h="29">
                <a:moveTo>
                  <a:pt x="0" y="6"/>
                </a:moveTo>
                <a:lnTo>
                  <a:pt x="14" y="0"/>
                </a:lnTo>
                <a:lnTo>
                  <a:pt x="25" y="0"/>
                </a:lnTo>
                <a:lnTo>
                  <a:pt x="33" y="4"/>
                </a:lnTo>
                <a:lnTo>
                  <a:pt x="37" y="14"/>
                </a:lnTo>
                <a:lnTo>
                  <a:pt x="33" y="21"/>
                </a:lnTo>
                <a:lnTo>
                  <a:pt x="25" y="27"/>
                </a:lnTo>
                <a:lnTo>
                  <a:pt x="16" y="27"/>
                </a:lnTo>
                <a:lnTo>
                  <a:pt x="10" y="29"/>
                </a:lnTo>
                <a:lnTo>
                  <a:pt x="4" y="25"/>
                </a:lnTo>
                <a:lnTo>
                  <a:pt x="2" y="16"/>
                </a:lnTo>
                <a:lnTo>
                  <a:pt x="2" y="2"/>
                </a:lnTo>
                <a:lnTo>
                  <a:pt x="0" y="6"/>
                </a:lnTo>
                <a:close/>
              </a:path>
            </a:pathLst>
          </a:custGeom>
          <a:solidFill>
            <a:srgbClr val="ffff00"/>
          </a:solidFill>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173" name="Freeform 194"/>
          <p:cNvSpPr/>
          <p:nvPr/>
        </p:nvSpPr>
        <p:spPr>
          <a:xfrm>
            <a:off x="3862440" y="4935600"/>
            <a:ext cx="79200" cy="109440"/>
          </a:xfrm>
          <a:custGeom>
            <a:avLst/>
            <a:gdLst>
              <a:gd name="textAreaLeft" fmla="*/ 0 w 79200"/>
              <a:gd name="textAreaRight" fmla="*/ 79560 w 79200"/>
              <a:gd name="textAreaTop" fmla="*/ 0 h 109440"/>
              <a:gd name="textAreaBottom" fmla="*/ 109800 h 109440"/>
            </a:gdLst>
            <a:ahLst/>
            <a:rect l="textAreaLeft" t="textAreaTop" r="textAreaRight" b="textAreaBottom"/>
            <a:pathLst>
              <a:path w="50" h="69">
                <a:moveTo>
                  <a:pt x="0" y="0"/>
                </a:moveTo>
                <a:lnTo>
                  <a:pt x="0" y="31"/>
                </a:lnTo>
                <a:lnTo>
                  <a:pt x="4" y="38"/>
                </a:lnTo>
                <a:lnTo>
                  <a:pt x="8" y="42"/>
                </a:lnTo>
                <a:lnTo>
                  <a:pt x="15" y="54"/>
                </a:lnTo>
                <a:lnTo>
                  <a:pt x="21" y="65"/>
                </a:lnTo>
                <a:lnTo>
                  <a:pt x="29" y="69"/>
                </a:lnTo>
                <a:lnTo>
                  <a:pt x="35" y="67"/>
                </a:lnTo>
                <a:lnTo>
                  <a:pt x="42" y="61"/>
                </a:lnTo>
                <a:lnTo>
                  <a:pt x="48" y="52"/>
                </a:lnTo>
                <a:lnTo>
                  <a:pt x="50" y="44"/>
                </a:lnTo>
                <a:lnTo>
                  <a:pt x="46" y="36"/>
                </a:lnTo>
                <a:lnTo>
                  <a:pt x="35" y="23"/>
                </a:lnTo>
                <a:lnTo>
                  <a:pt x="23" y="8"/>
                </a:lnTo>
                <a:lnTo>
                  <a:pt x="17" y="2"/>
                </a:lnTo>
                <a:lnTo>
                  <a:pt x="13" y="0"/>
                </a:lnTo>
                <a:lnTo>
                  <a:pt x="0"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Freeform 195"/>
          <p:cNvSpPr/>
          <p:nvPr/>
        </p:nvSpPr>
        <p:spPr>
          <a:xfrm>
            <a:off x="3919680" y="4929120"/>
            <a:ext cx="71280" cy="36720"/>
          </a:xfrm>
          <a:custGeom>
            <a:avLst/>
            <a:gdLst>
              <a:gd name="textAreaLeft" fmla="*/ 0 w 71280"/>
              <a:gd name="textAreaRight" fmla="*/ 71640 w 71280"/>
              <a:gd name="textAreaTop" fmla="*/ 0 h 36720"/>
              <a:gd name="textAreaBottom" fmla="*/ 37080 h 36720"/>
            </a:gdLst>
            <a:ahLst/>
            <a:rect l="textAreaLeft" t="textAreaTop" r="textAreaRight" b="textAreaBottom"/>
            <a:pathLst>
              <a:path w="45" h="23">
                <a:moveTo>
                  <a:pt x="0" y="0"/>
                </a:moveTo>
                <a:lnTo>
                  <a:pt x="0" y="8"/>
                </a:lnTo>
                <a:lnTo>
                  <a:pt x="2" y="17"/>
                </a:lnTo>
                <a:lnTo>
                  <a:pt x="8" y="21"/>
                </a:lnTo>
                <a:lnTo>
                  <a:pt x="14" y="23"/>
                </a:lnTo>
                <a:lnTo>
                  <a:pt x="24" y="23"/>
                </a:lnTo>
                <a:lnTo>
                  <a:pt x="41" y="21"/>
                </a:lnTo>
                <a:lnTo>
                  <a:pt x="45" y="19"/>
                </a:lnTo>
                <a:lnTo>
                  <a:pt x="43" y="15"/>
                </a:lnTo>
                <a:lnTo>
                  <a:pt x="39" y="4"/>
                </a:lnTo>
                <a:lnTo>
                  <a:pt x="35" y="2"/>
                </a:lnTo>
                <a:lnTo>
                  <a:pt x="27" y="0"/>
                </a:lnTo>
                <a:lnTo>
                  <a:pt x="0" y="0"/>
                </a:lnTo>
                <a:close/>
              </a:path>
            </a:pathLst>
          </a:custGeom>
          <a:solidFill>
            <a:srgbClr val="ffff0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175" name="Freeform 196"/>
          <p:cNvSpPr/>
          <p:nvPr/>
        </p:nvSpPr>
        <p:spPr>
          <a:xfrm>
            <a:off x="3987720" y="4981680"/>
            <a:ext cx="63720" cy="39600"/>
          </a:xfrm>
          <a:custGeom>
            <a:avLst/>
            <a:gdLst>
              <a:gd name="textAreaLeft" fmla="*/ 0 w 63720"/>
              <a:gd name="textAreaRight" fmla="*/ 64080 w 63720"/>
              <a:gd name="textAreaTop" fmla="*/ 0 h 39600"/>
              <a:gd name="textAreaBottom" fmla="*/ 39960 h 39600"/>
            </a:gdLst>
            <a:ahLst/>
            <a:rect l="textAreaLeft" t="textAreaTop" r="textAreaRight" b="textAreaBottom"/>
            <a:pathLst>
              <a:path w="40" h="25">
                <a:moveTo>
                  <a:pt x="2" y="2"/>
                </a:moveTo>
                <a:lnTo>
                  <a:pt x="0" y="13"/>
                </a:lnTo>
                <a:lnTo>
                  <a:pt x="0" y="23"/>
                </a:lnTo>
                <a:lnTo>
                  <a:pt x="4" y="25"/>
                </a:lnTo>
                <a:lnTo>
                  <a:pt x="9" y="25"/>
                </a:lnTo>
                <a:lnTo>
                  <a:pt x="34" y="23"/>
                </a:lnTo>
                <a:lnTo>
                  <a:pt x="40" y="21"/>
                </a:lnTo>
                <a:lnTo>
                  <a:pt x="40" y="17"/>
                </a:lnTo>
                <a:lnTo>
                  <a:pt x="40" y="2"/>
                </a:lnTo>
                <a:lnTo>
                  <a:pt x="38" y="0"/>
                </a:lnTo>
                <a:lnTo>
                  <a:pt x="30" y="0"/>
                </a:lnTo>
                <a:lnTo>
                  <a:pt x="19" y="0"/>
                </a:lnTo>
                <a:lnTo>
                  <a:pt x="2" y="2"/>
                </a:lnTo>
                <a:close/>
              </a:path>
            </a:pathLst>
          </a:custGeom>
          <a:solidFill>
            <a:srgbClr val="ffff00"/>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76" name="Freeform 197"/>
          <p:cNvSpPr/>
          <p:nvPr/>
        </p:nvSpPr>
        <p:spPr>
          <a:xfrm>
            <a:off x="3990960" y="5187960"/>
            <a:ext cx="50760" cy="58680"/>
          </a:xfrm>
          <a:custGeom>
            <a:avLst/>
            <a:gdLst>
              <a:gd name="textAreaLeft" fmla="*/ 0 w 50760"/>
              <a:gd name="textAreaRight" fmla="*/ 51120 w 50760"/>
              <a:gd name="textAreaTop" fmla="*/ 0 h 58680"/>
              <a:gd name="textAreaBottom" fmla="*/ 59040 h 58680"/>
            </a:gdLst>
            <a:ahLst/>
            <a:rect l="textAreaLeft" t="textAreaTop" r="textAreaRight" b="textAreaBottom"/>
            <a:pathLst>
              <a:path w="32" h="37">
                <a:moveTo>
                  <a:pt x="2" y="2"/>
                </a:moveTo>
                <a:lnTo>
                  <a:pt x="0" y="6"/>
                </a:lnTo>
                <a:lnTo>
                  <a:pt x="0" y="12"/>
                </a:lnTo>
                <a:lnTo>
                  <a:pt x="9" y="29"/>
                </a:lnTo>
                <a:lnTo>
                  <a:pt x="17" y="35"/>
                </a:lnTo>
                <a:lnTo>
                  <a:pt x="25" y="37"/>
                </a:lnTo>
                <a:lnTo>
                  <a:pt x="30" y="35"/>
                </a:lnTo>
                <a:lnTo>
                  <a:pt x="32" y="29"/>
                </a:lnTo>
                <a:lnTo>
                  <a:pt x="30" y="21"/>
                </a:lnTo>
                <a:lnTo>
                  <a:pt x="27" y="12"/>
                </a:lnTo>
                <a:lnTo>
                  <a:pt x="13" y="0"/>
                </a:lnTo>
                <a:lnTo>
                  <a:pt x="2" y="2"/>
                </a:lnTo>
                <a:close/>
              </a:path>
            </a:pathLst>
          </a:custGeom>
          <a:solidFill>
            <a:srgbClr val="ffff00"/>
          </a:solidFill>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77" name="Freeform 198"/>
          <p:cNvSpPr/>
          <p:nvPr/>
        </p:nvSpPr>
        <p:spPr>
          <a:xfrm>
            <a:off x="3770280" y="5137200"/>
            <a:ext cx="55440" cy="93600"/>
          </a:xfrm>
          <a:custGeom>
            <a:avLst/>
            <a:gdLst>
              <a:gd name="textAreaLeft" fmla="*/ 0 w 55440"/>
              <a:gd name="textAreaRight" fmla="*/ 55800 w 55440"/>
              <a:gd name="textAreaTop" fmla="*/ 0 h 93600"/>
              <a:gd name="textAreaBottom" fmla="*/ 93960 h 93600"/>
            </a:gdLst>
            <a:ahLst/>
            <a:rect l="textAreaLeft" t="textAreaTop" r="textAreaRight" b="textAreaBottom"/>
            <a:pathLst>
              <a:path w="35" h="59">
                <a:moveTo>
                  <a:pt x="14" y="3"/>
                </a:moveTo>
                <a:lnTo>
                  <a:pt x="2" y="3"/>
                </a:lnTo>
                <a:lnTo>
                  <a:pt x="0" y="5"/>
                </a:lnTo>
                <a:lnTo>
                  <a:pt x="0" y="11"/>
                </a:lnTo>
                <a:lnTo>
                  <a:pt x="27" y="51"/>
                </a:lnTo>
                <a:lnTo>
                  <a:pt x="33" y="57"/>
                </a:lnTo>
                <a:lnTo>
                  <a:pt x="35" y="59"/>
                </a:lnTo>
                <a:lnTo>
                  <a:pt x="35" y="55"/>
                </a:lnTo>
                <a:lnTo>
                  <a:pt x="31" y="50"/>
                </a:lnTo>
                <a:lnTo>
                  <a:pt x="27" y="40"/>
                </a:lnTo>
                <a:lnTo>
                  <a:pt x="22" y="28"/>
                </a:lnTo>
                <a:lnTo>
                  <a:pt x="14" y="15"/>
                </a:lnTo>
                <a:lnTo>
                  <a:pt x="6" y="0"/>
                </a:lnTo>
                <a:lnTo>
                  <a:pt x="14" y="3"/>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Freeform 199"/>
          <p:cNvSpPr/>
          <p:nvPr/>
        </p:nvSpPr>
        <p:spPr>
          <a:xfrm>
            <a:off x="4100400" y="4978440"/>
            <a:ext cx="50760" cy="100080"/>
          </a:xfrm>
          <a:custGeom>
            <a:avLst/>
            <a:gdLst>
              <a:gd name="textAreaLeft" fmla="*/ 0 w 50760"/>
              <a:gd name="textAreaRight" fmla="*/ 51120 w 50760"/>
              <a:gd name="textAreaTop" fmla="*/ 0 h 100080"/>
              <a:gd name="textAreaBottom" fmla="*/ 100440 h 100080"/>
            </a:gdLst>
            <a:ahLst/>
            <a:rect l="textAreaLeft" t="textAreaTop" r="textAreaRight" b="textAreaBottom"/>
            <a:pathLst>
              <a:path w="32" h="63">
                <a:moveTo>
                  <a:pt x="9" y="0"/>
                </a:moveTo>
                <a:lnTo>
                  <a:pt x="4" y="7"/>
                </a:lnTo>
                <a:lnTo>
                  <a:pt x="0" y="19"/>
                </a:lnTo>
                <a:lnTo>
                  <a:pt x="2" y="38"/>
                </a:lnTo>
                <a:lnTo>
                  <a:pt x="2" y="55"/>
                </a:lnTo>
                <a:lnTo>
                  <a:pt x="4" y="61"/>
                </a:lnTo>
                <a:lnTo>
                  <a:pt x="4" y="63"/>
                </a:lnTo>
                <a:lnTo>
                  <a:pt x="9" y="63"/>
                </a:lnTo>
                <a:lnTo>
                  <a:pt x="27" y="61"/>
                </a:lnTo>
                <a:lnTo>
                  <a:pt x="32" y="59"/>
                </a:lnTo>
                <a:lnTo>
                  <a:pt x="32" y="48"/>
                </a:lnTo>
                <a:lnTo>
                  <a:pt x="31" y="9"/>
                </a:lnTo>
                <a:lnTo>
                  <a:pt x="29" y="2"/>
                </a:lnTo>
                <a:lnTo>
                  <a:pt x="25" y="0"/>
                </a:lnTo>
                <a:lnTo>
                  <a:pt x="9"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9" name="Freeform 200"/>
          <p:cNvSpPr/>
          <p:nvPr/>
        </p:nvSpPr>
        <p:spPr>
          <a:xfrm>
            <a:off x="3975120" y="5062680"/>
            <a:ext cx="46080" cy="37800"/>
          </a:xfrm>
          <a:custGeom>
            <a:avLst/>
            <a:gdLst>
              <a:gd name="textAreaLeft" fmla="*/ 0 w 46080"/>
              <a:gd name="textAreaRight" fmla="*/ 46440 w 46080"/>
              <a:gd name="textAreaTop" fmla="*/ 0 h 37800"/>
              <a:gd name="textAreaBottom" fmla="*/ 38160 h 37800"/>
            </a:gdLst>
            <a:ahLst/>
            <a:rect l="textAreaLeft" t="textAreaTop" r="textAreaRight" b="textAreaBottom"/>
            <a:pathLst>
              <a:path w="29" h="24">
                <a:moveTo>
                  <a:pt x="0" y="0"/>
                </a:moveTo>
                <a:lnTo>
                  <a:pt x="4" y="8"/>
                </a:lnTo>
                <a:lnTo>
                  <a:pt x="8" y="14"/>
                </a:lnTo>
                <a:lnTo>
                  <a:pt x="17" y="22"/>
                </a:lnTo>
                <a:lnTo>
                  <a:pt x="25" y="24"/>
                </a:lnTo>
                <a:lnTo>
                  <a:pt x="29" y="22"/>
                </a:lnTo>
                <a:lnTo>
                  <a:pt x="29" y="14"/>
                </a:lnTo>
                <a:lnTo>
                  <a:pt x="15" y="2"/>
                </a:lnTo>
                <a:lnTo>
                  <a:pt x="0" y="0"/>
                </a:lnTo>
                <a:close/>
              </a:path>
            </a:pathLst>
          </a:custGeom>
          <a:solidFill>
            <a:srgbClr val="ffff0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80" name="Freeform 201"/>
          <p:cNvSpPr/>
          <p:nvPr/>
        </p:nvSpPr>
        <p:spPr>
          <a:xfrm>
            <a:off x="3683160" y="5319720"/>
            <a:ext cx="66600" cy="49320"/>
          </a:xfrm>
          <a:custGeom>
            <a:avLst/>
            <a:gdLst>
              <a:gd name="textAreaLeft" fmla="*/ 0 w 66600"/>
              <a:gd name="textAreaRight" fmla="*/ 66960 w 66600"/>
              <a:gd name="textAreaTop" fmla="*/ 0 h 49320"/>
              <a:gd name="textAreaBottom" fmla="*/ 49680 h 49320"/>
            </a:gdLst>
            <a:ahLst/>
            <a:rect l="textAreaLeft" t="textAreaTop" r="textAreaRight" b="textAreaBottom"/>
            <a:pathLst>
              <a:path w="42" h="31">
                <a:moveTo>
                  <a:pt x="7" y="0"/>
                </a:moveTo>
                <a:lnTo>
                  <a:pt x="4" y="2"/>
                </a:lnTo>
                <a:lnTo>
                  <a:pt x="0" y="6"/>
                </a:lnTo>
                <a:lnTo>
                  <a:pt x="0" y="15"/>
                </a:lnTo>
                <a:lnTo>
                  <a:pt x="4" y="23"/>
                </a:lnTo>
                <a:lnTo>
                  <a:pt x="11" y="27"/>
                </a:lnTo>
                <a:lnTo>
                  <a:pt x="19" y="29"/>
                </a:lnTo>
                <a:lnTo>
                  <a:pt x="30" y="31"/>
                </a:lnTo>
                <a:lnTo>
                  <a:pt x="38" y="25"/>
                </a:lnTo>
                <a:lnTo>
                  <a:pt x="42" y="17"/>
                </a:lnTo>
                <a:lnTo>
                  <a:pt x="38" y="7"/>
                </a:lnTo>
                <a:lnTo>
                  <a:pt x="30" y="4"/>
                </a:lnTo>
                <a:lnTo>
                  <a:pt x="19" y="4"/>
                </a:lnTo>
                <a:lnTo>
                  <a:pt x="0" y="4"/>
                </a:lnTo>
                <a:lnTo>
                  <a:pt x="7" y="0"/>
                </a:lnTo>
                <a:close/>
              </a:path>
            </a:pathLst>
          </a:custGeom>
          <a:solidFill>
            <a:srgbClr val="ffff0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181" name="Freeform 202"/>
          <p:cNvSpPr/>
          <p:nvPr/>
        </p:nvSpPr>
        <p:spPr>
          <a:xfrm>
            <a:off x="3673440" y="5386320"/>
            <a:ext cx="109440" cy="23760"/>
          </a:xfrm>
          <a:custGeom>
            <a:avLst/>
            <a:gdLst>
              <a:gd name="textAreaLeft" fmla="*/ 0 w 109440"/>
              <a:gd name="textAreaRight" fmla="*/ 109800 w 109440"/>
              <a:gd name="textAreaTop" fmla="*/ 0 h 23760"/>
              <a:gd name="textAreaBottom" fmla="*/ 24120 h 23760"/>
            </a:gdLst>
            <a:ahLst/>
            <a:rect l="textAreaLeft" t="textAreaTop" r="textAreaRight" b="textAreaBottom"/>
            <a:pathLst>
              <a:path w="69" h="15">
                <a:moveTo>
                  <a:pt x="0" y="0"/>
                </a:moveTo>
                <a:lnTo>
                  <a:pt x="0" y="10"/>
                </a:lnTo>
                <a:lnTo>
                  <a:pt x="2" y="13"/>
                </a:lnTo>
                <a:lnTo>
                  <a:pt x="13" y="13"/>
                </a:lnTo>
                <a:lnTo>
                  <a:pt x="36" y="15"/>
                </a:lnTo>
                <a:lnTo>
                  <a:pt x="58" y="15"/>
                </a:lnTo>
                <a:lnTo>
                  <a:pt x="67" y="15"/>
                </a:lnTo>
                <a:lnTo>
                  <a:pt x="69" y="13"/>
                </a:lnTo>
                <a:lnTo>
                  <a:pt x="69" y="10"/>
                </a:lnTo>
                <a:lnTo>
                  <a:pt x="65" y="6"/>
                </a:lnTo>
                <a:lnTo>
                  <a:pt x="58" y="4"/>
                </a:lnTo>
                <a:lnTo>
                  <a:pt x="46" y="2"/>
                </a:lnTo>
                <a:lnTo>
                  <a:pt x="33" y="2"/>
                </a:lnTo>
                <a:lnTo>
                  <a:pt x="0" y="0"/>
                </a:lnTo>
                <a:close/>
              </a:path>
            </a:pathLst>
          </a:custGeom>
          <a:solidFill>
            <a:srgbClr val="ffff00"/>
          </a:solid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82" name="Freeform 203"/>
          <p:cNvSpPr/>
          <p:nvPr/>
        </p:nvSpPr>
        <p:spPr>
          <a:xfrm>
            <a:off x="3727440" y="5243400"/>
            <a:ext cx="58680" cy="33480"/>
          </a:xfrm>
          <a:custGeom>
            <a:avLst/>
            <a:gdLst>
              <a:gd name="textAreaLeft" fmla="*/ 0 w 58680"/>
              <a:gd name="textAreaRight" fmla="*/ 59040 w 58680"/>
              <a:gd name="textAreaTop" fmla="*/ 0 h 33480"/>
              <a:gd name="textAreaBottom" fmla="*/ 33840 h 33480"/>
            </a:gdLst>
            <a:ahLst/>
            <a:rect l="textAreaLeft" t="textAreaTop" r="textAreaRight" b="textAreaBottom"/>
            <a:pathLst>
              <a:path w="37" h="21">
                <a:moveTo>
                  <a:pt x="18" y="0"/>
                </a:moveTo>
                <a:lnTo>
                  <a:pt x="8" y="4"/>
                </a:lnTo>
                <a:lnTo>
                  <a:pt x="0" y="7"/>
                </a:lnTo>
                <a:lnTo>
                  <a:pt x="0" y="13"/>
                </a:lnTo>
                <a:lnTo>
                  <a:pt x="6" y="17"/>
                </a:lnTo>
                <a:lnTo>
                  <a:pt x="18" y="21"/>
                </a:lnTo>
                <a:lnTo>
                  <a:pt x="29" y="19"/>
                </a:lnTo>
                <a:lnTo>
                  <a:pt x="37" y="13"/>
                </a:lnTo>
                <a:lnTo>
                  <a:pt x="35" y="7"/>
                </a:lnTo>
                <a:lnTo>
                  <a:pt x="29" y="4"/>
                </a:lnTo>
                <a:lnTo>
                  <a:pt x="18" y="0"/>
                </a:lnTo>
                <a:close/>
              </a:path>
            </a:pathLst>
          </a:custGeom>
          <a:solidFill>
            <a:srgbClr val="ffff00"/>
          </a:solidFill>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183" name="Freeform 204"/>
          <p:cNvSpPr/>
          <p:nvPr/>
        </p:nvSpPr>
        <p:spPr>
          <a:xfrm>
            <a:off x="3838680" y="5359320"/>
            <a:ext cx="17280" cy="30240"/>
          </a:xfrm>
          <a:custGeom>
            <a:avLst/>
            <a:gdLst>
              <a:gd name="textAreaLeft" fmla="*/ 0 w 17280"/>
              <a:gd name="textAreaRight" fmla="*/ 17280 w 17280"/>
              <a:gd name="textAreaTop" fmla="*/ 0 h 30240"/>
              <a:gd name="textAreaBottom" fmla="*/ 30600 h 30240"/>
            </a:gdLst>
            <a:ahLst/>
            <a:rect l="textAreaLeft" t="textAreaTop" r="textAreaRight" b="textAreaBottom"/>
            <a:pathLst>
              <a:path w="11" h="19">
                <a:moveTo>
                  <a:pt x="11" y="0"/>
                </a:moveTo>
                <a:lnTo>
                  <a:pt x="3" y="7"/>
                </a:lnTo>
                <a:lnTo>
                  <a:pt x="0" y="15"/>
                </a:lnTo>
                <a:lnTo>
                  <a:pt x="3" y="19"/>
                </a:lnTo>
                <a:lnTo>
                  <a:pt x="7" y="19"/>
                </a:lnTo>
                <a:lnTo>
                  <a:pt x="11" y="15"/>
                </a:lnTo>
                <a:lnTo>
                  <a:pt x="11" y="7"/>
                </a:lnTo>
                <a:lnTo>
                  <a:pt x="11" y="0"/>
                </a:lnTo>
                <a:close/>
              </a:path>
            </a:pathLst>
          </a:custGeom>
          <a:solidFill>
            <a:srgbClr val="ffff00"/>
          </a:solidFill>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184" name="Freeform 205"/>
          <p:cNvSpPr/>
          <p:nvPr/>
        </p:nvSpPr>
        <p:spPr>
          <a:xfrm>
            <a:off x="3849840" y="5145120"/>
            <a:ext cx="125280" cy="39600"/>
          </a:xfrm>
          <a:custGeom>
            <a:avLst/>
            <a:gdLst>
              <a:gd name="textAreaLeft" fmla="*/ 0 w 125280"/>
              <a:gd name="textAreaRight" fmla="*/ 125280 w 125280"/>
              <a:gd name="textAreaTop" fmla="*/ 0 h 39600"/>
              <a:gd name="textAreaBottom" fmla="*/ 39960 h 39600"/>
            </a:gdLst>
            <a:ahLst/>
            <a:rect l="textAreaLeft" t="textAreaTop" r="textAreaRight" b="textAreaBottom"/>
            <a:pathLst>
              <a:path w="79" h="25">
                <a:moveTo>
                  <a:pt x="6" y="4"/>
                </a:moveTo>
                <a:lnTo>
                  <a:pt x="46" y="0"/>
                </a:lnTo>
                <a:lnTo>
                  <a:pt x="75" y="0"/>
                </a:lnTo>
                <a:lnTo>
                  <a:pt x="79" y="4"/>
                </a:lnTo>
                <a:lnTo>
                  <a:pt x="77" y="6"/>
                </a:lnTo>
                <a:lnTo>
                  <a:pt x="73" y="8"/>
                </a:lnTo>
                <a:lnTo>
                  <a:pt x="44" y="21"/>
                </a:lnTo>
                <a:lnTo>
                  <a:pt x="31" y="25"/>
                </a:lnTo>
                <a:lnTo>
                  <a:pt x="21" y="23"/>
                </a:lnTo>
                <a:lnTo>
                  <a:pt x="14" y="20"/>
                </a:lnTo>
                <a:lnTo>
                  <a:pt x="6" y="20"/>
                </a:lnTo>
                <a:lnTo>
                  <a:pt x="0" y="16"/>
                </a:lnTo>
                <a:lnTo>
                  <a:pt x="0" y="10"/>
                </a:lnTo>
                <a:lnTo>
                  <a:pt x="6" y="4"/>
                </a:lnTo>
                <a:close/>
              </a:path>
            </a:pathLst>
          </a:custGeom>
          <a:solidFill>
            <a:srgbClr val="ffff00"/>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85" name="Freeform 206"/>
          <p:cNvSpPr/>
          <p:nvPr/>
        </p:nvSpPr>
        <p:spPr>
          <a:xfrm>
            <a:off x="3792600" y="5283360"/>
            <a:ext cx="50760" cy="72720"/>
          </a:xfrm>
          <a:custGeom>
            <a:avLst/>
            <a:gdLst>
              <a:gd name="textAreaLeft" fmla="*/ 0 w 50760"/>
              <a:gd name="textAreaRight" fmla="*/ 51120 w 50760"/>
              <a:gd name="textAreaTop" fmla="*/ 0 h 72720"/>
              <a:gd name="textAreaBottom" fmla="*/ 72720 h 72720"/>
            </a:gdLst>
            <a:ahLst/>
            <a:rect l="textAreaLeft" t="textAreaTop" r="textAreaRight" b="textAreaBottom"/>
            <a:pathLst>
              <a:path w="32" h="46">
                <a:moveTo>
                  <a:pt x="9" y="0"/>
                </a:moveTo>
                <a:lnTo>
                  <a:pt x="21" y="0"/>
                </a:lnTo>
                <a:lnTo>
                  <a:pt x="29" y="2"/>
                </a:lnTo>
                <a:lnTo>
                  <a:pt x="32" y="6"/>
                </a:lnTo>
                <a:lnTo>
                  <a:pt x="32" y="11"/>
                </a:lnTo>
                <a:lnTo>
                  <a:pt x="32" y="19"/>
                </a:lnTo>
                <a:lnTo>
                  <a:pt x="27" y="27"/>
                </a:lnTo>
                <a:lnTo>
                  <a:pt x="9" y="42"/>
                </a:lnTo>
                <a:lnTo>
                  <a:pt x="6" y="46"/>
                </a:lnTo>
                <a:lnTo>
                  <a:pt x="2" y="42"/>
                </a:lnTo>
                <a:lnTo>
                  <a:pt x="0" y="34"/>
                </a:lnTo>
                <a:lnTo>
                  <a:pt x="2" y="25"/>
                </a:lnTo>
                <a:lnTo>
                  <a:pt x="15" y="2"/>
                </a:lnTo>
                <a:lnTo>
                  <a:pt x="9" y="0"/>
                </a:lnTo>
                <a:close/>
              </a:path>
            </a:pathLst>
          </a:custGeom>
          <a:solidFill>
            <a:srgbClr val="ffff00"/>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86" name="Freeform 207"/>
          <p:cNvSpPr/>
          <p:nvPr/>
        </p:nvSpPr>
        <p:spPr>
          <a:xfrm>
            <a:off x="3855960" y="5216400"/>
            <a:ext cx="66600" cy="54000"/>
          </a:xfrm>
          <a:custGeom>
            <a:avLst/>
            <a:gdLst>
              <a:gd name="textAreaLeft" fmla="*/ 0 w 66600"/>
              <a:gd name="textAreaRight" fmla="*/ 66960 w 66600"/>
              <a:gd name="textAreaTop" fmla="*/ 0 h 54000"/>
              <a:gd name="textAreaBottom" fmla="*/ 54360 h 54000"/>
            </a:gdLst>
            <a:ahLst/>
            <a:rect l="textAreaLeft" t="textAreaTop" r="textAreaRight" b="textAreaBottom"/>
            <a:pathLst>
              <a:path w="42" h="34">
                <a:moveTo>
                  <a:pt x="0" y="0"/>
                </a:moveTo>
                <a:lnTo>
                  <a:pt x="0" y="7"/>
                </a:lnTo>
                <a:lnTo>
                  <a:pt x="2" y="17"/>
                </a:lnTo>
                <a:lnTo>
                  <a:pt x="6" y="24"/>
                </a:lnTo>
                <a:lnTo>
                  <a:pt x="10" y="30"/>
                </a:lnTo>
                <a:lnTo>
                  <a:pt x="14" y="34"/>
                </a:lnTo>
                <a:lnTo>
                  <a:pt x="17" y="32"/>
                </a:lnTo>
                <a:lnTo>
                  <a:pt x="35" y="30"/>
                </a:lnTo>
                <a:lnTo>
                  <a:pt x="40" y="26"/>
                </a:lnTo>
                <a:lnTo>
                  <a:pt x="40" y="21"/>
                </a:lnTo>
                <a:lnTo>
                  <a:pt x="42" y="11"/>
                </a:lnTo>
                <a:lnTo>
                  <a:pt x="40" y="3"/>
                </a:lnTo>
                <a:lnTo>
                  <a:pt x="39" y="0"/>
                </a:lnTo>
                <a:lnTo>
                  <a:pt x="31" y="0"/>
                </a:lnTo>
                <a:lnTo>
                  <a:pt x="0" y="0"/>
                </a:lnTo>
                <a:close/>
              </a:path>
            </a:pathLst>
          </a:custGeom>
          <a:solidFill>
            <a:srgbClr val="ffff00"/>
          </a:solidFill>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87" name="Freeform 208"/>
          <p:cNvSpPr/>
          <p:nvPr/>
        </p:nvSpPr>
        <p:spPr>
          <a:xfrm>
            <a:off x="3886200" y="5326200"/>
            <a:ext cx="25560" cy="17280"/>
          </a:xfrm>
          <a:custGeom>
            <a:avLst/>
            <a:gdLst>
              <a:gd name="textAreaLeft" fmla="*/ 0 w 25560"/>
              <a:gd name="textAreaRight" fmla="*/ 25920 w 25560"/>
              <a:gd name="textAreaTop" fmla="*/ 0 h 17280"/>
              <a:gd name="textAreaBottom" fmla="*/ 17280 h 17280"/>
            </a:gdLst>
            <a:ahLst/>
            <a:rect l="textAreaLeft" t="textAreaTop" r="textAreaRight" b="textAreaBottom"/>
            <a:pathLst>
              <a:path w="16" h="11">
                <a:moveTo>
                  <a:pt x="2" y="0"/>
                </a:moveTo>
                <a:lnTo>
                  <a:pt x="0" y="5"/>
                </a:lnTo>
                <a:lnTo>
                  <a:pt x="6" y="9"/>
                </a:lnTo>
                <a:lnTo>
                  <a:pt x="12" y="11"/>
                </a:lnTo>
                <a:lnTo>
                  <a:pt x="16" y="9"/>
                </a:lnTo>
                <a:lnTo>
                  <a:pt x="16" y="5"/>
                </a:lnTo>
                <a:lnTo>
                  <a:pt x="2" y="0"/>
                </a:lnTo>
                <a:close/>
              </a:path>
            </a:pathLst>
          </a:custGeom>
          <a:solidFill>
            <a:srgbClr val="ffff00"/>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88" name="Freeform 209"/>
          <p:cNvSpPr/>
          <p:nvPr/>
        </p:nvSpPr>
        <p:spPr>
          <a:xfrm>
            <a:off x="4073400" y="4938840"/>
            <a:ext cx="66960" cy="23760"/>
          </a:xfrm>
          <a:custGeom>
            <a:avLst/>
            <a:gdLst>
              <a:gd name="textAreaLeft" fmla="*/ 0 w 66960"/>
              <a:gd name="textAreaRight" fmla="*/ 67320 w 66960"/>
              <a:gd name="textAreaTop" fmla="*/ 0 h 23760"/>
              <a:gd name="textAreaBottom" fmla="*/ 24120 h 23760"/>
            </a:gdLst>
            <a:ahLst/>
            <a:rect l="textAreaLeft" t="textAreaTop" r="textAreaRight" b="textAreaBottom"/>
            <a:pathLst>
              <a:path w="42" h="15">
                <a:moveTo>
                  <a:pt x="0" y="0"/>
                </a:moveTo>
                <a:lnTo>
                  <a:pt x="0" y="4"/>
                </a:lnTo>
                <a:lnTo>
                  <a:pt x="5" y="6"/>
                </a:lnTo>
                <a:lnTo>
                  <a:pt x="34" y="13"/>
                </a:lnTo>
                <a:lnTo>
                  <a:pt x="42" y="15"/>
                </a:lnTo>
                <a:lnTo>
                  <a:pt x="42" y="13"/>
                </a:lnTo>
                <a:lnTo>
                  <a:pt x="38" y="11"/>
                </a:lnTo>
                <a:lnTo>
                  <a:pt x="32" y="9"/>
                </a:lnTo>
                <a:lnTo>
                  <a:pt x="23" y="6"/>
                </a:lnTo>
                <a:lnTo>
                  <a:pt x="0" y="0"/>
                </a:lnTo>
                <a:close/>
              </a:path>
            </a:pathLst>
          </a:custGeom>
          <a:solidFill>
            <a:srgbClr val="ffff00"/>
          </a:solid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89" name="Oval 210"/>
          <p:cNvSpPr/>
          <p:nvPr/>
        </p:nvSpPr>
        <p:spPr>
          <a:xfrm>
            <a:off x="1643040" y="2252520"/>
            <a:ext cx="795240" cy="328680"/>
          </a:xfrm>
          <a:prstGeom prst="ellipse">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0" name="Freeform 211"/>
          <p:cNvSpPr/>
          <p:nvPr/>
        </p:nvSpPr>
        <p:spPr>
          <a:xfrm>
            <a:off x="1639800" y="2249640"/>
            <a:ext cx="798480" cy="331560"/>
          </a:xfrm>
          <a:custGeom>
            <a:avLst/>
            <a:gdLst>
              <a:gd name="textAreaLeft" fmla="*/ 0 w 798480"/>
              <a:gd name="textAreaRight" fmla="*/ 798840 w 798480"/>
              <a:gd name="textAreaTop" fmla="*/ 0 h 331560"/>
              <a:gd name="textAreaBottom" fmla="*/ 331920 h 331560"/>
            </a:gdLst>
            <a:ahLst/>
            <a:rect l="textAreaLeft" t="textAreaTop" r="textAreaRight" b="textAreaBottom"/>
            <a:pathLst>
              <a:path w="503" h="209">
                <a:moveTo>
                  <a:pt x="0" y="104"/>
                </a:moveTo>
                <a:lnTo>
                  <a:pt x="0" y="113"/>
                </a:lnTo>
                <a:lnTo>
                  <a:pt x="4" y="125"/>
                </a:lnTo>
                <a:lnTo>
                  <a:pt x="8" y="129"/>
                </a:lnTo>
                <a:lnTo>
                  <a:pt x="9" y="136"/>
                </a:lnTo>
                <a:lnTo>
                  <a:pt x="23" y="150"/>
                </a:lnTo>
                <a:lnTo>
                  <a:pt x="29" y="154"/>
                </a:lnTo>
                <a:lnTo>
                  <a:pt x="34" y="159"/>
                </a:lnTo>
                <a:lnTo>
                  <a:pt x="42" y="163"/>
                </a:lnTo>
                <a:lnTo>
                  <a:pt x="48" y="167"/>
                </a:lnTo>
                <a:lnTo>
                  <a:pt x="65" y="175"/>
                </a:lnTo>
                <a:lnTo>
                  <a:pt x="75" y="179"/>
                </a:lnTo>
                <a:lnTo>
                  <a:pt x="82" y="182"/>
                </a:lnTo>
                <a:lnTo>
                  <a:pt x="92" y="184"/>
                </a:lnTo>
                <a:lnTo>
                  <a:pt x="102" y="188"/>
                </a:lnTo>
                <a:lnTo>
                  <a:pt x="111" y="190"/>
                </a:lnTo>
                <a:lnTo>
                  <a:pt x="121" y="194"/>
                </a:lnTo>
                <a:lnTo>
                  <a:pt x="130" y="196"/>
                </a:lnTo>
                <a:lnTo>
                  <a:pt x="188" y="205"/>
                </a:lnTo>
                <a:lnTo>
                  <a:pt x="200" y="205"/>
                </a:lnTo>
                <a:lnTo>
                  <a:pt x="213" y="207"/>
                </a:lnTo>
                <a:lnTo>
                  <a:pt x="238" y="207"/>
                </a:lnTo>
                <a:lnTo>
                  <a:pt x="251" y="209"/>
                </a:lnTo>
                <a:lnTo>
                  <a:pt x="263" y="207"/>
                </a:lnTo>
                <a:lnTo>
                  <a:pt x="288" y="207"/>
                </a:lnTo>
                <a:lnTo>
                  <a:pt x="301" y="205"/>
                </a:lnTo>
                <a:lnTo>
                  <a:pt x="313" y="205"/>
                </a:lnTo>
                <a:lnTo>
                  <a:pt x="371" y="196"/>
                </a:lnTo>
                <a:lnTo>
                  <a:pt x="380" y="194"/>
                </a:lnTo>
                <a:lnTo>
                  <a:pt x="390" y="190"/>
                </a:lnTo>
                <a:lnTo>
                  <a:pt x="399" y="188"/>
                </a:lnTo>
                <a:lnTo>
                  <a:pt x="409" y="184"/>
                </a:lnTo>
                <a:lnTo>
                  <a:pt x="419" y="182"/>
                </a:lnTo>
                <a:lnTo>
                  <a:pt x="428" y="179"/>
                </a:lnTo>
                <a:lnTo>
                  <a:pt x="453" y="167"/>
                </a:lnTo>
                <a:lnTo>
                  <a:pt x="459" y="163"/>
                </a:lnTo>
                <a:lnTo>
                  <a:pt x="467" y="159"/>
                </a:lnTo>
                <a:lnTo>
                  <a:pt x="472" y="154"/>
                </a:lnTo>
                <a:lnTo>
                  <a:pt x="478" y="150"/>
                </a:lnTo>
                <a:lnTo>
                  <a:pt x="492" y="136"/>
                </a:lnTo>
                <a:lnTo>
                  <a:pt x="493" y="129"/>
                </a:lnTo>
                <a:lnTo>
                  <a:pt x="497" y="125"/>
                </a:lnTo>
                <a:lnTo>
                  <a:pt x="501" y="113"/>
                </a:lnTo>
                <a:lnTo>
                  <a:pt x="501" y="107"/>
                </a:lnTo>
                <a:lnTo>
                  <a:pt x="503" y="104"/>
                </a:lnTo>
                <a:lnTo>
                  <a:pt x="501" y="98"/>
                </a:lnTo>
                <a:lnTo>
                  <a:pt x="501" y="92"/>
                </a:lnTo>
                <a:lnTo>
                  <a:pt x="497" y="81"/>
                </a:lnTo>
                <a:lnTo>
                  <a:pt x="493" y="75"/>
                </a:lnTo>
                <a:lnTo>
                  <a:pt x="492" y="71"/>
                </a:lnTo>
                <a:lnTo>
                  <a:pt x="488" y="65"/>
                </a:lnTo>
                <a:lnTo>
                  <a:pt x="482" y="61"/>
                </a:lnTo>
                <a:lnTo>
                  <a:pt x="472" y="52"/>
                </a:lnTo>
                <a:lnTo>
                  <a:pt x="467" y="48"/>
                </a:lnTo>
                <a:lnTo>
                  <a:pt x="459" y="44"/>
                </a:lnTo>
                <a:lnTo>
                  <a:pt x="453" y="40"/>
                </a:lnTo>
                <a:lnTo>
                  <a:pt x="428" y="29"/>
                </a:lnTo>
                <a:lnTo>
                  <a:pt x="419" y="25"/>
                </a:lnTo>
                <a:lnTo>
                  <a:pt x="409" y="23"/>
                </a:lnTo>
                <a:lnTo>
                  <a:pt x="399" y="19"/>
                </a:lnTo>
                <a:lnTo>
                  <a:pt x="390" y="17"/>
                </a:lnTo>
                <a:lnTo>
                  <a:pt x="380" y="13"/>
                </a:lnTo>
                <a:lnTo>
                  <a:pt x="371" y="11"/>
                </a:lnTo>
                <a:lnTo>
                  <a:pt x="313" y="2"/>
                </a:lnTo>
                <a:lnTo>
                  <a:pt x="301" y="2"/>
                </a:lnTo>
                <a:lnTo>
                  <a:pt x="288" y="0"/>
                </a:lnTo>
                <a:lnTo>
                  <a:pt x="213" y="0"/>
                </a:lnTo>
                <a:lnTo>
                  <a:pt x="200" y="2"/>
                </a:lnTo>
                <a:lnTo>
                  <a:pt x="188" y="2"/>
                </a:lnTo>
                <a:lnTo>
                  <a:pt x="130" y="11"/>
                </a:lnTo>
                <a:lnTo>
                  <a:pt x="121" y="13"/>
                </a:lnTo>
                <a:lnTo>
                  <a:pt x="111" y="17"/>
                </a:lnTo>
                <a:lnTo>
                  <a:pt x="102" y="19"/>
                </a:lnTo>
                <a:lnTo>
                  <a:pt x="92" y="23"/>
                </a:lnTo>
                <a:lnTo>
                  <a:pt x="82" y="25"/>
                </a:lnTo>
                <a:lnTo>
                  <a:pt x="75" y="29"/>
                </a:lnTo>
                <a:lnTo>
                  <a:pt x="65" y="33"/>
                </a:lnTo>
                <a:lnTo>
                  <a:pt x="48" y="40"/>
                </a:lnTo>
                <a:lnTo>
                  <a:pt x="42" y="44"/>
                </a:lnTo>
                <a:lnTo>
                  <a:pt x="34" y="48"/>
                </a:lnTo>
                <a:lnTo>
                  <a:pt x="29" y="52"/>
                </a:lnTo>
                <a:lnTo>
                  <a:pt x="19" y="61"/>
                </a:lnTo>
                <a:lnTo>
                  <a:pt x="13" y="65"/>
                </a:lnTo>
                <a:lnTo>
                  <a:pt x="9" y="71"/>
                </a:lnTo>
                <a:lnTo>
                  <a:pt x="8" y="75"/>
                </a:lnTo>
                <a:lnTo>
                  <a:pt x="4" y="81"/>
                </a:lnTo>
                <a:lnTo>
                  <a:pt x="0" y="92"/>
                </a:lnTo>
                <a:lnTo>
                  <a:pt x="0" y="104"/>
                </a:lnTo>
                <a:lnTo>
                  <a:pt x="4" y="104"/>
                </a:lnTo>
                <a:lnTo>
                  <a:pt x="4" y="92"/>
                </a:lnTo>
                <a:lnTo>
                  <a:pt x="6" y="86"/>
                </a:lnTo>
                <a:lnTo>
                  <a:pt x="8" y="84"/>
                </a:lnTo>
                <a:lnTo>
                  <a:pt x="11" y="79"/>
                </a:lnTo>
                <a:lnTo>
                  <a:pt x="13" y="75"/>
                </a:lnTo>
                <a:lnTo>
                  <a:pt x="17" y="69"/>
                </a:lnTo>
                <a:lnTo>
                  <a:pt x="23" y="65"/>
                </a:lnTo>
                <a:lnTo>
                  <a:pt x="33" y="56"/>
                </a:lnTo>
                <a:lnTo>
                  <a:pt x="38" y="52"/>
                </a:lnTo>
                <a:lnTo>
                  <a:pt x="46" y="48"/>
                </a:lnTo>
                <a:lnTo>
                  <a:pt x="52" y="44"/>
                </a:lnTo>
                <a:lnTo>
                  <a:pt x="65" y="36"/>
                </a:lnTo>
                <a:lnTo>
                  <a:pt x="75" y="33"/>
                </a:lnTo>
                <a:lnTo>
                  <a:pt x="82" y="29"/>
                </a:lnTo>
                <a:lnTo>
                  <a:pt x="92" y="27"/>
                </a:lnTo>
                <a:lnTo>
                  <a:pt x="102" y="23"/>
                </a:lnTo>
                <a:lnTo>
                  <a:pt x="111" y="21"/>
                </a:lnTo>
                <a:lnTo>
                  <a:pt x="121" y="17"/>
                </a:lnTo>
                <a:lnTo>
                  <a:pt x="130" y="15"/>
                </a:lnTo>
                <a:lnTo>
                  <a:pt x="188" y="6"/>
                </a:lnTo>
                <a:lnTo>
                  <a:pt x="200" y="6"/>
                </a:lnTo>
                <a:lnTo>
                  <a:pt x="213" y="4"/>
                </a:lnTo>
                <a:lnTo>
                  <a:pt x="251" y="4"/>
                </a:lnTo>
                <a:lnTo>
                  <a:pt x="288" y="4"/>
                </a:lnTo>
                <a:lnTo>
                  <a:pt x="301" y="6"/>
                </a:lnTo>
                <a:lnTo>
                  <a:pt x="313" y="6"/>
                </a:lnTo>
                <a:lnTo>
                  <a:pt x="371" y="15"/>
                </a:lnTo>
                <a:lnTo>
                  <a:pt x="380" y="17"/>
                </a:lnTo>
                <a:lnTo>
                  <a:pt x="390" y="21"/>
                </a:lnTo>
                <a:lnTo>
                  <a:pt x="399" y="23"/>
                </a:lnTo>
                <a:lnTo>
                  <a:pt x="409" y="27"/>
                </a:lnTo>
                <a:lnTo>
                  <a:pt x="419" y="29"/>
                </a:lnTo>
                <a:lnTo>
                  <a:pt x="428" y="33"/>
                </a:lnTo>
                <a:lnTo>
                  <a:pt x="449" y="44"/>
                </a:lnTo>
                <a:lnTo>
                  <a:pt x="455" y="48"/>
                </a:lnTo>
                <a:lnTo>
                  <a:pt x="463" y="52"/>
                </a:lnTo>
                <a:lnTo>
                  <a:pt x="469" y="56"/>
                </a:lnTo>
                <a:lnTo>
                  <a:pt x="478" y="65"/>
                </a:lnTo>
                <a:lnTo>
                  <a:pt x="484" y="69"/>
                </a:lnTo>
                <a:lnTo>
                  <a:pt x="488" y="75"/>
                </a:lnTo>
                <a:lnTo>
                  <a:pt x="490" y="79"/>
                </a:lnTo>
                <a:lnTo>
                  <a:pt x="493" y="84"/>
                </a:lnTo>
                <a:lnTo>
                  <a:pt x="495" y="86"/>
                </a:lnTo>
                <a:lnTo>
                  <a:pt x="497" y="92"/>
                </a:lnTo>
                <a:lnTo>
                  <a:pt x="497" y="98"/>
                </a:lnTo>
                <a:lnTo>
                  <a:pt x="499" y="104"/>
                </a:lnTo>
                <a:lnTo>
                  <a:pt x="497" y="107"/>
                </a:lnTo>
                <a:lnTo>
                  <a:pt x="497" y="113"/>
                </a:lnTo>
                <a:lnTo>
                  <a:pt x="495" y="119"/>
                </a:lnTo>
                <a:lnTo>
                  <a:pt x="493" y="121"/>
                </a:lnTo>
                <a:lnTo>
                  <a:pt x="490" y="129"/>
                </a:lnTo>
                <a:lnTo>
                  <a:pt x="488" y="132"/>
                </a:lnTo>
                <a:lnTo>
                  <a:pt x="474" y="146"/>
                </a:lnTo>
                <a:lnTo>
                  <a:pt x="469" y="150"/>
                </a:lnTo>
                <a:lnTo>
                  <a:pt x="463" y="155"/>
                </a:lnTo>
                <a:lnTo>
                  <a:pt x="455" y="159"/>
                </a:lnTo>
                <a:lnTo>
                  <a:pt x="449" y="163"/>
                </a:lnTo>
                <a:lnTo>
                  <a:pt x="428" y="175"/>
                </a:lnTo>
                <a:lnTo>
                  <a:pt x="419" y="179"/>
                </a:lnTo>
                <a:lnTo>
                  <a:pt x="409" y="180"/>
                </a:lnTo>
                <a:lnTo>
                  <a:pt x="399" y="184"/>
                </a:lnTo>
                <a:lnTo>
                  <a:pt x="390" y="186"/>
                </a:lnTo>
                <a:lnTo>
                  <a:pt x="380" y="190"/>
                </a:lnTo>
                <a:lnTo>
                  <a:pt x="371" y="192"/>
                </a:lnTo>
                <a:lnTo>
                  <a:pt x="313" y="202"/>
                </a:lnTo>
                <a:lnTo>
                  <a:pt x="301" y="202"/>
                </a:lnTo>
                <a:lnTo>
                  <a:pt x="288" y="203"/>
                </a:lnTo>
                <a:lnTo>
                  <a:pt x="263" y="203"/>
                </a:lnTo>
                <a:lnTo>
                  <a:pt x="251" y="205"/>
                </a:lnTo>
                <a:lnTo>
                  <a:pt x="238" y="203"/>
                </a:lnTo>
                <a:lnTo>
                  <a:pt x="213" y="203"/>
                </a:lnTo>
                <a:lnTo>
                  <a:pt x="200" y="202"/>
                </a:lnTo>
                <a:lnTo>
                  <a:pt x="188" y="202"/>
                </a:lnTo>
                <a:lnTo>
                  <a:pt x="130" y="192"/>
                </a:lnTo>
                <a:lnTo>
                  <a:pt x="121" y="190"/>
                </a:lnTo>
                <a:lnTo>
                  <a:pt x="111" y="186"/>
                </a:lnTo>
                <a:lnTo>
                  <a:pt x="102" y="184"/>
                </a:lnTo>
                <a:lnTo>
                  <a:pt x="92" y="180"/>
                </a:lnTo>
                <a:lnTo>
                  <a:pt x="82" y="179"/>
                </a:lnTo>
                <a:lnTo>
                  <a:pt x="75" y="175"/>
                </a:lnTo>
                <a:lnTo>
                  <a:pt x="65" y="171"/>
                </a:lnTo>
                <a:lnTo>
                  <a:pt x="52" y="163"/>
                </a:lnTo>
                <a:lnTo>
                  <a:pt x="46" y="159"/>
                </a:lnTo>
                <a:lnTo>
                  <a:pt x="38" y="155"/>
                </a:lnTo>
                <a:lnTo>
                  <a:pt x="33" y="150"/>
                </a:lnTo>
                <a:lnTo>
                  <a:pt x="27" y="146"/>
                </a:lnTo>
                <a:lnTo>
                  <a:pt x="13" y="132"/>
                </a:lnTo>
                <a:lnTo>
                  <a:pt x="11" y="129"/>
                </a:lnTo>
                <a:lnTo>
                  <a:pt x="8" y="121"/>
                </a:lnTo>
                <a:lnTo>
                  <a:pt x="6" y="119"/>
                </a:lnTo>
                <a:lnTo>
                  <a:pt x="4" y="113"/>
                </a:lnTo>
                <a:lnTo>
                  <a:pt x="4" y="104"/>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Oval 212"/>
          <p:cNvSpPr/>
          <p:nvPr/>
        </p:nvSpPr>
        <p:spPr>
          <a:xfrm>
            <a:off x="3005280" y="2766960"/>
            <a:ext cx="101520" cy="152280"/>
          </a:xfrm>
          <a:prstGeom prst="ellipse">
            <a:avLst/>
          </a:prstGeom>
          <a:solidFill>
            <a:srgbClr val="ffff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2" name="Oval 213"/>
          <p:cNvSpPr/>
          <p:nvPr/>
        </p:nvSpPr>
        <p:spPr>
          <a:xfrm>
            <a:off x="2997360" y="3855960"/>
            <a:ext cx="99720" cy="152640"/>
          </a:xfrm>
          <a:prstGeom prst="ellipse">
            <a:avLst/>
          </a:prstGeom>
          <a:solidFill>
            <a:srgbClr val="ffff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3" name="Oval 214"/>
          <p:cNvSpPr/>
          <p:nvPr/>
        </p:nvSpPr>
        <p:spPr>
          <a:xfrm>
            <a:off x="2984400" y="4984920"/>
            <a:ext cx="103320" cy="152280"/>
          </a:xfrm>
          <a:prstGeom prst="ellipse">
            <a:avLst/>
          </a:prstGeom>
          <a:solidFill>
            <a:srgbClr val="ffc08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4" name="Rectangle 215"/>
          <p:cNvSpPr/>
          <p:nvPr/>
        </p:nvSpPr>
        <p:spPr>
          <a:xfrm>
            <a:off x="4481640" y="2432160"/>
            <a:ext cx="645840" cy="774720"/>
          </a:xfrm>
          <a:prstGeom prst="rect">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5" name="Freeform 216"/>
          <p:cNvSpPr/>
          <p:nvPr/>
        </p:nvSpPr>
        <p:spPr>
          <a:xfrm>
            <a:off x="4475160" y="2425680"/>
            <a:ext cx="655560" cy="784080"/>
          </a:xfrm>
          <a:custGeom>
            <a:avLst/>
            <a:gdLst>
              <a:gd name="textAreaLeft" fmla="*/ 0 w 655560"/>
              <a:gd name="textAreaRight" fmla="*/ 655920 w 655560"/>
              <a:gd name="textAreaTop" fmla="*/ 0 h 784080"/>
              <a:gd name="textAreaBottom" fmla="*/ 784440 h 784080"/>
            </a:gdLst>
            <a:ahLst/>
            <a:rect l="textAreaLeft" t="textAreaTop" r="textAreaRight" b="textAreaBottom"/>
            <a:pathLst>
              <a:path w="413" h="494">
                <a:moveTo>
                  <a:pt x="4" y="0"/>
                </a:moveTo>
                <a:lnTo>
                  <a:pt x="2" y="0"/>
                </a:lnTo>
                <a:lnTo>
                  <a:pt x="2" y="2"/>
                </a:lnTo>
                <a:lnTo>
                  <a:pt x="0" y="2"/>
                </a:lnTo>
                <a:lnTo>
                  <a:pt x="0" y="492"/>
                </a:lnTo>
                <a:lnTo>
                  <a:pt x="2" y="492"/>
                </a:lnTo>
                <a:lnTo>
                  <a:pt x="2" y="494"/>
                </a:lnTo>
                <a:lnTo>
                  <a:pt x="411" y="494"/>
                </a:lnTo>
                <a:lnTo>
                  <a:pt x="411" y="492"/>
                </a:lnTo>
                <a:lnTo>
                  <a:pt x="413" y="492"/>
                </a:lnTo>
                <a:lnTo>
                  <a:pt x="413" y="2"/>
                </a:lnTo>
                <a:lnTo>
                  <a:pt x="411" y="2"/>
                </a:lnTo>
                <a:lnTo>
                  <a:pt x="411" y="0"/>
                </a:lnTo>
                <a:lnTo>
                  <a:pt x="409" y="0"/>
                </a:lnTo>
                <a:lnTo>
                  <a:pt x="4" y="0"/>
                </a:lnTo>
                <a:lnTo>
                  <a:pt x="4" y="8"/>
                </a:lnTo>
                <a:lnTo>
                  <a:pt x="409" y="8"/>
                </a:lnTo>
                <a:lnTo>
                  <a:pt x="405" y="4"/>
                </a:lnTo>
                <a:lnTo>
                  <a:pt x="405" y="490"/>
                </a:lnTo>
                <a:lnTo>
                  <a:pt x="409" y="486"/>
                </a:lnTo>
                <a:lnTo>
                  <a:pt x="4" y="486"/>
                </a:lnTo>
                <a:lnTo>
                  <a:pt x="8" y="490"/>
                </a:lnTo>
                <a:lnTo>
                  <a:pt x="8" y="4"/>
                </a:lnTo>
                <a:lnTo>
                  <a:pt x="4" y="8"/>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Freeform 217"/>
          <p:cNvSpPr/>
          <p:nvPr/>
        </p:nvSpPr>
        <p:spPr>
          <a:xfrm>
            <a:off x="4624560" y="2584440"/>
            <a:ext cx="436320" cy="466560"/>
          </a:xfrm>
          <a:custGeom>
            <a:avLst/>
            <a:gdLst>
              <a:gd name="textAreaLeft" fmla="*/ 0 w 436320"/>
              <a:gd name="textAreaRight" fmla="*/ 436680 w 436320"/>
              <a:gd name="textAreaTop" fmla="*/ 0 h 466560"/>
              <a:gd name="textAreaBottom" fmla="*/ 466920 h 466560"/>
            </a:gdLst>
            <a:ahLst/>
            <a:rect l="textAreaLeft" t="textAreaTop" r="textAreaRight" b="textAreaBottom"/>
            <a:pathLst>
              <a:path w="275" h="294">
                <a:moveTo>
                  <a:pt x="8" y="4"/>
                </a:moveTo>
                <a:lnTo>
                  <a:pt x="8" y="2"/>
                </a:lnTo>
                <a:lnTo>
                  <a:pt x="6" y="2"/>
                </a:lnTo>
                <a:lnTo>
                  <a:pt x="6" y="0"/>
                </a:lnTo>
                <a:lnTo>
                  <a:pt x="2" y="0"/>
                </a:lnTo>
                <a:lnTo>
                  <a:pt x="2" y="2"/>
                </a:lnTo>
                <a:lnTo>
                  <a:pt x="0" y="2"/>
                </a:lnTo>
                <a:lnTo>
                  <a:pt x="0" y="292"/>
                </a:lnTo>
                <a:lnTo>
                  <a:pt x="2" y="292"/>
                </a:lnTo>
                <a:lnTo>
                  <a:pt x="2" y="294"/>
                </a:lnTo>
                <a:lnTo>
                  <a:pt x="273" y="294"/>
                </a:lnTo>
                <a:lnTo>
                  <a:pt x="273" y="292"/>
                </a:lnTo>
                <a:lnTo>
                  <a:pt x="275" y="292"/>
                </a:lnTo>
                <a:lnTo>
                  <a:pt x="275" y="288"/>
                </a:lnTo>
                <a:lnTo>
                  <a:pt x="273" y="288"/>
                </a:lnTo>
                <a:lnTo>
                  <a:pt x="273" y="286"/>
                </a:lnTo>
                <a:lnTo>
                  <a:pt x="271" y="286"/>
                </a:lnTo>
                <a:lnTo>
                  <a:pt x="4" y="286"/>
                </a:lnTo>
                <a:lnTo>
                  <a:pt x="8" y="290"/>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Oval 218"/>
          <p:cNvSpPr/>
          <p:nvPr/>
        </p:nvSpPr>
        <p:spPr>
          <a:xfrm>
            <a:off x="4956120" y="2494080"/>
            <a:ext cx="3492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8" name="Oval 219"/>
          <p:cNvSpPr/>
          <p:nvPr/>
        </p:nvSpPr>
        <p:spPr>
          <a:xfrm>
            <a:off x="4898880" y="2517840"/>
            <a:ext cx="33480" cy="36360"/>
          </a:xfrm>
          <a:prstGeom prst="ellipse">
            <a:avLst/>
          </a:prstGeom>
          <a:solidFill>
            <a:srgbClr val="ff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9" name="Oval 220"/>
          <p:cNvSpPr/>
          <p:nvPr/>
        </p:nvSpPr>
        <p:spPr>
          <a:xfrm>
            <a:off x="4911840" y="2593800"/>
            <a:ext cx="3312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0" name="Oval 221"/>
          <p:cNvSpPr/>
          <p:nvPr/>
        </p:nvSpPr>
        <p:spPr>
          <a:xfrm>
            <a:off x="4915080" y="2571840"/>
            <a:ext cx="33120" cy="34920"/>
          </a:xfrm>
          <a:prstGeom prst="ellipse">
            <a:avLst/>
          </a:prstGeom>
          <a:solidFill>
            <a:srgbClr val="ff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1" name="Oval 222"/>
          <p:cNvSpPr/>
          <p:nvPr/>
        </p:nvSpPr>
        <p:spPr>
          <a:xfrm>
            <a:off x="4941720" y="257796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2" name="Oval 223"/>
          <p:cNvSpPr/>
          <p:nvPr/>
        </p:nvSpPr>
        <p:spPr>
          <a:xfrm>
            <a:off x="4929120" y="262404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3" name="Oval 224"/>
          <p:cNvSpPr/>
          <p:nvPr/>
        </p:nvSpPr>
        <p:spPr>
          <a:xfrm>
            <a:off x="5008680" y="2593800"/>
            <a:ext cx="3312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4" name="Oval 225"/>
          <p:cNvSpPr/>
          <p:nvPr/>
        </p:nvSpPr>
        <p:spPr>
          <a:xfrm>
            <a:off x="4991040" y="2584440"/>
            <a:ext cx="3672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5" name="Oval 226"/>
          <p:cNvSpPr/>
          <p:nvPr/>
        </p:nvSpPr>
        <p:spPr>
          <a:xfrm>
            <a:off x="4965840" y="2584440"/>
            <a:ext cx="3312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6" name="Oval 227"/>
          <p:cNvSpPr/>
          <p:nvPr/>
        </p:nvSpPr>
        <p:spPr>
          <a:xfrm>
            <a:off x="4998960" y="2502000"/>
            <a:ext cx="34920" cy="36360"/>
          </a:xfrm>
          <a:prstGeom prst="ellipse">
            <a:avLst/>
          </a:prstGeom>
          <a:solidFill>
            <a:srgbClr val="ff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7" name="Oval 228"/>
          <p:cNvSpPr/>
          <p:nvPr/>
        </p:nvSpPr>
        <p:spPr>
          <a:xfrm>
            <a:off x="4998960" y="2538360"/>
            <a:ext cx="3492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8" name="Oval 229"/>
          <p:cNvSpPr/>
          <p:nvPr/>
        </p:nvSpPr>
        <p:spPr>
          <a:xfrm>
            <a:off x="4938840" y="2530440"/>
            <a:ext cx="3312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9" name="Oval 230"/>
          <p:cNvSpPr/>
          <p:nvPr/>
        </p:nvSpPr>
        <p:spPr>
          <a:xfrm>
            <a:off x="4968720" y="2544840"/>
            <a:ext cx="33480" cy="36360"/>
          </a:xfrm>
          <a:prstGeom prst="ellipse">
            <a:avLst/>
          </a:prstGeom>
          <a:solidFill>
            <a:srgbClr val="ff00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0" name="Oval 231"/>
          <p:cNvSpPr/>
          <p:nvPr/>
        </p:nvSpPr>
        <p:spPr>
          <a:xfrm>
            <a:off x="4941720" y="255420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1" name="Rectangle 232"/>
          <p:cNvSpPr/>
          <p:nvPr/>
        </p:nvSpPr>
        <p:spPr>
          <a:xfrm>
            <a:off x="4481640" y="3484440"/>
            <a:ext cx="645840" cy="773280"/>
          </a:xfrm>
          <a:prstGeom prst="rect">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2" name="Freeform 233"/>
          <p:cNvSpPr/>
          <p:nvPr/>
        </p:nvSpPr>
        <p:spPr>
          <a:xfrm>
            <a:off x="4475160" y="3478320"/>
            <a:ext cx="655560" cy="782640"/>
          </a:xfrm>
          <a:custGeom>
            <a:avLst/>
            <a:gdLst>
              <a:gd name="textAreaLeft" fmla="*/ 0 w 655560"/>
              <a:gd name="textAreaRight" fmla="*/ 655920 w 655560"/>
              <a:gd name="textAreaTop" fmla="*/ 0 h 782640"/>
              <a:gd name="textAreaBottom" fmla="*/ 783000 h 782640"/>
            </a:gdLst>
            <a:ahLst/>
            <a:rect l="textAreaLeft" t="textAreaTop" r="textAreaRight" b="textAreaBottom"/>
            <a:pathLst>
              <a:path w="413" h="493">
                <a:moveTo>
                  <a:pt x="4" y="0"/>
                </a:moveTo>
                <a:lnTo>
                  <a:pt x="2" y="0"/>
                </a:lnTo>
                <a:lnTo>
                  <a:pt x="2" y="2"/>
                </a:lnTo>
                <a:lnTo>
                  <a:pt x="0" y="2"/>
                </a:lnTo>
                <a:lnTo>
                  <a:pt x="0" y="491"/>
                </a:lnTo>
                <a:lnTo>
                  <a:pt x="2" y="491"/>
                </a:lnTo>
                <a:lnTo>
                  <a:pt x="2" y="493"/>
                </a:lnTo>
                <a:lnTo>
                  <a:pt x="411" y="493"/>
                </a:lnTo>
                <a:lnTo>
                  <a:pt x="411" y="491"/>
                </a:lnTo>
                <a:lnTo>
                  <a:pt x="413" y="491"/>
                </a:lnTo>
                <a:lnTo>
                  <a:pt x="413" y="2"/>
                </a:lnTo>
                <a:lnTo>
                  <a:pt x="411" y="2"/>
                </a:lnTo>
                <a:lnTo>
                  <a:pt x="411" y="0"/>
                </a:lnTo>
                <a:lnTo>
                  <a:pt x="409" y="0"/>
                </a:lnTo>
                <a:lnTo>
                  <a:pt x="4" y="0"/>
                </a:lnTo>
                <a:lnTo>
                  <a:pt x="4" y="8"/>
                </a:lnTo>
                <a:lnTo>
                  <a:pt x="409" y="8"/>
                </a:lnTo>
                <a:lnTo>
                  <a:pt x="405" y="4"/>
                </a:lnTo>
                <a:lnTo>
                  <a:pt x="405" y="490"/>
                </a:lnTo>
                <a:lnTo>
                  <a:pt x="409" y="486"/>
                </a:lnTo>
                <a:lnTo>
                  <a:pt x="4" y="486"/>
                </a:lnTo>
                <a:lnTo>
                  <a:pt x="8" y="490"/>
                </a:lnTo>
                <a:lnTo>
                  <a:pt x="8" y="4"/>
                </a:lnTo>
                <a:lnTo>
                  <a:pt x="4" y="8"/>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Freeform 234"/>
          <p:cNvSpPr/>
          <p:nvPr/>
        </p:nvSpPr>
        <p:spPr>
          <a:xfrm>
            <a:off x="4606920" y="3544920"/>
            <a:ext cx="474840" cy="576360"/>
          </a:xfrm>
          <a:custGeom>
            <a:avLst/>
            <a:gdLst>
              <a:gd name="textAreaLeft" fmla="*/ 0 w 474840"/>
              <a:gd name="textAreaRight" fmla="*/ 475200 w 474840"/>
              <a:gd name="textAreaTop" fmla="*/ 0 h 576360"/>
              <a:gd name="textAreaBottom" fmla="*/ 576720 h 576360"/>
            </a:gdLst>
            <a:ahLst/>
            <a:rect l="textAreaLeft" t="textAreaTop" r="textAreaRight" b="textAreaBottom"/>
            <a:pathLst>
              <a:path w="299" h="363">
                <a:moveTo>
                  <a:pt x="7" y="4"/>
                </a:moveTo>
                <a:lnTo>
                  <a:pt x="7" y="2"/>
                </a:lnTo>
                <a:lnTo>
                  <a:pt x="5" y="2"/>
                </a:lnTo>
                <a:lnTo>
                  <a:pt x="5" y="0"/>
                </a:lnTo>
                <a:lnTo>
                  <a:pt x="2" y="0"/>
                </a:lnTo>
                <a:lnTo>
                  <a:pt x="2" y="2"/>
                </a:lnTo>
                <a:lnTo>
                  <a:pt x="0" y="2"/>
                </a:lnTo>
                <a:lnTo>
                  <a:pt x="0" y="361"/>
                </a:lnTo>
                <a:lnTo>
                  <a:pt x="2" y="361"/>
                </a:lnTo>
                <a:lnTo>
                  <a:pt x="2" y="363"/>
                </a:lnTo>
                <a:lnTo>
                  <a:pt x="297" y="363"/>
                </a:lnTo>
                <a:lnTo>
                  <a:pt x="297" y="361"/>
                </a:lnTo>
                <a:lnTo>
                  <a:pt x="299" y="361"/>
                </a:lnTo>
                <a:lnTo>
                  <a:pt x="299" y="357"/>
                </a:lnTo>
                <a:lnTo>
                  <a:pt x="297" y="357"/>
                </a:lnTo>
                <a:lnTo>
                  <a:pt x="297" y="355"/>
                </a:lnTo>
                <a:lnTo>
                  <a:pt x="295" y="355"/>
                </a:lnTo>
                <a:lnTo>
                  <a:pt x="3" y="355"/>
                </a:lnTo>
                <a:lnTo>
                  <a:pt x="7" y="359"/>
                </a:lnTo>
                <a:lnTo>
                  <a:pt x="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Oval 235"/>
          <p:cNvSpPr/>
          <p:nvPr/>
        </p:nvSpPr>
        <p:spPr>
          <a:xfrm>
            <a:off x="4932360" y="3551400"/>
            <a:ext cx="3348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5" name="Oval 236"/>
          <p:cNvSpPr/>
          <p:nvPr/>
        </p:nvSpPr>
        <p:spPr>
          <a:xfrm>
            <a:off x="4962600" y="3639960"/>
            <a:ext cx="3312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6" name="Oval 237"/>
          <p:cNvSpPr/>
          <p:nvPr/>
        </p:nvSpPr>
        <p:spPr>
          <a:xfrm>
            <a:off x="4917960" y="3703680"/>
            <a:ext cx="3348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7" name="Oval 238"/>
          <p:cNvSpPr/>
          <p:nvPr/>
        </p:nvSpPr>
        <p:spPr>
          <a:xfrm>
            <a:off x="4905360" y="3749760"/>
            <a:ext cx="3348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8" name="Oval 239"/>
          <p:cNvSpPr/>
          <p:nvPr/>
        </p:nvSpPr>
        <p:spPr>
          <a:xfrm>
            <a:off x="4941720" y="3730680"/>
            <a:ext cx="3348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9" name="Oval 240"/>
          <p:cNvSpPr/>
          <p:nvPr/>
        </p:nvSpPr>
        <p:spPr>
          <a:xfrm>
            <a:off x="4878360" y="367668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0" name="Oval 241"/>
          <p:cNvSpPr/>
          <p:nvPr/>
        </p:nvSpPr>
        <p:spPr>
          <a:xfrm>
            <a:off x="4859280" y="3691080"/>
            <a:ext cx="3348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1" name="Oval 242"/>
          <p:cNvSpPr/>
          <p:nvPr/>
        </p:nvSpPr>
        <p:spPr>
          <a:xfrm>
            <a:off x="4843440" y="3706920"/>
            <a:ext cx="3492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2" name="Oval 243"/>
          <p:cNvSpPr/>
          <p:nvPr/>
        </p:nvSpPr>
        <p:spPr>
          <a:xfrm>
            <a:off x="4807080" y="3736800"/>
            <a:ext cx="3492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3" name="Oval 244"/>
          <p:cNvSpPr/>
          <p:nvPr/>
        </p:nvSpPr>
        <p:spPr>
          <a:xfrm>
            <a:off x="4829040" y="373680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4" name="Oval 245"/>
          <p:cNvSpPr/>
          <p:nvPr/>
        </p:nvSpPr>
        <p:spPr>
          <a:xfrm>
            <a:off x="4843440" y="3770280"/>
            <a:ext cx="34920" cy="36720"/>
          </a:xfrm>
          <a:prstGeom prst="ellipse">
            <a:avLst/>
          </a:prstGeom>
          <a:solidFill>
            <a:srgbClr val="ff000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5" name="Oval 246"/>
          <p:cNvSpPr/>
          <p:nvPr/>
        </p:nvSpPr>
        <p:spPr>
          <a:xfrm>
            <a:off x="4865760" y="3789360"/>
            <a:ext cx="3636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6" name="Oval 247"/>
          <p:cNvSpPr/>
          <p:nvPr/>
        </p:nvSpPr>
        <p:spPr>
          <a:xfrm>
            <a:off x="4846680" y="3832200"/>
            <a:ext cx="3312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7" name="Oval 248"/>
          <p:cNvSpPr/>
          <p:nvPr/>
        </p:nvSpPr>
        <p:spPr>
          <a:xfrm>
            <a:off x="4802040" y="376380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8" name="Rectangle 249"/>
          <p:cNvSpPr/>
          <p:nvPr/>
        </p:nvSpPr>
        <p:spPr>
          <a:xfrm>
            <a:off x="4481640" y="5670720"/>
            <a:ext cx="645840" cy="772920"/>
          </a:xfrm>
          <a:prstGeom prst="rect">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9" name="Freeform 250"/>
          <p:cNvSpPr/>
          <p:nvPr/>
        </p:nvSpPr>
        <p:spPr>
          <a:xfrm>
            <a:off x="4475160" y="5664240"/>
            <a:ext cx="655560" cy="782640"/>
          </a:xfrm>
          <a:custGeom>
            <a:avLst/>
            <a:gdLst>
              <a:gd name="textAreaLeft" fmla="*/ 0 w 655560"/>
              <a:gd name="textAreaRight" fmla="*/ 655920 w 655560"/>
              <a:gd name="textAreaTop" fmla="*/ 0 h 782640"/>
              <a:gd name="textAreaBottom" fmla="*/ 783000 h 782640"/>
            </a:gdLst>
            <a:ahLst/>
            <a:rect l="textAreaLeft" t="textAreaTop" r="textAreaRight" b="textAreaBottom"/>
            <a:pathLst>
              <a:path w="413" h="493">
                <a:moveTo>
                  <a:pt x="4" y="0"/>
                </a:moveTo>
                <a:lnTo>
                  <a:pt x="2" y="0"/>
                </a:lnTo>
                <a:lnTo>
                  <a:pt x="2" y="2"/>
                </a:lnTo>
                <a:lnTo>
                  <a:pt x="0" y="2"/>
                </a:lnTo>
                <a:lnTo>
                  <a:pt x="0" y="491"/>
                </a:lnTo>
                <a:lnTo>
                  <a:pt x="2" y="491"/>
                </a:lnTo>
                <a:lnTo>
                  <a:pt x="2" y="493"/>
                </a:lnTo>
                <a:lnTo>
                  <a:pt x="411" y="493"/>
                </a:lnTo>
                <a:lnTo>
                  <a:pt x="411" y="491"/>
                </a:lnTo>
                <a:lnTo>
                  <a:pt x="413" y="491"/>
                </a:lnTo>
                <a:lnTo>
                  <a:pt x="413" y="2"/>
                </a:lnTo>
                <a:lnTo>
                  <a:pt x="411" y="2"/>
                </a:lnTo>
                <a:lnTo>
                  <a:pt x="411" y="0"/>
                </a:lnTo>
                <a:lnTo>
                  <a:pt x="409" y="0"/>
                </a:lnTo>
                <a:lnTo>
                  <a:pt x="4" y="0"/>
                </a:lnTo>
                <a:lnTo>
                  <a:pt x="4" y="7"/>
                </a:lnTo>
                <a:lnTo>
                  <a:pt x="409" y="7"/>
                </a:lnTo>
                <a:lnTo>
                  <a:pt x="405" y="4"/>
                </a:lnTo>
                <a:lnTo>
                  <a:pt x="405" y="490"/>
                </a:lnTo>
                <a:lnTo>
                  <a:pt x="409" y="486"/>
                </a:lnTo>
                <a:lnTo>
                  <a:pt x="4" y="486"/>
                </a:lnTo>
                <a:lnTo>
                  <a:pt x="8" y="490"/>
                </a:lnTo>
                <a:lnTo>
                  <a:pt x="8" y="4"/>
                </a:lnTo>
                <a:lnTo>
                  <a:pt x="4" y="7"/>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Freeform 251"/>
          <p:cNvSpPr/>
          <p:nvPr/>
        </p:nvSpPr>
        <p:spPr>
          <a:xfrm>
            <a:off x="4594320" y="5761080"/>
            <a:ext cx="436320" cy="546120"/>
          </a:xfrm>
          <a:custGeom>
            <a:avLst/>
            <a:gdLst>
              <a:gd name="textAreaLeft" fmla="*/ 0 w 436320"/>
              <a:gd name="textAreaRight" fmla="*/ 436680 w 436320"/>
              <a:gd name="textAreaTop" fmla="*/ 0 h 546120"/>
              <a:gd name="textAreaBottom" fmla="*/ 546480 h 546120"/>
            </a:gdLst>
            <a:ahLst/>
            <a:rect l="textAreaLeft" t="textAreaTop" r="textAreaRight" b="textAreaBottom"/>
            <a:pathLst>
              <a:path w="275" h="344">
                <a:moveTo>
                  <a:pt x="8" y="4"/>
                </a:moveTo>
                <a:lnTo>
                  <a:pt x="8" y="2"/>
                </a:lnTo>
                <a:lnTo>
                  <a:pt x="6" y="2"/>
                </a:lnTo>
                <a:lnTo>
                  <a:pt x="6" y="0"/>
                </a:lnTo>
                <a:lnTo>
                  <a:pt x="2" y="0"/>
                </a:lnTo>
                <a:lnTo>
                  <a:pt x="2" y="2"/>
                </a:lnTo>
                <a:lnTo>
                  <a:pt x="0" y="2"/>
                </a:lnTo>
                <a:lnTo>
                  <a:pt x="0" y="342"/>
                </a:lnTo>
                <a:lnTo>
                  <a:pt x="2" y="342"/>
                </a:lnTo>
                <a:lnTo>
                  <a:pt x="2" y="344"/>
                </a:lnTo>
                <a:lnTo>
                  <a:pt x="273" y="344"/>
                </a:lnTo>
                <a:lnTo>
                  <a:pt x="273" y="342"/>
                </a:lnTo>
                <a:lnTo>
                  <a:pt x="275" y="342"/>
                </a:lnTo>
                <a:lnTo>
                  <a:pt x="275" y="338"/>
                </a:lnTo>
                <a:lnTo>
                  <a:pt x="273" y="338"/>
                </a:lnTo>
                <a:lnTo>
                  <a:pt x="273" y="336"/>
                </a:lnTo>
                <a:lnTo>
                  <a:pt x="271" y="336"/>
                </a:lnTo>
                <a:lnTo>
                  <a:pt x="4" y="336"/>
                </a:lnTo>
                <a:lnTo>
                  <a:pt x="8" y="340"/>
                </a:lnTo>
                <a:lnTo>
                  <a:pt x="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Oval 252"/>
          <p:cNvSpPr/>
          <p:nvPr/>
        </p:nvSpPr>
        <p:spPr>
          <a:xfrm>
            <a:off x="4657680" y="6127920"/>
            <a:ext cx="3348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2" name="Oval 253"/>
          <p:cNvSpPr/>
          <p:nvPr/>
        </p:nvSpPr>
        <p:spPr>
          <a:xfrm>
            <a:off x="4719600" y="6161040"/>
            <a:ext cx="33480" cy="36720"/>
          </a:xfrm>
          <a:prstGeom prst="ellipse">
            <a:avLst/>
          </a:prstGeom>
          <a:solidFill>
            <a:srgbClr val="ff000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3" name="Oval 254"/>
          <p:cNvSpPr/>
          <p:nvPr/>
        </p:nvSpPr>
        <p:spPr>
          <a:xfrm>
            <a:off x="4707000" y="6254640"/>
            <a:ext cx="33120" cy="34920"/>
          </a:xfrm>
          <a:prstGeom prst="ellipse">
            <a:avLst/>
          </a:prstGeom>
          <a:solidFill>
            <a:srgbClr val="ff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4" name="Oval 255"/>
          <p:cNvSpPr/>
          <p:nvPr/>
        </p:nvSpPr>
        <p:spPr>
          <a:xfrm>
            <a:off x="4643280" y="6221520"/>
            <a:ext cx="3348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5" name="Oval 256"/>
          <p:cNvSpPr/>
          <p:nvPr/>
        </p:nvSpPr>
        <p:spPr>
          <a:xfrm>
            <a:off x="4603680" y="6211800"/>
            <a:ext cx="33480" cy="34920"/>
          </a:xfrm>
          <a:prstGeom prst="ellipse">
            <a:avLst/>
          </a:prstGeom>
          <a:solidFill>
            <a:srgbClr val="ff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6" name="Oval 257"/>
          <p:cNvSpPr/>
          <p:nvPr/>
        </p:nvSpPr>
        <p:spPr>
          <a:xfrm>
            <a:off x="4649760" y="6254640"/>
            <a:ext cx="33480" cy="34920"/>
          </a:xfrm>
          <a:prstGeom prst="ellipse">
            <a:avLst/>
          </a:prstGeom>
          <a:solidFill>
            <a:srgbClr val="ff0000"/>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7" name="Oval 258"/>
          <p:cNvSpPr/>
          <p:nvPr/>
        </p:nvSpPr>
        <p:spPr>
          <a:xfrm>
            <a:off x="4624560" y="6184800"/>
            <a:ext cx="3636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8" name="Oval 259"/>
          <p:cNvSpPr/>
          <p:nvPr/>
        </p:nvSpPr>
        <p:spPr>
          <a:xfrm>
            <a:off x="4687920" y="6224760"/>
            <a:ext cx="3492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9" name="Oval 260"/>
          <p:cNvSpPr/>
          <p:nvPr/>
        </p:nvSpPr>
        <p:spPr>
          <a:xfrm>
            <a:off x="4753080" y="6224760"/>
            <a:ext cx="3636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0" name="Rectangle 261"/>
          <p:cNvSpPr/>
          <p:nvPr/>
        </p:nvSpPr>
        <p:spPr>
          <a:xfrm>
            <a:off x="4481640" y="4600440"/>
            <a:ext cx="645840" cy="773280"/>
          </a:xfrm>
          <a:prstGeom prst="rect">
            <a:avLst/>
          </a:prstGeom>
          <a:solidFill>
            <a:srgbClr val="8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1" name="Freeform 262"/>
          <p:cNvSpPr/>
          <p:nvPr/>
        </p:nvSpPr>
        <p:spPr>
          <a:xfrm>
            <a:off x="4475160" y="4594320"/>
            <a:ext cx="655560" cy="782640"/>
          </a:xfrm>
          <a:custGeom>
            <a:avLst/>
            <a:gdLst>
              <a:gd name="textAreaLeft" fmla="*/ 0 w 655560"/>
              <a:gd name="textAreaRight" fmla="*/ 655920 w 655560"/>
              <a:gd name="textAreaTop" fmla="*/ 0 h 782640"/>
              <a:gd name="textAreaBottom" fmla="*/ 783000 h 782640"/>
            </a:gdLst>
            <a:ahLst/>
            <a:rect l="textAreaLeft" t="textAreaTop" r="textAreaRight" b="textAreaBottom"/>
            <a:pathLst>
              <a:path w="413" h="493">
                <a:moveTo>
                  <a:pt x="4" y="0"/>
                </a:moveTo>
                <a:lnTo>
                  <a:pt x="2" y="0"/>
                </a:lnTo>
                <a:lnTo>
                  <a:pt x="2" y="2"/>
                </a:lnTo>
                <a:lnTo>
                  <a:pt x="0" y="2"/>
                </a:lnTo>
                <a:lnTo>
                  <a:pt x="0" y="491"/>
                </a:lnTo>
                <a:lnTo>
                  <a:pt x="2" y="491"/>
                </a:lnTo>
                <a:lnTo>
                  <a:pt x="2" y="493"/>
                </a:lnTo>
                <a:lnTo>
                  <a:pt x="411" y="493"/>
                </a:lnTo>
                <a:lnTo>
                  <a:pt x="411" y="491"/>
                </a:lnTo>
                <a:lnTo>
                  <a:pt x="413" y="491"/>
                </a:lnTo>
                <a:lnTo>
                  <a:pt x="413" y="2"/>
                </a:lnTo>
                <a:lnTo>
                  <a:pt x="411" y="2"/>
                </a:lnTo>
                <a:lnTo>
                  <a:pt x="411" y="0"/>
                </a:lnTo>
                <a:lnTo>
                  <a:pt x="409" y="0"/>
                </a:lnTo>
                <a:lnTo>
                  <a:pt x="4" y="0"/>
                </a:lnTo>
                <a:lnTo>
                  <a:pt x="4" y="7"/>
                </a:lnTo>
                <a:lnTo>
                  <a:pt x="409" y="7"/>
                </a:lnTo>
                <a:lnTo>
                  <a:pt x="405" y="4"/>
                </a:lnTo>
                <a:lnTo>
                  <a:pt x="405" y="489"/>
                </a:lnTo>
                <a:lnTo>
                  <a:pt x="409" y="486"/>
                </a:lnTo>
                <a:lnTo>
                  <a:pt x="4" y="486"/>
                </a:lnTo>
                <a:lnTo>
                  <a:pt x="8" y="489"/>
                </a:lnTo>
                <a:lnTo>
                  <a:pt x="8" y="4"/>
                </a:lnTo>
                <a:lnTo>
                  <a:pt x="4" y="7"/>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Freeform 263"/>
          <p:cNvSpPr/>
          <p:nvPr/>
        </p:nvSpPr>
        <p:spPr>
          <a:xfrm>
            <a:off x="4603680" y="4673520"/>
            <a:ext cx="447840" cy="536760"/>
          </a:xfrm>
          <a:custGeom>
            <a:avLst/>
            <a:gdLst>
              <a:gd name="textAreaLeft" fmla="*/ 0 w 447840"/>
              <a:gd name="textAreaRight" fmla="*/ 448200 w 447840"/>
              <a:gd name="textAreaTop" fmla="*/ 0 h 536760"/>
              <a:gd name="textAreaBottom" fmla="*/ 537120 h 536760"/>
            </a:gdLst>
            <a:ahLst/>
            <a:rect l="textAreaLeft" t="textAreaTop" r="textAreaRight" b="textAreaBottom"/>
            <a:pathLst>
              <a:path w="282" h="338">
                <a:moveTo>
                  <a:pt x="7" y="4"/>
                </a:moveTo>
                <a:lnTo>
                  <a:pt x="7" y="2"/>
                </a:lnTo>
                <a:lnTo>
                  <a:pt x="5" y="2"/>
                </a:lnTo>
                <a:lnTo>
                  <a:pt x="5" y="0"/>
                </a:lnTo>
                <a:lnTo>
                  <a:pt x="2" y="0"/>
                </a:lnTo>
                <a:lnTo>
                  <a:pt x="2" y="2"/>
                </a:lnTo>
                <a:lnTo>
                  <a:pt x="0" y="2"/>
                </a:lnTo>
                <a:lnTo>
                  <a:pt x="0" y="336"/>
                </a:lnTo>
                <a:lnTo>
                  <a:pt x="2" y="336"/>
                </a:lnTo>
                <a:lnTo>
                  <a:pt x="2" y="338"/>
                </a:lnTo>
                <a:lnTo>
                  <a:pt x="280" y="338"/>
                </a:lnTo>
                <a:lnTo>
                  <a:pt x="280" y="336"/>
                </a:lnTo>
                <a:lnTo>
                  <a:pt x="282" y="336"/>
                </a:lnTo>
                <a:lnTo>
                  <a:pt x="282" y="332"/>
                </a:lnTo>
                <a:lnTo>
                  <a:pt x="280" y="332"/>
                </a:lnTo>
                <a:lnTo>
                  <a:pt x="280" y="330"/>
                </a:lnTo>
                <a:lnTo>
                  <a:pt x="278" y="330"/>
                </a:lnTo>
                <a:lnTo>
                  <a:pt x="4" y="330"/>
                </a:lnTo>
                <a:lnTo>
                  <a:pt x="7" y="334"/>
                </a:lnTo>
                <a:lnTo>
                  <a:pt x="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Oval 264"/>
          <p:cNvSpPr/>
          <p:nvPr/>
        </p:nvSpPr>
        <p:spPr>
          <a:xfrm>
            <a:off x="4759200" y="504504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4" name="Oval 265"/>
          <p:cNvSpPr/>
          <p:nvPr/>
        </p:nvSpPr>
        <p:spPr>
          <a:xfrm>
            <a:off x="4664160" y="5041800"/>
            <a:ext cx="3312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5" name="Oval 266"/>
          <p:cNvSpPr/>
          <p:nvPr/>
        </p:nvSpPr>
        <p:spPr>
          <a:xfrm>
            <a:off x="4710240" y="5021280"/>
            <a:ext cx="3636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6" name="Oval 267"/>
          <p:cNvSpPr/>
          <p:nvPr/>
        </p:nvSpPr>
        <p:spPr>
          <a:xfrm>
            <a:off x="4716360" y="497196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7" name="Oval 268"/>
          <p:cNvSpPr/>
          <p:nvPr/>
        </p:nvSpPr>
        <p:spPr>
          <a:xfrm>
            <a:off x="4676760" y="499896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8" name="Oval 269"/>
          <p:cNvSpPr/>
          <p:nvPr/>
        </p:nvSpPr>
        <p:spPr>
          <a:xfrm>
            <a:off x="4786200" y="502920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9" name="Oval 270"/>
          <p:cNvSpPr/>
          <p:nvPr/>
        </p:nvSpPr>
        <p:spPr>
          <a:xfrm>
            <a:off x="4759200" y="493236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0" name="Oval 271"/>
          <p:cNvSpPr/>
          <p:nvPr/>
        </p:nvSpPr>
        <p:spPr>
          <a:xfrm>
            <a:off x="4716360" y="5087880"/>
            <a:ext cx="3348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1" name="Oval 272"/>
          <p:cNvSpPr/>
          <p:nvPr/>
        </p:nvSpPr>
        <p:spPr>
          <a:xfrm>
            <a:off x="4822920" y="4975200"/>
            <a:ext cx="36360" cy="33480"/>
          </a:xfrm>
          <a:prstGeom prst="ellipse">
            <a:avLst/>
          </a:prstGeom>
          <a:solidFill>
            <a:srgbClr val="ff00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2" name="Oval 273"/>
          <p:cNvSpPr/>
          <p:nvPr/>
        </p:nvSpPr>
        <p:spPr>
          <a:xfrm>
            <a:off x="4862520" y="4879800"/>
            <a:ext cx="33480" cy="36720"/>
          </a:xfrm>
          <a:prstGeom prst="ellipse">
            <a:avLst/>
          </a:prstGeom>
          <a:solidFill>
            <a:srgbClr val="ff000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3" name="Oval 274"/>
          <p:cNvSpPr/>
          <p:nvPr/>
        </p:nvSpPr>
        <p:spPr>
          <a:xfrm>
            <a:off x="4776840" y="4978440"/>
            <a:ext cx="33120" cy="33120"/>
          </a:xfrm>
          <a:prstGeom prst="ellipse">
            <a:avLst/>
          </a:prstGeom>
          <a:solidFill>
            <a:srgbClr val="ff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4" name="Oval 275"/>
          <p:cNvSpPr/>
          <p:nvPr/>
        </p:nvSpPr>
        <p:spPr>
          <a:xfrm>
            <a:off x="2984400" y="6062760"/>
            <a:ext cx="103320" cy="152280"/>
          </a:xfrm>
          <a:prstGeom prst="ellipse">
            <a:avLst/>
          </a:prstGeom>
          <a:solidFill>
            <a:srgbClr val="ffc08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5" name="Oval 276"/>
          <p:cNvSpPr/>
          <p:nvPr/>
        </p:nvSpPr>
        <p:spPr>
          <a:xfrm>
            <a:off x="1643040" y="3362400"/>
            <a:ext cx="795240" cy="328680"/>
          </a:xfrm>
          <a:prstGeom prst="ellipse">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6" name="Freeform 277"/>
          <p:cNvSpPr/>
          <p:nvPr/>
        </p:nvSpPr>
        <p:spPr>
          <a:xfrm>
            <a:off x="1639800" y="3359160"/>
            <a:ext cx="798480" cy="331920"/>
          </a:xfrm>
          <a:custGeom>
            <a:avLst/>
            <a:gdLst>
              <a:gd name="textAreaLeft" fmla="*/ 0 w 798480"/>
              <a:gd name="textAreaRight" fmla="*/ 798840 w 798480"/>
              <a:gd name="textAreaTop" fmla="*/ 0 h 331920"/>
              <a:gd name="textAreaBottom" fmla="*/ 332280 h 331920"/>
            </a:gdLst>
            <a:ahLst/>
            <a:rect l="textAreaLeft" t="textAreaTop" r="textAreaRight" b="textAreaBottom"/>
            <a:pathLst>
              <a:path w="503" h="209">
                <a:moveTo>
                  <a:pt x="0" y="104"/>
                </a:moveTo>
                <a:lnTo>
                  <a:pt x="0" y="113"/>
                </a:lnTo>
                <a:lnTo>
                  <a:pt x="4" y="125"/>
                </a:lnTo>
                <a:lnTo>
                  <a:pt x="8" y="129"/>
                </a:lnTo>
                <a:lnTo>
                  <a:pt x="9" y="136"/>
                </a:lnTo>
                <a:lnTo>
                  <a:pt x="23" y="150"/>
                </a:lnTo>
                <a:lnTo>
                  <a:pt x="29" y="154"/>
                </a:lnTo>
                <a:lnTo>
                  <a:pt x="34" y="159"/>
                </a:lnTo>
                <a:lnTo>
                  <a:pt x="42" y="163"/>
                </a:lnTo>
                <a:lnTo>
                  <a:pt x="48" y="167"/>
                </a:lnTo>
                <a:lnTo>
                  <a:pt x="65" y="175"/>
                </a:lnTo>
                <a:lnTo>
                  <a:pt x="75" y="179"/>
                </a:lnTo>
                <a:lnTo>
                  <a:pt x="82" y="182"/>
                </a:lnTo>
                <a:lnTo>
                  <a:pt x="92" y="184"/>
                </a:lnTo>
                <a:lnTo>
                  <a:pt x="102" y="188"/>
                </a:lnTo>
                <a:lnTo>
                  <a:pt x="111" y="190"/>
                </a:lnTo>
                <a:lnTo>
                  <a:pt x="121" y="194"/>
                </a:lnTo>
                <a:lnTo>
                  <a:pt x="130" y="196"/>
                </a:lnTo>
                <a:lnTo>
                  <a:pt x="188" y="205"/>
                </a:lnTo>
                <a:lnTo>
                  <a:pt x="200" y="205"/>
                </a:lnTo>
                <a:lnTo>
                  <a:pt x="213" y="207"/>
                </a:lnTo>
                <a:lnTo>
                  <a:pt x="238" y="207"/>
                </a:lnTo>
                <a:lnTo>
                  <a:pt x="251" y="209"/>
                </a:lnTo>
                <a:lnTo>
                  <a:pt x="263" y="207"/>
                </a:lnTo>
                <a:lnTo>
                  <a:pt x="288" y="207"/>
                </a:lnTo>
                <a:lnTo>
                  <a:pt x="301" y="205"/>
                </a:lnTo>
                <a:lnTo>
                  <a:pt x="313" y="205"/>
                </a:lnTo>
                <a:lnTo>
                  <a:pt x="371" y="196"/>
                </a:lnTo>
                <a:lnTo>
                  <a:pt x="380" y="194"/>
                </a:lnTo>
                <a:lnTo>
                  <a:pt x="390" y="190"/>
                </a:lnTo>
                <a:lnTo>
                  <a:pt x="399" y="188"/>
                </a:lnTo>
                <a:lnTo>
                  <a:pt x="409" y="184"/>
                </a:lnTo>
                <a:lnTo>
                  <a:pt x="419" y="182"/>
                </a:lnTo>
                <a:lnTo>
                  <a:pt x="428" y="179"/>
                </a:lnTo>
                <a:lnTo>
                  <a:pt x="453" y="167"/>
                </a:lnTo>
                <a:lnTo>
                  <a:pt x="459" y="163"/>
                </a:lnTo>
                <a:lnTo>
                  <a:pt x="467" y="159"/>
                </a:lnTo>
                <a:lnTo>
                  <a:pt x="472" y="154"/>
                </a:lnTo>
                <a:lnTo>
                  <a:pt x="478" y="150"/>
                </a:lnTo>
                <a:lnTo>
                  <a:pt x="492" y="136"/>
                </a:lnTo>
                <a:lnTo>
                  <a:pt x="493" y="129"/>
                </a:lnTo>
                <a:lnTo>
                  <a:pt x="497" y="125"/>
                </a:lnTo>
                <a:lnTo>
                  <a:pt x="501" y="113"/>
                </a:lnTo>
                <a:lnTo>
                  <a:pt x="501" y="107"/>
                </a:lnTo>
                <a:lnTo>
                  <a:pt x="503" y="104"/>
                </a:lnTo>
                <a:lnTo>
                  <a:pt x="501" y="98"/>
                </a:lnTo>
                <a:lnTo>
                  <a:pt x="501" y="92"/>
                </a:lnTo>
                <a:lnTo>
                  <a:pt x="497" y="81"/>
                </a:lnTo>
                <a:lnTo>
                  <a:pt x="493" y="75"/>
                </a:lnTo>
                <a:lnTo>
                  <a:pt x="492" y="71"/>
                </a:lnTo>
                <a:lnTo>
                  <a:pt x="488" y="65"/>
                </a:lnTo>
                <a:lnTo>
                  <a:pt x="482" y="61"/>
                </a:lnTo>
                <a:lnTo>
                  <a:pt x="472" y="52"/>
                </a:lnTo>
                <a:lnTo>
                  <a:pt x="467" y="48"/>
                </a:lnTo>
                <a:lnTo>
                  <a:pt x="459" y="44"/>
                </a:lnTo>
                <a:lnTo>
                  <a:pt x="453" y="40"/>
                </a:lnTo>
                <a:lnTo>
                  <a:pt x="428" y="29"/>
                </a:lnTo>
                <a:lnTo>
                  <a:pt x="419" y="25"/>
                </a:lnTo>
                <a:lnTo>
                  <a:pt x="409" y="23"/>
                </a:lnTo>
                <a:lnTo>
                  <a:pt x="399" y="19"/>
                </a:lnTo>
                <a:lnTo>
                  <a:pt x="390" y="17"/>
                </a:lnTo>
                <a:lnTo>
                  <a:pt x="380" y="13"/>
                </a:lnTo>
                <a:lnTo>
                  <a:pt x="371" y="11"/>
                </a:lnTo>
                <a:lnTo>
                  <a:pt x="313" y="2"/>
                </a:lnTo>
                <a:lnTo>
                  <a:pt x="301" y="2"/>
                </a:lnTo>
                <a:lnTo>
                  <a:pt x="288" y="0"/>
                </a:lnTo>
                <a:lnTo>
                  <a:pt x="213" y="0"/>
                </a:lnTo>
                <a:lnTo>
                  <a:pt x="200" y="2"/>
                </a:lnTo>
                <a:lnTo>
                  <a:pt x="188" y="2"/>
                </a:lnTo>
                <a:lnTo>
                  <a:pt x="130" y="11"/>
                </a:lnTo>
                <a:lnTo>
                  <a:pt x="121" y="13"/>
                </a:lnTo>
                <a:lnTo>
                  <a:pt x="111" y="17"/>
                </a:lnTo>
                <a:lnTo>
                  <a:pt x="102" y="19"/>
                </a:lnTo>
                <a:lnTo>
                  <a:pt x="92" y="23"/>
                </a:lnTo>
                <a:lnTo>
                  <a:pt x="82" y="25"/>
                </a:lnTo>
                <a:lnTo>
                  <a:pt x="75" y="29"/>
                </a:lnTo>
                <a:lnTo>
                  <a:pt x="65" y="33"/>
                </a:lnTo>
                <a:lnTo>
                  <a:pt x="48" y="40"/>
                </a:lnTo>
                <a:lnTo>
                  <a:pt x="42" y="44"/>
                </a:lnTo>
                <a:lnTo>
                  <a:pt x="34" y="48"/>
                </a:lnTo>
                <a:lnTo>
                  <a:pt x="29" y="52"/>
                </a:lnTo>
                <a:lnTo>
                  <a:pt x="19" y="61"/>
                </a:lnTo>
                <a:lnTo>
                  <a:pt x="13" y="65"/>
                </a:lnTo>
                <a:lnTo>
                  <a:pt x="9" y="71"/>
                </a:lnTo>
                <a:lnTo>
                  <a:pt x="8" y="75"/>
                </a:lnTo>
                <a:lnTo>
                  <a:pt x="4" y="81"/>
                </a:lnTo>
                <a:lnTo>
                  <a:pt x="0" y="92"/>
                </a:lnTo>
                <a:lnTo>
                  <a:pt x="0" y="104"/>
                </a:lnTo>
                <a:lnTo>
                  <a:pt x="4" y="104"/>
                </a:lnTo>
                <a:lnTo>
                  <a:pt x="4" y="92"/>
                </a:lnTo>
                <a:lnTo>
                  <a:pt x="6" y="86"/>
                </a:lnTo>
                <a:lnTo>
                  <a:pt x="8" y="84"/>
                </a:lnTo>
                <a:lnTo>
                  <a:pt x="11" y="79"/>
                </a:lnTo>
                <a:lnTo>
                  <a:pt x="13" y="75"/>
                </a:lnTo>
                <a:lnTo>
                  <a:pt x="17" y="69"/>
                </a:lnTo>
                <a:lnTo>
                  <a:pt x="23" y="65"/>
                </a:lnTo>
                <a:lnTo>
                  <a:pt x="33" y="56"/>
                </a:lnTo>
                <a:lnTo>
                  <a:pt x="38" y="52"/>
                </a:lnTo>
                <a:lnTo>
                  <a:pt x="46" y="48"/>
                </a:lnTo>
                <a:lnTo>
                  <a:pt x="52" y="44"/>
                </a:lnTo>
                <a:lnTo>
                  <a:pt x="65" y="36"/>
                </a:lnTo>
                <a:lnTo>
                  <a:pt x="75" y="33"/>
                </a:lnTo>
                <a:lnTo>
                  <a:pt x="82" y="29"/>
                </a:lnTo>
                <a:lnTo>
                  <a:pt x="92" y="27"/>
                </a:lnTo>
                <a:lnTo>
                  <a:pt x="102" y="23"/>
                </a:lnTo>
                <a:lnTo>
                  <a:pt x="111" y="21"/>
                </a:lnTo>
                <a:lnTo>
                  <a:pt x="121" y="17"/>
                </a:lnTo>
                <a:lnTo>
                  <a:pt x="130" y="15"/>
                </a:lnTo>
                <a:lnTo>
                  <a:pt x="188" y="6"/>
                </a:lnTo>
                <a:lnTo>
                  <a:pt x="200" y="6"/>
                </a:lnTo>
                <a:lnTo>
                  <a:pt x="213" y="4"/>
                </a:lnTo>
                <a:lnTo>
                  <a:pt x="251" y="4"/>
                </a:lnTo>
                <a:lnTo>
                  <a:pt x="288" y="4"/>
                </a:lnTo>
                <a:lnTo>
                  <a:pt x="301" y="6"/>
                </a:lnTo>
                <a:lnTo>
                  <a:pt x="313" y="6"/>
                </a:lnTo>
                <a:lnTo>
                  <a:pt x="371" y="15"/>
                </a:lnTo>
                <a:lnTo>
                  <a:pt x="380" y="17"/>
                </a:lnTo>
                <a:lnTo>
                  <a:pt x="390" y="21"/>
                </a:lnTo>
                <a:lnTo>
                  <a:pt x="399" y="23"/>
                </a:lnTo>
                <a:lnTo>
                  <a:pt x="409" y="27"/>
                </a:lnTo>
                <a:lnTo>
                  <a:pt x="419" y="29"/>
                </a:lnTo>
                <a:lnTo>
                  <a:pt x="428" y="33"/>
                </a:lnTo>
                <a:lnTo>
                  <a:pt x="449" y="44"/>
                </a:lnTo>
                <a:lnTo>
                  <a:pt x="455" y="48"/>
                </a:lnTo>
                <a:lnTo>
                  <a:pt x="463" y="52"/>
                </a:lnTo>
                <a:lnTo>
                  <a:pt x="469" y="56"/>
                </a:lnTo>
                <a:lnTo>
                  <a:pt x="478" y="65"/>
                </a:lnTo>
                <a:lnTo>
                  <a:pt x="484" y="69"/>
                </a:lnTo>
                <a:lnTo>
                  <a:pt x="488" y="75"/>
                </a:lnTo>
                <a:lnTo>
                  <a:pt x="490" y="79"/>
                </a:lnTo>
                <a:lnTo>
                  <a:pt x="493" y="84"/>
                </a:lnTo>
                <a:lnTo>
                  <a:pt x="495" y="86"/>
                </a:lnTo>
                <a:lnTo>
                  <a:pt x="497" y="92"/>
                </a:lnTo>
                <a:lnTo>
                  <a:pt x="497" y="98"/>
                </a:lnTo>
                <a:lnTo>
                  <a:pt x="499" y="104"/>
                </a:lnTo>
                <a:lnTo>
                  <a:pt x="497" y="107"/>
                </a:lnTo>
                <a:lnTo>
                  <a:pt x="497" y="113"/>
                </a:lnTo>
                <a:lnTo>
                  <a:pt x="495" y="119"/>
                </a:lnTo>
                <a:lnTo>
                  <a:pt x="493" y="121"/>
                </a:lnTo>
                <a:lnTo>
                  <a:pt x="490" y="129"/>
                </a:lnTo>
                <a:lnTo>
                  <a:pt x="488" y="132"/>
                </a:lnTo>
                <a:lnTo>
                  <a:pt x="474" y="146"/>
                </a:lnTo>
                <a:lnTo>
                  <a:pt x="469" y="150"/>
                </a:lnTo>
                <a:lnTo>
                  <a:pt x="463" y="156"/>
                </a:lnTo>
                <a:lnTo>
                  <a:pt x="455" y="159"/>
                </a:lnTo>
                <a:lnTo>
                  <a:pt x="449" y="163"/>
                </a:lnTo>
                <a:lnTo>
                  <a:pt x="428" y="175"/>
                </a:lnTo>
                <a:lnTo>
                  <a:pt x="419" y="179"/>
                </a:lnTo>
                <a:lnTo>
                  <a:pt x="409" y="180"/>
                </a:lnTo>
                <a:lnTo>
                  <a:pt x="399" y="184"/>
                </a:lnTo>
                <a:lnTo>
                  <a:pt x="390" y="186"/>
                </a:lnTo>
                <a:lnTo>
                  <a:pt x="380" y="190"/>
                </a:lnTo>
                <a:lnTo>
                  <a:pt x="371" y="192"/>
                </a:lnTo>
                <a:lnTo>
                  <a:pt x="313" y="202"/>
                </a:lnTo>
                <a:lnTo>
                  <a:pt x="301" y="202"/>
                </a:lnTo>
                <a:lnTo>
                  <a:pt x="288" y="204"/>
                </a:lnTo>
                <a:lnTo>
                  <a:pt x="263" y="204"/>
                </a:lnTo>
                <a:lnTo>
                  <a:pt x="251" y="205"/>
                </a:lnTo>
                <a:lnTo>
                  <a:pt x="238" y="204"/>
                </a:lnTo>
                <a:lnTo>
                  <a:pt x="213" y="204"/>
                </a:lnTo>
                <a:lnTo>
                  <a:pt x="200" y="202"/>
                </a:lnTo>
                <a:lnTo>
                  <a:pt x="188" y="202"/>
                </a:lnTo>
                <a:lnTo>
                  <a:pt x="130" y="192"/>
                </a:lnTo>
                <a:lnTo>
                  <a:pt x="121" y="190"/>
                </a:lnTo>
                <a:lnTo>
                  <a:pt x="111" y="186"/>
                </a:lnTo>
                <a:lnTo>
                  <a:pt x="102" y="184"/>
                </a:lnTo>
                <a:lnTo>
                  <a:pt x="92" y="180"/>
                </a:lnTo>
                <a:lnTo>
                  <a:pt x="82" y="179"/>
                </a:lnTo>
                <a:lnTo>
                  <a:pt x="75" y="175"/>
                </a:lnTo>
                <a:lnTo>
                  <a:pt x="65" y="171"/>
                </a:lnTo>
                <a:lnTo>
                  <a:pt x="52" y="163"/>
                </a:lnTo>
                <a:lnTo>
                  <a:pt x="46" y="159"/>
                </a:lnTo>
                <a:lnTo>
                  <a:pt x="38" y="156"/>
                </a:lnTo>
                <a:lnTo>
                  <a:pt x="33" y="150"/>
                </a:lnTo>
                <a:lnTo>
                  <a:pt x="27" y="146"/>
                </a:lnTo>
                <a:lnTo>
                  <a:pt x="13" y="132"/>
                </a:lnTo>
                <a:lnTo>
                  <a:pt x="11" y="129"/>
                </a:lnTo>
                <a:lnTo>
                  <a:pt x="8" y="121"/>
                </a:lnTo>
                <a:lnTo>
                  <a:pt x="6" y="119"/>
                </a:lnTo>
                <a:lnTo>
                  <a:pt x="4" y="113"/>
                </a:lnTo>
                <a:lnTo>
                  <a:pt x="4" y="104"/>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7" name="Oval 278"/>
          <p:cNvSpPr/>
          <p:nvPr/>
        </p:nvSpPr>
        <p:spPr>
          <a:xfrm>
            <a:off x="1643040" y="5578560"/>
            <a:ext cx="795240" cy="331560"/>
          </a:xfrm>
          <a:prstGeom prst="ellipse">
            <a:avLst/>
          </a:prstGeom>
          <a:solidFill>
            <a:srgbClr val="f9d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8" name="Freeform 279"/>
          <p:cNvSpPr/>
          <p:nvPr/>
        </p:nvSpPr>
        <p:spPr>
          <a:xfrm>
            <a:off x="1639800" y="5575320"/>
            <a:ext cx="798480" cy="334800"/>
          </a:xfrm>
          <a:custGeom>
            <a:avLst/>
            <a:gdLst>
              <a:gd name="textAreaLeft" fmla="*/ 0 w 798480"/>
              <a:gd name="textAreaRight" fmla="*/ 798840 w 798480"/>
              <a:gd name="textAreaTop" fmla="*/ 0 h 334800"/>
              <a:gd name="textAreaBottom" fmla="*/ 334800 h 334800"/>
            </a:gdLst>
            <a:ahLst/>
            <a:rect l="textAreaLeft" t="textAreaTop" r="textAreaRight" b="textAreaBottom"/>
            <a:pathLst>
              <a:path w="503" h="211">
                <a:moveTo>
                  <a:pt x="0" y="106"/>
                </a:moveTo>
                <a:lnTo>
                  <a:pt x="0" y="115"/>
                </a:lnTo>
                <a:lnTo>
                  <a:pt x="4" y="127"/>
                </a:lnTo>
                <a:lnTo>
                  <a:pt x="8" y="131"/>
                </a:lnTo>
                <a:lnTo>
                  <a:pt x="9" y="138"/>
                </a:lnTo>
                <a:lnTo>
                  <a:pt x="23" y="152"/>
                </a:lnTo>
                <a:lnTo>
                  <a:pt x="29" y="156"/>
                </a:lnTo>
                <a:lnTo>
                  <a:pt x="34" y="161"/>
                </a:lnTo>
                <a:lnTo>
                  <a:pt x="42" y="165"/>
                </a:lnTo>
                <a:lnTo>
                  <a:pt x="48" y="169"/>
                </a:lnTo>
                <a:lnTo>
                  <a:pt x="65" y="177"/>
                </a:lnTo>
                <a:lnTo>
                  <a:pt x="75" y="181"/>
                </a:lnTo>
                <a:lnTo>
                  <a:pt x="82" y="184"/>
                </a:lnTo>
                <a:lnTo>
                  <a:pt x="92" y="186"/>
                </a:lnTo>
                <a:lnTo>
                  <a:pt x="102" y="190"/>
                </a:lnTo>
                <a:lnTo>
                  <a:pt x="111" y="192"/>
                </a:lnTo>
                <a:lnTo>
                  <a:pt x="121" y="196"/>
                </a:lnTo>
                <a:lnTo>
                  <a:pt x="130" y="198"/>
                </a:lnTo>
                <a:lnTo>
                  <a:pt x="188" y="208"/>
                </a:lnTo>
                <a:lnTo>
                  <a:pt x="200" y="208"/>
                </a:lnTo>
                <a:lnTo>
                  <a:pt x="213" y="209"/>
                </a:lnTo>
                <a:lnTo>
                  <a:pt x="238" y="209"/>
                </a:lnTo>
                <a:lnTo>
                  <a:pt x="251" y="211"/>
                </a:lnTo>
                <a:lnTo>
                  <a:pt x="263" y="209"/>
                </a:lnTo>
                <a:lnTo>
                  <a:pt x="288" y="209"/>
                </a:lnTo>
                <a:lnTo>
                  <a:pt x="301" y="208"/>
                </a:lnTo>
                <a:lnTo>
                  <a:pt x="313" y="208"/>
                </a:lnTo>
                <a:lnTo>
                  <a:pt x="371" y="198"/>
                </a:lnTo>
                <a:lnTo>
                  <a:pt x="380" y="196"/>
                </a:lnTo>
                <a:lnTo>
                  <a:pt x="390" y="192"/>
                </a:lnTo>
                <a:lnTo>
                  <a:pt x="399" y="190"/>
                </a:lnTo>
                <a:lnTo>
                  <a:pt x="409" y="186"/>
                </a:lnTo>
                <a:lnTo>
                  <a:pt x="419" y="184"/>
                </a:lnTo>
                <a:lnTo>
                  <a:pt x="428" y="181"/>
                </a:lnTo>
                <a:lnTo>
                  <a:pt x="453" y="169"/>
                </a:lnTo>
                <a:lnTo>
                  <a:pt x="459" y="165"/>
                </a:lnTo>
                <a:lnTo>
                  <a:pt x="467" y="161"/>
                </a:lnTo>
                <a:lnTo>
                  <a:pt x="472" y="156"/>
                </a:lnTo>
                <a:lnTo>
                  <a:pt x="478" y="152"/>
                </a:lnTo>
                <a:lnTo>
                  <a:pt x="492" y="138"/>
                </a:lnTo>
                <a:lnTo>
                  <a:pt x="493" y="131"/>
                </a:lnTo>
                <a:lnTo>
                  <a:pt x="497" y="127"/>
                </a:lnTo>
                <a:lnTo>
                  <a:pt x="501" y="115"/>
                </a:lnTo>
                <a:lnTo>
                  <a:pt x="501" y="110"/>
                </a:lnTo>
                <a:lnTo>
                  <a:pt x="503" y="106"/>
                </a:lnTo>
                <a:lnTo>
                  <a:pt x="501" y="100"/>
                </a:lnTo>
                <a:lnTo>
                  <a:pt x="501" y="94"/>
                </a:lnTo>
                <a:lnTo>
                  <a:pt x="497" y="83"/>
                </a:lnTo>
                <a:lnTo>
                  <a:pt x="493" y="79"/>
                </a:lnTo>
                <a:lnTo>
                  <a:pt x="492" y="71"/>
                </a:lnTo>
                <a:lnTo>
                  <a:pt x="478" y="58"/>
                </a:lnTo>
                <a:lnTo>
                  <a:pt x="472" y="54"/>
                </a:lnTo>
                <a:lnTo>
                  <a:pt x="467" y="48"/>
                </a:lnTo>
                <a:lnTo>
                  <a:pt x="459" y="44"/>
                </a:lnTo>
                <a:lnTo>
                  <a:pt x="453" y="40"/>
                </a:lnTo>
                <a:lnTo>
                  <a:pt x="428" y="29"/>
                </a:lnTo>
                <a:lnTo>
                  <a:pt x="419" y="25"/>
                </a:lnTo>
                <a:lnTo>
                  <a:pt x="409" y="23"/>
                </a:lnTo>
                <a:lnTo>
                  <a:pt x="399" y="19"/>
                </a:lnTo>
                <a:lnTo>
                  <a:pt x="390" y="17"/>
                </a:lnTo>
                <a:lnTo>
                  <a:pt x="380" y="14"/>
                </a:lnTo>
                <a:lnTo>
                  <a:pt x="371" y="12"/>
                </a:lnTo>
                <a:lnTo>
                  <a:pt x="313" y="2"/>
                </a:lnTo>
                <a:lnTo>
                  <a:pt x="301" y="2"/>
                </a:lnTo>
                <a:lnTo>
                  <a:pt x="288" y="0"/>
                </a:lnTo>
                <a:lnTo>
                  <a:pt x="213" y="0"/>
                </a:lnTo>
                <a:lnTo>
                  <a:pt x="200" y="2"/>
                </a:lnTo>
                <a:lnTo>
                  <a:pt x="188" y="2"/>
                </a:lnTo>
                <a:lnTo>
                  <a:pt x="130" y="12"/>
                </a:lnTo>
                <a:lnTo>
                  <a:pt x="121" y="14"/>
                </a:lnTo>
                <a:lnTo>
                  <a:pt x="111" y="17"/>
                </a:lnTo>
                <a:lnTo>
                  <a:pt x="102" y="19"/>
                </a:lnTo>
                <a:lnTo>
                  <a:pt x="92" y="23"/>
                </a:lnTo>
                <a:lnTo>
                  <a:pt x="82" y="25"/>
                </a:lnTo>
                <a:lnTo>
                  <a:pt x="75" y="29"/>
                </a:lnTo>
                <a:lnTo>
                  <a:pt x="65" y="33"/>
                </a:lnTo>
                <a:lnTo>
                  <a:pt x="48" y="40"/>
                </a:lnTo>
                <a:lnTo>
                  <a:pt x="42" y="44"/>
                </a:lnTo>
                <a:lnTo>
                  <a:pt x="34" y="48"/>
                </a:lnTo>
                <a:lnTo>
                  <a:pt x="29" y="54"/>
                </a:lnTo>
                <a:lnTo>
                  <a:pt x="23" y="58"/>
                </a:lnTo>
                <a:lnTo>
                  <a:pt x="9" y="71"/>
                </a:lnTo>
                <a:lnTo>
                  <a:pt x="8" y="79"/>
                </a:lnTo>
                <a:lnTo>
                  <a:pt x="4" y="83"/>
                </a:lnTo>
                <a:lnTo>
                  <a:pt x="0" y="94"/>
                </a:lnTo>
                <a:lnTo>
                  <a:pt x="0" y="106"/>
                </a:lnTo>
                <a:lnTo>
                  <a:pt x="4" y="106"/>
                </a:lnTo>
                <a:lnTo>
                  <a:pt x="4" y="94"/>
                </a:lnTo>
                <a:lnTo>
                  <a:pt x="6" y="88"/>
                </a:lnTo>
                <a:lnTo>
                  <a:pt x="8" y="87"/>
                </a:lnTo>
                <a:lnTo>
                  <a:pt x="11" y="79"/>
                </a:lnTo>
                <a:lnTo>
                  <a:pt x="13" y="75"/>
                </a:lnTo>
                <a:lnTo>
                  <a:pt x="27" y="62"/>
                </a:lnTo>
                <a:lnTo>
                  <a:pt x="33" y="58"/>
                </a:lnTo>
                <a:lnTo>
                  <a:pt x="38" y="52"/>
                </a:lnTo>
                <a:lnTo>
                  <a:pt x="46" y="48"/>
                </a:lnTo>
                <a:lnTo>
                  <a:pt x="52" y="44"/>
                </a:lnTo>
                <a:lnTo>
                  <a:pt x="65" y="37"/>
                </a:lnTo>
                <a:lnTo>
                  <a:pt x="75" y="33"/>
                </a:lnTo>
                <a:lnTo>
                  <a:pt x="82" y="29"/>
                </a:lnTo>
                <a:lnTo>
                  <a:pt x="92" y="27"/>
                </a:lnTo>
                <a:lnTo>
                  <a:pt x="102" y="23"/>
                </a:lnTo>
                <a:lnTo>
                  <a:pt x="111" y="21"/>
                </a:lnTo>
                <a:lnTo>
                  <a:pt x="121" y="17"/>
                </a:lnTo>
                <a:lnTo>
                  <a:pt x="130" y="15"/>
                </a:lnTo>
                <a:lnTo>
                  <a:pt x="188" y="6"/>
                </a:lnTo>
                <a:lnTo>
                  <a:pt x="200" y="6"/>
                </a:lnTo>
                <a:lnTo>
                  <a:pt x="213" y="4"/>
                </a:lnTo>
                <a:lnTo>
                  <a:pt x="251" y="4"/>
                </a:lnTo>
                <a:lnTo>
                  <a:pt x="288" y="4"/>
                </a:lnTo>
                <a:lnTo>
                  <a:pt x="301" y="6"/>
                </a:lnTo>
                <a:lnTo>
                  <a:pt x="313" y="6"/>
                </a:lnTo>
                <a:lnTo>
                  <a:pt x="371" y="15"/>
                </a:lnTo>
                <a:lnTo>
                  <a:pt x="380" y="17"/>
                </a:lnTo>
                <a:lnTo>
                  <a:pt x="390" y="21"/>
                </a:lnTo>
                <a:lnTo>
                  <a:pt x="399" y="23"/>
                </a:lnTo>
                <a:lnTo>
                  <a:pt x="409" y="27"/>
                </a:lnTo>
                <a:lnTo>
                  <a:pt x="419" y="29"/>
                </a:lnTo>
                <a:lnTo>
                  <a:pt x="428" y="33"/>
                </a:lnTo>
                <a:lnTo>
                  <a:pt x="449" y="44"/>
                </a:lnTo>
                <a:lnTo>
                  <a:pt x="455" y="48"/>
                </a:lnTo>
                <a:lnTo>
                  <a:pt x="463" y="52"/>
                </a:lnTo>
                <a:lnTo>
                  <a:pt x="469" y="58"/>
                </a:lnTo>
                <a:lnTo>
                  <a:pt x="474" y="62"/>
                </a:lnTo>
                <a:lnTo>
                  <a:pt x="488" y="75"/>
                </a:lnTo>
                <a:lnTo>
                  <a:pt x="490" y="79"/>
                </a:lnTo>
                <a:lnTo>
                  <a:pt x="493" y="87"/>
                </a:lnTo>
                <a:lnTo>
                  <a:pt x="495" y="88"/>
                </a:lnTo>
                <a:lnTo>
                  <a:pt x="497" y="94"/>
                </a:lnTo>
                <a:lnTo>
                  <a:pt x="497" y="100"/>
                </a:lnTo>
                <a:lnTo>
                  <a:pt x="499" y="106"/>
                </a:lnTo>
                <a:lnTo>
                  <a:pt x="497" y="110"/>
                </a:lnTo>
                <a:lnTo>
                  <a:pt x="497" y="115"/>
                </a:lnTo>
                <a:lnTo>
                  <a:pt x="495" y="121"/>
                </a:lnTo>
                <a:lnTo>
                  <a:pt x="493" y="123"/>
                </a:lnTo>
                <a:lnTo>
                  <a:pt x="490" y="131"/>
                </a:lnTo>
                <a:lnTo>
                  <a:pt x="488" y="135"/>
                </a:lnTo>
                <a:lnTo>
                  <a:pt x="474" y="148"/>
                </a:lnTo>
                <a:lnTo>
                  <a:pt x="469" y="152"/>
                </a:lnTo>
                <a:lnTo>
                  <a:pt x="463" y="158"/>
                </a:lnTo>
                <a:lnTo>
                  <a:pt x="455" y="161"/>
                </a:lnTo>
                <a:lnTo>
                  <a:pt x="449" y="165"/>
                </a:lnTo>
                <a:lnTo>
                  <a:pt x="428" y="177"/>
                </a:lnTo>
                <a:lnTo>
                  <a:pt x="419" y="181"/>
                </a:lnTo>
                <a:lnTo>
                  <a:pt x="409" y="183"/>
                </a:lnTo>
                <a:lnTo>
                  <a:pt x="399" y="186"/>
                </a:lnTo>
                <a:lnTo>
                  <a:pt x="390" y="188"/>
                </a:lnTo>
                <a:lnTo>
                  <a:pt x="380" y="192"/>
                </a:lnTo>
                <a:lnTo>
                  <a:pt x="371" y="194"/>
                </a:lnTo>
                <a:lnTo>
                  <a:pt x="313" y="204"/>
                </a:lnTo>
                <a:lnTo>
                  <a:pt x="301" y="204"/>
                </a:lnTo>
                <a:lnTo>
                  <a:pt x="288" y="206"/>
                </a:lnTo>
                <a:lnTo>
                  <a:pt x="263" y="206"/>
                </a:lnTo>
                <a:lnTo>
                  <a:pt x="251" y="208"/>
                </a:lnTo>
                <a:lnTo>
                  <a:pt x="238" y="206"/>
                </a:lnTo>
                <a:lnTo>
                  <a:pt x="213" y="206"/>
                </a:lnTo>
                <a:lnTo>
                  <a:pt x="200" y="204"/>
                </a:lnTo>
                <a:lnTo>
                  <a:pt x="188" y="204"/>
                </a:lnTo>
                <a:lnTo>
                  <a:pt x="130" y="194"/>
                </a:lnTo>
                <a:lnTo>
                  <a:pt x="121" y="192"/>
                </a:lnTo>
                <a:lnTo>
                  <a:pt x="111" y="188"/>
                </a:lnTo>
                <a:lnTo>
                  <a:pt x="102" y="186"/>
                </a:lnTo>
                <a:lnTo>
                  <a:pt x="92" y="183"/>
                </a:lnTo>
                <a:lnTo>
                  <a:pt x="82" y="181"/>
                </a:lnTo>
                <a:lnTo>
                  <a:pt x="75" y="177"/>
                </a:lnTo>
                <a:lnTo>
                  <a:pt x="65" y="173"/>
                </a:lnTo>
                <a:lnTo>
                  <a:pt x="52" y="165"/>
                </a:lnTo>
                <a:lnTo>
                  <a:pt x="46" y="161"/>
                </a:lnTo>
                <a:lnTo>
                  <a:pt x="38" y="158"/>
                </a:lnTo>
                <a:lnTo>
                  <a:pt x="33" y="152"/>
                </a:lnTo>
                <a:lnTo>
                  <a:pt x="27" y="148"/>
                </a:lnTo>
                <a:lnTo>
                  <a:pt x="13" y="135"/>
                </a:lnTo>
                <a:lnTo>
                  <a:pt x="11" y="131"/>
                </a:lnTo>
                <a:lnTo>
                  <a:pt x="8" y="123"/>
                </a:lnTo>
                <a:lnTo>
                  <a:pt x="6" y="121"/>
                </a:lnTo>
                <a:lnTo>
                  <a:pt x="4" y="115"/>
                </a:lnTo>
                <a:lnTo>
                  <a:pt x="4" y="106"/>
                </a:lnTo>
                <a:lnTo>
                  <a:pt x="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9" name="Oval 280"/>
          <p:cNvSpPr/>
          <p:nvPr/>
        </p:nvSpPr>
        <p:spPr>
          <a:xfrm>
            <a:off x="1643040" y="4459320"/>
            <a:ext cx="795240" cy="333360"/>
          </a:xfrm>
          <a:prstGeom prst="ellipse">
            <a:avLst/>
          </a:prstGeom>
          <a:solidFill>
            <a:srgbClr val="f9d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0" name="Freeform 281"/>
          <p:cNvSpPr/>
          <p:nvPr/>
        </p:nvSpPr>
        <p:spPr>
          <a:xfrm>
            <a:off x="1639800" y="4456080"/>
            <a:ext cx="798480" cy="336600"/>
          </a:xfrm>
          <a:custGeom>
            <a:avLst/>
            <a:gdLst>
              <a:gd name="textAreaLeft" fmla="*/ 0 w 798480"/>
              <a:gd name="textAreaRight" fmla="*/ 798840 w 798480"/>
              <a:gd name="textAreaTop" fmla="*/ 0 h 336600"/>
              <a:gd name="textAreaBottom" fmla="*/ 336960 h 336600"/>
            </a:gdLst>
            <a:ahLst/>
            <a:rect l="textAreaLeft" t="textAreaTop" r="textAreaRight" b="textAreaBottom"/>
            <a:pathLst>
              <a:path w="503" h="212">
                <a:moveTo>
                  <a:pt x="0" y="106"/>
                </a:moveTo>
                <a:lnTo>
                  <a:pt x="0" y="116"/>
                </a:lnTo>
                <a:lnTo>
                  <a:pt x="4" y="127"/>
                </a:lnTo>
                <a:lnTo>
                  <a:pt x="8" y="131"/>
                </a:lnTo>
                <a:lnTo>
                  <a:pt x="9" y="139"/>
                </a:lnTo>
                <a:lnTo>
                  <a:pt x="23" y="152"/>
                </a:lnTo>
                <a:lnTo>
                  <a:pt x="29" y="156"/>
                </a:lnTo>
                <a:lnTo>
                  <a:pt x="34" y="162"/>
                </a:lnTo>
                <a:lnTo>
                  <a:pt x="42" y="165"/>
                </a:lnTo>
                <a:lnTo>
                  <a:pt x="48" y="169"/>
                </a:lnTo>
                <a:lnTo>
                  <a:pt x="65" y="177"/>
                </a:lnTo>
                <a:lnTo>
                  <a:pt x="75" y="181"/>
                </a:lnTo>
                <a:lnTo>
                  <a:pt x="82" y="185"/>
                </a:lnTo>
                <a:lnTo>
                  <a:pt x="92" y="187"/>
                </a:lnTo>
                <a:lnTo>
                  <a:pt x="102" y="190"/>
                </a:lnTo>
                <a:lnTo>
                  <a:pt x="111" y="192"/>
                </a:lnTo>
                <a:lnTo>
                  <a:pt x="121" y="196"/>
                </a:lnTo>
                <a:lnTo>
                  <a:pt x="130" y="198"/>
                </a:lnTo>
                <a:lnTo>
                  <a:pt x="188" y="208"/>
                </a:lnTo>
                <a:lnTo>
                  <a:pt x="200" y="208"/>
                </a:lnTo>
                <a:lnTo>
                  <a:pt x="213" y="210"/>
                </a:lnTo>
                <a:lnTo>
                  <a:pt x="238" y="210"/>
                </a:lnTo>
                <a:lnTo>
                  <a:pt x="251" y="212"/>
                </a:lnTo>
                <a:lnTo>
                  <a:pt x="263" y="210"/>
                </a:lnTo>
                <a:lnTo>
                  <a:pt x="288" y="210"/>
                </a:lnTo>
                <a:lnTo>
                  <a:pt x="301" y="208"/>
                </a:lnTo>
                <a:lnTo>
                  <a:pt x="313" y="208"/>
                </a:lnTo>
                <a:lnTo>
                  <a:pt x="371" y="198"/>
                </a:lnTo>
                <a:lnTo>
                  <a:pt x="380" y="196"/>
                </a:lnTo>
                <a:lnTo>
                  <a:pt x="390" y="192"/>
                </a:lnTo>
                <a:lnTo>
                  <a:pt x="399" y="190"/>
                </a:lnTo>
                <a:lnTo>
                  <a:pt x="409" y="187"/>
                </a:lnTo>
                <a:lnTo>
                  <a:pt x="419" y="185"/>
                </a:lnTo>
                <a:lnTo>
                  <a:pt x="428" y="181"/>
                </a:lnTo>
                <a:lnTo>
                  <a:pt x="453" y="169"/>
                </a:lnTo>
                <a:lnTo>
                  <a:pt x="459" y="165"/>
                </a:lnTo>
                <a:lnTo>
                  <a:pt x="467" y="162"/>
                </a:lnTo>
                <a:lnTo>
                  <a:pt x="472" y="156"/>
                </a:lnTo>
                <a:lnTo>
                  <a:pt x="478" y="152"/>
                </a:lnTo>
                <a:lnTo>
                  <a:pt x="492" y="139"/>
                </a:lnTo>
                <a:lnTo>
                  <a:pt x="493" y="131"/>
                </a:lnTo>
                <a:lnTo>
                  <a:pt x="497" y="127"/>
                </a:lnTo>
                <a:lnTo>
                  <a:pt x="501" y="116"/>
                </a:lnTo>
                <a:lnTo>
                  <a:pt x="501" y="110"/>
                </a:lnTo>
                <a:lnTo>
                  <a:pt x="503" y="106"/>
                </a:lnTo>
                <a:lnTo>
                  <a:pt x="501" y="100"/>
                </a:lnTo>
                <a:lnTo>
                  <a:pt x="501" y="94"/>
                </a:lnTo>
                <a:lnTo>
                  <a:pt x="497" y="83"/>
                </a:lnTo>
                <a:lnTo>
                  <a:pt x="493" y="79"/>
                </a:lnTo>
                <a:lnTo>
                  <a:pt x="492" y="71"/>
                </a:lnTo>
                <a:lnTo>
                  <a:pt x="478" y="58"/>
                </a:lnTo>
                <a:lnTo>
                  <a:pt x="472" y="54"/>
                </a:lnTo>
                <a:lnTo>
                  <a:pt x="467" y="48"/>
                </a:lnTo>
                <a:lnTo>
                  <a:pt x="459" y="44"/>
                </a:lnTo>
                <a:lnTo>
                  <a:pt x="453" y="41"/>
                </a:lnTo>
                <a:lnTo>
                  <a:pt x="428" y="29"/>
                </a:lnTo>
                <a:lnTo>
                  <a:pt x="419" y="25"/>
                </a:lnTo>
                <a:lnTo>
                  <a:pt x="409" y="23"/>
                </a:lnTo>
                <a:lnTo>
                  <a:pt x="399" y="20"/>
                </a:lnTo>
                <a:lnTo>
                  <a:pt x="390" y="18"/>
                </a:lnTo>
                <a:lnTo>
                  <a:pt x="380" y="14"/>
                </a:lnTo>
                <a:lnTo>
                  <a:pt x="371" y="12"/>
                </a:lnTo>
                <a:lnTo>
                  <a:pt x="313" y="2"/>
                </a:lnTo>
                <a:lnTo>
                  <a:pt x="301" y="2"/>
                </a:lnTo>
                <a:lnTo>
                  <a:pt x="288" y="0"/>
                </a:lnTo>
                <a:lnTo>
                  <a:pt x="213" y="0"/>
                </a:lnTo>
                <a:lnTo>
                  <a:pt x="200" y="2"/>
                </a:lnTo>
                <a:lnTo>
                  <a:pt x="188" y="2"/>
                </a:lnTo>
                <a:lnTo>
                  <a:pt x="130" y="12"/>
                </a:lnTo>
                <a:lnTo>
                  <a:pt x="121" y="14"/>
                </a:lnTo>
                <a:lnTo>
                  <a:pt x="111" y="18"/>
                </a:lnTo>
                <a:lnTo>
                  <a:pt x="102" y="20"/>
                </a:lnTo>
                <a:lnTo>
                  <a:pt x="92" y="23"/>
                </a:lnTo>
                <a:lnTo>
                  <a:pt x="82" y="25"/>
                </a:lnTo>
                <a:lnTo>
                  <a:pt x="75" y="29"/>
                </a:lnTo>
                <a:lnTo>
                  <a:pt x="65" y="33"/>
                </a:lnTo>
                <a:lnTo>
                  <a:pt x="48" y="41"/>
                </a:lnTo>
                <a:lnTo>
                  <a:pt x="42" y="44"/>
                </a:lnTo>
                <a:lnTo>
                  <a:pt x="34" y="48"/>
                </a:lnTo>
                <a:lnTo>
                  <a:pt x="29" y="54"/>
                </a:lnTo>
                <a:lnTo>
                  <a:pt x="23" y="58"/>
                </a:lnTo>
                <a:lnTo>
                  <a:pt x="9" y="71"/>
                </a:lnTo>
                <a:lnTo>
                  <a:pt x="8" y="79"/>
                </a:lnTo>
                <a:lnTo>
                  <a:pt x="4" y="83"/>
                </a:lnTo>
                <a:lnTo>
                  <a:pt x="0" y="94"/>
                </a:lnTo>
                <a:lnTo>
                  <a:pt x="0" y="106"/>
                </a:lnTo>
                <a:lnTo>
                  <a:pt x="4" y="106"/>
                </a:lnTo>
                <a:lnTo>
                  <a:pt x="4" y="94"/>
                </a:lnTo>
                <a:lnTo>
                  <a:pt x="6" y="89"/>
                </a:lnTo>
                <a:lnTo>
                  <a:pt x="8" y="87"/>
                </a:lnTo>
                <a:lnTo>
                  <a:pt x="11" y="79"/>
                </a:lnTo>
                <a:lnTo>
                  <a:pt x="13" y="75"/>
                </a:lnTo>
                <a:lnTo>
                  <a:pt x="27" y="62"/>
                </a:lnTo>
                <a:lnTo>
                  <a:pt x="33" y="58"/>
                </a:lnTo>
                <a:lnTo>
                  <a:pt x="38" y="52"/>
                </a:lnTo>
                <a:lnTo>
                  <a:pt x="46" y="48"/>
                </a:lnTo>
                <a:lnTo>
                  <a:pt x="52" y="44"/>
                </a:lnTo>
                <a:lnTo>
                  <a:pt x="65" y="37"/>
                </a:lnTo>
                <a:lnTo>
                  <a:pt x="75" y="33"/>
                </a:lnTo>
                <a:lnTo>
                  <a:pt x="82" y="29"/>
                </a:lnTo>
                <a:lnTo>
                  <a:pt x="92" y="27"/>
                </a:lnTo>
                <a:lnTo>
                  <a:pt x="102" y="23"/>
                </a:lnTo>
                <a:lnTo>
                  <a:pt x="111" y="21"/>
                </a:lnTo>
                <a:lnTo>
                  <a:pt x="121" y="18"/>
                </a:lnTo>
                <a:lnTo>
                  <a:pt x="130" y="16"/>
                </a:lnTo>
                <a:lnTo>
                  <a:pt x="188" y="6"/>
                </a:lnTo>
                <a:lnTo>
                  <a:pt x="200" y="6"/>
                </a:lnTo>
                <a:lnTo>
                  <a:pt x="213" y="4"/>
                </a:lnTo>
                <a:lnTo>
                  <a:pt x="251" y="4"/>
                </a:lnTo>
                <a:lnTo>
                  <a:pt x="288" y="4"/>
                </a:lnTo>
                <a:lnTo>
                  <a:pt x="301" y="6"/>
                </a:lnTo>
                <a:lnTo>
                  <a:pt x="313" y="6"/>
                </a:lnTo>
                <a:lnTo>
                  <a:pt x="371" y="16"/>
                </a:lnTo>
                <a:lnTo>
                  <a:pt x="380" y="18"/>
                </a:lnTo>
                <a:lnTo>
                  <a:pt x="390" y="21"/>
                </a:lnTo>
                <a:lnTo>
                  <a:pt x="399" y="23"/>
                </a:lnTo>
                <a:lnTo>
                  <a:pt x="409" y="27"/>
                </a:lnTo>
                <a:lnTo>
                  <a:pt x="419" y="29"/>
                </a:lnTo>
                <a:lnTo>
                  <a:pt x="428" y="33"/>
                </a:lnTo>
                <a:lnTo>
                  <a:pt x="449" y="44"/>
                </a:lnTo>
                <a:lnTo>
                  <a:pt x="455" y="48"/>
                </a:lnTo>
                <a:lnTo>
                  <a:pt x="463" y="52"/>
                </a:lnTo>
                <a:lnTo>
                  <a:pt x="469" y="58"/>
                </a:lnTo>
                <a:lnTo>
                  <a:pt x="474" y="62"/>
                </a:lnTo>
                <a:lnTo>
                  <a:pt x="488" y="75"/>
                </a:lnTo>
                <a:lnTo>
                  <a:pt x="490" y="79"/>
                </a:lnTo>
                <a:lnTo>
                  <a:pt x="493" y="87"/>
                </a:lnTo>
                <a:lnTo>
                  <a:pt x="495" y="89"/>
                </a:lnTo>
                <a:lnTo>
                  <a:pt x="497" y="94"/>
                </a:lnTo>
                <a:lnTo>
                  <a:pt x="497" y="100"/>
                </a:lnTo>
                <a:lnTo>
                  <a:pt x="499" y="106"/>
                </a:lnTo>
                <a:lnTo>
                  <a:pt x="497" y="110"/>
                </a:lnTo>
                <a:lnTo>
                  <a:pt x="497" y="116"/>
                </a:lnTo>
                <a:lnTo>
                  <a:pt x="495" y="121"/>
                </a:lnTo>
                <a:lnTo>
                  <a:pt x="493" y="123"/>
                </a:lnTo>
                <a:lnTo>
                  <a:pt x="490" y="131"/>
                </a:lnTo>
                <a:lnTo>
                  <a:pt x="488" y="135"/>
                </a:lnTo>
                <a:lnTo>
                  <a:pt x="474" y="148"/>
                </a:lnTo>
                <a:lnTo>
                  <a:pt x="469" y="152"/>
                </a:lnTo>
                <a:lnTo>
                  <a:pt x="463" y="158"/>
                </a:lnTo>
                <a:lnTo>
                  <a:pt x="455" y="162"/>
                </a:lnTo>
                <a:lnTo>
                  <a:pt x="449" y="165"/>
                </a:lnTo>
                <a:lnTo>
                  <a:pt x="428" y="177"/>
                </a:lnTo>
                <a:lnTo>
                  <a:pt x="419" y="181"/>
                </a:lnTo>
                <a:lnTo>
                  <a:pt x="409" y="183"/>
                </a:lnTo>
                <a:lnTo>
                  <a:pt x="399" y="187"/>
                </a:lnTo>
                <a:lnTo>
                  <a:pt x="390" y="189"/>
                </a:lnTo>
                <a:lnTo>
                  <a:pt x="380" y="192"/>
                </a:lnTo>
                <a:lnTo>
                  <a:pt x="371" y="194"/>
                </a:lnTo>
                <a:lnTo>
                  <a:pt x="313" y="204"/>
                </a:lnTo>
                <a:lnTo>
                  <a:pt x="301" y="204"/>
                </a:lnTo>
                <a:lnTo>
                  <a:pt x="288" y="206"/>
                </a:lnTo>
                <a:lnTo>
                  <a:pt x="263" y="206"/>
                </a:lnTo>
                <a:lnTo>
                  <a:pt x="251" y="208"/>
                </a:lnTo>
                <a:lnTo>
                  <a:pt x="238" y="206"/>
                </a:lnTo>
                <a:lnTo>
                  <a:pt x="213" y="206"/>
                </a:lnTo>
                <a:lnTo>
                  <a:pt x="200" y="204"/>
                </a:lnTo>
                <a:lnTo>
                  <a:pt x="188" y="204"/>
                </a:lnTo>
                <a:lnTo>
                  <a:pt x="130" y="194"/>
                </a:lnTo>
                <a:lnTo>
                  <a:pt x="121" y="192"/>
                </a:lnTo>
                <a:lnTo>
                  <a:pt x="111" y="189"/>
                </a:lnTo>
                <a:lnTo>
                  <a:pt x="102" y="187"/>
                </a:lnTo>
                <a:lnTo>
                  <a:pt x="92" y="183"/>
                </a:lnTo>
                <a:lnTo>
                  <a:pt x="82" y="181"/>
                </a:lnTo>
                <a:lnTo>
                  <a:pt x="75" y="177"/>
                </a:lnTo>
                <a:lnTo>
                  <a:pt x="65" y="173"/>
                </a:lnTo>
                <a:lnTo>
                  <a:pt x="52" y="165"/>
                </a:lnTo>
                <a:lnTo>
                  <a:pt x="46" y="162"/>
                </a:lnTo>
                <a:lnTo>
                  <a:pt x="38" y="158"/>
                </a:lnTo>
                <a:lnTo>
                  <a:pt x="33" y="152"/>
                </a:lnTo>
                <a:lnTo>
                  <a:pt x="27" y="148"/>
                </a:lnTo>
                <a:lnTo>
                  <a:pt x="13" y="135"/>
                </a:lnTo>
                <a:lnTo>
                  <a:pt x="11" y="131"/>
                </a:lnTo>
                <a:lnTo>
                  <a:pt x="8" y="123"/>
                </a:lnTo>
                <a:lnTo>
                  <a:pt x="6" y="121"/>
                </a:lnTo>
                <a:lnTo>
                  <a:pt x="4" y="116"/>
                </a:lnTo>
                <a:lnTo>
                  <a:pt x="4" y="106"/>
                </a:lnTo>
                <a:lnTo>
                  <a:pt x="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1" name="Rectangle 282"/>
          <p:cNvSpPr/>
          <p:nvPr/>
        </p:nvSpPr>
        <p:spPr>
          <a:xfrm>
            <a:off x="2737080" y="1484280"/>
            <a:ext cx="49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a:t>
            </a:r>
            <a:endParaRPr b="0" lang="en-US" sz="1800" spc="-1" strike="noStrike">
              <a:solidFill>
                <a:srgbClr val="000000"/>
              </a:solidFill>
              <a:latin typeface="Times New Roman"/>
            </a:endParaRPr>
          </a:p>
        </p:txBody>
      </p:sp>
      <p:sp>
        <p:nvSpPr>
          <p:cNvPr id="2262" name="Rectangle 283"/>
          <p:cNvSpPr/>
          <p:nvPr/>
        </p:nvSpPr>
        <p:spPr>
          <a:xfrm>
            <a:off x="2700720" y="17496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s</a:t>
            </a:r>
            <a:endParaRPr b="0" lang="en-US" sz="1800" spc="-1" strike="noStrike">
              <a:solidFill>
                <a:srgbClr val="000000"/>
              </a:solidFill>
              <a:latin typeface="Times New Roman"/>
            </a:endParaRPr>
          </a:p>
        </p:txBody>
      </p:sp>
      <p:sp>
        <p:nvSpPr>
          <p:cNvPr id="2263" name="Line 284"/>
          <p:cNvSpPr/>
          <p:nvPr/>
        </p:nvSpPr>
        <p:spPr>
          <a:xfrm flipH="1">
            <a:off x="1155240" y="200016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4" name="Freeform 285"/>
          <p:cNvSpPr/>
          <p:nvPr/>
        </p:nvSpPr>
        <p:spPr>
          <a:xfrm>
            <a:off x="1001880" y="2309760"/>
            <a:ext cx="271440" cy="4302000"/>
          </a:xfrm>
          <a:custGeom>
            <a:avLst/>
            <a:gdLst>
              <a:gd name="textAreaLeft" fmla="*/ 0 w 271440"/>
              <a:gd name="textAreaRight" fmla="*/ 271800 w 271440"/>
              <a:gd name="textAreaTop" fmla="*/ 0 h 4302000"/>
              <a:gd name="textAreaBottom" fmla="*/ 4302360 h 4302000"/>
            </a:gdLst>
            <a:ahLst/>
            <a:rect l="textAreaLeft" t="textAreaTop" r="textAreaRight" b="textAreaBottom"/>
            <a:pathLst>
              <a:path w="171" h="2710">
                <a:moveTo>
                  <a:pt x="8" y="2"/>
                </a:moveTo>
                <a:lnTo>
                  <a:pt x="8" y="0"/>
                </a:lnTo>
                <a:lnTo>
                  <a:pt x="4" y="0"/>
                </a:lnTo>
                <a:lnTo>
                  <a:pt x="4" y="2"/>
                </a:lnTo>
                <a:lnTo>
                  <a:pt x="0" y="2676"/>
                </a:lnTo>
                <a:lnTo>
                  <a:pt x="0" y="2677"/>
                </a:lnTo>
                <a:lnTo>
                  <a:pt x="2" y="2679"/>
                </a:lnTo>
                <a:lnTo>
                  <a:pt x="6" y="2679"/>
                </a:lnTo>
                <a:lnTo>
                  <a:pt x="4" y="2679"/>
                </a:lnTo>
                <a:lnTo>
                  <a:pt x="8" y="2683"/>
                </a:lnTo>
                <a:lnTo>
                  <a:pt x="12" y="2683"/>
                </a:lnTo>
                <a:lnTo>
                  <a:pt x="10" y="2681"/>
                </a:lnTo>
                <a:lnTo>
                  <a:pt x="10" y="2685"/>
                </a:lnTo>
                <a:lnTo>
                  <a:pt x="12" y="2687"/>
                </a:lnTo>
                <a:lnTo>
                  <a:pt x="16" y="2687"/>
                </a:lnTo>
                <a:lnTo>
                  <a:pt x="14" y="2687"/>
                </a:lnTo>
                <a:lnTo>
                  <a:pt x="18" y="2691"/>
                </a:lnTo>
                <a:lnTo>
                  <a:pt x="22" y="2691"/>
                </a:lnTo>
                <a:lnTo>
                  <a:pt x="20" y="2691"/>
                </a:lnTo>
                <a:lnTo>
                  <a:pt x="22" y="2693"/>
                </a:lnTo>
                <a:lnTo>
                  <a:pt x="25" y="2693"/>
                </a:lnTo>
                <a:lnTo>
                  <a:pt x="24" y="2693"/>
                </a:lnTo>
                <a:lnTo>
                  <a:pt x="25" y="2695"/>
                </a:lnTo>
                <a:lnTo>
                  <a:pt x="29" y="2695"/>
                </a:lnTo>
                <a:lnTo>
                  <a:pt x="27" y="2695"/>
                </a:lnTo>
                <a:lnTo>
                  <a:pt x="29" y="2697"/>
                </a:lnTo>
                <a:lnTo>
                  <a:pt x="33" y="2697"/>
                </a:lnTo>
                <a:lnTo>
                  <a:pt x="31" y="2697"/>
                </a:lnTo>
                <a:lnTo>
                  <a:pt x="33" y="2699"/>
                </a:lnTo>
                <a:lnTo>
                  <a:pt x="37" y="2699"/>
                </a:lnTo>
                <a:lnTo>
                  <a:pt x="35" y="2699"/>
                </a:lnTo>
                <a:lnTo>
                  <a:pt x="37" y="2700"/>
                </a:lnTo>
                <a:lnTo>
                  <a:pt x="41" y="2700"/>
                </a:lnTo>
                <a:lnTo>
                  <a:pt x="39" y="2700"/>
                </a:lnTo>
                <a:lnTo>
                  <a:pt x="41" y="2702"/>
                </a:lnTo>
                <a:lnTo>
                  <a:pt x="47" y="2702"/>
                </a:lnTo>
                <a:lnTo>
                  <a:pt x="45" y="2702"/>
                </a:lnTo>
                <a:lnTo>
                  <a:pt x="47" y="2704"/>
                </a:lnTo>
                <a:lnTo>
                  <a:pt x="52" y="2704"/>
                </a:lnTo>
                <a:lnTo>
                  <a:pt x="50" y="2704"/>
                </a:lnTo>
                <a:lnTo>
                  <a:pt x="52" y="2706"/>
                </a:lnTo>
                <a:lnTo>
                  <a:pt x="58" y="2706"/>
                </a:lnTo>
                <a:lnTo>
                  <a:pt x="56" y="2706"/>
                </a:lnTo>
                <a:lnTo>
                  <a:pt x="58" y="2708"/>
                </a:lnTo>
                <a:lnTo>
                  <a:pt x="70" y="2708"/>
                </a:lnTo>
                <a:lnTo>
                  <a:pt x="68" y="2708"/>
                </a:lnTo>
                <a:lnTo>
                  <a:pt x="70" y="2710"/>
                </a:lnTo>
                <a:lnTo>
                  <a:pt x="100" y="2710"/>
                </a:lnTo>
                <a:lnTo>
                  <a:pt x="100" y="2706"/>
                </a:lnTo>
                <a:lnTo>
                  <a:pt x="98" y="2708"/>
                </a:lnTo>
                <a:lnTo>
                  <a:pt x="110" y="2708"/>
                </a:lnTo>
                <a:lnTo>
                  <a:pt x="112" y="2706"/>
                </a:lnTo>
                <a:lnTo>
                  <a:pt x="110" y="2706"/>
                </a:lnTo>
                <a:lnTo>
                  <a:pt x="118" y="2706"/>
                </a:lnTo>
                <a:lnTo>
                  <a:pt x="120" y="2704"/>
                </a:lnTo>
                <a:lnTo>
                  <a:pt x="118" y="2704"/>
                </a:lnTo>
                <a:lnTo>
                  <a:pt x="125" y="2704"/>
                </a:lnTo>
                <a:lnTo>
                  <a:pt x="127" y="2702"/>
                </a:lnTo>
                <a:lnTo>
                  <a:pt x="125" y="2702"/>
                </a:lnTo>
                <a:lnTo>
                  <a:pt x="129" y="2702"/>
                </a:lnTo>
                <a:lnTo>
                  <a:pt x="131" y="2700"/>
                </a:lnTo>
                <a:lnTo>
                  <a:pt x="129" y="2700"/>
                </a:lnTo>
                <a:lnTo>
                  <a:pt x="133" y="2700"/>
                </a:lnTo>
                <a:lnTo>
                  <a:pt x="135" y="2699"/>
                </a:lnTo>
                <a:lnTo>
                  <a:pt x="133" y="2699"/>
                </a:lnTo>
                <a:lnTo>
                  <a:pt x="137" y="2699"/>
                </a:lnTo>
                <a:lnTo>
                  <a:pt x="139" y="2697"/>
                </a:lnTo>
                <a:lnTo>
                  <a:pt x="137" y="2697"/>
                </a:lnTo>
                <a:lnTo>
                  <a:pt x="141" y="2697"/>
                </a:lnTo>
                <a:lnTo>
                  <a:pt x="143" y="2695"/>
                </a:lnTo>
                <a:lnTo>
                  <a:pt x="141" y="2695"/>
                </a:lnTo>
                <a:lnTo>
                  <a:pt x="145" y="2695"/>
                </a:lnTo>
                <a:lnTo>
                  <a:pt x="146" y="2693"/>
                </a:lnTo>
                <a:lnTo>
                  <a:pt x="145" y="2693"/>
                </a:lnTo>
                <a:lnTo>
                  <a:pt x="148" y="2693"/>
                </a:lnTo>
                <a:lnTo>
                  <a:pt x="150" y="2691"/>
                </a:lnTo>
                <a:lnTo>
                  <a:pt x="148" y="2691"/>
                </a:lnTo>
                <a:lnTo>
                  <a:pt x="152" y="2691"/>
                </a:lnTo>
                <a:lnTo>
                  <a:pt x="154" y="2689"/>
                </a:lnTo>
                <a:lnTo>
                  <a:pt x="152" y="2689"/>
                </a:lnTo>
                <a:lnTo>
                  <a:pt x="156" y="2689"/>
                </a:lnTo>
                <a:lnTo>
                  <a:pt x="160" y="2685"/>
                </a:lnTo>
                <a:lnTo>
                  <a:pt x="158" y="2685"/>
                </a:lnTo>
                <a:lnTo>
                  <a:pt x="162" y="2685"/>
                </a:lnTo>
                <a:lnTo>
                  <a:pt x="166" y="2681"/>
                </a:lnTo>
                <a:lnTo>
                  <a:pt x="164" y="2681"/>
                </a:lnTo>
                <a:lnTo>
                  <a:pt x="168" y="2681"/>
                </a:lnTo>
                <a:lnTo>
                  <a:pt x="169" y="2679"/>
                </a:lnTo>
                <a:lnTo>
                  <a:pt x="169" y="2676"/>
                </a:lnTo>
                <a:lnTo>
                  <a:pt x="168" y="2677"/>
                </a:lnTo>
                <a:lnTo>
                  <a:pt x="171" y="2677"/>
                </a:lnTo>
                <a:lnTo>
                  <a:pt x="171" y="2"/>
                </a:lnTo>
                <a:lnTo>
                  <a:pt x="168" y="2"/>
                </a:lnTo>
                <a:lnTo>
                  <a:pt x="168" y="4"/>
                </a:lnTo>
                <a:lnTo>
                  <a:pt x="168" y="2676"/>
                </a:lnTo>
                <a:lnTo>
                  <a:pt x="169" y="2674"/>
                </a:lnTo>
                <a:lnTo>
                  <a:pt x="168" y="2674"/>
                </a:lnTo>
                <a:lnTo>
                  <a:pt x="166" y="2674"/>
                </a:lnTo>
                <a:lnTo>
                  <a:pt x="166" y="2676"/>
                </a:lnTo>
                <a:lnTo>
                  <a:pt x="166" y="2677"/>
                </a:lnTo>
                <a:lnTo>
                  <a:pt x="166" y="2676"/>
                </a:lnTo>
                <a:lnTo>
                  <a:pt x="164" y="2677"/>
                </a:lnTo>
                <a:lnTo>
                  <a:pt x="166" y="2677"/>
                </a:lnTo>
                <a:lnTo>
                  <a:pt x="164" y="2677"/>
                </a:lnTo>
                <a:lnTo>
                  <a:pt x="162" y="2677"/>
                </a:lnTo>
                <a:lnTo>
                  <a:pt x="158" y="2681"/>
                </a:lnTo>
                <a:lnTo>
                  <a:pt x="160" y="2681"/>
                </a:lnTo>
                <a:lnTo>
                  <a:pt x="158" y="2681"/>
                </a:lnTo>
                <a:lnTo>
                  <a:pt x="156" y="2681"/>
                </a:lnTo>
                <a:lnTo>
                  <a:pt x="152" y="2685"/>
                </a:lnTo>
                <a:lnTo>
                  <a:pt x="154" y="2685"/>
                </a:lnTo>
                <a:lnTo>
                  <a:pt x="152" y="2685"/>
                </a:lnTo>
                <a:lnTo>
                  <a:pt x="150" y="2685"/>
                </a:lnTo>
                <a:lnTo>
                  <a:pt x="148" y="2687"/>
                </a:lnTo>
                <a:lnTo>
                  <a:pt x="150" y="2687"/>
                </a:lnTo>
                <a:lnTo>
                  <a:pt x="148" y="2687"/>
                </a:lnTo>
                <a:lnTo>
                  <a:pt x="146" y="2687"/>
                </a:lnTo>
                <a:lnTo>
                  <a:pt x="145" y="2689"/>
                </a:lnTo>
                <a:lnTo>
                  <a:pt x="146" y="2689"/>
                </a:lnTo>
                <a:lnTo>
                  <a:pt x="145" y="2689"/>
                </a:lnTo>
                <a:lnTo>
                  <a:pt x="143" y="2689"/>
                </a:lnTo>
                <a:lnTo>
                  <a:pt x="141" y="2691"/>
                </a:lnTo>
                <a:lnTo>
                  <a:pt x="143" y="2691"/>
                </a:lnTo>
                <a:lnTo>
                  <a:pt x="141" y="2691"/>
                </a:lnTo>
                <a:lnTo>
                  <a:pt x="139" y="2691"/>
                </a:lnTo>
                <a:lnTo>
                  <a:pt x="137" y="2693"/>
                </a:lnTo>
                <a:lnTo>
                  <a:pt x="139" y="2693"/>
                </a:lnTo>
                <a:lnTo>
                  <a:pt x="137" y="2693"/>
                </a:lnTo>
                <a:lnTo>
                  <a:pt x="135" y="2693"/>
                </a:lnTo>
                <a:lnTo>
                  <a:pt x="133" y="2695"/>
                </a:lnTo>
                <a:lnTo>
                  <a:pt x="135" y="2695"/>
                </a:lnTo>
                <a:lnTo>
                  <a:pt x="133" y="2695"/>
                </a:lnTo>
                <a:lnTo>
                  <a:pt x="131" y="2695"/>
                </a:lnTo>
                <a:lnTo>
                  <a:pt x="129" y="2697"/>
                </a:lnTo>
                <a:lnTo>
                  <a:pt x="131" y="2697"/>
                </a:lnTo>
                <a:lnTo>
                  <a:pt x="129" y="2697"/>
                </a:lnTo>
                <a:lnTo>
                  <a:pt x="127" y="2697"/>
                </a:lnTo>
                <a:lnTo>
                  <a:pt x="125" y="2699"/>
                </a:lnTo>
                <a:lnTo>
                  <a:pt x="127" y="2699"/>
                </a:lnTo>
                <a:lnTo>
                  <a:pt x="125" y="2699"/>
                </a:lnTo>
                <a:lnTo>
                  <a:pt x="123" y="2699"/>
                </a:lnTo>
                <a:lnTo>
                  <a:pt x="121" y="2700"/>
                </a:lnTo>
                <a:lnTo>
                  <a:pt x="123" y="2700"/>
                </a:lnTo>
                <a:lnTo>
                  <a:pt x="118" y="2700"/>
                </a:lnTo>
                <a:lnTo>
                  <a:pt x="116" y="2700"/>
                </a:lnTo>
                <a:lnTo>
                  <a:pt x="114" y="2702"/>
                </a:lnTo>
                <a:lnTo>
                  <a:pt x="116" y="2702"/>
                </a:lnTo>
                <a:lnTo>
                  <a:pt x="110" y="2702"/>
                </a:lnTo>
                <a:lnTo>
                  <a:pt x="108" y="2702"/>
                </a:lnTo>
                <a:lnTo>
                  <a:pt x="106" y="2704"/>
                </a:lnTo>
                <a:lnTo>
                  <a:pt x="108" y="2704"/>
                </a:lnTo>
                <a:lnTo>
                  <a:pt x="98" y="2704"/>
                </a:lnTo>
                <a:lnTo>
                  <a:pt x="97" y="2704"/>
                </a:lnTo>
                <a:lnTo>
                  <a:pt x="97" y="2706"/>
                </a:lnTo>
                <a:lnTo>
                  <a:pt x="97" y="2708"/>
                </a:lnTo>
                <a:lnTo>
                  <a:pt x="98" y="2706"/>
                </a:lnTo>
                <a:lnTo>
                  <a:pt x="72" y="2706"/>
                </a:lnTo>
                <a:lnTo>
                  <a:pt x="73" y="2706"/>
                </a:lnTo>
                <a:lnTo>
                  <a:pt x="72" y="2704"/>
                </a:lnTo>
                <a:lnTo>
                  <a:pt x="70" y="2704"/>
                </a:lnTo>
                <a:lnTo>
                  <a:pt x="60" y="2704"/>
                </a:lnTo>
                <a:lnTo>
                  <a:pt x="62" y="2704"/>
                </a:lnTo>
                <a:lnTo>
                  <a:pt x="60" y="2702"/>
                </a:lnTo>
                <a:lnTo>
                  <a:pt x="58" y="2702"/>
                </a:lnTo>
                <a:lnTo>
                  <a:pt x="54" y="2702"/>
                </a:lnTo>
                <a:lnTo>
                  <a:pt x="56" y="2702"/>
                </a:lnTo>
                <a:lnTo>
                  <a:pt x="54" y="2700"/>
                </a:lnTo>
                <a:lnTo>
                  <a:pt x="52" y="2700"/>
                </a:lnTo>
                <a:lnTo>
                  <a:pt x="48" y="2700"/>
                </a:lnTo>
                <a:lnTo>
                  <a:pt x="50" y="2700"/>
                </a:lnTo>
                <a:lnTo>
                  <a:pt x="48" y="2699"/>
                </a:lnTo>
                <a:lnTo>
                  <a:pt x="47" y="2699"/>
                </a:lnTo>
                <a:lnTo>
                  <a:pt x="43" y="2699"/>
                </a:lnTo>
                <a:lnTo>
                  <a:pt x="45" y="2699"/>
                </a:lnTo>
                <a:lnTo>
                  <a:pt x="43" y="2697"/>
                </a:lnTo>
                <a:lnTo>
                  <a:pt x="41" y="2697"/>
                </a:lnTo>
                <a:lnTo>
                  <a:pt x="39" y="2697"/>
                </a:lnTo>
                <a:lnTo>
                  <a:pt x="41" y="2697"/>
                </a:lnTo>
                <a:lnTo>
                  <a:pt x="39" y="2695"/>
                </a:lnTo>
                <a:lnTo>
                  <a:pt x="37" y="2695"/>
                </a:lnTo>
                <a:lnTo>
                  <a:pt x="35" y="2695"/>
                </a:lnTo>
                <a:lnTo>
                  <a:pt x="37" y="2695"/>
                </a:lnTo>
                <a:lnTo>
                  <a:pt x="35" y="2693"/>
                </a:lnTo>
                <a:lnTo>
                  <a:pt x="33" y="2693"/>
                </a:lnTo>
                <a:lnTo>
                  <a:pt x="31" y="2693"/>
                </a:lnTo>
                <a:lnTo>
                  <a:pt x="33" y="2693"/>
                </a:lnTo>
                <a:lnTo>
                  <a:pt x="31" y="2691"/>
                </a:lnTo>
                <a:lnTo>
                  <a:pt x="29" y="2691"/>
                </a:lnTo>
                <a:lnTo>
                  <a:pt x="27" y="2691"/>
                </a:lnTo>
                <a:lnTo>
                  <a:pt x="29" y="2691"/>
                </a:lnTo>
                <a:lnTo>
                  <a:pt x="27" y="2689"/>
                </a:lnTo>
                <a:lnTo>
                  <a:pt x="25" y="2689"/>
                </a:lnTo>
                <a:lnTo>
                  <a:pt x="24" y="2689"/>
                </a:lnTo>
                <a:lnTo>
                  <a:pt x="25" y="2689"/>
                </a:lnTo>
                <a:lnTo>
                  <a:pt x="24" y="2687"/>
                </a:lnTo>
                <a:lnTo>
                  <a:pt x="22" y="2687"/>
                </a:lnTo>
                <a:lnTo>
                  <a:pt x="20" y="2687"/>
                </a:lnTo>
                <a:lnTo>
                  <a:pt x="22" y="2687"/>
                </a:lnTo>
                <a:lnTo>
                  <a:pt x="18" y="2683"/>
                </a:lnTo>
                <a:lnTo>
                  <a:pt x="16" y="2683"/>
                </a:lnTo>
                <a:lnTo>
                  <a:pt x="14" y="2683"/>
                </a:lnTo>
                <a:lnTo>
                  <a:pt x="16" y="2683"/>
                </a:lnTo>
                <a:lnTo>
                  <a:pt x="14" y="2681"/>
                </a:lnTo>
                <a:lnTo>
                  <a:pt x="14" y="2683"/>
                </a:lnTo>
                <a:lnTo>
                  <a:pt x="14" y="2681"/>
                </a:lnTo>
                <a:lnTo>
                  <a:pt x="14" y="2679"/>
                </a:lnTo>
                <a:lnTo>
                  <a:pt x="12" y="2679"/>
                </a:lnTo>
                <a:lnTo>
                  <a:pt x="10" y="2679"/>
                </a:lnTo>
                <a:lnTo>
                  <a:pt x="12" y="2679"/>
                </a:lnTo>
                <a:lnTo>
                  <a:pt x="8" y="2676"/>
                </a:lnTo>
                <a:lnTo>
                  <a:pt x="6" y="2676"/>
                </a:lnTo>
                <a:lnTo>
                  <a:pt x="4" y="2676"/>
                </a:lnTo>
                <a:lnTo>
                  <a:pt x="6" y="2676"/>
                </a:lnTo>
                <a:lnTo>
                  <a:pt x="4" y="2674"/>
                </a:lnTo>
                <a:lnTo>
                  <a:pt x="4" y="2676"/>
                </a:lnTo>
                <a:lnTo>
                  <a:pt x="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5" name="Oval 286"/>
          <p:cNvSpPr/>
          <p:nvPr/>
        </p:nvSpPr>
        <p:spPr>
          <a:xfrm>
            <a:off x="2249640" y="2763720"/>
            <a:ext cx="109440" cy="174600"/>
          </a:xfrm>
          <a:prstGeom prst="ellipse">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6" name="Freeform 287"/>
          <p:cNvSpPr/>
          <p:nvPr/>
        </p:nvSpPr>
        <p:spPr>
          <a:xfrm>
            <a:off x="2246400" y="2762280"/>
            <a:ext cx="112680" cy="176040"/>
          </a:xfrm>
          <a:custGeom>
            <a:avLst/>
            <a:gdLst>
              <a:gd name="textAreaLeft" fmla="*/ 0 w 112680"/>
              <a:gd name="textAreaRight" fmla="*/ 113040 w 112680"/>
              <a:gd name="textAreaTop" fmla="*/ 0 h 176040"/>
              <a:gd name="textAreaBottom" fmla="*/ 176400 h 176040"/>
            </a:gdLst>
            <a:ahLst/>
            <a:rect l="textAreaLeft" t="textAreaTop" r="textAreaRight" b="textAreaBottom"/>
            <a:pathLst>
              <a:path w="71" h="111">
                <a:moveTo>
                  <a:pt x="0" y="55"/>
                </a:moveTo>
                <a:lnTo>
                  <a:pt x="0" y="71"/>
                </a:lnTo>
                <a:lnTo>
                  <a:pt x="2" y="73"/>
                </a:lnTo>
                <a:lnTo>
                  <a:pt x="2" y="76"/>
                </a:lnTo>
                <a:lnTo>
                  <a:pt x="4" y="80"/>
                </a:lnTo>
                <a:lnTo>
                  <a:pt x="4" y="82"/>
                </a:lnTo>
                <a:lnTo>
                  <a:pt x="6" y="84"/>
                </a:lnTo>
                <a:lnTo>
                  <a:pt x="6" y="86"/>
                </a:lnTo>
                <a:lnTo>
                  <a:pt x="8" y="88"/>
                </a:lnTo>
                <a:lnTo>
                  <a:pt x="8" y="90"/>
                </a:lnTo>
                <a:lnTo>
                  <a:pt x="10" y="92"/>
                </a:lnTo>
                <a:lnTo>
                  <a:pt x="10" y="94"/>
                </a:lnTo>
                <a:lnTo>
                  <a:pt x="12" y="96"/>
                </a:lnTo>
                <a:lnTo>
                  <a:pt x="12" y="97"/>
                </a:lnTo>
                <a:lnTo>
                  <a:pt x="15" y="101"/>
                </a:lnTo>
                <a:lnTo>
                  <a:pt x="17" y="101"/>
                </a:lnTo>
                <a:lnTo>
                  <a:pt x="17" y="105"/>
                </a:lnTo>
                <a:lnTo>
                  <a:pt x="21" y="105"/>
                </a:lnTo>
                <a:lnTo>
                  <a:pt x="23" y="107"/>
                </a:lnTo>
                <a:lnTo>
                  <a:pt x="23" y="109"/>
                </a:lnTo>
                <a:lnTo>
                  <a:pt x="33" y="109"/>
                </a:lnTo>
                <a:lnTo>
                  <a:pt x="33" y="111"/>
                </a:lnTo>
                <a:lnTo>
                  <a:pt x="37" y="109"/>
                </a:lnTo>
                <a:lnTo>
                  <a:pt x="42" y="109"/>
                </a:lnTo>
                <a:lnTo>
                  <a:pt x="44" y="107"/>
                </a:lnTo>
                <a:lnTo>
                  <a:pt x="46" y="107"/>
                </a:lnTo>
                <a:lnTo>
                  <a:pt x="52" y="101"/>
                </a:lnTo>
                <a:lnTo>
                  <a:pt x="56" y="101"/>
                </a:lnTo>
                <a:lnTo>
                  <a:pt x="56" y="97"/>
                </a:lnTo>
                <a:lnTo>
                  <a:pt x="60" y="94"/>
                </a:lnTo>
                <a:lnTo>
                  <a:pt x="60" y="92"/>
                </a:lnTo>
                <a:lnTo>
                  <a:pt x="62" y="90"/>
                </a:lnTo>
                <a:lnTo>
                  <a:pt x="62" y="88"/>
                </a:lnTo>
                <a:lnTo>
                  <a:pt x="63" y="86"/>
                </a:lnTo>
                <a:lnTo>
                  <a:pt x="63" y="84"/>
                </a:lnTo>
                <a:lnTo>
                  <a:pt x="65" y="82"/>
                </a:lnTo>
                <a:lnTo>
                  <a:pt x="65" y="80"/>
                </a:lnTo>
                <a:lnTo>
                  <a:pt x="67" y="76"/>
                </a:lnTo>
                <a:lnTo>
                  <a:pt x="67" y="73"/>
                </a:lnTo>
                <a:lnTo>
                  <a:pt x="69" y="71"/>
                </a:lnTo>
                <a:lnTo>
                  <a:pt x="69" y="57"/>
                </a:lnTo>
                <a:lnTo>
                  <a:pt x="71" y="57"/>
                </a:lnTo>
                <a:lnTo>
                  <a:pt x="71" y="55"/>
                </a:lnTo>
                <a:lnTo>
                  <a:pt x="69" y="51"/>
                </a:lnTo>
                <a:lnTo>
                  <a:pt x="69" y="38"/>
                </a:lnTo>
                <a:lnTo>
                  <a:pt x="67" y="36"/>
                </a:lnTo>
                <a:lnTo>
                  <a:pt x="67" y="32"/>
                </a:lnTo>
                <a:lnTo>
                  <a:pt x="65" y="28"/>
                </a:lnTo>
                <a:lnTo>
                  <a:pt x="65" y="26"/>
                </a:lnTo>
                <a:lnTo>
                  <a:pt x="63" y="25"/>
                </a:lnTo>
                <a:lnTo>
                  <a:pt x="63" y="23"/>
                </a:lnTo>
                <a:lnTo>
                  <a:pt x="62" y="21"/>
                </a:lnTo>
                <a:lnTo>
                  <a:pt x="62" y="19"/>
                </a:lnTo>
                <a:lnTo>
                  <a:pt x="60" y="17"/>
                </a:lnTo>
                <a:lnTo>
                  <a:pt x="60" y="15"/>
                </a:lnTo>
                <a:lnTo>
                  <a:pt x="56" y="11"/>
                </a:lnTo>
                <a:lnTo>
                  <a:pt x="56" y="7"/>
                </a:lnTo>
                <a:lnTo>
                  <a:pt x="52" y="7"/>
                </a:lnTo>
                <a:lnTo>
                  <a:pt x="46" y="1"/>
                </a:lnTo>
                <a:lnTo>
                  <a:pt x="44" y="1"/>
                </a:lnTo>
                <a:lnTo>
                  <a:pt x="42" y="0"/>
                </a:lnTo>
                <a:lnTo>
                  <a:pt x="23" y="0"/>
                </a:lnTo>
                <a:lnTo>
                  <a:pt x="23" y="1"/>
                </a:lnTo>
                <a:lnTo>
                  <a:pt x="21" y="3"/>
                </a:lnTo>
                <a:lnTo>
                  <a:pt x="17" y="3"/>
                </a:lnTo>
                <a:lnTo>
                  <a:pt x="17" y="7"/>
                </a:lnTo>
                <a:lnTo>
                  <a:pt x="15" y="7"/>
                </a:lnTo>
                <a:lnTo>
                  <a:pt x="12" y="11"/>
                </a:lnTo>
                <a:lnTo>
                  <a:pt x="12" y="13"/>
                </a:lnTo>
                <a:lnTo>
                  <a:pt x="10" y="15"/>
                </a:lnTo>
                <a:lnTo>
                  <a:pt x="10" y="17"/>
                </a:lnTo>
                <a:lnTo>
                  <a:pt x="8" y="19"/>
                </a:lnTo>
                <a:lnTo>
                  <a:pt x="8" y="21"/>
                </a:lnTo>
                <a:lnTo>
                  <a:pt x="6" y="23"/>
                </a:lnTo>
                <a:lnTo>
                  <a:pt x="6" y="25"/>
                </a:lnTo>
                <a:lnTo>
                  <a:pt x="4" y="26"/>
                </a:lnTo>
                <a:lnTo>
                  <a:pt x="4" y="28"/>
                </a:lnTo>
                <a:lnTo>
                  <a:pt x="2" y="32"/>
                </a:lnTo>
                <a:lnTo>
                  <a:pt x="2" y="36"/>
                </a:lnTo>
                <a:lnTo>
                  <a:pt x="0" y="38"/>
                </a:lnTo>
                <a:lnTo>
                  <a:pt x="0" y="55"/>
                </a:lnTo>
                <a:lnTo>
                  <a:pt x="4" y="55"/>
                </a:lnTo>
                <a:lnTo>
                  <a:pt x="4" y="38"/>
                </a:lnTo>
                <a:lnTo>
                  <a:pt x="6" y="36"/>
                </a:lnTo>
                <a:lnTo>
                  <a:pt x="6" y="32"/>
                </a:lnTo>
                <a:lnTo>
                  <a:pt x="8" y="28"/>
                </a:lnTo>
                <a:lnTo>
                  <a:pt x="8" y="26"/>
                </a:lnTo>
                <a:lnTo>
                  <a:pt x="10" y="25"/>
                </a:lnTo>
                <a:lnTo>
                  <a:pt x="10" y="23"/>
                </a:lnTo>
                <a:lnTo>
                  <a:pt x="12" y="21"/>
                </a:lnTo>
                <a:lnTo>
                  <a:pt x="12" y="19"/>
                </a:lnTo>
                <a:lnTo>
                  <a:pt x="14" y="17"/>
                </a:lnTo>
                <a:lnTo>
                  <a:pt x="14" y="15"/>
                </a:lnTo>
                <a:lnTo>
                  <a:pt x="15" y="13"/>
                </a:lnTo>
                <a:lnTo>
                  <a:pt x="15" y="11"/>
                </a:lnTo>
                <a:lnTo>
                  <a:pt x="17" y="11"/>
                </a:lnTo>
                <a:lnTo>
                  <a:pt x="21" y="7"/>
                </a:lnTo>
                <a:lnTo>
                  <a:pt x="23" y="5"/>
                </a:lnTo>
                <a:lnTo>
                  <a:pt x="27" y="5"/>
                </a:lnTo>
                <a:lnTo>
                  <a:pt x="27" y="3"/>
                </a:lnTo>
                <a:lnTo>
                  <a:pt x="35" y="3"/>
                </a:lnTo>
                <a:lnTo>
                  <a:pt x="42" y="3"/>
                </a:lnTo>
                <a:lnTo>
                  <a:pt x="44" y="5"/>
                </a:lnTo>
                <a:lnTo>
                  <a:pt x="46" y="5"/>
                </a:lnTo>
                <a:lnTo>
                  <a:pt x="52" y="11"/>
                </a:lnTo>
                <a:lnTo>
                  <a:pt x="56" y="15"/>
                </a:lnTo>
                <a:lnTo>
                  <a:pt x="56" y="17"/>
                </a:lnTo>
                <a:lnTo>
                  <a:pt x="58" y="19"/>
                </a:lnTo>
                <a:lnTo>
                  <a:pt x="58" y="21"/>
                </a:lnTo>
                <a:lnTo>
                  <a:pt x="60" y="23"/>
                </a:lnTo>
                <a:lnTo>
                  <a:pt x="60" y="25"/>
                </a:lnTo>
                <a:lnTo>
                  <a:pt x="62" y="26"/>
                </a:lnTo>
                <a:lnTo>
                  <a:pt x="62" y="28"/>
                </a:lnTo>
                <a:lnTo>
                  <a:pt x="63" y="32"/>
                </a:lnTo>
                <a:lnTo>
                  <a:pt x="63" y="36"/>
                </a:lnTo>
                <a:lnTo>
                  <a:pt x="65" y="38"/>
                </a:lnTo>
                <a:lnTo>
                  <a:pt x="65" y="51"/>
                </a:lnTo>
                <a:lnTo>
                  <a:pt x="67" y="55"/>
                </a:lnTo>
                <a:lnTo>
                  <a:pt x="67" y="53"/>
                </a:lnTo>
                <a:lnTo>
                  <a:pt x="65" y="57"/>
                </a:lnTo>
                <a:lnTo>
                  <a:pt x="65" y="71"/>
                </a:lnTo>
                <a:lnTo>
                  <a:pt x="63" y="73"/>
                </a:lnTo>
                <a:lnTo>
                  <a:pt x="63" y="76"/>
                </a:lnTo>
                <a:lnTo>
                  <a:pt x="62" y="80"/>
                </a:lnTo>
                <a:lnTo>
                  <a:pt x="62" y="82"/>
                </a:lnTo>
                <a:lnTo>
                  <a:pt x="60" y="84"/>
                </a:lnTo>
                <a:lnTo>
                  <a:pt x="60" y="86"/>
                </a:lnTo>
                <a:lnTo>
                  <a:pt x="58" y="88"/>
                </a:lnTo>
                <a:lnTo>
                  <a:pt x="58" y="90"/>
                </a:lnTo>
                <a:lnTo>
                  <a:pt x="56" y="92"/>
                </a:lnTo>
                <a:lnTo>
                  <a:pt x="56" y="94"/>
                </a:lnTo>
                <a:lnTo>
                  <a:pt x="52" y="97"/>
                </a:lnTo>
                <a:lnTo>
                  <a:pt x="46" y="103"/>
                </a:lnTo>
                <a:lnTo>
                  <a:pt x="44" y="103"/>
                </a:lnTo>
                <a:lnTo>
                  <a:pt x="42" y="105"/>
                </a:lnTo>
                <a:lnTo>
                  <a:pt x="33" y="105"/>
                </a:lnTo>
                <a:lnTo>
                  <a:pt x="33" y="109"/>
                </a:lnTo>
                <a:lnTo>
                  <a:pt x="37" y="107"/>
                </a:lnTo>
                <a:lnTo>
                  <a:pt x="33" y="105"/>
                </a:lnTo>
                <a:lnTo>
                  <a:pt x="27" y="105"/>
                </a:lnTo>
                <a:lnTo>
                  <a:pt x="27" y="103"/>
                </a:lnTo>
                <a:lnTo>
                  <a:pt x="23" y="103"/>
                </a:lnTo>
                <a:lnTo>
                  <a:pt x="21" y="101"/>
                </a:lnTo>
                <a:lnTo>
                  <a:pt x="17" y="97"/>
                </a:lnTo>
                <a:lnTo>
                  <a:pt x="15" y="97"/>
                </a:lnTo>
                <a:lnTo>
                  <a:pt x="15" y="96"/>
                </a:lnTo>
                <a:lnTo>
                  <a:pt x="14" y="94"/>
                </a:lnTo>
                <a:lnTo>
                  <a:pt x="14" y="92"/>
                </a:lnTo>
                <a:lnTo>
                  <a:pt x="12" y="90"/>
                </a:lnTo>
                <a:lnTo>
                  <a:pt x="12" y="88"/>
                </a:lnTo>
                <a:lnTo>
                  <a:pt x="10" y="86"/>
                </a:lnTo>
                <a:lnTo>
                  <a:pt x="10" y="84"/>
                </a:lnTo>
                <a:lnTo>
                  <a:pt x="8" y="82"/>
                </a:lnTo>
                <a:lnTo>
                  <a:pt x="8" y="80"/>
                </a:lnTo>
                <a:lnTo>
                  <a:pt x="6" y="76"/>
                </a:lnTo>
                <a:lnTo>
                  <a:pt x="6" y="73"/>
                </a:lnTo>
                <a:lnTo>
                  <a:pt x="4" y="71"/>
                </a:lnTo>
                <a:lnTo>
                  <a:pt x="4"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Oval 288"/>
          <p:cNvSpPr/>
          <p:nvPr/>
        </p:nvSpPr>
        <p:spPr>
          <a:xfrm>
            <a:off x="2236680" y="3843360"/>
            <a:ext cx="112680" cy="174600"/>
          </a:xfrm>
          <a:prstGeom prst="ellipse">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8" name="Freeform 289"/>
          <p:cNvSpPr/>
          <p:nvPr/>
        </p:nvSpPr>
        <p:spPr>
          <a:xfrm>
            <a:off x="2233440" y="3840120"/>
            <a:ext cx="115920" cy="177840"/>
          </a:xfrm>
          <a:custGeom>
            <a:avLst/>
            <a:gdLst>
              <a:gd name="textAreaLeft" fmla="*/ 0 w 115920"/>
              <a:gd name="textAreaRight" fmla="*/ 116280 w 115920"/>
              <a:gd name="textAreaTop" fmla="*/ 0 h 177840"/>
              <a:gd name="textAreaBottom" fmla="*/ 177840 h 177840"/>
            </a:gdLst>
            <a:ahLst/>
            <a:rect l="textAreaLeft" t="textAreaTop" r="textAreaRight" b="textAreaBottom"/>
            <a:pathLst>
              <a:path w="73" h="112">
                <a:moveTo>
                  <a:pt x="0" y="56"/>
                </a:moveTo>
                <a:lnTo>
                  <a:pt x="0" y="71"/>
                </a:lnTo>
                <a:lnTo>
                  <a:pt x="2" y="73"/>
                </a:lnTo>
                <a:lnTo>
                  <a:pt x="2" y="77"/>
                </a:lnTo>
                <a:lnTo>
                  <a:pt x="4" y="81"/>
                </a:lnTo>
                <a:lnTo>
                  <a:pt x="4" y="83"/>
                </a:lnTo>
                <a:lnTo>
                  <a:pt x="6" y="85"/>
                </a:lnTo>
                <a:lnTo>
                  <a:pt x="6" y="87"/>
                </a:lnTo>
                <a:lnTo>
                  <a:pt x="8" y="89"/>
                </a:lnTo>
                <a:lnTo>
                  <a:pt x="8" y="91"/>
                </a:lnTo>
                <a:lnTo>
                  <a:pt x="10" y="93"/>
                </a:lnTo>
                <a:lnTo>
                  <a:pt x="10" y="94"/>
                </a:lnTo>
                <a:lnTo>
                  <a:pt x="14" y="98"/>
                </a:lnTo>
                <a:lnTo>
                  <a:pt x="14" y="102"/>
                </a:lnTo>
                <a:lnTo>
                  <a:pt x="18" y="102"/>
                </a:lnTo>
                <a:lnTo>
                  <a:pt x="23" y="108"/>
                </a:lnTo>
                <a:lnTo>
                  <a:pt x="25" y="108"/>
                </a:lnTo>
                <a:lnTo>
                  <a:pt x="27" y="110"/>
                </a:lnTo>
                <a:lnTo>
                  <a:pt x="35" y="110"/>
                </a:lnTo>
                <a:lnTo>
                  <a:pt x="35" y="112"/>
                </a:lnTo>
                <a:lnTo>
                  <a:pt x="39" y="110"/>
                </a:lnTo>
                <a:lnTo>
                  <a:pt x="45" y="110"/>
                </a:lnTo>
                <a:lnTo>
                  <a:pt x="46" y="108"/>
                </a:lnTo>
                <a:lnTo>
                  <a:pt x="48" y="108"/>
                </a:lnTo>
                <a:lnTo>
                  <a:pt x="54" y="102"/>
                </a:lnTo>
                <a:lnTo>
                  <a:pt x="58" y="102"/>
                </a:lnTo>
                <a:lnTo>
                  <a:pt x="58" y="98"/>
                </a:lnTo>
                <a:lnTo>
                  <a:pt x="62" y="94"/>
                </a:lnTo>
                <a:lnTo>
                  <a:pt x="62" y="93"/>
                </a:lnTo>
                <a:lnTo>
                  <a:pt x="64" y="91"/>
                </a:lnTo>
                <a:lnTo>
                  <a:pt x="64" y="89"/>
                </a:lnTo>
                <a:lnTo>
                  <a:pt x="66" y="87"/>
                </a:lnTo>
                <a:lnTo>
                  <a:pt x="66" y="85"/>
                </a:lnTo>
                <a:lnTo>
                  <a:pt x="68" y="83"/>
                </a:lnTo>
                <a:lnTo>
                  <a:pt x="68" y="81"/>
                </a:lnTo>
                <a:lnTo>
                  <a:pt x="70" y="77"/>
                </a:lnTo>
                <a:lnTo>
                  <a:pt x="70" y="73"/>
                </a:lnTo>
                <a:lnTo>
                  <a:pt x="71" y="71"/>
                </a:lnTo>
                <a:lnTo>
                  <a:pt x="71" y="58"/>
                </a:lnTo>
                <a:lnTo>
                  <a:pt x="73" y="58"/>
                </a:lnTo>
                <a:lnTo>
                  <a:pt x="73" y="56"/>
                </a:lnTo>
                <a:lnTo>
                  <a:pt x="71" y="52"/>
                </a:lnTo>
                <a:lnTo>
                  <a:pt x="71" y="39"/>
                </a:lnTo>
                <a:lnTo>
                  <a:pt x="70" y="37"/>
                </a:lnTo>
                <a:lnTo>
                  <a:pt x="70" y="33"/>
                </a:lnTo>
                <a:lnTo>
                  <a:pt x="68" y="29"/>
                </a:lnTo>
                <a:lnTo>
                  <a:pt x="68" y="27"/>
                </a:lnTo>
                <a:lnTo>
                  <a:pt x="66" y="25"/>
                </a:lnTo>
                <a:lnTo>
                  <a:pt x="66" y="23"/>
                </a:lnTo>
                <a:lnTo>
                  <a:pt x="64" y="22"/>
                </a:lnTo>
                <a:lnTo>
                  <a:pt x="64" y="20"/>
                </a:lnTo>
                <a:lnTo>
                  <a:pt x="62" y="18"/>
                </a:lnTo>
                <a:lnTo>
                  <a:pt x="62" y="16"/>
                </a:lnTo>
                <a:lnTo>
                  <a:pt x="58" y="12"/>
                </a:lnTo>
                <a:lnTo>
                  <a:pt x="58" y="8"/>
                </a:lnTo>
                <a:lnTo>
                  <a:pt x="54" y="8"/>
                </a:lnTo>
                <a:lnTo>
                  <a:pt x="48" y="2"/>
                </a:lnTo>
                <a:lnTo>
                  <a:pt x="46" y="2"/>
                </a:lnTo>
                <a:lnTo>
                  <a:pt x="45" y="0"/>
                </a:lnTo>
                <a:lnTo>
                  <a:pt x="27" y="0"/>
                </a:lnTo>
                <a:lnTo>
                  <a:pt x="25" y="2"/>
                </a:lnTo>
                <a:lnTo>
                  <a:pt x="23" y="2"/>
                </a:lnTo>
                <a:lnTo>
                  <a:pt x="18" y="8"/>
                </a:lnTo>
                <a:lnTo>
                  <a:pt x="14" y="8"/>
                </a:lnTo>
                <a:lnTo>
                  <a:pt x="14" y="12"/>
                </a:lnTo>
                <a:lnTo>
                  <a:pt x="10" y="16"/>
                </a:lnTo>
                <a:lnTo>
                  <a:pt x="10" y="18"/>
                </a:lnTo>
                <a:lnTo>
                  <a:pt x="8" y="20"/>
                </a:lnTo>
                <a:lnTo>
                  <a:pt x="8" y="22"/>
                </a:lnTo>
                <a:lnTo>
                  <a:pt x="6" y="23"/>
                </a:lnTo>
                <a:lnTo>
                  <a:pt x="6" y="25"/>
                </a:lnTo>
                <a:lnTo>
                  <a:pt x="4" y="27"/>
                </a:lnTo>
                <a:lnTo>
                  <a:pt x="4" y="29"/>
                </a:lnTo>
                <a:lnTo>
                  <a:pt x="2" y="33"/>
                </a:lnTo>
                <a:lnTo>
                  <a:pt x="2" y="37"/>
                </a:lnTo>
                <a:lnTo>
                  <a:pt x="0" y="39"/>
                </a:lnTo>
                <a:lnTo>
                  <a:pt x="0" y="56"/>
                </a:lnTo>
                <a:lnTo>
                  <a:pt x="4" y="56"/>
                </a:lnTo>
                <a:lnTo>
                  <a:pt x="4" y="39"/>
                </a:lnTo>
                <a:lnTo>
                  <a:pt x="6" y="37"/>
                </a:lnTo>
                <a:lnTo>
                  <a:pt x="6" y="33"/>
                </a:lnTo>
                <a:lnTo>
                  <a:pt x="8" y="29"/>
                </a:lnTo>
                <a:lnTo>
                  <a:pt x="8" y="27"/>
                </a:lnTo>
                <a:lnTo>
                  <a:pt x="10" y="25"/>
                </a:lnTo>
                <a:lnTo>
                  <a:pt x="10" y="23"/>
                </a:lnTo>
                <a:lnTo>
                  <a:pt x="12" y="22"/>
                </a:lnTo>
                <a:lnTo>
                  <a:pt x="12" y="20"/>
                </a:lnTo>
                <a:lnTo>
                  <a:pt x="14" y="18"/>
                </a:lnTo>
                <a:lnTo>
                  <a:pt x="14" y="16"/>
                </a:lnTo>
                <a:lnTo>
                  <a:pt x="18" y="12"/>
                </a:lnTo>
                <a:lnTo>
                  <a:pt x="23" y="6"/>
                </a:lnTo>
                <a:lnTo>
                  <a:pt x="25" y="6"/>
                </a:lnTo>
                <a:lnTo>
                  <a:pt x="27" y="4"/>
                </a:lnTo>
                <a:lnTo>
                  <a:pt x="37" y="4"/>
                </a:lnTo>
                <a:lnTo>
                  <a:pt x="45" y="4"/>
                </a:lnTo>
                <a:lnTo>
                  <a:pt x="46" y="6"/>
                </a:lnTo>
                <a:lnTo>
                  <a:pt x="48" y="6"/>
                </a:lnTo>
                <a:lnTo>
                  <a:pt x="54" y="12"/>
                </a:lnTo>
                <a:lnTo>
                  <a:pt x="58" y="16"/>
                </a:lnTo>
                <a:lnTo>
                  <a:pt x="58" y="18"/>
                </a:lnTo>
                <a:lnTo>
                  <a:pt x="60" y="20"/>
                </a:lnTo>
                <a:lnTo>
                  <a:pt x="60" y="22"/>
                </a:lnTo>
                <a:lnTo>
                  <a:pt x="62" y="23"/>
                </a:lnTo>
                <a:lnTo>
                  <a:pt x="62" y="25"/>
                </a:lnTo>
                <a:lnTo>
                  <a:pt x="64" y="27"/>
                </a:lnTo>
                <a:lnTo>
                  <a:pt x="64" y="29"/>
                </a:lnTo>
                <a:lnTo>
                  <a:pt x="66" y="33"/>
                </a:lnTo>
                <a:lnTo>
                  <a:pt x="66" y="37"/>
                </a:lnTo>
                <a:lnTo>
                  <a:pt x="68" y="39"/>
                </a:lnTo>
                <a:lnTo>
                  <a:pt x="68" y="52"/>
                </a:lnTo>
                <a:lnTo>
                  <a:pt x="70" y="56"/>
                </a:lnTo>
                <a:lnTo>
                  <a:pt x="70" y="54"/>
                </a:lnTo>
                <a:lnTo>
                  <a:pt x="68" y="58"/>
                </a:lnTo>
                <a:lnTo>
                  <a:pt x="68" y="71"/>
                </a:lnTo>
                <a:lnTo>
                  <a:pt x="66" y="73"/>
                </a:lnTo>
                <a:lnTo>
                  <a:pt x="66" y="77"/>
                </a:lnTo>
                <a:lnTo>
                  <a:pt x="64" y="81"/>
                </a:lnTo>
                <a:lnTo>
                  <a:pt x="64" y="83"/>
                </a:lnTo>
                <a:lnTo>
                  <a:pt x="62" y="85"/>
                </a:lnTo>
                <a:lnTo>
                  <a:pt x="62" y="87"/>
                </a:lnTo>
                <a:lnTo>
                  <a:pt x="60" y="89"/>
                </a:lnTo>
                <a:lnTo>
                  <a:pt x="60" y="91"/>
                </a:lnTo>
                <a:lnTo>
                  <a:pt x="58" y="93"/>
                </a:lnTo>
                <a:lnTo>
                  <a:pt x="58" y="94"/>
                </a:lnTo>
                <a:lnTo>
                  <a:pt x="54" y="98"/>
                </a:lnTo>
                <a:lnTo>
                  <a:pt x="48" y="104"/>
                </a:lnTo>
                <a:lnTo>
                  <a:pt x="46" y="104"/>
                </a:lnTo>
                <a:lnTo>
                  <a:pt x="45" y="106"/>
                </a:lnTo>
                <a:lnTo>
                  <a:pt x="35" y="106"/>
                </a:lnTo>
                <a:lnTo>
                  <a:pt x="35" y="110"/>
                </a:lnTo>
                <a:lnTo>
                  <a:pt x="39" y="108"/>
                </a:lnTo>
                <a:lnTo>
                  <a:pt x="35" y="106"/>
                </a:lnTo>
                <a:lnTo>
                  <a:pt x="27" y="106"/>
                </a:lnTo>
                <a:lnTo>
                  <a:pt x="25" y="104"/>
                </a:lnTo>
                <a:lnTo>
                  <a:pt x="23" y="104"/>
                </a:lnTo>
                <a:lnTo>
                  <a:pt x="18" y="98"/>
                </a:lnTo>
                <a:lnTo>
                  <a:pt x="14" y="94"/>
                </a:lnTo>
                <a:lnTo>
                  <a:pt x="14" y="93"/>
                </a:lnTo>
                <a:lnTo>
                  <a:pt x="12" y="91"/>
                </a:lnTo>
                <a:lnTo>
                  <a:pt x="12" y="89"/>
                </a:lnTo>
                <a:lnTo>
                  <a:pt x="10" y="87"/>
                </a:lnTo>
                <a:lnTo>
                  <a:pt x="10" y="85"/>
                </a:lnTo>
                <a:lnTo>
                  <a:pt x="8" y="83"/>
                </a:lnTo>
                <a:lnTo>
                  <a:pt x="8" y="81"/>
                </a:lnTo>
                <a:lnTo>
                  <a:pt x="6" y="77"/>
                </a:lnTo>
                <a:lnTo>
                  <a:pt x="6" y="73"/>
                </a:lnTo>
                <a:lnTo>
                  <a:pt x="4" y="71"/>
                </a:lnTo>
                <a:lnTo>
                  <a:pt x="4"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Oval 290"/>
          <p:cNvSpPr/>
          <p:nvPr/>
        </p:nvSpPr>
        <p:spPr>
          <a:xfrm>
            <a:off x="2233440" y="4968720"/>
            <a:ext cx="111240" cy="173160"/>
          </a:xfrm>
          <a:prstGeom prst="ellipse">
            <a:avLst/>
          </a:prstGeom>
          <a:solidFill>
            <a:srgbClr val="f9d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0" name="Freeform 291"/>
          <p:cNvSpPr/>
          <p:nvPr/>
        </p:nvSpPr>
        <p:spPr>
          <a:xfrm>
            <a:off x="2230560" y="4965840"/>
            <a:ext cx="114120" cy="176040"/>
          </a:xfrm>
          <a:custGeom>
            <a:avLst/>
            <a:gdLst>
              <a:gd name="textAreaLeft" fmla="*/ 0 w 114120"/>
              <a:gd name="textAreaRight" fmla="*/ 114480 w 114120"/>
              <a:gd name="textAreaTop" fmla="*/ 0 h 176040"/>
              <a:gd name="textAreaBottom" fmla="*/ 176400 h 176040"/>
            </a:gdLst>
            <a:ahLst/>
            <a:rect l="textAreaLeft" t="textAreaTop" r="textAreaRight" b="textAreaBottom"/>
            <a:pathLst>
              <a:path w="72" h="111">
                <a:moveTo>
                  <a:pt x="0" y="56"/>
                </a:moveTo>
                <a:lnTo>
                  <a:pt x="0" y="71"/>
                </a:lnTo>
                <a:lnTo>
                  <a:pt x="2" y="73"/>
                </a:lnTo>
                <a:lnTo>
                  <a:pt x="2" y="77"/>
                </a:lnTo>
                <a:lnTo>
                  <a:pt x="4" y="81"/>
                </a:lnTo>
                <a:lnTo>
                  <a:pt x="4" y="83"/>
                </a:lnTo>
                <a:lnTo>
                  <a:pt x="6" y="85"/>
                </a:lnTo>
                <a:lnTo>
                  <a:pt x="6" y="86"/>
                </a:lnTo>
                <a:lnTo>
                  <a:pt x="8" y="88"/>
                </a:lnTo>
                <a:lnTo>
                  <a:pt x="8" y="90"/>
                </a:lnTo>
                <a:lnTo>
                  <a:pt x="10" y="92"/>
                </a:lnTo>
                <a:lnTo>
                  <a:pt x="10" y="94"/>
                </a:lnTo>
                <a:lnTo>
                  <a:pt x="12" y="96"/>
                </a:lnTo>
                <a:lnTo>
                  <a:pt x="12" y="98"/>
                </a:lnTo>
                <a:lnTo>
                  <a:pt x="16" y="102"/>
                </a:lnTo>
                <a:lnTo>
                  <a:pt x="18" y="102"/>
                </a:lnTo>
                <a:lnTo>
                  <a:pt x="18" y="106"/>
                </a:lnTo>
                <a:lnTo>
                  <a:pt x="22" y="106"/>
                </a:lnTo>
                <a:lnTo>
                  <a:pt x="24" y="108"/>
                </a:lnTo>
                <a:lnTo>
                  <a:pt x="24" y="109"/>
                </a:lnTo>
                <a:lnTo>
                  <a:pt x="33" y="109"/>
                </a:lnTo>
                <a:lnTo>
                  <a:pt x="33" y="111"/>
                </a:lnTo>
                <a:lnTo>
                  <a:pt x="37" y="109"/>
                </a:lnTo>
                <a:lnTo>
                  <a:pt x="43" y="109"/>
                </a:lnTo>
                <a:lnTo>
                  <a:pt x="45" y="108"/>
                </a:lnTo>
                <a:lnTo>
                  <a:pt x="47" y="108"/>
                </a:lnTo>
                <a:lnTo>
                  <a:pt x="52" y="102"/>
                </a:lnTo>
                <a:lnTo>
                  <a:pt x="56" y="102"/>
                </a:lnTo>
                <a:lnTo>
                  <a:pt x="56" y="98"/>
                </a:lnTo>
                <a:lnTo>
                  <a:pt x="60" y="94"/>
                </a:lnTo>
                <a:lnTo>
                  <a:pt x="60" y="92"/>
                </a:lnTo>
                <a:lnTo>
                  <a:pt x="62" y="90"/>
                </a:lnTo>
                <a:lnTo>
                  <a:pt x="62" y="88"/>
                </a:lnTo>
                <a:lnTo>
                  <a:pt x="64" y="86"/>
                </a:lnTo>
                <a:lnTo>
                  <a:pt x="64" y="85"/>
                </a:lnTo>
                <a:lnTo>
                  <a:pt x="66" y="83"/>
                </a:lnTo>
                <a:lnTo>
                  <a:pt x="66" y="81"/>
                </a:lnTo>
                <a:lnTo>
                  <a:pt x="68" y="77"/>
                </a:lnTo>
                <a:lnTo>
                  <a:pt x="68" y="73"/>
                </a:lnTo>
                <a:lnTo>
                  <a:pt x="70" y="71"/>
                </a:lnTo>
                <a:lnTo>
                  <a:pt x="70" y="58"/>
                </a:lnTo>
                <a:lnTo>
                  <a:pt x="72" y="58"/>
                </a:lnTo>
                <a:lnTo>
                  <a:pt x="72" y="56"/>
                </a:lnTo>
                <a:lnTo>
                  <a:pt x="70" y="52"/>
                </a:lnTo>
                <a:lnTo>
                  <a:pt x="70" y="38"/>
                </a:lnTo>
                <a:lnTo>
                  <a:pt x="68" y="37"/>
                </a:lnTo>
                <a:lnTo>
                  <a:pt x="68" y="33"/>
                </a:lnTo>
                <a:lnTo>
                  <a:pt x="66" y="29"/>
                </a:lnTo>
                <a:lnTo>
                  <a:pt x="66" y="27"/>
                </a:lnTo>
                <a:lnTo>
                  <a:pt x="64" y="25"/>
                </a:lnTo>
                <a:lnTo>
                  <a:pt x="64" y="23"/>
                </a:lnTo>
                <a:lnTo>
                  <a:pt x="62" y="21"/>
                </a:lnTo>
                <a:lnTo>
                  <a:pt x="62" y="19"/>
                </a:lnTo>
                <a:lnTo>
                  <a:pt x="60" y="17"/>
                </a:lnTo>
                <a:lnTo>
                  <a:pt x="60" y="15"/>
                </a:lnTo>
                <a:lnTo>
                  <a:pt x="56" y="12"/>
                </a:lnTo>
                <a:lnTo>
                  <a:pt x="56" y="8"/>
                </a:lnTo>
                <a:lnTo>
                  <a:pt x="52" y="8"/>
                </a:lnTo>
                <a:lnTo>
                  <a:pt x="47" y="2"/>
                </a:lnTo>
                <a:lnTo>
                  <a:pt x="45" y="2"/>
                </a:lnTo>
                <a:lnTo>
                  <a:pt x="43" y="0"/>
                </a:lnTo>
                <a:lnTo>
                  <a:pt x="24" y="0"/>
                </a:lnTo>
                <a:lnTo>
                  <a:pt x="24" y="2"/>
                </a:lnTo>
                <a:lnTo>
                  <a:pt x="22" y="4"/>
                </a:lnTo>
                <a:lnTo>
                  <a:pt x="18" y="4"/>
                </a:lnTo>
                <a:lnTo>
                  <a:pt x="18" y="8"/>
                </a:lnTo>
                <a:lnTo>
                  <a:pt x="16" y="8"/>
                </a:lnTo>
                <a:lnTo>
                  <a:pt x="12" y="12"/>
                </a:lnTo>
                <a:lnTo>
                  <a:pt x="12" y="13"/>
                </a:lnTo>
                <a:lnTo>
                  <a:pt x="10" y="15"/>
                </a:lnTo>
                <a:lnTo>
                  <a:pt x="10" y="17"/>
                </a:lnTo>
                <a:lnTo>
                  <a:pt x="8" y="19"/>
                </a:lnTo>
                <a:lnTo>
                  <a:pt x="8" y="21"/>
                </a:lnTo>
                <a:lnTo>
                  <a:pt x="6" y="23"/>
                </a:lnTo>
                <a:lnTo>
                  <a:pt x="6" y="25"/>
                </a:lnTo>
                <a:lnTo>
                  <a:pt x="4" y="27"/>
                </a:lnTo>
                <a:lnTo>
                  <a:pt x="4" y="29"/>
                </a:lnTo>
                <a:lnTo>
                  <a:pt x="2" y="33"/>
                </a:lnTo>
                <a:lnTo>
                  <a:pt x="2" y="37"/>
                </a:lnTo>
                <a:lnTo>
                  <a:pt x="0" y="38"/>
                </a:lnTo>
                <a:lnTo>
                  <a:pt x="0" y="56"/>
                </a:lnTo>
                <a:lnTo>
                  <a:pt x="4" y="56"/>
                </a:lnTo>
                <a:lnTo>
                  <a:pt x="4" y="38"/>
                </a:lnTo>
                <a:lnTo>
                  <a:pt x="6" y="37"/>
                </a:lnTo>
                <a:lnTo>
                  <a:pt x="6" y="33"/>
                </a:lnTo>
                <a:lnTo>
                  <a:pt x="8" y="29"/>
                </a:lnTo>
                <a:lnTo>
                  <a:pt x="8" y="27"/>
                </a:lnTo>
                <a:lnTo>
                  <a:pt x="10" y="25"/>
                </a:lnTo>
                <a:lnTo>
                  <a:pt x="10" y="23"/>
                </a:lnTo>
                <a:lnTo>
                  <a:pt x="12" y="21"/>
                </a:lnTo>
                <a:lnTo>
                  <a:pt x="12" y="19"/>
                </a:lnTo>
                <a:lnTo>
                  <a:pt x="14" y="17"/>
                </a:lnTo>
                <a:lnTo>
                  <a:pt x="14" y="15"/>
                </a:lnTo>
                <a:lnTo>
                  <a:pt x="16" y="13"/>
                </a:lnTo>
                <a:lnTo>
                  <a:pt x="16" y="12"/>
                </a:lnTo>
                <a:lnTo>
                  <a:pt x="18" y="12"/>
                </a:lnTo>
                <a:lnTo>
                  <a:pt x="22" y="8"/>
                </a:lnTo>
                <a:lnTo>
                  <a:pt x="24" y="6"/>
                </a:lnTo>
                <a:lnTo>
                  <a:pt x="27" y="6"/>
                </a:lnTo>
                <a:lnTo>
                  <a:pt x="27" y="4"/>
                </a:lnTo>
                <a:lnTo>
                  <a:pt x="35" y="4"/>
                </a:lnTo>
                <a:lnTo>
                  <a:pt x="43" y="4"/>
                </a:lnTo>
                <a:lnTo>
                  <a:pt x="45" y="6"/>
                </a:lnTo>
                <a:lnTo>
                  <a:pt x="47" y="6"/>
                </a:lnTo>
                <a:lnTo>
                  <a:pt x="52" y="12"/>
                </a:lnTo>
                <a:lnTo>
                  <a:pt x="56" y="15"/>
                </a:lnTo>
                <a:lnTo>
                  <a:pt x="56" y="17"/>
                </a:lnTo>
                <a:lnTo>
                  <a:pt x="58" y="19"/>
                </a:lnTo>
                <a:lnTo>
                  <a:pt x="58" y="21"/>
                </a:lnTo>
                <a:lnTo>
                  <a:pt x="60" y="23"/>
                </a:lnTo>
                <a:lnTo>
                  <a:pt x="60" y="25"/>
                </a:lnTo>
                <a:lnTo>
                  <a:pt x="62" y="27"/>
                </a:lnTo>
                <a:lnTo>
                  <a:pt x="62" y="29"/>
                </a:lnTo>
                <a:lnTo>
                  <a:pt x="64" y="33"/>
                </a:lnTo>
                <a:lnTo>
                  <a:pt x="64" y="37"/>
                </a:lnTo>
                <a:lnTo>
                  <a:pt x="66" y="38"/>
                </a:lnTo>
                <a:lnTo>
                  <a:pt x="66" y="52"/>
                </a:lnTo>
                <a:lnTo>
                  <a:pt x="68" y="56"/>
                </a:lnTo>
                <a:lnTo>
                  <a:pt x="66" y="71"/>
                </a:lnTo>
                <a:lnTo>
                  <a:pt x="64" y="73"/>
                </a:lnTo>
                <a:lnTo>
                  <a:pt x="64" y="77"/>
                </a:lnTo>
                <a:lnTo>
                  <a:pt x="62" y="81"/>
                </a:lnTo>
                <a:lnTo>
                  <a:pt x="62" y="83"/>
                </a:lnTo>
                <a:lnTo>
                  <a:pt x="60" y="85"/>
                </a:lnTo>
                <a:lnTo>
                  <a:pt x="60" y="86"/>
                </a:lnTo>
                <a:lnTo>
                  <a:pt x="58" y="88"/>
                </a:lnTo>
                <a:lnTo>
                  <a:pt x="58" y="90"/>
                </a:lnTo>
                <a:lnTo>
                  <a:pt x="56" y="92"/>
                </a:lnTo>
                <a:lnTo>
                  <a:pt x="56" y="94"/>
                </a:lnTo>
                <a:lnTo>
                  <a:pt x="52" y="98"/>
                </a:lnTo>
                <a:lnTo>
                  <a:pt x="47" y="104"/>
                </a:lnTo>
                <a:lnTo>
                  <a:pt x="45" y="104"/>
                </a:lnTo>
                <a:lnTo>
                  <a:pt x="43" y="106"/>
                </a:lnTo>
                <a:lnTo>
                  <a:pt x="33" y="106"/>
                </a:lnTo>
                <a:lnTo>
                  <a:pt x="33" y="109"/>
                </a:lnTo>
                <a:lnTo>
                  <a:pt x="37" y="108"/>
                </a:lnTo>
                <a:lnTo>
                  <a:pt x="33" y="106"/>
                </a:lnTo>
                <a:lnTo>
                  <a:pt x="27" y="106"/>
                </a:lnTo>
                <a:lnTo>
                  <a:pt x="27" y="104"/>
                </a:lnTo>
                <a:lnTo>
                  <a:pt x="24" y="104"/>
                </a:lnTo>
                <a:lnTo>
                  <a:pt x="22" y="102"/>
                </a:lnTo>
                <a:lnTo>
                  <a:pt x="18" y="98"/>
                </a:lnTo>
                <a:lnTo>
                  <a:pt x="16" y="98"/>
                </a:lnTo>
                <a:lnTo>
                  <a:pt x="16" y="96"/>
                </a:lnTo>
                <a:lnTo>
                  <a:pt x="14" y="94"/>
                </a:lnTo>
                <a:lnTo>
                  <a:pt x="14" y="92"/>
                </a:lnTo>
                <a:lnTo>
                  <a:pt x="12" y="90"/>
                </a:lnTo>
                <a:lnTo>
                  <a:pt x="12" y="88"/>
                </a:lnTo>
                <a:lnTo>
                  <a:pt x="10" y="86"/>
                </a:lnTo>
                <a:lnTo>
                  <a:pt x="10" y="85"/>
                </a:lnTo>
                <a:lnTo>
                  <a:pt x="8" y="83"/>
                </a:lnTo>
                <a:lnTo>
                  <a:pt x="8" y="81"/>
                </a:lnTo>
                <a:lnTo>
                  <a:pt x="6" y="77"/>
                </a:lnTo>
                <a:lnTo>
                  <a:pt x="6" y="73"/>
                </a:lnTo>
                <a:lnTo>
                  <a:pt x="4" y="71"/>
                </a:lnTo>
                <a:lnTo>
                  <a:pt x="4"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Oval 292"/>
          <p:cNvSpPr/>
          <p:nvPr/>
        </p:nvSpPr>
        <p:spPr>
          <a:xfrm>
            <a:off x="2228760" y="6059520"/>
            <a:ext cx="109800" cy="174600"/>
          </a:xfrm>
          <a:prstGeom prst="ellipse">
            <a:avLst/>
          </a:prstGeom>
          <a:solidFill>
            <a:srgbClr val="f9d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2" name="Freeform 293"/>
          <p:cNvSpPr/>
          <p:nvPr/>
        </p:nvSpPr>
        <p:spPr>
          <a:xfrm>
            <a:off x="2225520" y="6058080"/>
            <a:ext cx="113040" cy="176040"/>
          </a:xfrm>
          <a:custGeom>
            <a:avLst/>
            <a:gdLst>
              <a:gd name="textAreaLeft" fmla="*/ 0 w 113040"/>
              <a:gd name="textAreaRight" fmla="*/ 113400 w 113040"/>
              <a:gd name="textAreaTop" fmla="*/ 0 h 176040"/>
              <a:gd name="textAreaBottom" fmla="*/ 176400 h 176040"/>
            </a:gdLst>
            <a:ahLst/>
            <a:rect l="textAreaLeft" t="textAreaTop" r="textAreaRight" b="textAreaBottom"/>
            <a:pathLst>
              <a:path w="71" h="111">
                <a:moveTo>
                  <a:pt x="0" y="55"/>
                </a:moveTo>
                <a:lnTo>
                  <a:pt x="0" y="71"/>
                </a:lnTo>
                <a:lnTo>
                  <a:pt x="2" y="73"/>
                </a:lnTo>
                <a:lnTo>
                  <a:pt x="2" y="76"/>
                </a:lnTo>
                <a:lnTo>
                  <a:pt x="3" y="80"/>
                </a:lnTo>
                <a:lnTo>
                  <a:pt x="3" y="82"/>
                </a:lnTo>
                <a:lnTo>
                  <a:pt x="5" y="84"/>
                </a:lnTo>
                <a:lnTo>
                  <a:pt x="5" y="86"/>
                </a:lnTo>
                <a:lnTo>
                  <a:pt x="7" y="88"/>
                </a:lnTo>
                <a:lnTo>
                  <a:pt x="7" y="90"/>
                </a:lnTo>
                <a:lnTo>
                  <a:pt x="9" y="92"/>
                </a:lnTo>
                <a:lnTo>
                  <a:pt x="9" y="94"/>
                </a:lnTo>
                <a:lnTo>
                  <a:pt x="11" y="96"/>
                </a:lnTo>
                <a:lnTo>
                  <a:pt x="11" y="97"/>
                </a:lnTo>
                <a:lnTo>
                  <a:pt x="15" y="101"/>
                </a:lnTo>
                <a:lnTo>
                  <a:pt x="17" y="101"/>
                </a:lnTo>
                <a:lnTo>
                  <a:pt x="17" y="105"/>
                </a:lnTo>
                <a:lnTo>
                  <a:pt x="21" y="105"/>
                </a:lnTo>
                <a:lnTo>
                  <a:pt x="23" y="107"/>
                </a:lnTo>
                <a:lnTo>
                  <a:pt x="23" y="109"/>
                </a:lnTo>
                <a:lnTo>
                  <a:pt x="32" y="109"/>
                </a:lnTo>
                <a:lnTo>
                  <a:pt x="32" y="111"/>
                </a:lnTo>
                <a:lnTo>
                  <a:pt x="36" y="109"/>
                </a:lnTo>
                <a:lnTo>
                  <a:pt x="42" y="109"/>
                </a:lnTo>
                <a:lnTo>
                  <a:pt x="44" y="107"/>
                </a:lnTo>
                <a:lnTo>
                  <a:pt x="46" y="107"/>
                </a:lnTo>
                <a:lnTo>
                  <a:pt x="51" y="101"/>
                </a:lnTo>
                <a:lnTo>
                  <a:pt x="55" y="101"/>
                </a:lnTo>
                <a:lnTo>
                  <a:pt x="55" y="97"/>
                </a:lnTo>
                <a:lnTo>
                  <a:pt x="59" y="94"/>
                </a:lnTo>
                <a:lnTo>
                  <a:pt x="59" y="92"/>
                </a:lnTo>
                <a:lnTo>
                  <a:pt x="61" y="90"/>
                </a:lnTo>
                <a:lnTo>
                  <a:pt x="61" y="88"/>
                </a:lnTo>
                <a:lnTo>
                  <a:pt x="63" y="86"/>
                </a:lnTo>
                <a:lnTo>
                  <a:pt x="63" y="84"/>
                </a:lnTo>
                <a:lnTo>
                  <a:pt x="65" y="82"/>
                </a:lnTo>
                <a:lnTo>
                  <a:pt x="65" y="80"/>
                </a:lnTo>
                <a:lnTo>
                  <a:pt x="67" y="76"/>
                </a:lnTo>
                <a:lnTo>
                  <a:pt x="67" y="73"/>
                </a:lnTo>
                <a:lnTo>
                  <a:pt x="69" y="71"/>
                </a:lnTo>
                <a:lnTo>
                  <a:pt x="69" y="57"/>
                </a:lnTo>
                <a:lnTo>
                  <a:pt x="71" y="57"/>
                </a:lnTo>
                <a:lnTo>
                  <a:pt x="71" y="55"/>
                </a:lnTo>
                <a:lnTo>
                  <a:pt x="69" y="51"/>
                </a:lnTo>
                <a:lnTo>
                  <a:pt x="69" y="38"/>
                </a:lnTo>
                <a:lnTo>
                  <a:pt x="67" y="36"/>
                </a:lnTo>
                <a:lnTo>
                  <a:pt x="67" y="32"/>
                </a:lnTo>
                <a:lnTo>
                  <a:pt x="65" y="28"/>
                </a:lnTo>
                <a:lnTo>
                  <a:pt x="65" y="26"/>
                </a:lnTo>
                <a:lnTo>
                  <a:pt x="63" y="25"/>
                </a:lnTo>
                <a:lnTo>
                  <a:pt x="63" y="23"/>
                </a:lnTo>
                <a:lnTo>
                  <a:pt x="61" y="21"/>
                </a:lnTo>
                <a:lnTo>
                  <a:pt x="61" y="19"/>
                </a:lnTo>
                <a:lnTo>
                  <a:pt x="59" y="17"/>
                </a:lnTo>
                <a:lnTo>
                  <a:pt x="59" y="15"/>
                </a:lnTo>
                <a:lnTo>
                  <a:pt x="55" y="11"/>
                </a:lnTo>
                <a:lnTo>
                  <a:pt x="55" y="7"/>
                </a:lnTo>
                <a:lnTo>
                  <a:pt x="51" y="7"/>
                </a:lnTo>
                <a:lnTo>
                  <a:pt x="46" y="1"/>
                </a:lnTo>
                <a:lnTo>
                  <a:pt x="44" y="1"/>
                </a:lnTo>
                <a:lnTo>
                  <a:pt x="42" y="0"/>
                </a:lnTo>
                <a:lnTo>
                  <a:pt x="23" y="0"/>
                </a:lnTo>
                <a:lnTo>
                  <a:pt x="23" y="1"/>
                </a:lnTo>
                <a:lnTo>
                  <a:pt x="21" y="3"/>
                </a:lnTo>
                <a:lnTo>
                  <a:pt x="17" y="3"/>
                </a:lnTo>
                <a:lnTo>
                  <a:pt x="17" y="7"/>
                </a:lnTo>
                <a:lnTo>
                  <a:pt x="15" y="7"/>
                </a:lnTo>
                <a:lnTo>
                  <a:pt x="11" y="11"/>
                </a:lnTo>
                <a:lnTo>
                  <a:pt x="11" y="13"/>
                </a:lnTo>
                <a:lnTo>
                  <a:pt x="9" y="15"/>
                </a:lnTo>
                <a:lnTo>
                  <a:pt x="9" y="17"/>
                </a:lnTo>
                <a:lnTo>
                  <a:pt x="7" y="19"/>
                </a:lnTo>
                <a:lnTo>
                  <a:pt x="7" y="21"/>
                </a:lnTo>
                <a:lnTo>
                  <a:pt x="5" y="23"/>
                </a:lnTo>
                <a:lnTo>
                  <a:pt x="5" y="25"/>
                </a:lnTo>
                <a:lnTo>
                  <a:pt x="3" y="26"/>
                </a:lnTo>
                <a:lnTo>
                  <a:pt x="3" y="28"/>
                </a:lnTo>
                <a:lnTo>
                  <a:pt x="2" y="32"/>
                </a:lnTo>
                <a:lnTo>
                  <a:pt x="2" y="36"/>
                </a:lnTo>
                <a:lnTo>
                  <a:pt x="0" y="38"/>
                </a:lnTo>
                <a:lnTo>
                  <a:pt x="0" y="55"/>
                </a:lnTo>
                <a:lnTo>
                  <a:pt x="3" y="55"/>
                </a:lnTo>
                <a:lnTo>
                  <a:pt x="3" y="38"/>
                </a:lnTo>
                <a:lnTo>
                  <a:pt x="5" y="36"/>
                </a:lnTo>
                <a:lnTo>
                  <a:pt x="5" y="32"/>
                </a:lnTo>
                <a:lnTo>
                  <a:pt x="7" y="28"/>
                </a:lnTo>
                <a:lnTo>
                  <a:pt x="7" y="26"/>
                </a:lnTo>
                <a:lnTo>
                  <a:pt x="9" y="25"/>
                </a:lnTo>
                <a:lnTo>
                  <a:pt x="9" y="23"/>
                </a:lnTo>
                <a:lnTo>
                  <a:pt x="11" y="21"/>
                </a:lnTo>
                <a:lnTo>
                  <a:pt x="11" y="19"/>
                </a:lnTo>
                <a:lnTo>
                  <a:pt x="13" y="17"/>
                </a:lnTo>
                <a:lnTo>
                  <a:pt x="13" y="15"/>
                </a:lnTo>
                <a:lnTo>
                  <a:pt x="15" y="13"/>
                </a:lnTo>
                <a:lnTo>
                  <a:pt x="15" y="11"/>
                </a:lnTo>
                <a:lnTo>
                  <a:pt x="17" y="11"/>
                </a:lnTo>
                <a:lnTo>
                  <a:pt x="21" y="7"/>
                </a:lnTo>
                <a:lnTo>
                  <a:pt x="23" y="5"/>
                </a:lnTo>
                <a:lnTo>
                  <a:pt x="27" y="5"/>
                </a:lnTo>
                <a:lnTo>
                  <a:pt x="27" y="3"/>
                </a:lnTo>
                <a:lnTo>
                  <a:pt x="34" y="3"/>
                </a:lnTo>
                <a:lnTo>
                  <a:pt x="42" y="3"/>
                </a:lnTo>
                <a:lnTo>
                  <a:pt x="44" y="5"/>
                </a:lnTo>
                <a:lnTo>
                  <a:pt x="46" y="5"/>
                </a:lnTo>
                <a:lnTo>
                  <a:pt x="51" y="11"/>
                </a:lnTo>
                <a:lnTo>
                  <a:pt x="55" y="15"/>
                </a:lnTo>
                <a:lnTo>
                  <a:pt x="55" y="17"/>
                </a:lnTo>
                <a:lnTo>
                  <a:pt x="57" y="19"/>
                </a:lnTo>
                <a:lnTo>
                  <a:pt x="57" y="21"/>
                </a:lnTo>
                <a:lnTo>
                  <a:pt x="59" y="23"/>
                </a:lnTo>
                <a:lnTo>
                  <a:pt x="59" y="25"/>
                </a:lnTo>
                <a:lnTo>
                  <a:pt x="61" y="26"/>
                </a:lnTo>
                <a:lnTo>
                  <a:pt x="61" y="28"/>
                </a:lnTo>
                <a:lnTo>
                  <a:pt x="63" y="32"/>
                </a:lnTo>
                <a:lnTo>
                  <a:pt x="63" y="36"/>
                </a:lnTo>
                <a:lnTo>
                  <a:pt x="65" y="38"/>
                </a:lnTo>
                <a:lnTo>
                  <a:pt x="65" y="51"/>
                </a:lnTo>
                <a:lnTo>
                  <a:pt x="67" y="55"/>
                </a:lnTo>
                <a:lnTo>
                  <a:pt x="67" y="53"/>
                </a:lnTo>
                <a:lnTo>
                  <a:pt x="65" y="57"/>
                </a:lnTo>
                <a:lnTo>
                  <a:pt x="65" y="71"/>
                </a:lnTo>
                <a:lnTo>
                  <a:pt x="63" y="73"/>
                </a:lnTo>
                <a:lnTo>
                  <a:pt x="63" y="76"/>
                </a:lnTo>
                <a:lnTo>
                  <a:pt x="61" y="80"/>
                </a:lnTo>
                <a:lnTo>
                  <a:pt x="61" y="82"/>
                </a:lnTo>
                <a:lnTo>
                  <a:pt x="59" y="84"/>
                </a:lnTo>
                <a:lnTo>
                  <a:pt x="59" y="86"/>
                </a:lnTo>
                <a:lnTo>
                  <a:pt x="57" y="88"/>
                </a:lnTo>
                <a:lnTo>
                  <a:pt x="57" y="90"/>
                </a:lnTo>
                <a:lnTo>
                  <a:pt x="55" y="92"/>
                </a:lnTo>
                <a:lnTo>
                  <a:pt x="55" y="94"/>
                </a:lnTo>
                <a:lnTo>
                  <a:pt x="51" y="97"/>
                </a:lnTo>
                <a:lnTo>
                  <a:pt x="46" y="103"/>
                </a:lnTo>
                <a:lnTo>
                  <a:pt x="44" y="103"/>
                </a:lnTo>
                <a:lnTo>
                  <a:pt x="42" y="105"/>
                </a:lnTo>
                <a:lnTo>
                  <a:pt x="32" y="105"/>
                </a:lnTo>
                <a:lnTo>
                  <a:pt x="32" y="109"/>
                </a:lnTo>
                <a:lnTo>
                  <a:pt x="36" y="107"/>
                </a:lnTo>
                <a:lnTo>
                  <a:pt x="27" y="105"/>
                </a:lnTo>
                <a:lnTo>
                  <a:pt x="27" y="103"/>
                </a:lnTo>
                <a:lnTo>
                  <a:pt x="23" y="103"/>
                </a:lnTo>
                <a:lnTo>
                  <a:pt x="21" y="101"/>
                </a:lnTo>
                <a:lnTo>
                  <a:pt x="17" y="97"/>
                </a:lnTo>
                <a:lnTo>
                  <a:pt x="15" y="97"/>
                </a:lnTo>
                <a:lnTo>
                  <a:pt x="15" y="96"/>
                </a:lnTo>
                <a:lnTo>
                  <a:pt x="13" y="94"/>
                </a:lnTo>
                <a:lnTo>
                  <a:pt x="13" y="92"/>
                </a:lnTo>
                <a:lnTo>
                  <a:pt x="11" y="90"/>
                </a:lnTo>
                <a:lnTo>
                  <a:pt x="11" y="88"/>
                </a:lnTo>
                <a:lnTo>
                  <a:pt x="9" y="86"/>
                </a:lnTo>
                <a:lnTo>
                  <a:pt x="9" y="84"/>
                </a:lnTo>
                <a:lnTo>
                  <a:pt x="7" y="82"/>
                </a:lnTo>
                <a:lnTo>
                  <a:pt x="7" y="80"/>
                </a:lnTo>
                <a:lnTo>
                  <a:pt x="5" y="76"/>
                </a:lnTo>
                <a:lnTo>
                  <a:pt x="5" y="73"/>
                </a:lnTo>
                <a:lnTo>
                  <a:pt x="3" y="71"/>
                </a:lnTo>
                <a:lnTo>
                  <a:pt x="3"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Freeform 294"/>
          <p:cNvSpPr/>
          <p:nvPr/>
        </p:nvSpPr>
        <p:spPr>
          <a:xfrm>
            <a:off x="1004760" y="2538360"/>
            <a:ext cx="265320" cy="19080"/>
          </a:xfrm>
          <a:custGeom>
            <a:avLst/>
            <a:gdLst>
              <a:gd name="textAreaLeft" fmla="*/ 0 w 265320"/>
              <a:gd name="textAreaRight" fmla="*/ 265680 w 265320"/>
              <a:gd name="textAreaTop" fmla="*/ 0 h 19080"/>
              <a:gd name="textAreaBottom" fmla="*/ 19440 h 19080"/>
            </a:gdLst>
            <a:ahLst/>
            <a:rect l="textAreaLeft" t="textAreaTop" r="textAreaRight" b="textAreaBottom"/>
            <a:pathLst>
              <a:path w="167" h="12">
                <a:moveTo>
                  <a:pt x="4" y="2"/>
                </a:moveTo>
                <a:lnTo>
                  <a:pt x="2" y="2"/>
                </a:lnTo>
                <a:lnTo>
                  <a:pt x="0" y="4"/>
                </a:lnTo>
                <a:lnTo>
                  <a:pt x="0" y="8"/>
                </a:lnTo>
                <a:lnTo>
                  <a:pt x="2" y="10"/>
                </a:lnTo>
                <a:lnTo>
                  <a:pt x="4" y="10"/>
                </a:lnTo>
                <a:lnTo>
                  <a:pt x="6" y="8"/>
                </a:lnTo>
                <a:lnTo>
                  <a:pt x="62" y="8"/>
                </a:lnTo>
                <a:lnTo>
                  <a:pt x="71" y="6"/>
                </a:lnTo>
                <a:lnTo>
                  <a:pt x="71" y="8"/>
                </a:lnTo>
                <a:lnTo>
                  <a:pt x="83" y="8"/>
                </a:lnTo>
                <a:lnTo>
                  <a:pt x="83" y="10"/>
                </a:lnTo>
                <a:lnTo>
                  <a:pt x="98" y="12"/>
                </a:lnTo>
                <a:lnTo>
                  <a:pt x="100" y="12"/>
                </a:lnTo>
                <a:lnTo>
                  <a:pt x="106" y="10"/>
                </a:lnTo>
                <a:lnTo>
                  <a:pt x="104" y="10"/>
                </a:lnTo>
                <a:lnTo>
                  <a:pt x="127" y="12"/>
                </a:lnTo>
                <a:lnTo>
                  <a:pt x="129" y="10"/>
                </a:lnTo>
                <a:lnTo>
                  <a:pt x="166" y="10"/>
                </a:lnTo>
                <a:lnTo>
                  <a:pt x="166" y="8"/>
                </a:lnTo>
                <a:lnTo>
                  <a:pt x="167" y="8"/>
                </a:lnTo>
                <a:lnTo>
                  <a:pt x="167" y="4"/>
                </a:lnTo>
                <a:lnTo>
                  <a:pt x="166" y="4"/>
                </a:lnTo>
                <a:lnTo>
                  <a:pt x="166" y="2"/>
                </a:lnTo>
                <a:lnTo>
                  <a:pt x="164" y="2"/>
                </a:lnTo>
                <a:lnTo>
                  <a:pt x="139" y="2"/>
                </a:lnTo>
                <a:lnTo>
                  <a:pt x="125" y="2"/>
                </a:lnTo>
                <a:lnTo>
                  <a:pt x="123" y="4"/>
                </a:lnTo>
                <a:lnTo>
                  <a:pt x="100" y="6"/>
                </a:lnTo>
                <a:lnTo>
                  <a:pt x="98" y="10"/>
                </a:lnTo>
                <a:lnTo>
                  <a:pt x="104" y="8"/>
                </a:lnTo>
                <a:lnTo>
                  <a:pt x="102" y="4"/>
                </a:lnTo>
                <a:lnTo>
                  <a:pt x="87" y="6"/>
                </a:lnTo>
                <a:lnTo>
                  <a:pt x="87" y="4"/>
                </a:lnTo>
                <a:lnTo>
                  <a:pt x="75" y="4"/>
                </a:lnTo>
                <a:lnTo>
                  <a:pt x="75" y="2"/>
                </a:lnTo>
                <a:lnTo>
                  <a:pt x="62" y="0"/>
                </a:lnTo>
                <a:lnTo>
                  <a:pt x="4" y="0"/>
                </a:lnTo>
                <a:lnTo>
                  <a:pt x="2" y="4"/>
                </a:lnTo>
                <a:lnTo>
                  <a:pt x="4" y="2"/>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274" name="Freeform 295"/>
          <p:cNvSpPr/>
          <p:nvPr/>
        </p:nvSpPr>
        <p:spPr>
          <a:xfrm>
            <a:off x="1023840" y="2759040"/>
            <a:ext cx="252360" cy="84240"/>
          </a:xfrm>
          <a:custGeom>
            <a:avLst/>
            <a:gdLst>
              <a:gd name="textAreaLeft" fmla="*/ 0 w 252360"/>
              <a:gd name="textAreaRight" fmla="*/ 252720 w 252360"/>
              <a:gd name="textAreaTop" fmla="*/ 0 h 84240"/>
              <a:gd name="textAreaBottom" fmla="*/ 84240 h 84240"/>
            </a:gdLst>
            <a:ahLst/>
            <a:rect l="textAreaLeft" t="textAreaTop" r="textAreaRight" b="textAreaBottom"/>
            <a:pathLst>
              <a:path w="159" h="53">
                <a:moveTo>
                  <a:pt x="0" y="15"/>
                </a:moveTo>
                <a:lnTo>
                  <a:pt x="0" y="19"/>
                </a:lnTo>
                <a:lnTo>
                  <a:pt x="2" y="19"/>
                </a:lnTo>
                <a:lnTo>
                  <a:pt x="2" y="21"/>
                </a:lnTo>
                <a:lnTo>
                  <a:pt x="6" y="21"/>
                </a:lnTo>
                <a:lnTo>
                  <a:pt x="6" y="19"/>
                </a:lnTo>
                <a:lnTo>
                  <a:pt x="8" y="19"/>
                </a:lnTo>
                <a:lnTo>
                  <a:pt x="8" y="15"/>
                </a:lnTo>
                <a:lnTo>
                  <a:pt x="10" y="13"/>
                </a:lnTo>
                <a:lnTo>
                  <a:pt x="8" y="11"/>
                </a:lnTo>
                <a:lnTo>
                  <a:pt x="10" y="11"/>
                </a:lnTo>
                <a:lnTo>
                  <a:pt x="10" y="7"/>
                </a:lnTo>
                <a:lnTo>
                  <a:pt x="11" y="7"/>
                </a:lnTo>
                <a:lnTo>
                  <a:pt x="11" y="5"/>
                </a:lnTo>
                <a:lnTo>
                  <a:pt x="11" y="7"/>
                </a:lnTo>
                <a:lnTo>
                  <a:pt x="13" y="7"/>
                </a:lnTo>
                <a:lnTo>
                  <a:pt x="11" y="7"/>
                </a:lnTo>
                <a:lnTo>
                  <a:pt x="11" y="5"/>
                </a:lnTo>
                <a:lnTo>
                  <a:pt x="11" y="9"/>
                </a:lnTo>
                <a:lnTo>
                  <a:pt x="13" y="11"/>
                </a:lnTo>
                <a:lnTo>
                  <a:pt x="13" y="15"/>
                </a:lnTo>
                <a:lnTo>
                  <a:pt x="15" y="17"/>
                </a:lnTo>
                <a:lnTo>
                  <a:pt x="17" y="23"/>
                </a:lnTo>
                <a:lnTo>
                  <a:pt x="19" y="23"/>
                </a:lnTo>
                <a:lnTo>
                  <a:pt x="17" y="27"/>
                </a:lnTo>
                <a:lnTo>
                  <a:pt x="23" y="30"/>
                </a:lnTo>
                <a:lnTo>
                  <a:pt x="23" y="32"/>
                </a:lnTo>
                <a:lnTo>
                  <a:pt x="33" y="32"/>
                </a:lnTo>
                <a:lnTo>
                  <a:pt x="36" y="28"/>
                </a:lnTo>
                <a:lnTo>
                  <a:pt x="36" y="27"/>
                </a:lnTo>
                <a:lnTo>
                  <a:pt x="38" y="27"/>
                </a:lnTo>
                <a:lnTo>
                  <a:pt x="38" y="25"/>
                </a:lnTo>
                <a:lnTo>
                  <a:pt x="40" y="27"/>
                </a:lnTo>
                <a:lnTo>
                  <a:pt x="44" y="23"/>
                </a:lnTo>
                <a:lnTo>
                  <a:pt x="44" y="25"/>
                </a:lnTo>
                <a:lnTo>
                  <a:pt x="46" y="21"/>
                </a:lnTo>
                <a:lnTo>
                  <a:pt x="44" y="21"/>
                </a:lnTo>
                <a:lnTo>
                  <a:pt x="50" y="21"/>
                </a:lnTo>
                <a:lnTo>
                  <a:pt x="50" y="23"/>
                </a:lnTo>
                <a:lnTo>
                  <a:pt x="52" y="23"/>
                </a:lnTo>
                <a:lnTo>
                  <a:pt x="52" y="25"/>
                </a:lnTo>
                <a:lnTo>
                  <a:pt x="54" y="25"/>
                </a:lnTo>
                <a:lnTo>
                  <a:pt x="52" y="27"/>
                </a:lnTo>
                <a:lnTo>
                  <a:pt x="56" y="28"/>
                </a:lnTo>
                <a:lnTo>
                  <a:pt x="54" y="27"/>
                </a:lnTo>
                <a:lnTo>
                  <a:pt x="56" y="30"/>
                </a:lnTo>
                <a:lnTo>
                  <a:pt x="58" y="30"/>
                </a:lnTo>
                <a:lnTo>
                  <a:pt x="58" y="32"/>
                </a:lnTo>
                <a:lnTo>
                  <a:pt x="59" y="32"/>
                </a:lnTo>
                <a:lnTo>
                  <a:pt x="58" y="34"/>
                </a:lnTo>
                <a:lnTo>
                  <a:pt x="61" y="38"/>
                </a:lnTo>
                <a:lnTo>
                  <a:pt x="63" y="38"/>
                </a:lnTo>
                <a:lnTo>
                  <a:pt x="63" y="40"/>
                </a:lnTo>
                <a:lnTo>
                  <a:pt x="65" y="40"/>
                </a:lnTo>
                <a:lnTo>
                  <a:pt x="65" y="42"/>
                </a:lnTo>
                <a:lnTo>
                  <a:pt x="67" y="42"/>
                </a:lnTo>
                <a:lnTo>
                  <a:pt x="67" y="44"/>
                </a:lnTo>
                <a:lnTo>
                  <a:pt x="69" y="44"/>
                </a:lnTo>
                <a:lnTo>
                  <a:pt x="69" y="46"/>
                </a:lnTo>
                <a:lnTo>
                  <a:pt x="73" y="50"/>
                </a:lnTo>
                <a:lnTo>
                  <a:pt x="75" y="48"/>
                </a:lnTo>
                <a:lnTo>
                  <a:pt x="75" y="50"/>
                </a:lnTo>
                <a:lnTo>
                  <a:pt x="81" y="51"/>
                </a:lnTo>
                <a:lnTo>
                  <a:pt x="83" y="51"/>
                </a:lnTo>
                <a:lnTo>
                  <a:pt x="84" y="53"/>
                </a:lnTo>
                <a:lnTo>
                  <a:pt x="94" y="53"/>
                </a:lnTo>
                <a:lnTo>
                  <a:pt x="96" y="51"/>
                </a:lnTo>
                <a:lnTo>
                  <a:pt x="104" y="51"/>
                </a:lnTo>
                <a:lnTo>
                  <a:pt x="106" y="50"/>
                </a:lnTo>
                <a:lnTo>
                  <a:pt x="109" y="50"/>
                </a:lnTo>
                <a:lnTo>
                  <a:pt x="111" y="48"/>
                </a:lnTo>
                <a:lnTo>
                  <a:pt x="117" y="48"/>
                </a:lnTo>
                <a:lnTo>
                  <a:pt x="119" y="46"/>
                </a:lnTo>
                <a:lnTo>
                  <a:pt x="121" y="46"/>
                </a:lnTo>
                <a:lnTo>
                  <a:pt x="123" y="44"/>
                </a:lnTo>
                <a:lnTo>
                  <a:pt x="129" y="44"/>
                </a:lnTo>
                <a:lnTo>
                  <a:pt x="127" y="44"/>
                </a:lnTo>
                <a:lnTo>
                  <a:pt x="131" y="40"/>
                </a:lnTo>
                <a:lnTo>
                  <a:pt x="129" y="40"/>
                </a:lnTo>
                <a:lnTo>
                  <a:pt x="144" y="40"/>
                </a:lnTo>
                <a:lnTo>
                  <a:pt x="144" y="42"/>
                </a:lnTo>
                <a:lnTo>
                  <a:pt x="152" y="44"/>
                </a:lnTo>
                <a:lnTo>
                  <a:pt x="154" y="44"/>
                </a:lnTo>
                <a:lnTo>
                  <a:pt x="155" y="46"/>
                </a:lnTo>
                <a:lnTo>
                  <a:pt x="157" y="46"/>
                </a:lnTo>
                <a:lnTo>
                  <a:pt x="157" y="44"/>
                </a:lnTo>
                <a:lnTo>
                  <a:pt x="159" y="44"/>
                </a:lnTo>
                <a:lnTo>
                  <a:pt x="159" y="40"/>
                </a:lnTo>
                <a:lnTo>
                  <a:pt x="157" y="40"/>
                </a:lnTo>
                <a:lnTo>
                  <a:pt x="157" y="38"/>
                </a:lnTo>
                <a:lnTo>
                  <a:pt x="155" y="38"/>
                </a:lnTo>
                <a:lnTo>
                  <a:pt x="157" y="40"/>
                </a:lnTo>
                <a:lnTo>
                  <a:pt x="155" y="36"/>
                </a:lnTo>
                <a:lnTo>
                  <a:pt x="148" y="38"/>
                </a:lnTo>
                <a:lnTo>
                  <a:pt x="148" y="36"/>
                </a:lnTo>
                <a:lnTo>
                  <a:pt x="125" y="36"/>
                </a:lnTo>
                <a:lnTo>
                  <a:pt x="123" y="40"/>
                </a:lnTo>
                <a:lnTo>
                  <a:pt x="127" y="36"/>
                </a:lnTo>
                <a:lnTo>
                  <a:pt x="125" y="36"/>
                </a:lnTo>
                <a:lnTo>
                  <a:pt x="127" y="36"/>
                </a:lnTo>
                <a:lnTo>
                  <a:pt x="119" y="36"/>
                </a:lnTo>
                <a:lnTo>
                  <a:pt x="117" y="38"/>
                </a:lnTo>
                <a:lnTo>
                  <a:pt x="115" y="38"/>
                </a:lnTo>
                <a:lnTo>
                  <a:pt x="113" y="40"/>
                </a:lnTo>
                <a:lnTo>
                  <a:pt x="107" y="40"/>
                </a:lnTo>
                <a:lnTo>
                  <a:pt x="106" y="42"/>
                </a:lnTo>
                <a:lnTo>
                  <a:pt x="102" y="42"/>
                </a:lnTo>
                <a:lnTo>
                  <a:pt x="100" y="44"/>
                </a:lnTo>
                <a:lnTo>
                  <a:pt x="92" y="44"/>
                </a:lnTo>
                <a:lnTo>
                  <a:pt x="90" y="46"/>
                </a:lnTo>
                <a:lnTo>
                  <a:pt x="84" y="46"/>
                </a:lnTo>
                <a:lnTo>
                  <a:pt x="86" y="48"/>
                </a:lnTo>
                <a:lnTo>
                  <a:pt x="84" y="44"/>
                </a:lnTo>
                <a:lnTo>
                  <a:pt x="79" y="46"/>
                </a:lnTo>
                <a:lnTo>
                  <a:pt x="79" y="44"/>
                </a:lnTo>
                <a:lnTo>
                  <a:pt x="77" y="42"/>
                </a:lnTo>
                <a:lnTo>
                  <a:pt x="75" y="40"/>
                </a:lnTo>
                <a:lnTo>
                  <a:pt x="73" y="42"/>
                </a:lnTo>
                <a:lnTo>
                  <a:pt x="73" y="40"/>
                </a:lnTo>
                <a:lnTo>
                  <a:pt x="71" y="40"/>
                </a:lnTo>
                <a:lnTo>
                  <a:pt x="71" y="38"/>
                </a:lnTo>
                <a:lnTo>
                  <a:pt x="69" y="38"/>
                </a:lnTo>
                <a:lnTo>
                  <a:pt x="69" y="36"/>
                </a:lnTo>
                <a:lnTo>
                  <a:pt x="67" y="36"/>
                </a:lnTo>
                <a:lnTo>
                  <a:pt x="67" y="34"/>
                </a:lnTo>
                <a:lnTo>
                  <a:pt x="65" y="34"/>
                </a:lnTo>
                <a:lnTo>
                  <a:pt x="67" y="32"/>
                </a:lnTo>
                <a:lnTo>
                  <a:pt x="65" y="30"/>
                </a:lnTo>
                <a:lnTo>
                  <a:pt x="63" y="28"/>
                </a:lnTo>
                <a:lnTo>
                  <a:pt x="61" y="28"/>
                </a:lnTo>
                <a:lnTo>
                  <a:pt x="61" y="27"/>
                </a:lnTo>
                <a:lnTo>
                  <a:pt x="59" y="27"/>
                </a:lnTo>
                <a:lnTo>
                  <a:pt x="61" y="27"/>
                </a:lnTo>
                <a:lnTo>
                  <a:pt x="59" y="25"/>
                </a:lnTo>
                <a:lnTo>
                  <a:pt x="59" y="23"/>
                </a:lnTo>
                <a:lnTo>
                  <a:pt x="58" y="21"/>
                </a:lnTo>
                <a:lnTo>
                  <a:pt x="56" y="21"/>
                </a:lnTo>
                <a:lnTo>
                  <a:pt x="56" y="19"/>
                </a:lnTo>
                <a:lnTo>
                  <a:pt x="54" y="19"/>
                </a:lnTo>
                <a:lnTo>
                  <a:pt x="54" y="17"/>
                </a:lnTo>
                <a:lnTo>
                  <a:pt x="40" y="17"/>
                </a:lnTo>
                <a:lnTo>
                  <a:pt x="38" y="21"/>
                </a:lnTo>
                <a:lnTo>
                  <a:pt x="40" y="17"/>
                </a:lnTo>
                <a:lnTo>
                  <a:pt x="40" y="19"/>
                </a:lnTo>
                <a:lnTo>
                  <a:pt x="42" y="17"/>
                </a:lnTo>
                <a:lnTo>
                  <a:pt x="38" y="17"/>
                </a:lnTo>
                <a:lnTo>
                  <a:pt x="36" y="19"/>
                </a:lnTo>
                <a:lnTo>
                  <a:pt x="34" y="21"/>
                </a:lnTo>
                <a:lnTo>
                  <a:pt x="34" y="23"/>
                </a:lnTo>
                <a:lnTo>
                  <a:pt x="33" y="23"/>
                </a:lnTo>
                <a:lnTo>
                  <a:pt x="33" y="25"/>
                </a:lnTo>
                <a:lnTo>
                  <a:pt x="31" y="23"/>
                </a:lnTo>
                <a:lnTo>
                  <a:pt x="29" y="25"/>
                </a:lnTo>
                <a:lnTo>
                  <a:pt x="25" y="25"/>
                </a:lnTo>
                <a:lnTo>
                  <a:pt x="27" y="25"/>
                </a:lnTo>
                <a:lnTo>
                  <a:pt x="27" y="27"/>
                </a:lnTo>
                <a:lnTo>
                  <a:pt x="25" y="23"/>
                </a:lnTo>
                <a:lnTo>
                  <a:pt x="23" y="19"/>
                </a:lnTo>
                <a:lnTo>
                  <a:pt x="21" y="19"/>
                </a:lnTo>
                <a:lnTo>
                  <a:pt x="23" y="13"/>
                </a:lnTo>
                <a:lnTo>
                  <a:pt x="21" y="11"/>
                </a:lnTo>
                <a:lnTo>
                  <a:pt x="21" y="7"/>
                </a:lnTo>
                <a:lnTo>
                  <a:pt x="19" y="5"/>
                </a:lnTo>
                <a:lnTo>
                  <a:pt x="19" y="3"/>
                </a:lnTo>
                <a:lnTo>
                  <a:pt x="17" y="3"/>
                </a:lnTo>
                <a:lnTo>
                  <a:pt x="15" y="0"/>
                </a:lnTo>
                <a:lnTo>
                  <a:pt x="8" y="2"/>
                </a:lnTo>
                <a:lnTo>
                  <a:pt x="8" y="3"/>
                </a:lnTo>
                <a:lnTo>
                  <a:pt x="6" y="3"/>
                </a:lnTo>
                <a:lnTo>
                  <a:pt x="6" y="7"/>
                </a:lnTo>
                <a:lnTo>
                  <a:pt x="4" y="7"/>
                </a:lnTo>
                <a:lnTo>
                  <a:pt x="2" y="9"/>
                </a:lnTo>
                <a:lnTo>
                  <a:pt x="0" y="11"/>
                </a:lnTo>
                <a:lnTo>
                  <a:pt x="0" y="17"/>
                </a:lnTo>
                <a:lnTo>
                  <a:pt x="0"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5" name="Freeform 296"/>
          <p:cNvSpPr/>
          <p:nvPr/>
        </p:nvSpPr>
        <p:spPr>
          <a:xfrm>
            <a:off x="1004760" y="3567240"/>
            <a:ext cx="265320" cy="36360"/>
          </a:xfrm>
          <a:custGeom>
            <a:avLst/>
            <a:gdLst>
              <a:gd name="textAreaLeft" fmla="*/ 0 w 265320"/>
              <a:gd name="textAreaRight" fmla="*/ 265680 w 265320"/>
              <a:gd name="textAreaTop" fmla="*/ 0 h 36360"/>
              <a:gd name="textAreaBottom" fmla="*/ 36720 h 36360"/>
            </a:gdLst>
            <a:ahLst/>
            <a:rect l="textAreaLeft" t="textAreaTop" r="textAreaRight" b="textAreaBottom"/>
            <a:pathLst>
              <a:path w="167" h="23">
                <a:moveTo>
                  <a:pt x="4" y="11"/>
                </a:moveTo>
                <a:lnTo>
                  <a:pt x="2" y="11"/>
                </a:lnTo>
                <a:lnTo>
                  <a:pt x="2" y="13"/>
                </a:lnTo>
                <a:lnTo>
                  <a:pt x="0" y="13"/>
                </a:lnTo>
                <a:lnTo>
                  <a:pt x="0" y="17"/>
                </a:lnTo>
                <a:lnTo>
                  <a:pt x="2" y="17"/>
                </a:lnTo>
                <a:lnTo>
                  <a:pt x="2" y="19"/>
                </a:lnTo>
                <a:lnTo>
                  <a:pt x="4" y="19"/>
                </a:lnTo>
                <a:lnTo>
                  <a:pt x="8" y="15"/>
                </a:lnTo>
                <a:lnTo>
                  <a:pt x="6" y="15"/>
                </a:lnTo>
                <a:lnTo>
                  <a:pt x="29" y="17"/>
                </a:lnTo>
                <a:lnTo>
                  <a:pt x="31" y="15"/>
                </a:lnTo>
                <a:lnTo>
                  <a:pt x="37" y="15"/>
                </a:lnTo>
                <a:lnTo>
                  <a:pt x="35" y="15"/>
                </a:lnTo>
                <a:lnTo>
                  <a:pt x="39" y="11"/>
                </a:lnTo>
                <a:lnTo>
                  <a:pt x="37" y="11"/>
                </a:lnTo>
                <a:lnTo>
                  <a:pt x="43" y="13"/>
                </a:lnTo>
                <a:lnTo>
                  <a:pt x="45" y="11"/>
                </a:lnTo>
                <a:lnTo>
                  <a:pt x="50" y="9"/>
                </a:lnTo>
                <a:lnTo>
                  <a:pt x="50" y="7"/>
                </a:lnTo>
                <a:lnTo>
                  <a:pt x="56" y="9"/>
                </a:lnTo>
                <a:lnTo>
                  <a:pt x="58" y="7"/>
                </a:lnTo>
                <a:lnTo>
                  <a:pt x="81" y="7"/>
                </a:lnTo>
                <a:lnTo>
                  <a:pt x="83" y="9"/>
                </a:lnTo>
                <a:lnTo>
                  <a:pt x="91" y="9"/>
                </a:lnTo>
                <a:lnTo>
                  <a:pt x="93" y="11"/>
                </a:lnTo>
                <a:lnTo>
                  <a:pt x="100" y="11"/>
                </a:lnTo>
                <a:lnTo>
                  <a:pt x="102" y="13"/>
                </a:lnTo>
                <a:lnTo>
                  <a:pt x="112" y="13"/>
                </a:lnTo>
                <a:lnTo>
                  <a:pt x="114" y="15"/>
                </a:lnTo>
                <a:lnTo>
                  <a:pt x="118" y="15"/>
                </a:lnTo>
                <a:lnTo>
                  <a:pt x="119" y="17"/>
                </a:lnTo>
                <a:lnTo>
                  <a:pt x="127" y="17"/>
                </a:lnTo>
                <a:lnTo>
                  <a:pt x="129" y="19"/>
                </a:lnTo>
                <a:lnTo>
                  <a:pt x="146" y="19"/>
                </a:lnTo>
                <a:lnTo>
                  <a:pt x="148" y="21"/>
                </a:lnTo>
                <a:lnTo>
                  <a:pt x="162" y="21"/>
                </a:lnTo>
                <a:lnTo>
                  <a:pt x="164" y="23"/>
                </a:lnTo>
                <a:lnTo>
                  <a:pt x="166" y="23"/>
                </a:lnTo>
                <a:lnTo>
                  <a:pt x="166" y="21"/>
                </a:lnTo>
                <a:lnTo>
                  <a:pt x="167" y="21"/>
                </a:lnTo>
                <a:lnTo>
                  <a:pt x="167" y="17"/>
                </a:lnTo>
                <a:lnTo>
                  <a:pt x="166" y="17"/>
                </a:lnTo>
                <a:lnTo>
                  <a:pt x="166" y="15"/>
                </a:lnTo>
                <a:lnTo>
                  <a:pt x="164" y="15"/>
                </a:lnTo>
                <a:lnTo>
                  <a:pt x="166" y="17"/>
                </a:lnTo>
                <a:lnTo>
                  <a:pt x="164" y="13"/>
                </a:lnTo>
                <a:lnTo>
                  <a:pt x="148" y="13"/>
                </a:lnTo>
                <a:lnTo>
                  <a:pt x="150" y="15"/>
                </a:lnTo>
                <a:lnTo>
                  <a:pt x="148" y="11"/>
                </a:lnTo>
                <a:lnTo>
                  <a:pt x="133" y="11"/>
                </a:lnTo>
                <a:lnTo>
                  <a:pt x="131" y="9"/>
                </a:lnTo>
                <a:lnTo>
                  <a:pt x="123" y="9"/>
                </a:lnTo>
                <a:lnTo>
                  <a:pt x="121" y="7"/>
                </a:lnTo>
                <a:lnTo>
                  <a:pt x="114" y="7"/>
                </a:lnTo>
                <a:lnTo>
                  <a:pt x="116" y="9"/>
                </a:lnTo>
                <a:lnTo>
                  <a:pt x="114" y="5"/>
                </a:lnTo>
                <a:lnTo>
                  <a:pt x="106" y="5"/>
                </a:lnTo>
                <a:lnTo>
                  <a:pt x="104" y="3"/>
                </a:lnTo>
                <a:lnTo>
                  <a:pt x="96" y="3"/>
                </a:lnTo>
                <a:lnTo>
                  <a:pt x="95" y="1"/>
                </a:lnTo>
                <a:lnTo>
                  <a:pt x="87" y="1"/>
                </a:lnTo>
                <a:lnTo>
                  <a:pt x="85" y="0"/>
                </a:lnTo>
                <a:lnTo>
                  <a:pt x="70" y="0"/>
                </a:lnTo>
                <a:lnTo>
                  <a:pt x="54" y="0"/>
                </a:lnTo>
                <a:lnTo>
                  <a:pt x="52" y="1"/>
                </a:lnTo>
                <a:lnTo>
                  <a:pt x="46" y="3"/>
                </a:lnTo>
                <a:lnTo>
                  <a:pt x="46" y="5"/>
                </a:lnTo>
                <a:lnTo>
                  <a:pt x="41" y="3"/>
                </a:lnTo>
                <a:lnTo>
                  <a:pt x="39" y="5"/>
                </a:lnTo>
                <a:lnTo>
                  <a:pt x="33" y="7"/>
                </a:lnTo>
                <a:lnTo>
                  <a:pt x="31" y="11"/>
                </a:lnTo>
                <a:lnTo>
                  <a:pt x="35" y="7"/>
                </a:lnTo>
                <a:lnTo>
                  <a:pt x="33" y="7"/>
                </a:lnTo>
                <a:lnTo>
                  <a:pt x="35" y="7"/>
                </a:lnTo>
                <a:lnTo>
                  <a:pt x="27" y="7"/>
                </a:lnTo>
                <a:lnTo>
                  <a:pt x="25" y="9"/>
                </a:lnTo>
                <a:lnTo>
                  <a:pt x="2" y="11"/>
                </a:lnTo>
                <a:lnTo>
                  <a:pt x="0" y="15"/>
                </a:lnTo>
                <a:lnTo>
                  <a:pt x="4" y="1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76" name="Freeform 297"/>
          <p:cNvSpPr/>
          <p:nvPr/>
        </p:nvSpPr>
        <p:spPr>
          <a:xfrm>
            <a:off x="1004760" y="3836880"/>
            <a:ext cx="271440" cy="74880"/>
          </a:xfrm>
          <a:custGeom>
            <a:avLst/>
            <a:gdLst>
              <a:gd name="textAreaLeft" fmla="*/ 0 w 271440"/>
              <a:gd name="textAreaRight" fmla="*/ 271800 w 271440"/>
              <a:gd name="textAreaTop" fmla="*/ 0 h 74880"/>
              <a:gd name="textAreaBottom" fmla="*/ 75240 h 74880"/>
            </a:gdLst>
            <a:ahLst/>
            <a:rect l="textAreaLeft" t="textAreaTop" r="textAreaRight" b="textAreaBottom"/>
            <a:pathLst>
              <a:path w="171" h="47">
                <a:moveTo>
                  <a:pt x="6" y="0"/>
                </a:moveTo>
                <a:lnTo>
                  <a:pt x="2" y="0"/>
                </a:lnTo>
                <a:lnTo>
                  <a:pt x="0" y="2"/>
                </a:lnTo>
                <a:lnTo>
                  <a:pt x="0" y="6"/>
                </a:lnTo>
                <a:lnTo>
                  <a:pt x="2" y="8"/>
                </a:lnTo>
                <a:lnTo>
                  <a:pt x="6" y="8"/>
                </a:lnTo>
                <a:lnTo>
                  <a:pt x="8" y="10"/>
                </a:lnTo>
                <a:lnTo>
                  <a:pt x="10" y="10"/>
                </a:lnTo>
                <a:lnTo>
                  <a:pt x="12" y="12"/>
                </a:lnTo>
                <a:lnTo>
                  <a:pt x="14" y="12"/>
                </a:lnTo>
                <a:lnTo>
                  <a:pt x="16" y="14"/>
                </a:lnTo>
                <a:lnTo>
                  <a:pt x="20" y="14"/>
                </a:lnTo>
                <a:lnTo>
                  <a:pt x="22" y="16"/>
                </a:lnTo>
                <a:lnTo>
                  <a:pt x="23" y="16"/>
                </a:lnTo>
                <a:lnTo>
                  <a:pt x="25" y="18"/>
                </a:lnTo>
                <a:lnTo>
                  <a:pt x="29" y="16"/>
                </a:lnTo>
                <a:lnTo>
                  <a:pt x="29" y="18"/>
                </a:lnTo>
                <a:lnTo>
                  <a:pt x="33" y="20"/>
                </a:lnTo>
                <a:lnTo>
                  <a:pt x="35" y="22"/>
                </a:lnTo>
                <a:lnTo>
                  <a:pt x="37" y="20"/>
                </a:lnTo>
                <a:lnTo>
                  <a:pt x="37" y="22"/>
                </a:lnTo>
                <a:lnTo>
                  <a:pt x="41" y="24"/>
                </a:lnTo>
                <a:lnTo>
                  <a:pt x="43" y="25"/>
                </a:lnTo>
                <a:lnTo>
                  <a:pt x="45" y="25"/>
                </a:lnTo>
                <a:lnTo>
                  <a:pt x="46" y="27"/>
                </a:lnTo>
                <a:lnTo>
                  <a:pt x="50" y="27"/>
                </a:lnTo>
                <a:lnTo>
                  <a:pt x="50" y="29"/>
                </a:lnTo>
                <a:lnTo>
                  <a:pt x="52" y="29"/>
                </a:lnTo>
                <a:lnTo>
                  <a:pt x="54" y="31"/>
                </a:lnTo>
                <a:lnTo>
                  <a:pt x="58" y="29"/>
                </a:lnTo>
                <a:lnTo>
                  <a:pt x="58" y="31"/>
                </a:lnTo>
                <a:lnTo>
                  <a:pt x="62" y="33"/>
                </a:lnTo>
                <a:lnTo>
                  <a:pt x="64" y="35"/>
                </a:lnTo>
                <a:lnTo>
                  <a:pt x="66" y="33"/>
                </a:lnTo>
                <a:lnTo>
                  <a:pt x="66" y="35"/>
                </a:lnTo>
                <a:lnTo>
                  <a:pt x="71" y="35"/>
                </a:lnTo>
                <a:lnTo>
                  <a:pt x="71" y="37"/>
                </a:lnTo>
                <a:lnTo>
                  <a:pt x="75" y="37"/>
                </a:lnTo>
                <a:lnTo>
                  <a:pt x="75" y="39"/>
                </a:lnTo>
                <a:lnTo>
                  <a:pt x="79" y="39"/>
                </a:lnTo>
                <a:lnTo>
                  <a:pt x="79" y="41"/>
                </a:lnTo>
                <a:lnTo>
                  <a:pt x="85" y="41"/>
                </a:lnTo>
                <a:lnTo>
                  <a:pt x="85" y="43"/>
                </a:lnTo>
                <a:lnTo>
                  <a:pt x="91" y="45"/>
                </a:lnTo>
                <a:lnTo>
                  <a:pt x="93" y="45"/>
                </a:lnTo>
                <a:lnTo>
                  <a:pt x="95" y="47"/>
                </a:lnTo>
                <a:lnTo>
                  <a:pt x="104" y="47"/>
                </a:lnTo>
                <a:lnTo>
                  <a:pt x="106" y="45"/>
                </a:lnTo>
                <a:lnTo>
                  <a:pt x="112" y="43"/>
                </a:lnTo>
                <a:lnTo>
                  <a:pt x="112" y="41"/>
                </a:lnTo>
                <a:lnTo>
                  <a:pt x="116" y="43"/>
                </a:lnTo>
                <a:lnTo>
                  <a:pt x="118" y="41"/>
                </a:lnTo>
                <a:lnTo>
                  <a:pt x="119" y="41"/>
                </a:lnTo>
                <a:lnTo>
                  <a:pt x="121" y="39"/>
                </a:lnTo>
                <a:lnTo>
                  <a:pt x="127" y="39"/>
                </a:lnTo>
                <a:lnTo>
                  <a:pt x="125" y="39"/>
                </a:lnTo>
                <a:lnTo>
                  <a:pt x="129" y="35"/>
                </a:lnTo>
                <a:lnTo>
                  <a:pt x="127" y="35"/>
                </a:lnTo>
                <a:lnTo>
                  <a:pt x="167" y="37"/>
                </a:lnTo>
                <a:lnTo>
                  <a:pt x="169" y="37"/>
                </a:lnTo>
                <a:lnTo>
                  <a:pt x="169" y="35"/>
                </a:lnTo>
                <a:lnTo>
                  <a:pt x="171" y="35"/>
                </a:lnTo>
                <a:lnTo>
                  <a:pt x="171" y="31"/>
                </a:lnTo>
                <a:lnTo>
                  <a:pt x="169" y="31"/>
                </a:lnTo>
                <a:lnTo>
                  <a:pt x="169" y="29"/>
                </a:lnTo>
                <a:lnTo>
                  <a:pt x="167" y="29"/>
                </a:lnTo>
                <a:lnTo>
                  <a:pt x="123" y="31"/>
                </a:lnTo>
                <a:lnTo>
                  <a:pt x="121" y="35"/>
                </a:lnTo>
                <a:lnTo>
                  <a:pt x="125" y="31"/>
                </a:lnTo>
                <a:lnTo>
                  <a:pt x="123" y="31"/>
                </a:lnTo>
                <a:lnTo>
                  <a:pt x="125" y="31"/>
                </a:lnTo>
                <a:lnTo>
                  <a:pt x="118" y="31"/>
                </a:lnTo>
                <a:lnTo>
                  <a:pt x="116" y="33"/>
                </a:lnTo>
                <a:lnTo>
                  <a:pt x="114" y="33"/>
                </a:lnTo>
                <a:lnTo>
                  <a:pt x="112" y="35"/>
                </a:lnTo>
                <a:lnTo>
                  <a:pt x="108" y="37"/>
                </a:lnTo>
                <a:lnTo>
                  <a:pt x="108" y="39"/>
                </a:lnTo>
                <a:lnTo>
                  <a:pt x="102" y="37"/>
                </a:lnTo>
                <a:lnTo>
                  <a:pt x="100" y="39"/>
                </a:lnTo>
                <a:lnTo>
                  <a:pt x="95" y="39"/>
                </a:lnTo>
                <a:lnTo>
                  <a:pt x="96" y="41"/>
                </a:lnTo>
                <a:lnTo>
                  <a:pt x="95" y="37"/>
                </a:lnTo>
                <a:lnTo>
                  <a:pt x="89" y="39"/>
                </a:lnTo>
                <a:lnTo>
                  <a:pt x="89" y="37"/>
                </a:lnTo>
                <a:lnTo>
                  <a:pt x="83" y="37"/>
                </a:lnTo>
                <a:lnTo>
                  <a:pt x="83" y="35"/>
                </a:lnTo>
                <a:lnTo>
                  <a:pt x="79" y="35"/>
                </a:lnTo>
                <a:lnTo>
                  <a:pt x="79" y="33"/>
                </a:lnTo>
                <a:lnTo>
                  <a:pt x="75" y="33"/>
                </a:lnTo>
                <a:lnTo>
                  <a:pt x="75" y="31"/>
                </a:lnTo>
                <a:lnTo>
                  <a:pt x="70" y="31"/>
                </a:lnTo>
                <a:lnTo>
                  <a:pt x="70" y="29"/>
                </a:lnTo>
                <a:lnTo>
                  <a:pt x="68" y="27"/>
                </a:lnTo>
                <a:lnTo>
                  <a:pt x="66" y="25"/>
                </a:lnTo>
                <a:lnTo>
                  <a:pt x="62" y="27"/>
                </a:lnTo>
                <a:lnTo>
                  <a:pt x="62" y="25"/>
                </a:lnTo>
                <a:lnTo>
                  <a:pt x="58" y="24"/>
                </a:lnTo>
                <a:lnTo>
                  <a:pt x="56" y="22"/>
                </a:lnTo>
                <a:lnTo>
                  <a:pt x="52" y="22"/>
                </a:lnTo>
                <a:lnTo>
                  <a:pt x="54" y="22"/>
                </a:lnTo>
                <a:lnTo>
                  <a:pt x="54" y="24"/>
                </a:lnTo>
                <a:lnTo>
                  <a:pt x="52" y="20"/>
                </a:lnTo>
                <a:lnTo>
                  <a:pt x="50" y="20"/>
                </a:lnTo>
                <a:lnTo>
                  <a:pt x="48" y="18"/>
                </a:lnTo>
                <a:lnTo>
                  <a:pt x="46" y="18"/>
                </a:lnTo>
                <a:lnTo>
                  <a:pt x="45" y="16"/>
                </a:lnTo>
                <a:lnTo>
                  <a:pt x="41" y="18"/>
                </a:lnTo>
                <a:lnTo>
                  <a:pt x="41" y="16"/>
                </a:lnTo>
                <a:lnTo>
                  <a:pt x="39" y="14"/>
                </a:lnTo>
                <a:lnTo>
                  <a:pt x="37" y="12"/>
                </a:lnTo>
                <a:lnTo>
                  <a:pt x="33" y="14"/>
                </a:lnTo>
                <a:lnTo>
                  <a:pt x="33" y="12"/>
                </a:lnTo>
                <a:lnTo>
                  <a:pt x="29" y="10"/>
                </a:lnTo>
                <a:lnTo>
                  <a:pt x="27" y="8"/>
                </a:lnTo>
                <a:lnTo>
                  <a:pt x="25" y="8"/>
                </a:lnTo>
                <a:lnTo>
                  <a:pt x="23" y="6"/>
                </a:lnTo>
                <a:lnTo>
                  <a:pt x="20" y="6"/>
                </a:lnTo>
                <a:lnTo>
                  <a:pt x="18" y="4"/>
                </a:lnTo>
                <a:lnTo>
                  <a:pt x="16" y="4"/>
                </a:lnTo>
                <a:lnTo>
                  <a:pt x="14" y="2"/>
                </a:lnTo>
                <a:lnTo>
                  <a:pt x="12" y="2"/>
                </a:lnTo>
                <a:lnTo>
                  <a:pt x="10" y="0"/>
                </a:lnTo>
                <a:lnTo>
                  <a:pt x="4" y="0"/>
                </a:lnTo>
                <a:lnTo>
                  <a:pt x="6"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77" name="Freeform 298"/>
          <p:cNvSpPr/>
          <p:nvPr/>
        </p:nvSpPr>
        <p:spPr>
          <a:xfrm>
            <a:off x="1004760" y="3995640"/>
            <a:ext cx="271440" cy="69840"/>
          </a:xfrm>
          <a:custGeom>
            <a:avLst/>
            <a:gdLst>
              <a:gd name="textAreaLeft" fmla="*/ 0 w 271440"/>
              <a:gd name="textAreaRight" fmla="*/ 271800 w 271440"/>
              <a:gd name="textAreaTop" fmla="*/ 0 h 69840"/>
              <a:gd name="textAreaBottom" fmla="*/ 70200 h 69840"/>
            </a:gdLst>
            <a:ahLst/>
            <a:rect l="textAreaLeft" t="textAreaTop" r="textAreaRight" b="textAreaBottom"/>
            <a:pathLst>
              <a:path w="171" h="44">
                <a:moveTo>
                  <a:pt x="2" y="8"/>
                </a:moveTo>
                <a:lnTo>
                  <a:pt x="2" y="10"/>
                </a:lnTo>
                <a:lnTo>
                  <a:pt x="0" y="10"/>
                </a:lnTo>
                <a:lnTo>
                  <a:pt x="0" y="14"/>
                </a:lnTo>
                <a:lnTo>
                  <a:pt x="2" y="14"/>
                </a:lnTo>
                <a:lnTo>
                  <a:pt x="2" y="16"/>
                </a:lnTo>
                <a:lnTo>
                  <a:pt x="6" y="16"/>
                </a:lnTo>
                <a:lnTo>
                  <a:pt x="8" y="12"/>
                </a:lnTo>
                <a:lnTo>
                  <a:pt x="6" y="12"/>
                </a:lnTo>
                <a:lnTo>
                  <a:pt x="12" y="12"/>
                </a:lnTo>
                <a:lnTo>
                  <a:pt x="12" y="10"/>
                </a:lnTo>
                <a:lnTo>
                  <a:pt x="20" y="10"/>
                </a:lnTo>
                <a:lnTo>
                  <a:pt x="20" y="8"/>
                </a:lnTo>
                <a:lnTo>
                  <a:pt x="27" y="8"/>
                </a:lnTo>
                <a:lnTo>
                  <a:pt x="27" y="6"/>
                </a:lnTo>
                <a:lnTo>
                  <a:pt x="45" y="8"/>
                </a:lnTo>
                <a:lnTo>
                  <a:pt x="62" y="8"/>
                </a:lnTo>
                <a:lnTo>
                  <a:pt x="64" y="10"/>
                </a:lnTo>
                <a:lnTo>
                  <a:pt x="81" y="10"/>
                </a:lnTo>
                <a:lnTo>
                  <a:pt x="83" y="12"/>
                </a:lnTo>
                <a:lnTo>
                  <a:pt x="102" y="12"/>
                </a:lnTo>
                <a:lnTo>
                  <a:pt x="102" y="14"/>
                </a:lnTo>
                <a:lnTo>
                  <a:pt x="104" y="14"/>
                </a:lnTo>
                <a:lnTo>
                  <a:pt x="106" y="16"/>
                </a:lnTo>
                <a:lnTo>
                  <a:pt x="108" y="14"/>
                </a:lnTo>
                <a:lnTo>
                  <a:pt x="108" y="16"/>
                </a:lnTo>
                <a:lnTo>
                  <a:pt x="112" y="16"/>
                </a:lnTo>
                <a:lnTo>
                  <a:pt x="112" y="18"/>
                </a:lnTo>
                <a:lnTo>
                  <a:pt x="114" y="18"/>
                </a:lnTo>
                <a:lnTo>
                  <a:pt x="114" y="20"/>
                </a:lnTo>
                <a:lnTo>
                  <a:pt x="118" y="21"/>
                </a:lnTo>
                <a:lnTo>
                  <a:pt x="119" y="21"/>
                </a:lnTo>
                <a:lnTo>
                  <a:pt x="119" y="23"/>
                </a:lnTo>
                <a:lnTo>
                  <a:pt x="121" y="23"/>
                </a:lnTo>
                <a:lnTo>
                  <a:pt x="123" y="25"/>
                </a:lnTo>
                <a:lnTo>
                  <a:pt x="125" y="23"/>
                </a:lnTo>
                <a:lnTo>
                  <a:pt x="125" y="25"/>
                </a:lnTo>
                <a:lnTo>
                  <a:pt x="129" y="25"/>
                </a:lnTo>
                <a:lnTo>
                  <a:pt x="129" y="27"/>
                </a:lnTo>
                <a:lnTo>
                  <a:pt x="133" y="27"/>
                </a:lnTo>
                <a:lnTo>
                  <a:pt x="133" y="29"/>
                </a:lnTo>
                <a:lnTo>
                  <a:pt x="137" y="31"/>
                </a:lnTo>
                <a:lnTo>
                  <a:pt x="139" y="33"/>
                </a:lnTo>
                <a:lnTo>
                  <a:pt x="141" y="33"/>
                </a:lnTo>
                <a:lnTo>
                  <a:pt x="143" y="35"/>
                </a:lnTo>
                <a:lnTo>
                  <a:pt x="146" y="35"/>
                </a:lnTo>
                <a:lnTo>
                  <a:pt x="150" y="39"/>
                </a:lnTo>
                <a:lnTo>
                  <a:pt x="154" y="39"/>
                </a:lnTo>
                <a:lnTo>
                  <a:pt x="156" y="41"/>
                </a:lnTo>
                <a:lnTo>
                  <a:pt x="160" y="41"/>
                </a:lnTo>
                <a:lnTo>
                  <a:pt x="162" y="43"/>
                </a:lnTo>
                <a:lnTo>
                  <a:pt x="166" y="43"/>
                </a:lnTo>
                <a:lnTo>
                  <a:pt x="166" y="44"/>
                </a:lnTo>
                <a:lnTo>
                  <a:pt x="169" y="44"/>
                </a:lnTo>
                <a:lnTo>
                  <a:pt x="171" y="43"/>
                </a:lnTo>
                <a:lnTo>
                  <a:pt x="171" y="39"/>
                </a:lnTo>
                <a:lnTo>
                  <a:pt x="169" y="37"/>
                </a:lnTo>
                <a:lnTo>
                  <a:pt x="169" y="39"/>
                </a:lnTo>
                <a:lnTo>
                  <a:pt x="167" y="35"/>
                </a:lnTo>
                <a:lnTo>
                  <a:pt x="166" y="35"/>
                </a:lnTo>
                <a:lnTo>
                  <a:pt x="164" y="33"/>
                </a:lnTo>
                <a:lnTo>
                  <a:pt x="160" y="33"/>
                </a:lnTo>
                <a:lnTo>
                  <a:pt x="158" y="31"/>
                </a:lnTo>
                <a:lnTo>
                  <a:pt x="154" y="31"/>
                </a:lnTo>
                <a:lnTo>
                  <a:pt x="150" y="27"/>
                </a:lnTo>
                <a:lnTo>
                  <a:pt x="146" y="27"/>
                </a:lnTo>
                <a:lnTo>
                  <a:pt x="144" y="25"/>
                </a:lnTo>
                <a:lnTo>
                  <a:pt x="143" y="25"/>
                </a:lnTo>
                <a:lnTo>
                  <a:pt x="141" y="23"/>
                </a:lnTo>
                <a:lnTo>
                  <a:pt x="137" y="25"/>
                </a:lnTo>
                <a:lnTo>
                  <a:pt x="137" y="23"/>
                </a:lnTo>
                <a:lnTo>
                  <a:pt x="133" y="23"/>
                </a:lnTo>
                <a:lnTo>
                  <a:pt x="133" y="21"/>
                </a:lnTo>
                <a:lnTo>
                  <a:pt x="129" y="21"/>
                </a:lnTo>
                <a:lnTo>
                  <a:pt x="129" y="20"/>
                </a:lnTo>
                <a:lnTo>
                  <a:pt x="127" y="18"/>
                </a:lnTo>
                <a:lnTo>
                  <a:pt x="125" y="16"/>
                </a:lnTo>
                <a:lnTo>
                  <a:pt x="121" y="16"/>
                </a:lnTo>
                <a:lnTo>
                  <a:pt x="123" y="16"/>
                </a:lnTo>
                <a:lnTo>
                  <a:pt x="123" y="18"/>
                </a:lnTo>
                <a:lnTo>
                  <a:pt x="121" y="14"/>
                </a:lnTo>
                <a:lnTo>
                  <a:pt x="118" y="16"/>
                </a:lnTo>
                <a:lnTo>
                  <a:pt x="118" y="14"/>
                </a:lnTo>
                <a:lnTo>
                  <a:pt x="116" y="14"/>
                </a:lnTo>
                <a:lnTo>
                  <a:pt x="116" y="12"/>
                </a:lnTo>
                <a:lnTo>
                  <a:pt x="112" y="12"/>
                </a:lnTo>
                <a:lnTo>
                  <a:pt x="112" y="10"/>
                </a:lnTo>
                <a:lnTo>
                  <a:pt x="110" y="8"/>
                </a:lnTo>
                <a:lnTo>
                  <a:pt x="108" y="6"/>
                </a:lnTo>
                <a:lnTo>
                  <a:pt x="104" y="6"/>
                </a:lnTo>
                <a:lnTo>
                  <a:pt x="106" y="6"/>
                </a:lnTo>
                <a:lnTo>
                  <a:pt x="106" y="8"/>
                </a:lnTo>
                <a:lnTo>
                  <a:pt x="104" y="4"/>
                </a:lnTo>
                <a:lnTo>
                  <a:pt x="83" y="4"/>
                </a:lnTo>
                <a:lnTo>
                  <a:pt x="85" y="6"/>
                </a:lnTo>
                <a:lnTo>
                  <a:pt x="83" y="2"/>
                </a:lnTo>
                <a:lnTo>
                  <a:pt x="68" y="2"/>
                </a:lnTo>
                <a:lnTo>
                  <a:pt x="66" y="0"/>
                </a:lnTo>
                <a:lnTo>
                  <a:pt x="45" y="0"/>
                </a:lnTo>
                <a:lnTo>
                  <a:pt x="23" y="2"/>
                </a:lnTo>
                <a:lnTo>
                  <a:pt x="23" y="4"/>
                </a:lnTo>
                <a:lnTo>
                  <a:pt x="16" y="4"/>
                </a:lnTo>
                <a:lnTo>
                  <a:pt x="16" y="6"/>
                </a:lnTo>
                <a:lnTo>
                  <a:pt x="8" y="6"/>
                </a:lnTo>
                <a:lnTo>
                  <a:pt x="8" y="8"/>
                </a:lnTo>
                <a:lnTo>
                  <a:pt x="2" y="8"/>
                </a:lnTo>
                <a:lnTo>
                  <a:pt x="0" y="12"/>
                </a:lnTo>
                <a:lnTo>
                  <a:pt x="2" y="8"/>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278" name="Freeform 299"/>
          <p:cNvSpPr/>
          <p:nvPr/>
        </p:nvSpPr>
        <p:spPr>
          <a:xfrm>
            <a:off x="1004760" y="4164120"/>
            <a:ext cx="271440" cy="60120"/>
          </a:xfrm>
          <a:custGeom>
            <a:avLst/>
            <a:gdLst>
              <a:gd name="textAreaLeft" fmla="*/ 0 w 271440"/>
              <a:gd name="textAreaRight" fmla="*/ 271800 w 271440"/>
              <a:gd name="textAreaTop" fmla="*/ 0 h 60120"/>
              <a:gd name="textAreaBottom" fmla="*/ 60480 h 60120"/>
            </a:gdLst>
            <a:ahLst/>
            <a:rect l="textAreaLeft" t="textAreaTop" r="textAreaRight" b="textAreaBottom"/>
            <a:pathLst>
              <a:path w="171" h="38">
                <a:moveTo>
                  <a:pt x="2" y="31"/>
                </a:moveTo>
                <a:lnTo>
                  <a:pt x="0" y="33"/>
                </a:lnTo>
                <a:lnTo>
                  <a:pt x="0" y="36"/>
                </a:lnTo>
                <a:lnTo>
                  <a:pt x="2" y="38"/>
                </a:lnTo>
                <a:lnTo>
                  <a:pt x="6" y="38"/>
                </a:lnTo>
                <a:lnTo>
                  <a:pt x="8" y="35"/>
                </a:lnTo>
                <a:lnTo>
                  <a:pt x="6" y="35"/>
                </a:lnTo>
                <a:lnTo>
                  <a:pt x="10" y="35"/>
                </a:lnTo>
                <a:lnTo>
                  <a:pt x="10" y="33"/>
                </a:lnTo>
                <a:lnTo>
                  <a:pt x="16" y="33"/>
                </a:lnTo>
                <a:lnTo>
                  <a:pt x="16" y="31"/>
                </a:lnTo>
                <a:lnTo>
                  <a:pt x="20" y="33"/>
                </a:lnTo>
                <a:lnTo>
                  <a:pt x="22" y="31"/>
                </a:lnTo>
                <a:lnTo>
                  <a:pt x="23" y="31"/>
                </a:lnTo>
                <a:lnTo>
                  <a:pt x="25" y="29"/>
                </a:lnTo>
                <a:lnTo>
                  <a:pt x="27" y="29"/>
                </a:lnTo>
                <a:lnTo>
                  <a:pt x="29" y="27"/>
                </a:lnTo>
                <a:lnTo>
                  <a:pt x="31" y="27"/>
                </a:lnTo>
                <a:lnTo>
                  <a:pt x="33" y="25"/>
                </a:lnTo>
                <a:lnTo>
                  <a:pt x="35" y="25"/>
                </a:lnTo>
                <a:lnTo>
                  <a:pt x="37" y="21"/>
                </a:lnTo>
                <a:lnTo>
                  <a:pt x="35" y="21"/>
                </a:lnTo>
                <a:lnTo>
                  <a:pt x="37" y="21"/>
                </a:lnTo>
                <a:lnTo>
                  <a:pt x="37" y="19"/>
                </a:lnTo>
                <a:lnTo>
                  <a:pt x="39" y="21"/>
                </a:lnTo>
                <a:lnTo>
                  <a:pt x="43" y="17"/>
                </a:lnTo>
                <a:lnTo>
                  <a:pt x="45" y="15"/>
                </a:lnTo>
                <a:lnTo>
                  <a:pt x="45" y="13"/>
                </a:lnTo>
                <a:lnTo>
                  <a:pt x="46" y="13"/>
                </a:lnTo>
                <a:lnTo>
                  <a:pt x="46" y="11"/>
                </a:lnTo>
                <a:lnTo>
                  <a:pt x="48" y="13"/>
                </a:lnTo>
                <a:lnTo>
                  <a:pt x="52" y="10"/>
                </a:lnTo>
                <a:lnTo>
                  <a:pt x="52" y="8"/>
                </a:lnTo>
                <a:lnTo>
                  <a:pt x="56" y="8"/>
                </a:lnTo>
                <a:lnTo>
                  <a:pt x="56" y="6"/>
                </a:lnTo>
                <a:lnTo>
                  <a:pt x="54" y="8"/>
                </a:lnTo>
                <a:lnTo>
                  <a:pt x="56" y="8"/>
                </a:lnTo>
                <a:lnTo>
                  <a:pt x="58" y="10"/>
                </a:lnTo>
                <a:lnTo>
                  <a:pt x="58" y="8"/>
                </a:lnTo>
                <a:lnTo>
                  <a:pt x="56" y="10"/>
                </a:lnTo>
                <a:lnTo>
                  <a:pt x="60" y="13"/>
                </a:lnTo>
                <a:lnTo>
                  <a:pt x="62" y="13"/>
                </a:lnTo>
                <a:lnTo>
                  <a:pt x="60" y="17"/>
                </a:lnTo>
                <a:lnTo>
                  <a:pt x="62" y="19"/>
                </a:lnTo>
                <a:lnTo>
                  <a:pt x="64" y="23"/>
                </a:lnTo>
                <a:lnTo>
                  <a:pt x="66" y="23"/>
                </a:lnTo>
                <a:lnTo>
                  <a:pt x="64" y="25"/>
                </a:lnTo>
                <a:lnTo>
                  <a:pt x="68" y="27"/>
                </a:lnTo>
                <a:lnTo>
                  <a:pt x="70" y="29"/>
                </a:lnTo>
                <a:lnTo>
                  <a:pt x="70" y="27"/>
                </a:lnTo>
                <a:lnTo>
                  <a:pt x="70" y="29"/>
                </a:lnTo>
                <a:lnTo>
                  <a:pt x="83" y="29"/>
                </a:lnTo>
                <a:lnTo>
                  <a:pt x="83" y="27"/>
                </a:lnTo>
                <a:lnTo>
                  <a:pt x="87" y="29"/>
                </a:lnTo>
                <a:lnTo>
                  <a:pt x="89" y="27"/>
                </a:lnTo>
                <a:lnTo>
                  <a:pt x="91" y="27"/>
                </a:lnTo>
                <a:lnTo>
                  <a:pt x="95" y="23"/>
                </a:lnTo>
                <a:lnTo>
                  <a:pt x="93" y="23"/>
                </a:lnTo>
                <a:lnTo>
                  <a:pt x="95" y="25"/>
                </a:lnTo>
                <a:lnTo>
                  <a:pt x="96" y="23"/>
                </a:lnTo>
                <a:lnTo>
                  <a:pt x="98" y="23"/>
                </a:lnTo>
                <a:lnTo>
                  <a:pt x="100" y="21"/>
                </a:lnTo>
                <a:lnTo>
                  <a:pt x="104" y="19"/>
                </a:lnTo>
                <a:lnTo>
                  <a:pt x="104" y="17"/>
                </a:lnTo>
                <a:lnTo>
                  <a:pt x="110" y="17"/>
                </a:lnTo>
                <a:lnTo>
                  <a:pt x="110" y="15"/>
                </a:lnTo>
                <a:lnTo>
                  <a:pt x="118" y="17"/>
                </a:lnTo>
                <a:lnTo>
                  <a:pt x="121" y="13"/>
                </a:lnTo>
                <a:lnTo>
                  <a:pt x="119" y="13"/>
                </a:lnTo>
                <a:lnTo>
                  <a:pt x="158" y="15"/>
                </a:lnTo>
                <a:lnTo>
                  <a:pt x="169" y="15"/>
                </a:lnTo>
                <a:lnTo>
                  <a:pt x="169" y="13"/>
                </a:lnTo>
                <a:lnTo>
                  <a:pt x="171" y="13"/>
                </a:lnTo>
                <a:lnTo>
                  <a:pt x="171" y="10"/>
                </a:lnTo>
                <a:lnTo>
                  <a:pt x="169" y="10"/>
                </a:lnTo>
                <a:lnTo>
                  <a:pt x="169" y="8"/>
                </a:lnTo>
                <a:lnTo>
                  <a:pt x="167" y="8"/>
                </a:lnTo>
                <a:lnTo>
                  <a:pt x="158" y="8"/>
                </a:lnTo>
                <a:lnTo>
                  <a:pt x="116" y="10"/>
                </a:lnTo>
                <a:lnTo>
                  <a:pt x="114" y="13"/>
                </a:lnTo>
                <a:lnTo>
                  <a:pt x="118" y="10"/>
                </a:lnTo>
                <a:lnTo>
                  <a:pt x="106" y="11"/>
                </a:lnTo>
                <a:lnTo>
                  <a:pt x="106" y="13"/>
                </a:lnTo>
                <a:lnTo>
                  <a:pt x="100" y="13"/>
                </a:lnTo>
                <a:lnTo>
                  <a:pt x="100" y="15"/>
                </a:lnTo>
                <a:lnTo>
                  <a:pt x="96" y="13"/>
                </a:lnTo>
                <a:lnTo>
                  <a:pt x="95" y="15"/>
                </a:lnTo>
                <a:lnTo>
                  <a:pt x="93" y="15"/>
                </a:lnTo>
                <a:lnTo>
                  <a:pt x="91" y="17"/>
                </a:lnTo>
                <a:lnTo>
                  <a:pt x="89" y="19"/>
                </a:lnTo>
                <a:lnTo>
                  <a:pt x="87" y="23"/>
                </a:lnTo>
                <a:lnTo>
                  <a:pt x="91" y="19"/>
                </a:lnTo>
                <a:lnTo>
                  <a:pt x="85" y="19"/>
                </a:lnTo>
                <a:lnTo>
                  <a:pt x="83" y="21"/>
                </a:lnTo>
                <a:lnTo>
                  <a:pt x="79" y="23"/>
                </a:lnTo>
                <a:lnTo>
                  <a:pt x="79" y="25"/>
                </a:lnTo>
                <a:lnTo>
                  <a:pt x="73" y="25"/>
                </a:lnTo>
                <a:lnTo>
                  <a:pt x="73" y="23"/>
                </a:lnTo>
                <a:lnTo>
                  <a:pt x="70" y="21"/>
                </a:lnTo>
                <a:lnTo>
                  <a:pt x="71" y="23"/>
                </a:lnTo>
                <a:lnTo>
                  <a:pt x="71" y="21"/>
                </a:lnTo>
                <a:lnTo>
                  <a:pt x="70" y="19"/>
                </a:lnTo>
                <a:lnTo>
                  <a:pt x="68" y="19"/>
                </a:lnTo>
                <a:lnTo>
                  <a:pt x="70" y="15"/>
                </a:lnTo>
                <a:lnTo>
                  <a:pt x="68" y="13"/>
                </a:lnTo>
                <a:lnTo>
                  <a:pt x="66" y="10"/>
                </a:lnTo>
                <a:lnTo>
                  <a:pt x="64" y="10"/>
                </a:lnTo>
                <a:lnTo>
                  <a:pt x="66" y="8"/>
                </a:lnTo>
                <a:lnTo>
                  <a:pt x="64" y="6"/>
                </a:lnTo>
                <a:lnTo>
                  <a:pt x="62" y="4"/>
                </a:lnTo>
                <a:lnTo>
                  <a:pt x="58" y="2"/>
                </a:lnTo>
                <a:lnTo>
                  <a:pt x="60" y="4"/>
                </a:lnTo>
                <a:lnTo>
                  <a:pt x="58" y="0"/>
                </a:lnTo>
                <a:lnTo>
                  <a:pt x="52" y="2"/>
                </a:lnTo>
                <a:lnTo>
                  <a:pt x="52" y="4"/>
                </a:lnTo>
                <a:lnTo>
                  <a:pt x="48" y="4"/>
                </a:lnTo>
                <a:lnTo>
                  <a:pt x="48" y="6"/>
                </a:lnTo>
                <a:lnTo>
                  <a:pt x="46" y="4"/>
                </a:lnTo>
                <a:lnTo>
                  <a:pt x="45" y="6"/>
                </a:lnTo>
                <a:lnTo>
                  <a:pt x="43" y="8"/>
                </a:lnTo>
                <a:lnTo>
                  <a:pt x="43" y="10"/>
                </a:lnTo>
                <a:lnTo>
                  <a:pt x="41" y="10"/>
                </a:lnTo>
                <a:lnTo>
                  <a:pt x="41" y="11"/>
                </a:lnTo>
                <a:lnTo>
                  <a:pt x="39" y="10"/>
                </a:lnTo>
                <a:lnTo>
                  <a:pt x="35" y="13"/>
                </a:lnTo>
                <a:lnTo>
                  <a:pt x="33" y="15"/>
                </a:lnTo>
                <a:lnTo>
                  <a:pt x="33" y="17"/>
                </a:lnTo>
                <a:lnTo>
                  <a:pt x="31" y="17"/>
                </a:lnTo>
                <a:lnTo>
                  <a:pt x="29" y="21"/>
                </a:lnTo>
                <a:lnTo>
                  <a:pt x="31" y="17"/>
                </a:lnTo>
                <a:lnTo>
                  <a:pt x="33" y="17"/>
                </a:lnTo>
                <a:lnTo>
                  <a:pt x="29" y="17"/>
                </a:lnTo>
                <a:lnTo>
                  <a:pt x="27" y="19"/>
                </a:lnTo>
                <a:lnTo>
                  <a:pt x="25" y="19"/>
                </a:lnTo>
                <a:lnTo>
                  <a:pt x="23" y="21"/>
                </a:lnTo>
                <a:lnTo>
                  <a:pt x="22" y="21"/>
                </a:lnTo>
                <a:lnTo>
                  <a:pt x="20" y="23"/>
                </a:lnTo>
                <a:lnTo>
                  <a:pt x="18" y="23"/>
                </a:lnTo>
                <a:lnTo>
                  <a:pt x="16" y="25"/>
                </a:lnTo>
                <a:lnTo>
                  <a:pt x="12" y="27"/>
                </a:lnTo>
                <a:lnTo>
                  <a:pt x="12" y="29"/>
                </a:lnTo>
                <a:lnTo>
                  <a:pt x="6" y="29"/>
                </a:lnTo>
                <a:lnTo>
                  <a:pt x="6" y="31"/>
                </a:lnTo>
                <a:lnTo>
                  <a:pt x="2" y="31"/>
                </a:lnTo>
                <a:lnTo>
                  <a:pt x="0" y="35"/>
                </a:lnTo>
                <a:lnTo>
                  <a:pt x="2" y="3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79" name="Oval 300"/>
          <p:cNvSpPr/>
          <p:nvPr/>
        </p:nvSpPr>
        <p:spPr>
          <a:xfrm>
            <a:off x="1014480" y="2243160"/>
            <a:ext cx="258840" cy="152280"/>
          </a:xfrm>
          <a:prstGeom prst="ellipse">
            <a:avLst/>
          </a:prstGeom>
          <a:solidFill>
            <a:srgbClr val="ffff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0" name="Freeform 301"/>
          <p:cNvSpPr/>
          <p:nvPr/>
        </p:nvSpPr>
        <p:spPr>
          <a:xfrm>
            <a:off x="1011240" y="2239920"/>
            <a:ext cx="262080" cy="155520"/>
          </a:xfrm>
          <a:custGeom>
            <a:avLst/>
            <a:gdLst>
              <a:gd name="textAreaLeft" fmla="*/ 0 w 262080"/>
              <a:gd name="textAreaRight" fmla="*/ 262440 w 262080"/>
              <a:gd name="textAreaTop" fmla="*/ 0 h 155520"/>
              <a:gd name="textAreaBottom" fmla="*/ 155880 h 155520"/>
            </a:gdLst>
            <a:ahLst/>
            <a:rect l="textAreaLeft" t="textAreaTop" r="textAreaRight" b="textAreaBottom"/>
            <a:pathLst>
              <a:path w="165" h="98">
                <a:moveTo>
                  <a:pt x="0" y="48"/>
                </a:moveTo>
                <a:lnTo>
                  <a:pt x="0" y="58"/>
                </a:lnTo>
                <a:lnTo>
                  <a:pt x="2" y="60"/>
                </a:lnTo>
                <a:lnTo>
                  <a:pt x="2" y="62"/>
                </a:lnTo>
                <a:lnTo>
                  <a:pt x="8" y="69"/>
                </a:lnTo>
                <a:lnTo>
                  <a:pt x="10" y="73"/>
                </a:lnTo>
                <a:lnTo>
                  <a:pt x="18" y="79"/>
                </a:lnTo>
                <a:lnTo>
                  <a:pt x="19" y="79"/>
                </a:lnTo>
                <a:lnTo>
                  <a:pt x="19" y="81"/>
                </a:lnTo>
                <a:lnTo>
                  <a:pt x="23" y="83"/>
                </a:lnTo>
                <a:lnTo>
                  <a:pt x="25" y="85"/>
                </a:lnTo>
                <a:lnTo>
                  <a:pt x="33" y="88"/>
                </a:lnTo>
                <a:lnTo>
                  <a:pt x="37" y="88"/>
                </a:lnTo>
                <a:lnTo>
                  <a:pt x="44" y="92"/>
                </a:lnTo>
                <a:lnTo>
                  <a:pt x="46" y="92"/>
                </a:lnTo>
                <a:lnTo>
                  <a:pt x="50" y="94"/>
                </a:lnTo>
                <a:lnTo>
                  <a:pt x="58" y="94"/>
                </a:lnTo>
                <a:lnTo>
                  <a:pt x="62" y="96"/>
                </a:lnTo>
                <a:lnTo>
                  <a:pt x="77" y="96"/>
                </a:lnTo>
                <a:lnTo>
                  <a:pt x="83" y="98"/>
                </a:lnTo>
                <a:lnTo>
                  <a:pt x="87" y="96"/>
                </a:lnTo>
                <a:lnTo>
                  <a:pt x="102" y="96"/>
                </a:lnTo>
                <a:lnTo>
                  <a:pt x="106" y="94"/>
                </a:lnTo>
                <a:lnTo>
                  <a:pt x="114" y="94"/>
                </a:lnTo>
                <a:lnTo>
                  <a:pt x="117" y="92"/>
                </a:lnTo>
                <a:lnTo>
                  <a:pt x="119" y="92"/>
                </a:lnTo>
                <a:lnTo>
                  <a:pt x="127" y="88"/>
                </a:lnTo>
                <a:lnTo>
                  <a:pt x="131" y="88"/>
                </a:lnTo>
                <a:lnTo>
                  <a:pt x="139" y="85"/>
                </a:lnTo>
                <a:lnTo>
                  <a:pt x="140" y="83"/>
                </a:lnTo>
                <a:lnTo>
                  <a:pt x="144" y="81"/>
                </a:lnTo>
                <a:lnTo>
                  <a:pt x="144" y="79"/>
                </a:lnTo>
                <a:lnTo>
                  <a:pt x="146" y="79"/>
                </a:lnTo>
                <a:lnTo>
                  <a:pt x="154" y="73"/>
                </a:lnTo>
                <a:lnTo>
                  <a:pt x="156" y="69"/>
                </a:lnTo>
                <a:lnTo>
                  <a:pt x="162" y="62"/>
                </a:lnTo>
                <a:lnTo>
                  <a:pt x="162" y="60"/>
                </a:lnTo>
                <a:lnTo>
                  <a:pt x="163" y="58"/>
                </a:lnTo>
                <a:lnTo>
                  <a:pt x="163" y="50"/>
                </a:lnTo>
                <a:lnTo>
                  <a:pt x="165" y="50"/>
                </a:lnTo>
                <a:lnTo>
                  <a:pt x="165" y="48"/>
                </a:lnTo>
                <a:lnTo>
                  <a:pt x="163" y="44"/>
                </a:lnTo>
                <a:lnTo>
                  <a:pt x="163" y="39"/>
                </a:lnTo>
                <a:lnTo>
                  <a:pt x="162" y="37"/>
                </a:lnTo>
                <a:lnTo>
                  <a:pt x="162" y="33"/>
                </a:lnTo>
                <a:lnTo>
                  <a:pt x="142" y="14"/>
                </a:lnTo>
                <a:lnTo>
                  <a:pt x="139" y="14"/>
                </a:lnTo>
                <a:lnTo>
                  <a:pt x="139" y="12"/>
                </a:lnTo>
                <a:lnTo>
                  <a:pt x="131" y="8"/>
                </a:lnTo>
                <a:lnTo>
                  <a:pt x="127" y="8"/>
                </a:lnTo>
                <a:lnTo>
                  <a:pt x="119" y="4"/>
                </a:lnTo>
                <a:lnTo>
                  <a:pt x="117" y="4"/>
                </a:lnTo>
                <a:lnTo>
                  <a:pt x="114" y="2"/>
                </a:lnTo>
                <a:lnTo>
                  <a:pt x="106" y="2"/>
                </a:lnTo>
                <a:lnTo>
                  <a:pt x="102" y="0"/>
                </a:lnTo>
                <a:lnTo>
                  <a:pt x="62" y="0"/>
                </a:lnTo>
                <a:lnTo>
                  <a:pt x="58" y="2"/>
                </a:lnTo>
                <a:lnTo>
                  <a:pt x="50" y="2"/>
                </a:lnTo>
                <a:lnTo>
                  <a:pt x="46" y="4"/>
                </a:lnTo>
                <a:lnTo>
                  <a:pt x="44" y="4"/>
                </a:lnTo>
                <a:lnTo>
                  <a:pt x="37" y="8"/>
                </a:lnTo>
                <a:lnTo>
                  <a:pt x="33" y="8"/>
                </a:lnTo>
                <a:lnTo>
                  <a:pt x="25" y="12"/>
                </a:lnTo>
                <a:lnTo>
                  <a:pt x="25" y="14"/>
                </a:lnTo>
                <a:lnTo>
                  <a:pt x="21" y="14"/>
                </a:lnTo>
                <a:lnTo>
                  <a:pt x="2" y="33"/>
                </a:lnTo>
                <a:lnTo>
                  <a:pt x="2" y="37"/>
                </a:lnTo>
                <a:lnTo>
                  <a:pt x="0" y="39"/>
                </a:lnTo>
                <a:lnTo>
                  <a:pt x="0" y="48"/>
                </a:lnTo>
                <a:lnTo>
                  <a:pt x="4" y="48"/>
                </a:lnTo>
                <a:lnTo>
                  <a:pt x="4" y="39"/>
                </a:lnTo>
                <a:lnTo>
                  <a:pt x="6" y="37"/>
                </a:lnTo>
                <a:lnTo>
                  <a:pt x="6" y="33"/>
                </a:lnTo>
                <a:lnTo>
                  <a:pt x="21" y="17"/>
                </a:lnTo>
                <a:lnTo>
                  <a:pt x="25" y="17"/>
                </a:lnTo>
                <a:lnTo>
                  <a:pt x="29" y="16"/>
                </a:lnTo>
                <a:lnTo>
                  <a:pt x="33" y="14"/>
                </a:lnTo>
                <a:lnTo>
                  <a:pt x="33" y="12"/>
                </a:lnTo>
                <a:lnTo>
                  <a:pt x="37" y="12"/>
                </a:lnTo>
                <a:lnTo>
                  <a:pt x="44" y="8"/>
                </a:lnTo>
                <a:lnTo>
                  <a:pt x="46" y="8"/>
                </a:lnTo>
                <a:lnTo>
                  <a:pt x="50" y="6"/>
                </a:lnTo>
                <a:lnTo>
                  <a:pt x="58" y="6"/>
                </a:lnTo>
                <a:lnTo>
                  <a:pt x="62" y="4"/>
                </a:lnTo>
                <a:lnTo>
                  <a:pt x="83" y="4"/>
                </a:lnTo>
                <a:lnTo>
                  <a:pt x="102" y="4"/>
                </a:lnTo>
                <a:lnTo>
                  <a:pt x="106" y="6"/>
                </a:lnTo>
                <a:lnTo>
                  <a:pt x="114" y="6"/>
                </a:lnTo>
                <a:lnTo>
                  <a:pt x="117" y="8"/>
                </a:lnTo>
                <a:lnTo>
                  <a:pt x="119" y="8"/>
                </a:lnTo>
                <a:lnTo>
                  <a:pt x="127" y="12"/>
                </a:lnTo>
                <a:lnTo>
                  <a:pt x="131" y="12"/>
                </a:lnTo>
                <a:lnTo>
                  <a:pt x="131" y="14"/>
                </a:lnTo>
                <a:lnTo>
                  <a:pt x="135" y="16"/>
                </a:lnTo>
                <a:lnTo>
                  <a:pt x="139" y="17"/>
                </a:lnTo>
                <a:lnTo>
                  <a:pt x="142" y="17"/>
                </a:lnTo>
                <a:lnTo>
                  <a:pt x="158" y="33"/>
                </a:lnTo>
                <a:lnTo>
                  <a:pt x="158" y="37"/>
                </a:lnTo>
                <a:lnTo>
                  <a:pt x="160" y="39"/>
                </a:lnTo>
                <a:lnTo>
                  <a:pt x="160" y="44"/>
                </a:lnTo>
                <a:lnTo>
                  <a:pt x="162" y="48"/>
                </a:lnTo>
                <a:lnTo>
                  <a:pt x="162" y="46"/>
                </a:lnTo>
                <a:lnTo>
                  <a:pt x="160" y="50"/>
                </a:lnTo>
                <a:lnTo>
                  <a:pt x="160" y="58"/>
                </a:lnTo>
                <a:lnTo>
                  <a:pt x="158" y="60"/>
                </a:lnTo>
                <a:lnTo>
                  <a:pt x="158" y="62"/>
                </a:lnTo>
                <a:lnTo>
                  <a:pt x="152" y="65"/>
                </a:lnTo>
                <a:lnTo>
                  <a:pt x="150" y="69"/>
                </a:lnTo>
                <a:lnTo>
                  <a:pt x="146" y="75"/>
                </a:lnTo>
                <a:lnTo>
                  <a:pt x="144" y="75"/>
                </a:lnTo>
                <a:lnTo>
                  <a:pt x="140" y="77"/>
                </a:lnTo>
                <a:lnTo>
                  <a:pt x="137" y="79"/>
                </a:lnTo>
                <a:lnTo>
                  <a:pt x="135" y="81"/>
                </a:lnTo>
                <a:lnTo>
                  <a:pt x="131" y="83"/>
                </a:lnTo>
                <a:lnTo>
                  <a:pt x="131" y="85"/>
                </a:lnTo>
                <a:lnTo>
                  <a:pt x="127" y="85"/>
                </a:lnTo>
                <a:lnTo>
                  <a:pt x="119" y="88"/>
                </a:lnTo>
                <a:lnTo>
                  <a:pt x="117" y="88"/>
                </a:lnTo>
                <a:lnTo>
                  <a:pt x="114" y="90"/>
                </a:lnTo>
                <a:lnTo>
                  <a:pt x="106" y="90"/>
                </a:lnTo>
                <a:lnTo>
                  <a:pt x="102" y="92"/>
                </a:lnTo>
                <a:lnTo>
                  <a:pt x="87" y="92"/>
                </a:lnTo>
                <a:lnTo>
                  <a:pt x="83" y="94"/>
                </a:lnTo>
                <a:lnTo>
                  <a:pt x="77" y="92"/>
                </a:lnTo>
                <a:lnTo>
                  <a:pt x="62" y="92"/>
                </a:lnTo>
                <a:lnTo>
                  <a:pt x="58" y="90"/>
                </a:lnTo>
                <a:lnTo>
                  <a:pt x="50" y="90"/>
                </a:lnTo>
                <a:lnTo>
                  <a:pt x="46" y="88"/>
                </a:lnTo>
                <a:lnTo>
                  <a:pt x="44" y="88"/>
                </a:lnTo>
                <a:lnTo>
                  <a:pt x="37" y="85"/>
                </a:lnTo>
                <a:lnTo>
                  <a:pt x="33" y="85"/>
                </a:lnTo>
                <a:lnTo>
                  <a:pt x="33" y="83"/>
                </a:lnTo>
                <a:lnTo>
                  <a:pt x="29" y="81"/>
                </a:lnTo>
                <a:lnTo>
                  <a:pt x="27" y="79"/>
                </a:lnTo>
                <a:lnTo>
                  <a:pt x="23" y="77"/>
                </a:lnTo>
                <a:lnTo>
                  <a:pt x="19" y="75"/>
                </a:lnTo>
                <a:lnTo>
                  <a:pt x="18" y="75"/>
                </a:lnTo>
                <a:lnTo>
                  <a:pt x="14" y="69"/>
                </a:lnTo>
                <a:lnTo>
                  <a:pt x="12" y="65"/>
                </a:lnTo>
                <a:lnTo>
                  <a:pt x="6" y="62"/>
                </a:lnTo>
                <a:lnTo>
                  <a:pt x="6" y="60"/>
                </a:lnTo>
                <a:lnTo>
                  <a:pt x="4" y="58"/>
                </a:lnTo>
                <a:lnTo>
                  <a:pt x="4" y="48"/>
                </a:lnTo>
                <a:lnTo>
                  <a:pt x="0"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Rectangle 302"/>
          <p:cNvSpPr/>
          <p:nvPr/>
        </p:nvSpPr>
        <p:spPr>
          <a:xfrm>
            <a:off x="5214960" y="2023920"/>
            <a:ext cx="69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apillary</a:t>
            </a:r>
            <a:endParaRPr b="0" lang="en-US" sz="1400" spc="-1" strike="noStrike">
              <a:solidFill>
                <a:srgbClr val="000000"/>
              </a:solidFill>
              <a:latin typeface="Times New Roman"/>
            </a:endParaRPr>
          </a:p>
        </p:txBody>
      </p:sp>
      <p:sp>
        <p:nvSpPr>
          <p:cNvPr id="2282" name="Rectangle 303"/>
          <p:cNvSpPr/>
          <p:nvPr/>
        </p:nvSpPr>
        <p:spPr>
          <a:xfrm>
            <a:off x="5200920" y="2227320"/>
            <a:ext cx="715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essure</a:t>
            </a:r>
            <a:endParaRPr b="0" lang="en-US" sz="1400" spc="-1" strike="noStrike">
              <a:solidFill>
                <a:srgbClr val="000000"/>
              </a:solidFill>
              <a:latin typeface="Times New Roman"/>
            </a:endParaRPr>
          </a:p>
        </p:txBody>
      </p:sp>
      <p:sp>
        <p:nvSpPr>
          <p:cNvPr id="2283" name="Rectangle 304"/>
          <p:cNvSpPr/>
          <p:nvPr/>
        </p:nvSpPr>
        <p:spPr>
          <a:xfrm>
            <a:off x="4495680" y="2093760"/>
            <a:ext cx="208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284" name="Rectangle 305"/>
          <p:cNvSpPr/>
          <p:nvPr/>
        </p:nvSpPr>
        <p:spPr>
          <a:xfrm>
            <a:off x="4676040" y="2114640"/>
            <a:ext cx="363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s k</a:t>
            </a:r>
            <a:endParaRPr b="0" lang="en-US" sz="1600" spc="-1" strike="noStrike">
              <a:solidFill>
                <a:srgbClr val="000000"/>
              </a:solidFill>
              <a:latin typeface="Times New Roman"/>
            </a:endParaRPr>
          </a:p>
        </p:txBody>
      </p:sp>
      <p:sp>
        <p:nvSpPr>
          <p:cNvPr id="2285" name="PlaceHolder 1"/>
          <p:cNvSpPr>
            <a:spLocks noGrp="1"/>
          </p:cNvSpPr>
          <p:nvPr>
            <p:ph type="title"/>
          </p:nvPr>
        </p:nvSpPr>
        <p:spPr>
          <a:xfrm>
            <a:off x="304560" y="151920"/>
            <a:ext cx="84582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GEOLOGICAL AND PETROPHYSICAL DATA USED TO DEFINE FLOW UNI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6" name="Rectangle 2"/>
          <p:cNvSpPr/>
          <p:nvPr/>
        </p:nvSpPr>
        <p:spPr>
          <a:xfrm>
            <a:off x="519480" y="44280"/>
            <a:ext cx="8105400" cy="1097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Schematic Reservoir Layering Profile</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in a Carbonate Reservoir</a:t>
            </a:r>
            <a:endParaRPr b="0" lang="en-US" sz="3600" spc="-1" strike="noStrike">
              <a:solidFill>
                <a:srgbClr val="000000"/>
              </a:solidFill>
              <a:latin typeface="Times New Roman"/>
            </a:endParaRPr>
          </a:p>
        </p:txBody>
      </p:sp>
      <p:sp>
        <p:nvSpPr>
          <p:cNvPr id="2287" name="Rectangle 3"/>
          <p:cNvSpPr/>
          <p:nvPr/>
        </p:nvSpPr>
        <p:spPr>
          <a:xfrm>
            <a:off x="4381560" y="2863800"/>
            <a:ext cx="631800" cy="12600"/>
          </a:xfrm>
          <a:prstGeom prst="rect">
            <a:avLst/>
          </a:prstGeom>
          <a:solidFill>
            <a:srgbClr val="ffffe9"/>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8" name="Rectangle 4"/>
          <p:cNvSpPr/>
          <p:nvPr/>
        </p:nvSpPr>
        <p:spPr>
          <a:xfrm>
            <a:off x="4381560" y="2863800"/>
            <a:ext cx="631800" cy="12600"/>
          </a:xfrm>
          <a:prstGeom prst="rect">
            <a:avLst/>
          </a:prstGeom>
          <a:solidFill>
            <a:srgbClr val="ffffe9"/>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9" name="Text Box 5"/>
          <p:cNvSpPr/>
          <p:nvPr/>
        </p:nvSpPr>
        <p:spPr>
          <a:xfrm>
            <a:off x="-57600" y="1407240"/>
            <a:ext cx="1715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ffles/barriers</a:t>
            </a:r>
            <a:endParaRPr b="0" lang="en-US" sz="1800" spc="-1" strike="noStrike">
              <a:solidFill>
                <a:srgbClr val="000000"/>
              </a:solidFill>
              <a:latin typeface="Times New Roman"/>
            </a:endParaRPr>
          </a:p>
        </p:txBody>
      </p:sp>
      <p:sp>
        <p:nvSpPr>
          <p:cNvPr id="2290" name="Rectangle 6"/>
          <p:cNvSpPr/>
          <p:nvPr/>
        </p:nvSpPr>
        <p:spPr>
          <a:xfrm>
            <a:off x="4381560" y="2484360"/>
            <a:ext cx="631800" cy="11160"/>
          </a:xfrm>
          <a:prstGeom prst="rect">
            <a:avLst/>
          </a:prstGeom>
          <a:solidFill>
            <a:srgbClr val="ffffdc"/>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1" name="Rectangle 7"/>
          <p:cNvSpPr/>
          <p:nvPr/>
        </p:nvSpPr>
        <p:spPr>
          <a:xfrm>
            <a:off x="4381560" y="2484360"/>
            <a:ext cx="633240" cy="12600"/>
          </a:xfrm>
          <a:prstGeom prst="rect">
            <a:avLst/>
          </a:prstGeom>
          <a:solidFill>
            <a:srgbClr val="ffffdc"/>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2" name="Rectangle 8"/>
          <p:cNvSpPr/>
          <p:nvPr/>
        </p:nvSpPr>
        <p:spPr>
          <a:xfrm>
            <a:off x="5413320" y="3943440"/>
            <a:ext cx="171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150</a:t>
            </a:r>
            <a:endParaRPr b="0" lang="en-US" sz="600" spc="-1" strike="noStrike">
              <a:solidFill>
                <a:srgbClr val="000000"/>
              </a:solidFill>
              <a:latin typeface="Times New Roman"/>
            </a:endParaRPr>
          </a:p>
        </p:txBody>
      </p:sp>
      <p:sp>
        <p:nvSpPr>
          <p:cNvPr id="2293" name="Freeform 9"/>
          <p:cNvSpPr/>
          <p:nvPr/>
        </p:nvSpPr>
        <p:spPr>
          <a:xfrm>
            <a:off x="1217520" y="2976480"/>
            <a:ext cx="7716960" cy="2975040"/>
          </a:xfrm>
          <a:custGeom>
            <a:avLst/>
            <a:gdLst>
              <a:gd name="textAreaLeft" fmla="*/ 0 w 7716960"/>
              <a:gd name="textAreaRight" fmla="*/ 7717320 w 7716960"/>
              <a:gd name="textAreaTop" fmla="*/ 0 h 2975040"/>
              <a:gd name="textAreaBottom" fmla="*/ 2975400 h 2975040"/>
            </a:gdLst>
            <a:ahLst/>
            <a:rect l="textAreaLeft" t="textAreaTop" r="textAreaRight" b="textAreaBottom"/>
            <a:pathLst>
              <a:path w="4767" h="2448">
                <a:moveTo>
                  <a:pt x="4755" y="1754"/>
                </a:moveTo>
                <a:lnTo>
                  <a:pt x="4767" y="61"/>
                </a:lnTo>
                <a:lnTo>
                  <a:pt x="2757" y="0"/>
                </a:lnTo>
                <a:lnTo>
                  <a:pt x="1512" y="44"/>
                </a:lnTo>
                <a:lnTo>
                  <a:pt x="906" y="189"/>
                </a:lnTo>
                <a:lnTo>
                  <a:pt x="253" y="439"/>
                </a:lnTo>
                <a:lnTo>
                  <a:pt x="0" y="585"/>
                </a:lnTo>
                <a:lnTo>
                  <a:pt x="0" y="1294"/>
                </a:lnTo>
                <a:lnTo>
                  <a:pt x="144" y="1879"/>
                </a:lnTo>
                <a:lnTo>
                  <a:pt x="774" y="2448"/>
                </a:lnTo>
                <a:lnTo>
                  <a:pt x="4755" y="2066"/>
                </a:lnTo>
                <a:lnTo>
                  <a:pt x="4755" y="1754"/>
                </a:lnTo>
                <a:close/>
              </a:path>
            </a:pathLst>
          </a:custGeom>
          <a:solidFill>
            <a:srgbClr val="ff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Freeform 10"/>
          <p:cNvSpPr/>
          <p:nvPr/>
        </p:nvSpPr>
        <p:spPr>
          <a:xfrm>
            <a:off x="1351080" y="3819600"/>
            <a:ext cx="4709880" cy="142920"/>
          </a:xfrm>
          <a:custGeom>
            <a:avLst/>
            <a:gdLst>
              <a:gd name="textAreaLeft" fmla="*/ 0 w 4709880"/>
              <a:gd name="textAreaRight" fmla="*/ 4710240 w 4709880"/>
              <a:gd name="textAreaTop" fmla="*/ 0 h 142920"/>
              <a:gd name="textAreaBottom" fmla="*/ 143280 h 142920"/>
            </a:gdLst>
            <a:ahLst/>
            <a:rect l="textAreaLeft" t="textAreaTop" r="textAreaRight" b="textAreaBottom"/>
            <a:pathLst>
              <a:path w="2909" h="118">
                <a:moveTo>
                  <a:pt x="107" y="12"/>
                </a:moveTo>
                <a:lnTo>
                  <a:pt x="192" y="12"/>
                </a:lnTo>
                <a:lnTo>
                  <a:pt x="304" y="9"/>
                </a:lnTo>
                <a:lnTo>
                  <a:pt x="478" y="5"/>
                </a:lnTo>
                <a:lnTo>
                  <a:pt x="535" y="0"/>
                </a:lnTo>
                <a:lnTo>
                  <a:pt x="616" y="5"/>
                </a:lnTo>
                <a:lnTo>
                  <a:pt x="780" y="2"/>
                </a:lnTo>
                <a:lnTo>
                  <a:pt x="1096" y="34"/>
                </a:lnTo>
                <a:lnTo>
                  <a:pt x="1286" y="46"/>
                </a:lnTo>
                <a:lnTo>
                  <a:pt x="1625" y="71"/>
                </a:lnTo>
                <a:lnTo>
                  <a:pt x="1883" y="80"/>
                </a:lnTo>
                <a:lnTo>
                  <a:pt x="2228" y="85"/>
                </a:lnTo>
                <a:lnTo>
                  <a:pt x="2909" y="80"/>
                </a:lnTo>
                <a:lnTo>
                  <a:pt x="2586" y="101"/>
                </a:lnTo>
                <a:lnTo>
                  <a:pt x="2315" y="106"/>
                </a:lnTo>
                <a:lnTo>
                  <a:pt x="2227" y="113"/>
                </a:lnTo>
                <a:lnTo>
                  <a:pt x="2041" y="118"/>
                </a:lnTo>
                <a:lnTo>
                  <a:pt x="1862" y="118"/>
                </a:lnTo>
                <a:lnTo>
                  <a:pt x="1539" y="101"/>
                </a:lnTo>
                <a:lnTo>
                  <a:pt x="1096" y="65"/>
                </a:lnTo>
                <a:lnTo>
                  <a:pt x="768" y="34"/>
                </a:lnTo>
                <a:lnTo>
                  <a:pt x="544" y="27"/>
                </a:lnTo>
                <a:lnTo>
                  <a:pt x="334" y="34"/>
                </a:lnTo>
                <a:lnTo>
                  <a:pt x="180" y="30"/>
                </a:lnTo>
                <a:lnTo>
                  <a:pt x="0" y="49"/>
                </a:lnTo>
                <a:lnTo>
                  <a:pt x="23" y="27"/>
                </a:lnTo>
                <a:lnTo>
                  <a:pt x="107" y="12"/>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Freeform 11"/>
          <p:cNvSpPr/>
          <p:nvPr/>
        </p:nvSpPr>
        <p:spPr>
          <a:xfrm>
            <a:off x="1577880" y="5106960"/>
            <a:ext cx="1978200" cy="158760"/>
          </a:xfrm>
          <a:custGeom>
            <a:avLst/>
            <a:gdLst>
              <a:gd name="textAreaLeft" fmla="*/ 0 w 1978200"/>
              <a:gd name="textAreaRight" fmla="*/ 1978560 w 1978200"/>
              <a:gd name="textAreaTop" fmla="*/ 0 h 158760"/>
              <a:gd name="textAreaBottom" fmla="*/ 159120 h 158760"/>
            </a:gdLst>
            <a:ahLst/>
            <a:rect l="textAreaLeft" t="textAreaTop" r="textAreaRight" b="textAreaBottom"/>
            <a:pathLst>
              <a:path w="1223" h="133">
                <a:moveTo>
                  <a:pt x="0" y="5"/>
                </a:moveTo>
                <a:lnTo>
                  <a:pt x="124" y="38"/>
                </a:lnTo>
                <a:lnTo>
                  <a:pt x="271" y="56"/>
                </a:lnTo>
                <a:lnTo>
                  <a:pt x="372" y="63"/>
                </a:lnTo>
                <a:lnTo>
                  <a:pt x="442" y="63"/>
                </a:lnTo>
                <a:lnTo>
                  <a:pt x="621" y="82"/>
                </a:lnTo>
                <a:lnTo>
                  <a:pt x="999" y="108"/>
                </a:lnTo>
                <a:lnTo>
                  <a:pt x="1146" y="56"/>
                </a:lnTo>
                <a:lnTo>
                  <a:pt x="1223" y="50"/>
                </a:lnTo>
                <a:lnTo>
                  <a:pt x="1102" y="94"/>
                </a:lnTo>
                <a:lnTo>
                  <a:pt x="1014" y="127"/>
                </a:lnTo>
                <a:lnTo>
                  <a:pt x="809" y="133"/>
                </a:lnTo>
                <a:lnTo>
                  <a:pt x="611" y="119"/>
                </a:lnTo>
                <a:lnTo>
                  <a:pt x="442" y="108"/>
                </a:lnTo>
                <a:lnTo>
                  <a:pt x="346" y="100"/>
                </a:lnTo>
                <a:lnTo>
                  <a:pt x="258" y="100"/>
                </a:lnTo>
                <a:lnTo>
                  <a:pt x="150" y="88"/>
                </a:lnTo>
                <a:lnTo>
                  <a:pt x="73" y="63"/>
                </a:lnTo>
                <a:lnTo>
                  <a:pt x="15" y="44"/>
                </a:lnTo>
                <a:lnTo>
                  <a:pt x="4" y="0"/>
                </a:lnTo>
                <a:lnTo>
                  <a:pt x="70" y="18"/>
                </a:lnTo>
                <a:lnTo>
                  <a:pt x="0" y="5"/>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Freeform 12"/>
          <p:cNvSpPr/>
          <p:nvPr/>
        </p:nvSpPr>
        <p:spPr>
          <a:xfrm>
            <a:off x="1562040" y="5018040"/>
            <a:ext cx="2521080" cy="171360"/>
          </a:xfrm>
          <a:custGeom>
            <a:avLst/>
            <a:gdLst>
              <a:gd name="textAreaLeft" fmla="*/ 0 w 2521080"/>
              <a:gd name="textAreaRight" fmla="*/ 2521440 w 2521080"/>
              <a:gd name="textAreaTop" fmla="*/ 0 h 171360"/>
              <a:gd name="textAreaBottom" fmla="*/ 171720 h 171360"/>
            </a:gdLst>
            <a:ahLst/>
            <a:rect l="textAreaLeft" t="textAreaTop" r="textAreaRight" b="textAreaBottom"/>
            <a:pathLst>
              <a:path w="1557" h="139">
                <a:moveTo>
                  <a:pt x="408" y="31"/>
                </a:moveTo>
                <a:lnTo>
                  <a:pt x="471" y="51"/>
                </a:lnTo>
                <a:lnTo>
                  <a:pt x="578" y="51"/>
                </a:lnTo>
                <a:lnTo>
                  <a:pt x="775" y="75"/>
                </a:lnTo>
                <a:lnTo>
                  <a:pt x="1039" y="83"/>
                </a:lnTo>
                <a:lnTo>
                  <a:pt x="1557" y="0"/>
                </a:lnTo>
                <a:lnTo>
                  <a:pt x="1183" y="101"/>
                </a:lnTo>
                <a:lnTo>
                  <a:pt x="1002" y="139"/>
                </a:lnTo>
                <a:lnTo>
                  <a:pt x="661" y="101"/>
                </a:lnTo>
                <a:lnTo>
                  <a:pt x="576" y="79"/>
                </a:lnTo>
                <a:lnTo>
                  <a:pt x="492" y="73"/>
                </a:lnTo>
                <a:lnTo>
                  <a:pt x="411" y="64"/>
                </a:lnTo>
                <a:lnTo>
                  <a:pt x="0" y="0"/>
                </a:lnTo>
                <a:lnTo>
                  <a:pt x="213" y="7"/>
                </a:lnTo>
                <a:lnTo>
                  <a:pt x="408" y="31"/>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Freeform 13"/>
          <p:cNvSpPr/>
          <p:nvPr/>
        </p:nvSpPr>
        <p:spPr>
          <a:xfrm>
            <a:off x="5110200" y="5059440"/>
            <a:ext cx="2050920" cy="350640"/>
          </a:xfrm>
          <a:custGeom>
            <a:avLst/>
            <a:gdLst>
              <a:gd name="textAreaLeft" fmla="*/ 0 w 2050920"/>
              <a:gd name="textAreaRight" fmla="*/ 2051280 w 2050920"/>
              <a:gd name="textAreaTop" fmla="*/ 0 h 350640"/>
              <a:gd name="textAreaBottom" fmla="*/ 351000 h 350640"/>
            </a:gdLst>
            <a:ahLst/>
            <a:rect l="textAreaLeft" t="textAreaTop" r="textAreaRight" b="textAreaBottom"/>
            <a:pathLst>
              <a:path w="1265" h="288">
                <a:moveTo>
                  <a:pt x="4" y="143"/>
                </a:moveTo>
                <a:lnTo>
                  <a:pt x="138" y="233"/>
                </a:lnTo>
                <a:lnTo>
                  <a:pt x="311" y="244"/>
                </a:lnTo>
                <a:lnTo>
                  <a:pt x="519" y="255"/>
                </a:lnTo>
                <a:lnTo>
                  <a:pt x="682" y="244"/>
                </a:lnTo>
                <a:lnTo>
                  <a:pt x="851" y="180"/>
                </a:lnTo>
                <a:lnTo>
                  <a:pt x="1015" y="80"/>
                </a:lnTo>
                <a:lnTo>
                  <a:pt x="1151" y="10"/>
                </a:lnTo>
                <a:lnTo>
                  <a:pt x="1265" y="0"/>
                </a:lnTo>
                <a:lnTo>
                  <a:pt x="1188" y="19"/>
                </a:lnTo>
                <a:lnTo>
                  <a:pt x="1072" y="79"/>
                </a:lnTo>
                <a:lnTo>
                  <a:pt x="994" y="121"/>
                </a:lnTo>
                <a:lnTo>
                  <a:pt x="851" y="213"/>
                </a:lnTo>
                <a:lnTo>
                  <a:pt x="740" y="255"/>
                </a:lnTo>
                <a:lnTo>
                  <a:pt x="607" y="283"/>
                </a:lnTo>
                <a:lnTo>
                  <a:pt x="539" y="288"/>
                </a:lnTo>
                <a:lnTo>
                  <a:pt x="370" y="283"/>
                </a:lnTo>
                <a:lnTo>
                  <a:pt x="240" y="283"/>
                </a:lnTo>
                <a:lnTo>
                  <a:pt x="140" y="265"/>
                </a:lnTo>
                <a:lnTo>
                  <a:pt x="76" y="233"/>
                </a:lnTo>
                <a:lnTo>
                  <a:pt x="0" y="153"/>
                </a:lnTo>
                <a:lnTo>
                  <a:pt x="4" y="143"/>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Freeform 14"/>
          <p:cNvSpPr/>
          <p:nvPr/>
        </p:nvSpPr>
        <p:spPr>
          <a:xfrm>
            <a:off x="2676600" y="4908600"/>
            <a:ext cx="6086520" cy="450720"/>
          </a:xfrm>
          <a:custGeom>
            <a:avLst/>
            <a:gdLst>
              <a:gd name="textAreaLeft" fmla="*/ 0 w 6086520"/>
              <a:gd name="textAreaRight" fmla="*/ 6086880 w 6086520"/>
              <a:gd name="textAreaTop" fmla="*/ 0 h 450720"/>
              <a:gd name="textAreaBottom" fmla="*/ 451080 h 450720"/>
            </a:gdLst>
            <a:ahLst/>
            <a:rect l="textAreaLeft" t="textAreaTop" r="textAreaRight" b="textAreaBottom"/>
            <a:pathLst>
              <a:path w="3760" h="368">
                <a:moveTo>
                  <a:pt x="1420" y="67"/>
                </a:moveTo>
                <a:lnTo>
                  <a:pt x="1011" y="77"/>
                </a:lnTo>
                <a:lnTo>
                  <a:pt x="325" y="325"/>
                </a:lnTo>
                <a:lnTo>
                  <a:pt x="0" y="343"/>
                </a:lnTo>
                <a:lnTo>
                  <a:pt x="328" y="368"/>
                </a:lnTo>
                <a:lnTo>
                  <a:pt x="757" y="204"/>
                </a:lnTo>
                <a:lnTo>
                  <a:pt x="1014" y="103"/>
                </a:lnTo>
                <a:lnTo>
                  <a:pt x="1434" y="114"/>
                </a:lnTo>
                <a:lnTo>
                  <a:pt x="1627" y="302"/>
                </a:lnTo>
                <a:lnTo>
                  <a:pt x="1816" y="302"/>
                </a:lnTo>
                <a:lnTo>
                  <a:pt x="2030" y="310"/>
                </a:lnTo>
                <a:lnTo>
                  <a:pt x="2217" y="285"/>
                </a:lnTo>
                <a:lnTo>
                  <a:pt x="2474" y="173"/>
                </a:lnTo>
                <a:lnTo>
                  <a:pt x="2614" y="90"/>
                </a:lnTo>
                <a:lnTo>
                  <a:pt x="2734" y="60"/>
                </a:lnTo>
                <a:lnTo>
                  <a:pt x="3094" y="60"/>
                </a:lnTo>
                <a:lnTo>
                  <a:pt x="3265" y="67"/>
                </a:lnTo>
                <a:lnTo>
                  <a:pt x="3760" y="37"/>
                </a:lnTo>
                <a:lnTo>
                  <a:pt x="3102" y="15"/>
                </a:lnTo>
                <a:lnTo>
                  <a:pt x="2734" y="0"/>
                </a:lnTo>
                <a:lnTo>
                  <a:pt x="2549" y="67"/>
                </a:lnTo>
                <a:lnTo>
                  <a:pt x="2393" y="159"/>
                </a:lnTo>
                <a:lnTo>
                  <a:pt x="2215" y="234"/>
                </a:lnTo>
                <a:lnTo>
                  <a:pt x="2037" y="265"/>
                </a:lnTo>
                <a:lnTo>
                  <a:pt x="1673" y="257"/>
                </a:lnTo>
                <a:lnTo>
                  <a:pt x="1609" y="228"/>
                </a:lnTo>
                <a:lnTo>
                  <a:pt x="1443" y="67"/>
                </a:lnTo>
                <a:lnTo>
                  <a:pt x="1420" y="67"/>
                </a:lnTo>
                <a:close/>
              </a:path>
            </a:pathLst>
          </a:custGeom>
          <a:solidFill>
            <a:srgbClr val="00800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Freeform 15"/>
          <p:cNvSpPr/>
          <p:nvPr/>
        </p:nvSpPr>
        <p:spPr>
          <a:xfrm>
            <a:off x="1627200" y="4702320"/>
            <a:ext cx="1677960" cy="64800"/>
          </a:xfrm>
          <a:custGeom>
            <a:avLst/>
            <a:gdLst>
              <a:gd name="textAreaLeft" fmla="*/ 0 w 1677960"/>
              <a:gd name="textAreaRight" fmla="*/ 1678320 w 1677960"/>
              <a:gd name="textAreaTop" fmla="*/ 0 h 64800"/>
              <a:gd name="textAreaBottom" fmla="*/ 65160 h 64800"/>
            </a:gdLst>
            <a:ahLst/>
            <a:rect l="textAreaLeft" t="textAreaTop" r="textAreaRight" b="textAreaBottom"/>
            <a:pathLst>
              <a:path w="1038" h="53">
                <a:moveTo>
                  <a:pt x="69" y="0"/>
                </a:moveTo>
                <a:lnTo>
                  <a:pt x="173" y="14"/>
                </a:lnTo>
                <a:lnTo>
                  <a:pt x="279" y="14"/>
                </a:lnTo>
                <a:lnTo>
                  <a:pt x="509" y="14"/>
                </a:lnTo>
                <a:lnTo>
                  <a:pt x="761" y="25"/>
                </a:lnTo>
                <a:lnTo>
                  <a:pt x="1038" y="23"/>
                </a:lnTo>
                <a:lnTo>
                  <a:pt x="881" y="35"/>
                </a:lnTo>
                <a:lnTo>
                  <a:pt x="646" y="53"/>
                </a:lnTo>
                <a:lnTo>
                  <a:pt x="471" y="46"/>
                </a:lnTo>
                <a:lnTo>
                  <a:pt x="277" y="43"/>
                </a:lnTo>
                <a:lnTo>
                  <a:pt x="195" y="35"/>
                </a:lnTo>
                <a:lnTo>
                  <a:pt x="113" y="28"/>
                </a:lnTo>
                <a:lnTo>
                  <a:pt x="0" y="22"/>
                </a:lnTo>
                <a:lnTo>
                  <a:pt x="31" y="7"/>
                </a:lnTo>
                <a:lnTo>
                  <a:pt x="69" y="0"/>
                </a:lnTo>
                <a:close/>
              </a:path>
            </a:pathLst>
          </a:custGeom>
          <a:solidFill>
            <a:srgbClr val="008000"/>
          </a:solidFill>
          <a:ln w="14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00" name="Freeform 16"/>
          <p:cNvSpPr/>
          <p:nvPr/>
        </p:nvSpPr>
        <p:spPr>
          <a:xfrm>
            <a:off x="1422360" y="4359240"/>
            <a:ext cx="2589120" cy="79560"/>
          </a:xfrm>
          <a:custGeom>
            <a:avLst/>
            <a:gdLst>
              <a:gd name="textAreaLeft" fmla="*/ 0 w 2589120"/>
              <a:gd name="textAreaRight" fmla="*/ 2589480 w 2589120"/>
              <a:gd name="textAreaTop" fmla="*/ 0 h 79560"/>
              <a:gd name="textAreaBottom" fmla="*/ 79920 h 79560"/>
            </a:gdLst>
            <a:ahLst/>
            <a:rect l="textAreaLeft" t="textAreaTop" r="textAreaRight" b="textAreaBottom"/>
            <a:pathLst>
              <a:path w="1598" h="68">
                <a:moveTo>
                  <a:pt x="4" y="5"/>
                </a:moveTo>
                <a:lnTo>
                  <a:pt x="141" y="22"/>
                </a:lnTo>
                <a:lnTo>
                  <a:pt x="248" y="22"/>
                </a:lnTo>
                <a:lnTo>
                  <a:pt x="478" y="22"/>
                </a:lnTo>
                <a:lnTo>
                  <a:pt x="731" y="34"/>
                </a:lnTo>
                <a:lnTo>
                  <a:pt x="1598" y="57"/>
                </a:lnTo>
                <a:lnTo>
                  <a:pt x="1205" y="67"/>
                </a:lnTo>
                <a:lnTo>
                  <a:pt x="721" y="68"/>
                </a:lnTo>
                <a:lnTo>
                  <a:pt x="478" y="65"/>
                </a:lnTo>
                <a:lnTo>
                  <a:pt x="264" y="62"/>
                </a:lnTo>
                <a:lnTo>
                  <a:pt x="169" y="62"/>
                </a:lnTo>
                <a:lnTo>
                  <a:pt x="118" y="58"/>
                </a:lnTo>
                <a:lnTo>
                  <a:pt x="2" y="34"/>
                </a:lnTo>
                <a:lnTo>
                  <a:pt x="0" y="0"/>
                </a:lnTo>
                <a:lnTo>
                  <a:pt x="4" y="5"/>
                </a:lnTo>
                <a:close/>
              </a:path>
            </a:pathLst>
          </a:custGeom>
          <a:solidFill>
            <a:srgbClr val="008000"/>
          </a:solidFill>
          <a:ln w="144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301" name="Freeform 17"/>
          <p:cNvSpPr/>
          <p:nvPr/>
        </p:nvSpPr>
        <p:spPr>
          <a:xfrm>
            <a:off x="1442880" y="4481640"/>
            <a:ext cx="4559400" cy="144360"/>
          </a:xfrm>
          <a:custGeom>
            <a:avLst/>
            <a:gdLst>
              <a:gd name="textAreaLeft" fmla="*/ 0 w 4559400"/>
              <a:gd name="textAreaRight" fmla="*/ 4559760 w 4559400"/>
              <a:gd name="textAreaTop" fmla="*/ 0 h 144360"/>
              <a:gd name="textAreaBottom" fmla="*/ 144720 h 144360"/>
            </a:gdLst>
            <a:ahLst/>
            <a:rect l="textAreaLeft" t="textAreaTop" r="textAreaRight" b="textAreaBottom"/>
            <a:pathLst>
              <a:path w="2817" h="117">
                <a:moveTo>
                  <a:pt x="3" y="60"/>
                </a:moveTo>
                <a:lnTo>
                  <a:pt x="121" y="55"/>
                </a:lnTo>
                <a:lnTo>
                  <a:pt x="248" y="0"/>
                </a:lnTo>
                <a:lnTo>
                  <a:pt x="353" y="7"/>
                </a:lnTo>
                <a:lnTo>
                  <a:pt x="527" y="10"/>
                </a:lnTo>
                <a:lnTo>
                  <a:pt x="722" y="10"/>
                </a:lnTo>
                <a:lnTo>
                  <a:pt x="852" y="7"/>
                </a:lnTo>
                <a:lnTo>
                  <a:pt x="1049" y="8"/>
                </a:lnTo>
                <a:lnTo>
                  <a:pt x="1229" y="37"/>
                </a:lnTo>
                <a:lnTo>
                  <a:pt x="1574" y="50"/>
                </a:lnTo>
                <a:lnTo>
                  <a:pt x="1893" y="91"/>
                </a:lnTo>
                <a:lnTo>
                  <a:pt x="2207" y="68"/>
                </a:lnTo>
                <a:lnTo>
                  <a:pt x="2817" y="93"/>
                </a:lnTo>
                <a:lnTo>
                  <a:pt x="2740" y="107"/>
                </a:lnTo>
                <a:lnTo>
                  <a:pt x="2232" y="105"/>
                </a:lnTo>
                <a:lnTo>
                  <a:pt x="2112" y="105"/>
                </a:lnTo>
                <a:lnTo>
                  <a:pt x="1941" y="117"/>
                </a:lnTo>
                <a:lnTo>
                  <a:pt x="1805" y="117"/>
                </a:lnTo>
                <a:lnTo>
                  <a:pt x="1539" y="98"/>
                </a:lnTo>
                <a:lnTo>
                  <a:pt x="1030" y="62"/>
                </a:lnTo>
                <a:lnTo>
                  <a:pt x="749" y="40"/>
                </a:lnTo>
                <a:lnTo>
                  <a:pt x="500" y="37"/>
                </a:lnTo>
                <a:lnTo>
                  <a:pt x="241" y="37"/>
                </a:lnTo>
                <a:lnTo>
                  <a:pt x="132" y="88"/>
                </a:lnTo>
                <a:lnTo>
                  <a:pt x="0" y="75"/>
                </a:lnTo>
                <a:lnTo>
                  <a:pt x="4" y="60"/>
                </a:lnTo>
                <a:lnTo>
                  <a:pt x="3" y="6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Freeform 18"/>
          <p:cNvSpPr/>
          <p:nvPr/>
        </p:nvSpPr>
        <p:spPr>
          <a:xfrm>
            <a:off x="1444680" y="4791240"/>
            <a:ext cx="4968720" cy="272880"/>
          </a:xfrm>
          <a:custGeom>
            <a:avLst/>
            <a:gdLst>
              <a:gd name="textAreaLeft" fmla="*/ 0 w 4968720"/>
              <a:gd name="textAreaRight" fmla="*/ 4969080 w 4968720"/>
              <a:gd name="textAreaTop" fmla="*/ 0 h 272880"/>
              <a:gd name="textAreaBottom" fmla="*/ 273240 h 272880"/>
            </a:gdLst>
            <a:ahLst/>
            <a:rect l="textAreaLeft" t="textAreaTop" r="textAreaRight" b="textAreaBottom"/>
            <a:pathLst>
              <a:path w="3068" h="227">
                <a:moveTo>
                  <a:pt x="41" y="0"/>
                </a:moveTo>
                <a:lnTo>
                  <a:pt x="159" y="6"/>
                </a:lnTo>
                <a:lnTo>
                  <a:pt x="266" y="0"/>
                </a:lnTo>
                <a:lnTo>
                  <a:pt x="350" y="0"/>
                </a:lnTo>
                <a:lnTo>
                  <a:pt x="511" y="5"/>
                </a:lnTo>
                <a:lnTo>
                  <a:pt x="718" y="5"/>
                </a:lnTo>
                <a:lnTo>
                  <a:pt x="875" y="16"/>
                </a:lnTo>
                <a:lnTo>
                  <a:pt x="1072" y="20"/>
                </a:lnTo>
                <a:lnTo>
                  <a:pt x="1251" y="46"/>
                </a:lnTo>
                <a:lnTo>
                  <a:pt x="1597" y="61"/>
                </a:lnTo>
                <a:lnTo>
                  <a:pt x="1915" y="103"/>
                </a:lnTo>
                <a:lnTo>
                  <a:pt x="2240" y="108"/>
                </a:lnTo>
                <a:lnTo>
                  <a:pt x="2418" y="161"/>
                </a:lnTo>
                <a:lnTo>
                  <a:pt x="3068" y="189"/>
                </a:lnTo>
                <a:lnTo>
                  <a:pt x="2820" y="227"/>
                </a:lnTo>
                <a:lnTo>
                  <a:pt x="2403" y="194"/>
                </a:lnTo>
                <a:lnTo>
                  <a:pt x="2228" y="139"/>
                </a:lnTo>
                <a:lnTo>
                  <a:pt x="1828" y="129"/>
                </a:lnTo>
                <a:lnTo>
                  <a:pt x="1562" y="109"/>
                </a:lnTo>
                <a:lnTo>
                  <a:pt x="1053" y="75"/>
                </a:lnTo>
                <a:lnTo>
                  <a:pt x="772" y="51"/>
                </a:lnTo>
                <a:lnTo>
                  <a:pt x="523" y="46"/>
                </a:lnTo>
                <a:lnTo>
                  <a:pt x="264" y="46"/>
                </a:lnTo>
                <a:lnTo>
                  <a:pt x="152" y="46"/>
                </a:lnTo>
                <a:lnTo>
                  <a:pt x="0" y="32"/>
                </a:lnTo>
                <a:lnTo>
                  <a:pt x="44" y="0"/>
                </a:lnTo>
                <a:lnTo>
                  <a:pt x="41" y="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Freeform 19"/>
          <p:cNvSpPr/>
          <p:nvPr/>
        </p:nvSpPr>
        <p:spPr>
          <a:xfrm>
            <a:off x="2341440" y="3549600"/>
            <a:ext cx="928800" cy="54000"/>
          </a:xfrm>
          <a:custGeom>
            <a:avLst/>
            <a:gdLst>
              <a:gd name="textAreaLeft" fmla="*/ 0 w 928800"/>
              <a:gd name="textAreaRight" fmla="*/ 929160 w 928800"/>
              <a:gd name="textAreaTop" fmla="*/ 0 h 54000"/>
              <a:gd name="textAreaBottom" fmla="*/ 54360 h 54000"/>
            </a:gdLst>
            <a:ahLst/>
            <a:rect l="textAreaLeft" t="textAreaTop" r="textAreaRight" b="textAreaBottom"/>
            <a:pathLst>
              <a:path w="572" h="44">
                <a:moveTo>
                  <a:pt x="33" y="0"/>
                </a:moveTo>
                <a:lnTo>
                  <a:pt x="35" y="0"/>
                </a:lnTo>
                <a:lnTo>
                  <a:pt x="157" y="3"/>
                </a:lnTo>
                <a:lnTo>
                  <a:pt x="286" y="29"/>
                </a:lnTo>
                <a:lnTo>
                  <a:pt x="426" y="27"/>
                </a:lnTo>
                <a:lnTo>
                  <a:pt x="572" y="39"/>
                </a:lnTo>
                <a:lnTo>
                  <a:pt x="419" y="39"/>
                </a:lnTo>
                <a:lnTo>
                  <a:pt x="325" y="44"/>
                </a:lnTo>
                <a:lnTo>
                  <a:pt x="181" y="27"/>
                </a:lnTo>
                <a:lnTo>
                  <a:pt x="110" y="27"/>
                </a:lnTo>
                <a:lnTo>
                  <a:pt x="43" y="27"/>
                </a:lnTo>
                <a:lnTo>
                  <a:pt x="0" y="39"/>
                </a:lnTo>
                <a:lnTo>
                  <a:pt x="35" y="0"/>
                </a:lnTo>
                <a:lnTo>
                  <a:pt x="33" y="0"/>
                </a:lnTo>
                <a:close/>
              </a:path>
            </a:pathLst>
          </a:custGeom>
          <a:solidFill>
            <a:srgbClr val="c0c0c0"/>
          </a:solidFill>
          <a:ln w="14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304" name="Freeform 20"/>
          <p:cNvSpPr/>
          <p:nvPr/>
        </p:nvSpPr>
        <p:spPr>
          <a:xfrm>
            <a:off x="1346040" y="3975120"/>
            <a:ext cx="1967040" cy="111240"/>
          </a:xfrm>
          <a:custGeom>
            <a:avLst/>
            <a:gdLst>
              <a:gd name="textAreaLeft" fmla="*/ 0 w 1967040"/>
              <a:gd name="textAreaRight" fmla="*/ 1967400 w 1967040"/>
              <a:gd name="textAreaTop" fmla="*/ 0 h 111240"/>
              <a:gd name="textAreaBottom" fmla="*/ 111600 h 111240"/>
            </a:gdLst>
            <a:ahLst/>
            <a:rect l="textAreaLeft" t="textAreaTop" r="textAreaRight" b="textAreaBottom"/>
            <a:pathLst>
              <a:path w="1216" h="91">
                <a:moveTo>
                  <a:pt x="16" y="0"/>
                </a:moveTo>
                <a:lnTo>
                  <a:pt x="180" y="13"/>
                </a:lnTo>
                <a:lnTo>
                  <a:pt x="347" y="20"/>
                </a:lnTo>
                <a:lnTo>
                  <a:pt x="659" y="25"/>
                </a:lnTo>
                <a:lnTo>
                  <a:pt x="770" y="35"/>
                </a:lnTo>
                <a:lnTo>
                  <a:pt x="1216" y="60"/>
                </a:lnTo>
                <a:lnTo>
                  <a:pt x="998" y="72"/>
                </a:lnTo>
                <a:lnTo>
                  <a:pt x="784" y="91"/>
                </a:lnTo>
                <a:lnTo>
                  <a:pt x="519" y="82"/>
                </a:lnTo>
                <a:lnTo>
                  <a:pt x="359" y="74"/>
                </a:lnTo>
                <a:lnTo>
                  <a:pt x="292" y="74"/>
                </a:lnTo>
                <a:lnTo>
                  <a:pt x="179" y="67"/>
                </a:lnTo>
                <a:lnTo>
                  <a:pt x="114" y="64"/>
                </a:lnTo>
                <a:lnTo>
                  <a:pt x="41" y="41"/>
                </a:lnTo>
                <a:lnTo>
                  <a:pt x="0" y="2"/>
                </a:lnTo>
                <a:lnTo>
                  <a:pt x="18" y="0"/>
                </a:lnTo>
                <a:lnTo>
                  <a:pt x="16" y="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Freeform 21"/>
          <p:cNvSpPr/>
          <p:nvPr/>
        </p:nvSpPr>
        <p:spPr>
          <a:xfrm>
            <a:off x="1387440" y="3676680"/>
            <a:ext cx="4157640" cy="156960"/>
          </a:xfrm>
          <a:custGeom>
            <a:avLst/>
            <a:gdLst>
              <a:gd name="textAreaLeft" fmla="*/ 0 w 4157640"/>
              <a:gd name="textAreaRight" fmla="*/ 4158000 w 4157640"/>
              <a:gd name="textAreaTop" fmla="*/ 0 h 156960"/>
              <a:gd name="textAreaBottom" fmla="*/ 157320 h 156960"/>
            </a:gdLst>
            <a:ahLst/>
            <a:rect l="textAreaLeft" t="textAreaTop" r="textAreaRight" b="textAreaBottom"/>
            <a:pathLst>
              <a:path w="2569" h="131">
                <a:moveTo>
                  <a:pt x="40" y="2"/>
                </a:moveTo>
                <a:lnTo>
                  <a:pt x="158" y="9"/>
                </a:lnTo>
                <a:lnTo>
                  <a:pt x="269" y="12"/>
                </a:lnTo>
                <a:lnTo>
                  <a:pt x="445" y="0"/>
                </a:lnTo>
                <a:lnTo>
                  <a:pt x="493" y="0"/>
                </a:lnTo>
                <a:lnTo>
                  <a:pt x="582" y="9"/>
                </a:lnTo>
                <a:lnTo>
                  <a:pt x="753" y="2"/>
                </a:lnTo>
                <a:lnTo>
                  <a:pt x="1075" y="34"/>
                </a:lnTo>
                <a:lnTo>
                  <a:pt x="1251" y="49"/>
                </a:lnTo>
                <a:lnTo>
                  <a:pt x="1597" y="62"/>
                </a:lnTo>
                <a:lnTo>
                  <a:pt x="1847" y="84"/>
                </a:lnTo>
                <a:lnTo>
                  <a:pt x="2193" y="88"/>
                </a:lnTo>
                <a:lnTo>
                  <a:pt x="2569" y="123"/>
                </a:lnTo>
                <a:lnTo>
                  <a:pt x="2546" y="123"/>
                </a:lnTo>
                <a:lnTo>
                  <a:pt x="2324" y="122"/>
                </a:lnTo>
                <a:lnTo>
                  <a:pt x="2191" y="116"/>
                </a:lnTo>
                <a:lnTo>
                  <a:pt x="1964" y="131"/>
                </a:lnTo>
                <a:lnTo>
                  <a:pt x="1828" y="131"/>
                </a:lnTo>
                <a:lnTo>
                  <a:pt x="1562" y="112"/>
                </a:lnTo>
                <a:lnTo>
                  <a:pt x="1052" y="76"/>
                </a:lnTo>
                <a:lnTo>
                  <a:pt x="753" y="53"/>
                </a:lnTo>
                <a:lnTo>
                  <a:pt x="508" y="48"/>
                </a:lnTo>
                <a:lnTo>
                  <a:pt x="263" y="49"/>
                </a:lnTo>
                <a:lnTo>
                  <a:pt x="153" y="49"/>
                </a:lnTo>
                <a:lnTo>
                  <a:pt x="0" y="37"/>
                </a:lnTo>
                <a:lnTo>
                  <a:pt x="44" y="2"/>
                </a:lnTo>
                <a:lnTo>
                  <a:pt x="40" y="2"/>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6" name="Freeform 22"/>
          <p:cNvSpPr/>
          <p:nvPr/>
        </p:nvSpPr>
        <p:spPr>
          <a:xfrm>
            <a:off x="1401840" y="4191120"/>
            <a:ext cx="5686200" cy="163440"/>
          </a:xfrm>
          <a:custGeom>
            <a:avLst/>
            <a:gdLst>
              <a:gd name="textAreaLeft" fmla="*/ 0 w 5686200"/>
              <a:gd name="textAreaRight" fmla="*/ 5686560 w 5686200"/>
              <a:gd name="textAreaTop" fmla="*/ 0 h 163440"/>
              <a:gd name="textAreaBottom" fmla="*/ 163800 h 163440"/>
            </a:gdLst>
            <a:ahLst/>
            <a:rect l="textAreaLeft" t="textAreaTop" r="textAreaRight" b="textAreaBottom"/>
            <a:pathLst>
              <a:path w="3512" h="133">
                <a:moveTo>
                  <a:pt x="7" y="0"/>
                </a:moveTo>
                <a:lnTo>
                  <a:pt x="144" y="19"/>
                </a:lnTo>
                <a:lnTo>
                  <a:pt x="290" y="19"/>
                </a:lnTo>
                <a:lnTo>
                  <a:pt x="397" y="19"/>
                </a:lnTo>
                <a:lnTo>
                  <a:pt x="506" y="9"/>
                </a:lnTo>
                <a:lnTo>
                  <a:pt x="712" y="9"/>
                </a:lnTo>
                <a:lnTo>
                  <a:pt x="870" y="20"/>
                </a:lnTo>
                <a:lnTo>
                  <a:pt x="1067" y="22"/>
                </a:lnTo>
                <a:lnTo>
                  <a:pt x="1245" y="51"/>
                </a:lnTo>
                <a:lnTo>
                  <a:pt x="1593" y="65"/>
                </a:lnTo>
                <a:lnTo>
                  <a:pt x="1912" y="106"/>
                </a:lnTo>
                <a:lnTo>
                  <a:pt x="2222" y="50"/>
                </a:lnTo>
                <a:lnTo>
                  <a:pt x="2817" y="51"/>
                </a:lnTo>
                <a:lnTo>
                  <a:pt x="3512" y="110"/>
                </a:lnTo>
                <a:lnTo>
                  <a:pt x="2203" y="94"/>
                </a:lnTo>
                <a:lnTo>
                  <a:pt x="2080" y="123"/>
                </a:lnTo>
                <a:lnTo>
                  <a:pt x="1959" y="133"/>
                </a:lnTo>
                <a:lnTo>
                  <a:pt x="1824" y="133"/>
                </a:lnTo>
                <a:lnTo>
                  <a:pt x="1556" y="112"/>
                </a:lnTo>
                <a:lnTo>
                  <a:pt x="1047" y="79"/>
                </a:lnTo>
                <a:lnTo>
                  <a:pt x="769" y="55"/>
                </a:lnTo>
                <a:lnTo>
                  <a:pt x="517" y="51"/>
                </a:lnTo>
                <a:lnTo>
                  <a:pt x="258" y="51"/>
                </a:lnTo>
                <a:lnTo>
                  <a:pt x="147" y="51"/>
                </a:lnTo>
                <a:lnTo>
                  <a:pt x="0" y="19"/>
                </a:lnTo>
                <a:lnTo>
                  <a:pt x="6" y="20"/>
                </a:lnTo>
                <a:lnTo>
                  <a:pt x="7" y="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Freeform 23"/>
          <p:cNvSpPr/>
          <p:nvPr/>
        </p:nvSpPr>
        <p:spPr>
          <a:xfrm>
            <a:off x="7596360" y="4075200"/>
            <a:ext cx="1215720" cy="39600"/>
          </a:xfrm>
          <a:custGeom>
            <a:avLst/>
            <a:gdLst>
              <a:gd name="textAreaLeft" fmla="*/ 0 w 1215720"/>
              <a:gd name="textAreaRight" fmla="*/ 1216080 w 1215720"/>
              <a:gd name="textAreaTop" fmla="*/ 0 h 39600"/>
              <a:gd name="textAreaBottom" fmla="*/ 39960 h 39600"/>
            </a:gdLst>
            <a:ahLst/>
            <a:rect l="textAreaLeft" t="textAreaTop" r="textAreaRight" b="textAreaBottom"/>
            <a:pathLst>
              <a:path w="752" h="35">
                <a:moveTo>
                  <a:pt x="102" y="0"/>
                </a:moveTo>
                <a:lnTo>
                  <a:pt x="238" y="5"/>
                </a:lnTo>
                <a:lnTo>
                  <a:pt x="326" y="18"/>
                </a:lnTo>
                <a:lnTo>
                  <a:pt x="523" y="13"/>
                </a:lnTo>
                <a:lnTo>
                  <a:pt x="691" y="18"/>
                </a:lnTo>
                <a:lnTo>
                  <a:pt x="752" y="35"/>
                </a:lnTo>
                <a:lnTo>
                  <a:pt x="586" y="29"/>
                </a:lnTo>
                <a:lnTo>
                  <a:pt x="333" y="29"/>
                </a:lnTo>
                <a:lnTo>
                  <a:pt x="179" y="24"/>
                </a:lnTo>
                <a:lnTo>
                  <a:pt x="0" y="5"/>
                </a:lnTo>
                <a:lnTo>
                  <a:pt x="115" y="0"/>
                </a:lnTo>
                <a:lnTo>
                  <a:pt x="102" y="0"/>
                </a:lnTo>
                <a:close/>
              </a:path>
            </a:pathLst>
          </a:custGeom>
          <a:solidFill>
            <a:srgbClr val="008000"/>
          </a:solidFill>
          <a:ln w="1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08" name="Freeform 24"/>
          <p:cNvSpPr/>
          <p:nvPr/>
        </p:nvSpPr>
        <p:spPr>
          <a:xfrm>
            <a:off x="3708360" y="4759200"/>
            <a:ext cx="5208480" cy="154080"/>
          </a:xfrm>
          <a:custGeom>
            <a:avLst/>
            <a:gdLst>
              <a:gd name="textAreaLeft" fmla="*/ 0 w 5208480"/>
              <a:gd name="textAreaRight" fmla="*/ 5208840 w 5208480"/>
              <a:gd name="textAreaTop" fmla="*/ 0 h 154080"/>
              <a:gd name="textAreaBottom" fmla="*/ 154440 h 154080"/>
            </a:gdLst>
            <a:ahLst/>
            <a:rect l="textAreaLeft" t="textAreaTop" r="textAreaRight" b="textAreaBottom"/>
            <a:pathLst>
              <a:path w="3217" h="127">
                <a:moveTo>
                  <a:pt x="0" y="0"/>
                </a:moveTo>
                <a:lnTo>
                  <a:pt x="1836" y="24"/>
                </a:lnTo>
                <a:lnTo>
                  <a:pt x="2092" y="18"/>
                </a:lnTo>
                <a:lnTo>
                  <a:pt x="2348" y="35"/>
                </a:lnTo>
                <a:lnTo>
                  <a:pt x="2585" y="35"/>
                </a:lnTo>
                <a:lnTo>
                  <a:pt x="2863" y="46"/>
                </a:lnTo>
                <a:lnTo>
                  <a:pt x="3217" y="49"/>
                </a:lnTo>
                <a:lnTo>
                  <a:pt x="3217" y="127"/>
                </a:lnTo>
                <a:lnTo>
                  <a:pt x="2958" y="114"/>
                </a:lnTo>
                <a:lnTo>
                  <a:pt x="2582" y="101"/>
                </a:lnTo>
                <a:lnTo>
                  <a:pt x="2339" y="101"/>
                </a:lnTo>
                <a:lnTo>
                  <a:pt x="2067" y="73"/>
                </a:lnTo>
                <a:lnTo>
                  <a:pt x="1828" y="69"/>
                </a:lnTo>
                <a:lnTo>
                  <a:pt x="792" y="35"/>
                </a:lnTo>
                <a:lnTo>
                  <a:pt x="0" y="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9" name="Freeform 25"/>
          <p:cNvSpPr/>
          <p:nvPr/>
        </p:nvSpPr>
        <p:spPr>
          <a:xfrm>
            <a:off x="5992920" y="4562640"/>
            <a:ext cx="2935080" cy="153720"/>
          </a:xfrm>
          <a:custGeom>
            <a:avLst/>
            <a:gdLst>
              <a:gd name="textAreaLeft" fmla="*/ 0 w 2935080"/>
              <a:gd name="textAreaRight" fmla="*/ 2935440 w 2935080"/>
              <a:gd name="textAreaTop" fmla="*/ 0 h 153720"/>
              <a:gd name="textAreaBottom" fmla="*/ 154080 h 153720"/>
            </a:gdLst>
            <a:ahLst/>
            <a:rect l="textAreaLeft" t="textAreaTop" r="textAreaRight" b="textAreaBottom"/>
            <a:pathLst>
              <a:path w="1816" h="126">
                <a:moveTo>
                  <a:pt x="0" y="0"/>
                </a:moveTo>
                <a:lnTo>
                  <a:pt x="441" y="27"/>
                </a:lnTo>
                <a:lnTo>
                  <a:pt x="695" y="22"/>
                </a:lnTo>
                <a:lnTo>
                  <a:pt x="952" y="39"/>
                </a:lnTo>
                <a:lnTo>
                  <a:pt x="1151" y="60"/>
                </a:lnTo>
                <a:lnTo>
                  <a:pt x="1514" y="85"/>
                </a:lnTo>
                <a:lnTo>
                  <a:pt x="1816" y="85"/>
                </a:lnTo>
                <a:lnTo>
                  <a:pt x="1816" y="120"/>
                </a:lnTo>
                <a:lnTo>
                  <a:pt x="1580" y="126"/>
                </a:lnTo>
                <a:lnTo>
                  <a:pt x="1187" y="106"/>
                </a:lnTo>
                <a:lnTo>
                  <a:pt x="943" y="106"/>
                </a:lnTo>
                <a:lnTo>
                  <a:pt x="670" y="78"/>
                </a:lnTo>
                <a:lnTo>
                  <a:pt x="539" y="101"/>
                </a:lnTo>
                <a:lnTo>
                  <a:pt x="49" y="16"/>
                </a:lnTo>
                <a:lnTo>
                  <a:pt x="0" y="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Freeform 26"/>
          <p:cNvSpPr/>
          <p:nvPr/>
        </p:nvSpPr>
        <p:spPr>
          <a:xfrm>
            <a:off x="4334040" y="4432320"/>
            <a:ext cx="4587840" cy="155520"/>
          </a:xfrm>
          <a:custGeom>
            <a:avLst/>
            <a:gdLst>
              <a:gd name="textAreaLeft" fmla="*/ 0 w 4587840"/>
              <a:gd name="textAreaRight" fmla="*/ 4587840 w 4587840"/>
              <a:gd name="textAreaTop" fmla="*/ 0 h 155520"/>
              <a:gd name="textAreaBottom" fmla="*/ 155880 h 155520"/>
            </a:gdLst>
            <a:ahLst/>
            <a:rect l="textAreaLeft" t="textAreaTop" r="textAreaRight" b="textAreaBottom"/>
            <a:pathLst>
              <a:path w="2832" h="127">
                <a:moveTo>
                  <a:pt x="944" y="3"/>
                </a:moveTo>
                <a:lnTo>
                  <a:pt x="1557" y="5"/>
                </a:lnTo>
                <a:lnTo>
                  <a:pt x="1812" y="0"/>
                </a:lnTo>
                <a:lnTo>
                  <a:pt x="2069" y="16"/>
                </a:lnTo>
                <a:lnTo>
                  <a:pt x="2306" y="16"/>
                </a:lnTo>
                <a:lnTo>
                  <a:pt x="2630" y="61"/>
                </a:lnTo>
                <a:lnTo>
                  <a:pt x="2830" y="66"/>
                </a:lnTo>
                <a:lnTo>
                  <a:pt x="2832" y="127"/>
                </a:lnTo>
                <a:lnTo>
                  <a:pt x="2699" y="127"/>
                </a:lnTo>
                <a:lnTo>
                  <a:pt x="2301" y="84"/>
                </a:lnTo>
                <a:lnTo>
                  <a:pt x="2059" y="84"/>
                </a:lnTo>
                <a:lnTo>
                  <a:pt x="1786" y="55"/>
                </a:lnTo>
                <a:lnTo>
                  <a:pt x="1548" y="50"/>
                </a:lnTo>
                <a:lnTo>
                  <a:pt x="0" y="18"/>
                </a:lnTo>
                <a:lnTo>
                  <a:pt x="944" y="3"/>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Freeform 27"/>
          <p:cNvSpPr/>
          <p:nvPr/>
        </p:nvSpPr>
        <p:spPr>
          <a:xfrm>
            <a:off x="3646440" y="3984480"/>
            <a:ext cx="5281560" cy="101880"/>
          </a:xfrm>
          <a:custGeom>
            <a:avLst/>
            <a:gdLst>
              <a:gd name="textAreaLeft" fmla="*/ 0 w 5281560"/>
              <a:gd name="textAreaRight" fmla="*/ 5281920 w 5281560"/>
              <a:gd name="textAreaTop" fmla="*/ 0 h 101880"/>
              <a:gd name="textAreaBottom" fmla="*/ 102240 h 101880"/>
            </a:gdLst>
            <a:ahLst/>
            <a:rect l="textAreaLeft" t="textAreaTop" r="textAreaRight" b="textAreaBottom"/>
            <a:pathLst>
              <a:path w="3262" h="84">
                <a:moveTo>
                  <a:pt x="3179" y="4"/>
                </a:moveTo>
                <a:lnTo>
                  <a:pt x="3112" y="12"/>
                </a:lnTo>
                <a:lnTo>
                  <a:pt x="2726" y="23"/>
                </a:lnTo>
                <a:lnTo>
                  <a:pt x="2486" y="4"/>
                </a:lnTo>
                <a:lnTo>
                  <a:pt x="2116" y="5"/>
                </a:lnTo>
                <a:lnTo>
                  <a:pt x="1992" y="4"/>
                </a:lnTo>
                <a:lnTo>
                  <a:pt x="1557" y="4"/>
                </a:lnTo>
                <a:lnTo>
                  <a:pt x="1405" y="12"/>
                </a:lnTo>
                <a:lnTo>
                  <a:pt x="1380" y="12"/>
                </a:lnTo>
                <a:lnTo>
                  <a:pt x="1262" y="14"/>
                </a:lnTo>
                <a:lnTo>
                  <a:pt x="580" y="49"/>
                </a:lnTo>
                <a:lnTo>
                  <a:pt x="0" y="66"/>
                </a:lnTo>
                <a:lnTo>
                  <a:pt x="151" y="84"/>
                </a:lnTo>
                <a:lnTo>
                  <a:pt x="922" y="79"/>
                </a:lnTo>
                <a:lnTo>
                  <a:pt x="1357" y="49"/>
                </a:lnTo>
                <a:lnTo>
                  <a:pt x="1580" y="37"/>
                </a:lnTo>
                <a:lnTo>
                  <a:pt x="1986" y="48"/>
                </a:lnTo>
                <a:lnTo>
                  <a:pt x="2465" y="44"/>
                </a:lnTo>
                <a:lnTo>
                  <a:pt x="2723" y="61"/>
                </a:lnTo>
                <a:lnTo>
                  <a:pt x="3106" y="56"/>
                </a:lnTo>
                <a:lnTo>
                  <a:pt x="3262" y="49"/>
                </a:lnTo>
                <a:lnTo>
                  <a:pt x="3262" y="0"/>
                </a:lnTo>
                <a:lnTo>
                  <a:pt x="3178" y="4"/>
                </a:lnTo>
                <a:lnTo>
                  <a:pt x="3179" y="4"/>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Freeform 28"/>
          <p:cNvSpPr/>
          <p:nvPr/>
        </p:nvSpPr>
        <p:spPr>
          <a:xfrm>
            <a:off x="5334120" y="4105440"/>
            <a:ext cx="3589200" cy="168120"/>
          </a:xfrm>
          <a:custGeom>
            <a:avLst/>
            <a:gdLst>
              <a:gd name="textAreaLeft" fmla="*/ 0 w 3589200"/>
              <a:gd name="textAreaRight" fmla="*/ 3589560 w 3589200"/>
              <a:gd name="textAreaTop" fmla="*/ 0 h 168120"/>
              <a:gd name="textAreaBottom" fmla="*/ 168480 h 168120"/>
            </a:gdLst>
            <a:ahLst/>
            <a:rect l="textAreaLeft" t="textAreaTop" r="textAreaRight" b="textAreaBottom"/>
            <a:pathLst>
              <a:path w="2218" h="140">
                <a:moveTo>
                  <a:pt x="0" y="33"/>
                </a:moveTo>
                <a:lnTo>
                  <a:pt x="897" y="0"/>
                </a:lnTo>
                <a:lnTo>
                  <a:pt x="1334" y="34"/>
                </a:lnTo>
                <a:lnTo>
                  <a:pt x="1439" y="40"/>
                </a:lnTo>
                <a:lnTo>
                  <a:pt x="1648" y="69"/>
                </a:lnTo>
                <a:lnTo>
                  <a:pt x="2050" y="97"/>
                </a:lnTo>
                <a:lnTo>
                  <a:pt x="2214" y="97"/>
                </a:lnTo>
                <a:lnTo>
                  <a:pt x="2218" y="140"/>
                </a:lnTo>
                <a:lnTo>
                  <a:pt x="2084" y="140"/>
                </a:lnTo>
                <a:lnTo>
                  <a:pt x="1662" y="130"/>
                </a:lnTo>
                <a:lnTo>
                  <a:pt x="1429" y="109"/>
                </a:lnTo>
                <a:lnTo>
                  <a:pt x="1068" y="49"/>
                </a:lnTo>
                <a:lnTo>
                  <a:pt x="951" y="49"/>
                </a:lnTo>
                <a:lnTo>
                  <a:pt x="441" y="11"/>
                </a:lnTo>
                <a:lnTo>
                  <a:pt x="0" y="33"/>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3" name="Freeform 29"/>
          <p:cNvSpPr/>
          <p:nvPr/>
        </p:nvSpPr>
        <p:spPr>
          <a:xfrm>
            <a:off x="5661000" y="3695760"/>
            <a:ext cx="3273480" cy="181080"/>
          </a:xfrm>
          <a:custGeom>
            <a:avLst/>
            <a:gdLst>
              <a:gd name="textAreaLeft" fmla="*/ 0 w 3273480"/>
              <a:gd name="textAreaRight" fmla="*/ 3273840 w 3273480"/>
              <a:gd name="textAreaTop" fmla="*/ 0 h 181080"/>
              <a:gd name="textAreaBottom" fmla="*/ 181440 h 181080"/>
            </a:gdLst>
            <a:ahLst/>
            <a:rect l="textAreaLeft" t="textAreaTop" r="textAreaRight" b="textAreaBottom"/>
            <a:pathLst>
              <a:path w="2023" h="146">
                <a:moveTo>
                  <a:pt x="0" y="0"/>
                </a:moveTo>
                <a:lnTo>
                  <a:pt x="703" y="6"/>
                </a:lnTo>
                <a:lnTo>
                  <a:pt x="1007" y="44"/>
                </a:lnTo>
                <a:lnTo>
                  <a:pt x="1235" y="84"/>
                </a:lnTo>
                <a:lnTo>
                  <a:pt x="1464" y="61"/>
                </a:lnTo>
                <a:lnTo>
                  <a:pt x="1880" y="55"/>
                </a:lnTo>
                <a:lnTo>
                  <a:pt x="2021" y="44"/>
                </a:lnTo>
                <a:lnTo>
                  <a:pt x="2023" y="146"/>
                </a:lnTo>
                <a:lnTo>
                  <a:pt x="1891" y="146"/>
                </a:lnTo>
                <a:lnTo>
                  <a:pt x="1468" y="134"/>
                </a:lnTo>
                <a:lnTo>
                  <a:pt x="1253" y="123"/>
                </a:lnTo>
                <a:lnTo>
                  <a:pt x="873" y="54"/>
                </a:lnTo>
                <a:lnTo>
                  <a:pt x="759" y="54"/>
                </a:lnTo>
                <a:lnTo>
                  <a:pt x="246" y="19"/>
                </a:lnTo>
                <a:lnTo>
                  <a:pt x="0" y="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4" name="Freeform 30"/>
          <p:cNvSpPr/>
          <p:nvPr/>
        </p:nvSpPr>
        <p:spPr>
          <a:xfrm>
            <a:off x="3132000" y="3630600"/>
            <a:ext cx="4997520" cy="299880"/>
          </a:xfrm>
          <a:custGeom>
            <a:avLst/>
            <a:gdLst>
              <a:gd name="textAreaLeft" fmla="*/ 0 w 4997520"/>
              <a:gd name="textAreaRight" fmla="*/ 4997880 w 4997520"/>
              <a:gd name="textAreaTop" fmla="*/ 0 h 299880"/>
              <a:gd name="textAreaBottom" fmla="*/ 300240 h 299880"/>
            </a:gdLst>
            <a:ahLst/>
            <a:rect l="textAreaLeft" t="textAreaTop" r="textAreaRight" b="textAreaBottom"/>
            <a:pathLst>
              <a:path w="3088" h="250">
                <a:moveTo>
                  <a:pt x="0" y="0"/>
                </a:moveTo>
                <a:lnTo>
                  <a:pt x="274" y="27"/>
                </a:lnTo>
                <a:lnTo>
                  <a:pt x="643" y="39"/>
                </a:lnTo>
                <a:lnTo>
                  <a:pt x="948" y="20"/>
                </a:lnTo>
                <a:lnTo>
                  <a:pt x="1124" y="42"/>
                </a:lnTo>
                <a:lnTo>
                  <a:pt x="1459" y="102"/>
                </a:lnTo>
                <a:lnTo>
                  <a:pt x="1737" y="133"/>
                </a:lnTo>
                <a:lnTo>
                  <a:pt x="2314" y="151"/>
                </a:lnTo>
                <a:lnTo>
                  <a:pt x="2480" y="176"/>
                </a:lnTo>
                <a:lnTo>
                  <a:pt x="2800" y="214"/>
                </a:lnTo>
                <a:lnTo>
                  <a:pt x="3088" y="221"/>
                </a:lnTo>
                <a:lnTo>
                  <a:pt x="2581" y="250"/>
                </a:lnTo>
                <a:lnTo>
                  <a:pt x="2294" y="198"/>
                </a:lnTo>
                <a:lnTo>
                  <a:pt x="2021" y="184"/>
                </a:lnTo>
                <a:lnTo>
                  <a:pt x="1737" y="171"/>
                </a:lnTo>
                <a:lnTo>
                  <a:pt x="1332" y="118"/>
                </a:lnTo>
                <a:lnTo>
                  <a:pt x="1111" y="83"/>
                </a:lnTo>
                <a:lnTo>
                  <a:pt x="788" y="84"/>
                </a:lnTo>
                <a:lnTo>
                  <a:pt x="680" y="77"/>
                </a:lnTo>
                <a:lnTo>
                  <a:pt x="330" y="73"/>
                </a:lnTo>
                <a:lnTo>
                  <a:pt x="116" y="39"/>
                </a:lnTo>
                <a:lnTo>
                  <a:pt x="15" y="0"/>
                </a:lnTo>
                <a:lnTo>
                  <a:pt x="0" y="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5" name="Freeform 31"/>
          <p:cNvSpPr/>
          <p:nvPr/>
        </p:nvSpPr>
        <p:spPr>
          <a:xfrm>
            <a:off x="5257800" y="3529080"/>
            <a:ext cx="3676680" cy="141120"/>
          </a:xfrm>
          <a:custGeom>
            <a:avLst/>
            <a:gdLst>
              <a:gd name="textAreaLeft" fmla="*/ 0 w 3676680"/>
              <a:gd name="textAreaRight" fmla="*/ 3676680 w 3676680"/>
              <a:gd name="textAreaTop" fmla="*/ 0 h 141120"/>
              <a:gd name="textAreaBottom" fmla="*/ 141480 h 141120"/>
            </a:gdLst>
            <a:ahLst/>
            <a:rect l="textAreaLeft" t="textAreaTop" r="textAreaRight" b="textAreaBottom"/>
            <a:pathLst>
              <a:path w="2273" h="116">
                <a:moveTo>
                  <a:pt x="0" y="14"/>
                </a:moveTo>
                <a:lnTo>
                  <a:pt x="365" y="0"/>
                </a:lnTo>
                <a:lnTo>
                  <a:pt x="420" y="7"/>
                </a:lnTo>
                <a:lnTo>
                  <a:pt x="573" y="24"/>
                </a:lnTo>
                <a:lnTo>
                  <a:pt x="982" y="30"/>
                </a:lnTo>
                <a:lnTo>
                  <a:pt x="1327" y="65"/>
                </a:lnTo>
                <a:lnTo>
                  <a:pt x="1717" y="65"/>
                </a:lnTo>
                <a:lnTo>
                  <a:pt x="2273" y="57"/>
                </a:lnTo>
                <a:lnTo>
                  <a:pt x="1713" y="116"/>
                </a:lnTo>
                <a:lnTo>
                  <a:pt x="1327" y="104"/>
                </a:lnTo>
                <a:lnTo>
                  <a:pt x="1135" y="93"/>
                </a:lnTo>
                <a:lnTo>
                  <a:pt x="975" y="70"/>
                </a:lnTo>
                <a:lnTo>
                  <a:pt x="580" y="52"/>
                </a:lnTo>
                <a:lnTo>
                  <a:pt x="411" y="44"/>
                </a:lnTo>
                <a:lnTo>
                  <a:pt x="394" y="24"/>
                </a:lnTo>
                <a:lnTo>
                  <a:pt x="106" y="26"/>
                </a:lnTo>
                <a:lnTo>
                  <a:pt x="4" y="14"/>
                </a:lnTo>
                <a:lnTo>
                  <a:pt x="0" y="14"/>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6" name="Freeform 32"/>
          <p:cNvSpPr/>
          <p:nvPr/>
        </p:nvSpPr>
        <p:spPr>
          <a:xfrm>
            <a:off x="2436840" y="3424320"/>
            <a:ext cx="2784600" cy="115920"/>
          </a:xfrm>
          <a:custGeom>
            <a:avLst/>
            <a:gdLst>
              <a:gd name="textAreaLeft" fmla="*/ 0 w 2784600"/>
              <a:gd name="textAreaRight" fmla="*/ 2784960 w 2784600"/>
              <a:gd name="textAreaTop" fmla="*/ 0 h 115920"/>
              <a:gd name="textAreaBottom" fmla="*/ 116280 h 115920"/>
            </a:gdLst>
            <a:ahLst/>
            <a:rect l="textAreaLeft" t="textAreaTop" r="textAreaRight" b="textAreaBottom"/>
            <a:pathLst>
              <a:path w="1722" h="94">
                <a:moveTo>
                  <a:pt x="21" y="23"/>
                </a:moveTo>
                <a:lnTo>
                  <a:pt x="203" y="0"/>
                </a:lnTo>
                <a:lnTo>
                  <a:pt x="442" y="18"/>
                </a:lnTo>
                <a:lnTo>
                  <a:pt x="663" y="45"/>
                </a:lnTo>
                <a:lnTo>
                  <a:pt x="1036" y="53"/>
                </a:lnTo>
                <a:lnTo>
                  <a:pt x="1368" y="59"/>
                </a:lnTo>
                <a:lnTo>
                  <a:pt x="1553" y="59"/>
                </a:lnTo>
                <a:lnTo>
                  <a:pt x="1722" y="64"/>
                </a:lnTo>
                <a:lnTo>
                  <a:pt x="1560" y="94"/>
                </a:lnTo>
                <a:lnTo>
                  <a:pt x="1365" y="87"/>
                </a:lnTo>
                <a:lnTo>
                  <a:pt x="1127" y="87"/>
                </a:lnTo>
                <a:lnTo>
                  <a:pt x="996" y="82"/>
                </a:lnTo>
                <a:lnTo>
                  <a:pt x="680" y="87"/>
                </a:lnTo>
                <a:lnTo>
                  <a:pt x="431" y="53"/>
                </a:lnTo>
                <a:lnTo>
                  <a:pt x="99" y="59"/>
                </a:lnTo>
                <a:lnTo>
                  <a:pt x="0" y="59"/>
                </a:lnTo>
                <a:lnTo>
                  <a:pt x="24" y="23"/>
                </a:lnTo>
                <a:lnTo>
                  <a:pt x="21" y="23"/>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7" name="Freeform 33"/>
          <p:cNvSpPr/>
          <p:nvPr/>
        </p:nvSpPr>
        <p:spPr>
          <a:xfrm>
            <a:off x="2557440" y="3308400"/>
            <a:ext cx="6026040" cy="253800"/>
          </a:xfrm>
          <a:custGeom>
            <a:avLst/>
            <a:gdLst>
              <a:gd name="textAreaLeft" fmla="*/ 0 w 6026040"/>
              <a:gd name="textAreaRight" fmla="*/ 6026400 w 6026040"/>
              <a:gd name="textAreaTop" fmla="*/ 0 h 253800"/>
              <a:gd name="textAreaBottom" fmla="*/ 254160 h 253800"/>
            </a:gdLst>
            <a:ahLst/>
            <a:rect l="textAreaLeft" t="textAreaTop" r="textAreaRight" b="textAreaBottom"/>
            <a:pathLst>
              <a:path w="3726" h="208">
                <a:moveTo>
                  <a:pt x="320" y="11"/>
                </a:moveTo>
                <a:lnTo>
                  <a:pt x="324" y="16"/>
                </a:lnTo>
                <a:lnTo>
                  <a:pt x="88" y="0"/>
                </a:lnTo>
                <a:lnTo>
                  <a:pt x="0" y="40"/>
                </a:lnTo>
                <a:lnTo>
                  <a:pt x="419" y="51"/>
                </a:lnTo>
                <a:lnTo>
                  <a:pt x="570" y="85"/>
                </a:lnTo>
                <a:lnTo>
                  <a:pt x="724" y="85"/>
                </a:lnTo>
                <a:lnTo>
                  <a:pt x="930" y="95"/>
                </a:lnTo>
                <a:lnTo>
                  <a:pt x="1265" y="115"/>
                </a:lnTo>
                <a:lnTo>
                  <a:pt x="1408" y="115"/>
                </a:lnTo>
                <a:lnTo>
                  <a:pt x="1866" y="136"/>
                </a:lnTo>
                <a:lnTo>
                  <a:pt x="2036" y="125"/>
                </a:lnTo>
                <a:lnTo>
                  <a:pt x="2401" y="134"/>
                </a:lnTo>
                <a:lnTo>
                  <a:pt x="2649" y="151"/>
                </a:lnTo>
                <a:lnTo>
                  <a:pt x="2813" y="174"/>
                </a:lnTo>
                <a:lnTo>
                  <a:pt x="3073" y="208"/>
                </a:lnTo>
                <a:lnTo>
                  <a:pt x="3723" y="205"/>
                </a:lnTo>
                <a:lnTo>
                  <a:pt x="3726" y="184"/>
                </a:lnTo>
                <a:lnTo>
                  <a:pt x="2926" y="136"/>
                </a:lnTo>
                <a:lnTo>
                  <a:pt x="2662" y="92"/>
                </a:lnTo>
                <a:lnTo>
                  <a:pt x="2419" y="86"/>
                </a:lnTo>
                <a:lnTo>
                  <a:pt x="2249" y="81"/>
                </a:lnTo>
                <a:lnTo>
                  <a:pt x="1977" y="75"/>
                </a:lnTo>
                <a:lnTo>
                  <a:pt x="1567" y="70"/>
                </a:lnTo>
                <a:lnTo>
                  <a:pt x="1220" y="51"/>
                </a:lnTo>
                <a:lnTo>
                  <a:pt x="984" y="45"/>
                </a:lnTo>
                <a:lnTo>
                  <a:pt x="744" y="29"/>
                </a:lnTo>
                <a:lnTo>
                  <a:pt x="589" y="34"/>
                </a:lnTo>
                <a:lnTo>
                  <a:pt x="419" y="0"/>
                </a:lnTo>
                <a:lnTo>
                  <a:pt x="331" y="25"/>
                </a:lnTo>
                <a:lnTo>
                  <a:pt x="320" y="11"/>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8" name="Freeform 34"/>
          <p:cNvSpPr/>
          <p:nvPr/>
        </p:nvSpPr>
        <p:spPr>
          <a:xfrm>
            <a:off x="3254400" y="3189240"/>
            <a:ext cx="5668920" cy="235080"/>
          </a:xfrm>
          <a:custGeom>
            <a:avLst/>
            <a:gdLst>
              <a:gd name="textAreaLeft" fmla="*/ 0 w 5668920"/>
              <a:gd name="textAreaRight" fmla="*/ 5668920 w 5668920"/>
              <a:gd name="textAreaTop" fmla="*/ 0 h 235080"/>
              <a:gd name="textAreaBottom" fmla="*/ 235440 h 235080"/>
            </a:gdLst>
            <a:ahLst/>
            <a:rect l="textAreaLeft" t="textAreaTop" r="textAreaRight" b="textAreaBottom"/>
            <a:pathLst>
              <a:path w="3505" h="194">
                <a:moveTo>
                  <a:pt x="187" y="0"/>
                </a:moveTo>
                <a:lnTo>
                  <a:pt x="103" y="0"/>
                </a:lnTo>
                <a:lnTo>
                  <a:pt x="46" y="30"/>
                </a:lnTo>
                <a:lnTo>
                  <a:pt x="0" y="79"/>
                </a:lnTo>
                <a:lnTo>
                  <a:pt x="158" y="57"/>
                </a:lnTo>
                <a:lnTo>
                  <a:pt x="351" y="72"/>
                </a:lnTo>
                <a:lnTo>
                  <a:pt x="505" y="72"/>
                </a:lnTo>
                <a:lnTo>
                  <a:pt x="711" y="82"/>
                </a:lnTo>
                <a:lnTo>
                  <a:pt x="1046" y="102"/>
                </a:lnTo>
                <a:lnTo>
                  <a:pt x="1187" y="102"/>
                </a:lnTo>
                <a:lnTo>
                  <a:pt x="1634" y="110"/>
                </a:lnTo>
                <a:lnTo>
                  <a:pt x="1818" y="112"/>
                </a:lnTo>
                <a:lnTo>
                  <a:pt x="2154" y="131"/>
                </a:lnTo>
                <a:lnTo>
                  <a:pt x="2358" y="152"/>
                </a:lnTo>
                <a:lnTo>
                  <a:pt x="2600" y="183"/>
                </a:lnTo>
                <a:lnTo>
                  <a:pt x="2854" y="194"/>
                </a:lnTo>
                <a:lnTo>
                  <a:pt x="3502" y="192"/>
                </a:lnTo>
                <a:lnTo>
                  <a:pt x="3505" y="174"/>
                </a:lnTo>
                <a:lnTo>
                  <a:pt x="2706" y="122"/>
                </a:lnTo>
                <a:lnTo>
                  <a:pt x="2430" y="112"/>
                </a:lnTo>
                <a:lnTo>
                  <a:pt x="2250" y="89"/>
                </a:lnTo>
                <a:lnTo>
                  <a:pt x="2005" y="72"/>
                </a:lnTo>
                <a:lnTo>
                  <a:pt x="1758" y="60"/>
                </a:lnTo>
                <a:lnTo>
                  <a:pt x="1400" y="49"/>
                </a:lnTo>
                <a:lnTo>
                  <a:pt x="1048" y="44"/>
                </a:lnTo>
                <a:lnTo>
                  <a:pt x="763" y="30"/>
                </a:lnTo>
                <a:lnTo>
                  <a:pt x="581" y="30"/>
                </a:lnTo>
                <a:lnTo>
                  <a:pt x="368" y="22"/>
                </a:lnTo>
                <a:lnTo>
                  <a:pt x="198" y="10"/>
                </a:lnTo>
                <a:lnTo>
                  <a:pt x="111" y="10"/>
                </a:lnTo>
                <a:lnTo>
                  <a:pt x="187" y="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9" name="Freeform 35"/>
          <p:cNvSpPr/>
          <p:nvPr/>
        </p:nvSpPr>
        <p:spPr>
          <a:xfrm>
            <a:off x="4508640" y="3116160"/>
            <a:ext cx="4419360" cy="233640"/>
          </a:xfrm>
          <a:custGeom>
            <a:avLst/>
            <a:gdLst>
              <a:gd name="textAreaLeft" fmla="*/ 0 w 4419360"/>
              <a:gd name="textAreaRight" fmla="*/ 4419720 w 4419360"/>
              <a:gd name="textAreaTop" fmla="*/ 0 h 233640"/>
              <a:gd name="textAreaBottom" fmla="*/ 234000 h 233640"/>
            </a:gdLst>
            <a:ahLst/>
            <a:rect l="textAreaLeft" t="textAreaTop" r="textAreaRight" b="textAreaBottom"/>
            <a:pathLst>
              <a:path w="2731" h="196">
                <a:moveTo>
                  <a:pt x="95" y="0"/>
                </a:moveTo>
                <a:lnTo>
                  <a:pt x="649" y="10"/>
                </a:lnTo>
                <a:lnTo>
                  <a:pt x="1026" y="10"/>
                </a:lnTo>
                <a:lnTo>
                  <a:pt x="1317" y="55"/>
                </a:lnTo>
                <a:lnTo>
                  <a:pt x="1640" y="88"/>
                </a:lnTo>
                <a:lnTo>
                  <a:pt x="2731" y="97"/>
                </a:lnTo>
                <a:lnTo>
                  <a:pt x="2726" y="196"/>
                </a:lnTo>
                <a:lnTo>
                  <a:pt x="1584" y="120"/>
                </a:lnTo>
                <a:lnTo>
                  <a:pt x="1389" y="104"/>
                </a:lnTo>
                <a:lnTo>
                  <a:pt x="1037" y="73"/>
                </a:lnTo>
                <a:lnTo>
                  <a:pt x="637" y="58"/>
                </a:lnTo>
                <a:lnTo>
                  <a:pt x="280" y="58"/>
                </a:lnTo>
                <a:lnTo>
                  <a:pt x="85" y="45"/>
                </a:lnTo>
                <a:lnTo>
                  <a:pt x="0" y="34"/>
                </a:lnTo>
                <a:lnTo>
                  <a:pt x="108" y="13"/>
                </a:lnTo>
                <a:lnTo>
                  <a:pt x="95" y="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0" name="Rectangle 36"/>
          <p:cNvSpPr/>
          <p:nvPr/>
        </p:nvSpPr>
        <p:spPr>
          <a:xfrm>
            <a:off x="457200" y="1905120"/>
            <a:ext cx="8481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600" spc="-1" strike="noStrike">
                <a:solidFill>
                  <a:srgbClr val="000000"/>
                </a:solidFill>
                <a:latin typeface="Arial"/>
              </a:rPr>
              <a:t>SA -97A</a:t>
            </a:r>
            <a:endParaRPr b="0" lang="en-US" sz="1600" spc="-1" strike="noStrike">
              <a:solidFill>
                <a:srgbClr val="000000"/>
              </a:solidFill>
              <a:latin typeface="Times New Roman"/>
            </a:endParaRPr>
          </a:p>
        </p:txBody>
      </p:sp>
      <p:sp>
        <p:nvSpPr>
          <p:cNvPr id="2321" name="Rectangle 37"/>
          <p:cNvSpPr/>
          <p:nvPr/>
        </p:nvSpPr>
        <p:spPr>
          <a:xfrm>
            <a:off x="1353960" y="2046240"/>
            <a:ext cx="8146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600" spc="-1" strike="noStrike">
                <a:solidFill>
                  <a:srgbClr val="000000"/>
                </a:solidFill>
                <a:latin typeface="Arial"/>
              </a:rPr>
              <a:t>SA -251</a:t>
            </a:r>
            <a:endParaRPr b="0" lang="en-US" sz="1600" spc="-1" strike="noStrike">
              <a:solidFill>
                <a:srgbClr val="000000"/>
              </a:solidFill>
              <a:latin typeface="Times New Roman"/>
            </a:endParaRPr>
          </a:p>
        </p:txBody>
      </p:sp>
      <p:sp>
        <p:nvSpPr>
          <p:cNvPr id="2322" name="Rectangle 38"/>
          <p:cNvSpPr/>
          <p:nvPr/>
        </p:nvSpPr>
        <p:spPr>
          <a:xfrm>
            <a:off x="2438280" y="1905120"/>
            <a:ext cx="8146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600" spc="-1" strike="noStrike">
                <a:solidFill>
                  <a:srgbClr val="000000"/>
                </a:solidFill>
                <a:latin typeface="Arial"/>
              </a:rPr>
              <a:t>SA -356</a:t>
            </a:r>
            <a:endParaRPr b="0" lang="en-US" sz="1600" spc="-1" strike="noStrike">
              <a:solidFill>
                <a:srgbClr val="000000"/>
              </a:solidFill>
              <a:latin typeface="Times New Roman"/>
            </a:endParaRPr>
          </a:p>
        </p:txBody>
      </p:sp>
      <p:sp>
        <p:nvSpPr>
          <p:cNvPr id="2323" name="Rectangle 39"/>
          <p:cNvSpPr/>
          <p:nvPr/>
        </p:nvSpPr>
        <p:spPr>
          <a:xfrm>
            <a:off x="3380040" y="2046240"/>
            <a:ext cx="688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A -71</a:t>
            </a:r>
            <a:endParaRPr b="0" lang="en-US" sz="1600" spc="-1" strike="noStrike">
              <a:solidFill>
                <a:srgbClr val="000000"/>
              </a:solidFill>
              <a:latin typeface="Times New Roman"/>
            </a:endParaRPr>
          </a:p>
        </p:txBody>
      </p:sp>
      <p:sp>
        <p:nvSpPr>
          <p:cNvPr id="2324" name="Rectangle 40"/>
          <p:cNvSpPr/>
          <p:nvPr/>
        </p:nvSpPr>
        <p:spPr>
          <a:xfrm>
            <a:off x="4191480" y="1981080"/>
            <a:ext cx="801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A -344</a:t>
            </a:r>
            <a:endParaRPr b="0" lang="en-US" sz="1600" spc="-1" strike="noStrike">
              <a:solidFill>
                <a:srgbClr val="000000"/>
              </a:solidFill>
              <a:latin typeface="Times New Roman"/>
            </a:endParaRPr>
          </a:p>
        </p:txBody>
      </p:sp>
      <p:sp>
        <p:nvSpPr>
          <p:cNvPr id="2325" name="Rectangle 41"/>
          <p:cNvSpPr/>
          <p:nvPr/>
        </p:nvSpPr>
        <p:spPr>
          <a:xfrm>
            <a:off x="5145120" y="2046240"/>
            <a:ext cx="8146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600" spc="-1" strike="noStrike">
                <a:solidFill>
                  <a:srgbClr val="000000"/>
                </a:solidFill>
                <a:latin typeface="Arial"/>
              </a:rPr>
              <a:t>SA -371</a:t>
            </a:r>
            <a:endParaRPr b="0" lang="en-US" sz="1600" spc="-1" strike="noStrike">
              <a:solidFill>
                <a:srgbClr val="000000"/>
              </a:solidFill>
              <a:latin typeface="Times New Roman"/>
            </a:endParaRPr>
          </a:p>
        </p:txBody>
      </p:sp>
      <p:sp>
        <p:nvSpPr>
          <p:cNvPr id="2326" name="Rectangle 42"/>
          <p:cNvSpPr/>
          <p:nvPr/>
        </p:nvSpPr>
        <p:spPr>
          <a:xfrm>
            <a:off x="5943600" y="1905120"/>
            <a:ext cx="8146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600" spc="-1" strike="noStrike">
                <a:solidFill>
                  <a:srgbClr val="000000"/>
                </a:solidFill>
                <a:latin typeface="Arial"/>
              </a:rPr>
              <a:t>SA -348</a:t>
            </a:r>
            <a:endParaRPr b="0" lang="en-US" sz="1600" spc="-1" strike="noStrike">
              <a:solidFill>
                <a:srgbClr val="000000"/>
              </a:solidFill>
              <a:latin typeface="Times New Roman"/>
            </a:endParaRPr>
          </a:p>
        </p:txBody>
      </p:sp>
      <p:sp>
        <p:nvSpPr>
          <p:cNvPr id="2327" name="Rectangle 43"/>
          <p:cNvSpPr/>
          <p:nvPr/>
        </p:nvSpPr>
        <p:spPr>
          <a:xfrm>
            <a:off x="6865920" y="2046240"/>
            <a:ext cx="8146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600" spc="-1" strike="noStrike">
                <a:solidFill>
                  <a:srgbClr val="000000"/>
                </a:solidFill>
                <a:latin typeface="Arial"/>
              </a:rPr>
              <a:t>SA -346</a:t>
            </a:r>
            <a:endParaRPr b="0" lang="en-US" sz="1600" spc="-1" strike="noStrike">
              <a:solidFill>
                <a:srgbClr val="000000"/>
              </a:solidFill>
              <a:latin typeface="Times New Roman"/>
            </a:endParaRPr>
          </a:p>
        </p:txBody>
      </p:sp>
      <p:sp>
        <p:nvSpPr>
          <p:cNvPr id="2328" name="Rectangle 44"/>
          <p:cNvSpPr/>
          <p:nvPr/>
        </p:nvSpPr>
        <p:spPr>
          <a:xfrm>
            <a:off x="7848720" y="1905120"/>
            <a:ext cx="7020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600" spc="-1" strike="noStrike">
                <a:solidFill>
                  <a:srgbClr val="000000"/>
                </a:solidFill>
                <a:latin typeface="Arial"/>
              </a:rPr>
              <a:t>SA -37</a:t>
            </a:r>
            <a:endParaRPr b="0" lang="en-US" sz="1600" spc="-1" strike="noStrike">
              <a:solidFill>
                <a:srgbClr val="000000"/>
              </a:solidFill>
              <a:latin typeface="Times New Roman"/>
            </a:endParaRPr>
          </a:p>
        </p:txBody>
      </p:sp>
      <p:sp>
        <p:nvSpPr>
          <p:cNvPr id="2329" name="Freeform 45"/>
          <p:cNvSpPr/>
          <p:nvPr/>
        </p:nvSpPr>
        <p:spPr>
          <a:xfrm>
            <a:off x="5724360" y="5202360"/>
            <a:ext cx="3198960" cy="1299960"/>
          </a:xfrm>
          <a:custGeom>
            <a:avLst/>
            <a:gdLst>
              <a:gd name="textAreaLeft" fmla="*/ 0 w 3198960"/>
              <a:gd name="textAreaRight" fmla="*/ 3199320 w 3198960"/>
              <a:gd name="textAreaTop" fmla="*/ 0 h 1299960"/>
              <a:gd name="textAreaBottom" fmla="*/ 1300320 h 1299960"/>
            </a:gdLst>
            <a:ahLst/>
            <a:rect l="textAreaLeft" t="textAreaTop" r="textAreaRight" b="textAreaBottom"/>
            <a:pathLst>
              <a:path w="1976" h="1070">
                <a:moveTo>
                  <a:pt x="1207" y="0"/>
                </a:moveTo>
                <a:lnTo>
                  <a:pt x="1807" y="10"/>
                </a:lnTo>
                <a:lnTo>
                  <a:pt x="1976" y="0"/>
                </a:lnTo>
                <a:lnTo>
                  <a:pt x="1976" y="968"/>
                </a:lnTo>
                <a:lnTo>
                  <a:pt x="1120" y="1054"/>
                </a:lnTo>
                <a:lnTo>
                  <a:pt x="553" y="1070"/>
                </a:lnTo>
                <a:lnTo>
                  <a:pt x="239" y="1026"/>
                </a:lnTo>
                <a:lnTo>
                  <a:pt x="0" y="382"/>
                </a:lnTo>
                <a:lnTo>
                  <a:pt x="418" y="331"/>
                </a:lnTo>
                <a:lnTo>
                  <a:pt x="627" y="197"/>
                </a:lnTo>
                <a:lnTo>
                  <a:pt x="834" y="29"/>
                </a:lnTo>
                <a:lnTo>
                  <a:pt x="1212" y="0"/>
                </a:lnTo>
                <a:lnTo>
                  <a:pt x="1207" y="0"/>
                </a:lnTo>
                <a:close/>
              </a:path>
            </a:pathLst>
          </a:custGeom>
          <a:solidFill>
            <a:srgbClr val="008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Freeform 46"/>
          <p:cNvSpPr/>
          <p:nvPr/>
        </p:nvSpPr>
        <p:spPr>
          <a:xfrm>
            <a:off x="5086440" y="5019840"/>
            <a:ext cx="3835440" cy="473040"/>
          </a:xfrm>
          <a:custGeom>
            <a:avLst/>
            <a:gdLst>
              <a:gd name="textAreaLeft" fmla="*/ 0 w 3835440"/>
              <a:gd name="textAreaRight" fmla="*/ 3835800 w 3835440"/>
              <a:gd name="textAreaTop" fmla="*/ 0 h 473040"/>
              <a:gd name="textAreaBottom" fmla="*/ 473400 h 473040"/>
            </a:gdLst>
            <a:ahLst/>
            <a:rect l="textAreaLeft" t="textAreaTop" r="textAreaRight" b="textAreaBottom"/>
            <a:pathLst>
              <a:path w="2370" h="386">
                <a:moveTo>
                  <a:pt x="5" y="68"/>
                </a:moveTo>
                <a:lnTo>
                  <a:pt x="100" y="248"/>
                </a:lnTo>
                <a:lnTo>
                  <a:pt x="130" y="328"/>
                </a:lnTo>
                <a:lnTo>
                  <a:pt x="521" y="335"/>
                </a:lnTo>
                <a:lnTo>
                  <a:pt x="748" y="317"/>
                </a:lnTo>
                <a:lnTo>
                  <a:pt x="911" y="241"/>
                </a:lnTo>
                <a:lnTo>
                  <a:pt x="1042" y="144"/>
                </a:lnTo>
                <a:lnTo>
                  <a:pt x="1229" y="68"/>
                </a:lnTo>
                <a:lnTo>
                  <a:pt x="1298" y="59"/>
                </a:lnTo>
                <a:lnTo>
                  <a:pt x="1579" y="10"/>
                </a:lnTo>
                <a:lnTo>
                  <a:pt x="1909" y="0"/>
                </a:lnTo>
                <a:lnTo>
                  <a:pt x="2370" y="0"/>
                </a:lnTo>
                <a:lnTo>
                  <a:pt x="2368" y="29"/>
                </a:lnTo>
                <a:lnTo>
                  <a:pt x="1593" y="40"/>
                </a:lnTo>
                <a:lnTo>
                  <a:pt x="1232" y="94"/>
                </a:lnTo>
                <a:lnTo>
                  <a:pt x="805" y="369"/>
                </a:lnTo>
                <a:lnTo>
                  <a:pt x="532" y="386"/>
                </a:lnTo>
                <a:lnTo>
                  <a:pt x="124" y="361"/>
                </a:lnTo>
                <a:lnTo>
                  <a:pt x="0" y="68"/>
                </a:lnTo>
                <a:lnTo>
                  <a:pt x="5" y="68"/>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Rectangle 47"/>
          <p:cNvSpPr/>
          <p:nvPr/>
        </p:nvSpPr>
        <p:spPr>
          <a:xfrm>
            <a:off x="219240" y="2590920"/>
            <a:ext cx="684000" cy="627120"/>
          </a:xfrm>
          <a:prstGeom prst="rect">
            <a:avLst/>
          </a:prstGeom>
          <a:solidFill>
            <a:srgbClr val="e0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2" name="Rectangle 48"/>
          <p:cNvSpPr/>
          <p:nvPr/>
        </p:nvSpPr>
        <p:spPr>
          <a:xfrm>
            <a:off x="219240" y="3149640"/>
            <a:ext cx="666720" cy="190440"/>
          </a:xfrm>
          <a:prstGeom prst="rect">
            <a:avLst/>
          </a:prstGeom>
          <a:solidFill>
            <a:srgbClr val="82e0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3" name="Rectangle 49"/>
          <p:cNvSpPr/>
          <p:nvPr/>
        </p:nvSpPr>
        <p:spPr>
          <a:xfrm>
            <a:off x="219240" y="3340080"/>
            <a:ext cx="564840" cy="598680"/>
          </a:xfrm>
          <a:prstGeom prst="rect">
            <a:avLst/>
          </a:prstGeom>
          <a:solidFill>
            <a:srgbClr val="0000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4" name="Freeform 50"/>
          <p:cNvSpPr/>
          <p:nvPr/>
        </p:nvSpPr>
        <p:spPr>
          <a:xfrm>
            <a:off x="219240" y="3889440"/>
            <a:ext cx="3957480" cy="2644560"/>
          </a:xfrm>
          <a:custGeom>
            <a:avLst/>
            <a:gdLst>
              <a:gd name="textAreaLeft" fmla="*/ 0 w 3957480"/>
              <a:gd name="textAreaRight" fmla="*/ 3957840 w 3957480"/>
              <a:gd name="textAreaTop" fmla="*/ 0 h 2644560"/>
              <a:gd name="textAreaBottom" fmla="*/ 2644560 h 2644560"/>
            </a:gdLst>
            <a:ahLst/>
            <a:rect l="textAreaLeft" t="textAreaTop" r="textAreaRight" b="textAreaBottom"/>
            <a:pathLst>
              <a:path w="2445" h="2173">
                <a:moveTo>
                  <a:pt x="0" y="1381"/>
                </a:moveTo>
                <a:lnTo>
                  <a:pt x="0" y="10"/>
                </a:lnTo>
                <a:lnTo>
                  <a:pt x="656" y="0"/>
                </a:lnTo>
                <a:lnTo>
                  <a:pt x="708" y="57"/>
                </a:lnTo>
                <a:lnTo>
                  <a:pt x="745" y="299"/>
                </a:lnTo>
                <a:lnTo>
                  <a:pt x="764" y="619"/>
                </a:lnTo>
                <a:lnTo>
                  <a:pt x="784" y="798"/>
                </a:lnTo>
                <a:lnTo>
                  <a:pt x="829" y="954"/>
                </a:lnTo>
                <a:lnTo>
                  <a:pt x="856" y="1040"/>
                </a:lnTo>
                <a:lnTo>
                  <a:pt x="893" y="1107"/>
                </a:lnTo>
                <a:lnTo>
                  <a:pt x="1000" y="1125"/>
                </a:lnTo>
                <a:lnTo>
                  <a:pt x="1262" y="1179"/>
                </a:lnTo>
                <a:lnTo>
                  <a:pt x="1508" y="1239"/>
                </a:lnTo>
                <a:lnTo>
                  <a:pt x="1854" y="1259"/>
                </a:lnTo>
                <a:lnTo>
                  <a:pt x="2445" y="1020"/>
                </a:lnTo>
                <a:lnTo>
                  <a:pt x="2181" y="2173"/>
                </a:lnTo>
                <a:lnTo>
                  <a:pt x="1309" y="2166"/>
                </a:lnTo>
                <a:lnTo>
                  <a:pt x="218" y="1817"/>
                </a:lnTo>
                <a:lnTo>
                  <a:pt x="0" y="1415"/>
                </a:lnTo>
                <a:lnTo>
                  <a:pt x="0" y="1381"/>
                </a:lnTo>
                <a:close/>
              </a:path>
            </a:pathLst>
          </a:custGeom>
          <a:solidFill>
            <a:srgbClr val="008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Freeform 51"/>
          <p:cNvSpPr/>
          <p:nvPr/>
        </p:nvSpPr>
        <p:spPr>
          <a:xfrm>
            <a:off x="3218040" y="5048280"/>
            <a:ext cx="3747960" cy="1341360"/>
          </a:xfrm>
          <a:custGeom>
            <a:avLst/>
            <a:gdLst>
              <a:gd name="textAreaLeft" fmla="*/ 0 w 3747960"/>
              <a:gd name="textAreaRight" fmla="*/ 3748320 w 3747960"/>
              <a:gd name="textAreaTop" fmla="*/ 0 h 1341360"/>
              <a:gd name="textAreaBottom" fmla="*/ 1341720 h 1341360"/>
            </a:gdLst>
            <a:ahLst/>
            <a:rect l="textAreaLeft" t="textAreaTop" r="textAreaRight" b="textAreaBottom"/>
            <a:pathLst>
              <a:path w="1799" h="697">
                <a:moveTo>
                  <a:pt x="857" y="8"/>
                </a:moveTo>
                <a:lnTo>
                  <a:pt x="564" y="0"/>
                </a:lnTo>
                <a:lnTo>
                  <a:pt x="514" y="13"/>
                </a:lnTo>
                <a:lnTo>
                  <a:pt x="456" y="41"/>
                </a:lnTo>
                <a:lnTo>
                  <a:pt x="389" y="65"/>
                </a:lnTo>
                <a:lnTo>
                  <a:pt x="424" y="57"/>
                </a:lnTo>
                <a:lnTo>
                  <a:pt x="326" y="167"/>
                </a:lnTo>
                <a:lnTo>
                  <a:pt x="388" y="129"/>
                </a:lnTo>
                <a:lnTo>
                  <a:pt x="274" y="254"/>
                </a:lnTo>
                <a:lnTo>
                  <a:pt x="321" y="254"/>
                </a:lnTo>
                <a:lnTo>
                  <a:pt x="215" y="350"/>
                </a:lnTo>
                <a:lnTo>
                  <a:pt x="269" y="333"/>
                </a:lnTo>
                <a:lnTo>
                  <a:pt x="152" y="539"/>
                </a:lnTo>
                <a:lnTo>
                  <a:pt x="0" y="675"/>
                </a:lnTo>
                <a:lnTo>
                  <a:pt x="553" y="642"/>
                </a:lnTo>
                <a:lnTo>
                  <a:pt x="987" y="675"/>
                </a:lnTo>
                <a:lnTo>
                  <a:pt x="1344" y="697"/>
                </a:lnTo>
                <a:lnTo>
                  <a:pt x="1463" y="592"/>
                </a:lnTo>
                <a:lnTo>
                  <a:pt x="1602" y="443"/>
                </a:lnTo>
                <a:lnTo>
                  <a:pt x="1799" y="302"/>
                </a:lnTo>
                <a:lnTo>
                  <a:pt x="1391" y="352"/>
                </a:lnTo>
                <a:lnTo>
                  <a:pt x="1564" y="305"/>
                </a:lnTo>
                <a:lnTo>
                  <a:pt x="1283" y="317"/>
                </a:lnTo>
                <a:lnTo>
                  <a:pt x="1145" y="300"/>
                </a:lnTo>
                <a:lnTo>
                  <a:pt x="994" y="279"/>
                </a:lnTo>
                <a:lnTo>
                  <a:pt x="939" y="153"/>
                </a:lnTo>
                <a:lnTo>
                  <a:pt x="976" y="169"/>
                </a:lnTo>
                <a:lnTo>
                  <a:pt x="854" y="28"/>
                </a:lnTo>
                <a:lnTo>
                  <a:pt x="857" y="8"/>
                </a:lnTo>
                <a:close/>
              </a:path>
            </a:pathLst>
          </a:custGeom>
          <a:solidFill>
            <a:srgbClr val="008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Freeform 52"/>
          <p:cNvSpPr/>
          <p:nvPr/>
        </p:nvSpPr>
        <p:spPr>
          <a:xfrm>
            <a:off x="3848040" y="5570640"/>
            <a:ext cx="4638600" cy="563400"/>
          </a:xfrm>
          <a:custGeom>
            <a:avLst/>
            <a:gdLst>
              <a:gd name="textAreaLeft" fmla="*/ 0 w 4638600"/>
              <a:gd name="textAreaRight" fmla="*/ 4638960 w 4638600"/>
              <a:gd name="textAreaTop" fmla="*/ 0 h 563400"/>
              <a:gd name="textAreaBottom" fmla="*/ 563760 h 563400"/>
            </a:gdLst>
            <a:ahLst/>
            <a:rect l="textAreaLeft" t="textAreaTop" r="textAreaRight" b="textAreaBottom"/>
            <a:pathLst>
              <a:path w="2865" h="464">
                <a:moveTo>
                  <a:pt x="962" y="386"/>
                </a:moveTo>
                <a:lnTo>
                  <a:pt x="1064" y="404"/>
                </a:lnTo>
                <a:lnTo>
                  <a:pt x="1293" y="394"/>
                </a:lnTo>
                <a:lnTo>
                  <a:pt x="1418" y="376"/>
                </a:lnTo>
                <a:lnTo>
                  <a:pt x="1552" y="320"/>
                </a:lnTo>
                <a:lnTo>
                  <a:pt x="1692" y="228"/>
                </a:lnTo>
                <a:lnTo>
                  <a:pt x="1804" y="134"/>
                </a:lnTo>
                <a:lnTo>
                  <a:pt x="1864" y="77"/>
                </a:lnTo>
                <a:lnTo>
                  <a:pt x="2009" y="20"/>
                </a:lnTo>
                <a:lnTo>
                  <a:pt x="2137" y="16"/>
                </a:lnTo>
                <a:lnTo>
                  <a:pt x="2359" y="20"/>
                </a:lnTo>
                <a:lnTo>
                  <a:pt x="2567" y="14"/>
                </a:lnTo>
                <a:lnTo>
                  <a:pt x="2865" y="27"/>
                </a:lnTo>
                <a:lnTo>
                  <a:pt x="2359" y="85"/>
                </a:lnTo>
                <a:lnTo>
                  <a:pt x="2225" y="88"/>
                </a:lnTo>
                <a:lnTo>
                  <a:pt x="2013" y="88"/>
                </a:lnTo>
                <a:lnTo>
                  <a:pt x="1938" y="110"/>
                </a:lnTo>
                <a:lnTo>
                  <a:pt x="1854" y="166"/>
                </a:lnTo>
                <a:lnTo>
                  <a:pt x="1786" y="237"/>
                </a:lnTo>
                <a:lnTo>
                  <a:pt x="1601" y="362"/>
                </a:lnTo>
                <a:lnTo>
                  <a:pt x="1427" y="444"/>
                </a:lnTo>
                <a:lnTo>
                  <a:pt x="1206" y="464"/>
                </a:lnTo>
                <a:lnTo>
                  <a:pt x="1004" y="461"/>
                </a:lnTo>
                <a:lnTo>
                  <a:pt x="877" y="405"/>
                </a:lnTo>
                <a:lnTo>
                  <a:pt x="813" y="296"/>
                </a:lnTo>
                <a:lnTo>
                  <a:pt x="758" y="154"/>
                </a:lnTo>
                <a:lnTo>
                  <a:pt x="702" y="64"/>
                </a:lnTo>
                <a:lnTo>
                  <a:pt x="607" y="55"/>
                </a:lnTo>
                <a:lnTo>
                  <a:pt x="319" y="55"/>
                </a:lnTo>
                <a:lnTo>
                  <a:pt x="167" y="55"/>
                </a:lnTo>
                <a:lnTo>
                  <a:pt x="105" y="75"/>
                </a:lnTo>
                <a:lnTo>
                  <a:pt x="0" y="89"/>
                </a:lnTo>
                <a:lnTo>
                  <a:pt x="154" y="14"/>
                </a:lnTo>
                <a:lnTo>
                  <a:pt x="307" y="0"/>
                </a:lnTo>
                <a:lnTo>
                  <a:pt x="620" y="5"/>
                </a:lnTo>
                <a:lnTo>
                  <a:pt x="722" y="6"/>
                </a:lnTo>
                <a:lnTo>
                  <a:pt x="758" y="42"/>
                </a:lnTo>
                <a:lnTo>
                  <a:pt x="794" y="110"/>
                </a:lnTo>
                <a:lnTo>
                  <a:pt x="847" y="253"/>
                </a:lnTo>
                <a:lnTo>
                  <a:pt x="882" y="327"/>
                </a:lnTo>
                <a:lnTo>
                  <a:pt x="915" y="358"/>
                </a:lnTo>
                <a:lnTo>
                  <a:pt x="962" y="386"/>
                </a:lnTo>
                <a:close/>
              </a:path>
            </a:pathLst>
          </a:custGeom>
          <a:solidFill>
            <a:srgbClr val="008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Freeform 53"/>
          <p:cNvSpPr/>
          <p:nvPr/>
        </p:nvSpPr>
        <p:spPr>
          <a:xfrm>
            <a:off x="216000" y="5621400"/>
            <a:ext cx="8700840" cy="977760"/>
          </a:xfrm>
          <a:custGeom>
            <a:avLst/>
            <a:gdLst>
              <a:gd name="textAreaLeft" fmla="*/ 0 w 8700840"/>
              <a:gd name="textAreaRight" fmla="*/ 8701200 w 8700840"/>
              <a:gd name="textAreaTop" fmla="*/ 0 h 977760"/>
              <a:gd name="textAreaBottom" fmla="*/ 978120 h 977760"/>
            </a:gdLst>
            <a:ahLst/>
            <a:rect l="textAreaLeft" t="textAreaTop" r="textAreaRight" b="textAreaBottom"/>
            <a:pathLst>
              <a:path w="5376" h="805">
                <a:moveTo>
                  <a:pt x="233" y="17"/>
                </a:moveTo>
                <a:lnTo>
                  <a:pt x="338" y="31"/>
                </a:lnTo>
                <a:lnTo>
                  <a:pt x="666" y="31"/>
                </a:lnTo>
                <a:lnTo>
                  <a:pt x="743" y="85"/>
                </a:lnTo>
                <a:lnTo>
                  <a:pt x="782" y="190"/>
                </a:lnTo>
                <a:lnTo>
                  <a:pt x="816" y="334"/>
                </a:lnTo>
                <a:lnTo>
                  <a:pt x="900" y="439"/>
                </a:lnTo>
                <a:lnTo>
                  <a:pt x="1236" y="453"/>
                </a:lnTo>
                <a:lnTo>
                  <a:pt x="1315" y="506"/>
                </a:lnTo>
                <a:lnTo>
                  <a:pt x="1419" y="558"/>
                </a:lnTo>
                <a:lnTo>
                  <a:pt x="1460" y="583"/>
                </a:lnTo>
                <a:lnTo>
                  <a:pt x="1820" y="597"/>
                </a:lnTo>
                <a:lnTo>
                  <a:pt x="1937" y="597"/>
                </a:lnTo>
                <a:lnTo>
                  <a:pt x="2095" y="570"/>
                </a:lnTo>
                <a:lnTo>
                  <a:pt x="2369" y="537"/>
                </a:lnTo>
                <a:lnTo>
                  <a:pt x="5376" y="613"/>
                </a:lnTo>
                <a:lnTo>
                  <a:pt x="3919" y="695"/>
                </a:lnTo>
                <a:lnTo>
                  <a:pt x="1547" y="775"/>
                </a:lnTo>
                <a:lnTo>
                  <a:pt x="1070" y="805"/>
                </a:lnTo>
                <a:lnTo>
                  <a:pt x="794" y="785"/>
                </a:lnTo>
                <a:lnTo>
                  <a:pt x="611" y="787"/>
                </a:lnTo>
                <a:lnTo>
                  <a:pt x="361" y="711"/>
                </a:lnTo>
                <a:lnTo>
                  <a:pt x="206" y="672"/>
                </a:lnTo>
                <a:lnTo>
                  <a:pt x="0" y="583"/>
                </a:lnTo>
                <a:lnTo>
                  <a:pt x="2" y="0"/>
                </a:lnTo>
                <a:lnTo>
                  <a:pt x="235" y="25"/>
                </a:lnTo>
                <a:lnTo>
                  <a:pt x="233" y="17"/>
                </a:lnTo>
                <a:close/>
              </a:path>
            </a:pathLst>
          </a:custGeom>
          <a:blipFill rotWithShape="0">
            <a:blip r:embed="rId1"/>
            <a:srcRect/>
            <a:tile tx="0" ty="0" sx="100000" sy="100000" algn="ctr"/>
          </a:blip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Freeform 54"/>
          <p:cNvSpPr/>
          <p:nvPr/>
        </p:nvSpPr>
        <p:spPr>
          <a:xfrm>
            <a:off x="5880240" y="2992320"/>
            <a:ext cx="345960" cy="82800"/>
          </a:xfrm>
          <a:custGeom>
            <a:avLst/>
            <a:gdLst>
              <a:gd name="textAreaLeft" fmla="*/ 0 w 345960"/>
              <a:gd name="textAreaRight" fmla="*/ 346320 w 345960"/>
              <a:gd name="textAreaTop" fmla="*/ 0 h 82800"/>
              <a:gd name="textAreaBottom" fmla="*/ 83160 h 82800"/>
            </a:gdLst>
            <a:ahLst/>
            <a:rect l="textAreaLeft" t="textAreaTop" r="textAreaRight" b="textAreaBottom"/>
            <a:pathLst>
              <a:path w="211" h="68">
                <a:moveTo>
                  <a:pt x="3" y="4"/>
                </a:moveTo>
                <a:lnTo>
                  <a:pt x="0" y="4"/>
                </a:lnTo>
                <a:lnTo>
                  <a:pt x="50" y="4"/>
                </a:lnTo>
                <a:lnTo>
                  <a:pt x="104" y="0"/>
                </a:lnTo>
                <a:lnTo>
                  <a:pt x="131" y="0"/>
                </a:lnTo>
                <a:lnTo>
                  <a:pt x="173" y="0"/>
                </a:lnTo>
                <a:lnTo>
                  <a:pt x="211" y="58"/>
                </a:lnTo>
                <a:lnTo>
                  <a:pt x="159" y="58"/>
                </a:lnTo>
                <a:lnTo>
                  <a:pt x="84" y="67"/>
                </a:lnTo>
                <a:lnTo>
                  <a:pt x="15" y="68"/>
                </a:lnTo>
                <a:lnTo>
                  <a:pt x="6" y="4"/>
                </a:lnTo>
                <a:lnTo>
                  <a:pt x="3" y="4"/>
                </a:lnTo>
                <a:close/>
              </a:path>
            </a:pathLst>
          </a:custGeom>
          <a:solidFill>
            <a:srgbClr val="0000ff"/>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39" name="Rectangle 55"/>
          <p:cNvSpPr/>
          <p:nvPr/>
        </p:nvSpPr>
        <p:spPr>
          <a:xfrm>
            <a:off x="212760" y="2344680"/>
            <a:ext cx="3956040" cy="265320"/>
          </a:xfrm>
          <a:prstGeom prst="rect">
            <a:avLst/>
          </a:prstGeom>
          <a:solidFill>
            <a:srgbClr val="00ff00"/>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0" name="Freeform 56"/>
          <p:cNvSpPr/>
          <p:nvPr/>
        </p:nvSpPr>
        <p:spPr>
          <a:xfrm>
            <a:off x="4052880" y="2589120"/>
            <a:ext cx="349200" cy="439920"/>
          </a:xfrm>
          <a:custGeom>
            <a:avLst/>
            <a:gdLst>
              <a:gd name="textAreaLeft" fmla="*/ 0 w 349200"/>
              <a:gd name="textAreaRight" fmla="*/ 349200 w 349200"/>
              <a:gd name="textAreaTop" fmla="*/ 0 h 439920"/>
              <a:gd name="textAreaBottom" fmla="*/ 440280 h 439920"/>
            </a:gdLst>
            <a:ahLst/>
            <a:rect l="textAreaLeft" t="textAreaTop" r="textAreaRight" b="textAreaBottom"/>
            <a:pathLst>
              <a:path w="215" h="362">
                <a:moveTo>
                  <a:pt x="2" y="0"/>
                </a:moveTo>
                <a:lnTo>
                  <a:pt x="201" y="0"/>
                </a:lnTo>
                <a:lnTo>
                  <a:pt x="215" y="295"/>
                </a:lnTo>
                <a:lnTo>
                  <a:pt x="167" y="302"/>
                </a:lnTo>
                <a:lnTo>
                  <a:pt x="119" y="313"/>
                </a:lnTo>
                <a:lnTo>
                  <a:pt x="84" y="327"/>
                </a:lnTo>
                <a:lnTo>
                  <a:pt x="52" y="347"/>
                </a:lnTo>
                <a:lnTo>
                  <a:pt x="7" y="362"/>
                </a:lnTo>
                <a:lnTo>
                  <a:pt x="0" y="3"/>
                </a:lnTo>
                <a:lnTo>
                  <a:pt x="2" y="0"/>
                </a:lnTo>
                <a:close/>
              </a:path>
            </a:pathLst>
          </a:custGeom>
          <a:solidFill>
            <a:srgbClr val="e0ffff"/>
          </a:solidFill>
          <a:ln w="9360">
            <a:solidFill>
              <a:srgbClr val="e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Freeform 57"/>
          <p:cNvSpPr/>
          <p:nvPr/>
        </p:nvSpPr>
        <p:spPr>
          <a:xfrm>
            <a:off x="5842080" y="2541600"/>
            <a:ext cx="295200" cy="446040"/>
          </a:xfrm>
          <a:custGeom>
            <a:avLst/>
            <a:gdLst>
              <a:gd name="textAreaLeft" fmla="*/ 0 w 295200"/>
              <a:gd name="textAreaRight" fmla="*/ 295560 w 295200"/>
              <a:gd name="textAreaTop" fmla="*/ 0 h 446040"/>
              <a:gd name="textAreaBottom" fmla="*/ 446400 h 446040"/>
            </a:gdLst>
            <a:ahLst/>
            <a:rect l="textAreaLeft" t="textAreaTop" r="textAreaRight" b="textAreaBottom"/>
            <a:pathLst>
              <a:path w="182" h="365">
                <a:moveTo>
                  <a:pt x="0" y="0"/>
                </a:moveTo>
                <a:lnTo>
                  <a:pt x="103" y="8"/>
                </a:lnTo>
                <a:lnTo>
                  <a:pt x="182" y="348"/>
                </a:lnTo>
                <a:lnTo>
                  <a:pt x="140" y="350"/>
                </a:lnTo>
                <a:lnTo>
                  <a:pt x="90" y="365"/>
                </a:lnTo>
                <a:lnTo>
                  <a:pt x="29" y="365"/>
                </a:lnTo>
                <a:lnTo>
                  <a:pt x="19" y="6"/>
                </a:lnTo>
                <a:lnTo>
                  <a:pt x="0" y="0"/>
                </a:lnTo>
                <a:close/>
              </a:path>
            </a:pathLst>
          </a:custGeom>
          <a:solidFill>
            <a:srgbClr val="e0ffff"/>
          </a:solidFill>
          <a:ln w="9360">
            <a:solidFill>
              <a:srgbClr val="e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Freeform 58"/>
          <p:cNvSpPr/>
          <p:nvPr/>
        </p:nvSpPr>
        <p:spPr>
          <a:xfrm>
            <a:off x="4897440" y="2502000"/>
            <a:ext cx="530280" cy="527040"/>
          </a:xfrm>
          <a:custGeom>
            <a:avLst/>
            <a:gdLst>
              <a:gd name="textAreaLeft" fmla="*/ 0 w 530280"/>
              <a:gd name="textAreaRight" fmla="*/ 530640 w 530280"/>
              <a:gd name="textAreaTop" fmla="*/ 0 h 527040"/>
              <a:gd name="textAreaBottom" fmla="*/ 527400 h 527040"/>
            </a:gdLst>
            <a:ahLst/>
            <a:rect l="textAreaLeft" t="textAreaTop" r="textAreaRight" b="textAreaBottom"/>
            <a:pathLst>
              <a:path w="328" h="432">
                <a:moveTo>
                  <a:pt x="2" y="412"/>
                </a:moveTo>
                <a:lnTo>
                  <a:pt x="1" y="412"/>
                </a:lnTo>
                <a:lnTo>
                  <a:pt x="328" y="432"/>
                </a:lnTo>
                <a:lnTo>
                  <a:pt x="294" y="0"/>
                </a:lnTo>
                <a:lnTo>
                  <a:pt x="184" y="50"/>
                </a:lnTo>
                <a:lnTo>
                  <a:pt x="7" y="356"/>
                </a:lnTo>
                <a:lnTo>
                  <a:pt x="0" y="416"/>
                </a:lnTo>
                <a:lnTo>
                  <a:pt x="2" y="412"/>
                </a:lnTo>
                <a:close/>
              </a:path>
            </a:pathLst>
          </a:custGeom>
          <a:solidFill>
            <a:srgbClr val="e0ffff"/>
          </a:solidFill>
          <a:ln w="9360">
            <a:solidFill>
              <a:srgbClr val="e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Rectangle 59"/>
          <p:cNvSpPr/>
          <p:nvPr/>
        </p:nvSpPr>
        <p:spPr>
          <a:xfrm>
            <a:off x="4052880" y="3173400"/>
            <a:ext cx="4875120" cy="58680"/>
          </a:xfrm>
          <a:prstGeom prst="rect">
            <a:avLst/>
          </a:prstGeom>
          <a:solidFill>
            <a:srgbClr val="ffffff"/>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4" name="Rectangle 60"/>
          <p:cNvSpPr/>
          <p:nvPr/>
        </p:nvSpPr>
        <p:spPr>
          <a:xfrm>
            <a:off x="4052880" y="3116160"/>
            <a:ext cx="4875120" cy="57240"/>
          </a:xfrm>
          <a:prstGeom prst="rect">
            <a:avLst/>
          </a:prstGeom>
          <a:solidFill>
            <a:srgbClr val="fffffb"/>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5" name="Rectangle 61"/>
          <p:cNvSpPr/>
          <p:nvPr/>
        </p:nvSpPr>
        <p:spPr>
          <a:xfrm>
            <a:off x="4052880" y="3052800"/>
            <a:ext cx="4875120" cy="63360"/>
          </a:xfrm>
          <a:prstGeom prst="rect">
            <a:avLst/>
          </a:prstGeom>
          <a:solidFill>
            <a:srgbClr val="fffff6"/>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6" name="Rectangle 62"/>
          <p:cNvSpPr/>
          <p:nvPr/>
        </p:nvSpPr>
        <p:spPr>
          <a:xfrm>
            <a:off x="4052880" y="2997360"/>
            <a:ext cx="4875120" cy="55440"/>
          </a:xfrm>
          <a:prstGeom prst="rect">
            <a:avLst/>
          </a:prstGeom>
          <a:solidFill>
            <a:srgbClr val="fffff2"/>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7" name="Rectangle 63"/>
          <p:cNvSpPr/>
          <p:nvPr/>
        </p:nvSpPr>
        <p:spPr>
          <a:xfrm>
            <a:off x="4052880" y="2936880"/>
            <a:ext cx="4875120" cy="60480"/>
          </a:xfrm>
          <a:prstGeom prst="rect">
            <a:avLst/>
          </a:prstGeom>
          <a:solidFill>
            <a:srgbClr val="ffffee"/>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8" name="Rectangle 64"/>
          <p:cNvSpPr/>
          <p:nvPr/>
        </p:nvSpPr>
        <p:spPr>
          <a:xfrm>
            <a:off x="4052880" y="2876400"/>
            <a:ext cx="4875120" cy="60480"/>
          </a:xfrm>
          <a:prstGeom prst="rect">
            <a:avLst/>
          </a:prstGeom>
          <a:solidFill>
            <a:srgbClr val="ffffe9"/>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9" name="Rectangle 65"/>
          <p:cNvSpPr/>
          <p:nvPr/>
        </p:nvSpPr>
        <p:spPr>
          <a:xfrm>
            <a:off x="4052880" y="2819520"/>
            <a:ext cx="4875120" cy="56880"/>
          </a:xfrm>
          <a:prstGeom prst="rect">
            <a:avLst/>
          </a:prstGeom>
          <a:solidFill>
            <a:srgbClr val="ffffe5"/>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0" name="Rectangle 66"/>
          <p:cNvSpPr/>
          <p:nvPr/>
        </p:nvSpPr>
        <p:spPr>
          <a:xfrm>
            <a:off x="4052880" y="2760840"/>
            <a:ext cx="4875120" cy="58680"/>
          </a:xfrm>
          <a:prstGeom prst="rect">
            <a:avLst/>
          </a:prstGeom>
          <a:solidFill>
            <a:srgbClr val="ffffe1"/>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1" name="Rectangle 67"/>
          <p:cNvSpPr/>
          <p:nvPr/>
        </p:nvSpPr>
        <p:spPr>
          <a:xfrm>
            <a:off x="4052880" y="2700360"/>
            <a:ext cx="4875120" cy="60480"/>
          </a:xfrm>
          <a:prstGeom prst="rect">
            <a:avLst/>
          </a:prstGeom>
          <a:solidFill>
            <a:srgbClr val="ffffdc"/>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2" name="Rectangle 68"/>
          <p:cNvSpPr/>
          <p:nvPr/>
        </p:nvSpPr>
        <p:spPr>
          <a:xfrm>
            <a:off x="4052880" y="2639880"/>
            <a:ext cx="4875120" cy="60480"/>
          </a:xfrm>
          <a:prstGeom prst="rect">
            <a:avLst/>
          </a:prstGeom>
          <a:solidFill>
            <a:srgbClr val="ffffd8"/>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3" name="Rectangle 69"/>
          <p:cNvSpPr/>
          <p:nvPr/>
        </p:nvSpPr>
        <p:spPr>
          <a:xfrm>
            <a:off x="4052880" y="2584440"/>
            <a:ext cx="4875120" cy="55440"/>
          </a:xfrm>
          <a:prstGeom prst="rect">
            <a:avLst/>
          </a:prstGeom>
          <a:solidFill>
            <a:srgbClr val="ffffd3"/>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4" name="Rectangle 70"/>
          <p:cNvSpPr/>
          <p:nvPr/>
        </p:nvSpPr>
        <p:spPr>
          <a:xfrm>
            <a:off x="4052880" y="2525760"/>
            <a:ext cx="4875120" cy="58680"/>
          </a:xfrm>
          <a:prstGeom prst="rect">
            <a:avLst/>
          </a:prstGeom>
          <a:solidFill>
            <a:srgbClr val="ffffcf"/>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5" name="Rectangle 71"/>
          <p:cNvSpPr/>
          <p:nvPr/>
        </p:nvSpPr>
        <p:spPr>
          <a:xfrm>
            <a:off x="4052880" y="2465280"/>
            <a:ext cx="4875120" cy="60480"/>
          </a:xfrm>
          <a:prstGeom prst="rect">
            <a:avLst/>
          </a:prstGeom>
          <a:solidFill>
            <a:srgbClr val="ffffcb"/>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6" name="Rectangle 72"/>
          <p:cNvSpPr/>
          <p:nvPr/>
        </p:nvSpPr>
        <p:spPr>
          <a:xfrm>
            <a:off x="4052880" y="2405160"/>
            <a:ext cx="4875120" cy="60120"/>
          </a:xfrm>
          <a:prstGeom prst="rect">
            <a:avLst/>
          </a:prstGeom>
          <a:solidFill>
            <a:srgbClr val="ffffc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7" name="Rectangle 73"/>
          <p:cNvSpPr/>
          <p:nvPr/>
        </p:nvSpPr>
        <p:spPr>
          <a:xfrm>
            <a:off x="4052880" y="2344680"/>
            <a:ext cx="4875120" cy="60480"/>
          </a:xfrm>
          <a:prstGeom prst="rect">
            <a:avLst/>
          </a:prstGeom>
          <a:solidFill>
            <a:srgbClr val="ffffc2"/>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8" name="Freeform 74"/>
          <p:cNvSpPr/>
          <p:nvPr/>
        </p:nvSpPr>
        <p:spPr>
          <a:xfrm>
            <a:off x="4052880" y="2344680"/>
            <a:ext cx="4875120" cy="887400"/>
          </a:xfrm>
          <a:custGeom>
            <a:avLst/>
            <a:gdLst>
              <a:gd name="textAreaLeft" fmla="*/ 0 w 4875120"/>
              <a:gd name="textAreaRight" fmla="*/ 4875480 w 4875120"/>
              <a:gd name="textAreaTop" fmla="*/ 0 h 887400"/>
              <a:gd name="textAreaBottom" fmla="*/ 887760 h 887400"/>
            </a:gdLst>
            <a:ahLst/>
            <a:rect l="textAreaLeft" t="textAreaTop" r="textAreaRight" b="textAreaBottom"/>
            <a:pathLst>
              <a:path w="3012" h="727">
                <a:moveTo>
                  <a:pt x="17" y="0"/>
                </a:moveTo>
                <a:lnTo>
                  <a:pt x="3012" y="13"/>
                </a:lnTo>
                <a:lnTo>
                  <a:pt x="3012" y="727"/>
                </a:lnTo>
                <a:lnTo>
                  <a:pt x="2224" y="727"/>
                </a:lnTo>
                <a:lnTo>
                  <a:pt x="1910" y="712"/>
                </a:lnTo>
                <a:lnTo>
                  <a:pt x="1729" y="650"/>
                </a:lnTo>
                <a:lnTo>
                  <a:pt x="1392" y="658"/>
                </a:lnTo>
                <a:lnTo>
                  <a:pt x="1317" y="606"/>
                </a:lnTo>
                <a:lnTo>
                  <a:pt x="1261" y="472"/>
                </a:lnTo>
                <a:lnTo>
                  <a:pt x="1211" y="278"/>
                </a:lnTo>
                <a:lnTo>
                  <a:pt x="1160" y="222"/>
                </a:lnTo>
                <a:lnTo>
                  <a:pt x="771" y="222"/>
                </a:lnTo>
                <a:lnTo>
                  <a:pt x="737" y="269"/>
                </a:lnTo>
                <a:lnTo>
                  <a:pt x="686" y="375"/>
                </a:lnTo>
                <a:lnTo>
                  <a:pt x="637" y="438"/>
                </a:lnTo>
                <a:lnTo>
                  <a:pt x="519" y="512"/>
                </a:lnTo>
                <a:lnTo>
                  <a:pt x="216" y="489"/>
                </a:lnTo>
                <a:lnTo>
                  <a:pt x="150" y="438"/>
                </a:lnTo>
                <a:lnTo>
                  <a:pt x="107" y="334"/>
                </a:lnTo>
                <a:lnTo>
                  <a:pt x="73" y="217"/>
                </a:lnTo>
                <a:lnTo>
                  <a:pt x="60" y="90"/>
                </a:lnTo>
                <a:lnTo>
                  <a:pt x="43" y="66"/>
                </a:lnTo>
                <a:lnTo>
                  <a:pt x="17" y="66"/>
                </a:lnTo>
                <a:lnTo>
                  <a:pt x="0"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Rectangle 75"/>
          <p:cNvSpPr/>
          <p:nvPr/>
        </p:nvSpPr>
        <p:spPr>
          <a:xfrm>
            <a:off x="4052880" y="3173400"/>
            <a:ext cx="4875120" cy="58680"/>
          </a:xfrm>
          <a:prstGeom prst="rect">
            <a:avLst/>
          </a:prstGeom>
          <a:solidFill>
            <a:srgbClr val="ffffff"/>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0" name="Rectangle 76"/>
          <p:cNvSpPr/>
          <p:nvPr/>
        </p:nvSpPr>
        <p:spPr>
          <a:xfrm>
            <a:off x="4052880" y="3116160"/>
            <a:ext cx="4875120" cy="57240"/>
          </a:xfrm>
          <a:prstGeom prst="rect">
            <a:avLst/>
          </a:prstGeom>
          <a:solidFill>
            <a:srgbClr val="fffffb"/>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1" name="Rectangle 77"/>
          <p:cNvSpPr/>
          <p:nvPr/>
        </p:nvSpPr>
        <p:spPr>
          <a:xfrm>
            <a:off x="4052880" y="3052800"/>
            <a:ext cx="4875120" cy="63360"/>
          </a:xfrm>
          <a:prstGeom prst="rect">
            <a:avLst/>
          </a:prstGeom>
          <a:solidFill>
            <a:srgbClr val="fffff6"/>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2" name="Rectangle 78"/>
          <p:cNvSpPr/>
          <p:nvPr/>
        </p:nvSpPr>
        <p:spPr>
          <a:xfrm>
            <a:off x="4052880" y="2997360"/>
            <a:ext cx="4875120" cy="55440"/>
          </a:xfrm>
          <a:prstGeom prst="rect">
            <a:avLst/>
          </a:prstGeom>
          <a:solidFill>
            <a:srgbClr val="fffff2"/>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3" name="Rectangle 79"/>
          <p:cNvSpPr/>
          <p:nvPr/>
        </p:nvSpPr>
        <p:spPr>
          <a:xfrm>
            <a:off x="4052880" y="2936880"/>
            <a:ext cx="4875120" cy="60480"/>
          </a:xfrm>
          <a:prstGeom prst="rect">
            <a:avLst/>
          </a:prstGeom>
          <a:solidFill>
            <a:srgbClr val="ffffee"/>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4" name="Rectangle 80"/>
          <p:cNvSpPr/>
          <p:nvPr/>
        </p:nvSpPr>
        <p:spPr>
          <a:xfrm>
            <a:off x="4052880" y="2876400"/>
            <a:ext cx="4875120" cy="60480"/>
          </a:xfrm>
          <a:prstGeom prst="rect">
            <a:avLst/>
          </a:prstGeom>
          <a:solidFill>
            <a:srgbClr val="ffffe9"/>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5" name="Rectangle 81"/>
          <p:cNvSpPr/>
          <p:nvPr/>
        </p:nvSpPr>
        <p:spPr>
          <a:xfrm>
            <a:off x="4052880" y="2819520"/>
            <a:ext cx="4875120" cy="56880"/>
          </a:xfrm>
          <a:prstGeom prst="rect">
            <a:avLst/>
          </a:prstGeom>
          <a:solidFill>
            <a:srgbClr val="ffffe5"/>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6" name="Rectangle 82"/>
          <p:cNvSpPr/>
          <p:nvPr/>
        </p:nvSpPr>
        <p:spPr>
          <a:xfrm>
            <a:off x="4052880" y="2760840"/>
            <a:ext cx="4875120" cy="58680"/>
          </a:xfrm>
          <a:prstGeom prst="rect">
            <a:avLst/>
          </a:prstGeom>
          <a:solidFill>
            <a:srgbClr val="ffffe1"/>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7" name="Rectangle 83"/>
          <p:cNvSpPr/>
          <p:nvPr/>
        </p:nvSpPr>
        <p:spPr>
          <a:xfrm>
            <a:off x="4052880" y="2700360"/>
            <a:ext cx="4875120" cy="60480"/>
          </a:xfrm>
          <a:prstGeom prst="rect">
            <a:avLst/>
          </a:prstGeom>
          <a:solidFill>
            <a:srgbClr val="ffffdc"/>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8" name="Rectangle 84"/>
          <p:cNvSpPr/>
          <p:nvPr/>
        </p:nvSpPr>
        <p:spPr>
          <a:xfrm>
            <a:off x="4052880" y="2639880"/>
            <a:ext cx="4875120" cy="60480"/>
          </a:xfrm>
          <a:prstGeom prst="rect">
            <a:avLst/>
          </a:prstGeom>
          <a:solidFill>
            <a:srgbClr val="ffffd8"/>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9" name="Rectangle 85"/>
          <p:cNvSpPr/>
          <p:nvPr/>
        </p:nvSpPr>
        <p:spPr>
          <a:xfrm>
            <a:off x="4052880" y="2584440"/>
            <a:ext cx="4875120" cy="55440"/>
          </a:xfrm>
          <a:prstGeom prst="rect">
            <a:avLst/>
          </a:prstGeom>
          <a:solidFill>
            <a:srgbClr val="ffffd3"/>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0" name="Rectangle 86"/>
          <p:cNvSpPr/>
          <p:nvPr/>
        </p:nvSpPr>
        <p:spPr>
          <a:xfrm>
            <a:off x="4052880" y="2525760"/>
            <a:ext cx="4875120" cy="58680"/>
          </a:xfrm>
          <a:prstGeom prst="rect">
            <a:avLst/>
          </a:prstGeom>
          <a:solidFill>
            <a:srgbClr val="ffffcf"/>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1" name="Rectangle 87"/>
          <p:cNvSpPr/>
          <p:nvPr/>
        </p:nvSpPr>
        <p:spPr>
          <a:xfrm>
            <a:off x="4052880" y="2465280"/>
            <a:ext cx="4875120" cy="60480"/>
          </a:xfrm>
          <a:prstGeom prst="rect">
            <a:avLst/>
          </a:prstGeom>
          <a:solidFill>
            <a:srgbClr val="ffffcb"/>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2" name="Rectangle 88"/>
          <p:cNvSpPr/>
          <p:nvPr/>
        </p:nvSpPr>
        <p:spPr>
          <a:xfrm>
            <a:off x="4052880" y="2405160"/>
            <a:ext cx="4875120" cy="60120"/>
          </a:xfrm>
          <a:prstGeom prst="rect">
            <a:avLst/>
          </a:prstGeom>
          <a:solidFill>
            <a:srgbClr val="ffffc6"/>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3" name="Rectangle 89"/>
          <p:cNvSpPr/>
          <p:nvPr/>
        </p:nvSpPr>
        <p:spPr>
          <a:xfrm>
            <a:off x="4052880" y="2344680"/>
            <a:ext cx="4875120" cy="60480"/>
          </a:xfrm>
          <a:prstGeom prst="rect">
            <a:avLst/>
          </a:prstGeom>
          <a:solidFill>
            <a:srgbClr val="ffffc2"/>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4" name="Freeform 90"/>
          <p:cNvSpPr/>
          <p:nvPr/>
        </p:nvSpPr>
        <p:spPr>
          <a:xfrm>
            <a:off x="4052880" y="2344680"/>
            <a:ext cx="4875120" cy="887400"/>
          </a:xfrm>
          <a:custGeom>
            <a:avLst/>
            <a:gdLst>
              <a:gd name="textAreaLeft" fmla="*/ 0 w 4875120"/>
              <a:gd name="textAreaRight" fmla="*/ 4875480 w 4875120"/>
              <a:gd name="textAreaTop" fmla="*/ 0 h 887400"/>
              <a:gd name="textAreaBottom" fmla="*/ 887760 h 887400"/>
            </a:gdLst>
            <a:ahLst/>
            <a:rect l="textAreaLeft" t="textAreaTop" r="textAreaRight" b="textAreaBottom"/>
            <a:pathLst>
              <a:path w="3012" h="727">
                <a:moveTo>
                  <a:pt x="17" y="0"/>
                </a:moveTo>
                <a:lnTo>
                  <a:pt x="3012" y="13"/>
                </a:lnTo>
                <a:lnTo>
                  <a:pt x="3012" y="727"/>
                </a:lnTo>
                <a:lnTo>
                  <a:pt x="2224" y="727"/>
                </a:lnTo>
                <a:lnTo>
                  <a:pt x="1910" y="712"/>
                </a:lnTo>
                <a:lnTo>
                  <a:pt x="1729" y="650"/>
                </a:lnTo>
                <a:lnTo>
                  <a:pt x="1392" y="658"/>
                </a:lnTo>
                <a:lnTo>
                  <a:pt x="1317" y="606"/>
                </a:lnTo>
                <a:lnTo>
                  <a:pt x="1261" y="472"/>
                </a:lnTo>
                <a:lnTo>
                  <a:pt x="1211" y="278"/>
                </a:lnTo>
                <a:lnTo>
                  <a:pt x="1160" y="222"/>
                </a:lnTo>
                <a:lnTo>
                  <a:pt x="771" y="222"/>
                </a:lnTo>
                <a:lnTo>
                  <a:pt x="737" y="269"/>
                </a:lnTo>
                <a:lnTo>
                  <a:pt x="686" y="375"/>
                </a:lnTo>
                <a:lnTo>
                  <a:pt x="637" y="438"/>
                </a:lnTo>
                <a:lnTo>
                  <a:pt x="519" y="512"/>
                </a:lnTo>
                <a:lnTo>
                  <a:pt x="216" y="489"/>
                </a:lnTo>
                <a:lnTo>
                  <a:pt x="150" y="438"/>
                </a:lnTo>
                <a:lnTo>
                  <a:pt x="107" y="334"/>
                </a:lnTo>
                <a:lnTo>
                  <a:pt x="73" y="217"/>
                </a:lnTo>
                <a:lnTo>
                  <a:pt x="60" y="90"/>
                </a:lnTo>
                <a:lnTo>
                  <a:pt x="43" y="66"/>
                </a:lnTo>
                <a:lnTo>
                  <a:pt x="17" y="66"/>
                </a:lnTo>
                <a:lnTo>
                  <a:pt x="0" y="0"/>
                </a:lnTo>
                <a:lnTo>
                  <a:pt x="17"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Freeform 91"/>
          <p:cNvSpPr/>
          <p:nvPr/>
        </p:nvSpPr>
        <p:spPr>
          <a:xfrm>
            <a:off x="4052880" y="2344680"/>
            <a:ext cx="4875120" cy="887400"/>
          </a:xfrm>
          <a:custGeom>
            <a:avLst/>
            <a:gdLst>
              <a:gd name="textAreaLeft" fmla="*/ 0 w 4875120"/>
              <a:gd name="textAreaRight" fmla="*/ 4875480 w 4875120"/>
              <a:gd name="textAreaTop" fmla="*/ 0 h 887400"/>
              <a:gd name="textAreaBottom" fmla="*/ 887760 h 887400"/>
            </a:gdLst>
            <a:ahLst/>
            <a:rect l="textAreaLeft" t="textAreaTop" r="textAreaRight" b="textAreaBottom"/>
            <a:pathLst>
              <a:path w="3012" h="727">
                <a:moveTo>
                  <a:pt x="17" y="0"/>
                </a:moveTo>
                <a:lnTo>
                  <a:pt x="3012" y="13"/>
                </a:lnTo>
                <a:lnTo>
                  <a:pt x="3012" y="727"/>
                </a:lnTo>
                <a:lnTo>
                  <a:pt x="2224" y="727"/>
                </a:lnTo>
                <a:lnTo>
                  <a:pt x="1910" y="712"/>
                </a:lnTo>
                <a:lnTo>
                  <a:pt x="1729" y="650"/>
                </a:lnTo>
                <a:lnTo>
                  <a:pt x="1392" y="658"/>
                </a:lnTo>
                <a:lnTo>
                  <a:pt x="1317" y="606"/>
                </a:lnTo>
                <a:lnTo>
                  <a:pt x="1261" y="472"/>
                </a:lnTo>
                <a:lnTo>
                  <a:pt x="1211" y="278"/>
                </a:lnTo>
                <a:lnTo>
                  <a:pt x="1160" y="222"/>
                </a:lnTo>
                <a:lnTo>
                  <a:pt x="771" y="222"/>
                </a:lnTo>
                <a:lnTo>
                  <a:pt x="737" y="269"/>
                </a:lnTo>
                <a:lnTo>
                  <a:pt x="686" y="375"/>
                </a:lnTo>
                <a:lnTo>
                  <a:pt x="637" y="438"/>
                </a:lnTo>
                <a:lnTo>
                  <a:pt x="519" y="512"/>
                </a:lnTo>
                <a:lnTo>
                  <a:pt x="216" y="489"/>
                </a:lnTo>
                <a:lnTo>
                  <a:pt x="150" y="438"/>
                </a:lnTo>
                <a:lnTo>
                  <a:pt x="107" y="334"/>
                </a:lnTo>
                <a:lnTo>
                  <a:pt x="73" y="217"/>
                </a:lnTo>
                <a:lnTo>
                  <a:pt x="60" y="90"/>
                </a:lnTo>
                <a:lnTo>
                  <a:pt x="43" y="66"/>
                </a:lnTo>
                <a:lnTo>
                  <a:pt x="17" y="66"/>
                </a:lnTo>
                <a:lnTo>
                  <a:pt x="0" y="0"/>
                </a:lnTo>
                <a:lnTo>
                  <a:pt x="1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Line 92"/>
          <p:cNvSpPr/>
          <p:nvPr/>
        </p:nvSpPr>
        <p:spPr>
          <a:xfrm>
            <a:off x="4083120" y="234468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77" name="Freeform 93"/>
          <p:cNvSpPr/>
          <p:nvPr/>
        </p:nvSpPr>
        <p:spPr>
          <a:xfrm>
            <a:off x="7994520" y="3328920"/>
            <a:ext cx="746280" cy="849240"/>
          </a:xfrm>
          <a:custGeom>
            <a:avLst/>
            <a:gdLst>
              <a:gd name="textAreaLeft" fmla="*/ 0 w 746280"/>
              <a:gd name="textAreaRight" fmla="*/ 746640 w 746280"/>
              <a:gd name="textAreaTop" fmla="*/ 0 h 849240"/>
              <a:gd name="textAreaBottom" fmla="*/ 849600 h 849240"/>
            </a:gdLst>
            <a:ahLst/>
            <a:rect l="textAreaLeft" t="textAreaTop" r="textAreaRight" b="textAreaBottom"/>
            <a:pathLst>
              <a:path w="462" h="696">
                <a:moveTo>
                  <a:pt x="448" y="6"/>
                </a:moveTo>
                <a:lnTo>
                  <a:pt x="441" y="29"/>
                </a:lnTo>
                <a:lnTo>
                  <a:pt x="423" y="29"/>
                </a:lnTo>
                <a:lnTo>
                  <a:pt x="420" y="29"/>
                </a:lnTo>
                <a:lnTo>
                  <a:pt x="420" y="31"/>
                </a:lnTo>
                <a:lnTo>
                  <a:pt x="409" y="46"/>
                </a:lnTo>
                <a:lnTo>
                  <a:pt x="420" y="56"/>
                </a:lnTo>
                <a:lnTo>
                  <a:pt x="402" y="65"/>
                </a:lnTo>
                <a:lnTo>
                  <a:pt x="409" y="69"/>
                </a:lnTo>
                <a:lnTo>
                  <a:pt x="412" y="83"/>
                </a:lnTo>
                <a:lnTo>
                  <a:pt x="408" y="90"/>
                </a:lnTo>
                <a:lnTo>
                  <a:pt x="417" y="101"/>
                </a:lnTo>
                <a:lnTo>
                  <a:pt x="412" y="104"/>
                </a:lnTo>
                <a:lnTo>
                  <a:pt x="425" y="115"/>
                </a:lnTo>
                <a:lnTo>
                  <a:pt x="409" y="120"/>
                </a:lnTo>
                <a:lnTo>
                  <a:pt x="413" y="135"/>
                </a:lnTo>
                <a:lnTo>
                  <a:pt x="404" y="148"/>
                </a:lnTo>
                <a:lnTo>
                  <a:pt x="416" y="158"/>
                </a:lnTo>
                <a:lnTo>
                  <a:pt x="402" y="170"/>
                </a:lnTo>
                <a:lnTo>
                  <a:pt x="416" y="179"/>
                </a:lnTo>
                <a:lnTo>
                  <a:pt x="398" y="188"/>
                </a:lnTo>
                <a:lnTo>
                  <a:pt x="406" y="202"/>
                </a:lnTo>
                <a:lnTo>
                  <a:pt x="412" y="215"/>
                </a:lnTo>
                <a:lnTo>
                  <a:pt x="422" y="233"/>
                </a:lnTo>
                <a:lnTo>
                  <a:pt x="428" y="239"/>
                </a:lnTo>
                <a:lnTo>
                  <a:pt x="416" y="249"/>
                </a:lnTo>
                <a:lnTo>
                  <a:pt x="404" y="266"/>
                </a:lnTo>
                <a:lnTo>
                  <a:pt x="409" y="272"/>
                </a:lnTo>
                <a:lnTo>
                  <a:pt x="406" y="279"/>
                </a:lnTo>
                <a:lnTo>
                  <a:pt x="409" y="284"/>
                </a:lnTo>
                <a:lnTo>
                  <a:pt x="409" y="302"/>
                </a:lnTo>
                <a:lnTo>
                  <a:pt x="412" y="312"/>
                </a:lnTo>
                <a:lnTo>
                  <a:pt x="402" y="322"/>
                </a:lnTo>
                <a:lnTo>
                  <a:pt x="412" y="324"/>
                </a:lnTo>
                <a:lnTo>
                  <a:pt x="408" y="331"/>
                </a:lnTo>
                <a:lnTo>
                  <a:pt x="412" y="337"/>
                </a:lnTo>
                <a:lnTo>
                  <a:pt x="412" y="346"/>
                </a:lnTo>
                <a:lnTo>
                  <a:pt x="428" y="346"/>
                </a:lnTo>
                <a:lnTo>
                  <a:pt x="445" y="354"/>
                </a:lnTo>
                <a:lnTo>
                  <a:pt x="456" y="367"/>
                </a:lnTo>
                <a:lnTo>
                  <a:pt x="448" y="370"/>
                </a:lnTo>
                <a:lnTo>
                  <a:pt x="440" y="370"/>
                </a:lnTo>
                <a:lnTo>
                  <a:pt x="437" y="391"/>
                </a:lnTo>
                <a:lnTo>
                  <a:pt x="441" y="393"/>
                </a:lnTo>
                <a:lnTo>
                  <a:pt x="430" y="393"/>
                </a:lnTo>
                <a:lnTo>
                  <a:pt x="448" y="401"/>
                </a:lnTo>
                <a:lnTo>
                  <a:pt x="425" y="413"/>
                </a:lnTo>
                <a:lnTo>
                  <a:pt x="437" y="417"/>
                </a:lnTo>
                <a:lnTo>
                  <a:pt x="440" y="425"/>
                </a:lnTo>
                <a:lnTo>
                  <a:pt x="437" y="436"/>
                </a:lnTo>
                <a:lnTo>
                  <a:pt x="462" y="442"/>
                </a:lnTo>
                <a:lnTo>
                  <a:pt x="416" y="458"/>
                </a:lnTo>
                <a:lnTo>
                  <a:pt x="416" y="465"/>
                </a:lnTo>
                <a:lnTo>
                  <a:pt x="402" y="465"/>
                </a:lnTo>
                <a:lnTo>
                  <a:pt x="408" y="481"/>
                </a:lnTo>
                <a:lnTo>
                  <a:pt x="425" y="486"/>
                </a:lnTo>
                <a:lnTo>
                  <a:pt x="422" y="489"/>
                </a:lnTo>
                <a:lnTo>
                  <a:pt x="420" y="497"/>
                </a:lnTo>
                <a:lnTo>
                  <a:pt x="428" y="497"/>
                </a:lnTo>
                <a:lnTo>
                  <a:pt x="422" y="511"/>
                </a:lnTo>
                <a:lnTo>
                  <a:pt x="430" y="511"/>
                </a:lnTo>
                <a:lnTo>
                  <a:pt x="409" y="527"/>
                </a:lnTo>
                <a:lnTo>
                  <a:pt x="423" y="535"/>
                </a:lnTo>
                <a:lnTo>
                  <a:pt x="417" y="539"/>
                </a:lnTo>
                <a:lnTo>
                  <a:pt x="434" y="551"/>
                </a:lnTo>
                <a:lnTo>
                  <a:pt x="425" y="556"/>
                </a:lnTo>
                <a:lnTo>
                  <a:pt x="441" y="564"/>
                </a:lnTo>
                <a:lnTo>
                  <a:pt x="448" y="564"/>
                </a:lnTo>
                <a:lnTo>
                  <a:pt x="441" y="576"/>
                </a:lnTo>
                <a:lnTo>
                  <a:pt x="425" y="585"/>
                </a:lnTo>
                <a:lnTo>
                  <a:pt x="412" y="598"/>
                </a:lnTo>
                <a:lnTo>
                  <a:pt x="423" y="601"/>
                </a:lnTo>
                <a:lnTo>
                  <a:pt x="413" y="610"/>
                </a:lnTo>
                <a:lnTo>
                  <a:pt x="422" y="623"/>
                </a:lnTo>
                <a:lnTo>
                  <a:pt x="408" y="624"/>
                </a:lnTo>
                <a:lnTo>
                  <a:pt x="376" y="633"/>
                </a:lnTo>
                <a:lnTo>
                  <a:pt x="394" y="639"/>
                </a:lnTo>
                <a:lnTo>
                  <a:pt x="428" y="644"/>
                </a:lnTo>
                <a:lnTo>
                  <a:pt x="413" y="649"/>
                </a:lnTo>
                <a:lnTo>
                  <a:pt x="404" y="678"/>
                </a:lnTo>
                <a:lnTo>
                  <a:pt x="413" y="686"/>
                </a:lnTo>
                <a:lnTo>
                  <a:pt x="423" y="696"/>
                </a:lnTo>
                <a:lnTo>
                  <a:pt x="34" y="688"/>
                </a:lnTo>
                <a:lnTo>
                  <a:pt x="22" y="673"/>
                </a:lnTo>
                <a:lnTo>
                  <a:pt x="28" y="665"/>
                </a:lnTo>
                <a:lnTo>
                  <a:pt x="18" y="648"/>
                </a:lnTo>
                <a:lnTo>
                  <a:pt x="31" y="639"/>
                </a:lnTo>
                <a:lnTo>
                  <a:pt x="54" y="639"/>
                </a:lnTo>
                <a:lnTo>
                  <a:pt x="74" y="631"/>
                </a:lnTo>
                <a:lnTo>
                  <a:pt x="30" y="616"/>
                </a:lnTo>
                <a:lnTo>
                  <a:pt x="21" y="608"/>
                </a:lnTo>
                <a:lnTo>
                  <a:pt x="30" y="598"/>
                </a:lnTo>
                <a:lnTo>
                  <a:pt x="25" y="590"/>
                </a:lnTo>
                <a:lnTo>
                  <a:pt x="26" y="581"/>
                </a:lnTo>
                <a:lnTo>
                  <a:pt x="25" y="576"/>
                </a:lnTo>
                <a:lnTo>
                  <a:pt x="28" y="569"/>
                </a:lnTo>
                <a:lnTo>
                  <a:pt x="10" y="547"/>
                </a:lnTo>
                <a:lnTo>
                  <a:pt x="11" y="539"/>
                </a:lnTo>
                <a:lnTo>
                  <a:pt x="8" y="525"/>
                </a:lnTo>
                <a:lnTo>
                  <a:pt x="26" y="519"/>
                </a:lnTo>
                <a:lnTo>
                  <a:pt x="13" y="506"/>
                </a:lnTo>
                <a:lnTo>
                  <a:pt x="26" y="502"/>
                </a:lnTo>
                <a:lnTo>
                  <a:pt x="11" y="494"/>
                </a:lnTo>
                <a:lnTo>
                  <a:pt x="16" y="481"/>
                </a:lnTo>
                <a:lnTo>
                  <a:pt x="11" y="481"/>
                </a:lnTo>
                <a:lnTo>
                  <a:pt x="18" y="472"/>
                </a:lnTo>
                <a:lnTo>
                  <a:pt x="25" y="462"/>
                </a:lnTo>
                <a:lnTo>
                  <a:pt x="31" y="456"/>
                </a:lnTo>
                <a:lnTo>
                  <a:pt x="20" y="456"/>
                </a:lnTo>
                <a:lnTo>
                  <a:pt x="20" y="440"/>
                </a:lnTo>
                <a:lnTo>
                  <a:pt x="21" y="436"/>
                </a:lnTo>
                <a:lnTo>
                  <a:pt x="26" y="432"/>
                </a:lnTo>
                <a:lnTo>
                  <a:pt x="21" y="430"/>
                </a:lnTo>
                <a:lnTo>
                  <a:pt x="21" y="417"/>
                </a:lnTo>
                <a:lnTo>
                  <a:pt x="28" y="413"/>
                </a:lnTo>
                <a:lnTo>
                  <a:pt x="18" y="398"/>
                </a:lnTo>
                <a:lnTo>
                  <a:pt x="26" y="391"/>
                </a:lnTo>
                <a:lnTo>
                  <a:pt x="11" y="385"/>
                </a:lnTo>
                <a:lnTo>
                  <a:pt x="20" y="385"/>
                </a:lnTo>
                <a:lnTo>
                  <a:pt x="20" y="370"/>
                </a:lnTo>
                <a:lnTo>
                  <a:pt x="35" y="368"/>
                </a:lnTo>
                <a:lnTo>
                  <a:pt x="25" y="358"/>
                </a:lnTo>
                <a:lnTo>
                  <a:pt x="18" y="343"/>
                </a:lnTo>
                <a:lnTo>
                  <a:pt x="28" y="338"/>
                </a:lnTo>
                <a:lnTo>
                  <a:pt x="22" y="331"/>
                </a:lnTo>
                <a:lnTo>
                  <a:pt x="10" y="324"/>
                </a:lnTo>
                <a:lnTo>
                  <a:pt x="16" y="317"/>
                </a:lnTo>
                <a:lnTo>
                  <a:pt x="5" y="312"/>
                </a:lnTo>
                <a:lnTo>
                  <a:pt x="0" y="297"/>
                </a:lnTo>
                <a:lnTo>
                  <a:pt x="11" y="293"/>
                </a:lnTo>
                <a:lnTo>
                  <a:pt x="22" y="274"/>
                </a:lnTo>
                <a:lnTo>
                  <a:pt x="31" y="266"/>
                </a:lnTo>
                <a:lnTo>
                  <a:pt x="25" y="254"/>
                </a:lnTo>
                <a:lnTo>
                  <a:pt x="39" y="249"/>
                </a:lnTo>
                <a:lnTo>
                  <a:pt x="28" y="242"/>
                </a:lnTo>
                <a:lnTo>
                  <a:pt x="22" y="218"/>
                </a:lnTo>
                <a:lnTo>
                  <a:pt x="18" y="209"/>
                </a:lnTo>
                <a:lnTo>
                  <a:pt x="21" y="197"/>
                </a:lnTo>
                <a:lnTo>
                  <a:pt x="8" y="188"/>
                </a:lnTo>
                <a:lnTo>
                  <a:pt x="21" y="179"/>
                </a:lnTo>
                <a:lnTo>
                  <a:pt x="11" y="170"/>
                </a:lnTo>
                <a:lnTo>
                  <a:pt x="16" y="159"/>
                </a:lnTo>
                <a:lnTo>
                  <a:pt x="4" y="158"/>
                </a:lnTo>
                <a:lnTo>
                  <a:pt x="22" y="153"/>
                </a:lnTo>
                <a:lnTo>
                  <a:pt x="18" y="153"/>
                </a:lnTo>
                <a:lnTo>
                  <a:pt x="26" y="138"/>
                </a:lnTo>
                <a:lnTo>
                  <a:pt x="13" y="135"/>
                </a:lnTo>
                <a:lnTo>
                  <a:pt x="20" y="128"/>
                </a:lnTo>
                <a:lnTo>
                  <a:pt x="13" y="115"/>
                </a:lnTo>
                <a:lnTo>
                  <a:pt x="25" y="115"/>
                </a:lnTo>
                <a:lnTo>
                  <a:pt x="11" y="110"/>
                </a:lnTo>
                <a:lnTo>
                  <a:pt x="21" y="99"/>
                </a:lnTo>
                <a:lnTo>
                  <a:pt x="18" y="90"/>
                </a:lnTo>
                <a:lnTo>
                  <a:pt x="13" y="83"/>
                </a:lnTo>
                <a:lnTo>
                  <a:pt x="25" y="83"/>
                </a:lnTo>
                <a:lnTo>
                  <a:pt x="28" y="79"/>
                </a:lnTo>
                <a:lnTo>
                  <a:pt x="21" y="69"/>
                </a:lnTo>
                <a:lnTo>
                  <a:pt x="30" y="65"/>
                </a:lnTo>
                <a:lnTo>
                  <a:pt x="25" y="56"/>
                </a:lnTo>
                <a:lnTo>
                  <a:pt x="35" y="46"/>
                </a:lnTo>
                <a:lnTo>
                  <a:pt x="28" y="34"/>
                </a:lnTo>
                <a:lnTo>
                  <a:pt x="18" y="34"/>
                </a:lnTo>
                <a:lnTo>
                  <a:pt x="26" y="24"/>
                </a:lnTo>
                <a:lnTo>
                  <a:pt x="13" y="24"/>
                </a:lnTo>
                <a:lnTo>
                  <a:pt x="21" y="18"/>
                </a:lnTo>
                <a:lnTo>
                  <a:pt x="11" y="6"/>
                </a:lnTo>
                <a:lnTo>
                  <a:pt x="16" y="0"/>
                </a:lnTo>
                <a:lnTo>
                  <a:pt x="444" y="1"/>
                </a:lnTo>
                <a:lnTo>
                  <a:pt x="448" y="6"/>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Freeform 94"/>
          <p:cNvSpPr/>
          <p:nvPr/>
        </p:nvSpPr>
        <p:spPr>
          <a:xfrm>
            <a:off x="8016840" y="4168800"/>
            <a:ext cx="765360" cy="923760"/>
          </a:xfrm>
          <a:custGeom>
            <a:avLst/>
            <a:gdLst>
              <a:gd name="textAreaLeft" fmla="*/ 0 w 765360"/>
              <a:gd name="textAreaRight" fmla="*/ 765720 w 765360"/>
              <a:gd name="textAreaTop" fmla="*/ 0 h 923760"/>
              <a:gd name="textAreaBottom" fmla="*/ 924120 h 923760"/>
            </a:gdLst>
            <a:ahLst/>
            <a:rect l="textAreaLeft" t="textAreaTop" r="textAreaRight" b="textAreaBottom"/>
            <a:pathLst>
              <a:path w="473" h="759">
                <a:moveTo>
                  <a:pt x="407" y="6"/>
                </a:moveTo>
                <a:lnTo>
                  <a:pt x="415" y="17"/>
                </a:lnTo>
                <a:lnTo>
                  <a:pt x="409" y="17"/>
                </a:lnTo>
                <a:lnTo>
                  <a:pt x="412" y="26"/>
                </a:lnTo>
                <a:lnTo>
                  <a:pt x="404" y="37"/>
                </a:lnTo>
                <a:lnTo>
                  <a:pt x="415" y="41"/>
                </a:lnTo>
                <a:lnTo>
                  <a:pt x="409" y="47"/>
                </a:lnTo>
                <a:lnTo>
                  <a:pt x="437" y="61"/>
                </a:lnTo>
                <a:lnTo>
                  <a:pt x="403" y="70"/>
                </a:lnTo>
                <a:lnTo>
                  <a:pt x="396" y="70"/>
                </a:lnTo>
                <a:lnTo>
                  <a:pt x="400" y="79"/>
                </a:lnTo>
                <a:lnTo>
                  <a:pt x="407" y="94"/>
                </a:lnTo>
                <a:lnTo>
                  <a:pt x="396" y="97"/>
                </a:lnTo>
                <a:lnTo>
                  <a:pt x="412" y="112"/>
                </a:lnTo>
                <a:lnTo>
                  <a:pt x="417" y="120"/>
                </a:lnTo>
                <a:lnTo>
                  <a:pt x="409" y="135"/>
                </a:lnTo>
                <a:lnTo>
                  <a:pt x="424" y="140"/>
                </a:lnTo>
                <a:lnTo>
                  <a:pt x="410" y="146"/>
                </a:lnTo>
                <a:lnTo>
                  <a:pt x="400" y="153"/>
                </a:lnTo>
                <a:lnTo>
                  <a:pt x="404" y="161"/>
                </a:lnTo>
                <a:lnTo>
                  <a:pt x="395" y="168"/>
                </a:lnTo>
                <a:lnTo>
                  <a:pt x="415" y="183"/>
                </a:lnTo>
                <a:lnTo>
                  <a:pt x="431" y="199"/>
                </a:lnTo>
                <a:lnTo>
                  <a:pt x="443" y="205"/>
                </a:lnTo>
                <a:lnTo>
                  <a:pt x="437" y="211"/>
                </a:lnTo>
                <a:lnTo>
                  <a:pt x="443" y="231"/>
                </a:lnTo>
                <a:lnTo>
                  <a:pt x="435" y="231"/>
                </a:lnTo>
                <a:lnTo>
                  <a:pt x="446" y="245"/>
                </a:lnTo>
                <a:lnTo>
                  <a:pt x="437" y="245"/>
                </a:lnTo>
                <a:lnTo>
                  <a:pt x="445" y="263"/>
                </a:lnTo>
                <a:lnTo>
                  <a:pt x="435" y="270"/>
                </a:lnTo>
                <a:lnTo>
                  <a:pt x="446" y="274"/>
                </a:lnTo>
                <a:lnTo>
                  <a:pt x="424" y="280"/>
                </a:lnTo>
                <a:lnTo>
                  <a:pt x="450" y="290"/>
                </a:lnTo>
                <a:lnTo>
                  <a:pt x="470" y="304"/>
                </a:lnTo>
                <a:lnTo>
                  <a:pt x="418" y="333"/>
                </a:lnTo>
                <a:lnTo>
                  <a:pt x="424" y="337"/>
                </a:lnTo>
                <a:lnTo>
                  <a:pt x="403" y="345"/>
                </a:lnTo>
                <a:lnTo>
                  <a:pt x="412" y="359"/>
                </a:lnTo>
                <a:lnTo>
                  <a:pt x="404" y="359"/>
                </a:lnTo>
                <a:lnTo>
                  <a:pt x="431" y="379"/>
                </a:lnTo>
                <a:lnTo>
                  <a:pt x="424" y="383"/>
                </a:lnTo>
                <a:lnTo>
                  <a:pt x="443" y="403"/>
                </a:lnTo>
                <a:lnTo>
                  <a:pt x="421" y="414"/>
                </a:lnTo>
                <a:lnTo>
                  <a:pt x="431" y="418"/>
                </a:lnTo>
                <a:lnTo>
                  <a:pt x="418" y="422"/>
                </a:lnTo>
                <a:lnTo>
                  <a:pt x="443" y="439"/>
                </a:lnTo>
                <a:lnTo>
                  <a:pt x="424" y="446"/>
                </a:lnTo>
                <a:lnTo>
                  <a:pt x="445" y="454"/>
                </a:lnTo>
                <a:lnTo>
                  <a:pt x="418" y="463"/>
                </a:lnTo>
                <a:lnTo>
                  <a:pt x="449" y="483"/>
                </a:lnTo>
                <a:lnTo>
                  <a:pt x="424" y="507"/>
                </a:lnTo>
                <a:lnTo>
                  <a:pt x="445" y="512"/>
                </a:lnTo>
                <a:lnTo>
                  <a:pt x="435" y="526"/>
                </a:lnTo>
                <a:lnTo>
                  <a:pt x="473" y="531"/>
                </a:lnTo>
                <a:lnTo>
                  <a:pt x="460" y="547"/>
                </a:lnTo>
                <a:lnTo>
                  <a:pt x="469" y="547"/>
                </a:lnTo>
                <a:lnTo>
                  <a:pt x="454" y="570"/>
                </a:lnTo>
                <a:lnTo>
                  <a:pt x="470" y="577"/>
                </a:lnTo>
                <a:lnTo>
                  <a:pt x="460" y="588"/>
                </a:lnTo>
                <a:lnTo>
                  <a:pt x="470" y="606"/>
                </a:lnTo>
                <a:lnTo>
                  <a:pt x="452" y="615"/>
                </a:lnTo>
                <a:lnTo>
                  <a:pt x="410" y="625"/>
                </a:lnTo>
                <a:lnTo>
                  <a:pt x="418" y="640"/>
                </a:lnTo>
                <a:lnTo>
                  <a:pt x="432" y="647"/>
                </a:lnTo>
                <a:lnTo>
                  <a:pt x="424" y="662"/>
                </a:lnTo>
                <a:lnTo>
                  <a:pt x="417" y="674"/>
                </a:lnTo>
                <a:lnTo>
                  <a:pt x="407" y="681"/>
                </a:lnTo>
                <a:lnTo>
                  <a:pt x="424" y="701"/>
                </a:lnTo>
                <a:lnTo>
                  <a:pt x="421" y="753"/>
                </a:lnTo>
                <a:lnTo>
                  <a:pt x="50" y="759"/>
                </a:lnTo>
                <a:lnTo>
                  <a:pt x="45" y="744"/>
                </a:lnTo>
                <a:lnTo>
                  <a:pt x="61" y="735"/>
                </a:lnTo>
                <a:lnTo>
                  <a:pt x="57" y="721"/>
                </a:lnTo>
                <a:lnTo>
                  <a:pt x="48" y="714"/>
                </a:lnTo>
                <a:lnTo>
                  <a:pt x="52" y="711"/>
                </a:lnTo>
                <a:lnTo>
                  <a:pt x="30" y="705"/>
                </a:lnTo>
                <a:lnTo>
                  <a:pt x="37" y="699"/>
                </a:lnTo>
                <a:lnTo>
                  <a:pt x="24" y="692"/>
                </a:lnTo>
                <a:lnTo>
                  <a:pt x="30" y="687"/>
                </a:lnTo>
                <a:lnTo>
                  <a:pt x="13" y="681"/>
                </a:lnTo>
                <a:lnTo>
                  <a:pt x="26" y="674"/>
                </a:lnTo>
                <a:lnTo>
                  <a:pt x="12" y="659"/>
                </a:lnTo>
                <a:lnTo>
                  <a:pt x="25" y="659"/>
                </a:lnTo>
                <a:lnTo>
                  <a:pt x="23" y="650"/>
                </a:lnTo>
                <a:lnTo>
                  <a:pt x="25" y="647"/>
                </a:lnTo>
                <a:lnTo>
                  <a:pt x="18" y="636"/>
                </a:lnTo>
                <a:lnTo>
                  <a:pt x="30" y="636"/>
                </a:lnTo>
                <a:lnTo>
                  <a:pt x="9" y="617"/>
                </a:lnTo>
                <a:lnTo>
                  <a:pt x="21" y="614"/>
                </a:lnTo>
                <a:lnTo>
                  <a:pt x="30" y="593"/>
                </a:lnTo>
                <a:lnTo>
                  <a:pt x="17" y="588"/>
                </a:lnTo>
                <a:lnTo>
                  <a:pt x="23" y="585"/>
                </a:lnTo>
                <a:lnTo>
                  <a:pt x="15" y="570"/>
                </a:lnTo>
                <a:lnTo>
                  <a:pt x="17" y="570"/>
                </a:lnTo>
                <a:lnTo>
                  <a:pt x="12" y="566"/>
                </a:lnTo>
                <a:lnTo>
                  <a:pt x="17" y="560"/>
                </a:lnTo>
                <a:lnTo>
                  <a:pt x="26" y="560"/>
                </a:lnTo>
                <a:lnTo>
                  <a:pt x="9" y="535"/>
                </a:lnTo>
                <a:lnTo>
                  <a:pt x="22" y="535"/>
                </a:lnTo>
                <a:lnTo>
                  <a:pt x="15" y="526"/>
                </a:lnTo>
                <a:lnTo>
                  <a:pt x="33" y="521"/>
                </a:lnTo>
                <a:lnTo>
                  <a:pt x="21" y="512"/>
                </a:lnTo>
                <a:lnTo>
                  <a:pt x="8" y="507"/>
                </a:lnTo>
                <a:lnTo>
                  <a:pt x="18" y="497"/>
                </a:lnTo>
                <a:lnTo>
                  <a:pt x="9" y="483"/>
                </a:lnTo>
                <a:lnTo>
                  <a:pt x="18" y="479"/>
                </a:lnTo>
                <a:lnTo>
                  <a:pt x="17" y="472"/>
                </a:lnTo>
                <a:lnTo>
                  <a:pt x="18" y="472"/>
                </a:lnTo>
                <a:lnTo>
                  <a:pt x="12" y="467"/>
                </a:lnTo>
                <a:lnTo>
                  <a:pt x="17" y="462"/>
                </a:lnTo>
                <a:lnTo>
                  <a:pt x="12" y="454"/>
                </a:lnTo>
                <a:lnTo>
                  <a:pt x="17" y="442"/>
                </a:lnTo>
                <a:lnTo>
                  <a:pt x="24" y="442"/>
                </a:lnTo>
                <a:lnTo>
                  <a:pt x="0" y="439"/>
                </a:lnTo>
                <a:lnTo>
                  <a:pt x="12" y="424"/>
                </a:lnTo>
                <a:lnTo>
                  <a:pt x="5" y="422"/>
                </a:lnTo>
                <a:lnTo>
                  <a:pt x="5" y="408"/>
                </a:lnTo>
                <a:lnTo>
                  <a:pt x="18" y="403"/>
                </a:lnTo>
                <a:lnTo>
                  <a:pt x="15" y="398"/>
                </a:lnTo>
                <a:lnTo>
                  <a:pt x="26" y="398"/>
                </a:lnTo>
                <a:lnTo>
                  <a:pt x="24" y="398"/>
                </a:lnTo>
                <a:lnTo>
                  <a:pt x="9" y="383"/>
                </a:lnTo>
                <a:lnTo>
                  <a:pt x="21" y="373"/>
                </a:lnTo>
                <a:lnTo>
                  <a:pt x="9" y="369"/>
                </a:lnTo>
                <a:lnTo>
                  <a:pt x="17" y="362"/>
                </a:lnTo>
                <a:lnTo>
                  <a:pt x="8" y="353"/>
                </a:lnTo>
                <a:lnTo>
                  <a:pt x="15" y="349"/>
                </a:lnTo>
                <a:lnTo>
                  <a:pt x="15" y="337"/>
                </a:lnTo>
                <a:lnTo>
                  <a:pt x="22" y="329"/>
                </a:lnTo>
                <a:lnTo>
                  <a:pt x="9" y="319"/>
                </a:lnTo>
                <a:lnTo>
                  <a:pt x="24" y="312"/>
                </a:lnTo>
                <a:lnTo>
                  <a:pt x="13" y="298"/>
                </a:lnTo>
                <a:lnTo>
                  <a:pt x="30" y="298"/>
                </a:lnTo>
                <a:lnTo>
                  <a:pt x="17" y="290"/>
                </a:lnTo>
                <a:lnTo>
                  <a:pt x="31" y="280"/>
                </a:lnTo>
                <a:lnTo>
                  <a:pt x="25" y="279"/>
                </a:lnTo>
                <a:lnTo>
                  <a:pt x="30" y="270"/>
                </a:lnTo>
                <a:lnTo>
                  <a:pt x="17" y="263"/>
                </a:lnTo>
                <a:lnTo>
                  <a:pt x="31" y="257"/>
                </a:lnTo>
                <a:lnTo>
                  <a:pt x="17" y="243"/>
                </a:lnTo>
                <a:lnTo>
                  <a:pt x="25" y="240"/>
                </a:lnTo>
                <a:lnTo>
                  <a:pt x="37" y="238"/>
                </a:lnTo>
                <a:lnTo>
                  <a:pt x="0" y="208"/>
                </a:lnTo>
                <a:lnTo>
                  <a:pt x="13" y="203"/>
                </a:lnTo>
                <a:lnTo>
                  <a:pt x="15" y="198"/>
                </a:lnTo>
                <a:lnTo>
                  <a:pt x="9" y="191"/>
                </a:lnTo>
                <a:lnTo>
                  <a:pt x="31" y="178"/>
                </a:lnTo>
                <a:lnTo>
                  <a:pt x="8" y="160"/>
                </a:lnTo>
                <a:lnTo>
                  <a:pt x="12" y="151"/>
                </a:lnTo>
                <a:lnTo>
                  <a:pt x="3" y="140"/>
                </a:lnTo>
                <a:lnTo>
                  <a:pt x="15" y="140"/>
                </a:lnTo>
                <a:lnTo>
                  <a:pt x="0" y="130"/>
                </a:lnTo>
                <a:lnTo>
                  <a:pt x="8" y="121"/>
                </a:lnTo>
                <a:lnTo>
                  <a:pt x="15" y="115"/>
                </a:lnTo>
                <a:lnTo>
                  <a:pt x="9" y="105"/>
                </a:lnTo>
                <a:lnTo>
                  <a:pt x="17" y="105"/>
                </a:lnTo>
                <a:lnTo>
                  <a:pt x="5" y="94"/>
                </a:lnTo>
                <a:lnTo>
                  <a:pt x="17" y="94"/>
                </a:lnTo>
                <a:lnTo>
                  <a:pt x="12" y="87"/>
                </a:lnTo>
                <a:lnTo>
                  <a:pt x="25" y="72"/>
                </a:lnTo>
                <a:lnTo>
                  <a:pt x="18" y="62"/>
                </a:lnTo>
                <a:lnTo>
                  <a:pt x="22" y="47"/>
                </a:lnTo>
                <a:lnTo>
                  <a:pt x="9" y="34"/>
                </a:lnTo>
                <a:lnTo>
                  <a:pt x="30" y="26"/>
                </a:lnTo>
                <a:lnTo>
                  <a:pt x="15" y="25"/>
                </a:lnTo>
                <a:lnTo>
                  <a:pt x="8" y="10"/>
                </a:lnTo>
                <a:lnTo>
                  <a:pt x="13" y="10"/>
                </a:lnTo>
                <a:lnTo>
                  <a:pt x="8" y="6"/>
                </a:lnTo>
                <a:lnTo>
                  <a:pt x="22" y="0"/>
                </a:lnTo>
                <a:lnTo>
                  <a:pt x="407" y="6"/>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Rectangle 95"/>
          <p:cNvSpPr/>
          <p:nvPr/>
        </p:nvSpPr>
        <p:spPr>
          <a:xfrm>
            <a:off x="8058240" y="3197160"/>
            <a:ext cx="341280" cy="22320"/>
          </a:xfrm>
          <a:prstGeom prst="rect">
            <a:avLst/>
          </a:prstGeom>
          <a:solidFill>
            <a:srgbClr val="ffffff"/>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0" name="Rectangle 96"/>
          <p:cNvSpPr/>
          <p:nvPr/>
        </p:nvSpPr>
        <p:spPr>
          <a:xfrm>
            <a:off x="8058240" y="3174840"/>
            <a:ext cx="341280" cy="22320"/>
          </a:xfrm>
          <a:prstGeom prst="rect">
            <a:avLst/>
          </a:prstGeom>
          <a:solidFill>
            <a:srgbClr val="fffffb"/>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1" name="Rectangle 97"/>
          <p:cNvSpPr/>
          <p:nvPr/>
        </p:nvSpPr>
        <p:spPr>
          <a:xfrm>
            <a:off x="8058240" y="3156120"/>
            <a:ext cx="341280" cy="18720"/>
          </a:xfrm>
          <a:prstGeom prst="rect">
            <a:avLst/>
          </a:prstGeom>
          <a:solidFill>
            <a:srgbClr val="fffff6"/>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2" name="Rectangle 98"/>
          <p:cNvSpPr/>
          <p:nvPr/>
        </p:nvSpPr>
        <p:spPr>
          <a:xfrm>
            <a:off x="8058240" y="3132000"/>
            <a:ext cx="341280" cy="24120"/>
          </a:xfrm>
          <a:prstGeom prst="rect">
            <a:avLst/>
          </a:prstGeom>
          <a:solidFill>
            <a:srgbClr val="fffff2"/>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3" name="Rectangle 99"/>
          <p:cNvSpPr/>
          <p:nvPr/>
        </p:nvSpPr>
        <p:spPr>
          <a:xfrm>
            <a:off x="8058240" y="3110040"/>
            <a:ext cx="341280" cy="21960"/>
          </a:xfrm>
          <a:prstGeom prst="rect">
            <a:avLst/>
          </a:prstGeom>
          <a:solidFill>
            <a:srgbClr val="ffffee"/>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4" name="Rectangle 100"/>
          <p:cNvSpPr/>
          <p:nvPr/>
        </p:nvSpPr>
        <p:spPr>
          <a:xfrm>
            <a:off x="8058240" y="3089160"/>
            <a:ext cx="341280" cy="20880"/>
          </a:xfrm>
          <a:prstGeom prst="rect">
            <a:avLst/>
          </a:prstGeom>
          <a:solidFill>
            <a:srgbClr val="ffffe9"/>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5" name="Rectangle 101"/>
          <p:cNvSpPr/>
          <p:nvPr/>
        </p:nvSpPr>
        <p:spPr>
          <a:xfrm>
            <a:off x="8058240" y="3067200"/>
            <a:ext cx="341280" cy="21960"/>
          </a:xfrm>
          <a:prstGeom prst="rect">
            <a:avLst/>
          </a:prstGeom>
          <a:solidFill>
            <a:srgbClr val="ffffe5"/>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6" name="Rectangle 102"/>
          <p:cNvSpPr/>
          <p:nvPr/>
        </p:nvSpPr>
        <p:spPr>
          <a:xfrm>
            <a:off x="8058240" y="3044880"/>
            <a:ext cx="341280" cy="22320"/>
          </a:xfrm>
          <a:prstGeom prst="rect">
            <a:avLst/>
          </a:prstGeom>
          <a:solidFill>
            <a:srgbClr val="ffffe1"/>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7" name="Rectangle 103"/>
          <p:cNvSpPr/>
          <p:nvPr/>
        </p:nvSpPr>
        <p:spPr>
          <a:xfrm>
            <a:off x="8058240" y="3027240"/>
            <a:ext cx="341280" cy="17640"/>
          </a:xfrm>
          <a:prstGeom prst="rect">
            <a:avLst/>
          </a:prstGeom>
          <a:solidFill>
            <a:srgbClr val="ffffdc"/>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8" name="Rectangle 104"/>
          <p:cNvSpPr/>
          <p:nvPr/>
        </p:nvSpPr>
        <p:spPr>
          <a:xfrm>
            <a:off x="8058240" y="3000240"/>
            <a:ext cx="341280" cy="27000"/>
          </a:xfrm>
          <a:prstGeom prst="rect">
            <a:avLst/>
          </a:prstGeom>
          <a:solidFill>
            <a:srgbClr val="ffffd8"/>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9" name="Rectangle 105"/>
          <p:cNvSpPr/>
          <p:nvPr/>
        </p:nvSpPr>
        <p:spPr>
          <a:xfrm>
            <a:off x="8058240" y="2979720"/>
            <a:ext cx="341280" cy="20520"/>
          </a:xfrm>
          <a:prstGeom prst="rect">
            <a:avLst/>
          </a:prstGeom>
          <a:solidFill>
            <a:srgbClr val="ffffd3"/>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0" name="Rectangle 106"/>
          <p:cNvSpPr/>
          <p:nvPr/>
        </p:nvSpPr>
        <p:spPr>
          <a:xfrm>
            <a:off x="8058240" y="2960640"/>
            <a:ext cx="341280" cy="19080"/>
          </a:xfrm>
          <a:prstGeom prst="rect">
            <a:avLst/>
          </a:prstGeom>
          <a:solidFill>
            <a:srgbClr val="ffffcf"/>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1" name="Rectangle 107"/>
          <p:cNvSpPr/>
          <p:nvPr/>
        </p:nvSpPr>
        <p:spPr>
          <a:xfrm>
            <a:off x="8058240" y="2936880"/>
            <a:ext cx="341280" cy="23760"/>
          </a:xfrm>
          <a:prstGeom prst="rect">
            <a:avLst/>
          </a:prstGeom>
          <a:solidFill>
            <a:srgbClr val="ffffcb"/>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2" name="Rectangle 108"/>
          <p:cNvSpPr/>
          <p:nvPr/>
        </p:nvSpPr>
        <p:spPr>
          <a:xfrm>
            <a:off x="8058240" y="2913120"/>
            <a:ext cx="341280" cy="23760"/>
          </a:xfrm>
          <a:prstGeom prst="rect">
            <a:avLst/>
          </a:prstGeom>
          <a:solidFill>
            <a:srgbClr val="ffffc6"/>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3" name="Rectangle 109"/>
          <p:cNvSpPr/>
          <p:nvPr/>
        </p:nvSpPr>
        <p:spPr>
          <a:xfrm>
            <a:off x="8058240" y="2892600"/>
            <a:ext cx="341280" cy="20520"/>
          </a:xfrm>
          <a:prstGeom prst="rect">
            <a:avLst/>
          </a:prstGeom>
          <a:solidFill>
            <a:srgbClr val="ffffc2"/>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4" name="Freeform 110"/>
          <p:cNvSpPr/>
          <p:nvPr/>
        </p:nvSpPr>
        <p:spPr>
          <a:xfrm>
            <a:off x="8058240" y="2892600"/>
            <a:ext cx="341280" cy="326880"/>
          </a:xfrm>
          <a:custGeom>
            <a:avLst/>
            <a:gdLst>
              <a:gd name="textAreaLeft" fmla="*/ 0 w 341280"/>
              <a:gd name="textAreaRight" fmla="*/ 341640 w 341280"/>
              <a:gd name="textAreaTop" fmla="*/ 0 h 326880"/>
              <a:gd name="textAreaBottom" fmla="*/ 327240 h 326880"/>
            </a:gdLst>
            <a:ahLst/>
            <a:rect l="textAreaLeft" t="textAreaTop" r="textAreaRight" b="textAreaBottom"/>
            <a:pathLst>
              <a:path w="212" h="269">
                <a:moveTo>
                  <a:pt x="6" y="0"/>
                </a:moveTo>
                <a:lnTo>
                  <a:pt x="164" y="0"/>
                </a:lnTo>
                <a:lnTo>
                  <a:pt x="159" y="24"/>
                </a:lnTo>
                <a:lnTo>
                  <a:pt x="162" y="54"/>
                </a:lnTo>
                <a:lnTo>
                  <a:pt x="182" y="78"/>
                </a:lnTo>
                <a:lnTo>
                  <a:pt x="199" y="92"/>
                </a:lnTo>
                <a:lnTo>
                  <a:pt x="206" y="96"/>
                </a:lnTo>
                <a:lnTo>
                  <a:pt x="212" y="109"/>
                </a:lnTo>
                <a:lnTo>
                  <a:pt x="206" y="127"/>
                </a:lnTo>
                <a:lnTo>
                  <a:pt x="193" y="127"/>
                </a:lnTo>
                <a:lnTo>
                  <a:pt x="177" y="131"/>
                </a:lnTo>
                <a:lnTo>
                  <a:pt x="179" y="143"/>
                </a:lnTo>
                <a:lnTo>
                  <a:pt x="172" y="187"/>
                </a:lnTo>
                <a:lnTo>
                  <a:pt x="164" y="216"/>
                </a:lnTo>
                <a:lnTo>
                  <a:pt x="162" y="238"/>
                </a:lnTo>
                <a:lnTo>
                  <a:pt x="172" y="269"/>
                </a:lnTo>
                <a:lnTo>
                  <a:pt x="0" y="269"/>
                </a:lnTo>
                <a:lnTo>
                  <a:pt x="6" y="217"/>
                </a:lnTo>
                <a:lnTo>
                  <a:pt x="7" y="165"/>
                </a:lnTo>
                <a:lnTo>
                  <a:pt x="6" y="127"/>
                </a:lnTo>
                <a:lnTo>
                  <a:pt x="11" y="86"/>
                </a:lnTo>
                <a:lnTo>
                  <a:pt x="2" y="33"/>
                </a:lnTo>
                <a:lnTo>
                  <a:pt x="6" y="2"/>
                </a:lnTo>
                <a:lnTo>
                  <a:pt x="163" y="2"/>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Rectangle 111"/>
          <p:cNvSpPr/>
          <p:nvPr/>
        </p:nvSpPr>
        <p:spPr>
          <a:xfrm>
            <a:off x="8058240" y="3197160"/>
            <a:ext cx="341280" cy="22320"/>
          </a:xfrm>
          <a:prstGeom prst="rect">
            <a:avLst/>
          </a:prstGeom>
          <a:solidFill>
            <a:srgbClr val="ffffff"/>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6" name="Rectangle 112"/>
          <p:cNvSpPr/>
          <p:nvPr/>
        </p:nvSpPr>
        <p:spPr>
          <a:xfrm>
            <a:off x="8058240" y="3174840"/>
            <a:ext cx="341280" cy="22320"/>
          </a:xfrm>
          <a:prstGeom prst="rect">
            <a:avLst/>
          </a:prstGeom>
          <a:solidFill>
            <a:srgbClr val="fffffb"/>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7" name="Rectangle 113"/>
          <p:cNvSpPr/>
          <p:nvPr/>
        </p:nvSpPr>
        <p:spPr>
          <a:xfrm>
            <a:off x="8058240" y="3156120"/>
            <a:ext cx="341280" cy="18720"/>
          </a:xfrm>
          <a:prstGeom prst="rect">
            <a:avLst/>
          </a:prstGeom>
          <a:solidFill>
            <a:srgbClr val="fffff6"/>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8" name="Rectangle 114"/>
          <p:cNvSpPr/>
          <p:nvPr/>
        </p:nvSpPr>
        <p:spPr>
          <a:xfrm>
            <a:off x="8058240" y="3132000"/>
            <a:ext cx="341280" cy="24120"/>
          </a:xfrm>
          <a:prstGeom prst="rect">
            <a:avLst/>
          </a:prstGeom>
          <a:solidFill>
            <a:srgbClr val="fffff2"/>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9" name="Rectangle 115"/>
          <p:cNvSpPr/>
          <p:nvPr/>
        </p:nvSpPr>
        <p:spPr>
          <a:xfrm>
            <a:off x="8058240" y="3110040"/>
            <a:ext cx="341280" cy="21960"/>
          </a:xfrm>
          <a:prstGeom prst="rect">
            <a:avLst/>
          </a:prstGeom>
          <a:solidFill>
            <a:srgbClr val="ffffee"/>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0" name="Rectangle 116"/>
          <p:cNvSpPr/>
          <p:nvPr/>
        </p:nvSpPr>
        <p:spPr>
          <a:xfrm>
            <a:off x="8058240" y="3089160"/>
            <a:ext cx="341280" cy="20880"/>
          </a:xfrm>
          <a:prstGeom prst="rect">
            <a:avLst/>
          </a:prstGeom>
          <a:solidFill>
            <a:srgbClr val="ffffe9"/>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1" name="Rectangle 117"/>
          <p:cNvSpPr/>
          <p:nvPr/>
        </p:nvSpPr>
        <p:spPr>
          <a:xfrm>
            <a:off x="8058240" y="3067200"/>
            <a:ext cx="341280" cy="21960"/>
          </a:xfrm>
          <a:prstGeom prst="rect">
            <a:avLst/>
          </a:prstGeom>
          <a:solidFill>
            <a:srgbClr val="ffffe5"/>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2" name="Rectangle 118"/>
          <p:cNvSpPr/>
          <p:nvPr/>
        </p:nvSpPr>
        <p:spPr>
          <a:xfrm>
            <a:off x="8058240" y="3044880"/>
            <a:ext cx="341280" cy="22320"/>
          </a:xfrm>
          <a:prstGeom prst="rect">
            <a:avLst/>
          </a:prstGeom>
          <a:solidFill>
            <a:srgbClr val="ffffe1"/>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3" name="Rectangle 119"/>
          <p:cNvSpPr/>
          <p:nvPr/>
        </p:nvSpPr>
        <p:spPr>
          <a:xfrm>
            <a:off x="8058240" y="3027240"/>
            <a:ext cx="341280" cy="17640"/>
          </a:xfrm>
          <a:prstGeom prst="rect">
            <a:avLst/>
          </a:prstGeom>
          <a:solidFill>
            <a:srgbClr val="ffffdc"/>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4" name="Rectangle 120"/>
          <p:cNvSpPr/>
          <p:nvPr/>
        </p:nvSpPr>
        <p:spPr>
          <a:xfrm>
            <a:off x="8058240" y="3000240"/>
            <a:ext cx="341280" cy="27000"/>
          </a:xfrm>
          <a:prstGeom prst="rect">
            <a:avLst/>
          </a:prstGeom>
          <a:solidFill>
            <a:srgbClr val="ffffd8"/>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5" name="Rectangle 121"/>
          <p:cNvSpPr/>
          <p:nvPr/>
        </p:nvSpPr>
        <p:spPr>
          <a:xfrm>
            <a:off x="8058240" y="2979720"/>
            <a:ext cx="341280" cy="20520"/>
          </a:xfrm>
          <a:prstGeom prst="rect">
            <a:avLst/>
          </a:prstGeom>
          <a:solidFill>
            <a:srgbClr val="ffffd3"/>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6" name="Rectangle 122"/>
          <p:cNvSpPr/>
          <p:nvPr/>
        </p:nvSpPr>
        <p:spPr>
          <a:xfrm>
            <a:off x="8058240" y="2960640"/>
            <a:ext cx="341280" cy="19080"/>
          </a:xfrm>
          <a:prstGeom prst="rect">
            <a:avLst/>
          </a:prstGeom>
          <a:solidFill>
            <a:srgbClr val="ffffcf"/>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7" name="Rectangle 123"/>
          <p:cNvSpPr/>
          <p:nvPr/>
        </p:nvSpPr>
        <p:spPr>
          <a:xfrm>
            <a:off x="8058240" y="2936880"/>
            <a:ext cx="341280" cy="23760"/>
          </a:xfrm>
          <a:prstGeom prst="rect">
            <a:avLst/>
          </a:prstGeom>
          <a:solidFill>
            <a:srgbClr val="ffffcb"/>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8" name="Rectangle 124"/>
          <p:cNvSpPr/>
          <p:nvPr/>
        </p:nvSpPr>
        <p:spPr>
          <a:xfrm>
            <a:off x="8058240" y="2913120"/>
            <a:ext cx="341280" cy="23760"/>
          </a:xfrm>
          <a:prstGeom prst="rect">
            <a:avLst/>
          </a:prstGeom>
          <a:solidFill>
            <a:srgbClr val="ffffc6"/>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9" name="Rectangle 125"/>
          <p:cNvSpPr/>
          <p:nvPr/>
        </p:nvSpPr>
        <p:spPr>
          <a:xfrm>
            <a:off x="8058240" y="2892600"/>
            <a:ext cx="341280" cy="20520"/>
          </a:xfrm>
          <a:prstGeom prst="rect">
            <a:avLst/>
          </a:prstGeom>
          <a:solidFill>
            <a:srgbClr val="ffffc2"/>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0" name="Freeform 126"/>
          <p:cNvSpPr/>
          <p:nvPr/>
        </p:nvSpPr>
        <p:spPr>
          <a:xfrm>
            <a:off x="8058240" y="2892600"/>
            <a:ext cx="341280" cy="326880"/>
          </a:xfrm>
          <a:custGeom>
            <a:avLst/>
            <a:gdLst>
              <a:gd name="textAreaLeft" fmla="*/ 0 w 341280"/>
              <a:gd name="textAreaRight" fmla="*/ 341640 w 341280"/>
              <a:gd name="textAreaTop" fmla="*/ 0 h 326880"/>
              <a:gd name="textAreaBottom" fmla="*/ 327240 h 326880"/>
            </a:gdLst>
            <a:ahLst/>
            <a:rect l="textAreaLeft" t="textAreaTop" r="textAreaRight" b="textAreaBottom"/>
            <a:pathLst>
              <a:path w="212" h="269">
                <a:moveTo>
                  <a:pt x="6" y="0"/>
                </a:moveTo>
                <a:lnTo>
                  <a:pt x="164" y="0"/>
                </a:lnTo>
                <a:lnTo>
                  <a:pt x="159" y="24"/>
                </a:lnTo>
                <a:lnTo>
                  <a:pt x="162" y="54"/>
                </a:lnTo>
                <a:lnTo>
                  <a:pt x="182" y="78"/>
                </a:lnTo>
                <a:lnTo>
                  <a:pt x="199" y="92"/>
                </a:lnTo>
                <a:lnTo>
                  <a:pt x="206" y="96"/>
                </a:lnTo>
                <a:lnTo>
                  <a:pt x="212" y="109"/>
                </a:lnTo>
                <a:lnTo>
                  <a:pt x="206" y="127"/>
                </a:lnTo>
                <a:lnTo>
                  <a:pt x="193" y="127"/>
                </a:lnTo>
                <a:lnTo>
                  <a:pt x="177" y="131"/>
                </a:lnTo>
                <a:lnTo>
                  <a:pt x="179" y="143"/>
                </a:lnTo>
                <a:lnTo>
                  <a:pt x="172" y="187"/>
                </a:lnTo>
                <a:lnTo>
                  <a:pt x="164" y="216"/>
                </a:lnTo>
                <a:lnTo>
                  <a:pt x="162" y="238"/>
                </a:lnTo>
                <a:lnTo>
                  <a:pt x="172" y="269"/>
                </a:lnTo>
                <a:lnTo>
                  <a:pt x="0" y="269"/>
                </a:lnTo>
                <a:lnTo>
                  <a:pt x="6" y="217"/>
                </a:lnTo>
                <a:lnTo>
                  <a:pt x="7" y="165"/>
                </a:lnTo>
                <a:lnTo>
                  <a:pt x="6" y="127"/>
                </a:lnTo>
                <a:lnTo>
                  <a:pt x="11" y="86"/>
                </a:lnTo>
                <a:lnTo>
                  <a:pt x="2" y="33"/>
                </a:lnTo>
                <a:lnTo>
                  <a:pt x="6" y="2"/>
                </a:lnTo>
                <a:lnTo>
                  <a:pt x="163" y="2"/>
                </a:lnTo>
                <a:lnTo>
                  <a:pt x="6"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Freeform 127"/>
          <p:cNvSpPr/>
          <p:nvPr/>
        </p:nvSpPr>
        <p:spPr>
          <a:xfrm>
            <a:off x="8058240" y="2892600"/>
            <a:ext cx="341280" cy="326880"/>
          </a:xfrm>
          <a:custGeom>
            <a:avLst/>
            <a:gdLst>
              <a:gd name="textAreaLeft" fmla="*/ 0 w 341280"/>
              <a:gd name="textAreaRight" fmla="*/ 341640 w 341280"/>
              <a:gd name="textAreaTop" fmla="*/ 0 h 326880"/>
              <a:gd name="textAreaBottom" fmla="*/ 327240 h 326880"/>
            </a:gdLst>
            <a:ahLst/>
            <a:rect l="textAreaLeft" t="textAreaTop" r="textAreaRight" b="textAreaBottom"/>
            <a:pathLst>
              <a:path w="212" h="269">
                <a:moveTo>
                  <a:pt x="6" y="0"/>
                </a:moveTo>
                <a:lnTo>
                  <a:pt x="164" y="0"/>
                </a:lnTo>
                <a:lnTo>
                  <a:pt x="159" y="24"/>
                </a:lnTo>
                <a:lnTo>
                  <a:pt x="162" y="54"/>
                </a:lnTo>
                <a:lnTo>
                  <a:pt x="182" y="78"/>
                </a:lnTo>
                <a:lnTo>
                  <a:pt x="199" y="92"/>
                </a:lnTo>
                <a:lnTo>
                  <a:pt x="206" y="96"/>
                </a:lnTo>
                <a:lnTo>
                  <a:pt x="212" y="109"/>
                </a:lnTo>
                <a:lnTo>
                  <a:pt x="206" y="127"/>
                </a:lnTo>
                <a:lnTo>
                  <a:pt x="193" y="127"/>
                </a:lnTo>
                <a:lnTo>
                  <a:pt x="177" y="131"/>
                </a:lnTo>
                <a:lnTo>
                  <a:pt x="179" y="143"/>
                </a:lnTo>
                <a:lnTo>
                  <a:pt x="172" y="187"/>
                </a:lnTo>
                <a:lnTo>
                  <a:pt x="164" y="216"/>
                </a:lnTo>
                <a:lnTo>
                  <a:pt x="162" y="238"/>
                </a:lnTo>
                <a:lnTo>
                  <a:pt x="172" y="269"/>
                </a:lnTo>
                <a:lnTo>
                  <a:pt x="0" y="269"/>
                </a:lnTo>
                <a:lnTo>
                  <a:pt x="6" y="217"/>
                </a:lnTo>
                <a:lnTo>
                  <a:pt x="7" y="165"/>
                </a:lnTo>
                <a:lnTo>
                  <a:pt x="6" y="127"/>
                </a:lnTo>
                <a:lnTo>
                  <a:pt x="11" y="86"/>
                </a:lnTo>
                <a:lnTo>
                  <a:pt x="2" y="33"/>
                </a:lnTo>
                <a:lnTo>
                  <a:pt x="6" y="2"/>
                </a:lnTo>
                <a:lnTo>
                  <a:pt x="163" y="2"/>
                </a:lnTo>
                <a:lnTo>
                  <a:pt x="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Line 128"/>
          <p:cNvSpPr/>
          <p:nvPr/>
        </p:nvSpPr>
        <p:spPr>
          <a:xfrm>
            <a:off x="8067600" y="2892600"/>
            <a:ext cx="32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13" name="Line 129"/>
          <p:cNvSpPr/>
          <p:nvPr/>
        </p:nvSpPr>
        <p:spPr>
          <a:xfrm>
            <a:off x="7961400" y="3236760"/>
            <a:ext cx="79056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4" name="Line 130"/>
          <p:cNvSpPr/>
          <p:nvPr/>
        </p:nvSpPr>
        <p:spPr>
          <a:xfrm flipH="1">
            <a:off x="7884720" y="3048120"/>
            <a:ext cx="4680" cy="96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5" name="Line 131"/>
          <p:cNvSpPr/>
          <p:nvPr/>
        </p:nvSpPr>
        <p:spPr>
          <a:xfrm>
            <a:off x="7961400" y="2892600"/>
            <a:ext cx="79056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16" name="Rectangle 132"/>
          <p:cNvSpPr/>
          <p:nvPr/>
        </p:nvSpPr>
        <p:spPr>
          <a:xfrm>
            <a:off x="8240760" y="2365200"/>
            <a:ext cx="57240" cy="27273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7" name="Freeform 133"/>
          <p:cNvSpPr/>
          <p:nvPr/>
        </p:nvSpPr>
        <p:spPr>
          <a:xfrm>
            <a:off x="4888080" y="2960640"/>
            <a:ext cx="496800" cy="192240"/>
          </a:xfrm>
          <a:custGeom>
            <a:avLst/>
            <a:gdLst>
              <a:gd name="textAreaLeft" fmla="*/ 0 w 496800"/>
              <a:gd name="textAreaRight" fmla="*/ 497160 w 496800"/>
              <a:gd name="textAreaTop" fmla="*/ 0 h 192240"/>
              <a:gd name="textAreaBottom" fmla="*/ 192600 h 192240"/>
            </a:gdLst>
            <a:ahLst/>
            <a:rect l="textAreaLeft" t="textAreaTop" r="textAreaRight" b="textAreaBottom"/>
            <a:pathLst>
              <a:path w="309" h="157">
                <a:moveTo>
                  <a:pt x="0" y="0"/>
                </a:moveTo>
                <a:lnTo>
                  <a:pt x="144" y="15"/>
                </a:lnTo>
                <a:lnTo>
                  <a:pt x="225" y="21"/>
                </a:lnTo>
                <a:lnTo>
                  <a:pt x="309" y="21"/>
                </a:lnTo>
                <a:lnTo>
                  <a:pt x="304" y="85"/>
                </a:lnTo>
                <a:lnTo>
                  <a:pt x="256" y="85"/>
                </a:lnTo>
                <a:lnTo>
                  <a:pt x="184" y="105"/>
                </a:lnTo>
                <a:lnTo>
                  <a:pt x="134" y="126"/>
                </a:lnTo>
                <a:lnTo>
                  <a:pt x="95" y="157"/>
                </a:lnTo>
                <a:lnTo>
                  <a:pt x="65" y="157"/>
                </a:lnTo>
                <a:lnTo>
                  <a:pt x="0" y="0"/>
                </a:lnTo>
                <a:close/>
              </a:path>
            </a:pathLst>
          </a:custGeom>
          <a:solidFill>
            <a:srgbClr val="000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8" name="Freeform 134"/>
          <p:cNvSpPr/>
          <p:nvPr/>
        </p:nvSpPr>
        <p:spPr>
          <a:xfrm>
            <a:off x="4076640" y="2943360"/>
            <a:ext cx="333360" cy="245880"/>
          </a:xfrm>
          <a:custGeom>
            <a:avLst/>
            <a:gdLst>
              <a:gd name="textAreaLeft" fmla="*/ 0 w 333360"/>
              <a:gd name="textAreaRight" fmla="*/ 333360 w 333360"/>
              <a:gd name="textAreaTop" fmla="*/ 0 h 245880"/>
              <a:gd name="textAreaBottom" fmla="*/ 246240 h 245880"/>
            </a:gdLst>
            <a:ahLst/>
            <a:rect l="textAreaLeft" t="textAreaTop" r="textAreaRight" b="textAreaBottom"/>
            <a:pathLst>
              <a:path w="205" h="201">
                <a:moveTo>
                  <a:pt x="205" y="0"/>
                </a:moveTo>
                <a:lnTo>
                  <a:pt x="160" y="14"/>
                </a:lnTo>
                <a:lnTo>
                  <a:pt x="112" y="32"/>
                </a:lnTo>
                <a:lnTo>
                  <a:pt x="70" y="45"/>
                </a:lnTo>
                <a:lnTo>
                  <a:pt x="0" y="70"/>
                </a:lnTo>
                <a:lnTo>
                  <a:pt x="12" y="201"/>
                </a:lnTo>
                <a:lnTo>
                  <a:pt x="46" y="179"/>
                </a:lnTo>
                <a:lnTo>
                  <a:pt x="90" y="179"/>
                </a:lnTo>
                <a:lnTo>
                  <a:pt x="122" y="185"/>
                </a:lnTo>
                <a:lnTo>
                  <a:pt x="155" y="176"/>
                </a:lnTo>
                <a:lnTo>
                  <a:pt x="184" y="176"/>
                </a:lnTo>
                <a:lnTo>
                  <a:pt x="201" y="0"/>
                </a:lnTo>
                <a:lnTo>
                  <a:pt x="205" y="0"/>
                </a:lnTo>
                <a:close/>
              </a:path>
            </a:pathLst>
          </a:custGeom>
          <a:solidFill>
            <a:srgbClr val="000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9" name="Freeform 135"/>
          <p:cNvSpPr/>
          <p:nvPr/>
        </p:nvSpPr>
        <p:spPr>
          <a:xfrm>
            <a:off x="3135240" y="3013200"/>
            <a:ext cx="471600" cy="307800"/>
          </a:xfrm>
          <a:custGeom>
            <a:avLst/>
            <a:gdLst>
              <a:gd name="textAreaLeft" fmla="*/ 0 w 471600"/>
              <a:gd name="textAreaRight" fmla="*/ 471960 w 471600"/>
              <a:gd name="textAreaTop" fmla="*/ 0 h 307800"/>
              <a:gd name="textAreaBottom" fmla="*/ 308160 h 307800"/>
            </a:gdLst>
            <a:ahLst/>
            <a:rect l="textAreaLeft" t="textAreaTop" r="textAreaRight" b="textAreaBottom"/>
            <a:pathLst>
              <a:path w="290" h="256">
                <a:moveTo>
                  <a:pt x="9" y="93"/>
                </a:moveTo>
                <a:lnTo>
                  <a:pt x="106" y="47"/>
                </a:lnTo>
                <a:lnTo>
                  <a:pt x="215" y="8"/>
                </a:lnTo>
                <a:lnTo>
                  <a:pt x="290" y="0"/>
                </a:lnTo>
                <a:lnTo>
                  <a:pt x="283" y="133"/>
                </a:lnTo>
                <a:lnTo>
                  <a:pt x="248" y="142"/>
                </a:lnTo>
                <a:lnTo>
                  <a:pt x="192" y="159"/>
                </a:lnTo>
                <a:lnTo>
                  <a:pt x="157" y="181"/>
                </a:lnTo>
                <a:lnTo>
                  <a:pt x="114" y="204"/>
                </a:lnTo>
                <a:lnTo>
                  <a:pt x="78" y="232"/>
                </a:lnTo>
                <a:lnTo>
                  <a:pt x="24" y="254"/>
                </a:lnTo>
                <a:lnTo>
                  <a:pt x="0" y="256"/>
                </a:lnTo>
                <a:lnTo>
                  <a:pt x="14" y="88"/>
                </a:lnTo>
                <a:lnTo>
                  <a:pt x="9" y="93"/>
                </a:lnTo>
                <a:close/>
              </a:path>
            </a:pathLst>
          </a:custGeom>
          <a:solidFill>
            <a:srgbClr val="000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0" name="Freeform 136"/>
          <p:cNvSpPr/>
          <p:nvPr/>
        </p:nvSpPr>
        <p:spPr>
          <a:xfrm>
            <a:off x="3094200" y="2987640"/>
            <a:ext cx="492120" cy="142920"/>
          </a:xfrm>
          <a:custGeom>
            <a:avLst/>
            <a:gdLst>
              <a:gd name="textAreaLeft" fmla="*/ 0 w 492120"/>
              <a:gd name="textAreaRight" fmla="*/ 492480 w 492120"/>
              <a:gd name="textAreaTop" fmla="*/ 0 h 142920"/>
              <a:gd name="textAreaBottom" fmla="*/ 143280 h 142920"/>
            </a:gdLst>
            <a:ahLst/>
            <a:rect l="textAreaLeft" t="textAreaTop" r="textAreaRight" b="textAreaBottom"/>
            <a:pathLst>
              <a:path w="305" h="117">
                <a:moveTo>
                  <a:pt x="0" y="58"/>
                </a:moveTo>
                <a:lnTo>
                  <a:pt x="101" y="34"/>
                </a:lnTo>
                <a:lnTo>
                  <a:pt x="222" y="8"/>
                </a:lnTo>
                <a:lnTo>
                  <a:pt x="291" y="0"/>
                </a:lnTo>
                <a:lnTo>
                  <a:pt x="303" y="0"/>
                </a:lnTo>
                <a:lnTo>
                  <a:pt x="305" y="25"/>
                </a:lnTo>
                <a:lnTo>
                  <a:pt x="262" y="34"/>
                </a:lnTo>
                <a:lnTo>
                  <a:pt x="221" y="46"/>
                </a:lnTo>
                <a:lnTo>
                  <a:pt x="183" y="63"/>
                </a:lnTo>
                <a:lnTo>
                  <a:pt x="148" y="77"/>
                </a:lnTo>
                <a:lnTo>
                  <a:pt x="114" y="98"/>
                </a:lnTo>
                <a:lnTo>
                  <a:pt x="81" y="109"/>
                </a:lnTo>
                <a:lnTo>
                  <a:pt x="43" y="117"/>
                </a:lnTo>
                <a:lnTo>
                  <a:pt x="10" y="113"/>
                </a:lnTo>
                <a:lnTo>
                  <a:pt x="5" y="58"/>
                </a:lnTo>
                <a:lnTo>
                  <a:pt x="0" y="58"/>
                </a:lnTo>
                <a:close/>
              </a:path>
            </a:pathLst>
          </a:custGeom>
          <a:solidFill>
            <a:srgbClr val="82e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1" name="Freeform 137"/>
          <p:cNvSpPr/>
          <p:nvPr/>
        </p:nvSpPr>
        <p:spPr>
          <a:xfrm>
            <a:off x="3094200" y="2589120"/>
            <a:ext cx="596880" cy="466920"/>
          </a:xfrm>
          <a:custGeom>
            <a:avLst/>
            <a:gdLst>
              <a:gd name="textAreaLeft" fmla="*/ 0 w 596880"/>
              <a:gd name="textAreaRight" fmla="*/ 597240 w 596880"/>
              <a:gd name="textAreaTop" fmla="*/ 0 h 466920"/>
              <a:gd name="textAreaBottom" fmla="*/ 467280 h 466920"/>
            </a:gdLst>
            <a:ahLst/>
            <a:rect l="textAreaLeft" t="textAreaTop" r="textAreaRight" b="textAreaBottom"/>
            <a:pathLst>
              <a:path w="368" h="386">
                <a:moveTo>
                  <a:pt x="22" y="13"/>
                </a:moveTo>
                <a:lnTo>
                  <a:pt x="362" y="14"/>
                </a:lnTo>
                <a:lnTo>
                  <a:pt x="368" y="341"/>
                </a:lnTo>
                <a:lnTo>
                  <a:pt x="312" y="341"/>
                </a:lnTo>
                <a:lnTo>
                  <a:pt x="227" y="347"/>
                </a:lnTo>
                <a:lnTo>
                  <a:pt x="163" y="363"/>
                </a:lnTo>
                <a:lnTo>
                  <a:pt x="104" y="373"/>
                </a:lnTo>
                <a:lnTo>
                  <a:pt x="54" y="386"/>
                </a:lnTo>
                <a:lnTo>
                  <a:pt x="3" y="385"/>
                </a:lnTo>
                <a:lnTo>
                  <a:pt x="0" y="0"/>
                </a:lnTo>
                <a:lnTo>
                  <a:pt x="22" y="13"/>
                </a:lnTo>
                <a:close/>
              </a:path>
            </a:pathLst>
          </a:custGeom>
          <a:solidFill>
            <a:srgbClr val="e0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Freeform 138"/>
          <p:cNvSpPr/>
          <p:nvPr/>
        </p:nvSpPr>
        <p:spPr>
          <a:xfrm>
            <a:off x="2192400" y="3089160"/>
            <a:ext cx="538200" cy="561960"/>
          </a:xfrm>
          <a:custGeom>
            <a:avLst/>
            <a:gdLst>
              <a:gd name="textAreaLeft" fmla="*/ 0 w 538200"/>
              <a:gd name="textAreaRight" fmla="*/ 538560 w 538200"/>
              <a:gd name="textAreaTop" fmla="*/ 0 h 561960"/>
              <a:gd name="textAreaBottom" fmla="*/ 562320 h 561960"/>
            </a:gdLst>
            <a:ahLst/>
            <a:rect l="textAreaLeft" t="textAreaTop" r="textAreaRight" b="textAreaBottom"/>
            <a:pathLst>
              <a:path w="333" h="462">
                <a:moveTo>
                  <a:pt x="3" y="111"/>
                </a:moveTo>
                <a:lnTo>
                  <a:pt x="0" y="111"/>
                </a:lnTo>
                <a:lnTo>
                  <a:pt x="62" y="57"/>
                </a:lnTo>
                <a:lnTo>
                  <a:pt x="199" y="21"/>
                </a:lnTo>
                <a:lnTo>
                  <a:pt x="315" y="0"/>
                </a:lnTo>
                <a:lnTo>
                  <a:pt x="319" y="131"/>
                </a:lnTo>
                <a:lnTo>
                  <a:pt x="333" y="185"/>
                </a:lnTo>
                <a:lnTo>
                  <a:pt x="276" y="193"/>
                </a:lnTo>
                <a:lnTo>
                  <a:pt x="236" y="217"/>
                </a:lnTo>
                <a:lnTo>
                  <a:pt x="180" y="299"/>
                </a:lnTo>
                <a:lnTo>
                  <a:pt x="140" y="359"/>
                </a:lnTo>
                <a:lnTo>
                  <a:pt x="99" y="418"/>
                </a:lnTo>
                <a:lnTo>
                  <a:pt x="54" y="462"/>
                </a:lnTo>
                <a:lnTo>
                  <a:pt x="26" y="462"/>
                </a:lnTo>
                <a:lnTo>
                  <a:pt x="0" y="118"/>
                </a:lnTo>
                <a:lnTo>
                  <a:pt x="3" y="111"/>
                </a:lnTo>
                <a:close/>
              </a:path>
            </a:pathLst>
          </a:custGeom>
          <a:solidFill>
            <a:srgbClr val="000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Freeform 139"/>
          <p:cNvSpPr/>
          <p:nvPr/>
        </p:nvSpPr>
        <p:spPr>
          <a:xfrm>
            <a:off x="2171880" y="3002040"/>
            <a:ext cx="579240" cy="230040"/>
          </a:xfrm>
          <a:custGeom>
            <a:avLst/>
            <a:gdLst>
              <a:gd name="textAreaLeft" fmla="*/ 0 w 579240"/>
              <a:gd name="textAreaRight" fmla="*/ 579600 w 579240"/>
              <a:gd name="textAreaTop" fmla="*/ 0 h 230040"/>
              <a:gd name="textAreaBottom" fmla="*/ 230400 h 230040"/>
            </a:gdLst>
            <a:ahLst/>
            <a:rect l="textAreaLeft" t="textAreaTop" r="textAreaRight" b="textAreaBottom"/>
            <a:pathLst>
              <a:path w="358" h="187">
                <a:moveTo>
                  <a:pt x="13" y="119"/>
                </a:moveTo>
                <a:lnTo>
                  <a:pt x="125" y="21"/>
                </a:lnTo>
                <a:lnTo>
                  <a:pt x="275" y="0"/>
                </a:lnTo>
                <a:lnTo>
                  <a:pt x="357" y="12"/>
                </a:lnTo>
                <a:lnTo>
                  <a:pt x="358" y="49"/>
                </a:lnTo>
                <a:lnTo>
                  <a:pt x="357" y="94"/>
                </a:lnTo>
                <a:lnTo>
                  <a:pt x="310" y="95"/>
                </a:lnTo>
                <a:lnTo>
                  <a:pt x="266" y="109"/>
                </a:lnTo>
                <a:lnTo>
                  <a:pt x="230" y="110"/>
                </a:lnTo>
                <a:lnTo>
                  <a:pt x="190" y="115"/>
                </a:lnTo>
                <a:lnTo>
                  <a:pt x="135" y="135"/>
                </a:lnTo>
                <a:lnTo>
                  <a:pt x="99" y="149"/>
                </a:lnTo>
                <a:lnTo>
                  <a:pt x="51" y="172"/>
                </a:lnTo>
                <a:lnTo>
                  <a:pt x="13" y="187"/>
                </a:lnTo>
                <a:lnTo>
                  <a:pt x="0" y="119"/>
                </a:lnTo>
                <a:lnTo>
                  <a:pt x="13" y="119"/>
                </a:lnTo>
                <a:close/>
              </a:path>
            </a:pathLst>
          </a:custGeom>
          <a:solidFill>
            <a:srgbClr val="82e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Freeform 140"/>
          <p:cNvSpPr/>
          <p:nvPr/>
        </p:nvSpPr>
        <p:spPr>
          <a:xfrm>
            <a:off x="2084400" y="2590920"/>
            <a:ext cx="785880" cy="566640"/>
          </a:xfrm>
          <a:custGeom>
            <a:avLst/>
            <a:gdLst>
              <a:gd name="textAreaLeft" fmla="*/ 0 w 785880"/>
              <a:gd name="textAreaRight" fmla="*/ 786240 w 785880"/>
              <a:gd name="textAreaTop" fmla="*/ 0 h 566640"/>
              <a:gd name="textAreaBottom" fmla="*/ 567000 h 566640"/>
            </a:gdLst>
            <a:ahLst/>
            <a:rect l="textAreaLeft" t="textAreaTop" r="textAreaRight" b="textAreaBottom"/>
            <a:pathLst>
              <a:path w="486" h="466">
                <a:moveTo>
                  <a:pt x="53" y="10"/>
                </a:moveTo>
                <a:lnTo>
                  <a:pt x="486" y="10"/>
                </a:lnTo>
                <a:lnTo>
                  <a:pt x="475" y="384"/>
                </a:lnTo>
                <a:lnTo>
                  <a:pt x="409" y="389"/>
                </a:lnTo>
                <a:lnTo>
                  <a:pt x="350" y="389"/>
                </a:lnTo>
                <a:lnTo>
                  <a:pt x="298" y="399"/>
                </a:lnTo>
                <a:lnTo>
                  <a:pt x="242" y="406"/>
                </a:lnTo>
                <a:lnTo>
                  <a:pt x="186" y="416"/>
                </a:lnTo>
                <a:lnTo>
                  <a:pt x="129" y="435"/>
                </a:lnTo>
                <a:lnTo>
                  <a:pt x="89" y="450"/>
                </a:lnTo>
                <a:lnTo>
                  <a:pt x="44" y="466"/>
                </a:lnTo>
                <a:lnTo>
                  <a:pt x="0" y="89"/>
                </a:lnTo>
                <a:lnTo>
                  <a:pt x="37" y="0"/>
                </a:lnTo>
                <a:lnTo>
                  <a:pt x="53" y="10"/>
                </a:lnTo>
                <a:close/>
              </a:path>
            </a:pathLst>
          </a:custGeom>
          <a:solidFill>
            <a:srgbClr val="e0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5" name="Freeform 141"/>
          <p:cNvSpPr/>
          <p:nvPr/>
        </p:nvSpPr>
        <p:spPr>
          <a:xfrm>
            <a:off x="1282680" y="3225960"/>
            <a:ext cx="449280" cy="671400"/>
          </a:xfrm>
          <a:custGeom>
            <a:avLst/>
            <a:gdLst>
              <a:gd name="textAreaLeft" fmla="*/ 0 w 449280"/>
              <a:gd name="textAreaRight" fmla="*/ 449640 w 449280"/>
              <a:gd name="textAreaTop" fmla="*/ 0 h 671400"/>
              <a:gd name="textAreaBottom" fmla="*/ 671760 h 671400"/>
            </a:gdLst>
            <a:ahLst/>
            <a:rect l="textAreaLeft" t="textAreaTop" r="textAreaRight" b="textAreaBottom"/>
            <a:pathLst>
              <a:path w="277" h="554">
                <a:moveTo>
                  <a:pt x="269" y="0"/>
                </a:moveTo>
                <a:lnTo>
                  <a:pt x="277" y="362"/>
                </a:lnTo>
                <a:lnTo>
                  <a:pt x="246" y="362"/>
                </a:lnTo>
                <a:lnTo>
                  <a:pt x="195" y="396"/>
                </a:lnTo>
                <a:lnTo>
                  <a:pt x="163" y="414"/>
                </a:lnTo>
                <a:lnTo>
                  <a:pt x="122" y="456"/>
                </a:lnTo>
                <a:lnTo>
                  <a:pt x="85" y="499"/>
                </a:lnTo>
                <a:lnTo>
                  <a:pt x="21" y="554"/>
                </a:lnTo>
                <a:lnTo>
                  <a:pt x="0" y="47"/>
                </a:lnTo>
                <a:lnTo>
                  <a:pt x="161" y="10"/>
                </a:lnTo>
                <a:lnTo>
                  <a:pt x="269" y="0"/>
                </a:lnTo>
                <a:close/>
              </a:path>
            </a:pathLst>
          </a:custGeom>
          <a:solidFill>
            <a:srgbClr val="000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6" name="Freeform 142"/>
          <p:cNvSpPr/>
          <p:nvPr/>
        </p:nvSpPr>
        <p:spPr>
          <a:xfrm>
            <a:off x="1262160" y="3117960"/>
            <a:ext cx="457200" cy="244440"/>
          </a:xfrm>
          <a:custGeom>
            <a:avLst/>
            <a:gdLst>
              <a:gd name="textAreaLeft" fmla="*/ 0 w 457200"/>
              <a:gd name="textAreaRight" fmla="*/ 457560 w 457200"/>
              <a:gd name="textAreaTop" fmla="*/ 0 h 244440"/>
              <a:gd name="textAreaBottom" fmla="*/ 244800 h 244440"/>
            </a:gdLst>
            <a:ahLst/>
            <a:rect l="textAreaLeft" t="textAreaTop" r="textAreaRight" b="textAreaBottom"/>
            <a:pathLst>
              <a:path w="282" h="201">
                <a:moveTo>
                  <a:pt x="7" y="0"/>
                </a:moveTo>
                <a:lnTo>
                  <a:pt x="282" y="7"/>
                </a:lnTo>
                <a:lnTo>
                  <a:pt x="281" y="72"/>
                </a:lnTo>
                <a:lnTo>
                  <a:pt x="261" y="87"/>
                </a:lnTo>
                <a:lnTo>
                  <a:pt x="28" y="190"/>
                </a:lnTo>
                <a:lnTo>
                  <a:pt x="0" y="201"/>
                </a:lnTo>
                <a:lnTo>
                  <a:pt x="11" y="0"/>
                </a:lnTo>
                <a:lnTo>
                  <a:pt x="7" y="0"/>
                </a:lnTo>
                <a:close/>
              </a:path>
            </a:pathLst>
          </a:custGeom>
          <a:solidFill>
            <a:srgbClr val="82e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Freeform 143"/>
          <p:cNvSpPr/>
          <p:nvPr/>
        </p:nvSpPr>
        <p:spPr>
          <a:xfrm>
            <a:off x="1211400" y="2597040"/>
            <a:ext cx="610920" cy="550800"/>
          </a:xfrm>
          <a:custGeom>
            <a:avLst/>
            <a:gdLst>
              <a:gd name="textAreaLeft" fmla="*/ 0 w 610920"/>
              <a:gd name="textAreaRight" fmla="*/ 611280 w 610920"/>
              <a:gd name="textAreaTop" fmla="*/ 0 h 550800"/>
              <a:gd name="textAreaBottom" fmla="*/ 551160 h 550800"/>
            </a:gdLst>
            <a:ahLst/>
            <a:rect l="textAreaLeft" t="textAreaTop" r="textAreaRight" b="textAreaBottom"/>
            <a:pathLst>
              <a:path w="377" h="453">
                <a:moveTo>
                  <a:pt x="13" y="2"/>
                </a:moveTo>
                <a:lnTo>
                  <a:pt x="377" y="0"/>
                </a:lnTo>
                <a:lnTo>
                  <a:pt x="363" y="443"/>
                </a:lnTo>
                <a:lnTo>
                  <a:pt x="45" y="453"/>
                </a:lnTo>
                <a:lnTo>
                  <a:pt x="0" y="0"/>
                </a:lnTo>
                <a:lnTo>
                  <a:pt x="13" y="2"/>
                </a:lnTo>
                <a:close/>
              </a:path>
            </a:pathLst>
          </a:custGeom>
          <a:solidFill>
            <a:srgbClr val="e0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Freeform 144"/>
          <p:cNvSpPr/>
          <p:nvPr/>
        </p:nvSpPr>
        <p:spPr>
          <a:xfrm>
            <a:off x="2529000" y="4716360"/>
            <a:ext cx="718920" cy="1192320"/>
          </a:xfrm>
          <a:custGeom>
            <a:avLst/>
            <a:gdLst>
              <a:gd name="textAreaLeft" fmla="*/ 0 w 718920"/>
              <a:gd name="textAreaRight" fmla="*/ 718920 w 718920"/>
              <a:gd name="textAreaTop" fmla="*/ 0 h 1192320"/>
              <a:gd name="textAreaBottom" fmla="*/ 1192680 h 1192320"/>
            </a:gdLst>
            <a:ahLst/>
            <a:rect l="textAreaLeft" t="textAreaTop" r="textAreaRight" b="textAreaBottom"/>
            <a:pathLst>
              <a:path w="445" h="981">
                <a:moveTo>
                  <a:pt x="379" y="0"/>
                </a:moveTo>
                <a:lnTo>
                  <a:pt x="376" y="10"/>
                </a:lnTo>
                <a:lnTo>
                  <a:pt x="382" y="32"/>
                </a:lnTo>
                <a:lnTo>
                  <a:pt x="390" y="42"/>
                </a:lnTo>
                <a:lnTo>
                  <a:pt x="386" y="48"/>
                </a:lnTo>
                <a:lnTo>
                  <a:pt x="379" y="72"/>
                </a:lnTo>
                <a:lnTo>
                  <a:pt x="386" y="83"/>
                </a:lnTo>
                <a:lnTo>
                  <a:pt x="392" y="94"/>
                </a:lnTo>
                <a:lnTo>
                  <a:pt x="388" y="101"/>
                </a:lnTo>
                <a:lnTo>
                  <a:pt x="390" y="129"/>
                </a:lnTo>
                <a:lnTo>
                  <a:pt x="404" y="146"/>
                </a:lnTo>
                <a:lnTo>
                  <a:pt x="413" y="152"/>
                </a:lnTo>
                <a:lnTo>
                  <a:pt x="405" y="157"/>
                </a:lnTo>
                <a:lnTo>
                  <a:pt x="396" y="165"/>
                </a:lnTo>
                <a:lnTo>
                  <a:pt x="394" y="181"/>
                </a:lnTo>
                <a:lnTo>
                  <a:pt x="376" y="191"/>
                </a:lnTo>
                <a:lnTo>
                  <a:pt x="374" y="206"/>
                </a:lnTo>
                <a:lnTo>
                  <a:pt x="375" y="208"/>
                </a:lnTo>
                <a:lnTo>
                  <a:pt x="370" y="233"/>
                </a:lnTo>
                <a:lnTo>
                  <a:pt x="374" y="243"/>
                </a:lnTo>
                <a:lnTo>
                  <a:pt x="379" y="262"/>
                </a:lnTo>
                <a:lnTo>
                  <a:pt x="388" y="265"/>
                </a:lnTo>
                <a:lnTo>
                  <a:pt x="379" y="285"/>
                </a:lnTo>
                <a:lnTo>
                  <a:pt x="385" y="302"/>
                </a:lnTo>
                <a:lnTo>
                  <a:pt x="392" y="314"/>
                </a:lnTo>
                <a:lnTo>
                  <a:pt x="412" y="330"/>
                </a:lnTo>
                <a:lnTo>
                  <a:pt x="417" y="336"/>
                </a:lnTo>
                <a:lnTo>
                  <a:pt x="419" y="341"/>
                </a:lnTo>
                <a:lnTo>
                  <a:pt x="429" y="357"/>
                </a:lnTo>
                <a:lnTo>
                  <a:pt x="419" y="357"/>
                </a:lnTo>
                <a:lnTo>
                  <a:pt x="417" y="369"/>
                </a:lnTo>
                <a:lnTo>
                  <a:pt x="396" y="383"/>
                </a:lnTo>
                <a:lnTo>
                  <a:pt x="398" y="394"/>
                </a:lnTo>
                <a:lnTo>
                  <a:pt x="390" y="398"/>
                </a:lnTo>
                <a:lnTo>
                  <a:pt x="417" y="415"/>
                </a:lnTo>
                <a:lnTo>
                  <a:pt x="386" y="415"/>
                </a:lnTo>
                <a:lnTo>
                  <a:pt x="419" y="441"/>
                </a:lnTo>
                <a:lnTo>
                  <a:pt x="412" y="449"/>
                </a:lnTo>
                <a:lnTo>
                  <a:pt x="425" y="463"/>
                </a:lnTo>
                <a:lnTo>
                  <a:pt x="419" y="471"/>
                </a:lnTo>
                <a:lnTo>
                  <a:pt x="425" y="479"/>
                </a:lnTo>
                <a:lnTo>
                  <a:pt x="426" y="485"/>
                </a:lnTo>
                <a:lnTo>
                  <a:pt x="421" y="489"/>
                </a:lnTo>
                <a:lnTo>
                  <a:pt x="413" y="513"/>
                </a:lnTo>
                <a:lnTo>
                  <a:pt x="419" y="524"/>
                </a:lnTo>
                <a:lnTo>
                  <a:pt x="426" y="529"/>
                </a:lnTo>
                <a:lnTo>
                  <a:pt x="429" y="534"/>
                </a:lnTo>
                <a:lnTo>
                  <a:pt x="438" y="553"/>
                </a:lnTo>
                <a:lnTo>
                  <a:pt x="419" y="558"/>
                </a:lnTo>
                <a:lnTo>
                  <a:pt x="425" y="575"/>
                </a:lnTo>
                <a:lnTo>
                  <a:pt x="425" y="580"/>
                </a:lnTo>
                <a:lnTo>
                  <a:pt x="431" y="587"/>
                </a:lnTo>
                <a:lnTo>
                  <a:pt x="423" y="599"/>
                </a:lnTo>
                <a:lnTo>
                  <a:pt x="413" y="605"/>
                </a:lnTo>
                <a:lnTo>
                  <a:pt x="419" y="623"/>
                </a:lnTo>
                <a:lnTo>
                  <a:pt x="423" y="631"/>
                </a:lnTo>
                <a:lnTo>
                  <a:pt x="419" y="641"/>
                </a:lnTo>
                <a:lnTo>
                  <a:pt x="435" y="648"/>
                </a:lnTo>
                <a:lnTo>
                  <a:pt x="421" y="647"/>
                </a:lnTo>
                <a:lnTo>
                  <a:pt x="425" y="664"/>
                </a:lnTo>
                <a:lnTo>
                  <a:pt x="405" y="678"/>
                </a:lnTo>
                <a:lnTo>
                  <a:pt x="411" y="686"/>
                </a:lnTo>
                <a:lnTo>
                  <a:pt x="402" y="707"/>
                </a:lnTo>
                <a:lnTo>
                  <a:pt x="421" y="721"/>
                </a:lnTo>
                <a:lnTo>
                  <a:pt x="435" y="733"/>
                </a:lnTo>
                <a:lnTo>
                  <a:pt x="439" y="741"/>
                </a:lnTo>
                <a:lnTo>
                  <a:pt x="431" y="751"/>
                </a:lnTo>
                <a:lnTo>
                  <a:pt x="420" y="760"/>
                </a:lnTo>
                <a:lnTo>
                  <a:pt x="429" y="768"/>
                </a:lnTo>
                <a:lnTo>
                  <a:pt x="422" y="782"/>
                </a:lnTo>
                <a:lnTo>
                  <a:pt x="436" y="790"/>
                </a:lnTo>
                <a:lnTo>
                  <a:pt x="445" y="800"/>
                </a:lnTo>
                <a:lnTo>
                  <a:pt x="428" y="808"/>
                </a:lnTo>
                <a:lnTo>
                  <a:pt x="413" y="818"/>
                </a:lnTo>
                <a:lnTo>
                  <a:pt x="417" y="823"/>
                </a:lnTo>
                <a:lnTo>
                  <a:pt x="414" y="833"/>
                </a:lnTo>
                <a:lnTo>
                  <a:pt x="422" y="847"/>
                </a:lnTo>
                <a:lnTo>
                  <a:pt x="422" y="862"/>
                </a:lnTo>
                <a:lnTo>
                  <a:pt x="431" y="865"/>
                </a:lnTo>
                <a:lnTo>
                  <a:pt x="431" y="880"/>
                </a:lnTo>
                <a:lnTo>
                  <a:pt x="423" y="892"/>
                </a:lnTo>
                <a:lnTo>
                  <a:pt x="418" y="896"/>
                </a:lnTo>
                <a:lnTo>
                  <a:pt x="423" y="910"/>
                </a:lnTo>
                <a:lnTo>
                  <a:pt x="429" y="912"/>
                </a:lnTo>
                <a:lnTo>
                  <a:pt x="425" y="927"/>
                </a:lnTo>
                <a:lnTo>
                  <a:pt x="431" y="944"/>
                </a:lnTo>
                <a:lnTo>
                  <a:pt x="418" y="954"/>
                </a:lnTo>
                <a:lnTo>
                  <a:pt x="413" y="961"/>
                </a:lnTo>
                <a:lnTo>
                  <a:pt x="429" y="981"/>
                </a:lnTo>
                <a:lnTo>
                  <a:pt x="17" y="976"/>
                </a:lnTo>
                <a:lnTo>
                  <a:pt x="9" y="971"/>
                </a:lnTo>
                <a:lnTo>
                  <a:pt x="16" y="964"/>
                </a:lnTo>
                <a:lnTo>
                  <a:pt x="25" y="954"/>
                </a:lnTo>
                <a:lnTo>
                  <a:pt x="23" y="946"/>
                </a:lnTo>
                <a:lnTo>
                  <a:pt x="25" y="935"/>
                </a:lnTo>
                <a:lnTo>
                  <a:pt x="12" y="927"/>
                </a:lnTo>
                <a:lnTo>
                  <a:pt x="19" y="925"/>
                </a:lnTo>
                <a:lnTo>
                  <a:pt x="19" y="912"/>
                </a:lnTo>
                <a:lnTo>
                  <a:pt x="15" y="919"/>
                </a:lnTo>
                <a:lnTo>
                  <a:pt x="15" y="910"/>
                </a:lnTo>
                <a:lnTo>
                  <a:pt x="16" y="902"/>
                </a:lnTo>
                <a:lnTo>
                  <a:pt x="9" y="886"/>
                </a:lnTo>
                <a:lnTo>
                  <a:pt x="35" y="865"/>
                </a:lnTo>
                <a:lnTo>
                  <a:pt x="12" y="862"/>
                </a:lnTo>
                <a:lnTo>
                  <a:pt x="23" y="849"/>
                </a:lnTo>
                <a:lnTo>
                  <a:pt x="29" y="838"/>
                </a:lnTo>
                <a:lnTo>
                  <a:pt x="23" y="838"/>
                </a:lnTo>
                <a:lnTo>
                  <a:pt x="15" y="817"/>
                </a:lnTo>
                <a:lnTo>
                  <a:pt x="12" y="817"/>
                </a:lnTo>
                <a:lnTo>
                  <a:pt x="12" y="797"/>
                </a:lnTo>
                <a:lnTo>
                  <a:pt x="7" y="792"/>
                </a:lnTo>
                <a:lnTo>
                  <a:pt x="17" y="790"/>
                </a:lnTo>
                <a:lnTo>
                  <a:pt x="10" y="768"/>
                </a:lnTo>
                <a:lnTo>
                  <a:pt x="19" y="768"/>
                </a:lnTo>
                <a:lnTo>
                  <a:pt x="39" y="758"/>
                </a:lnTo>
                <a:lnTo>
                  <a:pt x="17" y="750"/>
                </a:lnTo>
                <a:lnTo>
                  <a:pt x="29" y="750"/>
                </a:lnTo>
                <a:lnTo>
                  <a:pt x="18" y="737"/>
                </a:lnTo>
                <a:lnTo>
                  <a:pt x="24" y="724"/>
                </a:lnTo>
                <a:lnTo>
                  <a:pt x="34" y="724"/>
                </a:lnTo>
                <a:lnTo>
                  <a:pt x="34" y="707"/>
                </a:lnTo>
                <a:lnTo>
                  <a:pt x="49" y="707"/>
                </a:lnTo>
                <a:lnTo>
                  <a:pt x="57" y="702"/>
                </a:lnTo>
                <a:lnTo>
                  <a:pt x="66" y="696"/>
                </a:lnTo>
                <a:lnTo>
                  <a:pt x="72" y="686"/>
                </a:lnTo>
                <a:lnTo>
                  <a:pt x="61" y="671"/>
                </a:lnTo>
                <a:lnTo>
                  <a:pt x="79" y="671"/>
                </a:lnTo>
                <a:lnTo>
                  <a:pt x="92" y="671"/>
                </a:lnTo>
                <a:lnTo>
                  <a:pt x="65" y="656"/>
                </a:lnTo>
                <a:lnTo>
                  <a:pt x="87" y="648"/>
                </a:lnTo>
                <a:lnTo>
                  <a:pt x="114" y="644"/>
                </a:lnTo>
                <a:lnTo>
                  <a:pt x="92" y="641"/>
                </a:lnTo>
                <a:lnTo>
                  <a:pt x="137" y="632"/>
                </a:lnTo>
                <a:lnTo>
                  <a:pt x="129" y="631"/>
                </a:lnTo>
                <a:lnTo>
                  <a:pt x="25" y="609"/>
                </a:lnTo>
                <a:lnTo>
                  <a:pt x="25" y="587"/>
                </a:lnTo>
                <a:lnTo>
                  <a:pt x="28" y="569"/>
                </a:lnTo>
                <a:lnTo>
                  <a:pt x="95" y="562"/>
                </a:lnTo>
                <a:lnTo>
                  <a:pt x="55" y="553"/>
                </a:lnTo>
                <a:lnTo>
                  <a:pt x="25" y="543"/>
                </a:lnTo>
                <a:lnTo>
                  <a:pt x="43" y="534"/>
                </a:lnTo>
                <a:lnTo>
                  <a:pt x="40" y="524"/>
                </a:lnTo>
                <a:lnTo>
                  <a:pt x="43" y="513"/>
                </a:lnTo>
                <a:lnTo>
                  <a:pt x="29" y="502"/>
                </a:lnTo>
                <a:lnTo>
                  <a:pt x="40" y="495"/>
                </a:lnTo>
                <a:lnTo>
                  <a:pt x="26" y="485"/>
                </a:lnTo>
                <a:lnTo>
                  <a:pt x="25" y="480"/>
                </a:lnTo>
                <a:lnTo>
                  <a:pt x="9" y="465"/>
                </a:lnTo>
                <a:lnTo>
                  <a:pt x="39" y="458"/>
                </a:lnTo>
                <a:lnTo>
                  <a:pt x="23" y="458"/>
                </a:lnTo>
                <a:lnTo>
                  <a:pt x="23" y="440"/>
                </a:lnTo>
                <a:lnTo>
                  <a:pt x="17" y="429"/>
                </a:lnTo>
                <a:lnTo>
                  <a:pt x="31" y="425"/>
                </a:lnTo>
                <a:lnTo>
                  <a:pt x="19" y="408"/>
                </a:lnTo>
                <a:lnTo>
                  <a:pt x="25" y="400"/>
                </a:lnTo>
                <a:lnTo>
                  <a:pt x="12" y="390"/>
                </a:lnTo>
                <a:lnTo>
                  <a:pt x="19" y="377"/>
                </a:lnTo>
                <a:lnTo>
                  <a:pt x="28" y="374"/>
                </a:lnTo>
                <a:lnTo>
                  <a:pt x="10" y="361"/>
                </a:lnTo>
                <a:lnTo>
                  <a:pt x="23" y="356"/>
                </a:lnTo>
                <a:lnTo>
                  <a:pt x="12" y="342"/>
                </a:lnTo>
                <a:lnTo>
                  <a:pt x="3" y="326"/>
                </a:lnTo>
                <a:lnTo>
                  <a:pt x="16" y="326"/>
                </a:lnTo>
                <a:lnTo>
                  <a:pt x="9" y="316"/>
                </a:lnTo>
                <a:lnTo>
                  <a:pt x="17" y="296"/>
                </a:lnTo>
                <a:lnTo>
                  <a:pt x="2" y="280"/>
                </a:lnTo>
                <a:lnTo>
                  <a:pt x="8" y="275"/>
                </a:lnTo>
                <a:lnTo>
                  <a:pt x="10" y="258"/>
                </a:lnTo>
                <a:lnTo>
                  <a:pt x="18" y="251"/>
                </a:lnTo>
                <a:lnTo>
                  <a:pt x="15" y="241"/>
                </a:lnTo>
                <a:lnTo>
                  <a:pt x="19" y="233"/>
                </a:lnTo>
                <a:lnTo>
                  <a:pt x="34" y="223"/>
                </a:lnTo>
                <a:lnTo>
                  <a:pt x="17" y="212"/>
                </a:lnTo>
                <a:lnTo>
                  <a:pt x="39" y="212"/>
                </a:lnTo>
                <a:lnTo>
                  <a:pt x="32" y="193"/>
                </a:lnTo>
                <a:lnTo>
                  <a:pt x="23" y="190"/>
                </a:lnTo>
                <a:lnTo>
                  <a:pt x="12" y="173"/>
                </a:lnTo>
                <a:lnTo>
                  <a:pt x="6" y="152"/>
                </a:lnTo>
                <a:lnTo>
                  <a:pt x="0" y="142"/>
                </a:lnTo>
                <a:lnTo>
                  <a:pt x="6" y="142"/>
                </a:lnTo>
                <a:lnTo>
                  <a:pt x="3" y="134"/>
                </a:lnTo>
                <a:lnTo>
                  <a:pt x="17" y="126"/>
                </a:lnTo>
                <a:lnTo>
                  <a:pt x="6" y="113"/>
                </a:lnTo>
                <a:lnTo>
                  <a:pt x="25" y="111"/>
                </a:lnTo>
                <a:lnTo>
                  <a:pt x="31" y="103"/>
                </a:lnTo>
                <a:lnTo>
                  <a:pt x="29" y="97"/>
                </a:lnTo>
                <a:lnTo>
                  <a:pt x="39" y="93"/>
                </a:lnTo>
                <a:lnTo>
                  <a:pt x="39" y="82"/>
                </a:lnTo>
                <a:lnTo>
                  <a:pt x="17" y="72"/>
                </a:lnTo>
                <a:lnTo>
                  <a:pt x="10" y="63"/>
                </a:lnTo>
                <a:lnTo>
                  <a:pt x="19" y="57"/>
                </a:lnTo>
                <a:lnTo>
                  <a:pt x="29" y="53"/>
                </a:lnTo>
                <a:lnTo>
                  <a:pt x="31" y="42"/>
                </a:lnTo>
                <a:lnTo>
                  <a:pt x="26" y="28"/>
                </a:lnTo>
                <a:lnTo>
                  <a:pt x="50" y="23"/>
                </a:lnTo>
                <a:lnTo>
                  <a:pt x="2" y="5"/>
                </a:lnTo>
                <a:lnTo>
                  <a:pt x="17" y="2"/>
                </a:lnTo>
                <a:lnTo>
                  <a:pt x="378" y="2"/>
                </a:lnTo>
                <a:lnTo>
                  <a:pt x="379"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Freeform 145"/>
          <p:cNvSpPr/>
          <p:nvPr/>
        </p:nvSpPr>
        <p:spPr>
          <a:xfrm>
            <a:off x="2535120" y="3651120"/>
            <a:ext cx="647640" cy="1067040"/>
          </a:xfrm>
          <a:custGeom>
            <a:avLst/>
            <a:gdLst>
              <a:gd name="textAreaLeft" fmla="*/ 0 w 647640"/>
              <a:gd name="textAreaRight" fmla="*/ 647640 w 647640"/>
              <a:gd name="textAreaTop" fmla="*/ 0 h 1067040"/>
              <a:gd name="textAreaBottom" fmla="*/ 1067400 h 1067040"/>
            </a:gdLst>
            <a:ahLst/>
            <a:rect l="textAreaLeft" t="textAreaTop" r="textAreaRight" b="textAreaBottom"/>
            <a:pathLst>
              <a:path w="398" h="876">
                <a:moveTo>
                  <a:pt x="364" y="0"/>
                </a:moveTo>
                <a:lnTo>
                  <a:pt x="364" y="19"/>
                </a:lnTo>
                <a:lnTo>
                  <a:pt x="370" y="45"/>
                </a:lnTo>
                <a:lnTo>
                  <a:pt x="371" y="54"/>
                </a:lnTo>
                <a:lnTo>
                  <a:pt x="371" y="59"/>
                </a:lnTo>
                <a:lnTo>
                  <a:pt x="374" y="83"/>
                </a:lnTo>
                <a:lnTo>
                  <a:pt x="370" y="114"/>
                </a:lnTo>
                <a:lnTo>
                  <a:pt x="362" y="122"/>
                </a:lnTo>
                <a:lnTo>
                  <a:pt x="371" y="145"/>
                </a:lnTo>
                <a:lnTo>
                  <a:pt x="365" y="155"/>
                </a:lnTo>
                <a:lnTo>
                  <a:pt x="365" y="173"/>
                </a:lnTo>
                <a:lnTo>
                  <a:pt x="377" y="195"/>
                </a:lnTo>
                <a:lnTo>
                  <a:pt x="364" y="203"/>
                </a:lnTo>
                <a:lnTo>
                  <a:pt x="369" y="226"/>
                </a:lnTo>
                <a:lnTo>
                  <a:pt x="364" y="236"/>
                </a:lnTo>
                <a:lnTo>
                  <a:pt x="364" y="243"/>
                </a:lnTo>
                <a:lnTo>
                  <a:pt x="364" y="252"/>
                </a:lnTo>
                <a:lnTo>
                  <a:pt x="364" y="276"/>
                </a:lnTo>
                <a:lnTo>
                  <a:pt x="365" y="288"/>
                </a:lnTo>
                <a:lnTo>
                  <a:pt x="365" y="303"/>
                </a:lnTo>
                <a:lnTo>
                  <a:pt x="362" y="312"/>
                </a:lnTo>
                <a:lnTo>
                  <a:pt x="364" y="330"/>
                </a:lnTo>
                <a:lnTo>
                  <a:pt x="364" y="352"/>
                </a:lnTo>
                <a:lnTo>
                  <a:pt x="365" y="370"/>
                </a:lnTo>
                <a:lnTo>
                  <a:pt x="362" y="378"/>
                </a:lnTo>
                <a:lnTo>
                  <a:pt x="371" y="402"/>
                </a:lnTo>
                <a:lnTo>
                  <a:pt x="369" y="421"/>
                </a:lnTo>
                <a:lnTo>
                  <a:pt x="369" y="440"/>
                </a:lnTo>
                <a:lnTo>
                  <a:pt x="370" y="451"/>
                </a:lnTo>
                <a:lnTo>
                  <a:pt x="371" y="459"/>
                </a:lnTo>
                <a:lnTo>
                  <a:pt x="374" y="472"/>
                </a:lnTo>
                <a:lnTo>
                  <a:pt x="370" y="482"/>
                </a:lnTo>
                <a:lnTo>
                  <a:pt x="377" y="487"/>
                </a:lnTo>
                <a:lnTo>
                  <a:pt x="374" y="505"/>
                </a:lnTo>
                <a:lnTo>
                  <a:pt x="370" y="519"/>
                </a:lnTo>
                <a:lnTo>
                  <a:pt x="374" y="535"/>
                </a:lnTo>
                <a:lnTo>
                  <a:pt x="398" y="551"/>
                </a:lnTo>
                <a:lnTo>
                  <a:pt x="374" y="568"/>
                </a:lnTo>
                <a:lnTo>
                  <a:pt x="371" y="591"/>
                </a:lnTo>
                <a:lnTo>
                  <a:pt x="374" y="615"/>
                </a:lnTo>
                <a:lnTo>
                  <a:pt x="371" y="626"/>
                </a:lnTo>
                <a:lnTo>
                  <a:pt x="370" y="648"/>
                </a:lnTo>
                <a:lnTo>
                  <a:pt x="365" y="670"/>
                </a:lnTo>
                <a:lnTo>
                  <a:pt x="381" y="689"/>
                </a:lnTo>
                <a:lnTo>
                  <a:pt x="377" y="704"/>
                </a:lnTo>
                <a:lnTo>
                  <a:pt x="380" y="713"/>
                </a:lnTo>
                <a:lnTo>
                  <a:pt x="374" y="715"/>
                </a:lnTo>
                <a:lnTo>
                  <a:pt x="374" y="729"/>
                </a:lnTo>
                <a:lnTo>
                  <a:pt x="377" y="739"/>
                </a:lnTo>
                <a:lnTo>
                  <a:pt x="369" y="752"/>
                </a:lnTo>
                <a:lnTo>
                  <a:pt x="371" y="755"/>
                </a:lnTo>
                <a:lnTo>
                  <a:pt x="371" y="770"/>
                </a:lnTo>
                <a:lnTo>
                  <a:pt x="374" y="794"/>
                </a:lnTo>
                <a:lnTo>
                  <a:pt x="374" y="808"/>
                </a:lnTo>
                <a:lnTo>
                  <a:pt x="371" y="816"/>
                </a:lnTo>
                <a:lnTo>
                  <a:pt x="371" y="819"/>
                </a:lnTo>
                <a:lnTo>
                  <a:pt x="377" y="833"/>
                </a:lnTo>
                <a:lnTo>
                  <a:pt x="374" y="843"/>
                </a:lnTo>
                <a:lnTo>
                  <a:pt x="387" y="856"/>
                </a:lnTo>
                <a:lnTo>
                  <a:pt x="380" y="874"/>
                </a:lnTo>
                <a:lnTo>
                  <a:pt x="18" y="876"/>
                </a:lnTo>
                <a:lnTo>
                  <a:pt x="19" y="869"/>
                </a:lnTo>
                <a:lnTo>
                  <a:pt x="11" y="858"/>
                </a:lnTo>
                <a:lnTo>
                  <a:pt x="6" y="858"/>
                </a:lnTo>
                <a:lnTo>
                  <a:pt x="5" y="847"/>
                </a:lnTo>
                <a:lnTo>
                  <a:pt x="5" y="828"/>
                </a:lnTo>
                <a:lnTo>
                  <a:pt x="0" y="824"/>
                </a:lnTo>
                <a:lnTo>
                  <a:pt x="6" y="808"/>
                </a:lnTo>
                <a:lnTo>
                  <a:pt x="5" y="808"/>
                </a:lnTo>
                <a:lnTo>
                  <a:pt x="11" y="803"/>
                </a:lnTo>
                <a:lnTo>
                  <a:pt x="10" y="794"/>
                </a:lnTo>
                <a:lnTo>
                  <a:pt x="14" y="777"/>
                </a:lnTo>
                <a:lnTo>
                  <a:pt x="14" y="772"/>
                </a:lnTo>
                <a:lnTo>
                  <a:pt x="20" y="753"/>
                </a:lnTo>
                <a:lnTo>
                  <a:pt x="19" y="753"/>
                </a:lnTo>
                <a:lnTo>
                  <a:pt x="14" y="743"/>
                </a:lnTo>
                <a:lnTo>
                  <a:pt x="20" y="737"/>
                </a:lnTo>
                <a:lnTo>
                  <a:pt x="24" y="737"/>
                </a:lnTo>
                <a:lnTo>
                  <a:pt x="31" y="727"/>
                </a:lnTo>
                <a:lnTo>
                  <a:pt x="61" y="720"/>
                </a:lnTo>
                <a:lnTo>
                  <a:pt x="36" y="704"/>
                </a:lnTo>
                <a:lnTo>
                  <a:pt x="52" y="692"/>
                </a:lnTo>
                <a:lnTo>
                  <a:pt x="45" y="692"/>
                </a:lnTo>
                <a:lnTo>
                  <a:pt x="45" y="682"/>
                </a:lnTo>
                <a:lnTo>
                  <a:pt x="36" y="674"/>
                </a:lnTo>
                <a:lnTo>
                  <a:pt x="62" y="668"/>
                </a:lnTo>
                <a:lnTo>
                  <a:pt x="28" y="658"/>
                </a:lnTo>
                <a:lnTo>
                  <a:pt x="36" y="658"/>
                </a:lnTo>
                <a:lnTo>
                  <a:pt x="34" y="648"/>
                </a:lnTo>
                <a:lnTo>
                  <a:pt x="48" y="643"/>
                </a:lnTo>
                <a:lnTo>
                  <a:pt x="55" y="636"/>
                </a:lnTo>
                <a:lnTo>
                  <a:pt x="40" y="626"/>
                </a:lnTo>
                <a:lnTo>
                  <a:pt x="56" y="619"/>
                </a:lnTo>
                <a:lnTo>
                  <a:pt x="22" y="601"/>
                </a:lnTo>
                <a:lnTo>
                  <a:pt x="37" y="593"/>
                </a:lnTo>
                <a:lnTo>
                  <a:pt x="28" y="593"/>
                </a:lnTo>
                <a:lnTo>
                  <a:pt x="34" y="579"/>
                </a:lnTo>
                <a:lnTo>
                  <a:pt x="20" y="576"/>
                </a:lnTo>
                <a:lnTo>
                  <a:pt x="28" y="557"/>
                </a:lnTo>
                <a:lnTo>
                  <a:pt x="14" y="555"/>
                </a:lnTo>
                <a:lnTo>
                  <a:pt x="40" y="541"/>
                </a:lnTo>
                <a:lnTo>
                  <a:pt x="14" y="535"/>
                </a:lnTo>
                <a:lnTo>
                  <a:pt x="6" y="520"/>
                </a:lnTo>
                <a:lnTo>
                  <a:pt x="11" y="512"/>
                </a:lnTo>
                <a:lnTo>
                  <a:pt x="1" y="505"/>
                </a:lnTo>
                <a:lnTo>
                  <a:pt x="3" y="505"/>
                </a:lnTo>
                <a:lnTo>
                  <a:pt x="0" y="487"/>
                </a:lnTo>
                <a:lnTo>
                  <a:pt x="5" y="482"/>
                </a:lnTo>
                <a:lnTo>
                  <a:pt x="3" y="476"/>
                </a:lnTo>
                <a:lnTo>
                  <a:pt x="5" y="472"/>
                </a:lnTo>
                <a:lnTo>
                  <a:pt x="0" y="459"/>
                </a:lnTo>
                <a:lnTo>
                  <a:pt x="22" y="451"/>
                </a:lnTo>
                <a:lnTo>
                  <a:pt x="24" y="451"/>
                </a:lnTo>
                <a:lnTo>
                  <a:pt x="20" y="440"/>
                </a:lnTo>
                <a:lnTo>
                  <a:pt x="28" y="431"/>
                </a:lnTo>
                <a:lnTo>
                  <a:pt x="22" y="421"/>
                </a:lnTo>
                <a:lnTo>
                  <a:pt x="24" y="400"/>
                </a:lnTo>
                <a:lnTo>
                  <a:pt x="24" y="391"/>
                </a:lnTo>
                <a:lnTo>
                  <a:pt x="34" y="388"/>
                </a:lnTo>
                <a:lnTo>
                  <a:pt x="22" y="376"/>
                </a:lnTo>
                <a:lnTo>
                  <a:pt x="38" y="368"/>
                </a:lnTo>
                <a:lnTo>
                  <a:pt x="48" y="362"/>
                </a:lnTo>
                <a:lnTo>
                  <a:pt x="44" y="355"/>
                </a:lnTo>
                <a:lnTo>
                  <a:pt x="64" y="345"/>
                </a:lnTo>
                <a:lnTo>
                  <a:pt x="40" y="332"/>
                </a:lnTo>
                <a:lnTo>
                  <a:pt x="61" y="319"/>
                </a:lnTo>
                <a:lnTo>
                  <a:pt x="30" y="303"/>
                </a:lnTo>
                <a:lnTo>
                  <a:pt x="38" y="301"/>
                </a:lnTo>
                <a:lnTo>
                  <a:pt x="37" y="281"/>
                </a:lnTo>
                <a:lnTo>
                  <a:pt x="48" y="276"/>
                </a:lnTo>
                <a:lnTo>
                  <a:pt x="40" y="261"/>
                </a:lnTo>
                <a:lnTo>
                  <a:pt x="20" y="252"/>
                </a:lnTo>
                <a:lnTo>
                  <a:pt x="44" y="248"/>
                </a:lnTo>
                <a:lnTo>
                  <a:pt x="49" y="236"/>
                </a:lnTo>
                <a:lnTo>
                  <a:pt x="71" y="231"/>
                </a:lnTo>
                <a:lnTo>
                  <a:pt x="52" y="226"/>
                </a:lnTo>
                <a:lnTo>
                  <a:pt x="44" y="219"/>
                </a:lnTo>
                <a:lnTo>
                  <a:pt x="34" y="208"/>
                </a:lnTo>
                <a:lnTo>
                  <a:pt x="56" y="199"/>
                </a:lnTo>
                <a:lnTo>
                  <a:pt x="40" y="185"/>
                </a:lnTo>
                <a:lnTo>
                  <a:pt x="45" y="173"/>
                </a:lnTo>
                <a:lnTo>
                  <a:pt x="34" y="173"/>
                </a:lnTo>
                <a:lnTo>
                  <a:pt x="30" y="167"/>
                </a:lnTo>
                <a:lnTo>
                  <a:pt x="40" y="155"/>
                </a:lnTo>
                <a:lnTo>
                  <a:pt x="28" y="137"/>
                </a:lnTo>
                <a:lnTo>
                  <a:pt x="49" y="137"/>
                </a:lnTo>
                <a:lnTo>
                  <a:pt x="31" y="122"/>
                </a:lnTo>
                <a:lnTo>
                  <a:pt x="36" y="114"/>
                </a:lnTo>
                <a:lnTo>
                  <a:pt x="34" y="112"/>
                </a:lnTo>
                <a:lnTo>
                  <a:pt x="38" y="112"/>
                </a:lnTo>
                <a:lnTo>
                  <a:pt x="38" y="95"/>
                </a:lnTo>
                <a:lnTo>
                  <a:pt x="49" y="89"/>
                </a:lnTo>
                <a:lnTo>
                  <a:pt x="31" y="83"/>
                </a:lnTo>
                <a:lnTo>
                  <a:pt x="56" y="75"/>
                </a:lnTo>
                <a:lnTo>
                  <a:pt x="53" y="65"/>
                </a:lnTo>
                <a:lnTo>
                  <a:pt x="37" y="61"/>
                </a:lnTo>
                <a:lnTo>
                  <a:pt x="44" y="44"/>
                </a:lnTo>
                <a:lnTo>
                  <a:pt x="37" y="44"/>
                </a:lnTo>
                <a:lnTo>
                  <a:pt x="44" y="23"/>
                </a:lnTo>
                <a:lnTo>
                  <a:pt x="30" y="16"/>
                </a:lnTo>
                <a:lnTo>
                  <a:pt x="40" y="9"/>
                </a:lnTo>
                <a:lnTo>
                  <a:pt x="56" y="0"/>
                </a:lnTo>
                <a:lnTo>
                  <a:pt x="363" y="0"/>
                </a:lnTo>
                <a:lnTo>
                  <a:pt x="364"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Freeform 146"/>
          <p:cNvSpPr/>
          <p:nvPr/>
        </p:nvSpPr>
        <p:spPr>
          <a:xfrm>
            <a:off x="2529000" y="2344680"/>
            <a:ext cx="672840" cy="260280"/>
          </a:xfrm>
          <a:custGeom>
            <a:avLst/>
            <a:gdLst>
              <a:gd name="textAreaLeft" fmla="*/ 0 w 672840"/>
              <a:gd name="textAreaRight" fmla="*/ 673200 w 672840"/>
              <a:gd name="textAreaTop" fmla="*/ 0 h 260280"/>
              <a:gd name="textAreaBottom" fmla="*/ 260640 h 260280"/>
            </a:gdLst>
            <a:ahLst/>
            <a:rect l="textAreaLeft" t="textAreaTop" r="textAreaRight" b="textAreaBottom"/>
            <a:pathLst>
              <a:path w="416" h="212">
                <a:moveTo>
                  <a:pt x="2" y="0"/>
                </a:moveTo>
                <a:lnTo>
                  <a:pt x="411" y="0"/>
                </a:lnTo>
                <a:lnTo>
                  <a:pt x="410" y="15"/>
                </a:lnTo>
                <a:lnTo>
                  <a:pt x="408" y="31"/>
                </a:lnTo>
                <a:lnTo>
                  <a:pt x="410" y="39"/>
                </a:lnTo>
                <a:lnTo>
                  <a:pt x="413" y="49"/>
                </a:lnTo>
                <a:lnTo>
                  <a:pt x="416" y="58"/>
                </a:lnTo>
                <a:lnTo>
                  <a:pt x="416" y="68"/>
                </a:lnTo>
                <a:lnTo>
                  <a:pt x="408" y="86"/>
                </a:lnTo>
                <a:lnTo>
                  <a:pt x="410" y="99"/>
                </a:lnTo>
                <a:lnTo>
                  <a:pt x="405" y="110"/>
                </a:lnTo>
                <a:lnTo>
                  <a:pt x="416" y="127"/>
                </a:lnTo>
                <a:lnTo>
                  <a:pt x="411" y="134"/>
                </a:lnTo>
                <a:lnTo>
                  <a:pt x="405" y="142"/>
                </a:lnTo>
                <a:lnTo>
                  <a:pt x="410" y="153"/>
                </a:lnTo>
                <a:lnTo>
                  <a:pt x="411" y="153"/>
                </a:lnTo>
                <a:lnTo>
                  <a:pt x="410" y="159"/>
                </a:lnTo>
                <a:lnTo>
                  <a:pt x="405" y="169"/>
                </a:lnTo>
                <a:lnTo>
                  <a:pt x="410" y="187"/>
                </a:lnTo>
                <a:lnTo>
                  <a:pt x="361" y="210"/>
                </a:lnTo>
                <a:lnTo>
                  <a:pt x="197" y="212"/>
                </a:lnTo>
                <a:lnTo>
                  <a:pt x="9" y="175"/>
                </a:lnTo>
                <a:lnTo>
                  <a:pt x="18" y="164"/>
                </a:lnTo>
                <a:lnTo>
                  <a:pt x="0" y="143"/>
                </a:lnTo>
                <a:lnTo>
                  <a:pt x="5" y="142"/>
                </a:lnTo>
                <a:lnTo>
                  <a:pt x="4" y="134"/>
                </a:lnTo>
                <a:lnTo>
                  <a:pt x="4" y="119"/>
                </a:lnTo>
                <a:lnTo>
                  <a:pt x="9" y="119"/>
                </a:lnTo>
                <a:lnTo>
                  <a:pt x="1" y="110"/>
                </a:lnTo>
                <a:lnTo>
                  <a:pt x="4" y="91"/>
                </a:lnTo>
                <a:lnTo>
                  <a:pt x="1" y="89"/>
                </a:lnTo>
                <a:lnTo>
                  <a:pt x="15" y="75"/>
                </a:lnTo>
                <a:lnTo>
                  <a:pt x="4" y="60"/>
                </a:lnTo>
                <a:lnTo>
                  <a:pt x="7" y="48"/>
                </a:lnTo>
                <a:lnTo>
                  <a:pt x="16" y="31"/>
                </a:lnTo>
                <a:lnTo>
                  <a:pt x="5" y="31"/>
                </a:lnTo>
                <a:lnTo>
                  <a:pt x="9" y="25"/>
                </a:lnTo>
                <a:lnTo>
                  <a:pt x="7" y="25"/>
                </a:lnTo>
                <a:lnTo>
                  <a:pt x="7" y="15"/>
                </a:lnTo>
                <a:lnTo>
                  <a:pt x="4" y="7"/>
                </a:lnTo>
                <a:lnTo>
                  <a:pt x="0" y="0"/>
                </a:lnTo>
                <a:lnTo>
                  <a:pt x="5" y="0"/>
                </a:lnTo>
                <a:lnTo>
                  <a:pt x="2" y="0"/>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Freeform 147"/>
          <p:cNvSpPr/>
          <p:nvPr/>
        </p:nvSpPr>
        <p:spPr>
          <a:xfrm>
            <a:off x="2638440" y="2604960"/>
            <a:ext cx="549360" cy="460440"/>
          </a:xfrm>
          <a:custGeom>
            <a:avLst/>
            <a:gdLst>
              <a:gd name="textAreaLeft" fmla="*/ 0 w 549360"/>
              <a:gd name="textAreaRight" fmla="*/ 549720 w 549360"/>
              <a:gd name="textAreaTop" fmla="*/ 0 h 460440"/>
              <a:gd name="textAreaBottom" fmla="*/ 460800 h 460440"/>
            </a:gdLst>
            <a:ahLst/>
            <a:rect l="textAreaLeft" t="textAreaTop" r="textAreaRight" b="textAreaBottom"/>
            <a:pathLst>
              <a:path w="342" h="379">
                <a:moveTo>
                  <a:pt x="69" y="13"/>
                </a:moveTo>
                <a:lnTo>
                  <a:pt x="44" y="14"/>
                </a:lnTo>
                <a:lnTo>
                  <a:pt x="35" y="31"/>
                </a:lnTo>
                <a:lnTo>
                  <a:pt x="24" y="32"/>
                </a:lnTo>
                <a:lnTo>
                  <a:pt x="69" y="44"/>
                </a:lnTo>
                <a:lnTo>
                  <a:pt x="5" y="54"/>
                </a:lnTo>
                <a:lnTo>
                  <a:pt x="29" y="86"/>
                </a:lnTo>
                <a:lnTo>
                  <a:pt x="0" y="78"/>
                </a:lnTo>
                <a:lnTo>
                  <a:pt x="26" y="97"/>
                </a:lnTo>
                <a:lnTo>
                  <a:pt x="10" y="108"/>
                </a:lnTo>
                <a:lnTo>
                  <a:pt x="63" y="116"/>
                </a:lnTo>
                <a:lnTo>
                  <a:pt x="38" y="121"/>
                </a:lnTo>
                <a:lnTo>
                  <a:pt x="31" y="124"/>
                </a:lnTo>
                <a:lnTo>
                  <a:pt x="16" y="128"/>
                </a:lnTo>
                <a:lnTo>
                  <a:pt x="44" y="146"/>
                </a:lnTo>
                <a:lnTo>
                  <a:pt x="69" y="148"/>
                </a:lnTo>
                <a:lnTo>
                  <a:pt x="53" y="150"/>
                </a:lnTo>
                <a:lnTo>
                  <a:pt x="50" y="158"/>
                </a:lnTo>
                <a:lnTo>
                  <a:pt x="37" y="160"/>
                </a:lnTo>
                <a:lnTo>
                  <a:pt x="43" y="168"/>
                </a:lnTo>
                <a:lnTo>
                  <a:pt x="33" y="181"/>
                </a:lnTo>
                <a:lnTo>
                  <a:pt x="55" y="188"/>
                </a:lnTo>
                <a:lnTo>
                  <a:pt x="19" y="192"/>
                </a:lnTo>
                <a:lnTo>
                  <a:pt x="69" y="201"/>
                </a:lnTo>
                <a:lnTo>
                  <a:pt x="69" y="212"/>
                </a:lnTo>
                <a:lnTo>
                  <a:pt x="38" y="212"/>
                </a:lnTo>
                <a:lnTo>
                  <a:pt x="46" y="221"/>
                </a:lnTo>
                <a:lnTo>
                  <a:pt x="18" y="228"/>
                </a:lnTo>
                <a:lnTo>
                  <a:pt x="55" y="237"/>
                </a:lnTo>
                <a:lnTo>
                  <a:pt x="50" y="242"/>
                </a:lnTo>
                <a:lnTo>
                  <a:pt x="70" y="245"/>
                </a:lnTo>
                <a:lnTo>
                  <a:pt x="69" y="279"/>
                </a:lnTo>
                <a:lnTo>
                  <a:pt x="37" y="281"/>
                </a:lnTo>
                <a:lnTo>
                  <a:pt x="69" y="291"/>
                </a:lnTo>
                <a:lnTo>
                  <a:pt x="69" y="312"/>
                </a:lnTo>
                <a:lnTo>
                  <a:pt x="30" y="321"/>
                </a:lnTo>
                <a:lnTo>
                  <a:pt x="69" y="334"/>
                </a:lnTo>
                <a:lnTo>
                  <a:pt x="50" y="336"/>
                </a:lnTo>
                <a:lnTo>
                  <a:pt x="69" y="336"/>
                </a:lnTo>
                <a:lnTo>
                  <a:pt x="70" y="375"/>
                </a:lnTo>
                <a:lnTo>
                  <a:pt x="113" y="379"/>
                </a:lnTo>
                <a:lnTo>
                  <a:pt x="287" y="375"/>
                </a:lnTo>
                <a:lnTo>
                  <a:pt x="297" y="359"/>
                </a:lnTo>
                <a:lnTo>
                  <a:pt x="307" y="342"/>
                </a:lnTo>
                <a:lnTo>
                  <a:pt x="319" y="325"/>
                </a:lnTo>
                <a:lnTo>
                  <a:pt x="295" y="309"/>
                </a:lnTo>
                <a:lnTo>
                  <a:pt x="308" y="296"/>
                </a:lnTo>
                <a:lnTo>
                  <a:pt x="297" y="291"/>
                </a:lnTo>
                <a:lnTo>
                  <a:pt x="294" y="279"/>
                </a:lnTo>
                <a:lnTo>
                  <a:pt x="304" y="274"/>
                </a:lnTo>
                <a:lnTo>
                  <a:pt x="300" y="262"/>
                </a:lnTo>
                <a:lnTo>
                  <a:pt x="300" y="248"/>
                </a:lnTo>
                <a:lnTo>
                  <a:pt x="288" y="240"/>
                </a:lnTo>
                <a:lnTo>
                  <a:pt x="303" y="228"/>
                </a:lnTo>
                <a:lnTo>
                  <a:pt x="310" y="221"/>
                </a:lnTo>
                <a:lnTo>
                  <a:pt x="313" y="206"/>
                </a:lnTo>
                <a:lnTo>
                  <a:pt x="321" y="198"/>
                </a:lnTo>
                <a:lnTo>
                  <a:pt x="316" y="188"/>
                </a:lnTo>
                <a:lnTo>
                  <a:pt x="326" y="181"/>
                </a:lnTo>
                <a:lnTo>
                  <a:pt x="313" y="175"/>
                </a:lnTo>
                <a:lnTo>
                  <a:pt x="301" y="166"/>
                </a:lnTo>
                <a:lnTo>
                  <a:pt x="327" y="158"/>
                </a:lnTo>
                <a:lnTo>
                  <a:pt x="310" y="150"/>
                </a:lnTo>
                <a:lnTo>
                  <a:pt x="307" y="148"/>
                </a:lnTo>
                <a:lnTo>
                  <a:pt x="301" y="141"/>
                </a:lnTo>
                <a:lnTo>
                  <a:pt x="312" y="128"/>
                </a:lnTo>
                <a:lnTo>
                  <a:pt x="321" y="124"/>
                </a:lnTo>
                <a:lnTo>
                  <a:pt x="303" y="113"/>
                </a:lnTo>
                <a:lnTo>
                  <a:pt x="320" y="113"/>
                </a:lnTo>
                <a:lnTo>
                  <a:pt x="335" y="97"/>
                </a:lnTo>
                <a:lnTo>
                  <a:pt x="320" y="97"/>
                </a:lnTo>
                <a:lnTo>
                  <a:pt x="310" y="88"/>
                </a:lnTo>
                <a:lnTo>
                  <a:pt x="316" y="78"/>
                </a:lnTo>
                <a:lnTo>
                  <a:pt x="342" y="67"/>
                </a:lnTo>
                <a:lnTo>
                  <a:pt x="333" y="59"/>
                </a:lnTo>
                <a:lnTo>
                  <a:pt x="335" y="51"/>
                </a:lnTo>
                <a:lnTo>
                  <a:pt x="312" y="44"/>
                </a:lnTo>
                <a:lnTo>
                  <a:pt x="294" y="32"/>
                </a:lnTo>
                <a:lnTo>
                  <a:pt x="285" y="22"/>
                </a:lnTo>
                <a:lnTo>
                  <a:pt x="313" y="5"/>
                </a:lnTo>
                <a:lnTo>
                  <a:pt x="291" y="0"/>
                </a:lnTo>
                <a:lnTo>
                  <a:pt x="82" y="0"/>
                </a:lnTo>
                <a:lnTo>
                  <a:pt x="69" y="14"/>
                </a:lnTo>
                <a:lnTo>
                  <a:pt x="69" y="13"/>
                </a:lnTo>
                <a:close/>
              </a:path>
            </a:pathLst>
          </a:custGeom>
          <a:solidFill>
            <a:srgbClr val="e0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Freeform 148"/>
          <p:cNvSpPr/>
          <p:nvPr/>
        </p:nvSpPr>
        <p:spPr>
          <a:xfrm>
            <a:off x="2671920" y="3056040"/>
            <a:ext cx="500040" cy="73080"/>
          </a:xfrm>
          <a:custGeom>
            <a:avLst/>
            <a:gdLst>
              <a:gd name="textAreaLeft" fmla="*/ 0 w 500040"/>
              <a:gd name="textAreaRight" fmla="*/ 500400 w 500040"/>
              <a:gd name="textAreaTop" fmla="*/ 0 h 73080"/>
              <a:gd name="textAreaBottom" fmla="*/ 73440 h 73080"/>
            </a:gdLst>
            <a:ahLst/>
            <a:rect l="textAreaLeft" t="textAreaTop" r="textAreaRight" b="textAreaBottom"/>
            <a:pathLst>
              <a:path w="308" h="55">
                <a:moveTo>
                  <a:pt x="263" y="0"/>
                </a:moveTo>
                <a:lnTo>
                  <a:pt x="283" y="8"/>
                </a:lnTo>
                <a:lnTo>
                  <a:pt x="293" y="14"/>
                </a:lnTo>
                <a:lnTo>
                  <a:pt x="293" y="23"/>
                </a:lnTo>
                <a:lnTo>
                  <a:pt x="299" y="38"/>
                </a:lnTo>
                <a:lnTo>
                  <a:pt x="308" y="50"/>
                </a:lnTo>
                <a:lnTo>
                  <a:pt x="294" y="55"/>
                </a:lnTo>
                <a:lnTo>
                  <a:pt x="47" y="53"/>
                </a:lnTo>
                <a:lnTo>
                  <a:pt x="0" y="50"/>
                </a:lnTo>
                <a:lnTo>
                  <a:pt x="45" y="53"/>
                </a:lnTo>
                <a:lnTo>
                  <a:pt x="41" y="38"/>
                </a:lnTo>
                <a:lnTo>
                  <a:pt x="47" y="0"/>
                </a:lnTo>
                <a:lnTo>
                  <a:pt x="266" y="0"/>
                </a:lnTo>
                <a:lnTo>
                  <a:pt x="263" y="0"/>
                </a:lnTo>
                <a:close/>
              </a:path>
            </a:pathLst>
          </a:custGeom>
          <a:solidFill>
            <a:srgbClr val="82e0ff"/>
          </a:solid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433" name="Freeform 149"/>
          <p:cNvSpPr/>
          <p:nvPr/>
        </p:nvSpPr>
        <p:spPr>
          <a:xfrm>
            <a:off x="2541600" y="3116160"/>
            <a:ext cx="682560" cy="211320"/>
          </a:xfrm>
          <a:custGeom>
            <a:avLst/>
            <a:gdLst>
              <a:gd name="textAreaLeft" fmla="*/ 0 w 682560"/>
              <a:gd name="textAreaRight" fmla="*/ 682920 w 682560"/>
              <a:gd name="textAreaTop" fmla="*/ 0 h 211320"/>
              <a:gd name="textAreaBottom" fmla="*/ 211680 h 211320"/>
            </a:gdLst>
            <a:ahLst/>
            <a:rect l="textAreaLeft" t="textAreaTop" r="textAreaRight" b="textAreaBottom"/>
            <a:pathLst>
              <a:path w="421" h="175">
                <a:moveTo>
                  <a:pt x="377" y="8"/>
                </a:moveTo>
                <a:lnTo>
                  <a:pt x="396" y="13"/>
                </a:lnTo>
                <a:lnTo>
                  <a:pt x="413" y="25"/>
                </a:lnTo>
                <a:lnTo>
                  <a:pt x="414" y="48"/>
                </a:lnTo>
                <a:lnTo>
                  <a:pt x="421" y="59"/>
                </a:lnTo>
                <a:lnTo>
                  <a:pt x="398" y="85"/>
                </a:lnTo>
                <a:lnTo>
                  <a:pt x="409" y="93"/>
                </a:lnTo>
                <a:lnTo>
                  <a:pt x="414" y="99"/>
                </a:lnTo>
                <a:lnTo>
                  <a:pt x="409" y="107"/>
                </a:lnTo>
                <a:lnTo>
                  <a:pt x="421" y="117"/>
                </a:lnTo>
                <a:lnTo>
                  <a:pt x="414" y="120"/>
                </a:lnTo>
                <a:lnTo>
                  <a:pt x="410" y="132"/>
                </a:lnTo>
                <a:lnTo>
                  <a:pt x="415" y="145"/>
                </a:lnTo>
                <a:lnTo>
                  <a:pt x="404" y="154"/>
                </a:lnTo>
                <a:lnTo>
                  <a:pt x="364" y="170"/>
                </a:lnTo>
                <a:lnTo>
                  <a:pt x="363" y="175"/>
                </a:lnTo>
                <a:lnTo>
                  <a:pt x="124" y="170"/>
                </a:lnTo>
                <a:lnTo>
                  <a:pt x="0" y="148"/>
                </a:lnTo>
                <a:lnTo>
                  <a:pt x="17" y="145"/>
                </a:lnTo>
                <a:lnTo>
                  <a:pt x="11" y="140"/>
                </a:lnTo>
                <a:lnTo>
                  <a:pt x="24" y="139"/>
                </a:lnTo>
                <a:lnTo>
                  <a:pt x="32" y="129"/>
                </a:lnTo>
                <a:lnTo>
                  <a:pt x="18" y="120"/>
                </a:lnTo>
                <a:lnTo>
                  <a:pt x="11" y="117"/>
                </a:lnTo>
                <a:lnTo>
                  <a:pt x="18" y="108"/>
                </a:lnTo>
                <a:lnTo>
                  <a:pt x="18" y="100"/>
                </a:lnTo>
                <a:lnTo>
                  <a:pt x="29" y="93"/>
                </a:lnTo>
                <a:lnTo>
                  <a:pt x="21" y="83"/>
                </a:lnTo>
                <a:lnTo>
                  <a:pt x="32" y="82"/>
                </a:lnTo>
                <a:lnTo>
                  <a:pt x="49" y="82"/>
                </a:lnTo>
                <a:lnTo>
                  <a:pt x="43" y="66"/>
                </a:lnTo>
                <a:lnTo>
                  <a:pt x="81" y="59"/>
                </a:lnTo>
                <a:lnTo>
                  <a:pt x="92" y="54"/>
                </a:lnTo>
                <a:lnTo>
                  <a:pt x="89" y="50"/>
                </a:lnTo>
                <a:lnTo>
                  <a:pt x="103" y="54"/>
                </a:lnTo>
                <a:lnTo>
                  <a:pt x="95" y="38"/>
                </a:lnTo>
                <a:lnTo>
                  <a:pt x="92" y="36"/>
                </a:lnTo>
                <a:lnTo>
                  <a:pt x="64" y="18"/>
                </a:lnTo>
                <a:lnTo>
                  <a:pt x="95" y="13"/>
                </a:lnTo>
                <a:lnTo>
                  <a:pt x="128" y="8"/>
                </a:lnTo>
                <a:lnTo>
                  <a:pt x="81" y="0"/>
                </a:lnTo>
                <a:lnTo>
                  <a:pt x="128" y="8"/>
                </a:lnTo>
                <a:lnTo>
                  <a:pt x="378" y="10"/>
                </a:lnTo>
                <a:lnTo>
                  <a:pt x="377" y="8"/>
                </a:lnTo>
                <a:close/>
              </a:path>
            </a:pathLst>
          </a:custGeom>
          <a:solidFill>
            <a:srgbClr val="000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Freeform 150"/>
          <p:cNvSpPr/>
          <p:nvPr/>
        </p:nvSpPr>
        <p:spPr>
          <a:xfrm>
            <a:off x="2565360" y="3321000"/>
            <a:ext cx="617400" cy="330120"/>
          </a:xfrm>
          <a:custGeom>
            <a:avLst/>
            <a:gdLst>
              <a:gd name="textAreaLeft" fmla="*/ 0 w 617400"/>
              <a:gd name="textAreaRight" fmla="*/ 617760 w 617400"/>
              <a:gd name="textAreaTop" fmla="*/ 0 h 330120"/>
              <a:gd name="textAreaBottom" fmla="*/ 330480 h 330120"/>
            </a:gdLst>
            <a:ahLst/>
            <a:rect l="textAreaLeft" t="textAreaTop" r="textAreaRight" b="textAreaBottom"/>
            <a:pathLst>
              <a:path w="380" h="274">
                <a:moveTo>
                  <a:pt x="353" y="252"/>
                </a:moveTo>
                <a:lnTo>
                  <a:pt x="353" y="247"/>
                </a:lnTo>
                <a:lnTo>
                  <a:pt x="348" y="223"/>
                </a:lnTo>
                <a:lnTo>
                  <a:pt x="352" y="206"/>
                </a:lnTo>
                <a:lnTo>
                  <a:pt x="350" y="195"/>
                </a:lnTo>
                <a:lnTo>
                  <a:pt x="350" y="178"/>
                </a:lnTo>
                <a:lnTo>
                  <a:pt x="355" y="167"/>
                </a:lnTo>
                <a:lnTo>
                  <a:pt x="350" y="153"/>
                </a:lnTo>
                <a:lnTo>
                  <a:pt x="352" y="137"/>
                </a:lnTo>
                <a:lnTo>
                  <a:pt x="351" y="127"/>
                </a:lnTo>
                <a:lnTo>
                  <a:pt x="355" y="114"/>
                </a:lnTo>
                <a:lnTo>
                  <a:pt x="355" y="103"/>
                </a:lnTo>
                <a:lnTo>
                  <a:pt x="369" y="87"/>
                </a:lnTo>
                <a:lnTo>
                  <a:pt x="380" y="64"/>
                </a:lnTo>
                <a:lnTo>
                  <a:pt x="378" y="52"/>
                </a:lnTo>
                <a:lnTo>
                  <a:pt x="368" y="52"/>
                </a:lnTo>
                <a:lnTo>
                  <a:pt x="355" y="39"/>
                </a:lnTo>
                <a:lnTo>
                  <a:pt x="359" y="34"/>
                </a:lnTo>
                <a:lnTo>
                  <a:pt x="355" y="26"/>
                </a:lnTo>
                <a:lnTo>
                  <a:pt x="346" y="17"/>
                </a:lnTo>
                <a:lnTo>
                  <a:pt x="350" y="5"/>
                </a:lnTo>
                <a:lnTo>
                  <a:pt x="112" y="0"/>
                </a:lnTo>
                <a:lnTo>
                  <a:pt x="62" y="13"/>
                </a:lnTo>
                <a:lnTo>
                  <a:pt x="81" y="26"/>
                </a:lnTo>
                <a:lnTo>
                  <a:pt x="62" y="26"/>
                </a:lnTo>
                <a:lnTo>
                  <a:pt x="55" y="32"/>
                </a:lnTo>
                <a:lnTo>
                  <a:pt x="25" y="32"/>
                </a:lnTo>
                <a:lnTo>
                  <a:pt x="30" y="51"/>
                </a:lnTo>
                <a:lnTo>
                  <a:pt x="21" y="51"/>
                </a:lnTo>
                <a:lnTo>
                  <a:pt x="10" y="54"/>
                </a:lnTo>
                <a:lnTo>
                  <a:pt x="0" y="56"/>
                </a:lnTo>
                <a:lnTo>
                  <a:pt x="10" y="71"/>
                </a:lnTo>
                <a:lnTo>
                  <a:pt x="5" y="77"/>
                </a:lnTo>
                <a:lnTo>
                  <a:pt x="37" y="94"/>
                </a:lnTo>
                <a:lnTo>
                  <a:pt x="5" y="98"/>
                </a:lnTo>
                <a:lnTo>
                  <a:pt x="8" y="112"/>
                </a:lnTo>
                <a:lnTo>
                  <a:pt x="1" y="118"/>
                </a:lnTo>
                <a:lnTo>
                  <a:pt x="19" y="128"/>
                </a:lnTo>
                <a:lnTo>
                  <a:pt x="5" y="143"/>
                </a:lnTo>
                <a:lnTo>
                  <a:pt x="11" y="151"/>
                </a:lnTo>
                <a:lnTo>
                  <a:pt x="0" y="158"/>
                </a:lnTo>
                <a:lnTo>
                  <a:pt x="5" y="167"/>
                </a:lnTo>
                <a:lnTo>
                  <a:pt x="16" y="175"/>
                </a:lnTo>
                <a:lnTo>
                  <a:pt x="5" y="187"/>
                </a:lnTo>
                <a:lnTo>
                  <a:pt x="17" y="191"/>
                </a:lnTo>
                <a:lnTo>
                  <a:pt x="55" y="205"/>
                </a:lnTo>
                <a:lnTo>
                  <a:pt x="17" y="208"/>
                </a:lnTo>
                <a:lnTo>
                  <a:pt x="27" y="217"/>
                </a:lnTo>
                <a:lnTo>
                  <a:pt x="18" y="227"/>
                </a:lnTo>
                <a:lnTo>
                  <a:pt x="8" y="227"/>
                </a:lnTo>
                <a:lnTo>
                  <a:pt x="10" y="232"/>
                </a:lnTo>
                <a:lnTo>
                  <a:pt x="30" y="257"/>
                </a:lnTo>
                <a:lnTo>
                  <a:pt x="21" y="257"/>
                </a:lnTo>
                <a:lnTo>
                  <a:pt x="27" y="265"/>
                </a:lnTo>
                <a:lnTo>
                  <a:pt x="37" y="271"/>
                </a:lnTo>
                <a:lnTo>
                  <a:pt x="347" y="274"/>
                </a:lnTo>
                <a:lnTo>
                  <a:pt x="347" y="261"/>
                </a:lnTo>
                <a:lnTo>
                  <a:pt x="353" y="248"/>
                </a:lnTo>
                <a:lnTo>
                  <a:pt x="353" y="252"/>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Line 151"/>
          <p:cNvSpPr/>
          <p:nvPr/>
        </p:nvSpPr>
        <p:spPr>
          <a:xfrm>
            <a:off x="2484360" y="2344680"/>
            <a:ext cx="793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36" name="Line 152"/>
          <p:cNvSpPr/>
          <p:nvPr/>
        </p:nvSpPr>
        <p:spPr>
          <a:xfrm>
            <a:off x="1714680" y="2446200"/>
            <a:ext cx="4680" cy="40719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Line 153"/>
          <p:cNvSpPr/>
          <p:nvPr/>
        </p:nvSpPr>
        <p:spPr>
          <a:xfrm>
            <a:off x="2109960" y="2459160"/>
            <a:ext cx="4680" cy="40701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Freeform 154"/>
          <p:cNvSpPr/>
          <p:nvPr/>
        </p:nvSpPr>
        <p:spPr>
          <a:xfrm>
            <a:off x="1608120" y="5697360"/>
            <a:ext cx="682560" cy="804960"/>
          </a:xfrm>
          <a:custGeom>
            <a:avLst/>
            <a:gdLst>
              <a:gd name="textAreaLeft" fmla="*/ 0 w 682560"/>
              <a:gd name="textAreaRight" fmla="*/ 682920 w 682560"/>
              <a:gd name="textAreaTop" fmla="*/ 0 h 804960"/>
              <a:gd name="textAreaBottom" fmla="*/ 805320 h 804960"/>
            </a:gdLst>
            <a:ahLst/>
            <a:rect l="textAreaLeft" t="textAreaTop" r="textAreaRight" b="textAreaBottom"/>
            <a:pathLst>
              <a:path w="423" h="662">
                <a:moveTo>
                  <a:pt x="420" y="8"/>
                </a:moveTo>
                <a:lnTo>
                  <a:pt x="415" y="19"/>
                </a:lnTo>
                <a:lnTo>
                  <a:pt x="408" y="37"/>
                </a:lnTo>
                <a:lnTo>
                  <a:pt x="413" y="29"/>
                </a:lnTo>
                <a:lnTo>
                  <a:pt x="411" y="56"/>
                </a:lnTo>
                <a:lnTo>
                  <a:pt x="413" y="62"/>
                </a:lnTo>
                <a:lnTo>
                  <a:pt x="406" y="72"/>
                </a:lnTo>
                <a:lnTo>
                  <a:pt x="407" y="88"/>
                </a:lnTo>
                <a:lnTo>
                  <a:pt x="410" y="96"/>
                </a:lnTo>
                <a:lnTo>
                  <a:pt x="404" y="106"/>
                </a:lnTo>
                <a:lnTo>
                  <a:pt x="390" y="117"/>
                </a:lnTo>
                <a:lnTo>
                  <a:pt x="379" y="117"/>
                </a:lnTo>
                <a:lnTo>
                  <a:pt x="367" y="126"/>
                </a:lnTo>
                <a:lnTo>
                  <a:pt x="372" y="143"/>
                </a:lnTo>
                <a:lnTo>
                  <a:pt x="385" y="149"/>
                </a:lnTo>
                <a:lnTo>
                  <a:pt x="406" y="153"/>
                </a:lnTo>
                <a:lnTo>
                  <a:pt x="420" y="166"/>
                </a:lnTo>
                <a:lnTo>
                  <a:pt x="423" y="168"/>
                </a:lnTo>
                <a:lnTo>
                  <a:pt x="408" y="177"/>
                </a:lnTo>
                <a:lnTo>
                  <a:pt x="395" y="190"/>
                </a:lnTo>
                <a:lnTo>
                  <a:pt x="381" y="207"/>
                </a:lnTo>
                <a:lnTo>
                  <a:pt x="394" y="207"/>
                </a:lnTo>
                <a:lnTo>
                  <a:pt x="410" y="216"/>
                </a:lnTo>
                <a:lnTo>
                  <a:pt x="393" y="222"/>
                </a:lnTo>
                <a:lnTo>
                  <a:pt x="385" y="230"/>
                </a:lnTo>
                <a:lnTo>
                  <a:pt x="372" y="241"/>
                </a:lnTo>
                <a:lnTo>
                  <a:pt x="380" y="258"/>
                </a:lnTo>
                <a:lnTo>
                  <a:pt x="385" y="258"/>
                </a:lnTo>
                <a:lnTo>
                  <a:pt x="376" y="281"/>
                </a:lnTo>
                <a:lnTo>
                  <a:pt x="390" y="290"/>
                </a:lnTo>
                <a:lnTo>
                  <a:pt x="398" y="294"/>
                </a:lnTo>
                <a:lnTo>
                  <a:pt x="411" y="294"/>
                </a:lnTo>
                <a:lnTo>
                  <a:pt x="423" y="297"/>
                </a:lnTo>
                <a:lnTo>
                  <a:pt x="405" y="312"/>
                </a:lnTo>
                <a:lnTo>
                  <a:pt x="395" y="325"/>
                </a:lnTo>
                <a:lnTo>
                  <a:pt x="387" y="330"/>
                </a:lnTo>
                <a:lnTo>
                  <a:pt x="395" y="334"/>
                </a:lnTo>
                <a:lnTo>
                  <a:pt x="412" y="354"/>
                </a:lnTo>
                <a:lnTo>
                  <a:pt x="406" y="354"/>
                </a:lnTo>
                <a:lnTo>
                  <a:pt x="399" y="354"/>
                </a:lnTo>
                <a:lnTo>
                  <a:pt x="406" y="365"/>
                </a:lnTo>
                <a:lnTo>
                  <a:pt x="393" y="375"/>
                </a:lnTo>
                <a:lnTo>
                  <a:pt x="377" y="383"/>
                </a:lnTo>
                <a:lnTo>
                  <a:pt x="377" y="405"/>
                </a:lnTo>
                <a:lnTo>
                  <a:pt x="378" y="416"/>
                </a:lnTo>
                <a:lnTo>
                  <a:pt x="367" y="434"/>
                </a:lnTo>
                <a:lnTo>
                  <a:pt x="372" y="446"/>
                </a:lnTo>
                <a:lnTo>
                  <a:pt x="369" y="449"/>
                </a:lnTo>
                <a:lnTo>
                  <a:pt x="376" y="456"/>
                </a:lnTo>
                <a:lnTo>
                  <a:pt x="371" y="486"/>
                </a:lnTo>
                <a:lnTo>
                  <a:pt x="369" y="498"/>
                </a:lnTo>
                <a:lnTo>
                  <a:pt x="372" y="509"/>
                </a:lnTo>
                <a:lnTo>
                  <a:pt x="371" y="529"/>
                </a:lnTo>
                <a:lnTo>
                  <a:pt x="372" y="542"/>
                </a:lnTo>
                <a:lnTo>
                  <a:pt x="372" y="559"/>
                </a:lnTo>
                <a:lnTo>
                  <a:pt x="371" y="569"/>
                </a:lnTo>
                <a:lnTo>
                  <a:pt x="369" y="599"/>
                </a:lnTo>
                <a:lnTo>
                  <a:pt x="367" y="609"/>
                </a:lnTo>
                <a:lnTo>
                  <a:pt x="376" y="633"/>
                </a:lnTo>
                <a:lnTo>
                  <a:pt x="331" y="641"/>
                </a:lnTo>
                <a:lnTo>
                  <a:pt x="330" y="662"/>
                </a:lnTo>
                <a:lnTo>
                  <a:pt x="0" y="658"/>
                </a:lnTo>
                <a:lnTo>
                  <a:pt x="2" y="638"/>
                </a:lnTo>
                <a:lnTo>
                  <a:pt x="13" y="618"/>
                </a:lnTo>
                <a:lnTo>
                  <a:pt x="17" y="609"/>
                </a:lnTo>
                <a:lnTo>
                  <a:pt x="13" y="587"/>
                </a:lnTo>
                <a:lnTo>
                  <a:pt x="17" y="552"/>
                </a:lnTo>
                <a:lnTo>
                  <a:pt x="13" y="534"/>
                </a:lnTo>
                <a:lnTo>
                  <a:pt x="17" y="509"/>
                </a:lnTo>
                <a:lnTo>
                  <a:pt x="19" y="480"/>
                </a:lnTo>
                <a:lnTo>
                  <a:pt x="17" y="456"/>
                </a:lnTo>
                <a:lnTo>
                  <a:pt x="17" y="434"/>
                </a:lnTo>
                <a:lnTo>
                  <a:pt x="17" y="416"/>
                </a:lnTo>
                <a:lnTo>
                  <a:pt x="17" y="409"/>
                </a:lnTo>
                <a:lnTo>
                  <a:pt x="17" y="393"/>
                </a:lnTo>
                <a:lnTo>
                  <a:pt x="24" y="384"/>
                </a:lnTo>
                <a:lnTo>
                  <a:pt x="33" y="367"/>
                </a:lnTo>
                <a:lnTo>
                  <a:pt x="24" y="365"/>
                </a:lnTo>
                <a:lnTo>
                  <a:pt x="11" y="359"/>
                </a:lnTo>
                <a:lnTo>
                  <a:pt x="4" y="342"/>
                </a:lnTo>
                <a:lnTo>
                  <a:pt x="8" y="334"/>
                </a:lnTo>
                <a:lnTo>
                  <a:pt x="8" y="304"/>
                </a:lnTo>
                <a:lnTo>
                  <a:pt x="8" y="290"/>
                </a:lnTo>
                <a:lnTo>
                  <a:pt x="8" y="279"/>
                </a:lnTo>
                <a:lnTo>
                  <a:pt x="10" y="253"/>
                </a:lnTo>
                <a:lnTo>
                  <a:pt x="22" y="226"/>
                </a:lnTo>
                <a:lnTo>
                  <a:pt x="33" y="217"/>
                </a:lnTo>
                <a:lnTo>
                  <a:pt x="19" y="216"/>
                </a:lnTo>
                <a:lnTo>
                  <a:pt x="3" y="191"/>
                </a:lnTo>
                <a:lnTo>
                  <a:pt x="8" y="183"/>
                </a:lnTo>
                <a:lnTo>
                  <a:pt x="17" y="177"/>
                </a:lnTo>
                <a:lnTo>
                  <a:pt x="8" y="153"/>
                </a:lnTo>
                <a:lnTo>
                  <a:pt x="13" y="149"/>
                </a:lnTo>
                <a:lnTo>
                  <a:pt x="8" y="137"/>
                </a:lnTo>
                <a:lnTo>
                  <a:pt x="8" y="127"/>
                </a:lnTo>
                <a:lnTo>
                  <a:pt x="11" y="126"/>
                </a:lnTo>
                <a:lnTo>
                  <a:pt x="17" y="112"/>
                </a:lnTo>
                <a:lnTo>
                  <a:pt x="16" y="106"/>
                </a:lnTo>
                <a:lnTo>
                  <a:pt x="9" y="82"/>
                </a:lnTo>
                <a:lnTo>
                  <a:pt x="8" y="64"/>
                </a:lnTo>
                <a:lnTo>
                  <a:pt x="4" y="47"/>
                </a:lnTo>
                <a:lnTo>
                  <a:pt x="8" y="29"/>
                </a:lnTo>
                <a:lnTo>
                  <a:pt x="8" y="0"/>
                </a:lnTo>
                <a:lnTo>
                  <a:pt x="420" y="0"/>
                </a:lnTo>
                <a:lnTo>
                  <a:pt x="420" y="8"/>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Freeform 155"/>
          <p:cNvSpPr/>
          <p:nvPr/>
        </p:nvSpPr>
        <p:spPr>
          <a:xfrm>
            <a:off x="1614600" y="4802040"/>
            <a:ext cx="701640" cy="906480"/>
          </a:xfrm>
          <a:custGeom>
            <a:avLst/>
            <a:gdLst>
              <a:gd name="textAreaLeft" fmla="*/ 0 w 701640"/>
              <a:gd name="textAreaRight" fmla="*/ 702000 w 701640"/>
              <a:gd name="textAreaTop" fmla="*/ 0 h 906480"/>
              <a:gd name="textAreaBottom" fmla="*/ 906840 h 906480"/>
            </a:gdLst>
            <a:ahLst/>
            <a:rect l="textAreaLeft" t="textAreaTop" r="textAreaRight" b="textAreaBottom"/>
            <a:pathLst>
              <a:path w="433" h="743">
                <a:moveTo>
                  <a:pt x="400" y="5"/>
                </a:moveTo>
                <a:lnTo>
                  <a:pt x="406" y="13"/>
                </a:lnTo>
                <a:lnTo>
                  <a:pt x="385" y="28"/>
                </a:lnTo>
                <a:lnTo>
                  <a:pt x="375" y="38"/>
                </a:lnTo>
                <a:lnTo>
                  <a:pt x="363" y="53"/>
                </a:lnTo>
                <a:lnTo>
                  <a:pt x="368" y="56"/>
                </a:lnTo>
                <a:lnTo>
                  <a:pt x="377" y="64"/>
                </a:lnTo>
                <a:lnTo>
                  <a:pt x="386" y="77"/>
                </a:lnTo>
                <a:lnTo>
                  <a:pt x="404" y="79"/>
                </a:lnTo>
                <a:lnTo>
                  <a:pt x="400" y="100"/>
                </a:lnTo>
                <a:lnTo>
                  <a:pt x="395" y="110"/>
                </a:lnTo>
                <a:lnTo>
                  <a:pt x="387" y="117"/>
                </a:lnTo>
                <a:lnTo>
                  <a:pt x="385" y="127"/>
                </a:lnTo>
                <a:lnTo>
                  <a:pt x="394" y="150"/>
                </a:lnTo>
                <a:lnTo>
                  <a:pt x="387" y="158"/>
                </a:lnTo>
                <a:lnTo>
                  <a:pt x="383" y="164"/>
                </a:lnTo>
                <a:lnTo>
                  <a:pt x="390" y="177"/>
                </a:lnTo>
                <a:lnTo>
                  <a:pt x="400" y="179"/>
                </a:lnTo>
                <a:lnTo>
                  <a:pt x="407" y="198"/>
                </a:lnTo>
                <a:lnTo>
                  <a:pt x="412" y="216"/>
                </a:lnTo>
                <a:lnTo>
                  <a:pt x="409" y="222"/>
                </a:lnTo>
                <a:lnTo>
                  <a:pt x="376" y="222"/>
                </a:lnTo>
                <a:lnTo>
                  <a:pt x="375" y="241"/>
                </a:lnTo>
                <a:lnTo>
                  <a:pt x="385" y="241"/>
                </a:lnTo>
                <a:lnTo>
                  <a:pt x="395" y="252"/>
                </a:lnTo>
                <a:lnTo>
                  <a:pt x="406" y="263"/>
                </a:lnTo>
                <a:lnTo>
                  <a:pt x="390" y="268"/>
                </a:lnTo>
                <a:lnTo>
                  <a:pt x="398" y="281"/>
                </a:lnTo>
                <a:lnTo>
                  <a:pt x="409" y="286"/>
                </a:lnTo>
                <a:lnTo>
                  <a:pt x="402" y="293"/>
                </a:lnTo>
                <a:lnTo>
                  <a:pt x="407" y="311"/>
                </a:lnTo>
                <a:lnTo>
                  <a:pt x="398" y="321"/>
                </a:lnTo>
                <a:lnTo>
                  <a:pt x="391" y="321"/>
                </a:lnTo>
                <a:lnTo>
                  <a:pt x="390" y="341"/>
                </a:lnTo>
                <a:lnTo>
                  <a:pt x="404" y="343"/>
                </a:lnTo>
                <a:lnTo>
                  <a:pt x="416" y="356"/>
                </a:lnTo>
                <a:lnTo>
                  <a:pt x="424" y="365"/>
                </a:lnTo>
                <a:lnTo>
                  <a:pt x="416" y="373"/>
                </a:lnTo>
                <a:lnTo>
                  <a:pt x="407" y="397"/>
                </a:lnTo>
                <a:lnTo>
                  <a:pt x="395" y="403"/>
                </a:lnTo>
                <a:lnTo>
                  <a:pt x="386" y="407"/>
                </a:lnTo>
                <a:lnTo>
                  <a:pt x="395" y="422"/>
                </a:lnTo>
                <a:lnTo>
                  <a:pt x="402" y="431"/>
                </a:lnTo>
                <a:lnTo>
                  <a:pt x="419" y="447"/>
                </a:lnTo>
                <a:lnTo>
                  <a:pt x="409" y="455"/>
                </a:lnTo>
                <a:lnTo>
                  <a:pt x="400" y="470"/>
                </a:lnTo>
                <a:lnTo>
                  <a:pt x="412" y="489"/>
                </a:lnTo>
                <a:lnTo>
                  <a:pt x="407" y="496"/>
                </a:lnTo>
                <a:lnTo>
                  <a:pt x="400" y="507"/>
                </a:lnTo>
                <a:lnTo>
                  <a:pt x="407" y="507"/>
                </a:lnTo>
                <a:lnTo>
                  <a:pt x="412" y="519"/>
                </a:lnTo>
                <a:lnTo>
                  <a:pt x="406" y="526"/>
                </a:lnTo>
                <a:lnTo>
                  <a:pt x="407" y="544"/>
                </a:lnTo>
                <a:lnTo>
                  <a:pt x="416" y="544"/>
                </a:lnTo>
                <a:lnTo>
                  <a:pt x="419" y="558"/>
                </a:lnTo>
                <a:lnTo>
                  <a:pt x="414" y="568"/>
                </a:lnTo>
                <a:lnTo>
                  <a:pt x="409" y="580"/>
                </a:lnTo>
                <a:lnTo>
                  <a:pt x="412" y="590"/>
                </a:lnTo>
                <a:lnTo>
                  <a:pt x="411" y="600"/>
                </a:lnTo>
                <a:lnTo>
                  <a:pt x="411" y="609"/>
                </a:lnTo>
                <a:lnTo>
                  <a:pt x="424" y="621"/>
                </a:lnTo>
                <a:lnTo>
                  <a:pt x="433" y="644"/>
                </a:lnTo>
                <a:lnTo>
                  <a:pt x="416" y="648"/>
                </a:lnTo>
                <a:lnTo>
                  <a:pt x="395" y="667"/>
                </a:lnTo>
                <a:lnTo>
                  <a:pt x="381" y="667"/>
                </a:lnTo>
                <a:lnTo>
                  <a:pt x="390" y="685"/>
                </a:lnTo>
                <a:lnTo>
                  <a:pt x="394" y="695"/>
                </a:lnTo>
                <a:lnTo>
                  <a:pt x="383" y="695"/>
                </a:lnTo>
                <a:lnTo>
                  <a:pt x="379" y="709"/>
                </a:lnTo>
                <a:lnTo>
                  <a:pt x="391" y="719"/>
                </a:lnTo>
                <a:lnTo>
                  <a:pt x="404" y="735"/>
                </a:lnTo>
                <a:lnTo>
                  <a:pt x="419" y="735"/>
                </a:lnTo>
                <a:lnTo>
                  <a:pt x="416" y="743"/>
                </a:lnTo>
                <a:lnTo>
                  <a:pt x="4" y="739"/>
                </a:lnTo>
                <a:lnTo>
                  <a:pt x="4" y="717"/>
                </a:lnTo>
                <a:lnTo>
                  <a:pt x="4" y="694"/>
                </a:lnTo>
                <a:lnTo>
                  <a:pt x="4" y="677"/>
                </a:lnTo>
                <a:lnTo>
                  <a:pt x="4" y="657"/>
                </a:lnTo>
                <a:lnTo>
                  <a:pt x="5" y="646"/>
                </a:lnTo>
                <a:lnTo>
                  <a:pt x="1" y="634"/>
                </a:lnTo>
                <a:lnTo>
                  <a:pt x="1" y="613"/>
                </a:lnTo>
                <a:lnTo>
                  <a:pt x="0" y="598"/>
                </a:lnTo>
                <a:lnTo>
                  <a:pt x="0" y="585"/>
                </a:lnTo>
                <a:lnTo>
                  <a:pt x="4" y="574"/>
                </a:lnTo>
                <a:lnTo>
                  <a:pt x="1" y="564"/>
                </a:lnTo>
                <a:lnTo>
                  <a:pt x="5" y="553"/>
                </a:lnTo>
                <a:lnTo>
                  <a:pt x="9" y="530"/>
                </a:lnTo>
                <a:lnTo>
                  <a:pt x="5" y="517"/>
                </a:lnTo>
                <a:lnTo>
                  <a:pt x="7" y="500"/>
                </a:lnTo>
                <a:lnTo>
                  <a:pt x="5" y="477"/>
                </a:lnTo>
                <a:lnTo>
                  <a:pt x="14" y="477"/>
                </a:lnTo>
                <a:lnTo>
                  <a:pt x="16" y="454"/>
                </a:lnTo>
                <a:lnTo>
                  <a:pt x="22" y="447"/>
                </a:lnTo>
                <a:lnTo>
                  <a:pt x="16" y="436"/>
                </a:lnTo>
                <a:lnTo>
                  <a:pt x="25" y="417"/>
                </a:lnTo>
                <a:lnTo>
                  <a:pt x="36" y="412"/>
                </a:lnTo>
                <a:lnTo>
                  <a:pt x="39" y="400"/>
                </a:lnTo>
                <a:lnTo>
                  <a:pt x="16" y="368"/>
                </a:lnTo>
                <a:lnTo>
                  <a:pt x="1" y="357"/>
                </a:lnTo>
                <a:lnTo>
                  <a:pt x="4" y="348"/>
                </a:lnTo>
                <a:lnTo>
                  <a:pt x="14" y="348"/>
                </a:lnTo>
                <a:lnTo>
                  <a:pt x="25" y="335"/>
                </a:lnTo>
                <a:lnTo>
                  <a:pt x="18" y="330"/>
                </a:lnTo>
                <a:lnTo>
                  <a:pt x="18" y="312"/>
                </a:lnTo>
                <a:lnTo>
                  <a:pt x="12" y="294"/>
                </a:lnTo>
                <a:lnTo>
                  <a:pt x="7" y="284"/>
                </a:lnTo>
                <a:lnTo>
                  <a:pt x="4" y="264"/>
                </a:lnTo>
                <a:lnTo>
                  <a:pt x="13" y="261"/>
                </a:lnTo>
                <a:lnTo>
                  <a:pt x="5" y="238"/>
                </a:lnTo>
                <a:lnTo>
                  <a:pt x="1" y="216"/>
                </a:lnTo>
                <a:lnTo>
                  <a:pt x="7" y="216"/>
                </a:lnTo>
                <a:lnTo>
                  <a:pt x="13" y="207"/>
                </a:lnTo>
                <a:lnTo>
                  <a:pt x="5" y="191"/>
                </a:lnTo>
                <a:lnTo>
                  <a:pt x="4" y="172"/>
                </a:lnTo>
                <a:lnTo>
                  <a:pt x="0" y="149"/>
                </a:lnTo>
                <a:lnTo>
                  <a:pt x="9" y="137"/>
                </a:lnTo>
                <a:lnTo>
                  <a:pt x="4" y="133"/>
                </a:lnTo>
                <a:lnTo>
                  <a:pt x="7" y="133"/>
                </a:lnTo>
                <a:lnTo>
                  <a:pt x="4" y="118"/>
                </a:lnTo>
                <a:lnTo>
                  <a:pt x="7" y="103"/>
                </a:lnTo>
                <a:lnTo>
                  <a:pt x="5" y="92"/>
                </a:lnTo>
                <a:lnTo>
                  <a:pt x="4" y="71"/>
                </a:lnTo>
                <a:lnTo>
                  <a:pt x="9" y="63"/>
                </a:lnTo>
                <a:lnTo>
                  <a:pt x="7" y="38"/>
                </a:lnTo>
                <a:lnTo>
                  <a:pt x="7" y="25"/>
                </a:lnTo>
                <a:lnTo>
                  <a:pt x="7" y="0"/>
                </a:lnTo>
                <a:lnTo>
                  <a:pt x="402" y="9"/>
                </a:lnTo>
                <a:lnTo>
                  <a:pt x="400" y="5"/>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Freeform 156"/>
          <p:cNvSpPr/>
          <p:nvPr/>
        </p:nvSpPr>
        <p:spPr>
          <a:xfrm>
            <a:off x="1614600" y="3651120"/>
            <a:ext cx="650880" cy="1162080"/>
          </a:xfrm>
          <a:custGeom>
            <a:avLst/>
            <a:gdLst>
              <a:gd name="textAreaLeft" fmla="*/ 0 w 650880"/>
              <a:gd name="textAreaRight" fmla="*/ 651240 w 650880"/>
              <a:gd name="textAreaTop" fmla="*/ 0 h 1162080"/>
              <a:gd name="textAreaBottom" fmla="*/ 1162440 h 1162080"/>
            </a:gdLst>
            <a:ahLst/>
            <a:rect l="textAreaLeft" t="textAreaTop" r="textAreaRight" b="textAreaBottom"/>
            <a:pathLst>
              <a:path w="403" h="953">
                <a:moveTo>
                  <a:pt x="360" y="6"/>
                </a:moveTo>
                <a:lnTo>
                  <a:pt x="363" y="20"/>
                </a:lnTo>
                <a:lnTo>
                  <a:pt x="358" y="31"/>
                </a:lnTo>
                <a:lnTo>
                  <a:pt x="363" y="45"/>
                </a:lnTo>
                <a:lnTo>
                  <a:pt x="359" y="61"/>
                </a:lnTo>
                <a:lnTo>
                  <a:pt x="363" y="68"/>
                </a:lnTo>
                <a:lnTo>
                  <a:pt x="359" y="78"/>
                </a:lnTo>
                <a:lnTo>
                  <a:pt x="363" y="83"/>
                </a:lnTo>
                <a:lnTo>
                  <a:pt x="359" y="109"/>
                </a:lnTo>
                <a:lnTo>
                  <a:pt x="367" y="110"/>
                </a:lnTo>
                <a:lnTo>
                  <a:pt x="365" y="119"/>
                </a:lnTo>
                <a:lnTo>
                  <a:pt x="376" y="125"/>
                </a:lnTo>
                <a:lnTo>
                  <a:pt x="381" y="132"/>
                </a:lnTo>
                <a:lnTo>
                  <a:pt x="385" y="152"/>
                </a:lnTo>
                <a:lnTo>
                  <a:pt x="377" y="157"/>
                </a:lnTo>
                <a:lnTo>
                  <a:pt x="370" y="157"/>
                </a:lnTo>
                <a:lnTo>
                  <a:pt x="363" y="165"/>
                </a:lnTo>
                <a:lnTo>
                  <a:pt x="351" y="170"/>
                </a:lnTo>
                <a:lnTo>
                  <a:pt x="348" y="181"/>
                </a:lnTo>
                <a:lnTo>
                  <a:pt x="357" y="215"/>
                </a:lnTo>
                <a:lnTo>
                  <a:pt x="357" y="220"/>
                </a:lnTo>
                <a:lnTo>
                  <a:pt x="355" y="244"/>
                </a:lnTo>
                <a:lnTo>
                  <a:pt x="356" y="263"/>
                </a:lnTo>
                <a:lnTo>
                  <a:pt x="363" y="273"/>
                </a:lnTo>
                <a:lnTo>
                  <a:pt x="368" y="276"/>
                </a:lnTo>
                <a:lnTo>
                  <a:pt x="372" y="288"/>
                </a:lnTo>
                <a:lnTo>
                  <a:pt x="360" y="295"/>
                </a:lnTo>
                <a:lnTo>
                  <a:pt x="359" y="300"/>
                </a:lnTo>
                <a:lnTo>
                  <a:pt x="365" y="313"/>
                </a:lnTo>
                <a:lnTo>
                  <a:pt x="363" y="324"/>
                </a:lnTo>
                <a:lnTo>
                  <a:pt x="367" y="328"/>
                </a:lnTo>
                <a:lnTo>
                  <a:pt x="372" y="335"/>
                </a:lnTo>
                <a:lnTo>
                  <a:pt x="359" y="344"/>
                </a:lnTo>
                <a:lnTo>
                  <a:pt x="351" y="349"/>
                </a:lnTo>
                <a:lnTo>
                  <a:pt x="350" y="365"/>
                </a:lnTo>
                <a:lnTo>
                  <a:pt x="357" y="373"/>
                </a:lnTo>
                <a:lnTo>
                  <a:pt x="365" y="383"/>
                </a:lnTo>
                <a:lnTo>
                  <a:pt x="368" y="390"/>
                </a:lnTo>
                <a:lnTo>
                  <a:pt x="375" y="405"/>
                </a:lnTo>
                <a:lnTo>
                  <a:pt x="367" y="410"/>
                </a:lnTo>
                <a:lnTo>
                  <a:pt x="360" y="413"/>
                </a:lnTo>
                <a:lnTo>
                  <a:pt x="365" y="423"/>
                </a:lnTo>
                <a:lnTo>
                  <a:pt x="359" y="439"/>
                </a:lnTo>
                <a:lnTo>
                  <a:pt x="363" y="448"/>
                </a:lnTo>
                <a:lnTo>
                  <a:pt x="377" y="448"/>
                </a:lnTo>
                <a:lnTo>
                  <a:pt x="385" y="459"/>
                </a:lnTo>
                <a:lnTo>
                  <a:pt x="392" y="454"/>
                </a:lnTo>
                <a:lnTo>
                  <a:pt x="398" y="462"/>
                </a:lnTo>
                <a:lnTo>
                  <a:pt x="391" y="476"/>
                </a:lnTo>
                <a:lnTo>
                  <a:pt x="390" y="488"/>
                </a:lnTo>
                <a:lnTo>
                  <a:pt x="385" y="484"/>
                </a:lnTo>
                <a:lnTo>
                  <a:pt x="385" y="503"/>
                </a:lnTo>
                <a:lnTo>
                  <a:pt x="391" y="507"/>
                </a:lnTo>
                <a:lnTo>
                  <a:pt x="400" y="516"/>
                </a:lnTo>
                <a:lnTo>
                  <a:pt x="395" y="527"/>
                </a:lnTo>
                <a:lnTo>
                  <a:pt x="386" y="534"/>
                </a:lnTo>
                <a:lnTo>
                  <a:pt x="379" y="542"/>
                </a:lnTo>
                <a:lnTo>
                  <a:pt x="377" y="552"/>
                </a:lnTo>
                <a:lnTo>
                  <a:pt x="368" y="565"/>
                </a:lnTo>
                <a:lnTo>
                  <a:pt x="381" y="575"/>
                </a:lnTo>
                <a:lnTo>
                  <a:pt x="368" y="590"/>
                </a:lnTo>
                <a:lnTo>
                  <a:pt x="361" y="598"/>
                </a:lnTo>
                <a:lnTo>
                  <a:pt x="357" y="616"/>
                </a:lnTo>
                <a:lnTo>
                  <a:pt x="355" y="625"/>
                </a:lnTo>
                <a:lnTo>
                  <a:pt x="359" y="633"/>
                </a:lnTo>
                <a:lnTo>
                  <a:pt x="363" y="648"/>
                </a:lnTo>
                <a:lnTo>
                  <a:pt x="357" y="662"/>
                </a:lnTo>
                <a:lnTo>
                  <a:pt x="357" y="670"/>
                </a:lnTo>
                <a:lnTo>
                  <a:pt x="359" y="680"/>
                </a:lnTo>
                <a:lnTo>
                  <a:pt x="356" y="692"/>
                </a:lnTo>
                <a:lnTo>
                  <a:pt x="361" y="717"/>
                </a:lnTo>
                <a:lnTo>
                  <a:pt x="367" y="729"/>
                </a:lnTo>
                <a:lnTo>
                  <a:pt x="373" y="737"/>
                </a:lnTo>
                <a:lnTo>
                  <a:pt x="365" y="749"/>
                </a:lnTo>
                <a:lnTo>
                  <a:pt x="373" y="761"/>
                </a:lnTo>
                <a:lnTo>
                  <a:pt x="377" y="767"/>
                </a:lnTo>
                <a:lnTo>
                  <a:pt x="372" y="791"/>
                </a:lnTo>
                <a:lnTo>
                  <a:pt x="376" y="805"/>
                </a:lnTo>
                <a:lnTo>
                  <a:pt x="376" y="814"/>
                </a:lnTo>
                <a:lnTo>
                  <a:pt x="368" y="830"/>
                </a:lnTo>
                <a:lnTo>
                  <a:pt x="372" y="840"/>
                </a:lnTo>
                <a:lnTo>
                  <a:pt x="372" y="855"/>
                </a:lnTo>
                <a:lnTo>
                  <a:pt x="376" y="868"/>
                </a:lnTo>
                <a:lnTo>
                  <a:pt x="377" y="879"/>
                </a:lnTo>
                <a:lnTo>
                  <a:pt x="368" y="903"/>
                </a:lnTo>
                <a:lnTo>
                  <a:pt x="375" y="905"/>
                </a:lnTo>
                <a:lnTo>
                  <a:pt x="372" y="919"/>
                </a:lnTo>
                <a:lnTo>
                  <a:pt x="379" y="933"/>
                </a:lnTo>
                <a:lnTo>
                  <a:pt x="403" y="953"/>
                </a:lnTo>
                <a:lnTo>
                  <a:pt x="9" y="949"/>
                </a:lnTo>
                <a:lnTo>
                  <a:pt x="4" y="933"/>
                </a:lnTo>
                <a:lnTo>
                  <a:pt x="4" y="903"/>
                </a:lnTo>
                <a:lnTo>
                  <a:pt x="1" y="896"/>
                </a:lnTo>
                <a:lnTo>
                  <a:pt x="4" y="879"/>
                </a:lnTo>
                <a:lnTo>
                  <a:pt x="1" y="844"/>
                </a:lnTo>
                <a:lnTo>
                  <a:pt x="4" y="830"/>
                </a:lnTo>
                <a:lnTo>
                  <a:pt x="4" y="814"/>
                </a:lnTo>
                <a:lnTo>
                  <a:pt x="4" y="791"/>
                </a:lnTo>
                <a:lnTo>
                  <a:pt x="6" y="781"/>
                </a:lnTo>
                <a:lnTo>
                  <a:pt x="13" y="761"/>
                </a:lnTo>
                <a:lnTo>
                  <a:pt x="22" y="757"/>
                </a:lnTo>
                <a:lnTo>
                  <a:pt x="12" y="744"/>
                </a:lnTo>
                <a:lnTo>
                  <a:pt x="4" y="726"/>
                </a:lnTo>
                <a:lnTo>
                  <a:pt x="4" y="702"/>
                </a:lnTo>
                <a:lnTo>
                  <a:pt x="0" y="692"/>
                </a:lnTo>
                <a:lnTo>
                  <a:pt x="4" y="670"/>
                </a:lnTo>
                <a:lnTo>
                  <a:pt x="1" y="645"/>
                </a:lnTo>
                <a:lnTo>
                  <a:pt x="4" y="633"/>
                </a:lnTo>
                <a:lnTo>
                  <a:pt x="13" y="633"/>
                </a:lnTo>
                <a:lnTo>
                  <a:pt x="22" y="633"/>
                </a:lnTo>
                <a:lnTo>
                  <a:pt x="28" y="627"/>
                </a:lnTo>
                <a:lnTo>
                  <a:pt x="33" y="616"/>
                </a:lnTo>
                <a:lnTo>
                  <a:pt x="28" y="612"/>
                </a:lnTo>
                <a:lnTo>
                  <a:pt x="26" y="605"/>
                </a:lnTo>
                <a:lnTo>
                  <a:pt x="18" y="588"/>
                </a:lnTo>
                <a:lnTo>
                  <a:pt x="20" y="575"/>
                </a:lnTo>
                <a:lnTo>
                  <a:pt x="18" y="568"/>
                </a:lnTo>
                <a:lnTo>
                  <a:pt x="14" y="565"/>
                </a:lnTo>
                <a:lnTo>
                  <a:pt x="15" y="544"/>
                </a:lnTo>
                <a:lnTo>
                  <a:pt x="13" y="542"/>
                </a:lnTo>
                <a:lnTo>
                  <a:pt x="15" y="527"/>
                </a:lnTo>
                <a:lnTo>
                  <a:pt x="7" y="501"/>
                </a:lnTo>
                <a:lnTo>
                  <a:pt x="4" y="476"/>
                </a:lnTo>
                <a:lnTo>
                  <a:pt x="12" y="462"/>
                </a:lnTo>
                <a:lnTo>
                  <a:pt x="15" y="439"/>
                </a:lnTo>
                <a:lnTo>
                  <a:pt x="22" y="429"/>
                </a:lnTo>
                <a:lnTo>
                  <a:pt x="18" y="423"/>
                </a:lnTo>
                <a:lnTo>
                  <a:pt x="7" y="405"/>
                </a:lnTo>
                <a:lnTo>
                  <a:pt x="4" y="397"/>
                </a:lnTo>
                <a:lnTo>
                  <a:pt x="1" y="375"/>
                </a:lnTo>
                <a:lnTo>
                  <a:pt x="4" y="349"/>
                </a:lnTo>
                <a:lnTo>
                  <a:pt x="6" y="335"/>
                </a:lnTo>
                <a:lnTo>
                  <a:pt x="14" y="328"/>
                </a:lnTo>
                <a:lnTo>
                  <a:pt x="12" y="305"/>
                </a:lnTo>
                <a:lnTo>
                  <a:pt x="9" y="295"/>
                </a:lnTo>
                <a:lnTo>
                  <a:pt x="13" y="285"/>
                </a:lnTo>
                <a:lnTo>
                  <a:pt x="13" y="273"/>
                </a:lnTo>
                <a:lnTo>
                  <a:pt x="18" y="259"/>
                </a:lnTo>
                <a:lnTo>
                  <a:pt x="18" y="244"/>
                </a:lnTo>
                <a:lnTo>
                  <a:pt x="14" y="231"/>
                </a:lnTo>
                <a:lnTo>
                  <a:pt x="14" y="220"/>
                </a:lnTo>
                <a:lnTo>
                  <a:pt x="18" y="200"/>
                </a:lnTo>
                <a:lnTo>
                  <a:pt x="14" y="165"/>
                </a:lnTo>
                <a:lnTo>
                  <a:pt x="36" y="160"/>
                </a:lnTo>
                <a:lnTo>
                  <a:pt x="24" y="142"/>
                </a:lnTo>
                <a:lnTo>
                  <a:pt x="16" y="134"/>
                </a:lnTo>
                <a:lnTo>
                  <a:pt x="20" y="110"/>
                </a:lnTo>
                <a:lnTo>
                  <a:pt x="16" y="94"/>
                </a:lnTo>
                <a:lnTo>
                  <a:pt x="18" y="76"/>
                </a:lnTo>
                <a:lnTo>
                  <a:pt x="25" y="65"/>
                </a:lnTo>
                <a:lnTo>
                  <a:pt x="22" y="55"/>
                </a:lnTo>
                <a:lnTo>
                  <a:pt x="16" y="40"/>
                </a:lnTo>
                <a:lnTo>
                  <a:pt x="44" y="6"/>
                </a:lnTo>
                <a:lnTo>
                  <a:pt x="360" y="0"/>
                </a:lnTo>
                <a:lnTo>
                  <a:pt x="360" y="6"/>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Freeform 157"/>
          <p:cNvSpPr/>
          <p:nvPr/>
        </p:nvSpPr>
        <p:spPr>
          <a:xfrm>
            <a:off x="1671480" y="3137040"/>
            <a:ext cx="532080" cy="95040"/>
          </a:xfrm>
          <a:custGeom>
            <a:avLst/>
            <a:gdLst>
              <a:gd name="textAreaLeft" fmla="*/ 0 w 532080"/>
              <a:gd name="textAreaRight" fmla="*/ 532440 w 532080"/>
              <a:gd name="textAreaTop" fmla="*/ 0 h 95040"/>
              <a:gd name="textAreaBottom" fmla="*/ 95400 h 95040"/>
            </a:gdLst>
            <a:ahLst/>
            <a:rect l="textAreaLeft" t="textAreaTop" r="textAreaRight" b="textAreaBottom"/>
            <a:pathLst>
              <a:path w="327" h="78">
                <a:moveTo>
                  <a:pt x="299" y="9"/>
                </a:moveTo>
                <a:lnTo>
                  <a:pt x="315" y="9"/>
                </a:lnTo>
                <a:lnTo>
                  <a:pt x="324" y="17"/>
                </a:lnTo>
                <a:lnTo>
                  <a:pt x="327" y="26"/>
                </a:lnTo>
                <a:lnTo>
                  <a:pt x="320" y="35"/>
                </a:lnTo>
                <a:lnTo>
                  <a:pt x="325" y="54"/>
                </a:lnTo>
                <a:lnTo>
                  <a:pt x="323" y="63"/>
                </a:lnTo>
                <a:lnTo>
                  <a:pt x="327" y="78"/>
                </a:lnTo>
                <a:lnTo>
                  <a:pt x="5" y="63"/>
                </a:lnTo>
                <a:lnTo>
                  <a:pt x="5" y="49"/>
                </a:lnTo>
                <a:lnTo>
                  <a:pt x="5" y="42"/>
                </a:lnTo>
                <a:lnTo>
                  <a:pt x="0" y="31"/>
                </a:lnTo>
                <a:lnTo>
                  <a:pt x="11" y="22"/>
                </a:lnTo>
                <a:lnTo>
                  <a:pt x="21" y="21"/>
                </a:lnTo>
                <a:lnTo>
                  <a:pt x="7" y="1"/>
                </a:lnTo>
                <a:lnTo>
                  <a:pt x="25" y="0"/>
                </a:lnTo>
                <a:lnTo>
                  <a:pt x="302" y="9"/>
                </a:lnTo>
                <a:lnTo>
                  <a:pt x="299" y="9"/>
                </a:lnTo>
                <a:close/>
              </a:path>
            </a:pathLst>
          </a:custGeom>
          <a:solidFill>
            <a:srgbClr val="82e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Freeform 158"/>
          <p:cNvSpPr/>
          <p:nvPr/>
        </p:nvSpPr>
        <p:spPr>
          <a:xfrm>
            <a:off x="1625760" y="3211560"/>
            <a:ext cx="669600" cy="447480"/>
          </a:xfrm>
          <a:custGeom>
            <a:avLst/>
            <a:gdLst>
              <a:gd name="textAreaLeft" fmla="*/ 0 w 669600"/>
              <a:gd name="textAreaRight" fmla="*/ 669960 w 669600"/>
              <a:gd name="textAreaTop" fmla="*/ 0 h 447480"/>
              <a:gd name="textAreaBottom" fmla="*/ 447840 h 447480"/>
            </a:gdLst>
            <a:ahLst/>
            <a:rect l="textAreaLeft" t="textAreaTop" r="textAreaRight" b="textAreaBottom"/>
            <a:pathLst>
              <a:path w="416" h="368">
                <a:moveTo>
                  <a:pt x="356" y="15"/>
                </a:moveTo>
                <a:lnTo>
                  <a:pt x="365" y="22"/>
                </a:lnTo>
                <a:lnTo>
                  <a:pt x="376" y="35"/>
                </a:lnTo>
                <a:lnTo>
                  <a:pt x="384" y="26"/>
                </a:lnTo>
                <a:lnTo>
                  <a:pt x="391" y="37"/>
                </a:lnTo>
                <a:lnTo>
                  <a:pt x="396" y="47"/>
                </a:lnTo>
                <a:lnTo>
                  <a:pt x="393" y="62"/>
                </a:lnTo>
                <a:lnTo>
                  <a:pt x="382" y="72"/>
                </a:lnTo>
                <a:lnTo>
                  <a:pt x="390" y="73"/>
                </a:lnTo>
                <a:lnTo>
                  <a:pt x="393" y="88"/>
                </a:lnTo>
                <a:lnTo>
                  <a:pt x="395" y="90"/>
                </a:lnTo>
                <a:lnTo>
                  <a:pt x="401" y="97"/>
                </a:lnTo>
                <a:lnTo>
                  <a:pt x="407" y="105"/>
                </a:lnTo>
                <a:lnTo>
                  <a:pt x="399" y="114"/>
                </a:lnTo>
                <a:lnTo>
                  <a:pt x="389" y="125"/>
                </a:lnTo>
                <a:lnTo>
                  <a:pt x="380" y="127"/>
                </a:lnTo>
                <a:lnTo>
                  <a:pt x="393" y="134"/>
                </a:lnTo>
                <a:lnTo>
                  <a:pt x="402" y="142"/>
                </a:lnTo>
                <a:lnTo>
                  <a:pt x="389" y="159"/>
                </a:lnTo>
                <a:lnTo>
                  <a:pt x="380" y="162"/>
                </a:lnTo>
                <a:lnTo>
                  <a:pt x="382" y="169"/>
                </a:lnTo>
                <a:lnTo>
                  <a:pt x="382" y="175"/>
                </a:lnTo>
                <a:lnTo>
                  <a:pt x="390" y="176"/>
                </a:lnTo>
                <a:lnTo>
                  <a:pt x="395" y="182"/>
                </a:lnTo>
                <a:lnTo>
                  <a:pt x="395" y="197"/>
                </a:lnTo>
                <a:lnTo>
                  <a:pt x="385" y="216"/>
                </a:lnTo>
                <a:lnTo>
                  <a:pt x="393" y="225"/>
                </a:lnTo>
                <a:lnTo>
                  <a:pt x="399" y="239"/>
                </a:lnTo>
                <a:lnTo>
                  <a:pt x="402" y="249"/>
                </a:lnTo>
                <a:lnTo>
                  <a:pt x="407" y="256"/>
                </a:lnTo>
                <a:lnTo>
                  <a:pt x="416" y="266"/>
                </a:lnTo>
                <a:lnTo>
                  <a:pt x="402" y="269"/>
                </a:lnTo>
                <a:lnTo>
                  <a:pt x="395" y="279"/>
                </a:lnTo>
                <a:lnTo>
                  <a:pt x="389" y="283"/>
                </a:lnTo>
                <a:lnTo>
                  <a:pt x="389" y="295"/>
                </a:lnTo>
                <a:lnTo>
                  <a:pt x="390" y="306"/>
                </a:lnTo>
                <a:lnTo>
                  <a:pt x="393" y="315"/>
                </a:lnTo>
                <a:lnTo>
                  <a:pt x="387" y="321"/>
                </a:lnTo>
                <a:lnTo>
                  <a:pt x="382" y="329"/>
                </a:lnTo>
                <a:lnTo>
                  <a:pt x="391" y="336"/>
                </a:lnTo>
                <a:lnTo>
                  <a:pt x="395" y="345"/>
                </a:lnTo>
                <a:lnTo>
                  <a:pt x="389" y="355"/>
                </a:lnTo>
                <a:lnTo>
                  <a:pt x="374" y="359"/>
                </a:lnTo>
                <a:lnTo>
                  <a:pt x="363" y="359"/>
                </a:lnTo>
                <a:lnTo>
                  <a:pt x="358" y="368"/>
                </a:lnTo>
                <a:lnTo>
                  <a:pt x="42" y="368"/>
                </a:lnTo>
                <a:lnTo>
                  <a:pt x="17" y="352"/>
                </a:lnTo>
                <a:lnTo>
                  <a:pt x="7" y="347"/>
                </a:lnTo>
                <a:lnTo>
                  <a:pt x="17" y="321"/>
                </a:lnTo>
                <a:lnTo>
                  <a:pt x="23" y="305"/>
                </a:lnTo>
                <a:lnTo>
                  <a:pt x="31" y="305"/>
                </a:lnTo>
                <a:lnTo>
                  <a:pt x="38" y="294"/>
                </a:lnTo>
                <a:lnTo>
                  <a:pt x="21" y="283"/>
                </a:lnTo>
                <a:lnTo>
                  <a:pt x="11" y="269"/>
                </a:lnTo>
                <a:lnTo>
                  <a:pt x="0" y="256"/>
                </a:lnTo>
                <a:lnTo>
                  <a:pt x="4" y="244"/>
                </a:lnTo>
                <a:lnTo>
                  <a:pt x="2" y="239"/>
                </a:lnTo>
                <a:lnTo>
                  <a:pt x="4" y="231"/>
                </a:lnTo>
                <a:lnTo>
                  <a:pt x="9" y="215"/>
                </a:lnTo>
                <a:lnTo>
                  <a:pt x="8" y="206"/>
                </a:lnTo>
                <a:lnTo>
                  <a:pt x="8" y="191"/>
                </a:lnTo>
                <a:lnTo>
                  <a:pt x="13" y="170"/>
                </a:lnTo>
                <a:lnTo>
                  <a:pt x="11" y="169"/>
                </a:lnTo>
                <a:lnTo>
                  <a:pt x="8" y="160"/>
                </a:lnTo>
                <a:lnTo>
                  <a:pt x="13" y="145"/>
                </a:lnTo>
                <a:lnTo>
                  <a:pt x="7" y="142"/>
                </a:lnTo>
                <a:lnTo>
                  <a:pt x="2" y="129"/>
                </a:lnTo>
                <a:lnTo>
                  <a:pt x="8" y="129"/>
                </a:lnTo>
                <a:lnTo>
                  <a:pt x="13" y="119"/>
                </a:lnTo>
                <a:lnTo>
                  <a:pt x="4" y="112"/>
                </a:lnTo>
                <a:lnTo>
                  <a:pt x="4" y="96"/>
                </a:lnTo>
                <a:lnTo>
                  <a:pt x="2" y="90"/>
                </a:lnTo>
                <a:lnTo>
                  <a:pt x="8" y="72"/>
                </a:lnTo>
                <a:lnTo>
                  <a:pt x="7" y="57"/>
                </a:lnTo>
                <a:lnTo>
                  <a:pt x="13" y="47"/>
                </a:lnTo>
                <a:lnTo>
                  <a:pt x="11" y="41"/>
                </a:lnTo>
                <a:lnTo>
                  <a:pt x="18" y="26"/>
                </a:lnTo>
                <a:lnTo>
                  <a:pt x="26" y="18"/>
                </a:lnTo>
                <a:lnTo>
                  <a:pt x="36" y="0"/>
                </a:lnTo>
                <a:lnTo>
                  <a:pt x="355" y="16"/>
                </a:lnTo>
                <a:lnTo>
                  <a:pt x="356" y="15"/>
                </a:lnTo>
                <a:close/>
              </a:path>
            </a:pathLst>
          </a:custGeom>
          <a:solidFill>
            <a:srgbClr val="000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Freeform 159"/>
          <p:cNvSpPr/>
          <p:nvPr/>
        </p:nvSpPr>
        <p:spPr>
          <a:xfrm>
            <a:off x="1603440" y="2344680"/>
            <a:ext cx="671400" cy="260280"/>
          </a:xfrm>
          <a:custGeom>
            <a:avLst/>
            <a:gdLst>
              <a:gd name="textAreaLeft" fmla="*/ 0 w 671400"/>
              <a:gd name="textAreaRight" fmla="*/ 671760 w 671400"/>
              <a:gd name="textAreaTop" fmla="*/ 0 h 260280"/>
              <a:gd name="textAreaBottom" fmla="*/ 260640 h 260280"/>
            </a:gdLst>
            <a:ahLst/>
            <a:rect l="textAreaLeft" t="textAreaTop" r="textAreaRight" b="textAreaBottom"/>
            <a:pathLst>
              <a:path w="412" h="212">
                <a:moveTo>
                  <a:pt x="394" y="0"/>
                </a:moveTo>
                <a:lnTo>
                  <a:pt x="2" y="0"/>
                </a:lnTo>
                <a:lnTo>
                  <a:pt x="5" y="31"/>
                </a:lnTo>
                <a:lnTo>
                  <a:pt x="5" y="56"/>
                </a:lnTo>
                <a:lnTo>
                  <a:pt x="6" y="99"/>
                </a:lnTo>
                <a:lnTo>
                  <a:pt x="10" y="118"/>
                </a:lnTo>
                <a:lnTo>
                  <a:pt x="4" y="138"/>
                </a:lnTo>
                <a:lnTo>
                  <a:pt x="0" y="168"/>
                </a:lnTo>
                <a:lnTo>
                  <a:pt x="6" y="168"/>
                </a:lnTo>
                <a:lnTo>
                  <a:pt x="66" y="180"/>
                </a:lnTo>
                <a:lnTo>
                  <a:pt x="99" y="185"/>
                </a:lnTo>
                <a:lnTo>
                  <a:pt x="115" y="205"/>
                </a:lnTo>
                <a:lnTo>
                  <a:pt x="132" y="212"/>
                </a:lnTo>
                <a:lnTo>
                  <a:pt x="340" y="210"/>
                </a:lnTo>
                <a:lnTo>
                  <a:pt x="348" y="180"/>
                </a:lnTo>
                <a:lnTo>
                  <a:pt x="368" y="168"/>
                </a:lnTo>
                <a:lnTo>
                  <a:pt x="392" y="168"/>
                </a:lnTo>
                <a:lnTo>
                  <a:pt x="405" y="158"/>
                </a:lnTo>
                <a:lnTo>
                  <a:pt x="412" y="148"/>
                </a:lnTo>
                <a:lnTo>
                  <a:pt x="406" y="138"/>
                </a:lnTo>
                <a:lnTo>
                  <a:pt x="401" y="118"/>
                </a:lnTo>
                <a:lnTo>
                  <a:pt x="397" y="106"/>
                </a:lnTo>
                <a:lnTo>
                  <a:pt x="405" y="99"/>
                </a:lnTo>
                <a:lnTo>
                  <a:pt x="403" y="75"/>
                </a:lnTo>
                <a:lnTo>
                  <a:pt x="397" y="68"/>
                </a:lnTo>
                <a:lnTo>
                  <a:pt x="399" y="56"/>
                </a:lnTo>
                <a:lnTo>
                  <a:pt x="403" y="31"/>
                </a:lnTo>
                <a:lnTo>
                  <a:pt x="397" y="15"/>
                </a:lnTo>
                <a:lnTo>
                  <a:pt x="392" y="15"/>
                </a:lnTo>
                <a:lnTo>
                  <a:pt x="391" y="9"/>
                </a:lnTo>
                <a:lnTo>
                  <a:pt x="394" y="0"/>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Freeform 160"/>
          <p:cNvSpPr/>
          <p:nvPr/>
        </p:nvSpPr>
        <p:spPr>
          <a:xfrm>
            <a:off x="1649520" y="2600280"/>
            <a:ext cx="595080" cy="547560"/>
          </a:xfrm>
          <a:custGeom>
            <a:avLst/>
            <a:gdLst>
              <a:gd name="textAreaLeft" fmla="*/ 0 w 595080"/>
              <a:gd name="textAreaRight" fmla="*/ 595440 w 595080"/>
              <a:gd name="textAreaTop" fmla="*/ 0 h 547560"/>
              <a:gd name="textAreaBottom" fmla="*/ 547920 h 547560"/>
            </a:gdLst>
            <a:ahLst/>
            <a:rect l="textAreaLeft" t="textAreaTop" r="textAreaRight" b="textAreaBottom"/>
            <a:pathLst>
              <a:path w="368" h="451">
                <a:moveTo>
                  <a:pt x="325" y="0"/>
                </a:moveTo>
                <a:lnTo>
                  <a:pt x="351" y="17"/>
                </a:lnTo>
                <a:lnTo>
                  <a:pt x="334" y="23"/>
                </a:lnTo>
                <a:lnTo>
                  <a:pt x="325" y="23"/>
                </a:lnTo>
                <a:lnTo>
                  <a:pt x="321" y="41"/>
                </a:lnTo>
                <a:lnTo>
                  <a:pt x="309" y="41"/>
                </a:lnTo>
                <a:lnTo>
                  <a:pt x="309" y="47"/>
                </a:lnTo>
                <a:lnTo>
                  <a:pt x="319" y="54"/>
                </a:lnTo>
                <a:lnTo>
                  <a:pt x="328" y="60"/>
                </a:lnTo>
                <a:lnTo>
                  <a:pt x="328" y="70"/>
                </a:lnTo>
                <a:lnTo>
                  <a:pt x="341" y="70"/>
                </a:lnTo>
                <a:lnTo>
                  <a:pt x="346" y="70"/>
                </a:lnTo>
                <a:lnTo>
                  <a:pt x="355" y="75"/>
                </a:lnTo>
                <a:lnTo>
                  <a:pt x="363" y="81"/>
                </a:lnTo>
                <a:lnTo>
                  <a:pt x="368" y="87"/>
                </a:lnTo>
                <a:lnTo>
                  <a:pt x="363" y="100"/>
                </a:lnTo>
                <a:lnTo>
                  <a:pt x="355" y="104"/>
                </a:lnTo>
                <a:lnTo>
                  <a:pt x="341" y="100"/>
                </a:lnTo>
                <a:lnTo>
                  <a:pt x="333" y="100"/>
                </a:lnTo>
                <a:lnTo>
                  <a:pt x="335" y="116"/>
                </a:lnTo>
                <a:lnTo>
                  <a:pt x="334" y="127"/>
                </a:lnTo>
                <a:lnTo>
                  <a:pt x="341" y="136"/>
                </a:lnTo>
                <a:lnTo>
                  <a:pt x="350" y="136"/>
                </a:lnTo>
                <a:lnTo>
                  <a:pt x="350" y="139"/>
                </a:lnTo>
                <a:lnTo>
                  <a:pt x="338" y="145"/>
                </a:lnTo>
                <a:lnTo>
                  <a:pt x="328" y="160"/>
                </a:lnTo>
                <a:lnTo>
                  <a:pt x="337" y="160"/>
                </a:lnTo>
                <a:lnTo>
                  <a:pt x="341" y="163"/>
                </a:lnTo>
                <a:lnTo>
                  <a:pt x="343" y="170"/>
                </a:lnTo>
                <a:lnTo>
                  <a:pt x="337" y="170"/>
                </a:lnTo>
                <a:lnTo>
                  <a:pt x="328" y="184"/>
                </a:lnTo>
                <a:lnTo>
                  <a:pt x="319" y="186"/>
                </a:lnTo>
                <a:lnTo>
                  <a:pt x="321" y="194"/>
                </a:lnTo>
                <a:lnTo>
                  <a:pt x="333" y="199"/>
                </a:lnTo>
                <a:lnTo>
                  <a:pt x="345" y="211"/>
                </a:lnTo>
                <a:lnTo>
                  <a:pt x="338" y="211"/>
                </a:lnTo>
                <a:lnTo>
                  <a:pt x="335" y="215"/>
                </a:lnTo>
                <a:lnTo>
                  <a:pt x="325" y="224"/>
                </a:lnTo>
                <a:lnTo>
                  <a:pt x="337" y="226"/>
                </a:lnTo>
                <a:lnTo>
                  <a:pt x="343" y="234"/>
                </a:lnTo>
                <a:lnTo>
                  <a:pt x="338" y="251"/>
                </a:lnTo>
                <a:lnTo>
                  <a:pt x="335" y="256"/>
                </a:lnTo>
                <a:lnTo>
                  <a:pt x="328" y="279"/>
                </a:lnTo>
                <a:lnTo>
                  <a:pt x="328" y="294"/>
                </a:lnTo>
                <a:lnTo>
                  <a:pt x="319" y="304"/>
                </a:lnTo>
                <a:lnTo>
                  <a:pt x="321" y="312"/>
                </a:lnTo>
                <a:lnTo>
                  <a:pt x="321" y="320"/>
                </a:lnTo>
                <a:lnTo>
                  <a:pt x="328" y="328"/>
                </a:lnTo>
                <a:lnTo>
                  <a:pt x="321" y="347"/>
                </a:lnTo>
                <a:lnTo>
                  <a:pt x="313" y="347"/>
                </a:lnTo>
                <a:lnTo>
                  <a:pt x="325" y="355"/>
                </a:lnTo>
                <a:lnTo>
                  <a:pt x="321" y="377"/>
                </a:lnTo>
                <a:lnTo>
                  <a:pt x="318" y="377"/>
                </a:lnTo>
                <a:lnTo>
                  <a:pt x="328" y="388"/>
                </a:lnTo>
                <a:lnTo>
                  <a:pt x="328" y="399"/>
                </a:lnTo>
                <a:lnTo>
                  <a:pt x="321" y="409"/>
                </a:lnTo>
                <a:lnTo>
                  <a:pt x="316" y="423"/>
                </a:lnTo>
                <a:lnTo>
                  <a:pt x="312" y="428"/>
                </a:lnTo>
                <a:lnTo>
                  <a:pt x="313" y="451"/>
                </a:lnTo>
                <a:lnTo>
                  <a:pt x="37" y="448"/>
                </a:lnTo>
                <a:lnTo>
                  <a:pt x="42" y="436"/>
                </a:lnTo>
                <a:lnTo>
                  <a:pt x="42" y="431"/>
                </a:lnTo>
                <a:lnTo>
                  <a:pt x="41" y="426"/>
                </a:lnTo>
                <a:lnTo>
                  <a:pt x="53" y="401"/>
                </a:lnTo>
                <a:lnTo>
                  <a:pt x="51" y="391"/>
                </a:lnTo>
                <a:lnTo>
                  <a:pt x="77" y="384"/>
                </a:lnTo>
                <a:lnTo>
                  <a:pt x="72" y="378"/>
                </a:lnTo>
                <a:lnTo>
                  <a:pt x="70" y="370"/>
                </a:lnTo>
                <a:lnTo>
                  <a:pt x="56" y="365"/>
                </a:lnTo>
                <a:lnTo>
                  <a:pt x="49" y="365"/>
                </a:lnTo>
                <a:lnTo>
                  <a:pt x="35" y="365"/>
                </a:lnTo>
                <a:lnTo>
                  <a:pt x="28" y="347"/>
                </a:lnTo>
                <a:lnTo>
                  <a:pt x="19" y="344"/>
                </a:lnTo>
                <a:lnTo>
                  <a:pt x="29" y="344"/>
                </a:lnTo>
                <a:lnTo>
                  <a:pt x="32" y="337"/>
                </a:lnTo>
                <a:lnTo>
                  <a:pt x="77" y="319"/>
                </a:lnTo>
                <a:lnTo>
                  <a:pt x="60" y="314"/>
                </a:lnTo>
                <a:lnTo>
                  <a:pt x="49" y="305"/>
                </a:lnTo>
                <a:lnTo>
                  <a:pt x="43" y="303"/>
                </a:lnTo>
                <a:lnTo>
                  <a:pt x="46" y="295"/>
                </a:lnTo>
                <a:lnTo>
                  <a:pt x="37" y="283"/>
                </a:lnTo>
                <a:lnTo>
                  <a:pt x="46" y="283"/>
                </a:lnTo>
                <a:lnTo>
                  <a:pt x="37" y="273"/>
                </a:lnTo>
                <a:lnTo>
                  <a:pt x="29" y="260"/>
                </a:lnTo>
                <a:lnTo>
                  <a:pt x="29" y="250"/>
                </a:lnTo>
                <a:lnTo>
                  <a:pt x="19" y="243"/>
                </a:lnTo>
                <a:lnTo>
                  <a:pt x="13" y="240"/>
                </a:lnTo>
                <a:lnTo>
                  <a:pt x="18" y="220"/>
                </a:lnTo>
                <a:lnTo>
                  <a:pt x="9" y="213"/>
                </a:lnTo>
                <a:lnTo>
                  <a:pt x="13" y="209"/>
                </a:lnTo>
                <a:lnTo>
                  <a:pt x="16" y="203"/>
                </a:lnTo>
                <a:lnTo>
                  <a:pt x="26" y="191"/>
                </a:lnTo>
                <a:lnTo>
                  <a:pt x="18" y="184"/>
                </a:lnTo>
                <a:lnTo>
                  <a:pt x="9" y="191"/>
                </a:lnTo>
                <a:lnTo>
                  <a:pt x="0" y="171"/>
                </a:lnTo>
                <a:lnTo>
                  <a:pt x="9" y="161"/>
                </a:lnTo>
                <a:lnTo>
                  <a:pt x="3" y="150"/>
                </a:lnTo>
                <a:lnTo>
                  <a:pt x="9" y="142"/>
                </a:lnTo>
                <a:lnTo>
                  <a:pt x="14" y="127"/>
                </a:lnTo>
                <a:lnTo>
                  <a:pt x="9" y="127"/>
                </a:lnTo>
                <a:lnTo>
                  <a:pt x="16" y="116"/>
                </a:lnTo>
                <a:lnTo>
                  <a:pt x="7" y="100"/>
                </a:lnTo>
                <a:lnTo>
                  <a:pt x="2" y="86"/>
                </a:lnTo>
                <a:lnTo>
                  <a:pt x="16" y="80"/>
                </a:lnTo>
                <a:lnTo>
                  <a:pt x="25" y="72"/>
                </a:lnTo>
                <a:lnTo>
                  <a:pt x="19" y="60"/>
                </a:lnTo>
                <a:lnTo>
                  <a:pt x="22" y="49"/>
                </a:lnTo>
                <a:lnTo>
                  <a:pt x="16" y="26"/>
                </a:lnTo>
                <a:lnTo>
                  <a:pt x="18" y="45"/>
                </a:lnTo>
                <a:lnTo>
                  <a:pt x="14" y="34"/>
                </a:lnTo>
                <a:lnTo>
                  <a:pt x="43" y="34"/>
                </a:lnTo>
                <a:lnTo>
                  <a:pt x="33" y="10"/>
                </a:lnTo>
                <a:lnTo>
                  <a:pt x="87" y="3"/>
                </a:lnTo>
                <a:lnTo>
                  <a:pt x="321" y="3"/>
                </a:lnTo>
                <a:lnTo>
                  <a:pt x="325" y="0"/>
                </a:lnTo>
                <a:close/>
              </a:path>
            </a:pathLst>
          </a:custGeom>
          <a:solidFill>
            <a:srgbClr val="e0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Freeform 161"/>
          <p:cNvSpPr/>
          <p:nvPr/>
        </p:nvSpPr>
        <p:spPr>
          <a:xfrm>
            <a:off x="725400" y="2344680"/>
            <a:ext cx="600120" cy="260280"/>
          </a:xfrm>
          <a:custGeom>
            <a:avLst/>
            <a:gdLst>
              <a:gd name="textAreaLeft" fmla="*/ 0 w 600120"/>
              <a:gd name="textAreaRight" fmla="*/ 600480 w 600120"/>
              <a:gd name="textAreaTop" fmla="*/ 0 h 260280"/>
              <a:gd name="textAreaBottom" fmla="*/ 260640 h 260280"/>
            </a:gdLst>
            <a:ahLst/>
            <a:rect l="textAreaLeft" t="textAreaTop" r="textAreaRight" b="textAreaBottom"/>
            <a:pathLst>
              <a:path w="373" h="210">
                <a:moveTo>
                  <a:pt x="1" y="4"/>
                </a:moveTo>
                <a:lnTo>
                  <a:pt x="1" y="15"/>
                </a:lnTo>
                <a:lnTo>
                  <a:pt x="5" y="18"/>
                </a:lnTo>
                <a:lnTo>
                  <a:pt x="0" y="26"/>
                </a:lnTo>
                <a:lnTo>
                  <a:pt x="7" y="36"/>
                </a:lnTo>
                <a:lnTo>
                  <a:pt x="1" y="55"/>
                </a:lnTo>
                <a:lnTo>
                  <a:pt x="7" y="55"/>
                </a:lnTo>
                <a:lnTo>
                  <a:pt x="1" y="81"/>
                </a:lnTo>
                <a:lnTo>
                  <a:pt x="13" y="104"/>
                </a:lnTo>
                <a:lnTo>
                  <a:pt x="7" y="119"/>
                </a:lnTo>
                <a:lnTo>
                  <a:pt x="6" y="119"/>
                </a:lnTo>
                <a:lnTo>
                  <a:pt x="6" y="130"/>
                </a:lnTo>
                <a:lnTo>
                  <a:pt x="0" y="145"/>
                </a:lnTo>
                <a:lnTo>
                  <a:pt x="0" y="159"/>
                </a:lnTo>
                <a:lnTo>
                  <a:pt x="15" y="172"/>
                </a:lnTo>
                <a:lnTo>
                  <a:pt x="57" y="179"/>
                </a:lnTo>
                <a:lnTo>
                  <a:pt x="81" y="179"/>
                </a:lnTo>
                <a:lnTo>
                  <a:pt x="131" y="210"/>
                </a:lnTo>
                <a:lnTo>
                  <a:pt x="326" y="207"/>
                </a:lnTo>
                <a:lnTo>
                  <a:pt x="344" y="194"/>
                </a:lnTo>
                <a:lnTo>
                  <a:pt x="340" y="175"/>
                </a:lnTo>
                <a:lnTo>
                  <a:pt x="344" y="150"/>
                </a:lnTo>
                <a:lnTo>
                  <a:pt x="351" y="139"/>
                </a:lnTo>
                <a:lnTo>
                  <a:pt x="366" y="133"/>
                </a:lnTo>
                <a:lnTo>
                  <a:pt x="364" y="104"/>
                </a:lnTo>
                <a:lnTo>
                  <a:pt x="368" y="99"/>
                </a:lnTo>
                <a:lnTo>
                  <a:pt x="358" y="93"/>
                </a:lnTo>
                <a:lnTo>
                  <a:pt x="367" y="73"/>
                </a:lnTo>
                <a:lnTo>
                  <a:pt x="367" y="49"/>
                </a:lnTo>
                <a:lnTo>
                  <a:pt x="368" y="30"/>
                </a:lnTo>
                <a:lnTo>
                  <a:pt x="366" y="18"/>
                </a:lnTo>
                <a:lnTo>
                  <a:pt x="373" y="0"/>
                </a:lnTo>
                <a:lnTo>
                  <a:pt x="1" y="0"/>
                </a:lnTo>
                <a:lnTo>
                  <a:pt x="1" y="4"/>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Freeform 162"/>
          <p:cNvSpPr/>
          <p:nvPr/>
        </p:nvSpPr>
        <p:spPr>
          <a:xfrm>
            <a:off x="752400" y="2590920"/>
            <a:ext cx="593640" cy="558720"/>
          </a:xfrm>
          <a:custGeom>
            <a:avLst/>
            <a:gdLst>
              <a:gd name="textAreaLeft" fmla="*/ 0 w 593640"/>
              <a:gd name="textAreaRight" fmla="*/ 594000 w 593640"/>
              <a:gd name="textAreaTop" fmla="*/ 0 h 558720"/>
              <a:gd name="textAreaBottom" fmla="*/ 559080 h 558720"/>
            </a:gdLst>
            <a:ahLst/>
            <a:rect l="textAreaLeft" t="textAreaTop" r="textAreaRight" b="textAreaBottom"/>
            <a:pathLst>
              <a:path w="367" h="457">
                <a:moveTo>
                  <a:pt x="308" y="8"/>
                </a:moveTo>
                <a:lnTo>
                  <a:pt x="323" y="18"/>
                </a:lnTo>
                <a:lnTo>
                  <a:pt x="352" y="31"/>
                </a:lnTo>
                <a:lnTo>
                  <a:pt x="333" y="39"/>
                </a:lnTo>
                <a:lnTo>
                  <a:pt x="330" y="52"/>
                </a:lnTo>
                <a:lnTo>
                  <a:pt x="334" y="59"/>
                </a:lnTo>
                <a:lnTo>
                  <a:pt x="344" y="75"/>
                </a:lnTo>
                <a:lnTo>
                  <a:pt x="352" y="82"/>
                </a:lnTo>
                <a:lnTo>
                  <a:pt x="359" y="92"/>
                </a:lnTo>
                <a:lnTo>
                  <a:pt x="347" y="104"/>
                </a:lnTo>
                <a:lnTo>
                  <a:pt x="330" y="116"/>
                </a:lnTo>
                <a:lnTo>
                  <a:pt x="341" y="126"/>
                </a:lnTo>
                <a:lnTo>
                  <a:pt x="339" y="136"/>
                </a:lnTo>
                <a:lnTo>
                  <a:pt x="350" y="149"/>
                </a:lnTo>
                <a:lnTo>
                  <a:pt x="362" y="155"/>
                </a:lnTo>
                <a:lnTo>
                  <a:pt x="365" y="155"/>
                </a:lnTo>
                <a:lnTo>
                  <a:pt x="367" y="165"/>
                </a:lnTo>
                <a:lnTo>
                  <a:pt x="359" y="176"/>
                </a:lnTo>
                <a:lnTo>
                  <a:pt x="351" y="189"/>
                </a:lnTo>
                <a:lnTo>
                  <a:pt x="352" y="191"/>
                </a:lnTo>
                <a:lnTo>
                  <a:pt x="349" y="199"/>
                </a:lnTo>
                <a:lnTo>
                  <a:pt x="362" y="220"/>
                </a:lnTo>
                <a:lnTo>
                  <a:pt x="353" y="220"/>
                </a:lnTo>
                <a:lnTo>
                  <a:pt x="345" y="229"/>
                </a:lnTo>
                <a:lnTo>
                  <a:pt x="358" y="238"/>
                </a:lnTo>
                <a:lnTo>
                  <a:pt x="352" y="246"/>
                </a:lnTo>
                <a:lnTo>
                  <a:pt x="342" y="270"/>
                </a:lnTo>
                <a:lnTo>
                  <a:pt x="351" y="270"/>
                </a:lnTo>
                <a:lnTo>
                  <a:pt x="362" y="284"/>
                </a:lnTo>
                <a:lnTo>
                  <a:pt x="351" y="284"/>
                </a:lnTo>
                <a:lnTo>
                  <a:pt x="340" y="288"/>
                </a:lnTo>
                <a:lnTo>
                  <a:pt x="358" y="307"/>
                </a:lnTo>
                <a:lnTo>
                  <a:pt x="353" y="310"/>
                </a:lnTo>
                <a:lnTo>
                  <a:pt x="350" y="318"/>
                </a:lnTo>
                <a:lnTo>
                  <a:pt x="356" y="333"/>
                </a:lnTo>
                <a:lnTo>
                  <a:pt x="349" y="352"/>
                </a:lnTo>
                <a:lnTo>
                  <a:pt x="340" y="352"/>
                </a:lnTo>
                <a:lnTo>
                  <a:pt x="339" y="367"/>
                </a:lnTo>
                <a:lnTo>
                  <a:pt x="334" y="380"/>
                </a:lnTo>
                <a:lnTo>
                  <a:pt x="342" y="391"/>
                </a:lnTo>
                <a:lnTo>
                  <a:pt x="339" y="397"/>
                </a:lnTo>
                <a:lnTo>
                  <a:pt x="341" y="414"/>
                </a:lnTo>
                <a:lnTo>
                  <a:pt x="339" y="438"/>
                </a:lnTo>
                <a:lnTo>
                  <a:pt x="339" y="448"/>
                </a:lnTo>
                <a:lnTo>
                  <a:pt x="344" y="456"/>
                </a:lnTo>
                <a:lnTo>
                  <a:pt x="195" y="456"/>
                </a:lnTo>
                <a:lnTo>
                  <a:pt x="68" y="457"/>
                </a:lnTo>
                <a:lnTo>
                  <a:pt x="84" y="453"/>
                </a:lnTo>
                <a:lnTo>
                  <a:pt x="66" y="447"/>
                </a:lnTo>
                <a:lnTo>
                  <a:pt x="87" y="441"/>
                </a:lnTo>
                <a:lnTo>
                  <a:pt x="52" y="431"/>
                </a:lnTo>
                <a:lnTo>
                  <a:pt x="113" y="423"/>
                </a:lnTo>
                <a:lnTo>
                  <a:pt x="90" y="423"/>
                </a:lnTo>
                <a:lnTo>
                  <a:pt x="70" y="407"/>
                </a:lnTo>
                <a:lnTo>
                  <a:pt x="45" y="397"/>
                </a:lnTo>
                <a:lnTo>
                  <a:pt x="45" y="391"/>
                </a:lnTo>
                <a:lnTo>
                  <a:pt x="29" y="383"/>
                </a:lnTo>
                <a:lnTo>
                  <a:pt x="51" y="374"/>
                </a:lnTo>
                <a:lnTo>
                  <a:pt x="39" y="367"/>
                </a:lnTo>
                <a:lnTo>
                  <a:pt x="104" y="359"/>
                </a:lnTo>
                <a:lnTo>
                  <a:pt x="37" y="343"/>
                </a:lnTo>
                <a:lnTo>
                  <a:pt x="61" y="332"/>
                </a:lnTo>
                <a:lnTo>
                  <a:pt x="70" y="325"/>
                </a:lnTo>
                <a:lnTo>
                  <a:pt x="56" y="320"/>
                </a:lnTo>
                <a:lnTo>
                  <a:pt x="75" y="317"/>
                </a:lnTo>
                <a:lnTo>
                  <a:pt x="41" y="292"/>
                </a:lnTo>
                <a:lnTo>
                  <a:pt x="49" y="287"/>
                </a:lnTo>
                <a:lnTo>
                  <a:pt x="30" y="287"/>
                </a:lnTo>
                <a:lnTo>
                  <a:pt x="41" y="273"/>
                </a:lnTo>
                <a:lnTo>
                  <a:pt x="22" y="273"/>
                </a:lnTo>
                <a:lnTo>
                  <a:pt x="24" y="270"/>
                </a:lnTo>
                <a:lnTo>
                  <a:pt x="16" y="259"/>
                </a:lnTo>
                <a:lnTo>
                  <a:pt x="30" y="253"/>
                </a:lnTo>
                <a:lnTo>
                  <a:pt x="21" y="259"/>
                </a:lnTo>
                <a:lnTo>
                  <a:pt x="47" y="248"/>
                </a:lnTo>
                <a:lnTo>
                  <a:pt x="14" y="231"/>
                </a:lnTo>
                <a:lnTo>
                  <a:pt x="1" y="225"/>
                </a:lnTo>
                <a:lnTo>
                  <a:pt x="35" y="225"/>
                </a:lnTo>
                <a:lnTo>
                  <a:pt x="26" y="214"/>
                </a:lnTo>
                <a:lnTo>
                  <a:pt x="37" y="208"/>
                </a:lnTo>
                <a:lnTo>
                  <a:pt x="14" y="208"/>
                </a:lnTo>
                <a:lnTo>
                  <a:pt x="21" y="196"/>
                </a:lnTo>
                <a:lnTo>
                  <a:pt x="1" y="184"/>
                </a:lnTo>
                <a:lnTo>
                  <a:pt x="35" y="179"/>
                </a:lnTo>
                <a:lnTo>
                  <a:pt x="6" y="165"/>
                </a:lnTo>
                <a:lnTo>
                  <a:pt x="33" y="144"/>
                </a:lnTo>
                <a:lnTo>
                  <a:pt x="13" y="127"/>
                </a:lnTo>
                <a:lnTo>
                  <a:pt x="26" y="127"/>
                </a:lnTo>
                <a:lnTo>
                  <a:pt x="0" y="119"/>
                </a:lnTo>
                <a:lnTo>
                  <a:pt x="24" y="105"/>
                </a:lnTo>
                <a:lnTo>
                  <a:pt x="1" y="102"/>
                </a:lnTo>
                <a:lnTo>
                  <a:pt x="24" y="87"/>
                </a:lnTo>
                <a:lnTo>
                  <a:pt x="41" y="85"/>
                </a:lnTo>
                <a:lnTo>
                  <a:pt x="16" y="67"/>
                </a:lnTo>
                <a:lnTo>
                  <a:pt x="37" y="54"/>
                </a:lnTo>
                <a:lnTo>
                  <a:pt x="22" y="45"/>
                </a:lnTo>
                <a:lnTo>
                  <a:pt x="37" y="40"/>
                </a:lnTo>
                <a:lnTo>
                  <a:pt x="13" y="31"/>
                </a:lnTo>
                <a:lnTo>
                  <a:pt x="58" y="31"/>
                </a:lnTo>
                <a:lnTo>
                  <a:pt x="30" y="22"/>
                </a:lnTo>
                <a:lnTo>
                  <a:pt x="40" y="15"/>
                </a:lnTo>
                <a:lnTo>
                  <a:pt x="35" y="5"/>
                </a:lnTo>
                <a:lnTo>
                  <a:pt x="78" y="5"/>
                </a:lnTo>
                <a:lnTo>
                  <a:pt x="95" y="0"/>
                </a:lnTo>
                <a:lnTo>
                  <a:pt x="110" y="5"/>
                </a:lnTo>
                <a:lnTo>
                  <a:pt x="311" y="8"/>
                </a:lnTo>
                <a:lnTo>
                  <a:pt x="308" y="8"/>
                </a:lnTo>
                <a:close/>
              </a:path>
            </a:pathLst>
          </a:custGeom>
          <a:solidFill>
            <a:srgbClr val="e0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Freeform 163"/>
          <p:cNvSpPr/>
          <p:nvPr/>
        </p:nvSpPr>
        <p:spPr>
          <a:xfrm>
            <a:off x="716040" y="5784840"/>
            <a:ext cx="664920" cy="628560"/>
          </a:xfrm>
          <a:custGeom>
            <a:avLst/>
            <a:gdLst>
              <a:gd name="textAreaLeft" fmla="*/ 0 w 664920"/>
              <a:gd name="textAreaRight" fmla="*/ 665280 w 664920"/>
              <a:gd name="textAreaTop" fmla="*/ 0 h 628560"/>
              <a:gd name="textAreaBottom" fmla="*/ 628920 h 628560"/>
            </a:gdLst>
            <a:ahLst/>
            <a:rect l="textAreaLeft" t="textAreaTop" r="textAreaRight" b="textAreaBottom"/>
            <a:pathLst>
              <a:path w="412" h="517">
                <a:moveTo>
                  <a:pt x="374" y="16"/>
                </a:moveTo>
                <a:lnTo>
                  <a:pt x="376" y="32"/>
                </a:lnTo>
                <a:lnTo>
                  <a:pt x="374" y="55"/>
                </a:lnTo>
                <a:lnTo>
                  <a:pt x="386" y="70"/>
                </a:lnTo>
                <a:lnTo>
                  <a:pt x="388" y="74"/>
                </a:lnTo>
                <a:lnTo>
                  <a:pt x="381" y="86"/>
                </a:lnTo>
                <a:lnTo>
                  <a:pt x="382" y="104"/>
                </a:lnTo>
                <a:lnTo>
                  <a:pt x="390" y="114"/>
                </a:lnTo>
                <a:lnTo>
                  <a:pt x="386" y="125"/>
                </a:lnTo>
                <a:lnTo>
                  <a:pt x="394" y="129"/>
                </a:lnTo>
                <a:lnTo>
                  <a:pt x="384" y="149"/>
                </a:lnTo>
                <a:lnTo>
                  <a:pt x="381" y="168"/>
                </a:lnTo>
                <a:lnTo>
                  <a:pt x="388" y="181"/>
                </a:lnTo>
                <a:lnTo>
                  <a:pt x="394" y="195"/>
                </a:lnTo>
                <a:lnTo>
                  <a:pt x="380" y="220"/>
                </a:lnTo>
                <a:lnTo>
                  <a:pt x="400" y="232"/>
                </a:lnTo>
                <a:lnTo>
                  <a:pt x="404" y="248"/>
                </a:lnTo>
                <a:lnTo>
                  <a:pt x="388" y="257"/>
                </a:lnTo>
                <a:lnTo>
                  <a:pt x="386" y="264"/>
                </a:lnTo>
                <a:lnTo>
                  <a:pt x="381" y="278"/>
                </a:lnTo>
                <a:lnTo>
                  <a:pt x="390" y="294"/>
                </a:lnTo>
                <a:lnTo>
                  <a:pt x="386" y="304"/>
                </a:lnTo>
                <a:lnTo>
                  <a:pt x="376" y="328"/>
                </a:lnTo>
                <a:lnTo>
                  <a:pt x="386" y="344"/>
                </a:lnTo>
                <a:lnTo>
                  <a:pt x="380" y="362"/>
                </a:lnTo>
                <a:lnTo>
                  <a:pt x="391" y="383"/>
                </a:lnTo>
                <a:lnTo>
                  <a:pt x="398" y="398"/>
                </a:lnTo>
                <a:lnTo>
                  <a:pt x="400" y="412"/>
                </a:lnTo>
                <a:lnTo>
                  <a:pt x="412" y="436"/>
                </a:lnTo>
                <a:lnTo>
                  <a:pt x="398" y="450"/>
                </a:lnTo>
                <a:lnTo>
                  <a:pt x="403" y="465"/>
                </a:lnTo>
                <a:lnTo>
                  <a:pt x="398" y="471"/>
                </a:lnTo>
                <a:lnTo>
                  <a:pt x="376" y="487"/>
                </a:lnTo>
                <a:lnTo>
                  <a:pt x="412" y="498"/>
                </a:lnTo>
                <a:lnTo>
                  <a:pt x="393" y="517"/>
                </a:lnTo>
                <a:lnTo>
                  <a:pt x="8" y="517"/>
                </a:lnTo>
                <a:lnTo>
                  <a:pt x="6" y="487"/>
                </a:lnTo>
                <a:lnTo>
                  <a:pt x="8" y="471"/>
                </a:lnTo>
                <a:lnTo>
                  <a:pt x="6" y="465"/>
                </a:lnTo>
                <a:lnTo>
                  <a:pt x="6" y="448"/>
                </a:lnTo>
                <a:lnTo>
                  <a:pt x="4" y="433"/>
                </a:lnTo>
                <a:lnTo>
                  <a:pt x="7" y="424"/>
                </a:lnTo>
                <a:lnTo>
                  <a:pt x="6" y="414"/>
                </a:lnTo>
                <a:lnTo>
                  <a:pt x="7" y="411"/>
                </a:lnTo>
                <a:lnTo>
                  <a:pt x="7" y="398"/>
                </a:lnTo>
                <a:lnTo>
                  <a:pt x="7" y="392"/>
                </a:lnTo>
                <a:lnTo>
                  <a:pt x="3" y="384"/>
                </a:lnTo>
                <a:lnTo>
                  <a:pt x="6" y="367"/>
                </a:lnTo>
                <a:lnTo>
                  <a:pt x="3" y="346"/>
                </a:lnTo>
                <a:lnTo>
                  <a:pt x="6" y="321"/>
                </a:lnTo>
                <a:lnTo>
                  <a:pt x="3" y="313"/>
                </a:lnTo>
                <a:lnTo>
                  <a:pt x="6" y="313"/>
                </a:lnTo>
                <a:lnTo>
                  <a:pt x="0" y="295"/>
                </a:lnTo>
                <a:lnTo>
                  <a:pt x="4" y="287"/>
                </a:lnTo>
                <a:lnTo>
                  <a:pt x="4" y="248"/>
                </a:lnTo>
                <a:lnTo>
                  <a:pt x="3" y="230"/>
                </a:lnTo>
                <a:lnTo>
                  <a:pt x="0" y="223"/>
                </a:lnTo>
                <a:lnTo>
                  <a:pt x="4" y="207"/>
                </a:lnTo>
                <a:lnTo>
                  <a:pt x="4" y="190"/>
                </a:lnTo>
                <a:lnTo>
                  <a:pt x="6" y="178"/>
                </a:lnTo>
                <a:lnTo>
                  <a:pt x="4" y="171"/>
                </a:lnTo>
                <a:lnTo>
                  <a:pt x="6" y="135"/>
                </a:lnTo>
                <a:lnTo>
                  <a:pt x="4" y="135"/>
                </a:lnTo>
                <a:lnTo>
                  <a:pt x="3" y="125"/>
                </a:lnTo>
                <a:lnTo>
                  <a:pt x="7" y="118"/>
                </a:lnTo>
                <a:lnTo>
                  <a:pt x="3" y="111"/>
                </a:lnTo>
                <a:lnTo>
                  <a:pt x="6" y="105"/>
                </a:lnTo>
                <a:lnTo>
                  <a:pt x="3" y="81"/>
                </a:lnTo>
                <a:lnTo>
                  <a:pt x="4" y="72"/>
                </a:lnTo>
                <a:lnTo>
                  <a:pt x="3" y="61"/>
                </a:lnTo>
                <a:lnTo>
                  <a:pt x="3" y="42"/>
                </a:lnTo>
                <a:lnTo>
                  <a:pt x="6" y="40"/>
                </a:lnTo>
                <a:lnTo>
                  <a:pt x="3" y="30"/>
                </a:lnTo>
                <a:lnTo>
                  <a:pt x="7" y="16"/>
                </a:lnTo>
                <a:lnTo>
                  <a:pt x="8" y="0"/>
                </a:lnTo>
                <a:lnTo>
                  <a:pt x="375" y="16"/>
                </a:lnTo>
                <a:lnTo>
                  <a:pt x="374" y="16"/>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Freeform 164"/>
          <p:cNvSpPr/>
          <p:nvPr/>
        </p:nvSpPr>
        <p:spPr>
          <a:xfrm>
            <a:off x="719280" y="4743360"/>
            <a:ext cx="666720" cy="1062000"/>
          </a:xfrm>
          <a:custGeom>
            <a:avLst/>
            <a:gdLst>
              <a:gd name="textAreaLeft" fmla="*/ 0 w 666720"/>
              <a:gd name="textAreaRight" fmla="*/ 667080 w 666720"/>
              <a:gd name="textAreaTop" fmla="*/ 0 h 1062000"/>
              <a:gd name="textAreaBottom" fmla="*/ 1062360 h 1062000"/>
            </a:gdLst>
            <a:ahLst/>
            <a:rect l="textAreaLeft" t="textAreaTop" r="textAreaRight" b="textAreaBottom"/>
            <a:pathLst>
              <a:path w="412" h="872">
                <a:moveTo>
                  <a:pt x="384" y="18"/>
                </a:moveTo>
                <a:lnTo>
                  <a:pt x="388" y="24"/>
                </a:lnTo>
                <a:lnTo>
                  <a:pt x="374" y="40"/>
                </a:lnTo>
                <a:lnTo>
                  <a:pt x="384" y="54"/>
                </a:lnTo>
                <a:lnTo>
                  <a:pt x="392" y="70"/>
                </a:lnTo>
                <a:lnTo>
                  <a:pt x="384" y="82"/>
                </a:lnTo>
                <a:lnTo>
                  <a:pt x="395" y="105"/>
                </a:lnTo>
                <a:lnTo>
                  <a:pt x="388" y="112"/>
                </a:lnTo>
                <a:lnTo>
                  <a:pt x="375" y="128"/>
                </a:lnTo>
                <a:lnTo>
                  <a:pt x="395" y="149"/>
                </a:lnTo>
                <a:lnTo>
                  <a:pt x="398" y="153"/>
                </a:lnTo>
                <a:lnTo>
                  <a:pt x="405" y="167"/>
                </a:lnTo>
                <a:lnTo>
                  <a:pt x="397" y="182"/>
                </a:lnTo>
                <a:lnTo>
                  <a:pt x="405" y="201"/>
                </a:lnTo>
                <a:lnTo>
                  <a:pt x="395" y="217"/>
                </a:lnTo>
                <a:lnTo>
                  <a:pt x="386" y="226"/>
                </a:lnTo>
                <a:lnTo>
                  <a:pt x="397" y="241"/>
                </a:lnTo>
                <a:lnTo>
                  <a:pt x="405" y="256"/>
                </a:lnTo>
                <a:lnTo>
                  <a:pt x="390" y="262"/>
                </a:lnTo>
                <a:lnTo>
                  <a:pt x="373" y="278"/>
                </a:lnTo>
                <a:lnTo>
                  <a:pt x="398" y="301"/>
                </a:lnTo>
                <a:lnTo>
                  <a:pt x="392" y="313"/>
                </a:lnTo>
                <a:lnTo>
                  <a:pt x="398" y="325"/>
                </a:lnTo>
                <a:lnTo>
                  <a:pt x="386" y="341"/>
                </a:lnTo>
                <a:lnTo>
                  <a:pt x="397" y="359"/>
                </a:lnTo>
                <a:lnTo>
                  <a:pt x="388" y="381"/>
                </a:lnTo>
                <a:lnTo>
                  <a:pt x="405" y="397"/>
                </a:lnTo>
                <a:lnTo>
                  <a:pt x="395" y="410"/>
                </a:lnTo>
                <a:lnTo>
                  <a:pt x="404" y="437"/>
                </a:lnTo>
                <a:lnTo>
                  <a:pt x="395" y="446"/>
                </a:lnTo>
                <a:lnTo>
                  <a:pt x="386" y="456"/>
                </a:lnTo>
                <a:lnTo>
                  <a:pt x="395" y="464"/>
                </a:lnTo>
                <a:lnTo>
                  <a:pt x="395" y="480"/>
                </a:lnTo>
                <a:lnTo>
                  <a:pt x="398" y="494"/>
                </a:lnTo>
                <a:lnTo>
                  <a:pt x="397" y="510"/>
                </a:lnTo>
                <a:lnTo>
                  <a:pt x="399" y="528"/>
                </a:lnTo>
                <a:lnTo>
                  <a:pt x="398" y="530"/>
                </a:lnTo>
                <a:lnTo>
                  <a:pt x="404" y="541"/>
                </a:lnTo>
                <a:lnTo>
                  <a:pt x="380" y="558"/>
                </a:lnTo>
                <a:lnTo>
                  <a:pt x="388" y="576"/>
                </a:lnTo>
                <a:lnTo>
                  <a:pt x="398" y="593"/>
                </a:lnTo>
                <a:lnTo>
                  <a:pt x="367" y="613"/>
                </a:lnTo>
                <a:lnTo>
                  <a:pt x="381" y="624"/>
                </a:lnTo>
                <a:lnTo>
                  <a:pt x="373" y="639"/>
                </a:lnTo>
                <a:lnTo>
                  <a:pt x="380" y="658"/>
                </a:lnTo>
                <a:lnTo>
                  <a:pt x="390" y="670"/>
                </a:lnTo>
                <a:lnTo>
                  <a:pt x="412" y="690"/>
                </a:lnTo>
                <a:lnTo>
                  <a:pt x="399" y="704"/>
                </a:lnTo>
                <a:lnTo>
                  <a:pt x="410" y="722"/>
                </a:lnTo>
                <a:lnTo>
                  <a:pt x="404" y="731"/>
                </a:lnTo>
                <a:lnTo>
                  <a:pt x="388" y="746"/>
                </a:lnTo>
                <a:lnTo>
                  <a:pt x="371" y="752"/>
                </a:lnTo>
                <a:lnTo>
                  <a:pt x="361" y="758"/>
                </a:lnTo>
                <a:lnTo>
                  <a:pt x="375" y="773"/>
                </a:lnTo>
                <a:lnTo>
                  <a:pt x="374" y="784"/>
                </a:lnTo>
                <a:lnTo>
                  <a:pt x="369" y="802"/>
                </a:lnTo>
                <a:lnTo>
                  <a:pt x="379" y="841"/>
                </a:lnTo>
                <a:lnTo>
                  <a:pt x="374" y="872"/>
                </a:lnTo>
                <a:lnTo>
                  <a:pt x="10" y="861"/>
                </a:lnTo>
                <a:lnTo>
                  <a:pt x="6" y="848"/>
                </a:lnTo>
                <a:lnTo>
                  <a:pt x="12" y="826"/>
                </a:lnTo>
                <a:lnTo>
                  <a:pt x="12" y="814"/>
                </a:lnTo>
                <a:lnTo>
                  <a:pt x="15" y="799"/>
                </a:lnTo>
                <a:lnTo>
                  <a:pt x="10" y="788"/>
                </a:lnTo>
                <a:lnTo>
                  <a:pt x="24" y="774"/>
                </a:lnTo>
                <a:lnTo>
                  <a:pt x="46" y="752"/>
                </a:lnTo>
                <a:lnTo>
                  <a:pt x="17" y="743"/>
                </a:lnTo>
                <a:lnTo>
                  <a:pt x="12" y="727"/>
                </a:lnTo>
                <a:lnTo>
                  <a:pt x="28" y="722"/>
                </a:lnTo>
                <a:lnTo>
                  <a:pt x="48" y="713"/>
                </a:lnTo>
                <a:lnTo>
                  <a:pt x="15" y="694"/>
                </a:lnTo>
                <a:lnTo>
                  <a:pt x="6" y="680"/>
                </a:lnTo>
                <a:lnTo>
                  <a:pt x="5" y="670"/>
                </a:lnTo>
                <a:lnTo>
                  <a:pt x="12" y="658"/>
                </a:lnTo>
                <a:lnTo>
                  <a:pt x="14" y="647"/>
                </a:lnTo>
                <a:lnTo>
                  <a:pt x="10" y="640"/>
                </a:lnTo>
                <a:lnTo>
                  <a:pt x="15" y="638"/>
                </a:lnTo>
                <a:lnTo>
                  <a:pt x="1" y="623"/>
                </a:lnTo>
                <a:lnTo>
                  <a:pt x="12" y="608"/>
                </a:lnTo>
                <a:lnTo>
                  <a:pt x="12" y="599"/>
                </a:lnTo>
                <a:lnTo>
                  <a:pt x="10" y="585"/>
                </a:lnTo>
                <a:lnTo>
                  <a:pt x="6" y="563"/>
                </a:lnTo>
                <a:lnTo>
                  <a:pt x="5" y="545"/>
                </a:lnTo>
                <a:lnTo>
                  <a:pt x="2" y="541"/>
                </a:lnTo>
                <a:lnTo>
                  <a:pt x="5" y="514"/>
                </a:lnTo>
                <a:lnTo>
                  <a:pt x="6" y="519"/>
                </a:lnTo>
                <a:lnTo>
                  <a:pt x="12" y="513"/>
                </a:lnTo>
                <a:lnTo>
                  <a:pt x="12" y="496"/>
                </a:lnTo>
                <a:lnTo>
                  <a:pt x="5" y="488"/>
                </a:lnTo>
                <a:lnTo>
                  <a:pt x="2" y="476"/>
                </a:lnTo>
                <a:lnTo>
                  <a:pt x="6" y="461"/>
                </a:lnTo>
                <a:lnTo>
                  <a:pt x="6" y="442"/>
                </a:lnTo>
                <a:lnTo>
                  <a:pt x="12" y="437"/>
                </a:lnTo>
                <a:lnTo>
                  <a:pt x="6" y="417"/>
                </a:lnTo>
                <a:lnTo>
                  <a:pt x="5" y="415"/>
                </a:lnTo>
                <a:lnTo>
                  <a:pt x="5" y="406"/>
                </a:lnTo>
                <a:lnTo>
                  <a:pt x="12" y="397"/>
                </a:lnTo>
                <a:lnTo>
                  <a:pt x="0" y="390"/>
                </a:lnTo>
                <a:lnTo>
                  <a:pt x="6" y="370"/>
                </a:lnTo>
                <a:lnTo>
                  <a:pt x="6" y="366"/>
                </a:lnTo>
                <a:lnTo>
                  <a:pt x="15" y="361"/>
                </a:lnTo>
                <a:lnTo>
                  <a:pt x="6" y="337"/>
                </a:lnTo>
                <a:lnTo>
                  <a:pt x="6" y="330"/>
                </a:lnTo>
                <a:lnTo>
                  <a:pt x="5" y="327"/>
                </a:lnTo>
                <a:lnTo>
                  <a:pt x="12" y="313"/>
                </a:lnTo>
                <a:lnTo>
                  <a:pt x="6" y="310"/>
                </a:lnTo>
                <a:lnTo>
                  <a:pt x="12" y="296"/>
                </a:lnTo>
                <a:lnTo>
                  <a:pt x="12" y="286"/>
                </a:lnTo>
                <a:lnTo>
                  <a:pt x="18" y="271"/>
                </a:lnTo>
                <a:lnTo>
                  <a:pt x="6" y="257"/>
                </a:lnTo>
                <a:lnTo>
                  <a:pt x="18" y="257"/>
                </a:lnTo>
                <a:lnTo>
                  <a:pt x="12" y="241"/>
                </a:lnTo>
                <a:lnTo>
                  <a:pt x="17" y="234"/>
                </a:lnTo>
                <a:lnTo>
                  <a:pt x="12" y="213"/>
                </a:lnTo>
                <a:lnTo>
                  <a:pt x="20" y="208"/>
                </a:lnTo>
                <a:lnTo>
                  <a:pt x="29" y="201"/>
                </a:lnTo>
                <a:lnTo>
                  <a:pt x="43" y="189"/>
                </a:lnTo>
                <a:lnTo>
                  <a:pt x="22" y="182"/>
                </a:lnTo>
                <a:lnTo>
                  <a:pt x="38" y="167"/>
                </a:lnTo>
                <a:lnTo>
                  <a:pt x="43" y="158"/>
                </a:lnTo>
                <a:lnTo>
                  <a:pt x="46" y="144"/>
                </a:lnTo>
                <a:lnTo>
                  <a:pt x="22" y="142"/>
                </a:lnTo>
                <a:lnTo>
                  <a:pt x="12" y="128"/>
                </a:lnTo>
                <a:lnTo>
                  <a:pt x="12" y="120"/>
                </a:lnTo>
                <a:lnTo>
                  <a:pt x="22" y="105"/>
                </a:lnTo>
                <a:lnTo>
                  <a:pt x="35" y="102"/>
                </a:lnTo>
                <a:lnTo>
                  <a:pt x="24" y="77"/>
                </a:lnTo>
                <a:lnTo>
                  <a:pt x="17" y="59"/>
                </a:lnTo>
                <a:lnTo>
                  <a:pt x="20" y="54"/>
                </a:lnTo>
                <a:lnTo>
                  <a:pt x="22" y="39"/>
                </a:lnTo>
                <a:lnTo>
                  <a:pt x="29" y="38"/>
                </a:lnTo>
                <a:lnTo>
                  <a:pt x="15" y="24"/>
                </a:lnTo>
                <a:lnTo>
                  <a:pt x="22" y="0"/>
                </a:lnTo>
                <a:lnTo>
                  <a:pt x="384" y="24"/>
                </a:lnTo>
                <a:lnTo>
                  <a:pt x="384" y="18"/>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Freeform 165"/>
          <p:cNvSpPr/>
          <p:nvPr/>
        </p:nvSpPr>
        <p:spPr>
          <a:xfrm>
            <a:off x="725400" y="3884760"/>
            <a:ext cx="639720" cy="879480"/>
          </a:xfrm>
          <a:custGeom>
            <a:avLst/>
            <a:gdLst>
              <a:gd name="textAreaLeft" fmla="*/ 0 w 639720"/>
              <a:gd name="textAreaRight" fmla="*/ 640080 w 639720"/>
              <a:gd name="textAreaTop" fmla="*/ 0 h 879480"/>
              <a:gd name="textAreaBottom" fmla="*/ 879840 h 879480"/>
            </a:gdLst>
            <a:ahLst/>
            <a:rect l="textAreaLeft" t="textAreaTop" r="textAreaRight" b="textAreaBottom"/>
            <a:pathLst>
              <a:path w="397" h="722">
                <a:moveTo>
                  <a:pt x="369" y="0"/>
                </a:moveTo>
                <a:lnTo>
                  <a:pt x="374" y="15"/>
                </a:lnTo>
                <a:lnTo>
                  <a:pt x="373" y="29"/>
                </a:lnTo>
                <a:lnTo>
                  <a:pt x="379" y="37"/>
                </a:lnTo>
                <a:lnTo>
                  <a:pt x="390" y="45"/>
                </a:lnTo>
                <a:lnTo>
                  <a:pt x="394" y="49"/>
                </a:lnTo>
                <a:lnTo>
                  <a:pt x="393" y="62"/>
                </a:lnTo>
                <a:lnTo>
                  <a:pt x="385" y="78"/>
                </a:lnTo>
                <a:lnTo>
                  <a:pt x="379" y="94"/>
                </a:lnTo>
                <a:lnTo>
                  <a:pt x="391" y="114"/>
                </a:lnTo>
                <a:lnTo>
                  <a:pt x="383" y="128"/>
                </a:lnTo>
                <a:lnTo>
                  <a:pt x="393" y="151"/>
                </a:lnTo>
                <a:lnTo>
                  <a:pt x="385" y="161"/>
                </a:lnTo>
                <a:lnTo>
                  <a:pt x="382" y="182"/>
                </a:lnTo>
                <a:lnTo>
                  <a:pt x="385" y="197"/>
                </a:lnTo>
                <a:lnTo>
                  <a:pt x="394" y="201"/>
                </a:lnTo>
                <a:lnTo>
                  <a:pt x="376" y="219"/>
                </a:lnTo>
                <a:lnTo>
                  <a:pt x="368" y="238"/>
                </a:lnTo>
                <a:lnTo>
                  <a:pt x="376" y="247"/>
                </a:lnTo>
                <a:lnTo>
                  <a:pt x="369" y="262"/>
                </a:lnTo>
                <a:lnTo>
                  <a:pt x="379" y="271"/>
                </a:lnTo>
                <a:lnTo>
                  <a:pt x="384" y="271"/>
                </a:lnTo>
                <a:lnTo>
                  <a:pt x="393" y="290"/>
                </a:lnTo>
                <a:lnTo>
                  <a:pt x="386" y="297"/>
                </a:lnTo>
                <a:lnTo>
                  <a:pt x="397" y="320"/>
                </a:lnTo>
                <a:lnTo>
                  <a:pt x="387" y="343"/>
                </a:lnTo>
                <a:lnTo>
                  <a:pt x="392" y="357"/>
                </a:lnTo>
                <a:lnTo>
                  <a:pt x="387" y="371"/>
                </a:lnTo>
                <a:lnTo>
                  <a:pt x="387" y="374"/>
                </a:lnTo>
                <a:lnTo>
                  <a:pt x="394" y="392"/>
                </a:lnTo>
                <a:lnTo>
                  <a:pt x="382" y="409"/>
                </a:lnTo>
                <a:lnTo>
                  <a:pt x="384" y="415"/>
                </a:lnTo>
                <a:lnTo>
                  <a:pt x="387" y="426"/>
                </a:lnTo>
                <a:lnTo>
                  <a:pt x="385" y="449"/>
                </a:lnTo>
                <a:lnTo>
                  <a:pt x="392" y="464"/>
                </a:lnTo>
                <a:lnTo>
                  <a:pt x="381" y="488"/>
                </a:lnTo>
                <a:lnTo>
                  <a:pt x="386" y="496"/>
                </a:lnTo>
                <a:lnTo>
                  <a:pt x="383" y="505"/>
                </a:lnTo>
                <a:lnTo>
                  <a:pt x="385" y="505"/>
                </a:lnTo>
                <a:lnTo>
                  <a:pt x="384" y="518"/>
                </a:lnTo>
                <a:lnTo>
                  <a:pt x="391" y="533"/>
                </a:lnTo>
                <a:lnTo>
                  <a:pt x="382" y="550"/>
                </a:lnTo>
                <a:lnTo>
                  <a:pt x="392" y="564"/>
                </a:lnTo>
                <a:lnTo>
                  <a:pt x="393" y="578"/>
                </a:lnTo>
                <a:lnTo>
                  <a:pt x="392" y="590"/>
                </a:lnTo>
                <a:lnTo>
                  <a:pt x="381" y="600"/>
                </a:lnTo>
                <a:lnTo>
                  <a:pt x="397" y="615"/>
                </a:lnTo>
                <a:lnTo>
                  <a:pt x="392" y="630"/>
                </a:lnTo>
                <a:lnTo>
                  <a:pt x="390" y="639"/>
                </a:lnTo>
                <a:lnTo>
                  <a:pt x="385" y="645"/>
                </a:lnTo>
                <a:lnTo>
                  <a:pt x="381" y="663"/>
                </a:lnTo>
                <a:lnTo>
                  <a:pt x="375" y="672"/>
                </a:lnTo>
                <a:lnTo>
                  <a:pt x="381" y="685"/>
                </a:lnTo>
                <a:lnTo>
                  <a:pt x="383" y="693"/>
                </a:lnTo>
                <a:lnTo>
                  <a:pt x="373" y="708"/>
                </a:lnTo>
                <a:lnTo>
                  <a:pt x="384" y="722"/>
                </a:lnTo>
                <a:lnTo>
                  <a:pt x="18" y="713"/>
                </a:lnTo>
                <a:lnTo>
                  <a:pt x="18" y="710"/>
                </a:lnTo>
                <a:lnTo>
                  <a:pt x="10" y="690"/>
                </a:lnTo>
                <a:lnTo>
                  <a:pt x="23" y="683"/>
                </a:lnTo>
                <a:lnTo>
                  <a:pt x="9" y="670"/>
                </a:lnTo>
                <a:lnTo>
                  <a:pt x="16" y="657"/>
                </a:lnTo>
                <a:lnTo>
                  <a:pt x="9" y="654"/>
                </a:lnTo>
                <a:lnTo>
                  <a:pt x="13" y="653"/>
                </a:lnTo>
                <a:lnTo>
                  <a:pt x="7" y="634"/>
                </a:lnTo>
                <a:lnTo>
                  <a:pt x="15" y="630"/>
                </a:lnTo>
                <a:lnTo>
                  <a:pt x="16" y="623"/>
                </a:lnTo>
                <a:lnTo>
                  <a:pt x="13" y="614"/>
                </a:lnTo>
                <a:lnTo>
                  <a:pt x="25" y="603"/>
                </a:lnTo>
                <a:lnTo>
                  <a:pt x="6" y="578"/>
                </a:lnTo>
                <a:lnTo>
                  <a:pt x="9" y="574"/>
                </a:lnTo>
                <a:lnTo>
                  <a:pt x="1" y="559"/>
                </a:lnTo>
                <a:lnTo>
                  <a:pt x="15" y="551"/>
                </a:lnTo>
                <a:lnTo>
                  <a:pt x="15" y="545"/>
                </a:lnTo>
                <a:lnTo>
                  <a:pt x="18" y="533"/>
                </a:lnTo>
                <a:lnTo>
                  <a:pt x="7" y="529"/>
                </a:lnTo>
                <a:lnTo>
                  <a:pt x="10" y="518"/>
                </a:lnTo>
                <a:lnTo>
                  <a:pt x="19" y="511"/>
                </a:lnTo>
                <a:lnTo>
                  <a:pt x="18" y="505"/>
                </a:lnTo>
                <a:lnTo>
                  <a:pt x="1" y="489"/>
                </a:lnTo>
                <a:lnTo>
                  <a:pt x="15" y="476"/>
                </a:lnTo>
                <a:lnTo>
                  <a:pt x="16" y="462"/>
                </a:lnTo>
                <a:lnTo>
                  <a:pt x="43" y="452"/>
                </a:lnTo>
                <a:lnTo>
                  <a:pt x="23" y="439"/>
                </a:lnTo>
                <a:lnTo>
                  <a:pt x="43" y="429"/>
                </a:lnTo>
                <a:lnTo>
                  <a:pt x="28" y="424"/>
                </a:lnTo>
                <a:lnTo>
                  <a:pt x="18" y="415"/>
                </a:lnTo>
                <a:lnTo>
                  <a:pt x="25" y="414"/>
                </a:lnTo>
                <a:lnTo>
                  <a:pt x="18" y="406"/>
                </a:lnTo>
                <a:lnTo>
                  <a:pt x="23" y="399"/>
                </a:lnTo>
                <a:lnTo>
                  <a:pt x="15" y="391"/>
                </a:lnTo>
                <a:lnTo>
                  <a:pt x="34" y="377"/>
                </a:lnTo>
                <a:lnTo>
                  <a:pt x="13" y="361"/>
                </a:lnTo>
                <a:lnTo>
                  <a:pt x="25" y="357"/>
                </a:lnTo>
                <a:lnTo>
                  <a:pt x="19" y="351"/>
                </a:lnTo>
                <a:lnTo>
                  <a:pt x="28" y="345"/>
                </a:lnTo>
                <a:lnTo>
                  <a:pt x="18" y="335"/>
                </a:lnTo>
                <a:lnTo>
                  <a:pt x="16" y="328"/>
                </a:lnTo>
                <a:lnTo>
                  <a:pt x="18" y="320"/>
                </a:lnTo>
                <a:lnTo>
                  <a:pt x="7" y="310"/>
                </a:lnTo>
                <a:lnTo>
                  <a:pt x="10" y="303"/>
                </a:lnTo>
                <a:lnTo>
                  <a:pt x="10" y="293"/>
                </a:lnTo>
                <a:lnTo>
                  <a:pt x="6" y="287"/>
                </a:lnTo>
                <a:lnTo>
                  <a:pt x="10" y="282"/>
                </a:lnTo>
                <a:lnTo>
                  <a:pt x="16" y="278"/>
                </a:lnTo>
                <a:lnTo>
                  <a:pt x="6" y="271"/>
                </a:lnTo>
                <a:lnTo>
                  <a:pt x="13" y="263"/>
                </a:lnTo>
                <a:lnTo>
                  <a:pt x="7" y="247"/>
                </a:lnTo>
                <a:lnTo>
                  <a:pt x="10" y="239"/>
                </a:lnTo>
                <a:lnTo>
                  <a:pt x="6" y="222"/>
                </a:lnTo>
                <a:lnTo>
                  <a:pt x="6" y="212"/>
                </a:lnTo>
                <a:lnTo>
                  <a:pt x="6" y="201"/>
                </a:lnTo>
                <a:lnTo>
                  <a:pt x="7" y="191"/>
                </a:lnTo>
                <a:lnTo>
                  <a:pt x="6" y="181"/>
                </a:lnTo>
                <a:lnTo>
                  <a:pt x="22" y="174"/>
                </a:lnTo>
                <a:lnTo>
                  <a:pt x="7" y="169"/>
                </a:lnTo>
                <a:lnTo>
                  <a:pt x="10" y="158"/>
                </a:lnTo>
                <a:lnTo>
                  <a:pt x="0" y="143"/>
                </a:lnTo>
                <a:lnTo>
                  <a:pt x="9" y="134"/>
                </a:lnTo>
                <a:lnTo>
                  <a:pt x="1" y="119"/>
                </a:lnTo>
                <a:lnTo>
                  <a:pt x="9" y="119"/>
                </a:lnTo>
                <a:lnTo>
                  <a:pt x="6" y="114"/>
                </a:lnTo>
                <a:lnTo>
                  <a:pt x="10" y="107"/>
                </a:lnTo>
                <a:lnTo>
                  <a:pt x="6" y="94"/>
                </a:lnTo>
                <a:lnTo>
                  <a:pt x="7" y="88"/>
                </a:lnTo>
                <a:lnTo>
                  <a:pt x="0" y="72"/>
                </a:lnTo>
                <a:lnTo>
                  <a:pt x="10" y="72"/>
                </a:lnTo>
                <a:lnTo>
                  <a:pt x="7" y="54"/>
                </a:lnTo>
                <a:lnTo>
                  <a:pt x="18" y="49"/>
                </a:lnTo>
                <a:lnTo>
                  <a:pt x="17" y="45"/>
                </a:lnTo>
                <a:lnTo>
                  <a:pt x="28" y="32"/>
                </a:lnTo>
                <a:lnTo>
                  <a:pt x="7" y="23"/>
                </a:lnTo>
                <a:lnTo>
                  <a:pt x="33" y="9"/>
                </a:lnTo>
                <a:lnTo>
                  <a:pt x="373" y="5"/>
                </a:lnTo>
                <a:lnTo>
                  <a:pt x="369"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Freeform 166"/>
          <p:cNvSpPr/>
          <p:nvPr/>
        </p:nvSpPr>
        <p:spPr>
          <a:xfrm>
            <a:off x="762120" y="3144960"/>
            <a:ext cx="558720" cy="195120"/>
          </a:xfrm>
          <a:custGeom>
            <a:avLst/>
            <a:gdLst>
              <a:gd name="textAreaLeft" fmla="*/ 0 w 558720"/>
              <a:gd name="textAreaRight" fmla="*/ 559080 w 558720"/>
              <a:gd name="textAreaTop" fmla="*/ 0 h 195120"/>
              <a:gd name="textAreaBottom" fmla="*/ 195480 h 195120"/>
            </a:gdLst>
            <a:ahLst/>
            <a:rect l="textAreaLeft" t="textAreaTop" r="textAreaRight" b="textAreaBottom"/>
            <a:pathLst>
              <a:path w="345" h="162">
                <a:moveTo>
                  <a:pt x="75" y="0"/>
                </a:moveTo>
                <a:lnTo>
                  <a:pt x="58" y="19"/>
                </a:lnTo>
                <a:lnTo>
                  <a:pt x="20" y="25"/>
                </a:lnTo>
                <a:lnTo>
                  <a:pt x="59" y="48"/>
                </a:lnTo>
                <a:lnTo>
                  <a:pt x="24" y="52"/>
                </a:lnTo>
                <a:lnTo>
                  <a:pt x="38" y="60"/>
                </a:lnTo>
                <a:lnTo>
                  <a:pt x="27" y="74"/>
                </a:lnTo>
                <a:lnTo>
                  <a:pt x="55" y="74"/>
                </a:lnTo>
                <a:lnTo>
                  <a:pt x="52" y="82"/>
                </a:lnTo>
                <a:lnTo>
                  <a:pt x="52" y="83"/>
                </a:lnTo>
                <a:lnTo>
                  <a:pt x="24" y="93"/>
                </a:lnTo>
                <a:lnTo>
                  <a:pt x="7" y="99"/>
                </a:lnTo>
                <a:lnTo>
                  <a:pt x="30" y="114"/>
                </a:lnTo>
                <a:lnTo>
                  <a:pt x="15" y="120"/>
                </a:lnTo>
                <a:lnTo>
                  <a:pt x="20" y="130"/>
                </a:lnTo>
                <a:lnTo>
                  <a:pt x="11" y="137"/>
                </a:lnTo>
                <a:lnTo>
                  <a:pt x="27" y="144"/>
                </a:lnTo>
                <a:lnTo>
                  <a:pt x="0" y="147"/>
                </a:lnTo>
                <a:lnTo>
                  <a:pt x="16" y="158"/>
                </a:lnTo>
                <a:lnTo>
                  <a:pt x="2" y="162"/>
                </a:lnTo>
                <a:lnTo>
                  <a:pt x="345" y="159"/>
                </a:lnTo>
                <a:lnTo>
                  <a:pt x="339" y="147"/>
                </a:lnTo>
                <a:lnTo>
                  <a:pt x="344" y="137"/>
                </a:lnTo>
                <a:lnTo>
                  <a:pt x="334" y="120"/>
                </a:lnTo>
                <a:lnTo>
                  <a:pt x="337" y="112"/>
                </a:lnTo>
                <a:lnTo>
                  <a:pt x="335" y="105"/>
                </a:lnTo>
                <a:lnTo>
                  <a:pt x="337" y="93"/>
                </a:lnTo>
                <a:lnTo>
                  <a:pt x="328" y="82"/>
                </a:lnTo>
                <a:lnTo>
                  <a:pt x="329" y="65"/>
                </a:lnTo>
                <a:lnTo>
                  <a:pt x="329" y="48"/>
                </a:lnTo>
                <a:lnTo>
                  <a:pt x="333" y="25"/>
                </a:lnTo>
                <a:lnTo>
                  <a:pt x="345" y="15"/>
                </a:lnTo>
                <a:lnTo>
                  <a:pt x="344" y="3"/>
                </a:lnTo>
                <a:lnTo>
                  <a:pt x="333" y="3"/>
                </a:lnTo>
                <a:lnTo>
                  <a:pt x="71" y="4"/>
                </a:lnTo>
                <a:lnTo>
                  <a:pt x="75" y="0"/>
                </a:lnTo>
                <a:close/>
              </a:path>
            </a:pathLst>
          </a:custGeom>
          <a:solidFill>
            <a:srgbClr val="82e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Freeform 167"/>
          <p:cNvSpPr/>
          <p:nvPr/>
        </p:nvSpPr>
        <p:spPr>
          <a:xfrm>
            <a:off x="725400" y="3340080"/>
            <a:ext cx="642960" cy="563760"/>
          </a:xfrm>
          <a:custGeom>
            <a:avLst/>
            <a:gdLst>
              <a:gd name="textAreaLeft" fmla="*/ 0 w 642960"/>
              <a:gd name="textAreaRight" fmla="*/ 643320 w 642960"/>
              <a:gd name="textAreaTop" fmla="*/ 0 h 563760"/>
              <a:gd name="textAreaBottom" fmla="*/ 564120 h 563760"/>
            </a:gdLst>
            <a:ahLst/>
            <a:rect l="textAreaLeft" t="textAreaTop" r="textAreaRight" b="textAreaBottom"/>
            <a:pathLst>
              <a:path w="399" h="465">
                <a:moveTo>
                  <a:pt x="366" y="3"/>
                </a:moveTo>
                <a:lnTo>
                  <a:pt x="370" y="23"/>
                </a:lnTo>
                <a:lnTo>
                  <a:pt x="376" y="28"/>
                </a:lnTo>
                <a:lnTo>
                  <a:pt x="382" y="40"/>
                </a:lnTo>
                <a:lnTo>
                  <a:pt x="383" y="43"/>
                </a:lnTo>
                <a:lnTo>
                  <a:pt x="394" y="62"/>
                </a:lnTo>
                <a:lnTo>
                  <a:pt x="390" y="68"/>
                </a:lnTo>
                <a:lnTo>
                  <a:pt x="393" y="73"/>
                </a:lnTo>
                <a:lnTo>
                  <a:pt x="386" y="84"/>
                </a:lnTo>
                <a:lnTo>
                  <a:pt x="394" y="92"/>
                </a:lnTo>
                <a:lnTo>
                  <a:pt x="387" y="95"/>
                </a:lnTo>
                <a:lnTo>
                  <a:pt x="392" y="108"/>
                </a:lnTo>
                <a:lnTo>
                  <a:pt x="385" y="119"/>
                </a:lnTo>
                <a:lnTo>
                  <a:pt x="393" y="131"/>
                </a:lnTo>
                <a:lnTo>
                  <a:pt x="390" y="139"/>
                </a:lnTo>
                <a:lnTo>
                  <a:pt x="391" y="146"/>
                </a:lnTo>
                <a:lnTo>
                  <a:pt x="396" y="153"/>
                </a:lnTo>
                <a:lnTo>
                  <a:pt x="399" y="153"/>
                </a:lnTo>
                <a:lnTo>
                  <a:pt x="381" y="182"/>
                </a:lnTo>
                <a:lnTo>
                  <a:pt x="397" y="196"/>
                </a:lnTo>
                <a:lnTo>
                  <a:pt x="392" y="203"/>
                </a:lnTo>
                <a:lnTo>
                  <a:pt x="383" y="209"/>
                </a:lnTo>
                <a:lnTo>
                  <a:pt x="381" y="213"/>
                </a:lnTo>
                <a:lnTo>
                  <a:pt x="390" y="226"/>
                </a:lnTo>
                <a:lnTo>
                  <a:pt x="382" y="243"/>
                </a:lnTo>
                <a:lnTo>
                  <a:pt x="379" y="251"/>
                </a:lnTo>
                <a:lnTo>
                  <a:pt x="374" y="268"/>
                </a:lnTo>
                <a:lnTo>
                  <a:pt x="377" y="276"/>
                </a:lnTo>
                <a:lnTo>
                  <a:pt x="370" y="291"/>
                </a:lnTo>
                <a:lnTo>
                  <a:pt x="391" y="321"/>
                </a:lnTo>
                <a:lnTo>
                  <a:pt x="385" y="331"/>
                </a:lnTo>
                <a:lnTo>
                  <a:pt x="392" y="338"/>
                </a:lnTo>
                <a:lnTo>
                  <a:pt x="397" y="346"/>
                </a:lnTo>
                <a:lnTo>
                  <a:pt x="393" y="356"/>
                </a:lnTo>
                <a:lnTo>
                  <a:pt x="394" y="361"/>
                </a:lnTo>
                <a:lnTo>
                  <a:pt x="393" y="377"/>
                </a:lnTo>
                <a:lnTo>
                  <a:pt x="396" y="387"/>
                </a:lnTo>
                <a:lnTo>
                  <a:pt x="399" y="400"/>
                </a:lnTo>
                <a:lnTo>
                  <a:pt x="385" y="411"/>
                </a:lnTo>
                <a:lnTo>
                  <a:pt x="391" y="426"/>
                </a:lnTo>
                <a:lnTo>
                  <a:pt x="377" y="432"/>
                </a:lnTo>
                <a:lnTo>
                  <a:pt x="373" y="444"/>
                </a:lnTo>
                <a:lnTo>
                  <a:pt x="373" y="456"/>
                </a:lnTo>
                <a:lnTo>
                  <a:pt x="33" y="465"/>
                </a:lnTo>
                <a:lnTo>
                  <a:pt x="12" y="456"/>
                </a:lnTo>
                <a:lnTo>
                  <a:pt x="7" y="449"/>
                </a:lnTo>
                <a:lnTo>
                  <a:pt x="7" y="430"/>
                </a:lnTo>
                <a:lnTo>
                  <a:pt x="13" y="425"/>
                </a:lnTo>
                <a:lnTo>
                  <a:pt x="15" y="419"/>
                </a:lnTo>
                <a:lnTo>
                  <a:pt x="12" y="407"/>
                </a:lnTo>
                <a:lnTo>
                  <a:pt x="23" y="402"/>
                </a:lnTo>
                <a:lnTo>
                  <a:pt x="17" y="385"/>
                </a:lnTo>
                <a:lnTo>
                  <a:pt x="18" y="385"/>
                </a:lnTo>
                <a:lnTo>
                  <a:pt x="7" y="372"/>
                </a:lnTo>
                <a:lnTo>
                  <a:pt x="18" y="370"/>
                </a:lnTo>
                <a:lnTo>
                  <a:pt x="12" y="360"/>
                </a:lnTo>
                <a:lnTo>
                  <a:pt x="10" y="346"/>
                </a:lnTo>
                <a:lnTo>
                  <a:pt x="15" y="340"/>
                </a:lnTo>
                <a:lnTo>
                  <a:pt x="15" y="336"/>
                </a:lnTo>
                <a:lnTo>
                  <a:pt x="18" y="336"/>
                </a:lnTo>
                <a:lnTo>
                  <a:pt x="13" y="325"/>
                </a:lnTo>
                <a:lnTo>
                  <a:pt x="25" y="317"/>
                </a:lnTo>
                <a:lnTo>
                  <a:pt x="13" y="301"/>
                </a:lnTo>
                <a:lnTo>
                  <a:pt x="24" y="296"/>
                </a:lnTo>
                <a:lnTo>
                  <a:pt x="25" y="301"/>
                </a:lnTo>
                <a:lnTo>
                  <a:pt x="7" y="283"/>
                </a:lnTo>
                <a:lnTo>
                  <a:pt x="18" y="273"/>
                </a:lnTo>
                <a:lnTo>
                  <a:pt x="25" y="273"/>
                </a:lnTo>
                <a:lnTo>
                  <a:pt x="17" y="266"/>
                </a:lnTo>
                <a:lnTo>
                  <a:pt x="17" y="257"/>
                </a:lnTo>
                <a:lnTo>
                  <a:pt x="19" y="257"/>
                </a:lnTo>
                <a:lnTo>
                  <a:pt x="12" y="227"/>
                </a:lnTo>
                <a:lnTo>
                  <a:pt x="33" y="227"/>
                </a:lnTo>
                <a:lnTo>
                  <a:pt x="18" y="218"/>
                </a:lnTo>
                <a:lnTo>
                  <a:pt x="15" y="212"/>
                </a:lnTo>
                <a:lnTo>
                  <a:pt x="19" y="204"/>
                </a:lnTo>
                <a:lnTo>
                  <a:pt x="10" y="201"/>
                </a:lnTo>
                <a:lnTo>
                  <a:pt x="23" y="191"/>
                </a:lnTo>
                <a:lnTo>
                  <a:pt x="7" y="182"/>
                </a:lnTo>
                <a:lnTo>
                  <a:pt x="24" y="177"/>
                </a:lnTo>
                <a:lnTo>
                  <a:pt x="10" y="153"/>
                </a:lnTo>
                <a:lnTo>
                  <a:pt x="0" y="153"/>
                </a:lnTo>
                <a:lnTo>
                  <a:pt x="33" y="146"/>
                </a:lnTo>
                <a:lnTo>
                  <a:pt x="7" y="137"/>
                </a:lnTo>
                <a:lnTo>
                  <a:pt x="13" y="131"/>
                </a:lnTo>
                <a:lnTo>
                  <a:pt x="10" y="123"/>
                </a:lnTo>
                <a:lnTo>
                  <a:pt x="13" y="119"/>
                </a:lnTo>
                <a:lnTo>
                  <a:pt x="10" y="114"/>
                </a:lnTo>
                <a:lnTo>
                  <a:pt x="18" y="108"/>
                </a:lnTo>
                <a:lnTo>
                  <a:pt x="5" y="84"/>
                </a:lnTo>
                <a:lnTo>
                  <a:pt x="19" y="79"/>
                </a:lnTo>
                <a:lnTo>
                  <a:pt x="15" y="73"/>
                </a:lnTo>
                <a:lnTo>
                  <a:pt x="7" y="73"/>
                </a:lnTo>
                <a:lnTo>
                  <a:pt x="10" y="68"/>
                </a:lnTo>
                <a:lnTo>
                  <a:pt x="23" y="68"/>
                </a:lnTo>
                <a:lnTo>
                  <a:pt x="13" y="50"/>
                </a:lnTo>
                <a:lnTo>
                  <a:pt x="33" y="43"/>
                </a:lnTo>
                <a:lnTo>
                  <a:pt x="13" y="33"/>
                </a:lnTo>
                <a:lnTo>
                  <a:pt x="31" y="28"/>
                </a:lnTo>
                <a:lnTo>
                  <a:pt x="19" y="18"/>
                </a:lnTo>
                <a:lnTo>
                  <a:pt x="38" y="12"/>
                </a:lnTo>
                <a:lnTo>
                  <a:pt x="30" y="3"/>
                </a:lnTo>
                <a:lnTo>
                  <a:pt x="39" y="0"/>
                </a:lnTo>
                <a:lnTo>
                  <a:pt x="358" y="0"/>
                </a:lnTo>
                <a:lnTo>
                  <a:pt x="366" y="3"/>
                </a:lnTo>
                <a:close/>
              </a:path>
            </a:pathLst>
          </a:custGeom>
          <a:solidFill>
            <a:srgbClr val="000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Rectangle 168"/>
          <p:cNvSpPr/>
          <p:nvPr/>
        </p:nvSpPr>
        <p:spPr>
          <a:xfrm>
            <a:off x="934920" y="2344680"/>
            <a:ext cx="73080" cy="40687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3" name="Freeform 169"/>
          <p:cNvSpPr/>
          <p:nvPr/>
        </p:nvSpPr>
        <p:spPr>
          <a:xfrm>
            <a:off x="3486240" y="3174840"/>
            <a:ext cx="644400" cy="517680"/>
          </a:xfrm>
          <a:custGeom>
            <a:avLst/>
            <a:gdLst>
              <a:gd name="textAreaLeft" fmla="*/ 0 w 644400"/>
              <a:gd name="textAreaRight" fmla="*/ 644760 w 644400"/>
              <a:gd name="textAreaTop" fmla="*/ 0 h 517680"/>
              <a:gd name="textAreaBottom" fmla="*/ 518040 h 517680"/>
            </a:gdLst>
            <a:ahLst/>
            <a:rect l="textAreaLeft" t="textAreaTop" r="textAreaRight" b="textAreaBottom"/>
            <a:pathLst>
              <a:path w="399" h="426">
                <a:moveTo>
                  <a:pt x="388" y="16"/>
                </a:moveTo>
                <a:lnTo>
                  <a:pt x="379" y="26"/>
                </a:lnTo>
                <a:lnTo>
                  <a:pt x="385" y="33"/>
                </a:lnTo>
                <a:lnTo>
                  <a:pt x="378" y="36"/>
                </a:lnTo>
                <a:lnTo>
                  <a:pt x="399" y="58"/>
                </a:lnTo>
                <a:lnTo>
                  <a:pt x="399" y="68"/>
                </a:lnTo>
                <a:lnTo>
                  <a:pt x="385" y="80"/>
                </a:lnTo>
                <a:lnTo>
                  <a:pt x="392" y="80"/>
                </a:lnTo>
                <a:lnTo>
                  <a:pt x="376" y="100"/>
                </a:lnTo>
                <a:lnTo>
                  <a:pt x="381" y="113"/>
                </a:lnTo>
                <a:lnTo>
                  <a:pt x="378" y="121"/>
                </a:lnTo>
                <a:lnTo>
                  <a:pt x="385" y="130"/>
                </a:lnTo>
                <a:lnTo>
                  <a:pt x="376" y="138"/>
                </a:lnTo>
                <a:lnTo>
                  <a:pt x="388" y="143"/>
                </a:lnTo>
                <a:lnTo>
                  <a:pt x="388" y="147"/>
                </a:lnTo>
                <a:lnTo>
                  <a:pt x="392" y="153"/>
                </a:lnTo>
                <a:lnTo>
                  <a:pt x="380" y="172"/>
                </a:lnTo>
                <a:lnTo>
                  <a:pt x="388" y="177"/>
                </a:lnTo>
                <a:lnTo>
                  <a:pt x="380" y="187"/>
                </a:lnTo>
                <a:lnTo>
                  <a:pt x="386" y="187"/>
                </a:lnTo>
                <a:lnTo>
                  <a:pt x="380" y="208"/>
                </a:lnTo>
                <a:lnTo>
                  <a:pt x="389" y="212"/>
                </a:lnTo>
                <a:lnTo>
                  <a:pt x="381" y="224"/>
                </a:lnTo>
                <a:lnTo>
                  <a:pt x="388" y="235"/>
                </a:lnTo>
                <a:lnTo>
                  <a:pt x="380" y="249"/>
                </a:lnTo>
                <a:lnTo>
                  <a:pt x="399" y="266"/>
                </a:lnTo>
                <a:lnTo>
                  <a:pt x="381" y="266"/>
                </a:lnTo>
                <a:lnTo>
                  <a:pt x="388" y="277"/>
                </a:lnTo>
                <a:lnTo>
                  <a:pt x="372" y="291"/>
                </a:lnTo>
                <a:lnTo>
                  <a:pt x="381" y="298"/>
                </a:lnTo>
                <a:lnTo>
                  <a:pt x="376" y="303"/>
                </a:lnTo>
                <a:lnTo>
                  <a:pt x="385" y="312"/>
                </a:lnTo>
                <a:lnTo>
                  <a:pt x="374" y="317"/>
                </a:lnTo>
                <a:lnTo>
                  <a:pt x="384" y="339"/>
                </a:lnTo>
                <a:lnTo>
                  <a:pt x="374" y="347"/>
                </a:lnTo>
                <a:lnTo>
                  <a:pt x="380" y="359"/>
                </a:lnTo>
                <a:lnTo>
                  <a:pt x="374" y="377"/>
                </a:lnTo>
                <a:lnTo>
                  <a:pt x="380" y="386"/>
                </a:lnTo>
                <a:lnTo>
                  <a:pt x="363" y="422"/>
                </a:lnTo>
                <a:lnTo>
                  <a:pt x="26" y="426"/>
                </a:lnTo>
                <a:lnTo>
                  <a:pt x="16" y="388"/>
                </a:lnTo>
                <a:lnTo>
                  <a:pt x="26" y="383"/>
                </a:lnTo>
                <a:lnTo>
                  <a:pt x="7" y="368"/>
                </a:lnTo>
                <a:lnTo>
                  <a:pt x="10" y="368"/>
                </a:lnTo>
                <a:lnTo>
                  <a:pt x="6" y="361"/>
                </a:lnTo>
                <a:lnTo>
                  <a:pt x="18" y="354"/>
                </a:lnTo>
                <a:lnTo>
                  <a:pt x="13" y="344"/>
                </a:lnTo>
                <a:lnTo>
                  <a:pt x="18" y="344"/>
                </a:lnTo>
                <a:lnTo>
                  <a:pt x="1" y="338"/>
                </a:lnTo>
                <a:lnTo>
                  <a:pt x="18" y="319"/>
                </a:lnTo>
                <a:lnTo>
                  <a:pt x="6" y="319"/>
                </a:lnTo>
                <a:lnTo>
                  <a:pt x="16" y="312"/>
                </a:lnTo>
                <a:lnTo>
                  <a:pt x="12" y="302"/>
                </a:lnTo>
                <a:lnTo>
                  <a:pt x="27" y="298"/>
                </a:lnTo>
                <a:lnTo>
                  <a:pt x="18" y="289"/>
                </a:lnTo>
                <a:lnTo>
                  <a:pt x="27" y="289"/>
                </a:lnTo>
                <a:lnTo>
                  <a:pt x="18" y="279"/>
                </a:lnTo>
                <a:lnTo>
                  <a:pt x="21" y="274"/>
                </a:lnTo>
                <a:lnTo>
                  <a:pt x="7" y="266"/>
                </a:lnTo>
                <a:lnTo>
                  <a:pt x="12" y="256"/>
                </a:lnTo>
                <a:lnTo>
                  <a:pt x="18" y="256"/>
                </a:lnTo>
                <a:lnTo>
                  <a:pt x="1" y="249"/>
                </a:lnTo>
                <a:lnTo>
                  <a:pt x="19" y="244"/>
                </a:lnTo>
                <a:lnTo>
                  <a:pt x="7" y="238"/>
                </a:lnTo>
                <a:lnTo>
                  <a:pt x="19" y="227"/>
                </a:lnTo>
                <a:lnTo>
                  <a:pt x="12" y="227"/>
                </a:lnTo>
                <a:lnTo>
                  <a:pt x="32" y="209"/>
                </a:lnTo>
                <a:lnTo>
                  <a:pt x="1" y="203"/>
                </a:lnTo>
                <a:lnTo>
                  <a:pt x="18" y="203"/>
                </a:lnTo>
                <a:lnTo>
                  <a:pt x="6" y="193"/>
                </a:lnTo>
                <a:lnTo>
                  <a:pt x="13" y="185"/>
                </a:lnTo>
                <a:lnTo>
                  <a:pt x="4" y="183"/>
                </a:lnTo>
                <a:lnTo>
                  <a:pt x="19" y="183"/>
                </a:lnTo>
                <a:lnTo>
                  <a:pt x="7" y="168"/>
                </a:lnTo>
                <a:lnTo>
                  <a:pt x="21" y="162"/>
                </a:lnTo>
                <a:lnTo>
                  <a:pt x="1" y="155"/>
                </a:lnTo>
                <a:lnTo>
                  <a:pt x="19" y="153"/>
                </a:lnTo>
                <a:lnTo>
                  <a:pt x="13" y="138"/>
                </a:lnTo>
                <a:lnTo>
                  <a:pt x="24" y="138"/>
                </a:lnTo>
                <a:lnTo>
                  <a:pt x="0" y="123"/>
                </a:lnTo>
                <a:lnTo>
                  <a:pt x="19" y="123"/>
                </a:lnTo>
                <a:lnTo>
                  <a:pt x="10" y="111"/>
                </a:lnTo>
                <a:lnTo>
                  <a:pt x="19" y="105"/>
                </a:lnTo>
                <a:lnTo>
                  <a:pt x="10" y="99"/>
                </a:lnTo>
                <a:lnTo>
                  <a:pt x="12" y="91"/>
                </a:lnTo>
                <a:lnTo>
                  <a:pt x="21" y="91"/>
                </a:lnTo>
                <a:lnTo>
                  <a:pt x="12" y="88"/>
                </a:lnTo>
                <a:lnTo>
                  <a:pt x="19" y="81"/>
                </a:lnTo>
                <a:lnTo>
                  <a:pt x="1" y="74"/>
                </a:lnTo>
                <a:lnTo>
                  <a:pt x="12" y="70"/>
                </a:lnTo>
                <a:lnTo>
                  <a:pt x="10" y="63"/>
                </a:lnTo>
                <a:lnTo>
                  <a:pt x="16" y="51"/>
                </a:lnTo>
                <a:lnTo>
                  <a:pt x="32" y="59"/>
                </a:lnTo>
                <a:lnTo>
                  <a:pt x="16" y="48"/>
                </a:lnTo>
                <a:lnTo>
                  <a:pt x="24" y="41"/>
                </a:lnTo>
                <a:lnTo>
                  <a:pt x="13" y="33"/>
                </a:lnTo>
                <a:lnTo>
                  <a:pt x="27" y="33"/>
                </a:lnTo>
                <a:lnTo>
                  <a:pt x="1" y="24"/>
                </a:lnTo>
                <a:lnTo>
                  <a:pt x="26" y="17"/>
                </a:lnTo>
                <a:lnTo>
                  <a:pt x="24" y="10"/>
                </a:lnTo>
                <a:lnTo>
                  <a:pt x="35" y="0"/>
                </a:lnTo>
                <a:lnTo>
                  <a:pt x="387" y="16"/>
                </a:lnTo>
                <a:lnTo>
                  <a:pt x="388" y="16"/>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Freeform 170"/>
          <p:cNvSpPr/>
          <p:nvPr/>
        </p:nvSpPr>
        <p:spPr>
          <a:xfrm>
            <a:off x="3486240" y="3013200"/>
            <a:ext cx="677880" cy="171360"/>
          </a:xfrm>
          <a:custGeom>
            <a:avLst/>
            <a:gdLst>
              <a:gd name="textAreaLeft" fmla="*/ 0 w 677880"/>
              <a:gd name="textAreaRight" fmla="*/ 678240 w 677880"/>
              <a:gd name="textAreaTop" fmla="*/ 0 h 171360"/>
              <a:gd name="textAreaBottom" fmla="*/ 171720 h 171360"/>
            </a:gdLst>
            <a:ahLst/>
            <a:rect l="textAreaLeft" t="textAreaTop" r="textAreaRight" b="textAreaBottom"/>
            <a:pathLst>
              <a:path w="418" h="143">
                <a:moveTo>
                  <a:pt x="369" y="8"/>
                </a:moveTo>
                <a:lnTo>
                  <a:pt x="366" y="8"/>
                </a:lnTo>
                <a:lnTo>
                  <a:pt x="388" y="16"/>
                </a:lnTo>
                <a:lnTo>
                  <a:pt x="381" y="23"/>
                </a:lnTo>
                <a:lnTo>
                  <a:pt x="399" y="38"/>
                </a:lnTo>
                <a:lnTo>
                  <a:pt x="396" y="45"/>
                </a:lnTo>
                <a:lnTo>
                  <a:pt x="405" y="60"/>
                </a:lnTo>
                <a:lnTo>
                  <a:pt x="418" y="64"/>
                </a:lnTo>
                <a:lnTo>
                  <a:pt x="408" y="79"/>
                </a:lnTo>
                <a:lnTo>
                  <a:pt x="415" y="93"/>
                </a:lnTo>
                <a:lnTo>
                  <a:pt x="410" y="103"/>
                </a:lnTo>
                <a:lnTo>
                  <a:pt x="412" y="112"/>
                </a:lnTo>
                <a:lnTo>
                  <a:pt x="410" y="122"/>
                </a:lnTo>
                <a:lnTo>
                  <a:pt x="414" y="124"/>
                </a:lnTo>
                <a:lnTo>
                  <a:pt x="401" y="128"/>
                </a:lnTo>
                <a:lnTo>
                  <a:pt x="393" y="138"/>
                </a:lnTo>
                <a:lnTo>
                  <a:pt x="393" y="143"/>
                </a:lnTo>
                <a:lnTo>
                  <a:pt x="43" y="138"/>
                </a:lnTo>
                <a:lnTo>
                  <a:pt x="27" y="122"/>
                </a:lnTo>
                <a:lnTo>
                  <a:pt x="36" y="112"/>
                </a:lnTo>
                <a:lnTo>
                  <a:pt x="11" y="112"/>
                </a:lnTo>
                <a:lnTo>
                  <a:pt x="21" y="97"/>
                </a:lnTo>
                <a:lnTo>
                  <a:pt x="0" y="93"/>
                </a:lnTo>
                <a:lnTo>
                  <a:pt x="17" y="88"/>
                </a:lnTo>
                <a:lnTo>
                  <a:pt x="0" y="77"/>
                </a:lnTo>
                <a:lnTo>
                  <a:pt x="32" y="77"/>
                </a:lnTo>
                <a:lnTo>
                  <a:pt x="21" y="63"/>
                </a:lnTo>
                <a:lnTo>
                  <a:pt x="43" y="57"/>
                </a:lnTo>
                <a:lnTo>
                  <a:pt x="29" y="53"/>
                </a:lnTo>
                <a:lnTo>
                  <a:pt x="47" y="53"/>
                </a:lnTo>
                <a:lnTo>
                  <a:pt x="39" y="39"/>
                </a:lnTo>
                <a:lnTo>
                  <a:pt x="60" y="31"/>
                </a:lnTo>
                <a:lnTo>
                  <a:pt x="43" y="29"/>
                </a:lnTo>
                <a:lnTo>
                  <a:pt x="47" y="23"/>
                </a:lnTo>
                <a:lnTo>
                  <a:pt x="38" y="23"/>
                </a:lnTo>
                <a:lnTo>
                  <a:pt x="45" y="14"/>
                </a:lnTo>
                <a:lnTo>
                  <a:pt x="69" y="14"/>
                </a:lnTo>
                <a:lnTo>
                  <a:pt x="64" y="0"/>
                </a:lnTo>
                <a:lnTo>
                  <a:pt x="366" y="14"/>
                </a:lnTo>
                <a:lnTo>
                  <a:pt x="369" y="8"/>
                </a:lnTo>
                <a:close/>
              </a:path>
            </a:pathLst>
          </a:custGeom>
          <a:solidFill>
            <a:srgbClr val="000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Freeform 171"/>
          <p:cNvSpPr/>
          <p:nvPr/>
        </p:nvSpPr>
        <p:spPr>
          <a:xfrm>
            <a:off x="3517920" y="2584440"/>
            <a:ext cx="606240" cy="436680"/>
          </a:xfrm>
          <a:custGeom>
            <a:avLst/>
            <a:gdLst>
              <a:gd name="textAreaLeft" fmla="*/ 0 w 606240"/>
              <a:gd name="textAreaRight" fmla="*/ 606600 w 606240"/>
              <a:gd name="textAreaTop" fmla="*/ 0 h 436680"/>
              <a:gd name="textAreaBottom" fmla="*/ 437040 h 436680"/>
            </a:gdLst>
            <a:ahLst/>
            <a:rect l="textAreaLeft" t="textAreaTop" r="textAreaRight" b="textAreaBottom"/>
            <a:pathLst>
              <a:path w="377" h="360">
                <a:moveTo>
                  <a:pt x="351" y="0"/>
                </a:moveTo>
                <a:lnTo>
                  <a:pt x="360" y="13"/>
                </a:lnTo>
                <a:lnTo>
                  <a:pt x="358" y="23"/>
                </a:lnTo>
                <a:lnTo>
                  <a:pt x="337" y="38"/>
                </a:lnTo>
                <a:lnTo>
                  <a:pt x="360" y="41"/>
                </a:lnTo>
                <a:lnTo>
                  <a:pt x="352" y="54"/>
                </a:lnTo>
                <a:lnTo>
                  <a:pt x="377" y="60"/>
                </a:lnTo>
                <a:lnTo>
                  <a:pt x="367" y="72"/>
                </a:lnTo>
                <a:lnTo>
                  <a:pt x="373" y="78"/>
                </a:lnTo>
                <a:lnTo>
                  <a:pt x="356" y="90"/>
                </a:lnTo>
                <a:lnTo>
                  <a:pt x="360" y="100"/>
                </a:lnTo>
                <a:lnTo>
                  <a:pt x="356" y="100"/>
                </a:lnTo>
                <a:lnTo>
                  <a:pt x="375" y="113"/>
                </a:lnTo>
                <a:lnTo>
                  <a:pt x="351" y="129"/>
                </a:lnTo>
                <a:lnTo>
                  <a:pt x="371" y="134"/>
                </a:lnTo>
                <a:lnTo>
                  <a:pt x="355" y="157"/>
                </a:lnTo>
                <a:lnTo>
                  <a:pt x="371" y="166"/>
                </a:lnTo>
                <a:lnTo>
                  <a:pt x="351" y="181"/>
                </a:lnTo>
                <a:lnTo>
                  <a:pt x="360" y="191"/>
                </a:lnTo>
                <a:lnTo>
                  <a:pt x="360" y="197"/>
                </a:lnTo>
                <a:lnTo>
                  <a:pt x="375" y="204"/>
                </a:lnTo>
                <a:lnTo>
                  <a:pt x="359" y="208"/>
                </a:lnTo>
                <a:lnTo>
                  <a:pt x="366" y="226"/>
                </a:lnTo>
                <a:lnTo>
                  <a:pt x="352" y="233"/>
                </a:lnTo>
                <a:lnTo>
                  <a:pt x="348" y="248"/>
                </a:lnTo>
                <a:lnTo>
                  <a:pt x="358" y="269"/>
                </a:lnTo>
                <a:lnTo>
                  <a:pt x="356" y="271"/>
                </a:lnTo>
                <a:lnTo>
                  <a:pt x="348" y="286"/>
                </a:lnTo>
                <a:lnTo>
                  <a:pt x="358" y="290"/>
                </a:lnTo>
                <a:lnTo>
                  <a:pt x="366" y="301"/>
                </a:lnTo>
                <a:lnTo>
                  <a:pt x="348" y="308"/>
                </a:lnTo>
                <a:lnTo>
                  <a:pt x="360" y="315"/>
                </a:lnTo>
                <a:lnTo>
                  <a:pt x="351" y="337"/>
                </a:lnTo>
                <a:lnTo>
                  <a:pt x="347" y="352"/>
                </a:lnTo>
                <a:lnTo>
                  <a:pt x="345" y="360"/>
                </a:lnTo>
                <a:lnTo>
                  <a:pt x="55" y="350"/>
                </a:lnTo>
                <a:lnTo>
                  <a:pt x="43" y="337"/>
                </a:lnTo>
                <a:lnTo>
                  <a:pt x="63" y="341"/>
                </a:lnTo>
                <a:lnTo>
                  <a:pt x="48" y="337"/>
                </a:lnTo>
                <a:lnTo>
                  <a:pt x="97" y="331"/>
                </a:lnTo>
                <a:lnTo>
                  <a:pt x="83" y="317"/>
                </a:lnTo>
                <a:lnTo>
                  <a:pt x="94" y="317"/>
                </a:lnTo>
                <a:lnTo>
                  <a:pt x="43" y="301"/>
                </a:lnTo>
                <a:lnTo>
                  <a:pt x="60" y="296"/>
                </a:lnTo>
                <a:lnTo>
                  <a:pt x="42" y="290"/>
                </a:lnTo>
                <a:lnTo>
                  <a:pt x="50" y="286"/>
                </a:lnTo>
                <a:lnTo>
                  <a:pt x="30" y="290"/>
                </a:lnTo>
                <a:lnTo>
                  <a:pt x="48" y="286"/>
                </a:lnTo>
                <a:lnTo>
                  <a:pt x="39" y="271"/>
                </a:lnTo>
                <a:lnTo>
                  <a:pt x="74" y="271"/>
                </a:lnTo>
                <a:lnTo>
                  <a:pt x="56" y="256"/>
                </a:lnTo>
                <a:lnTo>
                  <a:pt x="86" y="261"/>
                </a:lnTo>
                <a:lnTo>
                  <a:pt x="65" y="248"/>
                </a:lnTo>
                <a:lnTo>
                  <a:pt x="80" y="244"/>
                </a:lnTo>
                <a:lnTo>
                  <a:pt x="48" y="238"/>
                </a:lnTo>
                <a:lnTo>
                  <a:pt x="68" y="238"/>
                </a:lnTo>
                <a:lnTo>
                  <a:pt x="50" y="238"/>
                </a:lnTo>
                <a:lnTo>
                  <a:pt x="55" y="226"/>
                </a:lnTo>
                <a:lnTo>
                  <a:pt x="36" y="222"/>
                </a:lnTo>
                <a:lnTo>
                  <a:pt x="50" y="208"/>
                </a:lnTo>
                <a:lnTo>
                  <a:pt x="24" y="202"/>
                </a:lnTo>
                <a:lnTo>
                  <a:pt x="11" y="181"/>
                </a:lnTo>
                <a:lnTo>
                  <a:pt x="28" y="187"/>
                </a:lnTo>
                <a:lnTo>
                  <a:pt x="17" y="181"/>
                </a:lnTo>
                <a:lnTo>
                  <a:pt x="39" y="181"/>
                </a:lnTo>
                <a:lnTo>
                  <a:pt x="21" y="166"/>
                </a:lnTo>
                <a:lnTo>
                  <a:pt x="33" y="163"/>
                </a:lnTo>
                <a:lnTo>
                  <a:pt x="18" y="157"/>
                </a:lnTo>
                <a:lnTo>
                  <a:pt x="36" y="150"/>
                </a:lnTo>
                <a:lnTo>
                  <a:pt x="28" y="137"/>
                </a:lnTo>
                <a:lnTo>
                  <a:pt x="33" y="137"/>
                </a:lnTo>
                <a:lnTo>
                  <a:pt x="8" y="120"/>
                </a:lnTo>
                <a:lnTo>
                  <a:pt x="26" y="110"/>
                </a:lnTo>
                <a:lnTo>
                  <a:pt x="8" y="110"/>
                </a:lnTo>
                <a:lnTo>
                  <a:pt x="15" y="95"/>
                </a:lnTo>
                <a:lnTo>
                  <a:pt x="0" y="93"/>
                </a:lnTo>
                <a:lnTo>
                  <a:pt x="32" y="79"/>
                </a:lnTo>
                <a:lnTo>
                  <a:pt x="15" y="75"/>
                </a:lnTo>
                <a:lnTo>
                  <a:pt x="21" y="75"/>
                </a:lnTo>
                <a:lnTo>
                  <a:pt x="8" y="69"/>
                </a:lnTo>
                <a:lnTo>
                  <a:pt x="21" y="63"/>
                </a:lnTo>
                <a:lnTo>
                  <a:pt x="6" y="58"/>
                </a:lnTo>
                <a:lnTo>
                  <a:pt x="12" y="53"/>
                </a:lnTo>
                <a:lnTo>
                  <a:pt x="48" y="39"/>
                </a:lnTo>
                <a:lnTo>
                  <a:pt x="26" y="33"/>
                </a:lnTo>
                <a:lnTo>
                  <a:pt x="33" y="33"/>
                </a:lnTo>
                <a:lnTo>
                  <a:pt x="22" y="29"/>
                </a:lnTo>
                <a:lnTo>
                  <a:pt x="39" y="16"/>
                </a:lnTo>
                <a:lnTo>
                  <a:pt x="17" y="11"/>
                </a:lnTo>
                <a:lnTo>
                  <a:pt x="32" y="11"/>
                </a:lnTo>
                <a:lnTo>
                  <a:pt x="26" y="18"/>
                </a:lnTo>
                <a:lnTo>
                  <a:pt x="21" y="16"/>
                </a:lnTo>
                <a:lnTo>
                  <a:pt x="41" y="18"/>
                </a:lnTo>
                <a:lnTo>
                  <a:pt x="100" y="18"/>
                </a:lnTo>
                <a:lnTo>
                  <a:pt x="348" y="5"/>
                </a:lnTo>
                <a:lnTo>
                  <a:pt x="351" y="0"/>
                </a:lnTo>
                <a:close/>
              </a:path>
            </a:pathLst>
          </a:custGeom>
          <a:solidFill>
            <a:srgbClr val="e0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Freeform 172"/>
          <p:cNvSpPr/>
          <p:nvPr/>
        </p:nvSpPr>
        <p:spPr>
          <a:xfrm>
            <a:off x="3460680" y="2344680"/>
            <a:ext cx="679680" cy="260280"/>
          </a:xfrm>
          <a:custGeom>
            <a:avLst/>
            <a:gdLst>
              <a:gd name="textAreaLeft" fmla="*/ 0 w 679680"/>
              <a:gd name="textAreaRight" fmla="*/ 680040 w 679680"/>
              <a:gd name="textAreaTop" fmla="*/ 0 h 260280"/>
              <a:gd name="textAreaBottom" fmla="*/ 260640 h 260280"/>
            </a:gdLst>
            <a:ahLst/>
            <a:rect l="textAreaLeft" t="textAreaTop" r="textAreaRight" b="textAreaBottom"/>
            <a:pathLst>
              <a:path w="422" h="212">
                <a:moveTo>
                  <a:pt x="362" y="10"/>
                </a:moveTo>
                <a:lnTo>
                  <a:pt x="377" y="38"/>
                </a:lnTo>
                <a:lnTo>
                  <a:pt x="388" y="66"/>
                </a:lnTo>
                <a:lnTo>
                  <a:pt x="409" y="80"/>
                </a:lnTo>
                <a:lnTo>
                  <a:pt x="410" y="59"/>
                </a:lnTo>
                <a:lnTo>
                  <a:pt x="414" y="68"/>
                </a:lnTo>
                <a:lnTo>
                  <a:pt x="404" y="73"/>
                </a:lnTo>
                <a:lnTo>
                  <a:pt x="417" y="81"/>
                </a:lnTo>
                <a:lnTo>
                  <a:pt x="417" y="91"/>
                </a:lnTo>
                <a:lnTo>
                  <a:pt x="422" y="96"/>
                </a:lnTo>
                <a:lnTo>
                  <a:pt x="412" y="118"/>
                </a:lnTo>
                <a:lnTo>
                  <a:pt x="420" y="118"/>
                </a:lnTo>
                <a:lnTo>
                  <a:pt x="412" y="150"/>
                </a:lnTo>
                <a:lnTo>
                  <a:pt x="417" y="159"/>
                </a:lnTo>
                <a:lnTo>
                  <a:pt x="396" y="212"/>
                </a:lnTo>
                <a:lnTo>
                  <a:pt x="137" y="212"/>
                </a:lnTo>
                <a:lnTo>
                  <a:pt x="110" y="182"/>
                </a:lnTo>
                <a:lnTo>
                  <a:pt x="119" y="182"/>
                </a:lnTo>
                <a:lnTo>
                  <a:pt x="48" y="154"/>
                </a:lnTo>
                <a:lnTo>
                  <a:pt x="7" y="148"/>
                </a:lnTo>
                <a:lnTo>
                  <a:pt x="22" y="129"/>
                </a:lnTo>
                <a:lnTo>
                  <a:pt x="7" y="120"/>
                </a:lnTo>
                <a:lnTo>
                  <a:pt x="20" y="111"/>
                </a:lnTo>
                <a:lnTo>
                  <a:pt x="11" y="106"/>
                </a:lnTo>
                <a:lnTo>
                  <a:pt x="28" y="85"/>
                </a:lnTo>
                <a:lnTo>
                  <a:pt x="16" y="80"/>
                </a:lnTo>
                <a:lnTo>
                  <a:pt x="20" y="69"/>
                </a:lnTo>
                <a:lnTo>
                  <a:pt x="0" y="69"/>
                </a:lnTo>
                <a:lnTo>
                  <a:pt x="23" y="38"/>
                </a:lnTo>
                <a:lnTo>
                  <a:pt x="15" y="18"/>
                </a:lnTo>
                <a:lnTo>
                  <a:pt x="23" y="18"/>
                </a:lnTo>
                <a:lnTo>
                  <a:pt x="20" y="0"/>
                </a:lnTo>
                <a:lnTo>
                  <a:pt x="22" y="0"/>
                </a:lnTo>
                <a:lnTo>
                  <a:pt x="359" y="0"/>
                </a:lnTo>
                <a:lnTo>
                  <a:pt x="362" y="10"/>
                </a:lnTo>
                <a:close/>
              </a:path>
            </a:pathLst>
          </a:custGeom>
          <a:solidFill>
            <a:srgbClr val="00ff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Line 173"/>
          <p:cNvSpPr/>
          <p:nvPr/>
        </p:nvSpPr>
        <p:spPr>
          <a:xfrm>
            <a:off x="3433680" y="2608200"/>
            <a:ext cx="7905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8" name="Rectangle 174"/>
          <p:cNvSpPr/>
          <p:nvPr/>
        </p:nvSpPr>
        <p:spPr>
          <a:xfrm>
            <a:off x="3679920" y="2344680"/>
            <a:ext cx="69840" cy="134460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9" name="Freeform 175"/>
          <p:cNvSpPr/>
          <p:nvPr/>
        </p:nvSpPr>
        <p:spPr>
          <a:xfrm>
            <a:off x="4359240" y="5483160"/>
            <a:ext cx="712800" cy="776520"/>
          </a:xfrm>
          <a:custGeom>
            <a:avLst/>
            <a:gdLst>
              <a:gd name="textAreaLeft" fmla="*/ 0 w 712800"/>
              <a:gd name="textAreaRight" fmla="*/ 713160 w 712800"/>
              <a:gd name="textAreaTop" fmla="*/ 0 h 776520"/>
              <a:gd name="textAreaBottom" fmla="*/ 776880 h 776520"/>
            </a:gdLst>
            <a:ahLst/>
            <a:rect l="textAreaLeft" t="textAreaTop" r="textAreaRight" b="textAreaBottom"/>
            <a:pathLst>
              <a:path w="443" h="639">
                <a:moveTo>
                  <a:pt x="438" y="1"/>
                </a:moveTo>
                <a:lnTo>
                  <a:pt x="440" y="12"/>
                </a:lnTo>
                <a:lnTo>
                  <a:pt x="442" y="26"/>
                </a:lnTo>
                <a:lnTo>
                  <a:pt x="439" y="45"/>
                </a:lnTo>
                <a:lnTo>
                  <a:pt x="438" y="56"/>
                </a:lnTo>
                <a:lnTo>
                  <a:pt x="442" y="65"/>
                </a:lnTo>
                <a:lnTo>
                  <a:pt x="410" y="87"/>
                </a:lnTo>
                <a:lnTo>
                  <a:pt x="376" y="96"/>
                </a:lnTo>
                <a:lnTo>
                  <a:pt x="366" y="101"/>
                </a:lnTo>
                <a:lnTo>
                  <a:pt x="373" y="119"/>
                </a:lnTo>
                <a:lnTo>
                  <a:pt x="371" y="123"/>
                </a:lnTo>
                <a:lnTo>
                  <a:pt x="388" y="138"/>
                </a:lnTo>
                <a:lnTo>
                  <a:pt x="410" y="163"/>
                </a:lnTo>
                <a:lnTo>
                  <a:pt x="416" y="174"/>
                </a:lnTo>
                <a:lnTo>
                  <a:pt x="405" y="185"/>
                </a:lnTo>
                <a:lnTo>
                  <a:pt x="423" y="189"/>
                </a:lnTo>
                <a:lnTo>
                  <a:pt x="413" y="206"/>
                </a:lnTo>
                <a:lnTo>
                  <a:pt x="430" y="206"/>
                </a:lnTo>
                <a:lnTo>
                  <a:pt x="418" y="230"/>
                </a:lnTo>
                <a:lnTo>
                  <a:pt x="438" y="240"/>
                </a:lnTo>
                <a:lnTo>
                  <a:pt x="425" y="253"/>
                </a:lnTo>
                <a:lnTo>
                  <a:pt x="439" y="258"/>
                </a:lnTo>
                <a:lnTo>
                  <a:pt x="431" y="267"/>
                </a:lnTo>
                <a:lnTo>
                  <a:pt x="443" y="273"/>
                </a:lnTo>
                <a:lnTo>
                  <a:pt x="441" y="287"/>
                </a:lnTo>
                <a:lnTo>
                  <a:pt x="432" y="294"/>
                </a:lnTo>
                <a:lnTo>
                  <a:pt x="440" y="294"/>
                </a:lnTo>
                <a:lnTo>
                  <a:pt x="434" y="304"/>
                </a:lnTo>
                <a:lnTo>
                  <a:pt x="439" y="325"/>
                </a:lnTo>
                <a:lnTo>
                  <a:pt x="427" y="342"/>
                </a:lnTo>
                <a:lnTo>
                  <a:pt x="419" y="352"/>
                </a:lnTo>
                <a:lnTo>
                  <a:pt x="430" y="362"/>
                </a:lnTo>
                <a:lnTo>
                  <a:pt x="425" y="366"/>
                </a:lnTo>
                <a:lnTo>
                  <a:pt x="440" y="366"/>
                </a:lnTo>
                <a:lnTo>
                  <a:pt x="425" y="374"/>
                </a:lnTo>
                <a:lnTo>
                  <a:pt x="430" y="384"/>
                </a:lnTo>
                <a:lnTo>
                  <a:pt x="406" y="392"/>
                </a:lnTo>
                <a:lnTo>
                  <a:pt x="419" y="407"/>
                </a:lnTo>
                <a:lnTo>
                  <a:pt x="399" y="414"/>
                </a:lnTo>
                <a:lnTo>
                  <a:pt x="373" y="432"/>
                </a:lnTo>
                <a:lnTo>
                  <a:pt x="400" y="455"/>
                </a:lnTo>
                <a:lnTo>
                  <a:pt x="439" y="477"/>
                </a:lnTo>
                <a:lnTo>
                  <a:pt x="439" y="517"/>
                </a:lnTo>
                <a:lnTo>
                  <a:pt x="426" y="517"/>
                </a:lnTo>
                <a:lnTo>
                  <a:pt x="418" y="518"/>
                </a:lnTo>
                <a:lnTo>
                  <a:pt x="424" y="527"/>
                </a:lnTo>
                <a:lnTo>
                  <a:pt x="399" y="542"/>
                </a:lnTo>
                <a:lnTo>
                  <a:pt x="406" y="570"/>
                </a:lnTo>
                <a:lnTo>
                  <a:pt x="403" y="639"/>
                </a:lnTo>
                <a:lnTo>
                  <a:pt x="20" y="632"/>
                </a:lnTo>
                <a:lnTo>
                  <a:pt x="17" y="605"/>
                </a:lnTo>
                <a:lnTo>
                  <a:pt x="19" y="582"/>
                </a:lnTo>
                <a:lnTo>
                  <a:pt x="20" y="548"/>
                </a:lnTo>
                <a:lnTo>
                  <a:pt x="19" y="543"/>
                </a:lnTo>
                <a:lnTo>
                  <a:pt x="23" y="532"/>
                </a:lnTo>
                <a:lnTo>
                  <a:pt x="19" y="517"/>
                </a:lnTo>
                <a:lnTo>
                  <a:pt x="6" y="510"/>
                </a:lnTo>
                <a:lnTo>
                  <a:pt x="19" y="497"/>
                </a:lnTo>
                <a:lnTo>
                  <a:pt x="6" y="480"/>
                </a:lnTo>
                <a:lnTo>
                  <a:pt x="11" y="457"/>
                </a:lnTo>
                <a:lnTo>
                  <a:pt x="11" y="455"/>
                </a:lnTo>
                <a:lnTo>
                  <a:pt x="12" y="448"/>
                </a:lnTo>
                <a:lnTo>
                  <a:pt x="6" y="443"/>
                </a:lnTo>
                <a:lnTo>
                  <a:pt x="12" y="426"/>
                </a:lnTo>
                <a:lnTo>
                  <a:pt x="11" y="426"/>
                </a:lnTo>
                <a:lnTo>
                  <a:pt x="19" y="408"/>
                </a:lnTo>
                <a:lnTo>
                  <a:pt x="14" y="392"/>
                </a:lnTo>
                <a:lnTo>
                  <a:pt x="9" y="384"/>
                </a:lnTo>
                <a:lnTo>
                  <a:pt x="9" y="383"/>
                </a:lnTo>
                <a:lnTo>
                  <a:pt x="12" y="376"/>
                </a:lnTo>
                <a:lnTo>
                  <a:pt x="11" y="361"/>
                </a:lnTo>
                <a:lnTo>
                  <a:pt x="14" y="353"/>
                </a:lnTo>
                <a:lnTo>
                  <a:pt x="6" y="343"/>
                </a:lnTo>
                <a:lnTo>
                  <a:pt x="11" y="337"/>
                </a:lnTo>
                <a:lnTo>
                  <a:pt x="0" y="332"/>
                </a:lnTo>
                <a:lnTo>
                  <a:pt x="6" y="320"/>
                </a:lnTo>
                <a:lnTo>
                  <a:pt x="3" y="314"/>
                </a:lnTo>
                <a:lnTo>
                  <a:pt x="6" y="293"/>
                </a:lnTo>
                <a:lnTo>
                  <a:pt x="3" y="278"/>
                </a:lnTo>
                <a:lnTo>
                  <a:pt x="3" y="258"/>
                </a:lnTo>
                <a:lnTo>
                  <a:pt x="3" y="225"/>
                </a:lnTo>
                <a:lnTo>
                  <a:pt x="19" y="222"/>
                </a:lnTo>
                <a:lnTo>
                  <a:pt x="0" y="204"/>
                </a:lnTo>
                <a:lnTo>
                  <a:pt x="3" y="180"/>
                </a:lnTo>
                <a:lnTo>
                  <a:pt x="3" y="165"/>
                </a:lnTo>
                <a:lnTo>
                  <a:pt x="0" y="144"/>
                </a:lnTo>
                <a:lnTo>
                  <a:pt x="6" y="126"/>
                </a:lnTo>
                <a:lnTo>
                  <a:pt x="20" y="114"/>
                </a:lnTo>
                <a:lnTo>
                  <a:pt x="23" y="109"/>
                </a:lnTo>
                <a:lnTo>
                  <a:pt x="19" y="104"/>
                </a:lnTo>
                <a:lnTo>
                  <a:pt x="23" y="92"/>
                </a:lnTo>
                <a:lnTo>
                  <a:pt x="14" y="75"/>
                </a:lnTo>
                <a:lnTo>
                  <a:pt x="6" y="71"/>
                </a:lnTo>
                <a:lnTo>
                  <a:pt x="9" y="64"/>
                </a:lnTo>
                <a:lnTo>
                  <a:pt x="0" y="54"/>
                </a:lnTo>
                <a:lnTo>
                  <a:pt x="3" y="41"/>
                </a:lnTo>
                <a:lnTo>
                  <a:pt x="6" y="25"/>
                </a:lnTo>
                <a:lnTo>
                  <a:pt x="3" y="9"/>
                </a:lnTo>
                <a:lnTo>
                  <a:pt x="3" y="0"/>
                </a:lnTo>
                <a:lnTo>
                  <a:pt x="434" y="0"/>
                </a:lnTo>
                <a:lnTo>
                  <a:pt x="438" y="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Freeform 176"/>
          <p:cNvSpPr/>
          <p:nvPr/>
        </p:nvSpPr>
        <p:spPr>
          <a:xfrm>
            <a:off x="4359240" y="4527720"/>
            <a:ext cx="711360" cy="957240"/>
          </a:xfrm>
          <a:custGeom>
            <a:avLst/>
            <a:gdLst>
              <a:gd name="textAreaLeft" fmla="*/ 0 w 711360"/>
              <a:gd name="textAreaRight" fmla="*/ 711720 w 711360"/>
              <a:gd name="textAreaTop" fmla="*/ 0 h 957240"/>
              <a:gd name="textAreaBottom" fmla="*/ 957600 h 957240"/>
            </a:gdLst>
            <a:ahLst/>
            <a:rect l="textAreaLeft" t="textAreaTop" r="textAreaRight" b="textAreaBottom"/>
            <a:pathLst>
              <a:path w="441" h="785">
                <a:moveTo>
                  <a:pt x="415" y="7"/>
                </a:moveTo>
                <a:lnTo>
                  <a:pt x="408" y="23"/>
                </a:lnTo>
                <a:lnTo>
                  <a:pt x="403" y="33"/>
                </a:lnTo>
                <a:lnTo>
                  <a:pt x="429" y="48"/>
                </a:lnTo>
                <a:lnTo>
                  <a:pt x="433" y="56"/>
                </a:lnTo>
                <a:lnTo>
                  <a:pt x="441" y="72"/>
                </a:lnTo>
                <a:lnTo>
                  <a:pt x="438" y="95"/>
                </a:lnTo>
                <a:lnTo>
                  <a:pt x="440" y="119"/>
                </a:lnTo>
                <a:lnTo>
                  <a:pt x="433" y="119"/>
                </a:lnTo>
                <a:lnTo>
                  <a:pt x="430" y="142"/>
                </a:lnTo>
                <a:lnTo>
                  <a:pt x="424" y="145"/>
                </a:lnTo>
                <a:lnTo>
                  <a:pt x="433" y="162"/>
                </a:lnTo>
                <a:lnTo>
                  <a:pt x="424" y="180"/>
                </a:lnTo>
                <a:lnTo>
                  <a:pt x="430" y="185"/>
                </a:lnTo>
                <a:lnTo>
                  <a:pt x="424" y="198"/>
                </a:lnTo>
                <a:lnTo>
                  <a:pt x="425" y="200"/>
                </a:lnTo>
                <a:lnTo>
                  <a:pt x="424" y="214"/>
                </a:lnTo>
                <a:lnTo>
                  <a:pt x="438" y="214"/>
                </a:lnTo>
                <a:lnTo>
                  <a:pt x="429" y="230"/>
                </a:lnTo>
                <a:lnTo>
                  <a:pt x="409" y="235"/>
                </a:lnTo>
                <a:lnTo>
                  <a:pt x="406" y="253"/>
                </a:lnTo>
                <a:lnTo>
                  <a:pt x="410" y="258"/>
                </a:lnTo>
                <a:lnTo>
                  <a:pt x="406" y="273"/>
                </a:lnTo>
                <a:lnTo>
                  <a:pt x="417" y="286"/>
                </a:lnTo>
                <a:lnTo>
                  <a:pt x="400" y="296"/>
                </a:lnTo>
                <a:lnTo>
                  <a:pt x="400" y="303"/>
                </a:lnTo>
                <a:lnTo>
                  <a:pt x="439" y="320"/>
                </a:lnTo>
                <a:lnTo>
                  <a:pt x="427" y="335"/>
                </a:lnTo>
                <a:lnTo>
                  <a:pt x="433" y="342"/>
                </a:lnTo>
                <a:lnTo>
                  <a:pt x="416" y="359"/>
                </a:lnTo>
                <a:lnTo>
                  <a:pt x="395" y="359"/>
                </a:lnTo>
                <a:lnTo>
                  <a:pt x="375" y="367"/>
                </a:lnTo>
                <a:lnTo>
                  <a:pt x="413" y="382"/>
                </a:lnTo>
                <a:lnTo>
                  <a:pt x="425" y="385"/>
                </a:lnTo>
                <a:lnTo>
                  <a:pt x="441" y="395"/>
                </a:lnTo>
                <a:lnTo>
                  <a:pt x="439" y="408"/>
                </a:lnTo>
                <a:lnTo>
                  <a:pt x="391" y="424"/>
                </a:lnTo>
                <a:lnTo>
                  <a:pt x="408" y="447"/>
                </a:lnTo>
                <a:lnTo>
                  <a:pt x="422" y="454"/>
                </a:lnTo>
                <a:lnTo>
                  <a:pt x="431" y="464"/>
                </a:lnTo>
                <a:lnTo>
                  <a:pt x="415" y="474"/>
                </a:lnTo>
                <a:lnTo>
                  <a:pt x="413" y="479"/>
                </a:lnTo>
                <a:lnTo>
                  <a:pt x="417" y="486"/>
                </a:lnTo>
                <a:lnTo>
                  <a:pt x="409" y="493"/>
                </a:lnTo>
                <a:lnTo>
                  <a:pt x="403" y="503"/>
                </a:lnTo>
                <a:lnTo>
                  <a:pt x="379" y="513"/>
                </a:lnTo>
                <a:lnTo>
                  <a:pt x="406" y="526"/>
                </a:lnTo>
                <a:lnTo>
                  <a:pt x="416" y="542"/>
                </a:lnTo>
                <a:lnTo>
                  <a:pt x="415" y="542"/>
                </a:lnTo>
                <a:lnTo>
                  <a:pt x="426" y="560"/>
                </a:lnTo>
                <a:lnTo>
                  <a:pt x="433" y="568"/>
                </a:lnTo>
                <a:lnTo>
                  <a:pt x="440" y="586"/>
                </a:lnTo>
                <a:lnTo>
                  <a:pt x="430" y="597"/>
                </a:lnTo>
                <a:lnTo>
                  <a:pt x="410" y="615"/>
                </a:lnTo>
                <a:lnTo>
                  <a:pt x="392" y="650"/>
                </a:lnTo>
                <a:lnTo>
                  <a:pt x="405" y="654"/>
                </a:lnTo>
                <a:lnTo>
                  <a:pt x="416" y="656"/>
                </a:lnTo>
                <a:lnTo>
                  <a:pt x="422" y="671"/>
                </a:lnTo>
                <a:lnTo>
                  <a:pt x="425" y="676"/>
                </a:lnTo>
                <a:lnTo>
                  <a:pt x="422" y="695"/>
                </a:lnTo>
                <a:lnTo>
                  <a:pt x="400" y="704"/>
                </a:lnTo>
                <a:lnTo>
                  <a:pt x="429" y="725"/>
                </a:lnTo>
                <a:lnTo>
                  <a:pt x="403" y="759"/>
                </a:lnTo>
                <a:lnTo>
                  <a:pt x="415" y="769"/>
                </a:lnTo>
                <a:lnTo>
                  <a:pt x="440" y="785"/>
                </a:lnTo>
                <a:lnTo>
                  <a:pt x="3" y="778"/>
                </a:lnTo>
                <a:lnTo>
                  <a:pt x="3" y="765"/>
                </a:lnTo>
                <a:lnTo>
                  <a:pt x="5" y="759"/>
                </a:lnTo>
                <a:lnTo>
                  <a:pt x="3" y="751"/>
                </a:lnTo>
                <a:lnTo>
                  <a:pt x="5" y="739"/>
                </a:lnTo>
                <a:lnTo>
                  <a:pt x="5" y="720"/>
                </a:lnTo>
                <a:lnTo>
                  <a:pt x="6" y="714"/>
                </a:lnTo>
                <a:lnTo>
                  <a:pt x="5" y="680"/>
                </a:lnTo>
                <a:lnTo>
                  <a:pt x="12" y="671"/>
                </a:lnTo>
                <a:lnTo>
                  <a:pt x="11" y="650"/>
                </a:lnTo>
                <a:lnTo>
                  <a:pt x="6" y="641"/>
                </a:lnTo>
                <a:lnTo>
                  <a:pt x="12" y="628"/>
                </a:lnTo>
                <a:lnTo>
                  <a:pt x="13" y="618"/>
                </a:lnTo>
                <a:lnTo>
                  <a:pt x="19" y="617"/>
                </a:lnTo>
                <a:lnTo>
                  <a:pt x="11" y="608"/>
                </a:lnTo>
                <a:lnTo>
                  <a:pt x="6" y="593"/>
                </a:lnTo>
                <a:lnTo>
                  <a:pt x="6" y="586"/>
                </a:lnTo>
                <a:lnTo>
                  <a:pt x="12" y="573"/>
                </a:lnTo>
                <a:lnTo>
                  <a:pt x="11" y="560"/>
                </a:lnTo>
                <a:lnTo>
                  <a:pt x="5" y="552"/>
                </a:lnTo>
                <a:lnTo>
                  <a:pt x="7" y="551"/>
                </a:lnTo>
                <a:lnTo>
                  <a:pt x="7" y="535"/>
                </a:lnTo>
                <a:lnTo>
                  <a:pt x="14" y="526"/>
                </a:lnTo>
                <a:lnTo>
                  <a:pt x="19" y="517"/>
                </a:lnTo>
                <a:lnTo>
                  <a:pt x="19" y="499"/>
                </a:lnTo>
                <a:lnTo>
                  <a:pt x="12" y="493"/>
                </a:lnTo>
                <a:lnTo>
                  <a:pt x="9" y="479"/>
                </a:lnTo>
                <a:lnTo>
                  <a:pt x="11" y="472"/>
                </a:lnTo>
                <a:lnTo>
                  <a:pt x="17" y="464"/>
                </a:lnTo>
                <a:lnTo>
                  <a:pt x="14" y="454"/>
                </a:lnTo>
                <a:lnTo>
                  <a:pt x="11" y="441"/>
                </a:lnTo>
                <a:lnTo>
                  <a:pt x="19" y="427"/>
                </a:lnTo>
                <a:lnTo>
                  <a:pt x="24" y="422"/>
                </a:lnTo>
                <a:lnTo>
                  <a:pt x="43" y="417"/>
                </a:lnTo>
                <a:lnTo>
                  <a:pt x="22" y="404"/>
                </a:lnTo>
                <a:lnTo>
                  <a:pt x="11" y="400"/>
                </a:lnTo>
                <a:lnTo>
                  <a:pt x="24" y="390"/>
                </a:lnTo>
                <a:lnTo>
                  <a:pt x="14" y="377"/>
                </a:lnTo>
                <a:lnTo>
                  <a:pt x="6" y="373"/>
                </a:lnTo>
                <a:lnTo>
                  <a:pt x="9" y="353"/>
                </a:lnTo>
                <a:lnTo>
                  <a:pt x="12" y="345"/>
                </a:lnTo>
                <a:lnTo>
                  <a:pt x="9" y="320"/>
                </a:lnTo>
                <a:lnTo>
                  <a:pt x="6" y="304"/>
                </a:lnTo>
                <a:lnTo>
                  <a:pt x="0" y="293"/>
                </a:lnTo>
                <a:lnTo>
                  <a:pt x="17" y="289"/>
                </a:lnTo>
                <a:lnTo>
                  <a:pt x="11" y="280"/>
                </a:lnTo>
                <a:lnTo>
                  <a:pt x="6" y="270"/>
                </a:lnTo>
                <a:lnTo>
                  <a:pt x="6" y="261"/>
                </a:lnTo>
                <a:lnTo>
                  <a:pt x="6" y="245"/>
                </a:lnTo>
                <a:lnTo>
                  <a:pt x="9" y="225"/>
                </a:lnTo>
                <a:lnTo>
                  <a:pt x="6" y="224"/>
                </a:lnTo>
                <a:lnTo>
                  <a:pt x="3" y="208"/>
                </a:lnTo>
                <a:lnTo>
                  <a:pt x="6" y="186"/>
                </a:lnTo>
                <a:lnTo>
                  <a:pt x="9" y="185"/>
                </a:lnTo>
                <a:lnTo>
                  <a:pt x="11" y="175"/>
                </a:lnTo>
                <a:lnTo>
                  <a:pt x="6" y="160"/>
                </a:lnTo>
                <a:lnTo>
                  <a:pt x="6" y="155"/>
                </a:lnTo>
                <a:lnTo>
                  <a:pt x="6" y="144"/>
                </a:lnTo>
                <a:lnTo>
                  <a:pt x="6" y="127"/>
                </a:lnTo>
                <a:lnTo>
                  <a:pt x="6" y="125"/>
                </a:lnTo>
                <a:lnTo>
                  <a:pt x="6" y="102"/>
                </a:lnTo>
                <a:lnTo>
                  <a:pt x="6" y="72"/>
                </a:lnTo>
                <a:lnTo>
                  <a:pt x="9" y="53"/>
                </a:lnTo>
                <a:lnTo>
                  <a:pt x="6" y="40"/>
                </a:lnTo>
                <a:lnTo>
                  <a:pt x="3" y="25"/>
                </a:lnTo>
                <a:lnTo>
                  <a:pt x="6" y="21"/>
                </a:lnTo>
                <a:lnTo>
                  <a:pt x="3" y="7"/>
                </a:lnTo>
                <a:lnTo>
                  <a:pt x="5" y="0"/>
                </a:lnTo>
                <a:lnTo>
                  <a:pt x="417" y="15"/>
                </a:lnTo>
                <a:lnTo>
                  <a:pt x="415" y="7"/>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Freeform 177"/>
          <p:cNvSpPr/>
          <p:nvPr/>
        </p:nvSpPr>
        <p:spPr>
          <a:xfrm>
            <a:off x="4351320" y="3838680"/>
            <a:ext cx="681120" cy="706320"/>
          </a:xfrm>
          <a:custGeom>
            <a:avLst/>
            <a:gdLst>
              <a:gd name="textAreaLeft" fmla="*/ 0 w 681120"/>
              <a:gd name="textAreaRight" fmla="*/ 681480 w 681120"/>
              <a:gd name="textAreaTop" fmla="*/ 0 h 706320"/>
              <a:gd name="textAreaBottom" fmla="*/ 706680 h 706320"/>
            </a:gdLst>
            <a:ahLst/>
            <a:rect l="textAreaLeft" t="textAreaTop" r="textAreaRight" b="textAreaBottom"/>
            <a:pathLst>
              <a:path w="423" h="580">
                <a:moveTo>
                  <a:pt x="370" y="0"/>
                </a:moveTo>
                <a:lnTo>
                  <a:pt x="360" y="21"/>
                </a:lnTo>
                <a:lnTo>
                  <a:pt x="369" y="30"/>
                </a:lnTo>
                <a:lnTo>
                  <a:pt x="360" y="40"/>
                </a:lnTo>
                <a:lnTo>
                  <a:pt x="366" y="64"/>
                </a:lnTo>
                <a:lnTo>
                  <a:pt x="392" y="77"/>
                </a:lnTo>
                <a:lnTo>
                  <a:pt x="374" y="77"/>
                </a:lnTo>
                <a:lnTo>
                  <a:pt x="360" y="94"/>
                </a:lnTo>
                <a:lnTo>
                  <a:pt x="376" y="103"/>
                </a:lnTo>
                <a:lnTo>
                  <a:pt x="370" y="112"/>
                </a:lnTo>
                <a:lnTo>
                  <a:pt x="371" y="128"/>
                </a:lnTo>
                <a:lnTo>
                  <a:pt x="360" y="152"/>
                </a:lnTo>
                <a:lnTo>
                  <a:pt x="369" y="162"/>
                </a:lnTo>
                <a:lnTo>
                  <a:pt x="386" y="178"/>
                </a:lnTo>
                <a:lnTo>
                  <a:pt x="372" y="184"/>
                </a:lnTo>
                <a:lnTo>
                  <a:pt x="360" y="198"/>
                </a:lnTo>
                <a:lnTo>
                  <a:pt x="399" y="207"/>
                </a:lnTo>
                <a:lnTo>
                  <a:pt x="370" y="222"/>
                </a:lnTo>
                <a:lnTo>
                  <a:pt x="360" y="232"/>
                </a:lnTo>
                <a:lnTo>
                  <a:pt x="348" y="247"/>
                </a:lnTo>
                <a:lnTo>
                  <a:pt x="366" y="256"/>
                </a:lnTo>
                <a:lnTo>
                  <a:pt x="359" y="262"/>
                </a:lnTo>
                <a:lnTo>
                  <a:pt x="362" y="287"/>
                </a:lnTo>
                <a:lnTo>
                  <a:pt x="354" y="297"/>
                </a:lnTo>
                <a:lnTo>
                  <a:pt x="360" y="311"/>
                </a:lnTo>
                <a:lnTo>
                  <a:pt x="360" y="321"/>
                </a:lnTo>
                <a:lnTo>
                  <a:pt x="374" y="333"/>
                </a:lnTo>
                <a:lnTo>
                  <a:pt x="405" y="351"/>
                </a:lnTo>
                <a:lnTo>
                  <a:pt x="392" y="358"/>
                </a:lnTo>
                <a:lnTo>
                  <a:pt x="395" y="366"/>
                </a:lnTo>
                <a:lnTo>
                  <a:pt x="376" y="375"/>
                </a:lnTo>
                <a:lnTo>
                  <a:pt x="383" y="381"/>
                </a:lnTo>
                <a:lnTo>
                  <a:pt x="379" y="385"/>
                </a:lnTo>
                <a:lnTo>
                  <a:pt x="386" y="387"/>
                </a:lnTo>
                <a:lnTo>
                  <a:pt x="374" y="401"/>
                </a:lnTo>
                <a:lnTo>
                  <a:pt x="380" y="417"/>
                </a:lnTo>
                <a:lnTo>
                  <a:pt x="378" y="431"/>
                </a:lnTo>
                <a:lnTo>
                  <a:pt x="365" y="437"/>
                </a:lnTo>
                <a:lnTo>
                  <a:pt x="369" y="446"/>
                </a:lnTo>
                <a:lnTo>
                  <a:pt x="354" y="469"/>
                </a:lnTo>
                <a:lnTo>
                  <a:pt x="370" y="474"/>
                </a:lnTo>
                <a:lnTo>
                  <a:pt x="385" y="489"/>
                </a:lnTo>
                <a:lnTo>
                  <a:pt x="360" y="509"/>
                </a:lnTo>
                <a:lnTo>
                  <a:pt x="378" y="514"/>
                </a:lnTo>
                <a:lnTo>
                  <a:pt x="392" y="539"/>
                </a:lnTo>
                <a:lnTo>
                  <a:pt x="423" y="545"/>
                </a:lnTo>
                <a:lnTo>
                  <a:pt x="403" y="559"/>
                </a:lnTo>
                <a:lnTo>
                  <a:pt x="404" y="568"/>
                </a:lnTo>
                <a:lnTo>
                  <a:pt x="423" y="580"/>
                </a:lnTo>
                <a:lnTo>
                  <a:pt x="7" y="568"/>
                </a:lnTo>
                <a:lnTo>
                  <a:pt x="13" y="551"/>
                </a:lnTo>
                <a:lnTo>
                  <a:pt x="15" y="539"/>
                </a:lnTo>
                <a:lnTo>
                  <a:pt x="13" y="528"/>
                </a:lnTo>
                <a:lnTo>
                  <a:pt x="16" y="520"/>
                </a:lnTo>
                <a:lnTo>
                  <a:pt x="15" y="509"/>
                </a:lnTo>
                <a:lnTo>
                  <a:pt x="24" y="489"/>
                </a:lnTo>
                <a:lnTo>
                  <a:pt x="10" y="464"/>
                </a:lnTo>
                <a:lnTo>
                  <a:pt x="10" y="449"/>
                </a:lnTo>
                <a:lnTo>
                  <a:pt x="7" y="424"/>
                </a:lnTo>
                <a:lnTo>
                  <a:pt x="10" y="411"/>
                </a:lnTo>
                <a:lnTo>
                  <a:pt x="13" y="401"/>
                </a:lnTo>
                <a:lnTo>
                  <a:pt x="4" y="365"/>
                </a:lnTo>
                <a:lnTo>
                  <a:pt x="7" y="343"/>
                </a:lnTo>
                <a:lnTo>
                  <a:pt x="10" y="342"/>
                </a:lnTo>
                <a:lnTo>
                  <a:pt x="15" y="330"/>
                </a:lnTo>
                <a:lnTo>
                  <a:pt x="10" y="303"/>
                </a:lnTo>
                <a:lnTo>
                  <a:pt x="15" y="288"/>
                </a:lnTo>
                <a:lnTo>
                  <a:pt x="15" y="277"/>
                </a:lnTo>
                <a:lnTo>
                  <a:pt x="16" y="262"/>
                </a:lnTo>
                <a:lnTo>
                  <a:pt x="16" y="241"/>
                </a:lnTo>
                <a:lnTo>
                  <a:pt x="16" y="227"/>
                </a:lnTo>
                <a:lnTo>
                  <a:pt x="13" y="214"/>
                </a:lnTo>
                <a:lnTo>
                  <a:pt x="10" y="198"/>
                </a:lnTo>
                <a:lnTo>
                  <a:pt x="10" y="191"/>
                </a:lnTo>
                <a:lnTo>
                  <a:pt x="10" y="174"/>
                </a:lnTo>
                <a:lnTo>
                  <a:pt x="4" y="162"/>
                </a:lnTo>
                <a:lnTo>
                  <a:pt x="7" y="144"/>
                </a:lnTo>
                <a:lnTo>
                  <a:pt x="4" y="128"/>
                </a:lnTo>
                <a:lnTo>
                  <a:pt x="4" y="122"/>
                </a:lnTo>
                <a:lnTo>
                  <a:pt x="0" y="108"/>
                </a:lnTo>
                <a:lnTo>
                  <a:pt x="7" y="98"/>
                </a:lnTo>
                <a:lnTo>
                  <a:pt x="7" y="85"/>
                </a:lnTo>
                <a:lnTo>
                  <a:pt x="13" y="72"/>
                </a:lnTo>
                <a:lnTo>
                  <a:pt x="7" y="69"/>
                </a:lnTo>
                <a:lnTo>
                  <a:pt x="9" y="55"/>
                </a:lnTo>
                <a:lnTo>
                  <a:pt x="10" y="40"/>
                </a:lnTo>
                <a:lnTo>
                  <a:pt x="11" y="30"/>
                </a:lnTo>
                <a:lnTo>
                  <a:pt x="13" y="19"/>
                </a:lnTo>
                <a:lnTo>
                  <a:pt x="13" y="6"/>
                </a:lnTo>
                <a:lnTo>
                  <a:pt x="369" y="0"/>
                </a:lnTo>
                <a:lnTo>
                  <a:pt x="370"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Freeform 178"/>
          <p:cNvSpPr/>
          <p:nvPr/>
        </p:nvSpPr>
        <p:spPr>
          <a:xfrm>
            <a:off x="4363920" y="3157560"/>
            <a:ext cx="635040" cy="685800"/>
          </a:xfrm>
          <a:custGeom>
            <a:avLst/>
            <a:gdLst>
              <a:gd name="textAreaLeft" fmla="*/ 0 w 635040"/>
              <a:gd name="textAreaRight" fmla="*/ 635400 w 635040"/>
              <a:gd name="textAreaTop" fmla="*/ 0 h 685800"/>
              <a:gd name="textAreaBottom" fmla="*/ 686160 h 685800"/>
            </a:gdLst>
            <a:ahLst/>
            <a:rect l="textAreaLeft" t="textAreaTop" r="textAreaRight" b="textAreaBottom"/>
            <a:pathLst>
              <a:path w="391" h="565">
                <a:moveTo>
                  <a:pt x="375" y="2"/>
                </a:moveTo>
                <a:lnTo>
                  <a:pt x="376" y="8"/>
                </a:lnTo>
                <a:lnTo>
                  <a:pt x="368" y="22"/>
                </a:lnTo>
                <a:lnTo>
                  <a:pt x="382" y="37"/>
                </a:lnTo>
                <a:lnTo>
                  <a:pt x="370" y="46"/>
                </a:lnTo>
                <a:lnTo>
                  <a:pt x="373" y="46"/>
                </a:lnTo>
                <a:lnTo>
                  <a:pt x="356" y="74"/>
                </a:lnTo>
                <a:lnTo>
                  <a:pt x="378" y="81"/>
                </a:lnTo>
                <a:lnTo>
                  <a:pt x="374" y="84"/>
                </a:lnTo>
                <a:lnTo>
                  <a:pt x="391" y="102"/>
                </a:lnTo>
                <a:lnTo>
                  <a:pt x="370" y="118"/>
                </a:lnTo>
                <a:lnTo>
                  <a:pt x="359" y="133"/>
                </a:lnTo>
                <a:lnTo>
                  <a:pt x="365" y="147"/>
                </a:lnTo>
                <a:lnTo>
                  <a:pt x="355" y="160"/>
                </a:lnTo>
                <a:lnTo>
                  <a:pt x="350" y="176"/>
                </a:lnTo>
                <a:lnTo>
                  <a:pt x="365" y="190"/>
                </a:lnTo>
                <a:lnTo>
                  <a:pt x="350" y="212"/>
                </a:lnTo>
                <a:lnTo>
                  <a:pt x="356" y="232"/>
                </a:lnTo>
                <a:lnTo>
                  <a:pt x="344" y="252"/>
                </a:lnTo>
                <a:lnTo>
                  <a:pt x="349" y="257"/>
                </a:lnTo>
                <a:lnTo>
                  <a:pt x="361" y="270"/>
                </a:lnTo>
                <a:lnTo>
                  <a:pt x="338" y="287"/>
                </a:lnTo>
                <a:lnTo>
                  <a:pt x="359" y="297"/>
                </a:lnTo>
                <a:lnTo>
                  <a:pt x="344" y="304"/>
                </a:lnTo>
                <a:lnTo>
                  <a:pt x="344" y="320"/>
                </a:lnTo>
                <a:lnTo>
                  <a:pt x="362" y="329"/>
                </a:lnTo>
                <a:lnTo>
                  <a:pt x="347" y="349"/>
                </a:lnTo>
                <a:lnTo>
                  <a:pt x="359" y="365"/>
                </a:lnTo>
                <a:lnTo>
                  <a:pt x="350" y="386"/>
                </a:lnTo>
                <a:lnTo>
                  <a:pt x="342" y="408"/>
                </a:lnTo>
                <a:lnTo>
                  <a:pt x="368" y="426"/>
                </a:lnTo>
                <a:lnTo>
                  <a:pt x="359" y="439"/>
                </a:lnTo>
                <a:lnTo>
                  <a:pt x="349" y="464"/>
                </a:lnTo>
                <a:lnTo>
                  <a:pt x="360" y="488"/>
                </a:lnTo>
                <a:lnTo>
                  <a:pt x="352" y="494"/>
                </a:lnTo>
                <a:lnTo>
                  <a:pt x="359" y="504"/>
                </a:lnTo>
                <a:lnTo>
                  <a:pt x="341" y="510"/>
                </a:lnTo>
                <a:lnTo>
                  <a:pt x="338" y="528"/>
                </a:lnTo>
                <a:lnTo>
                  <a:pt x="349" y="540"/>
                </a:lnTo>
                <a:lnTo>
                  <a:pt x="344" y="548"/>
                </a:lnTo>
                <a:lnTo>
                  <a:pt x="360" y="559"/>
                </a:lnTo>
                <a:lnTo>
                  <a:pt x="5" y="565"/>
                </a:lnTo>
                <a:lnTo>
                  <a:pt x="6" y="555"/>
                </a:lnTo>
                <a:lnTo>
                  <a:pt x="12" y="543"/>
                </a:lnTo>
                <a:lnTo>
                  <a:pt x="7" y="525"/>
                </a:lnTo>
                <a:lnTo>
                  <a:pt x="11" y="510"/>
                </a:lnTo>
                <a:lnTo>
                  <a:pt x="8" y="494"/>
                </a:lnTo>
                <a:lnTo>
                  <a:pt x="11" y="476"/>
                </a:lnTo>
                <a:lnTo>
                  <a:pt x="6" y="464"/>
                </a:lnTo>
                <a:lnTo>
                  <a:pt x="12" y="450"/>
                </a:lnTo>
                <a:lnTo>
                  <a:pt x="5" y="429"/>
                </a:lnTo>
                <a:lnTo>
                  <a:pt x="5" y="416"/>
                </a:lnTo>
                <a:lnTo>
                  <a:pt x="6" y="405"/>
                </a:lnTo>
                <a:lnTo>
                  <a:pt x="6" y="395"/>
                </a:lnTo>
                <a:lnTo>
                  <a:pt x="3" y="382"/>
                </a:lnTo>
                <a:lnTo>
                  <a:pt x="3" y="356"/>
                </a:lnTo>
                <a:lnTo>
                  <a:pt x="0" y="349"/>
                </a:lnTo>
                <a:lnTo>
                  <a:pt x="7" y="340"/>
                </a:lnTo>
                <a:lnTo>
                  <a:pt x="0" y="312"/>
                </a:lnTo>
                <a:lnTo>
                  <a:pt x="8" y="301"/>
                </a:lnTo>
                <a:lnTo>
                  <a:pt x="6" y="277"/>
                </a:lnTo>
                <a:lnTo>
                  <a:pt x="5" y="262"/>
                </a:lnTo>
                <a:lnTo>
                  <a:pt x="7" y="251"/>
                </a:lnTo>
                <a:lnTo>
                  <a:pt x="6" y="231"/>
                </a:lnTo>
                <a:lnTo>
                  <a:pt x="12" y="222"/>
                </a:lnTo>
                <a:lnTo>
                  <a:pt x="0" y="208"/>
                </a:lnTo>
                <a:lnTo>
                  <a:pt x="0" y="186"/>
                </a:lnTo>
                <a:lnTo>
                  <a:pt x="5" y="173"/>
                </a:lnTo>
                <a:lnTo>
                  <a:pt x="0" y="151"/>
                </a:lnTo>
                <a:lnTo>
                  <a:pt x="6" y="151"/>
                </a:lnTo>
                <a:lnTo>
                  <a:pt x="8" y="136"/>
                </a:lnTo>
                <a:lnTo>
                  <a:pt x="6" y="134"/>
                </a:lnTo>
                <a:lnTo>
                  <a:pt x="5" y="109"/>
                </a:lnTo>
                <a:lnTo>
                  <a:pt x="13" y="94"/>
                </a:lnTo>
                <a:lnTo>
                  <a:pt x="6" y="84"/>
                </a:lnTo>
                <a:lnTo>
                  <a:pt x="8" y="71"/>
                </a:lnTo>
                <a:lnTo>
                  <a:pt x="5" y="56"/>
                </a:lnTo>
                <a:lnTo>
                  <a:pt x="5" y="25"/>
                </a:lnTo>
                <a:lnTo>
                  <a:pt x="5" y="2"/>
                </a:lnTo>
                <a:lnTo>
                  <a:pt x="375" y="0"/>
                </a:lnTo>
                <a:lnTo>
                  <a:pt x="375" y="2"/>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Freeform 179"/>
          <p:cNvSpPr/>
          <p:nvPr/>
        </p:nvSpPr>
        <p:spPr>
          <a:xfrm>
            <a:off x="4359240" y="2944800"/>
            <a:ext cx="693720" cy="212760"/>
          </a:xfrm>
          <a:custGeom>
            <a:avLst/>
            <a:gdLst>
              <a:gd name="textAreaLeft" fmla="*/ 0 w 693720"/>
              <a:gd name="textAreaRight" fmla="*/ 694080 w 693720"/>
              <a:gd name="textAreaTop" fmla="*/ 0 h 212760"/>
              <a:gd name="textAreaBottom" fmla="*/ 213120 h 212760"/>
            </a:gdLst>
            <a:ahLst/>
            <a:rect l="textAreaLeft" t="textAreaTop" r="textAreaRight" b="textAreaBottom"/>
            <a:pathLst>
              <a:path w="431" h="177">
                <a:moveTo>
                  <a:pt x="331" y="13"/>
                </a:moveTo>
                <a:lnTo>
                  <a:pt x="329" y="13"/>
                </a:lnTo>
                <a:lnTo>
                  <a:pt x="365" y="13"/>
                </a:lnTo>
                <a:lnTo>
                  <a:pt x="331" y="35"/>
                </a:lnTo>
                <a:lnTo>
                  <a:pt x="368" y="40"/>
                </a:lnTo>
                <a:lnTo>
                  <a:pt x="392" y="44"/>
                </a:lnTo>
                <a:lnTo>
                  <a:pt x="413" y="63"/>
                </a:lnTo>
                <a:lnTo>
                  <a:pt x="410" y="78"/>
                </a:lnTo>
                <a:lnTo>
                  <a:pt x="431" y="85"/>
                </a:lnTo>
                <a:lnTo>
                  <a:pt x="422" y="91"/>
                </a:lnTo>
                <a:lnTo>
                  <a:pt x="423" y="124"/>
                </a:lnTo>
                <a:lnTo>
                  <a:pt x="419" y="133"/>
                </a:lnTo>
                <a:lnTo>
                  <a:pt x="426" y="143"/>
                </a:lnTo>
                <a:lnTo>
                  <a:pt x="416" y="143"/>
                </a:lnTo>
                <a:lnTo>
                  <a:pt x="417" y="164"/>
                </a:lnTo>
                <a:lnTo>
                  <a:pt x="380" y="175"/>
                </a:lnTo>
                <a:lnTo>
                  <a:pt x="11" y="177"/>
                </a:lnTo>
                <a:lnTo>
                  <a:pt x="3" y="157"/>
                </a:lnTo>
                <a:lnTo>
                  <a:pt x="6" y="143"/>
                </a:lnTo>
                <a:lnTo>
                  <a:pt x="6" y="132"/>
                </a:lnTo>
                <a:lnTo>
                  <a:pt x="7" y="108"/>
                </a:lnTo>
                <a:lnTo>
                  <a:pt x="0" y="85"/>
                </a:lnTo>
                <a:lnTo>
                  <a:pt x="7" y="74"/>
                </a:lnTo>
                <a:lnTo>
                  <a:pt x="12" y="70"/>
                </a:lnTo>
                <a:lnTo>
                  <a:pt x="11" y="53"/>
                </a:lnTo>
                <a:lnTo>
                  <a:pt x="14" y="35"/>
                </a:lnTo>
                <a:lnTo>
                  <a:pt x="19" y="21"/>
                </a:lnTo>
                <a:lnTo>
                  <a:pt x="19" y="4"/>
                </a:lnTo>
                <a:lnTo>
                  <a:pt x="36" y="0"/>
                </a:lnTo>
                <a:lnTo>
                  <a:pt x="327" y="10"/>
                </a:lnTo>
                <a:lnTo>
                  <a:pt x="331" y="13"/>
                </a:lnTo>
                <a:close/>
              </a:path>
            </a:pathLst>
          </a:custGeom>
          <a:solidFill>
            <a:srgbClr val="0000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Rectangle 180"/>
          <p:cNvSpPr/>
          <p:nvPr/>
        </p:nvSpPr>
        <p:spPr>
          <a:xfrm>
            <a:off x="4381560" y="2943360"/>
            <a:ext cx="6318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5" name="Rectangle 181"/>
          <p:cNvSpPr/>
          <p:nvPr/>
        </p:nvSpPr>
        <p:spPr>
          <a:xfrm>
            <a:off x="4381560" y="2924280"/>
            <a:ext cx="631800" cy="19080"/>
          </a:xfrm>
          <a:prstGeom prst="rect">
            <a:avLst/>
          </a:prstGeom>
          <a:solidFill>
            <a:srgbClr val="fffffb"/>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6" name="Rectangle 182"/>
          <p:cNvSpPr/>
          <p:nvPr/>
        </p:nvSpPr>
        <p:spPr>
          <a:xfrm>
            <a:off x="4381560" y="2911320"/>
            <a:ext cx="631800" cy="12960"/>
          </a:xfrm>
          <a:prstGeom prst="rect">
            <a:avLst/>
          </a:prstGeom>
          <a:solidFill>
            <a:srgbClr val="fffff6"/>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7" name="Rectangle 183"/>
          <p:cNvSpPr/>
          <p:nvPr/>
        </p:nvSpPr>
        <p:spPr>
          <a:xfrm>
            <a:off x="4381560" y="2892600"/>
            <a:ext cx="631800" cy="18720"/>
          </a:xfrm>
          <a:prstGeom prst="rect">
            <a:avLst/>
          </a:prstGeom>
          <a:solidFill>
            <a:srgbClr val="fffff2"/>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8" name="Rectangle 184"/>
          <p:cNvSpPr/>
          <p:nvPr/>
        </p:nvSpPr>
        <p:spPr>
          <a:xfrm>
            <a:off x="4381560" y="2876400"/>
            <a:ext cx="631800" cy="16200"/>
          </a:xfrm>
          <a:prstGeom prst="rect">
            <a:avLst/>
          </a:prstGeom>
          <a:solidFill>
            <a:srgbClr val="ffffee"/>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9" name="Rectangle 185"/>
          <p:cNvSpPr/>
          <p:nvPr/>
        </p:nvSpPr>
        <p:spPr>
          <a:xfrm>
            <a:off x="4381560" y="2843280"/>
            <a:ext cx="631800" cy="20520"/>
          </a:xfrm>
          <a:prstGeom prst="rect">
            <a:avLst/>
          </a:prstGeom>
          <a:solidFill>
            <a:srgbClr val="ffffe5"/>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0" name="Rectangle 186"/>
          <p:cNvSpPr/>
          <p:nvPr/>
        </p:nvSpPr>
        <p:spPr>
          <a:xfrm>
            <a:off x="4381560" y="2828880"/>
            <a:ext cx="631800" cy="14400"/>
          </a:xfrm>
          <a:prstGeom prst="rect">
            <a:avLst/>
          </a:prstGeom>
          <a:solidFill>
            <a:srgbClr val="ffffe1"/>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1" name="Rectangle 187"/>
          <p:cNvSpPr/>
          <p:nvPr/>
        </p:nvSpPr>
        <p:spPr>
          <a:xfrm>
            <a:off x="4381560" y="2798640"/>
            <a:ext cx="631800" cy="15840"/>
          </a:xfrm>
          <a:prstGeom prst="rect">
            <a:avLst/>
          </a:prstGeom>
          <a:solidFill>
            <a:srgbClr val="ffffd8"/>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2" name="Rectangle 188"/>
          <p:cNvSpPr/>
          <p:nvPr/>
        </p:nvSpPr>
        <p:spPr>
          <a:xfrm>
            <a:off x="4381560" y="2782800"/>
            <a:ext cx="631800" cy="15840"/>
          </a:xfrm>
          <a:prstGeom prst="rect">
            <a:avLst/>
          </a:prstGeom>
          <a:solidFill>
            <a:srgbClr val="ffffd3"/>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3" name="Rectangle 189"/>
          <p:cNvSpPr/>
          <p:nvPr/>
        </p:nvSpPr>
        <p:spPr>
          <a:xfrm>
            <a:off x="4381560" y="2766960"/>
            <a:ext cx="631800" cy="15840"/>
          </a:xfrm>
          <a:prstGeom prst="rect">
            <a:avLst/>
          </a:prstGeom>
          <a:solidFill>
            <a:srgbClr val="ffffcf"/>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4" name="Rectangle 190"/>
          <p:cNvSpPr/>
          <p:nvPr/>
        </p:nvSpPr>
        <p:spPr>
          <a:xfrm>
            <a:off x="4381560" y="2751120"/>
            <a:ext cx="631800" cy="15840"/>
          </a:xfrm>
          <a:prstGeom prst="rect">
            <a:avLst/>
          </a:prstGeom>
          <a:solidFill>
            <a:srgbClr val="ffffcb"/>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5" name="Rectangle 191"/>
          <p:cNvSpPr/>
          <p:nvPr/>
        </p:nvSpPr>
        <p:spPr>
          <a:xfrm>
            <a:off x="4381560" y="2735280"/>
            <a:ext cx="631800" cy="15840"/>
          </a:xfrm>
          <a:prstGeom prst="rect">
            <a:avLst/>
          </a:prstGeom>
          <a:solidFill>
            <a:srgbClr val="ffffc6"/>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6" name="Rectangle 192"/>
          <p:cNvSpPr/>
          <p:nvPr/>
        </p:nvSpPr>
        <p:spPr>
          <a:xfrm>
            <a:off x="4381560" y="2717640"/>
            <a:ext cx="631800" cy="17640"/>
          </a:xfrm>
          <a:prstGeom prst="rect">
            <a:avLst/>
          </a:prstGeom>
          <a:solidFill>
            <a:srgbClr val="ffffc2"/>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7" name="Freeform 193"/>
          <p:cNvSpPr/>
          <p:nvPr/>
        </p:nvSpPr>
        <p:spPr>
          <a:xfrm>
            <a:off x="4381560" y="2717640"/>
            <a:ext cx="631800" cy="238320"/>
          </a:xfrm>
          <a:custGeom>
            <a:avLst/>
            <a:gdLst>
              <a:gd name="textAreaLeft" fmla="*/ 0 w 631800"/>
              <a:gd name="textAreaRight" fmla="*/ 632160 w 631800"/>
              <a:gd name="textAreaTop" fmla="*/ 0 h 238320"/>
              <a:gd name="textAreaBottom" fmla="*/ 238680 h 238320"/>
            </a:gdLst>
            <a:ahLst/>
            <a:rect l="textAreaLeft" t="textAreaTop" r="textAreaRight" b="textAreaBottom"/>
            <a:pathLst>
              <a:path w="389" h="195">
                <a:moveTo>
                  <a:pt x="19" y="184"/>
                </a:moveTo>
                <a:lnTo>
                  <a:pt x="7" y="174"/>
                </a:lnTo>
                <a:lnTo>
                  <a:pt x="14" y="166"/>
                </a:lnTo>
                <a:lnTo>
                  <a:pt x="12" y="156"/>
                </a:lnTo>
                <a:lnTo>
                  <a:pt x="16" y="151"/>
                </a:lnTo>
                <a:lnTo>
                  <a:pt x="5" y="127"/>
                </a:lnTo>
                <a:lnTo>
                  <a:pt x="21" y="111"/>
                </a:lnTo>
                <a:lnTo>
                  <a:pt x="0" y="100"/>
                </a:lnTo>
                <a:lnTo>
                  <a:pt x="6" y="95"/>
                </a:lnTo>
                <a:lnTo>
                  <a:pt x="5" y="85"/>
                </a:lnTo>
                <a:lnTo>
                  <a:pt x="13" y="76"/>
                </a:lnTo>
                <a:lnTo>
                  <a:pt x="14" y="72"/>
                </a:lnTo>
                <a:lnTo>
                  <a:pt x="13" y="54"/>
                </a:lnTo>
                <a:lnTo>
                  <a:pt x="13" y="38"/>
                </a:lnTo>
                <a:lnTo>
                  <a:pt x="13" y="17"/>
                </a:lnTo>
                <a:lnTo>
                  <a:pt x="7" y="12"/>
                </a:lnTo>
                <a:lnTo>
                  <a:pt x="13" y="0"/>
                </a:lnTo>
                <a:lnTo>
                  <a:pt x="320" y="0"/>
                </a:lnTo>
                <a:lnTo>
                  <a:pt x="324" y="12"/>
                </a:lnTo>
                <a:lnTo>
                  <a:pt x="314" y="17"/>
                </a:lnTo>
                <a:lnTo>
                  <a:pt x="324" y="22"/>
                </a:lnTo>
                <a:lnTo>
                  <a:pt x="312" y="38"/>
                </a:lnTo>
                <a:lnTo>
                  <a:pt x="327" y="51"/>
                </a:lnTo>
                <a:lnTo>
                  <a:pt x="320" y="61"/>
                </a:lnTo>
                <a:lnTo>
                  <a:pt x="320" y="76"/>
                </a:lnTo>
                <a:lnTo>
                  <a:pt x="356" y="96"/>
                </a:lnTo>
                <a:lnTo>
                  <a:pt x="389" y="104"/>
                </a:lnTo>
                <a:lnTo>
                  <a:pt x="339" y="105"/>
                </a:lnTo>
                <a:lnTo>
                  <a:pt x="312" y="111"/>
                </a:lnTo>
                <a:lnTo>
                  <a:pt x="312" y="127"/>
                </a:lnTo>
                <a:lnTo>
                  <a:pt x="351" y="127"/>
                </a:lnTo>
                <a:lnTo>
                  <a:pt x="312" y="144"/>
                </a:lnTo>
                <a:lnTo>
                  <a:pt x="312" y="195"/>
                </a:lnTo>
                <a:lnTo>
                  <a:pt x="16" y="185"/>
                </a:lnTo>
                <a:lnTo>
                  <a:pt x="19"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Rectangle 194"/>
          <p:cNvSpPr/>
          <p:nvPr/>
        </p:nvSpPr>
        <p:spPr>
          <a:xfrm>
            <a:off x="4381560" y="2943360"/>
            <a:ext cx="6318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9" name="Rectangle 195"/>
          <p:cNvSpPr/>
          <p:nvPr/>
        </p:nvSpPr>
        <p:spPr>
          <a:xfrm>
            <a:off x="4381560" y="2924280"/>
            <a:ext cx="631800" cy="19080"/>
          </a:xfrm>
          <a:prstGeom prst="rect">
            <a:avLst/>
          </a:prstGeom>
          <a:solidFill>
            <a:srgbClr val="fffffb"/>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0" name="Rectangle 196"/>
          <p:cNvSpPr/>
          <p:nvPr/>
        </p:nvSpPr>
        <p:spPr>
          <a:xfrm>
            <a:off x="4381560" y="2911320"/>
            <a:ext cx="631800" cy="12960"/>
          </a:xfrm>
          <a:prstGeom prst="rect">
            <a:avLst/>
          </a:prstGeom>
          <a:solidFill>
            <a:srgbClr val="fffff6"/>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1" name="Rectangle 197"/>
          <p:cNvSpPr/>
          <p:nvPr/>
        </p:nvSpPr>
        <p:spPr>
          <a:xfrm>
            <a:off x="4381560" y="2892600"/>
            <a:ext cx="631800" cy="18720"/>
          </a:xfrm>
          <a:prstGeom prst="rect">
            <a:avLst/>
          </a:prstGeom>
          <a:solidFill>
            <a:srgbClr val="fffff2"/>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2" name="Rectangle 198"/>
          <p:cNvSpPr/>
          <p:nvPr/>
        </p:nvSpPr>
        <p:spPr>
          <a:xfrm>
            <a:off x="4381560" y="2876400"/>
            <a:ext cx="631800" cy="16200"/>
          </a:xfrm>
          <a:prstGeom prst="rect">
            <a:avLst/>
          </a:prstGeom>
          <a:solidFill>
            <a:srgbClr val="ffffee"/>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3" name="Rectangle 199"/>
          <p:cNvSpPr/>
          <p:nvPr/>
        </p:nvSpPr>
        <p:spPr>
          <a:xfrm>
            <a:off x="4381560" y="2843280"/>
            <a:ext cx="633240" cy="20520"/>
          </a:xfrm>
          <a:prstGeom prst="rect">
            <a:avLst/>
          </a:prstGeom>
          <a:solidFill>
            <a:srgbClr val="ffffe5"/>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4" name="Rectangle 200"/>
          <p:cNvSpPr/>
          <p:nvPr/>
        </p:nvSpPr>
        <p:spPr>
          <a:xfrm>
            <a:off x="4381560" y="2830680"/>
            <a:ext cx="633240" cy="12600"/>
          </a:xfrm>
          <a:prstGeom prst="rect">
            <a:avLst/>
          </a:prstGeom>
          <a:solidFill>
            <a:srgbClr val="ffffe1"/>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5" name="Rectangle 201"/>
          <p:cNvSpPr/>
          <p:nvPr/>
        </p:nvSpPr>
        <p:spPr>
          <a:xfrm>
            <a:off x="4381560" y="2784600"/>
            <a:ext cx="633240" cy="14040"/>
          </a:xfrm>
          <a:prstGeom prst="rect">
            <a:avLst/>
          </a:prstGeom>
          <a:solidFill>
            <a:srgbClr val="ffffd3"/>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6" name="Rectangle 202"/>
          <p:cNvSpPr/>
          <p:nvPr/>
        </p:nvSpPr>
        <p:spPr>
          <a:xfrm>
            <a:off x="4381560" y="2768760"/>
            <a:ext cx="633240" cy="15840"/>
          </a:xfrm>
          <a:prstGeom prst="rect">
            <a:avLst/>
          </a:prstGeom>
          <a:solidFill>
            <a:srgbClr val="ffffcf"/>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7" name="Rectangle 203"/>
          <p:cNvSpPr/>
          <p:nvPr/>
        </p:nvSpPr>
        <p:spPr>
          <a:xfrm>
            <a:off x="4381560" y="2751120"/>
            <a:ext cx="633240" cy="17640"/>
          </a:xfrm>
          <a:prstGeom prst="rect">
            <a:avLst/>
          </a:prstGeom>
          <a:solidFill>
            <a:srgbClr val="ffffcb"/>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8" name="Rectangle 204"/>
          <p:cNvSpPr/>
          <p:nvPr/>
        </p:nvSpPr>
        <p:spPr>
          <a:xfrm>
            <a:off x="4381560" y="2735280"/>
            <a:ext cx="633240" cy="15840"/>
          </a:xfrm>
          <a:prstGeom prst="rect">
            <a:avLst/>
          </a:prstGeom>
          <a:solidFill>
            <a:srgbClr val="ffffc6"/>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9" name="Freeform 205"/>
          <p:cNvSpPr/>
          <p:nvPr/>
        </p:nvSpPr>
        <p:spPr>
          <a:xfrm>
            <a:off x="4381560" y="2719440"/>
            <a:ext cx="633240" cy="239760"/>
          </a:xfrm>
          <a:custGeom>
            <a:avLst/>
            <a:gdLst>
              <a:gd name="textAreaLeft" fmla="*/ 0 w 633240"/>
              <a:gd name="textAreaRight" fmla="*/ 633600 w 633240"/>
              <a:gd name="textAreaTop" fmla="*/ 0 h 239760"/>
              <a:gd name="textAreaBottom" fmla="*/ 240120 h 239760"/>
            </a:gdLst>
            <a:ahLst/>
            <a:rect l="textAreaLeft" t="textAreaTop" r="textAreaRight" b="textAreaBottom"/>
            <a:pathLst>
              <a:path w="389" h="195">
                <a:moveTo>
                  <a:pt x="19" y="184"/>
                </a:moveTo>
                <a:lnTo>
                  <a:pt x="7" y="174"/>
                </a:lnTo>
                <a:lnTo>
                  <a:pt x="14" y="166"/>
                </a:lnTo>
                <a:lnTo>
                  <a:pt x="12" y="156"/>
                </a:lnTo>
                <a:lnTo>
                  <a:pt x="16" y="151"/>
                </a:lnTo>
                <a:lnTo>
                  <a:pt x="5" y="127"/>
                </a:lnTo>
                <a:lnTo>
                  <a:pt x="21" y="111"/>
                </a:lnTo>
                <a:lnTo>
                  <a:pt x="0" y="100"/>
                </a:lnTo>
                <a:lnTo>
                  <a:pt x="6" y="95"/>
                </a:lnTo>
                <a:lnTo>
                  <a:pt x="5" y="85"/>
                </a:lnTo>
                <a:lnTo>
                  <a:pt x="13" y="76"/>
                </a:lnTo>
                <a:lnTo>
                  <a:pt x="14" y="72"/>
                </a:lnTo>
                <a:lnTo>
                  <a:pt x="13" y="54"/>
                </a:lnTo>
                <a:lnTo>
                  <a:pt x="13" y="38"/>
                </a:lnTo>
                <a:lnTo>
                  <a:pt x="13" y="17"/>
                </a:lnTo>
                <a:lnTo>
                  <a:pt x="7" y="12"/>
                </a:lnTo>
                <a:lnTo>
                  <a:pt x="13" y="0"/>
                </a:lnTo>
                <a:lnTo>
                  <a:pt x="320" y="0"/>
                </a:lnTo>
                <a:lnTo>
                  <a:pt x="324" y="12"/>
                </a:lnTo>
                <a:lnTo>
                  <a:pt x="314" y="17"/>
                </a:lnTo>
                <a:lnTo>
                  <a:pt x="324" y="22"/>
                </a:lnTo>
                <a:lnTo>
                  <a:pt x="312" y="38"/>
                </a:lnTo>
                <a:lnTo>
                  <a:pt x="327" y="51"/>
                </a:lnTo>
                <a:lnTo>
                  <a:pt x="320" y="61"/>
                </a:lnTo>
                <a:lnTo>
                  <a:pt x="320" y="76"/>
                </a:lnTo>
                <a:lnTo>
                  <a:pt x="356" y="96"/>
                </a:lnTo>
                <a:lnTo>
                  <a:pt x="389" y="104"/>
                </a:lnTo>
                <a:lnTo>
                  <a:pt x="339" y="105"/>
                </a:lnTo>
                <a:lnTo>
                  <a:pt x="312" y="111"/>
                </a:lnTo>
                <a:lnTo>
                  <a:pt x="312" y="127"/>
                </a:lnTo>
                <a:lnTo>
                  <a:pt x="351" y="127"/>
                </a:lnTo>
                <a:lnTo>
                  <a:pt x="312" y="144"/>
                </a:lnTo>
                <a:lnTo>
                  <a:pt x="312" y="195"/>
                </a:lnTo>
                <a:lnTo>
                  <a:pt x="16" y="185"/>
                </a:lnTo>
                <a:lnTo>
                  <a:pt x="19" y="18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Freeform 206"/>
          <p:cNvSpPr/>
          <p:nvPr/>
        </p:nvSpPr>
        <p:spPr>
          <a:xfrm>
            <a:off x="4381560" y="2719440"/>
            <a:ext cx="633240" cy="239760"/>
          </a:xfrm>
          <a:custGeom>
            <a:avLst/>
            <a:gdLst>
              <a:gd name="textAreaLeft" fmla="*/ 0 w 633240"/>
              <a:gd name="textAreaRight" fmla="*/ 633600 w 633240"/>
              <a:gd name="textAreaTop" fmla="*/ 0 h 239760"/>
              <a:gd name="textAreaBottom" fmla="*/ 240120 h 239760"/>
            </a:gdLst>
            <a:ahLst/>
            <a:rect l="textAreaLeft" t="textAreaTop" r="textAreaRight" b="textAreaBottom"/>
            <a:pathLst>
              <a:path w="389" h="195">
                <a:moveTo>
                  <a:pt x="19" y="184"/>
                </a:moveTo>
                <a:lnTo>
                  <a:pt x="7" y="174"/>
                </a:lnTo>
                <a:lnTo>
                  <a:pt x="14" y="166"/>
                </a:lnTo>
                <a:lnTo>
                  <a:pt x="12" y="156"/>
                </a:lnTo>
                <a:lnTo>
                  <a:pt x="16" y="151"/>
                </a:lnTo>
                <a:lnTo>
                  <a:pt x="5" y="127"/>
                </a:lnTo>
                <a:lnTo>
                  <a:pt x="21" y="111"/>
                </a:lnTo>
                <a:lnTo>
                  <a:pt x="0" y="100"/>
                </a:lnTo>
                <a:lnTo>
                  <a:pt x="6" y="95"/>
                </a:lnTo>
                <a:lnTo>
                  <a:pt x="5" y="85"/>
                </a:lnTo>
                <a:lnTo>
                  <a:pt x="13" y="76"/>
                </a:lnTo>
                <a:lnTo>
                  <a:pt x="14" y="72"/>
                </a:lnTo>
                <a:lnTo>
                  <a:pt x="13" y="54"/>
                </a:lnTo>
                <a:lnTo>
                  <a:pt x="13" y="38"/>
                </a:lnTo>
                <a:lnTo>
                  <a:pt x="13" y="17"/>
                </a:lnTo>
                <a:lnTo>
                  <a:pt x="7" y="12"/>
                </a:lnTo>
                <a:lnTo>
                  <a:pt x="13" y="0"/>
                </a:lnTo>
                <a:lnTo>
                  <a:pt x="320" y="0"/>
                </a:lnTo>
                <a:lnTo>
                  <a:pt x="324" y="12"/>
                </a:lnTo>
                <a:lnTo>
                  <a:pt x="314" y="17"/>
                </a:lnTo>
                <a:lnTo>
                  <a:pt x="324" y="22"/>
                </a:lnTo>
                <a:lnTo>
                  <a:pt x="312" y="38"/>
                </a:lnTo>
                <a:lnTo>
                  <a:pt x="327" y="51"/>
                </a:lnTo>
                <a:lnTo>
                  <a:pt x="320" y="61"/>
                </a:lnTo>
                <a:lnTo>
                  <a:pt x="320" y="76"/>
                </a:lnTo>
                <a:lnTo>
                  <a:pt x="356" y="96"/>
                </a:lnTo>
                <a:lnTo>
                  <a:pt x="389" y="104"/>
                </a:lnTo>
                <a:lnTo>
                  <a:pt x="339" y="105"/>
                </a:lnTo>
                <a:lnTo>
                  <a:pt x="312" y="111"/>
                </a:lnTo>
                <a:lnTo>
                  <a:pt x="312" y="127"/>
                </a:lnTo>
                <a:lnTo>
                  <a:pt x="351" y="127"/>
                </a:lnTo>
                <a:lnTo>
                  <a:pt x="312" y="144"/>
                </a:lnTo>
                <a:lnTo>
                  <a:pt x="312" y="195"/>
                </a:lnTo>
                <a:lnTo>
                  <a:pt x="16" y="185"/>
                </a:lnTo>
                <a:lnTo>
                  <a:pt x="19" y="18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Line 207"/>
          <p:cNvSpPr/>
          <p:nvPr/>
        </p:nvSpPr>
        <p:spPr>
          <a:xfrm>
            <a:off x="4411800" y="2943360"/>
            <a:ext cx="2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Rectangle 208"/>
          <p:cNvSpPr/>
          <p:nvPr/>
        </p:nvSpPr>
        <p:spPr>
          <a:xfrm>
            <a:off x="4570560" y="2720880"/>
            <a:ext cx="77760" cy="354168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3" name="Freeform 209"/>
          <p:cNvSpPr/>
          <p:nvPr/>
        </p:nvSpPr>
        <p:spPr>
          <a:xfrm>
            <a:off x="5268960" y="4718160"/>
            <a:ext cx="730080" cy="1253880"/>
          </a:xfrm>
          <a:custGeom>
            <a:avLst/>
            <a:gdLst>
              <a:gd name="textAreaLeft" fmla="*/ 0 w 730080"/>
              <a:gd name="textAreaRight" fmla="*/ 730440 w 730080"/>
              <a:gd name="textAreaTop" fmla="*/ 0 h 1253880"/>
              <a:gd name="textAreaBottom" fmla="*/ 1254240 h 1253880"/>
            </a:gdLst>
            <a:ahLst/>
            <a:rect l="textAreaLeft" t="textAreaTop" r="textAreaRight" b="textAreaBottom"/>
            <a:pathLst>
              <a:path w="453" h="1031">
                <a:moveTo>
                  <a:pt x="405" y="22"/>
                </a:moveTo>
                <a:lnTo>
                  <a:pt x="420" y="53"/>
                </a:lnTo>
                <a:lnTo>
                  <a:pt x="429" y="69"/>
                </a:lnTo>
                <a:lnTo>
                  <a:pt x="418" y="83"/>
                </a:lnTo>
                <a:lnTo>
                  <a:pt x="410" y="94"/>
                </a:lnTo>
                <a:lnTo>
                  <a:pt x="405" y="103"/>
                </a:lnTo>
                <a:lnTo>
                  <a:pt x="410" y="118"/>
                </a:lnTo>
                <a:lnTo>
                  <a:pt x="405" y="134"/>
                </a:lnTo>
                <a:lnTo>
                  <a:pt x="414" y="149"/>
                </a:lnTo>
                <a:lnTo>
                  <a:pt x="410" y="165"/>
                </a:lnTo>
                <a:lnTo>
                  <a:pt x="401" y="173"/>
                </a:lnTo>
                <a:lnTo>
                  <a:pt x="408" y="188"/>
                </a:lnTo>
                <a:lnTo>
                  <a:pt x="405" y="209"/>
                </a:lnTo>
                <a:lnTo>
                  <a:pt x="405" y="222"/>
                </a:lnTo>
                <a:lnTo>
                  <a:pt x="405" y="239"/>
                </a:lnTo>
                <a:lnTo>
                  <a:pt x="426" y="261"/>
                </a:lnTo>
                <a:lnTo>
                  <a:pt x="410" y="269"/>
                </a:lnTo>
                <a:lnTo>
                  <a:pt x="407" y="286"/>
                </a:lnTo>
                <a:lnTo>
                  <a:pt x="425" y="299"/>
                </a:lnTo>
                <a:lnTo>
                  <a:pt x="437" y="311"/>
                </a:lnTo>
                <a:lnTo>
                  <a:pt x="433" y="313"/>
                </a:lnTo>
                <a:lnTo>
                  <a:pt x="442" y="324"/>
                </a:lnTo>
                <a:lnTo>
                  <a:pt x="425" y="349"/>
                </a:lnTo>
                <a:lnTo>
                  <a:pt x="442" y="362"/>
                </a:lnTo>
                <a:lnTo>
                  <a:pt x="434" y="366"/>
                </a:lnTo>
                <a:lnTo>
                  <a:pt x="437" y="380"/>
                </a:lnTo>
                <a:lnTo>
                  <a:pt x="418" y="391"/>
                </a:lnTo>
                <a:lnTo>
                  <a:pt x="435" y="405"/>
                </a:lnTo>
                <a:lnTo>
                  <a:pt x="444" y="423"/>
                </a:lnTo>
                <a:lnTo>
                  <a:pt x="434" y="435"/>
                </a:lnTo>
                <a:lnTo>
                  <a:pt x="442" y="436"/>
                </a:lnTo>
                <a:lnTo>
                  <a:pt x="425" y="451"/>
                </a:lnTo>
                <a:lnTo>
                  <a:pt x="420" y="470"/>
                </a:lnTo>
                <a:lnTo>
                  <a:pt x="410" y="490"/>
                </a:lnTo>
                <a:lnTo>
                  <a:pt x="416" y="506"/>
                </a:lnTo>
                <a:lnTo>
                  <a:pt x="428" y="531"/>
                </a:lnTo>
                <a:lnTo>
                  <a:pt x="453" y="549"/>
                </a:lnTo>
                <a:lnTo>
                  <a:pt x="445" y="562"/>
                </a:lnTo>
                <a:lnTo>
                  <a:pt x="437" y="575"/>
                </a:lnTo>
                <a:lnTo>
                  <a:pt x="418" y="597"/>
                </a:lnTo>
                <a:lnTo>
                  <a:pt x="410" y="608"/>
                </a:lnTo>
                <a:lnTo>
                  <a:pt x="410" y="621"/>
                </a:lnTo>
                <a:lnTo>
                  <a:pt x="420" y="638"/>
                </a:lnTo>
                <a:lnTo>
                  <a:pt x="417" y="661"/>
                </a:lnTo>
                <a:lnTo>
                  <a:pt x="407" y="670"/>
                </a:lnTo>
                <a:lnTo>
                  <a:pt x="410" y="683"/>
                </a:lnTo>
                <a:lnTo>
                  <a:pt x="410" y="714"/>
                </a:lnTo>
                <a:lnTo>
                  <a:pt x="422" y="734"/>
                </a:lnTo>
                <a:lnTo>
                  <a:pt x="412" y="752"/>
                </a:lnTo>
                <a:lnTo>
                  <a:pt x="410" y="757"/>
                </a:lnTo>
                <a:lnTo>
                  <a:pt x="405" y="779"/>
                </a:lnTo>
                <a:lnTo>
                  <a:pt x="412" y="794"/>
                </a:lnTo>
                <a:lnTo>
                  <a:pt x="407" y="818"/>
                </a:lnTo>
                <a:lnTo>
                  <a:pt x="410" y="820"/>
                </a:lnTo>
                <a:lnTo>
                  <a:pt x="405" y="844"/>
                </a:lnTo>
                <a:lnTo>
                  <a:pt x="416" y="862"/>
                </a:lnTo>
                <a:lnTo>
                  <a:pt x="417" y="876"/>
                </a:lnTo>
                <a:lnTo>
                  <a:pt x="405" y="878"/>
                </a:lnTo>
                <a:lnTo>
                  <a:pt x="405" y="899"/>
                </a:lnTo>
                <a:lnTo>
                  <a:pt x="416" y="917"/>
                </a:lnTo>
                <a:lnTo>
                  <a:pt x="412" y="923"/>
                </a:lnTo>
                <a:lnTo>
                  <a:pt x="424" y="954"/>
                </a:lnTo>
                <a:lnTo>
                  <a:pt x="417" y="963"/>
                </a:lnTo>
                <a:lnTo>
                  <a:pt x="420" y="966"/>
                </a:lnTo>
                <a:lnTo>
                  <a:pt x="416" y="975"/>
                </a:lnTo>
                <a:lnTo>
                  <a:pt x="424" y="986"/>
                </a:lnTo>
                <a:lnTo>
                  <a:pt x="430" y="1005"/>
                </a:lnTo>
                <a:lnTo>
                  <a:pt x="433" y="1013"/>
                </a:lnTo>
                <a:lnTo>
                  <a:pt x="437" y="1031"/>
                </a:lnTo>
                <a:lnTo>
                  <a:pt x="6" y="1021"/>
                </a:lnTo>
                <a:lnTo>
                  <a:pt x="8" y="996"/>
                </a:lnTo>
                <a:lnTo>
                  <a:pt x="6" y="986"/>
                </a:lnTo>
                <a:lnTo>
                  <a:pt x="4" y="968"/>
                </a:lnTo>
                <a:lnTo>
                  <a:pt x="8" y="954"/>
                </a:lnTo>
                <a:lnTo>
                  <a:pt x="8" y="922"/>
                </a:lnTo>
                <a:lnTo>
                  <a:pt x="14" y="893"/>
                </a:lnTo>
                <a:lnTo>
                  <a:pt x="8" y="887"/>
                </a:lnTo>
                <a:lnTo>
                  <a:pt x="9" y="869"/>
                </a:lnTo>
                <a:lnTo>
                  <a:pt x="4" y="846"/>
                </a:lnTo>
                <a:lnTo>
                  <a:pt x="8" y="830"/>
                </a:lnTo>
                <a:lnTo>
                  <a:pt x="4" y="805"/>
                </a:lnTo>
                <a:lnTo>
                  <a:pt x="6" y="794"/>
                </a:lnTo>
                <a:lnTo>
                  <a:pt x="0" y="779"/>
                </a:lnTo>
                <a:lnTo>
                  <a:pt x="0" y="767"/>
                </a:lnTo>
                <a:lnTo>
                  <a:pt x="6" y="750"/>
                </a:lnTo>
                <a:lnTo>
                  <a:pt x="9" y="727"/>
                </a:lnTo>
                <a:lnTo>
                  <a:pt x="4" y="710"/>
                </a:lnTo>
                <a:lnTo>
                  <a:pt x="8" y="679"/>
                </a:lnTo>
                <a:lnTo>
                  <a:pt x="21" y="663"/>
                </a:lnTo>
                <a:lnTo>
                  <a:pt x="12" y="659"/>
                </a:lnTo>
                <a:lnTo>
                  <a:pt x="8" y="641"/>
                </a:lnTo>
                <a:lnTo>
                  <a:pt x="14" y="623"/>
                </a:lnTo>
                <a:lnTo>
                  <a:pt x="14" y="611"/>
                </a:lnTo>
                <a:lnTo>
                  <a:pt x="16" y="594"/>
                </a:lnTo>
                <a:lnTo>
                  <a:pt x="8" y="577"/>
                </a:lnTo>
                <a:lnTo>
                  <a:pt x="8" y="555"/>
                </a:lnTo>
                <a:lnTo>
                  <a:pt x="8" y="540"/>
                </a:lnTo>
                <a:lnTo>
                  <a:pt x="16" y="531"/>
                </a:lnTo>
                <a:lnTo>
                  <a:pt x="18" y="515"/>
                </a:lnTo>
                <a:lnTo>
                  <a:pt x="14" y="501"/>
                </a:lnTo>
                <a:lnTo>
                  <a:pt x="23" y="485"/>
                </a:lnTo>
                <a:lnTo>
                  <a:pt x="26" y="462"/>
                </a:lnTo>
                <a:lnTo>
                  <a:pt x="12" y="445"/>
                </a:lnTo>
                <a:lnTo>
                  <a:pt x="6" y="437"/>
                </a:lnTo>
                <a:lnTo>
                  <a:pt x="9" y="422"/>
                </a:lnTo>
                <a:lnTo>
                  <a:pt x="16" y="397"/>
                </a:lnTo>
                <a:lnTo>
                  <a:pt x="8" y="387"/>
                </a:lnTo>
                <a:lnTo>
                  <a:pt x="0" y="364"/>
                </a:lnTo>
                <a:lnTo>
                  <a:pt x="6" y="353"/>
                </a:lnTo>
                <a:lnTo>
                  <a:pt x="9" y="339"/>
                </a:lnTo>
                <a:lnTo>
                  <a:pt x="9" y="331"/>
                </a:lnTo>
                <a:lnTo>
                  <a:pt x="4" y="308"/>
                </a:lnTo>
                <a:lnTo>
                  <a:pt x="6" y="277"/>
                </a:lnTo>
                <a:lnTo>
                  <a:pt x="8" y="255"/>
                </a:lnTo>
                <a:lnTo>
                  <a:pt x="6" y="237"/>
                </a:lnTo>
                <a:lnTo>
                  <a:pt x="8" y="212"/>
                </a:lnTo>
                <a:lnTo>
                  <a:pt x="9" y="209"/>
                </a:lnTo>
                <a:lnTo>
                  <a:pt x="14" y="188"/>
                </a:lnTo>
                <a:lnTo>
                  <a:pt x="12" y="179"/>
                </a:lnTo>
                <a:lnTo>
                  <a:pt x="12" y="165"/>
                </a:lnTo>
                <a:lnTo>
                  <a:pt x="6" y="149"/>
                </a:lnTo>
                <a:lnTo>
                  <a:pt x="6" y="131"/>
                </a:lnTo>
                <a:lnTo>
                  <a:pt x="9" y="118"/>
                </a:lnTo>
                <a:lnTo>
                  <a:pt x="12" y="108"/>
                </a:lnTo>
                <a:lnTo>
                  <a:pt x="6" y="83"/>
                </a:lnTo>
                <a:lnTo>
                  <a:pt x="9" y="74"/>
                </a:lnTo>
                <a:lnTo>
                  <a:pt x="12" y="54"/>
                </a:lnTo>
                <a:lnTo>
                  <a:pt x="9" y="53"/>
                </a:lnTo>
                <a:lnTo>
                  <a:pt x="9" y="25"/>
                </a:lnTo>
                <a:lnTo>
                  <a:pt x="14" y="10"/>
                </a:lnTo>
                <a:lnTo>
                  <a:pt x="8" y="0"/>
                </a:lnTo>
                <a:lnTo>
                  <a:pt x="412" y="7"/>
                </a:lnTo>
                <a:lnTo>
                  <a:pt x="405" y="22"/>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Freeform 210"/>
          <p:cNvSpPr/>
          <p:nvPr/>
        </p:nvSpPr>
        <p:spPr>
          <a:xfrm>
            <a:off x="5262480" y="3621240"/>
            <a:ext cx="689040" cy="1103040"/>
          </a:xfrm>
          <a:custGeom>
            <a:avLst/>
            <a:gdLst>
              <a:gd name="textAreaLeft" fmla="*/ 0 w 689040"/>
              <a:gd name="textAreaRight" fmla="*/ 689400 w 689040"/>
              <a:gd name="textAreaTop" fmla="*/ 0 h 1103040"/>
              <a:gd name="textAreaBottom" fmla="*/ 1103400 h 1103040"/>
            </a:gdLst>
            <a:ahLst/>
            <a:rect l="textAreaLeft" t="textAreaTop" r="textAreaRight" b="textAreaBottom"/>
            <a:pathLst>
              <a:path w="425" h="903">
                <a:moveTo>
                  <a:pt x="396" y="1"/>
                </a:moveTo>
                <a:lnTo>
                  <a:pt x="396" y="20"/>
                </a:lnTo>
                <a:lnTo>
                  <a:pt x="397" y="47"/>
                </a:lnTo>
                <a:lnTo>
                  <a:pt x="394" y="54"/>
                </a:lnTo>
                <a:lnTo>
                  <a:pt x="394" y="78"/>
                </a:lnTo>
                <a:lnTo>
                  <a:pt x="397" y="95"/>
                </a:lnTo>
                <a:lnTo>
                  <a:pt x="402" y="123"/>
                </a:lnTo>
                <a:lnTo>
                  <a:pt x="406" y="136"/>
                </a:lnTo>
                <a:lnTo>
                  <a:pt x="406" y="144"/>
                </a:lnTo>
                <a:lnTo>
                  <a:pt x="402" y="159"/>
                </a:lnTo>
                <a:lnTo>
                  <a:pt x="406" y="174"/>
                </a:lnTo>
                <a:lnTo>
                  <a:pt x="400" y="187"/>
                </a:lnTo>
                <a:lnTo>
                  <a:pt x="406" y="209"/>
                </a:lnTo>
                <a:lnTo>
                  <a:pt x="415" y="227"/>
                </a:lnTo>
                <a:lnTo>
                  <a:pt x="419" y="233"/>
                </a:lnTo>
                <a:lnTo>
                  <a:pt x="411" y="250"/>
                </a:lnTo>
                <a:lnTo>
                  <a:pt x="406" y="250"/>
                </a:lnTo>
                <a:lnTo>
                  <a:pt x="402" y="258"/>
                </a:lnTo>
                <a:lnTo>
                  <a:pt x="406" y="267"/>
                </a:lnTo>
                <a:lnTo>
                  <a:pt x="397" y="276"/>
                </a:lnTo>
                <a:lnTo>
                  <a:pt x="406" y="302"/>
                </a:lnTo>
                <a:lnTo>
                  <a:pt x="421" y="315"/>
                </a:lnTo>
                <a:lnTo>
                  <a:pt x="423" y="327"/>
                </a:lnTo>
                <a:lnTo>
                  <a:pt x="409" y="347"/>
                </a:lnTo>
                <a:lnTo>
                  <a:pt x="396" y="371"/>
                </a:lnTo>
                <a:lnTo>
                  <a:pt x="409" y="394"/>
                </a:lnTo>
                <a:lnTo>
                  <a:pt x="417" y="394"/>
                </a:lnTo>
                <a:lnTo>
                  <a:pt x="406" y="409"/>
                </a:lnTo>
                <a:lnTo>
                  <a:pt x="411" y="424"/>
                </a:lnTo>
                <a:lnTo>
                  <a:pt x="411" y="440"/>
                </a:lnTo>
                <a:lnTo>
                  <a:pt x="411" y="457"/>
                </a:lnTo>
                <a:lnTo>
                  <a:pt x="413" y="481"/>
                </a:lnTo>
                <a:lnTo>
                  <a:pt x="409" y="489"/>
                </a:lnTo>
                <a:lnTo>
                  <a:pt x="417" y="503"/>
                </a:lnTo>
                <a:lnTo>
                  <a:pt x="425" y="511"/>
                </a:lnTo>
                <a:lnTo>
                  <a:pt x="408" y="528"/>
                </a:lnTo>
                <a:lnTo>
                  <a:pt x="401" y="554"/>
                </a:lnTo>
                <a:lnTo>
                  <a:pt x="406" y="571"/>
                </a:lnTo>
                <a:lnTo>
                  <a:pt x="406" y="600"/>
                </a:lnTo>
                <a:lnTo>
                  <a:pt x="406" y="617"/>
                </a:lnTo>
                <a:lnTo>
                  <a:pt x="415" y="657"/>
                </a:lnTo>
                <a:lnTo>
                  <a:pt x="402" y="667"/>
                </a:lnTo>
                <a:lnTo>
                  <a:pt x="415" y="682"/>
                </a:lnTo>
                <a:lnTo>
                  <a:pt x="406" y="707"/>
                </a:lnTo>
                <a:lnTo>
                  <a:pt x="415" y="722"/>
                </a:lnTo>
                <a:lnTo>
                  <a:pt x="415" y="729"/>
                </a:lnTo>
                <a:lnTo>
                  <a:pt x="411" y="738"/>
                </a:lnTo>
                <a:lnTo>
                  <a:pt x="415" y="747"/>
                </a:lnTo>
                <a:lnTo>
                  <a:pt x="400" y="771"/>
                </a:lnTo>
                <a:lnTo>
                  <a:pt x="402" y="801"/>
                </a:lnTo>
                <a:lnTo>
                  <a:pt x="396" y="808"/>
                </a:lnTo>
                <a:lnTo>
                  <a:pt x="402" y="818"/>
                </a:lnTo>
                <a:lnTo>
                  <a:pt x="397" y="832"/>
                </a:lnTo>
                <a:lnTo>
                  <a:pt x="406" y="833"/>
                </a:lnTo>
                <a:lnTo>
                  <a:pt x="400" y="847"/>
                </a:lnTo>
                <a:lnTo>
                  <a:pt x="397" y="865"/>
                </a:lnTo>
                <a:lnTo>
                  <a:pt x="413" y="888"/>
                </a:lnTo>
                <a:lnTo>
                  <a:pt x="417" y="893"/>
                </a:lnTo>
                <a:lnTo>
                  <a:pt x="415" y="903"/>
                </a:lnTo>
                <a:lnTo>
                  <a:pt x="10" y="900"/>
                </a:lnTo>
                <a:lnTo>
                  <a:pt x="15" y="871"/>
                </a:lnTo>
                <a:lnTo>
                  <a:pt x="17" y="847"/>
                </a:lnTo>
                <a:lnTo>
                  <a:pt x="10" y="843"/>
                </a:lnTo>
                <a:lnTo>
                  <a:pt x="15" y="832"/>
                </a:lnTo>
                <a:lnTo>
                  <a:pt x="10" y="809"/>
                </a:lnTo>
                <a:lnTo>
                  <a:pt x="19" y="788"/>
                </a:lnTo>
                <a:lnTo>
                  <a:pt x="9" y="777"/>
                </a:lnTo>
                <a:lnTo>
                  <a:pt x="5" y="758"/>
                </a:lnTo>
                <a:lnTo>
                  <a:pt x="5" y="756"/>
                </a:lnTo>
                <a:lnTo>
                  <a:pt x="5" y="738"/>
                </a:lnTo>
                <a:lnTo>
                  <a:pt x="7" y="714"/>
                </a:lnTo>
                <a:lnTo>
                  <a:pt x="7" y="687"/>
                </a:lnTo>
                <a:lnTo>
                  <a:pt x="7" y="644"/>
                </a:lnTo>
                <a:lnTo>
                  <a:pt x="9" y="635"/>
                </a:lnTo>
                <a:lnTo>
                  <a:pt x="10" y="624"/>
                </a:lnTo>
                <a:lnTo>
                  <a:pt x="10" y="603"/>
                </a:lnTo>
                <a:lnTo>
                  <a:pt x="10" y="588"/>
                </a:lnTo>
                <a:lnTo>
                  <a:pt x="7" y="571"/>
                </a:lnTo>
                <a:lnTo>
                  <a:pt x="10" y="553"/>
                </a:lnTo>
                <a:lnTo>
                  <a:pt x="9" y="536"/>
                </a:lnTo>
                <a:lnTo>
                  <a:pt x="10" y="511"/>
                </a:lnTo>
                <a:lnTo>
                  <a:pt x="5" y="498"/>
                </a:lnTo>
                <a:lnTo>
                  <a:pt x="1" y="466"/>
                </a:lnTo>
                <a:lnTo>
                  <a:pt x="7" y="445"/>
                </a:lnTo>
                <a:lnTo>
                  <a:pt x="1" y="427"/>
                </a:lnTo>
                <a:lnTo>
                  <a:pt x="5" y="395"/>
                </a:lnTo>
                <a:lnTo>
                  <a:pt x="7" y="376"/>
                </a:lnTo>
                <a:lnTo>
                  <a:pt x="5" y="356"/>
                </a:lnTo>
                <a:lnTo>
                  <a:pt x="5" y="342"/>
                </a:lnTo>
                <a:lnTo>
                  <a:pt x="0" y="325"/>
                </a:lnTo>
                <a:lnTo>
                  <a:pt x="9" y="300"/>
                </a:lnTo>
                <a:lnTo>
                  <a:pt x="9" y="285"/>
                </a:lnTo>
                <a:lnTo>
                  <a:pt x="10" y="255"/>
                </a:lnTo>
                <a:lnTo>
                  <a:pt x="9" y="235"/>
                </a:lnTo>
                <a:lnTo>
                  <a:pt x="9" y="226"/>
                </a:lnTo>
                <a:lnTo>
                  <a:pt x="10" y="209"/>
                </a:lnTo>
                <a:lnTo>
                  <a:pt x="10" y="188"/>
                </a:lnTo>
                <a:lnTo>
                  <a:pt x="13" y="174"/>
                </a:lnTo>
                <a:lnTo>
                  <a:pt x="10" y="139"/>
                </a:lnTo>
                <a:lnTo>
                  <a:pt x="9" y="107"/>
                </a:lnTo>
                <a:lnTo>
                  <a:pt x="10" y="93"/>
                </a:lnTo>
                <a:lnTo>
                  <a:pt x="9" y="64"/>
                </a:lnTo>
                <a:lnTo>
                  <a:pt x="13" y="50"/>
                </a:lnTo>
                <a:lnTo>
                  <a:pt x="9" y="40"/>
                </a:lnTo>
                <a:lnTo>
                  <a:pt x="10" y="20"/>
                </a:lnTo>
                <a:lnTo>
                  <a:pt x="13" y="0"/>
                </a:lnTo>
                <a:lnTo>
                  <a:pt x="396" y="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Freeform 211"/>
          <p:cNvSpPr/>
          <p:nvPr/>
        </p:nvSpPr>
        <p:spPr>
          <a:xfrm>
            <a:off x="5291280" y="2986200"/>
            <a:ext cx="704880" cy="90360"/>
          </a:xfrm>
          <a:custGeom>
            <a:avLst/>
            <a:gdLst>
              <a:gd name="textAreaLeft" fmla="*/ 0 w 704880"/>
              <a:gd name="textAreaRight" fmla="*/ 704880 w 704880"/>
              <a:gd name="textAreaTop" fmla="*/ 0 h 90360"/>
              <a:gd name="textAreaBottom" fmla="*/ 90720 h 90360"/>
            </a:gdLst>
            <a:ahLst/>
            <a:rect l="textAreaLeft" t="textAreaTop" r="textAreaRight" b="textAreaBottom"/>
            <a:pathLst>
              <a:path w="434" h="77">
                <a:moveTo>
                  <a:pt x="369" y="9"/>
                </a:moveTo>
                <a:lnTo>
                  <a:pt x="370" y="9"/>
                </a:lnTo>
                <a:lnTo>
                  <a:pt x="389" y="15"/>
                </a:lnTo>
                <a:lnTo>
                  <a:pt x="406" y="24"/>
                </a:lnTo>
                <a:lnTo>
                  <a:pt x="413" y="39"/>
                </a:lnTo>
                <a:lnTo>
                  <a:pt x="430" y="39"/>
                </a:lnTo>
                <a:lnTo>
                  <a:pt x="434" y="47"/>
                </a:lnTo>
                <a:lnTo>
                  <a:pt x="408" y="62"/>
                </a:lnTo>
                <a:lnTo>
                  <a:pt x="394" y="67"/>
                </a:lnTo>
                <a:lnTo>
                  <a:pt x="386" y="77"/>
                </a:lnTo>
                <a:lnTo>
                  <a:pt x="0" y="76"/>
                </a:lnTo>
                <a:lnTo>
                  <a:pt x="6" y="63"/>
                </a:lnTo>
                <a:lnTo>
                  <a:pt x="14" y="53"/>
                </a:lnTo>
                <a:lnTo>
                  <a:pt x="33" y="53"/>
                </a:lnTo>
                <a:lnTo>
                  <a:pt x="36" y="40"/>
                </a:lnTo>
                <a:lnTo>
                  <a:pt x="33" y="30"/>
                </a:lnTo>
                <a:lnTo>
                  <a:pt x="36" y="18"/>
                </a:lnTo>
                <a:lnTo>
                  <a:pt x="43" y="5"/>
                </a:lnTo>
                <a:lnTo>
                  <a:pt x="65" y="0"/>
                </a:lnTo>
                <a:lnTo>
                  <a:pt x="370" y="5"/>
                </a:lnTo>
                <a:lnTo>
                  <a:pt x="369" y="9"/>
                </a:lnTo>
                <a:close/>
              </a:path>
            </a:pathLst>
          </a:custGeom>
          <a:solidFill>
            <a:srgbClr val="0000ff"/>
          </a:solidFill>
          <a:ln w="144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96" name="Freeform 212"/>
          <p:cNvSpPr/>
          <p:nvPr/>
        </p:nvSpPr>
        <p:spPr>
          <a:xfrm>
            <a:off x="5273640" y="3071880"/>
            <a:ext cx="658800" cy="558720"/>
          </a:xfrm>
          <a:custGeom>
            <a:avLst/>
            <a:gdLst>
              <a:gd name="textAreaLeft" fmla="*/ 0 w 658800"/>
              <a:gd name="textAreaRight" fmla="*/ 658800 w 658800"/>
              <a:gd name="textAreaTop" fmla="*/ 0 h 558720"/>
              <a:gd name="textAreaBottom" fmla="*/ 559080 h 558720"/>
            </a:gdLst>
            <a:ahLst/>
            <a:rect l="textAreaLeft" t="textAreaTop" r="textAreaRight" b="textAreaBottom"/>
            <a:pathLst>
              <a:path w="407" h="459">
                <a:moveTo>
                  <a:pt x="400" y="5"/>
                </a:moveTo>
                <a:lnTo>
                  <a:pt x="400" y="13"/>
                </a:lnTo>
                <a:lnTo>
                  <a:pt x="405" y="37"/>
                </a:lnTo>
                <a:lnTo>
                  <a:pt x="405" y="55"/>
                </a:lnTo>
                <a:lnTo>
                  <a:pt x="400" y="55"/>
                </a:lnTo>
                <a:lnTo>
                  <a:pt x="405" y="65"/>
                </a:lnTo>
                <a:lnTo>
                  <a:pt x="407" y="82"/>
                </a:lnTo>
                <a:lnTo>
                  <a:pt x="397" y="95"/>
                </a:lnTo>
                <a:lnTo>
                  <a:pt x="405" y="103"/>
                </a:lnTo>
                <a:lnTo>
                  <a:pt x="407" y="122"/>
                </a:lnTo>
                <a:lnTo>
                  <a:pt x="405" y="129"/>
                </a:lnTo>
                <a:lnTo>
                  <a:pt x="405" y="137"/>
                </a:lnTo>
                <a:lnTo>
                  <a:pt x="397" y="156"/>
                </a:lnTo>
                <a:lnTo>
                  <a:pt x="403" y="167"/>
                </a:lnTo>
                <a:lnTo>
                  <a:pt x="397" y="181"/>
                </a:lnTo>
                <a:lnTo>
                  <a:pt x="391" y="182"/>
                </a:lnTo>
                <a:lnTo>
                  <a:pt x="396" y="209"/>
                </a:lnTo>
                <a:lnTo>
                  <a:pt x="390" y="220"/>
                </a:lnTo>
                <a:lnTo>
                  <a:pt x="389" y="244"/>
                </a:lnTo>
                <a:lnTo>
                  <a:pt x="391" y="253"/>
                </a:lnTo>
                <a:lnTo>
                  <a:pt x="394" y="261"/>
                </a:lnTo>
                <a:lnTo>
                  <a:pt x="390" y="264"/>
                </a:lnTo>
                <a:lnTo>
                  <a:pt x="400" y="288"/>
                </a:lnTo>
                <a:lnTo>
                  <a:pt x="388" y="314"/>
                </a:lnTo>
                <a:lnTo>
                  <a:pt x="388" y="324"/>
                </a:lnTo>
                <a:lnTo>
                  <a:pt x="390" y="335"/>
                </a:lnTo>
                <a:lnTo>
                  <a:pt x="388" y="358"/>
                </a:lnTo>
                <a:lnTo>
                  <a:pt x="388" y="368"/>
                </a:lnTo>
                <a:lnTo>
                  <a:pt x="391" y="370"/>
                </a:lnTo>
                <a:lnTo>
                  <a:pt x="391" y="384"/>
                </a:lnTo>
                <a:lnTo>
                  <a:pt x="394" y="389"/>
                </a:lnTo>
                <a:lnTo>
                  <a:pt x="388" y="405"/>
                </a:lnTo>
                <a:lnTo>
                  <a:pt x="388" y="425"/>
                </a:lnTo>
                <a:lnTo>
                  <a:pt x="389" y="430"/>
                </a:lnTo>
                <a:lnTo>
                  <a:pt x="390" y="454"/>
                </a:lnTo>
                <a:lnTo>
                  <a:pt x="391" y="459"/>
                </a:lnTo>
                <a:lnTo>
                  <a:pt x="7" y="455"/>
                </a:lnTo>
                <a:lnTo>
                  <a:pt x="7" y="439"/>
                </a:lnTo>
                <a:lnTo>
                  <a:pt x="7" y="425"/>
                </a:lnTo>
                <a:lnTo>
                  <a:pt x="11" y="415"/>
                </a:lnTo>
                <a:lnTo>
                  <a:pt x="9" y="405"/>
                </a:lnTo>
                <a:lnTo>
                  <a:pt x="7" y="394"/>
                </a:lnTo>
                <a:lnTo>
                  <a:pt x="4" y="384"/>
                </a:lnTo>
                <a:lnTo>
                  <a:pt x="7" y="370"/>
                </a:lnTo>
                <a:lnTo>
                  <a:pt x="7" y="365"/>
                </a:lnTo>
                <a:lnTo>
                  <a:pt x="7" y="344"/>
                </a:lnTo>
                <a:lnTo>
                  <a:pt x="7" y="335"/>
                </a:lnTo>
                <a:lnTo>
                  <a:pt x="7" y="324"/>
                </a:lnTo>
                <a:lnTo>
                  <a:pt x="7" y="316"/>
                </a:lnTo>
                <a:lnTo>
                  <a:pt x="7" y="314"/>
                </a:lnTo>
                <a:lnTo>
                  <a:pt x="4" y="288"/>
                </a:lnTo>
                <a:lnTo>
                  <a:pt x="0" y="271"/>
                </a:lnTo>
                <a:lnTo>
                  <a:pt x="7" y="248"/>
                </a:lnTo>
                <a:lnTo>
                  <a:pt x="4" y="224"/>
                </a:lnTo>
                <a:lnTo>
                  <a:pt x="7" y="215"/>
                </a:lnTo>
                <a:lnTo>
                  <a:pt x="4" y="197"/>
                </a:lnTo>
                <a:lnTo>
                  <a:pt x="9" y="181"/>
                </a:lnTo>
                <a:lnTo>
                  <a:pt x="7" y="175"/>
                </a:lnTo>
                <a:lnTo>
                  <a:pt x="1" y="150"/>
                </a:lnTo>
                <a:lnTo>
                  <a:pt x="1" y="119"/>
                </a:lnTo>
                <a:lnTo>
                  <a:pt x="1" y="87"/>
                </a:lnTo>
                <a:lnTo>
                  <a:pt x="0" y="77"/>
                </a:lnTo>
                <a:lnTo>
                  <a:pt x="4" y="47"/>
                </a:lnTo>
                <a:lnTo>
                  <a:pt x="1" y="25"/>
                </a:lnTo>
                <a:lnTo>
                  <a:pt x="1" y="13"/>
                </a:lnTo>
                <a:lnTo>
                  <a:pt x="7" y="6"/>
                </a:lnTo>
                <a:lnTo>
                  <a:pt x="11" y="0"/>
                </a:lnTo>
                <a:lnTo>
                  <a:pt x="400" y="6"/>
                </a:lnTo>
                <a:lnTo>
                  <a:pt x="400" y="5"/>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7" name="Freeform 213"/>
          <p:cNvSpPr/>
          <p:nvPr/>
        </p:nvSpPr>
        <p:spPr>
          <a:xfrm>
            <a:off x="5289480" y="2583000"/>
            <a:ext cx="662040" cy="411120"/>
          </a:xfrm>
          <a:custGeom>
            <a:avLst/>
            <a:gdLst>
              <a:gd name="textAreaLeft" fmla="*/ 0 w 662040"/>
              <a:gd name="textAreaRight" fmla="*/ 662400 w 662040"/>
              <a:gd name="textAreaTop" fmla="*/ 0 h 411120"/>
              <a:gd name="textAreaBottom" fmla="*/ 411480 h 411120"/>
            </a:gdLst>
            <a:ahLst/>
            <a:rect l="textAreaLeft" t="textAreaTop" r="textAreaRight" b="textAreaBottom"/>
            <a:pathLst>
              <a:path w="410" h="338">
                <a:moveTo>
                  <a:pt x="395" y="24"/>
                </a:moveTo>
                <a:lnTo>
                  <a:pt x="388" y="39"/>
                </a:lnTo>
                <a:lnTo>
                  <a:pt x="398" y="26"/>
                </a:lnTo>
                <a:lnTo>
                  <a:pt x="398" y="30"/>
                </a:lnTo>
                <a:lnTo>
                  <a:pt x="385" y="40"/>
                </a:lnTo>
                <a:lnTo>
                  <a:pt x="398" y="48"/>
                </a:lnTo>
                <a:lnTo>
                  <a:pt x="396" y="63"/>
                </a:lnTo>
                <a:lnTo>
                  <a:pt x="391" y="71"/>
                </a:lnTo>
                <a:lnTo>
                  <a:pt x="396" y="76"/>
                </a:lnTo>
                <a:lnTo>
                  <a:pt x="381" y="94"/>
                </a:lnTo>
                <a:lnTo>
                  <a:pt x="410" y="114"/>
                </a:lnTo>
                <a:lnTo>
                  <a:pt x="385" y="121"/>
                </a:lnTo>
                <a:lnTo>
                  <a:pt x="398" y="144"/>
                </a:lnTo>
                <a:lnTo>
                  <a:pt x="391" y="151"/>
                </a:lnTo>
                <a:lnTo>
                  <a:pt x="382" y="156"/>
                </a:lnTo>
                <a:lnTo>
                  <a:pt x="391" y="163"/>
                </a:lnTo>
                <a:lnTo>
                  <a:pt x="400" y="167"/>
                </a:lnTo>
                <a:lnTo>
                  <a:pt x="387" y="182"/>
                </a:lnTo>
                <a:lnTo>
                  <a:pt x="402" y="189"/>
                </a:lnTo>
                <a:lnTo>
                  <a:pt x="398" y="203"/>
                </a:lnTo>
                <a:lnTo>
                  <a:pt x="398" y="209"/>
                </a:lnTo>
                <a:lnTo>
                  <a:pt x="379" y="238"/>
                </a:lnTo>
                <a:lnTo>
                  <a:pt x="391" y="270"/>
                </a:lnTo>
                <a:lnTo>
                  <a:pt x="382" y="279"/>
                </a:lnTo>
                <a:lnTo>
                  <a:pt x="371" y="293"/>
                </a:lnTo>
                <a:lnTo>
                  <a:pt x="385" y="318"/>
                </a:lnTo>
                <a:lnTo>
                  <a:pt x="372" y="334"/>
                </a:lnTo>
                <a:lnTo>
                  <a:pt x="372" y="338"/>
                </a:lnTo>
                <a:lnTo>
                  <a:pt x="64" y="329"/>
                </a:lnTo>
                <a:lnTo>
                  <a:pt x="19" y="293"/>
                </a:lnTo>
                <a:lnTo>
                  <a:pt x="49" y="270"/>
                </a:lnTo>
                <a:lnTo>
                  <a:pt x="36" y="255"/>
                </a:lnTo>
                <a:lnTo>
                  <a:pt x="30" y="238"/>
                </a:lnTo>
                <a:lnTo>
                  <a:pt x="17" y="220"/>
                </a:lnTo>
                <a:lnTo>
                  <a:pt x="11" y="189"/>
                </a:lnTo>
                <a:lnTo>
                  <a:pt x="17" y="167"/>
                </a:lnTo>
                <a:lnTo>
                  <a:pt x="18" y="163"/>
                </a:lnTo>
                <a:lnTo>
                  <a:pt x="10" y="144"/>
                </a:lnTo>
                <a:lnTo>
                  <a:pt x="15" y="133"/>
                </a:lnTo>
                <a:lnTo>
                  <a:pt x="9" y="114"/>
                </a:lnTo>
                <a:lnTo>
                  <a:pt x="10" y="111"/>
                </a:lnTo>
                <a:lnTo>
                  <a:pt x="11" y="85"/>
                </a:lnTo>
                <a:lnTo>
                  <a:pt x="0" y="63"/>
                </a:lnTo>
                <a:lnTo>
                  <a:pt x="12" y="59"/>
                </a:lnTo>
                <a:lnTo>
                  <a:pt x="5" y="34"/>
                </a:lnTo>
                <a:lnTo>
                  <a:pt x="0" y="17"/>
                </a:lnTo>
                <a:lnTo>
                  <a:pt x="9" y="12"/>
                </a:lnTo>
                <a:lnTo>
                  <a:pt x="2" y="0"/>
                </a:lnTo>
                <a:lnTo>
                  <a:pt x="9" y="32"/>
                </a:lnTo>
                <a:lnTo>
                  <a:pt x="7" y="24"/>
                </a:lnTo>
                <a:lnTo>
                  <a:pt x="385" y="31"/>
                </a:lnTo>
                <a:lnTo>
                  <a:pt x="395" y="24"/>
                </a:lnTo>
                <a:close/>
              </a:path>
            </a:pathLst>
          </a:custGeom>
          <a:solidFill>
            <a:srgbClr val="e0ffff"/>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Freeform 214"/>
          <p:cNvSpPr/>
          <p:nvPr/>
        </p:nvSpPr>
        <p:spPr>
          <a:xfrm>
            <a:off x="6162840" y="3719520"/>
            <a:ext cx="769680" cy="968400"/>
          </a:xfrm>
          <a:custGeom>
            <a:avLst/>
            <a:gdLst>
              <a:gd name="textAreaLeft" fmla="*/ 0 w 769680"/>
              <a:gd name="textAreaRight" fmla="*/ 770040 w 769680"/>
              <a:gd name="textAreaTop" fmla="*/ 0 h 968400"/>
              <a:gd name="textAreaBottom" fmla="*/ 968760 h 968400"/>
            </a:gdLst>
            <a:ahLst/>
            <a:rect l="textAreaLeft" t="textAreaTop" r="textAreaRight" b="textAreaBottom"/>
            <a:pathLst>
              <a:path w="477" h="793">
                <a:moveTo>
                  <a:pt x="460" y="0"/>
                </a:moveTo>
                <a:lnTo>
                  <a:pt x="435" y="16"/>
                </a:lnTo>
                <a:lnTo>
                  <a:pt x="435" y="21"/>
                </a:lnTo>
                <a:lnTo>
                  <a:pt x="416" y="41"/>
                </a:lnTo>
                <a:lnTo>
                  <a:pt x="433" y="62"/>
                </a:lnTo>
                <a:lnTo>
                  <a:pt x="454" y="72"/>
                </a:lnTo>
                <a:lnTo>
                  <a:pt x="476" y="87"/>
                </a:lnTo>
                <a:lnTo>
                  <a:pt x="457" y="92"/>
                </a:lnTo>
                <a:lnTo>
                  <a:pt x="433" y="116"/>
                </a:lnTo>
                <a:lnTo>
                  <a:pt x="417" y="116"/>
                </a:lnTo>
                <a:lnTo>
                  <a:pt x="404" y="134"/>
                </a:lnTo>
                <a:lnTo>
                  <a:pt x="413" y="137"/>
                </a:lnTo>
                <a:lnTo>
                  <a:pt x="407" y="165"/>
                </a:lnTo>
                <a:lnTo>
                  <a:pt x="415" y="181"/>
                </a:lnTo>
                <a:lnTo>
                  <a:pt x="413" y="185"/>
                </a:lnTo>
                <a:lnTo>
                  <a:pt x="420" y="208"/>
                </a:lnTo>
                <a:lnTo>
                  <a:pt x="432" y="214"/>
                </a:lnTo>
                <a:lnTo>
                  <a:pt x="435" y="224"/>
                </a:lnTo>
                <a:lnTo>
                  <a:pt x="431" y="235"/>
                </a:lnTo>
                <a:lnTo>
                  <a:pt x="454" y="250"/>
                </a:lnTo>
                <a:lnTo>
                  <a:pt x="477" y="250"/>
                </a:lnTo>
                <a:lnTo>
                  <a:pt x="458" y="258"/>
                </a:lnTo>
                <a:lnTo>
                  <a:pt x="440" y="263"/>
                </a:lnTo>
                <a:lnTo>
                  <a:pt x="425" y="277"/>
                </a:lnTo>
                <a:lnTo>
                  <a:pt x="404" y="294"/>
                </a:lnTo>
                <a:lnTo>
                  <a:pt x="412" y="295"/>
                </a:lnTo>
                <a:lnTo>
                  <a:pt x="420" y="304"/>
                </a:lnTo>
                <a:lnTo>
                  <a:pt x="409" y="317"/>
                </a:lnTo>
                <a:lnTo>
                  <a:pt x="400" y="327"/>
                </a:lnTo>
                <a:lnTo>
                  <a:pt x="409" y="337"/>
                </a:lnTo>
                <a:lnTo>
                  <a:pt x="417" y="354"/>
                </a:lnTo>
                <a:lnTo>
                  <a:pt x="409" y="367"/>
                </a:lnTo>
                <a:lnTo>
                  <a:pt x="420" y="384"/>
                </a:lnTo>
                <a:lnTo>
                  <a:pt x="431" y="393"/>
                </a:lnTo>
                <a:lnTo>
                  <a:pt x="412" y="401"/>
                </a:lnTo>
                <a:lnTo>
                  <a:pt x="417" y="414"/>
                </a:lnTo>
                <a:lnTo>
                  <a:pt x="421" y="424"/>
                </a:lnTo>
                <a:lnTo>
                  <a:pt x="413" y="434"/>
                </a:lnTo>
                <a:lnTo>
                  <a:pt x="420" y="434"/>
                </a:lnTo>
                <a:lnTo>
                  <a:pt x="421" y="458"/>
                </a:lnTo>
                <a:lnTo>
                  <a:pt x="431" y="477"/>
                </a:lnTo>
                <a:lnTo>
                  <a:pt x="440" y="487"/>
                </a:lnTo>
                <a:lnTo>
                  <a:pt x="437" y="497"/>
                </a:lnTo>
                <a:lnTo>
                  <a:pt x="407" y="520"/>
                </a:lnTo>
                <a:lnTo>
                  <a:pt x="413" y="533"/>
                </a:lnTo>
                <a:lnTo>
                  <a:pt x="417" y="551"/>
                </a:lnTo>
                <a:lnTo>
                  <a:pt x="425" y="551"/>
                </a:lnTo>
                <a:lnTo>
                  <a:pt x="415" y="558"/>
                </a:lnTo>
                <a:lnTo>
                  <a:pt x="415" y="578"/>
                </a:lnTo>
                <a:lnTo>
                  <a:pt x="425" y="593"/>
                </a:lnTo>
                <a:lnTo>
                  <a:pt x="447" y="598"/>
                </a:lnTo>
                <a:lnTo>
                  <a:pt x="467" y="606"/>
                </a:lnTo>
                <a:lnTo>
                  <a:pt x="440" y="624"/>
                </a:lnTo>
                <a:lnTo>
                  <a:pt x="440" y="635"/>
                </a:lnTo>
                <a:lnTo>
                  <a:pt x="423" y="646"/>
                </a:lnTo>
                <a:lnTo>
                  <a:pt x="440" y="647"/>
                </a:lnTo>
                <a:lnTo>
                  <a:pt x="464" y="669"/>
                </a:lnTo>
                <a:lnTo>
                  <a:pt x="435" y="679"/>
                </a:lnTo>
                <a:lnTo>
                  <a:pt x="440" y="689"/>
                </a:lnTo>
                <a:lnTo>
                  <a:pt x="425" y="695"/>
                </a:lnTo>
                <a:lnTo>
                  <a:pt x="417" y="695"/>
                </a:lnTo>
                <a:lnTo>
                  <a:pt x="407" y="712"/>
                </a:lnTo>
                <a:lnTo>
                  <a:pt x="413" y="722"/>
                </a:lnTo>
                <a:lnTo>
                  <a:pt x="425" y="722"/>
                </a:lnTo>
                <a:lnTo>
                  <a:pt x="437" y="726"/>
                </a:lnTo>
                <a:lnTo>
                  <a:pt x="443" y="736"/>
                </a:lnTo>
                <a:lnTo>
                  <a:pt x="425" y="750"/>
                </a:lnTo>
                <a:lnTo>
                  <a:pt x="432" y="758"/>
                </a:lnTo>
                <a:lnTo>
                  <a:pt x="425" y="761"/>
                </a:lnTo>
                <a:lnTo>
                  <a:pt x="445" y="768"/>
                </a:lnTo>
                <a:lnTo>
                  <a:pt x="458" y="774"/>
                </a:lnTo>
                <a:lnTo>
                  <a:pt x="440" y="775"/>
                </a:lnTo>
                <a:lnTo>
                  <a:pt x="437" y="789"/>
                </a:lnTo>
                <a:lnTo>
                  <a:pt x="437" y="793"/>
                </a:lnTo>
                <a:lnTo>
                  <a:pt x="14" y="793"/>
                </a:lnTo>
                <a:lnTo>
                  <a:pt x="12" y="766"/>
                </a:lnTo>
                <a:lnTo>
                  <a:pt x="5" y="754"/>
                </a:lnTo>
                <a:lnTo>
                  <a:pt x="17" y="740"/>
                </a:lnTo>
                <a:lnTo>
                  <a:pt x="33" y="736"/>
                </a:lnTo>
                <a:lnTo>
                  <a:pt x="29" y="722"/>
                </a:lnTo>
                <a:lnTo>
                  <a:pt x="47" y="712"/>
                </a:lnTo>
                <a:lnTo>
                  <a:pt x="27" y="702"/>
                </a:lnTo>
                <a:lnTo>
                  <a:pt x="28" y="695"/>
                </a:lnTo>
                <a:lnTo>
                  <a:pt x="14" y="685"/>
                </a:lnTo>
                <a:lnTo>
                  <a:pt x="14" y="671"/>
                </a:lnTo>
                <a:lnTo>
                  <a:pt x="33" y="657"/>
                </a:lnTo>
                <a:lnTo>
                  <a:pt x="21" y="647"/>
                </a:lnTo>
                <a:lnTo>
                  <a:pt x="17" y="641"/>
                </a:lnTo>
                <a:lnTo>
                  <a:pt x="14" y="624"/>
                </a:lnTo>
                <a:lnTo>
                  <a:pt x="26" y="615"/>
                </a:lnTo>
                <a:lnTo>
                  <a:pt x="14" y="606"/>
                </a:lnTo>
                <a:lnTo>
                  <a:pt x="27" y="598"/>
                </a:lnTo>
                <a:lnTo>
                  <a:pt x="30" y="593"/>
                </a:lnTo>
                <a:lnTo>
                  <a:pt x="20" y="578"/>
                </a:lnTo>
                <a:lnTo>
                  <a:pt x="38" y="578"/>
                </a:lnTo>
                <a:lnTo>
                  <a:pt x="45" y="566"/>
                </a:lnTo>
                <a:lnTo>
                  <a:pt x="36" y="558"/>
                </a:lnTo>
                <a:lnTo>
                  <a:pt x="23" y="552"/>
                </a:lnTo>
                <a:lnTo>
                  <a:pt x="9" y="535"/>
                </a:lnTo>
                <a:lnTo>
                  <a:pt x="8" y="520"/>
                </a:lnTo>
                <a:lnTo>
                  <a:pt x="13" y="520"/>
                </a:lnTo>
                <a:lnTo>
                  <a:pt x="17" y="502"/>
                </a:lnTo>
                <a:lnTo>
                  <a:pt x="20" y="497"/>
                </a:lnTo>
                <a:lnTo>
                  <a:pt x="9" y="477"/>
                </a:lnTo>
                <a:lnTo>
                  <a:pt x="3" y="458"/>
                </a:lnTo>
                <a:lnTo>
                  <a:pt x="9" y="454"/>
                </a:lnTo>
                <a:lnTo>
                  <a:pt x="3" y="429"/>
                </a:lnTo>
                <a:lnTo>
                  <a:pt x="8" y="428"/>
                </a:lnTo>
                <a:lnTo>
                  <a:pt x="3" y="417"/>
                </a:lnTo>
                <a:lnTo>
                  <a:pt x="12" y="398"/>
                </a:lnTo>
                <a:lnTo>
                  <a:pt x="8" y="373"/>
                </a:lnTo>
                <a:lnTo>
                  <a:pt x="11" y="365"/>
                </a:lnTo>
                <a:lnTo>
                  <a:pt x="5" y="343"/>
                </a:lnTo>
                <a:lnTo>
                  <a:pt x="13" y="334"/>
                </a:lnTo>
                <a:lnTo>
                  <a:pt x="20" y="334"/>
                </a:lnTo>
                <a:lnTo>
                  <a:pt x="17" y="323"/>
                </a:lnTo>
                <a:lnTo>
                  <a:pt x="25" y="317"/>
                </a:lnTo>
                <a:lnTo>
                  <a:pt x="12" y="294"/>
                </a:lnTo>
                <a:lnTo>
                  <a:pt x="12" y="289"/>
                </a:lnTo>
                <a:lnTo>
                  <a:pt x="8" y="280"/>
                </a:lnTo>
                <a:lnTo>
                  <a:pt x="14" y="265"/>
                </a:lnTo>
                <a:lnTo>
                  <a:pt x="12" y="250"/>
                </a:lnTo>
                <a:lnTo>
                  <a:pt x="13" y="241"/>
                </a:lnTo>
                <a:lnTo>
                  <a:pt x="17" y="221"/>
                </a:lnTo>
                <a:lnTo>
                  <a:pt x="5" y="213"/>
                </a:lnTo>
                <a:lnTo>
                  <a:pt x="3" y="185"/>
                </a:lnTo>
                <a:lnTo>
                  <a:pt x="0" y="169"/>
                </a:lnTo>
                <a:lnTo>
                  <a:pt x="3" y="159"/>
                </a:lnTo>
                <a:lnTo>
                  <a:pt x="8" y="144"/>
                </a:lnTo>
                <a:lnTo>
                  <a:pt x="4" y="127"/>
                </a:lnTo>
                <a:lnTo>
                  <a:pt x="9" y="111"/>
                </a:lnTo>
                <a:lnTo>
                  <a:pt x="8" y="90"/>
                </a:lnTo>
                <a:lnTo>
                  <a:pt x="12" y="77"/>
                </a:lnTo>
                <a:lnTo>
                  <a:pt x="9" y="65"/>
                </a:lnTo>
                <a:lnTo>
                  <a:pt x="14" y="54"/>
                </a:lnTo>
                <a:lnTo>
                  <a:pt x="20" y="46"/>
                </a:lnTo>
                <a:lnTo>
                  <a:pt x="9" y="28"/>
                </a:lnTo>
                <a:lnTo>
                  <a:pt x="17" y="22"/>
                </a:lnTo>
                <a:lnTo>
                  <a:pt x="8" y="6"/>
                </a:lnTo>
                <a:lnTo>
                  <a:pt x="457" y="1"/>
                </a:lnTo>
                <a:lnTo>
                  <a:pt x="460"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Freeform 215"/>
          <p:cNvSpPr/>
          <p:nvPr/>
        </p:nvSpPr>
        <p:spPr>
          <a:xfrm>
            <a:off x="6167520" y="3132000"/>
            <a:ext cx="741240" cy="601920"/>
          </a:xfrm>
          <a:custGeom>
            <a:avLst/>
            <a:gdLst>
              <a:gd name="textAreaLeft" fmla="*/ 0 w 741240"/>
              <a:gd name="textAreaRight" fmla="*/ 741600 w 741240"/>
              <a:gd name="textAreaTop" fmla="*/ 0 h 601920"/>
              <a:gd name="textAreaBottom" fmla="*/ 602280 h 601920"/>
            </a:gdLst>
            <a:ahLst/>
            <a:rect l="textAreaLeft" t="textAreaTop" r="textAreaRight" b="textAreaBottom"/>
            <a:pathLst>
              <a:path w="457" h="495">
                <a:moveTo>
                  <a:pt x="378" y="0"/>
                </a:moveTo>
                <a:lnTo>
                  <a:pt x="392" y="0"/>
                </a:lnTo>
                <a:lnTo>
                  <a:pt x="404" y="5"/>
                </a:lnTo>
                <a:lnTo>
                  <a:pt x="417" y="15"/>
                </a:lnTo>
                <a:lnTo>
                  <a:pt x="444" y="21"/>
                </a:lnTo>
                <a:lnTo>
                  <a:pt x="442" y="34"/>
                </a:lnTo>
                <a:lnTo>
                  <a:pt x="446" y="51"/>
                </a:lnTo>
                <a:lnTo>
                  <a:pt x="432" y="58"/>
                </a:lnTo>
                <a:lnTo>
                  <a:pt x="422" y="62"/>
                </a:lnTo>
                <a:lnTo>
                  <a:pt x="420" y="74"/>
                </a:lnTo>
                <a:lnTo>
                  <a:pt x="410" y="85"/>
                </a:lnTo>
                <a:lnTo>
                  <a:pt x="409" y="103"/>
                </a:lnTo>
                <a:lnTo>
                  <a:pt x="417" y="108"/>
                </a:lnTo>
                <a:lnTo>
                  <a:pt x="422" y="125"/>
                </a:lnTo>
                <a:lnTo>
                  <a:pt x="446" y="130"/>
                </a:lnTo>
                <a:lnTo>
                  <a:pt x="446" y="140"/>
                </a:lnTo>
                <a:lnTo>
                  <a:pt x="451" y="149"/>
                </a:lnTo>
                <a:lnTo>
                  <a:pt x="451" y="157"/>
                </a:lnTo>
                <a:lnTo>
                  <a:pt x="442" y="164"/>
                </a:lnTo>
                <a:lnTo>
                  <a:pt x="440" y="178"/>
                </a:lnTo>
                <a:lnTo>
                  <a:pt x="437" y="186"/>
                </a:lnTo>
                <a:lnTo>
                  <a:pt x="430" y="194"/>
                </a:lnTo>
                <a:lnTo>
                  <a:pt x="422" y="194"/>
                </a:lnTo>
                <a:lnTo>
                  <a:pt x="428" y="221"/>
                </a:lnTo>
                <a:lnTo>
                  <a:pt x="428" y="239"/>
                </a:lnTo>
                <a:lnTo>
                  <a:pt x="430" y="246"/>
                </a:lnTo>
                <a:lnTo>
                  <a:pt x="428" y="267"/>
                </a:lnTo>
                <a:lnTo>
                  <a:pt x="434" y="291"/>
                </a:lnTo>
                <a:lnTo>
                  <a:pt x="422" y="291"/>
                </a:lnTo>
                <a:lnTo>
                  <a:pt x="417" y="300"/>
                </a:lnTo>
                <a:lnTo>
                  <a:pt x="412" y="308"/>
                </a:lnTo>
                <a:lnTo>
                  <a:pt x="414" y="311"/>
                </a:lnTo>
                <a:lnTo>
                  <a:pt x="410" y="323"/>
                </a:lnTo>
                <a:lnTo>
                  <a:pt x="417" y="323"/>
                </a:lnTo>
                <a:lnTo>
                  <a:pt x="420" y="332"/>
                </a:lnTo>
                <a:lnTo>
                  <a:pt x="412" y="335"/>
                </a:lnTo>
                <a:lnTo>
                  <a:pt x="428" y="355"/>
                </a:lnTo>
                <a:lnTo>
                  <a:pt x="420" y="360"/>
                </a:lnTo>
                <a:lnTo>
                  <a:pt x="422" y="363"/>
                </a:lnTo>
                <a:lnTo>
                  <a:pt x="432" y="373"/>
                </a:lnTo>
                <a:lnTo>
                  <a:pt x="437" y="382"/>
                </a:lnTo>
                <a:lnTo>
                  <a:pt x="429" y="396"/>
                </a:lnTo>
                <a:lnTo>
                  <a:pt x="432" y="396"/>
                </a:lnTo>
                <a:lnTo>
                  <a:pt x="422" y="403"/>
                </a:lnTo>
                <a:lnTo>
                  <a:pt x="417" y="411"/>
                </a:lnTo>
                <a:lnTo>
                  <a:pt x="412" y="412"/>
                </a:lnTo>
                <a:lnTo>
                  <a:pt x="406" y="420"/>
                </a:lnTo>
                <a:lnTo>
                  <a:pt x="417" y="435"/>
                </a:lnTo>
                <a:lnTo>
                  <a:pt x="409" y="435"/>
                </a:lnTo>
                <a:lnTo>
                  <a:pt x="404" y="444"/>
                </a:lnTo>
                <a:lnTo>
                  <a:pt x="409" y="450"/>
                </a:lnTo>
                <a:lnTo>
                  <a:pt x="404" y="466"/>
                </a:lnTo>
                <a:lnTo>
                  <a:pt x="430" y="474"/>
                </a:lnTo>
                <a:lnTo>
                  <a:pt x="457" y="485"/>
                </a:lnTo>
                <a:lnTo>
                  <a:pt x="5" y="495"/>
                </a:lnTo>
                <a:lnTo>
                  <a:pt x="17" y="477"/>
                </a:lnTo>
                <a:lnTo>
                  <a:pt x="11" y="474"/>
                </a:lnTo>
                <a:lnTo>
                  <a:pt x="6" y="466"/>
                </a:lnTo>
                <a:lnTo>
                  <a:pt x="6" y="456"/>
                </a:lnTo>
                <a:lnTo>
                  <a:pt x="24" y="444"/>
                </a:lnTo>
                <a:lnTo>
                  <a:pt x="11" y="426"/>
                </a:lnTo>
                <a:lnTo>
                  <a:pt x="14" y="420"/>
                </a:lnTo>
                <a:lnTo>
                  <a:pt x="22" y="411"/>
                </a:lnTo>
                <a:lnTo>
                  <a:pt x="11" y="403"/>
                </a:lnTo>
                <a:lnTo>
                  <a:pt x="9" y="396"/>
                </a:lnTo>
                <a:lnTo>
                  <a:pt x="14" y="388"/>
                </a:lnTo>
                <a:lnTo>
                  <a:pt x="14" y="370"/>
                </a:lnTo>
                <a:lnTo>
                  <a:pt x="23" y="360"/>
                </a:lnTo>
                <a:lnTo>
                  <a:pt x="11" y="335"/>
                </a:lnTo>
                <a:lnTo>
                  <a:pt x="5" y="323"/>
                </a:lnTo>
                <a:lnTo>
                  <a:pt x="5" y="311"/>
                </a:lnTo>
                <a:lnTo>
                  <a:pt x="8" y="300"/>
                </a:lnTo>
                <a:lnTo>
                  <a:pt x="8" y="291"/>
                </a:lnTo>
                <a:lnTo>
                  <a:pt x="14" y="283"/>
                </a:lnTo>
                <a:lnTo>
                  <a:pt x="14" y="267"/>
                </a:lnTo>
                <a:lnTo>
                  <a:pt x="9" y="252"/>
                </a:lnTo>
                <a:lnTo>
                  <a:pt x="23" y="246"/>
                </a:lnTo>
                <a:lnTo>
                  <a:pt x="23" y="232"/>
                </a:lnTo>
                <a:lnTo>
                  <a:pt x="24" y="228"/>
                </a:lnTo>
                <a:lnTo>
                  <a:pt x="23" y="221"/>
                </a:lnTo>
                <a:lnTo>
                  <a:pt x="11" y="204"/>
                </a:lnTo>
                <a:lnTo>
                  <a:pt x="20" y="201"/>
                </a:lnTo>
                <a:lnTo>
                  <a:pt x="20" y="178"/>
                </a:lnTo>
                <a:lnTo>
                  <a:pt x="14" y="157"/>
                </a:lnTo>
                <a:lnTo>
                  <a:pt x="11" y="140"/>
                </a:lnTo>
                <a:lnTo>
                  <a:pt x="8" y="133"/>
                </a:lnTo>
                <a:lnTo>
                  <a:pt x="17" y="125"/>
                </a:lnTo>
                <a:lnTo>
                  <a:pt x="11" y="122"/>
                </a:lnTo>
                <a:lnTo>
                  <a:pt x="11" y="108"/>
                </a:lnTo>
                <a:lnTo>
                  <a:pt x="5" y="108"/>
                </a:lnTo>
                <a:lnTo>
                  <a:pt x="0" y="93"/>
                </a:lnTo>
                <a:lnTo>
                  <a:pt x="5" y="82"/>
                </a:lnTo>
                <a:lnTo>
                  <a:pt x="5" y="67"/>
                </a:lnTo>
                <a:lnTo>
                  <a:pt x="9" y="62"/>
                </a:lnTo>
                <a:lnTo>
                  <a:pt x="9" y="58"/>
                </a:lnTo>
                <a:lnTo>
                  <a:pt x="14" y="51"/>
                </a:lnTo>
                <a:lnTo>
                  <a:pt x="8" y="43"/>
                </a:lnTo>
                <a:lnTo>
                  <a:pt x="8" y="23"/>
                </a:lnTo>
                <a:lnTo>
                  <a:pt x="20" y="23"/>
                </a:lnTo>
                <a:lnTo>
                  <a:pt x="35" y="13"/>
                </a:lnTo>
                <a:lnTo>
                  <a:pt x="42" y="13"/>
                </a:lnTo>
                <a:lnTo>
                  <a:pt x="44" y="0"/>
                </a:lnTo>
                <a:lnTo>
                  <a:pt x="382" y="0"/>
                </a:lnTo>
                <a:lnTo>
                  <a:pt x="378"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Rectangle 216"/>
          <p:cNvSpPr/>
          <p:nvPr/>
        </p:nvSpPr>
        <p:spPr>
          <a:xfrm>
            <a:off x="6167520" y="3090960"/>
            <a:ext cx="757080" cy="41040"/>
          </a:xfrm>
          <a:prstGeom prst="rect">
            <a:avLst/>
          </a:prstGeom>
          <a:solidFill>
            <a:srgbClr val="fffff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1" name="Rectangle 217"/>
          <p:cNvSpPr/>
          <p:nvPr/>
        </p:nvSpPr>
        <p:spPr>
          <a:xfrm>
            <a:off x="6167520" y="3051000"/>
            <a:ext cx="757080" cy="39960"/>
          </a:xfrm>
          <a:prstGeom prst="rect">
            <a:avLst/>
          </a:prstGeom>
          <a:solidFill>
            <a:srgbClr val="fffffb"/>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2" name="Rectangle 218"/>
          <p:cNvSpPr/>
          <p:nvPr/>
        </p:nvSpPr>
        <p:spPr>
          <a:xfrm>
            <a:off x="6167520" y="3008160"/>
            <a:ext cx="757080" cy="42840"/>
          </a:xfrm>
          <a:prstGeom prst="rect">
            <a:avLst/>
          </a:prstGeom>
          <a:solidFill>
            <a:srgbClr val="fffff6"/>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3" name="Rectangle 219"/>
          <p:cNvSpPr/>
          <p:nvPr/>
        </p:nvSpPr>
        <p:spPr>
          <a:xfrm>
            <a:off x="6167520" y="2970360"/>
            <a:ext cx="757080" cy="37800"/>
          </a:xfrm>
          <a:prstGeom prst="rect">
            <a:avLst/>
          </a:prstGeom>
          <a:solidFill>
            <a:srgbClr val="fffff2"/>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4" name="Rectangle 220"/>
          <p:cNvSpPr/>
          <p:nvPr/>
        </p:nvSpPr>
        <p:spPr>
          <a:xfrm>
            <a:off x="6167520" y="2925720"/>
            <a:ext cx="757080" cy="44640"/>
          </a:xfrm>
          <a:prstGeom prst="rect">
            <a:avLst/>
          </a:prstGeom>
          <a:solidFill>
            <a:srgbClr val="ffffee"/>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5" name="Rectangle 221"/>
          <p:cNvSpPr/>
          <p:nvPr/>
        </p:nvSpPr>
        <p:spPr>
          <a:xfrm>
            <a:off x="6167520" y="2886120"/>
            <a:ext cx="757080" cy="39600"/>
          </a:xfrm>
          <a:prstGeom prst="rect">
            <a:avLst/>
          </a:prstGeom>
          <a:solidFill>
            <a:srgbClr val="ffffe9"/>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6" name="Rectangle 222"/>
          <p:cNvSpPr/>
          <p:nvPr/>
        </p:nvSpPr>
        <p:spPr>
          <a:xfrm>
            <a:off x="6167520" y="2843280"/>
            <a:ext cx="757080" cy="42840"/>
          </a:xfrm>
          <a:prstGeom prst="rect">
            <a:avLst/>
          </a:prstGeom>
          <a:solidFill>
            <a:srgbClr val="ffffe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7" name="Rectangle 223"/>
          <p:cNvSpPr/>
          <p:nvPr/>
        </p:nvSpPr>
        <p:spPr>
          <a:xfrm>
            <a:off x="6167520" y="2805120"/>
            <a:ext cx="757080" cy="38160"/>
          </a:xfrm>
          <a:prstGeom prst="rect">
            <a:avLst/>
          </a:prstGeom>
          <a:solidFill>
            <a:srgbClr val="ffffe1"/>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8" name="Rectangle 224"/>
          <p:cNvSpPr/>
          <p:nvPr/>
        </p:nvSpPr>
        <p:spPr>
          <a:xfrm>
            <a:off x="6167520" y="2762280"/>
            <a:ext cx="757080" cy="42840"/>
          </a:xfrm>
          <a:prstGeom prst="rect">
            <a:avLst/>
          </a:prstGeom>
          <a:solidFill>
            <a:srgbClr val="ffffdc"/>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9" name="Rectangle 225"/>
          <p:cNvSpPr/>
          <p:nvPr/>
        </p:nvSpPr>
        <p:spPr>
          <a:xfrm>
            <a:off x="6167520" y="2724120"/>
            <a:ext cx="757080" cy="38160"/>
          </a:xfrm>
          <a:prstGeom prst="rect">
            <a:avLst/>
          </a:prstGeom>
          <a:solidFill>
            <a:srgbClr val="ffffd8"/>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0" name="Rectangle 226"/>
          <p:cNvSpPr/>
          <p:nvPr/>
        </p:nvSpPr>
        <p:spPr>
          <a:xfrm>
            <a:off x="6167520" y="2682720"/>
            <a:ext cx="757080" cy="41400"/>
          </a:xfrm>
          <a:prstGeom prst="rect">
            <a:avLst/>
          </a:prstGeom>
          <a:solidFill>
            <a:srgbClr val="ffffd3"/>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1" name="Rectangle 227"/>
          <p:cNvSpPr/>
          <p:nvPr/>
        </p:nvSpPr>
        <p:spPr>
          <a:xfrm>
            <a:off x="6167520" y="2639880"/>
            <a:ext cx="757080" cy="42840"/>
          </a:xfrm>
          <a:prstGeom prst="rect">
            <a:avLst/>
          </a:prstGeom>
          <a:solidFill>
            <a:srgbClr val="ffffc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2" name="Rectangle 228"/>
          <p:cNvSpPr/>
          <p:nvPr/>
        </p:nvSpPr>
        <p:spPr>
          <a:xfrm>
            <a:off x="6167520" y="2600280"/>
            <a:ext cx="757080" cy="39600"/>
          </a:xfrm>
          <a:prstGeom prst="rect">
            <a:avLst/>
          </a:prstGeom>
          <a:solidFill>
            <a:srgbClr val="ffffcb"/>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3" name="Rectangle 229"/>
          <p:cNvSpPr/>
          <p:nvPr/>
        </p:nvSpPr>
        <p:spPr>
          <a:xfrm>
            <a:off x="6167520" y="2560680"/>
            <a:ext cx="757080" cy="39600"/>
          </a:xfrm>
          <a:prstGeom prst="rect">
            <a:avLst/>
          </a:prstGeom>
          <a:solidFill>
            <a:srgbClr val="ffffc6"/>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4" name="Rectangle 230"/>
          <p:cNvSpPr/>
          <p:nvPr/>
        </p:nvSpPr>
        <p:spPr>
          <a:xfrm>
            <a:off x="6167520" y="2521080"/>
            <a:ext cx="757080" cy="39600"/>
          </a:xfrm>
          <a:prstGeom prst="rect">
            <a:avLst/>
          </a:prstGeom>
          <a:solidFill>
            <a:srgbClr val="ffffc2"/>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5" name="Freeform 231"/>
          <p:cNvSpPr/>
          <p:nvPr/>
        </p:nvSpPr>
        <p:spPr>
          <a:xfrm>
            <a:off x="6167520" y="2521080"/>
            <a:ext cx="757080" cy="610920"/>
          </a:xfrm>
          <a:custGeom>
            <a:avLst/>
            <a:gdLst>
              <a:gd name="textAreaLeft" fmla="*/ 0 w 757080"/>
              <a:gd name="textAreaRight" fmla="*/ 757440 w 757080"/>
              <a:gd name="textAreaTop" fmla="*/ 0 h 610920"/>
              <a:gd name="textAreaBottom" fmla="*/ 611280 h 610920"/>
            </a:gdLst>
            <a:ahLst/>
            <a:rect l="textAreaLeft" t="textAreaTop" r="textAreaRight" b="textAreaBottom"/>
            <a:pathLst>
              <a:path w="469" h="505">
                <a:moveTo>
                  <a:pt x="17" y="0"/>
                </a:moveTo>
                <a:lnTo>
                  <a:pt x="361" y="3"/>
                </a:lnTo>
                <a:lnTo>
                  <a:pt x="361" y="12"/>
                </a:lnTo>
                <a:lnTo>
                  <a:pt x="367" y="20"/>
                </a:lnTo>
                <a:lnTo>
                  <a:pt x="371" y="30"/>
                </a:lnTo>
                <a:lnTo>
                  <a:pt x="371" y="44"/>
                </a:lnTo>
                <a:lnTo>
                  <a:pt x="384" y="59"/>
                </a:lnTo>
                <a:lnTo>
                  <a:pt x="392" y="55"/>
                </a:lnTo>
                <a:lnTo>
                  <a:pt x="405" y="59"/>
                </a:lnTo>
                <a:lnTo>
                  <a:pt x="368" y="73"/>
                </a:lnTo>
                <a:lnTo>
                  <a:pt x="396" y="83"/>
                </a:lnTo>
                <a:lnTo>
                  <a:pt x="422" y="93"/>
                </a:lnTo>
                <a:lnTo>
                  <a:pt x="393" y="108"/>
                </a:lnTo>
                <a:lnTo>
                  <a:pt x="401" y="123"/>
                </a:lnTo>
                <a:lnTo>
                  <a:pt x="379" y="132"/>
                </a:lnTo>
                <a:lnTo>
                  <a:pt x="367" y="132"/>
                </a:lnTo>
                <a:lnTo>
                  <a:pt x="362" y="133"/>
                </a:lnTo>
                <a:lnTo>
                  <a:pt x="367" y="154"/>
                </a:lnTo>
                <a:lnTo>
                  <a:pt x="359" y="173"/>
                </a:lnTo>
                <a:lnTo>
                  <a:pt x="369" y="178"/>
                </a:lnTo>
                <a:lnTo>
                  <a:pt x="390" y="183"/>
                </a:lnTo>
                <a:lnTo>
                  <a:pt x="411" y="189"/>
                </a:lnTo>
                <a:lnTo>
                  <a:pt x="419" y="203"/>
                </a:lnTo>
                <a:lnTo>
                  <a:pt x="382" y="217"/>
                </a:lnTo>
                <a:lnTo>
                  <a:pt x="397" y="218"/>
                </a:lnTo>
                <a:lnTo>
                  <a:pt x="410" y="227"/>
                </a:lnTo>
                <a:lnTo>
                  <a:pt x="416" y="241"/>
                </a:lnTo>
                <a:lnTo>
                  <a:pt x="436" y="260"/>
                </a:lnTo>
                <a:lnTo>
                  <a:pt x="429" y="270"/>
                </a:lnTo>
                <a:lnTo>
                  <a:pt x="429" y="287"/>
                </a:lnTo>
                <a:lnTo>
                  <a:pt x="439" y="292"/>
                </a:lnTo>
                <a:lnTo>
                  <a:pt x="451" y="298"/>
                </a:lnTo>
                <a:lnTo>
                  <a:pt x="467" y="310"/>
                </a:lnTo>
                <a:lnTo>
                  <a:pt x="460" y="310"/>
                </a:lnTo>
                <a:lnTo>
                  <a:pt x="469" y="332"/>
                </a:lnTo>
                <a:lnTo>
                  <a:pt x="464" y="340"/>
                </a:lnTo>
                <a:lnTo>
                  <a:pt x="469" y="340"/>
                </a:lnTo>
                <a:lnTo>
                  <a:pt x="464" y="354"/>
                </a:lnTo>
                <a:lnTo>
                  <a:pt x="469" y="361"/>
                </a:lnTo>
                <a:lnTo>
                  <a:pt x="467" y="382"/>
                </a:lnTo>
                <a:lnTo>
                  <a:pt x="464" y="406"/>
                </a:lnTo>
                <a:lnTo>
                  <a:pt x="449" y="406"/>
                </a:lnTo>
                <a:lnTo>
                  <a:pt x="378" y="421"/>
                </a:lnTo>
                <a:lnTo>
                  <a:pt x="390" y="429"/>
                </a:lnTo>
                <a:lnTo>
                  <a:pt x="379" y="436"/>
                </a:lnTo>
                <a:lnTo>
                  <a:pt x="362" y="455"/>
                </a:lnTo>
                <a:lnTo>
                  <a:pt x="382" y="469"/>
                </a:lnTo>
                <a:lnTo>
                  <a:pt x="379" y="476"/>
                </a:lnTo>
                <a:lnTo>
                  <a:pt x="396" y="493"/>
                </a:lnTo>
                <a:lnTo>
                  <a:pt x="378" y="505"/>
                </a:lnTo>
                <a:lnTo>
                  <a:pt x="45" y="505"/>
                </a:lnTo>
                <a:lnTo>
                  <a:pt x="48" y="495"/>
                </a:lnTo>
                <a:lnTo>
                  <a:pt x="32" y="475"/>
                </a:lnTo>
                <a:lnTo>
                  <a:pt x="41" y="459"/>
                </a:lnTo>
                <a:lnTo>
                  <a:pt x="49" y="449"/>
                </a:lnTo>
                <a:lnTo>
                  <a:pt x="42" y="429"/>
                </a:lnTo>
                <a:lnTo>
                  <a:pt x="49" y="421"/>
                </a:lnTo>
                <a:lnTo>
                  <a:pt x="11" y="412"/>
                </a:lnTo>
                <a:lnTo>
                  <a:pt x="1" y="404"/>
                </a:lnTo>
                <a:lnTo>
                  <a:pt x="0" y="395"/>
                </a:lnTo>
                <a:lnTo>
                  <a:pt x="2" y="386"/>
                </a:lnTo>
                <a:lnTo>
                  <a:pt x="0" y="372"/>
                </a:lnTo>
                <a:lnTo>
                  <a:pt x="9" y="364"/>
                </a:lnTo>
                <a:lnTo>
                  <a:pt x="8" y="344"/>
                </a:lnTo>
                <a:lnTo>
                  <a:pt x="5" y="332"/>
                </a:lnTo>
                <a:lnTo>
                  <a:pt x="9" y="322"/>
                </a:lnTo>
                <a:lnTo>
                  <a:pt x="8" y="307"/>
                </a:lnTo>
                <a:lnTo>
                  <a:pt x="9" y="298"/>
                </a:lnTo>
                <a:lnTo>
                  <a:pt x="17" y="291"/>
                </a:lnTo>
                <a:lnTo>
                  <a:pt x="11" y="271"/>
                </a:lnTo>
                <a:lnTo>
                  <a:pt x="14" y="260"/>
                </a:lnTo>
                <a:lnTo>
                  <a:pt x="14" y="258"/>
                </a:lnTo>
                <a:lnTo>
                  <a:pt x="24" y="236"/>
                </a:lnTo>
                <a:lnTo>
                  <a:pt x="24" y="220"/>
                </a:lnTo>
                <a:lnTo>
                  <a:pt x="34" y="212"/>
                </a:lnTo>
                <a:lnTo>
                  <a:pt x="56" y="203"/>
                </a:lnTo>
                <a:lnTo>
                  <a:pt x="42" y="189"/>
                </a:lnTo>
                <a:lnTo>
                  <a:pt x="38" y="188"/>
                </a:lnTo>
                <a:lnTo>
                  <a:pt x="54" y="178"/>
                </a:lnTo>
                <a:lnTo>
                  <a:pt x="54" y="173"/>
                </a:lnTo>
                <a:lnTo>
                  <a:pt x="47" y="167"/>
                </a:lnTo>
                <a:lnTo>
                  <a:pt x="42" y="164"/>
                </a:lnTo>
                <a:lnTo>
                  <a:pt x="49" y="148"/>
                </a:lnTo>
                <a:lnTo>
                  <a:pt x="53" y="137"/>
                </a:lnTo>
                <a:lnTo>
                  <a:pt x="24" y="123"/>
                </a:lnTo>
                <a:lnTo>
                  <a:pt x="38" y="104"/>
                </a:lnTo>
                <a:lnTo>
                  <a:pt x="22" y="101"/>
                </a:lnTo>
                <a:lnTo>
                  <a:pt x="14" y="84"/>
                </a:lnTo>
                <a:lnTo>
                  <a:pt x="28" y="77"/>
                </a:lnTo>
                <a:lnTo>
                  <a:pt x="44" y="77"/>
                </a:lnTo>
                <a:lnTo>
                  <a:pt x="14" y="55"/>
                </a:lnTo>
                <a:lnTo>
                  <a:pt x="33" y="45"/>
                </a:lnTo>
                <a:lnTo>
                  <a:pt x="44" y="45"/>
                </a:lnTo>
                <a:lnTo>
                  <a:pt x="48" y="30"/>
                </a:lnTo>
                <a:lnTo>
                  <a:pt x="33" y="3"/>
                </a:lnTo>
                <a:lnTo>
                  <a:pt x="44" y="5"/>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Rectangle 232"/>
          <p:cNvSpPr/>
          <p:nvPr/>
        </p:nvSpPr>
        <p:spPr>
          <a:xfrm>
            <a:off x="6167520" y="3090960"/>
            <a:ext cx="757080" cy="41040"/>
          </a:xfrm>
          <a:prstGeom prst="rect">
            <a:avLst/>
          </a:prstGeom>
          <a:solidFill>
            <a:srgbClr val="fffff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7" name="Rectangle 233"/>
          <p:cNvSpPr/>
          <p:nvPr/>
        </p:nvSpPr>
        <p:spPr>
          <a:xfrm>
            <a:off x="6167520" y="3051000"/>
            <a:ext cx="757080" cy="39960"/>
          </a:xfrm>
          <a:prstGeom prst="rect">
            <a:avLst/>
          </a:prstGeom>
          <a:solidFill>
            <a:srgbClr val="fffffb"/>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8" name="Rectangle 234"/>
          <p:cNvSpPr/>
          <p:nvPr/>
        </p:nvSpPr>
        <p:spPr>
          <a:xfrm>
            <a:off x="6167520" y="3008160"/>
            <a:ext cx="757080" cy="42840"/>
          </a:xfrm>
          <a:prstGeom prst="rect">
            <a:avLst/>
          </a:prstGeom>
          <a:solidFill>
            <a:srgbClr val="fffff6"/>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9" name="Rectangle 235"/>
          <p:cNvSpPr/>
          <p:nvPr/>
        </p:nvSpPr>
        <p:spPr>
          <a:xfrm>
            <a:off x="6167520" y="2970360"/>
            <a:ext cx="757080" cy="37800"/>
          </a:xfrm>
          <a:prstGeom prst="rect">
            <a:avLst/>
          </a:prstGeom>
          <a:solidFill>
            <a:srgbClr val="fffff2"/>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0" name="Rectangle 236"/>
          <p:cNvSpPr/>
          <p:nvPr/>
        </p:nvSpPr>
        <p:spPr>
          <a:xfrm>
            <a:off x="6167520" y="2925720"/>
            <a:ext cx="757080" cy="44640"/>
          </a:xfrm>
          <a:prstGeom prst="rect">
            <a:avLst/>
          </a:prstGeom>
          <a:solidFill>
            <a:srgbClr val="ffffee"/>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1" name="Rectangle 237"/>
          <p:cNvSpPr/>
          <p:nvPr/>
        </p:nvSpPr>
        <p:spPr>
          <a:xfrm>
            <a:off x="6167520" y="2886120"/>
            <a:ext cx="757080" cy="39600"/>
          </a:xfrm>
          <a:prstGeom prst="rect">
            <a:avLst/>
          </a:prstGeom>
          <a:solidFill>
            <a:srgbClr val="ffffe9"/>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2" name="Rectangle 238"/>
          <p:cNvSpPr/>
          <p:nvPr/>
        </p:nvSpPr>
        <p:spPr>
          <a:xfrm>
            <a:off x="6167520" y="2843280"/>
            <a:ext cx="757080" cy="42840"/>
          </a:xfrm>
          <a:prstGeom prst="rect">
            <a:avLst/>
          </a:prstGeom>
          <a:solidFill>
            <a:srgbClr val="ffffe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3" name="Rectangle 239"/>
          <p:cNvSpPr/>
          <p:nvPr/>
        </p:nvSpPr>
        <p:spPr>
          <a:xfrm>
            <a:off x="6167520" y="2805120"/>
            <a:ext cx="757080" cy="38160"/>
          </a:xfrm>
          <a:prstGeom prst="rect">
            <a:avLst/>
          </a:prstGeom>
          <a:solidFill>
            <a:srgbClr val="ffffe1"/>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4" name="Rectangle 240"/>
          <p:cNvSpPr/>
          <p:nvPr/>
        </p:nvSpPr>
        <p:spPr>
          <a:xfrm>
            <a:off x="6167520" y="2762280"/>
            <a:ext cx="757080" cy="42840"/>
          </a:xfrm>
          <a:prstGeom prst="rect">
            <a:avLst/>
          </a:prstGeom>
          <a:solidFill>
            <a:srgbClr val="ffffdc"/>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5" name="Rectangle 241"/>
          <p:cNvSpPr/>
          <p:nvPr/>
        </p:nvSpPr>
        <p:spPr>
          <a:xfrm>
            <a:off x="6167520" y="2724120"/>
            <a:ext cx="757080" cy="38160"/>
          </a:xfrm>
          <a:prstGeom prst="rect">
            <a:avLst/>
          </a:prstGeom>
          <a:solidFill>
            <a:srgbClr val="ffffd8"/>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6" name="Rectangle 242"/>
          <p:cNvSpPr/>
          <p:nvPr/>
        </p:nvSpPr>
        <p:spPr>
          <a:xfrm>
            <a:off x="6167520" y="2682720"/>
            <a:ext cx="757080" cy="41400"/>
          </a:xfrm>
          <a:prstGeom prst="rect">
            <a:avLst/>
          </a:prstGeom>
          <a:solidFill>
            <a:srgbClr val="ffffd3"/>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7" name="Rectangle 243"/>
          <p:cNvSpPr/>
          <p:nvPr/>
        </p:nvSpPr>
        <p:spPr>
          <a:xfrm>
            <a:off x="6167520" y="2639880"/>
            <a:ext cx="757080" cy="42840"/>
          </a:xfrm>
          <a:prstGeom prst="rect">
            <a:avLst/>
          </a:prstGeom>
          <a:solidFill>
            <a:srgbClr val="ffffc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8" name="Rectangle 244"/>
          <p:cNvSpPr/>
          <p:nvPr/>
        </p:nvSpPr>
        <p:spPr>
          <a:xfrm>
            <a:off x="6167520" y="2600280"/>
            <a:ext cx="757080" cy="39600"/>
          </a:xfrm>
          <a:prstGeom prst="rect">
            <a:avLst/>
          </a:prstGeom>
          <a:solidFill>
            <a:srgbClr val="ffffcb"/>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9" name="Rectangle 245"/>
          <p:cNvSpPr/>
          <p:nvPr/>
        </p:nvSpPr>
        <p:spPr>
          <a:xfrm>
            <a:off x="6167520" y="2560680"/>
            <a:ext cx="757080" cy="39600"/>
          </a:xfrm>
          <a:prstGeom prst="rect">
            <a:avLst/>
          </a:prstGeom>
          <a:solidFill>
            <a:srgbClr val="ffffc6"/>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0" name="Rectangle 246"/>
          <p:cNvSpPr/>
          <p:nvPr/>
        </p:nvSpPr>
        <p:spPr>
          <a:xfrm>
            <a:off x="6167520" y="2521080"/>
            <a:ext cx="757080" cy="39600"/>
          </a:xfrm>
          <a:prstGeom prst="rect">
            <a:avLst/>
          </a:prstGeom>
          <a:solidFill>
            <a:srgbClr val="ffffc2"/>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1" name="Freeform 247"/>
          <p:cNvSpPr/>
          <p:nvPr/>
        </p:nvSpPr>
        <p:spPr>
          <a:xfrm>
            <a:off x="6167520" y="2521080"/>
            <a:ext cx="757080" cy="610920"/>
          </a:xfrm>
          <a:custGeom>
            <a:avLst/>
            <a:gdLst>
              <a:gd name="textAreaLeft" fmla="*/ 0 w 757080"/>
              <a:gd name="textAreaRight" fmla="*/ 757440 w 757080"/>
              <a:gd name="textAreaTop" fmla="*/ 0 h 610920"/>
              <a:gd name="textAreaBottom" fmla="*/ 611280 h 610920"/>
            </a:gdLst>
            <a:ahLst/>
            <a:rect l="textAreaLeft" t="textAreaTop" r="textAreaRight" b="textAreaBottom"/>
            <a:pathLst>
              <a:path w="469" h="505">
                <a:moveTo>
                  <a:pt x="17" y="0"/>
                </a:moveTo>
                <a:lnTo>
                  <a:pt x="361" y="3"/>
                </a:lnTo>
                <a:lnTo>
                  <a:pt x="361" y="12"/>
                </a:lnTo>
                <a:lnTo>
                  <a:pt x="367" y="20"/>
                </a:lnTo>
                <a:lnTo>
                  <a:pt x="371" y="30"/>
                </a:lnTo>
                <a:lnTo>
                  <a:pt x="371" y="44"/>
                </a:lnTo>
                <a:lnTo>
                  <a:pt x="384" y="59"/>
                </a:lnTo>
                <a:lnTo>
                  <a:pt x="392" y="55"/>
                </a:lnTo>
                <a:lnTo>
                  <a:pt x="405" y="59"/>
                </a:lnTo>
                <a:lnTo>
                  <a:pt x="368" y="73"/>
                </a:lnTo>
                <a:lnTo>
                  <a:pt x="396" y="83"/>
                </a:lnTo>
                <a:lnTo>
                  <a:pt x="422" y="93"/>
                </a:lnTo>
                <a:lnTo>
                  <a:pt x="393" y="108"/>
                </a:lnTo>
                <a:lnTo>
                  <a:pt x="401" y="123"/>
                </a:lnTo>
                <a:lnTo>
                  <a:pt x="379" y="132"/>
                </a:lnTo>
                <a:lnTo>
                  <a:pt x="367" y="132"/>
                </a:lnTo>
                <a:lnTo>
                  <a:pt x="362" y="133"/>
                </a:lnTo>
                <a:lnTo>
                  <a:pt x="367" y="154"/>
                </a:lnTo>
                <a:lnTo>
                  <a:pt x="359" y="173"/>
                </a:lnTo>
                <a:lnTo>
                  <a:pt x="369" y="178"/>
                </a:lnTo>
                <a:lnTo>
                  <a:pt x="390" y="183"/>
                </a:lnTo>
                <a:lnTo>
                  <a:pt x="411" y="189"/>
                </a:lnTo>
                <a:lnTo>
                  <a:pt x="419" y="203"/>
                </a:lnTo>
                <a:lnTo>
                  <a:pt x="382" y="217"/>
                </a:lnTo>
                <a:lnTo>
                  <a:pt x="397" y="218"/>
                </a:lnTo>
                <a:lnTo>
                  <a:pt x="410" y="227"/>
                </a:lnTo>
                <a:lnTo>
                  <a:pt x="416" y="241"/>
                </a:lnTo>
                <a:lnTo>
                  <a:pt x="436" y="260"/>
                </a:lnTo>
                <a:lnTo>
                  <a:pt x="429" y="270"/>
                </a:lnTo>
                <a:lnTo>
                  <a:pt x="429" y="287"/>
                </a:lnTo>
                <a:lnTo>
                  <a:pt x="439" y="292"/>
                </a:lnTo>
                <a:lnTo>
                  <a:pt x="451" y="298"/>
                </a:lnTo>
                <a:lnTo>
                  <a:pt x="467" y="310"/>
                </a:lnTo>
                <a:lnTo>
                  <a:pt x="460" y="310"/>
                </a:lnTo>
                <a:lnTo>
                  <a:pt x="469" y="332"/>
                </a:lnTo>
                <a:lnTo>
                  <a:pt x="464" y="340"/>
                </a:lnTo>
                <a:lnTo>
                  <a:pt x="469" y="340"/>
                </a:lnTo>
                <a:lnTo>
                  <a:pt x="464" y="354"/>
                </a:lnTo>
                <a:lnTo>
                  <a:pt x="469" y="361"/>
                </a:lnTo>
                <a:lnTo>
                  <a:pt x="467" y="382"/>
                </a:lnTo>
                <a:lnTo>
                  <a:pt x="464" y="406"/>
                </a:lnTo>
                <a:lnTo>
                  <a:pt x="449" y="406"/>
                </a:lnTo>
                <a:lnTo>
                  <a:pt x="378" y="421"/>
                </a:lnTo>
                <a:lnTo>
                  <a:pt x="390" y="429"/>
                </a:lnTo>
                <a:lnTo>
                  <a:pt x="379" y="436"/>
                </a:lnTo>
                <a:lnTo>
                  <a:pt x="362" y="455"/>
                </a:lnTo>
                <a:lnTo>
                  <a:pt x="382" y="469"/>
                </a:lnTo>
                <a:lnTo>
                  <a:pt x="379" y="476"/>
                </a:lnTo>
                <a:lnTo>
                  <a:pt x="396" y="493"/>
                </a:lnTo>
                <a:lnTo>
                  <a:pt x="378" y="505"/>
                </a:lnTo>
                <a:lnTo>
                  <a:pt x="45" y="505"/>
                </a:lnTo>
                <a:lnTo>
                  <a:pt x="48" y="495"/>
                </a:lnTo>
                <a:lnTo>
                  <a:pt x="32" y="475"/>
                </a:lnTo>
                <a:lnTo>
                  <a:pt x="41" y="459"/>
                </a:lnTo>
                <a:lnTo>
                  <a:pt x="49" y="449"/>
                </a:lnTo>
                <a:lnTo>
                  <a:pt x="42" y="429"/>
                </a:lnTo>
                <a:lnTo>
                  <a:pt x="49" y="421"/>
                </a:lnTo>
                <a:lnTo>
                  <a:pt x="11" y="412"/>
                </a:lnTo>
                <a:lnTo>
                  <a:pt x="1" y="404"/>
                </a:lnTo>
                <a:lnTo>
                  <a:pt x="0" y="395"/>
                </a:lnTo>
                <a:lnTo>
                  <a:pt x="2" y="386"/>
                </a:lnTo>
                <a:lnTo>
                  <a:pt x="0" y="372"/>
                </a:lnTo>
                <a:lnTo>
                  <a:pt x="9" y="364"/>
                </a:lnTo>
                <a:lnTo>
                  <a:pt x="8" y="344"/>
                </a:lnTo>
                <a:lnTo>
                  <a:pt x="5" y="332"/>
                </a:lnTo>
                <a:lnTo>
                  <a:pt x="9" y="322"/>
                </a:lnTo>
                <a:lnTo>
                  <a:pt x="8" y="307"/>
                </a:lnTo>
                <a:lnTo>
                  <a:pt x="9" y="298"/>
                </a:lnTo>
                <a:lnTo>
                  <a:pt x="17" y="291"/>
                </a:lnTo>
                <a:lnTo>
                  <a:pt x="11" y="271"/>
                </a:lnTo>
                <a:lnTo>
                  <a:pt x="14" y="260"/>
                </a:lnTo>
                <a:lnTo>
                  <a:pt x="14" y="258"/>
                </a:lnTo>
                <a:lnTo>
                  <a:pt x="24" y="236"/>
                </a:lnTo>
                <a:lnTo>
                  <a:pt x="24" y="220"/>
                </a:lnTo>
                <a:lnTo>
                  <a:pt x="34" y="212"/>
                </a:lnTo>
                <a:lnTo>
                  <a:pt x="56" y="203"/>
                </a:lnTo>
                <a:lnTo>
                  <a:pt x="42" y="189"/>
                </a:lnTo>
                <a:lnTo>
                  <a:pt x="38" y="188"/>
                </a:lnTo>
                <a:lnTo>
                  <a:pt x="54" y="178"/>
                </a:lnTo>
                <a:lnTo>
                  <a:pt x="54" y="173"/>
                </a:lnTo>
                <a:lnTo>
                  <a:pt x="47" y="167"/>
                </a:lnTo>
                <a:lnTo>
                  <a:pt x="42" y="164"/>
                </a:lnTo>
                <a:lnTo>
                  <a:pt x="49" y="148"/>
                </a:lnTo>
                <a:lnTo>
                  <a:pt x="53" y="137"/>
                </a:lnTo>
                <a:lnTo>
                  <a:pt x="24" y="123"/>
                </a:lnTo>
                <a:lnTo>
                  <a:pt x="38" y="104"/>
                </a:lnTo>
                <a:lnTo>
                  <a:pt x="22" y="101"/>
                </a:lnTo>
                <a:lnTo>
                  <a:pt x="14" y="84"/>
                </a:lnTo>
                <a:lnTo>
                  <a:pt x="28" y="77"/>
                </a:lnTo>
                <a:lnTo>
                  <a:pt x="44" y="77"/>
                </a:lnTo>
                <a:lnTo>
                  <a:pt x="14" y="55"/>
                </a:lnTo>
                <a:lnTo>
                  <a:pt x="33" y="45"/>
                </a:lnTo>
                <a:lnTo>
                  <a:pt x="44" y="45"/>
                </a:lnTo>
                <a:lnTo>
                  <a:pt x="48" y="30"/>
                </a:lnTo>
                <a:lnTo>
                  <a:pt x="33" y="3"/>
                </a:lnTo>
                <a:lnTo>
                  <a:pt x="44" y="5"/>
                </a:lnTo>
                <a:lnTo>
                  <a:pt x="17"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Freeform 248"/>
          <p:cNvSpPr/>
          <p:nvPr/>
        </p:nvSpPr>
        <p:spPr>
          <a:xfrm>
            <a:off x="6167520" y="2521080"/>
            <a:ext cx="757080" cy="610920"/>
          </a:xfrm>
          <a:custGeom>
            <a:avLst/>
            <a:gdLst>
              <a:gd name="textAreaLeft" fmla="*/ 0 w 757080"/>
              <a:gd name="textAreaRight" fmla="*/ 757440 w 757080"/>
              <a:gd name="textAreaTop" fmla="*/ 0 h 610920"/>
              <a:gd name="textAreaBottom" fmla="*/ 611280 h 610920"/>
            </a:gdLst>
            <a:ahLst/>
            <a:rect l="textAreaLeft" t="textAreaTop" r="textAreaRight" b="textAreaBottom"/>
            <a:pathLst>
              <a:path w="469" h="505">
                <a:moveTo>
                  <a:pt x="17" y="0"/>
                </a:moveTo>
                <a:lnTo>
                  <a:pt x="361" y="3"/>
                </a:lnTo>
                <a:lnTo>
                  <a:pt x="361" y="12"/>
                </a:lnTo>
                <a:lnTo>
                  <a:pt x="367" y="20"/>
                </a:lnTo>
                <a:lnTo>
                  <a:pt x="371" y="30"/>
                </a:lnTo>
                <a:lnTo>
                  <a:pt x="371" y="44"/>
                </a:lnTo>
                <a:lnTo>
                  <a:pt x="384" y="59"/>
                </a:lnTo>
                <a:lnTo>
                  <a:pt x="392" y="55"/>
                </a:lnTo>
                <a:lnTo>
                  <a:pt x="405" y="59"/>
                </a:lnTo>
                <a:lnTo>
                  <a:pt x="368" y="73"/>
                </a:lnTo>
                <a:lnTo>
                  <a:pt x="396" y="83"/>
                </a:lnTo>
                <a:lnTo>
                  <a:pt x="422" y="93"/>
                </a:lnTo>
                <a:lnTo>
                  <a:pt x="393" y="108"/>
                </a:lnTo>
                <a:lnTo>
                  <a:pt x="401" y="123"/>
                </a:lnTo>
                <a:lnTo>
                  <a:pt x="379" y="132"/>
                </a:lnTo>
                <a:lnTo>
                  <a:pt x="367" y="132"/>
                </a:lnTo>
                <a:lnTo>
                  <a:pt x="362" y="133"/>
                </a:lnTo>
                <a:lnTo>
                  <a:pt x="367" y="154"/>
                </a:lnTo>
                <a:lnTo>
                  <a:pt x="359" y="173"/>
                </a:lnTo>
                <a:lnTo>
                  <a:pt x="369" y="178"/>
                </a:lnTo>
                <a:lnTo>
                  <a:pt x="390" y="183"/>
                </a:lnTo>
                <a:lnTo>
                  <a:pt x="411" y="189"/>
                </a:lnTo>
                <a:lnTo>
                  <a:pt x="419" y="203"/>
                </a:lnTo>
                <a:lnTo>
                  <a:pt x="382" y="217"/>
                </a:lnTo>
                <a:lnTo>
                  <a:pt x="397" y="218"/>
                </a:lnTo>
                <a:lnTo>
                  <a:pt x="410" y="227"/>
                </a:lnTo>
                <a:lnTo>
                  <a:pt x="416" y="241"/>
                </a:lnTo>
                <a:lnTo>
                  <a:pt x="436" y="260"/>
                </a:lnTo>
                <a:lnTo>
                  <a:pt x="429" y="270"/>
                </a:lnTo>
                <a:lnTo>
                  <a:pt x="429" y="287"/>
                </a:lnTo>
                <a:lnTo>
                  <a:pt x="439" y="292"/>
                </a:lnTo>
                <a:lnTo>
                  <a:pt x="451" y="298"/>
                </a:lnTo>
                <a:lnTo>
                  <a:pt x="467" y="310"/>
                </a:lnTo>
                <a:lnTo>
                  <a:pt x="460" y="310"/>
                </a:lnTo>
                <a:lnTo>
                  <a:pt x="469" y="332"/>
                </a:lnTo>
                <a:lnTo>
                  <a:pt x="464" y="340"/>
                </a:lnTo>
                <a:lnTo>
                  <a:pt x="469" y="340"/>
                </a:lnTo>
                <a:lnTo>
                  <a:pt x="464" y="354"/>
                </a:lnTo>
                <a:lnTo>
                  <a:pt x="469" y="361"/>
                </a:lnTo>
                <a:lnTo>
                  <a:pt x="467" y="382"/>
                </a:lnTo>
                <a:lnTo>
                  <a:pt x="464" y="406"/>
                </a:lnTo>
                <a:lnTo>
                  <a:pt x="449" y="406"/>
                </a:lnTo>
                <a:lnTo>
                  <a:pt x="378" y="421"/>
                </a:lnTo>
                <a:lnTo>
                  <a:pt x="390" y="429"/>
                </a:lnTo>
                <a:lnTo>
                  <a:pt x="379" y="436"/>
                </a:lnTo>
                <a:lnTo>
                  <a:pt x="362" y="455"/>
                </a:lnTo>
                <a:lnTo>
                  <a:pt x="382" y="469"/>
                </a:lnTo>
                <a:lnTo>
                  <a:pt x="379" y="476"/>
                </a:lnTo>
                <a:lnTo>
                  <a:pt x="396" y="493"/>
                </a:lnTo>
                <a:lnTo>
                  <a:pt x="378" y="505"/>
                </a:lnTo>
                <a:lnTo>
                  <a:pt x="45" y="505"/>
                </a:lnTo>
                <a:lnTo>
                  <a:pt x="48" y="495"/>
                </a:lnTo>
                <a:lnTo>
                  <a:pt x="32" y="475"/>
                </a:lnTo>
                <a:lnTo>
                  <a:pt x="41" y="459"/>
                </a:lnTo>
                <a:lnTo>
                  <a:pt x="49" y="449"/>
                </a:lnTo>
                <a:lnTo>
                  <a:pt x="42" y="429"/>
                </a:lnTo>
                <a:lnTo>
                  <a:pt x="49" y="421"/>
                </a:lnTo>
                <a:lnTo>
                  <a:pt x="11" y="412"/>
                </a:lnTo>
                <a:lnTo>
                  <a:pt x="1" y="404"/>
                </a:lnTo>
                <a:lnTo>
                  <a:pt x="0" y="395"/>
                </a:lnTo>
                <a:lnTo>
                  <a:pt x="2" y="386"/>
                </a:lnTo>
                <a:lnTo>
                  <a:pt x="0" y="372"/>
                </a:lnTo>
                <a:lnTo>
                  <a:pt x="9" y="364"/>
                </a:lnTo>
                <a:lnTo>
                  <a:pt x="8" y="344"/>
                </a:lnTo>
                <a:lnTo>
                  <a:pt x="5" y="332"/>
                </a:lnTo>
                <a:lnTo>
                  <a:pt x="9" y="322"/>
                </a:lnTo>
                <a:lnTo>
                  <a:pt x="8" y="307"/>
                </a:lnTo>
                <a:lnTo>
                  <a:pt x="9" y="298"/>
                </a:lnTo>
                <a:lnTo>
                  <a:pt x="17" y="291"/>
                </a:lnTo>
                <a:lnTo>
                  <a:pt x="11" y="271"/>
                </a:lnTo>
                <a:lnTo>
                  <a:pt x="14" y="260"/>
                </a:lnTo>
                <a:lnTo>
                  <a:pt x="14" y="258"/>
                </a:lnTo>
                <a:lnTo>
                  <a:pt x="24" y="236"/>
                </a:lnTo>
                <a:lnTo>
                  <a:pt x="24" y="220"/>
                </a:lnTo>
                <a:lnTo>
                  <a:pt x="34" y="212"/>
                </a:lnTo>
                <a:lnTo>
                  <a:pt x="56" y="203"/>
                </a:lnTo>
                <a:lnTo>
                  <a:pt x="42" y="189"/>
                </a:lnTo>
                <a:lnTo>
                  <a:pt x="38" y="188"/>
                </a:lnTo>
                <a:lnTo>
                  <a:pt x="54" y="178"/>
                </a:lnTo>
                <a:lnTo>
                  <a:pt x="54" y="173"/>
                </a:lnTo>
                <a:lnTo>
                  <a:pt x="47" y="167"/>
                </a:lnTo>
                <a:lnTo>
                  <a:pt x="42" y="164"/>
                </a:lnTo>
                <a:lnTo>
                  <a:pt x="49" y="148"/>
                </a:lnTo>
                <a:lnTo>
                  <a:pt x="53" y="137"/>
                </a:lnTo>
                <a:lnTo>
                  <a:pt x="24" y="123"/>
                </a:lnTo>
                <a:lnTo>
                  <a:pt x="38" y="104"/>
                </a:lnTo>
                <a:lnTo>
                  <a:pt x="22" y="101"/>
                </a:lnTo>
                <a:lnTo>
                  <a:pt x="14" y="84"/>
                </a:lnTo>
                <a:lnTo>
                  <a:pt x="28" y="77"/>
                </a:lnTo>
                <a:lnTo>
                  <a:pt x="44" y="77"/>
                </a:lnTo>
                <a:lnTo>
                  <a:pt x="14" y="55"/>
                </a:lnTo>
                <a:lnTo>
                  <a:pt x="33" y="45"/>
                </a:lnTo>
                <a:lnTo>
                  <a:pt x="44" y="45"/>
                </a:lnTo>
                <a:lnTo>
                  <a:pt x="48" y="30"/>
                </a:lnTo>
                <a:lnTo>
                  <a:pt x="33" y="3"/>
                </a:lnTo>
                <a:lnTo>
                  <a:pt x="44" y="5"/>
                </a:lnTo>
                <a:lnTo>
                  <a:pt x="1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Line 249"/>
          <p:cNvSpPr/>
          <p:nvPr/>
        </p:nvSpPr>
        <p:spPr>
          <a:xfrm>
            <a:off x="6195960" y="2521080"/>
            <a:ext cx="3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Line 250"/>
          <p:cNvSpPr/>
          <p:nvPr/>
        </p:nvSpPr>
        <p:spPr>
          <a:xfrm>
            <a:off x="6154560" y="2604960"/>
            <a:ext cx="79380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35" name="Rectangle 251"/>
          <p:cNvSpPr/>
          <p:nvPr/>
        </p:nvSpPr>
        <p:spPr>
          <a:xfrm>
            <a:off x="6413400" y="2357280"/>
            <a:ext cx="66600" cy="233388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6" name="Freeform 252"/>
          <p:cNvSpPr/>
          <p:nvPr/>
        </p:nvSpPr>
        <p:spPr>
          <a:xfrm>
            <a:off x="222120" y="2604960"/>
            <a:ext cx="8686800" cy="6480"/>
          </a:xfrm>
          <a:custGeom>
            <a:avLst/>
            <a:gdLst>
              <a:gd name="textAreaLeft" fmla="*/ 0 w 8686800"/>
              <a:gd name="textAreaRight" fmla="*/ 8687160 w 8686800"/>
              <a:gd name="textAreaTop" fmla="*/ 0 h 6480"/>
              <a:gd name="textAreaBottom" fmla="*/ 6840 h 6480"/>
            </a:gdLst>
            <a:ahLst/>
            <a:rect l="textAreaLeft" t="textAreaTop" r="textAreaRight" b="textAreaBottom"/>
            <a:pathLst>
              <a:path w="4172" h="3">
                <a:moveTo>
                  <a:pt x="4172" y="2"/>
                </a:moveTo>
                <a:lnTo>
                  <a:pt x="3581" y="3"/>
                </a:lnTo>
                <a:lnTo>
                  <a:pt x="0" y="0"/>
                </a:lnTo>
              </a:path>
            </a:pathLst>
          </a:custGeom>
          <a:noFill/>
          <a:ln w="14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37" name="Rectangle 253"/>
          <p:cNvSpPr/>
          <p:nvPr/>
        </p:nvSpPr>
        <p:spPr>
          <a:xfrm>
            <a:off x="1825560" y="2347920"/>
            <a:ext cx="68400" cy="41576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8" name="Freeform 254"/>
          <p:cNvSpPr/>
          <p:nvPr/>
        </p:nvSpPr>
        <p:spPr>
          <a:xfrm>
            <a:off x="4041720" y="2365200"/>
            <a:ext cx="46080" cy="84240"/>
          </a:xfrm>
          <a:custGeom>
            <a:avLst/>
            <a:gdLst>
              <a:gd name="textAreaLeft" fmla="*/ 0 w 46080"/>
              <a:gd name="textAreaRight" fmla="*/ 46440 w 46080"/>
              <a:gd name="textAreaTop" fmla="*/ 0 h 84240"/>
              <a:gd name="textAreaBottom" fmla="*/ 84600 h 84240"/>
            </a:gdLst>
            <a:ahLst/>
            <a:rect l="textAreaLeft" t="textAreaTop" r="textAreaRight" b="textAreaBottom"/>
            <a:pathLst>
              <a:path w="29" h="68">
                <a:moveTo>
                  <a:pt x="6" y="0"/>
                </a:moveTo>
                <a:lnTo>
                  <a:pt x="29" y="60"/>
                </a:lnTo>
                <a:lnTo>
                  <a:pt x="29" y="67"/>
                </a:lnTo>
                <a:lnTo>
                  <a:pt x="0" y="68"/>
                </a:lnTo>
                <a:lnTo>
                  <a:pt x="5" y="0"/>
                </a:lnTo>
                <a:lnTo>
                  <a:pt x="6" y="0"/>
                </a:lnTo>
                <a:close/>
              </a:path>
            </a:pathLst>
          </a:custGeom>
          <a:solidFill>
            <a:srgbClr val="00ff00"/>
          </a:solidFill>
          <a:ln w="9360">
            <a:solidFill>
              <a:srgbClr val="00ff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39" name="Freeform 255"/>
          <p:cNvSpPr/>
          <p:nvPr/>
        </p:nvSpPr>
        <p:spPr>
          <a:xfrm>
            <a:off x="7059600" y="4654440"/>
            <a:ext cx="677880" cy="1258920"/>
          </a:xfrm>
          <a:custGeom>
            <a:avLst/>
            <a:gdLst>
              <a:gd name="textAreaLeft" fmla="*/ 0 w 677880"/>
              <a:gd name="textAreaRight" fmla="*/ 678240 w 677880"/>
              <a:gd name="textAreaTop" fmla="*/ 0 h 1258920"/>
              <a:gd name="textAreaBottom" fmla="*/ 1259280 h 1258920"/>
            </a:gdLst>
            <a:ahLst/>
            <a:rect l="textAreaLeft" t="textAreaTop" r="textAreaRight" b="textAreaBottom"/>
            <a:pathLst>
              <a:path w="416" h="1032">
                <a:moveTo>
                  <a:pt x="396" y="0"/>
                </a:moveTo>
                <a:lnTo>
                  <a:pt x="409" y="8"/>
                </a:lnTo>
                <a:lnTo>
                  <a:pt x="396" y="17"/>
                </a:lnTo>
                <a:lnTo>
                  <a:pt x="406" y="30"/>
                </a:lnTo>
                <a:lnTo>
                  <a:pt x="392" y="40"/>
                </a:lnTo>
                <a:lnTo>
                  <a:pt x="383" y="45"/>
                </a:lnTo>
                <a:lnTo>
                  <a:pt x="372" y="58"/>
                </a:lnTo>
                <a:lnTo>
                  <a:pt x="391" y="73"/>
                </a:lnTo>
                <a:lnTo>
                  <a:pt x="406" y="85"/>
                </a:lnTo>
                <a:lnTo>
                  <a:pt x="414" y="94"/>
                </a:lnTo>
                <a:lnTo>
                  <a:pt x="399" y="112"/>
                </a:lnTo>
                <a:lnTo>
                  <a:pt x="409" y="135"/>
                </a:lnTo>
                <a:lnTo>
                  <a:pt x="401" y="149"/>
                </a:lnTo>
                <a:lnTo>
                  <a:pt x="383" y="154"/>
                </a:lnTo>
                <a:lnTo>
                  <a:pt x="392" y="165"/>
                </a:lnTo>
                <a:lnTo>
                  <a:pt x="406" y="176"/>
                </a:lnTo>
                <a:lnTo>
                  <a:pt x="396" y="187"/>
                </a:lnTo>
                <a:lnTo>
                  <a:pt x="402" y="205"/>
                </a:lnTo>
                <a:lnTo>
                  <a:pt x="388" y="216"/>
                </a:lnTo>
                <a:lnTo>
                  <a:pt x="380" y="224"/>
                </a:lnTo>
                <a:lnTo>
                  <a:pt x="383" y="231"/>
                </a:lnTo>
                <a:lnTo>
                  <a:pt x="366" y="248"/>
                </a:lnTo>
                <a:lnTo>
                  <a:pt x="372" y="265"/>
                </a:lnTo>
                <a:lnTo>
                  <a:pt x="385" y="285"/>
                </a:lnTo>
                <a:lnTo>
                  <a:pt x="385" y="289"/>
                </a:lnTo>
                <a:lnTo>
                  <a:pt x="410" y="318"/>
                </a:lnTo>
                <a:lnTo>
                  <a:pt x="402" y="329"/>
                </a:lnTo>
                <a:lnTo>
                  <a:pt x="392" y="342"/>
                </a:lnTo>
                <a:lnTo>
                  <a:pt x="399" y="352"/>
                </a:lnTo>
                <a:lnTo>
                  <a:pt x="372" y="369"/>
                </a:lnTo>
                <a:lnTo>
                  <a:pt x="370" y="385"/>
                </a:lnTo>
                <a:lnTo>
                  <a:pt x="362" y="397"/>
                </a:lnTo>
                <a:lnTo>
                  <a:pt x="364" y="422"/>
                </a:lnTo>
                <a:lnTo>
                  <a:pt x="362" y="432"/>
                </a:lnTo>
                <a:lnTo>
                  <a:pt x="377" y="448"/>
                </a:lnTo>
                <a:lnTo>
                  <a:pt x="391" y="472"/>
                </a:lnTo>
                <a:lnTo>
                  <a:pt x="383" y="477"/>
                </a:lnTo>
                <a:lnTo>
                  <a:pt x="388" y="482"/>
                </a:lnTo>
                <a:lnTo>
                  <a:pt x="390" y="493"/>
                </a:lnTo>
                <a:lnTo>
                  <a:pt x="377" y="521"/>
                </a:lnTo>
                <a:lnTo>
                  <a:pt x="391" y="534"/>
                </a:lnTo>
                <a:lnTo>
                  <a:pt x="391" y="546"/>
                </a:lnTo>
                <a:lnTo>
                  <a:pt x="396" y="557"/>
                </a:lnTo>
                <a:lnTo>
                  <a:pt x="391" y="567"/>
                </a:lnTo>
                <a:lnTo>
                  <a:pt x="390" y="577"/>
                </a:lnTo>
                <a:lnTo>
                  <a:pt x="401" y="601"/>
                </a:lnTo>
                <a:lnTo>
                  <a:pt x="391" y="613"/>
                </a:lnTo>
                <a:lnTo>
                  <a:pt x="388" y="623"/>
                </a:lnTo>
                <a:lnTo>
                  <a:pt x="388" y="628"/>
                </a:lnTo>
                <a:lnTo>
                  <a:pt x="383" y="640"/>
                </a:lnTo>
                <a:lnTo>
                  <a:pt x="396" y="653"/>
                </a:lnTo>
                <a:lnTo>
                  <a:pt x="409" y="671"/>
                </a:lnTo>
                <a:lnTo>
                  <a:pt x="388" y="681"/>
                </a:lnTo>
                <a:lnTo>
                  <a:pt x="372" y="689"/>
                </a:lnTo>
                <a:lnTo>
                  <a:pt x="391" y="695"/>
                </a:lnTo>
                <a:lnTo>
                  <a:pt x="406" y="704"/>
                </a:lnTo>
                <a:lnTo>
                  <a:pt x="396" y="726"/>
                </a:lnTo>
                <a:lnTo>
                  <a:pt x="416" y="742"/>
                </a:lnTo>
                <a:lnTo>
                  <a:pt x="374" y="761"/>
                </a:lnTo>
                <a:lnTo>
                  <a:pt x="370" y="769"/>
                </a:lnTo>
                <a:lnTo>
                  <a:pt x="372" y="784"/>
                </a:lnTo>
                <a:lnTo>
                  <a:pt x="390" y="806"/>
                </a:lnTo>
                <a:lnTo>
                  <a:pt x="377" y="808"/>
                </a:lnTo>
                <a:lnTo>
                  <a:pt x="371" y="834"/>
                </a:lnTo>
                <a:lnTo>
                  <a:pt x="376" y="845"/>
                </a:lnTo>
                <a:lnTo>
                  <a:pt x="392" y="849"/>
                </a:lnTo>
                <a:lnTo>
                  <a:pt x="406" y="874"/>
                </a:lnTo>
                <a:lnTo>
                  <a:pt x="390" y="879"/>
                </a:lnTo>
                <a:lnTo>
                  <a:pt x="407" y="902"/>
                </a:lnTo>
                <a:lnTo>
                  <a:pt x="385" y="913"/>
                </a:lnTo>
                <a:lnTo>
                  <a:pt x="359" y="927"/>
                </a:lnTo>
                <a:lnTo>
                  <a:pt x="356" y="937"/>
                </a:lnTo>
                <a:lnTo>
                  <a:pt x="364" y="969"/>
                </a:lnTo>
                <a:lnTo>
                  <a:pt x="365" y="1005"/>
                </a:lnTo>
                <a:lnTo>
                  <a:pt x="371" y="1009"/>
                </a:lnTo>
                <a:lnTo>
                  <a:pt x="362" y="1032"/>
                </a:lnTo>
                <a:lnTo>
                  <a:pt x="3" y="1024"/>
                </a:lnTo>
                <a:lnTo>
                  <a:pt x="2" y="947"/>
                </a:lnTo>
                <a:lnTo>
                  <a:pt x="5" y="928"/>
                </a:lnTo>
                <a:lnTo>
                  <a:pt x="20" y="928"/>
                </a:lnTo>
                <a:lnTo>
                  <a:pt x="28" y="913"/>
                </a:lnTo>
                <a:lnTo>
                  <a:pt x="5" y="895"/>
                </a:lnTo>
                <a:lnTo>
                  <a:pt x="4" y="879"/>
                </a:lnTo>
                <a:lnTo>
                  <a:pt x="7" y="854"/>
                </a:lnTo>
                <a:lnTo>
                  <a:pt x="8" y="845"/>
                </a:lnTo>
                <a:lnTo>
                  <a:pt x="5" y="839"/>
                </a:lnTo>
                <a:lnTo>
                  <a:pt x="3" y="824"/>
                </a:lnTo>
                <a:lnTo>
                  <a:pt x="4" y="794"/>
                </a:lnTo>
                <a:lnTo>
                  <a:pt x="8" y="778"/>
                </a:lnTo>
                <a:lnTo>
                  <a:pt x="16" y="775"/>
                </a:lnTo>
                <a:lnTo>
                  <a:pt x="27" y="769"/>
                </a:lnTo>
                <a:lnTo>
                  <a:pt x="21" y="754"/>
                </a:lnTo>
                <a:lnTo>
                  <a:pt x="28" y="744"/>
                </a:lnTo>
                <a:lnTo>
                  <a:pt x="21" y="719"/>
                </a:lnTo>
                <a:lnTo>
                  <a:pt x="5" y="710"/>
                </a:lnTo>
                <a:lnTo>
                  <a:pt x="8" y="695"/>
                </a:lnTo>
                <a:lnTo>
                  <a:pt x="3" y="671"/>
                </a:lnTo>
                <a:lnTo>
                  <a:pt x="3" y="640"/>
                </a:lnTo>
                <a:lnTo>
                  <a:pt x="3" y="623"/>
                </a:lnTo>
                <a:lnTo>
                  <a:pt x="2" y="601"/>
                </a:lnTo>
                <a:lnTo>
                  <a:pt x="0" y="568"/>
                </a:lnTo>
                <a:lnTo>
                  <a:pt x="4" y="550"/>
                </a:lnTo>
                <a:lnTo>
                  <a:pt x="3" y="527"/>
                </a:lnTo>
                <a:lnTo>
                  <a:pt x="8" y="517"/>
                </a:lnTo>
                <a:lnTo>
                  <a:pt x="14" y="511"/>
                </a:lnTo>
                <a:lnTo>
                  <a:pt x="8" y="489"/>
                </a:lnTo>
                <a:lnTo>
                  <a:pt x="5" y="454"/>
                </a:lnTo>
                <a:lnTo>
                  <a:pt x="10" y="442"/>
                </a:lnTo>
                <a:lnTo>
                  <a:pt x="5" y="414"/>
                </a:lnTo>
                <a:lnTo>
                  <a:pt x="3" y="404"/>
                </a:lnTo>
                <a:lnTo>
                  <a:pt x="10" y="390"/>
                </a:lnTo>
                <a:lnTo>
                  <a:pt x="20" y="369"/>
                </a:lnTo>
                <a:lnTo>
                  <a:pt x="30" y="365"/>
                </a:lnTo>
                <a:lnTo>
                  <a:pt x="34" y="359"/>
                </a:lnTo>
                <a:lnTo>
                  <a:pt x="15" y="337"/>
                </a:lnTo>
                <a:lnTo>
                  <a:pt x="11" y="333"/>
                </a:lnTo>
                <a:lnTo>
                  <a:pt x="21" y="323"/>
                </a:lnTo>
                <a:lnTo>
                  <a:pt x="20" y="306"/>
                </a:lnTo>
                <a:lnTo>
                  <a:pt x="22" y="300"/>
                </a:lnTo>
                <a:lnTo>
                  <a:pt x="11" y="289"/>
                </a:lnTo>
                <a:lnTo>
                  <a:pt x="7" y="279"/>
                </a:lnTo>
                <a:lnTo>
                  <a:pt x="14" y="273"/>
                </a:lnTo>
                <a:lnTo>
                  <a:pt x="33" y="260"/>
                </a:lnTo>
                <a:lnTo>
                  <a:pt x="29" y="254"/>
                </a:lnTo>
                <a:lnTo>
                  <a:pt x="37" y="236"/>
                </a:lnTo>
                <a:lnTo>
                  <a:pt x="31" y="231"/>
                </a:lnTo>
                <a:lnTo>
                  <a:pt x="34" y="218"/>
                </a:lnTo>
                <a:lnTo>
                  <a:pt x="23" y="216"/>
                </a:lnTo>
                <a:lnTo>
                  <a:pt x="33" y="200"/>
                </a:lnTo>
                <a:lnTo>
                  <a:pt x="16" y="192"/>
                </a:lnTo>
                <a:lnTo>
                  <a:pt x="11" y="185"/>
                </a:lnTo>
                <a:lnTo>
                  <a:pt x="21" y="166"/>
                </a:lnTo>
                <a:lnTo>
                  <a:pt x="14" y="149"/>
                </a:lnTo>
                <a:lnTo>
                  <a:pt x="11" y="141"/>
                </a:lnTo>
                <a:lnTo>
                  <a:pt x="21" y="127"/>
                </a:lnTo>
                <a:lnTo>
                  <a:pt x="11" y="120"/>
                </a:lnTo>
                <a:lnTo>
                  <a:pt x="5" y="101"/>
                </a:lnTo>
                <a:lnTo>
                  <a:pt x="13" y="80"/>
                </a:lnTo>
                <a:lnTo>
                  <a:pt x="5" y="66"/>
                </a:lnTo>
                <a:lnTo>
                  <a:pt x="13" y="61"/>
                </a:lnTo>
                <a:lnTo>
                  <a:pt x="10" y="50"/>
                </a:lnTo>
                <a:lnTo>
                  <a:pt x="13" y="38"/>
                </a:lnTo>
                <a:lnTo>
                  <a:pt x="3" y="21"/>
                </a:lnTo>
                <a:lnTo>
                  <a:pt x="8" y="7"/>
                </a:lnTo>
                <a:lnTo>
                  <a:pt x="10" y="7"/>
                </a:lnTo>
                <a:lnTo>
                  <a:pt x="396"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Freeform 256"/>
          <p:cNvSpPr/>
          <p:nvPr/>
        </p:nvSpPr>
        <p:spPr>
          <a:xfrm>
            <a:off x="7064280" y="3863880"/>
            <a:ext cx="642960" cy="793800"/>
          </a:xfrm>
          <a:custGeom>
            <a:avLst/>
            <a:gdLst>
              <a:gd name="textAreaLeft" fmla="*/ 0 w 642960"/>
              <a:gd name="textAreaRight" fmla="*/ 643320 w 642960"/>
              <a:gd name="textAreaTop" fmla="*/ 0 h 793800"/>
              <a:gd name="textAreaBottom" fmla="*/ 794160 h 793800"/>
            </a:gdLst>
            <a:ahLst/>
            <a:rect l="textAreaLeft" t="textAreaTop" r="textAreaRight" b="textAreaBottom"/>
            <a:pathLst>
              <a:path w="397" h="653">
                <a:moveTo>
                  <a:pt x="369" y="4"/>
                </a:moveTo>
                <a:lnTo>
                  <a:pt x="363" y="18"/>
                </a:lnTo>
                <a:lnTo>
                  <a:pt x="364" y="24"/>
                </a:lnTo>
                <a:lnTo>
                  <a:pt x="362" y="33"/>
                </a:lnTo>
                <a:lnTo>
                  <a:pt x="363" y="44"/>
                </a:lnTo>
                <a:lnTo>
                  <a:pt x="364" y="62"/>
                </a:lnTo>
                <a:lnTo>
                  <a:pt x="362" y="62"/>
                </a:lnTo>
                <a:lnTo>
                  <a:pt x="357" y="81"/>
                </a:lnTo>
                <a:lnTo>
                  <a:pt x="364" y="91"/>
                </a:lnTo>
                <a:lnTo>
                  <a:pt x="370" y="97"/>
                </a:lnTo>
                <a:lnTo>
                  <a:pt x="364" y="107"/>
                </a:lnTo>
                <a:lnTo>
                  <a:pt x="381" y="124"/>
                </a:lnTo>
                <a:lnTo>
                  <a:pt x="369" y="137"/>
                </a:lnTo>
                <a:lnTo>
                  <a:pt x="360" y="141"/>
                </a:lnTo>
                <a:lnTo>
                  <a:pt x="356" y="157"/>
                </a:lnTo>
                <a:lnTo>
                  <a:pt x="351" y="170"/>
                </a:lnTo>
                <a:lnTo>
                  <a:pt x="357" y="177"/>
                </a:lnTo>
                <a:lnTo>
                  <a:pt x="360" y="178"/>
                </a:lnTo>
                <a:lnTo>
                  <a:pt x="356" y="193"/>
                </a:lnTo>
                <a:lnTo>
                  <a:pt x="356" y="203"/>
                </a:lnTo>
                <a:lnTo>
                  <a:pt x="362" y="216"/>
                </a:lnTo>
                <a:lnTo>
                  <a:pt x="362" y="227"/>
                </a:lnTo>
                <a:lnTo>
                  <a:pt x="357" y="242"/>
                </a:lnTo>
                <a:lnTo>
                  <a:pt x="363" y="252"/>
                </a:lnTo>
                <a:lnTo>
                  <a:pt x="357" y="272"/>
                </a:lnTo>
                <a:lnTo>
                  <a:pt x="363" y="276"/>
                </a:lnTo>
                <a:lnTo>
                  <a:pt x="370" y="297"/>
                </a:lnTo>
                <a:lnTo>
                  <a:pt x="362" y="306"/>
                </a:lnTo>
                <a:lnTo>
                  <a:pt x="357" y="321"/>
                </a:lnTo>
                <a:lnTo>
                  <a:pt x="363" y="344"/>
                </a:lnTo>
                <a:lnTo>
                  <a:pt x="369" y="362"/>
                </a:lnTo>
                <a:lnTo>
                  <a:pt x="363" y="385"/>
                </a:lnTo>
                <a:lnTo>
                  <a:pt x="357" y="393"/>
                </a:lnTo>
                <a:lnTo>
                  <a:pt x="351" y="403"/>
                </a:lnTo>
                <a:lnTo>
                  <a:pt x="356" y="413"/>
                </a:lnTo>
                <a:lnTo>
                  <a:pt x="360" y="425"/>
                </a:lnTo>
                <a:lnTo>
                  <a:pt x="357" y="435"/>
                </a:lnTo>
                <a:lnTo>
                  <a:pt x="362" y="453"/>
                </a:lnTo>
                <a:lnTo>
                  <a:pt x="381" y="475"/>
                </a:lnTo>
                <a:lnTo>
                  <a:pt x="368" y="499"/>
                </a:lnTo>
                <a:lnTo>
                  <a:pt x="374" y="499"/>
                </a:lnTo>
                <a:lnTo>
                  <a:pt x="381" y="508"/>
                </a:lnTo>
                <a:lnTo>
                  <a:pt x="378" y="515"/>
                </a:lnTo>
                <a:lnTo>
                  <a:pt x="388" y="539"/>
                </a:lnTo>
                <a:lnTo>
                  <a:pt x="374" y="545"/>
                </a:lnTo>
                <a:lnTo>
                  <a:pt x="363" y="560"/>
                </a:lnTo>
                <a:lnTo>
                  <a:pt x="364" y="572"/>
                </a:lnTo>
                <a:lnTo>
                  <a:pt x="369" y="589"/>
                </a:lnTo>
                <a:lnTo>
                  <a:pt x="375" y="595"/>
                </a:lnTo>
                <a:lnTo>
                  <a:pt x="369" y="619"/>
                </a:lnTo>
                <a:lnTo>
                  <a:pt x="378" y="629"/>
                </a:lnTo>
                <a:lnTo>
                  <a:pt x="386" y="641"/>
                </a:lnTo>
                <a:lnTo>
                  <a:pt x="397" y="651"/>
                </a:lnTo>
                <a:lnTo>
                  <a:pt x="6" y="653"/>
                </a:lnTo>
                <a:lnTo>
                  <a:pt x="6" y="649"/>
                </a:lnTo>
                <a:lnTo>
                  <a:pt x="9" y="633"/>
                </a:lnTo>
                <a:lnTo>
                  <a:pt x="21" y="622"/>
                </a:lnTo>
                <a:lnTo>
                  <a:pt x="14" y="612"/>
                </a:lnTo>
                <a:lnTo>
                  <a:pt x="31" y="597"/>
                </a:lnTo>
                <a:lnTo>
                  <a:pt x="14" y="595"/>
                </a:lnTo>
                <a:lnTo>
                  <a:pt x="22" y="580"/>
                </a:lnTo>
                <a:lnTo>
                  <a:pt x="14" y="572"/>
                </a:lnTo>
                <a:lnTo>
                  <a:pt x="21" y="557"/>
                </a:lnTo>
                <a:lnTo>
                  <a:pt x="23" y="548"/>
                </a:lnTo>
                <a:lnTo>
                  <a:pt x="18" y="539"/>
                </a:lnTo>
                <a:lnTo>
                  <a:pt x="8" y="529"/>
                </a:lnTo>
                <a:lnTo>
                  <a:pt x="19" y="508"/>
                </a:lnTo>
                <a:lnTo>
                  <a:pt x="11" y="499"/>
                </a:lnTo>
                <a:lnTo>
                  <a:pt x="20" y="483"/>
                </a:lnTo>
                <a:lnTo>
                  <a:pt x="9" y="468"/>
                </a:lnTo>
                <a:lnTo>
                  <a:pt x="19" y="451"/>
                </a:lnTo>
                <a:lnTo>
                  <a:pt x="3" y="434"/>
                </a:lnTo>
                <a:lnTo>
                  <a:pt x="12" y="420"/>
                </a:lnTo>
                <a:lnTo>
                  <a:pt x="8" y="403"/>
                </a:lnTo>
                <a:lnTo>
                  <a:pt x="0" y="382"/>
                </a:lnTo>
                <a:lnTo>
                  <a:pt x="1" y="361"/>
                </a:lnTo>
                <a:lnTo>
                  <a:pt x="5" y="344"/>
                </a:lnTo>
                <a:lnTo>
                  <a:pt x="2" y="329"/>
                </a:lnTo>
                <a:lnTo>
                  <a:pt x="6" y="312"/>
                </a:lnTo>
                <a:lnTo>
                  <a:pt x="12" y="306"/>
                </a:lnTo>
                <a:lnTo>
                  <a:pt x="1" y="287"/>
                </a:lnTo>
                <a:lnTo>
                  <a:pt x="11" y="276"/>
                </a:lnTo>
                <a:lnTo>
                  <a:pt x="5" y="252"/>
                </a:lnTo>
                <a:lnTo>
                  <a:pt x="12" y="250"/>
                </a:lnTo>
                <a:lnTo>
                  <a:pt x="9" y="235"/>
                </a:lnTo>
                <a:lnTo>
                  <a:pt x="19" y="217"/>
                </a:lnTo>
                <a:lnTo>
                  <a:pt x="9" y="201"/>
                </a:lnTo>
                <a:lnTo>
                  <a:pt x="8" y="177"/>
                </a:lnTo>
                <a:lnTo>
                  <a:pt x="14" y="170"/>
                </a:lnTo>
                <a:lnTo>
                  <a:pt x="11" y="153"/>
                </a:lnTo>
                <a:lnTo>
                  <a:pt x="13" y="138"/>
                </a:lnTo>
                <a:lnTo>
                  <a:pt x="9" y="126"/>
                </a:lnTo>
                <a:lnTo>
                  <a:pt x="1" y="104"/>
                </a:lnTo>
                <a:lnTo>
                  <a:pt x="0" y="82"/>
                </a:lnTo>
                <a:lnTo>
                  <a:pt x="3" y="64"/>
                </a:lnTo>
                <a:lnTo>
                  <a:pt x="2" y="51"/>
                </a:lnTo>
                <a:lnTo>
                  <a:pt x="3" y="27"/>
                </a:lnTo>
                <a:lnTo>
                  <a:pt x="12" y="0"/>
                </a:lnTo>
                <a:lnTo>
                  <a:pt x="369" y="10"/>
                </a:lnTo>
                <a:lnTo>
                  <a:pt x="369" y="4"/>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Freeform 257"/>
          <p:cNvSpPr/>
          <p:nvPr/>
        </p:nvSpPr>
        <p:spPr>
          <a:xfrm>
            <a:off x="7067520" y="3213000"/>
            <a:ext cx="635040" cy="663840"/>
          </a:xfrm>
          <a:custGeom>
            <a:avLst/>
            <a:gdLst>
              <a:gd name="textAreaLeft" fmla="*/ 0 w 635040"/>
              <a:gd name="textAreaRight" fmla="*/ 635400 w 635040"/>
              <a:gd name="textAreaTop" fmla="*/ 0 h 663840"/>
              <a:gd name="textAreaBottom" fmla="*/ 664200 h 663840"/>
            </a:gdLst>
            <a:ahLst/>
            <a:rect l="textAreaLeft" t="textAreaTop" r="textAreaRight" b="textAreaBottom"/>
            <a:pathLst>
              <a:path w="391" h="544">
                <a:moveTo>
                  <a:pt x="359" y="15"/>
                </a:moveTo>
                <a:lnTo>
                  <a:pt x="385" y="25"/>
                </a:lnTo>
                <a:lnTo>
                  <a:pt x="370" y="38"/>
                </a:lnTo>
                <a:lnTo>
                  <a:pt x="370" y="63"/>
                </a:lnTo>
                <a:lnTo>
                  <a:pt x="370" y="73"/>
                </a:lnTo>
                <a:lnTo>
                  <a:pt x="379" y="88"/>
                </a:lnTo>
                <a:lnTo>
                  <a:pt x="386" y="102"/>
                </a:lnTo>
                <a:lnTo>
                  <a:pt x="368" y="120"/>
                </a:lnTo>
                <a:lnTo>
                  <a:pt x="362" y="130"/>
                </a:lnTo>
                <a:lnTo>
                  <a:pt x="370" y="142"/>
                </a:lnTo>
                <a:lnTo>
                  <a:pt x="364" y="152"/>
                </a:lnTo>
                <a:lnTo>
                  <a:pt x="356" y="170"/>
                </a:lnTo>
                <a:lnTo>
                  <a:pt x="364" y="179"/>
                </a:lnTo>
                <a:lnTo>
                  <a:pt x="368" y="186"/>
                </a:lnTo>
                <a:lnTo>
                  <a:pt x="362" y="194"/>
                </a:lnTo>
                <a:lnTo>
                  <a:pt x="362" y="210"/>
                </a:lnTo>
                <a:lnTo>
                  <a:pt x="368" y="223"/>
                </a:lnTo>
                <a:lnTo>
                  <a:pt x="364" y="233"/>
                </a:lnTo>
                <a:lnTo>
                  <a:pt x="370" y="239"/>
                </a:lnTo>
                <a:lnTo>
                  <a:pt x="367" y="255"/>
                </a:lnTo>
                <a:lnTo>
                  <a:pt x="367" y="263"/>
                </a:lnTo>
                <a:lnTo>
                  <a:pt x="362" y="279"/>
                </a:lnTo>
                <a:lnTo>
                  <a:pt x="370" y="295"/>
                </a:lnTo>
                <a:lnTo>
                  <a:pt x="368" y="305"/>
                </a:lnTo>
                <a:lnTo>
                  <a:pt x="364" y="319"/>
                </a:lnTo>
                <a:lnTo>
                  <a:pt x="367" y="329"/>
                </a:lnTo>
                <a:lnTo>
                  <a:pt x="362" y="347"/>
                </a:lnTo>
                <a:lnTo>
                  <a:pt x="362" y="365"/>
                </a:lnTo>
                <a:lnTo>
                  <a:pt x="367" y="385"/>
                </a:lnTo>
                <a:lnTo>
                  <a:pt x="364" y="403"/>
                </a:lnTo>
                <a:lnTo>
                  <a:pt x="364" y="408"/>
                </a:lnTo>
                <a:lnTo>
                  <a:pt x="362" y="420"/>
                </a:lnTo>
                <a:lnTo>
                  <a:pt x="368" y="439"/>
                </a:lnTo>
                <a:lnTo>
                  <a:pt x="362" y="442"/>
                </a:lnTo>
                <a:lnTo>
                  <a:pt x="356" y="462"/>
                </a:lnTo>
                <a:lnTo>
                  <a:pt x="359" y="472"/>
                </a:lnTo>
                <a:lnTo>
                  <a:pt x="372" y="494"/>
                </a:lnTo>
                <a:lnTo>
                  <a:pt x="391" y="497"/>
                </a:lnTo>
                <a:lnTo>
                  <a:pt x="380" y="509"/>
                </a:lnTo>
                <a:lnTo>
                  <a:pt x="372" y="527"/>
                </a:lnTo>
                <a:lnTo>
                  <a:pt x="372" y="533"/>
                </a:lnTo>
                <a:lnTo>
                  <a:pt x="364" y="544"/>
                </a:lnTo>
                <a:lnTo>
                  <a:pt x="12" y="538"/>
                </a:lnTo>
                <a:lnTo>
                  <a:pt x="2" y="517"/>
                </a:lnTo>
                <a:lnTo>
                  <a:pt x="11" y="509"/>
                </a:lnTo>
                <a:lnTo>
                  <a:pt x="2" y="494"/>
                </a:lnTo>
                <a:lnTo>
                  <a:pt x="11" y="487"/>
                </a:lnTo>
                <a:lnTo>
                  <a:pt x="8" y="464"/>
                </a:lnTo>
                <a:lnTo>
                  <a:pt x="12" y="462"/>
                </a:lnTo>
                <a:lnTo>
                  <a:pt x="17" y="449"/>
                </a:lnTo>
                <a:lnTo>
                  <a:pt x="8" y="432"/>
                </a:lnTo>
                <a:lnTo>
                  <a:pt x="21" y="427"/>
                </a:lnTo>
                <a:lnTo>
                  <a:pt x="25" y="420"/>
                </a:lnTo>
                <a:lnTo>
                  <a:pt x="18" y="408"/>
                </a:lnTo>
                <a:lnTo>
                  <a:pt x="11" y="403"/>
                </a:lnTo>
                <a:lnTo>
                  <a:pt x="12" y="385"/>
                </a:lnTo>
                <a:lnTo>
                  <a:pt x="11" y="382"/>
                </a:lnTo>
                <a:lnTo>
                  <a:pt x="11" y="365"/>
                </a:lnTo>
                <a:lnTo>
                  <a:pt x="18" y="352"/>
                </a:lnTo>
                <a:lnTo>
                  <a:pt x="17" y="347"/>
                </a:lnTo>
                <a:lnTo>
                  <a:pt x="10" y="336"/>
                </a:lnTo>
                <a:lnTo>
                  <a:pt x="18" y="319"/>
                </a:lnTo>
                <a:lnTo>
                  <a:pt x="11" y="305"/>
                </a:lnTo>
                <a:lnTo>
                  <a:pt x="10" y="305"/>
                </a:lnTo>
                <a:lnTo>
                  <a:pt x="8" y="293"/>
                </a:lnTo>
                <a:lnTo>
                  <a:pt x="5" y="284"/>
                </a:lnTo>
                <a:lnTo>
                  <a:pt x="2" y="266"/>
                </a:lnTo>
                <a:lnTo>
                  <a:pt x="4" y="263"/>
                </a:lnTo>
                <a:lnTo>
                  <a:pt x="11" y="244"/>
                </a:lnTo>
                <a:lnTo>
                  <a:pt x="17" y="239"/>
                </a:lnTo>
                <a:lnTo>
                  <a:pt x="11" y="225"/>
                </a:lnTo>
                <a:lnTo>
                  <a:pt x="10" y="216"/>
                </a:lnTo>
                <a:lnTo>
                  <a:pt x="19" y="210"/>
                </a:lnTo>
                <a:lnTo>
                  <a:pt x="18" y="194"/>
                </a:lnTo>
                <a:lnTo>
                  <a:pt x="21" y="186"/>
                </a:lnTo>
                <a:lnTo>
                  <a:pt x="17" y="182"/>
                </a:lnTo>
                <a:lnTo>
                  <a:pt x="11" y="170"/>
                </a:lnTo>
                <a:lnTo>
                  <a:pt x="17" y="161"/>
                </a:lnTo>
                <a:lnTo>
                  <a:pt x="11" y="150"/>
                </a:lnTo>
                <a:lnTo>
                  <a:pt x="18" y="142"/>
                </a:lnTo>
                <a:lnTo>
                  <a:pt x="11" y="127"/>
                </a:lnTo>
                <a:lnTo>
                  <a:pt x="7" y="110"/>
                </a:lnTo>
                <a:lnTo>
                  <a:pt x="17" y="97"/>
                </a:lnTo>
                <a:lnTo>
                  <a:pt x="10" y="88"/>
                </a:lnTo>
                <a:lnTo>
                  <a:pt x="4" y="80"/>
                </a:lnTo>
                <a:lnTo>
                  <a:pt x="8" y="73"/>
                </a:lnTo>
                <a:lnTo>
                  <a:pt x="0" y="63"/>
                </a:lnTo>
                <a:lnTo>
                  <a:pt x="4" y="47"/>
                </a:lnTo>
                <a:lnTo>
                  <a:pt x="4" y="36"/>
                </a:lnTo>
                <a:lnTo>
                  <a:pt x="1" y="17"/>
                </a:lnTo>
                <a:lnTo>
                  <a:pt x="11" y="17"/>
                </a:lnTo>
                <a:lnTo>
                  <a:pt x="24" y="15"/>
                </a:lnTo>
                <a:lnTo>
                  <a:pt x="43" y="7"/>
                </a:lnTo>
                <a:lnTo>
                  <a:pt x="56" y="0"/>
                </a:lnTo>
                <a:lnTo>
                  <a:pt x="359" y="10"/>
                </a:lnTo>
                <a:lnTo>
                  <a:pt x="359" y="15"/>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Rectangle 258"/>
          <p:cNvSpPr/>
          <p:nvPr/>
        </p:nvSpPr>
        <p:spPr>
          <a:xfrm>
            <a:off x="7059600" y="3197160"/>
            <a:ext cx="677880" cy="36720"/>
          </a:xfrm>
          <a:prstGeom prst="rect">
            <a:avLst/>
          </a:prstGeom>
          <a:solidFill>
            <a:srgbClr val="ffffff"/>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3" name="Rectangle 259"/>
          <p:cNvSpPr/>
          <p:nvPr/>
        </p:nvSpPr>
        <p:spPr>
          <a:xfrm>
            <a:off x="7059600" y="3166920"/>
            <a:ext cx="677880" cy="30240"/>
          </a:xfrm>
          <a:prstGeom prst="rect">
            <a:avLst/>
          </a:prstGeom>
          <a:solidFill>
            <a:srgbClr val="fffffb"/>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4" name="Rectangle 260"/>
          <p:cNvSpPr/>
          <p:nvPr/>
        </p:nvSpPr>
        <p:spPr>
          <a:xfrm>
            <a:off x="7059600" y="3132000"/>
            <a:ext cx="677880" cy="34920"/>
          </a:xfrm>
          <a:prstGeom prst="rect">
            <a:avLst/>
          </a:prstGeom>
          <a:solidFill>
            <a:srgbClr val="fffff6"/>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5" name="Rectangle 261"/>
          <p:cNvSpPr/>
          <p:nvPr/>
        </p:nvSpPr>
        <p:spPr>
          <a:xfrm>
            <a:off x="7059600" y="3097080"/>
            <a:ext cx="677880" cy="34920"/>
          </a:xfrm>
          <a:prstGeom prst="rect">
            <a:avLst/>
          </a:prstGeom>
          <a:solidFill>
            <a:srgbClr val="fffff2"/>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6" name="Rectangle 262"/>
          <p:cNvSpPr/>
          <p:nvPr/>
        </p:nvSpPr>
        <p:spPr>
          <a:xfrm>
            <a:off x="7059600" y="3068640"/>
            <a:ext cx="677880" cy="28440"/>
          </a:xfrm>
          <a:prstGeom prst="rect">
            <a:avLst/>
          </a:prstGeom>
          <a:solidFill>
            <a:srgbClr val="ffffee"/>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7" name="Rectangle 263"/>
          <p:cNvSpPr/>
          <p:nvPr/>
        </p:nvSpPr>
        <p:spPr>
          <a:xfrm>
            <a:off x="7059600" y="3033720"/>
            <a:ext cx="677880" cy="34920"/>
          </a:xfrm>
          <a:prstGeom prst="rect">
            <a:avLst/>
          </a:prstGeom>
          <a:solidFill>
            <a:srgbClr val="ffffe9"/>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8" name="Rectangle 264"/>
          <p:cNvSpPr/>
          <p:nvPr/>
        </p:nvSpPr>
        <p:spPr>
          <a:xfrm>
            <a:off x="7059600" y="3000240"/>
            <a:ext cx="677880" cy="33480"/>
          </a:xfrm>
          <a:prstGeom prst="rect">
            <a:avLst/>
          </a:prstGeom>
          <a:solidFill>
            <a:srgbClr val="ffffe5"/>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9" name="Rectangle 265"/>
          <p:cNvSpPr/>
          <p:nvPr/>
        </p:nvSpPr>
        <p:spPr>
          <a:xfrm>
            <a:off x="7059600" y="2967120"/>
            <a:ext cx="677880" cy="33120"/>
          </a:xfrm>
          <a:prstGeom prst="rect">
            <a:avLst/>
          </a:prstGeom>
          <a:solidFill>
            <a:srgbClr val="ffffe1"/>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0" name="Rectangle 266"/>
          <p:cNvSpPr/>
          <p:nvPr/>
        </p:nvSpPr>
        <p:spPr>
          <a:xfrm>
            <a:off x="7059600" y="2932200"/>
            <a:ext cx="677880" cy="34920"/>
          </a:xfrm>
          <a:prstGeom prst="rect">
            <a:avLst/>
          </a:prstGeom>
          <a:solidFill>
            <a:srgbClr val="ffffdc"/>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1" name="Rectangle 267"/>
          <p:cNvSpPr/>
          <p:nvPr/>
        </p:nvSpPr>
        <p:spPr>
          <a:xfrm>
            <a:off x="7059600" y="2901960"/>
            <a:ext cx="677880" cy="30240"/>
          </a:xfrm>
          <a:prstGeom prst="rect">
            <a:avLst/>
          </a:prstGeom>
          <a:solidFill>
            <a:srgbClr val="ffffd8"/>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2" name="Rectangle 268"/>
          <p:cNvSpPr/>
          <p:nvPr/>
        </p:nvSpPr>
        <p:spPr>
          <a:xfrm>
            <a:off x="7059600" y="2868480"/>
            <a:ext cx="677880" cy="33480"/>
          </a:xfrm>
          <a:prstGeom prst="rect">
            <a:avLst/>
          </a:prstGeom>
          <a:solidFill>
            <a:srgbClr val="ffffd3"/>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3" name="Rectangle 269"/>
          <p:cNvSpPr/>
          <p:nvPr/>
        </p:nvSpPr>
        <p:spPr>
          <a:xfrm>
            <a:off x="7059600" y="2833560"/>
            <a:ext cx="677880" cy="34920"/>
          </a:xfrm>
          <a:prstGeom prst="rect">
            <a:avLst/>
          </a:prstGeom>
          <a:solidFill>
            <a:srgbClr val="ffffcf"/>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4" name="Rectangle 270"/>
          <p:cNvSpPr/>
          <p:nvPr/>
        </p:nvSpPr>
        <p:spPr>
          <a:xfrm>
            <a:off x="7059600" y="2801880"/>
            <a:ext cx="677880" cy="31680"/>
          </a:xfrm>
          <a:prstGeom prst="rect">
            <a:avLst/>
          </a:prstGeom>
          <a:solidFill>
            <a:srgbClr val="ffffcb"/>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5" name="Rectangle 271"/>
          <p:cNvSpPr/>
          <p:nvPr/>
        </p:nvSpPr>
        <p:spPr>
          <a:xfrm>
            <a:off x="7059600" y="2768760"/>
            <a:ext cx="677880" cy="33120"/>
          </a:xfrm>
          <a:prstGeom prst="rect">
            <a:avLst/>
          </a:prstGeom>
          <a:solidFill>
            <a:srgbClr val="ffffc6"/>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6" name="Rectangle 272"/>
          <p:cNvSpPr/>
          <p:nvPr/>
        </p:nvSpPr>
        <p:spPr>
          <a:xfrm>
            <a:off x="7059600" y="2735280"/>
            <a:ext cx="677880" cy="33480"/>
          </a:xfrm>
          <a:prstGeom prst="rect">
            <a:avLst/>
          </a:prstGeom>
          <a:solidFill>
            <a:srgbClr val="ffffc2"/>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7" name="Freeform 273"/>
          <p:cNvSpPr/>
          <p:nvPr/>
        </p:nvSpPr>
        <p:spPr>
          <a:xfrm>
            <a:off x="7059600" y="2735280"/>
            <a:ext cx="677880" cy="498600"/>
          </a:xfrm>
          <a:custGeom>
            <a:avLst/>
            <a:gdLst>
              <a:gd name="textAreaLeft" fmla="*/ 0 w 677880"/>
              <a:gd name="textAreaRight" fmla="*/ 678240 w 677880"/>
              <a:gd name="textAreaTop" fmla="*/ 0 h 498600"/>
              <a:gd name="textAreaBottom" fmla="*/ 498960 h 498600"/>
            </a:gdLst>
            <a:ahLst/>
            <a:rect l="textAreaLeft" t="textAreaTop" r="textAreaRight" b="textAreaBottom"/>
            <a:pathLst>
              <a:path w="416" h="409">
                <a:moveTo>
                  <a:pt x="34" y="5"/>
                </a:moveTo>
                <a:lnTo>
                  <a:pt x="32" y="13"/>
                </a:lnTo>
                <a:lnTo>
                  <a:pt x="38" y="26"/>
                </a:lnTo>
                <a:lnTo>
                  <a:pt x="34" y="39"/>
                </a:lnTo>
                <a:lnTo>
                  <a:pt x="38" y="49"/>
                </a:lnTo>
                <a:lnTo>
                  <a:pt x="23" y="60"/>
                </a:lnTo>
                <a:lnTo>
                  <a:pt x="23" y="73"/>
                </a:lnTo>
                <a:lnTo>
                  <a:pt x="15" y="78"/>
                </a:lnTo>
                <a:lnTo>
                  <a:pt x="10" y="90"/>
                </a:lnTo>
                <a:lnTo>
                  <a:pt x="20" y="95"/>
                </a:lnTo>
                <a:lnTo>
                  <a:pt x="10" y="113"/>
                </a:lnTo>
                <a:lnTo>
                  <a:pt x="20" y="115"/>
                </a:lnTo>
                <a:lnTo>
                  <a:pt x="8" y="122"/>
                </a:lnTo>
                <a:lnTo>
                  <a:pt x="4" y="154"/>
                </a:lnTo>
                <a:lnTo>
                  <a:pt x="10" y="154"/>
                </a:lnTo>
                <a:lnTo>
                  <a:pt x="3" y="173"/>
                </a:lnTo>
                <a:lnTo>
                  <a:pt x="0" y="178"/>
                </a:lnTo>
                <a:lnTo>
                  <a:pt x="7" y="192"/>
                </a:lnTo>
                <a:lnTo>
                  <a:pt x="5" y="203"/>
                </a:lnTo>
                <a:lnTo>
                  <a:pt x="11" y="213"/>
                </a:lnTo>
                <a:lnTo>
                  <a:pt x="14" y="217"/>
                </a:lnTo>
                <a:lnTo>
                  <a:pt x="25" y="236"/>
                </a:lnTo>
                <a:lnTo>
                  <a:pt x="28" y="236"/>
                </a:lnTo>
                <a:lnTo>
                  <a:pt x="30" y="243"/>
                </a:lnTo>
                <a:lnTo>
                  <a:pt x="37" y="258"/>
                </a:lnTo>
                <a:lnTo>
                  <a:pt x="21" y="266"/>
                </a:lnTo>
                <a:lnTo>
                  <a:pt x="34" y="277"/>
                </a:lnTo>
                <a:lnTo>
                  <a:pt x="16" y="288"/>
                </a:lnTo>
                <a:lnTo>
                  <a:pt x="11" y="292"/>
                </a:lnTo>
                <a:lnTo>
                  <a:pt x="21" y="292"/>
                </a:lnTo>
                <a:lnTo>
                  <a:pt x="30" y="298"/>
                </a:lnTo>
                <a:lnTo>
                  <a:pt x="25" y="307"/>
                </a:lnTo>
                <a:lnTo>
                  <a:pt x="33" y="317"/>
                </a:lnTo>
                <a:lnTo>
                  <a:pt x="39" y="327"/>
                </a:lnTo>
                <a:lnTo>
                  <a:pt x="31" y="340"/>
                </a:lnTo>
                <a:lnTo>
                  <a:pt x="29" y="350"/>
                </a:lnTo>
                <a:lnTo>
                  <a:pt x="15" y="361"/>
                </a:lnTo>
                <a:lnTo>
                  <a:pt x="29" y="371"/>
                </a:lnTo>
                <a:lnTo>
                  <a:pt x="25" y="378"/>
                </a:lnTo>
                <a:lnTo>
                  <a:pt x="57" y="401"/>
                </a:lnTo>
                <a:lnTo>
                  <a:pt x="359" y="409"/>
                </a:lnTo>
                <a:lnTo>
                  <a:pt x="374" y="397"/>
                </a:lnTo>
                <a:lnTo>
                  <a:pt x="392" y="389"/>
                </a:lnTo>
                <a:lnTo>
                  <a:pt x="406" y="378"/>
                </a:lnTo>
                <a:lnTo>
                  <a:pt x="399" y="366"/>
                </a:lnTo>
                <a:lnTo>
                  <a:pt x="396" y="362"/>
                </a:lnTo>
                <a:lnTo>
                  <a:pt x="399" y="350"/>
                </a:lnTo>
                <a:lnTo>
                  <a:pt x="396" y="340"/>
                </a:lnTo>
                <a:lnTo>
                  <a:pt x="390" y="327"/>
                </a:lnTo>
                <a:lnTo>
                  <a:pt x="392" y="307"/>
                </a:lnTo>
                <a:lnTo>
                  <a:pt x="396" y="305"/>
                </a:lnTo>
                <a:lnTo>
                  <a:pt x="390" y="292"/>
                </a:lnTo>
                <a:lnTo>
                  <a:pt x="406" y="285"/>
                </a:lnTo>
                <a:lnTo>
                  <a:pt x="399" y="277"/>
                </a:lnTo>
                <a:lnTo>
                  <a:pt x="396" y="258"/>
                </a:lnTo>
                <a:lnTo>
                  <a:pt x="390" y="257"/>
                </a:lnTo>
                <a:lnTo>
                  <a:pt x="383" y="243"/>
                </a:lnTo>
                <a:lnTo>
                  <a:pt x="392" y="236"/>
                </a:lnTo>
                <a:lnTo>
                  <a:pt x="402" y="226"/>
                </a:lnTo>
                <a:lnTo>
                  <a:pt x="399" y="213"/>
                </a:lnTo>
                <a:lnTo>
                  <a:pt x="407" y="204"/>
                </a:lnTo>
                <a:lnTo>
                  <a:pt x="414" y="192"/>
                </a:lnTo>
                <a:lnTo>
                  <a:pt x="416" y="173"/>
                </a:lnTo>
                <a:lnTo>
                  <a:pt x="416" y="162"/>
                </a:lnTo>
                <a:lnTo>
                  <a:pt x="416" y="145"/>
                </a:lnTo>
                <a:lnTo>
                  <a:pt x="391" y="134"/>
                </a:lnTo>
                <a:lnTo>
                  <a:pt x="383" y="122"/>
                </a:lnTo>
                <a:lnTo>
                  <a:pt x="376" y="113"/>
                </a:lnTo>
                <a:lnTo>
                  <a:pt x="391" y="104"/>
                </a:lnTo>
                <a:lnTo>
                  <a:pt x="401" y="103"/>
                </a:lnTo>
                <a:lnTo>
                  <a:pt x="402" y="95"/>
                </a:lnTo>
                <a:lnTo>
                  <a:pt x="374" y="83"/>
                </a:lnTo>
                <a:lnTo>
                  <a:pt x="356" y="74"/>
                </a:lnTo>
                <a:lnTo>
                  <a:pt x="343" y="73"/>
                </a:lnTo>
                <a:lnTo>
                  <a:pt x="353" y="58"/>
                </a:lnTo>
                <a:lnTo>
                  <a:pt x="340" y="39"/>
                </a:lnTo>
                <a:lnTo>
                  <a:pt x="338" y="0"/>
                </a:lnTo>
                <a:lnTo>
                  <a:pt x="33" y="1"/>
                </a:lnTo>
                <a:lnTo>
                  <a:pt x="3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8" name="Rectangle 274"/>
          <p:cNvSpPr/>
          <p:nvPr/>
        </p:nvSpPr>
        <p:spPr>
          <a:xfrm>
            <a:off x="7059600" y="3197160"/>
            <a:ext cx="677880" cy="36720"/>
          </a:xfrm>
          <a:prstGeom prst="rect">
            <a:avLst/>
          </a:prstGeom>
          <a:solidFill>
            <a:srgbClr val="ffffff"/>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9" name="Rectangle 275"/>
          <p:cNvSpPr/>
          <p:nvPr/>
        </p:nvSpPr>
        <p:spPr>
          <a:xfrm>
            <a:off x="7059600" y="3166920"/>
            <a:ext cx="677880" cy="30240"/>
          </a:xfrm>
          <a:prstGeom prst="rect">
            <a:avLst/>
          </a:prstGeom>
          <a:solidFill>
            <a:srgbClr val="fffffb"/>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0" name="Rectangle 276"/>
          <p:cNvSpPr/>
          <p:nvPr/>
        </p:nvSpPr>
        <p:spPr>
          <a:xfrm>
            <a:off x="7059600" y="3132000"/>
            <a:ext cx="677880" cy="34920"/>
          </a:xfrm>
          <a:prstGeom prst="rect">
            <a:avLst/>
          </a:prstGeom>
          <a:solidFill>
            <a:srgbClr val="fffff6"/>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1" name="Rectangle 277"/>
          <p:cNvSpPr/>
          <p:nvPr/>
        </p:nvSpPr>
        <p:spPr>
          <a:xfrm>
            <a:off x="7059600" y="3097080"/>
            <a:ext cx="677880" cy="34920"/>
          </a:xfrm>
          <a:prstGeom prst="rect">
            <a:avLst/>
          </a:prstGeom>
          <a:solidFill>
            <a:srgbClr val="fffff2"/>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2" name="Rectangle 278"/>
          <p:cNvSpPr/>
          <p:nvPr/>
        </p:nvSpPr>
        <p:spPr>
          <a:xfrm>
            <a:off x="7059600" y="3068640"/>
            <a:ext cx="677880" cy="28440"/>
          </a:xfrm>
          <a:prstGeom prst="rect">
            <a:avLst/>
          </a:prstGeom>
          <a:solidFill>
            <a:srgbClr val="ffffee"/>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3" name="Rectangle 279"/>
          <p:cNvSpPr/>
          <p:nvPr/>
        </p:nvSpPr>
        <p:spPr>
          <a:xfrm>
            <a:off x="7059600" y="3033720"/>
            <a:ext cx="677880" cy="34920"/>
          </a:xfrm>
          <a:prstGeom prst="rect">
            <a:avLst/>
          </a:prstGeom>
          <a:solidFill>
            <a:srgbClr val="ffffe9"/>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4" name="Rectangle 280"/>
          <p:cNvSpPr/>
          <p:nvPr/>
        </p:nvSpPr>
        <p:spPr>
          <a:xfrm>
            <a:off x="7059600" y="3000240"/>
            <a:ext cx="677880" cy="33480"/>
          </a:xfrm>
          <a:prstGeom prst="rect">
            <a:avLst/>
          </a:prstGeom>
          <a:solidFill>
            <a:srgbClr val="ffffe5"/>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5" name="Rectangle 281"/>
          <p:cNvSpPr/>
          <p:nvPr/>
        </p:nvSpPr>
        <p:spPr>
          <a:xfrm>
            <a:off x="7059600" y="2967120"/>
            <a:ext cx="677880" cy="33120"/>
          </a:xfrm>
          <a:prstGeom prst="rect">
            <a:avLst/>
          </a:prstGeom>
          <a:solidFill>
            <a:srgbClr val="ffffe1"/>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6" name="Rectangle 282"/>
          <p:cNvSpPr/>
          <p:nvPr/>
        </p:nvSpPr>
        <p:spPr>
          <a:xfrm>
            <a:off x="7059600" y="2932200"/>
            <a:ext cx="677880" cy="34920"/>
          </a:xfrm>
          <a:prstGeom prst="rect">
            <a:avLst/>
          </a:prstGeom>
          <a:solidFill>
            <a:srgbClr val="ffffdc"/>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7" name="Rectangle 283"/>
          <p:cNvSpPr/>
          <p:nvPr/>
        </p:nvSpPr>
        <p:spPr>
          <a:xfrm>
            <a:off x="7059600" y="2901960"/>
            <a:ext cx="677880" cy="30240"/>
          </a:xfrm>
          <a:prstGeom prst="rect">
            <a:avLst/>
          </a:prstGeom>
          <a:solidFill>
            <a:srgbClr val="ffffd8"/>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8" name="Rectangle 284"/>
          <p:cNvSpPr/>
          <p:nvPr/>
        </p:nvSpPr>
        <p:spPr>
          <a:xfrm>
            <a:off x="7059600" y="2868480"/>
            <a:ext cx="677880" cy="33480"/>
          </a:xfrm>
          <a:prstGeom prst="rect">
            <a:avLst/>
          </a:prstGeom>
          <a:solidFill>
            <a:srgbClr val="ffffd3"/>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9" name="Rectangle 285"/>
          <p:cNvSpPr/>
          <p:nvPr/>
        </p:nvSpPr>
        <p:spPr>
          <a:xfrm>
            <a:off x="7059600" y="2833560"/>
            <a:ext cx="677880" cy="34920"/>
          </a:xfrm>
          <a:prstGeom prst="rect">
            <a:avLst/>
          </a:prstGeom>
          <a:solidFill>
            <a:srgbClr val="ffffcf"/>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0" name="Rectangle 286"/>
          <p:cNvSpPr/>
          <p:nvPr/>
        </p:nvSpPr>
        <p:spPr>
          <a:xfrm>
            <a:off x="7059600" y="2801880"/>
            <a:ext cx="677880" cy="31680"/>
          </a:xfrm>
          <a:prstGeom prst="rect">
            <a:avLst/>
          </a:prstGeom>
          <a:solidFill>
            <a:srgbClr val="ffffcb"/>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1" name="Rectangle 287"/>
          <p:cNvSpPr/>
          <p:nvPr/>
        </p:nvSpPr>
        <p:spPr>
          <a:xfrm>
            <a:off x="7059600" y="2768760"/>
            <a:ext cx="677880" cy="33120"/>
          </a:xfrm>
          <a:prstGeom prst="rect">
            <a:avLst/>
          </a:prstGeom>
          <a:solidFill>
            <a:srgbClr val="ffffc6"/>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2" name="Rectangle 288"/>
          <p:cNvSpPr/>
          <p:nvPr/>
        </p:nvSpPr>
        <p:spPr>
          <a:xfrm>
            <a:off x="7059600" y="2735280"/>
            <a:ext cx="677880" cy="33480"/>
          </a:xfrm>
          <a:prstGeom prst="rect">
            <a:avLst/>
          </a:prstGeom>
          <a:solidFill>
            <a:srgbClr val="ffffc2"/>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3" name="Freeform 289"/>
          <p:cNvSpPr/>
          <p:nvPr/>
        </p:nvSpPr>
        <p:spPr>
          <a:xfrm>
            <a:off x="7059600" y="2735280"/>
            <a:ext cx="677880" cy="498600"/>
          </a:xfrm>
          <a:custGeom>
            <a:avLst/>
            <a:gdLst>
              <a:gd name="textAreaLeft" fmla="*/ 0 w 677880"/>
              <a:gd name="textAreaRight" fmla="*/ 678240 w 677880"/>
              <a:gd name="textAreaTop" fmla="*/ 0 h 498600"/>
              <a:gd name="textAreaBottom" fmla="*/ 498960 h 498600"/>
            </a:gdLst>
            <a:ahLst/>
            <a:rect l="textAreaLeft" t="textAreaTop" r="textAreaRight" b="textAreaBottom"/>
            <a:pathLst>
              <a:path w="416" h="409">
                <a:moveTo>
                  <a:pt x="34" y="5"/>
                </a:moveTo>
                <a:lnTo>
                  <a:pt x="32" y="13"/>
                </a:lnTo>
                <a:lnTo>
                  <a:pt x="38" y="26"/>
                </a:lnTo>
                <a:lnTo>
                  <a:pt x="34" y="39"/>
                </a:lnTo>
                <a:lnTo>
                  <a:pt x="38" y="49"/>
                </a:lnTo>
                <a:lnTo>
                  <a:pt x="23" y="60"/>
                </a:lnTo>
                <a:lnTo>
                  <a:pt x="23" y="73"/>
                </a:lnTo>
                <a:lnTo>
                  <a:pt x="15" y="78"/>
                </a:lnTo>
                <a:lnTo>
                  <a:pt x="10" y="90"/>
                </a:lnTo>
                <a:lnTo>
                  <a:pt x="20" y="95"/>
                </a:lnTo>
                <a:lnTo>
                  <a:pt x="10" y="113"/>
                </a:lnTo>
                <a:lnTo>
                  <a:pt x="20" y="115"/>
                </a:lnTo>
                <a:lnTo>
                  <a:pt x="8" y="122"/>
                </a:lnTo>
                <a:lnTo>
                  <a:pt x="4" y="154"/>
                </a:lnTo>
                <a:lnTo>
                  <a:pt x="10" y="154"/>
                </a:lnTo>
                <a:lnTo>
                  <a:pt x="3" y="173"/>
                </a:lnTo>
                <a:lnTo>
                  <a:pt x="0" y="178"/>
                </a:lnTo>
                <a:lnTo>
                  <a:pt x="7" y="192"/>
                </a:lnTo>
                <a:lnTo>
                  <a:pt x="5" y="203"/>
                </a:lnTo>
                <a:lnTo>
                  <a:pt x="11" y="213"/>
                </a:lnTo>
                <a:lnTo>
                  <a:pt x="14" y="217"/>
                </a:lnTo>
                <a:lnTo>
                  <a:pt x="25" y="236"/>
                </a:lnTo>
                <a:lnTo>
                  <a:pt x="28" y="236"/>
                </a:lnTo>
                <a:lnTo>
                  <a:pt x="30" y="243"/>
                </a:lnTo>
                <a:lnTo>
                  <a:pt x="37" y="258"/>
                </a:lnTo>
                <a:lnTo>
                  <a:pt x="21" y="266"/>
                </a:lnTo>
                <a:lnTo>
                  <a:pt x="34" y="277"/>
                </a:lnTo>
                <a:lnTo>
                  <a:pt x="16" y="288"/>
                </a:lnTo>
                <a:lnTo>
                  <a:pt x="11" y="292"/>
                </a:lnTo>
                <a:lnTo>
                  <a:pt x="21" y="292"/>
                </a:lnTo>
                <a:lnTo>
                  <a:pt x="30" y="298"/>
                </a:lnTo>
                <a:lnTo>
                  <a:pt x="25" y="307"/>
                </a:lnTo>
                <a:lnTo>
                  <a:pt x="33" y="317"/>
                </a:lnTo>
                <a:lnTo>
                  <a:pt x="39" y="327"/>
                </a:lnTo>
                <a:lnTo>
                  <a:pt x="31" y="340"/>
                </a:lnTo>
                <a:lnTo>
                  <a:pt x="29" y="350"/>
                </a:lnTo>
                <a:lnTo>
                  <a:pt x="15" y="361"/>
                </a:lnTo>
                <a:lnTo>
                  <a:pt x="29" y="371"/>
                </a:lnTo>
                <a:lnTo>
                  <a:pt x="25" y="378"/>
                </a:lnTo>
                <a:lnTo>
                  <a:pt x="57" y="401"/>
                </a:lnTo>
                <a:lnTo>
                  <a:pt x="359" y="409"/>
                </a:lnTo>
                <a:lnTo>
                  <a:pt x="374" y="397"/>
                </a:lnTo>
                <a:lnTo>
                  <a:pt x="392" y="389"/>
                </a:lnTo>
                <a:lnTo>
                  <a:pt x="406" y="378"/>
                </a:lnTo>
                <a:lnTo>
                  <a:pt x="399" y="366"/>
                </a:lnTo>
                <a:lnTo>
                  <a:pt x="396" y="362"/>
                </a:lnTo>
                <a:lnTo>
                  <a:pt x="399" y="350"/>
                </a:lnTo>
                <a:lnTo>
                  <a:pt x="396" y="340"/>
                </a:lnTo>
                <a:lnTo>
                  <a:pt x="390" y="327"/>
                </a:lnTo>
                <a:lnTo>
                  <a:pt x="392" y="307"/>
                </a:lnTo>
                <a:lnTo>
                  <a:pt x="396" y="305"/>
                </a:lnTo>
                <a:lnTo>
                  <a:pt x="390" y="292"/>
                </a:lnTo>
                <a:lnTo>
                  <a:pt x="406" y="285"/>
                </a:lnTo>
                <a:lnTo>
                  <a:pt x="399" y="277"/>
                </a:lnTo>
                <a:lnTo>
                  <a:pt x="396" y="258"/>
                </a:lnTo>
                <a:lnTo>
                  <a:pt x="390" y="257"/>
                </a:lnTo>
                <a:lnTo>
                  <a:pt x="383" y="243"/>
                </a:lnTo>
                <a:lnTo>
                  <a:pt x="392" y="236"/>
                </a:lnTo>
                <a:lnTo>
                  <a:pt x="402" y="226"/>
                </a:lnTo>
                <a:lnTo>
                  <a:pt x="399" y="213"/>
                </a:lnTo>
                <a:lnTo>
                  <a:pt x="407" y="204"/>
                </a:lnTo>
                <a:lnTo>
                  <a:pt x="414" y="192"/>
                </a:lnTo>
                <a:lnTo>
                  <a:pt x="416" y="173"/>
                </a:lnTo>
                <a:lnTo>
                  <a:pt x="416" y="162"/>
                </a:lnTo>
                <a:lnTo>
                  <a:pt x="416" y="145"/>
                </a:lnTo>
                <a:lnTo>
                  <a:pt x="391" y="134"/>
                </a:lnTo>
                <a:lnTo>
                  <a:pt x="383" y="122"/>
                </a:lnTo>
                <a:lnTo>
                  <a:pt x="376" y="113"/>
                </a:lnTo>
                <a:lnTo>
                  <a:pt x="391" y="104"/>
                </a:lnTo>
                <a:lnTo>
                  <a:pt x="401" y="103"/>
                </a:lnTo>
                <a:lnTo>
                  <a:pt x="402" y="95"/>
                </a:lnTo>
                <a:lnTo>
                  <a:pt x="374" y="83"/>
                </a:lnTo>
                <a:lnTo>
                  <a:pt x="356" y="74"/>
                </a:lnTo>
                <a:lnTo>
                  <a:pt x="343" y="73"/>
                </a:lnTo>
                <a:lnTo>
                  <a:pt x="353" y="58"/>
                </a:lnTo>
                <a:lnTo>
                  <a:pt x="340" y="39"/>
                </a:lnTo>
                <a:lnTo>
                  <a:pt x="338" y="0"/>
                </a:lnTo>
                <a:lnTo>
                  <a:pt x="33" y="1"/>
                </a:lnTo>
                <a:lnTo>
                  <a:pt x="34" y="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Freeform 290"/>
          <p:cNvSpPr/>
          <p:nvPr/>
        </p:nvSpPr>
        <p:spPr>
          <a:xfrm>
            <a:off x="7059600" y="2735280"/>
            <a:ext cx="677880" cy="498600"/>
          </a:xfrm>
          <a:custGeom>
            <a:avLst/>
            <a:gdLst>
              <a:gd name="textAreaLeft" fmla="*/ 0 w 677880"/>
              <a:gd name="textAreaRight" fmla="*/ 678240 w 677880"/>
              <a:gd name="textAreaTop" fmla="*/ 0 h 498600"/>
              <a:gd name="textAreaBottom" fmla="*/ 498960 h 498600"/>
            </a:gdLst>
            <a:ahLst/>
            <a:rect l="textAreaLeft" t="textAreaTop" r="textAreaRight" b="textAreaBottom"/>
            <a:pathLst>
              <a:path w="416" h="409">
                <a:moveTo>
                  <a:pt x="34" y="5"/>
                </a:moveTo>
                <a:lnTo>
                  <a:pt x="32" y="13"/>
                </a:lnTo>
                <a:lnTo>
                  <a:pt x="38" y="26"/>
                </a:lnTo>
                <a:lnTo>
                  <a:pt x="34" y="39"/>
                </a:lnTo>
                <a:lnTo>
                  <a:pt x="38" y="49"/>
                </a:lnTo>
                <a:lnTo>
                  <a:pt x="23" y="60"/>
                </a:lnTo>
                <a:lnTo>
                  <a:pt x="23" y="73"/>
                </a:lnTo>
                <a:lnTo>
                  <a:pt x="15" y="78"/>
                </a:lnTo>
                <a:lnTo>
                  <a:pt x="10" y="90"/>
                </a:lnTo>
                <a:lnTo>
                  <a:pt x="20" y="95"/>
                </a:lnTo>
                <a:lnTo>
                  <a:pt x="10" y="113"/>
                </a:lnTo>
                <a:lnTo>
                  <a:pt x="20" y="115"/>
                </a:lnTo>
                <a:lnTo>
                  <a:pt x="8" y="122"/>
                </a:lnTo>
                <a:lnTo>
                  <a:pt x="4" y="154"/>
                </a:lnTo>
                <a:lnTo>
                  <a:pt x="10" y="154"/>
                </a:lnTo>
                <a:lnTo>
                  <a:pt x="3" y="173"/>
                </a:lnTo>
                <a:lnTo>
                  <a:pt x="0" y="178"/>
                </a:lnTo>
                <a:lnTo>
                  <a:pt x="7" y="192"/>
                </a:lnTo>
                <a:lnTo>
                  <a:pt x="5" y="203"/>
                </a:lnTo>
                <a:lnTo>
                  <a:pt x="11" y="213"/>
                </a:lnTo>
                <a:lnTo>
                  <a:pt x="14" y="217"/>
                </a:lnTo>
                <a:lnTo>
                  <a:pt x="25" y="236"/>
                </a:lnTo>
                <a:lnTo>
                  <a:pt x="28" y="236"/>
                </a:lnTo>
                <a:lnTo>
                  <a:pt x="30" y="243"/>
                </a:lnTo>
                <a:lnTo>
                  <a:pt x="37" y="258"/>
                </a:lnTo>
                <a:lnTo>
                  <a:pt x="21" y="266"/>
                </a:lnTo>
                <a:lnTo>
                  <a:pt x="34" y="277"/>
                </a:lnTo>
                <a:lnTo>
                  <a:pt x="16" y="288"/>
                </a:lnTo>
                <a:lnTo>
                  <a:pt x="11" y="292"/>
                </a:lnTo>
                <a:lnTo>
                  <a:pt x="21" y="292"/>
                </a:lnTo>
                <a:lnTo>
                  <a:pt x="30" y="298"/>
                </a:lnTo>
                <a:lnTo>
                  <a:pt x="25" y="307"/>
                </a:lnTo>
                <a:lnTo>
                  <a:pt x="33" y="317"/>
                </a:lnTo>
                <a:lnTo>
                  <a:pt x="39" y="327"/>
                </a:lnTo>
                <a:lnTo>
                  <a:pt x="31" y="340"/>
                </a:lnTo>
                <a:lnTo>
                  <a:pt x="29" y="350"/>
                </a:lnTo>
                <a:lnTo>
                  <a:pt x="15" y="361"/>
                </a:lnTo>
                <a:lnTo>
                  <a:pt x="29" y="371"/>
                </a:lnTo>
                <a:lnTo>
                  <a:pt x="25" y="378"/>
                </a:lnTo>
                <a:lnTo>
                  <a:pt x="57" y="401"/>
                </a:lnTo>
                <a:lnTo>
                  <a:pt x="359" y="409"/>
                </a:lnTo>
                <a:lnTo>
                  <a:pt x="374" y="397"/>
                </a:lnTo>
                <a:lnTo>
                  <a:pt x="392" y="389"/>
                </a:lnTo>
                <a:lnTo>
                  <a:pt x="406" y="378"/>
                </a:lnTo>
                <a:lnTo>
                  <a:pt x="399" y="366"/>
                </a:lnTo>
                <a:lnTo>
                  <a:pt x="396" y="362"/>
                </a:lnTo>
                <a:lnTo>
                  <a:pt x="399" y="350"/>
                </a:lnTo>
                <a:lnTo>
                  <a:pt x="396" y="340"/>
                </a:lnTo>
                <a:lnTo>
                  <a:pt x="390" y="327"/>
                </a:lnTo>
                <a:lnTo>
                  <a:pt x="392" y="307"/>
                </a:lnTo>
                <a:lnTo>
                  <a:pt x="396" y="305"/>
                </a:lnTo>
                <a:lnTo>
                  <a:pt x="390" y="292"/>
                </a:lnTo>
                <a:lnTo>
                  <a:pt x="406" y="285"/>
                </a:lnTo>
                <a:lnTo>
                  <a:pt x="399" y="277"/>
                </a:lnTo>
                <a:lnTo>
                  <a:pt x="396" y="258"/>
                </a:lnTo>
                <a:lnTo>
                  <a:pt x="390" y="257"/>
                </a:lnTo>
                <a:lnTo>
                  <a:pt x="383" y="243"/>
                </a:lnTo>
                <a:lnTo>
                  <a:pt x="392" y="236"/>
                </a:lnTo>
                <a:lnTo>
                  <a:pt x="402" y="226"/>
                </a:lnTo>
                <a:lnTo>
                  <a:pt x="399" y="213"/>
                </a:lnTo>
                <a:lnTo>
                  <a:pt x="407" y="204"/>
                </a:lnTo>
                <a:lnTo>
                  <a:pt x="414" y="192"/>
                </a:lnTo>
                <a:lnTo>
                  <a:pt x="416" y="173"/>
                </a:lnTo>
                <a:lnTo>
                  <a:pt x="416" y="162"/>
                </a:lnTo>
                <a:lnTo>
                  <a:pt x="416" y="145"/>
                </a:lnTo>
                <a:lnTo>
                  <a:pt x="391" y="134"/>
                </a:lnTo>
                <a:lnTo>
                  <a:pt x="383" y="122"/>
                </a:lnTo>
                <a:lnTo>
                  <a:pt x="376" y="113"/>
                </a:lnTo>
                <a:lnTo>
                  <a:pt x="391" y="104"/>
                </a:lnTo>
                <a:lnTo>
                  <a:pt x="401" y="103"/>
                </a:lnTo>
                <a:lnTo>
                  <a:pt x="402" y="95"/>
                </a:lnTo>
                <a:lnTo>
                  <a:pt x="374" y="83"/>
                </a:lnTo>
                <a:lnTo>
                  <a:pt x="356" y="74"/>
                </a:lnTo>
                <a:lnTo>
                  <a:pt x="343" y="73"/>
                </a:lnTo>
                <a:lnTo>
                  <a:pt x="353" y="58"/>
                </a:lnTo>
                <a:lnTo>
                  <a:pt x="340" y="39"/>
                </a:lnTo>
                <a:lnTo>
                  <a:pt x="338" y="0"/>
                </a:lnTo>
                <a:lnTo>
                  <a:pt x="33" y="1"/>
                </a:lnTo>
                <a:lnTo>
                  <a:pt x="34" y="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Line 291"/>
          <p:cNvSpPr/>
          <p:nvPr/>
        </p:nvSpPr>
        <p:spPr>
          <a:xfrm>
            <a:off x="7118280" y="2739960"/>
            <a:ext cx="32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6" name="Line 292"/>
          <p:cNvSpPr/>
          <p:nvPr/>
        </p:nvSpPr>
        <p:spPr>
          <a:xfrm>
            <a:off x="7054920" y="2739960"/>
            <a:ext cx="7826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7" name="Line 293"/>
          <p:cNvSpPr/>
          <p:nvPr/>
        </p:nvSpPr>
        <p:spPr>
          <a:xfrm>
            <a:off x="7048440" y="2825640"/>
            <a:ext cx="78912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78" name="Rectangle 294"/>
          <p:cNvSpPr/>
          <p:nvPr/>
        </p:nvSpPr>
        <p:spPr>
          <a:xfrm>
            <a:off x="7300800" y="2347920"/>
            <a:ext cx="66960" cy="35733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9" name="Freeform 295"/>
          <p:cNvSpPr/>
          <p:nvPr/>
        </p:nvSpPr>
        <p:spPr>
          <a:xfrm>
            <a:off x="4052880" y="2347920"/>
            <a:ext cx="522360" cy="612720"/>
          </a:xfrm>
          <a:custGeom>
            <a:avLst/>
            <a:gdLst>
              <a:gd name="textAreaLeft" fmla="*/ 0 w 522360"/>
              <a:gd name="textAreaRight" fmla="*/ 522720 w 522360"/>
              <a:gd name="textAreaTop" fmla="*/ 0 h 612720"/>
              <a:gd name="textAreaBottom" fmla="*/ 613080 h 612720"/>
            </a:gdLst>
            <a:ahLst/>
            <a:rect l="textAreaLeft" t="textAreaTop" r="textAreaRight" b="textAreaBottom"/>
            <a:pathLst>
              <a:path w="322" h="504">
                <a:moveTo>
                  <a:pt x="0" y="0"/>
                </a:moveTo>
                <a:lnTo>
                  <a:pt x="0" y="28"/>
                </a:lnTo>
                <a:lnTo>
                  <a:pt x="16" y="21"/>
                </a:lnTo>
                <a:lnTo>
                  <a:pt x="12" y="63"/>
                </a:lnTo>
                <a:lnTo>
                  <a:pt x="25" y="48"/>
                </a:lnTo>
                <a:lnTo>
                  <a:pt x="27" y="80"/>
                </a:lnTo>
                <a:lnTo>
                  <a:pt x="45" y="66"/>
                </a:lnTo>
                <a:lnTo>
                  <a:pt x="43" y="89"/>
                </a:lnTo>
                <a:lnTo>
                  <a:pt x="56" y="73"/>
                </a:lnTo>
                <a:lnTo>
                  <a:pt x="51" y="101"/>
                </a:lnTo>
                <a:lnTo>
                  <a:pt x="62" y="113"/>
                </a:lnTo>
                <a:lnTo>
                  <a:pt x="62" y="145"/>
                </a:lnTo>
                <a:lnTo>
                  <a:pt x="72" y="172"/>
                </a:lnTo>
                <a:lnTo>
                  <a:pt x="67" y="207"/>
                </a:lnTo>
                <a:lnTo>
                  <a:pt x="77" y="215"/>
                </a:lnTo>
                <a:lnTo>
                  <a:pt x="81" y="254"/>
                </a:lnTo>
                <a:lnTo>
                  <a:pt x="89" y="247"/>
                </a:lnTo>
                <a:lnTo>
                  <a:pt x="89" y="278"/>
                </a:lnTo>
                <a:lnTo>
                  <a:pt x="100" y="293"/>
                </a:lnTo>
                <a:lnTo>
                  <a:pt x="103" y="338"/>
                </a:lnTo>
                <a:lnTo>
                  <a:pt x="114" y="334"/>
                </a:lnTo>
                <a:lnTo>
                  <a:pt x="114" y="367"/>
                </a:lnTo>
                <a:lnTo>
                  <a:pt x="128" y="360"/>
                </a:lnTo>
                <a:lnTo>
                  <a:pt x="133" y="411"/>
                </a:lnTo>
                <a:lnTo>
                  <a:pt x="148" y="406"/>
                </a:lnTo>
                <a:lnTo>
                  <a:pt x="151" y="438"/>
                </a:lnTo>
                <a:lnTo>
                  <a:pt x="166" y="432"/>
                </a:lnTo>
                <a:lnTo>
                  <a:pt x="168" y="463"/>
                </a:lnTo>
                <a:lnTo>
                  <a:pt x="183" y="450"/>
                </a:lnTo>
                <a:lnTo>
                  <a:pt x="193" y="485"/>
                </a:lnTo>
                <a:lnTo>
                  <a:pt x="204" y="472"/>
                </a:lnTo>
                <a:lnTo>
                  <a:pt x="211" y="504"/>
                </a:lnTo>
                <a:lnTo>
                  <a:pt x="225" y="485"/>
                </a:lnTo>
                <a:lnTo>
                  <a:pt x="235" y="491"/>
                </a:lnTo>
                <a:lnTo>
                  <a:pt x="253" y="480"/>
                </a:lnTo>
                <a:lnTo>
                  <a:pt x="269" y="504"/>
                </a:lnTo>
                <a:lnTo>
                  <a:pt x="277" y="489"/>
                </a:lnTo>
                <a:lnTo>
                  <a:pt x="289" y="491"/>
                </a:lnTo>
                <a:lnTo>
                  <a:pt x="295" y="472"/>
                </a:lnTo>
                <a:lnTo>
                  <a:pt x="304" y="496"/>
                </a:lnTo>
                <a:lnTo>
                  <a:pt x="312" y="485"/>
                </a:lnTo>
                <a:lnTo>
                  <a:pt x="322" y="502"/>
                </a:lnTo>
              </a:path>
            </a:pathLst>
          </a:custGeom>
          <a:noFill/>
          <a:ln w="9360">
            <a:solidFill>
              <a:srgbClr val="e1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0" name="Freeform 296"/>
          <p:cNvSpPr/>
          <p:nvPr/>
        </p:nvSpPr>
        <p:spPr>
          <a:xfrm>
            <a:off x="4648320" y="2593800"/>
            <a:ext cx="806400" cy="393840"/>
          </a:xfrm>
          <a:custGeom>
            <a:avLst/>
            <a:gdLst>
              <a:gd name="textAreaLeft" fmla="*/ 0 w 806400"/>
              <a:gd name="textAreaRight" fmla="*/ 806760 w 806400"/>
              <a:gd name="textAreaTop" fmla="*/ 0 h 393840"/>
              <a:gd name="textAreaBottom" fmla="*/ 394200 h 393840"/>
            </a:gdLst>
            <a:ahLst/>
            <a:rect l="textAreaLeft" t="textAreaTop" r="textAreaRight" b="textAreaBottom"/>
            <a:pathLst>
              <a:path w="498" h="325">
                <a:moveTo>
                  <a:pt x="0" y="295"/>
                </a:moveTo>
                <a:lnTo>
                  <a:pt x="9" y="285"/>
                </a:lnTo>
                <a:lnTo>
                  <a:pt x="19" y="319"/>
                </a:lnTo>
                <a:lnTo>
                  <a:pt x="28" y="289"/>
                </a:lnTo>
                <a:lnTo>
                  <a:pt x="37" y="310"/>
                </a:lnTo>
                <a:lnTo>
                  <a:pt x="49" y="291"/>
                </a:lnTo>
                <a:lnTo>
                  <a:pt x="63" y="310"/>
                </a:lnTo>
                <a:lnTo>
                  <a:pt x="71" y="285"/>
                </a:lnTo>
                <a:lnTo>
                  <a:pt x="81" y="312"/>
                </a:lnTo>
                <a:lnTo>
                  <a:pt x="94" y="291"/>
                </a:lnTo>
                <a:lnTo>
                  <a:pt x="108" y="325"/>
                </a:lnTo>
                <a:lnTo>
                  <a:pt x="114" y="291"/>
                </a:lnTo>
                <a:lnTo>
                  <a:pt x="124" y="319"/>
                </a:lnTo>
                <a:lnTo>
                  <a:pt x="137" y="289"/>
                </a:lnTo>
                <a:lnTo>
                  <a:pt x="150" y="321"/>
                </a:lnTo>
                <a:lnTo>
                  <a:pt x="156" y="289"/>
                </a:lnTo>
                <a:lnTo>
                  <a:pt x="169" y="310"/>
                </a:lnTo>
                <a:lnTo>
                  <a:pt x="175" y="280"/>
                </a:lnTo>
                <a:lnTo>
                  <a:pt x="190" y="296"/>
                </a:lnTo>
                <a:lnTo>
                  <a:pt x="192" y="272"/>
                </a:lnTo>
                <a:lnTo>
                  <a:pt x="207" y="291"/>
                </a:lnTo>
                <a:lnTo>
                  <a:pt x="210" y="263"/>
                </a:lnTo>
                <a:lnTo>
                  <a:pt x="225" y="285"/>
                </a:lnTo>
                <a:lnTo>
                  <a:pt x="232" y="252"/>
                </a:lnTo>
                <a:lnTo>
                  <a:pt x="250" y="263"/>
                </a:lnTo>
                <a:lnTo>
                  <a:pt x="258" y="232"/>
                </a:lnTo>
                <a:lnTo>
                  <a:pt x="275" y="257"/>
                </a:lnTo>
                <a:lnTo>
                  <a:pt x="280" y="208"/>
                </a:lnTo>
                <a:lnTo>
                  <a:pt x="291" y="218"/>
                </a:lnTo>
                <a:lnTo>
                  <a:pt x="294" y="185"/>
                </a:lnTo>
                <a:lnTo>
                  <a:pt x="306" y="200"/>
                </a:lnTo>
                <a:lnTo>
                  <a:pt x="311" y="160"/>
                </a:lnTo>
                <a:lnTo>
                  <a:pt x="329" y="170"/>
                </a:lnTo>
                <a:lnTo>
                  <a:pt x="331" y="134"/>
                </a:lnTo>
                <a:lnTo>
                  <a:pt x="340" y="129"/>
                </a:lnTo>
                <a:lnTo>
                  <a:pt x="344" y="98"/>
                </a:lnTo>
                <a:lnTo>
                  <a:pt x="354" y="119"/>
                </a:lnTo>
                <a:lnTo>
                  <a:pt x="356" y="82"/>
                </a:lnTo>
                <a:lnTo>
                  <a:pt x="364" y="93"/>
                </a:lnTo>
                <a:lnTo>
                  <a:pt x="369" y="61"/>
                </a:lnTo>
                <a:lnTo>
                  <a:pt x="381" y="56"/>
                </a:lnTo>
                <a:lnTo>
                  <a:pt x="392" y="32"/>
                </a:lnTo>
                <a:lnTo>
                  <a:pt x="400" y="2"/>
                </a:lnTo>
                <a:lnTo>
                  <a:pt x="406" y="37"/>
                </a:lnTo>
                <a:lnTo>
                  <a:pt x="413" y="2"/>
                </a:lnTo>
                <a:lnTo>
                  <a:pt x="420" y="46"/>
                </a:lnTo>
                <a:lnTo>
                  <a:pt x="431" y="2"/>
                </a:lnTo>
                <a:lnTo>
                  <a:pt x="438" y="51"/>
                </a:lnTo>
                <a:lnTo>
                  <a:pt x="450" y="5"/>
                </a:lnTo>
                <a:lnTo>
                  <a:pt x="456" y="51"/>
                </a:lnTo>
                <a:lnTo>
                  <a:pt x="468" y="13"/>
                </a:lnTo>
                <a:lnTo>
                  <a:pt x="469" y="7"/>
                </a:lnTo>
                <a:lnTo>
                  <a:pt x="483" y="47"/>
                </a:lnTo>
                <a:lnTo>
                  <a:pt x="488" y="28"/>
                </a:lnTo>
                <a:lnTo>
                  <a:pt x="492" y="0"/>
                </a:lnTo>
                <a:lnTo>
                  <a:pt x="498" y="34"/>
                </a:lnTo>
              </a:path>
            </a:pathLst>
          </a:custGeom>
          <a:noFill/>
          <a:ln w="9360">
            <a:solidFill>
              <a:srgbClr val="e1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Freeform 297"/>
          <p:cNvSpPr/>
          <p:nvPr/>
        </p:nvSpPr>
        <p:spPr>
          <a:xfrm>
            <a:off x="5529240" y="2576520"/>
            <a:ext cx="866880" cy="566640"/>
          </a:xfrm>
          <a:custGeom>
            <a:avLst/>
            <a:gdLst>
              <a:gd name="textAreaLeft" fmla="*/ 0 w 866880"/>
              <a:gd name="textAreaRight" fmla="*/ 867240 w 866880"/>
              <a:gd name="textAreaTop" fmla="*/ 0 h 566640"/>
              <a:gd name="textAreaBottom" fmla="*/ 567000 h 566640"/>
            </a:gdLst>
            <a:ahLst/>
            <a:rect l="textAreaLeft" t="textAreaTop" r="textAreaRight" b="textAreaBottom"/>
            <a:pathLst>
              <a:path w="538" h="465">
                <a:moveTo>
                  <a:pt x="0" y="35"/>
                </a:moveTo>
                <a:lnTo>
                  <a:pt x="14" y="13"/>
                </a:lnTo>
                <a:lnTo>
                  <a:pt x="26" y="30"/>
                </a:lnTo>
                <a:lnTo>
                  <a:pt x="38" y="0"/>
                </a:lnTo>
                <a:lnTo>
                  <a:pt x="57" y="43"/>
                </a:lnTo>
                <a:lnTo>
                  <a:pt x="63" y="4"/>
                </a:lnTo>
                <a:lnTo>
                  <a:pt x="78" y="43"/>
                </a:lnTo>
                <a:lnTo>
                  <a:pt x="85" y="4"/>
                </a:lnTo>
                <a:lnTo>
                  <a:pt x="101" y="53"/>
                </a:lnTo>
                <a:lnTo>
                  <a:pt x="112" y="16"/>
                </a:lnTo>
                <a:lnTo>
                  <a:pt x="131" y="62"/>
                </a:lnTo>
                <a:lnTo>
                  <a:pt x="140" y="16"/>
                </a:lnTo>
                <a:lnTo>
                  <a:pt x="152" y="64"/>
                </a:lnTo>
                <a:lnTo>
                  <a:pt x="158" y="21"/>
                </a:lnTo>
                <a:lnTo>
                  <a:pt x="174" y="62"/>
                </a:lnTo>
                <a:lnTo>
                  <a:pt x="183" y="16"/>
                </a:lnTo>
                <a:lnTo>
                  <a:pt x="198" y="58"/>
                </a:lnTo>
                <a:lnTo>
                  <a:pt x="207" y="26"/>
                </a:lnTo>
                <a:lnTo>
                  <a:pt x="227" y="65"/>
                </a:lnTo>
                <a:lnTo>
                  <a:pt x="232" y="26"/>
                </a:lnTo>
                <a:lnTo>
                  <a:pt x="247" y="39"/>
                </a:lnTo>
                <a:lnTo>
                  <a:pt x="253" y="74"/>
                </a:lnTo>
                <a:lnTo>
                  <a:pt x="276" y="67"/>
                </a:lnTo>
                <a:lnTo>
                  <a:pt x="294" y="75"/>
                </a:lnTo>
                <a:lnTo>
                  <a:pt x="300" y="99"/>
                </a:lnTo>
                <a:lnTo>
                  <a:pt x="308" y="107"/>
                </a:lnTo>
                <a:lnTo>
                  <a:pt x="311" y="145"/>
                </a:lnTo>
                <a:lnTo>
                  <a:pt x="319" y="155"/>
                </a:lnTo>
                <a:lnTo>
                  <a:pt x="318" y="193"/>
                </a:lnTo>
                <a:lnTo>
                  <a:pt x="328" y="193"/>
                </a:lnTo>
                <a:lnTo>
                  <a:pt x="330" y="227"/>
                </a:lnTo>
                <a:lnTo>
                  <a:pt x="344" y="232"/>
                </a:lnTo>
                <a:lnTo>
                  <a:pt x="344" y="272"/>
                </a:lnTo>
                <a:lnTo>
                  <a:pt x="360" y="283"/>
                </a:lnTo>
                <a:lnTo>
                  <a:pt x="361" y="320"/>
                </a:lnTo>
                <a:lnTo>
                  <a:pt x="376" y="323"/>
                </a:lnTo>
                <a:lnTo>
                  <a:pt x="377" y="357"/>
                </a:lnTo>
                <a:lnTo>
                  <a:pt x="392" y="372"/>
                </a:lnTo>
                <a:lnTo>
                  <a:pt x="395" y="406"/>
                </a:lnTo>
                <a:lnTo>
                  <a:pt x="413" y="410"/>
                </a:lnTo>
                <a:lnTo>
                  <a:pt x="420" y="436"/>
                </a:lnTo>
                <a:lnTo>
                  <a:pt x="437" y="426"/>
                </a:lnTo>
                <a:lnTo>
                  <a:pt x="446" y="460"/>
                </a:lnTo>
                <a:lnTo>
                  <a:pt x="470" y="446"/>
                </a:lnTo>
                <a:lnTo>
                  <a:pt x="475" y="465"/>
                </a:lnTo>
                <a:lnTo>
                  <a:pt x="491" y="449"/>
                </a:lnTo>
                <a:lnTo>
                  <a:pt x="505" y="465"/>
                </a:lnTo>
                <a:lnTo>
                  <a:pt x="516" y="449"/>
                </a:lnTo>
                <a:lnTo>
                  <a:pt x="526" y="465"/>
                </a:lnTo>
                <a:lnTo>
                  <a:pt x="534" y="446"/>
                </a:lnTo>
                <a:lnTo>
                  <a:pt x="538" y="460"/>
                </a:lnTo>
              </a:path>
            </a:pathLst>
          </a:custGeom>
          <a:noFill/>
          <a:ln w="9360">
            <a:solidFill>
              <a:srgbClr val="e1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Freeform 298"/>
          <p:cNvSpPr/>
          <p:nvPr/>
        </p:nvSpPr>
        <p:spPr>
          <a:xfrm>
            <a:off x="6480000" y="3117960"/>
            <a:ext cx="812880" cy="126720"/>
          </a:xfrm>
          <a:custGeom>
            <a:avLst/>
            <a:gdLst>
              <a:gd name="textAreaLeft" fmla="*/ 0 w 812880"/>
              <a:gd name="textAreaRight" fmla="*/ 813240 w 812880"/>
              <a:gd name="textAreaTop" fmla="*/ 0 h 126720"/>
              <a:gd name="textAreaBottom" fmla="*/ 127080 h 126720"/>
            </a:gdLst>
            <a:ahLst/>
            <a:rect l="textAreaLeft" t="textAreaTop" r="textAreaRight" b="textAreaBottom"/>
            <a:pathLst>
              <a:path w="502" h="105">
                <a:moveTo>
                  <a:pt x="0" y="12"/>
                </a:moveTo>
                <a:lnTo>
                  <a:pt x="15" y="0"/>
                </a:lnTo>
                <a:lnTo>
                  <a:pt x="27" y="25"/>
                </a:lnTo>
                <a:lnTo>
                  <a:pt x="36" y="0"/>
                </a:lnTo>
                <a:lnTo>
                  <a:pt x="49" y="28"/>
                </a:lnTo>
                <a:lnTo>
                  <a:pt x="60" y="0"/>
                </a:lnTo>
                <a:lnTo>
                  <a:pt x="80" y="25"/>
                </a:lnTo>
                <a:lnTo>
                  <a:pt x="98" y="5"/>
                </a:lnTo>
                <a:lnTo>
                  <a:pt x="106" y="28"/>
                </a:lnTo>
                <a:lnTo>
                  <a:pt x="127" y="0"/>
                </a:lnTo>
                <a:lnTo>
                  <a:pt x="149" y="28"/>
                </a:lnTo>
                <a:lnTo>
                  <a:pt x="156" y="5"/>
                </a:lnTo>
                <a:lnTo>
                  <a:pt x="168" y="25"/>
                </a:lnTo>
                <a:lnTo>
                  <a:pt x="180" y="0"/>
                </a:lnTo>
                <a:lnTo>
                  <a:pt x="194" y="25"/>
                </a:lnTo>
                <a:lnTo>
                  <a:pt x="225" y="5"/>
                </a:lnTo>
                <a:lnTo>
                  <a:pt x="237" y="28"/>
                </a:lnTo>
                <a:lnTo>
                  <a:pt x="250" y="16"/>
                </a:lnTo>
                <a:lnTo>
                  <a:pt x="263" y="45"/>
                </a:lnTo>
                <a:lnTo>
                  <a:pt x="281" y="25"/>
                </a:lnTo>
                <a:lnTo>
                  <a:pt x="295" y="51"/>
                </a:lnTo>
                <a:lnTo>
                  <a:pt x="318" y="37"/>
                </a:lnTo>
                <a:lnTo>
                  <a:pt x="332" y="63"/>
                </a:lnTo>
                <a:lnTo>
                  <a:pt x="346" y="37"/>
                </a:lnTo>
                <a:lnTo>
                  <a:pt x="366" y="79"/>
                </a:lnTo>
                <a:lnTo>
                  <a:pt x="373" y="56"/>
                </a:lnTo>
                <a:lnTo>
                  <a:pt x="392" y="82"/>
                </a:lnTo>
                <a:lnTo>
                  <a:pt x="414" y="70"/>
                </a:lnTo>
                <a:lnTo>
                  <a:pt x="430" y="96"/>
                </a:lnTo>
                <a:lnTo>
                  <a:pt x="442" y="79"/>
                </a:lnTo>
                <a:lnTo>
                  <a:pt x="463" y="90"/>
                </a:lnTo>
                <a:lnTo>
                  <a:pt x="482" y="79"/>
                </a:lnTo>
                <a:lnTo>
                  <a:pt x="492" y="105"/>
                </a:lnTo>
                <a:lnTo>
                  <a:pt x="502" y="79"/>
                </a:lnTo>
              </a:path>
            </a:pathLst>
          </a:custGeom>
          <a:noFill/>
          <a:ln w="9360">
            <a:solidFill>
              <a:srgbClr val="e1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3" name="Freeform 299"/>
          <p:cNvSpPr/>
          <p:nvPr/>
        </p:nvSpPr>
        <p:spPr>
          <a:xfrm>
            <a:off x="7367760" y="3205080"/>
            <a:ext cx="844200" cy="52560"/>
          </a:xfrm>
          <a:custGeom>
            <a:avLst/>
            <a:gdLst>
              <a:gd name="textAreaLeft" fmla="*/ 0 w 844200"/>
              <a:gd name="textAreaRight" fmla="*/ 844560 w 844200"/>
              <a:gd name="textAreaTop" fmla="*/ 0 h 52560"/>
              <a:gd name="textAreaBottom" fmla="*/ 52920 h 52560"/>
            </a:gdLst>
            <a:ahLst/>
            <a:rect l="textAreaLeft" t="textAreaTop" r="textAreaRight" b="textAreaBottom"/>
            <a:pathLst>
              <a:path w="521" h="42">
                <a:moveTo>
                  <a:pt x="0" y="15"/>
                </a:moveTo>
                <a:lnTo>
                  <a:pt x="8" y="0"/>
                </a:lnTo>
                <a:lnTo>
                  <a:pt x="13" y="22"/>
                </a:lnTo>
                <a:lnTo>
                  <a:pt x="24" y="0"/>
                </a:lnTo>
                <a:lnTo>
                  <a:pt x="28" y="22"/>
                </a:lnTo>
                <a:lnTo>
                  <a:pt x="37" y="7"/>
                </a:lnTo>
                <a:lnTo>
                  <a:pt x="42" y="29"/>
                </a:lnTo>
                <a:lnTo>
                  <a:pt x="51" y="7"/>
                </a:lnTo>
                <a:lnTo>
                  <a:pt x="61" y="35"/>
                </a:lnTo>
                <a:lnTo>
                  <a:pt x="64" y="7"/>
                </a:lnTo>
                <a:lnTo>
                  <a:pt x="72" y="22"/>
                </a:lnTo>
                <a:lnTo>
                  <a:pt x="81" y="7"/>
                </a:lnTo>
                <a:lnTo>
                  <a:pt x="88" y="22"/>
                </a:lnTo>
                <a:lnTo>
                  <a:pt x="98" y="7"/>
                </a:lnTo>
                <a:lnTo>
                  <a:pt x="106" y="29"/>
                </a:lnTo>
                <a:lnTo>
                  <a:pt x="114" y="7"/>
                </a:lnTo>
                <a:lnTo>
                  <a:pt x="120" y="29"/>
                </a:lnTo>
                <a:lnTo>
                  <a:pt x="132" y="15"/>
                </a:lnTo>
                <a:lnTo>
                  <a:pt x="142" y="29"/>
                </a:lnTo>
                <a:lnTo>
                  <a:pt x="147" y="15"/>
                </a:lnTo>
                <a:lnTo>
                  <a:pt x="160" y="29"/>
                </a:lnTo>
                <a:lnTo>
                  <a:pt x="161" y="15"/>
                </a:lnTo>
                <a:lnTo>
                  <a:pt x="170" y="35"/>
                </a:lnTo>
                <a:lnTo>
                  <a:pt x="177" y="15"/>
                </a:lnTo>
                <a:lnTo>
                  <a:pt x="186" y="35"/>
                </a:lnTo>
                <a:lnTo>
                  <a:pt x="199" y="15"/>
                </a:lnTo>
                <a:lnTo>
                  <a:pt x="205" y="35"/>
                </a:lnTo>
                <a:lnTo>
                  <a:pt x="211" y="15"/>
                </a:lnTo>
                <a:lnTo>
                  <a:pt x="223" y="35"/>
                </a:lnTo>
                <a:lnTo>
                  <a:pt x="229" y="15"/>
                </a:lnTo>
                <a:lnTo>
                  <a:pt x="235" y="35"/>
                </a:lnTo>
                <a:lnTo>
                  <a:pt x="251" y="15"/>
                </a:lnTo>
                <a:lnTo>
                  <a:pt x="263" y="29"/>
                </a:lnTo>
                <a:lnTo>
                  <a:pt x="268" y="15"/>
                </a:lnTo>
                <a:lnTo>
                  <a:pt x="277" y="35"/>
                </a:lnTo>
                <a:lnTo>
                  <a:pt x="288" y="15"/>
                </a:lnTo>
                <a:lnTo>
                  <a:pt x="298" y="35"/>
                </a:lnTo>
                <a:lnTo>
                  <a:pt x="305" y="15"/>
                </a:lnTo>
                <a:lnTo>
                  <a:pt x="313" y="35"/>
                </a:lnTo>
                <a:lnTo>
                  <a:pt x="327" y="15"/>
                </a:lnTo>
                <a:lnTo>
                  <a:pt x="339" y="35"/>
                </a:lnTo>
                <a:lnTo>
                  <a:pt x="350" y="15"/>
                </a:lnTo>
                <a:lnTo>
                  <a:pt x="362" y="35"/>
                </a:lnTo>
                <a:lnTo>
                  <a:pt x="372" y="15"/>
                </a:lnTo>
                <a:lnTo>
                  <a:pt x="381" y="35"/>
                </a:lnTo>
                <a:lnTo>
                  <a:pt x="388" y="15"/>
                </a:lnTo>
                <a:lnTo>
                  <a:pt x="400" y="29"/>
                </a:lnTo>
                <a:lnTo>
                  <a:pt x="417" y="7"/>
                </a:lnTo>
                <a:lnTo>
                  <a:pt x="425" y="29"/>
                </a:lnTo>
                <a:lnTo>
                  <a:pt x="437" y="7"/>
                </a:lnTo>
                <a:lnTo>
                  <a:pt x="451" y="35"/>
                </a:lnTo>
                <a:lnTo>
                  <a:pt x="460" y="15"/>
                </a:lnTo>
                <a:lnTo>
                  <a:pt x="473" y="35"/>
                </a:lnTo>
                <a:lnTo>
                  <a:pt x="480" y="15"/>
                </a:lnTo>
                <a:lnTo>
                  <a:pt x="488" y="42"/>
                </a:lnTo>
                <a:lnTo>
                  <a:pt x="497" y="15"/>
                </a:lnTo>
                <a:lnTo>
                  <a:pt x="505" y="35"/>
                </a:lnTo>
                <a:lnTo>
                  <a:pt x="512" y="15"/>
                </a:lnTo>
                <a:lnTo>
                  <a:pt x="518" y="35"/>
                </a:lnTo>
                <a:lnTo>
                  <a:pt x="521" y="22"/>
                </a:lnTo>
              </a:path>
            </a:pathLst>
          </a:custGeom>
          <a:noFill/>
          <a:ln w="9360">
            <a:solidFill>
              <a:srgbClr val="e1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584" name="Freeform 300"/>
          <p:cNvSpPr/>
          <p:nvPr/>
        </p:nvSpPr>
        <p:spPr>
          <a:xfrm>
            <a:off x="8292960" y="3213000"/>
            <a:ext cx="459000" cy="44640"/>
          </a:xfrm>
          <a:custGeom>
            <a:avLst/>
            <a:gdLst>
              <a:gd name="textAreaLeft" fmla="*/ 0 w 459000"/>
              <a:gd name="textAreaRight" fmla="*/ 459360 w 459000"/>
              <a:gd name="textAreaTop" fmla="*/ 0 h 44640"/>
              <a:gd name="textAreaBottom" fmla="*/ 45000 h 44640"/>
            </a:gdLst>
            <a:ahLst/>
            <a:rect l="textAreaLeft" t="textAreaTop" r="textAreaRight" b="textAreaBottom"/>
            <a:pathLst>
              <a:path w="284" h="35">
                <a:moveTo>
                  <a:pt x="0" y="15"/>
                </a:moveTo>
                <a:lnTo>
                  <a:pt x="14" y="0"/>
                </a:lnTo>
                <a:lnTo>
                  <a:pt x="26" y="28"/>
                </a:lnTo>
                <a:lnTo>
                  <a:pt x="41" y="0"/>
                </a:lnTo>
                <a:lnTo>
                  <a:pt x="49" y="28"/>
                </a:lnTo>
                <a:lnTo>
                  <a:pt x="60" y="0"/>
                </a:lnTo>
                <a:lnTo>
                  <a:pt x="73" y="28"/>
                </a:lnTo>
                <a:lnTo>
                  <a:pt x="83" y="8"/>
                </a:lnTo>
                <a:lnTo>
                  <a:pt x="96" y="28"/>
                </a:lnTo>
                <a:lnTo>
                  <a:pt x="105" y="8"/>
                </a:lnTo>
                <a:lnTo>
                  <a:pt x="113" y="28"/>
                </a:lnTo>
                <a:lnTo>
                  <a:pt x="122" y="8"/>
                </a:lnTo>
                <a:lnTo>
                  <a:pt x="136" y="35"/>
                </a:lnTo>
                <a:lnTo>
                  <a:pt x="145" y="15"/>
                </a:lnTo>
                <a:lnTo>
                  <a:pt x="154" y="35"/>
                </a:lnTo>
                <a:lnTo>
                  <a:pt x="163" y="8"/>
                </a:lnTo>
                <a:lnTo>
                  <a:pt x="167" y="28"/>
                </a:lnTo>
                <a:lnTo>
                  <a:pt x="177" y="8"/>
                </a:lnTo>
                <a:lnTo>
                  <a:pt x="185" y="28"/>
                </a:lnTo>
                <a:lnTo>
                  <a:pt x="198" y="8"/>
                </a:lnTo>
                <a:lnTo>
                  <a:pt x="207" y="35"/>
                </a:lnTo>
                <a:lnTo>
                  <a:pt x="215" y="15"/>
                </a:lnTo>
                <a:lnTo>
                  <a:pt x="230" y="35"/>
                </a:lnTo>
                <a:lnTo>
                  <a:pt x="240" y="8"/>
                </a:lnTo>
                <a:lnTo>
                  <a:pt x="248" y="35"/>
                </a:lnTo>
                <a:lnTo>
                  <a:pt x="254" y="8"/>
                </a:lnTo>
                <a:lnTo>
                  <a:pt x="265" y="35"/>
                </a:lnTo>
                <a:lnTo>
                  <a:pt x="275" y="8"/>
                </a:lnTo>
                <a:lnTo>
                  <a:pt x="284" y="35"/>
                </a:lnTo>
              </a:path>
            </a:pathLst>
          </a:custGeom>
          <a:noFill/>
          <a:ln w="9360">
            <a:solidFill>
              <a:srgbClr val="e1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585" name="Rectangle 301"/>
          <p:cNvSpPr/>
          <p:nvPr/>
        </p:nvSpPr>
        <p:spPr>
          <a:xfrm>
            <a:off x="5591160" y="2357280"/>
            <a:ext cx="79560" cy="353700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6" name="Rectangle 302"/>
          <p:cNvSpPr/>
          <p:nvPr/>
        </p:nvSpPr>
        <p:spPr>
          <a:xfrm>
            <a:off x="2873520" y="2347920"/>
            <a:ext cx="71280" cy="41576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87" name="Group 303"/>
          <p:cNvGrpSpPr/>
          <p:nvPr/>
        </p:nvGrpSpPr>
        <p:grpSpPr>
          <a:xfrm>
            <a:off x="843840" y="2570040"/>
            <a:ext cx="7651080" cy="3741840"/>
            <a:chOff x="843840" y="2570040"/>
            <a:chExt cx="7651080" cy="3741840"/>
          </a:xfrm>
        </p:grpSpPr>
        <p:sp>
          <p:nvSpPr>
            <p:cNvPr id="2588" name="Rectangle 304"/>
            <p:cNvSpPr/>
            <p:nvPr/>
          </p:nvSpPr>
          <p:spPr>
            <a:xfrm>
              <a:off x="843840" y="277560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00</a:t>
              </a:r>
              <a:endParaRPr b="0" lang="en-US" sz="1200" spc="-1" strike="noStrike">
                <a:solidFill>
                  <a:srgbClr val="000000"/>
                </a:solidFill>
                <a:latin typeface="Times New Roman"/>
              </a:endParaRPr>
            </a:p>
          </p:txBody>
        </p:sp>
        <p:sp>
          <p:nvSpPr>
            <p:cNvPr id="2589" name="Rectangle 305"/>
            <p:cNvSpPr/>
            <p:nvPr/>
          </p:nvSpPr>
          <p:spPr>
            <a:xfrm>
              <a:off x="844920" y="365760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50</a:t>
              </a:r>
              <a:endParaRPr b="0" lang="en-US" sz="1200" spc="-1" strike="noStrike">
                <a:solidFill>
                  <a:srgbClr val="000000"/>
                </a:solidFill>
                <a:latin typeface="Times New Roman"/>
              </a:endParaRPr>
            </a:p>
          </p:txBody>
        </p:sp>
        <p:sp>
          <p:nvSpPr>
            <p:cNvPr id="2590" name="Rectangle 306"/>
            <p:cNvSpPr/>
            <p:nvPr/>
          </p:nvSpPr>
          <p:spPr>
            <a:xfrm>
              <a:off x="865800" y="447840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300</a:t>
              </a:r>
              <a:endParaRPr b="0" lang="en-US" sz="1200" spc="-1" strike="noStrike">
                <a:solidFill>
                  <a:srgbClr val="000000"/>
                </a:solidFill>
                <a:latin typeface="Times New Roman"/>
              </a:endParaRPr>
            </a:p>
          </p:txBody>
        </p:sp>
        <p:sp>
          <p:nvSpPr>
            <p:cNvPr id="2591" name="Rectangle 307"/>
            <p:cNvSpPr/>
            <p:nvPr/>
          </p:nvSpPr>
          <p:spPr>
            <a:xfrm>
              <a:off x="865800" y="537372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350</a:t>
              </a:r>
              <a:endParaRPr b="0" lang="en-US" sz="1200" spc="-1" strike="noStrike">
                <a:solidFill>
                  <a:srgbClr val="000000"/>
                </a:solidFill>
                <a:latin typeface="Times New Roman"/>
              </a:endParaRPr>
            </a:p>
          </p:txBody>
        </p:sp>
        <p:sp>
          <p:nvSpPr>
            <p:cNvPr id="2592" name="Rectangle 308"/>
            <p:cNvSpPr/>
            <p:nvPr/>
          </p:nvSpPr>
          <p:spPr>
            <a:xfrm>
              <a:off x="3579840" y="257004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100</a:t>
              </a:r>
              <a:endParaRPr b="0" lang="en-US" sz="1200" spc="-1" strike="noStrike">
                <a:solidFill>
                  <a:srgbClr val="000000"/>
                </a:solidFill>
                <a:latin typeface="Times New Roman"/>
              </a:endParaRPr>
            </a:p>
          </p:txBody>
        </p:sp>
        <p:sp>
          <p:nvSpPr>
            <p:cNvPr id="2593" name="Rectangle 309"/>
            <p:cNvSpPr/>
            <p:nvPr/>
          </p:nvSpPr>
          <p:spPr>
            <a:xfrm>
              <a:off x="3579840" y="335592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150</a:t>
              </a:r>
              <a:endParaRPr b="0" lang="en-US" sz="1200" spc="-1" strike="noStrike">
                <a:solidFill>
                  <a:srgbClr val="000000"/>
                </a:solidFill>
                <a:latin typeface="Times New Roman"/>
              </a:endParaRPr>
            </a:p>
          </p:txBody>
        </p:sp>
        <p:sp>
          <p:nvSpPr>
            <p:cNvPr id="2594" name="Rectangle 310"/>
            <p:cNvSpPr/>
            <p:nvPr/>
          </p:nvSpPr>
          <p:spPr>
            <a:xfrm>
              <a:off x="6316200" y="264312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50</a:t>
              </a:r>
              <a:endParaRPr b="0" lang="en-US" sz="1200" spc="-1" strike="noStrike">
                <a:solidFill>
                  <a:srgbClr val="000000"/>
                </a:solidFill>
                <a:latin typeface="Times New Roman"/>
              </a:endParaRPr>
            </a:p>
          </p:txBody>
        </p:sp>
        <p:sp>
          <p:nvSpPr>
            <p:cNvPr id="2595" name="Rectangle 311"/>
            <p:cNvSpPr/>
            <p:nvPr/>
          </p:nvSpPr>
          <p:spPr>
            <a:xfrm>
              <a:off x="6327000" y="349632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300</a:t>
              </a:r>
              <a:endParaRPr b="0" lang="en-US" sz="1200" spc="-1" strike="noStrike">
                <a:solidFill>
                  <a:srgbClr val="000000"/>
                </a:solidFill>
                <a:latin typeface="Times New Roman"/>
              </a:endParaRPr>
            </a:p>
          </p:txBody>
        </p:sp>
        <p:sp>
          <p:nvSpPr>
            <p:cNvPr id="2596" name="Rectangle 312"/>
            <p:cNvSpPr/>
            <p:nvPr/>
          </p:nvSpPr>
          <p:spPr>
            <a:xfrm>
              <a:off x="6370560" y="44416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50</a:t>
              </a:r>
              <a:endParaRPr b="0" lang="en-US" sz="1200" spc="-1" strike="noStrike">
                <a:solidFill>
                  <a:srgbClr val="000000"/>
                </a:solidFill>
                <a:latin typeface="Times New Roman"/>
              </a:endParaRPr>
            </a:p>
          </p:txBody>
        </p:sp>
        <p:sp>
          <p:nvSpPr>
            <p:cNvPr id="2597" name="Rectangle 313"/>
            <p:cNvSpPr/>
            <p:nvPr/>
          </p:nvSpPr>
          <p:spPr>
            <a:xfrm>
              <a:off x="1731960" y="259848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150</a:t>
              </a:r>
              <a:endParaRPr b="0" lang="en-US" sz="1200" spc="-1" strike="noStrike">
                <a:solidFill>
                  <a:srgbClr val="000000"/>
                </a:solidFill>
                <a:latin typeface="Times New Roman"/>
              </a:endParaRPr>
            </a:p>
          </p:txBody>
        </p:sp>
        <p:sp>
          <p:nvSpPr>
            <p:cNvPr id="2598" name="Rectangle 314"/>
            <p:cNvSpPr/>
            <p:nvPr/>
          </p:nvSpPr>
          <p:spPr>
            <a:xfrm>
              <a:off x="1725840" y="349632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00</a:t>
              </a:r>
              <a:endParaRPr b="0" lang="en-US" sz="1200" spc="-1" strike="noStrike">
                <a:solidFill>
                  <a:srgbClr val="000000"/>
                </a:solidFill>
                <a:latin typeface="Times New Roman"/>
              </a:endParaRPr>
            </a:p>
          </p:txBody>
        </p:sp>
        <p:sp>
          <p:nvSpPr>
            <p:cNvPr id="2599" name="Rectangle 315"/>
            <p:cNvSpPr/>
            <p:nvPr/>
          </p:nvSpPr>
          <p:spPr>
            <a:xfrm>
              <a:off x="4503960" y="264312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100</a:t>
              </a:r>
              <a:endParaRPr b="0" lang="en-US" sz="1200" spc="-1" strike="noStrike">
                <a:solidFill>
                  <a:srgbClr val="000000"/>
                </a:solidFill>
                <a:latin typeface="Times New Roman"/>
              </a:endParaRPr>
            </a:p>
          </p:txBody>
        </p:sp>
        <p:sp>
          <p:nvSpPr>
            <p:cNvPr id="2600" name="Rectangle 316"/>
            <p:cNvSpPr/>
            <p:nvPr/>
          </p:nvSpPr>
          <p:spPr>
            <a:xfrm>
              <a:off x="4508640" y="351180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150</a:t>
              </a:r>
              <a:endParaRPr b="0" lang="en-US" sz="1200" spc="-1" strike="noStrike">
                <a:solidFill>
                  <a:srgbClr val="000000"/>
                </a:solidFill>
                <a:latin typeface="Times New Roman"/>
              </a:endParaRPr>
            </a:p>
          </p:txBody>
        </p:sp>
        <p:sp>
          <p:nvSpPr>
            <p:cNvPr id="2601" name="Rectangle 317"/>
            <p:cNvSpPr/>
            <p:nvPr/>
          </p:nvSpPr>
          <p:spPr>
            <a:xfrm>
              <a:off x="4516920" y="438984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00</a:t>
              </a:r>
              <a:endParaRPr b="0" lang="en-US" sz="1200" spc="-1" strike="noStrike">
                <a:solidFill>
                  <a:srgbClr val="000000"/>
                </a:solidFill>
                <a:latin typeface="Times New Roman"/>
              </a:endParaRPr>
            </a:p>
          </p:txBody>
        </p:sp>
        <p:sp>
          <p:nvSpPr>
            <p:cNvPr id="2602" name="Rectangle 318"/>
            <p:cNvSpPr/>
            <p:nvPr/>
          </p:nvSpPr>
          <p:spPr>
            <a:xfrm>
              <a:off x="4508640" y="523548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50</a:t>
              </a:r>
              <a:endParaRPr b="0" lang="en-US" sz="1200" spc="-1" strike="noStrike">
                <a:solidFill>
                  <a:srgbClr val="000000"/>
                </a:solidFill>
                <a:latin typeface="Times New Roman"/>
              </a:endParaRPr>
            </a:p>
          </p:txBody>
        </p:sp>
        <p:sp>
          <p:nvSpPr>
            <p:cNvPr id="2603" name="Rectangle 319"/>
            <p:cNvSpPr/>
            <p:nvPr/>
          </p:nvSpPr>
          <p:spPr>
            <a:xfrm>
              <a:off x="8152920" y="317160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00</a:t>
              </a:r>
              <a:endParaRPr b="0" lang="en-US" sz="1200" spc="-1" strike="noStrike">
                <a:solidFill>
                  <a:srgbClr val="000000"/>
                </a:solidFill>
                <a:latin typeface="Times New Roman"/>
              </a:endParaRPr>
            </a:p>
          </p:txBody>
        </p:sp>
        <p:sp>
          <p:nvSpPr>
            <p:cNvPr id="2604" name="Rectangle 320"/>
            <p:cNvSpPr/>
            <p:nvPr/>
          </p:nvSpPr>
          <p:spPr>
            <a:xfrm>
              <a:off x="8111520" y="405936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50</a:t>
              </a:r>
              <a:endParaRPr b="0" lang="en-US" sz="1200" spc="-1" strike="noStrike">
                <a:solidFill>
                  <a:srgbClr val="000000"/>
                </a:solidFill>
                <a:latin typeface="Times New Roman"/>
              </a:endParaRPr>
            </a:p>
          </p:txBody>
        </p:sp>
        <p:sp>
          <p:nvSpPr>
            <p:cNvPr id="2605" name="Rectangle 321"/>
            <p:cNvSpPr/>
            <p:nvPr/>
          </p:nvSpPr>
          <p:spPr>
            <a:xfrm>
              <a:off x="1731960" y="431316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50</a:t>
              </a:r>
              <a:endParaRPr b="0" lang="en-US" sz="1200" spc="-1" strike="noStrike">
                <a:solidFill>
                  <a:srgbClr val="000000"/>
                </a:solidFill>
                <a:latin typeface="Times New Roman"/>
              </a:endParaRPr>
            </a:p>
          </p:txBody>
        </p:sp>
        <p:sp>
          <p:nvSpPr>
            <p:cNvPr id="2606" name="Rectangle 322"/>
            <p:cNvSpPr/>
            <p:nvPr/>
          </p:nvSpPr>
          <p:spPr>
            <a:xfrm>
              <a:off x="1725840" y="612900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350</a:t>
              </a:r>
              <a:endParaRPr b="0" lang="en-US" sz="1200" spc="-1" strike="noStrike">
                <a:solidFill>
                  <a:srgbClr val="000000"/>
                </a:solidFill>
                <a:latin typeface="Times New Roman"/>
              </a:endParaRPr>
            </a:p>
          </p:txBody>
        </p:sp>
        <p:sp>
          <p:nvSpPr>
            <p:cNvPr id="2607" name="Rectangle 323"/>
            <p:cNvSpPr/>
            <p:nvPr/>
          </p:nvSpPr>
          <p:spPr>
            <a:xfrm>
              <a:off x="1731960" y="518364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300</a:t>
              </a:r>
              <a:endParaRPr b="0" lang="en-US" sz="1200" spc="-1" strike="noStrike">
                <a:solidFill>
                  <a:srgbClr val="000000"/>
                </a:solidFill>
                <a:latin typeface="Times New Roman"/>
              </a:endParaRPr>
            </a:p>
          </p:txBody>
        </p:sp>
        <p:sp>
          <p:nvSpPr>
            <p:cNvPr id="2608" name="Rectangle 324"/>
            <p:cNvSpPr/>
            <p:nvPr/>
          </p:nvSpPr>
          <p:spPr>
            <a:xfrm>
              <a:off x="7224120" y="276984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150</a:t>
              </a:r>
              <a:endParaRPr b="0" lang="en-US" sz="1200" spc="-1" strike="noStrike">
                <a:solidFill>
                  <a:srgbClr val="000000"/>
                </a:solidFill>
                <a:latin typeface="Times New Roman"/>
              </a:endParaRPr>
            </a:p>
          </p:txBody>
        </p:sp>
        <p:sp>
          <p:nvSpPr>
            <p:cNvPr id="2609" name="Rectangle 325"/>
            <p:cNvSpPr/>
            <p:nvPr/>
          </p:nvSpPr>
          <p:spPr>
            <a:xfrm>
              <a:off x="7230240" y="362304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00</a:t>
              </a:r>
              <a:endParaRPr b="0" lang="en-US" sz="1200" spc="-1" strike="noStrike">
                <a:solidFill>
                  <a:srgbClr val="000000"/>
                </a:solidFill>
                <a:latin typeface="Times New Roman"/>
              </a:endParaRPr>
            </a:p>
          </p:txBody>
        </p:sp>
        <p:sp>
          <p:nvSpPr>
            <p:cNvPr id="2610" name="Rectangle 326"/>
            <p:cNvSpPr/>
            <p:nvPr/>
          </p:nvSpPr>
          <p:spPr>
            <a:xfrm>
              <a:off x="7236720" y="450540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50</a:t>
              </a:r>
              <a:endParaRPr b="0" lang="en-US" sz="1200" spc="-1" strike="noStrike">
                <a:solidFill>
                  <a:srgbClr val="000000"/>
                </a:solidFill>
                <a:latin typeface="Times New Roman"/>
              </a:endParaRPr>
            </a:p>
          </p:txBody>
        </p:sp>
        <p:sp>
          <p:nvSpPr>
            <p:cNvPr id="2611" name="Rectangle 327"/>
            <p:cNvSpPr/>
            <p:nvPr/>
          </p:nvSpPr>
          <p:spPr>
            <a:xfrm>
              <a:off x="7230240" y="537372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300</a:t>
              </a:r>
              <a:endParaRPr b="0" lang="en-US" sz="1200" spc="-1" strike="noStrike">
                <a:solidFill>
                  <a:srgbClr val="000000"/>
                </a:solidFill>
                <a:latin typeface="Times New Roman"/>
              </a:endParaRPr>
            </a:p>
          </p:txBody>
        </p:sp>
        <p:sp>
          <p:nvSpPr>
            <p:cNvPr id="2612" name="Rectangle 328"/>
            <p:cNvSpPr/>
            <p:nvPr/>
          </p:nvSpPr>
          <p:spPr>
            <a:xfrm>
              <a:off x="5378400" y="297720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100</a:t>
              </a:r>
              <a:endParaRPr b="0" lang="en-US" sz="1200" spc="-1" strike="noStrike">
                <a:solidFill>
                  <a:srgbClr val="000000"/>
                </a:solidFill>
                <a:latin typeface="Times New Roman"/>
              </a:endParaRPr>
            </a:p>
          </p:txBody>
        </p:sp>
        <p:sp>
          <p:nvSpPr>
            <p:cNvPr id="2613" name="Rectangle 329"/>
            <p:cNvSpPr/>
            <p:nvPr/>
          </p:nvSpPr>
          <p:spPr>
            <a:xfrm>
              <a:off x="5362560" y="485460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00</a:t>
              </a:r>
              <a:endParaRPr b="0" lang="en-US" sz="1200" spc="-1" strike="noStrike">
                <a:solidFill>
                  <a:srgbClr val="000000"/>
                </a:solidFill>
                <a:latin typeface="Times New Roman"/>
              </a:endParaRPr>
            </a:p>
          </p:txBody>
        </p:sp>
        <p:sp>
          <p:nvSpPr>
            <p:cNvPr id="2614" name="Rectangle 330"/>
            <p:cNvSpPr/>
            <p:nvPr/>
          </p:nvSpPr>
          <p:spPr>
            <a:xfrm>
              <a:off x="5381280" y="569484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50</a:t>
              </a:r>
              <a:endParaRPr b="0" lang="en-US" sz="1200" spc="-1" strike="noStrike">
                <a:solidFill>
                  <a:srgbClr val="000000"/>
                </a:solidFill>
                <a:latin typeface="Times New Roman"/>
              </a:endParaRPr>
            </a:p>
          </p:txBody>
        </p:sp>
        <p:sp>
          <p:nvSpPr>
            <p:cNvPr id="2615" name="Rectangle 331"/>
            <p:cNvSpPr/>
            <p:nvPr/>
          </p:nvSpPr>
          <p:spPr>
            <a:xfrm>
              <a:off x="2673000" y="525276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300</a:t>
              </a:r>
              <a:endParaRPr b="0" lang="en-US" sz="1200" spc="-1" strike="noStrike">
                <a:solidFill>
                  <a:srgbClr val="000000"/>
                </a:solidFill>
                <a:latin typeface="Times New Roman"/>
              </a:endParaRPr>
            </a:p>
          </p:txBody>
        </p:sp>
        <p:sp>
          <p:nvSpPr>
            <p:cNvPr id="2616" name="Rectangle 332"/>
            <p:cNvSpPr/>
            <p:nvPr/>
          </p:nvSpPr>
          <p:spPr>
            <a:xfrm>
              <a:off x="2673000" y="612900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350</a:t>
              </a:r>
              <a:endParaRPr b="0" lang="en-US" sz="1200" spc="-1" strike="noStrike">
                <a:solidFill>
                  <a:srgbClr val="000000"/>
                </a:solidFill>
                <a:latin typeface="Times New Roman"/>
              </a:endParaRPr>
            </a:p>
          </p:txBody>
        </p:sp>
        <p:sp>
          <p:nvSpPr>
            <p:cNvPr id="2617" name="Rectangle 333"/>
            <p:cNvSpPr/>
            <p:nvPr/>
          </p:nvSpPr>
          <p:spPr>
            <a:xfrm>
              <a:off x="2648520" y="264312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150</a:t>
              </a:r>
              <a:endParaRPr b="0" lang="en-US" sz="1200" spc="-1" strike="noStrike">
                <a:solidFill>
                  <a:srgbClr val="000000"/>
                </a:solidFill>
                <a:latin typeface="Times New Roman"/>
              </a:endParaRPr>
            </a:p>
          </p:txBody>
        </p:sp>
        <p:sp>
          <p:nvSpPr>
            <p:cNvPr id="2618" name="Rectangle 334"/>
            <p:cNvSpPr/>
            <p:nvPr/>
          </p:nvSpPr>
          <p:spPr>
            <a:xfrm>
              <a:off x="2648520" y="349812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00</a:t>
              </a:r>
              <a:endParaRPr b="0" lang="en-US" sz="1200" spc="-1" strike="noStrike">
                <a:solidFill>
                  <a:srgbClr val="000000"/>
                </a:solidFill>
                <a:latin typeface="Times New Roman"/>
              </a:endParaRPr>
            </a:p>
          </p:txBody>
        </p:sp>
        <p:sp>
          <p:nvSpPr>
            <p:cNvPr id="2619" name="Rectangle 335"/>
            <p:cNvSpPr/>
            <p:nvPr/>
          </p:nvSpPr>
          <p:spPr>
            <a:xfrm>
              <a:off x="2732400" y="43668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3250</a:t>
              </a:r>
              <a:endParaRPr b="0" lang="en-US" sz="1200" spc="-1" strike="noStrike">
                <a:solidFill>
                  <a:srgbClr val="000000"/>
                </a:solidFill>
                <a:latin typeface="Times New Roman"/>
              </a:endParaRPr>
            </a:p>
          </p:txBody>
        </p:sp>
      </p:grpSp>
      <p:sp>
        <p:nvSpPr>
          <p:cNvPr id="2620" name="Text Box 336"/>
          <p:cNvSpPr/>
          <p:nvPr/>
        </p:nvSpPr>
        <p:spPr>
          <a:xfrm>
            <a:off x="1685160" y="1251720"/>
            <a:ext cx="1093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w unit</a:t>
            </a:r>
            <a:endParaRPr b="0" lang="en-US" sz="1800" spc="-1" strike="noStrike">
              <a:solidFill>
                <a:srgbClr val="000000"/>
              </a:solidFill>
              <a:latin typeface="Times New Roman"/>
            </a:endParaRPr>
          </a:p>
        </p:txBody>
      </p:sp>
      <p:sp>
        <p:nvSpPr>
          <p:cNvPr id="2621" name="Line 337"/>
          <p:cNvSpPr/>
          <p:nvPr/>
        </p:nvSpPr>
        <p:spPr>
          <a:xfrm>
            <a:off x="2244600" y="1527120"/>
            <a:ext cx="247680" cy="2400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2" name="Line 338"/>
          <p:cNvSpPr/>
          <p:nvPr/>
        </p:nvSpPr>
        <p:spPr>
          <a:xfrm>
            <a:off x="1434960" y="1709640"/>
            <a:ext cx="874800" cy="23083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3" name="Text Box 339"/>
          <p:cNvSpPr/>
          <p:nvPr/>
        </p:nvSpPr>
        <p:spPr>
          <a:xfrm>
            <a:off x="6710760" y="6521400"/>
            <a:ext cx="217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om Bastian and othe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304560"/>
            <a:ext cx="7315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POROSITY LOG TYPES</a:t>
            </a:r>
            <a:endParaRPr b="0" lang="en-US" sz="4400" spc="-1" strike="noStrike">
              <a:solidFill>
                <a:srgbClr val="000000"/>
              </a:solidFill>
              <a:latin typeface="Times New Roman"/>
            </a:endParaRPr>
          </a:p>
        </p:txBody>
      </p:sp>
      <p:sp>
        <p:nvSpPr>
          <p:cNvPr id="181" name="PlaceHolder 2"/>
          <p:cNvSpPr>
            <a:spLocks noGrp="1"/>
          </p:cNvSpPr>
          <p:nvPr>
            <p:ph/>
          </p:nvPr>
        </p:nvSpPr>
        <p:spPr>
          <a:xfrm>
            <a:off x="1294920" y="1599840"/>
            <a:ext cx="6172200" cy="2971800"/>
          </a:xfrm>
          <a:prstGeom prst="rect">
            <a:avLst/>
          </a:prstGeom>
          <a:noFill/>
          <a:ln w="0">
            <a:noFill/>
          </a:ln>
        </p:spPr>
        <p:txBody>
          <a:bodyPr anchor="t">
            <a:normAutofit/>
          </a:bodyPr>
          <a:p>
            <a:pPr marL="343080" indent="0">
              <a:lnSpc>
                <a:spcPct val="10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3 Main Log Types</a:t>
            </a:r>
            <a:endParaRPr b="0" lang="en-US" sz="2400" spc="-1" strike="noStrike">
              <a:solidFill>
                <a:srgbClr val="000000"/>
              </a:solidFill>
              <a:latin typeface="Times New Roman"/>
            </a:endParaRPr>
          </a:p>
          <a:p>
            <a:pPr marL="343080" indent="-343080">
              <a:lnSpc>
                <a:spcPct val="10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k density</a:t>
            </a:r>
            <a:endParaRPr b="0" lang="en-US" sz="2400" spc="-1" strike="noStrike">
              <a:solidFill>
                <a:srgbClr val="000000"/>
              </a:solidFill>
              <a:latin typeface="Times New Roman"/>
            </a:endParaRPr>
          </a:p>
          <a:p>
            <a:pPr marL="343080" indent="-343080">
              <a:lnSpc>
                <a:spcPct val="10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ic (acoustic)</a:t>
            </a:r>
            <a:endParaRPr b="0" lang="en-US" sz="2400" spc="-1" strike="noStrike">
              <a:solidFill>
                <a:srgbClr val="000000"/>
              </a:solidFill>
              <a:latin typeface="Times New Roman"/>
            </a:endParaRPr>
          </a:p>
          <a:p>
            <a:pPr marL="343080" indent="-343080">
              <a:lnSpc>
                <a:spcPct val="10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nsated neutron</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Text Box 4"/>
          <p:cNvSpPr/>
          <p:nvPr/>
        </p:nvSpPr>
        <p:spPr>
          <a:xfrm>
            <a:off x="1371600" y="4191120"/>
            <a:ext cx="6781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These logs do not measures porosity directly. To accurately calculate porosity, the analyst must know:</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ion lithology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luid in pores of sampled reservoir volu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5" presetSubtype="10">
                                  <p:stCondLst>
                                    <p:cond delay="0"/>
                                  </p:stCondLst>
                                  <p:childTnLst>
                                    <p:set>
                                      <p:cBhvr>
                                        <p:cTn id="23" dur="1" fill="hold">
                                          <p:stCondLst>
                                            <p:cond delay="0"/>
                                          </p:stCondLst>
                                        </p:cTn>
                                        <p:tgtEl>
                                          <p:spTgt spid="180"/>
                                        </p:tgtEl>
                                        <p:attrNameLst>
                                          <p:attrName>style.visibility</p:attrName>
                                        </p:attrNameLst>
                                      </p:cBhvr>
                                      <p:to>
                                        <p:strVal val="visible"/>
                                      </p:to>
                                    </p:set>
                                    <p:animEffect filter="checkerboard(across)" transition="in">
                                      <p:cBhvr additive="repl">
                                        <p:cTn id="24" dur="500"/>
                                        <p:tgtEl>
                                          <p:spTgt spid="180"/>
                                        </p:tgtEl>
                                      </p:cBhvr>
                                    </p:animEffect>
                                  </p:childTnLst>
                                </p:cTn>
                              </p:par>
                            </p:childTnLst>
                          </p:cTn>
                        </p:par>
                        <p:par>
                          <p:cTn id="25" fill="hold">
                            <p:stCondLst>
                              <p:cond delay="500"/>
                            </p:stCondLst>
                            <p:childTnLst>
                              <p:par>
                                <p:cTn id="26" nodeType="afterEffect" fill="hold" presetClass="entr" presetID="15">
                                  <p:stCondLst>
                                    <p:cond delay="0"/>
                                  </p:stCondLst>
                                  <p:childTnLst>
                                    <p:set>
                                      <p:cBhvr>
                                        <p:cTn id="27" dur="1" fill="hold">
                                          <p:stCondLst>
                                            <p:cond delay="0"/>
                                          </p:stCondLst>
                                        </p:cTn>
                                        <p:tgtEl>
                                          <p:spTgt spid="181">
                                            <p:txEl>
                                              <p:pRg st="0" end="0"/>
                                            </p:txEl>
                                          </p:spTgt>
                                        </p:tgtEl>
                                        <p:attrNameLst>
                                          <p:attrName>style.visibility</p:attrName>
                                        </p:attrNameLst>
                                      </p:cBhvr>
                                      <p:to>
                                        <p:strVal val="visible"/>
                                      </p:to>
                                    </p:set>
                                    <p:anim calcmode="lin" valueType="num">
                                      <p:cBhvr additive="repl">
                                        <p:cTn id="28" dur="10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29" dur="1000" fill="hold"/>
                                        <p:tgtEl>
                                          <p:spTgt spid="181">
                                            <p:txEl>
                                              <p:pRg st="0" end="0"/>
                                            </p:txEl>
                                          </p:spTgt>
                                        </p:tgtEl>
                                        <p:attrNameLst>
                                          <p:attrName>ppt_h</p:attrName>
                                        </p:attrNameLst>
                                      </p:cBhvr>
                                      <p:tavLst>
                                        <p:tav tm="0">
                                          <p:val>
                                            <p:fltVal val="0"/>
                                          </p:val>
                                        </p:tav>
                                        <p:tav tm="100000">
                                          <p:val>
                                            <p:strVal val="#ppt_h"/>
                                          </p:val>
                                        </p:tav>
                                      </p:tavLst>
                                    </p:anim>
                                    <p:anim calcmode="lin" valueType="num">
                                      <p:cBhvr additive="repl">
                                        <p:cTn id="30" dur="1000" fill="hold"/>
                                        <p:tgtEl>
                                          <p:spTgt spid="18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 dur="1000" fill="hold"/>
                                        <p:tgtEl>
                                          <p:spTgt spid="18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2" fill="hold">
                            <p:stCondLst>
                              <p:cond delay="1500"/>
                            </p:stCondLst>
                            <p:childTnLst>
                              <p:par>
                                <p:cTn id="33" nodeType="afterEffect" fill="hold" presetClass="entr" presetID="15">
                                  <p:stCondLst>
                                    <p:cond delay="0"/>
                                  </p:stCondLst>
                                  <p:childTnLst>
                                    <p:set>
                                      <p:cBhvr>
                                        <p:cTn id="34" dur="1" fill="hold">
                                          <p:stCondLst>
                                            <p:cond delay="0"/>
                                          </p:stCondLst>
                                        </p:cTn>
                                        <p:tgtEl>
                                          <p:spTgt spid="181">
                                            <p:txEl>
                                              <p:pRg st="1" end="1"/>
                                            </p:txEl>
                                          </p:spTgt>
                                        </p:tgtEl>
                                        <p:attrNameLst>
                                          <p:attrName>style.visibility</p:attrName>
                                        </p:attrNameLst>
                                      </p:cBhvr>
                                      <p:to>
                                        <p:strVal val="visible"/>
                                      </p:to>
                                    </p:set>
                                    <p:anim calcmode="lin" valueType="num">
                                      <p:cBhvr additive="repl">
                                        <p:cTn id="35" dur="1000" fill="hold"/>
                                        <p:tgtEl>
                                          <p:spTgt spid="181">
                                            <p:txEl>
                                              <p:pRg st="1" end="1"/>
                                            </p:txEl>
                                          </p:spTgt>
                                        </p:tgtEl>
                                        <p:attrNameLst>
                                          <p:attrName>ppt_w</p:attrName>
                                        </p:attrNameLst>
                                      </p:cBhvr>
                                      <p:tavLst>
                                        <p:tav tm="0">
                                          <p:val>
                                            <p:fltVal val="0"/>
                                          </p:val>
                                        </p:tav>
                                        <p:tav tm="100000">
                                          <p:val>
                                            <p:strVal val="#ppt_w"/>
                                          </p:val>
                                        </p:tav>
                                      </p:tavLst>
                                    </p:anim>
                                    <p:anim calcmode="lin" valueType="num">
                                      <p:cBhvr additive="repl">
                                        <p:cTn id="36" dur="1000" fill="hold"/>
                                        <p:tgtEl>
                                          <p:spTgt spid="181">
                                            <p:txEl>
                                              <p:pRg st="1" end="1"/>
                                            </p:txEl>
                                          </p:spTgt>
                                        </p:tgtEl>
                                        <p:attrNameLst>
                                          <p:attrName>ppt_h</p:attrName>
                                        </p:attrNameLst>
                                      </p:cBhvr>
                                      <p:tavLst>
                                        <p:tav tm="0">
                                          <p:val>
                                            <p:fltVal val="0"/>
                                          </p:val>
                                        </p:tav>
                                        <p:tav tm="100000">
                                          <p:val>
                                            <p:strVal val="#ppt_h"/>
                                          </p:val>
                                        </p:tav>
                                      </p:tavLst>
                                    </p:anim>
                                    <p:anim calcmode="lin" valueType="num">
                                      <p:cBhvr additive="repl">
                                        <p:cTn id="37" dur="1000" fill="hold"/>
                                        <p:tgtEl>
                                          <p:spTgt spid="18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 dur="1000" fill="hold"/>
                                        <p:tgtEl>
                                          <p:spTgt spid="18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9" fill="hold">
                            <p:stCondLst>
                              <p:cond delay="2500"/>
                            </p:stCondLst>
                            <p:childTnLst>
                              <p:par>
                                <p:cTn id="40" nodeType="afterEffect" fill="hold" presetClass="entr" presetID="15">
                                  <p:stCondLst>
                                    <p:cond delay="0"/>
                                  </p:stCondLst>
                                  <p:childTnLst>
                                    <p:set>
                                      <p:cBhvr>
                                        <p:cTn id="41" dur="1" fill="hold">
                                          <p:stCondLst>
                                            <p:cond delay="0"/>
                                          </p:stCondLst>
                                        </p:cTn>
                                        <p:tgtEl>
                                          <p:spTgt spid="181">
                                            <p:txEl>
                                              <p:pRg st="2" end="2"/>
                                            </p:txEl>
                                          </p:spTgt>
                                        </p:tgtEl>
                                        <p:attrNameLst>
                                          <p:attrName>style.visibility</p:attrName>
                                        </p:attrNameLst>
                                      </p:cBhvr>
                                      <p:to>
                                        <p:strVal val="visible"/>
                                      </p:to>
                                    </p:set>
                                    <p:anim calcmode="lin" valueType="num">
                                      <p:cBhvr additive="repl">
                                        <p:cTn id="42" dur="1000" fill="hold"/>
                                        <p:tgtEl>
                                          <p:spTgt spid="181">
                                            <p:txEl>
                                              <p:pRg st="2" end="2"/>
                                            </p:txEl>
                                          </p:spTgt>
                                        </p:tgtEl>
                                        <p:attrNameLst>
                                          <p:attrName>ppt_w</p:attrName>
                                        </p:attrNameLst>
                                      </p:cBhvr>
                                      <p:tavLst>
                                        <p:tav tm="0">
                                          <p:val>
                                            <p:fltVal val="0"/>
                                          </p:val>
                                        </p:tav>
                                        <p:tav tm="100000">
                                          <p:val>
                                            <p:strVal val="#ppt_w"/>
                                          </p:val>
                                        </p:tav>
                                      </p:tavLst>
                                    </p:anim>
                                    <p:anim calcmode="lin" valueType="num">
                                      <p:cBhvr additive="repl">
                                        <p:cTn id="43" dur="1000" fill="hold"/>
                                        <p:tgtEl>
                                          <p:spTgt spid="181">
                                            <p:txEl>
                                              <p:pRg st="2" end="2"/>
                                            </p:txEl>
                                          </p:spTgt>
                                        </p:tgtEl>
                                        <p:attrNameLst>
                                          <p:attrName>ppt_h</p:attrName>
                                        </p:attrNameLst>
                                      </p:cBhvr>
                                      <p:tavLst>
                                        <p:tav tm="0">
                                          <p:val>
                                            <p:fltVal val="0"/>
                                          </p:val>
                                        </p:tav>
                                        <p:tav tm="100000">
                                          <p:val>
                                            <p:strVal val="#ppt_h"/>
                                          </p:val>
                                        </p:tav>
                                      </p:tavLst>
                                    </p:anim>
                                    <p:anim calcmode="lin" valueType="num">
                                      <p:cBhvr additive="repl">
                                        <p:cTn id="44" dur="1000" fill="hold"/>
                                        <p:tgtEl>
                                          <p:spTgt spid="18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5" dur="1000" fill="hold"/>
                                        <p:tgtEl>
                                          <p:spTgt spid="18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46" fill="hold">
                            <p:stCondLst>
                              <p:cond delay="3500"/>
                            </p:stCondLst>
                            <p:childTnLst>
                              <p:par>
                                <p:cTn id="47" nodeType="afterEffect" fill="hold" presetClass="entr" presetID="15">
                                  <p:stCondLst>
                                    <p:cond delay="0"/>
                                  </p:stCondLst>
                                  <p:childTnLst>
                                    <p:set>
                                      <p:cBhvr>
                                        <p:cTn id="48" dur="1" fill="hold">
                                          <p:stCondLst>
                                            <p:cond delay="0"/>
                                          </p:stCondLst>
                                        </p:cTn>
                                        <p:tgtEl>
                                          <p:spTgt spid="181">
                                            <p:txEl>
                                              <p:pRg st="3" end="3"/>
                                            </p:txEl>
                                          </p:spTgt>
                                        </p:tgtEl>
                                        <p:attrNameLst>
                                          <p:attrName>style.visibility</p:attrName>
                                        </p:attrNameLst>
                                      </p:cBhvr>
                                      <p:to>
                                        <p:strVal val="visible"/>
                                      </p:to>
                                    </p:set>
                                    <p:anim calcmode="lin" valueType="num">
                                      <p:cBhvr additive="repl">
                                        <p:cTn id="49" dur="1000" fill="hold"/>
                                        <p:tgtEl>
                                          <p:spTgt spid="181">
                                            <p:txEl>
                                              <p:pRg st="3" end="3"/>
                                            </p:txEl>
                                          </p:spTgt>
                                        </p:tgtEl>
                                        <p:attrNameLst>
                                          <p:attrName>ppt_w</p:attrName>
                                        </p:attrNameLst>
                                      </p:cBhvr>
                                      <p:tavLst>
                                        <p:tav tm="0">
                                          <p:val>
                                            <p:fltVal val="0"/>
                                          </p:val>
                                        </p:tav>
                                        <p:tav tm="100000">
                                          <p:val>
                                            <p:strVal val="#ppt_w"/>
                                          </p:val>
                                        </p:tav>
                                      </p:tavLst>
                                    </p:anim>
                                    <p:anim calcmode="lin" valueType="num">
                                      <p:cBhvr additive="repl">
                                        <p:cTn id="50" dur="1000" fill="hold"/>
                                        <p:tgtEl>
                                          <p:spTgt spid="181">
                                            <p:txEl>
                                              <p:pRg st="3" end="3"/>
                                            </p:txEl>
                                          </p:spTgt>
                                        </p:tgtEl>
                                        <p:attrNameLst>
                                          <p:attrName>ppt_h</p:attrName>
                                        </p:attrNameLst>
                                      </p:cBhvr>
                                      <p:tavLst>
                                        <p:tav tm="0">
                                          <p:val>
                                            <p:fltVal val="0"/>
                                          </p:val>
                                        </p:tav>
                                        <p:tav tm="100000">
                                          <p:val>
                                            <p:strVal val="#ppt_h"/>
                                          </p:val>
                                        </p:tav>
                                      </p:tavLst>
                                    </p:anim>
                                    <p:anim calcmode="lin" valueType="num">
                                      <p:cBhvr additive="repl">
                                        <p:cTn id="51" dur="1000" fill="hold"/>
                                        <p:tgtEl>
                                          <p:spTgt spid="18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 dur="1000" fill="hold"/>
                                        <p:tgtEl>
                                          <p:spTgt spid="181">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DENSITY LOGS</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676520"/>
            <a:ext cx="7772400" cy="4114800"/>
          </a:xfrm>
          <a:prstGeom prst="rect">
            <a:avLst/>
          </a:prstGeom>
          <a:noFill/>
          <a:ln w="0">
            <a:noFill/>
          </a:ln>
        </p:spPr>
        <p:txBody>
          <a:bodyPr anchor="t">
            <a:normAutofit fontScale="88000"/>
          </a:bodyPr>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radioactive source to generate gamma rays</a:t>
            </a:r>
            <a:endParaRPr b="0" lang="en-US" sz="3200" spc="-1" strike="noStrike">
              <a:solidFill>
                <a:srgbClr val="000000"/>
              </a:solidFill>
              <a:latin typeface="Times New Roman"/>
            </a:endParaRPr>
          </a:p>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mma ray collides with electrons in formation, losing energy</a:t>
            </a:r>
            <a:endParaRPr b="0" lang="en-US" sz="3200" spc="-1" strike="noStrike">
              <a:solidFill>
                <a:srgbClr val="000000"/>
              </a:solidFill>
              <a:latin typeface="Times New Roman"/>
            </a:endParaRPr>
          </a:p>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ctor measures intensity of back-scattered gamma rays, which is related to electron density of the formation</a:t>
            </a:r>
            <a:endParaRPr b="0" lang="en-US" sz="3200" spc="-1" strike="noStrike">
              <a:solidFill>
                <a:srgbClr val="000000"/>
              </a:solidFill>
              <a:latin typeface="Times New Roman"/>
            </a:endParaRPr>
          </a:p>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 density is a measure of bulk dens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9">
                                  <p:stCondLst>
                                    <p:cond delay="0"/>
                                  </p:stCondLst>
                                  <p:childTnLst>
                                    <p:set>
                                      <p:cBhvr>
                                        <p:cTn id="58" dur="1" fill="hold">
                                          <p:stCondLst>
                                            <p:cond delay="0"/>
                                          </p:stCondLst>
                                        </p:cTn>
                                        <p:tgtEl>
                                          <p:spTgt spid="183"/>
                                        </p:tgtEl>
                                        <p:attrNameLst>
                                          <p:attrName>style.visibility</p:attrName>
                                        </p:attrNameLst>
                                      </p:cBhvr>
                                      <p:to>
                                        <p:strVal val="visible"/>
                                      </p:to>
                                    </p:set>
                                    <p:animEffect filter="dissolve" transition="in">
                                      <p:cBhvr additive="repl">
                                        <p:cTn id="59" dur="500"/>
                                        <p:tgtEl>
                                          <p:spTgt spid="183"/>
                                        </p:tgtEl>
                                      </p:cBhvr>
                                    </p:animEffect>
                                  </p:childTnLst>
                                </p:cTn>
                              </p:par>
                            </p:childTnLst>
                          </p:cTn>
                        </p:par>
                        <p:par>
                          <p:cTn id="60" fill="hold">
                            <p:stCondLst>
                              <p:cond delay="500"/>
                            </p:stCondLst>
                            <p:childTnLst>
                              <p:par>
                                <p:cTn id="61" nodeType="afterEffect" fill="hold" presetClass="entr" presetID="2" presetSubtype="4">
                                  <p:stCondLst>
                                    <p:cond delay="0"/>
                                  </p:stCondLst>
                                  <p:childTnLst>
                                    <p:set>
                                      <p:cBhvr>
                                        <p:cTn id="62" dur="1" fill="hold">
                                          <p:stCondLst>
                                            <p:cond delay="0"/>
                                          </p:stCondLst>
                                        </p:cTn>
                                        <p:tgtEl>
                                          <p:spTgt spid="184">
                                            <p:txEl>
                                              <p:pRg st="0" end="0"/>
                                            </p:txEl>
                                          </p:spTgt>
                                        </p:tgtEl>
                                        <p:attrNameLst>
                                          <p:attrName>style.visibility</p:attrName>
                                        </p:attrNameLst>
                                      </p:cBhvr>
                                      <p:to>
                                        <p:strVal val="visible"/>
                                      </p:to>
                                    </p:set>
                                    <p:anim calcmode="lin" valueType="num">
                                      <p:cBhvr additive="base">
                                        <p:cTn id="63"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84">
                                            <p:txEl>
                                              <p:pRg st="0" end="0"/>
                                            </p:txEl>
                                          </p:spTgt>
                                        </p:tgtEl>
                                        <p:attrNameLst>
                                          <p:attrName>ppt_y</p:attrName>
                                        </p:attrNameLst>
                                      </p:cBhvr>
                                      <p:tavLst>
                                        <p:tav tm="0">
                                          <p:val>
                                            <p:strVal val="1+#ppt_h/2"/>
                                          </p:val>
                                        </p:tav>
                                        <p:tav tm="100000">
                                          <p:val>
                                            <p:strVal val="#ppt_y"/>
                                          </p:val>
                                        </p:tav>
                                      </p:tavLst>
                                    </p:anim>
                                  </p:childTnLst>
                                </p:cTn>
                              </p:par>
                            </p:childTnLst>
                          </p:cTn>
                        </p:par>
                        <p:par>
                          <p:cTn id="65" fill="hold">
                            <p:stCondLst>
                              <p:cond delay="1000"/>
                            </p:stCondLst>
                            <p:childTnLst>
                              <p:par>
                                <p:cTn id="66" nodeType="afterEffect" fill="hold" presetClass="entr" presetID="2" presetSubtype="4">
                                  <p:stCondLst>
                                    <p:cond delay="0"/>
                                  </p:stCondLst>
                                  <p:childTnLst>
                                    <p:set>
                                      <p:cBhvr>
                                        <p:cTn id="67" dur="1" fill="hold">
                                          <p:stCondLst>
                                            <p:cond delay="0"/>
                                          </p:stCondLst>
                                        </p:cTn>
                                        <p:tgtEl>
                                          <p:spTgt spid="184">
                                            <p:txEl>
                                              <p:pRg st="1" end="1"/>
                                            </p:txEl>
                                          </p:spTgt>
                                        </p:tgtEl>
                                        <p:attrNameLst>
                                          <p:attrName>style.visibility</p:attrName>
                                        </p:attrNameLst>
                                      </p:cBhvr>
                                      <p:to>
                                        <p:strVal val="visible"/>
                                      </p:to>
                                    </p:set>
                                    <p:anim calcmode="lin" valueType="num">
                                      <p:cBhvr additive="base">
                                        <p:cTn id="68" dur="500" fill="hold"/>
                                        <p:tgtEl>
                                          <p:spTgt spid="184">
                                            <p:txEl>
                                              <p:pRg st="1" end="1"/>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184">
                                            <p:txEl>
                                              <p:pRg st="1" end="1"/>
                                            </p:txEl>
                                          </p:spTgt>
                                        </p:tgtEl>
                                        <p:attrNameLst>
                                          <p:attrName>ppt_y</p:attrName>
                                        </p:attrNameLst>
                                      </p:cBhvr>
                                      <p:tavLst>
                                        <p:tav tm="0">
                                          <p:val>
                                            <p:strVal val="1+#ppt_h/2"/>
                                          </p:val>
                                        </p:tav>
                                        <p:tav tm="100000">
                                          <p:val>
                                            <p:strVal val="#ppt_y"/>
                                          </p:val>
                                        </p:tav>
                                      </p:tavLst>
                                    </p:anim>
                                  </p:childTnLst>
                                </p:cTn>
                              </p:par>
                            </p:childTnLst>
                          </p:cTn>
                        </p:par>
                        <p:par>
                          <p:cTn id="70" fill="hold">
                            <p:stCondLst>
                              <p:cond delay="1500"/>
                            </p:stCondLst>
                            <p:childTnLst>
                              <p:par>
                                <p:cTn id="71" nodeType="afterEffect" fill="hold" presetClass="entr" presetID="2" presetSubtype="4">
                                  <p:stCondLst>
                                    <p:cond delay="0"/>
                                  </p:stCondLst>
                                  <p:childTnLst>
                                    <p:set>
                                      <p:cBhvr>
                                        <p:cTn id="72" dur="1" fill="hold">
                                          <p:stCondLst>
                                            <p:cond delay="0"/>
                                          </p:stCondLst>
                                        </p:cTn>
                                        <p:tgtEl>
                                          <p:spTgt spid="184">
                                            <p:txEl>
                                              <p:pRg st="2" end="2"/>
                                            </p:txEl>
                                          </p:spTgt>
                                        </p:tgtEl>
                                        <p:attrNameLst>
                                          <p:attrName>style.visibility</p:attrName>
                                        </p:attrNameLst>
                                      </p:cBhvr>
                                      <p:to>
                                        <p:strVal val="visible"/>
                                      </p:to>
                                    </p:set>
                                    <p:anim calcmode="lin" valueType="num">
                                      <p:cBhvr additive="base">
                                        <p:cTn id="73" dur="500" fill="hold"/>
                                        <p:tgtEl>
                                          <p:spTgt spid="184">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84">
                                            <p:txEl>
                                              <p:pRg st="2" end="2"/>
                                            </p:txEl>
                                          </p:spTgt>
                                        </p:tgtEl>
                                        <p:attrNameLst>
                                          <p:attrName>ppt_y</p:attrName>
                                        </p:attrNameLst>
                                      </p:cBhvr>
                                      <p:tavLst>
                                        <p:tav tm="0">
                                          <p:val>
                                            <p:strVal val="1+#ppt_h/2"/>
                                          </p:val>
                                        </p:tav>
                                        <p:tav tm="100000">
                                          <p:val>
                                            <p:strVal val="#ppt_y"/>
                                          </p:val>
                                        </p:tav>
                                      </p:tavLst>
                                    </p:anim>
                                  </p:childTnLst>
                                </p:cTn>
                              </p:par>
                            </p:childTnLst>
                          </p:cTn>
                        </p:par>
                        <p:par>
                          <p:cTn id="75" fill="hold">
                            <p:stCondLst>
                              <p:cond delay="2000"/>
                            </p:stCondLst>
                            <p:childTnLst>
                              <p:par>
                                <p:cTn id="76" nodeType="afterEffect" fill="hold" presetClass="entr" presetID="2" presetSubtype="4">
                                  <p:stCondLst>
                                    <p:cond delay="0"/>
                                  </p:stCondLst>
                                  <p:childTnLst>
                                    <p:set>
                                      <p:cBhvr>
                                        <p:cTn id="77" dur="1" fill="hold">
                                          <p:stCondLst>
                                            <p:cond delay="0"/>
                                          </p:stCondLst>
                                        </p:cTn>
                                        <p:tgtEl>
                                          <p:spTgt spid="184">
                                            <p:txEl>
                                              <p:pRg st="3" end="3"/>
                                            </p:txEl>
                                          </p:spTgt>
                                        </p:tgtEl>
                                        <p:attrNameLst>
                                          <p:attrName>style.visibility</p:attrName>
                                        </p:attrNameLst>
                                      </p:cBhvr>
                                      <p:to>
                                        <p:strVal val="visible"/>
                                      </p:to>
                                    </p:set>
                                    <p:anim calcmode="lin" valueType="num">
                                      <p:cBhvr additive="base">
                                        <p:cTn id="78" dur="500" fill="hold"/>
                                        <p:tgtEl>
                                          <p:spTgt spid="184">
                                            <p:txEl>
                                              <p:pRg st="3" end="3"/>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18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600200" y="609480"/>
            <a:ext cx="54100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DENSITY LOGS</a:t>
            </a:r>
            <a:endParaRPr b="0" lang="en-US" sz="4400" spc="-1" strike="noStrike">
              <a:solidFill>
                <a:srgbClr val="000000"/>
              </a:solidFill>
              <a:latin typeface="Times New Roman"/>
            </a:endParaRPr>
          </a:p>
        </p:txBody>
      </p:sp>
      <p:sp>
        <p:nvSpPr>
          <p:cNvPr id="186" name="PlaceHolder 2"/>
          <p:cNvSpPr>
            <a:spLocks noGrp="1"/>
          </p:cNvSpPr>
          <p:nvPr>
            <p:ph/>
          </p:nvPr>
        </p:nvSpPr>
        <p:spPr>
          <a:xfrm>
            <a:off x="1116000" y="2133720"/>
            <a:ext cx="7315200" cy="3962160"/>
          </a:xfrm>
          <a:prstGeom prst="rect">
            <a:avLst/>
          </a:prstGeom>
          <a:noFill/>
          <a:ln w="0">
            <a:noFill/>
          </a:ln>
        </p:spPr>
        <p:txBody>
          <a:bodyPr anchor="t">
            <a:normAutofit/>
          </a:bodyPr>
          <a:p>
            <a:pPr marL="343080" indent="-343080">
              <a:lnSpc>
                <a:spcPct val="10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lk density, </a:t>
            </a:r>
            <a:r>
              <a:rPr b="0" lang="en-US" sz="3200" spc="-1" strike="noStrike">
                <a:solidFill>
                  <a:srgbClr val="000000"/>
                </a:solidFill>
                <a:latin typeface="Symbol"/>
                <a:ea typeface="Symbol"/>
              </a:rPr>
              <a:t></a:t>
            </a:r>
            <a:r>
              <a:rPr b="0" lang="en-US" sz="3200" spc="-1" strike="noStrike" baseline="-25000">
                <a:solidFill>
                  <a:srgbClr val="000000"/>
                </a:solidFill>
                <a:latin typeface="Arial"/>
              </a:rPr>
              <a:t>b</a:t>
            </a:r>
            <a:r>
              <a:rPr b="0" lang="en-US" sz="3200" spc="-1" strike="noStrike">
                <a:solidFill>
                  <a:srgbClr val="000000"/>
                </a:solidFill>
                <a:latin typeface="Arial"/>
              </a:rPr>
              <a:t>, is dependent upon:</a:t>
            </a:r>
            <a:endParaRPr b="0" lang="en-US" sz="3200" spc="-1" strike="noStrike">
              <a:solidFill>
                <a:srgbClr val="000000"/>
              </a:solidFill>
              <a:latin typeface="Times New Roman"/>
            </a:endParaRPr>
          </a:p>
          <a:p>
            <a:pPr lvl="1" marL="743040" indent="-285840">
              <a:lnSpc>
                <a:spcPct val="10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hology</a:t>
            </a:r>
            <a:endParaRPr b="0" lang="en-US" sz="2800" spc="-1" strike="noStrike">
              <a:solidFill>
                <a:srgbClr val="000000"/>
              </a:solidFill>
              <a:latin typeface="Times New Roman"/>
            </a:endParaRPr>
          </a:p>
          <a:p>
            <a:pPr lvl="1" marL="743040" indent="-285840">
              <a:lnSpc>
                <a:spcPct val="10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osity</a:t>
            </a:r>
            <a:endParaRPr b="0" lang="en-US" sz="2800" spc="-1" strike="noStrike">
              <a:solidFill>
                <a:srgbClr val="000000"/>
              </a:solidFill>
              <a:latin typeface="Times New Roman"/>
            </a:endParaRPr>
          </a:p>
          <a:p>
            <a:pPr lvl="1" marL="743040" indent="-285840">
              <a:lnSpc>
                <a:spcPct val="10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sity and saturation of fluids in pores</a:t>
            </a:r>
            <a:endParaRPr b="0" lang="en-US" sz="2800" spc="-1" strike="noStrike">
              <a:solidFill>
                <a:srgbClr val="000000"/>
              </a:solidFill>
              <a:latin typeface="Times New Roman"/>
            </a:endParaRPr>
          </a:p>
          <a:p>
            <a:pPr lvl="2" marL="1143000" indent="-2286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uration is fraction of pore volume occupied by a particular fluid (intensi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2" presetSubtype="1">
                                  <p:stCondLst>
                                    <p:cond delay="0"/>
                                  </p:stCondLst>
                                  <p:childTnLst>
                                    <p:set>
                                      <p:cBhvr>
                                        <p:cTn id="85" dur="1" fill="hold">
                                          <p:stCondLst>
                                            <p:cond delay="0"/>
                                          </p:stCondLst>
                                        </p:cTn>
                                        <p:tgtEl>
                                          <p:spTgt spid="185"/>
                                        </p:tgtEl>
                                        <p:attrNameLst>
                                          <p:attrName>style.visibility</p:attrName>
                                        </p:attrNameLst>
                                      </p:cBhvr>
                                      <p:to>
                                        <p:strVal val="visible"/>
                                      </p:to>
                                    </p:set>
                                    <p:anim calcmode="lin" valueType="num">
                                      <p:cBhvr additive="base">
                                        <p:cTn id="86" dur="500" fill="hold"/>
                                        <p:tgtEl>
                                          <p:spTgt spid="185"/>
                                        </p:tgtEl>
                                        <p:attrNameLst>
                                          <p:attrName>ppt_x</p:attrName>
                                        </p:attrNameLst>
                                      </p:cBhvr>
                                      <p:tavLst>
                                        <p:tav tm="0">
                                          <p:val>
                                            <p:strVal val="#ppt_x"/>
                                          </p:val>
                                        </p:tav>
                                        <p:tav tm="100000">
                                          <p:val>
                                            <p:strVal val="#ppt_x"/>
                                          </p:val>
                                        </p:tav>
                                      </p:tavLst>
                                    </p:anim>
                                    <p:anim calcmode="lin" valueType="num">
                                      <p:cBhvr additive="base">
                                        <p:cTn id="87" dur="500" fill="hold"/>
                                        <p:tgtEl>
                                          <p:spTgt spid="185"/>
                                        </p:tgtEl>
                                        <p:attrNameLst>
                                          <p:attrName>ppt_y</p:attrName>
                                        </p:attrNameLst>
                                      </p:cBhvr>
                                      <p:tavLst>
                                        <p:tav tm="0">
                                          <p:val>
                                            <p:strVal val="0-#ppt_h/2"/>
                                          </p:val>
                                        </p:tav>
                                        <p:tav tm="100000">
                                          <p:val>
                                            <p:strVal val="#ppt_y"/>
                                          </p:val>
                                        </p:tav>
                                      </p:tavLst>
                                    </p:anim>
                                  </p:childTnLst>
                                </p:cTn>
                              </p:par>
                            </p:childTnLst>
                          </p:cTn>
                        </p:par>
                        <p:par>
                          <p:cTn id="88" fill="hold">
                            <p:stCondLst>
                              <p:cond delay="500"/>
                            </p:stCondLst>
                            <p:childTnLst>
                              <p:par>
                                <p:cTn id="89" nodeType="afterEffect" fill="hold" presetClass="entr" presetID="22" presetSubtype="8">
                                  <p:stCondLst>
                                    <p:cond delay="0"/>
                                  </p:stCondLst>
                                  <p:childTnLst>
                                    <p:set>
                                      <p:cBhvr>
                                        <p:cTn id="90" dur="1" fill="hold">
                                          <p:stCondLst>
                                            <p:cond delay="0"/>
                                          </p:stCondLst>
                                        </p:cTn>
                                        <p:tgtEl>
                                          <p:spTgt spid="186">
                                            <p:txEl>
                                              <p:pRg st="0" end="0"/>
                                            </p:txEl>
                                          </p:spTgt>
                                        </p:tgtEl>
                                        <p:attrNameLst>
                                          <p:attrName>style.visibility</p:attrName>
                                        </p:attrNameLst>
                                      </p:cBhvr>
                                      <p:to>
                                        <p:strVal val="visible"/>
                                      </p:to>
                                    </p:set>
                                    <p:animEffect filter="wipe(left)" transition="in">
                                      <p:cBhvr additive="repl">
                                        <p:cTn id="91" dur="500"/>
                                        <p:tgtEl>
                                          <p:spTgt spid="186">
                                            <p:txEl>
                                              <p:pRg st="0" end="0"/>
                                            </p:txEl>
                                          </p:spTgt>
                                        </p:tgtEl>
                                      </p:cBhvr>
                                    </p:animEffect>
                                  </p:childTnLst>
                                </p:cTn>
                              </p:par>
                            </p:childTnLst>
                          </p:cTn>
                        </p:par>
                        <p:par>
                          <p:cTn id="92" fill="hold">
                            <p:stCondLst>
                              <p:cond delay="1000"/>
                            </p:stCondLst>
                            <p:childTnLst>
                              <p:par>
                                <p:cTn id="93" nodeType="afterEffect" fill="hold" presetClass="entr" presetID="22" presetSubtype="8">
                                  <p:stCondLst>
                                    <p:cond delay="0"/>
                                  </p:stCondLst>
                                  <p:childTnLst>
                                    <p:set>
                                      <p:cBhvr>
                                        <p:cTn id="94" dur="1" fill="hold">
                                          <p:stCondLst>
                                            <p:cond delay="0"/>
                                          </p:stCondLst>
                                        </p:cTn>
                                        <p:tgtEl>
                                          <p:spTgt spid="186">
                                            <p:txEl>
                                              <p:pRg st="1" end="1"/>
                                            </p:txEl>
                                          </p:spTgt>
                                        </p:tgtEl>
                                        <p:attrNameLst>
                                          <p:attrName>style.visibility</p:attrName>
                                        </p:attrNameLst>
                                      </p:cBhvr>
                                      <p:to>
                                        <p:strVal val="visible"/>
                                      </p:to>
                                    </p:set>
                                    <p:animEffect filter="wipe(left)" transition="in">
                                      <p:cBhvr additive="repl">
                                        <p:cTn id="95" dur="500"/>
                                        <p:tgtEl>
                                          <p:spTgt spid="186">
                                            <p:txEl>
                                              <p:pRg st="1" end="1"/>
                                            </p:txEl>
                                          </p:spTgt>
                                        </p:tgtEl>
                                      </p:cBhvr>
                                    </p:animEffect>
                                  </p:childTnLst>
                                </p:cTn>
                              </p:par>
                            </p:childTnLst>
                          </p:cTn>
                        </p:par>
                        <p:par>
                          <p:cTn id="96" fill="hold">
                            <p:stCondLst>
                              <p:cond delay="1500"/>
                            </p:stCondLst>
                            <p:childTnLst>
                              <p:par>
                                <p:cTn id="97" nodeType="afterEffect" fill="hold" presetClass="entr" presetID="22" presetSubtype="8">
                                  <p:stCondLst>
                                    <p:cond delay="0"/>
                                  </p:stCondLst>
                                  <p:childTnLst>
                                    <p:set>
                                      <p:cBhvr>
                                        <p:cTn id="98" dur="1" fill="hold">
                                          <p:stCondLst>
                                            <p:cond delay="0"/>
                                          </p:stCondLst>
                                        </p:cTn>
                                        <p:tgtEl>
                                          <p:spTgt spid="186">
                                            <p:txEl>
                                              <p:pRg st="2" end="2"/>
                                            </p:txEl>
                                          </p:spTgt>
                                        </p:tgtEl>
                                        <p:attrNameLst>
                                          <p:attrName>style.visibility</p:attrName>
                                        </p:attrNameLst>
                                      </p:cBhvr>
                                      <p:to>
                                        <p:strVal val="visible"/>
                                      </p:to>
                                    </p:set>
                                    <p:animEffect filter="wipe(left)" transition="in">
                                      <p:cBhvr additive="repl">
                                        <p:cTn id="99" dur="500"/>
                                        <p:tgtEl>
                                          <p:spTgt spid="186">
                                            <p:txEl>
                                              <p:pRg st="2" end="2"/>
                                            </p:txEl>
                                          </p:spTgt>
                                        </p:tgtEl>
                                      </p:cBhvr>
                                    </p:animEffect>
                                  </p:childTnLst>
                                </p:cTn>
                              </p:par>
                            </p:childTnLst>
                          </p:cTn>
                        </p:par>
                        <p:par>
                          <p:cTn id="100" fill="hold">
                            <p:stCondLst>
                              <p:cond delay="2000"/>
                            </p:stCondLst>
                            <p:childTnLst>
                              <p:par>
                                <p:cTn id="101" nodeType="afterEffect" fill="hold" presetClass="entr" presetID="22" presetSubtype="8">
                                  <p:stCondLst>
                                    <p:cond delay="0"/>
                                  </p:stCondLst>
                                  <p:childTnLst>
                                    <p:set>
                                      <p:cBhvr>
                                        <p:cTn id="102" dur="1" fill="hold">
                                          <p:stCondLst>
                                            <p:cond delay="0"/>
                                          </p:stCondLst>
                                        </p:cTn>
                                        <p:tgtEl>
                                          <p:spTgt spid="186">
                                            <p:txEl>
                                              <p:pRg st="3" end="3"/>
                                            </p:txEl>
                                          </p:spTgt>
                                        </p:tgtEl>
                                        <p:attrNameLst>
                                          <p:attrName>style.visibility</p:attrName>
                                        </p:attrNameLst>
                                      </p:cBhvr>
                                      <p:to>
                                        <p:strVal val="visible"/>
                                      </p:to>
                                    </p:set>
                                    <p:animEffect filter="wipe(left)" transition="in">
                                      <p:cBhvr additive="repl">
                                        <p:cTn id="103" dur="500"/>
                                        <p:tgtEl>
                                          <p:spTgt spid="186">
                                            <p:txEl>
                                              <p:pRg st="3" end="3"/>
                                            </p:txEl>
                                          </p:spTgt>
                                        </p:tgtEl>
                                      </p:cBhvr>
                                    </p:animEffect>
                                  </p:childTnLst>
                                </p:cTn>
                              </p:par>
                              <p:par>
                                <p:cTn id="104" nodeType="withEffect" fill="hold" presetClass="entr" presetID="22" presetSubtype="8">
                                  <p:stCondLst>
                                    <p:cond delay="0"/>
                                  </p:stCondLst>
                                  <p:childTnLst>
                                    <p:set>
                                      <p:cBhvr>
                                        <p:cTn id="105" dur="1" fill="hold">
                                          <p:stCondLst>
                                            <p:cond delay="0"/>
                                          </p:stCondLst>
                                        </p:cTn>
                                        <p:tgtEl>
                                          <p:spTgt spid="186">
                                            <p:txEl>
                                              <p:pRg st="4" end="4"/>
                                            </p:txEl>
                                          </p:spTgt>
                                        </p:tgtEl>
                                        <p:attrNameLst>
                                          <p:attrName>style.visibility</p:attrName>
                                        </p:attrNameLst>
                                      </p:cBhvr>
                                      <p:to>
                                        <p:strVal val="visible"/>
                                      </p:to>
                                    </p:set>
                                    <p:animEffect filter="wipe(left)" transition="in">
                                      <p:cBhvr additive="repl">
                                        <p:cTn id="106" dur="500"/>
                                        <p:tgtEl>
                                          <p:spTgt spid="1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7" name="Group 2"/>
          <p:cNvGrpSpPr/>
          <p:nvPr/>
        </p:nvGrpSpPr>
        <p:grpSpPr>
          <a:xfrm>
            <a:off x="2322360" y="1143000"/>
            <a:ext cx="4499280" cy="5499000"/>
            <a:chOff x="2322360" y="1143000"/>
            <a:chExt cx="4499280" cy="5499000"/>
          </a:xfrm>
        </p:grpSpPr>
        <p:sp>
          <p:nvSpPr>
            <p:cNvPr id="188" name="Line 3"/>
            <p:cNvSpPr/>
            <p:nvPr/>
          </p:nvSpPr>
          <p:spPr>
            <a:xfrm>
              <a:off x="2322360" y="1903320"/>
              <a:ext cx="1332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9" name="Line 4"/>
            <p:cNvSpPr/>
            <p:nvPr/>
          </p:nvSpPr>
          <p:spPr>
            <a:xfrm>
              <a:off x="2589120" y="1836720"/>
              <a:ext cx="180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Line 5"/>
            <p:cNvSpPr/>
            <p:nvPr/>
          </p:nvSpPr>
          <p:spPr>
            <a:xfrm>
              <a:off x="272268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Rectangle 6"/>
            <p:cNvSpPr/>
            <p:nvPr/>
          </p:nvSpPr>
          <p:spPr>
            <a:xfrm>
              <a:off x="2322360" y="1143000"/>
              <a:ext cx="4497480" cy="693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7"/>
            <p:cNvSpPr/>
            <p:nvPr/>
          </p:nvSpPr>
          <p:spPr>
            <a:xfrm>
              <a:off x="2322360" y="1143000"/>
              <a:ext cx="4497480" cy="693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Rectangle 8"/>
            <p:cNvSpPr/>
            <p:nvPr/>
          </p:nvSpPr>
          <p:spPr>
            <a:xfrm>
              <a:off x="2322360" y="1836720"/>
              <a:ext cx="4497480" cy="4805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Line 9"/>
            <p:cNvSpPr/>
            <p:nvPr/>
          </p:nvSpPr>
          <p:spPr>
            <a:xfrm>
              <a:off x="2367000" y="1257480"/>
              <a:ext cx="12412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Rectangle 10"/>
            <p:cNvSpPr/>
            <p:nvPr/>
          </p:nvSpPr>
          <p:spPr>
            <a:xfrm>
              <a:off x="2901960" y="1162080"/>
              <a:ext cx="133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R</a:t>
              </a:r>
              <a:endParaRPr b="0" lang="en-US" sz="700" spc="-1" strike="noStrike">
                <a:solidFill>
                  <a:srgbClr val="000000"/>
                </a:solidFill>
                <a:latin typeface="Times New Roman"/>
              </a:endParaRPr>
            </a:p>
          </p:txBody>
        </p:sp>
        <p:sp>
          <p:nvSpPr>
            <p:cNvPr id="196" name="Rectangle 11"/>
            <p:cNvSpPr/>
            <p:nvPr/>
          </p:nvSpPr>
          <p:spPr>
            <a:xfrm>
              <a:off x="2896920" y="1257480"/>
              <a:ext cx="144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I</a:t>
              </a:r>
              <a:endParaRPr b="0" lang="en-US" sz="700" spc="-1" strike="noStrike">
                <a:solidFill>
                  <a:srgbClr val="000000"/>
                </a:solidFill>
                <a:latin typeface="Times New Roman"/>
              </a:endParaRPr>
            </a:p>
          </p:txBody>
        </p:sp>
        <p:sp>
          <p:nvSpPr>
            <p:cNvPr id="197" name="Rectangle 12"/>
            <p:cNvSpPr/>
            <p:nvPr/>
          </p:nvSpPr>
          <p:spPr>
            <a:xfrm>
              <a:off x="2362320" y="125748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a:t>
              </a:r>
              <a:endParaRPr b="0" lang="en-US" sz="700" spc="-1" strike="noStrike">
                <a:solidFill>
                  <a:srgbClr val="000000"/>
                </a:solidFill>
                <a:latin typeface="Times New Roman"/>
              </a:endParaRPr>
            </a:p>
          </p:txBody>
        </p:sp>
        <p:sp>
          <p:nvSpPr>
            <p:cNvPr id="198" name="Rectangle 13"/>
            <p:cNvSpPr/>
            <p:nvPr/>
          </p:nvSpPr>
          <p:spPr>
            <a:xfrm>
              <a:off x="3426120" y="1257480"/>
              <a:ext cx="146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0</a:t>
              </a:r>
              <a:endParaRPr b="0" lang="en-US" sz="700" spc="-1" strike="noStrike">
                <a:solidFill>
                  <a:srgbClr val="000000"/>
                </a:solidFill>
                <a:latin typeface="Times New Roman"/>
              </a:endParaRPr>
            </a:p>
          </p:txBody>
        </p:sp>
        <p:sp>
          <p:nvSpPr>
            <p:cNvPr id="199" name="Rectangle 14"/>
            <p:cNvSpPr/>
            <p:nvPr/>
          </p:nvSpPr>
          <p:spPr>
            <a:xfrm>
              <a:off x="2344680" y="1165320"/>
              <a:ext cx="1287360" cy="18576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Line 15"/>
            <p:cNvSpPr/>
            <p:nvPr/>
          </p:nvSpPr>
          <p:spPr>
            <a:xfrm>
              <a:off x="2367000" y="1486080"/>
              <a:ext cx="1241280" cy="1440"/>
            </a:xfrm>
            <a:prstGeom prst="line">
              <a:avLst/>
            </a:prstGeom>
            <a:ln w="12600">
              <a:solidFill>
                <a:srgbClr val="cc0000"/>
              </a:solidFill>
              <a:prstDash val="sys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 name="Rectangle 16"/>
            <p:cNvSpPr/>
            <p:nvPr/>
          </p:nvSpPr>
          <p:spPr>
            <a:xfrm>
              <a:off x="2841120" y="1393920"/>
              <a:ext cx="256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ALIX</a:t>
              </a:r>
              <a:endParaRPr b="0" lang="en-US" sz="700" spc="-1" strike="noStrike">
                <a:solidFill>
                  <a:srgbClr val="000000"/>
                </a:solidFill>
                <a:latin typeface="Times New Roman"/>
              </a:endParaRPr>
            </a:p>
          </p:txBody>
        </p:sp>
        <p:sp>
          <p:nvSpPr>
            <p:cNvPr id="202" name="Rectangle 17"/>
            <p:cNvSpPr/>
            <p:nvPr/>
          </p:nvSpPr>
          <p:spPr>
            <a:xfrm>
              <a:off x="2924280" y="1488960"/>
              <a:ext cx="89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a:t>
              </a:r>
              <a:endParaRPr b="0" lang="en-US" sz="700" spc="-1" strike="noStrike">
                <a:solidFill>
                  <a:srgbClr val="000000"/>
                </a:solidFill>
                <a:latin typeface="Times New Roman"/>
              </a:endParaRPr>
            </a:p>
          </p:txBody>
        </p:sp>
        <p:sp>
          <p:nvSpPr>
            <p:cNvPr id="203" name="Rectangle 18"/>
            <p:cNvSpPr/>
            <p:nvPr/>
          </p:nvSpPr>
          <p:spPr>
            <a:xfrm>
              <a:off x="2362320" y="148896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a:t>
              </a:r>
              <a:endParaRPr b="0" lang="en-US" sz="700" spc="-1" strike="noStrike">
                <a:solidFill>
                  <a:srgbClr val="000000"/>
                </a:solidFill>
                <a:latin typeface="Times New Roman"/>
              </a:endParaRPr>
            </a:p>
          </p:txBody>
        </p:sp>
        <p:sp>
          <p:nvSpPr>
            <p:cNvPr id="204" name="Rectangle 19"/>
            <p:cNvSpPr/>
            <p:nvPr/>
          </p:nvSpPr>
          <p:spPr>
            <a:xfrm>
              <a:off x="3475080" y="148896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6</a:t>
              </a:r>
              <a:endParaRPr b="0" lang="en-US" sz="700" spc="-1" strike="noStrike">
                <a:solidFill>
                  <a:srgbClr val="000000"/>
                </a:solidFill>
                <a:latin typeface="Times New Roman"/>
              </a:endParaRPr>
            </a:p>
          </p:txBody>
        </p:sp>
        <p:sp>
          <p:nvSpPr>
            <p:cNvPr id="205" name="Rectangle 20"/>
            <p:cNvSpPr/>
            <p:nvPr/>
          </p:nvSpPr>
          <p:spPr>
            <a:xfrm>
              <a:off x="2344680" y="1395360"/>
              <a:ext cx="1287360" cy="1872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Line 21"/>
            <p:cNvSpPr/>
            <p:nvPr/>
          </p:nvSpPr>
          <p:spPr>
            <a:xfrm flipV="1">
              <a:off x="2367000" y="1722600"/>
              <a:ext cx="1241280" cy="2880"/>
            </a:xfrm>
            <a:prstGeom prst="line">
              <a:avLst/>
            </a:prstGeom>
            <a:ln w="19080">
              <a:solidFill>
                <a:srgbClr val="006600"/>
              </a:solidFill>
              <a:prstDash val="sysDot"/>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7" name="Rectangle 22"/>
            <p:cNvSpPr/>
            <p:nvPr/>
          </p:nvSpPr>
          <p:spPr>
            <a:xfrm>
              <a:off x="2841120" y="1623960"/>
              <a:ext cx="256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ALIY</a:t>
              </a:r>
              <a:endParaRPr b="0" lang="en-US" sz="700" spc="-1" strike="noStrike">
                <a:solidFill>
                  <a:srgbClr val="000000"/>
                </a:solidFill>
                <a:latin typeface="Times New Roman"/>
              </a:endParaRPr>
            </a:p>
          </p:txBody>
        </p:sp>
        <p:sp>
          <p:nvSpPr>
            <p:cNvPr id="208" name="Rectangle 23"/>
            <p:cNvSpPr/>
            <p:nvPr/>
          </p:nvSpPr>
          <p:spPr>
            <a:xfrm>
              <a:off x="2924280" y="1719360"/>
              <a:ext cx="89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a:t>
              </a:r>
              <a:endParaRPr b="0" lang="en-US" sz="700" spc="-1" strike="noStrike">
                <a:solidFill>
                  <a:srgbClr val="000000"/>
                </a:solidFill>
                <a:latin typeface="Times New Roman"/>
              </a:endParaRPr>
            </a:p>
          </p:txBody>
        </p:sp>
        <p:sp>
          <p:nvSpPr>
            <p:cNvPr id="209" name="Rectangle 24"/>
            <p:cNvSpPr/>
            <p:nvPr/>
          </p:nvSpPr>
          <p:spPr>
            <a:xfrm>
              <a:off x="2362320" y="171936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a:t>
              </a:r>
              <a:endParaRPr b="0" lang="en-US" sz="700" spc="-1" strike="noStrike">
                <a:solidFill>
                  <a:srgbClr val="000000"/>
                </a:solidFill>
                <a:latin typeface="Times New Roman"/>
              </a:endParaRPr>
            </a:p>
          </p:txBody>
        </p:sp>
        <p:sp>
          <p:nvSpPr>
            <p:cNvPr id="210" name="Rectangle 25"/>
            <p:cNvSpPr/>
            <p:nvPr/>
          </p:nvSpPr>
          <p:spPr>
            <a:xfrm>
              <a:off x="3475080" y="1719360"/>
              <a:ext cx="9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6</a:t>
              </a:r>
              <a:endParaRPr b="0" lang="en-US" sz="700" spc="-1" strike="noStrike">
                <a:solidFill>
                  <a:srgbClr val="000000"/>
                </a:solidFill>
                <a:latin typeface="Times New Roman"/>
              </a:endParaRPr>
            </a:p>
          </p:txBody>
        </p:sp>
        <p:sp>
          <p:nvSpPr>
            <p:cNvPr id="211" name="Rectangle 26"/>
            <p:cNvSpPr/>
            <p:nvPr/>
          </p:nvSpPr>
          <p:spPr>
            <a:xfrm>
              <a:off x="2344680" y="1627200"/>
              <a:ext cx="1287360" cy="18576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Line 27"/>
            <p:cNvSpPr/>
            <p:nvPr/>
          </p:nvSpPr>
          <p:spPr>
            <a:xfrm>
              <a:off x="4199040" y="1257480"/>
              <a:ext cx="2573280" cy="1440"/>
            </a:xfrm>
            <a:prstGeom prst="line">
              <a:avLst/>
            </a:prstGeom>
            <a:ln w="19080">
              <a:solidFill>
                <a:srgbClr val="0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Rectangle 28"/>
            <p:cNvSpPr/>
            <p:nvPr/>
          </p:nvSpPr>
          <p:spPr>
            <a:xfrm>
              <a:off x="5338440" y="1162080"/>
              <a:ext cx="256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HOB</a:t>
              </a:r>
              <a:endParaRPr b="0" lang="en-US" sz="700" spc="-1" strike="noStrike">
                <a:solidFill>
                  <a:srgbClr val="000000"/>
                </a:solidFill>
                <a:latin typeface="Times New Roman"/>
              </a:endParaRPr>
            </a:p>
          </p:txBody>
        </p:sp>
        <p:sp>
          <p:nvSpPr>
            <p:cNvPr id="214" name="Rectangle 29"/>
            <p:cNvSpPr/>
            <p:nvPr/>
          </p:nvSpPr>
          <p:spPr>
            <a:xfrm>
              <a:off x="5363280" y="1257480"/>
              <a:ext cx="2066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C3</a:t>
              </a:r>
              <a:endParaRPr b="0" lang="en-US" sz="700" spc="-1" strike="noStrike">
                <a:solidFill>
                  <a:srgbClr val="000000"/>
                </a:solidFill>
                <a:latin typeface="Times New Roman"/>
              </a:endParaRPr>
            </a:p>
          </p:txBody>
        </p:sp>
        <p:sp>
          <p:nvSpPr>
            <p:cNvPr id="215" name="Rectangle 30"/>
            <p:cNvSpPr/>
            <p:nvPr/>
          </p:nvSpPr>
          <p:spPr>
            <a:xfrm>
              <a:off x="4194000" y="125748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a:t>
              </a:r>
              <a:endParaRPr b="0" lang="en-US" sz="700" spc="-1" strike="noStrike">
                <a:solidFill>
                  <a:srgbClr val="000000"/>
                </a:solidFill>
                <a:latin typeface="Times New Roman"/>
              </a:endParaRPr>
            </a:p>
          </p:txBody>
        </p:sp>
        <p:sp>
          <p:nvSpPr>
            <p:cNvPr id="216" name="Rectangle 31"/>
            <p:cNvSpPr/>
            <p:nvPr/>
          </p:nvSpPr>
          <p:spPr>
            <a:xfrm>
              <a:off x="6689880" y="125748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a:t>
              </a:r>
              <a:endParaRPr b="0" lang="en-US" sz="700" spc="-1" strike="noStrike">
                <a:solidFill>
                  <a:srgbClr val="000000"/>
                </a:solidFill>
                <a:latin typeface="Times New Roman"/>
              </a:endParaRPr>
            </a:p>
          </p:txBody>
        </p:sp>
        <p:sp>
          <p:nvSpPr>
            <p:cNvPr id="217" name="Rectangle 32"/>
            <p:cNvSpPr/>
            <p:nvPr/>
          </p:nvSpPr>
          <p:spPr>
            <a:xfrm>
              <a:off x="4176720" y="1165320"/>
              <a:ext cx="2619360" cy="18576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Line 33"/>
            <p:cNvSpPr/>
            <p:nvPr/>
          </p:nvSpPr>
          <p:spPr>
            <a:xfrm>
              <a:off x="5530680" y="1486080"/>
              <a:ext cx="1241640" cy="1440"/>
            </a:xfrm>
            <a:prstGeom prst="line">
              <a:avLst/>
            </a:prstGeom>
            <a:ln w="19080">
              <a:solidFill>
                <a:srgbClr val="000000"/>
              </a:solidFill>
              <a:prstDash val="sys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Rectangle 34"/>
            <p:cNvSpPr/>
            <p:nvPr/>
          </p:nvSpPr>
          <p:spPr>
            <a:xfrm>
              <a:off x="6000480" y="1393920"/>
              <a:ext cx="261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RHO</a:t>
              </a:r>
              <a:endParaRPr b="0" lang="en-US" sz="700" spc="-1" strike="noStrike">
                <a:solidFill>
                  <a:srgbClr val="000000"/>
                </a:solidFill>
                <a:latin typeface="Times New Roman"/>
              </a:endParaRPr>
            </a:p>
          </p:txBody>
        </p:sp>
        <p:sp>
          <p:nvSpPr>
            <p:cNvPr id="220" name="Rectangle 35"/>
            <p:cNvSpPr/>
            <p:nvPr/>
          </p:nvSpPr>
          <p:spPr>
            <a:xfrm>
              <a:off x="6028200" y="1488960"/>
              <a:ext cx="2066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C3</a:t>
              </a:r>
              <a:endParaRPr b="0" lang="en-US" sz="700" spc="-1" strike="noStrike">
                <a:solidFill>
                  <a:srgbClr val="000000"/>
                </a:solidFill>
                <a:latin typeface="Times New Roman"/>
              </a:endParaRPr>
            </a:p>
          </p:txBody>
        </p:sp>
        <p:sp>
          <p:nvSpPr>
            <p:cNvPr id="221" name="Rectangle 36"/>
            <p:cNvSpPr/>
            <p:nvPr/>
          </p:nvSpPr>
          <p:spPr>
            <a:xfrm>
              <a:off x="5527440" y="1488960"/>
              <a:ext cx="2005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25</a:t>
              </a:r>
              <a:endParaRPr b="0" lang="en-US" sz="700" spc="-1" strike="noStrike">
                <a:solidFill>
                  <a:srgbClr val="000000"/>
                </a:solidFill>
                <a:latin typeface="Times New Roman"/>
              </a:endParaRPr>
            </a:p>
          </p:txBody>
        </p:sp>
        <p:sp>
          <p:nvSpPr>
            <p:cNvPr id="222" name="Rectangle 37"/>
            <p:cNvSpPr/>
            <p:nvPr/>
          </p:nvSpPr>
          <p:spPr>
            <a:xfrm>
              <a:off x="6566760" y="1488960"/>
              <a:ext cx="171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25</a:t>
              </a:r>
              <a:endParaRPr b="0" lang="en-US" sz="700" spc="-1" strike="noStrike">
                <a:solidFill>
                  <a:srgbClr val="000000"/>
                </a:solidFill>
                <a:latin typeface="Times New Roman"/>
              </a:endParaRPr>
            </a:p>
          </p:txBody>
        </p:sp>
        <p:sp>
          <p:nvSpPr>
            <p:cNvPr id="223" name="Rectangle 38"/>
            <p:cNvSpPr/>
            <p:nvPr/>
          </p:nvSpPr>
          <p:spPr>
            <a:xfrm>
              <a:off x="5508720" y="1395360"/>
              <a:ext cx="1287360" cy="1872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Line 39"/>
            <p:cNvSpPr/>
            <p:nvPr/>
          </p:nvSpPr>
          <p:spPr>
            <a:xfrm>
              <a:off x="2322360" y="190332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Line 40"/>
            <p:cNvSpPr/>
            <p:nvPr/>
          </p:nvSpPr>
          <p:spPr>
            <a:xfrm>
              <a:off x="2322360" y="223668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 name="Line 41"/>
            <p:cNvSpPr/>
            <p:nvPr/>
          </p:nvSpPr>
          <p:spPr>
            <a:xfrm>
              <a:off x="2322360" y="257004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 name="Line 42"/>
            <p:cNvSpPr/>
            <p:nvPr/>
          </p:nvSpPr>
          <p:spPr>
            <a:xfrm>
              <a:off x="2322360" y="290520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Line 43"/>
            <p:cNvSpPr/>
            <p:nvPr/>
          </p:nvSpPr>
          <p:spPr>
            <a:xfrm>
              <a:off x="2322360" y="323856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Line 44"/>
            <p:cNvSpPr/>
            <p:nvPr/>
          </p:nvSpPr>
          <p:spPr>
            <a:xfrm>
              <a:off x="2322360" y="357192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Line 45"/>
            <p:cNvSpPr/>
            <p:nvPr/>
          </p:nvSpPr>
          <p:spPr>
            <a:xfrm>
              <a:off x="2322360" y="390528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Line 46"/>
            <p:cNvSpPr/>
            <p:nvPr/>
          </p:nvSpPr>
          <p:spPr>
            <a:xfrm>
              <a:off x="2322360" y="424008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 name="Line 47"/>
            <p:cNvSpPr/>
            <p:nvPr/>
          </p:nvSpPr>
          <p:spPr>
            <a:xfrm>
              <a:off x="2322360" y="457344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 name="Line 48"/>
            <p:cNvSpPr/>
            <p:nvPr/>
          </p:nvSpPr>
          <p:spPr>
            <a:xfrm>
              <a:off x="2322360" y="490680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 name="Line 49"/>
            <p:cNvSpPr/>
            <p:nvPr/>
          </p:nvSpPr>
          <p:spPr>
            <a:xfrm>
              <a:off x="2322360" y="524016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5" name="Line 50"/>
            <p:cNvSpPr/>
            <p:nvPr/>
          </p:nvSpPr>
          <p:spPr>
            <a:xfrm>
              <a:off x="2322360" y="557532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 name="Line 51"/>
            <p:cNvSpPr/>
            <p:nvPr/>
          </p:nvSpPr>
          <p:spPr>
            <a:xfrm>
              <a:off x="2322360" y="590868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 name="Line 52"/>
            <p:cNvSpPr/>
            <p:nvPr/>
          </p:nvSpPr>
          <p:spPr>
            <a:xfrm>
              <a:off x="2322360" y="624204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 name="Line 53"/>
            <p:cNvSpPr/>
            <p:nvPr/>
          </p:nvSpPr>
          <p:spPr>
            <a:xfrm>
              <a:off x="2322360" y="657540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 name="Line 54"/>
            <p:cNvSpPr/>
            <p:nvPr/>
          </p:nvSpPr>
          <p:spPr>
            <a:xfrm>
              <a:off x="2322360" y="1903320"/>
              <a:ext cx="13320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0" name="Line 55"/>
            <p:cNvSpPr/>
            <p:nvPr/>
          </p:nvSpPr>
          <p:spPr>
            <a:xfrm>
              <a:off x="2322360" y="3571920"/>
              <a:ext cx="13320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 name="Line 56"/>
            <p:cNvSpPr/>
            <p:nvPr/>
          </p:nvSpPr>
          <p:spPr>
            <a:xfrm>
              <a:off x="2322360" y="5240160"/>
              <a:ext cx="13320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Line 57"/>
            <p:cNvSpPr/>
            <p:nvPr/>
          </p:nvSpPr>
          <p:spPr>
            <a:xfrm>
              <a:off x="2322360" y="5240160"/>
              <a:ext cx="1332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 name="Line 58"/>
            <p:cNvSpPr/>
            <p:nvPr/>
          </p:nvSpPr>
          <p:spPr>
            <a:xfrm>
              <a:off x="4154400" y="190332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4" name="Line 59"/>
            <p:cNvSpPr/>
            <p:nvPr/>
          </p:nvSpPr>
          <p:spPr>
            <a:xfrm>
              <a:off x="4154400" y="223668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 name="Line 60"/>
            <p:cNvSpPr/>
            <p:nvPr/>
          </p:nvSpPr>
          <p:spPr>
            <a:xfrm>
              <a:off x="4154400" y="257004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6" name="Line 61"/>
            <p:cNvSpPr/>
            <p:nvPr/>
          </p:nvSpPr>
          <p:spPr>
            <a:xfrm>
              <a:off x="4154400" y="290520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 name="Line 62"/>
            <p:cNvSpPr/>
            <p:nvPr/>
          </p:nvSpPr>
          <p:spPr>
            <a:xfrm>
              <a:off x="4154400" y="323856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 name="Line 63"/>
            <p:cNvSpPr/>
            <p:nvPr/>
          </p:nvSpPr>
          <p:spPr>
            <a:xfrm>
              <a:off x="4154400" y="357192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 name="Line 64"/>
            <p:cNvSpPr/>
            <p:nvPr/>
          </p:nvSpPr>
          <p:spPr>
            <a:xfrm>
              <a:off x="4154400" y="390528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 name="Line 65"/>
            <p:cNvSpPr/>
            <p:nvPr/>
          </p:nvSpPr>
          <p:spPr>
            <a:xfrm>
              <a:off x="4154400" y="424008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1" name="Line 66"/>
            <p:cNvSpPr/>
            <p:nvPr/>
          </p:nvSpPr>
          <p:spPr>
            <a:xfrm>
              <a:off x="4154400" y="457344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2" name="Line 67"/>
            <p:cNvSpPr/>
            <p:nvPr/>
          </p:nvSpPr>
          <p:spPr>
            <a:xfrm>
              <a:off x="4154400" y="490680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3" name="Line 68"/>
            <p:cNvSpPr/>
            <p:nvPr/>
          </p:nvSpPr>
          <p:spPr>
            <a:xfrm>
              <a:off x="4154400" y="5240160"/>
              <a:ext cx="1332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4" name="Line 69"/>
            <p:cNvSpPr/>
            <p:nvPr/>
          </p:nvSpPr>
          <p:spPr>
            <a:xfrm>
              <a:off x="4154400" y="557532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 name="Line 70"/>
            <p:cNvSpPr/>
            <p:nvPr/>
          </p:nvSpPr>
          <p:spPr>
            <a:xfrm>
              <a:off x="4154400" y="590868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6" name="Line 71"/>
            <p:cNvSpPr/>
            <p:nvPr/>
          </p:nvSpPr>
          <p:spPr>
            <a:xfrm>
              <a:off x="4154400" y="624204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 name="Line 72"/>
            <p:cNvSpPr/>
            <p:nvPr/>
          </p:nvSpPr>
          <p:spPr>
            <a:xfrm>
              <a:off x="4154400" y="6575400"/>
              <a:ext cx="133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Line 73"/>
            <p:cNvSpPr/>
            <p:nvPr/>
          </p:nvSpPr>
          <p:spPr>
            <a:xfrm>
              <a:off x="4154400" y="1903320"/>
              <a:ext cx="13320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9" name="Line 74"/>
            <p:cNvSpPr/>
            <p:nvPr/>
          </p:nvSpPr>
          <p:spPr>
            <a:xfrm>
              <a:off x="4154400" y="3571920"/>
              <a:ext cx="13320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 name="Line 75"/>
            <p:cNvSpPr/>
            <p:nvPr/>
          </p:nvSpPr>
          <p:spPr>
            <a:xfrm>
              <a:off x="4154400" y="5240160"/>
              <a:ext cx="13320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 name="Line 76"/>
            <p:cNvSpPr/>
            <p:nvPr/>
          </p:nvSpPr>
          <p:spPr>
            <a:xfrm>
              <a:off x="4154400" y="1903320"/>
              <a:ext cx="1332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 name="Line 77"/>
            <p:cNvSpPr/>
            <p:nvPr/>
          </p:nvSpPr>
          <p:spPr>
            <a:xfrm>
              <a:off x="4154400" y="5240160"/>
              <a:ext cx="1332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 name="Line 78"/>
            <p:cNvSpPr/>
            <p:nvPr/>
          </p:nvSpPr>
          <p:spPr>
            <a:xfrm>
              <a:off x="5486400" y="1903320"/>
              <a:ext cx="1333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4" name="Line 79"/>
            <p:cNvSpPr/>
            <p:nvPr/>
          </p:nvSpPr>
          <p:spPr>
            <a:xfrm>
              <a:off x="5486400" y="2236680"/>
              <a:ext cx="1333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 name="Line 80"/>
            <p:cNvSpPr/>
            <p:nvPr/>
          </p:nvSpPr>
          <p:spPr>
            <a:xfrm>
              <a:off x="5486400" y="2570040"/>
              <a:ext cx="1333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6" name="Line 81"/>
            <p:cNvSpPr/>
            <p:nvPr/>
          </p:nvSpPr>
          <p:spPr>
            <a:xfrm>
              <a:off x="5486400" y="2905200"/>
              <a:ext cx="133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 name="Line 82"/>
            <p:cNvSpPr/>
            <p:nvPr/>
          </p:nvSpPr>
          <p:spPr>
            <a:xfrm>
              <a:off x="5486400" y="3238560"/>
              <a:ext cx="133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 name="Line 83"/>
            <p:cNvSpPr/>
            <p:nvPr/>
          </p:nvSpPr>
          <p:spPr>
            <a:xfrm>
              <a:off x="5486400" y="3571920"/>
              <a:ext cx="133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 name="Line 84"/>
            <p:cNvSpPr/>
            <p:nvPr/>
          </p:nvSpPr>
          <p:spPr>
            <a:xfrm>
              <a:off x="5486400" y="3905280"/>
              <a:ext cx="133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 name="Line 85"/>
            <p:cNvSpPr/>
            <p:nvPr/>
          </p:nvSpPr>
          <p:spPr>
            <a:xfrm>
              <a:off x="5486400" y="4240080"/>
              <a:ext cx="1333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 name="Line 86"/>
            <p:cNvSpPr/>
            <p:nvPr/>
          </p:nvSpPr>
          <p:spPr>
            <a:xfrm>
              <a:off x="5486400" y="4573440"/>
              <a:ext cx="1333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 name="Line 87"/>
            <p:cNvSpPr/>
            <p:nvPr/>
          </p:nvSpPr>
          <p:spPr>
            <a:xfrm>
              <a:off x="5486400" y="4906800"/>
              <a:ext cx="1333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 name="Line 88"/>
            <p:cNvSpPr/>
            <p:nvPr/>
          </p:nvSpPr>
          <p:spPr>
            <a:xfrm>
              <a:off x="5486400" y="5240160"/>
              <a:ext cx="1333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 name="Line 89"/>
            <p:cNvSpPr/>
            <p:nvPr/>
          </p:nvSpPr>
          <p:spPr>
            <a:xfrm>
              <a:off x="5486400" y="5575320"/>
              <a:ext cx="133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Line 90"/>
            <p:cNvSpPr/>
            <p:nvPr/>
          </p:nvSpPr>
          <p:spPr>
            <a:xfrm>
              <a:off x="5486400" y="5908680"/>
              <a:ext cx="133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 name="Line 91"/>
            <p:cNvSpPr/>
            <p:nvPr/>
          </p:nvSpPr>
          <p:spPr>
            <a:xfrm>
              <a:off x="5486400" y="6242040"/>
              <a:ext cx="133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Line 92"/>
            <p:cNvSpPr/>
            <p:nvPr/>
          </p:nvSpPr>
          <p:spPr>
            <a:xfrm>
              <a:off x="5486400" y="6575400"/>
              <a:ext cx="1333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Line 93"/>
            <p:cNvSpPr/>
            <p:nvPr/>
          </p:nvSpPr>
          <p:spPr>
            <a:xfrm>
              <a:off x="5486400" y="1903320"/>
              <a:ext cx="13334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9" name="Line 94"/>
            <p:cNvSpPr/>
            <p:nvPr/>
          </p:nvSpPr>
          <p:spPr>
            <a:xfrm>
              <a:off x="5486400" y="3571920"/>
              <a:ext cx="1333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 name="Line 95"/>
            <p:cNvSpPr/>
            <p:nvPr/>
          </p:nvSpPr>
          <p:spPr>
            <a:xfrm>
              <a:off x="5486400" y="5240160"/>
              <a:ext cx="13334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1" name="Line 96"/>
            <p:cNvSpPr/>
            <p:nvPr/>
          </p:nvSpPr>
          <p:spPr>
            <a:xfrm>
              <a:off x="5486400" y="1903320"/>
              <a:ext cx="1333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2" name="Line 97"/>
            <p:cNvSpPr/>
            <p:nvPr/>
          </p:nvSpPr>
          <p:spPr>
            <a:xfrm>
              <a:off x="5486400" y="5240160"/>
              <a:ext cx="1333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3" name="Line 98"/>
            <p:cNvSpPr/>
            <p:nvPr/>
          </p:nvSpPr>
          <p:spPr>
            <a:xfrm>
              <a:off x="2322360" y="1836720"/>
              <a:ext cx="1800" cy="480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Line 99"/>
            <p:cNvSpPr/>
            <p:nvPr/>
          </p:nvSpPr>
          <p:spPr>
            <a:xfrm>
              <a:off x="3654360" y="1836720"/>
              <a:ext cx="1800" cy="480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Line 100"/>
            <p:cNvSpPr/>
            <p:nvPr/>
          </p:nvSpPr>
          <p:spPr>
            <a:xfrm>
              <a:off x="245592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Line 101"/>
            <p:cNvSpPr/>
            <p:nvPr/>
          </p:nvSpPr>
          <p:spPr>
            <a:xfrm>
              <a:off x="2855880" y="1836720"/>
              <a:ext cx="180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Line 102"/>
            <p:cNvSpPr/>
            <p:nvPr/>
          </p:nvSpPr>
          <p:spPr>
            <a:xfrm>
              <a:off x="2989440" y="1836720"/>
              <a:ext cx="1440" cy="48052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Line 103"/>
            <p:cNvSpPr/>
            <p:nvPr/>
          </p:nvSpPr>
          <p:spPr>
            <a:xfrm>
              <a:off x="312264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Line 104"/>
            <p:cNvSpPr/>
            <p:nvPr/>
          </p:nvSpPr>
          <p:spPr>
            <a:xfrm>
              <a:off x="325440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Line 105"/>
            <p:cNvSpPr/>
            <p:nvPr/>
          </p:nvSpPr>
          <p:spPr>
            <a:xfrm>
              <a:off x="3387600" y="1836720"/>
              <a:ext cx="180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Line 106"/>
            <p:cNvSpPr/>
            <p:nvPr/>
          </p:nvSpPr>
          <p:spPr>
            <a:xfrm>
              <a:off x="352116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Line 107"/>
            <p:cNvSpPr/>
            <p:nvPr/>
          </p:nvSpPr>
          <p:spPr>
            <a:xfrm>
              <a:off x="3654360" y="1836720"/>
              <a:ext cx="1800" cy="480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Line 108"/>
            <p:cNvSpPr/>
            <p:nvPr/>
          </p:nvSpPr>
          <p:spPr>
            <a:xfrm>
              <a:off x="4154400" y="1836720"/>
              <a:ext cx="1800" cy="480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Line 109"/>
            <p:cNvSpPr/>
            <p:nvPr/>
          </p:nvSpPr>
          <p:spPr>
            <a:xfrm>
              <a:off x="4154400" y="1836720"/>
              <a:ext cx="1800" cy="480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Line 110"/>
            <p:cNvSpPr/>
            <p:nvPr/>
          </p:nvSpPr>
          <p:spPr>
            <a:xfrm>
              <a:off x="5486400" y="1836720"/>
              <a:ext cx="1440" cy="480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Line 111"/>
            <p:cNvSpPr/>
            <p:nvPr/>
          </p:nvSpPr>
          <p:spPr>
            <a:xfrm>
              <a:off x="428796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Line 112"/>
            <p:cNvSpPr/>
            <p:nvPr/>
          </p:nvSpPr>
          <p:spPr>
            <a:xfrm>
              <a:off x="442116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Line 113"/>
            <p:cNvSpPr/>
            <p:nvPr/>
          </p:nvSpPr>
          <p:spPr>
            <a:xfrm>
              <a:off x="4554360" y="1836720"/>
              <a:ext cx="180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Line 114"/>
            <p:cNvSpPr/>
            <p:nvPr/>
          </p:nvSpPr>
          <p:spPr>
            <a:xfrm>
              <a:off x="468792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Line 115"/>
            <p:cNvSpPr/>
            <p:nvPr/>
          </p:nvSpPr>
          <p:spPr>
            <a:xfrm>
              <a:off x="4821120" y="1836720"/>
              <a:ext cx="1800" cy="48052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Line 116"/>
            <p:cNvSpPr/>
            <p:nvPr/>
          </p:nvSpPr>
          <p:spPr>
            <a:xfrm>
              <a:off x="495468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Line 117"/>
            <p:cNvSpPr/>
            <p:nvPr/>
          </p:nvSpPr>
          <p:spPr>
            <a:xfrm>
              <a:off x="5087880" y="1836720"/>
              <a:ext cx="180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Line 118"/>
            <p:cNvSpPr/>
            <p:nvPr/>
          </p:nvSpPr>
          <p:spPr>
            <a:xfrm>
              <a:off x="5219640" y="1836720"/>
              <a:ext cx="180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Line 119"/>
            <p:cNvSpPr/>
            <p:nvPr/>
          </p:nvSpPr>
          <p:spPr>
            <a:xfrm>
              <a:off x="535320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Line 120"/>
            <p:cNvSpPr/>
            <p:nvPr/>
          </p:nvSpPr>
          <p:spPr>
            <a:xfrm>
              <a:off x="5486400" y="1836720"/>
              <a:ext cx="1440" cy="480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Line 121"/>
            <p:cNvSpPr/>
            <p:nvPr/>
          </p:nvSpPr>
          <p:spPr>
            <a:xfrm>
              <a:off x="6819840" y="1836720"/>
              <a:ext cx="1800" cy="480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Line 122"/>
            <p:cNvSpPr/>
            <p:nvPr/>
          </p:nvSpPr>
          <p:spPr>
            <a:xfrm>
              <a:off x="5619600" y="1836720"/>
              <a:ext cx="180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Line 123"/>
            <p:cNvSpPr/>
            <p:nvPr/>
          </p:nvSpPr>
          <p:spPr>
            <a:xfrm>
              <a:off x="575316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Line 124"/>
            <p:cNvSpPr/>
            <p:nvPr/>
          </p:nvSpPr>
          <p:spPr>
            <a:xfrm>
              <a:off x="5886360" y="1836720"/>
              <a:ext cx="180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Line 125"/>
            <p:cNvSpPr/>
            <p:nvPr/>
          </p:nvSpPr>
          <p:spPr>
            <a:xfrm>
              <a:off x="601992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Line 126"/>
            <p:cNvSpPr/>
            <p:nvPr/>
          </p:nvSpPr>
          <p:spPr>
            <a:xfrm>
              <a:off x="6153120" y="1836720"/>
              <a:ext cx="1440" cy="48052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Line 127"/>
            <p:cNvSpPr/>
            <p:nvPr/>
          </p:nvSpPr>
          <p:spPr>
            <a:xfrm>
              <a:off x="628668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Line 128"/>
            <p:cNvSpPr/>
            <p:nvPr/>
          </p:nvSpPr>
          <p:spPr>
            <a:xfrm>
              <a:off x="641988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Line 129"/>
            <p:cNvSpPr/>
            <p:nvPr/>
          </p:nvSpPr>
          <p:spPr>
            <a:xfrm>
              <a:off x="6553080" y="1836720"/>
              <a:ext cx="180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Line 130"/>
            <p:cNvSpPr/>
            <p:nvPr/>
          </p:nvSpPr>
          <p:spPr>
            <a:xfrm>
              <a:off x="6686640" y="1836720"/>
              <a:ext cx="1440" cy="480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Freeform 131"/>
            <p:cNvSpPr/>
            <p:nvPr/>
          </p:nvSpPr>
          <p:spPr>
            <a:xfrm>
              <a:off x="2595600" y="1836720"/>
              <a:ext cx="733320" cy="4805280"/>
            </a:xfrm>
            <a:custGeom>
              <a:avLst/>
              <a:gdLst>
                <a:gd name="textAreaLeft" fmla="*/ 0 w 733320"/>
                <a:gd name="textAreaRight" fmla="*/ 733680 w 733320"/>
                <a:gd name="textAreaTop" fmla="*/ 0 h 4805280"/>
                <a:gd name="textAreaBottom" fmla="*/ 4805640 h 4805280"/>
              </a:gdLst>
              <a:ahLst/>
              <a:rect l="textAreaLeft" t="textAreaTop" r="textAreaRight" b="textAreaBottom"/>
              <a:pathLst>
                <a:path w="923" h="6055">
                  <a:moveTo>
                    <a:pt x="715" y="0"/>
                  </a:moveTo>
                  <a:lnTo>
                    <a:pt x="715" y="21"/>
                  </a:lnTo>
                  <a:lnTo>
                    <a:pt x="719" y="42"/>
                  </a:lnTo>
                  <a:lnTo>
                    <a:pt x="722" y="63"/>
                  </a:lnTo>
                  <a:lnTo>
                    <a:pt x="743" y="84"/>
                  </a:lnTo>
                  <a:lnTo>
                    <a:pt x="748" y="105"/>
                  </a:lnTo>
                  <a:lnTo>
                    <a:pt x="767" y="126"/>
                  </a:lnTo>
                  <a:lnTo>
                    <a:pt x="792" y="147"/>
                  </a:lnTo>
                  <a:lnTo>
                    <a:pt x="825" y="168"/>
                  </a:lnTo>
                  <a:lnTo>
                    <a:pt x="838" y="189"/>
                  </a:lnTo>
                  <a:lnTo>
                    <a:pt x="830" y="210"/>
                  </a:lnTo>
                  <a:lnTo>
                    <a:pt x="778" y="231"/>
                  </a:lnTo>
                  <a:lnTo>
                    <a:pt x="739" y="252"/>
                  </a:lnTo>
                  <a:lnTo>
                    <a:pt x="697" y="273"/>
                  </a:lnTo>
                  <a:lnTo>
                    <a:pt x="683" y="294"/>
                  </a:lnTo>
                  <a:lnTo>
                    <a:pt x="687" y="315"/>
                  </a:lnTo>
                  <a:lnTo>
                    <a:pt x="713" y="336"/>
                  </a:lnTo>
                  <a:lnTo>
                    <a:pt x="737" y="357"/>
                  </a:lnTo>
                  <a:lnTo>
                    <a:pt x="762" y="378"/>
                  </a:lnTo>
                  <a:lnTo>
                    <a:pt x="778" y="399"/>
                  </a:lnTo>
                  <a:lnTo>
                    <a:pt x="781" y="420"/>
                  </a:lnTo>
                  <a:lnTo>
                    <a:pt x="782" y="441"/>
                  </a:lnTo>
                  <a:lnTo>
                    <a:pt x="803" y="462"/>
                  </a:lnTo>
                  <a:lnTo>
                    <a:pt x="827" y="483"/>
                  </a:lnTo>
                  <a:lnTo>
                    <a:pt x="863" y="505"/>
                  </a:lnTo>
                  <a:lnTo>
                    <a:pt x="881" y="526"/>
                  </a:lnTo>
                  <a:lnTo>
                    <a:pt x="887" y="547"/>
                  </a:lnTo>
                  <a:lnTo>
                    <a:pt x="891" y="568"/>
                  </a:lnTo>
                  <a:lnTo>
                    <a:pt x="891" y="589"/>
                  </a:lnTo>
                  <a:lnTo>
                    <a:pt x="881" y="610"/>
                  </a:lnTo>
                  <a:lnTo>
                    <a:pt x="876" y="631"/>
                  </a:lnTo>
                  <a:lnTo>
                    <a:pt x="872" y="652"/>
                  </a:lnTo>
                  <a:lnTo>
                    <a:pt x="867" y="673"/>
                  </a:lnTo>
                  <a:lnTo>
                    <a:pt x="877" y="694"/>
                  </a:lnTo>
                  <a:lnTo>
                    <a:pt x="894" y="715"/>
                  </a:lnTo>
                  <a:lnTo>
                    <a:pt x="897" y="736"/>
                  </a:lnTo>
                  <a:lnTo>
                    <a:pt x="879" y="757"/>
                  </a:lnTo>
                  <a:lnTo>
                    <a:pt x="832" y="778"/>
                  </a:lnTo>
                  <a:lnTo>
                    <a:pt x="820" y="799"/>
                  </a:lnTo>
                  <a:lnTo>
                    <a:pt x="820" y="820"/>
                  </a:lnTo>
                  <a:lnTo>
                    <a:pt x="842" y="841"/>
                  </a:lnTo>
                  <a:lnTo>
                    <a:pt x="860" y="862"/>
                  </a:lnTo>
                  <a:lnTo>
                    <a:pt x="883" y="883"/>
                  </a:lnTo>
                  <a:lnTo>
                    <a:pt x="901" y="904"/>
                  </a:lnTo>
                  <a:lnTo>
                    <a:pt x="916" y="925"/>
                  </a:lnTo>
                  <a:lnTo>
                    <a:pt x="923" y="946"/>
                  </a:lnTo>
                  <a:lnTo>
                    <a:pt x="904" y="967"/>
                  </a:lnTo>
                  <a:lnTo>
                    <a:pt x="876" y="988"/>
                  </a:lnTo>
                  <a:lnTo>
                    <a:pt x="818" y="1009"/>
                  </a:lnTo>
                  <a:lnTo>
                    <a:pt x="783" y="1030"/>
                  </a:lnTo>
                  <a:lnTo>
                    <a:pt x="762" y="1051"/>
                  </a:lnTo>
                  <a:lnTo>
                    <a:pt x="743" y="1072"/>
                  </a:lnTo>
                  <a:lnTo>
                    <a:pt x="729" y="1093"/>
                  </a:lnTo>
                  <a:lnTo>
                    <a:pt x="702" y="1114"/>
                  </a:lnTo>
                  <a:lnTo>
                    <a:pt x="693" y="1135"/>
                  </a:lnTo>
                  <a:lnTo>
                    <a:pt x="690" y="1156"/>
                  </a:lnTo>
                  <a:lnTo>
                    <a:pt x="709" y="1177"/>
                  </a:lnTo>
                  <a:lnTo>
                    <a:pt x="727" y="1198"/>
                  </a:lnTo>
                  <a:lnTo>
                    <a:pt x="746" y="1219"/>
                  </a:lnTo>
                  <a:lnTo>
                    <a:pt x="760" y="1240"/>
                  </a:lnTo>
                  <a:lnTo>
                    <a:pt x="796" y="1261"/>
                  </a:lnTo>
                  <a:lnTo>
                    <a:pt x="814" y="1282"/>
                  </a:lnTo>
                  <a:lnTo>
                    <a:pt x="837" y="1303"/>
                  </a:lnTo>
                  <a:lnTo>
                    <a:pt x="839" y="1324"/>
                  </a:lnTo>
                  <a:lnTo>
                    <a:pt x="824" y="1345"/>
                  </a:lnTo>
                  <a:lnTo>
                    <a:pt x="788" y="1366"/>
                  </a:lnTo>
                  <a:lnTo>
                    <a:pt x="767" y="1387"/>
                  </a:lnTo>
                  <a:lnTo>
                    <a:pt x="730" y="1409"/>
                  </a:lnTo>
                  <a:lnTo>
                    <a:pt x="693" y="1430"/>
                  </a:lnTo>
                  <a:lnTo>
                    <a:pt x="662" y="1451"/>
                  </a:lnTo>
                  <a:lnTo>
                    <a:pt x="666" y="1472"/>
                  </a:lnTo>
                  <a:lnTo>
                    <a:pt x="676" y="1493"/>
                  </a:lnTo>
                  <a:lnTo>
                    <a:pt x="659" y="1514"/>
                  </a:lnTo>
                  <a:lnTo>
                    <a:pt x="660" y="1535"/>
                  </a:lnTo>
                  <a:lnTo>
                    <a:pt x="677" y="1556"/>
                  </a:lnTo>
                  <a:lnTo>
                    <a:pt x="709" y="1577"/>
                  </a:lnTo>
                  <a:lnTo>
                    <a:pt x="772" y="1598"/>
                  </a:lnTo>
                  <a:lnTo>
                    <a:pt x="814" y="1619"/>
                  </a:lnTo>
                  <a:lnTo>
                    <a:pt x="831" y="1640"/>
                  </a:lnTo>
                  <a:lnTo>
                    <a:pt x="837" y="1661"/>
                  </a:lnTo>
                  <a:lnTo>
                    <a:pt x="827" y="1682"/>
                  </a:lnTo>
                  <a:lnTo>
                    <a:pt x="810" y="1703"/>
                  </a:lnTo>
                  <a:lnTo>
                    <a:pt x="810" y="1724"/>
                  </a:lnTo>
                  <a:lnTo>
                    <a:pt x="825" y="1745"/>
                  </a:lnTo>
                  <a:lnTo>
                    <a:pt x="841" y="1766"/>
                  </a:lnTo>
                  <a:lnTo>
                    <a:pt x="852" y="1787"/>
                  </a:lnTo>
                  <a:lnTo>
                    <a:pt x="848" y="1808"/>
                  </a:lnTo>
                  <a:lnTo>
                    <a:pt x="818" y="1829"/>
                  </a:lnTo>
                  <a:lnTo>
                    <a:pt x="764" y="1850"/>
                  </a:lnTo>
                  <a:lnTo>
                    <a:pt x="725" y="1871"/>
                  </a:lnTo>
                  <a:lnTo>
                    <a:pt x="651" y="1892"/>
                  </a:lnTo>
                  <a:lnTo>
                    <a:pt x="565" y="1913"/>
                  </a:lnTo>
                  <a:lnTo>
                    <a:pt x="451" y="1934"/>
                  </a:lnTo>
                  <a:lnTo>
                    <a:pt x="248" y="1955"/>
                  </a:lnTo>
                  <a:lnTo>
                    <a:pt x="155" y="1976"/>
                  </a:lnTo>
                  <a:lnTo>
                    <a:pt x="84" y="1997"/>
                  </a:lnTo>
                  <a:lnTo>
                    <a:pt x="52" y="2018"/>
                  </a:lnTo>
                  <a:lnTo>
                    <a:pt x="57" y="2039"/>
                  </a:lnTo>
                  <a:lnTo>
                    <a:pt x="57" y="2060"/>
                  </a:lnTo>
                  <a:lnTo>
                    <a:pt x="56" y="2081"/>
                  </a:lnTo>
                  <a:lnTo>
                    <a:pt x="45" y="2102"/>
                  </a:lnTo>
                  <a:lnTo>
                    <a:pt x="43" y="2123"/>
                  </a:lnTo>
                  <a:lnTo>
                    <a:pt x="39" y="2144"/>
                  </a:lnTo>
                  <a:lnTo>
                    <a:pt x="45" y="2165"/>
                  </a:lnTo>
                  <a:lnTo>
                    <a:pt x="64" y="2186"/>
                  </a:lnTo>
                  <a:lnTo>
                    <a:pt x="77" y="2207"/>
                  </a:lnTo>
                  <a:lnTo>
                    <a:pt x="69" y="2228"/>
                  </a:lnTo>
                  <a:lnTo>
                    <a:pt x="46" y="2249"/>
                  </a:lnTo>
                  <a:lnTo>
                    <a:pt x="20" y="2270"/>
                  </a:lnTo>
                  <a:lnTo>
                    <a:pt x="6" y="2291"/>
                  </a:lnTo>
                  <a:lnTo>
                    <a:pt x="0" y="2312"/>
                  </a:lnTo>
                  <a:lnTo>
                    <a:pt x="10" y="2334"/>
                  </a:lnTo>
                  <a:lnTo>
                    <a:pt x="18" y="2355"/>
                  </a:lnTo>
                  <a:lnTo>
                    <a:pt x="24" y="2376"/>
                  </a:lnTo>
                  <a:lnTo>
                    <a:pt x="22" y="2397"/>
                  </a:lnTo>
                  <a:lnTo>
                    <a:pt x="24" y="2418"/>
                  </a:lnTo>
                  <a:lnTo>
                    <a:pt x="32" y="2439"/>
                  </a:lnTo>
                  <a:lnTo>
                    <a:pt x="45" y="2460"/>
                  </a:lnTo>
                  <a:lnTo>
                    <a:pt x="91" y="2481"/>
                  </a:lnTo>
                  <a:lnTo>
                    <a:pt x="202" y="2502"/>
                  </a:lnTo>
                  <a:lnTo>
                    <a:pt x="283" y="2523"/>
                  </a:lnTo>
                  <a:lnTo>
                    <a:pt x="325" y="2544"/>
                  </a:lnTo>
                  <a:lnTo>
                    <a:pt x="353" y="2565"/>
                  </a:lnTo>
                  <a:lnTo>
                    <a:pt x="369" y="2586"/>
                  </a:lnTo>
                  <a:lnTo>
                    <a:pt x="414" y="2607"/>
                  </a:lnTo>
                  <a:lnTo>
                    <a:pt x="439" y="2628"/>
                  </a:lnTo>
                  <a:lnTo>
                    <a:pt x="470" y="2649"/>
                  </a:lnTo>
                  <a:lnTo>
                    <a:pt x="509" y="2670"/>
                  </a:lnTo>
                  <a:lnTo>
                    <a:pt x="562" y="2691"/>
                  </a:lnTo>
                  <a:lnTo>
                    <a:pt x="585" y="2712"/>
                  </a:lnTo>
                  <a:lnTo>
                    <a:pt x="589" y="2733"/>
                  </a:lnTo>
                  <a:lnTo>
                    <a:pt x="579" y="2754"/>
                  </a:lnTo>
                  <a:lnTo>
                    <a:pt x="541" y="2775"/>
                  </a:lnTo>
                  <a:lnTo>
                    <a:pt x="513" y="2796"/>
                  </a:lnTo>
                  <a:lnTo>
                    <a:pt x="494" y="2817"/>
                  </a:lnTo>
                  <a:lnTo>
                    <a:pt x="488" y="2838"/>
                  </a:lnTo>
                  <a:lnTo>
                    <a:pt x="497" y="2859"/>
                  </a:lnTo>
                  <a:lnTo>
                    <a:pt x="516" y="2880"/>
                  </a:lnTo>
                  <a:lnTo>
                    <a:pt x="555" y="2901"/>
                  </a:lnTo>
                  <a:lnTo>
                    <a:pt x="572" y="2922"/>
                  </a:lnTo>
                  <a:lnTo>
                    <a:pt x="599" y="2943"/>
                  </a:lnTo>
                  <a:lnTo>
                    <a:pt x="621" y="2964"/>
                  </a:lnTo>
                  <a:lnTo>
                    <a:pt x="618" y="2985"/>
                  </a:lnTo>
                  <a:lnTo>
                    <a:pt x="616" y="3006"/>
                  </a:lnTo>
                  <a:lnTo>
                    <a:pt x="582" y="3027"/>
                  </a:lnTo>
                  <a:lnTo>
                    <a:pt x="529" y="3048"/>
                  </a:lnTo>
                  <a:lnTo>
                    <a:pt x="494" y="3069"/>
                  </a:lnTo>
                  <a:lnTo>
                    <a:pt x="403" y="3090"/>
                  </a:lnTo>
                  <a:lnTo>
                    <a:pt x="270" y="3111"/>
                  </a:lnTo>
                  <a:lnTo>
                    <a:pt x="136" y="3132"/>
                  </a:lnTo>
                  <a:lnTo>
                    <a:pt x="130" y="3153"/>
                  </a:lnTo>
                  <a:lnTo>
                    <a:pt x="125" y="3174"/>
                  </a:lnTo>
                  <a:lnTo>
                    <a:pt x="118" y="3195"/>
                  </a:lnTo>
                  <a:lnTo>
                    <a:pt x="116" y="3216"/>
                  </a:lnTo>
                  <a:lnTo>
                    <a:pt x="105" y="3238"/>
                  </a:lnTo>
                  <a:lnTo>
                    <a:pt x="105" y="3259"/>
                  </a:lnTo>
                  <a:lnTo>
                    <a:pt x="115" y="3280"/>
                  </a:lnTo>
                  <a:lnTo>
                    <a:pt x="123" y="3301"/>
                  </a:lnTo>
                  <a:lnTo>
                    <a:pt x="137" y="3322"/>
                  </a:lnTo>
                  <a:lnTo>
                    <a:pt x="143" y="3343"/>
                  </a:lnTo>
                  <a:lnTo>
                    <a:pt x="139" y="3364"/>
                  </a:lnTo>
                  <a:lnTo>
                    <a:pt x="132" y="3385"/>
                  </a:lnTo>
                  <a:lnTo>
                    <a:pt x="141" y="3406"/>
                  </a:lnTo>
                  <a:lnTo>
                    <a:pt x="151" y="3427"/>
                  </a:lnTo>
                  <a:lnTo>
                    <a:pt x="155" y="3448"/>
                  </a:lnTo>
                  <a:lnTo>
                    <a:pt x="168" y="3469"/>
                  </a:lnTo>
                  <a:lnTo>
                    <a:pt x="190" y="3490"/>
                  </a:lnTo>
                  <a:lnTo>
                    <a:pt x="200" y="3511"/>
                  </a:lnTo>
                  <a:lnTo>
                    <a:pt x="211" y="3532"/>
                  </a:lnTo>
                  <a:lnTo>
                    <a:pt x="231" y="3553"/>
                  </a:lnTo>
                  <a:lnTo>
                    <a:pt x="237" y="3574"/>
                  </a:lnTo>
                  <a:lnTo>
                    <a:pt x="245" y="3595"/>
                  </a:lnTo>
                  <a:lnTo>
                    <a:pt x="242" y="3616"/>
                  </a:lnTo>
                  <a:lnTo>
                    <a:pt x="228" y="3637"/>
                  </a:lnTo>
                  <a:lnTo>
                    <a:pt x="220" y="3658"/>
                  </a:lnTo>
                  <a:lnTo>
                    <a:pt x="209" y="3679"/>
                  </a:lnTo>
                  <a:lnTo>
                    <a:pt x="202" y="3700"/>
                  </a:lnTo>
                  <a:lnTo>
                    <a:pt x="203" y="3721"/>
                  </a:lnTo>
                  <a:lnTo>
                    <a:pt x="223" y="3742"/>
                  </a:lnTo>
                  <a:lnTo>
                    <a:pt x="235" y="3763"/>
                  </a:lnTo>
                  <a:lnTo>
                    <a:pt x="235" y="3784"/>
                  </a:lnTo>
                  <a:lnTo>
                    <a:pt x="195" y="3805"/>
                  </a:lnTo>
                  <a:lnTo>
                    <a:pt x="195" y="3826"/>
                  </a:lnTo>
                  <a:lnTo>
                    <a:pt x="195" y="3847"/>
                  </a:lnTo>
                  <a:lnTo>
                    <a:pt x="252" y="3868"/>
                  </a:lnTo>
                  <a:lnTo>
                    <a:pt x="341" y="3889"/>
                  </a:lnTo>
                  <a:lnTo>
                    <a:pt x="392" y="3910"/>
                  </a:lnTo>
                  <a:lnTo>
                    <a:pt x="416" y="3931"/>
                  </a:lnTo>
                  <a:lnTo>
                    <a:pt x="416" y="3952"/>
                  </a:lnTo>
                  <a:lnTo>
                    <a:pt x="396" y="3973"/>
                  </a:lnTo>
                  <a:lnTo>
                    <a:pt x="382" y="3994"/>
                  </a:lnTo>
                  <a:lnTo>
                    <a:pt x="347" y="4015"/>
                  </a:lnTo>
                  <a:lnTo>
                    <a:pt x="285" y="4036"/>
                  </a:lnTo>
                  <a:lnTo>
                    <a:pt x="225" y="4057"/>
                  </a:lnTo>
                  <a:lnTo>
                    <a:pt x="197" y="4078"/>
                  </a:lnTo>
                  <a:lnTo>
                    <a:pt x="181" y="4099"/>
                  </a:lnTo>
                  <a:lnTo>
                    <a:pt x="182" y="4120"/>
                  </a:lnTo>
                  <a:lnTo>
                    <a:pt x="179" y="4142"/>
                  </a:lnTo>
                  <a:lnTo>
                    <a:pt x="186" y="4163"/>
                  </a:lnTo>
                  <a:lnTo>
                    <a:pt x="192" y="4184"/>
                  </a:lnTo>
                  <a:lnTo>
                    <a:pt x="195" y="4205"/>
                  </a:lnTo>
                  <a:lnTo>
                    <a:pt x="164" y="4226"/>
                  </a:lnTo>
                  <a:lnTo>
                    <a:pt x="141" y="4247"/>
                  </a:lnTo>
                  <a:lnTo>
                    <a:pt x="94" y="4268"/>
                  </a:lnTo>
                  <a:lnTo>
                    <a:pt x="49" y="4289"/>
                  </a:lnTo>
                  <a:lnTo>
                    <a:pt x="36" y="4310"/>
                  </a:lnTo>
                  <a:lnTo>
                    <a:pt x="43" y="4331"/>
                  </a:lnTo>
                  <a:lnTo>
                    <a:pt x="56" y="4352"/>
                  </a:lnTo>
                  <a:lnTo>
                    <a:pt x="48" y="4373"/>
                  </a:lnTo>
                  <a:lnTo>
                    <a:pt x="42" y="4394"/>
                  </a:lnTo>
                  <a:lnTo>
                    <a:pt x="42" y="4415"/>
                  </a:lnTo>
                  <a:lnTo>
                    <a:pt x="46" y="4436"/>
                  </a:lnTo>
                  <a:lnTo>
                    <a:pt x="49" y="4457"/>
                  </a:lnTo>
                  <a:lnTo>
                    <a:pt x="67" y="4478"/>
                  </a:lnTo>
                  <a:lnTo>
                    <a:pt x="67" y="4499"/>
                  </a:lnTo>
                  <a:lnTo>
                    <a:pt x="88" y="4520"/>
                  </a:lnTo>
                  <a:lnTo>
                    <a:pt x="120" y="4541"/>
                  </a:lnTo>
                  <a:lnTo>
                    <a:pt x="172" y="4562"/>
                  </a:lnTo>
                  <a:lnTo>
                    <a:pt x="192" y="4583"/>
                  </a:lnTo>
                  <a:lnTo>
                    <a:pt x="204" y="4604"/>
                  </a:lnTo>
                  <a:lnTo>
                    <a:pt x="189" y="4625"/>
                  </a:lnTo>
                  <a:lnTo>
                    <a:pt x="160" y="4646"/>
                  </a:lnTo>
                  <a:lnTo>
                    <a:pt x="99" y="4667"/>
                  </a:lnTo>
                  <a:lnTo>
                    <a:pt x="70" y="4688"/>
                  </a:lnTo>
                  <a:lnTo>
                    <a:pt x="46" y="4709"/>
                  </a:lnTo>
                  <a:lnTo>
                    <a:pt x="36" y="4730"/>
                  </a:lnTo>
                  <a:lnTo>
                    <a:pt x="60" y="4751"/>
                  </a:lnTo>
                  <a:lnTo>
                    <a:pt x="71" y="4772"/>
                  </a:lnTo>
                  <a:lnTo>
                    <a:pt x="71" y="4793"/>
                  </a:lnTo>
                  <a:lnTo>
                    <a:pt x="90" y="4814"/>
                  </a:lnTo>
                  <a:lnTo>
                    <a:pt x="115" y="4835"/>
                  </a:lnTo>
                  <a:lnTo>
                    <a:pt x="147" y="4856"/>
                  </a:lnTo>
                  <a:lnTo>
                    <a:pt x="223" y="4877"/>
                  </a:lnTo>
                  <a:lnTo>
                    <a:pt x="255" y="4898"/>
                  </a:lnTo>
                  <a:lnTo>
                    <a:pt x="260" y="4919"/>
                  </a:lnTo>
                  <a:lnTo>
                    <a:pt x="260" y="4940"/>
                  </a:lnTo>
                  <a:lnTo>
                    <a:pt x="256" y="4961"/>
                  </a:lnTo>
                  <a:lnTo>
                    <a:pt x="249" y="4982"/>
                  </a:lnTo>
                  <a:lnTo>
                    <a:pt x="284" y="5003"/>
                  </a:lnTo>
                  <a:lnTo>
                    <a:pt x="476" y="5024"/>
                  </a:lnTo>
                  <a:lnTo>
                    <a:pt x="582" y="5045"/>
                  </a:lnTo>
                  <a:lnTo>
                    <a:pt x="617" y="5067"/>
                  </a:lnTo>
                  <a:lnTo>
                    <a:pt x="621" y="5088"/>
                  </a:lnTo>
                  <a:lnTo>
                    <a:pt x="620" y="5109"/>
                  </a:lnTo>
                  <a:lnTo>
                    <a:pt x="620" y="5130"/>
                  </a:lnTo>
                  <a:lnTo>
                    <a:pt x="644" y="5151"/>
                  </a:lnTo>
                  <a:lnTo>
                    <a:pt x="665" y="5172"/>
                  </a:lnTo>
                  <a:lnTo>
                    <a:pt x="667" y="5193"/>
                  </a:lnTo>
                  <a:lnTo>
                    <a:pt x="659" y="5214"/>
                  </a:lnTo>
                  <a:lnTo>
                    <a:pt x="672" y="5235"/>
                  </a:lnTo>
                  <a:lnTo>
                    <a:pt x="680" y="5256"/>
                  </a:lnTo>
                  <a:lnTo>
                    <a:pt x="666" y="5277"/>
                  </a:lnTo>
                  <a:lnTo>
                    <a:pt x="641" y="5298"/>
                  </a:lnTo>
                  <a:lnTo>
                    <a:pt x="607" y="5319"/>
                  </a:lnTo>
                  <a:lnTo>
                    <a:pt x="588" y="5340"/>
                  </a:lnTo>
                  <a:lnTo>
                    <a:pt x="560" y="5361"/>
                  </a:lnTo>
                  <a:lnTo>
                    <a:pt x="525" y="5382"/>
                  </a:lnTo>
                  <a:lnTo>
                    <a:pt x="487" y="5403"/>
                  </a:lnTo>
                  <a:lnTo>
                    <a:pt x="462" y="5424"/>
                  </a:lnTo>
                  <a:lnTo>
                    <a:pt x="446" y="5445"/>
                  </a:lnTo>
                  <a:lnTo>
                    <a:pt x="506" y="5466"/>
                  </a:lnTo>
                  <a:lnTo>
                    <a:pt x="520" y="5487"/>
                  </a:lnTo>
                  <a:lnTo>
                    <a:pt x="522" y="5508"/>
                  </a:lnTo>
                  <a:lnTo>
                    <a:pt x="518" y="5529"/>
                  </a:lnTo>
                  <a:lnTo>
                    <a:pt x="494" y="5550"/>
                  </a:lnTo>
                  <a:lnTo>
                    <a:pt x="512" y="5571"/>
                  </a:lnTo>
                  <a:lnTo>
                    <a:pt x="553" y="5592"/>
                  </a:lnTo>
                  <a:lnTo>
                    <a:pt x="621" y="5613"/>
                  </a:lnTo>
                  <a:lnTo>
                    <a:pt x="687" y="5634"/>
                  </a:lnTo>
                  <a:lnTo>
                    <a:pt x="706" y="5655"/>
                  </a:lnTo>
                  <a:lnTo>
                    <a:pt x="706" y="5676"/>
                  </a:lnTo>
                  <a:lnTo>
                    <a:pt x="712" y="5697"/>
                  </a:lnTo>
                  <a:lnTo>
                    <a:pt x="713" y="5718"/>
                  </a:lnTo>
                  <a:lnTo>
                    <a:pt x="688" y="5739"/>
                  </a:lnTo>
                  <a:lnTo>
                    <a:pt x="637" y="5760"/>
                  </a:lnTo>
                  <a:lnTo>
                    <a:pt x="582" y="5781"/>
                  </a:lnTo>
                  <a:lnTo>
                    <a:pt x="540" y="5802"/>
                  </a:lnTo>
                  <a:lnTo>
                    <a:pt x="522" y="5823"/>
                  </a:lnTo>
                  <a:lnTo>
                    <a:pt x="540" y="5844"/>
                  </a:lnTo>
                  <a:lnTo>
                    <a:pt x="558" y="5865"/>
                  </a:lnTo>
                  <a:lnTo>
                    <a:pt x="565" y="5886"/>
                  </a:lnTo>
                  <a:lnTo>
                    <a:pt x="560" y="5907"/>
                  </a:lnTo>
                  <a:lnTo>
                    <a:pt x="547" y="5928"/>
                  </a:lnTo>
                  <a:lnTo>
                    <a:pt x="529" y="5949"/>
                  </a:lnTo>
                  <a:lnTo>
                    <a:pt x="544" y="5971"/>
                  </a:lnTo>
                  <a:lnTo>
                    <a:pt x="571" y="5992"/>
                  </a:lnTo>
                  <a:lnTo>
                    <a:pt x="616" y="6013"/>
                  </a:lnTo>
                  <a:lnTo>
                    <a:pt x="655" y="6034"/>
                  </a:lnTo>
                  <a:lnTo>
                    <a:pt x="667" y="6055"/>
                  </a:ln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Freeform 132"/>
            <p:cNvSpPr/>
            <p:nvPr/>
          </p:nvSpPr>
          <p:spPr>
            <a:xfrm>
              <a:off x="5083200" y="1836720"/>
              <a:ext cx="930240" cy="4805280"/>
            </a:xfrm>
            <a:custGeom>
              <a:avLst/>
              <a:gdLst>
                <a:gd name="textAreaLeft" fmla="*/ 0 w 930240"/>
                <a:gd name="textAreaRight" fmla="*/ 930600 w 930240"/>
                <a:gd name="textAreaTop" fmla="*/ 0 h 4805280"/>
                <a:gd name="textAreaBottom" fmla="*/ 4805640 h 4805280"/>
              </a:gdLst>
              <a:ahLst/>
              <a:rect l="textAreaLeft" t="textAreaTop" r="textAreaRight" b="textAreaBottom"/>
              <a:pathLst>
                <a:path w="1172" h="6055">
                  <a:moveTo>
                    <a:pt x="882" y="0"/>
                  </a:moveTo>
                  <a:lnTo>
                    <a:pt x="875" y="21"/>
                  </a:lnTo>
                  <a:lnTo>
                    <a:pt x="866" y="42"/>
                  </a:lnTo>
                  <a:lnTo>
                    <a:pt x="870" y="63"/>
                  </a:lnTo>
                  <a:lnTo>
                    <a:pt x="887" y="84"/>
                  </a:lnTo>
                  <a:lnTo>
                    <a:pt x="894" y="105"/>
                  </a:lnTo>
                  <a:lnTo>
                    <a:pt x="875" y="126"/>
                  </a:lnTo>
                  <a:lnTo>
                    <a:pt x="863" y="147"/>
                  </a:lnTo>
                  <a:lnTo>
                    <a:pt x="860" y="168"/>
                  </a:lnTo>
                  <a:lnTo>
                    <a:pt x="875" y="189"/>
                  </a:lnTo>
                  <a:lnTo>
                    <a:pt x="887" y="210"/>
                  </a:lnTo>
                  <a:lnTo>
                    <a:pt x="899" y="231"/>
                  </a:lnTo>
                  <a:lnTo>
                    <a:pt x="913" y="252"/>
                  </a:lnTo>
                  <a:lnTo>
                    <a:pt x="930" y="273"/>
                  </a:lnTo>
                  <a:lnTo>
                    <a:pt x="930" y="294"/>
                  </a:lnTo>
                  <a:lnTo>
                    <a:pt x="930" y="315"/>
                  </a:lnTo>
                  <a:lnTo>
                    <a:pt x="909" y="336"/>
                  </a:lnTo>
                  <a:lnTo>
                    <a:pt x="873" y="357"/>
                  </a:lnTo>
                  <a:lnTo>
                    <a:pt x="853" y="378"/>
                  </a:lnTo>
                  <a:lnTo>
                    <a:pt x="856" y="399"/>
                  </a:lnTo>
                  <a:lnTo>
                    <a:pt x="875" y="420"/>
                  </a:lnTo>
                  <a:lnTo>
                    <a:pt x="887" y="441"/>
                  </a:lnTo>
                  <a:lnTo>
                    <a:pt x="903" y="462"/>
                  </a:lnTo>
                  <a:lnTo>
                    <a:pt x="903" y="483"/>
                  </a:lnTo>
                  <a:lnTo>
                    <a:pt x="875" y="505"/>
                  </a:lnTo>
                  <a:lnTo>
                    <a:pt x="846" y="526"/>
                  </a:lnTo>
                  <a:lnTo>
                    <a:pt x="842" y="547"/>
                  </a:lnTo>
                  <a:lnTo>
                    <a:pt x="842" y="568"/>
                  </a:lnTo>
                  <a:lnTo>
                    <a:pt x="826" y="589"/>
                  </a:lnTo>
                  <a:lnTo>
                    <a:pt x="832" y="610"/>
                  </a:lnTo>
                  <a:lnTo>
                    <a:pt x="873" y="631"/>
                  </a:lnTo>
                  <a:lnTo>
                    <a:pt x="903" y="652"/>
                  </a:lnTo>
                  <a:lnTo>
                    <a:pt x="913" y="673"/>
                  </a:lnTo>
                  <a:lnTo>
                    <a:pt x="913" y="694"/>
                  </a:lnTo>
                  <a:lnTo>
                    <a:pt x="903" y="715"/>
                  </a:lnTo>
                  <a:lnTo>
                    <a:pt x="860" y="736"/>
                  </a:lnTo>
                  <a:lnTo>
                    <a:pt x="849" y="757"/>
                  </a:lnTo>
                  <a:lnTo>
                    <a:pt x="866" y="778"/>
                  </a:lnTo>
                  <a:lnTo>
                    <a:pt x="866" y="799"/>
                  </a:lnTo>
                  <a:lnTo>
                    <a:pt x="875" y="820"/>
                  </a:lnTo>
                  <a:lnTo>
                    <a:pt x="880" y="841"/>
                  </a:lnTo>
                  <a:lnTo>
                    <a:pt x="875" y="862"/>
                  </a:lnTo>
                  <a:lnTo>
                    <a:pt x="863" y="883"/>
                  </a:lnTo>
                  <a:lnTo>
                    <a:pt x="839" y="904"/>
                  </a:lnTo>
                  <a:lnTo>
                    <a:pt x="813" y="925"/>
                  </a:lnTo>
                  <a:lnTo>
                    <a:pt x="813" y="946"/>
                  </a:lnTo>
                  <a:lnTo>
                    <a:pt x="829" y="967"/>
                  </a:lnTo>
                  <a:lnTo>
                    <a:pt x="887" y="988"/>
                  </a:lnTo>
                  <a:lnTo>
                    <a:pt x="923" y="1009"/>
                  </a:lnTo>
                  <a:lnTo>
                    <a:pt x="927" y="1030"/>
                  </a:lnTo>
                  <a:lnTo>
                    <a:pt x="903" y="1051"/>
                  </a:lnTo>
                  <a:lnTo>
                    <a:pt x="882" y="1072"/>
                  </a:lnTo>
                  <a:lnTo>
                    <a:pt x="889" y="1093"/>
                  </a:lnTo>
                  <a:lnTo>
                    <a:pt x="920" y="1114"/>
                  </a:lnTo>
                  <a:lnTo>
                    <a:pt x="950" y="1135"/>
                  </a:lnTo>
                  <a:lnTo>
                    <a:pt x="973" y="1156"/>
                  </a:lnTo>
                  <a:lnTo>
                    <a:pt x="971" y="1177"/>
                  </a:lnTo>
                  <a:lnTo>
                    <a:pt x="923" y="1198"/>
                  </a:lnTo>
                  <a:lnTo>
                    <a:pt x="909" y="1219"/>
                  </a:lnTo>
                  <a:lnTo>
                    <a:pt x="896" y="1240"/>
                  </a:lnTo>
                  <a:lnTo>
                    <a:pt x="880" y="1261"/>
                  </a:lnTo>
                  <a:lnTo>
                    <a:pt x="846" y="1282"/>
                  </a:lnTo>
                  <a:lnTo>
                    <a:pt x="826" y="1303"/>
                  </a:lnTo>
                  <a:lnTo>
                    <a:pt x="822" y="1324"/>
                  </a:lnTo>
                  <a:lnTo>
                    <a:pt x="842" y="1345"/>
                  </a:lnTo>
                  <a:lnTo>
                    <a:pt x="873" y="1366"/>
                  </a:lnTo>
                  <a:lnTo>
                    <a:pt x="899" y="1387"/>
                  </a:lnTo>
                  <a:lnTo>
                    <a:pt x="927" y="1409"/>
                  </a:lnTo>
                  <a:lnTo>
                    <a:pt x="930" y="1430"/>
                  </a:lnTo>
                  <a:lnTo>
                    <a:pt x="923" y="1451"/>
                  </a:lnTo>
                  <a:lnTo>
                    <a:pt x="903" y="1472"/>
                  </a:lnTo>
                  <a:lnTo>
                    <a:pt x="856" y="1493"/>
                  </a:lnTo>
                  <a:lnTo>
                    <a:pt x="839" y="1514"/>
                  </a:lnTo>
                  <a:lnTo>
                    <a:pt x="842" y="1535"/>
                  </a:lnTo>
                  <a:lnTo>
                    <a:pt x="846" y="1556"/>
                  </a:lnTo>
                  <a:lnTo>
                    <a:pt x="846" y="1577"/>
                  </a:lnTo>
                  <a:lnTo>
                    <a:pt x="842" y="1598"/>
                  </a:lnTo>
                  <a:lnTo>
                    <a:pt x="882" y="1619"/>
                  </a:lnTo>
                  <a:lnTo>
                    <a:pt x="913" y="1640"/>
                  </a:lnTo>
                  <a:lnTo>
                    <a:pt x="933" y="1661"/>
                  </a:lnTo>
                  <a:lnTo>
                    <a:pt x="940" y="1682"/>
                  </a:lnTo>
                  <a:lnTo>
                    <a:pt x="940" y="1703"/>
                  </a:lnTo>
                  <a:lnTo>
                    <a:pt x="940" y="1724"/>
                  </a:lnTo>
                  <a:lnTo>
                    <a:pt x="923" y="1745"/>
                  </a:lnTo>
                  <a:lnTo>
                    <a:pt x="906" y="1766"/>
                  </a:lnTo>
                  <a:lnTo>
                    <a:pt x="896" y="1787"/>
                  </a:lnTo>
                  <a:lnTo>
                    <a:pt x="896" y="1808"/>
                  </a:lnTo>
                  <a:lnTo>
                    <a:pt x="906" y="1829"/>
                  </a:lnTo>
                  <a:lnTo>
                    <a:pt x="909" y="1850"/>
                  </a:lnTo>
                  <a:lnTo>
                    <a:pt x="889" y="1871"/>
                  </a:lnTo>
                  <a:lnTo>
                    <a:pt x="786" y="1892"/>
                  </a:lnTo>
                  <a:lnTo>
                    <a:pt x="540" y="1913"/>
                  </a:lnTo>
                  <a:lnTo>
                    <a:pt x="306" y="1934"/>
                  </a:lnTo>
                  <a:lnTo>
                    <a:pt x="88" y="1955"/>
                  </a:lnTo>
                  <a:lnTo>
                    <a:pt x="47" y="1976"/>
                  </a:lnTo>
                  <a:lnTo>
                    <a:pt x="26" y="1997"/>
                  </a:lnTo>
                  <a:lnTo>
                    <a:pt x="54" y="2018"/>
                  </a:lnTo>
                  <a:lnTo>
                    <a:pt x="94" y="2039"/>
                  </a:lnTo>
                  <a:lnTo>
                    <a:pt x="108" y="2060"/>
                  </a:lnTo>
                  <a:lnTo>
                    <a:pt x="110" y="2081"/>
                  </a:lnTo>
                  <a:lnTo>
                    <a:pt x="98" y="2102"/>
                  </a:lnTo>
                  <a:lnTo>
                    <a:pt x="105" y="2123"/>
                  </a:lnTo>
                  <a:lnTo>
                    <a:pt x="105" y="2144"/>
                  </a:lnTo>
                  <a:lnTo>
                    <a:pt x="88" y="2165"/>
                  </a:lnTo>
                  <a:lnTo>
                    <a:pt x="57" y="2186"/>
                  </a:lnTo>
                  <a:lnTo>
                    <a:pt x="57" y="2207"/>
                  </a:lnTo>
                  <a:lnTo>
                    <a:pt x="57" y="2228"/>
                  </a:lnTo>
                  <a:lnTo>
                    <a:pt x="57" y="2249"/>
                  </a:lnTo>
                  <a:lnTo>
                    <a:pt x="47" y="2270"/>
                  </a:lnTo>
                  <a:lnTo>
                    <a:pt x="43" y="2291"/>
                  </a:lnTo>
                  <a:lnTo>
                    <a:pt x="47" y="2312"/>
                  </a:lnTo>
                  <a:lnTo>
                    <a:pt x="60" y="2334"/>
                  </a:lnTo>
                  <a:lnTo>
                    <a:pt x="84" y="2355"/>
                  </a:lnTo>
                  <a:lnTo>
                    <a:pt x="127" y="2376"/>
                  </a:lnTo>
                  <a:lnTo>
                    <a:pt x="165" y="2397"/>
                  </a:lnTo>
                  <a:lnTo>
                    <a:pt x="225" y="2418"/>
                  </a:lnTo>
                  <a:lnTo>
                    <a:pt x="302" y="2439"/>
                  </a:lnTo>
                  <a:lnTo>
                    <a:pt x="389" y="2460"/>
                  </a:lnTo>
                  <a:lnTo>
                    <a:pt x="484" y="2481"/>
                  </a:lnTo>
                  <a:lnTo>
                    <a:pt x="585" y="2502"/>
                  </a:lnTo>
                  <a:lnTo>
                    <a:pt x="638" y="2523"/>
                  </a:lnTo>
                  <a:lnTo>
                    <a:pt x="705" y="2544"/>
                  </a:lnTo>
                  <a:lnTo>
                    <a:pt x="759" y="2565"/>
                  </a:lnTo>
                  <a:lnTo>
                    <a:pt x="808" y="2586"/>
                  </a:lnTo>
                  <a:lnTo>
                    <a:pt x="839" y="2607"/>
                  </a:lnTo>
                  <a:lnTo>
                    <a:pt x="870" y="2628"/>
                  </a:lnTo>
                  <a:lnTo>
                    <a:pt x="870" y="2649"/>
                  </a:lnTo>
                  <a:lnTo>
                    <a:pt x="839" y="2670"/>
                  </a:lnTo>
                  <a:lnTo>
                    <a:pt x="832" y="2691"/>
                  </a:lnTo>
                  <a:lnTo>
                    <a:pt x="829" y="2712"/>
                  </a:lnTo>
                  <a:lnTo>
                    <a:pt x="842" y="2733"/>
                  </a:lnTo>
                  <a:lnTo>
                    <a:pt x="856" y="2754"/>
                  </a:lnTo>
                  <a:lnTo>
                    <a:pt x="887" y="2775"/>
                  </a:lnTo>
                  <a:lnTo>
                    <a:pt x="894" y="2796"/>
                  </a:lnTo>
                  <a:lnTo>
                    <a:pt x="866" y="2817"/>
                  </a:lnTo>
                  <a:lnTo>
                    <a:pt x="832" y="2838"/>
                  </a:lnTo>
                  <a:lnTo>
                    <a:pt x="832" y="2859"/>
                  </a:lnTo>
                  <a:lnTo>
                    <a:pt x="832" y="2880"/>
                  </a:lnTo>
                  <a:lnTo>
                    <a:pt x="846" y="2901"/>
                  </a:lnTo>
                  <a:lnTo>
                    <a:pt x="846" y="2922"/>
                  </a:lnTo>
                  <a:lnTo>
                    <a:pt x="815" y="2943"/>
                  </a:lnTo>
                  <a:lnTo>
                    <a:pt x="752" y="2964"/>
                  </a:lnTo>
                  <a:lnTo>
                    <a:pt x="671" y="2985"/>
                  </a:lnTo>
                  <a:lnTo>
                    <a:pt x="594" y="3006"/>
                  </a:lnTo>
                  <a:lnTo>
                    <a:pt x="254" y="3027"/>
                  </a:lnTo>
                  <a:lnTo>
                    <a:pt x="225" y="3048"/>
                  </a:lnTo>
                  <a:lnTo>
                    <a:pt x="205" y="3069"/>
                  </a:lnTo>
                  <a:lnTo>
                    <a:pt x="184" y="3090"/>
                  </a:lnTo>
                  <a:lnTo>
                    <a:pt x="148" y="3111"/>
                  </a:lnTo>
                  <a:lnTo>
                    <a:pt x="110" y="3132"/>
                  </a:lnTo>
                  <a:lnTo>
                    <a:pt x="88" y="3153"/>
                  </a:lnTo>
                  <a:lnTo>
                    <a:pt x="21" y="3174"/>
                  </a:lnTo>
                  <a:lnTo>
                    <a:pt x="0" y="3195"/>
                  </a:lnTo>
                  <a:lnTo>
                    <a:pt x="14" y="3216"/>
                  </a:lnTo>
                  <a:lnTo>
                    <a:pt x="50" y="3238"/>
                  </a:lnTo>
                  <a:lnTo>
                    <a:pt x="84" y="3259"/>
                  </a:lnTo>
                  <a:lnTo>
                    <a:pt x="131" y="3280"/>
                  </a:lnTo>
                  <a:lnTo>
                    <a:pt x="151" y="3301"/>
                  </a:lnTo>
                  <a:lnTo>
                    <a:pt x="182" y="3322"/>
                  </a:lnTo>
                  <a:lnTo>
                    <a:pt x="218" y="3343"/>
                  </a:lnTo>
                  <a:lnTo>
                    <a:pt x="242" y="3364"/>
                  </a:lnTo>
                  <a:lnTo>
                    <a:pt x="261" y="3385"/>
                  </a:lnTo>
                  <a:lnTo>
                    <a:pt x="261" y="3406"/>
                  </a:lnTo>
                  <a:lnTo>
                    <a:pt x="261" y="3427"/>
                  </a:lnTo>
                  <a:lnTo>
                    <a:pt x="275" y="3448"/>
                  </a:lnTo>
                  <a:lnTo>
                    <a:pt x="292" y="3469"/>
                  </a:lnTo>
                  <a:lnTo>
                    <a:pt x="295" y="3490"/>
                  </a:lnTo>
                  <a:lnTo>
                    <a:pt x="275" y="3511"/>
                  </a:lnTo>
                  <a:lnTo>
                    <a:pt x="252" y="3532"/>
                  </a:lnTo>
                  <a:lnTo>
                    <a:pt x="252" y="3553"/>
                  </a:lnTo>
                  <a:lnTo>
                    <a:pt x="268" y="3574"/>
                  </a:lnTo>
                  <a:lnTo>
                    <a:pt x="312" y="3595"/>
                  </a:lnTo>
                  <a:lnTo>
                    <a:pt x="343" y="3616"/>
                  </a:lnTo>
                  <a:lnTo>
                    <a:pt x="383" y="3637"/>
                  </a:lnTo>
                  <a:lnTo>
                    <a:pt x="400" y="3658"/>
                  </a:lnTo>
                  <a:lnTo>
                    <a:pt x="417" y="3679"/>
                  </a:lnTo>
                  <a:lnTo>
                    <a:pt x="359" y="3700"/>
                  </a:lnTo>
                  <a:lnTo>
                    <a:pt x="266" y="3721"/>
                  </a:lnTo>
                  <a:lnTo>
                    <a:pt x="218" y="3742"/>
                  </a:lnTo>
                  <a:lnTo>
                    <a:pt x="201" y="3763"/>
                  </a:lnTo>
                  <a:lnTo>
                    <a:pt x="235" y="3784"/>
                  </a:lnTo>
                  <a:lnTo>
                    <a:pt x="316" y="3805"/>
                  </a:lnTo>
                  <a:lnTo>
                    <a:pt x="396" y="3826"/>
                  </a:lnTo>
                  <a:lnTo>
                    <a:pt x="463" y="3847"/>
                  </a:lnTo>
                  <a:lnTo>
                    <a:pt x="530" y="3868"/>
                  </a:lnTo>
                  <a:lnTo>
                    <a:pt x="561" y="3889"/>
                  </a:lnTo>
                  <a:lnTo>
                    <a:pt x="544" y="3910"/>
                  </a:lnTo>
                  <a:lnTo>
                    <a:pt x="540" y="3931"/>
                  </a:lnTo>
                  <a:lnTo>
                    <a:pt x="540" y="3952"/>
                  </a:lnTo>
                  <a:lnTo>
                    <a:pt x="527" y="3973"/>
                  </a:lnTo>
                  <a:lnTo>
                    <a:pt x="489" y="3994"/>
                  </a:lnTo>
                  <a:lnTo>
                    <a:pt x="410" y="4015"/>
                  </a:lnTo>
                  <a:lnTo>
                    <a:pt x="376" y="4036"/>
                  </a:lnTo>
                  <a:lnTo>
                    <a:pt x="373" y="4057"/>
                  </a:lnTo>
                  <a:lnTo>
                    <a:pt x="362" y="4078"/>
                  </a:lnTo>
                  <a:lnTo>
                    <a:pt x="336" y="4099"/>
                  </a:lnTo>
                  <a:lnTo>
                    <a:pt x="295" y="4120"/>
                  </a:lnTo>
                  <a:lnTo>
                    <a:pt x="295" y="4142"/>
                  </a:lnTo>
                  <a:lnTo>
                    <a:pt x="319" y="4163"/>
                  </a:lnTo>
                  <a:lnTo>
                    <a:pt x="426" y="4184"/>
                  </a:lnTo>
                  <a:lnTo>
                    <a:pt x="573" y="4205"/>
                  </a:lnTo>
                  <a:lnTo>
                    <a:pt x="719" y="4226"/>
                  </a:lnTo>
                  <a:lnTo>
                    <a:pt x="866" y="4247"/>
                  </a:lnTo>
                  <a:lnTo>
                    <a:pt x="930" y="4268"/>
                  </a:lnTo>
                  <a:lnTo>
                    <a:pt x="1000" y="4289"/>
                  </a:lnTo>
                  <a:lnTo>
                    <a:pt x="1048" y="4310"/>
                  </a:lnTo>
                  <a:lnTo>
                    <a:pt x="1074" y="4331"/>
                  </a:lnTo>
                  <a:lnTo>
                    <a:pt x="1115" y="4352"/>
                  </a:lnTo>
                  <a:lnTo>
                    <a:pt x="1151" y="4373"/>
                  </a:lnTo>
                  <a:lnTo>
                    <a:pt x="1172" y="4394"/>
                  </a:lnTo>
                  <a:lnTo>
                    <a:pt x="1122" y="4415"/>
                  </a:lnTo>
                  <a:lnTo>
                    <a:pt x="899" y="4436"/>
                  </a:lnTo>
                  <a:lnTo>
                    <a:pt x="671" y="4457"/>
                  </a:lnTo>
                  <a:lnTo>
                    <a:pt x="527" y="4478"/>
                  </a:lnTo>
                  <a:lnTo>
                    <a:pt x="410" y="4499"/>
                  </a:lnTo>
                  <a:lnTo>
                    <a:pt x="393" y="4520"/>
                  </a:lnTo>
                  <a:lnTo>
                    <a:pt x="417" y="4541"/>
                  </a:lnTo>
                  <a:lnTo>
                    <a:pt x="446" y="4562"/>
                  </a:lnTo>
                  <a:lnTo>
                    <a:pt x="460" y="4583"/>
                  </a:lnTo>
                  <a:lnTo>
                    <a:pt x="460" y="4604"/>
                  </a:lnTo>
                  <a:lnTo>
                    <a:pt x="460" y="4625"/>
                  </a:lnTo>
                  <a:lnTo>
                    <a:pt x="463" y="4646"/>
                  </a:lnTo>
                  <a:lnTo>
                    <a:pt x="520" y="4667"/>
                  </a:lnTo>
                  <a:lnTo>
                    <a:pt x="530" y="4688"/>
                  </a:lnTo>
                  <a:lnTo>
                    <a:pt x="513" y="4709"/>
                  </a:lnTo>
                  <a:lnTo>
                    <a:pt x="477" y="4730"/>
                  </a:lnTo>
                  <a:lnTo>
                    <a:pt x="450" y="4751"/>
                  </a:lnTo>
                  <a:lnTo>
                    <a:pt x="396" y="4772"/>
                  </a:lnTo>
                  <a:lnTo>
                    <a:pt x="373" y="4793"/>
                  </a:lnTo>
                  <a:lnTo>
                    <a:pt x="355" y="4814"/>
                  </a:lnTo>
                  <a:lnTo>
                    <a:pt x="352" y="4835"/>
                  </a:lnTo>
                  <a:lnTo>
                    <a:pt x="343" y="4856"/>
                  </a:lnTo>
                  <a:lnTo>
                    <a:pt x="336" y="4877"/>
                  </a:lnTo>
                  <a:lnTo>
                    <a:pt x="329" y="4898"/>
                  </a:lnTo>
                  <a:lnTo>
                    <a:pt x="329" y="4919"/>
                  </a:lnTo>
                  <a:lnTo>
                    <a:pt x="379" y="4940"/>
                  </a:lnTo>
                  <a:lnTo>
                    <a:pt x="456" y="4961"/>
                  </a:lnTo>
                  <a:lnTo>
                    <a:pt x="601" y="4982"/>
                  </a:lnTo>
                  <a:lnTo>
                    <a:pt x="745" y="5003"/>
                  </a:lnTo>
                  <a:lnTo>
                    <a:pt x="849" y="5024"/>
                  </a:lnTo>
                  <a:lnTo>
                    <a:pt x="889" y="5045"/>
                  </a:lnTo>
                  <a:lnTo>
                    <a:pt x="875" y="5067"/>
                  </a:lnTo>
                  <a:lnTo>
                    <a:pt x="863" y="5088"/>
                  </a:lnTo>
                  <a:lnTo>
                    <a:pt x="853" y="5109"/>
                  </a:lnTo>
                  <a:lnTo>
                    <a:pt x="899" y="5130"/>
                  </a:lnTo>
                  <a:lnTo>
                    <a:pt x="923" y="5151"/>
                  </a:lnTo>
                  <a:lnTo>
                    <a:pt x="937" y="5172"/>
                  </a:lnTo>
                  <a:lnTo>
                    <a:pt x="937" y="5193"/>
                  </a:lnTo>
                  <a:lnTo>
                    <a:pt x="933" y="5214"/>
                  </a:lnTo>
                  <a:lnTo>
                    <a:pt x="920" y="5235"/>
                  </a:lnTo>
                  <a:lnTo>
                    <a:pt x="916" y="5256"/>
                  </a:lnTo>
                  <a:lnTo>
                    <a:pt x="913" y="5277"/>
                  </a:lnTo>
                  <a:lnTo>
                    <a:pt x="870" y="5298"/>
                  </a:lnTo>
                  <a:lnTo>
                    <a:pt x="849" y="5319"/>
                  </a:lnTo>
                  <a:lnTo>
                    <a:pt x="842" y="5340"/>
                  </a:lnTo>
                  <a:lnTo>
                    <a:pt x="832" y="5361"/>
                  </a:lnTo>
                  <a:lnTo>
                    <a:pt x="815" y="5382"/>
                  </a:lnTo>
                  <a:lnTo>
                    <a:pt x="815" y="5403"/>
                  </a:lnTo>
                  <a:lnTo>
                    <a:pt x="815" y="5424"/>
                  </a:lnTo>
                  <a:lnTo>
                    <a:pt x="822" y="5445"/>
                  </a:lnTo>
                  <a:lnTo>
                    <a:pt x="820" y="5466"/>
                  </a:lnTo>
                  <a:lnTo>
                    <a:pt x="803" y="5487"/>
                  </a:lnTo>
                  <a:lnTo>
                    <a:pt x="799" y="5508"/>
                  </a:lnTo>
                  <a:lnTo>
                    <a:pt x="789" y="5529"/>
                  </a:lnTo>
                  <a:lnTo>
                    <a:pt x="775" y="5550"/>
                  </a:lnTo>
                  <a:lnTo>
                    <a:pt x="762" y="5571"/>
                  </a:lnTo>
                  <a:lnTo>
                    <a:pt x="748" y="5592"/>
                  </a:lnTo>
                  <a:lnTo>
                    <a:pt x="745" y="5613"/>
                  </a:lnTo>
                  <a:lnTo>
                    <a:pt x="755" y="5634"/>
                  </a:lnTo>
                  <a:lnTo>
                    <a:pt x="759" y="5655"/>
                  </a:lnTo>
                  <a:lnTo>
                    <a:pt x="738" y="5676"/>
                  </a:lnTo>
                  <a:lnTo>
                    <a:pt x="719" y="5697"/>
                  </a:lnTo>
                  <a:lnTo>
                    <a:pt x="705" y="5718"/>
                  </a:lnTo>
                  <a:lnTo>
                    <a:pt x="702" y="5739"/>
                  </a:lnTo>
                  <a:lnTo>
                    <a:pt x="705" y="5760"/>
                  </a:lnTo>
                  <a:lnTo>
                    <a:pt x="729" y="5781"/>
                  </a:lnTo>
                  <a:lnTo>
                    <a:pt x="765" y="5802"/>
                  </a:lnTo>
                  <a:lnTo>
                    <a:pt x="786" y="5823"/>
                  </a:lnTo>
                  <a:lnTo>
                    <a:pt x="820" y="5844"/>
                  </a:lnTo>
                  <a:lnTo>
                    <a:pt x="826" y="5865"/>
                  </a:lnTo>
                  <a:lnTo>
                    <a:pt x="729" y="5886"/>
                  </a:lnTo>
                  <a:lnTo>
                    <a:pt x="647" y="5907"/>
                  </a:lnTo>
                  <a:lnTo>
                    <a:pt x="628" y="5928"/>
                  </a:lnTo>
                  <a:lnTo>
                    <a:pt x="621" y="5949"/>
                  </a:lnTo>
                  <a:lnTo>
                    <a:pt x="654" y="5971"/>
                  </a:lnTo>
                  <a:lnTo>
                    <a:pt x="688" y="5992"/>
                  </a:lnTo>
                  <a:lnTo>
                    <a:pt x="698" y="6013"/>
                  </a:lnTo>
                  <a:lnTo>
                    <a:pt x="708" y="6034"/>
                  </a:lnTo>
                  <a:lnTo>
                    <a:pt x="715" y="6055"/>
                  </a:lnTo>
                </a:path>
              </a:pathLst>
            </a:custGeom>
            <a:noFill/>
            <a:ln w="3816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Rectangle 133"/>
            <p:cNvSpPr/>
            <p:nvPr/>
          </p:nvSpPr>
          <p:spPr>
            <a:xfrm>
              <a:off x="3713040" y="18572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00</a:t>
              </a:r>
              <a:endParaRPr b="0" lang="en-US" sz="1400" spc="-1" strike="noStrike">
                <a:solidFill>
                  <a:srgbClr val="000000"/>
                </a:solidFill>
                <a:latin typeface="Times New Roman"/>
              </a:endParaRPr>
            </a:p>
          </p:txBody>
        </p:sp>
        <p:sp>
          <p:nvSpPr>
            <p:cNvPr id="319" name="Rectangle 134"/>
            <p:cNvSpPr/>
            <p:nvPr/>
          </p:nvSpPr>
          <p:spPr>
            <a:xfrm>
              <a:off x="3713040" y="5181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00</a:t>
              </a:r>
              <a:endParaRPr b="0" lang="en-US" sz="1400" spc="-1" strike="noStrike">
                <a:solidFill>
                  <a:srgbClr val="000000"/>
                </a:solidFill>
                <a:latin typeface="Times New Roman"/>
              </a:endParaRPr>
            </a:p>
          </p:txBody>
        </p:sp>
        <p:sp>
          <p:nvSpPr>
            <p:cNvPr id="320" name="Freeform 135"/>
            <p:cNvSpPr/>
            <p:nvPr/>
          </p:nvSpPr>
          <p:spPr>
            <a:xfrm>
              <a:off x="6127920" y="1836720"/>
              <a:ext cx="171360" cy="4805280"/>
            </a:xfrm>
            <a:custGeom>
              <a:avLst/>
              <a:gdLst>
                <a:gd name="textAreaLeft" fmla="*/ 0 w 171360"/>
                <a:gd name="textAreaRight" fmla="*/ 171720 w 171360"/>
                <a:gd name="textAreaTop" fmla="*/ 0 h 4805280"/>
                <a:gd name="textAreaBottom" fmla="*/ 4805640 h 4805280"/>
              </a:gdLst>
              <a:ahLst/>
              <a:rect l="textAreaLeft" t="textAreaTop" r="textAreaRight" b="textAreaBottom"/>
              <a:pathLst>
                <a:path w="215" h="6055">
                  <a:moveTo>
                    <a:pt x="91" y="0"/>
                  </a:moveTo>
                  <a:lnTo>
                    <a:pt x="98" y="21"/>
                  </a:lnTo>
                  <a:lnTo>
                    <a:pt x="107" y="42"/>
                  </a:lnTo>
                  <a:lnTo>
                    <a:pt x="114" y="63"/>
                  </a:lnTo>
                  <a:lnTo>
                    <a:pt x="105" y="84"/>
                  </a:lnTo>
                  <a:lnTo>
                    <a:pt x="98" y="105"/>
                  </a:lnTo>
                  <a:lnTo>
                    <a:pt x="98" y="126"/>
                  </a:lnTo>
                  <a:lnTo>
                    <a:pt x="98" y="147"/>
                  </a:lnTo>
                  <a:lnTo>
                    <a:pt x="91" y="168"/>
                  </a:lnTo>
                  <a:lnTo>
                    <a:pt x="84" y="189"/>
                  </a:lnTo>
                  <a:lnTo>
                    <a:pt x="84" y="210"/>
                  </a:lnTo>
                  <a:lnTo>
                    <a:pt x="84" y="231"/>
                  </a:lnTo>
                  <a:lnTo>
                    <a:pt x="93" y="252"/>
                  </a:lnTo>
                  <a:lnTo>
                    <a:pt x="112" y="273"/>
                  </a:lnTo>
                  <a:lnTo>
                    <a:pt x="112" y="294"/>
                  </a:lnTo>
                  <a:lnTo>
                    <a:pt x="107" y="315"/>
                  </a:lnTo>
                  <a:lnTo>
                    <a:pt x="74" y="336"/>
                  </a:lnTo>
                  <a:lnTo>
                    <a:pt x="57" y="357"/>
                  </a:lnTo>
                  <a:lnTo>
                    <a:pt x="54" y="378"/>
                  </a:lnTo>
                  <a:lnTo>
                    <a:pt x="91" y="399"/>
                  </a:lnTo>
                  <a:lnTo>
                    <a:pt x="112" y="420"/>
                  </a:lnTo>
                  <a:lnTo>
                    <a:pt x="127" y="441"/>
                  </a:lnTo>
                  <a:lnTo>
                    <a:pt x="107" y="462"/>
                  </a:lnTo>
                  <a:lnTo>
                    <a:pt x="98" y="483"/>
                  </a:lnTo>
                  <a:lnTo>
                    <a:pt x="100" y="505"/>
                  </a:lnTo>
                  <a:lnTo>
                    <a:pt x="100" y="526"/>
                  </a:lnTo>
                  <a:lnTo>
                    <a:pt x="98" y="547"/>
                  </a:lnTo>
                  <a:lnTo>
                    <a:pt x="93" y="568"/>
                  </a:lnTo>
                  <a:lnTo>
                    <a:pt x="100" y="589"/>
                  </a:lnTo>
                  <a:lnTo>
                    <a:pt x="112" y="610"/>
                  </a:lnTo>
                  <a:lnTo>
                    <a:pt x="117" y="631"/>
                  </a:lnTo>
                  <a:lnTo>
                    <a:pt x="121" y="652"/>
                  </a:lnTo>
                  <a:lnTo>
                    <a:pt x="98" y="673"/>
                  </a:lnTo>
                  <a:lnTo>
                    <a:pt x="81" y="694"/>
                  </a:lnTo>
                  <a:lnTo>
                    <a:pt x="64" y="715"/>
                  </a:lnTo>
                  <a:lnTo>
                    <a:pt x="37" y="736"/>
                  </a:lnTo>
                  <a:lnTo>
                    <a:pt x="37" y="757"/>
                  </a:lnTo>
                  <a:lnTo>
                    <a:pt x="50" y="778"/>
                  </a:lnTo>
                  <a:lnTo>
                    <a:pt x="77" y="799"/>
                  </a:lnTo>
                  <a:lnTo>
                    <a:pt x="84" y="820"/>
                  </a:lnTo>
                  <a:lnTo>
                    <a:pt x="88" y="841"/>
                  </a:lnTo>
                  <a:lnTo>
                    <a:pt x="88" y="862"/>
                  </a:lnTo>
                  <a:lnTo>
                    <a:pt x="77" y="883"/>
                  </a:lnTo>
                  <a:lnTo>
                    <a:pt x="77" y="904"/>
                  </a:lnTo>
                  <a:lnTo>
                    <a:pt x="67" y="925"/>
                  </a:lnTo>
                  <a:lnTo>
                    <a:pt x="77" y="946"/>
                  </a:lnTo>
                  <a:lnTo>
                    <a:pt x="84" y="967"/>
                  </a:lnTo>
                  <a:lnTo>
                    <a:pt x="84" y="988"/>
                  </a:lnTo>
                  <a:lnTo>
                    <a:pt x="74" y="1009"/>
                  </a:lnTo>
                  <a:lnTo>
                    <a:pt x="64" y="1030"/>
                  </a:lnTo>
                  <a:lnTo>
                    <a:pt x="57" y="1051"/>
                  </a:lnTo>
                  <a:lnTo>
                    <a:pt x="47" y="1072"/>
                  </a:lnTo>
                  <a:lnTo>
                    <a:pt x="43" y="1093"/>
                  </a:lnTo>
                  <a:lnTo>
                    <a:pt x="43" y="1114"/>
                  </a:lnTo>
                  <a:lnTo>
                    <a:pt x="43" y="1135"/>
                  </a:lnTo>
                  <a:lnTo>
                    <a:pt x="43" y="1156"/>
                  </a:lnTo>
                  <a:lnTo>
                    <a:pt x="47" y="1177"/>
                  </a:lnTo>
                  <a:lnTo>
                    <a:pt x="57" y="1198"/>
                  </a:lnTo>
                  <a:lnTo>
                    <a:pt x="64" y="1219"/>
                  </a:lnTo>
                  <a:lnTo>
                    <a:pt x="50" y="1240"/>
                  </a:lnTo>
                  <a:lnTo>
                    <a:pt x="30" y="1261"/>
                  </a:lnTo>
                  <a:lnTo>
                    <a:pt x="16" y="1282"/>
                  </a:lnTo>
                  <a:lnTo>
                    <a:pt x="7" y="1303"/>
                  </a:lnTo>
                  <a:lnTo>
                    <a:pt x="23" y="1324"/>
                  </a:lnTo>
                  <a:lnTo>
                    <a:pt x="23" y="1345"/>
                  </a:lnTo>
                  <a:lnTo>
                    <a:pt x="7" y="1366"/>
                  </a:lnTo>
                  <a:lnTo>
                    <a:pt x="0" y="1387"/>
                  </a:lnTo>
                  <a:lnTo>
                    <a:pt x="7" y="1409"/>
                  </a:lnTo>
                  <a:lnTo>
                    <a:pt x="23" y="1430"/>
                  </a:lnTo>
                  <a:lnTo>
                    <a:pt x="33" y="1451"/>
                  </a:lnTo>
                  <a:lnTo>
                    <a:pt x="37" y="1472"/>
                  </a:lnTo>
                  <a:lnTo>
                    <a:pt x="30" y="1493"/>
                  </a:lnTo>
                  <a:lnTo>
                    <a:pt x="21" y="1514"/>
                  </a:lnTo>
                  <a:lnTo>
                    <a:pt x="11" y="1535"/>
                  </a:lnTo>
                  <a:lnTo>
                    <a:pt x="11" y="1556"/>
                  </a:lnTo>
                  <a:lnTo>
                    <a:pt x="14" y="1577"/>
                  </a:lnTo>
                  <a:lnTo>
                    <a:pt x="30" y="1598"/>
                  </a:lnTo>
                  <a:lnTo>
                    <a:pt x="43" y="1619"/>
                  </a:lnTo>
                  <a:lnTo>
                    <a:pt x="77" y="1640"/>
                  </a:lnTo>
                  <a:lnTo>
                    <a:pt x="84" y="1661"/>
                  </a:lnTo>
                  <a:lnTo>
                    <a:pt x="84" y="1682"/>
                  </a:lnTo>
                  <a:lnTo>
                    <a:pt x="67" y="1703"/>
                  </a:lnTo>
                  <a:lnTo>
                    <a:pt x="64" y="1724"/>
                  </a:lnTo>
                  <a:lnTo>
                    <a:pt x="57" y="1745"/>
                  </a:lnTo>
                  <a:lnTo>
                    <a:pt x="50" y="1766"/>
                  </a:lnTo>
                  <a:lnTo>
                    <a:pt x="54" y="1787"/>
                  </a:lnTo>
                  <a:lnTo>
                    <a:pt x="67" y="1808"/>
                  </a:lnTo>
                  <a:lnTo>
                    <a:pt x="91" y="1829"/>
                  </a:lnTo>
                  <a:lnTo>
                    <a:pt x="114" y="1850"/>
                  </a:lnTo>
                  <a:lnTo>
                    <a:pt x="138" y="1871"/>
                  </a:lnTo>
                  <a:lnTo>
                    <a:pt x="155" y="1892"/>
                  </a:lnTo>
                  <a:lnTo>
                    <a:pt x="172" y="1913"/>
                  </a:lnTo>
                  <a:lnTo>
                    <a:pt x="182" y="1934"/>
                  </a:lnTo>
                  <a:lnTo>
                    <a:pt x="191" y="1955"/>
                  </a:lnTo>
                  <a:lnTo>
                    <a:pt x="189" y="1976"/>
                  </a:lnTo>
                  <a:lnTo>
                    <a:pt x="161" y="1997"/>
                  </a:lnTo>
                  <a:lnTo>
                    <a:pt x="138" y="2018"/>
                  </a:lnTo>
                  <a:lnTo>
                    <a:pt x="114" y="2039"/>
                  </a:lnTo>
                  <a:lnTo>
                    <a:pt x="131" y="2060"/>
                  </a:lnTo>
                  <a:lnTo>
                    <a:pt x="148" y="2081"/>
                  </a:lnTo>
                  <a:lnTo>
                    <a:pt x="161" y="2102"/>
                  </a:lnTo>
                  <a:lnTo>
                    <a:pt x="168" y="2123"/>
                  </a:lnTo>
                  <a:lnTo>
                    <a:pt x="168" y="2144"/>
                  </a:lnTo>
                  <a:lnTo>
                    <a:pt x="155" y="2165"/>
                  </a:lnTo>
                  <a:lnTo>
                    <a:pt x="141" y="2186"/>
                  </a:lnTo>
                  <a:lnTo>
                    <a:pt x="134" y="2207"/>
                  </a:lnTo>
                  <a:lnTo>
                    <a:pt x="127" y="2228"/>
                  </a:lnTo>
                  <a:lnTo>
                    <a:pt x="131" y="2249"/>
                  </a:lnTo>
                  <a:lnTo>
                    <a:pt x="184" y="2270"/>
                  </a:lnTo>
                  <a:lnTo>
                    <a:pt x="211" y="2291"/>
                  </a:lnTo>
                  <a:lnTo>
                    <a:pt x="211" y="2312"/>
                  </a:lnTo>
                  <a:lnTo>
                    <a:pt x="211" y="2334"/>
                  </a:lnTo>
                  <a:lnTo>
                    <a:pt x="208" y="2355"/>
                  </a:lnTo>
                  <a:lnTo>
                    <a:pt x="205" y="2376"/>
                  </a:lnTo>
                  <a:lnTo>
                    <a:pt x="191" y="2397"/>
                  </a:lnTo>
                  <a:lnTo>
                    <a:pt x="158" y="2418"/>
                  </a:lnTo>
                  <a:lnTo>
                    <a:pt x="107" y="2439"/>
                  </a:lnTo>
                  <a:lnTo>
                    <a:pt x="64" y="2460"/>
                  </a:lnTo>
                  <a:lnTo>
                    <a:pt x="37" y="2481"/>
                  </a:lnTo>
                  <a:lnTo>
                    <a:pt x="37" y="2502"/>
                  </a:lnTo>
                  <a:lnTo>
                    <a:pt x="54" y="2523"/>
                  </a:lnTo>
                  <a:lnTo>
                    <a:pt x="74" y="2544"/>
                  </a:lnTo>
                  <a:lnTo>
                    <a:pt x="81" y="2565"/>
                  </a:lnTo>
                  <a:lnTo>
                    <a:pt x="88" y="2586"/>
                  </a:lnTo>
                  <a:lnTo>
                    <a:pt x="88" y="2607"/>
                  </a:lnTo>
                  <a:lnTo>
                    <a:pt x="88" y="2628"/>
                  </a:lnTo>
                  <a:lnTo>
                    <a:pt x="88" y="2649"/>
                  </a:lnTo>
                  <a:lnTo>
                    <a:pt x="98" y="2670"/>
                  </a:lnTo>
                  <a:lnTo>
                    <a:pt x="98" y="2691"/>
                  </a:lnTo>
                  <a:lnTo>
                    <a:pt x="98" y="2712"/>
                  </a:lnTo>
                  <a:lnTo>
                    <a:pt x="98" y="2733"/>
                  </a:lnTo>
                  <a:lnTo>
                    <a:pt x="105" y="2754"/>
                  </a:lnTo>
                  <a:lnTo>
                    <a:pt x="105" y="2775"/>
                  </a:lnTo>
                  <a:lnTo>
                    <a:pt x="100" y="2796"/>
                  </a:lnTo>
                  <a:lnTo>
                    <a:pt x="98" y="2817"/>
                  </a:lnTo>
                  <a:lnTo>
                    <a:pt x="77" y="2838"/>
                  </a:lnTo>
                  <a:lnTo>
                    <a:pt x="50" y="2859"/>
                  </a:lnTo>
                  <a:lnTo>
                    <a:pt x="37" y="2880"/>
                  </a:lnTo>
                  <a:lnTo>
                    <a:pt x="37" y="2901"/>
                  </a:lnTo>
                  <a:lnTo>
                    <a:pt x="54" y="2922"/>
                  </a:lnTo>
                  <a:lnTo>
                    <a:pt x="64" y="2943"/>
                  </a:lnTo>
                  <a:lnTo>
                    <a:pt x="91" y="2964"/>
                  </a:lnTo>
                  <a:lnTo>
                    <a:pt x="114" y="2985"/>
                  </a:lnTo>
                  <a:lnTo>
                    <a:pt x="138" y="3006"/>
                  </a:lnTo>
                  <a:lnTo>
                    <a:pt x="148" y="3027"/>
                  </a:lnTo>
                  <a:lnTo>
                    <a:pt x="131" y="3048"/>
                  </a:lnTo>
                  <a:lnTo>
                    <a:pt x="127" y="3069"/>
                  </a:lnTo>
                  <a:lnTo>
                    <a:pt x="127" y="3090"/>
                  </a:lnTo>
                  <a:lnTo>
                    <a:pt x="127" y="3111"/>
                  </a:lnTo>
                  <a:lnTo>
                    <a:pt x="124" y="3132"/>
                  </a:lnTo>
                  <a:lnTo>
                    <a:pt x="124" y="3153"/>
                  </a:lnTo>
                  <a:lnTo>
                    <a:pt x="112" y="3174"/>
                  </a:lnTo>
                  <a:lnTo>
                    <a:pt x="91" y="3195"/>
                  </a:lnTo>
                  <a:lnTo>
                    <a:pt x="54" y="3216"/>
                  </a:lnTo>
                  <a:lnTo>
                    <a:pt x="33" y="3238"/>
                  </a:lnTo>
                  <a:lnTo>
                    <a:pt x="43" y="3259"/>
                  </a:lnTo>
                  <a:lnTo>
                    <a:pt x="64" y="3280"/>
                  </a:lnTo>
                  <a:lnTo>
                    <a:pt x="98" y="3301"/>
                  </a:lnTo>
                  <a:lnTo>
                    <a:pt x="98" y="3322"/>
                  </a:lnTo>
                  <a:lnTo>
                    <a:pt x="98" y="3343"/>
                  </a:lnTo>
                  <a:lnTo>
                    <a:pt x="84" y="3364"/>
                  </a:lnTo>
                  <a:lnTo>
                    <a:pt x="84" y="3385"/>
                  </a:lnTo>
                  <a:lnTo>
                    <a:pt x="84" y="3406"/>
                  </a:lnTo>
                  <a:lnTo>
                    <a:pt x="100" y="3427"/>
                  </a:lnTo>
                  <a:lnTo>
                    <a:pt x="138" y="3448"/>
                  </a:lnTo>
                  <a:lnTo>
                    <a:pt x="151" y="3469"/>
                  </a:lnTo>
                  <a:lnTo>
                    <a:pt x="165" y="3490"/>
                  </a:lnTo>
                  <a:lnTo>
                    <a:pt x="151" y="3511"/>
                  </a:lnTo>
                  <a:lnTo>
                    <a:pt x="138" y="3532"/>
                  </a:lnTo>
                  <a:lnTo>
                    <a:pt x="81" y="3553"/>
                  </a:lnTo>
                  <a:lnTo>
                    <a:pt x="67" y="3574"/>
                  </a:lnTo>
                  <a:lnTo>
                    <a:pt x="54" y="3595"/>
                  </a:lnTo>
                  <a:lnTo>
                    <a:pt x="74" y="3616"/>
                  </a:lnTo>
                  <a:lnTo>
                    <a:pt x="105" y="3637"/>
                  </a:lnTo>
                  <a:lnTo>
                    <a:pt x="114" y="3658"/>
                  </a:lnTo>
                  <a:lnTo>
                    <a:pt x="131" y="3679"/>
                  </a:lnTo>
                  <a:lnTo>
                    <a:pt x="155" y="3700"/>
                  </a:lnTo>
                  <a:lnTo>
                    <a:pt x="172" y="3721"/>
                  </a:lnTo>
                  <a:lnTo>
                    <a:pt x="168" y="3742"/>
                  </a:lnTo>
                  <a:lnTo>
                    <a:pt x="168" y="3763"/>
                  </a:lnTo>
                  <a:lnTo>
                    <a:pt x="151" y="3784"/>
                  </a:lnTo>
                  <a:lnTo>
                    <a:pt x="138" y="3805"/>
                  </a:lnTo>
                  <a:lnTo>
                    <a:pt x="121" y="3826"/>
                  </a:lnTo>
                  <a:lnTo>
                    <a:pt x="105" y="3847"/>
                  </a:lnTo>
                  <a:lnTo>
                    <a:pt x="81" y="3868"/>
                  </a:lnTo>
                  <a:lnTo>
                    <a:pt x="33" y="3889"/>
                  </a:lnTo>
                  <a:lnTo>
                    <a:pt x="33" y="3910"/>
                  </a:lnTo>
                  <a:lnTo>
                    <a:pt x="33" y="3931"/>
                  </a:lnTo>
                  <a:lnTo>
                    <a:pt x="33" y="3952"/>
                  </a:lnTo>
                  <a:lnTo>
                    <a:pt x="57" y="3973"/>
                  </a:lnTo>
                  <a:lnTo>
                    <a:pt x="88" y="3994"/>
                  </a:lnTo>
                  <a:lnTo>
                    <a:pt x="93" y="4015"/>
                  </a:lnTo>
                  <a:lnTo>
                    <a:pt x="93" y="4036"/>
                  </a:lnTo>
                  <a:lnTo>
                    <a:pt x="93" y="4057"/>
                  </a:lnTo>
                  <a:lnTo>
                    <a:pt x="93" y="4078"/>
                  </a:lnTo>
                  <a:lnTo>
                    <a:pt x="117" y="4099"/>
                  </a:lnTo>
                  <a:lnTo>
                    <a:pt x="138" y="4120"/>
                  </a:lnTo>
                  <a:lnTo>
                    <a:pt x="161" y="4142"/>
                  </a:lnTo>
                  <a:lnTo>
                    <a:pt x="175" y="4163"/>
                  </a:lnTo>
                  <a:lnTo>
                    <a:pt x="182" y="4184"/>
                  </a:lnTo>
                  <a:lnTo>
                    <a:pt x="117" y="4205"/>
                  </a:lnTo>
                  <a:lnTo>
                    <a:pt x="43" y="4226"/>
                  </a:lnTo>
                  <a:lnTo>
                    <a:pt x="16" y="4247"/>
                  </a:lnTo>
                  <a:lnTo>
                    <a:pt x="14" y="4268"/>
                  </a:lnTo>
                  <a:lnTo>
                    <a:pt x="23" y="4289"/>
                  </a:lnTo>
                  <a:lnTo>
                    <a:pt x="50" y="4310"/>
                  </a:lnTo>
                  <a:lnTo>
                    <a:pt x="60" y="4331"/>
                  </a:lnTo>
                  <a:lnTo>
                    <a:pt x="57" y="4352"/>
                  </a:lnTo>
                  <a:lnTo>
                    <a:pt x="23" y="4373"/>
                  </a:lnTo>
                  <a:lnTo>
                    <a:pt x="11" y="4394"/>
                  </a:lnTo>
                  <a:lnTo>
                    <a:pt x="21" y="4415"/>
                  </a:lnTo>
                  <a:lnTo>
                    <a:pt x="47" y="4436"/>
                  </a:lnTo>
                  <a:lnTo>
                    <a:pt x="100" y="4457"/>
                  </a:lnTo>
                  <a:lnTo>
                    <a:pt x="121" y="4478"/>
                  </a:lnTo>
                  <a:lnTo>
                    <a:pt x="112" y="4499"/>
                  </a:lnTo>
                  <a:lnTo>
                    <a:pt x="107" y="4520"/>
                  </a:lnTo>
                  <a:lnTo>
                    <a:pt x="117" y="4541"/>
                  </a:lnTo>
                  <a:lnTo>
                    <a:pt x="141" y="4562"/>
                  </a:lnTo>
                  <a:lnTo>
                    <a:pt x="165" y="4583"/>
                  </a:lnTo>
                  <a:lnTo>
                    <a:pt x="189" y="4604"/>
                  </a:lnTo>
                  <a:lnTo>
                    <a:pt x="211" y="4625"/>
                  </a:lnTo>
                  <a:lnTo>
                    <a:pt x="211" y="4646"/>
                  </a:lnTo>
                  <a:lnTo>
                    <a:pt x="215" y="4667"/>
                  </a:lnTo>
                  <a:lnTo>
                    <a:pt x="211" y="4688"/>
                  </a:lnTo>
                  <a:lnTo>
                    <a:pt x="208" y="4709"/>
                  </a:lnTo>
                  <a:lnTo>
                    <a:pt x="205" y="4730"/>
                  </a:lnTo>
                  <a:lnTo>
                    <a:pt x="191" y="4751"/>
                  </a:lnTo>
                  <a:lnTo>
                    <a:pt x="175" y="4772"/>
                  </a:lnTo>
                  <a:lnTo>
                    <a:pt x="145" y="4793"/>
                  </a:lnTo>
                  <a:lnTo>
                    <a:pt x="117" y="4814"/>
                  </a:lnTo>
                  <a:lnTo>
                    <a:pt x="112" y="4835"/>
                  </a:lnTo>
                  <a:lnTo>
                    <a:pt x="107" y="4856"/>
                  </a:lnTo>
                  <a:lnTo>
                    <a:pt x="100" y="4877"/>
                  </a:lnTo>
                  <a:lnTo>
                    <a:pt x="88" y="4898"/>
                  </a:lnTo>
                  <a:lnTo>
                    <a:pt x="81" y="4919"/>
                  </a:lnTo>
                  <a:lnTo>
                    <a:pt x="77" y="4940"/>
                  </a:lnTo>
                  <a:lnTo>
                    <a:pt x="67" y="4961"/>
                  </a:lnTo>
                  <a:lnTo>
                    <a:pt x="47" y="4982"/>
                  </a:lnTo>
                  <a:lnTo>
                    <a:pt x="50" y="5003"/>
                  </a:lnTo>
                  <a:lnTo>
                    <a:pt x="60" y="5024"/>
                  </a:lnTo>
                  <a:lnTo>
                    <a:pt x="64" y="5045"/>
                  </a:lnTo>
                  <a:lnTo>
                    <a:pt x="43" y="5067"/>
                  </a:lnTo>
                  <a:lnTo>
                    <a:pt x="33" y="5088"/>
                  </a:lnTo>
                  <a:lnTo>
                    <a:pt x="23" y="5109"/>
                  </a:lnTo>
                  <a:lnTo>
                    <a:pt x="21" y="5130"/>
                  </a:lnTo>
                  <a:lnTo>
                    <a:pt x="37" y="5151"/>
                  </a:lnTo>
                  <a:lnTo>
                    <a:pt x="50" y="5172"/>
                  </a:lnTo>
                  <a:lnTo>
                    <a:pt x="64" y="5193"/>
                  </a:lnTo>
                  <a:lnTo>
                    <a:pt x="74" y="5214"/>
                  </a:lnTo>
                  <a:lnTo>
                    <a:pt x="81" y="5235"/>
                  </a:lnTo>
                  <a:lnTo>
                    <a:pt x="88" y="5256"/>
                  </a:lnTo>
                  <a:lnTo>
                    <a:pt x="98" y="5277"/>
                  </a:lnTo>
                  <a:lnTo>
                    <a:pt x="88" y="5298"/>
                  </a:lnTo>
                  <a:lnTo>
                    <a:pt x="71" y="5319"/>
                  </a:lnTo>
                  <a:lnTo>
                    <a:pt x="50" y="5340"/>
                  </a:lnTo>
                  <a:lnTo>
                    <a:pt x="37" y="5361"/>
                  </a:lnTo>
                  <a:lnTo>
                    <a:pt x="30" y="5382"/>
                  </a:lnTo>
                  <a:lnTo>
                    <a:pt x="33" y="5403"/>
                  </a:lnTo>
                  <a:lnTo>
                    <a:pt x="40" y="5424"/>
                  </a:lnTo>
                  <a:lnTo>
                    <a:pt x="57" y="5445"/>
                  </a:lnTo>
                  <a:lnTo>
                    <a:pt x="50" y="5466"/>
                  </a:lnTo>
                  <a:lnTo>
                    <a:pt x="33" y="5487"/>
                  </a:lnTo>
                  <a:lnTo>
                    <a:pt x="33" y="5508"/>
                  </a:lnTo>
                  <a:lnTo>
                    <a:pt x="40" y="5529"/>
                  </a:lnTo>
                  <a:lnTo>
                    <a:pt x="71" y="5550"/>
                  </a:lnTo>
                  <a:lnTo>
                    <a:pt x="81" y="5571"/>
                  </a:lnTo>
                  <a:lnTo>
                    <a:pt x="91" y="5592"/>
                  </a:lnTo>
                  <a:lnTo>
                    <a:pt x="74" y="5613"/>
                  </a:lnTo>
                  <a:lnTo>
                    <a:pt x="60" y="5634"/>
                  </a:lnTo>
                  <a:lnTo>
                    <a:pt x="77" y="5655"/>
                  </a:lnTo>
                  <a:lnTo>
                    <a:pt x="84" y="5676"/>
                  </a:lnTo>
                  <a:lnTo>
                    <a:pt x="84" y="5697"/>
                  </a:lnTo>
                  <a:lnTo>
                    <a:pt x="77" y="5718"/>
                  </a:lnTo>
                  <a:lnTo>
                    <a:pt x="64" y="5739"/>
                  </a:lnTo>
                  <a:lnTo>
                    <a:pt x="54" y="5760"/>
                  </a:lnTo>
                  <a:lnTo>
                    <a:pt x="43" y="5781"/>
                  </a:lnTo>
                  <a:lnTo>
                    <a:pt x="40" y="5802"/>
                  </a:lnTo>
                  <a:lnTo>
                    <a:pt x="40" y="5823"/>
                  </a:lnTo>
                  <a:lnTo>
                    <a:pt x="60" y="5844"/>
                  </a:lnTo>
                  <a:lnTo>
                    <a:pt x="74" y="5865"/>
                  </a:lnTo>
                  <a:lnTo>
                    <a:pt x="84" y="5886"/>
                  </a:lnTo>
                  <a:lnTo>
                    <a:pt x="88" y="5907"/>
                  </a:lnTo>
                  <a:lnTo>
                    <a:pt x="81" y="5928"/>
                  </a:lnTo>
                  <a:lnTo>
                    <a:pt x="81" y="5949"/>
                  </a:lnTo>
                  <a:lnTo>
                    <a:pt x="88" y="5971"/>
                  </a:lnTo>
                  <a:lnTo>
                    <a:pt x="93" y="5992"/>
                  </a:lnTo>
                  <a:lnTo>
                    <a:pt x="100" y="6013"/>
                  </a:lnTo>
                  <a:lnTo>
                    <a:pt x="112" y="6034"/>
                  </a:lnTo>
                  <a:lnTo>
                    <a:pt x="117" y="6055"/>
                  </a:lnTo>
                </a:path>
              </a:pathLst>
            </a:custGeom>
            <a:noFill/>
            <a:ln w="381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Freeform 136"/>
            <p:cNvSpPr/>
            <p:nvPr/>
          </p:nvSpPr>
          <p:spPr>
            <a:xfrm>
              <a:off x="2619360" y="1836720"/>
              <a:ext cx="100080" cy="4805280"/>
            </a:xfrm>
            <a:custGeom>
              <a:avLst/>
              <a:gdLst>
                <a:gd name="textAreaLeft" fmla="*/ 0 w 100080"/>
                <a:gd name="textAreaRight" fmla="*/ 100440 w 100080"/>
                <a:gd name="textAreaTop" fmla="*/ 0 h 4805280"/>
                <a:gd name="textAreaBottom" fmla="*/ 4805640 h 4805280"/>
              </a:gdLst>
              <a:ahLst/>
              <a:rect l="textAreaLeft" t="textAreaTop" r="textAreaRight" b="textAreaBottom"/>
              <a:pathLst>
                <a:path w="126" h="6055">
                  <a:moveTo>
                    <a:pt x="79" y="0"/>
                  </a:moveTo>
                  <a:lnTo>
                    <a:pt x="83" y="21"/>
                  </a:lnTo>
                  <a:lnTo>
                    <a:pt x="87" y="42"/>
                  </a:lnTo>
                  <a:lnTo>
                    <a:pt x="91" y="63"/>
                  </a:lnTo>
                  <a:lnTo>
                    <a:pt x="91" y="84"/>
                  </a:lnTo>
                  <a:lnTo>
                    <a:pt x="91" y="105"/>
                  </a:lnTo>
                  <a:lnTo>
                    <a:pt x="98" y="126"/>
                  </a:lnTo>
                  <a:lnTo>
                    <a:pt x="103" y="147"/>
                  </a:lnTo>
                  <a:lnTo>
                    <a:pt x="103" y="168"/>
                  </a:lnTo>
                  <a:lnTo>
                    <a:pt x="103" y="189"/>
                  </a:lnTo>
                  <a:lnTo>
                    <a:pt x="103" y="210"/>
                  </a:lnTo>
                  <a:lnTo>
                    <a:pt x="103" y="231"/>
                  </a:lnTo>
                  <a:lnTo>
                    <a:pt x="103" y="252"/>
                  </a:lnTo>
                  <a:lnTo>
                    <a:pt x="98" y="273"/>
                  </a:lnTo>
                  <a:lnTo>
                    <a:pt x="98" y="294"/>
                  </a:lnTo>
                  <a:lnTo>
                    <a:pt x="98" y="315"/>
                  </a:lnTo>
                  <a:lnTo>
                    <a:pt x="103" y="336"/>
                  </a:lnTo>
                  <a:lnTo>
                    <a:pt x="103" y="357"/>
                  </a:lnTo>
                  <a:lnTo>
                    <a:pt x="103" y="378"/>
                  </a:lnTo>
                  <a:lnTo>
                    <a:pt x="103" y="399"/>
                  </a:lnTo>
                  <a:lnTo>
                    <a:pt x="110" y="420"/>
                  </a:lnTo>
                  <a:lnTo>
                    <a:pt x="115" y="441"/>
                  </a:lnTo>
                  <a:lnTo>
                    <a:pt x="115" y="462"/>
                  </a:lnTo>
                  <a:lnTo>
                    <a:pt x="115" y="483"/>
                  </a:lnTo>
                  <a:lnTo>
                    <a:pt x="115" y="505"/>
                  </a:lnTo>
                  <a:lnTo>
                    <a:pt x="115" y="526"/>
                  </a:lnTo>
                  <a:lnTo>
                    <a:pt x="118" y="547"/>
                  </a:lnTo>
                  <a:lnTo>
                    <a:pt x="118" y="568"/>
                  </a:lnTo>
                  <a:lnTo>
                    <a:pt x="122" y="589"/>
                  </a:lnTo>
                  <a:lnTo>
                    <a:pt x="122" y="610"/>
                  </a:lnTo>
                  <a:lnTo>
                    <a:pt x="122" y="631"/>
                  </a:lnTo>
                  <a:lnTo>
                    <a:pt x="122" y="652"/>
                  </a:lnTo>
                  <a:lnTo>
                    <a:pt x="122" y="673"/>
                  </a:lnTo>
                  <a:lnTo>
                    <a:pt x="122" y="694"/>
                  </a:lnTo>
                  <a:lnTo>
                    <a:pt x="122" y="715"/>
                  </a:lnTo>
                  <a:lnTo>
                    <a:pt x="122" y="736"/>
                  </a:lnTo>
                  <a:lnTo>
                    <a:pt x="122" y="757"/>
                  </a:lnTo>
                  <a:lnTo>
                    <a:pt x="122" y="778"/>
                  </a:lnTo>
                  <a:lnTo>
                    <a:pt x="122" y="799"/>
                  </a:lnTo>
                  <a:lnTo>
                    <a:pt x="122" y="820"/>
                  </a:lnTo>
                  <a:lnTo>
                    <a:pt x="122" y="841"/>
                  </a:lnTo>
                  <a:lnTo>
                    <a:pt x="122" y="862"/>
                  </a:lnTo>
                  <a:lnTo>
                    <a:pt x="126" y="883"/>
                  </a:lnTo>
                  <a:lnTo>
                    <a:pt x="126" y="904"/>
                  </a:lnTo>
                  <a:lnTo>
                    <a:pt x="124" y="925"/>
                  </a:lnTo>
                  <a:lnTo>
                    <a:pt x="122" y="946"/>
                  </a:lnTo>
                  <a:lnTo>
                    <a:pt x="122" y="967"/>
                  </a:lnTo>
                  <a:lnTo>
                    <a:pt x="122" y="988"/>
                  </a:lnTo>
                  <a:lnTo>
                    <a:pt x="122" y="1009"/>
                  </a:lnTo>
                  <a:lnTo>
                    <a:pt x="122" y="1030"/>
                  </a:lnTo>
                  <a:lnTo>
                    <a:pt x="122" y="1051"/>
                  </a:lnTo>
                  <a:lnTo>
                    <a:pt x="122" y="1072"/>
                  </a:lnTo>
                  <a:lnTo>
                    <a:pt x="119" y="1093"/>
                  </a:lnTo>
                  <a:lnTo>
                    <a:pt x="114" y="1114"/>
                  </a:lnTo>
                  <a:lnTo>
                    <a:pt x="112" y="1135"/>
                  </a:lnTo>
                  <a:lnTo>
                    <a:pt x="110" y="1156"/>
                  </a:lnTo>
                  <a:lnTo>
                    <a:pt x="107" y="1177"/>
                  </a:lnTo>
                  <a:lnTo>
                    <a:pt x="103" y="1198"/>
                  </a:lnTo>
                  <a:lnTo>
                    <a:pt x="103" y="1219"/>
                  </a:lnTo>
                  <a:lnTo>
                    <a:pt x="103" y="1240"/>
                  </a:lnTo>
                  <a:lnTo>
                    <a:pt x="98" y="1261"/>
                  </a:lnTo>
                  <a:lnTo>
                    <a:pt x="96" y="1282"/>
                  </a:lnTo>
                  <a:lnTo>
                    <a:pt x="94" y="1303"/>
                  </a:lnTo>
                  <a:lnTo>
                    <a:pt x="87" y="1324"/>
                  </a:lnTo>
                  <a:lnTo>
                    <a:pt x="87" y="1345"/>
                  </a:lnTo>
                  <a:lnTo>
                    <a:pt x="87" y="1366"/>
                  </a:lnTo>
                  <a:lnTo>
                    <a:pt x="87" y="1387"/>
                  </a:lnTo>
                  <a:lnTo>
                    <a:pt x="87" y="1409"/>
                  </a:lnTo>
                  <a:lnTo>
                    <a:pt x="87" y="1430"/>
                  </a:lnTo>
                  <a:lnTo>
                    <a:pt x="87" y="1451"/>
                  </a:lnTo>
                  <a:lnTo>
                    <a:pt x="87" y="1472"/>
                  </a:lnTo>
                  <a:lnTo>
                    <a:pt x="87" y="1493"/>
                  </a:lnTo>
                  <a:lnTo>
                    <a:pt x="87" y="1514"/>
                  </a:lnTo>
                  <a:lnTo>
                    <a:pt x="87" y="1535"/>
                  </a:lnTo>
                  <a:lnTo>
                    <a:pt x="83" y="1556"/>
                  </a:lnTo>
                  <a:lnTo>
                    <a:pt x="77" y="1577"/>
                  </a:lnTo>
                  <a:lnTo>
                    <a:pt x="75" y="1598"/>
                  </a:lnTo>
                  <a:lnTo>
                    <a:pt x="72" y="1619"/>
                  </a:lnTo>
                  <a:lnTo>
                    <a:pt x="68" y="1640"/>
                  </a:lnTo>
                  <a:lnTo>
                    <a:pt x="68" y="1661"/>
                  </a:lnTo>
                  <a:lnTo>
                    <a:pt x="68" y="1682"/>
                  </a:lnTo>
                  <a:lnTo>
                    <a:pt x="68" y="1703"/>
                  </a:lnTo>
                  <a:lnTo>
                    <a:pt x="66" y="1724"/>
                  </a:lnTo>
                  <a:lnTo>
                    <a:pt x="63" y="1745"/>
                  </a:lnTo>
                  <a:lnTo>
                    <a:pt x="66" y="1766"/>
                  </a:lnTo>
                  <a:lnTo>
                    <a:pt x="68" y="1787"/>
                  </a:lnTo>
                  <a:lnTo>
                    <a:pt x="68" y="1808"/>
                  </a:lnTo>
                  <a:lnTo>
                    <a:pt x="66" y="1829"/>
                  </a:lnTo>
                  <a:lnTo>
                    <a:pt x="63" y="1850"/>
                  </a:lnTo>
                  <a:lnTo>
                    <a:pt x="59" y="1871"/>
                  </a:lnTo>
                  <a:lnTo>
                    <a:pt x="56" y="1892"/>
                  </a:lnTo>
                  <a:lnTo>
                    <a:pt x="55" y="1913"/>
                  </a:lnTo>
                  <a:lnTo>
                    <a:pt x="54" y="1934"/>
                  </a:lnTo>
                  <a:lnTo>
                    <a:pt x="47" y="1955"/>
                  </a:lnTo>
                  <a:lnTo>
                    <a:pt x="44" y="1976"/>
                  </a:lnTo>
                  <a:lnTo>
                    <a:pt x="40" y="1997"/>
                  </a:lnTo>
                  <a:lnTo>
                    <a:pt x="38" y="2018"/>
                  </a:lnTo>
                  <a:lnTo>
                    <a:pt x="34" y="2039"/>
                  </a:lnTo>
                  <a:lnTo>
                    <a:pt x="24" y="2060"/>
                  </a:lnTo>
                  <a:lnTo>
                    <a:pt x="19" y="2081"/>
                  </a:lnTo>
                  <a:lnTo>
                    <a:pt x="16" y="2102"/>
                  </a:lnTo>
                  <a:lnTo>
                    <a:pt x="16" y="2123"/>
                  </a:lnTo>
                  <a:lnTo>
                    <a:pt x="16" y="2144"/>
                  </a:lnTo>
                  <a:lnTo>
                    <a:pt x="16" y="2165"/>
                  </a:lnTo>
                  <a:lnTo>
                    <a:pt x="13" y="2186"/>
                  </a:lnTo>
                  <a:lnTo>
                    <a:pt x="13" y="2207"/>
                  </a:lnTo>
                  <a:lnTo>
                    <a:pt x="13" y="2228"/>
                  </a:lnTo>
                  <a:lnTo>
                    <a:pt x="13" y="2249"/>
                  </a:lnTo>
                  <a:lnTo>
                    <a:pt x="13" y="2270"/>
                  </a:lnTo>
                  <a:lnTo>
                    <a:pt x="7" y="2291"/>
                  </a:lnTo>
                  <a:lnTo>
                    <a:pt x="0" y="2312"/>
                  </a:lnTo>
                  <a:lnTo>
                    <a:pt x="0" y="2334"/>
                  </a:lnTo>
                  <a:lnTo>
                    <a:pt x="0" y="2355"/>
                  </a:lnTo>
                  <a:lnTo>
                    <a:pt x="0" y="2376"/>
                  </a:lnTo>
                  <a:lnTo>
                    <a:pt x="3" y="2397"/>
                  </a:lnTo>
                  <a:lnTo>
                    <a:pt x="5" y="2418"/>
                  </a:lnTo>
                  <a:lnTo>
                    <a:pt x="16" y="2439"/>
                  </a:lnTo>
                  <a:lnTo>
                    <a:pt x="16" y="2460"/>
                  </a:lnTo>
                  <a:lnTo>
                    <a:pt x="16" y="2481"/>
                  </a:lnTo>
                  <a:lnTo>
                    <a:pt x="21" y="2502"/>
                  </a:lnTo>
                  <a:lnTo>
                    <a:pt x="24" y="2523"/>
                  </a:lnTo>
                  <a:lnTo>
                    <a:pt x="24" y="2544"/>
                  </a:lnTo>
                  <a:lnTo>
                    <a:pt x="27" y="2565"/>
                  </a:lnTo>
                  <a:lnTo>
                    <a:pt x="37" y="2586"/>
                  </a:lnTo>
                  <a:lnTo>
                    <a:pt x="37" y="2607"/>
                  </a:lnTo>
                  <a:lnTo>
                    <a:pt x="35" y="2628"/>
                  </a:lnTo>
                  <a:lnTo>
                    <a:pt x="42" y="2649"/>
                  </a:lnTo>
                  <a:lnTo>
                    <a:pt x="48" y="2670"/>
                  </a:lnTo>
                  <a:lnTo>
                    <a:pt x="52" y="2691"/>
                  </a:lnTo>
                  <a:lnTo>
                    <a:pt x="56" y="2712"/>
                  </a:lnTo>
                  <a:lnTo>
                    <a:pt x="56" y="2733"/>
                  </a:lnTo>
                  <a:lnTo>
                    <a:pt x="55" y="2754"/>
                  </a:lnTo>
                  <a:lnTo>
                    <a:pt x="55" y="2775"/>
                  </a:lnTo>
                  <a:lnTo>
                    <a:pt x="52" y="2796"/>
                  </a:lnTo>
                  <a:lnTo>
                    <a:pt x="51" y="2817"/>
                  </a:lnTo>
                  <a:lnTo>
                    <a:pt x="56" y="2838"/>
                  </a:lnTo>
                  <a:lnTo>
                    <a:pt x="55" y="2859"/>
                  </a:lnTo>
                  <a:lnTo>
                    <a:pt x="55" y="2880"/>
                  </a:lnTo>
                  <a:lnTo>
                    <a:pt x="55" y="2901"/>
                  </a:lnTo>
                  <a:lnTo>
                    <a:pt x="52" y="2922"/>
                  </a:lnTo>
                  <a:lnTo>
                    <a:pt x="52" y="2943"/>
                  </a:lnTo>
                  <a:lnTo>
                    <a:pt x="52" y="2964"/>
                  </a:lnTo>
                  <a:lnTo>
                    <a:pt x="55" y="2985"/>
                  </a:lnTo>
                  <a:lnTo>
                    <a:pt x="55" y="3006"/>
                  </a:lnTo>
                  <a:lnTo>
                    <a:pt x="55" y="3027"/>
                  </a:lnTo>
                  <a:lnTo>
                    <a:pt x="55" y="3048"/>
                  </a:lnTo>
                  <a:lnTo>
                    <a:pt x="52" y="3069"/>
                  </a:lnTo>
                  <a:lnTo>
                    <a:pt x="52" y="3090"/>
                  </a:lnTo>
                  <a:lnTo>
                    <a:pt x="51" y="3111"/>
                  </a:lnTo>
                  <a:lnTo>
                    <a:pt x="47" y="3132"/>
                  </a:lnTo>
                  <a:lnTo>
                    <a:pt x="45" y="3153"/>
                  </a:lnTo>
                  <a:lnTo>
                    <a:pt x="48" y="3174"/>
                  </a:lnTo>
                  <a:lnTo>
                    <a:pt x="45" y="3195"/>
                  </a:lnTo>
                  <a:lnTo>
                    <a:pt x="41" y="3216"/>
                  </a:lnTo>
                  <a:lnTo>
                    <a:pt x="40" y="3238"/>
                  </a:lnTo>
                  <a:lnTo>
                    <a:pt x="40" y="3259"/>
                  </a:lnTo>
                  <a:lnTo>
                    <a:pt x="44" y="3280"/>
                  </a:lnTo>
                  <a:lnTo>
                    <a:pt x="40" y="3301"/>
                  </a:lnTo>
                  <a:lnTo>
                    <a:pt x="40" y="3322"/>
                  </a:lnTo>
                  <a:lnTo>
                    <a:pt x="42" y="3343"/>
                  </a:lnTo>
                  <a:lnTo>
                    <a:pt x="47" y="3364"/>
                  </a:lnTo>
                  <a:lnTo>
                    <a:pt x="48" y="3385"/>
                  </a:lnTo>
                  <a:lnTo>
                    <a:pt x="47" y="3406"/>
                  </a:lnTo>
                  <a:lnTo>
                    <a:pt x="51" y="3427"/>
                  </a:lnTo>
                  <a:lnTo>
                    <a:pt x="48" y="3448"/>
                  </a:lnTo>
                  <a:lnTo>
                    <a:pt x="48" y="3469"/>
                  </a:lnTo>
                  <a:lnTo>
                    <a:pt x="51" y="3490"/>
                  </a:lnTo>
                  <a:lnTo>
                    <a:pt x="51" y="3511"/>
                  </a:lnTo>
                  <a:lnTo>
                    <a:pt x="52" y="3532"/>
                  </a:lnTo>
                  <a:lnTo>
                    <a:pt x="52" y="3553"/>
                  </a:lnTo>
                  <a:lnTo>
                    <a:pt x="52" y="3574"/>
                  </a:lnTo>
                  <a:lnTo>
                    <a:pt x="52" y="3595"/>
                  </a:lnTo>
                  <a:lnTo>
                    <a:pt x="52" y="3616"/>
                  </a:lnTo>
                  <a:lnTo>
                    <a:pt x="55" y="3637"/>
                  </a:lnTo>
                  <a:lnTo>
                    <a:pt x="59" y="3658"/>
                  </a:lnTo>
                  <a:lnTo>
                    <a:pt x="59" y="3679"/>
                  </a:lnTo>
                  <a:lnTo>
                    <a:pt x="63" y="3700"/>
                  </a:lnTo>
                  <a:lnTo>
                    <a:pt x="56" y="3721"/>
                  </a:lnTo>
                  <a:lnTo>
                    <a:pt x="52" y="3742"/>
                  </a:lnTo>
                  <a:lnTo>
                    <a:pt x="52" y="3763"/>
                  </a:lnTo>
                  <a:lnTo>
                    <a:pt x="47" y="3784"/>
                  </a:lnTo>
                  <a:lnTo>
                    <a:pt x="52" y="3805"/>
                  </a:lnTo>
                  <a:lnTo>
                    <a:pt x="52" y="3826"/>
                  </a:lnTo>
                  <a:lnTo>
                    <a:pt x="52" y="3847"/>
                  </a:lnTo>
                  <a:lnTo>
                    <a:pt x="59" y="3868"/>
                  </a:lnTo>
                  <a:lnTo>
                    <a:pt x="59" y="3889"/>
                  </a:lnTo>
                  <a:lnTo>
                    <a:pt x="62" y="3910"/>
                  </a:lnTo>
                  <a:lnTo>
                    <a:pt x="61" y="3931"/>
                  </a:lnTo>
                  <a:lnTo>
                    <a:pt x="59" y="3952"/>
                  </a:lnTo>
                  <a:lnTo>
                    <a:pt x="56" y="3973"/>
                  </a:lnTo>
                  <a:lnTo>
                    <a:pt x="51" y="3994"/>
                  </a:lnTo>
                  <a:lnTo>
                    <a:pt x="48" y="4015"/>
                  </a:lnTo>
                  <a:lnTo>
                    <a:pt x="48" y="4036"/>
                  </a:lnTo>
                  <a:lnTo>
                    <a:pt x="48" y="4057"/>
                  </a:lnTo>
                  <a:lnTo>
                    <a:pt x="48" y="4078"/>
                  </a:lnTo>
                  <a:lnTo>
                    <a:pt x="42" y="4099"/>
                  </a:lnTo>
                  <a:lnTo>
                    <a:pt x="45" y="4120"/>
                  </a:lnTo>
                  <a:lnTo>
                    <a:pt x="40" y="4142"/>
                  </a:lnTo>
                  <a:lnTo>
                    <a:pt x="37" y="4163"/>
                  </a:lnTo>
                  <a:lnTo>
                    <a:pt x="33" y="4184"/>
                  </a:lnTo>
                  <a:lnTo>
                    <a:pt x="33" y="4205"/>
                  </a:lnTo>
                  <a:lnTo>
                    <a:pt x="27" y="4226"/>
                  </a:lnTo>
                  <a:lnTo>
                    <a:pt x="27" y="4247"/>
                  </a:lnTo>
                  <a:lnTo>
                    <a:pt x="24" y="4268"/>
                  </a:lnTo>
                  <a:lnTo>
                    <a:pt x="17" y="4289"/>
                  </a:lnTo>
                  <a:lnTo>
                    <a:pt x="12" y="4310"/>
                  </a:lnTo>
                  <a:lnTo>
                    <a:pt x="12" y="4331"/>
                  </a:lnTo>
                  <a:lnTo>
                    <a:pt x="12" y="4352"/>
                  </a:lnTo>
                  <a:lnTo>
                    <a:pt x="12" y="4373"/>
                  </a:lnTo>
                  <a:lnTo>
                    <a:pt x="16" y="4394"/>
                  </a:lnTo>
                  <a:lnTo>
                    <a:pt x="20" y="4415"/>
                  </a:lnTo>
                  <a:lnTo>
                    <a:pt x="20" y="4436"/>
                  </a:lnTo>
                  <a:lnTo>
                    <a:pt x="20" y="4457"/>
                  </a:lnTo>
                  <a:lnTo>
                    <a:pt x="20" y="4478"/>
                  </a:lnTo>
                  <a:lnTo>
                    <a:pt x="20" y="4499"/>
                  </a:lnTo>
                  <a:lnTo>
                    <a:pt x="20" y="4520"/>
                  </a:lnTo>
                  <a:lnTo>
                    <a:pt x="20" y="4541"/>
                  </a:lnTo>
                  <a:lnTo>
                    <a:pt x="20" y="4562"/>
                  </a:lnTo>
                  <a:lnTo>
                    <a:pt x="20" y="4583"/>
                  </a:lnTo>
                  <a:lnTo>
                    <a:pt x="20" y="4604"/>
                  </a:lnTo>
                  <a:lnTo>
                    <a:pt x="20" y="4625"/>
                  </a:lnTo>
                  <a:lnTo>
                    <a:pt x="19" y="4646"/>
                  </a:lnTo>
                  <a:lnTo>
                    <a:pt x="30" y="4667"/>
                  </a:lnTo>
                  <a:lnTo>
                    <a:pt x="44" y="4688"/>
                  </a:lnTo>
                  <a:lnTo>
                    <a:pt x="48" y="4709"/>
                  </a:lnTo>
                  <a:lnTo>
                    <a:pt x="48" y="4730"/>
                  </a:lnTo>
                  <a:lnTo>
                    <a:pt x="45" y="4751"/>
                  </a:lnTo>
                  <a:lnTo>
                    <a:pt x="44" y="4772"/>
                  </a:lnTo>
                  <a:lnTo>
                    <a:pt x="40" y="4793"/>
                  </a:lnTo>
                  <a:lnTo>
                    <a:pt x="30" y="4814"/>
                  </a:lnTo>
                  <a:lnTo>
                    <a:pt x="24" y="4835"/>
                  </a:lnTo>
                  <a:lnTo>
                    <a:pt x="24" y="4856"/>
                  </a:lnTo>
                  <a:lnTo>
                    <a:pt x="40" y="4877"/>
                  </a:lnTo>
                  <a:lnTo>
                    <a:pt x="45" y="4898"/>
                  </a:lnTo>
                  <a:lnTo>
                    <a:pt x="48" y="4919"/>
                  </a:lnTo>
                  <a:lnTo>
                    <a:pt x="48" y="4940"/>
                  </a:lnTo>
                  <a:lnTo>
                    <a:pt x="48" y="4961"/>
                  </a:lnTo>
                  <a:lnTo>
                    <a:pt x="51" y="4982"/>
                  </a:lnTo>
                  <a:lnTo>
                    <a:pt x="59" y="5003"/>
                  </a:lnTo>
                  <a:lnTo>
                    <a:pt x="63" y="5024"/>
                  </a:lnTo>
                  <a:lnTo>
                    <a:pt x="63" y="5045"/>
                  </a:lnTo>
                  <a:lnTo>
                    <a:pt x="65" y="5067"/>
                  </a:lnTo>
                  <a:lnTo>
                    <a:pt x="68" y="5088"/>
                  </a:lnTo>
                  <a:lnTo>
                    <a:pt x="68" y="5109"/>
                  </a:lnTo>
                  <a:lnTo>
                    <a:pt x="68" y="5130"/>
                  </a:lnTo>
                  <a:lnTo>
                    <a:pt x="70" y="5151"/>
                  </a:lnTo>
                  <a:lnTo>
                    <a:pt x="72" y="5172"/>
                  </a:lnTo>
                  <a:lnTo>
                    <a:pt x="79" y="5193"/>
                  </a:lnTo>
                  <a:lnTo>
                    <a:pt x="79" y="5214"/>
                  </a:lnTo>
                  <a:lnTo>
                    <a:pt x="79" y="5235"/>
                  </a:lnTo>
                  <a:lnTo>
                    <a:pt x="80" y="5256"/>
                  </a:lnTo>
                  <a:lnTo>
                    <a:pt x="84" y="5277"/>
                  </a:lnTo>
                  <a:lnTo>
                    <a:pt x="90" y="5298"/>
                  </a:lnTo>
                  <a:lnTo>
                    <a:pt x="94" y="5319"/>
                  </a:lnTo>
                  <a:lnTo>
                    <a:pt x="100" y="5340"/>
                  </a:lnTo>
                  <a:lnTo>
                    <a:pt x="98" y="5361"/>
                  </a:lnTo>
                  <a:lnTo>
                    <a:pt x="98" y="5382"/>
                  </a:lnTo>
                  <a:lnTo>
                    <a:pt x="97" y="5403"/>
                  </a:lnTo>
                  <a:lnTo>
                    <a:pt x="96" y="5424"/>
                  </a:lnTo>
                  <a:lnTo>
                    <a:pt x="96" y="5445"/>
                  </a:lnTo>
                  <a:lnTo>
                    <a:pt x="100" y="5466"/>
                  </a:lnTo>
                  <a:lnTo>
                    <a:pt x="110" y="5487"/>
                  </a:lnTo>
                  <a:lnTo>
                    <a:pt x="110" y="5508"/>
                  </a:lnTo>
                  <a:lnTo>
                    <a:pt x="107" y="5529"/>
                  </a:lnTo>
                  <a:lnTo>
                    <a:pt x="107" y="5550"/>
                  </a:lnTo>
                  <a:lnTo>
                    <a:pt x="107" y="5571"/>
                  </a:lnTo>
                  <a:lnTo>
                    <a:pt x="101" y="5592"/>
                  </a:lnTo>
                  <a:lnTo>
                    <a:pt x="98" y="5613"/>
                  </a:lnTo>
                  <a:lnTo>
                    <a:pt x="98" y="5634"/>
                  </a:lnTo>
                  <a:lnTo>
                    <a:pt x="103" y="5655"/>
                  </a:lnTo>
                  <a:lnTo>
                    <a:pt x="103" y="5676"/>
                  </a:lnTo>
                  <a:lnTo>
                    <a:pt x="103" y="5697"/>
                  </a:lnTo>
                  <a:lnTo>
                    <a:pt x="103" y="5718"/>
                  </a:lnTo>
                  <a:lnTo>
                    <a:pt x="103" y="5739"/>
                  </a:lnTo>
                  <a:lnTo>
                    <a:pt x="103" y="5760"/>
                  </a:lnTo>
                  <a:lnTo>
                    <a:pt x="103" y="5781"/>
                  </a:lnTo>
                  <a:lnTo>
                    <a:pt x="100" y="5802"/>
                  </a:lnTo>
                  <a:lnTo>
                    <a:pt x="98" y="5823"/>
                  </a:lnTo>
                  <a:lnTo>
                    <a:pt x="98" y="5844"/>
                  </a:lnTo>
                  <a:lnTo>
                    <a:pt x="98" y="5865"/>
                  </a:lnTo>
                  <a:lnTo>
                    <a:pt x="98" y="5886"/>
                  </a:lnTo>
                  <a:lnTo>
                    <a:pt x="98" y="5907"/>
                  </a:lnTo>
                  <a:lnTo>
                    <a:pt x="98" y="5928"/>
                  </a:lnTo>
                  <a:lnTo>
                    <a:pt x="98" y="5949"/>
                  </a:lnTo>
                  <a:lnTo>
                    <a:pt x="98" y="5971"/>
                  </a:lnTo>
                  <a:lnTo>
                    <a:pt x="98" y="5992"/>
                  </a:lnTo>
                  <a:lnTo>
                    <a:pt x="98" y="6013"/>
                  </a:lnTo>
                  <a:lnTo>
                    <a:pt x="98" y="6034"/>
                  </a:lnTo>
                  <a:lnTo>
                    <a:pt x="98" y="6055"/>
                  </a:lnTo>
                </a:path>
              </a:pathLst>
            </a:custGeom>
            <a:noFill/>
            <a:ln w="19080">
              <a:solidFill>
                <a:srgbClr val="00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Freeform 137"/>
            <p:cNvSpPr/>
            <p:nvPr/>
          </p:nvSpPr>
          <p:spPr>
            <a:xfrm>
              <a:off x="2637000" y="1836720"/>
              <a:ext cx="93600" cy="4805280"/>
            </a:xfrm>
            <a:custGeom>
              <a:avLst/>
              <a:gdLst>
                <a:gd name="textAreaLeft" fmla="*/ 0 w 93600"/>
                <a:gd name="textAreaRight" fmla="*/ 93960 w 93600"/>
                <a:gd name="textAreaTop" fmla="*/ 0 h 4805280"/>
                <a:gd name="textAreaBottom" fmla="*/ 4805640 h 4805280"/>
              </a:gdLst>
              <a:ahLst/>
              <a:rect l="textAreaLeft" t="textAreaTop" r="textAreaRight" b="textAreaBottom"/>
              <a:pathLst>
                <a:path w="119" h="6055">
                  <a:moveTo>
                    <a:pt x="102" y="0"/>
                  </a:moveTo>
                  <a:lnTo>
                    <a:pt x="102" y="21"/>
                  </a:lnTo>
                  <a:lnTo>
                    <a:pt x="98" y="42"/>
                  </a:lnTo>
                  <a:lnTo>
                    <a:pt x="91" y="63"/>
                  </a:lnTo>
                  <a:lnTo>
                    <a:pt x="91" y="84"/>
                  </a:lnTo>
                  <a:lnTo>
                    <a:pt x="91" y="105"/>
                  </a:lnTo>
                  <a:lnTo>
                    <a:pt x="91" y="126"/>
                  </a:lnTo>
                  <a:lnTo>
                    <a:pt x="91" y="147"/>
                  </a:lnTo>
                  <a:lnTo>
                    <a:pt x="91" y="168"/>
                  </a:lnTo>
                  <a:lnTo>
                    <a:pt x="91" y="189"/>
                  </a:lnTo>
                  <a:lnTo>
                    <a:pt x="91" y="210"/>
                  </a:lnTo>
                  <a:lnTo>
                    <a:pt x="91" y="231"/>
                  </a:lnTo>
                  <a:lnTo>
                    <a:pt x="91" y="252"/>
                  </a:lnTo>
                  <a:lnTo>
                    <a:pt x="87" y="273"/>
                  </a:lnTo>
                  <a:lnTo>
                    <a:pt x="87" y="294"/>
                  </a:lnTo>
                  <a:lnTo>
                    <a:pt x="87" y="315"/>
                  </a:lnTo>
                  <a:lnTo>
                    <a:pt x="94" y="336"/>
                  </a:lnTo>
                  <a:lnTo>
                    <a:pt x="95" y="357"/>
                  </a:lnTo>
                  <a:lnTo>
                    <a:pt x="99" y="378"/>
                  </a:lnTo>
                  <a:lnTo>
                    <a:pt x="102" y="399"/>
                  </a:lnTo>
                  <a:lnTo>
                    <a:pt x="106" y="420"/>
                  </a:lnTo>
                  <a:lnTo>
                    <a:pt x="110" y="441"/>
                  </a:lnTo>
                  <a:lnTo>
                    <a:pt x="110" y="462"/>
                  </a:lnTo>
                  <a:lnTo>
                    <a:pt x="110" y="483"/>
                  </a:lnTo>
                  <a:lnTo>
                    <a:pt x="110" y="505"/>
                  </a:lnTo>
                  <a:lnTo>
                    <a:pt x="110" y="526"/>
                  </a:lnTo>
                  <a:lnTo>
                    <a:pt x="110" y="547"/>
                  </a:lnTo>
                  <a:lnTo>
                    <a:pt x="110" y="568"/>
                  </a:lnTo>
                  <a:lnTo>
                    <a:pt x="110" y="589"/>
                  </a:lnTo>
                  <a:lnTo>
                    <a:pt x="110" y="610"/>
                  </a:lnTo>
                  <a:lnTo>
                    <a:pt x="110" y="631"/>
                  </a:lnTo>
                  <a:lnTo>
                    <a:pt x="110" y="652"/>
                  </a:lnTo>
                  <a:lnTo>
                    <a:pt x="110" y="673"/>
                  </a:lnTo>
                  <a:lnTo>
                    <a:pt x="110" y="694"/>
                  </a:lnTo>
                  <a:lnTo>
                    <a:pt x="110" y="715"/>
                  </a:lnTo>
                  <a:lnTo>
                    <a:pt x="110" y="736"/>
                  </a:lnTo>
                  <a:lnTo>
                    <a:pt x="110" y="757"/>
                  </a:lnTo>
                  <a:lnTo>
                    <a:pt x="110" y="778"/>
                  </a:lnTo>
                  <a:lnTo>
                    <a:pt x="110" y="799"/>
                  </a:lnTo>
                  <a:lnTo>
                    <a:pt x="110" y="820"/>
                  </a:lnTo>
                  <a:lnTo>
                    <a:pt x="110" y="841"/>
                  </a:lnTo>
                  <a:lnTo>
                    <a:pt x="109" y="862"/>
                  </a:lnTo>
                  <a:lnTo>
                    <a:pt x="115" y="883"/>
                  </a:lnTo>
                  <a:lnTo>
                    <a:pt x="115" y="904"/>
                  </a:lnTo>
                  <a:lnTo>
                    <a:pt x="116" y="925"/>
                  </a:lnTo>
                  <a:lnTo>
                    <a:pt x="117" y="946"/>
                  </a:lnTo>
                  <a:lnTo>
                    <a:pt x="117" y="967"/>
                  </a:lnTo>
                  <a:lnTo>
                    <a:pt x="117" y="988"/>
                  </a:lnTo>
                  <a:lnTo>
                    <a:pt x="117" y="1009"/>
                  </a:lnTo>
                  <a:lnTo>
                    <a:pt x="109" y="1030"/>
                  </a:lnTo>
                  <a:lnTo>
                    <a:pt x="106" y="1051"/>
                  </a:lnTo>
                  <a:lnTo>
                    <a:pt x="105" y="1072"/>
                  </a:lnTo>
                  <a:lnTo>
                    <a:pt x="115" y="1093"/>
                  </a:lnTo>
                  <a:lnTo>
                    <a:pt x="119" y="1114"/>
                  </a:lnTo>
                  <a:lnTo>
                    <a:pt x="116" y="1135"/>
                  </a:lnTo>
                  <a:lnTo>
                    <a:pt x="106" y="1156"/>
                  </a:lnTo>
                  <a:lnTo>
                    <a:pt x="99" y="1177"/>
                  </a:lnTo>
                  <a:lnTo>
                    <a:pt x="102" y="1198"/>
                  </a:lnTo>
                  <a:lnTo>
                    <a:pt x="102" y="1219"/>
                  </a:lnTo>
                  <a:lnTo>
                    <a:pt x="102" y="1240"/>
                  </a:lnTo>
                  <a:lnTo>
                    <a:pt x="102" y="1261"/>
                  </a:lnTo>
                  <a:lnTo>
                    <a:pt x="102" y="1282"/>
                  </a:lnTo>
                  <a:lnTo>
                    <a:pt x="102" y="1303"/>
                  </a:lnTo>
                  <a:lnTo>
                    <a:pt x="105" y="1324"/>
                  </a:lnTo>
                  <a:lnTo>
                    <a:pt x="106" y="1345"/>
                  </a:lnTo>
                  <a:lnTo>
                    <a:pt x="106" y="1366"/>
                  </a:lnTo>
                  <a:lnTo>
                    <a:pt x="106" y="1387"/>
                  </a:lnTo>
                  <a:lnTo>
                    <a:pt x="106" y="1409"/>
                  </a:lnTo>
                  <a:lnTo>
                    <a:pt x="106" y="1430"/>
                  </a:lnTo>
                  <a:lnTo>
                    <a:pt x="106" y="1451"/>
                  </a:lnTo>
                  <a:lnTo>
                    <a:pt x="106" y="1472"/>
                  </a:lnTo>
                  <a:lnTo>
                    <a:pt x="106" y="1493"/>
                  </a:lnTo>
                  <a:lnTo>
                    <a:pt x="106" y="1514"/>
                  </a:lnTo>
                  <a:lnTo>
                    <a:pt x="105" y="1535"/>
                  </a:lnTo>
                  <a:lnTo>
                    <a:pt x="102" y="1556"/>
                  </a:lnTo>
                  <a:lnTo>
                    <a:pt x="99" y="1577"/>
                  </a:lnTo>
                  <a:lnTo>
                    <a:pt x="98" y="1598"/>
                  </a:lnTo>
                  <a:lnTo>
                    <a:pt x="98" y="1619"/>
                  </a:lnTo>
                  <a:lnTo>
                    <a:pt x="98" y="1640"/>
                  </a:lnTo>
                  <a:lnTo>
                    <a:pt x="98" y="1661"/>
                  </a:lnTo>
                  <a:lnTo>
                    <a:pt x="98" y="1682"/>
                  </a:lnTo>
                  <a:lnTo>
                    <a:pt x="98" y="1703"/>
                  </a:lnTo>
                  <a:lnTo>
                    <a:pt x="98" y="1724"/>
                  </a:lnTo>
                  <a:lnTo>
                    <a:pt x="98" y="1745"/>
                  </a:lnTo>
                  <a:lnTo>
                    <a:pt x="102" y="1766"/>
                  </a:lnTo>
                  <a:lnTo>
                    <a:pt x="102" y="1787"/>
                  </a:lnTo>
                  <a:lnTo>
                    <a:pt x="98" y="1808"/>
                  </a:lnTo>
                  <a:lnTo>
                    <a:pt x="98" y="1829"/>
                  </a:lnTo>
                  <a:lnTo>
                    <a:pt x="98" y="1850"/>
                  </a:lnTo>
                  <a:lnTo>
                    <a:pt x="98" y="1871"/>
                  </a:lnTo>
                  <a:lnTo>
                    <a:pt x="95" y="1892"/>
                  </a:lnTo>
                  <a:lnTo>
                    <a:pt x="84" y="1913"/>
                  </a:lnTo>
                  <a:lnTo>
                    <a:pt x="78" y="1934"/>
                  </a:lnTo>
                  <a:lnTo>
                    <a:pt x="78" y="1955"/>
                  </a:lnTo>
                  <a:lnTo>
                    <a:pt x="78" y="1976"/>
                  </a:lnTo>
                  <a:lnTo>
                    <a:pt x="68" y="1997"/>
                  </a:lnTo>
                  <a:lnTo>
                    <a:pt x="63" y="2018"/>
                  </a:lnTo>
                  <a:lnTo>
                    <a:pt x="60" y="2039"/>
                  </a:lnTo>
                  <a:lnTo>
                    <a:pt x="56" y="2060"/>
                  </a:lnTo>
                  <a:lnTo>
                    <a:pt x="50" y="2081"/>
                  </a:lnTo>
                  <a:lnTo>
                    <a:pt x="43" y="2102"/>
                  </a:lnTo>
                  <a:lnTo>
                    <a:pt x="43" y="2123"/>
                  </a:lnTo>
                  <a:lnTo>
                    <a:pt x="36" y="2144"/>
                  </a:lnTo>
                  <a:lnTo>
                    <a:pt x="25" y="2165"/>
                  </a:lnTo>
                  <a:lnTo>
                    <a:pt x="18" y="2186"/>
                  </a:lnTo>
                  <a:lnTo>
                    <a:pt x="31" y="2207"/>
                  </a:lnTo>
                  <a:lnTo>
                    <a:pt x="31" y="2228"/>
                  </a:lnTo>
                  <a:lnTo>
                    <a:pt x="35" y="2249"/>
                  </a:lnTo>
                  <a:lnTo>
                    <a:pt x="35" y="2270"/>
                  </a:lnTo>
                  <a:lnTo>
                    <a:pt x="35" y="2291"/>
                  </a:lnTo>
                  <a:lnTo>
                    <a:pt x="35" y="2312"/>
                  </a:lnTo>
                  <a:lnTo>
                    <a:pt x="35" y="2334"/>
                  </a:lnTo>
                  <a:lnTo>
                    <a:pt x="36" y="2355"/>
                  </a:lnTo>
                  <a:lnTo>
                    <a:pt x="31" y="2376"/>
                  </a:lnTo>
                  <a:lnTo>
                    <a:pt x="21" y="2397"/>
                  </a:lnTo>
                  <a:lnTo>
                    <a:pt x="17" y="2418"/>
                  </a:lnTo>
                  <a:lnTo>
                    <a:pt x="10" y="2439"/>
                  </a:lnTo>
                  <a:lnTo>
                    <a:pt x="5" y="2460"/>
                  </a:lnTo>
                  <a:lnTo>
                    <a:pt x="14" y="2481"/>
                  </a:lnTo>
                  <a:lnTo>
                    <a:pt x="19" y="2502"/>
                  </a:lnTo>
                  <a:lnTo>
                    <a:pt x="24" y="2523"/>
                  </a:lnTo>
                  <a:lnTo>
                    <a:pt x="26" y="2544"/>
                  </a:lnTo>
                  <a:lnTo>
                    <a:pt x="35" y="2565"/>
                  </a:lnTo>
                  <a:lnTo>
                    <a:pt x="40" y="2586"/>
                  </a:lnTo>
                  <a:lnTo>
                    <a:pt x="43" y="2607"/>
                  </a:lnTo>
                  <a:lnTo>
                    <a:pt x="43" y="2628"/>
                  </a:lnTo>
                  <a:lnTo>
                    <a:pt x="54" y="2649"/>
                  </a:lnTo>
                  <a:lnTo>
                    <a:pt x="59" y="2670"/>
                  </a:lnTo>
                  <a:lnTo>
                    <a:pt x="61" y="2691"/>
                  </a:lnTo>
                  <a:lnTo>
                    <a:pt x="63" y="2712"/>
                  </a:lnTo>
                  <a:lnTo>
                    <a:pt x="63" y="2733"/>
                  </a:lnTo>
                  <a:lnTo>
                    <a:pt x="63" y="2754"/>
                  </a:lnTo>
                  <a:lnTo>
                    <a:pt x="63" y="2775"/>
                  </a:lnTo>
                  <a:lnTo>
                    <a:pt x="63" y="2796"/>
                  </a:lnTo>
                  <a:lnTo>
                    <a:pt x="63" y="2817"/>
                  </a:lnTo>
                  <a:lnTo>
                    <a:pt x="63" y="2838"/>
                  </a:lnTo>
                  <a:lnTo>
                    <a:pt x="63" y="2859"/>
                  </a:lnTo>
                  <a:lnTo>
                    <a:pt x="67" y="2880"/>
                  </a:lnTo>
                  <a:lnTo>
                    <a:pt x="66" y="2901"/>
                  </a:lnTo>
                  <a:lnTo>
                    <a:pt x="63" y="2922"/>
                  </a:lnTo>
                  <a:lnTo>
                    <a:pt x="63" y="2943"/>
                  </a:lnTo>
                  <a:lnTo>
                    <a:pt x="59" y="2964"/>
                  </a:lnTo>
                  <a:lnTo>
                    <a:pt x="57" y="2985"/>
                  </a:lnTo>
                  <a:lnTo>
                    <a:pt x="54" y="3006"/>
                  </a:lnTo>
                  <a:lnTo>
                    <a:pt x="54" y="3027"/>
                  </a:lnTo>
                  <a:lnTo>
                    <a:pt x="54" y="3048"/>
                  </a:lnTo>
                  <a:lnTo>
                    <a:pt x="52" y="3069"/>
                  </a:lnTo>
                  <a:lnTo>
                    <a:pt x="52" y="3090"/>
                  </a:lnTo>
                  <a:lnTo>
                    <a:pt x="50" y="3111"/>
                  </a:lnTo>
                  <a:lnTo>
                    <a:pt x="42" y="3132"/>
                  </a:lnTo>
                  <a:lnTo>
                    <a:pt x="38" y="3153"/>
                  </a:lnTo>
                  <a:lnTo>
                    <a:pt x="35" y="3174"/>
                  </a:lnTo>
                  <a:lnTo>
                    <a:pt x="31" y="3195"/>
                  </a:lnTo>
                  <a:lnTo>
                    <a:pt x="24" y="3216"/>
                  </a:lnTo>
                  <a:lnTo>
                    <a:pt x="19" y="3238"/>
                  </a:lnTo>
                  <a:lnTo>
                    <a:pt x="19" y="3259"/>
                  </a:lnTo>
                  <a:lnTo>
                    <a:pt x="24" y="3280"/>
                  </a:lnTo>
                  <a:lnTo>
                    <a:pt x="24" y="3301"/>
                  </a:lnTo>
                  <a:lnTo>
                    <a:pt x="28" y="3322"/>
                  </a:lnTo>
                  <a:lnTo>
                    <a:pt x="36" y="3343"/>
                  </a:lnTo>
                  <a:lnTo>
                    <a:pt x="39" y="3364"/>
                  </a:lnTo>
                  <a:lnTo>
                    <a:pt x="39" y="3385"/>
                  </a:lnTo>
                  <a:lnTo>
                    <a:pt x="39" y="3406"/>
                  </a:lnTo>
                  <a:lnTo>
                    <a:pt x="39" y="3427"/>
                  </a:lnTo>
                  <a:lnTo>
                    <a:pt x="35" y="3448"/>
                  </a:lnTo>
                  <a:lnTo>
                    <a:pt x="35" y="3469"/>
                  </a:lnTo>
                  <a:lnTo>
                    <a:pt x="35" y="3490"/>
                  </a:lnTo>
                  <a:lnTo>
                    <a:pt x="35" y="3511"/>
                  </a:lnTo>
                  <a:lnTo>
                    <a:pt x="35" y="3532"/>
                  </a:lnTo>
                  <a:lnTo>
                    <a:pt x="35" y="3553"/>
                  </a:lnTo>
                  <a:lnTo>
                    <a:pt x="35" y="3574"/>
                  </a:lnTo>
                  <a:lnTo>
                    <a:pt x="35" y="3595"/>
                  </a:lnTo>
                  <a:lnTo>
                    <a:pt x="36" y="3616"/>
                  </a:lnTo>
                  <a:lnTo>
                    <a:pt x="31" y="3637"/>
                  </a:lnTo>
                  <a:lnTo>
                    <a:pt x="31" y="3658"/>
                  </a:lnTo>
                  <a:lnTo>
                    <a:pt x="31" y="3679"/>
                  </a:lnTo>
                  <a:lnTo>
                    <a:pt x="32" y="3700"/>
                  </a:lnTo>
                  <a:lnTo>
                    <a:pt x="26" y="3721"/>
                  </a:lnTo>
                  <a:lnTo>
                    <a:pt x="32" y="3742"/>
                  </a:lnTo>
                  <a:lnTo>
                    <a:pt x="26" y="3763"/>
                  </a:lnTo>
                  <a:lnTo>
                    <a:pt x="26" y="3784"/>
                  </a:lnTo>
                  <a:lnTo>
                    <a:pt x="31" y="3805"/>
                  </a:lnTo>
                  <a:lnTo>
                    <a:pt x="39" y="3826"/>
                  </a:lnTo>
                  <a:lnTo>
                    <a:pt x="39" y="3847"/>
                  </a:lnTo>
                  <a:lnTo>
                    <a:pt x="35" y="3868"/>
                  </a:lnTo>
                  <a:lnTo>
                    <a:pt x="36" y="3889"/>
                  </a:lnTo>
                  <a:lnTo>
                    <a:pt x="42" y="3910"/>
                  </a:lnTo>
                  <a:lnTo>
                    <a:pt x="47" y="3931"/>
                  </a:lnTo>
                  <a:lnTo>
                    <a:pt x="47" y="3952"/>
                  </a:lnTo>
                  <a:lnTo>
                    <a:pt x="47" y="3973"/>
                  </a:lnTo>
                  <a:lnTo>
                    <a:pt x="47" y="3994"/>
                  </a:lnTo>
                  <a:lnTo>
                    <a:pt x="47" y="4015"/>
                  </a:lnTo>
                  <a:lnTo>
                    <a:pt x="47" y="4036"/>
                  </a:lnTo>
                  <a:lnTo>
                    <a:pt x="47" y="4057"/>
                  </a:lnTo>
                  <a:lnTo>
                    <a:pt x="47" y="4078"/>
                  </a:lnTo>
                  <a:lnTo>
                    <a:pt x="42" y="4099"/>
                  </a:lnTo>
                  <a:lnTo>
                    <a:pt x="40" y="4120"/>
                  </a:lnTo>
                  <a:lnTo>
                    <a:pt x="36" y="4142"/>
                  </a:lnTo>
                  <a:lnTo>
                    <a:pt x="35" y="4163"/>
                  </a:lnTo>
                  <a:lnTo>
                    <a:pt x="35" y="4184"/>
                  </a:lnTo>
                  <a:lnTo>
                    <a:pt x="35" y="4205"/>
                  </a:lnTo>
                  <a:lnTo>
                    <a:pt x="35" y="4226"/>
                  </a:lnTo>
                  <a:lnTo>
                    <a:pt x="35" y="4247"/>
                  </a:lnTo>
                  <a:lnTo>
                    <a:pt x="35" y="4268"/>
                  </a:lnTo>
                  <a:lnTo>
                    <a:pt x="31" y="4289"/>
                  </a:lnTo>
                  <a:lnTo>
                    <a:pt x="28" y="4310"/>
                  </a:lnTo>
                  <a:lnTo>
                    <a:pt x="28" y="4331"/>
                  </a:lnTo>
                  <a:lnTo>
                    <a:pt x="21" y="4352"/>
                  </a:lnTo>
                  <a:lnTo>
                    <a:pt x="17" y="4373"/>
                  </a:lnTo>
                  <a:lnTo>
                    <a:pt x="11" y="4394"/>
                  </a:lnTo>
                  <a:lnTo>
                    <a:pt x="8" y="4415"/>
                  </a:lnTo>
                  <a:lnTo>
                    <a:pt x="4" y="4436"/>
                  </a:lnTo>
                  <a:lnTo>
                    <a:pt x="4" y="4457"/>
                  </a:lnTo>
                  <a:lnTo>
                    <a:pt x="4" y="4478"/>
                  </a:lnTo>
                  <a:lnTo>
                    <a:pt x="4" y="4499"/>
                  </a:lnTo>
                  <a:lnTo>
                    <a:pt x="4" y="4520"/>
                  </a:lnTo>
                  <a:lnTo>
                    <a:pt x="0" y="4541"/>
                  </a:lnTo>
                  <a:lnTo>
                    <a:pt x="0" y="4562"/>
                  </a:lnTo>
                  <a:lnTo>
                    <a:pt x="5" y="4583"/>
                  </a:lnTo>
                  <a:lnTo>
                    <a:pt x="11" y="4604"/>
                  </a:lnTo>
                  <a:lnTo>
                    <a:pt x="19" y="4625"/>
                  </a:lnTo>
                  <a:lnTo>
                    <a:pt x="21" y="4646"/>
                  </a:lnTo>
                  <a:lnTo>
                    <a:pt x="24" y="4667"/>
                  </a:lnTo>
                  <a:lnTo>
                    <a:pt x="26" y="4688"/>
                  </a:lnTo>
                  <a:lnTo>
                    <a:pt x="35" y="4709"/>
                  </a:lnTo>
                  <a:lnTo>
                    <a:pt x="35" y="4730"/>
                  </a:lnTo>
                  <a:lnTo>
                    <a:pt x="32" y="4751"/>
                  </a:lnTo>
                  <a:lnTo>
                    <a:pt x="26" y="4772"/>
                  </a:lnTo>
                  <a:lnTo>
                    <a:pt x="28" y="4793"/>
                  </a:lnTo>
                  <a:lnTo>
                    <a:pt x="45" y="4814"/>
                  </a:lnTo>
                  <a:lnTo>
                    <a:pt x="50" y="4835"/>
                  </a:lnTo>
                  <a:lnTo>
                    <a:pt x="59" y="4856"/>
                  </a:lnTo>
                  <a:lnTo>
                    <a:pt x="59" y="4877"/>
                  </a:lnTo>
                  <a:lnTo>
                    <a:pt x="59" y="4898"/>
                  </a:lnTo>
                  <a:lnTo>
                    <a:pt x="59" y="4919"/>
                  </a:lnTo>
                  <a:lnTo>
                    <a:pt x="63" y="4940"/>
                  </a:lnTo>
                  <a:lnTo>
                    <a:pt x="63" y="4961"/>
                  </a:lnTo>
                  <a:lnTo>
                    <a:pt x="63" y="4982"/>
                  </a:lnTo>
                  <a:lnTo>
                    <a:pt x="67" y="5003"/>
                  </a:lnTo>
                  <a:lnTo>
                    <a:pt x="63" y="5024"/>
                  </a:lnTo>
                  <a:lnTo>
                    <a:pt x="63" y="5045"/>
                  </a:lnTo>
                  <a:lnTo>
                    <a:pt x="66" y="5067"/>
                  </a:lnTo>
                  <a:lnTo>
                    <a:pt x="67" y="5088"/>
                  </a:lnTo>
                  <a:lnTo>
                    <a:pt x="71" y="5109"/>
                  </a:lnTo>
                  <a:lnTo>
                    <a:pt x="74" y="5130"/>
                  </a:lnTo>
                  <a:lnTo>
                    <a:pt x="74" y="5151"/>
                  </a:lnTo>
                  <a:lnTo>
                    <a:pt x="74" y="5172"/>
                  </a:lnTo>
                  <a:lnTo>
                    <a:pt x="85" y="5193"/>
                  </a:lnTo>
                  <a:lnTo>
                    <a:pt x="91" y="5214"/>
                  </a:lnTo>
                  <a:lnTo>
                    <a:pt x="94" y="5235"/>
                  </a:lnTo>
                  <a:lnTo>
                    <a:pt x="94" y="5256"/>
                  </a:lnTo>
                  <a:lnTo>
                    <a:pt x="94" y="5277"/>
                  </a:lnTo>
                  <a:lnTo>
                    <a:pt x="98" y="5298"/>
                  </a:lnTo>
                  <a:lnTo>
                    <a:pt x="98" y="5319"/>
                  </a:lnTo>
                  <a:lnTo>
                    <a:pt x="98" y="5340"/>
                  </a:lnTo>
                  <a:lnTo>
                    <a:pt x="98" y="5361"/>
                  </a:lnTo>
                  <a:lnTo>
                    <a:pt x="98" y="5382"/>
                  </a:lnTo>
                  <a:lnTo>
                    <a:pt x="95" y="5403"/>
                  </a:lnTo>
                  <a:lnTo>
                    <a:pt x="94" y="5424"/>
                  </a:lnTo>
                  <a:lnTo>
                    <a:pt x="94" y="5445"/>
                  </a:lnTo>
                  <a:lnTo>
                    <a:pt x="94" y="5466"/>
                  </a:lnTo>
                  <a:lnTo>
                    <a:pt x="99" y="5487"/>
                  </a:lnTo>
                  <a:lnTo>
                    <a:pt x="102" y="5508"/>
                  </a:lnTo>
                  <a:lnTo>
                    <a:pt x="103" y="5529"/>
                  </a:lnTo>
                  <a:lnTo>
                    <a:pt x="106" y="5550"/>
                  </a:lnTo>
                  <a:lnTo>
                    <a:pt x="106" y="5571"/>
                  </a:lnTo>
                  <a:lnTo>
                    <a:pt x="106" y="5592"/>
                  </a:lnTo>
                  <a:lnTo>
                    <a:pt x="106" y="5613"/>
                  </a:lnTo>
                  <a:lnTo>
                    <a:pt x="105" y="5634"/>
                  </a:lnTo>
                  <a:lnTo>
                    <a:pt x="110" y="5655"/>
                  </a:lnTo>
                  <a:lnTo>
                    <a:pt x="110" y="5676"/>
                  </a:lnTo>
                  <a:lnTo>
                    <a:pt x="110" y="5697"/>
                  </a:lnTo>
                  <a:lnTo>
                    <a:pt x="110" y="5718"/>
                  </a:lnTo>
                  <a:lnTo>
                    <a:pt x="110" y="5739"/>
                  </a:lnTo>
                  <a:lnTo>
                    <a:pt x="110" y="5760"/>
                  </a:lnTo>
                  <a:lnTo>
                    <a:pt x="113" y="5781"/>
                  </a:lnTo>
                  <a:lnTo>
                    <a:pt x="113" y="5802"/>
                  </a:lnTo>
                  <a:lnTo>
                    <a:pt x="113" y="5823"/>
                  </a:lnTo>
                  <a:lnTo>
                    <a:pt x="113" y="5844"/>
                  </a:lnTo>
                  <a:lnTo>
                    <a:pt x="113" y="5865"/>
                  </a:lnTo>
                  <a:lnTo>
                    <a:pt x="113" y="5886"/>
                  </a:lnTo>
                  <a:lnTo>
                    <a:pt x="113" y="5907"/>
                  </a:lnTo>
                  <a:lnTo>
                    <a:pt x="113" y="5928"/>
                  </a:lnTo>
                  <a:lnTo>
                    <a:pt x="113" y="5949"/>
                  </a:lnTo>
                  <a:lnTo>
                    <a:pt x="113" y="5971"/>
                  </a:lnTo>
                  <a:lnTo>
                    <a:pt x="113" y="5992"/>
                  </a:lnTo>
                  <a:lnTo>
                    <a:pt x="113" y="6013"/>
                  </a:lnTo>
                  <a:lnTo>
                    <a:pt x="113" y="6034"/>
                  </a:lnTo>
                  <a:lnTo>
                    <a:pt x="110" y="6055"/>
                  </a:lnTo>
                </a:path>
              </a:pathLst>
            </a:custGeom>
            <a:noFill/>
            <a:ln w="57240">
              <a:solidFill>
                <a:srgbClr val="cc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3" name="PlaceHolder 1"/>
          <p:cNvSpPr>
            <a:spLocks noGrp="1"/>
          </p:cNvSpPr>
          <p:nvPr>
            <p:ph type="title"/>
          </p:nvPr>
        </p:nvSpPr>
        <p:spPr>
          <a:xfrm>
            <a:off x="0" y="22860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DENSITY LOG</a:t>
            </a:r>
            <a:endParaRPr b="0" lang="en-US" sz="4400" spc="-1" strike="noStrike">
              <a:solidFill>
                <a:srgbClr val="000000"/>
              </a:solidFill>
              <a:latin typeface="Times New Roman"/>
            </a:endParaRPr>
          </a:p>
        </p:txBody>
      </p:sp>
      <p:grpSp>
        <p:nvGrpSpPr>
          <p:cNvPr id="324" name="Group 139"/>
          <p:cNvGrpSpPr/>
          <p:nvPr/>
        </p:nvGrpSpPr>
        <p:grpSpPr>
          <a:xfrm>
            <a:off x="1155960" y="5435640"/>
            <a:ext cx="1473120" cy="368280"/>
            <a:chOff x="1155960" y="5435640"/>
            <a:chExt cx="1473120" cy="368280"/>
          </a:xfrm>
        </p:grpSpPr>
        <p:sp>
          <p:nvSpPr>
            <p:cNvPr id="325" name="Text Box 140"/>
            <p:cNvSpPr/>
            <p:nvPr/>
          </p:nvSpPr>
          <p:spPr>
            <a:xfrm>
              <a:off x="1155960" y="543564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iper</a:t>
              </a:r>
              <a:endParaRPr b="0" lang="en-US" sz="1800" spc="-1" strike="noStrike">
                <a:solidFill>
                  <a:srgbClr val="000000"/>
                </a:solidFill>
                <a:latin typeface="Times New Roman"/>
              </a:endParaRPr>
            </a:p>
          </p:txBody>
        </p:sp>
        <p:sp>
          <p:nvSpPr>
            <p:cNvPr id="326" name="Line 141"/>
            <p:cNvSpPr/>
            <p:nvPr/>
          </p:nvSpPr>
          <p:spPr>
            <a:xfrm>
              <a:off x="2095560" y="5619600"/>
              <a:ext cx="5335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7" name="Group 142"/>
          <p:cNvGrpSpPr/>
          <p:nvPr/>
        </p:nvGrpSpPr>
        <p:grpSpPr>
          <a:xfrm>
            <a:off x="3733920" y="4343400"/>
            <a:ext cx="2438280" cy="762120"/>
            <a:chOff x="3733920" y="4343400"/>
            <a:chExt cx="2438280" cy="762120"/>
          </a:xfrm>
        </p:grpSpPr>
        <p:sp>
          <p:nvSpPr>
            <p:cNvPr id="328" name="Text Box 143"/>
            <p:cNvSpPr/>
            <p:nvPr/>
          </p:nvSpPr>
          <p:spPr>
            <a:xfrm>
              <a:off x="3733920" y="4343400"/>
              <a:ext cx="1117440" cy="54900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nsi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ection</a:t>
              </a:r>
              <a:endParaRPr b="0" lang="en-US" sz="1800" spc="-1" strike="noStrike">
                <a:solidFill>
                  <a:srgbClr val="000000"/>
                </a:solidFill>
                <a:latin typeface="Times New Roman"/>
              </a:endParaRPr>
            </a:p>
          </p:txBody>
        </p:sp>
        <p:sp>
          <p:nvSpPr>
            <p:cNvPr id="329" name="Line 144"/>
            <p:cNvSpPr/>
            <p:nvPr/>
          </p:nvSpPr>
          <p:spPr>
            <a:xfrm>
              <a:off x="4876920" y="4648320"/>
              <a:ext cx="12952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0" name="Group 145"/>
          <p:cNvGrpSpPr/>
          <p:nvPr/>
        </p:nvGrpSpPr>
        <p:grpSpPr>
          <a:xfrm>
            <a:off x="3200400" y="2590920"/>
            <a:ext cx="1719720" cy="274680"/>
            <a:chOff x="3200400" y="2590920"/>
            <a:chExt cx="1719720" cy="274680"/>
          </a:xfrm>
        </p:grpSpPr>
        <p:sp>
          <p:nvSpPr>
            <p:cNvPr id="331" name="Text Box 146"/>
            <p:cNvSpPr/>
            <p:nvPr/>
          </p:nvSpPr>
          <p:spPr>
            <a:xfrm>
              <a:off x="3677400" y="2590920"/>
              <a:ext cx="124272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mma ray</a:t>
              </a:r>
              <a:endParaRPr b="0" lang="en-US" sz="1800" spc="-1" strike="noStrike">
                <a:solidFill>
                  <a:srgbClr val="000000"/>
                </a:solidFill>
                <a:latin typeface="Times New Roman"/>
              </a:endParaRPr>
            </a:p>
          </p:txBody>
        </p:sp>
        <p:sp>
          <p:nvSpPr>
            <p:cNvPr id="332" name="Line 147"/>
            <p:cNvSpPr/>
            <p:nvPr/>
          </p:nvSpPr>
          <p:spPr>
            <a:xfrm flipH="1">
              <a:off x="3200400" y="27288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3" name="Group 148"/>
          <p:cNvGrpSpPr/>
          <p:nvPr/>
        </p:nvGrpSpPr>
        <p:grpSpPr>
          <a:xfrm>
            <a:off x="5803560" y="2602080"/>
            <a:ext cx="1829160" cy="274680"/>
            <a:chOff x="5803560" y="2602080"/>
            <a:chExt cx="1829160" cy="274680"/>
          </a:xfrm>
        </p:grpSpPr>
        <p:sp>
          <p:nvSpPr>
            <p:cNvPr id="334" name="Text Box 149"/>
            <p:cNvSpPr/>
            <p:nvPr/>
          </p:nvSpPr>
          <p:spPr>
            <a:xfrm>
              <a:off x="6515280" y="2602080"/>
              <a:ext cx="1117440" cy="2746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nsity</a:t>
              </a:r>
              <a:endParaRPr b="0" lang="en-US" sz="1800" spc="-1" strike="noStrike">
                <a:solidFill>
                  <a:srgbClr val="000000"/>
                </a:solidFill>
                <a:latin typeface="Times New Roman"/>
              </a:endParaRPr>
            </a:p>
          </p:txBody>
        </p:sp>
        <p:sp>
          <p:nvSpPr>
            <p:cNvPr id="335" name="Line 150"/>
            <p:cNvSpPr/>
            <p:nvPr/>
          </p:nvSpPr>
          <p:spPr>
            <a:xfrm flipH="1">
              <a:off x="5803560" y="273852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 presetSubtype="1">
                                  <p:stCondLst>
                                    <p:cond delay="0"/>
                                  </p:stCondLst>
                                  <p:childTnLst>
                                    <p:set>
                                      <p:cBhvr>
                                        <p:cTn id="112" dur="1" fill="hold">
                                          <p:stCondLst>
                                            <p:cond delay="0"/>
                                          </p:stCondLst>
                                        </p:cTn>
                                        <p:tgtEl>
                                          <p:spTgt spid="323"/>
                                        </p:tgtEl>
                                        <p:attrNameLst>
                                          <p:attrName>style.visibility</p:attrName>
                                        </p:attrNameLst>
                                      </p:cBhvr>
                                      <p:to>
                                        <p:strVal val="visible"/>
                                      </p:to>
                                    </p:set>
                                    <p:anim calcmode="lin" valueType="num">
                                      <p:cBhvr additive="base">
                                        <p:cTn id="113" dur="500" fill="hold"/>
                                        <p:tgtEl>
                                          <p:spTgt spid="323"/>
                                        </p:tgtEl>
                                        <p:attrNameLst>
                                          <p:attrName>ppt_x</p:attrName>
                                        </p:attrNameLst>
                                      </p:cBhvr>
                                      <p:tavLst>
                                        <p:tav tm="0">
                                          <p:val>
                                            <p:strVal val="#ppt_x"/>
                                          </p:val>
                                        </p:tav>
                                        <p:tav tm="100000">
                                          <p:val>
                                            <p:strVal val="#ppt_x"/>
                                          </p:val>
                                        </p:tav>
                                      </p:tavLst>
                                    </p:anim>
                                    <p:anim calcmode="lin" valueType="num">
                                      <p:cBhvr additive="base">
                                        <p:cTn id="114" dur="500" fill="hold"/>
                                        <p:tgtEl>
                                          <p:spTgt spid="323"/>
                                        </p:tgtEl>
                                        <p:attrNameLst>
                                          <p:attrName>ppt_y</p:attrName>
                                        </p:attrNameLst>
                                      </p:cBhvr>
                                      <p:tavLst>
                                        <p:tav tm="0">
                                          <p:val>
                                            <p:strVal val="0-#ppt_h/2"/>
                                          </p:val>
                                        </p:tav>
                                        <p:tav tm="100000">
                                          <p:val>
                                            <p:strVal val="#ppt_y"/>
                                          </p:val>
                                        </p:tav>
                                      </p:tavLst>
                                    </p:anim>
                                  </p:childTnLst>
                                </p:cTn>
                              </p:par>
                            </p:childTnLst>
                          </p:cTn>
                        </p:par>
                        <p:par>
                          <p:cTn id="115" fill="hold">
                            <p:stCondLst>
                              <p:cond delay="500"/>
                            </p:stCondLst>
                            <p:childTnLst>
                              <p:par>
                                <p:cTn id="116" nodeType="afterEffect" fill="hold" presetClass="entr" presetID="17" presetSubtype="1">
                                  <p:stCondLst>
                                    <p:cond delay="0"/>
                                  </p:stCondLst>
                                  <p:childTnLst>
                                    <p:set>
                                      <p:cBhvr>
                                        <p:cTn id="117" dur="1" fill="hold">
                                          <p:stCondLst>
                                            <p:cond delay="0"/>
                                          </p:stCondLst>
                                        </p:cTn>
                                        <p:tgtEl>
                                          <p:spTgt spid="187"/>
                                        </p:tgtEl>
                                        <p:attrNameLst>
                                          <p:attrName>style.visibility</p:attrName>
                                        </p:attrNameLst>
                                      </p:cBhvr>
                                      <p:to>
                                        <p:strVal val="visible"/>
                                      </p:to>
                                    </p:set>
                                    <p:anim calcmode="lin" valueType="num">
                                      <p:cBhvr additive="repl">
                                        <p:cTn id="118" dur="500" fill="hold"/>
                                        <p:tgtEl>
                                          <p:spTgt spid="187"/>
                                        </p:tgtEl>
                                        <p:attrNameLst>
                                          <p:attrName>ppt_x</p:attrName>
                                        </p:attrNameLst>
                                      </p:cBhvr>
                                      <p:tavLst>
                                        <p:tav tm="0">
                                          <p:val>
                                            <p:strVal val="#ppt_x"/>
                                          </p:val>
                                        </p:tav>
                                        <p:tav tm="100000">
                                          <p:val>
                                            <p:strVal val="#ppt_x"/>
                                          </p:val>
                                        </p:tav>
                                      </p:tavLst>
                                    </p:anim>
                                    <p:anim calcmode="lin" valueType="num">
                                      <p:cBhvr additive="repl">
                                        <p:cTn id="119" dur="500" fill="hold"/>
                                        <p:tgtEl>
                                          <p:spTgt spid="187"/>
                                        </p:tgtEl>
                                        <p:attrNameLst>
                                          <p:attrName>ppt_y</p:attrName>
                                        </p:attrNameLst>
                                      </p:cBhvr>
                                      <p:tavLst>
                                        <p:tav tm="0">
                                          <p:val>
                                            <p:strVal val="#ppt_y-#ppt_h/2"/>
                                          </p:val>
                                        </p:tav>
                                        <p:tav tm="100000">
                                          <p:val>
                                            <p:strVal val="#ppt_y"/>
                                          </p:val>
                                        </p:tav>
                                      </p:tavLst>
                                    </p:anim>
                                    <p:anim calcmode="lin" valueType="num">
                                      <p:cBhvr additive="repl">
                                        <p:cTn id="120" dur="500" fill="hold"/>
                                        <p:tgtEl>
                                          <p:spTgt spid="187"/>
                                        </p:tgtEl>
                                        <p:attrNameLst>
                                          <p:attrName>ppt_w</p:attrName>
                                        </p:attrNameLst>
                                      </p:cBhvr>
                                      <p:tavLst>
                                        <p:tav tm="0">
                                          <p:val>
                                            <p:strVal val="#ppt_w"/>
                                          </p:val>
                                        </p:tav>
                                        <p:tav tm="100000">
                                          <p:val>
                                            <p:strVal val="#ppt_w"/>
                                          </p:val>
                                        </p:tav>
                                      </p:tavLst>
                                    </p:anim>
                                    <p:anim calcmode="lin" valueType="num">
                                      <p:cBhvr additive="repl">
                                        <p:cTn id="121" dur="500" fill="hold"/>
                                        <p:tgtEl>
                                          <p:spTgt spid="187"/>
                                        </p:tgtEl>
                                        <p:attrNameLst>
                                          <p:attrName>ppt_h</p:attrName>
                                        </p:attrNameLst>
                                      </p:cBhvr>
                                      <p:tavLst>
                                        <p:tav tm="0">
                                          <p:val>
                                            <p:fltVal val="0"/>
                                          </p:val>
                                        </p:tav>
                                        <p:tav tm="100000">
                                          <p:val>
                                            <p:strVal val="#ppt_h"/>
                                          </p:val>
                                        </p:tav>
                                      </p:tavLst>
                                    </p:anim>
                                  </p:childTnLst>
                                </p:cTn>
                              </p:par>
                            </p:childTnLst>
                          </p:cTn>
                        </p:par>
                        <p:par>
                          <p:cTn id="122" fill="hold">
                            <p:stCondLst>
                              <p:cond delay="1000"/>
                            </p:stCondLst>
                            <p:childTnLst>
                              <p:par>
                                <p:cTn id="123" nodeType="afterEffect" fill="hold" presetClass="entr" presetID="1">
                                  <p:stCondLst>
                                    <p:cond delay="0"/>
                                  </p:stCondLst>
                                  <p:childTnLst>
                                    <p:set>
                                      <p:cBhvr>
                                        <p:cTn id="124" dur="1" fill="hold">
                                          <p:stCondLst>
                                            <p:cond delay="499"/>
                                          </p:stCondLst>
                                        </p:cTn>
                                        <p:tgtEl>
                                          <p:spTgt spid="330"/>
                                        </p:tgtEl>
                                        <p:attrNameLst>
                                          <p:attrName>style.visibility</p:attrName>
                                        </p:attrNameLst>
                                      </p:cBhvr>
                                      <p:to>
                                        <p:strVal val="visible"/>
                                      </p:to>
                                    </p:set>
                                  </p:childTnLst>
                                </p:cTn>
                              </p:par>
                            </p:childTnLst>
                          </p:cTn>
                        </p:par>
                        <p:par>
                          <p:cTn id="125" fill="hold">
                            <p:stCondLst>
                              <p:cond delay="1500"/>
                            </p:stCondLst>
                            <p:childTnLst>
                              <p:par>
                                <p:cTn id="126" nodeType="afterEffect" fill="hold" presetClass="entr" presetID="1">
                                  <p:stCondLst>
                                    <p:cond delay="0"/>
                                  </p:stCondLst>
                                  <p:childTnLst>
                                    <p:set>
                                      <p:cBhvr>
                                        <p:cTn id="127" dur="1" fill="hold">
                                          <p:stCondLst>
                                            <p:cond delay="499"/>
                                          </p:stCondLst>
                                        </p:cTn>
                                        <p:tgtEl>
                                          <p:spTgt spid="333"/>
                                        </p:tgtEl>
                                        <p:attrNameLst>
                                          <p:attrName>style.visibility</p:attrName>
                                        </p:attrNameLst>
                                      </p:cBhvr>
                                      <p:to>
                                        <p:strVal val="visible"/>
                                      </p:to>
                                    </p:set>
                                  </p:childTnLst>
                                </p:cTn>
                              </p:par>
                            </p:childTnLst>
                          </p:cTn>
                        </p:par>
                        <p:par>
                          <p:cTn id="128" fill="hold">
                            <p:stCondLst>
                              <p:cond delay="2000"/>
                            </p:stCondLst>
                            <p:childTnLst>
                              <p:par>
                                <p:cTn id="129" nodeType="afterEffect" fill="hold" presetClass="entr" presetID="1">
                                  <p:stCondLst>
                                    <p:cond delay="0"/>
                                  </p:stCondLst>
                                  <p:childTnLst>
                                    <p:set>
                                      <p:cBhvr>
                                        <p:cTn id="130" dur="1" fill="hold">
                                          <p:stCondLst>
                                            <p:cond delay="499"/>
                                          </p:stCondLst>
                                        </p:cTn>
                                        <p:tgtEl>
                                          <p:spTgt spid="327"/>
                                        </p:tgtEl>
                                        <p:attrNameLst>
                                          <p:attrName>style.visibility</p:attrName>
                                        </p:attrNameLst>
                                      </p:cBhvr>
                                      <p:to>
                                        <p:strVal val="visible"/>
                                      </p:to>
                                    </p:set>
                                  </p:childTnLst>
                                </p:cTn>
                              </p:par>
                            </p:childTnLst>
                          </p:cTn>
                        </p:par>
                        <p:par>
                          <p:cTn id="131" fill="hold">
                            <p:stCondLst>
                              <p:cond delay="2500"/>
                            </p:stCondLst>
                            <p:childTnLst>
                              <p:par>
                                <p:cTn id="132" nodeType="afterEffect" fill="hold" presetClass="entr" presetID="1">
                                  <p:stCondLst>
                                    <p:cond delay="0"/>
                                  </p:stCondLst>
                                  <p:childTnLst>
                                    <p:set>
                                      <p:cBhvr>
                                        <p:cTn id="133" dur="1" fill="hold">
                                          <p:stCondLst>
                                            <p:cond delay="499"/>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2"/>
          <p:cNvSpPr/>
          <p:nvPr/>
        </p:nvSpPr>
        <p:spPr>
          <a:xfrm>
            <a:off x="4200480" y="1763640"/>
            <a:ext cx="1381320" cy="42418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Rectangle 3"/>
          <p:cNvSpPr/>
          <p:nvPr/>
        </p:nvSpPr>
        <p:spPr>
          <a:xfrm>
            <a:off x="4092480" y="1755720"/>
            <a:ext cx="85680" cy="425124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Rectangle 4"/>
          <p:cNvSpPr/>
          <p:nvPr/>
        </p:nvSpPr>
        <p:spPr>
          <a:xfrm>
            <a:off x="1600200" y="698400"/>
            <a:ext cx="6953400" cy="5691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Line 5"/>
          <p:cNvSpPr/>
          <p:nvPr/>
        </p:nvSpPr>
        <p:spPr>
          <a:xfrm>
            <a:off x="3079800" y="1755720"/>
            <a:ext cx="0" cy="4249800"/>
          </a:xfrm>
          <a:prstGeom prst="line">
            <a:avLst/>
          </a:prstGeom>
          <a:ln w="255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Freeform 6"/>
          <p:cNvSpPr/>
          <p:nvPr/>
        </p:nvSpPr>
        <p:spPr>
          <a:xfrm>
            <a:off x="3130560" y="1755720"/>
            <a:ext cx="39600" cy="4257720"/>
          </a:xfrm>
          <a:custGeom>
            <a:avLst/>
            <a:gdLst>
              <a:gd name="textAreaLeft" fmla="*/ 0 w 39600"/>
              <a:gd name="textAreaRight" fmla="*/ 39960 w 39600"/>
              <a:gd name="textAreaTop" fmla="*/ 0 h 4257720"/>
              <a:gd name="textAreaBottom" fmla="*/ 4258080 h 4257720"/>
            </a:gdLst>
            <a:ahLst/>
            <a:rect l="textAreaLeft" t="textAreaTop" r="textAreaRight" b="textAreaBottom"/>
            <a:pathLst>
              <a:path w="25" h="2682">
                <a:moveTo>
                  <a:pt x="23" y="0"/>
                </a:moveTo>
                <a:lnTo>
                  <a:pt x="17" y="1334"/>
                </a:lnTo>
                <a:lnTo>
                  <a:pt x="0" y="1794"/>
                </a:lnTo>
                <a:lnTo>
                  <a:pt x="21" y="1854"/>
                </a:lnTo>
                <a:lnTo>
                  <a:pt x="25" y="2682"/>
                </a:lnTo>
              </a:path>
            </a:pathLst>
          </a:custGeom>
          <a:solidFill>
            <a:srgbClr val="663300"/>
          </a:solidFill>
          <a:ln w="25560">
            <a:solidFill>
              <a:srgbClr val="66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Line 7"/>
          <p:cNvSpPr/>
          <p:nvPr/>
        </p:nvSpPr>
        <p:spPr>
          <a:xfrm>
            <a:off x="4087800" y="1755720"/>
            <a:ext cx="0" cy="4249800"/>
          </a:xfrm>
          <a:prstGeom prst="line">
            <a:avLst/>
          </a:prstGeom>
          <a:ln w="255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Freeform 8"/>
          <p:cNvSpPr/>
          <p:nvPr/>
        </p:nvSpPr>
        <p:spPr>
          <a:xfrm>
            <a:off x="3081240" y="2673360"/>
            <a:ext cx="498600" cy="1930320"/>
          </a:xfrm>
          <a:custGeom>
            <a:avLst/>
            <a:gdLst>
              <a:gd name="textAreaLeft" fmla="*/ 0 w 498600"/>
              <a:gd name="textAreaRight" fmla="*/ 498960 w 498600"/>
              <a:gd name="textAreaTop" fmla="*/ 0 h 1930320"/>
              <a:gd name="textAreaBottom" fmla="*/ 1930680 h 1930320"/>
            </a:gdLst>
            <a:ahLst/>
            <a:rect l="textAreaLeft" t="textAreaTop" r="textAreaRight" b="textAreaBottom"/>
            <a:pathLst>
              <a:path w="276" h="1086">
                <a:moveTo>
                  <a:pt x="276" y="0"/>
                </a:moveTo>
                <a:lnTo>
                  <a:pt x="0" y="825"/>
                </a:lnTo>
                <a:lnTo>
                  <a:pt x="0" y="1086"/>
                </a:lnTo>
                <a:lnTo>
                  <a:pt x="24" y="1086"/>
                </a:lnTo>
                <a:lnTo>
                  <a:pt x="30" y="954"/>
                </a:lnTo>
                <a:lnTo>
                  <a:pt x="276" y="147"/>
                </a:lnTo>
                <a:lnTo>
                  <a:pt x="276"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Freeform 9"/>
          <p:cNvSpPr/>
          <p:nvPr/>
        </p:nvSpPr>
        <p:spPr>
          <a:xfrm>
            <a:off x="3583080" y="1644480"/>
            <a:ext cx="420480" cy="4521240"/>
          </a:xfrm>
          <a:custGeom>
            <a:avLst/>
            <a:gdLst>
              <a:gd name="textAreaLeft" fmla="*/ 0 w 420480"/>
              <a:gd name="textAreaRight" fmla="*/ 420840 w 420480"/>
              <a:gd name="textAreaTop" fmla="*/ 0 h 4521240"/>
              <a:gd name="textAreaBottom" fmla="*/ 4521240 h 4521240"/>
            </a:gdLst>
            <a:ahLst/>
            <a:rect l="textAreaLeft" t="textAreaTop" r="textAreaRight" b="textAreaBottom"/>
            <a:pathLst>
              <a:path w="233" h="2544">
                <a:moveTo>
                  <a:pt x="2" y="21"/>
                </a:moveTo>
                <a:lnTo>
                  <a:pt x="2" y="2467"/>
                </a:lnTo>
                <a:lnTo>
                  <a:pt x="22" y="2507"/>
                </a:lnTo>
                <a:cubicBezTo>
                  <a:pt x="31" y="2526"/>
                  <a:pt x="59" y="2528"/>
                  <a:pt x="76" y="2534"/>
                </a:cubicBezTo>
                <a:cubicBezTo>
                  <a:pt x="159" y="2528"/>
                  <a:pt x="170" y="2544"/>
                  <a:pt x="216" y="2501"/>
                </a:cubicBezTo>
                <a:cubicBezTo>
                  <a:pt x="229" y="2457"/>
                  <a:pt x="233" y="2451"/>
                  <a:pt x="229" y="2381"/>
                </a:cubicBezTo>
                <a:cubicBezTo>
                  <a:pt x="227" y="2351"/>
                  <a:pt x="162" y="2353"/>
                  <a:pt x="162" y="2334"/>
                </a:cubicBezTo>
                <a:lnTo>
                  <a:pt x="176" y="301"/>
                </a:lnTo>
                <a:cubicBezTo>
                  <a:pt x="184" y="274"/>
                  <a:pt x="193" y="279"/>
                  <a:pt x="216" y="267"/>
                </a:cubicBezTo>
                <a:lnTo>
                  <a:pt x="216" y="27"/>
                </a:lnTo>
                <a:cubicBezTo>
                  <a:pt x="209" y="29"/>
                  <a:pt x="202" y="30"/>
                  <a:pt x="196" y="34"/>
                </a:cubicBezTo>
                <a:cubicBezTo>
                  <a:pt x="191" y="37"/>
                  <a:pt x="188" y="44"/>
                  <a:pt x="182" y="47"/>
                </a:cubicBezTo>
                <a:cubicBezTo>
                  <a:pt x="169" y="53"/>
                  <a:pt x="143" y="56"/>
                  <a:pt x="143" y="56"/>
                </a:cubicBezTo>
                <a:cubicBezTo>
                  <a:pt x="123" y="43"/>
                  <a:pt x="105" y="29"/>
                  <a:pt x="82" y="21"/>
                </a:cubicBezTo>
                <a:cubicBezTo>
                  <a:pt x="69" y="16"/>
                  <a:pt x="42" y="7"/>
                  <a:pt x="42" y="7"/>
                </a:cubicBezTo>
                <a:cubicBezTo>
                  <a:pt x="0" y="14"/>
                  <a:pt x="2" y="0"/>
                  <a:pt x="2" y="21"/>
                </a:cubicBezTo>
                <a:close/>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Line 10"/>
          <p:cNvSpPr/>
          <p:nvPr/>
        </p:nvSpPr>
        <p:spPr>
          <a:xfrm>
            <a:off x="3654360" y="1890720"/>
            <a:ext cx="0" cy="76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Line 11"/>
          <p:cNvSpPr/>
          <p:nvPr/>
        </p:nvSpPr>
        <p:spPr>
          <a:xfrm>
            <a:off x="3654360" y="2754360"/>
            <a:ext cx="0" cy="64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Line 12"/>
          <p:cNvSpPr/>
          <p:nvPr/>
        </p:nvSpPr>
        <p:spPr>
          <a:xfrm>
            <a:off x="3649680" y="3500280"/>
            <a:ext cx="0" cy="86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Line 13"/>
          <p:cNvSpPr/>
          <p:nvPr/>
        </p:nvSpPr>
        <p:spPr>
          <a:xfrm>
            <a:off x="3649680" y="4567320"/>
            <a:ext cx="0" cy="677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Line 14"/>
          <p:cNvSpPr/>
          <p:nvPr/>
        </p:nvSpPr>
        <p:spPr>
          <a:xfrm>
            <a:off x="3657600" y="5416560"/>
            <a:ext cx="0" cy="49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Freeform 15"/>
          <p:cNvSpPr/>
          <p:nvPr/>
        </p:nvSpPr>
        <p:spPr>
          <a:xfrm>
            <a:off x="3898800" y="2220840"/>
            <a:ext cx="184320" cy="3560760"/>
          </a:xfrm>
          <a:custGeom>
            <a:avLst/>
            <a:gdLst>
              <a:gd name="textAreaLeft" fmla="*/ 0 w 184320"/>
              <a:gd name="textAreaRight" fmla="*/ 184680 w 184320"/>
              <a:gd name="textAreaTop" fmla="*/ 0 h 3560760"/>
              <a:gd name="textAreaBottom" fmla="*/ 3561120 h 3560760"/>
            </a:gdLst>
            <a:ahLst/>
            <a:rect l="textAreaLeft" t="textAreaTop" r="textAreaRight" b="textAreaBottom"/>
            <a:pathLst>
              <a:path w="102" h="2004">
                <a:moveTo>
                  <a:pt x="12" y="0"/>
                </a:moveTo>
                <a:lnTo>
                  <a:pt x="0" y="2004"/>
                </a:lnTo>
                <a:lnTo>
                  <a:pt x="48" y="2004"/>
                </a:lnTo>
                <a:lnTo>
                  <a:pt x="90" y="1968"/>
                </a:lnTo>
                <a:lnTo>
                  <a:pt x="90" y="1818"/>
                </a:lnTo>
                <a:lnTo>
                  <a:pt x="48" y="1818"/>
                </a:lnTo>
                <a:lnTo>
                  <a:pt x="48" y="1767"/>
                </a:lnTo>
                <a:lnTo>
                  <a:pt x="90" y="1764"/>
                </a:lnTo>
                <a:lnTo>
                  <a:pt x="90" y="1464"/>
                </a:lnTo>
                <a:lnTo>
                  <a:pt x="54" y="1464"/>
                </a:lnTo>
                <a:lnTo>
                  <a:pt x="54" y="1332"/>
                </a:lnTo>
                <a:lnTo>
                  <a:pt x="102" y="1332"/>
                </a:lnTo>
                <a:lnTo>
                  <a:pt x="102" y="918"/>
                </a:lnTo>
                <a:lnTo>
                  <a:pt x="54" y="918"/>
                </a:lnTo>
                <a:lnTo>
                  <a:pt x="54" y="780"/>
                </a:lnTo>
                <a:lnTo>
                  <a:pt x="96" y="780"/>
                </a:lnTo>
                <a:lnTo>
                  <a:pt x="96" y="552"/>
                </a:lnTo>
                <a:lnTo>
                  <a:pt x="54" y="510"/>
                </a:lnTo>
                <a:lnTo>
                  <a:pt x="54" y="18"/>
                </a:lnTo>
                <a:cubicBezTo>
                  <a:pt x="52" y="12"/>
                  <a:pt x="48" y="0"/>
                  <a:pt x="48" y="0"/>
                </a:cubicBezTo>
                <a:lnTo>
                  <a:pt x="12" y="0"/>
                </a:lnTo>
                <a:close/>
              </a:path>
            </a:pathLst>
          </a:custGeom>
          <a:solidFill>
            <a:srgbClr val="80808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Line 16"/>
          <p:cNvSpPr/>
          <p:nvPr/>
        </p:nvSpPr>
        <p:spPr>
          <a:xfrm>
            <a:off x="3622680" y="1752480"/>
            <a:ext cx="0" cy="426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Rectangle 17"/>
          <p:cNvSpPr/>
          <p:nvPr/>
        </p:nvSpPr>
        <p:spPr>
          <a:xfrm>
            <a:off x="2216160" y="1763640"/>
            <a:ext cx="879480" cy="42418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Text Box 18"/>
          <p:cNvSpPr/>
          <p:nvPr/>
        </p:nvSpPr>
        <p:spPr>
          <a:xfrm>
            <a:off x="5795640" y="1927080"/>
            <a:ext cx="2148480" cy="51012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82c00"/>
                </a:solidFill>
                <a:latin typeface="Arial"/>
              </a:rPr>
              <a:t>Formation (</a:t>
            </a:r>
            <a:r>
              <a:rPr b="1" lang="en-US" sz="2400" spc="-1" strike="noStrike">
                <a:solidFill>
                  <a:srgbClr val="582c00"/>
                </a:solidFill>
                <a:latin typeface="Symbol"/>
                <a:ea typeface="Symbol"/>
              </a:rPr>
              <a:t></a:t>
            </a:r>
            <a:r>
              <a:rPr b="1" lang="en-US" sz="2400" spc="-1" strike="noStrike" baseline="-25000">
                <a:solidFill>
                  <a:srgbClr val="582c00"/>
                </a:solidFill>
                <a:latin typeface="Arial"/>
              </a:rPr>
              <a:t>b</a:t>
            </a:r>
            <a:r>
              <a:rPr b="1" lang="en-US" sz="2400" spc="-1" strike="noStrike">
                <a:solidFill>
                  <a:srgbClr val="582c00"/>
                </a:solidFill>
                <a:latin typeface="Arial"/>
              </a:rPr>
              <a:t>)</a:t>
            </a:r>
            <a:endParaRPr b="0" lang="en-US" sz="2400" spc="-1" strike="noStrike">
              <a:solidFill>
                <a:srgbClr val="000000"/>
              </a:solidFill>
              <a:latin typeface="Times New Roman"/>
            </a:endParaRPr>
          </a:p>
        </p:txBody>
      </p:sp>
      <p:grpSp>
        <p:nvGrpSpPr>
          <p:cNvPr id="353" name="Group 19"/>
          <p:cNvGrpSpPr/>
          <p:nvPr/>
        </p:nvGrpSpPr>
        <p:grpSpPr>
          <a:xfrm>
            <a:off x="4068720" y="3398760"/>
            <a:ext cx="3765600" cy="798120"/>
            <a:chOff x="4068720" y="3398760"/>
            <a:chExt cx="3765600" cy="798120"/>
          </a:xfrm>
        </p:grpSpPr>
        <p:sp>
          <p:nvSpPr>
            <p:cNvPr id="354" name="Text Box 20"/>
            <p:cNvSpPr/>
            <p:nvPr/>
          </p:nvSpPr>
          <p:spPr>
            <a:xfrm>
              <a:off x="5677200" y="3444840"/>
              <a:ext cx="2157120" cy="752040"/>
            </a:xfrm>
            <a:prstGeom prst="rect">
              <a:avLst/>
            </a:prstGeom>
            <a:noFill/>
            <a:ln w="0">
              <a:noFill/>
            </a:ln>
          </p:spPr>
          <p:style>
            <a:lnRef idx="0"/>
            <a:fillRef idx="0"/>
            <a:effectRef idx="0"/>
            <a:fontRef idx="minor"/>
          </p:style>
          <p:txBody>
            <a:bodyPr wrap="none" lIns="45720" rIns="4572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Long spacing </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detector</a:t>
              </a:r>
              <a:endParaRPr b="0" lang="en-US" sz="2400" spc="-1" strike="noStrike">
                <a:solidFill>
                  <a:srgbClr val="000000"/>
                </a:solidFill>
                <a:latin typeface="Times New Roman"/>
              </a:endParaRPr>
            </a:p>
          </p:txBody>
        </p:sp>
        <p:sp>
          <p:nvSpPr>
            <p:cNvPr id="355" name="Line 21"/>
            <p:cNvSpPr/>
            <p:nvPr/>
          </p:nvSpPr>
          <p:spPr>
            <a:xfrm>
              <a:off x="4068720" y="3719520"/>
              <a:ext cx="974880" cy="0"/>
            </a:xfrm>
            <a:prstGeom prst="line">
              <a:avLst/>
            </a:prstGeom>
            <a:ln w="38160">
              <a:solidFill>
                <a:srgbClr val="0066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AutoShape 22"/>
            <p:cNvSpPr/>
            <p:nvPr/>
          </p:nvSpPr>
          <p:spPr>
            <a:xfrm flipH="1">
              <a:off x="4959360" y="3398760"/>
              <a:ext cx="123840" cy="60804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7" name="Group 23"/>
          <p:cNvGrpSpPr/>
          <p:nvPr/>
        </p:nvGrpSpPr>
        <p:grpSpPr>
          <a:xfrm>
            <a:off x="4081320" y="4492800"/>
            <a:ext cx="3819240" cy="752040"/>
            <a:chOff x="4081320" y="4492800"/>
            <a:chExt cx="3819240" cy="752040"/>
          </a:xfrm>
        </p:grpSpPr>
        <p:sp>
          <p:nvSpPr>
            <p:cNvPr id="358" name="Text Box 24"/>
            <p:cNvSpPr/>
            <p:nvPr/>
          </p:nvSpPr>
          <p:spPr>
            <a:xfrm>
              <a:off x="5691600" y="4492800"/>
              <a:ext cx="2208960" cy="752040"/>
            </a:xfrm>
            <a:prstGeom prst="rect">
              <a:avLst/>
            </a:prstGeom>
            <a:noFill/>
            <a:ln w="0">
              <a:noFill/>
            </a:ln>
          </p:spPr>
          <p:style>
            <a:lnRef idx="0"/>
            <a:fillRef idx="0"/>
            <a:effectRef idx="0"/>
            <a:fontRef idx="minor"/>
          </p:style>
          <p:txBody>
            <a:bodyPr wrap="none" lIns="45720" rIns="4572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Short spacing </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detector</a:t>
              </a:r>
              <a:endParaRPr b="0" lang="en-US" sz="2400" spc="-1" strike="noStrike">
                <a:solidFill>
                  <a:srgbClr val="000000"/>
                </a:solidFill>
                <a:latin typeface="Times New Roman"/>
              </a:endParaRPr>
            </a:p>
          </p:txBody>
        </p:sp>
        <p:sp>
          <p:nvSpPr>
            <p:cNvPr id="359" name="Line 25"/>
            <p:cNvSpPr/>
            <p:nvPr/>
          </p:nvSpPr>
          <p:spPr>
            <a:xfrm>
              <a:off x="4081320" y="4714920"/>
              <a:ext cx="48132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AutoShape 26"/>
            <p:cNvSpPr/>
            <p:nvPr/>
          </p:nvSpPr>
          <p:spPr>
            <a:xfrm flipH="1">
              <a:off x="4522680" y="4576680"/>
              <a:ext cx="84240" cy="277920"/>
            </a:xfrm>
            <a:custGeom>
              <a:avLst/>
              <a:gdLst/>
              <a:ahLst/>
              <a:rect l="l" t="t" r="r" b="b"/>
              <a:pathLst>
                <a:path w="21600" h="21600">
                  <a:moveTo>
                    <a:pt x="21600" y="0"/>
                  </a:moveTo>
                  <a:cubicBezTo>
                    <a:pt x="10800" y="0"/>
                    <a:pt x="0" y="5080"/>
                    <a:pt x="0" y="10800"/>
                  </a:cubicBezTo>
                  <a:cubicBezTo>
                    <a:pt x="0" y="16520"/>
                    <a:pt x="10800" y="21600"/>
                    <a:pt x="21600" y="21600"/>
                  </a:cubicBezTo>
                  <a:cubicBezTo>
                    <a:pt x="9740" y="21600"/>
                    <a:pt x="0" y="16730"/>
                    <a:pt x="0" y="10800"/>
                  </a:cubicBezTo>
                  <a:cubicBezTo>
                    <a:pt x="0" y="4870"/>
                    <a:pt x="9740" y="0"/>
                    <a:pt x="21600" y="0"/>
                  </a:cubicBezTo>
                  <a:close/>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1" name="Freeform 27"/>
          <p:cNvSpPr/>
          <p:nvPr/>
        </p:nvSpPr>
        <p:spPr>
          <a:xfrm>
            <a:off x="3079800" y="1755720"/>
            <a:ext cx="82440" cy="4249800"/>
          </a:xfrm>
          <a:custGeom>
            <a:avLst/>
            <a:gdLst>
              <a:gd name="textAreaLeft" fmla="*/ 0 w 82440"/>
              <a:gd name="textAreaRight" fmla="*/ 82800 w 82440"/>
              <a:gd name="textAreaTop" fmla="*/ 0 h 4249800"/>
              <a:gd name="textAreaBottom" fmla="*/ 4250160 h 4249800"/>
            </a:gdLst>
            <a:ahLst/>
            <a:rect l="textAreaLeft" t="textAreaTop" r="textAreaRight" b="textAreaBottom"/>
            <a:pathLst>
              <a:path w="52" h="2677">
                <a:moveTo>
                  <a:pt x="0" y="0"/>
                </a:moveTo>
                <a:lnTo>
                  <a:pt x="52" y="0"/>
                </a:lnTo>
                <a:lnTo>
                  <a:pt x="42" y="1636"/>
                </a:lnTo>
                <a:lnTo>
                  <a:pt x="43" y="1770"/>
                </a:lnTo>
                <a:lnTo>
                  <a:pt x="52" y="1865"/>
                </a:lnTo>
                <a:lnTo>
                  <a:pt x="52" y="2261"/>
                </a:lnTo>
                <a:lnTo>
                  <a:pt x="52" y="2677"/>
                </a:lnTo>
                <a:lnTo>
                  <a:pt x="0" y="2677"/>
                </a:lnTo>
                <a:lnTo>
                  <a:pt x="0" y="0"/>
                </a:lnTo>
                <a:close/>
              </a:path>
            </a:pathLst>
          </a:custGeom>
          <a:solidFill>
            <a:srgbClr val="663300"/>
          </a:solidFill>
          <a:ln w="12600">
            <a:solidFill>
              <a:srgbClr val="66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Line 28"/>
          <p:cNvSpPr/>
          <p:nvPr/>
        </p:nvSpPr>
        <p:spPr>
          <a:xfrm>
            <a:off x="4178160" y="1755720"/>
            <a:ext cx="0" cy="4249800"/>
          </a:xfrm>
          <a:prstGeom prst="line">
            <a:avLst/>
          </a:prstGeom>
          <a:ln w="2556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Freeform 29"/>
          <p:cNvSpPr/>
          <p:nvPr/>
        </p:nvSpPr>
        <p:spPr>
          <a:xfrm>
            <a:off x="3765600" y="1617840"/>
            <a:ext cx="206280" cy="126720"/>
          </a:xfrm>
          <a:custGeom>
            <a:avLst/>
            <a:gdLst>
              <a:gd name="textAreaLeft" fmla="*/ 0 w 206280"/>
              <a:gd name="textAreaRight" fmla="*/ 206640 w 206280"/>
              <a:gd name="textAreaTop" fmla="*/ 0 h 126720"/>
              <a:gd name="textAreaBottom" fmla="*/ 127080 h 126720"/>
            </a:gdLst>
            <a:ahLst/>
            <a:rect l="textAreaLeft" t="textAreaTop" r="textAreaRight" b="textAreaBottom"/>
            <a:pathLst>
              <a:path w="114" h="71">
                <a:moveTo>
                  <a:pt x="0" y="45"/>
                </a:moveTo>
                <a:cubicBezTo>
                  <a:pt x="19" y="51"/>
                  <a:pt x="32" y="67"/>
                  <a:pt x="52" y="71"/>
                </a:cubicBezTo>
                <a:cubicBezTo>
                  <a:pt x="58" y="69"/>
                  <a:pt x="64" y="68"/>
                  <a:pt x="70" y="65"/>
                </a:cubicBezTo>
                <a:lnTo>
                  <a:pt x="102" y="47"/>
                </a:lnTo>
                <a:cubicBezTo>
                  <a:pt x="106" y="44"/>
                  <a:pt x="114" y="44"/>
                  <a:pt x="114" y="39"/>
                </a:cubicBezTo>
                <a:cubicBezTo>
                  <a:pt x="113" y="25"/>
                  <a:pt x="114" y="9"/>
                  <a:pt x="102" y="1"/>
                </a:cubicBezTo>
                <a:cubicBezTo>
                  <a:pt x="82" y="2"/>
                  <a:pt x="76" y="0"/>
                  <a:pt x="62" y="9"/>
                </a:cubicBezTo>
                <a:cubicBezTo>
                  <a:pt x="56" y="18"/>
                  <a:pt x="12" y="45"/>
                  <a:pt x="0" y="45"/>
                </a:cubicBez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Text Box 30"/>
          <p:cNvSpPr/>
          <p:nvPr/>
        </p:nvSpPr>
        <p:spPr>
          <a:xfrm>
            <a:off x="2875680" y="633240"/>
            <a:ext cx="1511280" cy="897120"/>
          </a:xfrm>
          <a:prstGeom prst="rect">
            <a:avLst/>
          </a:prstGeom>
          <a:noFill/>
          <a:ln w="0">
            <a:noFill/>
          </a:ln>
        </p:spPr>
        <p:style>
          <a:lnRef idx="0"/>
          <a:fillRef idx="0"/>
          <a:effectRef idx="0"/>
          <a:fontRef idx="minor"/>
        </p:style>
        <p:txBody>
          <a:bodyPr wrap="none" lIns="45720" rIns="4572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d cake</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Symbol"/>
                <a:ea typeface="Symbol"/>
              </a:rPr>
              <a:t></a:t>
            </a:r>
            <a:r>
              <a:rPr b="1" lang="en-US" sz="2400" spc="-1" strike="noStrike" baseline="-25000">
                <a:solidFill>
                  <a:srgbClr val="000000"/>
                </a:solidFill>
                <a:latin typeface="Arial"/>
              </a:rPr>
              <a:t>mc</a:t>
            </a:r>
            <a:r>
              <a:rPr b="1" lang="en-US" sz="2400" spc="-1" strike="noStrike">
                <a:solidFill>
                  <a:srgbClr val="000000"/>
                </a:solidFill>
                <a:latin typeface="Arial"/>
              </a:rPr>
              <a:t> + h</a:t>
            </a:r>
            <a:r>
              <a:rPr b="1" lang="en-US" sz="2400" spc="-1" strike="noStrike" baseline="-25000">
                <a:solidFill>
                  <a:srgbClr val="000000"/>
                </a:solidFill>
                <a:latin typeface="Arial"/>
              </a:rPr>
              <a:t>mc</a:t>
            </a: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365" name="Line 31"/>
          <p:cNvSpPr/>
          <p:nvPr/>
        </p:nvSpPr>
        <p:spPr>
          <a:xfrm flipH="1">
            <a:off x="5162040" y="2457360"/>
            <a:ext cx="2343240" cy="0"/>
          </a:xfrm>
          <a:prstGeom prst="line">
            <a:avLst/>
          </a:prstGeom>
          <a:ln w="38160">
            <a:solidFill>
              <a:srgbClr val="582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6" name="Group 32"/>
          <p:cNvGrpSpPr/>
          <p:nvPr/>
        </p:nvGrpSpPr>
        <p:grpSpPr>
          <a:xfrm>
            <a:off x="4152960" y="5178600"/>
            <a:ext cx="2662920" cy="459720"/>
            <a:chOff x="4152960" y="5178600"/>
            <a:chExt cx="2662920" cy="459720"/>
          </a:xfrm>
        </p:grpSpPr>
        <p:sp>
          <p:nvSpPr>
            <p:cNvPr id="367" name="Text Box 33"/>
            <p:cNvSpPr/>
            <p:nvPr/>
          </p:nvSpPr>
          <p:spPr>
            <a:xfrm>
              <a:off x="5691960" y="5178600"/>
              <a:ext cx="1123920" cy="459720"/>
            </a:xfrm>
            <a:prstGeom prst="rect">
              <a:avLst/>
            </a:prstGeom>
            <a:noFill/>
            <a:ln w="0">
              <a:noFill/>
            </a:ln>
          </p:spPr>
          <p:style>
            <a:lnRef idx="0"/>
            <a:fillRef idx="0"/>
            <a:effectRef idx="0"/>
            <a:fontRef idx="minor"/>
          </p:style>
          <p:txBody>
            <a:bodyPr wrap="none"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a:t>
              </a:r>
              <a:endParaRPr b="0" lang="en-US" sz="2400" spc="-1" strike="noStrike">
                <a:solidFill>
                  <a:srgbClr val="000000"/>
                </a:solidFill>
                <a:latin typeface="Times New Roman"/>
              </a:endParaRPr>
            </a:p>
          </p:txBody>
        </p:sp>
        <p:sp>
          <p:nvSpPr>
            <p:cNvPr id="368" name="Line 34"/>
            <p:cNvSpPr/>
            <p:nvPr/>
          </p:nvSpPr>
          <p:spPr>
            <a:xfrm flipH="1">
              <a:off x="4152960" y="5410080"/>
              <a:ext cx="1409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9" name="Freeform 35"/>
          <p:cNvSpPr/>
          <p:nvPr/>
        </p:nvSpPr>
        <p:spPr>
          <a:xfrm>
            <a:off x="2685960" y="930240"/>
            <a:ext cx="441360" cy="825480"/>
          </a:xfrm>
          <a:custGeom>
            <a:avLst/>
            <a:gdLst>
              <a:gd name="textAreaLeft" fmla="*/ 0 w 441360"/>
              <a:gd name="textAreaRight" fmla="*/ 441720 w 441360"/>
              <a:gd name="textAreaTop" fmla="*/ 0 h 825480"/>
              <a:gd name="textAreaBottom" fmla="*/ 825840 h 825480"/>
            </a:gdLst>
            <a:ahLst/>
            <a:rect l="textAreaLeft" t="textAreaTop" r="textAreaRight" b="textAreaBottom"/>
            <a:pathLst>
              <a:path w="278" h="511">
                <a:moveTo>
                  <a:pt x="95" y="20"/>
                </a:moveTo>
                <a:cubicBezTo>
                  <a:pt x="81" y="25"/>
                  <a:pt x="24" y="0"/>
                  <a:pt x="12" y="50"/>
                </a:cubicBezTo>
                <a:cubicBezTo>
                  <a:pt x="0" y="100"/>
                  <a:pt x="0" y="265"/>
                  <a:pt x="20" y="319"/>
                </a:cubicBezTo>
                <a:cubicBezTo>
                  <a:pt x="40" y="373"/>
                  <a:pt x="94" y="371"/>
                  <a:pt x="131" y="377"/>
                </a:cubicBezTo>
                <a:cubicBezTo>
                  <a:pt x="168" y="383"/>
                  <a:pt x="227" y="408"/>
                  <a:pt x="251" y="430"/>
                </a:cubicBezTo>
                <a:cubicBezTo>
                  <a:pt x="275" y="452"/>
                  <a:pt x="273" y="494"/>
                  <a:pt x="278" y="511"/>
                </a:cubicBezTo>
              </a:path>
            </a:pathLst>
          </a:custGeom>
          <a:noFill/>
          <a:ln w="2844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Freeform 36"/>
          <p:cNvSpPr/>
          <p:nvPr/>
        </p:nvSpPr>
        <p:spPr>
          <a:xfrm flipH="1">
            <a:off x="4133880" y="930240"/>
            <a:ext cx="441360" cy="825480"/>
          </a:xfrm>
          <a:custGeom>
            <a:avLst/>
            <a:gdLst>
              <a:gd name="textAreaLeft" fmla="*/ 360 w 441360"/>
              <a:gd name="textAreaRight" fmla="*/ 442080 w 441360"/>
              <a:gd name="textAreaTop" fmla="*/ 0 h 825480"/>
              <a:gd name="textAreaBottom" fmla="*/ 825840 h 825480"/>
            </a:gdLst>
            <a:ahLst/>
            <a:rect l="textAreaLeft" t="textAreaTop" r="textAreaRight" b="textAreaBottom"/>
            <a:pathLst>
              <a:path w="278" h="511">
                <a:moveTo>
                  <a:pt x="95" y="20"/>
                </a:moveTo>
                <a:cubicBezTo>
                  <a:pt x="81" y="25"/>
                  <a:pt x="24" y="0"/>
                  <a:pt x="12" y="50"/>
                </a:cubicBezTo>
                <a:cubicBezTo>
                  <a:pt x="0" y="100"/>
                  <a:pt x="0" y="265"/>
                  <a:pt x="20" y="319"/>
                </a:cubicBezTo>
                <a:cubicBezTo>
                  <a:pt x="40" y="373"/>
                  <a:pt x="94" y="371"/>
                  <a:pt x="131" y="377"/>
                </a:cubicBezTo>
                <a:cubicBezTo>
                  <a:pt x="168" y="383"/>
                  <a:pt x="227" y="408"/>
                  <a:pt x="251" y="430"/>
                </a:cubicBezTo>
                <a:cubicBezTo>
                  <a:pt x="275" y="452"/>
                  <a:pt x="273" y="494"/>
                  <a:pt x="278" y="511"/>
                </a:cubicBezTo>
              </a:path>
            </a:pathLst>
          </a:custGeom>
          <a:noFill/>
          <a:ln w="2844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352"/>
                                        </p:tgtEl>
                                        <p:attrNameLst>
                                          <p:attrName>style.visibility</p:attrName>
                                        </p:attrNameLst>
                                      </p:cBhvr>
                                      <p:to>
                                        <p:strVal val="visible"/>
                                      </p:to>
                                    </p:set>
                                    <p:animEffect filter="wipe(left)" transition="in">
                                      <p:cBhvr additive="repl">
                                        <p:cTn id="140" dur="500"/>
                                        <p:tgtEl>
                                          <p:spTgt spid="352"/>
                                        </p:tgtEl>
                                      </p:cBhvr>
                                    </p:animEffect>
                                  </p:childTnLst>
                                </p:cTn>
                              </p:par>
                            </p:childTnLst>
                          </p:cTn>
                        </p:par>
                        <p:par>
                          <p:cTn id="141" fill="hold">
                            <p:stCondLst>
                              <p:cond delay="500"/>
                            </p:stCondLst>
                            <p:childTnLst>
                              <p:par>
                                <p:cTn id="142" nodeType="afterEffect" fill="hold" presetClass="entr" presetID="22" presetSubtype="2">
                                  <p:stCondLst>
                                    <p:cond delay="0"/>
                                  </p:stCondLst>
                                  <p:childTnLst>
                                    <p:set>
                                      <p:cBhvr>
                                        <p:cTn id="143" dur="1" fill="hold">
                                          <p:stCondLst>
                                            <p:cond delay="0"/>
                                          </p:stCondLst>
                                        </p:cTn>
                                        <p:tgtEl>
                                          <p:spTgt spid="365"/>
                                        </p:tgtEl>
                                        <p:attrNameLst>
                                          <p:attrName>style.visibility</p:attrName>
                                        </p:attrNameLst>
                                      </p:cBhvr>
                                      <p:to>
                                        <p:strVal val="visible"/>
                                      </p:to>
                                    </p:set>
                                    <p:animEffect filter="wipe(right)" transition="in">
                                      <p:cBhvr additive="repl">
                                        <p:cTn id="144" dur="500"/>
                                        <p:tgtEl>
                                          <p:spTgt spid="36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2">
                                  <p:stCondLst>
                                    <p:cond delay="0"/>
                                  </p:stCondLst>
                                  <p:childTnLst>
                                    <p:set>
                                      <p:cBhvr>
                                        <p:cTn id="148" dur="1" fill="hold">
                                          <p:stCondLst>
                                            <p:cond delay="0"/>
                                          </p:stCondLst>
                                        </p:cTn>
                                        <p:tgtEl>
                                          <p:spTgt spid="366"/>
                                        </p:tgtEl>
                                        <p:attrNameLst>
                                          <p:attrName>style.visibility</p:attrName>
                                        </p:attrNameLst>
                                      </p:cBhvr>
                                      <p:to>
                                        <p:strVal val="visible"/>
                                      </p:to>
                                    </p:set>
                                    <p:animEffect filter="wipe(right)" transition="in">
                                      <p:cBhvr additive="repl">
                                        <p:cTn id="149" dur="500"/>
                                        <p:tgtEl>
                                          <p:spTgt spid="36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353"/>
                                        </p:tgtEl>
                                        <p:attrNameLst>
                                          <p:attrName>style.visibility</p:attrName>
                                        </p:attrNameLst>
                                      </p:cBhvr>
                                      <p:to>
                                        <p:strVal val="visible"/>
                                      </p:to>
                                    </p:set>
                                    <p:animEffect filter="wipe(left)" transition="in">
                                      <p:cBhvr additive="repl">
                                        <p:cTn id="154" dur="500"/>
                                        <p:tgtEl>
                                          <p:spTgt spid="353"/>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57"/>
                                        </p:tgtEl>
                                        <p:attrNameLst>
                                          <p:attrName>style.visibility</p:attrName>
                                        </p:attrNameLst>
                                      </p:cBhvr>
                                      <p:to>
                                        <p:strVal val="visible"/>
                                      </p:to>
                                    </p:set>
                                    <p:animEffect filter="wipe(left)" transition="in">
                                      <p:cBhvr additive="repl">
                                        <p:cTn id="159"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305080" y="609120"/>
            <a:ext cx="4533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rPr>
              <a:t>BULK DENSITY</a:t>
            </a:r>
            <a:endParaRPr b="0" lang="en-US" sz="4400" spc="-1" strike="noStrike">
              <a:solidFill>
                <a:srgbClr val="000000"/>
              </a:solidFill>
              <a:latin typeface="Times New Roman"/>
            </a:endParaRPr>
          </a:p>
        </p:txBody>
      </p:sp>
      <mc:AlternateContent>
        <mc:Choice xmlns:a14="http://schemas.microsoft.com/office/drawing/2010/main" Requires="a14">
          <p:sp>
            <p:nvSpPr>
              <p:cNvPr id="372" name="Object 0"/>
              <p:cNvSpPr txBox="1"/>
              <p:nvPr/>
            </p:nvSpPr>
            <p:spPr>
              <a:xfrm>
                <a:off x="1066680" y="2584440"/>
                <a:ext cx="6588360" cy="844560"/>
              </a:xfrm>
              <a:prstGeom prst="rect">
                <a:avLst/>
              </a:prstGeom>
            </p:spPr>
            <p:txBody>
              <a:bodyPr/>
              <a:p>
                <a14:m>
                  <m:oMath xmlns:m="http://schemas.openxmlformats.org/officeDocument/2006/math">
                    <m:sSub>
                      <m:e>
                        <m:r>
                          <m:t xml:space="preserve">ρρ</m:t>
                        </m:r>
                      </m:e>
                      <m:sub>
                        <m:r>
                          <m:t xml:space="preserve">b</m:t>
                        </m:r>
                      </m:sub>
                    </m:sSub>
                    <m:r>
                      <m:t xml:space="preserve"> </m:t>
                    </m:r>
                    <m:r>
                      <m:t xml:space="preserve">=</m:t>
                    </m:r>
                    <m:sSub>
                      <m:e>
                        <m:r>
                          <m:t xml:space="preserve">ρ</m:t>
                        </m:r>
                      </m:e>
                      <m:sub>
                        <m:r>
                          <m:rPr>
                            <m:lit/>
                            <m:nor/>
                          </m:rPr>
                          <m:t xml:space="preserve">ma</m:t>
                        </m:r>
                      </m:sub>
                    </m:sSub>
                    <m:r>
                      <m:t xml:space="preserve"> </m:t>
                    </m:r>
                    <m:d>
                      <m:dPr>
                        <m:begChr m:val="("/>
                        <m:endChr m:val=")"/>
                      </m:dPr>
                      <m:e>
                        <m:r>
                          <m:t xml:space="preserve">1</m:t>
                        </m:r>
                        <m:r>
                          <m:t xml:space="preserve"> </m:t>
                        </m:r>
                        <m:r>
                          <m:t xml:space="preserve">−</m:t>
                        </m:r>
                        <m:r>
                          <m:t xml:space="preserve"> </m:t>
                        </m:r>
                        <m:r>
                          <m:t xml:space="preserve">φ</m:t>
                        </m:r>
                      </m:e>
                    </m:d>
                    <m:r>
                      <m:t xml:space="preserve"> </m:t>
                    </m:r>
                    <m:r>
                      <m:t xml:space="preserve">+</m:t>
                    </m:r>
                    <m:sSub>
                      <m:e>
                        <m:r>
                          <m:t xml:space="preserve">ρ</m:t>
                        </m:r>
                      </m:e>
                      <m:sub>
                        <m:r>
                          <m:t xml:space="preserve">f</m:t>
                        </m:r>
                      </m:sub>
                    </m:sSub>
                    <m:r>
                      <m:t xml:space="preserve"> </m:t>
                    </m:r>
                    <m:r>
                      <m:t xml:space="preserve">φ</m:t>
                    </m:r>
                  </m:oMath>
                </a14:m>
              </a:p>
            </p:txBody>
          </p:sp>
        </mc:Choice>
        <mc:Fallback/>
      </mc:AlternateContent>
      <p:grpSp>
        <p:nvGrpSpPr>
          <p:cNvPr id="373" name="Group 4"/>
          <p:cNvGrpSpPr/>
          <p:nvPr/>
        </p:nvGrpSpPr>
        <p:grpSpPr>
          <a:xfrm>
            <a:off x="3043080" y="3352680"/>
            <a:ext cx="2628720" cy="1204920"/>
            <a:chOff x="3043080" y="3352680"/>
            <a:chExt cx="2628720" cy="1204920"/>
          </a:xfrm>
        </p:grpSpPr>
        <p:sp>
          <p:nvSpPr>
            <p:cNvPr id="374" name="AutoShape 5"/>
            <p:cNvSpPr/>
            <p:nvPr/>
          </p:nvSpPr>
          <p:spPr>
            <a:xfrm rot="16200000">
              <a:off x="4033440" y="2362320"/>
              <a:ext cx="648000" cy="2628720"/>
            </a:xfrm>
            <a:custGeom>
              <a:avLst/>
              <a:gdLst>
                <a:gd name="textAreaLeft" fmla="*/ 414000 w 648000"/>
                <a:gd name="textAreaRight" fmla="*/ 648000 w 648000"/>
                <a:gd name="textAreaTop" fmla="*/ 68400 h 2628720"/>
                <a:gd name="textAreaBottom" fmla="*/ 2560320 h 262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Text Box 6"/>
            <p:cNvSpPr/>
            <p:nvPr/>
          </p:nvSpPr>
          <p:spPr>
            <a:xfrm>
              <a:off x="3706920" y="4006800"/>
              <a:ext cx="13010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trix</a:t>
              </a:r>
              <a:endParaRPr b="0" lang="en-US" sz="3000" spc="-1" strike="noStrike">
                <a:solidFill>
                  <a:srgbClr val="000000"/>
                </a:solidFill>
                <a:latin typeface="Times New Roman"/>
              </a:endParaRPr>
            </a:p>
          </p:txBody>
        </p:sp>
      </p:grpSp>
      <p:grpSp>
        <p:nvGrpSpPr>
          <p:cNvPr id="376" name="Group 7"/>
          <p:cNvGrpSpPr/>
          <p:nvPr/>
        </p:nvGrpSpPr>
        <p:grpSpPr>
          <a:xfrm>
            <a:off x="5752440" y="3314520"/>
            <a:ext cx="2509560" cy="1699920"/>
            <a:chOff x="5752440" y="3314520"/>
            <a:chExt cx="2509560" cy="1699920"/>
          </a:xfrm>
        </p:grpSpPr>
        <p:sp>
          <p:nvSpPr>
            <p:cNvPr id="377" name="AutoShape 8"/>
            <p:cNvSpPr/>
            <p:nvPr/>
          </p:nvSpPr>
          <p:spPr>
            <a:xfrm rot="16200000">
              <a:off x="6680160" y="3105000"/>
              <a:ext cx="647640" cy="1066680"/>
            </a:xfrm>
            <a:custGeom>
              <a:avLst/>
              <a:gdLst>
                <a:gd name="textAreaLeft" fmla="*/ 414000 w 647640"/>
                <a:gd name="textAreaRight" fmla="*/ 648000 w 647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Text Box 9"/>
            <p:cNvSpPr/>
            <p:nvPr/>
          </p:nvSpPr>
          <p:spPr>
            <a:xfrm>
              <a:off x="5752440" y="4006800"/>
              <a:ext cx="2509560" cy="100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luids in</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lushed zone</a:t>
              </a:r>
              <a:endParaRPr b="0" lang="en-US" sz="3000" spc="-1" strike="noStrike">
                <a:solidFill>
                  <a:srgbClr val="000000"/>
                </a:solidFill>
                <a:latin typeface="Times New Roman"/>
              </a:endParaRPr>
            </a:p>
          </p:txBody>
        </p:sp>
      </p:grpSp>
      <p:sp>
        <p:nvSpPr>
          <p:cNvPr id="379" name="Text Box 10"/>
          <p:cNvSpPr/>
          <p:nvPr/>
        </p:nvSpPr>
        <p:spPr>
          <a:xfrm>
            <a:off x="9000" y="4924440"/>
            <a:ext cx="3920400" cy="1935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s electron density of a formation</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ng function of formation bulk density</a:t>
            </a:r>
            <a:endParaRPr b="0" lang="en-US" sz="16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rix bulk density varies with lithology</a:t>
            </a:r>
            <a:endParaRPr b="0" lang="en-US" sz="1600" spc="-1" strike="noStrike">
              <a:solidFill>
                <a:srgbClr val="000000"/>
              </a:solidFill>
              <a:latin typeface="Times New Roman"/>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ndstone 2.65 g/cc</a:t>
            </a:r>
            <a:endParaRPr b="0" lang="en-US" sz="1600" spc="-1" strike="noStrike">
              <a:solidFill>
                <a:srgbClr val="000000"/>
              </a:solidFill>
              <a:latin typeface="Times New Roman"/>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mestone 2.71 g/cc</a:t>
            </a:r>
            <a:endParaRPr b="0" lang="en-US" sz="1600" spc="-1" strike="noStrike">
              <a:solidFill>
                <a:srgbClr val="000000"/>
              </a:solidFill>
              <a:latin typeface="Times New Roman"/>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lomite 2.87 g/c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9">
                                  <p:stCondLst>
                                    <p:cond delay="0"/>
                                  </p:stCondLst>
                                  <p:childTnLst>
                                    <p:set>
                                      <p:cBhvr>
                                        <p:cTn id="165" dur="1" fill="hold">
                                          <p:stCondLst>
                                            <p:cond delay="0"/>
                                          </p:stCondLst>
                                        </p:cTn>
                                        <p:tgtEl>
                                          <p:spTgt spid="371"/>
                                        </p:tgtEl>
                                        <p:attrNameLst>
                                          <p:attrName>style.visibility</p:attrName>
                                        </p:attrNameLst>
                                      </p:cBhvr>
                                      <p:to>
                                        <p:strVal val="visible"/>
                                      </p:to>
                                    </p:set>
                                    <p:animEffect filter="dissolve" transition="in">
                                      <p:cBhvr additive="repl">
                                        <p:cTn id="166" dur="500"/>
                                        <p:tgtEl>
                                          <p:spTgt spid="371"/>
                                        </p:tgtEl>
                                      </p:cBhvr>
                                    </p:animEffect>
                                  </p:childTnLst>
                                </p:cTn>
                              </p:par>
                            </p:childTnLst>
                          </p:cTn>
                        </p:par>
                        <p:par>
                          <p:cTn id="167" fill="hold">
                            <p:stCondLst>
                              <p:cond delay="500"/>
                            </p:stCondLst>
                            <p:childTnLst>
                              <p:par>
                                <p:cTn id="168" nodeType="afterEffect" fill="hold" presetClass="entr" presetID="4" presetSubtype="32">
                                  <p:stCondLst>
                                    <p:cond delay="0"/>
                                  </p:stCondLst>
                                  <p:childTnLst>
                                    <p:set>
                                      <p:cBhvr>
                                        <p:cTn id="169" dur="1" fill="hold">
                                          <p:stCondLst>
                                            <p:cond delay="0"/>
                                          </p:stCondLst>
                                        </p:cTn>
                                        <p:tgtEl>
                                          <p:spTgt spid="372"/>
                                        </p:tgtEl>
                                        <p:attrNameLst>
                                          <p:attrName>style.visibility</p:attrName>
                                        </p:attrNameLst>
                                      </p:cBhvr>
                                      <p:to>
                                        <p:strVal val="visible"/>
                                      </p:to>
                                    </p:set>
                                    <p:animEffect filter="box(out)" transition="in">
                                      <p:cBhvr additive="repl">
                                        <p:cTn id="170" dur="500"/>
                                        <p:tgtEl>
                                          <p:spTgt spid="372"/>
                                        </p:tgtEl>
                                      </p:cBhvr>
                                    </p:animEffect>
                                  </p:childTnLst>
                                </p:cTn>
                              </p:par>
                            </p:childTnLst>
                          </p:cTn>
                        </p:par>
                        <p:par>
                          <p:cTn id="171" fill="hold">
                            <p:stCondLst>
                              <p:cond delay="1000"/>
                            </p:stCondLst>
                            <p:childTnLst>
                              <p:par>
                                <p:cTn id="172" nodeType="afterEffect" fill="hold" presetClass="entr" presetID="1">
                                  <p:stCondLst>
                                    <p:cond delay="1000"/>
                                  </p:stCondLst>
                                  <p:childTnLst>
                                    <p:set>
                                      <p:cBhvr>
                                        <p:cTn id="173" dur="1" fill="hold">
                                          <p:stCondLst>
                                            <p:cond delay="499"/>
                                          </p:stCondLst>
                                        </p:cTn>
                                        <p:tgtEl>
                                          <p:spTgt spid="373"/>
                                        </p:tgtEl>
                                        <p:attrNameLst>
                                          <p:attrName>style.visibility</p:attrName>
                                        </p:attrNameLst>
                                      </p:cBhvr>
                                      <p:to>
                                        <p:strVal val="visible"/>
                                      </p:to>
                                    </p:set>
                                  </p:childTnLst>
                                </p:cTn>
                              </p:par>
                            </p:childTnLst>
                          </p:cTn>
                        </p:par>
                        <p:par>
                          <p:cTn id="174" fill="hold">
                            <p:stCondLst>
                              <p:cond delay="2500"/>
                            </p:stCondLst>
                            <p:childTnLst>
                              <p:par>
                                <p:cTn id="175" nodeType="afterEffect" fill="hold" presetClass="entr" presetID="1">
                                  <p:stCondLst>
                                    <p:cond delay="1000"/>
                                  </p:stCondLst>
                                  <p:childTnLst>
                                    <p:set>
                                      <p:cBhvr>
                                        <p:cTn id="176" dur="1" fill="hold">
                                          <p:stCondLst>
                                            <p:cond delay="499"/>
                                          </p:stCondLst>
                                        </p:cTn>
                                        <p:tgtEl>
                                          <p:spTgt spid="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18:57:25Z</dcterms:created>
  <dc:creator>-32768</dc:creator>
  <dc:description/>
  <dc:language>en-US</dc:language>
  <cp:lastModifiedBy>ksu</cp:lastModifiedBy>
  <dcterms:modified xsi:type="dcterms:W3CDTF">2011-10-28T01:02:24Z</dcterms:modified>
  <cp:revision>18</cp:revision>
  <dc:subject/>
  <dc:title>PowerPoint Presentation</dc:title>
</cp:coreProperties>
</file>