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9900-ECD6-438D-BC4B-F034BC0C9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B0D8-CC27-49FC-A7B8-0A8F382A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4295B-7AF9-4CB7-B3F6-1BE50640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08E09-8B6A-476A-AEE2-ECECE38A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B59A4-E11B-438C-A186-84A07C44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965A7-D247-46D0-B158-DE10A872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56B3FF-EF67-4999-A014-3D60F040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8A141-035D-4746-8FFA-C586E599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13518-8318-49BF-98C8-A7EA0074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AA73C-A2A0-4FA3-8A54-04B08D403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6E8C8-B616-4E44-94F1-CBA672EC7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D72807-285D-4771-8157-C9B8175EA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5295-3163-4972-93D6-C818621E4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5CBEDD-D31F-4F62-B85B-AD964E43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3261E-5B91-47E3-8003-7AB3CB12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1EA0D7-0C96-4A81-A31F-DD95FE1C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B9AAD-D772-4862-94EE-A0E7A010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A6ADA-EC6D-489E-B340-B28CA3A2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3B0158-979A-46A9-8EFB-9A6F2F7B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DDDDB6-2FEC-40B4-B71B-2D9C4120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020BDB-4303-45FD-AAF3-92EC776B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F5B51C-5011-4022-9DE6-1FE34373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1B7BA-B15C-416D-A06D-46E65885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B961-1558-4ED4-9903-F292F000D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DE5B7-3584-47EA-86D7-06D9DDB2A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83886-7D38-4232-936B-DEF93FF0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3309F-C346-432C-B7FF-DC4A1ED1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30237-28F5-4022-9817-DF330815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D6F77-5981-4A74-9E29-F3B3BB33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428F7-5B83-4BDD-8CAC-ADB2178B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5FBC8-1F0B-4A5E-83B5-1C283EAC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A38DE-69F8-4AD3-87FB-95BAD4EF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64EAF-7E3A-4DDB-9106-71DCBCBD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9C0B7-AD09-4B29-B8DB-B10AA953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43C8-F118-4B88-98F9-DA079FEAF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D8DB3-F238-49E1-BA6D-3206140A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C2769-D563-4999-9513-DDCCE9838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8DB3B-424B-4958-A0D2-83E7291F3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62817A-C0B9-4417-9D25-B6BA54EDA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0A0071-AA9E-425E-9D9C-B7BC5F14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3565B2-D6EF-4E46-BCC0-07165875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F320B2-F199-40A4-98EF-328186BB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E8062D-377E-4E0C-A60E-3BC74651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85C99A-867B-4DE1-BA05-922CD70B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39AE80-7101-4530-9A3D-22BF175E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06E6-D2A0-4AE0-B0A9-7BE1E162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F2F95-8E56-484B-841C-9B1E8513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AC54B-88B7-49D7-A156-4AAE115D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B65AAB-E987-4903-A38A-594F9142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B648E-F550-4236-AB3F-945C3F630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77525-6F9C-46C1-9B9D-06A2A4FA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1D3B-D508-49CB-8852-D3D2DD3D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B33F-2BBA-4B60-878D-98720E42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AFDC-6D0D-4616-BC89-532CC63E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F436-91C6-4FCB-9999-A6B966FE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049B-A4A9-44D7-9FF3-29C52633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4A78-F5D9-4420-97A2-9965542C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8548-1ECE-41AE-9362-B70F3BF0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5540-4B6F-40ED-94FF-E1F598A2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83E3-DF5D-4269-9973-EF1BDF18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DA44-4CA8-4082-9CD2-EB8ED6B3D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2853-F105-4653-8B41-4C36DA26C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3C5F7-667B-4487-92CD-7667BF4D1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7FD7C-BAD4-4C67-A14E-6F8A81C8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7A89D-7AF2-417C-9FAA-BFC03DD5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FEC0A-ADC8-4EE5-8E06-FA46B3E0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FAD9A-22F8-4708-9A84-32B55E3C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2924-7098-4393-A3B1-EB7C69F3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C5909-0524-4D5C-83EF-057EFA70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642F2-ED19-4EE0-8A1B-7D8E9EB0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D3FAA-1FA4-4948-812B-F5A88B4F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9ED36-E495-4BD3-91C1-6AFB6F9C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3AC18-1560-48D5-A26A-098920AD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0246B-2555-43FD-86F1-E264D2815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2C2F2-55A7-41EF-AC83-7DE19750D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5A000-9C92-437D-83DD-8840EFE8A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BA16D-9BAE-4070-B506-351204B3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8BE7E-DA96-4305-9989-6507A4E9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4D89-B5EB-4C04-9A43-B1558537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E9838-7F51-4778-8788-E0086AC0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3732D-54C9-4B75-9278-806C7625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471AB-3A31-4F45-B261-7F9A1F06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02EBE-6DB5-4324-B1CE-C0B8F423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069B0-67A1-4250-86BA-056756B6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ECFE4-C263-4F17-8814-E79669C2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945E4-B966-4F3E-8B93-5A1D474E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86999-BC54-4ED6-8DC6-DC9A0871A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2C45B-3A01-425B-ADCF-88504B393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42289-0399-4976-BA60-447D2AB41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5206-297E-4AF1-A160-2FD177E5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C4DE2-C016-4FA8-AF1C-0A2E435E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CCC5E-DBAE-4D61-A07C-2C3E3330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B1D71-811C-47B9-B8C8-7B873569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743C5-2A14-48BD-BD04-A784A24D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B7C15-54DE-4968-88CB-A67F52C3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73EA2-8FB4-445C-8F82-F6004138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CDB1C-1661-4A6C-ADDC-2055984B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082F5-A9B6-40D0-80AF-E36D3B30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6DA49-DF62-4D4C-AF72-26C9B99C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8FB0B-5DE8-4F41-9818-C0554A25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FB11-0574-4201-B9EE-415B51E8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610D6-DC53-488F-8B78-A5A619814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03AB3-4C93-4046-B27A-AF4E537F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14FC6-32E7-4B85-A60F-F36E0778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46A85-FA04-4E08-BBB9-8E53A3C6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BEF6C-8354-42CC-B259-6276D697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0F41F-56AA-4C6F-8944-792EC444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76B0B-A781-499B-983F-801E6CC4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F51EE-AEE5-4135-9E29-1FF0D714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F7071-DB25-47CE-95EA-FFF29B65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EDA78-69D5-48E9-9BD5-C3944491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1F81-FD73-43FA-A6C2-4CE09781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4F51A-C1E6-445D-ABCB-B9365654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BA60E-CB14-429D-B5BB-8326AF06F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4E706-D281-40A6-81FE-83E8A5058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3015A-FED4-49F5-908E-93B44FB71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6BE75-6586-4AF2-A83F-6C0E4704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47324-59EF-4BE6-BB0F-63045C96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0F129-8981-4293-90F9-529CA521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EB2CC-9899-4CA1-B640-B21F2BC2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67784-9A80-4D88-BBB9-CBE9E435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9AE9C-47D9-4622-A213-470B929A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7D41-657C-42CA-90B8-E6E0188B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6FEA9-5FB9-47DB-A5F7-17E7511B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D1089-5B7E-4DF7-8DB9-12981E29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D5ADA-00CF-4F84-84B5-76B9FA0E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33596-B830-4FE9-A430-BB4E86DE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A43E3-DCA6-4FF9-8090-A9C85E103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4B49E-5D35-4455-8628-E648BAEE7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503AF-91DB-4149-9619-4A39DBD1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97156-FEB1-4306-83A0-7E9FDB24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26322-1810-4D3D-ABDB-F17D8B95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1921D-0C83-4E79-A7E6-28DC7B52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F74F-F1EE-4E53-BE57-E717426C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42B74-425E-43EB-9266-CFB30F02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A13A9-DDA6-469F-8F94-9AE558E6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AED0B-3CB7-4112-B88D-BCFB2D28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ECEAD-11F7-4137-BC7B-1C142095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F4BC9-C918-4829-AEC2-4A143A1A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3C54F-C759-403E-9989-D098E48DD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22D5E-F2E7-461F-B9BA-F87E5A9EB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E2366-797B-442B-96C5-C61E3E960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AA8E2-B3CD-49D5-BD0E-88AB0083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1806E9-5A3D-4060-9573-716F4BA7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A949-2BB3-44FE-8638-2517A6241E75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2183-7E80-4C7F-A467-2E7B7C9D817E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1B2A-3106-4F4D-BB8B-3170AAB0C3DA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E12E-369C-41A8-929F-F32DE09A6611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3AF5-A315-4460-A963-E75CDD009598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D9C3-52A0-40C3-B466-9531378D40AF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32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F0A2-06FC-4A92-80D3-9B6522F85E7F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E1ED-3435-44E9-87B2-DE0A77043E83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61FC-0CCF-4E09-AF6B-8BDEC44B070E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51F1-9AE8-40A6-9B75-C8A16F193B00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BC8C-F4AD-4A4B-990A-68996E320A61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8FAB-AA02-4D6E-8C8F-95BB43F7B205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Pentose Phosphate Pathwa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2133720" y="3962520"/>
            <a:ext cx="457200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  <a:ea typeface="Arial"/>
              </a:rPr>
              <a:t>Dr. Sooad Al-Dai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  <a:ea typeface="Arial"/>
              </a:rPr>
              <a:t>Biochemistry depar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2" descr="BioLogo2small"/>
          <p:cNvPicPr/>
          <p:nvPr/>
        </p:nvPicPr>
        <p:blipFill>
          <a:blip r:embed="rId1"/>
          <a:stretch/>
        </p:blipFill>
        <p:spPr>
          <a:xfrm>
            <a:off x="6934320" y="17640"/>
            <a:ext cx="19447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-5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Overview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80520" y="1447920"/>
            <a:ext cx="4038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 pentose phosphate pathway is also called</a:t>
            </a:r>
            <a:r>
              <a:rPr b="0" lang="en-US" sz="2200" spc="-1" strike="noStrike">
                <a:solidFill>
                  <a:srgbClr val="cc0099"/>
                </a:solidFill>
                <a:latin typeface="Cambria"/>
              </a:rPr>
              <a:t> Hexose Monophosphate Shunt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or </a:t>
            </a:r>
            <a:r>
              <a:rPr b="0" lang="en-US" sz="2200" spc="-1" strike="noStrike">
                <a:solidFill>
                  <a:srgbClr val="0000ff"/>
                </a:solidFill>
                <a:latin typeface="Cambria"/>
              </a:rPr>
              <a:t>Phosphogluconate Pathway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t is an alternate route for the oxidation of glucose </a:t>
            </a:r>
            <a:r>
              <a:rPr b="0" lang="en-US" sz="2200" spc="-1" strike="noStrike">
                <a:solidFill>
                  <a:srgbClr val="cc0099"/>
                </a:solidFill>
                <a:latin typeface="Cambria"/>
              </a:rPr>
              <a:t>without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direct consumption or generation of </a:t>
            </a:r>
            <a:r>
              <a:rPr b="0" lang="en-US" sz="2200" spc="-1" strike="noStrike">
                <a:solidFill>
                  <a:srgbClr val="0000ff"/>
                </a:solidFill>
                <a:latin typeface="Cambria"/>
              </a:rPr>
              <a:t> ATP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t takes place entirely in the </a:t>
            </a:r>
            <a:r>
              <a:rPr b="0" lang="en-US" sz="2200" spc="-1" strike="noStrike">
                <a:solidFill>
                  <a:srgbClr val="cc0099"/>
                </a:solidFill>
                <a:latin typeface="Cambria"/>
              </a:rPr>
              <a:t>cytoplasm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16" name="Picture 8" descr="C:\Mary Data\Mary's PPt\lecture pics\slide 3.jpg"/>
          <p:cNvPicPr/>
          <p:nvPr/>
        </p:nvPicPr>
        <p:blipFill>
          <a:blip r:embed="rId1"/>
          <a:srcRect l="8001" t="7335" r="29000" b="22670"/>
          <a:stretch/>
        </p:blipFill>
        <p:spPr>
          <a:xfrm>
            <a:off x="5257800" y="1447920"/>
            <a:ext cx="3276720" cy="441936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1295280"/>
            <a:ext cx="853452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c0099"/>
                </a:solidFill>
                <a:latin typeface="Cambria"/>
              </a:rPr>
              <a:t>Importance of  pentose phosphate pathway</a:t>
            </a:r>
            <a:r>
              <a:rPr b="0" lang="en-US" sz="2900" spc="-1" strike="noStrike">
                <a:solidFill>
                  <a:srgbClr val="cc0099"/>
                </a:solidFill>
                <a:latin typeface="Cambria"/>
              </a:rPr>
              <a:t> :</a:t>
            </a:r>
            <a:endParaRPr b="0" lang="en-US" sz="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9" name="TextBox 1"/>
          <p:cNvSpPr/>
          <p:nvPr/>
        </p:nvSpPr>
        <p:spPr>
          <a:xfrm>
            <a:off x="304920" y="990720"/>
            <a:ext cx="4647960" cy="57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mbria"/>
              </a:rPr>
              <a:t>Generation of NAD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mainly used for </a:t>
            </a:r>
            <a:r>
              <a:rPr b="0" i="1" lang="en-US" sz="2200" spc="-1" strike="noStrike">
                <a:solidFill>
                  <a:srgbClr val="cc0099"/>
                </a:solidFill>
                <a:latin typeface="Cambria"/>
              </a:rPr>
              <a:t>reductive synthesis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of fatty acids, cholesterol and steroid hormon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hydroxylation reaction in metabolism of phenylalanine and tryptoph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production of reduced glutathione in erythrocytes and other cel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mbria"/>
              </a:rPr>
              <a:t>Production of ribose resid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used for nucleotide, nucleic acid , and coenzyme biosynth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mbria"/>
              </a:rPr>
              <a:t>Serves as an </a:t>
            </a:r>
            <a:r>
              <a:rPr b="1" lang="en-US" sz="2000" spc="-1" strike="noStrike">
                <a:solidFill>
                  <a:srgbClr val="0000ff"/>
                </a:solidFill>
                <a:latin typeface="Cambria"/>
              </a:rPr>
              <a:t>entry into Glycolysis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or both 5‐carbon &amp; 6‐carbon suga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7" descr="Screen Shot 2012-03-09 at 7.46.15 PM.png"/>
          <p:cNvPicPr/>
          <p:nvPr/>
        </p:nvPicPr>
        <p:blipFill>
          <a:blip r:embed="rId1"/>
          <a:stretch/>
        </p:blipFill>
        <p:spPr>
          <a:xfrm>
            <a:off x="5486400" y="1905120"/>
            <a:ext cx="3413160" cy="43434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Cambria"/>
              </a:rPr>
              <a:t>The PPP is divided into two phase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228240" y="762120"/>
            <a:ext cx="5334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ambria"/>
              </a:rPr>
              <a:t>Oxidative non-reversible phas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generates NAPDH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-Glucose 6-p undergoes dehydrogenation and decarboxylation to give a pentose, ribulose 5-p, which is converted to its isomer, D-ribose 5-p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-</a:t>
            </a:r>
            <a:r>
              <a:rPr b="0" lang="en-US" sz="2000" spc="-1" strike="noStrike">
                <a:solidFill>
                  <a:srgbClr val="cc0099"/>
                </a:solidFill>
                <a:latin typeface="Cambria"/>
              </a:rPr>
              <a:t>Overall equation of 1st phase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Glucose 6-p + 2 NAD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mbri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mbri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O </a:t>
            </a:r>
            <a:r>
              <a:rPr b="0" lang="en-US" sz="20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ribose 5-p +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mbri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+ 2 NADPH + 2 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mbri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ambria"/>
              </a:rPr>
              <a:t>Non-oxidative reversible phas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-ribose 5‐P is converted back to Glucose 6-p by a series of reactions involving especially two enzymes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ransketolase :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ransfer of the 2‐C fragment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ransaldolase :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ransfer of the 3‐C fragment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23" name="Picture 3" descr="Screen Shot 2012-03-09 at 9.17.00 PM.png"/>
          <p:cNvPicPr/>
          <p:nvPr/>
        </p:nvPicPr>
        <p:blipFill>
          <a:blip r:embed="rId1"/>
          <a:stretch/>
        </p:blipFill>
        <p:spPr>
          <a:xfrm>
            <a:off x="5791320" y="1447920"/>
            <a:ext cx="3200400" cy="45720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Summary</a:t>
            </a: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525" name="Content Placeholder 3" descr="Screen Shot 2012-03-09 at 10.10.49 PM.png"/>
          <p:cNvPicPr/>
          <p:nvPr/>
        </p:nvPicPr>
        <p:blipFill>
          <a:blip r:embed="rId1"/>
          <a:srcRect l="0" t="-37161" r="0" b="-37161"/>
          <a:stretch/>
        </p:blipFill>
        <p:spPr>
          <a:xfrm>
            <a:off x="1447920" y="304920"/>
            <a:ext cx="6476760" cy="4267080"/>
          </a:xfrm>
          <a:prstGeom prst="rect">
            <a:avLst/>
          </a:prstGeom>
          <a:ln w="0">
            <a:noFill/>
          </a:ln>
        </p:spPr>
      </p:pic>
      <p:sp>
        <p:nvSpPr>
          <p:cNvPr id="526" name="Oval 5"/>
          <p:cNvSpPr/>
          <p:nvPr/>
        </p:nvSpPr>
        <p:spPr>
          <a:xfrm>
            <a:off x="5486400" y="57150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val 9"/>
          <p:cNvSpPr/>
          <p:nvPr/>
        </p:nvSpPr>
        <p:spPr>
          <a:xfrm>
            <a:off x="1600200" y="5715000"/>
            <a:ext cx="533520" cy="533520"/>
          </a:xfrm>
          <a:prstGeom prst="ellipse">
            <a:avLst/>
          </a:prstGeom>
          <a:solidFill>
            <a:srgbClr val="ffa4e2"/>
          </a:soli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10"/>
          <p:cNvSpPr/>
          <p:nvPr/>
        </p:nvSpPr>
        <p:spPr>
          <a:xfrm>
            <a:off x="5486400" y="4343400"/>
            <a:ext cx="533520" cy="533520"/>
          </a:xfrm>
          <a:prstGeom prst="ellipse">
            <a:avLst/>
          </a:prstGeom>
          <a:solidFill>
            <a:srgbClr val="fffd8d"/>
          </a:soli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 11"/>
          <p:cNvSpPr/>
          <p:nvPr/>
        </p:nvSpPr>
        <p:spPr>
          <a:xfrm>
            <a:off x="1600200" y="5029200"/>
            <a:ext cx="533520" cy="533520"/>
          </a:xfrm>
          <a:prstGeom prst="ellipse">
            <a:avLst/>
          </a:prstGeom>
          <a:solidFill>
            <a:srgbClr val="886215"/>
          </a:soli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12"/>
          <p:cNvSpPr/>
          <p:nvPr/>
        </p:nvSpPr>
        <p:spPr>
          <a:xfrm>
            <a:off x="5486400" y="5029200"/>
            <a:ext cx="533520" cy="533520"/>
          </a:xfrm>
          <a:prstGeom prst="ellipse">
            <a:avLst/>
          </a:prstGeom>
          <a:solidFill>
            <a:srgbClr val="1db3ec"/>
          </a:soli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13"/>
          <p:cNvSpPr/>
          <p:nvPr/>
        </p:nvSpPr>
        <p:spPr>
          <a:xfrm>
            <a:off x="1600200" y="4343400"/>
            <a:ext cx="533520" cy="533520"/>
          </a:xfrm>
          <a:prstGeom prst="ellipse">
            <a:avLst/>
          </a:prstGeom>
          <a:solidFill>
            <a:srgbClr val="147ab2"/>
          </a:soli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14"/>
          <p:cNvSpPr/>
          <p:nvPr/>
        </p:nvSpPr>
        <p:spPr>
          <a:xfrm>
            <a:off x="2209680" y="441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Xylulose-5-p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15"/>
          <p:cNvSpPr/>
          <p:nvPr/>
        </p:nvSpPr>
        <p:spPr>
          <a:xfrm>
            <a:off x="2209680" y="5105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bose-5-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16"/>
          <p:cNvSpPr/>
          <p:nvPr/>
        </p:nvSpPr>
        <p:spPr>
          <a:xfrm>
            <a:off x="1981080" y="58672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baseline="30000">
                <a:solidFill>
                  <a:srgbClr val="000000"/>
                </a:solidFill>
                <a:latin typeface="Arial"/>
              </a:rPr>
              <a:t>Glyceraldehyde-3-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17"/>
          <p:cNvSpPr/>
          <p:nvPr/>
        </p:nvSpPr>
        <p:spPr>
          <a:xfrm>
            <a:off x="6019920" y="44197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edoheptulose-7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18"/>
          <p:cNvSpPr/>
          <p:nvPr/>
        </p:nvSpPr>
        <p:spPr>
          <a:xfrm>
            <a:off x="6019920" y="51055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ythrose-4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19"/>
          <p:cNvSpPr/>
          <p:nvPr/>
        </p:nvSpPr>
        <p:spPr>
          <a:xfrm>
            <a:off x="6019920" y="5791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ructose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Cambria"/>
              </a:rPr>
              <a:t>Importance of PPP in RBC</a:t>
            </a:r>
            <a:r>
              <a:rPr b="0" lang="en-US" sz="4000" spc="-1" strike="noStrike">
                <a:solidFill>
                  <a:srgbClr val="cc0099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914400" y="1218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540" name="Rectangle 4"/>
          <p:cNvGrpSpPr/>
          <p:nvPr/>
        </p:nvGrpSpPr>
        <p:grpSpPr>
          <a:xfrm>
            <a:off x="4029120" y="1536840"/>
            <a:ext cx="4902120" cy="4376520"/>
            <a:chOff x="4029120" y="1536840"/>
            <a:chExt cx="4902120" cy="4376520"/>
          </a:xfrm>
        </p:grpSpPr>
        <p:pic>
          <p:nvPicPr>
            <p:cNvPr id="541" name="Rectangle 4" descr=""/>
            <p:cNvPicPr/>
            <p:nvPr/>
          </p:nvPicPr>
          <p:blipFill>
            <a:blip r:embed="rId1"/>
            <a:stretch/>
          </p:blipFill>
          <p:spPr>
            <a:xfrm>
              <a:off x="4029120" y="1536840"/>
              <a:ext cx="4902120" cy="43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4191120" y="1676520"/>
              <a:ext cx="4572000" cy="40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erpetua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Perpetua"/>
                  <a:ea typeface="Arial"/>
                </a:rPr>
                <a:t>When erythrocytes are exposed to chemicals that generate high levels of superoxide radicals, GSH (Reduced Glutathione) is required to reduce these damaging compound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erpetua"/>
                  <a:ea typeface="Arial"/>
                </a:rPr>
                <a:t>Glutathione Peroxidase catalyzes degradation of organic hydroperoxides by reduction, as two glutathione molecules are oxidized to a disulfide GSS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erpetua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Perpetua"/>
                  <a:ea typeface="Arial"/>
                </a:rPr>
                <a:t>The PPP is responsible for maintaining high levels of NADPH in red blood cells for use as a reductant in the glutathione reductase reaction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3" name="Picture 2" descr="Screen Shot 2012-03-09 at 10.32.37 PM.png"/>
          <p:cNvPicPr/>
          <p:nvPr/>
        </p:nvPicPr>
        <p:blipFill>
          <a:blip r:embed="rId2"/>
          <a:stretch/>
        </p:blipFill>
        <p:spPr>
          <a:xfrm>
            <a:off x="228600" y="1219320"/>
            <a:ext cx="3962520" cy="491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Perpetua"/>
              </a:rPr>
              <a:t>Regulation of the pentose phosphate pathway</a:t>
            </a:r>
            <a:br>
              <a:rPr sz="3200"/>
            </a:b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657600" cy="426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46" name="Rectangle 4"/>
          <p:cNvGrpSpPr/>
          <p:nvPr/>
        </p:nvGrpSpPr>
        <p:grpSpPr>
          <a:xfrm>
            <a:off x="4102200" y="1158840"/>
            <a:ext cx="4902120" cy="4900680"/>
            <a:chOff x="4102200" y="1158840"/>
            <a:chExt cx="4902120" cy="4900680"/>
          </a:xfrm>
        </p:grpSpPr>
        <p:pic>
          <p:nvPicPr>
            <p:cNvPr id="547" name="Rectangle 4" descr=""/>
            <p:cNvPicPr/>
            <p:nvPr/>
          </p:nvPicPr>
          <p:blipFill>
            <a:blip r:embed="rId2"/>
            <a:stretch/>
          </p:blipFill>
          <p:spPr>
            <a:xfrm>
              <a:off x="4102200" y="1158840"/>
              <a:ext cx="4902120" cy="490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4267080" y="12952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Perpetua"/>
                  <a:ea typeface="Arial"/>
                </a:rPr>
                <a:t>Glucose-6-P dehydrogenase (Rate Limiting Reaction)  is controlled b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 algn="just">
                <a:lnSpc>
                  <a:spcPct val="100000"/>
                </a:lnSpc>
                <a:buClr>
                  <a:srgbClr val="0000ff"/>
                </a:buClr>
                <a:buFont typeface="Wingdings" charset="2"/>
                <a:buChar char="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Perpetua"/>
                  <a:ea typeface="Arial"/>
                </a:rPr>
                <a:t>Allosteric Regu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Perpetua"/>
                  <a:ea typeface="Arial"/>
                </a:rPr>
                <a:t>-Feedback inhibited by NADP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 algn="just">
                <a:lnSpc>
                  <a:spcPct val="100000"/>
                </a:lnSpc>
                <a:buClr>
                  <a:srgbClr val="0000ff"/>
                </a:buClr>
                <a:buFont typeface="Wingdings" charset="2"/>
                <a:buChar char="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Perpetua"/>
                  <a:ea typeface="Arial"/>
                </a:rPr>
                <a:t>Inducible enzy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Perpetua"/>
                  <a:ea typeface="Arial"/>
                </a:rPr>
                <a:t>-The synthesis of glucose 6-phosphate dehydrogenase is induced by the increased insulin/glucagon ratio after a high carbohydrate meal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Perpetua"/>
              </a:rPr>
              <a:t>Glucose-6-phosphate dehydrogenase deficiency causes hemolytic anemia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228240" y="16765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utations present in some populations causes a deficiency in glucose 6‐phosphate dehydrogenase,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</a:rPr>
              <a:t> with consequent impairment of NADPH production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etoxification of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mbr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mbr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is inhibited, and cellular damage results ‐ lipid peroxidation leads to erythrocyte membrane breakdown and hemolytic anemia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ost G6PD‐deficient individuals are asymptomatic ‐ only in combination with certain environmental factors (sulfa antibiotics, herbicides, antimalarials, *divicine) do clinical manifestations occur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*toxic ingredient of fava beans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8T06:44:31Z</dcterms:created>
  <dc:creator>aalghanouchi</dc:creator>
  <dc:description/>
  <dc:language>en-US</dc:language>
  <cp:lastModifiedBy>Sooad</cp:lastModifiedBy>
  <dcterms:modified xsi:type="dcterms:W3CDTF">2012-03-16T21:33:07Z</dcterms:modified>
  <cp:revision>104</cp:revision>
  <dc:subject/>
  <dc:title>Slide 1</dc:title>
</cp:coreProperties>
</file>