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042-69EE-4392-A08A-46828EB2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65D-4DD7-4D96-9BA6-C7B45CE1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FDC37-008E-4E69-BCBC-8258BD0D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77E19-3052-4145-9B51-667A762C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A1770-8E42-4589-8D81-395085F2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92F1F-4F0F-42B4-BB2F-197C5E26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D9E9C-CDD4-48DD-AC91-7229ACC2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01884-ADFB-44D3-97F8-AADD76F4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A7579-729D-4E49-8FE2-5A0BAEDD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C5EB2-5433-417A-8AEB-C222F797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3136C-8985-48DB-BBED-70C81E8CD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1631B-D1C8-4F20-A5F6-D4EC3BD1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413-79C5-4FEF-8851-9970AC24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A3582-38E6-4EDD-AE4B-4F3D314F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2833A-A89D-413C-86F3-1701290E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69B12-244A-4D7E-A65A-4B5DD78F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24190-68AE-4737-8412-933EEE0B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84409-9166-46A7-80C7-A3AF5C7A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9E50D-F355-4C80-902D-9D90C2E7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D1A66-90F6-4641-A675-73BCCB42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BFA2D-F0BC-4BEA-8A8F-C9964F9A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4A283-143E-4A65-8730-9385A2D3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DEA31-95EC-41DB-ACC3-88A082E0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15F-9035-4103-8B6D-79807588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753E1-DDD5-47A2-BD03-9616559F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53B5B-DAF0-4838-88E1-FCCFD057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AB335-FDBE-4229-A35F-0F0CAFFA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6ED57-E903-4A5F-BB27-B7031B8D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CCF6F-47C2-46E4-8D27-81F2C69A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9F4B7-549C-49B4-93F4-ABD8287F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1863E-C4A3-4C6D-A628-9E7077F3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B0C22-A6A2-487A-B8E4-2EA57238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99835-2FD5-486F-9D2F-62D3EC4D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17D7C-B38B-4E49-9E28-591947DD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8D34-F08F-49B0-8F9A-7A291CD5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20873-2A1F-4D39-94D3-F60058C3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6C67C-5226-437F-A901-5CE79410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FC451-C722-4B02-8DC6-A1BE5E8F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E3D60-4F28-47E0-9153-C5394B3C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582DDD-9E47-40A0-A854-83571C4E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E4DD5-C7BE-4C96-BDE7-12B700BF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79F48-258E-4AB6-AF71-9569CB07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54E32-D8E5-4816-93FC-16FF9F1D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72A92-7A03-4140-A672-18E64A8B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91F3B-C574-41C6-B9C5-472B6C8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FF3B-7F1D-4B2A-8476-B2876372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56982-DF5F-4431-82C5-09C0BA31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6A578-4299-47BC-96A5-8FA9199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5171A-64EB-4E8A-BB08-D7599643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CFEA5-E107-416D-81FA-9CE3D7AC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742ED-DFC5-409D-92E2-42FDC17F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7C3E-5368-473A-AA7A-9E6F3D77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75F4-72AF-44DB-96CB-7BE5A857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2FDC-C483-493C-9B8D-880F8B27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D50B-50F8-44CF-AEFE-932CD7AC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D9D2-0575-4C9F-B005-5B51B4F1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049-F88E-4DD0-8B85-2E878324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DF42-96ED-4999-AE12-1A1FF305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4B79-D492-4345-94E5-955C6D8C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B56C-A7A8-4D60-9681-05A5415C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8B4F-51DB-4B30-B4BB-77B19377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12AC-6C46-4A21-B639-9CA9F93F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7957-8BAF-4ED3-B0C9-3DD5B3F6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33CF9-F4A7-4B6A-A55E-1275D4A0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47E5-7DFC-4ABE-9954-CC3CF4DC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D535-EB75-487C-ADAF-1DB28146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C1EA9-50DD-4301-ABEA-78BD5D35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6B83-2095-4997-9FB1-619BDA8D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787DB-D89D-47EB-AF96-CB5C7E32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8ADD-D5A6-4138-831D-2866B6A4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C44D-2ECD-42DF-BA8F-A6FC5D62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76C24-D4EF-4A2F-A162-7CF17D25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42C1-F687-493C-B550-114F825C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7528-B410-4EB6-BDAB-2163A37A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8B140-4CBC-4F71-9D0A-385569F3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86EF-3B82-4ECB-AB97-B5D3E55D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EF2D8-B3FB-474A-B04D-6130F313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72A30-675A-4315-8BBA-D4B3F1D2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DC1-A508-42DC-B6BC-36055613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3E76-1C93-4629-96CB-75BBD01C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88BE-1BFE-4596-9E40-80068F1C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549D-D122-4AE7-8A78-54FA8B2C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AD3B-2DAC-4B23-BC09-FF0ECB12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D514-7D78-4EE8-AAC9-D1EE11DB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782C3-F7C0-4997-95D4-98707F95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E2449-6787-419B-9517-81C88823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E0152-A97E-4DB8-8373-33EB44E6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580DB-A6C2-43EE-9E04-B488DD9B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D67C4-A15E-4946-9440-330F0AA8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888-B02D-42EF-A121-AA94AD25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4510B-9B73-4429-A142-8E0FE11E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575FF-F70F-4905-B711-7F79C97F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FAC88-BEFF-4B29-8687-A2125E2F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0CA70-0A08-4119-AE97-9C132B05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3C034-9B25-4CF5-B15A-3E8FC9A1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340D4-DCC8-4044-8839-68246591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6BEB6-8BD6-40DA-848B-EA80B010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1570E-D100-48AC-AC97-075BD94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75AD7-BE38-4912-ACA6-DE406FBF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67B2B-D329-438B-8D1C-A84B5319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DCD-07E1-44BA-9B70-9451CF3B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8E44-3270-42FF-8C3B-96DC8E11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B41F1-1620-4084-AA13-ED328C22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F8A55-5F19-4B60-9373-145016E4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CCA5D-0BDE-410B-BE32-7AB80168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1FD54-F76E-4BD3-A75F-7F59B509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3CC06-D6CF-457B-949C-6D7A3E75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D5A6D-C2DB-4AC4-A829-5F1269E0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3CD34-7939-404F-94EA-74A33DAD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80EB8-7477-4C30-90FE-098BD3E8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813FC-A098-41F4-80AF-9B5DAF9F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3E1-43B5-47A0-AE0B-FFE9B1B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5CAD6-2669-4D10-A3D5-CE98D151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8D3BD-583C-441D-A345-C6983499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ED913-126A-438F-B908-805CECE7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B244A-6F7D-43AB-92F5-8247A772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46113-6847-4345-AFF8-7A6D5EB3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4778E-FC33-4DDB-867C-F791A09C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6A5B6-2EB1-4F18-AF35-438C1C94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8AD4E-E910-4519-8FD3-4FB77835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41B01-0FCF-4F5B-812D-6AC44E09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BE263-89C4-4B25-9C29-E352DA47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3C8-0B9D-4F3E-95C7-CD527F9B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7AF9B-D764-489F-876B-ACDA0296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D6CFB-6629-4236-BC1B-E37492CB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4E8E3-659F-45FB-8E46-61C127B0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EA670-290C-4011-8ABD-D66996F7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EA7B7-31F6-40A0-A13D-7C657FA32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93434-61D2-41F3-A802-64ED8E7E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69CB0-A806-4A2F-B306-DBBF37B3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9F185-F600-456F-9B02-8DCC6831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0C4EC-DEC6-4FBA-B80A-6CF9A056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D1B48-644B-4863-AF3E-D7008E4F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C40-CD11-4383-AA5B-03C5B47C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6DD1C-8835-4613-AEE3-086E3A3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B0CD-1618-4AE0-B253-455F4774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D9156-A3A9-45D0-90C0-40FFF89D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C2F90-9BFC-49CB-B73B-354B99B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A12BA-D6D6-4C4F-864D-0152566F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909CD-2518-48EB-975A-822EB4216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A2EC7-605F-42B1-AD20-97567F75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6295B-964A-4501-84B1-A972CD73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F223C-4795-4A0E-AC9C-F230991D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DAB3F-5423-47A3-9BD0-5526053B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228D-D252-40A6-A30D-143C5FD1B9E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4AE4-E44E-4F74-9678-3B6961B6F0A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8606-481B-4CE6-8602-1C8653CCF4C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3366-1CF4-4BBC-BFC9-9035E75E718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956C-912E-4F04-ADC4-3DBFA22FDA2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70A8-8378-4CE6-9C12-856A97AFB04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8BA0-F6CB-41B1-B161-6F9247355DD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34B8-2E91-4590-9F1F-8713D3F2488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785D-5077-4837-BD38-C981F4D822D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96F3-87A9-4547-B04B-70076901F0D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E35C-EC3B-400D-BE9E-9849F0E9D23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BAD4-E915-43EA-8E22-ACBA967AE6F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Pentose Phosphate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934320" y="1764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-5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0520" y="1447920"/>
            <a:ext cx="4038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pentose phosphate pathway is also called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 Hexose Monophosphate Shunt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r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Phosphogluconate Pathway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is an alternate route for the oxidation of glucose 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without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direct consumption or generation of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 ATP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takes place entirely in the 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cytoplasm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16" name="Picture 8" descr="C:\Mary Data\Mary's PPt\lecture pics\slide 3.jpg"/>
          <p:cNvPicPr/>
          <p:nvPr/>
        </p:nvPicPr>
        <p:blipFill>
          <a:blip r:embed="rId1"/>
          <a:srcRect l="8001" t="7335" r="29000" b="22670"/>
          <a:stretch/>
        </p:blipFill>
        <p:spPr>
          <a:xfrm>
            <a:off x="5257800" y="1447920"/>
            <a:ext cx="3276720" cy="4419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1295280"/>
            <a:ext cx="8534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99"/>
                </a:solidFill>
                <a:latin typeface="Cambria"/>
              </a:rPr>
              <a:t>Importance of  pentose phosphate pathway</a:t>
            </a:r>
            <a:r>
              <a:rPr b="0" lang="en-US" sz="2900" spc="-1" strike="noStrike">
                <a:solidFill>
                  <a:srgbClr val="cc0099"/>
                </a:solidFill>
                <a:latin typeface="Cambria"/>
              </a:rPr>
              <a:t> :</a:t>
            </a: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9" name="TextBox 1"/>
          <p:cNvSpPr/>
          <p:nvPr/>
        </p:nvSpPr>
        <p:spPr>
          <a:xfrm>
            <a:off x="304920" y="990720"/>
            <a:ext cx="4647960" cy="57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Generation of NAD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inly used for </a:t>
            </a:r>
            <a:r>
              <a:rPr b="0" i="1" lang="en-US" sz="2200" spc="-1" strike="noStrike">
                <a:solidFill>
                  <a:srgbClr val="cc0099"/>
                </a:solidFill>
                <a:latin typeface="Cambria"/>
              </a:rPr>
              <a:t>reductive synthesis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f fatty acids, cholesterol and steroid horm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hydroxylation reaction in metabolism of phenylalanine and tryptoph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production of reduced glutathione in erythrocytes and other ce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Production of ribose resid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used for nucleotide, nucleic acid , and coenzyme bio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mbria"/>
              </a:rPr>
              <a:t>Serves as an </a:t>
            </a: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entry into Glycolysis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r both 5‐carbon &amp; 6‐carbon suga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Screen Shot 2012-03-09 at 7.46.15 PM.png"/>
          <p:cNvPicPr/>
          <p:nvPr/>
        </p:nvPicPr>
        <p:blipFill>
          <a:blip r:embed="rId1"/>
          <a:stretch/>
        </p:blipFill>
        <p:spPr>
          <a:xfrm>
            <a:off x="5486400" y="1905120"/>
            <a:ext cx="3413160" cy="43434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ambria"/>
              </a:rPr>
              <a:t>The PPP is divided into two phas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8240" y="762120"/>
            <a:ext cx="5334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Oxidative non-reversible ph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enerates NAPDH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-Glucose 6-p undergoes dehydrogenation and decarboxylation to give a pentose, ribulose 5-p, which is converted to its isomer, D-ribose 5-p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Overall equation of 1st phase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Glucose 6-p + 2 NAD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 </a:t>
            </a:r>
            <a:r>
              <a:rPr b="0" lang="en-US" sz="20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ribose 5-p +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+ 2 NADPH + 2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ambria"/>
              </a:rPr>
              <a:t>Non-oxidative reversible phas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-ribose 5‐P is converted back to Glucose 6-p by a series of reactions involving especially two enzymes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ransketolase 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ransfer of the 2‐C fragment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ransaldolase 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ransfer of the 3‐C fragment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3" name="Picture 3" descr="Screen Shot 2012-03-09 at 9.17.00 PM.png"/>
          <p:cNvPicPr/>
          <p:nvPr/>
        </p:nvPicPr>
        <p:blipFill>
          <a:blip r:embed="rId1"/>
          <a:stretch/>
        </p:blipFill>
        <p:spPr>
          <a:xfrm>
            <a:off x="5791320" y="1447920"/>
            <a:ext cx="3200400" cy="4572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Summary</a:t>
            </a:r>
            <a:r>
              <a:rPr b="0" i="1" lang="en-US" sz="36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5" name="Content Placeholder 3" descr="Screen Shot 2012-03-09 at 10.10.49 PM.png"/>
          <p:cNvPicPr/>
          <p:nvPr/>
        </p:nvPicPr>
        <p:blipFill>
          <a:blip r:embed="rId1"/>
          <a:srcRect l="0" t="-37161" r="0" b="-37161"/>
          <a:stretch/>
        </p:blipFill>
        <p:spPr>
          <a:xfrm>
            <a:off x="1447920" y="304920"/>
            <a:ext cx="6476760" cy="4267080"/>
          </a:xfrm>
          <a:prstGeom prst="rect">
            <a:avLst/>
          </a:prstGeom>
          <a:ln w="0">
            <a:noFill/>
          </a:ln>
        </p:spPr>
      </p:pic>
      <p:sp>
        <p:nvSpPr>
          <p:cNvPr id="526" name="Oval 5"/>
          <p:cNvSpPr/>
          <p:nvPr/>
        </p:nvSpPr>
        <p:spPr>
          <a:xfrm>
            <a:off x="5486400" y="571500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9"/>
          <p:cNvSpPr/>
          <p:nvPr/>
        </p:nvSpPr>
        <p:spPr>
          <a:xfrm>
            <a:off x="1600200" y="5715000"/>
            <a:ext cx="533520" cy="533520"/>
          </a:xfrm>
          <a:prstGeom prst="ellipse">
            <a:avLst/>
          </a:prstGeom>
          <a:solidFill>
            <a:srgbClr val="ffa4e2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10"/>
          <p:cNvSpPr/>
          <p:nvPr/>
        </p:nvSpPr>
        <p:spPr>
          <a:xfrm>
            <a:off x="5486400" y="4343400"/>
            <a:ext cx="533520" cy="533520"/>
          </a:xfrm>
          <a:prstGeom prst="ellipse">
            <a:avLst/>
          </a:prstGeom>
          <a:solidFill>
            <a:srgbClr val="fffd8d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11"/>
          <p:cNvSpPr/>
          <p:nvPr/>
        </p:nvSpPr>
        <p:spPr>
          <a:xfrm>
            <a:off x="1600200" y="5029200"/>
            <a:ext cx="533520" cy="533520"/>
          </a:xfrm>
          <a:prstGeom prst="ellipse">
            <a:avLst/>
          </a:prstGeom>
          <a:solidFill>
            <a:srgbClr val="886215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5486400" y="5029200"/>
            <a:ext cx="533520" cy="533520"/>
          </a:xfrm>
          <a:prstGeom prst="ellipse">
            <a:avLst/>
          </a:prstGeom>
          <a:solidFill>
            <a:srgbClr val="1db3ec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13"/>
          <p:cNvSpPr/>
          <p:nvPr/>
        </p:nvSpPr>
        <p:spPr>
          <a:xfrm>
            <a:off x="1600200" y="4343400"/>
            <a:ext cx="533520" cy="533520"/>
          </a:xfrm>
          <a:prstGeom prst="ellipse">
            <a:avLst/>
          </a:prstGeom>
          <a:solidFill>
            <a:srgbClr val="147ab2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4"/>
          <p:cNvSpPr/>
          <p:nvPr/>
        </p:nvSpPr>
        <p:spPr>
          <a:xfrm>
            <a:off x="2209680" y="4419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Xylulose-5-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5"/>
          <p:cNvSpPr/>
          <p:nvPr/>
        </p:nvSpPr>
        <p:spPr>
          <a:xfrm>
            <a:off x="220968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ose-5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6"/>
          <p:cNvSpPr/>
          <p:nvPr/>
        </p:nvSpPr>
        <p:spPr>
          <a:xfrm>
            <a:off x="1981080" y="5867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Arial"/>
              </a:rPr>
              <a:t>Glyceraldehyde-3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7"/>
          <p:cNvSpPr/>
          <p:nvPr/>
        </p:nvSpPr>
        <p:spPr>
          <a:xfrm>
            <a:off x="6019920" y="4419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edoheptulose-7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8"/>
          <p:cNvSpPr/>
          <p:nvPr/>
        </p:nvSpPr>
        <p:spPr>
          <a:xfrm>
            <a:off x="6019920" y="5105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throse-4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19"/>
          <p:cNvSpPr/>
          <p:nvPr/>
        </p:nvSpPr>
        <p:spPr>
          <a:xfrm>
            <a:off x="6019920" y="5791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uctose-6-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Cambria"/>
              </a:rPr>
              <a:t>Importance of PPP in RBC</a:t>
            </a:r>
            <a:r>
              <a:rPr b="0" lang="en-US" sz="4000" spc="-1" strike="noStrike">
                <a:solidFill>
                  <a:srgbClr val="cc0099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914400" y="1218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540" name="Rectangle 4"/>
          <p:cNvGrpSpPr/>
          <p:nvPr/>
        </p:nvGrpSpPr>
        <p:grpSpPr>
          <a:xfrm>
            <a:off x="4029120" y="1536840"/>
            <a:ext cx="4902120" cy="4376520"/>
            <a:chOff x="4029120" y="1536840"/>
            <a:chExt cx="4902120" cy="4376520"/>
          </a:xfrm>
        </p:grpSpPr>
        <p:pic>
          <p:nvPicPr>
            <p:cNvPr id="541" name="Rectangle 4" descr=""/>
            <p:cNvPicPr/>
            <p:nvPr/>
          </p:nvPicPr>
          <p:blipFill>
            <a:blip r:embed="rId1"/>
            <a:stretch/>
          </p:blipFill>
          <p:spPr>
            <a:xfrm>
              <a:off x="4029120" y="1536840"/>
              <a:ext cx="4902120" cy="43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4191120" y="1676520"/>
              <a:ext cx="457200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When erythrocytes are exposed to chemicals that generate high levels of superoxide radicals, GSH (Reduced Glutathione) is required to reduce these damaging compound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Glutathione Peroxidase catalyzes degradation of organic hydroperoxides by reduction, as two glutathione molecules are oxidized to a disulfide GSS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The PPP is responsible for maintaining high levels of NADPH in red blood cells for use as a reductant in the glutathione reductase reaction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3" name="Picture 2" descr="Screen Shot 2012-03-09 at 10.32.37 PM.png"/>
          <p:cNvPicPr/>
          <p:nvPr/>
        </p:nvPicPr>
        <p:blipFill>
          <a:blip r:embed="rId2"/>
          <a:stretch/>
        </p:blipFill>
        <p:spPr>
          <a:xfrm>
            <a:off x="228600" y="1219320"/>
            <a:ext cx="3962520" cy="491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Perpetua"/>
              </a:rPr>
              <a:t>Regulation of the pentose phosphate pathway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65760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6" name="Rectangle 4"/>
          <p:cNvGrpSpPr/>
          <p:nvPr/>
        </p:nvGrpSpPr>
        <p:grpSpPr>
          <a:xfrm>
            <a:off x="4102200" y="1158840"/>
            <a:ext cx="4902120" cy="4900680"/>
            <a:chOff x="4102200" y="1158840"/>
            <a:chExt cx="4902120" cy="4900680"/>
          </a:xfrm>
        </p:grpSpPr>
        <p:pic>
          <p:nvPicPr>
            <p:cNvPr id="547" name="Rectangle 4" descr=""/>
            <p:cNvPicPr/>
            <p:nvPr/>
          </p:nvPicPr>
          <p:blipFill>
            <a:blip r:embed="rId2"/>
            <a:stretch/>
          </p:blipFill>
          <p:spPr>
            <a:xfrm>
              <a:off x="4102200" y="1158840"/>
              <a:ext cx="4902120" cy="49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4267080" y="12952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Glucose-6-P dehydrogenase (Rate Limiting Reaction)  is controlled b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Allosteric Regu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-Feedback inhibited by NADP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Inducible enzy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0280" indent="-34308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  <a:ea typeface="Arial"/>
                </a:rPr>
                <a:t>-The synthesis of glucose 6-phosphate dehydrogenase is induced by the increased insulin/glucagon ratio after a high carbohydrate me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Perpetua"/>
              </a:rPr>
              <a:t>Glucose-6-phosphate dehydrogenase deficiency causes hemolytic anemi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22824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utations present in some populations causes a deficiency in glucose 6‐phosphate dehydrogenase,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 with consequent impairment of NADPH production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Detoxification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inhibited, and cellular damage results ‐ lipid peroxidation leads to erythrocyte membrane breakdown and hemolytic anemia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st G6PD‐deficient individuals are asymptomatic ‐ only in combination with certain environmental factors (sulfa antibiotics, herbicides, antimalarials, *divicine) do clinical manifestations occur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*toxic ingredient of fava beans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Sooad</cp:lastModifiedBy>
  <dcterms:modified xsi:type="dcterms:W3CDTF">2012-03-16T21:33:07Z</dcterms:modified>
  <cp:revision>104</cp:revision>
  <dc:subject/>
  <dc:title>Slide 1</dc:title>
</cp:coreProperties>
</file>