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E65E-E902-4A9C-9681-380C7327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1AE-0FE6-411B-9457-76A8B0DE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F8DD-C8C2-4A7D-BB10-0C336F94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D957-D4AA-4456-B7CA-450DEAC9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C8F9-2A58-43FC-8970-CC944186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131E-95C2-4A73-AD06-0879CDE1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B1F3-B5DA-41C2-9A36-65EF82CC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C2E3-3A38-4263-9E42-0207BB44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31DB-0D99-4128-99AB-0B6F60B3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913E-B04D-4428-9CDF-C3ECAB90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0035-0EEB-4342-85E2-C8EAB494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0FFA-1968-42CD-A1D5-A81A7A15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ED6F-33E4-46DB-B516-91B1456B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A5E1-4C82-44AD-B157-3F20EA5A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98BB-F270-40B0-8B4E-93176E64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0FD6-D959-44D8-8DF7-D198A635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4AAA-B19A-4091-BA75-5A3B4B4B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493D9-C856-4C89-BB4D-292C159F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FF296-AEE1-4A17-8FC3-5B11269B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F0BCD-1026-4E90-82D2-4CCAEE1F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3F52D-20CA-491F-AECD-BE3353A1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9332D-0671-43A3-BABF-11E525E3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755-A37F-43C3-A16E-415DB837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F0A3A-E0A5-4DF5-8429-5B997AAF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1497B-6AFA-49BB-9D23-31770B0D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9F09E-6887-4539-979A-0DB0A9AB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C9358-CAA9-4712-9FB2-1B279ADE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8ACBF-453E-4618-AFDF-B2C44FCB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A5B4E-2BB8-48B6-A2A1-058CD07F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AB1C4-1430-455F-ABB1-49E4034F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4387F-00B9-46B9-832B-48E4A3A0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15D3A-95A5-4387-8FC7-E0B41FA3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38BA5-C294-4DCA-90FA-81099DD0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308-4387-4933-A572-3EF32DFE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BEA69-362D-4FC2-84E0-7446C4E6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EA8F6-40A1-4E09-ADAD-9C2C152C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ECDD4-1775-4ACA-A9BE-609443E7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C6A6A-1D4D-47AF-8537-0971CFC4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3ADE0-0E64-437C-BC80-F5605E47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52F54-5C75-4965-8A59-49F91C6F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1AFB2-1C05-484E-BE3D-80552612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22577-F41F-4457-9D0E-8DC23891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EFAB1-BC8A-472D-A583-8C0997CE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AA2-BD2C-4F33-9CBC-D38B07B5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EB69-E8ED-42C8-AA06-738ACA0B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EB9E-5446-4789-B482-3164F1DB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387-AE5C-47CD-9C55-D5DFD634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816-7EB0-44C4-8D59-CC818D95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42852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7E02-BD75-48E4-A6A1-29C923EA8862}" type="slidenum">
              <a:rPr b="0" lang="ar-SA" sz="1400" spc="-1" strike="noStrike">
                <a:solidFill>
                  <a:srgbClr val="242852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42852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5801-DC3C-4402-A324-166E454627CC}" type="slidenum">
              <a:rPr b="0" lang="ar-SA" sz="1400" spc="-1" strike="noStrike">
                <a:solidFill>
                  <a:srgbClr val="242852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42852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F9D1-A7E7-44FA-8D9A-BBCDD3918F80}" type="slidenum">
              <a:rPr b="0" lang="ar-SA" sz="1400" spc="-1" strike="noStrike">
                <a:solidFill>
                  <a:srgbClr val="242852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42852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2C2F-3CC4-4834-A136-539D7BEB43E9}" type="slidenum">
              <a:rPr b="0" lang="ar-SA" sz="1400" spc="-1" strike="noStrike">
                <a:solidFill>
                  <a:srgbClr val="242852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reefnet.gov.sy/education/kafaf/Bohoth/AdadMadoud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26920" y="1795320"/>
            <a:ext cx="572292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Comparative Constructions II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72728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Franklin Gothic Book"/>
              </a:rPr>
              <a:t>2</a:t>
            </a:r>
            <a:r>
              <a:rPr b="0" lang="en-US" sz="2400" spc="-1" strike="noStrike" baseline="30000">
                <a:solidFill>
                  <a:srgbClr val="242852"/>
                </a:solidFill>
                <a:latin typeface="Franklin Gothic Book"/>
              </a:rPr>
              <a:t>nd</a:t>
            </a:r>
            <a:r>
              <a:rPr b="0" lang="en-US" sz="2400" spc="-1" strike="noStrike">
                <a:solidFill>
                  <a:srgbClr val="242852"/>
                </a:solidFill>
                <a:latin typeface="Franklin Gothic Book"/>
              </a:rPr>
              <a:t> sem. 1433/1434 – Spring 2013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Franklin Gothic Book"/>
              </a:rPr>
              <a:t>#1 - Number - </a:t>
            </a:r>
            <a:r>
              <a:rPr b="0" lang="ar-SA" sz="2400" spc="-1" strike="noStrike">
                <a:solidFill>
                  <a:srgbClr val="242852"/>
                </a:solidFill>
                <a:latin typeface="Franklin Gothic Book"/>
              </a:rPr>
              <a:t>العدد والمعدود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ثالثاً: الأعداد مئة وألف ومليون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10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Franklin Gothic Book"/>
              </a:rPr>
              <a:t>الأعداد مئة وألف ومليون لها صورة واحدة مع المذكر والمؤنث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رابعاً: ألفاظ العقود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10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Franklin Gothic Book"/>
              </a:rPr>
              <a:t>لا تختلف صيغة ألفاظ العقود من حيث التذكير والتأنيث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خامساً: الأعداد الترتيبية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Franklin Gothic Book"/>
              </a:rPr>
              <a:t>الأعداد الترتبيبة توافق المعدود في جميع الحالات: 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Franklin Gothic Book"/>
              </a:rPr>
              <a:t>المتسابق السابع عشر - المتسابقة الخامسة عشرة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تمييز العدد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lnSpc>
                <a:spcPct val="90000"/>
              </a:lnSpc>
              <a:spcBef>
                <a:spcPts val="700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تمييز الأعداد من </a:t>
            </a: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 إلى </a:t>
            </a: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10</a:t>
            </a: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: جمع مجرور بالإضافة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ثلاثة رجالٍ - عشر فتياتٍ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700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تمييز الأعداد من </a:t>
            </a: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11</a:t>
            </a: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 إلى </a:t>
            </a: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99</a:t>
            </a: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: مفرد منصوب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أحد عشر كتاباً - عشرون كتاباً - ثلاثة وأربعون كتابا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700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تمييز المئة والألف ومثنّاهما وجمعهما: مفرد مجرور بالإضافة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مئة كتابٍ - ثلاثة آلاف كتابٍ - ألفا/مئتا كتابٍ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تعريف العدد بـ أل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r" rtl="1">
              <a:lnSpc>
                <a:spcPct val="80000"/>
              </a:lnSpc>
              <a:spcBef>
                <a:spcPts val="774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Franklin Gothic Book"/>
              </a:rPr>
              <a:t>المفرد: تدخل أداة التعريف على المعدود وليس العدد، مثل: ثلاثة الأقلام. </a:t>
            </a:r>
            <a:endParaRPr b="0" lang="en-US" sz="3100" spc="-1" strike="noStrike">
              <a:solidFill>
                <a:srgbClr val="000000"/>
              </a:solidFill>
              <a:latin typeface="Franklin Gothic Book"/>
            </a:endParaRPr>
          </a:p>
          <a:p>
            <a:pPr marL="231840" indent="-231840" algn="r" rtl="1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Franklin Gothic Book"/>
              </a:rPr>
              <a:t>ويجوز كذلك: الثلاثة أقلام وأيضاً الثلاثة الأقلام.</a:t>
            </a:r>
            <a:endParaRPr b="0" lang="en-US" sz="3100" spc="-1" strike="noStrike">
              <a:solidFill>
                <a:srgbClr val="000000"/>
              </a:solidFill>
              <a:latin typeface="Franklin Gothic Book"/>
            </a:endParaRPr>
          </a:p>
          <a:p>
            <a:pPr marL="231840" indent="-231840" algn="r" rtl="1">
              <a:lnSpc>
                <a:spcPct val="80000"/>
              </a:lnSpc>
              <a:spcBef>
                <a:spcPts val="774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Franklin Gothic Book"/>
              </a:rPr>
              <a:t>المركب: تدخل أداة التعريف على الجزء الأول من العدد فقط، مثال: الأحد عشر كتاباً.</a:t>
            </a:r>
            <a:endParaRPr b="0" lang="en-US" sz="3100" spc="-1" strike="noStrike">
              <a:solidFill>
                <a:srgbClr val="000000"/>
              </a:solidFill>
              <a:latin typeface="Franklin Gothic Book"/>
            </a:endParaRPr>
          </a:p>
          <a:p>
            <a:pPr marL="231840" indent="-231840" algn="r" rtl="1">
              <a:lnSpc>
                <a:spcPct val="80000"/>
              </a:lnSpc>
              <a:spcBef>
                <a:spcPts val="774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Franklin Gothic Book"/>
              </a:rPr>
              <a:t>المعطوف: عند دخول أل التعريف على العدد المعطوف، تدخل على الجزأين بسبب أداة العطف، مثال: الستة والعشرون كتاباً.</a:t>
            </a:r>
            <a:endParaRPr b="0" lang="en-US" sz="3100" spc="-1" strike="noStrike">
              <a:solidFill>
                <a:srgbClr val="000000"/>
              </a:solidFill>
              <a:latin typeface="Franklin Gothic Book"/>
            </a:endParaRPr>
          </a:p>
          <a:p>
            <a:pPr marL="231840" indent="-231840" algn="r" rtl="1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جواز موافقة العدد لمعدوده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Franklin Gothic Book"/>
              </a:rPr>
              <a:t>عند تقديم المعدود على العدد يكون التوافق في هذه الحالة جائزاً، مثال: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Franklin Gothic Book"/>
              </a:rPr>
              <a:t>الطلاب الثلاثة أو الطلاب الثلاث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Franklin Gothic Book"/>
              </a:rPr>
              <a:t>الطالبات الثلاث أو الطالبات الثلاثة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454c3"/>
                </a:solidFill>
                <a:uFillTx/>
                <a:latin typeface="Franklin Gothic Book"/>
                <a:hlinkClick r:id="rId1"/>
              </a:rPr>
              <a:t>http://www.reefnet.gov.sy/education/kafaf/Bohoth/AdadMadoud.ht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المبسط في شرح قواعد اللغة العربية لمحمد حسين سلامة - القاهرة: دار الفكر العربي،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في أساسيات اللغة العربية لعبد العزيز نبوي - القاهرة: الدار المصرية اللبنانية،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اسم العدد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Content Placeholder 5" descr=""/>
          <p:cNvPicPr/>
          <p:nvPr/>
        </p:nvPicPr>
        <p:blipFill>
          <a:blip r:embed="rId1"/>
          <a:stretch/>
        </p:blipFill>
        <p:spPr>
          <a:xfrm>
            <a:off x="1450800" y="2120760"/>
            <a:ext cx="622944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العدد الأصلي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Franklin Gothic Book"/>
              </a:rPr>
              <a:t>هو ما يدل على كمية الأشياء المعدودة. وأنواعه: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90000"/>
              </a:lnSpc>
              <a:spcBef>
                <a:spcPts val="9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Franklin Gothic Book"/>
              </a:rPr>
              <a:t>العدد المفرد: سبع - واحد - أربعة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90000"/>
              </a:lnSpc>
              <a:spcBef>
                <a:spcPts val="9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Franklin Gothic Book"/>
              </a:rPr>
              <a:t>العدد المركب: سبع عشرة - اثنا عشر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90000"/>
              </a:lnSpc>
              <a:spcBef>
                <a:spcPts val="9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Franklin Gothic Book"/>
              </a:rPr>
              <a:t>العدد المعطوف: خمس وأربعون - ستة وتسعون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90000"/>
              </a:lnSpc>
              <a:spcBef>
                <a:spcPts val="9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000000"/>
                </a:solidFill>
                <a:latin typeface="Franklin Gothic Book"/>
              </a:rPr>
              <a:t>كيف تُترجم الأعداد الأصلية؟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spcBef>
                <a:spcPts val="1800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العدد الترتيبي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Franklin Gothic Book"/>
              </a:rPr>
              <a:t>هو ما يدل على رتب الأشياء. وأنواعه: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spcBef>
                <a:spcPts val="9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Franklin Gothic Book"/>
              </a:rPr>
              <a:t>المفرد: الأول - الخامس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spcBef>
                <a:spcPts val="9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Franklin Gothic Book"/>
              </a:rPr>
              <a:t>المركب: الثاني عشر - السابعة عشرة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spcBef>
                <a:spcPts val="9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Franklin Gothic Book"/>
              </a:rPr>
              <a:t>المعطوف: الواحد والعشرون - السابعة والثمانون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000000"/>
                </a:solidFill>
                <a:latin typeface="Franklin Gothic Book"/>
              </a:rPr>
              <a:t>كيف تُترجم الأعداد الترتيبية؟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spcBef>
                <a:spcPts val="1800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توافق العدد والمعدود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Franklin Gothic Book"/>
              </a:rPr>
              <a:t>في اللغة العربية، قد يوافق العدد المعدود في التذكير والتأنيث، وقد يخالفه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أولاً: الواحد والاثنان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spcBef>
                <a:spcPts val="700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العددان (الواحد والاثنان)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يوافقان المعدود في جميع الأحوال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 algn="r" rtl="1">
              <a:spcBef>
                <a:spcPts val="700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الإفراد: رجل واحد - امرأتان اثنتان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 algn="r" rtl="1">
              <a:spcBef>
                <a:spcPts val="700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التركيب: أحد عشر رجلاً - اثنتا عشرة امرأة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 algn="r" rtl="1">
              <a:spcBef>
                <a:spcPts val="700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المعطوف: واحد وأربعون رجل - إحدى وأربعون امرأة - اثنان وثلاثون رجل - اثنتان وثلاثون امرأة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ثانياً: الأعداد من الثلاثة إلى العشرة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spcBef>
                <a:spcPts val="75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Franklin Gothic Book"/>
              </a:rPr>
              <a:t>الأعداد من الثلاثة إلى العشرة </a:t>
            </a:r>
            <a:r>
              <a:rPr b="0" lang="ar-SA" sz="3000" spc="-1" strike="noStrike" u="sng">
                <a:solidFill>
                  <a:srgbClr val="000000"/>
                </a:solidFill>
                <a:uFillTx/>
                <a:latin typeface="Franklin Gothic Book"/>
              </a:rPr>
              <a:t>تخالف المعدود في جميع الحالات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75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Franklin Gothic Book"/>
              </a:rPr>
              <a:t>الإفراد: ثمانية رجال - ست فتيات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75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Franklin Gothic Book"/>
              </a:rPr>
              <a:t>التركيب: سبعة عشر رجل - ثمان عشرة فتاة (</a:t>
            </a:r>
            <a:r>
              <a:rPr b="1" lang="ar-SA" sz="3000" spc="-1" strike="noStrike">
                <a:solidFill>
                  <a:srgbClr val="000000"/>
                </a:solidFill>
                <a:latin typeface="Franklin Gothic Book"/>
              </a:rPr>
              <a:t>الجزء الأول يخالف الجزء الثاني يوافق</a:t>
            </a:r>
            <a:r>
              <a:rPr b="0" lang="ar-SA" sz="30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75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Franklin Gothic Book"/>
              </a:rPr>
              <a:t>المعطوف: ستة وعشرون رجل - ثلاث وسبعون امرأة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7:00:08Z</dcterms:created>
  <dc:creator>Fawaz</dc:creator>
  <dc:description/>
  <dc:language>en-US</dc:language>
  <cp:lastModifiedBy>Family</cp:lastModifiedBy>
  <dcterms:modified xsi:type="dcterms:W3CDTF">2013-02-08T12:37:52Z</dcterms:modified>
  <cp:revision>17</cp:revision>
  <dc:subject/>
  <dc:title>Comparative Constructions II</dc:title>
</cp:coreProperties>
</file>