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09B-7385-4A1F-8556-3409A408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529-0006-4FCE-ACF9-B87279EB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015-909E-4F04-9CB0-0E73735D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2F3-8C6A-4260-8650-87F67799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6572-3ECD-4C56-85AB-0C9C6A43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829C-4D27-435F-BD21-C638A7B9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01DA-C02B-42B3-ADB9-2A424F50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8680-563A-4BCB-8CE5-48262AAA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1F37-08A8-457B-B15D-8915C8FF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651E-9D6E-4290-A164-D01C4ABC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4274-603A-4402-9966-E7BA75A2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C5D-569D-4718-9561-FB94082C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5CD6-ACDB-4720-9A7E-EADFD130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6F19-6C0E-4DB5-8A54-9C7A80F0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1C19-7552-4BFD-B992-DD521B33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794C-F7C6-4F78-A8ED-59F5E6F6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4D0E-72ED-4ED5-B2C3-25B95CB7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5B310-0991-482D-913E-CF7E56ED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5B74-2FB9-4437-8EFA-7A101E72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2146-8858-4C4D-87B5-367CE396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86AB3-492C-446C-94C6-FA18848F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F031-2A2E-440D-8E95-B92113F9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A25-0FCA-4F75-B3D0-04CC0C9F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F156-E427-45FA-87E0-40184B8C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1310-9E61-489F-AC8E-75FCA5A5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38D5-49AB-4C24-935D-D02F1F16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E9E0C-D164-4965-8224-23D82E4A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4EDA-78DF-448C-AEEF-EAA7371E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1E75-9B5F-4646-BA0B-68BA298C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C657-2FCA-4DE5-97D1-2770DE25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35151-AD2B-4CE2-9997-6F81479D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54A15-8749-42C6-9B9E-C598F57A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AD3F8-0BD3-41EC-8ECA-F7E7435C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1C2-6CEC-4C1A-A0CE-5BD2F01A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FDF8-846F-41F0-986F-239E2FDA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D479-9213-42FB-BAAD-4AA69C3B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33CA6-4DB1-41CB-AFBE-672FE487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AC320-1279-4B5B-B08A-E516EC2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BC3A7-866D-4224-BA16-743FCF15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1E5DC-DF9F-43A2-A792-16CD7D23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5EC81-CC3D-45B3-985F-323ABF00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6E892-B26E-4ED9-BC6D-AF313CC5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FEC05-5054-4D42-A0A2-3169A537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A22-0E8C-49E2-B14D-0867551B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EC7-B232-4880-8D3C-A14F331C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D7E-1B22-43C8-8772-C7BD8EC0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847-808F-46B4-9658-E6A2CE19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8EB-B4A2-420F-8A49-2325AC2D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BB45-0429-4880-80D3-A501EFAAD198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81B6-3AA0-458E-942D-5297AE5752A9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5C70-FAD9-40A8-A128-619F1DC3280A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 algn="r" rtl="1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 algn="r" rtl="1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42852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42852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8179-075C-4373-A5C0-CF053ADB591A}" type="slidenum">
              <a:rPr b="0" lang="ar-SA" sz="1400" spc="-1" strike="noStrike">
                <a:solidFill>
                  <a:srgbClr val="242852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eefnet.gov.sy/education/kafaf/Bohoth/AdadMadoud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795320"/>
            <a:ext cx="572292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Comparative Constructions II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2</a:t>
            </a:r>
            <a:r>
              <a:rPr b="0" lang="en-US" sz="2400" spc="-1" strike="noStrike" baseline="30000">
                <a:solidFill>
                  <a:srgbClr val="242852"/>
                </a:solidFill>
                <a:latin typeface="Franklin Gothic Book"/>
              </a:rPr>
              <a:t>nd</a:t>
            </a: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 sem. 1433/1434 – Spring 2013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2852"/>
                </a:solidFill>
                <a:latin typeface="Franklin Gothic Book"/>
              </a:rPr>
              <a:t>#1 - Number - </a:t>
            </a:r>
            <a:r>
              <a:rPr b="0" lang="ar-SA" sz="2400" spc="-1" strike="noStrike">
                <a:solidFill>
                  <a:srgbClr val="242852"/>
                </a:solidFill>
                <a:latin typeface="Franklin Gothic Book"/>
              </a:rPr>
              <a:t>العدد والمعدود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ثالثاً: الأعداد مئة وألف ومليون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0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Franklin Gothic Book"/>
              </a:rPr>
              <a:t>الأعداد مئة وألف ومليون لها صورة واحدة مع المذكر والمؤنث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رابعاً: ألفاظ العقود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0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Franklin Gothic Book"/>
              </a:rPr>
              <a:t>لا تختلف صيغة ألفاظ العقود من حيث التذكير والتأنيث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خامساً: الأعداد الترتيبية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Franklin Gothic Book"/>
              </a:rPr>
              <a:t>الأعداد الترتبيبة توافق المعدود في جميع الحالات: 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Franklin Gothic Book"/>
              </a:rPr>
              <a:t>المتسابق السابع عشر - المتسابقة الخامسة عشرة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تمييز العدد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90000"/>
              </a:lnSpc>
              <a:spcBef>
                <a:spcPts val="700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تمييز الأعداد من 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 إلى 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: جمع مجرور بالإضافة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ثلاثة رجالٍ - عشر فتياتٍ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700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تمييز الأعداد من 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11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 إلى 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99</a:t>
            </a: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: مفرد منصوب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أحد عشر كتاباً - عشرون كتاباً - ثلاثة وأربعون كتابا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700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تمييز المئة والألف ومثنّاهما وجمعهما: مفرد مجرور بالإضافة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مئة كتابٍ - ثلاثة آلاف كتابٍ - ألفا/مئتا كتابٍ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تعريف العدد بـ أل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lnSpc>
                <a:spcPct val="80000"/>
              </a:lnSpc>
              <a:spcBef>
                <a:spcPts val="774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Franklin Gothic Book"/>
              </a:rPr>
              <a:t>المفرد: تدخل أداة التعريف على المعدود وليس العدد، مثل: ثلاثة الأقلام. </a:t>
            </a:r>
            <a:endParaRPr b="0" lang="en-US" sz="31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Franklin Gothic Book"/>
              </a:rPr>
              <a:t>ويجوز كذلك: الثلاثة أقلام وأيضاً الثلاثة الأقلام.</a:t>
            </a:r>
            <a:endParaRPr b="0" lang="en-US" sz="31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lnSpc>
                <a:spcPct val="80000"/>
              </a:lnSpc>
              <a:spcBef>
                <a:spcPts val="774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Franklin Gothic Book"/>
              </a:rPr>
              <a:t>المركب: تدخل أداة التعريف على الجزء الأول من العدد فقط، مثال: الأحد عشر كتاباً.</a:t>
            </a:r>
            <a:endParaRPr b="0" lang="en-US" sz="31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lnSpc>
                <a:spcPct val="80000"/>
              </a:lnSpc>
              <a:spcBef>
                <a:spcPts val="774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Franklin Gothic Book"/>
              </a:rPr>
              <a:t>المعطوف: عند دخول أل التعريف على العدد المعطوف، تدخل على الجزأين بسبب أداة العطف، مثال: الستة والعشرون كتاباً.</a:t>
            </a:r>
            <a:endParaRPr b="0" lang="en-US" sz="3100" spc="-1" strike="noStrike">
              <a:solidFill>
                <a:srgbClr val="000000"/>
              </a:solidFill>
              <a:latin typeface="Franklin Gothic Book"/>
            </a:endParaRPr>
          </a:p>
          <a:p>
            <a:pPr marL="231840" indent="-231840" algn="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جواز موافقة العدد لمعدوده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عند تقديم المعدود على العدد يكون التوافق في هذه الحالة جائزاً، مثال: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طلاب الثلاثة أو الطلاب الثلاث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طالبات الثلاث أو الطالبات الثلاثة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454c3"/>
                </a:solidFill>
                <a:uFillTx/>
                <a:latin typeface="Franklin Gothic Book"/>
                <a:hlinkClick r:id="rId1"/>
              </a:rPr>
              <a:t>http://www.reefnet.gov.sy/education/kafaf/Bohoth/AdadMadoud.ht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المبسط في شرح قواعد اللغة العربية لمحمد حسين سلامة - القاهرة: دار الفكر العربي،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في أساسيات اللغة العربية لعبد العزيز نبوي - القاهرة: الدار المصرية اللبنانية، </a:t>
            </a:r>
            <a:r>
              <a:rPr b="0" lang="ar-SA" sz="2400" spc="-1" strike="noStrike">
                <a:solidFill>
                  <a:srgbClr val="000000"/>
                </a:solidFill>
                <a:latin typeface="Franklin Gothic Book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اسم العدد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Content Placeholder 5" descr=""/>
          <p:cNvPicPr/>
          <p:nvPr/>
        </p:nvPicPr>
        <p:blipFill>
          <a:blip r:embed="rId1"/>
          <a:stretch/>
        </p:blipFill>
        <p:spPr>
          <a:xfrm>
            <a:off x="1450800" y="2120760"/>
            <a:ext cx="62294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العدد الأصلي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هو ما يدل على كمية الأشياء المعدودة. وأنواعه: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عدد المفرد: سبع - واحد - أربعة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عدد المركب: سبع عشرة - اثنا عشر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عدد المعطوف: خمس وأربعون - ستة وتسعون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lnSpc>
                <a:spcPct val="90000"/>
              </a:lnSpc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00"/>
                </a:solidFill>
                <a:latin typeface="Franklin Gothic Book"/>
              </a:rPr>
              <a:t>كيف تُترجم الأعداد الأصلية؟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spcBef>
                <a:spcPts val="1800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العدد الترتيبي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هو ما يدل على رتب الأشياء. وأنواعه: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مفرد: الأول - الخامس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مركب: الثاني عشر - السابعة عشرة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spcBef>
                <a:spcPts val="90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Franklin Gothic Book"/>
              </a:rPr>
              <a:t>المعطوف: الواحد والعشرون - السابعة والثمانون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00"/>
                </a:solidFill>
                <a:latin typeface="Franklin Gothic Book"/>
              </a:rPr>
              <a:t>كيف تُترجم الأعداد الترتيبية؟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 algn="r" rtl="1">
              <a:spcBef>
                <a:spcPts val="1800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توافق العدد والمعدود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Franklin Gothic Book"/>
              </a:rPr>
              <a:t>في اللغة العربية، قد يوافق العدد المعدود في التذكير والتأنيث، وقد يخالفه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أولاً: الواحد والاثنان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spcBef>
                <a:spcPts val="700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العددان (الواحد والاثنان)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يوافقان المعدود في جميع الأحوال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 algn="r" rtl="1">
              <a:spcBef>
                <a:spcPts val="700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الإفراد: رجل واحد - امرأتان اثنتان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 algn="r" rtl="1">
              <a:spcBef>
                <a:spcPts val="700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التركيب: أحد عشر رجلاً - اثنتا عشرة امرأة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 algn="r" rtl="1">
              <a:spcBef>
                <a:spcPts val="700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Franklin Gothic Book"/>
              </a:rPr>
              <a:t>المعطوف: واحد وأربعون رجل - إحدى وأربعون امرأة - اثنان وثلاثون رجل - اثنتان وثلاثون امرأة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nstantia"/>
              </a:rPr>
              <a:t>ثانياً: الأعداد من الثلاثة إلى العشرة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751"/>
              </a:spcBef>
              <a:buClr>
                <a:srgbClr val="297fd5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Franklin Gothic Book"/>
              </a:rPr>
              <a:t>الأعداد من الثلاثة إلى العشرة </a:t>
            </a:r>
            <a:r>
              <a:rPr b="0" lang="ar-SA" sz="3000" spc="-1" strike="noStrike" u="sng">
                <a:solidFill>
                  <a:srgbClr val="000000"/>
                </a:solidFill>
                <a:uFillTx/>
                <a:latin typeface="Franklin Gothic Book"/>
              </a:rPr>
              <a:t>تخالف المعدود في جميع الحالات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75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Franklin Gothic Book"/>
              </a:rPr>
              <a:t>الإفراد: ثمانية رجال - ست فتيات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75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Franklin Gothic Book"/>
              </a:rPr>
              <a:t>التركيب: سبعة عشر رجل - ثمان عشرة فتاة (</a:t>
            </a:r>
            <a:r>
              <a:rPr b="1" lang="ar-SA" sz="3000" spc="-1" strike="noStrike">
                <a:solidFill>
                  <a:srgbClr val="000000"/>
                </a:solidFill>
                <a:latin typeface="Franklin Gothic Book"/>
              </a:rPr>
              <a:t>الجزء الأول يخالف الجزء الثاني يوافق</a:t>
            </a:r>
            <a:r>
              <a:rPr b="0" lang="ar-SA" sz="30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242640" indent="-242640" algn="r" rtl="1">
              <a:spcBef>
                <a:spcPts val="751"/>
              </a:spcBef>
              <a:buClr>
                <a:srgbClr val="297fd5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Franklin Gothic Book"/>
              </a:rPr>
              <a:t>المعطوف: ستة وعشرون رجل - ثلاث وسبعون امرأة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7:00:08Z</dcterms:created>
  <dc:creator>Fawaz</dc:creator>
  <dc:description/>
  <dc:language>en-US</dc:language>
  <cp:lastModifiedBy>Family</cp:lastModifiedBy>
  <dcterms:modified xsi:type="dcterms:W3CDTF">2013-02-08T12:37:52Z</dcterms:modified>
  <cp:revision>17</cp:revision>
  <dc:subject/>
  <dc:title>Comparative Constructions II</dc:title>
</cp:coreProperties>
</file>