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6EB-B732-4111-83EB-2C6E785B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FFF-212E-48D1-96D4-02120E6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E74-AF5C-4CCF-B239-D732EFCA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7BB-6FAA-4C73-8EA7-32F82B0E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93EC-0315-4EC9-A26C-ED2C07EB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3A27-D590-4382-9C72-C2AE092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9F2D-7205-413F-815E-8B605D2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07A3-E481-4CCF-AC65-67137712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A949-DA34-43DC-AD17-F0CE48EE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1636-5610-4435-8BFC-4CA6F94D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32C-2C76-4AC3-8C2E-E39B539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4A0-4DBE-4970-8A20-E9DB0081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FD0A-A047-40D4-AE69-91481E2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77F5-F0E0-43EC-B5B3-7BA201FA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0F6-F01E-4830-BF51-4821CA94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4FC8-6C2D-45C1-95ED-98315DCC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2CCE-C74C-4436-8CCD-728A71ED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5D59-9A8A-42D3-8FC2-BAA466A3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1C13-EE29-415A-86ED-88F885B4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631A-FEB4-46FB-B8ED-175A49DF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7865-04AA-46E9-830B-D1ADAF5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2BD2-AA05-45DE-A517-19381F93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932-2994-472D-B9C8-9F8EA4EE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761C-E19E-47BF-97CB-2BCBD027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2C80-F50B-4239-9B9B-A424CDA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B141-2DAF-4B89-8BC7-866A6A7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EA0B-0FD0-4BB3-960B-BAE7235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F02B-7946-4035-931F-F8666DDE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505F-88A7-4DAB-9616-ACFE73A2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4AB8-C439-4381-993E-A418836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572D-9C97-4624-B84F-89F4F9E1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4D36-1241-4CF6-B8E4-6A339F7E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6D07-567F-46CD-B72B-4D50A6F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982-0FF5-4A69-9A35-F7DA6C8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1D44-4ECA-4C0F-99C2-50478C4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5A0E-97C4-4B26-A615-971EDCA0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05C3-E133-4DC5-A1C6-1F20429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6711-FFAA-4AA3-AB1A-22502A7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4BE1-7FBE-49B2-9DCF-DB38B16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5689-3574-491E-AA77-B9DB5E64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5F5C-0F8A-4AA1-9D1F-3A7B5FB2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EE1C-B4DD-493C-8D30-083A9D8E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F3CE-4BC5-4E28-8C85-12BF8757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F34-FE05-4A5A-8A89-15A7E67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9AC-7E54-4F4C-B043-1A4B9CDA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E4B-1BDA-403E-9A14-352E9663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28D-EDD0-4925-B46D-76BB624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E51-7C15-45CD-B0AC-A7E8C3E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66F4-2ADD-4C4D-8B23-339BD28EE708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EDA-CDD7-463F-AB32-77C01B5DE4E4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89C-1B62-4852-B4C5-D5DFDF9B99A6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0D4-C70F-479D-8971-99EBB24C3A11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2</a:t>
            </a:r>
            <a:r>
              <a:rPr b="0" lang="en-US" sz="2400" spc="-1" strike="noStrike" baseline="30000">
                <a:solidFill>
                  <a:srgbClr val="242852"/>
                </a:solidFill>
                <a:latin typeface="Franklin Gothic Book"/>
              </a:rPr>
              <a:t>nd</a:t>
            </a: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 sem. 1433/1434 – Spring 201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#1 - Number - </a:t>
            </a:r>
            <a:r>
              <a:rPr b="0" lang="ar-SA" sz="2400" spc="-1" strike="noStrike">
                <a:solidFill>
                  <a:srgbClr val="242852"/>
                </a:solidFill>
                <a:latin typeface="Franklin Gothic Book"/>
              </a:rPr>
              <a:t>العدد والمعدود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اكتبي الأرقام التالية بالحروف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63400" y="2276280"/>
            <a:ext cx="619596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زاد تعداد الشعب الإنجليزي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مليون نسمةً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في ا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لقر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9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، إلا أنه لم يعان من آثار الانفجار السكاني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شاهد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الحلقة الـ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والأخيرة من المسلسل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زرت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مدرسةً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تحتوي المجموعة الشمسية على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9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كواكبٍ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 أحم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قصصٍ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أثناء العطلة الصيف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أدخلي ألـ التعريف على الأعداد التالية واكتبيها بالحروف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كتابا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قصة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أحضر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7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نسخة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سيحضر محم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حقائب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</a:rPr>
              <a:t>. ضعي علامة صح أمام العبارات الصحيحة وعلامة خطأ أمام العبارات الخاطئة مع تصحيح الخطأ فيما يل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6000" y="21337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طابق السابع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أحد العشرة دول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7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كتابا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36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جنيه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30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مليون سه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ترجمي الجمل التالية من اللغة الإنجليزية إلى اللغة العربية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he prepared dinner for the three childr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students will read twenty-seven articles during the semest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classroom is on the thirteenth floo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ra is ten years old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bag costs one hundred riyal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re are fifteen seats in the classroom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 have seven blue pens at hom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ty people went to the zoo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في أساسيات اللغة العربية لعبد العزيز نبوي - القاهرة: الدار المصرية اللبنانية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7:00:08Z</dcterms:created>
  <dc:creator>Fawaz</dc:creator>
  <dc:description/>
  <dc:language>en-US</dc:language>
  <cp:lastModifiedBy>Family</cp:lastModifiedBy>
  <dcterms:modified xsi:type="dcterms:W3CDTF">2013-02-08T12:38:07Z</dcterms:modified>
  <cp:revision>26</cp:revision>
  <dc:subject/>
  <dc:title>Comparative Constructions II</dc:title>
</cp:coreProperties>
</file>