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3F1-D61E-40AF-9149-B4356066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5CE-56D7-4788-BDD5-CDD7488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541-0645-4D8F-8F7E-A6E5AA33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803-D66D-4417-9EAF-8C82105C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B2D-6BEA-4C70-852C-76363067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380-6803-4630-B378-CC0BB763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67C-3766-4849-B266-673D3114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AD1-996A-4314-AD42-90362DB1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F56A-DD73-4196-9EEB-1BBFCD06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38F-1949-413A-A3D6-B181213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CEB9-603C-40A5-9B2B-2E99DDC1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CC2-6D86-4E78-A0B0-FD90C3A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2AEF-926C-407C-86A0-6F1B388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CC07-C19E-4A1E-8B31-026D4F4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B39-73E2-4175-B0D3-432EDB4C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8C3-FD9E-4932-A3B7-C8B7142A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0527-AAC0-472E-A7B2-D6A81CDE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27E6-D60D-4936-B5CD-192FB201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3DB4-61D7-40B7-8BC4-4882F45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6824-EC0F-487B-8939-81FBE227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3688-6243-4CB5-87BB-F32C436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7A27-593F-46B2-9624-6D802C5D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560-5D85-4D44-B8AB-98C63212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371E-9DD4-437C-85B2-006505BA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1F0D-2977-4829-BC85-C750E4F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B185-B4D9-4742-A843-E85E5D1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EF71-670F-4D7F-883E-A7C8895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E780-521F-4527-BACC-2A6AD59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58FE-80AD-43E2-8B0F-903D8B4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D4D8-319A-4B4E-86E1-94231FD9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22FD-1C71-4103-A7AA-05ED37C6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4448-9DFF-4B65-BF3B-BED4073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4E8E-677E-42B2-9F3E-96900B5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EA6-2A8F-4CB3-A62C-84099F83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81F7-3A7F-4748-B588-E444A9B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98BE-6B59-45F8-8792-0EB6A33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115B-52FA-47C1-8D02-9F2256DD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BBA4-6A45-425D-9550-7F50BF8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8F2E-3291-4473-8025-4A69180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F4DA-362B-411B-B861-CA66249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4E08-F8F1-4595-B770-9E740BDF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4273-6AA1-4F33-AB31-CD80B492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F2FD-BD1E-40BF-B912-A6903502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F2F-FBAE-4777-96A1-43435D97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4A5-69A0-4A3D-8763-827AC74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74B-EBD1-41EF-ADD4-5CBD17A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A72-58EA-4F62-ADAD-BEE42E8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F98-F123-471C-AFC6-7158317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0A8-A950-40CC-B4DE-E7958DBBBDCC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84A-DA76-495F-B817-97C15C6F55C6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BCAF-14FB-4164-8B74-E8BE75D65DD1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D7B-ADF9-47F2-9EC6-AD64F430BED0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2</a:t>
            </a:r>
            <a:r>
              <a:rPr b="0" lang="en-US" sz="2400" spc="-1" strike="noStrike" baseline="30000">
                <a:solidFill>
                  <a:srgbClr val="242852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 sem. 1433/1434 – Spring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#1 - Number - </a:t>
            </a:r>
            <a:r>
              <a:rPr b="0" lang="ar-SA" sz="2400" spc="-1" strike="noStrike">
                <a:solidFill>
                  <a:srgbClr val="242852"/>
                </a:solidFill>
                <a:latin typeface="Franklin Gothic Book"/>
              </a:rPr>
              <a:t>العدد والمعدود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اكتبي الأرقام التالية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276280"/>
            <a:ext cx="619596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اد تعداد الشعب الإنجليزي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ليون نسم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في ا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لقرن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9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، إلا أنه لم يعان من آثار الانفجار السكاني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شاهد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الحلقة الـ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والأخيرة من المسلسل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زرت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مدرسةً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تحتوي المجموعة الشمسية على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9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كواكب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 أ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0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قصصٍ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أثناء العطلة الصيفية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أدخلي ألـ التعريف على الأعداد التالية واكتبيها بالحروف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قرأ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قص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أحضرتُ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17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نسخةً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سيحضر محمد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حقائب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</a:rPr>
              <a:t>. ضعي علامة صح أمام العبارات الصحيحة وعلامة خطأ أمام العبارات الخاطئة مع تصحيح الخطأ فيما يلي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6000" y="21337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طابق السابع عشر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أحد العشرة دول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70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كتابا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6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جنيهات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303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 مليون سهم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r" rtl="1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Constantia"/>
              </a:rPr>
              <a:t>. ترجمي الجمل التالية من اللغة الإنجليزية إلى اللغة العربية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he prepared dinner for the three childr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students will read twenty-seven articles during the semest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classroom is on the thirteenth floo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0480" indent="-42048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ra is ten years old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 bag costs one hundred riyal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re are fifteen seats in the classroom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 have seven blue pens at hom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601"/>
              </a:spcBef>
              <a:buClr>
                <a:srgbClr val="297fd5"/>
              </a:buClr>
              <a:buSzPct val="85000"/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ty people went to the zoo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في أساسيات اللغة العربية لعبد العزيز نبوي - القاهرة: الدار المصرية اللبنانية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7:00:08Z</dcterms:created>
  <dc:creator>Fawaz</dc:creator>
  <dc:description/>
  <dc:language>en-US</dc:language>
  <cp:lastModifiedBy>Family</cp:lastModifiedBy>
  <dcterms:modified xsi:type="dcterms:W3CDTF">2013-02-08T12:38:07Z</dcterms:modified>
  <cp:revision>26</cp:revision>
  <dc:subject/>
  <dc:title>Comparative Constructions II</dc:title>
</cp:coreProperties>
</file>