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4B3A-2010-416F-B227-32F6C13E2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2ED8-CAA8-4097-9172-E1D9C28A6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2DCF-EC04-413B-90FE-2FC4E2266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10AB-2FDC-4B5E-A789-18869656C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0F346-EDB6-4E4F-B757-B0D60BA09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8FD0E-DE49-46FA-86B4-6351C5760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29F9C-96AA-4CE0-BF79-7F1195325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7242F-F8E5-476D-8B4A-4742CAF7D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98DB3-DFE5-4657-A21E-C09C3B787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E6F2A-770D-48C8-B3F4-05B40E1E1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D3E5A-9C59-40C6-81F5-AD76E7B5A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3D31-323D-4713-9C67-D7644D056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4FFED-484C-44C4-9614-60C42F068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BD94F-C009-42C7-9A7A-159F34C56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98F52-9ABE-429B-8AC5-A3A8A3F1B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20784-B912-4779-9299-414BAF65E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63593-92A1-4E59-A012-4DB9C7189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B11377-DC36-43A2-BC20-6919F0661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C6BDF0-2053-46DF-9692-8ACACDFD7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7FEF2B-86B6-4326-A565-DAE923D3C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102D56-AF79-423C-97C6-2CBB44394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1F9886-0285-4143-BF98-119CDD4A4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EE8E-D6CA-4BD1-92A8-F0BE7FA55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4C10D5-1AF5-44C0-9AD4-964753228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4A8C97-3D1F-4A63-B5F5-3B1E08A76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CC7F9A-E67E-48CF-9383-D5D459EDB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B90DBA-9EF0-4845-8DCE-67699230F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C78165-C2FF-4CD9-B61D-9B5A5F699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D342D7-B52F-449A-B547-88BED8037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2F5115-A2BE-46E0-A959-797B47EB1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5161CB-8AE0-496A-9090-2BCE49399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083833-ED11-4998-9C45-B6C7DCBB4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415712-2C93-4624-A38D-57D9E23B0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FB0F-6035-4115-81E6-B39769355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AF10C3-4BA5-4482-AE00-14C10F369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184106-E2B6-4F2C-AEDB-8D22F3434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07D3DD-0700-4D3F-AC84-7EEF596A4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89BF26-7CEC-401B-BE1E-82502BEC4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3D82FA-A3DF-4AA7-BC3B-72DF8CE8F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85D1DF-CD09-4308-8E03-207B0E944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BE05A6-6F5D-47CA-8569-F6B6B64B1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D3E6A9-E051-4AA4-A565-2BE8D6A5C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E92FDF-DC81-4C5C-A2BE-2B13FA62B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0E01-D9F0-4D6B-81A0-EFBF1934E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BB12-7B60-48B5-A26F-B99011D81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9D3A-83AA-4011-B614-64FC545E6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A2B8-010E-4E81-BDD0-D57A09914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1222-268F-4BDC-8F84-2C1DD024E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 algn="r" rtl="1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 algn="r" rtl="1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 algn="r" rtl="1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 algn="r" rtl="1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 algn="r" rtl="1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 algn="r" rtl="1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C94CA-0038-401D-A054-2DBF5D27D57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Rectangle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Rectangle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Rectangle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Rectangle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Rounded Rectangle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Rounded Rectangle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Rectangle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Rectangle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Rectangle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Rectangle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 algn="r" rtl="1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 algn="r" rtl="1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 algn="r" rtl="1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 algn="r" rtl="1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 algn="r" rtl="1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 algn="r" rtl="1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CDB86-859A-4C53-B02F-05225AF379E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 algn="r" rtl="1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 algn="r" rtl="1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 algn="r" rtl="1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 algn="r" rtl="1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 algn="r" rtl="1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 algn="r" rtl="1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46598-E3E5-45DC-8206-95E13D00151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 algn="r" rtl="1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 algn="r" rtl="1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 algn="r" rtl="1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 algn="r" rtl="1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 algn="r" rtl="1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 algn="r" rtl="1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21E3D-B0EC-4A53-9EB2-B39C06C5812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kimskorner4teachertalk.com/writing/sixtrait/conventions/punctuation.html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Comparative Construction II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Georgia"/>
              </a:rPr>
              <a:t>2</a:t>
            </a:r>
            <a:r>
              <a:rPr b="0" lang="en-US" sz="2400" spc="-1" strike="noStrike" baseline="30000">
                <a:solidFill>
                  <a:srgbClr val="424456"/>
                </a:solidFill>
                <a:latin typeface="Georgia"/>
              </a:rPr>
              <a:t>nd</a:t>
            </a:r>
            <a:r>
              <a:rPr b="0" lang="en-US" sz="2400" spc="-1" strike="noStrike">
                <a:solidFill>
                  <a:srgbClr val="424456"/>
                </a:solidFill>
                <a:latin typeface="Georgia"/>
              </a:rPr>
              <a:t> sem. 1433/1434 - Spring 2013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Georgia"/>
              </a:rPr>
              <a:t>#2</a:t>
            </a:r>
            <a:r>
              <a:rPr b="0" lang="en-US" sz="2400" spc="-1" strike="noStrike">
                <a:solidFill>
                  <a:srgbClr val="424456"/>
                </a:solidFill>
                <a:latin typeface="Georgia"/>
              </a:rPr>
              <a:t> - </a:t>
            </a:r>
            <a:r>
              <a:rPr b="0" lang="en-US" sz="2400" spc="-1" strike="noStrike">
                <a:solidFill>
                  <a:srgbClr val="424456"/>
                </a:solidFill>
                <a:latin typeface="Georgia"/>
              </a:rPr>
              <a:t>Punctuatio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424456"/>
                </a:solidFill>
                <a:latin typeface="Trebuchet MS"/>
              </a:rPr>
              <a:t>:</a:t>
            </a:r>
            <a:endParaRPr b="0" lang="en-US" sz="7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6. When to use a colon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Between hours and minute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o introduce a list after an independent claus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fter the greeting in business/professional letter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Between the title and the subtitle of a book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o introduce a long quotat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424456"/>
                </a:solidFill>
                <a:latin typeface="Trebuchet MS"/>
              </a:rPr>
              <a:t>’</a:t>
            </a:r>
            <a:endParaRPr b="0" lang="en-US" sz="65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7. When to use an apostrophe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n contraction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When leaving out the first two numbers of a year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o show possession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24456"/>
                </a:solidFill>
                <a:latin typeface="Trebuchet MS"/>
              </a:rPr>
              <a:t>“ ”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8. When to use quotation marks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Before and after a direct quot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round words, letters, or symbols that are slang or being used in a special way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Use single quotation marks for quotation marks within quotation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round titles of some work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424456"/>
                </a:solidFill>
                <a:latin typeface="Trebuchet MS"/>
              </a:rPr>
              <a:t>…</a:t>
            </a:r>
            <a:endParaRPr b="0" lang="en-US" sz="65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9. When to use ellipses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o indicate a paus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o indicate omitted words in a quotat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424456"/>
                </a:solidFill>
                <a:latin typeface="Trebuchet MS"/>
              </a:rPr>
              <a:t>-</a:t>
            </a:r>
            <a:endParaRPr b="0" lang="en-US" sz="65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10. When to use a hyphen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n compound numbers from twenty-one to ninety-nin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Between the numbers in a fract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n some compound word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n compound adjective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o join a capital letter to a word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t the end of the line, when dividing word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424456"/>
                </a:solidFill>
                <a:latin typeface="Trebuchet MS"/>
              </a:rPr>
              <a:t>( )</a:t>
            </a:r>
            <a:endParaRPr b="0" lang="en-US" sz="7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11. When to use parentheses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round a word/phrase that adds informat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No parentheses within parentheses - use brackets instead of the inner one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fter, or before and after numbers or letters in text to list item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424456"/>
                </a:solidFill>
                <a:latin typeface="Trebuchet MS"/>
              </a:rPr>
              <a:t>[  ]</a:t>
            </a:r>
            <a:endParaRPr b="0" lang="en-US" sz="7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12. When to use brackets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round words you add to a quot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round words within parenthesized materia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24456"/>
                </a:solidFill>
                <a:latin typeface="Trebuchet MS"/>
              </a:rPr>
              <a:t>Underlining/Italics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13. When to use underlining or italics (preferred)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reign word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Words/numbers/letters used in a special way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000" spc="-1" strike="noStrike">
              <a:solidFill>
                <a:srgbClr val="424456"/>
              </a:solidFill>
              <a:latin typeface="Trebuchet MS"/>
              <a:ea typeface="Tahoma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000000"/>
                </a:solidFill>
                <a:latin typeface="Georgia"/>
                <a:cs typeface="Arial"/>
              </a:rPr>
              <a:t>علامات الترقيم</a:t>
            </a:r>
            <a:endParaRPr b="0" lang="en-US" sz="7200" spc="-1" strike="noStrike">
              <a:solidFill>
                <a:srgbClr val="000000"/>
              </a:solidFill>
              <a:latin typeface="Georgia"/>
            </a:endParaRPr>
          </a:p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424456"/>
                </a:solidFill>
                <a:latin typeface="Trebuchet MS"/>
                <a:ea typeface="Tahoma"/>
              </a:rPr>
              <a:t>((  ))</a:t>
            </a:r>
            <a:endParaRPr b="0" lang="en-US" sz="7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 algn="r" rt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Georgia"/>
                <a:ea typeface="Arial"/>
              </a:rPr>
              <a:t>1</a:t>
            </a:r>
            <a:r>
              <a:rPr b="1" lang="ar-SA" sz="2800" spc="-1" strike="noStrike">
                <a:solidFill>
                  <a:srgbClr val="000000"/>
                </a:solidFill>
                <a:latin typeface="Georgia"/>
                <a:ea typeface="Arial"/>
              </a:rPr>
              <a:t>. متى نستخدم علامات التنصيص؟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9440" algn="r" rtl="1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9440" algn="r" rtl="1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Georgia"/>
                <a:cs typeface="Arial"/>
              </a:rPr>
              <a:t>عند الاقتباس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9440" algn="r" rtl="1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Georgia"/>
                <a:cs typeface="Arial"/>
              </a:rPr>
              <a:t>عناوين الكتب والمقالات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9440" algn="r" rtl="1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Georgia"/>
                <a:cs typeface="Arial"/>
              </a:rPr>
              <a:t>عند مناقشة كلمة أو لفظ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9440" algn="r" rt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6000" spc="-1" strike="noStrike">
              <a:solidFill>
                <a:srgbClr val="424456"/>
              </a:solidFill>
              <a:latin typeface="Trebuchet MS"/>
              <a:ea typeface="Tahom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220968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Georgia"/>
              </a:rPr>
              <a:t>Punctuation </a:t>
            </a:r>
            <a:endParaRPr b="0" lang="en-US" sz="7200" spc="-1" strike="noStrike">
              <a:solidFill>
                <a:srgbClr val="000000"/>
              </a:solidFill>
              <a:latin typeface="Georgia"/>
            </a:endParaRPr>
          </a:p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424456"/>
                </a:solidFill>
                <a:latin typeface="Trebuchet MS"/>
                <a:ea typeface="Tahoma"/>
              </a:rPr>
              <a:t>( )</a:t>
            </a:r>
            <a:endParaRPr b="0" lang="en-US" sz="7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 algn="r" rt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Georgia"/>
                <a:ea typeface="Arial"/>
              </a:rPr>
              <a:t>2</a:t>
            </a:r>
            <a:r>
              <a:rPr b="1" lang="ar-SA" sz="2800" spc="-1" strike="noStrike">
                <a:solidFill>
                  <a:srgbClr val="000000"/>
                </a:solidFill>
                <a:latin typeface="Georgia"/>
                <a:ea typeface="Arial"/>
              </a:rPr>
              <a:t>. متى نستخدم الأقواس للحصر؟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9440" algn="r" rt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9440" algn="r" rtl="1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Georgia"/>
                <a:cs typeface="Arial"/>
              </a:rPr>
              <a:t>لتحديد معنى عام سابق لها (أي توفير معلومات إضافية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9440" algn="r" rtl="1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Georgia"/>
                <a:cs typeface="Arial"/>
              </a:rPr>
              <a:t>لشرح معنى غامض سابق لها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9440" algn="r" rtl="1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Georgia"/>
                <a:cs typeface="Arial"/>
              </a:rPr>
              <a:t>للتمثيل لجملة سابقة لها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9440" algn="r" rtl="1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Georgia"/>
                <a:cs typeface="Arial"/>
              </a:rPr>
              <a:t>للإشارة إلى مرجع في وسط الكلام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9440" algn="r" rtl="1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Georgia"/>
                <a:cs typeface="Arial"/>
              </a:rPr>
              <a:t>للفت الانتباه لعبارة محددة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424456"/>
                </a:solidFill>
                <a:latin typeface="Trebuchet MS"/>
              </a:rPr>
              <a:t>…</a:t>
            </a:r>
            <a:endParaRPr b="0" lang="en-US" sz="7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 algn="r" rt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Georgia"/>
                <a:ea typeface="Arial"/>
              </a:rPr>
              <a:t>3</a:t>
            </a:r>
            <a:r>
              <a:rPr b="1" lang="ar-SA" sz="2800" spc="-1" strike="noStrike">
                <a:solidFill>
                  <a:srgbClr val="000000"/>
                </a:solidFill>
                <a:latin typeface="Georgia"/>
                <a:ea typeface="Arial"/>
              </a:rPr>
              <a:t>. متى نستخدم علامة الحذف؟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9440" algn="r" rt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9440" algn="r" rtl="1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Georgia"/>
                <a:cs typeface="Arial"/>
              </a:rPr>
              <a:t>للدلالة على إسقاظ لفظ أو أكثر من الاقتباس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9440" algn="r" rt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9440" algn="r" rtl="1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424456"/>
                </a:solidFill>
                <a:latin typeface="Trebuchet MS"/>
              </a:rPr>
              <a:t>-</a:t>
            </a:r>
            <a:endParaRPr b="0" lang="en-US" sz="65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 algn="r" rt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Georgia"/>
                <a:ea typeface="Arial"/>
              </a:rPr>
              <a:t>4</a:t>
            </a:r>
            <a:r>
              <a:rPr b="1" lang="ar-SA" sz="2800" spc="-1" strike="noStrike">
                <a:solidFill>
                  <a:srgbClr val="000000"/>
                </a:solidFill>
                <a:latin typeface="Georgia"/>
                <a:ea typeface="Arial"/>
              </a:rPr>
              <a:t>. متى نستخدم الشرطة؟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9440" algn="r" rt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9440" algn="r" rtl="1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Georgia"/>
                <a:cs typeface="Arial"/>
              </a:rPr>
              <a:t>لحصر الجملة الاعتراضية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9440" algn="r" rtl="1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Georgia"/>
                <a:cs typeface="Arial"/>
              </a:rPr>
              <a:t>للدلالة على الشرح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9440" algn="r" rtl="1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Georgia"/>
                <a:cs typeface="Arial"/>
              </a:rPr>
              <a:t>للدلالة على الإضافة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9440" algn="r" rtl="1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Georgia"/>
                <a:cs typeface="Arial"/>
              </a:rPr>
              <a:t>عند التعداد بالنقاط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9440" algn="r" rt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424456"/>
                </a:solidFill>
                <a:latin typeface="Trebuchet MS"/>
                <a:cs typeface="Tahoma"/>
              </a:rPr>
              <a:t>،</a:t>
            </a:r>
            <a:endParaRPr b="0" lang="en-US" sz="7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 algn="r" rt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Georgia"/>
                <a:ea typeface="Arial"/>
              </a:rPr>
              <a:t>5</a:t>
            </a:r>
            <a:r>
              <a:rPr b="1" lang="ar-SA" sz="2800" spc="-1" strike="noStrike">
                <a:solidFill>
                  <a:srgbClr val="000000"/>
                </a:solidFill>
                <a:latin typeface="Georgia"/>
                <a:ea typeface="Arial"/>
              </a:rPr>
              <a:t>. متى نستخدم الفاصلة؟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9440" algn="r" rt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9440" algn="r" rtl="1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Georgia"/>
                <a:cs typeface="Arial"/>
              </a:rPr>
              <a:t>بين المعطوفات من مفردات أو عبارات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9440" algn="r" rtl="1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Georgia"/>
                <a:cs typeface="Arial"/>
              </a:rPr>
              <a:t>بين الجمل المعطوفة على بعضها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9440" algn="r" rtl="1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Georgia"/>
                <a:cs typeface="Arial"/>
              </a:rPr>
              <a:t>بين الجمل الصغيرة/القصيرة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9440" algn="r" rtl="1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Georgia"/>
                <a:cs typeface="Arial"/>
              </a:rPr>
              <a:t>بعد المنادى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9440" algn="r" rtl="1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Georgia"/>
                <a:cs typeface="Arial"/>
              </a:rPr>
              <a:t>بعد حرف الجواب في أول الجملة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9440" algn="r" rtl="1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 u="sng">
                <a:solidFill>
                  <a:srgbClr val="000000"/>
                </a:solidFill>
                <a:uFillTx/>
                <a:latin typeface="Georgia"/>
                <a:cs typeface="Arial"/>
              </a:rPr>
              <a:t>لا</a:t>
            </a:r>
            <a:r>
              <a:rPr b="0" lang="ar-SA" sz="2800" spc="-1" strike="noStrike">
                <a:solidFill>
                  <a:srgbClr val="000000"/>
                </a:solidFill>
                <a:latin typeface="Georgia"/>
                <a:ea typeface="Arial"/>
              </a:rPr>
              <a:t> توضع بين أركان الجملة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9440" algn="r" rtl="1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424456"/>
                </a:solidFill>
                <a:latin typeface="Trebuchet MS"/>
                <a:cs typeface="Tahoma"/>
              </a:rPr>
              <a:t>؛</a:t>
            </a:r>
            <a:endParaRPr b="0" lang="en-US" sz="7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 algn="r" rt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Georgia"/>
                <a:ea typeface="Arial"/>
              </a:rPr>
              <a:t>6</a:t>
            </a:r>
            <a:r>
              <a:rPr b="1" lang="ar-SA" sz="2800" spc="-1" strike="noStrike">
                <a:solidFill>
                  <a:srgbClr val="000000"/>
                </a:solidFill>
                <a:latin typeface="Georgia"/>
                <a:ea typeface="Arial"/>
              </a:rPr>
              <a:t>. متى نستخدم الفاصلة المنقوطة؟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9440" algn="r" rt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9440" algn="r" rtl="1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Georgia"/>
                <a:cs typeface="Arial"/>
              </a:rPr>
              <a:t>بين جملتين لهما علاقة في المعنى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9440" algn="r" rtl="1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Georgia"/>
                <a:cs typeface="Arial"/>
              </a:rPr>
              <a:t>بين جملتين تربطهما فاء السببية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9440" algn="r" rt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424456"/>
                </a:solidFill>
                <a:latin typeface="Trebuchet MS"/>
                <a:ea typeface="Tahoma"/>
              </a:rPr>
              <a:t>.</a:t>
            </a:r>
            <a:endParaRPr b="0" lang="en-US" sz="7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 algn="r" rt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Georgia"/>
                <a:ea typeface="Arial"/>
              </a:rPr>
              <a:t>7</a:t>
            </a:r>
            <a:r>
              <a:rPr b="1" lang="ar-SA" sz="2800" spc="-1" strike="noStrike">
                <a:solidFill>
                  <a:srgbClr val="000000"/>
                </a:solidFill>
                <a:latin typeface="Georgia"/>
                <a:ea typeface="Arial"/>
              </a:rPr>
              <a:t>. متى نستخدم النقطة؟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9440" algn="r" rt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9440" algn="r" rtl="1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Georgia"/>
                <a:cs typeface="Arial"/>
              </a:rPr>
              <a:t>عند انتهاء الجملة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9440" algn="r" rt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424456"/>
                </a:solidFill>
                <a:latin typeface="Trebuchet MS"/>
                <a:ea typeface="Tahoma"/>
              </a:rPr>
              <a:t>: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 algn="r" rt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Georgia"/>
                <a:ea typeface="Arial"/>
              </a:rPr>
              <a:t>8</a:t>
            </a:r>
            <a:r>
              <a:rPr b="1" lang="ar-SA" sz="2800" spc="-1" strike="noStrike">
                <a:solidFill>
                  <a:srgbClr val="000000"/>
                </a:solidFill>
                <a:latin typeface="Georgia"/>
                <a:ea typeface="Arial"/>
              </a:rPr>
              <a:t>. متى نستخدم النقطتان الرأسيتان؟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9440" algn="r" rt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9440" algn="r" rtl="1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Georgia"/>
                <a:cs typeface="Arial"/>
              </a:rPr>
              <a:t>للتنبية لتفسير أو تجزيء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9440" algn="r" rtl="1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Georgia"/>
                <a:cs typeface="Arial"/>
              </a:rPr>
              <a:t>لنقل الكلام حرفياً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9440" algn="r" rtl="1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424456"/>
                </a:solidFill>
                <a:latin typeface="Trebuchet MS"/>
                <a:cs typeface="Tahoma"/>
              </a:rPr>
              <a:t>؟</a:t>
            </a:r>
            <a:endParaRPr b="0" lang="en-US" sz="7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 algn="r" rt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Georgia"/>
                <a:ea typeface="Arial"/>
              </a:rPr>
              <a:t>9</a:t>
            </a:r>
            <a:r>
              <a:rPr b="1" lang="ar-SA" sz="2800" spc="-1" strike="noStrike">
                <a:solidFill>
                  <a:srgbClr val="000000"/>
                </a:solidFill>
                <a:latin typeface="Georgia"/>
                <a:ea typeface="Arial"/>
              </a:rPr>
              <a:t>. متى نستخدم علامة الاستفهام؟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9440" algn="r" rt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9440" algn="r" rtl="1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Georgia"/>
                <a:cs typeface="Arial"/>
              </a:rPr>
              <a:t>في نهاية السؤال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424456"/>
                </a:solidFill>
                <a:latin typeface="Trebuchet MS"/>
                <a:ea typeface="Tahoma"/>
              </a:rPr>
              <a:t>!</a:t>
            </a:r>
            <a:endParaRPr b="0" lang="en-US" sz="7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 algn="r" rt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Georgia"/>
                <a:ea typeface="Arial"/>
              </a:rPr>
              <a:t>10</a:t>
            </a:r>
            <a:r>
              <a:rPr b="1" lang="ar-SA" sz="2800" spc="-1" strike="noStrike">
                <a:solidFill>
                  <a:srgbClr val="000000"/>
                </a:solidFill>
                <a:latin typeface="Georgia"/>
                <a:ea typeface="Arial"/>
              </a:rPr>
              <a:t>. متى نستخدم علامة التعجب؟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9440" algn="r" rt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9440" algn="r" rtl="1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Georgia"/>
                <a:cs typeface="Arial"/>
              </a:rPr>
              <a:t>بعد أي صيغة تعجب أو انفعال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24456"/>
                </a:solidFill>
                <a:latin typeface="Trebuchet MS"/>
              </a:rPr>
              <a:t>Reference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7afbd"/>
                </a:solidFill>
                <a:uFillTx/>
                <a:latin typeface="Georgia"/>
                <a:hlinkClick r:id="rId1"/>
              </a:rPr>
              <a:t>http://www.kimskorner4teachertalk.com/writing/sixtrait/conventions/punctuation.htm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Ghazala, H. (2003). </a:t>
            </a:r>
            <a:r>
              <a:rPr b="0" i="1" lang="en-US" sz="2800" spc="-1" strike="noStrike">
                <a:solidFill>
                  <a:srgbClr val="000000"/>
                </a:solidFill>
                <a:latin typeface="Georgia"/>
              </a:rPr>
              <a:t>Translation as problems and solutions: A coursebook for university students and trainee translators (5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Georgia"/>
              </a:rPr>
              <a:t>th</a:t>
            </a:r>
            <a:r>
              <a:rPr b="0" i="1" lang="en-US" sz="2800" spc="-1" strike="noStrike">
                <a:solidFill>
                  <a:srgbClr val="000000"/>
                </a:solidFill>
                <a:latin typeface="Georgia"/>
              </a:rPr>
              <a:t> ed.)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 Beirut: Dar wa Maktabat Al-Hilal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424456"/>
                </a:solidFill>
                <a:latin typeface="Trebuchet MS"/>
              </a:rPr>
              <a:t>.</a:t>
            </a:r>
            <a:endParaRPr b="0" lang="en-US" sz="65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1. When to use a period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t the end of a sentenc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fter an initia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fter an abbreviat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s a decimal poin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fter each number in a lis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424456"/>
                </a:solidFill>
                <a:latin typeface="Trebuchet MS"/>
              </a:rPr>
              <a:t>!</a:t>
            </a:r>
            <a:endParaRPr b="0" lang="en-US" sz="65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2. When to use an exclamation mark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t the end of a sentence, phrase, or word that indicates strong emot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424456"/>
                </a:solidFill>
                <a:latin typeface="Trebuchet MS"/>
              </a:rPr>
              <a:t>?</a:t>
            </a:r>
            <a:endParaRPr b="0" lang="en-US" sz="65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3. When to use a question mark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t the end of a quest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t the end of a declarative statement that is meant to be a quest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424456"/>
                </a:solidFill>
                <a:latin typeface="Trebuchet MS"/>
              </a:rPr>
              <a:t>,</a:t>
            </a:r>
            <a:endParaRPr b="0" lang="en-US" sz="65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4. When to use a comma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fter each item in a series of at least three item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fter the street address and city in an addres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fter the day and the year in a dat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fter every 3 digits in large numbers (</a:t>
            </a:r>
            <a:r>
              <a:rPr b="0" i="1" lang="en-US" sz="2800" spc="-1" strike="noStrike">
                <a:solidFill>
                  <a:srgbClr val="000000"/>
                </a:solidFill>
                <a:latin typeface="Georgia"/>
              </a:rPr>
              <a:t>exception: years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o set off interruptions in a sentenc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000" spc="-1" strike="noStrike">
              <a:solidFill>
                <a:srgbClr val="424456"/>
              </a:solidFill>
              <a:latin typeface="Trebuchet MS"/>
              <a:ea typeface="Tahoma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o separate 2 or more adjectives modifying the same nou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fter introductory clause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Before the conjunction in a compound sentence (</a:t>
            </a:r>
            <a:r>
              <a:rPr b="0" i="1" lang="en-US" sz="2800" spc="-1" strike="noStrike">
                <a:solidFill>
                  <a:srgbClr val="000000"/>
                </a:solidFill>
                <a:latin typeface="Georgia"/>
              </a:rPr>
              <a:t>exception: if the clauses are too short, no need to use a comma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n quotes, to the left of the quotation mark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fter interjections like </a:t>
            </a:r>
            <a:r>
              <a:rPr b="0" i="1" lang="en-US" sz="2800" spc="-1" strike="noStrike">
                <a:solidFill>
                  <a:srgbClr val="000000"/>
                </a:solidFill>
                <a:latin typeface="Georgia"/>
              </a:rPr>
              <a:t>oh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or </a:t>
            </a:r>
            <a:r>
              <a:rPr b="0" i="1" lang="en-US" sz="2800" spc="-1" strike="noStrike">
                <a:solidFill>
                  <a:srgbClr val="000000"/>
                </a:solidFill>
                <a:latin typeface="Georgia"/>
              </a:rPr>
              <a:t>wel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000" spc="-1" strike="noStrike">
              <a:solidFill>
                <a:srgbClr val="424456"/>
              </a:solidFill>
              <a:latin typeface="Trebuchet MS"/>
              <a:ea typeface="Tahom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fter a noun in direct addres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fter the greeting in personal letter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fter the closing in letter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f a pause is necessary to avoid confus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o set off abbreviations like etc., e.g., and i.e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424456"/>
                </a:solidFill>
                <a:latin typeface="Trebuchet MS"/>
              </a:rPr>
              <a:t>;</a:t>
            </a:r>
            <a:endParaRPr b="0" lang="en-US" sz="7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5. When to use a semicolon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o join two independent clauses (no comma and conjunction are necessary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o separate items in a series when they contain punctuation, such as comma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Fawaz</dc:creator>
  <dc:description/>
  <dc:language>en-US</dc:language>
  <cp:lastModifiedBy>Fawaz</cp:lastModifiedBy>
  <dcterms:modified xsi:type="dcterms:W3CDTF">2013-02-15T11:29:21Z</dcterms:modified>
  <cp:revision>23</cp:revision>
  <dc:subject/>
  <dc:title>Comparative Construction II</dc:title>
</cp:coreProperties>
</file>