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11F-1A41-4166-87F7-7088C22F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DF0-3744-49AB-90E9-90F4F23A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EFF-9C8B-4637-A6C4-D848E5C2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5EC-E8BF-4531-9D42-0077B4E6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4FB-A28C-40C9-993C-31CC55F5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723-5C62-4EA1-842F-C874FD7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EFC4-9B70-4CC7-8979-58CB93B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B5CB-1AF3-4108-A246-F92B35F6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191-B856-4A79-8F08-682087AE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4C7-9683-49D4-A4C5-271F07F8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7371-D609-49BF-8D35-DEEB66B9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BB6-5CEB-40DB-827A-53284393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9F52-2777-4BF7-985E-8089224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ABD-63EB-4DC9-9246-40DE2EC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811A-19F4-46D1-8B67-1E31B236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6E8-E0DE-447A-9E83-7D3CFAE9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6F9B-3B30-44D0-8EEE-BEBD01E9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FBD5E-D74D-43A0-97F1-B9954BEE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FD8CE-EF1A-4B3B-BD2A-6764E33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21393-207B-4FBB-ABF4-645573B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0234C-DE1D-4B0A-9AC6-78E0C97B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BD65B-CC0D-416A-9C40-60596E57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A97-729A-402E-BD91-5A46A7BC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865C2-A074-4191-BF5B-80DC56C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67463-F74A-4285-825C-B7197010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D7634-D3BD-4880-94EA-215F5A96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0573F-A3C0-4D8E-ACB8-C08B49A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6D61C-B0B6-4B1B-9A5A-BE449676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52D0C-8E5E-4480-A1DC-89957E83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26291-42FB-4462-A1B8-3C9040E0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CABA-BA6A-405C-A5B0-DF8E60C9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12B0-B033-4148-A253-71CAE14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78CC-7EFB-4E4A-AE79-AFCCC4F5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FCD-10D0-4070-8479-83208A57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D0E0-BD1C-4600-BF30-547F0ADD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F6A2-5BC3-4321-902F-9543398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BD74-9669-4F38-A379-2BD026C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B306-C174-4912-9F46-711A4E9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ECBF-7111-4F87-AE06-4B834CAE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35AD-3E26-4A54-A53B-2F4574A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0EB3-8A36-4CA7-874B-04360321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29034-CD1E-4736-A705-9F6E5443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D3D7-E075-49C4-9C2C-D1A0DEE5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4AF-8FE3-48E9-8E96-C9786649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0B7-8184-4236-94BB-485ECB9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2D6-2DFB-428B-9655-ED16017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31A-D4DC-4DEC-A739-E0FA9E1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B19-AE8A-4759-8C16-F181799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FA5A-F4FE-4EAC-9844-023B81417E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4D50-8A22-4D2B-9260-AC76AE3A53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F69-3E6E-4B94-B910-282B941548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98B4-4544-4763-A632-FFC8025F50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imskorner4teachertalk.com/writing/sixtrait/conventions/punctuation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mparative Construction I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sem. 1433/1434 - Spring 20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#2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-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6. When to use a col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ween hours and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troduce a list after an independent cla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greeting in business/professional let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ween the title and the subtitle of a b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troduce a long qu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’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7. When to use an apostroph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leaving out the first two numbers of a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how possess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“ 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8. When to use quotation mark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fore and after a direct quo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words, letters, or symbols that are slang or being used in a special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ingle quotation marks for quotation marks within quot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titles of some 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9. When to use ellips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dicate a pa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dicate omitted words in a qu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-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0. When to use a hyphe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mpound numbers from twenty-one to ninety-n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ween the numbers in a fra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some compound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mpound ad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join a capital letter to a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the line, when dividing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( )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1. When to use parenthes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a word/phrase that adds 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parentheses within parentheses - use brackets instead of the inner 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, or before and after numbers or letters in text to list i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[  ]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2. When to use bracket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words you add to a quo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words within parenthesized materi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rebuchet MS"/>
              </a:rPr>
              <a:t>Underlining/Italic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3. When to use underlining or italics (preferred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eign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ds/numbers/letters used in a special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Georgia"/>
                <a:cs typeface="Arial"/>
              </a:rPr>
              <a:t>علامات الترقيم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((  ))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ات التنصيص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الاقتبا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اوين الكتب والمقالات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مناقشة كلمة أو لف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6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096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unctuation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( )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أقواس للحصر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تحديد معنى عام سابق لها (أي توفير معلومات إضافية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شرح معنى غامض سابق له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تمثيل لجملة سابقة له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إشارة إلى مرجع في وسط الكلا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فت الانتباه لعبارة محدد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ة الحذف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دلالة على إسقاظ لفظ أو أكثر من الاقتبا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-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شرط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حصر الجملة الاعتراضي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دلالة على الشر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دلالة على الإضاف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التعداد بالنقاط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cs typeface="Tahoma"/>
              </a:rPr>
              <a:t>،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فاصل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المعطوفات من مفردات أو عبارات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الجمل المعطوفة على بعضه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الجمل الصغيرة/القصير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عد المناد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عد حرف الجواب في أول الجمل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Georgia"/>
                <a:cs typeface="Arial"/>
              </a:rPr>
              <a:t>لا</a:t>
            </a: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 توضع بين أركان الجمل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cs typeface="Tahoma"/>
              </a:rPr>
              <a:t>؛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فاصلة المنقوط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جملتين لهما علاقة في المعن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جملتين تربطهما فاء السببي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.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نقط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انتهاء الجمل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نقطتان الرأسيتان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تنبية لتفسير أو تجزيء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نقل الكلام حرفيا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cs typeface="Tahoma"/>
              </a:rPr>
              <a:t>؟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ة الاستفهام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في نهاية السؤا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!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ة التعجب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عد أي صيغة تعجب أو انفعا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kimskorner4teachertalk.com/writing/sixtrait/conventions/punctuation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hazala, H. (2003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ranslation as problems and solutions: A coursebook for university students and trainee translators (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ed.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Beirut: Dar wa Maktabat Al-Hil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. When to use a perio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sent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n initi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n abbrevi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a decimal po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each number in a l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!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2. When to use an exclamation mark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sentence, phrase, or word that indicates strong em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3. When to use a question mark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qu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declarative statement that is meant to be a qu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,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4. When to use a comma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each item in a series of at least three i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street address and city in an ad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day and the year in a d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every 3 digits in large numbers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xception: yea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t off interruptions in a sent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parate 2 or more adjectives modifying the same no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introductory clau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fore the conjunction in a compound sentence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xception: if the clauses are too short, no need to use a com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quotes, to the left of the quotation ma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interjections like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we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 noun in direct ad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greeting in personal let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closing in let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 pause is necessary to avoid conf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t off abbreviations like etc., e.g., and i.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;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5. When to use a semicol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join two independent clauses (no comma and conjunction are necessar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parate items in a series when they contain punctuation, such as comm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2-15T11:29:21Z</dcterms:modified>
  <cp:revision>23</cp:revision>
  <dc:subject/>
  <dc:title>Comparative Construction II</dc:title>
</cp:coreProperties>
</file>