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59B42-028E-4341-91E2-E8196CA0F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A0E22-A75C-409B-8049-C04D08463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6C53E-0C15-4307-B68F-C5A3605DE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7D4F7-6667-4CD1-9BB2-FC02F4B30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3946A-105E-4934-B0A2-539FFD742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2707B-C3C1-4797-A925-7E97389D9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725D3-D164-4F57-8DF1-16FE8F518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48832-CCC4-41F7-8E38-E1A984558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3941F-12B2-453A-9D0B-007B94522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76486-981E-4AB2-92BB-2DA32136A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6DB94-7778-427E-A9C7-2A727654A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F8015-6FD9-4E9A-BF8A-6EA4C00DB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FB062-F707-455F-9766-4B1B97BD2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88902-31AD-4680-8DAF-B4C0CC8A2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81AEE-2729-45C6-AF7D-32FBD69FA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DDAB8-C107-43F6-9F6A-9B4680E97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C1E83-2C38-4BCE-B070-41E071048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A35961F-8D25-4BA3-9C93-93485EA94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7EEB8EE-9E4B-41D6-B471-6B3A55614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4DBDD1-4775-419A-860F-144CEFC92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F35EDE8-7E3A-407A-9880-1855005A4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D91E50F-DEF1-4F5F-ACE9-2C7BA0008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56386-1C29-4060-8268-9419C27D9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C2DA289-0EAE-44A9-B6FF-0E6F93A56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E117EA3-25C0-4FA9-8CE8-2CB716717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B04B4C7-1029-4C28-AD71-6E59C36FA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21D954F-633E-435F-AD77-A72928D27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C41BF38-B594-4192-9137-CAF60C2FF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5987960-BE5A-4697-8E3B-EA05CE757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2D81BFA-45CC-4203-85C2-9144F9518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EAB9DD-B540-4A6A-B367-850B008DC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4B8843-FB9C-4689-8B39-E09264C4E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75DDCF-3F33-48D8-ABAF-A44FD3BE9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B90E9-4233-4006-BC46-0D5B6C10D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6F5C2D-63B0-43FD-B0C2-36C653CA9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B0372F-DC83-46B7-A311-CD0631EBF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905951-A9F4-4A97-9235-356F76DC9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ADFC01-7AF1-4301-B930-CBF1C66A6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FF3670-7211-488D-885E-5DE6C31D2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1CC3E3-B930-4D05-9E8C-DC2EB419C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1B0C61-73A6-42BA-862F-C4EC787FC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8D0FEA-9AD9-406B-B816-C3EFC7710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A519A8-634B-401E-BB85-F1F10882A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7A706-3C24-40D7-816C-8890F2626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795E7-0AD2-49A6-A060-FA052E57C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E69C2-E7E2-4473-AC3A-E87CEE785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0B8C4-3BFA-43A0-90C2-5113BAA1E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DAFA4-D95C-43FB-B124-080F40C21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 algn="r" rtl="1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 algn="r" rtl="1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 algn="r" rtl="1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 algn="r" rtl="1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 algn="r" rtl="1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 algn="r" rtl="1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256EA-3EF0-46D6-95A8-4EEA8E0E0132}" type="slidenum"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Rectangle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Rectangle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Rectangle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Rectangle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" name="Rounded Rectangle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Rounded Rectangle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Rectangle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" name="Rectangle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" name="Rectangle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Rectangle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 algn="r" rtl="1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 algn="r" rtl="1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 algn="r" rtl="1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 algn="r" rtl="1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 algn="r" rtl="1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 algn="r" rtl="1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A124B-3A30-4DCC-8DD0-B2ACFEE6545D}" type="slidenum"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2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6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7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 algn="r" rtl="1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 algn="r" rtl="1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 algn="r" rtl="1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 algn="r" rtl="1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 algn="r" rtl="1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 algn="r" rtl="1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C3B96-5D3B-4176-B87D-D68F3F8A12B7}" type="slidenum"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0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1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 algn="r" rtl="1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 algn="r" rtl="1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 algn="r" rtl="1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 algn="r" rtl="1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 algn="r" rtl="1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 algn="r" rtl="1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780AB-82AD-49FD-9F18-266C4C344026}" type="slidenum"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owl.english.purdue.edu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4015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Comparative Construction II</a:t>
            </a: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457200" y="3900600"/>
            <a:ext cx="4952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 rtl="1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4456"/>
                </a:solidFill>
                <a:latin typeface="Georgia"/>
              </a:rPr>
              <a:t>2</a:t>
            </a:r>
            <a:r>
              <a:rPr b="0" lang="en-US" sz="2400" spc="-1" strike="noStrike" baseline="30000">
                <a:solidFill>
                  <a:srgbClr val="424456"/>
                </a:solidFill>
                <a:latin typeface="Georgia"/>
              </a:rPr>
              <a:t>nd</a:t>
            </a:r>
            <a:r>
              <a:rPr b="0" lang="en-US" sz="2400" spc="-1" strike="noStrike">
                <a:solidFill>
                  <a:srgbClr val="424456"/>
                </a:solidFill>
                <a:latin typeface="Georgia"/>
              </a:rPr>
              <a:t> sem. 1433/1434 - Spring 2013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4456"/>
                </a:solidFill>
                <a:latin typeface="Georgia"/>
              </a:rPr>
              <a:t>#2 - Punctuation: Practice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Add commas where necessary.</a:t>
            </a:r>
            <a:br>
              <a:rPr sz="3600"/>
            </a:b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3880" indent="-51444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Oil, which is lighter than water, rises to the surface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23880" indent="-51444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Madame de Stael was an attractive, gracious lady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23880" indent="-51444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Georgia"/>
              </a:rPr>
              <a:t>Nice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is a word with many meanings, and some of them are contradictory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23880" indent="-51444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e closet contained worn clothes, old shoes, and dirty hats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3880" indent="-514440">
              <a:spcBef>
                <a:spcPts val="300"/>
              </a:spcBef>
              <a:buClr>
                <a:srgbClr val="a04da3"/>
              </a:buClr>
              <a:buFont typeface="Georgi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fter surviving this ordeal, the trapper felt relieved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23880" indent="-514440">
              <a:spcBef>
                <a:spcPts val="300"/>
              </a:spcBef>
              <a:buClr>
                <a:srgbClr val="a04da3"/>
              </a:buClr>
              <a:buFont typeface="Georgi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Mark Twain's early novels, I believe, stand the test of time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23880" indent="-514440">
              <a:spcBef>
                <a:spcPts val="300"/>
              </a:spcBef>
              <a:buClr>
                <a:srgbClr val="a04da3"/>
              </a:buClr>
              <a:buFont typeface="Georgi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December 7, 1941, will never be forgotten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23880" indent="-514440">
              <a:spcBef>
                <a:spcPts val="300"/>
              </a:spcBef>
              <a:buClr>
                <a:srgbClr val="a04da3"/>
              </a:buClr>
              <a:buFont typeface="Georgi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e field was safe enough, wasn't it?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23880" indent="-514440">
              <a:spcBef>
                <a:spcPts val="300"/>
              </a:spcBef>
              <a:buClr>
                <a:srgbClr val="a04da3"/>
              </a:buClr>
              <a:buFont typeface="Georgi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Write the editor of the </a:t>
            </a:r>
            <a:r>
              <a:rPr b="0" i="1" lang="en-US" sz="2800" spc="-1" strike="noStrike">
                <a:solidFill>
                  <a:srgbClr val="000000"/>
                </a:solidFill>
                <a:latin typeface="Georgia"/>
              </a:rPr>
              <a:t>Atlantic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, 8 Arlington Street, Boston, Massachusetts 02116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23880" indent="-51444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23880" indent="-5144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3880" indent="-514440">
              <a:spcBef>
                <a:spcPts val="300"/>
              </a:spcBef>
              <a:buClr>
                <a:srgbClr val="a04da3"/>
              </a:buClr>
              <a:buFont typeface="Georgia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He replied, "I have no idea what you mean."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23880" indent="-514440">
              <a:spcBef>
                <a:spcPts val="300"/>
              </a:spcBef>
              <a:buClr>
                <a:srgbClr val="a04da3"/>
              </a:buClr>
              <a:buFont typeface="Georgia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fter a good washing and grooming, the pup looked like a new dog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23880" indent="-514440">
              <a:spcBef>
                <a:spcPts val="300"/>
              </a:spcBef>
              <a:buClr>
                <a:srgbClr val="a04da3"/>
              </a:buClr>
              <a:buFont typeface="Georgia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Because of their opposition to institutions that force creatures to live in captivity, some people refuse to go to the zoo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23880" indent="-514440">
              <a:spcBef>
                <a:spcPts val="300"/>
              </a:spcBef>
              <a:buClr>
                <a:srgbClr val="a04da3"/>
              </a:buClr>
              <a:buFont typeface="Georgia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Vests, which were once popular, have been out of vogue for several years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23880" indent="-514440" algn="r" rtl="1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Rewrite each group of words so that it contains the punctuation listed.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2440" indent="-51444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James said that he d missed the train got lost and been arrested </a:t>
            </a:r>
            <a:r>
              <a:rPr b="0" i="1" lang="en-US" sz="2000" spc="-1" strike="noStrike">
                <a:solidFill>
                  <a:srgbClr val="000000"/>
                </a:solidFill>
                <a:latin typeface="Georgia"/>
              </a:rPr>
              <a:t>(one period, 3/4 commas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622440" indent="-51444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When the bell rang our teacher stood up and said Stop writing </a:t>
            </a:r>
            <a:r>
              <a:rPr b="0" i="1" lang="en-US" sz="2000" spc="-1" strike="noStrike">
                <a:solidFill>
                  <a:srgbClr val="000000"/>
                </a:solidFill>
                <a:latin typeface="Georgia"/>
              </a:rPr>
              <a:t>(one period, 2 commas, quotation marks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622440" indent="-51444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rst of all this can be dangerous </a:t>
            </a:r>
            <a:r>
              <a:rPr b="0" i="1" lang="en-US" sz="2000" spc="-1" strike="noStrike">
                <a:solidFill>
                  <a:srgbClr val="000000"/>
                </a:solidFill>
                <a:latin typeface="Georgia"/>
              </a:rPr>
              <a:t>(one comma, 1 period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622440" indent="-51444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nn on the other hand did not agree </a:t>
            </a:r>
            <a:r>
              <a:rPr b="0" i="1" lang="en-US" sz="2000" spc="-1" strike="noStrike">
                <a:solidFill>
                  <a:srgbClr val="000000"/>
                </a:solidFill>
                <a:latin typeface="Georgia"/>
              </a:rPr>
              <a:t>(2 commas, 1 period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603720" indent="-498960">
              <a:spcBef>
                <a:spcPts val="300"/>
              </a:spcBef>
              <a:buClr>
                <a:srgbClr val="a04da3"/>
              </a:buClr>
              <a:buFont typeface="Georgi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ara asked What time does the teacher usually get here </a:t>
            </a:r>
            <a:r>
              <a:rPr b="0" i="1" lang="en-US" sz="2000" spc="-1" strike="noStrike">
                <a:solidFill>
                  <a:srgbClr val="000000"/>
                </a:solidFill>
                <a:latin typeface="Georgia"/>
              </a:rPr>
              <a:t>(1 comma, quotation marks, 1 question mark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603720" indent="-498960">
              <a:spcBef>
                <a:spcPts val="300"/>
              </a:spcBef>
              <a:buClr>
                <a:srgbClr val="a04da3"/>
              </a:buClr>
              <a:buFont typeface="Georgi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e company produces 3 456 234 cars every year </a:t>
            </a:r>
            <a:r>
              <a:rPr b="0" i="1" lang="en-US" sz="2000" spc="-1" strike="noStrike">
                <a:solidFill>
                  <a:srgbClr val="000000"/>
                </a:solidFill>
                <a:latin typeface="Georgia"/>
              </a:rPr>
              <a:t>(2 commas, 1 period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603720" indent="-498960">
              <a:spcBef>
                <a:spcPts val="300"/>
              </a:spcBef>
              <a:buClr>
                <a:srgbClr val="a04da3"/>
              </a:buClr>
              <a:buFont typeface="Georgi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fter the students finally stopped talking the teacher decided to give them a quiz </a:t>
            </a:r>
            <a:r>
              <a:rPr b="0" i="1" lang="en-US" sz="2000" spc="-1" strike="noStrike">
                <a:solidFill>
                  <a:srgbClr val="000000"/>
                </a:solidFill>
                <a:latin typeface="Georgia"/>
              </a:rPr>
              <a:t>(1 comma, 1 period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603720" indent="-498960">
              <a:spcBef>
                <a:spcPts val="300"/>
              </a:spcBef>
              <a:buClr>
                <a:srgbClr val="a04da3"/>
              </a:buClr>
              <a:buFont typeface="Georgi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We visited Los Angles California Paris France and Cairo Egypt </a:t>
            </a:r>
            <a:r>
              <a:rPr b="0" i="1" lang="en-US" sz="2000" spc="-1" strike="noStrike">
                <a:solidFill>
                  <a:srgbClr val="000000"/>
                </a:solidFill>
                <a:latin typeface="Georgia"/>
              </a:rPr>
              <a:t>(3 commas, 2 semi-colons, 1 period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2440" indent="-514440">
              <a:spcBef>
                <a:spcPts val="300"/>
              </a:spcBef>
              <a:buClr>
                <a:srgbClr val="a04da3"/>
              </a:buClr>
              <a:buFont typeface="Georgia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ey usually don t do homework on Wednesday </a:t>
            </a:r>
            <a:r>
              <a:rPr b="0" i="1" lang="en-US" sz="2000" spc="-1" strike="noStrike">
                <a:solidFill>
                  <a:srgbClr val="000000"/>
                </a:solidFill>
                <a:latin typeface="Georgia"/>
              </a:rPr>
              <a:t>(1 apostrophe, 1 period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622440" indent="-514440">
              <a:spcBef>
                <a:spcPts val="300"/>
              </a:spcBef>
              <a:buClr>
                <a:srgbClr val="a04da3"/>
              </a:buClr>
              <a:buFont typeface="Georgia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e students grades on this exam were low </a:t>
            </a:r>
            <a:r>
              <a:rPr b="0" i="1" lang="en-US" sz="2000" spc="-1" strike="noStrike">
                <a:solidFill>
                  <a:srgbClr val="000000"/>
                </a:solidFill>
                <a:latin typeface="Georgia"/>
              </a:rPr>
              <a:t>(1 apostrophe, 1 period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622440" indent="-514440">
              <a:spcBef>
                <a:spcPts val="300"/>
              </a:spcBef>
              <a:buClr>
                <a:srgbClr val="a04da3"/>
              </a:buClr>
              <a:buFont typeface="Georgia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e graduation ceremony for the class of 99 was postponed because of the storm </a:t>
            </a:r>
            <a:r>
              <a:rPr b="0" i="1" lang="en-US" sz="2000" spc="-1" strike="noStrike">
                <a:solidFill>
                  <a:srgbClr val="000000"/>
                </a:solidFill>
                <a:latin typeface="Georgia"/>
              </a:rPr>
              <a:t>(1 apostrophe, 1 period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622440" indent="-514440">
              <a:spcBef>
                <a:spcPts val="300"/>
              </a:spcBef>
              <a:buClr>
                <a:srgbClr val="a04da3"/>
              </a:buClr>
              <a:buFont typeface="Georgia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e X ray showed that Saras arm was broken </a:t>
            </a:r>
            <a:r>
              <a:rPr b="0" i="1" lang="en-US" sz="2000" spc="-1" strike="noStrike">
                <a:solidFill>
                  <a:srgbClr val="000000"/>
                </a:solidFill>
                <a:latin typeface="Georgia"/>
              </a:rPr>
              <a:t>(1 hyphen, 1 apostrophe, 1 period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622440" indent="-514440">
              <a:spcBef>
                <a:spcPts val="300"/>
              </a:spcBef>
              <a:buClr>
                <a:srgbClr val="a04da3"/>
              </a:buClr>
              <a:buFont typeface="Georgia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2440" indent="-514440">
              <a:spcBef>
                <a:spcPts val="300"/>
              </a:spcBef>
              <a:buClr>
                <a:srgbClr val="a04da3"/>
              </a:buClr>
              <a:buFont typeface="Georgia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nce class finishes at 10 30 we will be able to catch the 10 50 bus </a:t>
            </a:r>
            <a:r>
              <a:rPr b="0" i="1" lang="en-US" sz="1600" spc="-1" strike="noStrike">
                <a:solidFill>
                  <a:srgbClr val="000000"/>
                </a:solidFill>
                <a:latin typeface="Georgia"/>
              </a:rPr>
              <a:t>(1 comma, 2 colons, 1 period)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622440" indent="-514440">
              <a:spcBef>
                <a:spcPts val="300"/>
              </a:spcBef>
              <a:buClr>
                <a:srgbClr val="a04da3"/>
              </a:buClr>
              <a:buFont typeface="Georgia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65200" indent="-4572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7afbd"/>
                </a:solidFill>
                <a:uFillTx/>
                <a:latin typeface="Georgia"/>
                <a:hlinkClick r:id="rId1"/>
              </a:rPr>
              <a:t>http://owl.english.purdue.edu/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565200" indent="-4572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Vince, M. &amp; Emmerson, P. (2003). </a:t>
            </a:r>
            <a:r>
              <a:rPr b="0" i="1" lang="en-US" sz="2800" spc="-1" strike="noStrike">
                <a:solidFill>
                  <a:srgbClr val="000000"/>
                </a:solidFill>
                <a:latin typeface="Georgia"/>
              </a:rPr>
              <a:t>Intermediate language practice: English grammar and vocabulary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. Oxford, UK: Macmilla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7T12:05:41Z</dcterms:created>
  <dc:creator>Fawaz</dc:creator>
  <dc:description/>
  <dc:language>en-US</dc:language>
  <cp:lastModifiedBy>Fawaz</cp:lastModifiedBy>
  <dcterms:modified xsi:type="dcterms:W3CDTF">2013-02-08T19:42:14Z</dcterms:modified>
  <cp:revision>8</cp:revision>
  <dc:subject/>
  <dc:title>Comparative Construction II</dc:title>
</cp:coreProperties>
</file>