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944-E4BA-4344-8E8C-78E7D32C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F8D-BF87-4E3E-B50C-84AAF89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464-759D-4CEE-B5FD-D6488742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C85-A1AD-4311-B152-BA5B2825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468A-802A-4EE1-8886-77F19D6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4006-D19B-4DD3-93A7-7A7BA983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66C-9678-421B-A1B4-246E97F1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9A33-E6D3-4CD0-A42D-504FC5CF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255C-0AD1-4D89-8916-60C02C3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E55-2F04-4515-AC77-FE5A576D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8410-CE5F-41F2-9F15-E012F01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973-46F2-44AD-870B-D51F1A9C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D97-40E5-4BE3-B6F9-6589FF2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79DC-ACC5-4AA0-B672-517F2C8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966-6492-4FFD-8857-D705F03B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EA23-5E7F-4A7A-8911-29A90BDF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FD9D-223B-4869-A36F-7B1A581C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E2AB6-311C-410C-9E7E-CA0A53E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2778C-34C4-4006-8AD9-12360AB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AB544-B007-4B89-A46C-900E8CA2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FBDC1-2C4E-4EB3-BB8D-BDFD429F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1D2DC-FCC0-4092-ADA5-5B0BB871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AD4-8342-43A2-BBD4-CC8E0588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3BDCC-0BFF-42A7-8A27-4F6CF29D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50B46-0A27-41D1-88C5-281E063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D6BC6-734C-4977-AF76-7B3CC331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4DEB4-1C21-45DA-8DA9-38D8BCF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931A7-C6E9-410B-B392-F07A38BC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F1B92-457B-416F-AC83-47C5A19B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689D7-85FA-46B5-965D-72B5232D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CD22-2ECA-4624-A7CB-66F00DB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E3A4-6B0E-4F5F-AC1D-8E033F82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64A4-984A-496F-BDF8-30B34808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2C0-C355-4407-97FB-5C7D8FAC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02D5-95C1-49E6-87C8-76935817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302C-CDFA-4530-9E06-DC2DB0F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F5AE-3D0D-4958-B5B1-FBEFD7D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F721-2A1F-4347-9B8F-DEA725B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7655-6305-409A-ADA1-D1AE70A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8A68-29CE-446F-9F71-16BBFB2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C341-95AF-439F-8308-C591E8EE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19A2-044B-4BF5-BAAC-B38B9031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8FE2-0BAD-46E8-BF17-1E3E6BB3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A93-3631-48C1-804D-9C22A227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952-DF03-41C9-AB19-7C8E1CEA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F8E-B658-4F6F-9FDC-C71465E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B15-C93A-40FD-B4E5-185A3329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CE1-3BC8-4E5B-B3EC-B252A07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42E-D4EC-4EBF-8F35-636FF8F693A3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21C-0D13-42D7-8A0E-3DE12B2BB576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57A-76FF-402E-9998-0D56490495A3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1A71-2870-4567-B7EF-744614D28DF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mparative Construction 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sem. 1433/1434 - Spring 20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#2 - Punctuation: Pract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dd commas where necessary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il, which is lighter than water, rises to the surf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dame de Stael was an attractive, gracious lad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Ni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word with many meanings, and some of them are contradictor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loset contained worn clothes, old shoes, and dirty ha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surviving this ordeal, the trapper felt reliev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rk Twain's early novels, I believe, stand the test of 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ember 7, 1941, will never be forgotte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eld was safe enough, wasn't i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e the editor of the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Atlanti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8 Arlington Street, Boston, Massachusetts 021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 replied, "I have no idea what you mean."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a good washing and grooming, the pup looked like a new do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ause of their opposition to institutions that force creatures to live in captivity, some people refuse to go to the zo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sts, which were once popular, have been out of vogue for several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write each group of words so that it contains the punctuation listed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ames said that he d missed the train got lost and been arrested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3/4 comma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he bell rang our teacher stood up and said Stop writing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period, 2 commas, quotation mark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of all this can be dangerou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one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n on the other hand did not agre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ra asked What time does the teacher usually get her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quotation marks, 1 question mark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pany produces 3 456 234 cars every year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2 comma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fter the students finally stopped talking the teacher decided to give them a quiz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comma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720" indent="-4989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visited Los Angles California Paris France and Cairo Egypt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3 commas, 2 semi-colons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usually don t do homework on Wednesday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 grades on this exam were low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graduation ceremony for the class of 99 was postponed because of the storm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X ray showed that Saras arm was broken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1 hyphen, 1 apostrophe, 1 period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ce class finishes at 10 30 we will be able to catch the 10 50 bus 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(1 comma, 2 colons, 1 period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owl.english.purdue.edu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65200" indent="-457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nce, M. &amp; Emmerson, P. (2003).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Intermediate language practice: English grammar and vocabular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Oxford, UK: Macmil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2:05:41Z</dcterms:created>
  <dc:creator>Fawaz</dc:creator>
  <dc:description/>
  <dc:language>en-US</dc:language>
  <cp:lastModifiedBy>Fawaz</cp:lastModifiedBy>
  <dcterms:modified xsi:type="dcterms:W3CDTF">2013-02-08T19:42:14Z</dcterms:modified>
  <cp:revision>8</cp:revision>
  <dc:subject/>
  <dc:title>Comparative Construction II</dc:title>
</cp:coreProperties>
</file>