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6CE1-192D-4520-9DBF-1D805FEA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51AF-4D1E-4ECA-88C4-B2BADC38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2E7227-D0A3-4150-B3F7-0A317909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6BE2B4-0B4B-4A09-9632-A5BFF626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0072C5-7C80-4CAB-815C-EA05DAF9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D01178-F88F-4A09-91BA-F19DC3F1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65E04B-E8A5-4396-8488-9B3D40F6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8DF97E-21FC-44E6-90B0-63DBC1DE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544AAA-452D-4793-9119-1870CDBF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A51EC8-9D41-4E3D-8DE3-CB02F8F7D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BAAC7A-DB85-4963-8C7C-35DD198ED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A36628-B3E5-4A6B-8515-D45BB1170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C9F7-FDCA-4B37-9324-0441DF12E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C277F2-EF78-4FFC-8D0E-A479A707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224A9C-8122-4F89-95A9-40198757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5B678E-F124-4DF9-9521-ECB0E024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4FBE01-993E-490D-825A-32C315ED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A6CB90-FC13-4678-A84B-76F45F80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A75B7F-04FE-44D5-B075-F128EC39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14EB62-DDD1-4332-87A2-815C896C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EB4C94-07B9-4D0E-BA00-B3BAFB0B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4269CC-2A33-497B-8A63-B624401E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5F78B0-1762-4A47-B6C5-531E9A1AB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BAED-E235-4470-88F6-04B44B69B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2DFFB8-8175-40F9-A61E-61BCD9900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53EFA-4146-4D61-9C0F-1DD89FA3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BD496-AFEE-49D6-ADA9-FFB7DD9D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5F43B-BACC-4BB1-84BE-777E3CCB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64B80-7949-45FB-9C05-DFD94D8F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DA4FD-473B-43AD-8B0C-B82CCA8D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07EAD-C06C-4BAE-A478-BFA47D48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AF580-3DD8-475A-B864-5476234D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E7902-7C78-4022-A4FF-6F5E5FC1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AAC3B-74B7-4768-BF74-E67C50D5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9AB4-0357-47BF-8E04-CF2D5906E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D0AE8-B60B-4C9F-A5B6-7D7DB705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AAFD7-EEE0-4D37-BC04-5C7F0C168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BEFB2-54A6-408D-93EB-98547273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AD34D8-5CCB-4C85-ABC8-40BE8B90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5412B4-DA11-447C-BC3B-4B609325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E6AF2B-907E-4D7D-8C69-64F08051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308B8F-34F2-4B17-A512-E742D868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8688A0-9044-49FD-A7E7-D38CE076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382405-9721-4A5F-A2B2-A3DF08D1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DE265D-F1AA-4A14-A77C-8097C915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D732-362B-44BB-8DE2-7308AD79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587E19-02C8-4754-A521-562EB51D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F01060-10EA-4ED6-8538-AD793EA4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EC7262-C57C-4CD1-9CFE-B5773AB4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A09E7A-18FF-4B7C-B973-F3FD10D8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3056DE-798D-458E-A9A7-7F26620C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F01C-6BAD-41CA-A4D4-1F8144B3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56C8-D5AA-41FD-9DA0-06FEDD22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DD8D-E5BF-4688-9EEE-7FC21692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12C0-5C64-4C9A-B834-F5BE8967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27D6-7143-4B85-A2E7-99B37FE3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0E97-2D5E-492D-8E95-5FD1BADA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CDC5-3C12-4DE4-A22C-F033FA6E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414D-D136-427E-87B3-9E54CBFD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ABDC-DE8F-4E2D-B08A-E5CC5D2D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442B-08E7-411D-86EA-67387CC2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F107-3EE4-46F2-902E-3E6E1B2F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53B0D-8EEC-454E-997B-2B30BC82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06738-1BA9-4271-818F-6A4B5DD5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B728B-6534-4379-A606-F072675B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D78FE-96EF-42E7-A048-6B96F239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23177-7CD0-4C8E-B080-A69E400F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3E1B-3AF6-4501-8053-158AD3D2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EC9B8-CE1B-4C15-9322-8862734A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FE864-C91A-4D2B-BCF8-F25E1C36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85914-34DF-484A-B759-94C18A5C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477F4-7378-41BE-9FB8-1A5513DF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CB682-A713-469E-99F2-A9125DB9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921D7-071E-49AA-86AF-D361BEE1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A9B71-19C7-43FC-A1CF-A22A4D00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29567-91A6-4B2C-99F1-F759D1F7A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91CE6-DA22-49B5-BC20-9372E8C7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91239-810C-47D5-999F-91672F20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4EB0-8328-4499-B83C-D5A27441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85ECC-666E-44DD-B41A-3627C05D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F73A3-D91C-40B9-9EA5-21A15736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782B4-8291-4D51-A4BE-B600A59C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EF9E3-8827-4505-B4F8-5DA79A7A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2339E-3000-4D4A-94C1-0D5F0D39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96D3F-F024-406C-824B-05D93060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83D48-ED97-4068-924B-0CAD1384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8E752-CFE5-4D32-B4D6-801DACC32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DFC37-C40B-43D8-BBC7-408905007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25330-DFB6-4B84-A644-5A218DB26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0E31-25D7-4CAF-AFA7-90D808C9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6F4FE-7C63-4652-9CDE-ADC76745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C5A5E-084D-4B04-842E-7FE4A53C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102BC-BE39-4F89-ADC0-B37E277F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F8757-C304-4EAF-ADA3-2885B0E8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711C0-1D93-4F58-90A9-784D1ECC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21278-DD72-467E-9499-71EDA40A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1DEF0-85FF-4B09-BA93-06EB3D04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DA375-7EA9-4B49-9DF7-AF0CA49E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B7C57-1BD5-40B5-B710-26B5A23C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48E18-125D-4B83-9EE1-E2BFD883B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1F11-7221-4B48-850B-2F6AC812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CB7CD-9020-42BA-82CE-075C35EF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5643C-8A97-4EF7-87C0-47E49F629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0EE22-1DF2-44C7-8203-99D96C03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C821D-6016-4B50-B438-C7AF70D1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C5CC1-0CEB-43A5-A24F-FA54FF15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C7A11-0AB5-4388-941A-EA294967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3E11C-EC96-460B-9F32-2D723AD9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0393C-7DC9-4397-A5BD-D4482C1B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CDCC2-EB89-451C-8F93-0A44A800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7B1A0-849A-4748-9C03-30712C62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820C-FEB1-46E3-917C-7650E77B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1AF8E-6392-41A8-BF21-90293F52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30EAC-1ED3-4A86-817D-C963CFE4B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0C721-DEB3-4121-802F-84832EFBE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CE205-70D1-4772-945A-67E970CB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C98BD-4979-4468-B2CA-E807674A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7A091-4850-4C0D-A4B8-0E912976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4C5A7-A46E-4708-ABF8-22F30E42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91775-A808-4FA2-AC94-089FFACD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1A3D5-CB0E-4492-833C-57B30B33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D91C7-A4EA-41F7-9999-EA1F0217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63B5-CFA4-4B8F-A805-3CF01BAD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89F4E-81C4-48D7-B11C-F25650AC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70044-5A39-4907-BE8E-F4F9A2DC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B5B4A-F8A5-4131-85B7-34BDCCDE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7C33F-9876-4873-ADFF-AF184463D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FB211-E64E-4A8F-A219-A2AAC4B5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A8DDC-663E-4DAE-A6AC-9744628E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6A54C-6FCF-4CCA-9EFC-FB478774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BC970-5AAF-42F9-8B14-7DA251EF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9BF89-2AFF-42FE-860D-7A851A94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A13C0-A3B0-4A65-A262-C18BDDEB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6311-B5B9-4E71-BF65-14BC407B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F0C6D-A8B9-4948-A549-48299345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BD198-A02F-4DC6-9DEB-29424C05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2D998-4E19-47C7-9CC6-F5DFEF67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22C76-6306-49E3-8681-60ED6687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549D4-7DD3-4666-AB09-CAE5D516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061C5-C9A1-485B-A852-E3449686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0327E-34FA-49AD-8AFF-E72845B5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E94779-4F41-423C-93E5-ABACBEE0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5F2B0B-6602-4E08-8DD4-BD00E1FE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FF1A5D-E360-418A-A003-DE090824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9DC1-BB9D-4217-9EF8-18EEB535D6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Rectangle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B296-1572-4FE0-9739-A538779A3B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16A1-8ECD-4BF4-A519-80D43DD6A1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traight Connector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Ov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Ov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369F-A01F-4821-A891-3FC3E99DEE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Ov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F704-7B24-4752-B6F6-E2464FF630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38A0-4F94-463B-A608-4305FE9547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Ov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FEB0-C58E-436D-A9C7-38CC553948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6712-9D4E-436A-B1DC-C26EBD9FAB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traight Connector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Ov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7308-C0A7-4B26-9C0F-11B0FBE7A2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D987-E469-4AC0-BD6E-7E0D33B1F3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7DA6-DCCC-45C4-B3F4-40DA9C1362B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traight Connector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D1BB-80EF-4EF9-805C-7C02267B39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grammar.ccc.commnet.edu/grammar/auxiliary.htm" TargetMode="External"/><Relationship Id="rId2" Type="http://schemas.openxmlformats.org/officeDocument/2006/relationships/hyperlink" Target="http://www.perfect-english-grammar.com/modal-verbs.html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b86"/>
                </a:solidFill>
                <a:latin typeface="Georgia"/>
              </a:rPr>
              <a:t>2</a:t>
            </a:r>
            <a:r>
              <a:rPr b="1" lang="en-US" sz="2000" spc="-1" strike="noStrike" baseline="30000">
                <a:solidFill>
                  <a:srgbClr val="646b86"/>
                </a:solidFill>
                <a:latin typeface="Georgia"/>
              </a:rPr>
              <a:t>ND</a:t>
            </a:r>
            <a:r>
              <a:rPr b="1" lang="en-US" sz="2000" spc="-1" strike="noStrike">
                <a:solidFill>
                  <a:srgbClr val="646b86"/>
                </a:solidFill>
                <a:latin typeface="Georgia"/>
              </a:rPr>
              <a:t> SEM. 1433/1434 - SPRING 2013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b86"/>
                </a:solidFill>
                <a:latin typeface="Georgia"/>
              </a:rPr>
              <a:t>#3</a:t>
            </a:r>
            <a:r>
              <a:rPr b="1" lang="en-US" sz="2000" spc="-1" strike="noStrike">
                <a:solidFill>
                  <a:srgbClr val="646b86"/>
                </a:solidFill>
                <a:latin typeface="Georgia"/>
              </a:rPr>
              <a:t> - </a:t>
            </a:r>
            <a:r>
              <a:rPr b="1" lang="en-US" sz="2000" spc="-1" strike="noStrike">
                <a:solidFill>
                  <a:srgbClr val="646b86"/>
                </a:solidFill>
                <a:latin typeface="Georgia"/>
              </a:rPr>
              <a:t>MODAL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d16349"/>
                </a:solidFill>
                <a:latin typeface="Georgia"/>
              </a:rPr>
              <a:t>Comparative Constructions II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23543"/>
                </a:solidFill>
                <a:latin typeface="Georgia"/>
              </a:rPr>
              <a:t>Shoul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dvice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ou should see a docto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ou should stop smoking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23543"/>
                </a:solidFill>
                <a:latin typeface="Georgia"/>
              </a:rPr>
              <a:t>Mus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bligatio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ou must do your homework everyda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y must come to class on tim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ecessity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ou must pay the fees before you are allowed to ente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nclusio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ou look exhausted. You must have been working all nigh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23543"/>
                </a:solidFill>
                <a:latin typeface="Georgia"/>
              </a:rPr>
              <a:t>Ought to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dvice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ou ought to take your medicine on tim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pectatio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ir flight ought to arrive at 6:00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2a373d"/>
                </a:solidFill>
                <a:latin typeface="Georgia"/>
              </a:rPr>
              <a:t>English vs. Arabic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 English, modals are a closed, well defined se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 Arabic, modal meanings are expressed differentl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ome of the words/phrases used in Arabic to express modal meanings ar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Georgia"/>
                <a:cs typeface="Times New Roman"/>
              </a:rPr>
              <a:t>قد - لابد - ينبغي - يلزم - ربما - على - يستطيع - يجب - يمكن - من الواجب - من الضروري - من المفترض/المفروض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1" lang="en-US" sz="3300" spc="-1" strike="noStrike">
                <a:solidFill>
                  <a:srgbClr val="2a373d"/>
                </a:solidFill>
                <a:latin typeface="Georgia"/>
              </a:rPr>
              <a:t>Referenc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http://grammar.ccc.commnet.edu/grammar/auxiliary.ht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a3d6"/>
                </a:solidFill>
                <a:uFillTx/>
                <a:latin typeface="Georgia"/>
                <a:hlinkClick r:id="rId2"/>
              </a:rPr>
              <a:t>http://www.perfect-english-grammar.com/modal-verbs.htm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Khalil, A. (1999).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A contrastive grammar of English and Arabic.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Jordon: Jordon Book Centr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ince, M. &amp; j, P. (2003).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Intermediate language practice: English grammar and vocabulary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Oxford, UK: Macmilla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300" spc="-1" strike="noStrike">
              <a:solidFill>
                <a:srgbClr val="7b9899"/>
              </a:solidFill>
              <a:latin typeface="Georgia"/>
              <a:ea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odals are helping or auxiliary verbs that occur with main verbs to show different shades of meaning or attitud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an - could - may - might - will - would - used to - shall - should - must - ought to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ir form does not change with different subjects (no third person singular -s, -ing, or -ed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300" spc="-1" strike="noStrike">
              <a:solidFill>
                <a:srgbClr val="7b9899"/>
              </a:solidFill>
              <a:latin typeface="Georgia"/>
              <a:ea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y are followed by the infinitive without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t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y use inversion in ques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23543"/>
                </a:solidFill>
                <a:latin typeface="Georgia"/>
              </a:rPr>
              <a:t>Ca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bility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e can speak French, but she can’t write very well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ermission (less formal)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an I speak to you about thi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ossibility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company can produce more cars this yea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23543"/>
                </a:solidFill>
                <a:latin typeface="Georgia"/>
              </a:rPr>
              <a:t>Coul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bility (past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e could always stay up all night when we were younger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ermission (past/future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uld I stop by to pick up the papers tonight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ossibility (present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hildren could always spend their days playing in the backyard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f they paid more attention, they could understand the cours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23543"/>
                </a:solidFill>
                <a:latin typeface="Georgia"/>
              </a:rPr>
              <a:t>May/Migh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ermissio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y I come in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ossibility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e might teach us this course next semeste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e may visit his brother in the US next yea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ara might have advised me not to come to the part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y may have decided to go to the appointmen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23543"/>
                </a:solidFill>
                <a:latin typeface="Georgia"/>
              </a:rPr>
              <a:t>Will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illingness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 will clean the living room, if you help m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tentio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 will go to the conference in Jul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dictio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driver will be here so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23543"/>
                </a:solidFill>
                <a:latin typeface="Georgia"/>
              </a:rPr>
              <a:t>Woul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illingness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ould you please take off your shoes before coming in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ypothetical meaning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y brother would be in 8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grade now if he passed his final exam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23543"/>
                </a:solidFill>
                <a:latin typeface="Georgia"/>
              </a:rPr>
              <a:t>Used to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 action that took place in the past customarily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 used to go the seaside every summer when we were childre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eing accustomed to or familiar with something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 are used to waking up at 6:00 every morning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ot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 didn’t use to be like thi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dn’t you use to go study in the library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Fawaz</dc:creator>
  <dc:description/>
  <dc:language>en-US</dc:language>
  <cp:lastModifiedBy>Fawaz</cp:lastModifiedBy>
  <cp:lastPrinted>2013-02-08T20:59:55Z</cp:lastPrinted>
  <dcterms:modified xsi:type="dcterms:W3CDTF">2013-02-16T15:30:08Z</dcterms:modified>
  <cp:revision>22</cp:revision>
  <dc:subject/>
  <dc:title>Comparative Constructions II</dc:title>
</cp:coreProperties>
</file>