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8BE-18DF-4FC5-BA76-12E5BA44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35F-7DAE-488E-9D62-5048CCC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D25E5-95EA-4EDD-8A30-FB99C45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D0B8B-B3EE-4B1B-80DF-484253B5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933AA-4FCC-4144-AA10-65546DE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DA46B-0761-4B14-A99C-7438560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1C651-F32B-4785-9F31-9AB404A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06149-0802-4FEE-811E-6B4C9D3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7FA2D-B321-4962-8CB8-59348A4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C4FD0-1212-4B44-85CC-A9E376F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B4EB3-8050-4FFA-BF2F-E173DF19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EB79C-46B9-4119-9360-C4AE106A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8E0-91E0-4894-A7E3-D7F93B5E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99A4C-C00C-4160-916E-174B8CF8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13190-843D-4292-9C68-9898B7B3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A819A-2143-4473-AB9C-EFBBAC1F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8F075-CCDF-4989-9800-70266A3A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5DF43-E9AE-460E-AA44-8AEEB4B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C0850-CF18-4B8C-B46F-4F8CB6F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F8610-77B5-40CA-8E5B-90F7799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85B4D-7946-4B63-8FE0-960F1F4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41186-AF0B-4C8E-B98B-A629F770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A9BF9-19CA-4462-A3B6-BE1B8F26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F6F-C765-47C8-B2CA-7717C816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4640A-F654-4587-B89F-61E67FA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30DE3-8762-4DF6-B08F-0ED5423A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0B7E-0E6B-4E13-8DAA-5A48C62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21A87-E268-4D60-BD28-43A26D4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6C087-F7A7-4F7F-9641-5038F003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1F89D-126C-4AF5-915C-C94EF0CA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E00D9-48D9-4FF3-94AB-E63835D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2A7BD-CB23-47D3-B608-33DDD70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F8133-BA4C-4487-8F5E-CD8A054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C4AEE-64B0-4FDC-9E18-0A8250E1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7612-EFDC-4882-840E-D39593DD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DF6FF-AE01-443E-891E-849F8DC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EA054-E522-4765-8E5F-29E08AD2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514CD-44F2-4743-BE86-B2D64B62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23826-BC3F-4868-A8FA-B8BC8A0A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68F82-7BCC-4D40-B4FE-69CFCBBA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ECB84-3E68-41BF-91D4-1A5A0FBF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DA68C-0947-4E40-9786-E0B494C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4F9EE-F37D-42CE-96F9-7181B2C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206C7-169F-43EB-9763-C6F0931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FEA1D-5AA7-404D-B430-896796C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7A2-5B52-4B64-9EE2-6DD5A04D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32D9F-31EE-44CE-AB8B-3474353E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8F646-02A3-44D6-B7F9-83CAB24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12CB7-A0AD-4DB3-8E1E-88692EDB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796D5-8AEF-4A62-9BF1-DC1F7E6F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76624-FA0F-46E6-A8F7-D0378594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4D35-1DD7-42EB-B134-B204C86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353-0A05-4F0D-A51B-61D13B57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17C-7F09-46FF-BD3F-644C5580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838-A216-4308-9F8F-D9CDB6A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65E-8603-4F50-98E3-A0A3F89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4B2-B56C-4726-89E8-ABCC46D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0D45-BF19-4E0F-9FBF-DB52E36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76A-8726-416C-8CDC-F55202B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AC10-89F2-4373-846C-B630E383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1207-300C-4E01-A042-40D59127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6DB-5373-4F7D-AFE9-2BF73778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12F5-C842-4B7D-921A-56B903D9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E5FF-8066-466B-BB3F-20538AC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23B8-ED5C-4CA7-A6B4-5C4007A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9F5A-71FF-49FE-BB33-85ABFF1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7E65-EECF-4E8D-BEF5-75E27511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657-F3D2-4CA3-9CCF-92EF0A7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309B-A318-40F5-82C3-099C07CB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289D-63B4-42AB-909C-EEA8BFF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5B44-87C3-41E3-B456-58043A2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C6C3-615B-4C7F-9AE1-0DD3D49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8EDE-70AC-445C-A462-CA97FB3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0CCD-712F-4947-94A0-8ECF53C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AC68-CB83-4199-AFF7-EF22922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1C96-C7EB-4F99-8BC6-5CD3FD2F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E63E-C12A-46C2-853F-10E6A379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BDFA-6893-4FBF-980C-1FFE264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DF2-4AEC-4346-AB13-059638E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6B88-8481-4F94-84BB-8153E698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6233-2CB7-4D18-A4CD-467D2B3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0569-3A83-4528-B5A6-BD55570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CDBD-82E2-4E30-91FA-C667669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38C1-DF6F-4E11-8EAF-CE00184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7032-EFA8-4E33-9895-DF0FF89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46EF-4598-4B88-9643-D0BCECDB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542E-B957-415D-BE14-48AE19FE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696A-2BE9-41C6-8E0D-AACF3912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062C-954A-48AE-B6BC-3894F11C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536-8382-4DC3-92C7-36AC546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204A-11DA-45A5-ADB9-806DE34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B04E-C112-4A55-9F2B-873E411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A1B1-9240-4438-A277-1C8DAE8A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E1B2-0C36-480A-9D33-D51EF289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7C0E-65BB-4A34-9F65-3917CC21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C43F-A19C-4A00-BBDC-F69D10A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3D01-D091-480E-A770-9399B3AC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91DF3-4E58-4977-B904-12F4857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D60A-E77B-4E9F-9413-A93DC2F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B4F1-7503-49B9-8CAC-C2815E9C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921-3A51-46C4-BBBF-BF1801AE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84A9-5C36-4983-BDA5-DE6FD273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4618A-9307-4A9B-B1A6-74C5A379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B6F0-F366-421A-A48F-FA84AFA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4D81-CEF1-4FB4-98D8-33C832A9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01A6D-BC37-4671-BC35-97BA89A0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31F7-E0F5-45A9-8256-1477AC09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2C95-3751-444C-8BF8-043FC4EE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EA345-B0BE-42AC-BDC4-26DB21F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120D-63D9-495E-BCCC-AB319B7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ECBD-C0E9-43A4-AB8A-7869F39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2F3-BFFD-4404-B909-C1534CB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0F2A-E6C9-462E-A247-DBB83169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58FF-04FD-4F0D-8237-D1595C1B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8FF4-0F9B-45D6-8BEE-6816237D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2E7F-3A05-4BC3-9583-9F86E11B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28536-BC8C-4B8E-A8C5-93ABB4D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1821-1D83-4640-AB9E-90278F0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D7B3-CD0D-48D5-9439-3B598BC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0EAB-008A-4E6D-86CE-60EFD82C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10D6-25C3-41FC-B305-63E4938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56013-3A28-41C3-A0D8-F800FC7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51A-1DB8-42C5-9B4B-910967F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77B2-22EE-46A9-A71E-0EA05F4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B352-436F-4B73-B17D-CE86016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AD2A-6FF3-4BB8-8FE9-FA5B946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824D-5B68-4D18-9616-4F814008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9542-98B0-4043-BD24-EED5E218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F871-5EF4-439D-950D-B787A1B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FAE99-1479-4E19-B4E1-C1EFA374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05A9-1755-44D0-8FD1-BAB00C9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0AEA-19D4-45EA-B164-D0B2F00E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1944-31C8-4E84-8FF9-4D1C49B2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0C4-74F4-4B6D-9B4C-051B187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6FBB-E611-4827-9C51-805BBEF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C77A-9689-4DF5-9D12-FA5040AF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048F-22B6-465D-A733-9BE3397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E4FC8-8C36-4993-8E6F-0368CF0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07048-495F-4CDC-8DAF-1445E5B2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EC1D8-9343-4BE1-9D87-0C1643A5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C102A-6565-48E1-AD2C-50648986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4E6F0-4DE3-4C5A-8CF0-5783C9DD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77D10-23EF-4BA6-9C99-1FB0FE56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6CBEA-6B13-4791-8B4B-EBC14CA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2624-4CAB-4819-B514-D1B63F868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92F5-A9BF-4E5E-8D48-933560912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A9E9-C1F5-43A4-ABCF-B17A55206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54B0-9B22-4150-AF80-BDEBE10D5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04B-33B7-46A5-8AAC-7FADB6D5E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9ED-5DED-4CA9-85DF-5DBF28D46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0AB-F2ED-4A55-88A2-7BFF3BAF9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4F4-AB95-4E77-A596-DFCE94A74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18F3-FCC5-4758-8165-6D870B846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BA6-34DE-4435-A555-4E1F51E1C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7EDE-6C71-4553-AB33-942A4B25AA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83E-7820-4586-98AC-0A21D89E1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rammar.ccc.commnet.edu/grammar/auxiliary.htm" TargetMode="External"/><Relationship Id="rId2" Type="http://schemas.openxmlformats.org/officeDocument/2006/relationships/hyperlink" Target="http://www.perfect-english-grammar.com/modal-verbs.html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2</a:t>
            </a:r>
            <a:r>
              <a:rPr b="1" lang="en-US" sz="2000" spc="-1" strike="noStrike" baseline="30000">
                <a:solidFill>
                  <a:srgbClr val="646b86"/>
                </a:solidFill>
                <a:latin typeface="Georgia"/>
              </a:rPr>
              <a:t>ND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SEM. 1433/1434 - SPRING 201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#3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-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MODA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Comparative Constructions I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should see a doct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should stop smo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Mu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lig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must do your homework everyd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ust come to class on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cess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must pay the fees before you are allowed to en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clus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look exhausted. You must have been working all nigh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Ought 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ought to take your medicine on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ct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ir flight ought to arrive at 6:00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a373d"/>
                </a:solidFill>
                <a:latin typeface="Georgia"/>
              </a:rPr>
              <a:t>English vs. Arab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English, modals are a closed, well defined s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Arabic, modal meanings are expressed differentl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of the words/phrases used in Arabic to express modal meanings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قد - لابد - ينبغي - يلزم - ربما - على - يستطيع - يجب - يمكن - من الواجب - من الضروري - من المفترض/المفروض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2a373d"/>
                </a:solidFill>
                <a:latin typeface="Georgia"/>
              </a:rPr>
              <a:t>Refere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grammar.ccc.commnet.edu/grammar/auxiliary.ht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www.perfect-english-grammar.com/modal-verb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halil, A. (1999).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A contrastive grammar of English and Arabic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rdon: Jordon Book Cent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nce, M. &amp; j, P. (2003).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Intermediate language practice: English grammar and vocabular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Oxford, UK: Macmill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7b9899"/>
              </a:solidFill>
              <a:latin typeface="Georgia"/>
              <a:ea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dals are helping or auxiliary verbs that occur with main verbs to show different shades of meaning or attitu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 - could - may - might - will - would - used to - shall - should - must - ought t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ir form does not change with different subjects (no third person singular -s, -ing, or -e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7b9899"/>
              </a:solidFill>
              <a:latin typeface="Georgia"/>
              <a:ea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re followed by the infinitive without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use inversion in ques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can speak French, but she can’t write very wel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mission (less formal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 I speak to you about thi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si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mpany can produce more cars this yea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C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(pas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could always stay up all night when we were young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mission (past/futur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ld I stop by to pick up the papers tonight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ility (presen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ildren could always spend their days playing in the backya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y paid more attention, they could understand the cour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May/Mig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miss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 I come i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si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might teach us this course next semes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may visit his brother in the US next yea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ra might have advised me not to come to the pa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ay have decided to go to the appoint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Wil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nes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will clean the living room, if you help 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will go to the conference in Jul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dic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driver will be here so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W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nes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uld you please take off your shoes before coming i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ypothetical mea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rother would be in 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grade now if he passed his final exam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Used 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 action that took place in the past customari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used to go the seaside every summer when we were childr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ing accustomed to or familiar with someth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are used to waking up at 6:00 every morn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didn’t use to be like thi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you use to go study in the librar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cp:lastPrinted>2013-02-08T20:59:55Z</cp:lastPrinted>
  <dcterms:modified xsi:type="dcterms:W3CDTF">2013-02-16T15:30:08Z</dcterms:modified>
  <cp:revision>22</cp:revision>
  <dc:subject/>
  <dc:title>Comparative Constructions II</dc:title>
</cp:coreProperties>
</file>