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7B33-4784-46B3-B812-2A3133D3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06CF-420A-4270-8EE1-014B4969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407B-84AB-4439-A260-5F2CB00B9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BD36-1D9D-453C-AC48-10E695777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0C90-E6AC-499D-A61B-A945D1DD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B3EB-EB0B-43A6-A0E6-0627EF80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EA52-B770-4AAF-AA37-735A20D6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91B6-094F-4ACA-9197-B4746E02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01CF-9219-4467-91BA-CA0EE4D9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D304-C236-487D-A116-BF94A145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96C8-64DC-491E-9FC4-98E9A15C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73F4-6AAA-4FF2-B02C-AAD50197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4B1A-5AFC-4626-8617-A762B1A3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4A97-5708-47EB-9CDD-96A56BC7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5902-F7F4-4BE9-9528-0E373CF9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E96B-9268-400B-8391-333262380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FD7F-7402-41A1-9F03-34F32205A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38765-3D94-4E32-9893-8501EBD2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C87AE-6716-45AF-9E6C-39254959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3B2CE-FB47-44A6-93D9-DA8E881A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A74A4-C805-4A97-8D45-18C9A8CF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B7254-6914-492D-A2FC-6EA13E10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1F9F-8B8B-413E-B31D-A8FE4908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3E9CD-B2E2-4265-AB66-55678642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A7D99-4DB1-4906-B4DD-8C2AB2A6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48048-E5D1-4B61-8C81-83B732A2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EBF50-8526-44F0-A851-E0B144F8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8B34A-49E1-40F1-9206-1C47FCC5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CF134-6048-40C2-B2BD-A05EF2EC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72848-9A12-49A0-876E-67D1D4B6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B05D3-F565-4239-AD45-49D36FB9C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CE940-23F7-45F0-9ACE-7BF3FAA6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D8087-8D96-41B0-BB84-5077AB37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B7A4-333D-4F52-9A81-53991091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A586F-2067-4884-92BA-93CC5E30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48CB5-D980-4AE9-8358-14774846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F83C8-7A92-4EE9-BD44-FD07B32E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5E815-CCEA-4ED6-9AF1-5B83E67B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B3FAB-A079-463A-9601-6CEFA697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28772-B337-49F2-84D0-89424497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6BEB2-147F-4A96-9020-2C75FE90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DE02A-06D6-4A95-A380-65570D26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502E2-E887-46A0-8E8C-07AB6FBF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93DE5-CBFE-40A2-8F00-D1F7F302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C9D3-06B6-4749-8D66-CEDE1C61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D51C0-4E4E-4052-A520-DA62FA2F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19B37-884B-446B-A475-128AF654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416D4-48EC-4DE9-8862-C3B75AEF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2FE47-791E-4804-87A4-7249CB41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2D7CB-D596-49A7-B0CD-93A12DD1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134EB-32AB-4F03-98CD-AE4E6940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E773D-043C-487F-A4FD-1638B024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9336B-A62A-4B7B-AA4F-523344DA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65F26-78A1-4494-98DA-FD68BEB0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19498-321B-4FEE-9876-671FC143C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0597-49EB-4EB3-B1EC-C4A206C6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3E2CC-AF62-448A-AA78-F2A247CCF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9FE0-D5F6-497D-AD90-77AD6A03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7979-BE87-4C57-896F-6CE46FF2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4A47-3731-477C-899D-A52FF97E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5875-C55A-4DC9-BE42-B0CA211F8F3B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AAB3-871B-4FBE-89E5-CDCC6A24967D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8005-6E3E-4181-9CAB-875F0777D330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FC90-4F3B-488F-9A40-5343181B33A7}" type="slidenum">
              <a:rPr b="0" lang="ar-SA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6A87-6945-4CF3-B86F-20368C8DE0B9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rammar-monster.com/lessons/adjectives_compound_adjectives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ATIVE CONSTRUCTIONS II</a:t>
            </a:r>
            <a:endParaRPr b="0" lang="en-US" sz="4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 rot="19140000">
            <a:off x="1577520" y="2787120"/>
            <a:ext cx="6510600" cy="33048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UND ADJECTIVES &amp; NOUNS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Preposition + noun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wn stairs / underground / overcoat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Noun + adjective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uthful / spoonful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the following compounds: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oom for stores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ape for measuring up to 300 cm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ssistant manager of the restaurant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ation for express trains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 in cost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eriods of three months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Plugs with three pins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Two steel boxes for tools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Cables for telephones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A country that speaks English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f5f5f"/>
                </a:solidFill>
                <a:uFillTx/>
                <a:latin typeface="Franklin Gothic Book"/>
                <a:hlinkClick r:id="rId1"/>
              </a:rPr>
              <a:t>http://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ww.grammar-monster.com/lessons/adjectives_compound_adjectives.htm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ttp://www.myenglishpages.com/site_php_files/vocabulary-lesson-compound-adjectives.php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ttp://www.englishclub.com/grammar/nouns-compound.htm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ttp://www.english-for-students.com/Compound-Words-with-Preposition-and-Noun.htm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UND ADJECTIV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und adjectives are adjectives that are made up of two or more words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 words in the compound adjective modify (i.e., describe) the same noun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hens are used between the different elements of the compound adjective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combinations that make up compound adjectives: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Adjective + present participle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ood-looking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dverb + past participle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-known / well-mannered / brightly-lit / well-balanced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Noun + past participle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ngue-tied / sun-dried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djective + past participle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-lived / short-sighted / long-haired /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d-fashioned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Noun + adjective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orld-famous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Adjective + noun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ep-sea / last-minute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Noun + noun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-time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Number + noun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-door / forty-mile / three-page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x-pa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cument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works as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-tim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acher at the school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-too-comm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stake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fteen-minu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esentation was boring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rty-minu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alk from here to school.            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UND NOUN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oun that is made up of two or more word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pound noun acts as a single unit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pound noun can be modified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written with a space between them, a hyphen, or as one word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dictionary if in doub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combinations that make up compound nouns are: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un + noun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othbrush / classroom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ective + noun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lackboard / software / greenhouse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 participle + noun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ashing machine / swimming pool / ironing board / training wheel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Verb + noun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reakfast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Noun + verb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nrise / haircut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Noun + present participle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rd watching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Verb + preposition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eck-out / turnabout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Noun + prepositional phrase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ther-in-law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11:05:57Z</dcterms:created>
  <dc:creator>Fawaz</dc:creator>
  <dc:description/>
  <dc:language>en-US</dc:language>
  <cp:lastModifiedBy>Fawaz</cp:lastModifiedBy>
  <dcterms:modified xsi:type="dcterms:W3CDTF">2013-02-22T21:14:26Z</dcterms:modified>
  <cp:revision>15</cp:revision>
  <dc:subject/>
  <dc:title>Comparative constructions II</dc:title>
</cp:coreProperties>
</file>