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F672-5A9C-4E17-8809-3AF71C89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53E9-8530-49E0-A05C-D91ECE16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EEAB-1F60-486F-A9A1-54034713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5F75-B4D0-49A9-8479-E4604110D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D485-C048-4BEB-AA70-71BB6212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5B52-10DC-4E5D-A854-FE0ED6DA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6C1C-C542-4C87-B6C1-879C9D89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DD1B-D3F4-43C7-9FEC-D6366852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6F17-5B2A-4545-BFD8-7D0C9FAB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E93F-FB2E-409E-85F6-689A30F5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713A-5532-45CC-BB9F-DBD65F12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0F98-5C0E-4FE7-834C-8CB15F57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131F-48F7-4574-B69C-E3F7C0FF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3991-A1C1-42D5-BDAD-852DB552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7D6F-650F-4F70-9949-06986471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82AF-2002-4CB0-8D42-26B78754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BA8D-20F5-41FD-B0DB-D97BF33D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6FF26-3940-4479-B0BC-C29598FB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947F9-7355-4FE8-BFD5-55B62737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E4E86-1963-4255-94D2-925D6565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41835-72B5-4A49-AC81-29F13624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5E5BF-CD2E-4A42-8C49-1356A865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0053-1D86-4C45-8EBA-F7F4A8EB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32213-83FD-48AA-9A02-B14CFFE5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469D3-173C-443A-B1AA-F3E554E9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E4B3E-EF4D-4706-96F3-841CCA87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B6B18-625E-48A3-B2B6-D68D8B34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88B66-4FEC-4FAF-810A-C6C85618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4F6DA-A0A9-41E5-B6F8-EF72C1BD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B8CCF-27A8-4624-B08F-21515D15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35EDA-E86F-4E36-9855-2F169FCB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E437A-0556-40B0-9FF7-96C2074E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BB724-DCCA-484E-B919-BA60CF82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BDDC-0E1E-4A7C-B684-BEDDBE0B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BE7A0-DB19-4369-8B3B-538C4B13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8A7A6-D467-4F83-ADBB-1BA443B6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6F7BB-E0CD-4CDC-9FE2-90BA8318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5A53F-6BBE-4813-883B-B9130D23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33461-5A3E-4C6F-808C-24223640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19358-11DF-49C9-942B-3A4A18F9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6F6E9-E2FF-4B8E-B475-F98A6BF7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82E03-61DF-49D9-8CB3-B94E59CE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9DDD5-824A-4C0C-A977-B0699DB1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2DCDB-1DD5-48D2-89AD-9F677D99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2D88-34DF-47A0-9816-0CF4C5CA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C7CD5-F8BC-4748-89C4-5395A7B5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D661C-23B5-49BF-ADED-60B1ADAD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B77C3-F72D-4997-A06B-184080E1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D8DE7-3403-4C25-8CCF-2AFC0723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8ED45-E48F-4163-82B9-20721F00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8DA0B-C345-4BF3-B048-6F33C83D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AFB24-FB50-4355-B651-729C0D42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EB4A7-1A9A-49DA-8C11-8DA8D5FC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6E7B5-C5EA-4182-928F-6233125B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2E75A-8740-4876-B690-00B976E2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3721-11D6-4E5B-A3A9-89F43BEE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917CE-F9DD-4B2F-B4E6-68F4E9E6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20CC-2CDB-4DCA-B6E3-594F5348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0803-BA7B-4491-B7DC-6A3BC265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C7BB-C019-4349-BC7A-F70F758D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AB74-C82A-48C3-A0B6-EC70D5CEFD41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824D-CF34-413A-8D58-72CD9A6187ED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1367-4B27-4661-A7D9-A08F48F60F24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3342-518E-4552-AD49-4CC374604E26}" type="slidenum">
              <a:rPr b="0" lang="ar-SA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DA07-D8D9-4342-991B-6B661C0E4E52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rammar-monster.com/lessons/adjectives_compound_adjectives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ATIVE CONSTRUCTIONS II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1577520" y="2787120"/>
            <a:ext cx="6510600" cy="33048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UND ADJECTIVES &amp; NOUNS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Preposition + nou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wn stairs / underground / overcoa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Noun + adjective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uthful / spoonful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the following compounds: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oom for stores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ape for measuring up to 300 cm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ssistant manager of the restaurant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ation for express trains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in cost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eriods of three months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Plugs with three pins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Two steel boxes for tools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Cables for telephones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A country that speaks English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http://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ww.grammar-monster.com/lessons/adjectives_compound_adjectives.htm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ttp://www.myenglishpages.com/site_php_files/vocabulary-lesson-compound-adjectives.php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ttp://www.englishclub.com/grammar/nouns-compound.htm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ttp://www.english-for-students.com/Compound-Words-with-Preposition-and-Noun.htm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UND ADJECTIV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und adjectives are adjectives that are made up of two or more words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words in the compound adjective modify (i.e., describe) the same noun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hens are used between the different elements of the compound adjectiv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combinations that make up compound adjectives: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djective + present participle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ood-looking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dverb + past participle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-known / well-mannered / brightly-lit / well-balanced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Noun + past participle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ngue-tied / sun-dried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djective + past participle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-lived / short-sighted / long-haired /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d-fashioned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Noun + adjective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orld-famous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djective + nou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ep-sea / last-minut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Noun + nou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-tim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Number + nou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-door / forty-mile / three-pag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x-pa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cument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works a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-ti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acher at the school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-too-comm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stake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fteen-minu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sentation was boring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rty-minu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alk from here to school.            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UND NOUN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oun that is made up of two or more word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ound noun acts as a single uni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ound noun can be modified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written with a space between them, a hyphen, or as one word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dictionary if in doub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combinations that make up compound nouns are: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un + nou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othbrush / classroom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ective + nou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lackboard / software / greenhouse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participle + nou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ashing machine / swimming pool / ironing board / training wheel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Verb + nou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eakfas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Noun + verb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nrise / haircu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Noun + present participle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rd watching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Verb + prepositio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eck-out / turnabou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Noun + prepositional phrase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ther-in-law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11:05:57Z</dcterms:created>
  <dc:creator>Fawaz</dc:creator>
  <dc:description/>
  <dc:language>en-US</dc:language>
  <cp:lastModifiedBy>Fawaz</cp:lastModifiedBy>
  <dcterms:modified xsi:type="dcterms:W3CDTF">2013-02-22T21:14:26Z</dcterms:modified>
  <cp:revision>15</cp:revision>
  <dc:subject/>
  <dc:title>Comparative constructions II</dc:title>
</cp:coreProperties>
</file>