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15B-A92A-4212-82E5-116410BE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FB1-5D18-4E87-926A-2F862BD9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E9E-9052-47D1-A919-C52F0ABA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8F2-7D2A-4F93-A312-3E65518D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52D9-2BD2-4A64-BDBF-BF3D0973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DA0-1256-4126-BD30-FC16042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9E7-FA28-48EE-8150-108ED4F6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CC14-7BC9-4F85-B2D5-BBE2F7E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DAE0-44AE-4914-A8ED-D098900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F81B-1BC7-4987-9976-A5FFE4E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19CF-E434-4108-890E-ED4A3B7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5A1-18B5-40EB-A2EC-F22DD872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10D-95B7-4C60-9382-10C37E2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7157-678A-4996-AE1F-3B70834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C89-E5FA-45DA-B0FA-AE08455E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4BA1-1E74-4A16-982C-F3556048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CAD-3B69-4326-94F8-F500E09A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0747D-39F8-4031-B33A-708292E0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44995-14E5-4B60-A1ED-D86FDC71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D50C4-FE8B-47BC-A3B8-4250880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EE007-FBDC-425F-B9E1-065CA05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E53EF-B37A-4A6A-8886-EE8EEA6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F7A-85C7-4E27-9F0A-6766858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44CE7-8A07-463F-A2AA-3346602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F9FF4-7637-4349-9AAE-38F5FD7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510B7-C835-4911-BDF4-E4B29E1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F12E9-E506-4AA7-9DAD-66E0CB1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E844B-8FBF-4ADB-B757-9264DA5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F48DE-F2D8-4156-A2A7-620C511C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61F00-D278-46F6-8D83-22587A6D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58B5-0893-4CB5-AE54-EA6CE258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F978-FACA-4B48-A907-F3739B3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4198-410F-4708-BCB0-CE80307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E84-7697-46E0-940D-ACD17AF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DC37-492C-4629-921E-3859145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36C2-4B2E-47CA-9F4F-333DA55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6BE79-C219-4144-995E-4EB9B410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E8AA-7357-4FC5-99E5-04A1E93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4F12-EFBE-4BA6-A597-5D2B3C2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5065-00B4-4E3A-977F-FFE4AA0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C424-9780-4FD4-A0B2-5CEA771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3AD8-02A2-44E1-AAFE-6BE5BEAC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904E-CD61-4C46-AD16-4C23F2D7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572-F667-45C1-96FA-A97D401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0B3-B709-46F4-8C72-786345D4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739-7232-4CE1-89DF-724DACD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FC9-8BE9-4910-9F1A-EFCD761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371-9279-4032-ACD8-6867036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935-69DD-4615-AA78-C00D2D617ABC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60E-B68C-4E16-A95B-855B03E44D4B}" type="slidenum">
              <a: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56A2-D44E-4F3D-B557-052B74B5F54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12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B26-CA38-4922-A7AF-BE09724659E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linkingverb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548a"/>
                </a:solidFill>
                <a:latin typeface="Century Gothic"/>
              </a:rPr>
              <a:t>Comparative</a:t>
            </a:r>
            <a:r>
              <a:rPr b="1" lang="en-US" sz="3200" spc="-1" strike="noStrike">
                <a:solidFill>
                  <a:srgbClr val="53548a"/>
                </a:solidFill>
                <a:latin typeface="Century Gothic"/>
              </a:rPr>
              <a:t> Constructions II</a:t>
            </a:r>
            <a:endParaRPr b="0" lang="en-US" sz="32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Century Gothic"/>
              </a:rPr>
              <a:t>Nominal Sentences</a:t>
            </a:r>
            <a:r>
              <a:rPr b="1" lang="en-US" sz="2400" spc="-1" strike="noStrike">
                <a:solidFill>
                  <a:srgbClr val="424242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Century Gothic"/>
              </a:rPr>
              <a:t>Nominal Sentences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Nominal sentences are sentences that have a linking verb (or copula) between the subject and the compliment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Be , become , seem , appear , get, turn, grow, feel, look, smell, taste, sound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24456"/>
                </a:solidFill>
                <a:uFillTx/>
                <a:latin typeface="Century Gothic"/>
              </a:rPr>
              <a:t>Note:</a:t>
            </a:r>
            <a:r>
              <a:rPr b="1" i="1" lang="en-US" sz="2400" spc="-1" strike="noStrike">
                <a:solidFill>
                  <a:srgbClr val="424456"/>
                </a:solidFill>
                <a:latin typeface="Century Gothic"/>
              </a:rPr>
              <a:t> Unlike Arabic nominal sentences, English nominal sentences contain verbs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She is a student at the schoo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y seem upset because of what happen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He appears to be interested in the conversatio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ood smells delicious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ruit looks fresh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sandwich tastes awfu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It sounds like they did not enjoy the trip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children feel happy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weather became col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room got quiet when the teacher enter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We grew tired as we were climbing the mountain.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weather turns hot in July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Azar, B. S. (1999). 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424456"/>
                </a:solidFill>
                <a:latin typeface="Century Gothic"/>
              </a:rPr>
              <a:t>rd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 ed.)</a:t>
            </a: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. New York: Longma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http://www.wisegeek.com/what-is-a-nominal-sentence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afbd"/>
                </a:solidFill>
                <a:uFillTx/>
                <a:latin typeface="Century Gothic"/>
                <a:hlinkClick r:id="rId1"/>
              </a:rPr>
              <a:t>http://www.chompchomp.com/terms/linkingverb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14:47Z</dcterms:created>
  <dc:creator>Fawaz</dc:creator>
  <dc:description/>
  <dc:language>en-US</dc:language>
  <cp:lastModifiedBy>Fawaz</cp:lastModifiedBy>
  <dcterms:modified xsi:type="dcterms:W3CDTF">2013-03-02T18:16:00Z</dcterms:modified>
  <cp:revision>11</cp:revision>
  <dc:subject/>
  <dc:title>Comparative Constructions II</dc:title>
</cp:coreProperties>
</file>