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4EA-1B3C-403E-B22B-F9589BAA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606-1B7C-4415-B436-CAEFF65E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C98-2B86-4B10-9333-33AB5C43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6A9-028B-464D-9EB6-7E6567D6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04C5-A0F8-4798-9B09-37BD8608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5456-EDDB-496B-9C2A-C19A59C3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28CB-71DC-436C-AF3C-AF69F245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9246-1196-467A-9238-957D042B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29D7-0C9E-4F98-B762-019EAB30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6EB4-C6E2-4561-AAB1-F3056C0E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DE05-F02A-4EA5-9C76-954FC62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DE4-FBDE-430D-9026-F6E873A0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FF54-B3FD-4CED-BB17-EC10145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C82F-1DBC-4F57-A1DD-2266B5F4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752E-63E6-4E0E-99D3-8735687A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3496-B32F-4D37-A7E6-6AA9859A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E3D-5BEA-4F99-86B3-A235364D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A9D00-CE4C-4A3F-A5F4-875E1E93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8DB01-3E02-4F52-BA47-29705975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6BB6C-13F7-4827-A7A7-53CBD77B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68FB1-E864-428C-958E-46BB4DF8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62CC9-298D-4D40-9A02-4E01444E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ECD-7E12-4C83-A409-4E722EF5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5330E-4550-468D-BDE5-39AD97FE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FBA95-009F-40E6-89C3-9AB7261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E0930-10D7-44C5-8500-AA3BAFF5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32658-B133-43FA-A805-F2F0432F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80B17-DFF1-4D77-B79F-1507D15D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BCFE9-C92D-421C-93C7-00DAB8A9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27602-90DA-4608-8894-168B2256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49CA-3A0E-4FF1-860B-4BDF5BD9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EAF2-6150-4234-A237-F3BA4961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33D1-A085-4A82-AFE0-211F9E62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BA7-AC5C-4BCD-A53D-E6452C1E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0B79-9293-4177-89BF-4FCDD929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3A851-0056-460A-9E6A-B8D78E55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9FDC-D75A-40BE-8CD3-BC526554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607B-38BD-4754-91BC-FB9E1CCB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4F43-CAD5-455B-905C-CD7D96C6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A33C0-AAAE-45CE-9D45-DEDDF3FC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7E5A-BC38-4BAB-8BDB-C54D82AA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F98C8-A604-428E-81C3-E2FC3665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4498B-B85A-45AD-9547-FA97BB16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B5E-9F59-41F3-90B7-0FDE5142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095-530C-4A96-8495-0F3AFCCB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B94-BFA0-4BA3-98EC-A8DECC0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A84-5A54-469D-94FA-88B0001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2CB-F3BD-4420-AFBC-FE4D964C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DC3B-A98E-48AA-99B6-CD7B2406EDFB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3548a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4BE6-E152-44F5-985D-CAE1C1AB1AE4}" type="slidenum">
              <a:rPr b="0" lang="ar-SA" sz="1200" spc="-1" strike="noStrike">
                <a:solidFill>
                  <a:srgbClr val="53548a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DF2C-3D10-4B89-B328-EAD4DE8CE5E1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cf"/>
            </a:gs>
            <a:gs pos="100000">
              <a:srgbClr val="8383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122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548a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595F-22C6-4A37-B79B-3C1BB13159D4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linkingverb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548a"/>
                </a:solidFill>
                <a:latin typeface="Century Gothic"/>
              </a:rPr>
              <a:t>Comparative</a:t>
            </a:r>
            <a:r>
              <a:rPr b="1" lang="en-US" sz="3200" spc="-1" strike="noStrike">
                <a:solidFill>
                  <a:srgbClr val="53548a"/>
                </a:solidFill>
                <a:latin typeface="Century Gothic"/>
              </a:rPr>
              <a:t> Constructions II</a:t>
            </a:r>
            <a:endParaRPr b="0" lang="en-US" sz="32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242"/>
                </a:solidFill>
                <a:latin typeface="Century Gothic"/>
              </a:rPr>
              <a:t>Nominal Sentences</a:t>
            </a:r>
            <a:r>
              <a:rPr b="1" lang="en-US" sz="2400" spc="-1" strike="noStrike">
                <a:solidFill>
                  <a:srgbClr val="424242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Century Gothic"/>
              </a:rPr>
              <a:t>Nominal Sentences</a:t>
            </a:r>
            <a:endParaRPr b="0" lang="en-US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Nominal sentences are sentences that have a linking verb (or copula) between the subject and the compliment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Be , become , seem , appear , get, turn, grow, feel, look, smell, taste, sound 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424456"/>
                </a:solidFill>
                <a:uFillTx/>
                <a:latin typeface="Century Gothic"/>
              </a:rPr>
              <a:t>Note:</a:t>
            </a:r>
            <a:r>
              <a:rPr b="1" i="1" lang="en-US" sz="2400" spc="-1" strike="noStrike">
                <a:solidFill>
                  <a:srgbClr val="424456"/>
                </a:solidFill>
                <a:latin typeface="Century Gothic"/>
              </a:rPr>
              <a:t> Unlike Arabic nominal sentences, English nominal sentences contain verbs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She is a student at the school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y seem upset because of what happene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He appears to be interested in the conversation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food smells delicious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fruit looks fresh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sandwich tastes awful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It sounds like they did not enjoy the trip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children feel happy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weather became col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room got quiet when the teacher entered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We grew tired as we were climbing the mountain. 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4456"/>
                </a:solidFill>
                <a:latin typeface="Century Gothic"/>
              </a:rPr>
              <a:t>The weather turns hot in July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53548a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Azar, B. S. (1999). </a:t>
            </a:r>
            <a:r>
              <a:rPr b="0" i="1" lang="en-US" sz="2400" spc="-1" strike="noStrike">
                <a:solidFill>
                  <a:srgbClr val="424456"/>
                </a:solidFill>
                <a:latin typeface="Century Gothic"/>
              </a:rPr>
              <a:t>Understanding and using English grammar (3</a:t>
            </a:r>
            <a:r>
              <a:rPr b="0" i="1" lang="en-US" sz="2400" spc="-1" strike="noStrike" baseline="30000">
                <a:solidFill>
                  <a:srgbClr val="424456"/>
                </a:solidFill>
                <a:latin typeface="Century Gothic"/>
              </a:rPr>
              <a:t>rd</a:t>
            </a:r>
            <a:r>
              <a:rPr b="0" i="1" lang="en-US" sz="2400" spc="-1" strike="noStrike">
                <a:solidFill>
                  <a:srgbClr val="424456"/>
                </a:solidFill>
                <a:latin typeface="Century Gothic"/>
              </a:rPr>
              <a:t> ed.)</a:t>
            </a: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. New York: Longman.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Century Gothic"/>
              </a:rPr>
              <a:t>http://www.wisegeek.com/what-is-a-nominal-sentence.htm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53548a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7afbd"/>
                </a:solidFill>
                <a:uFillTx/>
                <a:latin typeface="Century Gothic"/>
                <a:hlinkClick r:id="rId1"/>
              </a:rPr>
              <a:t>http://www.chompchomp.com/terms/linkingverb.htm</a:t>
            </a:r>
            <a:endParaRPr b="0" lang="en-US" sz="2400" spc="-1" strike="noStrike">
              <a:solidFill>
                <a:srgbClr val="42445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14:47Z</dcterms:created>
  <dc:creator>Fawaz</dc:creator>
  <dc:description/>
  <dc:language>en-US</dc:language>
  <cp:lastModifiedBy>Fawaz</cp:lastModifiedBy>
  <dcterms:modified xsi:type="dcterms:W3CDTF">2013-03-02T18:16:00Z</dcterms:modified>
  <cp:revision>11</cp:revision>
  <dc:subject/>
  <dc:title>Comparative Constructions II</dc:title>
</cp:coreProperties>
</file>