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F48-6577-4EC9-94DD-E6F65272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AD4-9213-4376-9DB6-C9A0C17A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570-F190-4CE8-88E8-4CE26798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2EF-9F6B-4EB8-8D77-D80A04F7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507-7CFA-49F5-945D-7ADC151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29B7-4EA0-49A7-A777-C70F47D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019-79D8-4A9D-AE39-9831B52F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3FD-2A63-40B3-81C7-85879329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79C7-49C9-49C9-ADAE-25B6E21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63D-3D41-42CC-9541-4799A3B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6EA-410F-4BCC-BA6D-0214A6F9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1EA-DD6D-4B80-BF5D-A5E93C7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7E20-D51C-42B9-A804-1B9D89C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F18A-7559-4F99-A26D-513F20C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692-D22B-4291-9867-8EEC6A9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4B32-8555-4D9C-B11F-C736B2EA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CC29-6FAC-4730-8A07-C6675D1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E850-A8C4-462C-8B03-EF10DF7F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3EE3-F3B3-4197-8D1B-14F4BC8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3778-ECBC-4E7E-AB9C-DE08092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5AD5-F215-4A53-9D0F-A7EB4D10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71D9-519D-4F98-84AF-8842F65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77C-C610-40C1-AE9C-E5AEDA3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0F3F-B353-4280-9672-182DB4E9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2E91-F7B0-482C-92BF-30AAE65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A126-B7E1-454E-AC58-4D3F821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9E53-4B7F-4A7B-BAA1-782DA24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FDAC-F93E-4689-87EE-3B94147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5E02-6024-451D-9DF4-3AD94D61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76D2-1607-485B-9764-9FBAE734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96E3-F283-49B4-9805-022DEFF0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985D-48AC-4957-B995-C467D45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21E5-6247-47E4-9E30-7BE57D8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C2E-74BB-4101-BD0B-20A7CB7A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C585-3380-4867-8618-F17DE70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D031-838C-42A9-A7D7-1598250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0085-1455-4E21-A69B-447EDE2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E4BE-DA17-45EF-A7FA-E608106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EF06-48EE-48B5-9A1E-998D976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341C-AE00-4B95-9702-387ECC2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2EE8-68C8-4959-8B48-AB7AB25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062B-F833-4298-BA3A-A1BBDEF2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0755-AAAC-49E0-8174-AFD4A3D1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A89C-EAB2-4448-88D6-AD506084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958-5570-476D-9955-AD555041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1CAA8-FD06-4DB2-BAB1-DED4EE2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0A4B0-2463-4416-8AD4-F25460F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1D4EE-DA36-40A5-B484-E225EEA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F799-0653-44FB-ADF9-E36C024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A605-1942-4D78-86A9-B28A1258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0202-87FE-40E1-9301-2344D921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83075-831E-4C5B-9A6C-5152486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88B6-318E-4A60-9CBB-CCA953B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D54F-D0F6-4FB5-9A07-44732D8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7B96-7A71-42CD-A390-0253A189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24A-4287-4023-9707-B5624C3C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F5F59-9224-4D4C-87D4-36DAB8BA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EA9-BDFB-49A4-AEAE-49F1EAF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E91-FEC2-41C8-8659-EE6F510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343-7B64-4C33-A80F-1E4FEBF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6C8-4E40-4AC4-BD11-E8A555C4FEF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E926-FE40-4D64-8A84-B28012ABDBB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8D86-527D-45D6-9DD7-EEA622C2985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FB9-F99B-4218-B723-0D2D0799A03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E37-8CA6-44A4-8985-1897D983A8B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earnenglish.britishcouncil.org/english-grammar/adverbials" TargetMode="External"/><Relationship Id="rId2" Type="http://schemas.openxmlformats.org/officeDocument/2006/relationships/hyperlink" Target="http://learnenglish.britishcouncil.org/english-grammar/adverbials" TargetMode="External"/><Relationship Id="rId3" Type="http://schemas.openxmlformats.org/officeDocument/2006/relationships/hyperlink" Target="http://www.uncp.edu/home/canada/work/caneng/adverb.htm" TargetMode="External"/><Relationship Id="rId4" Type="http://schemas.openxmlformats.org/officeDocument/2006/relationships/hyperlink" Target="http://www.uncp.edu/home/canada/work/caneng/adverb.htm" TargetMode="External"/><Relationship Id="rId5" Type="http://schemas.openxmlformats.org/officeDocument/2006/relationships/hyperlink" Target="http://www.chompchomp.com/terms/subordinateclause.htm" TargetMode="External"/><Relationship Id="rId6" Type="http://schemas.openxmlformats.org/officeDocument/2006/relationships/hyperlink" Target="http://www.chompchomp.com/terms/subordinateclause.ht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#5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Adverbial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dverb vs. Adverbi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 word that modifies a verb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any - but not all - adverbs end in -ly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explain manner, frequency, place, or tim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Examples: well, carefully, suddenly, always, hardly ever, never, backwards, forwards, now, tomorrow, today, then, etc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ial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ny structure that describes a verb regardless of its form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give more information about the verb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modify or describe verb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nswer the questions: when, how, why, where, etc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 placed in different locations (most of the time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: adverbs, infinitive phrases, prepositional phrases, or subordinate clause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Common Types of Adverbia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prepositional phrase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 prepositio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infinitive phra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n infinitive (to + base form of the verb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subordinate clau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 independent clause introduced by a subordinate conjunction. The most common subordinate conjunctions are: before, after, when, while, because, so, until/till, although, if, since, by the time, as, once, as soon as, and wherea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y provide important information about the sentence. They show place, time, manner, reason/caus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link sentences together. For example, therefore, first, second, third, however, in addition, furthermore, additionally, thus, etc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is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make comments or change the tone of the whole sentence. For example: unfortunately, basically, briefly, eventually, clearly, actually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derline the adverbial in each sentence and identify its form. What question does each adverbial answer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works at the grocery stor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went to the pool to swim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 went to sleep after midnigh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ck went outside for some fresh ai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fter the show, we went skat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left with a smil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saw the cat on the porch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and I decided to take a walk this morn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e will meet me here at 4 o'clock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th cried because her cat die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dog barked all night while I was trying to sleep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oy laughed loudly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zar, B. S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292934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ed.)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York: Longma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Khalil, A. M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contrastive grammar of English and Arabic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ordan Book Centre Company Limit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earnenglish.britishcouncil.org/english-grammar/adverbia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uncp.edu/home/canada/work/caneng/adverb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ww.chompchomp.com/terms/subordinateclause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club.com/vocabula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youtube.com/watch?v=_Zx2oSG8Ly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9:46:59Z</dcterms:created>
  <dc:creator>Fawaz</dc:creator>
  <dc:description/>
  <dc:language>en-US</dc:language>
  <cp:lastModifiedBy>Fawaz</cp:lastModifiedBy>
  <cp:lastPrinted>2013-03-08T17:46:01Z</cp:lastPrinted>
  <dcterms:modified xsi:type="dcterms:W3CDTF">2013-03-08T18:21:15Z</dcterms:modified>
  <cp:revision>15</cp:revision>
  <dc:subject/>
  <dc:title>Comparative Constructions II</dc:title>
</cp:coreProperties>
</file>