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FB13-7C51-493D-BD8C-84B8DEF5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ABA-F606-4A8E-B587-E6656E9B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5D0-CC17-4A92-915C-01002FDF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98F-9D31-4D33-A3D6-515834AE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DAD4-0E34-4185-8C24-0D88760D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28D0-CE0C-4641-B262-516F6EDE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A3DF-99E9-4F10-BDEF-9844D25A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5933-9E39-4261-A1D9-23224427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8BAB-3627-4E0C-9A87-0B223239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CBA8-95DC-4E9D-BEE9-AF1F4C80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BBE3-EA47-40BF-9798-7020CD81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592-95AD-4284-AD7F-888DCDF6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FD52-8E06-4ADA-BAD8-314C88A3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8896-F860-4E22-BC6A-200A905F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80A0-0CAE-4C28-A31F-EC947C3D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2CC8-D02E-49E7-862D-2A04EFB6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30D1-016A-4662-9309-8BE32503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34307-198E-4C74-BB40-3DE780AF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01C97-EEB5-4CE7-A06C-C87F0DE4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E6F01-327E-4D4F-8000-49672FA6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5D630-EEE4-43A4-AF12-0D739F02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76494-58DA-4284-B852-7107C84C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707-9062-4E63-829E-70D18F55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69612-597A-4397-98FD-61DBA1E7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1D933-98E3-402A-ACB3-0FD015C9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24E31-D09A-4AEB-8322-FC9B5FE0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929B4-0E3E-444E-B8A1-E73F7395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52E06-FBCA-4938-9BAD-0EED4020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FE3B3-EB5D-43CA-A300-221FB2F1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4E8E8-E432-42D7-AF8A-C40BE818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07283-84CB-458E-A1EB-3BF601A8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B1366-92AC-43FC-BEE6-001C2447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C83C9-6135-45A6-AB1D-5EBAF211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597-9C20-4A75-88B4-BC652991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0D222-5E66-4C02-883A-8669A193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8D0FF-718D-48B1-9CD4-7EA323AC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FE8A2-7B27-4502-9FA9-9094D997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ACDC6-0457-49B1-BF11-DB5FCD58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181FB-305E-49D6-80EC-098FBE8D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6D488-9ECF-47C0-9ACA-54D75480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7BC88-5C28-4C49-A933-8D0B63A6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DA26B-72BB-4DEE-98B7-B80F885B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D117A-703F-441E-BDBA-CAE06F7F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745D4-CC39-4F4F-BEA0-4137F95D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0B8C-E756-453D-9504-4677CEA3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72588-5101-4F93-87D0-D0212C07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E0C77-A520-4044-BCBA-DBBC3DC5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A7CDC-55F4-4ED7-8F35-964919DB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F34E1-5285-4E67-BDAF-68936AA2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9EDBC-FD53-4086-99B2-2791B67F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8200E-7972-47A9-89D0-76A221CD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254F9-D8F1-4B84-996C-5727F721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BA249-731D-4906-9780-6AC61128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14E5D-E994-4C95-9F17-E6802236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368D2-4334-4758-BF88-E47DA671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0E9-46E6-4607-8216-06AB9790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1844B-1B13-40F8-B0D6-F8D44288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4F5A-38CB-4152-86E1-0D6A32CF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437-2674-4E28-B195-C89C93F0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6E4-C3EF-421C-9B7E-C768F9F1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5625-8024-42B9-9A54-2B91FDF75FA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EA8E-29A1-46DD-9FF9-E060A552A61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0CE5-8401-4A3A-B49D-3D6BA8D7790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267C-430C-4721-AA4F-295E0F47470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r" rtl="1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 algn="r" rtl="1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 algn="r" rtl="1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1221-7497-441E-A29F-99F9ACB10DB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earnenglish.britishcouncil.org/english-grammar/adverbials" TargetMode="External"/><Relationship Id="rId2" Type="http://schemas.openxmlformats.org/officeDocument/2006/relationships/hyperlink" Target="http://learnenglish.britishcouncil.org/english-grammar/adverbials" TargetMode="External"/><Relationship Id="rId3" Type="http://schemas.openxmlformats.org/officeDocument/2006/relationships/hyperlink" Target="http://www.uncp.edu/home/canada/work/caneng/adverb.htm" TargetMode="External"/><Relationship Id="rId4" Type="http://schemas.openxmlformats.org/officeDocument/2006/relationships/hyperlink" Target="http://www.uncp.edu/home/canada/work/caneng/adverb.htm" TargetMode="External"/><Relationship Id="rId5" Type="http://schemas.openxmlformats.org/officeDocument/2006/relationships/hyperlink" Target="http://www.chompchomp.com/terms/subordinateclause.htm" TargetMode="External"/><Relationship Id="rId6" Type="http://schemas.openxmlformats.org/officeDocument/2006/relationships/hyperlink" Target="http://www.chompchomp.com/terms/subordinateclause.ht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2533c"/>
                </a:solidFill>
                <a:latin typeface="Arial"/>
              </a:rPr>
              <a:t>COMPARATIVE CONSTRUCTIONS II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76e"/>
                </a:solidFill>
                <a:latin typeface="Arial"/>
              </a:rPr>
              <a:t>#5</a:t>
            </a:r>
            <a:r>
              <a:rPr b="1" lang="en-US" sz="3200" spc="-1" strike="noStrike">
                <a:solidFill>
                  <a:srgbClr val="57576e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57576e"/>
                </a:solidFill>
                <a:latin typeface="Arial"/>
              </a:rPr>
              <a:t>Adverbial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Adverb vs. Adverbial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Adverbs: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a word that modifies a verb.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Many - but not all - adverbs end in -ly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explain manner, frequency, place, or time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Examples: well, carefully, suddenly, always, hardly ever, never, backwards, forwards, now, tomorrow, today, then, etc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34"/>
                </a:solidFill>
                <a:latin typeface="Arial"/>
              </a:rPr>
              <a:t>Adverbials: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any structure that describes a verb regardless of its form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are used to give more information about the verb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are used to modify or describe verbs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answer the questions: when, how, why, where, etc.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can be placed in different locations (most of the time)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y can be: adverbs, infinitive phrases, prepositional phrases, or subordinate clauses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Common Types of Adverbial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dverbial prepositional phrases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phrase that begins with a preposition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dverbial infinitive phrase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phrase that begins with an infinitive (to + base form of the verb)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dverbial subordinate clause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n independent clause introduced by a subordinate conjunction. The most common subordinate conjunctions are: before, after, when, while, because, so, until/till, although, if, since, by the time, as, once, as soon as, and wherea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djunctive adverbials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y provide important information about the sentence. They show place, time, manner, reason/caus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onjunctive adverbials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ords that link sentences together. For example, therefore, first, second, third, however, in addition, furthermore, additionally, thus, etc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isjunctive adverbials: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ords that make comments or change the tone of the whole sentence. For example: unfortunately, basically, briefly, eventually, clearly, actually, etc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Practic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derline the adverbial in each sentence and identify its form. What question does each adverbial answer?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y friend works at the grocery store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went to the pool to swim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 went to sleep after midnight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Jack went outside for some fresh air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fter the show, we went skating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he left with a smile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he saw the cat on the porch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y friend and I decided to take a walk this morning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e will meet me here at 4 o'clock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eth cried because her cat died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dog barked all night while I was trying to sleep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boy laughed loudly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zar, B. S. (1999).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Understanding and using English grammar (3</a:t>
            </a:r>
            <a:r>
              <a:rPr b="0" i="1" lang="en-US" sz="2400" spc="-1" strike="noStrike" baseline="30000">
                <a:solidFill>
                  <a:srgbClr val="292934"/>
                </a:solidFill>
                <a:latin typeface="Arial"/>
              </a:rPr>
              <a:t>rd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 ed.).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ew York: Longman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Khalil, A. M. (1999). </a:t>
            </a:r>
            <a:r>
              <a:rPr b="0" i="1" lang="en-US" sz="2400" spc="-1" strike="noStrike">
                <a:solidFill>
                  <a:srgbClr val="292934"/>
                </a:solidFill>
                <a:latin typeface="Arial"/>
              </a:rPr>
              <a:t>A contrastive grammar of English and Arabic.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Jordan Book Centre Company Limite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learnenglish.britishcouncil.org/english-grammar/adverbia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uncp.edu/home/canada/work/caneng/adverb.ht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ww.chompchomp.com/terms/subordinateclause.ht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www.englishclub.com/vocabular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ttp://www.youtube.com/watch?v=_Zx2oSG8Lyc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09:46:59Z</dcterms:created>
  <dc:creator>Fawaz</dc:creator>
  <dc:description/>
  <dc:language>en-US</dc:language>
  <cp:lastModifiedBy>Fawaz</cp:lastModifiedBy>
  <cp:lastPrinted>2013-03-08T17:46:01Z</cp:lastPrinted>
  <dcterms:modified xsi:type="dcterms:W3CDTF">2013-03-08T18:21:15Z</dcterms:modified>
  <cp:revision>15</cp:revision>
  <dc:subject/>
  <dc:title>Comparative Constructions II</dc:title>
</cp:coreProperties>
</file>