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E651-7E7E-4B67-A1BF-F1E7DF4FB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B4D4-F03D-49B6-AE10-D1D930CB25E7}" type="slidenum">
              <a:rPr b="0" lang="en-US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B7A-F40F-4C59-B216-AEFFA43C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4C8-DB8C-4041-8506-4D8DDC8E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4FD-103F-45F3-90C2-0D58C550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426-ECD9-4558-A1AB-A4B0AAA6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D7F2-0207-4EA9-92A3-DB3DFC85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2381-0410-42DA-A657-8D769B8B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EC87-E20B-4838-9E5C-52D9DF4D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C506-0F92-4450-9F45-49DB758D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2218-5747-4114-A750-3CB25519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0C62-3BF7-441B-88BB-95A5563F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1EBE-2718-4500-9EC3-2DC29417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6CD-4B10-45B5-AFE5-4CB687B7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71BC-D3E4-46E4-9B04-FDF87B45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6EF9-B8E9-478B-8E16-43663D5E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622C-BC09-40C2-A21C-DB3125BC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D689-71BC-4DF4-A9EB-026943D5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2281-8098-4875-B68B-3378441C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35D71-9023-4AEB-9879-E9D27CE7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44093-5BAE-454A-9E11-135FE2B0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ABBD-1588-4637-954E-3377BC0F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8BB0-71DE-4076-AB99-2B6FAB45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306F-E02A-45D6-B5FF-99A2F657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BD3-1594-4727-93E4-2D69277D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25A7-71E5-4366-832D-412C5E72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677D9-132F-4401-804C-396E33EF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8D759-CB26-444C-B75C-816C3AD3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5720B-86EB-4B9D-AE27-54584957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8FD3-8EEC-4EBC-B420-9E82A28D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26DFB-ADCB-4022-A44D-135E2B1E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5B8F-91D9-4C61-AC54-265A3E7D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2B85-2458-4AC1-95A8-41FF7F9C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9AF2-149D-4904-8A7E-349DCDD5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7692C-8579-493F-97BE-66B4AE3D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DD6-20DA-453C-BBA4-EBA0DE25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F327-53E2-4D36-8F09-249BA0C3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EFE3-7406-4F12-BF73-B6450533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6BDC5-204D-4A14-9B21-2A265962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A0B59-2531-44B2-A20D-5DD3E51C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C20E-081A-460D-9534-2D6A62B2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98CF6-1062-4FB9-9C26-1BA21BD0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A6785-F836-4F86-842C-FCF3808A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4CA48-6347-424C-AED3-67014BF7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68168-9586-4437-A92B-F9C28273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4B420-ED16-4EE4-8DC9-652EC49E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F9B-E96B-47D2-8C31-0F383A42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41F10-1A1D-498A-A8FC-EC4D10A8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D444E-4257-4E16-8855-9892897C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7AEF6-1AC3-42F9-BE3B-21864AFB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24FB5-668F-41E1-AC90-618BB19E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AF28B-90AE-45E1-A133-44777463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D291F-1E9C-4FDA-9071-9AE3D7DD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F4DC2-4959-4A89-B74E-BAD437E8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8FF0C-1E78-4C8D-8C52-F06385C2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10BFA-A687-4DF1-9E2F-56B744CB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8D762-D078-48E2-98F7-5C061142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30F-6845-492B-AC69-1D8EB06A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77AFF-122F-4B34-9D70-5FC786F9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D37-B5B4-458F-9E0C-16D4C198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10E-3AD7-4CD2-B9CA-CBD3831E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764-899F-4D3C-8F22-49FE788F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520E-99F4-4093-A70E-3E7E5B3FEF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1867-F8BB-4345-857D-230D21F1BF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B368-DA36-4749-9CCC-EDB861D1D7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FE62-40DF-4729-8BE9-C89B6A9CB0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F63C-2400-4F07-A64F-DEE68D38AF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 CONSTRUCTIONS II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57576e"/>
                </a:solidFill>
                <a:latin typeface="Times New Roman"/>
                <a:ea typeface="Times New Roman"/>
              </a:rPr>
              <a:t>nd</a:t>
            </a: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 sem. 1433/1434 - Spring 2013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76e"/>
                </a:solidFill>
                <a:latin typeface="Times New Roman"/>
                <a:ea typeface="Times New Roman"/>
              </a:rPr>
              <a:t>#7 – Comparative &amp; Superlativ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Times New Roman"/>
                <a:cs typeface="Times New Roman"/>
              </a:rPr>
              <a:t>اسم التفضيل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4126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ستخدم اسم التفضيل للمقارنة بين اثنين (أو أكثر) اشتركا في صفة، و زاد أحدهما على الآخر في هذه الصفة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على سبيل المثال: أطول - أقصر - أنشط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عرب حسب موقعه في الجملة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64160" indent="-16416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ُشتق اسم التفضيل على وزن «أفعل» للمذكر و «فُعلى» للمؤنث من فعل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اضي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ثلاثي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ثبت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تام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مبني للمعلوم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ليس الوصف منه على وزن «افعل» و «فعلاء»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قابل للتفاوت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657000" indent="-411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d2533c"/>
              </a:solidFill>
              <a:latin typeface="Times New Roman"/>
              <a:ea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في حال اختلّ أحد الشروط السابق ذكرها، لا يُصاغ اسم التفضيل من الفعل بشكل مباشر. إنما يُصاغ من المصدر مع كلمة مناسبة على وزن «أفعل»، مثل: أشد - أكثر - أقل - أدنى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يكون المصدر في هذه الحالة، تمييز منصوب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على سبيل المثال: أكثر ازدحاماً - أشد حمرةً - أقل دحرجةً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92934"/>
                </a:solidFill>
                <a:latin typeface="Times New Roman"/>
                <a:cs typeface="Times New Roman"/>
              </a:rPr>
              <a:t>هناك ثلاثة أفعال تٌحذف منها الألف عادة في صيغة التفضيل، هي: خير وشر وحب. مثلاً: الصدق خير من الكذب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533c"/>
                </a:solidFill>
                <a:latin typeface="Arial"/>
                <a:cs typeface="Arial"/>
              </a:rPr>
              <a:t>حالات اسم التفضيل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جرد من أل ومن الإضاف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 ← يجب إفراده وتذكيره - المفضل إليه مسبوق بحرف الجر من (ويجوز حذفه). مثال: أحمد أطول من أخيه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ضافاً إلى نكر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ب إفراده وتذكيره. مثال: الكتاب أفضل صديقٍ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عرفاً بأل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ب أن يُطابق المفضل - لا يُذكر المفضل عليه بعده. أمثلة: محمد هو الأصغر سناً - مها هي الصغرى سناً - الطالبتان هما الصغريان سناً - الطالبان هما الأصغران سناً - الطلاب هم الأاغر سناً - الطالبات هن الصغريات سناً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38840" indent="-43884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292934"/>
                </a:solidFill>
                <a:uFillTx/>
                <a:latin typeface="Arial"/>
                <a:cs typeface="Arial"/>
              </a:rPr>
              <a:t>مضافاً إلى معرفة</a:t>
            </a:r>
            <a:r>
              <a:rPr b="0" lang="ar-SA" sz="2400" spc="-1" strike="noStrike">
                <a:solidFill>
                  <a:srgbClr val="292934"/>
                </a:solidFill>
                <a:latin typeface="Arial"/>
                <a:ea typeface="Arial"/>
              </a:rPr>
              <a:t> ← يجوز فيه: أن يطابق المفضل كالمعرف بألـ أو أن يكون مفرداً مذكراً كالمجرد من ألـ ومن الإضافة. أمثلة: محمد أفضل الرجال - فاطمة فضلى النساء أو فاطمة أفضل النساء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Khalil, A. (1999). </a:t>
            </a:r>
            <a:r>
              <a:rPr b="0" i="1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 contrastive grammar of English and Arabic. </a:t>
            </a: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Jordon: Jordon Book Centre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92934"/>
                </a:solidFill>
                <a:latin typeface="Arial"/>
                <a:cs typeface="Arial"/>
              </a:rPr>
              <a:t>في أساسيات اللغة العربية لعبد العزيز نبوي - القاهرة: الدار المصرية اللبنانية، </a:t>
            </a:r>
            <a:r>
              <a:rPr b="0" lang="ar-SA" sz="2000" spc="-1" strike="noStrike">
                <a:solidFill>
                  <a:srgbClr val="292934"/>
                </a:solidFill>
                <a:latin typeface="Arial"/>
                <a:ea typeface="Arial"/>
              </a:rPr>
              <a:t>2012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92934"/>
                </a:solidFill>
                <a:latin typeface="Arial"/>
                <a:cs typeface="Arial"/>
              </a:rPr>
              <a:t>المبسط في شرح قواعد اللغة العربية لمحمد حسين سلامة - القاهرة: دار الفكر العربي، </a:t>
            </a:r>
            <a:r>
              <a:rPr b="0" lang="ar-SA" sz="2000" spc="-1" strike="noStrike">
                <a:solidFill>
                  <a:srgbClr val="292934"/>
                </a:solidFill>
                <a:latin typeface="Arial"/>
                <a:ea typeface="Arial"/>
              </a:rPr>
              <a:t>2003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esl.fis.edu/grammar/rules/comp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nglishclub.com/vocabulary/irregular-adjectives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flnet.com/tutorials/adjcompsup.php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eflnet.com/tutorials/advcompsup.php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khayma.com/medhatfoda/naho%202th/2thn5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ttp://www.drmosad.com/index75.ht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126792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0080" indent="-457200" algn="r" rtl="1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mparative adjectives are used to compare two thing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wo common structures used to compare are: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s … as (e.g., She is as smart as her sister.)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an (e.g., She is smarter than her sister.)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en comparing with </a:t>
            </a:r>
            <a:r>
              <a:rPr b="0" i="1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s … as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, the form of the adjective does not change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hen comparing with </a:t>
            </a:r>
            <a:r>
              <a:rPr b="0" i="1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an</a:t>
            </a: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, the form of the adjective changes depending on the number of syllables it has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orming Compar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older – hotter – tall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ending in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drop the –y and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i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appier – prettier – luckier – easi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not ending in -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nd tri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careful – more crowded – more importan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Superl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0080" indent="-457200" algn="r" rtl="1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uperlative adjectives are used to talk about one thing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lvl="1" marL="730080" indent="-45720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y are used to describe something as being the most of, e.g., the best, the worst, the most beautiful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Forming Superlative Adjectiv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st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nd use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fore the adjecti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coldest – the hottest – the talles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ending in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-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drop the –y and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iest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and use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efore the adjecti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happiest – the prettiest – the luckiest – the easies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Disyllabic adjectives not ending in -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nd trisyllabic adjective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The most careful – the most crowded – the most importan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Adjectives that Follow both Ru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ome disyllabic adjectives follow two rules (i.e., they take -er and -est OR more/the most). For exampl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Cleve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entl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riend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Quie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Simpl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Narrow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Irregular Comparative/Superlative Adjectiv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Good – better – the be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ad – worse – the wor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urther – the furth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o refer to a greater degree (more figurative – can be used adverbially to mean in addi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arther – the farth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to refer to distance on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ld – elder – the eld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when referring to someone in the famil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ld – older – the oldest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general us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ittle – less – the lea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any – more – the mo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Comparative/Superlative Adverb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nosyllabic adverb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–er / –est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ster – the fastes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Harder – the hardes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Other adverbs </a:t>
            </a:r>
            <a:r>
              <a:rPr b="0" lang="en-US" sz="2400" spc="-1" strike="noStrike">
                <a:solidFill>
                  <a:srgbClr val="292934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 add </a:t>
            </a:r>
            <a:r>
              <a:rPr b="0" i="1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/ the mo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More quickly – the most quickl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 rtl="1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Times New Roman"/>
                <a:ea typeface="Times New Roman"/>
              </a:rPr>
              <a:t>Irregular Comparative/Superlative Adverb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Well – better – the be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Badly – worse – the wor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arther – the furthe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Far – further – the furthest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Times New Roman"/>
                <a:ea typeface="Times New Roman"/>
              </a:rPr>
              <a:t>Little – less – the leas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8:58:27Z</dcterms:created>
  <dc:creator>user</dc:creator>
  <dc:description/>
  <dc:language>en-US</dc:language>
  <cp:lastModifiedBy>Fawaz</cp:lastModifiedBy>
  <cp:lastPrinted>2013-03-29T19:17:46Z</cp:lastPrinted>
  <dcterms:modified xsi:type="dcterms:W3CDTF">2013-04-05T17:24:32Z</dcterms:modified>
  <cp:revision>33</cp:revision>
  <dc:subject/>
  <dc:title>Comparative Constructions II</dc:title>
</cp:coreProperties>
</file>