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687D-EFA6-43C0-A72E-F36D5824E5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7CDE-042F-4E1C-AA61-80594B1BED0D}" type="slidenum">
              <a:rPr b="0" lang="en-US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6876-AD38-4BE8-8A2B-E77FAC404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B6D3-B1F3-4A10-9510-B09BA9B2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678D-87D8-43C0-82F9-A93B50C3D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DC91-B67C-4F0F-8AD7-0734968F1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5347-6D47-438F-8578-E3C71CA2E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80686-BFD3-47D5-8940-B68742AB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373F-9D93-44AE-8E92-FF843810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73F7-AA2C-4E3E-93A9-EF8614B2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A516-5F4A-424F-A2E0-568AF5DB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9C0E-6553-4C99-AE63-B7D2E8BA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02E3-F12F-492B-9ED6-390778D1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F7CC-8D09-43CA-A906-409BE170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E6FD9-2058-47E8-8F56-8D9AEDDB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414B-93A4-4FDD-B434-224E1BCC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A57E-D69B-4372-A330-C290E900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17829-88BB-4267-BF34-1EE8CE9C3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2C81-6AE2-40F9-A31B-44ECBEF3B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2E0F3-03F1-4960-87DB-411A0EC11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0849F-305F-4FAF-8E35-867D95EB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F9A11-7C09-410B-BA5B-C54F1DF4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22A5E-7428-4BC6-BE54-5A95CCAC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36AC3-3810-4C06-AFBB-BCCB4C16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F95B-9E84-4E36-976A-18268509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8548B-11DA-4442-867A-CE8E440D1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76CCC-B672-4110-8DC2-6B216050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2BA8E-3362-40DF-83EF-E3A90300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3FDEB-2D06-48B3-8AB6-CB01F1DA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65EE1-1371-4BDC-80F2-F06B7087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FF90F-36BD-42F9-BE24-48B1FA4D5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30B90-3CAF-4C5F-A61F-4E3F9861A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8FF5A-6205-48F1-8AF8-3D4738DC8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252FD-5A93-46E9-AA2E-62314FCD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40CA5-35F8-48B1-9789-98884A83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51F3-A03C-4DA1-BF20-3CA235D4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6ED10-4DBC-4079-B9FB-FC98E541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6EB03-2439-43AD-BB02-AF7D8A93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537AC-36BA-489F-9AD7-2646BFB8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8FDAF-93B3-4780-B38D-234951CC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603B6-918F-4417-A864-91CD9B9B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D58E0-7382-4ED7-B479-57007E7C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4015D-571C-4483-AFF8-78AA04AB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E7696-0180-4045-BD4F-F7376D448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6685A-536C-443D-865D-7D4035FF4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5AE1C-EB5A-46AE-8F63-818FEBA54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3212-B14F-4DE4-86B7-2825EA88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D34D7-852D-4DD0-A2E8-06BD4339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52E38-479A-4A3E-8834-B55C56E5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0F42E-6972-445F-A45A-59993E05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03FE2-C445-42B2-AF88-9FBF2D57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9BD71-37D8-46E5-B2F9-EFDB6282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C1E9F-71D2-438A-B729-FEEDA26F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27136-7B3F-4725-878E-74E1B533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7EE5F-9BD6-4AD1-BA4F-B5396843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E5876-E342-4A9E-906A-B6F1D38E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4A3AA-2711-4193-893E-B20E04768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6107-CDEB-4F1B-ADB4-DF0D0C09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9FB88-8D50-438A-9B5E-C46E159A4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2A62-0136-4026-8D91-8027A073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4B5D-11BF-47CE-95C3-26AD28E5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8B20-AF60-433A-AECC-796F19FF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 algn="r" rtl="1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80CD-DD21-41D3-88C4-7A510816BD3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 algn="r" rtl="1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B44F-D64C-4137-AF63-6CEB3BBD607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 algn="r" rtl="1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564E-5F56-4A33-ACEF-7E85B4B82F2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 algn="r" rtl="1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151B-CD07-4342-8B1D-33AA9DD48B1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 algn="r" rtl="1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230E-2B67-477B-9952-EFB918BFB89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COMPARATIVE CONSTRUCTIONS II</a:t>
            </a:r>
            <a:endParaRPr b="0" lang="en-US" sz="5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576e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baseline="30000">
                <a:solidFill>
                  <a:srgbClr val="57576e"/>
                </a:solidFill>
                <a:latin typeface="Times New Roman"/>
                <a:ea typeface="Times New Roman"/>
              </a:rPr>
              <a:t>nd</a:t>
            </a:r>
            <a:r>
              <a:rPr b="1" lang="en-US" sz="2400" spc="-1" strike="noStrike">
                <a:solidFill>
                  <a:srgbClr val="57576e"/>
                </a:solidFill>
                <a:latin typeface="Times New Roman"/>
                <a:ea typeface="Times New Roman"/>
              </a:rPr>
              <a:t> sem. 1433/1434 - Spring 2013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576e"/>
                </a:solidFill>
                <a:latin typeface="Times New Roman"/>
                <a:ea typeface="Times New Roman"/>
              </a:rPr>
              <a:t>#7 – Comparative &amp; Superlative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d2533c"/>
                </a:solidFill>
                <a:latin typeface="Times New Roman"/>
                <a:cs typeface="Times New Roman"/>
              </a:rPr>
              <a:t>اسم التفضيل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41264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164160" indent="-16416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يُستخدم اسم التفضيل للمقارنة بين اثنين (أو أكثر) اشتركا في صفة، و زاد أحدهما على الآخر في هذه الصفة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64160" indent="-16416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على سبيل المثال: أطول - أقصر - أنشط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64160" indent="-16416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يُعرب حسب موقعه في الجملة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64160" indent="-16416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يُشتق اسم التفضيل على وزن «أفعل» للمذكر و «فُعلى» للمؤنث من فعل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657000" indent="-41148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ماضي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657000" indent="-41148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ثلاثي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657000" indent="-41148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مثبت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657000" indent="-41148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تام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657000" indent="-41148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مبني للمعلوم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657000" indent="-41148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ليس الوصف منه على وزن «افعل» و «فعلاء»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657000" indent="-41148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قابل للتفاوت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657000" indent="-4114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000" spc="-1" strike="noStrike">
              <a:solidFill>
                <a:srgbClr val="d2533c"/>
              </a:solidFill>
              <a:latin typeface="Times New Roman"/>
              <a:ea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في حال اختلّ أحد الشروط السابق ذكرها، لا يُصاغ اسم التفضيل من الفعل بشكل مباشر. إنما يُصاغ من المصدر مع كلمة مناسبة على وزن «أفعل»، مثل: أشد - أكثر - أقل - أدنى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يكون المصدر في هذه الحالة، تمييز منصوب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على سبيل المثال: أكثر ازدحاماً - أشد حمرةً - أقل دحرجةً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هناك ثلاثة أفعال تٌحذف منها الألف عادة في صيغة التفضيل، هي: خير وشر وحب. مثلاً: الصدق خير من الكذب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d2533c"/>
                </a:solidFill>
                <a:latin typeface="Arial"/>
                <a:cs typeface="Arial"/>
              </a:rPr>
              <a:t>حالات اسم التفضيل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292934"/>
                </a:solidFill>
                <a:uFillTx/>
                <a:latin typeface="Arial"/>
                <a:cs typeface="Arial"/>
              </a:rPr>
              <a:t>مجرد من أل ومن الإضافة</a:t>
            </a:r>
            <a:r>
              <a:rPr b="0" lang="ar-SA" sz="2400" spc="-1" strike="noStrike">
                <a:solidFill>
                  <a:srgbClr val="292934"/>
                </a:solidFill>
                <a:latin typeface="Arial"/>
                <a:ea typeface="Arial"/>
              </a:rPr>
              <a:t>  ← يجب إفراده وتذكيره - المفضل إليه مسبوق بحرف الجر من (ويجوز حذفه). مثال: أحمد أطول من أخيه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438840" indent="-43884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292934"/>
                </a:solidFill>
                <a:uFillTx/>
                <a:latin typeface="Arial"/>
                <a:cs typeface="Arial"/>
              </a:rPr>
              <a:t>مضافاً إلى نكرة</a:t>
            </a:r>
            <a:r>
              <a:rPr b="0" lang="ar-SA" sz="2400" spc="-1" strike="noStrike">
                <a:solidFill>
                  <a:srgbClr val="292934"/>
                </a:solidFill>
                <a:latin typeface="Arial"/>
                <a:ea typeface="Arial"/>
              </a:rPr>
              <a:t> ← يجب إفراده وتذكيره. مثال: الكتاب أفضل صديقٍ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438840" indent="-43884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292934"/>
                </a:solidFill>
                <a:uFillTx/>
                <a:latin typeface="Arial"/>
                <a:cs typeface="Arial"/>
              </a:rPr>
              <a:t>معرفاً بأل</a:t>
            </a:r>
            <a:r>
              <a:rPr b="0" lang="ar-SA" sz="2400" spc="-1" strike="noStrike">
                <a:solidFill>
                  <a:srgbClr val="292934"/>
                </a:solidFill>
                <a:latin typeface="Arial"/>
                <a:ea typeface="Arial"/>
              </a:rPr>
              <a:t> ← يجب أن يُطابق المفضل - لا يُذكر المفضل عليه بعده. أمثلة: محمد هو الأصغر سناً - مها هي الصغرى سناً - الطالبتان هما الصغريان سناً - الطالبان هما الأصغران سناً - الطلاب هم الأاغر سناً - الطالبات هن الصغريات سناً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438840" indent="-43884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292934"/>
                </a:solidFill>
                <a:uFillTx/>
                <a:latin typeface="Arial"/>
                <a:cs typeface="Arial"/>
              </a:rPr>
              <a:t>مضافاً إلى معرفة</a:t>
            </a:r>
            <a:r>
              <a:rPr b="0" lang="ar-SA" sz="2400" spc="-1" strike="noStrike">
                <a:solidFill>
                  <a:srgbClr val="292934"/>
                </a:solidFill>
                <a:latin typeface="Arial"/>
                <a:ea typeface="Arial"/>
              </a:rPr>
              <a:t> ← يجوز فيه: أن يطابق المفضل كالمعرف بألـ أو أن يكون مفرداً مذكراً كالمجرد من ألـ ومن الإضافة. أمثلة: محمد أفضل الرجال - فاطمة فضلى النساء أو فاطمة أفضل النساء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Referenc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Khalil, A. (1999). </a:t>
            </a:r>
            <a:r>
              <a:rPr b="0" i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 contrastive grammar of English and Arabic. 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Jordon: Jordon Book Centre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92934"/>
                </a:solidFill>
                <a:latin typeface="Arial"/>
                <a:cs typeface="Arial"/>
              </a:rPr>
              <a:t>في أساسيات اللغة العربية لعبد العزيز نبوي - القاهرة: الدار المصرية اللبنانية، </a:t>
            </a:r>
            <a:r>
              <a:rPr b="0" lang="ar-SA" sz="2000" spc="-1" strike="noStrike">
                <a:solidFill>
                  <a:srgbClr val="292934"/>
                </a:solidFill>
                <a:latin typeface="Arial"/>
                <a:ea typeface="Arial"/>
              </a:rPr>
              <a:t>2012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92934"/>
                </a:solidFill>
                <a:latin typeface="Arial"/>
                <a:cs typeface="Arial"/>
              </a:rPr>
              <a:t>المبسط في شرح قواعد اللغة العربية لمحمد حسين سلامة - القاهرة: دار الفكر العربي، </a:t>
            </a:r>
            <a:r>
              <a:rPr b="0" lang="ar-SA" sz="2000" spc="-1" strike="noStrike">
                <a:solidFill>
                  <a:srgbClr val="292934"/>
                </a:solidFill>
                <a:latin typeface="Arial"/>
                <a:ea typeface="Arial"/>
              </a:rPr>
              <a:t>2003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http://esl.fis.edu/grammar/rules/comp.htm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http://www.englishclub.com/vocabulary/irregular-adjectives.htm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http://www.eflnet.com/tutorials/adjcompsup.php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http://www.eflnet.com/tutorials/advcompsup.php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http://www.khayma.com/medhatfoda/naho%202th/2thn5.htm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http://www.drmosad.com/index75.htm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Comparative Adjectiv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68360" y="1267920"/>
            <a:ext cx="822960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0080" indent="-457200" algn="r" rtl="1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730080" indent="-457200">
              <a:lnSpc>
                <a:spcPct val="100000"/>
              </a:lnSpc>
              <a:spcBef>
                <a:spcPts val="649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Comparative adjectives are used to compare two things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lvl="1" marL="730080" indent="-457200">
              <a:lnSpc>
                <a:spcPct val="100000"/>
              </a:lnSpc>
              <a:spcBef>
                <a:spcPts val="649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wo common structures used to compare are: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64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s … as (e.g., She is as smart as her sister.)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64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an (e.g., She is smarter than her sister.)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lvl="1" marL="730080" indent="-457200">
              <a:lnSpc>
                <a:spcPct val="100000"/>
              </a:lnSpc>
              <a:spcBef>
                <a:spcPts val="649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hen comparing with </a:t>
            </a:r>
            <a:r>
              <a:rPr b="0" i="1" lang="en-US" sz="2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s … as</a:t>
            </a:r>
            <a:r>
              <a:rPr b="0" lang="en-US" sz="2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, the form of the adjective does not change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lvl="1" marL="730080" indent="-457200">
              <a:lnSpc>
                <a:spcPct val="100000"/>
              </a:lnSpc>
              <a:spcBef>
                <a:spcPts val="649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hen comparing with </a:t>
            </a:r>
            <a:r>
              <a:rPr b="0" i="1" lang="en-US" sz="2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an</a:t>
            </a:r>
            <a:r>
              <a:rPr b="0" lang="en-US" sz="2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, the form of the adjective changes depending on the number of syllables it has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Forming Comparative Adjectiv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onosyllabic adjectives </a:t>
            </a:r>
            <a:r>
              <a:rPr b="0" lang="en-US" sz="2400" spc="-1" strike="noStrike">
                <a:solidFill>
                  <a:srgbClr val="292934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add 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–er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Colder – hotter – taller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Disyllabic adjectives ending in 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-y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drop the –y and add 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–ier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Happier – prettier – luckier – easier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Disyllabic adjectives not ending in -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and trisyllabic adjectives </a:t>
            </a:r>
            <a:r>
              <a:rPr b="0" lang="en-US" sz="2400" spc="-1" strike="noStrike">
                <a:solidFill>
                  <a:srgbClr val="292934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add 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or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ore careful – more crowded – more important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Superlative Adjectiv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0080" indent="-457200" algn="r" rtl="1">
              <a:lnSpc>
                <a:spcPct val="100000"/>
              </a:lnSpc>
              <a:spcBef>
                <a:spcPts val="649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lvl="1" marL="730080" indent="-457200">
              <a:lnSpc>
                <a:spcPct val="100000"/>
              </a:lnSpc>
              <a:spcBef>
                <a:spcPts val="649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uperlative adjectives are used to talk about one thing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lvl="1" marL="730080" indent="-457200">
              <a:lnSpc>
                <a:spcPct val="100000"/>
              </a:lnSpc>
              <a:spcBef>
                <a:spcPts val="649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ey are used to describe something as being the most of, e.g., the best, the worst, the most beautiful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Forming Superlative Adjectiv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onosyllabic adjectives </a:t>
            </a:r>
            <a:r>
              <a:rPr b="0" lang="en-US" sz="2400" spc="-1" strike="noStrike">
                <a:solidFill>
                  <a:srgbClr val="292934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add 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–est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nd use 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e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before the adjectiv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e coldest – the hottest – the tallest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Disyllabic adjectives ending in 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-y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drop the –y and add 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–iest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nd use 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e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before the adjectiv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e happiest – the prettiest – the luckiest – the easiest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Disyllabic adjectives not ending in -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and trisyllabic adjectives </a:t>
            </a:r>
            <a:r>
              <a:rPr b="0" lang="en-US" sz="2400" spc="-1" strike="noStrike">
                <a:solidFill>
                  <a:srgbClr val="292934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add 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e mos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e most careful – the most crowded – the most important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Adjectives that Follow both Rul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ome disyllabic adjectives follow two rules (i.e., they take -er and -est OR more/the most). For example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Clever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Gentl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riendl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Quie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imple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Narrow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Irregular Comparative/Superlative Adjectives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Good – better – the bes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Bad – worse – the wors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ar – further – the furthest </a:t>
            </a:r>
            <a:r>
              <a:rPr b="0" lang="en-US" sz="2400" spc="-1" strike="noStrike">
                <a:solidFill>
                  <a:srgbClr val="292934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to refer to a greater degree (more figurative – can be used adverbially to mean in addition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ar – farther – the farthest </a:t>
            </a:r>
            <a:r>
              <a:rPr b="0" lang="en-US" sz="2400" spc="-1" strike="noStrike">
                <a:solidFill>
                  <a:srgbClr val="292934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to refer to distance onl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Old – elder – the eldest </a:t>
            </a:r>
            <a:r>
              <a:rPr b="0" lang="en-US" sz="2400" spc="-1" strike="noStrike">
                <a:solidFill>
                  <a:srgbClr val="292934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when referring to someone in the famil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Old – older – the oldest </a:t>
            </a:r>
            <a:r>
              <a:rPr b="0" lang="en-US" sz="2400" spc="-1" strike="noStrike">
                <a:solidFill>
                  <a:srgbClr val="292934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general us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Little – less – the least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any – more – the most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Comparative/Superlative Adverb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onosyllabic adverbs </a:t>
            </a:r>
            <a:r>
              <a:rPr b="0" lang="en-US" sz="2400" spc="-1" strike="noStrike">
                <a:solidFill>
                  <a:srgbClr val="292934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add 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–er / –est 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aster – the fastest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Harder – the hardest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Other adverbs </a:t>
            </a:r>
            <a:r>
              <a:rPr b="0" lang="en-US" sz="2400" spc="-1" strike="noStrike">
                <a:solidFill>
                  <a:srgbClr val="292934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add 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ore / the mos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ore quickly – the most quickly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Irregular Comparative/Superlative Adverbs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ell – better – the best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Badly – worse – the wors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ar – farther – the furthest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ar – further – the furthest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Little – less – the leas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08:58:27Z</dcterms:created>
  <dc:creator>user</dc:creator>
  <dc:description/>
  <dc:language>en-US</dc:language>
  <cp:lastModifiedBy>Fawaz</cp:lastModifiedBy>
  <cp:lastPrinted>2013-03-29T19:17:46Z</cp:lastPrinted>
  <dcterms:modified xsi:type="dcterms:W3CDTF">2013-04-05T17:24:32Z</dcterms:modified>
  <cp:revision>33</cp:revision>
  <dc:subject/>
  <dc:title>Comparative Constructions II</dc:title>
</cp:coreProperties>
</file>