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F2B4-E64C-42F0-9CE4-8E66BB28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F649-0ED0-40D1-AF7B-57CDB17F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E091-EA41-4D6D-A493-4C077B6F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4935-0A04-4A24-B7D2-D12F3050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F23A-AC85-4BC7-87D2-883D7744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0E2F-4D20-44AE-AD42-2FAA7FA5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F290-23F0-4780-8354-BB078E15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C524-DCCE-44AF-8554-561EC92B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B1FE-578C-44DF-9429-A0AFCA34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E74F-B957-4CCC-90A2-389031E6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FA23-514B-4B47-BFB1-AEB28A44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F79-02AB-4B1F-AA7E-F661A01B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9582-2C0B-4306-9D9D-9B1262A8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0EF2-992F-4D9D-A51E-741EF718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A953-5345-4599-9B3D-7676B932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D40F-83F6-4FB3-A023-D137D942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8A31-67BD-423F-BDED-66EE1E06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A8C3F-C350-4A7E-BA12-B419E505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2DCA5-E592-4B81-918A-503E9262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EF5BD-D8EA-45D4-B883-38663235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7464A-6CA8-405F-81F2-3EFC7EB7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A06A5-8DD4-4387-AD69-9AF5AA32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6D6-E378-44A5-A9FD-57AD67CC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A9563-B42B-4350-A131-BB5E6AC7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52508-B263-455C-9153-F81D8BA0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50CF7-B422-40D3-A2FF-FCD057C0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4469E-5331-48F9-9056-90278E15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26A47-4442-4239-96A8-DD8F0EE3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C49FB-F643-4380-A4AD-0E5C15F2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07E08-1BE7-40CF-A68A-B09DE9D3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B0C66-2C7F-4DA0-896E-2A83D38D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0D80E-4E04-4024-97BE-C06499B1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BACBF-B854-4349-9082-CBAECF97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72ED-C010-4EC6-80D9-E0F834A1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1FAD6-4798-45D4-A15E-F176DB41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3A024-AA3B-409E-BA7B-31D271AE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4CAAE-0CCC-426B-BDA4-D1C2C67D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86DF0-DAB8-4601-9E86-353AAA2A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78A6B-8CAC-41BF-BAAA-89910783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EC2B8-5BCC-4644-9CA5-3C859DE3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A9799-CAE9-4599-AE1E-044711D4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F51D1-0D19-4D10-B10B-ABC00A90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7B46F-E8E7-4CCD-86A8-84670DAD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94989-8604-4BD5-BA91-7CE25FE3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08C1-4157-4981-B229-FE120060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1E9CC-9626-484C-8751-08B62C2D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512A2-D7DB-4502-BD4F-7B445D56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AB787-A16B-4052-A384-42B4C3F6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0C3FD-FDA4-40E7-9E38-9F43BA30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0D0EC-EF5B-43FE-9CB7-4CDF5ED8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FD9C0-FB0A-4D3A-9ADF-63D530D1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C2B5E-4C11-46F6-A5AA-E5181992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64709-EA35-4C67-AA7B-3866441D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D1ADD-4A13-4911-B238-8CE28F24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1035A-C6B3-495F-9FDB-62F4C0EC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8706-CFA6-4B17-901C-9E4786EF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36DB3-E9D8-4636-983B-4F1D06E5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C606-5D3B-4D4E-901F-D494FF4A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FF1D-1036-41B3-B8CD-43685956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2D96-E246-442B-ADF0-BAEB794D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EC07-2CA1-4AF8-80CA-6ACCB24A107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13D5-CC7F-4CE9-A768-895C66112C7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DD82-1859-4F69-8F19-12810591C7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17A4-6423-404E-9321-D13DC4F4B09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9FBB-64A9-4AB0-91D7-A56348614B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COMPARATIVE CONSTRUCTIONS II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76e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57576e"/>
                </a:solidFill>
                <a:latin typeface="Times New Roman"/>
                <a:ea typeface="Times New Roman"/>
              </a:rPr>
              <a:t>nd</a:t>
            </a:r>
            <a:r>
              <a:rPr b="1" lang="en-US" sz="2400" spc="-1" strike="noStrike">
                <a:solidFill>
                  <a:srgbClr val="57576e"/>
                </a:solidFill>
                <a:latin typeface="Times New Roman"/>
                <a:ea typeface="Times New Roman"/>
              </a:rPr>
              <a:t> sem. 1433/1434 - Spring 2013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76e"/>
                </a:solidFill>
                <a:latin typeface="Times New Roman"/>
                <a:ea typeface="Times New Roman"/>
              </a:rPr>
              <a:t>#7 – Comparative &amp; Superlative - Practice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Form the comparative and superlative forms for each of the following adjectives: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i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ust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o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opula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Useles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ark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o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Quie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ntelligen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a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xcit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Fill in the blanks using the correct form of adjective (comparative or superlative):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y house is _________ (big) than your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is is _________ (interesting) book I have ever read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holiday by the see is _________ (good) than a holiday in the mountain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o is _________ (rich) woman in the world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e was _________ (clever) thief of all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Tower of London is one of _________ (famous) sights in London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Fill in the blanks using the correct form of adverb (comparative or superlative):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 speak English _________ (fluent) now than I did last year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uld you write _________ (clear)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lanes can fly _________ (high) than bird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e had an accident last year. Now, he drives _________ (careful) than befor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e worked _________ (hard) than ever befor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Jim runs _________ (fast) out of all the members of our team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he greeted me _________ (polite) of all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Re-write the following sentences using the form of the adverb that is provided. Make any necessary changes.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1592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argo lives the nearest to Grandma. (adverb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Kenneth arrived late to the award ceremony. (comparative adverb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am did better on the activity than Tony. (superlative adverb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Janine arrived last. (comparative adverb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2533c"/>
                </a:solidFill>
                <a:latin typeface="Times New Roman"/>
                <a:cs typeface="Times New Roman"/>
              </a:rPr>
              <a:t>أكمل الجمل التالية باسم تفضيل مناسب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الشتاء ……… ليلاً من الصيف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العلماء …… من غيرهم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الربِيع…… أزهاراً من الشتاء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الأرض ……… حجماً من الشمس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نلت الدرجة ……… في اختبار الشهر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النساء ……… يحترمهن الناس 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2533c"/>
                </a:solidFill>
                <a:latin typeface="Arial"/>
                <a:cs typeface="Arial"/>
              </a:rPr>
              <a:t>حددي المفضل والمفضل عليه وحالة اسم التفضيل في كل من الجمل التالية: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الجندي العربي أشجع جندي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اليد العليا خير من اليد السفلى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أفضل الخلال حفظ اللسان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هذان المعلمان أعظم المعلمين خبرة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هذا العامل هو الأفضل في العمل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ttp://www.ego4u.com/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ttp://capocci.pbworks.com/w/page/21386570/Irregular%20Comparative%20and%20Superlative%20Adverb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ttp://www.english-zone.com/spelling/comp5.ht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ttp://www.khayma.com/medhatfoda/naho%202th/2thn5.ht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8:58:27Z</dcterms:created>
  <dc:creator>user</dc:creator>
  <dc:description/>
  <dc:language>en-US</dc:language>
  <cp:lastModifiedBy>Fawaz</cp:lastModifiedBy>
  <cp:lastPrinted>2013-03-29T19:17:46Z</cp:lastPrinted>
  <dcterms:modified xsi:type="dcterms:W3CDTF">2013-04-05T18:14:40Z</dcterms:modified>
  <cp:revision>38</cp:revision>
  <dc:subject/>
  <dc:title>Comparative Constructions II</dc:title>
</cp:coreProperties>
</file>