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41D-0A7B-462D-9C16-247030CA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F67-9777-4F32-BBB6-1080E07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3B4-6ACD-4077-BDEA-AF0E0F48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E12-9F25-4194-9BC9-87C1BD57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8000-D0C3-4A2D-B071-50D1DF4A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16CA-2FB9-4B01-B9AB-E23ADDB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B8C-4C03-43C9-85CE-07A95330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5025-DED7-4778-8ECF-4A32194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02FE-DB06-4DFD-81DD-D753B39D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5321-AE8A-4AEC-A7B1-77E193D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7FB9-F1E4-46BC-8FAE-50B5644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468-EFB8-4416-B56A-2009999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3F52-6F65-4A4C-A86E-0B06AAE6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263B-00AB-4AFE-9110-68C3DAA7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B7C5-946F-4E91-88BB-709CB92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7C39-CA2E-4767-BC8D-D72E132C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A674-3FFF-478F-A33B-058CDA43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F03F-F59F-4737-9DF3-7850E7A2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E760-DD58-4A50-A256-93CB0D0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FF01-88FA-4B7C-A611-539021EE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25D0-946E-4DF4-B6DB-9115362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446E-21BA-4A75-90E6-DFED7A7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A85-4213-4598-BF75-992F6A9B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F465-EDC6-417A-B64E-2A23BD20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C379-C53F-4F16-A0EE-460FE12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9CD75-8C1E-4DCF-BA19-37A93EB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4B1F-7DEF-4899-8BC3-7C3AD309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FD7C-BE26-4931-A3CD-35558310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0BF5-AB04-4E3F-856F-08C15A2A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6B72-1D5B-479E-89F4-1C1E6881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AF2C-C75D-4675-AD73-9C36FE4F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64D15-0EF9-4F51-9745-BD33B804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760A-4F1C-4637-B2C5-9059B72C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C43-5A9C-4E1E-9E87-B0EAD3F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0D6D-8A06-4E63-97E6-89EA4F40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E978-76B3-4E40-96B4-1F7D7D3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4BA8-3985-4680-9425-1CAF87B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7854-983B-4227-8D44-DBBA5B41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AFBE-1204-455B-86DC-9EA84BD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275A-1BD8-4AF2-B8A5-B872FD12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A632-D2BA-454B-A042-D6CBF6BB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F02D-98FF-473A-A2B5-D32DA794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5255-92E5-4794-A9D6-85EB93E1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7DF9-63F3-4B56-8970-40B84C02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304-C836-4267-8915-530D1A7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02E74-E165-4558-8FA8-D179741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59AFA-B904-4D83-BAC6-5A46717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A76A0-82FC-4DBD-8C29-50A4B36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61F4-7480-44CA-A66F-026AADD5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94F5-428E-49B6-BF33-01F71A9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5CE2-8DD9-4BA2-81A4-4A276FA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E9F7-8B7A-439E-9867-35D60B3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1AD5-0F9B-4ABA-9FAF-7AC08F8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1B15-FAAE-4641-9B09-8BEADECC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C49A7-145C-4A5B-B8E4-CCEDDEF0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80C-3933-458B-BA29-E022EAA6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5F2F-2A68-4C13-A558-B973BDC2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6B8-22A7-4E19-A679-2596A7F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286-1627-4CE4-8787-865D6F1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647-0022-4C9C-AA71-FD0E4AD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C072-0ED7-49A4-B778-A50F64ECF2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F589-12F0-4C84-B715-E9EF98F096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98F-BC3C-492D-BD1D-84FC926292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8FFC-0E07-42BE-B32D-6C3F3A888F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1AC-D7D4-4503-A633-36C00EF7C1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57576e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 sem. 1433/1434 - Spring 201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7 – Comparative &amp; Superlative - Practic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 the comparative and superlative forms for each of the following adjective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i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us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o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opula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Useles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ar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o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ntellig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Excit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ill in the blanks using the correct form of adjective (comparative or superlative)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y house is _________ (big) than your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is is _________ (interesting) book I have ever rea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holiday by the see is _________ (good) than a holiday in the mountain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o is _________ (rich) woman in the world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was _________ (clever) thief of al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Tower of London is one of _________ (famous) sights in Londo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ill in the blanks using the correct form of adverb (comparative or superlative)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I speak English _________ (fluent) now than I did last yea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uld you write _________ (clear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Planes can fly _________ (high) than bird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had an accident last year. Now, he drives _________ (careful) than befo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e worked _________ (hard) than ever befor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im runs _________ (fast) out of all the members of our team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he greeted me _________ (polite) of all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-write the following sentences using the form of the adverb that is provided. Make any necessary changes.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159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rgo lives the nearest to Grandma. (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enneth arrived late to the award ceremony. (compar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am did better on the activity than Tony. (superl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anine arrived last. (comparative adver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أكمل الجمل التالية باسم تفضيل مناسب: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شتاء ……… ليلاً من الصيف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علماء …… من غيرهم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ربِيع…… أزهاراً من الشت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أرض ……… حجماً من الشمس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نلت الدرجة ……… في اختبار الشهر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نساء ……… يحترمهن الناس 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2533c"/>
                </a:solidFill>
                <a:latin typeface="Arial"/>
                <a:cs typeface="Arial"/>
              </a:rPr>
              <a:t>حددي المفضل والمفضل عليه وحالة اسم التفضيل في كل من الجمل التالية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جندي العربي أشجع جندي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اليد العليا خير من اليد السفل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أفضل الخلال حفظ اللسان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ذان المعلمان أعظم المعلمين خبر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ذا العامل هو الأفضل في العمل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go4u.com/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capocci.pbworks.com/w/page/21386570/Irregular%20Comparative%20and%20Superlative%20Adverb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-zone.com/spelling/comp5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khayma.com/medhatfoda/naho%202th/2thn5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Fawaz</cp:lastModifiedBy>
  <cp:lastPrinted>2013-03-29T19:17:46Z</cp:lastPrinted>
  <dcterms:modified xsi:type="dcterms:W3CDTF">2013-04-05T18:14:40Z</dcterms:modified>
  <cp:revision>38</cp:revision>
  <dc:subject/>
  <dc:title>Comparative Constructions II</dc:title>
</cp:coreProperties>
</file>