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9DF4-AD5C-4B46-97FD-6CC8BFC0A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 clear of the entrance - Write or speak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ent direct/directly to the office - The street leads directly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slow with the experiment or you’ll make a mistake / The computer is working 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8053-74E0-424F-91A8-DB1ED9ED9F3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2F5-C06B-491E-A26A-474A0B03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550-18F6-4554-AF59-F7850F08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553-B1BC-4DBC-94CD-A57230F5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43E-3A86-47BE-AD38-E57F1D0D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E4DC-36AD-4454-92E0-4853D97F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4134-E900-48BA-A49B-D8BDBCA2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989A-1494-41A5-9245-A4DDC0D1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B2CF-1ADC-42B8-9982-1B07586E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8431-CD9D-4261-9A69-C4384953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9A7C-076F-4A24-88CD-87106BFE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2C96-1A42-4EBA-A929-3512D388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624-14DA-4159-864D-5649268E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D2B6-B187-4286-B940-9AA2493C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B2F3-57F4-4E8F-91E3-FD700796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8E95-7D26-4978-AAEE-467F4EFB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1A43-3AEC-4E0C-83EF-DDAB0EA1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09CB-8375-437C-8726-160D00A3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F01C-6D4C-4519-84AC-6989B038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58943-6243-4D54-B79F-5A2F49EC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48C1-60D1-4DA4-A5B5-A36EB75C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6B0C-DFA0-4819-B6D0-803B40B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2D9FC-E659-4B42-9C95-02E337FB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B18-271B-496D-B82F-9F5AEAF0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2708-DB38-43BF-A351-B0367E8F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EDCA-A8CC-4E34-8BD4-DE84F28C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05D6-0296-4D58-AAD3-DF0329E2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5F65-8007-4A38-A8A8-6A3EBBD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5A86-2154-46F9-A722-2AEE2CD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25D6-610D-43A1-B281-E0382430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7F14-320C-4D61-9A45-EA4E3005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4B181-E09D-4016-B732-2130D86E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77444-0912-4A1A-AF4D-42B199EB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C70F8-C196-43AB-B677-275AB15B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0ED-AC88-4BF4-925E-8FB35C10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59CD3-C2BE-4F67-8EFE-E513F97E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CDF9-B9C6-4AA6-8EB4-244CBB52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9979-FBCF-4BA3-8D63-A497CE5B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A1F4-6374-4BA7-BED2-C6699C4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04B7-6A5F-4409-ACD9-2794C249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4A7B2-DCD1-42E8-B510-4D016BFC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E80E4-1D70-47FF-A814-5CE7AE3C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2859A-BEA6-42D0-8DB3-E96B3253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40031-2447-4E54-959D-B0DBD13D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5CA0-4C95-47B8-9C7C-CABD5404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EFD-C45E-4796-8C30-6C9486B5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EBC9C-1139-4AB5-B3E6-1CBECD13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B9AA8-0801-4409-81BD-A20BB162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809CB-371D-4E40-9915-3E9D0427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56DA9-B6EC-453B-B679-D6E19AE6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979C8-4CC1-47DF-A43B-9CC229F5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00509-F685-4F72-A734-DB8FAE45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8494B-6E82-49DE-B910-C16ED21F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4AFC5-C2B3-40D0-9FCF-74976DB6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F5C4C-CE4F-4AC9-970C-5FDE4A4D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6F7A-1426-4970-AD09-C06D5FDC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E59-60AE-4E62-AF2C-75E57076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CFCA9-1D79-43CC-A7E4-52CD390E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B6391-4C26-4AF8-B445-F6C58317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54BE9-00F5-454B-B386-492DAA55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040BD-42DA-418B-978F-3D7024A5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0E530-FF9F-4F13-B7A1-70A93688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CB8E0-92BD-4286-BC42-9588A4B0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05F26-72FD-4889-9629-2223615C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528F4-D1F2-4642-AFC2-62717B8C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BEADA-DC62-4B6F-8DFD-69DF18A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19CD9-F333-4EF8-83EF-36FC4BC8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E95-E10F-4673-BBDC-FDB5BB9C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411B7-CE64-4111-87FD-2E2E9B88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9EE2E-AB83-4882-B111-C7A00807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9CD02-D4C3-48E5-8083-3F7D9B0C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FC053-1851-4BC5-A0E3-0B6E6616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89586-508D-4CBF-826D-2CFAF7C3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B55D9-DA11-4DF0-BCD4-8AD8EEFA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6218D-512C-41E4-9216-EFCCFDB7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CECB6-D81F-435E-B469-B8496CCE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82A81-5978-44D7-8133-590B2EE9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7C6A7-0B9D-4F9F-B6EE-AA00B0CE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657-82E8-4D2D-843D-E36260EC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F8842-561E-440A-9DBD-3B3A4860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BB77-9A6D-4B9C-94ED-9C21950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74986-2FD3-46FD-86E7-4BF5B146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D6A4-0A1F-4C2A-AA6E-770B4A13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CA130-4BE5-414D-9593-2322B970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A7B-C409-4341-AB4A-BC458D38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981C-D46E-4D19-9D3F-C04FAFA2070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8D18-D0EA-4C32-98F9-08708F57C094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4F54-A6AE-4E56-B2A8-0367CCB87334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04A7-4D32-4C9A-A20E-E132183F9031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7CC8-F2C0-4296-AF87-6E43A5FA159D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39A-E331-4C4E-95A5-B11C6B52843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1478-8190-4DC9-8431-B6C0D60684F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#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DVERBS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COMPARATIVE CONSTRUCTIONS II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اسما الزمان والمكان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سماء الزمان والمكان تدل على زمن حدوث الفعل أو مكان حدوث الفعل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ُشتق من الفعل الثلاثي على وزن مفَعل أو مفعِل. مثل: مأوى - مدرسة - مغرب - موعد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ُشتق من غير الثلاثي على وزن المضارع مع إبدال حرف المضارعة ميماً مضمومة وفتح ما قبل الآخر. مثل: مجتمع - منتهى - متفتح - ملتقى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ظرفا الزمان والمكان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ظرفا الزمان والمكان يستخدمان للدلالة على زمن وقوع الفعل أو مكان وقوع الفعل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مثلة على ظرفي الزمان والمكان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داً - عشاءً - صباحاً - مساءً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حتَ - فوقَ - بينَ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منذ - الآن - حيث - إذ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ADVERBS OF FREQUENCY IN ARABIC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دائم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بد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Often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الب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ometim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حيان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ldo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ea typeface="Tahoma"/>
              </a:rPr>
              <a:t> 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قلّما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Rare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نادر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REFERENC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halil, A. (1999). </a:t>
            </a:r>
            <a:r>
              <a:rPr b="0" i="1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 contrastive grammar of English and Arabic.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Jordon: Jordon Book Centr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: In English, there are three types of adverbs with regards to form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mple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just - down - always - well - ye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ompound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somehow - therefore - downstair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erivational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jective + -ly: slowly - quick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ise: clockwise - money-wis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ays: sideway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ard(s): backward(s) - forward(s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refix (a) + noun: away - apart - abroad - aside - ashor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e + adjective: below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I: Adverbs can perform a number of different func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remodifiers of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jectives: very good, quite righ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verbs: very heavi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ostmodifier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II: Some forms may be used as adverbs or adjective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ard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worke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work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ard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s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fas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ca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car run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fas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V: Some adjectives have two forms of adverbs (different meaning)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s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igh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ceiling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Jump a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igh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as you ca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y think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igh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of you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ear - clearly / direct - directly / slow - slow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: Adverbs may occur in different positions in sentence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iti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he fell on the floo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edi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lef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n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John left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I: Types of adverb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ime: recently, now, tomorrow, late, at 2:0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ce: here, there, at home, upstairs, betwee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anner: quickly, with ambition, well, by bu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requency: always, usually, generally, seldom, never, onc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egree: pretty, so, very, almost, rather, quit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II: Adverbs of frequency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y may b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Definite: once - daily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Indefinite: usually - rarely - often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osition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entence-medially: They are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late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entence-Finally: They visit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twice a month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ome of them occur sentence-initially: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i="1" lang="en-US" sz="2000" spc="-1" strike="noStrike">
                <a:solidFill>
                  <a:srgbClr val="564b3c"/>
                </a:solidFill>
                <a:latin typeface="Century Gothic"/>
              </a:rPr>
              <a:t> have I said such a thing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/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Generally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, they do not stay long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precede the main verb: She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eats apples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follow the copula BE: She is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late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occur between the auxiliary and main verb: They will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help us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في اللغة العربية</a:t>
            </a:r>
            <a:r>
              <a:rPr b="0" lang="ar-SA" sz="3500" spc="-1" strike="noStrike">
                <a:solidFill>
                  <a:srgbClr val="6b7d72"/>
                </a:solidFill>
                <a:latin typeface="Book Antiqua"/>
                <a:ea typeface="Times New Roman"/>
              </a:rPr>
              <a:t> </a:t>
            </a:r>
            <a:r>
              <a:rPr b="0" lang="ar-SA" sz="3500" spc="-1" strike="noStrike">
                <a:solidFill>
                  <a:srgbClr val="6b7d72"/>
                </a:solidFill>
                <a:latin typeface="Book Antiqua"/>
                <a:ea typeface="Times New Roman"/>
              </a:rPr>
              <a:t>...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في اللغة العربية، تُستخدم أسماء الزمان والمكان وأظرف الزمان والمكان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قد تأتي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بهمة، مثل: يوماً - أبداً - ساعةً - شتاءً - فوق - أمام - ميلاً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ختصّة، مثل: يومَ (يوم الاختبار) - سبعاً (أي بمعنى سبع مرات) - البيت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كما قد تكون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عربة، مثل: يوم - البيت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بنية، مثل: منذ - الآن - أمس - حيث -هنا - لدن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Fawaz</cp:lastModifiedBy>
  <dcterms:modified xsi:type="dcterms:W3CDTF">2013-04-26T20:12:27Z</dcterms:modified>
  <cp:revision>16</cp:revision>
  <dc:subject/>
  <dc:title>Comparative Constructions II</dc:title>
</cp:coreProperties>
</file>