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8D31-58AD-4F8F-93F1-282FFF00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 clear of the entrance - Write or speak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direct/directly to the office - The street leads directly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slow with the experiment or you’ll make a mistake / The computer is working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B67-DE7A-46CE-BCFB-04CECCBBE1B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746-27BD-496A-95E7-71F634DB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622-5D1D-45A7-947C-98D71600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F34-D2E1-4613-90F3-ED1A8060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31D-D18F-4B19-8E71-DCD5E212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FE44-3EAF-441C-A001-72B42651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E671-F54C-4E6E-B095-CA431B5B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E1AF-1585-47FA-9394-352146B1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B6F7-4B41-4B34-88D2-1DEC0EE1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1E10-FE20-423E-A609-70A98BE4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58C2-250F-4806-8E11-CA11B68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912-FDB7-458A-A3E2-6F5BB2F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46D-E0E3-45B1-A966-65A1626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BD05-02E7-4243-9065-A6EC29E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8160-BF1C-4E77-A89B-D263E44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7991-192C-4F5F-837C-F7EDBF5F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271-3712-46CB-AF5A-D466DAF6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7B1-8A3D-49C9-8870-12C6BF0F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D874A-9D2E-4100-96A6-5F94AD93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6D2C-898D-472C-851B-BFF96B9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939F4-E273-4A00-82CD-69469626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F6A6-3851-4FE4-888C-F860F019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7A90-6321-43E8-A998-7AC7350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D4A-4793-4DB2-9F96-F1B4143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911F-590D-4D02-9C2C-7DE6ABC7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D510-97E6-46B7-8E9F-99E0610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68CC-C30D-4914-B46D-54E238F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EDAE-FCAA-418A-9825-96B28211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193B-3D15-4085-950B-7A328703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2A1D-CD35-4D76-BD17-5689E23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FC02-1307-4CD2-A476-7A77103B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E4AC-14C8-471A-B094-F6F9B74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5A9D-457B-4DB1-9DFD-AF13682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72FA-6ADA-46AD-8E5F-E390A4C5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D88-A060-432E-84F7-6C55E9E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F778-CFAE-4EC8-BB13-A1D881F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86FF-9FF6-4EE0-9B09-24B5608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50CC-1E02-41B4-8007-37E295D4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9662-AB59-408D-8663-2384287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FCE5-C7CB-4BA9-9472-8C5210E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063D-1394-4FE6-AE38-463AE36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62E8-AEAE-48B7-BF60-116642CE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D92C-CCD5-4DAA-9345-D6068598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E7BC5-BB41-498A-9139-792EE35E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B2235-7966-4606-88EB-D1418F50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EA2-B1F9-4C11-88A3-0E9D4C96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D296-F723-4B5B-B55E-CE5F0D0F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DFF46-A246-4EB6-A5D9-F82FDD1D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D9A3-47C7-4827-BB7C-AD73DB0E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4922-779E-4738-BCB3-A968C7D0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6FF4-FE2C-439D-8A67-AD798736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AFD8-2B57-4165-8CD3-0B994E25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E64F-7125-4E5A-B6B2-744F206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E0FA-3BEC-4A13-99A6-D583097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84A3-60FD-4063-89BB-D2B1E34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4B5F-2496-4AB0-B45F-A49F2EC7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CCF-D304-4F7A-ADA9-17D20D4B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1551-1329-4653-9A4B-40E56E68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A0146-6413-49BF-9826-48DC0D87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2F5D5-0810-4BDB-B56D-8A96A92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687FD-FFB8-4BBD-9BE1-40AF3889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4FBCC-9B02-40AA-B5A4-16D04B0F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5E149-9E39-44FA-9562-EBAC1935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1DF38-771B-4115-80DE-4B101261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F76A0-D36E-4425-A3A2-3348D28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C8FB6-92B7-4831-9FD0-03000B9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4C660-2098-47EA-8CDB-84DACF5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A4E-D9C3-41B4-9B08-9C0DBFD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5F548-3ABE-43AA-80B0-B8540B3C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7872F-C386-4030-BD96-5D89F390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A5DD4-499D-4893-815A-7F07299C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CD88-B5AB-4B13-8BB2-4D2B9B4B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F41E-0133-4C88-ABB3-EDBDF32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D92F8-627F-4692-9A76-7327839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E486D-0990-48AB-9717-94CEBF3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E295D-3997-41BC-8B0B-F371C0AE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E9213-BA05-466D-8E4F-B642CAA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DE47-3122-410F-8A97-D4028A2E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5A7-ECE5-47C8-87E6-39A3DD4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1B381-252C-4F7C-9CD0-B826805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DB9D-04DB-4645-A8E5-7C054DC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039B8-ED8B-46D0-B2DC-FD3F0B5E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7D44-BFB3-46EE-B37D-8D016C64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AE98-9B94-43BC-8F07-48B19B09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0CD-BA53-48D9-852A-1B8357B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EFB-C08B-45DC-83B7-4A8D5EB59EA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A6B-0375-4F80-9F82-8D4465C51859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AD77-195A-4526-9832-6DD199EF717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DBAE-3A54-4A56-800F-B9B8607C78A2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3152-3D68-4F9F-9BC5-7204D6B61A8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5CFE-D2CB-4806-851C-470775C59A7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11C4-2769-4B17-811F-69DBF5309F9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#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VERBS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COMPARATIVE CONSTRUCTIONS II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اسم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سماء الزمان والمكان تدل على زمن حدوث الفعل أو مكان حدوث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الفعل الثلاثي على وزن مفَعل أو مفعِل. مثل: مأوى - مدرسة - مغرب - موعد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ُشتق من غير الثلاثي على وزن المضارع مع إبدال حرف المضارعة ميماً مضمومة وفتح ما قبل الآخر. مثل: مجتمع - منتهى - متفتح - ملتقى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ظرفا الزمان والمكان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ظرفا الزمان والمكان يستخدمان للدلالة على زمن وقوع الفعل أو مكان وقوع الفعل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مثلة على ظرفي الزمان والمكا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داً - عشاءً - صباحاً - مساءً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تَ - فوقَ - بين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نذ - الآن - حيث - إذ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ADVERBS OF FREQUENCY IN ARABIC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دائم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بد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Often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الب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ometime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أحيان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ldo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لّما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Rare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نادرا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REFERENC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Khalil, A. (1999). </a:t>
            </a:r>
            <a:r>
              <a:rPr b="0" i="1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A contrastive grammar of English and Arabic. </a:t>
            </a:r>
            <a:r>
              <a:rPr b="0" lang="en-US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Jordon: Jordon Book Centr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: In English, there are three types of adverbs with regards to form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mple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just - down - always - well - ye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ompound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somehow - therefore - downstair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rivational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 + -ly: slowly - quick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ise: clockwise - money-wi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ys: sideway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oun + ward(s): backward(s) - forward(s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fix (a) + noun: away - apart - abroad - aside - ashor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Be + adjective: below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: Adverbs can perform a number of different func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remodifiers of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jectives: very good, quite righ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Adverbs: very heavi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>
              <a:spcBef>
                <a:spcPts val="601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tmodifier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II: Some forms may be used as adverbs or adjectiv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worke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work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ard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a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 car run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fast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V: Some adjectives have two forms of adverbs (different meaning)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s is a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ceiling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ump as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igh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as you ca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think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high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of you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ear - clearly / direct - directly / slow - slowl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: Adverbs may occur in different positions in sentence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Init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 he fell on the floor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edi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e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left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nally: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John left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suddenly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: Types of adverb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ime: recently, now, tomorrow, late, at 2:0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lace: here, there, at home, upstairs, betwee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anner: quickly, with ambition, well, by bu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requency: always, usually, generally, seldom, never, onc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egree: pretty, so, very, almost, rather, quit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500" spc="-1" strike="noStrike">
              <a:solidFill>
                <a:srgbClr val="6b7d72"/>
              </a:solidFill>
              <a:latin typeface="Book Antiqua"/>
              <a:ea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VII: Adverbs of frequency </a:t>
            </a:r>
            <a:r>
              <a:rPr b="0" lang="en-US" sz="2400" spc="-1" strike="noStrike">
                <a:solidFill>
                  <a:srgbClr val="564b3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ey may be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Definite: once - daily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Indefinite: usually - rarely - often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11304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Position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medially: They ar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entence-Finally: They visit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twice a month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Some of them occur sentence-initially: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Never</a:t>
            </a:r>
            <a:r>
              <a:rPr b="0" i="1" lang="en-US" sz="2000" spc="-1" strike="noStrike">
                <a:solidFill>
                  <a:srgbClr val="564b3c"/>
                </a:solidFill>
                <a:latin typeface="Century Gothic"/>
              </a:rPr>
              <a:t> have I said such a thing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/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Generally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, they do not stay long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precede the main verb: She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eats apples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follow the copula BE: She is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late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3240" indent="-22608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They occur between the auxiliary and main verb: They will </a:t>
            </a:r>
            <a:r>
              <a:rPr b="1" i="1" lang="en-US" sz="2000" spc="-1" strike="noStrike">
                <a:solidFill>
                  <a:srgbClr val="564b3c"/>
                </a:solidFill>
                <a:latin typeface="Century Gothic"/>
              </a:rPr>
              <a:t>always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help us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6b7d72"/>
                </a:solidFill>
                <a:latin typeface="Book Antiqua"/>
                <a:cs typeface="Times New Roman"/>
              </a:rPr>
              <a:t>في اللغة العربية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 </a:t>
            </a:r>
            <a:r>
              <a:rPr b="0" lang="ar-SA" sz="3500" spc="-1" strike="noStrike">
                <a:solidFill>
                  <a:srgbClr val="6b7d72"/>
                </a:solidFill>
                <a:latin typeface="Book Antiqua"/>
                <a:ea typeface="Times New Roman"/>
              </a:rPr>
              <a:t>...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في اللغة العربية، تُستخدم أسماء الزمان والمكان وأظرف الزمان والمكان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قد تأتي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همة، مثل: يوماً - أبداً - ساعةً - شتاءً - فوق - أمام - ميلاً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ختصّة، مثل: يومَ (يوم الاختبار) - سبعاً (أي بمعنى سبع مرات)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كما قد تكون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عربة، مثل: يوم - البيت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868320" indent="-457200" algn="r" rtl="1">
              <a:spcBef>
                <a:spcPts val="499"/>
              </a:spcBef>
              <a:buClr>
                <a:srgbClr val="cf54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64b3c"/>
                </a:solidFill>
                <a:latin typeface="Century Gothic"/>
                <a:cs typeface="Tahoma"/>
              </a:rPr>
              <a:t>مبنية، مثل: منذ - الآن - أمس - حيث -هنا - لدن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Fawaz</dc:creator>
  <dc:description/>
  <dc:language>en-US</dc:language>
  <cp:lastModifiedBy>Fawaz</cp:lastModifiedBy>
  <dcterms:modified xsi:type="dcterms:W3CDTF">2013-04-26T20:12:27Z</dcterms:modified>
  <cp:revision>16</cp:revision>
  <dc:subject/>
  <dc:title>Comparative Constructions II</dc:title>
</cp:coreProperties>
</file>