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6577-C0AA-4763-B6FC-BA85CB6B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9FE-5747-4615-BDCB-F5632B14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9AB-8208-4960-A7C3-30C4C4C6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737-080B-4DC6-93AD-D39DAF19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874-5FFE-47BF-8A95-5FAB14B6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2F2F-EFBF-42A5-AF77-1AA3762F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2DF7-CAC2-4D5F-B5E0-625D82E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58F-C8AC-406A-ABD9-6E438A6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226-AFEC-4129-B104-C9F730A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432B-384A-43AF-A556-F5951C0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7D9C-E002-4EFF-B853-699ED15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2BD-BBF0-42B4-BC95-A8A061A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BBD6-A88F-4200-A5C9-A9ADE3F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C8A0-775C-44F9-A161-79E251D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3E4-6E66-4A53-9A6C-F8FA813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C51E-D17F-4098-902A-FD4A5AD2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8B4-F1DE-43D4-A343-4F0C84B3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3CAA-7FEC-4D3F-9574-7CB7F33D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4EBF-9F9B-4571-B7A6-035808B7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25179-CD57-4BB8-82F4-EBB08407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ABDD-D100-4EF1-9F45-D5BA4645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EE49-CF3C-4780-B8BF-F0E7F3E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D89-A8FE-46BA-A3D2-A11F906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8004-1F29-4FF7-951C-2D3CB3D2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6C63-3D64-47E6-8F19-DF5A603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37D1-A701-4912-9364-645C655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8A96-A52C-4BAB-9427-F3EB6A9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6490-03B7-40D5-8B07-3615344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9DCF-0FAC-4E55-8DDB-ABC87936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976F-BD04-4D89-B02F-D7DBE0C5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BEB9-008E-4253-AFAD-3C419259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461B-0B51-4255-A443-9FAE4C72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669A-D55D-4B15-8B25-DAD457D7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CB1-C0CF-4423-B6AD-FB966C56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DD41-7F3A-402A-A238-55FBD570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020E-01EF-41DC-A0B7-722FB69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C2D5-C8D2-4958-9CE9-808848F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B37E-B4CE-452A-9F85-9525BB9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37DC-FBF5-40DA-837E-95400CE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1A26-19FB-4DC7-BEA7-D8232B1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59E0-AFB2-41DD-B367-9BC2A70E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FB5D-D31F-46EE-9096-84EF10B4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75AE-ADA1-4C23-B96F-51F1B014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F3CA-3D3F-4701-903E-9E6F6B59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EF1-437F-4350-9E52-8925A6E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32E1-1A23-4D3F-B69A-B33AFA9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74BA-A8D9-48B8-9E27-5DB308ED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811A-8947-4687-B6F7-8613E500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25B8-6295-4E51-AA9A-8F893FE6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3E09-9378-4A17-BEEC-E00C39AE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89FB-78F0-4D5E-9388-6EF687A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8D66-B44A-4D1D-9613-1106353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5A05-98E0-49D3-BF7B-57F484A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39CD-86AD-4839-8DFA-3E67C17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8256-1F0A-4354-B9B5-CF8E7427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8E1-71C2-4084-AAAA-6257EFFB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10F9-76B8-4699-B82F-8DF5BB8B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BAE-5E78-40E8-8B5F-82A5382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140-D832-45F4-AF5D-51074FB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32E-7E1B-48FC-8E70-8851909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9E0-0C68-45C3-9E5B-420ADE4A3C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49F-35A7-4318-8103-B30F9476E47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0FC-7009-4CE1-9B9D-958DFFE93C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D93-4C2E-4514-B825-FD2D2382B6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7DD-7500-46BC-B677-AF734FCE30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go4u.com/" TargetMode="External"/><Relationship Id="rId2" Type="http://schemas.openxmlformats.org/officeDocument/2006/relationships/hyperlink" Target="http://www.drmosad.com/index14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# 9 - Relative Cla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omparative Constructions 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the relative pronoun agrees with the noun it modifies in number, gender, and ca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zar, B. S. (1999)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Understanding and using English grammar (3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 ed.)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New York: Pearson Educ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mdallah, R. W. &amp; Tushyeh, H. Y. (1998). A contrastive analysis of English and Arabic in relativization.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apers and Studies in Contrastive Linguistics, 34,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41-15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ego4u.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drmosad.com/index14.ht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are subordinate clauses that function as adjectives by modifying a noun or a noun phras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ain a subject and a ver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gin with a relative pronoun or relative adver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unction as adjectiv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can be restrictive (i.e., provide essential information) or non-restrictive (i.e., provide additional information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Restrictive vs. Non-Restrictive Relative Clau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rictive relative clauses provide essential inform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not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, Do you know the girl who is talking to Sa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, The book (that) I read yesterday is interest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te: in restrictive relative clauses, the object relative pronoun may be dropp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-Restrictiv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provide additional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y are set off by comm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ative Pronou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 (subject or object - people): I told you about the woman who lives upstai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subject or object - animals and things): Do you see the cat which is hiding under the tab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(to a whole sentence): He was late which surprised m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se (possession for people, animals, or things): I met the boy whose mother is the famous surge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om (object pronoun - people, especially in non-restrictive relative clauses): I was invited by the teacher whom I met by chan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t (subject or object pronoun - people, animals, or things, in restrictive relative clauses): I bought the table that we eat on every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Subject vs. Object Relative Pronou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followed by a verb, it is a subject pronoun. In this case, the relative pronoun must be used. For example: I ate the apple which is lying on the t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relative pronoun is not followed by a verb (i.e., by a noun or a pronoun), it is an object pronoun. In restrictive relative clauses, it may be omitted. For example: I ate the apple which Sara put on the table OR I ate the apple Sara put on the t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lative Adverb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times relative adverbs may be used instead of relative pronoun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(in/on which - time): The day when we met them was an unforgettable da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(in/at which - place): The library where we study is more than 30 years ol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y (for which - reason): The reason why we study is to gradu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Reducing Relative Claus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with the pronouns who, which, and that as subject pronouns can be re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old you about the girl who lives next door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 told you about the girl living next do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to reduce relative clause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mitting the pronoun and the verb be: The ideas which are presented in that book are good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e ideas presented in that book are goo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mitting the pronoun and changing the verb into a participle -ing (when there is no verb be in the sentence): Anyone who wants to come with us is welcome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yone wanting to come with us is welc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In Arabic 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clauses in Arabic are called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 pronouns introduce the relative clause, such 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ذي - التي - اللذان - اللتان - الذين- اللاتي - اللائي - من - ما - ذ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جملة الصلة تُعرب على حسب موقعها من الإعراب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  <a:cs typeface="Times New Roman"/>
              </a:rPr>
              <a:t>عادة ما يكون هناك ضمير في جملة الصلة يربط بينها وبين ما تعود عليه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rabic vs. Engli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lative clause in both English and Arabic occurs after the noun/pronoun it modif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English, relative clauses may modify a definite or an indefinite noun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oy who plays football is sic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Arabic, relative clauses modify definite nouns only. For exampl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الولد الذي فا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  <a:cs typeface="Times New Roman"/>
              </a:rPr>
              <a:t>رأيت ولداً الذي فاز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5-03T19:43:04Z</dcterms:modified>
  <cp:revision>28</cp:revision>
  <dc:subject/>
  <dc:title>Comparative Constructions II</dc:title>
</cp:coreProperties>
</file>