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68A-ABEB-4391-A3F6-D3C43ED0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9A5-AD9E-450A-A5A3-D8970F13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E31-F7D0-4CCC-A92B-2410DC96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452-BD90-4A0A-920F-8A453B35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633C-2FFF-4C95-A2CC-2E0E418A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95FE-3C00-40EA-802F-3056BEF4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DF4B-6DF0-4360-B6FD-125DAD68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116E-3ADC-44B1-98AC-45DA2C8B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7D25-E202-41E4-A211-02DCD6BC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6131-36E3-4BCA-A46D-9B6359AC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CB53-17D4-434B-ACEE-3C607BC1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E9F-8F7A-482B-9804-FF004911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D774-443E-4193-B571-281187A5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A618-3490-43AC-9E76-7A52EB09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D497-E68B-4A75-8735-3A39DFAE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73B7-980E-483C-822D-297F35D6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82E2-1BE7-468D-937A-A2408D8C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6E8C9-69A9-4D8D-9B5E-C26A3B85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552E-BDB5-4D05-8B24-7536E4E4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F6B2-DDDF-421F-850F-2E9CF23C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E74D-3174-4432-A97A-B36FC6BA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45771-F13A-4EB1-8928-DF73A680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EAB-E09C-44CD-A7D1-1CA3A8F8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4E40-28A9-4D99-BC0C-53D43CEC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BE6F-04BE-4714-9FB7-C63284A0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A2F5-65EF-40CA-96C3-66233934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279F-0C4E-47D1-90C0-BAEE2BC4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1513D-B1E9-4C85-8EAC-4E5E64DC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4F3C-9748-461B-8157-57182F93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1BE5-3839-4ADD-9AE5-2DCAA063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9B415-DFD0-4F8D-AA46-25B29223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C8D2F-50F3-4A4D-8210-A7408B3D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3FED-50A7-4BD8-B56A-57AD5648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5E7-5458-4B71-A277-2118A0F1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DC04E-C4A2-4964-8DCE-AE9F9E1F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67B0F-AB9B-41EF-B1E5-8ABC244B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322B9-15A2-4D21-993C-D62C7580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8EB3-4E89-48C5-94EE-EBAFA5C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4701-ED89-4B54-A593-DDE4DEA8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0B25-6735-461A-A7FD-3959BEE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B0F87-0084-47C3-9DE0-FD8BFF93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38CD5-BC49-4226-8A07-21CEAAAC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7AF8F-0906-4881-8D45-BE44F50F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89363-10A5-4B4B-89C1-2324B687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20F-4107-405E-BE85-4D0FC85E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F6E8C-9BCA-458F-BADC-A3C308B9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ACCF-025E-4C9A-BD13-3EA219AD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C4FF5-96AB-4B46-893A-05AEEF5F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F9FE-7D75-4B2C-A5BB-714F2014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3BC52-40A6-48AD-89C5-B58F4E51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D417A-EF90-49E5-9B23-6E1DBAD9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7F7EC-7172-4458-A7B1-C0AC7571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033E-FED0-446D-8B50-8208E466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C65CE-13B8-4BD7-8BBC-50335A5C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38204-057E-4E73-A174-F4277F91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BBA-B9F3-45E5-8E61-75C5839D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7340-A42B-4ED6-A02D-88178778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D9A-C851-4277-982B-C39EA4FB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9DD-46CF-4DB5-9C1C-C0018B0B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528-50B9-4380-90C3-DCB611D2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B67C-06F5-42A8-BA18-F4AA61E110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DCA5-7370-40D2-B390-BCD258EC895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3DE1-1732-4773-91F7-453A0C709C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BE13-88F5-495B-A3F3-FF991E12E8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AA27-5C0E-44D2-8F11-E65BB174F5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go4u.com/" TargetMode="External"/><Relationship Id="rId2" Type="http://schemas.openxmlformats.org/officeDocument/2006/relationships/hyperlink" Target="http://www.drmosad.com/index14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# 9 - Relative Clau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omparative Constructions I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Arabic, the relative pronoun agrees with the noun it modifies in number, gender, and cas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zar, B. S. (1999)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Understanding and using English grammar (3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Perpetua"/>
              </a:rPr>
              <a:t>rd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 ed.)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New York: Pearson Educatio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mdallah, R. W. &amp; Tushyeh, H. Y. (1998). A contrastive analysis of English and Arabic in relativization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Papers and Studies in Contrastive Linguistics, 34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41-152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ego4u.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drmosad.com/index14.ht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are subordinate clauses that function as adjectives by modifying a noun or a noun phras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ain a subject and a ver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gin with a relative pronoun or relative adver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unction as adjective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can be restrictive (i.e., provide essential information) or non-restrictive (i.e., provide additional information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Restrictive vs. Non-Restrictive Relative Claus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trictiv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strictive relative clauses provide essential informa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are not set off by comm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.g., Do you know the girl who is talking to Sar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.g., The book (that) I read yesterday is interest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te: in restrictive relative clauses, the object relative pronoun may be dropp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-Restrictiv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provide additional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are set off by comm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Pronou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 (subject or object - people): I told you about the woman who 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(subject or object - animals and things): Do you see the cat which is hiding under the tab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(to a whole sentence): He was late which surprised m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se (possession for people, animals, or things): I met the boy whose mother is the famous surge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m (object pronoun - people, especially in non-restrictive relative clauses): I was invited by the teacher whom I met by chanc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at (subject or object pronoun - people, animals, or things, in restrictive relative clauses): I bought the table that we eat on everyd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Subject vs. Object Relative Pronou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relative pronoun is followed by a verb, it is a subject pronoun. In this case, the relative pronoun must be used. For example: I ate the apple which is lying on the tabl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relative pronoun is not followed by a verb (i.e., by a noun or a pronoun), it is an object pronoun. In restrictive relative clauses, it may be omitted. For example: I ate the apple which Sara put on the table OR I ate the apple Sara put on the tabl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lative Adverb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metimes relative adverbs may be used instead of relative pronoun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(in/on which - time): The day when we met them was an unforgettable d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(in/at which - place): The library where we study is more than 30 years ol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y (for which - reason): The reason why we study is to gradu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ducing 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with the pronouns who, which, and that as subject pronouns can be reduc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told you about the girl who lives next door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told you about the girl living next do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to reduc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mitting the pronoun and the verb be: The ideas which are presented in that book are good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he ideas presented in that book are goo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mitting the pronoun and changing the verb into a participle -ing (when there is no verb be in the sentence): Anyone who wants to come with us is welcome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yone wanting to come with us is welc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In Arabic 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in Arabic are called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جملة الصل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pronouns introduce the relative clause, such 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ذي - التي - اللذان - اللتان - الذين- اللاتي - اللائي - من - ما - ذا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جملة الصلة تُعرب على حسب موقعها من الإعراب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عادة ما يكون هناك ضمير في جملة الصلة يربط بينها وبين ما تعود عليه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Arabic vs. Englis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lative clause in both English and Arabic occurs after the noun/pronoun it modif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English, relative clauses may modify a definite or an indefinite noun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oy who plays football is sic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boy who plays football is sic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Arabic, relative clauses modify definite nouns only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رأيت الولد الذي فا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رأيت ولداً الذي فاز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Fawaz</cp:lastModifiedBy>
  <dcterms:modified xsi:type="dcterms:W3CDTF">2013-05-03T19:43:04Z</dcterms:modified>
  <cp:revision>28</cp:revision>
  <dc:subject/>
  <dc:title>Comparative Constructions II</dc:title>
</cp:coreProperties>
</file>