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DB4-E3FC-43A8-8D89-F26C4A76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095-C8BD-4F78-A35B-B39E7D26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68D-E047-4670-B606-381BAE3D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15C-8B28-495D-BBDB-699B5655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1437-9BE4-4911-BE03-F966CF6E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A31D-78B8-4409-BEBA-C749871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E1EB-BE5A-4941-8411-232C9A5F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9BFC-8C97-4FA8-A502-D688678B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F6F3-FB28-4DB6-8413-CB16A838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6A43-D78F-4E7F-B41F-E52D2F30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5889-DD05-41C3-BFBE-D9F8022D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61F-3B77-4751-9ABF-AE504075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AC58-778C-44AA-B0D9-4DDEF5BA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53CB-F76F-431A-89B6-0C78C7EC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BB7C-AC91-47BC-8652-E39A6A76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BEE8-A4C4-45ED-B9A8-A0227E6E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20B8-D4DE-4FDE-A363-878E83C4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D6A7-BE4B-4CB5-9C37-5A6F9471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5522-0DC7-45C6-8903-CB99F98F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3BFF-28DB-4A55-8096-902E691D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F0845-9B1F-4030-8DFD-B2421299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315E-D12A-4D73-A49C-8A950F4E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DAB-17F6-49F6-BAC1-5FA32C68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26BA-6A02-4A84-B6BE-1BBDA54A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FB9B6-179E-4C68-B1AC-7508BF0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320E-EC17-437A-ADE7-1E547942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C457-8A9D-4F22-916A-3FD42C5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3A65-7E56-495F-83FA-7FE425F0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F8FF-4570-46F4-8479-152DE15E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E55E-273E-4983-AD4C-06BABDE7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EB1A-F6D6-4ADB-94C1-AF681E1D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356D-330A-4566-9A92-70436538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29D2-7D3C-482C-92EC-DAA0DCD9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D07-825F-4BB8-8F1F-EA2E6DCE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5A413-B8FD-4C70-B95B-F25CF340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18E00-8D28-4C92-A0D1-47EB589E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017E-A14B-46CF-83C2-3BC37498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768EA-0E0D-46D5-BFE6-DC87C413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8288-AE84-42F6-8CE4-777462E9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9190-CAAD-4711-B589-BBF184F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1891-EF5C-4C01-BA39-51F11E9C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85200-F4CF-482A-AAE1-BEBDC0C0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EDAEB-A918-4EDD-A591-1F5D84C8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16A4E-6BBE-41BF-BEE3-34D7F7A8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CC0-5C05-441D-B6A0-4A2430B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19BB4-29D1-42DC-9E52-E6925099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39271-5FD4-4752-8136-906BCA56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D9C2-39AF-4857-A19D-E21840CF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893A4-85EC-4DBA-B47B-701E22FD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C996E-3F5E-4C0D-B79A-3DC682F8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B9AD7-A567-4902-9BFC-ECEA990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69581-A168-4743-845F-6F3A3686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ABD2-C7AF-44B9-81F3-0E8272E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7CC7D-3069-438A-9D65-22AC892C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ACC1-38E3-4ED7-9725-20781469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DDB-E98B-417C-A1E1-B44B3273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5FED0-0487-4FD6-B8F4-C3CF5217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D9F-9EB5-48D8-91C1-7E28DC76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3C6-5315-48EE-AE44-D79E092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A87-C7DB-47FB-890C-5718477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4C28-7701-4D44-8722-1020733A23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A65F-B695-4AC3-8CB5-B1F18B036CA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77BD-A8C8-4571-BBE8-19D29111F1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48C8-E28C-40FE-8E2C-B69EF00EC3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059A-3392-4837-ADC7-3F58B2E8DF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# 9 - Relative Clauses - Practi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omparative Constructions 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dicate whether the following relative pronouns are subjective or objectiv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saw the man who closed the do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ok which I read is goo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e are studying sentences that contain relative claus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eeting which I went to was interest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bine the following sentences using the second sentence as a relative claus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he lectured on a topic. I know very little about i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esterday I ran into an old friend. I hadn’t seen him for yea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apologized to the woman. I spilled her coffe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x isn’t home yet. That worries 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am reading a book. It was written by Jane Auste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ity is beautiful. We spent our vacation ther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nday is the day. We will come the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the relative clause in each sentence. Then give the other possible patter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omen that I was dancing with stepped on my f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ress which she is wearing is ne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eople I was waiting for were 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ircle the correct explanation of the meaning of each senten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65360" indent="-4989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was a terrible flood. The villagers who had received a warning escaped to safet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ome of the villagers received a warning and escap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of the villagers received a warning and escap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65360" indent="-4989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eacher thanked the students, who had given her the flowe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flowers were from some of the student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flowers were from all of the student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ange the following relative clauses into phra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know the woman who is coming toward u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hildren who attend that school receive a good educ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come from a city that is located in the southern part of the count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e have an apartment which overlooks the par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zar, B. S. (1999)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Understanding and using English grammar (3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Perpetua"/>
              </a:rPr>
              <a:t>rd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 ed.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New York: Pearson Educ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dcterms:modified xsi:type="dcterms:W3CDTF">2013-05-03T20:21:46Z</dcterms:modified>
  <cp:revision>32</cp:revision>
  <dc:subject/>
  <dc:title>Comparative Constructions II</dc:title>
</cp:coreProperties>
</file>