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AF8-AD38-4EA7-B5A3-5C56E599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641-4FF3-48EE-8039-B2AF47BE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37C-A221-40A6-9E37-BB02997A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A0F-FECE-434F-ADBE-CA94256B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4E95-7691-4576-8A10-8E9CF0D3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BDE4-D7E1-437A-BAFB-6C74EC3D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B385-FBF3-4B80-B898-18E8CCEB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A868-5900-4751-9B65-A9097F4C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AF37-7241-4A26-A92D-3D96BE74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1830-977B-4663-A0ED-C1D74996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01F7-7447-465B-BC7A-B8A4B7F5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39B-C64E-4E47-8077-8C45C70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678B-085B-4463-9C07-A4318F47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9F7B-1EAC-4DCB-A040-CEE41EB4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1BAA-EA59-4FA7-BB1D-B58F4132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0DD4-904C-4849-8018-68670004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03B6-A698-4140-9241-BE4DC2D4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0C08B-C0A4-4C33-942A-4ED1A2FC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24F4-C5F3-4BD8-94B4-6A6E2CA3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E3A67-CC46-46AD-AFF0-58624DF3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DCFE0-B0EB-4FE0-8822-D9E9786F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1E02-6EAA-4B4A-95C0-810BE9E4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54D-D7BE-40C9-AE69-7C059BCA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6655-5D8A-46E2-BF42-5308006E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3473-6569-4397-BDA6-7A0B8D30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8AE0F-3A23-4ABD-97E9-283AD0EA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1F84-0FB6-40D9-A348-13CFACE7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3880-CFE0-4A7B-97F6-16E9B3F1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4944B-0FE3-4E8F-A45B-DC8298FC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4E81-B8A6-4140-B59E-5D26103F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3366A-E4E9-4CAD-8C8B-6E57DFE4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27C3C-AD61-4E0B-B51F-AB69C5DE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527C-C0E7-402B-9E2A-FFA62589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0DD-0A57-498A-B2D9-460B79F0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7749E-2665-476E-B900-D1B33819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42E3-211A-4CDD-B0BC-00C94CEC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9B03B-7586-487F-A2FC-06139B06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0564B-51BC-40B1-B696-097E5448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6E0FC-93DB-439E-9FD5-7AA9E105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3470-7893-45F1-8718-4626DE05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D8AD7-24C9-480A-8AAB-0BB5B6FE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3948-5AC3-4481-9ADD-302AAF0C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5B47-EC1A-4EAB-94C3-C3B64D40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B0B20-B316-4884-8832-04561FCE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077-16F2-48BC-9E98-D96B6D8B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A9266-08E9-4031-B04E-138DCD74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124F9-99A2-4D85-A842-B13CCF65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EFFE-391B-4E89-BA77-46382957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60561-601B-40EC-B8DE-F01E82C9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917E3-90AA-438B-9AB0-7F5B19D4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6CE9C-AF76-4D7D-B68D-F78E1235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029F8-464E-4539-97E1-E4775B32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08DA7-F261-42AC-9A65-5647DED0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39216-7A12-4727-B75E-68D866F0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7589C-E96A-46C7-9EF4-C2A680A3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B9E-FE73-4F03-891F-06528598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16AFB-7023-442D-AABF-A6D44AC2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8CC-BBA5-4B33-8A0B-05E3D1EB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6B4-DA9C-43B1-9BA7-F9DB75A0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E3C-A944-48CB-9C9F-D07F2210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EC6C-51EE-4DF5-BA66-908A01C6F9E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E82-83F3-4248-8168-C23B1E5380C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3482-C8AD-4D52-B5F8-BF298D0723A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524D-72EB-4937-BA43-BE15B814A19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2995-9385-4C05-81B5-9418FA78408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# 9 - Relative Clauses - Practi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omparative Constructions I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dicate whether the following relative pronouns are subjective or objectiv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saw the man who closed the do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ook which I read is goo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e are studying sentences that contain relative claus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eeting which I went to was interest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bine the following sentences using the second sentence as a relative claus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78080" indent="-4780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he lectured on a topic. I know very little about i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esterday I ran into an old friend. I hadn’t seen him for yea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apologized to the woman. I spilled her coffe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x isn’t home yet. That worries m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am reading a book. It was written by Jane Auste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ity is beautiful. We spent our vacation ther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33680" indent="-478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nday is the day. We will come the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ntify the relative clause in each sentence. Then give the other possible patter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women that I was dancing with stepped on my fee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ress which she is wearing is ne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eople I was waiting for were l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ircle the correct explanation of the meaning of each sentenc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8960" indent="-49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65360" indent="-4989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 was a terrible flood. The villagers who had received a warning escaped to safet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031760" indent="-4989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ome of the villagers received a warning and escap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031760" indent="-4989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of the villagers received a warning and escape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031760" indent="-4989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765360" indent="-4989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teacher thanked the students, who had given her the flowe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031760" indent="-4989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flowers were from some of the student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031760" indent="-4989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flowers were from all of the student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ange the following relative clauses into phra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you know the woman who is coming toward u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hildren who attend that school receive a good educa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 come from a city that is located in the southern part of the countr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89120" indent="-5144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e have an apartment which overlooks the par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zar, B. S. (1999).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Understanding and using English grammar (3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Perpetua"/>
              </a:rPr>
              <a:t>rd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 ed.)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New York: Pearson Educatio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Fawaz</cp:lastModifiedBy>
  <dcterms:modified xsi:type="dcterms:W3CDTF">2013-05-03T20:21:46Z</dcterms:modified>
  <cp:revision>32</cp:revision>
  <dc:subject/>
  <dc:title>Comparative Constructions II</dc:title>
</cp:coreProperties>
</file>