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C61-289E-480D-ACCF-AB7C86A2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BD5-9F73-4CA4-9FEA-1450D92A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A45-92CA-4B6E-9AEB-DA7E7337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334-8044-4C36-86F0-5D8B9796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9495-E759-4E9C-B30D-A80F6B3D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7FF3-387B-45B7-840E-2859C06B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75E8-B30B-47F0-96B9-D573FF1A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26D1-D95B-474C-AE1F-918E386D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5AFD-A131-4099-934E-8DC96093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C677-F548-4BDA-BAE1-242815B3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1D4B-1E26-4FC1-BD1C-AA90C11B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C1B-6A4C-449D-9509-98E11DEA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751D-C64F-48B9-B5DD-E6CC14EF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25F3-2479-4C28-A010-73B4DF84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799D-5BBA-471A-82DB-2464725B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DF1F-7664-4114-90E1-7BED21F3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076D-D3C3-4583-AB30-7472E650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F71D-90AA-4C1E-95DE-C0521018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33F0-C535-4139-B551-72C2A877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63A7-A377-4E50-BB95-9758AA56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EF36-3470-400D-BB2F-339ECD64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818E-D10C-4657-82C5-353C9C2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529-7A10-4F0E-B5A9-A55D4E15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F1B8-A15E-45F4-B1B4-CCF1F6D0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CA271-38FB-47C3-89D2-82B0C685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F99C-81E8-47A0-B770-A2ACE884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45C0-4FBE-4F65-A69A-123E8664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75697-5482-4E55-9062-A7B28C4E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3132-8E24-419D-B308-312C3A0E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6C9F-4886-475A-AB5C-85372B53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6E333-D87B-4D89-8B4E-FFCBA9AA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51C96-876F-497F-9D6C-7C553040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9C5D1-0CFF-4420-AD29-C51E43E8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A2B-23B8-48C7-B06F-8A8D0675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2840-2415-47F3-BD31-612E422C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D38C4-8CA4-4D8C-8A0F-67071BED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5B25-CE31-46D5-9F38-AE53883A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3138D-8E27-44ED-BBE9-D5F40C22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5C41-DB20-4752-832C-9676139E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D55A-B6FA-4DA3-9DD4-13F795C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4C33-D201-411E-92ED-1A3061B8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347F-4E56-4C6B-A0E2-BB8F6789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DD25-F13C-4733-AA02-E482D144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1D5-7F7E-43EF-B2CF-80907FDD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DD2-C38D-40D6-A0AA-7A11A468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A2F-E3F7-4C99-A73F-6CCF039B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AE9-97CA-4EE7-8FCE-CDA05AF2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6CE-51FD-467F-A507-B3B35020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DBA5-46B9-4807-B25D-DCF3C231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B002-405E-44B8-80A4-35F31D86F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EB9C-48DF-45A4-9180-338E8832DC6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B266-8F9A-487F-B1DA-031E26C257D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b7e7ff"/>
                </a:solidFill>
                <a:latin typeface="Arial"/>
              </a:rPr>
              <a:t>PAIN </a:t>
            </a:r>
            <a:endParaRPr b="0" lang="en-US" sz="10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eneral Assessments of Pai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’s verbalization and description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ity and intensity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ology of p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avating and alleviat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ologic indicators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al respo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pain on activities and life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in 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257800" y="1219320"/>
            <a:ext cx="3676680" cy="5638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5257800" cy="228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4495680"/>
            <a:ext cx="5257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in assessment tool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ILDA Sc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s that describe the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ensity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tion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ation of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gravating or alleviat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agnosing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ic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, physiological, affective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affecting pa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ursing Interventions for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ing trusting nurse-patient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ting nonpharmacologic pain relief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ing ethical and legal responsibility to relieve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patient about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10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nipulating Pain Experience Fact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or alter cause of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 factors affecting pain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te nonpharmacologic relief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Nonpharmacologic Pain Relief Measur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x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aneous st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pun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eutic t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10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armacologic Pain Relief Measur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gesic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opiod analgesics e.g. NSA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ioids or narcotic analge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vant drugs e.g. anticonvulsants, antidepressants, .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hy clients may be reluctant to report</a:t>
            </a:r>
            <a:r>
              <a:rPr b="0" lang="ar-SA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pain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willingness to trouble staff who are perceived as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of injectable route of analgesic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that pain is to be expected as apart of the recovery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that pain is a normal part of 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that expression of pain reveal weak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s about side effects and risks especially of opioid drug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ditional Methods for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ministering Analgesic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controlled analg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ural analg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an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7e7ff"/>
                </a:solidFill>
                <a:latin typeface="Arial"/>
              </a:rPr>
              <a:t>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unpleasant sensory and emotional experience associated with actual and potential tissue da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is considered the fifth vital sig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is one of the human body defense mechanisms that indicates the person is experiencing probl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urces of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ciceptive: pain that is usually transmitted after normal processing of noxious stimu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aneous (superficial): usually involves the skin or the subcutaneous tiss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: is diffuse or scattered and originates in tend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ceral: is poorly localized and originates in body org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athic: results from injury or abnormal functioning of peripheral nerves or C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sychogenic: unknown physical ca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11280" y="4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0316"/>
                </a:solidFill>
                <a:latin typeface="Tahoma"/>
              </a:rPr>
              <a:t>PHYSIOLOGY OF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77148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Tahoma"/>
              </a:rPr>
              <a:t>Chemical/The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1131840"/>
            <a:ext cx="180000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jury, Inflam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53080" y="1131840"/>
            <a:ext cx="180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eat, Col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5638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2068560"/>
            <a:ext cx="230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PAIN RECEP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Tahoma"/>
              </a:rPr>
              <a:t>(Nocicept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9080" y="2925720"/>
            <a:ext cx="395892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stamine, Bradykinin, Serotonin, E-prostaglandi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293220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60720" y="33638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DISCHARGE IMPUL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74920" y="430056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Electrical Activity to spinal cord and onto the B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7958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5157720"/>
            <a:ext cx="53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BRAIN = Electrical activity becomes the experience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7322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0920" y="62229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0316"/>
                </a:solidFill>
                <a:latin typeface="Tahoma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580536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Duration of pain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ute pain: generally rapid in onset, varies in intensity from mild to severe, lasts from brief period to less than 6 mon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ronic pain: may be limited, intermittent or persistent but lasts for 6 months or longer and interferes with normal function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ission: when the pain present but the patient does experience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cerbation: reappear of sympto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ractable pain: resistant pain to therapy, and persists despite a variety of interven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igin of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cause — cause of pain can be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genic — cause of pain cannot be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red — pain is perceived in an area distant from its point of ori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erception of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threshold: is the lowest intinsity of stimulus that causes the subject to recognize p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ation of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modu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rphins, dynorphins enkephal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mon Responses to P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logic: ↑BP, ↑HR,↑RR, pupil dilation, muscle tension and tension rigidity, pallor, ↑adrenaline level, ↑blood glucos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: moving from painful stimuli, grimacing, moaning, crying, restlessness, protecting painful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: exaggerated weeping, withdrawal, anxiety, depression, fear, anger, anorexia, fatigue, hopelessness, powerlessne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54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Pain Experie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nic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, gender, and age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us beli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 and support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xiety and other str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 pain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8-03-29T18:16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