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363-E51F-4038-B7E9-E701AA16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AB2-57ED-4787-ACE0-1F8A5D7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230-B666-427A-B17F-82D631EB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C72-5E36-418B-B394-90B77707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EE5-A77D-4CB3-8A80-C3A637B3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62C-91C9-493E-B75A-DCDE869B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CA4-7C2C-4BFC-A3C2-61D0A44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ADC-370C-45C4-8F57-5FF836B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DC46-435B-495E-AFED-2B68ABF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1E30-6484-4F92-9EF6-CBFA325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473-0C05-4111-AA89-9D38939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AFA-A680-4922-B4D5-20CC6AD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882A-C83A-4584-AAC4-BE620EF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C453-B3B2-4C7F-8BF3-6FFB9701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D115-1A6B-4556-8D1D-221AF672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5FF6-7B9A-4FE0-857E-00D9E744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048A-6F59-4BEB-9083-0C9F2AA4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1AFF-C681-4BD3-A5CA-3C5D3123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A0DC-B1CC-4415-B6F1-BEDB586F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59EF-C092-4B0B-AEE7-5AFA060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8CA2-4889-476D-9406-19EDD23C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B053-29AD-4780-80D1-A4CAC9D8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28E-8AE6-4B6A-941E-5501B68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24C3-24ED-4D1A-8B5D-A0C5CFAC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0B9D-3EA0-4482-AB0A-8D74740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36F9-9DCF-47C6-9EE8-8629A5A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FF68-41B0-4E4A-AE56-17A69B1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4BD0-9A87-4150-B06F-1EE7E340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4ED9-4F4C-4147-B20D-7AF1857F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BA75-916A-4E9E-95C0-A1CDEDE4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07A6-4196-4159-AA66-1C44FFAF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6F69-D550-4D89-BFFB-9C95315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2FBD-2082-405A-9E68-F58E9B2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BC6-434F-474F-A99F-34216775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488D-BC9C-409C-9462-6F25DBEE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5B59-0DAF-40D2-8911-23CABCA1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5B4E-8430-424A-82CB-B02FF2C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9563-4F97-4EB7-BD8C-4823944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6FBC-829F-45E6-B9B5-50EF002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1F5C-4C98-4BF3-8FAB-A42FD7A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FCF2-B5B3-4E7C-A3AD-A5DCE3B4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0E48B-82BE-4BB4-827E-390E7A20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1902-493F-43CD-BEDB-8DDA6138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9B8-EE2D-493D-9071-1944F50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838-11DC-4B79-951C-279710D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EF4-6126-4E65-B718-2D529BA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885-0C44-4D15-A19C-ECE531B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9F0-8029-4D4E-A42E-4F5465C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992-EA77-46B6-9A16-49C5A413F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4F2-53F1-42D1-A8D7-01DF1ED55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EC3-CEA0-41B2-9ACE-32DE0896224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B6C2-AC0E-4C23-BEBD-001702F2131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b7e7ff"/>
                </a:solidFill>
                <a:latin typeface="Arial"/>
              </a:rPr>
              <a:t>PAIN </a:t>
            </a:r>
            <a:endParaRPr b="0" lang="en-US" sz="10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eneral Assessments of Pai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’s verbalization and descrip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y and intens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ology of 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ng and alleviat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logic indicators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pain on activities and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in 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676680" cy="563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525780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5257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in assessment tool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ILDA Sc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s that describe the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ns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gravating or alleviat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agnosing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c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, physiological, affectiv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affecting pa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ursing Interventions for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ing trusting nurse-patient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ing nonpharmacologic pain relie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ing ethical and legal responsibility to relieve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patient about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ipulating Pain Experience Fac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or alter cause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 factors affecting pain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nonpharmacologic relie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Nonpharmacologic Pain Relief Measur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aneous st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pun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t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logic Pain Relief Measu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gesic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opiod analgesics e.g. NSA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ioids or narcotic analge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vant drugs e.g. anticonvulsants, antidepressants, 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y clients may be reluctant to report</a:t>
            </a:r>
            <a:r>
              <a:rPr b="0" lang="ar-SA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pa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willingness to trouble staff who are perceived a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injectable route of analgesic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pain is to be expected as apart of the recovery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pain is a normal part of 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expression of pain reveal wea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about side effects and risks especially of opioid drug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ditional Methods for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ering Analges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controlled analg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ural analg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7e7ff"/>
                </a:solidFill>
                <a:latin typeface="Arial"/>
              </a:rPr>
              <a:t>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unpleasant sensory and emotional experience associated with actual and potential tissue da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considered the fifth vital sig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one of the human body defense mechanisms that indicates the person is experiencing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urces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iceptive: pain that is usually transmitted after normal processing of noxious stimu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aneous (superficial): usually involves the skin or the subcutaneous tiss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: is diffuse or scattered and originates in tend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ceral: is poorly localized and originates in body org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c: results from injury or abnormal functioning of peripheral nerves or C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sychogenic: unknown physical 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1280" y="4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316"/>
                </a:solidFill>
                <a:latin typeface="Tahoma"/>
              </a:rPr>
              <a:t>PHYSIOLOGY OF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7714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Chemical/The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131840"/>
            <a:ext cx="180000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jury, Inflam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3080" y="1131840"/>
            <a:ext cx="180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eat, Co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5638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2068560"/>
            <a:ext cx="230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PAIN RECEP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(Nocicept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9080" y="2925720"/>
            <a:ext cx="39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amine, Bradykinin, Serotonin, E-prostaglandi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9322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33638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DISCHARGE IMPUL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4920" y="43005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lectrical Activity to spinal cord and onto the B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958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515772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BRAIN = Electrical activity becomes the experienc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7322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62229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316"/>
                </a:solidFill>
                <a:latin typeface="Tahom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5805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uration of pai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ute pain: generally rapid in onset, varies in intensity from mild to severe, lasts from brief period to less than 6 mon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onic pain: may be limited, intermittent or persistent but lasts for 6 months or longer and interferes with normal functio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ission: when the pain present but the patient does experience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cerbation: reappear of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actable pain: resistant pain to therapy, and persists despite a variety of interven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igin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ause — cause of pain can be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genic — cause of pain cannot be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red — pain is perceived in an area distant from its point of ori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ception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threshold: is the lowest intinsity of stimulus that causes the subject to recognize 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ation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mod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rphins, dynorphins enkephal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on Responses to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: ↑BP, ↑HR,↑RR, pupil dilation, muscle tension and tension rigidity, pallor, ↑adrenaline level, ↑blood glucos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: moving from painful stimuli, grimacing, moaning, crying, restlessness, protecting painful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: exaggerated weeping, withdrawal, anxiety, depression, fear, anger, anorexia, fatigue, hopelessness, powerlessn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54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Pain Experi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nic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, gender, and age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and support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xiety and other str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pain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8-03-29T18:1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