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D73-3675-449B-9A02-B230BAE0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0CA-EF37-40DD-A439-0DAA6400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6AB-7D8D-46A1-9C1B-AB110238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8B6-0DE3-4254-BB7B-BB4EEB51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6B57-E093-4BB9-A2E8-8C703191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369D-4678-4988-B5CB-D8B43C43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DAD4-4F1A-48FF-AAF8-40515B67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5754-DA89-4186-9746-1B735B82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C9F8-A724-4359-BFE8-1DF3CB58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8A33-0561-4136-A72D-5EF85AD4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FE81-2223-4FE0-8281-5951BF0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A55-3CC6-4D33-81B4-F3D51B33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712C-6630-453F-ADC2-740EEA58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E9FC-FC57-4E77-9698-77379F9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B6BC-8CA8-443D-BB8F-79944F06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5A28-7770-489B-8D30-D547BD9E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E2CD-8DD3-4576-A57C-65E3FC09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80663-E0D6-4628-AF1C-702E1555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7DC50-B954-4D62-9C0A-F098460A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B88FF-8EA0-436A-9CDD-12A5ED7E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6A6E6-B59F-46DE-8DB4-2419E015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D43B6-1769-49FB-ACAF-AE560A58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5FE-4BC4-4BE8-8D17-2EE06B7F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D2282-A8B4-47F6-8DCC-3CC21EC7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7EE9D-8E66-4E30-8082-4BAC7AA0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3D431-5A47-4E4B-A0D4-2C14AFCC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D7BC5-E3C4-49B8-AC4F-3A4B1BE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DA801-A603-4B7E-8617-5B3F4A7A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61702-5433-4146-B367-1E617584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C333E-703F-43D5-BB39-48BBF76A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7414A-9FE2-4146-BAA7-B494E2E5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EDFC-739F-4D6E-8DA8-982E317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CACF1-158A-4980-A735-0B98BF5E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37D-75E2-4EE0-81E2-9B2D5DD3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B2F0E-1A63-43EB-B98B-07350528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18B52-DE4A-4833-B05A-63A621CC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123D6-810E-4914-9A06-AAC66450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BF369-59D0-47CA-A13D-5D9B4F8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176EE-5E18-4ADD-87BF-A8402EBB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32EB-9E27-4DFB-BBFC-ED1A69A4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D944-39F3-4A13-B1C8-B5F95316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B23B9-8210-4904-856E-89A37ED5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FCA57-9812-48AE-8F37-D9266703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3C7-0821-4F0C-A4C5-32D25BE0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9E6-9279-4976-98D3-C2593322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B3A-B20D-4157-B2AA-4B993875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B5C-5A81-419A-9B22-AB11FA5A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0FA-E2D3-49D0-93C0-95C6C702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CF7F-891F-4AA9-9201-2308463EA8F4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1483-D37C-4866-AC75-C74A896160C1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1D18-99A0-4E9A-AFF2-12B9E64FE3D2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B649-DC82-43E3-A898-75FA2E8D0B5C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sonal pronoun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571840" y="3643200"/>
            <a:ext cx="4071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91cb"/>
                </a:solidFill>
                <a:latin typeface="Trebuchet MS"/>
              </a:rPr>
              <a:t>Possessive Adjective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d </a:t>
            </a:r>
            <a:r>
              <a:rPr b="0" lang="en-US" sz="3600" spc="-1" strike="noStrike">
                <a:solidFill>
                  <a:srgbClr val="0070c0"/>
                </a:solidFill>
                <a:latin typeface="Trebuchet MS"/>
              </a:rPr>
              <a:t>possessive pronouns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book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Possessive adjectiv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 before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Possessive pro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not followed by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are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pen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robl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problem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ail is brow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lower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lower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eats are her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at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 yours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lural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car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Possessive Nouns</a:t>
            </a: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ossessive 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people, places or things that have possession of someth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postrophe an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&gt;&gt;&gt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4c22"/>
                </a:solidFill>
                <a:latin typeface="Georgia"/>
              </a:rPr>
              <a:t>Singular nam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L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m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dy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the name or singular noun doesn’t end in –s, 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ubject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and </a:t>
            </a:r>
            <a:r>
              <a:rPr b="0" lang="en-US" sz="4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pronou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40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m lost. Can you help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you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object pronou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s after a verb or a prepos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Singular noun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If the name or singular noun ends in –s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the possessive form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or 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lural nou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a plural noun ends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the possessive for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The boy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If a plural form doesn’t end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us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r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different, I couldn’t recogniz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the best, I want to be li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 is from Mexico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new student. I want to talk to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English teacher. I wan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teach 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Ann is my friend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from Spain. I m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ast wee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sister goes outside everyday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oes to my grandmother’s house, I want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just bought a computer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very heavy. I had to carry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have a new garden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. I want to m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i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downstairs. Please open the door for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in the level 1. Miss Sara teaches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mmar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(plur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ura and Ahamd,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tired. Can I t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m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both here. I can show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roo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hmad and Noura are here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to come in. Please l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love kids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beautiful. I lov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5:52:33Z</dcterms:created>
  <dc:creator>sony</dc:creator>
  <dc:description/>
  <dc:language>en-US</dc:language>
  <cp:lastModifiedBy>sony</cp:lastModifiedBy>
  <dcterms:modified xsi:type="dcterms:W3CDTF">2012-02-21T14:53:55Z</dcterms:modified>
  <cp:revision>19</cp:revision>
  <dc:subject/>
  <dc:title>Slide 1</dc:title>
</cp:coreProperties>
</file>