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A1B-E9A3-4CF8-BD2A-0E974756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187-D9AE-464A-8F7F-EBF4FAEB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206F-4977-46C8-9BBC-3B060D4F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D346-8A7C-4FE2-87A0-33987DED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D236-5246-486F-B5A5-BD73DBA2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5A49-0660-460E-8C45-209984C5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9B64-DF70-4795-B15E-05C65201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D707-2E73-4946-8662-A7DD548C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E867-4AE9-481B-941D-0FB3752B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AF94-62B2-4D99-B7C0-F0089115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D24D-544A-42DD-92AD-8E5AA6C6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9AA-8013-4EC3-9221-E3FCA1DD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27D3-1316-4159-953D-237803C2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3BCB-7313-4B5C-8A7A-00C93C96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B685-6A47-4248-A285-E220E31E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B4F0-298F-4711-B24C-8C19E1DD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F2C6-4743-489F-8424-C39C8D65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F8DE9F-08A1-48AB-948C-5C38F76E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7E419-2FC6-4EC7-9DF2-E0C5194C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AA5F3-D6A1-4413-A6DB-B3FFEAEC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23F01-50AC-433D-AA6B-1F4C16F5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E4ABF-7ECD-4FFC-BB63-53B2FA69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0B4-DC1E-488B-95B7-6352855A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70295-9424-44E3-867D-0C78D2FC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4DBFF-8E39-43DA-8CED-DEFCAB0F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03EC3-F430-4512-8126-9F589391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605D2E-267B-4226-A757-089ECFAC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719FA-71A8-4AD8-A790-4B1521BF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110611-C2E4-4FB5-93F1-39250D25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A389C-EA9B-45F0-B9BF-480BBF61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21B08-1724-46F3-9959-2981FA21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6829A-64EA-4F21-9700-8B9872AA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88D00-A974-4E64-BFAD-33D2F271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FA0-E0B2-428E-8C0A-9DC30E0A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29E86-2430-4B9A-B3AB-705AD198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9F197-5934-499E-A0AA-7C14E576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1E3C3-F7BF-4C16-BA35-1832B7CC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7E030-5460-4104-A724-8D9D5DF5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544A4-635D-4352-BFD2-FE947686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C6F5F-FB17-4F87-A9A9-DBD2D8A8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37029-311E-4A22-B63B-0CEF1520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AEBED-4E42-4006-999A-F5BABCF8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A6609-5836-4FEA-A5A6-04427CD0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9A8-3B6D-4C02-88DA-4A48F205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DC9-635B-486C-A6C2-4EFAD4B5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FFA9-6BD5-44D6-A17E-5897BB72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BE31-DB3D-450E-A9CC-1F29C508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075A-96FD-4ADF-9718-E14AFDD3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6659-E0D0-4E84-BB01-9E59816B257D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ستطيل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ستطيل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ستطيل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ستطيل مستدير الزوايا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مستدير الزوايا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ستطيل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ستطيل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ستطيل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ستطيل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DD8D-6417-45F1-BD0F-48B6F5215AC7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39DC-280C-494D-BB43-29A47E7E94C5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44A0-187A-4411-AD25-729D1C27E339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68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Personal pronouns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2571840" y="3643200"/>
            <a:ext cx="4071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91cb"/>
                </a:solidFill>
                <a:latin typeface="Trebuchet MS"/>
              </a:rPr>
              <a:t>Possessive Adjectives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and </a:t>
            </a:r>
            <a:r>
              <a:rPr b="0" lang="en-US" sz="3600" spc="-1" strike="noStrike">
                <a:solidFill>
                  <a:srgbClr val="0070c0"/>
                </a:solidFill>
                <a:latin typeface="Trebuchet MS"/>
              </a:rPr>
              <a:t>possessive pronouns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M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min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m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o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book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mi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Possessive adjective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e before nou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Possessive pronoun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e not followed by nou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   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are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e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pen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i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roble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problem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it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It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ail is brown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e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flower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flower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e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Our          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ou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seats are her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eat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ou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 yours    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plural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’am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che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’am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Their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thei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a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car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thei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a17c"/>
                </a:solidFill>
                <a:latin typeface="Trebuchet MS"/>
                <a:ea typeface="Times New Roman"/>
              </a:rPr>
              <a:t>Possessive Nouns</a:t>
            </a:r>
            <a:r>
              <a:rPr b="0" lang="en-US" sz="4000" spc="-1" strike="noStrike">
                <a:solidFill>
                  <a:srgbClr val="e1a17c"/>
                </a:solidFill>
                <a:latin typeface="Trebuchet MS"/>
                <a:ea typeface="Times New Roman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Possessive noun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be people, places or things that have possession of somethin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postrophe an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&gt;&gt;&gt;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4c22"/>
                </a:solidFill>
                <a:latin typeface="Georgia"/>
              </a:rPr>
              <a:t>Singular name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Lam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ma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hild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ag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lady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r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 If the name or singular noun doesn’t end in –s, we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Subject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and </a:t>
            </a:r>
            <a:r>
              <a:rPr b="0" lang="en-US" sz="4000" spc="-1" strike="noStrike">
                <a:solidFill>
                  <a:srgbClr val="00b050"/>
                </a:solidFill>
                <a:latin typeface="Trebuchet MS"/>
                <a:ea typeface="Times New Roman"/>
              </a:rPr>
              <a:t>object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 pronou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40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m lost. Can you help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ant you to go with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object pronou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es after a verb or a preposi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Singular noun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If the name or singular noun ends in –s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the possessive form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or Carlo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Plural noun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 If a plural noun ends in –s,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for the possessive form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The boy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tudent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a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 If a plural form doesn’t end in –s,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men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hous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hildren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e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different, I couldn’t recogniz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the best, I want to be li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 is from Mexico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a new student. I want to talk to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the English teacher. I wan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o teach m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Ann is my friend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from Spain. I me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ast week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y sister goes outside everyday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oes to my grandmother’s house, I want to go with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just bought a computer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very heavy. I had to carry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hom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have a new garden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small. I want to ma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i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downstairs. Please open the door for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in the level 1. Miss Sara teaches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rammar 1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(plural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ura and Ahamd,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tired. Can I ta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me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both here. I can show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 you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room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hmad and Noura are here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ant to come in. Please le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love kids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beautiful. I lov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5:52:33Z</dcterms:created>
  <dc:creator>sony</dc:creator>
  <dc:description/>
  <dc:language>en-US</dc:language>
  <cp:lastModifiedBy>sony</cp:lastModifiedBy>
  <dcterms:modified xsi:type="dcterms:W3CDTF">2012-02-21T14:53:55Z</dcterms:modified>
  <cp:revision>19</cp:revision>
  <dc:subject/>
  <dc:title>Slide 1</dc:title>
</cp:coreProperties>
</file>