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280-D530-4A42-9D68-CC191CE7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92A-FD1B-4F78-B989-EEF44FE3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1A9-7FFA-49A6-864A-389D00B2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0D3-4412-4C1A-8BF7-D0854ECC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19AF-7669-42DA-90F3-350C40AC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3607-5560-4783-AA64-14E5AE21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684E-6D83-434C-B9ED-D29A4481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BC12-8622-4ACC-91B9-D5DD9A11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17D4-DA3A-4119-998F-BE14F13A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BEB7-C03C-4E58-AEEA-4A64334F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87A8-D040-4EE6-A1EE-92022805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FAE-9B9C-496E-B7B8-7A629213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878B-0BA5-4496-A22B-BEBAFA32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A810-1526-40CD-B701-832FFEB7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519A-E581-4CE4-9ACD-9981C34E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E0FE-9AA8-49DF-85B3-B292EC51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2B30-272B-4F61-A8AE-1FBD6446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A1D7A-D8E7-43AC-887F-79586A72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A99FA-038C-4DD3-975F-273534F3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D2428-7979-4B31-9578-936A7240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220FF-B2F6-4486-BA4E-219FC6D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C919B-75CE-401C-990B-5EEB05AA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CAF-C40A-43E0-B565-657ABF66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4A8BB-DFF4-482C-8BF0-960FF1A7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83FBF-6E87-4098-A506-C6A26CE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D9749-D6CB-4D05-8F12-E5F9D521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B5C6A-17CB-4F26-BAEE-8305399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DE84D-8D1D-4877-8E75-1E48473C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4A9FA-483E-48E6-8573-083D735D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BFC9A-6DAD-437C-A668-FCEDBCB5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67B19-A30C-4326-A062-2F1A111D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1468-74D8-45D1-94BA-A37F3B15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37CB5-5B2C-44E7-88A4-ED6FAA5E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1BA-504C-494E-82DC-DA872047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5EFF-7668-4F09-9845-35143B24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C615-860A-41AD-BAD4-D1C8935F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A0DA2-9A98-48D4-A112-61D37DBA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A9E92-B27C-45EB-8779-494656E6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46FCB-D4A2-4FE1-A711-05A4F8FC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1EB83-D484-49D9-81C2-D637B4A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69AE-FBE6-4E45-B8E6-4E7A40FD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68A6-0201-47C2-8CB1-CC035006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9D7DF-2A3A-4C1C-A0EA-7482B723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252-194C-46FC-93D8-6D8A211A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6AA-7919-441F-B572-66E126F6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A1E-AA9D-4427-93FD-2EF51D99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8EB-C0CC-46ED-835C-EE02A977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159-9246-450C-8729-E679678C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9870-5F6D-4C92-959E-9554717E6728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44A5-82CE-4035-9B3B-515F255DC736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6F14-1E36-4FCB-81A2-E0B218F14CF1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A5C-6DC2-4AEF-B800-5D217ADA5D30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sonal pronoun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571840" y="3643200"/>
            <a:ext cx="4071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91cb"/>
                </a:solidFill>
                <a:latin typeface="Trebuchet MS"/>
              </a:rPr>
              <a:t>Possessive Adjective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d </a:t>
            </a:r>
            <a:r>
              <a:rPr b="0" lang="en-US" sz="3600" spc="-1" strike="noStrike">
                <a:solidFill>
                  <a:srgbClr val="0070c0"/>
                </a:solidFill>
                <a:latin typeface="Trebuchet MS"/>
              </a:rPr>
              <a:t>possessive pronouns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book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Possessive adjectiv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 before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Possessive pro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not followed by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pen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robl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problem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il is brow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lower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lower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eats are her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at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 yours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lural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r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Possessive Nouns</a:t>
            </a: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ossessive 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people, places or things that have possession of someth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ostrophe an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&gt;&gt;&gt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4c22"/>
                </a:solidFill>
                <a:latin typeface="Georgia"/>
              </a:rPr>
              <a:t>Singular nam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L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m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dy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the name or singular noun doesn’t end in –s, 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ubject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and </a:t>
            </a:r>
            <a:r>
              <a:rPr b="0" lang="en-US" sz="4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pronou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40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m lost. Can you help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you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object pronou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s after a verb or a prepos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Singular noun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If the name or singular noun ends in –s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possessive form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or 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lural nou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a plural noun ends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the possessive for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The boy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If a plural form doesn’t end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us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r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different, I couldn’t recogniz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the best, I want to be li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 is from Mexico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new student. I want to talk to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English teacher. I wan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teach 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Ann is my friend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from Spain. I m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ast wee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sister goes outside everyday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oes to my grandmother’s house, I want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just bought a computer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very heavy. I had to carry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have a new garden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. I want to m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i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downstairs. Please open the door for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in the level 1. Miss Sara teaches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mmar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(plur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ura and Ahamd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tired. Can I t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m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both here. I can show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roo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mad and Noura are here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to come in. Please l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love kids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beautiful. I lov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52:33Z</dcterms:created>
  <dc:creator>sony</dc:creator>
  <dc:description/>
  <dc:language>en-US</dc:language>
  <cp:lastModifiedBy>sony</cp:lastModifiedBy>
  <dcterms:modified xsi:type="dcterms:W3CDTF">2012-02-21T14:53:55Z</dcterms:modified>
  <cp:revision>19</cp:revision>
  <dc:subject/>
  <dc:title>Slide 1</dc:title>
</cp:coreProperties>
</file>