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EE0-A7CB-4A92-8A6A-76CB9F2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C9C-BC56-4850-A8B4-28961E3B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442-09D7-4B5E-9761-A3F064F7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6D6-7E21-456C-B48D-5DF97208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04E9-B854-415D-80D7-0509EBC5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3FF9-441C-4747-9E31-523D3532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497B-56B5-4E96-8AD7-B05197F1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39E2-A829-4E0D-A0C4-FEABD8D9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9158-424A-4F24-A18A-465DA058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35B4-3722-4EB1-B319-0E6A1097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7979-8324-4912-9DA7-463185E7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A79-A154-4720-ACE9-2C45595A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095E-E819-45BC-9E62-A06DA28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B9B4-1905-4377-AC65-45F9515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CA03-1144-46AD-BB21-54B5ACAD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0EEF-DFA8-4A73-AF45-F5A96E7A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F483-AE7A-4AEA-9C16-DB75E753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9C4D7-ACF6-487B-BFE2-70CFC851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73545-1937-4256-8490-E23D4EE1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02926-7612-420D-B421-EE28D1FA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7CF1C-F170-4CFF-9C5A-483AA1CF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DEBC7-3297-44A8-AB8D-58A864E5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CF5-B1B7-4AE1-BE0E-9FB1D246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5E91E-A635-4626-9B36-72122AAE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4FC33-52B2-4A59-A61D-B94D241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2CDCA-3118-40AB-BD75-0896F6F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367AD-F251-43A0-86AC-2BC34A7B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0B7F3-2945-4CCE-8D3A-F79EFBE1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0804E-27FA-4972-9A5A-0FD63BDA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07C82-06B7-4DCC-8EE5-5E0D6E5F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CA43-18F3-4C3A-984E-94E076C7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B066-BE4C-4561-816C-EDA47091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28C35-EDF0-4BCA-9FE0-ECCE3E67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A0B-89F4-441D-9F45-0DB67197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8741-6998-4EE0-BCAD-9D95E168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DB8F0-A09A-4034-B0DE-DDF6AE55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11857-2A79-4E69-8B22-0C46338B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7CECE-FA6D-4950-8979-6C5FA574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1836-2D29-409A-BC0B-5EF4E954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9F0D-E635-41EA-B9E9-30FFE17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EAC2B-BC18-44D6-8229-162E5089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DDCE6-5980-465F-969A-AB5EF788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7FEDD-0D6A-4A42-BA2C-099C5681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810-78DF-4A9C-AC92-4A703D40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258-DF20-48AF-8BFA-A6033AF3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333-FB8E-4777-91EB-76E7E217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0E2-660E-4818-B437-F98AD6D6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C103-898C-4630-9C2D-D470AAF0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C8FB-8D19-45F2-984A-C279470BB7E1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FA3F-1122-4D69-9033-69FFEE05B64F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886D-B2DD-4353-9B54-33E574D5978C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491-00A3-4B7F-97ED-FA04FC23D7C5}" type="slidenum"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sonal pronoun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571840" y="3643200"/>
            <a:ext cx="4071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91cb"/>
                </a:solidFill>
                <a:latin typeface="Trebuchet MS"/>
              </a:rPr>
              <a:t>Possessive Adjective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nd </a:t>
            </a:r>
            <a:r>
              <a:rPr b="0" lang="en-US" sz="3600" spc="-1" strike="noStrike">
                <a:solidFill>
                  <a:srgbClr val="0070c0"/>
                </a:solidFill>
                <a:latin typeface="Trebuchet MS"/>
              </a:rPr>
              <a:t>possessive pronouns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m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book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min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Possessive adjective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 before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Possessive pro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not followed by nou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are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pen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robl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problem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I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ail is brow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lower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lower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h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               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eats are her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eats are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    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 yours    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plural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your</a:t>
            </a:r>
            <a:r>
              <a:rPr b="0" lang="en-US" sz="2800" spc="-1" strike="noStrike">
                <a:solidFill>
                  <a:srgbClr val="406f8d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’am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you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            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             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</a:t>
            </a:r>
            <a:r>
              <a:rPr b="0" lang="en-US" sz="2800" spc="-1" strike="noStrike">
                <a:solidFill>
                  <a:srgbClr val="c991cb"/>
                </a:solidFill>
                <a:latin typeface="Georgia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r is 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thei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Possessive Nouns</a:t>
            </a:r>
            <a:r>
              <a:rPr b="0" lang="en-US" sz="4000" spc="-1" strike="noStrike">
                <a:solidFill>
                  <a:srgbClr val="e1a17c"/>
                </a:solidFill>
                <a:latin typeface="Trebuchet MS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ossessive noun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be people, places or things that have possession of someth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ostrophe an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&gt;&gt;&gt;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4c22"/>
                </a:solidFill>
                <a:latin typeface="Georgia"/>
              </a:rPr>
              <a:t>Singular name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Lam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m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ady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the name or singular noun doesn’t end in –s, we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Subject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and </a:t>
            </a:r>
            <a:r>
              <a:rPr b="0" lang="en-US" sz="4000" spc="-1" strike="noStrike">
                <a:solidFill>
                  <a:srgbClr val="00b050"/>
                </a:solidFill>
                <a:latin typeface="Trebuchet MS"/>
                <a:ea typeface="Times New Roman"/>
              </a:rPr>
              <a:t>object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  <a:ea typeface="Times New Roman"/>
              </a:rPr>
              <a:t> pronou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                               </a:t>
            </a:r>
            <a:r>
              <a:rPr b="0" lang="en-US" sz="40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m lost. Can you help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you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object pronou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es after a verb or a prepos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Singular noun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If the name or singular noun ends in –s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the possessive form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or Carlo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1a17c"/>
                </a:solidFill>
                <a:latin typeface="Georgia"/>
              </a:rPr>
              <a:t>Plural nou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- If a plural noun ends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for the possessive for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 The boy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udents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- If a plural form doesn’t end in –s, add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‘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m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us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hildre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pe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different, I couldn’t recogniz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the best, I want to be li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los is from Mexico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new student. I want to talk to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English teacher. I wan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o teach 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Ann is my friend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from Spain. I m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ast week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sister goes outside everyday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h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oes to my grandmother’s house, I want to go with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just bought a computer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very heavy. I had to carry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ho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have a new garden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small. I want to m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bi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downstairs. Please open the door for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in the level 1. Miss Sara teaches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ammar 1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(plur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ura and Ahamd,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tired. Can I tak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m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re both here. I can show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room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hmad and Noura are here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want to come in. Please let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love kids.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look beautiful. I love 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5:52:33Z</dcterms:created>
  <dc:creator>sony</dc:creator>
  <dc:description/>
  <dc:language>en-US</dc:language>
  <cp:lastModifiedBy>sony</cp:lastModifiedBy>
  <dcterms:modified xsi:type="dcterms:W3CDTF">2012-02-21T14:53:55Z</dcterms:modified>
  <cp:revision>19</cp:revision>
  <dc:subject/>
  <dc:title>Slide 1</dc:title>
</cp:coreProperties>
</file>