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B7F-04B9-4A1A-AAA0-C9B01F2B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D658-3C79-45C4-AC41-A749EE0D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F6BD-7824-4B09-953F-2D9059E7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A8F-7384-411B-9636-5237BA98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2BA9-7923-4B4D-A540-E417098A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C0FF-535B-4980-8F10-2DCAD401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5A56-ED6B-4F3B-ADA2-4C73AFAD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82DB-A900-461B-9CF6-17928232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899C-59BE-4593-9379-2D1F08F9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BE13-7503-45EC-8414-B2AACB02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D20A-CF30-453D-BC2F-A0FAAC60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2F5D-A721-4540-A49B-C016B170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B31E-0048-4A3B-97A7-52DBB8A7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1730-6D22-4D95-9002-75505433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7ACF-CB1A-405C-913B-20350E61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3FC3-EAF0-44EE-B7D0-86E94B6B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96B4-07A8-49C2-ABC1-321D69B8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0A6B8-92AB-4F7F-8A68-A925B17D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9D85D-BE0A-4847-9796-AEAAEAAC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96292-08EA-4120-BA7D-B0B1CD5C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516CEE-2CFA-4B9B-859E-DAFD20E0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96428-7BE2-4AC1-9E79-09AB8F2F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4603-8A83-4590-A69E-A5CEEB20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E9C7F-82F5-4CC6-8E01-21F14BA6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50931-39F9-4B12-8F35-CA72B330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E81AA-1821-4324-AFB3-CFC27AE3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34652C-2E6B-4DFE-95A0-B9948BC0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24A5D8-2A70-47EA-AEAB-C59F1B46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96F97-31E4-4833-BCD0-35A52B81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C98F6-8FAB-44E2-B036-C5F8861F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3B51C-01A9-4470-9E45-94A901F8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BF2E8-14D6-4FCD-843C-72270EF4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566AB-C71D-4503-835D-5290925D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6F60-DC96-473D-909E-6DD70C32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620BF-4CF3-4661-81E0-A5A25B56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9FE0C-40AA-483D-8F30-D8BC4191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B34A8-8E76-4FCD-A612-8FFE5FA2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BDB73-0BDF-441D-BF84-8001FBC8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A1BF7-A7D2-4363-8A34-AEB6BD66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0996A-3C5D-4F68-8DDA-397F8FEB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E9FE7-78BA-4340-A32D-380C1089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A027F-1245-4A6B-97A6-35987AEE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6D0F8-D540-4369-816F-2A4A9204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ED6-9D85-4DA9-BBE9-4E342CF7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ED5C-922A-46A5-856B-EBD67BA0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6F9C-784F-412D-8E28-0CFFD0C1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6362-9EA6-4EDD-B646-0AAD9C86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2087-C93F-4BCB-89D7-54EE2F1A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1FA1-B588-4DF0-B972-478F060D03F5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ستطيل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ستطيل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مستطيل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ستطيل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ستطيل مستدير الزوايا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مستطيل مستدير الزوايا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مستطيل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مستطيل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مستطيل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مستطيل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473F-493B-4CAF-901C-481D1FE8E6CC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4B1C-DE91-42EF-A353-2844E27A81EE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9047-D24B-4880-A011-08626646A81F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68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Personal pronouns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2571840" y="3643200"/>
            <a:ext cx="4071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91cb"/>
                </a:solidFill>
                <a:latin typeface="Trebuchet MS"/>
              </a:rPr>
              <a:t>Possessive Adjectives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and </a:t>
            </a:r>
            <a:r>
              <a:rPr b="0" lang="en-US" sz="3600" spc="-1" strike="noStrike">
                <a:solidFill>
                  <a:srgbClr val="0070c0"/>
                </a:solidFill>
                <a:latin typeface="Trebuchet MS"/>
              </a:rPr>
              <a:t>possessive pronouns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My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min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my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o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book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mi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Possessive adjective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e before nou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Possessive pronoun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e not followed by nou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   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are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e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pen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i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roblem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problem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it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It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ail is brown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e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flower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flower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e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Our          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ou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seats are her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eat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ou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 yours    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plural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’am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cher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’am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Their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thei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thei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ar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car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thei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a17c"/>
                </a:solidFill>
                <a:latin typeface="Trebuchet MS"/>
                <a:ea typeface="Times New Roman"/>
              </a:rPr>
              <a:t>Possessive Nouns</a:t>
            </a:r>
            <a:r>
              <a:rPr b="0" lang="en-US" sz="4000" spc="-1" strike="noStrike">
                <a:solidFill>
                  <a:srgbClr val="e1a17c"/>
                </a:solidFill>
                <a:latin typeface="Trebuchet MS"/>
                <a:ea typeface="Times New Roman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Possessive noun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be people, places or things that have possession of somethin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postrophe an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&gt;&gt;&gt;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4c22"/>
                </a:solidFill>
                <a:latin typeface="Georgia"/>
              </a:rPr>
              <a:t>Singular names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Lam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ma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hild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ag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lady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r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 If the name or singular noun doesn’t end in –s, we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Subject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and </a:t>
            </a:r>
            <a:r>
              <a:rPr b="0" lang="en-US" sz="4000" spc="-1" strike="noStrike">
                <a:solidFill>
                  <a:srgbClr val="00b050"/>
                </a:solidFill>
                <a:latin typeface="Trebuchet MS"/>
                <a:ea typeface="Times New Roman"/>
              </a:rPr>
              <a:t>object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 pronou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40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m lost. Can you help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want you to go with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object pronoun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es after a verb or a preposi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Singular nouns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If the name or singular noun ends in –s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the possessive form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or Carlo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Plural noun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 If a plural noun ends in –s,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for the possessive form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The boy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tudent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a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 If a plural form doesn’t end in –s,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men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hous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hildren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e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different, I couldn’t recogniz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the best, I want to be li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 is from Mexico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a new student. I want to talk to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the English teacher. I wan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o teach m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Ann is my friend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from Spain. I me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ast week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y sister goes outside everyday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goes to my grandmother’s house, I want to go with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just bought a computer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very heavy. I had to carry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hom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have a new garden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small. I want to ma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i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downstairs. Please open the door for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in the level 1. Miss Sara teaches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grammar 1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(plural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ura and Ahamd,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tired. Can I ta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me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both here. I can show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 you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room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hmad and Noura are here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want to come in. Please le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n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love kids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beautiful. I lov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5:52:33Z</dcterms:created>
  <dc:creator>sony</dc:creator>
  <dc:description/>
  <dc:language>en-US</dc:language>
  <cp:lastModifiedBy>sony</cp:lastModifiedBy>
  <dcterms:modified xsi:type="dcterms:W3CDTF">2012-02-21T14:53:55Z</dcterms:modified>
  <cp:revision>19</cp:revision>
  <dc:subject/>
  <dc:title>Slide 1</dc:title>
</cp:coreProperties>
</file>