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FC9A-DB1E-4724-8181-A873E7595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3B4B-731B-4900-B3BD-093C4BBB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4950-7B57-4D93-9875-5F8085DC3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A13D-54AB-4ABD-825D-EC18B6FE4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A095-2257-47E3-8C14-94A0036EA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6F43-6302-4295-8209-EE4ECBDD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627A-1FDD-4BAA-AA54-D1666851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24D8-61E9-4C47-974F-A401AB5B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58FD-7AA0-4399-B8C4-8FC8F775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032A7-C048-4069-8550-E354DEF8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39D5-9ACE-40AB-8F5C-0990136B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7151-A039-448A-A627-FA689075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DF5FB-F9E9-4432-BB80-8F0754D7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6A22A-AED6-48A8-AFAC-888A901A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AEBD-1364-4B30-AE36-40AE5327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90410-9C81-455D-A9B1-32D30C79B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415B-685E-4A7A-842D-9F32098E2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69ADC7-E3F9-4A2B-878C-42B6D2B58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D49A62-BF82-43C6-8C67-75AC2818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DC7110-C8E5-400C-984F-D9237A26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150F67-0400-4CFF-9823-30369600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68601D-68E4-4D92-81D3-1CDF3CD2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7329-CFCF-49E9-AAD6-1A636911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1FBF70-A17F-40C8-8C5B-15327FE9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2C6B61-5F17-4689-AD96-297C6E67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C9233B-3347-425A-839E-839E4377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C3984E-7AF7-4CA0-87A2-D00BC97F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AC8841-388A-456C-9BF4-2E17A09D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261002-6F29-45B1-B213-A82C579A5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229A8C-7852-4B9A-928C-AAA83247E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A0208-0D70-4D57-8608-9D3B3F7C9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4EA77-21E4-42B3-97D2-8D0DE5D8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008E1-A782-4EFE-A4C7-134DB01D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6D52-5A51-4431-B6C6-B8600B40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80BA7-8123-475A-B40C-69F8EE33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09BEC-0997-4E18-995A-197FFED2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B1B89-249F-4BCF-B0F5-D17817C0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F63A0-8734-41C4-911B-3601664B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3D456-8B36-47AD-9890-7A83C1D1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E8D29-B9DD-45A9-9765-BB5D2C9C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C1A6D-0407-4363-8B4A-99875EDD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E83A7-1CD8-4CAE-9033-F4ED4C43D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46713-6729-4D01-99F2-7C0ACCA7E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168C-187F-441A-852C-133C2F21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3EE9-C9F2-4974-A4CD-F67C6702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C649-5736-4A22-BBFC-BAEC659B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1F5F-6153-49B3-B4FD-F612956E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02E4-FE2C-4CF8-B5AB-819D4680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مستطيل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مستطيل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مستطيل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مستطيل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مستطيل مستدير الزوايا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مستطيل مستدير الزوايا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مستطيل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مستطيل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مستطيل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مستطيل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مستطيل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مستطيل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4861-9AB1-4B82-B6CF-ADC50C2724CE}" type="slidenum"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مستطيل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مستطيل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مستطيل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مستطيل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مستطيل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مستطيل مستدير الزوايا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مستطيل مستدير الزوايا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مستطيل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مستطيل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مستطيل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مستطيل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4C8A-62CB-48A4-9566-0A3F26B2B0EF}" type="slidenum"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مستطيل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مستطيل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مستطيل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مستطيل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مستطيل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مستطيل مستدير الزوايا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مستطيل مستدير الزوايا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مستطيل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مستطيل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مستطيل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مستطيل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مستطيل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مستطيل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784B-2620-4B78-81EE-D0D80CBAA7E0}" type="slidenum"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مستطيل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مستطيل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مستطيل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مستطيل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مستطيل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مستطيل مستدير الزوايا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مستطيل مستدير الزوايا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مستطيل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مستطيل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مستطيل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مستطيل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مستطيل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مستطيل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C1F4-85AA-4FC2-B07E-8DD1F920EDE2}" type="slidenum"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1680" y="2000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Personal pronouns</a:t>
            </a:r>
            <a:r>
              <a:rPr b="1" lang="en-US" sz="4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2571840" y="3643200"/>
            <a:ext cx="40719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991cb"/>
                </a:solidFill>
                <a:latin typeface="Trebuchet MS"/>
              </a:rPr>
              <a:t>Possessive Adjectives 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and </a:t>
            </a:r>
            <a:r>
              <a:rPr b="0" lang="en-US" sz="3600" spc="-1" strike="noStrike">
                <a:solidFill>
                  <a:srgbClr val="0070c0"/>
                </a:solidFill>
                <a:latin typeface="Trebuchet MS"/>
              </a:rPr>
              <a:t>possessive pronouns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 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f8d"/>
                </a:solidFill>
                <a:latin typeface="Georgia"/>
              </a:rPr>
              <a:t>My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mine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is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 my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ook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book is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min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Possessive adjectives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e before noun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Possessive pronouns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re not followed by noun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f8d"/>
                </a:solidFill>
                <a:latin typeface="Georgia"/>
              </a:rPr>
              <a:t>                     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You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your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se are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you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pen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se pens are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you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hi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hi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t is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hi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problem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problem is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hi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it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It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tail is brown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He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her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is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he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flower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flowers are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her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Our                 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ou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Ou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seats are here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seats are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our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f8d"/>
                </a:solidFill>
                <a:latin typeface="Georgia"/>
              </a:rPr>
              <a:t>                 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You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 yours        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plural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’am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your</a:t>
            </a:r>
            <a:r>
              <a:rPr b="0" lang="en-US" sz="2800" spc="-1" strike="noStrike">
                <a:solidFill>
                  <a:srgbClr val="406f8d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eacher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’am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your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            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Their  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their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is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thei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car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car is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their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a17c"/>
                </a:solidFill>
                <a:latin typeface="Trebuchet MS"/>
                <a:ea typeface="Times New Roman"/>
              </a:rPr>
              <a:t>Possessive Nouns</a:t>
            </a:r>
            <a:r>
              <a:rPr b="0" lang="en-US" sz="4000" spc="-1" strike="noStrike">
                <a:solidFill>
                  <a:srgbClr val="e1a17c"/>
                </a:solidFill>
                <a:latin typeface="Trebuchet MS"/>
                <a:ea typeface="Times New Roman"/>
              </a:rPr>
              <a:t>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1a17c"/>
                </a:solidFill>
                <a:latin typeface="Georgia"/>
              </a:rPr>
              <a:t>Possessive nouns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n be people, places or things that have possession of something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e add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postrophe and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&gt;&gt;&gt;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34c22"/>
                </a:solidFill>
                <a:latin typeface="Georgia"/>
              </a:rPr>
              <a:t>Singular names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example: Lam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ama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room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child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bag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lady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dre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- If the name or singular noun doesn’t end in –s, we add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Subject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  <a:ea typeface="Times New Roman"/>
              </a:rPr>
              <a:t>and </a:t>
            </a:r>
            <a:r>
              <a:rPr b="0" lang="en-US" sz="4000" spc="-1" strike="noStrike">
                <a:solidFill>
                  <a:srgbClr val="00b050"/>
                </a:solidFill>
                <a:latin typeface="Trebuchet MS"/>
                <a:ea typeface="Times New Roman"/>
              </a:rPr>
              <a:t>object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  <a:ea typeface="Times New Roman"/>
              </a:rPr>
              <a:t> pronou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lang="en-US" sz="4000" spc="-1" strike="noStrike">
                <a:solidFill>
                  <a:srgbClr val="ff0000"/>
                </a:solidFill>
                <a:latin typeface="Georgia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                                 </a:t>
            </a:r>
            <a:r>
              <a:rPr b="0" lang="en-US" sz="4000" spc="-1" strike="noStrike">
                <a:solidFill>
                  <a:srgbClr val="00b050"/>
                </a:solidFill>
                <a:latin typeface="Georgia"/>
              </a:rPr>
              <a:t>me</a:t>
            </a: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m lost. Can you help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m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want you to go with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m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object pronoun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es after a verb or a preposi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1a17c"/>
                </a:solidFill>
                <a:latin typeface="Georgia"/>
              </a:rPr>
              <a:t>Singular nouns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-If the name or singular noun ends in –s add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or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s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the possessive form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example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rlo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rlos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room or Carlos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room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1a17c"/>
                </a:solidFill>
                <a:latin typeface="Georgia"/>
              </a:rPr>
              <a:t>Plural noun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- If a plural noun ends in –s, add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for the possessive form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example: The boys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oom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students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bag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- If a plural form doesn’t end in –s, add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men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house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children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pen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         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you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look different, I couldn’t recognize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re the best, I want to be like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 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He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him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rlos is from Mexico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H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s a new student. I want to talk to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hi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H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s the English teacher. I want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hi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to teach me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  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Sh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   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He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Ann is my friend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Sh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s from Spain. I met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he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last week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y sister goes outside everyday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Sh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goes to my grandmother’s house, I want to go with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he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 just bought a computer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s very heavy. I had to carry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home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 have a new garden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s small. I want to make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big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We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us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re downstairs. Please open the door for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u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re in the level 1. Miss Sara teaches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u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grammar 1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(plural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ura and Ahamd,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look tired. Can I take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me?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re both here. I can show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 you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room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the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hmad and Noura are here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want to come in. Please let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the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n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 love kids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look beautiful. I love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them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8T15:52:33Z</dcterms:created>
  <dc:creator>sony</dc:creator>
  <dc:description/>
  <dc:language>en-US</dc:language>
  <cp:lastModifiedBy>sony</cp:lastModifiedBy>
  <dcterms:modified xsi:type="dcterms:W3CDTF">2012-02-21T14:53:55Z</dcterms:modified>
  <cp:revision>19</cp:revision>
  <dc:subject/>
  <dc:title>Slide 1</dc:title>
</cp:coreProperties>
</file>